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7.png" ContentType="image/png"/>
  <Override PartName="/ppt/media/image3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7.png" ContentType="image/png"/>
  <Override PartName="/ppt/media/image12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8959850" cy="6721475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426600" y="622080"/>
            <a:ext cx="5824440" cy="436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280" y="5335200"/>
            <a:ext cx="56833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4"/>
          </p:nvPr>
        </p:nvSpPr>
        <p:spPr>
          <a:xfrm>
            <a:off x="5951520" y="9542160"/>
            <a:ext cx="5284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B3241-C478-452B-BC2E-CD05C3AED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479640" y="109440"/>
            <a:ext cx="36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B1980-5E35-4FE1-AD4D-57E692DD8D64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Espace réservé du numéro de diapositive 3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D2A5D-B82A-47F2-8D81-ECE436DFEFDD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0503A-A8C6-467C-8540-8ED9C21004E8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-2338560" y="1279440"/>
            <a:ext cx="11303280" cy="847908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797040" y="369720"/>
            <a:ext cx="5540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60B59-4969-4F68-8043-C233B8D4D868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cs-CZ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27495-1D51-4079-80E1-6EEF0FFE99A0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64A72-1701-4740-B924-3CCAE811B11D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Espace réservé du numéro de diapositive 3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14439-38BB-42E4-84D5-768A362EBF1A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Espace réservé du numéro de diapositive 3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1AB76-4E1F-4B72-BCC9-CE097D012F66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426960" y="622440"/>
            <a:ext cx="5824440" cy="43686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39280" y="5335560"/>
            <a:ext cx="5683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Espace réservé du numéro de diapositive 3"/>
          <p:cNvSpPr/>
          <p:nvPr/>
        </p:nvSpPr>
        <p:spPr>
          <a:xfrm>
            <a:off x="5951520" y="9550080"/>
            <a:ext cx="52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F7C92-6DE0-47ED-8133-5A0EA92CCADA}" type="slidenum">
              <a:rPr b="0" lang="en-GB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756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0664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756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0664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4DCC-1035-48B2-B003-B33DBBF2D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8995-850C-4D4D-83C7-5D7CAB3313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B6FC-8F6A-4F13-B4FE-8F65910D5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5DD4-4CB2-4495-AF26-850AEE5A6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9D59-CDF1-4C09-AB25-B808E3841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86040" y="1454040"/>
            <a:ext cx="61754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FDE3-B6EC-43AE-BA3B-68C422B577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BB37-5AB4-47C4-B801-4B1A237D7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B90A-2AD1-4024-851A-FDB65F756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F03D-CDCF-4B15-AD5D-A6F2547183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10FF-EC31-4530-A830-2E3D7EB175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669B-F7B6-4B73-868C-DFB3772BDB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6756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0664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848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6756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0664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E912-DBFE-4710-9C23-304D8A7EB4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AC31-1432-4A78-B160-31B9DDC4AF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E27C-1493-4039-BB10-05545308F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8D3D-2B53-4D61-AD87-8AEEA36689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29E2-5161-432F-A51C-3FC97BEA28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5F53-C474-4C16-8A93-AF153FC41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86040" y="1454040"/>
            <a:ext cx="61754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21BE-E6AA-4158-9180-B0E8089B0D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9399-019A-41EA-9454-A9FCFDE27A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98BF-5476-4AF9-AD08-E73D287D40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30B9-E492-435B-A309-5B772A2515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BD41-CFF7-4F65-B2E5-54F940CBF1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98C9-C9FF-4C72-A7C4-149763DF64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6756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0664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2848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6756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0664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4C50-B9BF-40D6-9015-CE1D43FE60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41A-AEEB-41CF-AAAF-46FC6DFCEF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094-E8C3-476A-B208-8E8CE7C1D3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D09-1EC7-4EDD-B179-5C97F6E1E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648-F0CF-4FF7-84BD-AAF5EF07B4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DB0-5D75-40BF-A4B0-EAD6934277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786040" y="1454040"/>
            <a:ext cx="61754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192-E383-4689-B79D-2030E111EB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202-9487-4CA7-BFAE-9F892AD0BB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797-5554-4671-82C6-56893BB1D0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7D3-DB07-4A79-B388-0720495FB9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12F-1B67-4767-B046-B5827C79FE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F4F-415D-4B59-8972-B1EC046969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6756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06640" y="237348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848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6756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06640" y="4143960"/>
            <a:ext cx="241776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20C-F546-4F91-BCA2-55D85429B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86040" y="1454040"/>
            <a:ext cx="61754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76160" y="414396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76160" y="2373480"/>
            <a:ext cx="36640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43960"/>
            <a:ext cx="7508880" cy="1616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356520"/>
            <a:ext cx="8961480" cy="3729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7000"/>
          </a:bodyPr>
          <a:p>
            <a:pPr marL="424800" indent="-42480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1" marL="843840" indent="-41760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1228680" indent="-38196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3" marL="1596600" indent="-36648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17440" y="6429240"/>
            <a:ext cx="2822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5962680" y="6465960"/>
            <a:ext cx="28224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3387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5"/>
          <p:cNvSpPr/>
          <p:nvPr/>
        </p:nvSpPr>
        <p:spPr>
          <a:xfrm>
            <a:off x="0" y="6356520"/>
            <a:ext cx="8961480" cy="3729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17440" y="6429240"/>
            <a:ext cx="2822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5962680" y="6465960"/>
            <a:ext cx="28224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338720" cy="145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7000"/>
          </a:bodyPr>
          <a:p>
            <a:pPr marL="424800" indent="-42480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1" marL="843840" indent="-41760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1228680" indent="-38196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3" marL="1596600" indent="-36648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435120" y="6332040"/>
            <a:ext cx="20905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B75-518C-49FA-B40F-225C22FE0F6D}" type="slidenum">
              <a:rPr b="0" lang="fr-FR" sz="1200" spc="-1" strike="noStrike">
                <a:solidFill>
                  <a:srgbClr val="8d8d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5"/>
          <p:cNvSpPr/>
          <p:nvPr/>
        </p:nvSpPr>
        <p:spPr>
          <a:xfrm>
            <a:off x="0" y="6356520"/>
            <a:ext cx="8961480" cy="3729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17440" y="6429240"/>
            <a:ext cx="2822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5962680" y="6465960"/>
            <a:ext cx="28224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8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338720" cy="14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7000"/>
          </a:bodyPr>
          <a:p>
            <a:pPr marL="424800" indent="-42480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1" marL="843840" indent="-41760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1228680" indent="-38196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3" marL="1596600" indent="-36648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435120" y="6332040"/>
            <a:ext cx="20905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1B5F-7ABA-42A4-BFA8-CF696ECE9AD6}" type="slidenum">
              <a:rPr b="0" lang="fr-FR" sz="1200" spc="-1" strike="noStrike">
                <a:solidFill>
                  <a:srgbClr val="8d8d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5"/>
          <p:cNvSpPr/>
          <p:nvPr/>
        </p:nvSpPr>
        <p:spPr>
          <a:xfrm>
            <a:off x="0" y="6356520"/>
            <a:ext cx="8961480" cy="37296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17440" y="6429240"/>
            <a:ext cx="2822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5962680" y="6465960"/>
            <a:ext cx="28224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338720" cy="1452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7000"/>
          </a:bodyPr>
          <a:p>
            <a:pPr marL="424800" indent="-42480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1" marL="843840" indent="-41760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1228680" indent="-38196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3" marL="1596600" indent="-36648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675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3435120" y="6332040"/>
            <a:ext cx="20905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d8d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525D-427F-4C45-975A-7F6B6D5E29C8}" type="slidenum">
              <a:rPr b="0" lang="fr-FR" sz="1200" spc="-1" strike="noStrike">
                <a:solidFill>
                  <a:srgbClr val="8d8d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9.jpeg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aurie-mf@orange.sn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55640" y="2133720"/>
            <a:ext cx="4935240" cy="1582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5461"/>
                </a:solidFill>
                <a:latin typeface="Arial"/>
                <a:ea typeface="SimSun"/>
              </a:rPr>
              <a:t>Financial Transparency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35461"/>
                </a:solidFill>
                <a:latin typeface="Arial"/>
                <a:ea typeface="SimSun"/>
              </a:rPr>
              <a:t>Best Practices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592000" y="4430880"/>
            <a:ext cx="5413320" cy="7999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European Microfinance Week, Luxembour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November 16</a:t>
            </a:r>
            <a:r>
              <a:rPr b="0" lang="en-US" sz="1800" spc="-1" strike="noStrike" baseline="30000">
                <a:solidFill>
                  <a:srgbClr val="292929"/>
                </a:solidFill>
                <a:latin typeface="Arial"/>
                <a:ea typeface="SimSun"/>
              </a:rPr>
              <a:t>th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 20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240" y="0"/>
            <a:ext cx="8958240" cy="67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Picture 60" descr="logo simple fond blanc"/>
          <p:cNvPicPr/>
          <p:nvPr/>
        </p:nvPicPr>
        <p:blipFill>
          <a:blip r:embed="rId1"/>
          <a:stretch/>
        </p:blipFill>
        <p:spPr>
          <a:xfrm>
            <a:off x="4730760" y="23760"/>
            <a:ext cx="387972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38360" y="-360"/>
            <a:ext cx="4622760" cy="12430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229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Picture 2" descr="C:\Users\CAURIE-DG\AppData\Local\Microsoft\Windows\Temporary Internet Files\Content.Outlook\SVMXS31S\Image graph.png"/>
          <p:cNvPicPr/>
          <p:nvPr/>
        </p:nvPicPr>
        <p:blipFill>
          <a:blip r:embed="rId3"/>
          <a:stretch/>
        </p:blipFill>
        <p:spPr>
          <a:xfrm>
            <a:off x="669960" y="1596960"/>
            <a:ext cx="7551720" cy="4165560"/>
          </a:xfrm>
          <a:prstGeom prst="rect">
            <a:avLst/>
          </a:prstGeom>
          <a:ln w="0">
            <a:noFill/>
          </a:ln>
        </p:spPr>
      </p:pic>
      <p:sp>
        <p:nvSpPr>
          <p:cNvPr id="232" name="Ellipse 1"/>
          <p:cNvSpPr/>
          <p:nvPr/>
        </p:nvSpPr>
        <p:spPr>
          <a:xfrm>
            <a:off x="739800" y="2090880"/>
            <a:ext cx="2752560" cy="42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Ellipse 5"/>
          <p:cNvSpPr/>
          <p:nvPr/>
        </p:nvSpPr>
        <p:spPr>
          <a:xfrm>
            <a:off x="5821200" y="2725560"/>
            <a:ext cx="2329200" cy="49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Ellipse 6"/>
          <p:cNvSpPr/>
          <p:nvPr/>
        </p:nvSpPr>
        <p:spPr>
          <a:xfrm>
            <a:off x="5394240" y="2090880"/>
            <a:ext cx="2751120" cy="42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Ellipse 7"/>
          <p:cNvSpPr/>
          <p:nvPr/>
        </p:nvSpPr>
        <p:spPr>
          <a:xfrm>
            <a:off x="4199040" y="1738440"/>
            <a:ext cx="20462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61480" cy="2090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GOUVERNANCE ET CULTURE ORGANISATIONNELLE</a:t>
            </a:r>
            <a:br>
              <a:rPr sz="2000"/>
            </a:br>
            <a:br>
              <a:rPr sz="2000"/>
            </a:br>
            <a:r>
              <a:rPr b="1" lang="wo-SN" sz="1500" spc="-1" strike="noStrike">
                <a:solidFill>
                  <a:srgbClr val="c00000"/>
                </a:solidFill>
                <a:latin typeface="Arial"/>
              </a:rPr>
              <a:t>Culture organisationnelle : </a:t>
            </a:r>
            <a:r>
              <a:rPr b="1" lang="wo-SN" sz="1500" spc="-1" strike="noStrike">
                <a:solidFill>
                  <a:srgbClr val="292929"/>
                </a:solidFill>
                <a:latin typeface="Arial"/>
              </a:rPr>
              <a:t>Atout stratégique de promotion d’une bonne gouvernance et d’une gestion transparente. Elle influence les comportements des employés ainsi que leur performance.</a:t>
            </a:r>
            <a:br>
              <a:rPr sz="1500"/>
            </a:br>
            <a:br>
              <a:rPr sz="1500"/>
            </a:br>
            <a:br>
              <a:rPr sz="3900"/>
            </a:br>
            <a:endParaRPr b="1" lang="en-US" sz="15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 txBox="1"/>
          <p:nvPr/>
        </p:nvSpPr>
        <p:spPr>
          <a:xfrm>
            <a:off x="598320" y="2968560"/>
            <a:ext cx="2476800" cy="3215160"/>
          </a:xfrm>
          <a:prstGeom prst="rect">
            <a:avLst/>
          </a:prstGeom>
          <a:solidFill>
            <a:srgbClr val="00b050"/>
          </a:solidFill>
          <a:ln w="25560">
            <a:solidFill>
              <a:srgbClr val="956f00"/>
            </a:solidFill>
            <a:miter/>
          </a:ln>
        </p:spPr>
        <p:txBody>
          <a:bodyPr lIns="89640" rIns="89640" tIns="44640" bIns="44640" anchor="ctr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otre culture s’appuie sur un système de Principes et Valeurs tirés de la Doctrine Sociale de l’Eglise qui fait sa spécificité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0" name="Espace réservé du contenu 5" descr=""/>
          <p:cNvPicPr/>
          <p:nvPr/>
        </p:nvPicPr>
        <p:blipFill>
          <a:blip r:embed="rId3"/>
          <a:stretch/>
        </p:blipFill>
        <p:spPr>
          <a:xfrm>
            <a:off x="4541760" y="2932200"/>
            <a:ext cx="384012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61480" cy="2230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LA TRANSPARENCE RESULTANTE DE NOTRE CULTUR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28480" y="2255760"/>
            <a:ext cx="7963200" cy="3857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6680" indent="-436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c00000"/>
                </a:solidFill>
                <a:latin typeface="Arial"/>
              </a:rPr>
              <a:t>Elaboration et mise en place d’outils de gestion partagés et applicables à tous, dès la création de Caurie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Guide de l’Administrateur de CAURIE-MF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Manuel des procèdures de gestion administratives, financières et comptables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Organigramme et répartition claire des fonctions et tâches,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Plan de carrière et grille salariale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Politique de motivation et de fidélisation du personn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Politique de sanctions des irrégularités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Manuel des Opérations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Charte et Manuel d’Audit Interne,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Outils d’évaluation annuelle du personn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61480" cy="2230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400" spc="-1" strike="noStrike">
                <a:solidFill>
                  <a:srgbClr val="935461"/>
                </a:solidFill>
                <a:latin typeface="Arial"/>
              </a:rPr>
              <a:t> UNE GOUVERNANCE VERTUEUSE PARTAGEE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28480" y="2149200"/>
            <a:ext cx="7508880" cy="41749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6680" indent="-436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c00000"/>
                </a:solidFill>
                <a:latin typeface="Arial"/>
              </a:rPr>
              <a:t>Les dirigeants, de par leurs comportements, servent d’exemple pour une émulation saine au sein du personnel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c00000"/>
                </a:solidFill>
                <a:latin typeface="Arial"/>
              </a:rPr>
              <a:t>Références dans le Guide de l’Administrateur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31640" indent="-43020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ligen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s’informer sur l’institution et participer activement au processus de prise de décisions et agir en bonne foi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31640" indent="-43020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31640" indent="-43020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Loyauté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les intérêts de l’institution doivent prévaloir sur ceux individuels ou particuliers. Soutenir la majorité, préserver l’indépendance, l’objectivité, l’éthique et la confidentialité. Révéler toute situation de conflit d’intérêt, informer le CA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31640" indent="-43020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31640" indent="-430200" algn="just"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Obéissan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rester fidèle à la mission de l’institution. Se limiter aux pouvoirs que lui confère l’institution conformément aux statuts et règlement intérieur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47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61480" cy="2230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ALIGNER LES RESSOURCES HUMAINES SUR LA TRANSPARENC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28480" y="2019240"/>
            <a:ext cx="7834320" cy="4446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ff0000"/>
                </a:solidFill>
                <a:latin typeface="Arial"/>
              </a:rPr>
              <a:t>LE PROCESSUS DE RECRUTEMENT SUIT UN PROCESSUS TRANSPARENT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Identification besoins des agences et de la direction générale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292929"/>
                </a:solidFill>
                <a:latin typeface="Arial"/>
              </a:rPr>
              <a:t>Définition calire des rôles et responsabilités : fiches de pos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292929"/>
                </a:solidFill>
                <a:latin typeface="Arial"/>
              </a:rPr>
              <a:t>Appel à candidature à travers le réseau et la presse nationale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292929"/>
                </a:solidFill>
                <a:latin typeface="Arial"/>
              </a:rPr>
              <a:t>Mise en place d’un Jury de recrutement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Présélection de candidats / Séléction de candidats par le Jury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Négociations des conditions de travail / Siganture de contrats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292929"/>
                </a:solidFill>
                <a:latin typeface="Arial"/>
              </a:rPr>
              <a:t>Intégration/Imprégnation (Aptitudes et Attitudes, Principes de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protection de la clientèle)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Affectation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Coaching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292929"/>
                </a:solidFill>
                <a:latin typeface="Arial"/>
              </a:rPr>
              <a:t>Evaluations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600" spc="-1" strike="noStrike">
                <a:solidFill>
                  <a:srgbClr val="292929"/>
                </a:solidFill>
                <a:latin typeface="Arial"/>
              </a:rPr>
              <a:t>Confirmation ou Séparation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51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61480" cy="2230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400" spc="-1" strike="noStrike">
                <a:solidFill>
                  <a:srgbClr val="935461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35461"/>
                </a:solidFill>
                <a:latin typeface="Arial"/>
              </a:rPr>
              <a:t>ALIGNER DES LES RESSOURCES HUMAINES SUR LA TRANSPARENCE</a:t>
            </a: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28480" y="2018880"/>
            <a:ext cx="7904160" cy="4305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6680" indent="-436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fr-FR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POLITIQUES DE PROMOTION, SANCTIONS, MOTIVATION ET  FIDELIS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La mise en application rigoureuse de ces politiques réduisent les conflits et renforcent l’esprit d’équipe et d’appartenanc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Exemples 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motion interne basée sur les évaluations annuelles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Accès aux formations règlementé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anctions applicables connues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imes de rendement fondées sur des critères connus et partagé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nditions d’accès au prêt immobilier élaborées par le person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55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61480" cy="1949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RECENTES EVOLUTIONS POUR RENFORCER LA TRANSPARENC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97960" y="1949040"/>
            <a:ext cx="8106120" cy="43750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27680" indent="-42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ff0000"/>
                </a:solidFill>
                <a:latin typeface="Arial"/>
              </a:rPr>
              <a:t>MISE EN PLACE D’UN NOUVEAU SIG ET PRODUCTION DE DONNEES FIABL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400" spc="-1" strike="noStrike">
                <a:solidFill>
                  <a:srgbClr val="292929"/>
                </a:solidFill>
                <a:latin typeface="Arial"/>
              </a:rPr>
              <a:t>Production de données fiables </a:t>
            </a:r>
            <a:r>
              <a:rPr b="0" lang="wo-SN" sz="1400" spc="-1" strike="noStrike">
                <a:solidFill>
                  <a:srgbClr val="292929"/>
                </a:solidFill>
                <a:latin typeface="Arial"/>
              </a:rPr>
              <a:t>= préalable à la transparence financière, base de l’analyse financière, de la prise de décision, de l’élaboration et publication d’états financiers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400" spc="-1" strike="noStrike">
                <a:solidFill>
                  <a:srgbClr val="292929"/>
                </a:solidFill>
                <a:latin typeface="Arial"/>
              </a:rPr>
              <a:t>SIG </a:t>
            </a:r>
            <a:r>
              <a:rPr b="0" lang="wo-SN" sz="1400" spc="-1" strike="noStrike">
                <a:solidFill>
                  <a:srgbClr val="292929"/>
                </a:solidFill>
                <a:latin typeface="Arial"/>
              </a:rPr>
              <a:t>= Garantit la préservation de l’intégrité des données lors de leur transmission et transformation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Réduction des risques d’erreurs, fiabilisation des informations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Sécurisation accrue des données, prévention des fraudes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Respect de la règlementation, etc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400" spc="-1" strike="noStrike">
                <a:solidFill>
                  <a:srgbClr val="292929"/>
                </a:solidFill>
                <a:latin typeface="Arial"/>
              </a:rPr>
              <a:t>Démarche suivie pour la mise en place du SIG 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Equipe Projet et Chef de Projet,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Etat des lieux (besoins présents et futurs, ressources humaines et financières disponibles),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Cahier des charges,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Choix d’un SIG (Short list, invitations, évaluations des offres, visites, etc.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Plan de Mise en Œuvre avec Phase Pilote,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Formation des utilisateurs,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wo-SN" sz="1400" spc="-1" strike="noStrike">
                <a:solidFill>
                  <a:srgbClr val="292929"/>
                </a:solidFill>
                <a:latin typeface="Arial"/>
              </a:rPr>
              <a:t>Vérification des données à saisi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7680" indent="-427680" algn="just"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Contrôles de cohérence/ Rapports d’erreurs / Corrections des erreurs, etc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59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61480" cy="1949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RECENTES EVOLUTIONS POUR RENFORCER LA TRANSPARENC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8480" y="2018880"/>
            <a:ext cx="7974000" cy="4164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6680" indent="-436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ff0000"/>
                </a:solidFill>
                <a:latin typeface="Arial"/>
              </a:rPr>
              <a:t>GESTION OPTIMALE DU NOUVEAU SI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wo-SN" sz="1600" spc="-1" strike="noStrike">
                <a:solidFill>
                  <a:srgbClr val="292929"/>
                </a:solidFill>
                <a:latin typeface="Arial"/>
              </a:rPr>
              <a:t>Actions inspensables mises en place chez Caurie pour l’optimisation du SIG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Mettre en place d’un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Service Systèmes et Réseaux Informatiques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S’assurer de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l’adhésion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 de tous /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adaptation aux changements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Assurer la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formation continue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des administrateurs, usagers, etc.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Mettre à jour les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manuels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 et les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procédures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Commander des </a:t>
            </a: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développements spécifiques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à l’éditeur (GPS/PPI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4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29"/>
                </a:solidFill>
                <a:latin typeface="Arial"/>
              </a:rPr>
              <a:t>Ajouter progressivement des modules complémentaires 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(Paie, GRH, Immo, Trésoreri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63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61480" cy="2220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3100"/>
            </a:br>
            <a:br>
              <a:rPr sz="3100"/>
            </a:br>
            <a:r>
              <a:rPr b="1" lang="fr-FR" sz="3100" spc="-1" strike="noStrike">
                <a:solidFill>
                  <a:srgbClr val="935461"/>
                </a:solidFill>
                <a:latin typeface="Arial"/>
              </a:rPr>
              <a:t>CONLUSION</a:t>
            </a:r>
            <a:br>
              <a:rPr sz="2700"/>
            </a:br>
            <a:br>
              <a:rPr sz="2700"/>
            </a:br>
            <a:endParaRPr b="1" lang="en-US" sz="31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51480" y="2373120"/>
            <a:ext cx="4410000" cy="39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Accent mis sur la Transparence financière à travers des projets comme celui de PlaNet Finance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Audits externes annuel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2 ratings financiers (2007, 2011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1 rating social (2011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CAURIE est notée 5 Diamants sur le MIX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Seal of Microfinance Transparency (MF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Seal of Excellence (en cour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67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 txBox="1"/>
          <p:nvPr/>
        </p:nvSpPr>
        <p:spPr>
          <a:xfrm>
            <a:off x="598320" y="2373120"/>
            <a:ext cx="3811680" cy="3601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Espace réservé du contenu 4"/>
          <p:cNvSpPr/>
          <p:nvPr/>
        </p:nvSpPr>
        <p:spPr>
          <a:xfrm>
            <a:off x="598320" y="2514600"/>
            <a:ext cx="3811680" cy="374004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00b05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marL="2858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Une Gouvernance vertueus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 ressources humaines alignées à la transparence financière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Un SIG adapté et fiab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61480" cy="1949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28480" y="1877760"/>
            <a:ext cx="7974000" cy="4446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6680" indent="-436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935461"/>
                </a:solidFill>
                <a:latin typeface="Arial"/>
              </a:rPr>
              <a:t>MERCI DE VOTRE AIMABLE ATTENTION</a:t>
            </a: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6680" indent="-43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86040" y="1453680"/>
            <a:ext cx="6175440" cy="51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35461"/>
                </a:solidFill>
                <a:latin typeface="Arial"/>
              </a:rPr>
              <a:t>Table of content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53680" y="1914120"/>
            <a:ext cx="8015400" cy="4359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finition of financial transparency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resentation of the best practices gu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tegration of transparency as a core value in the Governance and in the HR management of an MFI: case of Caurie Microfin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Lessons learnt on an MIS implementation to improve data reliability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ase of Caurie Microfin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Strengthening of internal control and audit: Project AFR017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Enhancement of transparency at MFI level and at sector level: </a:t>
            </a:r>
            <a:br>
              <a:rPr sz="1600"/>
            </a:b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AFD perspective and practic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spcAft>
                <a:spcPts val="99"/>
              </a:spcAft>
              <a:buClr>
                <a:srgbClr val="ff3300"/>
              </a:buClr>
              <a:buFont typeface="Arial"/>
              <a:buAutoNum type="arabicPeriod"/>
              <a:tabLst>
                <a:tab algn="r" pos="8483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Promotion of financial transparency at international level: MIX Market</a:t>
            </a: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2" name="Objet 1"/>
          <p:cNvGraphicFramePr/>
          <p:nvPr/>
        </p:nvGraphicFramePr>
        <p:xfrm>
          <a:off x="946080" y="2951280"/>
          <a:ext cx="9018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2951280"/>
                    <a:ext cx="9018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934920" y="4648320"/>
            <a:ext cx="966960" cy="828720"/>
          </a:xfrm>
          <a:prstGeom prst="rect">
            <a:avLst/>
          </a:prstGeom>
          <a:ln w="0">
            <a:noFill/>
          </a:ln>
        </p:spPr>
      </p:pic>
      <p:pic>
        <p:nvPicPr>
          <p:cNvPr id="185" name="Image 6" descr="logo MIX.png"/>
          <p:cNvPicPr/>
          <p:nvPr/>
        </p:nvPicPr>
        <p:blipFill>
          <a:blip r:embed="rId4"/>
          <a:srcRect l="0" t="0" r="54649" b="-16134"/>
          <a:stretch/>
        </p:blipFill>
        <p:spPr>
          <a:xfrm>
            <a:off x="7400880" y="5477040"/>
            <a:ext cx="998640" cy="442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6" descr=""/>
          <p:cNvPicPr/>
          <p:nvPr/>
        </p:nvPicPr>
        <p:blipFill>
          <a:blip r:embed="rId5"/>
          <a:stretch/>
        </p:blipFill>
        <p:spPr>
          <a:xfrm>
            <a:off x="7304040" y="3967200"/>
            <a:ext cx="1095480" cy="731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0" descr="logo simple fond blanc"/>
          <p:cNvPicPr/>
          <p:nvPr/>
        </p:nvPicPr>
        <p:blipFill>
          <a:blip r:embed="rId6"/>
          <a:stretch/>
        </p:blipFill>
        <p:spPr>
          <a:xfrm>
            <a:off x="4730760" y="0"/>
            <a:ext cx="387972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33000" y="2160360"/>
            <a:ext cx="6257880" cy="1555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5461"/>
                </a:solidFill>
                <a:latin typeface="Arial"/>
                <a:ea typeface="SimSun"/>
              </a:rPr>
              <a:t>Transparence Financière: Renforcer le contrôle interne à travers le projet AFR/017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93680" y="4277880"/>
            <a:ext cx="6912000" cy="1824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Semaine Européenne de la Microfinance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Luxembourg, 16 Novembre 20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SimSun"/>
              </a:rPr>
              <a:t>Anne Bastin, LuxDev                                  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Rectangle 37"/>
          <p:cNvSpPr/>
          <p:nvPr/>
        </p:nvSpPr>
        <p:spPr>
          <a:xfrm>
            <a:off x="3240" y="0"/>
            <a:ext cx="8958240" cy="672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8" name="Picture 5" descr="D:\logo_2011.png"/>
          <p:cNvPicPr/>
          <p:nvPr/>
        </p:nvPicPr>
        <p:blipFill>
          <a:blip r:embed="rId1"/>
          <a:stretch/>
        </p:blipFill>
        <p:spPr>
          <a:xfrm>
            <a:off x="6667560" y="4772160"/>
            <a:ext cx="20080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Projet AFR/017 Promotion de Secteurs Financiers Inclusifs dans la zone UEMOA (Union Economique et Monétaire Ouest-Africaine)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28480" y="3028680"/>
            <a:ext cx="7508880" cy="2733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Sommaire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1- Objectifs du proje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2- Présentation du guide de contrôle inter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3- Modalités de mise en œuvre et diffusion (Agents de Déploiemen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4- Résultats en chiffres et remise des trophé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5- Conclusions et Perspectiv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1" name="Picture 5" descr="D:\logo_2011.png"/>
          <p:cNvPicPr/>
          <p:nvPr/>
        </p:nvPicPr>
        <p:blipFill>
          <a:blip r:embed="rId1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5" descr=""/>
          <p:cNvPicPr/>
          <p:nvPr/>
        </p:nvPicPr>
        <p:blipFill>
          <a:blip r:embed="rId1"/>
          <a:stretch/>
        </p:blipFill>
        <p:spPr>
          <a:xfrm>
            <a:off x="2998800" y="466560"/>
            <a:ext cx="5346720" cy="585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logo_2011.png"/>
          <p:cNvPicPr/>
          <p:nvPr/>
        </p:nvPicPr>
        <p:blipFill>
          <a:blip r:embed="rId2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  <p:sp>
        <p:nvSpPr>
          <p:cNvPr id="284" name="ZoneTexte 1"/>
          <p:cNvSpPr/>
          <p:nvPr/>
        </p:nvSpPr>
        <p:spPr>
          <a:xfrm>
            <a:off x="0" y="5415120"/>
            <a:ext cx="294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Arial"/>
              </a:rPr>
              <a:t>SFD</a:t>
            </a:r>
            <a:r>
              <a:rPr b="0" i="1" lang="fr-FR" sz="1600" spc="-1" strike="noStrike">
                <a:solidFill>
                  <a:srgbClr val="292929"/>
                </a:solidFill>
                <a:latin typeface="Arial"/>
              </a:rPr>
              <a:t> = Système Financier Décentralisé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292929"/>
                </a:solidFill>
                <a:latin typeface="Arial"/>
              </a:rPr>
              <a:t>(= Financial Service Provider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28480" y="1454040"/>
            <a:ext cx="7834320" cy="430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92929"/>
                </a:solidFill>
                <a:latin typeface="Arial"/>
              </a:rPr>
              <a:t>Résultat 2.2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3633840" y="644400"/>
            <a:ext cx="3703680" cy="5680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D:\logo_2011.png"/>
          <p:cNvPicPr/>
          <p:nvPr/>
        </p:nvPicPr>
        <p:blipFill>
          <a:blip r:embed="rId2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1- Objectifs du projet AFR/017: Appui au Programme Régional d’Appui à la Finance Décentralisée (PRAFIDE)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28480" y="2550600"/>
            <a:ext cx="7508880" cy="3389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e projet AFR017 appuie le PRAFIDE de la BCEAO (Banque Centrale des Etats d’Afrique de l’Ouest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3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urée de 5 ans (2008-2013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3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ntexte: Nouvelle réglementation, Instruction BCEAO de 2010 relative à l'organisation du contrôle interne (CI)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;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bligation de mise en place d’un système de CI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3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nstat: faiblesse de la plupart des SFD sur le CI: soit l’absence de CI, soit un système de CI non effic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0" name="Picture 5" descr="D:\logo_2011.png"/>
          <p:cNvPicPr/>
          <p:nvPr/>
        </p:nvPicPr>
        <p:blipFill>
          <a:blip r:embed="rId1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2- Présentation du guide  méthodologique de contrôle interne des SFD dans les pays de l’UEMOA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28480" y="2550960"/>
            <a:ext cx="7950240" cy="3802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e guide a été élaboré par le projet AFR/017 à travers Price Waterhouse Coopers (PwC) Luxembourg avec la participation de l’IRAM 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3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Guide pratique pour la mise en place d’un CI, avec 16 fiches pratiques par thème (Identification client, Remboursement, Rôle du Conseil d’Administration, etc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3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Guide validé à travers un processus itératif avec tous les acteurs de la Microfinance en ateli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Pour télécharger le guide: </a:t>
            </a:r>
            <a:r>
              <a:rPr b="0" i="1" lang="fr-FR" sz="2000" spc="-1" strike="noStrike" u="sng">
                <a:solidFill>
                  <a:srgbClr val="0070c0"/>
                </a:solidFill>
                <a:uFillTx/>
                <a:latin typeface="Arial"/>
              </a:rPr>
              <a:t>li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93" name="Picture 5" descr="D:\logo_2011.png"/>
          <p:cNvPicPr/>
          <p:nvPr/>
        </p:nvPicPr>
        <p:blipFill>
          <a:blip r:embed="rId1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882720" y="1384200"/>
            <a:ext cx="7075440" cy="4854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D:\logo_2011.png"/>
          <p:cNvPicPr/>
          <p:nvPr/>
        </p:nvPicPr>
        <p:blipFill>
          <a:blip r:embed="rId2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3- Modalités de mise en œuvre et diffusion du guide à travers les Agents de Déploiement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728720" y="2160720"/>
            <a:ext cx="5208480" cy="3390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:\logo_2011.png"/>
          <p:cNvPicPr/>
          <p:nvPr/>
        </p:nvPicPr>
        <p:blipFill>
          <a:blip r:embed="rId2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3. Modalités de mise en œuvre : les plans d’actions du contrôle intern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446120" y="2090880"/>
            <a:ext cx="6282000" cy="4249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:\logo_2011.png"/>
          <p:cNvPicPr/>
          <p:nvPr/>
        </p:nvPicPr>
        <p:blipFill>
          <a:blip r:embed="rId2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4- Résultats en chiffres et la remise des trophées dans les 8 pays de la zone UEMOA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24 / 240 SFD ont suivi les formations et se sont engagés dans le processu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41 points focaux formés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05 plans d’action finalisés dont 190 ont été validés pour suiv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ppui conseil « in situ » pour 105 SFD par 15 Agents de Déploiement (AD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compense de 3 catégories de SFD par pays dans le cadre de la remise des trophé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4" name="Picture 5" descr="D:\logo_2011.png"/>
          <p:cNvPicPr/>
          <p:nvPr/>
        </p:nvPicPr>
        <p:blipFill>
          <a:blip r:embed="rId1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1. Introduction on Financial Transparency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28480" y="2373120"/>
            <a:ext cx="7508880" cy="2261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Financial Transparency consists in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roducing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testing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disseminating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information relative to the financial results of an MFI”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ultative Group to Assist the Poor (CGAP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0" name="Picture 60" descr="logo simple fond blanc"/>
          <p:cNvPicPr/>
          <p:nvPr/>
        </p:nvPicPr>
        <p:blipFill>
          <a:blip r:embed="rId1"/>
          <a:stretch/>
        </p:blipFill>
        <p:spPr>
          <a:xfrm>
            <a:off x="4730760" y="0"/>
            <a:ext cx="387972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5. Conclusions et Perspectives 1/2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7000" y="2007720"/>
            <a:ext cx="7691400" cy="4297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Guide jugé pratique et concret par les SFD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mpacts positifs: détection des failles de l’ensemble du système de contrôle et prévention des fraude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vision des outils de pilotages et manuels de procédure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mélioration de la gouvernance et sensibilisation de ses membres au contrôle interne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étermination d’une cartographie des risques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mélioration de la conformité avec la nouvelle réglementation entrée en vigueur en Afrique de l’Ouest en avril 200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07" name="Picture 5" descr="D:\logo_2011.png"/>
          <p:cNvPicPr/>
          <p:nvPr/>
        </p:nvPicPr>
        <p:blipFill>
          <a:blip r:embed="rId1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5. Conclusions et Perspectives 2/2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28120" y="2090880"/>
            <a:ext cx="8045640" cy="4060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0120" indent="-430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ifficultés d’emploi du temps et de ressources allouées à l’optimisation du CI: Top Management impliqué et engagé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0120" indent="-430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ût de la mise en place d’un CI efficac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0120" indent="-430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Turn-over du staff des SFD et manque de transmission en intern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erspectives: Poursuite éventuelle de l’appui des AD pour un accompagnement dans la mise en œuvre des plans d’actions, notamment via un coaching plus personnalisé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Fin de l’axe n°2 du projet en Juin 2013: recherche de partenaires pour continuer l’appui à la professionnalisation des SFD. (Exemple d’articulation au Togo avec le PSFG de la Banque Mondiale et l’AP/SFD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10" name="Picture 5" descr="D:\logo_2011.png"/>
          <p:cNvPicPr/>
          <p:nvPr/>
        </p:nvPicPr>
        <p:blipFill>
          <a:blip r:embed="rId1"/>
          <a:stretch/>
        </p:blipFill>
        <p:spPr>
          <a:xfrm>
            <a:off x="7130880" y="42840"/>
            <a:ext cx="1795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28480" y="2373480"/>
            <a:ext cx="7508880" cy="3389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292929"/>
                </a:solidFill>
                <a:latin typeface="Arial"/>
              </a:rPr>
              <a:t>Transparence financière: le point de vue d’un bailleur de fonds</a:t>
            </a:r>
            <a:endParaRPr b="0" lang="en-US" sz="31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12" name="Picture 8" descr=""/>
          <p:cNvPicPr/>
          <p:nvPr/>
        </p:nvPicPr>
        <p:blipFill>
          <a:blip r:embed="rId1"/>
          <a:stretch/>
        </p:blipFill>
        <p:spPr>
          <a:xfrm>
            <a:off x="5680080" y="3571920"/>
            <a:ext cx="3035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481640" y="185400"/>
            <a:ext cx="4303440" cy="1128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L’AFD et la transparence financière: un long apprentissag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739800" y="1666800"/>
            <a:ext cx="7481880" cy="1128960"/>
          </a:xfrm>
          <a:prstGeom prst="rightArrow">
            <a:avLst>
              <a:gd name="adj1" fmla="val 39944"/>
              <a:gd name="adj2" fmla="val 106956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 flipH="1">
            <a:off x="1214280" y="2452680"/>
            <a:ext cx="495360" cy="7761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373040" y="2055960"/>
            <a:ext cx="919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528480" y="3219480"/>
            <a:ext cx="1411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Une valeur secondai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Focus sur la création d’institutions péren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927520" y="2046240"/>
            <a:ext cx="919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 flipH="1">
            <a:off x="2733480" y="2459160"/>
            <a:ext cx="495000" cy="7761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048040" y="3225960"/>
            <a:ext cx="141120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292929"/>
                </a:solidFill>
                <a:uFillTx/>
                <a:latin typeface="Arial"/>
              </a:rPr>
              <a:t>Transparence pour le régulateur: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projets portant sur la régulation et la supervis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4546440" y="2048040"/>
            <a:ext cx="91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 flipH="1">
            <a:off x="4351320" y="2460600"/>
            <a:ext cx="495360" cy="7761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665520" y="3227400"/>
            <a:ext cx="141120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292929"/>
                </a:solidFill>
                <a:uFillTx/>
                <a:latin typeface="Arial"/>
              </a:rPr>
              <a:t>Transparence pour le bailleur: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reportings fiables, promotion des ratings, des audi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6018120" y="2044800"/>
            <a:ext cx="91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 flipH="1">
            <a:off x="5823000" y="2457360"/>
            <a:ext cx="495360" cy="7765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5137200" y="3224160"/>
            <a:ext cx="2306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292929"/>
                </a:solidFill>
                <a:uFillTx/>
                <a:latin typeface="Arial"/>
              </a:rPr>
              <a:t>Notion de transparence institutionnelle: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informations fiables pour un bon pilotage, solidité du contrôle interne, transparence des coûts pour les clients, transparence des informations financières pour le secteu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481640" y="185400"/>
            <a:ext cx="4303440" cy="1128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Transparence financière : une valeur présente mais pas toujours reconnu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Espace réservé du contenu 2"/>
          <p:cNvSpPr/>
          <p:nvPr/>
        </p:nvSpPr>
        <p:spPr>
          <a:xfrm>
            <a:off x="598320" y="2073240"/>
            <a:ext cx="80456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ecoupe mais ne se limite pas à la finance respons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osition fréquente des IMF: pour les informations financières de base oui… pour le reste c’est en fonction de la concurre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osition fréquente des bailleurs: transparence uniquement pour le repor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481640" y="185400"/>
            <a:ext cx="4303440" cy="1128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Les dimensions principales de la transparence pour le groupe AF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rcRect l="9678" t="26579" r="53575" b="26173"/>
          <a:stretch/>
        </p:blipFill>
        <p:spPr>
          <a:xfrm>
            <a:off x="598320" y="1525680"/>
            <a:ext cx="7340760" cy="4197240"/>
          </a:xfrm>
          <a:prstGeom prst="rect">
            <a:avLst/>
          </a:prstGeom>
          <a:ln w="0">
            <a:noFill/>
          </a:ln>
        </p:spPr>
      </p:pic>
      <p:sp>
        <p:nvSpPr>
          <p:cNvPr id="331" name="Oval 5"/>
          <p:cNvSpPr/>
          <p:nvPr/>
        </p:nvSpPr>
        <p:spPr>
          <a:xfrm>
            <a:off x="4057560" y="1309680"/>
            <a:ext cx="2046240" cy="7761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5891040" y="3784680"/>
            <a:ext cx="2046600" cy="7761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5045040" y="4702320"/>
            <a:ext cx="2046240" cy="7761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179800" y="5214960"/>
            <a:ext cx="2201760" cy="5922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669960" y="2584440"/>
            <a:ext cx="2046240" cy="7761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Oval 8"/>
          <p:cNvSpPr/>
          <p:nvPr/>
        </p:nvSpPr>
        <p:spPr>
          <a:xfrm>
            <a:off x="1222200" y="4678200"/>
            <a:ext cx="2203560" cy="560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481640" y="185400"/>
            <a:ext cx="4303440" cy="1128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Moyens d’action: au niveau de l’instr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Espace réservé du contenu 2"/>
          <p:cNvSpPr/>
          <p:nvPr/>
        </p:nvSpPr>
        <p:spPr>
          <a:xfrm>
            <a:off x="598320" y="1525680"/>
            <a:ext cx="80456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dentification des faiblesses du SIG, du contrôle interne et de l’audit inter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onsultation des rapports d’aud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nalyse de la transparence externe: reporting au régulateur, au Mix, à l’association professionnelle loc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nalyse de la transparence envers les clients à l’aide d’une scorecard E&amp;S: communication des coûts totaux (ou de préférence du TEG), explication exhaustive des condition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481640" y="185400"/>
            <a:ext cx="4303440" cy="1128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Moyens d’action: au niveau des conventions/contra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Espace réservé du contenu 2"/>
          <p:cNvSpPr/>
          <p:nvPr/>
        </p:nvSpPr>
        <p:spPr>
          <a:xfrm>
            <a:off x="598320" y="1525680"/>
            <a:ext cx="80456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Engagement de transmission d’audits externes et rapports au régulateu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Engagement de reporting social et financier au Mi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Engagement d’adhésion à la Smart Campaig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i existe, engagement de transmettre informations à la centrale des risques loc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ncitation forte à réaliser un rating social et financier dans les deux ans après signature de la conven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41" name="Group 7"/>
          <p:cNvGrpSpPr/>
          <p:nvPr/>
        </p:nvGrpSpPr>
        <p:grpSpPr>
          <a:xfrm>
            <a:off x="387360" y="2208240"/>
            <a:ext cx="8115120" cy="3702240"/>
            <a:chOff x="387360" y="2208240"/>
            <a:chExt cx="8115120" cy="3702240"/>
          </a:xfrm>
        </p:grpSpPr>
        <p:sp>
          <p:nvSpPr>
            <p:cNvPr id="342" name="Oval 4"/>
            <p:cNvSpPr/>
            <p:nvPr/>
          </p:nvSpPr>
          <p:spPr>
            <a:xfrm>
              <a:off x="387360" y="2208240"/>
              <a:ext cx="8115120" cy="10576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 flipV="1">
              <a:off x="2223000" y="3219480"/>
              <a:ext cx="635040" cy="162360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163520" y="4843080"/>
              <a:ext cx="3670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292929"/>
                  </a:solidFill>
                  <a:latin typeface="Arial"/>
                </a:rPr>
                <a:t>En phase avec les « Lender’s guidelines for setting covenants in support of responsible finance » de la SPTF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481640" y="185400"/>
            <a:ext cx="4303440" cy="1128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Moyens d’action: au niveau des proje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Espace réservé du contenu 2"/>
          <p:cNvSpPr/>
          <p:nvPr/>
        </p:nvSpPr>
        <p:spPr>
          <a:xfrm>
            <a:off x="598320" y="2131920"/>
            <a:ext cx="80456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ppui pour le renforcement des SIG, du contrôle inter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ppui du niveau méso: associations professionnelles, mobilisation de cabinets de conseil et d’audit locaux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ppui du niveau macro: renforcement des cadres réglementaires et de supervision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6" descr="Cordonnier comprimée"/>
          <p:cNvPicPr/>
          <p:nvPr/>
        </p:nvPicPr>
        <p:blipFill>
          <a:blip r:embed="rId1"/>
          <a:stretch/>
        </p:blipFill>
        <p:spPr>
          <a:xfrm>
            <a:off x="4091040" y="185760"/>
            <a:ext cx="4870440" cy="3652920"/>
          </a:xfrm>
          <a:prstGeom prst="rect">
            <a:avLst/>
          </a:prstGeom>
          <a:ln w="0">
            <a:noFill/>
          </a:ln>
        </p:spPr>
      </p:pic>
      <p:sp>
        <p:nvSpPr>
          <p:cNvPr id="348" name="Espace réservé du contenu 2"/>
          <p:cNvSpPr/>
          <p:nvPr/>
        </p:nvSpPr>
        <p:spPr>
          <a:xfrm>
            <a:off x="176040" y="3838680"/>
            <a:ext cx="8785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marL="438120" indent="-43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utter contre une culture de la méfia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ntégrer les valeurs de transparence dans l’agenda de la finance respons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ensibiliser les régulateurs et acteurs intermédiair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Text Placeholder 15"/>
          <p:cNvSpPr/>
          <p:nvPr/>
        </p:nvSpPr>
        <p:spPr>
          <a:xfrm>
            <a:off x="176040" y="2230560"/>
            <a:ext cx="2751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De nombreux déf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2. Presentation of the best practices gu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2520" y="2271240"/>
            <a:ext cx="7916760" cy="3629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3000"/>
          </a:bodyPr>
          <a:p>
            <a:pPr marL="407160" indent="-407160">
              <a:lnSpc>
                <a:spcPct val="120000"/>
              </a:lnSpc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An EU and AFD-funded multi-country project with 10 partner MFIs in 4 countries:</a:t>
            </a:r>
            <a:br>
              <a:rPr sz="1600"/>
            </a:b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Senegal, Mali, Burkina Faso, Ben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160" indent="-40716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160" indent="-407160">
              <a:lnSpc>
                <a:spcPct val="120000"/>
              </a:lnSpc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Objective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tribute to the development of inclusive finance in the targeted countries through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Courier New"/>
              <a:buChar char="o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lowing durable access to financial services for low income pop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Courier New"/>
              <a:buChar char="o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romoting and strengthening financial transparency in partner MFI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Lucida Sans"/>
              <a:buChar char="−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07160" indent="-407160">
              <a:lnSpc>
                <a:spcPct val="120000"/>
              </a:lnSpc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in Activities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Courier New"/>
              <a:buChar char="o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apacity Building for MFIs’ staff, management and governance memb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Courier New"/>
              <a:buChar char="o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upport in upgrading their MI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Courier New"/>
              <a:buChar char="o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echnical assistance in improving and formalizing Internal Contro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11920" indent="-265680">
              <a:lnSpc>
                <a:spcPct val="120000"/>
              </a:lnSpc>
              <a:buClr>
                <a:srgbClr val="ff3300"/>
              </a:buClr>
              <a:buFont typeface="Courier New"/>
              <a:buChar char="o"/>
              <a:tabLst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est Practices dissemination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Picture 60" descr="logo simple fond blanc"/>
          <p:cNvPicPr/>
          <p:nvPr/>
        </p:nvPicPr>
        <p:blipFill>
          <a:blip r:embed="rId1"/>
          <a:stretch/>
        </p:blipFill>
        <p:spPr>
          <a:xfrm>
            <a:off x="4730760" y="0"/>
            <a:ext cx="387972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120" y="2166480"/>
            <a:ext cx="7616880" cy="1335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35461"/>
                </a:solidFill>
                <a:latin typeface="Arial"/>
              </a:rPr>
              <a:t>TRANSPARENCY: A SECTOR IN EVOLUTION</a:t>
            </a:r>
            <a:endParaRPr b="1" lang="en-US" sz="39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8120" y="4489200"/>
            <a:ext cx="7616880" cy="1469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laine Stephe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O, MIX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2" name="Image 3" descr="logo MIX.png"/>
          <p:cNvPicPr/>
          <p:nvPr/>
        </p:nvPicPr>
        <p:blipFill>
          <a:blip r:embed="rId1"/>
          <a:srcRect l="0" t="0" r="54649" b="-16134"/>
          <a:stretch/>
        </p:blipFill>
        <p:spPr>
          <a:xfrm>
            <a:off x="7211880" y="674640"/>
            <a:ext cx="14335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/>
          <p:cNvSpPr/>
          <p:nvPr/>
        </p:nvSpPr>
        <p:spPr>
          <a:xfrm rot="8640000">
            <a:off x="701280" y="3825000"/>
            <a:ext cx="1354320" cy="1305000"/>
          </a:xfrm>
          <a:prstGeom prst="flowChartDelay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AutoShape 5"/>
          <p:cNvSpPr/>
          <p:nvPr/>
        </p:nvSpPr>
        <p:spPr>
          <a:xfrm rot="4320000">
            <a:off x="2463480" y="4402080"/>
            <a:ext cx="1352520" cy="1305000"/>
          </a:xfrm>
          <a:prstGeom prst="flowChartDelay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552840" y="2900520"/>
            <a:ext cx="1353960" cy="1304640"/>
          </a:xfrm>
          <a:prstGeom prst="flowChartDelay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 rot="17280000">
            <a:off x="2441160" y="1436400"/>
            <a:ext cx="1352520" cy="1305000"/>
          </a:xfrm>
          <a:prstGeom prst="flowChartDelay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 rot="12960000">
            <a:off x="701640" y="1969920"/>
            <a:ext cx="1354320" cy="1306800"/>
          </a:xfrm>
          <a:prstGeom prst="flowChartDelay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Oval 9"/>
          <p:cNvSpPr/>
          <p:nvPr/>
        </p:nvSpPr>
        <p:spPr>
          <a:xfrm>
            <a:off x="1541520" y="2438280"/>
            <a:ext cx="2220840" cy="222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59" name="Picture 11" descr="Logo"/>
          <p:cNvPicPr/>
          <p:nvPr/>
        </p:nvPicPr>
        <p:blipFill>
          <a:blip r:embed="rId1"/>
          <a:stretch/>
        </p:blipFill>
        <p:spPr>
          <a:xfrm>
            <a:off x="1789200" y="3286080"/>
            <a:ext cx="1944720" cy="8701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12"/>
          <p:cNvGrpSpPr/>
          <p:nvPr/>
        </p:nvGrpSpPr>
        <p:grpSpPr>
          <a:xfrm>
            <a:off x="2687760" y="1717560"/>
            <a:ext cx="747720" cy="918000"/>
            <a:chOff x="2687760" y="1717560"/>
            <a:chExt cx="747720" cy="918000"/>
          </a:xfrm>
        </p:grpSpPr>
        <p:sp>
          <p:nvSpPr>
            <p:cNvPr id="361" name="Rectangle 13"/>
            <p:cNvSpPr/>
            <p:nvPr/>
          </p:nvSpPr>
          <p:spPr>
            <a:xfrm>
              <a:off x="2796120" y="238932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Futura Bk BT"/>
                </a:rPr>
                <a:t>MFIs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62" name="Group 14"/>
            <p:cNvGrpSpPr/>
            <p:nvPr/>
          </p:nvGrpSpPr>
          <p:grpSpPr>
            <a:xfrm>
              <a:off x="2687760" y="1717560"/>
              <a:ext cx="747720" cy="671760"/>
              <a:chOff x="2687760" y="1717560"/>
              <a:chExt cx="747720" cy="671760"/>
            </a:xfrm>
          </p:grpSpPr>
          <p:sp>
            <p:nvSpPr>
              <p:cNvPr id="363" name="AutoShape 15"/>
              <p:cNvSpPr/>
              <p:nvPr/>
            </p:nvSpPr>
            <p:spPr>
              <a:xfrm>
                <a:off x="2687760" y="1717560"/>
                <a:ext cx="747720" cy="671760"/>
              </a:xfrm>
              <a:prstGeom prst="roundRect">
                <a:avLst>
                  <a:gd name="adj" fmla="val 16667"/>
                </a:avLst>
              </a:prstGeom>
              <a:solidFill>
                <a:srgbClr val="b01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364" name="Group 16"/>
              <p:cNvGrpSpPr/>
              <p:nvPr/>
            </p:nvGrpSpPr>
            <p:grpSpPr>
              <a:xfrm>
                <a:off x="2734200" y="1751760"/>
                <a:ext cx="648000" cy="551520"/>
                <a:chOff x="2734200" y="1751760"/>
                <a:chExt cx="648000" cy="551520"/>
              </a:xfrm>
            </p:grpSpPr>
            <p:sp>
              <p:nvSpPr>
                <p:cNvPr id="365" name="Freeform 17"/>
                <p:cNvSpPr/>
                <p:nvPr/>
              </p:nvSpPr>
              <p:spPr>
                <a:xfrm>
                  <a:off x="2883960" y="1895040"/>
                  <a:ext cx="207720" cy="1224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601" h="34">
                      <a:moveTo>
                        <a:pt x="9" y="0"/>
                      </a:move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5" y="1"/>
                      </a:lnTo>
                      <a:lnTo>
                        <a:pt x="54" y="1"/>
                      </a:lnTo>
                      <a:lnTo>
                        <a:pt x="63" y="1"/>
                      </a:lnTo>
                      <a:lnTo>
                        <a:pt x="71" y="3"/>
                      </a:lnTo>
                      <a:lnTo>
                        <a:pt x="81" y="3"/>
                      </a:lnTo>
                      <a:lnTo>
                        <a:pt x="89" y="3"/>
                      </a:lnTo>
                      <a:lnTo>
                        <a:pt x="98" y="3"/>
                      </a:lnTo>
                      <a:lnTo>
                        <a:pt x="106" y="4"/>
                      </a:lnTo>
                      <a:lnTo>
                        <a:pt x="117" y="4"/>
                      </a:lnTo>
                      <a:lnTo>
                        <a:pt x="124" y="4"/>
                      </a:lnTo>
                      <a:lnTo>
                        <a:pt x="133" y="4"/>
                      </a:lnTo>
                      <a:lnTo>
                        <a:pt x="143" y="4"/>
                      </a:lnTo>
                      <a:lnTo>
                        <a:pt x="152" y="5"/>
                      </a:lnTo>
                      <a:lnTo>
                        <a:pt x="159" y="5"/>
                      </a:lnTo>
                      <a:lnTo>
                        <a:pt x="169" y="5"/>
                      </a:lnTo>
                      <a:lnTo>
                        <a:pt x="178" y="5"/>
                      </a:lnTo>
                      <a:lnTo>
                        <a:pt x="187" y="5"/>
                      </a:lnTo>
                      <a:lnTo>
                        <a:pt x="195" y="5"/>
                      </a:lnTo>
                      <a:lnTo>
                        <a:pt x="204" y="5"/>
                      </a:lnTo>
                      <a:lnTo>
                        <a:pt x="213" y="5"/>
                      </a:lnTo>
                      <a:lnTo>
                        <a:pt x="222" y="7"/>
                      </a:lnTo>
                      <a:lnTo>
                        <a:pt x="230" y="7"/>
                      </a:lnTo>
                      <a:lnTo>
                        <a:pt x="239" y="7"/>
                      </a:lnTo>
                      <a:lnTo>
                        <a:pt x="248" y="7"/>
                      </a:lnTo>
                      <a:lnTo>
                        <a:pt x="257" y="7"/>
                      </a:lnTo>
                      <a:lnTo>
                        <a:pt x="266" y="7"/>
                      </a:lnTo>
                      <a:lnTo>
                        <a:pt x="274" y="7"/>
                      </a:lnTo>
                      <a:lnTo>
                        <a:pt x="283" y="7"/>
                      </a:lnTo>
                      <a:lnTo>
                        <a:pt x="292" y="7"/>
                      </a:lnTo>
                      <a:lnTo>
                        <a:pt x="302" y="7"/>
                      </a:lnTo>
                      <a:lnTo>
                        <a:pt x="309" y="7"/>
                      </a:lnTo>
                      <a:lnTo>
                        <a:pt x="318" y="7"/>
                      </a:lnTo>
                      <a:lnTo>
                        <a:pt x="328" y="7"/>
                      </a:lnTo>
                      <a:lnTo>
                        <a:pt x="335" y="7"/>
                      </a:lnTo>
                      <a:lnTo>
                        <a:pt x="344" y="7"/>
                      </a:lnTo>
                      <a:lnTo>
                        <a:pt x="354" y="7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80" y="7"/>
                      </a:lnTo>
                      <a:lnTo>
                        <a:pt x="389" y="7"/>
                      </a:lnTo>
                      <a:lnTo>
                        <a:pt x="396" y="7"/>
                      </a:lnTo>
                      <a:lnTo>
                        <a:pt x="406" y="7"/>
                      </a:lnTo>
                      <a:lnTo>
                        <a:pt x="415" y="7"/>
                      </a:lnTo>
                      <a:lnTo>
                        <a:pt x="424" y="7"/>
                      </a:lnTo>
                      <a:lnTo>
                        <a:pt x="433" y="8"/>
                      </a:lnTo>
                      <a:lnTo>
                        <a:pt x="441" y="7"/>
                      </a:lnTo>
                      <a:lnTo>
                        <a:pt x="450" y="7"/>
                      </a:lnTo>
                      <a:lnTo>
                        <a:pt x="459" y="7"/>
                      </a:lnTo>
                      <a:lnTo>
                        <a:pt x="468" y="7"/>
                      </a:lnTo>
                      <a:lnTo>
                        <a:pt x="476" y="7"/>
                      </a:lnTo>
                      <a:lnTo>
                        <a:pt x="485" y="7"/>
                      </a:lnTo>
                      <a:lnTo>
                        <a:pt x="493" y="7"/>
                      </a:lnTo>
                      <a:lnTo>
                        <a:pt x="504" y="7"/>
                      </a:lnTo>
                      <a:lnTo>
                        <a:pt x="511" y="7"/>
                      </a:lnTo>
                      <a:lnTo>
                        <a:pt x="520" y="7"/>
                      </a:lnTo>
                      <a:lnTo>
                        <a:pt x="528" y="7"/>
                      </a:lnTo>
                      <a:lnTo>
                        <a:pt x="537" y="7"/>
                      </a:lnTo>
                      <a:lnTo>
                        <a:pt x="546" y="7"/>
                      </a:lnTo>
                      <a:lnTo>
                        <a:pt x="556" y="7"/>
                      </a:lnTo>
                      <a:lnTo>
                        <a:pt x="565" y="7"/>
                      </a:lnTo>
                      <a:lnTo>
                        <a:pt x="574" y="7"/>
                      </a:lnTo>
                      <a:lnTo>
                        <a:pt x="577" y="7"/>
                      </a:lnTo>
                      <a:lnTo>
                        <a:pt x="580" y="8"/>
                      </a:lnTo>
                      <a:lnTo>
                        <a:pt x="583" y="9"/>
                      </a:lnTo>
                      <a:lnTo>
                        <a:pt x="588" y="9"/>
                      </a:lnTo>
                      <a:lnTo>
                        <a:pt x="591" y="11"/>
                      </a:lnTo>
                      <a:lnTo>
                        <a:pt x="594" y="12"/>
                      </a:lnTo>
                      <a:lnTo>
                        <a:pt x="597" y="12"/>
                      </a:lnTo>
                      <a:lnTo>
                        <a:pt x="601" y="14"/>
                      </a:lnTo>
                      <a:lnTo>
                        <a:pt x="600" y="18"/>
                      </a:lnTo>
                      <a:lnTo>
                        <a:pt x="597" y="23"/>
                      </a:lnTo>
                      <a:lnTo>
                        <a:pt x="595" y="27"/>
                      </a:lnTo>
                      <a:lnTo>
                        <a:pt x="594" y="31"/>
                      </a:lnTo>
                      <a:lnTo>
                        <a:pt x="585" y="31"/>
                      </a:lnTo>
                      <a:lnTo>
                        <a:pt x="579" y="31"/>
                      </a:lnTo>
                      <a:lnTo>
                        <a:pt x="569" y="31"/>
                      </a:lnTo>
                      <a:lnTo>
                        <a:pt x="562" y="31"/>
                      </a:lnTo>
                      <a:lnTo>
                        <a:pt x="554" y="31"/>
                      </a:lnTo>
                      <a:lnTo>
                        <a:pt x="546" y="31"/>
                      </a:lnTo>
                      <a:lnTo>
                        <a:pt x="539" y="31"/>
                      </a:lnTo>
                      <a:lnTo>
                        <a:pt x="531" y="33"/>
                      </a:lnTo>
                      <a:lnTo>
                        <a:pt x="523" y="33"/>
                      </a:lnTo>
                      <a:lnTo>
                        <a:pt x="516" y="33"/>
                      </a:lnTo>
                      <a:lnTo>
                        <a:pt x="508" y="33"/>
                      </a:lnTo>
                      <a:lnTo>
                        <a:pt x="501" y="33"/>
                      </a:lnTo>
                      <a:lnTo>
                        <a:pt x="493" y="33"/>
                      </a:lnTo>
                      <a:lnTo>
                        <a:pt x="485" y="33"/>
                      </a:lnTo>
                      <a:lnTo>
                        <a:pt x="478" y="33"/>
                      </a:lnTo>
                      <a:lnTo>
                        <a:pt x="470" y="33"/>
                      </a:lnTo>
                      <a:lnTo>
                        <a:pt x="462" y="33"/>
                      </a:lnTo>
                      <a:lnTo>
                        <a:pt x="455" y="33"/>
                      </a:lnTo>
                      <a:lnTo>
                        <a:pt x="447" y="33"/>
                      </a:lnTo>
                      <a:lnTo>
                        <a:pt x="439" y="33"/>
                      </a:lnTo>
                      <a:lnTo>
                        <a:pt x="432" y="33"/>
                      </a:lnTo>
                      <a:lnTo>
                        <a:pt x="424" y="33"/>
                      </a:lnTo>
                      <a:lnTo>
                        <a:pt x="416" y="33"/>
                      </a:lnTo>
                      <a:lnTo>
                        <a:pt x="409" y="33"/>
                      </a:lnTo>
                      <a:lnTo>
                        <a:pt x="401" y="33"/>
                      </a:lnTo>
                      <a:lnTo>
                        <a:pt x="393" y="33"/>
                      </a:lnTo>
                      <a:lnTo>
                        <a:pt x="386" y="33"/>
                      </a:lnTo>
                      <a:lnTo>
                        <a:pt x="378" y="33"/>
                      </a:lnTo>
                      <a:lnTo>
                        <a:pt x="370" y="33"/>
                      </a:lnTo>
                      <a:lnTo>
                        <a:pt x="363" y="33"/>
                      </a:lnTo>
                      <a:lnTo>
                        <a:pt x="357" y="33"/>
                      </a:lnTo>
                      <a:lnTo>
                        <a:pt x="349" y="34"/>
                      </a:lnTo>
                      <a:lnTo>
                        <a:pt x="340" y="33"/>
                      </a:lnTo>
                      <a:lnTo>
                        <a:pt x="332" y="33"/>
                      </a:lnTo>
                      <a:lnTo>
                        <a:pt x="325" y="33"/>
                      </a:lnTo>
                      <a:lnTo>
                        <a:pt x="318" y="33"/>
                      </a:lnTo>
                      <a:lnTo>
                        <a:pt x="309" y="33"/>
                      </a:lnTo>
                      <a:lnTo>
                        <a:pt x="302" y="33"/>
                      </a:lnTo>
                      <a:lnTo>
                        <a:pt x="294" y="33"/>
                      </a:lnTo>
                      <a:lnTo>
                        <a:pt x="288" y="33"/>
                      </a:lnTo>
                      <a:lnTo>
                        <a:pt x="279" y="31"/>
                      </a:lnTo>
                      <a:lnTo>
                        <a:pt x="271" y="31"/>
                      </a:lnTo>
                      <a:lnTo>
                        <a:pt x="263" y="31"/>
                      </a:lnTo>
                      <a:lnTo>
                        <a:pt x="257" y="31"/>
                      </a:lnTo>
                      <a:lnTo>
                        <a:pt x="248" y="31"/>
                      </a:lnTo>
                      <a:lnTo>
                        <a:pt x="240" y="31"/>
                      </a:lnTo>
                      <a:lnTo>
                        <a:pt x="233" y="31"/>
                      </a:lnTo>
                      <a:lnTo>
                        <a:pt x="225" y="31"/>
                      </a:lnTo>
                      <a:lnTo>
                        <a:pt x="218" y="31"/>
                      </a:lnTo>
                      <a:lnTo>
                        <a:pt x="210" y="31"/>
                      </a:lnTo>
                      <a:lnTo>
                        <a:pt x="202" y="31"/>
                      </a:lnTo>
                      <a:lnTo>
                        <a:pt x="195" y="31"/>
                      </a:lnTo>
                      <a:lnTo>
                        <a:pt x="187" y="30"/>
                      </a:lnTo>
                      <a:lnTo>
                        <a:pt x="179" y="30"/>
                      </a:lnTo>
                      <a:lnTo>
                        <a:pt x="172" y="30"/>
                      </a:lnTo>
                      <a:lnTo>
                        <a:pt x="164" y="30"/>
                      </a:lnTo>
                      <a:lnTo>
                        <a:pt x="156" y="30"/>
                      </a:lnTo>
                      <a:lnTo>
                        <a:pt x="149" y="30"/>
                      </a:lnTo>
                      <a:lnTo>
                        <a:pt x="141" y="30"/>
                      </a:lnTo>
                      <a:lnTo>
                        <a:pt x="133" y="30"/>
                      </a:lnTo>
                      <a:lnTo>
                        <a:pt x="126" y="29"/>
                      </a:lnTo>
                      <a:lnTo>
                        <a:pt x="120" y="29"/>
                      </a:lnTo>
                      <a:lnTo>
                        <a:pt x="112" y="29"/>
                      </a:lnTo>
                      <a:lnTo>
                        <a:pt x="104" y="29"/>
                      </a:lnTo>
                      <a:lnTo>
                        <a:pt x="100" y="27"/>
                      </a:lnTo>
                      <a:lnTo>
                        <a:pt x="97" y="27"/>
                      </a:lnTo>
                      <a:lnTo>
                        <a:pt x="92" y="26"/>
                      </a:lnTo>
                      <a:lnTo>
                        <a:pt x="89" y="26"/>
                      </a:lnTo>
                      <a:lnTo>
                        <a:pt x="83" y="26"/>
                      </a:lnTo>
                      <a:lnTo>
                        <a:pt x="77" y="26"/>
                      </a:lnTo>
                      <a:lnTo>
                        <a:pt x="72" y="26"/>
                      </a:lnTo>
                      <a:lnTo>
                        <a:pt x="69" y="26"/>
                      </a:lnTo>
                      <a:lnTo>
                        <a:pt x="65" y="26"/>
                      </a:lnTo>
                      <a:lnTo>
                        <a:pt x="61" y="27"/>
                      </a:lnTo>
                      <a:lnTo>
                        <a:pt x="55" y="27"/>
                      </a:lnTo>
                      <a:lnTo>
                        <a:pt x="49" y="29"/>
                      </a:lnTo>
                      <a:lnTo>
                        <a:pt x="45" y="29"/>
                      </a:lnTo>
                      <a:lnTo>
                        <a:pt x="42" y="29"/>
                      </a:lnTo>
                      <a:lnTo>
                        <a:pt x="39" y="29"/>
                      </a:lnTo>
                      <a:lnTo>
                        <a:pt x="35" y="29"/>
                      </a:lnTo>
                      <a:lnTo>
                        <a:pt x="28" y="29"/>
                      </a:lnTo>
                      <a:lnTo>
                        <a:pt x="23" y="27"/>
                      </a:lnTo>
                      <a:lnTo>
                        <a:pt x="17" y="25"/>
                      </a:lnTo>
                      <a:lnTo>
                        <a:pt x="11" y="23"/>
                      </a:lnTo>
                      <a:lnTo>
                        <a:pt x="5" y="19"/>
                      </a:lnTo>
                      <a:lnTo>
                        <a:pt x="0" y="16"/>
                      </a:lnTo>
                      <a:lnTo>
                        <a:pt x="3" y="11"/>
                      </a:lnTo>
                      <a:lnTo>
                        <a:pt x="6" y="7"/>
                      </a:lnTo>
                      <a:lnTo>
                        <a:pt x="9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"/>
                <p:cNvSpPr/>
                <p:nvPr/>
              </p:nvSpPr>
              <p:spPr>
                <a:xfrm>
                  <a:off x="3075840" y="1819800"/>
                  <a:ext cx="86040" cy="716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249" h="195">
                      <a:moveTo>
                        <a:pt x="5" y="0"/>
                      </a:moveTo>
                      <a:lnTo>
                        <a:pt x="8" y="2"/>
                      </a:lnTo>
                      <a:lnTo>
                        <a:pt x="12" y="3"/>
                      </a:lnTo>
                      <a:lnTo>
                        <a:pt x="15" y="6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28" y="13"/>
                      </a:lnTo>
                      <a:lnTo>
                        <a:pt x="32" y="14"/>
                      </a:lnTo>
                      <a:lnTo>
                        <a:pt x="37" y="17"/>
                      </a:lnTo>
                      <a:lnTo>
                        <a:pt x="40" y="20"/>
                      </a:lnTo>
                      <a:lnTo>
                        <a:pt x="44" y="21"/>
                      </a:lnTo>
                      <a:lnTo>
                        <a:pt x="47" y="24"/>
                      </a:lnTo>
                      <a:lnTo>
                        <a:pt x="52" y="26"/>
                      </a:lnTo>
                      <a:lnTo>
                        <a:pt x="57" y="28"/>
                      </a:lnTo>
                      <a:lnTo>
                        <a:pt x="60" y="32"/>
                      </a:lnTo>
                      <a:lnTo>
                        <a:pt x="64" y="33"/>
                      </a:lnTo>
                      <a:lnTo>
                        <a:pt x="69" y="36"/>
                      </a:lnTo>
                      <a:lnTo>
                        <a:pt x="72" y="39"/>
                      </a:lnTo>
                      <a:lnTo>
                        <a:pt x="77" y="41"/>
                      </a:lnTo>
                      <a:lnTo>
                        <a:pt x="80" y="44"/>
                      </a:lnTo>
                      <a:lnTo>
                        <a:pt x="84" y="47"/>
                      </a:lnTo>
                      <a:lnTo>
                        <a:pt x="87" y="48"/>
                      </a:lnTo>
                      <a:lnTo>
                        <a:pt x="92" y="51"/>
                      </a:lnTo>
                      <a:lnTo>
                        <a:pt x="95" y="54"/>
                      </a:lnTo>
                      <a:lnTo>
                        <a:pt x="99" y="57"/>
                      </a:lnTo>
                      <a:lnTo>
                        <a:pt x="104" y="59"/>
                      </a:lnTo>
                      <a:lnTo>
                        <a:pt x="107" y="62"/>
                      </a:lnTo>
                      <a:lnTo>
                        <a:pt x="110" y="65"/>
                      </a:lnTo>
                      <a:lnTo>
                        <a:pt x="115" y="68"/>
                      </a:lnTo>
                      <a:lnTo>
                        <a:pt x="118" y="70"/>
                      </a:lnTo>
                      <a:lnTo>
                        <a:pt x="122" y="73"/>
                      </a:lnTo>
                      <a:lnTo>
                        <a:pt x="125" y="76"/>
                      </a:lnTo>
                      <a:lnTo>
                        <a:pt x="130" y="80"/>
                      </a:lnTo>
                      <a:lnTo>
                        <a:pt x="135" y="81"/>
                      </a:lnTo>
                      <a:lnTo>
                        <a:pt x="138" y="84"/>
                      </a:lnTo>
                      <a:lnTo>
                        <a:pt x="141" y="88"/>
                      </a:lnTo>
                      <a:lnTo>
                        <a:pt x="145" y="91"/>
                      </a:lnTo>
                      <a:lnTo>
                        <a:pt x="148" y="94"/>
                      </a:lnTo>
                      <a:lnTo>
                        <a:pt x="153" y="96"/>
                      </a:lnTo>
                      <a:lnTo>
                        <a:pt x="156" y="99"/>
                      </a:lnTo>
                      <a:lnTo>
                        <a:pt x="161" y="103"/>
                      </a:lnTo>
                      <a:lnTo>
                        <a:pt x="164" y="106"/>
                      </a:lnTo>
                      <a:lnTo>
                        <a:pt x="168" y="109"/>
                      </a:lnTo>
                      <a:lnTo>
                        <a:pt x="171" y="111"/>
                      </a:lnTo>
                      <a:lnTo>
                        <a:pt x="176" y="114"/>
                      </a:lnTo>
                      <a:lnTo>
                        <a:pt x="179" y="117"/>
                      </a:lnTo>
                      <a:lnTo>
                        <a:pt x="184" y="120"/>
                      </a:lnTo>
                      <a:lnTo>
                        <a:pt x="187" y="124"/>
                      </a:lnTo>
                      <a:lnTo>
                        <a:pt x="190" y="127"/>
                      </a:lnTo>
                      <a:lnTo>
                        <a:pt x="193" y="129"/>
                      </a:lnTo>
                      <a:lnTo>
                        <a:pt x="197" y="132"/>
                      </a:lnTo>
                      <a:lnTo>
                        <a:pt x="200" y="135"/>
                      </a:lnTo>
                      <a:lnTo>
                        <a:pt x="205" y="139"/>
                      </a:lnTo>
                      <a:lnTo>
                        <a:pt x="208" y="142"/>
                      </a:lnTo>
                      <a:lnTo>
                        <a:pt x="213" y="144"/>
                      </a:lnTo>
                      <a:lnTo>
                        <a:pt x="216" y="149"/>
                      </a:lnTo>
                      <a:lnTo>
                        <a:pt x="220" y="151"/>
                      </a:lnTo>
                      <a:lnTo>
                        <a:pt x="223" y="154"/>
                      </a:lnTo>
                      <a:lnTo>
                        <a:pt x="226" y="158"/>
                      </a:lnTo>
                      <a:lnTo>
                        <a:pt x="231" y="161"/>
                      </a:lnTo>
                      <a:lnTo>
                        <a:pt x="234" y="164"/>
                      </a:lnTo>
                      <a:lnTo>
                        <a:pt x="239" y="168"/>
                      </a:lnTo>
                      <a:lnTo>
                        <a:pt x="242" y="171"/>
                      </a:lnTo>
                      <a:lnTo>
                        <a:pt x="246" y="173"/>
                      </a:lnTo>
                      <a:lnTo>
                        <a:pt x="249" y="177"/>
                      </a:lnTo>
                      <a:lnTo>
                        <a:pt x="246" y="180"/>
                      </a:lnTo>
                      <a:lnTo>
                        <a:pt x="245" y="186"/>
                      </a:lnTo>
                      <a:lnTo>
                        <a:pt x="240" y="190"/>
                      </a:lnTo>
                      <a:lnTo>
                        <a:pt x="239" y="195"/>
                      </a:lnTo>
                      <a:lnTo>
                        <a:pt x="234" y="192"/>
                      </a:lnTo>
                      <a:lnTo>
                        <a:pt x="231" y="191"/>
                      </a:lnTo>
                      <a:lnTo>
                        <a:pt x="226" y="188"/>
                      </a:lnTo>
                      <a:lnTo>
                        <a:pt x="222" y="187"/>
                      </a:lnTo>
                      <a:lnTo>
                        <a:pt x="219" y="184"/>
                      </a:lnTo>
                      <a:lnTo>
                        <a:pt x="214" y="183"/>
                      </a:lnTo>
                      <a:lnTo>
                        <a:pt x="211" y="180"/>
                      </a:lnTo>
                      <a:lnTo>
                        <a:pt x="207" y="177"/>
                      </a:lnTo>
                      <a:lnTo>
                        <a:pt x="203" y="175"/>
                      </a:lnTo>
                      <a:lnTo>
                        <a:pt x="200" y="173"/>
                      </a:lnTo>
                      <a:lnTo>
                        <a:pt x="196" y="171"/>
                      </a:lnTo>
                      <a:lnTo>
                        <a:pt x="193" y="168"/>
                      </a:lnTo>
                      <a:lnTo>
                        <a:pt x="188" y="165"/>
                      </a:lnTo>
                      <a:lnTo>
                        <a:pt x="185" y="162"/>
                      </a:lnTo>
                      <a:lnTo>
                        <a:pt x="181" y="160"/>
                      </a:lnTo>
                      <a:lnTo>
                        <a:pt x="177" y="158"/>
                      </a:lnTo>
                      <a:lnTo>
                        <a:pt x="174" y="154"/>
                      </a:lnTo>
                      <a:lnTo>
                        <a:pt x="170" y="151"/>
                      </a:lnTo>
                      <a:lnTo>
                        <a:pt x="167" y="149"/>
                      </a:lnTo>
                      <a:lnTo>
                        <a:pt x="162" y="146"/>
                      </a:lnTo>
                      <a:lnTo>
                        <a:pt x="159" y="143"/>
                      </a:lnTo>
                      <a:lnTo>
                        <a:pt x="156" y="140"/>
                      </a:lnTo>
                      <a:lnTo>
                        <a:pt x="151" y="138"/>
                      </a:lnTo>
                      <a:lnTo>
                        <a:pt x="148" y="135"/>
                      </a:lnTo>
                      <a:lnTo>
                        <a:pt x="145" y="131"/>
                      </a:lnTo>
                      <a:lnTo>
                        <a:pt x="141" y="128"/>
                      </a:lnTo>
                      <a:lnTo>
                        <a:pt x="138" y="125"/>
                      </a:lnTo>
                      <a:lnTo>
                        <a:pt x="135" y="124"/>
                      </a:lnTo>
                      <a:lnTo>
                        <a:pt x="132" y="120"/>
                      </a:lnTo>
                      <a:lnTo>
                        <a:pt x="127" y="117"/>
                      </a:lnTo>
                      <a:lnTo>
                        <a:pt x="124" y="114"/>
                      </a:lnTo>
                      <a:lnTo>
                        <a:pt x="121" y="113"/>
                      </a:lnTo>
                      <a:lnTo>
                        <a:pt x="118" y="109"/>
                      </a:lnTo>
                      <a:lnTo>
                        <a:pt x="113" y="106"/>
                      </a:lnTo>
                      <a:lnTo>
                        <a:pt x="110" y="103"/>
                      </a:lnTo>
                      <a:lnTo>
                        <a:pt x="107" y="101"/>
                      </a:lnTo>
                      <a:lnTo>
                        <a:pt x="104" y="96"/>
                      </a:lnTo>
                      <a:lnTo>
                        <a:pt x="99" y="94"/>
                      </a:lnTo>
                      <a:lnTo>
                        <a:pt x="96" y="91"/>
                      </a:lnTo>
                      <a:lnTo>
                        <a:pt x="93" y="88"/>
                      </a:lnTo>
                      <a:lnTo>
                        <a:pt x="89" y="85"/>
                      </a:lnTo>
                      <a:lnTo>
                        <a:pt x="86" y="83"/>
                      </a:lnTo>
                      <a:lnTo>
                        <a:pt x="81" y="80"/>
                      </a:lnTo>
                      <a:lnTo>
                        <a:pt x="78" y="77"/>
                      </a:lnTo>
                      <a:lnTo>
                        <a:pt x="75" y="74"/>
                      </a:lnTo>
                      <a:lnTo>
                        <a:pt x="72" y="72"/>
                      </a:lnTo>
                      <a:lnTo>
                        <a:pt x="67" y="69"/>
                      </a:lnTo>
                      <a:lnTo>
                        <a:pt x="64" y="68"/>
                      </a:lnTo>
                      <a:lnTo>
                        <a:pt x="61" y="63"/>
                      </a:lnTo>
                      <a:lnTo>
                        <a:pt x="57" y="62"/>
                      </a:lnTo>
                      <a:lnTo>
                        <a:pt x="54" y="59"/>
                      </a:lnTo>
                      <a:lnTo>
                        <a:pt x="49" y="57"/>
                      </a:lnTo>
                      <a:lnTo>
                        <a:pt x="46" y="54"/>
                      </a:lnTo>
                      <a:lnTo>
                        <a:pt x="43" y="52"/>
                      </a:lnTo>
                      <a:lnTo>
                        <a:pt x="38" y="50"/>
                      </a:lnTo>
                      <a:lnTo>
                        <a:pt x="35" y="47"/>
                      </a:lnTo>
                      <a:lnTo>
                        <a:pt x="31" y="46"/>
                      </a:lnTo>
                      <a:lnTo>
                        <a:pt x="28" y="43"/>
                      </a:lnTo>
                      <a:lnTo>
                        <a:pt x="23" y="40"/>
                      </a:lnTo>
                      <a:lnTo>
                        <a:pt x="20" y="39"/>
                      </a:lnTo>
                      <a:lnTo>
                        <a:pt x="15" y="37"/>
                      </a:lnTo>
                      <a:lnTo>
                        <a:pt x="12" y="36"/>
                      </a:lnTo>
                      <a:lnTo>
                        <a:pt x="8" y="35"/>
                      </a:lnTo>
                      <a:lnTo>
                        <a:pt x="5" y="32"/>
                      </a:lnTo>
                      <a:lnTo>
                        <a:pt x="3" y="28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3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19"/>
                <p:cNvSpPr/>
                <p:nvPr/>
              </p:nvSpPr>
              <p:spPr>
                <a:xfrm>
                  <a:off x="2885400" y="1940040"/>
                  <a:ext cx="11880" cy="1652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35" h="449">
                      <a:moveTo>
                        <a:pt x="12" y="0"/>
                      </a:moveTo>
                      <a:lnTo>
                        <a:pt x="15" y="4"/>
                      </a:lnTo>
                      <a:lnTo>
                        <a:pt x="18" y="8"/>
                      </a:lnTo>
                      <a:lnTo>
                        <a:pt x="21" y="14"/>
                      </a:lnTo>
                      <a:lnTo>
                        <a:pt x="24" y="18"/>
                      </a:lnTo>
                      <a:lnTo>
                        <a:pt x="26" y="23"/>
                      </a:lnTo>
                      <a:lnTo>
                        <a:pt x="27" y="27"/>
                      </a:lnTo>
                      <a:lnTo>
                        <a:pt x="29" y="33"/>
                      </a:lnTo>
                      <a:lnTo>
                        <a:pt x="30" y="40"/>
                      </a:lnTo>
                      <a:lnTo>
                        <a:pt x="32" y="44"/>
                      </a:lnTo>
                      <a:lnTo>
                        <a:pt x="32" y="49"/>
                      </a:lnTo>
                      <a:lnTo>
                        <a:pt x="32" y="55"/>
                      </a:lnTo>
                      <a:lnTo>
                        <a:pt x="32" y="60"/>
                      </a:lnTo>
                      <a:lnTo>
                        <a:pt x="32" y="67"/>
                      </a:lnTo>
                      <a:lnTo>
                        <a:pt x="32" y="73"/>
                      </a:lnTo>
                      <a:lnTo>
                        <a:pt x="32" y="76"/>
                      </a:lnTo>
                      <a:lnTo>
                        <a:pt x="32" y="78"/>
                      </a:lnTo>
                      <a:lnTo>
                        <a:pt x="32" y="82"/>
                      </a:lnTo>
                      <a:lnTo>
                        <a:pt x="34" y="85"/>
                      </a:lnTo>
                      <a:lnTo>
                        <a:pt x="32" y="91"/>
                      </a:lnTo>
                      <a:lnTo>
                        <a:pt x="32" y="97"/>
                      </a:lnTo>
                      <a:lnTo>
                        <a:pt x="32" y="103"/>
                      </a:lnTo>
                      <a:lnTo>
                        <a:pt x="32" y="108"/>
                      </a:lnTo>
                      <a:lnTo>
                        <a:pt x="30" y="114"/>
                      </a:lnTo>
                      <a:lnTo>
                        <a:pt x="30" y="121"/>
                      </a:lnTo>
                      <a:lnTo>
                        <a:pt x="30" y="126"/>
                      </a:lnTo>
                      <a:lnTo>
                        <a:pt x="30" y="132"/>
                      </a:lnTo>
                      <a:lnTo>
                        <a:pt x="29" y="139"/>
                      </a:lnTo>
                      <a:lnTo>
                        <a:pt x="29" y="144"/>
                      </a:lnTo>
                      <a:lnTo>
                        <a:pt x="29" y="150"/>
                      </a:lnTo>
                      <a:lnTo>
                        <a:pt x="30" y="155"/>
                      </a:lnTo>
                      <a:lnTo>
                        <a:pt x="30" y="161"/>
                      </a:lnTo>
                      <a:lnTo>
                        <a:pt x="30" y="166"/>
                      </a:lnTo>
                      <a:lnTo>
                        <a:pt x="32" y="172"/>
                      </a:lnTo>
                      <a:lnTo>
                        <a:pt x="34" y="177"/>
                      </a:lnTo>
                      <a:lnTo>
                        <a:pt x="34" y="181"/>
                      </a:lnTo>
                      <a:lnTo>
                        <a:pt x="34" y="185"/>
                      </a:lnTo>
                      <a:lnTo>
                        <a:pt x="34" y="189"/>
                      </a:lnTo>
                      <a:lnTo>
                        <a:pt x="34" y="194"/>
                      </a:lnTo>
                      <a:lnTo>
                        <a:pt x="34" y="198"/>
                      </a:lnTo>
                      <a:lnTo>
                        <a:pt x="34" y="203"/>
                      </a:lnTo>
                      <a:lnTo>
                        <a:pt x="34" y="206"/>
                      </a:lnTo>
                      <a:lnTo>
                        <a:pt x="34" y="211"/>
                      </a:lnTo>
                      <a:lnTo>
                        <a:pt x="34" y="216"/>
                      </a:lnTo>
                      <a:lnTo>
                        <a:pt x="34" y="220"/>
                      </a:lnTo>
                      <a:lnTo>
                        <a:pt x="34" y="224"/>
                      </a:lnTo>
                      <a:lnTo>
                        <a:pt x="34" y="228"/>
                      </a:lnTo>
                      <a:lnTo>
                        <a:pt x="34" y="232"/>
                      </a:lnTo>
                      <a:lnTo>
                        <a:pt x="34" y="236"/>
                      </a:lnTo>
                      <a:lnTo>
                        <a:pt x="34" y="240"/>
                      </a:lnTo>
                      <a:lnTo>
                        <a:pt x="34" y="244"/>
                      </a:lnTo>
                      <a:lnTo>
                        <a:pt x="34" y="248"/>
                      </a:lnTo>
                      <a:lnTo>
                        <a:pt x="34" y="253"/>
                      </a:lnTo>
                      <a:lnTo>
                        <a:pt x="34" y="257"/>
                      </a:lnTo>
                      <a:lnTo>
                        <a:pt x="34" y="262"/>
                      </a:lnTo>
                      <a:lnTo>
                        <a:pt x="34" y="265"/>
                      </a:lnTo>
                      <a:lnTo>
                        <a:pt x="34" y="270"/>
                      </a:lnTo>
                      <a:lnTo>
                        <a:pt x="34" y="275"/>
                      </a:lnTo>
                      <a:lnTo>
                        <a:pt x="34" y="279"/>
                      </a:lnTo>
                      <a:lnTo>
                        <a:pt x="34" y="283"/>
                      </a:lnTo>
                      <a:lnTo>
                        <a:pt x="34" y="287"/>
                      </a:lnTo>
                      <a:lnTo>
                        <a:pt x="34" y="291"/>
                      </a:lnTo>
                      <a:lnTo>
                        <a:pt x="35" y="297"/>
                      </a:lnTo>
                      <a:lnTo>
                        <a:pt x="35" y="299"/>
                      </a:lnTo>
                      <a:lnTo>
                        <a:pt x="35" y="305"/>
                      </a:lnTo>
                      <a:lnTo>
                        <a:pt x="35" y="309"/>
                      </a:lnTo>
                      <a:lnTo>
                        <a:pt x="35" y="313"/>
                      </a:lnTo>
                      <a:lnTo>
                        <a:pt x="35" y="317"/>
                      </a:lnTo>
                      <a:lnTo>
                        <a:pt x="35" y="321"/>
                      </a:lnTo>
                      <a:lnTo>
                        <a:pt x="35" y="325"/>
                      </a:lnTo>
                      <a:lnTo>
                        <a:pt x="35" y="331"/>
                      </a:lnTo>
                      <a:lnTo>
                        <a:pt x="35" y="334"/>
                      </a:lnTo>
                      <a:lnTo>
                        <a:pt x="35" y="339"/>
                      </a:lnTo>
                      <a:lnTo>
                        <a:pt x="35" y="343"/>
                      </a:lnTo>
                      <a:lnTo>
                        <a:pt x="35" y="347"/>
                      </a:lnTo>
                      <a:lnTo>
                        <a:pt x="35" y="351"/>
                      </a:lnTo>
                      <a:lnTo>
                        <a:pt x="35" y="356"/>
                      </a:lnTo>
                      <a:lnTo>
                        <a:pt x="35" y="360"/>
                      </a:lnTo>
                      <a:lnTo>
                        <a:pt x="35" y="364"/>
                      </a:lnTo>
                      <a:lnTo>
                        <a:pt x="35" y="368"/>
                      </a:lnTo>
                      <a:lnTo>
                        <a:pt x="35" y="372"/>
                      </a:lnTo>
                      <a:lnTo>
                        <a:pt x="35" y="376"/>
                      </a:lnTo>
                      <a:lnTo>
                        <a:pt x="35" y="380"/>
                      </a:lnTo>
                      <a:lnTo>
                        <a:pt x="35" y="384"/>
                      </a:lnTo>
                      <a:lnTo>
                        <a:pt x="35" y="390"/>
                      </a:lnTo>
                      <a:lnTo>
                        <a:pt x="35" y="393"/>
                      </a:lnTo>
                      <a:lnTo>
                        <a:pt x="35" y="398"/>
                      </a:lnTo>
                      <a:lnTo>
                        <a:pt x="35" y="402"/>
                      </a:lnTo>
                      <a:lnTo>
                        <a:pt x="35" y="406"/>
                      </a:lnTo>
                      <a:lnTo>
                        <a:pt x="35" y="410"/>
                      </a:lnTo>
                      <a:lnTo>
                        <a:pt x="35" y="415"/>
                      </a:lnTo>
                      <a:lnTo>
                        <a:pt x="34" y="419"/>
                      </a:lnTo>
                      <a:lnTo>
                        <a:pt x="34" y="423"/>
                      </a:lnTo>
                      <a:lnTo>
                        <a:pt x="34" y="427"/>
                      </a:lnTo>
                      <a:lnTo>
                        <a:pt x="34" y="432"/>
                      </a:lnTo>
                      <a:lnTo>
                        <a:pt x="34" y="435"/>
                      </a:lnTo>
                      <a:lnTo>
                        <a:pt x="34" y="441"/>
                      </a:lnTo>
                      <a:lnTo>
                        <a:pt x="34" y="445"/>
                      </a:lnTo>
                      <a:lnTo>
                        <a:pt x="34" y="449"/>
                      </a:lnTo>
                      <a:lnTo>
                        <a:pt x="29" y="449"/>
                      </a:lnTo>
                      <a:lnTo>
                        <a:pt x="26" y="449"/>
                      </a:lnTo>
                      <a:lnTo>
                        <a:pt x="23" y="449"/>
                      </a:lnTo>
                      <a:lnTo>
                        <a:pt x="20" y="449"/>
                      </a:lnTo>
                      <a:lnTo>
                        <a:pt x="17" y="448"/>
                      </a:lnTo>
                      <a:lnTo>
                        <a:pt x="14" y="448"/>
                      </a:lnTo>
                      <a:lnTo>
                        <a:pt x="11" y="448"/>
                      </a:lnTo>
                      <a:lnTo>
                        <a:pt x="8" y="448"/>
                      </a:lnTo>
                      <a:lnTo>
                        <a:pt x="8" y="441"/>
                      </a:lnTo>
                      <a:lnTo>
                        <a:pt x="8" y="434"/>
                      </a:lnTo>
                      <a:lnTo>
                        <a:pt x="6" y="427"/>
                      </a:lnTo>
                      <a:lnTo>
                        <a:pt x="6" y="420"/>
                      </a:lnTo>
                      <a:lnTo>
                        <a:pt x="6" y="413"/>
                      </a:lnTo>
                      <a:lnTo>
                        <a:pt x="6" y="406"/>
                      </a:lnTo>
                      <a:lnTo>
                        <a:pt x="6" y="399"/>
                      </a:lnTo>
                      <a:lnTo>
                        <a:pt x="6" y="393"/>
                      </a:lnTo>
                      <a:lnTo>
                        <a:pt x="4" y="386"/>
                      </a:lnTo>
                      <a:lnTo>
                        <a:pt x="4" y="380"/>
                      </a:lnTo>
                      <a:lnTo>
                        <a:pt x="4" y="373"/>
                      </a:lnTo>
                      <a:lnTo>
                        <a:pt x="4" y="367"/>
                      </a:lnTo>
                      <a:lnTo>
                        <a:pt x="4" y="360"/>
                      </a:lnTo>
                      <a:lnTo>
                        <a:pt x="4" y="353"/>
                      </a:lnTo>
                      <a:lnTo>
                        <a:pt x="4" y="346"/>
                      </a:lnTo>
                      <a:lnTo>
                        <a:pt x="4" y="340"/>
                      </a:lnTo>
                      <a:lnTo>
                        <a:pt x="4" y="334"/>
                      </a:lnTo>
                      <a:lnTo>
                        <a:pt x="4" y="327"/>
                      </a:lnTo>
                      <a:lnTo>
                        <a:pt x="4" y="320"/>
                      </a:lnTo>
                      <a:lnTo>
                        <a:pt x="4" y="313"/>
                      </a:lnTo>
                      <a:lnTo>
                        <a:pt x="3" y="306"/>
                      </a:lnTo>
                      <a:lnTo>
                        <a:pt x="3" y="299"/>
                      </a:lnTo>
                      <a:lnTo>
                        <a:pt x="3" y="294"/>
                      </a:lnTo>
                      <a:lnTo>
                        <a:pt x="3" y="287"/>
                      </a:lnTo>
                      <a:lnTo>
                        <a:pt x="3" y="280"/>
                      </a:lnTo>
                      <a:lnTo>
                        <a:pt x="3" y="273"/>
                      </a:lnTo>
                      <a:lnTo>
                        <a:pt x="3" y="266"/>
                      </a:lnTo>
                      <a:lnTo>
                        <a:pt x="3" y="261"/>
                      </a:lnTo>
                      <a:lnTo>
                        <a:pt x="3" y="254"/>
                      </a:lnTo>
                      <a:lnTo>
                        <a:pt x="3" y="247"/>
                      </a:lnTo>
                      <a:lnTo>
                        <a:pt x="3" y="242"/>
                      </a:lnTo>
                      <a:lnTo>
                        <a:pt x="3" y="235"/>
                      </a:lnTo>
                      <a:lnTo>
                        <a:pt x="1" y="228"/>
                      </a:lnTo>
                      <a:lnTo>
                        <a:pt x="1" y="221"/>
                      </a:lnTo>
                      <a:lnTo>
                        <a:pt x="1" y="214"/>
                      </a:lnTo>
                      <a:lnTo>
                        <a:pt x="1" y="207"/>
                      </a:lnTo>
                      <a:lnTo>
                        <a:pt x="1" y="200"/>
                      </a:lnTo>
                      <a:lnTo>
                        <a:pt x="1" y="194"/>
                      </a:lnTo>
                      <a:lnTo>
                        <a:pt x="1" y="188"/>
                      </a:lnTo>
                      <a:lnTo>
                        <a:pt x="1" y="181"/>
                      </a:lnTo>
                      <a:lnTo>
                        <a:pt x="1" y="174"/>
                      </a:lnTo>
                      <a:lnTo>
                        <a:pt x="1" y="167"/>
                      </a:lnTo>
                      <a:lnTo>
                        <a:pt x="1" y="161"/>
                      </a:lnTo>
                      <a:lnTo>
                        <a:pt x="1" y="154"/>
                      </a:lnTo>
                      <a:lnTo>
                        <a:pt x="1" y="148"/>
                      </a:lnTo>
                      <a:lnTo>
                        <a:pt x="1" y="141"/>
                      </a:lnTo>
                      <a:lnTo>
                        <a:pt x="1" y="135"/>
                      </a:lnTo>
                      <a:lnTo>
                        <a:pt x="1" y="128"/>
                      </a:lnTo>
                      <a:lnTo>
                        <a:pt x="1" y="121"/>
                      </a:lnTo>
                      <a:lnTo>
                        <a:pt x="1" y="114"/>
                      </a:lnTo>
                      <a:lnTo>
                        <a:pt x="1" y="107"/>
                      </a:lnTo>
                      <a:lnTo>
                        <a:pt x="1" y="102"/>
                      </a:lnTo>
                      <a:lnTo>
                        <a:pt x="1" y="95"/>
                      </a:lnTo>
                      <a:lnTo>
                        <a:pt x="1" y="88"/>
                      </a:lnTo>
                      <a:lnTo>
                        <a:pt x="1" y="81"/>
                      </a:lnTo>
                      <a:lnTo>
                        <a:pt x="1" y="74"/>
                      </a:lnTo>
                      <a:lnTo>
                        <a:pt x="0" y="67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7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3" y="15"/>
                      </a:lnTo>
                      <a:lnTo>
                        <a:pt x="4" y="11"/>
                      </a:lnTo>
                      <a:lnTo>
                        <a:pt x="6" y="8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0"/>
                <p:cNvSpPr/>
                <p:nvPr/>
              </p:nvSpPr>
              <p:spPr>
                <a:xfrm>
                  <a:off x="2984400" y="1932120"/>
                  <a:ext cx="13680" cy="17280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40" h="470">
                      <a:moveTo>
                        <a:pt x="11" y="0"/>
                      </a:moveTo>
                      <a:lnTo>
                        <a:pt x="14" y="3"/>
                      </a:lnTo>
                      <a:lnTo>
                        <a:pt x="17" y="7"/>
                      </a:lnTo>
                      <a:lnTo>
                        <a:pt x="18" y="11"/>
                      </a:lnTo>
                      <a:lnTo>
                        <a:pt x="21" y="17"/>
                      </a:lnTo>
                      <a:lnTo>
                        <a:pt x="23" y="21"/>
                      </a:lnTo>
                      <a:lnTo>
                        <a:pt x="24" y="26"/>
                      </a:lnTo>
                      <a:lnTo>
                        <a:pt x="26" y="30"/>
                      </a:lnTo>
                      <a:lnTo>
                        <a:pt x="27" y="37"/>
                      </a:lnTo>
                      <a:lnTo>
                        <a:pt x="27" y="41"/>
                      </a:lnTo>
                      <a:lnTo>
                        <a:pt x="29" y="47"/>
                      </a:lnTo>
                      <a:lnTo>
                        <a:pt x="29" y="52"/>
                      </a:lnTo>
                      <a:lnTo>
                        <a:pt x="29" y="58"/>
                      </a:lnTo>
                      <a:lnTo>
                        <a:pt x="29" y="63"/>
                      </a:lnTo>
                      <a:lnTo>
                        <a:pt x="29" y="70"/>
                      </a:lnTo>
                      <a:lnTo>
                        <a:pt x="29" y="76"/>
                      </a:lnTo>
                      <a:lnTo>
                        <a:pt x="29" y="81"/>
                      </a:lnTo>
                      <a:lnTo>
                        <a:pt x="29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4"/>
                      </a:lnTo>
                      <a:lnTo>
                        <a:pt x="27" y="110"/>
                      </a:lnTo>
                      <a:lnTo>
                        <a:pt x="27" y="115"/>
                      </a:lnTo>
                      <a:lnTo>
                        <a:pt x="27" y="121"/>
                      </a:lnTo>
                      <a:lnTo>
                        <a:pt x="27" y="128"/>
                      </a:lnTo>
                      <a:lnTo>
                        <a:pt x="27" y="133"/>
                      </a:lnTo>
                      <a:lnTo>
                        <a:pt x="27" y="139"/>
                      </a:lnTo>
                      <a:lnTo>
                        <a:pt x="27" y="144"/>
                      </a:lnTo>
                      <a:lnTo>
                        <a:pt x="27" y="150"/>
                      </a:lnTo>
                      <a:lnTo>
                        <a:pt x="27" y="155"/>
                      </a:lnTo>
                      <a:lnTo>
                        <a:pt x="29" y="161"/>
                      </a:lnTo>
                      <a:lnTo>
                        <a:pt x="31" y="166"/>
                      </a:lnTo>
                      <a:lnTo>
                        <a:pt x="32" y="172"/>
                      </a:lnTo>
                      <a:lnTo>
                        <a:pt x="32" y="176"/>
                      </a:lnTo>
                      <a:lnTo>
                        <a:pt x="32" y="180"/>
                      </a:lnTo>
                      <a:lnTo>
                        <a:pt x="32" y="185"/>
                      </a:lnTo>
                      <a:lnTo>
                        <a:pt x="34" y="189"/>
                      </a:lnTo>
                      <a:lnTo>
                        <a:pt x="34" y="195"/>
                      </a:lnTo>
                      <a:lnTo>
                        <a:pt x="34" y="199"/>
                      </a:lnTo>
                      <a:lnTo>
                        <a:pt x="34" y="203"/>
                      </a:lnTo>
                      <a:lnTo>
                        <a:pt x="34" y="209"/>
                      </a:lnTo>
                      <a:lnTo>
                        <a:pt x="34" y="213"/>
                      </a:lnTo>
                      <a:lnTo>
                        <a:pt x="34" y="217"/>
                      </a:lnTo>
                      <a:lnTo>
                        <a:pt x="34" y="222"/>
                      </a:lnTo>
                      <a:lnTo>
                        <a:pt x="35" y="227"/>
                      </a:lnTo>
                      <a:lnTo>
                        <a:pt x="35" y="232"/>
                      </a:lnTo>
                      <a:lnTo>
                        <a:pt x="35" y="236"/>
                      </a:lnTo>
                      <a:lnTo>
                        <a:pt x="35" y="240"/>
                      </a:lnTo>
                      <a:lnTo>
                        <a:pt x="37" y="246"/>
                      </a:lnTo>
                      <a:lnTo>
                        <a:pt x="37" y="250"/>
                      </a:lnTo>
                      <a:lnTo>
                        <a:pt x="37" y="254"/>
                      </a:lnTo>
                      <a:lnTo>
                        <a:pt x="37" y="259"/>
                      </a:lnTo>
                      <a:lnTo>
                        <a:pt x="37" y="264"/>
                      </a:lnTo>
                      <a:lnTo>
                        <a:pt x="37" y="269"/>
                      </a:lnTo>
                      <a:lnTo>
                        <a:pt x="37" y="273"/>
                      </a:lnTo>
                      <a:lnTo>
                        <a:pt x="37" y="277"/>
                      </a:lnTo>
                      <a:lnTo>
                        <a:pt x="37" y="283"/>
                      </a:lnTo>
                      <a:lnTo>
                        <a:pt x="37" y="287"/>
                      </a:lnTo>
                      <a:lnTo>
                        <a:pt x="37" y="291"/>
                      </a:lnTo>
                      <a:lnTo>
                        <a:pt x="37" y="297"/>
                      </a:lnTo>
                      <a:lnTo>
                        <a:pt x="38" y="301"/>
                      </a:lnTo>
                      <a:lnTo>
                        <a:pt x="38" y="306"/>
                      </a:lnTo>
                      <a:lnTo>
                        <a:pt x="38" y="310"/>
                      </a:lnTo>
                      <a:lnTo>
                        <a:pt x="38" y="316"/>
                      </a:lnTo>
                      <a:lnTo>
                        <a:pt x="40" y="320"/>
                      </a:lnTo>
                      <a:lnTo>
                        <a:pt x="40" y="324"/>
                      </a:lnTo>
                      <a:lnTo>
                        <a:pt x="40" y="329"/>
                      </a:lnTo>
                      <a:lnTo>
                        <a:pt x="40" y="334"/>
                      </a:lnTo>
                      <a:lnTo>
                        <a:pt x="40" y="339"/>
                      </a:lnTo>
                      <a:lnTo>
                        <a:pt x="40" y="343"/>
                      </a:lnTo>
                      <a:lnTo>
                        <a:pt x="40" y="347"/>
                      </a:lnTo>
                      <a:lnTo>
                        <a:pt x="40" y="353"/>
                      </a:lnTo>
                      <a:lnTo>
                        <a:pt x="40" y="357"/>
                      </a:lnTo>
                      <a:lnTo>
                        <a:pt x="40" y="362"/>
                      </a:lnTo>
                      <a:lnTo>
                        <a:pt x="40" y="367"/>
                      </a:lnTo>
                      <a:lnTo>
                        <a:pt x="40" y="371"/>
                      </a:lnTo>
                      <a:lnTo>
                        <a:pt x="40" y="376"/>
                      </a:lnTo>
                      <a:lnTo>
                        <a:pt x="40" y="380"/>
                      </a:lnTo>
                      <a:lnTo>
                        <a:pt x="40" y="386"/>
                      </a:lnTo>
                      <a:lnTo>
                        <a:pt x="40" y="390"/>
                      </a:lnTo>
                      <a:lnTo>
                        <a:pt x="40" y="395"/>
                      </a:lnTo>
                      <a:lnTo>
                        <a:pt x="38" y="399"/>
                      </a:lnTo>
                      <a:lnTo>
                        <a:pt x="38" y="404"/>
                      </a:lnTo>
                      <a:lnTo>
                        <a:pt x="38" y="408"/>
                      </a:lnTo>
                      <a:lnTo>
                        <a:pt x="38" y="413"/>
                      </a:lnTo>
                      <a:lnTo>
                        <a:pt x="37" y="417"/>
                      </a:lnTo>
                      <a:lnTo>
                        <a:pt x="37" y="423"/>
                      </a:lnTo>
                      <a:lnTo>
                        <a:pt x="37" y="427"/>
                      </a:lnTo>
                      <a:lnTo>
                        <a:pt x="37" y="432"/>
                      </a:lnTo>
                      <a:lnTo>
                        <a:pt x="37" y="437"/>
                      </a:lnTo>
                      <a:lnTo>
                        <a:pt x="37" y="441"/>
                      </a:lnTo>
                      <a:lnTo>
                        <a:pt x="37" y="445"/>
                      </a:lnTo>
                      <a:lnTo>
                        <a:pt x="37" y="450"/>
                      </a:lnTo>
                      <a:lnTo>
                        <a:pt x="35" y="454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5" y="470"/>
                      </a:lnTo>
                      <a:lnTo>
                        <a:pt x="29" y="468"/>
                      </a:lnTo>
                      <a:lnTo>
                        <a:pt x="23" y="468"/>
                      </a:lnTo>
                      <a:lnTo>
                        <a:pt x="17" y="467"/>
                      </a:lnTo>
                      <a:lnTo>
                        <a:pt x="12" y="467"/>
                      </a:lnTo>
                      <a:lnTo>
                        <a:pt x="12" y="460"/>
                      </a:lnTo>
                      <a:lnTo>
                        <a:pt x="12" y="452"/>
                      </a:lnTo>
                      <a:lnTo>
                        <a:pt x="11" y="445"/>
                      </a:lnTo>
                      <a:lnTo>
                        <a:pt x="11" y="438"/>
                      </a:lnTo>
                      <a:lnTo>
                        <a:pt x="11" y="431"/>
                      </a:lnTo>
                      <a:lnTo>
                        <a:pt x="11" y="424"/>
                      </a:lnTo>
                      <a:lnTo>
                        <a:pt x="11" y="416"/>
                      </a:lnTo>
                      <a:lnTo>
                        <a:pt x="11" y="409"/>
                      </a:lnTo>
                      <a:lnTo>
                        <a:pt x="11" y="402"/>
                      </a:lnTo>
                      <a:lnTo>
                        <a:pt x="11" y="395"/>
                      </a:lnTo>
                      <a:lnTo>
                        <a:pt x="11" y="389"/>
                      </a:lnTo>
                      <a:lnTo>
                        <a:pt x="11" y="382"/>
                      </a:lnTo>
                      <a:lnTo>
                        <a:pt x="9" y="375"/>
                      </a:lnTo>
                      <a:lnTo>
                        <a:pt x="9" y="367"/>
                      </a:lnTo>
                      <a:lnTo>
                        <a:pt x="9" y="360"/>
                      </a:lnTo>
                      <a:lnTo>
                        <a:pt x="9" y="353"/>
                      </a:lnTo>
                      <a:lnTo>
                        <a:pt x="9" y="346"/>
                      </a:lnTo>
                      <a:lnTo>
                        <a:pt x="8" y="339"/>
                      </a:lnTo>
                      <a:lnTo>
                        <a:pt x="8" y="331"/>
                      </a:lnTo>
                      <a:lnTo>
                        <a:pt x="8" y="324"/>
                      </a:lnTo>
                      <a:lnTo>
                        <a:pt x="8" y="317"/>
                      </a:lnTo>
                      <a:lnTo>
                        <a:pt x="6" y="310"/>
                      </a:lnTo>
                      <a:lnTo>
                        <a:pt x="6" y="303"/>
                      </a:lnTo>
                      <a:lnTo>
                        <a:pt x="6" y="297"/>
                      </a:lnTo>
                      <a:lnTo>
                        <a:pt x="6" y="290"/>
                      </a:lnTo>
                      <a:lnTo>
                        <a:pt x="6" y="283"/>
                      </a:lnTo>
                      <a:lnTo>
                        <a:pt x="6" y="276"/>
                      </a:lnTo>
                      <a:lnTo>
                        <a:pt x="6" y="269"/>
                      </a:lnTo>
                      <a:lnTo>
                        <a:pt x="5" y="262"/>
                      </a:lnTo>
                      <a:lnTo>
                        <a:pt x="5" y="255"/>
                      </a:lnTo>
                      <a:lnTo>
                        <a:pt x="5" y="249"/>
                      </a:lnTo>
                      <a:lnTo>
                        <a:pt x="5" y="242"/>
                      </a:lnTo>
                      <a:lnTo>
                        <a:pt x="5" y="235"/>
                      </a:lnTo>
                      <a:lnTo>
                        <a:pt x="5" y="227"/>
                      </a:lnTo>
                      <a:lnTo>
                        <a:pt x="3" y="220"/>
                      </a:lnTo>
                      <a:lnTo>
                        <a:pt x="3" y="213"/>
                      </a:lnTo>
                      <a:lnTo>
                        <a:pt x="3" y="206"/>
                      </a:lnTo>
                      <a:lnTo>
                        <a:pt x="3" y="199"/>
                      </a:lnTo>
                      <a:lnTo>
                        <a:pt x="3" y="192"/>
                      </a:lnTo>
                      <a:lnTo>
                        <a:pt x="3" y="185"/>
                      </a:lnTo>
                      <a:lnTo>
                        <a:pt x="3" y="178"/>
                      </a:lnTo>
                      <a:lnTo>
                        <a:pt x="3" y="172"/>
                      </a:lnTo>
                      <a:lnTo>
                        <a:pt x="1" y="163"/>
                      </a:lnTo>
                      <a:lnTo>
                        <a:pt x="1" y="158"/>
                      </a:lnTo>
                      <a:lnTo>
                        <a:pt x="1" y="150"/>
                      </a:lnTo>
                      <a:lnTo>
                        <a:pt x="1" y="143"/>
                      </a:lnTo>
                      <a:lnTo>
                        <a:pt x="1" y="136"/>
                      </a:lnTo>
                      <a:lnTo>
                        <a:pt x="1" y="129"/>
                      </a:lnTo>
                      <a:lnTo>
                        <a:pt x="0" y="122"/>
                      </a:lnTo>
                      <a:lnTo>
                        <a:pt x="0" y="115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3"/>
                      </a:lnTo>
                      <a:lnTo>
                        <a:pt x="0" y="87"/>
                      </a:lnTo>
                      <a:lnTo>
                        <a:pt x="0" y="80"/>
                      </a:lnTo>
                      <a:lnTo>
                        <a:pt x="0" y="74"/>
                      </a:lnTo>
                      <a:lnTo>
                        <a:pt x="0" y="66"/>
                      </a:lnTo>
                      <a:lnTo>
                        <a:pt x="0" y="59"/>
                      </a:lnTo>
                      <a:lnTo>
                        <a:pt x="0" y="52"/>
                      </a:lnTo>
                      <a:lnTo>
                        <a:pt x="0" y="45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0" y="12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6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1"/>
                <p:cNvSpPr/>
                <p:nvPr/>
              </p:nvSpPr>
              <p:spPr>
                <a:xfrm>
                  <a:off x="2917440" y="2144880"/>
                  <a:ext cx="294480" cy="12240"/>
                </a:xfrm>
                <a:custGeom>
                  <a:avLst/>
                  <a:gdLst>
                    <a:gd name="textAreaLeft" fmla="*/ 0 w 294480"/>
                    <a:gd name="textAreaRight" fmla="*/ 294840 w 29448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850" h="34">
                      <a:moveTo>
                        <a:pt x="465" y="0"/>
                      </a:moveTo>
                      <a:lnTo>
                        <a:pt x="469" y="0"/>
                      </a:lnTo>
                      <a:lnTo>
                        <a:pt x="475" y="0"/>
                      </a:lnTo>
                      <a:lnTo>
                        <a:pt x="482" y="0"/>
                      </a:lnTo>
                      <a:lnTo>
                        <a:pt x="486" y="0"/>
                      </a:lnTo>
                      <a:lnTo>
                        <a:pt x="492" y="0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509" y="1"/>
                      </a:lnTo>
                      <a:lnTo>
                        <a:pt x="515" y="1"/>
                      </a:lnTo>
                      <a:lnTo>
                        <a:pt x="521" y="1"/>
                      </a:lnTo>
                      <a:lnTo>
                        <a:pt x="527" y="1"/>
                      </a:lnTo>
                      <a:lnTo>
                        <a:pt x="534" y="1"/>
                      </a:lnTo>
                      <a:lnTo>
                        <a:pt x="538" y="1"/>
                      </a:lnTo>
                      <a:lnTo>
                        <a:pt x="544" y="1"/>
                      </a:lnTo>
                      <a:lnTo>
                        <a:pt x="550" y="1"/>
                      </a:lnTo>
                      <a:lnTo>
                        <a:pt x="556" y="1"/>
                      </a:lnTo>
                      <a:lnTo>
                        <a:pt x="561" y="1"/>
                      </a:lnTo>
                      <a:lnTo>
                        <a:pt x="567" y="1"/>
                      </a:lnTo>
                      <a:lnTo>
                        <a:pt x="573" y="1"/>
                      </a:lnTo>
                      <a:lnTo>
                        <a:pt x="578" y="1"/>
                      </a:lnTo>
                      <a:lnTo>
                        <a:pt x="584" y="1"/>
                      </a:lnTo>
                      <a:lnTo>
                        <a:pt x="590" y="1"/>
                      </a:lnTo>
                      <a:lnTo>
                        <a:pt x="595" y="1"/>
                      </a:lnTo>
                      <a:lnTo>
                        <a:pt x="601" y="1"/>
                      </a:lnTo>
                      <a:lnTo>
                        <a:pt x="607" y="1"/>
                      </a:lnTo>
                      <a:lnTo>
                        <a:pt x="613" y="1"/>
                      </a:lnTo>
                      <a:lnTo>
                        <a:pt x="619" y="1"/>
                      </a:lnTo>
                      <a:lnTo>
                        <a:pt x="625" y="1"/>
                      </a:lnTo>
                      <a:lnTo>
                        <a:pt x="630" y="1"/>
                      </a:lnTo>
                      <a:lnTo>
                        <a:pt x="636" y="1"/>
                      </a:lnTo>
                      <a:lnTo>
                        <a:pt x="642" y="1"/>
                      </a:lnTo>
                      <a:lnTo>
                        <a:pt x="648" y="3"/>
                      </a:lnTo>
                      <a:lnTo>
                        <a:pt x="653" y="1"/>
                      </a:lnTo>
                      <a:lnTo>
                        <a:pt x="659" y="1"/>
                      </a:lnTo>
                      <a:lnTo>
                        <a:pt x="665" y="1"/>
                      </a:lnTo>
                      <a:lnTo>
                        <a:pt x="671" y="1"/>
                      </a:lnTo>
                      <a:lnTo>
                        <a:pt x="676" y="1"/>
                      </a:lnTo>
                      <a:lnTo>
                        <a:pt x="682" y="1"/>
                      </a:lnTo>
                      <a:lnTo>
                        <a:pt x="688" y="1"/>
                      </a:lnTo>
                      <a:lnTo>
                        <a:pt x="694" y="1"/>
                      </a:lnTo>
                      <a:lnTo>
                        <a:pt x="699" y="1"/>
                      </a:lnTo>
                      <a:lnTo>
                        <a:pt x="705" y="1"/>
                      </a:lnTo>
                      <a:lnTo>
                        <a:pt x="711" y="1"/>
                      </a:lnTo>
                      <a:lnTo>
                        <a:pt x="716" y="1"/>
                      </a:lnTo>
                      <a:lnTo>
                        <a:pt x="722" y="1"/>
                      </a:lnTo>
                      <a:lnTo>
                        <a:pt x="728" y="1"/>
                      </a:lnTo>
                      <a:lnTo>
                        <a:pt x="732" y="1"/>
                      </a:lnTo>
                      <a:lnTo>
                        <a:pt x="740" y="1"/>
                      </a:lnTo>
                      <a:lnTo>
                        <a:pt x="745" y="0"/>
                      </a:lnTo>
                      <a:lnTo>
                        <a:pt x="751" y="0"/>
                      </a:lnTo>
                      <a:lnTo>
                        <a:pt x="757" y="0"/>
                      </a:lnTo>
                      <a:lnTo>
                        <a:pt x="761" y="0"/>
                      </a:lnTo>
                      <a:lnTo>
                        <a:pt x="768" y="0"/>
                      </a:lnTo>
                      <a:lnTo>
                        <a:pt x="774" y="0"/>
                      </a:lnTo>
                      <a:lnTo>
                        <a:pt x="778" y="0"/>
                      </a:lnTo>
                      <a:lnTo>
                        <a:pt x="784" y="0"/>
                      </a:lnTo>
                      <a:lnTo>
                        <a:pt x="791" y="0"/>
                      </a:lnTo>
                      <a:lnTo>
                        <a:pt x="797" y="0"/>
                      </a:lnTo>
                      <a:lnTo>
                        <a:pt x="801" y="0"/>
                      </a:lnTo>
                      <a:lnTo>
                        <a:pt x="807" y="0"/>
                      </a:lnTo>
                      <a:lnTo>
                        <a:pt x="813" y="0"/>
                      </a:lnTo>
                      <a:lnTo>
                        <a:pt x="818" y="0"/>
                      </a:lnTo>
                      <a:lnTo>
                        <a:pt x="824" y="0"/>
                      </a:lnTo>
                      <a:lnTo>
                        <a:pt x="830" y="0"/>
                      </a:lnTo>
                      <a:lnTo>
                        <a:pt x="835" y="4"/>
                      </a:lnTo>
                      <a:lnTo>
                        <a:pt x="839" y="8"/>
                      </a:lnTo>
                      <a:lnTo>
                        <a:pt x="846" y="12"/>
                      </a:lnTo>
                      <a:lnTo>
                        <a:pt x="850" y="16"/>
                      </a:lnTo>
                      <a:lnTo>
                        <a:pt x="846" y="18"/>
                      </a:lnTo>
                      <a:lnTo>
                        <a:pt x="841" y="22"/>
                      </a:lnTo>
                      <a:lnTo>
                        <a:pt x="836" y="26"/>
                      </a:lnTo>
                      <a:lnTo>
                        <a:pt x="833" y="30"/>
                      </a:lnTo>
                      <a:lnTo>
                        <a:pt x="820" y="29"/>
                      </a:lnTo>
                      <a:lnTo>
                        <a:pt x="807" y="29"/>
                      </a:lnTo>
                      <a:lnTo>
                        <a:pt x="794" y="29"/>
                      </a:lnTo>
                      <a:lnTo>
                        <a:pt x="780" y="29"/>
                      </a:lnTo>
                      <a:lnTo>
                        <a:pt x="768" y="29"/>
                      </a:lnTo>
                      <a:lnTo>
                        <a:pt x="754" y="29"/>
                      </a:lnTo>
                      <a:lnTo>
                        <a:pt x="742" y="29"/>
                      </a:lnTo>
                      <a:lnTo>
                        <a:pt x="728" y="29"/>
                      </a:lnTo>
                      <a:lnTo>
                        <a:pt x="716" y="29"/>
                      </a:lnTo>
                      <a:lnTo>
                        <a:pt x="702" y="29"/>
                      </a:lnTo>
                      <a:lnTo>
                        <a:pt x="688" y="29"/>
                      </a:lnTo>
                      <a:lnTo>
                        <a:pt x="676" y="29"/>
                      </a:lnTo>
                      <a:lnTo>
                        <a:pt x="664" y="29"/>
                      </a:lnTo>
                      <a:lnTo>
                        <a:pt x="650" y="29"/>
                      </a:lnTo>
                      <a:lnTo>
                        <a:pt x="638" y="29"/>
                      </a:lnTo>
                      <a:lnTo>
                        <a:pt x="625" y="29"/>
                      </a:lnTo>
                      <a:lnTo>
                        <a:pt x="612" y="29"/>
                      </a:lnTo>
                      <a:lnTo>
                        <a:pt x="598" y="29"/>
                      </a:lnTo>
                      <a:lnTo>
                        <a:pt x="586" y="29"/>
                      </a:lnTo>
                      <a:lnTo>
                        <a:pt x="573" y="29"/>
                      </a:lnTo>
                      <a:lnTo>
                        <a:pt x="560" y="29"/>
                      </a:lnTo>
                      <a:lnTo>
                        <a:pt x="547" y="29"/>
                      </a:lnTo>
                      <a:lnTo>
                        <a:pt x="534" y="29"/>
                      </a:lnTo>
                      <a:lnTo>
                        <a:pt x="521" y="29"/>
                      </a:lnTo>
                      <a:lnTo>
                        <a:pt x="509" y="29"/>
                      </a:lnTo>
                      <a:lnTo>
                        <a:pt x="495" y="29"/>
                      </a:lnTo>
                      <a:lnTo>
                        <a:pt x="482" y="29"/>
                      </a:lnTo>
                      <a:lnTo>
                        <a:pt x="469" y="29"/>
                      </a:lnTo>
                      <a:lnTo>
                        <a:pt x="457" y="29"/>
                      </a:lnTo>
                      <a:lnTo>
                        <a:pt x="445" y="30"/>
                      </a:lnTo>
                      <a:lnTo>
                        <a:pt x="431" y="30"/>
                      </a:lnTo>
                      <a:lnTo>
                        <a:pt x="419" y="30"/>
                      </a:lnTo>
                      <a:lnTo>
                        <a:pt x="405" y="30"/>
                      </a:lnTo>
                      <a:lnTo>
                        <a:pt x="393" y="30"/>
                      </a:lnTo>
                      <a:lnTo>
                        <a:pt x="379" y="30"/>
                      </a:lnTo>
                      <a:lnTo>
                        <a:pt x="367" y="30"/>
                      </a:lnTo>
                      <a:lnTo>
                        <a:pt x="353" y="30"/>
                      </a:lnTo>
                      <a:lnTo>
                        <a:pt x="341" y="32"/>
                      </a:lnTo>
                      <a:lnTo>
                        <a:pt x="327" y="32"/>
                      </a:lnTo>
                      <a:lnTo>
                        <a:pt x="315" y="32"/>
                      </a:lnTo>
                      <a:lnTo>
                        <a:pt x="303" y="32"/>
                      </a:lnTo>
                      <a:lnTo>
                        <a:pt x="289" y="32"/>
                      </a:lnTo>
                      <a:lnTo>
                        <a:pt x="277" y="32"/>
                      </a:lnTo>
                      <a:lnTo>
                        <a:pt x="264" y="32"/>
                      </a:lnTo>
                      <a:lnTo>
                        <a:pt x="251" y="32"/>
                      </a:lnTo>
                      <a:lnTo>
                        <a:pt x="238" y="32"/>
                      </a:lnTo>
                      <a:lnTo>
                        <a:pt x="225" y="32"/>
                      </a:lnTo>
                      <a:lnTo>
                        <a:pt x="212" y="33"/>
                      </a:lnTo>
                      <a:lnTo>
                        <a:pt x="200" y="33"/>
                      </a:lnTo>
                      <a:lnTo>
                        <a:pt x="186" y="33"/>
                      </a:lnTo>
                      <a:lnTo>
                        <a:pt x="173" y="33"/>
                      </a:lnTo>
                      <a:lnTo>
                        <a:pt x="160" y="33"/>
                      </a:lnTo>
                      <a:lnTo>
                        <a:pt x="148" y="33"/>
                      </a:lnTo>
                      <a:lnTo>
                        <a:pt x="136" y="33"/>
                      </a:lnTo>
                      <a:lnTo>
                        <a:pt x="122" y="33"/>
                      </a:lnTo>
                      <a:lnTo>
                        <a:pt x="110" y="34"/>
                      </a:lnTo>
                      <a:lnTo>
                        <a:pt x="96" y="34"/>
                      </a:lnTo>
                      <a:lnTo>
                        <a:pt x="84" y="34"/>
                      </a:lnTo>
                      <a:lnTo>
                        <a:pt x="70" y="34"/>
                      </a:lnTo>
                      <a:lnTo>
                        <a:pt x="58" y="34"/>
                      </a:lnTo>
                      <a:lnTo>
                        <a:pt x="46" y="34"/>
                      </a:lnTo>
                      <a:lnTo>
                        <a:pt x="32" y="34"/>
                      </a:lnTo>
                      <a:lnTo>
                        <a:pt x="20" y="34"/>
                      </a:lnTo>
                      <a:lnTo>
                        <a:pt x="7" y="34"/>
                      </a:lnTo>
                      <a:lnTo>
                        <a:pt x="4" y="29"/>
                      </a:lnTo>
                      <a:lnTo>
                        <a:pt x="3" y="25"/>
                      </a:lnTo>
                      <a:lnTo>
                        <a:pt x="1" y="19"/>
                      </a:lnTo>
                      <a:lnTo>
                        <a:pt x="0" y="16"/>
                      </a:lnTo>
                      <a:lnTo>
                        <a:pt x="3" y="15"/>
                      </a:lnTo>
                      <a:lnTo>
                        <a:pt x="7" y="14"/>
                      </a:lnTo>
                      <a:lnTo>
                        <a:pt x="12" y="14"/>
                      </a:lnTo>
                      <a:lnTo>
                        <a:pt x="17" y="12"/>
                      </a:lnTo>
                      <a:lnTo>
                        <a:pt x="21" y="12"/>
                      </a:lnTo>
                      <a:lnTo>
                        <a:pt x="26" y="11"/>
                      </a:lnTo>
                      <a:lnTo>
                        <a:pt x="30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49" y="10"/>
                      </a:lnTo>
                      <a:lnTo>
                        <a:pt x="53" y="10"/>
                      </a:lnTo>
                      <a:lnTo>
                        <a:pt x="58" y="8"/>
                      </a:lnTo>
                      <a:lnTo>
                        <a:pt x="62" y="8"/>
                      </a:lnTo>
                      <a:lnTo>
                        <a:pt x="67" y="8"/>
                      </a:lnTo>
                      <a:lnTo>
                        <a:pt x="72" y="8"/>
                      </a:lnTo>
                      <a:lnTo>
                        <a:pt x="76" y="7"/>
                      </a:lnTo>
                      <a:lnTo>
                        <a:pt x="81" y="7"/>
                      </a:lnTo>
                      <a:lnTo>
                        <a:pt x="85" y="7"/>
                      </a:lnTo>
                      <a:lnTo>
                        <a:pt x="90" y="7"/>
                      </a:lnTo>
                      <a:lnTo>
                        <a:pt x="95" y="7"/>
                      </a:lnTo>
                      <a:lnTo>
                        <a:pt x="99" y="7"/>
                      </a:lnTo>
                      <a:lnTo>
                        <a:pt x="104" y="7"/>
                      </a:lnTo>
                      <a:lnTo>
                        <a:pt x="108" y="7"/>
                      </a:lnTo>
                      <a:lnTo>
                        <a:pt x="113" y="7"/>
                      </a:lnTo>
                      <a:lnTo>
                        <a:pt x="117" y="7"/>
                      </a:lnTo>
                      <a:lnTo>
                        <a:pt x="122" y="7"/>
                      </a:lnTo>
                      <a:lnTo>
                        <a:pt x="128" y="7"/>
                      </a:lnTo>
                      <a:lnTo>
                        <a:pt x="131" y="7"/>
                      </a:lnTo>
                      <a:lnTo>
                        <a:pt x="137" y="7"/>
                      </a:lnTo>
                      <a:lnTo>
                        <a:pt x="142" y="7"/>
                      </a:lnTo>
                      <a:lnTo>
                        <a:pt x="147" y="7"/>
                      </a:lnTo>
                      <a:lnTo>
                        <a:pt x="150" y="7"/>
                      </a:lnTo>
                      <a:lnTo>
                        <a:pt x="156" y="7"/>
                      </a:lnTo>
                      <a:lnTo>
                        <a:pt x="160" y="7"/>
                      </a:lnTo>
                      <a:lnTo>
                        <a:pt x="165" y="7"/>
                      </a:lnTo>
                      <a:lnTo>
                        <a:pt x="169" y="7"/>
                      </a:lnTo>
                      <a:lnTo>
                        <a:pt x="174" y="7"/>
                      </a:lnTo>
                      <a:lnTo>
                        <a:pt x="179" y="7"/>
                      </a:lnTo>
                      <a:lnTo>
                        <a:pt x="183" y="7"/>
                      </a:lnTo>
                      <a:lnTo>
                        <a:pt x="188" y="7"/>
                      </a:lnTo>
                      <a:lnTo>
                        <a:pt x="192" y="7"/>
                      </a:lnTo>
                      <a:lnTo>
                        <a:pt x="197" y="7"/>
                      </a:lnTo>
                      <a:lnTo>
                        <a:pt x="202" y="7"/>
                      </a:lnTo>
                      <a:lnTo>
                        <a:pt x="206" y="7"/>
                      </a:lnTo>
                      <a:lnTo>
                        <a:pt x="211" y="7"/>
                      </a:lnTo>
                      <a:lnTo>
                        <a:pt x="215" y="7"/>
                      </a:lnTo>
                      <a:lnTo>
                        <a:pt x="221" y="7"/>
                      </a:lnTo>
                      <a:lnTo>
                        <a:pt x="225" y="7"/>
                      </a:lnTo>
                      <a:lnTo>
                        <a:pt x="231" y="7"/>
                      </a:lnTo>
                      <a:lnTo>
                        <a:pt x="235" y="7"/>
                      </a:lnTo>
                      <a:lnTo>
                        <a:pt x="240" y="7"/>
                      </a:lnTo>
                      <a:lnTo>
                        <a:pt x="244" y="7"/>
                      </a:lnTo>
                      <a:lnTo>
                        <a:pt x="249" y="7"/>
                      </a:lnTo>
                      <a:lnTo>
                        <a:pt x="254" y="7"/>
                      </a:lnTo>
                      <a:lnTo>
                        <a:pt x="260" y="7"/>
                      </a:lnTo>
                      <a:lnTo>
                        <a:pt x="263" y="5"/>
                      </a:lnTo>
                      <a:lnTo>
                        <a:pt x="269" y="5"/>
                      </a:lnTo>
                      <a:lnTo>
                        <a:pt x="273" y="5"/>
                      </a:lnTo>
                      <a:lnTo>
                        <a:pt x="278" y="5"/>
                      </a:lnTo>
                      <a:lnTo>
                        <a:pt x="283" y="4"/>
                      </a:lnTo>
                      <a:lnTo>
                        <a:pt x="287" y="4"/>
                      </a:lnTo>
                      <a:lnTo>
                        <a:pt x="292" y="4"/>
                      </a:lnTo>
                      <a:lnTo>
                        <a:pt x="296" y="4"/>
                      </a:lnTo>
                      <a:lnTo>
                        <a:pt x="303" y="4"/>
                      </a:lnTo>
                      <a:lnTo>
                        <a:pt x="307" y="4"/>
                      </a:lnTo>
                      <a:lnTo>
                        <a:pt x="312" y="4"/>
                      </a:lnTo>
                      <a:lnTo>
                        <a:pt x="318" y="4"/>
                      </a:lnTo>
                      <a:lnTo>
                        <a:pt x="322" y="4"/>
                      </a:lnTo>
                      <a:lnTo>
                        <a:pt x="327" y="4"/>
                      </a:lnTo>
                      <a:lnTo>
                        <a:pt x="333" y="4"/>
                      </a:lnTo>
                      <a:lnTo>
                        <a:pt x="339" y="4"/>
                      </a:lnTo>
                      <a:lnTo>
                        <a:pt x="344" y="4"/>
                      </a:lnTo>
                      <a:lnTo>
                        <a:pt x="348" y="4"/>
                      </a:lnTo>
                      <a:lnTo>
                        <a:pt x="355" y="4"/>
                      </a:lnTo>
                      <a:lnTo>
                        <a:pt x="359" y="4"/>
                      </a:lnTo>
                      <a:lnTo>
                        <a:pt x="365" y="4"/>
                      </a:lnTo>
                      <a:lnTo>
                        <a:pt x="370" y="4"/>
                      </a:lnTo>
                      <a:lnTo>
                        <a:pt x="376" y="4"/>
                      </a:lnTo>
                      <a:lnTo>
                        <a:pt x="382" y="4"/>
                      </a:lnTo>
                      <a:lnTo>
                        <a:pt x="387" y="4"/>
                      </a:lnTo>
                      <a:lnTo>
                        <a:pt x="391" y="4"/>
                      </a:lnTo>
                      <a:lnTo>
                        <a:pt x="396" y="4"/>
                      </a:lnTo>
                      <a:lnTo>
                        <a:pt x="402" y="4"/>
                      </a:lnTo>
                      <a:lnTo>
                        <a:pt x="407" y="4"/>
                      </a:lnTo>
                      <a:lnTo>
                        <a:pt x="413" y="4"/>
                      </a:lnTo>
                      <a:lnTo>
                        <a:pt x="417" y="4"/>
                      </a:lnTo>
                      <a:lnTo>
                        <a:pt x="423" y="4"/>
                      </a:lnTo>
                      <a:lnTo>
                        <a:pt x="428" y="3"/>
                      </a:lnTo>
                      <a:lnTo>
                        <a:pt x="433" y="3"/>
                      </a:lnTo>
                      <a:lnTo>
                        <a:pt x="437" y="1"/>
                      </a:lnTo>
                      <a:lnTo>
                        <a:pt x="443" y="1"/>
                      </a:lnTo>
                      <a:lnTo>
                        <a:pt x="448" y="1"/>
                      </a:lnTo>
                      <a:lnTo>
                        <a:pt x="454" y="0"/>
                      </a:lnTo>
                      <a:lnTo>
                        <a:pt x="459" y="0"/>
                      </a:lnTo>
                      <a:lnTo>
                        <a:pt x="4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"/>
                <p:cNvSpPr/>
                <p:nvPr/>
              </p:nvSpPr>
              <p:spPr>
                <a:xfrm>
                  <a:off x="3117600" y="2214000"/>
                  <a:ext cx="15840" cy="241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46" h="66">
                      <a:moveTo>
                        <a:pt x="12" y="0"/>
                      </a:move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3" y="6"/>
                      </a:lnTo>
                      <a:lnTo>
                        <a:pt x="27" y="11"/>
                      </a:lnTo>
                      <a:lnTo>
                        <a:pt x="30" y="13"/>
                      </a:lnTo>
                      <a:lnTo>
                        <a:pt x="34" y="19"/>
                      </a:lnTo>
                      <a:lnTo>
                        <a:pt x="35" y="22"/>
                      </a:lnTo>
                      <a:lnTo>
                        <a:pt x="38" y="27"/>
                      </a:lnTo>
                      <a:lnTo>
                        <a:pt x="41" y="31"/>
                      </a:lnTo>
                      <a:lnTo>
                        <a:pt x="43" y="35"/>
                      </a:lnTo>
                      <a:lnTo>
                        <a:pt x="44" y="41"/>
                      </a:lnTo>
                      <a:lnTo>
                        <a:pt x="46" y="46"/>
                      </a:lnTo>
                      <a:lnTo>
                        <a:pt x="46" y="50"/>
                      </a:lnTo>
                      <a:lnTo>
                        <a:pt x="46" y="56"/>
                      </a:lnTo>
                      <a:lnTo>
                        <a:pt x="46" y="60"/>
                      </a:lnTo>
                      <a:lnTo>
                        <a:pt x="44" y="66"/>
                      </a:lnTo>
                      <a:lnTo>
                        <a:pt x="41" y="64"/>
                      </a:lnTo>
                      <a:lnTo>
                        <a:pt x="38" y="63"/>
                      </a:lnTo>
                      <a:lnTo>
                        <a:pt x="35" y="63"/>
                      </a:lnTo>
                      <a:lnTo>
                        <a:pt x="32" y="63"/>
                      </a:lnTo>
                      <a:lnTo>
                        <a:pt x="29" y="61"/>
                      </a:lnTo>
                      <a:lnTo>
                        <a:pt x="26" y="61"/>
                      </a:lnTo>
                      <a:lnTo>
                        <a:pt x="23" y="61"/>
                      </a:lnTo>
                      <a:lnTo>
                        <a:pt x="20" y="60"/>
                      </a:lnTo>
                      <a:lnTo>
                        <a:pt x="17" y="57"/>
                      </a:lnTo>
                      <a:lnTo>
                        <a:pt x="15" y="53"/>
                      </a:lnTo>
                      <a:lnTo>
                        <a:pt x="12" y="49"/>
                      </a:lnTo>
                      <a:lnTo>
                        <a:pt x="11" y="46"/>
                      </a:lnTo>
                      <a:lnTo>
                        <a:pt x="8" y="42"/>
                      </a:lnTo>
                      <a:lnTo>
                        <a:pt x="6" y="38"/>
                      </a:lnTo>
                      <a:lnTo>
                        <a:pt x="3" y="34"/>
                      </a:lnTo>
                      <a:lnTo>
                        <a:pt x="3" y="31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1" y="9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3"/>
                <p:cNvSpPr/>
                <p:nvPr/>
              </p:nvSpPr>
              <p:spPr>
                <a:xfrm>
                  <a:off x="3188520" y="2214360"/>
                  <a:ext cx="18000" cy="313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2" h="86">
                      <a:moveTo>
                        <a:pt x="9" y="0"/>
                      </a:moveTo>
                      <a:lnTo>
                        <a:pt x="15" y="1"/>
                      </a:lnTo>
                      <a:lnTo>
                        <a:pt x="21" y="5"/>
                      </a:lnTo>
                      <a:lnTo>
                        <a:pt x="24" y="8"/>
                      </a:lnTo>
                      <a:lnTo>
                        <a:pt x="29" y="11"/>
                      </a:lnTo>
                      <a:lnTo>
                        <a:pt x="32" y="14"/>
                      </a:lnTo>
                      <a:lnTo>
                        <a:pt x="34" y="19"/>
                      </a:lnTo>
                      <a:lnTo>
                        <a:pt x="35" y="23"/>
                      </a:lnTo>
                      <a:lnTo>
                        <a:pt x="38" y="29"/>
                      </a:lnTo>
                      <a:lnTo>
                        <a:pt x="38" y="33"/>
                      </a:lnTo>
                      <a:lnTo>
                        <a:pt x="40" y="38"/>
                      </a:lnTo>
                      <a:lnTo>
                        <a:pt x="40" y="44"/>
                      </a:lnTo>
                      <a:lnTo>
                        <a:pt x="41" y="48"/>
                      </a:lnTo>
                      <a:lnTo>
                        <a:pt x="43" y="54"/>
                      </a:lnTo>
                      <a:lnTo>
                        <a:pt x="46" y="58"/>
                      </a:lnTo>
                      <a:lnTo>
                        <a:pt x="49" y="62"/>
                      </a:lnTo>
                      <a:lnTo>
                        <a:pt x="52" y="67"/>
                      </a:lnTo>
                      <a:lnTo>
                        <a:pt x="52" y="71"/>
                      </a:lnTo>
                      <a:lnTo>
                        <a:pt x="49" y="77"/>
                      </a:lnTo>
                      <a:lnTo>
                        <a:pt x="46" y="82"/>
                      </a:lnTo>
                      <a:lnTo>
                        <a:pt x="44" y="86"/>
                      </a:lnTo>
                      <a:lnTo>
                        <a:pt x="41" y="85"/>
                      </a:lnTo>
                      <a:lnTo>
                        <a:pt x="37" y="85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26" y="78"/>
                      </a:lnTo>
                      <a:lnTo>
                        <a:pt x="23" y="74"/>
                      </a:lnTo>
                      <a:lnTo>
                        <a:pt x="18" y="70"/>
                      </a:lnTo>
                      <a:lnTo>
                        <a:pt x="15" y="65"/>
                      </a:lnTo>
                      <a:lnTo>
                        <a:pt x="12" y="60"/>
                      </a:lnTo>
                      <a:lnTo>
                        <a:pt x="11" y="55"/>
                      </a:lnTo>
                      <a:lnTo>
                        <a:pt x="8" y="48"/>
                      </a:lnTo>
                      <a:lnTo>
                        <a:pt x="6" y="43"/>
                      </a:lnTo>
                      <a:lnTo>
                        <a:pt x="4" y="37"/>
                      </a:lnTo>
                      <a:lnTo>
                        <a:pt x="4" y="32"/>
                      </a:lnTo>
                      <a:lnTo>
                        <a:pt x="3" y="26"/>
                      </a:lnTo>
                      <a:lnTo>
                        <a:pt x="1" y="21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8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4"/>
                <p:cNvSpPr/>
                <p:nvPr/>
              </p:nvSpPr>
              <p:spPr>
                <a:xfrm>
                  <a:off x="3162960" y="2215440"/>
                  <a:ext cx="16200" cy="26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48" h="73">
                      <a:moveTo>
                        <a:pt x="10" y="0"/>
                      </a:moveTo>
                      <a:lnTo>
                        <a:pt x="14" y="1"/>
                      </a:lnTo>
                      <a:lnTo>
                        <a:pt x="19" y="5"/>
                      </a:lnTo>
                      <a:lnTo>
                        <a:pt x="23" y="8"/>
                      </a:lnTo>
                      <a:lnTo>
                        <a:pt x="26" y="11"/>
                      </a:lnTo>
                      <a:lnTo>
                        <a:pt x="29" y="15"/>
                      </a:lnTo>
                      <a:lnTo>
                        <a:pt x="33" y="19"/>
                      </a:lnTo>
                      <a:lnTo>
                        <a:pt x="34" y="23"/>
                      </a:lnTo>
                      <a:lnTo>
                        <a:pt x="37" y="29"/>
                      </a:lnTo>
                      <a:lnTo>
                        <a:pt x="39" y="33"/>
                      </a:lnTo>
                      <a:lnTo>
                        <a:pt x="40" y="38"/>
                      </a:lnTo>
                      <a:lnTo>
                        <a:pt x="42" y="42"/>
                      </a:lnTo>
                      <a:lnTo>
                        <a:pt x="43" y="48"/>
                      </a:lnTo>
                      <a:lnTo>
                        <a:pt x="45" y="53"/>
                      </a:lnTo>
                      <a:lnTo>
                        <a:pt x="45" y="57"/>
                      </a:lnTo>
                      <a:lnTo>
                        <a:pt x="46" y="63"/>
                      </a:lnTo>
                      <a:lnTo>
                        <a:pt x="48" y="68"/>
                      </a:lnTo>
                      <a:lnTo>
                        <a:pt x="43" y="68"/>
                      </a:lnTo>
                      <a:lnTo>
                        <a:pt x="37" y="70"/>
                      </a:lnTo>
                      <a:lnTo>
                        <a:pt x="31" y="71"/>
                      </a:lnTo>
                      <a:lnTo>
                        <a:pt x="25" y="73"/>
                      </a:lnTo>
                      <a:lnTo>
                        <a:pt x="22" y="68"/>
                      </a:lnTo>
                      <a:lnTo>
                        <a:pt x="19" y="64"/>
                      </a:lnTo>
                      <a:lnTo>
                        <a:pt x="14" y="59"/>
                      </a:lnTo>
                      <a:lnTo>
                        <a:pt x="13" y="55"/>
                      </a:lnTo>
                      <a:lnTo>
                        <a:pt x="10" y="51"/>
                      </a:lnTo>
                      <a:lnTo>
                        <a:pt x="7" y="45"/>
                      </a:lnTo>
                      <a:lnTo>
                        <a:pt x="5" y="41"/>
                      </a:lnTo>
                      <a:lnTo>
                        <a:pt x="3" y="37"/>
                      </a:lnTo>
                      <a:lnTo>
                        <a:pt x="2" y="31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3" y="8"/>
                      </a:lnTo>
                      <a:lnTo>
                        <a:pt x="7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5"/>
                <p:cNvSpPr/>
                <p:nvPr/>
              </p:nvSpPr>
              <p:spPr>
                <a:xfrm>
                  <a:off x="3219480" y="2218680"/>
                  <a:ext cx="19080" cy="255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5" h="70">
                      <a:moveTo>
                        <a:pt x="12" y="0"/>
                      </a:move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4" y="7"/>
                      </a:lnTo>
                      <a:lnTo>
                        <a:pt x="29" y="11"/>
                      </a:lnTo>
                      <a:lnTo>
                        <a:pt x="32" y="14"/>
                      </a:lnTo>
                      <a:lnTo>
                        <a:pt x="35" y="18"/>
                      </a:lnTo>
                      <a:lnTo>
                        <a:pt x="38" y="24"/>
                      </a:lnTo>
                      <a:lnTo>
                        <a:pt x="39" y="28"/>
                      </a:lnTo>
                      <a:lnTo>
                        <a:pt x="42" y="33"/>
                      </a:lnTo>
                      <a:lnTo>
                        <a:pt x="44" y="37"/>
                      </a:lnTo>
                      <a:lnTo>
                        <a:pt x="45" y="43"/>
                      </a:lnTo>
                      <a:lnTo>
                        <a:pt x="47" y="48"/>
                      </a:lnTo>
                      <a:lnTo>
                        <a:pt x="49" y="53"/>
                      </a:lnTo>
                      <a:lnTo>
                        <a:pt x="50" y="57"/>
                      </a:lnTo>
                      <a:lnTo>
                        <a:pt x="52" y="62"/>
                      </a:lnTo>
                      <a:lnTo>
                        <a:pt x="55" y="66"/>
                      </a:lnTo>
                      <a:lnTo>
                        <a:pt x="49" y="68"/>
                      </a:lnTo>
                      <a:lnTo>
                        <a:pt x="42" y="69"/>
                      </a:lnTo>
                      <a:lnTo>
                        <a:pt x="38" y="70"/>
                      </a:lnTo>
                      <a:lnTo>
                        <a:pt x="32" y="70"/>
                      </a:lnTo>
                      <a:lnTo>
                        <a:pt x="27" y="66"/>
                      </a:lnTo>
                      <a:lnTo>
                        <a:pt x="23" y="64"/>
                      </a:lnTo>
                      <a:lnTo>
                        <a:pt x="19" y="59"/>
                      </a:lnTo>
                      <a:lnTo>
                        <a:pt x="16" y="55"/>
                      </a:lnTo>
                      <a:lnTo>
                        <a:pt x="12" y="50"/>
                      </a:lnTo>
                      <a:lnTo>
                        <a:pt x="9" y="46"/>
                      </a:lnTo>
                      <a:lnTo>
                        <a:pt x="6" y="42"/>
                      </a:lnTo>
                      <a:lnTo>
                        <a:pt x="4" y="36"/>
                      </a:lnTo>
                      <a:lnTo>
                        <a:pt x="1" y="32"/>
                      </a:lnTo>
                      <a:lnTo>
                        <a:pt x="1" y="26"/>
                      </a:lnTo>
                      <a:lnTo>
                        <a:pt x="0" y="21"/>
                      </a:lnTo>
                      <a:lnTo>
                        <a:pt x="1" y="17"/>
                      </a:lnTo>
                      <a:lnTo>
                        <a:pt x="1" y="11"/>
                      </a:lnTo>
                      <a:lnTo>
                        <a:pt x="4" y="9"/>
                      </a:lnTo>
                      <a:lnTo>
                        <a:pt x="7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26"/>
                <p:cNvSpPr/>
                <p:nvPr/>
              </p:nvSpPr>
              <p:spPr>
                <a:xfrm>
                  <a:off x="3245400" y="2221200"/>
                  <a:ext cx="16200" cy="2700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7" h="74">
                      <a:moveTo>
                        <a:pt x="9" y="0"/>
                      </a:move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1"/>
                      </a:lnTo>
                      <a:lnTo>
                        <a:pt x="30" y="14"/>
                      </a:lnTo>
                      <a:lnTo>
                        <a:pt x="33" y="19"/>
                      </a:lnTo>
                      <a:lnTo>
                        <a:pt x="36" y="25"/>
                      </a:lnTo>
                      <a:lnTo>
                        <a:pt x="38" y="29"/>
                      </a:lnTo>
                      <a:lnTo>
                        <a:pt x="38" y="35"/>
                      </a:lnTo>
                      <a:lnTo>
                        <a:pt x="39" y="40"/>
                      </a:lnTo>
                      <a:lnTo>
                        <a:pt x="41" y="46"/>
                      </a:lnTo>
                      <a:lnTo>
                        <a:pt x="42" y="51"/>
                      </a:lnTo>
                      <a:lnTo>
                        <a:pt x="42" y="55"/>
                      </a:lnTo>
                      <a:lnTo>
                        <a:pt x="44" y="61"/>
                      </a:lnTo>
                      <a:lnTo>
                        <a:pt x="45" y="65"/>
                      </a:lnTo>
                      <a:lnTo>
                        <a:pt x="47" y="70"/>
                      </a:lnTo>
                      <a:lnTo>
                        <a:pt x="41" y="70"/>
                      </a:lnTo>
                      <a:lnTo>
                        <a:pt x="35" y="72"/>
                      </a:lnTo>
                      <a:lnTo>
                        <a:pt x="29" y="73"/>
                      </a:lnTo>
                      <a:lnTo>
                        <a:pt x="26" y="74"/>
                      </a:lnTo>
                      <a:lnTo>
                        <a:pt x="21" y="70"/>
                      </a:lnTo>
                      <a:lnTo>
                        <a:pt x="18" y="66"/>
                      </a:lnTo>
                      <a:lnTo>
                        <a:pt x="15" y="61"/>
                      </a:lnTo>
                      <a:lnTo>
                        <a:pt x="12" y="57"/>
                      </a:lnTo>
                      <a:lnTo>
                        <a:pt x="9" y="51"/>
                      </a:lnTo>
                      <a:lnTo>
                        <a:pt x="7" y="47"/>
                      </a:lnTo>
                      <a:lnTo>
                        <a:pt x="4" y="41"/>
                      </a:lnTo>
                      <a:lnTo>
                        <a:pt x="4" y="37"/>
                      </a:lnTo>
                      <a:lnTo>
                        <a:pt x="1" y="32"/>
                      </a:lnTo>
                      <a:lnTo>
                        <a:pt x="1" y="26"/>
                      </a:lnTo>
                      <a:lnTo>
                        <a:pt x="0" y="22"/>
                      </a:lnTo>
                      <a:lnTo>
                        <a:pt x="1" y="17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27"/>
                <p:cNvSpPr/>
                <p:nvPr/>
              </p:nvSpPr>
              <p:spPr>
                <a:xfrm>
                  <a:off x="2929680" y="2011680"/>
                  <a:ext cx="17640" cy="19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52" h="53">
                      <a:moveTo>
                        <a:pt x="38" y="0"/>
                      </a:moveTo>
                      <a:lnTo>
                        <a:pt x="41" y="0"/>
                      </a:lnTo>
                      <a:lnTo>
                        <a:pt x="44" y="1"/>
                      </a:lnTo>
                      <a:lnTo>
                        <a:pt x="46" y="2"/>
                      </a:lnTo>
                      <a:lnTo>
                        <a:pt x="49" y="4"/>
                      </a:lnTo>
                      <a:lnTo>
                        <a:pt x="50" y="8"/>
                      </a:lnTo>
                      <a:lnTo>
                        <a:pt x="52" y="13"/>
                      </a:lnTo>
                      <a:lnTo>
                        <a:pt x="50" y="19"/>
                      </a:lnTo>
                      <a:lnTo>
                        <a:pt x="49" y="24"/>
                      </a:lnTo>
                      <a:lnTo>
                        <a:pt x="46" y="30"/>
                      </a:lnTo>
                      <a:lnTo>
                        <a:pt x="43" y="37"/>
                      </a:lnTo>
                      <a:lnTo>
                        <a:pt x="38" y="41"/>
                      </a:lnTo>
                      <a:lnTo>
                        <a:pt x="32" y="46"/>
                      </a:lnTo>
                      <a:lnTo>
                        <a:pt x="27" y="49"/>
                      </a:lnTo>
                      <a:lnTo>
                        <a:pt x="21" y="53"/>
                      </a:lnTo>
                      <a:lnTo>
                        <a:pt x="15" y="53"/>
                      </a:lnTo>
                      <a:lnTo>
                        <a:pt x="9" y="53"/>
                      </a:lnTo>
                      <a:lnTo>
                        <a:pt x="4" y="50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1" y="35"/>
                      </a:lnTo>
                      <a:lnTo>
                        <a:pt x="3" y="33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9" y="23"/>
                      </a:lnTo>
                      <a:lnTo>
                        <a:pt x="12" y="19"/>
                      </a:lnTo>
                      <a:lnTo>
                        <a:pt x="14" y="16"/>
                      </a:lnTo>
                      <a:lnTo>
                        <a:pt x="17" y="12"/>
                      </a:lnTo>
                      <a:lnTo>
                        <a:pt x="20" y="9"/>
                      </a:lnTo>
                      <a:lnTo>
                        <a:pt x="24" y="8"/>
                      </a:lnTo>
                      <a:lnTo>
                        <a:pt x="27" y="5"/>
                      </a:lnTo>
                      <a:lnTo>
                        <a:pt x="30" y="2"/>
                      </a:lnTo>
                      <a:lnTo>
                        <a:pt x="34" y="1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28"/>
                <p:cNvSpPr/>
                <p:nvPr/>
              </p:nvSpPr>
              <p:spPr>
                <a:xfrm>
                  <a:off x="2929680" y="2029680"/>
                  <a:ext cx="21600" cy="30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63" h="84">
                      <a:moveTo>
                        <a:pt x="47" y="0"/>
                      </a:moveTo>
                      <a:lnTo>
                        <a:pt x="50" y="1"/>
                      </a:lnTo>
                      <a:lnTo>
                        <a:pt x="53" y="4"/>
                      </a:lnTo>
                      <a:lnTo>
                        <a:pt x="55" y="5"/>
                      </a:lnTo>
                      <a:lnTo>
                        <a:pt x="58" y="8"/>
                      </a:lnTo>
                      <a:lnTo>
                        <a:pt x="61" y="14"/>
                      </a:lnTo>
                      <a:lnTo>
                        <a:pt x="63" y="18"/>
                      </a:lnTo>
                      <a:lnTo>
                        <a:pt x="63" y="23"/>
                      </a:lnTo>
                      <a:lnTo>
                        <a:pt x="61" y="29"/>
                      </a:lnTo>
                      <a:lnTo>
                        <a:pt x="60" y="34"/>
                      </a:lnTo>
                      <a:lnTo>
                        <a:pt x="56" y="41"/>
                      </a:lnTo>
                      <a:lnTo>
                        <a:pt x="52" y="47"/>
                      </a:lnTo>
                      <a:lnTo>
                        <a:pt x="49" y="52"/>
                      </a:lnTo>
                      <a:lnTo>
                        <a:pt x="44" y="58"/>
                      </a:lnTo>
                      <a:lnTo>
                        <a:pt x="40" y="63"/>
                      </a:lnTo>
                      <a:lnTo>
                        <a:pt x="35" y="69"/>
                      </a:lnTo>
                      <a:lnTo>
                        <a:pt x="32" y="74"/>
                      </a:lnTo>
                      <a:lnTo>
                        <a:pt x="27" y="78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1"/>
                      </a:lnTo>
                      <a:lnTo>
                        <a:pt x="9" y="80"/>
                      </a:lnTo>
                      <a:lnTo>
                        <a:pt x="6" y="80"/>
                      </a:lnTo>
                      <a:lnTo>
                        <a:pt x="3" y="80"/>
                      </a:lnTo>
                      <a:lnTo>
                        <a:pt x="0" y="80"/>
                      </a:lnTo>
                      <a:lnTo>
                        <a:pt x="1" y="74"/>
                      </a:lnTo>
                      <a:lnTo>
                        <a:pt x="4" y="69"/>
                      </a:lnTo>
                      <a:lnTo>
                        <a:pt x="6" y="63"/>
                      </a:lnTo>
                      <a:lnTo>
                        <a:pt x="9" y="58"/>
                      </a:lnTo>
                      <a:lnTo>
                        <a:pt x="12" y="52"/>
                      </a:lnTo>
                      <a:lnTo>
                        <a:pt x="15" y="47"/>
                      </a:lnTo>
                      <a:lnTo>
                        <a:pt x="17" y="43"/>
                      </a:lnTo>
                      <a:lnTo>
                        <a:pt x="21" y="38"/>
                      </a:lnTo>
                      <a:lnTo>
                        <a:pt x="23" y="33"/>
                      </a:lnTo>
                      <a:lnTo>
                        <a:pt x="26" y="27"/>
                      </a:lnTo>
                      <a:lnTo>
                        <a:pt x="29" y="23"/>
                      </a:lnTo>
                      <a:lnTo>
                        <a:pt x="34" y="19"/>
                      </a:lnTo>
                      <a:lnTo>
                        <a:pt x="37" y="14"/>
                      </a:lnTo>
                      <a:lnTo>
                        <a:pt x="40" y="10"/>
                      </a:lnTo>
                      <a:lnTo>
                        <a:pt x="44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29"/>
                <p:cNvSpPr/>
                <p:nvPr/>
              </p:nvSpPr>
              <p:spPr>
                <a:xfrm>
                  <a:off x="2929680" y="2060640"/>
                  <a:ext cx="24480" cy="3780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72" h="103">
                      <a:moveTo>
                        <a:pt x="55" y="0"/>
                      </a:moveTo>
                      <a:lnTo>
                        <a:pt x="58" y="1"/>
                      </a:lnTo>
                      <a:lnTo>
                        <a:pt x="63" y="4"/>
                      </a:lnTo>
                      <a:lnTo>
                        <a:pt x="64" y="7"/>
                      </a:lnTo>
                      <a:lnTo>
                        <a:pt x="67" y="8"/>
                      </a:lnTo>
                      <a:lnTo>
                        <a:pt x="69" y="13"/>
                      </a:lnTo>
                      <a:lnTo>
                        <a:pt x="72" y="19"/>
                      </a:lnTo>
                      <a:lnTo>
                        <a:pt x="70" y="24"/>
                      </a:lnTo>
                      <a:lnTo>
                        <a:pt x="69" y="30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6"/>
                      </a:lnTo>
                      <a:lnTo>
                        <a:pt x="55" y="53"/>
                      </a:lnTo>
                      <a:lnTo>
                        <a:pt x="50" y="57"/>
                      </a:lnTo>
                      <a:lnTo>
                        <a:pt x="46" y="64"/>
                      </a:lnTo>
                      <a:lnTo>
                        <a:pt x="43" y="70"/>
                      </a:lnTo>
                      <a:lnTo>
                        <a:pt x="40" y="75"/>
                      </a:lnTo>
                      <a:lnTo>
                        <a:pt x="38" y="81"/>
                      </a:lnTo>
                      <a:lnTo>
                        <a:pt x="38" y="86"/>
                      </a:lnTo>
                      <a:lnTo>
                        <a:pt x="32" y="90"/>
                      </a:lnTo>
                      <a:lnTo>
                        <a:pt x="27" y="94"/>
                      </a:lnTo>
                      <a:lnTo>
                        <a:pt x="21" y="99"/>
                      </a:lnTo>
                      <a:lnTo>
                        <a:pt x="17" y="103"/>
                      </a:lnTo>
                      <a:lnTo>
                        <a:pt x="12" y="100"/>
                      </a:lnTo>
                      <a:lnTo>
                        <a:pt x="9" y="97"/>
                      </a:lnTo>
                      <a:lnTo>
                        <a:pt x="4" y="93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1" y="83"/>
                      </a:lnTo>
                      <a:lnTo>
                        <a:pt x="1" y="81"/>
                      </a:lnTo>
                      <a:lnTo>
                        <a:pt x="3" y="78"/>
                      </a:lnTo>
                      <a:lnTo>
                        <a:pt x="6" y="71"/>
                      </a:lnTo>
                      <a:lnTo>
                        <a:pt x="9" y="66"/>
                      </a:lnTo>
                      <a:lnTo>
                        <a:pt x="12" y="60"/>
                      </a:lnTo>
                      <a:lnTo>
                        <a:pt x="17" y="55"/>
                      </a:lnTo>
                      <a:lnTo>
                        <a:pt x="20" y="49"/>
                      </a:lnTo>
                      <a:lnTo>
                        <a:pt x="24" y="44"/>
                      </a:lnTo>
                      <a:lnTo>
                        <a:pt x="29" y="38"/>
                      </a:lnTo>
                      <a:lnTo>
                        <a:pt x="32" y="31"/>
                      </a:lnTo>
                      <a:lnTo>
                        <a:pt x="35" y="26"/>
                      </a:lnTo>
                      <a:lnTo>
                        <a:pt x="40" y="22"/>
                      </a:lnTo>
                      <a:lnTo>
                        <a:pt x="44" y="16"/>
                      </a:lnTo>
                      <a:lnTo>
                        <a:pt x="47" y="11"/>
                      </a:lnTo>
                      <a:lnTo>
                        <a:pt x="52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30"/>
                <p:cNvSpPr/>
                <p:nvPr/>
              </p:nvSpPr>
              <p:spPr>
                <a:xfrm>
                  <a:off x="3041280" y="1956960"/>
                  <a:ext cx="21600" cy="144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2" h="39">
                      <a:moveTo>
                        <a:pt x="12" y="0"/>
                      </a:move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4" y="2"/>
                      </a:lnTo>
                      <a:lnTo>
                        <a:pt x="29" y="3"/>
                      </a:lnTo>
                      <a:lnTo>
                        <a:pt x="35" y="6"/>
                      </a:lnTo>
                      <a:lnTo>
                        <a:pt x="41" y="9"/>
                      </a:lnTo>
                      <a:lnTo>
                        <a:pt x="46" y="10"/>
                      </a:lnTo>
                      <a:lnTo>
                        <a:pt x="52" y="14"/>
                      </a:lnTo>
                      <a:lnTo>
                        <a:pt x="55" y="15"/>
                      </a:lnTo>
                      <a:lnTo>
                        <a:pt x="59" y="20"/>
                      </a:lnTo>
                      <a:lnTo>
                        <a:pt x="61" y="22"/>
                      </a:lnTo>
                      <a:lnTo>
                        <a:pt x="62" y="26"/>
                      </a:lnTo>
                      <a:lnTo>
                        <a:pt x="61" y="29"/>
                      </a:lnTo>
                      <a:lnTo>
                        <a:pt x="59" y="32"/>
                      </a:lnTo>
                      <a:lnTo>
                        <a:pt x="56" y="35"/>
                      </a:lnTo>
                      <a:lnTo>
                        <a:pt x="55" y="36"/>
                      </a:lnTo>
                      <a:lnTo>
                        <a:pt x="52" y="37"/>
                      </a:lnTo>
                      <a:lnTo>
                        <a:pt x="49" y="39"/>
                      </a:lnTo>
                      <a:lnTo>
                        <a:pt x="44" y="39"/>
                      </a:lnTo>
                      <a:lnTo>
                        <a:pt x="41" y="39"/>
                      </a:lnTo>
                      <a:lnTo>
                        <a:pt x="36" y="37"/>
                      </a:lnTo>
                      <a:lnTo>
                        <a:pt x="32" y="37"/>
                      </a:lnTo>
                      <a:lnTo>
                        <a:pt x="26" y="35"/>
                      </a:lnTo>
                      <a:lnTo>
                        <a:pt x="21" y="33"/>
                      </a:lnTo>
                      <a:lnTo>
                        <a:pt x="15" y="31"/>
                      </a:lnTo>
                      <a:lnTo>
                        <a:pt x="10" y="28"/>
                      </a:lnTo>
                      <a:lnTo>
                        <a:pt x="6" y="25"/>
                      </a:lnTo>
                      <a:lnTo>
                        <a:pt x="3" y="21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31"/>
                <p:cNvSpPr/>
                <p:nvPr/>
              </p:nvSpPr>
              <p:spPr>
                <a:xfrm>
                  <a:off x="3042720" y="1976040"/>
                  <a:ext cx="21960" cy="151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4" h="42">
                      <a:moveTo>
                        <a:pt x="12" y="0"/>
                      </a:moveTo>
                      <a:lnTo>
                        <a:pt x="15" y="2"/>
                      </a:lnTo>
                      <a:lnTo>
                        <a:pt x="20" y="2"/>
                      </a:lnTo>
                      <a:lnTo>
                        <a:pt x="24" y="5"/>
                      </a:lnTo>
                      <a:lnTo>
                        <a:pt x="30" y="6"/>
                      </a:lnTo>
                      <a:lnTo>
                        <a:pt x="35" y="7"/>
                      </a:lnTo>
                      <a:lnTo>
                        <a:pt x="41" y="10"/>
                      </a:lnTo>
                      <a:lnTo>
                        <a:pt x="47" y="11"/>
                      </a:lnTo>
                      <a:lnTo>
                        <a:pt x="52" y="16"/>
                      </a:lnTo>
                      <a:lnTo>
                        <a:pt x="56" y="17"/>
                      </a:lnTo>
                      <a:lnTo>
                        <a:pt x="59" y="20"/>
                      </a:lnTo>
                      <a:lnTo>
                        <a:pt x="62" y="24"/>
                      </a:lnTo>
                      <a:lnTo>
                        <a:pt x="64" y="27"/>
                      </a:lnTo>
                      <a:lnTo>
                        <a:pt x="62" y="31"/>
                      </a:lnTo>
                      <a:lnTo>
                        <a:pt x="61" y="33"/>
                      </a:lnTo>
                      <a:lnTo>
                        <a:pt x="58" y="35"/>
                      </a:lnTo>
                      <a:lnTo>
                        <a:pt x="56" y="38"/>
                      </a:lnTo>
                      <a:lnTo>
                        <a:pt x="53" y="39"/>
                      </a:lnTo>
                      <a:lnTo>
                        <a:pt x="50" y="42"/>
                      </a:lnTo>
                      <a:lnTo>
                        <a:pt x="46" y="42"/>
                      </a:lnTo>
                      <a:lnTo>
                        <a:pt x="41" y="42"/>
                      </a:lnTo>
                      <a:lnTo>
                        <a:pt x="35" y="40"/>
                      </a:lnTo>
                      <a:lnTo>
                        <a:pt x="30" y="39"/>
                      </a:lnTo>
                      <a:lnTo>
                        <a:pt x="26" y="36"/>
                      </a:lnTo>
                      <a:lnTo>
                        <a:pt x="20" y="35"/>
                      </a:lnTo>
                      <a:lnTo>
                        <a:pt x="15" y="32"/>
                      </a:lnTo>
                      <a:lnTo>
                        <a:pt x="10" y="29"/>
                      </a:lnTo>
                      <a:lnTo>
                        <a:pt x="4" y="25"/>
                      </a:lnTo>
                      <a:lnTo>
                        <a:pt x="1" y="21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32"/>
                <p:cNvSpPr/>
                <p:nvPr/>
              </p:nvSpPr>
              <p:spPr>
                <a:xfrm>
                  <a:off x="3040560" y="1999080"/>
                  <a:ext cx="23040" cy="144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7" h="39">
                      <a:moveTo>
                        <a:pt x="12" y="0"/>
                      </a:moveTo>
                      <a:lnTo>
                        <a:pt x="14" y="0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31" y="3"/>
                      </a:lnTo>
                      <a:lnTo>
                        <a:pt x="35" y="4"/>
                      </a:lnTo>
                      <a:lnTo>
                        <a:pt x="41" y="7"/>
                      </a:lnTo>
                      <a:lnTo>
                        <a:pt x="48" y="8"/>
                      </a:lnTo>
                      <a:lnTo>
                        <a:pt x="54" y="11"/>
                      </a:lnTo>
                      <a:lnTo>
                        <a:pt x="58" y="14"/>
                      </a:lnTo>
                      <a:lnTo>
                        <a:pt x="63" y="17"/>
                      </a:lnTo>
                      <a:lnTo>
                        <a:pt x="66" y="19"/>
                      </a:lnTo>
                      <a:lnTo>
                        <a:pt x="67" y="22"/>
                      </a:lnTo>
                      <a:lnTo>
                        <a:pt x="67" y="26"/>
                      </a:lnTo>
                      <a:lnTo>
                        <a:pt x="66" y="30"/>
                      </a:lnTo>
                      <a:lnTo>
                        <a:pt x="63" y="32"/>
                      </a:lnTo>
                      <a:lnTo>
                        <a:pt x="61" y="35"/>
                      </a:lnTo>
                      <a:lnTo>
                        <a:pt x="58" y="36"/>
                      </a:lnTo>
                      <a:lnTo>
                        <a:pt x="55" y="39"/>
                      </a:lnTo>
                      <a:lnTo>
                        <a:pt x="51" y="39"/>
                      </a:lnTo>
                      <a:lnTo>
                        <a:pt x="46" y="37"/>
                      </a:lnTo>
                      <a:lnTo>
                        <a:pt x="40" y="36"/>
                      </a:lnTo>
                      <a:lnTo>
                        <a:pt x="34" y="35"/>
                      </a:lnTo>
                      <a:lnTo>
                        <a:pt x="28" y="33"/>
                      </a:lnTo>
                      <a:lnTo>
                        <a:pt x="23" y="32"/>
                      </a:lnTo>
                      <a:lnTo>
                        <a:pt x="17" y="29"/>
                      </a:lnTo>
                      <a:lnTo>
                        <a:pt x="12" y="28"/>
                      </a:lnTo>
                      <a:lnTo>
                        <a:pt x="8" y="24"/>
                      </a:lnTo>
                      <a:lnTo>
                        <a:pt x="5" y="21"/>
                      </a:lnTo>
                      <a:lnTo>
                        <a:pt x="2" y="18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6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3"/>
                <p:cNvSpPr/>
                <p:nvPr/>
              </p:nvSpPr>
              <p:spPr>
                <a:xfrm>
                  <a:off x="3047040" y="2017080"/>
                  <a:ext cx="19080" cy="162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6" h="45">
                      <a:moveTo>
                        <a:pt x="14" y="0"/>
                      </a:moveTo>
                      <a:lnTo>
                        <a:pt x="17" y="1"/>
                      </a:lnTo>
                      <a:lnTo>
                        <a:pt x="20" y="2"/>
                      </a:lnTo>
                      <a:lnTo>
                        <a:pt x="25" y="4"/>
                      </a:lnTo>
                      <a:lnTo>
                        <a:pt x="30" y="7"/>
                      </a:lnTo>
                      <a:lnTo>
                        <a:pt x="34" y="8"/>
                      </a:lnTo>
                      <a:lnTo>
                        <a:pt x="39" y="12"/>
                      </a:lnTo>
                      <a:lnTo>
                        <a:pt x="43" y="15"/>
                      </a:lnTo>
                      <a:lnTo>
                        <a:pt x="48" y="19"/>
                      </a:lnTo>
                      <a:lnTo>
                        <a:pt x="51" y="22"/>
                      </a:lnTo>
                      <a:lnTo>
                        <a:pt x="52" y="2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54" y="35"/>
                      </a:lnTo>
                      <a:lnTo>
                        <a:pt x="52" y="38"/>
                      </a:lnTo>
                      <a:lnTo>
                        <a:pt x="49" y="41"/>
                      </a:lnTo>
                      <a:lnTo>
                        <a:pt x="48" y="42"/>
                      </a:lnTo>
                      <a:lnTo>
                        <a:pt x="45" y="44"/>
                      </a:lnTo>
                      <a:lnTo>
                        <a:pt x="42" y="45"/>
                      </a:lnTo>
                      <a:lnTo>
                        <a:pt x="37" y="44"/>
                      </a:lnTo>
                      <a:lnTo>
                        <a:pt x="33" y="44"/>
                      </a:lnTo>
                      <a:lnTo>
                        <a:pt x="28" y="41"/>
                      </a:lnTo>
                      <a:lnTo>
                        <a:pt x="23" y="39"/>
                      </a:lnTo>
                      <a:lnTo>
                        <a:pt x="19" y="37"/>
                      </a:lnTo>
                      <a:lnTo>
                        <a:pt x="16" y="34"/>
                      </a:lnTo>
                      <a:lnTo>
                        <a:pt x="11" y="30"/>
                      </a:lnTo>
                      <a:lnTo>
                        <a:pt x="8" y="27"/>
                      </a:lnTo>
                      <a:lnTo>
                        <a:pt x="5" y="23"/>
                      </a:lnTo>
                      <a:lnTo>
                        <a:pt x="2" y="20"/>
                      </a:lnTo>
                      <a:lnTo>
                        <a:pt x="0" y="16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5" y="7"/>
                      </a:lnTo>
                      <a:lnTo>
                        <a:pt x="8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4"/>
                <p:cNvSpPr/>
                <p:nvPr/>
              </p:nvSpPr>
              <p:spPr>
                <a:xfrm>
                  <a:off x="3134880" y="2078280"/>
                  <a:ext cx="15120" cy="35280"/>
                </a:xfrm>
                <a:custGeom>
                  <a:avLst/>
                  <a:gdLst>
                    <a:gd name="textAreaLeft" fmla="*/ 0 w 15120"/>
                    <a:gd name="textAreaRight" fmla="*/ 15480 w 1512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44" h="96">
                      <a:moveTo>
                        <a:pt x="17" y="0"/>
                      </a:move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9"/>
                      </a:lnTo>
                      <a:lnTo>
                        <a:pt x="32" y="15"/>
                      </a:lnTo>
                      <a:lnTo>
                        <a:pt x="33" y="19"/>
                      </a:lnTo>
                      <a:lnTo>
                        <a:pt x="33" y="23"/>
                      </a:lnTo>
                      <a:lnTo>
                        <a:pt x="33" y="30"/>
                      </a:lnTo>
                      <a:lnTo>
                        <a:pt x="35" y="35"/>
                      </a:lnTo>
                      <a:lnTo>
                        <a:pt x="35" y="41"/>
                      </a:lnTo>
                      <a:lnTo>
                        <a:pt x="35" y="46"/>
                      </a:lnTo>
                      <a:lnTo>
                        <a:pt x="35" y="52"/>
                      </a:lnTo>
                      <a:lnTo>
                        <a:pt x="35" y="59"/>
                      </a:lnTo>
                      <a:lnTo>
                        <a:pt x="37" y="64"/>
                      </a:lnTo>
                      <a:lnTo>
                        <a:pt x="38" y="70"/>
                      </a:lnTo>
                      <a:lnTo>
                        <a:pt x="40" y="74"/>
                      </a:lnTo>
                      <a:lnTo>
                        <a:pt x="44" y="79"/>
                      </a:lnTo>
                      <a:lnTo>
                        <a:pt x="40" y="83"/>
                      </a:lnTo>
                      <a:lnTo>
                        <a:pt x="37" y="88"/>
                      </a:lnTo>
                      <a:lnTo>
                        <a:pt x="33" y="92"/>
                      </a:lnTo>
                      <a:lnTo>
                        <a:pt x="32" y="96"/>
                      </a:lnTo>
                      <a:lnTo>
                        <a:pt x="27" y="93"/>
                      </a:lnTo>
                      <a:lnTo>
                        <a:pt x="23" y="92"/>
                      </a:lnTo>
                      <a:lnTo>
                        <a:pt x="20" y="90"/>
                      </a:lnTo>
                      <a:lnTo>
                        <a:pt x="18" y="89"/>
                      </a:lnTo>
                      <a:lnTo>
                        <a:pt x="12" y="83"/>
                      </a:lnTo>
                      <a:lnTo>
                        <a:pt x="9" y="78"/>
                      </a:lnTo>
                      <a:lnTo>
                        <a:pt x="6" y="75"/>
                      </a:lnTo>
                      <a:lnTo>
                        <a:pt x="4" y="71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1" y="62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0" y="35"/>
                      </a:lnTo>
                      <a:lnTo>
                        <a:pt x="0" y="33"/>
                      </a:lnTo>
                      <a:lnTo>
                        <a:pt x="1" y="29"/>
                      </a:lnTo>
                      <a:lnTo>
                        <a:pt x="1" y="26"/>
                      </a:lnTo>
                      <a:lnTo>
                        <a:pt x="3" y="22"/>
                      </a:lnTo>
                      <a:lnTo>
                        <a:pt x="3" y="19"/>
                      </a:lnTo>
                      <a:lnTo>
                        <a:pt x="4" y="15"/>
                      </a:lnTo>
                      <a:lnTo>
                        <a:pt x="6" y="12"/>
                      </a:lnTo>
                      <a:lnTo>
                        <a:pt x="9" y="9"/>
                      </a:lnTo>
                      <a:lnTo>
                        <a:pt x="12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5"/>
                <p:cNvSpPr/>
                <p:nvPr/>
              </p:nvSpPr>
              <p:spPr>
                <a:xfrm>
                  <a:off x="3151080" y="2079000"/>
                  <a:ext cx="10080" cy="169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29" h="46">
                      <a:moveTo>
                        <a:pt x="12" y="0"/>
                      </a:moveTo>
                      <a:lnTo>
                        <a:pt x="17" y="0"/>
                      </a:lnTo>
                      <a:lnTo>
                        <a:pt x="22" y="3"/>
                      </a:lnTo>
                      <a:lnTo>
                        <a:pt x="25" y="6"/>
                      </a:lnTo>
                      <a:lnTo>
                        <a:pt x="28" y="10"/>
                      </a:lnTo>
                      <a:lnTo>
                        <a:pt x="28" y="16"/>
                      </a:lnTo>
                      <a:lnTo>
                        <a:pt x="29" y="21"/>
                      </a:lnTo>
                      <a:lnTo>
                        <a:pt x="29" y="27"/>
                      </a:lnTo>
                      <a:lnTo>
                        <a:pt x="29" y="32"/>
                      </a:lnTo>
                      <a:lnTo>
                        <a:pt x="28" y="36"/>
                      </a:lnTo>
                      <a:lnTo>
                        <a:pt x="25" y="40"/>
                      </a:lnTo>
                      <a:lnTo>
                        <a:pt x="22" y="43"/>
                      </a:lnTo>
                      <a:lnTo>
                        <a:pt x="19" y="46"/>
                      </a:lnTo>
                      <a:lnTo>
                        <a:pt x="14" y="46"/>
                      </a:lnTo>
                      <a:lnTo>
                        <a:pt x="9" y="43"/>
                      </a:lnTo>
                      <a:lnTo>
                        <a:pt x="6" y="42"/>
                      </a:lnTo>
                      <a:lnTo>
                        <a:pt x="5" y="40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31"/>
                      </a:lnTo>
                      <a:lnTo>
                        <a:pt x="0" y="25"/>
                      </a:lnTo>
                      <a:lnTo>
                        <a:pt x="3" y="20"/>
                      </a:lnTo>
                      <a:lnTo>
                        <a:pt x="5" y="16"/>
                      </a:lnTo>
                      <a:lnTo>
                        <a:pt x="6" y="9"/>
                      </a:lnTo>
                      <a:lnTo>
                        <a:pt x="9" y="5"/>
                      </a:lnTo>
                      <a:lnTo>
                        <a:pt x="9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6"/>
                <p:cNvSpPr/>
                <p:nvPr/>
              </p:nvSpPr>
              <p:spPr>
                <a:xfrm>
                  <a:off x="2840760" y="2221200"/>
                  <a:ext cx="190800" cy="2232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551" h="61">
                      <a:moveTo>
                        <a:pt x="372" y="0"/>
                      </a:moveTo>
                      <a:lnTo>
                        <a:pt x="377" y="0"/>
                      </a:lnTo>
                      <a:lnTo>
                        <a:pt x="383" y="0"/>
                      </a:lnTo>
                      <a:lnTo>
                        <a:pt x="387" y="0"/>
                      </a:lnTo>
                      <a:lnTo>
                        <a:pt x="394" y="0"/>
                      </a:lnTo>
                      <a:lnTo>
                        <a:pt x="398" y="0"/>
                      </a:lnTo>
                      <a:lnTo>
                        <a:pt x="404" y="0"/>
                      </a:lnTo>
                      <a:lnTo>
                        <a:pt x="410" y="0"/>
                      </a:lnTo>
                      <a:lnTo>
                        <a:pt x="415" y="2"/>
                      </a:lnTo>
                      <a:lnTo>
                        <a:pt x="421" y="0"/>
                      </a:lnTo>
                      <a:lnTo>
                        <a:pt x="426" y="0"/>
                      </a:lnTo>
                      <a:lnTo>
                        <a:pt x="432" y="0"/>
                      </a:lnTo>
                      <a:lnTo>
                        <a:pt x="438" y="0"/>
                      </a:lnTo>
                      <a:lnTo>
                        <a:pt x="442" y="0"/>
                      </a:lnTo>
                      <a:lnTo>
                        <a:pt x="449" y="0"/>
                      </a:lnTo>
                      <a:lnTo>
                        <a:pt x="455" y="0"/>
                      </a:lnTo>
                      <a:lnTo>
                        <a:pt x="459" y="0"/>
                      </a:lnTo>
                      <a:lnTo>
                        <a:pt x="465" y="0"/>
                      </a:lnTo>
                      <a:lnTo>
                        <a:pt x="470" y="0"/>
                      </a:lnTo>
                      <a:lnTo>
                        <a:pt x="476" y="0"/>
                      </a:lnTo>
                      <a:lnTo>
                        <a:pt x="482" y="0"/>
                      </a:lnTo>
                      <a:lnTo>
                        <a:pt x="487" y="0"/>
                      </a:lnTo>
                      <a:lnTo>
                        <a:pt x="493" y="0"/>
                      </a:lnTo>
                      <a:lnTo>
                        <a:pt x="499" y="0"/>
                      </a:lnTo>
                      <a:lnTo>
                        <a:pt x="504" y="0"/>
                      </a:lnTo>
                      <a:lnTo>
                        <a:pt x="510" y="0"/>
                      </a:lnTo>
                      <a:lnTo>
                        <a:pt x="514" y="0"/>
                      </a:lnTo>
                      <a:lnTo>
                        <a:pt x="520" y="2"/>
                      </a:lnTo>
                      <a:lnTo>
                        <a:pt x="527" y="2"/>
                      </a:lnTo>
                      <a:lnTo>
                        <a:pt x="531" y="2"/>
                      </a:lnTo>
                      <a:lnTo>
                        <a:pt x="537" y="3"/>
                      </a:lnTo>
                      <a:lnTo>
                        <a:pt x="543" y="3"/>
                      </a:lnTo>
                      <a:lnTo>
                        <a:pt x="548" y="4"/>
                      </a:lnTo>
                      <a:lnTo>
                        <a:pt x="548" y="8"/>
                      </a:lnTo>
                      <a:lnTo>
                        <a:pt x="550" y="14"/>
                      </a:lnTo>
                      <a:lnTo>
                        <a:pt x="551" y="19"/>
                      </a:lnTo>
                      <a:lnTo>
                        <a:pt x="551" y="25"/>
                      </a:lnTo>
                      <a:lnTo>
                        <a:pt x="543" y="25"/>
                      </a:lnTo>
                      <a:lnTo>
                        <a:pt x="536" y="25"/>
                      </a:lnTo>
                      <a:lnTo>
                        <a:pt x="528" y="25"/>
                      </a:lnTo>
                      <a:lnTo>
                        <a:pt x="520" y="25"/>
                      </a:lnTo>
                      <a:lnTo>
                        <a:pt x="513" y="25"/>
                      </a:lnTo>
                      <a:lnTo>
                        <a:pt x="505" y="26"/>
                      </a:lnTo>
                      <a:lnTo>
                        <a:pt x="498" y="26"/>
                      </a:lnTo>
                      <a:lnTo>
                        <a:pt x="490" y="26"/>
                      </a:lnTo>
                      <a:lnTo>
                        <a:pt x="482" y="26"/>
                      </a:lnTo>
                      <a:lnTo>
                        <a:pt x="475" y="26"/>
                      </a:lnTo>
                      <a:lnTo>
                        <a:pt x="465" y="26"/>
                      </a:lnTo>
                      <a:lnTo>
                        <a:pt x="459" y="26"/>
                      </a:lnTo>
                      <a:lnTo>
                        <a:pt x="452" y="26"/>
                      </a:lnTo>
                      <a:lnTo>
                        <a:pt x="444" y="28"/>
                      </a:lnTo>
                      <a:lnTo>
                        <a:pt x="436" y="28"/>
                      </a:lnTo>
                      <a:lnTo>
                        <a:pt x="429" y="28"/>
                      </a:lnTo>
                      <a:lnTo>
                        <a:pt x="421" y="28"/>
                      </a:lnTo>
                      <a:lnTo>
                        <a:pt x="413" y="28"/>
                      </a:lnTo>
                      <a:lnTo>
                        <a:pt x="404" y="28"/>
                      </a:lnTo>
                      <a:lnTo>
                        <a:pt x="398" y="29"/>
                      </a:lnTo>
                      <a:lnTo>
                        <a:pt x="389" y="29"/>
                      </a:lnTo>
                      <a:lnTo>
                        <a:pt x="381" y="29"/>
                      </a:lnTo>
                      <a:lnTo>
                        <a:pt x="374" y="29"/>
                      </a:lnTo>
                      <a:lnTo>
                        <a:pt x="368" y="29"/>
                      </a:lnTo>
                      <a:lnTo>
                        <a:pt x="358" y="29"/>
                      </a:lnTo>
                      <a:lnTo>
                        <a:pt x="351" y="29"/>
                      </a:lnTo>
                      <a:lnTo>
                        <a:pt x="343" y="29"/>
                      </a:lnTo>
                      <a:lnTo>
                        <a:pt x="335" y="30"/>
                      </a:lnTo>
                      <a:lnTo>
                        <a:pt x="329" y="30"/>
                      </a:lnTo>
                      <a:lnTo>
                        <a:pt x="322" y="30"/>
                      </a:lnTo>
                      <a:lnTo>
                        <a:pt x="314" y="32"/>
                      </a:lnTo>
                      <a:lnTo>
                        <a:pt x="306" y="32"/>
                      </a:lnTo>
                      <a:lnTo>
                        <a:pt x="299" y="32"/>
                      </a:lnTo>
                      <a:lnTo>
                        <a:pt x="291" y="32"/>
                      </a:lnTo>
                      <a:lnTo>
                        <a:pt x="282" y="32"/>
                      </a:lnTo>
                      <a:lnTo>
                        <a:pt x="274" y="33"/>
                      </a:lnTo>
                      <a:lnTo>
                        <a:pt x="267" y="33"/>
                      </a:lnTo>
                      <a:lnTo>
                        <a:pt x="259" y="33"/>
                      </a:lnTo>
                      <a:lnTo>
                        <a:pt x="251" y="35"/>
                      </a:lnTo>
                      <a:lnTo>
                        <a:pt x="244" y="36"/>
                      </a:lnTo>
                      <a:lnTo>
                        <a:pt x="236" y="36"/>
                      </a:lnTo>
                      <a:lnTo>
                        <a:pt x="228" y="36"/>
                      </a:lnTo>
                      <a:lnTo>
                        <a:pt x="222" y="36"/>
                      </a:lnTo>
                      <a:lnTo>
                        <a:pt x="215" y="37"/>
                      </a:lnTo>
                      <a:lnTo>
                        <a:pt x="207" y="37"/>
                      </a:lnTo>
                      <a:lnTo>
                        <a:pt x="199" y="39"/>
                      </a:lnTo>
                      <a:lnTo>
                        <a:pt x="192" y="39"/>
                      </a:lnTo>
                      <a:lnTo>
                        <a:pt x="185" y="40"/>
                      </a:lnTo>
                      <a:lnTo>
                        <a:pt x="178" y="41"/>
                      </a:lnTo>
                      <a:lnTo>
                        <a:pt x="170" y="41"/>
                      </a:lnTo>
                      <a:lnTo>
                        <a:pt x="163" y="43"/>
                      </a:lnTo>
                      <a:lnTo>
                        <a:pt x="155" y="44"/>
                      </a:lnTo>
                      <a:lnTo>
                        <a:pt x="147" y="44"/>
                      </a:lnTo>
                      <a:lnTo>
                        <a:pt x="140" y="46"/>
                      </a:lnTo>
                      <a:lnTo>
                        <a:pt x="132" y="46"/>
                      </a:lnTo>
                      <a:lnTo>
                        <a:pt x="126" y="48"/>
                      </a:lnTo>
                      <a:lnTo>
                        <a:pt x="118" y="48"/>
                      </a:lnTo>
                      <a:lnTo>
                        <a:pt x="111" y="50"/>
                      </a:lnTo>
                      <a:lnTo>
                        <a:pt x="103" y="51"/>
                      </a:lnTo>
                      <a:lnTo>
                        <a:pt x="97" y="52"/>
                      </a:lnTo>
                      <a:lnTo>
                        <a:pt x="89" y="54"/>
                      </a:lnTo>
                      <a:lnTo>
                        <a:pt x="81" y="55"/>
                      </a:lnTo>
                      <a:lnTo>
                        <a:pt x="75" y="58"/>
                      </a:lnTo>
                      <a:lnTo>
                        <a:pt x="68" y="59"/>
                      </a:lnTo>
                      <a:lnTo>
                        <a:pt x="65" y="59"/>
                      </a:lnTo>
                      <a:lnTo>
                        <a:pt x="62" y="59"/>
                      </a:lnTo>
                      <a:lnTo>
                        <a:pt x="59" y="59"/>
                      </a:lnTo>
                      <a:lnTo>
                        <a:pt x="54" y="59"/>
                      </a:lnTo>
                      <a:lnTo>
                        <a:pt x="49" y="59"/>
                      </a:lnTo>
                      <a:lnTo>
                        <a:pt x="45" y="59"/>
                      </a:lnTo>
                      <a:lnTo>
                        <a:pt x="39" y="59"/>
                      </a:lnTo>
                      <a:lnTo>
                        <a:pt x="34" y="61"/>
                      </a:lnTo>
                      <a:lnTo>
                        <a:pt x="29" y="61"/>
                      </a:lnTo>
                      <a:lnTo>
                        <a:pt x="23" y="61"/>
                      </a:lnTo>
                      <a:lnTo>
                        <a:pt x="19" y="61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8" y="61"/>
                      </a:lnTo>
                      <a:lnTo>
                        <a:pt x="5" y="61"/>
                      </a:lnTo>
                      <a:lnTo>
                        <a:pt x="3" y="61"/>
                      </a:lnTo>
                      <a:lnTo>
                        <a:pt x="2" y="55"/>
                      </a:lnTo>
                      <a:lnTo>
                        <a:pt x="2" y="50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5" y="39"/>
                      </a:lnTo>
                      <a:lnTo>
                        <a:pt x="11" y="37"/>
                      </a:lnTo>
                      <a:lnTo>
                        <a:pt x="17" y="36"/>
                      </a:lnTo>
                      <a:lnTo>
                        <a:pt x="22" y="36"/>
                      </a:lnTo>
                      <a:lnTo>
                        <a:pt x="28" y="33"/>
                      </a:lnTo>
                      <a:lnTo>
                        <a:pt x="34" y="32"/>
                      </a:lnTo>
                      <a:lnTo>
                        <a:pt x="39" y="32"/>
                      </a:lnTo>
                      <a:lnTo>
                        <a:pt x="45" y="30"/>
                      </a:lnTo>
                      <a:lnTo>
                        <a:pt x="51" y="29"/>
                      </a:lnTo>
                      <a:lnTo>
                        <a:pt x="55" y="29"/>
                      </a:lnTo>
                      <a:lnTo>
                        <a:pt x="62" y="28"/>
                      </a:lnTo>
                      <a:lnTo>
                        <a:pt x="68" y="26"/>
                      </a:lnTo>
                      <a:lnTo>
                        <a:pt x="72" y="26"/>
                      </a:lnTo>
                      <a:lnTo>
                        <a:pt x="78" y="25"/>
                      </a:lnTo>
                      <a:lnTo>
                        <a:pt x="85" y="24"/>
                      </a:lnTo>
                      <a:lnTo>
                        <a:pt x="91" y="24"/>
                      </a:lnTo>
                      <a:lnTo>
                        <a:pt x="95" y="22"/>
                      </a:lnTo>
                      <a:lnTo>
                        <a:pt x="101" y="22"/>
                      </a:lnTo>
                      <a:lnTo>
                        <a:pt x="107" y="21"/>
                      </a:lnTo>
                      <a:lnTo>
                        <a:pt x="112" y="19"/>
                      </a:lnTo>
                      <a:lnTo>
                        <a:pt x="118" y="19"/>
                      </a:lnTo>
                      <a:lnTo>
                        <a:pt x="124" y="18"/>
                      </a:lnTo>
                      <a:lnTo>
                        <a:pt x="130" y="17"/>
                      </a:lnTo>
                      <a:lnTo>
                        <a:pt x="137" y="17"/>
                      </a:lnTo>
                      <a:lnTo>
                        <a:pt x="141" y="15"/>
                      </a:lnTo>
                      <a:lnTo>
                        <a:pt x="147" y="15"/>
                      </a:lnTo>
                      <a:lnTo>
                        <a:pt x="153" y="14"/>
                      </a:lnTo>
                      <a:lnTo>
                        <a:pt x="159" y="14"/>
                      </a:lnTo>
                      <a:lnTo>
                        <a:pt x="164" y="14"/>
                      </a:lnTo>
                      <a:lnTo>
                        <a:pt x="172" y="13"/>
                      </a:lnTo>
                      <a:lnTo>
                        <a:pt x="176" y="13"/>
                      </a:lnTo>
                      <a:lnTo>
                        <a:pt x="182" y="13"/>
                      </a:lnTo>
                      <a:lnTo>
                        <a:pt x="189" y="11"/>
                      </a:lnTo>
                      <a:lnTo>
                        <a:pt x="195" y="11"/>
                      </a:lnTo>
                      <a:lnTo>
                        <a:pt x="199" y="10"/>
                      </a:lnTo>
                      <a:lnTo>
                        <a:pt x="205" y="10"/>
                      </a:lnTo>
                      <a:lnTo>
                        <a:pt x="211" y="10"/>
                      </a:lnTo>
                      <a:lnTo>
                        <a:pt x="218" y="8"/>
                      </a:lnTo>
                      <a:lnTo>
                        <a:pt x="224" y="8"/>
                      </a:lnTo>
                      <a:lnTo>
                        <a:pt x="230" y="8"/>
                      </a:lnTo>
                      <a:lnTo>
                        <a:pt x="236" y="7"/>
                      </a:lnTo>
                      <a:lnTo>
                        <a:pt x="241" y="7"/>
                      </a:lnTo>
                      <a:lnTo>
                        <a:pt x="247" y="7"/>
                      </a:lnTo>
                      <a:lnTo>
                        <a:pt x="253" y="7"/>
                      </a:lnTo>
                      <a:lnTo>
                        <a:pt x="259" y="6"/>
                      </a:lnTo>
                      <a:lnTo>
                        <a:pt x="265" y="6"/>
                      </a:lnTo>
                      <a:lnTo>
                        <a:pt x="271" y="4"/>
                      </a:lnTo>
                      <a:lnTo>
                        <a:pt x="277" y="4"/>
                      </a:lnTo>
                      <a:lnTo>
                        <a:pt x="282" y="4"/>
                      </a:lnTo>
                      <a:lnTo>
                        <a:pt x="288" y="4"/>
                      </a:lnTo>
                      <a:lnTo>
                        <a:pt x="294" y="3"/>
                      </a:lnTo>
                      <a:lnTo>
                        <a:pt x="300" y="3"/>
                      </a:lnTo>
                      <a:lnTo>
                        <a:pt x="305" y="3"/>
                      </a:lnTo>
                      <a:lnTo>
                        <a:pt x="311" y="3"/>
                      </a:lnTo>
                      <a:lnTo>
                        <a:pt x="319" y="2"/>
                      </a:lnTo>
                      <a:lnTo>
                        <a:pt x="325" y="2"/>
                      </a:lnTo>
                      <a:lnTo>
                        <a:pt x="329" y="2"/>
                      </a:lnTo>
                      <a:lnTo>
                        <a:pt x="335" y="2"/>
                      </a:lnTo>
                      <a:lnTo>
                        <a:pt x="342" y="2"/>
                      </a:lnTo>
                      <a:lnTo>
                        <a:pt x="348" y="2"/>
                      </a:lnTo>
                      <a:lnTo>
                        <a:pt x="352" y="0"/>
                      </a:lnTo>
                      <a:lnTo>
                        <a:pt x="360" y="0"/>
                      </a:lnTo>
                      <a:lnTo>
                        <a:pt x="366" y="0"/>
                      </a:lnTo>
                      <a:lnTo>
                        <a:pt x="3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37"/>
                <p:cNvSpPr/>
                <p:nvPr/>
              </p:nvSpPr>
              <p:spPr>
                <a:xfrm>
                  <a:off x="2864520" y="1916640"/>
                  <a:ext cx="72720" cy="20268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11" h="551">
                      <a:moveTo>
                        <a:pt x="61" y="43"/>
                      </a:moveTo>
                      <a:lnTo>
                        <a:pt x="61" y="47"/>
                      </a:lnTo>
                      <a:lnTo>
                        <a:pt x="63" y="51"/>
                      </a:lnTo>
                      <a:lnTo>
                        <a:pt x="63" y="57"/>
                      </a:lnTo>
                      <a:lnTo>
                        <a:pt x="64" y="62"/>
                      </a:lnTo>
                      <a:lnTo>
                        <a:pt x="64" y="66"/>
                      </a:lnTo>
                      <a:lnTo>
                        <a:pt x="66" y="72"/>
                      </a:lnTo>
                      <a:lnTo>
                        <a:pt x="66" y="79"/>
                      </a:lnTo>
                      <a:lnTo>
                        <a:pt x="67" y="84"/>
                      </a:lnTo>
                      <a:lnTo>
                        <a:pt x="67" y="88"/>
                      </a:lnTo>
                      <a:lnTo>
                        <a:pt x="67" y="94"/>
                      </a:lnTo>
                      <a:lnTo>
                        <a:pt x="67" y="99"/>
                      </a:lnTo>
                      <a:lnTo>
                        <a:pt x="67" y="105"/>
                      </a:lnTo>
                      <a:lnTo>
                        <a:pt x="67" y="109"/>
                      </a:lnTo>
                      <a:lnTo>
                        <a:pt x="67" y="114"/>
                      </a:lnTo>
                      <a:lnTo>
                        <a:pt x="66" y="118"/>
                      </a:lnTo>
                      <a:lnTo>
                        <a:pt x="64" y="122"/>
                      </a:lnTo>
                      <a:lnTo>
                        <a:pt x="64" y="118"/>
                      </a:lnTo>
                      <a:lnTo>
                        <a:pt x="64" y="116"/>
                      </a:lnTo>
                      <a:lnTo>
                        <a:pt x="64" y="112"/>
                      </a:lnTo>
                      <a:lnTo>
                        <a:pt x="64" y="109"/>
                      </a:lnTo>
                      <a:lnTo>
                        <a:pt x="63" y="105"/>
                      </a:lnTo>
                      <a:lnTo>
                        <a:pt x="63" y="102"/>
                      </a:lnTo>
                      <a:lnTo>
                        <a:pt x="63" y="98"/>
                      </a:lnTo>
                      <a:lnTo>
                        <a:pt x="63" y="95"/>
                      </a:lnTo>
                      <a:lnTo>
                        <a:pt x="61" y="91"/>
                      </a:lnTo>
                      <a:lnTo>
                        <a:pt x="61" y="88"/>
                      </a:lnTo>
                      <a:lnTo>
                        <a:pt x="61" y="84"/>
                      </a:lnTo>
                      <a:lnTo>
                        <a:pt x="60" y="81"/>
                      </a:lnTo>
                      <a:lnTo>
                        <a:pt x="60" y="79"/>
                      </a:lnTo>
                      <a:lnTo>
                        <a:pt x="58" y="76"/>
                      </a:lnTo>
                      <a:lnTo>
                        <a:pt x="58" y="72"/>
                      </a:lnTo>
                      <a:lnTo>
                        <a:pt x="58" y="69"/>
                      </a:lnTo>
                      <a:lnTo>
                        <a:pt x="57" y="66"/>
                      </a:lnTo>
                      <a:lnTo>
                        <a:pt x="57" y="62"/>
                      </a:lnTo>
                      <a:lnTo>
                        <a:pt x="55" y="59"/>
                      </a:lnTo>
                      <a:lnTo>
                        <a:pt x="54" y="55"/>
                      </a:lnTo>
                      <a:lnTo>
                        <a:pt x="54" y="52"/>
                      </a:lnTo>
                      <a:lnTo>
                        <a:pt x="52" y="48"/>
                      </a:lnTo>
                      <a:lnTo>
                        <a:pt x="52" y="46"/>
                      </a:lnTo>
                      <a:lnTo>
                        <a:pt x="50" y="42"/>
                      </a:lnTo>
                      <a:lnTo>
                        <a:pt x="50" y="39"/>
                      </a:lnTo>
                      <a:lnTo>
                        <a:pt x="49" y="35"/>
                      </a:lnTo>
                      <a:lnTo>
                        <a:pt x="47" y="32"/>
                      </a:lnTo>
                      <a:lnTo>
                        <a:pt x="47" y="29"/>
                      </a:lnTo>
                      <a:lnTo>
                        <a:pt x="46" y="25"/>
                      </a:lnTo>
                      <a:lnTo>
                        <a:pt x="46" y="22"/>
                      </a:lnTo>
                      <a:lnTo>
                        <a:pt x="44" y="18"/>
                      </a:lnTo>
                      <a:lnTo>
                        <a:pt x="44" y="15"/>
                      </a:lnTo>
                      <a:lnTo>
                        <a:pt x="29" y="14"/>
                      </a:lnTo>
                      <a:lnTo>
                        <a:pt x="29" y="17"/>
                      </a:lnTo>
                      <a:lnTo>
                        <a:pt x="31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5" y="32"/>
                      </a:lnTo>
                      <a:lnTo>
                        <a:pt x="35" y="37"/>
                      </a:lnTo>
                      <a:lnTo>
                        <a:pt x="37" y="43"/>
                      </a:lnTo>
                      <a:lnTo>
                        <a:pt x="37" y="48"/>
                      </a:lnTo>
                      <a:lnTo>
                        <a:pt x="38" y="54"/>
                      </a:lnTo>
                      <a:lnTo>
                        <a:pt x="38" y="61"/>
                      </a:lnTo>
                      <a:lnTo>
                        <a:pt x="38" y="63"/>
                      </a:lnTo>
                      <a:lnTo>
                        <a:pt x="40" y="66"/>
                      </a:lnTo>
                      <a:lnTo>
                        <a:pt x="40" y="70"/>
                      </a:lnTo>
                      <a:lnTo>
                        <a:pt x="41" y="73"/>
                      </a:lnTo>
                      <a:lnTo>
                        <a:pt x="41" y="79"/>
                      </a:lnTo>
                      <a:lnTo>
                        <a:pt x="41" y="85"/>
                      </a:lnTo>
                      <a:lnTo>
                        <a:pt x="41" y="88"/>
                      </a:lnTo>
                      <a:lnTo>
                        <a:pt x="41" y="91"/>
                      </a:lnTo>
                      <a:lnTo>
                        <a:pt x="41" y="94"/>
                      </a:lnTo>
                      <a:lnTo>
                        <a:pt x="41" y="98"/>
                      </a:lnTo>
                      <a:lnTo>
                        <a:pt x="41" y="103"/>
                      </a:lnTo>
                      <a:lnTo>
                        <a:pt x="41" y="109"/>
                      </a:lnTo>
                      <a:lnTo>
                        <a:pt x="41" y="114"/>
                      </a:lnTo>
                      <a:lnTo>
                        <a:pt x="41" y="120"/>
                      </a:lnTo>
                      <a:lnTo>
                        <a:pt x="41" y="117"/>
                      </a:lnTo>
                      <a:lnTo>
                        <a:pt x="41" y="113"/>
                      </a:lnTo>
                      <a:lnTo>
                        <a:pt x="40" y="110"/>
                      </a:lnTo>
                      <a:lnTo>
                        <a:pt x="40" y="107"/>
                      </a:lnTo>
                      <a:lnTo>
                        <a:pt x="38" y="103"/>
                      </a:lnTo>
                      <a:lnTo>
                        <a:pt x="37" y="101"/>
                      </a:lnTo>
                      <a:lnTo>
                        <a:pt x="37" y="98"/>
                      </a:lnTo>
                      <a:lnTo>
                        <a:pt x="37" y="95"/>
                      </a:lnTo>
                      <a:lnTo>
                        <a:pt x="35" y="91"/>
                      </a:lnTo>
                      <a:lnTo>
                        <a:pt x="34" y="88"/>
                      </a:lnTo>
                      <a:lnTo>
                        <a:pt x="34" y="84"/>
                      </a:lnTo>
                      <a:lnTo>
                        <a:pt x="32" y="81"/>
                      </a:lnTo>
                      <a:lnTo>
                        <a:pt x="31" y="79"/>
                      </a:lnTo>
                      <a:lnTo>
                        <a:pt x="31" y="74"/>
                      </a:lnTo>
                      <a:lnTo>
                        <a:pt x="31" y="72"/>
                      </a:lnTo>
                      <a:lnTo>
                        <a:pt x="29" y="68"/>
                      </a:lnTo>
                      <a:lnTo>
                        <a:pt x="28" y="63"/>
                      </a:lnTo>
                      <a:lnTo>
                        <a:pt x="28" y="59"/>
                      </a:lnTo>
                      <a:lnTo>
                        <a:pt x="24" y="57"/>
                      </a:lnTo>
                      <a:lnTo>
                        <a:pt x="23" y="54"/>
                      </a:lnTo>
                      <a:lnTo>
                        <a:pt x="21" y="50"/>
                      </a:lnTo>
                      <a:lnTo>
                        <a:pt x="20" y="46"/>
                      </a:lnTo>
                      <a:lnTo>
                        <a:pt x="18" y="42"/>
                      </a:lnTo>
                      <a:lnTo>
                        <a:pt x="17" y="39"/>
                      </a:lnTo>
                      <a:lnTo>
                        <a:pt x="15" y="35"/>
                      </a:lnTo>
                      <a:lnTo>
                        <a:pt x="14" y="31"/>
                      </a:lnTo>
                      <a:lnTo>
                        <a:pt x="12" y="26"/>
                      </a:lnTo>
                      <a:lnTo>
                        <a:pt x="12" y="24"/>
                      </a:lnTo>
                      <a:lnTo>
                        <a:pt x="11" y="20"/>
                      </a:lnTo>
                      <a:lnTo>
                        <a:pt x="11" y="15"/>
                      </a:lnTo>
                      <a:lnTo>
                        <a:pt x="11" y="10"/>
                      </a:lnTo>
                      <a:lnTo>
                        <a:pt x="12" y="7"/>
                      </a:lnTo>
                      <a:lnTo>
                        <a:pt x="9" y="4"/>
                      </a:lnTo>
                      <a:lnTo>
                        <a:pt x="6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2" y="24"/>
                      </a:lnTo>
                      <a:lnTo>
                        <a:pt x="2" y="28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2" y="40"/>
                      </a:lnTo>
                      <a:lnTo>
                        <a:pt x="3" y="44"/>
                      </a:lnTo>
                      <a:lnTo>
                        <a:pt x="3" y="47"/>
                      </a:lnTo>
                      <a:lnTo>
                        <a:pt x="3" y="51"/>
                      </a:lnTo>
                      <a:lnTo>
                        <a:pt x="3" y="54"/>
                      </a:lnTo>
                      <a:lnTo>
                        <a:pt x="3" y="58"/>
                      </a:lnTo>
                      <a:lnTo>
                        <a:pt x="3" y="62"/>
                      </a:lnTo>
                      <a:lnTo>
                        <a:pt x="5" y="66"/>
                      </a:lnTo>
                      <a:lnTo>
                        <a:pt x="5" y="69"/>
                      </a:lnTo>
                      <a:lnTo>
                        <a:pt x="6" y="73"/>
                      </a:lnTo>
                      <a:lnTo>
                        <a:pt x="6" y="77"/>
                      </a:lnTo>
                      <a:lnTo>
                        <a:pt x="6" y="81"/>
                      </a:lnTo>
                      <a:lnTo>
                        <a:pt x="6" y="85"/>
                      </a:lnTo>
                      <a:lnTo>
                        <a:pt x="8" y="90"/>
                      </a:lnTo>
                      <a:lnTo>
                        <a:pt x="8" y="94"/>
                      </a:lnTo>
                      <a:lnTo>
                        <a:pt x="8" y="96"/>
                      </a:lnTo>
                      <a:lnTo>
                        <a:pt x="8" y="101"/>
                      </a:lnTo>
                      <a:lnTo>
                        <a:pt x="9" y="105"/>
                      </a:lnTo>
                      <a:lnTo>
                        <a:pt x="9" y="107"/>
                      </a:lnTo>
                      <a:lnTo>
                        <a:pt x="9" y="112"/>
                      </a:lnTo>
                      <a:lnTo>
                        <a:pt x="9" y="116"/>
                      </a:lnTo>
                      <a:lnTo>
                        <a:pt x="9" y="118"/>
                      </a:lnTo>
                      <a:lnTo>
                        <a:pt x="9" y="121"/>
                      </a:lnTo>
                      <a:lnTo>
                        <a:pt x="9" y="125"/>
                      </a:lnTo>
                      <a:lnTo>
                        <a:pt x="11" y="128"/>
                      </a:lnTo>
                      <a:lnTo>
                        <a:pt x="11" y="132"/>
                      </a:lnTo>
                      <a:lnTo>
                        <a:pt x="11" y="138"/>
                      </a:lnTo>
                      <a:lnTo>
                        <a:pt x="12" y="143"/>
                      </a:lnTo>
                      <a:lnTo>
                        <a:pt x="12" y="149"/>
                      </a:lnTo>
                      <a:lnTo>
                        <a:pt x="12" y="153"/>
                      </a:lnTo>
                      <a:lnTo>
                        <a:pt x="12" y="155"/>
                      </a:lnTo>
                      <a:lnTo>
                        <a:pt x="12" y="160"/>
                      </a:lnTo>
                      <a:lnTo>
                        <a:pt x="12" y="162"/>
                      </a:lnTo>
                      <a:lnTo>
                        <a:pt x="12" y="161"/>
                      </a:lnTo>
                      <a:lnTo>
                        <a:pt x="12" y="551"/>
                      </a:lnTo>
                      <a:lnTo>
                        <a:pt x="211" y="551"/>
                      </a:lnTo>
                      <a:lnTo>
                        <a:pt x="208" y="84"/>
                      </a:lnTo>
                      <a:lnTo>
                        <a:pt x="208" y="79"/>
                      </a:lnTo>
                      <a:lnTo>
                        <a:pt x="208" y="74"/>
                      </a:lnTo>
                      <a:lnTo>
                        <a:pt x="208" y="69"/>
                      </a:lnTo>
                      <a:lnTo>
                        <a:pt x="208" y="65"/>
                      </a:lnTo>
                      <a:lnTo>
                        <a:pt x="208" y="61"/>
                      </a:lnTo>
                      <a:lnTo>
                        <a:pt x="208" y="57"/>
                      </a:lnTo>
                      <a:lnTo>
                        <a:pt x="208" y="51"/>
                      </a:lnTo>
                      <a:lnTo>
                        <a:pt x="208" y="47"/>
                      </a:lnTo>
                      <a:lnTo>
                        <a:pt x="208" y="43"/>
                      </a:lnTo>
                      <a:lnTo>
                        <a:pt x="208" y="39"/>
                      </a:lnTo>
                      <a:lnTo>
                        <a:pt x="208" y="35"/>
                      </a:lnTo>
                      <a:lnTo>
                        <a:pt x="208" y="31"/>
                      </a:lnTo>
                      <a:lnTo>
                        <a:pt x="206" y="26"/>
                      </a:lnTo>
                      <a:lnTo>
                        <a:pt x="206" y="22"/>
                      </a:lnTo>
                      <a:lnTo>
                        <a:pt x="206" y="17"/>
                      </a:lnTo>
                      <a:lnTo>
                        <a:pt x="206" y="14"/>
                      </a:lnTo>
                      <a:lnTo>
                        <a:pt x="202" y="14"/>
                      </a:lnTo>
                      <a:lnTo>
                        <a:pt x="200" y="17"/>
                      </a:lnTo>
                      <a:lnTo>
                        <a:pt x="200" y="21"/>
                      </a:lnTo>
                      <a:lnTo>
                        <a:pt x="200" y="25"/>
                      </a:lnTo>
                      <a:lnTo>
                        <a:pt x="200" y="29"/>
                      </a:lnTo>
                      <a:lnTo>
                        <a:pt x="200" y="32"/>
                      </a:lnTo>
                      <a:lnTo>
                        <a:pt x="200" y="36"/>
                      </a:lnTo>
                      <a:lnTo>
                        <a:pt x="200" y="40"/>
                      </a:lnTo>
                      <a:lnTo>
                        <a:pt x="200" y="44"/>
                      </a:lnTo>
                      <a:lnTo>
                        <a:pt x="200" y="48"/>
                      </a:lnTo>
                      <a:lnTo>
                        <a:pt x="200" y="52"/>
                      </a:lnTo>
                      <a:lnTo>
                        <a:pt x="200" y="57"/>
                      </a:lnTo>
                      <a:lnTo>
                        <a:pt x="202" y="61"/>
                      </a:lnTo>
                      <a:lnTo>
                        <a:pt x="202" y="65"/>
                      </a:lnTo>
                      <a:lnTo>
                        <a:pt x="202" y="69"/>
                      </a:lnTo>
                      <a:lnTo>
                        <a:pt x="202" y="72"/>
                      </a:lnTo>
                      <a:lnTo>
                        <a:pt x="203" y="77"/>
                      </a:lnTo>
                      <a:lnTo>
                        <a:pt x="202" y="79"/>
                      </a:lnTo>
                      <a:lnTo>
                        <a:pt x="202" y="81"/>
                      </a:lnTo>
                      <a:lnTo>
                        <a:pt x="200" y="84"/>
                      </a:lnTo>
                      <a:lnTo>
                        <a:pt x="199" y="85"/>
                      </a:lnTo>
                      <a:lnTo>
                        <a:pt x="199" y="80"/>
                      </a:lnTo>
                      <a:lnTo>
                        <a:pt x="199" y="74"/>
                      </a:lnTo>
                      <a:lnTo>
                        <a:pt x="197" y="69"/>
                      </a:lnTo>
                      <a:lnTo>
                        <a:pt x="197" y="63"/>
                      </a:lnTo>
                      <a:lnTo>
                        <a:pt x="197" y="58"/>
                      </a:lnTo>
                      <a:lnTo>
                        <a:pt x="196" y="52"/>
                      </a:lnTo>
                      <a:lnTo>
                        <a:pt x="196" y="47"/>
                      </a:lnTo>
                      <a:lnTo>
                        <a:pt x="196" y="42"/>
                      </a:lnTo>
                      <a:lnTo>
                        <a:pt x="194" y="43"/>
                      </a:lnTo>
                      <a:lnTo>
                        <a:pt x="193" y="47"/>
                      </a:lnTo>
                      <a:lnTo>
                        <a:pt x="191" y="50"/>
                      </a:lnTo>
                      <a:lnTo>
                        <a:pt x="191" y="52"/>
                      </a:lnTo>
                      <a:lnTo>
                        <a:pt x="191" y="57"/>
                      </a:lnTo>
                      <a:lnTo>
                        <a:pt x="191" y="61"/>
                      </a:lnTo>
                      <a:lnTo>
                        <a:pt x="191" y="63"/>
                      </a:lnTo>
                      <a:lnTo>
                        <a:pt x="191" y="69"/>
                      </a:lnTo>
                      <a:lnTo>
                        <a:pt x="191" y="73"/>
                      </a:lnTo>
                      <a:lnTo>
                        <a:pt x="191" y="79"/>
                      </a:lnTo>
                      <a:lnTo>
                        <a:pt x="191" y="83"/>
                      </a:lnTo>
                      <a:lnTo>
                        <a:pt x="193" y="88"/>
                      </a:lnTo>
                      <a:lnTo>
                        <a:pt x="193" y="94"/>
                      </a:lnTo>
                      <a:lnTo>
                        <a:pt x="193" y="99"/>
                      </a:lnTo>
                      <a:lnTo>
                        <a:pt x="193" y="103"/>
                      </a:lnTo>
                      <a:lnTo>
                        <a:pt x="193" y="109"/>
                      </a:lnTo>
                      <a:lnTo>
                        <a:pt x="193" y="113"/>
                      </a:lnTo>
                      <a:lnTo>
                        <a:pt x="194" y="117"/>
                      </a:lnTo>
                      <a:lnTo>
                        <a:pt x="194" y="121"/>
                      </a:lnTo>
                      <a:lnTo>
                        <a:pt x="194" y="125"/>
                      </a:lnTo>
                      <a:lnTo>
                        <a:pt x="194" y="129"/>
                      </a:lnTo>
                      <a:lnTo>
                        <a:pt x="194" y="133"/>
                      </a:lnTo>
                      <a:lnTo>
                        <a:pt x="193" y="138"/>
                      </a:lnTo>
                      <a:lnTo>
                        <a:pt x="193" y="140"/>
                      </a:lnTo>
                      <a:lnTo>
                        <a:pt x="191" y="142"/>
                      </a:lnTo>
                      <a:lnTo>
                        <a:pt x="191" y="140"/>
                      </a:lnTo>
                      <a:lnTo>
                        <a:pt x="190" y="135"/>
                      </a:lnTo>
                      <a:lnTo>
                        <a:pt x="190" y="128"/>
                      </a:lnTo>
                      <a:lnTo>
                        <a:pt x="188" y="122"/>
                      </a:lnTo>
                      <a:lnTo>
                        <a:pt x="188" y="117"/>
                      </a:lnTo>
                      <a:lnTo>
                        <a:pt x="187" y="112"/>
                      </a:lnTo>
                      <a:lnTo>
                        <a:pt x="187" y="106"/>
                      </a:lnTo>
                      <a:lnTo>
                        <a:pt x="185" y="102"/>
                      </a:lnTo>
                      <a:lnTo>
                        <a:pt x="185" y="98"/>
                      </a:lnTo>
                      <a:lnTo>
                        <a:pt x="185" y="91"/>
                      </a:lnTo>
                      <a:lnTo>
                        <a:pt x="185" y="85"/>
                      </a:lnTo>
                      <a:lnTo>
                        <a:pt x="185" y="80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5"/>
                      </a:lnTo>
                      <a:lnTo>
                        <a:pt x="185" y="59"/>
                      </a:lnTo>
                      <a:lnTo>
                        <a:pt x="185" y="54"/>
                      </a:lnTo>
                      <a:lnTo>
                        <a:pt x="185" y="48"/>
                      </a:lnTo>
                      <a:lnTo>
                        <a:pt x="185" y="44"/>
                      </a:lnTo>
                      <a:lnTo>
                        <a:pt x="185" y="39"/>
                      </a:lnTo>
                      <a:lnTo>
                        <a:pt x="185" y="33"/>
                      </a:lnTo>
                      <a:lnTo>
                        <a:pt x="185" y="29"/>
                      </a:lnTo>
                      <a:lnTo>
                        <a:pt x="185" y="24"/>
                      </a:lnTo>
                      <a:lnTo>
                        <a:pt x="185" y="18"/>
                      </a:lnTo>
                      <a:lnTo>
                        <a:pt x="185" y="14"/>
                      </a:lnTo>
                      <a:lnTo>
                        <a:pt x="180" y="14"/>
                      </a:lnTo>
                      <a:lnTo>
                        <a:pt x="176" y="14"/>
                      </a:lnTo>
                      <a:lnTo>
                        <a:pt x="171" y="14"/>
                      </a:lnTo>
                      <a:lnTo>
                        <a:pt x="168" y="15"/>
                      </a:lnTo>
                      <a:lnTo>
                        <a:pt x="168" y="20"/>
                      </a:lnTo>
                      <a:lnTo>
                        <a:pt x="168" y="22"/>
                      </a:lnTo>
                      <a:lnTo>
                        <a:pt x="168" y="26"/>
                      </a:lnTo>
                      <a:lnTo>
                        <a:pt x="168" y="31"/>
                      </a:lnTo>
                      <a:lnTo>
                        <a:pt x="168" y="35"/>
                      </a:lnTo>
                      <a:lnTo>
                        <a:pt x="168" y="39"/>
                      </a:lnTo>
                      <a:lnTo>
                        <a:pt x="168" y="42"/>
                      </a:lnTo>
                      <a:lnTo>
                        <a:pt x="168" y="46"/>
                      </a:lnTo>
                      <a:lnTo>
                        <a:pt x="168" y="50"/>
                      </a:lnTo>
                      <a:lnTo>
                        <a:pt x="168" y="54"/>
                      </a:lnTo>
                      <a:lnTo>
                        <a:pt x="168" y="57"/>
                      </a:lnTo>
                      <a:lnTo>
                        <a:pt x="168" y="61"/>
                      </a:lnTo>
                      <a:lnTo>
                        <a:pt x="168" y="65"/>
                      </a:lnTo>
                      <a:lnTo>
                        <a:pt x="168" y="69"/>
                      </a:lnTo>
                      <a:lnTo>
                        <a:pt x="168" y="73"/>
                      </a:lnTo>
                      <a:lnTo>
                        <a:pt x="170" y="77"/>
                      </a:lnTo>
                      <a:lnTo>
                        <a:pt x="170" y="80"/>
                      </a:lnTo>
                      <a:lnTo>
                        <a:pt x="170" y="84"/>
                      </a:lnTo>
                      <a:lnTo>
                        <a:pt x="170" y="88"/>
                      </a:lnTo>
                      <a:lnTo>
                        <a:pt x="170" y="91"/>
                      </a:lnTo>
                      <a:lnTo>
                        <a:pt x="170" y="95"/>
                      </a:lnTo>
                      <a:lnTo>
                        <a:pt x="171" y="99"/>
                      </a:lnTo>
                      <a:lnTo>
                        <a:pt x="171" y="102"/>
                      </a:lnTo>
                      <a:lnTo>
                        <a:pt x="171" y="106"/>
                      </a:lnTo>
                      <a:lnTo>
                        <a:pt x="171" y="109"/>
                      </a:lnTo>
                      <a:lnTo>
                        <a:pt x="171" y="113"/>
                      </a:lnTo>
                      <a:lnTo>
                        <a:pt x="171" y="116"/>
                      </a:lnTo>
                      <a:lnTo>
                        <a:pt x="171" y="120"/>
                      </a:lnTo>
                      <a:lnTo>
                        <a:pt x="171" y="124"/>
                      </a:lnTo>
                      <a:lnTo>
                        <a:pt x="173" y="127"/>
                      </a:lnTo>
                      <a:lnTo>
                        <a:pt x="173" y="131"/>
                      </a:lnTo>
                      <a:lnTo>
                        <a:pt x="173" y="133"/>
                      </a:lnTo>
                      <a:lnTo>
                        <a:pt x="173" y="136"/>
                      </a:lnTo>
                      <a:lnTo>
                        <a:pt x="173" y="139"/>
                      </a:lnTo>
                      <a:lnTo>
                        <a:pt x="173" y="143"/>
                      </a:lnTo>
                      <a:lnTo>
                        <a:pt x="174" y="149"/>
                      </a:lnTo>
                      <a:lnTo>
                        <a:pt x="174" y="153"/>
                      </a:lnTo>
                      <a:lnTo>
                        <a:pt x="174" y="160"/>
                      </a:lnTo>
                      <a:lnTo>
                        <a:pt x="174" y="162"/>
                      </a:lnTo>
                      <a:lnTo>
                        <a:pt x="174" y="165"/>
                      </a:lnTo>
                      <a:lnTo>
                        <a:pt x="174" y="168"/>
                      </a:lnTo>
                      <a:lnTo>
                        <a:pt x="174" y="172"/>
                      </a:lnTo>
                      <a:lnTo>
                        <a:pt x="174" y="177"/>
                      </a:lnTo>
                      <a:lnTo>
                        <a:pt x="174" y="183"/>
                      </a:lnTo>
                      <a:lnTo>
                        <a:pt x="173" y="187"/>
                      </a:lnTo>
                      <a:lnTo>
                        <a:pt x="173" y="192"/>
                      </a:lnTo>
                      <a:lnTo>
                        <a:pt x="171" y="198"/>
                      </a:lnTo>
                      <a:lnTo>
                        <a:pt x="171" y="202"/>
                      </a:lnTo>
                      <a:lnTo>
                        <a:pt x="170" y="205"/>
                      </a:lnTo>
                      <a:lnTo>
                        <a:pt x="168" y="206"/>
                      </a:lnTo>
                      <a:lnTo>
                        <a:pt x="167" y="201"/>
                      </a:lnTo>
                      <a:lnTo>
                        <a:pt x="167" y="195"/>
                      </a:lnTo>
                      <a:lnTo>
                        <a:pt x="165" y="190"/>
                      </a:lnTo>
                      <a:lnTo>
                        <a:pt x="165" y="184"/>
                      </a:lnTo>
                      <a:lnTo>
                        <a:pt x="165" y="177"/>
                      </a:lnTo>
                      <a:lnTo>
                        <a:pt x="164" y="172"/>
                      </a:lnTo>
                      <a:lnTo>
                        <a:pt x="164" y="166"/>
                      </a:lnTo>
                      <a:lnTo>
                        <a:pt x="164" y="162"/>
                      </a:lnTo>
                      <a:lnTo>
                        <a:pt x="164" y="155"/>
                      </a:lnTo>
                      <a:lnTo>
                        <a:pt x="164" y="150"/>
                      </a:lnTo>
                      <a:lnTo>
                        <a:pt x="164" y="144"/>
                      </a:lnTo>
                      <a:lnTo>
                        <a:pt x="164" y="139"/>
                      </a:lnTo>
                      <a:lnTo>
                        <a:pt x="164" y="133"/>
                      </a:lnTo>
                      <a:lnTo>
                        <a:pt x="164" y="128"/>
                      </a:lnTo>
                      <a:lnTo>
                        <a:pt x="164" y="121"/>
                      </a:lnTo>
                      <a:lnTo>
                        <a:pt x="164" y="117"/>
                      </a:lnTo>
                      <a:lnTo>
                        <a:pt x="164" y="110"/>
                      </a:lnTo>
                      <a:lnTo>
                        <a:pt x="164" y="105"/>
                      </a:lnTo>
                      <a:lnTo>
                        <a:pt x="164" y="99"/>
                      </a:lnTo>
                      <a:lnTo>
                        <a:pt x="164" y="94"/>
                      </a:lnTo>
                      <a:lnTo>
                        <a:pt x="164" y="88"/>
                      </a:lnTo>
                      <a:lnTo>
                        <a:pt x="164" y="83"/>
                      </a:lnTo>
                      <a:lnTo>
                        <a:pt x="164" y="76"/>
                      </a:lnTo>
                      <a:lnTo>
                        <a:pt x="164" y="72"/>
                      </a:lnTo>
                      <a:lnTo>
                        <a:pt x="164" y="65"/>
                      </a:lnTo>
                      <a:lnTo>
                        <a:pt x="164" y="59"/>
                      </a:lnTo>
                      <a:lnTo>
                        <a:pt x="162" y="54"/>
                      </a:lnTo>
                      <a:lnTo>
                        <a:pt x="162" y="48"/>
                      </a:lnTo>
                      <a:lnTo>
                        <a:pt x="162" y="43"/>
                      </a:lnTo>
                      <a:lnTo>
                        <a:pt x="161" y="37"/>
                      </a:lnTo>
                      <a:lnTo>
                        <a:pt x="161" y="32"/>
                      </a:lnTo>
                      <a:lnTo>
                        <a:pt x="161" y="26"/>
                      </a:lnTo>
                      <a:lnTo>
                        <a:pt x="159" y="25"/>
                      </a:lnTo>
                      <a:lnTo>
                        <a:pt x="158" y="22"/>
                      </a:lnTo>
                      <a:lnTo>
                        <a:pt x="156" y="20"/>
                      </a:lnTo>
                      <a:lnTo>
                        <a:pt x="156" y="18"/>
                      </a:lnTo>
                      <a:lnTo>
                        <a:pt x="154" y="20"/>
                      </a:lnTo>
                      <a:lnTo>
                        <a:pt x="154" y="22"/>
                      </a:lnTo>
                      <a:lnTo>
                        <a:pt x="153" y="26"/>
                      </a:lnTo>
                      <a:lnTo>
                        <a:pt x="153" y="29"/>
                      </a:lnTo>
                      <a:lnTo>
                        <a:pt x="153" y="32"/>
                      </a:lnTo>
                      <a:lnTo>
                        <a:pt x="153" y="36"/>
                      </a:lnTo>
                      <a:lnTo>
                        <a:pt x="153" y="39"/>
                      </a:lnTo>
                      <a:lnTo>
                        <a:pt x="153" y="43"/>
                      </a:lnTo>
                      <a:lnTo>
                        <a:pt x="156" y="105"/>
                      </a:lnTo>
                      <a:lnTo>
                        <a:pt x="156" y="109"/>
                      </a:lnTo>
                      <a:lnTo>
                        <a:pt x="156" y="114"/>
                      </a:lnTo>
                      <a:lnTo>
                        <a:pt x="156" y="120"/>
                      </a:lnTo>
                      <a:lnTo>
                        <a:pt x="156" y="125"/>
                      </a:lnTo>
                      <a:lnTo>
                        <a:pt x="156" y="129"/>
                      </a:lnTo>
                      <a:lnTo>
                        <a:pt x="156" y="135"/>
                      </a:lnTo>
                      <a:lnTo>
                        <a:pt x="154" y="140"/>
                      </a:lnTo>
                      <a:lnTo>
                        <a:pt x="154" y="144"/>
                      </a:lnTo>
                      <a:lnTo>
                        <a:pt x="154" y="150"/>
                      </a:lnTo>
                      <a:lnTo>
                        <a:pt x="154" y="155"/>
                      </a:lnTo>
                      <a:lnTo>
                        <a:pt x="154" y="160"/>
                      </a:lnTo>
                      <a:lnTo>
                        <a:pt x="154" y="165"/>
                      </a:lnTo>
                      <a:lnTo>
                        <a:pt x="153" y="171"/>
                      </a:lnTo>
                      <a:lnTo>
                        <a:pt x="153" y="175"/>
                      </a:lnTo>
                      <a:lnTo>
                        <a:pt x="153" y="180"/>
                      </a:lnTo>
                      <a:lnTo>
                        <a:pt x="153" y="186"/>
                      </a:lnTo>
                      <a:lnTo>
                        <a:pt x="153" y="512"/>
                      </a:lnTo>
                      <a:lnTo>
                        <a:pt x="75" y="515"/>
                      </a:lnTo>
                      <a:lnTo>
                        <a:pt x="72" y="66"/>
                      </a:lnTo>
                      <a:lnTo>
                        <a:pt x="72" y="62"/>
                      </a:lnTo>
                      <a:lnTo>
                        <a:pt x="72" y="59"/>
                      </a:lnTo>
                      <a:lnTo>
                        <a:pt x="72" y="57"/>
                      </a:lnTo>
                      <a:lnTo>
                        <a:pt x="72" y="54"/>
                      </a:lnTo>
                      <a:lnTo>
                        <a:pt x="70" y="50"/>
                      </a:lnTo>
                      <a:lnTo>
                        <a:pt x="69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67" y="37"/>
                      </a:lnTo>
                      <a:lnTo>
                        <a:pt x="66" y="33"/>
                      </a:lnTo>
                      <a:lnTo>
                        <a:pt x="64" y="31"/>
                      </a:lnTo>
                      <a:lnTo>
                        <a:pt x="64" y="28"/>
                      </a:lnTo>
                      <a:lnTo>
                        <a:pt x="63" y="21"/>
                      </a:lnTo>
                      <a:lnTo>
                        <a:pt x="61" y="15"/>
                      </a:lnTo>
                      <a:lnTo>
                        <a:pt x="57" y="15"/>
                      </a:lnTo>
                      <a:lnTo>
                        <a:pt x="61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8"/>
                <p:cNvSpPr/>
                <p:nvPr/>
              </p:nvSpPr>
              <p:spPr>
                <a:xfrm>
                  <a:off x="2974320" y="2035440"/>
                  <a:ext cx="2880" cy="6552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9" h="178">
                      <a:moveTo>
                        <a:pt x="1" y="176"/>
                      </a:moveTo>
                      <a:lnTo>
                        <a:pt x="1" y="178"/>
                      </a:lnTo>
                      <a:lnTo>
                        <a:pt x="3" y="176"/>
                      </a:lnTo>
                      <a:lnTo>
                        <a:pt x="3" y="175"/>
                      </a:lnTo>
                      <a:lnTo>
                        <a:pt x="3" y="172"/>
                      </a:lnTo>
                      <a:lnTo>
                        <a:pt x="3" y="169"/>
                      </a:lnTo>
                      <a:lnTo>
                        <a:pt x="3" y="165"/>
                      </a:lnTo>
                      <a:lnTo>
                        <a:pt x="3" y="162"/>
                      </a:lnTo>
                      <a:lnTo>
                        <a:pt x="3" y="160"/>
                      </a:lnTo>
                      <a:lnTo>
                        <a:pt x="3" y="154"/>
                      </a:lnTo>
                      <a:lnTo>
                        <a:pt x="4" y="149"/>
                      </a:lnTo>
                      <a:lnTo>
                        <a:pt x="4" y="143"/>
                      </a:lnTo>
                      <a:lnTo>
                        <a:pt x="4" y="138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4" y="121"/>
                      </a:lnTo>
                      <a:lnTo>
                        <a:pt x="4" y="116"/>
                      </a:lnTo>
                      <a:lnTo>
                        <a:pt x="6" y="112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7"/>
                      </a:lnTo>
                      <a:lnTo>
                        <a:pt x="8" y="91"/>
                      </a:lnTo>
                      <a:lnTo>
                        <a:pt x="8" y="86"/>
                      </a:lnTo>
                      <a:lnTo>
                        <a:pt x="8" y="80"/>
                      </a:lnTo>
                      <a:lnTo>
                        <a:pt x="8" y="75"/>
                      </a:lnTo>
                      <a:lnTo>
                        <a:pt x="8" y="70"/>
                      </a:lnTo>
                      <a:lnTo>
                        <a:pt x="8" y="65"/>
                      </a:lnTo>
                      <a:lnTo>
                        <a:pt x="8" y="59"/>
                      </a:lnTo>
                      <a:lnTo>
                        <a:pt x="8" y="54"/>
                      </a:lnTo>
                      <a:lnTo>
                        <a:pt x="8" y="50"/>
                      </a:lnTo>
                      <a:lnTo>
                        <a:pt x="9" y="44"/>
                      </a:lnTo>
                      <a:lnTo>
                        <a:pt x="8" y="39"/>
                      </a:lnTo>
                      <a:lnTo>
                        <a:pt x="8" y="33"/>
                      </a:lnTo>
                      <a:lnTo>
                        <a:pt x="8" y="28"/>
                      </a:lnTo>
                      <a:lnTo>
                        <a:pt x="8" y="22"/>
                      </a:lnTo>
                      <a:lnTo>
                        <a:pt x="8" y="17"/>
                      </a:lnTo>
                      <a:lnTo>
                        <a:pt x="8" y="11"/>
                      </a:lnTo>
                      <a:lnTo>
                        <a:pt x="8" y="6"/>
                      </a:lnTo>
                      <a:lnTo>
                        <a:pt x="8" y="0"/>
                      </a:lnTo>
                      <a:lnTo>
                        <a:pt x="6" y="5"/>
                      </a:lnTo>
                      <a:lnTo>
                        <a:pt x="6" y="9"/>
                      </a:lnTo>
                      <a:lnTo>
                        <a:pt x="4" y="11"/>
                      </a:lnTo>
                      <a:lnTo>
                        <a:pt x="3" y="16"/>
                      </a:lnTo>
                      <a:lnTo>
                        <a:pt x="1" y="105"/>
                      </a:lnTo>
                      <a:lnTo>
                        <a:pt x="0" y="109"/>
                      </a:lnTo>
                      <a:lnTo>
                        <a:pt x="0" y="113"/>
                      </a:lnTo>
                      <a:lnTo>
                        <a:pt x="0" y="118"/>
                      </a:lnTo>
                      <a:lnTo>
                        <a:pt x="0" y="123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6"/>
                      </a:lnTo>
                      <a:lnTo>
                        <a:pt x="0" y="142"/>
                      </a:lnTo>
                      <a:lnTo>
                        <a:pt x="0" y="146"/>
                      </a:lnTo>
                      <a:lnTo>
                        <a:pt x="0" y="150"/>
                      </a:lnTo>
                      <a:lnTo>
                        <a:pt x="0" y="154"/>
                      </a:lnTo>
                      <a:lnTo>
                        <a:pt x="0" y="158"/>
                      </a:lnTo>
                      <a:lnTo>
                        <a:pt x="0" y="164"/>
                      </a:lnTo>
                      <a:lnTo>
                        <a:pt x="0" y="168"/>
                      </a:lnTo>
                      <a:lnTo>
                        <a:pt x="0" y="172"/>
                      </a:lnTo>
                      <a:lnTo>
                        <a:pt x="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9"/>
                <p:cNvSpPr/>
                <p:nvPr/>
              </p:nvSpPr>
              <p:spPr>
                <a:xfrm>
                  <a:off x="3014280" y="2039760"/>
                  <a:ext cx="3960" cy="5904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2" h="161">
                      <a:moveTo>
                        <a:pt x="12" y="0"/>
                      </a:moveTo>
                      <a:lnTo>
                        <a:pt x="12" y="5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0" y="21"/>
                      </a:lnTo>
                      <a:lnTo>
                        <a:pt x="10" y="27"/>
                      </a:lnTo>
                      <a:lnTo>
                        <a:pt x="10" y="32"/>
                      </a:lnTo>
                      <a:lnTo>
                        <a:pt x="10" y="37"/>
                      </a:lnTo>
                      <a:lnTo>
                        <a:pt x="10" y="43"/>
                      </a:lnTo>
                      <a:lnTo>
                        <a:pt x="9" y="48"/>
                      </a:lnTo>
                      <a:lnTo>
                        <a:pt x="9" y="53"/>
                      </a:lnTo>
                      <a:lnTo>
                        <a:pt x="9" y="58"/>
                      </a:lnTo>
                      <a:lnTo>
                        <a:pt x="9" y="64"/>
                      </a:lnTo>
                      <a:lnTo>
                        <a:pt x="7" y="69"/>
                      </a:lnTo>
                      <a:lnTo>
                        <a:pt x="7" y="73"/>
                      </a:lnTo>
                      <a:lnTo>
                        <a:pt x="7" y="79"/>
                      </a:lnTo>
                      <a:lnTo>
                        <a:pt x="7" y="84"/>
                      </a:lnTo>
                      <a:lnTo>
                        <a:pt x="7" y="88"/>
                      </a:lnTo>
                      <a:lnTo>
                        <a:pt x="7" y="94"/>
                      </a:lnTo>
                      <a:lnTo>
                        <a:pt x="7" y="99"/>
                      </a:lnTo>
                      <a:lnTo>
                        <a:pt x="7" y="105"/>
                      </a:lnTo>
                      <a:lnTo>
                        <a:pt x="6" y="109"/>
                      </a:lnTo>
                      <a:lnTo>
                        <a:pt x="6" y="113"/>
                      </a:lnTo>
                      <a:lnTo>
                        <a:pt x="6" y="118"/>
                      </a:lnTo>
                      <a:lnTo>
                        <a:pt x="6" y="124"/>
                      </a:lnTo>
                      <a:lnTo>
                        <a:pt x="4" y="128"/>
                      </a:lnTo>
                      <a:lnTo>
                        <a:pt x="4" y="132"/>
                      </a:lnTo>
                      <a:lnTo>
                        <a:pt x="3" y="138"/>
                      </a:lnTo>
                      <a:lnTo>
                        <a:pt x="3" y="142"/>
                      </a:lnTo>
                      <a:lnTo>
                        <a:pt x="1" y="147"/>
                      </a:lnTo>
                      <a:lnTo>
                        <a:pt x="1" y="151"/>
                      </a:lnTo>
                      <a:lnTo>
                        <a:pt x="0" y="157"/>
                      </a:lnTo>
                      <a:lnTo>
                        <a:pt x="0" y="161"/>
                      </a:lnTo>
                      <a:lnTo>
                        <a:pt x="0" y="160"/>
                      </a:lnTo>
                      <a:lnTo>
                        <a:pt x="0" y="157"/>
                      </a:lnTo>
                      <a:lnTo>
                        <a:pt x="0" y="153"/>
                      </a:lnTo>
                      <a:lnTo>
                        <a:pt x="0" y="149"/>
                      </a:lnTo>
                      <a:lnTo>
                        <a:pt x="0" y="143"/>
                      </a:lnTo>
                      <a:lnTo>
                        <a:pt x="0" y="138"/>
                      </a:lnTo>
                      <a:lnTo>
                        <a:pt x="0" y="135"/>
                      </a:lnTo>
                      <a:lnTo>
                        <a:pt x="0" y="132"/>
                      </a:lnTo>
                      <a:lnTo>
                        <a:pt x="0" y="128"/>
                      </a:lnTo>
                      <a:lnTo>
                        <a:pt x="0" y="125"/>
                      </a:lnTo>
                      <a:lnTo>
                        <a:pt x="0" y="121"/>
                      </a:lnTo>
                      <a:lnTo>
                        <a:pt x="0" y="118"/>
                      </a:lnTo>
                      <a:lnTo>
                        <a:pt x="0" y="114"/>
                      </a:lnTo>
                      <a:lnTo>
                        <a:pt x="0" y="110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0" y="95"/>
                      </a:lnTo>
                      <a:lnTo>
                        <a:pt x="0" y="92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1" y="46"/>
                      </a:lnTo>
                      <a:lnTo>
                        <a:pt x="1" y="40"/>
                      </a:lnTo>
                      <a:lnTo>
                        <a:pt x="3" y="35"/>
                      </a:lnTo>
                      <a:lnTo>
                        <a:pt x="3" y="29"/>
                      </a:lnTo>
                      <a:lnTo>
                        <a:pt x="3" y="25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7" y="13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40"/>
                <p:cNvSpPr/>
                <p:nvPr/>
              </p:nvSpPr>
              <p:spPr>
                <a:xfrm>
                  <a:off x="2950560" y="1907640"/>
                  <a:ext cx="72720" cy="2142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11" h="582">
                      <a:moveTo>
                        <a:pt x="59" y="76"/>
                      </a:moveTo>
                      <a:lnTo>
                        <a:pt x="59" y="80"/>
                      </a:lnTo>
                      <a:lnTo>
                        <a:pt x="61" y="84"/>
                      </a:lnTo>
                      <a:lnTo>
                        <a:pt x="61" y="88"/>
                      </a:lnTo>
                      <a:lnTo>
                        <a:pt x="62" y="94"/>
                      </a:lnTo>
                      <a:lnTo>
                        <a:pt x="62" y="99"/>
                      </a:lnTo>
                      <a:lnTo>
                        <a:pt x="64" y="103"/>
                      </a:lnTo>
                      <a:lnTo>
                        <a:pt x="64" y="109"/>
                      </a:lnTo>
                      <a:lnTo>
                        <a:pt x="65" y="114"/>
                      </a:lnTo>
                      <a:lnTo>
                        <a:pt x="65" y="120"/>
                      </a:lnTo>
                      <a:lnTo>
                        <a:pt x="67" y="125"/>
                      </a:lnTo>
                      <a:lnTo>
                        <a:pt x="67" y="129"/>
                      </a:lnTo>
                      <a:lnTo>
                        <a:pt x="67" y="136"/>
                      </a:lnTo>
                      <a:lnTo>
                        <a:pt x="67" y="140"/>
                      </a:lnTo>
                      <a:lnTo>
                        <a:pt x="67" y="146"/>
                      </a:lnTo>
                      <a:lnTo>
                        <a:pt x="65" y="150"/>
                      </a:lnTo>
                      <a:lnTo>
                        <a:pt x="64" y="155"/>
                      </a:lnTo>
                      <a:lnTo>
                        <a:pt x="64" y="151"/>
                      </a:lnTo>
                      <a:lnTo>
                        <a:pt x="64" y="147"/>
                      </a:lnTo>
                      <a:lnTo>
                        <a:pt x="64" y="143"/>
                      </a:lnTo>
                      <a:lnTo>
                        <a:pt x="64" y="140"/>
                      </a:lnTo>
                      <a:lnTo>
                        <a:pt x="62" y="136"/>
                      </a:lnTo>
                      <a:lnTo>
                        <a:pt x="62" y="134"/>
                      </a:lnTo>
                      <a:lnTo>
                        <a:pt x="62" y="129"/>
                      </a:lnTo>
                      <a:lnTo>
                        <a:pt x="62" y="127"/>
                      </a:lnTo>
                      <a:lnTo>
                        <a:pt x="61" y="124"/>
                      </a:lnTo>
                      <a:lnTo>
                        <a:pt x="61" y="120"/>
                      </a:lnTo>
                      <a:lnTo>
                        <a:pt x="59" y="117"/>
                      </a:lnTo>
                      <a:lnTo>
                        <a:pt x="59" y="113"/>
                      </a:lnTo>
                      <a:lnTo>
                        <a:pt x="58" y="110"/>
                      </a:lnTo>
                      <a:lnTo>
                        <a:pt x="58" y="106"/>
                      </a:lnTo>
                      <a:lnTo>
                        <a:pt x="58" y="103"/>
                      </a:lnTo>
                      <a:lnTo>
                        <a:pt x="58" y="99"/>
                      </a:lnTo>
                      <a:lnTo>
                        <a:pt x="56" y="96"/>
                      </a:lnTo>
                      <a:lnTo>
                        <a:pt x="55" y="92"/>
                      </a:lnTo>
                      <a:lnTo>
                        <a:pt x="55" y="90"/>
                      </a:lnTo>
                      <a:lnTo>
                        <a:pt x="53" y="85"/>
                      </a:lnTo>
                      <a:lnTo>
                        <a:pt x="52" y="81"/>
                      </a:lnTo>
                      <a:lnTo>
                        <a:pt x="52" y="79"/>
                      </a:lnTo>
                      <a:lnTo>
                        <a:pt x="50" y="75"/>
                      </a:lnTo>
                      <a:lnTo>
                        <a:pt x="50" y="72"/>
                      </a:lnTo>
                      <a:lnTo>
                        <a:pt x="49" y="68"/>
                      </a:lnTo>
                      <a:lnTo>
                        <a:pt x="47" y="65"/>
                      </a:lnTo>
                      <a:lnTo>
                        <a:pt x="47" y="61"/>
                      </a:lnTo>
                      <a:lnTo>
                        <a:pt x="45" y="58"/>
                      </a:lnTo>
                      <a:lnTo>
                        <a:pt x="44" y="54"/>
                      </a:lnTo>
                      <a:lnTo>
                        <a:pt x="44" y="51"/>
                      </a:lnTo>
                      <a:lnTo>
                        <a:pt x="42" y="47"/>
                      </a:lnTo>
                      <a:lnTo>
                        <a:pt x="42" y="44"/>
                      </a:lnTo>
                      <a:lnTo>
                        <a:pt x="29" y="48"/>
                      </a:lnTo>
                      <a:lnTo>
                        <a:pt x="30" y="51"/>
                      </a:lnTo>
                      <a:lnTo>
                        <a:pt x="30" y="55"/>
                      </a:lnTo>
                      <a:lnTo>
                        <a:pt x="32" y="58"/>
                      </a:lnTo>
                      <a:lnTo>
                        <a:pt x="33" y="61"/>
                      </a:lnTo>
                      <a:lnTo>
                        <a:pt x="33" y="64"/>
                      </a:lnTo>
                      <a:lnTo>
                        <a:pt x="35" y="68"/>
                      </a:lnTo>
                      <a:lnTo>
                        <a:pt x="35" y="70"/>
                      </a:lnTo>
                      <a:lnTo>
                        <a:pt x="36" y="75"/>
                      </a:lnTo>
                      <a:lnTo>
                        <a:pt x="38" y="80"/>
                      </a:lnTo>
                      <a:lnTo>
                        <a:pt x="38" y="85"/>
                      </a:lnTo>
                      <a:lnTo>
                        <a:pt x="39" y="88"/>
                      </a:lnTo>
                      <a:lnTo>
                        <a:pt x="39" y="91"/>
                      </a:lnTo>
                      <a:lnTo>
                        <a:pt x="41" y="95"/>
                      </a:lnTo>
                      <a:lnTo>
                        <a:pt x="41" y="98"/>
                      </a:lnTo>
                      <a:lnTo>
                        <a:pt x="41" y="103"/>
                      </a:lnTo>
                      <a:lnTo>
                        <a:pt x="42" y="110"/>
                      </a:lnTo>
                      <a:lnTo>
                        <a:pt x="42" y="113"/>
                      </a:lnTo>
                      <a:lnTo>
                        <a:pt x="42" y="117"/>
                      </a:lnTo>
                      <a:lnTo>
                        <a:pt x="42" y="120"/>
                      </a:lnTo>
                      <a:lnTo>
                        <a:pt x="42" y="124"/>
                      </a:lnTo>
                      <a:lnTo>
                        <a:pt x="42" y="127"/>
                      </a:lnTo>
                      <a:lnTo>
                        <a:pt x="42" y="129"/>
                      </a:lnTo>
                      <a:lnTo>
                        <a:pt x="42" y="134"/>
                      </a:lnTo>
                      <a:lnTo>
                        <a:pt x="42" y="138"/>
                      </a:lnTo>
                      <a:lnTo>
                        <a:pt x="42" y="140"/>
                      </a:lnTo>
                      <a:lnTo>
                        <a:pt x="42" y="145"/>
                      </a:lnTo>
                      <a:lnTo>
                        <a:pt x="42" y="149"/>
                      </a:lnTo>
                      <a:lnTo>
                        <a:pt x="42" y="153"/>
                      </a:lnTo>
                      <a:lnTo>
                        <a:pt x="38" y="149"/>
                      </a:lnTo>
                      <a:lnTo>
                        <a:pt x="36" y="145"/>
                      </a:lnTo>
                      <a:lnTo>
                        <a:pt x="36" y="142"/>
                      </a:lnTo>
                      <a:lnTo>
                        <a:pt x="36" y="139"/>
                      </a:lnTo>
                      <a:lnTo>
                        <a:pt x="36" y="136"/>
                      </a:lnTo>
                      <a:lnTo>
                        <a:pt x="36" y="131"/>
                      </a:lnTo>
                      <a:lnTo>
                        <a:pt x="36" y="125"/>
                      </a:lnTo>
                      <a:lnTo>
                        <a:pt x="35" y="121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10"/>
                      </a:lnTo>
                      <a:lnTo>
                        <a:pt x="32" y="106"/>
                      </a:lnTo>
                      <a:lnTo>
                        <a:pt x="30" y="102"/>
                      </a:lnTo>
                      <a:lnTo>
                        <a:pt x="29" y="99"/>
                      </a:lnTo>
                      <a:lnTo>
                        <a:pt x="29" y="96"/>
                      </a:lnTo>
                      <a:lnTo>
                        <a:pt x="26" y="92"/>
                      </a:lnTo>
                      <a:lnTo>
                        <a:pt x="24" y="88"/>
                      </a:lnTo>
                      <a:lnTo>
                        <a:pt x="21" y="83"/>
                      </a:lnTo>
                      <a:lnTo>
                        <a:pt x="19" y="79"/>
                      </a:lnTo>
                      <a:lnTo>
                        <a:pt x="16" y="75"/>
                      </a:lnTo>
                      <a:lnTo>
                        <a:pt x="15" y="69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1"/>
                      </a:lnTo>
                      <a:lnTo>
                        <a:pt x="12" y="58"/>
                      </a:lnTo>
                      <a:lnTo>
                        <a:pt x="12" y="55"/>
                      </a:lnTo>
                      <a:lnTo>
                        <a:pt x="12" y="51"/>
                      </a:lnTo>
                      <a:lnTo>
                        <a:pt x="12" y="47"/>
                      </a:lnTo>
                      <a:lnTo>
                        <a:pt x="12" y="44"/>
                      </a:lnTo>
                      <a:lnTo>
                        <a:pt x="9" y="44"/>
                      </a:lnTo>
                      <a:lnTo>
                        <a:pt x="4" y="46"/>
                      </a:lnTo>
                      <a:lnTo>
                        <a:pt x="0" y="46"/>
                      </a:ln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0" y="73"/>
                      </a:lnTo>
                      <a:lnTo>
                        <a:pt x="1" y="77"/>
                      </a:lnTo>
                      <a:lnTo>
                        <a:pt x="1" y="83"/>
                      </a:lnTo>
                      <a:lnTo>
                        <a:pt x="1" y="87"/>
                      </a:lnTo>
                      <a:lnTo>
                        <a:pt x="3" y="91"/>
                      </a:lnTo>
                      <a:lnTo>
                        <a:pt x="3" y="96"/>
                      </a:lnTo>
                      <a:lnTo>
                        <a:pt x="3" y="101"/>
                      </a:lnTo>
                      <a:lnTo>
                        <a:pt x="3" y="105"/>
                      </a:lnTo>
                      <a:lnTo>
                        <a:pt x="4" y="110"/>
                      </a:lnTo>
                      <a:lnTo>
                        <a:pt x="6" y="114"/>
                      </a:lnTo>
                      <a:lnTo>
                        <a:pt x="6" y="118"/>
                      </a:lnTo>
                      <a:lnTo>
                        <a:pt x="6" y="123"/>
                      </a:lnTo>
                      <a:lnTo>
                        <a:pt x="6" y="127"/>
                      </a:lnTo>
                      <a:lnTo>
                        <a:pt x="7" y="131"/>
                      </a:lnTo>
                      <a:lnTo>
                        <a:pt x="7" y="135"/>
                      </a:lnTo>
                      <a:lnTo>
                        <a:pt x="7" y="139"/>
                      </a:lnTo>
                      <a:lnTo>
                        <a:pt x="9" y="142"/>
                      </a:lnTo>
                      <a:lnTo>
                        <a:pt x="9" y="146"/>
                      </a:lnTo>
                      <a:lnTo>
                        <a:pt x="10" y="151"/>
                      </a:lnTo>
                      <a:lnTo>
                        <a:pt x="10" y="155"/>
                      </a:lnTo>
                      <a:lnTo>
                        <a:pt x="10" y="158"/>
                      </a:lnTo>
                      <a:lnTo>
                        <a:pt x="12" y="160"/>
                      </a:lnTo>
                      <a:lnTo>
                        <a:pt x="12" y="164"/>
                      </a:lnTo>
                      <a:lnTo>
                        <a:pt x="12" y="168"/>
                      </a:lnTo>
                      <a:lnTo>
                        <a:pt x="12" y="171"/>
                      </a:lnTo>
                      <a:lnTo>
                        <a:pt x="13" y="176"/>
                      </a:lnTo>
                      <a:lnTo>
                        <a:pt x="13" y="180"/>
                      </a:lnTo>
                      <a:lnTo>
                        <a:pt x="13" y="183"/>
                      </a:lnTo>
                      <a:lnTo>
                        <a:pt x="13" y="187"/>
                      </a:lnTo>
                      <a:lnTo>
                        <a:pt x="15" y="191"/>
                      </a:lnTo>
                      <a:lnTo>
                        <a:pt x="15" y="197"/>
                      </a:lnTo>
                      <a:lnTo>
                        <a:pt x="15" y="199"/>
                      </a:lnTo>
                      <a:lnTo>
                        <a:pt x="13" y="198"/>
                      </a:lnTo>
                      <a:lnTo>
                        <a:pt x="13" y="197"/>
                      </a:lnTo>
                      <a:lnTo>
                        <a:pt x="12" y="194"/>
                      </a:lnTo>
                      <a:lnTo>
                        <a:pt x="12" y="582"/>
                      </a:lnTo>
                      <a:lnTo>
                        <a:pt x="211" y="582"/>
                      </a:lnTo>
                      <a:lnTo>
                        <a:pt x="206" y="114"/>
                      </a:lnTo>
                      <a:lnTo>
                        <a:pt x="205" y="110"/>
                      </a:lnTo>
                      <a:lnTo>
                        <a:pt x="205" y="107"/>
                      </a:lnTo>
                      <a:lnTo>
                        <a:pt x="205" y="103"/>
                      </a:lnTo>
                      <a:lnTo>
                        <a:pt x="205" y="99"/>
                      </a:lnTo>
                      <a:lnTo>
                        <a:pt x="205" y="96"/>
                      </a:lnTo>
                      <a:lnTo>
                        <a:pt x="205" y="92"/>
                      </a:lnTo>
                      <a:lnTo>
                        <a:pt x="205" y="90"/>
                      </a:lnTo>
                      <a:lnTo>
                        <a:pt x="205" y="85"/>
                      </a:lnTo>
                      <a:lnTo>
                        <a:pt x="205" y="81"/>
                      </a:lnTo>
                      <a:lnTo>
                        <a:pt x="205" y="79"/>
                      </a:lnTo>
                      <a:lnTo>
                        <a:pt x="205" y="75"/>
                      </a:lnTo>
                      <a:lnTo>
                        <a:pt x="205" y="72"/>
                      </a:lnTo>
                      <a:lnTo>
                        <a:pt x="205" y="68"/>
                      </a:lnTo>
                      <a:lnTo>
                        <a:pt x="205" y="65"/>
                      </a:lnTo>
                      <a:lnTo>
                        <a:pt x="205" y="61"/>
                      </a:lnTo>
                      <a:lnTo>
                        <a:pt x="205" y="58"/>
                      </a:lnTo>
                      <a:lnTo>
                        <a:pt x="205" y="54"/>
                      </a:lnTo>
                      <a:lnTo>
                        <a:pt x="205" y="50"/>
                      </a:lnTo>
                      <a:lnTo>
                        <a:pt x="205" y="47"/>
                      </a:lnTo>
                      <a:lnTo>
                        <a:pt x="205" y="43"/>
                      </a:lnTo>
                      <a:lnTo>
                        <a:pt x="205" y="39"/>
                      </a:lnTo>
                      <a:lnTo>
                        <a:pt x="205" y="36"/>
                      </a:lnTo>
                      <a:lnTo>
                        <a:pt x="205" y="32"/>
                      </a:lnTo>
                      <a:lnTo>
                        <a:pt x="205" y="29"/>
                      </a:lnTo>
                      <a:lnTo>
                        <a:pt x="205" y="25"/>
                      </a:lnTo>
                      <a:lnTo>
                        <a:pt x="205" y="21"/>
                      </a:lnTo>
                      <a:lnTo>
                        <a:pt x="205" y="18"/>
                      </a:lnTo>
                      <a:lnTo>
                        <a:pt x="205" y="15"/>
                      </a:lnTo>
                      <a:lnTo>
                        <a:pt x="203" y="11"/>
                      </a:lnTo>
                      <a:lnTo>
                        <a:pt x="203" y="7"/>
                      </a:lnTo>
                      <a:lnTo>
                        <a:pt x="203" y="4"/>
                      </a:lnTo>
                      <a:lnTo>
                        <a:pt x="203" y="0"/>
                      </a:lnTo>
                      <a:lnTo>
                        <a:pt x="203" y="3"/>
                      </a:lnTo>
                      <a:lnTo>
                        <a:pt x="203" y="7"/>
                      </a:lnTo>
                      <a:lnTo>
                        <a:pt x="203" y="10"/>
                      </a:lnTo>
                      <a:lnTo>
                        <a:pt x="203" y="13"/>
                      </a:lnTo>
                      <a:lnTo>
                        <a:pt x="203" y="17"/>
                      </a:lnTo>
                      <a:lnTo>
                        <a:pt x="203" y="20"/>
                      </a:lnTo>
                      <a:lnTo>
                        <a:pt x="203" y="24"/>
                      </a:lnTo>
                      <a:lnTo>
                        <a:pt x="203" y="26"/>
                      </a:lnTo>
                      <a:lnTo>
                        <a:pt x="201" y="29"/>
                      </a:lnTo>
                      <a:lnTo>
                        <a:pt x="201" y="33"/>
                      </a:lnTo>
                      <a:lnTo>
                        <a:pt x="201" y="36"/>
                      </a:lnTo>
                      <a:lnTo>
                        <a:pt x="201" y="40"/>
                      </a:lnTo>
                      <a:lnTo>
                        <a:pt x="201" y="43"/>
                      </a:lnTo>
                      <a:lnTo>
                        <a:pt x="201" y="47"/>
                      </a:lnTo>
                      <a:lnTo>
                        <a:pt x="201" y="50"/>
                      </a:lnTo>
                      <a:lnTo>
                        <a:pt x="201" y="53"/>
                      </a:lnTo>
                      <a:lnTo>
                        <a:pt x="201" y="57"/>
                      </a:lnTo>
                      <a:lnTo>
                        <a:pt x="201" y="59"/>
                      </a:lnTo>
                      <a:lnTo>
                        <a:pt x="201" y="64"/>
                      </a:lnTo>
                      <a:lnTo>
                        <a:pt x="201" y="66"/>
                      </a:lnTo>
                      <a:lnTo>
                        <a:pt x="201" y="70"/>
                      </a:lnTo>
                      <a:lnTo>
                        <a:pt x="201" y="73"/>
                      </a:lnTo>
                      <a:lnTo>
                        <a:pt x="201" y="77"/>
                      </a:lnTo>
                      <a:lnTo>
                        <a:pt x="201" y="80"/>
                      </a:lnTo>
                      <a:lnTo>
                        <a:pt x="201" y="84"/>
                      </a:lnTo>
                      <a:lnTo>
                        <a:pt x="201" y="87"/>
                      </a:lnTo>
                      <a:lnTo>
                        <a:pt x="201" y="90"/>
                      </a:lnTo>
                      <a:lnTo>
                        <a:pt x="201" y="94"/>
                      </a:lnTo>
                      <a:lnTo>
                        <a:pt x="201" y="96"/>
                      </a:lnTo>
                      <a:lnTo>
                        <a:pt x="201" y="101"/>
                      </a:lnTo>
                      <a:lnTo>
                        <a:pt x="201" y="103"/>
                      </a:lnTo>
                      <a:lnTo>
                        <a:pt x="201" y="107"/>
                      </a:lnTo>
                      <a:lnTo>
                        <a:pt x="200" y="103"/>
                      </a:lnTo>
                      <a:lnTo>
                        <a:pt x="198" y="99"/>
                      </a:lnTo>
                      <a:lnTo>
                        <a:pt x="198" y="94"/>
                      </a:lnTo>
                      <a:lnTo>
                        <a:pt x="197" y="90"/>
                      </a:lnTo>
                      <a:lnTo>
                        <a:pt x="195" y="84"/>
                      </a:lnTo>
                      <a:lnTo>
                        <a:pt x="195" y="80"/>
                      </a:lnTo>
                      <a:lnTo>
                        <a:pt x="194" y="76"/>
                      </a:lnTo>
                      <a:lnTo>
                        <a:pt x="194" y="72"/>
                      </a:lnTo>
                      <a:lnTo>
                        <a:pt x="191" y="73"/>
                      </a:lnTo>
                      <a:lnTo>
                        <a:pt x="191" y="79"/>
                      </a:lnTo>
                      <a:lnTo>
                        <a:pt x="191" y="80"/>
                      </a:lnTo>
                      <a:lnTo>
                        <a:pt x="191" y="84"/>
                      </a:lnTo>
                      <a:lnTo>
                        <a:pt x="191" y="88"/>
                      </a:lnTo>
                      <a:lnTo>
                        <a:pt x="191" y="92"/>
                      </a:lnTo>
                      <a:lnTo>
                        <a:pt x="191" y="96"/>
                      </a:lnTo>
                      <a:lnTo>
                        <a:pt x="191" y="101"/>
                      </a:lnTo>
                      <a:lnTo>
                        <a:pt x="191" y="105"/>
                      </a:lnTo>
                      <a:lnTo>
                        <a:pt x="191" y="110"/>
                      </a:lnTo>
                      <a:lnTo>
                        <a:pt x="191" y="114"/>
                      </a:lnTo>
                      <a:lnTo>
                        <a:pt x="191" y="120"/>
                      </a:lnTo>
                      <a:lnTo>
                        <a:pt x="191" y="125"/>
                      </a:lnTo>
                      <a:lnTo>
                        <a:pt x="192" y="131"/>
                      </a:lnTo>
                      <a:lnTo>
                        <a:pt x="192" y="135"/>
                      </a:lnTo>
                      <a:lnTo>
                        <a:pt x="192" y="139"/>
                      </a:lnTo>
                      <a:lnTo>
                        <a:pt x="192" y="145"/>
                      </a:lnTo>
                      <a:lnTo>
                        <a:pt x="192" y="149"/>
                      </a:lnTo>
                      <a:lnTo>
                        <a:pt x="192" y="153"/>
                      </a:lnTo>
                      <a:lnTo>
                        <a:pt x="192" y="157"/>
                      </a:lnTo>
                      <a:lnTo>
                        <a:pt x="192" y="161"/>
                      </a:lnTo>
                      <a:lnTo>
                        <a:pt x="194" y="164"/>
                      </a:lnTo>
                      <a:lnTo>
                        <a:pt x="192" y="168"/>
                      </a:lnTo>
                      <a:lnTo>
                        <a:pt x="192" y="172"/>
                      </a:lnTo>
                      <a:lnTo>
                        <a:pt x="191" y="173"/>
                      </a:lnTo>
                      <a:lnTo>
                        <a:pt x="191" y="171"/>
                      </a:lnTo>
                      <a:lnTo>
                        <a:pt x="191" y="165"/>
                      </a:lnTo>
                      <a:lnTo>
                        <a:pt x="189" y="160"/>
                      </a:lnTo>
                      <a:lnTo>
                        <a:pt x="189" y="154"/>
                      </a:lnTo>
                      <a:lnTo>
                        <a:pt x="189" y="149"/>
                      </a:lnTo>
                      <a:lnTo>
                        <a:pt x="189" y="143"/>
                      </a:lnTo>
                      <a:lnTo>
                        <a:pt x="188" y="139"/>
                      </a:lnTo>
                      <a:lnTo>
                        <a:pt x="188" y="134"/>
                      </a:lnTo>
                      <a:lnTo>
                        <a:pt x="188" y="129"/>
                      </a:lnTo>
                      <a:lnTo>
                        <a:pt x="188" y="124"/>
                      </a:lnTo>
                      <a:lnTo>
                        <a:pt x="188" y="121"/>
                      </a:lnTo>
                      <a:lnTo>
                        <a:pt x="188" y="116"/>
                      </a:lnTo>
                      <a:lnTo>
                        <a:pt x="188" y="112"/>
                      </a:lnTo>
                      <a:lnTo>
                        <a:pt x="186" y="107"/>
                      </a:lnTo>
                      <a:lnTo>
                        <a:pt x="186" y="103"/>
                      </a:lnTo>
                      <a:lnTo>
                        <a:pt x="186" y="99"/>
                      </a:lnTo>
                      <a:lnTo>
                        <a:pt x="186" y="95"/>
                      </a:lnTo>
                      <a:lnTo>
                        <a:pt x="185" y="90"/>
                      </a:lnTo>
                      <a:lnTo>
                        <a:pt x="185" y="87"/>
                      </a:lnTo>
                      <a:lnTo>
                        <a:pt x="185" y="81"/>
                      </a:lnTo>
                      <a:lnTo>
                        <a:pt x="185" y="77"/>
                      </a:lnTo>
                      <a:lnTo>
                        <a:pt x="183" y="73"/>
                      </a:lnTo>
                      <a:lnTo>
                        <a:pt x="183" y="68"/>
                      </a:lnTo>
                      <a:lnTo>
                        <a:pt x="183" y="64"/>
                      </a:lnTo>
                      <a:lnTo>
                        <a:pt x="183" y="59"/>
                      </a:lnTo>
                      <a:lnTo>
                        <a:pt x="182" y="55"/>
                      </a:lnTo>
                      <a:lnTo>
                        <a:pt x="182" y="50"/>
                      </a:lnTo>
                      <a:lnTo>
                        <a:pt x="182" y="44"/>
                      </a:lnTo>
                      <a:lnTo>
                        <a:pt x="182" y="40"/>
                      </a:lnTo>
                      <a:lnTo>
                        <a:pt x="182" y="35"/>
                      </a:lnTo>
                      <a:lnTo>
                        <a:pt x="182" y="31"/>
                      </a:lnTo>
                      <a:lnTo>
                        <a:pt x="182" y="24"/>
                      </a:lnTo>
                      <a:lnTo>
                        <a:pt x="182" y="20"/>
                      </a:lnTo>
                      <a:lnTo>
                        <a:pt x="179" y="20"/>
                      </a:lnTo>
                      <a:lnTo>
                        <a:pt x="177" y="24"/>
                      </a:lnTo>
                      <a:lnTo>
                        <a:pt x="175" y="26"/>
                      </a:lnTo>
                      <a:lnTo>
                        <a:pt x="174" y="31"/>
                      </a:lnTo>
                      <a:lnTo>
                        <a:pt x="174" y="33"/>
                      </a:lnTo>
                      <a:lnTo>
                        <a:pt x="172" y="37"/>
                      </a:lnTo>
                      <a:lnTo>
                        <a:pt x="172" y="40"/>
                      </a:lnTo>
                      <a:lnTo>
                        <a:pt x="172" y="44"/>
                      </a:lnTo>
                      <a:lnTo>
                        <a:pt x="171" y="47"/>
                      </a:lnTo>
                      <a:lnTo>
                        <a:pt x="171" y="53"/>
                      </a:lnTo>
                      <a:lnTo>
                        <a:pt x="169" y="57"/>
                      </a:lnTo>
                      <a:lnTo>
                        <a:pt x="169" y="64"/>
                      </a:lnTo>
                      <a:lnTo>
                        <a:pt x="169" y="65"/>
                      </a:lnTo>
                      <a:lnTo>
                        <a:pt x="169" y="68"/>
                      </a:lnTo>
                      <a:lnTo>
                        <a:pt x="169" y="72"/>
                      </a:lnTo>
                      <a:lnTo>
                        <a:pt x="169" y="75"/>
                      </a:lnTo>
                      <a:lnTo>
                        <a:pt x="169" y="77"/>
                      </a:lnTo>
                      <a:lnTo>
                        <a:pt x="169" y="81"/>
                      </a:lnTo>
                      <a:lnTo>
                        <a:pt x="169" y="85"/>
                      </a:lnTo>
                      <a:lnTo>
                        <a:pt x="169" y="90"/>
                      </a:lnTo>
                      <a:lnTo>
                        <a:pt x="169" y="92"/>
                      </a:lnTo>
                      <a:lnTo>
                        <a:pt x="169" y="96"/>
                      </a:lnTo>
                      <a:lnTo>
                        <a:pt x="169" y="101"/>
                      </a:lnTo>
                      <a:lnTo>
                        <a:pt x="169" y="105"/>
                      </a:lnTo>
                      <a:lnTo>
                        <a:pt x="169" y="109"/>
                      </a:lnTo>
                      <a:lnTo>
                        <a:pt x="169" y="113"/>
                      </a:lnTo>
                      <a:lnTo>
                        <a:pt x="169" y="118"/>
                      </a:lnTo>
                      <a:lnTo>
                        <a:pt x="169" y="124"/>
                      </a:lnTo>
                      <a:lnTo>
                        <a:pt x="169" y="128"/>
                      </a:lnTo>
                      <a:lnTo>
                        <a:pt x="169" y="134"/>
                      </a:lnTo>
                      <a:lnTo>
                        <a:pt x="171" y="138"/>
                      </a:lnTo>
                      <a:lnTo>
                        <a:pt x="171" y="143"/>
                      </a:lnTo>
                      <a:lnTo>
                        <a:pt x="171" y="149"/>
                      </a:lnTo>
                      <a:lnTo>
                        <a:pt x="171" y="154"/>
                      </a:lnTo>
                      <a:lnTo>
                        <a:pt x="172" y="160"/>
                      </a:lnTo>
                      <a:lnTo>
                        <a:pt x="174" y="166"/>
                      </a:lnTo>
                      <a:lnTo>
                        <a:pt x="174" y="169"/>
                      </a:lnTo>
                      <a:lnTo>
                        <a:pt x="174" y="172"/>
                      </a:lnTo>
                      <a:lnTo>
                        <a:pt x="174" y="176"/>
                      </a:lnTo>
                      <a:lnTo>
                        <a:pt x="174" y="182"/>
                      </a:lnTo>
                      <a:lnTo>
                        <a:pt x="174" y="186"/>
                      </a:lnTo>
                      <a:lnTo>
                        <a:pt x="174" y="191"/>
                      </a:lnTo>
                      <a:lnTo>
                        <a:pt x="174" y="197"/>
                      </a:lnTo>
                      <a:lnTo>
                        <a:pt x="174" y="204"/>
                      </a:lnTo>
                      <a:lnTo>
                        <a:pt x="172" y="209"/>
                      </a:lnTo>
                      <a:lnTo>
                        <a:pt x="172" y="215"/>
                      </a:lnTo>
                      <a:lnTo>
                        <a:pt x="172" y="220"/>
                      </a:lnTo>
                      <a:lnTo>
                        <a:pt x="172" y="224"/>
                      </a:lnTo>
                      <a:lnTo>
                        <a:pt x="171" y="228"/>
                      </a:lnTo>
                      <a:lnTo>
                        <a:pt x="171" y="232"/>
                      </a:lnTo>
                      <a:lnTo>
                        <a:pt x="169" y="235"/>
                      </a:lnTo>
                      <a:lnTo>
                        <a:pt x="168" y="238"/>
                      </a:lnTo>
                      <a:lnTo>
                        <a:pt x="166" y="231"/>
                      </a:lnTo>
                      <a:lnTo>
                        <a:pt x="166" y="225"/>
                      </a:lnTo>
                      <a:lnTo>
                        <a:pt x="165" y="220"/>
                      </a:lnTo>
                      <a:lnTo>
                        <a:pt x="165" y="215"/>
                      </a:lnTo>
                      <a:lnTo>
                        <a:pt x="163" y="209"/>
                      </a:lnTo>
                      <a:lnTo>
                        <a:pt x="163" y="204"/>
                      </a:lnTo>
                      <a:lnTo>
                        <a:pt x="163" y="198"/>
                      </a:lnTo>
                      <a:lnTo>
                        <a:pt x="163" y="193"/>
                      </a:lnTo>
                      <a:lnTo>
                        <a:pt x="163" y="186"/>
                      </a:lnTo>
                      <a:lnTo>
                        <a:pt x="163" y="182"/>
                      </a:lnTo>
                      <a:lnTo>
                        <a:pt x="163" y="175"/>
                      </a:lnTo>
                      <a:lnTo>
                        <a:pt x="163" y="171"/>
                      </a:lnTo>
                      <a:lnTo>
                        <a:pt x="163" y="165"/>
                      </a:lnTo>
                      <a:lnTo>
                        <a:pt x="163" y="158"/>
                      </a:lnTo>
                      <a:lnTo>
                        <a:pt x="163" y="153"/>
                      </a:lnTo>
                      <a:lnTo>
                        <a:pt x="163" y="149"/>
                      </a:lnTo>
                      <a:lnTo>
                        <a:pt x="162" y="142"/>
                      </a:lnTo>
                      <a:lnTo>
                        <a:pt x="162" y="136"/>
                      </a:lnTo>
                      <a:lnTo>
                        <a:pt x="162" y="131"/>
                      </a:lnTo>
                      <a:lnTo>
                        <a:pt x="162" y="125"/>
                      </a:lnTo>
                      <a:lnTo>
                        <a:pt x="162" y="118"/>
                      </a:lnTo>
                      <a:lnTo>
                        <a:pt x="162" y="114"/>
                      </a:lnTo>
                      <a:lnTo>
                        <a:pt x="162" y="107"/>
                      </a:lnTo>
                      <a:lnTo>
                        <a:pt x="162" y="102"/>
                      </a:lnTo>
                      <a:lnTo>
                        <a:pt x="162" y="96"/>
                      </a:lnTo>
                      <a:lnTo>
                        <a:pt x="160" y="91"/>
                      </a:lnTo>
                      <a:lnTo>
                        <a:pt x="160" y="85"/>
                      </a:lnTo>
                      <a:lnTo>
                        <a:pt x="160" y="80"/>
                      </a:lnTo>
                      <a:lnTo>
                        <a:pt x="160" y="75"/>
                      </a:lnTo>
                      <a:lnTo>
                        <a:pt x="159" y="69"/>
                      </a:lnTo>
                      <a:lnTo>
                        <a:pt x="159" y="62"/>
                      </a:lnTo>
                      <a:lnTo>
                        <a:pt x="157" y="58"/>
                      </a:lnTo>
                      <a:lnTo>
                        <a:pt x="157" y="55"/>
                      </a:lnTo>
                      <a:lnTo>
                        <a:pt x="157" y="53"/>
                      </a:lnTo>
                      <a:lnTo>
                        <a:pt x="156" y="48"/>
                      </a:lnTo>
                      <a:lnTo>
                        <a:pt x="156" y="47"/>
                      </a:lnTo>
                      <a:lnTo>
                        <a:pt x="154" y="50"/>
                      </a:lnTo>
                      <a:lnTo>
                        <a:pt x="154" y="53"/>
                      </a:lnTo>
                      <a:lnTo>
                        <a:pt x="153" y="57"/>
                      </a:lnTo>
                      <a:lnTo>
                        <a:pt x="153" y="59"/>
                      </a:lnTo>
                      <a:lnTo>
                        <a:pt x="153" y="64"/>
                      </a:lnTo>
                      <a:lnTo>
                        <a:pt x="151" y="66"/>
                      </a:lnTo>
                      <a:lnTo>
                        <a:pt x="151" y="70"/>
                      </a:lnTo>
                      <a:lnTo>
                        <a:pt x="151" y="75"/>
                      </a:lnTo>
                      <a:lnTo>
                        <a:pt x="156" y="138"/>
                      </a:lnTo>
                      <a:lnTo>
                        <a:pt x="154" y="142"/>
                      </a:lnTo>
                      <a:lnTo>
                        <a:pt x="154" y="146"/>
                      </a:lnTo>
                      <a:lnTo>
                        <a:pt x="154" y="151"/>
                      </a:lnTo>
                      <a:lnTo>
                        <a:pt x="154" y="155"/>
                      </a:lnTo>
                      <a:lnTo>
                        <a:pt x="154" y="161"/>
                      </a:lnTo>
                      <a:lnTo>
                        <a:pt x="154" y="166"/>
                      </a:lnTo>
                      <a:lnTo>
                        <a:pt x="153" y="171"/>
                      </a:lnTo>
                      <a:lnTo>
                        <a:pt x="153" y="176"/>
                      </a:lnTo>
                      <a:lnTo>
                        <a:pt x="153" y="180"/>
                      </a:lnTo>
                      <a:lnTo>
                        <a:pt x="153" y="186"/>
                      </a:lnTo>
                      <a:lnTo>
                        <a:pt x="151" y="191"/>
                      </a:lnTo>
                      <a:lnTo>
                        <a:pt x="151" y="195"/>
                      </a:lnTo>
                      <a:lnTo>
                        <a:pt x="151" y="201"/>
                      </a:lnTo>
                      <a:lnTo>
                        <a:pt x="151" y="206"/>
                      </a:lnTo>
                      <a:lnTo>
                        <a:pt x="153" y="210"/>
                      </a:lnTo>
                      <a:lnTo>
                        <a:pt x="153" y="217"/>
                      </a:lnTo>
                      <a:lnTo>
                        <a:pt x="153" y="544"/>
                      </a:lnTo>
                      <a:lnTo>
                        <a:pt x="75" y="545"/>
                      </a:lnTo>
                      <a:lnTo>
                        <a:pt x="71" y="99"/>
                      </a:lnTo>
                      <a:lnTo>
                        <a:pt x="71" y="95"/>
                      </a:lnTo>
                      <a:lnTo>
                        <a:pt x="71" y="92"/>
                      </a:lnTo>
                      <a:lnTo>
                        <a:pt x="71" y="88"/>
                      </a:lnTo>
                      <a:lnTo>
                        <a:pt x="71" y="85"/>
                      </a:lnTo>
                      <a:lnTo>
                        <a:pt x="70" y="81"/>
                      </a:lnTo>
                      <a:lnTo>
                        <a:pt x="68" y="79"/>
                      </a:lnTo>
                      <a:lnTo>
                        <a:pt x="68" y="75"/>
                      </a:lnTo>
                      <a:lnTo>
                        <a:pt x="68" y="72"/>
                      </a:lnTo>
                      <a:lnTo>
                        <a:pt x="67" y="68"/>
                      </a:lnTo>
                      <a:lnTo>
                        <a:pt x="65" y="65"/>
                      </a:lnTo>
                      <a:lnTo>
                        <a:pt x="64" y="62"/>
                      </a:lnTo>
                      <a:lnTo>
                        <a:pt x="64" y="58"/>
                      </a:lnTo>
                      <a:lnTo>
                        <a:pt x="62" y="53"/>
                      </a:lnTo>
                      <a:lnTo>
                        <a:pt x="62" y="47"/>
                      </a:lnTo>
                      <a:lnTo>
                        <a:pt x="58" y="53"/>
                      </a:lnTo>
                      <a:lnTo>
                        <a:pt x="59" y="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41"/>
                <p:cNvSpPr/>
                <p:nvPr/>
              </p:nvSpPr>
              <p:spPr>
                <a:xfrm>
                  <a:off x="3112560" y="2039760"/>
                  <a:ext cx="4680" cy="590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4" h="161">
                      <a:moveTo>
                        <a:pt x="14" y="0"/>
                      </a:moveTo>
                      <a:lnTo>
                        <a:pt x="14" y="3"/>
                      </a:lnTo>
                      <a:lnTo>
                        <a:pt x="12" y="7"/>
                      </a:lnTo>
                      <a:lnTo>
                        <a:pt x="12" y="11"/>
                      </a:lnTo>
                      <a:lnTo>
                        <a:pt x="12" y="16"/>
                      </a:lnTo>
                      <a:lnTo>
                        <a:pt x="11" y="20"/>
                      </a:lnTo>
                      <a:lnTo>
                        <a:pt x="11" y="24"/>
                      </a:lnTo>
                      <a:lnTo>
                        <a:pt x="11" y="28"/>
                      </a:lnTo>
                      <a:lnTo>
                        <a:pt x="11" y="32"/>
                      </a:lnTo>
                      <a:lnTo>
                        <a:pt x="11" y="36"/>
                      </a:lnTo>
                      <a:lnTo>
                        <a:pt x="11" y="40"/>
                      </a:lnTo>
                      <a:lnTo>
                        <a:pt x="11" y="44"/>
                      </a:lnTo>
                      <a:lnTo>
                        <a:pt x="11" y="48"/>
                      </a:lnTo>
                      <a:lnTo>
                        <a:pt x="11" y="53"/>
                      </a:lnTo>
                      <a:lnTo>
                        <a:pt x="11" y="58"/>
                      </a:lnTo>
                      <a:lnTo>
                        <a:pt x="11" y="61"/>
                      </a:lnTo>
                      <a:lnTo>
                        <a:pt x="11" y="66"/>
                      </a:lnTo>
                      <a:lnTo>
                        <a:pt x="11" y="72"/>
                      </a:lnTo>
                      <a:lnTo>
                        <a:pt x="11" y="77"/>
                      </a:lnTo>
                      <a:lnTo>
                        <a:pt x="11" y="83"/>
                      </a:lnTo>
                      <a:lnTo>
                        <a:pt x="11" y="90"/>
                      </a:lnTo>
                      <a:lnTo>
                        <a:pt x="11" y="95"/>
                      </a:lnTo>
                      <a:lnTo>
                        <a:pt x="9" y="101"/>
                      </a:lnTo>
                      <a:lnTo>
                        <a:pt x="9" y="105"/>
                      </a:lnTo>
                      <a:lnTo>
                        <a:pt x="9" y="107"/>
                      </a:lnTo>
                      <a:lnTo>
                        <a:pt x="9" y="110"/>
                      </a:lnTo>
                      <a:lnTo>
                        <a:pt x="9" y="113"/>
                      </a:lnTo>
                      <a:lnTo>
                        <a:pt x="8" y="120"/>
                      </a:lnTo>
                      <a:lnTo>
                        <a:pt x="6" y="125"/>
                      </a:lnTo>
                      <a:lnTo>
                        <a:pt x="6" y="131"/>
                      </a:lnTo>
                      <a:lnTo>
                        <a:pt x="5" y="138"/>
                      </a:lnTo>
                      <a:lnTo>
                        <a:pt x="3" y="143"/>
                      </a:lnTo>
                      <a:lnTo>
                        <a:pt x="3" y="149"/>
                      </a:lnTo>
                      <a:lnTo>
                        <a:pt x="2" y="151"/>
                      </a:lnTo>
                      <a:lnTo>
                        <a:pt x="2" y="154"/>
                      </a:lnTo>
                      <a:lnTo>
                        <a:pt x="0" y="158"/>
                      </a:lnTo>
                      <a:lnTo>
                        <a:pt x="0" y="161"/>
                      </a:lnTo>
                      <a:lnTo>
                        <a:pt x="0" y="160"/>
                      </a:lnTo>
                      <a:lnTo>
                        <a:pt x="0" y="157"/>
                      </a:lnTo>
                      <a:lnTo>
                        <a:pt x="0" y="153"/>
                      </a:lnTo>
                      <a:lnTo>
                        <a:pt x="2" y="150"/>
                      </a:lnTo>
                      <a:lnTo>
                        <a:pt x="2" y="145"/>
                      </a:lnTo>
                      <a:lnTo>
                        <a:pt x="2" y="140"/>
                      </a:lnTo>
                      <a:lnTo>
                        <a:pt x="2" y="135"/>
                      </a:lnTo>
                      <a:lnTo>
                        <a:pt x="3" y="129"/>
                      </a:lnTo>
                      <a:lnTo>
                        <a:pt x="3" y="127"/>
                      </a:lnTo>
                      <a:lnTo>
                        <a:pt x="3" y="123"/>
                      </a:lnTo>
                      <a:lnTo>
                        <a:pt x="3" y="120"/>
                      </a:lnTo>
                      <a:lnTo>
                        <a:pt x="3" y="117"/>
                      </a:lnTo>
                      <a:lnTo>
                        <a:pt x="3" y="113"/>
                      </a:lnTo>
                      <a:lnTo>
                        <a:pt x="3" y="110"/>
                      </a:lnTo>
                      <a:lnTo>
                        <a:pt x="3" y="107"/>
                      </a:lnTo>
                      <a:lnTo>
                        <a:pt x="3" y="105"/>
                      </a:lnTo>
                      <a:lnTo>
                        <a:pt x="3" y="101"/>
                      </a:lnTo>
                      <a:lnTo>
                        <a:pt x="3" y="97"/>
                      </a:lnTo>
                      <a:lnTo>
                        <a:pt x="3" y="94"/>
                      </a:lnTo>
                      <a:lnTo>
                        <a:pt x="3" y="90"/>
                      </a:lnTo>
                      <a:lnTo>
                        <a:pt x="3" y="87"/>
                      </a:lnTo>
                      <a:lnTo>
                        <a:pt x="5" y="83"/>
                      </a:lnTo>
                      <a:lnTo>
                        <a:pt x="5" y="80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5" y="69"/>
                      </a:lnTo>
                      <a:lnTo>
                        <a:pt x="5" y="65"/>
                      </a:lnTo>
                      <a:lnTo>
                        <a:pt x="5" y="62"/>
                      </a:lnTo>
                      <a:lnTo>
                        <a:pt x="5" y="58"/>
                      </a:lnTo>
                      <a:lnTo>
                        <a:pt x="6" y="55"/>
                      </a:lnTo>
                      <a:lnTo>
                        <a:pt x="6" y="51"/>
                      </a:lnTo>
                      <a:lnTo>
                        <a:pt x="6" y="48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39"/>
                      </a:lnTo>
                      <a:lnTo>
                        <a:pt x="6" y="36"/>
                      </a:lnTo>
                      <a:lnTo>
                        <a:pt x="8" y="29"/>
                      </a:lnTo>
                      <a:lnTo>
                        <a:pt x="8" y="25"/>
                      </a:lnTo>
                      <a:lnTo>
                        <a:pt x="8" y="20"/>
                      </a:lnTo>
                      <a:lnTo>
                        <a:pt x="9" y="14"/>
                      </a:lnTo>
                      <a:lnTo>
                        <a:pt x="9" y="11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42"/>
                <p:cNvSpPr/>
                <p:nvPr/>
              </p:nvSpPr>
              <p:spPr>
                <a:xfrm>
                  <a:off x="3150000" y="1904760"/>
                  <a:ext cx="73800" cy="21492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214920"/>
                    <a:gd name="textAreaBottom" fmla="*/ 215280 h 214920"/>
                  </a:gdLst>
                  <a:ahLst/>
                  <a:rect l="textAreaLeft" t="textAreaTop" r="textAreaRight" b="textAreaBottom"/>
                  <a:pathLst>
                    <a:path w="214" h="584">
                      <a:moveTo>
                        <a:pt x="62" y="77"/>
                      </a:moveTo>
                      <a:lnTo>
                        <a:pt x="62" y="81"/>
                      </a:lnTo>
                      <a:lnTo>
                        <a:pt x="62" y="87"/>
                      </a:lnTo>
                      <a:lnTo>
                        <a:pt x="64" y="91"/>
                      </a:lnTo>
                      <a:lnTo>
                        <a:pt x="64" y="96"/>
                      </a:lnTo>
                      <a:lnTo>
                        <a:pt x="65" y="102"/>
                      </a:lnTo>
                      <a:lnTo>
                        <a:pt x="67" y="107"/>
                      </a:lnTo>
                      <a:lnTo>
                        <a:pt x="67" y="113"/>
                      </a:lnTo>
                      <a:lnTo>
                        <a:pt x="68" y="118"/>
                      </a:lnTo>
                      <a:lnTo>
                        <a:pt x="68" y="124"/>
                      </a:lnTo>
                      <a:lnTo>
                        <a:pt x="68" y="128"/>
                      </a:lnTo>
                      <a:lnTo>
                        <a:pt x="68" y="133"/>
                      </a:lnTo>
                      <a:lnTo>
                        <a:pt x="70" y="139"/>
                      </a:lnTo>
                      <a:lnTo>
                        <a:pt x="68" y="143"/>
                      </a:lnTo>
                      <a:lnTo>
                        <a:pt x="68" y="148"/>
                      </a:lnTo>
                      <a:lnTo>
                        <a:pt x="67" y="152"/>
                      </a:lnTo>
                      <a:lnTo>
                        <a:pt x="67" y="157"/>
                      </a:lnTo>
                      <a:lnTo>
                        <a:pt x="67" y="155"/>
                      </a:lnTo>
                      <a:lnTo>
                        <a:pt x="65" y="152"/>
                      </a:lnTo>
                      <a:lnTo>
                        <a:pt x="65" y="150"/>
                      </a:lnTo>
                      <a:lnTo>
                        <a:pt x="64" y="146"/>
                      </a:lnTo>
                      <a:lnTo>
                        <a:pt x="62" y="142"/>
                      </a:lnTo>
                      <a:lnTo>
                        <a:pt x="61" y="136"/>
                      </a:lnTo>
                      <a:lnTo>
                        <a:pt x="61" y="132"/>
                      </a:lnTo>
                      <a:lnTo>
                        <a:pt x="59" y="129"/>
                      </a:lnTo>
                      <a:lnTo>
                        <a:pt x="59" y="126"/>
                      </a:lnTo>
                      <a:lnTo>
                        <a:pt x="58" y="122"/>
                      </a:lnTo>
                      <a:lnTo>
                        <a:pt x="58" y="120"/>
                      </a:lnTo>
                      <a:lnTo>
                        <a:pt x="56" y="117"/>
                      </a:lnTo>
                      <a:lnTo>
                        <a:pt x="56" y="113"/>
                      </a:lnTo>
                      <a:lnTo>
                        <a:pt x="55" y="110"/>
                      </a:lnTo>
                      <a:lnTo>
                        <a:pt x="55" y="107"/>
                      </a:lnTo>
                      <a:lnTo>
                        <a:pt x="53" y="103"/>
                      </a:lnTo>
                      <a:lnTo>
                        <a:pt x="53" y="99"/>
                      </a:lnTo>
                      <a:lnTo>
                        <a:pt x="52" y="96"/>
                      </a:lnTo>
                      <a:lnTo>
                        <a:pt x="52" y="92"/>
                      </a:lnTo>
                      <a:lnTo>
                        <a:pt x="50" y="88"/>
                      </a:lnTo>
                      <a:lnTo>
                        <a:pt x="50" y="85"/>
                      </a:lnTo>
                      <a:lnTo>
                        <a:pt x="48" y="81"/>
                      </a:lnTo>
                      <a:lnTo>
                        <a:pt x="48" y="78"/>
                      </a:lnTo>
                      <a:lnTo>
                        <a:pt x="47" y="74"/>
                      </a:lnTo>
                      <a:lnTo>
                        <a:pt x="45" y="70"/>
                      </a:lnTo>
                      <a:lnTo>
                        <a:pt x="45" y="66"/>
                      </a:lnTo>
                      <a:lnTo>
                        <a:pt x="44" y="63"/>
                      </a:lnTo>
                      <a:lnTo>
                        <a:pt x="42" y="59"/>
                      </a:lnTo>
                      <a:lnTo>
                        <a:pt x="42" y="56"/>
                      </a:lnTo>
                      <a:lnTo>
                        <a:pt x="41" y="52"/>
                      </a:lnTo>
                      <a:lnTo>
                        <a:pt x="41" y="50"/>
                      </a:lnTo>
                      <a:lnTo>
                        <a:pt x="39" y="45"/>
                      </a:lnTo>
                      <a:lnTo>
                        <a:pt x="38" y="43"/>
                      </a:lnTo>
                      <a:lnTo>
                        <a:pt x="38" y="39"/>
                      </a:lnTo>
                      <a:lnTo>
                        <a:pt x="38" y="36"/>
                      </a:lnTo>
                      <a:lnTo>
                        <a:pt x="36" y="29"/>
                      </a:lnTo>
                      <a:lnTo>
                        <a:pt x="35" y="25"/>
                      </a:lnTo>
                      <a:lnTo>
                        <a:pt x="33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30" y="6"/>
                      </a:lnTo>
                      <a:lnTo>
                        <a:pt x="29" y="1"/>
                      </a:lnTo>
                      <a:lnTo>
                        <a:pt x="29" y="0"/>
                      </a:lnTo>
                      <a:lnTo>
                        <a:pt x="27" y="6"/>
                      </a:lnTo>
                      <a:lnTo>
                        <a:pt x="27" y="11"/>
                      </a:lnTo>
                      <a:lnTo>
                        <a:pt x="26" y="15"/>
                      </a:lnTo>
                      <a:lnTo>
                        <a:pt x="26" y="18"/>
                      </a:lnTo>
                      <a:lnTo>
                        <a:pt x="26" y="21"/>
                      </a:lnTo>
                      <a:lnTo>
                        <a:pt x="27" y="25"/>
                      </a:lnTo>
                      <a:lnTo>
                        <a:pt x="27" y="28"/>
                      </a:lnTo>
                      <a:lnTo>
                        <a:pt x="27" y="32"/>
                      </a:lnTo>
                      <a:lnTo>
                        <a:pt x="27" y="34"/>
                      </a:lnTo>
                      <a:lnTo>
                        <a:pt x="29" y="39"/>
                      </a:lnTo>
                      <a:lnTo>
                        <a:pt x="29" y="41"/>
                      </a:lnTo>
                      <a:lnTo>
                        <a:pt x="30" y="44"/>
                      </a:lnTo>
                      <a:lnTo>
                        <a:pt x="30" y="47"/>
                      </a:lnTo>
                      <a:lnTo>
                        <a:pt x="32" y="50"/>
                      </a:lnTo>
                      <a:lnTo>
                        <a:pt x="33" y="52"/>
                      </a:lnTo>
                      <a:lnTo>
                        <a:pt x="35" y="55"/>
                      </a:lnTo>
                      <a:lnTo>
                        <a:pt x="35" y="56"/>
                      </a:lnTo>
                      <a:lnTo>
                        <a:pt x="36" y="59"/>
                      </a:lnTo>
                      <a:lnTo>
                        <a:pt x="38" y="65"/>
                      </a:lnTo>
                      <a:lnTo>
                        <a:pt x="38" y="72"/>
                      </a:lnTo>
                      <a:lnTo>
                        <a:pt x="38" y="77"/>
                      </a:lnTo>
                      <a:lnTo>
                        <a:pt x="39" y="82"/>
                      </a:lnTo>
                      <a:lnTo>
                        <a:pt x="39" y="85"/>
                      </a:lnTo>
                      <a:lnTo>
                        <a:pt x="41" y="89"/>
                      </a:lnTo>
                      <a:lnTo>
                        <a:pt x="41" y="92"/>
                      </a:lnTo>
                      <a:lnTo>
                        <a:pt x="41" y="95"/>
                      </a:lnTo>
                      <a:lnTo>
                        <a:pt x="41" y="98"/>
                      </a:lnTo>
                      <a:lnTo>
                        <a:pt x="42" y="102"/>
                      </a:lnTo>
                      <a:lnTo>
                        <a:pt x="42" y="104"/>
                      </a:lnTo>
                      <a:lnTo>
                        <a:pt x="42" y="109"/>
                      </a:lnTo>
                      <a:lnTo>
                        <a:pt x="42" y="114"/>
                      </a:lnTo>
                      <a:lnTo>
                        <a:pt x="44" y="120"/>
                      </a:lnTo>
                      <a:lnTo>
                        <a:pt x="44" y="122"/>
                      </a:lnTo>
                      <a:lnTo>
                        <a:pt x="44" y="126"/>
                      </a:lnTo>
                      <a:lnTo>
                        <a:pt x="44" y="129"/>
                      </a:lnTo>
                      <a:lnTo>
                        <a:pt x="44" y="132"/>
                      </a:lnTo>
                      <a:lnTo>
                        <a:pt x="44" y="137"/>
                      </a:lnTo>
                      <a:lnTo>
                        <a:pt x="44" y="143"/>
                      </a:lnTo>
                      <a:lnTo>
                        <a:pt x="44" y="148"/>
                      </a:lnTo>
                      <a:lnTo>
                        <a:pt x="44" y="155"/>
                      </a:lnTo>
                      <a:lnTo>
                        <a:pt x="36" y="150"/>
                      </a:lnTo>
                      <a:lnTo>
                        <a:pt x="36" y="148"/>
                      </a:lnTo>
                      <a:lnTo>
                        <a:pt x="35" y="146"/>
                      </a:lnTo>
                      <a:lnTo>
                        <a:pt x="35" y="142"/>
                      </a:lnTo>
                      <a:lnTo>
                        <a:pt x="35" y="139"/>
                      </a:lnTo>
                      <a:lnTo>
                        <a:pt x="35" y="135"/>
                      </a:lnTo>
                      <a:lnTo>
                        <a:pt x="35" y="131"/>
                      </a:lnTo>
                      <a:lnTo>
                        <a:pt x="35" y="126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2" y="113"/>
                      </a:lnTo>
                      <a:lnTo>
                        <a:pt x="32" y="110"/>
                      </a:lnTo>
                      <a:lnTo>
                        <a:pt x="32" y="106"/>
                      </a:lnTo>
                      <a:lnTo>
                        <a:pt x="32" y="103"/>
                      </a:lnTo>
                      <a:lnTo>
                        <a:pt x="32" y="102"/>
                      </a:lnTo>
                      <a:lnTo>
                        <a:pt x="32" y="100"/>
                      </a:lnTo>
                      <a:lnTo>
                        <a:pt x="30" y="96"/>
                      </a:lnTo>
                      <a:lnTo>
                        <a:pt x="29" y="92"/>
                      </a:lnTo>
                      <a:lnTo>
                        <a:pt x="27" y="89"/>
                      </a:lnTo>
                      <a:lnTo>
                        <a:pt x="26" y="85"/>
                      </a:lnTo>
                      <a:lnTo>
                        <a:pt x="24" y="82"/>
                      </a:lnTo>
                      <a:lnTo>
                        <a:pt x="22" y="78"/>
                      </a:lnTo>
                      <a:lnTo>
                        <a:pt x="21" y="76"/>
                      </a:lnTo>
                      <a:lnTo>
                        <a:pt x="19" y="72"/>
                      </a:lnTo>
                      <a:lnTo>
                        <a:pt x="18" y="69"/>
                      </a:lnTo>
                      <a:lnTo>
                        <a:pt x="16" y="65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3" y="54"/>
                      </a:lnTo>
                      <a:lnTo>
                        <a:pt x="13" y="50"/>
                      </a:lnTo>
                      <a:lnTo>
                        <a:pt x="13" y="45"/>
                      </a:lnTo>
                      <a:lnTo>
                        <a:pt x="15" y="41"/>
                      </a:lnTo>
                      <a:lnTo>
                        <a:pt x="10" y="40"/>
                      </a:lnTo>
                      <a:lnTo>
                        <a:pt x="7" y="37"/>
                      </a:lnTo>
                      <a:lnTo>
                        <a:pt x="4" y="36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55"/>
                      </a:lnTo>
                      <a:lnTo>
                        <a:pt x="1" y="61"/>
                      </a:lnTo>
                      <a:lnTo>
                        <a:pt x="1" y="65"/>
                      </a:lnTo>
                      <a:lnTo>
                        <a:pt x="1" y="70"/>
                      </a:lnTo>
                      <a:lnTo>
                        <a:pt x="1" y="74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91"/>
                      </a:lnTo>
                      <a:lnTo>
                        <a:pt x="4" y="96"/>
                      </a:lnTo>
                      <a:lnTo>
                        <a:pt x="6" y="103"/>
                      </a:lnTo>
                      <a:lnTo>
                        <a:pt x="6" y="109"/>
                      </a:lnTo>
                      <a:lnTo>
                        <a:pt x="7" y="113"/>
                      </a:lnTo>
                      <a:lnTo>
                        <a:pt x="7" y="118"/>
                      </a:lnTo>
                      <a:lnTo>
                        <a:pt x="7" y="124"/>
                      </a:lnTo>
                      <a:lnTo>
                        <a:pt x="9" y="128"/>
                      </a:lnTo>
                      <a:lnTo>
                        <a:pt x="9" y="133"/>
                      </a:lnTo>
                      <a:lnTo>
                        <a:pt x="10" y="137"/>
                      </a:lnTo>
                      <a:lnTo>
                        <a:pt x="12" y="142"/>
                      </a:lnTo>
                      <a:lnTo>
                        <a:pt x="12" y="146"/>
                      </a:lnTo>
                      <a:lnTo>
                        <a:pt x="12" y="150"/>
                      </a:lnTo>
                      <a:lnTo>
                        <a:pt x="12" y="152"/>
                      </a:lnTo>
                      <a:lnTo>
                        <a:pt x="13" y="155"/>
                      </a:lnTo>
                      <a:lnTo>
                        <a:pt x="13" y="159"/>
                      </a:lnTo>
                      <a:lnTo>
                        <a:pt x="15" y="162"/>
                      </a:lnTo>
                      <a:lnTo>
                        <a:pt x="15" y="165"/>
                      </a:lnTo>
                      <a:lnTo>
                        <a:pt x="15" y="169"/>
                      </a:lnTo>
                      <a:lnTo>
                        <a:pt x="15" y="173"/>
                      </a:lnTo>
                      <a:lnTo>
                        <a:pt x="15" y="177"/>
                      </a:lnTo>
                      <a:lnTo>
                        <a:pt x="15" y="181"/>
                      </a:lnTo>
                      <a:lnTo>
                        <a:pt x="16" y="185"/>
                      </a:lnTo>
                      <a:lnTo>
                        <a:pt x="16" y="190"/>
                      </a:lnTo>
                      <a:lnTo>
                        <a:pt x="18" y="194"/>
                      </a:lnTo>
                      <a:lnTo>
                        <a:pt x="18" y="196"/>
                      </a:lnTo>
                      <a:lnTo>
                        <a:pt x="18" y="198"/>
                      </a:lnTo>
                      <a:lnTo>
                        <a:pt x="18" y="201"/>
                      </a:lnTo>
                      <a:lnTo>
                        <a:pt x="18" y="202"/>
                      </a:lnTo>
                      <a:lnTo>
                        <a:pt x="16" y="202"/>
                      </a:lnTo>
                      <a:lnTo>
                        <a:pt x="15" y="201"/>
                      </a:lnTo>
                      <a:lnTo>
                        <a:pt x="13" y="198"/>
                      </a:lnTo>
                      <a:lnTo>
                        <a:pt x="12" y="195"/>
                      </a:lnTo>
                      <a:lnTo>
                        <a:pt x="15" y="584"/>
                      </a:lnTo>
                      <a:lnTo>
                        <a:pt x="214" y="584"/>
                      </a:lnTo>
                      <a:lnTo>
                        <a:pt x="209" y="115"/>
                      </a:lnTo>
                      <a:lnTo>
                        <a:pt x="209" y="111"/>
                      </a:lnTo>
                      <a:lnTo>
                        <a:pt x="209" y="109"/>
                      </a:lnTo>
                      <a:lnTo>
                        <a:pt x="209" y="106"/>
                      </a:lnTo>
                      <a:lnTo>
                        <a:pt x="209" y="102"/>
                      </a:lnTo>
                      <a:lnTo>
                        <a:pt x="209" y="99"/>
                      </a:lnTo>
                      <a:lnTo>
                        <a:pt x="209" y="96"/>
                      </a:lnTo>
                      <a:lnTo>
                        <a:pt x="209" y="93"/>
                      </a:lnTo>
                      <a:lnTo>
                        <a:pt x="209" y="91"/>
                      </a:lnTo>
                      <a:lnTo>
                        <a:pt x="209" y="85"/>
                      </a:lnTo>
                      <a:lnTo>
                        <a:pt x="209" y="80"/>
                      </a:lnTo>
                      <a:lnTo>
                        <a:pt x="209" y="74"/>
                      </a:lnTo>
                      <a:lnTo>
                        <a:pt x="209" y="70"/>
                      </a:lnTo>
                      <a:lnTo>
                        <a:pt x="209" y="65"/>
                      </a:lnTo>
                      <a:lnTo>
                        <a:pt x="209" y="61"/>
                      </a:lnTo>
                      <a:lnTo>
                        <a:pt x="209" y="55"/>
                      </a:lnTo>
                      <a:lnTo>
                        <a:pt x="209" y="50"/>
                      </a:lnTo>
                      <a:lnTo>
                        <a:pt x="209" y="44"/>
                      </a:lnTo>
                      <a:lnTo>
                        <a:pt x="209" y="39"/>
                      </a:lnTo>
                      <a:lnTo>
                        <a:pt x="209" y="34"/>
                      </a:lnTo>
                      <a:lnTo>
                        <a:pt x="209" y="32"/>
                      </a:lnTo>
                      <a:lnTo>
                        <a:pt x="209" y="28"/>
                      </a:lnTo>
                      <a:lnTo>
                        <a:pt x="209" y="25"/>
                      </a:lnTo>
                      <a:lnTo>
                        <a:pt x="200" y="32"/>
                      </a:lnTo>
                      <a:lnTo>
                        <a:pt x="200" y="37"/>
                      </a:lnTo>
                      <a:lnTo>
                        <a:pt x="200" y="41"/>
                      </a:lnTo>
                      <a:lnTo>
                        <a:pt x="200" y="47"/>
                      </a:lnTo>
                      <a:lnTo>
                        <a:pt x="200" y="52"/>
                      </a:lnTo>
                      <a:lnTo>
                        <a:pt x="200" y="56"/>
                      </a:lnTo>
                      <a:lnTo>
                        <a:pt x="200" y="62"/>
                      </a:lnTo>
                      <a:lnTo>
                        <a:pt x="200" y="66"/>
                      </a:lnTo>
                      <a:lnTo>
                        <a:pt x="200" y="72"/>
                      </a:lnTo>
                      <a:lnTo>
                        <a:pt x="200" y="76"/>
                      </a:lnTo>
                      <a:lnTo>
                        <a:pt x="200" y="81"/>
                      </a:lnTo>
                      <a:lnTo>
                        <a:pt x="200" y="85"/>
                      </a:lnTo>
                      <a:lnTo>
                        <a:pt x="201" y="89"/>
                      </a:lnTo>
                      <a:lnTo>
                        <a:pt x="201" y="95"/>
                      </a:lnTo>
                      <a:lnTo>
                        <a:pt x="201" y="99"/>
                      </a:lnTo>
                      <a:lnTo>
                        <a:pt x="203" y="104"/>
                      </a:lnTo>
                      <a:lnTo>
                        <a:pt x="203" y="109"/>
                      </a:lnTo>
                      <a:lnTo>
                        <a:pt x="201" y="113"/>
                      </a:lnTo>
                      <a:lnTo>
                        <a:pt x="200" y="115"/>
                      </a:lnTo>
                      <a:lnTo>
                        <a:pt x="200" y="120"/>
                      </a:lnTo>
                      <a:lnTo>
                        <a:pt x="200" y="124"/>
                      </a:lnTo>
                      <a:lnTo>
                        <a:pt x="195" y="73"/>
                      </a:lnTo>
                      <a:lnTo>
                        <a:pt x="194" y="173"/>
                      </a:lnTo>
                      <a:lnTo>
                        <a:pt x="192" y="168"/>
                      </a:lnTo>
                      <a:lnTo>
                        <a:pt x="192" y="163"/>
                      </a:lnTo>
                      <a:lnTo>
                        <a:pt x="191" y="158"/>
                      </a:lnTo>
                      <a:lnTo>
                        <a:pt x="191" y="154"/>
                      </a:lnTo>
                      <a:lnTo>
                        <a:pt x="191" y="148"/>
                      </a:lnTo>
                      <a:lnTo>
                        <a:pt x="191" y="144"/>
                      </a:lnTo>
                      <a:lnTo>
                        <a:pt x="189" y="139"/>
                      </a:lnTo>
                      <a:lnTo>
                        <a:pt x="189" y="135"/>
                      </a:lnTo>
                      <a:lnTo>
                        <a:pt x="189" y="131"/>
                      </a:lnTo>
                      <a:lnTo>
                        <a:pt x="188" y="125"/>
                      </a:lnTo>
                      <a:lnTo>
                        <a:pt x="188" y="121"/>
                      </a:lnTo>
                      <a:lnTo>
                        <a:pt x="188" y="115"/>
                      </a:lnTo>
                      <a:lnTo>
                        <a:pt x="188" y="111"/>
                      </a:lnTo>
                      <a:lnTo>
                        <a:pt x="186" y="106"/>
                      </a:lnTo>
                      <a:lnTo>
                        <a:pt x="186" y="102"/>
                      </a:lnTo>
                      <a:lnTo>
                        <a:pt x="186" y="98"/>
                      </a:lnTo>
                      <a:lnTo>
                        <a:pt x="186" y="92"/>
                      </a:lnTo>
                      <a:lnTo>
                        <a:pt x="186" y="88"/>
                      </a:lnTo>
                      <a:lnTo>
                        <a:pt x="186" y="82"/>
                      </a:lnTo>
                      <a:lnTo>
                        <a:pt x="186" y="78"/>
                      </a:lnTo>
                      <a:lnTo>
                        <a:pt x="185" y="73"/>
                      </a:lnTo>
                      <a:lnTo>
                        <a:pt x="185" y="69"/>
                      </a:lnTo>
                      <a:lnTo>
                        <a:pt x="185" y="63"/>
                      </a:lnTo>
                      <a:lnTo>
                        <a:pt x="185" y="59"/>
                      </a:lnTo>
                      <a:lnTo>
                        <a:pt x="185" y="54"/>
                      </a:lnTo>
                      <a:lnTo>
                        <a:pt x="185" y="50"/>
                      </a:lnTo>
                      <a:lnTo>
                        <a:pt x="183" y="44"/>
                      </a:lnTo>
                      <a:lnTo>
                        <a:pt x="183" y="40"/>
                      </a:lnTo>
                      <a:lnTo>
                        <a:pt x="183" y="34"/>
                      </a:lnTo>
                      <a:lnTo>
                        <a:pt x="183" y="30"/>
                      </a:lnTo>
                      <a:lnTo>
                        <a:pt x="183" y="25"/>
                      </a:lnTo>
                      <a:lnTo>
                        <a:pt x="183" y="21"/>
                      </a:lnTo>
                      <a:lnTo>
                        <a:pt x="182" y="21"/>
                      </a:lnTo>
                      <a:lnTo>
                        <a:pt x="180" y="25"/>
                      </a:lnTo>
                      <a:lnTo>
                        <a:pt x="177" y="28"/>
                      </a:lnTo>
                      <a:lnTo>
                        <a:pt x="177" y="33"/>
                      </a:lnTo>
                      <a:lnTo>
                        <a:pt x="175" y="34"/>
                      </a:lnTo>
                      <a:lnTo>
                        <a:pt x="175" y="39"/>
                      </a:lnTo>
                      <a:lnTo>
                        <a:pt x="174" y="41"/>
                      </a:lnTo>
                      <a:lnTo>
                        <a:pt x="174" y="45"/>
                      </a:lnTo>
                      <a:lnTo>
                        <a:pt x="174" y="50"/>
                      </a:lnTo>
                      <a:lnTo>
                        <a:pt x="172" y="54"/>
                      </a:lnTo>
                      <a:lnTo>
                        <a:pt x="172" y="59"/>
                      </a:lnTo>
                      <a:lnTo>
                        <a:pt x="172" y="65"/>
                      </a:lnTo>
                      <a:lnTo>
                        <a:pt x="172" y="67"/>
                      </a:lnTo>
                      <a:lnTo>
                        <a:pt x="172" y="70"/>
                      </a:lnTo>
                      <a:lnTo>
                        <a:pt x="172" y="73"/>
                      </a:lnTo>
                      <a:lnTo>
                        <a:pt x="172" y="77"/>
                      </a:lnTo>
                      <a:lnTo>
                        <a:pt x="172" y="80"/>
                      </a:lnTo>
                      <a:lnTo>
                        <a:pt x="172" y="82"/>
                      </a:lnTo>
                      <a:lnTo>
                        <a:pt x="172" y="87"/>
                      </a:lnTo>
                      <a:lnTo>
                        <a:pt x="172" y="91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72" y="106"/>
                      </a:lnTo>
                      <a:lnTo>
                        <a:pt x="172" y="110"/>
                      </a:lnTo>
                      <a:lnTo>
                        <a:pt x="172" y="114"/>
                      </a:lnTo>
                      <a:lnTo>
                        <a:pt x="172" y="120"/>
                      </a:lnTo>
                      <a:lnTo>
                        <a:pt x="172" y="125"/>
                      </a:lnTo>
                      <a:lnTo>
                        <a:pt x="172" y="129"/>
                      </a:lnTo>
                      <a:lnTo>
                        <a:pt x="172" y="135"/>
                      </a:lnTo>
                      <a:lnTo>
                        <a:pt x="172" y="139"/>
                      </a:lnTo>
                      <a:lnTo>
                        <a:pt x="174" y="146"/>
                      </a:lnTo>
                      <a:lnTo>
                        <a:pt x="174" y="150"/>
                      </a:lnTo>
                      <a:lnTo>
                        <a:pt x="174" y="155"/>
                      </a:lnTo>
                      <a:lnTo>
                        <a:pt x="175" y="162"/>
                      </a:lnTo>
                      <a:lnTo>
                        <a:pt x="175" y="168"/>
                      </a:lnTo>
                      <a:lnTo>
                        <a:pt x="175" y="170"/>
                      </a:lnTo>
                      <a:lnTo>
                        <a:pt x="175" y="173"/>
                      </a:lnTo>
                      <a:lnTo>
                        <a:pt x="175" y="177"/>
                      </a:lnTo>
                      <a:lnTo>
                        <a:pt x="175" y="183"/>
                      </a:lnTo>
                      <a:lnTo>
                        <a:pt x="175" y="188"/>
                      </a:lnTo>
                      <a:lnTo>
                        <a:pt x="175" y="194"/>
                      </a:lnTo>
                      <a:lnTo>
                        <a:pt x="175" y="199"/>
                      </a:lnTo>
                      <a:lnTo>
                        <a:pt x="175" y="205"/>
                      </a:lnTo>
                      <a:lnTo>
                        <a:pt x="175" y="210"/>
                      </a:lnTo>
                      <a:lnTo>
                        <a:pt x="175" y="217"/>
                      </a:lnTo>
                      <a:lnTo>
                        <a:pt x="174" y="221"/>
                      </a:lnTo>
                      <a:lnTo>
                        <a:pt x="174" y="227"/>
                      </a:lnTo>
                      <a:lnTo>
                        <a:pt x="172" y="231"/>
                      </a:lnTo>
                      <a:lnTo>
                        <a:pt x="172" y="235"/>
                      </a:lnTo>
                      <a:lnTo>
                        <a:pt x="171" y="239"/>
                      </a:lnTo>
                      <a:lnTo>
                        <a:pt x="171" y="242"/>
                      </a:lnTo>
                      <a:lnTo>
                        <a:pt x="169" y="235"/>
                      </a:lnTo>
                      <a:lnTo>
                        <a:pt x="169" y="229"/>
                      </a:lnTo>
                      <a:lnTo>
                        <a:pt x="168" y="224"/>
                      </a:lnTo>
                      <a:lnTo>
                        <a:pt x="168" y="218"/>
                      </a:lnTo>
                      <a:lnTo>
                        <a:pt x="166" y="213"/>
                      </a:lnTo>
                      <a:lnTo>
                        <a:pt x="166" y="207"/>
                      </a:lnTo>
                      <a:lnTo>
                        <a:pt x="166" y="202"/>
                      </a:lnTo>
                      <a:lnTo>
                        <a:pt x="166" y="196"/>
                      </a:lnTo>
                      <a:lnTo>
                        <a:pt x="166" y="190"/>
                      </a:lnTo>
                      <a:lnTo>
                        <a:pt x="166" y="184"/>
                      </a:lnTo>
                      <a:lnTo>
                        <a:pt x="166" y="179"/>
                      </a:lnTo>
                      <a:lnTo>
                        <a:pt x="166" y="173"/>
                      </a:lnTo>
                      <a:lnTo>
                        <a:pt x="166" y="168"/>
                      </a:lnTo>
                      <a:lnTo>
                        <a:pt x="166" y="162"/>
                      </a:lnTo>
                      <a:lnTo>
                        <a:pt x="166" y="157"/>
                      </a:lnTo>
                      <a:lnTo>
                        <a:pt x="166" y="151"/>
                      </a:lnTo>
                      <a:lnTo>
                        <a:pt x="165" y="146"/>
                      </a:lnTo>
                      <a:lnTo>
                        <a:pt x="165" y="139"/>
                      </a:lnTo>
                      <a:lnTo>
                        <a:pt x="165" y="133"/>
                      </a:lnTo>
                      <a:lnTo>
                        <a:pt x="165" y="128"/>
                      </a:lnTo>
                      <a:lnTo>
                        <a:pt x="165" y="122"/>
                      </a:lnTo>
                      <a:lnTo>
                        <a:pt x="165" y="117"/>
                      </a:lnTo>
                      <a:lnTo>
                        <a:pt x="165" y="111"/>
                      </a:lnTo>
                      <a:lnTo>
                        <a:pt x="165" y="106"/>
                      </a:lnTo>
                      <a:lnTo>
                        <a:pt x="165" y="100"/>
                      </a:lnTo>
                      <a:lnTo>
                        <a:pt x="163" y="95"/>
                      </a:lnTo>
                      <a:lnTo>
                        <a:pt x="163" y="89"/>
                      </a:lnTo>
                      <a:lnTo>
                        <a:pt x="163" y="84"/>
                      </a:lnTo>
                      <a:lnTo>
                        <a:pt x="162" y="78"/>
                      </a:lnTo>
                      <a:lnTo>
                        <a:pt x="162" y="73"/>
                      </a:lnTo>
                      <a:lnTo>
                        <a:pt x="162" y="67"/>
                      </a:lnTo>
                      <a:lnTo>
                        <a:pt x="160" y="62"/>
                      </a:lnTo>
                      <a:lnTo>
                        <a:pt x="160" y="59"/>
                      </a:lnTo>
                      <a:lnTo>
                        <a:pt x="159" y="55"/>
                      </a:lnTo>
                      <a:lnTo>
                        <a:pt x="157" y="50"/>
                      </a:lnTo>
                      <a:lnTo>
                        <a:pt x="156" y="48"/>
                      </a:lnTo>
                      <a:lnTo>
                        <a:pt x="156" y="51"/>
                      </a:lnTo>
                      <a:lnTo>
                        <a:pt x="156" y="55"/>
                      </a:lnTo>
                      <a:lnTo>
                        <a:pt x="154" y="58"/>
                      </a:lnTo>
                      <a:lnTo>
                        <a:pt x="154" y="62"/>
                      </a:lnTo>
                      <a:lnTo>
                        <a:pt x="154" y="65"/>
                      </a:lnTo>
                      <a:lnTo>
                        <a:pt x="153" y="69"/>
                      </a:lnTo>
                      <a:lnTo>
                        <a:pt x="153" y="72"/>
                      </a:lnTo>
                      <a:lnTo>
                        <a:pt x="153" y="76"/>
                      </a:lnTo>
                      <a:lnTo>
                        <a:pt x="156" y="139"/>
                      </a:lnTo>
                      <a:lnTo>
                        <a:pt x="156" y="143"/>
                      </a:lnTo>
                      <a:lnTo>
                        <a:pt x="156" y="148"/>
                      </a:lnTo>
                      <a:lnTo>
                        <a:pt x="156" y="152"/>
                      </a:lnTo>
                      <a:lnTo>
                        <a:pt x="156" y="158"/>
                      </a:lnTo>
                      <a:lnTo>
                        <a:pt x="156" y="163"/>
                      </a:lnTo>
                      <a:lnTo>
                        <a:pt x="156" y="168"/>
                      </a:lnTo>
                      <a:lnTo>
                        <a:pt x="156" y="173"/>
                      </a:lnTo>
                      <a:lnTo>
                        <a:pt x="156" y="179"/>
                      </a:lnTo>
                      <a:lnTo>
                        <a:pt x="154" y="183"/>
                      </a:lnTo>
                      <a:lnTo>
                        <a:pt x="154" y="188"/>
                      </a:lnTo>
                      <a:lnTo>
                        <a:pt x="154" y="194"/>
                      </a:lnTo>
                      <a:lnTo>
                        <a:pt x="154" y="198"/>
                      </a:lnTo>
                      <a:lnTo>
                        <a:pt x="153" y="203"/>
                      </a:lnTo>
                      <a:lnTo>
                        <a:pt x="153" y="207"/>
                      </a:lnTo>
                      <a:lnTo>
                        <a:pt x="153" y="213"/>
                      </a:lnTo>
                      <a:lnTo>
                        <a:pt x="153" y="218"/>
                      </a:lnTo>
                      <a:lnTo>
                        <a:pt x="153" y="548"/>
                      </a:lnTo>
                      <a:lnTo>
                        <a:pt x="78" y="549"/>
                      </a:lnTo>
                      <a:lnTo>
                        <a:pt x="71" y="100"/>
                      </a:lnTo>
                      <a:lnTo>
                        <a:pt x="71" y="96"/>
                      </a:lnTo>
                      <a:lnTo>
                        <a:pt x="71" y="93"/>
                      </a:lnTo>
                      <a:lnTo>
                        <a:pt x="70" y="89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0" y="81"/>
                      </a:lnTo>
                      <a:lnTo>
                        <a:pt x="68" y="77"/>
                      </a:lnTo>
                      <a:lnTo>
                        <a:pt x="68" y="74"/>
                      </a:lnTo>
                      <a:lnTo>
                        <a:pt x="67" y="72"/>
                      </a:lnTo>
                      <a:lnTo>
                        <a:pt x="67" y="67"/>
                      </a:lnTo>
                      <a:lnTo>
                        <a:pt x="67" y="65"/>
                      </a:lnTo>
                      <a:lnTo>
                        <a:pt x="67" y="62"/>
                      </a:lnTo>
                      <a:lnTo>
                        <a:pt x="65" y="58"/>
                      </a:lnTo>
                      <a:lnTo>
                        <a:pt x="65" y="55"/>
                      </a:lnTo>
                      <a:lnTo>
                        <a:pt x="64" y="52"/>
                      </a:lnTo>
                      <a:lnTo>
                        <a:pt x="64" y="50"/>
                      </a:lnTo>
                      <a:lnTo>
                        <a:pt x="62" y="7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43"/>
                <p:cNvSpPr/>
                <p:nvPr/>
              </p:nvSpPr>
              <p:spPr>
                <a:xfrm>
                  <a:off x="3172680" y="2029320"/>
                  <a:ext cx="2520" cy="73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8" h="199">
                      <a:moveTo>
                        <a:pt x="0" y="199"/>
                      </a:moveTo>
                      <a:lnTo>
                        <a:pt x="3" y="197"/>
                      </a:lnTo>
                      <a:lnTo>
                        <a:pt x="5" y="197"/>
                      </a:lnTo>
                      <a:lnTo>
                        <a:pt x="5" y="195"/>
                      </a:lnTo>
                      <a:lnTo>
                        <a:pt x="5" y="193"/>
                      </a:lnTo>
                      <a:lnTo>
                        <a:pt x="5" y="188"/>
                      </a:lnTo>
                      <a:lnTo>
                        <a:pt x="5" y="182"/>
                      </a:lnTo>
                      <a:lnTo>
                        <a:pt x="5" y="177"/>
                      </a:lnTo>
                      <a:lnTo>
                        <a:pt x="5" y="173"/>
                      </a:lnTo>
                      <a:lnTo>
                        <a:pt x="5" y="166"/>
                      </a:lnTo>
                      <a:lnTo>
                        <a:pt x="5" y="162"/>
                      </a:lnTo>
                      <a:lnTo>
                        <a:pt x="5" y="156"/>
                      </a:lnTo>
                      <a:lnTo>
                        <a:pt x="6" y="151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6" y="134"/>
                      </a:lnTo>
                      <a:lnTo>
                        <a:pt x="6" y="129"/>
                      </a:lnTo>
                      <a:lnTo>
                        <a:pt x="6" y="123"/>
                      </a:lnTo>
                      <a:lnTo>
                        <a:pt x="6" y="118"/>
                      </a:lnTo>
                      <a:lnTo>
                        <a:pt x="6" y="112"/>
                      </a:lnTo>
                      <a:lnTo>
                        <a:pt x="6" y="108"/>
                      </a:lnTo>
                      <a:lnTo>
                        <a:pt x="6" y="101"/>
                      </a:lnTo>
                      <a:lnTo>
                        <a:pt x="6" y="96"/>
                      </a:lnTo>
                      <a:lnTo>
                        <a:pt x="6" y="90"/>
                      </a:lnTo>
                      <a:lnTo>
                        <a:pt x="8" y="86"/>
                      </a:lnTo>
                      <a:lnTo>
                        <a:pt x="8" y="79"/>
                      </a:lnTo>
                      <a:lnTo>
                        <a:pt x="8" y="74"/>
                      </a:lnTo>
                      <a:lnTo>
                        <a:pt x="8" y="70"/>
                      </a:lnTo>
                      <a:lnTo>
                        <a:pt x="8" y="64"/>
                      </a:lnTo>
                      <a:lnTo>
                        <a:pt x="8" y="59"/>
                      </a:lnTo>
                      <a:lnTo>
                        <a:pt x="8" y="53"/>
                      </a:lnTo>
                      <a:lnTo>
                        <a:pt x="8" y="48"/>
                      </a:lnTo>
                      <a:lnTo>
                        <a:pt x="8" y="42"/>
                      </a:lnTo>
                      <a:lnTo>
                        <a:pt x="8" y="37"/>
                      </a:lnTo>
                      <a:lnTo>
                        <a:pt x="8" y="31"/>
                      </a:lnTo>
                      <a:lnTo>
                        <a:pt x="8" y="27"/>
                      </a:lnTo>
                      <a:lnTo>
                        <a:pt x="8" y="22"/>
                      </a:lnTo>
                      <a:lnTo>
                        <a:pt x="6" y="16"/>
                      </a:lnTo>
                      <a:lnTo>
                        <a:pt x="6" y="13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3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0" y="53"/>
                      </a:lnTo>
                      <a:lnTo>
                        <a:pt x="0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0" y="67"/>
                      </a:lnTo>
                      <a:lnTo>
                        <a:pt x="0" y="71"/>
                      </a:lnTo>
                      <a:lnTo>
                        <a:pt x="0" y="75"/>
                      </a:lnTo>
                      <a:lnTo>
                        <a:pt x="0" y="79"/>
                      </a:lnTo>
                      <a:lnTo>
                        <a:pt x="1" y="83"/>
                      </a:lnTo>
                      <a:lnTo>
                        <a:pt x="1" y="87"/>
                      </a:lnTo>
                      <a:lnTo>
                        <a:pt x="1" y="92"/>
                      </a:lnTo>
                      <a:lnTo>
                        <a:pt x="1" y="96"/>
                      </a:lnTo>
                      <a:lnTo>
                        <a:pt x="1" y="98"/>
                      </a:lnTo>
                      <a:lnTo>
                        <a:pt x="1" y="103"/>
                      </a:lnTo>
                      <a:lnTo>
                        <a:pt x="1" y="105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8"/>
                      </a:lnTo>
                      <a:lnTo>
                        <a:pt x="1" y="122"/>
                      </a:lnTo>
                      <a:lnTo>
                        <a:pt x="1" y="125"/>
                      </a:lnTo>
                      <a:lnTo>
                        <a:pt x="3" y="126"/>
                      </a:lnTo>
                      <a:lnTo>
                        <a:pt x="1" y="130"/>
                      </a:lnTo>
                      <a:lnTo>
                        <a:pt x="1" y="134"/>
                      </a:lnTo>
                      <a:lnTo>
                        <a:pt x="1" y="138"/>
                      </a:lnTo>
                      <a:lnTo>
                        <a:pt x="1" y="142"/>
                      </a:lnTo>
                      <a:lnTo>
                        <a:pt x="1" y="148"/>
                      </a:lnTo>
                      <a:lnTo>
                        <a:pt x="1" y="152"/>
                      </a:lnTo>
                      <a:lnTo>
                        <a:pt x="1" y="156"/>
                      </a:lnTo>
                      <a:lnTo>
                        <a:pt x="1" y="162"/>
                      </a:lnTo>
                      <a:lnTo>
                        <a:pt x="0" y="166"/>
                      </a:lnTo>
                      <a:lnTo>
                        <a:pt x="0" y="170"/>
                      </a:lnTo>
                      <a:lnTo>
                        <a:pt x="0" y="174"/>
                      </a:lnTo>
                      <a:lnTo>
                        <a:pt x="0" y="179"/>
                      </a:lnTo>
                      <a:lnTo>
                        <a:pt x="0" y="184"/>
                      </a:lnTo>
                      <a:lnTo>
                        <a:pt x="0" y="189"/>
                      </a:lnTo>
                      <a:lnTo>
                        <a:pt x="0" y="193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44"/>
                <p:cNvSpPr/>
                <p:nvPr/>
              </p:nvSpPr>
              <p:spPr>
                <a:xfrm>
                  <a:off x="2786760" y="1751760"/>
                  <a:ext cx="507600" cy="172440"/>
                </a:xfrm>
                <a:custGeom>
                  <a:avLst/>
                  <a:gdLst>
                    <a:gd name="textAreaLeft" fmla="*/ 0 w 507600"/>
                    <a:gd name="textAreaRight" fmla="*/ 507960 w 507600"/>
                    <a:gd name="textAreaTop" fmla="*/ 0 h 172440"/>
                    <a:gd name="textAreaBottom" fmla="*/ 172800 h 172440"/>
                  </a:gdLst>
                  <a:ahLst/>
                  <a:rect l="textAreaLeft" t="textAreaTop" r="textAreaRight" b="textAreaBottom"/>
                  <a:pathLst>
                    <a:path w="1466" h="469">
                      <a:moveTo>
                        <a:pt x="104" y="394"/>
                      </a:moveTo>
                      <a:lnTo>
                        <a:pt x="0" y="469"/>
                      </a:lnTo>
                      <a:lnTo>
                        <a:pt x="773" y="469"/>
                      </a:lnTo>
                      <a:lnTo>
                        <a:pt x="777" y="468"/>
                      </a:lnTo>
                      <a:lnTo>
                        <a:pt x="783" y="468"/>
                      </a:lnTo>
                      <a:lnTo>
                        <a:pt x="788" y="466"/>
                      </a:lnTo>
                      <a:lnTo>
                        <a:pt x="794" y="465"/>
                      </a:lnTo>
                      <a:lnTo>
                        <a:pt x="799" y="465"/>
                      </a:lnTo>
                      <a:lnTo>
                        <a:pt x="803" y="464"/>
                      </a:lnTo>
                      <a:lnTo>
                        <a:pt x="808" y="462"/>
                      </a:lnTo>
                      <a:lnTo>
                        <a:pt x="814" y="462"/>
                      </a:lnTo>
                      <a:lnTo>
                        <a:pt x="809" y="461"/>
                      </a:lnTo>
                      <a:lnTo>
                        <a:pt x="805" y="461"/>
                      </a:lnTo>
                      <a:lnTo>
                        <a:pt x="800" y="461"/>
                      </a:lnTo>
                      <a:lnTo>
                        <a:pt x="797" y="461"/>
                      </a:lnTo>
                      <a:lnTo>
                        <a:pt x="791" y="460"/>
                      </a:lnTo>
                      <a:lnTo>
                        <a:pt x="786" y="460"/>
                      </a:lnTo>
                      <a:lnTo>
                        <a:pt x="783" y="460"/>
                      </a:lnTo>
                      <a:lnTo>
                        <a:pt x="779" y="460"/>
                      </a:lnTo>
                      <a:lnTo>
                        <a:pt x="774" y="458"/>
                      </a:lnTo>
                      <a:lnTo>
                        <a:pt x="770" y="458"/>
                      </a:lnTo>
                      <a:lnTo>
                        <a:pt x="765" y="458"/>
                      </a:lnTo>
                      <a:lnTo>
                        <a:pt x="762" y="458"/>
                      </a:lnTo>
                      <a:lnTo>
                        <a:pt x="757" y="458"/>
                      </a:lnTo>
                      <a:lnTo>
                        <a:pt x="753" y="458"/>
                      </a:lnTo>
                      <a:lnTo>
                        <a:pt x="748" y="458"/>
                      </a:lnTo>
                      <a:lnTo>
                        <a:pt x="745" y="458"/>
                      </a:lnTo>
                      <a:lnTo>
                        <a:pt x="739" y="458"/>
                      </a:lnTo>
                      <a:lnTo>
                        <a:pt x="736" y="458"/>
                      </a:lnTo>
                      <a:lnTo>
                        <a:pt x="731" y="458"/>
                      </a:lnTo>
                      <a:lnTo>
                        <a:pt x="727" y="458"/>
                      </a:lnTo>
                      <a:lnTo>
                        <a:pt x="722" y="458"/>
                      </a:lnTo>
                      <a:lnTo>
                        <a:pt x="718" y="458"/>
                      </a:lnTo>
                      <a:lnTo>
                        <a:pt x="713" y="458"/>
                      </a:lnTo>
                      <a:lnTo>
                        <a:pt x="708" y="458"/>
                      </a:lnTo>
                      <a:lnTo>
                        <a:pt x="704" y="458"/>
                      </a:lnTo>
                      <a:lnTo>
                        <a:pt x="699" y="458"/>
                      </a:lnTo>
                      <a:lnTo>
                        <a:pt x="695" y="458"/>
                      </a:lnTo>
                      <a:lnTo>
                        <a:pt x="692" y="458"/>
                      </a:lnTo>
                      <a:lnTo>
                        <a:pt x="687" y="458"/>
                      </a:lnTo>
                      <a:lnTo>
                        <a:pt x="682" y="458"/>
                      </a:lnTo>
                      <a:lnTo>
                        <a:pt x="678" y="458"/>
                      </a:lnTo>
                      <a:lnTo>
                        <a:pt x="673" y="458"/>
                      </a:lnTo>
                      <a:lnTo>
                        <a:pt x="669" y="458"/>
                      </a:lnTo>
                      <a:lnTo>
                        <a:pt x="664" y="458"/>
                      </a:lnTo>
                      <a:lnTo>
                        <a:pt x="659" y="458"/>
                      </a:lnTo>
                      <a:lnTo>
                        <a:pt x="655" y="458"/>
                      </a:lnTo>
                      <a:lnTo>
                        <a:pt x="650" y="458"/>
                      </a:lnTo>
                      <a:lnTo>
                        <a:pt x="647" y="458"/>
                      </a:lnTo>
                      <a:lnTo>
                        <a:pt x="641" y="458"/>
                      </a:lnTo>
                      <a:lnTo>
                        <a:pt x="638" y="460"/>
                      </a:lnTo>
                      <a:lnTo>
                        <a:pt x="633" y="460"/>
                      </a:lnTo>
                      <a:lnTo>
                        <a:pt x="629" y="460"/>
                      </a:lnTo>
                      <a:lnTo>
                        <a:pt x="623" y="460"/>
                      </a:lnTo>
                      <a:lnTo>
                        <a:pt x="620" y="460"/>
                      </a:lnTo>
                      <a:lnTo>
                        <a:pt x="614" y="460"/>
                      </a:lnTo>
                      <a:lnTo>
                        <a:pt x="611" y="460"/>
                      </a:lnTo>
                      <a:lnTo>
                        <a:pt x="604" y="460"/>
                      </a:lnTo>
                      <a:lnTo>
                        <a:pt x="601" y="461"/>
                      </a:lnTo>
                      <a:lnTo>
                        <a:pt x="597" y="461"/>
                      </a:lnTo>
                      <a:lnTo>
                        <a:pt x="592" y="461"/>
                      </a:lnTo>
                      <a:lnTo>
                        <a:pt x="588" y="461"/>
                      </a:lnTo>
                      <a:lnTo>
                        <a:pt x="583" y="461"/>
                      </a:lnTo>
                      <a:lnTo>
                        <a:pt x="577" y="461"/>
                      </a:lnTo>
                      <a:lnTo>
                        <a:pt x="574" y="461"/>
                      </a:lnTo>
                      <a:lnTo>
                        <a:pt x="569" y="461"/>
                      </a:lnTo>
                      <a:lnTo>
                        <a:pt x="565" y="461"/>
                      </a:lnTo>
                      <a:lnTo>
                        <a:pt x="560" y="461"/>
                      </a:lnTo>
                      <a:lnTo>
                        <a:pt x="555" y="461"/>
                      </a:lnTo>
                      <a:lnTo>
                        <a:pt x="551" y="461"/>
                      </a:lnTo>
                      <a:lnTo>
                        <a:pt x="546" y="461"/>
                      </a:lnTo>
                      <a:lnTo>
                        <a:pt x="542" y="461"/>
                      </a:lnTo>
                      <a:lnTo>
                        <a:pt x="537" y="461"/>
                      </a:lnTo>
                      <a:lnTo>
                        <a:pt x="533" y="461"/>
                      </a:lnTo>
                      <a:lnTo>
                        <a:pt x="528" y="462"/>
                      </a:lnTo>
                      <a:lnTo>
                        <a:pt x="523" y="461"/>
                      </a:lnTo>
                      <a:lnTo>
                        <a:pt x="519" y="461"/>
                      </a:lnTo>
                      <a:lnTo>
                        <a:pt x="513" y="461"/>
                      </a:lnTo>
                      <a:lnTo>
                        <a:pt x="508" y="461"/>
                      </a:lnTo>
                      <a:lnTo>
                        <a:pt x="502" y="461"/>
                      </a:lnTo>
                      <a:lnTo>
                        <a:pt x="496" y="460"/>
                      </a:lnTo>
                      <a:lnTo>
                        <a:pt x="491" y="460"/>
                      </a:lnTo>
                      <a:lnTo>
                        <a:pt x="485" y="460"/>
                      </a:lnTo>
                      <a:lnTo>
                        <a:pt x="490" y="458"/>
                      </a:lnTo>
                      <a:lnTo>
                        <a:pt x="496" y="458"/>
                      </a:lnTo>
                      <a:lnTo>
                        <a:pt x="499" y="458"/>
                      </a:lnTo>
                      <a:lnTo>
                        <a:pt x="502" y="458"/>
                      </a:lnTo>
                      <a:lnTo>
                        <a:pt x="507" y="458"/>
                      </a:lnTo>
                      <a:lnTo>
                        <a:pt x="513" y="458"/>
                      </a:lnTo>
                      <a:lnTo>
                        <a:pt x="516" y="458"/>
                      </a:lnTo>
                      <a:lnTo>
                        <a:pt x="520" y="458"/>
                      </a:lnTo>
                      <a:lnTo>
                        <a:pt x="526" y="458"/>
                      </a:lnTo>
                      <a:lnTo>
                        <a:pt x="531" y="458"/>
                      </a:lnTo>
                      <a:lnTo>
                        <a:pt x="537" y="458"/>
                      </a:lnTo>
                      <a:lnTo>
                        <a:pt x="543" y="458"/>
                      </a:lnTo>
                      <a:lnTo>
                        <a:pt x="548" y="458"/>
                      </a:lnTo>
                      <a:lnTo>
                        <a:pt x="554" y="458"/>
                      </a:lnTo>
                      <a:lnTo>
                        <a:pt x="559" y="458"/>
                      </a:lnTo>
                      <a:lnTo>
                        <a:pt x="565" y="458"/>
                      </a:lnTo>
                      <a:lnTo>
                        <a:pt x="569" y="458"/>
                      </a:lnTo>
                      <a:lnTo>
                        <a:pt x="574" y="458"/>
                      </a:lnTo>
                      <a:lnTo>
                        <a:pt x="580" y="458"/>
                      </a:lnTo>
                      <a:lnTo>
                        <a:pt x="585" y="458"/>
                      </a:lnTo>
                      <a:lnTo>
                        <a:pt x="589" y="458"/>
                      </a:lnTo>
                      <a:lnTo>
                        <a:pt x="594" y="458"/>
                      </a:lnTo>
                      <a:lnTo>
                        <a:pt x="598" y="458"/>
                      </a:lnTo>
                      <a:lnTo>
                        <a:pt x="601" y="457"/>
                      </a:lnTo>
                      <a:lnTo>
                        <a:pt x="604" y="457"/>
                      </a:lnTo>
                      <a:lnTo>
                        <a:pt x="607" y="455"/>
                      </a:lnTo>
                      <a:lnTo>
                        <a:pt x="614" y="454"/>
                      </a:lnTo>
                      <a:lnTo>
                        <a:pt x="617" y="453"/>
                      </a:lnTo>
                      <a:lnTo>
                        <a:pt x="615" y="453"/>
                      </a:lnTo>
                      <a:lnTo>
                        <a:pt x="612" y="451"/>
                      </a:lnTo>
                      <a:lnTo>
                        <a:pt x="607" y="451"/>
                      </a:lnTo>
                      <a:lnTo>
                        <a:pt x="603" y="451"/>
                      </a:lnTo>
                      <a:lnTo>
                        <a:pt x="600" y="451"/>
                      </a:lnTo>
                      <a:lnTo>
                        <a:pt x="597" y="451"/>
                      </a:lnTo>
                      <a:lnTo>
                        <a:pt x="594" y="451"/>
                      </a:lnTo>
                      <a:lnTo>
                        <a:pt x="591" y="451"/>
                      </a:lnTo>
                      <a:lnTo>
                        <a:pt x="588" y="451"/>
                      </a:lnTo>
                      <a:lnTo>
                        <a:pt x="583" y="451"/>
                      </a:lnTo>
                      <a:lnTo>
                        <a:pt x="580" y="451"/>
                      </a:lnTo>
                      <a:lnTo>
                        <a:pt x="577" y="451"/>
                      </a:lnTo>
                      <a:lnTo>
                        <a:pt x="571" y="451"/>
                      </a:lnTo>
                      <a:lnTo>
                        <a:pt x="568" y="451"/>
                      </a:lnTo>
                      <a:lnTo>
                        <a:pt x="563" y="451"/>
                      </a:lnTo>
                      <a:lnTo>
                        <a:pt x="559" y="451"/>
                      </a:lnTo>
                      <a:lnTo>
                        <a:pt x="554" y="451"/>
                      </a:lnTo>
                      <a:lnTo>
                        <a:pt x="549" y="451"/>
                      </a:lnTo>
                      <a:lnTo>
                        <a:pt x="543" y="451"/>
                      </a:lnTo>
                      <a:lnTo>
                        <a:pt x="540" y="451"/>
                      </a:lnTo>
                      <a:lnTo>
                        <a:pt x="534" y="451"/>
                      </a:lnTo>
                      <a:lnTo>
                        <a:pt x="529" y="451"/>
                      </a:lnTo>
                      <a:lnTo>
                        <a:pt x="523" y="451"/>
                      </a:lnTo>
                      <a:lnTo>
                        <a:pt x="519" y="451"/>
                      </a:lnTo>
                      <a:lnTo>
                        <a:pt x="513" y="451"/>
                      </a:lnTo>
                      <a:lnTo>
                        <a:pt x="508" y="451"/>
                      </a:lnTo>
                      <a:lnTo>
                        <a:pt x="502" y="451"/>
                      </a:lnTo>
                      <a:lnTo>
                        <a:pt x="497" y="451"/>
                      </a:lnTo>
                      <a:lnTo>
                        <a:pt x="491" y="451"/>
                      </a:lnTo>
                      <a:lnTo>
                        <a:pt x="487" y="451"/>
                      </a:lnTo>
                      <a:lnTo>
                        <a:pt x="481" y="451"/>
                      </a:lnTo>
                      <a:lnTo>
                        <a:pt x="474" y="451"/>
                      </a:lnTo>
                      <a:lnTo>
                        <a:pt x="470" y="451"/>
                      </a:lnTo>
                      <a:lnTo>
                        <a:pt x="464" y="451"/>
                      </a:lnTo>
                      <a:lnTo>
                        <a:pt x="459" y="451"/>
                      </a:lnTo>
                      <a:lnTo>
                        <a:pt x="455" y="451"/>
                      </a:lnTo>
                      <a:lnTo>
                        <a:pt x="448" y="451"/>
                      </a:lnTo>
                      <a:lnTo>
                        <a:pt x="444" y="451"/>
                      </a:lnTo>
                      <a:lnTo>
                        <a:pt x="438" y="451"/>
                      </a:lnTo>
                      <a:lnTo>
                        <a:pt x="433" y="453"/>
                      </a:lnTo>
                      <a:lnTo>
                        <a:pt x="429" y="453"/>
                      </a:lnTo>
                      <a:lnTo>
                        <a:pt x="424" y="453"/>
                      </a:lnTo>
                      <a:lnTo>
                        <a:pt x="419" y="453"/>
                      </a:lnTo>
                      <a:lnTo>
                        <a:pt x="416" y="453"/>
                      </a:lnTo>
                      <a:lnTo>
                        <a:pt x="410" y="453"/>
                      </a:lnTo>
                      <a:lnTo>
                        <a:pt x="407" y="453"/>
                      </a:lnTo>
                      <a:lnTo>
                        <a:pt x="403" y="453"/>
                      </a:lnTo>
                      <a:lnTo>
                        <a:pt x="399" y="453"/>
                      </a:lnTo>
                      <a:lnTo>
                        <a:pt x="395" y="453"/>
                      </a:lnTo>
                      <a:lnTo>
                        <a:pt x="392" y="454"/>
                      </a:lnTo>
                      <a:lnTo>
                        <a:pt x="389" y="454"/>
                      </a:lnTo>
                      <a:lnTo>
                        <a:pt x="386" y="454"/>
                      </a:lnTo>
                      <a:lnTo>
                        <a:pt x="380" y="454"/>
                      </a:lnTo>
                      <a:lnTo>
                        <a:pt x="375" y="454"/>
                      </a:lnTo>
                      <a:lnTo>
                        <a:pt x="372" y="455"/>
                      </a:lnTo>
                      <a:lnTo>
                        <a:pt x="369" y="455"/>
                      </a:lnTo>
                      <a:lnTo>
                        <a:pt x="375" y="454"/>
                      </a:lnTo>
                      <a:lnTo>
                        <a:pt x="380" y="453"/>
                      </a:lnTo>
                      <a:lnTo>
                        <a:pt x="386" y="451"/>
                      </a:lnTo>
                      <a:lnTo>
                        <a:pt x="390" y="451"/>
                      </a:lnTo>
                      <a:lnTo>
                        <a:pt x="395" y="450"/>
                      </a:lnTo>
                      <a:lnTo>
                        <a:pt x="399" y="450"/>
                      </a:lnTo>
                      <a:lnTo>
                        <a:pt x="406" y="449"/>
                      </a:lnTo>
                      <a:lnTo>
                        <a:pt x="410" y="449"/>
                      </a:lnTo>
                      <a:lnTo>
                        <a:pt x="415" y="449"/>
                      </a:lnTo>
                      <a:lnTo>
                        <a:pt x="419" y="449"/>
                      </a:lnTo>
                      <a:lnTo>
                        <a:pt x="424" y="447"/>
                      </a:lnTo>
                      <a:lnTo>
                        <a:pt x="429" y="447"/>
                      </a:lnTo>
                      <a:lnTo>
                        <a:pt x="433" y="447"/>
                      </a:lnTo>
                      <a:lnTo>
                        <a:pt x="438" y="447"/>
                      </a:lnTo>
                      <a:lnTo>
                        <a:pt x="441" y="447"/>
                      </a:lnTo>
                      <a:lnTo>
                        <a:pt x="447" y="447"/>
                      </a:lnTo>
                      <a:lnTo>
                        <a:pt x="450" y="446"/>
                      </a:lnTo>
                      <a:lnTo>
                        <a:pt x="455" y="446"/>
                      </a:lnTo>
                      <a:lnTo>
                        <a:pt x="459" y="446"/>
                      </a:lnTo>
                      <a:lnTo>
                        <a:pt x="464" y="446"/>
                      </a:lnTo>
                      <a:lnTo>
                        <a:pt x="468" y="446"/>
                      </a:lnTo>
                      <a:lnTo>
                        <a:pt x="473" y="446"/>
                      </a:lnTo>
                      <a:lnTo>
                        <a:pt x="477" y="446"/>
                      </a:lnTo>
                      <a:lnTo>
                        <a:pt x="482" y="446"/>
                      </a:lnTo>
                      <a:lnTo>
                        <a:pt x="487" y="446"/>
                      </a:lnTo>
                      <a:lnTo>
                        <a:pt x="491" y="446"/>
                      </a:lnTo>
                      <a:lnTo>
                        <a:pt x="496" y="446"/>
                      </a:lnTo>
                      <a:lnTo>
                        <a:pt x="502" y="446"/>
                      </a:lnTo>
                      <a:lnTo>
                        <a:pt x="507" y="444"/>
                      </a:lnTo>
                      <a:lnTo>
                        <a:pt x="511" y="444"/>
                      </a:lnTo>
                      <a:lnTo>
                        <a:pt x="517" y="444"/>
                      </a:lnTo>
                      <a:lnTo>
                        <a:pt x="523" y="444"/>
                      </a:lnTo>
                      <a:lnTo>
                        <a:pt x="528" y="443"/>
                      </a:lnTo>
                      <a:lnTo>
                        <a:pt x="533" y="443"/>
                      </a:lnTo>
                      <a:lnTo>
                        <a:pt x="539" y="443"/>
                      </a:lnTo>
                      <a:lnTo>
                        <a:pt x="543" y="443"/>
                      </a:lnTo>
                      <a:lnTo>
                        <a:pt x="549" y="442"/>
                      </a:lnTo>
                      <a:lnTo>
                        <a:pt x="554" y="442"/>
                      </a:lnTo>
                      <a:lnTo>
                        <a:pt x="559" y="442"/>
                      </a:lnTo>
                      <a:lnTo>
                        <a:pt x="565" y="442"/>
                      </a:lnTo>
                      <a:lnTo>
                        <a:pt x="569" y="442"/>
                      </a:lnTo>
                      <a:lnTo>
                        <a:pt x="574" y="442"/>
                      </a:lnTo>
                      <a:lnTo>
                        <a:pt x="580" y="442"/>
                      </a:lnTo>
                      <a:lnTo>
                        <a:pt x="585" y="442"/>
                      </a:lnTo>
                      <a:lnTo>
                        <a:pt x="591" y="442"/>
                      </a:lnTo>
                      <a:lnTo>
                        <a:pt x="595" y="442"/>
                      </a:lnTo>
                      <a:lnTo>
                        <a:pt x="600" y="442"/>
                      </a:lnTo>
                      <a:lnTo>
                        <a:pt x="606" y="442"/>
                      </a:lnTo>
                      <a:lnTo>
                        <a:pt x="611" y="440"/>
                      </a:lnTo>
                      <a:lnTo>
                        <a:pt x="615" y="440"/>
                      </a:lnTo>
                      <a:lnTo>
                        <a:pt x="621" y="440"/>
                      </a:lnTo>
                      <a:lnTo>
                        <a:pt x="626" y="440"/>
                      </a:lnTo>
                      <a:lnTo>
                        <a:pt x="632" y="439"/>
                      </a:lnTo>
                      <a:lnTo>
                        <a:pt x="637" y="439"/>
                      </a:lnTo>
                      <a:lnTo>
                        <a:pt x="641" y="439"/>
                      </a:lnTo>
                      <a:lnTo>
                        <a:pt x="647" y="439"/>
                      </a:lnTo>
                      <a:lnTo>
                        <a:pt x="652" y="439"/>
                      </a:lnTo>
                      <a:lnTo>
                        <a:pt x="656" y="439"/>
                      </a:lnTo>
                      <a:lnTo>
                        <a:pt x="663" y="438"/>
                      </a:lnTo>
                      <a:lnTo>
                        <a:pt x="667" y="438"/>
                      </a:lnTo>
                      <a:lnTo>
                        <a:pt x="673" y="438"/>
                      </a:lnTo>
                      <a:lnTo>
                        <a:pt x="678" y="438"/>
                      </a:lnTo>
                      <a:lnTo>
                        <a:pt x="682" y="438"/>
                      </a:lnTo>
                      <a:lnTo>
                        <a:pt x="689" y="438"/>
                      </a:lnTo>
                      <a:lnTo>
                        <a:pt x="693" y="436"/>
                      </a:lnTo>
                      <a:lnTo>
                        <a:pt x="698" y="436"/>
                      </a:lnTo>
                      <a:lnTo>
                        <a:pt x="702" y="436"/>
                      </a:lnTo>
                      <a:lnTo>
                        <a:pt x="708" y="436"/>
                      </a:lnTo>
                      <a:lnTo>
                        <a:pt x="713" y="435"/>
                      </a:lnTo>
                      <a:lnTo>
                        <a:pt x="718" y="435"/>
                      </a:lnTo>
                      <a:lnTo>
                        <a:pt x="724" y="435"/>
                      </a:lnTo>
                      <a:lnTo>
                        <a:pt x="728" y="435"/>
                      </a:lnTo>
                      <a:lnTo>
                        <a:pt x="733" y="435"/>
                      </a:lnTo>
                      <a:lnTo>
                        <a:pt x="739" y="433"/>
                      </a:lnTo>
                      <a:lnTo>
                        <a:pt x="744" y="433"/>
                      </a:lnTo>
                      <a:lnTo>
                        <a:pt x="750" y="433"/>
                      </a:lnTo>
                      <a:lnTo>
                        <a:pt x="754" y="433"/>
                      </a:lnTo>
                      <a:lnTo>
                        <a:pt x="759" y="433"/>
                      </a:lnTo>
                      <a:lnTo>
                        <a:pt x="764" y="433"/>
                      </a:lnTo>
                      <a:lnTo>
                        <a:pt x="770" y="433"/>
                      </a:lnTo>
                      <a:lnTo>
                        <a:pt x="774" y="432"/>
                      </a:lnTo>
                      <a:lnTo>
                        <a:pt x="780" y="432"/>
                      </a:lnTo>
                      <a:lnTo>
                        <a:pt x="783" y="432"/>
                      </a:lnTo>
                      <a:lnTo>
                        <a:pt x="790" y="432"/>
                      </a:lnTo>
                      <a:lnTo>
                        <a:pt x="794" y="431"/>
                      </a:lnTo>
                      <a:lnTo>
                        <a:pt x="800" y="431"/>
                      </a:lnTo>
                      <a:lnTo>
                        <a:pt x="805" y="431"/>
                      </a:lnTo>
                      <a:lnTo>
                        <a:pt x="811" y="431"/>
                      </a:lnTo>
                      <a:lnTo>
                        <a:pt x="816" y="431"/>
                      </a:lnTo>
                      <a:lnTo>
                        <a:pt x="820" y="431"/>
                      </a:lnTo>
                      <a:lnTo>
                        <a:pt x="825" y="431"/>
                      </a:lnTo>
                      <a:lnTo>
                        <a:pt x="831" y="431"/>
                      </a:lnTo>
                      <a:lnTo>
                        <a:pt x="835" y="431"/>
                      </a:lnTo>
                      <a:lnTo>
                        <a:pt x="842" y="431"/>
                      </a:lnTo>
                      <a:lnTo>
                        <a:pt x="846" y="431"/>
                      </a:lnTo>
                      <a:lnTo>
                        <a:pt x="852" y="431"/>
                      </a:lnTo>
                      <a:lnTo>
                        <a:pt x="855" y="429"/>
                      </a:lnTo>
                      <a:lnTo>
                        <a:pt x="860" y="429"/>
                      </a:lnTo>
                      <a:lnTo>
                        <a:pt x="863" y="428"/>
                      </a:lnTo>
                      <a:lnTo>
                        <a:pt x="866" y="428"/>
                      </a:lnTo>
                      <a:lnTo>
                        <a:pt x="871" y="428"/>
                      </a:lnTo>
                      <a:lnTo>
                        <a:pt x="874" y="427"/>
                      </a:lnTo>
                      <a:lnTo>
                        <a:pt x="878" y="427"/>
                      </a:lnTo>
                      <a:lnTo>
                        <a:pt x="883" y="427"/>
                      </a:lnTo>
                      <a:lnTo>
                        <a:pt x="877" y="425"/>
                      </a:lnTo>
                      <a:lnTo>
                        <a:pt x="871" y="424"/>
                      </a:lnTo>
                      <a:lnTo>
                        <a:pt x="866" y="424"/>
                      </a:lnTo>
                      <a:lnTo>
                        <a:pt x="860" y="424"/>
                      </a:lnTo>
                      <a:lnTo>
                        <a:pt x="855" y="424"/>
                      </a:lnTo>
                      <a:lnTo>
                        <a:pt x="849" y="422"/>
                      </a:lnTo>
                      <a:lnTo>
                        <a:pt x="843" y="422"/>
                      </a:lnTo>
                      <a:lnTo>
                        <a:pt x="838" y="422"/>
                      </a:lnTo>
                      <a:lnTo>
                        <a:pt x="831" y="422"/>
                      </a:lnTo>
                      <a:lnTo>
                        <a:pt x="826" y="422"/>
                      </a:lnTo>
                      <a:lnTo>
                        <a:pt x="820" y="421"/>
                      </a:lnTo>
                      <a:lnTo>
                        <a:pt x="814" y="421"/>
                      </a:lnTo>
                      <a:lnTo>
                        <a:pt x="808" y="421"/>
                      </a:lnTo>
                      <a:lnTo>
                        <a:pt x="802" y="421"/>
                      </a:lnTo>
                      <a:lnTo>
                        <a:pt x="796" y="421"/>
                      </a:lnTo>
                      <a:lnTo>
                        <a:pt x="790" y="421"/>
                      </a:lnTo>
                      <a:lnTo>
                        <a:pt x="783" y="421"/>
                      </a:lnTo>
                      <a:lnTo>
                        <a:pt x="777" y="421"/>
                      </a:lnTo>
                      <a:lnTo>
                        <a:pt x="770" y="421"/>
                      </a:lnTo>
                      <a:lnTo>
                        <a:pt x="764" y="421"/>
                      </a:lnTo>
                      <a:lnTo>
                        <a:pt x="757" y="421"/>
                      </a:lnTo>
                      <a:lnTo>
                        <a:pt x="751" y="421"/>
                      </a:lnTo>
                      <a:lnTo>
                        <a:pt x="745" y="421"/>
                      </a:lnTo>
                      <a:lnTo>
                        <a:pt x="739" y="421"/>
                      </a:lnTo>
                      <a:lnTo>
                        <a:pt x="731" y="421"/>
                      </a:lnTo>
                      <a:lnTo>
                        <a:pt x="725" y="421"/>
                      </a:lnTo>
                      <a:lnTo>
                        <a:pt x="718" y="421"/>
                      </a:lnTo>
                      <a:lnTo>
                        <a:pt x="711" y="421"/>
                      </a:lnTo>
                      <a:lnTo>
                        <a:pt x="705" y="421"/>
                      </a:lnTo>
                      <a:lnTo>
                        <a:pt x="699" y="421"/>
                      </a:lnTo>
                      <a:lnTo>
                        <a:pt x="693" y="421"/>
                      </a:lnTo>
                      <a:lnTo>
                        <a:pt x="687" y="422"/>
                      </a:lnTo>
                      <a:lnTo>
                        <a:pt x="679" y="422"/>
                      </a:lnTo>
                      <a:lnTo>
                        <a:pt x="673" y="422"/>
                      </a:lnTo>
                      <a:lnTo>
                        <a:pt x="667" y="422"/>
                      </a:lnTo>
                      <a:lnTo>
                        <a:pt x="659" y="422"/>
                      </a:lnTo>
                      <a:lnTo>
                        <a:pt x="653" y="422"/>
                      </a:lnTo>
                      <a:lnTo>
                        <a:pt x="647" y="422"/>
                      </a:lnTo>
                      <a:lnTo>
                        <a:pt x="640" y="422"/>
                      </a:lnTo>
                      <a:lnTo>
                        <a:pt x="633" y="422"/>
                      </a:lnTo>
                      <a:lnTo>
                        <a:pt x="627" y="422"/>
                      </a:lnTo>
                      <a:lnTo>
                        <a:pt x="621" y="422"/>
                      </a:lnTo>
                      <a:lnTo>
                        <a:pt x="615" y="422"/>
                      </a:lnTo>
                      <a:lnTo>
                        <a:pt x="607" y="424"/>
                      </a:lnTo>
                      <a:lnTo>
                        <a:pt x="601" y="424"/>
                      </a:lnTo>
                      <a:lnTo>
                        <a:pt x="595" y="424"/>
                      </a:lnTo>
                      <a:lnTo>
                        <a:pt x="589" y="424"/>
                      </a:lnTo>
                      <a:lnTo>
                        <a:pt x="585" y="424"/>
                      </a:lnTo>
                      <a:lnTo>
                        <a:pt x="577" y="424"/>
                      </a:lnTo>
                      <a:lnTo>
                        <a:pt x="571" y="424"/>
                      </a:lnTo>
                      <a:lnTo>
                        <a:pt x="565" y="424"/>
                      </a:lnTo>
                      <a:lnTo>
                        <a:pt x="560" y="424"/>
                      </a:lnTo>
                      <a:lnTo>
                        <a:pt x="554" y="424"/>
                      </a:lnTo>
                      <a:lnTo>
                        <a:pt x="548" y="424"/>
                      </a:lnTo>
                      <a:lnTo>
                        <a:pt x="543" y="424"/>
                      </a:lnTo>
                      <a:lnTo>
                        <a:pt x="537" y="425"/>
                      </a:lnTo>
                      <a:lnTo>
                        <a:pt x="531" y="425"/>
                      </a:lnTo>
                      <a:lnTo>
                        <a:pt x="526" y="425"/>
                      </a:lnTo>
                      <a:lnTo>
                        <a:pt x="520" y="425"/>
                      </a:lnTo>
                      <a:lnTo>
                        <a:pt x="516" y="425"/>
                      </a:lnTo>
                      <a:lnTo>
                        <a:pt x="510" y="425"/>
                      </a:lnTo>
                      <a:lnTo>
                        <a:pt x="505" y="425"/>
                      </a:lnTo>
                      <a:lnTo>
                        <a:pt x="500" y="425"/>
                      </a:lnTo>
                      <a:lnTo>
                        <a:pt x="496" y="427"/>
                      </a:lnTo>
                      <a:lnTo>
                        <a:pt x="491" y="427"/>
                      </a:lnTo>
                      <a:lnTo>
                        <a:pt x="488" y="427"/>
                      </a:lnTo>
                      <a:lnTo>
                        <a:pt x="485" y="427"/>
                      </a:lnTo>
                      <a:lnTo>
                        <a:pt x="482" y="427"/>
                      </a:lnTo>
                      <a:lnTo>
                        <a:pt x="477" y="427"/>
                      </a:lnTo>
                      <a:lnTo>
                        <a:pt x="474" y="427"/>
                      </a:lnTo>
                      <a:lnTo>
                        <a:pt x="470" y="427"/>
                      </a:lnTo>
                      <a:lnTo>
                        <a:pt x="467" y="427"/>
                      </a:lnTo>
                      <a:lnTo>
                        <a:pt x="462" y="427"/>
                      </a:lnTo>
                      <a:lnTo>
                        <a:pt x="458" y="427"/>
                      </a:lnTo>
                      <a:lnTo>
                        <a:pt x="455" y="427"/>
                      </a:lnTo>
                      <a:lnTo>
                        <a:pt x="450" y="427"/>
                      </a:lnTo>
                      <a:lnTo>
                        <a:pt x="447" y="427"/>
                      </a:lnTo>
                      <a:lnTo>
                        <a:pt x="442" y="427"/>
                      </a:lnTo>
                      <a:lnTo>
                        <a:pt x="439" y="427"/>
                      </a:lnTo>
                      <a:lnTo>
                        <a:pt x="435" y="427"/>
                      </a:lnTo>
                      <a:lnTo>
                        <a:pt x="430" y="427"/>
                      </a:lnTo>
                      <a:lnTo>
                        <a:pt x="427" y="427"/>
                      </a:lnTo>
                      <a:lnTo>
                        <a:pt x="422" y="427"/>
                      </a:lnTo>
                      <a:lnTo>
                        <a:pt x="419" y="427"/>
                      </a:lnTo>
                      <a:lnTo>
                        <a:pt x="415" y="427"/>
                      </a:lnTo>
                      <a:lnTo>
                        <a:pt x="410" y="427"/>
                      </a:lnTo>
                      <a:lnTo>
                        <a:pt x="407" y="427"/>
                      </a:lnTo>
                      <a:lnTo>
                        <a:pt x="403" y="427"/>
                      </a:lnTo>
                      <a:lnTo>
                        <a:pt x="398" y="427"/>
                      </a:lnTo>
                      <a:lnTo>
                        <a:pt x="395" y="427"/>
                      </a:lnTo>
                      <a:lnTo>
                        <a:pt x="390" y="427"/>
                      </a:lnTo>
                      <a:lnTo>
                        <a:pt x="387" y="427"/>
                      </a:lnTo>
                      <a:lnTo>
                        <a:pt x="383" y="427"/>
                      </a:lnTo>
                      <a:lnTo>
                        <a:pt x="380" y="427"/>
                      </a:lnTo>
                      <a:lnTo>
                        <a:pt x="375" y="427"/>
                      </a:lnTo>
                      <a:lnTo>
                        <a:pt x="372" y="427"/>
                      </a:lnTo>
                      <a:lnTo>
                        <a:pt x="410" y="414"/>
                      </a:lnTo>
                      <a:lnTo>
                        <a:pt x="713" y="407"/>
                      </a:lnTo>
                      <a:lnTo>
                        <a:pt x="759" y="401"/>
                      </a:lnTo>
                      <a:lnTo>
                        <a:pt x="750" y="401"/>
                      </a:lnTo>
                      <a:lnTo>
                        <a:pt x="742" y="401"/>
                      </a:lnTo>
                      <a:lnTo>
                        <a:pt x="733" y="401"/>
                      </a:lnTo>
                      <a:lnTo>
                        <a:pt x="725" y="402"/>
                      </a:lnTo>
                      <a:lnTo>
                        <a:pt x="716" y="402"/>
                      </a:lnTo>
                      <a:lnTo>
                        <a:pt x="708" y="402"/>
                      </a:lnTo>
                      <a:lnTo>
                        <a:pt x="699" y="402"/>
                      </a:lnTo>
                      <a:lnTo>
                        <a:pt x="692" y="402"/>
                      </a:lnTo>
                      <a:lnTo>
                        <a:pt x="682" y="402"/>
                      </a:lnTo>
                      <a:lnTo>
                        <a:pt x="675" y="402"/>
                      </a:lnTo>
                      <a:lnTo>
                        <a:pt x="666" y="402"/>
                      </a:lnTo>
                      <a:lnTo>
                        <a:pt x="658" y="402"/>
                      </a:lnTo>
                      <a:lnTo>
                        <a:pt x="649" y="402"/>
                      </a:lnTo>
                      <a:lnTo>
                        <a:pt x="641" y="402"/>
                      </a:lnTo>
                      <a:lnTo>
                        <a:pt x="633" y="402"/>
                      </a:lnTo>
                      <a:lnTo>
                        <a:pt x="624" y="402"/>
                      </a:lnTo>
                      <a:lnTo>
                        <a:pt x="615" y="402"/>
                      </a:lnTo>
                      <a:lnTo>
                        <a:pt x="607" y="402"/>
                      </a:lnTo>
                      <a:lnTo>
                        <a:pt x="598" y="402"/>
                      </a:lnTo>
                      <a:lnTo>
                        <a:pt x="591" y="402"/>
                      </a:lnTo>
                      <a:lnTo>
                        <a:pt x="581" y="402"/>
                      </a:lnTo>
                      <a:lnTo>
                        <a:pt x="574" y="402"/>
                      </a:lnTo>
                      <a:lnTo>
                        <a:pt x="565" y="402"/>
                      </a:lnTo>
                      <a:lnTo>
                        <a:pt x="557" y="402"/>
                      </a:lnTo>
                      <a:lnTo>
                        <a:pt x="548" y="402"/>
                      </a:lnTo>
                      <a:lnTo>
                        <a:pt x="539" y="402"/>
                      </a:lnTo>
                      <a:lnTo>
                        <a:pt x="529" y="402"/>
                      </a:lnTo>
                      <a:lnTo>
                        <a:pt x="522" y="402"/>
                      </a:lnTo>
                      <a:lnTo>
                        <a:pt x="513" y="402"/>
                      </a:lnTo>
                      <a:lnTo>
                        <a:pt x="505" y="402"/>
                      </a:lnTo>
                      <a:lnTo>
                        <a:pt x="496" y="402"/>
                      </a:lnTo>
                      <a:lnTo>
                        <a:pt x="488" y="402"/>
                      </a:lnTo>
                      <a:lnTo>
                        <a:pt x="479" y="401"/>
                      </a:lnTo>
                      <a:lnTo>
                        <a:pt x="471" y="401"/>
                      </a:lnTo>
                      <a:lnTo>
                        <a:pt x="462" y="401"/>
                      </a:lnTo>
                      <a:lnTo>
                        <a:pt x="455" y="401"/>
                      </a:lnTo>
                      <a:lnTo>
                        <a:pt x="444" y="399"/>
                      </a:lnTo>
                      <a:lnTo>
                        <a:pt x="436" y="399"/>
                      </a:lnTo>
                      <a:lnTo>
                        <a:pt x="427" y="399"/>
                      </a:lnTo>
                      <a:lnTo>
                        <a:pt x="419" y="399"/>
                      </a:lnTo>
                      <a:lnTo>
                        <a:pt x="410" y="399"/>
                      </a:lnTo>
                      <a:lnTo>
                        <a:pt x="403" y="399"/>
                      </a:lnTo>
                      <a:lnTo>
                        <a:pt x="393" y="399"/>
                      </a:lnTo>
                      <a:lnTo>
                        <a:pt x="386" y="399"/>
                      </a:lnTo>
                      <a:lnTo>
                        <a:pt x="377" y="399"/>
                      </a:lnTo>
                      <a:lnTo>
                        <a:pt x="369" y="399"/>
                      </a:lnTo>
                      <a:lnTo>
                        <a:pt x="360" y="399"/>
                      </a:lnTo>
                      <a:lnTo>
                        <a:pt x="352" y="399"/>
                      </a:lnTo>
                      <a:lnTo>
                        <a:pt x="343" y="398"/>
                      </a:lnTo>
                      <a:lnTo>
                        <a:pt x="335" y="398"/>
                      </a:lnTo>
                      <a:lnTo>
                        <a:pt x="326" y="396"/>
                      </a:lnTo>
                      <a:lnTo>
                        <a:pt x="318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294" y="396"/>
                      </a:lnTo>
                      <a:lnTo>
                        <a:pt x="285" y="396"/>
                      </a:lnTo>
                      <a:lnTo>
                        <a:pt x="276" y="396"/>
                      </a:lnTo>
                      <a:lnTo>
                        <a:pt x="268" y="395"/>
                      </a:lnTo>
                      <a:lnTo>
                        <a:pt x="260" y="395"/>
                      </a:lnTo>
                      <a:lnTo>
                        <a:pt x="253" y="395"/>
                      </a:lnTo>
                      <a:lnTo>
                        <a:pt x="245" y="394"/>
                      </a:lnTo>
                      <a:lnTo>
                        <a:pt x="236" y="394"/>
                      </a:lnTo>
                      <a:lnTo>
                        <a:pt x="228" y="394"/>
                      </a:lnTo>
                      <a:lnTo>
                        <a:pt x="220" y="394"/>
                      </a:lnTo>
                      <a:lnTo>
                        <a:pt x="228" y="390"/>
                      </a:lnTo>
                      <a:lnTo>
                        <a:pt x="234" y="384"/>
                      </a:lnTo>
                      <a:lnTo>
                        <a:pt x="242" y="379"/>
                      </a:lnTo>
                      <a:lnTo>
                        <a:pt x="250" y="374"/>
                      </a:lnTo>
                      <a:lnTo>
                        <a:pt x="257" y="369"/>
                      </a:lnTo>
                      <a:lnTo>
                        <a:pt x="265" y="365"/>
                      </a:lnTo>
                      <a:lnTo>
                        <a:pt x="272" y="359"/>
                      </a:lnTo>
                      <a:lnTo>
                        <a:pt x="280" y="355"/>
                      </a:lnTo>
                      <a:lnTo>
                        <a:pt x="288" y="350"/>
                      </a:lnTo>
                      <a:lnTo>
                        <a:pt x="295" y="344"/>
                      </a:lnTo>
                      <a:lnTo>
                        <a:pt x="303" y="340"/>
                      </a:lnTo>
                      <a:lnTo>
                        <a:pt x="311" y="335"/>
                      </a:lnTo>
                      <a:lnTo>
                        <a:pt x="317" y="331"/>
                      </a:lnTo>
                      <a:lnTo>
                        <a:pt x="324" y="325"/>
                      </a:lnTo>
                      <a:lnTo>
                        <a:pt x="332" y="321"/>
                      </a:lnTo>
                      <a:lnTo>
                        <a:pt x="340" y="315"/>
                      </a:lnTo>
                      <a:lnTo>
                        <a:pt x="347" y="311"/>
                      </a:lnTo>
                      <a:lnTo>
                        <a:pt x="355" y="306"/>
                      </a:lnTo>
                      <a:lnTo>
                        <a:pt x="363" y="300"/>
                      </a:lnTo>
                      <a:lnTo>
                        <a:pt x="370" y="296"/>
                      </a:lnTo>
                      <a:lnTo>
                        <a:pt x="378" y="291"/>
                      </a:lnTo>
                      <a:lnTo>
                        <a:pt x="386" y="287"/>
                      </a:lnTo>
                      <a:lnTo>
                        <a:pt x="393" y="281"/>
                      </a:lnTo>
                      <a:lnTo>
                        <a:pt x="401" y="277"/>
                      </a:lnTo>
                      <a:lnTo>
                        <a:pt x="409" y="273"/>
                      </a:lnTo>
                      <a:lnTo>
                        <a:pt x="416" y="267"/>
                      </a:lnTo>
                      <a:lnTo>
                        <a:pt x="424" y="262"/>
                      </a:lnTo>
                      <a:lnTo>
                        <a:pt x="432" y="258"/>
                      </a:lnTo>
                      <a:lnTo>
                        <a:pt x="439" y="252"/>
                      </a:lnTo>
                      <a:lnTo>
                        <a:pt x="447" y="248"/>
                      </a:lnTo>
                      <a:lnTo>
                        <a:pt x="455" y="243"/>
                      </a:lnTo>
                      <a:lnTo>
                        <a:pt x="462" y="239"/>
                      </a:lnTo>
                      <a:lnTo>
                        <a:pt x="470" y="233"/>
                      </a:lnTo>
                      <a:lnTo>
                        <a:pt x="477" y="229"/>
                      </a:lnTo>
                      <a:lnTo>
                        <a:pt x="485" y="223"/>
                      </a:lnTo>
                      <a:lnTo>
                        <a:pt x="491" y="219"/>
                      </a:lnTo>
                      <a:lnTo>
                        <a:pt x="499" y="214"/>
                      </a:lnTo>
                      <a:lnTo>
                        <a:pt x="507" y="210"/>
                      </a:lnTo>
                      <a:lnTo>
                        <a:pt x="514" y="204"/>
                      </a:lnTo>
                      <a:lnTo>
                        <a:pt x="522" y="200"/>
                      </a:lnTo>
                      <a:lnTo>
                        <a:pt x="529" y="195"/>
                      </a:lnTo>
                      <a:lnTo>
                        <a:pt x="537" y="189"/>
                      </a:lnTo>
                      <a:lnTo>
                        <a:pt x="545" y="185"/>
                      </a:lnTo>
                      <a:lnTo>
                        <a:pt x="552" y="181"/>
                      </a:lnTo>
                      <a:lnTo>
                        <a:pt x="560" y="175"/>
                      </a:lnTo>
                      <a:lnTo>
                        <a:pt x="568" y="170"/>
                      </a:lnTo>
                      <a:lnTo>
                        <a:pt x="575" y="166"/>
                      </a:lnTo>
                      <a:lnTo>
                        <a:pt x="583" y="162"/>
                      </a:lnTo>
                      <a:lnTo>
                        <a:pt x="591" y="156"/>
                      </a:lnTo>
                      <a:lnTo>
                        <a:pt x="598" y="151"/>
                      </a:lnTo>
                      <a:lnTo>
                        <a:pt x="606" y="147"/>
                      </a:lnTo>
                      <a:lnTo>
                        <a:pt x="614" y="142"/>
                      </a:lnTo>
                      <a:lnTo>
                        <a:pt x="621" y="137"/>
                      </a:lnTo>
                      <a:lnTo>
                        <a:pt x="629" y="133"/>
                      </a:lnTo>
                      <a:lnTo>
                        <a:pt x="637" y="127"/>
                      </a:lnTo>
                      <a:lnTo>
                        <a:pt x="644" y="123"/>
                      </a:lnTo>
                      <a:lnTo>
                        <a:pt x="652" y="118"/>
                      </a:lnTo>
                      <a:lnTo>
                        <a:pt x="659" y="114"/>
                      </a:lnTo>
                      <a:lnTo>
                        <a:pt x="667" y="108"/>
                      </a:lnTo>
                      <a:lnTo>
                        <a:pt x="675" y="104"/>
                      </a:lnTo>
                      <a:lnTo>
                        <a:pt x="682" y="99"/>
                      </a:lnTo>
                      <a:lnTo>
                        <a:pt x="690" y="94"/>
                      </a:lnTo>
                      <a:lnTo>
                        <a:pt x="698" y="90"/>
                      </a:lnTo>
                      <a:lnTo>
                        <a:pt x="705" y="86"/>
                      </a:lnTo>
                      <a:lnTo>
                        <a:pt x="713" y="90"/>
                      </a:lnTo>
                      <a:lnTo>
                        <a:pt x="722" y="96"/>
                      </a:lnTo>
                      <a:lnTo>
                        <a:pt x="730" y="101"/>
                      </a:lnTo>
                      <a:lnTo>
                        <a:pt x="739" y="107"/>
                      </a:lnTo>
                      <a:lnTo>
                        <a:pt x="747" y="112"/>
                      </a:lnTo>
                      <a:lnTo>
                        <a:pt x="754" y="118"/>
                      </a:lnTo>
                      <a:lnTo>
                        <a:pt x="762" y="122"/>
                      </a:lnTo>
                      <a:lnTo>
                        <a:pt x="770" y="127"/>
                      </a:lnTo>
                      <a:lnTo>
                        <a:pt x="777" y="131"/>
                      </a:lnTo>
                      <a:lnTo>
                        <a:pt x="783" y="136"/>
                      </a:lnTo>
                      <a:lnTo>
                        <a:pt x="791" y="140"/>
                      </a:lnTo>
                      <a:lnTo>
                        <a:pt x="799" y="145"/>
                      </a:lnTo>
                      <a:lnTo>
                        <a:pt x="805" y="149"/>
                      </a:lnTo>
                      <a:lnTo>
                        <a:pt x="811" y="153"/>
                      </a:lnTo>
                      <a:lnTo>
                        <a:pt x="819" y="158"/>
                      </a:lnTo>
                      <a:lnTo>
                        <a:pt x="825" y="162"/>
                      </a:lnTo>
                      <a:lnTo>
                        <a:pt x="831" y="166"/>
                      </a:lnTo>
                      <a:lnTo>
                        <a:pt x="837" y="170"/>
                      </a:lnTo>
                      <a:lnTo>
                        <a:pt x="843" y="173"/>
                      </a:lnTo>
                      <a:lnTo>
                        <a:pt x="849" y="177"/>
                      </a:lnTo>
                      <a:lnTo>
                        <a:pt x="855" y="181"/>
                      </a:lnTo>
                      <a:lnTo>
                        <a:pt x="861" y="185"/>
                      </a:lnTo>
                      <a:lnTo>
                        <a:pt x="868" y="188"/>
                      </a:lnTo>
                      <a:lnTo>
                        <a:pt x="874" y="192"/>
                      </a:lnTo>
                      <a:lnTo>
                        <a:pt x="880" y="196"/>
                      </a:lnTo>
                      <a:lnTo>
                        <a:pt x="886" y="199"/>
                      </a:lnTo>
                      <a:lnTo>
                        <a:pt x="890" y="203"/>
                      </a:lnTo>
                      <a:lnTo>
                        <a:pt x="897" y="207"/>
                      </a:lnTo>
                      <a:lnTo>
                        <a:pt x="903" y="210"/>
                      </a:lnTo>
                      <a:lnTo>
                        <a:pt x="909" y="214"/>
                      </a:lnTo>
                      <a:lnTo>
                        <a:pt x="915" y="217"/>
                      </a:lnTo>
                      <a:lnTo>
                        <a:pt x="921" y="221"/>
                      </a:lnTo>
                      <a:lnTo>
                        <a:pt x="927" y="225"/>
                      </a:lnTo>
                      <a:lnTo>
                        <a:pt x="932" y="228"/>
                      </a:lnTo>
                      <a:lnTo>
                        <a:pt x="938" y="232"/>
                      </a:lnTo>
                      <a:lnTo>
                        <a:pt x="944" y="234"/>
                      </a:lnTo>
                      <a:lnTo>
                        <a:pt x="949" y="239"/>
                      </a:lnTo>
                      <a:lnTo>
                        <a:pt x="955" y="241"/>
                      </a:lnTo>
                      <a:lnTo>
                        <a:pt x="961" y="245"/>
                      </a:lnTo>
                      <a:lnTo>
                        <a:pt x="967" y="250"/>
                      </a:lnTo>
                      <a:lnTo>
                        <a:pt x="973" y="252"/>
                      </a:lnTo>
                      <a:lnTo>
                        <a:pt x="979" y="256"/>
                      </a:lnTo>
                      <a:lnTo>
                        <a:pt x="985" y="261"/>
                      </a:lnTo>
                      <a:lnTo>
                        <a:pt x="991" y="263"/>
                      </a:lnTo>
                      <a:lnTo>
                        <a:pt x="998" y="267"/>
                      </a:lnTo>
                      <a:lnTo>
                        <a:pt x="1004" y="271"/>
                      </a:lnTo>
                      <a:lnTo>
                        <a:pt x="1010" y="276"/>
                      </a:lnTo>
                      <a:lnTo>
                        <a:pt x="1017" y="280"/>
                      </a:lnTo>
                      <a:lnTo>
                        <a:pt x="1024" y="282"/>
                      </a:lnTo>
                      <a:lnTo>
                        <a:pt x="1031" y="288"/>
                      </a:lnTo>
                      <a:lnTo>
                        <a:pt x="1037" y="291"/>
                      </a:lnTo>
                      <a:lnTo>
                        <a:pt x="1045" y="296"/>
                      </a:lnTo>
                      <a:lnTo>
                        <a:pt x="1053" y="300"/>
                      </a:lnTo>
                      <a:lnTo>
                        <a:pt x="1060" y="304"/>
                      </a:lnTo>
                      <a:lnTo>
                        <a:pt x="1068" y="309"/>
                      </a:lnTo>
                      <a:lnTo>
                        <a:pt x="1076" y="314"/>
                      </a:lnTo>
                      <a:lnTo>
                        <a:pt x="1083" y="318"/>
                      </a:lnTo>
                      <a:lnTo>
                        <a:pt x="1092" y="322"/>
                      </a:lnTo>
                      <a:lnTo>
                        <a:pt x="1100" y="328"/>
                      </a:lnTo>
                      <a:lnTo>
                        <a:pt x="1109" y="333"/>
                      </a:lnTo>
                      <a:lnTo>
                        <a:pt x="1117" y="339"/>
                      </a:lnTo>
                      <a:lnTo>
                        <a:pt x="1126" y="344"/>
                      </a:lnTo>
                      <a:lnTo>
                        <a:pt x="1135" y="350"/>
                      </a:lnTo>
                      <a:lnTo>
                        <a:pt x="1144" y="355"/>
                      </a:lnTo>
                      <a:lnTo>
                        <a:pt x="1140" y="355"/>
                      </a:lnTo>
                      <a:lnTo>
                        <a:pt x="1134" y="355"/>
                      </a:lnTo>
                      <a:lnTo>
                        <a:pt x="1129" y="355"/>
                      </a:lnTo>
                      <a:lnTo>
                        <a:pt x="1123" y="355"/>
                      </a:lnTo>
                      <a:lnTo>
                        <a:pt x="1118" y="355"/>
                      </a:lnTo>
                      <a:lnTo>
                        <a:pt x="1112" y="355"/>
                      </a:lnTo>
                      <a:lnTo>
                        <a:pt x="1106" y="355"/>
                      </a:lnTo>
                      <a:lnTo>
                        <a:pt x="1102" y="357"/>
                      </a:lnTo>
                      <a:lnTo>
                        <a:pt x="1095" y="357"/>
                      </a:lnTo>
                      <a:lnTo>
                        <a:pt x="1089" y="357"/>
                      </a:lnTo>
                      <a:lnTo>
                        <a:pt x="1083" y="357"/>
                      </a:lnTo>
                      <a:lnTo>
                        <a:pt x="1077" y="357"/>
                      </a:lnTo>
                      <a:lnTo>
                        <a:pt x="1071" y="357"/>
                      </a:lnTo>
                      <a:lnTo>
                        <a:pt x="1065" y="357"/>
                      </a:lnTo>
                      <a:lnTo>
                        <a:pt x="1057" y="357"/>
                      </a:lnTo>
                      <a:lnTo>
                        <a:pt x="1053" y="357"/>
                      </a:lnTo>
                      <a:lnTo>
                        <a:pt x="1045" y="357"/>
                      </a:lnTo>
                      <a:lnTo>
                        <a:pt x="1039" y="357"/>
                      </a:lnTo>
                      <a:lnTo>
                        <a:pt x="1033" y="357"/>
                      </a:lnTo>
                      <a:lnTo>
                        <a:pt x="1027" y="357"/>
                      </a:lnTo>
                      <a:lnTo>
                        <a:pt x="1019" y="357"/>
                      </a:lnTo>
                      <a:lnTo>
                        <a:pt x="1013" y="357"/>
                      </a:lnTo>
                      <a:lnTo>
                        <a:pt x="1007" y="357"/>
                      </a:lnTo>
                      <a:lnTo>
                        <a:pt x="1001" y="357"/>
                      </a:lnTo>
                      <a:lnTo>
                        <a:pt x="993" y="357"/>
                      </a:lnTo>
                      <a:lnTo>
                        <a:pt x="987" y="357"/>
                      </a:lnTo>
                      <a:lnTo>
                        <a:pt x="979" y="357"/>
                      </a:lnTo>
                      <a:lnTo>
                        <a:pt x="972" y="357"/>
                      </a:lnTo>
                      <a:lnTo>
                        <a:pt x="965" y="357"/>
                      </a:lnTo>
                      <a:lnTo>
                        <a:pt x="958" y="357"/>
                      </a:lnTo>
                      <a:lnTo>
                        <a:pt x="952" y="357"/>
                      </a:lnTo>
                      <a:lnTo>
                        <a:pt x="946" y="358"/>
                      </a:lnTo>
                      <a:lnTo>
                        <a:pt x="938" y="358"/>
                      </a:lnTo>
                      <a:lnTo>
                        <a:pt x="932" y="358"/>
                      </a:lnTo>
                      <a:lnTo>
                        <a:pt x="924" y="358"/>
                      </a:lnTo>
                      <a:lnTo>
                        <a:pt x="918" y="358"/>
                      </a:lnTo>
                      <a:lnTo>
                        <a:pt x="910" y="358"/>
                      </a:lnTo>
                      <a:lnTo>
                        <a:pt x="904" y="358"/>
                      </a:lnTo>
                      <a:lnTo>
                        <a:pt x="897" y="358"/>
                      </a:lnTo>
                      <a:lnTo>
                        <a:pt x="890" y="359"/>
                      </a:lnTo>
                      <a:lnTo>
                        <a:pt x="884" y="359"/>
                      </a:lnTo>
                      <a:lnTo>
                        <a:pt x="878" y="359"/>
                      </a:lnTo>
                      <a:lnTo>
                        <a:pt x="871" y="359"/>
                      </a:lnTo>
                      <a:lnTo>
                        <a:pt x="864" y="359"/>
                      </a:lnTo>
                      <a:lnTo>
                        <a:pt x="858" y="359"/>
                      </a:lnTo>
                      <a:lnTo>
                        <a:pt x="852" y="361"/>
                      </a:lnTo>
                      <a:lnTo>
                        <a:pt x="846" y="361"/>
                      </a:lnTo>
                      <a:lnTo>
                        <a:pt x="842" y="362"/>
                      </a:lnTo>
                      <a:lnTo>
                        <a:pt x="835" y="362"/>
                      </a:lnTo>
                      <a:lnTo>
                        <a:pt x="828" y="362"/>
                      </a:lnTo>
                      <a:lnTo>
                        <a:pt x="823" y="362"/>
                      </a:lnTo>
                      <a:lnTo>
                        <a:pt x="817" y="363"/>
                      </a:lnTo>
                      <a:lnTo>
                        <a:pt x="811" y="363"/>
                      </a:lnTo>
                      <a:lnTo>
                        <a:pt x="805" y="365"/>
                      </a:lnTo>
                      <a:lnTo>
                        <a:pt x="800" y="365"/>
                      </a:lnTo>
                      <a:lnTo>
                        <a:pt x="796" y="366"/>
                      </a:lnTo>
                      <a:lnTo>
                        <a:pt x="790" y="366"/>
                      </a:lnTo>
                      <a:lnTo>
                        <a:pt x="785" y="368"/>
                      </a:lnTo>
                      <a:lnTo>
                        <a:pt x="780" y="369"/>
                      </a:lnTo>
                      <a:lnTo>
                        <a:pt x="776" y="369"/>
                      </a:lnTo>
                      <a:lnTo>
                        <a:pt x="770" y="370"/>
                      </a:lnTo>
                      <a:lnTo>
                        <a:pt x="767" y="372"/>
                      </a:lnTo>
                      <a:lnTo>
                        <a:pt x="762" y="372"/>
                      </a:lnTo>
                      <a:lnTo>
                        <a:pt x="759" y="374"/>
                      </a:lnTo>
                      <a:lnTo>
                        <a:pt x="1054" y="368"/>
                      </a:lnTo>
                      <a:lnTo>
                        <a:pt x="872" y="399"/>
                      </a:lnTo>
                      <a:lnTo>
                        <a:pt x="874" y="399"/>
                      </a:lnTo>
                      <a:lnTo>
                        <a:pt x="877" y="399"/>
                      </a:lnTo>
                      <a:lnTo>
                        <a:pt x="880" y="399"/>
                      </a:lnTo>
                      <a:lnTo>
                        <a:pt x="884" y="399"/>
                      </a:lnTo>
                      <a:lnTo>
                        <a:pt x="890" y="399"/>
                      </a:lnTo>
                      <a:lnTo>
                        <a:pt x="892" y="399"/>
                      </a:lnTo>
                      <a:lnTo>
                        <a:pt x="895" y="399"/>
                      </a:lnTo>
                      <a:lnTo>
                        <a:pt x="900" y="399"/>
                      </a:lnTo>
                      <a:lnTo>
                        <a:pt x="903" y="399"/>
                      </a:lnTo>
                      <a:lnTo>
                        <a:pt x="906" y="399"/>
                      </a:lnTo>
                      <a:lnTo>
                        <a:pt x="910" y="399"/>
                      </a:lnTo>
                      <a:lnTo>
                        <a:pt x="913" y="399"/>
                      </a:lnTo>
                      <a:lnTo>
                        <a:pt x="918" y="399"/>
                      </a:lnTo>
                      <a:lnTo>
                        <a:pt x="921" y="399"/>
                      </a:lnTo>
                      <a:lnTo>
                        <a:pt x="926" y="399"/>
                      </a:lnTo>
                      <a:lnTo>
                        <a:pt x="930" y="399"/>
                      </a:lnTo>
                      <a:lnTo>
                        <a:pt x="935" y="399"/>
                      </a:lnTo>
                      <a:lnTo>
                        <a:pt x="938" y="399"/>
                      </a:lnTo>
                      <a:lnTo>
                        <a:pt x="944" y="399"/>
                      </a:lnTo>
                      <a:lnTo>
                        <a:pt x="949" y="399"/>
                      </a:lnTo>
                      <a:lnTo>
                        <a:pt x="953" y="399"/>
                      </a:lnTo>
                      <a:lnTo>
                        <a:pt x="958" y="399"/>
                      </a:lnTo>
                      <a:lnTo>
                        <a:pt x="962" y="399"/>
                      </a:lnTo>
                      <a:lnTo>
                        <a:pt x="967" y="399"/>
                      </a:lnTo>
                      <a:lnTo>
                        <a:pt x="972" y="399"/>
                      </a:lnTo>
                      <a:lnTo>
                        <a:pt x="976" y="399"/>
                      </a:lnTo>
                      <a:lnTo>
                        <a:pt x="981" y="399"/>
                      </a:lnTo>
                      <a:lnTo>
                        <a:pt x="985" y="399"/>
                      </a:lnTo>
                      <a:lnTo>
                        <a:pt x="990" y="399"/>
                      </a:lnTo>
                      <a:lnTo>
                        <a:pt x="994" y="399"/>
                      </a:lnTo>
                      <a:lnTo>
                        <a:pt x="999" y="399"/>
                      </a:lnTo>
                      <a:lnTo>
                        <a:pt x="1004" y="399"/>
                      </a:lnTo>
                      <a:lnTo>
                        <a:pt x="1008" y="399"/>
                      </a:lnTo>
                      <a:lnTo>
                        <a:pt x="1011" y="399"/>
                      </a:lnTo>
                      <a:lnTo>
                        <a:pt x="1016" y="399"/>
                      </a:lnTo>
                      <a:lnTo>
                        <a:pt x="1020" y="399"/>
                      </a:lnTo>
                      <a:lnTo>
                        <a:pt x="1025" y="399"/>
                      </a:lnTo>
                      <a:lnTo>
                        <a:pt x="1028" y="399"/>
                      </a:lnTo>
                      <a:lnTo>
                        <a:pt x="1033" y="399"/>
                      </a:lnTo>
                      <a:lnTo>
                        <a:pt x="1036" y="399"/>
                      </a:lnTo>
                      <a:lnTo>
                        <a:pt x="1040" y="399"/>
                      </a:lnTo>
                      <a:lnTo>
                        <a:pt x="1046" y="399"/>
                      </a:lnTo>
                      <a:lnTo>
                        <a:pt x="1053" y="399"/>
                      </a:lnTo>
                      <a:lnTo>
                        <a:pt x="1057" y="399"/>
                      </a:lnTo>
                      <a:lnTo>
                        <a:pt x="1063" y="399"/>
                      </a:lnTo>
                      <a:lnTo>
                        <a:pt x="1066" y="399"/>
                      </a:lnTo>
                      <a:lnTo>
                        <a:pt x="1069" y="399"/>
                      </a:lnTo>
                      <a:lnTo>
                        <a:pt x="1071" y="399"/>
                      </a:lnTo>
                      <a:lnTo>
                        <a:pt x="1068" y="401"/>
                      </a:lnTo>
                      <a:lnTo>
                        <a:pt x="1063" y="402"/>
                      </a:lnTo>
                      <a:lnTo>
                        <a:pt x="1060" y="403"/>
                      </a:lnTo>
                      <a:lnTo>
                        <a:pt x="1056" y="406"/>
                      </a:lnTo>
                      <a:lnTo>
                        <a:pt x="1050" y="406"/>
                      </a:lnTo>
                      <a:lnTo>
                        <a:pt x="1043" y="406"/>
                      </a:lnTo>
                      <a:lnTo>
                        <a:pt x="1037" y="407"/>
                      </a:lnTo>
                      <a:lnTo>
                        <a:pt x="1031" y="409"/>
                      </a:lnTo>
                      <a:lnTo>
                        <a:pt x="1024" y="409"/>
                      </a:lnTo>
                      <a:lnTo>
                        <a:pt x="1017" y="409"/>
                      </a:lnTo>
                      <a:lnTo>
                        <a:pt x="1011" y="410"/>
                      </a:lnTo>
                      <a:lnTo>
                        <a:pt x="1005" y="412"/>
                      </a:lnTo>
                      <a:lnTo>
                        <a:pt x="999" y="412"/>
                      </a:lnTo>
                      <a:lnTo>
                        <a:pt x="993" y="412"/>
                      </a:lnTo>
                      <a:lnTo>
                        <a:pt x="987" y="412"/>
                      </a:lnTo>
                      <a:lnTo>
                        <a:pt x="979" y="413"/>
                      </a:lnTo>
                      <a:lnTo>
                        <a:pt x="973" y="414"/>
                      </a:lnTo>
                      <a:lnTo>
                        <a:pt x="967" y="414"/>
                      </a:lnTo>
                      <a:lnTo>
                        <a:pt x="961" y="416"/>
                      </a:lnTo>
                      <a:lnTo>
                        <a:pt x="955" y="417"/>
                      </a:lnTo>
                      <a:lnTo>
                        <a:pt x="953" y="418"/>
                      </a:lnTo>
                      <a:lnTo>
                        <a:pt x="952" y="420"/>
                      </a:lnTo>
                      <a:lnTo>
                        <a:pt x="947" y="421"/>
                      </a:lnTo>
                      <a:lnTo>
                        <a:pt x="944" y="424"/>
                      </a:lnTo>
                      <a:lnTo>
                        <a:pt x="938" y="424"/>
                      </a:lnTo>
                      <a:lnTo>
                        <a:pt x="932" y="427"/>
                      </a:lnTo>
                      <a:lnTo>
                        <a:pt x="926" y="427"/>
                      </a:lnTo>
                      <a:lnTo>
                        <a:pt x="920" y="429"/>
                      </a:lnTo>
                      <a:lnTo>
                        <a:pt x="915" y="429"/>
                      </a:lnTo>
                      <a:lnTo>
                        <a:pt x="910" y="429"/>
                      </a:lnTo>
                      <a:lnTo>
                        <a:pt x="907" y="429"/>
                      </a:lnTo>
                      <a:lnTo>
                        <a:pt x="903" y="431"/>
                      </a:lnTo>
                      <a:lnTo>
                        <a:pt x="898" y="432"/>
                      </a:lnTo>
                      <a:lnTo>
                        <a:pt x="894" y="432"/>
                      </a:lnTo>
                      <a:lnTo>
                        <a:pt x="890" y="433"/>
                      </a:lnTo>
                      <a:lnTo>
                        <a:pt x="886" y="433"/>
                      </a:lnTo>
                      <a:lnTo>
                        <a:pt x="881" y="433"/>
                      </a:lnTo>
                      <a:lnTo>
                        <a:pt x="877" y="435"/>
                      </a:lnTo>
                      <a:lnTo>
                        <a:pt x="872" y="435"/>
                      </a:lnTo>
                      <a:lnTo>
                        <a:pt x="868" y="436"/>
                      </a:lnTo>
                      <a:lnTo>
                        <a:pt x="863" y="436"/>
                      </a:lnTo>
                      <a:lnTo>
                        <a:pt x="858" y="436"/>
                      </a:lnTo>
                      <a:lnTo>
                        <a:pt x="854" y="438"/>
                      </a:lnTo>
                      <a:lnTo>
                        <a:pt x="849" y="439"/>
                      </a:lnTo>
                      <a:lnTo>
                        <a:pt x="845" y="439"/>
                      </a:lnTo>
                      <a:lnTo>
                        <a:pt x="840" y="439"/>
                      </a:lnTo>
                      <a:lnTo>
                        <a:pt x="835" y="439"/>
                      </a:lnTo>
                      <a:lnTo>
                        <a:pt x="831" y="440"/>
                      </a:lnTo>
                      <a:lnTo>
                        <a:pt x="825" y="440"/>
                      </a:lnTo>
                      <a:lnTo>
                        <a:pt x="822" y="440"/>
                      </a:lnTo>
                      <a:lnTo>
                        <a:pt x="816" y="442"/>
                      </a:lnTo>
                      <a:lnTo>
                        <a:pt x="812" y="442"/>
                      </a:lnTo>
                      <a:lnTo>
                        <a:pt x="808" y="442"/>
                      </a:lnTo>
                      <a:lnTo>
                        <a:pt x="803" y="442"/>
                      </a:lnTo>
                      <a:lnTo>
                        <a:pt x="799" y="443"/>
                      </a:lnTo>
                      <a:lnTo>
                        <a:pt x="794" y="443"/>
                      </a:lnTo>
                      <a:lnTo>
                        <a:pt x="791" y="443"/>
                      </a:lnTo>
                      <a:lnTo>
                        <a:pt x="786" y="444"/>
                      </a:lnTo>
                      <a:lnTo>
                        <a:pt x="783" y="444"/>
                      </a:lnTo>
                      <a:lnTo>
                        <a:pt x="780" y="446"/>
                      </a:lnTo>
                      <a:lnTo>
                        <a:pt x="776" y="446"/>
                      </a:lnTo>
                      <a:lnTo>
                        <a:pt x="773" y="446"/>
                      </a:lnTo>
                      <a:lnTo>
                        <a:pt x="770" y="446"/>
                      </a:lnTo>
                      <a:lnTo>
                        <a:pt x="767" y="446"/>
                      </a:lnTo>
                      <a:lnTo>
                        <a:pt x="760" y="447"/>
                      </a:lnTo>
                      <a:lnTo>
                        <a:pt x="756" y="449"/>
                      </a:lnTo>
                      <a:lnTo>
                        <a:pt x="751" y="449"/>
                      </a:lnTo>
                      <a:lnTo>
                        <a:pt x="750" y="449"/>
                      </a:lnTo>
                      <a:lnTo>
                        <a:pt x="747" y="450"/>
                      </a:lnTo>
                      <a:lnTo>
                        <a:pt x="747" y="451"/>
                      </a:lnTo>
                      <a:lnTo>
                        <a:pt x="1121" y="439"/>
                      </a:lnTo>
                      <a:lnTo>
                        <a:pt x="1117" y="442"/>
                      </a:lnTo>
                      <a:lnTo>
                        <a:pt x="1112" y="443"/>
                      </a:lnTo>
                      <a:lnTo>
                        <a:pt x="1106" y="444"/>
                      </a:lnTo>
                      <a:lnTo>
                        <a:pt x="1102" y="446"/>
                      </a:lnTo>
                      <a:lnTo>
                        <a:pt x="1095" y="449"/>
                      </a:lnTo>
                      <a:lnTo>
                        <a:pt x="1091" y="450"/>
                      </a:lnTo>
                      <a:lnTo>
                        <a:pt x="1086" y="451"/>
                      </a:lnTo>
                      <a:lnTo>
                        <a:pt x="1082" y="453"/>
                      </a:lnTo>
                      <a:lnTo>
                        <a:pt x="1458" y="453"/>
                      </a:lnTo>
                      <a:lnTo>
                        <a:pt x="1452" y="450"/>
                      </a:lnTo>
                      <a:lnTo>
                        <a:pt x="1447" y="446"/>
                      </a:lnTo>
                      <a:lnTo>
                        <a:pt x="1441" y="443"/>
                      </a:lnTo>
                      <a:lnTo>
                        <a:pt x="1435" y="440"/>
                      </a:lnTo>
                      <a:lnTo>
                        <a:pt x="1432" y="438"/>
                      </a:lnTo>
                      <a:lnTo>
                        <a:pt x="1429" y="436"/>
                      </a:lnTo>
                      <a:lnTo>
                        <a:pt x="1424" y="433"/>
                      </a:lnTo>
                      <a:lnTo>
                        <a:pt x="1421" y="432"/>
                      </a:lnTo>
                      <a:lnTo>
                        <a:pt x="1418" y="429"/>
                      </a:lnTo>
                      <a:lnTo>
                        <a:pt x="1414" y="428"/>
                      </a:lnTo>
                      <a:lnTo>
                        <a:pt x="1411" y="427"/>
                      </a:lnTo>
                      <a:lnTo>
                        <a:pt x="1407" y="424"/>
                      </a:lnTo>
                      <a:lnTo>
                        <a:pt x="1403" y="421"/>
                      </a:lnTo>
                      <a:lnTo>
                        <a:pt x="1398" y="420"/>
                      </a:lnTo>
                      <a:lnTo>
                        <a:pt x="1394" y="417"/>
                      </a:lnTo>
                      <a:lnTo>
                        <a:pt x="1391" y="414"/>
                      </a:lnTo>
                      <a:lnTo>
                        <a:pt x="1386" y="412"/>
                      </a:lnTo>
                      <a:lnTo>
                        <a:pt x="1383" y="410"/>
                      </a:lnTo>
                      <a:lnTo>
                        <a:pt x="1378" y="407"/>
                      </a:lnTo>
                      <a:lnTo>
                        <a:pt x="1374" y="406"/>
                      </a:lnTo>
                      <a:lnTo>
                        <a:pt x="1371" y="403"/>
                      </a:lnTo>
                      <a:lnTo>
                        <a:pt x="1366" y="401"/>
                      </a:lnTo>
                      <a:lnTo>
                        <a:pt x="1362" y="399"/>
                      </a:lnTo>
                      <a:lnTo>
                        <a:pt x="1357" y="396"/>
                      </a:lnTo>
                      <a:lnTo>
                        <a:pt x="1354" y="394"/>
                      </a:lnTo>
                      <a:lnTo>
                        <a:pt x="1349" y="392"/>
                      </a:lnTo>
                      <a:lnTo>
                        <a:pt x="1345" y="390"/>
                      </a:lnTo>
                      <a:lnTo>
                        <a:pt x="1342" y="387"/>
                      </a:lnTo>
                      <a:lnTo>
                        <a:pt x="1337" y="384"/>
                      </a:lnTo>
                      <a:lnTo>
                        <a:pt x="1333" y="383"/>
                      </a:lnTo>
                      <a:lnTo>
                        <a:pt x="1328" y="380"/>
                      </a:lnTo>
                      <a:lnTo>
                        <a:pt x="1325" y="377"/>
                      </a:lnTo>
                      <a:lnTo>
                        <a:pt x="1320" y="374"/>
                      </a:lnTo>
                      <a:lnTo>
                        <a:pt x="1316" y="372"/>
                      </a:lnTo>
                      <a:lnTo>
                        <a:pt x="1311" y="369"/>
                      </a:lnTo>
                      <a:lnTo>
                        <a:pt x="1308" y="368"/>
                      </a:lnTo>
                      <a:lnTo>
                        <a:pt x="1303" y="365"/>
                      </a:lnTo>
                      <a:lnTo>
                        <a:pt x="1299" y="362"/>
                      </a:lnTo>
                      <a:lnTo>
                        <a:pt x="1294" y="359"/>
                      </a:lnTo>
                      <a:lnTo>
                        <a:pt x="1291" y="357"/>
                      </a:lnTo>
                      <a:lnTo>
                        <a:pt x="1288" y="354"/>
                      </a:lnTo>
                      <a:lnTo>
                        <a:pt x="1284" y="352"/>
                      </a:lnTo>
                      <a:lnTo>
                        <a:pt x="1281" y="350"/>
                      </a:lnTo>
                      <a:lnTo>
                        <a:pt x="1277" y="348"/>
                      </a:lnTo>
                      <a:lnTo>
                        <a:pt x="1273" y="346"/>
                      </a:lnTo>
                      <a:lnTo>
                        <a:pt x="1270" y="343"/>
                      </a:lnTo>
                      <a:lnTo>
                        <a:pt x="1265" y="340"/>
                      </a:lnTo>
                      <a:lnTo>
                        <a:pt x="1262" y="339"/>
                      </a:lnTo>
                      <a:lnTo>
                        <a:pt x="1256" y="333"/>
                      </a:lnTo>
                      <a:lnTo>
                        <a:pt x="1250" y="331"/>
                      </a:lnTo>
                      <a:lnTo>
                        <a:pt x="1244" y="325"/>
                      </a:lnTo>
                      <a:lnTo>
                        <a:pt x="1239" y="321"/>
                      </a:lnTo>
                      <a:lnTo>
                        <a:pt x="1235" y="318"/>
                      </a:lnTo>
                      <a:lnTo>
                        <a:pt x="1230" y="315"/>
                      </a:lnTo>
                      <a:lnTo>
                        <a:pt x="1233" y="315"/>
                      </a:lnTo>
                      <a:lnTo>
                        <a:pt x="1236" y="315"/>
                      </a:lnTo>
                      <a:lnTo>
                        <a:pt x="1238" y="318"/>
                      </a:lnTo>
                      <a:lnTo>
                        <a:pt x="1241" y="320"/>
                      </a:lnTo>
                      <a:lnTo>
                        <a:pt x="1466" y="449"/>
                      </a:lnTo>
                      <a:lnTo>
                        <a:pt x="1464" y="447"/>
                      </a:lnTo>
                      <a:lnTo>
                        <a:pt x="1463" y="446"/>
                      </a:lnTo>
                      <a:lnTo>
                        <a:pt x="1459" y="443"/>
                      </a:lnTo>
                      <a:lnTo>
                        <a:pt x="1455" y="440"/>
                      </a:lnTo>
                      <a:lnTo>
                        <a:pt x="1450" y="436"/>
                      </a:lnTo>
                      <a:lnTo>
                        <a:pt x="1446" y="432"/>
                      </a:lnTo>
                      <a:lnTo>
                        <a:pt x="1440" y="428"/>
                      </a:lnTo>
                      <a:lnTo>
                        <a:pt x="1433" y="424"/>
                      </a:lnTo>
                      <a:lnTo>
                        <a:pt x="1427" y="418"/>
                      </a:lnTo>
                      <a:lnTo>
                        <a:pt x="1421" y="414"/>
                      </a:lnTo>
                      <a:lnTo>
                        <a:pt x="1417" y="409"/>
                      </a:lnTo>
                      <a:lnTo>
                        <a:pt x="1412" y="406"/>
                      </a:lnTo>
                      <a:lnTo>
                        <a:pt x="1407" y="402"/>
                      </a:lnTo>
                      <a:lnTo>
                        <a:pt x="1404" y="401"/>
                      </a:lnTo>
                      <a:lnTo>
                        <a:pt x="1403" y="399"/>
                      </a:lnTo>
                      <a:lnTo>
                        <a:pt x="1397" y="394"/>
                      </a:lnTo>
                      <a:lnTo>
                        <a:pt x="1391" y="390"/>
                      </a:lnTo>
                      <a:lnTo>
                        <a:pt x="1385" y="384"/>
                      </a:lnTo>
                      <a:lnTo>
                        <a:pt x="1378" y="381"/>
                      </a:lnTo>
                      <a:lnTo>
                        <a:pt x="1375" y="377"/>
                      </a:lnTo>
                      <a:lnTo>
                        <a:pt x="1372" y="376"/>
                      </a:lnTo>
                      <a:lnTo>
                        <a:pt x="1368" y="373"/>
                      </a:lnTo>
                      <a:lnTo>
                        <a:pt x="1365" y="372"/>
                      </a:lnTo>
                      <a:lnTo>
                        <a:pt x="1362" y="369"/>
                      </a:lnTo>
                      <a:lnTo>
                        <a:pt x="1357" y="368"/>
                      </a:lnTo>
                      <a:lnTo>
                        <a:pt x="1354" y="365"/>
                      </a:lnTo>
                      <a:lnTo>
                        <a:pt x="1351" y="363"/>
                      </a:lnTo>
                      <a:lnTo>
                        <a:pt x="1346" y="361"/>
                      </a:lnTo>
                      <a:lnTo>
                        <a:pt x="1343" y="358"/>
                      </a:lnTo>
                      <a:lnTo>
                        <a:pt x="1339" y="357"/>
                      </a:lnTo>
                      <a:lnTo>
                        <a:pt x="1336" y="354"/>
                      </a:lnTo>
                      <a:lnTo>
                        <a:pt x="1331" y="351"/>
                      </a:lnTo>
                      <a:lnTo>
                        <a:pt x="1326" y="350"/>
                      </a:lnTo>
                      <a:lnTo>
                        <a:pt x="1323" y="347"/>
                      </a:lnTo>
                      <a:lnTo>
                        <a:pt x="1319" y="346"/>
                      </a:lnTo>
                      <a:lnTo>
                        <a:pt x="1316" y="343"/>
                      </a:lnTo>
                      <a:lnTo>
                        <a:pt x="1311" y="340"/>
                      </a:lnTo>
                      <a:lnTo>
                        <a:pt x="1307" y="339"/>
                      </a:lnTo>
                      <a:lnTo>
                        <a:pt x="1302" y="337"/>
                      </a:lnTo>
                      <a:lnTo>
                        <a:pt x="1297" y="335"/>
                      </a:lnTo>
                      <a:lnTo>
                        <a:pt x="1294" y="332"/>
                      </a:lnTo>
                      <a:lnTo>
                        <a:pt x="1290" y="331"/>
                      </a:lnTo>
                      <a:lnTo>
                        <a:pt x="1287" y="328"/>
                      </a:lnTo>
                      <a:lnTo>
                        <a:pt x="1281" y="326"/>
                      </a:lnTo>
                      <a:lnTo>
                        <a:pt x="1277" y="324"/>
                      </a:lnTo>
                      <a:lnTo>
                        <a:pt x="1273" y="321"/>
                      </a:lnTo>
                      <a:lnTo>
                        <a:pt x="1268" y="320"/>
                      </a:lnTo>
                      <a:lnTo>
                        <a:pt x="1264" y="318"/>
                      </a:lnTo>
                      <a:lnTo>
                        <a:pt x="1261" y="315"/>
                      </a:lnTo>
                      <a:lnTo>
                        <a:pt x="1256" y="313"/>
                      </a:lnTo>
                      <a:lnTo>
                        <a:pt x="1251" y="311"/>
                      </a:lnTo>
                      <a:lnTo>
                        <a:pt x="1247" y="309"/>
                      </a:lnTo>
                      <a:lnTo>
                        <a:pt x="1244" y="307"/>
                      </a:lnTo>
                      <a:lnTo>
                        <a:pt x="1239" y="304"/>
                      </a:lnTo>
                      <a:lnTo>
                        <a:pt x="1236" y="303"/>
                      </a:lnTo>
                      <a:lnTo>
                        <a:pt x="1232" y="302"/>
                      </a:lnTo>
                      <a:lnTo>
                        <a:pt x="1227" y="300"/>
                      </a:lnTo>
                      <a:lnTo>
                        <a:pt x="1224" y="298"/>
                      </a:lnTo>
                      <a:lnTo>
                        <a:pt x="1219" y="296"/>
                      </a:lnTo>
                      <a:lnTo>
                        <a:pt x="1216" y="293"/>
                      </a:lnTo>
                      <a:lnTo>
                        <a:pt x="1212" y="292"/>
                      </a:lnTo>
                      <a:lnTo>
                        <a:pt x="1209" y="291"/>
                      </a:lnTo>
                      <a:lnTo>
                        <a:pt x="1204" y="288"/>
                      </a:lnTo>
                      <a:lnTo>
                        <a:pt x="1201" y="287"/>
                      </a:lnTo>
                      <a:lnTo>
                        <a:pt x="1196" y="285"/>
                      </a:lnTo>
                      <a:lnTo>
                        <a:pt x="1193" y="284"/>
                      </a:lnTo>
                      <a:lnTo>
                        <a:pt x="1190" y="281"/>
                      </a:lnTo>
                      <a:lnTo>
                        <a:pt x="1186" y="280"/>
                      </a:lnTo>
                      <a:lnTo>
                        <a:pt x="1183" y="278"/>
                      </a:lnTo>
                      <a:lnTo>
                        <a:pt x="1180" y="277"/>
                      </a:lnTo>
                      <a:lnTo>
                        <a:pt x="1177" y="276"/>
                      </a:lnTo>
                      <a:lnTo>
                        <a:pt x="1170" y="273"/>
                      </a:lnTo>
                      <a:lnTo>
                        <a:pt x="1164" y="269"/>
                      </a:lnTo>
                      <a:lnTo>
                        <a:pt x="1158" y="265"/>
                      </a:lnTo>
                      <a:lnTo>
                        <a:pt x="1151" y="261"/>
                      </a:lnTo>
                      <a:lnTo>
                        <a:pt x="1143" y="256"/>
                      </a:lnTo>
                      <a:lnTo>
                        <a:pt x="1137" y="254"/>
                      </a:lnTo>
                      <a:lnTo>
                        <a:pt x="1129" y="248"/>
                      </a:lnTo>
                      <a:lnTo>
                        <a:pt x="1121" y="245"/>
                      </a:lnTo>
                      <a:lnTo>
                        <a:pt x="1114" y="241"/>
                      </a:lnTo>
                      <a:lnTo>
                        <a:pt x="1108" y="237"/>
                      </a:lnTo>
                      <a:lnTo>
                        <a:pt x="1100" y="233"/>
                      </a:lnTo>
                      <a:lnTo>
                        <a:pt x="1092" y="229"/>
                      </a:lnTo>
                      <a:lnTo>
                        <a:pt x="1085" y="225"/>
                      </a:lnTo>
                      <a:lnTo>
                        <a:pt x="1079" y="221"/>
                      </a:lnTo>
                      <a:lnTo>
                        <a:pt x="1071" y="217"/>
                      </a:lnTo>
                      <a:lnTo>
                        <a:pt x="1063" y="212"/>
                      </a:lnTo>
                      <a:lnTo>
                        <a:pt x="1057" y="208"/>
                      </a:lnTo>
                      <a:lnTo>
                        <a:pt x="1050" y="204"/>
                      </a:lnTo>
                      <a:lnTo>
                        <a:pt x="1042" y="200"/>
                      </a:lnTo>
                      <a:lnTo>
                        <a:pt x="1034" y="196"/>
                      </a:lnTo>
                      <a:lnTo>
                        <a:pt x="1027" y="192"/>
                      </a:lnTo>
                      <a:lnTo>
                        <a:pt x="1020" y="188"/>
                      </a:lnTo>
                      <a:lnTo>
                        <a:pt x="1013" y="184"/>
                      </a:lnTo>
                      <a:lnTo>
                        <a:pt x="1007" y="180"/>
                      </a:lnTo>
                      <a:lnTo>
                        <a:pt x="999" y="175"/>
                      </a:lnTo>
                      <a:lnTo>
                        <a:pt x="993" y="171"/>
                      </a:lnTo>
                      <a:lnTo>
                        <a:pt x="985" y="167"/>
                      </a:lnTo>
                      <a:lnTo>
                        <a:pt x="978" y="163"/>
                      </a:lnTo>
                      <a:lnTo>
                        <a:pt x="970" y="158"/>
                      </a:lnTo>
                      <a:lnTo>
                        <a:pt x="962" y="155"/>
                      </a:lnTo>
                      <a:lnTo>
                        <a:pt x="955" y="149"/>
                      </a:lnTo>
                      <a:lnTo>
                        <a:pt x="949" y="145"/>
                      </a:lnTo>
                      <a:lnTo>
                        <a:pt x="941" y="141"/>
                      </a:lnTo>
                      <a:lnTo>
                        <a:pt x="935" y="137"/>
                      </a:lnTo>
                      <a:lnTo>
                        <a:pt x="927" y="133"/>
                      </a:lnTo>
                      <a:lnTo>
                        <a:pt x="920" y="129"/>
                      </a:lnTo>
                      <a:lnTo>
                        <a:pt x="912" y="123"/>
                      </a:lnTo>
                      <a:lnTo>
                        <a:pt x="906" y="119"/>
                      </a:lnTo>
                      <a:lnTo>
                        <a:pt x="898" y="115"/>
                      </a:lnTo>
                      <a:lnTo>
                        <a:pt x="890" y="111"/>
                      </a:lnTo>
                      <a:lnTo>
                        <a:pt x="883" y="107"/>
                      </a:lnTo>
                      <a:lnTo>
                        <a:pt x="877" y="103"/>
                      </a:lnTo>
                      <a:lnTo>
                        <a:pt x="869" y="97"/>
                      </a:lnTo>
                      <a:lnTo>
                        <a:pt x="861" y="93"/>
                      </a:lnTo>
                      <a:lnTo>
                        <a:pt x="854" y="89"/>
                      </a:lnTo>
                      <a:lnTo>
                        <a:pt x="848" y="85"/>
                      </a:lnTo>
                      <a:lnTo>
                        <a:pt x="840" y="79"/>
                      </a:lnTo>
                      <a:lnTo>
                        <a:pt x="832" y="77"/>
                      </a:lnTo>
                      <a:lnTo>
                        <a:pt x="825" y="71"/>
                      </a:lnTo>
                      <a:lnTo>
                        <a:pt x="819" y="67"/>
                      </a:lnTo>
                      <a:lnTo>
                        <a:pt x="811" y="63"/>
                      </a:lnTo>
                      <a:lnTo>
                        <a:pt x="803" y="59"/>
                      </a:lnTo>
                      <a:lnTo>
                        <a:pt x="796" y="55"/>
                      </a:lnTo>
                      <a:lnTo>
                        <a:pt x="790" y="50"/>
                      </a:lnTo>
                      <a:lnTo>
                        <a:pt x="782" y="45"/>
                      </a:lnTo>
                      <a:lnTo>
                        <a:pt x="774" y="41"/>
                      </a:lnTo>
                      <a:lnTo>
                        <a:pt x="767" y="37"/>
                      </a:lnTo>
                      <a:lnTo>
                        <a:pt x="760" y="33"/>
                      </a:lnTo>
                      <a:lnTo>
                        <a:pt x="753" y="29"/>
                      </a:lnTo>
                      <a:lnTo>
                        <a:pt x="745" y="24"/>
                      </a:lnTo>
                      <a:lnTo>
                        <a:pt x="738" y="20"/>
                      </a:lnTo>
                      <a:lnTo>
                        <a:pt x="731" y="16"/>
                      </a:lnTo>
                      <a:lnTo>
                        <a:pt x="724" y="12"/>
                      </a:lnTo>
                      <a:lnTo>
                        <a:pt x="716" y="8"/>
                      </a:lnTo>
                      <a:lnTo>
                        <a:pt x="710" y="2"/>
                      </a:lnTo>
                      <a:lnTo>
                        <a:pt x="702" y="0"/>
                      </a:lnTo>
                      <a:lnTo>
                        <a:pt x="693" y="5"/>
                      </a:lnTo>
                      <a:lnTo>
                        <a:pt x="684" y="11"/>
                      </a:lnTo>
                      <a:lnTo>
                        <a:pt x="675" y="18"/>
                      </a:lnTo>
                      <a:lnTo>
                        <a:pt x="666" y="23"/>
                      </a:lnTo>
                      <a:lnTo>
                        <a:pt x="656" y="29"/>
                      </a:lnTo>
                      <a:lnTo>
                        <a:pt x="647" y="35"/>
                      </a:lnTo>
                      <a:lnTo>
                        <a:pt x="637" y="41"/>
                      </a:lnTo>
                      <a:lnTo>
                        <a:pt x="627" y="48"/>
                      </a:lnTo>
                      <a:lnTo>
                        <a:pt x="618" y="53"/>
                      </a:lnTo>
                      <a:lnTo>
                        <a:pt x="609" y="60"/>
                      </a:lnTo>
                      <a:lnTo>
                        <a:pt x="600" y="66"/>
                      </a:lnTo>
                      <a:lnTo>
                        <a:pt x="591" y="72"/>
                      </a:lnTo>
                      <a:lnTo>
                        <a:pt x="581" y="78"/>
                      </a:lnTo>
                      <a:lnTo>
                        <a:pt x="571" y="85"/>
                      </a:lnTo>
                      <a:lnTo>
                        <a:pt x="562" y="90"/>
                      </a:lnTo>
                      <a:lnTo>
                        <a:pt x="552" y="97"/>
                      </a:lnTo>
                      <a:lnTo>
                        <a:pt x="543" y="103"/>
                      </a:lnTo>
                      <a:lnTo>
                        <a:pt x="534" y="110"/>
                      </a:lnTo>
                      <a:lnTo>
                        <a:pt x="525" y="115"/>
                      </a:lnTo>
                      <a:lnTo>
                        <a:pt x="516" y="122"/>
                      </a:lnTo>
                      <a:lnTo>
                        <a:pt x="507" y="127"/>
                      </a:lnTo>
                      <a:lnTo>
                        <a:pt x="496" y="134"/>
                      </a:lnTo>
                      <a:lnTo>
                        <a:pt x="487" y="140"/>
                      </a:lnTo>
                      <a:lnTo>
                        <a:pt x="477" y="147"/>
                      </a:lnTo>
                      <a:lnTo>
                        <a:pt x="468" y="152"/>
                      </a:lnTo>
                      <a:lnTo>
                        <a:pt x="459" y="159"/>
                      </a:lnTo>
                      <a:lnTo>
                        <a:pt x="450" y="164"/>
                      </a:lnTo>
                      <a:lnTo>
                        <a:pt x="441" y="171"/>
                      </a:lnTo>
                      <a:lnTo>
                        <a:pt x="430" y="177"/>
                      </a:lnTo>
                      <a:lnTo>
                        <a:pt x="421" y="184"/>
                      </a:lnTo>
                      <a:lnTo>
                        <a:pt x="412" y="189"/>
                      </a:lnTo>
                      <a:lnTo>
                        <a:pt x="403" y="196"/>
                      </a:lnTo>
                      <a:lnTo>
                        <a:pt x="393" y="201"/>
                      </a:lnTo>
                      <a:lnTo>
                        <a:pt x="384" y="208"/>
                      </a:lnTo>
                      <a:lnTo>
                        <a:pt x="375" y="214"/>
                      </a:lnTo>
                      <a:lnTo>
                        <a:pt x="366" y="221"/>
                      </a:lnTo>
                      <a:lnTo>
                        <a:pt x="357" y="226"/>
                      </a:lnTo>
                      <a:lnTo>
                        <a:pt x="347" y="233"/>
                      </a:lnTo>
                      <a:lnTo>
                        <a:pt x="337" y="239"/>
                      </a:lnTo>
                      <a:lnTo>
                        <a:pt x="328" y="245"/>
                      </a:lnTo>
                      <a:lnTo>
                        <a:pt x="318" y="251"/>
                      </a:lnTo>
                      <a:lnTo>
                        <a:pt x="309" y="258"/>
                      </a:lnTo>
                      <a:lnTo>
                        <a:pt x="300" y="263"/>
                      </a:lnTo>
                      <a:lnTo>
                        <a:pt x="291" y="270"/>
                      </a:lnTo>
                      <a:lnTo>
                        <a:pt x="282" y="276"/>
                      </a:lnTo>
                      <a:lnTo>
                        <a:pt x="272" y="282"/>
                      </a:lnTo>
                      <a:lnTo>
                        <a:pt x="262" y="288"/>
                      </a:lnTo>
                      <a:lnTo>
                        <a:pt x="254" y="295"/>
                      </a:lnTo>
                      <a:lnTo>
                        <a:pt x="245" y="300"/>
                      </a:lnTo>
                      <a:lnTo>
                        <a:pt x="234" y="307"/>
                      </a:lnTo>
                      <a:lnTo>
                        <a:pt x="225" y="313"/>
                      </a:lnTo>
                      <a:lnTo>
                        <a:pt x="216" y="320"/>
                      </a:lnTo>
                      <a:lnTo>
                        <a:pt x="207" y="325"/>
                      </a:lnTo>
                      <a:lnTo>
                        <a:pt x="198" y="332"/>
                      </a:lnTo>
                      <a:lnTo>
                        <a:pt x="188" y="337"/>
                      </a:lnTo>
                      <a:lnTo>
                        <a:pt x="179" y="344"/>
                      </a:lnTo>
                      <a:lnTo>
                        <a:pt x="170" y="350"/>
                      </a:lnTo>
                      <a:lnTo>
                        <a:pt x="159" y="357"/>
                      </a:lnTo>
                      <a:lnTo>
                        <a:pt x="150" y="362"/>
                      </a:lnTo>
                      <a:lnTo>
                        <a:pt x="141" y="369"/>
                      </a:lnTo>
                      <a:lnTo>
                        <a:pt x="132" y="374"/>
                      </a:lnTo>
                      <a:lnTo>
                        <a:pt x="123" y="381"/>
                      </a:lnTo>
                      <a:lnTo>
                        <a:pt x="113" y="387"/>
                      </a:lnTo>
                      <a:lnTo>
                        <a:pt x="104" y="3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45"/>
                <p:cNvSpPr/>
                <p:nvPr/>
              </p:nvSpPr>
              <p:spPr>
                <a:xfrm>
                  <a:off x="3054960" y="1795320"/>
                  <a:ext cx="101880" cy="6444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294" h="175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7" y="9"/>
                      </a:lnTo>
                      <a:lnTo>
                        <a:pt x="11" y="11"/>
                      </a:lnTo>
                      <a:lnTo>
                        <a:pt x="17" y="16"/>
                      </a:lnTo>
                      <a:lnTo>
                        <a:pt x="20" y="17"/>
                      </a:lnTo>
                      <a:lnTo>
                        <a:pt x="23" y="20"/>
                      </a:lnTo>
                      <a:lnTo>
                        <a:pt x="28" y="22"/>
                      </a:lnTo>
                      <a:lnTo>
                        <a:pt x="33" y="25"/>
                      </a:lnTo>
                      <a:lnTo>
                        <a:pt x="36" y="28"/>
                      </a:lnTo>
                      <a:lnTo>
                        <a:pt x="40" y="31"/>
                      </a:lnTo>
                      <a:lnTo>
                        <a:pt x="45" y="33"/>
                      </a:lnTo>
                      <a:lnTo>
                        <a:pt x="51" y="37"/>
                      </a:lnTo>
                      <a:lnTo>
                        <a:pt x="55" y="40"/>
                      </a:lnTo>
                      <a:lnTo>
                        <a:pt x="60" y="43"/>
                      </a:lnTo>
                      <a:lnTo>
                        <a:pt x="66" y="46"/>
                      </a:lnTo>
                      <a:lnTo>
                        <a:pt x="72" y="50"/>
                      </a:lnTo>
                      <a:lnTo>
                        <a:pt x="78" y="53"/>
                      </a:lnTo>
                      <a:lnTo>
                        <a:pt x="85" y="57"/>
                      </a:lnTo>
                      <a:lnTo>
                        <a:pt x="91" y="61"/>
                      </a:lnTo>
                      <a:lnTo>
                        <a:pt x="97" y="64"/>
                      </a:lnTo>
                      <a:lnTo>
                        <a:pt x="103" y="68"/>
                      </a:lnTo>
                      <a:lnTo>
                        <a:pt x="109" y="72"/>
                      </a:lnTo>
                      <a:lnTo>
                        <a:pt x="117" y="76"/>
                      </a:lnTo>
                      <a:lnTo>
                        <a:pt x="123" y="79"/>
                      </a:lnTo>
                      <a:lnTo>
                        <a:pt x="129" y="83"/>
                      </a:lnTo>
                      <a:lnTo>
                        <a:pt x="137" y="87"/>
                      </a:lnTo>
                      <a:lnTo>
                        <a:pt x="143" y="91"/>
                      </a:lnTo>
                      <a:lnTo>
                        <a:pt x="150" y="95"/>
                      </a:lnTo>
                      <a:lnTo>
                        <a:pt x="156" y="98"/>
                      </a:lnTo>
                      <a:lnTo>
                        <a:pt x="163" y="102"/>
                      </a:lnTo>
                      <a:lnTo>
                        <a:pt x="169" y="106"/>
                      </a:lnTo>
                      <a:lnTo>
                        <a:pt x="175" y="110"/>
                      </a:lnTo>
                      <a:lnTo>
                        <a:pt x="181" y="113"/>
                      </a:lnTo>
                      <a:lnTo>
                        <a:pt x="187" y="117"/>
                      </a:lnTo>
                      <a:lnTo>
                        <a:pt x="195" y="120"/>
                      </a:lnTo>
                      <a:lnTo>
                        <a:pt x="201" y="124"/>
                      </a:lnTo>
                      <a:lnTo>
                        <a:pt x="207" y="128"/>
                      </a:lnTo>
                      <a:lnTo>
                        <a:pt x="213" y="131"/>
                      </a:lnTo>
                      <a:lnTo>
                        <a:pt x="219" y="135"/>
                      </a:lnTo>
                      <a:lnTo>
                        <a:pt x="225" y="138"/>
                      </a:lnTo>
                      <a:lnTo>
                        <a:pt x="230" y="140"/>
                      </a:lnTo>
                      <a:lnTo>
                        <a:pt x="236" y="145"/>
                      </a:lnTo>
                      <a:lnTo>
                        <a:pt x="241" y="147"/>
                      </a:lnTo>
                      <a:lnTo>
                        <a:pt x="247" y="150"/>
                      </a:lnTo>
                      <a:lnTo>
                        <a:pt x="251" y="153"/>
                      </a:lnTo>
                      <a:lnTo>
                        <a:pt x="256" y="154"/>
                      </a:lnTo>
                      <a:lnTo>
                        <a:pt x="260" y="157"/>
                      </a:lnTo>
                      <a:lnTo>
                        <a:pt x="265" y="160"/>
                      </a:lnTo>
                      <a:lnTo>
                        <a:pt x="268" y="162"/>
                      </a:lnTo>
                      <a:lnTo>
                        <a:pt x="273" y="164"/>
                      </a:lnTo>
                      <a:lnTo>
                        <a:pt x="276" y="167"/>
                      </a:lnTo>
                      <a:lnTo>
                        <a:pt x="280" y="168"/>
                      </a:lnTo>
                      <a:lnTo>
                        <a:pt x="285" y="171"/>
                      </a:lnTo>
                      <a:lnTo>
                        <a:pt x="289" y="173"/>
                      </a:lnTo>
                      <a:lnTo>
                        <a:pt x="293" y="175"/>
                      </a:lnTo>
                      <a:lnTo>
                        <a:pt x="294" y="175"/>
                      </a:lnTo>
                      <a:lnTo>
                        <a:pt x="289" y="171"/>
                      </a:lnTo>
                      <a:lnTo>
                        <a:pt x="277" y="164"/>
                      </a:lnTo>
                      <a:lnTo>
                        <a:pt x="247" y="143"/>
                      </a:lnTo>
                      <a:lnTo>
                        <a:pt x="178" y="107"/>
                      </a:lnTo>
                      <a:lnTo>
                        <a:pt x="173" y="103"/>
                      </a:lnTo>
                      <a:lnTo>
                        <a:pt x="167" y="101"/>
                      </a:lnTo>
                      <a:lnTo>
                        <a:pt x="161" y="97"/>
                      </a:lnTo>
                      <a:lnTo>
                        <a:pt x="156" y="92"/>
                      </a:lnTo>
                      <a:lnTo>
                        <a:pt x="150" y="90"/>
                      </a:lnTo>
                      <a:lnTo>
                        <a:pt x="146" y="86"/>
                      </a:lnTo>
                      <a:lnTo>
                        <a:pt x="140" y="83"/>
                      </a:lnTo>
                      <a:lnTo>
                        <a:pt x="135" y="79"/>
                      </a:lnTo>
                      <a:lnTo>
                        <a:pt x="129" y="76"/>
                      </a:lnTo>
                      <a:lnTo>
                        <a:pt x="123" y="72"/>
                      </a:lnTo>
                      <a:lnTo>
                        <a:pt x="118" y="68"/>
                      </a:lnTo>
                      <a:lnTo>
                        <a:pt x="114" y="65"/>
                      </a:lnTo>
                      <a:lnTo>
                        <a:pt x="107" y="61"/>
                      </a:lnTo>
                      <a:lnTo>
                        <a:pt x="103" y="58"/>
                      </a:lnTo>
                      <a:lnTo>
                        <a:pt x="97" y="54"/>
                      </a:lnTo>
                      <a:lnTo>
                        <a:pt x="92" y="51"/>
                      </a:lnTo>
                      <a:lnTo>
                        <a:pt x="86" y="47"/>
                      </a:lnTo>
                      <a:lnTo>
                        <a:pt x="81" y="44"/>
                      </a:lnTo>
                      <a:lnTo>
                        <a:pt x="75" y="40"/>
                      </a:lnTo>
                      <a:lnTo>
                        <a:pt x="71" y="37"/>
                      </a:lnTo>
                      <a:lnTo>
                        <a:pt x="65" y="33"/>
                      </a:lnTo>
                      <a:lnTo>
                        <a:pt x="59" y="31"/>
                      </a:lnTo>
                      <a:lnTo>
                        <a:pt x="54" y="27"/>
                      </a:lnTo>
                      <a:lnTo>
                        <a:pt x="48" y="24"/>
                      </a:lnTo>
                      <a:lnTo>
                        <a:pt x="43" y="21"/>
                      </a:lnTo>
                      <a:lnTo>
                        <a:pt x="37" y="17"/>
                      </a:lnTo>
                      <a:lnTo>
                        <a:pt x="31" y="14"/>
                      </a:lnTo>
                      <a:lnTo>
                        <a:pt x="26" y="11"/>
                      </a:lnTo>
                      <a:lnTo>
                        <a:pt x="20" y="9"/>
                      </a:lnTo>
                      <a:lnTo>
                        <a:pt x="14" y="6"/>
                      </a:lnTo>
                      <a:lnTo>
                        <a:pt x="1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46"/>
                <p:cNvSpPr/>
                <p:nvPr/>
              </p:nvSpPr>
              <p:spPr>
                <a:xfrm>
                  <a:off x="2840760" y="1845000"/>
                  <a:ext cx="103320" cy="6984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299" h="190">
                      <a:moveTo>
                        <a:pt x="0" y="190"/>
                      </a:moveTo>
                      <a:lnTo>
                        <a:pt x="3" y="188"/>
                      </a:lnTo>
                      <a:lnTo>
                        <a:pt x="8" y="185"/>
                      </a:lnTo>
                      <a:lnTo>
                        <a:pt x="13" y="181"/>
                      </a:lnTo>
                      <a:lnTo>
                        <a:pt x="17" y="178"/>
                      </a:lnTo>
                      <a:lnTo>
                        <a:pt x="22" y="175"/>
                      </a:lnTo>
                      <a:lnTo>
                        <a:pt x="26" y="173"/>
                      </a:lnTo>
                      <a:lnTo>
                        <a:pt x="31" y="170"/>
                      </a:lnTo>
                      <a:lnTo>
                        <a:pt x="36" y="167"/>
                      </a:lnTo>
                      <a:lnTo>
                        <a:pt x="40" y="163"/>
                      </a:lnTo>
                      <a:lnTo>
                        <a:pt x="45" y="160"/>
                      </a:lnTo>
                      <a:lnTo>
                        <a:pt x="48" y="156"/>
                      </a:lnTo>
                      <a:lnTo>
                        <a:pt x="54" y="153"/>
                      </a:lnTo>
                      <a:lnTo>
                        <a:pt x="59" y="151"/>
                      </a:lnTo>
                      <a:lnTo>
                        <a:pt x="63" y="146"/>
                      </a:lnTo>
                      <a:lnTo>
                        <a:pt x="68" y="144"/>
                      </a:lnTo>
                      <a:lnTo>
                        <a:pt x="72" y="141"/>
                      </a:lnTo>
                      <a:lnTo>
                        <a:pt x="75" y="137"/>
                      </a:lnTo>
                      <a:lnTo>
                        <a:pt x="81" y="134"/>
                      </a:lnTo>
                      <a:lnTo>
                        <a:pt x="85" y="131"/>
                      </a:lnTo>
                      <a:lnTo>
                        <a:pt x="91" y="127"/>
                      </a:lnTo>
                      <a:lnTo>
                        <a:pt x="95" y="124"/>
                      </a:lnTo>
                      <a:lnTo>
                        <a:pt x="100" y="120"/>
                      </a:lnTo>
                      <a:lnTo>
                        <a:pt x="104" y="118"/>
                      </a:lnTo>
                      <a:lnTo>
                        <a:pt x="109" y="114"/>
                      </a:lnTo>
                      <a:lnTo>
                        <a:pt x="114" y="111"/>
                      </a:lnTo>
                      <a:lnTo>
                        <a:pt x="118" y="107"/>
                      </a:lnTo>
                      <a:lnTo>
                        <a:pt x="123" y="104"/>
                      </a:lnTo>
                      <a:lnTo>
                        <a:pt x="129" y="100"/>
                      </a:lnTo>
                      <a:lnTo>
                        <a:pt x="133" y="97"/>
                      </a:lnTo>
                      <a:lnTo>
                        <a:pt x="138" y="93"/>
                      </a:lnTo>
                      <a:lnTo>
                        <a:pt x="143" y="90"/>
                      </a:lnTo>
                      <a:lnTo>
                        <a:pt x="147" y="87"/>
                      </a:lnTo>
                      <a:lnTo>
                        <a:pt x="152" y="83"/>
                      </a:lnTo>
                      <a:lnTo>
                        <a:pt x="158" y="81"/>
                      </a:lnTo>
                      <a:lnTo>
                        <a:pt x="161" y="76"/>
                      </a:lnTo>
                      <a:lnTo>
                        <a:pt x="167" y="74"/>
                      </a:lnTo>
                      <a:lnTo>
                        <a:pt x="172" y="70"/>
                      </a:lnTo>
                      <a:lnTo>
                        <a:pt x="176" y="67"/>
                      </a:lnTo>
                      <a:lnTo>
                        <a:pt x="181" y="63"/>
                      </a:lnTo>
                      <a:lnTo>
                        <a:pt x="185" y="60"/>
                      </a:lnTo>
                      <a:lnTo>
                        <a:pt x="190" y="57"/>
                      </a:lnTo>
                      <a:lnTo>
                        <a:pt x="195" y="53"/>
                      </a:lnTo>
                      <a:lnTo>
                        <a:pt x="201" y="50"/>
                      </a:lnTo>
                      <a:lnTo>
                        <a:pt x="205" y="48"/>
                      </a:lnTo>
                      <a:lnTo>
                        <a:pt x="210" y="45"/>
                      </a:lnTo>
                      <a:lnTo>
                        <a:pt x="216" y="41"/>
                      </a:lnTo>
                      <a:lnTo>
                        <a:pt x="219" y="38"/>
                      </a:lnTo>
                      <a:lnTo>
                        <a:pt x="225" y="35"/>
                      </a:lnTo>
                      <a:lnTo>
                        <a:pt x="230" y="33"/>
                      </a:lnTo>
                      <a:lnTo>
                        <a:pt x="234" y="30"/>
                      </a:lnTo>
                      <a:lnTo>
                        <a:pt x="239" y="27"/>
                      </a:lnTo>
                      <a:lnTo>
                        <a:pt x="244" y="24"/>
                      </a:lnTo>
                      <a:lnTo>
                        <a:pt x="248" y="22"/>
                      </a:lnTo>
                      <a:lnTo>
                        <a:pt x="254" y="20"/>
                      </a:lnTo>
                      <a:lnTo>
                        <a:pt x="259" y="16"/>
                      </a:lnTo>
                      <a:lnTo>
                        <a:pt x="264" y="15"/>
                      </a:lnTo>
                      <a:lnTo>
                        <a:pt x="268" y="12"/>
                      </a:lnTo>
                      <a:lnTo>
                        <a:pt x="274" y="9"/>
                      </a:lnTo>
                      <a:lnTo>
                        <a:pt x="279" y="8"/>
                      </a:lnTo>
                      <a:lnTo>
                        <a:pt x="288" y="4"/>
                      </a:lnTo>
                      <a:lnTo>
                        <a:pt x="299" y="0"/>
                      </a:lnTo>
                      <a:lnTo>
                        <a:pt x="288" y="5"/>
                      </a:lnTo>
                      <a:lnTo>
                        <a:pt x="279" y="9"/>
                      </a:lnTo>
                      <a:lnTo>
                        <a:pt x="274" y="12"/>
                      </a:lnTo>
                      <a:lnTo>
                        <a:pt x="271" y="15"/>
                      </a:lnTo>
                      <a:lnTo>
                        <a:pt x="267" y="16"/>
                      </a:lnTo>
                      <a:lnTo>
                        <a:pt x="262" y="20"/>
                      </a:lnTo>
                      <a:lnTo>
                        <a:pt x="257" y="23"/>
                      </a:lnTo>
                      <a:lnTo>
                        <a:pt x="253" y="26"/>
                      </a:lnTo>
                      <a:lnTo>
                        <a:pt x="248" y="28"/>
                      </a:lnTo>
                      <a:lnTo>
                        <a:pt x="244" y="33"/>
                      </a:lnTo>
                      <a:lnTo>
                        <a:pt x="238" y="35"/>
                      </a:lnTo>
                      <a:lnTo>
                        <a:pt x="233" y="38"/>
                      </a:lnTo>
                      <a:lnTo>
                        <a:pt x="228" y="42"/>
                      </a:lnTo>
                      <a:lnTo>
                        <a:pt x="222" y="45"/>
                      </a:lnTo>
                      <a:lnTo>
                        <a:pt x="218" y="49"/>
                      </a:lnTo>
                      <a:lnTo>
                        <a:pt x="211" y="53"/>
                      </a:lnTo>
                      <a:lnTo>
                        <a:pt x="207" y="56"/>
                      </a:lnTo>
                      <a:lnTo>
                        <a:pt x="202" y="60"/>
                      </a:lnTo>
                      <a:lnTo>
                        <a:pt x="196" y="64"/>
                      </a:lnTo>
                      <a:lnTo>
                        <a:pt x="192" y="68"/>
                      </a:lnTo>
                      <a:lnTo>
                        <a:pt x="185" y="71"/>
                      </a:lnTo>
                      <a:lnTo>
                        <a:pt x="179" y="75"/>
                      </a:lnTo>
                      <a:lnTo>
                        <a:pt x="175" y="79"/>
                      </a:lnTo>
                      <a:lnTo>
                        <a:pt x="169" y="83"/>
                      </a:lnTo>
                      <a:lnTo>
                        <a:pt x="164" y="87"/>
                      </a:lnTo>
                      <a:lnTo>
                        <a:pt x="158" y="90"/>
                      </a:lnTo>
                      <a:lnTo>
                        <a:pt x="152" y="94"/>
                      </a:lnTo>
                      <a:lnTo>
                        <a:pt x="147" y="100"/>
                      </a:lnTo>
                      <a:lnTo>
                        <a:pt x="141" y="103"/>
                      </a:lnTo>
                      <a:lnTo>
                        <a:pt x="137" y="107"/>
                      </a:lnTo>
                      <a:lnTo>
                        <a:pt x="130" y="111"/>
                      </a:lnTo>
                      <a:lnTo>
                        <a:pt x="124" y="115"/>
                      </a:lnTo>
                      <a:lnTo>
                        <a:pt x="120" y="118"/>
                      </a:lnTo>
                      <a:lnTo>
                        <a:pt x="114" y="122"/>
                      </a:lnTo>
                      <a:lnTo>
                        <a:pt x="107" y="126"/>
                      </a:lnTo>
                      <a:lnTo>
                        <a:pt x="103" y="130"/>
                      </a:lnTo>
                      <a:lnTo>
                        <a:pt x="97" y="133"/>
                      </a:lnTo>
                      <a:lnTo>
                        <a:pt x="92" y="137"/>
                      </a:lnTo>
                      <a:lnTo>
                        <a:pt x="86" y="140"/>
                      </a:lnTo>
                      <a:lnTo>
                        <a:pt x="81" y="144"/>
                      </a:lnTo>
                      <a:lnTo>
                        <a:pt x="75" y="146"/>
                      </a:lnTo>
                      <a:lnTo>
                        <a:pt x="72" y="151"/>
                      </a:lnTo>
                      <a:lnTo>
                        <a:pt x="66" y="153"/>
                      </a:lnTo>
                      <a:lnTo>
                        <a:pt x="62" y="157"/>
                      </a:lnTo>
                      <a:lnTo>
                        <a:pt x="57" y="160"/>
                      </a:lnTo>
                      <a:lnTo>
                        <a:pt x="52" y="163"/>
                      </a:lnTo>
                      <a:lnTo>
                        <a:pt x="48" y="166"/>
                      </a:lnTo>
                      <a:lnTo>
                        <a:pt x="43" y="168"/>
                      </a:lnTo>
                      <a:lnTo>
                        <a:pt x="39" y="171"/>
                      </a:lnTo>
                      <a:lnTo>
                        <a:pt x="34" y="174"/>
                      </a:lnTo>
                      <a:lnTo>
                        <a:pt x="31" y="175"/>
                      </a:lnTo>
                      <a:lnTo>
                        <a:pt x="28" y="178"/>
                      </a:lnTo>
                      <a:lnTo>
                        <a:pt x="23" y="181"/>
                      </a:lnTo>
                      <a:lnTo>
                        <a:pt x="19" y="182"/>
                      </a:lnTo>
                      <a:lnTo>
                        <a:pt x="16" y="184"/>
                      </a:lnTo>
                      <a:lnTo>
                        <a:pt x="13" y="186"/>
                      </a:lnTo>
                      <a:lnTo>
                        <a:pt x="7" y="189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47"/>
                <p:cNvSpPr/>
                <p:nvPr/>
              </p:nvSpPr>
              <p:spPr>
                <a:xfrm>
                  <a:off x="2847960" y="1914840"/>
                  <a:ext cx="17280" cy="216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51" h="6">
                      <a:moveTo>
                        <a:pt x="42" y="0"/>
                      </a:move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4" y="6"/>
                      </a:lnTo>
                      <a:lnTo>
                        <a:pt x="20" y="6"/>
                      </a:lnTo>
                      <a:lnTo>
                        <a:pt x="25" y="6"/>
                      </a:lnTo>
                      <a:lnTo>
                        <a:pt x="29" y="6"/>
                      </a:lnTo>
                      <a:lnTo>
                        <a:pt x="35" y="6"/>
                      </a:lnTo>
                      <a:lnTo>
                        <a:pt x="42" y="6"/>
                      </a:lnTo>
                      <a:lnTo>
                        <a:pt x="51" y="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48"/>
                <p:cNvSpPr/>
                <p:nvPr/>
              </p:nvSpPr>
              <p:spPr>
                <a:xfrm>
                  <a:off x="3134880" y="1827000"/>
                  <a:ext cx="16560" cy="1080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9" h="30">
                      <a:moveTo>
                        <a:pt x="41" y="30"/>
                      </a:moveTo>
                      <a:lnTo>
                        <a:pt x="49" y="26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14" y="12"/>
                      </a:lnTo>
                      <a:lnTo>
                        <a:pt x="20" y="17"/>
                      </a:lnTo>
                      <a:lnTo>
                        <a:pt x="26" y="21"/>
                      </a:lnTo>
                      <a:lnTo>
                        <a:pt x="30" y="23"/>
                      </a:lnTo>
                      <a:lnTo>
                        <a:pt x="33" y="26"/>
                      </a:lnTo>
                      <a:lnTo>
                        <a:pt x="38" y="27"/>
                      </a:lnTo>
                      <a:lnTo>
                        <a:pt x="41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49"/>
                <p:cNvSpPr/>
                <p:nvPr/>
              </p:nvSpPr>
              <p:spPr>
                <a:xfrm>
                  <a:off x="3180960" y="1914840"/>
                  <a:ext cx="46800" cy="360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3600"/>
                    <a:gd name="textAreaBottom" fmla="*/ 3960 h 3600"/>
                  </a:gdLst>
                  <a:ahLst/>
                  <a:rect l="textAreaLeft" t="textAreaTop" r="textAreaRight" b="textAreaBottom"/>
                  <a:pathLst>
                    <a:path w="136" h="10">
                      <a:moveTo>
                        <a:pt x="136" y="0"/>
                      </a:moveTo>
                      <a:lnTo>
                        <a:pt x="131" y="0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101" y="0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7" y="0"/>
                      </a:lnTo>
                      <a:lnTo>
                        <a:pt x="84" y="0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0" y="0"/>
                      </a:lnTo>
                      <a:lnTo>
                        <a:pt x="67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7" y="2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2" y="4"/>
                      </a:lnTo>
                      <a:lnTo>
                        <a:pt x="8" y="6"/>
                      </a:lnTo>
                      <a:lnTo>
                        <a:pt x="3" y="6"/>
                      </a:lnTo>
                      <a:lnTo>
                        <a:pt x="0" y="9"/>
                      </a:lnTo>
                      <a:lnTo>
                        <a:pt x="27" y="10"/>
                      </a:lnTo>
                      <a:lnTo>
                        <a:pt x="31" y="9"/>
                      </a:lnTo>
                      <a:lnTo>
                        <a:pt x="35" y="6"/>
                      </a:lnTo>
                      <a:lnTo>
                        <a:pt x="41" y="6"/>
                      </a:lnTo>
                      <a:lnTo>
                        <a:pt x="47" y="6"/>
                      </a:lnTo>
                      <a:lnTo>
                        <a:pt x="55" y="6"/>
                      </a:lnTo>
                      <a:lnTo>
                        <a:pt x="58" y="6"/>
                      </a:lnTo>
                      <a:lnTo>
                        <a:pt x="61" y="6"/>
                      </a:lnTo>
                      <a:lnTo>
                        <a:pt x="66" y="6"/>
                      </a:lnTo>
                      <a:lnTo>
                        <a:pt x="69" y="7"/>
                      </a:lnTo>
                      <a:lnTo>
                        <a:pt x="73" y="7"/>
                      </a:lnTo>
                      <a:lnTo>
                        <a:pt x="76" y="9"/>
                      </a:lnTo>
                      <a:lnTo>
                        <a:pt x="81" y="9"/>
                      </a:lnTo>
                      <a:lnTo>
                        <a:pt x="84" y="9"/>
                      </a:lnTo>
                      <a:lnTo>
                        <a:pt x="87" y="9"/>
                      </a:lnTo>
                      <a:lnTo>
                        <a:pt x="92" y="10"/>
                      </a:lnTo>
                      <a:lnTo>
                        <a:pt x="95" y="10"/>
                      </a:lnTo>
                      <a:lnTo>
                        <a:pt x="99" y="10"/>
                      </a:lnTo>
                      <a:lnTo>
                        <a:pt x="102" y="10"/>
                      </a:lnTo>
                      <a:lnTo>
                        <a:pt x="105" y="10"/>
                      </a:lnTo>
                      <a:lnTo>
                        <a:pt x="109" y="10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7"/>
                      </a:lnTo>
                      <a:lnTo>
                        <a:pt x="130" y="4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50"/>
                <p:cNvSpPr/>
                <p:nvPr/>
              </p:nvSpPr>
              <p:spPr>
                <a:xfrm>
                  <a:off x="3156840" y="1841400"/>
                  <a:ext cx="38880" cy="22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3" h="62">
                      <a:moveTo>
                        <a:pt x="0" y="0"/>
                      </a:moveTo>
                      <a:lnTo>
                        <a:pt x="113" y="62"/>
                      </a:lnTo>
                      <a:lnTo>
                        <a:pt x="112" y="61"/>
                      </a:lnTo>
                      <a:lnTo>
                        <a:pt x="107" y="61"/>
                      </a:lnTo>
                      <a:lnTo>
                        <a:pt x="104" y="59"/>
                      </a:lnTo>
                      <a:lnTo>
                        <a:pt x="103" y="59"/>
                      </a:lnTo>
                      <a:lnTo>
                        <a:pt x="100" y="58"/>
                      </a:lnTo>
                      <a:lnTo>
                        <a:pt x="96" y="58"/>
                      </a:lnTo>
                      <a:lnTo>
                        <a:pt x="92" y="57"/>
                      </a:lnTo>
                      <a:lnTo>
                        <a:pt x="87" y="55"/>
                      </a:lnTo>
                      <a:lnTo>
                        <a:pt x="84" y="54"/>
                      </a:lnTo>
                      <a:lnTo>
                        <a:pt x="80" y="52"/>
                      </a:lnTo>
                      <a:lnTo>
                        <a:pt x="75" y="50"/>
                      </a:lnTo>
                      <a:lnTo>
                        <a:pt x="72" y="48"/>
                      </a:lnTo>
                      <a:lnTo>
                        <a:pt x="67" y="46"/>
                      </a:lnTo>
                      <a:lnTo>
                        <a:pt x="63" y="44"/>
                      </a:lnTo>
                      <a:lnTo>
                        <a:pt x="57" y="40"/>
                      </a:lnTo>
                      <a:lnTo>
                        <a:pt x="52" y="37"/>
                      </a:lnTo>
                      <a:lnTo>
                        <a:pt x="46" y="33"/>
                      </a:lnTo>
                      <a:lnTo>
                        <a:pt x="41" y="31"/>
                      </a:lnTo>
                      <a:lnTo>
                        <a:pt x="35" y="26"/>
                      </a:lnTo>
                      <a:lnTo>
                        <a:pt x="31" y="22"/>
                      </a:lnTo>
                      <a:lnTo>
                        <a:pt x="25" y="20"/>
                      </a:lnTo>
                      <a:lnTo>
                        <a:pt x="21" y="17"/>
                      </a:lnTo>
                      <a:lnTo>
                        <a:pt x="17" y="13"/>
                      </a:lnTo>
                      <a:lnTo>
                        <a:pt x="12" y="10"/>
                      </a:lnTo>
                      <a:lnTo>
                        <a:pt x="9" y="7"/>
                      </a:lnTo>
                      <a:lnTo>
                        <a:pt x="6" y="6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51"/>
                <p:cNvSpPr/>
                <p:nvPr/>
              </p:nvSpPr>
              <p:spPr>
                <a:xfrm>
                  <a:off x="2980800" y="1758240"/>
                  <a:ext cx="49320" cy="352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144" y="0"/>
                      </a:moveTo>
                      <a:lnTo>
                        <a:pt x="139" y="3"/>
                      </a:lnTo>
                      <a:lnTo>
                        <a:pt x="135" y="6"/>
                      </a:lnTo>
                      <a:lnTo>
                        <a:pt x="130" y="8"/>
                      </a:lnTo>
                      <a:lnTo>
                        <a:pt x="126" y="11"/>
                      </a:lnTo>
                      <a:lnTo>
                        <a:pt x="121" y="15"/>
                      </a:lnTo>
                      <a:lnTo>
                        <a:pt x="116" y="18"/>
                      </a:lnTo>
                      <a:lnTo>
                        <a:pt x="112" y="21"/>
                      </a:lnTo>
                      <a:lnTo>
                        <a:pt x="107" y="24"/>
                      </a:lnTo>
                      <a:lnTo>
                        <a:pt x="103" y="26"/>
                      </a:lnTo>
                      <a:lnTo>
                        <a:pt x="98" y="29"/>
                      </a:lnTo>
                      <a:lnTo>
                        <a:pt x="94" y="32"/>
                      </a:lnTo>
                      <a:lnTo>
                        <a:pt x="90" y="36"/>
                      </a:lnTo>
                      <a:lnTo>
                        <a:pt x="84" y="39"/>
                      </a:lnTo>
                      <a:lnTo>
                        <a:pt x="80" y="41"/>
                      </a:lnTo>
                      <a:lnTo>
                        <a:pt x="75" y="44"/>
                      </a:lnTo>
                      <a:lnTo>
                        <a:pt x="72" y="47"/>
                      </a:lnTo>
                      <a:lnTo>
                        <a:pt x="66" y="50"/>
                      </a:lnTo>
                      <a:lnTo>
                        <a:pt x="61" y="52"/>
                      </a:lnTo>
                      <a:lnTo>
                        <a:pt x="57" y="55"/>
                      </a:lnTo>
                      <a:lnTo>
                        <a:pt x="52" y="59"/>
                      </a:lnTo>
                      <a:lnTo>
                        <a:pt x="48" y="62"/>
                      </a:lnTo>
                      <a:lnTo>
                        <a:pt x="45" y="65"/>
                      </a:lnTo>
                      <a:lnTo>
                        <a:pt x="38" y="67"/>
                      </a:lnTo>
                      <a:lnTo>
                        <a:pt x="35" y="70"/>
                      </a:lnTo>
                      <a:lnTo>
                        <a:pt x="31" y="73"/>
                      </a:lnTo>
                      <a:lnTo>
                        <a:pt x="26" y="77"/>
                      </a:lnTo>
                      <a:lnTo>
                        <a:pt x="22" y="80"/>
                      </a:lnTo>
                      <a:lnTo>
                        <a:pt x="17" y="83"/>
                      </a:lnTo>
                      <a:lnTo>
                        <a:pt x="14" y="85"/>
                      </a:lnTo>
                      <a:lnTo>
                        <a:pt x="9" y="89"/>
                      </a:lnTo>
                      <a:lnTo>
                        <a:pt x="5" y="92"/>
                      </a:lnTo>
                      <a:lnTo>
                        <a:pt x="0" y="96"/>
                      </a:lnTo>
                      <a:lnTo>
                        <a:pt x="5" y="94"/>
                      </a:lnTo>
                      <a:lnTo>
                        <a:pt x="9" y="91"/>
                      </a:lnTo>
                      <a:lnTo>
                        <a:pt x="14" y="88"/>
                      </a:lnTo>
                      <a:lnTo>
                        <a:pt x="19" y="85"/>
                      </a:lnTo>
                      <a:lnTo>
                        <a:pt x="23" y="83"/>
                      </a:lnTo>
                      <a:lnTo>
                        <a:pt x="28" y="81"/>
                      </a:lnTo>
                      <a:lnTo>
                        <a:pt x="32" y="78"/>
                      </a:lnTo>
                      <a:lnTo>
                        <a:pt x="37" y="76"/>
                      </a:lnTo>
                      <a:lnTo>
                        <a:pt x="42" y="73"/>
                      </a:lnTo>
                      <a:lnTo>
                        <a:pt x="46" y="70"/>
                      </a:lnTo>
                      <a:lnTo>
                        <a:pt x="51" y="67"/>
                      </a:lnTo>
                      <a:lnTo>
                        <a:pt x="55" y="65"/>
                      </a:lnTo>
                      <a:lnTo>
                        <a:pt x="60" y="61"/>
                      </a:lnTo>
                      <a:lnTo>
                        <a:pt x="64" y="58"/>
                      </a:lnTo>
                      <a:lnTo>
                        <a:pt x="71" y="55"/>
                      </a:lnTo>
                      <a:lnTo>
                        <a:pt x="75" y="52"/>
                      </a:lnTo>
                      <a:lnTo>
                        <a:pt x="80" y="48"/>
                      </a:lnTo>
                      <a:lnTo>
                        <a:pt x="84" y="46"/>
                      </a:lnTo>
                      <a:lnTo>
                        <a:pt x="89" y="43"/>
                      </a:lnTo>
                      <a:lnTo>
                        <a:pt x="94" y="40"/>
                      </a:lnTo>
                      <a:lnTo>
                        <a:pt x="98" y="36"/>
                      </a:lnTo>
                      <a:lnTo>
                        <a:pt x="103" y="33"/>
                      </a:lnTo>
                      <a:lnTo>
                        <a:pt x="107" y="29"/>
                      </a:lnTo>
                      <a:lnTo>
                        <a:pt x="112" y="26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4" y="17"/>
                      </a:lnTo>
                      <a:lnTo>
                        <a:pt x="127" y="13"/>
                      </a:lnTo>
                      <a:lnTo>
                        <a:pt x="132" y="10"/>
                      </a:lnTo>
                      <a:lnTo>
                        <a:pt x="136" y="7"/>
                      </a:lnTo>
                      <a:lnTo>
                        <a:pt x="141" y="3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52"/>
                <p:cNvSpPr/>
                <p:nvPr/>
              </p:nvSpPr>
              <p:spPr>
                <a:xfrm>
                  <a:off x="3053160" y="1916640"/>
                  <a:ext cx="73800" cy="20268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202680"/>
                    <a:gd name="textAreaBottom" fmla="*/ 203040 h 202680"/>
                  </a:gdLst>
                  <a:ahLst/>
                  <a:rect l="textAreaLeft" t="textAreaTop" r="textAreaRight" b="textAreaBottom"/>
                  <a:pathLst>
                    <a:path w="214" h="551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7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1" y="32"/>
                      </a:lnTo>
                      <a:lnTo>
                        <a:pt x="1" y="36"/>
                      </a:lnTo>
                      <a:lnTo>
                        <a:pt x="3" y="42"/>
                      </a:lnTo>
                      <a:lnTo>
                        <a:pt x="3" y="47"/>
                      </a:lnTo>
                      <a:lnTo>
                        <a:pt x="5" y="52"/>
                      </a:lnTo>
                      <a:lnTo>
                        <a:pt x="5" y="58"/>
                      </a:lnTo>
                      <a:lnTo>
                        <a:pt x="5" y="63"/>
                      </a:lnTo>
                      <a:lnTo>
                        <a:pt x="6" y="69"/>
                      </a:lnTo>
                      <a:lnTo>
                        <a:pt x="6" y="74"/>
                      </a:lnTo>
                      <a:lnTo>
                        <a:pt x="8" y="80"/>
                      </a:lnTo>
                      <a:lnTo>
                        <a:pt x="8" y="84"/>
                      </a:lnTo>
                      <a:lnTo>
                        <a:pt x="9" y="91"/>
                      </a:lnTo>
                      <a:lnTo>
                        <a:pt x="9" y="95"/>
                      </a:lnTo>
                      <a:lnTo>
                        <a:pt x="11" y="101"/>
                      </a:lnTo>
                      <a:lnTo>
                        <a:pt x="11" y="105"/>
                      </a:lnTo>
                      <a:lnTo>
                        <a:pt x="11" y="109"/>
                      </a:lnTo>
                      <a:lnTo>
                        <a:pt x="11" y="113"/>
                      </a:lnTo>
                      <a:lnTo>
                        <a:pt x="12" y="116"/>
                      </a:lnTo>
                      <a:lnTo>
                        <a:pt x="12" y="118"/>
                      </a:lnTo>
                      <a:lnTo>
                        <a:pt x="14" y="122"/>
                      </a:lnTo>
                      <a:lnTo>
                        <a:pt x="14" y="127"/>
                      </a:lnTo>
                      <a:lnTo>
                        <a:pt x="14" y="129"/>
                      </a:lnTo>
                      <a:lnTo>
                        <a:pt x="14" y="132"/>
                      </a:lnTo>
                      <a:lnTo>
                        <a:pt x="14" y="136"/>
                      </a:lnTo>
                      <a:lnTo>
                        <a:pt x="15" y="140"/>
                      </a:lnTo>
                      <a:lnTo>
                        <a:pt x="15" y="144"/>
                      </a:lnTo>
                      <a:lnTo>
                        <a:pt x="15" y="149"/>
                      </a:lnTo>
                      <a:lnTo>
                        <a:pt x="17" y="153"/>
                      </a:lnTo>
                      <a:lnTo>
                        <a:pt x="17" y="155"/>
                      </a:lnTo>
                      <a:lnTo>
                        <a:pt x="18" y="160"/>
                      </a:lnTo>
                      <a:lnTo>
                        <a:pt x="18" y="162"/>
                      </a:lnTo>
                      <a:lnTo>
                        <a:pt x="18" y="165"/>
                      </a:lnTo>
                      <a:lnTo>
                        <a:pt x="18" y="166"/>
                      </a:lnTo>
                      <a:lnTo>
                        <a:pt x="18" y="168"/>
                      </a:lnTo>
                      <a:lnTo>
                        <a:pt x="17" y="168"/>
                      </a:lnTo>
                      <a:lnTo>
                        <a:pt x="15" y="166"/>
                      </a:lnTo>
                      <a:lnTo>
                        <a:pt x="14" y="165"/>
                      </a:lnTo>
                      <a:lnTo>
                        <a:pt x="12" y="161"/>
                      </a:lnTo>
                      <a:lnTo>
                        <a:pt x="14" y="551"/>
                      </a:lnTo>
                      <a:lnTo>
                        <a:pt x="214" y="551"/>
                      </a:lnTo>
                      <a:lnTo>
                        <a:pt x="210" y="84"/>
                      </a:lnTo>
                      <a:lnTo>
                        <a:pt x="210" y="79"/>
                      </a:lnTo>
                      <a:lnTo>
                        <a:pt x="210" y="74"/>
                      </a:lnTo>
                      <a:lnTo>
                        <a:pt x="210" y="69"/>
                      </a:lnTo>
                      <a:lnTo>
                        <a:pt x="210" y="65"/>
                      </a:lnTo>
                      <a:lnTo>
                        <a:pt x="210" y="59"/>
                      </a:lnTo>
                      <a:lnTo>
                        <a:pt x="210" y="57"/>
                      </a:lnTo>
                      <a:lnTo>
                        <a:pt x="210" y="51"/>
                      </a:lnTo>
                      <a:lnTo>
                        <a:pt x="210" y="47"/>
                      </a:lnTo>
                      <a:lnTo>
                        <a:pt x="210" y="42"/>
                      </a:lnTo>
                      <a:lnTo>
                        <a:pt x="210" y="39"/>
                      </a:lnTo>
                      <a:lnTo>
                        <a:pt x="210" y="33"/>
                      </a:lnTo>
                      <a:lnTo>
                        <a:pt x="210" y="29"/>
                      </a:lnTo>
                      <a:lnTo>
                        <a:pt x="210" y="24"/>
                      </a:lnTo>
                      <a:lnTo>
                        <a:pt x="210" y="20"/>
                      </a:lnTo>
                      <a:lnTo>
                        <a:pt x="210" y="15"/>
                      </a:lnTo>
                      <a:lnTo>
                        <a:pt x="210" y="11"/>
                      </a:lnTo>
                      <a:lnTo>
                        <a:pt x="202" y="15"/>
                      </a:lnTo>
                      <a:lnTo>
                        <a:pt x="200" y="20"/>
                      </a:lnTo>
                      <a:lnTo>
                        <a:pt x="200" y="22"/>
                      </a:lnTo>
                      <a:lnTo>
                        <a:pt x="200" y="26"/>
                      </a:lnTo>
                      <a:lnTo>
                        <a:pt x="200" y="31"/>
                      </a:lnTo>
                      <a:lnTo>
                        <a:pt x="200" y="35"/>
                      </a:lnTo>
                      <a:lnTo>
                        <a:pt x="200" y="39"/>
                      </a:lnTo>
                      <a:lnTo>
                        <a:pt x="200" y="43"/>
                      </a:lnTo>
                      <a:lnTo>
                        <a:pt x="200" y="47"/>
                      </a:lnTo>
                      <a:lnTo>
                        <a:pt x="200" y="51"/>
                      </a:lnTo>
                      <a:lnTo>
                        <a:pt x="200" y="54"/>
                      </a:lnTo>
                      <a:lnTo>
                        <a:pt x="200" y="58"/>
                      </a:lnTo>
                      <a:lnTo>
                        <a:pt x="202" y="62"/>
                      </a:lnTo>
                      <a:lnTo>
                        <a:pt x="202" y="66"/>
                      </a:lnTo>
                      <a:lnTo>
                        <a:pt x="202" y="69"/>
                      </a:lnTo>
                      <a:lnTo>
                        <a:pt x="203" y="73"/>
                      </a:lnTo>
                      <a:lnTo>
                        <a:pt x="203" y="77"/>
                      </a:lnTo>
                      <a:lnTo>
                        <a:pt x="203" y="79"/>
                      </a:lnTo>
                      <a:lnTo>
                        <a:pt x="203" y="81"/>
                      </a:lnTo>
                      <a:lnTo>
                        <a:pt x="202" y="84"/>
                      </a:lnTo>
                      <a:lnTo>
                        <a:pt x="202" y="85"/>
                      </a:lnTo>
                      <a:lnTo>
                        <a:pt x="200" y="80"/>
                      </a:lnTo>
                      <a:lnTo>
                        <a:pt x="200" y="74"/>
                      </a:lnTo>
                      <a:lnTo>
                        <a:pt x="199" y="69"/>
                      </a:lnTo>
                      <a:lnTo>
                        <a:pt x="199" y="63"/>
                      </a:lnTo>
                      <a:lnTo>
                        <a:pt x="199" y="58"/>
                      </a:lnTo>
                      <a:lnTo>
                        <a:pt x="197" y="52"/>
                      </a:lnTo>
                      <a:lnTo>
                        <a:pt x="197" y="47"/>
                      </a:lnTo>
                      <a:lnTo>
                        <a:pt x="196" y="42"/>
                      </a:lnTo>
                      <a:lnTo>
                        <a:pt x="194" y="43"/>
                      </a:lnTo>
                      <a:lnTo>
                        <a:pt x="194" y="47"/>
                      </a:lnTo>
                      <a:lnTo>
                        <a:pt x="194" y="50"/>
                      </a:lnTo>
                      <a:lnTo>
                        <a:pt x="194" y="52"/>
                      </a:lnTo>
                      <a:lnTo>
                        <a:pt x="194" y="57"/>
                      </a:lnTo>
                      <a:lnTo>
                        <a:pt x="194" y="61"/>
                      </a:lnTo>
                      <a:lnTo>
                        <a:pt x="194" y="63"/>
                      </a:lnTo>
                      <a:lnTo>
                        <a:pt x="194" y="69"/>
                      </a:lnTo>
                      <a:lnTo>
                        <a:pt x="194" y="73"/>
                      </a:lnTo>
                      <a:lnTo>
                        <a:pt x="194" y="79"/>
                      </a:lnTo>
                      <a:lnTo>
                        <a:pt x="194" y="83"/>
                      </a:lnTo>
                      <a:lnTo>
                        <a:pt x="194" y="88"/>
                      </a:lnTo>
                      <a:lnTo>
                        <a:pt x="194" y="94"/>
                      </a:lnTo>
                      <a:lnTo>
                        <a:pt x="196" y="99"/>
                      </a:lnTo>
                      <a:lnTo>
                        <a:pt x="196" y="103"/>
                      </a:lnTo>
                      <a:lnTo>
                        <a:pt x="196" y="109"/>
                      </a:lnTo>
                      <a:lnTo>
                        <a:pt x="196" y="113"/>
                      </a:lnTo>
                      <a:lnTo>
                        <a:pt x="196" y="117"/>
                      </a:lnTo>
                      <a:lnTo>
                        <a:pt x="196" y="121"/>
                      </a:lnTo>
                      <a:lnTo>
                        <a:pt x="196" y="125"/>
                      </a:lnTo>
                      <a:lnTo>
                        <a:pt x="196" y="129"/>
                      </a:lnTo>
                      <a:lnTo>
                        <a:pt x="196" y="133"/>
                      </a:lnTo>
                      <a:lnTo>
                        <a:pt x="196" y="138"/>
                      </a:lnTo>
                      <a:lnTo>
                        <a:pt x="196" y="140"/>
                      </a:lnTo>
                      <a:lnTo>
                        <a:pt x="194" y="142"/>
                      </a:lnTo>
                      <a:lnTo>
                        <a:pt x="194" y="140"/>
                      </a:lnTo>
                      <a:lnTo>
                        <a:pt x="193" y="135"/>
                      </a:lnTo>
                      <a:lnTo>
                        <a:pt x="193" y="128"/>
                      </a:lnTo>
                      <a:lnTo>
                        <a:pt x="193" y="122"/>
                      </a:lnTo>
                      <a:lnTo>
                        <a:pt x="193" y="118"/>
                      </a:lnTo>
                      <a:lnTo>
                        <a:pt x="193" y="112"/>
                      </a:lnTo>
                      <a:lnTo>
                        <a:pt x="191" y="106"/>
                      </a:lnTo>
                      <a:lnTo>
                        <a:pt x="191" y="101"/>
                      </a:lnTo>
                      <a:lnTo>
                        <a:pt x="191" y="95"/>
                      </a:lnTo>
                      <a:lnTo>
                        <a:pt x="190" y="92"/>
                      </a:lnTo>
                      <a:lnTo>
                        <a:pt x="190" y="88"/>
                      </a:lnTo>
                      <a:lnTo>
                        <a:pt x="190" y="85"/>
                      </a:lnTo>
                      <a:lnTo>
                        <a:pt x="190" y="84"/>
                      </a:lnTo>
                      <a:lnTo>
                        <a:pt x="188" y="79"/>
                      </a:lnTo>
                      <a:lnTo>
                        <a:pt x="188" y="73"/>
                      </a:lnTo>
                      <a:lnTo>
                        <a:pt x="188" y="69"/>
                      </a:lnTo>
                      <a:lnTo>
                        <a:pt x="188" y="63"/>
                      </a:lnTo>
                      <a:lnTo>
                        <a:pt x="188" y="59"/>
                      </a:lnTo>
                      <a:lnTo>
                        <a:pt x="188" y="55"/>
                      </a:lnTo>
                      <a:lnTo>
                        <a:pt x="188" y="50"/>
                      </a:lnTo>
                      <a:lnTo>
                        <a:pt x="188" y="46"/>
                      </a:lnTo>
                      <a:lnTo>
                        <a:pt x="188" y="40"/>
                      </a:lnTo>
                      <a:lnTo>
                        <a:pt x="190" y="36"/>
                      </a:lnTo>
                      <a:lnTo>
                        <a:pt x="190" y="31"/>
                      </a:lnTo>
                      <a:lnTo>
                        <a:pt x="190" y="25"/>
                      </a:lnTo>
                      <a:lnTo>
                        <a:pt x="190" y="20"/>
                      </a:lnTo>
                      <a:lnTo>
                        <a:pt x="190" y="14"/>
                      </a:lnTo>
                      <a:lnTo>
                        <a:pt x="171" y="14"/>
                      </a:lnTo>
                      <a:lnTo>
                        <a:pt x="171" y="17"/>
                      </a:lnTo>
                      <a:lnTo>
                        <a:pt x="171" y="21"/>
                      </a:lnTo>
                      <a:lnTo>
                        <a:pt x="171" y="25"/>
                      </a:lnTo>
                      <a:lnTo>
                        <a:pt x="171" y="29"/>
                      </a:lnTo>
                      <a:lnTo>
                        <a:pt x="171" y="32"/>
                      </a:lnTo>
                      <a:lnTo>
                        <a:pt x="171" y="36"/>
                      </a:lnTo>
                      <a:lnTo>
                        <a:pt x="171" y="40"/>
                      </a:lnTo>
                      <a:lnTo>
                        <a:pt x="171" y="44"/>
                      </a:lnTo>
                      <a:lnTo>
                        <a:pt x="171" y="47"/>
                      </a:lnTo>
                      <a:lnTo>
                        <a:pt x="171" y="52"/>
                      </a:lnTo>
                      <a:lnTo>
                        <a:pt x="171" y="55"/>
                      </a:lnTo>
                      <a:lnTo>
                        <a:pt x="171" y="59"/>
                      </a:lnTo>
                      <a:lnTo>
                        <a:pt x="171" y="63"/>
                      </a:lnTo>
                      <a:lnTo>
                        <a:pt x="171" y="68"/>
                      </a:lnTo>
                      <a:lnTo>
                        <a:pt x="171" y="72"/>
                      </a:lnTo>
                      <a:lnTo>
                        <a:pt x="173" y="76"/>
                      </a:lnTo>
                      <a:lnTo>
                        <a:pt x="173" y="79"/>
                      </a:lnTo>
                      <a:lnTo>
                        <a:pt x="173" y="83"/>
                      </a:lnTo>
                      <a:lnTo>
                        <a:pt x="173" y="87"/>
                      </a:lnTo>
                      <a:lnTo>
                        <a:pt x="173" y="91"/>
                      </a:lnTo>
                      <a:lnTo>
                        <a:pt x="173" y="94"/>
                      </a:lnTo>
                      <a:lnTo>
                        <a:pt x="174" y="98"/>
                      </a:lnTo>
                      <a:lnTo>
                        <a:pt x="174" y="102"/>
                      </a:lnTo>
                      <a:lnTo>
                        <a:pt x="174" y="106"/>
                      </a:lnTo>
                      <a:lnTo>
                        <a:pt x="174" y="109"/>
                      </a:lnTo>
                      <a:lnTo>
                        <a:pt x="174" y="113"/>
                      </a:lnTo>
                      <a:lnTo>
                        <a:pt x="174" y="116"/>
                      </a:lnTo>
                      <a:lnTo>
                        <a:pt x="174" y="120"/>
                      </a:lnTo>
                      <a:lnTo>
                        <a:pt x="174" y="124"/>
                      </a:lnTo>
                      <a:lnTo>
                        <a:pt x="176" y="127"/>
                      </a:lnTo>
                      <a:lnTo>
                        <a:pt x="176" y="131"/>
                      </a:lnTo>
                      <a:lnTo>
                        <a:pt x="176" y="133"/>
                      </a:lnTo>
                      <a:lnTo>
                        <a:pt x="176" y="136"/>
                      </a:lnTo>
                      <a:lnTo>
                        <a:pt x="176" y="139"/>
                      </a:lnTo>
                      <a:lnTo>
                        <a:pt x="176" y="143"/>
                      </a:lnTo>
                      <a:lnTo>
                        <a:pt x="176" y="149"/>
                      </a:lnTo>
                      <a:lnTo>
                        <a:pt x="176" y="153"/>
                      </a:lnTo>
                      <a:lnTo>
                        <a:pt x="176" y="160"/>
                      </a:lnTo>
                      <a:lnTo>
                        <a:pt x="176" y="162"/>
                      </a:lnTo>
                      <a:lnTo>
                        <a:pt x="176" y="165"/>
                      </a:lnTo>
                      <a:lnTo>
                        <a:pt x="176" y="168"/>
                      </a:lnTo>
                      <a:lnTo>
                        <a:pt x="176" y="172"/>
                      </a:lnTo>
                      <a:lnTo>
                        <a:pt x="176" y="177"/>
                      </a:lnTo>
                      <a:lnTo>
                        <a:pt x="176" y="183"/>
                      </a:lnTo>
                      <a:lnTo>
                        <a:pt x="174" y="187"/>
                      </a:lnTo>
                      <a:lnTo>
                        <a:pt x="174" y="192"/>
                      </a:lnTo>
                      <a:lnTo>
                        <a:pt x="174" y="198"/>
                      </a:lnTo>
                      <a:lnTo>
                        <a:pt x="173" y="202"/>
                      </a:lnTo>
                      <a:lnTo>
                        <a:pt x="171" y="205"/>
                      </a:lnTo>
                      <a:lnTo>
                        <a:pt x="171" y="206"/>
                      </a:lnTo>
                      <a:lnTo>
                        <a:pt x="170" y="201"/>
                      </a:lnTo>
                      <a:lnTo>
                        <a:pt x="170" y="195"/>
                      </a:lnTo>
                      <a:lnTo>
                        <a:pt x="168" y="188"/>
                      </a:lnTo>
                      <a:lnTo>
                        <a:pt x="168" y="183"/>
                      </a:lnTo>
                      <a:lnTo>
                        <a:pt x="168" y="180"/>
                      </a:lnTo>
                      <a:lnTo>
                        <a:pt x="168" y="177"/>
                      </a:lnTo>
                      <a:lnTo>
                        <a:pt x="167" y="173"/>
                      </a:lnTo>
                      <a:lnTo>
                        <a:pt x="167" y="171"/>
                      </a:lnTo>
                      <a:lnTo>
                        <a:pt x="167" y="165"/>
                      </a:lnTo>
                      <a:lnTo>
                        <a:pt x="167" y="160"/>
                      </a:lnTo>
                      <a:lnTo>
                        <a:pt x="167" y="155"/>
                      </a:lnTo>
                      <a:lnTo>
                        <a:pt x="167" y="153"/>
                      </a:lnTo>
                      <a:lnTo>
                        <a:pt x="167" y="149"/>
                      </a:lnTo>
                      <a:lnTo>
                        <a:pt x="167" y="146"/>
                      </a:lnTo>
                      <a:lnTo>
                        <a:pt x="167" y="143"/>
                      </a:lnTo>
                      <a:lnTo>
                        <a:pt x="167" y="140"/>
                      </a:lnTo>
                      <a:lnTo>
                        <a:pt x="167" y="136"/>
                      </a:lnTo>
                      <a:lnTo>
                        <a:pt x="167" y="133"/>
                      </a:lnTo>
                      <a:lnTo>
                        <a:pt x="167" y="131"/>
                      </a:lnTo>
                      <a:lnTo>
                        <a:pt x="167" y="128"/>
                      </a:lnTo>
                      <a:lnTo>
                        <a:pt x="167" y="124"/>
                      </a:lnTo>
                      <a:lnTo>
                        <a:pt x="167" y="121"/>
                      </a:lnTo>
                      <a:lnTo>
                        <a:pt x="167" y="118"/>
                      </a:lnTo>
                      <a:lnTo>
                        <a:pt x="167" y="116"/>
                      </a:lnTo>
                      <a:lnTo>
                        <a:pt x="167" y="112"/>
                      </a:lnTo>
                      <a:lnTo>
                        <a:pt x="168" y="109"/>
                      </a:lnTo>
                      <a:lnTo>
                        <a:pt x="168" y="106"/>
                      </a:lnTo>
                      <a:lnTo>
                        <a:pt x="168" y="102"/>
                      </a:lnTo>
                      <a:lnTo>
                        <a:pt x="168" y="99"/>
                      </a:lnTo>
                      <a:lnTo>
                        <a:pt x="168" y="95"/>
                      </a:lnTo>
                      <a:lnTo>
                        <a:pt x="168" y="92"/>
                      </a:lnTo>
                      <a:lnTo>
                        <a:pt x="168" y="90"/>
                      </a:lnTo>
                      <a:lnTo>
                        <a:pt x="168" y="85"/>
                      </a:lnTo>
                      <a:lnTo>
                        <a:pt x="168" y="83"/>
                      </a:lnTo>
                      <a:lnTo>
                        <a:pt x="168" y="80"/>
                      </a:lnTo>
                      <a:lnTo>
                        <a:pt x="168" y="76"/>
                      </a:lnTo>
                      <a:lnTo>
                        <a:pt x="168" y="73"/>
                      </a:lnTo>
                      <a:lnTo>
                        <a:pt x="168" y="70"/>
                      </a:lnTo>
                      <a:lnTo>
                        <a:pt x="168" y="66"/>
                      </a:lnTo>
                      <a:lnTo>
                        <a:pt x="168" y="63"/>
                      </a:lnTo>
                      <a:lnTo>
                        <a:pt x="168" y="61"/>
                      </a:lnTo>
                      <a:lnTo>
                        <a:pt x="168" y="58"/>
                      </a:lnTo>
                      <a:lnTo>
                        <a:pt x="167" y="54"/>
                      </a:lnTo>
                      <a:lnTo>
                        <a:pt x="167" y="51"/>
                      </a:lnTo>
                      <a:lnTo>
                        <a:pt x="167" y="48"/>
                      </a:lnTo>
                      <a:lnTo>
                        <a:pt x="167" y="46"/>
                      </a:lnTo>
                      <a:lnTo>
                        <a:pt x="167" y="39"/>
                      </a:lnTo>
                      <a:lnTo>
                        <a:pt x="167" y="33"/>
                      </a:lnTo>
                      <a:lnTo>
                        <a:pt x="165" y="28"/>
                      </a:lnTo>
                      <a:lnTo>
                        <a:pt x="165" y="22"/>
                      </a:lnTo>
                      <a:lnTo>
                        <a:pt x="165" y="17"/>
                      </a:lnTo>
                      <a:lnTo>
                        <a:pt x="164" y="11"/>
                      </a:lnTo>
                      <a:lnTo>
                        <a:pt x="162" y="10"/>
                      </a:lnTo>
                      <a:lnTo>
                        <a:pt x="161" y="14"/>
                      </a:lnTo>
                      <a:lnTo>
                        <a:pt x="157" y="17"/>
                      </a:lnTo>
                      <a:lnTo>
                        <a:pt x="156" y="18"/>
                      </a:lnTo>
                      <a:lnTo>
                        <a:pt x="154" y="20"/>
                      </a:lnTo>
                      <a:lnTo>
                        <a:pt x="154" y="22"/>
                      </a:lnTo>
                      <a:lnTo>
                        <a:pt x="153" y="26"/>
                      </a:lnTo>
                      <a:lnTo>
                        <a:pt x="153" y="29"/>
                      </a:lnTo>
                      <a:lnTo>
                        <a:pt x="153" y="32"/>
                      </a:lnTo>
                      <a:lnTo>
                        <a:pt x="153" y="36"/>
                      </a:lnTo>
                      <a:lnTo>
                        <a:pt x="153" y="39"/>
                      </a:lnTo>
                      <a:lnTo>
                        <a:pt x="153" y="43"/>
                      </a:lnTo>
                      <a:lnTo>
                        <a:pt x="156" y="105"/>
                      </a:lnTo>
                      <a:lnTo>
                        <a:pt x="156" y="109"/>
                      </a:lnTo>
                      <a:lnTo>
                        <a:pt x="156" y="114"/>
                      </a:lnTo>
                      <a:lnTo>
                        <a:pt x="156" y="120"/>
                      </a:lnTo>
                      <a:lnTo>
                        <a:pt x="156" y="125"/>
                      </a:lnTo>
                      <a:lnTo>
                        <a:pt x="156" y="129"/>
                      </a:lnTo>
                      <a:lnTo>
                        <a:pt x="156" y="135"/>
                      </a:lnTo>
                      <a:lnTo>
                        <a:pt x="156" y="140"/>
                      </a:lnTo>
                      <a:lnTo>
                        <a:pt x="156" y="144"/>
                      </a:lnTo>
                      <a:lnTo>
                        <a:pt x="154" y="150"/>
                      </a:lnTo>
                      <a:lnTo>
                        <a:pt x="154" y="155"/>
                      </a:lnTo>
                      <a:lnTo>
                        <a:pt x="154" y="160"/>
                      </a:lnTo>
                      <a:lnTo>
                        <a:pt x="154" y="165"/>
                      </a:lnTo>
                      <a:lnTo>
                        <a:pt x="153" y="171"/>
                      </a:lnTo>
                      <a:lnTo>
                        <a:pt x="153" y="175"/>
                      </a:lnTo>
                      <a:lnTo>
                        <a:pt x="153" y="180"/>
                      </a:lnTo>
                      <a:lnTo>
                        <a:pt x="153" y="186"/>
                      </a:lnTo>
                      <a:lnTo>
                        <a:pt x="153" y="512"/>
                      </a:lnTo>
                      <a:lnTo>
                        <a:pt x="78" y="515"/>
                      </a:lnTo>
                      <a:lnTo>
                        <a:pt x="73" y="66"/>
                      </a:lnTo>
                      <a:lnTo>
                        <a:pt x="72" y="62"/>
                      </a:lnTo>
                      <a:lnTo>
                        <a:pt x="72" y="59"/>
                      </a:lnTo>
                      <a:lnTo>
                        <a:pt x="72" y="57"/>
                      </a:lnTo>
                      <a:lnTo>
                        <a:pt x="72" y="54"/>
                      </a:lnTo>
                      <a:lnTo>
                        <a:pt x="70" y="50"/>
                      </a:lnTo>
                      <a:lnTo>
                        <a:pt x="70" y="47"/>
                      </a:lnTo>
                      <a:lnTo>
                        <a:pt x="69" y="43"/>
                      </a:lnTo>
                      <a:lnTo>
                        <a:pt x="69" y="40"/>
                      </a:lnTo>
                      <a:lnTo>
                        <a:pt x="69" y="37"/>
                      </a:lnTo>
                      <a:lnTo>
                        <a:pt x="69" y="33"/>
                      </a:lnTo>
                      <a:lnTo>
                        <a:pt x="67" y="31"/>
                      </a:lnTo>
                      <a:lnTo>
                        <a:pt x="67" y="28"/>
                      </a:lnTo>
                      <a:lnTo>
                        <a:pt x="66" y="21"/>
                      </a:lnTo>
                      <a:lnTo>
                        <a:pt x="66" y="1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53"/>
                <p:cNvSpPr/>
                <p:nvPr/>
              </p:nvSpPr>
              <p:spPr>
                <a:xfrm>
                  <a:off x="2874600" y="2035440"/>
                  <a:ext cx="3960" cy="6552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2" h="178">
                      <a:moveTo>
                        <a:pt x="4" y="176"/>
                      </a:moveTo>
                      <a:lnTo>
                        <a:pt x="7" y="178"/>
                      </a:lnTo>
                      <a:lnTo>
                        <a:pt x="9" y="176"/>
                      </a:lnTo>
                      <a:lnTo>
                        <a:pt x="9" y="175"/>
                      </a:lnTo>
                      <a:lnTo>
                        <a:pt x="9" y="172"/>
                      </a:lnTo>
                      <a:lnTo>
                        <a:pt x="9" y="167"/>
                      </a:lnTo>
                      <a:lnTo>
                        <a:pt x="9" y="161"/>
                      </a:lnTo>
                      <a:lnTo>
                        <a:pt x="9" y="156"/>
                      </a:lnTo>
                      <a:lnTo>
                        <a:pt x="9" y="150"/>
                      </a:lnTo>
                      <a:lnTo>
                        <a:pt x="9" y="145"/>
                      </a:lnTo>
                      <a:lnTo>
                        <a:pt x="9" y="139"/>
                      </a:lnTo>
                      <a:lnTo>
                        <a:pt x="9" y="134"/>
                      </a:lnTo>
                      <a:lnTo>
                        <a:pt x="10" y="129"/>
                      </a:lnTo>
                      <a:lnTo>
                        <a:pt x="10" y="124"/>
                      </a:lnTo>
                      <a:lnTo>
                        <a:pt x="10" y="118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10" y="102"/>
                      </a:lnTo>
                      <a:lnTo>
                        <a:pt x="10" y="97"/>
                      </a:lnTo>
                      <a:lnTo>
                        <a:pt x="10" y="91"/>
                      </a:lnTo>
                      <a:lnTo>
                        <a:pt x="12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2" y="69"/>
                      </a:lnTo>
                      <a:lnTo>
                        <a:pt x="12" y="64"/>
                      </a:lnTo>
                      <a:lnTo>
                        <a:pt x="12" y="58"/>
                      </a:lnTo>
                      <a:lnTo>
                        <a:pt x="12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2" y="38"/>
                      </a:lnTo>
                      <a:lnTo>
                        <a:pt x="12" y="31"/>
                      </a:lnTo>
                      <a:lnTo>
                        <a:pt x="12" y="25"/>
                      </a:lnTo>
                      <a:lnTo>
                        <a:pt x="12" y="21"/>
                      </a:lnTo>
                      <a:lnTo>
                        <a:pt x="12" y="16"/>
                      </a:lnTo>
                      <a:lnTo>
                        <a:pt x="12" y="10"/>
                      </a:lnTo>
                      <a:lnTo>
                        <a:pt x="12" y="5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9" y="16"/>
                      </a:lnTo>
                      <a:lnTo>
                        <a:pt x="9" y="18"/>
                      </a:lnTo>
                      <a:lnTo>
                        <a:pt x="9" y="22"/>
                      </a:lnTo>
                      <a:lnTo>
                        <a:pt x="9" y="28"/>
                      </a:lnTo>
                      <a:lnTo>
                        <a:pt x="7" y="29"/>
                      </a:lnTo>
                      <a:lnTo>
                        <a:pt x="7" y="33"/>
                      </a:lnTo>
                      <a:lnTo>
                        <a:pt x="7" y="36"/>
                      </a:lnTo>
                      <a:lnTo>
                        <a:pt x="7" y="40"/>
                      </a:lnTo>
                      <a:lnTo>
                        <a:pt x="6" y="43"/>
                      </a:lnTo>
                      <a:lnTo>
                        <a:pt x="6" y="47"/>
                      </a:lnTo>
                      <a:lnTo>
                        <a:pt x="6" y="51"/>
                      </a:lnTo>
                      <a:lnTo>
                        <a:pt x="6" y="55"/>
                      </a:lnTo>
                      <a:lnTo>
                        <a:pt x="6" y="59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4" y="70"/>
                      </a:lnTo>
                      <a:lnTo>
                        <a:pt x="3" y="73"/>
                      </a:lnTo>
                      <a:lnTo>
                        <a:pt x="3" y="77"/>
                      </a:lnTo>
                      <a:lnTo>
                        <a:pt x="3" y="81"/>
                      </a:lnTo>
                      <a:lnTo>
                        <a:pt x="3" y="84"/>
                      </a:lnTo>
                      <a:lnTo>
                        <a:pt x="1" y="91"/>
                      </a:lnTo>
                      <a:lnTo>
                        <a:pt x="1" y="95"/>
                      </a:lnTo>
                      <a:lnTo>
                        <a:pt x="1" y="99"/>
                      </a:lnTo>
                      <a:lnTo>
                        <a:pt x="1" y="102"/>
                      </a:lnTo>
                      <a:lnTo>
                        <a:pt x="1" y="106"/>
                      </a:lnTo>
                      <a:lnTo>
                        <a:pt x="0" y="110"/>
                      </a:lnTo>
                      <a:lnTo>
                        <a:pt x="0" y="114"/>
                      </a:lnTo>
                      <a:lnTo>
                        <a:pt x="0" y="120"/>
                      </a:lnTo>
                      <a:lnTo>
                        <a:pt x="0" y="124"/>
                      </a:lnTo>
                      <a:lnTo>
                        <a:pt x="0" y="129"/>
                      </a:lnTo>
                      <a:lnTo>
                        <a:pt x="1" y="134"/>
                      </a:lnTo>
                      <a:lnTo>
                        <a:pt x="1" y="139"/>
                      </a:lnTo>
                      <a:lnTo>
                        <a:pt x="1" y="143"/>
                      </a:lnTo>
                      <a:lnTo>
                        <a:pt x="1" y="149"/>
                      </a:lnTo>
                      <a:lnTo>
                        <a:pt x="3" y="153"/>
                      </a:lnTo>
                      <a:lnTo>
                        <a:pt x="3" y="158"/>
                      </a:lnTo>
                      <a:lnTo>
                        <a:pt x="3" y="162"/>
                      </a:lnTo>
                      <a:lnTo>
                        <a:pt x="4" y="168"/>
                      </a:lnTo>
                      <a:lnTo>
                        <a:pt x="4" y="172"/>
                      </a:lnTo>
                      <a:lnTo>
                        <a:pt x="4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54"/>
                <p:cNvSpPr/>
                <p:nvPr/>
              </p:nvSpPr>
              <p:spPr>
                <a:xfrm>
                  <a:off x="2915640" y="2039760"/>
                  <a:ext cx="3960" cy="5904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2" h="161">
                      <a:moveTo>
                        <a:pt x="12" y="0"/>
                      </a:moveTo>
                      <a:lnTo>
                        <a:pt x="11" y="5"/>
                      </a:lnTo>
                      <a:lnTo>
                        <a:pt x="11" y="10"/>
                      </a:lnTo>
                      <a:lnTo>
                        <a:pt x="9" y="16"/>
                      </a:lnTo>
                      <a:lnTo>
                        <a:pt x="9" y="20"/>
                      </a:lnTo>
                      <a:lnTo>
                        <a:pt x="9" y="25"/>
                      </a:lnTo>
                      <a:lnTo>
                        <a:pt x="9" y="31"/>
                      </a:lnTo>
                      <a:lnTo>
                        <a:pt x="9" y="36"/>
                      </a:lnTo>
                      <a:lnTo>
                        <a:pt x="9" y="40"/>
                      </a:lnTo>
                      <a:lnTo>
                        <a:pt x="9" y="46"/>
                      </a:lnTo>
                      <a:lnTo>
                        <a:pt x="9" y="51"/>
                      </a:lnTo>
                      <a:lnTo>
                        <a:pt x="9" y="55"/>
                      </a:lnTo>
                      <a:lnTo>
                        <a:pt x="9" y="61"/>
                      </a:lnTo>
                      <a:lnTo>
                        <a:pt x="8" y="66"/>
                      </a:lnTo>
                      <a:lnTo>
                        <a:pt x="8" y="70"/>
                      </a:lnTo>
                      <a:lnTo>
                        <a:pt x="8" y="76"/>
                      </a:lnTo>
                      <a:lnTo>
                        <a:pt x="8" y="81"/>
                      </a:lnTo>
                      <a:lnTo>
                        <a:pt x="8" y="86"/>
                      </a:lnTo>
                      <a:lnTo>
                        <a:pt x="8" y="91"/>
                      </a:lnTo>
                      <a:lnTo>
                        <a:pt x="6" y="97"/>
                      </a:lnTo>
                      <a:lnTo>
                        <a:pt x="6" y="101"/>
                      </a:lnTo>
                      <a:lnTo>
                        <a:pt x="6" y="106"/>
                      </a:lnTo>
                      <a:lnTo>
                        <a:pt x="6" y="112"/>
                      </a:lnTo>
                      <a:lnTo>
                        <a:pt x="6" y="116"/>
                      </a:lnTo>
                      <a:lnTo>
                        <a:pt x="6" y="121"/>
                      </a:lnTo>
                      <a:lnTo>
                        <a:pt x="5" y="125"/>
                      </a:lnTo>
                      <a:lnTo>
                        <a:pt x="5" y="131"/>
                      </a:lnTo>
                      <a:lnTo>
                        <a:pt x="3" y="136"/>
                      </a:lnTo>
                      <a:lnTo>
                        <a:pt x="3" y="140"/>
                      </a:lnTo>
                      <a:lnTo>
                        <a:pt x="2" y="146"/>
                      </a:lnTo>
                      <a:lnTo>
                        <a:pt x="2" y="151"/>
                      </a:lnTo>
                      <a:lnTo>
                        <a:pt x="0" y="157"/>
                      </a:lnTo>
                      <a:lnTo>
                        <a:pt x="0" y="161"/>
                      </a:lnTo>
                      <a:lnTo>
                        <a:pt x="0" y="160"/>
                      </a:lnTo>
                      <a:lnTo>
                        <a:pt x="0" y="157"/>
                      </a:lnTo>
                      <a:lnTo>
                        <a:pt x="0" y="153"/>
                      </a:lnTo>
                      <a:lnTo>
                        <a:pt x="0" y="150"/>
                      </a:lnTo>
                      <a:lnTo>
                        <a:pt x="0" y="146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2" y="131"/>
                      </a:lnTo>
                      <a:lnTo>
                        <a:pt x="2" y="128"/>
                      </a:lnTo>
                      <a:lnTo>
                        <a:pt x="2" y="125"/>
                      </a:lnTo>
                      <a:lnTo>
                        <a:pt x="2" y="121"/>
                      </a:lnTo>
                      <a:lnTo>
                        <a:pt x="2" y="118"/>
                      </a:lnTo>
                      <a:lnTo>
                        <a:pt x="2" y="116"/>
                      </a:lnTo>
                      <a:lnTo>
                        <a:pt x="2" y="112"/>
                      </a:lnTo>
                      <a:lnTo>
                        <a:pt x="2" y="109"/>
                      </a:lnTo>
                      <a:lnTo>
                        <a:pt x="2" y="106"/>
                      </a:lnTo>
                      <a:lnTo>
                        <a:pt x="2" y="102"/>
                      </a:lnTo>
                      <a:lnTo>
                        <a:pt x="2" y="98"/>
                      </a:lnTo>
                      <a:lnTo>
                        <a:pt x="2" y="95"/>
                      </a:lnTo>
                      <a:lnTo>
                        <a:pt x="3" y="92"/>
                      </a:lnTo>
                      <a:lnTo>
                        <a:pt x="3" y="88"/>
                      </a:lnTo>
                      <a:lnTo>
                        <a:pt x="3" y="86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3" y="75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4"/>
                      </a:lnTo>
                      <a:lnTo>
                        <a:pt x="3" y="61"/>
                      </a:lnTo>
                      <a:lnTo>
                        <a:pt x="5" y="57"/>
                      </a:lnTo>
                      <a:lnTo>
                        <a:pt x="5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5" y="43"/>
                      </a:lnTo>
                      <a:lnTo>
                        <a:pt x="5" y="40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20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9" y="7"/>
                      </a:lnTo>
                      <a:lnTo>
                        <a:pt x="9" y="5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55"/>
                <p:cNvSpPr/>
                <p:nvPr/>
              </p:nvSpPr>
              <p:spPr>
                <a:xfrm>
                  <a:off x="2933640" y="1822320"/>
                  <a:ext cx="201600" cy="7164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71640"/>
                    <a:gd name="textAreaBottom" fmla="*/ 71640 h 71640"/>
                  </a:gdLst>
                  <a:ahLst/>
                  <a:rect l="textAreaLeft" t="textAreaTop" r="textAreaRight" b="textAreaBottom"/>
                  <a:pathLst>
                    <a:path w="582" h="195">
                      <a:moveTo>
                        <a:pt x="198" y="136"/>
                      </a:moveTo>
                      <a:lnTo>
                        <a:pt x="199" y="133"/>
                      </a:lnTo>
                      <a:lnTo>
                        <a:pt x="204" y="131"/>
                      </a:lnTo>
                      <a:lnTo>
                        <a:pt x="208" y="125"/>
                      </a:lnTo>
                      <a:lnTo>
                        <a:pt x="216" y="121"/>
                      </a:lnTo>
                      <a:lnTo>
                        <a:pt x="222" y="117"/>
                      </a:lnTo>
                      <a:lnTo>
                        <a:pt x="227" y="113"/>
                      </a:lnTo>
                      <a:lnTo>
                        <a:pt x="231" y="110"/>
                      </a:lnTo>
                      <a:lnTo>
                        <a:pt x="233" y="109"/>
                      </a:lnTo>
                      <a:lnTo>
                        <a:pt x="234" y="107"/>
                      </a:lnTo>
                      <a:lnTo>
                        <a:pt x="238" y="105"/>
                      </a:lnTo>
                      <a:lnTo>
                        <a:pt x="241" y="100"/>
                      </a:lnTo>
                      <a:lnTo>
                        <a:pt x="245" y="98"/>
                      </a:lnTo>
                      <a:lnTo>
                        <a:pt x="250" y="94"/>
                      </a:lnTo>
                      <a:lnTo>
                        <a:pt x="254" y="89"/>
                      </a:lnTo>
                      <a:lnTo>
                        <a:pt x="259" y="85"/>
                      </a:lnTo>
                      <a:lnTo>
                        <a:pt x="265" y="81"/>
                      </a:lnTo>
                      <a:lnTo>
                        <a:pt x="268" y="76"/>
                      </a:lnTo>
                      <a:lnTo>
                        <a:pt x="273" y="70"/>
                      </a:lnTo>
                      <a:lnTo>
                        <a:pt x="277" y="66"/>
                      </a:lnTo>
                      <a:lnTo>
                        <a:pt x="282" y="62"/>
                      </a:lnTo>
                      <a:lnTo>
                        <a:pt x="283" y="56"/>
                      </a:lnTo>
                      <a:lnTo>
                        <a:pt x="286" y="54"/>
                      </a:lnTo>
                      <a:lnTo>
                        <a:pt x="288" y="50"/>
                      </a:lnTo>
                      <a:lnTo>
                        <a:pt x="288" y="48"/>
                      </a:lnTo>
                      <a:lnTo>
                        <a:pt x="286" y="50"/>
                      </a:lnTo>
                      <a:lnTo>
                        <a:pt x="282" y="54"/>
                      </a:lnTo>
                      <a:lnTo>
                        <a:pt x="276" y="59"/>
                      </a:lnTo>
                      <a:lnTo>
                        <a:pt x="274" y="61"/>
                      </a:lnTo>
                      <a:lnTo>
                        <a:pt x="233" y="102"/>
                      </a:lnTo>
                      <a:lnTo>
                        <a:pt x="234" y="98"/>
                      </a:lnTo>
                      <a:lnTo>
                        <a:pt x="236" y="95"/>
                      </a:lnTo>
                      <a:lnTo>
                        <a:pt x="239" y="89"/>
                      </a:lnTo>
                      <a:lnTo>
                        <a:pt x="242" y="85"/>
                      </a:lnTo>
                      <a:lnTo>
                        <a:pt x="245" y="80"/>
                      </a:lnTo>
                      <a:lnTo>
                        <a:pt x="250" y="74"/>
                      </a:lnTo>
                      <a:lnTo>
                        <a:pt x="254" y="69"/>
                      </a:lnTo>
                      <a:lnTo>
                        <a:pt x="259" y="63"/>
                      </a:lnTo>
                      <a:lnTo>
                        <a:pt x="264" y="56"/>
                      </a:lnTo>
                      <a:lnTo>
                        <a:pt x="268" y="51"/>
                      </a:lnTo>
                      <a:lnTo>
                        <a:pt x="271" y="45"/>
                      </a:lnTo>
                      <a:lnTo>
                        <a:pt x="277" y="41"/>
                      </a:lnTo>
                      <a:lnTo>
                        <a:pt x="280" y="36"/>
                      </a:lnTo>
                      <a:lnTo>
                        <a:pt x="285" y="32"/>
                      </a:lnTo>
                      <a:lnTo>
                        <a:pt x="288" y="28"/>
                      </a:lnTo>
                      <a:lnTo>
                        <a:pt x="291" y="25"/>
                      </a:lnTo>
                      <a:lnTo>
                        <a:pt x="288" y="25"/>
                      </a:lnTo>
                      <a:lnTo>
                        <a:pt x="285" y="28"/>
                      </a:lnTo>
                      <a:lnTo>
                        <a:pt x="280" y="29"/>
                      </a:lnTo>
                      <a:lnTo>
                        <a:pt x="276" y="33"/>
                      </a:lnTo>
                      <a:lnTo>
                        <a:pt x="271" y="37"/>
                      </a:lnTo>
                      <a:lnTo>
                        <a:pt x="265" y="41"/>
                      </a:lnTo>
                      <a:lnTo>
                        <a:pt x="259" y="47"/>
                      </a:lnTo>
                      <a:lnTo>
                        <a:pt x="254" y="52"/>
                      </a:lnTo>
                      <a:lnTo>
                        <a:pt x="248" y="56"/>
                      </a:lnTo>
                      <a:lnTo>
                        <a:pt x="242" y="62"/>
                      </a:lnTo>
                      <a:lnTo>
                        <a:pt x="236" y="66"/>
                      </a:lnTo>
                      <a:lnTo>
                        <a:pt x="231" y="72"/>
                      </a:lnTo>
                      <a:lnTo>
                        <a:pt x="227" y="76"/>
                      </a:lnTo>
                      <a:lnTo>
                        <a:pt x="224" y="80"/>
                      </a:lnTo>
                      <a:lnTo>
                        <a:pt x="222" y="81"/>
                      </a:lnTo>
                      <a:lnTo>
                        <a:pt x="221" y="84"/>
                      </a:lnTo>
                      <a:lnTo>
                        <a:pt x="219" y="85"/>
                      </a:lnTo>
                      <a:lnTo>
                        <a:pt x="218" y="87"/>
                      </a:lnTo>
                      <a:lnTo>
                        <a:pt x="215" y="89"/>
                      </a:lnTo>
                      <a:lnTo>
                        <a:pt x="212" y="94"/>
                      </a:lnTo>
                      <a:lnTo>
                        <a:pt x="207" y="95"/>
                      </a:lnTo>
                      <a:lnTo>
                        <a:pt x="204" y="98"/>
                      </a:lnTo>
                      <a:lnTo>
                        <a:pt x="201" y="99"/>
                      </a:lnTo>
                      <a:lnTo>
                        <a:pt x="199" y="100"/>
                      </a:lnTo>
                      <a:lnTo>
                        <a:pt x="204" y="94"/>
                      </a:lnTo>
                      <a:lnTo>
                        <a:pt x="208" y="88"/>
                      </a:lnTo>
                      <a:lnTo>
                        <a:pt x="212" y="84"/>
                      </a:lnTo>
                      <a:lnTo>
                        <a:pt x="216" y="78"/>
                      </a:lnTo>
                      <a:lnTo>
                        <a:pt x="219" y="73"/>
                      </a:lnTo>
                      <a:lnTo>
                        <a:pt x="222" y="69"/>
                      </a:lnTo>
                      <a:lnTo>
                        <a:pt x="225" y="65"/>
                      </a:lnTo>
                      <a:lnTo>
                        <a:pt x="228" y="61"/>
                      </a:lnTo>
                      <a:lnTo>
                        <a:pt x="231" y="55"/>
                      </a:lnTo>
                      <a:lnTo>
                        <a:pt x="236" y="51"/>
                      </a:lnTo>
                      <a:lnTo>
                        <a:pt x="239" y="47"/>
                      </a:lnTo>
                      <a:lnTo>
                        <a:pt x="244" y="43"/>
                      </a:lnTo>
                      <a:lnTo>
                        <a:pt x="248" y="39"/>
                      </a:lnTo>
                      <a:lnTo>
                        <a:pt x="254" y="35"/>
                      </a:lnTo>
                      <a:lnTo>
                        <a:pt x="259" y="30"/>
                      </a:lnTo>
                      <a:lnTo>
                        <a:pt x="265" y="26"/>
                      </a:lnTo>
                      <a:lnTo>
                        <a:pt x="267" y="24"/>
                      </a:lnTo>
                      <a:lnTo>
                        <a:pt x="270" y="21"/>
                      </a:lnTo>
                      <a:lnTo>
                        <a:pt x="273" y="17"/>
                      </a:lnTo>
                      <a:lnTo>
                        <a:pt x="277" y="11"/>
                      </a:lnTo>
                      <a:lnTo>
                        <a:pt x="280" y="7"/>
                      </a:lnTo>
                      <a:lnTo>
                        <a:pt x="283" y="3"/>
                      </a:lnTo>
                      <a:lnTo>
                        <a:pt x="285" y="0"/>
                      </a:lnTo>
                      <a:lnTo>
                        <a:pt x="286" y="0"/>
                      </a:lnTo>
                      <a:lnTo>
                        <a:pt x="283" y="0"/>
                      </a:lnTo>
                      <a:lnTo>
                        <a:pt x="280" y="3"/>
                      </a:lnTo>
                      <a:lnTo>
                        <a:pt x="276" y="6"/>
                      </a:lnTo>
                      <a:lnTo>
                        <a:pt x="271" y="10"/>
                      </a:lnTo>
                      <a:lnTo>
                        <a:pt x="265" y="14"/>
                      </a:lnTo>
                      <a:lnTo>
                        <a:pt x="262" y="17"/>
                      </a:lnTo>
                      <a:lnTo>
                        <a:pt x="259" y="19"/>
                      </a:lnTo>
                      <a:lnTo>
                        <a:pt x="257" y="19"/>
                      </a:lnTo>
                      <a:lnTo>
                        <a:pt x="254" y="22"/>
                      </a:lnTo>
                      <a:lnTo>
                        <a:pt x="250" y="26"/>
                      </a:lnTo>
                      <a:lnTo>
                        <a:pt x="247" y="29"/>
                      </a:lnTo>
                      <a:lnTo>
                        <a:pt x="244" y="32"/>
                      </a:lnTo>
                      <a:lnTo>
                        <a:pt x="239" y="35"/>
                      </a:lnTo>
                      <a:lnTo>
                        <a:pt x="236" y="39"/>
                      </a:lnTo>
                      <a:lnTo>
                        <a:pt x="231" y="41"/>
                      </a:lnTo>
                      <a:lnTo>
                        <a:pt x="227" y="44"/>
                      </a:lnTo>
                      <a:lnTo>
                        <a:pt x="224" y="48"/>
                      </a:lnTo>
                      <a:lnTo>
                        <a:pt x="219" y="52"/>
                      </a:lnTo>
                      <a:lnTo>
                        <a:pt x="215" y="55"/>
                      </a:lnTo>
                      <a:lnTo>
                        <a:pt x="210" y="59"/>
                      </a:lnTo>
                      <a:lnTo>
                        <a:pt x="205" y="62"/>
                      </a:lnTo>
                      <a:lnTo>
                        <a:pt x="202" y="66"/>
                      </a:lnTo>
                      <a:lnTo>
                        <a:pt x="198" y="69"/>
                      </a:lnTo>
                      <a:lnTo>
                        <a:pt x="193" y="72"/>
                      </a:lnTo>
                      <a:lnTo>
                        <a:pt x="189" y="74"/>
                      </a:lnTo>
                      <a:lnTo>
                        <a:pt x="186" y="77"/>
                      </a:lnTo>
                      <a:lnTo>
                        <a:pt x="179" y="80"/>
                      </a:lnTo>
                      <a:lnTo>
                        <a:pt x="175" y="83"/>
                      </a:lnTo>
                      <a:lnTo>
                        <a:pt x="172" y="83"/>
                      </a:lnTo>
                      <a:lnTo>
                        <a:pt x="172" y="81"/>
                      </a:lnTo>
                      <a:lnTo>
                        <a:pt x="172" y="80"/>
                      </a:lnTo>
                      <a:lnTo>
                        <a:pt x="175" y="77"/>
                      </a:lnTo>
                      <a:lnTo>
                        <a:pt x="176" y="73"/>
                      </a:lnTo>
                      <a:lnTo>
                        <a:pt x="179" y="70"/>
                      </a:lnTo>
                      <a:lnTo>
                        <a:pt x="176" y="70"/>
                      </a:lnTo>
                      <a:lnTo>
                        <a:pt x="172" y="73"/>
                      </a:lnTo>
                      <a:lnTo>
                        <a:pt x="166" y="76"/>
                      </a:lnTo>
                      <a:lnTo>
                        <a:pt x="160" y="81"/>
                      </a:lnTo>
                      <a:lnTo>
                        <a:pt x="156" y="83"/>
                      </a:lnTo>
                      <a:lnTo>
                        <a:pt x="152" y="85"/>
                      </a:lnTo>
                      <a:lnTo>
                        <a:pt x="149" y="88"/>
                      </a:lnTo>
                      <a:lnTo>
                        <a:pt x="144" y="92"/>
                      </a:lnTo>
                      <a:lnTo>
                        <a:pt x="141" y="95"/>
                      </a:lnTo>
                      <a:lnTo>
                        <a:pt x="138" y="98"/>
                      </a:lnTo>
                      <a:lnTo>
                        <a:pt x="134" y="100"/>
                      </a:lnTo>
                      <a:lnTo>
                        <a:pt x="130" y="105"/>
                      </a:lnTo>
                      <a:lnTo>
                        <a:pt x="127" y="107"/>
                      </a:lnTo>
                      <a:lnTo>
                        <a:pt x="123" y="110"/>
                      </a:lnTo>
                      <a:lnTo>
                        <a:pt x="120" y="113"/>
                      </a:lnTo>
                      <a:lnTo>
                        <a:pt x="115" y="115"/>
                      </a:lnTo>
                      <a:lnTo>
                        <a:pt x="109" y="121"/>
                      </a:lnTo>
                      <a:lnTo>
                        <a:pt x="103" y="128"/>
                      </a:lnTo>
                      <a:lnTo>
                        <a:pt x="97" y="132"/>
                      </a:lnTo>
                      <a:lnTo>
                        <a:pt x="94" y="136"/>
                      </a:lnTo>
                      <a:lnTo>
                        <a:pt x="91" y="140"/>
                      </a:lnTo>
                      <a:lnTo>
                        <a:pt x="89" y="143"/>
                      </a:lnTo>
                      <a:lnTo>
                        <a:pt x="88" y="143"/>
                      </a:lnTo>
                      <a:lnTo>
                        <a:pt x="86" y="144"/>
                      </a:lnTo>
                      <a:lnTo>
                        <a:pt x="83" y="146"/>
                      </a:lnTo>
                      <a:lnTo>
                        <a:pt x="78" y="150"/>
                      </a:lnTo>
                      <a:lnTo>
                        <a:pt x="72" y="153"/>
                      </a:lnTo>
                      <a:lnTo>
                        <a:pt x="68" y="157"/>
                      </a:lnTo>
                      <a:lnTo>
                        <a:pt x="62" y="159"/>
                      </a:lnTo>
                      <a:lnTo>
                        <a:pt x="56" y="165"/>
                      </a:lnTo>
                      <a:lnTo>
                        <a:pt x="49" y="169"/>
                      </a:lnTo>
                      <a:lnTo>
                        <a:pt x="43" y="172"/>
                      </a:lnTo>
                      <a:lnTo>
                        <a:pt x="37" y="176"/>
                      </a:lnTo>
                      <a:lnTo>
                        <a:pt x="31" y="181"/>
                      </a:lnTo>
                      <a:lnTo>
                        <a:pt x="25" y="184"/>
                      </a:lnTo>
                      <a:lnTo>
                        <a:pt x="22" y="187"/>
                      </a:lnTo>
                      <a:lnTo>
                        <a:pt x="17" y="188"/>
                      </a:lnTo>
                      <a:lnTo>
                        <a:pt x="16" y="191"/>
                      </a:lnTo>
                      <a:lnTo>
                        <a:pt x="13" y="188"/>
                      </a:lnTo>
                      <a:lnTo>
                        <a:pt x="14" y="184"/>
                      </a:lnTo>
                      <a:lnTo>
                        <a:pt x="20" y="181"/>
                      </a:lnTo>
                      <a:lnTo>
                        <a:pt x="22" y="179"/>
                      </a:lnTo>
                      <a:lnTo>
                        <a:pt x="26" y="176"/>
                      </a:lnTo>
                      <a:lnTo>
                        <a:pt x="30" y="175"/>
                      </a:lnTo>
                      <a:lnTo>
                        <a:pt x="34" y="172"/>
                      </a:lnTo>
                      <a:lnTo>
                        <a:pt x="37" y="169"/>
                      </a:lnTo>
                      <a:lnTo>
                        <a:pt x="42" y="168"/>
                      </a:lnTo>
                      <a:lnTo>
                        <a:pt x="45" y="165"/>
                      </a:lnTo>
                      <a:lnTo>
                        <a:pt x="48" y="164"/>
                      </a:lnTo>
                      <a:lnTo>
                        <a:pt x="54" y="159"/>
                      </a:lnTo>
                      <a:lnTo>
                        <a:pt x="59" y="157"/>
                      </a:lnTo>
                      <a:lnTo>
                        <a:pt x="62" y="151"/>
                      </a:lnTo>
                      <a:lnTo>
                        <a:pt x="66" y="146"/>
                      </a:lnTo>
                      <a:lnTo>
                        <a:pt x="71" y="140"/>
                      </a:lnTo>
                      <a:lnTo>
                        <a:pt x="77" y="135"/>
                      </a:lnTo>
                      <a:lnTo>
                        <a:pt x="82" y="128"/>
                      </a:lnTo>
                      <a:lnTo>
                        <a:pt x="88" y="124"/>
                      </a:lnTo>
                      <a:lnTo>
                        <a:pt x="92" y="120"/>
                      </a:lnTo>
                      <a:lnTo>
                        <a:pt x="97" y="118"/>
                      </a:lnTo>
                      <a:lnTo>
                        <a:pt x="100" y="111"/>
                      </a:lnTo>
                      <a:lnTo>
                        <a:pt x="94" y="113"/>
                      </a:lnTo>
                      <a:lnTo>
                        <a:pt x="89" y="115"/>
                      </a:lnTo>
                      <a:lnTo>
                        <a:pt x="83" y="118"/>
                      </a:lnTo>
                      <a:lnTo>
                        <a:pt x="78" y="120"/>
                      </a:lnTo>
                      <a:lnTo>
                        <a:pt x="75" y="124"/>
                      </a:lnTo>
                      <a:lnTo>
                        <a:pt x="72" y="128"/>
                      </a:lnTo>
                      <a:lnTo>
                        <a:pt x="69" y="132"/>
                      </a:lnTo>
                      <a:lnTo>
                        <a:pt x="68" y="135"/>
                      </a:lnTo>
                      <a:lnTo>
                        <a:pt x="62" y="140"/>
                      </a:lnTo>
                      <a:lnTo>
                        <a:pt x="59" y="144"/>
                      </a:lnTo>
                      <a:lnTo>
                        <a:pt x="56" y="147"/>
                      </a:lnTo>
                      <a:lnTo>
                        <a:pt x="51" y="150"/>
                      </a:lnTo>
                      <a:lnTo>
                        <a:pt x="48" y="153"/>
                      </a:lnTo>
                      <a:lnTo>
                        <a:pt x="45" y="155"/>
                      </a:lnTo>
                      <a:lnTo>
                        <a:pt x="40" y="157"/>
                      </a:lnTo>
                      <a:lnTo>
                        <a:pt x="36" y="159"/>
                      </a:lnTo>
                      <a:lnTo>
                        <a:pt x="31" y="162"/>
                      </a:lnTo>
                      <a:lnTo>
                        <a:pt x="26" y="165"/>
                      </a:lnTo>
                      <a:lnTo>
                        <a:pt x="23" y="168"/>
                      </a:lnTo>
                      <a:lnTo>
                        <a:pt x="20" y="170"/>
                      </a:lnTo>
                      <a:lnTo>
                        <a:pt x="17" y="173"/>
                      </a:lnTo>
                      <a:lnTo>
                        <a:pt x="14" y="177"/>
                      </a:lnTo>
                      <a:lnTo>
                        <a:pt x="11" y="180"/>
                      </a:lnTo>
                      <a:lnTo>
                        <a:pt x="8" y="184"/>
                      </a:lnTo>
                      <a:lnTo>
                        <a:pt x="4" y="190"/>
                      </a:lnTo>
                      <a:lnTo>
                        <a:pt x="0" y="195"/>
                      </a:lnTo>
                      <a:lnTo>
                        <a:pt x="8" y="195"/>
                      </a:lnTo>
                      <a:lnTo>
                        <a:pt x="14" y="195"/>
                      </a:lnTo>
                      <a:lnTo>
                        <a:pt x="22" y="195"/>
                      </a:lnTo>
                      <a:lnTo>
                        <a:pt x="30" y="195"/>
                      </a:lnTo>
                      <a:lnTo>
                        <a:pt x="37" y="195"/>
                      </a:lnTo>
                      <a:lnTo>
                        <a:pt x="45" y="195"/>
                      </a:lnTo>
                      <a:lnTo>
                        <a:pt x="51" y="195"/>
                      </a:lnTo>
                      <a:lnTo>
                        <a:pt x="59" y="195"/>
                      </a:lnTo>
                      <a:lnTo>
                        <a:pt x="66" y="194"/>
                      </a:lnTo>
                      <a:lnTo>
                        <a:pt x="74" y="194"/>
                      </a:lnTo>
                      <a:lnTo>
                        <a:pt x="80" y="194"/>
                      </a:lnTo>
                      <a:lnTo>
                        <a:pt x="88" y="194"/>
                      </a:lnTo>
                      <a:lnTo>
                        <a:pt x="95" y="194"/>
                      </a:lnTo>
                      <a:lnTo>
                        <a:pt x="103" y="194"/>
                      </a:lnTo>
                      <a:lnTo>
                        <a:pt x="111" y="192"/>
                      </a:lnTo>
                      <a:lnTo>
                        <a:pt x="117" y="192"/>
                      </a:lnTo>
                      <a:lnTo>
                        <a:pt x="124" y="191"/>
                      </a:lnTo>
                      <a:lnTo>
                        <a:pt x="130" y="191"/>
                      </a:lnTo>
                      <a:lnTo>
                        <a:pt x="138" y="191"/>
                      </a:lnTo>
                      <a:lnTo>
                        <a:pt x="146" y="191"/>
                      </a:lnTo>
                      <a:lnTo>
                        <a:pt x="153" y="190"/>
                      </a:lnTo>
                      <a:lnTo>
                        <a:pt x="160" y="190"/>
                      </a:lnTo>
                      <a:lnTo>
                        <a:pt x="167" y="188"/>
                      </a:lnTo>
                      <a:lnTo>
                        <a:pt x="175" y="188"/>
                      </a:lnTo>
                      <a:lnTo>
                        <a:pt x="182" y="187"/>
                      </a:lnTo>
                      <a:lnTo>
                        <a:pt x="189" y="187"/>
                      </a:lnTo>
                      <a:lnTo>
                        <a:pt x="196" y="186"/>
                      </a:lnTo>
                      <a:lnTo>
                        <a:pt x="204" y="186"/>
                      </a:lnTo>
                      <a:lnTo>
                        <a:pt x="212" y="184"/>
                      </a:lnTo>
                      <a:lnTo>
                        <a:pt x="219" y="184"/>
                      </a:lnTo>
                      <a:lnTo>
                        <a:pt x="227" y="184"/>
                      </a:lnTo>
                      <a:lnTo>
                        <a:pt x="234" y="184"/>
                      </a:lnTo>
                      <a:lnTo>
                        <a:pt x="242" y="183"/>
                      </a:lnTo>
                      <a:lnTo>
                        <a:pt x="250" y="181"/>
                      </a:lnTo>
                      <a:lnTo>
                        <a:pt x="257" y="181"/>
                      </a:lnTo>
                      <a:lnTo>
                        <a:pt x="265" y="181"/>
                      </a:lnTo>
                      <a:lnTo>
                        <a:pt x="273" y="180"/>
                      </a:lnTo>
                      <a:lnTo>
                        <a:pt x="280" y="180"/>
                      </a:lnTo>
                      <a:lnTo>
                        <a:pt x="288" y="179"/>
                      </a:lnTo>
                      <a:lnTo>
                        <a:pt x="296" y="179"/>
                      </a:lnTo>
                      <a:lnTo>
                        <a:pt x="303" y="177"/>
                      </a:lnTo>
                      <a:lnTo>
                        <a:pt x="312" y="177"/>
                      </a:lnTo>
                      <a:lnTo>
                        <a:pt x="320" y="177"/>
                      </a:lnTo>
                      <a:lnTo>
                        <a:pt x="328" y="177"/>
                      </a:lnTo>
                      <a:lnTo>
                        <a:pt x="337" y="176"/>
                      </a:lnTo>
                      <a:lnTo>
                        <a:pt x="345" y="176"/>
                      </a:lnTo>
                      <a:lnTo>
                        <a:pt x="354" y="175"/>
                      </a:lnTo>
                      <a:lnTo>
                        <a:pt x="363" y="175"/>
                      </a:lnTo>
                      <a:lnTo>
                        <a:pt x="371" y="175"/>
                      </a:lnTo>
                      <a:lnTo>
                        <a:pt x="380" y="175"/>
                      </a:lnTo>
                      <a:lnTo>
                        <a:pt x="387" y="173"/>
                      </a:lnTo>
                      <a:lnTo>
                        <a:pt x="398" y="173"/>
                      </a:lnTo>
                      <a:lnTo>
                        <a:pt x="406" y="173"/>
                      </a:lnTo>
                      <a:lnTo>
                        <a:pt x="415" y="173"/>
                      </a:lnTo>
                      <a:lnTo>
                        <a:pt x="426" y="173"/>
                      </a:lnTo>
                      <a:lnTo>
                        <a:pt x="435" y="173"/>
                      </a:lnTo>
                      <a:lnTo>
                        <a:pt x="444" y="173"/>
                      </a:lnTo>
                      <a:lnTo>
                        <a:pt x="453" y="173"/>
                      </a:lnTo>
                      <a:lnTo>
                        <a:pt x="462" y="173"/>
                      </a:lnTo>
                      <a:lnTo>
                        <a:pt x="473" y="173"/>
                      </a:lnTo>
                      <a:lnTo>
                        <a:pt x="482" y="173"/>
                      </a:lnTo>
                      <a:lnTo>
                        <a:pt x="493" y="173"/>
                      </a:lnTo>
                      <a:lnTo>
                        <a:pt x="502" y="175"/>
                      </a:lnTo>
                      <a:lnTo>
                        <a:pt x="513" y="175"/>
                      </a:lnTo>
                      <a:lnTo>
                        <a:pt x="470" y="184"/>
                      </a:lnTo>
                      <a:lnTo>
                        <a:pt x="478" y="183"/>
                      </a:lnTo>
                      <a:lnTo>
                        <a:pt x="484" y="183"/>
                      </a:lnTo>
                      <a:lnTo>
                        <a:pt x="490" y="183"/>
                      </a:lnTo>
                      <a:lnTo>
                        <a:pt x="498" y="183"/>
                      </a:lnTo>
                      <a:lnTo>
                        <a:pt x="501" y="181"/>
                      </a:lnTo>
                      <a:lnTo>
                        <a:pt x="504" y="181"/>
                      </a:lnTo>
                      <a:lnTo>
                        <a:pt x="507" y="181"/>
                      </a:lnTo>
                      <a:lnTo>
                        <a:pt x="511" y="181"/>
                      </a:lnTo>
                      <a:lnTo>
                        <a:pt x="514" y="181"/>
                      </a:lnTo>
                      <a:lnTo>
                        <a:pt x="517" y="181"/>
                      </a:lnTo>
                      <a:lnTo>
                        <a:pt x="522" y="181"/>
                      </a:lnTo>
                      <a:lnTo>
                        <a:pt x="525" y="181"/>
                      </a:lnTo>
                      <a:lnTo>
                        <a:pt x="531" y="180"/>
                      </a:lnTo>
                      <a:lnTo>
                        <a:pt x="539" y="180"/>
                      </a:lnTo>
                      <a:lnTo>
                        <a:pt x="542" y="179"/>
                      </a:lnTo>
                      <a:lnTo>
                        <a:pt x="545" y="179"/>
                      </a:lnTo>
                      <a:lnTo>
                        <a:pt x="550" y="179"/>
                      </a:lnTo>
                      <a:lnTo>
                        <a:pt x="553" y="179"/>
                      </a:lnTo>
                      <a:lnTo>
                        <a:pt x="556" y="177"/>
                      </a:lnTo>
                      <a:lnTo>
                        <a:pt x="559" y="177"/>
                      </a:lnTo>
                      <a:lnTo>
                        <a:pt x="563" y="177"/>
                      </a:lnTo>
                      <a:lnTo>
                        <a:pt x="566" y="177"/>
                      </a:lnTo>
                      <a:lnTo>
                        <a:pt x="569" y="177"/>
                      </a:lnTo>
                      <a:lnTo>
                        <a:pt x="574" y="177"/>
                      </a:lnTo>
                      <a:lnTo>
                        <a:pt x="577" y="177"/>
                      </a:lnTo>
                      <a:lnTo>
                        <a:pt x="582" y="177"/>
                      </a:lnTo>
                      <a:lnTo>
                        <a:pt x="576" y="172"/>
                      </a:lnTo>
                      <a:lnTo>
                        <a:pt x="569" y="166"/>
                      </a:lnTo>
                      <a:lnTo>
                        <a:pt x="563" y="162"/>
                      </a:lnTo>
                      <a:lnTo>
                        <a:pt x="559" y="157"/>
                      </a:lnTo>
                      <a:lnTo>
                        <a:pt x="553" y="151"/>
                      </a:lnTo>
                      <a:lnTo>
                        <a:pt x="547" y="147"/>
                      </a:lnTo>
                      <a:lnTo>
                        <a:pt x="540" y="142"/>
                      </a:lnTo>
                      <a:lnTo>
                        <a:pt x="536" y="137"/>
                      </a:lnTo>
                      <a:lnTo>
                        <a:pt x="528" y="132"/>
                      </a:lnTo>
                      <a:lnTo>
                        <a:pt x="524" y="126"/>
                      </a:lnTo>
                      <a:lnTo>
                        <a:pt x="517" y="122"/>
                      </a:lnTo>
                      <a:lnTo>
                        <a:pt x="511" y="117"/>
                      </a:lnTo>
                      <a:lnTo>
                        <a:pt x="505" y="111"/>
                      </a:lnTo>
                      <a:lnTo>
                        <a:pt x="501" y="107"/>
                      </a:lnTo>
                      <a:lnTo>
                        <a:pt x="495" y="102"/>
                      </a:lnTo>
                      <a:lnTo>
                        <a:pt x="488" y="98"/>
                      </a:lnTo>
                      <a:lnTo>
                        <a:pt x="482" y="92"/>
                      </a:lnTo>
                      <a:lnTo>
                        <a:pt x="476" y="87"/>
                      </a:lnTo>
                      <a:lnTo>
                        <a:pt x="470" y="83"/>
                      </a:lnTo>
                      <a:lnTo>
                        <a:pt x="465" y="77"/>
                      </a:lnTo>
                      <a:lnTo>
                        <a:pt x="459" y="72"/>
                      </a:lnTo>
                      <a:lnTo>
                        <a:pt x="453" y="67"/>
                      </a:lnTo>
                      <a:lnTo>
                        <a:pt x="447" y="62"/>
                      </a:lnTo>
                      <a:lnTo>
                        <a:pt x="441" y="58"/>
                      </a:lnTo>
                      <a:lnTo>
                        <a:pt x="435" y="52"/>
                      </a:lnTo>
                      <a:lnTo>
                        <a:pt x="429" y="48"/>
                      </a:lnTo>
                      <a:lnTo>
                        <a:pt x="423" y="44"/>
                      </a:lnTo>
                      <a:lnTo>
                        <a:pt x="418" y="39"/>
                      </a:lnTo>
                      <a:lnTo>
                        <a:pt x="412" y="35"/>
                      </a:lnTo>
                      <a:lnTo>
                        <a:pt x="406" y="30"/>
                      </a:lnTo>
                      <a:lnTo>
                        <a:pt x="400" y="26"/>
                      </a:lnTo>
                      <a:lnTo>
                        <a:pt x="395" y="22"/>
                      </a:lnTo>
                      <a:lnTo>
                        <a:pt x="392" y="21"/>
                      </a:lnTo>
                      <a:lnTo>
                        <a:pt x="386" y="18"/>
                      </a:lnTo>
                      <a:lnTo>
                        <a:pt x="380" y="14"/>
                      </a:lnTo>
                      <a:lnTo>
                        <a:pt x="377" y="14"/>
                      </a:lnTo>
                      <a:lnTo>
                        <a:pt x="453" y="81"/>
                      </a:lnTo>
                      <a:lnTo>
                        <a:pt x="426" y="67"/>
                      </a:lnTo>
                      <a:lnTo>
                        <a:pt x="429" y="70"/>
                      </a:lnTo>
                      <a:lnTo>
                        <a:pt x="432" y="73"/>
                      </a:lnTo>
                      <a:lnTo>
                        <a:pt x="435" y="76"/>
                      </a:lnTo>
                      <a:lnTo>
                        <a:pt x="439" y="80"/>
                      </a:lnTo>
                      <a:lnTo>
                        <a:pt x="443" y="83"/>
                      </a:lnTo>
                      <a:lnTo>
                        <a:pt x="447" y="85"/>
                      </a:lnTo>
                      <a:lnTo>
                        <a:pt x="450" y="88"/>
                      </a:lnTo>
                      <a:lnTo>
                        <a:pt x="455" y="91"/>
                      </a:lnTo>
                      <a:lnTo>
                        <a:pt x="459" y="94"/>
                      </a:lnTo>
                      <a:lnTo>
                        <a:pt x="462" y="96"/>
                      </a:lnTo>
                      <a:lnTo>
                        <a:pt x="467" y="99"/>
                      </a:lnTo>
                      <a:lnTo>
                        <a:pt x="470" y="102"/>
                      </a:lnTo>
                      <a:lnTo>
                        <a:pt x="475" y="106"/>
                      </a:lnTo>
                      <a:lnTo>
                        <a:pt x="478" y="109"/>
                      </a:lnTo>
                      <a:lnTo>
                        <a:pt x="482" y="113"/>
                      </a:lnTo>
                      <a:lnTo>
                        <a:pt x="485" y="115"/>
                      </a:lnTo>
                      <a:lnTo>
                        <a:pt x="372" y="36"/>
                      </a:lnTo>
                      <a:lnTo>
                        <a:pt x="369" y="35"/>
                      </a:lnTo>
                      <a:lnTo>
                        <a:pt x="366" y="32"/>
                      </a:lnTo>
                      <a:lnTo>
                        <a:pt x="363" y="29"/>
                      </a:lnTo>
                      <a:lnTo>
                        <a:pt x="360" y="26"/>
                      </a:lnTo>
                      <a:lnTo>
                        <a:pt x="355" y="24"/>
                      </a:lnTo>
                      <a:lnTo>
                        <a:pt x="352" y="21"/>
                      </a:lnTo>
                      <a:lnTo>
                        <a:pt x="348" y="18"/>
                      </a:lnTo>
                      <a:lnTo>
                        <a:pt x="345" y="15"/>
                      </a:lnTo>
                      <a:lnTo>
                        <a:pt x="342" y="11"/>
                      </a:lnTo>
                      <a:lnTo>
                        <a:pt x="337" y="10"/>
                      </a:lnTo>
                      <a:lnTo>
                        <a:pt x="334" y="7"/>
                      </a:lnTo>
                      <a:lnTo>
                        <a:pt x="331" y="6"/>
                      </a:lnTo>
                      <a:lnTo>
                        <a:pt x="326" y="4"/>
                      </a:lnTo>
                      <a:lnTo>
                        <a:pt x="323" y="7"/>
                      </a:lnTo>
                      <a:lnTo>
                        <a:pt x="328" y="11"/>
                      </a:lnTo>
                      <a:lnTo>
                        <a:pt x="332" y="14"/>
                      </a:lnTo>
                      <a:lnTo>
                        <a:pt x="339" y="18"/>
                      </a:lnTo>
                      <a:lnTo>
                        <a:pt x="345" y="24"/>
                      </a:lnTo>
                      <a:lnTo>
                        <a:pt x="351" y="26"/>
                      </a:lnTo>
                      <a:lnTo>
                        <a:pt x="355" y="30"/>
                      </a:lnTo>
                      <a:lnTo>
                        <a:pt x="361" y="35"/>
                      </a:lnTo>
                      <a:lnTo>
                        <a:pt x="365" y="39"/>
                      </a:lnTo>
                      <a:lnTo>
                        <a:pt x="369" y="43"/>
                      </a:lnTo>
                      <a:lnTo>
                        <a:pt x="374" y="47"/>
                      </a:lnTo>
                      <a:lnTo>
                        <a:pt x="378" y="51"/>
                      </a:lnTo>
                      <a:lnTo>
                        <a:pt x="384" y="55"/>
                      </a:lnTo>
                      <a:lnTo>
                        <a:pt x="389" y="59"/>
                      </a:lnTo>
                      <a:lnTo>
                        <a:pt x="395" y="63"/>
                      </a:lnTo>
                      <a:lnTo>
                        <a:pt x="400" y="67"/>
                      </a:lnTo>
                      <a:lnTo>
                        <a:pt x="406" y="72"/>
                      </a:lnTo>
                      <a:lnTo>
                        <a:pt x="410" y="74"/>
                      </a:lnTo>
                      <a:lnTo>
                        <a:pt x="415" y="80"/>
                      </a:lnTo>
                      <a:lnTo>
                        <a:pt x="421" y="83"/>
                      </a:lnTo>
                      <a:lnTo>
                        <a:pt x="426" y="87"/>
                      </a:lnTo>
                      <a:lnTo>
                        <a:pt x="430" y="91"/>
                      </a:lnTo>
                      <a:lnTo>
                        <a:pt x="436" y="95"/>
                      </a:lnTo>
                      <a:lnTo>
                        <a:pt x="439" y="99"/>
                      </a:lnTo>
                      <a:lnTo>
                        <a:pt x="446" y="105"/>
                      </a:lnTo>
                      <a:lnTo>
                        <a:pt x="449" y="107"/>
                      </a:lnTo>
                      <a:lnTo>
                        <a:pt x="453" y="113"/>
                      </a:lnTo>
                      <a:lnTo>
                        <a:pt x="458" y="118"/>
                      </a:lnTo>
                      <a:lnTo>
                        <a:pt x="461" y="120"/>
                      </a:lnTo>
                      <a:lnTo>
                        <a:pt x="458" y="120"/>
                      </a:lnTo>
                      <a:lnTo>
                        <a:pt x="455" y="118"/>
                      </a:lnTo>
                      <a:lnTo>
                        <a:pt x="452" y="117"/>
                      </a:lnTo>
                      <a:lnTo>
                        <a:pt x="447" y="114"/>
                      </a:lnTo>
                      <a:lnTo>
                        <a:pt x="444" y="113"/>
                      </a:lnTo>
                      <a:lnTo>
                        <a:pt x="441" y="110"/>
                      </a:lnTo>
                      <a:lnTo>
                        <a:pt x="438" y="109"/>
                      </a:lnTo>
                      <a:lnTo>
                        <a:pt x="433" y="106"/>
                      </a:lnTo>
                      <a:lnTo>
                        <a:pt x="429" y="102"/>
                      </a:lnTo>
                      <a:lnTo>
                        <a:pt x="426" y="99"/>
                      </a:lnTo>
                      <a:lnTo>
                        <a:pt x="423" y="98"/>
                      </a:lnTo>
                      <a:lnTo>
                        <a:pt x="418" y="95"/>
                      </a:lnTo>
                      <a:lnTo>
                        <a:pt x="415" y="92"/>
                      </a:lnTo>
                      <a:lnTo>
                        <a:pt x="410" y="88"/>
                      </a:lnTo>
                      <a:lnTo>
                        <a:pt x="407" y="84"/>
                      </a:lnTo>
                      <a:lnTo>
                        <a:pt x="403" y="81"/>
                      </a:lnTo>
                      <a:lnTo>
                        <a:pt x="398" y="77"/>
                      </a:lnTo>
                      <a:lnTo>
                        <a:pt x="394" y="73"/>
                      </a:lnTo>
                      <a:lnTo>
                        <a:pt x="391" y="70"/>
                      </a:lnTo>
                      <a:lnTo>
                        <a:pt x="384" y="66"/>
                      </a:lnTo>
                      <a:lnTo>
                        <a:pt x="381" y="63"/>
                      </a:lnTo>
                      <a:lnTo>
                        <a:pt x="377" y="59"/>
                      </a:lnTo>
                      <a:lnTo>
                        <a:pt x="372" y="55"/>
                      </a:lnTo>
                      <a:lnTo>
                        <a:pt x="368" y="51"/>
                      </a:lnTo>
                      <a:lnTo>
                        <a:pt x="363" y="48"/>
                      </a:lnTo>
                      <a:lnTo>
                        <a:pt x="358" y="44"/>
                      </a:lnTo>
                      <a:lnTo>
                        <a:pt x="355" y="41"/>
                      </a:lnTo>
                      <a:lnTo>
                        <a:pt x="351" y="39"/>
                      </a:lnTo>
                      <a:lnTo>
                        <a:pt x="348" y="36"/>
                      </a:lnTo>
                      <a:lnTo>
                        <a:pt x="343" y="33"/>
                      </a:lnTo>
                      <a:lnTo>
                        <a:pt x="340" y="32"/>
                      </a:lnTo>
                      <a:lnTo>
                        <a:pt x="337" y="29"/>
                      </a:lnTo>
                      <a:lnTo>
                        <a:pt x="335" y="29"/>
                      </a:lnTo>
                      <a:lnTo>
                        <a:pt x="331" y="26"/>
                      </a:lnTo>
                      <a:lnTo>
                        <a:pt x="329" y="26"/>
                      </a:lnTo>
                      <a:lnTo>
                        <a:pt x="331" y="29"/>
                      </a:lnTo>
                      <a:lnTo>
                        <a:pt x="332" y="32"/>
                      </a:lnTo>
                      <a:lnTo>
                        <a:pt x="334" y="36"/>
                      </a:lnTo>
                      <a:lnTo>
                        <a:pt x="337" y="39"/>
                      </a:lnTo>
                      <a:lnTo>
                        <a:pt x="372" y="66"/>
                      </a:lnTo>
                      <a:lnTo>
                        <a:pt x="374" y="74"/>
                      </a:lnTo>
                      <a:lnTo>
                        <a:pt x="378" y="78"/>
                      </a:lnTo>
                      <a:lnTo>
                        <a:pt x="383" y="83"/>
                      </a:lnTo>
                      <a:lnTo>
                        <a:pt x="387" y="85"/>
                      </a:lnTo>
                      <a:lnTo>
                        <a:pt x="392" y="89"/>
                      </a:lnTo>
                      <a:lnTo>
                        <a:pt x="397" y="92"/>
                      </a:lnTo>
                      <a:lnTo>
                        <a:pt x="401" y="95"/>
                      </a:lnTo>
                      <a:lnTo>
                        <a:pt x="406" y="99"/>
                      </a:lnTo>
                      <a:lnTo>
                        <a:pt x="410" y="102"/>
                      </a:lnTo>
                      <a:lnTo>
                        <a:pt x="415" y="105"/>
                      </a:lnTo>
                      <a:lnTo>
                        <a:pt x="420" y="109"/>
                      </a:lnTo>
                      <a:lnTo>
                        <a:pt x="424" y="111"/>
                      </a:lnTo>
                      <a:lnTo>
                        <a:pt x="429" y="115"/>
                      </a:lnTo>
                      <a:lnTo>
                        <a:pt x="433" y="118"/>
                      </a:lnTo>
                      <a:lnTo>
                        <a:pt x="438" y="122"/>
                      </a:lnTo>
                      <a:lnTo>
                        <a:pt x="443" y="126"/>
                      </a:lnTo>
                      <a:lnTo>
                        <a:pt x="447" y="132"/>
                      </a:lnTo>
                      <a:lnTo>
                        <a:pt x="444" y="132"/>
                      </a:lnTo>
                      <a:lnTo>
                        <a:pt x="439" y="132"/>
                      </a:lnTo>
                      <a:lnTo>
                        <a:pt x="436" y="132"/>
                      </a:lnTo>
                      <a:lnTo>
                        <a:pt x="432" y="132"/>
                      </a:lnTo>
                      <a:lnTo>
                        <a:pt x="429" y="132"/>
                      </a:lnTo>
                      <a:lnTo>
                        <a:pt x="426" y="132"/>
                      </a:lnTo>
                      <a:lnTo>
                        <a:pt x="421" y="132"/>
                      </a:lnTo>
                      <a:lnTo>
                        <a:pt x="418" y="132"/>
                      </a:lnTo>
                      <a:lnTo>
                        <a:pt x="415" y="132"/>
                      </a:lnTo>
                      <a:lnTo>
                        <a:pt x="410" y="132"/>
                      </a:lnTo>
                      <a:lnTo>
                        <a:pt x="407" y="132"/>
                      </a:lnTo>
                      <a:lnTo>
                        <a:pt x="403" y="132"/>
                      </a:lnTo>
                      <a:lnTo>
                        <a:pt x="400" y="132"/>
                      </a:lnTo>
                      <a:lnTo>
                        <a:pt x="395" y="132"/>
                      </a:lnTo>
                      <a:lnTo>
                        <a:pt x="392" y="132"/>
                      </a:lnTo>
                      <a:lnTo>
                        <a:pt x="389" y="132"/>
                      </a:lnTo>
                      <a:lnTo>
                        <a:pt x="384" y="132"/>
                      </a:lnTo>
                      <a:lnTo>
                        <a:pt x="381" y="132"/>
                      </a:lnTo>
                      <a:lnTo>
                        <a:pt x="378" y="132"/>
                      </a:lnTo>
                      <a:lnTo>
                        <a:pt x="374" y="132"/>
                      </a:lnTo>
                      <a:lnTo>
                        <a:pt x="371" y="132"/>
                      </a:lnTo>
                      <a:lnTo>
                        <a:pt x="366" y="132"/>
                      </a:lnTo>
                      <a:lnTo>
                        <a:pt x="363" y="132"/>
                      </a:lnTo>
                      <a:lnTo>
                        <a:pt x="360" y="132"/>
                      </a:lnTo>
                      <a:lnTo>
                        <a:pt x="355" y="132"/>
                      </a:lnTo>
                      <a:lnTo>
                        <a:pt x="352" y="132"/>
                      </a:lnTo>
                      <a:lnTo>
                        <a:pt x="348" y="132"/>
                      </a:lnTo>
                      <a:lnTo>
                        <a:pt x="345" y="132"/>
                      </a:lnTo>
                      <a:lnTo>
                        <a:pt x="340" y="132"/>
                      </a:lnTo>
                      <a:lnTo>
                        <a:pt x="337" y="132"/>
                      </a:lnTo>
                      <a:lnTo>
                        <a:pt x="332" y="132"/>
                      </a:lnTo>
                      <a:lnTo>
                        <a:pt x="329" y="132"/>
                      </a:lnTo>
                      <a:lnTo>
                        <a:pt x="326" y="132"/>
                      </a:lnTo>
                      <a:lnTo>
                        <a:pt x="323" y="132"/>
                      </a:lnTo>
                      <a:lnTo>
                        <a:pt x="319" y="132"/>
                      </a:lnTo>
                      <a:lnTo>
                        <a:pt x="316" y="132"/>
                      </a:lnTo>
                      <a:lnTo>
                        <a:pt x="311" y="132"/>
                      </a:lnTo>
                      <a:lnTo>
                        <a:pt x="308" y="132"/>
                      </a:lnTo>
                      <a:lnTo>
                        <a:pt x="303" y="132"/>
                      </a:lnTo>
                      <a:lnTo>
                        <a:pt x="300" y="132"/>
                      </a:lnTo>
                      <a:lnTo>
                        <a:pt x="296" y="132"/>
                      </a:lnTo>
                      <a:lnTo>
                        <a:pt x="293" y="132"/>
                      </a:lnTo>
                      <a:lnTo>
                        <a:pt x="288" y="132"/>
                      </a:lnTo>
                      <a:lnTo>
                        <a:pt x="285" y="132"/>
                      </a:lnTo>
                      <a:lnTo>
                        <a:pt x="282" y="132"/>
                      </a:lnTo>
                      <a:lnTo>
                        <a:pt x="279" y="132"/>
                      </a:lnTo>
                      <a:lnTo>
                        <a:pt x="274" y="132"/>
                      </a:lnTo>
                      <a:lnTo>
                        <a:pt x="271" y="133"/>
                      </a:lnTo>
                      <a:lnTo>
                        <a:pt x="268" y="133"/>
                      </a:lnTo>
                      <a:lnTo>
                        <a:pt x="265" y="133"/>
                      </a:lnTo>
                      <a:lnTo>
                        <a:pt x="260" y="133"/>
                      </a:lnTo>
                      <a:lnTo>
                        <a:pt x="257" y="133"/>
                      </a:lnTo>
                      <a:lnTo>
                        <a:pt x="254" y="133"/>
                      </a:lnTo>
                      <a:lnTo>
                        <a:pt x="251" y="133"/>
                      </a:lnTo>
                      <a:lnTo>
                        <a:pt x="247" y="133"/>
                      </a:lnTo>
                      <a:lnTo>
                        <a:pt x="244" y="135"/>
                      </a:lnTo>
                      <a:lnTo>
                        <a:pt x="238" y="135"/>
                      </a:lnTo>
                      <a:lnTo>
                        <a:pt x="230" y="135"/>
                      </a:lnTo>
                      <a:lnTo>
                        <a:pt x="224" y="135"/>
                      </a:lnTo>
                      <a:lnTo>
                        <a:pt x="218" y="136"/>
                      </a:lnTo>
                      <a:lnTo>
                        <a:pt x="198" y="1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56"/>
                <p:cNvSpPr/>
                <p:nvPr/>
              </p:nvSpPr>
              <p:spPr>
                <a:xfrm>
                  <a:off x="2979360" y="1872720"/>
                  <a:ext cx="36000" cy="396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5" h="12">
                      <a:moveTo>
                        <a:pt x="105" y="0"/>
                      </a:moveTo>
                      <a:lnTo>
                        <a:pt x="101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5" y="0"/>
                      </a:lnTo>
                      <a:lnTo>
                        <a:pt x="82" y="1"/>
                      </a:lnTo>
                      <a:lnTo>
                        <a:pt x="78" y="1"/>
                      </a:lnTo>
                      <a:lnTo>
                        <a:pt x="73" y="1"/>
                      </a:lnTo>
                      <a:lnTo>
                        <a:pt x="68" y="1"/>
                      </a:lnTo>
                      <a:lnTo>
                        <a:pt x="65" y="3"/>
                      </a:lnTo>
                      <a:lnTo>
                        <a:pt x="61" y="3"/>
                      </a:lnTo>
                      <a:lnTo>
                        <a:pt x="56" y="3"/>
                      </a:lnTo>
                      <a:lnTo>
                        <a:pt x="52" y="3"/>
                      </a:lnTo>
                      <a:lnTo>
                        <a:pt x="49" y="4"/>
                      </a:lnTo>
                      <a:lnTo>
                        <a:pt x="44" y="4"/>
                      </a:lnTo>
                      <a:lnTo>
                        <a:pt x="39" y="4"/>
                      </a:lnTo>
                      <a:lnTo>
                        <a:pt x="35" y="6"/>
                      </a:lnTo>
                      <a:lnTo>
                        <a:pt x="32" y="6"/>
                      </a:lnTo>
                      <a:lnTo>
                        <a:pt x="27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6" y="8"/>
                      </a:lnTo>
                      <a:lnTo>
                        <a:pt x="10" y="8"/>
                      </a:lnTo>
                      <a:lnTo>
                        <a:pt x="4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12" y="12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24" y="10"/>
                      </a:lnTo>
                      <a:lnTo>
                        <a:pt x="30" y="10"/>
                      </a:lnTo>
                      <a:lnTo>
                        <a:pt x="35" y="8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47" y="10"/>
                      </a:lnTo>
                      <a:lnTo>
                        <a:pt x="76" y="6"/>
                      </a:lnTo>
                      <a:lnTo>
                        <a:pt x="76" y="7"/>
                      </a:lnTo>
                      <a:lnTo>
                        <a:pt x="79" y="7"/>
                      </a:lnTo>
                      <a:lnTo>
                        <a:pt x="84" y="7"/>
                      </a:lnTo>
                      <a:lnTo>
                        <a:pt x="87" y="6"/>
                      </a:lnTo>
                      <a:lnTo>
                        <a:pt x="93" y="6"/>
                      </a:lnTo>
                      <a:lnTo>
                        <a:pt x="96" y="6"/>
                      </a:lnTo>
                      <a:lnTo>
                        <a:pt x="101" y="4"/>
                      </a:lnTo>
                      <a:lnTo>
                        <a:pt x="104" y="1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57"/>
                <p:cNvSpPr/>
                <p:nvPr/>
              </p:nvSpPr>
              <p:spPr>
                <a:xfrm>
                  <a:off x="3051720" y="1873440"/>
                  <a:ext cx="42840" cy="324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24" h="9">
                      <a:moveTo>
                        <a:pt x="124" y="4"/>
                      </a:moveTo>
                      <a:lnTo>
                        <a:pt x="120" y="4"/>
                      </a:lnTo>
                      <a:lnTo>
                        <a:pt x="116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4" y="4"/>
                      </a:lnTo>
                      <a:lnTo>
                        <a:pt x="100" y="5"/>
                      </a:lnTo>
                      <a:lnTo>
                        <a:pt x="95" y="5"/>
                      </a:lnTo>
                      <a:lnTo>
                        <a:pt x="92" y="7"/>
                      </a:lnTo>
                      <a:lnTo>
                        <a:pt x="87" y="7"/>
                      </a:lnTo>
                      <a:lnTo>
                        <a:pt x="83" y="7"/>
                      </a:lnTo>
                      <a:lnTo>
                        <a:pt x="77" y="7"/>
                      </a:lnTo>
                      <a:lnTo>
                        <a:pt x="74" y="8"/>
                      </a:lnTo>
                      <a:lnTo>
                        <a:pt x="68" y="8"/>
                      </a:lnTo>
                      <a:lnTo>
                        <a:pt x="63" y="8"/>
                      </a:lnTo>
                      <a:lnTo>
                        <a:pt x="58" y="9"/>
                      </a:lnTo>
                      <a:lnTo>
                        <a:pt x="54" y="9"/>
                      </a:lnTo>
                      <a:lnTo>
                        <a:pt x="49" y="9"/>
                      </a:lnTo>
                      <a:lnTo>
                        <a:pt x="45" y="9"/>
                      </a:lnTo>
                      <a:lnTo>
                        <a:pt x="40" y="9"/>
                      </a:lnTo>
                      <a:lnTo>
                        <a:pt x="35" y="9"/>
                      </a:lnTo>
                      <a:lnTo>
                        <a:pt x="32" y="9"/>
                      </a:lnTo>
                      <a:lnTo>
                        <a:pt x="28" y="9"/>
                      </a:lnTo>
                      <a:lnTo>
                        <a:pt x="25" y="9"/>
                      </a:lnTo>
                      <a:lnTo>
                        <a:pt x="20" y="9"/>
                      </a:lnTo>
                      <a:lnTo>
                        <a:pt x="17" y="9"/>
                      </a:lnTo>
                      <a:lnTo>
                        <a:pt x="14" y="9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3" y="7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4"/>
                      </a:lnTo>
                      <a:lnTo>
                        <a:pt x="17" y="4"/>
                      </a:lnTo>
                      <a:lnTo>
                        <a:pt x="20" y="4"/>
                      </a:lnTo>
                      <a:lnTo>
                        <a:pt x="25" y="4"/>
                      </a:lnTo>
                      <a:lnTo>
                        <a:pt x="29" y="4"/>
                      </a:lnTo>
                      <a:lnTo>
                        <a:pt x="32" y="4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5" y="3"/>
                      </a:lnTo>
                      <a:lnTo>
                        <a:pt x="49" y="3"/>
                      </a:lnTo>
                      <a:lnTo>
                        <a:pt x="52" y="1"/>
                      </a:lnTo>
                      <a:lnTo>
                        <a:pt x="57" y="1"/>
                      </a:lnTo>
                      <a:lnTo>
                        <a:pt x="60" y="1"/>
                      </a:lnTo>
                      <a:lnTo>
                        <a:pt x="64" y="1"/>
                      </a:lnTo>
                      <a:lnTo>
                        <a:pt x="69" y="1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98" y="0"/>
                      </a:lnTo>
                      <a:lnTo>
                        <a:pt x="101" y="0"/>
                      </a:lnTo>
                      <a:lnTo>
                        <a:pt x="106" y="0"/>
                      </a:lnTo>
                      <a:lnTo>
                        <a:pt x="109" y="1"/>
                      </a:lnTo>
                      <a:lnTo>
                        <a:pt x="113" y="1"/>
                      </a:lnTo>
                      <a:lnTo>
                        <a:pt x="116" y="3"/>
                      </a:lnTo>
                      <a:lnTo>
                        <a:pt x="121" y="3"/>
                      </a:lnTo>
                      <a:lnTo>
                        <a:pt x="12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58"/>
                <p:cNvSpPr/>
                <p:nvPr/>
              </p:nvSpPr>
              <p:spPr>
                <a:xfrm>
                  <a:off x="2817360" y="2122920"/>
                  <a:ext cx="439920" cy="79560"/>
                </a:xfrm>
                <a:custGeom>
                  <a:avLst/>
                  <a:gdLst>
                    <a:gd name="textAreaLeft" fmla="*/ 0 w 439920"/>
                    <a:gd name="textAreaRight" fmla="*/ 440280 w 439920"/>
                    <a:gd name="textAreaTop" fmla="*/ 0 h 79560"/>
                    <a:gd name="textAreaBottom" fmla="*/ 79560 h 79560"/>
                  </a:gdLst>
                  <a:ahLst/>
                  <a:rect l="textAreaLeft" t="textAreaTop" r="textAreaRight" b="textAreaBottom"/>
                  <a:pathLst>
                    <a:path w="1270" h="21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2" y="28"/>
                      </a:lnTo>
                      <a:lnTo>
                        <a:pt x="3" y="34"/>
                      </a:lnTo>
                      <a:lnTo>
                        <a:pt x="3" y="37"/>
                      </a:lnTo>
                      <a:lnTo>
                        <a:pt x="3" y="40"/>
                      </a:lnTo>
                      <a:lnTo>
                        <a:pt x="3" y="43"/>
                      </a:lnTo>
                      <a:lnTo>
                        <a:pt x="3" y="47"/>
                      </a:lnTo>
                      <a:lnTo>
                        <a:pt x="3" y="52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5"/>
                      </a:lnTo>
                      <a:lnTo>
                        <a:pt x="5" y="67"/>
                      </a:lnTo>
                      <a:lnTo>
                        <a:pt x="6" y="71"/>
                      </a:lnTo>
                      <a:lnTo>
                        <a:pt x="6" y="74"/>
                      </a:lnTo>
                      <a:lnTo>
                        <a:pt x="6" y="77"/>
                      </a:lnTo>
                      <a:lnTo>
                        <a:pt x="6" y="80"/>
                      </a:lnTo>
                      <a:lnTo>
                        <a:pt x="6" y="84"/>
                      </a:lnTo>
                      <a:lnTo>
                        <a:pt x="6" y="87"/>
                      </a:lnTo>
                      <a:lnTo>
                        <a:pt x="6" y="89"/>
                      </a:lnTo>
                      <a:lnTo>
                        <a:pt x="8" y="93"/>
                      </a:lnTo>
                      <a:lnTo>
                        <a:pt x="8" y="96"/>
                      </a:lnTo>
                      <a:lnTo>
                        <a:pt x="8" y="99"/>
                      </a:lnTo>
                      <a:lnTo>
                        <a:pt x="8" y="103"/>
                      </a:lnTo>
                      <a:lnTo>
                        <a:pt x="9" y="106"/>
                      </a:lnTo>
                      <a:lnTo>
                        <a:pt x="9" y="109"/>
                      </a:lnTo>
                      <a:lnTo>
                        <a:pt x="9" y="111"/>
                      </a:lnTo>
                      <a:lnTo>
                        <a:pt x="9" y="115"/>
                      </a:lnTo>
                      <a:lnTo>
                        <a:pt x="11" y="118"/>
                      </a:lnTo>
                      <a:lnTo>
                        <a:pt x="11" y="121"/>
                      </a:lnTo>
                      <a:lnTo>
                        <a:pt x="11" y="124"/>
                      </a:lnTo>
                      <a:lnTo>
                        <a:pt x="11" y="128"/>
                      </a:lnTo>
                      <a:lnTo>
                        <a:pt x="12" y="130"/>
                      </a:lnTo>
                      <a:lnTo>
                        <a:pt x="12" y="133"/>
                      </a:lnTo>
                      <a:lnTo>
                        <a:pt x="12" y="136"/>
                      </a:lnTo>
                      <a:lnTo>
                        <a:pt x="14" y="140"/>
                      </a:lnTo>
                      <a:lnTo>
                        <a:pt x="14" y="143"/>
                      </a:lnTo>
                      <a:lnTo>
                        <a:pt x="14" y="147"/>
                      </a:lnTo>
                      <a:lnTo>
                        <a:pt x="14" y="152"/>
                      </a:lnTo>
                      <a:lnTo>
                        <a:pt x="16" y="158"/>
                      </a:lnTo>
                      <a:lnTo>
                        <a:pt x="16" y="161"/>
                      </a:lnTo>
                      <a:lnTo>
                        <a:pt x="17" y="165"/>
                      </a:lnTo>
                      <a:lnTo>
                        <a:pt x="17" y="168"/>
                      </a:lnTo>
                      <a:lnTo>
                        <a:pt x="17" y="170"/>
                      </a:lnTo>
                      <a:lnTo>
                        <a:pt x="19" y="176"/>
                      </a:lnTo>
                      <a:lnTo>
                        <a:pt x="20" y="183"/>
                      </a:lnTo>
                      <a:lnTo>
                        <a:pt x="20" y="185"/>
                      </a:lnTo>
                      <a:lnTo>
                        <a:pt x="20" y="188"/>
                      </a:lnTo>
                      <a:lnTo>
                        <a:pt x="22" y="191"/>
                      </a:lnTo>
                      <a:lnTo>
                        <a:pt x="23" y="195"/>
                      </a:lnTo>
                      <a:lnTo>
                        <a:pt x="25" y="191"/>
                      </a:lnTo>
                      <a:lnTo>
                        <a:pt x="25" y="185"/>
                      </a:lnTo>
                      <a:lnTo>
                        <a:pt x="23" y="179"/>
                      </a:lnTo>
                      <a:lnTo>
                        <a:pt x="23" y="173"/>
                      </a:lnTo>
                      <a:lnTo>
                        <a:pt x="22" y="169"/>
                      </a:lnTo>
                      <a:lnTo>
                        <a:pt x="22" y="163"/>
                      </a:lnTo>
                      <a:lnTo>
                        <a:pt x="20" y="158"/>
                      </a:lnTo>
                      <a:lnTo>
                        <a:pt x="20" y="152"/>
                      </a:lnTo>
                      <a:lnTo>
                        <a:pt x="20" y="148"/>
                      </a:lnTo>
                      <a:lnTo>
                        <a:pt x="20" y="141"/>
                      </a:lnTo>
                      <a:lnTo>
                        <a:pt x="20" y="137"/>
                      </a:lnTo>
                      <a:lnTo>
                        <a:pt x="19" y="132"/>
                      </a:lnTo>
                      <a:lnTo>
                        <a:pt x="19" y="126"/>
                      </a:lnTo>
                      <a:lnTo>
                        <a:pt x="19" y="121"/>
                      </a:lnTo>
                      <a:lnTo>
                        <a:pt x="19" y="117"/>
                      </a:lnTo>
                      <a:lnTo>
                        <a:pt x="19" y="111"/>
                      </a:lnTo>
                      <a:lnTo>
                        <a:pt x="19" y="106"/>
                      </a:lnTo>
                      <a:lnTo>
                        <a:pt x="17" y="100"/>
                      </a:lnTo>
                      <a:lnTo>
                        <a:pt x="17" y="95"/>
                      </a:lnTo>
                      <a:lnTo>
                        <a:pt x="17" y="89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7" y="74"/>
                      </a:lnTo>
                      <a:lnTo>
                        <a:pt x="17" y="69"/>
                      </a:lnTo>
                      <a:lnTo>
                        <a:pt x="17" y="63"/>
                      </a:lnTo>
                      <a:lnTo>
                        <a:pt x="16" y="58"/>
                      </a:lnTo>
                      <a:lnTo>
                        <a:pt x="16" y="54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6" y="37"/>
                      </a:lnTo>
                      <a:lnTo>
                        <a:pt x="16" y="33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7" y="21"/>
                      </a:lnTo>
                      <a:lnTo>
                        <a:pt x="20" y="21"/>
                      </a:lnTo>
                      <a:lnTo>
                        <a:pt x="25" y="21"/>
                      </a:lnTo>
                      <a:lnTo>
                        <a:pt x="31" y="21"/>
                      </a:lnTo>
                      <a:lnTo>
                        <a:pt x="35" y="21"/>
                      </a:lnTo>
                      <a:lnTo>
                        <a:pt x="40" y="21"/>
                      </a:lnTo>
                      <a:lnTo>
                        <a:pt x="43" y="21"/>
                      </a:lnTo>
                      <a:lnTo>
                        <a:pt x="45" y="22"/>
                      </a:lnTo>
                      <a:lnTo>
                        <a:pt x="46" y="21"/>
                      </a:lnTo>
                      <a:lnTo>
                        <a:pt x="49" y="21"/>
                      </a:lnTo>
                      <a:lnTo>
                        <a:pt x="51" y="21"/>
                      </a:lnTo>
                      <a:lnTo>
                        <a:pt x="55" y="21"/>
                      </a:lnTo>
                      <a:lnTo>
                        <a:pt x="58" y="19"/>
                      </a:lnTo>
                      <a:lnTo>
                        <a:pt x="63" y="19"/>
                      </a:lnTo>
                      <a:lnTo>
                        <a:pt x="66" y="19"/>
                      </a:lnTo>
                      <a:lnTo>
                        <a:pt x="71" y="19"/>
                      </a:lnTo>
                      <a:lnTo>
                        <a:pt x="75" y="19"/>
                      </a:lnTo>
                      <a:lnTo>
                        <a:pt x="78" y="19"/>
                      </a:lnTo>
                      <a:lnTo>
                        <a:pt x="81" y="19"/>
                      </a:lnTo>
                      <a:lnTo>
                        <a:pt x="86" y="21"/>
                      </a:lnTo>
                      <a:lnTo>
                        <a:pt x="89" y="23"/>
                      </a:lnTo>
                      <a:lnTo>
                        <a:pt x="90" y="28"/>
                      </a:lnTo>
                      <a:lnTo>
                        <a:pt x="86" y="28"/>
                      </a:lnTo>
                      <a:lnTo>
                        <a:pt x="80" y="29"/>
                      </a:lnTo>
                      <a:lnTo>
                        <a:pt x="75" y="29"/>
                      </a:lnTo>
                      <a:lnTo>
                        <a:pt x="71" y="29"/>
                      </a:lnTo>
                      <a:lnTo>
                        <a:pt x="66" y="29"/>
                      </a:lnTo>
                      <a:lnTo>
                        <a:pt x="63" y="29"/>
                      </a:lnTo>
                      <a:lnTo>
                        <a:pt x="58" y="29"/>
                      </a:lnTo>
                      <a:lnTo>
                        <a:pt x="55" y="29"/>
                      </a:lnTo>
                      <a:lnTo>
                        <a:pt x="51" y="29"/>
                      </a:lnTo>
                      <a:lnTo>
                        <a:pt x="46" y="29"/>
                      </a:lnTo>
                      <a:lnTo>
                        <a:pt x="42" y="29"/>
                      </a:lnTo>
                      <a:lnTo>
                        <a:pt x="38" y="29"/>
                      </a:lnTo>
                      <a:lnTo>
                        <a:pt x="34" y="29"/>
                      </a:lnTo>
                      <a:lnTo>
                        <a:pt x="28" y="29"/>
                      </a:lnTo>
                      <a:lnTo>
                        <a:pt x="23" y="30"/>
                      </a:lnTo>
                      <a:lnTo>
                        <a:pt x="17" y="32"/>
                      </a:lnTo>
                      <a:lnTo>
                        <a:pt x="17" y="37"/>
                      </a:lnTo>
                      <a:lnTo>
                        <a:pt x="19" y="43"/>
                      </a:lnTo>
                      <a:lnTo>
                        <a:pt x="19" y="48"/>
                      </a:lnTo>
                      <a:lnTo>
                        <a:pt x="20" y="55"/>
                      </a:lnTo>
                      <a:lnTo>
                        <a:pt x="20" y="60"/>
                      </a:lnTo>
                      <a:lnTo>
                        <a:pt x="20" y="65"/>
                      </a:lnTo>
                      <a:lnTo>
                        <a:pt x="20" y="70"/>
                      </a:lnTo>
                      <a:lnTo>
                        <a:pt x="22" y="76"/>
                      </a:lnTo>
                      <a:lnTo>
                        <a:pt x="22" y="80"/>
                      </a:lnTo>
                      <a:lnTo>
                        <a:pt x="22" y="85"/>
                      </a:lnTo>
                      <a:lnTo>
                        <a:pt x="23" y="89"/>
                      </a:lnTo>
                      <a:lnTo>
                        <a:pt x="23" y="95"/>
                      </a:lnTo>
                      <a:lnTo>
                        <a:pt x="25" y="98"/>
                      </a:lnTo>
                      <a:lnTo>
                        <a:pt x="25" y="103"/>
                      </a:lnTo>
                      <a:lnTo>
                        <a:pt x="25" y="107"/>
                      </a:lnTo>
                      <a:lnTo>
                        <a:pt x="26" y="111"/>
                      </a:lnTo>
                      <a:lnTo>
                        <a:pt x="26" y="115"/>
                      </a:lnTo>
                      <a:lnTo>
                        <a:pt x="28" y="120"/>
                      </a:lnTo>
                      <a:lnTo>
                        <a:pt x="28" y="124"/>
                      </a:lnTo>
                      <a:lnTo>
                        <a:pt x="29" y="128"/>
                      </a:lnTo>
                      <a:lnTo>
                        <a:pt x="29" y="132"/>
                      </a:lnTo>
                      <a:lnTo>
                        <a:pt x="31" y="137"/>
                      </a:lnTo>
                      <a:lnTo>
                        <a:pt x="31" y="141"/>
                      </a:lnTo>
                      <a:lnTo>
                        <a:pt x="32" y="147"/>
                      </a:lnTo>
                      <a:lnTo>
                        <a:pt x="34" y="151"/>
                      </a:lnTo>
                      <a:lnTo>
                        <a:pt x="35" y="155"/>
                      </a:lnTo>
                      <a:lnTo>
                        <a:pt x="35" y="161"/>
                      </a:lnTo>
                      <a:lnTo>
                        <a:pt x="37" y="166"/>
                      </a:lnTo>
                      <a:lnTo>
                        <a:pt x="38" y="172"/>
                      </a:lnTo>
                      <a:lnTo>
                        <a:pt x="40" y="177"/>
                      </a:lnTo>
                      <a:lnTo>
                        <a:pt x="40" y="180"/>
                      </a:lnTo>
                      <a:lnTo>
                        <a:pt x="42" y="184"/>
                      </a:lnTo>
                      <a:lnTo>
                        <a:pt x="42" y="187"/>
                      </a:lnTo>
                      <a:lnTo>
                        <a:pt x="43" y="191"/>
                      </a:lnTo>
                      <a:lnTo>
                        <a:pt x="46" y="188"/>
                      </a:lnTo>
                      <a:lnTo>
                        <a:pt x="51" y="185"/>
                      </a:lnTo>
                      <a:lnTo>
                        <a:pt x="49" y="180"/>
                      </a:lnTo>
                      <a:lnTo>
                        <a:pt x="49" y="174"/>
                      </a:lnTo>
                      <a:lnTo>
                        <a:pt x="49" y="169"/>
                      </a:lnTo>
                      <a:lnTo>
                        <a:pt x="49" y="165"/>
                      </a:lnTo>
                      <a:lnTo>
                        <a:pt x="48" y="159"/>
                      </a:lnTo>
                      <a:lnTo>
                        <a:pt x="48" y="155"/>
                      </a:lnTo>
                      <a:lnTo>
                        <a:pt x="48" y="151"/>
                      </a:lnTo>
                      <a:lnTo>
                        <a:pt x="48" y="147"/>
                      </a:lnTo>
                      <a:lnTo>
                        <a:pt x="48" y="143"/>
                      </a:lnTo>
                      <a:lnTo>
                        <a:pt x="48" y="139"/>
                      </a:lnTo>
                      <a:lnTo>
                        <a:pt x="48" y="136"/>
                      </a:lnTo>
                      <a:lnTo>
                        <a:pt x="48" y="132"/>
                      </a:lnTo>
                      <a:lnTo>
                        <a:pt x="48" y="129"/>
                      </a:lnTo>
                      <a:lnTo>
                        <a:pt x="48" y="126"/>
                      </a:lnTo>
                      <a:lnTo>
                        <a:pt x="48" y="122"/>
                      </a:lnTo>
                      <a:lnTo>
                        <a:pt x="48" y="120"/>
                      </a:lnTo>
                      <a:lnTo>
                        <a:pt x="46" y="115"/>
                      </a:lnTo>
                      <a:lnTo>
                        <a:pt x="46" y="111"/>
                      </a:lnTo>
                      <a:lnTo>
                        <a:pt x="46" y="107"/>
                      </a:lnTo>
                      <a:lnTo>
                        <a:pt x="46" y="104"/>
                      </a:lnTo>
                      <a:lnTo>
                        <a:pt x="45" y="100"/>
                      </a:lnTo>
                      <a:lnTo>
                        <a:pt x="45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45" y="85"/>
                      </a:lnTo>
                      <a:lnTo>
                        <a:pt x="45" y="81"/>
                      </a:lnTo>
                      <a:lnTo>
                        <a:pt x="43" y="76"/>
                      </a:lnTo>
                      <a:lnTo>
                        <a:pt x="43" y="73"/>
                      </a:lnTo>
                      <a:lnTo>
                        <a:pt x="42" y="67"/>
                      </a:lnTo>
                      <a:lnTo>
                        <a:pt x="42" y="62"/>
                      </a:lnTo>
                      <a:lnTo>
                        <a:pt x="42" y="58"/>
                      </a:lnTo>
                      <a:lnTo>
                        <a:pt x="40" y="52"/>
                      </a:lnTo>
                      <a:lnTo>
                        <a:pt x="45" y="50"/>
                      </a:lnTo>
                      <a:lnTo>
                        <a:pt x="49" y="48"/>
                      </a:lnTo>
                      <a:lnTo>
                        <a:pt x="54" y="47"/>
                      </a:lnTo>
                      <a:lnTo>
                        <a:pt x="60" y="47"/>
                      </a:lnTo>
                      <a:lnTo>
                        <a:pt x="64" y="45"/>
                      </a:lnTo>
                      <a:lnTo>
                        <a:pt x="69" y="45"/>
                      </a:lnTo>
                      <a:lnTo>
                        <a:pt x="75" y="45"/>
                      </a:lnTo>
                      <a:lnTo>
                        <a:pt x="81" y="47"/>
                      </a:lnTo>
                      <a:lnTo>
                        <a:pt x="61" y="59"/>
                      </a:lnTo>
                      <a:lnTo>
                        <a:pt x="58" y="56"/>
                      </a:lnTo>
                      <a:lnTo>
                        <a:pt x="48" y="59"/>
                      </a:lnTo>
                      <a:lnTo>
                        <a:pt x="48" y="63"/>
                      </a:lnTo>
                      <a:lnTo>
                        <a:pt x="49" y="69"/>
                      </a:lnTo>
                      <a:lnTo>
                        <a:pt x="49" y="73"/>
                      </a:lnTo>
                      <a:lnTo>
                        <a:pt x="49" y="78"/>
                      </a:lnTo>
                      <a:lnTo>
                        <a:pt x="49" y="82"/>
                      </a:lnTo>
                      <a:lnTo>
                        <a:pt x="51" y="88"/>
                      </a:lnTo>
                      <a:lnTo>
                        <a:pt x="51" y="93"/>
                      </a:lnTo>
                      <a:lnTo>
                        <a:pt x="52" y="98"/>
                      </a:lnTo>
                      <a:lnTo>
                        <a:pt x="52" y="103"/>
                      </a:lnTo>
                      <a:lnTo>
                        <a:pt x="54" y="107"/>
                      </a:lnTo>
                      <a:lnTo>
                        <a:pt x="54" y="113"/>
                      </a:lnTo>
                      <a:lnTo>
                        <a:pt x="55" y="118"/>
                      </a:lnTo>
                      <a:lnTo>
                        <a:pt x="55" y="122"/>
                      </a:lnTo>
                      <a:lnTo>
                        <a:pt x="57" y="128"/>
                      </a:lnTo>
                      <a:lnTo>
                        <a:pt x="57" y="132"/>
                      </a:lnTo>
                      <a:lnTo>
                        <a:pt x="58" y="137"/>
                      </a:lnTo>
                      <a:lnTo>
                        <a:pt x="58" y="141"/>
                      </a:lnTo>
                      <a:lnTo>
                        <a:pt x="60" y="147"/>
                      </a:lnTo>
                      <a:lnTo>
                        <a:pt x="60" y="151"/>
                      </a:lnTo>
                      <a:lnTo>
                        <a:pt x="61" y="157"/>
                      </a:lnTo>
                      <a:lnTo>
                        <a:pt x="61" y="161"/>
                      </a:lnTo>
                      <a:lnTo>
                        <a:pt x="63" y="166"/>
                      </a:lnTo>
                      <a:lnTo>
                        <a:pt x="63" y="170"/>
                      </a:lnTo>
                      <a:lnTo>
                        <a:pt x="64" y="176"/>
                      </a:lnTo>
                      <a:lnTo>
                        <a:pt x="64" y="180"/>
                      </a:lnTo>
                      <a:lnTo>
                        <a:pt x="66" y="185"/>
                      </a:lnTo>
                      <a:lnTo>
                        <a:pt x="66" y="190"/>
                      </a:lnTo>
                      <a:lnTo>
                        <a:pt x="68" y="195"/>
                      </a:lnTo>
                      <a:lnTo>
                        <a:pt x="68" y="201"/>
                      </a:lnTo>
                      <a:lnTo>
                        <a:pt x="69" y="205"/>
                      </a:lnTo>
                      <a:lnTo>
                        <a:pt x="69" y="210"/>
                      </a:lnTo>
                      <a:lnTo>
                        <a:pt x="71" y="216"/>
                      </a:lnTo>
                      <a:lnTo>
                        <a:pt x="83" y="213"/>
                      </a:lnTo>
                      <a:lnTo>
                        <a:pt x="83" y="209"/>
                      </a:lnTo>
                      <a:lnTo>
                        <a:pt x="83" y="205"/>
                      </a:lnTo>
                      <a:lnTo>
                        <a:pt x="83" y="201"/>
                      </a:lnTo>
                      <a:lnTo>
                        <a:pt x="83" y="196"/>
                      </a:lnTo>
                      <a:lnTo>
                        <a:pt x="83" y="192"/>
                      </a:lnTo>
                      <a:lnTo>
                        <a:pt x="83" y="188"/>
                      </a:lnTo>
                      <a:lnTo>
                        <a:pt x="83" y="185"/>
                      </a:lnTo>
                      <a:lnTo>
                        <a:pt x="83" y="181"/>
                      </a:lnTo>
                      <a:lnTo>
                        <a:pt x="83" y="176"/>
                      </a:lnTo>
                      <a:lnTo>
                        <a:pt x="83" y="173"/>
                      </a:lnTo>
                      <a:lnTo>
                        <a:pt x="83" y="169"/>
                      </a:lnTo>
                      <a:lnTo>
                        <a:pt x="83" y="165"/>
                      </a:lnTo>
                      <a:lnTo>
                        <a:pt x="81" y="161"/>
                      </a:lnTo>
                      <a:lnTo>
                        <a:pt x="81" y="157"/>
                      </a:lnTo>
                      <a:lnTo>
                        <a:pt x="81" y="152"/>
                      </a:lnTo>
                      <a:lnTo>
                        <a:pt x="81" y="150"/>
                      </a:lnTo>
                      <a:lnTo>
                        <a:pt x="81" y="139"/>
                      </a:lnTo>
                      <a:lnTo>
                        <a:pt x="81" y="135"/>
                      </a:lnTo>
                      <a:lnTo>
                        <a:pt x="83" y="136"/>
                      </a:lnTo>
                      <a:lnTo>
                        <a:pt x="83" y="137"/>
                      </a:lnTo>
                      <a:lnTo>
                        <a:pt x="84" y="140"/>
                      </a:lnTo>
                      <a:lnTo>
                        <a:pt x="86" y="143"/>
                      </a:lnTo>
                      <a:lnTo>
                        <a:pt x="87" y="147"/>
                      </a:lnTo>
                      <a:lnTo>
                        <a:pt x="89" y="151"/>
                      </a:lnTo>
                      <a:lnTo>
                        <a:pt x="89" y="154"/>
                      </a:lnTo>
                      <a:lnTo>
                        <a:pt x="90" y="158"/>
                      </a:lnTo>
                      <a:lnTo>
                        <a:pt x="92" y="163"/>
                      </a:lnTo>
                      <a:lnTo>
                        <a:pt x="94" y="166"/>
                      </a:lnTo>
                      <a:lnTo>
                        <a:pt x="94" y="170"/>
                      </a:lnTo>
                      <a:lnTo>
                        <a:pt x="95" y="173"/>
                      </a:lnTo>
                      <a:lnTo>
                        <a:pt x="97" y="177"/>
                      </a:lnTo>
                      <a:lnTo>
                        <a:pt x="103" y="177"/>
                      </a:lnTo>
                      <a:lnTo>
                        <a:pt x="94" y="102"/>
                      </a:lnTo>
                      <a:lnTo>
                        <a:pt x="100" y="100"/>
                      </a:lnTo>
                      <a:lnTo>
                        <a:pt x="106" y="98"/>
                      </a:lnTo>
                      <a:lnTo>
                        <a:pt x="112" y="96"/>
                      </a:lnTo>
                      <a:lnTo>
                        <a:pt x="120" y="95"/>
                      </a:lnTo>
                      <a:lnTo>
                        <a:pt x="123" y="95"/>
                      </a:lnTo>
                      <a:lnTo>
                        <a:pt x="126" y="93"/>
                      </a:lnTo>
                      <a:lnTo>
                        <a:pt x="130" y="92"/>
                      </a:lnTo>
                      <a:lnTo>
                        <a:pt x="133" y="92"/>
                      </a:lnTo>
                      <a:lnTo>
                        <a:pt x="138" y="91"/>
                      </a:lnTo>
                      <a:lnTo>
                        <a:pt x="141" y="91"/>
                      </a:lnTo>
                      <a:lnTo>
                        <a:pt x="144" y="89"/>
                      </a:lnTo>
                      <a:lnTo>
                        <a:pt x="149" y="88"/>
                      </a:lnTo>
                      <a:lnTo>
                        <a:pt x="152" y="88"/>
                      </a:lnTo>
                      <a:lnTo>
                        <a:pt x="156" y="87"/>
                      </a:lnTo>
                      <a:lnTo>
                        <a:pt x="159" y="85"/>
                      </a:lnTo>
                      <a:lnTo>
                        <a:pt x="164" y="85"/>
                      </a:lnTo>
                      <a:lnTo>
                        <a:pt x="167" y="84"/>
                      </a:lnTo>
                      <a:lnTo>
                        <a:pt x="172" y="84"/>
                      </a:lnTo>
                      <a:lnTo>
                        <a:pt x="175" y="82"/>
                      </a:lnTo>
                      <a:lnTo>
                        <a:pt x="179" y="82"/>
                      </a:lnTo>
                      <a:lnTo>
                        <a:pt x="182" y="81"/>
                      </a:lnTo>
                      <a:lnTo>
                        <a:pt x="187" y="80"/>
                      </a:lnTo>
                      <a:lnTo>
                        <a:pt x="190" y="80"/>
                      </a:lnTo>
                      <a:lnTo>
                        <a:pt x="194" y="78"/>
                      </a:lnTo>
                      <a:lnTo>
                        <a:pt x="198" y="77"/>
                      </a:lnTo>
                      <a:lnTo>
                        <a:pt x="202" y="77"/>
                      </a:lnTo>
                      <a:lnTo>
                        <a:pt x="207" y="76"/>
                      </a:lnTo>
                      <a:lnTo>
                        <a:pt x="210" y="76"/>
                      </a:lnTo>
                      <a:lnTo>
                        <a:pt x="214" y="76"/>
                      </a:lnTo>
                      <a:lnTo>
                        <a:pt x="217" y="74"/>
                      </a:lnTo>
                      <a:lnTo>
                        <a:pt x="222" y="73"/>
                      </a:lnTo>
                      <a:lnTo>
                        <a:pt x="225" y="73"/>
                      </a:lnTo>
                      <a:lnTo>
                        <a:pt x="230" y="73"/>
                      </a:lnTo>
                      <a:lnTo>
                        <a:pt x="233" y="71"/>
                      </a:lnTo>
                      <a:lnTo>
                        <a:pt x="237" y="71"/>
                      </a:lnTo>
                      <a:lnTo>
                        <a:pt x="240" y="71"/>
                      </a:lnTo>
                      <a:lnTo>
                        <a:pt x="243" y="70"/>
                      </a:lnTo>
                      <a:lnTo>
                        <a:pt x="246" y="70"/>
                      </a:lnTo>
                      <a:lnTo>
                        <a:pt x="251" y="70"/>
                      </a:lnTo>
                      <a:lnTo>
                        <a:pt x="254" y="70"/>
                      </a:lnTo>
                      <a:lnTo>
                        <a:pt x="259" y="69"/>
                      </a:lnTo>
                      <a:lnTo>
                        <a:pt x="262" y="69"/>
                      </a:lnTo>
                      <a:lnTo>
                        <a:pt x="266" y="69"/>
                      </a:lnTo>
                      <a:lnTo>
                        <a:pt x="269" y="69"/>
                      </a:lnTo>
                      <a:lnTo>
                        <a:pt x="276" y="69"/>
                      </a:lnTo>
                      <a:lnTo>
                        <a:pt x="282" y="69"/>
                      </a:lnTo>
                      <a:lnTo>
                        <a:pt x="289" y="69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8" y="71"/>
                      </a:lnTo>
                      <a:lnTo>
                        <a:pt x="312" y="73"/>
                      </a:lnTo>
                      <a:lnTo>
                        <a:pt x="318" y="74"/>
                      </a:lnTo>
                      <a:lnTo>
                        <a:pt x="312" y="76"/>
                      </a:lnTo>
                      <a:lnTo>
                        <a:pt x="306" y="76"/>
                      </a:lnTo>
                      <a:lnTo>
                        <a:pt x="300" y="76"/>
                      </a:lnTo>
                      <a:lnTo>
                        <a:pt x="294" y="77"/>
                      </a:lnTo>
                      <a:lnTo>
                        <a:pt x="288" y="78"/>
                      </a:lnTo>
                      <a:lnTo>
                        <a:pt x="282" y="80"/>
                      </a:lnTo>
                      <a:lnTo>
                        <a:pt x="276" y="80"/>
                      </a:lnTo>
                      <a:lnTo>
                        <a:pt x="269" y="81"/>
                      </a:lnTo>
                      <a:lnTo>
                        <a:pt x="265" y="81"/>
                      </a:lnTo>
                      <a:lnTo>
                        <a:pt x="262" y="81"/>
                      </a:lnTo>
                      <a:lnTo>
                        <a:pt x="259" y="81"/>
                      </a:lnTo>
                      <a:lnTo>
                        <a:pt x="256" y="82"/>
                      </a:lnTo>
                      <a:lnTo>
                        <a:pt x="248" y="82"/>
                      </a:lnTo>
                      <a:lnTo>
                        <a:pt x="242" y="84"/>
                      </a:lnTo>
                      <a:lnTo>
                        <a:pt x="239" y="84"/>
                      </a:lnTo>
                      <a:lnTo>
                        <a:pt x="234" y="84"/>
                      </a:lnTo>
                      <a:lnTo>
                        <a:pt x="231" y="84"/>
                      </a:lnTo>
                      <a:lnTo>
                        <a:pt x="228" y="85"/>
                      </a:lnTo>
                      <a:lnTo>
                        <a:pt x="225" y="85"/>
                      </a:lnTo>
                      <a:lnTo>
                        <a:pt x="220" y="85"/>
                      </a:lnTo>
                      <a:lnTo>
                        <a:pt x="217" y="85"/>
                      </a:lnTo>
                      <a:lnTo>
                        <a:pt x="214" y="85"/>
                      </a:lnTo>
                      <a:lnTo>
                        <a:pt x="211" y="85"/>
                      </a:lnTo>
                      <a:lnTo>
                        <a:pt x="207" y="87"/>
                      </a:lnTo>
                      <a:lnTo>
                        <a:pt x="204" y="87"/>
                      </a:lnTo>
                      <a:lnTo>
                        <a:pt x="201" y="88"/>
                      </a:lnTo>
                      <a:lnTo>
                        <a:pt x="198" y="88"/>
                      </a:lnTo>
                      <a:lnTo>
                        <a:pt x="193" y="88"/>
                      </a:lnTo>
                      <a:lnTo>
                        <a:pt x="190" y="89"/>
                      </a:lnTo>
                      <a:lnTo>
                        <a:pt x="187" y="91"/>
                      </a:lnTo>
                      <a:lnTo>
                        <a:pt x="181" y="92"/>
                      </a:lnTo>
                      <a:lnTo>
                        <a:pt x="175" y="93"/>
                      </a:lnTo>
                      <a:lnTo>
                        <a:pt x="167" y="95"/>
                      </a:lnTo>
                      <a:lnTo>
                        <a:pt x="161" y="98"/>
                      </a:lnTo>
                      <a:lnTo>
                        <a:pt x="158" y="98"/>
                      </a:lnTo>
                      <a:lnTo>
                        <a:pt x="153" y="99"/>
                      </a:lnTo>
                      <a:lnTo>
                        <a:pt x="150" y="100"/>
                      </a:lnTo>
                      <a:lnTo>
                        <a:pt x="147" y="102"/>
                      </a:lnTo>
                      <a:lnTo>
                        <a:pt x="141" y="103"/>
                      </a:lnTo>
                      <a:lnTo>
                        <a:pt x="135" y="106"/>
                      </a:lnTo>
                      <a:lnTo>
                        <a:pt x="127" y="109"/>
                      </a:lnTo>
                      <a:lnTo>
                        <a:pt x="123" y="111"/>
                      </a:lnTo>
                      <a:lnTo>
                        <a:pt x="116" y="114"/>
                      </a:lnTo>
                      <a:lnTo>
                        <a:pt x="110" y="118"/>
                      </a:lnTo>
                      <a:lnTo>
                        <a:pt x="113" y="132"/>
                      </a:lnTo>
                      <a:lnTo>
                        <a:pt x="116" y="126"/>
                      </a:lnTo>
                      <a:lnTo>
                        <a:pt x="121" y="124"/>
                      </a:lnTo>
                      <a:lnTo>
                        <a:pt x="124" y="121"/>
                      </a:lnTo>
                      <a:lnTo>
                        <a:pt x="127" y="120"/>
                      </a:lnTo>
                      <a:lnTo>
                        <a:pt x="130" y="118"/>
                      </a:lnTo>
                      <a:lnTo>
                        <a:pt x="135" y="117"/>
                      </a:lnTo>
                      <a:lnTo>
                        <a:pt x="139" y="114"/>
                      </a:lnTo>
                      <a:lnTo>
                        <a:pt x="144" y="113"/>
                      </a:lnTo>
                      <a:lnTo>
                        <a:pt x="147" y="111"/>
                      </a:lnTo>
                      <a:lnTo>
                        <a:pt x="153" y="110"/>
                      </a:lnTo>
                      <a:lnTo>
                        <a:pt x="158" y="107"/>
                      </a:lnTo>
                      <a:lnTo>
                        <a:pt x="164" y="107"/>
                      </a:lnTo>
                      <a:lnTo>
                        <a:pt x="170" y="104"/>
                      </a:lnTo>
                      <a:lnTo>
                        <a:pt x="176" y="104"/>
                      </a:lnTo>
                      <a:lnTo>
                        <a:pt x="182" y="102"/>
                      </a:lnTo>
                      <a:lnTo>
                        <a:pt x="188" y="100"/>
                      </a:lnTo>
                      <a:lnTo>
                        <a:pt x="194" y="99"/>
                      </a:lnTo>
                      <a:lnTo>
                        <a:pt x="202" y="98"/>
                      </a:lnTo>
                      <a:lnTo>
                        <a:pt x="208" y="96"/>
                      </a:lnTo>
                      <a:lnTo>
                        <a:pt x="216" y="95"/>
                      </a:lnTo>
                      <a:lnTo>
                        <a:pt x="224" y="95"/>
                      </a:lnTo>
                      <a:lnTo>
                        <a:pt x="231" y="93"/>
                      </a:lnTo>
                      <a:lnTo>
                        <a:pt x="237" y="92"/>
                      </a:lnTo>
                      <a:lnTo>
                        <a:pt x="245" y="91"/>
                      </a:lnTo>
                      <a:lnTo>
                        <a:pt x="253" y="89"/>
                      </a:lnTo>
                      <a:lnTo>
                        <a:pt x="260" y="88"/>
                      </a:lnTo>
                      <a:lnTo>
                        <a:pt x="268" y="88"/>
                      </a:lnTo>
                      <a:lnTo>
                        <a:pt x="277" y="87"/>
                      </a:lnTo>
                      <a:lnTo>
                        <a:pt x="285" y="85"/>
                      </a:lnTo>
                      <a:lnTo>
                        <a:pt x="292" y="85"/>
                      </a:lnTo>
                      <a:lnTo>
                        <a:pt x="300" y="84"/>
                      </a:lnTo>
                      <a:lnTo>
                        <a:pt x="308" y="82"/>
                      </a:lnTo>
                      <a:lnTo>
                        <a:pt x="315" y="82"/>
                      </a:lnTo>
                      <a:lnTo>
                        <a:pt x="325" y="81"/>
                      </a:lnTo>
                      <a:lnTo>
                        <a:pt x="332" y="80"/>
                      </a:lnTo>
                      <a:lnTo>
                        <a:pt x="340" y="80"/>
                      </a:lnTo>
                      <a:lnTo>
                        <a:pt x="347" y="78"/>
                      </a:lnTo>
                      <a:lnTo>
                        <a:pt x="357" y="78"/>
                      </a:lnTo>
                      <a:lnTo>
                        <a:pt x="364" y="77"/>
                      </a:lnTo>
                      <a:lnTo>
                        <a:pt x="370" y="77"/>
                      </a:lnTo>
                      <a:lnTo>
                        <a:pt x="378" y="76"/>
                      </a:lnTo>
                      <a:lnTo>
                        <a:pt x="386" y="76"/>
                      </a:lnTo>
                      <a:lnTo>
                        <a:pt x="393" y="74"/>
                      </a:lnTo>
                      <a:lnTo>
                        <a:pt x="401" y="74"/>
                      </a:lnTo>
                      <a:lnTo>
                        <a:pt x="409" y="73"/>
                      </a:lnTo>
                      <a:lnTo>
                        <a:pt x="416" y="73"/>
                      </a:lnTo>
                      <a:lnTo>
                        <a:pt x="422" y="73"/>
                      </a:lnTo>
                      <a:lnTo>
                        <a:pt x="429" y="73"/>
                      </a:lnTo>
                      <a:lnTo>
                        <a:pt x="435" y="71"/>
                      </a:lnTo>
                      <a:lnTo>
                        <a:pt x="442" y="71"/>
                      </a:lnTo>
                      <a:lnTo>
                        <a:pt x="448" y="71"/>
                      </a:lnTo>
                      <a:lnTo>
                        <a:pt x="455" y="70"/>
                      </a:lnTo>
                      <a:lnTo>
                        <a:pt x="461" y="70"/>
                      </a:lnTo>
                      <a:lnTo>
                        <a:pt x="467" y="70"/>
                      </a:lnTo>
                      <a:lnTo>
                        <a:pt x="471" y="70"/>
                      </a:lnTo>
                      <a:lnTo>
                        <a:pt x="476" y="70"/>
                      </a:lnTo>
                      <a:lnTo>
                        <a:pt x="481" y="70"/>
                      </a:lnTo>
                      <a:lnTo>
                        <a:pt x="487" y="70"/>
                      </a:lnTo>
                      <a:lnTo>
                        <a:pt x="490" y="70"/>
                      </a:lnTo>
                      <a:lnTo>
                        <a:pt x="494" y="70"/>
                      </a:lnTo>
                      <a:lnTo>
                        <a:pt x="497" y="70"/>
                      </a:lnTo>
                      <a:lnTo>
                        <a:pt x="502" y="70"/>
                      </a:lnTo>
                      <a:lnTo>
                        <a:pt x="1080" y="73"/>
                      </a:lnTo>
                      <a:lnTo>
                        <a:pt x="1079" y="73"/>
                      </a:lnTo>
                      <a:lnTo>
                        <a:pt x="1077" y="73"/>
                      </a:lnTo>
                      <a:lnTo>
                        <a:pt x="1074" y="73"/>
                      </a:lnTo>
                      <a:lnTo>
                        <a:pt x="1071" y="73"/>
                      </a:lnTo>
                      <a:lnTo>
                        <a:pt x="1066" y="73"/>
                      </a:lnTo>
                      <a:lnTo>
                        <a:pt x="1063" y="73"/>
                      </a:lnTo>
                      <a:lnTo>
                        <a:pt x="1059" y="74"/>
                      </a:lnTo>
                      <a:lnTo>
                        <a:pt x="1054" y="74"/>
                      </a:lnTo>
                      <a:lnTo>
                        <a:pt x="1047" y="74"/>
                      </a:lnTo>
                      <a:lnTo>
                        <a:pt x="1040" y="76"/>
                      </a:lnTo>
                      <a:lnTo>
                        <a:pt x="1034" y="76"/>
                      </a:lnTo>
                      <a:lnTo>
                        <a:pt x="1028" y="77"/>
                      </a:lnTo>
                      <a:lnTo>
                        <a:pt x="1024" y="77"/>
                      </a:lnTo>
                      <a:lnTo>
                        <a:pt x="1021" y="77"/>
                      </a:lnTo>
                      <a:lnTo>
                        <a:pt x="1016" y="77"/>
                      </a:lnTo>
                      <a:lnTo>
                        <a:pt x="1013" y="77"/>
                      </a:lnTo>
                      <a:lnTo>
                        <a:pt x="1010" y="77"/>
                      </a:lnTo>
                      <a:lnTo>
                        <a:pt x="1007" y="78"/>
                      </a:lnTo>
                      <a:lnTo>
                        <a:pt x="1002" y="78"/>
                      </a:lnTo>
                      <a:lnTo>
                        <a:pt x="999" y="80"/>
                      </a:lnTo>
                      <a:lnTo>
                        <a:pt x="996" y="80"/>
                      </a:lnTo>
                      <a:lnTo>
                        <a:pt x="991" y="80"/>
                      </a:lnTo>
                      <a:lnTo>
                        <a:pt x="988" y="80"/>
                      </a:lnTo>
                      <a:lnTo>
                        <a:pt x="984" y="80"/>
                      </a:lnTo>
                      <a:lnTo>
                        <a:pt x="981" y="80"/>
                      </a:lnTo>
                      <a:lnTo>
                        <a:pt x="978" y="80"/>
                      </a:lnTo>
                      <a:lnTo>
                        <a:pt x="973" y="80"/>
                      </a:lnTo>
                      <a:lnTo>
                        <a:pt x="970" y="81"/>
                      </a:lnTo>
                      <a:lnTo>
                        <a:pt x="967" y="81"/>
                      </a:lnTo>
                      <a:lnTo>
                        <a:pt x="962" y="81"/>
                      </a:lnTo>
                      <a:lnTo>
                        <a:pt x="959" y="81"/>
                      </a:lnTo>
                      <a:lnTo>
                        <a:pt x="956" y="82"/>
                      </a:lnTo>
                      <a:lnTo>
                        <a:pt x="950" y="82"/>
                      </a:lnTo>
                      <a:lnTo>
                        <a:pt x="944" y="82"/>
                      </a:lnTo>
                      <a:lnTo>
                        <a:pt x="938" y="82"/>
                      </a:lnTo>
                      <a:lnTo>
                        <a:pt x="933" y="84"/>
                      </a:lnTo>
                      <a:lnTo>
                        <a:pt x="929" y="84"/>
                      </a:lnTo>
                      <a:lnTo>
                        <a:pt x="924" y="84"/>
                      </a:lnTo>
                      <a:lnTo>
                        <a:pt x="921" y="84"/>
                      </a:lnTo>
                      <a:lnTo>
                        <a:pt x="918" y="85"/>
                      </a:lnTo>
                      <a:lnTo>
                        <a:pt x="916" y="85"/>
                      </a:lnTo>
                      <a:lnTo>
                        <a:pt x="915" y="85"/>
                      </a:lnTo>
                      <a:lnTo>
                        <a:pt x="918" y="85"/>
                      </a:lnTo>
                      <a:lnTo>
                        <a:pt x="921" y="85"/>
                      </a:lnTo>
                      <a:lnTo>
                        <a:pt x="926" y="85"/>
                      </a:lnTo>
                      <a:lnTo>
                        <a:pt x="929" y="87"/>
                      </a:lnTo>
                      <a:lnTo>
                        <a:pt x="933" y="87"/>
                      </a:lnTo>
                      <a:lnTo>
                        <a:pt x="936" y="87"/>
                      </a:lnTo>
                      <a:lnTo>
                        <a:pt x="939" y="87"/>
                      </a:lnTo>
                      <a:lnTo>
                        <a:pt x="944" y="88"/>
                      </a:lnTo>
                      <a:lnTo>
                        <a:pt x="947" y="88"/>
                      </a:lnTo>
                      <a:lnTo>
                        <a:pt x="952" y="88"/>
                      </a:lnTo>
                      <a:lnTo>
                        <a:pt x="955" y="88"/>
                      </a:lnTo>
                      <a:lnTo>
                        <a:pt x="959" y="88"/>
                      </a:lnTo>
                      <a:lnTo>
                        <a:pt x="962" y="88"/>
                      </a:lnTo>
                      <a:lnTo>
                        <a:pt x="967" y="88"/>
                      </a:lnTo>
                      <a:lnTo>
                        <a:pt x="972" y="88"/>
                      </a:lnTo>
                      <a:lnTo>
                        <a:pt x="975" y="88"/>
                      </a:lnTo>
                      <a:lnTo>
                        <a:pt x="979" y="87"/>
                      </a:lnTo>
                      <a:lnTo>
                        <a:pt x="982" y="87"/>
                      </a:lnTo>
                      <a:lnTo>
                        <a:pt x="987" y="87"/>
                      </a:lnTo>
                      <a:lnTo>
                        <a:pt x="991" y="87"/>
                      </a:lnTo>
                      <a:lnTo>
                        <a:pt x="994" y="87"/>
                      </a:lnTo>
                      <a:lnTo>
                        <a:pt x="999" y="87"/>
                      </a:lnTo>
                      <a:lnTo>
                        <a:pt x="1002" y="87"/>
                      </a:lnTo>
                      <a:lnTo>
                        <a:pt x="1007" y="87"/>
                      </a:lnTo>
                      <a:lnTo>
                        <a:pt x="1011" y="87"/>
                      </a:lnTo>
                      <a:lnTo>
                        <a:pt x="1014" y="87"/>
                      </a:lnTo>
                      <a:lnTo>
                        <a:pt x="1019" y="87"/>
                      </a:lnTo>
                      <a:lnTo>
                        <a:pt x="1022" y="87"/>
                      </a:lnTo>
                      <a:lnTo>
                        <a:pt x="1027" y="85"/>
                      </a:lnTo>
                      <a:lnTo>
                        <a:pt x="1031" y="85"/>
                      </a:lnTo>
                      <a:lnTo>
                        <a:pt x="1036" y="85"/>
                      </a:lnTo>
                      <a:lnTo>
                        <a:pt x="1040" y="85"/>
                      </a:lnTo>
                      <a:lnTo>
                        <a:pt x="1043" y="85"/>
                      </a:lnTo>
                      <a:lnTo>
                        <a:pt x="1047" y="85"/>
                      </a:lnTo>
                      <a:lnTo>
                        <a:pt x="1051" y="85"/>
                      </a:lnTo>
                      <a:lnTo>
                        <a:pt x="1056" y="85"/>
                      </a:lnTo>
                      <a:lnTo>
                        <a:pt x="1059" y="84"/>
                      </a:lnTo>
                      <a:lnTo>
                        <a:pt x="1063" y="84"/>
                      </a:lnTo>
                      <a:lnTo>
                        <a:pt x="1066" y="84"/>
                      </a:lnTo>
                      <a:lnTo>
                        <a:pt x="1071" y="84"/>
                      </a:lnTo>
                      <a:lnTo>
                        <a:pt x="1074" y="84"/>
                      </a:lnTo>
                      <a:lnTo>
                        <a:pt x="1079" y="84"/>
                      </a:lnTo>
                      <a:lnTo>
                        <a:pt x="1082" y="82"/>
                      </a:lnTo>
                      <a:lnTo>
                        <a:pt x="1086" y="82"/>
                      </a:lnTo>
                      <a:lnTo>
                        <a:pt x="1091" y="82"/>
                      </a:lnTo>
                      <a:lnTo>
                        <a:pt x="1094" y="82"/>
                      </a:lnTo>
                      <a:lnTo>
                        <a:pt x="1099" y="82"/>
                      </a:lnTo>
                      <a:lnTo>
                        <a:pt x="1103" y="82"/>
                      </a:lnTo>
                      <a:lnTo>
                        <a:pt x="1106" y="82"/>
                      </a:lnTo>
                      <a:lnTo>
                        <a:pt x="1111" y="82"/>
                      </a:lnTo>
                      <a:lnTo>
                        <a:pt x="1114" y="82"/>
                      </a:lnTo>
                      <a:lnTo>
                        <a:pt x="1118" y="82"/>
                      </a:lnTo>
                      <a:lnTo>
                        <a:pt x="1123" y="81"/>
                      </a:lnTo>
                      <a:lnTo>
                        <a:pt x="1126" y="81"/>
                      </a:lnTo>
                      <a:lnTo>
                        <a:pt x="1129" y="81"/>
                      </a:lnTo>
                      <a:lnTo>
                        <a:pt x="1134" y="81"/>
                      </a:lnTo>
                      <a:lnTo>
                        <a:pt x="1138" y="81"/>
                      </a:lnTo>
                      <a:lnTo>
                        <a:pt x="1141" y="81"/>
                      </a:lnTo>
                      <a:lnTo>
                        <a:pt x="1146" y="81"/>
                      </a:lnTo>
                      <a:lnTo>
                        <a:pt x="1149" y="81"/>
                      </a:lnTo>
                      <a:lnTo>
                        <a:pt x="1154" y="81"/>
                      </a:lnTo>
                      <a:lnTo>
                        <a:pt x="1157" y="81"/>
                      </a:lnTo>
                      <a:lnTo>
                        <a:pt x="1160" y="81"/>
                      </a:lnTo>
                      <a:lnTo>
                        <a:pt x="1164" y="81"/>
                      </a:lnTo>
                      <a:lnTo>
                        <a:pt x="1164" y="84"/>
                      </a:lnTo>
                      <a:lnTo>
                        <a:pt x="1166" y="88"/>
                      </a:lnTo>
                      <a:lnTo>
                        <a:pt x="1166" y="91"/>
                      </a:lnTo>
                      <a:lnTo>
                        <a:pt x="1166" y="95"/>
                      </a:lnTo>
                      <a:lnTo>
                        <a:pt x="1166" y="99"/>
                      </a:lnTo>
                      <a:lnTo>
                        <a:pt x="1167" y="103"/>
                      </a:lnTo>
                      <a:lnTo>
                        <a:pt x="1167" y="107"/>
                      </a:lnTo>
                      <a:lnTo>
                        <a:pt x="1167" y="113"/>
                      </a:lnTo>
                      <a:lnTo>
                        <a:pt x="1167" y="117"/>
                      </a:lnTo>
                      <a:lnTo>
                        <a:pt x="1169" y="120"/>
                      </a:lnTo>
                      <a:lnTo>
                        <a:pt x="1170" y="124"/>
                      </a:lnTo>
                      <a:lnTo>
                        <a:pt x="1170" y="128"/>
                      </a:lnTo>
                      <a:lnTo>
                        <a:pt x="1172" y="132"/>
                      </a:lnTo>
                      <a:lnTo>
                        <a:pt x="1173" y="135"/>
                      </a:lnTo>
                      <a:lnTo>
                        <a:pt x="1175" y="137"/>
                      </a:lnTo>
                      <a:lnTo>
                        <a:pt x="1177" y="140"/>
                      </a:lnTo>
                      <a:lnTo>
                        <a:pt x="1183" y="139"/>
                      </a:lnTo>
                      <a:lnTo>
                        <a:pt x="1183" y="135"/>
                      </a:lnTo>
                      <a:lnTo>
                        <a:pt x="1183" y="130"/>
                      </a:lnTo>
                      <a:lnTo>
                        <a:pt x="1183" y="126"/>
                      </a:lnTo>
                      <a:lnTo>
                        <a:pt x="1184" y="122"/>
                      </a:lnTo>
                      <a:lnTo>
                        <a:pt x="1183" y="118"/>
                      </a:lnTo>
                      <a:lnTo>
                        <a:pt x="1183" y="114"/>
                      </a:lnTo>
                      <a:lnTo>
                        <a:pt x="1181" y="109"/>
                      </a:lnTo>
                      <a:lnTo>
                        <a:pt x="1181" y="104"/>
                      </a:lnTo>
                      <a:lnTo>
                        <a:pt x="1180" y="100"/>
                      </a:lnTo>
                      <a:lnTo>
                        <a:pt x="1180" y="96"/>
                      </a:lnTo>
                      <a:lnTo>
                        <a:pt x="1178" y="92"/>
                      </a:lnTo>
                      <a:lnTo>
                        <a:pt x="1177" y="88"/>
                      </a:lnTo>
                      <a:lnTo>
                        <a:pt x="1177" y="82"/>
                      </a:lnTo>
                      <a:lnTo>
                        <a:pt x="1175" y="80"/>
                      </a:lnTo>
                      <a:lnTo>
                        <a:pt x="1175" y="76"/>
                      </a:lnTo>
                      <a:lnTo>
                        <a:pt x="1175" y="73"/>
                      </a:lnTo>
                      <a:lnTo>
                        <a:pt x="1172" y="70"/>
                      </a:lnTo>
                      <a:lnTo>
                        <a:pt x="1167" y="69"/>
                      </a:lnTo>
                      <a:lnTo>
                        <a:pt x="1161" y="67"/>
                      </a:lnTo>
                      <a:lnTo>
                        <a:pt x="1160" y="66"/>
                      </a:lnTo>
                      <a:lnTo>
                        <a:pt x="1183" y="66"/>
                      </a:lnTo>
                      <a:lnTo>
                        <a:pt x="1184" y="70"/>
                      </a:lnTo>
                      <a:lnTo>
                        <a:pt x="1184" y="74"/>
                      </a:lnTo>
                      <a:lnTo>
                        <a:pt x="1186" y="78"/>
                      </a:lnTo>
                      <a:lnTo>
                        <a:pt x="1187" y="84"/>
                      </a:lnTo>
                      <a:lnTo>
                        <a:pt x="1189" y="80"/>
                      </a:lnTo>
                      <a:lnTo>
                        <a:pt x="1190" y="77"/>
                      </a:lnTo>
                      <a:lnTo>
                        <a:pt x="1192" y="73"/>
                      </a:lnTo>
                      <a:lnTo>
                        <a:pt x="1192" y="70"/>
                      </a:lnTo>
                      <a:lnTo>
                        <a:pt x="1192" y="66"/>
                      </a:lnTo>
                      <a:lnTo>
                        <a:pt x="1190" y="62"/>
                      </a:lnTo>
                      <a:lnTo>
                        <a:pt x="1190" y="59"/>
                      </a:lnTo>
                      <a:lnTo>
                        <a:pt x="1190" y="56"/>
                      </a:lnTo>
                      <a:lnTo>
                        <a:pt x="1186" y="56"/>
                      </a:lnTo>
                      <a:lnTo>
                        <a:pt x="1181" y="56"/>
                      </a:lnTo>
                      <a:lnTo>
                        <a:pt x="1177" y="58"/>
                      </a:lnTo>
                      <a:lnTo>
                        <a:pt x="1170" y="58"/>
                      </a:lnTo>
                      <a:lnTo>
                        <a:pt x="1166" y="59"/>
                      </a:lnTo>
                      <a:lnTo>
                        <a:pt x="1161" y="60"/>
                      </a:lnTo>
                      <a:lnTo>
                        <a:pt x="1158" y="62"/>
                      </a:lnTo>
                      <a:lnTo>
                        <a:pt x="1155" y="63"/>
                      </a:lnTo>
                      <a:lnTo>
                        <a:pt x="1152" y="62"/>
                      </a:lnTo>
                      <a:lnTo>
                        <a:pt x="1149" y="62"/>
                      </a:lnTo>
                      <a:lnTo>
                        <a:pt x="1144" y="60"/>
                      </a:lnTo>
                      <a:lnTo>
                        <a:pt x="1140" y="60"/>
                      </a:lnTo>
                      <a:lnTo>
                        <a:pt x="1137" y="60"/>
                      </a:lnTo>
                      <a:lnTo>
                        <a:pt x="1132" y="60"/>
                      </a:lnTo>
                      <a:lnTo>
                        <a:pt x="1129" y="60"/>
                      </a:lnTo>
                      <a:lnTo>
                        <a:pt x="1126" y="60"/>
                      </a:lnTo>
                      <a:lnTo>
                        <a:pt x="1129" y="59"/>
                      </a:lnTo>
                      <a:lnTo>
                        <a:pt x="1132" y="58"/>
                      </a:lnTo>
                      <a:lnTo>
                        <a:pt x="1135" y="58"/>
                      </a:lnTo>
                      <a:lnTo>
                        <a:pt x="1140" y="56"/>
                      </a:lnTo>
                      <a:lnTo>
                        <a:pt x="1144" y="55"/>
                      </a:lnTo>
                      <a:lnTo>
                        <a:pt x="1149" y="55"/>
                      </a:lnTo>
                      <a:lnTo>
                        <a:pt x="1154" y="54"/>
                      </a:lnTo>
                      <a:lnTo>
                        <a:pt x="1160" y="54"/>
                      </a:lnTo>
                      <a:lnTo>
                        <a:pt x="1164" y="52"/>
                      </a:lnTo>
                      <a:lnTo>
                        <a:pt x="1170" y="52"/>
                      </a:lnTo>
                      <a:lnTo>
                        <a:pt x="1175" y="52"/>
                      </a:lnTo>
                      <a:lnTo>
                        <a:pt x="1180" y="52"/>
                      </a:lnTo>
                      <a:lnTo>
                        <a:pt x="1184" y="51"/>
                      </a:lnTo>
                      <a:lnTo>
                        <a:pt x="1189" y="51"/>
                      </a:lnTo>
                      <a:lnTo>
                        <a:pt x="1193" y="50"/>
                      </a:lnTo>
                      <a:lnTo>
                        <a:pt x="1198" y="50"/>
                      </a:lnTo>
                      <a:lnTo>
                        <a:pt x="1198" y="54"/>
                      </a:lnTo>
                      <a:lnTo>
                        <a:pt x="1198" y="56"/>
                      </a:lnTo>
                      <a:lnTo>
                        <a:pt x="1198" y="60"/>
                      </a:lnTo>
                      <a:lnTo>
                        <a:pt x="1199" y="63"/>
                      </a:lnTo>
                      <a:lnTo>
                        <a:pt x="1199" y="67"/>
                      </a:lnTo>
                      <a:lnTo>
                        <a:pt x="1201" y="70"/>
                      </a:lnTo>
                      <a:lnTo>
                        <a:pt x="1201" y="74"/>
                      </a:lnTo>
                      <a:lnTo>
                        <a:pt x="1203" y="78"/>
                      </a:lnTo>
                      <a:lnTo>
                        <a:pt x="1203" y="81"/>
                      </a:lnTo>
                      <a:lnTo>
                        <a:pt x="1203" y="85"/>
                      </a:lnTo>
                      <a:lnTo>
                        <a:pt x="1204" y="88"/>
                      </a:lnTo>
                      <a:lnTo>
                        <a:pt x="1204" y="92"/>
                      </a:lnTo>
                      <a:lnTo>
                        <a:pt x="1204" y="95"/>
                      </a:lnTo>
                      <a:lnTo>
                        <a:pt x="1206" y="99"/>
                      </a:lnTo>
                      <a:lnTo>
                        <a:pt x="1206" y="102"/>
                      </a:lnTo>
                      <a:lnTo>
                        <a:pt x="1207" y="106"/>
                      </a:lnTo>
                      <a:lnTo>
                        <a:pt x="1207" y="110"/>
                      </a:lnTo>
                      <a:lnTo>
                        <a:pt x="1207" y="113"/>
                      </a:lnTo>
                      <a:lnTo>
                        <a:pt x="1209" y="117"/>
                      </a:lnTo>
                      <a:lnTo>
                        <a:pt x="1209" y="120"/>
                      </a:lnTo>
                      <a:lnTo>
                        <a:pt x="1209" y="124"/>
                      </a:lnTo>
                      <a:lnTo>
                        <a:pt x="1210" y="126"/>
                      </a:lnTo>
                      <a:lnTo>
                        <a:pt x="1210" y="129"/>
                      </a:lnTo>
                      <a:lnTo>
                        <a:pt x="1212" y="133"/>
                      </a:lnTo>
                      <a:lnTo>
                        <a:pt x="1212" y="136"/>
                      </a:lnTo>
                      <a:lnTo>
                        <a:pt x="1213" y="140"/>
                      </a:lnTo>
                      <a:lnTo>
                        <a:pt x="1213" y="143"/>
                      </a:lnTo>
                      <a:lnTo>
                        <a:pt x="1215" y="147"/>
                      </a:lnTo>
                      <a:lnTo>
                        <a:pt x="1215" y="150"/>
                      </a:lnTo>
                      <a:lnTo>
                        <a:pt x="1216" y="154"/>
                      </a:lnTo>
                      <a:lnTo>
                        <a:pt x="1216" y="157"/>
                      </a:lnTo>
                      <a:lnTo>
                        <a:pt x="1218" y="161"/>
                      </a:lnTo>
                      <a:lnTo>
                        <a:pt x="1218" y="166"/>
                      </a:lnTo>
                      <a:lnTo>
                        <a:pt x="1219" y="172"/>
                      </a:lnTo>
                      <a:lnTo>
                        <a:pt x="1221" y="177"/>
                      </a:lnTo>
                      <a:lnTo>
                        <a:pt x="1222" y="183"/>
                      </a:lnTo>
                      <a:lnTo>
                        <a:pt x="1224" y="188"/>
                      </a:lnTo>
                      <a:lnTo>
                        <a:pt x="1227" y="194"/>
                      </a:lnTo>
                      <a:lnTo>
                        <a:pt x="1232" y="196"/>
                      </a:lnTo>
                      <a:lnTo>
                        <a:pt x="1236" y="199"/>
                      </a:lnTo>
                      <a:lnTo>
                        <a:pt x="1235" y="195"/>
                      </a:lnTo>
                      <a:lnTo>
                        <a:pt x="1235" y="191"/>
                      </a:lnTo>
                      <a:lnTo>
                        <a:pt x="1235" y="187"/>
                      </a:lnTo>
                      <a:lnTo>
                        <a:pt x="1235" y="183"/>
                      </a:lnTo>
                      <a:lnTo>
                        <a:pt x="1235" y="177"/>
                      </a:lnTo>
                      <a:lnTo>
                        <a:pt x="1235" y="172"/>
                      </a:lnTo>
                      <a:lnTo>
                        <a:pt x="1235" y="166"/>
                      </a:lnTo>
                      <a:lnTo>
                        <a:pt x="1235" y="161"/>
                      </a:lnTo>
                      <a:lnTo>
                        <a:pt x="1233" y="157"/>
                      </a:lnTo>
                      <a:lnTo>
                        <a:pt x="1233" y="154"/>
                      </a:lnTo>
                      <a:lnTo>
                        <a:pt x="1233" y="151"/>
                      </a:lnTo>
                      <a:lnTo>
                        <a:pt x="1233" y="147"/>
                      </a:lnTo>
                      <a:lnTo>
                        <a:pt x="1233" y="144"/>
                      </a:lnTo>
                      <a:lnTo>
                        <a:pt x="1233" y="140"/>
                      </a:lnTo>
                      <a:lnTo>
                        <a:pt x="1233" y="137"/>
                      </a:lnTo>
                      <a:lnTo>
                        <a:pt x="1233" y="135"/>
                      </a:lnTo>
                      <a:lnTo>
                        <a:pt x="1232" y="130"/>
                      </a:lnTo>
                      <a:lnTo>
                        <a:pt x="1232" y="128"/>
                      </a:lnTo>
                      <a:lnTo>
                        <a:pt x="1232" y="124"/>
                      </a:lnTo>
                      <a:lnTo>
                        <a:pt x="1232" y="121"/>
                      </a:lnTo>
                      <a:lnTo>
                        <a:pt x="1232" y="117"/>
                      </a:lnTo>
                      <a:lnTo>
                        <a:pt x="1232" y="114"/>
                      </a:lnTo>
                      <a:lnTo>
                        <a:pt x="1232" y="111"/>
                      </a:lnTo>
                      <a:lnTo>
                        <a:pt x="1232" y="107"/>
                      </a:lnTo>
                      <a:lnTo>
                        <a:pt x="1232" y="103"/>
                      </a:lnTo>
                      <a:lnTo>
                        <a:pt x="1230" y="100"/>
                      </a:lnTo>
                      <a:lnTo>
                        <a:pt x="1230" y="96"/>
                      </a:lnTo>
                      <a:lnTo>
                        <a:pt x="1230" y="93"/>
                      </a:lnTo>
                      <a:lnTo>
                        <a:pt x="1230" y="89"/>
                      </a:lnTo>
                      <a:lnTo>
                        <a:pt x="1229" y="87"/>
                      </a:lnTo>
                      <a:lnTo>
                        <a:pt x="1229" y="82"/>
                      </a:lnTo>
                      <a:lnTo>
                        <a:pt x="1229" y="80"/>
                      </a:lnTo>
                      <a:lnTo>
                        <a:pt x="1229" y="76"/>
                      </a:lnTo>
                      <a:lnTo>
                        <a:pt x="1229" y="73"/>
                      </a:lnTo>
                      <a:lnTo>
                        <a:pt x="1229" y="70"/>
                      </a:lnTo>
                      <a:lnTo>
                        <a:pt x="1229" y="67"/>
                      </a:lnTo>
                      <a:lnTo>
                        <a:pt x="1227" y="60"/>
                      </a:lnTo>
                      <a:lnTo>
                        <a:pt x="1227" y="56"/>
                      </a:lnTo>
                      <a:lnTo>
                        <a:pt x="1225" y="51"/>
                      </a:lnTo>
                      <a:lnTo>
                        <a:pt x="1224" y="45"/>
                      </a:lnTo>
                      <a:lnTo>
                        <a:pt x="1224" y="41"/>
                      </a:lnTo>
                      <a:lnTo>
                        <a:pt x="1224" y="37"/>
                      </a:lnTo>
                      <a:lnTo>
                        <a:pt x="1222" y="33"/>
                      </a:lnTo>
                      <a:lnTo>
                        <a:pt x="1221" y="30"/>
                      </a:lnTo>
                      <a:lnTo>
                        <a:pt x="1221" y="29"/>
                      </a:lnTo>
                      <a:lnTo>
                        <a:pt x="1221" y="28"/>
                      </a:lnTo>
                      <a:lnTo>
                        <a:pt x="1215" y="28"/>
                      </a:lnTo>
                      <a:lnTo>
                        <a:pt x="1207" y="28"/>
                      </a:lnTo>
                      <a:lnTo>
                        <a:pt x="1201" y="28"/>
                      </a:lnTo>
                      <a:lnTo>
                        <a:pt x="1196" y="28"/>
                      </a:lnTo>
                      <a:lnTo>
                        <a:pt x="1190" y="28"/>
                      </a:lnTo>
                      <a:lnTo>
                        <a:pt x="1184" y="28"/>
                      </a:lnTo>
                      <a:lnTo>
                        <a:pt x="1178" y="28"/>
                      </a:lnTo>
                      <a:lnTo>
                        <a:pt x="1172" y="28"/>
                      </a:lnTo>
                      <a:lnTo>
                        <a:pt x="1170" y="26"/>
                      </a:lnTo>
                      <a:lnTo>
                        <a:pt x="1169" y="26"/>
                      </a:lnTo>
                      <a:lnTo>
                        <a:pt x="1164" y="26"/>
                      </a:lnTo>
                      <a:lnTo>
                        <a:pt x="1161" y="25"/>
                      </a:lnTo>
                      <a:lnTo>
                        <a:pt x="1157" y="23"/>
                      </a:lnTo>
                      <a:lnTo>
                        <a:pt x="1154" y="23"/>
                      </a:lnTo>
                      <a:lnTo>
                        <a:pt x="1151" y="23"/>
                      </a:lnTo>
                      <a:lnTo>
                        <a:pt x="1149" y="22"/>
                      </a:lnTo>
                      <a:lnTo>
                        <a:pt x="1154" y="22"/>
                      </a:lnTo>
                      <a:lnTo>
                        <a:pt x="1160" y="21"/>
                      </a:lnTo>
                      <a:lnTo>
                        <a:pt x="1164" y="21"/>
                      </a:lnTo>
                      <a:lnTo>
                        <a:pt x="1170" y="21"/>
                      </a:lnTo>
                      <a:lnTo>
                        <a:pt x="1175" y="21"/>
                      </a:lnTo>
                      <a:lnTo>
                        <a:pt x="1180" y="19"/>
                      </a:lnTo>
                      <a:lnTo>
                        <a:pt x="1186" y="19"/>
                      </a:lnTo>
                      <a:lnTo>
                        <a:pt x="1190" y="19"/>
                      </a:lnTo>
                      <a:lnTo>
                        <a:pt x="1196" y="18"/>
                      </a:lnTo>
                      <a:lnTo>
                        <a:pt x="1201" y="18"/>
                      </a:lnTo>
                      <a:lnTo>
                        <a:pt x="1206" y="18"/>
                      </a:lnTo>
                      <a:lnTo>
                        <a:pt x="1212" y="18"/>
                      </a:lnTo>
                      <a:lnTo>
                        <a:pt x="1216" y="17"/>
                      </a:lnTo>
                      <a:lnTo>
                        <a:pt x="1221" y="17"/>
                      </a:lnTo>
                      <a:lnTo>
                        <a:pt x="1227" y="15"/>
                      </a:lnTo>
                      <a:lnTo>
                        <a:pt x="1233" y="15"/>
                      </a:lnTo>
                      <a:lnTo>
                        <a:pt x="1233" y="18"/>
                      </a:lnTo>
                      <a:lnTo>
                        <a:pt x="1233" y="21"/>
                      </a:lnTo>
                      <a:lnTo>
                        <a:pt x="1233" y="23"/>
                      </a:lnTo>
                      <a:lnTo>
                        <a:pt x="1233" y="29"/>
                      </a:lnTo>
                      <a:lnTo>
                        <a:pt x="1233" y="33"/>
                      </a:lnTo>
                      <a:lnTo>
                        <a:pt x="1235" y="39"/>
                      </a:lnTo>
                      <a:lnTo>
                        <a:pt x="1235" y="40"/>
                      </a:lnTo>
                      <a:lnTo>
                        <a:pt x="1235" y="43"/>
                      </a:lnTo>
                      <a:lnTo>
                        <a:pt x="1235" y="47"/>
                      </a:lnTo>
                      <a:lnTo>
                        <a:pt x="1236" y="50"/>
                      </a:lnTo>
                      <a:lnTo>
                        <a:pt x="1236" y="52"/>
                      </a:lnTo>
                      <a:lnTo>
                        <a:pt x="1236" y="55"/>
                      </a:lnTo>
                      <a:lnTo>
                        <a:pt x="1236" y="59"/>
                      </a:lnTo>
                      <a:lnTo>
                        <a:pt x="1236" y="62"/>
                      </a:lnTo>
                      <a:lnTo>
                        <a:pt x="1236" y="66"/>
                      </a:lnTo>
                      <a:lnTo>
                        <a:pt x="1236" y="69"/>
                      </a:lnTo>
                      <a:lnTo>
                        <a:pt x="1236" y="73"/>
                      </a:lnTo>
                      <a:lnTo>
                        <a:pt x="1238" y="76"/>
                      </a:lnTo>
                      <a:lnTo>
                        <a:pt x="1238" y="80"/>
                      </a:lnTo>
                      <a:lnTo>
                        <a:pt x="1238" y="82"/>
                      </a:lnTo>
                      <a:lnTo>
                        <a:pt x="1239" y="87"/>
                      </a:lnTo>
                      <a:lnTo>
                        <a:pt x="1239" y="91"/>
                      </a:lnTo>
                      <a:lnTo>
                        <a:pt x="1239" y="93"/>
                      </a:lnTo>
                      <a:lnTo>
                        <a:pt x="1239" y="98"/>
                      </a:lnTo>
                      <a:lnTo>
                        <a:pt x="1241" y="102"/>
                      </a:lnTo>
                      <a:lnTo>
                        <a:pt x="1241" y="106"/>
                      </a:lnTo>
                      <a:lnTo>
                        <a:pt x="1241" y="109"/>
                      </a:lnTo>
                      <a:lnTo>
                        <a:pt x="1242" y="113"/>
                      </a:lnTo>
                      <a:lnTo>
                        <a:pt x="1242" y="115"/>
                      </a:lnTo>
                      <a:lnTo>
                        <a:pt x="1242" y="120"/>
                      </a:lnTo>
                      <a:lnTo>
                        <a:pt x="1242" y="122"/>
                      </a:lnTo>
                      <a:lnTo>
                        <a:pt x="1244" y="126"/>
                      </a:lnTo>
                      <a:lnTo>
                        <a:pt x="1244" y="129"/>
                      </a:lnTo>
                      <a:lnTo>
                        <a:pt x="1245" y="133"/>
                      </a:lnTo>
                      <a:lnTo>
                        <a:pt x="1245" y="136"/>
                      </a:lnTo>
                      <a:lnTo>
                        <a:pt x="1245" y="139"/>
                      </a:lnTo>
                      <a:lnTo>
                        <a:pt x="1245" y="141"/>
                      </a:lnTo>
                      <a:lnTo>
                        <a:pt x="1247" y="146"/>
                      </a:lnTo>
                      <a:lnTo>
                        <a:pt x="1248" y="151"/>
                      </a:lnTo>
                      <a:lnTo>
                        <a:pt x="1250" y="157"/>
                      </a:lnTo>
                      <a:lnTo>
                        <a:pt x="1251" y="162"/>
                      </a:lnTo>
                      <a:lnTo>
                        <a:pt x="1253" y="166"/>
                      </a:lnTo>
                      <a:lnTo>
                        <a:pt x="1253" y="172"/>
                      </a:lnTo>
                      <a:lnTo>
                        <a:pt x="1256" y="176"/>
                      </a:lnTo>
                      <a:lnTo>
                        <a:pt x="1258" y="179"/>
                      </a:lnTo>
                      <a:lnTo>
                        <a:pt x="1259" y="180"/>
                      </a:lnTo>
                      <a:lnTo>
                        <a:pt x="1261" y="181"/>
                      </a:lnTo>
                      <a:lnTo>
                        <a:pt x="1262" y="184"/>
                      </a:lnTo>
                      <a:lnTo>
                        <a:pt x="1262" y="180"/>
                      </a:lnTo>
                      <a:lnTo>
                        <a:pt x="1262" y="177"/>
                      </a:lnTo>
                      <a:lnTo>
                        <a:pt x="1262" y="174"/>
                      </a:lnTo>
                      <a:lnTo>
                        <a:pt x="1262" y="172"/>
                      </a:lnTo>
                      <a:lnTo>
                        <a:pt x="1261" y="168"/>
                      </a:lnTo>
                      <a:lnTo>
                        <a:pt x="1261" y="165"/>
                      </a:lnTo>
                      <a:lnTo>
                        <a:pt x="1261" y="162"/>
                      </a:lnTo>
                      <a:lnTo>
                        <a:pt x="1261" y="159"/>
                      </a:lnTo>
                      <a:lnTo>
                        <a:pt x="1261" y="155"/>
                      </a:lnTo>
                      <a:lnTo>
                        <a:pt x="1261" y="152"/>
                      </a:lnTo>
                      <a:lnTo>
                        <a:pt x="1259" y="150"/>
                      </a:lnTo>
                      <a:lnTo>
                        <a:pt x="1259" y="147"/>
                      </a:lnTo>
                      <a:lnTo>
                        <a:pt x="1259" y="143"/>
                      </a:lnTo>
                      <a:lnTo>
                        <a:pt x="1259" y="140"/>
                      </a:lnTo>
                      <a:lnTo>
                        <a:pt x="1259" y="137"/>
                      </a:lnTo>
                      <a:lnTo>
                        <a:pt x="1259" y="135"/>
                      </a:lnTo>
                      <a:lnTo>
                        <a:pt x="1259" y="130"/>
                      </a:lnTo>
                      <a:lnTo>
                        <a:pt x="1259" y="128"/>
                      </a:lnTo>
                      <a:lnTo>
                        <a:pt x="1258" y="124"/>
                      </a:lnTo>
                      <a:lnTo>
                        <a:pt x="1258" y="121"/>
                      </a:lnTo>
                      <a:lnTo>
                        <a:pt x="1258" y="118"/>
                      </a:lnTo>
                      <a:lnTo>
                        <a:pt x="1258" y="115"/>
                      </a:lnTo>
                      <a:lnTo>
                        <a:pt x="1258" y="111"/>
                      </a:lnTo>
                      <a:lnTo>
                        <a:pt x="1258" y="109"/>
                      </a:lnTo>
                      <a:lnTo>
                        <a:pt x="1256" y="106"/>
                      </a:lnTo>
                      <a:lnTo>
                        <a:pt x="1256" y="102"/>
                      </a:lnTo>
                      <a:lnTo>
                        <a:pt x="1256" y="99"/>
                      </a:lnTo>
                      <a:lnTo>
                        <a:pt x="1256" y="96"/>
                      </a:lnTo>
                      <a:lnTo>
                        <a:pt x="1256" y="92"/>
                      </a:lnTo>
                      <a:lnTo>
                        <a:pt x="1256" y="89"/>
                      </a:lnTo>
                      <a:lnTo>
                        <a:pt x="1256" y="87"/>
                      </a:lnTo>
                      <a:lnTo>
                        <a:pt x="1256" y="84"/>
                      </a:lnTo>
                      <a:lnTo>
                        <a:pt x="1256" y="80"/>
                      </a:lnTo>
                      <a:lnTo>
                        <a:pt x="1258" y="77"/>
                      </a:lnTo>
                      <a:lnTo>
                        <a:pt x="1259" y="74"/>
                      </a:lnTo>
                      <a:lnTo>
                        <a:pt x="1261" y="71"/>
                      </a:lnTo>
                      <a:lnTo>
                        <a:pt x="1262" y="66"/>
                      </a:lnTo>
                      <a:lnTo>
                        <a:pt x="1264" y="60"/>
                      </a:lnTo>
                      <a:lnTo>
                        <a:pt x="1265" y="55"/>
                      </a:lnTo>
                      <a:lnTo>
                        <a:pt x="1267" y="51"/>
                      </a:lnTo>
                      <a:lnTo>
                        <a:pt x="1268" y="45"/>
                      </a:lnTo>
                      <a:lnTo>
                        <a:pt x="1270" y="41"/>
                      </a:lnTo>
                      <a:lnTo>
                        <a:pt x="1270" y="36"/>
                      </a:lnTo>
                      <a:lnTo>
                        <a:pt x="1270" y="32"/>
                      </a:lnTo>
                      <a:lnTo>
                        <a:pt x="1270" y="28"/>
                      </a:lnTo>
                      <a:lnTo>
                        <a:pt x="1270" y="22"/>
                      </a:lnTo>
                      <a:lnTo>
                        <a:pt x="1268" y="17"/>
                      </a:lnTo>
                      <a:lnTo>
                        <a:pt x="1268" y="11"/>
                      </a:lnTo>
                      <a:lnTo>
                        <a:pt x="1267" y="6"/>
                      </a:lnTo>
                      <a:lnTo>
                        <a:pt x="126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59"/>
                <p:cNvSpPr/>
                <p:nvPr/>
              </p:nvSpPr>
              <p:spPr>
                <a:xfrm>
                  <a:off x="3126960" y="2121840"/>
                  <a:ext cx="53640" cy="396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55" h="11">
                      <a:moveTo>
                        <a:pt x="155" y="11"/>
                      </a:moveTo>
                      <a:lnTo>
                        <a:pt x="152" y="11"/>
                      </a:lnTo>
                      <a:lnTo>
                        <a:pt x="149" y="11"/>
                      </a:lnTo>
                      <a:lnTo>
                        <a:pt x="144" y="9"/>
                      </a:lnTo>
                      <a:lnTo>
                        <a:pt x="141" y="9"/>
                      </a:lnTo>
                      <a:lnTo>
                        <a:pt x="135" y="9"/>
                      </a:lnTo>
                      <a:lnTo>
                        <a:pt x="130" y="9"/>
                      </a:lnTo>
                      <a:lnTo>
                        <a:pt x="126" y="9"/>
                      </a:lnTo>
                      <a:lnTo>
                        <a:pt x="120" y="9"/>
                      </a:lnTo>
                      <a:lnTo>
                        <a:pt x="114" y="9"/>
                      </a:lnTo>
                      <a:lnTo>
                        <a:pt x="109" y="9"/>
                      </a:lnTo>
                      <a:lnTo>
                        <a:pt x="103" y="9"/>
                      </a:lnTo>
                      <a:lnTo>
                        <a:pt x="97" y="9"/>
                      </a:lnTo>
                      <a:lnTo>
                        <a:pt x="89" y="8"/>
                      </a:lnTo>
                      <a:lnTo>
                        <a:pt x="85" y="8"/>
                      </a:lnTo>
                      <a:lnTo>
                        <a:pt x="77" y="8"/>
                      </a:lnTo>
                      <a:lnTo>
                        <a:pt x="72" y="8"/>
                      </a:lnTo>
                      <a:lnTo>
                        <a:pt x="65" y="8"/>
                      </a:lnTo>
                      <a:lnTo>
                        <a:pt x="59" y="8"/>
                      </a:lnTo>
                      <a:lnTo>
                        <a:pt x="52" y="7"/>
                      </a:lnTo>
                      <a:lnTo>
                        <a:pt x="46" y="7"/>
                      </a:lnTo>
                      <a:lnTo>
                        <a:pt x="40" y="7"/>
                      </a:lnTo>
                      <a:lnTo>
                        <a:pt x="36" y="7"/>
                      </a:lnTo>
                      <a:lnTo>
                        <a:pt x="29" y="5"/>
                      </a:lnTo>
                      <a:lnTo>
                        <a:pt x="25" y="5"/>
                      </a:lnTo>
                      <a:lnTo>
                        <a:pt x="19" y="5"/>
                      </a:lnTo>
                      <a:lnTo>
                        <a:pt x="16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11" y="0"/>
                      </a:lnTo>
                      <a:lnTo>
                        <a:pt x="55" y="3"/>
                      </a:lnTo>
                      <a:lnTo>
                        <a:pt x="60" y="1"/>
                      </a:lnTo>
                      <a:lnTo>
                        <a:pt x="65" y="1"/>
                      </a:lnTo>
                      <a:lnTo>
                        <a:pt x="69" y="1"/>
                      </a:lnTo>
                      <a:lnTo>
                        <a:pt x="72" y="1"/>
                      </a:lnTo>
                      <a:lnTo>
                        <a:pt x="77" y="1"/>
                      </a:lnTo>
                      <a:lnTo>
                        <a:pt x="81" y="1"/>
                      </a:lnTo>
                      <a:lnTo>
                        <a:pt x="86" y="1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9" y="1"/>
                      </a:lnTo>
                      <a:lnTo>
                        <a:pt x="114" y="1"/>
                      </a:lnTo>
                      <a:lnTo>
                        <a:pt x="117" y="1"/>
                      </a:lnTo>
                      <a:lnTo>
                        <a:pt x="121" y="1"/>
                      </a:lnTo>
                      <a:lnTo>
                        <a:pt x="127" y="3"/>
                      </a:lnTo>
                      <a:lnTo>
                        <a:pt x="130" y="3"/>
                      </a:lnTo>
                      <a:lnTo>
                        <a:pt x="137" y="3"/>
                      </a:lnTo>
                      <a:lnTo>
                        <a:pt x="141" y="5"/>
                      </a:lnTo>
                      <a:lnTo>
                        <a:pt x="147" y="7"/>
                      </a:lnTo>
                      <a:lnTo>
                        <a:pt x="152" y="8"/>
                      </a:lnTo>
                      <a:lnTo>
                        <a:pt x="155" y="9"/>
                      </a:lnTo>
                      <a:lnTo>
                        <a:pt x="1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60"/>
                <p:cNvSpPr/>
                <p:nvPr/>
              </p:nvSpPr>
              <p:spPr>
                <a:xfrm>
                  <a:off x="2854440" y="2139840"/>
                  <a:ext cx="22320" cy="1512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65" h="42">
                      <a:moveTo>
                        <a:pt x="65" y="0"/>
                      </a:moveTo>
                      <a:lnTo>
                        <a:pt x="64" y="0"/>
                      </a:lnTo>
                      <a:lnTo>
                        <a:pt x="61" y="0"/>
                      </a:lnTo>
                      <a:lnTo>
                        <a:pt x="56" y="0"/>
                      </a:lnTo>
                      <a:lnTo>
                        <a:pt x="53" y="0"/>
                      </a:lnTo>
                      <a:lnTo>
                        <a:pt x="49" y="0"/>
                      </a:lnTo>
                      <a:lnTo>
                        <a:pt x="42" y="0"/>
                      </a:lnTo>
                      <a:lnTo>
                        <a:pt x="38" y="1"/>
                      </a:lnTo>
                      <a:lnTo>
                        <a:pt x="33" y="3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16" y="4"/>
                      </a:lnTo>
                      <a:lnTo>
                        <a:pt x="12" y="5"/>
                      </a:lnTo>
                      <a:lnTo>
                        <a:pt x="7" y="5"/>
                      </a:lnTo>
                      <a:lnTo>
                        <a:pt x="4" y="7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4" y="42"/>
                      </a:lnTo>
                      <a:lnTo>
                        <a:pt x="7" y="41"/>
                      </a:lnTo>
                      <a:lnTo>
                        <a:pt x="6" y="38"/>
                      </a:lnTo>
                      <a:lnTo>
                        <a:pt x="6" y="34"/>
                      </a:lnTo>
                      <a:lnTo>
                        <a:pt x="6" y="30"/>
                      </a:lnTo>
                      <a:lnTo>
                        <a:pt x="4" y="27"/>
                      </a:lnTo>
                      <a:lnTo>
                        <a:pt x="4" y="22"/>
                      </a:lnTo>
                      <a:lnTo>
                        <a:pt x="3" y="19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2" y="15"/>
                      </a:lnTo>
                      <a:lnTo>
                        <a:pt x="15" y="15"/>
                      </a:lnTo>
                      <a:lnTo>
                        <a:pt x="20" y="15"/>
                      </a:lnTo>
                      <a:lnTo>
                        <a:pt x="23" y="14"/>
                      </a:lnTo>
                      <a:lnTo>
                        <a:pt x="27" y="12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9"/>
                      </a:lnTo>
                      <a:lnTo>
                        <a:pt x="44" y="8"/>
                      </a:lnTo>
                      <a:lnTo>
                        <a:pt x="49" y="7"/>
                      </a:lnTo>
                      <a:lnTo>
                        <a:pt x="53" y="5"/>
                      </a:lnTo>
                      <a:lnTo>
                        <a:pt x="56" y="4"/>
                      </a:lnTo>
                      <a:lnTo>
                        <a:pt x="59" y="3"/>
                      </a:lnTo>
                      <a:lnTo>
                        <a:pt x="62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1"/>
                <p:cNvSpPr/>
                <p:nvPr/>
              </p:nvSpPr>
              <p:spPr>
                <a:xfrm>
                  <a:off x="2800440" y="2175840"/>
                  <a:ext cx="502560" cy="86400"/>
                </a:xfrm>
                <a:custGeom>
                  <a:avLst/>
                  <a:gdLst>
                    <a:gd name="textAreaLeft" fmla="*/ 0 w 502560"/>
                    <a:gd name="textAreaRight" fmla="*/ 502920 w 502560"/>
                    <a:gd name="textAreaTop" fmla="*/ 0 h 86400"/>
                    <a:gd name="textAreaBottom" fmla="*/ 86760 h 86400"/>
                  </a:gdLst>
                  <a:ahLst/>
                  <a:rect l="textAreaLeft" t="textAreaTop" r="textAreaRight" b="textAreaBottom"/>
                  <a:pathLst>
                    <a:path w="1450" h="235">
                      <a:moveTo>
                        <a:pt x="9" y="4"/>
                      </a:moveTo>
                      <a:lnTo>
                        <a:pt x="9" y="7"/>
                      </a:lnTo>
                      <a:lnTo>
                        <a:pt x="8" y="11"/>
                      </a:lnTo>
                      <a:lnTo>
                        <a:pt x="8" y="15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6" y="28"/>
                      </a:lnTo>
                      <a:lnTo>
                        <a:pt x="4" y="33"/>
                      </a:lnTo>
                      <a:lnTo>
                        <a:pt x="4" y="37"/>
                      </a:lnTo>
                      <a:lnTo>
                        <a:pt x="4" y="43"/>
                      </a:lnTo>
                      <a:lnTo>
                        <a:pt x="3" y="47"/>
                      </a:lnTo>
                      <a:lnTo>
                        <a:pt x="3" y="51"/>
                      </a:lnTo>
                      <a:lnTo>
                        <a:pt x="3" y="56"/>
                      </a:lnTo>
                      <a:lnTo>
                        <a:pt x="1" y="62"/>
                      </a:lnTo>
                      <a:lnTo>
                        <a:pt x="1" y="66"/>
                      </a:lnTo>
                      <a:lnTo>
                        <a:pt x="1" y="71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7"/>
                      </a:lnTo>
                      <a:lnTo>
                        <a:pt x="0" y="91"/>
                      </a:lnTo>
                      <a:lnTo>
                        <a:pt x="0" y="96"/>
                      </a:lnTo>
                      <a:lnTo>
                        <a:pt x="0" y="100"/>
                      </a:lnTo>
                      <a:lnTo>
                        <a:pt x="0" y="104"/>
                      </a:lnTo>
                      <a:lnTo>
                        <a:pt x="0" y="110"/>
                      </a:lnTo>
                      <a:lnTo>
                        <a:pt x="0" y="115"/>
                      </a:lnTo>
                      <a:lnTo>
                        <a:pt x="0" y="119"/>
                      </a:lnTo>
                      <a:lnTo>
                        <a:pt x="0" y="124"/>
                      </a:lnTo>
                      <a:lnTo>
                        <a:pt x="0" y="129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1"/>
                      </a:lnTo>
                      <a:lnTo>
                        <a:pt x="0" y="150"/>
                      </a:lnTo>
                      <a:lnTo>
                        <a:pt x="1" y="147"/>
                      </a:lnTo>
                      <a:lnTo>
                        <a:pt x="3" y="143"/>
                      </a:lnTo>
                      <a:lnTo>
                        <a:pt x="4" y="140"/>
                      </a:lnTo>
                      <a:lnTo>
                        <a:pt x="4" y="135"/>
                      </a:lnTo>
                      <a:lnTo>
                        <a:pt x="6" y="130"/>
                      </a:lnTo>
                      <a:lnTo>
                        <a:pt x="6" y="125"/>
                      </a:lnTo>
                      <a:lnTo>
                        <a:pt x="8" y="121"/>
                      </a:lnTo>
                      <a:lnTo>
                        <a:pt x="8" y="114"/>
                      </a:lnTo>
                      <a:lnTo>
                        <a:pt x="8" y="108"/>
                      </a:lnTo>
                      <a:lnTo>
                        <a:pt x="9" y="104"/>
                      </a:lnTo>
                      <a:lnTo>
                        <a:pt x="9" y="99"/>
                      </a:lnTo>
                      <a:lnTo>
                        <a:pt x="9" y="95"/>
                      </a:lnTo>
                      <a:lnTo>
                        <a:pt x="9" y="92"/>
                      </a:lnTo>
                      <a:lnTo>
                        <a:pt x="9" y="89"/>
                      </a:lnTo>
                      <a:lnTo>
                        <a:pt x="9" y="88"/>
                      </a:lnTo>
                      <a:lnTo>
                        <a:pt x="17" y="33"/>
                      </a:lnTo>
                      <a:lnTo>
                        <a:pt x="21" y="32"/>
                      </a:lnTo>
                      <a:lnTo>
                        <a:pt x="26" y="32"/>
                      </a:lnTo>
                      <a:lnTo>
                        <a:pt x="30" y="30"/>
                      </a:lnTo>
                      <a:lnTo>
                        <a:pt x="37" y="30"/>
                      </a:lnTo>
                      <a:lnTo>
                        <a:pt x="41" y="28"/>
                      </a:lnTo>
                      <a:lnTo>
                        <a:pt x="47" y="28"/>
                      </a:lnTo>
                      <a:lnTo>
                        <a:pt x="50" y="26"/>
                      </a:lnTo>
                      <a:lnTo>
                        <a:pt x="53" y="26"/>
                      </a:lnTo>
                      <a:lnTo>
                        <a:pt x="58" y="25"/>
                      </a:lnTo>
                      <a:lnTo>
                        <a:pt x="61" y="25"/>
                      </a:lnTo>
                      <a:lnTo>
                        <a:pt x="64" y="23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5" y="22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7" y="21"/>
                      </a:lnTo>
                      <a:lnTo>
                        <a:pt x="90" y="21"/>
                      </a:lnTo>
                      <a:lnTo>
                        <a:pt x="95" y="19"/>
                      </a:lnTo>
                      <a:lnTo>
                        <a:pt x="98" y="19"/>
                      </a:lnTo>
                      <a:lnTo>
                        <a:pt x="101" y="18"/>
                      </a:lnTo>
                      <a:lnTo>
                        <a:pt x="105" y="18"/>
                      </a:lnTo>
                      <a:lnTo>
                        <a:pt x="108" y="18"/>
                      </a:lnTo>
                      <a:lnTo>
                        <a:pt x="113" y="17"/>
                      </a:lnTo>
                      <a:lnTo>
                        <a:pt x="118" y="17"/>
                      </a:lnTo>
                      <a:lnTo>
                        <a:pt x="122" y="17"/>
                      </a:lnTo>
                      <a:lnTo>
                        <a:pt x="125" y="15"/>
                      </a:lnTo>
                      <a:lnTo>
                        <a:pt x="128" y="15"/>
                      </a:lnTo>
                      <a:lnTo>
                        <a:pt x="133" y="14"/>
                      </a:lnTo>
                      <a:lnTo>
                        <a:pt x="136" y="14"/>
                      </a:lnTo>
                      <a:lnTo>
                        <a:pt x="141" y="14"/>
                      </a:lnTo>
                      <a:lnTo>
                        <a:pt x="144" y="12"/>
                      </a:lnTo>
                      <a:lnTo>
                        <a:pt x="148" y="12"/>
                      </a:lnTo>
                      <a:lnTo>
                        <a:pt x="151" y="12"/>
                      </a:lnTo>
                      <a:lnTo>
                        <a:pt x="157" y="12"/>
                      </a:lnTo>
                      <a:lnTo>
                        <a:pt x="165" y="11"/>
                      </a:lnTo>
                      <a:lnTo>
                        <a:pt x="171" y="11"/>
                      </a:lnTo>
                      <a:lnTo>
                        <a:pt x="177" y="11"/>
                      </a:lnTo>
                      <a:lnTo>
                        <a:pt x="183" y="11"/>
                      </a:lnTo>
                      <a:lnTo>
                        <a:pt x="190" y="11"/>
                      </a:lnTo>
                      <a:lnTo>
                        <a:pt x="194" y="11"/>
                      </a:lnTo>
                      <a:lnTo>
                        <a:pt x="199" y="11"/>
                      </a:lnTo>
                      <a:lnTo>
                        <a:pt x="202" y="12"/>
                      </a:lnTo>
                      <a:lnTo>
                        <a:pt x="206" y="12"/>
                      </a:lnTo>
                      <a:lnTo>
                        <a:pt x="209" y="14"/>
                      </a:lnTo>
                      <a:lnTo>
                        <a:pt x="211" y="15"/>
                      </a:lnTo>
                      <a:lnTo>
                        <a:pt x="209" y="15"/>
                      </a:lnTo>
                      <a:lnTo>
                        <a:pt x="206" y="14"/>
                      </a:lnTo>
                      <a:lnTo>
                        <a:pt x="202" y="14"/>
                      </a:lnTo>
                      <a:lnTo>
                        <a:pt x="199" y="15"/>
                      </a:lnTo>
                      <a:lnTo>
                        <a:pt x="194" y="15"/>
                      </a:lnTo>
                      <a:lnTo>
                        <a:pt x="190" y="15"/>
                      </a:lnTo>
                      <a:lnTo>
                        <a:pt x="183" y="15"/>
                      </a:lnTo>
                      <a:lnTo>
                        <a:pt x="179" y="15"/>
                      </a:lnTo>
                      <a:lnTo>
                        <a:pt x="173" y="15"/>
                      </a:lnTo>
                      <a:lnTo>
                        <a:pt x="167" y="17"/>
                      </a:lnTo>
                      <a:lnTo>
                        <a:pt x="162" y="17"/>
                      </a:lnTo>
                      <a:lnTo>
                        <a:pt x="159" y="18"/>
                      </a:lnTo>
                      <a:lnTo>
                        <a:pt x="156" y="18"/>
                      </a:lnTo>
                      <a:lnTo>
                        <a:pt x="153" y="18"/>
                      </a:lnTo>
                      <a:lnTo>
                        <a:pt x="148" y="18"/>
                      </a:lnTo>
                      <a:lnTo>
                        <a:pt x="145" y="19"/>
                      </a:lnTo>
                      <a:lnTo>
                        <a:pt x="141" y="19"/>
                      </a:lnTo>
                      <a:lnTo>
                        <a:pt x="138" y="21"/>
                      </a:lnTo>
                      <a:lnTo>
                        <a:pt x="133" y="21"/>
                      </a:lnTo>
                      <a:lnTo>
                        <a:pt x="130" y="21"/>
                      </a:lnTo>
                      <a:lnTo>
                        <a:pt x="125" y="22"/>
                      </a:lnTo>
                      <a:lnTo>
                        <a:pt x="122" y="23"/>
                      </a:lnTo>
                      <a:lnTo>
                        <a:pt x="119" y="23"/>
                      </a:lnTo>
                      <a:lnTo>
                        <a:pt x="115" y="23"/>
                      </a:lnTo>
                      <a:lnTo>
                        <a:pt x="110" y="23"/>
                      </a:lnTo>
                      <a:lnTo>
                        <a:pt x="107" y="25"/>
                      </a:lnTo>
                      <a:lnTo>
                        <a:pt x="102" y="25"/>
                      </a:lnTo>
                      <a:lnTo>
                        <a:pt x="99" y="26"/>
                      </a:lnTo>
                      <a:lnTo>
                        <a:pt x="95" y="26"/>
                      </a:lnTo>
                      <a:lnTo>
                        <a:pt x="92" y="28"/>
                      </a:lnTo>
                      <a:lnTo>
                        <a:pt x="87" y="28"/>
                      </a:lnTo>
                      <a:lnTo>
                        <a:pt x="84" y="28"/>
                      </a:lnTo>
                      <a:lnTo>
                        <a:pt x="81" y="29"/>
                      </a:lnTo>
                      <a:lnTo>
                        <a:pt x="76" y="29"/>
                      </a:lnTo>
                      <a:lnTo>
                        <a:pt x="70" y="30"/>
                      </a:lnTo>
                      <a:lnTo>
                        <a:pt x="63" y="32"/>
                      </a:lnTo>
                      <a:lnTo>
                        <a:pt x="56" y="33"/>
                      </a:lnTo>
                      <a:lnTo>
                        <a:pt x="50" y="34"/>
                      </a:lnTo>
                      <a:lnTo>
                        <a:pt x="44" y="34"/>
                      </a:lnTo>
                      <a:lnTo>
                        <a:pt x="40" y="36"/>
                      </a:lnTo>
                      <a:lnTo>
                        <a:pt x="35" y="37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4" y="40"/>
                      </a:lnTo>
                      <a:lnTo>
                        <a:pt x="23" y="44"/>
                      </a:lnTo>
                      <a:lnTo>
                        <a:pt x="23" y="51"/>
                      </a:lnTo>
                      <a:lnTo>
                        <a:pt x="23" y="54"/>
                      </a:lnTo>
                      <a:lnTo>
                        <a:pt x="21" y="58"/>
                      </a:lnTo>
                      <a:lnTo>
                        <a:pt x="21" y="62"/>
                      </a:lnTo>
                      <a:lnTo>
                        <a:pt x="21" y="65"/>
                      </a:lnTo>
                      <a:lnTo>
                        <a:pt x="21" y="69"/>
                      </a:lnTo>
                      <a:lnTo>
                        <a:pt x="21" y="71"/>
                      </a:lnTo>
                      <a:lnTo>
                        <a:pt x="21" y="76"/>
                      </a:lnTo>
                      <a:lnTo>
                        <a:pt x="23" y="78"/>
                      </a:lnTo>
                      <a:lnTo>
                        <a:pt x="23" y="84"/>
                      </a:lnTo>
                      <a:lnTo>
                        <a:pt x="24" y="88"/>
                      </a:lnTo>
                      <a:lnTo>
                        <a:pt x="24" y="89"/>
                      </a:lnTo>
                      <a:lnTo>
                        <a:pt x="24" y="93"/>
                      </a:lnTo>
                      <a:lnTo>
                        <a:pt x="23" y="96"/>
                      </a:lnTo>
                      <a:lnTo>
                        <a:pt x="23" y="99"/>
                      </a:lnTo>
                      <a:lnTo>
                        <a:pt x="23" y="103"/>
                      </a:lnTo>
                      <a:lnTo>
                        <a:pt x="23" y="106"/>
                      </a:lnTo>
                      <a:lnTo>
                        <a:pt x="23" y="108"/>
                      </a:lnTo>
                      <a:lnTo>
                        <a:pt x="21" y="111"/>
                      </a:lnTo>
                      <a:lnTo>
                        <a:pt x="21" y="114"/>
                      </a:lnTo>
                      <a:lnTo>
                        <a:pt x="21" y="117"/>
                      </a:lnTo>
                      <a:lnTo>
                        <a:pt x="20" y="121"/>
                      </a:lnTo>
                      <a:lnTo>
                        <a:pt x="20" y="122"/>
                      </a:lnTo>
                      <a:lnTo>
                        <a:pt x="20" y="125"/>
                      </a:lnTo>
                      <a:lnTo>
                        <a:pt x="20" y="128"/>
                      </a:lnTo>
                      <a:lnTo>
                        <a:pt x="20" y="130"/>
                      </a:lnTo>
                      <a:lnTo>
                        <a:pt x="20" y="135"/>
                      </a:lnTo>
                      <a:lnTo>
                        <a:pt x="18" y="137"/>
                      </a:lnTo>
                      <a:lnTo>
                        <a:pt x="18" y="140"/>
                      </a:lnTo>
                      <a:lnTo>
                        <a:pt x="18" y="143"/>
                      </a:lnTo>
                      <a:lnTo>
                        <a:pt x="18" y="147"/>
                      </a:lnTo>
                      <a:lnTo>
                        <a:pt x="18" y="150"/>
                      </a:lnTo>
                      <a:lnTo>
                        <a:pt x="18" y="152"/>
                      </a:lnTo>
                      <a:lnTo>
                        <a:pt x="18" y="155"/>
                      </a:lnTo>
                      <a:lnTo>
                        <a:pt x="18" y="159"/>
                      </a:lnTo>
                      <a:lnTo>
                        <a:pt x="17" y="162"/>
                      </a:lnTo>
                      <a:lnTo>
                        <a:pt x="17" y="165"/>
                      </a:lnTo>
                      <a:lnTo>
                        <a:pt x="17" y="168"/>
                      </a:lnTo>
                      <a:lnTo>
                        <a:pt x="17" y="172"/>
                      </a:lnTo>
                      <a:lnTo>
                        <a:pt x="17" y="177"/>
                      </a:lnTo>
                      <a:lnTo>
                        <a:pt x="15" y="183"/>
                      </a:lnTo>
                      <a:lnTo>
                        <a:pt x="15" y="185"/>
                      </a:lnTo>
                      <a:lnTo>
                        <a:pt x="15" y="189"/>
                      </a:lnTo>
                      <a:lnTo>
                        <a:pt x="15" y="192"/>
                      </a:lnTo>
                      <a:lnTo>
                        <a:pt x="15" y="196"/>
                      </a:lnTo>
                      <a:lnTo>
                        <a:pt x="15" y="199"/>
                      </a:lnTo>
                      <a:lnTo>
                        <a:pt x="15" y="202"/>
                      </a:lnTo>
                      <a:lnTo>
                        <a:pt x="15" y="205"/>
                      </a:lnTo>
                      <a:lnTo>
                        <a:pt x="15" y="209"/>
                      </a:lnTo>
                      <a:lnTo>
                        <a:pt x="15" y="211"/>
                      </a:lnTo>
                      <a:lnTo>
                        <a:pt x="15" y="214"/>
                      </a:lnTo>
                      <a:lnTo>
                        <a:pt x="15" y="218"/>
                      </a:lnTo>
                      <a:lnTo>
                        <a:pt x="15" y="221"/>
                      </a:lnTo>
                      <a:lnTo>
                        <a:pt x="15" y="220"/>
                      </a:lnTo>
                      <a:lnTo>
                        <a:pt x="15" y="218"/>
                      </a:lnTo>
                      <a:lnTo>
                        <a:pt x="15" y="217"/>
                      </a:lnTo>
                      <a:lnTo>
                        <a:pt x="17" y="213"/>
                      </a:lnTo>
                      <a:lnTo>
                        <a:pt x="18" y="210"/>
                      </a:lnTo>
                      <a:lnTo>
                        <a:pt x="20" y="206"/>
                      </a:lnTo>
                      <a:lnTo>
                        <a:pt x="20" y="200"/>
                      </a:lnTo>
                      <a:lnTo>
                        <a:pt x="21" y="196"/>
                      </a:lnTo>
                      <a:lnTo>
                        <a:pt x="21" y="191"/>
                      </a:lnTo>
                      <a:lnTo>
                        <a:pt x="23" y="185"/>
                      </a:lnTo>
                      <a:lnTo>
                        <a:pt x="23" y="180"/>
                      </a:lnTo>
                      <a:lnTo>
                        <a:pt x="24" y="173"/>
                      </a:lnTo>
                      <a:lnTo>
                        <a:pt x="24" y="170"/>
                      </a:lnTo>
                      <a:lnTo>
                        <a:pt x="26" y="168"/>
                      </a:lnTo>
                      <a:lnTo>
                        <a:pt x="26" y="163"/>
                      </a:lnTo>
                      <a:lnTo>
                        <a:pt x="26" y="161"/>
                      </a:lnTo>
                      <a:lnTo>
                        <a:pt x="26" y="157"/>
                      </a:lnTo>
                      <a:lnTo>
                        <a:pt x="27" y="154"/>
                      </a:lnTo>
                      <a:lnTo>
                        <a:pt x="27" y="150"/>
                      </a:lnTo>
                      <a:lnTo>
                        <a:pt x="29" y="147"/>
                      </a:lnTo>
                      <a:lnTo>
                        <a:pt x="29" y="143"/>
                      </a:lnTo>
                      <a:lnTo>
                        <a:pt x="29" y="140"/>
                      </a:lnTo>
                      <a:lnTo>
                        <a:pt x="30" y="136"/>
                      </a:lnTo>
                      <a:lnTo>
                        <a:pt x="30" y="133"/>
                      </a:lnTo>
                      <a:lnTo>
                        <a:pt x="30" y="129"/>
                      </a:lnTo>
                      <a:lnTo>
                        <a:pt x="32" y="126"/>
                      </a:lnTo>
                      <a:lnTo>
                        <a:pt x="32" y="122"/>
                      </a:lnTo>
                      <a:lnTo>
                        <a:pt x="32" y="119"/>
                      </a:lnTo>
                      <a:lnTo>
                        <a:pt x="32" y="115"/>
                      </a:lnTo>
                      <a:lnTo>
                        <a:pt x="34" y="113"/>
                      </a:lnTo>
                      <a:lnTo>
                        <a:pt x="34" y="108"/>
                      </a:lnTo>
                      <a:lnTo>
                        <a:pt x="35" y="106"/>
                      </a:lnTo>
                      <a:lnTo>
                        <a:pt x="35" y="99"/>
                      </a:lnTo>
                      <a:lnTo>
                        <a:pt x="37" y="95"/>
                      </a:lnTo>
                      <a:lnTo>
                        <a:pt x="37" y="88"/>
                      </a:lnTo>
                      <a:lnTo>
                        <a:pt x="38" y="84"/>
                      </a:lnTo>
                      <a:lnTo>
                        <a:pt x="38" y="78"/>
                      </a:lnTo>
                      <a:lnTo>
                        <a:pt x="40" y="74"/>
                      </a:lnTo>
                      <a:lnTo>
                        <a:pt x="40" y="70"/>
                      </a:lnTo>
                      <a:lnTo>
                        <a:pt x="41" y="67"/>
                      </a:lnTo>
                      <a:lnTo>
                        <a:pt x="41" y="65"/>
                      </a:lnTo>
                      <a:lnTo>
                        <a:pt x="43" y="63"/>
                      </a:lnTo>
                      <a:lnTo>
                        <a:pt x="43" y="62"/>
                      </a:lnTo>
                      <a:lnTo>
                        <a:pt x="46" y="62"/>
                      </a:lnTo>
                      <a:lnTo>
                        <a:pt x="50" y="60"/>
                      </a:lnTo>
                      <a:lnTo>
                        <a:pt x="55" y="59"/>
                      </a:lnTo>
                      <a:lnTo>
                        <a:pt x="58" y="59"/>
                      </a:lnTo>
                      <a:lnTo>
                        <a:pt x="61" y="58"/>
                      </a:lnTo>
                      <a:lnTo>
                        <a:pt x="64" y="56"/>
                      </a:lnTo>
                      <a:lnTo>
                        <a:pt x="67" y="56"/>
                      </a:lnTo>
                      <a:lnTo>
                        <a:pt x="70" y="55"/>
                      </a:lnTo>
                      <a:lnTo>
                        <a:pt x="75" y="55"/>
                      </a:lnTo>
                      <a:lnTo>
                        <a:pt x="78" y="54"/>
                      </a:lnTo>
                      <a:lnTo>
                        <a:pt x="82" y="54"/>
                      </a:lnTo>
                      <a:lnTo>
                        <a:pt x="86" y="52"/>
                      </a:lnTo>
                      <a:lnTo>
                        <a:pt x="90" y="52"/>
                      </a:lnTo>
                      <a:lnTo>
                        <a:pt x="93" y="51"/>
                      </a:lnTo>
                      <a:lnTo>
                        <a:pt x="98" y="51"/>
                      </a:lnTo>
                      <a:lnTo>
                        <a:pt x="101" y="49"/>
                      </a:lnTo>
                      <a:lnTo>
                        <a:pt x="105" y="49"/>
                      </a:lnTo>
                      <a:lnTo>
                        <a:pt x="108" y="49"/>
                      </a:lnTo>
                      <a:lnTo>
                        <a:pt x="113" y="49"/>
                      </a:lnTo>
                      <a:lnTo>
                        <a:pt x="116" y="48"/>
                      </a:lnTo>
                      <a:lnTo>
                        <a:pt x="119" y="48"/>
                      </a:lnTo>
                      <a:lnTo>
                        <a:pt x="122" y="48"/>
                      </a:lnTo>
                      <a:lnTo>
                        <a:pt x="127" y="48"/>
                      </a:lnTo>
                      <a:lnTo>
                        <a:pt x="133" y="48"/>
                      </a:lnTo>
                      <a:lnTo>
                        <a:pt x="139" y="49"/>
                      </a:lnTo>
                      <a:lnTo>
                        <a:pt x="115" y="60"/>
                      </a:lnTo>
                      <a:lnTo>
                        <a:pt x="113" y="59"/>
                      </a:lnTo>
                      <a:lnTo>
                        <a:pt x="112" y="59"/>
                      </a:lnTo>
                      <a:lnTo>
                        <a:pt x="108" y="59"/>
                      </a:lnTo>
                      <a:lnTo>
                        <a:pt x="105" y="59"/>
                      </a:lnTo>
                      <a:lnTo>
                        <a:pt x="101" y="59"/>
                      </a:lnTo>
                      <a:lnTo>
                        <a:pt x="95" y="60"/>
                      </a:lnTo>
                      <a:lnTo>
                        <a:pt x="90" y="62"/>
                      </a:lnTo>
                      <a:lnTo>
                        <a:pt x="84" y="62"/>
                      </a:lnTo>
                      <a:lnTo>
                        <a:pt x="78" y="63"/>
                      </a:lnTo>
                      <a:lnTo>
                        <a:pt x="73" y="65"/>
                      </a:lnTo>
                      <a:lnTo>
                        <a:pt x="67" y="65"/>
                      </a:lnTo>
                      <a:lnTo>
                        <a:pt x="63" y="66"/>
                      </a:lnTo>
                      <a:lnTo>
                        <a:pt x="56" y="66"/>
                      </a:lnTo>
                      <a:lnTo>
                        <a:pt x="53" y="66"/>
                      </a:lnTo>
                      <a:lnTo>
                        <a:pt x="50" y="67"/>
                      </a:lnTo>
                      <a:lnTo>
                        <a:pt x="47" y="67"/>
                      </a:lnTo>
                      <a:lnTo>
                        <a:pt x="46" y="70"/>
                      </a:lnTo>
                      <a:lnTo>
                        <a:pt x="46" y="74"/>
                      </a:lnTo>
                      <a:lnTo>
                        <a:pt x="44" y="77"/>
                      </a:lnTo>
                      <a:lnTo>
                        <a:pt x="44" y="80"/>
                      </a:lnTo>
                      <a:lnTo>
                        <a:pt x="44" y="84"/>
                      </a:lnTo>
                      <a:lnTo>
                        <a:pt x="43" y="87"/>
                      </a:lnTo>
                      <a:lnTo>
                        <a:pt x="43" y="89"/>
                      </a:lnTo>
                      <a:lnTo>
                        <a:pt x="43" y="93"/>
                      </a:lnTo>
                      <a:lnTo>
                        <a:pt x="43" y="98"/>
                      </a:lnTo>
                      <a:lnTo>
                        <a:pt x="43" y="100"/>
                      </a:lnTo>
                      <a:lnTo>
                        <a:pt x="43" y="104"/>
                      </a:lnTo>
                      <a:lnTo>
                        <a:pt x="43" y="107"/>
                      </a:lnTo>
                      <a:lnTo>
                        <a:pt x="43" y="111"/>
                      </a:lnTo>
                      <a:lnTo>
                        <a:pt x="43" y="114"/>
                      </a:lnTo>
                      <a:lnTo>
                        <a:pt x="43" y="118"/>
                      </a:lnTo>
                      <a:lnTo>
                        <a:pt x="43" y="122"/>
                      </a:lnTo>
                      <a:lnTo>
                        <a:pt x="43" y="125"/>
                      </a:lnTo>
                      <a:lnTo>
                        <a:pt x="43" y="129"/>
                      </a:lnTo>
                      <a:lnTo>
                        <a:pt x="43" y="132"/>
                      </a:lnTo>
                      <a:lnTo>
                        <a:pt x="43" y="136"/>
                      </a:lnTo>
                      <a:lnTo>
                        <a:pt x="43" y="139"/>
                      </a:lnTo>
                      <a:lnTo>
                        <a:pt x="43" y="143"/>
                      </a:lnTo>
                      <a:lnTo>
                        <a:pt x="43" y="146"/>
                      </a:lnTo>
                      <a:lnTo>
                        <a:pt x="43" y="150"/>
                      </a:lnTo>
                      <a:lnTo>
                        <a:pt x="43" y="154"/>
                      </a:lnTo>
                      <a:lnTo>
                        <a:pt x="43" y="157"/>
                      </a:lnTo>
                      <a:lnTo>
                        <a:pt x="43" y="161"/>
                      </a:lnTo>
                      <a:lnTo>
                        <a:pt x="44" y="163"/>
                      </a:lnTo>
                      <a:lnTo>
                        <a:pt x="44" y="168"/>
                      </a:lnTo>
                      <a:lnTo>
                        <a:pt x="44" y="172"/>
                      </a:lnTo>
                      <a:lnTo>
                        <a:pt x="44" y="174"/>
                      </a:lnTo>
                      <a:lnTo>
                        <a:pt x="44" y="179"/>
                      </a:lnTo>
                      <a:lnTo>
                        <a:pt x="44" y="184"/>
                      </a:lnTo>
                      <a:lnTo>
                        <a:pt x="44" y="191"/>
                      </a:lnTo>
                      <a:lnTo>
                        <a:pt x="43" y="194"/>
                      </a:lnTo>
                      <a:lnTo>
                        <a:pt x="43" y="196"/>
                      </a:lnTo>
                      <a:lnTo>
                        <a:pt x="43" y="200"/>
                      </a:lnTo>
                      <a:lnTo>
                        <a:pt x="43" y="203"/>
                      </a:lnTo>
                      <a:lnTo>
                        <a:pt x="43" y="206"/>
                      </a:lnTo>
                      <a:lnTo>
                        <a:pt x="41" y="210"/>
                      </a:lnTo>
                      <a:lnTo>
                        <a:pt x="41" y="213"/>
                      </a:lnTo>
                      <a:lnTo>
                        <a:pt x="41" y="216"/>
                      </a:lnTo>
                      <a:lnTo>
                        <a:pt x="40" y="218"/>
                      </a:lnTo>
                      <a:lnTo>
                        <a:pt x="40" y="222"/>
                      </a:lnTo>
                      <a:lnTo>
                        <a:pt x="40" y="225"/>
                      </a:lnTo>
                      <a:lnTo>
                        <a:pt x="40" y="229"/>
                      </a:lnTo>
                      <a:lnTo>
                        <a:pt x="43" y="231"/>
                      </a:lnTo>
                      <a:lnTo>
                        <a:pt x="47" y="232"/>
                      </a:lnTo>
                      <a:lnTo>
                        <a:pt x="50" y="233"/>
                      </a:lnTo>
                      <a:lnTo>
                        <a:pt x="55" y="235"/>
                      </a:lnTo>
                      <a:lnTo>
                        <a:pt x="58" y="179"/>
                      </a:lnTo>
                      <a:lnTo>
                        <a:pt x="58" y="173"/>
                      </a:lnTo>
                      <a:lnTo>
                        <a:pt x="60" y="168"/>
                      </a:lnTo>
                      <a:lnTo>
                        <a:pt x="60" y="163"/>
                      </a:lnTo>
                      <a:lnTo>
                        <a:pt x="61" y="158"/>
                      </a:lnTo>
                      <a:lnTo>
                        <a:pt x="63" y="152"/>
                      </a:lnTo>
                      <a:lnTo>
                        <a:pt x="63" y="148"/>
                      </a:lnTo>
                      <a:lnTo>
                        <a:pt x="64" y="143"/>
                      </a:lnTo>
                      <a:lnTo>
                        <a:pt x="66" y="137"/>
                      </a:lnTo>
                      <a:lnTo>
                        <a:pt x="66" y="132"/>
                      </a:lnTo>
                      <a:lnTo>
                        <a:pt x="67" y="126"/>
                      </a:lnTo>
                      <a:lnTo>
                        <a:pt x="67" y="122"/>
                      </a:lnTo>
                      <a:lnTo>
                        <a:pt x="69" y="117"/>
                      </a:lnTo>
                      <a:lnTo>
                        <a:pt x="70" y="111"/>
                      </a:lnTo>
                      <a:lnTo>
                        <a:pt x="70" y="107"/>
                      </a:lnTo>
                      <a:lnTo>
                        <a:pt x="72" y="102"/>
                      </a:lnTo>
                      <a:lnTo>
                        <a:pt x="73" y="96"/>
                      </a:lnTo>
                      <a:lnTo>
                        <a:pt x="73" y="102"/>
                      </a:lnTo>
                      <a:lnTo>
                        <a:pt x="73" y="107"/>
                      </a:lnTo>
                      <a:lnTo>
                        <a:pt x="75" y="113"/>
                      </a:lnTo>
                      <a:lnTo>
                        <a:pt x="75" y="118"/>
                      </a:lnTo>
                      <a:lnTo>
                        <a:pt x="75" y="124"/>
                      </a:lnTo>
                      <a:lnTo>
                        <a:pt x="76" y="129"/>
                      </a:lnTo>
                      <a:lnTo>
                        <a:pt x="76" y="135"/>
                      </a:lnTo>
                      <a:lnTo>
                        <a:pt x="78" y="140"/>
                      </a:lnTo>
                      <a:lnTo>
                        <a:pt x="82" y="141"/>
                      </a:lnTo>
                      <a:lnTo>
                        <a:pt x="84" y="139"/>
                      </a:lnTo>
                      <a:lnTo>
                        <a:pt x="86" y="135"/>
                      </a:lnTo>
                      <a:lnTo>
                        <a:pt x="86" y="130"/>
                      </a:lnTo>
                      <a:lnTo>
                        <a:pt x="87" y="128"/>
                      </a:lnTo>
                      <a:lnTo>
                        <a:pt x="87" y="124"/>
                      </a:lnTo>
                      <a:lnTo>
                        <a:pt x="87" y="119"/>
                      </a:lnTo>
                      <a:lnTo>
                        <a:pt x="87" y="117"/>
                      </a:lnTo>
                      <a:lnTo>
                        <a:pt x="87" y="113"/>
                      </a:lnTo>
                      <a:lnTo>
                        <a:pt x="90" y="111"/>
                      </a:lnTo>
                      <a:lnTo>
                        <a:pt x="95" y="111"/>
                      </a:lnTo>
                      <a:lnTo>
                        <a:pt x="98" y="110"/>
                      </a:lnTo>
                      <a:lnTo>
                        <a:pt x="102" y="110"/>
                      </a:lnTo>
                      <a:lnTo>
                        <a:pt x="107" y="108"/>
                      </a:lnTo>
                      <a:lnTo>
                        <a:pt x="110" y="108"/>
                      </a:lnTo>
                      <a:lnTo>
                        <a:pt x="115" y="107"/>
                      </a:lnTo>
                      <a:lnTo>
                        <a:pt x="119" y="107"/>
                      </a:lnTo>
                      <a:lnTo>
                        <a:pt x="124" y="106"/>
                      </a:lnTo>
                      <a:lnTo>
                        <a:pt x="128" y="104"/>
                      </a:lnTo>
                      <a:lnTo>
                        <a:pt x="133" y="103"/>
                      </a:lnTo>
                      <a:lnTo>
                        <a:pt x="138" y="103"/>
                      </a:lnTo>
                      <a:lnTo>
                        <a:pt x="142" y="102"/>
                      </a:lnTo>
                      <a:lnTo>
                        <a:pt x="147" y="102"/>
                      </a:lnTo>
                      <a:lnTo>
                        <a:pt x="153" y="100"/>
                      </a:lnTo>
                      <a:lnTo>
                        <a:pt x="157" y="99"/>
                      </a:lnTo>
                      <a:lnTo>
                        <a:pt x="164" y="98"/>
                      </a:lnTo>
                      <a:lnTo>
                        <a:pt x="168" y="98"/>
                      </a:lnTo>
                      <a:lnTo>
                        <a:pt x="173" y="96"/>
                      </a:lnTo>
                      <a:lnTo>
                        <a:pt x="179" y="96"/>
                      </a:lnTo>
                      <a:lnTo>
                        <a:pt x="183" y="93"/>
                      </a:lnTo>
                      <a:lnTo>
                        <a:pt x="190" y="93"/>
                      </a:lnTo>
                      <a:lnTo>
                        <a:pt x="194" y="92"/>
                      </a:lnTo>
                      <a:lnTo>
                        <a:pt x="200" y="92"/>
                      </a:lnTo>
                      <a:lnTo>
                        <a:pt x="205" y="91"/>
                      </a:lnTo>
                      <a:lnTo>
                        <a:pt x="211" y="89"/>
                      </a:lnTo>
                      <a:lnTo>
                        <a:pt x="217" y="89"/>
                      </a:lnTo>
                      <a:lnTo>
                        <a:pt x="222" y="88"/>
                      </a:lnTo>
                      <a:lnTo>
                        <a:pt x="228" y="87"/>
                      </a:lnTo>
                      <a:lnTo>
                        <a:pt x="234" y="87"/>
                      </a:lnTo>
                      <a:lnTo>
                        <a:pt x="238" y="85"/>
                      </a:lnTo>
                      <a:lnTo>
                        <a:pt x="245" y="85"/>
                      </a:lnTo>
                      <a:lnTo>
                        <a:pt x="249" y="84"/>
                      </a:lnTo>
                      <a:lnTo>
                        <a:pt x="255" y="84"/>
                      </a:lnTo>
                      <a:lnTo>
                        <a:pt x="260" y="82"/>
                      </a:lnTo>
                      <a:lnTo>
                        <a:pt x="266" y="81"/>
                      </a:lnTo>
                      <a:lnTo>
                        <a:pt x="271" y="80"/>
                      </a:lnTo>
                      <a:lnTo>
                        <a:pt x="277" y="80"/>
                      </a:lnTo>
                      <a:lnTo>
                        <a:pt x="281" y="78"/>
                      </a:lnTo>
                      <a:lnTo>
                        <a:pt x="287" y="78"/>
                      </a:lnTo>
                      <a:lnTo>
                        <a:pt x="292" y="77"/>
                      </a:lnTo>
                      <a:lnTo>
                        <a:pt x="297" y="77"/>
                      </a:lnTo>
                      <a:lnTo>
                        <a:pt x="303" y="77"/>
                      </a:lnTo>
                      <a:lnTo>
                        <a:pt x="307" y="77"/>
                      </a:lnTo>
                      <a:lnTo>
                        <a:pt x="312" y="76"/>
                      </a:lnTo>
                      <a:lnTo>
                        <a:pt x="316" y="76"/>
                      </a:lnTo>
                      <a:lnTo>
                        <a:pt x="323" y="76"/>
                      </a:lnTo>
                      <a:lnTo>
                        <a:pt x="327" y="76"/>
                      </a:lnTo>
                      <a:lnTo>
                        <a:pt x="332" y="74"/>
                      </a:lnTo>
                      <a:lnTo>
                        <a:pt x="336" y="74"/>
                      </a:lnTo>
                      <a:lnTo>
                        <a:pt x="341" y="74"/>
                      </a:lnTo>
                      <a:lnTo>
                        <a:pt x="346" y="74"/>
                      </a:lnTo>
                      <a:lnTo>
                        <a:pt x="349" y="74"/>
                      </a:lnTo>
                      <a:lnTo>
                        <a:pt x="353" y="74"/>
                      </a:lnTo>
                      <a:lnTo>
                        <a:pt x="358" y="74"/>
                      </a:lnTo>
                      <a:lnTo>
                        <a:pt x="362" y="76"/>
                      </a:lnTo>
                      <a:lnTo>
                        <a:pt x="365" y="76"/>
                      </a:lnTo>
                      <a:lnTo>
                        <a:pt x="369" y="76"/>
                      </a:lnTo>
                      <a:lnTo>
                        <a:pt x="373" y="77"/>
                      </a:lnTo>
                      <a:lnTo>
                        <a:pt x="376" y="77"/>
                      </a:lnTo>
                      <a:lnTo>
                        <a:pt x="382" y="78"/>
                      </a:lnTo>
                      <a:lnTo>
                        <a:pt x="388" y="81"/>
                      </a:lnTo>
                      <a:lnTo>
                        <a:pt x="385" y="82"/>
                      </a:lnTo>
                      <a:lnTo>
                        <a:pt x="381" y="84"/>
                      </a:lnTo>
                      <a:lnTo>
                        <a:pt x="378" y="84"/>
                      </a:lnTo>
                      <a:lnTo>
                        <a:pt x="375" y="85"/>
                      </a:lnTo>
                      <a:lnTo>
                        <a:pt x="370" y="87"/>
                      </a:lnTo>
                      <a:lnTo>
                        <a:pt x="367" y="87"/>
                      </a:lnTo>
                      <a:lnTo>
                        <a:pt x="364" y="87"/>
                      </a:lnTo>
                      <a:lnTo>
                        <a:pt x="361" y="88"/>
                      </a:lnTo>
                      <a:lnTo>
                        <a:pt x="356" y="88"/>
                      </a:lnTo>
                      <a:lnTo>
                        <a:pt x="353" y="89"/>
                      </a:lnTo>
                      <a:lnTo>
                        <a:pt x="349" y="89"/>
                      </a:lnTo>
                      <a:lnTo>
                        <a:pt x="346" y="89"/>
                      </a:lnTo>
                      <a:lnTo>
                        <a:pt x="341" y="89"/>
                      </a:lnTo>
                      <a:lnTo>
                        <a:pt x="338" y="91"/>
                      </a:lnTo>
                      <a:lnTo>
                        <a:pt x="333" y="91"/>
                      </a:lnTo>
                      <a:lnTo>
                        <a:pt x="330" y="91"/>
                      </a:lnTo>
                      <a:lnTo>
                        <a:pt x="327" y="91"/>
                      </a:lnTo>
                      <a:lnTo>
                        <a:pt x="324" y="91"/>
                      </a:lnTo>
                      <a:lnTo>
                        <a:pt x="320" y="91"/>
                      </a:lnTo>
                      <a:lnTo>
                        <a:pt x="316" y="91"/>
                      </a:lnTo>
                      <a:lnTo>
                        <a:pt x="312" y="91"/>
                      </a:lnTo>
                      <a:lnTo>
                        <a:pt x="309" y="91"/>
                      </a:lnTo>
                      <a:lnTo>
                        <a:pt x="304" y="91"/>
                      </a:lnTo>
                      <a:lnTo>
                        <a:pt x="301" y="92"/>
                      </a:lnTo>
                      <a:lnTo>
                        <a:pt x="297" y="92"/>
                      </a:lnTo>
                      <a:lnTo>
                        <a:pt x="294" y="92"/>
                      </a:lnTo>
                      <a:lnTo>
                        <a:pt x="290" y="92"/>
                      </a:lnTo>
                      <a:lnTo>
                        <a:pt x="286" y="92"/>
                      </a:lnTo>
                      <a:lnTo>
                        <a:pt x="283" y="92"/>
                      </a:lnTo>
                      <a:lnTo>
                        <a:pt x="280" y="92"/>
                      </a:lnTo>
                      <a:lnTo>
                        <a:pt x="275" y="93"/>
                      </a:lnTo>
                      <a:lnTo>
                        <a:pt x="272" y="95"/>
                      </a:lnTo>
                      <a:lnTo>
                        <a:pt x="141" y="113"/>
                      </a:lnTo>
                      <a:lnTo>
                        <a:pt x="194" y="119"/>
                      </a:lnTo>
                      <a:lnTo>
                        <a:pt x="196" y="119"/>
                      </a:lnTo>
                      <a:lnTo>
                        <a:pt x="200" y="118"/>
                      </a:lnTo>
                      <a:lnTo>
                        <a:pt x="203" y="118"/>
                      </a:lnTo>
                      <a:lnTo>
                        <a:pt x="208" y="117"/>
                      </a:lnTo>
                      <a:lnTo>
                        <a:pt x="212" y="117"/>
                      </a:lnTo>
                      <a:lnTo>
                        <a:pt x="219" y="117"/>
                      </a:lnTo>
                      <a:lnTo>
                        <a:pt x="225" y="115"/>
                      </a:lnTo>
                      <a:lnTo>
                        <a:pt x="231" y="114"/>
                      </a:lnTo>
                      <a:lnTo>
                        <a:pt x="234" y="114"/>
                      </a:lnTo>
                      <a:lnTo>
                        <a:pt x="237" y="114"/>
                      </a:lnTo>
                      <a:lnTo>
                        <a:pt x="242" y="113"/>
                      </a:lnTo>
                      <a:lnTo>
                        <a:pt x="246" y="113"/>
                      </a:lnTo>
                      <a:lnTo>
                        <a:pt x="249" y="113"/>
                      </a:lnTo>
                      <a:lnTo>
                        <a:pt x="252" y="111"/>
                      </a:lnTo>
                      <a:lnTo>
                        <a:pt x="257" y="111"/>
                      </a:lnTo>
                      <a:lnTo>
                        <a:pt x="263" y="111"/>
                      </a:lnTo>
                      <a:lnTo>
                        <a:pt x="266" y="111"/>
                      </a:lnTo>
                      <a:lnTo>
                        <a:pt x="271" y="110"/>
                      </a:lnTo>
                      <a:lnTo>
                        <a:pt x="275" y="110"/>
                      </a:lnTo>
                      <a:lnTo>
                        <a:pt x="281" y="110"/>
                      </a:lnTo>
                      <a:lnTo>
                        <a:pt x="286" y="108"/>
                      </a:lnTo>
                      <a:lnTo>
                        <a:pt x="290" y="108"/>
                      </a:lnTo>
                      <a:lnTo>
                        <a:pt x="297" y="107"/>
                      </a:lnTo>
                      <a:lnTo>
                        <a:pt x="301" y="107"/>
                      </a:lnTo>
                      <a:lnTo>
                        <a:pt x="307" y="106"/>
                      </a:lnTo>
                      <a:lnTo>
                        <a:pt x="312" y="104"/>
                      </a:lnTo>
                      <a:lnTo>
                        <a:pt x="318" y="104"/>
                      </a:lnTo>
                      <a:lnTo>
                        <a:pt x="324" y="104"/>
                      </a:lnTo>
                      <a:lnTo>
                        <a:pt x="330" y="103"/>
                      </a:lnTo>
                      <a:lnTo>
                        <a:pt x="335" y="102"/>
                      </a:lnTo>
                      <a:lnTo>
                        <a:pt x="341" y="102"/>
                      </a:lnTo>
                      <a:lnTo>
                        <a:pt x="349" y="102"/>
                      </a:lnTo>
                      <a:lnTo>
                        <a:pt x="355" y="100"/>
                      </a:lnTo>
                      <a:lnTo>
                        <a:pt x="361" y="100"/>
                      </a:lnTo>
                      <a:lnTo>
                        <a:pt x="367" y="99"/>
                      </a:lnTo>
                      <a:lnTo>
                        <a:pt x="375" y="99"/>
                      </a:lnTo>
                      <a:lnTo>
                        <a:pt x="381" y="98"/>
                      </a:lnTo>
                      <a:lnTo>
                        <a:pt x="387" y="98"/>
                      </a:lnTo>
                      <a:lnTo>
                        <a:pt x="393" y="96"/>
                      </a:lnTo>
                      <a:lnTo>
                        <a:pt x="401" y="96"/>
                      </a:lnTo>
                      <a:lnTo>
                        <a:pt x="408" y="95"/>
                      </a:lnTo>
                      <a:lnTo>
                        <a:pt x="414" y="95"/>
                      </a:lnTo>
                      <a:lnTo>
                        <a:pt x="422" y="93"/>
                      </a:lnTo>
                      <a:lnTo>
                        <a:pt x="430" y="93"/>
                      </a:lnTo>
                      <a:lnTo>
                        <a:pt x="437" y="92"/>
                      </a:lnTo>
                      <a:lnTo>
                        <a:pt x="445" y="92"/>
                      </a:lnTo>
                      <a:lnTo>
                        <a:pt x="453" y="91"/>
                      </a:lnTo>
                      <a:lnTo>
                        <a:pt x="460" y="91"/>
                      </a:lnTo>
                      <a:lnTo>
                        <a:pt x="468" y="89"/>
                      </a:lnTo>
                      <a:lnTo>
                        <a:pt x="476" y="89"/>
                      </a:lnTo>
                      <a:lnTo>
                        <a:pt x="483" y="88"/>
                      </a:lnTo>
                      <a:lnTo>
                        <a:pt x="492" y="88"/>
                      </a:lnTo>
                      <a:lnTo>
                        <a:pt x="1211" y="84"/>
                      </a:lnTo>
                      <a:lnTo>
                        <a:pt x="1083" y="92"/>
                      </a:lnTo>
                      <a:lnTo>
                        <a:pt x="1080" y="91"/>
                      </a:lnTo>
                      <a:lnTo>
                        <a:pt x="1077" y="91"/>
                      </a:lnTo>
                      <a:lnTo>
                        <a:pt x="1072" y="89"/>
                      </a:lnTo>
                      <a:lnTo>
                        <a:pt x="1068" y="89"/>
                      </a:lnTo>
                      <a:lnTo>
                        <a:pt x="1061" y="89"/>
                      </a:lnTo>
                      <a:lnTo>
                        <a:pt x="1058" y="89"/>
                      </a:lnTo>
                      <a:lnTo>
                        <a:pt x="1054" y="89"/>
                      </a:lnTo>
                      <a:lnTo>
                        <a:pt x="1051" y="89"/>
                      </a:lnTo>
                      <a:lnTo>
                        <a:pt x="1054" y="89"/>
                      </a:lnTo>
                      <a:lnTo>
                        <a:pt x="1058" y="91"/>
                      </a:lnTo>
                      <a:lnTo>
                        <a:pt x="1061" y="91"/>
                      </a:lnTo>
                      <a:lnTo>
                        <a:pt x="1066" y="92"/>
                      </a:lnTo>
                      <a:lnTo>
                        <a:pt x="1071" y="92"/>
                      </a:lnTo>
                      <a:lnTo>
                        <a:pt x="1075" y="92"/>
                      </a:lnTo>
                      <a:lnTo>
                        <a:pt x="1080" y="93"/>
                      </a:lnTo>
                      <a:lnTo>
                        <a:pt x="1084" y="93"/>
                      </a:lnTo>
                      <a:lnTo>
                        <a:pt x="1087" y="93"/>
                      </a:lnTo>
                      <a:lnTo>
                        <a:pt x="1092" y="93"/>
                      </a:lnTo>
                      <a:lnTo>
                        <a:pt x="1097" y="95"/>
                      </a:lnTo>
                      <a:lnTo>
                        <a:pt x="1101" y="95"/>
                      </a:lnTo>
                      <a:lnTo>
                        <a:pt x="1106" y="95"/>
                      </a:lnTo>
                      <a:lnTo>
                        <a:pt x="1110" y="95"/>
                      </a:lnTo>
                      <a:lnTo>
                        <a:pt x="1115" y="96"/>
                      </a:lnTo>
                      <a:lnTo>
                        <a:pt x="1120" y="96"/>
                      </a:lnTo>
                      <a:lnTo>
                        <a:pt x="1124" y="96"/>
                      </a:lnTo>
                      <a:lnTo>
                        <a:pt x="1130" y="96"/>
                      </a:lnTo>
                      <a:lnTo>
                        <a:pt x="1133" y="96"/>
                      </a:lnTo>
                      <a:lnTo>
                        <a:pt x="1139" y="96"/>
                      </a:lnTo>
                      <a:lnTo>
                        <a:pt x="1144" y="96"/>
                      </a:lnTo>
                      <a:lnTo>
                        <a:pt x="1149" y="96"/>
                      </a:lnTo>
                      <a:lnTo>
                        <a:pt x="1153" y="96"/>
                      </a:lnTo>
                      <a:lnTo>
                        <a:pt x="1158" y="96"/>
                      </a:lnTo>
                      <a:lnTo>
                        <a:pt x="1162" y="96"/>
                      </a:lnTo>
                      <a:lnTo>
                        <a:pt x="1167" y="96"/>
                      </a:lnTo>
                      <a:lnTo>
                        <a:pt x="1172" y="96"/>
                      </a:lnTo>
                      <a:lnTo>
                        <a:pt x="1178" y="96"/>
                      </a:lnTo>
                      <a:lnTo>
                        <a:pt x="1182" y="96"/>
                      </a:lnTo>
                      <a:lnTo>
                        <a:pt x="1187" y="96"/>
                      </a:lnTo>
                      <a:lnTo>
                        <a:pt x="1191" y="96"/>
                      </a:lnTo>
                      <a:lnTo>
                        <a:pt x="1196" y="96"/>
                      </a:lnTo>
                      <a:lnTo>
                        <a:pt x="1201" y="96"/>
                      </a:lnTo>
                      <a:lnTo>
                        <a:pt x="1207" y="96"/>
                      </a:lnTo>
                      <a:lnTo>
                        <a:pt x="1210" y="96"/>
                      </a:lnTo>
                      <a:lnTo>
                        <a:pt x="1216" y="96"/>
                      </a:lnTo>
                      <a:lnTo>
                        <a:pt x="1219" y="95"/>
                      </a:lnTo>
                      <a:lnTo>
                        <a:pt x="1225" y="95"/>
                      </a:lnTo>
                      <a:lnTo>
                        <a:pt x="1230" y="95"/>
                      </a:lnTo>
                      <a:lnTo>
                        <a:pt x="1234" y="95"/>
                      </a:lnTo>
                      <a:lnTo>
                        <a:pt x="1239" y="95"/>
                      </a:lnTo>
                      <a:lnTo>
                        <a:pt x="1243" y="95"/>
                      </a:lnTo>
                      <a:lnTo>
                        <a:pt x="1248" y="93"/>
                      </a:lnTo>
                      <a:lnTo>
                        <a:pt x="1254" y="93"/>
                      </a:lnTo>
                      <a:lnTo>
                        <a:pt x="1257" y="93"/>
                      </a:lnTo>
                      <a:lnTo>
                        <a:pt x="1263" y="93"/>
                      </a:lnTo>
                      <a:lnTo>
                        <a:pt x="1268" y="93"/>
                      </a:lnTo>
                      <a:lnTo>
                        <a:pt x="1273" y="93"/>
                      </a:lnTo>
                      <a:lnTo>
                        <a:pt x="1277" y="92"/>
                      </a:lnTo>
                      <a:lnTo>
                        <a:pt x="1282" y="92"/>
                      </a:lnTo>
                      <a:lnTo>
                        <a:pt x="1286" y="92"/>
                      </a:lnTo>
                      <a:lnTo>
                        <a:pt x="1291" y="92"/>
                      </a:lnTo>
                      <a:lnTo>
                        <a:pt x="1295" y="92"/>
                      </a:lnTo>
                      <a:lnTo>
                        <a:pt x="1300" y="92"/>
                      </a:lnTo>
                      <a:lnTo>
                        <a:pt x="1305" y="92"/>
                      </a:lnTo>
                      <a:lnTo>
                        <a:pt x="1309" y="92"/>
                      </a:lnTo>
                      <a:lnTo>
                        <a:pt x="1314" y="91"/>
                      </a:lnTo>
                      <a:lnTo>
                        <a:pt x="1318" y="91"/>
                      </a:lnTo>
                      <a:lnTo>
                        <a:pt x="1323" y="91"/>
                      </a:lnTo>
                      <a:lnTo>
                        <a:pt x="1328" y="91"/>
                      </a:lnTo>
                      <a:lnTo>
                        <a:pt x="1332" y="89"/>
                      </a:lnTo>
                      <a:lnTo>
                        <a:pt x="1337" y="89"/>
                      </a:lnTo>
                      <a:lnTo>
                        <a:pt x="1340" y="89"/>
                      </a:lnTo>
                      <a:lnTo>
                        <a:pt x="1346" y="89"/>
                      </a:lnTo>
                      <a:lnTo>
                        <a:pt x="1346" y="93"/>
                      </a:lnTo>
                      <a:lnTo>
                        <a:pt x="1346" y="98"/>
                      </a:lnTo>
                      <a:lnTo>
                        <a:pt x="1346" y="102"/>
                      </a:lnTo>
                      <a:lnTo>
                        <a:pt x="1347" y="106"/>
                      </a:lnTo>
                      <a:lnTo>
                        <a:pt x="1347" y="110"/>
                      </a:lnTo>
                      <a:lnTo>
                        <a:pt x="1349" y="115"/>
                      </a:lnTo>
                      <a:lnTo>
                        <a:pt x="1349" y="121"/>
                      </a:lnTo>
                      <a:lnTo>
                        <a:pt x="1351" y="125"/>
                      </a:lnTo>
                      <a:lnTo>
                        <a:pt x="1351" y="129"/>
                      </a:lnTo>
                      <a:lnTo>
                        <a:pt x="1352" y="135"/>
                      </a:lnTo>
                      <a:lnTo>
                        <a:pt x="1352" y="139"/>
                      </a:lnTo>
                      <a:lnTo>
                        <a:pt x="1354" y="144"/>
                      </a:lnTo>
                      <a:lnTo>
                        <a:pt x="1355" y="148"/>
                      </a:lnTo>
                      <a:lnTo>
                        <a:pt x="1357" y="151"/>
                      </a:lnTo>
                      <a:lnTo>
                        <a:pt x="1360" y="154"/>
                      </a:lnTo>
                      <a:lnTo>
                        <a:pt x="1361" y="158"/>
                      </a:lnTo>
                      <a:lnTo>
                        <a:pt x="1366" y="154"/>
                      </a:lnTo>
                      <a:lnTo>
                        <a:pt x="1364" y="148"/>
                      </a:lnTo>
                      <a:lnTo>
                        <a:pt x="1364" y="143"/>
                      </a:lnTo>
                      <a:lnTo>
                        <a:pt x="1363" y="139"/>
                      </a:lnTo>
                      <a:lnTo>
                        <a:pt x="1363" y="133"/>
                      </a:lnTo>
                      <a:lnTo>
                        <a:pt x="1361" y="129"/>
                      </a:lnTo>
                      <a:lnTo>
                        <a:pt x="1361" y="125"/>
                      </a:lnTo>
                      <a:lnTo>
                        <a:pt x="1360" y="121"/>
                      </a:lnTo>
                      <a:lnTo>
                        <a:pt x="1360" y="117"/>
                      </a:lnTo>
                      <a:lnTo>
                        <a:pt x="1360" y="111"/>
                      </a:lnTo>
                      <a:lnTo>
                        <a:pt x="1358" y="107"/>
                      </a:lnTo>
                      <a:lnTo>
                        <a:pt x="1358" y="102"/>
                      </a:lnTo>
                      <a:lnTo>
                        <a:pt x="1358" y="99"/>
                      </a:lnTo>
                      <a:lnTo>
                        <a:pt x="1357" y="93"/>
                      </a:lnTo>
                      <a:lnTo>
                        <a:pt x="1357" y="89"/>
                      </a:lnTo>
                      <a:lnTo>
                        <a:pt x="1357" y="85"/>
                      </a:lnTo>
                      <a:lnTo>
                        <a:pt x="1357" y="81"/>
                      </a:lnTo>
                      <a:lnTo>
                        <a:pt x="1354" y="80"/>
                      </a:lnTo>
                      <a:lnTo>
                        <a:pt x="1351" y="80"/>
                      </a:lnTo>
                      <a:lnTo>
                        <a:pt x="1346" y="80"/>
                      </a:lnTo>
                      <a:lnTo>
                        <a:pt x="1343" y="81"/>
                      </a:lnTo>
                      <a:lnTo>
                        <a:pt x="1340" y="81"/>
                      </a:lnTo>
                      <a:lnTo>
                        <a:pt x="1337" y="82"/>
                      </a:lnTo>
                      <a:lnTo>
                        <a:pt x="1332" y="82"/>
                      </a:lnTo>
                      <a:lnTo>
                        <a:pt x="1329" y="84"/>
                      </a:lnTo>
                      <a:lnTo>
                        <a:pt x="1325" y="84"/>
                      </a:lnTo>
                      <a:lnTo>
                        <a:pt x="1321" y="84"/>
                      </a:lnTo>
                      <a:lnTo>
                        <a:pt x="1326" y="81"/>
                      </a:lnTo>
                      <a:lnTo>
                        <a:pt x="1328" y="80"/>
                      </a:lnTo>
                      <a:lnTo>
                        <a:pt x="1331" y="78"/>
                      </a:lnTo>
                      <a:lnTo>
                        <a:pt x="1334" y="77"/>
                      </a:lnTo>
                      <a:lnTo>
                        <a:pt x="1338" y="77"/>
                      </a:lnTo>
                      <a:lnTo>
                        <a:pt x="1341" y="76"/>
                      </a:lnTo>
                      <a:lnTo>
                        <a:pt x="1347" y="76"/>
                      </a:lnTo>
                      <a:lnTo>
                        <a:pt x="1351" y="74"/>
                      </a:lnTo>
                      <a:lnTo>
                        <a:pt x="1354" y="74"/>
                      </a:lnTo>
                      <a:lnTo>
                        <a:pt x="1357" y="74"/>
                      </a:lnTo>
                      <a:lnTo>
                        <a:pt x="1361" y="74"/>
                      </a:lnTo>
                      <a:lnTo>
                        <a:pt x="1363" y="77"/>
                      </a:lnTo>
                      <a:lnTo>
                        <a:pt x="1364" y="82"/>
                      </a:lnTo>
                      <a:lnTo>
                        <a:pt x="1367" y="87"/>
                      </a:lnTo>
                      <a:lnTo>
                        <a:pt x="1369" y="89"/>
                      </a:lnTo>
                      <a:lnTo>
                        <a:pt x="1369" y="87"/>
                      </a:lnTo>
                      <a:lnTo>
                        <a:pt x="1370" y="84"/>
                      </a:lnTo>
                      <a:lnTo>
                        <a:pt x="1370" y="80"/>
                      </a:lnTo>
                      <a:lnTo>
                        <a:pt x="1370" y="77"/>
                      </a:lnTo>
                      <a:lnTo>
                        <a:pt x="1370" y="74"/>
                      </a:lnTo>
                      <a:lnTo>
                        <a:pt x="1370" y="71"/>
                      </a:lnTo>
                      <a:lnTo>
                        <a:pt x="1370" y="67"/>
                      </a:lnTo>
                      <a:lnTo>
                        <a:pt x="1369" y="65"/>
                      </a:lnTo>
                      <a:lnTo>
                        <a:pt x="1364" y="65"/>
                      </a:lnTo>
                      <a:lnTo>
                        <a:pt x="1360" y="65"/>
                      </a:lnTo>
                      <a:lnTo>
                        <a:pt x="1357" y="65"/>
                      </a:lnTo>
                      <a:lnTo>
                        <a:pt x="1352" y="66"/>
                      </a:lnTo>
                      <a:lnTo>
                        <a:pt x="1347" y="66"/>
                      </a:lnTo>
                      <a:lnTo>
                        <a:pt x="1344" y="67"/>
                      </a:lnTo>
                      <a:lnTo>
                        <a:pt x="1340" y="67"/>
                      </a:lnTo>
                      <a:lnTo>
                        <a:pt x="1337" y="69"/>
                      </a:lnTo>
                      <a:lnTo>
                        <a:pt x="1332" y="69"/>
                      </a:lnTo>
                      <a:lnTo>
                        <a:pt x="1329" y="70"/>
                      </a:lnTo>
                      <a:lnTo>
                        <a:pt x="1325" y="70"/>
                      </a:lnTo>
                      <a:lnTo>
                        <a:pt x="1320" y="71"/>
                      </a:lnTo>
                      <a:lnTo>
                        <a:pt x="1317" y="71"/>
                      </a:lnTo>
                      <a:lnTo>
                        <a:pt x="1312" y="71"/>
                      </a:lnTo>
                      <a:lnTo>
                        <a:pt x="1309" y="71"/>
                      </a:lnTo>
                      <a:lnTo>
                        <a:pt x="1306" y="71"/>
                      </a:lnTo>
                      <a:lnTo>
                        <a:pt x="1302" y="71"/>
                      </a:lnTo>
                      <a:lnTo>
                        <a:pt x="1299" y="71"/>
                      </a:lnTo>
                      <a:lnTo>
                        <a:pt x="1295" y="70"/>
                      </a:lnTo>
                      <a:lnTo>
                        <a:pt x="1292" y="70"/>
                      </a:lnTo>
                      <a:lnTo>
                        <a:pt x="1285" y="69"/>
                      </a:lnTo>
                      <a:lnTo>
                        <a:pt x="1280" y="70"/>
                      </a:lnTo>
                      <a:lnTo>
                        <a:pt x="1285" y="67"/>
                      </a:lnTo>
                      <a:lnTo>
                        <a:pt x="1291" y="65"/>
                      </a:lnTo>
                      <a:lnTo>
                        <a:pt x="1297" y="63"/>
                      </a:lnTo>
                      <a:lnTo>
                        <a:pt x="1302" y="62"/>
                      </a:lnTo>
                      <a:lnTo>
                        <a:pt x="1308" y="62"/>
                      </a:lnTo>
                      <a:lnTo>
                        <a:pt x="1314" y="60"/>
                      </a:lnTo>
                      <a:lnTo>
                        <a:pt x="1320" y="60"/>
                      </a:lnTo>
                      <a:lnTo>
                        <a:pt x="1326" y="60"/>
                      </a:lnTo>
                      <a:lnTo>
                        <a:pt x="1332" y="60"/>
                      </a:lnTo>
                      <a:lnTo>
                        <a:pt x="1337" y="60"/>
                      </a:lnTo>
                      <a:lnTo>
                        <a:pt x="1343" y="60"/>
                      </a:lnTo>
                      <a:lnTo>
                        <a:pt x="1351" y="60"/>
                      </a:lnTo>
                      <a:lnTo>
                        <a:pt x="1355" y="59"/>
                      </a:lnTo>
                      <a:lnTo>
                        <a:pt x="1363" y="59"/>
                      </a:lnTo>
                      <a:lnTo>
                        <a:pt x="1366" y="59"/>
                      </a:lnTo>
                      <a:lnTo>
                        <a:pt x="1369" y="59"/>
                      </a:lnTo>
                      <a:lnTo>
                        <a:pt x="1372" y="59"/>
                      </a:lnTo>
                      <a:lnTo>
                        <a:pt x="1377" y="59"/>
                      </a:lnTo>
                      <a:lnTo>
                        <a:pt x="1377" y="62"/>
                      </a:lnTo>
                      <a:lnTo>
                        <a:pt x="1377" y="66"/>
                      </a:lnTo>
                      <a:lnTo>
                        <a:pt x="1378" y="70"/>
                      </a:lnTo>
                      <a:lnTo>
                        <a:pt x="1380" y="74"/>
                      </a:lnTo>
                      <a:lnTo>
                        <a:pt x="1380" y="78"/>
                      </a:lnTo>
                      <a:lnTo>
                        <a:pt x="1381" y="84"/>
                      </a:lnTo>
                      <a:lnTo>
                        <a:pt x="1381" y="87"/>
                      </a:lnTo>
                      <a:lnTo>
                        <a:pt x="1383" y="92"/>
                      </a:lnTo>
                      <a:lnTo>
                        <a:pt x="1384" y="96"/>
                      </a:lnTo>
                      <a:lnTo>
                        <a:pt x="1384" y="99"/>
                      </a:lnTo>
                      <a:lnTo>
                        <a:pt x="1384" y="103"/>
                      </a:lnTo>
                      <a:lnTo>
                        <a:pt x="1386" y="108"/>
                      </a:lnTo>
                      <a:lnTo>
                        <a:pt x="1387" y="111"/>
                      </a:lnTo>
                      <a:lnTo>
                        <a:pt x="1387" y="117"/>
                      </a:lnTo>
                      <a:lnTo>
                        <a:pt x="1389" y="121"/>
                      </a:lnTo>
                      <a:lnTo>
                        <a:pt x="1390" y="125"/>
                      </a:lnTo>
                      <a:lnTo>
                        <a:pt x="1390" y="129"/>
                      </a:lnTo>
                      <a:lnTo>
                        <a:pt x="1392" y="133"/>
                      </a:lnTo>
                      <a:lnTo>
                        <a:pt x="1392" y="136"/>
                      </a:lnTo>
                      <a:lnTo>
                        <a:pt x="1393" y="141"/>
                      </a:lnTo>
                      <a:lnTo>
                        <a:pt x="1395" y="146"/>
                      </a:lnTo>
                      <a:lnTo>
                        <a:pt x="1395" y="150"/>
                      </a:lnTo>
                      <a:lnTo>
                        <a:pt x="1396" y="154"/>
                      </a:lnTo>
                      <a:lnTo>
                        <a:pt x="1398" y="158"/>
                      </a:lnTo>
                      <a:lnTo>
                        <a:pt x="1398" y="162"/>
                      </a:lnTo>
                      <a:lnTo>
                        <a:pt x="1399" y="166"/>
                      </a:lnTo>
                      <a:lnTo>
                        <a:pt x="1399" y="170"/>
                      </a:lnTo>
                      <a:lnTo>
                        <a:pt x="1401" y="174"/>
                      </a:lnTo>
                      <a:lnTo>
                        <a:pt x="1401" y="179"/>
                      </a:lnTo>
                      <a:lnTo>
                        <a:pt x="1404" y="183"/>
                      </a:lnTo>
                      <a:lnTo>
                        <a:pt x="1404" y="187"/>
                      </a:lnTo>
                      <a:lnTo>
                        <a:pt x="1406" y="192"/>
                      </a:lnTo>
                      <a:lnTo>
                        <a:pt x="1419" y="192"/>
                      </a:lnTo>
                      <a:lnTo>
                        <a:pt x="1418" y="188"/>
                      </a:lnTo>
                      <a:lnTo>
                        <a:pt x="1418" y="184"/>
                      </a:lnTo>
                      <a:lnTo>
                        <a:pt x="1418" y="180"/>
                      </a:lnTo>
                      <a:lnTo>
                        <a:pt x="1418" y="174"/>
                      </a:lnTo>
                      <a:lnTo>
                        <a:pt x="1418" y="170"/>
                      </a:lnTo>
                      <a:lnTo>
                        <a:pt x="1418" y="165"/>
                      </a:lnTo>
                      <a:lnTo>
                        <a:pt x="1418" y="159"/>
                      </a:lnTo>
                      <a:lnTo>
                        <a:pt x="1418" y="155"/>
                      </a:lnTo>
                      <a:lnTo>
                        <a:pt x="1416" y="150"/>
                      </a:lnTo>
                      <a:lnTo>
                        <a:pt x="1416" y="144"/>
                      </a:lnTo>
                      <a:lnTo>
                        <a:pt x="1415" y="139"/>
                      </a:lnTo>
                      <a:lnTo>
                        <a:pt x="1415" y="133"/>
                      </a:lnTo>
                      <a:lnTo>
                        <a:pt x="1415" y="126"/>
                      </a:lnTo>
                      <a:lnTo>
                        <a:pt x="1415" y="121"/>
                      </a:lnTo>
                      <a:lnTo>
                        <a:pt x="1415" y="115"/>
                      </a:lnTo>
                      <a:lnTo>
                        <a:pt x="1415" y="110"/>
                      </a:lnTo>
                      <a:lnTo>
                        <a:pt x="1413" y="104"/>
                      </a:lnTo>
                      <a:lnTo>
                        <a:pt x="1413" y="99"/>
                      </a:lnTo>
                      <a:lnTo>
                        <a:pt x="1412" y="92"/>
                      </a:lnTo>
                      <a:lnTo>
                        <a:pt x="1412" y="87"/>
                      </a:lnTo>
                      <a:lnTo>
                        <a:pt x="1410" y="81"/>
                      </a:lnTo>
                      <a:lnTo>
                        <a:pt x="1410" y="76"/>
                      </a:lnTo>
                      <a:lnTo>
                        <a:pt x="1409" y="71"/>
                      </a:lnTo>
                      <a:lnTo>
                        <a:pt x="1409" y="66"/>
                      </a:lnTo>
                      <a:lnTo>
                        <a:pt x="1407" y="60"/>
                      </a:lnTo>
                      <a:lnTo>
                        <a:pt x="1406" y="55"/>
                      </a:lnTo>
                      <a:lnTo>
                        <a:pt x="1404" y="51"/>
                      </a:lnTo>
                      <a:lnTo>
                        <a:pt x="1404" y="47"/>
                      </a:lnTo>
                      <a:lnTo>
                        <a:pt x="1403" y="43"/>
                      </a:lnTo>
                      <a:lnTo>
                        <a:pt x="1401" y="40"/>
                      </a:lnTo>
                      <a:lnTo>
                        <a:pt x="1399" y="36"/>
                      </a:lnTo>
                      <a:lnTo>
                        <a:pt x="1398" y="33"/>
                      </a:lnTo>
                      <a:lnTo>
                        <a:pt x="1395" y="33"/>
                      </a:lnTo>
                      <a:lnTo>
                        <a:pt x="1390" y="32"/>
                      </a:lnTo>
                      <a:lnTo>
                        <a:pt x="1384" y="32"/>
                      </a:lnTo>
                      <a:lnTo>
                        <a:pt x="1381" y="32"/>
                      </a:lnTo>
                      <a:lnTo>
                        <a:pt x="1378" y="32"/>
                      </a:lnTo>
                      <a:lnTo>
                        <a:pt x="1375" y="32"/>
                      </a:lnTo>
                      <a:lnTo>
                        <a:pt x="1372" y="32"/>
                      </a:lnTo>
                      <a:lnTo>
                        <a:pt x="1367" y="30"/>
                      </a:lnTo>
                      <a:lnTo>
                        <a:pt x="1364" y="30"/>
                      </a:lnTo>
                      <a:lnTo>
                        <a:pt x="1360" y="30"/>
                      </a:lnTo>
                      <a:lnTo>
                        <a:pt x="1357" y="30"/>
                      </a:lnTo>
                      <a:lnTo>
                        <a:pt x="1352" y="30"/>
                      </a:lnTo>
                      <a:lnTo>
                        <a:pt x="1349" y="30"/>
                      </a:lnTo>
                      <a:lnTo>
                        <a:pt x="1344" y="30"/>
                      </a:lnTo>
                      <a:lnTo>
                        <a:pt x="1341" y="30"/>
                      </a:lnTo>
                      <a:lnTo>
                        <a:pt x="1337" y="29"/>
                      </a:lnTo>
                      <a:lnTo>
                        <a:pt x="1334" y="29"/>
                      </a:lnTo>
                      <a:lnTo>
                        <a:pt x="1331" y="29"/>
                      </a:lnTo>
                      <a:lnTo>
                        <a:pt x="1328" y="29"/>
                      </a:lnTo>
                      <a:lnTo>
                        <a:pt x="1323" y="29"/>
                      </a:lnTo>
                      <a:lnTo>
                        <a:pt x="1318" y="29"/>
                      </a:lnTo>
                      <a:lnTo>
                        <a:pt x="1315" y="29"/>
                      </a:lnTo>
                      <a:lnTo>
                        <a:pt x="1321" y="28"/>
                      </a:lnTo>
                      <a:lnTo>
                        <a:pt x="1326" y="26"/>
                      </a:lnTo>
                      <a:lnTo>
                        <a:pt x="1332" y="25"/>
                      </a:lnTo>
                      <a:lnTo>
                        <a:pt x="1338" y="25"/>
                      </a:lnTo>
                      <a:lnTo>
                        <a:pt x="1343" y="23"/>
                      </a:lnTo>
                      <a:lnTo>
                        <a:pt x="1351" y="23"/>
                      </a:lnTo>
                      <a:lnTo>
                        <a:pt x="1355" y="23"/>
                      </a:lnTo>
                      <a:lnTo>
                        <a:pt x="1361" y="23"/>
                      </a:lnTo>
                      <a:lnTo>
                        <a:pt x="1367" y="23"/>
                      </a:lnTo>
                      <a:lnTo>
                        <a:pt x="1373" y="23"/>
                      </a:lnTo>
                      <a:lnTo>
                        <a:pt x="1378" y="23"/>
                      </a:lnTo>
                      <a:lnTo>
                        <a:pt x="1384" y="23"/>
                      </a:lnTo>
                      <a:lnTo>
                        <a:pt x="1390" y="23"/>
                      </a:lnTo>
                      <a:lnTo>
                        <a:pt x="1396" y="23"/>
                      </a:lnTo>
                      <a:lnTo>
                        <a:pt x="1403" y="23"/>
                      </a:lnTo>
                      <a:lnTo>
                        <a:pt x="1409" y="23"/>
                      </a:lnTo>
                      <a:lnTo>
                        <a:pt x="1409" y="29"/>
                      </a:lnTo>
                      <a:lnTo>
                        <a:pt x="1409" y="33"/>
                      </a:lnTo>
                      <a:lnTo>
                        <a:pt x="1410" y="38"/>
                      </a:lnTo>
                      <a:lnTo>
                        <a:pt x="1412" y="44"/>
                      </a:lnTo>
                      <a:lnTo>
                        <a:pt x="1412" y="49"/>
                      </a:lnTo>
                      <a:lnTo>
                        <a:pt x="1412" y="54"/>
                      </a:lnTo>
                      <a:lnTo>
                        <a:pt x="1412" y="59"/>
                      </a:lnTo>
                      <a:lnTo>
                        <a:pt x="1413" y="65"/>
                      </a:lnTo>
                      <a:lnTo>
                        <a:pt x="1413" y="70"/>
                      </a:lnTo>
                      <a:lnTo>
                        <a:pt x="1415" y="74"/>
                      </a:lnTo>
                      <a:lnTo>
                        <a:pt x="1415" y="80"/>
                      </a:lnTo>
                      <a:lnTo>
                        <a:pt x="1415" y="85"/>
                      </a:lnTo>
                      <a:lnTo>
                        <a:pt x="1416" y="91"/>
                      </a:lnTo>
                      <a:lnTo>
                        <a:pt x="1418" y="96"/>
                      </a:lnTo>
                      <a:lnTo>
                        <a:pt x="1418" y="102"/>
                      </a:lnTo>
                      <a:lnTo>
                        <a:pt x="1419" y="107"/>
                      </a:lnTo>
                      <a:lnTo>
                        <a:pt x="1419" y="111"/>
                      </a:lnTo>
                      <a:lnTo>
                        <a:pt x="1421" y="117"/>
                      </a:lnTo>
                      <a:lnTo>
                        <a:pt x="1422" y="122"/>
                      </a:lnTo>
                      <a:lnTo>
                        <a:pt x="1422" y="126"/>
                      </a:lnTo>
                      <a:lnTo>
                        <a:pt x="1424" y="132"/>
                      </a:lnTo>
                      <a:lnTo>
                        <a:pt x="1425" y="137"/>
                      </a:lnTo>
                      <a:lnTo>
                        <a:pt x="1425" y="141"/>
                      </a:lnTo>
                      <a:lnTo>
                        <a:pt x="1429" y="148"/>
                      </a:lnTo>
                      <a:lnTo>
                        <a:pt x="1429" y="152"/>
                      </a:lnTo>
                      <a:lnTo>
                        <a:pt x="1430" y="158"/>
                      </a:lnTo>
                      <a:lnTo>
                        <a:pt x="1432" y="163"/>
                      </a:lnTo>
                      <a:lnTo>
                        <a:pt x="1433" y="168"/>
                      </a:lnTo>
                      <a:lnTo>
                        <a:pt x="1436" y="173"/>
                      </a:lnTo>
                      <a:lnTo>
                        <a:pt x="1438" y="177"/>
                      </a:lnTo>
                      <a:lnTo>
                        <a:pt x="1439" y="183"/>
                      </a:lnTo>
                      <a:lnTo>
                        <a:pt x="1442" y="188"/>
                      </a:lnTo>
                      <a:lnTo>
                        <a:pt x="1442" y="191"/>
                      </a:lnTo>
                      <a:lnTo>
                        <a:pt x="1444" y="195"/>
                      </a:lnTo>
                      <a:lnTo>
                        <a:pt x="1445" y="196"/>
                      </a:lnTo>
                      <a:lnTo>
                        <a:pt x="1447" y="198"/>
                      </a:lnTo>
                      <a:lnTo>
                        <a:pt x="1448" y="196"/>
                      </a:lnTo>
                      <a:lnTo>
                        <a:pt x="1450" y="194"/>
                      </a:lnTo>
                      <a:lnTo>
                        <a:pt x="1450" y="188"/>
                      </a:lnTo>
                      <a:lnTo>
                        <a:pt x="1450" y="183"/>
                      </a:lnTo>
                      <a:lnTo>
                        <a:pt x="1450" y="179"/>
                      </a:lnTo>
                      <a:lnTo>
                        <a:pt x="1450" y="174"/>
                      </a:lnTo>
                      <a:lnTo>
                        <a:pt x="1448" y="170"/>
                      </a:lnTo>
                      <a:lnTo>
                        <a:pt x="1448" y="168"/>
                      </a:lnTo>
                      <a:lnTo>
                        <a:pt x="1448" y="163"/>
                      </a:lnTo>
                      <a:lnTo>
                        <a:pt x="1448" y="159"/>
                      </a:lnTo>
                      <a:lnTo>
                        <a:pt x="1447" y="154"/>
                      </a:lnTo>
                      <a:lnTo>
                        <a:pt x="1447" y="150"/>
                      </a:lnTo>
                      <a:lnTo>
                        <a:pt x="1447" y="143"/>
                      </a:lnTo>
                      <a:lnTo>
                        <a:pt x="1447" y="137"/>
                      </a:lnTo>
                      <a:lnTo>
                        <a:pt x="1447" y="135"/>
                      </a:lnTo>
                      <a:lnTo>
                        <a:pt x="1447" y="130"/>
                      </a:lnTo>
                      <a:lnTo>
                        <a:pt x="1445" y="128"/>
                      </a:lnTo>
                      <a:lnTo>
                        <a:pt x="1445" y="124"/>
                      </a:lnTo>
                      <a:lnTo>
                        <a:pt x="1445" y="121"/>
                      </a:lnTo>
                      <a:lnTo>
                        <a:pt x="1445" y="117"/>
                      </a:lnTo>
                      <a:lnTo>
                        <a:pt x="1444" y="114"/>
                      </a:lnTo>
                      <a:lnTo>
                        <a:pt x="1444" y="111"/>
                      </a:lnTo>
                      <a:lnTo>
                        <a:pt x="1444" y="107"/>
                      </a:lnTo>
                      <a:lnTo>
                        <a:pt x="1444" y="103"/>
                      </a:lnTo>
                      <a:lnTo>
                        <a:pt x="1442" y="99"/>
                      </a:lnTo>
                      <a:lnTo>
                        <a:pt x="1442" y="96"/>
                      </a:lnTo>
                      <a:lnTo>
                        <a:pt x="1442" y="92"/>
                      </a:lnTo>
                      <a:lnTo>
                        <a:pt x="1442" y="88"/>
                      </a:lnTo>
                      <a:lnTo>
                        <a:pt x="1442" y="85"/>
                      </a:lnTo>
                      <a:lnTo>
                        <a:pt x="1442" y="81"/>
                      </a:lnTo>
                      <a:lnTo>
                        <a:pt x="1442" y="77"/>
                      </a:lnTo>
                      <a:lnTo>
                        <a:pt x="1441" y="74"/>
                      </a:lnTo>
                      <a:lnTo>
                        <a:pt x="1441" y="70"/>
                      </a:lnTo>
                      <a:lnTo>
                        <a:pt x="1441" y="66"/>
                      </a:lnTo>
                      <a:lnTo>
                        <a:pt x="1439" y="62"/>
                      </a:lnTo>
                      <a:lnTo>
                        <a:pt x="1439" y="59"/>
                      </a:lnTo>
                      <a:lnTo>
                        <a:pt x="1439" y="55"/>
                      </a:lnTo>
                      <a:lnTo>
                        <a:pt x="1439" y="52"/>
                      </a:lnTo>
                      <a:lnTo>
                        <a:pt x="1439" y="48"/>
                      </a:lnTo>
                      <a:lnTo>
                        <a:pt x="1438" y="45"/>
                      </a:lnTo>
                      <a:lnTo>
                        <a:pt x="1438" y="41"/>
                      </a:lnTo>
                      <a:lnTo>
                        <a:pt x="1438" y="38"/>
                      </a:lnTo>
                      <a:lnTo>
                        <a:pt x="1436" y="36"/>
                      </a:lnTo>
                      <a:lnTo>
                        <a:pt x="1436" y="32"/>
                      </a:lnTo>
                      <a:lnTo>
                        <a:pt x="1436" y="29"/>
                      </a:lnTo>
                      <a:lnTo>
                        <a:pt x="1436" y="28"/>
                      </a:lnTo>
                      <a:lnTo>
                        <a:pt x="1435" y="21"/>
                      </a:lnTo>
                      <a:lnTo>
                        <a:pt x="1435" y="17"/>
                      </a:lnTo>
                      <a:lnTo>
                        <a:pt x="1433" y="11"/>
                      </a:lnTo>
                      <a:lnTo>
                        <a:pt x="1433" y="8"/>
                      </a:lnTo>
                      <a:lnTo>
                        <a:pt x="1433" y="4"/>
                      </a:lnTo>
                      <a:lnTo>
                        <a:pt x="1433" y="3"/>
                      </a:lnTo>
                      <a:lnTo>
                        <a:pt x="1432" y="0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62"/>
                <p:cNvSpPr/>
                <p:nvPr/>
              </p:nvSpPr>
              <p:spPr>
                <a:xfrm>
                  <a:off x="2975760" y="2179080"/>
                  <a:ext cx="95400" cy="648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277" h="18">
                      <a:moveTo>
                        <a:pt x="277" y="0"/>
                      </a:moveTo>
                      <a:lnTo>
                        <a:pt x="269" y="0"/>
                      </a:lnTo>
                      <a:lnTo>
                        <a:pt x="263" y="0"/>
                      </a:lnTo>
                      <a:lnTo>
                        <a:pt x="257" y="0"/>
                      </a:lnTo>
                      <a:lnTo>
                        <a:pt x="252" y="0"/>
                      </a:lnTo>
                      <a:lnTo>
                        <a:pt x="245" y="0"/>
                      </a:lnTo>
                      <a:lnTo>
                        <a:pt x="240" y="2"/>
                      </a:lnTo>
                      <a:lnTo>
                        <a:pt x="234" y="2"/>
                      </a:lnTo>
                      <a:lnTo>
                        <a:pt x="228" y="3"/>
                      </a:lnTo>
                      <a:lnTo>
                        <a:pt x="222" y="3"/>
                      </a:lnTo>
                      <a:lnTo>
                        <a:pt x="216" y="3"/>
                      </a:lnTo>
                      <a:lnTo>
                        <a:pt x="210" y="4"/>
                      </a:lnTo>
                      <a:lnTo>
                        <a:pt x="203" y="4"/>
                      </a:lnTo>
                      <a:lnTo>
                        <a:pt x="197" y="4"/>
                      </a:lnTo>
                      <a:lnTo>
                        <a:pt x="193" y="4"/>
                      </a:lnTo>
                      <a:lnTo>
                        <a:pt x="187" y="6"/>
                      </a:lnTo>
                      <a:lnTo>
                        <a:pt x="180" y="6"/>
                      </a:lnTo>
                      <a:lnTo>
                        <a:pt x="174" y="6"/>
                      </a:lnTo>
                      <a:lnTo>
                        <a:pt x="168" y="7"/>
                      </a:lnTo>
                      <a:lnTo>
                        <a:pt x="162" y="7"/>
                      </a:lnTo>
                      <a:lnTo>
                        <a:pt x="156" y="7"/>
                      </a:lnTo>
                      <a:lnTo>
                        <a:pt x="150" y="7"/>
                      </a:lnTo>
                      <a:lnTo>
                        <a:pt x="144" y="7"/>
                      </a:lnTo>
                      <a:lnTo>
                        <a:pt x="138" y="9"/>
                      </a:lnTo>
                      <a:lnTo>
                        <a:pt x="131" y="9"/>
                      </a:lnTo>
                      <a:lnTo>
                        <a:pt x="125" y="9"/>
                      </a:lnTo>
                      <a:lnTo>
                        <a:pt x="119" y="10"/>
                      </a:lnTo>
                      <a:lnTo>
                        <a:pt x="113" y="10"/>
                      </a:lnTo>
                      <a:lnTo>
                        <a:pt x="109" y="10"/>
                      </a:lnTo>
                      <a:lnTo>
                        <a:pt x="101" y="10"/>
                      </a:lnTo>
                      <a:lnTo>
                        <a:pt x="96" y="10"/>
                      </a:lnTo>
                      <a:lnTo>
                        <a:pt x="90" y="11"/>
                      </a:lnTo>
                      <a:lnTo>
                        <a:pt x="84" y="11"/>
                      </a:lnTo>
                      <a:lnTo>
                        <a:pt x="79" y="11"/>
                      </a:lnTo>
                      <a:lnTo>
                        <a:pt x="76" y="11"/>
                      </a:lnTo>
                      <a:lnTo>
                        <a:pt x="72" y="11"/>
                      </a:lnTo>
                      <a:lnTo>
                        <a:pt x="67" y="11"/>
                      </a:lnTo>
                      <a:lnTo>
                        <a:pt x="63" y="11"/>
                      </a:lnTo>
                      <a:lnTo>
                        <a:pt x="60" y="11"/>
                      </a:lnTo>
                      <a:lnTo>
                        <a:pt x="55" y="11"/>
                      </a:lnTo>
                      <a:lnTo>
                        <a:pt x="52" y="11"/>
                      </a:lnTo>
                      <a:lnTo>
                        <a:pt x="47" y="11"/>
                      </a:lnTo>
                      <a:lnTo>
                        <a:pt x="43" y="11"/>
                      </a:lnTo>
                      <a:lnTo>
                        <a:pt x="38" y="11"/>
                      </a:lnTo>
                      <a:lnTo>
                        <a:pt x="35" y="13"/>
                      </a:lnTo>
                      <a:lnTo>
                        <a:pt x="31" y="13"/>
                      </a:lnTo>
                      <a:lnTo>
                        <a:pt x="26" y="13"/>
                      </a:lnTo>
                      <a:lnTo>
                        <a:pt x="23" y="13"/>
                      </a:lnTo>
                      <a:lnTo>
                        <a:pt x="18" y="14"/>
                      </a:lnTo>
                      <a:lnTo>
                        <a:pt x="5" y="15"/>
                      </a:lnTo>
                      <a:lnTo>
                        <a:pt x="3" y="15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29" y="18"/>
                      </a:lnTo>
                      <a:lnTo>
                        <a:pt x="34" y="18"/>
                      </a:lnTo>
                      <a:lnTo>
                        <a:pt x="38" y="18"/>
                      </a:lnTo>
                      <a:lnTo>
                        <a:pt x="43" y="18"/>
                      </a:lnTo>
                      <a:lnTo>
                        <a:pt x="49" y="18"/>
                      </a:lnTo>
                      <a:lnTo>
                        <a:pt x="55" y="18"/>
                      </a:lnTo>
                      <a:lnTo>
                        <a:pt x="60" y="18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3" y="18"/>
                      </a:lnTo>
                      <a:lnTo>
                        <a:pt x="89" y="17"/>
                      </a:lnTo>
                      <a:lnTo>
                        <a:pt x="95" y="17"/>
                      </a:lnTo>
                      <a:lnTo>
                        <a:pt x="99" y="17"/>
                      </a:lnTo>
                      <a:lnTo>
                        <a:pt x="105" y="17"/>
                      </a:lnTo>
                      <a:lnTo>
                        <a:pt x="112" y="15"/>
                      </a:lnTo>
                      <a:lnTo>
                        <a:pt x="118" y="15"/>
                      </a:lnTo>
                      <a:lnTo>
                        <a:pt x="124" y="15"/>
                      </a:lnTo>
                      <a:lnTo>
                        <a:pt x="128" y="15"/>
                      </a:lnTo>
                      <a:lnTo>
                        <a:pt x="135" y="14"/>
                      </a:lnTo>
                      <a:lnTo>
                        <a:pt x="141" y="14"/>
                      </a:lnTo>
                      <a:lnTo>
                        <a:pt x="145" y="14"/>
                      </a:lnTo>
                      <a:lnTo>
                        <a:pt x="151" y="13"/>
                      </a:lnTo>
                      <a:lnTo>
                        <a:pt x="157" y="13"/>
                      </a:lnTo>
                      <a:lnTo>
                        <a:pt x="164" y="13"/>
                      </a:lnTo>
                      <a:lnTo>
                        <a:pt x="168" y="13"/>
                      </a:lnTo>
                      <a:lnTo>
                        <a:pt x="174" y="11"/>
                      </a:lnTo>
                      <a:lnTo>
                        <a:pt x="180" y="11"/>
                      </a:lnTo>
                      <a:lnTo>
                        <a:pt x="185" y="11"/>
                      </a:lnTo>
                      <a:lnTo>
                        <a:pt x="190" y="10"/>
                      </a:lnTo>
                      <a:lnTo>
                        <a:pt x="196" y="10"/>
                      </a:lnTo>
                      <a:lnTo>
                        <a:pt x="202" y="10"/>
                      </a:lnTo>
                      <a:lnTo>
                        <a:pt x="208" y="10"/>
                      </a:lnTo>
                      <a:lnTo>
                        <a:pt x="211" y="9"/>
                      </a:lnTo>
                      <a:lnTo>
                        <a:pt x="214" y="9"/>
                      </a:lnTo>
                      <a:lnTo>
                        <a:pt x="219" y="9"/>
                      </a:lnTo>
                      <a:lnTo>
                        <a:pt x="222" y="9"/>
                      </a:lnTo>
                      <a:lnTo>
                        <a:pt x="226" y="9"/>
                      </a:lnTo>
                      <a:lnTo>
                        <a:pt x="229" y="9"/>
                      </a:lnTo>
                      <a:lnTo>
                        <a:pt x="234" y="9"/>
                      </a:lnTo>
                      <a:lnTo>
                        <a:pt x="237" y="9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9"/>
                      </a:lnTo>
                      <a:lnTo>
                        <a:pt x="252" y="9"/>
                      </a:lnTo>
                      <a:lnTo>
                        <a:pt x="255" y="7"/>
                      </a:lnTo>
                      <a:lnTo>
                        <a:pt x="260" y="7"/>
                      </a:lnTo>
                      <a:lnTo>
                        <a:pt x="263" y="7"/>
                      </a:lnTo>
                      <a:lnTo>
                        <a:pt x="268" y="7"/>
                      </a:lnTo>
                      <a:lnTo>
                        <a:pt x="272" y="6"/>
                      </a:lnTo>
                      <a:lnTo>
                        <a:pt x="275" y="4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63"/>
                <p:cNvSpPr/>
                <p:nvPr/>
              </p:nvSpPr>
              <p:spPr>
                <a:xfrm>
                  <a:off x="3152520" y="2185560"/>
                  <a:ext cx="59760" cy="50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73" h="15">
                      <a:moveTo>
                        <a:pt x="171" y="15"/>
                      </a:moveTo>
                      <a:lnTo>
                        <a:pt x="167" y="13"/>
                      </a:lnTo>
                      <a:lnTo>
                        <a:pt x="162" y="13"/>
                      </a:lnTo>
                      <a:lnTo>
                        <a:pt x="156" y="12"/>
                      </a:lnTo>
                      <a:lnTo>
                        <a:pt x="151" y="12"/>
                      </a:lnTo>
                      <a:lnTo>
                        <a:pt x="147" y="12"/>
                      </a:lnTo>
                      <a:lnTo>
                        <a:pt x="142" y="12"/>
                      </a:lnTo>
                      <a:lnTo>
                        <a:pt x="136" y="12"/>
                      </a:lnTo>
                      <a:lnTo>
                        <a:pt x="131" y="12"/>
                      </a:lnTo>
                      <a:lnTo>
                        <a:pt x="127" y="11"/>
                      </a:lnTo>
                      <a:lnTo>
                        <a:pt x="122" y="11"/>
                      </a:lnTo>
                      <a:lnTo>
                        <a:pt x="116" y="11"/>
                      </a:lnTo>
                      <a:lnTo>
                        <a:pt x="112" y="11"/>
                      </a:lnTo>
                      <a:lnTo>
                        <a:pt x="107" y="11"/>
                      </a:lnTo>
                      <a:lnTo>
                        <a:pt x="102" y="11"/>
                      </a:lnTo>
                      <a:lnTo>
                        <a:pt x="98" y="11"/>
                      </a:lnTo>
                      <a:lnTo>
                        <a:pt x="93" y="12"/>
                      </a:lnTo>
                      <a:lnTo>
                        <a:pt x="87" y="11"/>
                      </a:lnTo>
                      <a:lnTo>
                        <a:pt x="82" y="11"/>
                      </a:lnTo>
                      <a:lnTo>
                        <a:pt x="78" y="11"/>
                      </a:lnTo>
                      <a:lnTo>
                        <a:pt x="73" y="11"/>
                      </a:lnTo>
                      <a:lnTo>
                        <a:pt x="67" y="11"/>
                      </a:lnTo>
                      <a:lnTo>
                        <a:pt x="63" y="11"/>
                      </a:lnTo>
                      <a:lnTo>
                        <a:pt x="56" y="11"/>
                      </a:lnTo>
                      <a:lnTo>
                        <a:pt x="53" y="11"/>
                      </a:lnTo>
                      <a:lnTo>
                        <a:pt x="47" y="11"/>
                      </a:lnTo>
                      <a:lnTo>
                        <a:pt x="43" y="9"/>
                      </a:lnTo>
                      <a:lnTo>
                        <a:pt x="38" y="9"/>
                      </a:lnTo>
                      <a:lnTo>
                        <a:pt x="33" y="8"/>
                      </a:lnTo>
                      <a:lnTo>
                        <a:pt x="29" y="8"/>
                      </a:lnTo>
                      <a:lnTo>
                        <a:pt x="24" y="7"/>
                      </a:lnTo>
                      <a:lnTo>
                        <a:pt x="18" y="7"/>
                      </a:lnTo>
                      <a:lnTo>
                        <a:pt x="15" y="5"/>
                      </a:lnTo>
                      <a:lnTo>
                        <a:pt x="11" y="5"/>
                      </a:lnTo>
                      <a:lnTo>
                        <a:pt x="7" y="4"/>
                      </a:lnTo>
                      <a:lnTo>
                        <a:pt x="4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49" y="0"/>
                      </a:lnTo>
                      <a:lnTo>
                        <a:pt x="53" y="0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6" y="1"/>
                      </a:lnTo>
                      <a:lnTo>
                        <a:pt x="81" y="1"/>
                      </a:lnTo>
                      <a:lnTo>
                        <a:pt x="86" y="1"/>
                      </a:lnTo>
                      <a:lnTo>
                        <a:pt x="89" y="1"/>
                      </a:lnTo>
                      <a:lnTo>
                        <a:pt x="95" y="3"/>
                      </a:lnTo>
                      <a:lnTo>
                        <a:pt x="98" y="3"/>
                      </a:lnTo>
                      <a:lnTo>
                        <a:pt x="102" y="3"/>
                      </a:lnTo>
                      <a:lnTo>
                        <a:pt x="107" y="3"/>
                      </a:lnTo>
                      <a:lnTo>
                        <a:pt x="112" y="3"/>
                      </a:lnTo>
                      <a:lnTo>
                        <a:pt x="115" y="3"/>
                      </a:lnTo>
                      <a:lnTo>
                        <a:pt x="119" y="4"/>
                      </a:lnTo>
                      <a:lnTo>
                        <a:pt x="124" y="4"/>
                      </a:lnTo>
                      <a:lnTo>
                        <a:pt x="128" y="4"/>
                      </a:lnTo>
                      <a:lnTo>
                        <a:pt x="131" y="4"/>
                      </a:lnTo>
                      <a:lnTo>
                        <a:pt x="136" y="5"/>
                      </a:lnTo>
                      <a:lnTo>
                        <a:pt x="139" y="5"/>
                      </a:lnTo>
                      <a:lnTo>
                        <a:pt x="144" y="5"/>
                      </a:lnTo>
                      <a:lnTo>
                        <a:pt x="150" y="7"/>
                      </a:lnTo>
                      <a:lnTo>
                        <a:pt x="156" y="8"/>
                      </a:lnTo>
                      <a:lnTo>
                        <a:pt x="160" y="9"/>
                      </a:lnTo>
                      <a:lnTo>
                        <a:pt x="167" y="12"/>
                      </a:lnTo>
                      <a:lnTo>
                        <a:pt x="170" y="13"/>
                      </a:lnTo>
                      <a:lnTo>
                        <a:pt x="171" y="15"/>
                      </a:lnTo>
                      <a:lnTo>
                        <a:pt x="173" y="15"/>
                      </a:lnTo>
                      <a:lnTo>
                        <a:pt x="17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64"/>
                <p:cNvSpPr/>
                <p:nvPr/>
              </p:nvSpPr>
              <p:spPr>
                <a:xfrm>
                  <a:off x="2985840" y="2201040"/>
                  <a:ext cx="10800" cy="18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32" h="6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14" y="6"/>
                      </a:lnTo>
                      <a:lnTo>
                        <a:pt x="20" y="6"/>
                      </a:lnTo>
                      <a:lnTo>
                        <a:pt x="21" y="6"/>
                      </a:lnTo>
                      <a:lnTo>
                        <a:pt x="24" y="6"/>
                      </a:lnTo>
                      <a:lnTo>
                        <a:pt x="28" y="4"/>
                      </a:lnTo>
                      <a:lnTo>
                        <a:pt x="32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65"/>
                <p:cNvSpPr/>
                <p:nvPr/>
              </p:nvSpPr>
              <p:spPr>
                <a:xfrm>
                  <a:off x="2734200" y="2246760"/>
                  <a:ext cx="648000" cy="56520"/>
                </a:xfrm>
                <a:custGeom>
                  <a:avLst/>
                  <a:gdLst>
                    <a:gd name="textAreaLeft" fmla="*/ 0 w 648000"/>
                    <a:gd name="textAreaRight" fmla="*/ 648360 w 6480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871" h="154">
                      <a:moveTo>
                        <a:pt x="490" y="18"/>
                      </a:moveTo>
                      <a:lnTo>
                        <a:pt x="483" y="19"/>
                      </a:lnTo>
                      <a:lnTo>
                        <a:pt x="477" y="20"/>
                      </a:lnTo>
                      <a:lnTo>
                        <a:pt x="473" y="22"/>
                      </a:lnTo>
                      <a:lnTo>
                        <a:pt x="467" y="23"/>
                      </a:lnTo>
                      <a:lnTo>
                        <a:pt x="461" y="25"/>
                      </a:lnTo>
                      <a:lnTo>
                        <a:pt x="456" y="26"/>
                      </a:lnTo>
                      <a:lnTo>
                        <a:pt x="450" y="26"/>
                      </a:lnTo>
                      <a:lnTo>
                        <a:pt x="444" y="29"/>
                      </a:lnTo>
                      <a:lnTo>
                        <a:pt x="438" y="29"/>
                      </a:lnTo>
                      <a:lnTo>
                        <a:pt x="431" y="30"/>
                      </a:lnTo>
                      <a:lnTo>
                        <a:pt x="427" y="30"/>
                      </a:lnTo>
                      <a:lnTo>
                        <a:pt x="421" y="31"/>
                      </a:lnTo>
                      <a:lnTo>
                        <a:pt x="415" y="31"/>
                      </a:lnTo>
                      <a:lnTo>
                        <a:pt x="409" y="33"/>
                      </a:lnTo>
                      <a:lnTo>
                        <a:pt x="404" y="34"/>
                      </a:lnTo>
                      <a:lnTo>
                        <a:pt x="398" y="34"/>
                      </a:lnTo>
                      <a:lnTo>
                        <a:pt x="392" y="34"/>
                      </a:lnTo>
                      <a:lnTo>
                        <a:pt x="386" y="35"/>
                      </a:lnTo>
                      <a:lnTo>
                        <a:pt x="379" y="35"/>
                      </a:lnTo>
                      <a:lnTo>
                        <a:pt x="373" y="37"/>
                      </a:lnTo>
                      <a:lnTo>
                        <a:pt x="367" y="37"/>
                      </a:lnTo>
                      <a:lnTo>
                        <a:pt x="363" y="38"/>
                      </a:lnTo>
                      <a:lnTo>
                        <a:pt x="357" y="38"/>
                      </a:lnTo>
                      <a:lnTo>
                        <a:pt x="350" y="40"/>
                      </a:lnTo>
                      <a:lnTo>
                        <a:pt x="344" y="40"/>
                      </a:lnTo>
                      <a:lnTo>
                        <a:pt x="338" y="40"/>
                      </a:lnTo>
                      <a:lnTo>
                        <a:pt x="332" y="41"/>
                      </a:lnTo>
                      <a:lnTo>
                        <a:pt x="327" y="41"/>
                      </a:lnTo>
                      <a:lnTo>
                        <a:pt x="321" y="41"/>
                      </a:lnTo>
                      <a:lnTo>
                        <a:pt x="315" y="42"/>
                      </a:lnTo>
                      <a:lnTo>
                        <a:pt x="309" y="42"/>
                      </a:lnTo>
                      <a:lnTo>
                        <a:pt x="303" y="44"/>
                      </a:lnTo>
                      <a:lnTo>
                        <a:pt x="297" y="44"/>
                      </a:lnTo>
                      <a:lnTo>
                        <a:pt x="291" y="44"/>
                      </a:lnTo>
                      <a:lnTo>
                        <a:pt x="285" y="44"/>
                      </a:lnTo>
                      <a:lnTo>
                        <a:pt x="279" y="45"/>
                      </a:lnTo>
                      <a:lnTo>
                        <a:pt x="272" y="45"/>
                      </a:lnTo>
                      <a:lnTo>
                        <a:pt x="266" y="45"/>
                      </a:lnTo>
                      <a:lnTo>
                        <a:pt x="260" y="46"/>
                      </a:lnTo>
                      <a:lnTo>
                        <a:pt x="254" y="46"/>
                      </a:lnTo>
                      <a:lnTo>
                        <a:pt x="248" y="46"/>
                      </a:lnTo>
                      <a:lnTo>
                        <a:pt x="242" y="48"/>
                      </a:lnTo>
                      <a:lnTo>
                        <a:pt x="237" y="48"/>
                      </a:lnTo>
                      <a:lnTo>
                        <a:pt x="231" y="49"/>
                      </a:lnTo>
                      <a:lnTo>
                        <a:pt x="225" y="51"/>
                      </a:lnTo>
                      <a:lnTo>
                        <a:pt x="219" y="51"/>
                      </a:lnTo>
                      <a:lnTo>
                        <a:pt x="213" y="52"/>
                      </a:lnTo>
                      <a:lnTo>
                        <a:pt x="207" y="53"/>
                      </a:lnTo>
                      <a:lnTo>
                        <a:pt x="201" y="53"/>
                      </a:lnTo>
                      <a:lnTo>
                        <a:pt x="194" y="55"/>
                      </a:lnTo>
                      <a:lnTo>
                        <a:pt x="188" y="55"/>
                      </a:lnTo>
                      <a:lnTo>
                        <a:pt x="184" y="56"/>
                      </a:lnTo>
                      <a:lnTo>
                        <a:pt x="178" y="57"/>
                      </a:lnTo>
                      <a:lnTo>
                        <a:pt x="171" y="59"/>
                      </a:lnTo>
                      <a:lnTo>
                        <a:pt x="165" y="59"/>
                      </a:lnTo>
                      <a:lnTo>
                        <a:pt x="161" y="62"/>
                      </a:lnTo>
                      <a:lnTo>
                        <a:pt x="155" y="63"/>
                      </a:lnTo>
                      <a:lnTo>
                        <a:pt x="148" y="63"/>
                      </a:lnTo>
                      <a:lnTo>
                        <a:pt x="144" y="66"/>
                      </a:lnTo>
                      <a:lnTo>
                        <a:pt x="138" y="67"/>
                      </a:lnTo>
                      <a:lnTo>
                        <a:pt x="132" y="68"/>
                      </a:lnTo>
                      <a:lnTo>
                        <a:pt x="127" y="70"/>
                      </a:lnTo>
                      <a:lnTo>
                        <a:pt x="121" y="73"/>
                      </a:lnTo>
                      <a:lnTo>
                        <a:pt x="116" y="75"/>
                      </a:lnTo>
                      <a:lnTo>
                        <a:pt x="121" y="77"/>
                      </a:lnTo>
                      <a:lnTo>
                        <a:pt x="127" y="75"/>
                      </a:lnTo>
                      <a:lnTo>
                        <a:pt x="133" y="73"/>
                      </a:lnTo>
                      <a:lnTo>
                        <a:pt x="138" y="71"/>
                      </a:lnTo>
                      <a:lnTo>
                        <a:pt x="141" y="71"/>
                      </a:lnTo>
                      <a:lnTo>
                        <a:pt x="144" y="70"/>
                      </a:lnTo>
                      <a:lnTo>
                        <a:pt x="148" y="70"/>
                      </a:lnTo>
                      <a:lnTo>
                        <a:pt x="152" y="68"/>
                      </a:lnTo>
                      <a:lnTo>
                        <a:pt x="155" y="68"/>
                      </a:lnTo>
                      <a:lnTo>
                        <a:pt x="158" y="67"/>
                      </a:lnTo>
                      <a:lnTo>
                        <a:pt x="162" y="67"/>
                      </a:lnTo>
                      <a:lnTo>
                        <a:pt x="165" y="66"/>
                      </a:lnTo>
                      <a:lnTo>
                        <a:pt x="168" y="66"/>
                      </a:lnTo>
                      <a:lnTo>
                        <a:pt x="173" y="66"/>
                      </a:lnTo>
                      <a:lnTo>
                        <a:pt x="176" y="66"/>
                      </a:lnTo>
                      <a:lnTo>
                        <a:pt x="179" y="64"/>
                      </a:lnTo>
                      <a:lnTo>
                        <a:pt x="184" y="64"/>
                      </a:lnTo>
                      <a:lnTo>
                        <a:pt x="187" y="63"/>
                      </a:lnTo>
                      <a:lnTo>
                        <a:pt x="190" y="63"/>
                      </a:lnTo>
                      <a:lnTo>
                        <a:pt x="193" y="63"/>
                      </a:lnTo>
                      <a:lnTo>
                        <a:pt x="197" y="63"/>
                      </a:lnTo>
                      <a:lnTo>
                        <a:pt x="201" y="62"/>
                      </a:lnTo>
                      <a:lnTo>
                        <a:pt x="205" y="62"/>
                      </a:lnTo>
                      <a:lnTo>
                        <a:pt x="208" y="62"/>
                      </a:lnTo>
                      <a:lnTo>
                        <a:pt x="211" y="60"/>
                      </a:lnTo>
                      <a:lnTo>
                        <a:pt x="214" y="60"/>
                      </a:lnTo>
                      <a:lnTo>
                        <a:pt x="219" y="60"/>
                      </a:lnTo>
                      <a:lnTo>
                        <a:pt x="222" y="59"/>
                      </a:lnTo>
                      <a:lnTo>
                        <a:pt x="225" y="59"/>
                      </a:lnTo>
                      <a:lnTo>
                        <a:pt x="230" y="59"/>
                      </a:lnTo>
                      <a:lnTo>
                        <a:pt x="233" y="59"/>
                      </a:lnTo>
                      <a:lnTo>
                        <a:pt x="236" y="57"/>
                      </a:lnTo>
                      <a:lnTo>
                        <a:pt x="240" y="57"/>
                      </a:lnTo>
                      <a:lnTo>
                        <a:pt x="243" y="56"/>
                      </a:lnTo>
                      <a:lnTo>
                        <a:pt x="246" y="56"/>
                      </a:lnTo>
                      <a:lnTo>
                        <a:pt x="249" y="56"/>
                      </a:lnTo>
                      <a:lnTo>
                        <a:pt x="254" y="56"/>
                      </a:lnTo>
                      <a:lnTo>
                        <a:pt x="257" y="56"/>
                      </a:lnTo>
                      <a:lnTo>
                        <a:pt x="260" y="56"/>
                      </a:lnTo>
                      <a:lnTo>
                        <a:pt x="265" y="55"/>
                      </a:lnTo>
                      <a:lnTo>
                        <a:pt x="268" y="55"/>
                      </a:lnTo>
                      <a:lnTo>
                        <a:pt x="271" y="55"/>
                      </a:lnTo>
                      <a:lnTo>
                        <a:pt x="275" y="55"/>
                      </a:lnTo>
                      <a:lnTo>
                        <a:pt x="279" y="53"/>
                      </a:lnTo>
                      <a:lnTo>
                        <a:pt x="282" y="53"/>
                      </a:lnTo>
                      <a:lnTo>
                        <a:pt x="286" y="53"/>
                      </a:lnTo>
                      <a:lnTo>
                        <a:pt x="289" y="53"/>
                      </a:lnTo>
                      <a:lnTo>
                        <a:pt x="286" y="53"/>
                      </a:lnTo>
                      <a:lnTo>
                        <a:pt x="282" y="55"/>
                      </a:lnTo>
                      <a:lnTo>
                        <a:pt x="277" y="55"/>
                      </a:lnTo>
                      <a:lnTo>
                        <a:pt x="274" y="56"/>
                      </a:lnTo>
                      <a:lnTo>
                        <a:pt x="271" y="56"/>
                      </a:lnTo>
                      <a:lnTo>
                        <a:pt x="268" y="56"/>
                      </a:lnTo>
                      <a:lnTo>
                        <a:pt x="263" y="56"/>
                      </a:lnTo>
                      <a:lnTo>
                        <a:pt x="260" y="57"/>
                      </a:lnTo>
                      <a:lnTo>
                        <a:pt x="256" y="59"/>
                      </a:lnTo>
                      <a:lnTo>
                        <a:pt x="251" y="59"/>
                      </a:lnTo>
                      <a:lnTo>
                        <a:pt x="246" y="60"/>
                      </a:lnTo>
                      <a:lnTo>
                        <a:pt x="243" y="62"/>
                      </a:lnTo>
                      <a:lnTo>
                        <a:pt x="239" y="62"/>
                      </a:lnTo>
                      <a:lnTo>
                        <a:pt x="234" y="63"/>
                      </a:lnTo>
                      <a:lnTo>
                        <a:pt x="230" y="63"/>
                      </a:lnTo>
                      <a:lnTo>
                        <a:pt x="225" y="64"/>
                      </a:lnTo>
                      <a:lnTo>
                        <a:pt x="220" y="66"/>
                      </a:lnTo>
                      <a:lnTo>
                        <a:pt x="217" y="66"/>
                      </a:lnTo>
                      <a:lnTo>
                        <a:pt x="213" y="67"/>
                      </a:lnTo>
                      <a:lnTo>
                        <a:pt x="210" y="68"/>
                      </a:lnTo>
                      <a:lnTo>
                        <a:pt x="205" y="68"/>
                      </a:lnTo>
                      <a:lnTo>
                        <a:pt x="204" y="70"/>
                      </a:lnTo>
                      <a:lnTo>
                        <a:pt x="197" y="71"/>
                      </a:lnTo>
                      <a:lnTo>
                        <a:pt x="193" y="74"/>
                      </a:lnTo>
                      <a:lnTo>
                        <a:pt x="190" y="77"/>
                      </a:lnTo>
                      <a:lnTo>
                        <a:pt x="188" y="79"/>
                      </a:lnTo>
                      <a:lnTo>
                        <a:pt x="185" y="79"/>
                      </a:lnTo>
                      <a:lnTo>
                        <a:pt x="181" y="79"/>
                      </a:lnTo>
                      <a:lnTo>
                        <a:pt x="176" y="79"/>
                      </a:lnTo>
                      <a:lnTo>
                        <a:pt x="171" y="81"/>
                      </a:lnTo>
                      <a:lnTo>
                        <a:pt x="164" y="81"/>
                      </a:lnTo>
                      <a:lnTo>
                        <a:pt x="159" y="82"/>
                      </a:lnTo>
                      <a:lnTo>
                        <a:pt x="153" y="84"/>
                      </a:lnTo>
                      <a:lnTo>
                        <a:pt x="147" y="85"/>
                      </a:lnTo>
                      <a:lnTo>
                        <a:pt x="141" y="86"/>
                      </a:lnTo>
                      <a:lnTo>
                        <a:pt x="136" y="88"/>
                      </a:lnTo>
                      <a:lnTo>
                        <a:pt x="130" y="88"/>
                      </a:lnTo>
                      <a:lnTo>
                        <a:pt x="126" y="89"/>
                      </a:lnTo>
                      <a:lnTo>
                        <a:pt x="121" y="90"/>
                      </a:lnTo>
                      <a:lnTo>
                        <a:pt x="119" y="90"/>
                      </a:lnTo>
                      <a:lnTo>
                        <a:pt x="116" y="90"/>
                      </a:lnTo>
                      <a:lnTo>
                        <a:pt x="55" y="105"/>
                      </a:lnTo>
                      <a:lnTo>
                        <a:pt x="57" y="105"/>
                      </a:lnTo>
                      <a:lnTo>
                        <a:pt x="58" y="107"/>
                      </a:lnTo>
                      <a:lnTo>
                        <a:pt x="63" y="107"/>
                      </a:lnTo>
                      <a:lnTo>
                        <a:pt x="67" y="107"/>
                      </a:lnTo>
                      <a:lnTo>
                        <a:pt x="70" y="105"/>
                      </a:lnTo>
                      <a:lnTo>
                        <a:pt x="74" y="105"/>
                      </a:lnTo>
                      <a:lnTo>
                        <a:pt x="77" y="105"/>
                      </a:lnTo>
                      <a:lnTo>
                        <a:pt x="80" y="105"/>
                      </a:lnTo>
                      <a:lnTo>
                        <a:pt x="84" y="104"/>
                      </a:lnTo>
                      <a:lnTo>
                        <a:pt x="87" y="104"/>
                      </a:lnTo>
                      <a:lnTo>
                        <a:pt x="92" y="103"/>
                      </a:lnTo>
                      <a:lnTo>
                        <a:pt x="96" y="103"/>
                      </a:lnTo>
                      <a:lnTo>
                        <a:pt x="100" y="103"/>
                      </a:lnTo>
                      <a:lnTo>
                        <a:pt x="106" y="101"/>
                      </a:lnTo>
                      <a:lnTo>
                        <a:pt x="110" y="101"/>
                      </a:lnTo>
                      <a:lnTo>
                        <a:pt x="115" y="100"/>
                      </a:lnTo>
                      <a:lnTo>
                        <a:pt x="119" y="100"/>
                      </a:lnTo>
                      <a:lnTo>
                        <a:pt x="124" y="99"/>
                      </a:lnTo>
                      <a:lnTo>
                        <a:pt x="130" y="99"/>
                      </a:lnTo>
                      <a:lnTo>
                        <a:pt x="136" y="97"/>
                      </a:lnTo>
                      <a:lnTo>
                        <a:pt x="141" y="96"/>
                      </a:lnTo>
                      <a:lnTo>
                        <a:pt x="147" y="96"/>
                      </a:lnTo>
                      <a:lnTo>
                        <a:pt x="152" y="95"/>
                      </a:lnTo>
                      <a:lnTo>
                        <a:pt x="158" y="93"/>
                      </a:lnTo>
                      <a:lnTo>
                        <a:pt x="164" y="93"/>
                      </a:lnTo>
                      <a:lnTo>
                        <a:pt x="170" y="92"/>
                      </a:lnTo>
                      <a:lnTo>
                        <a:pt x="176" y="90"/>
                      </a:lnTo>
                      <a:lnTo>
                        <a:pt x="182" y="90"/>
                      </a:lnTo>
                      <a:lnTo>
                        <a:pt x="188" y="89"/>
                      </a:lnTo>
                      <a:lnTo>
                        <a:pt x="193" y="88"/>
                      </a:lnTo>
                      <a:lnTo>
                        <a:pt x="199" y="86"/>
                      </a:lnTo>
                      <a:lnTo>
                        <a:pt x="205" y="86"/>
                      </a:lnTo>
                      <a:lnTo>
                        <a:pt x="211" y="85"/>
                      </a:lnTo>
                      <a:lnTo>
                        <a:pt x="217" y="84"/>
                      </a:lnTo>
                      <a:lnTo>
                        <a:pt x="222" y="84"/>
                      </a:lnTo>
                      <a:lnTo>
                        <a:pt x="230" y="82"/>
                      </a:lnTo>
                      <a:lnTo>
                        <a:pt x="234" y="81"/>
                      </a:lnTo>
                      <a:lnTo>
                        <a:pt x="240" y="81"/>
                      </a:lnTo>
                      <a:lnTo>
                        <a:pt x="246" y="79"/>
                      </a:lnTo>
                      <a:lnTo>
                        <a:pt x="251" y="79"/>
                      </a:lnTo>
                      <a:lnTo>
                        <a:pt x="257" y="78"/>
                      </a:lnTo>
                      <a:lnTo>
                        <a:pt x="262" y="78"/>
                      </a:lnTo>
                      <a:lnTo>
                        <a:pt x="268" y="77"/>
                      </a:lnTo>
                      <a:lnTo>
                        <a:pt x="274" y="77"/>
                      </a:lnTo>
                      <a:lnTo>
                        <a:pt x="277" y="75"/>
                      </a:lnTo>
                      <a:lnTo>
                        <a:pt x="283" y="75"/>
                      </a:lnTo>
                      <a:lnTo>
                        <a:pt x="288" y="74"/>
                      </a:lnTo>
                      <a:lnTo>
                        <a:pt x="292" y="74"/>
                      </a:lnTo>
                      <a:lnTo>
                        <a:pt x="297" y="73"/>
                      </a:lnTo>
                      <a:lnTo>
                        <a:pt x="301" y="73"/>
                      </a:lnTo>
                      <a:lnTo>
                        <a:pt x="305" y="73"/>
                      </a:lnTo>
                      <a:lnTo>
                        <a:pt x="309" y="73"/>
                      </a:lnTo>
                      <a:lnTo>
                        <a:pt x="312" y="71"/>
                      </a:lnTo>
                      <a:lnTo>
                        <a:pt x="315" y="71"/>
                      </a:lnTo>
                      <a:lnTo>
                        <a:pt x="318" y="71"/>
                      </a:lnTo>
                      <a:lnTo>
                        <a:pt x="321" y="71"/>
                      </a:lnTo>
                      <a:lnTo>
                        <a:pt x="327" y="71"/>
                      </a:lnTo>
                      <a:lnTo>
                        <a:pt x="332" y="73"/>
                      </a:lnTo>
                      <a:lnTo>
                        <a:pt x="300" y="81"/>
                      </a:lnTo>
                      <a:lnTo>
                        <a:pt x="300" y="79"/>
                      </a:lnTo>
                      <a:lnTo>
                        <a:pt x="294" y="79"/>
                      </a:lnTo>
                      <a:lnTo>
                        <a:pt x="288" y="81"/>
                      </a:lnTo>
                      <a:lnTo>
                        <a:pt x="282" y="82"/>
                      </a:lnTo>
                      <a:lnTo>
                        <a:pt x="277" y="84"/>
                      </a:lnTo>
                      <a:lnTo>
                        <a:pt x="271" y="84"/>
                      </a:lnTo>
                      <a:lnTo>
                        <a:pt x="265" y="85"/>
                      </a:lnTo>
                      <a:lnTo>
                        <a:pt x="259" y="86"/>
                      </a:lnTo>
                      <a:lnTo>
                        <a:pt x="253" y="88"/>
                      </a:lnTo>
                      <a:lnTo>
                        <a:pt x="246" y="88"/>
                      </a:lnTo>
                      <a:lnTo>
                        <a:pt x="240" y="89"/>
                      </a:lnTo>
                      <a:lnTo>
                        <a:pt x="234" y="90"/>
                      </a:lnTo>
                      <a:lnTo>
                        <a:pt x="230" y="90"/>
                      </a:lnTo>
                      <a:lnTo>
                        <a:pt x="223" y="92"/>
                      </a:lnTo>
                      <a:lnTo>
                        <a:pt x="217" y="93"/>
                      </a:lnTo>
                      <a:lnTo>
                        <a:pt x="213" y="93"/>
                      </a:lnTo>
                      <a:lnTo>
                        <a:pt x="207" y="95"/>
                      </a:lnTo>
                      <a:lnTo>
                        <a:pt x="204" y="95"/>
                      </a:lnTo>
                      <a:lnTo>
                        <a:pt x="201" y="96"/>
                      </a:lnTo>
                      <a:lnTo>
                        <a:pt x="197" y="96"/>
                      </a:lnTo>
                      <a:lnTo>
                        <a:pt x="193" y="97"/>
                      </a:lnTo>
                      <a:lnTo>
                        <a:pt x="188" y="97"/>
                      </a:lnTo>
                      <a:lnTo>
                        <a:pt x="184" y="99"/>
                      </a:lnTo>
                      <a:lnTo>
                        <a:pt x="179" y="100"/>
                      </a:lnTo>
                      <a:lnTo>
                        <a:pt x="174" y="103"/>
                      </a:lnTo>
                      <a:lnTo>
                        <a:pt x="168" y="103"/>
                      </a:lnTo>
                      <a:lnTo>
                        <a:pt x="162" y="105"/>
                      </a:lnTo>
                      <a:lnTo>
                        <a:pt x="156" y="107"/>
                      </a:lnTo>
                      <a:lnTo>
                        <a:pt x="150" y="108"/>
                      </a:lnTo>
                      <a:lnTo>
                        <a:pt x="144" y="110"/>
                      </a:lnTo>
                      <a:lnTo>
                        <a:pt x="138" y="112"/>
                      </a:lnTo>
                      <a:lnTo>
                        <a:pt x="130" y="114"/>
                      </a:lnTo>
                      <a:lnTo>
                        <a:pt x="126" y="116"/>
                      </a:lnTo>
                      <a:lnTo>
                        <a:pt x="118" y="118"/>
                      </a:lnTo>
                      <a:lnTo>
                        <a:pt x="112" y="119"/>
                      </a:lnTo>
                      <a:lnTo>
                        <a:pt x="106" y="121"/>
                      </a:lnTo>
                      <a:lnTo>
                        <a:pt x="100" y="122"/>
                      </a:lnTo>
                      <a:lnTo>
                        <a:pt x="93" y="123"/>
                      </a:lnTo>
                      <a:lnTo>
                        <a:pt x="87" y="125"/>
                      </a:lnTo>
                      <a:lnTo>
                        <a:pt x="81" y="126"/>
                      </a:lnTo>
                      <a:lnTo>
                        <a:pt x="77" y="127"/>
                      </a:lnTo>
                      <a:lnTo>
                        <a:pt x="72" y="127"/>
                      </a:lnTo>
                      <a:lnTo>
                        <a:pt x="67" y="129"/>
                      </a:lnTo>
                      <a:lnTo>
                        <a:pt x="63" y="129"/>
                      </a:lnTo>
                      <a:lnTo>
                        <a:pt x="60" y="130"/>
                      </a:lnTo>
                      <a:lnTo>
                        <a:pt x="54" y="130"/>
                      </a:lnTo>
                      <a:lnTo>
                        <a:pt x="51" y="129"/>
                      </a:lnTo>
                      <a:lnTo>
                        <a:pt x="48" y="129"/>
                      </a:lnTo>
                      <a:lnTo>
                        <a:pt x="46" y="130"/>
                      </a:lnTo>
                      <a:lnTo>
                        <a:pt x="43" y="130"/>
                      </a:lnTo>
                      <a:lnTo>
                        <a:pt x="40" y="133"/>
                      </a:lnTo>
                      <a:lnTo>
                        <a:pt x="35" y="134"/>
                      </a:lnTo>
                      <a:lnTo>
                        <a:pt x="31" y="134"/>
                      </a:lnTo>
                      <a:lnTo>
                        <a:pt x="26" y="137"/>
                      </a:lnTo>
                      <a:lnTo>
                        <a:pt x="23" y="138"/>
                      </a:lnTo>
                      <a:lnTo>
                        <a:pt x="17" y="140"/>
                      </a:lnTo>
                      <a:lnTo>
                        <a:pt x="14" y="141"/>
                      </a:lnTo>
                      <a:lnTo>
                        <a:pt x="9" y="143"/>
                      </a:lnTo>
                      <a:lnTo>
                        <a:pt x="6" y="144"/>
                      </a:lnTo>
                      <a:lnTo>
                        <a:pt x="0" y="147"/>
                      </a:lnTo>
                      <a:lnTo>
                        <a:pt x="0" y="149"/>
                      </a:lnTo>
                      <a:lnTo>
                        <a:pt x="3" y="149"/>
                      </a:lnTo>
                      <a:lnTo>
                        <a:pt x="6" y="149"/>
                      </a:lnTo>
                      <a:lnTo>
                        <a:pt x="11" y="149"/>
                      </a:lnTo>
                      <a:lnTo>
                        <a:pt x="14" y="149"/>
                      </a:lnTo>
                      <a:lnTo>
                        <a:pt x="18" y="149"/>
                      </a:lnTo>
                      <a:lnTo>
                        <a:pt x="22" y="149"/>
                      </a:lnTo>
                      <a:lnTo>
                        <a:pt x="26" y="149"/>
                      </a:lnTo>
                      <a:lnTo>
                        <a:pt x="29" y="149"/>
                      </a:lnTo>
                      <a:lnTo>
                        <a:pt x="126" y="132"/>
                      </a:lnTo>
                      <a:lnTo>
                        <a:pt x="234" y="125"/>
                      </a:lnTo>
                      <a:lnTo>
                        <a:pt x="188" y="138"/>
                      </a:lnTo>
                      <a:lnTo>
                        <a:pt x="191" y="143"/>
                      </a:lnTo>
                      <a:lnTo>
                        <a:pt x="199" y="140"/>
                      </a:lnTo>
                      <a:lnTo>
                        <a:pt x="207" y="138"/>
                      </a:lnTo>
                      <a:lnTo>
                        <a:pt x="214" y="136"/>
                      </a:lnTo>
                      <a:lnTo>
                        <a:pt x="222" y="134"/>
                      </a:lnTo>
                      <a:lnTo>
                        <a:pt x="230" y="133"/>
                      </a:lnTo>
                      <a:lnTo>
                        <a:pt x="237" y="130"/>
                      </a:lnTo>
                      <a:lnTo>
                        <a:pt x="243" y="129"/>
                      </a:lnTo>
                      <a:lnTo>
                        <a:pt x="253" y="127"/>
                      </a:lnTo>
                      <a:lnTo>
                        <a:pt x="260" y="126"/>
                      </a:lnTo>
                      <a:lnTo>
                        <a:pt x="268" y="125"/>
                      </a:lnTo>
                      <a:lnTo>
                        <a:pt x="274" y="122"/>
                      </a:lnTo>
                      <a:lnTo>
                        <a:pt x="283" y="121"/>
                      </a:lnTo>
                      <a:lnTo>
                        <a:pt x="291" y="119"/>
                      </a:lnTo>
                      <a:lnTo>
                        <a:pt x="298" y="118"/>
                      </a:lnTo>
                      <a:lnTo>
                        <a:pt x="306" y="116"/>
                      </a:lnTo>
                      <a:lnTo>
                        <a:pt x="314" y="115"/>
                      </a:lnTo>
                      <a:lnTo>
                        <a:pt x="321" y="114"/>
                      </a:lnTo>
                      <a:lnTo>
                        <a:pt x="329" y="112"/>
                      </a:lnTo>
                      <a:lnTo>
                        <a:pt x="337" y="112"/>
                      </a:lnTo>
                      <a:lnTo>
                        <a:pt x="344" y="111"/>
                      </a:lnTo>
                      <a:lnTo>
                        <a:pt x="352" y="110"/>
                      </a:lnTo>
                      <a:lnTo>
                        <a:pt x="360" y="108"/>
                      </a:lnTo>
                      <a:lnTo>
                        <a:pt x="367" y="107"/>
                      </a:lnTo>
                      <a:lnTo>
                        <a:pt x="373" y="107"/>
                      </a:lnTo>
                      <a:lnTo>
                        <a:pt x="381" y="105"/>
                      </a:lnTo>
                      <a:lnTo>
                        <a:pt x="387" y="105"/>
                      </a:lnTo>
                      <a:lnTo>
                        <a:pt x="395" y="104"/>
                      </a:lnTo>
                      <a:lnTo>
                        <a:pt x="402" y="103"/>
                      </a:lnTo>
                      <a:lnTo>
                        <a:pt x="409" y="103"/>
                      </a:lnTo>
                      <a:lnTo>
                        <a:pt x="416" y="103"/>
                      </a:lnTo>
                      <a:lnTo>
                        <a:pt x="422" y="101"/>
                      </a:lnTo>
                      <a:lnTo>
                        <a:pt x="430" y="101"/>
                      </a:lnTo>
                      <a:lnTo>
                        <a:pt x="436" y="100"/>
                      </a:lnTo>
                      <a:lnTo>
                        <a:pt x="442" y="100"/>
                      </a:lnTo>
                      <a:lnTo>
                        <a:pt x="448" y="99"/>
                      </a:lnTo>
                      <a:lnTo>
                        <a:pt x="456" y="99"/>
                      </a:lnTo>
                      <a:lnTo>
                        <a:pt x="462" y="97"/>
                      </a:lnTo>
                      <a:lnTo>
                        <a:pt x="468" y="97"/>
                      </a:lnTo>
                      <a:lnTo>
                        <a:pt x="474" y="96"/>
                      </a:lnTo>
                      <a:lnTo>
                        <a:pt x="480" y="96"/>
                      </a:lnTo>
                      <a:lnTo>
                        <a:pt x="487" y="96"/>
                      </a:lnTo>
                      <a:lnTo>
                        <a:pt x="491" y="96"/>
                      </a:lnTo>
                      <a:lnTo>
                        <a:pt x="497" y="95"/>
                      </a:lnTo>
                      <a:lnTo>
                        <a:pt x="503" y="95"/>
                      </a:lnTo>
                      <a:lnTo>
                        <a:pt x="508" y="95"/>
                      </a:lnTo>
                      <a:lnTo>
                        <a:pt x="513" y="95"/>
                      </a:lnTo>
                      <a:lnTo>
                        <a:pt x="517" y="95"/>
                      </a:lnTo>
                      <a:lnTo>
                        <a:pt x="523" y="95"/>
                      </a:lnTo>
                      <a:lnTo>
                        <a:pt x="528" y="95"/>
                      </a:lnTo>
                      <a:lnTo>
                        <a:pt x="532" y="95"/>
                      </a:lnTo>
                      <a:lnTo>
                        <a:pt x="537" y="95"/>
                      </a:lnTo>
                      <a:lnTo>
                        <a:pt x="542" y="95"/>
                      </a:lnTo>
                      <a:lnTo>
                        <a:pt x="545" y="95"/>
                      </a:lnTo>
                      <a:lnTo>
                        <a:pt x="548" y="95"/>
                      </a:lnTo>
                      <a:lnTo>
                        <a:pt x="552" y="95"/>
                      </a:lnTo>
                      <a:lnTo>
                        <a:pt x="555" y="95"/>
                      </a:lnTo>
                      <a:lnTo>
                        <a:pt x="561" y="95"/>
                      </a:lnTo>
                      <a:lnTo>
                        <a:pt x="569" y="96"/>
                      </a:lnTo>
                      <a:lnTo>
                        <a:pt x="574" y="96"/>
                      </a:lnTo>
                      <a:lnTo>
                        <a:pt x="578" y="97"/>
                      </a:lnTo>
                      <a:lnTo>
                        <a:pt x="572" y="97"/>
                      </a:lnTo>
                      <a:lnTo>
                        <a:pt x="566" y="99"/>
                      </a:lnTo>
                      <a:lnTo>
                        <a:pt x="560" y="99"/>
                      </a:lnTo>
                      <a:lnTo>
                        <a:pt x="555" y="100"/>
                      </a:lnTo>
                      <a:lnTo>
                        <a:pt x="549" y="100"/>
                      </a:lnTo>
                      <a:lnTo>
                        <a:pt x="543" y="101"/>
                      </a:lnTo>
                      <a:lnTo>
                        <a:pt x="539" y="101"/>
                      </a:lnTo>
                      <a:lnTo>
                        <a:pt x="534" y="103"/>
                      </a:lnTo>
                      <a:lnTo>
                        <a:pt x="528" y="103"/>
                      </a:lnTo>
                      <a:lnTo>
                        <a:pt x="523" y="104"/>
                      </a:lnTo>
                      <a:lnTo>
                        <a:pt x="517" y="104"/>
                      </a:lnTo>
                      <a:lnTo>
                        <a:pt x="514" y="105"/>
                      </a:lnTo>
                      <a:lnTo>
                        <a:pt x="508" y="105"/>
                      </a:lnTo>
                      <a:lnTo>
                        <a:pt x="505" y="107"/>
                      </a:lnTo>
                      <a:lnTo>
                        <a:pt x="499" y="107"/>
                      </a:lnTo>
                      <a:lnTo>
                        <a:pt x="496" y="108"/>
                      </a:lnTo>
                      <a:lnTo>
                        <a:pt x="491" y="108"/>
                      </a:lnTo>
                      <a:lnTo>
                        <a:pt x="487" y="108"/>
                      </a:lnTo>
                      <a:lnTo>
                        <a:pt x="480" y="110"/>
                      </a:lnTo>
                      <a:lnTo>
                        <a:pt x="477" y="110"/>
                      </a:lnTo>
                      <a:lnTo>
                        <a:pt x="473" y="111"/>
                      </a:lnTo>
                      <a:lnTo>
                        <a:pt x="468" y="111"/>
                      </a:lnTo>
                      <a:lnTo>
                        <a:pt x="464" y="112"/>
                      </a:lnTo>
                      <a:lnTo>
                        <a:pt x="459" y="112"/>
                      </a:lnTo>
                      <a:lnTo>
                        <a:pt x="456" y="112"/>
                      </a:lnTo>
                      <a:lnTo>
                        <a:pt x="451" y="114"/>
                      </a:lnTo>
                      <a:lnTo>
                        <a:pt x="447" y="114"/>
                      </a:lnTo>
                      <a:lnTo>
                        <a:pt x="442" y="115"/>
                      </a:lnTo>
                      <a:lnTo>
                        <a:pt x="439" y="115"/>
                      </a:lnTo>
                      <a:lnTo>
                        <a:pt x="435" y="116"/>
                      </a:lnTo>
                      <a:lnTo>
                        <a:pt x="430" y="116"/>
                      </a:lnTo>
                      <a:lnTo>
                        <a:pt x="427" y="118"/>
                      </a:lnTo>
                      <a:lnTo>
                        <a:pt x="422" y="118"/>
                      </a:lnTo>
                      <a:lnTo>
                        <a:pt x="418" y="119"/>
                      </a:lnTo>
                      <a:lnTo>
                        <a:pt x="413" y="119"/>
                      </a:lnTo>
                      <a:lnTo>
                        <a:pt x="410" y="121"/>
                      </a:lnTo>
                      <a:lnTo>
                        <a:pt x="405" y="121"/>
                      </a:lnTo>
                      <a:lnTo>
                        <a:pt x="401" y="121"/>
                      </a:lnTo>
                      <a:lnTo>
                        <a:pt x="396" y="122"/>
                      </a:lnTo>
                      <a:lnTo>
                        <a:pt x="393" y="123"/>
                      </a:lnTo>
                      <a:lnTo>
                        <a:pt x="389" y="123"/>
                      </a:lnTo>
                      <a:lnTo>
                        <a:pt x="384" y="125"/>
                      </a:lnTo>
                      <a:lnTo>
                        <a:pt x="379" y="125"/>
                      </a:lnTo>
                      <a:lnTo>
                        <a:pt x="375" y="126"/>
                      </a:lnTo>
                      <a:lnTo>
                        <a:pt x="370" y="126"/>
                      </a:lnTo>
                      <a:lnTo>
                        <a:pt x="367" y="127"/>
                      </a:lnTo>
                      <a:lnTo>
                        <a:pt x="363" y="127"/>
                      </a:lnTo>
                      <a:lnTo>
                        <a:pt x="358" y="130"/>
                      </a:lnTo>
                      <a:lnTo>
                        <a:pt x="353" y="130"/>
                      </a:lnTo>
                      <a:lnTo>
                        <a:pt x="349" y="132"/>
                      </a:lnTo>
                      <a:lnTo>
                        <a:pt x="344" y="132"/>
                      </a:lnTo>
                      <a:lnTo>
                        <a:pt x="340" y="133"/>
                      </a:lnTo>
                      <a:lnTo>
                        <a:pt x="335" y="134"/>
                      </a:lnTo>
                      <a:lnTo>
                        <a:pt x="331" y="136"/>
                      </a:lnTo>
                      <a:lnTo>
                        <a:pt x="326" y="137"/>
                      </a:lnTo>
                      <a:lnTo>
                        <a:pt x="321" y="138"/>
                      </a:lnTo>
                      <a:lnTo>
                        <a:pt x="315" y="140"/>
                      </a:lnTo>
                      <a:lnTo>
                        <a:pt x="311" y="140"/>
                      </a:lnTo>
                      <a:lnTo>
                        <a:pt x="305" y="141"/>
                      </a:lnTo>
                      <a:lnTo>
                        <a:pt x="300" y="144"/>
                      </a:lnTo>
                      <a:lnTo>
                        <a:pt x="295" y="144"/>
                      </a:lnTo>
                      <a:lnTo>
                        <a:pt x="289" y="147"/>
                      </a:lnTo>
                      <a:lnTo>
                        <a:pt x="285" y="148"/>
                      </a:lnTo>
                      <a:lnTo>
                        <a:pt x="280" y="149"/>
                      </a:lnTo>
                      <a:lnTo>
                        <a:pt x="282" y="149"/>
                      </a:lnTo>
                      <a:lnTo>
                        <a:pt x="285" y="149"/>
                      </a:lnTo>
                      <a:lnTo>
                        <a:pt x="288" y="149"/>
                      </a:lnTo>
                      <a:lnTo>
                        <a:pt x="291" y="151"/>
                      </a:lnTo>
                      <a:lnTo>
                        <a:pt x="294" y="151"/>
                      </a:lnTo>
                      <a:lnTo>
                        <a:pt x="297" y="152"/>
                      </a:lnTo>
                      <a:lnTo>
                        <a:pt x="298" y="152"/>
                      </a:lnTo>
                      <a:lnTo>
                        <a:pt x="297" y="154"/>
                      </a:lnTo>
                      <a:lnTo>
                        <a:pt x="308" y="151"/>
                      </a:lnTo>
                      <a:lnTo>
                        <a:pt x="318" y="148"/>
                      </a:lnTo>
                      <a:lnTo>
                        <a:pt x="329" y="145"/>
                      </a:lnTo>
                      <a:lnTo>
                        <a:pt x="340" y="144"/>
                      </a:lnTo>
                      <a:lnTo>
                        <a:pt x="350" y="140"/>
                      </a:lnTo>
                      <a:lnTo>
                        <a:pt x="361" y="138"/>
                      </a:lnTo>
                      <a:lnTo>
                        <a:pt x="372" y="136"/>
                      </a:lnTo>
                      <a:lnTo>
                        <a:pt x="384" y="134"/>
                      </a:lnTo>
                      <a:lnTo>
                        <a:pt x="395" y="132"/>
                      </a:lnTo>
                      <a:lnTo>
                        <a:pt x="404" y="130"/>
                      </a:lnTo>
                      <a:lnTo>
                        <a:pt x="415" y="127"/>
                      </a:lnTo>
                      <a:lnTo>
                        <a:pt x="427" y="126"/>
                      </a:lnTo>
                      <a:lnTo>
                        <a:pt x="438" y="125"/>
                      </a:lnTo>
                      <a:lnTo>
                        <a:pt x="448" y="123"/>
                      </a:lnTo>
                      <a:lnTo>
                        <a:pt x="459" y="121"/>
                      </a:lnTo>
                      <a:lnTo>
                        <a:pt x="470" y="121"/>
                      </a:lnTo>
                      <a:lnTo>
                        <a:pt x="480" y="118"/>
                      </a:lnTo>
                      <a:lnTo>
                        <a:pt x="491" y="116"/>
                      </a:lnTo>
                      <a:lnTo>
                        <a:pt x="502" y="115"/>
                      </a:lnTo>
                      <a:lnTo>
                        <a:pt x="513" y="114"/>
                      </a:lnTo>
                      <a:lnTo>
                        <a:pt x="523" y="112"/>
                      </a:lnTo>
                      <a:lnTo>
                        <a:pt x="535" y="111"/>
                      </a:lnTo>
                      <a:lnTo>
                        <a:pt x="545" y="110"/>
                      </a:lnTo>
                      <a:lnTo>
                        <a:pt x="557" y="108"/>
                      </a:lnTo>
                      <a:lnTo>
                        <a:pt x="568" y="107"/>
                      </a:lnTo>
                      <a:lnTo>
                        <a:pt x="578" y="107"/>
                      </a:lnTo>
                      <a:lnTo>
                        <a:pt x="589" y="105"/>
                      </a:lnTo>
                      <a:lnTo>
                        <a:pt x="600" y="105"/>
                      </a:lnTo>
                      <a:lnTo>
                        <a:pt x="610" y="104"/>
                      </a:lnTo>
                      <a:lnTo>
                        <a:pt x="621" y="103"/>
                      </a:lnTo>
                      <a:lnTo>
                        <a:pt x="633" y="103"/>
                      </a:lnTo>
                      <a:lnTo>
                        <a:pt x="644" y="101"/>
                      </a:lnTo>
                      <a:lnTo>
                        <a:pt x="655" y="100"/>
                      </a:lnTo>
                      <a:lnTo>
                        <a:pt x="666" y="100"/>
                      </a:lnTo>
                      <a:lnTo>
                        <a:pt x="676" y="99"/>
                      </a:lnTo>
                      <a:lnTo>
                        <a:pt x="687" y="99"/>
                      </a:lnTo>
                      <a:lnTo>
                        <a:pt x="698" y="97"/>
                      </a:lnTo>
                      <a:lnTo>
                        <a:pt x="710" y="96"/>
                      </a:lnTo>
                      <a:lnTo>
                        <a:pt x="721" y="96"/>
                      </a:lnTo>
                      <a:lnTo>
                        <a:pt x="731" y="96"/>
                      </a:lnTo>
                      <a:lnTo>
                        <a:pt x="742" y="95"/>
                      </a:lnTo>
                      <a:lnTo>
                        <a:pt x="753" y="95"/>
                      </a:lnTo>
                      <a:lnTo>
                        <a:pt x="763" y="93"/>
                      </a:lnTo>
                      <a:lnTo>
                        <a:pt x="776" y="93"/>
                      </a:lnTo>
                      <a:lnTo>
                        <a:pt x="785" y="93"/>
                      </a:lnTo>
                      <a:lnTo>
                        <a:pt x="797" y="93"/>
                      </a:lnTo>
                      <a:lnTo>
                        <a:pt x="808" y="92"/>
                      </a:lnTo>
                      <a:lnTo>
                        <a:pt x="818" y="92"/>
                      </a:lnTo>
                      <a:lnTo>
                        <a:pt x="831" y="92"/>
                      </a:lnTo>
                      <a:lnTo>
                        <a:pt x="841" y="90"/>
                      </a:lnTo>
                      <a:lnTo>
                        <a:pt x="852" y="90"/>
                      </a:lnTo>
                      <a:lnTo>
                        <a:pt x="863" y="90"/>
                      </a:lnTo>
                      <a:lnTo>
                        <a:pt x="874" y="90"/>
                      </a:lnTo>
                      <a:lnTo>
                        <a:pt x="884" y="89"/>
                      </a:lnTo>
                      <a:lnTo>
                        <a:pt x="896" y="89"/>
                      </a:lnTo>
                      <a:lnTo>
                        <a:pt x="907" y="89"/>
                      </a:lnTo>
                      <a:lnTo>
                        <a:pt x="918" y="88"/>
                      </a:lnTo>
                      <a:lnTo>
                        <a:pt x="929" y="88"/>
                      </a:lnTo>
                      <a:lnTo>
                        <a:pt x="941" y="88"/>
                      </a:lnTo>
                      <a:lnTo>
                        <a:pt x="952" y="88"/>
                      </a:lnTo>
                      <a:lnTo>
                        <a:pt x="964" y="86"/>
                      </a:lnTo>
                      <a:lnTo>
                        <a:pt x="975" y="86"/>
                      </a:lnTo>
                      <a:lnTo>
                        <a:pt x="985" y="86"/>
                      </a:lnTo>
                      <a:lnTo>
                        <a:pt x="997" y="86"/>
                      </a:lnTo>
                      <a:lnTo>
                        <a:pt x="1002" y="86"/>
                      </a:lnTo>
                      <a:lnTo>
                        <a:pt x="1008" y="86"/>
                      </a:lnTo>
                      <a:lnTo>
                        <a:pt x="1013" y="86"/>
                      </a:lnTo>
                      <a:lnTo>
                        <a:pt x="1019" y="88"/>
                      </a:lnTo>
                      <a:lnTo>
                        <a:pt x="1023" y="88"/>
                      </a:lnTo>
                      <a:lnTo>
                        <a:pt x="1028" y="88"/>
                      </a:lnTo>
                      <a:lnTo>
                        <a:pt x="1034" y="88"/>
                      </a:lnTo>
                      <a:lnTo>
                        <a:pt x="1040" y="88"/>
                      </a:lnTo>
                      <a:lnTo>
                        <a:pt x="1045" y="88"/>
                      </a:lnTo>
                      <a:lnTo>
                        <a:pt x="1051" y="88"/>
                      </a:lnTo>
                      <a:lnTo>
                        <a:pt x="1056" y="89"/>
                      </a:lnTo>
                      <a:lnTo>
                        <a:pt x="1062" y="89"/>
                      </a:lnTo>
                      <a:lnTo>
                        <a:pt x="1066" y="89"/>
                      </a:lnTo>
                      <a:lnTo>
                        <a:pt x="1072" y="89"/>
                      </a:lnTo>
                      <a:lnTo>
                        <a:pt x="1079" y="90"/>
                      </a:lnTo>
                      <a:lnTo>
                        <a:pt x="1085" y="90"/>
                      </a:lnTo>
                      <a:lnTo>
                        <a:pt x="1089" y="90"/>
                      </a:lnTo>
                      <a:lnTo>
                        <a:pt x="1094" y="90"/>
                      </a:lnTo>
                      <a:lnTo>
                        <a:pt x="1100" y="90"/>
                      </a:lnTo>
                      <a:lnTo>
                        <a:pt x="1105" y="92"/>
                      </a:lnTo>
                      <a:lnTo>
                        <a:pt x="1111" y="92"/>
                      </a:lnTo>
                      <a:lnTo>
                        <a:pt x="1117" y="92"/>
                      </a:lnTo>
                      <a:lnTo>
                        <a:pt x="1121" y="92"/>
                      </a:lnTo>
                      <a:lnTo>
                        <a:pt x="1127" y="93"/>
                      </a:lnTo>
                      <a:lnTo>
                        <a:pt x="1132" y="93"/>
                      </a:lnTo>
                      <a:lnTo>
                        <a:pt x="1138" y="93"/>
                      </a:lnTo>
                      <a:lnTo>
                        <a:pt x="1143" y="93"/>
                      </a:lnTo>
                      <a:lnTo>
                        <a:pt x="1149" y="93"/>
                      </a:lnTo>
                      <a:lnTo>
                        <a:pt x="1155" y="93"/>
                      </a:lnTo>
                      <a:lnTo>
                        <a:pt x="1160" y="95"/>
                      </a:lnTo>
                      <a:lnTo>
                        <a:pt x="1166" y="95"/>
                      </a:lnTo>
                      <a:lnTo>
                        <a:pt x="1172" y="96"/>
                      </a:lnTo>
                      <a:lnTo>
                        <a:pt x="1176" y="96"/>
                      </a:lnTo>
                      <a:lnTo>
                        <a:pt x="1183" y="96"/>
                      </a:lnTo>
                      <a:lnTo>
                        <a:pt x="1187" y="96"/>
                      </a:lnTo>
                      <a:lnTo>
                        <a:pt x="1193" y="96"/>
                      </a:lnTo>
                      <a:lnTo>
                        <a:pt x="1198" y="96"/>
                      </a:lnTo>
                      <a:lnTo>
                        <a:pt x="1204" y="96"/>
                      </a:lnTo>
                      <a:lnTo>
                        <a:pt x="1210" y="97"/>
                      </a:lnTo>
                      <a:lnTo>
                        <a:pt x="1215" y="97"/>
                      </a:lnTo>
                      <a:lnTo>
                        <a:pt x="1221" y="97"/>
                      </a:lnTo>
                      <a:lnTo>
                        <a:pt x="1225" y="97"/>
                      </a:lnTo>
                      <a:lnTo>
                        <a:pt x="1231" y="97"/>
                      </a:lnTo>
                      <a:lnTo>
                        <a:pt x="1238" y="99"/>
                      </a:lnTo>
                      <a:lnTo>
                        <a:pt x="1242" y="99"/>
                      </a:lnTo>
                      <a:lnTo>
                        <a:pt x="1248" y="99"/>
                      </a:lnTo>
                      <a:lnTo>
                        <a:pt x="1254" y="100"/>
                      </a:lnTo>
                      <a:lnTo>
                        <a:pt x="1259" y="100"/>
                      </a:lnTo>
                      <a:lnTo>
                        <a:pt x="1265" y="100"/>
                      </a:lnTo>
                      <a:lnTo>
                        <a:pt x="1270" y="100"/>
                      </a:lnTo>
                      <a:lnTo>
                        <a:pt x="1276" y="100"/>
                      </a:lnTo>
                      <a:lnTo>
                        <a:pt x="1282" y="100"/>
                      </a:lnTo>
                      <a:lnTo>
                        <a:pt x="1287" y="100"/>
                      </a:lnTo>
                      <a:lnTo>
                        <a:pt x="1293" y="101"/>
                      </a:lnTo>
                      <a:lnTo>
                        <a:pt x="1297" y="101"/>
                      </a:lnTo>
                      <a:lnTo>
                        <a:pt x="1303" y="101"/>
                      </a:lnTo>
                      <a:lnTo>
                        <a:pt x="1309" y="101"/>
                      </a:lnTo>
                      <a:lnTo>
                        <a:pt x="1314" y="101"/>
                      </a:lnTo>
                      <a:lnTo>
                        <a:pt x="1320" y="103"/>
                      </a:lnTo>
                      <a:lnTo>
                        <a:pt x="1326" y="103"/>
                      </a:lnTo>
                      <a:lnTo>
                        <a:pt x="1331" y="103"/>
                      </a:lnTo>
                      <a:lnTo>
                        <a:pt x="1337" y="103"/>
                      </a:lnTo>
                      <a:lnTo>
                        <a:pt x="1343" y="103"/>
                      </a:lnTo>
                      <a:lnTo>
                        <a:pt x="1348" y="104"/>
                      </a:lnTo>
                      <a:lnTo>
                        <a:pt x="1288" y="118"/>
                      </a:lnTo>
                      <a:lnTo>
                        <a:pt x="1290" y="118"/>
                      </a:lnTo>
                      <a:lnTo>
                        <a:pt x="1293" y="118"/>
                      </a:lnTo>
                      <a:lnTo>
                        <a:pt x="1296" y="118"/>
                      </a:lnTo>
                      <a:lnTo>
                        <a:pt x="1299" y="118"/>
                      </a:lnTo>
                      <a:lnTo>
                        <a:pt x="1303" y="118"/>
                      </a:lnTo>
                      <a:lnTo>
                        <a:pt x="1308" y="118"/>
                      </a:lnTo>
                      <a:lnTo>
                        <a:pt x="1313" y="118"/>
                      </a:lnTo>
                      <a:lnTo>
                        <a:pt x="1319" y="118"/>
                      </a:lnTo>
                      <a:lnTo>
                        <a:pt x="1325" y="118"/>
                      </a:lnTo>
                      <a:lnTo>
                        <a:pt x="1331" y="118"/>
                      </a:lnTo>
                      <a:lnTo>
                        <a:pt x="1339" y="118"/>
                      </a:lnTo>
                      <a:lnTo>
                        <a:pt x="1346" y="119"/>
                      </a:lnTo>
                      <a:lnTo>
                        <a:pt x="1354" y="119"/>
                      </a:lnTo>
                      <a:lnTo>
                        <a:pt x="1362" y="119"/>
                      </a:lnTo>
                      <a:lnTo>
                        <a:pt x="1369" y="119"/>
                      </a:lnTo>
                      <a:lnTo>
                        <a:pt x="1378" y="121"/>
                      </a:lnTo>
                      <a:lnTo>
                        <a:pt x="1386" y="121"/>
                      </a:lnTo>
                      <a:lnTo>
                        <a:pt x="1395" y="121"/>
                      </a:lnTo>
                      <a:lnTo>
                        <a:pt x="1406" y="121"/>
                      </a:lnTo>
                      <a:lnTo>
                        <a:pt x="1415" y="121"/>
                      </a:lnTo>
                      <a:lnTo>
                        <a:pt x="1424" y="121"/>
                      </a:lnTo>
                      <a:lnTo>
                        <a:pt x="1435" y="121"/>
                      </a:lnTo>
                      <a:lnTo>
                        <a:pt x="1444" y="121"/>
                      </a:lnTo>
                      <a:lnTo>
                        <a:pt x="1456" y="121"/>
                      </a:lnTo>
                      <a:lnTo>
                        <a:pt x="1466" y="121"/>
                      </a:lnTo>
                      <a:lnTo>
                        <a:pt x="1476" y="121"/>
                      </a:lnTo>
                      <a:lnTo>
                        <a:pt x="1487" y="121"/>
                      </a:lnTo>
                      <a:lnTo>
                        <a:pt x="1498" y="121"/>
                      </a:lnTo>
                      <a:lnTo>
                        <a:pt x="1508" y="121"/>
                      </a:lnTo>
                      <a:lnTo>
                        <a:pt x="1519" y="121"/>
                      </a:lnTo>
                      <a:lnTo>
                        <a:pt x="1531" y="121"/>
                      </a:lnTo>
                      <a:lnTo>
                        <a:pt x="1542" y="121"/>
                      </a:lnTo>
                      <a:lnTo>
                        <a:pt x="1553" y="121"/>
                      </a:lnTo>
                      <a:lnTo>
                        <a:pt x="1563" y="121"/>
                      </a:lnTo>
                      <a:lnTo>
                        <a:pt x="1574" y="121"/>
                      </a:lnTo>
                      <a:lnTo>
                        <a:pt x="1585" y="121"/>
                      </a:lnTo>
                      <a:lnTo>
                        <a:pt x="1596" y="121"/>
                      </a:lnTo>
                      <a:lnTo>
                        <a:pt x="1605" y="121"/>
                      </a:lnTo>
                      <a:lnTo>
                        <a:pt x="1615" y="121"/>
                      </a:lnTo>
                      <a:lnTo>
                        <a:pt x="1626" y="121"/>
                      </a:lnTo>
                      <a:lnTo>
                        <a:pt x="1635" y="121"/>
                      </a:lnTo>
                      <a:lnTo>
                        <a:pt x="1646" y="121"/>
                      </a:lnTo>
                      <a:lnTo>
                        <a:pt x="1655" y="121"/>
                      </a:lnTo>
                      <a:lnTo>
                        <a:pt x="1666" y="121"/>
                      </a:lnTo>
                      <a:lnTo>
                        <a:pt x="1674" y="121"/>
                      </a:lnTo>
                      <a:lnTo>
                        <a:pt x="1684" y="121"/>
                      </a:lnTo>
                      <a:lnTo>
                        <a:pt x="1692" y="121"/>
                      </a:lnTo>
                      <a:lnTo>
                        <a:pt x="1701" y="121"/>
                      </a:lnTo>
                      <a:lnTo>
                        <a:pt x="1709" y="121"/>
                      </a:lnTo>
                      <a:lnTo>
                        <a:pt x="1716" y="121"/>
                      </a:lnTo>
                      <a:lnTo>
                        <a:pt x="1723" y="119"/>
                      </a:lnTo>
                      <a:lnTo>
                        <a:pt x="1730" y="119"/>
                      </a:lnTo>
                      <a:lnTo>
                        <a:pt x="1736" y="119"/>
                      </a:lnTo>
                      <a:lnTo>
                        <a:pt x="1744" y="119"/>
                      </a:lnTo>
                      <a:lnTo>
                        <a:pt x="1749" y="119"/>
                      </a:lnTo>
                      <a:lnTo>
                        <a:pt x="1755" y="119"/>
                      </a:lnTo>
                      <a:lnTo>
                        <a:pt x="1759" y="118"/>
                      </a:lnTo>
                      <a:lnTo>
                        <a:pt x="1764" y="118"/>
                      </a:lnTo>
                      <a:lnTo>
                        <a:pt x="1767" y="118"/>
                      </a:lnTo>
                      <a:lnTo>
                        <a:pt x="1771" y="118"/>
                      </a:lnTo>
                      <a:lnTo>
                        <a:pt x="1776" y="118"/>
                      </a:lnTo>
                      <a:lnTo>
                        <a:pt x="1779" y="118"/>
                      </a:lnTo>
                      <a:lnTo>
                        <a:pt x="1775" y="116"/>
                      </a:lnTo>
                      <a:lnTo>
                        <a:pt x="1770" y="115"/>
                      </a:lnTo>
                      <a:lnTo>
                        <a:pt x="1765" y="115"/>
                      </a:lnTo>
                      <a:lnTo>
                        <a:pt x="1762" y="114"/>
                      </a:lnTo>
                      <a:lnTo>
                        <a:pt x="1758" y="114"/>
                      </a:lnTo>
                      <a:lnTo>
                        <a:pt x="1753" y="112"/>
                      </a:lnTo>
                      <a:lnTo>
                        <a:pt x="1749" y="112"/>
                      </a:lnTo>
                      <a:lnTo>
                        <a:pt x="1745" y="112"/>
                      </a:lnTo>
                      <a:lnTo>
                        <a:pt x="1741" y="112"/>
                      </a:lnTo>
                      <a:lnTo>
                        <a:pt x="1736" y="111"/>
                      </a:lnTo>
                      <a:lnTo>
                        <a:pt x="1732" y="111"/>
                      </a:lnTo>
                      <a:lnTo>
                        <a:pt x="1729" y="111"/>
                      </a:lnTo>
                      <a:lnTo>
                        <a:pt x="1724" y="111"/>
                      </a:lnTo>
                      <a:lnTo>
                        <a:pt x="1719" y="111"/>
                      </a:lnTo>
                      <a:lnTo>
                        <a:pt x="1715" y="111"/>
                      </a:lnTo>
                      <a:lnTo>
                        <a:pt x="1712" y="111"/>
                      </a:lnTo>
                      <a:lnTo>
                        <a:pt x="1707" y="110"/>
                      </a:lnTo>
                      <a:lnTo>
                        <a:pt x="1703" y="110"/>
                      </a:lnTo>
                      <a:lnTo>
                        <a:pt x="1698" y="110"/>
                      </a:lnTo>
                      <a:lnTo>
                        <a:pt x="1693" y="110"/>
                      </a:lnTo>
                      <a:lnTo>
                        <a:pt x="1687" y="108"/>
                      </a:lnTo>
                      <a:lnTo>
                        <a:pt x="1683" y="108"/>
                      </a:lnTo>
                      <a:lnTo>
                        <a:pt x="1678" y="108"/>
                      </a:lnTo>
                      <a:lnTo>
                        <a:pt x="1674" y="108"/>
                      </a:lnTo>
                      <a:lnTo>
                        <a:pt x="1667" y="108"/>
                      </a:lnTo>
                      <a:lnTo>
                        <a:pt x="1663" y="108"/>
                      </a:lnTo>
                      <a:lnTo>
                        <a:pt x="1657" y="107"/>
                      </a:lnTo>
                      <a:lnTo>
                        <a:pt x="1652" y="107"/>
                      </a:lnTo>
                      <a:lnTo>
                        <a:pt x="1648" y="107"/>
                      </a:lnTo>
                      <a:lnTo>
                        <a:pt x="1643" y="107"/>
                      </a:lnTo>
                      <a:lnTo>
                        <a:pt x="1640" y="108"/>
                      </a:lnTo>
                      <a:lnTo>
                        <a:pt x="1635" y="108"/>
                      </a:lnTo>
                      <a:lnTo>
                        <a:pt x="1640" y="107"/>
                      </a:lnTo>
                      <a:lnTo>
                        <a:pt x="1643" y="104"/>
                      </a:lnTo>
                      <a:lnTo>
                        <a:pt x="1649" y="103"/>
                      </a:lnTo>
                      <a:lnTo>
                        <a:pt x="1655" y="103"/>
                      </a:lnTo>
                      <a:lnTo>
                        <a:pt x="1660" y="101"/>
                      </a:lnTo>
                      <a:lnTo>
                        <a:pt x="1666" y="100"/>
                      </a:lnTo>
                      <a:lnTo>
                        <a:pt x="1672" y="100"/>
                      </a:lnTo>
                      <a:lnTo>
                        <a:pt x="1678" y="99"/>
                      </a:lnTo>
                      <a:lnTo>
                        <a:pt x="1683" y="97"/>
                      </a:lnTo>
                      <a:lnTo>
                        <a:pt x="1689" y="97"/>
                      </a:lnTo>
                      <a:lnTo>
                        <a:pt x="1687" y="96"/>
                      </a:lnTo>
                      <a:lnTo>
                        <a:pt x="1683" y="96"/>
                      </a:lnTo>
                      <a:lnTo>
                        <a:pt x="1680" y="96"/>
                      </a:lnTo>
                      <a:lnTo>
                        <a:pt x="1677" y="96"/>
                      </a:lnTo>
                      <a:lnTo>
                        <a:pt x="1674" y="96"/>
                      </a:lnTo>
                      <a:lnTo>
                        <a:pt x="1669" y="96"/>
                      </a:lnTo>
                      <a:lnTo>
                        <a:pt x="1664" y="96"/>
                      </a:lnTo>
                      <a:lnTo>
                        <a:pt x="1660" y="96"/>
                      </a:lnTo>
                      <a:lnTo>
                        <a:pt x="1655" y="96"/>
                      </a:lnTo>
                      <a:lnTo>
                        <a:pt x="1649" y="96"/>
                      </a:lnTo>
                      <a:lnTo>
                        <a:pt x="1644" y="96"/>
                      </a:lnTo>
                      <a:lnTo>
                        <a:pt x="1638" y="96"/>
                      </a:lnTo>
                      <a:lnTo>
                        <a:pt x="1632" y="96"/>
                      </a:lnTo>
                      <a:lnTo>
                        <a:pt x="1628" y="97"/>
                      </a:lnTo>
                      <a:lnTo>
                        <a:pt x="1622" y="97"/>
                      </a:lnTo>
                      <a:lnTo>
                        <a:pt x="1615" y="97"/>
                      </a:lnTo>
                      <a:lnTo>
                        <a:pt x="1609" y="97"/>
                      </a:lnTo>
                      <a:lnTo>
                        <a:pt x="1605" y="97"/>
                      </a:lnTo>
                      <a:lnTo>
                        <a:pt x="1599" y="97"/>
                      </a:lnTo>
                      <a:lnTo>
                        <a:pt x="1592" y="97"/>
                      </a:lnTo>
                      <a:lnTo>
                        <a:pt x="1588" y="97"/>
                      </a:lnTo>
                      <a:lnTo>
                        <a:pt x="1583" y="99"/>
                      </a:lnTo>
                      <a:lnTo>
                        <a:pt x="1577" y="99"/>
                      </a:lnTo>
                      <a:lnTo>
                        <a:pt x="1573" y="99"/>
                      </a:lnTo>
                      <a:lnTo>
                        <a:pt x="1570" y="99"/>
                      </a:lnTo>
                      <a:lnTo>
                        <a:pt x="1565" y="99"/>
                      </a:lnTo>
                      <a:lnTo>
                        <a:pt x="1559" y="99"/>
                      </a:lnTo>
                      <a:lnTo>
                        <a:pt x="1556" y="100"/>
                      </a:lnTo>
                      <a:lnTo>
                        <a:pt x="1559" y="97"/>
                      </a:lnTo>
                      <a:lnTo>
                        <a:pt x="1565" y="95"/>
                      </a:lnTo>
                      <a:lnTo>
                        <a:pt x="1566" y="93"/>
                      </a:lnTo>
                      <a:lnTo>
                        <a:pt x="1570" y="93"/>
                      </a:lnTo>
                      <a:lnTo>
                        <a:pt x="1573" y="92"/>
                      </a:lnTo>
                      <a:lnTo>
                        <a:pt x="1577" y="92"/>
                      </a:lnTo>
                      <a:lnTo>
                        <a:pt x="1580" y="90"/>
                      </a:lnTo>
                      <a:lnTo>
                        <a:pt x="1583" y="90"/>
                      </a:lnTo>
                      <a:lnTo>
                        <a:pt x="1588" y="89"/>
                      </a:lnTo>
                      <a:lnTo>
                        <a:pt x="1591" y="89"/>
                      </a:lnTo>
                      <a:lnTo>
                        <a:pt x="1596" y="89"/>
                      </a:lnTo>
                      <a:lnTo>
                        <a:pt x="1600" y="88"/>
                      </a:lnTo>
                      <a:lnTo>
                        <a:pt x="1605" y="88"/>
                      </a:lnTo>
                      <a:lnTo>
                        <a:pt x="1609" y="88"/>
                      </a:lnTo>
                      <a:lnTo>
                        <a:pt x="1614" y="88"/>
                      </a:lnTo>
                      <a:lnTo>
                        <a:pt x="1618" y="86"/>
                      </a:lnTo>
                      <a:lnTo>
                        <a:pt x="1623" y="86"/>
                      </a:lnTo>
                      <a:lnTo>
                        <a:pt x="1629" y="86"/>
                      </a:lnTo>
                      <a:lnTo>
                        <a:pt x="1634" y="85"/>
                      </a:lnTo>
                      <a:lnTo>
                        <a:pt x="1640" y="85"/>
                      </a:lnTo>
                      <a:lnTo>
                        <a:pt x="1646" y="85"/>
                      </a:lnTo>
                      <a:lnTo>
                        <a:pt x="1651" y="85"/>
                      </a:lnTo>
                      <a:lnTo>
                        <a:pt x="1657" y="85"/>
                      </a:lnTo>
                      <a:lnTo>
                        <a:pt x="1663" y="85"/>
                      </a:lnTo>
                      <a:lnTo>
                        <a:pt x="1667" y="85"/>
                      </a:lnTo>
                      <a:lnTo>
                        <a:pt x="1674" y="85"/>
                      </a:lnTo>
                      <a:lnTo>
                        <a:pt x="1680" y="85"/>
                      </a:lnTo>
                      <a:lnTo>
                        <a:pt x="1686" y="85"/>
                      </a:lnTo>
                      <a:lnTo>
                        <a:pt x="1692" y="85"/>
                      </a:lnTo>
                      <a:lnTo>
                        <a:pt x="1698" y="85"/>
                      </a:lnTo>
                      <a:lnTo>
                        <a:pt x="1704" y="84"/>
                      </a:lnTo>
                      <a:lnTo>
                        <a:pt x="1709" y="84"/>
                      </a:lnTo>
                      <a:lnTo>
                        <a:pt x="1715" y="84"/>
                      </a:lnTo>
                      <a:lnTo>
                        <a:pt x="1723" y="84"/>
                      </a:lnTo>
                      <a:lnTo>
                        <a:pt x="1727" y="84"/>
                      </a:lnTo>
                      <a:lnTo>
                        <a:pt x="1733" y="84"/>
                      </a:lnTo>
                      <a:lnTo>
                        <a:pt x="1739" y="84"/>
                      </a:lnTo>
                      <a:lnTo>
                        <a:pt x="1745" y="84"/>
                      </a:lnTo>
                      <a:lnTo>
                        <a:pt x="1752" y="84"/>
                      </a:lnTo>
                      <a:lnTo>
                        <a:pt x="1758" y="84"/>
                      </a:lnTo>
                      <a:lnTo>
                        <a:pt x="1762" y="84"/>
                      </a:lnTo>
                      <a:lnTo>
                        <a:pt x="1770" y="84"/>
                      </a:lnTo>
                      <a:lnTo>
                        <a:pt x="1775" y="84"/>
                      </a:lnTo>
                      <a:lnTo>
                        <a:pt x="1781" y="84"/>
                      </a:lnTo>
                      <a:lnTo>
                        <a:pt x="1787" y="84"/>
                      </a:lnTo>
                      <a:lnTo>
                        <a:pt x="1793" y="85"/>
                      </a:lnTo>
                      <a:lnTo>
                        <a:pt x="1797" y="84"/>
                      </a:lnTo>
                      <a:lnTo>
                        <a:pt x="1804" y="84"/>
                      </a:lnTo>
                      <a:lnTo>
                        <a:pt x="1810" y="84"/>
                      </a:lnTo>
                      <a:lnTo>
                        <a:pt x="1814" y="84"/>
                      </a:lnTo>
                      <a:lnTo>
                        <a:pt x="1820" y="84"/>
                      </a:lnTo>
                      <a:lnTo>
                        <a:pt x="1825" y="84"/>
                      </a:lnTo>
                      <a:lnTo>
                        <a:pt x="1830" y="84"/>
                      </a:lnTo>
                      <a:lnTo>
                        <a:pt x="1836" y="84"/>
                      </a:lnTo>
                      <a:lnTo>
                        <a:pt x="1840" y="84"/>
                      </a:lnTo>
                      <a:lnTo>
                        <a:pt x="1845" y="84"/>
                      </a:lnTo>
                      <a:lnTo>
                        <a:pt x="1849" y="84"/>
                      </a:lnTo>
                      <a:lnTo>
                        <a:pt x="1854" y="84"/>
                      </a:lnTo>
                      <a:lnTo>
                        <a:pt x="1859" y="84"/>
                      </a:lnTo>
                      <a:lnTo>
                        <a:pt x="1862" y="84"/>
                      </a:lnTo>
                      <a:lnTo>
                        <a:pt x="1866" y="84"/>
                      </a:lnTo>
                      <a:lnTo>
                        <a:pt x="1871" y="84"/>
                      </a:lnTo>
                      <a:lnTo>
                        <a:pt x="1868" y="81"/>
                      </a:lnTo>
                      <a:lnTo>
                        <a:pt x="1863" y="79"/>
                      </a:lnTo>
                      <a:lnTo>
                        <a:pt x="1860" y="78"/>
                      </a:lnTo>
                      <a:lnTo>
                        <a:pt x="1856" y="75"/>
                      </a:lnTo>
                      <a:lnTo>
                        <a:pt x="1853" y="74"/>
                      </a:lnTo>
                      <a:lnTo>
                        <a:pt x="1848" y="74"/>
                      </a:lnTo>
                      <a:lnTo>
                        <a:pt x="1845" y="74"/>
                      </a:lnTo>
                      <a:lnTo>
                        <a:pt x="1842" y="74"/>
                      </a:lnTo>
                      <a:lnTo>
                        <a:pt x="1839" y="73"/>
                      </a:lnTo>
                      <a:lnTo>
                        <a:pt x="1836" y="73"/>
                      </a:lnTo>
                      <a:lnTo>
                        <a:pt x="1831" y="73"/>
                      </a:lnTo>
                      <a:lnTo>
                        <a:pt x="1828" y="73"/>
                      </a:lnTo>
                      <a:lnTo>
                        <a:pt x="1822" y="73"/>
                      </a:lnTo>
                      <a:lnTo>
                        <a:pt x="1814" y="71"/>
                      </a:lnTo>
                      <a:lnTo>
                        <a:pt x="1808" y="71"/>
                      </a:lnTo>
                      <a:lnTo>
                        <a:pt x="1802" y="71"/>
                      </a:lnTo>
                      <a:lnTo>
                        <a:pt x="1794" y="70"/>
                      </a:lnTo>
                      <a:lnTo>
                        <a:pt x="1788" y="70"/>
                      </a:lnTo>
                      <a:lnTo>
                        <a:pt x="1782" y="68"/>
                      </a:lnTo>
                      <a:lnTo>
                        <a:pt x="1776" y="68"/>
                      </a:lnTo>
                      <a:lnTo>
                        <a:pt x="1768" y="68"/>
                      </a:lnTo>
                      <a:lnTo>
                        <a:pt x="1762" y="68"/>
                      </a:lnTo>
                      <a:lnTo>
                        <a:pt x="1756" y="67"/>
                      </a:lnTo>
                      <a:lnTo>
                        <a:pt x="1749" y="67"/>
                      </a:lnTo>
                      <a:lnTo>
                        <a:pt x="1742" y="66"/>
                      </a:lnTo>
                      <a:lnTo>
                        <a:pt x="1736" y="66"/>
                      </a:lnTo>
                      <a:lnTo>
                        <a:pt x="1729" y="66"/>
                      </a:lnTo>
                      <a:lnTo>
                        <a:pt x="1723" y="66"/>
                      </a:lnTo>
                      <a:lnTo>
                        <a:pt x="1716" y="64"/>
                      </a:lnTo>
                      <a:lnTo>
                        <a:pt x="1710" y="64"/>
                      </a:lnTo>
                      <a:lnTo>
                        <a:pt x="1703" y="64"/>
                      </a:lnTo>
                      <a:lnTo>
                        <a:pt x="1696" y="64"/>
                      </a:lnTo>
                      <a:lnTo>
                        <a:pt x="1693" y="63"/>
                      </a:lnTo>
                      <a:lnTo>
                        <a:pt x="1690" y="63"/>
                      </a:lnTo>
                      <a:lnTo>
                        <a:pt x="1686" y="63"/>
                      </a:lnTo>
                      <a:lnTo>
                        <a:pt x="1683" y="63"/>
                      </a:lnTo>
                      <a:lnTo>
                        <a:pt x="1677" y="63"/>
                      </a:lnTo>
                      <a:lnTo>
                        <a:pt x="1670" y="63"/>
                      </a:lnTo>
                      <a:lnTo>
                        <a:pt x="1663" y="63"/>
                      </a:lnTo>
                      <a:lnTo>
                        <a:pt x="1657" y="64"/>
                      </a:lnTo>
                      <a:lnTo>
                        <a:pt x="1649" y="64"/>
                      </a:lnTo>
                      <a:lnTo>
                        <a:pt x="1643" y="66"/>
                      </a:lnTo>
                      <a:lnTo>
                        <a:pt x="1638" y="64"/>
                      </a:lnTo>
                      <a:lnTo>
                        <a:pt x="1632" y="64"/>
                      </a:lnTo>
                      <a:lnTo>
                        <a:pt x="1628" y="63"/>
                      </a:lnTo>
                      <a:lnTo>
                        <a:pt x="1622" y="63"/>
                      </a:lnTo>
                      <a:lnTo>
                        <a:pt x="1617" y="63"/>
                      </a:lnTo>
                      <a:lnTo>
                        <a:pt x="1612" y="63"/>
                      </a:lnTo>
                      <a:lnTo>
                        <a:pt x="1606" y="62"/>
                      </a:lnTo>
                      <a:lnTo>
                        <a:pt x="1602" y="62"/>
                      </a:lnTo>
                      <a:lnTo>
                        <a:pt x="1596" y="62"/>
                      </a:lnTo>
                      <a:lnTo>
                        <a:pt x="1591" y="60"/>
                      </a:lnTo>
                      <a:lnTo>
                        <a:pt x="1586" y="60"/>
                      </a:lnTo>
                      <a:lnTo>
                        <a:pt x="1582" y="60"/>
                      </a:lnTo>
                      <a:lnTo>
                        <a:pt x="1576" y="59"/>
                      </a:lnTo>
                      <a:lnTo>
                        <a:pt x="1571" y="59"/>
                      </a:lnTo>
                      <a:lnTo>
                        <a:pt x="1565" y="59"/>
                      </a:lnTo>
                      <a:lnTo>
                        <a:pt x="1560" y="59"/>
                      </a:lnTo>
                      <a:lnTo>
                        <a:pt x="1565" y="57"/>
                      </a:lnTo>
                      <a:lnTo>
                        <a:pt x="1568" y="56"/>
                      </a:lnTo>
                      <a:lnTo>
                        <a:pt x="1573" y="56"/>
                      </a:lnTo>
                      <a:lnTo>
                        <a:pt x="1577" y="56"/>
                      </a:lnTo>
                      <a:lnTo>
                        <a:pt x="1582" y="55"/>
                      </a:lnTo>
                      <a:lnTo>
                        <a:pt x="1585" y="55"/>
                      </a:lnTo>
                      <a:lnTo>
                        <a:pt x="1589" y="55"/>
                      </a:lnTo>
                      <a:lnTo>
                        <a:pt x="1594" y="55"/>
                      </a:lnTo>
                      <a:lnTo>
                        <a:pt x="1599" y="53"/>
                      </a:lnTo>
                      <a:lnTo>
                        <a:pt x="1602" y="53"/>
                      </a:lnTo>
                      <a:lnTo>
                        <a:pt x="1606" y="53"/>
                      </a:lnTo>
                      <a:lnTo>
                        <a:pt x="1611" y="53"/>
                      </a:lnTo>
                      <a:lnTo>
                        <a:pt x="1615" y="53"/>
                      </a:lnTo>
                      <a:lnTo>
                        <a:pt x="1618" y="53"/>
                      </a:lnTo>
                      <a:lnTo>
                        <a:pt x="1623" y="53"/>
                      </a:lnTo>
                      <a:lnTo>
                        <a:pt x="1629" y="53"/>
                      </a:lnTo>
                      <a:lnTo>
                        <a:pt x="1632" y="53"/>
                      </a:lnTo>
                      <a:lnTo>
                        <a:pt x="1637" y="53"/>
                      </a:lnTo>
                      <a:lnTo>
                        <a:pt x="1641" y="53"/>
                      </a:lnTo>
                      <a:lnTo>
                        <a:pt x="1646" y="53"/>
                      </a:lnTo>
                      <a:lnTo>
                        <a:pt x="1649" y="53"/>
                      </a:lnTo>
                      <a:lnTo>
                        <a:pt x="1654" y="53"/>
                      </a:lnTo>
                      <a:lnTo>
                        <a:pt x="1658" y="53"/>
                      </a:lnTo>
                      <a:lnTo>
                        <a:pt x="1663" y="53"/>
                      </a:lnTo>
                      <a:lnTo>
                        <a:pt x="1667" y="53"/>
                      </a:lnTo>
                      <a:lnTo>
                        <a:pt x="1672" y="53"/>
                      </a:lnTo>
                      <a:lnTo>
                        <a:pt x="1677" y="53"/>
                      </a:lnTo>
                      <a:lnTo>
                        <a:pt x="1681" y="53"/>
                      </a:lnTo>
                      <a:lnTo>
                        <a:pt x="1686" y="53"/>
                      </a:lnTo>
                      <a:lnTo>
                        <a:pt x="1690" y="55"/>
                      </a:lnTo>
                      <a:lnTo>
                        <a:pt x="1695" y="55"/>
                      </a:lnTo>
                      <a:lnTo>
                        <a:pt x="1700" y="55"/>
                      </a:lnTo>
                      <a:lnTo>
                        <a:pt x="1703" y="55"/>
                      </a:lnTo>
                      <a:lnTo>
                        <a:pt x="1707" y="55"/>
                      </a:lnTo>
                      <a:lnTo>
                        <a:pt x="1712" y="55"/>
                      </a:lnTo>
                      <a:lnTo>
                        <a:pt x="1716" y="56"/>
                      </a:lnTo>
                      <a:lnTo>
                        <a:pt x="1721" y="56"/>
                      </a:lnTo>
                      <a:lnTo>
                        <a:pt x="1726" y="56"/>
                      </a:lnTo>
                      <a:lnTo>
                        <a:pt x="1729" y="56"/>
                      </a:lnTo>
                      <a:lnTo>
                        <a:pt x="1735" y="56"/>
                      </a:lnTo>
                      <a:lnTo>
                        <a:pt x="1738" y="56"/>
                      </a:lnTo>
                      <a:lnTo>
                        <a:pt x="1742" y="56"/>
                      </a:lnTo>
                      <a:lnTo>
                        <a:pt x="1747" y="56"/>
                      </a:lnTo>
                      <a:lnTo>
                        <a:pt x="1752" y="56"/>
                      </a:lnTo>
                      <a:lnTo>
                        <a:pt x="1756" y="56"/>
                      </a:lnTo>
                      <a:lnTo>
                        <a:pt x="1761" y="56"/>
                      </a:lnTo>
                      <a:lnTo>
                        <a:pt x="1765" y="56"/>
                      </a:lnTo>
                      <a:lnTo>
                        <a:pt x="1770" y="57"/>
                      </a:lnTo>
                      <a:lnTo>
                        <a:pt x="1773" y="56"/>
                      </a:lnTo>
                      <a:lnTo>
                        <a:pt x="1778" y="56"/>
                      </a:lnTo>
                      <a:lnTo>
                        <a:pt x="1782" y="56"/>
                      </a:lnTo>
                      <a:lnTo>
                        <a:pt x="1787" y="56"/>
                      </a:lnTo>
                      <a:lnTo>
                        <a:pt x="1791" y="56"/>
                      </a:lnTo>
                      <a:lnTo>
                        <a:pt x="1796" y="56"/>
                      </a:lnTo>
                      <a:lnTo>
                        <a:pt x="1801" y="56"/>
                      </a:lnTo>
                      <a:lnTo>
                        <a:pt x="1805" y="56"/>
                      </a:lnTo>
                      <a:lnTo>
                        <a:pt x="1808" y="56"/>
                      </a:lnTo>
                      <a:lnTo>
                        <a:pt x="1814" y="56"/>
                      </a:lnTo>
                      <a:lnTo>
                        <a:pt x="1817" y="55"/>
                      </a:lnTo>
                      <a:lnTo>
                        <a:pt x="1822" y="55"/>
                      </a:lnTo>
                      <a:lnTo>
                        <a:pt x="1827" y="55"/>
                      </a:lnTo>
                      <a:lnTo>
                        <a:pt x="1831" y="55"/>
                      </a:lnTo>
                      <a:lnTo>
                        <a:pt x="1836" y="53"/>
                      </a:lnTo>
                      <a:lnTo>
                        <a:pt x="1840" y="53"/>
                      </a:lnTo>
                      <a:lnTo>
                        <a:pt x="1845" y="53"/>
                      </a:lnTo>
                      <a:lnTo>
                        <a:pt x="1851" y="52"/>
                      </a:lnTo>
                      <a:lnTo>
                        <a:pt x="1856" y="52"/>
                      </a:lnTo>
                      <a:lnTo>
                        <a:pt x="1859" y="51"/>
                      </a:lnTo>
                      <a:lnTo>
                        <a:pt x="1863" y="49"/>
                      </a:lnTo>
                      <a:lnTo>
                        <a:pt x="1866" y="48"/>
                      </a:lnTo>
                      <a:lnTo>
                        <a:pt x="1865" y="46"/>
                      </a:lnTo>
                      <a:lnTo>
                        <a:pt x="1863" y="46"/>
                      </a:lnTo>
                      <a:lnTo>
                        <a:pt x="1860" y="46"/>
                      </a:lnTo>
                      <a:lnTo>
                        <a:pt x="1857" y="45"/>
                      </a:lnTo>
                      <a:lnTo>
                        <a:pt x="1853" y="45"/>
                      </a:lnTo>
                      <a:lnTo>
                        <a:pt x="1848" y="45"/>
                      </a:lnTo>
                      <a:lnTo>
                        <a:pt x="1845" y="45"/>
                      </a:lnTo>
                      <a:lnTo>
                        <a:pt x="1842" y="45"/>
                      </a:lnTo>
                      <a:lnTo>
                        <a:pt x="1839" y="45"/>
                      </a:lnTo>
                      <a:lnTo>
                        <a:pt x="1836" y="45"/>
                      </a:lnTo>
                      <a:lnTo>
                        <a:pt x="1739" y="41"/>
                      </a:lnTo>
                      <a:lnTo>
                        <a:pt x="1723" y="31"/>
                      </a:lnTo>
                      <a:lnTo>
                        <a:pt x="1718" y="33"/>
                      </a:lnTo>
                      <a:lnTo>
                        <a:pt x="1713" y="33"/>
                      </a:lnTo>
                      <a:lnTo>
                        <a:pt x="1709" y="34"/>
                      </a:lnTo>
                      <a:lnTo>
                        <a:pt x="1704" y="34"/>
                      </a:lnTo>
                      <a:lnTo>
                        <a:pt x="1698" y="34"/>
                      </a:lnTo>
                      <a:lnTo>
                        <a:pt x="1689" y="34"/>
                      </a:lnTo>
                      <a:lnTo>
                        <a:pt x="1681" y="34"/>
                      </a:lnTo>
                      <a:lnTo>
                        <a:pt x="1672" y="34"/>
                      </a:lnTo>
                      <a:lnTo>
                        <a:pt x="1663" y="34"/>
                      </a:lnTo>
                      <a:lnTo>
                        <a:pt x="1651" y="34"/>
                      </a:lnTo>
                      <a:lnTo>
                        <a:pt x="1640" y="34"/>
                      </a:lnTo>
                      <a:lnTo>
                        <a:pt x="1628" y="33"/>
                      </a:lnTo>
                      <a:lnTo>
                        <a:pt x="1615" y="33"/>
                      </a:lnTo>
                      <a:lnTo>
                        <a:pt x="1602" y="31"/>
                      </a:lnTo>
                      <a:lnTo>
                        <a:pt x="1588" y="31"/>
                      </a:lnTo>
                      <a:lnTo>
                        <a:pt x="1573" y="31"/>
                      </a:lnTo>
                      <a:lnTo>
                        <a:pt x="1559" y="31"/>
                      </a:lnTo>
                      <a:lnTo>
                        <a:pt x="1542" y="30"/>
                      </a:lnTo>
                      <a:lnTo>
                        <a:pt x="1527" y="30"/>
                      </a:lnTo>
                      <a:lnTo>
                        <a:pt x="1510" y="29"/>
                      </a:lnTo>
                      <a:lnTo>
                        <a:pt x="1495" y="29"/>
                      </a:lnTo>
                      <a:lnTo>
                        <a:pt x="1476" y="27"/>
                      </a:lnTo>
                      <a:lnTo>
                        <a:pt x="1459" y="27"/>
                      </a:lnTo>
                      <a:lnTo>
                        <a:pt x="1441" y="26"/>
                      </a:lnTo>
                      <a:lnTo>
                        <a:pt x="1424" y="26"/>
                      </a:lnTo>
                      <a:lnTo>
                        <a:pt x="1406" y="25"/>
                      </a:lnTo>
                      <a:lnTo>
                        <a:pt x="1388" y="23"/>
                      </a:lnTo>
                      <a:lnTo>
                        <a:pt x="1369" y="23"/>
                      </a:lnTo>
                      <a:lnTo>
                        <a:pt x="1352" y="23"/>
                      </a:lnTo>
                      <a:lnTo>
                        <a:pt x="1334" y="20"/>
                      </a:lnTo>
                      <a:lnTo>
                        <a:pt x="1314" y="20"/>
                      </a:lnTo>
                      <a:lnTo>
                        <a:pt x="1296" y="19"/>
                      </a:lnTo>
                      <a:lnTo>
                        <a:pt x="1279" y="19"/>
                      </a:lnTo>
                      <a:lnTo>
                        <a:pt x="1259" y="16"/>
                      </a:lnTo>
                      <a:lnTo>
                        <a:pt x="1242" y="16"/>
                      </a:lnTo>
                      <a:lnTo>
                        <a:pt x="1224" y="15"/>
                      </a:lnTo>
                      <a:lnTo>
                        <a:pt x="1207" y="15"/>
                      </a:lnTo>
                      <a:lnTo>
                        <a:pt x="1189" y="14"/>
                      </a:lnTo>
                      <a:lnTo>
                        <a:pt x="1172" y="14"/>
                      </a:lnTo>
                      <a:lnTo>
                        <a:pt x="1155" y="12"/>
                      </a:lnTo>
                      <a:lnTo>
                        <a:pt x="1138" y="11"/>
                      </a:lnTo>
                      <a:lnTo>
                        <a:pt x="1121" y="9"/>
                      </a:lnTo>
                      <a:lnTo>
                        <a:pt x="1108" y="9"/>
                      </a:lnTo>
                      <a:lnTo>
                        <a:pt x="1091" y="8"/>
                      </a:lnTo>
                      <a:lnTo>
                        <a:pt x="1077" y="8"/>
                      </a:lnTo>
                      <a:lnTo>
                        <a:pt x="1063" y="7"/>
                      </a:lnTo>
                      <a:lnTo>
                        <a:pt x="1049" y="7"/>
                      </a:lnTo>
                      <a:lnTo>
                        <a:pt x="1036" y="5"/>
                      </a:lnTo>
                      <a:lnTo>
                        <a:pt x="1025" y="5"/>
                      </a:lnTo>
                      <a:lnTo>
                        <a:pt x="1013" y="4"/>
                      </a:lnTo>
                      <a:lnTo>
                        <a:pt x="1002" y="4"/>
                      </a:lnTo>
                      <a:lnTo>
                        <a:pt x="991" y="4"/>
                      </a:lnTo>
                      <a:lnTo>
                        <a:pt x="984" y="4"/>
                      </a:lnTo>
                      <a:lnTo>
                        <a:pt x="975" y="3"/>
                      </a:lnTo>
                      <a:lnTo>
                        <a:pt x="967" y="3"/>
                      </a:lnTo>
                      <a:lnTo>
                        <a:pt x="959" y="1"/>
                      </a:lnTo>
                      <a:lnTo>
                        <a:pt x="955" y="1"/>
                      </a:lnTo>
                      <a:lnTo>
                        <a:pt x="949" y="1"/>
                      </a:lnTo>
                      <a:lnTo>
                        <a:pt x="945" y="1"/>
                      </a:lnTo>
                      <a:lnTo>
                        <a:pt x="942" y="1"/>
                      </a:lnTo>
                      <a:lnTo>
                        <a:pt x="941" y="1"/>
                      </a:lnTo>
                      <a:lnTo>
                        <a:pt x="936" y="1"/>
                      </a:lnTo>
                      <a:lnTo>
                        <a:pt x="930" y="1"/>
                      </a:lnTo>
                      <a:lnTo>
                        <a:pt x="924" y="1"/>
                      </a:lnTo>
                      <a:lnTo>
                        <a:pt x="919" y="1"/>
                      </a:lnTo>
                      <a:lnTo>
                        <a:pt x="913" y="1"/>
                      </a:lnTo>
                      <a:lnTo>
                        <a:pt x="907" y="1"/>
                      </a:lnTo>
                      <a:lnTo>
                        <a:pt x="901" y="1"/>
                      </a:lnTo>
                      <a:lnTo>
                        <a:pt x="896" y="1"/>
                      </a:lnTo>
                      <a:lnTo>
                        <a:pt x="892" y="1"/>
                      </a:lnTo>
                      <a:lnTo>
                        <a:pt x="886" y="1"/>
                      </a:lnTo>
                      <a:lnTo>
                        <a:pt x="880" y="1"/>
                      </a:lnTo>
                      <a:lnTo>
                        <a:pt x="875" y="1"/>
                      </a:lnTo>
                      <a:lnTo>
                        <a:pt x="869" y="1"/>
                      </a:lnTo>
                      <a:lnTo>
                        <a:pt x="863" y="1"/>
                      </a:lnTo>
                      <a:lnTo>
                        <a:pt x="858" y="1"/>
                      </a:lnTo>
                      <a:lnTo>
                        <a:pt x="852" y="1"/>
                      </a:lnTo>
                      <a:lnTo>
                        <a:pt x="846" y="0"/>
                      </a:lnTo>
                      <a:lnTo>
                        <a:pt x="840" y="0"/>
                      </a:lnTo>
                      <a:lnTo>
                        <a:pt x="834" y="0"/>
                      </a:lnTo>
                      <a:lnTo>
                        <a:pt x="828" y="0"/>
                      </a:lnTo>
                      <a:lnTo>
                        <a:pt x="822" y="0"/>
                      </a:lnTo>
                      <a:lnTo>
                        <a:pt x="815" y="0"/>
                      </a:lnTo>
                      <a:lnTo>
                        <a:pt x="811" y="0"/>
                      </a:lnTo>
                      <a:lnTo>
                        <a:pt x="805" y="0"/>
                      </a:lnTo>
                      <a:lnTo>
                        <a:pt x="799" y="0"/>
                      </a:lnTo>
                      <a:lnTo>
                        <a:pt x="792" y="0"/>
                      </a:lnTo>
                      <a:lnTo>
                        <a:pt x="788" y="0"/>
                      </a:lnTo>
                      <a:lnTo>
                        <a:pt x="782" y="0"/>
                      </a:lnTo>
                      <a:lnTo>
                        <a:pt x="776" y="0"/>
                      </a:lnTo>
                      <a:lnTo>
                        <a:pt x="770" y="0"/>
                      </a:lnTo>
                      <a:lnTo>
                        <a:pt x="765" y="0"/>
                      </a:lnTo>
                      <a:lnTo>
                        <a:pt x="759" y="0"/>
                      </a:lnTo>
                      <a:lnTo>
                        <a:pt x="753" y="0"/>
                      </a:lnTo>
                      <a:lnTo>
                        <a:pt x="747" y="0"/>
                      </a:lnTo>
                      <a:lnTo>
                        <a:pt x="740" y="0"/>
                      </a:lnTo>
                      <a:lnTo>
                        <a:pt x="734" y="0"/>
                      </a:lnTo>
                      <a:lnTo>
                        <a:pt x="728" y="0"/>
                      </a:lnTo>
                      <a:lnTo>
                        <a:pt x="724" y="0"/>
                      </a:lnTo>
                      <a:lnTo>
                        <a:pt x="718" y="0"/>
                      </a:lnTo>
                      <a:lnTo>
                        <a:pt x="711" y="0"/>
                      </a:lnTo>
                      <a:lnTo>
                        <a:pt x="705" y="0"/>
                      </a:lnTo>
                      <a:lnTo>
                        <a:pt x="699" y="0"/>
                      </a:lnTo>
                      <a:lnTo>
                        <a:pt x="693" y="0"/>
                      </a:lnTo>
                      <a:lnTo>
                        <a:pt x="688" y="1"/>
                      </a:lnTo>
                      <a:lnTo>
                        <a:pt x="682" y="1"/>
                      </a:lnTo>
                      <a:lnTo>
                        <a:pt x="676" y="1"/>
                      </a:lnTo>
                      <a:lnTo>
                        <a:pt x="672" y="3"/>
                      </a:lnTo>
                      <a:lnTo>
                        <a:pt x="666" y="3"/>
                      </a:lnTo>
                      <a:lnTo>
                        <a:pt x="659" y="3"/>
                      </a:lnTo>
                      <a:lnTo>
                        <a:pt x="653" y="3"/>
                      </a:lnTo>
                      <a:lnTo>
                        <a:pt x="649" y="4"/>
                      </a:lnTo>
                      <a:lnTo>
                        <a:pt x="643" y="4"/>
                      </a:lnTo>
                      <a:lnTo>
                        <a:pt x="636" y="4"/>
                      </a:lnTo>
                      <a:lnTo>
                        <a:pt x="630" y="4"/>
                      </a:lnTo>
                      <a:lnTo>
                        <a:pt x="626" y="5"/>
                      </a:lnTo>
                      <a:lnTo>
                        <a:pt x="621" y="7"/>
                      </a:lnTo>
                      <a:lnTo>
                        <a:pt x="615" y="7"/>
                      </a:lnTo>
                      <a:lnTo>
                        <a:pt x="609" y="8"/>
                      </a:lnTo>
                      <a:lnTo>
                        <a:pt x="604" y="8"/>
                      </a:lnTo>
                      <a:lnTo>
                        <a:pt x="598" y="9"/>
                      </a:lnTo>
                      <a:lnTo>
                        <a:pt x="594" y="9"/>
                      </a:lnTo>
                      <a:lnTo>
                        <a:pt x="588" y="11"/>
                      </a:lnTo>
                      <a:lnTo>
                        <a:pt x="583" y="12"/>
                      </a:lnTo>
                      <a:lnTo>
                        <a:pt x="578" y="14"/>
                      </a:lnTo>
                      <a:lnTo>
                        <a:pt x="575" y="14"/>
                      </a:lnTo>
                      <a:lnTo>
                        <a:pt x="572" y="14"/>
                      </a:lnTo>
                      <a:lnTo>
                        <a:pt x="566" y="15"/>
                      </a:lnTo>
                      <a:lnTo>
                        <a:pt x="561" y="15"/>
                      </a:lnTo>
                      <a:lnTo>
                        <a:pt x="557" y="15"/>
                      </a:lnTo>
                      <a:lnTo>
                        <a:pt x="554" y="15"/>
                      </a:lnTo>
                      <a:lnTo>
                        <a:pt x="549" y="16"/>
                      </a:lnTo>
                      <a:lnTo>
                        <a:pt x="546" y="16"/>
                      </a:lnTo>
                      <a:lnTo>
                        <a:pt x="543" y="16"/>
                      </a:lnTo>
                      <a:lnTo>
                        <a:pt x="539" y="16"/>
                      </a:lnTo>
                      <a:lnTo>
                        <a:pt x="535" y="16"/>
                      </a:lnTo>
                      <a:lnTo>
                        <a:pt x="531" y="18"/>
                      </a:lnTo>
                      <a:lnTo>
                        <a:pt x="528" y="18"/>
                      </a:lnTo>
                      <a:lnTo>
                        <a:pt x="523" y="18"/>
                      </a:lnTo>
                      <a:lnTo>
                        <a:pt x="520" y="18"/>
                      </a:lnTo>
                      <a:lnTo>
                        <a:pt x="516" y="18"/>
                      </a:lnTo>
                      <a:lnTo>
                        <a:pt x="513" y="18"/>
                      </a:lnTo>
                      <a:lnTo>
                        <a:pt x="508" y="18"/>
                      </a:lnTo>
                      <a:lnTo>
                        <a:pt x="505" y="18"/>
                      </a:lnTo>
                      <a:lnTo>
                        <a:pt x="503" y="19"/>
                      </a:lnTo>
                      <a:lnTo>
                        <a:pt x="497" y="18"/>
                      </a:lnTo>
                      <a:lnTo>
                        <a:pt x="493" y="18"/>
                      </a:lnTo>
                      <a:lnTo>
                        <a:pt x="490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66"/>
                <p:cNvSpPr/>
                <p:nvPr/>
              </p:nvSpPr>
              <p:spPr>
                <a:xfrm>
                  <a:off x="2960640" y="2241720"/>
                  <a:ext cx="99360" cy="50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288" h="14">
                      <a:moveTo>
                        <a:pt x="286" y="0"/>
                      </a:moveTo>
                      <a:lnTo>
                        <a:pt x="280" y="0"/>
                      </a:lnTo>
                      <a:lnTo>
                        <a:pt x="274" y="0"/>
                      </a:lnTo>
                      <a:lnTo>
                        <a:pt x="268" y="0"/>
                      </a:lnTo>
                      <a:lnTo>
                        <a:pt x="263" y="0"/>
                      </a:lnTo>
                      <a:lnTo>
                        <a:pt x="257" y="0"/>
                      </a:lnTo>
                      <a:lnTo>
                        <a:pt x="251" y="0"/>
                      </a:lnTo>
                      <a:lnTo>
                        <a:pt x="245" y="0"/>
                      </a:lnTo>
                      <a:lnTo>
                        <a:pt x="240" y="0"/>
                      </a:lnTo>
                      <a:lnTo>
                        <a:pt x="233" y="0"/>
                      </a:lnTo>
                      <a:lnTo>
                        <a:pt x="228" y="0"/>
                      </a:lnTo>
                      <a:lnTo>
                        <a:pt x="222" y="0"/>
                      </a:lnTo>
                      <a:lnTo>
                        <a:pt x="216" y="0"/>
                      </a:lnTo>
                      <a:lnTo>
                        <a:pt x="210" y="0"/>
                      </a:lnTo>
                      <a:lnTo>
                        <a:pt x="205" y="2"/>
                      </a:lnTo>
                      <a:lnTo>
                        <a:pt x="199" y="2"/>
                      </a:lnTo>
                      <a:lnTo>
                        <a:pt x="193" y="2"/>
                      </a:lnTo>
                      <a:lnTo>
                        <a:pt x="187" y="2"/>
                      </a:lnTo>
                      <a:lnTo>
                        <a:pt x="181" y="2"/>
                      </a:lnTo>
                      <a:lnTo>
                        <a:pt x="174" y="3"/>
                      </a:lnTo>
                      <a:lnTo>
                        <a:pt x="170" y="3"/>
                      </a:lnTo>
                      <a:lnTo>
                        <a:pt x="164" y="3"/>
                      </a:lnTo>
                      <a:lnTo>
                        <a:pt x="158" y="3"/>
                      </a:lnTo>
                      <a:lnTo>
                        <a:pt x="152" y="3"/>
                      </a:lnTo>
                      <a:lnTo>
                        <a:pt x="145" y="4"/>
                      </a:lnTo>
                      <a:lnTo>
                        <a:pt x="139" y="4"/>
                      </a:lnTo>
                      <a:lnTo>
                        <a:pt x="135" y="4"/>
                      </a:lnTo>
                      <a:lnTo>
                        <a:pt x="127" y="4"/>
                      </a:lnTo>
                      <a:lnTo>
                        <a:pt x="122" y="6"/>
                      </a:lnTo>
                      <a:lnTo>
                        <a:pt x="116" y="6"/>
                      </a:lnTo>
                      <a:lnTo>
                        <a:pt x="110" y="6"/>
                      </a:lnTo>
                      <a:lnTo>
                        <a:pt x="104" y="6"/>
                      </a:lnTo>
                      <a:lnTo>
                        <a:pt x="100" y="6"/>
                      </a:lnTo>
                      <a:lnTo>
                        <a:pt x="31" y="8"/>
                      </a:lnTo>
                      <a:lnTo>
                        <a:pt x="11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4"/>
                      </a:lnTo>
                      <a:lnTo>
                        <a:pt x="9" y="14"/>
                      </a:lnTo>
                      <a:lnTo>
                        <a:pt x="14" y="14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5" y="12"/>
                      </a:lnTo>
                      <a:lnTo>
                        <a:pt x="28" y="12"/>
                      </a:lnTo>
                      <a:lnTo>
                        <a:pt x="31" y="12"/>
                      </a:lnTo>
                      <a:lnTo>
                        <a:pt x="35" y="12"/>
                      </a:lnTo>
                      <a:lnTo>
                        <a:pt x="40" y="12"/>
                      </a:lnTo>
                      <a:lnTo>
                        <a:pt x="43" y="12"/>
                      </a:lnTo>
                      <a:lnTo>
                        <a:pt x="48" y="12"/>
                      </a:lnTo>
                      <a:lnTo>
                        <a:pt x="54" y="12"/>
                      </a:lnTo>
                      <a:lnTo>
                        <a:pt x="58" y="12"/>
                      </a:lnTo>
                      <a:lnTo>
                        <a:pt x="64" y="12"/>
                      </a:lnTo>
                      <a:lnTo>
                        <a:pt x="69" y="12"/>
                      </a:lnTo>
                      <a:lnTo>
                        <a:pt x="75" y="12"/>
                      </a:lnTo>
                      <a:lnTo>
                        <a:pt x="80" y="12"/>
                      </a:lnTo>
                      <a:lnTo>
                        <a:pt x="86" y="12"/>
                      </a:lnTo>
                      <a:lnTo>
                        <a:pt x="90" y="11"/>
                      </a:lnTo>
                      <a:lnTo>
                        <a:pt x="96" y="11"/>
                      </a:lnTo>
                      <a:lnTo>
                        <a:pt x="101" y="11"/>
                      </a:lnTo>
                      <a:lnTo>
                        <a:pt x="107" y="11"/>
                      </a:lnTo>
                      <a:lnTo>
                        <a:pt x="112" y="11"/>
                      </a:lnTo>
                      <a:lnTo>
                        <a:pt x="118" y="11"/>
                      </a:lnTo>
                      <a:lnTo>
                        <a:pt x="122" y="11"/>
                      </a:lnTo>
                      <a:lnTo>
                        <a:pt x="129" y="11"/>
                      </a:lnTo>
                      <a:lnTo>
                        <a:pt x="135" y="11"/>
                      </a:lnTo>
                      <a:lnTo>
                        <a:pt x="139" y="11"/>
                      </a:lnTo>
                      <a:lnTo>
                        <a:pt x="144" y="10"/>
                      </a:lnTo>
                      <a:lnTo>
                        <a:pt x="150" y="10"/>
                      </a:lnTo>
                      <a:lnTo>
                        <a:pt x="155" y="10"/>
                      </a:lnTo>
                      <a:lnTo>
                        <a:pt x="161" y="10"/>
                      </a:lnTo>
                      <a:lnTo>
                        <a:pt x="165" y="10"/>
                      </a:lnTo>
                      <a:lnTo>
                        <a:pt x="171" y="10"/>
                      </a:lnTo>
                      <a:lnTo>
                        <a:pt x="176" y="8"/>
                      </a:lnTo>
                      <a:lnTo>
                        <a:pt x="182" y="8"/>
                      </a:lnTo>
                      <a:lnTo>
                        <a:pt x="187" y="8"/>
                      </a:lnTo>
                      <a:lnTo>
                        <a:pt x="193" y="8"/>
                      </a:lnTo>
                      <a:lnTo>
                        <a:pt x="199" y="8"/>
                      </a:lnTo>
                      <a:lnTo>
                        <a:pt x="204" y="8"/>
                      </a:lnTo>
                      <a:lnTo>
                        <a:pt x="210" y="8"/>
                      </a:lnTo>
                      <a:lnTo>
                        <a:pt x="216" y="8"/>
                      </a:lnTo>
                      <a:lnTo>
                        <a:pt x="219" y="8"/>
                      </a:lnTo>
                      <a:lnTo>
                        <a:pt x="223" y="8"/>
                      </a:lnTo>
                      <a:lnTo>
                        <a:pt x="226" y="8"/>
                      </a:lnTo>
                      <a:lnTo>
                        <a:pt x="230" y="8"/>
                      </a:lnTo>
                      <a:lnTo>
                        <a:pt x="234" y="8"/>
                      </a:lnTo>
                      <a:lnTo>
                        <a:pt x="237" y="8"/>
                      </a:lnTo>
                      <a:lnTo>
                        <a:pt x="242" y="8"/>
                      </a:lnTo>
                      <a:lnTo>
                        <a:pt x="246" y="8"/>
                      </a:lnTo>
                      <a:lnTo>
                        <a:pt x="249" y="8"/>
                      </a:lnTo>
                      <a:lnTo>
                        <a:pt x="254" y="8"/>
                      </a:lnTo>
                      <a:lnTo>
                        <a:pt x="257" y="8"/>
                      </a:lnTo>
                      <a:lnTo>
                        <a:pt x="262" y="8"/>
                      </a:lnTo>
                      <a:lnTo>
                        <a:pt x="265" y="8"/>
                      </a:lnTo>
                      <a:lnTo>
                        <a:pt x="269" y="8"/>
                      </a:lnTo>
                      <a:lnTo>
                        <a:pt x="274" y="8"/>
                      </a:lnTo>
                      <a:lnTo>
                        <a:pt x="279" y="8"/>
                      </a:lnTo>
                      <a:lnTo>
                        <a:pt x="282" y="7"/>
                      </a:lnTo>
                      <a:lnTo>
                        <a:pt x="285" y="4"/>
                      </a:lnTo>
                      <a:lnTo>
                        <a:pt x="288" y="2"/>
                      </a:lnTo>
                      <a:lnTo>
                        <a:pt x="2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67"/>
                <p:cNvSpPr/>
                <p:nvPr/>
              </p:nvSpPr>
              <p:spPr>
                <a:xfrm>
                  <a:off x="3133800" y="2256480"/>
                  <a:ext cx="85680" cy="936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48" h="25">
                      <a:moveTo>
                        <a:pt x="248" y="25"/>
                      </a:moveTo>
                      <a:lnTo>
                        <a:pt x="244" y="25"/>
                      </a:lnTo>
                      <a:lnTo>
                        <a:pt x="237" y="25"/>
                      </a:lnTo>
                      <a:lnTo>
                        <a:pt x="233" y="23"/>
                      </a:lnTo>
                      <a:lnTo>
                        <a:pt x="227" y="23"/>
                      </a:lnTo>
                      <a:lnTo>
                        <a:pt x="224" y="22"/>
                      </a:lnTo>
                      <a:lnTo>
                        <a:pt x="219" y="22"/>
                      </a:lnTo>
                      <a:lnTo>
                        <a:pt x="216" y="22"/>
                      </a:lnTo>
                      <a:lnTo>
                        <a:pt x="213" y="22"/>
                      </a:lnTo>
                      <a:lnTo>
                        <a:pt x="208" y="21"/>
                      </a:lnTo>
                      <a:lnTo>
                        <a:pt x="205" y="21"/>
                      </a:lnTo>
                      <a:lnTo>
                        <a:pt x="201" y="21"/>
                      </a:lnTo>
                      <a:lnTo>
                        <a:pt x="198" y="21"/>
                      </a:lnTo>
                      <a:lnTo>
                        <a:pt x="193" y="21"/>
                      </a:lnTo>
                      <a:lnTo>
                        <a:pt x="188" y="19"/>
                      </a:lnTo>
                      <a:lnTo>
                        <a:pt x="184" y="19"/>
                      </a:lnTo>
                      <a:lnTo>
                        <a:pt x="179" y="19"/>
                      </a:lnTo>
                      <a:lnTo>
                        <a:pt x="175" y="18"/>
                      </a:lnTo>
                      <a:lnTo>
                        <a:pt x="172" y="18"/>
                      </a:lnTo>
                      <a:lnTo>
                        <a:pt x="166" y="18"/>
                      </a:lnTo>
                      <a:lnTo>
                        <a:pt x="162" y="18"/>
                      </a:lnTo>
                      <a:lnTo>
                        <a:pt x="158" y="16"/>
                      </a:lnTo>
                      <a:lnTo>
                        <a:pt x="153" y="16"/>
                      </a:lnTo>
                      <a:lnTo>
                        <a:pt x="149" y="15"/>
                      </a:lnTo>
                      <a:lnTo>
                        <a:pt x="144" y="15"/>
                      </a:lnTo>
                      <a:lnTo>
                        <a:pt x="138" y="15"/>
                      </a:lnTo>
                      <a:lnTo>
                        <a:pt x="135" y="15"/>
                      </a:lnTo>
                      <a:lnTo>
                        <a:pt x="129" y="15"/>
                      </a:lnTo>
                      <a:lnTo>
                        <a:pt x="124" y="15"/>
                      </a:lnTo>
                      <a:lnTo>
                        <a:pt x="120" y="14"/>
                      </a:lnTo>
                      <a:lnTo>
                        <a:pt x="115" y="14"/>
                      </a:lnTo>
                      <a:lnTo>
                        <a:pt x="110" y="12"/>
                      </a:lnTo>
                      <a:lnTo>
                        <a:pt x="106" y="12"/>
                      </a:lnTo>
                      <a:lnTo>
                        <a:pt x="100" y="12"/>
                      </a:lnTo>
                      <a:lnTo>
                        <a:pt x="97" y="12"/>
                      </a:lnTo>
                      <a:lnTo>
                        <a:pt x="91" y="11"/>
                      </a:lnTo>
                      <a:lnTo>
                        <a:pt x="86" y="11"/>
                      </a:lnTo>
                      <a:lnTo>
                        <a:pt x="81" y="11"/>
                      </a:lnTo>
                      <a:lnTo>
                        <a:pt x="77" y="10"/>
                      </a:lnTo>
                      <a:lnTo>
                        <a:pt x="72" y="10"/>
                      </a:lnTo>
                      <a:lnTo>
                        <a:pt x="68" y="10"/>
                      </a:lnTo>
                      <a:lnTo>
                        <a:pt x="63" y="8"/>
                      </a:lnTo>
                      <a:lnTo>
                        <a:pt x="58" y="8"/>
                      </a:lnTo>
                      <a:lnTo>
                        <a:pt x="55" y="8"/>
                      </a:lnTo>
                      <a:lnTo>
                        <a:pt x="52" y="8"/>
                      </a:lnTo>
                      <a:lnTo>
                        <a:pt x="48" y="8"/>
                      </a:lnTo>
                      <a:lnTo>
                        <a:pt x="43" y="7"/>
                      </a:lnTo>
                      <a:lnTo>
                        <a:pt x="39" y="7"/>
                      </a:lnTo>
                      <a:lnTo>
                        <a:pt x="35" y="7"/>
                      </a:lnTo>
                      <a:lnTo>
                        <a:pt x="32" y="5"/>
                      </a:lnTo>
                      <a:lnTo>
                        <a:pt x="28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6" y="5"/>
                      </a:lnTo>
                      <a:lnTo>
                        <a:pt x="9" y="5"/>
                      </a:lnTo>
                      <a:lnTo>
                        <a:pt x="5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3" y="4"/>
                      </a:lnTo>
                      <a:lnTo>
                        <a:pt x="19" y="4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5" y="3"/>
                      </a:lnTo>
                      <a:lnTo>
                        <a:pt x="49" y="3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60" y="3"/>
                      </a:lnTo>
                      <a:lnTo>
                        <a:pt x="63" y="3"/>
                      </a:lnTo>
                      <a:lnTo>
                        <a:pt x="68" y="3"/>
                      </a:lnTo>
                      <a:lnTo>
                        <a:pt x="72" y="3"/>
                      </a:lnTo>
                      <a:lnTo>
                        <a:pt x="77" y="3"/>
                      </a:lnTo>
                      <a:lnTo>
                        <a:pt x="81" y="1"/>
                      </a:lnTo>
                      <a:lnTo>
                        <a:pt x="86" y="1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100" y="1"/>
                      </a:lnTo>
                      <a:lnTo>
                        <a:pt x="104" y="1"/>
                      </a:lnTo>
                      <a:lnTo>
                        <a:pt x="109" y="1"/>
                      </a:lnTo>
                      <a:lnTo>
                        <a:pt x="113" y="1"/>
                      </a:lnTo>
                      <a:lnTo>
                        <a:pt x="118" y="1"/>
                      </a:lnTo>
                      <a:lnTo>
                        <a:pt x="123" y="1"/>
                      </a:lnTo>
                      <a:lnTo>
                        <a:pt x="126" y="1"/>
                      </a:lnTo>
                      <a:lnTo>
                        <a:pt x="132" y="1"/>
                      </a:lnTo>
                      <a:lnTo>
                        <a:pt x="135" y="0"/>
                      </a:lnTo>
                      <a:lnTo>
                        <a:pt x="140" y="0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6" y="0"/>
                      </a:lnTo>
                      <a:lnTo>
                        <a:pt x="161" y="0"/>
                      </a:lnTo>
                      <a:lnTo>
                        <a:pt x="166" y="0"/>
                      </a:lnTo>
                      <a:lnTo>
                        <a:pt x="169" y="0"/>
                      </a:lnTo>
                      <a:lnTo>
                        <a:pt x="173" y="0"/>
                      </a:lnTo>
                      <a:lnTo>
                        <a:pt x="178" y="0"/>
                      </a:lnTo>
                      <a:lnTo>
                        <a:pt x="182" y="0"/>
                      </a:lnTo>
                      <a:lnTo>
                        <a:pt x="185" y="0"/>
                      </a:lnTo>
                      <a:lnTo>
                        <a:pt x="188" y="0"/>
                      </a:lnTo>
                      <a:lnTo>
                        <a:pt x="192" y="0"/>
                      </a:lnTo>
                      <a:lnTo>
                        <a:pt x="196" y="0"/>
                      </a:lnTo>
                      <a:lnTo>
                        <a:pt x="202" y="0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8" y="1"/>
                      </a:lnTo>
                      <a:lnTo>
                        <a:pt x="221" y="1"/>
                      </a:lnTo>
                      <a:lnTo>
                        <a:pt x="225" y="3"/>
                      </a:lnTo>
                      <a:lnTo>
                        <a:pt x="230" y="3"/>
                      </a:lnTo>
                      <a:lnTo>
                        <a:pt x="233" y="5"/>
                      </a:lnTo>
                      <a:lnTo>
                        <a:pt x="234" y="8"/>
                      </a:lnTo>
                      <a:lnTo>
                        <a:pt x="237" y="12"/>
                      </a:lnTo>
                      <a:lnTo>
                        <a:pt x="239" y="16"/>
                      </a:lnTo>
                      <a:lnTo>
                        <a:pt x="240" y="19"/>
                      </a:lnTo>
                      <a:lnTo>
                        <a:pt x="244" y="22"/>
                      </a:lnTo>
                      <a:lnTo>
                        <a:pt x="248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68"/>
                <p:cNvSpPr/>
                <p:nvPr/>
              </p:nvSpPr>
              <p:spPr>
                <a:xfrm>
                  <a:off x="2968560" y="2261520"/>
                  <a:ext cx="12240" cy="324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35" h="8">
                      <a:moveTo>
                        <a:pt x="8" y="1"/>
                      </a:moveTo>
                      <a:lnTo>
                        <a:pt x="0" y="8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28" y="6"/>
                      </a:lnTo>
                      <a:lnTo>
                        <a:pt x="32" y="6"/>
                      </a:lnTo>
                      <a:lnTo>
                        <a:pt x="35" y="4"/>
                      </a:lnTo>
                      <a:lnTo>
                        <a:pt x="34" y="3"/>
                      </a:lnTo>
                      <a:lnTo>
                        <a:pt x="31" y="3"/>
                      </a:lnTo>
                      <a:lnTo>
                        <a:pt x="26" y="1"/>
                      </a:lnTo>
                      <a:lnTo>
                        <a:pt x="21" y="0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69"/>
                <p:cNvSpPr/>
                <p:nvPr/>
              </p:nvSpPr>
              <p:spPr>
                <a:xfrm>
                  <a:off x="2963520" y="2116800"/>
                  <a:ext cx="91440" cy="468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64" h="14">
                      <a:moveTo>
                        <a:pt x="255" y="7"/>
                      </a:moveTo>
                      <a:lnTo>
                        <a:pt x="258" y="6"/>
                      </a:lnTo>
                      <a:lnTo>
                        <a:pt x="263" y="4"/>
                      </a:lnTo>
                      <a:lnTo>
                        <a:pt x="264" y="0"/>
                      </a:lnTo>
                      <a:lnTo>
                        <a:pt x="263" y="0"/>
                      </a:lnTo>
                      <a:lnTo>
                        <a:pt x="260" y="0"/>
                      </a:lnTo>
                      <a:lnTo>
                        <a:pt x="255" y="0"/>
                      </a:lnTo>
                      <a:lnTo>
                        <a:pt x="252" y="0"/>
                      </a:lnTo>
                      <a:lnTo>
                        <a:pt x="249" y="0"/>
                      </a:lnTo>
                      <a:lnTo>
                        <a:pt x="243" y="0"/>
                      </a:lnTo>
                      <a:lnTo>
                        <a:pt x="235" y="0"/>
                      </a:lnTo>
                      <a:lnTo>
                        <a:pt x="232" y="0"/>
                      </a:lnTo>
                      <a:lnTo>
                        <a:pt x="229" y="0"/>
                      </a:lnTo>
                      <a:lnTo>
                        <a:pt x="225" y="0"/>
                      </a:lnTo>
                      <a:lnTo>
                        <a:pt x="222" y="0"/>
                      </a:lnTo>
                      <a:lnTo>
                        <a:pt x="215" y="0"/>
                      </a:lnTo>
                      <a:lnTo>
                        <a:pt x="209" y="0"/>
                      </a:lnTo>
                      <a:lnTo>
                        <a:pt x="205" y="0"/>
                      </a:lnTo>
                      <a:lnTo>
                        <a:pt x="202" y="0"/>
                      </a:lnTo>
                      <a:lnTo>
                        <a:pt x="199" y="0"/>
                      </a:lnTo>
                      <a:lnTo>
                        <a:pt x="196" y="0"/>
                      </a:lnTo>
                      <a:lnTo>
                        <a:pt x="188" y="0"/>
                      </a:lnTo>
                      <a:lnTo>
                        <a:pt x="182" y="1"/>
                      </a:lnTo>
                      <a:lnTo>
                        <a:pt x="179" y="1"/>
                      </a:lnTo>
                      <a:lnTo>
                        <a:pt x="174" y="1"/>
                      </a:lnTo>
                      <a:lnTo>
                        <a:pt x="171" y="1"/>
                      </a:lnTo>
                      <a:lnTo>
                        <a:pt x="168" y="1"/>
                      </a:lnTo>
                      <a:lnTo>
                        <a:pt x="162" y="1"/>
                      </a:lnTo>
                      <a:lnTo>
                        <a:pt x="156" y="3"/>
                      </a:lnTo>
                      <a:lnTo>
                        <a:pt x="151" y="3"/>
                      </a:lnTo>
                      <a:lnTo>
                        <a:pt x="148" y="3"/>
                      </a:lnTo>
                      <a:lnTo>
                        <a:pt x="145" y="3"/>
                      </a:lnTo>
                      <a:lnTo>
                        <a:pt x="142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1" y="3"/>
                      </a:lnTo>
                      <a:lnTo>
                        <a:pt x="128" y="4"/>
                      </a:lnTo>
                      <a:lnTo>
                        <a:pt x="124" y="4"/>
                      </a:lnTo>
                      <a:lnTo>
                        <a:pt x="121" y="4"/>
                      </a:lnTo>
                      <a:lnTo>
                        <a:pt x="118" y="4"/>
                      </a:lnTo>
                      <a:lnTo>
                        <a:pt x="114" y="4"/>
                      </a:lnTo>
                      <a:lnTo>
                        <a:pt x="107" y="4"/>
                      </a:lnTo>
                      <a:lnTo>
                        <a:pt x="101" y="4"/>
                      </a:lnTo>
                      <a:lnTo>
                        <a:pt x="98" y="4"/>
                      </a:lnTo>
                      <a:lnTo>
                        <a:pt x="95" y="4"/>
                      </a:lnTo>
                      <a:lnTo>
                        <a:pt x="90" y="4"/>
                      </a:lnTo>
                      <a:lnTo>
                        <a:pt x="87" y="4"/>
                      </a:lnTo>
                      <a:lnTo>
                        <a:pt x="81" y="6"/>
                      </a:lnTo>
                      <a:lnTo>
                        <a:pt x="75" y="6"/>
                      </a:lnTo>
                      <a:lnTo>
                        <a:pt x="67" y="6"/>
                      </a:lnTo>
                      <a:lnTo>
                        <a:pt x="61" y="6"/>
                      </a:lnTo>
                      <a:lnTo>
                        <a:pt x="53" y="7"/>
                      </a:lnTo>
                      <a:lnTo>
                        <a:pt x="47" y="7"/>
                      </a:lnTo>
                      <a:lnTo>
                        <a:pt x="14" y="11"/>
                      </a:lnTo>
                      <a:lnTo>
                        <a:pt x="3" y="11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3" y="12"/>
                      </a:lnTo>
                      <a:lnTo>
                        <a:pt x="6" y="12"/>
                      </a:lnTo>
                      <a:lnTo>
                        <a:pt x="10" y="12"/>
                      </a:lnTo>
                      <a:lnTo>
                        <a:pt x="17" y="12"/>
                      </a:lnTo>
                      <a:lnTo>
                        <a:pt x="23" y="12"/>
                      </a:lnTo>
                      <a:lnTo>
                        <a:pt x="27" y="12"/>
                      </a:lnTo>
                      <a:lnTo>
                        <a:pt x="30" y="12"/>
                      </a:lnTo>
                      <a:lnTo>
                        <a:pt x="33" y="12"/>
                      </a:lnTo>
                      <a:lnTo>
                        <a:pt x="40" y="12"/>
                      </a:lnTo>
                      <a:lnTo>
                        <a:pt x="43" y="12"/>
                      </a:lnTo>
                      <a:lnTo>
                        <a:pt x="47" y="12"/>
                      </a:lnTo>
                      <a:lnTo>
                        <a:pt x="52" y="12"/>
                      </a:lnTo>
                      <a:lnTo>
                        <a:pt x="58" y="12"/>
                      </a:lnTo>
                      <a:lnTo>
                        <a:pt x="61" y="11"/>
                      </a:lnTo>
                      <a:lnTo>
                        <a:pt x="67" y="11"/>
                      </a:lnTo>
                      <a:lnTo>
                        <a:pt x="72" y="11"/>
                      </a:lnTo>
                      <a:lnTo>
                        <a:pt x="78" y="11"/>
                      </a:lnTo>
                      <a:lnTo>
                        <a:pt x="82" y="11"/>
                      </a:lnTo>
                      <a:lnTo>
                        <a:pt x="88" y="11"/>
                      </a:lnTo>
                      <a:lnTo>
                        <a:pt x="95" y="11"/>
                      </a:lnTo>
                      <a:lnTo>
                        <a:pt x="99" y="11"/>
                      </a:lnTo>
                      <a:lnTo>
                        <a:pt x="105" y="11"/>
                      </a:lnTo>
                      <a:lnTo>
                        <a:pt x="111" y="11"/>
                      </a:lnTo>
                      <a:lnTo>
                        <a:pt x="118" y="11"/>
                      </a:lnTo>
                      <a:lnTo>
                        <a:pt x="124" y="11"/>
                      </a:lnTo>
                      <a:lnTo>
                        <a:pt x="130" y="10"/>
                      </a:lnTo>
                      <a:lnTo>
                        <a:pt x="134" y="10"/>
                      </a:lnTo>
                      <a:lnTo>
                        <a:pt x="140" y="10"/>
                      </a:lnTo>
                      <a:lnTo>
                        <a:pt x="147" y="10"/>
                      </a:lnTo>
                      <a:lnTo>
                        <a:pt x="151" y="10"/>
                      </a:lnTo>
                      <a:lnTo>
                        <a:pt x="157" y="10"/>
                      </a:lnTo>
                      <a:lnTo>
                        <a:pt x="163" y="10"/>
                      </a:lnTo>
                      <a:lnTo>
                        <a:pt x="168" y="10"/>
                      </a:lnTo>
                      <a:lnTo>
                        <a:pt x="174" y="10"/>
                      </a:lnTo>
                      <a:lnTo>
                        <a:pt x="179" y="10"/>
                      </a:lnTo>
                      <a:lnTo>
                        <a:pt x="185" y="8"/>
                      </a:lnTo>
                      <a:lnTo>
                        <a:pt x="189" y="8"/>
                      </a:lnTo>
                      <a:lnTo>
                        <a:pt x="194" y="8"/>
                      </a:lnTo>
                      <a:lnTo>
                        <a:pt x="200" y="8"/>
                      </a:lnTo>
                      <a:lnTo>
                        <a:pt x="205" y="8"/>
                      </a:lnTo>
                      <a:lnTo>
                        <a:pt x="209" y="8"/>
                      </a:lnTo>
                      <a:lnTo>
                        <a:pt x="214" y="8"/>
                      </a:lnTo>
                      <a:lnTo>
                        <a:pt x="218" y="8"/>
                      </a:lnTo>
                      <a:lnTo>
                        <a:pt x="222" y="8"/>
                      </a:lnTo>
                      <a:lnTo>
                        <a:pt x="226" y="8"/>
                      </a:lnTo>
                      <a:lnTo>
                        <a:pt x="229" y="7"/>
                      </a:lnTo>
                      <a:lnTo>
                        <a:pt x="232" y="7"/>
                      </a:lnTo>
                      <a:lnTo>
                        <a:pt x="235" y="7"/>
                      </a:lnTo>
                      <a:lnTo>
                        <a:pt x="240" y="7"/>
                      </a:lnTo>
                      <a:lnTo>
                        <a:pt x="245" y="7"/>
                      </a:lnTo>
                      <a:lnTo>
                        <a:pt x="249" y="7"/>
                      </a:lnTo>
                      <a:lnTo>
                        <a:pt x="254" y="7"/>
                      </a:lnTo>
                      <a:lnTo>
                        <a:pt x="255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8" name="309 Grupo"/>
          <p:cNvGrpSpPr/>
          <p:nvPr/>
        </p:nvGrpSpPr>
        <p:grpSpPr>
          <a:xfrm>
            <a:off x="2612880" y="4630680"/>
            <a:ext cx="1055880" cy="900360"/>
            <a:chOff x="2612880" y="4630680"/>
            <a:chExt cx="1055880" cy="900360"/>
          </a:xfrm>
        </p:grpSpPr>
        <p:sp>
          <p:nvSpPr>
            <p:cNvPr id="419" name="Rectangle 71"/>
            <p:cNvSpPr/>
            <p:nvPr/>
          </p:nvSpPr>
          <p:spPr>
            <a:xfrm>
              <a:off x="2612880" y="5284800"/>
              <a:ext cx="105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Futura Bk BT"/>
                </a:rPr>
                <a:t>Funders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20" name="Group 72"/>
            <p:cNvGrpSpPr/>
            <p:nvPr/>
          </p:nvGrpSpPr>
          <p:grpSpPr>
            <a:xfrm>
              <a:off x="2743560" y="4630680"/>
              <a:ext cx="748080" cy="596160"/>
              <a:chOff x="2743560" y="4630680"/>
              <a:chExt cx="748080" cy="596160"/>
            </a:xfrm>
          </p:grpSpPr>
          <p:sp>
            <p:nvSpPr>
              <p:cNvPr id="421" name="AutoShape 73"/>
              <p:cNvSpPr/>
              <p:nvPr/>
            </p:nvSpPr>
            <p:spPr>
              <a:xfrm>
                <a:off x="2743560" y="4630680"/>
                <a:ext cx="748080" cy="596160"/>
              </a:xfrm>
              <a:prstGeom prst="roundRect">
                <a:avLst>
                  <a:gd name="adj" fmla="val 16667"/>
                </a:avLst>
              </a:prstGeom>
              <a:solidFill>
                <a:srgbClr val="005900">
                  <a:alpha val="7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422" name="Group 74"/>
              <p:cNvGrpSpPr/>
              <p:nvPr/>
            </p:nvGrpSpPr>
            <p:grpSpPr>
              <a:xfrm>
                <a:off x="2892960" y="4704840"/>
                <a:ext cx="398880" cy="441000"/>
                <a:chOff x="2892960" y="4704840"/>
                <a:chExt cx="398880" cy="441000"/>
              </a:xfrm>
            </p:grpSpPr>
            <p:sp>
              <p:nvSpPr>
                <p:cNvPr id="423" name="Freeform 75"/>
                <p:cNvSpPr/>
                <p:nvPr/>
              </p:nvSpPr>
              <p:spPr>
                <a:xfrm>
                  <a:off x="2892960" y="4704840"/>
                  <a:ext cx="398880" cy="441000"/>
                </a:xfrm>
                <a:custGeom>
                  <a:avLst/>
                  <a:gdLst>
                    <a:gd name="textAreaLeft" fmla="*/ 0 w 398880"/>
                    <a:gd name="textAreaRight" fmla="*/ 399240 w 398880"/>
                    <a:gd name="textAreaTop" fmla="*/ 0 h 441000"/>
                    <a:gd name="textAreaBottom" fmla="*/ 441360 h 441000"/>
                  </a:gdLst>
                  <a:ahLst/>
                  <a:rect l="textAreaLeft" t="textAreaTop" r="textAreaRight" b="textAreaBottom"/>
                  <a:pathLst>
                    <a:path w="326" h="424">
                      <a:moveTo>
                        <a:pt x="237" y="174"/>
                      </a:moveTo>
                      <a:lnTo>
                        <a:pt x="240" y="179"/>
                      </a:lnTo>
                      <a:lnTo>
                        <a:pt x="244" y="177"/>
                      </a:lnTo>
                      <a:lnTo>
                        <a:pt x="322" y="131"/>
                      </a:lnTo>
                      <a:lnTo>
                        <a:pt x="326" y="129"/>
                      </a:lnTo>
                      <a:lnTo>
                        <a:pt x="324" y="125"/>
                      </a:lnTo>
                      <a:lnTo>
                        <a:pt x="320" y="117"/>
                      </a:lnTo>
                      <a:lnTo>
                        <a:pt x="316" y="109"/>
                      </a:lnTo>
                      <a:lnTo>
                        <a:pt x="312" y="102"/>
                      </a:lnTo>
                      <a:lnTo>
                        <a:pt x="307" y="95"/>
                      </a:lnTo>
                      <a:lnTo>
                        <a:pt x="301" y="88"/>
                      </a:lnTo>
                      <a:lnTo>
                        <a:pt x="296" y="82"/>
                      </a:lnTo>
                      <a:lnTo>
                        <a:pt x="290" y="76"/>
                      </a:lnTo>
                      <a:lnTo>
                        <a:pt x="284" y="70"/>
                      </a:lnTo>
                      <a:lnTo>
                        <a:pt x="277" y="65"/>
                      </a:lnTo>
                      <a:lnTo>
                        <a:pt x="270" y="60"/>
                      </a:lnTo>
                      <a:lnTo>
                        <a:pt x="263" y="55"/>
                      </a:lnTo>
                      <a:lnTo>
                        <a:pt x="256" y="51"/>
                      </a:lnTo>
                      <a:lnTo>
                        <a:pt x="248" y="47"/>
                      </a:lnTo>
                      <a:lnTo>
                        <a:pt x="240" y="44"/>
                      </a:lnTo>
                      <a:lnTo>
                        <a:pt x="232" y="40"/>
                      </a:lnTo>
                      <a:lnTo>
                        <a:pt x="224" y="38"/>
                      </a:lnTo>
                      <a:lnTo>
                        <a:pt x="227" y="30"/>
                      </a:lnTo>
                      <a:lnTo>
                        <a:pt x="230" y="22"/>
                      </a:lnTo>
                      <a:lnTo>
                        <a:pt x="234" y="15"/>
                      </a:lnTo>
                      <a:lnTo>
                        <a:pt x="237" y="7"/>
                      </a:lnTo>
                      <a:lnTo>
                        <a:pt x="241" y="0"/>
                      </a:lnTo>
                      <a:lnTo>
                        <a:pt x="233" y="0"/>
                      </a:lnTo>
                      <a:lnTo>
                        <a:pt x="172" y="0"/>
                      </a:lnTo>
                      <a:lnTo>
                        <a:pt x="169" y="0"/>
                      </a:lnTo>
                      <a:lnTo>
                        <a:pt x="168" y="3"/>
                      </a:lnTo>
                      <a:lnTo>
                        <a:pt x="165" y="11"/>
                      </a:lnTo>
                      <a:lnTo>
                        <a:pt x="163" y="18"/>
                      </a:lnTo>
                      <a:lnTo>
                        <a:pt x="160" y="26"/>
                      </a:lnTo>
                      <a:lnTo>
                        <a:pt x="157" y="34"/>
                      </a:lnTo>
                      <a:lnTo>
                        <a:pt x="155" y="34"/>
                      </a:lnTo>
                      <a:lnTo>
                        <a:pt x="151" y="35"/>
                      </a:lnTo>
                      <a:lnTo>
                        <a:pt x="148" y="35"/>
                      </a:lnTo>
                      <a:lnTo>
                        <a:pt x="145" y="36"/>
                      </a:lnTo>
                      <a:lnTo>
                        <a:pt x="142" y="37"/>
                      </a:lnTo>
                      <a:lnTo>
                        <a:pt x="139" y="38"/>
                      </a:lnTo>
                      <a:lnTo>
                        <a:pt x="136" y="39"/>
                      </a:lnTo>
                      <a:lnTo>
                        <a:pt x="133" y="40"/>
                      </a:lnTo>
                      <a:lnTo>
                        <a:pt x="133" y="50"/>
                      </a:lnTo>
                      <a:lnTo>
                        <a:pt x="137" y="49"/>
                      </a:lnTo>
                      <a:lnTo>
                        <a:pt x="140" y="48"/>
                      </a:lnTo>
                      <a:lnTo>
                        <a:pt x="144" y="47"/>
                      </a:lnTo>
                      <a:lnTo>
                        <a:pt x="147" y="46"/>
                      </a:lnTo>
                      <a:lnTo>
                        <a:pt x="151" y="45"/>
                      </a:lnTo>
                      <a:lnTo>
                        <a:pt x="155" y="45"/>
                      </a:lnTo>
                      <a:lnTo>
                        <a:pt x="158" y="44"/>
                      </a:lnTo>
                      <a:lnTo>
                        <a:pt x="162" y="43"/>
                      </a:lnTo>
                      <a:lnTo>
                        <a:pt x="165" y="43"/>
                      </a:lnTo>
                      <a:lnTo>
                        <a:pt x="166" y="40"/>
                      </a:lnTo>
                      <a:lnTo>
                        <a:pt x="169" y="32"/>
                      </a:lnTo>
                      <a:lnTo>
                        <a:pt x="171" y="24"/>
                      </a:lnTo>
                      <a:lnTo>
                        <a:pt x="174" y="17"/>
                      </a:lnTo>
                      <a:lnTo>
                        <a:pt x="176" y="10"/>
                      </a:lnTo>
                      <a:lnTo>
                        <a:pt x="225" y="10"/>
                      </a:lnTo>
                      <a:lnTo>
                        <a:pt x="221" y="17"/>
                      </a:lnTo>
                      <a:lnTo>
                        <a:pt x="218" y="24"/>
                      </a:lnTo>
                      <a:lnTo>
                        <a:pt x="215" y="32"/>
                      </a:lnTo>
                      <a:lnTo>
                        <a:pt x="213" y="39"/>
                      </a:lnTo>
                      <a:lnTo>
                        <a:pt x="210" y="45"/>
                      </a:lnTo>
                      <a:lnTo>
                        <a:pt x="216" y="46"/>
                      </a:lnTo>
                      <a:lnTo>
                        <a:pt x="217" y="46"/>
                      </a:lnTo>
                      <a:lnTo>
                        <a:pt x="218" y="46"/>
                      </a:lnTo>
                      <a:lnTo>
                        <a:pt x="218" y="47"/>
                      </a:lnTo>
                      <a:lnTo>
                        <a:pt x="219" y="47"/>
                      </a:lnTo>
                      <a:lnTo>
                        <a:pt x="227" y="49"/>
                      </a:lnTo>
                      <a:lnTo>
                        <a:pt x="234" y="52"/>
                      </a:lnTo>
                      <a:lnTo>
                        <a:pt x="242" y="55"/>
                      </a:lnTo>
                      <a:lnTo>
                        <a:pt x="248" y="59"/>
                      </a:lnTo>
                      <a:lnTo>
                        <a:pt x="256" y="62"/>
                      </a:lnTo>
                      <a:lnTo>
                        <a:pt x="262" y="66"/>
                      </a:lnTo>
                      <a:lnTo>
                        <a:pt x="269" y="71"/>
                      </a:lnTo>
                      <a:lnTo>
                        <a:pt x="275" y="75"/>
                      </a:lnTo>
                      <a:lnTo>
                        <a:pt x="281" y="81"/>
                      </a:lnTo>
                      <a:lnTo>
                        <a:pt x="286" y="86"/>
                      </a:lnTo>
                      <a:lnTo>
                        <a:pt x="291" y="92"/>
                      </a:lnTo>
                      <a:lnTo>
                        <a:pt x="297" y="98"/>
                      </a:lnTo>
                      <a:lnTo>
                        <a:pt x="301" y="104"/>
                      </a:lnTo>
                      <a:lnTo>
                        <a:pt x="305" y="111"/>
                      </a:lnTo>
                      <a:lnTo>
                        <a:pt x="309" y="118"/>
                      </a:lnTo>
                      <a:lnTo>
                        <a:pt x="313" y="125"/>
                      </a:lnTo>
                      <a:lnTo>
                        <a:pt x="244" y="165"/>
                      </a:lnTo>
                      <a:lnTo>
                        <a:pt x="240" y="157"/>
                      </a:lnTo>
                      <a:lnTo>
                        <a:pt x="235" y="149"/>
                      </a:lnTo>
                      <a:lnTo>
                        <a:pt x="230" y="141"/>
                      </a:lnTo>
                      <a:lnTo>
                        <a:pt x="224" y="134"/>
                      </a:lnTo>
                      <a:lnTo>
                        <a:pt x="218" y="127"/>
                      </a:lnTo>
                      <a:lnTo>
                        <a:pt x="212" y="120"/>
                      </a:lnTo>
                      <a:lnTo>
                        <a:pt x="205" y="114"/>
                      </a:lnTo>
                      <a:lnTo>
                        <a:pt x="198" y="108"/>
                      </a:lnTo>
                      <a:lnTo>
                        <a:pt x="192" y="104"/>
                      </a:lnTo>
                      <a:lnTo>
                        <a:pt x="190" y="111"/>
                      </a:lnTo>
                      <a:lnTo>
                        <a:pt x="188" y="121"/>
                      </a:lnTo>
                      <a:lnTo>
                        <a:pt x="185" y="131"/>
                      </a:lnTo>
                      <a:lnTo>
                        <a:pt x="184" y="141"/>
                      </a:lnTo>
                      <a:lnTo>
                        <a:pt x="182" y="151"/>
                      </a:lnTo>
                      <a:lnTo>
                        <a:pt x="180" y="161"/>
                      </a:lnTo>
                      <a:lnTo>
                        <a:pt x="178" y="171"/>
                      </a:lnTo>
                      <a:lnTo>
                        <a:pt x="176" y="181"/>
                      </a:lnTo>
                      <a:lnTo>
                        <a:pt x="175" y="191"/>
                      </a:lnTo>
                      <a:lnTo>
                        <a:pt x="174" y="198"/>
                      </a:lnTo>
                      <a:lnTo>
                        <a:pt x="181" y="197"/>
                      </a:lnTo>
                      <a:lnTo>
                        <a:pt x="184" y="197"/>
                      </a:lnTo>
                      <a:lnTo>
                        <a:pt x="188" y="197"/>
                      </a:lnTo>
                      <a:lnTo>
                        <a:pt x="192" y="197"/>
                      </a:lnTo>
                      <a:lnTo>
                        <a:pt x="196" y="197"/>
                      </a:lnTo>
                      <a:lnTo>
                        <a:pt x="200" y="197"/>
                      </a:lnTo>
                      <a:lnTo>
                        <a:pt x="203" y="198"/>
                      </a:lnTo>
                      <a:lnTo>
                        <a:pt x="207" y="198"/>
                      </a:lnTo>
                      <a:lnTo>
                        <a:pt x="211" y="199"/>
                      </a:lnTo>
                      <a:lnTo>
                        <a:pt x="226" y="205"/>
                      </a:lnTo>
                      <a:lnTo>
                        <a:pt x="240" y="214"/>
                      </a:lnTo>
                      <a:lnTo>
                        <a:pt x="251" y="225"/>
                      </a:lnTo>
                      <a:lnTo>
                        <a:pt x="260" y="237"/>
                      </a:lnTo>
                      <a:lnTo>
                        <a:pt x="267" y="252"/>
                      </a:lnTo>
                      <a:lnTo>
                        <a:pt x="271" y="267"/>
                      </a:lnTo>
                      <a:lnTo>
                        <a:pt x="271" y="283"/>
                      </a:lnTo>
                      <a:lnTo>
                        <a:pt x="268" y="299"/>
                      </a:lnTo>
                      <a:lnTo>
                        <a:pt x="266" y="306"/>
                      </a:lnTo>
                      <a:lnTo>
                        <a:pt x="263" y="313"/>
                      </a:lnTo>
                      <a:lnTo>
                        <a:pt x="260" y="320"/>
                      </a:lnTo>
                      <a:lnTo>
                        <a:pt x="256" y="325"/>
                      </a:lnTo>
                      <a:lnTo>
                        <a:pt x="251" y="331"/>
                      </a:lnTo>
                      <a:lnTo>
                        <a:pt x="246" y="336"/>
                      </a:lnTo>
                      <a:lnTo>
                        <a:pt x="241" y="341"/>
                      </a:lnTo>
                      <a:lnTo>
                        <a:pt x="235" y="346"/>
                      </a:lnTo>
                      <a:lnTo>
                        <a:pt x="228" y="351"/>
                      </a:lnTo>
                      <a:lnTo>
                        <a:pt x="221" y="355"/>
                      </a:lnTo>
                      <a:lnTo>
                        <a:pt x="214" y="359"/>
                      </a:lnTo>
                      <a:lnTo>
                        <a:pt x="207" y="363"/>
                      </a:lnTo>
                      <a:lnTo>
                        <a:pt x="199" y="366"/>
                      </a:lnTo>
                      <a:lnTo>
                        <a:pt x="192" y="369"/>
                      </a:lnTo>
                      <a:lnTo>
                        <a:pt x="184" y="371"/>
                      </a:lnTo>
                      <a:lnTo>
                        <a:pt x="177" y="373"/>
                      </a:lnTo>
                      <a:lnTo>
                        <a:pt x="172" y="374"/>
                      </a:lnTo>
                      <a:lnTo>
                        <a:pt x="172" y="379"/>
                      </a:lnTo>
                      <a:lnTo>
                        <a:pt x="173" y="388"/>
                      </a:lnTo>
                      <a:lnTo>
                        <a:pt x="175" y="397"/>
                      </a:lnTo>
                      <a:lnTo>
                        <a:pt x="176" y="406"/>
                      </a:lnTo>
                      <a:lnTo>
                        <a:pt x="177" y="414"/>
                      </a:lnTo>
                      <a:lnTo>
                        <a:pt x="152" y="414"/>
                      </a:lnTo>
                      <a:lnTo>
                        <a:pt x="151" y="406"/>
                      </a:lnTo>
                      <a:lnTo>
                        <a:pt x="149" y="398"/>
                      </a:lnTo>
                      <a:lnTo>
                        <a:pt x="147" y="390"/>
                      </a:lnTo>
                      <a:lnTo>
                        <a:pt x="146" y="381"/>
                      </a:lnTo>
                      <a:lnTo>
                        <a:pt x="145" y="377"/>
                      </a:lnTo>
                      <a:lnTo>
                        <a:pt x="141" y="377"/>
                      </a:lnTo>
                      <a:lnTo>
                        <a:pt x="137" y="377"/>
                      </a:lnTo>
                      <a:lnTo>
                        <a:pt x="133" y="376"/>
                      </a:lnTo>
                      <a:lnTo>
                        <a:pt x="128" y="376"/>
                      </a:lnTo>
                      <a:lnTo>
                        <a:pt x="124" y="375"/>
                      </a:lnTo>
                      <a:lnTo>
                        <a:pt x="120" y="375"/>
                      </a:lnTo>
                      <a:lnTo>
                        <a:pt x="115" y="374"/>
                      </a:lnTo>
                      <a:lnTo>
                        <a:pt x="112" y="373"/>
                      </a:lnTo>
                      <a:lnTo>
                        <a:pt x="107" y="372"/>
                      </a:lnTo>
                      <a:lnTo>
                        <a:pt x="99" y="369"/>
                      </a:lnTo>
                      <a:lnTo>
                        <a:pt x="92" y="367"/>
                      </a:lnTo>
                      <a:lnTo>
                        <a:pt x="84" y="364"/>
                      </a:lnTo>
                      <a:lnTo>
                        <a:pt x="78" y="360"/>
                      </a:lnTo>
                      <a:lnTo>
                        <a:pt x="70" y="356"/>
                      </a:lnTo>
                      <a:lnTo>
                        <a:pt x="64" y="352"/>
                      </a:lnTo>
                      <a:lnTo>
                        <a:pt x="57" y="348"/>
                      </a:lnTo>
                      <a:lnTo>
                        <a:pt x="52" y="343"/>
                      </a:lnTo>
                      <a:lnTo>
                        <a:pt x="45" y="338"/>
                      </a:lnTo>
                      <a:lnTo>
                        <a:pt x="40" y="333"/>
                      </a:lnTo>
                      <a:lnTo>
                        <a:pt x="35" y="327"/>
                      </a:lnTo>
                      <a:lnTo>
                        <a:pt x="29" y="321"/>
                      </a:lnTo>
                      <a:lnTo>
                        <a:pt x="25" y="314"/>
                      </a:lnTo>
                      <a:lnTo>
                        <a:pt x="21" y="308"/>
                      </a:lnTo>
                      <a:lnTo>
                        <a:pt x="17" y="301"/>
                      </a:lnTo>
                      <a:lnTo>
                        <a:pt x="13" y="294"/>
                      </a:lnTo>
                      <a:lnTo>
                        <a:pt x="82" y="254"/>
                      </a:lnTo>
                      <a:lnTo>
                        <a:pt x="86" y="263"/>
                      </a:lnTo>
                      <a:lnTo>
                        <a:pt x="91" y="270"/>
                      </a:lnTo>
                      <a:lnTo>
                        <a:pt x="97" y="278"/>
                      </a:lnTo>
                      <a:lnTo>
                        <a:pt x="102" y="286"/>
                      </a:lnTo>
                      <a:lnTo>
                        <a:pt x="109" y="293"/>
                      </a:lnTo>
                      <a:lnTo>
                        <a:pt x="115" y="299"/>
                      </a:lnTo>
                      <a:lnTo>
                        <a:pt x="123" y="306"/>
                      </a:lnTo>
                      <a:lnTo>
                        <a:pt x="130" y="311"/>
                      </a:lnTo>
                      <a:lnTo>
                        <a:pt x="139" y="318"/>
                      </a:lnTo>
                      <a:lnTo>
                        <a:pt x="138" y="307"/>
                      </a:lnTo>
                      <a:lnTo>
                        <a:pt x="137" y="293"/>
                      </a:lnTo>
                      <a:lnTo>
                        <a:pt x="137" y="280"/>
                      </a:lnTo>
                      <a:lnTo>
                        <a:pt x="136" y="267"/>
                      </a:lnTo>
                      <a:lnTo>
                        <a:pt x="136" y="254"/>
                      </a:lnTo>
                      <a:lnTo>
                        <a:pt x="136" y="248"/>
                      </a:lnTo>
                      <a:lnTo>
                        <a:pt x="136" y="242"/>
                      </a:lnTo>
                      <a:lnTo>
                        <a:pt x="136" y="235"/>
                      </a:lnTo>
                      <a:lnTo>
                        <a:pt x="137" y="228"/>
                      </a:lnTo>
                      <a:lnTo>
                        <a:pt x="137" y="223"/>
                      </a:lnTo>
                      <a:lnTo>
                        <a:pt x="132" y="222"/>
                      </a:lnTo>
                      <a:lnTo>
                        <a:pt x="130" y="222"/>
                      </a:lnTo>
                      <a:lnTo>
                        <a:pt x="127" y="222"/>
                      </a:lnTo>
                      <a:lnTo>
                        <a:pt x="126" y="221"/>
                      </a:lnTo>
                      <a:lnTo>
                        <a:pt x="124" y="221"/>
                      </a:lnTo>
                      <a:lnTo>
                        <a:pt x="121" y="221"/>
                      </a:lnTo>
                      <a:lnTo>
                        <a:pt x="119" y="220"/>
                      </a:lnTo>
                      <a:lnTo>
                        <a:pt x="117" y="220"/>
                      </a:lnTo>
                      <a:lnTo>
                        <a:pt x="115" y="220"/>
                      </a:lnTo>
                      <a:lnTo>
                        <a:pt x="108" y="217"/>
                      </a:lnTo>
                      <a:lnTo>
                        <a:pt x="100" y="214"/>
                      </a:lnTo>
                      <a:lnTo>
                        <a:pt x="94" y="210"/>
                      </a:lnTo>
                      <a:lnTo>
                        <a:pt x="87" y="206"/>
                      </a:lnTo>
                      <a:lnTo>
                        <a:pt x="81" y="201"/>
                      </a:lnTo>
                      <a:lnTo>
                        <a:pt x="75" y="195"/>
                      </a:lnTo>
                      <a:lnTo>
                        <a:pt x="70" y="189"/>
                      </a:lnTo>
                      <a:lnTo>
                        <a:pt x="66" y="182"/>
                      </a:lnTo>
                      <a:lnTo>
                        <a:pt x="59" y="167"/>
                      </a:lnTo>
                      <a:lnTo>
                        <a:pt x="55" y="151"/>
                      </a:lnTo>
                      <a:lnTo>
                        <a:pt x="55" y="135"/>
                      </a:lnTo>
                      <a:lnTo>
                        <a:pt x="58" y="119"/>
                      </a:lnTo>
                      <a:lnTo>
                        <a:pt x="60" y="113"/>
                      </a:lnTo>
                      <a:lnTo>
                        <a:pt x="63" y="106"/>
                      </a:lnTo>
                      <a:lnTo>
                        <a:pt x="66" y="99"/>
                      </a:lnTo>
                      <a:lnTo>
                        <a:pt x="70" y="93"/>
                      </a:lnTo>
                      <a:lnTo>
                        <a:pt x="75" y="88"/>
                      </a:lnTo>
                      <a:lnTo>
                        <a:pt x="80" y="82"/>
                      </a:lnTo>
                      <a:lnTo>
                        <a:pt x="85" y="77"/>
                      </a:lnTo>
                      <a:lnTo>
                        <a:pt x="91" y="73"/>
                      </a:lnTo>
                      <a:lnTo>
                        <a:pt x="96" y="70"/>
                      </a:lnTo>
                      <a:lnTo>
                        <a:pt x="99" y="67"/>
                      </a:lnTo>
                      <a:lnTo>
                        <a:pt x="104" y="64"/>
                      </a:lnTo>
                      <a:lnTo>
                        <a:pt x="108" y="61"/>
                      </a:lnTo>
                      <a:lnTo>
                        <a:pt x="113" y="59"/>
                      </a:lnTo>
                      <a:lnTo>
                        <a:pt x="117" y="57"/>
                      </a:lnTo>
                      <a:lnTo>
                        <a:pt x="122" y="55"/>
                      </a:lnTo>
                      <a:lnTo>
                        <a:pt x="126" y="53"/>
                      </a:lnTo>
                      <a:lnTo>
                        <a:pt x="126" y="42"/>
                      </a:lnTo>
                      <a:lnTo>
                        <a:pt x="121" y="44"/>
                      </a:lnTo>
                      <a:lnTo>
                        <a:pt x="116" y="46"/>
                      </a:lnTo>
                      <a:lnTo>
                        <a:pt x="111" y="49"/>
                      </a:lnTo>
                      <a:lnTo>
                        <a:pt x="105" y="52"/>
                      </a:lnTo>
                      <a:lnTo>
                        <a:pt x="100" y="55"/>
                      </a:lnTo>
                      <a:lnTo>
                        <a:pt x="95" y="58"/>
                      </a:lnTo>
                      <a:lnTo>
                        <a:pt x="90" y="61"/>
                      </a:lnTo>
                      <a:lnTo>
                        <a:pt x="85" y="65"/>
                      </a:lnTo>
                      <a:lnTo>
                        <a:pt x="79" y="70"/>
                      </a:lnTo>
                      <a:lnTo>
                        <a:pt x="72" y="75"/>
                      </a:lnTo>
                      <a:lnTo>
                        <a:pt x="67" y="81"/>
                      </a:lnTo>
                      <a:lnTo>
                        <a:pt x="62" y="87"/>
                      </a:lnTo>
                      <a:lnTo>
                        <a:pt x="57" y="94"/>
                      </a:lnTo>
                      <a:lnTo>
                        <a:pt x="53" y="102"/>
                      </a:lnTo>
                      <a:lnTo>
                        <a:pt x="51" y="109"/>
                      </a:lnTo>
                      <a:lnTo>
                        <a:pt x="48" y="117"/>
                      </a:lnTo>
                      <a:lnTo>
                        <a:pt x="46" y="126"/>
                      </a:lnTo>
                      <a:lnTo>
                        <a:pt x="45" y="135"/>
                      </a:lnTo>
                      <a:lnTo>
                        <a:pt x="45" y="144"/>
                      </a:lnTo>
                      <a:lnTo>
                        <a:pt x="45" y="153"/>
                      </a:lnTo>
                      <a:lnTo>
                        <a:pt x="47" y="162"/>
                      </a:lnTo>
                      <a:lnTo>
                        <a:pt x="50" y="170"/>
                      </a:lnTo>
                      <a:lnTo>
                        <a:pt x="53" y="178"/>
                      </a:lnTo>
                      <a:lnTo>
                        <a:pt x="57" y="187"/>
                      </a:lnTo>
                      <a:lnTo>
                        <a:pt x="62" y="194"/>
                      </a:lnTo>
                      <a:lnTo>
                        <a:pt x="68" y="201"/>
                      </a:lnTo>
                      <a:lnTo>
                        <a:pt x="74" y="208"/>
                      </a:lnTo>
                      <a:lnTo>
                        <a:pt x="81" y="214"/>
                      </a:lnTo>
                      <a:lnTo>
                        <a:pt x="88" y="219"/>
                      </a:lnTo>
                      <a:lnTo>
                        <a:pt x="96" y="223"/>
                      </a:lnTo>
                      <a:lnTo>
                        <a:pt x="104" y="227"/>
                      </a:lnTo>
                      <a:lnTo>
                        <a:pt x="113" y="230"/>
                      </a:lnTo>
                      <a:lnTo>
                        <a:pt x="116" y="230"/>
                      </a:lnTo>
                      <a:lnTo>
                        <a:pt x="120" y="231"/>
                      </a:lnTo>
                      <a:lnTo>
                        <a:pt x="123" y="232"/>
                      </a:lnTo>
                      <a:lnTo>
                        <a:pt x="126" y="232"/>
                      </a:lnTo>
                      <a:lnTo>
                        <a:pt x="126" y="238"/>
                      </a:lnTo>
                      <a:lnTo>
                        <a:pt x="126" y="244"/>
                      </a:lnTo>
                      <a:lnTo>
                        <a:pt x="126" y="249"/>
                      </a:lnTo>
                      <a:lnTo>
                        <a:pt x="126" y="254"/>
                      </a:lnTo>
                      <a:lnTo>
                        <a:pt x="126" y="264"/>
                      </a:lnTo>
                      <a:lnTo>
                        <a:pt x="126" y="275"/>
                      </a:lnTo>
                      <a:lnTo>
                        <a:pt x="126" y="286"/>
                      </a:lnTo>
                      <a:lnTo>
                        <a:pt x="127" y="296"/>
                      </a:lnTo>
                      <a:lnTo>
                        <a:pt x="121" y="291"/>
                      </a:lnTo>
                      <a:lnTo>
                        <a:pt x="115" y="285"/>
                      </a:lnTo>
                      <a:lnTo>
                        <a:pt x="110" y="279"/>
                      </a:lnTo>
                      <a:lnTo>
                        <a:pt x="105" y="273"/>
                      </a:lnTo>
                      <a:lnTo>
                        <a:pt x="100" y="266"/>
                      </a:lnTo>
                      <a:lnTo>
                        <a:pt x="96" y="259"/>
                      </a:lnTo>
                      <a:lnTo>
                        <a:pt x="92" y="252"/>
                      </a:lnTo>
                      <a:lnTo>
                        <a:pt x="89" y="245"/>
                      </a:lnTo>
                      <a:lnTo>
                        <a:pt x="86" y="240"/>
                      </a:lnTo>
                      <a:lnTo>
                        <a:pt x="82" y="243"/>
                      </a:lnTo>
                      <a:lnTo>
                        <a:pt x="4" y="287"/>
                      </a:lnTo>
                      <a:lnTo>
                        <a:pt x="0" y="290"/>
                      </a:lnTo>
                      <a:lnTo>
                        <a:pt x="2" y="294"/>
                      </a:lnTo>
                      <a:lnTo>
                        <a:pt x="6" y="302"/>
                      </a:lnTo>
                      <a:lnTo>
                        <a:pt x="10" y="310"/>
                      </a:lnTo>
                      <a:lnTo>
                        <a:pt x="14" y="317"/>
                      </a:lnTo>
                      <a:lnTo>
                        <a:pt x="20" y="324"/>
                      </a:lnTo>
                      <a:lnTo>
                        <a:pt x="25" y="331"/>
                      </a:lnTo>
                      <a:lnTo>
                        <a:pt x="31" y="337"/>
                      </a:lnTo>
                      <a:lnTo>
                        <a:pt x="37" y="344"/>
                      </a:lnTo>
                      <a:lnTo>
                        <a:pt x="43" y="350"/>
                      </a:lnTo>
                      <a:lnTo>
                        <a:pt x="50" y="355"/>
                      </a:lnTo>
                      <a:lnTo>
                        <a:pt x="57" y="360"/>
                      </a:lnTo>
                      <a:lnTo>
                        <a:pt x="64" y="365"/>
                      </a:lnTo>
                      <a:lnTo>
                        <a:pt x="71" y="369"/>
                      </a:lnTo>
                      <a:lnTo>
                        <a:pt x="80" y="373"/>
                      </a:lnTo>
                      <a:lnTo>
                        <a:pt x="87" y="376"/>
                      </a:lnTo>
                      <a:lnTo>
                        <a:pt x="96" y="379"/>
                      </a:lnTo>
                      <a:lnTo>
                        <a:pt x="104" y="381"/>
                      </a:lnTo>
                      <a:lnTo>
                        <a:pt x="108" y="382"/>
                      </a:lnTo>
                      <a:lnTo>
                        <a:pt x="112" y="383"/>
                      </a:lnTo>
                      <a:lnTo>
                        <a:pt x="116" y="384"/>
                      </a:lnTo>
                      <a:lnTo>
                        <a:pt x="121" y="385"/>
                      </a:lnTo>
                      <a:lnTo>
                        <a:pt x="125" y="385"/>
                      </a:lnTo>
                      <a:lnTo>
                        <a:pt x="128" y="386"/>
                      </a:lnTo>
                      <a:lnTo>
                        <a:pt x="133" y="386"/>
                      </a:lnTo>
                      <a:lnTo>
                        <a:pt x="137" y="387"/>
                      </a:lnTo>
                      <a:lnTo>
                        <a:pt x="138" y="395"/>
                      </a:lnTo>
                      <a:lnTo>
                        <a:pt x="140" y="404"/>
                      </a:lnTo>
                      <a:lnTo>
                        <a:pt x="141" y="412"/>
                      </a:lnTo>
                      <a:lnTo>
                        <a:pt x="143" y="420"/>
                      </a:lnTo>
                      <a:lnTo>
                        <a:pt x="144" y="424"/>
                      </a:lnTo>
                      <a:lnTo>
                        <a:pt x="148" y="424"/>
                      </a:lnTo>
                      <a:lnTo>
                        <a:pt x="183" y="424"/>
                      </a:lnTo>
                      <a:lnTo>
                        <a:pt x="189" y="424"/>
                      </a:lnTo>
                      <a:lnTo>
                        <a:pt x="188" y="419"/>
                      </a:lnTo>
                      <a:lnTo>
                        <a:pt x="186" y="410"/>
                      </a:lnTo>
                      <a:lnTo>
                        <a:pt x="185" y="401"/>
                      </a:lnTo>
                      <a:lnTo>
                        <a:pt x="184" y="392"/>
                      </a:lnTo>
                      <a:lnTo>
                        <a:pt x="183" y="382"/>
                      </a:lnTo>
                      <a:lnTo>
                        <a:pt x="191" y="380"/>
                      </a:lnTo>
                      <a:lnTo>
                        <a:pt x="198" y="377"/>
                      </a:lnTo>
                      <a:lnTo>
                        <a:pt x="206" y="374"/>
                      </a:lnTo>
                      <a:lnTo>
                        <a:pt x="213" y="371"/>
                      </a:lnTo>
                      <a:lnTo>
                        <a:pt x="220" y="367"/>
                      </a:lnTo>
                      <a:lnTo>
                        <a:pt x="228" y="363"/>
                      </a:lnTo>
                      <a:lnTo>
                        <a:pt x="234" y="359"/>
                      </a:lnTo>
                      <a:lnTo>
                        <a:pt x="241" y="354"/>
                      </a:lnTo>
                      <a:lnTo>
                        <a:pt x="247" y="349"/>
                      </a:lnTo>
                      <a:lnTo>
                        <a:pt x="254" y="344"/>
                      </a:lnTo>
                      <a:lnTo>
                        <a:pt x="259" y="337"/>
                      </a:lnTo>
                      <a:lnTo>
                        <a:pt x="264" y="331"/>
                      </a:lnTo>
                      <a:lnTo>
                        <a:pt x="269" y="324"/>
                      </a:lnTo>
                      <a:lnTo>
                        <a:pt x="272" y="317"/>
                      </a:lnTo>
                      <a:lnTo>
                        <a:pt x="276" y="309"/>
                      </a:lnTo>
                      <a:lnTo>
                        <a:pt x="278" y="302"/>
                      </a:lnTo>
                      <a:lnTo>
                        <a:pt x="280" y="293"/>
                      </a:lnTo>
                      <a:lnTo>
                        <a:pt x="281" y="283"/>
                      </a:lnTo>
                      <a:lnTo>
                        <a:pt x="281" y="275"/>
                      </a:lnTo>
                      <a:lnTo>
                        <a:pt x="281" y="265"/>
                      </a:lnTo>
                      <a:lnTo>
                        <a:pt x="279" y="257"/>
                      </a:lnTo>
                      <a:lnTo>
                        <a:pt x="276" y="249"/>
                      </a:lnTo>
                      <a:lnTo>
                        <a:pt x="273" y="240"/>
                      </a:lnTo>
                      <a:lnTo>
                        <a:pt x="269" y="233"/>
                      </a:lnTo>
                      <a:lnTo>
                        <a:pt x="264" y="225"/>
                      </a:lnTo>
                      <a:lnTo>
                        <a:pt x="258" y="218"/>
                      </a:lnTo>
                      <a:lnTo>
                        <a:pt x="253" y="212"/>
                      </a:lnTo>
                      <a:lnTo>
                        <a:pt x="246" y="206"/>
                      </a:lnTo>
                      <a:lnTo>
                        <a:pt x="238" y="201"/>
                      </a:lnTo>
                      <a:lnTo>
                        <a:pt x="230" y="196"/>
                      </a:lnTo>
                      <a:lnTo>
                        <a:pt x="222" y="192"/>
                      </a:lnTo>
                      <a:lnTo>
                        <a:pt x="213" y="190"/>
                      </a:lnTo>
                      <a:lnTo>
                        <a:pt x="210" y="189"/>
                      </a:lnTo>
                      <a:lnTo>
                        <a:pt x="206" y="188"/>
                      </a:lnTo>
                      <a:lnTo>
                        <a:pt x="203" y="188"/>
                      </a:lnTo>
                      <a:lnTo>
                        <a:pt x="199" y="187"/>
                      </a:lnTo>
                      <a:lnTo>
                        <a:pt x="196" y="187"/>
                      </a:lnTo>
                      <a:lnTo>
                        <a:pt x="193" y="187"/>
                      </a:lnTo>
                      <a:lnTo>
                        <a:pt x="189" y="187"/>
                      </a:lnTo>
                      <a:lnTo>
                        <a:pt x="186" y="187"/>
                      </a:lnTo>
                      <a:lnTo>
                        <a:pt x="188" y="170"/>
                      </a:lnTo>
                      <a:lnTo>
                        <a:pt x="191" y="154"/>
                      </a:lnTo>
                      <a:lnTo>
                        <a:pt x="195" y="137"/>
                      </a:lnTo>
                      <a:lnTo>
                        <a:pt x="198" y="121"/>
                      </a:lnTo>
                      <a:lnTo>
                        <a:pt x="204" y="127"/>
                      </a:lnTo>
                      <a:lnTo>
                        <a:pt x="210" y="133"/>
                      </a:lnTo>
                      <a:lnTo>
                        <a:pt x="215" y="139"/>
                      </a:lnTo>
                      <a:lnTo>
                        <a:pt x="220" y="146"/>
                      </a:lnTo>
                      <a:lnTo>
                        <a:pt x="225" y="152"/>
                      </a:lnTo>
                      <a:lnTo>
                        <a:pt x="229" y="159"/>
                      </a:lnTo>
                      <a:lnTo>
                        <a:pt x="233" y="166"/>
                      </a:lnTo>
                      <a:lnTo>
                        <a:pt x="237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76"/>
                <p:cNvSpPr/>
                <p:nvPr/>
              </p:nvSpPr>
              <p:spPr>
                <a:xfrm>
                  <a:off x="3009600" y="4894200"/>
                  <a:ext cx="61920" cy="1083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51" h="104">
                      <a:moveTo>
                        <a:pt x="5" y="0"/>
                      </a:move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19"/>
                      </a:lnTo>
                      <a:lnTo>
                        <a:pt x="0" y="31"/>
                      </a:lnTo>
                      <a:lnTo>
                        <a:pt x="1" y="43"/>
                      </a:lnTo>
                      <a:lnTo>
                        <a:pt x="4" y="55"/>
                      </a:lnTo>
                      <a:lnTo>
                        <a:pt x="8" y="67"/>
                      </a:lnTo>
                      <a:lnTo>
                        <a:pt x="13" y="78"/>
                      </a:lnTo>
                      <a:lnTo>
                        <a:pt x="20" y="88"/>
                      </a:lnTo>
                      <a:lnTo>
                        <a:pt x="29" y="97"/>
                      </a:lnTo>
                      <a:lnTo>
                        <a:pt x="36" y="104"/>
                      </a:lnTo>
                      <a:lnTo>
                        <a:pt x="37" y="94"/>
                      </a:lnTo>
                      <a:lnTo>
                        <a:pt x="39" y="73"/>
                      </a:lnTo>
                      <a:lnTo>
                        <a:pt x="42" y="53"/>
                      </a:lnTo>
                      <a:lnTo>
                        <a:pt x="46" y="32"/>
                      </a:lnTo>
                      <a:lnTo>
                        <a:pt x="50" y="13"/>
                      </a:lnTo>
                      <a:lnTo>
                        <a:pt x="51" y="8"/>
                      </a:lnTo>
                      <a:lnTo>
                        <a:pt x="49" y="7"/>
                      </a:lnTo>
                      <a:lnTo>
                        <a:pt x="47" y="7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44" y="6"/>
                      </a:lnTo>
                      <a:lnTo>
                        <a:pt x="42" y="6"/>
                      </a:lnTo>
                      <a:lnTo>
                        <a:pt x="41" y="5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3" y="3"/>
                      </a:lnTo>
                      <a:lnTo>
                        <a:pt x="30" y="3"/>
                      </a:lnTo>
                      <a:lnTo>
                        <a:pt x="30" y="13"/>
                      </a:lnTo>
                      <a:lnTo>
                        <a:pt x="32" y="13"/>
                      </a:lnTo>
                      <a:lnTo>
                        <a:pt x="35" y="14"/>
                      </a:lnTo>
                      <a:lnTo>
                        <a:pt x="37" y="14"/>
                      </a:lnTo>
                      <a:lnTo>
                        <a:pt x="38" y="15"/>
                      </a:lnTo>
                      <a:lnTo>
                        <a:pt x="39" y="15"/>
                      </a:lnTo>
                      <a:lnTo>
                        <a:pt x="36" y="31"/>
                      </a:lnTo>
                      <a:lnTo>
                        <a:pt x="33" y="48"/>
                      </a:lnTo>
                      <a:lnTo>
                        <a:pt x="31" y="65"/>
                      </a:lnTo>
                      <a:lnTo>
                        <a:pt x="28" y="82"/>
                      </a:lnTo>
                      <a:lnTo>
                        <a:pt x="23" y="74"/>
                      </a:lnTo>
                      <a:lnTo>
                        <a:pt x="18" y="66"/>
                      </a:lnTo>
                      <a:lnTo>
                        <a:pt x="15" y="57"/>
                      </a:lnTo>
                      <a:lnTo>
                        <a:pt x="12" y="48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10" y="20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3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77"/>
                <p:cNvSpPr/>
                <p:nvPr/>
              </p:nvSpPr>
              <p:spPr>
                <a:xfrm>
                  <a:off x="3036240" y="4770000"/>
                  <a:ext cx="9000" cy="1404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7" h="13">
                      <a:moveTo>
                        <a:pt x="7" y="1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12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78"/>
                <p:cNvSpPr/>
                <p:nvPr/>
              </p:nvSpPr>
              <p:spPr>
                <a:xfrm>
                  <a:off x="3036240" y="4808520"/>
                  <a:ext cx="9000" cy="1404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7" h="12">
                      <a:moveTo>
                        <a:pt x="7" y="12"/>
                      </a:move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9"/>
                <p:cNvSpPr/>
                <p:nvPr/>
              </p:nvSpPr>
              <p:spPr>
                <a:xfrm>
                  <a:off x="3090600" y="4965840"/>
                  <a:ext cx="65160" cy="1191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54" h="113">
                      <a:moveTo>
                        <a:pt x="9" y="4"/>
                      </a:moveTo>
                      <a:lnTo>
                        <a:pt x="2" y="0"/>
                      </a:lnTo>
                      <a:lnTo>
                        <a:pt x="1" y="8"/>
                      </a:lnTo>
                      <a:lnTo>
                        <a:pt x="1" y="23"/>
                      </a:lnTo>
                      <a:lnTo>
                        <a:pt x="0" y="37"/>
                      </a:lnTo>
                      <a:lnTo>
                        <a:pt x="0" y="52"/>
                      </a:lnTo>
                      <a:lnTo>
                        <a:pt x="0" y="67"/>
                      </a:lnTo>
                      <a:lnTo>
                        <a:pt x="0" y="76"/>
                      </a:lnTo>
                      <a:lnTo>
                        <a:pt x="0" y="83"/>
                      </a:lnTo>
                      <a:lnTo>
                        <a:pt x="0" y="92"/>
                      </a:lnTo>
                      <a:lnTo>
                        <a:pt x="0" y="100"/>
                      </a:lnTo>
                      <a:lnTo>
                        <a:pt x="0" y="104"/>
                      </a:lnTo>
                      <a:lnTo>
                        <a:pt x="3" y="105"/>
                      </a:lnTo>
                      <a:lnTo>
                        <a:pt x="6" y="105"/>
                      </a:lnTo>
                      <a:lnTo>
                        <a:pt x="8" y="106"/>
                      </a:lnTo>
                      <a:lnTo>
                        <a:pt x="11" y="107"/>
                      </a:lnTo>
                      <a:lnTo>
                        <a:pt x="13" y="107"/>
                      </a:lnTo>
                      <a:lnTo>
                        <a:pt x="15" y="108"/>
                      </a:lnTo>
                      <a:lnTo>
                        <a:pt x="17" y="108"/>
                      </a:lnTo>
                      <a:lnTo>
                        <a:pt x="19" y="109"/>
                      </a:lnTo>
                      <a:lnTo>
                        <a:pt x="21" y="109"/>
                      </a:lnTo>
                      <a:lnTo>
                        <a:pt x="21" y="99"/>
                      </a:lnTo>
                      <a:lnTo>
                        <a:pt x="20" y="99"/>
                      </a:lnTo>
                      <a:lnTo>
                        <a:pt x="18" y="98"/>
                      </a:lnTo>
                      <a:lnTo>
                        <a:pt x="17" y="98"/>
                      </a:lnTo>
                      <a:lnTo>
                        <a:pt x="16" y="98"/>
                      </a:lnTo>
                      <a:lnTo>
                        <a:pt x="15" y="97"/>
                      </a:lnTo>
                      <a:lnTo>
                        <a:pt x="13" y="97"/>
                      </a:lnTo>
                      <a:lnTo>
                        <a:pt x="12" y="96"/>
                      </a:lnTo>
                      <a:lnTo>
                        <a:pt x="10" y="96"/>
                      </a:lnTo>
                      <a:lnTo>
                        <a:pt x="10" y="89"/>
                      </a:lnTo>
                      <a:lnTo>
                        <a:pt x="10" y="81"/>
                      </a:lnTo>
                      <a:lnTo>
                        <a:pt x="9" y="74"/>
                      </a:lnTo>
                      <a:lnTo>
                        <a:pt x="9" y="67"/>
                      </a:lnTo>
                      <a:lnTo>
                        <a:pt x="9" y="55"/>
                      </a:lnTo>
                      <a:lnTo>
                        <a:pt x="10" y="42"/>
                      </a:lnTo>
                      <a:lnTo>
                        <a:pt x="11" y="30"/>
                      </a:lnTo>
                      <a:lnTo>
                        <a:pt x="11" y="17"/>
                      </a:lnTo>
                      <a:lnTo>
                        <a:pt x="20" y="25"/>
                      </a:lnTo>
                      <a:lnTo>
                        <a:pt x="28" y="34"/>
                      </a:lnTo>
                      <a:lnTo>
                        <a:pt x="34" y="44"/>
                      </a:lnTo>
                      <a:lnTo>
                        <a:pt x="39" y="55"/>
                      </a:lnTo>
                      <a:lnTo>
                        <a:pt x="42" y="66"/>
                      </a:lnTo>
                      <a:lnTo>
                        <a:pt x="44" y="78"/>
                      </a:lnTo>
                      <a:lnTo>
                        <a:pt x="44" y="90"/>
                      </a:lnTo>
                      <a:lnTo>
                        <a:pt x="42" y="102"/>
                      </a:lnTo>
                      <a:lnTo>
                        <a:pt x="40" y="102"/>
                      </a:lnTo>
                      <a:lnTo>
                        <a:pt x="38" y="102"/>
                      </a:lnTo>
                      <a:lnTo>
                        <a:pt x="36" y="102"/>
                      </a:lnTo>
                      <a:lnTo>
                        <a:pt x="34" y="101"/>
                      </a:lnTo>
                      <a:lnTo>
                        <a:pt x="32" y="101"/>
                      </a:lnTo>
                      <a:lnTo>
                        <a:pt x="30" y="101"/>
                      </a:lnTo>
                      <a:lnTo>
                        <a:pt x="28" y="101"/>
                      </a:lnTo>
                      <a:lnTo>
                        <a:pt x="26" y="100"/>
                      </a:lnTo>
                      <a:lnTo>
                        <a:pt x="26" y="110"/>
                      </a:lnTo>
                      <a:lnTo>
                        <a:pt x="29" y="111"/>
                      </a:lnTo>
                      <a:lnTo>
                        <a:pt x="31" y="111"/>
                      </a:lnTo>
                      <a:lnTo>
                        <a:pt x="33" y="111"/>
                      </a:lnTo>
                      <a:lnTo>
                        <a:pt x="35" y="112"/>
                      </a:lnTo>
                      <a:lnTo>
                        <a:pt x="38" y="112"/>
                      </a:lnTo>
                      <a:lnTo>
                        <a:pt x="40" y="112"/>
                      </a:lnTo>
                      <a:lnTo>
                        <a:pt x="43" y="113"/>
                      </a:lnTo>
                      <a:lnTo>
                        <a:pt x="45" y="113"/>
                      </a:lnTo>
                      <a:lnTo>
                        <a:pt x="49" y="113"/>
                      </a:lnTo>
                      <a:lnTo>
                        <a:pt x="50" y="109"/>
                      </a:lnTo>
                      <a:lnTo>
                        <a:pt x="50" y="108"/>
                      </a:lnTo>
                      <a:lnTo>
                        <a:pt x="50" y="107"/>
                      </a:lnTo>
                      <a:lnTo>
                        <a:pt x="51" y="107"/>
                      </a:lnTo>
                      <a:lnTo>
                        <a:pt x="51" y="106"/>
                      </a:lnTo>
                      <a:lnTo>
                        <a:pt x="54" y="91"/>
                      </a:lnTo>
                      <a:lnTo>
                        <a:pt x="54" y="76"/>
                      </a:lnTo>
                      <a:lnTo>
                        <a:pt x="51" y="62"/>
                      </a:lnTo>
                      <a:lnTo>
                        <a:pt x="47" y="48"/>
                      </a:lnTo>
                      <a:lnTo>
                        <a:pt x="41" y="35"/>
                      </a:lnTo>
                      <a:lnTo>
                        <a:pt x="32" y="23"/>
                      </a:lnTo>
                      <a:lnTo>
                        <a:pt x="21" y="13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80"/>
                <p:cNvSpPr/>
                <p:nvPr/>
              </p:nvSpPr>
              <p:spPr>
                <a:xfrm>
                  <a:off x="3114000" y="5069520"/>
                  <a:ext cx="6120" cy="108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5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9" name="Group 81"/>
          <p:cNvGrpSpPr/>
          <p:nvPr/>
        </p:nvGrpSpPr>
        <p:grpSpPr>
          <a:xfrm>
            <a:off x="773280" y="2165400"/>
            <a:ext cx="1093680" cy="880920"/>
            <a:chOff x="773280" y="2165400"/>
            <a:chExt cx="1093680" cy="880920"/>
          </a:xfrm>
        </p:grpSpPr>
        <p:sp>
          <p:nvSpPr>
            <p:cNvPr id="430" name="Rectangle 82"/>
            <p:cNvSpPr/>
            <p:nvPr/>
          </p:nvSpPr>
          <p:spPr>
            <a:xfrm>
              <a:off x="773280" y="280008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Futura Bk BT"/>
                </a:rPr>
                <a:t>Raters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31" name="Group 83"/>
            <p:cNvGrpSpPr/>
            <p:nvPr/>
          </p:nvGrpSpPr>
          <p:grpSpPr>
            <a:xfrm>
              <a:off x="945720" y="2165400"/>
              <a:ext cx="729360" cy="627120"/>
              <a:chOff x="945720" y="2165400"/>
              <a:chExt cx="729360" cy="627120"/>
            </a:xfrm>
          </p:grpSpPr>
          <p:sp>
            <p:nvSpPr>
              <p:cNvPr id="432" name="AutoShape 84"/>
              <p:cNvSpPr/>
              <p:nvPr/>
            </p:nvSpPr>
            <p:spPr>
              <a:xfrm>
                <a:off x="945720" y="2165400"/>
                <a:ext cx="729360" cy="627120"/>
              </a:xfrm>
              <a:prstGeom prst="roundRect">
                <a:avLst>
                  <a:gd name="adj" fmla="val 16667"/>
                </a:avLst>
              </a:prstGeom>
              <a:solidFill>
                <a:srgbClr val="053e71">
                  <a:alpha val="7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433" name="Group 85"/>
              <p:cNvGrpSpPr/>
              <p:nvPr/>
            </p:nvGrpSpPr>
            <p:grpSpPr>
              <a:xfrm>
                <a:off x="1020240" y="2239920"/>
                <a:ext cx="572040" cy="530280"/>
                <a:chOff x="1020240" y="2239920"/>
                <a:chExt cx="572040" cy="530280"/>
              </a:xfrm>
            </p:grpSpPr>
            <p:sp>
              <p:nvSpPr>
                <p:cNvPr id="434" name="Freeform 86"/>
                <p:cNvSpPr/>
                <p:nvPr/>
              </p:nvSpPr>
              <p:spPr>
                <a:xfrm>
                  <a:off x="1020240" y="2563560"/>
                  <a:ext cx="363960" cy="206640"/>
                </a:xfrm>
                <a:custGeom>
                  <a:avLst/>
                  <a:gdLst>
                    <a:gd name="textAreaLeft" fmla="*/ 0 w 363960"/>
                    <a:gd name="textAreaRight" fmla="*/ 363960 w 36396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1963" h="1166">
                      <a:moveTo>
                        <a:pt x="0" y="0"/>
                      </a:moveTo>
                      <a:lnTo>
                        <a:pt x="5" y="1"/>
                      </a:lnTo>
                      <a:lnTo>
                        <a:pt x="17" y="4"/>
                      </a:lnTo>
                      <a:lnTo>
                        <a:pt x="38" y="9"/>
                      </a:lnTo>
                      <a:lnTo>
                        <a:pt x="66" y="16"/>
                      </a:lnTo>
                      <a:lnTo>
                        <a:pt x="102" y="26"/>
                      </a:lnTo>
                      <a:lnTo>
                        <a:pt x="143" y="37"/>
                      </a:lnTo>
                      <a:lnTo>
                        <a:pt x="192" y="52"/>
                      </a:lnTo>
                      <a:lnTo>
                        <a:pt x="245" y="69"/>
                      </a:lnTo>
                      <a:lnTo>
                        <a:pt x="303" y="87"/>
                      </a:lnTo>
                      <a:lnTo>
                        <a:pt x="366" y="106"/>
                      </a:lnTo>
                      <a:lnTo>
                        <a:pt x="433" y="129"/>
                      </a:lnTo>
                      <a:lnTo>
                        <a:pt x="504" y="156"/>
                      </a:lnTo>
                      <a:lnTo>
                        <a:pt x="578" y="182"/>
                      </a:lnTo>
                      <a:lnTo>
                        <a:pt x="655" y="212"/>
                      </a:lnTo>
                      <a:lnTo>
                        <a:pt x="735" y="245"/>
                      </a:lnTo>
                      <a:lnTo>
                        <a:pt x="815" y="279"/>
                      </a:lnTo>
                      <a:lnTo>
                        <a:pt x="898" y="315"/>
                      </a:lnTo>
                      <a:lnTo>
                        <a:pt x="980" y="355"/>
                      </a:lnTo>
                      <a:lnTo>
                        <a:pt x="1065" y="398"/>
                      </a:lnTo>
                      <a:lnTo>
                        <a:pt x="1148" y="440"/>
                      </a:lnTo>
                      <a:lnTo>
                        <a:pt x="1229" y="488"/>
                      </a:lnTo>
                      <a:lnTo>
                        <a:pt x="1311" y="538"/>
                      </a:lnTo>
                      <a:lnTo>
                        <a:pt x="1391" y="589"/>
                      </a:lnTo>
                      <a:lnTo>
                        <a:pt x="1470" y="643"/>
                      </a:lnTo>
                      <a:lnTo>
                        <a:pt x="1545" y="699"/>
                      </a:lnTo>
                      <a:lnTo>
                        <a:pt x="1617" y="758"/>
                      </a:lnTo>
                      <a:lnTo>
                        <a:pt x="1686" y="819"/>
                      </a:lnTo>
                      <a:lnTo>
                        <a:pt x="1751" y="883"/>
                      </a:lnTo>
                      <a:lnTo>
                        <a:pt x="1812" y="950"/>
                      </a:lnTo>
                      <a:lnTo>
                        <a:pt x="1867" y="1020"/>
                      </a:lnTo>
                      <a:lnTo>
                        <a:pt x="1919" y="1092"/>
                      </a:lnTo>
                      <a:lnTo>
                        <a:pt x="1963" y="1166"/>
                      </a:lnTo>
                      <a:lnTo>
                        <a:pt x="1961" y="1163"/>
                      </a:lnTo>
                      <a:lnTo>
                        <a:pt x="1958" y="1154"/>
                      </a:lnTo>
                      <a:lnTo>
                        <a:pt x="1953" y="1141"/>
                      </a:lnTo>
                      <a:lnTo>
                        <a:pt x="1944" y="1123"/>
                      </a:lnTo>
                      <a:lnTo>
                        <a:pt x="1933" y="1100"/>
                      </a:lnTo>
                      <a:lnTo>
                        <a:pt x="1920" y="1074"/>
                      </a:lnTo>
                      <a:lnTo>
                        <a:pt x="1903" y="1043"/>
                      </a:lnTo>
                      <a:lnTo>
                        <a:pt x="1883" y="1010"/>
                      </a:lnTo>
                      <a:lnTo>
                        <a:pt x="1859" y="972"/>
                      </a:lnTo>
                      <a:lnTo>
                        <a:pt x="1832" y="932"/>
                      </a:lnTo>
                      <a:lnTo>
                        <a:pt x="1801" y="890"/>
                      </a:lnTo>
                      <a:lnTo>
                        <a:pt x="1766" y="844"/>
                      </a:lnTo>
                      <a:lnTo>
                        <a:pt x="1727" y="797"/>
                      </a:lnTo>
                      <a:lnTo>
                        <a:pt x="1685" y="750"/>
                      </a:lnTo>
                      <a:lnTo>
                        <a:pt x="1638" y="700"/>
                      </a:lnTo>
                      <a:lnTo>
                        <a:pt x="1586" y="649"/>
                      </a:lnTo>
                      <a:lnTo>
                        <a:pt x="1529" y="600"/>
                      </a:lnTo>
                      <a:lnTo>
                        <a:pt x="1468" y="549"/>
                      </a:lnTo>
                      <a:lnTo>
                        <a:pt x="1401" y="498"/>
                      </a:lnTo>
                      <a:lnTo>
                        <a:pt x="1328" y="447"/>
                      </a:lnTo>
                      <a:lnTo>
                        <a:pt x="1251" y="398"/>
                      </a:lnTo>
                      <a:lnTo>
                        <a:pt x="1170" y="350"/>
                      </a:lnTo>
                      <a:lnTo>
                        <a:pt x="1080" y="302"/>
                      </a:lnTo>
                      <a:lnTo>
                        <a:pt x="986" y="258"/>
                      </a:lnTo>
                      <a:lnTo>
                        <a:pt x="886" y="215"/>
                      </a:lnTo>
                      <a:lnTo>
                        <a:pt x="779" y="174"/>
                      </a:lnTo>
                      <a:lnTo>
                        <a:pt x="666" y="136"/>
                      </a:lnTo>
                      <a:lnTo>
                        <a:pt x="546" y="102"/>
                      </a:lnTo>
                      <a:lnTo>
                        <a:pt x="421" y="70"/>
                      </a:lnTo>
                      <a:lnTo>
                        <a:pt x="287" y="42"/>
                      </a:lnTo>
                      <a:lnTo>
                        <a:pt x="148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87"/>
                <p:cNvGrpSpPr/>
                <p:nvPr/>
              </p:nvGrpSpPr>
              <p:grpSpPr>
                <a:xfrm>
                  <a:off x="1044720" y="2239920"/>
                  <a:ext cx="547560" cy="517680"/>
                  <a:chOff x="1044720" y="2239920"/>
                  <a:chExt cx="547560" cy="517680"/>
                </a:xfrm>
              </p:grpSpPr>
              <p:sp>
                <p:nvSpPr>
                  <p:cNvPr id="436" name="Freeform 88"/>
                  <p:cNvSpPr/>
                  <p:nvPr/>
                </p:nvSpPr>
                <p:spPr>
                  <a:xfrm>
                    <a:off x="1044720" y="2239920"/>
                    <a:ext cx="547560" cy="343440"/>
                  </a:xfrm>
                  <a:custGeom>
                    <a:avLst/>
                    <a:gdLst>
                      <a:gd name="textAreaLeft" fmla="*/ 0 w 547560"/>
                      <a:gd name="textAreaRight" fmla="*/ 547560 w 547560"/>
                      <a:gd name="textAreaTop" fmla="*/ 0 h 343440"/>
                      <a:gd name="textAreaBottom" fmla="*/ 343800 h 343440"/>
                    </a:gdLst>
                    <a:ahLst/>
                    <a:rect l="textAreaLeft" t="textAreaTop" r="textAreaRight" b="textAreaBottom"/>
                    <a:pathLst>
                      <a:path w="2939" h="1950">
                        <a:moveTo>
                          <a:pt x="1289" y="163"/>
                        </a:moveTo>
                        <a:lnTo>
                          <a:pt x="1279" y="163"/>
                        </a:lnTo>
                        <a:lnTo>
                          <a:pt x="1270" y="166"/>
                        </a:lnTo>
                        <a:lnTo>
                          <a:pt x="1262" y="169"/>
                        </a:lnTo>
                        <a:lnTo>
                          <a:pt x="1256" y="174"/>
                        </a:lnTo>
                        <a:lnTo>
                          <a:pt x="1249" y="179"/>
                        </a:lnTo>
                        <a:lnTo>
                          <a:pt x="1245" y="188"/>
                        </a:lnTo>
                        <a:lnTo>
                          <a:pt x="1240" y="196"/>
                        </a:lnTo>
                        <a:lnTo>
                          <a:pt x="1237" y="206"/>
                        </a:lnTo>
                        <a:lnTo>
                          <a:pt x="1229" y="239"/>
                        </a:lnTo>
                        <a:lnTo>
                          <a:pt x="1223" y="278"/>
                        </a:lnTo>
                        <a:lnTo>
                          <a:pt x="1218" y="327"/>
                        </a:lnTo>
                        <a:lnTo>
                          <a:pt x="1210" y="385"/>
                        </a:lnTo>
                        <a:lnTo>
                          <a:pt x="1201" y="452"/>
                        </a:lnTo>
                        <a:lnTo>
                          <a:pt x="1183" y="526"/>
                        </a:lnTo>
                        <a:lnTo>
                          <a:pt x="1161" y="609"/>
                        </a:lnTo>
                        <a:lnTo>
                          <a:pt x="1130" y="699"/>
                        </a:lnTo>
                        <a:lnTo>
                          <a:pt x="1089" y="798"/>
                        </a:lnTo>
                        <a:lnTo>
                          <a:pt x="1036" y="903"/>
                        </a:lnTo>
                        <a:lnTo>
                          <a:pt x="968" y="1017"/>
                        </a:lnTo>
                        <a:lnTo>
                          <a:pt x="885" y="1139"/>
                        </a:lnTo>
                        <a:lnTo>
                          <a:pt x="785" y="1267"/>
                        </a:lnTo>
                        <a:lnTo>
                          <a:pt x="665" y="1403"/>
                        </a:lnTo>
                        <a:lnTo>
                          <a:pt x="526" y="1547"/>
                        </a:lnTo>
                        <a:lnTo>
                          <a:pt x="362" y="1698"/>
                        </a:lnTo>
                        <a:lnTo>
                          <a:pt x="343" y="1714"/>
                        </a:lnTo>
                        <a:lnTo>
                          <a:pt x="323" y="1731"/>
                        </a:lnTo>
                        <a:lnTo>
                          <a:pt x="303" y="1747"/>
                        </a:lnTo>
                        <a:lnTo>
                          <a:pt x="282" y="1762"/>
                        </a:lnTo>
                        <a:lnTo>
                          <a:pt x="260" y="1779"/>
                        </a:lnTo>
                        <a:lnTo>
                          <a:pt x="238" y="1793"/>
                        </a:lnTo>
                        <a:lnTo>
                          <a:pt x="216" y="1810"/>
                        </a:lnTo>
                        <a:lnTo>
                          <a:pt x="193" y="1825"/>
                        </a:lnTo>
                        <a:lnTo>
                          <a:pt x="171" y="1841"/>
                        </a:lnTo>
                        <a:lnTo>
                          <a:pt x="147" y="1856"/>
                        </a:lnTo>
                        <a:lnTo>
                          <a:pt x="124" y="1871"/>
                        </a:lnTo>
                        <a:lnTo>
                          <a:pt x="98" y="1887"/>
                        </a:lnTo>
                        <a:lnTo>
                          <a:pt x="75" y="1902"/>
                        </a:lnTo>
                        <a:lnTo>
                          <a:pt x="50" y="1918"/>
                        </a:lnTo>
                        <a:lnTo>
                          <a:pt x="25" y="1933"/>
                        </a:lnTo>
                        <a:lnTo>
                          <a:pt x="0" y="1950"/>
                        </a:lnTo>
                        <a:lnTo>
                          <a:pt x="3" y="1946"/>
                        </a:lnTo>
                        <a:lnTo>
                          <a:pt x="14" y="1940"/>
                        </a:lnTo>
                        <a:lnTo>
                          <a:pt x="31" y="1928"/>
                        </a:lnTo>
                        <a:lnTo>
                          <a:pt x="53" y="1910"/>
                        </a:lnTo>
                        <a:lnTo>
                          <a:pt x="81" y="1889"/>
                        </a:lnTo>
                        <a:lnTo>
                          <a:pt x="116" y="1864"/>
                        </a:lnTo>
                        <a:lnTo>
                          <a:pt x="153" y="1833"/>
                        </a:lnTo>
                        <a:lnTo>
                          <a:pt x="194" y="1798"/>
                        </a:lnTo>
                        <a:lnTo>
                          <a:pt x="240" y="1760"/>
                        </a:lnTo>
                        <a:lnTo>
                          <a:pt x="288" y="1718"/>
                        </a:lnTo>
                        <a:lnTo>
                          <a:pt x="340" y="1672"/>
                        </a:lnTo>
                        <a:lnTo>
                          <a:pt x="394" y="1621"/>
                        </a:lnTo>
                        <a:lnTo>
                          <a:pt x="449" y="1568"/>
                        </a:lnTo>
                        <a:lnTo>
                          <a:pt x="504" y="1510"/>
                        </a:lnTo>
                        <a:lnTo>
                          <a:pt x="560" y="1449"/>
                        </a:lnTo>
                        <a:lnTo>
                          <a:pt x="617" y="1385"/>
                        </a:lnTo>
                        <a:lnTo>
                          <a:pt x="673" y="1318"/>
                        </a:lnTo>
                        <a:lnTo>
                          <a:pt x="730" y="1247"/>
                        </a:lnTo>
                        <a:lnTo>
                          <a:pt x="783" y="1175"/>
                        </a:lnTo>
                        <a:lnTo>
                          <a:pt x="836" y="1097"/>
                        </a:lnTo>
                        <a:lnTo>
                          <a:pt x="887" y="1018"/>
                        </a:lnTo>
                        <a:lnTo>
                          <a:pt x="935" y="938"/>
                        </a:lnTo>
                        <a:lnTo>
                          <a:pt x="979" y="852"/>
                        </a:lnTo>
                        <a:lnTo>
                          <a:pt x="1020" y="767"/>
                        </a:lnTo>
                        <a:lnTo>
                          <a:pt x="1058" y="678"/>
                        </a:lnTo>
                        <a:lnTo>
                          <a:pt x="1089" y="586"/>
                        </a:lnTo>
                        <a:lnTo>
                          <a:pt x="1116" y="494"/>
                        </a:lnTo>
                        <a:lnTo>
                          <a:pt x="1138" y="398"/>
                        </a:lnTo>
                        <a:lnTo>
                          <a:pt x="1154" y="301"/>
                        </a:lnTo>
                        <a:lnTo>
                          <a:pt x="1161" y="202"/>
                        </a:lnTo>
                        <a:lnTo>
                          <a:pt x="1165" y="102"/>
                        </a:lnTo>
                        <a:lnTo>
                          <a:pt x="1158" y="0"/>
                        </a:lnTo>
                        <a:lnTo>
                          <a:pt x="1161" y="2"/>
                        </a:lnTo>
                        <a:lnTo>
                          <a:pt x="1169" y="7"/>
                        </a:lnTo>
                        <a:lnTo>
                          <a:pt x="1183" y="13"/>
                        </a:lnTo>
                        <a:lnTo>
                          <a:pt x="1201" y="23"/>
                        </a:lnTo>
                        <a:lnTo>
                          <a:pt x="1224" y="35"/>
                        </a:lnTo>
                        <a:lnTo>
                          <a:pt x="1252" y="49"/>
                        </a:lnTo>
                        <a:lnTo>
                          <a:pt x="1285" y="64"/>
                        </a:lnTo>
                        <a:lnTo>
                          <a:pt x="1322" y="82"/>
                        </a:lnTo>
                        <a:lnTo>
                          <a:pt x="1362" y="102"/>
                        </a:lnTo>
                        <a:lnTo>
                          <a:pt x="1406" y="123"/>
                        </a:lnTo>
                        <a:lnTo>
                          <a:pt x="1455" y="145"/>
                        </a:lnTo>
                        <a:lnTo>
                          <a:pt x="1505" y="168"/>
                        </a:lnTo>
                        <a:lnTo>
                          <a:pt x="1560" y="192"/>
                        </a:lnTo>
                        <a:lnTo>
                          <a:pt x="1618" y="217"/>
                        </a:lnTo>
                        <a:lnTo>
                          <a:pt x="1678" y="242"/>
                        </a:lnTo>
                        <a:lnTo>
                          <a:pt x="1742" y="268"/>
                        </a:lnTo>
                        <a:lnTo>
                          <a:pt x="1807" y="293"/>
                        </a:lnTo>
                        <a:lnTo>
                          <a:pt x="1874" y="319"/>
                        </a:lnTo>
                        <a:lnTo>
                          <a:pt x="1945" y="344"/>
                        </a:lnTo>
                        <a:lnTo>
                          <a:pt x="2016" y="369"/>
                        </a:lnTo>
                        <a:lnTo>
                          <a:pt x="2089" y="393"/>
                        </a:lnTo>
                        <a:lnTo>
                          <a:pt x="2163" y="418"/>
                        </a:lnTo>
                        <a:lnTo>
                          <a:pt x="2239" y="439"/>
                        </a:lnTo>
                        <a:lnTo>
                          <a:pt x="2315" y="462"/>
                        </a:lnTo>
                        <a:lnTo>
                          <a:pt x="2392" y="482"/>
                        </a:lnTo>
                        <a:lnTo>
                          <a:pt x="2471" y="500"/>
                        </a:lnTo>
                        <a:lnTo>
                          <a:pt x="2549" y="518"/>
                        </a:lnTo>
                        <a:lnTo>
                          <a:pt x="2628" y="533"/>
                        </a:lnTo>
                        <a:lnTo>
                          <a:pt x="2706" y="546"/>
                        </a:lnTo>
                        <a:lnTo>
                          <a:pt x="2783" y="556"/>
                        </a:lnTo>
                        <a:lnTo>
                          <a:pt x="2862" y="564"/>
                        </a:lnTo>
                        <a:lnTo>
                          <a:pt x="2939" y="571"/>
                        </a:lnTo>
                        <a:lnTo>
                          <a:pt x="2937" y="571"/>
                        </a:lnTo>
                        <a:lnTo>
                          <a:pt x="2933" y="571"/>
                        </a:lnTo>
                        <a:lnTo>
                          <a:pt x="2923" y="573"/>
                        </a:lnTo>
                        <a:lnTo>
                          <a:pt x="2912" y="573"/>
                        </a:lnTo>
                        <a:lnTo>
                          <a:pt x="2898" y="574"/>
                        </a:lnTo>
                        <a:lnTo>
                          <a:pt x="2879" y="574"/>
                        </a:lnTo>
                        <a:lnTo>
                          <a:pt x="2859" y="574"/>
                        </a:lnTo>
                        <a:lnTo>
                          <a:pt x="2834" y="574"/>
                        </a:lnTo>
                        <a:lnTo>
                          <a:pt x="2807" y="574"/>
                        </a:lnTo>
                        <a:lnTo>
                          <a:pt x="2777" y="573"/>
                        </a:lnTo>
                        <a:lnTo>
                          <a:pt x="2744" y="571"/>
                        </a:lnTo>
                        <a:lnTo>
                          <a:pt x="2708" y="569"/>
                        </a:lnTo>
                        <a:lnTo>
                          <a:pt x="2670" y="566"/>
                        </a:lnTo>
                        <a:lnTo>
                          <a:pt x="2628" y="563"/>
                        </a:lnTo>
                        <a:lnTo>
                          <a:pt x="2584" y="558"/>
                        </a:lnTo>
                        <a:lnTo>
                          <a:pt x="2538" y="551"/>
                        </a:lnTo>
                        <a:lnTo>
                          <a:pt x="2488" y="545"/>
                        </a:lnTo>
                        <a:lnTo>
                          <a:pt x="2436" y="535"/>
                        </a:lnTo>
                        <a:lnTo>
                          <a:pt x="2383" y="525"/>
                        </a:lnTo>
                        <a:lnTo>
                          <a:pt x="2326" y="513"/>
                        </a:lnTo>
                        <a:lnTo>
                          <a:pt x="2267" y="502"/>
                        </a:lnTo>
                        <a:lnTo>
                          <a:pt x="2206" y="487"/>
                        </a:lnTo>
                        <a:lnTo>
                          <a:pt x="2141" y="471"/>
                        </a:lnTo>
                        <a:lnTo>
                          <a:pt x="2075" y="451"/>
                        </a:lnTo>
                        <a:lnTo>
                          <a:pt x="2008" y="431"/>
                        </a:lnTo>
                        <a:lnTo>
                          <a:pt x="1937" y="408"/>
                        </a:lnTo>
                        <a:lnTo>
                          <a:pt x="1865" y="385"/>
                        </a:lnTo>
                        <a:lnTo>
                          <a:pt x="1791" y="357"/>
                        </a:lnTo>
                        <a:lnTo>
                          <a:pt x="1714" y="327"/>
                        </a:lnTo>
                        <a:lnTo>
                          <a:pt x="1636" y="296"/>
                        </a:lnTo>
                        <a:lnTo>
                          <a:pt x="1556" y="262"/>
                        </a:lnTo>
                        <a:lnTo>
                          <a:pt x="1474" y="225"/>
                        </a:lnTo>
                        <a:lnTo>
                          <a:pt x="1441" y="211"/>
                        </a:lnTo>
                        <a:lnTo>
                          <a:pt x="1410" y="197"/>
                        </a:lnTo>
                        <a:lnTo>
                          <a:pt x="1383" y="186"/>
                        </a:lnTo>
                        <a:lnTo>
                          <a:pt x="1359" y="178"/>
                        </a:lnTo>
                        <a:lnTo>
                          <a:pt x="1339" y="171"/>
                        </a:lnTo>
                        <a:lnTo>
                          <a:pt x="1320" y="166"/>
                        </a:lnTo>
                        <a:lnTo>
                          <a:pt x="1303" y="163"/>
                        </a:lnTo>
                        <a:lnTo>
                          <a:pt x="1289" y="16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89"/>
                  <p:cNvSpPr/>
                  <p:nvPr/>
                </p:nvSpPr>
                <p:spPr>
                  <a:xfrm>
                    <a:off x="1356120" y="2307240"/>
                    <a:ext cx="219600" cy="450360"/>
                  </a:xfrm>
                  <a:custGeom>
                    <a:avLst/>
                    <a:gdLst>
                      <a:gd name="textAreaLeft" fmla="*/ 0 w 219600"/>
                      <a:gd name="textAreaRight" fmla="*/ 219960 w 219600"/>
                      <a:gd name="textAreaTop" fmla="*/ 0 h 450360"/>
                      <a:gd name="textAreaBottom" fmla="*/ 450720 h 450360"/>
                    </a:gdLst>
                    <a:ahLst/>
                    <a:rect l="textAreaLeft" t="textAreaTop" r="textAreaRight" b="textAreaBottom"/>
                    <a:pathLst>
                      <a:path w="1181" h="2555">
                        <a:moveTo>
                          <a:pt x="1181" y="0"/>
                        </a:moveTo>
                        <a:lnTo>
                          <a:pt x="1181" y="3"/>
                        </a:lnTo>
                        <a:lnTo>
                          <a:pt x="1181" y="15"/>
                        </a:lnTo>
                        <a:lnTo>
                          <a:pt x="1181" y="34"/>
                        </a:lnTo>
                        <a:lnTo>
                          <a:pt x="1179" y="61"/>
                        </a:lnTo>
                        <a:lnTo>
                          <a:pt x="1178" y="92"/>
                        </a:lnTo>
                        <a:lnTo>
                          <a:pt x="1174" y="131"/>
                        </a:lnTo>
                        <a:lnTo>
                          <a:pt x="1170" y="177"/>
                        </a:lnTo>
                        <a:lnTo>
                          <a:pt x="1163" y="228"/>
                        </a:lnTo>
                        <a:lnTo>
                          <a:pt x="1156" y="286"/>
                        </a:lnTo>
                        <a:lnTo>
                          <a:pt x="1146" y="349"/>
                        </a:lnTo>
                        <a:lnTo>
                          <a:pt x="1135" y="416"/>
                        </a:lnTo>
                        <a:lnTo>
                          <a:pt x="1121" y="488"/>
                        </a:lnTo>
                        <a:lnTo>
                          <a:pt x="1105" y="566"/>
                        </a:lnTo>
                        <a:lnTo>
                          <a:pt x="1085" y="648"/>
                        </a:lnTo>
                        <a:lnTo>
                          <a:pt x="1063" y="734"/>
                        </a:lnTo>
                        <a:lnTo>
                          <a:pt x="1038" y="822"/>
                        </a:lnTo>
                        <a:lnTo>
                          <a:pt x="1008" y="916"/>
                        </a:lnTo>
                        <a:lnTo>
                          <a:pt x="975" y="1012"/>
                        </a:lnTo>
                        <a:lnTo>
                          <a:pt x="939" y="1112"/>
                        </a:lnTo>
                        <a:lnTo>
                          <a:pt x="897" y="1214"/>
                        </a:lnTo>
                        <a:lnTo>
                          <a:pt x="853" y="1318"/>
                        </a:lnTo>
                        <a:lnTo>
                          <a:pt x="802" y="1425"/>
                        </a:lnTo>
                        <a:lnTo>
                          <a:pt x="747" y="1533"/>
                        </a:lnTo>
                        <a:lnTo>
                          <a:pt x="688" y="1643"/>
                        </a:lnTo>
                        <a:lnTo>
                          <a:pt x="622" y="1755"/>
                        </a:lnTo>
                        <a:lnTo>
                          <a:pt x="551" y="1869"/>
                        </a:lnTo>
                        <a:lnTo>
                          <a:pt x="476" y="1982"/>
                        </a:lnTo>
                        <a:lnTo>
                          <a:pt x="393" y="2097"/>
                        </a:lnTo>
                        <a:lnTo>
                          <a:pt x="305" y="2211"/>
                        </a:lnTo>
                        <a:lnTo>
                          <a:pt x="210" y="2326"/>
                        </a:lnTo>
                        <a:lnTo>
                          <a:pt x="108" y="2441"/>
                        </a:lnTo>
                        <a:lnTo>
                          <a:pt x="0" y="2555"/>
                        </a:lnTo>
                        <a:lnTo>
                          <a:pt x="3" y="2552"/>
                        </a:lnTo>
                        <a:lnTo>
                          <a:pt x="11" y="2542"/>
                        </a:lnTo>
                        <a:lnTo>
                          <a:pt x="25" y="2525"/>
                        </a:lnTo>
                        <a:lnTo>
                          <a:pt x="42" y="2504"/>
                        </a:lnTo>
                        <a:lnTo>
                          <a:pt x="66" y="2474"/>
                        </a:lnTo>
                        <a:lnTo>
                          <a:pt x="93" y="2440"/>
                        </a:lnTo>
                        <a:lnTo>
                          <a:pt x="122" y="2400"/>
                        </a:lnTo>
                        <a:lnTo>
                          <a:pt x="157" y="2354"/>
                        </a:lnTo>
                        <a:lnTo>
                          <a:pt x="195" y="2303"/>
                        </a:lnTo>
                        <a:lnTo>
                          <a:pt x="236" y="2247"/>
                        </a:lnTo>
                        <a:lnTo>
                          <a:pt x="278" y="2185"/>
                        </a:lnTo>
                        <a:lnTo>
                          <a:pt x="323" y="2119"/>
                        </a:lnTo>
                        <a:lnTo>
                          <a:pt x="369" y="2048"/>
                        </a:lnTo>
                        <a:lnTo>
                          <a:pt x="418" y="1972"/>
                        </a:lnTo>
                        <a:lnTo>
                          <a:pt x="468" y="1892"/>
                        </a:lnTo>
                        <a:lnTo>
                          <a:pt x="518" y="1808"/>
                        </a:lnTo>
                        <a:lnTo>
                          <a:pt x="568" y="1719"/>
                        </a:lnTo>
                        <a:lnTo>
                          <a:pt x="620" y="1625"/>
                        </a:lnTo>
                        <a:lnTo>
                          <a:pt x="672" y="1530"/>
                        </a:lnTo>
                        <a:lnTo>
                          <a:pt x="722" y="1429"/>
                        </a:lnTo>
                        <a:lnTo>
                          <a:pt x="773" y="1326"/>
                        </a:lnTo>
                        <a:lnTo>
                          <a:pt x="821" y="1219"/>
                        </a:lnTo>
                        <a:lnTo>
                          <a:pt x="868" y="1109"/>
                        </a:lnTo>
                        <a:lnTo>
                          <a:pt x="915" y="995"/>
                        </a:lnTo>
                        <a:lnTo>
                          <a:pt x="959" y="878"/>
                        </a:lnTo>
                        <a:lnTo>
                          <a:pt x="1000" y="760"/>
                        </a:lnTo>
                        <a:lnTo>
                          <a:pt x="1039" y="640"/>
                        </a:lnTo>
                        <a:lnTo>
                          <a:pt x="1074" y="515"/>
                        </a:lnTo>
                        <a:lnTo>
                          <a:pt x="1107" y="390"/>
                        </a:lnTo>
                        <a:lnTo>
                          <a:pt x="1135" y="261"/>
                        </a:lnTo>
                        <a:lnTo>
                          <a:pt x="1160" y="131"/>
                        </a:lnTo>
                        <a:lnTo>
                          <a:pt x="11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90"/>
                  <p:cNvSpPr/>
                  <p:nvPr/>
                </p:nvSpPr>
                <p:spPr>
                  <a:xfrm>
                    <a:off x="1197000" y="2355120"/>
                    <a:ext cx="206640" cy="173520"/>
                  </a:xfrm>
                  <a:custGeom>
                    <a:avLst/>
                    <a:gdLst>
                      <a:gd name="textAreaLeft" fmla="*/ 0 w 206640"/>
                      <a:gd name="textAreaRight" fmla="*/ 207000 w 206640"/>
                      <a:gd name="textAreaTop" fmla="*/ 0 h 173520"/>
                      <a:gd name="textAreaBottom" fmla="*/ 173880 h 173520"/>
                    </a:gdLst>
                    <a:ahLst/>
                    <a:rect l="textAreaLeft" t="textAreaTop" r="textAreaRight" b="textAreaBottom"/>
                    <a:pathLst>
                      <a:path w="1110" h="985">
                        <a:moveTo>
                          <a:pt x="0" y="985"/>
                        </a:moveTo>
                        <a:lnTo>
                          <a:pt x="1" y="984"/>
                        </a:lnTo>
                        <a:lnTo>
                          <a:pt x="9" y="979"/>
                        </a:lnTo>
                        <a:lnTo>
                          <a:pt x="20" y="972"/>
                        </a:lnTo>
                        <a:lnTo>
                          <a:pt x="36" y="962"/>
                        </a:lnTo>
                        <a:lnTo>
                          <a:pt x="55" y="949"/>
                        </a:lnTo>
                        <a:lnTo>
                          <a:pt x="76" y="934"/>
                        </a:lnTo>
                        <a:lnTo>
                          <a:pt x="103" y="916"/>
                        </a:lnTo>
                        <a:lnTo>
                          <a:pt x="131" y="896"/>
                        </a:lnTo>
                        <a:lnTo>
                          <a:pt x="163" y="875"/>
                        </a:lnTo>
                        <a:lnTo>
                          <a:pt x="197" y="850"/>
                        </a:lnTo>
                        <a:lnTo>
                          <a:pt x="234" y="824"/>
                        </a:lnTo>
                        <a:lnTo>
                          <a:pt x="273" y="796"/>
                        </a:lnTo>
                        <a:lnTo>
                          <a:pt x="314" y="766"/>
                        </a:lnTo>
                        <a:lnTo>
                          <a:pt x="356" y="734"/>
                        </a:lnTo>
                        <a:lnTo>
                          <a:pt x="400" y="701"/>
                        </a:lnTo>
                        <a:lnTo>
                          <a:pt x="444" y="666"/>
                        </a:lnTo>
                        <a:lnTo>
                          <a:pt x="489" y="630"/>
                        </a:lnTo>
                        <a:lnTo>
                          <a:pt x="535" y="594"/>
                        </a:lnTo>
                        <a:lnTo>
                          <a:pt x="582" y="554"/>
                        </a:lnTo>
                        <a:lnTo>
                          <a:pt x="629" y="515"/>
                        </a:lnTo>
                        <a:lnTo>
                          <a:pt x="675" y="475"/>
                        </a:lnTo>
                        <a:lnTo>
                          <a:pt x="722" y="434"/>
                        </a:lnTo>
                        <a:lnTo>
                          <a:pt x="767" y="391"/>
                        </a:lnTo>
                        <a:lnTo>
                          <a:pt x="811" y="350"/>
                        </a:lnTo>
                        <a:lnTo>
                          <a:pt x="855" y="306"/>
                        </a:lnTo>
                        <a:lnTo>
                          <a:pt x="898" y="263"/>
                        </a:lnTo>
                        <a:lnTo>
                          <a:pt x="939" y="219"/>
                        </a:lnTo>
                        <a:lnTo>
                          <a:pt x="978" y="176"/>
                        </a:lnTo>
                        <a:lnTo>
                          <a:pt x="1014" y="131"/>
                        </a:lnTo>
                        <a:lnTo>
                          <a:pt x="1048" y="87"/>
                        </a:lnTo>
                        <a:lnTo>
                          <a:pt x="1080" y="44"/>
                        </a:lnTo>
                        <a:lnTo>
                          <a:pt x="1110" y="0"/>
                        </a:lnTo>
                        <a:lnTo>
                          <a:pt x="1110" y="1"/>
                        </a:lnTo>
                        <a:lnTo>
                          <a:pt x="1107" y="6"/>
                        </a:lnTo>
                        <a:lnTo>
                          <a:pt x="1103" y="15"/>
                        </a:lnTo>
                        <a:lnTo>
                          <a:pt x="1099" y="26"/>
                        </a:lnTo>
                        <a:lnTo>
                          <a:pt x="1092" y="39"/>
                        </a:lnTo>
                        <a:lnTo>
                          <a:pt x="1085" y="56"/>
                        </a:lnTo>
                        <a:lnTo>
                          <a:pt x="1074" y="75"/>
                        </a:lnTo>
                        <a:lnTo>
                          <a:pt x="1063" y="97"/>
                        </a:lnTo>
                        <a:lnTo>
                          <a:pt x="1048" y="122"/>
                        </a:lnTo>
                        <a:lnTo>
                          <a:pt x="1033" y="148"/>
                        </a:lnTo>
                        <a:lnTo>
                          <a:pt x="1014" y="176"/>
                        </a:lnTo>
                        <a:lnTo>
                          <a:pt x="995" y="205"/>
                        </a:lnTo>
                        <a:lnTo>
                          <a:pt x="971" y="237"/>
                        </a:lnTo>
                        <a:lnTo>
                          <a:pt x="948" y="271"/>
                        </a:lnTo>
                        <a:lnTo>
                          <a:pt x="920" y="306"/>
                        </a:lnTo>
                        <a:lnTo>
                          <a:pt x="890" y="342"/>
                        </a:lnTo>
                        <a:lnTo>
                          <a:pt x="858" y="378"/>
                        </a:lnTo>
                        <a:lnTo>
                          <a:pt x="822" y="418"/>
                        </a:lnTo>
                        <a:lnTo>
                          <a:pt x="785" y="456"/>
                        </a:lnTo>
                        <a:lnTo>
                          <a:pt x="744" y="497"/>
                        </a:lnTo>
                        <a:lnTo>
                          <a:pt x="700" y="538"/>
                        </a:lnTo>
                        <a:lnTo>
                          <a:pt x="654" y="579"/>
                        </a:lnTo>
                        <a:lnTo>
                          <a:pt x="604" y="620"/>
                        </a:lnTo>
                        <a:lnTo>
                          <a:pt x="551" y="661"/>
                        </a:lnTo>
                        <a:lnTo>
                          <a:pt x="494" y="702"/>
                        </a:lnTo>
                        <a:lnTo>
                          <a:pt x="434" y="745"/>
                        </a:lnTo>
                        <a:lnTo>
                          <a:pt x="372" y="786"/>
                        </a:lnTo>
                        <a:lnTo>
                          <a:pt x="304" y="827"/>
                        </a:lnTo>
                        <a:lnTo>
                          <a:pt x="234" y="869"/>
                        </a:lnTo>
                        <a:lnTo>
                          <a:pt x="160" y="908"/>
                        </a:lnTo>
                        <a:lnTo>
                          <a:pt x="81" y="947"/>
                        </a:lnTo>
                        <a:lnTo>
                          <a:pt x="0" y="98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91"/>
                  <p:cNvSpPr/>
                  <p:nvPr/>
                </p:nvSpPr>
                <p:spPr>
                  <a:xfrm>
                    <a:off x="1368360" y="2352960"/>
                    <a:ext cx="23040" cy="276480"/>
                  </a:xfrm>
                  <a:custGeom>
                    <a:avLst/>
                    <a:gdLst>
                      <a:gd name="textAreaLeft" fmla="*/ 0 w 23040"/>
                      <a:gd name="textAreaRight" fmla="*/ 23400 w 23040"/>
                      <a:gd name="textAreaTop" fmla="*/ 0 h 276480"/>
                      <a:gd name="textAreaBottom" fmla="*/ 276840 h 276480"/>
                    </a:gdLst>
                    <a:ahLst/>
                    <a:rect l="textAreaLeft" t="textAreaTop" r="textAreaRight" b="textAreaBottom"/>
                    <a:pathLst>
                      <a:path w="124" h="1569">
                        <a:moveTo>
                          <a:pt x="124" y="0"/>
                        </a:moveTo>
                        <a:lnTo>
                          <a:pt x="121" y="42"/>
                        </a:lnTo>
                        <a:lnTo>
                          <a:pt x="115" y="163"/>
                        </a:lnTo>
                        <a:lnTo>
                          <a:pt x="105" y="344"/>
                        </a:lnTo>
                        <a:lnTo>
                          <a:pt x="97" y="566"/>
                        </a:lnTo>
                        <a:lnTo>
                          <a:pt x="91" y="817"/>
                        </a:lnTo>
                        <a:lnTo>
                          <a:pt x="91" y="1079"/>
                        </a:lnTo>
                        <a:lnTo>
                          <a:pt x="97" y="1334"/>
                        </a:lnTo>
                        <a:lnTo>
                          <a:pt x="113" y="1569"/>
                        </a:lnTo>
                        <a:lnTo>
                          <a:pt x="110" y="1561"/>
                        </a:lnTo>
                        <a:lnTo>
                          <a:pt x="102" y="1540"/>
                        </a:lnTo>
                        <a:lnTo>
                          <a:pt x="91" y="1502"/>
                        </a:lnTo>
                        <a:lnTo>
                          <a:pt x="77" y="1451"/>
                        </a:lnTo>
                        <a:lnTo>
                          <a:pt x="61" y="1387"/>
                        </a:lnTo>
                        <a:lnTo>
                          <a:pt x="44" y="1311"/>
                        </a:lnTo>
                        <a:lnTo>
                          <a:pt x="30" y="1222"/>
                        </a:lnTo>
                        <a:lnTo>
                          <a:pt x="16" y="1123"/>
                        </a:lnTo>
                        <a:lnTo>
                          <a:pt x="6" y="1013"/>
                        </a:lnTo>
                        <a:lnTo>
                          <a:pt x="0" y="893"/>
                        </a:lnTo>
                        <a:lnTo>
                          <a:pt x="0" y="765"/>
                        </a:lnTo>
                        <a:lnTo>
                          <a:pt x="8" y="626"/>
                        </a:lnTo>
                        <a:lnTo>
                          <a:pt x="22" y="480"/>
                        </a:lnTo>
                        <a:lnTo>
                          <a:pt x="46" y="327"/>
                        </a:lnTo>
                        <a:lnTo>
                          <a:pt x="79" y="166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92"/>
                  <p:cNvSpPr/>
                  <p:nvPr/>
                </p:nvSpPr>
                <p:spPr>
                  <a:xfrm>
                    <a:off x="1304280" y="2422080"/>
                    <a:ext cx="108000" cy="6480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579" h="367">
                        <a:moveTo>
                          <a:pt x="0" y="0"/>
                        </a:moveTo>
                        <a:lnTo>
                          <a:pt x="5" y="3"/>
                        </a:lnTo>
                        <a:lnTo>
                          <a:pt x="17" y="11"/>
                        </a:lnTo>
                        <a:lnTo>
                          <a:pt x="36" y="26"/>
                        </a:lnTo>
                        <a:lnTo>
                          <a:pt x="61" y="44"/>
                        </a:lnTo>
                        <a:lnTo>
                          <a:pt x="92" y="66"/>
                        </a:lnTo>
                        <a:lnTo>
                          <a:pt x="129" y="92"/>
                        </a:lnTo>
                        <a:lnTo>
                          <a:pt x="169" y="118"/>
                        </a:lnTo>
                        <a:lnTo>
                          <a:pt x="213" y="148"/>
                        </a:lnTo>
                        <a:lnTo>
                          <a:pt x="259" y="179"/>
                        </a:lnTo>
                        <a:lnTo>
                          <a:pt x="306" y="209"/>
                        </a:lnTo>
                        <a:lnTo>
                          <a:pt x="355" y="240"/>
                        </a:lnTo>
                        <a:lnTo>
                          <a:pt x="403" y="270"/>
                        </a:lnTo>
                        <a:lnTo>
                          <a:pt x="450" y="298"/>
                        </a:lnTo>
                        <a:lnTo>
                          <a:pt x="496" y="324"/>
                        </a:lnTo>
                        <a:lnTo>
                          <a:pt x="538" y="347"/>
                        </a:lnTo>
                        <a:lnTo>
                          <a:pt x="579" y="367"/>
                        </a:lnTo>
                        <a:lnTo>
                          <a:pt x="574" y="367"/>
                        </a:lnTo>
                        <a:lnTo>
                          <a:pt x="562" y="365"/>
                        </a:lnTo>
                        <a:lnTo>
                          <a:pt x="541" y="363"/>
                        </a:lnTo>
                        <a:lnTo>
                          <a:pt x="515" y="360"/>
                        </a:lnTo>
                        <a:lnTo>
                          <a:pt x="482" y="354"/>
                        </a:lnTo>
                        <a:lnTo>
                          <a:pt x="444" y="344"/>
                        </a:lnTo>
                        <a:lnTo>
                          <a:pt x="402" y="332"/>
                        </a:lnTo>
                        <a:lnTo>
                          <a:pt x="358" y="316"/>
                        </a:lnTo>
                        <a:lnTo>
                          <a:pt x="311" y="296"/>
                        </a:lnTo>
                        <a:lnTo>
                          <a:pt x="264" y="271"/>
                        </a:lnTo>
                        <a:lnTo>
                          <a:pt x="215" y="242"/>
                        </a:lnTo>
                        <a:lnTo>
                          <a:pt x="168" y="207"/>
                        </a:lnTo>
                        <a:lnTo>
                          <a:pt x="121" y="166"/>
                        </a:lnTo>
                        <a:lnTo>
                          <a:pt x="77" y="118"/>
                        </a:lnTo>
                        <a:lnTo>
                          <a:pt x="36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93"/>
                  <p:cNvSpPr/>
                  <p:nvPr/>
                </p:nvSpPr>
                <p:spPr>
                  <a:xfrm>
                    <a:off x="1450440" y="2384280"/>
                    <a:ext cx="38160" cy="73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206" h="416">
                        <a:moveTo>
                          <a:pt x="206" y="0"/>
                        </a:moveTo>
                        <a:lnTo>
                          <a:pt x="198" y="11"/>
                        </a:lnTo>
                        <a:lnTo>
                          <a:pt x="178" y="44"/>
                        </a:lnTo>
                        <a:lnTo>
                          <a:pt x="148" y="94"/>
                        </a:lnTo>
                        <a:lnTo>
                          <a:pt x="112" y="155"/>
                        </a:lnTo>
                        <a:lnTo>
                          <a:pt x="76" y="222"/>
                        </a:lnTo>
                        <a:lnTo>
                          <a:pt x="43" y="291"/>
                        </a:lnTo>
                        <a:lnTo>
                          <a:pt x="16" y="357"/>
                        </a:lnTo>
                        <a:lnTo>
                          <a:pt x="0" y="416"/>
                        </a:lnTo>
                        <a:lnTo>
                          <a:pt x="8" y="406"/>
                        </a:lnTo>
                        <a:lnTo>
                          <a:pt x="30" y="378"/>
                        </a:lnTo>
                        <a:lnTo>
                          <a:pt x="62" y="334"/>
                        </a:lnTo>
                        <a:lnTo>
                          <a:pt x="99" y="280"/>
                        </a:lnTo>
                        <a:lnTo>
                          <a:pt x="135" y="216"/>
                        </a:lnTo>
                        <a:lnTo>
                          <a:pt x="168" y="145"/>
                        </a:lnTo>
                        <a:lnTo>
                          <a:pt x="193" y="72"/>
                        </a:lnTo>
                        <a:lnTo>
                          <a:pt x="20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94"/>
                  <p:cNvSpPr/>
                  <p:nvPr/>
                </p:nvSpPr>
                <p:spPr>
                  <a:xfrm>
                    <a:off x="1433520" y="2407320"/>
                    <a:ext cx="78120" cy="29520"/>
                  </a:xfrm>
                  <a:custGeom>
                    <a:avLst/>
                    <a:gdLst>
                      <a:gd name="textAreaLeft" fmla="*/ 0 w 78120"/>
                      <a:gd name="textAreaRight" fmla="*/ 78480 w 78120"/>
                      <a:gd name="textAreaTop" fmla="*/ 0 h 29520"/>
                      <a:gd name="textAreaBottom" fmla="*/ 29880 h 29520"/>
                    </a:gdLst>
                    <a:ahLst/>
                    <a:rect l="textAreaLeft" t="textAreaTop" r="textAreaRight" b="textAreaBottom"/>
                    <a:pathLst>
                      <a:path w="419" h="168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9" y="5"/>
                        </a:lnTo>
                        <a:lnTo>
                          <a:pt x="41" y="10"/>
                        </a:lnTo>
                        <a:lnTo>
                          <a:pt x="69" y="16"/>
                        </a:lnTo>
                        <a:lnTo>
                          <a:pt x="102" y="25"/>
                        </a:lnTo>
                        <a:lnTo>
                          <a:pt x="138" y="33"/>
                        </a:lnTo>
                        <a:lnTo>
                          <a:pt x="177" y="44"/>
                        </a:lnTo>
                        <a:lnTo>
                          <a:pt x="218" y="54"/>
                        </a:lnTo>
                        <a:lnTo>
                          <a:pt x="259" y="67"/>
                        </a:lnTo>
                        <a:lnTo>
                          <a:pt x="297" y="79"/>
                        </a:lnTo>
                        <a:lnTo>
                          <a:pt x="333" y="92"/>
                        </a:lnTo>
                        <a:lnTo>
                          <a:pt x="364" y="105"/>
                        </a:lnTo>
                        <a:lnTo>
                          <a:pt x="389" y="118"/>
                        </a:lnTo>
                        <a:lnTo>
                          <a:pt x="408" y="132"/>
                        </a:lnTo>
                        <a:lnTo>
                          <a:pt x="417" y="143"/>
                        </a:lnTo>
                        <a:lnTo>
                          <a:pt x="419" y="155"/>
                        </a:lnTo>
                        <a:lnTo>
                          <a:pt x="411" y="163"/>
                        </a:lnTo>
                        <a:lnTo>
                          <a:pt x="397" y="168"/>
                        </a:lnTo>
                        <a:lnTo>
                          <a:pt x="377" y="168"/>
                        </a:lnTo>
                        <a:lnTo>
                          <a:pt x="350" y="166"/>
                        </a:lnTo>
                        <a:lnTo>
                          <a:pt x="322" y="160"/>
                        </a:lnTo>
                        <a:lnTo>
                          <a:pt x="289" y="151"/>
                        </a:lnTo>
                        <a:lnTo>
                          <a:pt x="254" y="140"/>
                        </a:lnTo>
                        <a:lnTo>
                          <a:pt x="218" y="127"/>
                        </a:lnTo>
                        <a:lnTo>
                          <a:pt x="182" y="112"/>
                        </a:lnTo>
                        <a:lnTo>
                          <a:pt x="147" y="97"/>
                        </a:lnTo>
                        <a:lnTo>
                          <a:pt x="113" y="81"/>
                        </a:lnTo>
                        <a:lnTo>
                          <a:pt x="81" y="62"/>
                        </a:lnTo>
                        <a:lnTo>
                          <a:pt x="53" y="46"/>
                        </a:lnTo>
                        <a:lnTo>
                          <a:pt x="30" y="30"/>
                        </a:lnTo>
                        <a:lnTo>
                          <a:pt x="12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43" name="308 Grupo"/>
          <p:cNvGrpSpPr/>
          <p:nvPr/>
        </p:nvGrpSpPr>
        <p:grpSpPr>
          <a:xfrm>
            <a:off x="3805200" y="3062160"/>
            <a:ext cx="826200" cy="918000"/>
            <a:chOff x="3805200" y="3062160"/>
            <a:chExt cx="826200" cy="918000"/>
          </a:xfrm>
        </p:grpSpPr>
        <p:sp>
          <p:nvSpPr>
            <p:cNvPr id="444" name="Rectangle 114"/>
            <p:cNvSpPr/>
            <p:nvPr/>
          </p:nvSpPr>
          <p:spPr>
            <a:xfrm>
              <a:off x="3835080" y="3733920"/>
              <a:ext cx="79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Futura Bk BT"/>
                </a:rPr>
                <a:t>Networks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45" name="Group 115"/>
            <p:cNvGrpSpPr/>
            <p:nvPr/>
          </p:nvGrpSpPr>
          <p:grpSpPr>
            <a:xfrm>
              <a:off x="3805200" y="3062160"/>
              <a:ext cx="772560" cy="653040"/>
              <a:chOff x="3805200" y="3062160"/>
              <a:chExt cx="772560" cy="653040"/>
            </a:xfrm>
          </p:grpSpPr>
          <p:sp>
            <p:nvSpPr>
              <p:cNvPr id="446" name="AutoShape 116"/>
              <p:cNvSpPr/>
              <p:nvPr/>
            </p:nvSpPr>
            <p:spPr>
              <a:xfrm>
                <a:off x="3805200" y="3062160"/>
                <a:ext cx="772560" cy="653040"/>
              </a:xfrm>
              <a:prstGeom prst="roundRect">
                <a:avLst>
                  <a:gd name="adj" fmla="val 16667"/>
                </a:avLst>
              </a:prstGeom>
              <a:solidFill>
                <a:srgbClr val="f41e00">
                  <a:alpha val="9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447" name="Group 117"/>
              <p:cNvGrpSpPr/>
              <p:nvPr/>
            </p:nvGrpSpPr>
            <p:grpSpPr>
              <a:xfrm>
                <a:off x="3805200" y="3062160"/>
                <a:ext cx="772200" cy="620280"/>
                <a:chOff x="3805200" y="3062160"/>
                <a:chExt cx="772200" cy="620280"/>
              </a:xfrm>
            </p:grpSpPr>
            <p:cxnSp>
              <p:nvCxnSpPr>
                <p:cNvPr id="448" name="AutoShape 118"/>
                <p:cNvCxnSpPr/>
                <p:nvPr/>
              </p:nvCxnSpPr>
              <p:spPr>
                <a:xfrm>
                  <a:off x="4224960" y="3307320"/>
                  <a:ext cx="108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449" name="Group 119"/>
                <p:cNvGrpSpPr/>
                <p:nvPr/>
              </p:nvGrpSpPr>
              <p:grpSpPr>
                <a:xfrm>
                  <a:off x="4079160" y="3062160"/>
                  <a:ext cx="270720" cy="195840"/>
                  <a:chOff x="4079160" y="3062160"/>
                  <a:chExt cx="270720" cy="195840"/>
                </a:xfrm>
              </p:grpSpPr>
              <p:sp>
                <p:nvSpPr>
                  <p:cNvPr id="450" name="Freeform 120"/>
                  <p:cNvSpPr/>
                  <p:nvPr/>
                </p:nvSpPr>
                <p:spPr>
                  <a:xfrm>
                    <a:off x="4141440" y="3113280"/>
                    <a:ext cx="86760" cy="4320"/>
                  </a:xfrm>
                  <a:custGeom>
                    <a:avLst/>
                    <a:gdLst>
                      <a:gd name="textAreaLeft" fmla="*/ 0 w 86760"/>
                      <a:gd name="textAreaRight" fmla="*/ 86760 w 8676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601" h="34">
                        <a:moveTo>
                          <a:pt x="9" y="0"/>
                        </a:move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5" y="0"/>
                        </a:lnTo>
                        <a:lnTo>
                          <a:pt x="45" y="1"/>
                        </a:lnTo>
                        <a:lnTo>
                          <a:pt x="54" y="1"/>
                        </a:lnTo>
                        <a:lnTo>
                          <a:pt x="63" y="1"/>
                        </a:lnTo>
                        <a:lnTo>
                          <a:pt x="71" y="3"/>
                        </a:lnTo>
                        <a:lnTo>
                          <a:pt x="81" y="3"/>
                        </a:lnTo>
                        <a:lnTo>
                          <a:pt x="89" y="3"/>
                        </a:lnTo>
                        <a:lnTo>
                          <a:pt x="98" y="3"/>
                        </a:lnTo>
                        <a:lnTo>
                          <a:pt x="106" y="4"/>
                        </a:lnTo>
                        <a:lnTo>
                          <a:pt x="117" y="4"/>
                        </a:lnTo>
                        <a:lnTo>
                          <a:pt x="124" y="4"/>
                        </a:lnTo>
                        <a:lnTo>
                          <a:pt x="133" y="4"/>
                        </a:lnTo>
                        <a:lnTo>
                          <a:pt x="143" y="4"/>
                        </a:lnTo>
                        <a:lnTo>
                          <a:pt x="152" y="5"/>
                        </a:lnTo>
                        <a:lnTo>
                          <a:pt x="159" y="5"/>
                        </a:lnTo>
                        <a:lnTo>
                          <a:pt x="169" y="5"/>
                        </a:lnTo>
                        <a:lnTo>
                          <a:pt x="178" y="5"/>
                        </a:lnTo>
                        <a:lnTo>
                          <a:pt x="187" y="5"/>
                        </a:lnTo>
                        <a:lnTo>
                          <a:pt x="195" y="5"/>
                        </a:lnTo>
                        <a:lnTo>
                          <a:pt x="204" y="5"/>
                        </a:lnTo>
                        <a:lnTo>
                          <a:pt x="213" y="5"/>
                        </a:lnTo>
                        <a:lnTo>
                          <a:pt x="222" y="7"/>
                        </a:lnTo>
                        <a:lnTo>
                          <a:pt x="230" y="7"/>
                        </a:lnTo>
                        <a:lnTo>
                          <a:pt x="239" y="7"/>
                        </a:lnTo>
                        <a:lnTo>
                          <a:pt x="248" y="7"/>
                        </a:lnTo>
                        <a:lnTo>
                          <a:pt x="257" y="7"/>
                        </a:lnTo>
                        <a:lnTo>
                          <a:pt x="266" y="7"/>
                        </a:lnTo>
                        <a:lnTo>
                          <a:pt x="274" y="7"/>
                        </a:lnTo>
                        <a:lnTo>
                          <a:pt x="283" y="7"/>
                        </a:lnTo>
                        <a:lnTo>
                          <a:pt x="292" y="7"/>
                        </a:lnTo>
                        <a:lnTo>
                          <a:pt x="302" y="7"/>
                        </a:lnTo>
                        <a:lnTo>
                          <a:pt x="309" y="7"/>
                        </a:lnTo>
                        <a:lnTo>
                          <a:pt x="318" y="7"/>
                        </a:lnTo>
                        <a:lnTo>
                          <a:pt x="328" y="7"/>
                        </a:lnTo>
                        <a:lnTo>
                          <a:pt x="335" y="7"/>
                        </a:lnTo>
                        <a:lnTo>
                          <a:pt x="344" y="7"/>
                        </a:lnTo>
                        <a:lnTo>
                          <a:pt x="354" y="7"/>
                        </a:lnTo>
                        <a:lnTo>
                          <a:pt x="363" y="7"/>
                        </a:lnTo>
                        <a:lnTo>
                          <a:pt x="370" y="7"/>
                        </a:lnTo>
                        <a:lnTo>
                          <a:pt x="380" y="7"/>
                        </a:lnTo>
                        <a:lnTo>
                          <a:pt x="389" y="7"/>
                        </a:lnTo>
                        <a:lnTo>
                          <a:pt x="396" y="7"/>
                        </a:lnTo>
                        <a:lnTo>
                          <a:pt x="406" y="7"/>
                        </a:lnTo>
                        <a:lnTo>
                          <a:pt x="415" y="7"/>
                        </a:lnTo>
                        <a:lnTo>
                          <a:pt x="424" y="7"/>
                        </a:lnTo>
                        <a:lnTo>
                          <a:pt x="433" y="8"/>
                        </a:lnTo>
                        <a:lnTo>
                          <a:pt x="441" y="7"/>
                        </a:lnTo>
                        <a:lnTo>
                          <a:pt x="450" y="7"/>
                        </a:lnTo>
                        <a:lnTo>
                          <a:pt x="459" y="7"/>
                        </a:lnTo>
                        <a:lnTo>
                          <a:pt x="468" y="7"/>
                        </a:lnTo>
                        <a:lnTo>
                          <a:pt x="476" y="7"/>
                        </a:lnTo>
                        <a:lnTo>
                          <a:pt x="485" y="7"/>
                        </a:lnTo>
                        <a:lnTo>
                          <a:pt x="493" y="7"/>
                        </a:lnTo>
                        <a:lnTo>
                          <a:pt x="504" y="7"/>
                        </a:lnTo>
                        <a:lnTo>
                          <a:pt x="511" y="7"/>
                        </a:lnTo>
                        <a:lnTo>
                          <a:pt x="520" y="7"/>
                        </a:lnTo>
                        <a:lnTo>
                          <a:pt x="528" y="7"/>
                        </a:lnTo>
                        <a:lnTo>
                          <a:pt x="537" y="7"/>
                        </a:lnTo>
                        <a:lnTo>
                          <a:pt x="546" y="7"/>
                        </a:lnTo>
                        <a:lnTo>
                          <a:pt x="556" y="7"/>
                        </a:lnTo>
                        <a:lnTo>
                          <a:pt x="565" y="7"/>
                        </a:lnTo>
                        <a:lnTo>
                          <a:pt x="574" y="7"/>
                        </a:lnTo>
                        <a:lnTo>
                          <a:pt x="577" y="7"/>
                        </a:lnTo>
                        <a:lnTo>
                          <a:pt x="580" y="8"/>
                        </a:lnTo>
                        <a:lnTo>
                          <a:pt x="583" y="9"/>
                        </a:lnTo>
                        <a:lnTo>
                          <a:pt x="588" y="9"/>
                        </a:lnTo>
                        <a:lnTo>
                          <a:pt x="591" y="11"/>
                        </a:lnTo>
                        <a:lnTo>
                          <a:pt x="594" y="12"/>
                        </a:lnTo>
                        <a:lnTo>
                          <a:pt x="597" y="12"/>
                        </a:lnTo>
                        <a:lnTo>
                          <a:pt x="601" y="14"/>
                        </a:lnTo>
                        <a:lnTo>
                          <a:pt x="600" y="18"/>
                        </a:lnTo>
                        <a:lnTo>
                          <a:pt x="597" y="23"/>
                        </a:lnTo>
                        <a:lnTo>
                          <a:pt x="595" y="27"/>
                        </a:lnTo>
                        <a:lnTo>
                          <a:pt x="594" y="31"/>
                        </a:lnTo>
                        <a:lnTo>
                          <a:pt x="585" y="31"/>
                        </a:lnTo>
                        <a:lnTo>
                          <a:pt x="579" y="31"/>
                        </a:lnTo>
                        <a:lnTo>
                          <a:pt x="569" y="31"/>
                        </a:lnTo>
                        <a:lnTo>
                          <a:pt x="562" y="31"/>
                        </a:lnTo>
                        <a:lnTo>
                          <a:pt x="554" y="31"/>
                        </a:lnTo>
                        <a:lnTo>
                          <a:pt x="546" y="31"/>
                        </a:lnTo>
                        <a:lnTo>
                          <a:pt x="539" y="31"/>
                        </a:lnTo>
                        <a:lnTo>
                          <a:pt x="531" y="33"/>
                        </a:lnTo>
                        <a:lnTo>
                          <a:pt x="523" y="33"/>
                        </a:lnTo>
                        <a:lnTo>
                          <a:pt x="516" y="33"/>
                        </a:lnTo>
                        <a:lnTo>
                          <a:pt x="508" y="33"/>
                        </a:lnTo>
                        <a:lnTo>
                          <a:pt x="501" y="33"/>
                        </a:lnTo>
                        <a:lnTo>
                          <a:pt x="493" y="33"/>
                        </a:lnTo>
                        <a:lnTo>
                          <a:pt x="485" y="33"/>
                        </a:lnTo>
                        <a:lnTo>
                          <a:pt x="478" y="33"/>
                        </a:lnTo>
                        <a:lnTo>
                          <a:pt x="470" y="33"/>
                        </a:lnTo>
                        <a:lnTo>
                          <a:pt x="462" y="33"/>
                        </a:lnTo>
                        <a:lnTo>
                          <a:pt x="455" y="33"/>
                        </a:lnTo>
                        <a:lnTo>
                          <a:pt x="447" y="33"/>
                        </a:lnTo>
                        <a:lnTo>
                          <a:pt x="439" y="33"/>
                        </a:lnTo>
                        <a:lnTo>
                          <a:pt x="432" y="33"/>
                        </a:lnTo>
                        <a:lnTo>
                          <a:pt x="424" y="33"/>
                        </a:lnTo>
                        <a:lnTo>
                          <a:pt x="416" y="33"/>
                        </a:lnTo>
                        <a:lnTo>
                          <a:pt x="409" y="33"/>
                        </a:lnTo>
                        <a:lnTo>
                          <a:pt x="401" y="33"/>
                        </a:lnTo>
                        <a:lnTo>
                          <a:pt x="393" y="33"/>
                        </a:lnTo>
                        <a:lnTo>
                          <a:pt x="386" y="33"/>
                        </a:lnTo>
                        <a:lnTo>
                          <a:pt x="378" y="33"/>
                        </a:lnTo>
                        <a:lnTo>
                          <a:pt x="370" y="33"/>
                        </a:lnTo>
                        <a:lnTo>
                          <a:pt x="363" y="33"/>
                        </a:lnTo>
                        <a:lnTo>
                          <a:pt x="357" y="33"/>
                        </a:lnTo>
                        <a:lnTo>
                          <a:pt x="349" y="34"/>
                        </a:lnTo>
                        <a:lnTo>
                          <a:pt x="340" y="33"/>
                        </a:lnTo>
                        <a:lnTo>
                          <a:pt x="332" y="33"/>
                        </a:lnTo>
                        <a:lnTo>
                          <a:pt x="325" y="33"/>
                        </a:lnTo>
                        <a:lnTo>
                          <a:pt x="318" y="33"/>
                        </a:lnTo>
                        <a:lnTo>
                          <a:pt x="309" y="33"/>
                        </a:lnTo>
                        <a:lnTo>
                          <a:pt x="302" y="33"/>
                        </a:lnTo>
                        <a:lnTo>
                          <a:pt x="294" y="33"/>
                        </a:lnTo>
                        <a:lnTo>
                          <a:pt x="288" y="33"/>
                        </a:lnTo>
                        <a:lnTo>
                          <a:pt x="279" y="31"/>
                        </a:lnTo>
                        <a:lnTo>
                          <a:pt x="271" y="31"/>
                        </a:lnTo>
                        <a:lnTo>
                          <a:pt x="263" y="31"/>
                        </a:lnTo>
                        <a:lnTo>
                          <a:pt x="257" y="31"/>
                        </a:lnTo>
                        <a:lnTo>
                          <a:pt x="248" y="31"/>
                        </a:lnTo>
                        <a:lnTo>
                          <a:pt x="240" y="31"/>
                        </a:lnTo>
                        <a:lnTo>
                          <a:pt x="233" y="31"/>
                        </a:lnTo>
                        <a:lnTo>
                          <a:pt x="225" y="31"/>
                        </a:lnTo>
                        <a:lnTo>
                          <a:pt x="218" y="31"/>
                        </a:lnTo>
                        <a:lnTo>
                          <a:pt x="210" y="31"/>
                        </a:lnTo>
                        <a:lnTo>
                          <a:pt x="202" y="31"/>
                        </a:lnTo>
                        <a:lnTo>
                          <a:pt x="195" y="31"/>
                        </a:lnTo>
                        <a:lnTo>
                          <a:pt x="187" y="30"/>
                        </a:lnTo>
                        <a:lnTo>
                          <a:pt x="179" y="30"/>
                        </a:lnTo>
                        <a:lnTo>
                          <a:pt x="172" y="30"/>
                        </a:lnTo>
                        <a:lnTo>
                          <a:pt x="164" y="30"/>
                        </a:lnTo>
                        <a:lnTo>
                          <a:pt x="156" y="30"/>
                        </a:lnTo>
                        <a:lnTo>
                          <a:pt x="149" y="30"/>
                        </a:lnTo>
                        <a:lnTo>
                          <a:pt x="141" y="30"/>
                        </a:lnTo>
                        <a:lnTo>
                          <a:pt x="133" y="30"/>
                        </a:lnTo>
                        <a:lnTo>
                          <a:pt x="126" y="29"/>
                        </a:lnTo>
                        <a:lnTo>
                          <a:pt x="120" y="29"/>
                        </a:lnTo>
                        <a:lnTo>
                          <a:pt x="112" y="29"/>
                        </a:lnTo>
                        <a:lnTo>
                          <a:pt x="104" y="29"/>
                        </a:lnTo>
                        <a:lnTo>
                          <a:pt x="100" y="27"/>
                        </a:lnTo>
                        <a:lnTo>
                          <a:pt x="97" y="27"/>
                        </a:lnTo>
                        <a:lnTo>
                          <a:pt x="92" y="26"/>
                        </a:lnTo>
                        <a:lnTo>
                          <a:pt x="89" y="26"/>
                        </a:lnTo>
                        <a:lnTo>
                          <a:pt x="83" y="26"/>
                        </a:lnTo>
                        <a:lnTo>
                          <a:pt x="77" y="26"/>
                        </a:lnTo>
                        <a:lnTo>
                          <a:pt x="72" y="26"/>
                        </a:lnTo>
                        <a:lnTo>
                          <a:pt x="69" y="26"/>
                        </a:lnTo>
                        <a:lnTo>
                          <a:pt x="65" y="26"/>
                        </a:lnTo>
                        <a:lnTo>
                          <a:pt x="61" y="27"/>
                        </a:lnTo>
                        <a:lnTo>
                          <a:pt x="55" y="27"/>
                        </a:lnTo>
                        <a:lnTo>
                          <a:pt x="49" y="29"/>
                        </a:lnTo>
                        <a:lnTo>
                          <a:pt x="45" y="29"/>
                        </a:lnTo>
                        <a:lnTo>
                          <a:pt x="42" y="29"/>
                        </a:lnTo>
                        <a:lnTo>
                          <a:pt x="39" y="29"/>
                        </a:lnTo>
                        <a:lnTo>
                          <a:pt x="35" y="29"/>
                        </a:lnTo>
                        <a:lnTo>
                          <a:pt x="28" y="29"/>
                        </a:lnTo>
                        <a:lnTo>
                          <a:pt x="23" y="27"/>
                        </a:lnTo>
                        <a:lnTo>
                          <a:pt x="17" y="25"/>
                        </a:lnTo>
                        <a:lnTo>
                          <a:pt x="11" y="23"/>
                        </a:lnTo>
                        <a:lnTo>
                          <a:pt x="5" y="19"/>
                        </a:lnTo>
                        <a:lnTo>
                          <a:pt x="0" y="16"/>
                        </a:lnTo>
                        <a:lnTo>
                          <a:pt x="3" y="11"/>
                        </a:lnTo>
                        <a:lnTo>
                          <a:pt x="6" y="7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Freeform 121"/>
                  <p:cNvSpPr/>
                  <p:nvPr/>
                </p:nvSpPr>
                <p:spPr>
                  <a:xfrm>
                    <a:off x="4221720" y="3086280"/>
                    <a:ext cx="36000" cy="255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249" h="195">
                        <a:moveTo>
                          <a:pt x="5" y="0"/>
                        </a:moveTo>
                        <a:lnTo>
                          <a:pt x="8" y="2"/>
                        </a:lnTo>
                        <a:lnTo>
                          <a:pt x="12" y="3"/>
                        </a:lnTo>
                        <a:lnTo>
                          <a:pt x="15" y="6"/>
                        </a:lnTo>
                        <a:lnTo>
                          <a:pt x="20" y="9"/>
                        </a:lnTo>
                        <a:lnTo>
                          <a:pt x="25" y="10"/>
                        </a:lnTo>
                        <a:lnTo>
                          <a:pt x="28" y="13"/>
                        </a:lnTo>
                        <a:lnTo>
                          <a:pt x="32" y="14"/>
                        </a:lnTo>
                        <a:lnTo>
                          <a:pt x="37" y="17"/>
                        </a:lnTo>
                        <a:lnTo>
                          <a:pt x="40" y="20"/>
                        </a:lnTo>
                        <a:lnTo>
                          <a:pt x="44" y="21"/>
                        </a:lnTo>
                        <a:lnTo>
                          <a:pt x="47" y="24"/>
                        </a:lnTo>
                        <a:lnTo>
                          <a:pt x="52" y="26"/>
                        </a:lnTo>
                        <a:lnTo>
                          <a:pt x="57" y="28"/>
                        </a:lnTo>
                        <a:lnTo>
                          <a:pt x="60" y="32"/>
                        </a:lnTo>
                        <a:lnTo>
                          <a:pt x="64" y="33"/>
                        </a:lnTo>
                        <a:lnTo>
                          <a:pt x="69" y="36"/>
                        </a:lnTo>
                        <a:lnTo>
                          <a:pt x="72" y="39"/>
                        </a:lnTo>
                        <a:lnTo>
                          <a:pt x="77" y="41"/>
                        </a:lnTo>
                        <a:lnTo>
                          <a:pt x="80" y="44"/>
                        </a:lnTo>
                        <a:lnTo>
                          <a:pt x="84" y="47"/>
                        </a:lnTo>
                        <a:lnTo>
                          <a:pt x="87" y="48"/>
                        </a:lnTo>
                        <a:lnTo>
                          <a:pt x="92" y="51"/>
                        </a:lnTo>
                        <a:lnTo>
                          <a:pt x="95" y="54"/>
                        </a:lnTo>
                        <a:lnTo>
                          <a:pt x="99" y="57"/>
                        </a:lnTo>
                        <a:lnTo>
                          <a:pt x="104" y="59"/>
                        </a:lnTo>
                        <a:lnTo>
                          <a:pt x="107" y="62"/>
                        </a:lnTo>
                        <a:lnTo>
                          <a:pt x="110" y="65"/>
                        </a:lnTo>
                        <a:lnTo>
                          <a:pt x="115" y="68"/>
                        </a:lnTo>
                        <a:lnTo>
                          <a:pt x="118" y="70"/>
                        </a:lnTo>
                        <a:lnTo>
                          <a:pt x="122" y="73"/>
                        </a:lnTo>
                        <a:lnTo>
                          <a:pt x="125" y="76"/>
                        </a:lnTo>
                        <a:lnTo>
                          <a:pt x="130" y="80"/>
                        </a:lnTo>
                        <a:lnTo>
                          <a:pt x="135" y="81"/>
                        </a:lnTo>
                        <a:lnTo>
                          <a:pt x="138" y="84"/>
                        </a:lnTo>
                        <a:lnTo>
                          <a:pt x="141" y="88"/>
                        </a:lnTo>
                        <a:lnTo>
                          <a:pt x="145" y="91"/>
                        </a:lnTo>
                        <a:lnTo>
                          <a:pt x="148" y="94"/>
                        </a:lnTo>
                        <a:lnTo>
                          <a:pt x="153" y="96"/>
                        </a:lnTo>
                        <a:lnTo>
                          <a:pt x="156" y="99"/>
                        </a:lnTo>
                        <a:lnTo>
                          <a:pt x="161" y="103"/>
                        </a:lnTo>
                        <a:lnTo>
                          <a:pt x="164" y="106"/>
                        </a:lnTo>
                        <a:lnTo>
                          <a:pt x="168" y="109"/>
                        </a:lnTo>
                        <a:lnTo>
                          <a:pt x="171" y="111"/>
                        </a:lnTo>
                        <a:lnTo>
                          <a:pt x="176" y="114"/>
                        </a:lnTo>
                        <a:lnTo>
                          <a:pt x="179" y="117"/>
                        </a:lnTo>
                        <a:lnTo>
                          <a:pt x="184" y="120"/>
                        </a:lnTo>
                        <a:lnTo>
                          <a:pt x="187" y="124"/>
                        </a:lnTo>
                        <a:lnTo>
                          <a:pt x="190" y="127"/>
                        </a:lnTo>
                        <a:lnTo>
                          <a:pt x="193" y="129"/>
                        </a:lnTo>
                        <a:lnTo>
                          <a:pt x="197" y="132"/>
                        </a:lnTo>
                        <a:lnTo>
                          <a:pt x="200" y="135"/>
                        </a:lnTo>
                        <a:lnTo>
                          <a:pt x="205" y="139"/>
                        </a:lnTo>
                        <a:lnTo>
                          <a:pt x="208" y="142"/>
                        </a:lnTo>
                        <a:lnTo>
                          <a:pt x="213" y="144"/>
                        </a:lnTo>
                        <a:lnTo>
                          <a:pt x="216" y="149"/>
                        </a:lnTo>
                        <a:lnTo>
                          <a:pt x="220" y="151"/>
                        </a:lnTo>
                        <a:lnTo>
                          <a:pt x="223" y="154"/>
                        </a:lnTo>
                        <a:lnTo>
                          <a:pt x="226" y="158"/>
                        </a:lnTo>
                        <a:lnTo>
                          <a:pt x="231" y="161"/>
                        </a:lnTo>
                        <a:lnTo>
                          <a:pt x="234" y="164"/>
                        </a:lnTo>
                        <a:lnTo>
                          <a:pt x="239" y="168"/>
                        </a:lnTo>
                        <a:lnTo>
                          <a:pt x="242" y="171"/>
                        </a:lnTo>
                        <a:lnTo>
                          <a:pt x="246" y="173"/>
                        </a:lnTo>
                        <a:lnTo>
                          <a:pt x="249" y="177"/>
                        </a:lnTo>
                        <a:lnTo>
                          <a:pt x="246" y="180"/>
                        </a:lnTo>
                        <a:lnTo>
                          <a:pt x="245" y="186"/>
                        </a:lnTo>
                        <a:lnTo>
                          <a:pt x="240" y="190"/>
                        </a:lnTo>
                        <a:lnTo>
                          <a:pt x="239" y="195"/>
                        </a:lnTo>
                        <a:lnTo>
                          <a:pt x="234" y="192"/>
                        </a:lnTo>
                        <a:lnTo>
                          <a:pt x="231" y="191"/>
                        </a:lnTo>
                        <a:lnTo>
                          <a:pt x="226" y="188"/>
                        </a:lnTo>
                        <a:lnTo>
                          <a:pt x="222" y="187"/>
                        </a:lnTo>
                        <a:lnTo>
                          <a:pt x="219" y="184"/>
                        </a:lnTo>
                        <a:lnTo>
                          <a:pt x="214" y="183"/>
                        </a:lnTo>
                        <a:lnTo>
                          <a:pt x="211" y="180"/>
                        </a:lnTo>
                        <a:lnTo>
                          <a:pt x="207" y="177"/>
                        </a:lnTo>
                        <a:lnTo>
                          <a:pt x="203" y="175"/>
                        </a:lnTo>
                        <a:lnTo>
                          <a:pt x="200" y="173"/>
                        </a:lnTo>
                        <a:lnTo>
                          <a:pt x="196" y="171"/>
                        </a:lnTo>
                        <a:lnTo>
                          <a:pt x="193" y="168"/>
                        </a:lnTo>
                        <a:lnTo>
                          <a:pt x="188" y="165"/>
                        </a:lnTo>
                        <a:lnTo>
                          <a:pt x="185" y="162"/>
                        </a:lnTo>
                        <a:lnTo>
                          <a:pt x="181" y="160"/>
                        </a:lnTo>
                        <a:lnTo>
                          <a:pt x="177" y="158"/>
                        </a:lnTo>
                        <a:lnTo>
                          <a:pt x="174" y="154"/>
                        </a:lnTo>
                        <a:lnTo>
                          <a:pt x="170" y="151"/>
                        </a:lnTo>
                        <a:lnTo>
                          <a:pt x="167" y="149"/>
                        </a:lnTo>
                        <a:lnTo>
                          <a:pt x="162" y="146"/>
                        </a:lnTo>
                        <a:lnTo>
                          <a:pt x="159" y="143"/>
                        </a:lnTo>
                        <a:lnTo>
                          <a:pt x="156" y="140"/>
                        </a:lnTo>
                        <a:lnTo>
                          <a:pt x="151" y="138"/>
                        </a:lnTo>
                        <a:lnTo>
                          <a:pt x="148" y="135"/>
                        </a:lnTo>
                        <a:lnTo>
                          <a:pt x="145" y="131"/>
                        </a:lnTo>
                        <a:lnTo>
                          <a:pt x="141" y="128"/>
                        </a:lnTo>
                        <a:lnTo>
                          <a:pt x="138" y="125"/>
                        </a:lnTo>
                        <a:lnTo>
                          <a:pt x="135" y="124"/>
                        </a:lnTo>
                        <a:lnTo>
                          <a:pt x="132" y="120"/>
                        </a:lnTo>
                        <a:lnTo>
                          <a:pt x="127" y="117"/>
                        </a:lnTo>
                        <a:lnTo>
                          <a:pt x="124" y="114"/>
                        </a:lnTo>
                        <a:lnTo>
                          <a:pt x="121" y="113"/>
                        </a:lnTo>
                        <a:lnTo>
                          <a:pt x="118" y="109"/>
                        </a:lnTo>
                        <a:lnTo>
                          <a:pt x="113" y="106"/>
                        </a:lnTo>
                        <a:lnTo>
                          <a:pt x="110" y="103"/>
                        </a:lnTo>
                        <a:lnTo>
                          <a:pt x="107" y="101"/>
                        </a:lnTo>
                        <a:lnTo>
                          <a:pt x="104" y="96"/>
                        </a:lnTo>
                        <a:lnTo>
                          <a:pt x="99" y="94"/>
                        </a:lnTo>
                        <a:lnTo>
                          <a:pt x="96" y="91"/>
                        </a:lnTo>
                        <a:lnTo>
                          <a:pt x="93" y="88"/>
                        </a:lnTo>
                        <a:lnTo>
                          <a:pt x="89" y="85"/>
                        </a:lnTo>
                        <a:lnTo>
                          <a:pt x="86" y="83"/>
                        </a:lnTo>
                        <a:lnTo>
                          <a:pt x="81" y="80"/>
                        </a:lnTo>
                        <a:lnTo>
                          <a:pt x="78" y="77"/>
                        </a:lnTo>
                        <a:lnTo>
                          <a:pt x="75" y="74"/>
                        </a:lnTo>
                        <a:lnTo>
                          <a:pt x="72" y="72"/>
                        </a:lnTo>
                        <a:lnTo>
                          <a:pt x="67" y="69"/>
                        </a:lnTo>
                        <a:lnTo>
                          <a:pt x="64" y="68"/>
                        </a:lnTo>
                        <a:lnTo>
                          <a:pt x="61" y="63"/>
                        </a:lnTo>
                        <a:lnTo>
                          <a:pt x="57" y="62"/>
                        </a:lnTo>
                        <a:lnTo>
                          <a:pt x="54" y="59"/>
                        </a:lnTo>
                        <a:lnTo>
                          <a:pt x="49" y="57"/>
                        </a:lnTo>
                        <a:lnTo>
                          <a:pt x="46" y="54"/>
                        </a:lnTo>
                        <a:lnTo>
                          <a:pt x="43" y="52"/>
                        </a:lnTo>
                        <a:lnTo>
                          <a:pt x="38" y="50"/>
                        </a:lnTo>
                        <a:lnTo>
                          <a:pt x="35" y="47"/>
                        </a:lnTo>
                        <a:lnTo>
                          <a:pt x="31" y="46"/>
                        </a:lnTo>
                        <a:lnTo>
                          <a:pt x="28" y="43"/>
                        </a:lnTo>
                        <a:lnTo>
                          <a:pt x="23" y="40"/>
                        </a:lnTo>
                        <a:lnTo>
                          <a:pt x="20" y="39"/>
                        </a:lnTo>
                        <a:lnTo>
                          <a:pt x="15" y="37"/>
                        </a:lnTo>
                        <a:lnTo>
                          <a:pt x="12" y="36"/>
                        </a:lnTo>
                        <a:lnTo>
                          <a:pt x="8" y="35"/>
                        </a:lnTo>
                        <a:lnTo>
                          <a:pt x="5" y="32"/>
                        </a:lnTo>
                        <a:lnTo>
                          <a:pt x="3" y="28"/>
                        </a:lnTo>
                        <a:lnTo>
                          <a:pt x="2" y="25"/>
                        </a:ln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2" y="6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122"/>
                  <p:cNvSpPr/>
                  <p:nvPr/>
                </p:nvSpPr>
                <p:spPr>
                  <a:xfrm>
                    <a:off x="4226040" y="3126240"/>
                    <a:ext cx="6840" cy="6192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49" h="474">
                        <a:moveTo>
                          <a:pt x="9" y="0"/>
                        </a:moveTo>
                        <a:lnTo>
                          <a:pt x="12" y="3"/>
                        </a:lnTo>
                        <a:lnTo>
                          <a:pt x="15" y="6"/>
                        </a:lnTo>
                        <a:lnTo>
                          <a:pt x="16" y="8"/>
                        </a:lnTo>
                        <a:lnTo>
                          <a:pt x="19" y="12"/>
                        </a:lnTo>
                        <a:lnTo>
                          <a:pt x="21" y="17"/>
                        </a:lnTo>
                        <a:lnTo>
                          <a:pt x="23" y="21"/>
                        </a:lnTo>
                        <a:lnTo>
                          <a:pt x="24" y="25"/>
                        </a:lnTo>
                        <a:lnTo>
                          <a:pt x="26" y="30"/>
                        </a:lnTo>
                        <a:lnTo>
                          <a:pt x="27" y="33"/>
                        </a:lnTo>
                        <a:lnTo>
                          <a:pt x="27" y="38"/>
                        </a:lnTo>
                        <a:lnTo>
                          <a:pt x="29" y="43"/>
                        </a:lnTo>
                        <a:lnTo>
                          <a:pt x="29" y="47"/>
                        </a:lnTo>
                        <a:lnTo>
                          <a:pt x="29" y="52"/>
                        </a:lnTo>
                        <a:lnTo>
                          <a:pt x="30" y="56"/>
                        </a:lnTo>
                        <a:lnTo>
                          <a:pt x="30" y="62"/>
                        </a:lnTo>
                        <a:lnTo>
                          <a:pt x="30" y="67"/>
                        </a:lnTo>
                        <a:lnTo>
                          <a:pt x="30" y="71"/>
                        </a:lnTo>
                        <a:lnTo>
                          <a:pt x="30" y="77"/>
                        </a:lnTo>
                        <a:lnTo>
                          <a:pt x="30" y="81"/>
                        </a:lnTo>
                        <a:lnTo>
                          <a:pt x="30" y="87"/>
                        </a:lnTo>
                        <a:lnTo>
                          <a:pt x="30" y="92"/>
                        </a:lnTo>
                        <a:lnTo>
                          <a:pt x="30" y="96"/>
                        </a:lnTo>
                        <a:lnTo>
                          <a:pt x="30" y="102"/>
                        </a:lnTo>
                        <a:lnTo>
                          <a:pt x="30" y="107"/>
                        </a:lnTo>
                        <a:lnTo>
                          <a:pt x="30" y="111"/>
                        </a:lnTo>
                        <a:lnTo>
                          <a:pt x="30" y="117"/>
                        </a:lnTo>
                        <a:lnTo>
                          <a:pt x="30" y="121"/>
                        </a:lnTo>
                        <a:lnTo>
                          <a:pt x="32" y="126"/>
                        </a:lnTo>
                        <a:lnTo>
                          <a:pt x="32" y="130"/>
                        </a:lnTo>
                        <a:lnTo>
                          <a:pt x="32" y="136"/>
                        </a:lnTo>
                        <a:lnTo>
                          <a:pt x="33" y="140"/>
                        </a:lnTo>
                        <a:lnTo>
                          <a:pt x="35" y="146"/>
                        </a:lnTo>
                        <a:lnTo>
                          <a:pt x="35" y="150"/>
                        </a:lnTo>
                        <a:lnTo>
                          <a:pt x="35" y="154"/>
                        </a:lnTo>
                        <a:lnTo>
                          <a:pt x="35" y="159"/>
                        </a:lnTo>
                        <a:lnTo>
                          <a:pt x="36" y="165"/>
                        </a:lnTo>
                        <a:lnTo>
                          <a:pt x="36" y="169"/>
                        </a:lnTo>
                        <a:lnTo>
                          <a:pt x="36" y="174"/>
                        </a:lnTo>
                        <a:lnTo>
                          <a:pt x="36" y="178"/>
                        </a:lnTo>
                        <a:lnTo>
                          <a:pt x="38" y="184"/>
                        </a:lnTo>
                        <a:lnTo>
                          <a:pt x="38" y="189"/>
                        </a:lnTo>
                        <a:lnTo>
                          <a:pt x="38" y="195"/>
                        </a:lnTo>
                        <a:lnTo>
                          <a:pt x="38" y="199"/>
                        </a:lnTo>
                        <a:lnTo>
                          <a:pt x="38" y="205"/>
                        </a:lnTo>
                        <a:lnTo>
                          <a:pt x="38" y="210"/>
                        </a:lnTo>
                        <a:lnTo>
                          <a:pt x="39" y="214"/>
                        </a:lnTo>
                        <a:lnTo>
                          <a:pt x="39" y="220"/>
                        </a:lnTo>
                        <a:lnTo>
                          <a:pt x="41" y="225"/>
                        </a:lnTo>
                        <a:lnTo>
                          <a:pt x="41" y="229"/>
                        </a:lnTo>
                        <a:lnTo>
                          <a:pt x="41" y="235"/>
                        </a:lnTo>
                        <a:lnTo>
                          <a:pt x="41" y="239"/>
                        </a:lnTo>
                        <a:lnTo>
                          <a:pt x="42" y="244"/>
                        </a:lnTo>
                        <a:lnTo>
                          <a:pt x="42" y="250"/>
                        </a:lnTo>
                        <a:lnTo>
                          <a:pt x="42" y="254"/>
                        </a:lnTo>
                        <a:lnTo>
                          <a:pt x="42" y="259"/>
                        </a:lnTo>
                        <a:lnTo>
                          <a:pt x="42" y="265"/>
                        </a:lnTo>
                        <a:lnTo>
                          <a:pt x="42" y="269"/>
                        </a:lnTo>
                        <a:lnTo>
                          <a:pt x="42" y="275"/>
                        </a:lnTo>
                        <a:lnTo>
                          <a:pt x="44" y="280"/>
                        </a:lnTo>
                        <a:lnTo>
                          <a:pt x="44" y="284"/>
                        </a:lnTo>
                        <a:lnTo>
                          <a:pt x="44" y="290"/>
                        </a:lnTo>
                        <a:lnTo>
                          <a:pt x="44" y="295"/>
                        </a:lnTo>
                        <a:lnTo>
                          <a:pt x="45" y="299"/>
                        </a:lnTo>
                        <a:lnTo>
                          <a:pt x="45" y="305"/>
                        </a:lnTo>
                        <a:lnTo>
                          <a:pt x="45" y="310"/>
                        </a:lnTo>
                        <a:lnTo>
                          <a:pt x="45" y="316"/>
                        </a:lnTo>
                        <a:lnTo>
                          <a:pt x="45" y="320"/>
                        </a:lnTo>
                        <a:lnTo>
                          <a:pt x="45" y="325"/>
                        </a:lnTo>
                        <a:lnTo>
                          <a:pt x="45" y="331"/>
                        </a:lnTo>
                        <a:lnTo>
                          <a:pt x="45" y="335"/>
                        </a:lnTo>
                        <a:lnTo>
                          <a:pt x="45" y="340"/>
                        </a:lnTo>
                        <a:lnTo>
                          <a:pt x="47" y="346"/>
                        </a:lnTo>
                        <a:lnTo>
                          <a:pt x="47" y="350"/>
                        </a:lnTo>
                        <a:lnTo>
                          <a:pt x="47" y="356"/>
                        </a:lnTo>
                        <a:lnTo>
                          <a:pt x="47" y="361"/>
                        </a:lnTo>
                        <a:lnTo>
                          <a:pt x="47" y="365"/>
                        </a:lnTo>
                        <a:lnTo>
                          <a:pt x="47" y="371"/>
                        </a:lnTo>
                        <a:lnTo>
                          <a:pt x="47" y="376"/>
                        </a:lnTo>
                        <a:lnTo>
                          <a:pt x="47" y="380"/>
                        </a:lnTo>
                        <a:lnTo>
                          <a:pt x="49" y="386"/>
                        </a:lnTo>
                        <a:lnTo>
                          <a:pt x="49" y="391"/>
                        </a:lnTo>
                        <a:lnTo>
                          <a:pt x="49" y="397"/>
                        </a:lnTo>
                        <a:lnTo>
                          <a:pt x="49" y="401"/>
                        </a:lnTo>
                        <a:lnTo>
                          <a:pt x="49" y="406"/>
                        </a:lnTo>
                        <a:lnTo>
                          <a:pt x="49" y="412"/>
                        </a:lnTo>
                        <a:lnTo>
                          <a:pt x="49" y="416"/>
                        </a:lnTo>
                        <a:lnTo>
                          <a:pt x="49" y="421"/>
                        </a:lnTo>
                        <a:lnTo>
                          <a:pt x="49" y="427"/>
                        </a:lnTo>
                        <a:lnTo>
                          <a:pt x="47" y="432"/>
                        </a:lnTo>
                        <a:lnTo>
                          <a:pt x="47" y="437"/>
                        </a:lnTo>
                        <a:lnTo>
                          <a:pt x="47" y="442"/>
                        </a:lnTo>
                        <a:lnTo>
                          <a:pt x="47" y="448"/>
                        </a:lnTo>
                        <a:lnTo>
                          <a:pt x="47" y="453"/>
                        </a:lnTo>
                        <a:lnTo>
                          <a:pt x="47" y="459"/>
                        </a:lnTo>
                        <a:lnTo>
                          <a:pt x="47" y="464"/>
                        </a:lnTo>
                        <a:lnTo>
                          <a:pt x="47" y="470"/>
                        </a:lnTo>
                        <a:lnTo>
                          <a:pt x="42" y="470"/>
                        </a:lnTo>
                        <a:lnTo>
                          <a:pt x="36" y="471"/>
                        </a:lnTo>
                        <a:lnTo>
                          <a:pt x="32" y="472"/>
                        </a:lnTo>
                        <a:lnTo>
                          <a:pt x="27" y="474"/>
                        </a:lnTo>
                        <a:lnTo>
                          <a:pt x="26" y="470"/>
                        </a:lnTo>
                        <a:lnTo>
                          <a:pt x="26" y="467"/>
                        </a:lnTo>
                        <a:lnTo>
                          <a:pt x="24" y="463"/>
                        </a:lnTo>
                        <a:lnTo>
                          <a:pt x="24" y="460"/>
                        </a:lnTo>
                        <a:lnTo>
                          <a:pt x="23" y="456"/>
                        </a:lnTo>
                        <a:lnTo>
                          <a:pt x="23" y="452"/>
                        </a:lnTo>
                        <a:lnTo>
                          <a:pt x="21" y="449"/>
                        </a:lnTo>
                        <a:lnTo>
                          <a:pt x="21" y="445"/>
                        </a:lnTo>
                        <a:lnTo>
                          <a:pt x="21" y="442"/>
                        </a:lnTo>
                        <a:lnTo>
                          <a:pt x="19" y="438"/>
                        </a:lnTo>
                        <a:lnTo>
                          <a:pt x="19" y="435"/>
                        </a:lnTo>
                        <a:lnTo>
                          <a:pt x="19" y="431"/>
                        </a:lnTo>
                        <a:lnTo>
                          <a:pt x="19" y="428"/>
                        </a:lnTo>
                        <a:lnTo>
                          <a:pt x="19" y="424"/>
                        </a:lnTo>
                        <a:lnTo>
                          <a:pt x="19" y="421"/>
                        </a:lnTo>
                        <a:lnTo>
                          <a:pt x="19" y="417"/>
                        </a:lnTo>
                        <a:lnTo>
                          <a:pt x="18" y="415"/>
                        </a:lnTo>
                        <a:lnTo>
                          <a:pt x="18" y="410"/>
                        </a:lnTo>
                        <a:lnTo>
                          <a:pt x="18" y="408"/>
                        </a:lnTo>
                        <a:lnTo>
                          <a:pt x="18" y="404"/>
                        </a:lnTo>
                        <a:lnTo>
                          <a:pt x="18" y="399"/>
                        </a:lnTo>
                        <a:lnTo>
                          <a:pt x="18" y="397"/>
                        </a:lnTo>
                        <a:lnTo>
                          <a:pt x="18" y="393"/>
                        </a:lnTo>
                        <a:lnTo>
                          <a:pt x="18" y="390"/>
                        </a:lnTo>
                        <a:lnTo>
                          <a:pt x="18" y="386"/>
                        </a:lnTo>
                        <a:lnTo>
                          <a:pt x="18" y="383"/>
                        </a:lnTo>
                        <a:lnTo>
                          <a:pt x="18" y="379"/>
                        </a:lnTo>
                        <a:lnTo>
                          <a:pt x="18" y="376"/>
                        </a:lnTo>
                        <a:lnTo>
                          <a:pt x="18" y="372"/>
                        </a:lnTo>
                        <a:lnTo>
                          <a:pt x="18" y="369"/>
                        </a:lnTo>
                        <a:lnTo>
                          <a:pt x="18" y="365"/>
                        </a:lnTo>
                        <a:lnTo>
                          <a:pt x="18" y="362"/>
                        </a:lnTo>
                        <a:lnTo>
                          <a:pt x="18" y="358"/>
                        </a:lnTo>
                        <a:lnTo>
                          <a:pt x="18" y="356"/>
                        </a:lnTo>
                        <a:lnTo>
                          <a:pt x="18" y="351"/>
                        </a:lnTo>
                        <a:lnTo>
                          <a:pt x="18" y="347"/>
                        </a:lnTo>
                        <a:lnTo>
                          <a:pt x="18" y="345"/>
                        </a:lnTo>
                        <a:lnTo>
                          <a:pt x="18" y="340"/>
                        </a:lnTo>
                        <a:lnTo>
                          <a:pt x="18" y="338"/>
                        </a:lnTo>
                        <a:lnTo>
                          <a:pt x="18" y="334"/>
                        </a:lnTo>
                        <a:lnTo>
                          <a:pt x="18" y="331"/>
                        </a:lnTo>
                        <a:lnTo>
                          <a:pt x="18" y="327"/>
                        </a:lnTo>
                        <a:lnTo>
                          <a:pt x="18" y="323"/>
                        </a:lnTo>
                        <a:lnTo>
                          <a:pt x="18" y="320"/>
                        </a:lnTo>
                        <a:lnTo>
                          <a:pt x="18" y="316"/>
                        </a:lnTo>
                        <a:lnTo>
                          <a:pt x="18" y="313"/>
                        </a:lnTo>
                        <a:lnTo>
                          <a:pt x="18" y="309"/>
                        </a:lnTo>
                        <a:lnTo>
                          <a:pt x="18" y="306"/>
                        </a:lnTo>
                        <a:lnTo>
                          <a:pt x="18" y="302"/>
                        </a:lnTo>
                        <a:lnTo>
                          <a:pt x="18" y="299"/>
                        </a:lnTo>
                        <a:lnTo>
                          <a:pt x="16" y="295"/>
                        </a:lnTo>
                        <a:lnTo>
                          <a:pt x="16" y="292"/>
                        </a:lnTo>
                        <a:lnTo>
                          <a:pt x="16" y="288"/>
                        </a:lnTo>
                        <a:lnTo>
                          <a:pt x="16" y="286"/>
                        </a:lnTo>
                        <a:lnTo>
                          <a:pt x="15" y="281"/>
                        </a:lnTo>
                        <a:lnTo>
                          <a:pt x="15" y="279"/>
                        </a:lnTo>
                        <a:lnTo>
                          <a:pt x="15" y="275"/>
                        </a:lnTo>
                        <a:lnTo>
                          <a:pt x="15" y="272"/>
                        </a:lnTo>
                        <a:lnTo>
                          <a:pt x="13" y="269"/>
                        </a:lnTo>
                        <a:lnTo>
                          <a:pt x="13" y="265"/>
                        </a:lnTo>
                        <a:lnTo>
                          <a:pt x="13" y="262"/>
                        </a:lnTo>
                        <a:lnTo>
                          <a:pt x="12" y="258"/>
                        </a:lnTo>
                        <a:lnTo>
                          <a:pt x="12" y="255"/>
                        </a:lnTo>
                        <a:lnTo>
                          <a:pt x="12" y="251"/>
                        </a:lnTo>
                        <a:lnTo>
                          <a:pt x="10" y="247"/>
                        </a:lnTo>
                        <a:lnTo>
                          <a:pt x="10" y="243"/>
                        </a:lnTo>
                        <a:lnTo>
                          <a:pt x="10" y="239"/>
                        </a:lnTo>
                        <a:lnTo>
                          <a:pt x="10" y="235"/>
                        </a:lnTo>
                        <a:lnTo>
                          <a:pt x="10" y="231"/>
                        </a:lnTo>
                        <a:lnTo>
                          <a:pt x="10" y="228"/>
                        </a:lnTo>
                        <a:lnTo>
                          <a:pt x="10" y="222"/>
                        </a:lnTo>
                        <a:lnTo>
                          <a:pt x="10" y="220"/>
                        </a:lnTo>
                        <a:lnTo>
                          <a:pt x="9" y="216"/>
                        </a:lnTo>
                        <a:lnTo>
                          <a:pt x="9" y="211"/>
                        </a:lnTo>
                        <a:lnTo>
                          <a:pt x="9" y="207"/>
                        </a:lnTo>
                        <a:lnTo>
                          <a:pt x="9" y="203"/>
                        </a:lnTo>
                        <a:lnTo>
                          <a:pt x="7" y="200"/>
                        </a:lnTo>
                        <a:lnTo>
                          <a:pt x="7" y="196"/>
                        </a:lnTo>
                        <a:lnTo>
                          <a:pt x="7" y="192"/>
                        </a:lnTo>
                        <a:lnTo>
                          <a:pt x="7" y="188"/>
                        </a:lnTo>
                        <a:lnTo>
                          <a:pt x="7" y="185"/>
                        </a:lnTo>
                        <a:lnTo>
                          <a:pt x="7" y="181"/>
                        </a:lnTo>
                        <a:lnTo>
                          <a:pt x="6" y="177"/>
                        </a:lnTo>
                        <a:lnTo>
                          <a:pt x="6" y="173"/>
                        </a:lnTo>
                        <a:lnTo>
                          <a:pt x="6" y="170"/>
                        </a:lnTo>
                        <a:lnTo>
                          <a:pt x="6" y="166"/>
                        </a:lnTo>
                        <a:lnTo>
                          <a:pt x="4" y="162"/>
                        </a:lnTo>
                        <a:lnTo>
                          <a:pt x="4" y="158"/>
                        </a:lnTo>
                        <a:lnTo>
                          <a:pt x="4" y="154"/>
                        </a:lnTo>
                        <a:lnTo>
                          <a:pt x="4" y="151"/>
                        </a:lnTo>
                        <a:lnTo>
                          <a:pt x="3" y="147"/>
                        </a:lnTo>
                        <a:lnTo>
                          <a:pt x="3" y="143"/>
                        </a:lnTo>
                        <a:lnTo>
                          <a:pt x="3" y="139"/>
                        </a:lnTo>
                        <a:lnTo>
                          <a:pt x="3" y="136"/>
                        </a:lnTo>
                        <a:lnTo>
                          <a:pt x="3" y="132"/>
                        </a:lnTo>
                        <a:lnTo>
                          <a:pt x="3" y="128"/>
                        </a:lnTo>
                        <a:lnTo>
                          <a:pt x="3" y="124"/>
                        </a:lnTo>
                        <a:lnTo>
                          <a:pt x="1" y="119"/>
                        </a:lnTo>
                        <a:lnTo>
                          <a:pt x="1" y="115"/>
                        </a:lnTo>
                        <a:lnTo>
                          <a:pt x="1" y="113"/>
                        </a:lnTo>
                        <a:lnTo>
                          <a:pt x="0" y="108"/>
                        </a:lnTo>
                        <a:lnTo>
                          <a:pt x="0" y="104"/>
                        </a:lnTo>
                        <a:lnTo>
                          <a:pt x="0" y="100"/>
                        </a:lnTo>
                        <a:lnTo>
                          <a:pt x="0" y="98"/>
                        </a:lnTo>
                        <a:lnTo>
                          <a:pt x="0" y="93"/>
                        </a:lnTo>
                        <a:lnTo>
                          <a:pt x="0" y="89"/>
                        </a:lnTo>
                        <a:lnTo>
                          <a:pt x="0" y="85"/>
                        </a:lnTo>
                        <a:lnTo>
                          <a:pt x="0" y="82"/>
                        </a:lnTo>
                        <a:lnTo>
                          <a:pt x="0" y="78"/>
                        </a:lnTo>
                        <a:lnTo>
                          <a:pt x="0" y="74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3"/>
                        </a:lnTo>
                        <a:lnTo>
                          <a:pt x="0" y="59"/>
                        </a:lnTo>
                        <a:lnTo>
                          <a:pt x="0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3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" y="10"/>
                        </a:lnTo>
                        <a:lnTo>
                          <a:pt x="1" y="6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123"/>
                  <p:cNvSpPr/>
                  <p:nvPr/>
                </p:nvSpPr>
                <p:spPr>
                  <a:xfrm>
                    <a:off x="4265640" y="3124800"/>
                    <a:ext cx="6120" cy="6336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44" h="486">
                        <a:moveTo>
                          <a:pt x="15" y="0"/>
                        </a:moveTo>
                        <a:lnTo>
                          <a:pt x="17" y="3"/>
                        </a:lnTo>
                        <a:lnTo>
                          <a:pt x="20" y="9"/>
                        </a:lnTo>
                        <a:lnTo>
                          <a:pt x="23" y="13"/>
                        </a:lnTo>
                        <a:lnTo>
                          <a:pt x="26" y="17"/>
                        </a:lnTo>
                        <a:lnTo>
                          <a:pt x="27" y="22"/>
                        </a:lnTo>
                        <a:lnTo>
                          <a:pt x="29" y="27"/>
                        </a:lnTo>
                        <a:lnTo>
                          <a:pt x="31" y="32"/>
                        </a:lnTo>
                        <a:lnTo>
                          <a:pt x="32" y="38"/>
                        </a:lnTo>
                        <a:lnTo>
                          <a:pt x="34" y="43"/>
                        </a:lnTo>
                        <a:lnTo>
                          <a:pt x="34" y="47"/>
                        </a:lnTo>
                        <a:lnTo>
                          <a:pt x="34" y="53"/>
                        </a:lnTo>
                        <a:lnTo>
                          <a:pt x="35" y="58"/>
                        </a:lnTo>
                        <a:lnTo>
                          <a:pt x="35" y="64"/>
                        </a:lnTo>
                        <a:lnTo>
                          <a:pt x="35" y="69"/>
                        </a:lnTo>
                        <a:lnTo>
                          <a:pt x="35" y="75"/>
                        </a:lnTo>
                        <a:lnTo>
                          <a:pt x="35" y="81"/>
                        </a:lnTo>
                        <a:lnTo>
                          <a:pt x="35" y="87"/>
                        </a:lnTo>
                        <a:lnTo>
                          <a:pt x="35" y="92"/>
                        </a:lnTo>
                        <a:lnTo>
                          <a:pt x="35" y="98"/>
                        </a:lnTo>
                        <a:lnTo>
                          <a:pt x="35" y="105"/>
                        </a:lnTo>
                        <a:lnTo>
                          <a:pt x="34" y="110"/>
                        </a:lnTo>
                        <a:lnTo>
                          <a:pt x="34" y="116"/>
                        </a:lnTo>
                        <a:lnTo>
                          <a:pt x="34" y="121"/>
                        </a:lnTo>
                        <a:lnTo>
                          <a:pt x="35" y="128"/>
                        </a:lnTo>
                        <a:lnTo>
                          <a:pt x="35" y="134"/>
                        </a:lnTo>
                        <a:lnTo>
                          <a:pt x="35" y="139"/>
                        </a:lnTo>
                        <a:lnTo>
                          <a:pt x="35" y="145"/>
                        </a:lnTo>
                        <a:lnTo>
                          <a:pt x="35" y="150"/>
                        </a:lnTo>
                        <a:lnTo>
                          <a:pt x="37" y="156"/>
                        </a:lnTo>
                        <a:lnTo>
                          <a:pt x="38" y="161"/>
                        </a:lnTo>
                        <a:lnTo>
                          <a:pt x="38" y="167"/>
                        </a:lnTo>
                        <a:lnTo>
                          <a:pt x="40" y="173"/>
                        </a:lnTo>
                        <a:lnTo>
                          <a:pt x="40" y="178"/>
                        </a:lnTo>
                        <a:lnTo>
                          <a:pt x="40" y="182"/>
                        </a:lnTo>
                        <a:lnTo>
                          <a:pt x="38" y="186"/>
                        </a:lnTo>
                        <a:lnTo>
                          <a:pt x="38" y="191"/>
                        </a:lnTo>
                        <a:lnTo>
                          <a:pt x="38" y="195"/>
                        </a:lnTo>
                        <a:lnTo>
                          <a:pt x="38" y="199"/>
                        </a:lnTo>
                        <a:lnTo>
                          <a:pt x="38" y="205"/>
                        </a:lnTo>
                        <a:lnTo>
                          <a:pt x="38" y="209"/>
                        </a:lnTo>
                        <a:lnTo>
                          <a:pt x="38" y="213"/>
                        </a:lnTo>
                        <a:lnTo>
                          <a:pt x="38" y="219"/>
                        </a:lnTo>
                        <a:lnTo>
                          <a:pt x="38" y="223"/>
                        </a:lnTo>
                        <a:lnTo>
                          <a:pt x="38" y="228"/>
                        </a:lnTo>
                        <a:lnTo>
                          <a:pt x="38" y="232"/>
                        </a:lnTo>
                        <a:lnTo>
                          <a:pt x="38" y="237"/>
                        </a:lnTo>
                        <a:lnTo>
                          <a:pt x="38" y="242"/>
                        </a:lnTo>
                        <a:lnTo>
                          <a:pt x="38" y="246"/>
                        </a:lnTo>
                        <a:lnTo>
                          <a:pt x="38" y="252"/>
                        </a:lnTo>
                        <a:lnTo>
                          <a:pt x="38" y="256"/>
                        </a:lnTo>
                        <a:lnTo>
                          <a:pt x="38" y="260"/>
                        </a:lnTo>
                        <a:lnTo>
                          <a:pt x="38" y="265"/>
                        </a:lnTo>
                        <a:lnTo>
                          <a:pt x="38" y="269"/>
                        </a:lnTo>
                        <a:lnTo>
                          <a:pt x="38" y="274"/>
                        </a:lnTo>
                        <a:lnTo>
                          <a:pt x="38" y="279"/>
                        </a:lnTo>
                        <a:lnTo>
                          <a:pt x="38" y="283"/>
                        </a:lnTo>
                        <a:lnTo>
                          <a:pt x="38" y="289"/>
                        </a:lnTo>
                        <a:lnTo>
                          <a:pt x="38" y="293"/>
                        </a:lnTo>
                        <a:lnTo>
                          <a:pt x="38" y="297"/>
                        </a:lnTo>
                        <a:lnTo>
                          <a:pt x="40" y="302"/>
                        </a:lnTo>
                        <a:lnTo>
                          <a:pt x="40" y="307"/>
                        </a:lnTo>
                        <a:lnTo>
                          <a:pt x="40" y="311"/>
                        </a:lnTo>
                        <a:lnTo>
                          <a:pt x="40" y="316"/>
                        </a:lnTo>
                        <a:lnTo>
                          <a:pt x="41" y="320"/>
                        </a:lnTo>
                        <a:lnTo>
                          <a:pt x="41" y="324"/>
                        </a:lnTo>
                        <a:lnTo>
                          <a:pt x="41" y="329"/>
                        </a:lnTo>
                        <a:lnTo>
                          <a:pt x="41" y="334"/>
                        </a:lnTo>
                        <a:lnTo>
                          <a:pt x="41" y="338"/>
                        </a:lnTo>
                        <a:lnTo>
                          <a:pt x="41" y="344"/>
                        </a:lnTo>
                        <a:lnTo>
                          <a:pt x="41" y="348"/>
                        </a:lnTo>
                        <a:lnTo>
                          <a:pt x="41" y="352"/>
                        </a:lnTo>
                        <a:lnTo>
                          <a:pt x="41" y="357"/>
                        </a:lnTo>
                        <a:lnTo>
                          <a:pt x="41" y="361"/>
                        </a:lnTo>
                        <a:lnTo>
                          <a:pt x="41" y="366"/>
                        </a:lnTo>
                        <a:lnTo>
                          <a:pt x="41" y="371"/>
                        </a:lnTo>
                        <a:lnTo>
                          <a:pt x="41" y="375"/>
                        </a:lnTo>
                        <a:lnTo>
                          <a:pt x="41" y="381"/>
                        </a:lnTo>
                        <a:lnTo>
                          <a:pt x="43" y="385"/>
                        </a:lnTo>
                        <a:lnTo>
                          <a:pt x="43" y="389"/>
                        </a:lnTo>
                        <a:lnTo>
                          <a:pt x="43" y="394"/>
                        </a:lnTo>
                        <a:lnTo>
                          <a:pt x="43" y="399"/>
                        </a:lnTo>
                        <a:lnTo>
                          <a:pt x="43" y="403"/>
                        </a:lnTo>
                        <a:lnTo>
                          <a:pt x="43" y="408"/>
                        </a:lnTo>
                        <a:lnTo>
                          <a:pt x="44" y="412"/>
                        </a:lnTo>
                        <a:lnTo>
                          <a:pt x="44" y="418"/>
                        </a:lnTo>
                        <a:lnTo>
                          <a:pt x="44" y="422"/>
                        </a:lnTo>
                        <a:lnTo>
                          <a:pt x="44" y="426"/>
                        </a:lnTo>
                        <a:lnTo>
                          <a:pt x="44" y="431"/>
                        </a:lnTo>
                        <a:lnTo>
                          <a:pt x="44" y="436"/>
                        </a:lnTo>
                        <a:lnTo>
                          <a:pt x="44" y="441"/>
                        </a:lnTo>
                        <a:lnTo>
                          <a:pt x="44" y="445"/>
                        </a:lnTo>
                        <a:lnTo>
                          <a:pt x="44" y="451"/>
                        </a:lnTo>
                        <a:lnTo>
                          <a:pt x="44" y="455"/>
                        </a:lnTo>
                        <a:lnTo>
                          <a:pt x="44" y="460"/>
                        </a:lnTo>
                        <a:lnTo>
                          <a:pt x="44" y="464"/>
                        </a:lnTo>
                        <a:lnTo>
                          <a:pt x="44" y="470"/>
                        </a:lnTo>
                        <a:lnTo>
                          <a:pt x="41" y="474"/>
                        </a:lnTo>
                        <a:lnTo>
                          <a:pt x="38" y="478"/>
                        </a:lnTo>
                        <a:lnTo>
                          <a:pt x="34" y="481"/>
                        </a:lnTo>
                        <a:lnTo>
                          <a:pt x="31" y="486"/>
                        </a:lnTo>
                        <a:lnTo>
                          <a:pt x="26" y="482"/>
                        </a:lnTo>
                        <a:lnTo>
                          <a:pt x="23" y="480"/>
                        </a:lnTo>
                        <a:lnTo>
                          <a:pt x="20" y="475"/>
                        </a:lnTo>
                        <a:lnTo>
                          <a:pt x="18" y="473"/>
                        </a:lnTo>
                        <a:lnTo>
                          <a:pt x="17" y="469"/>
                        </a:lnTo>
                        <a:lnTo>
                          <a:pt x="15" y="464"/>
                        </a:lnTo>
                        <a:lnTo>
                          <a:pt x="14" y="462"/>
                        </a:lnTo>
                        <a:lnTo>
                          <a:pt x="14" y="458"/>
                        </a:lnTo>
                        <a:lnTo>
                          <a:pt x="12" y="453"/>
                        </a:lnTo>
                        <a:lnTo>
                          <a:pt x="12" y="449"/>
                        </a:lnTo>
                        <a:lnTo>
                          <a:pt x="11" y="445"/>
                        </a:lnTo>
                        <a:lnTo>
                          <a:pt x="11" y="442"/>
                        </a:lnTo>
                        <a:lnTo>
                          <a:pt x="11" y="437"/>
                        </a:lnTo>
                        <a:lnTo>
                          <a:pt x="11" y="434"/>
                        </a:lnTo>
                        <a:lnTo>
                          <a:pt x="12" y="430"/>
                        </a:lnTo>
                        <a:lnTo>
                          <a:pt x="12" y="426"/>
                        </a:lnTo>
                        <a:lnTo>
                          <a:pt x="12" y="422"/>
                        </a:lnTo>
                        <a:lnTo>
                          <a:pt x="12" y="418"/>
                        </a:lnTo>
                        <a:lnTo>
                          <a:pt x="14" y="414"/>
                        </a:lnTo>
                        <a:lnTo>
                          <a:pt x="14" y="409"/>
                        </a:lnTo>
                        <a:lnTo>
                          <a:pt x="14" y="405"/>
                        </a:lnTo>
                        <a:lnTo>
                          <a:pt x="15" y="401"/>
                        </a:lnTo>
                        <a:lnTo>
                          <a:pt x="15" y="397"/>
                        </a:lnTo>
                        <a:lnTo>
                          <a:pt x="17" y="394"/>
                        </a:lnTo>
                        <a:lnTo>
                          <a:pt x="17" y="389"/>
                        </a:lnTo>
                        <a:lnTo>
                          <a:pt x="17" y="385"/>
                        </a:lnTo>
                        <a:lnTo>
                          <a:pt x="17" y="382"/>
                        </a:lnTo>
                        <a:lnTo>
                          <a:pt x="17" y="378"/>
                        </a:lnTo>
                        <a:lnTo>
                          <a:pt x="15" y="374"/>
                        </a:lnTo>
                        <a:lnTo>
                          <a:pt x="15" y="370"/>
                        </a:lnTo>
                        <a:lnTo>
                          <a:pt x="15" y="367"/>
                        </a:lnTo>
                        <a:lnTo>
                          <a:pt x="15" y="363"/>
                        </a:lnTo>
                        <a:lnTo>
                          <a:pt x="14" y="357"/>
                        </a:lnTo>
                        <a:lnTo>
                          <a:pt x="14" y="352"/>
                        </a:lnTo>
                        <a:lnTo>
                          <a:pt x="14" y="346"/>
                        </a:lnTo>
                        <a:lnTo>
                          <a:pt x="14" y="341"/>
                        </a:lnTo>
                        <a:lnTo>
                          <a:pt x="14" y="335"/>
                        </a:lnTo>
                        <a:lnTo>
                          <a:pt x="14" y="330"/>
                        </a:lnTo>
                        <a:lnTo>
                          <a:pt x="14" y="324"/>
                        </a:lnTo>
                        <a:lnTo>
                          <a:pt x="14" y="319"/>
                        </a:lnTo>
                        <a:lnTo>
                          <a:pt x="14" y="313"/>
                        </a:lnTo>
                        <a:lnTo>
                          <a:pt x="14" y="308"/>
                        </a:lnTo>
                        <a:lnTo>
                          <a:pt x="14" y="304"/>
                        </a:lnTo>
                        <a:lnTo>
                          <a:pt x="14" y="298"/>
                        </a:lnTo>
                        <a:lnTo>
                          <a:pt x="14" y="293"/>
                        </a:lnTo>
                        <a:lnTo>
                          <a:pt x="14" y="287"/>
                        </a:lnTo>
                        <a:lnTo>
                          <a:pt x="14" y="282"/>
                        </a:lnTo>
                        <a:lnTo>
                          <a:pt x="14" y="276"/>
                        </a:lnTo>
                        <a:lnTo>
                          <a:pt x="12" y="271"/>
                        </a:lnTo>
                        <a:lnTo>
                          <a:pt x="12" y="265"/>
                        </a:lnTo>
                        <a:lnTo>
                          <a:pt x="12" y="261"/>
                        </a:lnTo>
                        <a:lnTo>
                          <a:pt x="12" y="256"/>
                        </a:lnTo>
                        <a:lnTo>
                          <a:pt x="12" y="250"/>
                        </a:lnTo>
                        <a:lnTo>
                          <a:pt x="12" y="245"/>
                        </a:lnTo>
                        <a:lnTo>
                          <a:pt x="12" y="239"/>
                        </a:lnTo>
                        <a:lnTo>
                          <a:pt x="12" y="234"/>
                        </a:lnTo>
                        <a:lnTo>
                          <a:pt x="11" y="228"/>
                        </a:lnTo>
                        <a:lnTo>
                          <a:pt x="11" y="223"/>
                        </a:lnTo>
                        <a:lnTo>
                          <a:pt x="11" y="217"/>
                        </a:lnTo>
                        <a:lnTo>
                          <a:pt x="11" y="213"/>
                        </a:lnTo>
                        <a:lnTo>
                          <a:pt x="11" y="208"/>
                        </a:lnTo>
                        <a:lnTo>
                          <a:pt x="11" y="202"/>
                        </a:lnTo>
                        <a:lnTo>
                          <a:pt x="11" y="197"/>
                        </a:lnTo>
                        <a:lnTo>
                          <a:pt x="11" y="193"/>
                        </a:lnTo>
                        <a:lnTo>
                          <a:pt x="11" y="186"/>
                        </a:lnTo>
                        <a:lnTo>
                          <a:pt x="11" y="182"/>
                        </a:lnTo>
                        <a:lnTo>
                          <a:pt x="9" y="176"/>
                        </a:lnTo>
                        <a:lnTo>
                          <a:pt x="9" y="171"/>
                        </a:lnTo>
                        <a:lnTo>
                          <a:pt x="9" y="165"/>
                        </a:lnTo>
                        <a:lnTo>
                          <a:pt x="9" y="160"/>
                        </a:lnTo>
                        <a:lnTo>
                          <a:pt x="8" y="154"/>
                        </a:lnTo>
                        <a:lnTo>
                          <a:pt x="8" y="149"/>
                        </a:lnTo>
                        <a:lnTo>
                          <a:pt x="8" y="143"/>
                        </a:lnTo>
                        <a:lnTo>
                          <a:pt x="8" y="139"/>
                        </a:lnTo>
                        <a:lnTo>
                          <a:pt x="6" y="134"/>
                        </a:lnTo>
                        <a:lnTo>
                          <a:pt x="6" y="128"/>
                        </a:lnTo>
                        <a:lnTo>
                          <a:pt x="6" y="123"/>
                        </a:lnTo>
                        <a:lnTo>
                          <a:pt x="6" y="117"/>
                        </a:lnTo>
                        <a:lnTo>
                          <a:pt x="6" y="112"/>
                        </a:lnTo>
                        <a:lnTo>
                          <a:pt x="6" y="108"/>
                        </a:lnTo>
                        <a:lnTo>
                          <a:pt x="6" y="102"/>
                        </a:lnTo>
                        <a:lnTo>
                          <a:pt x="5" y="97"/>
                        </a:lnTo>
                        <a:lnTo>
                          <a:pt x="5" y="91"/>
                        </a:lnTo>
                        <a:lnTo>
                          <a:pt x="5" y="86"/>
                        </a:lnTo>
                        <a:lnTo>
                          <a:pt x="3" y="80"/>
                        </a:lnTo>
                        <a:lnTo>
                          <a:pt x="3" y="75"/>
                        </a:lnTo>
                        <a:lnTo>
                          <a:pt x="3" y="70"/>
                        </a:lnTo>
                        <a:lnTo>
                          <a:pt x="3" y="65"/>
                        </a:lnTo>
                        <a:lnTo>
                          <a:pt x="3" y="59"/>
                        </a:lnTo>
                        <a:lnTo>
                          <a:pt x="1" y="54"/>
                        </a:lnTo>
                        <a:lnTo>
                          <a:pt x="1" y="48"/>
                        </a:lnTo>
                        <a:lnTo>
                          <a:pt x="1" y="43"/>
                        </a:lnTo>
                        <a:lnTo>
                          <a:pt x="0" y="38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1" y="17"/>
                        </a:lnTo>
                        <a:lnTo>
                          <a:pt x="5" y="13"/>
                        </a:lnTo>
                        <a:lnTo>
                          <a:pt x="6" y="10"/>
                        </a:lnTo>
                        <a:lnTo>
                          <a:pt x="9" y="6"/>
                        </a:lnTo>
                        <a:lnTo>
                          <a:pt x="11" y="3"/>
                        </a:lnTo>
                        <a:lnTo>
                          <a:pt x="1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Freeform 124"/>
                  <p:cNvSpPr/>
                  <p:nvPr/>
                </p:nvSpPr>
                <p:spPr>
                  <a:xfrm>
                    <a:off x="4155480" y="3201840"/>
                    <a:ext cx="123120" cy="4320"/>
                  </a:xfrm>
                  <a:custGeom>
                    <a:avLst/>
                    <a:gdLst>
                      <a:gd name="textAreaLeft" fmla="*/ 0 w 123120"/>
                      <a:gd name="textAreaRight" fmla="*/ 123480 w 1231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850" h="34">
                        <a:moveTo>
                          <a:pt x="465" y="0"/>
                        </a:moveTo>
                        <a:lnTo>
                          <a:pt x="469" y="0"/>
                        </a:lnTo>
                        <a:lnTo>
                          <a:pt x="475" y="0"/>
                        </a:lnTo>
                        <a:lnTo>
                          <a:pt x="482" y="0"/>
                        </a:lnTo>
                        <a:lnTo>
                          <a:pt x="486" y="0"/>
                        </a:lnTo>
                        <a:lnTo>
                          <a:pt x="492" y="0"/>
                        </a:lnTo>
                        <a:lnTo>
                          <a:pt x="498" y="0"/>
                        </a:lnTo>
                        <a:lnTo>
                          <a:pt x="503" y="0"/>
                        </a:lnTo>
                        <a:lnTo>
                          <a:pt x="509" y="1"/>
                        </a:lnTo>
                        <a:lnTo>
                          <a:pt x="515" y="1"/>
                        </a:lnTo>
                        <a:lnTo>
                          <a:pt x="521" y="1"/>
                        </a:lnTo>
                        <a:lnTo>
                          <a:pt x="527" y="1"/>
                        </a:lnTo>
                        <a:lnTo>
                          <a:pt x="534" y="1"/>
                        </a:lnTo>
                        <a:lnTo>
                          <a:pt x="538" y="1"/>
                        </a:lnTo>
                        <a:lnTo>
                          <a:pt x="544" y="1"/>
                        </a:lnTo>
                        <a:lnTo>
                          <a:pt x="550" y="1"/>
                        </a:lnTo>
                        <a:lnTo>
                          <a:pt x="556" y="1"/>
                        </a:lnTo>
                        <a:lnTo>
                          <a:pt x="561" y="1"/>
                        </a:lnTo>
                        <a:lnTo>
                          <a:pt x="567" y="1"/>
                        </a:lnTo>
                        <a:lnTo>
                          <a:pt x="573" y="1"/>
                        </a:lnTo>
                        <a:lnTo>
                          <a:pt x="578" y="1"/>
                        </a:lnTo>
                        <a:lnTo>
                          <a:pt x="584" y="1"/>
                        </a:lnTo>
                        <a:lnTo>
                          <a:pt x="590" y="1"/>
                        </a:lnTo>
                        <a:lnTo>
                          <a:pt x="595" y="1"/>
                        </a:lnTo>
                        <a:lnTo>
                          <a:pt x="601" y="1"/>
                        </a:lnTo>
                        <a:lnTo>
                          <a:pt x="607" y="1"/>
                        </a:lnTo>
                        <a:lnTo>
                          <a:pt x="613" y="1"/>
                        </a:lnTo>
                        <a:lnTo>
                          <a:pt x="619" y="1"/>
                        </a:lnTo>
                        <a:lnTo>
                          <a:pt x="625" y="1"/>
                        </a:lnTo>
                        <a:lnTo>
                          <a:pt x="630" y="1"/>
                        </a:lnTo>
                        <a:lnTo>
                          <a:pt x="636" y="1"/>
                        </a:lnTo>
                        <a:lnTo>
                          <a:pt x="642" y="1"/>
                        </a:lnTo>
                        <a:lnTo>
                          <a:pt x="648" y="3"/>
                        </a:lnTo>
                        <a:lnTo>
                          <a:pt x="653" y="1"/>
                        </a:lnTo>
                        <a:lnTo>
                          <a:pt x="659" y="1"/>
                        </a:lnTo>
                        <a:lnTo>
                          <a:pt x="665" y="1"/>
                        </a:lnTo>
                        <a:lnTo>
                          <a:pt x="671" y="1"/>
                        </a:lnTo>
                        <a:lnTo>
                          <a:pt x="676" y="1"/>
                        </a:lnTo>
                        <a:lnTo>
                          <a:pt x="682" y="1"/>
                        </a:lnTo>
                        <a:lnTo>
                          <a:pt x="688" y="1"/>
                        </a:lnTo>
                        <a:lnTo>
                          <a:pt x="694" y="1"/>
                        </a:lnTo>
                        <a:lnTo>
                          <a:pt x="699" y="1"/>
                        </a:lnTo>
                        <a:lnTo>
                          <a:pt x="705" y="1"/>
                        </a:lnTo>
                        <a:lnTo>
                          <a:pt x="711" y="1"/>
                        </a:lnTo>
                        <a:lnTo>
                          <a:pt x="716" y="1"/>
                        </a:lnTo>
                        <a:lnTo>
                          <a:pt x="722" y="1"/>
                        </a:lnTo>
                        <a:lnTo>
                          <a:pt x="728" y="1"/>
                        </a:lnTo>
                        <a:lnTo>
                          <a:pt x="732" y="1"/>
                        </a:lnTo>
                        <a:lnTo>
                          <a:pt x="740" y="1"/>
                        </a:lnTo>
                        <a:lnTo>
                          <a:pt x="745" y="0"/>
                        </a:lnTo>
                        <a:lnTo>
                          <a:pt x="751" y="0"/>
                        </a:lnTo>
                        <a:lnTo>
                          <a:pt x="757" y="0"/>
                        </a:lnTo>
                        <a:lnTo>
                          <a:pt x="761" y="0"/>
                        </a:lnTo>
                        <a:lnTo>
                          <a:pt x="768" y="0"/>
                        </a:lnTo>
                        <a:lnTo>
                          <a:pt x="774" y="0"/>
                        </a:lnTo>
                        <a:lnTo>
                          <a:pt x="778" y="0"/>
                        </a:lnTo>
                        <a:lnTo>
                          <a:pt x="784" y="0"/>
                        </a:lnTo>
                        <a:lnTo>
                          <a:pt x="791" y="0"/>
                        </a:lnTo>
                        <a:lnTo>
                          <a:pt x="797" y="0"/>
                        </a:lnTo>
                        <a:lnTo>
                          <a:pt x="801" y="0"/>
                        </a:lnTo>
                        <a:lnTo>
                          <a:pt x="807" y="0"/>
                        </a:lnTo>
                        <a:lnTo>
                          <a:pt x="813" y="0"/>
                        </a:lnTo>
                        <a:lnTo>
                          <a:pt x="818" y="0"/>
                        </a:lnTo>
                        <a:lnTo>
                          <a:pt x="824" y="0"/>
                        </a:lnTo>
                        <a:lnTo>
                          <a:pt x="830" y="0"/>
                        </a:lnTo>
                        <a:lnTo>
                          <a:pt x="835" y="4"/>
                        </a:lnTo>
                        <a:lnTo>
                          <a:pt x="839" y="8"/>
                        </a:lnTo>
                        <a:lnTo>
                          <a:pt x="846" y="12"/>
                        </a:lnTo>
                        <a:lnTo>
                          <a:pt x="850" y="16"/>
                        </a:lnTo>
                        <a:lnTo>
                          <a:pt x="846" y="18"/>
                        </a:lnTo>
                        <a:lnTo>
                          <a:pt x="841" y="22"/>
                        </a:lnTo>
                        <a:lnTo>
                          <a:pt x="836" y="26"/>
                        </a:lnTo>
                        <a:lnTo>
                          <a:pt x="833" y="30"/>
                        </a:lnTo>
                        <a:lnTo>
                          <a:pt x="820" y="29"/>
                        </a:lnTo>
                        <a:lnTo>
                          <a:pt x="807" y="29"/>
                        </a:lnTo>
                        <a:lnTo>
                          <a:pt x="794" y="29"/>
                        </a:lnTo>
                        <a:lnTo>
                          <a:pt x="780" y="29"/>
                        </a:lnTo>
                        <a:lnTo>
                          <a:pt x="768" y="29"/>
                        </a:lnTo>
                        <a:lnTo>
                          <a:pt x="754" y="29"/>
                        </a:lnTo>
                        <a:lnTo>
                          <a:pt x="742" y="29"/>
                        </a:lnTo>
                        <a:lnTo>
                          <a:pt x="728" y="29"/>
                        </a:lnTo>
                        <a:lnTo>
                          <a:pt x="716" y="29"/>
                        </a:lnTo>
                        <a:lnTo>
                          <a:pt x="702" y="29"/>
                        </a:lnTo>
                        <a:lnTo>
                          <a:pt x="688" y="29"/>
                        </a:lnTo>
                        <a:lnTo>
                          <a:pt x="676" y="29"/>
                        </a:lnTo>
                        <a:lnTo>
                          <a:pt x="664" y="29"/>
                        </a:lnTo>
                        <a:lnTo>
                          <a:pt x="650" y="29"/>
                        </a:lnTo>
                        <a:lnTo>
                          <a:pt x="638" y="29"/>
                        </a:lnTo>
                        <a:lnTo>
                          <a:pt x="625" y="29"/>
                        </a:lnTo>
                        <a:lnTo>
                          <a:pt x="612" y="29"/>
                        </a:lnTo>
                        <a:lnTo>
                          <a:pt x="598" y="29"/>
                        </a:lnTo>
                        <a:lnTo>
                          <a:pt x="586" y="29"/>
                        </a:lnTo>
                        <a:lnTo>
                          <a:pt x="573" y="29"/>
                        </a:lnTo>
                        <a:lnTo>
                          <a:pt x="560" y="29"/>
                        </a:lnTo>
                        <a:lnTo>
                          <a:pt x="547" y="29"/>
                        </a:lnTo>
                        <a:lnTo>
                          <a:pt x="534" y="29"/>
                        </a:lnTo>
                        <a:lnTo>
                          <a:pt x="521" y="29"/>
                        </a:lnTo>
                        <a:lnTo>
                          <a:pt x="509" y="29"/>
                        </a:lnTo>
                        <a:lnTo>
                          <a:pt x="495" y="29"/>
                        </a:lnTo>
                        <a:lnTo>
                          <a:pt x="482" y="29"/>
                        </a:lnTo>
                        <a:lnTo>
                          <a:pt x="469" y="29"/>
                        </a:lnTo>
                        <a:lnTo>
                          <a:pt x="457" y="29"/>
                        </a:lnTo>
                        <a:lnTo>
                          <a:pt x="445" y="30"/>
                        </a:lnTo>
                        <a:lnTo>
                          <a:pt x="431" y="30"/>
                        </a:lnTo>
                        <a:lnTo>
                          <a:pt x="419" y="30"/>
                        </a:lnTo>
                        <a:lnTo>
                          <a:pt x="405" y="30"/>
                        </a:lnTo>
                        <a:lnTo>
                          <a:pt x="393" y="30"/>
                        </a:lnTo>
                        <a:lnTo>
                          <a:pt x="379" y="30"/>
                        </a:lnTo>
                        <a:lnTo>
                          <a:pt x="367" y="30"/>
                        </a:lnTo>
                        <a:lnTo>
                          <a:pt x="353" y="30"/>
                        </a:lnTo>
                        <a:lnTo>
                          <a:pt x="341" y="32"/>
                        </a:lnTo>
                        <a:lnTo>
                          <a:pt x="327" y="32"/>
                        </a:lnTo>
                        <a:lnTo>
                          <a:pt x="315" y="32"/>
                        </a:lnTo>
                        <a:lnTo>
                          <a:pt x="303" y="32"/>
                        </a:lnTo>
                        <a:lnTo>
                          <a:pt x="289" y="32"/>
                        </a:lnTo>
                        <a:lnTo>
                          <a:pt x="277" y="32"/>
                        </a:lnTo>
                        <a:lnTo>
                          <a:pt x="264" y="32"/>
                        </a:lnTo>
                        <a:lnTo>
                          <a:pt x="251" y="32"/>
                        </a:lnTo>
                        <a:lnTo>
                          <a:pt x="238" y="32"/>
                        </a:lnTo>
                        <a:lnTo>
                          <a:pt x="225" y="32"/>
                        </a:lnTo>
                        <a:lnTo>
                          <a:pt x="212" y="33"/>
                        </a:lnTo>
                        <a:lnTo>
                          <a:pt x="200" y="33"/>
                        </a:lnTo>
                        <a:lnTo>
                          <a:pt x="186" y="33"/>
                        </a:lnTo>
                        <a:lnTo>
                          <a:pt x="173" y="33"/>
                        </a:lnTo>
                        <a:lnTo>
                          <a:pt x="160" y="33"/>
                        </a:lnTo>
                        <a:lnTo>
                          <a:pt x="148" y="33"/>
                        </a:lnTo>
                        <a:lnTo>
                          <a:pt x="136" y="33"/>
                        </a:lnTo>
                        <a:lnTo>
                          <a:pt x="122" y="33"/>
                        </a:lnTo>
                        <a:lnTo>
                          <a:pt x="110" y="34"/>
                        </a:lnTo>
                        <a:lnTo>
                          <a:pt x="96" y="34"/>
                        </a:lnTo>
                        <a:lnTo>
                          <a:pt x="84" y="34"/>
                        </a:lnTo>
                        <a:lnTo>
                          <a:pt x="70" y="34"/>
                        </a:lnTo>
                        <a:lnTo>
                          <a:pt x="58" y="34"/>
                        </a:lnTo>
                        <a:lnTo>
                          <a:pt x="46" y="34"/>
                        </a:lnTo>
                        <a:lnTo>
                          <a:pt x="32" y="34"/>
                        </a:lnTo>
                        <a:lnTo>
                          <a:pt x="20" y="34"/>
                        </a:lnTo>
                        <a:lnTo>
                          <a:pt x="7" y="34"/>
                        </a:lnTo>
                        <a:lnTo>
                          <a:pt x="4" y="29"/>
                        </a:lnTo>
                        <a:lnTo>
                          <a:pt x="3" y="25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3" y="15"/>
                        </a:lnTo>
                        <a:lnTo>
                          <a:pt x="7" y="14"/>
                        </a:lnTo>
                        <a:lnTo>
                          <a:pt x="12" y="14"/>
                        </a:lnTo>
                        <a:lnTo>
                          <a:pt x="17" y="12"/>
                        </a:lnTo>
                        <a:lnTo>
                          <a:pt x="21" y="12"/>
                        </a:lnTo>
                        <a:lnTo>
                          <a:pt x="26" y="11"/>
                        </a:lnTo>
                        <a:lnTo>
                          <a:pt x="30" y="11"/>
                        </a:lnTo>
                        <a:lnTo>
                          <a:pt x="35" y="11"/>
                        </a:lnTo>
                        <a:lnTo>
                          <a:pt x="39" y="10"/>
                        </a:lnTo>
                        <a:lnTo>
                          <a:pt x="44" y="10"/>
                        </a:lnTo>
                        <a:lnTo>
                          <a:pt x="49" y="10"/>
                        </a:lnTo>
                        <a:lnTo>
                          <a:pt x="53" y="10"/>
                        </a:lnTo>
                        <a:lnTo>
                          <a:pt x="58" y="8"/>
                        </a:lnTo>
                        <a:lnTo>
                          <a:pt x="62" y="8"/>
                        </a:lnTo>
                        <a:lnTo>
                          <a:pt x="67" y="8"/>
                        </a:lnTo>
                        <a:lnTo>
                          <a:pt x="72" y="8"/>
                        </a:lnTo>
                        <a:lnTo>
                          <a:pt x="76" y="7"/>
                        </a:lnTo>
                        <a:lnTo>
                          <a:pt x="81" y="7"/>
                        </a:lnTo>
                        <a:lnTo>
                          <a:pt x="85" y="7"/>
                        </a:lnTo>
                        <a:lnTo>
                          <a:pt x="90" y="7"/>
                        </a:lnTo>
                        <a:lnTo>
                          <a:pt x="95" y="7"/>
                        </a:lnTo>
                        <a:lnTo>
                          <a:pt x="99" y="7"/>
                        </a:lnTo>
                        <a:lnTo>
                          <a:pt x="104" y="7"/>
                        </a:lnTo>
                        <a:lnTo>
                          <a:pt x="108" y="7"/>
                        </a:lnTo>
                        <a:lnTo>
                          <a:pt x="113" y="7"/>
                        </a:lnTo>
                        <a:lnTo>
                          <a:pt x="117" y="7"/>
                        </a:lnTo>
                        <a:lnTo>
                          <a:pt x="122" y="7"/>
                        </a:lnTo>
                        <a:lnTo>
                          <a:pt x="128" y="7"/>
                        </a:lnTo>
                        <a:lnTo>
                          <a:pt x="131" y="7"/>
                        </a:lnTo>
                        <a:lnTo>
                          <a:pt x="137" y="7"/>
                        </a:lnTo>
                        <a:lnTo>
                          <a:pt x="142" y="7"/>
                        </a:lnTo>
                        <a:lnTo>
                          <a:pt x="147" y="7"/>
                        </a:lnTo>
                        <a:lnTo>
                          <a:pt x="150" y="7"/>
                        </a:lnTo>
                        <a:lnTo>
                          <a:pt x="156" y="7"/>
                        </a:lnTo>
                        <a:lnTo>
                          <a:pt x="160" y="7"/>
                        </a:lnTo>
                        <a:lnTo>
                          <a:pt x="165" y="7"/>
                        </a:lnTo>
                        <a:lnTo>
                          <a:pt x="169" y="7"/>
                        </a:lnTo>
                        <a:lnTo>
                          <a:pt x="174" y="7"/>
                        </a:lnTo>
                        <a:lnTo>
                          <a:pt x="179" y="7"/>
                        </a:lnTo>
                        <a:lnTo>
                          <a:pt x="183" y="7"/>
                        </a:lnTo>
                        <a:lnTo>
                          <a:pt x="188" y="7"/>
                        </a:lnTo>
                        <a:lnTo>
                          <a:pt x="192" y="7"/>
                        </a:lnTo>
                        <a:lnTo>
                          <a:pt x="197" y="7"/>
                        </a:lnTo>
                        <a:lnTo>
                          <a:pt x="202" y="7"/>
                        </a:lnTo>
                        <a:lnTo>
                          <a:pt x="206" y="7"/>
                        </a:lnTo>
                        <a:lnTo>
                          <a:pt x="211" y="7"/>
                        </a:lnTo>
                        <a:lnTo>
                          <a:pt x="215" y="7"/>
                        </a:lnTo>
                        <a:lnTo>
                          <a:pt x="221" y="7"/>
                        </a:lnTo>
                        <a:lnTo>
                          <a:pt x="225" y="7"/>
                        </a:lnTo>
                        <a:lnTo>
                          <a:pt x="231" y="7"/>
                        </a:lnTo>
                        <a:lnTo>
                          <a:pt x="235" y="7"/>
                        </a:lnTo>
                        <a:lnTo>
                          <a:pt x="240" y="7"/>
                        </a:lnTo>
                        <a:lnTo>
                          <a:pt x="244" y="7"/>
                        </a:lnTo>
                        <a:lnTo>
                          <a:pt x="249" y="7"/>
                        </a:lnTo>
                        <a:lnTo>
                          <a:pt x="254" y="7"/>
                        </a:lnTo>
                        <a:lnTo>
                          <a:pt x="260" y="7"/>
                        </a:lnTo>
                        <a:lnTo>
                          <a:pt x="263" y="5"/>
                        </a:lnTo>
                        <a:lnTo>
                          <a:pt x="269" y="5"/>
                        </a:lnTo>
                        <a:lnTo>
                          <a:pt x="273" y="5"/>
                        </a:lnTo>
                        <a:lnTo>
                          <a:pt x="278" y="5"/>
                        </a:lnTo>
                        <a:lnTo>
                          <a:pt x="283" y="4"/>
                        </a:lnTo>
                        <a:lnTo>
                          <a:pt x="287" y="4"/>
                        </a:lnTo>
                        <a:lnTo>
                          <a:pt x="292" y="4"/>
                        </a:lnTo>
                        <a:lnTo>
                          <a:pt x="296" y="4"/>
                        </a:lnTo>
                        <a:lnTo>
                          <a:pt x="303" y="4"/>
                        </a:lnTo>
                        <a:lnTo>
                          <a:pt x="307" y="4"/>
                        </a:lnTo>
                        <a:lnTo>
                          <a:pt x="312" y="4"/>
                        </a:lnTo>
                        <a:lnTo>
                          <a:pt x="318" y="4"/>
                        </a:lnTo>
                        <a:lnTo>
                          <a:pt x="322" y="4"/>
                        </a:lnTo>
                        <a:lnTo>
                          <a:pt x="327" y="4"/>
                        </a:lnTo>
                        <a:lnTo>
                          <a:pt x="333" y="4"/>
                        </a:lnTo>
                        <a:lnTo>
                          <a:pt x="339" y="4"/>
                        </a:lnTo>
                        <a:lnTo>
                          <a:pt x="344" y="4"/>
                        </a:lnTo>
                        <a:lnTo>
                          <a:pt x="348" y="4"/>
                        </a:lnTo>
                        <a:lnTo>
                          <a:pt x="355" y="4"/>
                        </a:lnTo>
                        <a:lnTo>
                          <a:pt x="359" y="4"/>
                        </a:lnTo>
                        <a:lnTo>
                          <a:pt x="365" y="4"/>
                        </a:lnTo>
                        <a:lnTo>
                          <a:pt x="370" y="4"/>
                        </a:lnTo>
                        <a:lnTo>
                          <a:pt x="376" y="4"/>
                        </a:lnTo>
                        <a:lnTo>
                          <a:pt x="382" y="4"/>
                        </a:lnTo>
                        <a:lnTo>
                          <a:pt x="387" y="4"/>
                        </a:lnTo>
                        <a:lnTo>
                          <a:pt x="391" y="4"/>
                        </a:lnTo>
                        <a:lnTo>
                          <a:pt x="396" y="4"/>
                        </a:lnTo>
                        <a:lnTo>
                          <a:pt x="402" y="4"/>
                        </a:lnTo>
                        <a:lnTo>
                          <a:pt x="407" y="4"/>
                        </a:lnTo>
                        <a:lnTo>
                          <a:pt x="413" y="4"/>
                        </a:lnTo>
                        <a:lnTo>
                          <a:pt x="417" y="4"/>
                        </a:lnTo>
                        <a:lnTo>
                          <a:pt x="423" y="4"/>
                        </a:lnTo>
                        <a:lnTo>
                          <a:pt x="428" y="3"/>
                        </a:lnTo>
                        <a:lnTo>
                          <a:pt x="433" y="3"/>
                        </a:lnTo>
                        <a:lnTo>
                          <a:pt x="437" y="1"/>
                        </a:lnTo>
                        <a:lnTo>
                          <a:pt x="443" y="1"/>
                        </a:lnTo>
                        <a:lnTo>
                          <a:pt x="448" y="1"/>
                        </a:lnTo>
                        <a:lnTo>
                          <a:pt x="454" y="0"/>
                        </a:lnTo>
                        <a:lnTo>
                          <a:pt x="459" y="0"/>
                        </a:lnTo>
                        <a:lnTo>
                          <a:pt x="46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125"/>
                  <p:cNvSpPr/>
                  <p:nvPr/>
                </p:nvSpPr>
                <p:spPr>
                  <a:xfrm>
                    <a:off x="4269240" y="3226320"/>
                    <a:ext cx="7200" cy="11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52" h="86">
                        <a:moveTo>
                          <a:pt x="9" y="0"/>
                        </a:moveTo>
                        <a:lnTo>
                          <a:pt x="15" y="1"/>
                        </a:lnTo>
                        <a:lnTo>
                          <a:pt x="21" y="5"/>
                        </a:lnTo>
                        <a:lnTo>
                          <a:pt x="24" y="8"/>
                        </a:lnTo>
                        <a:lnTo>
                          <a:pt x="29" y="11"/>
                        </a:lnTo>
                        <a:lnTo>
                          <a:pt x="32" y="14"/>
                        </a:lnTo>
                        <a:lnTo>
                          <a:pt x="34" y="19"/>
                        </a:lnTo>
                        <a:lnTo>
                          <a:pt x="35" y="23"/>
                        </a:lnTo>
                        <a:lnTo>
                          <a:pt x="38" y="29"/>
                        </a:lnTo>
                        <a:lnTo>
                          <a:pt x="38" y="33"/>
                        </a:lnTo>
                        <a:lnTo>
                          <a:pt x="40" y="38"/>
                        </a:lnTo>
                        <a:lnTo>
                          <a:pt x="40" y="44"/>
                        </a:lnTo>
                        <a:lnTo>
                          <a:pt x="41" y="48"/>
                        </a:lnTo>
                        <a:lnTo>
                          <a:pt x="43" y="54"/>
                        </a:lnTo>
                        <a:lnTo>
                          <a:pt x="46" y="58"/>
                        </a:lnTo>
                        <a:lnTo>
                          <a:pt x="49" y="62"/>
                        </a:lnTo>
                        <a:lnTo>
                          <a:pt x="52" y="67"/>
                        </a:lnTo>
                        <a:lnTo>
                          <a:pt x="52" y="71"/>
                        </a:lnTo>
                        <a:lnTo>
                          <a:pt x="49" y="77"/>
                        </a:lnTo>
                        <a:lnTo>
                          <a:pt x="46" y="82"/>
                        </a:lnTo>
                        <a:lnTo>
                          <a:pt x="44" y="86"/>
                        </a:lnTo>
                        <a:lnTo>
                          <a:pt x="41" y="85"/>
                        </a:lnTo>
                        <a:lnTo>
                          <a:pt x="37" y="85"/>
                        </a:lnTo>
                        <a:lnTo>
                          <a:pt x="34" y="82"/>
                        </a:lnTo>
                        <a:lnTo>
                          <a:pt x="32" y="82"/>
                        </a:lnTo>
                        <a:lnTo>
                          <a:pt x="26" y="78"/>
                        </a:lnTo>
                        <a:lnTo>
                          <a:pt x="23" y="74"/>
                        </a:lnTo>
                        <a:lnTo>
                          <a:pt x="18" y="70"/>
                        </a:lnTo>
                        <a:lnTo>
                          <a:pt x="15" y="65"/>
                        </a:lnTo>
                        <a:lnTo>
                          <a:pt x="12" y="60"/>
                        </a:lnTo>
                        <a:lnTo>
                          <a:pt x="11" y="55"/>
                        </a:lnTo>
                        <a:lnTo>
                          <a:pt x="8" y="48"/>
                        </a:lnTo>
                        <a:lnTo>
                          <a:pt x="6" y="43"/>
                        </a:lnTo>
                        <a:lnTo>
                          <a:pt x="4" y="37"/>
                        </a:lnTo>
                        <a:lnTo>
                          <a:pt x="4" y="32"/>
                        </a:lnTo>
                        <a:lnTo>
                          <a:pt x="3" y="26"/>
                        </a:lnTo>
                        <a:lnTo>
                          <a:pt x="1" y="21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1" y="8"/>
                        </a:lnTo>
                        <a:lnTo>
                          <a:pt x="4" y="5"/>
                        </a:lnTo>
                        <a:lnTo>
                          <a:pt x="8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26"/>
                  <p:cNvSpPr/>
                  <p:nvPr/>
                </p:nvSpPr>
                <p:spPr>
                  <a:xfrm>
                    <a:off x="4258440" y="3227040"/>
                    <a:ext cx="6840" cy="936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8" h="73">
                        <a:moveTo>
                          <a:pt x="10" y="0"/>
                        </a:moveTo>
                        <a:lnTo>
                          <a:pt x="14" y="1"/>
                        </a:lnTo>
                        <a:lnTo>
                          <a:pt x="19" y="5"/>
                        </a:lnTo>
                        <a:lnTo>
                          <a:pt x="23" y="8"/>
                        </a:lnTo>
                        <a:lnTo>
                          <a:pt x="26" y="11"/>
                        </a:lnTo>
                        <a:lnTo>
                          <a:pt x="29" y="15"/>
                        </a:lnTo>
                        <a:lnTo>
                          <a:pt x="33" y="19"/>
                        </a:lnTo>
                        <a:lnTo>
                          <a:pt x="34" y="23"/>
                        </a:lnTo>
                        <a:lnTo>
                          <a:pt x="37" y="29"/>
                        </a:lnTo>
                        <a:lnTo>
                          <a:pt x="39" y="33"/>
                        </a:lnTo>
                        <a:lnTo>
                          <a:pt x="40" y="38"/>
                        </a:lnTo>
                        <a:lnTo>
                          <a:pt x="42" y="42"/>
                        </a:lnTo>
                        <a:lnTo>
                          <a:pt x="43" y="48"/>
                        </a:lnTo>
                        <a:lnTo>
                          <a:pt x="45" y="53"/>
                        </a:lnTo>
                        <a:lnTo>
                          <a:pt x="45" y="57"/>
                        </a:lnTo>
                        <a:lnTo>
                          <a:pt x="46" y="63"/>
                        </a:lnTo>
                        <a:lnTo>
                          <a:pt x="48" y="68"/>
                        </a:lnTo>
                        <a:lnTo>
                          <a:pt x="43" y="68"/>
                        </a:lnTo>
                        <a:lnTo>
                          <a:pt x="37" y="70"/>
                        </a:lnTo>
                        <a:lnTo>
                          <a:pt x="31" y="71"/>
                        </a:lnTo>
                        <a:lnTo>
                          <a:pt x="25" y="73"/>
                        </a:lnTo>
                        <a:lnTo>
                          <a:pt x="22" y="68"/>
                        </a:lnTo>
                        <a:lnTo>
                          <a:pt x="19" y="64"/>
                        </a:lnTo>
                        <a:lnTo>
                          <a:pt x="14" y="59"/>
                        </a:lnTo>
                        <a:lnTo>
                          <a:pt x="13" y="55"/>
                        </a:lnTo>
                        <a:lnTo>
                          <a:pt x="10" y="51"/>
                        </a:lnTo>
                        <a:lnTo>
                          <a:pt x="7" y="45"/>
                        </a:lnTo>
                        <a:lnTo>
                          <a:pt x="5" y="41"/>
                        </a:lnTo>
                        <a:lnTo>
                          <a:pt x="3" y="37"/>
                        </a:lnTo>
                        <a:lnTo>
                          <a:pt x="2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0" y="18"/>
                        </a:lnTo>
                        <a:lnTo>
                          <a:pt x="2" y="12"/>
                        </a:lnTo>
                        <a:lnTo>
                          <a:pt x="3" y="8"/>
                        </a:lnTo>
                        <a:lnTo>
                          <a:pt x="7" y="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127"/>
                  <p:cNvSpPr/>
                  <p:nvPr/>
                </p:nvSpPr>
                <p:spPr>
                  <a:xfrm>
                    <a:off x="4281840" y="3227760"/>
                    <a:ext cx="7920" cy="90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55" h="70">
                        <a:moveTo>
                          <a:pt x="12" y="0"/>
                        </a:moveTo>
                        <a:lnTo>
                          <a:pt x="16" y="2"/>
                        </a:lnTo>
                        <a:lnTo>
                          <a:pt x="21" y="4"/>
                        </a:lnTo>
                        <a:lnTo>
                          <a:pt x="24" y="7"/>
                        </a:lnTo>
                        <a:lnTo>
                          <a:pt x="29" y="11"/>
                        </a:lnTo>
                        <a:lnTo>
                          <a:pt x="32" y="14"/>
                        </a:lnTo>
                        <a:lnTo>
                          <a:pt x="35" y="18"/>
                        </a:lnTo>
                        <a:lnTo>
                          <a:pt x="38" y="24"/>
                        </a:lnTo>
                        <a:lnTo>
                          <a:pt x="39" y="28"/>
                        </a:lnTo>
                        <a:lnTo>
                          <a:pt x="42" y="33"/>
                        </a:lnTo>
                        <a:lnTo>
                          <a:pt x="44" y="37"/>
                        </a:lnTo>
                        <a:lnTo>
                          <a:pt x="45" y="43"/>
                        </a:lnTo>
                        <a:lnTo>
                          <a:pt x="47" y="48"/>
                        </a:lnTo>
                        <a:lnTo>
                          <a:pt x="49" y="53"/>
                        </a:lnTo>
                        <a:lnTo>
                          <a:pt x="50" y="57"/>
                        </a:lnTo>
                        <a:lnTo>
                          <a:pt x="52" y="62"/>
                        </a:lnTo>
                        <a:lnTo>
                          <a:pt x="55" y="66"/>
                        </a:lnTo>
                        <a:lnTo>
                          <a:pt x="49" y="68"/>
                        </a:lnTo>
                        <a:lnTo>
                          <a:pt x="42" y="69"/>
                        </a:lnTo>
                        <a:lnTo>
                          <a:pt x="38" y="70"/>
                        </a:lnTo>
                        <a:lnTo>
                          <a:pt x="32" y="70"/>
                        </a:lnTo>
                        <a:lnTo>
                          <a:pt x="27" y="66"/>
                        </a:lnTo>
                        <a:lnTo>
                          <a:pt x="23" y="64"/>
                        </a:lnTo>
                        <a:lnTo>
                          <a:pt x="19" y="59"/>
                        </a:lnTo>
                        <a:lnTo>
                          <a:pt x="16" y="55"/>
                        </a:lnTo>
                        <a:lnTo>
                          <a:pt x="12" y="50"/>
                        </a:lnTo>
                        <a:lnTo>
                          <a:pt x="9" y="46"/>
                        </a:lnTo>
                        <a:lnTo>
                          <a:pt x="6" y="42"/>
                        </a:lnTo>
                        <a:lnTo>
                          <a:pt x="4" y="36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1"/>
                        </a:lnTo>
                        <a:lnTo>
                          <a:pt x="1" y="17"/>
                        </a:lnTo>
                        <a:lnTo>
                          <a:pt x="1" y="11"/>
                        </a:lnTo>
                        <a:lnTo>
                          <a:pt x="4" y="9"/>
                        </a:lnTo>
                        <a:lnTo>
                          <a:pt x="7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128"/>
                  <p:cNvSpPr/>
                  <p:nvPr/>
                </p:nvSpPr>
                <p:spPr>
                  <a:xfrm>
                    <a:off x="4292640" y="3228840"/>
                    <a:ext cx="6840" cy="936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7" h="74">
                        <a:moveTo>
                          <a:pt x="9" y="0"/>
                        </a:moveTo>
                        <a:lnTo>
                          <a:pt x="15" y="2"/>
                        </a:lnTo>
                        <a:lnTo>
                          <a:pt x="19" y="4"/>
                        </a:lnTo>
                        <a:lnTo>
                          <a:pt x="24" y="7"/>
                        </a:lnTo>
                        <a:lnTo>
                          <a:pt x="29" y="11"/>
                        </a:lnTo>
                        <a:lnTo>
                          <a:pt x="30" y="14"/>
                        </a:lnTo>
                        <a:lnTo>
                          <a:pt x="33" y="19"/>
                        </a:lnTo>
                        <a:lnTo>
                          <a:pt x="36" y="25"/>
                        </a:lnTo>
                        <a:lnTo>
                          <a:pt x="38" y="29"/>
                        </a:lnTo>
                        <a:lnTo>
                          <a:pt x="38" y="35"/>
                        </a:lnTo>
                        <a:lnTo>
                          <a:pt x="39" y="40"/>
                        </a:lnTo>
                        <a:lnTo>
                          <a:pt x="41" y="46"/>
                        </a:lnTo>
                        <a:lnTo>
                          <a:pt x="42" y="51"/>
                        </a:lnTo>
                        <a:lnTo>
                          <a:pt x="42" y="55"/>
                        </a:lnTo>
                        <a:lnTo>
                          <a:pt x="44" y="61"/>
                        </a:lnTo>
                        <a:lnTo>
                          <a:pt x="45" y="65"/>
                        </a:lnTo>
                        <a:lnTo>
                          <a:pt x="47" y="70"/>
                        </a:lnTo>
                        <a:lnTo>
                          <a:pt x="41" y="70"/>
                        </a:lnTo>
                        <a:lnTo>
                          <a:pt x="35" y="72"/>
                        </a:lnTo>
                        <a:lnTo>
                          <a:pt x="29" y="73"/>
                        </a:lnTo>
                        <a:lnTo>
                          <a:pt x="26" y="74"/>
                        </a:lnTo>
                        <a:lnTo>
                          <a:pt x="21" y="70"/>
                        </a:lnTo>
                        <a:lnTo>
                          <a:pt x="18" y="66"/>
                        </a:lnTo>
                        <a:lnTo>
                          <a:pt x="15" y="61"/>
                        </a:lnTo>
                        <a:lnTo>
                          <a:pt x="12" y="57"/>
                        </a:lnTo>
                        <a:lnTo>
                          <a:pt x="9" y="51"/>
                        </a:lnTo>
                        <a:lnTo>
                          <a:pt x="7" y="47"/>
                        </a:lnTo>
                        <a:lnTo>
                          <a:pt x="4" y="41"/>
                        </a:lnTo>
                        <a:lnTo>
                          <a:pt x="4" y="37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2"/>
                        </a:lnTo>
                        <a:lnTo>
                          <a:pt x="1" y="17"/>
                        </a:lnTo>
                        <a:lnTo>
                          <a:pt x="1" y="13"/>
                        </a:lnTo>
                        <a:lnTo>
                          <a:pt x="3" y="8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129"/>
                  <p:cNvSpPr/>
                  <p:nvPr/>
                </p:nvSpPr>
                <p:spPr>
                  <a:xfrm>
                    <a:off x="4160520" y="3154320"/>
                    <a:ext cx="7560" cy="684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2" h="53">
                        <a:moveTo>
                          <a:pt x="38" y="0"/>
                        </a:moveTo>
                        <a:lnTo>
                          <a:pt x="41" y="0"/>
                        </a:lnTo>
                        <a:lnTo>
                          <a:pt x="44" y="1"/>
                        </a:lnTo>
                        <a:lnTo>
                          <a:pt x="46" y="2"/>
                        </a:lnTo>
                        <a:lnTo>
                          <a:pt x="49" y="4"/>
                        </a:lnTo>
                        <a:lnTo>
                          <a:pt x="50" y="8"/>
                        </a:lnTo>
                        <a:lnTo>
                          <a:pt x="52" y="13"/>
                        </a:lnTo>
                        <a:lnTo>
                          <a:pt x="50" y="19"/>
                        </a:lnTo>
                        <a:lnTo>
                          <a:pt x="49" y="24"/>
                        </a:lnTo>
                        <a:lnTo>
                          <a:pt x="46" y="30"/>
                        </a:lnTo>
                        <a:lnTo>
                          <a:pt x="43" y="37"/>
                        </a:lnTo>
                        <a:lnTo>
                          <a:pt x="38" y="41"/>
                        </a:lnTo>
                        <a:lnTo>
                          <a:pt x="32" y="46"/>
                        </a:lnTo>
                        <a:lnTo>
                          <a:pt x="27" y="49"/>
                        </a:lnTo>
                        <a:lnTo>
                          <a:pt x="21" y="53"/>
                        </a:lnTo>
                        <a:lnTo>
                          <a:pt x="15" y="53"/>
                        </a:lnTo>
                        <a:lnTo>
                          <a:pt x="9" y="53"/>
                        </a:lnTo>
                        <a:lnTo>
                          <a:pt x="4" y="50"/>
                        </a:lnTo>
                        <a:lnTo>
                          <a:pt x="0" y="48"/>
                        </a:lnTo>
                        <a:lnTo>
                          <a:pt x="0" y="43"/>
                        </a:lnTo>
                        <a:lnTo>
                          <a:pt x="0" y="39"/>
                        </a:lnTo>
                        <a:lnTo>
                          <a:pt x="1" y="35"/>
                        </a:lnTo>
                        <a:lnTo>
                          <a:pt x="3" y="33"/>
                        </a:lnTo>
                        <a:lnTo>
                          <a:pt x="4" y="28"/>
                        </a:lnTo>
                        <a:lnTo>
                          <a:pt x="6" y="26"/>
                        </a:lnTo>
                        <a:lnTo>
                          <a:pt x="9" y="23"/>
                        </a:lnTo>
                        <a:lnTo>
                          <a:pt x="12" y="19"/>
                        </a:lnTo>
                        <a:lnTo>
                          <a:pt x="14" y="16"/>
                        </a:lnTo>
                        <a:lnTo>
                          <a:pt x="17" y="12"/>
                        </a:lnTo>
                        <a:lnTo>
                          <a:pt x="20" y="9"/>
                        </a:lnTo>
                        <a:lnTo>
                          <a:pt x="24" y="8"/>
                        </a:lnTo>
                        <a:lnTo>
                          <a:pt x="27" y="5"/>
                        </a:lnTo>
                        <a:lnTo>
                          <a:pt x="30" y="2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130"/>
                  <p:cNvSpPr/>
                  <p:nvPr/>
                </p:nvSpPr>
                <p:spPr>
                  <a:xfrm>
                    <a:off x="4160520" y="3160800"/>
                    <a:ext cx="9000" cy="1080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63" h="84">
                        <a:moveTo>
                          <a:pt x="47" y="0"/>
                        </a:moveTo>
                        <a:lnTo>
                          <a:pt x="50" y="1"/>
                        </a:lnTo>
                        <a:lnTo>
                          <a:pt x="53" y="4"/>
                        </a:lnTo>
                        <a:lnTo>
                          <a:pt x="55" y="5"/>
                        </a:lnTo>
                        <a:lnTo>
                          <a:pt x="58" y="8"/>
                        </a:lnTo>
                        <a:lnTo>
                          <a:pt x="61" y="14"/>
                        </a:lnTo>
                        <a:lnTo>
                          <a:pt x="63" y="18"/>
                        </a:lnTo>
                        <a:lnTo>
                          <a:pt x="63" y="23"/>
                        </a:lnTo>
                        <a:lnTo>
                          <a:pt x="61" y="29"/>
                        </a:lnTo>
                        <a:lnTo>
                          <a:pt x="60" y="34"/>
                        </a:lnTo>
                        <a:lnTo>
                          <a:pt x="56" y="41"/>
                        </a:lnTo>
                        <a:lnTo>
                          <a:pt x="52" y="47"/>
                        </a:lnTo>
                        <a:lnTo>
                          <a:pt x="49" y="52"/>
                        </a:lnTo>
                        <a:lnTo>
                          <a:pt x="44" y="58"/>
                        </a:lnTo>
                        <a:lnTo>
                          <a:pt x="40" y="63"/>
                        </a:lnTo>
                        <a:lnTo>
                          <a:pt x="35" y="69"/>
                        </a:lnTo>
                        <a:lnTo>
                          <a:pt x="32" y="74"/>
                        </a:lnTo>
                        <a:lnTo>
                          <a:pt x="27" y="78"/>
                        </a:lnTo>
                        <a:lnTo>
                          <a:pt x="24" y="84"/>
                        </a:lnTo>
                        <a:lnTo>
                          <a:pt x="18" y="82"/>
                        </a:lnTo>
                        <a:lnTo>
                          <a:pt x="12" y="81"/>
                        </a:lnTo>
                        <a:lnTo>
                          <a:pt x="9" y="80"/>
                        </a:lnTo>
                        <a:lnTo>
                          <a:pt x="6" y="80"/>
                        </a:lnTo>
                        <a:lnTo>
                          <a:pt x="3" y="80"/>
                        </a:lnTo>
                        <a:lnTo>
                          <a:pt x="0" y="80"/>
                        </a:lnTo>
                        <a:lnTo>
                          <a:pt x="1" y="74"/>
                        </a:lnTo>
                        <a:lnTo>
                          <a:pt x="4" y="69"/>
                        </a:lnTo>
                        <a:lnTo>
                          <a:pt x="6" y="63"/>
                        </a:lnTo>
                        <a:lnTo>
                          <a:pt x="9" y="58"/>
                        </a:lnTo>
                        <a:lnTo>
                          <a:pt x="12" y="52"/>
                        </a:lnTo>
                        <a:lnTo>
                          <a:pt x="15" y="47"/>
                        </a:lnTo>
                        <a:lnTo>
                          <a:pt x="17" y="43"/>
                        </a:lnTo>
                        <a:lnTo>
                          <a:pt x="21" y="38"/>
                        </a:lnTo>
                        <a:lnTo>
                          <a:pt x="23" y="33"/>
                        </a:lnTo>
                        <a:lnTo>
                          <a:pt x="26" y="27"/>
                        </a:lnTo>
                        <a:lnTo>
                          <a:pt x="29" y="23"/>
                        </a:lnTo>
                        <a:lnTo>
                          <a:pt x="34" y="19"/>
                        </a:lnTo>
                        <a:lnTo>
                          <a:pt x="37" y="14"/>
                        </a:lnTo>
                        <a:lnTo>
                          <a:pt x="40" y="10"/>
                        </a:lnTo>
                        <a:lnTo>
                          <a:pt x="44" y="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131"/>
                  <p:cNvSpPr/>
                  <p:nvPr/>
                </p:nvSpPr>
                <p:spPr>
                  <a:xfrm>
                    <a:off x="4160520" y="3171960"/>
                    <a:ext cx="10080" cy="133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72" h="103">
                        <a:moveTo>
                          <a:pt x="55" y="0"/>
                        </a:moveTo>
                        <a:lnTo>
                          <a:pt x="58" y="1"/>
                        </a:lnTo>
                        <a:lnTo>
                          <a:pt x="63" y="4"/>
                        </a:lnTo>
                        <a:lnTo>
                          <a:pt x="64" y="7"/>
                        </a:lnTo>
                        <a:lnTo>
                          <a:pt x="67" y="8"/>
                        </a:lnTo>
                        <a:lnTo>
                          <a:pt x="69" y="13"/>
                        </a:lnTo>
                        <a:lnTo>
                          <a:pt x="72" y="19"/>
                        </a:lnTo>
                        <a:lnTo>
                          <a:pt x="70" y="24"/>
                        </a:lnTo>
                        <a:lnTo>
                          <a:pt x="69" y="30"/>
                        </a:lnTo>
                        <a:lnTo>
                          <a:pt x="66" y="35"/>
                        </a:lnTo>
                        <a:lnTo>
                          <a:pt x="63" y="41"/>
                        </a:lnTo>
                        <a:lnTo>
                          <a:pt x="60" y="46"/>
                        </a:lnTo>
                        <a:lnTo>
                          <a:pt x="55" y="53"/>
                        </a:lnTo>
                        <a:lnTo>
                          <a:pt x="50" y="57"/>
                        </a:lnTo>
                        <a:lnTo>
                          <a:pt x="46" y="64"/>
                        </a:lnTo>
                        <a:lnTo>
                          <a:pt x="43" y="70"/>
                        </a:lnTo>
                        <a:lnTo>
                          <a:pt x="40" y="75"/>
                        </a:lnTo>
                        <a:lnTo>
                          <a:pt x="38" y="81"/>
                        </a:lnTo>
                        <a:lnTo>
                          <a:pt x="38" y="86"/>
                        </a:lnTo>
                        <a:lnTo>
                          <a:pt x="32" y="90"/>
                        </a:lnTo>
                        <a:lnTo>
                          <a:pt x="27" y="94"/>
                        </a:lnTo>
                        <a:lnTo>
                          <a:pt x="21" y="99"/>
                        </a:lnTo>
                        <a:lnTo>
                          <a:pt x="17" y="103"/>
                        </a:lnTo>
                        <a:lnTo>
                          <a:pt x="12" y="100"/>
                        </a:lnTo>
                        <a:lnTo>
                          <a:pt x="9" y="97"/>
                        </a:lnTo>
                        <a:lnTo>
                          <a:pt x="4" y="93"/>
                        </a:lnTo>
                        <a:lnTo>
                          <a:pt x="0" y="90"/>
                        </a:lnTo>
                        <a:lnTo>
                          <a:pt x="0" y="88"/>
                        </a:lnTo>
                        <a:lnTo>
                          <a:pt x="1" y="83"/>
                        </a:lnTo>
                        <a:lnTo>
                          <a:pt x="1" y="81"/>
                        </a:lnTo>
                        <a:lnTo>
                          <a:pt x="3" y="78"/>
                        </a:lnTo>
                        <a:lnTo>
                          <a:pt x="6" y="71"/>
                        </a:lnTo>
                        <a:lnTo>
                          <a:pt x="9" y="66"/>
                        </a:lnTo>
                        <a:lnTo>
                          <a:pt x="12" y="60"/>
                        </a:lnTo>
                        <a:lnTo>
                          <a:pt x="17" y="55"/>
                        </a:lnTo>
                        <a:lnTo>
                          <a:pt x="20" y="49"/>
                        </a:lnTo>
                        <a:lnTo>
                          <a:pt x="24" y="44"/>
                        </a:lnTo>
                        <a:lnTo>
                          <a:pt x="29" y="38"/>
                        </a:lnTo>
                        <a:lnTo>
                          <a:pt x="32" y="31"/>
                        </a:lnTo>
                        <a:lnTo>
                          <a:pt x="35" y="26"/>
                        </a:lnTo>
                        <a:lnTo>
                          <a:pt x="40" y="22"/>
                        </a:lnTo>
                        <a:lnTo>
                          <a:pt x="44" y="16"/>
                        </a:lnTo>
                        <a:lnTo>
                          <a:pt x="47" y="11"/>
                        </a:lnTo>
                        <a:lnTo>
                          <a:pt x="52" y="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132"/>
                  <p:cNvSpPr/>
                  <p:nvPr/>
                </p:nvSpPr>
                <p:spPr>
                  <a:xfrm>
                    <a:off x="4207680" y="3134880"/>
                    <a:ext cx="8640" cy="504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62" h="39">
                        <a:moveTo>
                          <a:pt x="12" y="0"/>
                        </a:moveTo>
                        <a:lnTo>
                          <a:pt x="15" y="0"/>
                        </a:lnTo>
                        <a:lnTo>
                          <a:pt x="18" y="0"/>
                        </a:lnTo>
                        <a:lnTo>
                          <a:pt x="24" y="2"/>
                        </a:lnTo>
                        <a:lnTo>
                          <a:pt x="29" y="3"/>
                        </a:lnTo>
                        <a:lnTo>
                          <a:pt x="35" y="6"/>
                        </a:lnTo>
                        <a:lnTo>
                          <a:pt x="41" y="9"/>
                        </a:lnTo>
                        <a:lnTo>
                          <a:pt x="46" y="10"/>
                        </a:lnTo>
                        <a:lnTo>
                          <a:pt x="52" y="14"/>
                        </a:lnTo>
                        <a:lnTo>
                          <a:pt x="55" y="15"/>
                        </a:lnTo>
                        <a:lnTo>
                          <a:pt x="59" y="20"/>
                        </a:lnTo>
                        <a:lnTo>
                          <a:pt x="61" y="22"/>
                        </a:lnTo>
                        <a:lnTo>
                          <a:pt x="62" y="26"/>
                        </a:lnTo>
                        <a:lnTo>
                          <a:pt x="61" y="29"/>
                        </a:lnTo>
                        <a:lnTo>
                          <a:pt x="59" y="32"/>
                        </a:lnTo>
                        <a:lnTo>
                          <a:pt x="56" y="35"/>
                        </a:lnTo>
                        <a:lnTo>
                          <a:pt x="55" y="36"/>
                        </a:lnTo>
                        <a:lnTo>
                          <a:pt x="52" y="37"/>
                        </a:lnTo>
                        <a:lnTo>
                          <a:pt x="49" y="39"/>
                        </a:lnTo>
                        <a:lnTo>
                          <a:pt x="44" y="39"/>
                        </a:lnTo>
                        <a:lnTo>
                          <a:pt x="41" y="39"/>
                        </a:lnTo>
                        <a:lnTo>
                          <a:pt x="36" y="37"/>
                        </a:lnTo>
                        <a:lnTo>
                          <a:pt x="32" y="37"/>
                        </a:lnTo>
                        <a:lnTo>
                          <a:pt x="26" y="35"/>
                        </a:lnTo>
                        <a:lnTo>
                          <a:pt x="21" y="33"/>
                        </a:lnTo>
                        <a:lnTo>
                          <a:pt x="15" y="31"/>
                        </a:lnTo>
                        <a:lnTo>
                          <a:pt x="10" y="28"/>
                        </a:lnTo>
                        <a:lnTo>
                          <a:pt x="6" y="25"/>
                        </a:lnTo>
                        <a:lnTo>
                          <a:pt x="3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133"/>
                  <p:cNvSpPr/>
                  <p:nvPr/>
                </p:nvSpPr>
                <p:spPr>
                  <a:xfrm>
                    <a:off x="4208040" y="3141720"/>
                    <a:ext cx="9000" cy="540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4" h="42">
                        <a:moveTo>
                          <a:pt x="12" y="0"/>
                        </a:moveTo>
                        <a:lnTo>
                          <a:pt x="15" y="2"/>
                        </a:lnTo>
                        <a:lnTo>
                          <a:pt x="20" y="2"/>
                        </a:lnTo>
                        <a:lnTo>
                          <a:pt x="24" y="5"/>
                        </a:lnTo>
                        <a:lnTo>
                          <a:pt x="30" y="6"/>
                        </a:lnTo>
                        <a:lnTo>
                          <a:pt x="35" y="7"/>
                        </a:lnTo>
                        <a:lnTo>
                          <a:pt x="41" y="10"/>
                        </a:lnTo>
                        <a:lnTo>
                          <a:pt x="47" y="11"/>
                        </a:lnTo>
                        <a:lnTo>
                          <a:pt x="52" y="16"/>
                        </a:lnTo>
                        <a:lnTo>
                          <a:pt x="56" y="17"/>
                        </a:lnTo>
                        <a:lnTo>
                          <a:pt x="59" y="20"/>
                        </a:lnTo>
                        <a:lnTo>
                          <a:pt x="62" y="24"/>
                        </a:lnTo>
                        <a:lnTo>
                          <a:pt x="64" y="27"/>
                        </a:lnTo>
                        <a:lnTo>
                          <a:pt x="62" y="31"/>
                        </a:lnTo>
                        <a:lnTo>
                          <a:pt x="61" y="33"/>
                        </a:lnTo>
                        <a:lnTo>
                          <a:pt x="58" y="35"/>
                        </a:lnTo>
                        <a:lnTo>
                          <a:pt x="56" y="38"/>
                        </a:lnTo>
                        <a:lnTo>
                          <a:pt x="53" y="39"/>
                        </a:lnTo>
                        <a:lnTo>
                          <a:pt x="50" y="42"/>
                        </a:lnTo>
                        <a:lnTo>
                          <a:pt x="46" y="42"/>
                        </a:lnTo>
                        <a:lnTo>
                          <a:pt x="41" y="42"/>
                        </a:lnTo>
                        <a:lnTo>
                          <a:pt x="35" y="40"/>
                        </a:lnTo>
                        <a:lnTo>
                          <a:pt x="30" y="39"/>
                        </a:lnTo>
                        <a:lnTo>
                          <a:pt x="26" y="36"/>
                        </a:lnTo>
                        <a:lnTo>
                          <a:pt x="20" y="35"/>
                        </a:lnTo>
                        <a:lnTo>
                          <a:pt x="15" y="32"/>
                        </a:lnTo>
                        <a:lnTo>
                          <a:pt x="10" y="29"/>
                        </a:lnTo>
                        <a:lnTo>
                          <a:pt x="4" y="25"/>
                        </a:lnTo>
                        <a:lnTo>
                          <a:pt x="1" y="21"/>
                        </a:ln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1" y="7"/>
                        </a:lnTo>
                        <a:lnTo>
                          <a:pt x="3" y="5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134"/>
                  <p:cNvSpPr/>
                  <p:nvPr/>
                </p:nvSpPr>
                <p:spPr>
                  <a:xfrm>
                    <a:off x="4206960" y="3150000"/>
                    <a:ext cx="9360" cy="5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67" h="39">
                        <a:moveTo>
                          <a:pt x="12" y="0"/>
                        </a:moveTo>
                        <a:lnTo>
                          <a:pt x="14" y="0"/>
                        </a:lnTo>
                        <a:lnTo>
                          <a:pt x="18" y="2"/>
                        </a:lnTo>
                        <a:lnTo>
                          <a:pt x="23" y="2"/>
                        </a:lnTo>
                        <a:lnTo>
                          <a:pt x="31" y="3"/>
                        </a:lnTo>
                        <a:lnTo>
                          <a:pt x="35" y="4"/>
                        </a:lnTo>
                        <a:lnTo>
                          <a:pt x="41" y="7"/>
                        </a:lnTo>
                        <a:lnTo>
                          <a:pt x="48" y="8"/>
                        </a:lnTo>
                        <a:lnTo>
                          <a:pt x="54" y="11"/>
                        </a:lnTo>
                        <a:lnTo>
                          <a:pt x="58" y="14"/>
                        </a:lnTo>
                        <a:lnTo>
                          <a:pt x="63" y="17"/>
                        </a:lnTo>
                        <a:lnTo>
                          <a:pt x="66" y="19"/>
                        </a:lnTo>
                        <a:lnTo>
                          <a:pt x="67" y="22"/>
                        </a:lnTo>
                        <a:lnTo>
                          <a:pt x="67" y="26"/>
                        </a:lnTo>
                        <a:lnTo>
                          <a:pt x="66" y="30"/>
                        </a:lnTo>
                        <a:lnTo>
                          <a:pt x="63" y="32"/>
                        </a:lnTo>
                        <a:lnTo>
                          <a:pt x="61" y="35"/>
                        </a:lnTo>
                        <a:lnTo>
                          <a:pt x="58" y="36"/>
                        </a:lnTo>
                        <a:lnTo>
                          <a:pt x="55" y="39"/>
                        </a:lnTo>
                        <a:lnTo>
                          <a:pt x="51" y="39"/>
                        </a:lnTo>
                        <a:lnTo>
                          <a:pt x="46" y="37"/>
                        </a:lnTo>
                        <a:lnTo>
                          <a:pt x="40" y="36"/>
                        </a:lnTo>
                        <a:lnTo>
                          <a:pt x="34" y="35"/>
                        </a:lnTo>
                        <a:lnTo>
                          <a:pt x="28" y="33"/>
                        </a:lnTo>
                        <a:lnTo>
                          <a:pt x="23" y="32"/>
                        </a:lnTo>
                        <a:lnTo>
                          <a:pt x="17" y="29"/>
                        </a:lnTo>
                        <a:lnTo>
                          <a:pt x="12" y="28"/>
                        </a:lnTo>
                        <a:lnTo>
                          <a:pt x="8" y="24"/>
                        </a:lnTo>
                        <a:lnTo>
                          <a:pt x="5" y="21"/>
                        </a:lnTo>
                        <a:lnTo>
                          <a:pt x="2" y="18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2" y="7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135"/>
                  <p:cNvSpPr/>
                  <p:nvPr/>
                </p:nvSpPr>
                <p:spPr>
                  <a:xfrm>
                    <a:off x="4209840" y="3156480"/>
                    <a:ext cx="7920" cy="576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56" h="45">
                        <a:moveTo>
                          <a:pt x="14" y="0"/>
                        </a:moveTo>
                        <a:lnTo>
                          <a:pt x="17" y="1"/>
                        </a:lnTo>
                        <a:lnTo>
                          <a:pt x="20" y="2"/>
                        </a:lnTo>
                        <a:lnTo>
                          <a:pt x="25" y="4"/>
                        </a:lnTo>
                        <a:lnTo>
                          <a:pt x="30" y="7"/>
                        </a:lnTo>
                        <a:lnTo>
                          <a:pt x="34" y="8"/>
                        </a:lnTo>
                        <a:lnTo>
                          <a:pt x="39" y="12"/>
                        </a:lnTo>
                        <a:lnTo>
                          <a:pt x="43" y="15"/>
                        </a:lnTo>
                        <a:lnTo>
                          <a:pt x="48" y="19"/>
                        </a:lnTo>
                        <a:lnTo>
                          <a:pt x="51" y="22"/>
                        </a:lnTo>
                        <a:lnTo>
                          <a:pt x="52" y="24"/>
                        </a:lnTo>
                        <a:lnTo>
                          <a:pt x="56" y="28"/>
                        </a:lnTo>
                        <a:lnTo>
                          <a:pt x="56" y="33"/>
                        </a:lnTo>
                        <a:lnTo>
                          <a:pt x="54" y="35"/>
                        </a:lnTo>
                        <a:lnTo>
                          <a:pt x="52" y="38"/>
                        </a:lnTo>
                        <a:lnTo>
                          <a:pt x="49" y="41"/>
                        </a:lnTo>
                        <a:lnTo>
                          <a:pt x="48" y="42"/>
                        </a:lnTo>
                        <a:lnTo>
                          <a:pt x="45" y="44"/>
                        </a:lnTo>
                        <a:lnTo>
                          <a:pt x="42" y="45"/>
                        </a:lnTo>
                        <a:lnTo>
                          <a:pt x="37" y="44"/>
                        </a:lnTo>
                        <a:lnTo>
                          <a:pt x="33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6" y="34"/>
                        </a:lnTo>
                        <a:lnTo>
                          <a:pt x="11" y="30"/>
                        </a:lnTo>
                        <a:lnTo>
                          <a:pt x="8" y="27"/>
                        </a:lnTo>
                        <a:lnTo>
                          <a:pt x="5" y="23"/>
                        </a:lnTo>
                        <a:lnTo>
                          <a:pt x="2" y="20"/>
                        </a:lnTo>
                        <a:lnTo>
                          <a:pt x="0" y="16"/>
                        </a:lnTo>
                        <a:lnTo>
                          <a:pt x="2" y="13"/>
                        </a:lnTo>
                        <a:lnTo>
                          <a:pt x="2" y="9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Freeform 136"/>
                  <p:cNvSpPr/>
                  <p:nvPr/>
                </p:nvSpPr>
                <p:spPr>
                  <a:xfrm>
                    <a:off x="4246560" y="3178080"/>
                    <a:ext cx="6120" cy="122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44" h="96">
                        <a:moveTo>
                          <a:pt x="17" y="0"/>
                        </a:moveTo>
                        <a:lnTo>
                          <a:pt x="21" y="2"/>
                        </a:lnTo>
                        <a:lnTo>
                          <a:pt x="26" y="5"/>
                        </a:lnTo>
                        <a:lnTo>
                          <a:pt x="29" y="9"/>
                        </a:lnTo>
                        <a:lnTo>
                          <a:pt x="32" y="15"/>
                        </a:lnTo>
                        <a:lnTo>
                          <a:pt x="33" y="19"/>
                        </a:lnTo>
                        <a:lnTo>
                          <a:pt x="33" y="23"/>
                        </a:lnTo>
                        <a:lnTo>
                          <a:pt x="33" y="30"/>
                        </a:lnTo>
                        <a:lnTo>
                          <a:pt x="35" y="35"/>
                        </a:lnTo>
                        <a:lnTo>
                          <a:pt x="35" y="41"/>
                        </a:lnTo>
                        <a:lnTo>
                          <a:pt x="35" y="46"/>
                        </a:lnTo>
                        <a:lnTo>
                          <a:pt x="35" y="52"/>
                        </a:lnTo>
                        <a:lnTo>
                          <a:pt x="35" y="59"/>
                        </a:lnTo>
                        <a:lnTo>
                          <a:pt x="37" y="64"/>
                        </a:lnTo>
                        <a:lnTo>
                          <a:pt x="38" y="70"/>
                        </a:lnTo>
                        <a:lnTo>
                          <a:pt x="40" y="74"/>
                        </a:lnTo>
                        <a:lnTo>
                          <a:pt x="44" y="79"/>
                        </a:lnTo>
                        <a:lnTo>
                          <a:pt x="40" y="83"/>
                        </a:lnTo>
                        <a:lnTo>
                          <a:pt x="37" y="88"/>
                        </a:lnTo>
                        <a:lnTo>
                          <a:pt x="33" y="92"/>
                        </a:lnTo>
                        <a:lnTo>
                          <a:pt x="32" y="96"/>
                        </a:lnTo>
                        <a:lnTo>
                          <a:pt x="27" y="93"/>
                        </a:lnTo>
                        <a:lnTo>
                          <a:pt x="23" y="92"/>
                        </a:lnTo>
                        <a:lnTo>
                          <a:pt x="20" y="90"/>
                        </a:lnTo>
                        <a:lnTo>
                          <a:pt x="18" y="89"/>
                        </a:lnTo>
                        <a:lnTo>
                          <a:pt x="12" y="83"/>
                        </a:lnTo>
                        <a:lnTo>
                          <a:pt x="9" y="78"/>
                        </a:lnTo>
                        <a:lnTo>
                          <a:pt x="6" y="75"/>
                        </a:lnTo>
                        <a:lnTo>
                          <a:pt x="4" y="71"/>
                        </a:lnTo>
                        <a:lnTo>
                          <a:pt x="3" y="68"/>
                        </a:lnTo>
                        <a:lnTo>
                          <a:pt x="3" y="66"/>
                        </a:lnTo>
                        <a:lnTo>
                          <a:pt x="1" y="62"/>
                        </a:lnTo>
                        <a:lnTo>
                          <a:pt x="0" y="57"/>
                        </a:lnTo>
                        <a:lnTo>
                          <a:pt x="0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5"/>
                        </a:lnTo>
                        <a:lnTo>
                          <a:pt x="0" y="33"/>
                        </a:lnTo>
                        <a:lnTo>
                          <a:pt x="1" y="29"/>
                        </a:lnTo>
                        <a:lnTo>
                          <a:pt x="1" y="26"/>
                        </a:lnTo>
                        <a:lnTo>
                          <a:pt x="3" y="22"/>
                        </a:lnTo>
                        <a:lnTo>
                          <a:pt x="3" y="19"/>
                        </a:lnTo>
                        <a:lnTo>
                          <a:pt x="4" y="15"/>
                        </a:lnTo>
                        <a:lnTo>
                          <a:pt x="6" y="12"/>
                        </a:lnTo>
                        <a:lnTo>
                          <a:pt x="9" y="9"/>
                        </a:lnTo>
                        <a:lnTo>
                          <a:pt x="12" y="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137"/>
                  <p:cNvSpPr/>
                  <p:nvPr/>
                </p:nvSpPr>
                <p:spPr>
                  <a:xfrm>
                    <a:off x="4253400" y="3178440"/>
                    <a:ext cx="3960" cy="576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29" h="46">
                        <a:moveTo>
                          <a:pt x="12" y="0"/>
                        </a:moveTo>
                        <a:lnTo>
                          <a:pt x="17" y="0"/>
                        </a:lnTo>
                        <a:lnTo>
                          <a:pt x="22" y="3"/>
                        </a:lnTo>
                        <a:lnTo>
                          <a:pt x="25" y="6"/>
                        </a:lnTo>
                        <a:lnTo>
                          <a:pt x="28" y="10"/>
                        </a:lnTo>
                        <a:lnTo>
                          <a:pt x="28" y="16"/>
                        </a:lnTo>
                        <a:lnTo>
                          <a:pt x="29" y="21"/>
                        </a:lnTo>
                        <a:lnTo>
                          <a:pt x="29" y="27"/>
                        </a:lnTo>
                        <a:lnTo>
                          <a:pt x="29" y="32"/>
                        </a:lnTo>
                        <a:lnTo>
                          <a:pt x="28" y="36"/>
                        </a:lnTo>
                        <a:lnTo>
                          <a:pt x="25" y="40"/>
                        </a:lnTo>
                        <a:lnTo>
                          <a:pt x="22" y="43"/>
                        </a:lnTo>
                        <a:lnTo>
                          <a:pt x="19" y="46"/>
                        </a:lnTo>
                        <a:lnTo>
                          <a:pt x="14" y="46"/>
                        </a:lnTo>
                        <a:lnTo>
                          <a:pt x="9" y="43"/>
                        </a:lnTo>
                        <a:lnTo>
                          <a:pt x="6" y="42"/>
                        </a:lnTo>
                        <a:lnTo>
                          <a:pt x="5" y="40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31"/>
                        </a:lnTo>
                        <a:lnTo>
                          <a:pt x="0" y="25"/>
                        </a:lnTo>
                        <a:lnTo>
                          <a:pt x="3" y="20"/>
                        </a:lnTo>
                        <a:lnTo>
                          <a:pt x="5" y="16"/>
                        </a:lnTo>
                        <a:lnTo>
                          <a:pt x="6" y="9"/>
                        </a:lnTo>
                        <a:lnTo>
                          <a:pt x="9" y="5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138"/>
                  <p:cNvSpPr/>
                  <p:nvPr/>
                </p:nvSpPr>
                <p:spPr>
                  <a:xfrm>
                    <a:off x="4123440" y="3228840"/>
                    <a:ext cx="79560" cy="756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551" h="61">
                        <a:moveTo>
                          <a:pt x="372" y="0"/>
                        </a:moveTo>
                        <a:lnTo>
                          <a:pt x="377" y="0"/>
                        </a:lnTo>
                        <a:lnTo>
                          <a:pt x="383" y="0"/>
                        </a:lnTo>
                        <a:lnTo>
                          <a:pt x="387" y="0"/>
                        </a:lnTo>
                        <a:lnTo>
                          <a:pt x="394" y="0"/>
                        </a:lnTo>
                        <a:lnTo>
                          <a:pt x="398" y="0"/>
                        </a:lnTo>
                        <a:lnTo>
                          <a:pt x="404" y="0"/>
                        </a:lnTo>
                        <a:lnTo>
                          <a:pt x="410" y="0"/>
                        </a:lnTo>
                        <a:lnTo>
                          <a:pt x="415" y="2"/>
                        </a:lnTo>
                        <a:lnTo>
                          <a:pt x="421" y="0"/>
                        </a:lnTo>
                        <a:lnTo>
                          <a:pt x="426" y="0"/>
                        </a:lnTo>
                        <a:lnTo>
                          <a:pt x="432" y="0"/>
                        </a:lnTo>
                        <a:lnTo>
                          <a:pt x="438" y="0"/>
                        </a:lnTo>
                        <a:lnTo>
                          <a:pt x="442" y="0"/>
                        </a:lnTo>
                        <a:lnTo>
                          <a:pt x="449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5" y="0"/>
                        </a:lnTo>
                        <a:lnTo>
                          <a:pt x="470" y="0"/>
                        </a:lnTo>
                        <a:lnTo>
                          <a:pt x="476" y="0"/>
                        </a:lnTo>
                        <a:lnTo>
                          <a:pt x="482" y="0"/>
                        </a:lnTo>
                        <a:lnTo>
                          <a:pt x="487" y="0"/>
                        </a:lnTo>
                        <a:lnTo>
                          <a:pt x="493" y="0"/>
                        </a:lnTo>
                        <a:lnTo>
                          <a:pt x="499" y="0"/>
                        </a:lnTo>
                        <a:lnTo>
                          <a:pt x="504" y="0"/>
                        </a:lnTo>
                        <a:lnTo>
                          <a:pt x="510" y="0"/>
                        </a:lnTo>
                        <a:lnTo>
                          <a:pt x="514" y="0"/>
                        </a:lnTo>
                        <a:lnTo>
                          <a:pt x="520" y="2"/>
                        </a:lnTo>
                        <a:lnTo>
                          <a:pt x="527" y="2"/>
                        </a:lnTo>
                        <a:lnTo>
                          <a:pt x="531" y="2"/>
                        </a:lnTo>
                        <a:lnTo>
                          <a:pt x="537" y="3"/>
                        </a:lnTo>
                        <a:lnTo>
                          <a:pt x="543" y="3"/>
                        </a:lnTo>
                        <a:lnTo>
                          <a:pt x="548" y="4"/>
                        </a:lnTo>
                        <a:lnTo>
                          <a:pt x="548" y="8"/>
                        </a:lnTo>
                        <a:lnTo>
                          <a:pt x="550" y="14"/>
                        </a:lnTo>
                        <a:lnTo>
                          <a:pt x="551" y="19"/>
                        </a:lnTo>
                        <a:lnTo>
                          <a:pt x="551" y="25"/>
                        </a:lnTo>
                        <a:lnTo>
                          <a:pt x="543" y="25"/>
                        </a:lnTo>
                        <a:lnTo>
                          <a:pt x="536" y="25"/>
                        </a:lnTo>
                        <a:lnTo>
                          <a:pt x="528" y="25"/>
                        </a:lnTo>
                        <a:lnTo>
                          <a:pt x="520" y="25"/>
                        </a:lnTo>
                        <a:lnTo>
                          <a:pt x="513" y="25"/>
                        </a:lnTo>
                        <a:lnTo>
                          <a:pt x="505" y="26"/>
                        </a:lnTo>
                        <a:lnTo>
                          <a:pt x="498" y="26"/>
                        </a:lnTo>
                        <a:lnTo>
                          <a:pt x="490" y="26"/>
                        </a:lnTo>
                        <a:lnTo>
                          <a:pt x="482" y="26"/>
                        </a:lnTo>
                        <a:lnTo>
                          <a:pt x="475" y="26"/>
                        </a:lnTo>
                        <a:lnTo>
                          <a:pt x="465" y="26"/>
                        </a:lnTo>
                        <a:lnTo>
                          <a:pt x="459" y="26"/>
                        </a:lnTo>
                        <a:lnTo>
                          <a:pt x="452" y="26"/>
                        </a:lnTo>
                        <a:lnTo>
                          <a:pt x="444" y="28"/>
                        </a:lnTo>
                        <a:lnTo>
                          <a:pt x="436" y="28"/>
                        </a:lnTo>
                        <a:lnTo>
                          <a:pt x="429" y="28"/>
                        </a:lnTo>
                        <a:lnTo>
                          <a:pt x="421" y="28"/>
                        </a:lnTo>
                        <a:lnTo>
                          <a:pt x="413" y="28"/>
                        </a:lnTo>
                        <a:lnTo>
                          <a:pt x="404" y="28"/>
                        </a:lnTo>
                        <a:lnTo>
                          <a:pt x="398" y="29"/>
                        </a:lnTo>
                        <a:lnTo>
                          <a:pt x="389" y="29"/>
                        </a:lnTo>
                        <a:lnTo>
                          <a:pt x="381" y="29"/>
                        </a:lnTo>
                        <a:lnTo>
                          <a:pt x="374" y="29"/>
                        </a:lnTo>
                        <a:lnTo>
                          <a:pt x="368" y="29"/>
                        </a:lnTo>
                        <a:lnTo>
                          <a:pt x="358" y="29"/>
                        </a:lnTo>
                        <a:lnTo>
                          <a:pt x="351" y="29"/>
                        </a:lnTo>
                        <a:lnTo>
                          <a:pt x="343" y="29"/>
                        </a:lnTo>
                        <a:lnTo>
                          <a:pt x="335" y="30"/>
                        </a:lnTo>
                        <a:lnTo>
                          <a:pt x="329" y="30"/>
                        </a:lnTo>
                        <a:lnTo>
                          <a:pt x="322" y="30"/>
                        </a:lnTo>
                        <a:lnTo>
                          <a:pt x="314" y="32"/>
                        </a:lnTo>
                        <a:lnTo>
                          <a:pt x="306" y="32"/>
                        </a:lnTo>
                        <a:lnTo>
                          <a:pt x="299" y="32"/>
                        </a:lnTo>
                        <a:lnTo>
                          <a:pt x="291" y="32"/>
                        </a:lnTo>
                        <a:lnTo>
                          <a:pt x="282" y="32"/>
                        </a:lnTo>
                        <a:lnTo>
                          <a:pt x="274" y="33"/>
                        </a:lnTo>
                        <a:lnTo>
                          <a:pt x="267" y="33"/>
                        </a:lnTo>
                        <a:lnTo>
                          <a:pt x="259" y="33"/>
                        </a:lnTo>
                        <a:lnTo>
                          <a:pt x="251" y="35"/>
                        </a:lnTo>
                        <a:lnTo>
                          <a:pt x="244" y="36"/>
                        </a:lnTo>
                        <a:lnTo>
                          <a:pt x="236" y="36"/>
                        </a:lnTo>
                        <a:lnTo>
                          <a:pt x="228" y="36"/>
                        </a:lnTo>
                        <a:lnTo>
                          <a:pt x="222" y="36"/>
                        </a:lnTo>
                        <a:lnTo>
                          <a:pt x="215" y="37"/>
                        </a:lnTo>
                        <a:lnTo>
                          <a:pt x="207" y="37"/>
                        </a:lnTo>
                        <a:lnTo>
                          <a:pt x="199" y="39"/>
                        </a:lnTo>
                        <a:lnTo>
                          <a:pt x="192" y="39"/>
                        </a:lnTo>
                        <a:lnTo>
                          <a:pt x="185" y="40"/>
                        </a:lnTo>
                        <a:lnTo>
                          <a:pt x="178" y="41"/>
                        </a:lnTo>
                        <a:lnTo>
                          <a:pt x="170" y="41"/>
                        </a:lnTo>
                        <a:lnTo>
                          <a:pt x="163" y="43"/>
                        </a:lnTo>
                        <a:lnTo>
                          <a:pt x="155" y="44"/>
                        </a:lnTo>
                        <a:lnTo>
                          <a:pt x="147" y="44"/>
                        </a:lnTo>
                        <a:lnTo>
                          <a:pt x="140" y="46"/>
                        </a:lnTo>
                        <a:lnTo>
                          <a:pt x="132" y="46"/>
                        </a:lnTo>
                        <a:lnTo>
                          <a:pt x="126" y="48"/>
                        </a:lnTo>
                        <a:lnTo>
                          <a:pt x="118" y="48"/>
                        </a:lnTo>
                        <a:lnTo>
                          <a:pt x="111" y="50"/>
                        </a:lnTo>
                        <a:lnTo>
                          <a:pt x="103" y="51"/>
                        </a:lnTo>
                        <a:lnTo>
                          <a:pt x="97" y="52"/>
                        </a:lnTo>
                        <a:lnTo>
                          <a:pt x="89" y="54"/>
                        </a:lnTo>
                        <a:lnTo>
                          <a:pt x="81" y="55"/>
                        </a:lnTo>
                        <a:lnTo>
                          <a:pt x="75" y="58"/>
                        </a:lnTo>
                        <a:lnTo>
                          <a:pt x="68" y="59"/>
                        </a:lnTo>
                        <a:lnTo>
                          <a:pt x="65" y="59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4" y="59"/>
                        </a:lnTo>
                        <a:lnTo>
                          <a:pt x="49" y="59"/>
                        </a:lnTo>
                        <a:lnTo>
                          <a:pt x="45" y="59"/>
                        </a:lnTo>
                        <a:lnTo>
                          <a:pt x="39" y="59"/>
                        </a:lnTo>
                        <a:lnTo>
                          <a:pt x="34" y="61"/>
                        </a:lnTo>
                        <a:lnTo>
                          <a:pt x="29" y="61"/>
                        </a:lnTo>
                        <a:lnTo>
                          <a:pt x="23" y="61"/>
                        </a:lnTo>
                        <a:lnTo>
                          <a:pt x="19" y="61"/>
                        </a:lnTo>
                        <a:lnTo>
                          <a:pt x="16" y="61"/>
                        </a:lnTo>
                        <a:lnTo>
                          <a:pt x="11" y="61"/>
                        </a:lnTo>
                        <a:lnTo>
                          <a:pt x="8" y="61"/>
                        </a:lnTo>
                        <a:lnTo>
                          <a:pt x="5" y="61"/>
                        </a:lnTo>
                        <a:lnTo>
                          <a:pt x="3" y="61"/>
                        </a:lnTo>
                        <a:lnTo>
                          <a:pt x="2" y="55"/>
                        </a:lnTo>
                        <a:lnTo>
                          <a:pt x="2" y="50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5" y="39"/>
                        </a:lnTo>
                        <a:lnTo>
                          <a:pt x="11" y="37"/>
                        </a:lnTo>
                        <a:lnTo>
                          <a:pt x="17" y="36"/>
                        </a:lnTo>
                        <a:lnTo>
                          <a:pt x="22" y="36"/>
                        </a:lnTo>
                        <a:lnTo>
                          <a:pt x="28" y="33"/>
                        </a:lnTo>
                        <a:lnTo>
                          <a:pt x="34" y="32"/>
                        </a:lnTo>
                        <a:lnTo>
                          <a:pt x="39" y="32"/>
                        </a:lnTo>
                        <a:lnTo>
                          <a:pt x="45" y="30"/>
                        </a:lnTo>
                        <a:lnTo>
                          <a:pt x="51" y="29"/>
                        </a:lnTo>
                        <a:lnTo>
                          <a:pt x="55" y="29"/>
                        </a:lnTo>
                        <a:lnTo>
                          <a:pt x="62" y="28"/>
                        </a:lnTo>
                        <a:lnTo>
                          <a:pt x="68" y="26"/>
                        </a:lnTo>
                        <a:lnTo>
                          <a:pt x="72" y="26"/>
                        </a:lnTo>
                        <a:lnTo>
                          <a:pt x="78" y="25"/>
                        </a:lnTo>
                        <a:lnTo>
                          <a:pt x="85" y="24"/>
                        </a:lnTo>
                        <a:lnTo>
                          <a:pt x="91" y="24"/>
                        </a:lnTo>
                        <a:lnTo>
                          <a:pt x="95" y="22"/>
                        </a:lnTo>
                        <a:lnTo>
                          <a:pt x="101" y="22"/>
                        </a:lnTo>
                        <a:lnTo>
                          <a:pt x="107" y="21"/>
                        </a:lnTo>
                        <a:lnTo>
                          <a:pt x="112" y="19"/>
                        </a:lnTo>
                        <a:lnTo>
                          <a:pt x="118" y="19"/>
                        </a:lnTo>
                        <a:lnTo>
                          <a:pt x="124" y="18"/>
                        </a:lnTo>
                        <a:lnTo>
                          <a:pt x="130" y="17"/>
                        </a:lnTo>
                        <a:lnTo>
                          <a:pt x="137" y="17"/>
                        </a:lnTo>
                        <a:lnTo>
                          <a:pt x="141" y="15"/>
                        </a:lnTo>
                        <a:lnTo>
                          <a:pt x="147" y="15"/>
                        </a:lnTo>
                        <a:lnTo>
                          <a:pt x="153" y="14"/>
                        </a:lnTo>
                        <a:lnTo>
                          <a:pt x="159" y="14"/>
                        </a:lnTo>
                        <a:lnTo>
                          <a:pt x="164" y="14"/>
                        </a:lnTo>
                        <a:lnTo>
                          <a:pt x="172" y="13"/>
                        </a:lnTo>
                        <a:lnTo>
                          <a:pt x="176" y="13"/>
                        </a:lnTo>
                        <a:lnTo>
                          <a:pt x="182" y="13"/>
                        </a:lnTo>
                        <a:lnTo>
                          <a:pt x="189" y="11"/>
                        </a:lnTo>
                        <a:lnTo>
                          <a:pt x="195" y="11"/>
                        </a:lnTo>
                        <a:lnTo>
                          <a:pt x="199" y="10"/>
                        </a:lnTo>
                        <a:lnTo>
                          <a:pt x="205" y="10"/>
                        </a:lnTo>
                        <a:lnTo>
                          <a:pt x="211" y="10"/>
                        </a:lnTo>
                        <a:lnTo>
                          <a:pt x="218" y="8"/>
                        </a:lnTo>
                        <a:lnTo>
                          <a:pt x="224" y="8"/>
                        </a:lnTo>
                        <a:lnTo>
                          <a:pt x="230" y="8"/>
                        </a:lnTo>
                        <a:lnTo>
                          <a:pt x="236" y="7"/>
                        </a:lnTo>
                        <a:lnTo>
                          <a:pt x="241" y="7"/>
                        </a:lnTo>
                        <a:lnTo>
                          <a:pt x="247" y="7"/>
                        </a:lnTo>
                        <a:lnTo>
                          <a:pt x="253" y="7"/>
                        </a:lnTo>
                        <a:lnTo>
                          <a:pt x="259" y="6"/>
                        </a:lnTo>
                        <a:lnTo>
                          <a:pt x="265" y="6"/>
                        </a:lnTo>
                        <a:lnTo>
                          <a:pt x="271" y="4"/>
                        </a:lnTo>
                        <a:lnTo>
                          <a:pt x="277" y="4"/>
                        </a:lnTo>
                        <a:lnTo>
                          <a:pt x="282" y="4"/>
                        </a:lnTo>
                        <a:lnTo>
                          <a:pt x="288" y="4"/>
                        </a:lnTo>
                        <a:lnTo>
                          <a:pt x="294" y="3"/>
                        </a:lnTo>
                        <a:lnTo>
                          <a:pt x="300" y="3"/>
                        </a:lnTo>
                        <a:lnTo>
                          <a:pt x="305" y="3"/>
                        </a:lnTo>
                        <a:lnTo>
                          <a:pt x="311" y="3"/>
                        </a:lnTo>
                        <a:lnTo>
                          <a:pt x="319" y="2"/>
                        </a:lnTo>
                        <a:lnTo>
                          <a:pt x="325" y="2"/>
                        </a:lnTo>
                        <a:lnTo>
                          <a:pt x="329" y="2"/>
                        </a:lnTo>
                        <a:lnTo>
                          <a:pt x="335" y="2"/>
                        </a:lnTo>
                        <a:lnTo>
                          <a:pt x="342" y="2"/>
                        </a:lnTo>
                        <a:lnTo>
                          <a:pt x="348" y="2"/>
                        </a:lnTo>
                        <a:lnTo>
                          <a:pt x="352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139"/>
                  <p:cNvSpPr/>
                  <p:nvPr/>
                </p:nvSpPr>
                <p:spPr>
                  <a:xfrm>
                    <a:off x="4133520" y="3120840"/>
                    <a:ext cx="30240" cy="7200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211" h="551">
                        <a:moveTo>
                          <a:pt x="61" y="43"/>
                        </a:moveTo>
                        <a:lnTo>
                          <a:pt x="61" y="47"/>
                        </a:lnTo>
                        <a:lnTo>
                          <a:pt x="63" y="51"/>
                        </a:lnTo>
                        <a:lnTo>
                          <a:pt x="63" y="57"/>
                        </a:lnTo>
                        <a:lnTo>
                          <a:pt x="64" y="62"/>
                        </a:lnTo>
                        <a:lnTo>
                          <a:pt x="64" y="66"/>
                        </a:lnTo>
                        <a:lnTo>
                          <a:pt x="66" y="72"/>
                        </a:lnTo>
                        <a:lnTo>
                          <a:pt x="66" y="79"/>
                        </a:lnTo>
                        <a:lnTo>
                          <a:pt x="67" y="84"/>
                        </a:lnTo>
                        <a:lnTo>
                          <a:pt x="67" y="88"/>
                        </a:lnTo>
                        <a:lnTo>
                          <a:pt x="67" y="94"/>
                        </a:lnTo>
                        <a:lnTo>
                          <a:pt x="67" y="99"/>
                        </a:lnTo>
                        <a:lnTo>
                          <a:pt x="67" y="105"/>
                        </a:lnTo>
                        <a:lnTo>
                          <a:pt x="67" y="109"/>
                        </a:lnTo>
                        <a:lnTo>
                          <a:pt x="67" y="114"/>
                        </a:lnTo>
                        <a:lnTo>
                          <a:pt x="66" y="118"/>
                        </a:lnTo>
                        <a:lnTo>
                          <a:pt x="64" y="122"/>
                        </a:lnTo>
                        <a:lnTo>
                          <a:pt x="64" y="118"/>
                        </a:lnTo>
                        <a:lnTo>
                          <a:pt x="64" y="116"/>
                        </a:lnTo>
                        <a:lnTo>
                          <a:pt x="64" y="112"/>
                        </a:lnTo>
                        <a:lnTo>
                          <a:pt x="64" y="109"/>
                        </a:lnTo>
                        <a:lnTo>
                          <a:pt x="63" y="105"/>
                        </a:lnTo>
                        <a:lnTo>
                          <a:pt x="63" y="102"/>
                        </a:lnTo>
                        <a:lnTo>
                          <a:pt x="63" y="98"/>
                        </a:lnTo>
                        <a:lnTo>
                          <a:pt x="63" y="95"/>
                        </a:lnTo>
                        <a:lnTo>
                          <a:pt x="61" y="91"/>
                        </a:lnTo>
                        <a:lnTo>
                          <a:pt x="61" y="88"/>
                        </a:lnTo>
                        <a:lnTo>
                          <a:pt x="61" y="84"/>
                        </a:lnTo>
                        <a:lnTo>
                          <a:pt x="60" y="81"/>
                        </a:lnTo>
                        <a:lnTo>
                          <a:pt x="60" y="79"/>
                        </a:lnTo>
                        <a:lnTo>
                          <a:pt x="58" y="76"/>
                        </a:lnTo>
                        <a:lnTo>
                          <a:pt x="58" y="72"/>
                        </a:lnTo>
                        <a:lnTo>
                          <a:pt x="58" y="69"/>
                        </a:lnTo>
                        <a:lnTo>
                          <a:pt x="57" y="66"/>
                        </a:lnTo>
                        <a:lnTo>
                          <a:pt x="57" y="62"/>
                        </a:lnTo>
                        <a:lnTo>
                          <a:pt x="55" y="59"/>
                        </a:lnTo>
                        <a:lnTo>
                          <a:pt x="54" y="55"/>
                        </a:lnTo>
                        <a:lnTo>
                          <a:pt x="54" y="52"/>
                        </a:lnTo>
                        <a:lnTo>
                          <a:pt x="52" y="48"/>
                        </a:lnTo>
                        <a:lnTo>
                          <a:pt x="52" y="46"/>
                        </a:lnTo>
                        <a:lnTo>
                          <a:pt x="50" y="42"/>
                        </a:lnTo>
                        <a:lnTo>
                          <a:pt x="50" y="39"/>
                        </a:lnTo>
                        <a:lnTo>
                          <a:pt x="49" y="35"/>
                        </a:lnTo>
                        <a:lnTo>
                          <a:pt x="47" y="32"/>
                        </a:lnTo>
                        <a:lnTo>
                          <a:pt x="47" y="29"/>
                        </a:lnTo>
                        <a:lnTo>
                          <a:pt x="46" y="25"/>
                        </a:lnTo>
                        <a:lnTo>
                          <a:pt x="46" y="22"/>
                        </a:lnTo>
                        <a:lnTo>
                          <a:pt x="44" y="18"/>
                        </a:lnTo>
                        <a:lnTo>
                          <a:pt x="44" y="15"/>
                        </a:lnTo>
                        <a:lnTo>
                          <a:pt x="29" y="14"/>
                        </a:lnTo>
                        <a:lnTo>
                          <a:pt x="29" y="17"/>
                        </a:lnTo>
                        <a:lnTo>
                          <a:pt x="31" y="20"/>
                        </a:lnTo>
                        <a:lnTo>
                          <a:pt x="32" y="24"/>
                        </a:lnTo>
                        <a:lnTo>
                          <a:pt x="34" y="26"/>
                        </a:lnTo>
                        <a:lnTo>
                          <a:pt x="35" y="32"/>
                        </a:lnTo>
                        <a:lnTo>
                          <a:pt x="35" y="37"/>
                        </a:lnTo>
                        <a:lnTo>
                          <a:pt x="37" y="43"/>
                        </a:lnTo>
                        <a:lnTo>
                          <a:pt x="37" y="48"/>
                        </a:lnTo>
                        <a:lnTo>
                          <a:pt x="38" y="54"/>
                        </a:lnTo>
                        <a:lnTo>
                          <a:pt x="38" y="61"/>
                        </a:lnTo>
                        <a:lnTo>
                          <a:pt x="38" y="63"/>
                        </a:lnTo>
                        <a:lnTo>
                          <a:pt x="40" y="66"/>
                        </a:lnTo>
                        <a:lnTo>
                          <a:pt x="40" y="70"/>
                        </a:lnTo>
                        <a:lnTo>
                          <a:pt x="41" y="73"/>
                        </a:lnTo>
                        <a:lnTo>
                          <a:pt x="41" y="79"/>
                        </a:lnTo>
                        <a:lnTo>
                          <a:pt x="41" y="85"/>
                        </a:lnTo>
                        <a:lnTo>
                          <a:pt x="41" y="88"/>
                        </a:lnTo>
                        <a:lnTo>
                          <a:pt x="41" y="91"/>
                        </a:lnTo>
                        <a:lnTo>
                          <a:pt x="41" y="94"/>
                        </a:lnTo>
                        <a:lnTo>
                          <a:pt x="41" y="98"/>
                        </a:lnTo>
                        <a:lnTo>
                          <a:pt x="41" y="103"/>
                        </a:lnTo>
                        <a:lnTo>
                          <a:pt x="41" y="109"/>
                        </a:lnTo>
                        <a:lnTo>
                          <a:pt x="41" y="114"/>
                        </a:lnTo>
                        <a:lnTo>
                          <a:pt x="41" y="120"/>
                        </a:lnTo>
                        <a:lnTo>
                          <a:pt x="41" y="117"/>
                        </a:lnTo>
                        <a:lnTo>
                          <a:pt x="41" y="113"/>
                        </a:lnTo>
                        <a:lnTo>
                          <a:pt x="40" y="110"/>
                        </a:lnTo>
                        <a:lnTo>
                          <a:pt x="40" y="107"/>
                        </a:lnTo>
                        <a:lnTo>
                          <a:pt x="38" y="103"/>
                        </a:lnTo>
                        <a:lnTo>
                          <a:pt x="37" y="101"/>
                        </a:lnTo>
                        <a:lnTo>
                          <a:pt x="37" y="98"/>
                        </a:lnTo>
                        <a:lnTo>
                          <a:pt x="37" y="95"/>
                        </a:lnTo>
                        <a:lnTo>
                          <a:pt x="35" y="91"/>
                        </a:lnTo>
                        <a:lnTo>
                          <a:pt x="34" y="88"/>
                        </a:lnTo>
                        <a:lnTo>
                          <a:pt x="34" y="84"/>
                        </a:lnTo>
                        <a:lnTo>
                          <a:pt x="32" y="81"/>
                        </a:lnTo>
                        <a:lnTo>
                          <a:pt x="31" y="79"/>
                        </a:lnTo>
                        <a:lnTo>
                          <a:pt x="31" y="74"/>
                        </a:lnTo>
                        <a:lnTo>
                          <a:pt x="31" y="72"/>
                        </a:lnTo>
                        <a:lnTo>
                          <a:pt x="29" y="68"/>
                        </a:lnTo>
                        <a:lnTo>
                          <a:pt x="28" y="63"/>
                        </a:lnTo>
                        <a:lnTo>
                          <a:pt x="28" y="59"/>
                        </a:lnTo>
                        <a:lnTo>
                          <a:pt x="24" y="57"/>
                        </a:lnTo>
                        <a:lnTo>
                          <a:pt x="23" y="54"/>
                        </a:lnTo>
                        <a:lnTo>
                          <a:pt x="21" y="50"/>
                        </a:lnTo>
                        <a:lnTo>
                          <a:pt x="20" y="46"/>
                        </a:lnTo>
                        <a:lnTo>
                          <a:pt x="18" y="42"/>
                        </a:lnTo>
                        <a:lnTo>
                          <a:pt x="17" y="39"/>
                        </a:lnTo>
                        <a:lnTo>
                          <a:pt x="15" y="35"/>
                        </a:lnTo>
                        <a:lnTo>
                          <a:pt x="14" y="31"/>
                        </a:lnTo>
                        <a:lnTo>
                          <a:pt x="12" y="26"/>
                        </a:lnTo>
                        <a:lnTo>
                          <a:pt x="12" y="24"/>
                        </a:lnTo>
                        <a:lnTo>
                          <a:pt x="11" y="20"/>
                        </a:lnTo>
                        <a:lnTo>
                          <a:pt x="11" y="15"/>
                        </a:lnTo>
                        <a:lnTo>
                          <a:pt x="11" y="10"/>
                        </a:lnTo>
                        <a:lnTo>
                          <a:pt x="12" y="7"/>
                        </a:lnTo>
                        <a:lnTo>
                          <a:pt x="9" y="4"/>
                        </a:lnTo>
                        <a:lnTo>
                          <a:pt x="6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2" y="24"/>
                        </a:lnTo>
                        <a:lnTo>
                          <a:pt x="2" y="28"/>
                        </a:lnTo>
                        <a:lnTo>
                          <a:pt x="2" y="31"/>
                        </a:lnTo>
                        <a:lnTo>
                          <a:pt x="2" y="33"/>
                        </a:lnTo>
                        <a:lnTo>
                          <a:pt x="2" y="37"/>
                        </a:lnTo>
                        <a:lnTo>
                          <a:pt x="2" y="40"/>
                        </a:lnTo>
                        <a:lnTo>
                          <a:pt x="3" y="44"/>
                        </a:lnTo>
                        <a:lnTo>
                          <a:pt x="3" y="47"/>
                        </a:lnTo>
                        <a:lnTo>
                          <a:pt x="3" y="51"/>
                        </a:lnTo>
                        <a:lnTo>
                          <a:pt x="3" y="54"/>
                        </a:lnTo>
                        <a:lnTo>
                          <a:pt x="3" y="58"/>
                        </a:lnTo>
                        <a:lnTo>
                          <a:pt x="3" y="62"/>
                        </a:lnTo>
                        <a:lnTo>
                          <a:pt x="5" y="66"/>
                        </a:lnTo>
                        <a:lnTo>
                          <a:pt x="5" y="69"/>
                        </a:lnTo>
                        <a:lnTo>
                          <a:pt x="6" y="73"/>
                        </a:lnTo>
                        <a:lnTo>
                          <a:pt x="6" y="77"/>
                        </a:lnTo>
                        <a:lnTo>
                          <a:pt x="6" y="81"/>
                        </a:lnTo>
                        <a:lnTo>
                          <a:pt x="6" y="85"/>
                        </a:lnTo>
                        <a:lnTo>
                          <a:pt x="8" y="90"/>
                        </a:lnTo>
                        <a:lnTo>
                          <a:pt x="8" y="94"/>
                        </a:lnTo>
                        <a:lnTo>
                          <a:pt x="8" y="96"/>
                        </a:lnTo>
                        <a:lnTo>
                          <a:pt x="8" y="101"/>
                        </a:lnTo>
                        <a:lnTo>
                          <a:pt x="9" y="105"/>
                        </a:lnTo>
                        <a:lnTo>
                          <a:pt x="9" y="107"/>
                        </a:lnTo>
                        <a:lnTo>
                          <a:pt x="9" y="112"/>
                        </a:lnTo>
                        <a:lnTo>
                          <a:pt x="9" y="116"/>
                        </a:lnTo>
                        <a:lnTo>
                          <a:pt x="9" y="118"/>
                        </a:lnTo>
                        <a:lnTo>
                          <a:pt x="9" y="121"/>
                        </a:lnTo>
                        <a:lnTo>
                          <a:pt x="9" y="125"/>
                        </a:lnTo>
                        <a:lnTo>
                          <a:pt x="11" y="128"/>
                        </a:lnTo>
                        <a:lnTo>
                          <a:pt x="11" y="132"/>
                        </a:lnTo>
                        <a:lnTo>
                          <a:pt x="11" y="138"/>
                        </a:lnTo>
                        <a:lnTo>
                          <a:pt x="12" y="143"/>
                        </a:lnTo>
                        <a:lnTo>
                          <a:pt x="12" y="149"/>
                        </a:lnTo>
                        <a:lnTo>
                          <a:pt x="12" y="153"/>
                        </a:lnTo>
                        <a:lnTo>
                          <a:pt x="12" y="155"/>
                        </a:lnTo>
                        <a:lnTo>
                          <a:pt x="12" y="160"/>
                        </a:lnTo>
                        <a:lnTo>
                          <a:pt x="12" y="162"/>
                        </a:lnTo>
                        <a:lnTo>
                          <a:pt x="12" y="161"/>
                        </a:lnTo>
                        <a:lnTo>
                          <a:pt x="12" y="551"/>
                        </a:lnTo>
                        <a:lnTo>
                          <a:pt x="211" y="551"/>
                        </a:lnTo>
                        <a:lnTo>
                          <a:pt x="208" y="84"/>
                        </a:lnTo>
                        <a:lnTo>
                          <a:pt x="208" y="79"/>
                        </a:lnTo>
                        <a:lnTo>
                          <a:pt x="208" y="74"/>
                        </a:lnTo>
                        <a:lnTo>
                          <a:pt x="208" y="69"/>
                        </a:lnTo>
                        <a:lnTo>
                          <a:pt x="208" y="65"/>
                        </a:lnTo>
                        <a:lnTo>
                          <a:pt x="208" y="61"/>
                        </a:lnTo>
                        <a:lnTo>
                          <a:pt x="208" y="57"/>
                        </a:lnTo>
                        <a:lnTo>
                          <a:pt x="208" y="51"/>
                        </a:lnTo>
                        <a:lnTo>
                          <a:pt x="208" y="47"/>
                        </a:lnTo>
                        <a:lnTo>
                          <a:pt x="208" y="43"/>
                        </a:lnTo>
                        <a:lnTo>
                          <a:pt x="208" y="39"/>
                        </a:lnTo>
                        <a:lnTo>
                          <a:pt x="208" y="35"/>
                        </a:lnTo>
                        <a:lnTo>
                          <a:pt x="208" y="31"/>
                        </a:lnTo>
                        <a:lnTo>
                          <a:pt x="206" y="26"/>
                        </a:lnTo>
                        <a:lnTo>
                          <a:pt x="206" y="22"/>
                        </a:lnTo>
                        <a:lnTo>
                          <a:pt x="206" y="17"/>
                        </a:lnTo>
                        <a:lnTo>
                          <a:pt x="206" y="14"/>
                        </a:lnTo>
                        <a:lnTo>
                          <a:pt x="202" y="14"/>
                        </a:lnTo>
                        <a:lnTo>
                          <a:pt x="200" y="17"/>
                        </a:lnTo>
                        <a:lnTo>
                          <a:pt x="200" y="21"/>
                        </a:lnTo>
                        <a:lnTo>
                          <a:pt x="200" y="25"/>
                        </a:lnTo>
                        <a:lnTo>
                          <a:pt x="200" y="29"/>
                        </a:lnTo>
                        <a:lnTo>
                          <a:pt x="200" y="32"/>
                        </a:lnTo>
                        <a:lnTo>
                          <a:pt x="200" y="36"/>
                        </a:lnTo>
                        <a:lnTo>
                          <a:pt x="200" y="40"/>
                        </a:lnTo>
                        <a:lnTo>
                          <a:pt x="200" y="44"/>
                        </a:lnTo>
                        <a:lnTo>
                          <a:pt x="200" y="48"/>
                        </a:lnTo>
                        <a:lnTo>
                          <a:pt x="200" y="52"/>
                        </a:lnTo>
                        <a:lnTo>
                          <a:pt x="200" y="57"/>
                        </a:lnTo>
                        <a:lnTo>
                          <a:pt x="202" y="61"/>
                        </a:lnTo>
                        <a:lnTo>
                          <a:pt x="202" y="65"/>
                        </a:lnTo>
                        <a:lnTo>
                          <a:pt x="202" y="69"/>
                        </a:lnTo>
                        <a:lnTo>
                          <a:pt x="202" y="72"/>
                        </a:lnTo>
                        <a:lnTo>
                          <a:pt x="203" y="77"/>
                        </a:lnTo>
                        <a:lnTo>
                          <a:pt x="202" y="79"/>
                        </a:lnTo>
                        <a:lnTo>
                          <a:pt x="202" y="81"/>
                        </a:lnTo>
                        <a:lnTo>
                          <a:pt x="200" y="84"/>
                        </a:lnTo>
                        <a:lnTo>
                          <a:pt x="199" y="85"/>
                        </a:lnTo>
                        <a:lnTo>
                          <a:pt x="199" y="80"/>
                        </a:lnTo>
                        <a:lnTo>
                          <a:pt x="199" y="74"/>
                        </a:lnTo>
                        <a:lnTo>
                          <a:pt x="197" y="69"/>
                        </a:lnTo>
                        <a:lnTo>
                          <a:pt x="197" y="63"/>
                        </a:lnTo>
                        <a:lnTo>
                          <a:pt x="197" y="58"/>
                        </a:lnTo>
                        <a:lnTo>
                          <a:pt x="196" y="52"/>
                        </a:lnTo>
                        <a:lnTo>
                          <a:pt x="196" y="47"/>
                        </a:lnTo>
                        <a:lnTo>
                          <a:pt x="196" y="42"/>
                        </a:lnTo>
                        <a:lnTo>
                          <a:pt x="194" y="43"/>
                        </a:lnTo>
                        <a:lnTo>
                          <a:pt x="193" y="47"/>
                        </a:lnTo>
                        <a:lnTo>
                          <a:pt x="191" y="50"/>
                        </a:lnTo>
                        <a:lnTo>
                          <a:pt x="191" y="52"/>
                        </a:lnTo>
                        <a:lnTo>
                          <a:pt x="191" y="57"/>
                        </a:lnTo>
                        <a:lnTo>
                          <a:pt x="191" y="61"/>
                        </a:lnTo>
                        <a:lnTo>
                          <a:pt x="191" y="63"/>
                        </a:lnTo>
                        <a:lnTo>
                          <a:pt x="191" y="69"/>
                        </a:lnTo>
                        <a:lnTo>
                          <a:pt x="191" y="73"/>
                        </a:lnTo>
                        <a:lnTo>
                          <a:pt x="191" y="79"/>
                        </a:lnTo>
                        <a:lnTo>
                          <a:pt x="191" y="83"/>
                        </a:lnTo>
                        <a:lnTo>
                          <a:pt x="193" y="88"/>
                        </a:lnTo>
                        <a:lnTo>
                          <a:pt x="193" y="94"/>
                        </a:lnTo>
                        <a:lnTo>
                          <a:pt x="193" y="99"/>
                        </a:lnTo>
                        <a:lnTo>
                          <a:pt x="193" y="103"/>
                        </a:lnTo>
                        <a:lnTo>
                          <a:pt x="193" y="109"/>
                        </a:lnTo>
                        <a:lnTo>
                          <a:pt x="193" y="113"/>
                        </a:lnTo>
                        <a:lnTo>
                          <a:pt x="194" y="117"/>
                        </a:lnTo>
                        <a:lnTo>
                          <a:pt x="194" y="121"/>
                        </a:lnTo>
                        <a:lnTo>
                          <a:pt x="194" y="125"/>
                        </a:lnTo>
                        <a:lnTo>
                          <a:pt x="194" y="129"/>
                        </a:lnTo>
                        <a:lnTo>
                          <a:pt x="194" y="133"/>
                        </a:lnTo>
                        <a:lnTo>
                          <a:pt x="193" y="138"/>
                        </a:lnTo>
                        <a:lnTo>
                          <a:pt x="193" y="140"/>
                        </a:lnTo>
                        <a:lnTo>
                          <a:pt x="191" y="142"/>
                        </a:lnTo>
                        <a:lnTo>
                          <a:pt x="191" y="140"/>
                        </a:lnTo>
                        <a:lnTo>
                          <a:pt x="190" y="135"/>
                        </a:lnTo>
                        <a:lnTo>
                          <a:pt x="190" y="128"/>
                        </a:lnTo>
                        <a:lnTo>
                          <a:pt x="188" y="122"/>
                        </a:lnTo>
                        <a:lnTo>
                          <a:pt x="188" y="117"/>
                        </a:lnTo>
                        <a:lnTo>
                          <a:pt x="187" y="112"/>
                        </a:lnTo>
                        <a:lnTo>
                          <a:pt x="187" y="106"/>
                        </a:lnTo>
                        <a:lnTo>
                          <a:pt x="185" y="102"/>
                        </a:lnTo>
                        <a:lnTo>
                          <a:pt x="185" y="98"/>
                        </a:lnTo>
                        <a:lnTo>
                          <a:pt x="185" y="91"/>
                        </a:lnTo>
                        <a:lnTo>
                          <a:pt x="185" y="85"/>
                        </a:lnTo>
                        <a:lnTo>
                          <a:pt x="185" y="80"/>
                        </a:lnTo>
                        <a:lnTo>
                          <a:pt x="185" y="76"/>
                        </a:lnTo>
                        <a:lnTo>
                          <a:pt x="185" y="69"/>
                        </a:lnTo>
                        <a:lnTo>
                          <a:pt x="185" y="65"/>
                        </a:lnTo>
                        <a:lnTo>
                          <a:pt x="185" y="59"/>
                        </a:lnTo>
                        <a:lnTo>
                          <a:pt x="185" y="54"/>
                        </a:lnTo>
                        <a:lnTo>
                          <a:pt x="185" y="48"/>
                        </a:lnTo>
                        <a:lnTo>
                          <a:pt x="185" y="44"/>
                        </a:lnTo>
                        <a:lnTo>
                          <a:pt x="185" y="39"/>
                        </a:lnTo>
                        <a:lnTo>
                          <a:pt x="185" y="33"/>
                        </a:lnTo>
                        <a:lnTo>
                          <a:pt x="185" y="29"/>
                        </a:lnTo>
                        <a:lnTo>
                          <a:pt x="185" y="24"/>
                        </a:lnTo>
                        <a:lnTo>
                          <a:pt x="185" y="18"/>
                        </a:lnTo>
                        <a:lnTo>
                          <a:pt x="185" y="14"/>
                        </a:lnTo>
                        <a:lnTo>
                          <a:pt x="180" y="14"/>
                        </a:lnTo>
                        <a:lnTo>
                          <a:pt x="176" y="14"/>
                        </a:lnTo>
                        <a:lnTo>
                          <a:pt x="171" y="14"/>
                        </a:lnTo>
                        <a:lnTo>
                          <a:pt x="168" y="15"/>
                        </a:lnTo>
                        <a:lnTo>
                          <a:pt x="168" y="20"/>
                        </a:lnTo>
                        <a:lnTo>
                          <a:pt x="168" y="22"/>
                        </a:lnTo>
                        <a:lnTo>
                          <a:pt x="168" y="26"/>
                        </a:lnTo>
                        <a:lnTo>
                          <a:pt x="168" y="31"/>
                        </a:lnTo>
                        <a:lnTo>
                          <a:pt x="168" y="35"/>
                        </a:lnTo>
                        <a:lnTo>
                          <a:pt x="168" y="39"/>
                        </a:lnTo>
                        <a:lnTo>
                          <a:pt x="168" y="42"/>
                        </a:lnTo>
                        <a:lnTo>
                          <a:pt x="168" y="46"/>
                        </a:lnTo>
                        <a:lnTo>
                          <a:pt x="168" y="50"/>
                        </a:lnTo>
                        <a:lnTo>
                          <a:pt x="168" y="54"/>
                        </a:lnTo>
                        <a:lnTo>
                          <a:pt x="168" y="57"/>
                        </a:lnTo>
                        <a:lnTo>
                          <a:pt x="168" y="61"/>
                        </a:lnTo>
                        <a:lnTo>
                          <a:pt x="168" y="65"/>
                        </a:lnTo>
                        <a:lnTo>
                          <a:pt x="168" y="69"/>
                        </a:lnTo>
                        <a:lnTo>
                          <a:pt x="168" y="73"/>
                        </a:lnTo>
                        <a:lnTo>
                          <a:pt x="170" y="77"/>
                        </a:lnTo>
                        <a:lnTo>
                          <a:pt x="170" y="80"/>
                        </a:lnTo>
                        <a:lnTo>
                          <a:pt x="170" y="84"/>
                        </a:lnTo>
                        <a:lnTo>
                          <a:pt x="170" y="88"/>
                        </a:lnTo>
                        <a:lnTo>
                          <a:pt x="170" y="91"/>
                        </a:lnTo>
                        <a:lnTo>
                          <a:pt x="170" y="95"/>
                        </a:lnTo>
                        <a:lnTo>
                          <a:pt x="171" y="99"/>
                        </a:lnTo>
                        <a:lnTo>
                          <a:pt x="171" y="102"/>
                        </a:lnTo>
                        <a:lnTo>
                          <a:pt x="171" y="106"/>
                        </a:lnTo>
                        <a:lnTo>
                          <a:pt x="171" y="109"/>
                        </a:lnTo>
                        <a:lnTo>
                          <a:pt x="171" y="113"/>
                        </a:lnTo>
                        <a:lnTo>
                          <a:pt x="171" y="116"/>
                        </a:lnTo>
                        <a:lnTo>
                          <a:pt x="171" y="120"/>
                        </a:lnTo>
                        <a:lnTo>
                          <a:pt x="171" y="124"/>
                        </a:lnTo>
                        <a:lnTo>
                          <a:pt x="173" y="127"/>
                        </a:lnTo>
                        <a:lnTo>
                          <a:pt x="173" y="131"/>
                        </a:lnTo>
                        <a:lnTo>
                          <a:pt x="173" y="133"/>
                        </a:lnTo>
                        <a:lnTo>
                          <a:pt x="173" y="136"/>
                        </a:lnTo>
                        <a:lnTo>
                          <a:pt x="173" y="139"/>
                        </a:lnTo>
                        <a:lnTo>
                          <a:pt x="173" y="143"/>
                        </a:lnTo>
                        <a:lnTo>
                          <a:pt x="174" y="149"/>
                        </a:lnTo>
                        <a:lnTo>
                          <a:pt x="174" y="153"/>
                        </a:lnTo>
                        <a:lnTo>
                          <a:pt x="174" y="160"/>
                        </a:lnTo>
                        <a:lnTo>
                          <a:pt x="174" y="162"/>
                        </a:lnTo>
                        <a:lnTo>
                          <a:pt x="174" y="165"/>
                        </a:lnTo>
                        <a:lnTo>
                          <a:pt x="174" y="168"/>
                        </a:lnTo>
                        <a:lnTo>
                          <a:pt x="174" y="172"/>
                        </a:lnTo>
                        <a:lnTo>
                          <a:pt x="174" y="177"/>
                        </a:lnTo>
                        <a:lnTo>
                          <a:pt x="174" y="183"/>
                        </a:lnTo>
                        <a:lnTo>
                          <a:pt x="173" y="187"/>
                        </a:lnTo>
                        <a:lnTo>
                          <a:pt x="173" y="192"/>
                        </a:lnTo>
                        <a:lnTo>
                          <a:pt x="171" y="198"/>
                        </a:lnTo>
                        <a:lnTo>
                          <a:pt x="171" y="202"/>
                        </a:lnTo>
                        <a:lnTo>
                          <a:pt x="170" y="205"/>
                        </a:lnTo>
                        <a:lnTo>
                          <a:pt x="168" y="206"/>
                        </a:lnTo>
                        <a:lnTo>
                          <a:pt x="167" y="201"/>
                        </a:lnTo>
                        <a:lnTo>
                          <a:pt x="167" y="195"/>
                        </a:lnTo>
                        <a:lnTo>
                          <a:pt x="165" y="190"/>
                        </a:lnTo>
                        <a:lnTo>
                          <a:pt x="165" y="184"/>
                        </a:lnTo>
                        <a:lnTo>
                          <a:pt x="165" y="177"/>
                        </a:lnTo>
                        <a:lnTo>
                          <a:pt x="164" y="172"/>
                        </a:lnTo>
                        <a:lnTo>
                          <a:pt x="164" y="166"/>
                        </a:lnTo>
                        <a:lnTo>
                          <a:pt x="164" y="162"/>
                        </a:lnTo>
                        <a:lnTo>
                          <a:pt x="164" y="155"/>
                        </a:lnTo>
                        <a:lnTo>
                          <a:pt x="164" y="150"/>
                        </a:lnTo>
                        <a:lnTo>
                          <a:pt x="164" y="144"/>
                        </a:lnTo>
                        <a:lnTo>
                          <a:pt x="164" y="139"/>
                        </a:lnTo>
                        <a:lnTo>
                          <a:pt x="164" y="133"/>
                        </a:lnTo>
                        <a:lnTo>
                          <a:pt x="164" y="128"/>
                        </a:lnTo>
                        <a:lnTo>
                          <a:pt x="164" y="121"/>
                        </a:lnTo>
                        <a:lnTo>
                          <a:pt x="164" y="117"/>
                        </a:lnTo>
                        <a:lnTo>
                          <a:pt x="164" y="110"/>
                        </a:lnTo>
                        <a:lnTo>
                          <a:pt x="164" y="105"/>
                        </a:lnTo>
                        <a:lnTo>
                          <a:pt x="164" y="99"/>
                        </a:lnTo>
                        <a:lnTo>
                          <a:pt x="164" y="94"/>
                        </a:lnTo>
                        <a:lnTo>
                          <a:pt x="164" y="88"/>
                        </a:lnTo>
                        <a:lnTo>
                          <a:pt x="164" y="83"/>
                        </a:lnTo>
                        <a:lnTo>
                          <a:pt x="164" y="76"/>
                        </a:lnTo>
                        <a:lnTo>
                          <a:pt x="164" y="72"/>
                        </a:lnTo>
                        <a:lnTo>
                          <a:pt x="164" y="65"/>
                        </a:lnTo>
                        <a:lnTo>
                          <a:pt x="164" y="59"/>
                        </a:lnTo>
                        <a:lnTo>
                          <a:pt x="162" y="54"/>
                        </a:lnTo>
                        <a:lnTo>
                          <a:pt x="162" y="48"/>
                        </a:lnTo>
                        <a:lnTo>
                          <a:pt x="162" y="43"/>
                        </a:lnTo>
                        <a:lnTo>
                          <a:pt x="161" y="37"/>
                        </a:lnTo>
                        <a:lnTo>
                          <a:pt x="161" y="32"/>
                        </a:lnTo>
                        <a:lnTo>
                          <a:pt x="161" y="26"/>
                        </a:lnTo>
                        <a:lnTo>
                          <a:pt x="159" y="25"/>
                        </a:lnTo>
                        <a:lnTo>
                          <a:pt x="158" y="22"/>
                        </a:lnTo>
                        <a:lnTo>
                          <a:pt x="156" y="20"/>
                        </a:lnTo>
                        <a:lnTo>
                          <a:pt x="156" y="18"/>
                        </a:lnTo>
                        <a:lnTo>
                          <a:pt x="154" y="20"/>
                        </a:lnTo>
                        <a:lnTo>
                          <a:pt x="154" y="22"/>
                        </a:lnTo>
                        <a:lnTo>
                          <a:pt x="153" y="26"/>
                        </a:lnTo>
                        <a:lnTo>
                          <a:pt x="153" y="29"/>
                        </a:lnTo>
                        <a:lnTo>
                          <a:pt x="153" y="32"/>
                        </a:lnTo>
                        <a:lnTo>
                          <a:pt x="153" y="36"/>
                        </a:lnTo>
                        <a:lnTo>
                          <a:pt x="153" y="39"/>
                        </a:lnTo>
                        <a:lnTo>
                          <a:pt x="153" y="43"/>
                        </a:lnTo>
                        <a:lnTo>
                          <a:pt x="156" y="105"/>
                        </a:lnTo>
                        <a:lnTo>
                          <a:pt x="156" y="109"/>
                        </a:lnTo>
                        <a:lnTo>
                          <a:pt x="156" y="114"/>
                        </a:lnTo>
                        <a:lnTo>
                          <a:pt x="156" y="120"/>
                        </a:lnTo>
                        <a:lnTo>
                          <a:pt x="156" y="125"/>
                        </a:lnTo>
                        <a:lnTo>
                          <a:pt x="156" y="129"/>
                        </a:lnTo>
                        <a:lnTo>
                          <a:pt x="156" y="135"/>
                        </a:lnTo>
                        <a:lnTo>
                          <a:pt x="154" y="140"/>
                        </a:lnTo>
                        <a:lnTo>
                          <a:pt x="154" y="144"/>
                        </a:lnTo>
                        <a:lnTo>
                          <a:pt x="154" y="150"/>
                        </a:lnTo>
                        <a:lnTo>
                          <a:pt x="154" y="155"/>
                        </a:lnTo>
                        <a:lnTo>
                          <a:pt x="154" y="160"/>
                        </a:lnTo>
                        <a:lnTo>
                          <a:pt x="154" y="165"/>
                        </a:lnTo>
                        <a:lnTo>
                          <a:pt x="153" y="171"/>
                        </a:lnTo>
                        <a:lnTo>
                          <a:pt x="153" y="175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3" y="512"/>
                        </a:lnTo>
                        <a:lnTo>
                          <a:pt x="75" y="515"/>
                        </a:lnTo>
                        <a:lnTo>
                          <a:pt x="72" y="66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2" y="57"/>
                        </a:lnTo>
                        <a:lnTo>
                          <a:pt x="72" y="54"/>
                        </a:lnTo>
                        <a:lnTo>
                          <a:pt x="70" y="50"/>
                        </a:lnTo>
                        <a:lnTo>
                          <a:pt x="69" y="47"/>
                        </a:lnTo>
                        <a:lnTo>
                          <a:pt x="69" y="43"/>
                        </a:lnTo>
                        <a:lnTo>
                          <a:pt x="67" y="40"/>
                        </a:lnTo>
                        <a:lnTo>
                          <a:pt x="67" y="37"/>
                        </a:lnTo>
                        <a:lnTo>
                          <a:pt x="66" y="33"/>
                        </a:lnTo>
                        <a:lnTo>
                          <a:pt x="64" y="31"/>
                        </a:lnTo>
                        <a:lnTo>
                          <a:pt x="64" y="28"/>
                        </a:lnTo>
                        <a:lnTo>
                          <a:pt x="63" y="21"/>
                        </a:lnTo>
                        <a:lnTo>
                          <a:pt x="61" y="15"/>
                        </a:lnTo>
                        <a:lnTo>
                          <a:pt x="57" y="15"/>
                        </a:lnTo>
                        <a:lnTo>
                          <a:pt x="61" y="4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140"/>
                  <p:cNvSpPr/>
                  <p:nvPr/>
                </p:nvSpPr>
                <p:spPr>
                  <a:xfrm>
                    <a:off x="4179600" y="3162960"/>
                    <a:ext cx="1080" cy="2304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" h="178">
                        <a:moveTo>
                          <a:pt x="1" y="176"/>
                        </a:moveTo>
                        <a:lnTo>
                          <a:pt x="1" y="178"/>
                        </a:lnTo>
                        <a:lnTo>
                          <a:pt x="3" y="176"/>
                        </a:lnTo>
                        <a:lnTo>
                          <a:pt x="3" y="175"/>
                        </a:lnTo>
                        <a:lnTo>
                          <a:pt x="3" y="172"/>
                        </a:lnTo>
                        <a:lnTo>
                          <a:pt x="3" y="169"/>
                        </a:lnTo>
                        <a:lnTo>
                          <a:pt x="3" y="165"/>
                        </a:lnTo>
                        <a:lnTo>
                          <a:pt x="3" y="162"/>
                        </a:lnTo>
                        <a:lnTo>
                          <a:pt x="3" y="160"/>
                        </a:lnTo>
                        <a:lnTo>
                          <a:pt x="3" y="154"/>
                        </a:lnTo>
                        <a:lnTo>
                          <a:pt x="4" y="149"/>
                        </a:lnTo>
                        <a:lnTo>
                          <a:pt x="4" y="143"/>
                        </a:lnTo>
                        <a:lnTo>
                          <a:pt x="4" y="138"/>
                        </a:lnTo>
                        <a:lnTo>
                          <a:pt x="4" y="132"/>
                        </a:lnTo>
                        <a:lnTo>
                          <a:pt x="4" y="127"/>
                        </a:lnTo>
                        <a:lnTo>
                          <a:pt x="4" y="121"/>
                        </a:lnTo>
                        <a:lnTo>
                          <a:pt x="4" y="116"/>
                        </a:lnTo>
                        <a:lnTo>
                          <a:pt x="6" y="112"/>
                        </a:lnTo>
                        <a:lnTo>
                          <a:pt x="6" y="106"/>
                        </a:lnTo>
                        <a:lnTo>
                          <a:pt x="6" y="101"/>
                        </a:lnTo>
                        <a:lnTo>
                          <a:pt x="6" y="97"/>
                        </a:lnTo>
                        <a:lnTo>
                          <a:pt x="8" y="91"/>
                        </a:lnTo>
                        <a:lnTo>
                          <a:pt x="8" y="86"/>
                        </a:lnTo>
                        <a:lnTo>
                          <a:pt x="8" y="80"/>
                        </a:lnTo>
                        <a:lnTo>
                          <a:pt x="8" y="75"/>
                        </a:lnTo>
                        <a:lnTo>
                          <a:pt x="8" y="70"/>
                        </a:lnTo>
                        <a:lnTo>
                          <a:pt x="8" y="65"/>
                        </a:lnTo>
                        <a:lnTo>
                          <a:pt x="8" y="59"/>
                        </a:lnTo>
                        <a:lnTo>
                          <a:pt x="8" y="54"/>
                        </a:lnTo>
                        <a:lnTo>
                          <a:pt x="8" y="50"/>
                        </a:lnTo>
                        <a:lnTo>
                          <a:pt x="9" y="44"/>
                        </a:lnTo>
                        <a:lnTo>
                          <a:pt x="8" y="39"/>
                        </a:lnTo>
                        <a:lnTo>
                          <a:pt x="8" y="33"/>
                        </a:lnTo>
                        <a:lnTo>
                          <a:pt x="8" y="28"/>
                        </a:lnTo>
                        <a:lnTo>
                          <a:pt x="8" y="22"/>
                        </a:lnTo>
                        <a:lnTo>
                          <a:pt x="8" y="17"/>
                        </a:lnTo>
                        <a:lnTo>
                          <a:pt x="8" y="11"/>
                        </a:lnTo>
                        <a:lnTo>
                          <a:pt x="8" y="6"/>
                        </a:lnTo>
                        <a:lnTo>
                          <a:pt x="8" y="0"/>
                        </a:lnTo>
                        <a:lnTo>
                          <a:pt x="6" y="5"/>
                        </a:lnTo>
                        <a:lnTo>
                          <a:pt x="6" y="9"/>
                        </a:lnTo>
                        <a:lnTo>
                          <a:pt x="4" y="11"/>
                        </a:lnTo>
                        <a:lnTo>
                          <a:pt x="3" y="16"/>
                        </a:lnTo>
                        <a:lnTo>
                          <a:pt x="1" y="105"/>
                        </a:lnTo>
                        <a:lnTo>
                          <a:pt x="0" y="109"/>
                        </a:lnTo>
                        <a:lnTo>
                          <a:pt x="0" y="113"/>
                        </a:lnTo>
                        <a:lnTo>
                          <a:pt x="0" y="118"/>
                        </a:lnTo>
                        <a:lnTo>
                          <a:pt x="0" y="123"/>
                        </a:lnTo>
                        <a:lnTo>
                          <a:pt x="0" y="127"/>
                        </a:lnTo>
                        <a:lnTo>
                          <a:pt x="0" y="132"/>
                        </a:lnTo>
                        <a:lnTo>
                          <a:pt x="0" y="136"/>
                        </a:lnTo>
                        <a:lnTo>
                          <a:pt x="0" y="142"/>
                        </a:lnTo>
                        <a:lnTo>
                          <a:pt x="0" y="146"/>
                        </a:lnTo>
                        <a:lnTo>
                          <a:pt x="0" y="150"/>
                        </a:lnTo>
                        <a:lnTo>
                          <a:pt x="0" y="154"/>
                        </a:lnTo>
                        <a:lnTo>
                          <a:pt x="0" y="158"/>
                        </a:lnTo>
                        <a:lnTo>
                          <a:pt x="0" y="164"/>
                        </a:lnTo>
                        <a:lnTo>
                          <a:pt x="0" y="168"/>
                        </a:lnTo>
                        <a:lnTo>
                          <a:pt x="0" y="172"/>
                        </a:lnTo>
                        <a:lnTo>
                          <a:pt x="1" y="1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Freeform 141"/>
                  <p:cNvSpPr/>
                  <p:nvPr/>
                </p:nvSpPr>
                <p:spPr>
                  <a:xfrm>
                    <a:off x="4196160" y="3164400"/>
                    <a:ext cx="1440" cy="20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" h="161">
                        <a:moveTo>
                          <a:pt x="12" y="0"/>
                        </a:moveTo>
                        <a:lnTo>
                          <a:pt x="12" y="5"/>
                        </a:lnTo>
                        <a:lnTo>
                          <a:pt x="10" y="11"/>
                        </a:lnTo>
                        <a:lnTo>
                          <a:pt x="10" y="16"/>
                        </a:lnTo>
                        <a:lnTo>
                          <a:pt x="10" y="21"/>
                        </a:lnTo>
                        <a:lnTo>
                          <a:pt x="10" y="27"/>
                        </a:lnTo>
                        <a:lnTo>
                          <a:pt x="10" y="32"/>
                        </a:lnTo>
                        <a:lnTo>
                          <a:pt x="10" y="37"/>
                        </a:lnTo>
                        <a:lnTo>
                          <a:pt x="10" y="43"/>
                        </a:lnTo>
                        <a:lnTo>
                          <a:pt x="9" y="48"/>
                        </a:lnTo>
                        <a:lnTo>
                          <a:pt x="9" y="53"/>
                        </a:lnTo>
                        <a:lnTo>
                          <a:pt x="9" y="58"/>
                        </a:lnTo>
                        <a:lnTo>
                          <a:pt x="9" y="64"/>
                        </a:lnTo>
                        <a:lnTo>
                          <a:pt x="7" y="69"/>
                        </a:lnTo>
                        <a:lnTo>
                          <a:pt x="7" y="73"/>
                        </a:lnTo>
                        <a:lnTo>
                          <a:pt x="7" y="79"/>
                        </a:lnTo>
                        <a:lnTo>
                          <a:pt x="7" y="84"/>
                        </a:lnTo>
                        <a:lnTo>
                          <a:pt x="7" y="88"/>
                        </a:lnTo>
                        <a:lnTo>
                          <a:pt x="7" y="94"/>
                        </a:lnTo>
                        <a:lnTo>
                          <a:pt x="7" y="99"/>
                        </a:lnTo>
                        <a:lnTo>
                          <a:pt x="7" y="105"/>
                        </a:lnTo>
                        <a:lnTo>
                          <a:pt x="6" y="109"/>
                        </a:lnTo>
                        <a:lnTo>
                          <a:pt x="6" y="113"/>
                        </a:lnTo>
                        <a:lnTo>
                          <a:pt x="6" y="118"/>
                        </a:lnTo>
                        <a:lnTo>
                          <a:pt x="6" y="124"/>
                        </a:lnTo>
                        <a:lnTo>
                          <a:pt x="4" y="128"/>
                        </a:lnTo>
                        <a:lnTo>
                          <a:pt x="4" y="132"/>
                        </a:lnTo>
                        <a:lnTo>
                          <a:pt x="3" y="138"/>
                        </a:lnTo>
                        <a:lnTo>
                          <a:pt x="3" y="142"/>
                        </a:lnTo>
                        <a:lnTo>
                          <a:pt x="1" y="147"/>
                        </a:lnTo>
                        <a:lnTo>
                          <a:pt x="1" y="151"/>
                        </a:lnTo>
                        <a:lnTo>
                          <a:pt x="0" y="157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0" y="149"/>
                        </a:lnTo>
                        <a:lnTo>
                          <a:pt x="0" y="143"/>
                        </a:lnTo>
                        <a:lnTo>
                          <a:pt x="0" y="138"/>
                        </a:lnTo>
                        <a:lnTo>
                          <a:pt x="0" y="135"/>
                        </a:lnTo>
                        <a:lnTo>
                          <a:pt x="0" y="132"/>
                        </a:lnTo>
                        <a:lnTo>
                          <a:pt x="0" y="128"/>
                        </a:lnTo>
                        <a:lnTo>
                          <a:pt x="0" y="125"/>
                        </a:lnTo>
                        <a:lnTo>
                          <a:pt x="0" y="121"/>
                        </a:lnTo>
                        <a:lnTo>
                          <a:pt x="0" y="118"/>
                        </a:lnTo>
                        <a:lnTo>
                          <a:pt x="0" y="114"/>
                        </a:lnTo>
                        <a:lnTo>
                          <a:pt x="0" y="110"/>
                        </a:lnTo>
                        <a:lnTo>
                          <a:pt x="0" y="107"/>
                        </a:lnTo>
                        <a:lnTo>
                          <a:pt x="0" y="103"/>
                        </a:lnTo>
                        <a:lnTo>
                          <a:pt x="0" y="99"/>
                        </a:lnTo>
                        <a:lnTo>
                          <a:pt x="0" y="95"/>
                        </a:lnTo>
                        <a:lnTo>
                          <a:pt x="0" y="92"/>
                        </a:lnTo>
                        <a:lnTo>
                          <a:pt x="0" y="88"/>
                        </a:lnTo>
                        <a:lnTo>
                          <a:pt x="0" y="84"/>
                        </a:lnTo>
                        <a:lnTo>
                          <a:pt x="0" y="80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0" y="69"/>
                        </a:lnTo>
                        <a:lnTo>
                          <a:pt x="0" y="66"/>
                        </a:lnTo>
                        <a:lnTo>
                          <a:pt x="0" y="62"/>
                        </a:lnTo>
                        <a:lnTo>
                          <a:pt x="0" y="59"/>
                        </a:lnTo>
                        <a:lnTo>
                          <a:pt x="0" y="55"/>
                        </a:lnTo>
                        <a:lnTo>
                          <a:pt x="0" y="53"/>
                        </a:lnTo>
                        <a:lnTo>
                          <a:pt x="1" y="46"/>
                        </a:lnTo>
                        <a:lnTo>
                          <a:pt x="1" y="40"/>
                        </a:lnTo>
                        <a:lnTo>
                          <a:pt x="3" y="35"/>
                        </a:lnTo>
                        <a:lnTo>
                          <a:pt x="3" y="29"/>
                        </a:lnTo>
                        <a:lnTo>
                          <a:pt x="3" y="25"/>
                        </a:lnTo>
                        <a:lnTo>
                          <a:pt x="4" y="21"/>
                        </a:lnTo>
                        <a:lnTo>
                          <a:pt x="6" y="17"/>
                        </a:lnTo>
                        <a:lnTo>
                          <a:pt x="7" y="13"/>
                        </a:lnTo>
                        <a:lnTo>
                          <a:pt x="7" y="9"/>
                        </a:lnTo>
                        <a:lnTo>
                          <a:pt x="9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Freeform 142"/>
                  <p:cNvSpPr/>
                  <p:nvPr/>
                </p:nvSpPr>
                <p:spPr>
                  <a:xfrm>
                    <a:off x="4169520" y="3117600"/>
                    <a:ext cx="30240" cy="759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211" h="582">
                        <a:moveTo>
                          <a:pt x="59" y="76"/>
                        </a:moveTo>
                        <a:lnTo>
                          <a:pt x="59" y="80"/>
                        </a:lnTo>
                        <a:lnTo>
                          <a:pt x="61" y="84"/>
                        </a:lnTo>
                        <a:lnTo>
                          <a:pt x="61" y="88"/>
                        </a:lnTo>
                        <a:lnTo>
                          <a:pt x="62" y="94"/>
                        </a:lnTo>
                        <a:lnTo>
                          <a:pt x="62" y="99"/>
                        </a:lnTo>
                        <a:lnTo>
                          <a:pt x="64" y="103"/>
                        </a:lnTo>
                        <a:lnTo>
                          <a:pt x="64" y="109"/>
                        </a:lnTo>
                        <a:lnTo>
                          <a:pt x="65" y="114"/>
                        </a:lnTo>
                        <a:lnTo>
                          <a:pt x="65" y="120"/>
                        </a:lnTo>
                        <a:lnTo>
                          <a:pt x="67" y="125"/>
                        </a:lnTo>
                        <a:lnTo>
                          <a:pt x="67" y="129"/>
                        </a:lnTo>
                        <a:lnTo>
                          <a:pt x="67" y="136"/>
                        </a:lnTo>
                        <a:lnTo>
                          <a:pt x="67" y="140"/>
                        </a:lnTo>
                        <a:lnTo>
                          <a:pt x="67" y="146"/>
                        </a:lnTo>
                        <a:lnTo>
                          <a:pt x="65" y="150"/>
                        </a:lnTo>
                        <a:lnTo>
                          <a:pt x="64" y="155"/>
                        </a:lnTo>
                        <a:lnTo>
                          <a:pt x="64" y="151"/>
                        </a:lnTo>
                        <a:lnTo>
                          <a:pt x="64" y="147"/>
                        </a:lnTo>
                        <a:lnTo>
                          <a:pt x="64" y="143"/>
                        </a:lnTo>
                        <a:lnTo>
                          <a:pt x="64" y="140"/>
                        </a:lnTo>
                        <a:lnTo>
                          <a:pt x="62" y="136"/>
                        </a:lnTo>
                        <a:lnTo>
                          <a:pt x="62" y="134"/>
                        </a:lnTo>
                        <a:lnTo>
                          <a:pt x="62" y="129"/>
                        </a:lnTo>
                        <a:lnTo>
                          <a:pt x="62" y="127"/>
                        </a:lnTo>
                        <a:lnTo>
                          <a:pt x="61" y="124"/>
                        </a:lnTo>
                        <a:lnTo>
                          <a:pt x="61" y="120"/>
                        </a:lnTo>
                        <a:lnTo>
                          <a:pt x="59" y="117"/>
                        </a:lnTo>
                        <a:lnTo>
                          <a:pt x="59" y="113"/>
                        </a:lnTo>
                        <a:lnTo>
                          <a:pt x="58" y="110"/>
                        </a:lnTo>
                        <a:lnTo>
                          <a:pt x="58" y="106"/>
                        </a:lnTo>
                        <a:lnTo>
                          <a:pt x="58" y="103"/>
                        </a:lnTo>
                        <a:lnTo>
                          <a:pt x="58" y="99"/>
                        </a:lnTo>
                        <a:lnTo>
                          <a:pt x="56" y="96"/>
                        </a:lnTo>
                        <a:lnTo>
                          <a:pt x="55" y="92"/>
                        </a:lnTo>
                        <a:lnTo>
                          <a:pt x="55" y="90"/>
                        </a:lnTo>
                        <a:lnTo>
                          <a:pt x="53" y="85"/>
                        </a:lnTo>
                        <a:lnTo>
                          <a:pt x="52" y="81"/>
                        </a:lnTo>
                        <a:lnTo>
                          <a:pt x="52" y="79"/>
                        </a:lnTo>
                        <a:lnTo>
                          <a:pt x="50" y="75"/>
                        </a:lnTo>
                        <a:lnTo>
                          <a:pt x="50" y="72"/>
                        </a:lnTo>
                        <a:lnTo>
                          <a:pt x="49" y="68"/>
                        </a:lnTo>
                        <a:lnTo>
                          <a:pt x="47" y="65"/>
                        </a:lnTo>
                        <a:lnTo>
                          <a:pt x="47" y="61"/>
                        </a:lnTo>
                        <a:lnTo>
                          <a:pt x="45" y="58"/>
                        </a:lnTo>
                        <a:lnTo>
                          <a:pt x="44" y="54"/>
                        </a:lnTo>
                        <a:lnTo>
                          <a:pt x="44" y="51"/>
                        </a:lnTo>
                        <a:lnTo>
                          <a:pt x="42" y="47"/>
                        </a:lnTo>
                        <a:lnTo>
                          <a:pt x="42" y="44"/>
                        </a:lnTo>
                        <a:lnTo>
                          <a:pt x="29" y="48"/>
                        </a:lnTo>
                        <a:lnTo>
                          <a:pt x="30" y="51"/>
                        </a:lnTo>
                        <a:lnTo>
                          <a:pt x="30" y="55"/>
                        </a:lnTo>
                        <a:lnTo>
                          <a:pt x="32" y="58"/>
                        </a:lnTo>
                        <a:lnTo>
                          <a:pt x="33" y="61"/>
                        </a:lnTo>
                        <a:lnTo>
                          <a:pt x="33" y="64"/>
                        </a:lnTo>
                        <a:lnTo>
                          <a:pt x="35" y="68"/>
                        </a:lnTo>
                        <a:lnTo>
                          <a:pt x="35" y="70"/>
                        </a:lnTo>
                        <a:lnTo>
                          <a:pt x="36" y="75"/>
                        </a:lnTo>
                        <a:lnTo>
                          <a:pt x="38" y="80"/>
                        </a:lnTo>
                        <a:lnTo>
                          <a:pt x="38" y="85"/>
                        </a:lnTo>
                        <a:lnTo>
                          <a:pt x="39" y="88"/>
                        </a:lnTo>
                        <a:lnTo>
                          <a:pt x="39" y="91"/>
                        </a:lnTo>
                        <a:lnTo>
                          <a:pt x="41" y="95"/>
                        </a:lnTo>
                        <a:lnTo>
                          <a:pt x="41" y="98"/>
                        </a:lnTo>
                        <a:lnTo>
                          <a:pt x="41" y="103"/>
                        </a:lnTo>
                        <a:lnTo>
                          <a:pt x="42" y="110"/>
                        </a:lnTo>
                        <a:lnTo>
                          <a:pt x="42" y="113"/>
                        </a:lnTo>
                        <a:lnTo>
                          <a:pt x="42" y="117"/>
                        </a:lnTo>
                        <a:lnTo>
                          <a:pt x="42" y="120"/>
                        </a:lnTo>
                        <a:lnTo>
                          <a:pt x="42" y="124"/>
                        </a:lnTo>
                        <a:lnTo>
                          <a:pt x="42" y="127"/>
                        </a:lnTo>
                        <a:lnTo>
                          <a:pt x="42" y="129"/>
                        </a:lnTo>
                        <a:lnTo>
                          <a:pt x="42" y="134"/>
                        </a:lnTo>
                        <a:lnTo>
                          <a:pt x="42" y="138"/>
                        </a:lnTo>
                        <a:lnTo>
                          <a:pt x="42" y="140"/>
                        </a:lnTo>
                        <a:lnTo>
                          <a:pt x="42" y="145"/>
                        </a:lnTo>
                        <a:lnTo>
                          <a:pt x="42" y="149"/>
                        </a:lnTo>
                        <a:lnTo>
                          <a:pt x="42" y="153"/>
                        </a:lnTo>
                        <a:lnTo>
                          <a:pt x="38" y="149"/>
                        </a:lnTo>
                        <a:lnTo>
                          <a:pt x="36" y="145"/>
                        </a:lnTo>
                        <a:lnTo>
                          <a:pt x="36" y="142"/>
                        </a:lnTo>
                        <a:lnTo>
                          <a:pt x="36" y="139"/>
                        </a:lnTo>
                        <a:lnTo>
                          <a:pt x="36" y="136"/>
                        </a:lnTo>
                        <a:lnTo>
                          <a:pt x="36" y="131"/>
                        </a:lnTo>
                        <a:lnTo>
                          <a:pt x="36" y="125"/>
                        </a:lnTo>
                        <a:lnTo>
                          <a:pt x="35" y="121"/>
                        </a:lnTo>
                        <a:lnTo>
                          <a:pt x="33" y="117"/>
                        </a:lnTo>
                        <a:lnTo>
                          <a:pt x="33" y="113"/>
                        </a:lnTo>
                        <a:lnTo>
                          <a:pt x="33" y="110"/>
                        </a:lnTo>
                        <a:lnTo>
                          <a:pt x="32" y="106"/>
                        </a:lnTo>
                        <a:lnTo>
                          <a:pt x="30" y="102"/>
                        </a:lnTo>
                        <a:lnTo>
                          <a:pt x="29" y="99"/>
                        </a:lnTo>
                        <a:lnTo>
                          <a:pt x="29" y="96"/>
                        </a:lnTo>
                        <a:lnTo>
                          <a:pt x="26" y="92"/>
                        </a:lnTo>
                        <a:lnTo>
                          <a:pt x="24" y="88"/>
                        </a:lnTo>
                        <a:lnTo>
                          <a:pt x="21" y="83"/>
                        </a:lnTo>
                        <a:lnTo>
                          <a:pt x="19" y="79"/>
                        </a:lnTo>
                        <a:lnTo>
                          <a:pt x="16" y="75"/>
                        </a:lnTo>
                        <a:lnTo>
                          <a:pt x="15" y="69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2" y="61"/>
                        </a:lnTo>
                        <a:lnTo>
                          <a:pt x="12" y="58"/>
                        </a:lnTo>
                        <a:lnTo>
                          <a:pt x="12" y="55"/>
                        </a:lnTo>
                        <a:lnTo>
                          <a:pt x="12" y="51"/>
                        </a:lnTo>
                        <a:lnTo>
                          <a:pt x="12" y="47"/>
                        </a:lnTo>
                        <a:lnTo>
                          <a:pt x="12" y="44"/>
                        </a:lnTo>
                        <a:lnTo>
                          <a:pt x="9" y="44"/>
                        </a:lnTo>
                        <a:lnTo>
                          <a:pt x="4" y="46"/>
                        </a:lnTo>
                        <a:lnTo>
                          <a:pt x="0" y="46"/>
                        </a:lnTo>
                        <a:lnTo>
                          <a:pt x="0" y="47"/>
                        </a:lnTo>
                        <a:lnTo>
                          <a:pt x="0" y="50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0" y="61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0" y="73"/>
                        </a:lnTo>
                        <a:lnTo>
                          <a:pt x="1" y="77"/>
                        </a:lnTo>
                        <a:lnTo>
                          <a:pt x="1" y="83"/>
                        </a:lnTo>
                        <a:lnTo>
                          <a:pt x="1" y="87"/>
                        </a:lnTo>
                        <a:lnTo>
                          <a:pt x="3" y="91"/>
                        </a:lnTo>
                        <a:lnTo>
                          <a:pt x="3" y="96"/>
                        </a:lnTo>
                        <a:lnTo>
                          <a:pt x="3" y="101"/>
                        </a:lnTo>
                        <a:lnTo>
                          <a:pt x="3" y="105"/>
                        </a:lnTo>
                        <a:lnTo>
                          <a:pt x="4" y="110"/>
                        </a:lnTo>
                        <a:lnTo>
                          <a:pt x="6" y="114"/>
                        </a:lnTo>
                        <a:lnTo>
                          <a:pt x="6" y="118"/>
                        </a:lnTo>
                        <a:lnTo>
                          <a:pt x="6" y="123"/>
                        </a:lnTo>
                        <a:lnTo>
                          <a:pt x="6" y="127"/>
                        </a:lnTo>
                        <a:lnTo>
                          <a:pt x="7" y="131"/>
                        </a:lnTo>
                        <a:lnTo>
                          <a:pt x="7" y="135"/>
                        </a:lnTo>
                        <a:lnTo>
                          <a:pt x="7" y="139"/>
                        </a:lnTo>
                        <a:lnTo>
                          <a:pt x="9" y="142"/>
                        </a:lnTo>
                        <a:lnTo>
                          <a:pt x="9" y="146"/>
                        </a:lnTo>
                        <a:lnTo>
                          <a:pt x="10" y="151"/>
                        </a:lnTo>
                        <a:lnTo>
                          <a:pt x="10" y="155"/>
                        </a:lnTo>
                        <a:lnTo>
                          <a:pt x="10" y="158"/>
                        </a:lnTo>
                        <a:lnTo>
                          <a:pt x="12" y="160"/>
                        </a:lnTo>
                        <a:lnTo>
                          <a:pt x="12" y="164"/>
                        </a:lnTo>
                        <a:lnTo>
                          <a:pt x="12" y="168"/>
                        </a:lnTo>
                        <a:lnTo>
                          <a:pt x="12" y="171"/>
                        </a:lnTo>
                        <a:lnTo>
                          <a:pt x="13" y="176"/>
                        </a:lnTo>
                        <a:lnTo>
                          <a:pt x="13" y="180"/>
                        </a:lnTo>
                        <a:lnTo>
                          <a:pt x="13" y="183"/>
                        </a:lnTo>
                        <a:lnTo>
                          <a:pt x="13" y="187"/>
                        </a:lnTo>
                        <a:lnTo>
                          <a:pt x="15" y="191"/>
                        </a:lnTo>
                        <a:lnTo>
                          <a:pt x="15" y="197"/>
                        </a:lnTo>
                        <a:lnTo>
                          <a:pt x="15" y="199"/>
                        </a:lnTo>
                        <a:lnTo>
                          <a:pt x="13" y="198"/>
                        </a:lnTo>
                        <a:lnTo>
                          <a:pt x="13" y="197"/>
                        </a:lnTo>
                        <a:lnTo>
                          <a:pt x="12" y="194"/>
                        </a:lnTo>
                        <a:lnTo>
                          <a:pt x="12" y="582"/>
                        </a:lnTo>
                        <a:lnTo>
                          <a:pt x="211" y="582"/>
                        </a:lnTo>
                        <a:lnTo>
                          <a:pt x="206" y="114"/>
                        </a:lnTo>
                        <a:lnTo>
                          <a:pt x="205" y="110"/>
                        </a:lnTo>
                        <a:lnTo>
                          <a:pt x="205" y="107"/>
                        </a:lnTo>
                        <a:lnTo>
                          <a:pt x="205" y="103"/>
                        </a:lnTo>
                        <a:lnTo>
                          <a:pt x="205" y="99"/>
                        </a:lnTo>
                        <a:lnTo>
                          <a:pt x="205" y="96"/>
                        </a:lnTo>
                        <a:lnTo>
                          <a:pt x="205" y="92"/>
                        </a:lnTo>
                        <a:lnTo>
                          <a:pt x="205" y="90"/>
                        </a:lnTo>
                        <a:lnTo>
                          <a:pt x="205" y="85"/>
                        </a:lnTo>
                        <a:lnTo>
                          <a:pt x="205" y="81"/>
                        </a:lnTo>
                        <a:lnTo>
                          <a:pt x="205" y="79"/>
                        </a:lnTo>
                        <a:lnTo>
                          <a:pt x="205" y="75"/>
                        </a:lnTo>
                        <a:lnTo>
                          <a:pt x="205" y="72"/>
                        </a:lnTo>
                        <a:lnTo>
                          <a:pt x="205" y="68"/>
                        </a:lnTo>
                        <a:lnTo>
                          <a:pt x="205" y="65"/>
                        </a:lnTo>
                        <a:lnTo>
                          <a:pt x="205" y="61"/>
                        </a:lnTo>
                        <a:lnTo>
                          <a:pt x="205" y="58"/>
                        </a:lnTo>
                        <a:lnTo>
                          <a:pt x="205" y="54"/>
                        </a:lnTo>
                        <a:lnTo>
                          <a:pt x="205" y="50"/>
                        </a:lnTo>
                        <a:lnTo>
                          <a:pt x="205" y="47"/>
                        </a:lnTo>
                        <a:lnTo>
                          <a:pt x="205" y="43"/>
                        </a:lnTo>
                        <a:lnTo>
                          <a:pt x="205" y="39"/>
                        </a:lnTo>
                        <a:lnTo>
                          <a:pt x="205" y="36"/>
                        </a:lnTo>
                        <a:lnTo>
                          <a:pt x="205" y="32"/>
                        </a:lnTo>
                        <a:lnTo>
                          <a:pt x="205" y="29"/>
                        </a:lnTo>
                        <a:lnTo>
                          <a:pt x="205" y="25"/>
                        </a:lnTo>
                        <a:lnTo>
                          <a:pt x="205" y="21"/>
                        </a:lnTo>
                        <a:lnTo>
                          <a:pt x="205" y="18"/>
                        </a:lnTo>
                        <a:lnTo>
                          <a:pt x="205" y="15"/>
                        </a:lnTo>
                        <a:lnTo>
                          <a:pt x="203" y="11"/>
                        </a:lnTo>
                        <a:lnTo>
                          <a:pt x="203" y="7"/>
                        </a:lnTo>
                        <a:lnTo>
                          <a:pt x="203" y="4"/>
                        </a:lnTo>
                        <a:lnTo>
                          <a:pt x="203" y="0"/>
                        </a:lnTo>
                        <a:lnTo>
                          <a:pt x="203" y="3"/>
                        </a:lnTo>
                        <a:lnTo>
                          <a:pt x="203" y="7"/>
                        </a:lnTo>
                        <a:lnTo>
                          <a:pt x="203" y="10"/>
                        </a:lnTo>
                        <a:lnTo>
                          <a:pt x="203" y="13"/>
                        </a:lnTo>
                        <a:lnTo>
                          <a:pt x="203" y="17"/>
                        </a:lnTo>
                        <a:lnTo>
                          <a:pt x="203" y="20"/>
                        </a:lnTo>
                        <a:lnTo>
                          <a:pt x="203" y="24"/>
                        </a:lnTo>
                        <a:lnTo>
                          <a:pt x="203" y="26"/>
                        </a:lnTo>
                        <a:lnTo>
                          <a:pt x="201" y="29"/>
                        </a:lnTo>
                        <a:lnTo>
                          <a:pt x="201" y="33"/>
                        </a:lnTo>
                        <a:lnTo>
                          <a:pt x="201" y="36"/>
                        </a:lnTo>
                        <a:lnTo>
                          <a:pt x="201" y="40"/>
                        </a:lnTo>
                        <a:lnTo>
                          <a:pt x="201" y="43"/>
                        </a:lnTo>
                        <a:lnTo>
                          <a:pt x="201" y="47"/>
                        </a:lnTo>
                        <a:lnTo>
                          <a:pt x="201" y="50"/>
                        </a:lnTo>
                        <a:lnTo>
                          <a:pt x="201" y="53"/>
                        </a:lnTo>
                        <a:lnTo>
                          <a:pt x="201" y="57"/>
                        </a:lnTo>
                        <a:lnTo>
                          <a:pt x="201" y="59"/>
                        </a:lnTo>
                        <a:lnTo>
                          <a:pt x="201" y="64"/>
                        </a:lnTo>
                        <a:lnTo>
                          <a:pt x="201" y="66"/>
                        </a:lnTo>
                        <a:lnTo>
                          <a:pt x="201" y="70"/>
                        </a:lnTo>
                        <a:lnTo>
                          <a:pt x="201" y="73"/>
                        </a:lnTo>
                        <a:lnTo>
                          <a:pt x="201" y="77"/>
                        </a:lnTo>
                        <a:lnTo>
                          <a:pt x="201" y="80"/>
                        </a:lnTo>
                        <a:lnTo>
                          <a:pt x="201" y="84"/>
                        </a:lnTo>
                        <a:lnTo>
                          <a:pt x="201" y="87"/>
                        </a:lnTo>
                        <a:lnTo>
                          <a:pt x="201" y="90"/>
                        </a:lnTo>
                        <a:lnTo>
                          <a:pt x="201" y="94"/>
                        </a:lnTo>
                        <a:lnTo>
                          <a:pt x="201" y="96"/>
                        </a:lnTo>
                        <a:lnTo>
                          <a:pt x="201" y="101"/>
                        </a:lnTo>
                        <a:lnTo>
                          <a:pt x="201" y="103"/>
                        </a:lnTo>
                        <a:lnTo>
                          <a:pt x="201" y="107"/>
                        </a:lnTo>
                        <a:lnTo>
                          <a:pt x="200" y="103"/>
                        </a:lnTo>
                        <a:lnTo>
                          <a:pt x="198" y="99"/>
                        </a:lnTo>
                        <a:lnTo>
                          <a:pt x="198" y="94"/>
                        </a:lnTo>
                        <a:lnTo>
                          <a:pt x="197" y="90"/>
                        </a:lnTo>
                        <a:lnTo>
                          <a:pt x="195" y="84"/>
                        </a:lnTo>
                        <a:lnTo>
                          <a:pt x="195" y="80"/>
                        </a:lnTo>
                        <a:lnTo>
                          <a:pt x="194" y="76"/>
                        </a:lnTo>
                        <a:lnTo>
                          <a:pt x="194" y="72"/>
                        </a:lnTo>
                        <a:lnTo>
                          <a:pt x="191" y="73"/>
                        </a:lnTo>
                        <a:lnTo>
                          <a:pt x="191" y="79"/>
                        </a:lnTo>
                        <a:lnTo>
                          <a:pt x="191" y="80"/>
                        </a:lnTo>
                        <a:lnTo>
                          <a:pt x="191" y="84"/>
                        </a:lnTo>
                        <a:lnTo>
                          <a:pt x="191" y="88"/>
                        </a:lnTo>
                        <a:lnTo>
                          <a:pt x="191" y="92"/>
                        </a:lnTo>
                        <a:lnTo>
                          <a:pt x="191" y="96"/>
                        </a:lnTo>
                        <a:lnTo>
                          <a:pt x="191" y="101"/>
                        </a:lnTo>
                        <a:lnTo>
                          <a:pt x="191" y="105"/>
                        </a:lnTo>
                        <a:lnTo>
                          <a:pt x="191" y="110"/>
                        </a:lnTo>
                        <a:lnTo>
                          <a:pt x="191" y="114"/>
                        </a:lnTo>
                        <a:lnTo>
                          <a:pt x="191" y="120"/>
                        </a:lnTo>
                        <a:lnTo>
                          <a:pt x="191" y="125"/>
                        </a:lnTo>
                        <a:lnTo>
                          <a:pt x="192" y="131"/>
                        </a:lnTo>
                        <a:lnTo>
                          <a:pt x="192" y="135"/>
                        </a:lnTo>
                        <a:lnTo>
                          <a:pt x="192" y="139"/>
                        </a:lnTo>
                        <a:lnTo>
                          <a:pt x="192" y="145"/>
                        </a:lnTo>
                        <a:lnTo>
                          <a:pt x="192" y="149"/>
                        </a:lnTo>
                        <a:lnTo>
                          <a:pt x="192" y="153"/>
                        </a:lnTo>
                        <a:lnTo>
                          <a:pt x="192" y="157"/>
                        </a:lnTo>
                        <a:lnTo>
                          <a:pt x="192" y="161"/>
                        </a:lnTo>
                        <a:lnTo>
                          <a:pt x="194" y="164"/>
                        </a:lnTo>
                        <a:lnTo>
                          <a:pt x="192" y="168"/>
                        </a:lnTo>
                        <a:lnTo>
                          <a:pt x="192" y="172"/>
                        </a:lnTo>
                        <a:lnTo>
                          <a:pt x="191" y="173"/>
                        </a:lnTo>
                        <a:lnTo>
                          <a:pt x="191" y="171"/>
                        </a:lnTo>
                        <a:lnTo>
                          <a:pt x="191" y="165"/>
                        </a:lnTo>
                        <a:lnTo>
                          <a:pt x="189" y="160"/>
                        </a:lnTo>
                        <a:lnTo>
                          <a:pt x="189" y="154"/>
                        </a:lnTo>
                        <a:lnTo>
                          <a:pt x="189" y="149"/>
                        </a:lnTo>
                        <a:lnTo>
                          <a:pt x="189" y="143"/>
                        </a:lnTo>
                        <a:lnTo>
                          <a:pt x="188" y="139"/>
                        </a:lnTo>
                        <a:lnTo>
                          <a:pt x="188" y="134"/>
                        </a:lnTo>
                        <a:lnTo>
                          <a:pt x="188" y="129"/>
                        </a:lnTo>
                        <a:lnTo>
                          <a:pt x="188" y="124"/>
                        </a:lnTo>
                        <a:lnTo>
                          <a:pt x="188" y="121"/>
                        </a:lnTo>
                        <a:lnTo>
                          <a:pt x="188" y="116"/>
                        </a:lnTo>
                        <a:lnTo>
                          <a:pt x="188" y="112"/>
                        </a:lnTo>
                        <a:lnTo>
                          <a:pt x="186" y="107"/>
                        </a:lnTo>
                        <a:lnTo>
                          <a:pt x="186" y="103"/>
                        </a:lnTo>
                        <a:lnTo>
                          <a:pt x="186" y="99"/>
                        </a:lnTo>
                        <a:lnTo>
                          <a:pt x="186" y="95"/>
                        </a:lnTo>
                        <a:lnTo>
                          <a:pt x="185" y="90"/>
                        </a:lnTo>
                        <a:lnTo>
                          <a:pt x="185" y="87"/>
                        </a:lnTo>
                        <a:lnTo>
                          <a:pt x="185" y="81"/>
                        </a:lnTo>
                        <a:lnTo>
                          <a:pt x="185" y="77"/>
                        </a:lnTo>
                        <a:lnTo>
                          <a:pt x="183" y="73"/>
                        </a:lnTo>
                        <a:lnTo>
                          <a:pt x="183" y="68"/>
                        </a:lnTo>
                        <a:lnTo>
                          <a:pt x="183" y="64"/>
                        </a:lnTo>
                        <a:lnTo>
                          <a:pt x="183" y="59"/>
                        </a:lnTo>
                        <a:lnTo>
                          <a:pt x="182" y="55"/>
                        </a:lnTo>
                        <a:lnTo>
                          <a:pt x="182" y="50"/>
                        </a:lnTo>
                        <a:lnTo>
                          <a:pt x="182" y="44"/>
                        </a:lnTo>
                        <a:lnTo>
                          <a:pt x="182" y="40"/>
                        </a:lnTo>
                        <a:lnTo>
                          <a:pt x="182" y="35"/>
                        </a:lnTo>
                        <a:lnTo>
                          <a:pt x="182" y="31"/>
                        </a:lnTo>
                        <a:lnTo>
                          <a:pt x="182" y="24"/>
                        </a:lnTo>
                        <a:lnTo>
                          <a:pt x="182" y="20"/>
                        </a:lnTo>
                        <a:lnTo>
                          <a:pt x="179" y="20"/>
                        </a:lnTo>
                        <a:lnTo>
                          <a:pt x="177" y="24"/>
                        </a:lnTo>
                        <a:lnTo>
                          <a:pt x="175" y="26"/>
                        </a:lnTo>
                        <a:lnTo>
                          <a:pt x="174" y="31"/>
                        </a:lnTo>
                        <a:lnTo>
                          <a:pt x="174" y="33"/>
                        </a:lnTo>
                        <a:lnTo>
                          <a:pt x="172" y="37"/>
                        </a:lnTo>
                        <a:lnTo>
                          <a:pt x="172" y="40"/>
                        </a:lnTo>
                        <a:lnTo>
                          <a:pt x="172" y="44"/>
                        </a:lnTo>
                        <a:lnTo>
                          <a:pt x="171" y="47"/>
                        </a:lnTo>
                        <a:lnTo>
                          <a:pt x="171" y="53"/>
                        </a:lnTo>
                        <a:lnTo>
                          <a:pt x="169" y="57"/>
                        </a:lnTo>
                        <a:lnTo>
                          <a:pt x="169" y="64"/>
                        </a:lnTo>
                        <a:lnTo>
                          <a:pt x="169" y="65"/>
                        </a:lnTo>
                        <a:lnTo>
                          <a:pt x="169" y="68"/>
                        </a:lnTo>
                        <a:lnTo>
                          <a:pt x="169" y="72"/>
                        </a:lnTo>
                        <a:lnTo>
                          <a:pt x="169" y="75"/>
                        </a:lnTo>
                        <a:lnTo>
                          <a:pt x="169" y="77"/>
                        </a:lnTo>
                        <a:lnTo>
                          <a:pt x="169" y="81"/>
                        </a:lnTo>
                        <a:lnTo>
                          <a:pt x="169" y="85"/>
                        </a:lnTo>
                        <a:lnTo>
                          <a:pt x="169" y="90"/>
                        </a:lnTo>
                        <a:lnTo>
                          <a:pt x="169" y="92"/>
                        </a:lnTo>
                        <a:lnTo>
                          <a:pt x="169" y="96"/>
                        </a:lnTo>
                        <a:lnTo>
                          <a:pt x="169" y="101"/>
                        </a:lnTo>
                        <a:lnTo>
                          <a:pt x="169" y="105"/>
                        </a:lnTo>
                        <a:lnTo>
                          <a:pt x="169" y="109"/>
                        </a:lnTo>
                        <a:lnTo>
                          <a:pt x="169" y="113"/>
                        </a:lnTo>
                        <a:lnTo>
                          <a:pt x="169" y="118"/>
                        </a:lnTo>
                        <a:lnTo>
                          <a:pt x="169" y="124"/>
                        </a:lnTo>
                        <a:lnTo>
                          <a:pt x="169" y="128"/>
                        </a:lnTo>
                        <a:lnTo>
                          <a:pt x="169" y="134"/>
                        </a:lnTo>
                        <a:lnTo>
                          <a:pt x="171" y="138"/>
                        </a:lnTo>
                        <a:lnTo>
                          <a:pt x="171" y="143"/>
                        </a:lnTo>
                        <a:lnTo>
                          <a:pt x="171" y="149"/>
                        </a:lnTo>
                        <a:lnTo>
                          <a:pt x="171" y="154"/>
                        </a:lnTo>
                        <a:lnTo>
                          <a:pt x="172" y="160"/>
                        </a:lnTo>
                        <a:lnTo>
                          <a:pt x="174" y="166"/>
                        </a:lnTo>
                        <a:lnTo>
                          <a:pt x="174" y="169"/>
                        </a:lnTo>
                        <a:lnTo>
                          <a:pt x="174" y="172"/>
                        </a:lnTo>
                        <a:lnTo>
                          <a:pt x="174" y="176"/>
                        </a:lnTo>
                        <a:lnTo>
                          <a:pt x="174" y="182"/>
                        </a:lnTo>
                        <a:lnTo>
                          <a:pt x="174" y="186"/>
                        </a:lnTo>
                        <a:lnTo>
                          <a:pt x="174" y="191"/>
                        </a:lnTo>
                        <a:lnTo>
                          <a:pt x="174" y="197"/>
                        </a:lnTo>
                        <a:lnTo>
                          <a:pt x="174" y="204"/>
                        </a:lnTo>
                        <a:lnTo>
                          <a:pt x="172" y="209"/>
                        </a:lnTo>
                        <a:lnTo>
                          <a:pt x="172" y="215"/>
                        </a:lnTo>
                        <a:lnTo>
                          <a:pt x="172" y="220"/>
                        </a:lnTo>
                        <a:lnTo>
                          <a:pt x="172" y="224"/>
                        </a:lnTo>
                        <a:lnTo>
                          <a:pt x="171" y="228"/>
                        </a:lnTo>
                        <a:lnTo>
                          <a:pt x="171" y="232"/>
                        </a:lnTo>
                        <a:lnTo>
                          <a:pt x="169" y="235"/>
                        </a:lnTo>
                        <a:lnTo>
                          <a:pt x="168" y="238"/>
                        </a:lnTo>
                        <a:lnTo>
                          <a:pt x="166" y="231"/>
                        </a:lnTo>
                        <a:lnTo>
                          <a:pt x="166" y="225"/>
                        </a:lnTo>
                        <a:lnTo>
                          <a:pt x="165" y="220"/>
                        </a:lnTo>
                        <a:lnTo>
                          <a:pt x="165" y="215"/>
                        </a:lnTo>
                        <a:lnTo>
                          <a:pt x="163" y="209"/>
                        </a:lnTo>
                        <a:lnTo>
                          <a:pt x="163" y="204"/>
                        </a:lnTo>
                        <a:lnTo>
                          <a:pt x="163" y="198"/>
                        </a:lnTo>
                        <a:lnTo>
                          <a:pt x="163" y="193"/>
                        </a:lnTo>
                        <a:lnTo>
                          <a:pt x="163" y="186"/>
                        </a:lnTo>
                        <a:lnTo>
                          <a:pt x="163" y="182"/>
                        </a:lnTo>
                        <a:lnTo>
                          <a:pt x="163" y="175"/>
                        </a:lnTo>
                        <a:lnTo>
                          <a:pt x="163" y="171"/>
                        </a:lnTo>
                        <a:lnTo>
                          <a:pt x="163" y="165"/>
                        </a:lnTo>
                        <a:lnTo>
                          <a:pt x="163" y="158"/>
                        </a:lnTo>
                        <a:lnTo>
                          <a:pt x="163" y="153"/>
                        </a:lnTo>
                        <a:lnTo>
                          <a:pt x="163" y="149"/>
                        </a:lnTo>
                        <a:lnTo>
                          <a:pt x="162" y="142"/>
                        </a:lnTo>
                        <a:lnTo>
                          <a:pt x="162" y="136"/>
                        </a:lnTo>
                        <a:lnTo>
                          <a:pt x="162" y="131"/>
                        </a:lnTo>
                        <a:lnTo>
                          <a:pt x="162" y="125"/>
                        </a:lnTo>
                        <a:lnTo>
                          <a:pt x="162" y="118"/>
                        </a:lnTo>
                        <a:lnTo>
                          <a:pt x="162" y="114"/>
                        </a:lnTo>
                        <a:lnTo>
                          <a:pt x="162" y="107"/>
                        </a:lnTo>
                        <a:lnTo>
                          <a:pt x="162" y="102"/>
                        </a:lnTo>
                        <a:lnTo>
                          <a:pt x="162" y="96"/>
                        </a:lnTo>
                        <a:lnTo>
                          <a:pt x="160" y="91"/>
                        </a:lnTo>
                        <a:lnTo>
                          <a:pt x="160" y="85"/>
                        </a:lnTo>
                        <a:lnTo>
                          <a:pt x="160" y="80"/>
                        </a:lnTo>
                        <a:lnTo>
                          <a:pt x="160" y="75"/>
                        </a:lnTo>
                        <a:lnTo>
                          <a:pt x="159" y="69"/>
                        </a:lnTo>
                        <a:lnTo>
                          <a:pt x="159" y="62"/>
                        </a:lnTo>
                        <a:lnTo>
                          <a:pt x="157" y="58"/>
                        </a:lnTo>
                        <a:lnTo>
                          <a:pt x="157" y="55"/>
                        </a:lnTo>
                        <a:lnTo>
                          <a:pt x="157" y="53"/>
                        </a:lnTo>
                        <a:lnTo>
                          <a:pt x="156" y="48"/>
                        </a:lnTo>
                        <a:lnTo>
                          <a:pt x="156" y="47"/>
                        </a:lnTo>
                        <a:lnTo>
                          <a:pt x="154" y="50"/>
                        </a:lnTo>
                        <a:lnTo>
                          <a:pt x="154" y="53"/>
                        </a:lnTo>
                        <a:lnTo>
                          <a:pt x="153" y="57"/>
                        </a:lnTo>
                        <a:lnTo>
                          <a:pt x="153" y="59"/>
                        </a:lnTo>
                        <a:lnTo>
                          <a:pt x="153" y="64"/>
                        </a:lnTo>
                        <a:lnTo>
                          <a:pt x="151" y="66"/>
                        </a:lnTo>
                        <a:lnTo>
                          <a:pt x="151" y="70"/>
                        </a:lnTo>
                        <a:lnTo>
                          <a:pt x="151" y="75"/>
                        </a:lnTo>
                        <a:lnTo>
                          <a:pt x="156" y="138"/>
                        </a:lnTo>
                        <a:lnTo>
                          <a:pt x="154" y="142"/>
                        </a:lnTo>
                        <a:lnTo>
                          <a:pt x="154" y="146"/>
                        </a:lnTo>
                        <a:lnTo>
                          <a:pt x="154" y="151"/>
                        </a:lnTo>
                        <a:lnTo>
                          <a:pt x="154" y="155"/>
                        </a:lnTo>
                        <a:lnTo>
                          <a:pt x="154" y="161"/>
                        </a:lnTo>
                        <a:lnTo>
                          <a:pt x="154" y="166"/>
                        </a:lnTo>
                        <a:lnTo>
                          <a:pt x="153" y="171"/>
                        </a:lnTo>
                        <a:lnTo>
                          <a:pt x="153" y="176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1" y="191"/>
                        </a:lnTo>
                        <a:lnTo>
                          <a:pt x="151" y="195"/>
                        </a:lnTo>
                        <a:lnTo>
                          <a:pt x="151" y="201"/>
                        </a:lnTo>
                        <a:lnTo>
                          <a:pt x="151" y="206"/>
                        </a:lnTo>
                        <a:lnTo>
                          <a:pt x="153" y="210"/>
                        </a:lnTo>
                        <a:lnTo>
                          <a:pt x="153" y="217"/>
                        </a:lnTo>
                        <a:lnTo>
                          <a:pt x="153" y="544"/>
                        </a:lnTo>
                        <a:lnTo>
                          <a:pt x="75" y="545"/>
                        </a:lnTo>
                        <a:lnTo>
                          <a:pt x="71" y="99"/>
                        </a:lnTo>
                        <a:lnTo>
                          <a:pt x="71" y="95"/>
                        </a:lnTo>
                        <a:lnTo>
                          <a:pt x="71" y="92"/>
                        </a:lnTo>
                        <a:lnTo>
                          <a:pt x="71" y="88"/>
                        </a:lnTo>
                        <a:lnTo>
                          <a:pt x="71" y="85"/>
                        </a:lnTo>
                        <a:lnTo>
                          <a:pt x="70" y="81"/>
                        </a:lnTo>
                        <a:lnTo>
                          <a:pt x="68" y="79"/>
                        </a:lnTo>
                        <a:lnTo>
                          <a:pt x="68" y="75"/>
                        </a:lnTo>
                        <a:lnTo>
                          <a:pt x="68" y="72"/>
                        </a:lnTo>
                        <a:lnTo>
                          <a:pt x="67" y="68"/>
                        </a:lnTo>
                        <a:lnTo>
                          <a:pt x="65" y="65"/>
                        </a:lnTo>
                        <a:lnTo>
                          <a:pt x="64" y="62"/>
                        </a:lnTo>
                        <a:lnTo>
                          <a:pt x="64" y="58"/>
                        </a:lnTo>
                        <a:lnTo>
                          <a:pt x="62" y="53"/>
                        </a:lnTo>
                        <a:lnTo>
                          <a:pt x="62" y="47"/>
                        </a:lnTo>
                        <a:lnTo>
                          <a:pt x="58" y="53"/>
                        </a:lnTo>
                        <a:lnTo>
                          <a:pt x="59" y="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143"/>
                  <p:cNvSpPr/>
                  <p:nvPr/>
                </p:nvSpPr>
                <p:spPr>
                  <a:xfrm>
                    <a:off x="4237200" y="3164400"/>
                    <a:ext cx="1800" cy="2088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4" h="161">
                        <a:moveTo>
                          <a:pt x="14" y="0"/>
                        </a:moveTo>
                        <a:lnTo>
                          <a:pt x="14" y="3"/>
                        </a:lnTo>
                        <a:lnTo>
                          <a:pt x="12" y="7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1" y="20"/>
                        </a:lnTo>
                        <a:lnTo>
                          <a:pt x="11" y="24"/>
                        </a:lnTo>
                        <a:lnTo>
                          <a:pt x="11" y="28"/>
                        </a:lnTo>
                        <a:lnTo>
                          <a:pt x="11" y="32"/>
                        </a:lnTo>
                        <a:lnTo>
                          <a:pt x="11" y="36"/>
                        </a:lnTo>
                        <a:lnTo>
                          <a:pt x="11" y="40"/>
                        </a:lnTo>
                        <a:lnTo>
                          <a:pt x="11" y="44"/>
                        </a:lnTo>
                        <a:lnTo>
                          <a:pt x="11" y="48"/>
                        </a:lnTo>
                        <a:lnTo>
                          <a:pt x="11" y="53"/>
                        </a:lnTo>
                        <a:lnTo>
                          <a:pt x="11" y="58"/>
                        </a:lnTo>
                        <a:lnTo>
                          <a:pt x="11" y="61"/>
                        </a:lnTo>
                        <a:lnTo>
                          <a:pt x="11" y="66"/>
                        </a:lnTo>
                        <a:lnTo>
                          <a:pt x="11" y="72"/>
                        </a:lnTo>
                        <a:lnTo>
                          <a:pt x="11" y="77"/>
                        </a:lnTo>
                        <a:lnTo>
                          <a:pt x="11" y="83"/>
                        </a:lnTo>
                        <a:lnTo>
                          <a:pt x="11" y="90"/>
                        </a:lnTo>
                        <a:lnTo>
                          <a:pt x="11" y="95"/>
                        </a:lnTo>
                        <a:lnTo>
                          <a:pt x="9" y="101"/>
                        </a:lnTo>
                        <a:lnTo>
                          <a:pt x="9" y="105"/>
                        </a:lnTo>
                        <a:lnTo>
                          <a:pt x="9" y="107"/>
                        </a:lnTo>
                        <a:lnTo>
                          <a:pt x="9" y="110"/>
                        </a:lnTo>
                        <a:lnTo>
                          <a:pt x="9" y="113"/>
                        </a:lnTo>
                        <a:lnTo>
                          <a:pt x="8" y="120"/>
                        </a:lnTo>
                        <a:lnTo>
                          <a:pt x="6" y="125"/>
                        </a:lnTo>
                        <a:lnTo>
                          <a:pt x="6" y="131"/>
                        </a:lnTo>
                        <a:lnTo>
                          <a:pt x="5" y="138"/>
                        </a:lnTo>
                        <a:lnTo>
                          <a:pt x="3" y="143"/>
                        </a:lnTo>
                        <a:lnTo>
                          <a:pt x="3" y="149"/>
                        </a:lnTo>
                        <a:lnTo>
                          <a:pt x="2" y="151"/>
                        </a:lnTo>
                        <a:lnTo>
                          <a:pt x="2" y="154"/>
                        </a:lnTo>
                        <a:lnTo>
                          <a:pt x="0" y="158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2" y="150"/>
                        </a:lnTo>
                        <a:lnTo>
                          <a:pt x="2" y="145"/>
                        </a:lnTo>
                        <a:lnTo>
                          <a:pt x="2" y="140"/>
                        </a:lnTo>
                        <a:lnTo>
                          <a:pt x="2" y="135"/>
                        </a:lnTo>
                        <a:lnTo>
                          <a:pt x="3" y="129"/>
                        </a:lnTo>
                        <a:lnTo>
                          <a:pt x="3" y="127"/>
                        </a:lnTo>
                        <a:lnTo>
                          <a:pt x="3" y="123"/>
                        </a:lnTo>
                        <a:lnTo>
                          <a:pt x="3" y="120"/>
                        </a:lnTo>
                        <a:lnTo>
                          <a:pt x="3" y="117"/>
                        </a:lnTo>
                        <a:lnTo>
                          <a:pt x="3" y="113"/>
                        </a:lnTo>
                        <a:lnTo>
                          <a:pt x="3" y="110"/>
                        </a:lnTo>
                        <a:lnTo>
                          <a:pt x="3" y="107"/>
                        </a:lnTo>
                        <a:lnTo>
                          <a:pt x="3" y="105"/>
                        </a:lnTo>
                        <a:lnTo>
                          <a:pt x="3" y="101"/>
                        </a:lnTo>
                        <a:lnTo>
                          <a:pt x="3" y="97"/>
                        </a:lnTo>
                        <a:lnTo>
                          <a:pt x="3" y="94"/>
                        </a:lnTo>
                        <a:lnTo>
                          <a:pt x="3" y="90"/>
                        </a:lnTo>
                        <a:lnTo>
                          <a:pt x="3" y="87"/>
                        </a:lnTo>
                        <a:lnTo>
                          <a:pt x="5" y="83"/>
                        </a:lnTo>
                        <a:lnTo>
                          <a:pt x="5" y="80"/>
                        </a:lnTo>
                        <a:lnTo>
                          <a:pt x="5" y="76"/>
                        </a:lnTo>
                        <a:lnTo>
                          <a:pt x="5" y="73"/>
                        </a:lnTo>
                        <a:lnTo>
                          <a:pt x="5" y="69"/>
                        </a:lnTo>
                        <a:lnTo>
                          <a:pt x="5" y="65"/>
                        </a:lnTo>
                        <a:lnTo>
                          <a:pt x="5" y="62"/>
                        </a:lnTo>
                        <a:lnTo>
                          <a:pt x="5" y="58"/>
                        </a:lnTo>
                        <a:lnTo>
                          <a:pt x="6" y="55"/>
                        </a:lnTo>
                        <a:lnTo>
                          <a:pt x="6" y="51"/>
                        </a:lnTo>
                        <a:lnTo>
                          <a:pt x="6" y="48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39"/>
                        </a:lnTo>
                        <a:lnTo>
                          <a:pt x="6" y="36"/>
                        </a:lnTo>
                        <a:lnTo>
                          <a:pt x="8" y="29"/>
                        </a:lnTo>
                        <a:lnTo>
                          <a:pt x="8" y="25"/>
                        </a:lnTo>
                        <a:lnTo>
                          <a:pt x="8" y="20"/>
                        </a:lnTo>
                        <a:lnTo>
                          <a:pt x="9" y="14"/>
                        </a:lnTo>
                        <a:lnTo>
                          <a:pt x="9" y="11"/>
                        </a:lnTo>
                        <a:lnTo>
                          <a:pt x="11" y="7"/>
                        </a:lnTo>
                        <a:lnTo>
                          <a:pt x="11" y="5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144"/>
                  <p:cNvSpPr/>
                  <p:nvPr/>
                </p:nvSpPr>
                <p:spPr>
                  <a:xfrm>
                    <a:off x="4252680" y="3116520"/>
                    <a:ext cx="30960" cy="7632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214" h="584">
                        <a:moveTo>
                          <a:pt x="62" y="77"/>
                        </a:moveTo>
                        <a:lnTo>
                          <a:pt x="62" y="81"/>
                        </a:lnTo>
                        <a:lnTo>
                          <a:pt x="62" y="87"/>
                        </a:lnTo>
                        <a:lnTo>
                          <a:pt x="64" y="91"/>
                        </a:lnTo>
                        <a:lnTo>
                          <a:pt x="64" y="96"/>
                        </a:lnTo>
                        <a:lnTo>
                          <a:pt x="65" y="102"/>
                        </a:lnTo>
                        <a:lnTo>
                          <a:pt x="67" y="107"/>
                        </a:lnTo>
                        <a:lnTo>
                          <a:pt x="67" y="113"/>
                        </a:lnTo>
                        <a:lnTo>
                          <a:pt x="68" y="118"/>
                        </a:lnTo>
                        <a:lnTo>
                          <a:pt x="68" y="124"/>
                        </a:lnTo>
                        <a:lnTo>
                          <a:pt x="68" y="128"/>
                        </a:lnTo>
                        <a:lnTo>
                          <a:pt x="68" y="133"/>
                        </a:lnTo>
                        <a:lnTo>
                          <a:pt x="70" y="139"/>
                        </a:lnTo>
                        <a:lnTo>
                          <a:pt x="68" y="143"/>
                        </a:lnTo>
                        <a:lnTo>
                          <a:pt x="68" y="148"/>
                        </a:lnTo>
                        <a:lnTo>
                          <a:pt x="67" y="152"/>
                        </a:lnTo>
                        <a:lnTo>
                          <a:pt x="67" y="157"/>
                        </a:lnTo>
                        <a:lnTo>
                          <a:pt x="67" y="155"/>
                        </a:lnTo>
                        <a:lnTo>
                          <a:pt x="65" y="152"/>
                        </a:lnTo>
                        <a:lnTo>
                          <a:pt x="65" y="150"/>
                        </a:lnTo>
                        <a:lnTo>
                          <a:pt x="64" y="146"/>
                        </a:lnTo>
                        <a:lnTo>
                          <a:pt x="62" y="142"/>
                        </a:lnTo>
                        <a:lnTo>
                          <a:pt x="61" y="136"/>
                        </a:lnTo>
                        <a:lnTo>
                          <a:pt x="61" y="132"/>
                        </a:lnTo>
                        <a:lnTo>
                          <a:pt x="59" y="129"/>
                        </a:lnTo>
                        <a:lnTo>
                          <a:pt x="59" y="126"/>
                        </a:lnTo>
                        <a:lnTo>
                          <a:pt x="58" y="122"/>
                        </a:lnTo>
                        <a:lnTo>
                          <a:pt x="58" y="120"/>
                        </a:lnTo>
                        <a:lnTo>
                          <a:pt x="56" y="117"/>
                        </a:lnTo>
                        <a:lnTo>
                          <a:pt x="56" y="113"/>
                        </a:lnTo>
                        <a:lnTo>
                          <a:pt x="55" y="110"/>
                        </a:lnTo>
                        <a:lnTo>
                          <a:pt x="55" y="107"/>
                        </a:lnTo>
                        <a:lnTo>
                          <a:pt x="53" y="103"/>
                        </a:lnTo>
                        <a:lnTo>
                          <a:pt x="53" y="99"/>
                        </a:lnTo>
                        <a:lnTo>
                          <a:pt x="52" y="96"/>
                        </a:lnTo>
                        <a:lnTo>
                          <a:pt x="52" y="92"/>
                        </a:lnTo>
                        <a:lnTo>
                          <a:pt x="50" y="88"/>
                        </a:lnTo>
                        <a:lnTo>
                          <a:pt x="50" y="85"/>
                        </a:lnTo>
                        <a:lnTo>
                          <a:pt x="48" y="81"/>
                        </a:lnTo>
                        <a:lnTo>
                          <a:pt x="48" y="78"/>
                        </a:lnTo>
                        <a:lnTo>
                          <a:pt x="47" y="74"/>
                        </a:lnTo>
                        <a:lnTo>
                          <a:pt x="45" y="70"/>
                        </a:lnTo>
                        <a:lnTo>
                          <a:pt x="45" y="66"/>
                        </a:lnTo>
                        <a:lnTo>
                          <a:pt x="44" y="63"/>
                        </a:lnTo>
                        <a:lnTo>
                          <a:pt x="42" y="59"/>
                        </a:lnTo>
                        <a:lnTo>
                          <a:pt x="42" y="56"/>
                        </a:lnTo>
                        <a:lnTo>
                          <a:pt x="41" y="52"/>
                        </a:lnTo>
                        <a:lnTo>
                          <a:pt x="41" y="50"/>
                        </a:lnTo>
                        <a:lnTo>
                          <a:pt x="39" y="45"/>
                        </a:lnTo>
                        <a:lnTo>
                          <a:pt x="38" y="43"/>
                        </a:lnTo>
                        <a:lnTo>
                          <a:pt x="38" y="39"/>
                        </a:lnTo>
                        <a:lnTo>
                          <a:pt x="38" y="36"/>
                        </a:lnTo>
                        <a:lnTo>
                          <a:pt x="36" y="29"/>
                        </a:lnTo>
                        <a:lnTo>
                          <a:pt x="35" y="25"/>
                        </a:lnTo>
                        <a:lnTo>
                          <a:pt x="33" y="18"/>
                        </a:lnTo>
                        <a:lnTo>
                          <a:pt x="32" y="14"/>
                        </a:lnTo>
                        <a:lnTo>
                          <a:pt x="30" y="10"/>
                        </a:lnTo>
                        <a:lnTo>
                          <a:pt x="30" y="6"/>
                        </a:lnTo>
                        <a:lnTo>
                          <a:pt x="29" y="1"/>
                        </a:lnTo>
                        <a:lnTo>
                          <a:pt x="29" y="0"/>
                        </a:lnTo>
                        <a:lnTo>
                          <a:pt x="27" y="6"/>
                        </a:lnTo>
                        <a:lnTo>
                          <a:pt x="27" y="11"/>
                        </a:lnTo>
                        <a:lnTo>
                          <a:pt x="26" y="15"/>
                        </a:lnTo>
                        <a:lnTo>
                          <a:pt x="26" y="18"/>
                        </a:lnTo>
                        <a:lnTo>
                          <a:pt x="26" y="21"/>
                        </a:lnTo>
                        <a:lnTo>
                          <a:pt x="27" y="25"/>
                        </a:lnTo>
                        <a:lnTo>
                          <a:pt x="27" y="28"/>
                        </a:lnTo>
                        <a:lnTo>
                          <a:pt x="27" y="32"/>
                        </a:lnTo>
                        <a:lnTo>
                          <a:pt x="27" y="34"/>
                        </a:lnTo>
                        <a:lnTo>
                          <a:pt x="29" y="39"/>
                        </a:lnTo>
                        <a:lnTo>
                          <a:pt x="29" y="41"/>
                        </a:lnTo>
                        <a:lnTo>
                          <a:pt x="30" y="44"/>
                        </a:lnTo>
                        <a:lnTo>
                          <a:pt x="30" y="47"/>
                        </a:lnTo>
                        <a:lnTo>
                          <a:pt x="32" y="50"/>
                        </a:lnTo>
                        <a:lnTo>
                          <a:pt x="33" y="52"/>
                        </a:lnTo>
                        <a:lnTo>
                          <a:pt x="35" y="55"/>
                        </a:lnTo>
                        <a:lnTo>
                          <a:pt x="35" y="56"/>
                        </a:lnTo>
                        <a:lnTo>
                          <a:pt x="36" y="59"/>
                        </a:lnTo>
                        <a:lnTo>
                          <a:pt x="38" y="65"/>
                        </a:lnTo>
                        <a:lnTo>
                          <a:pt x="38" y="72"/>
                        </a:lnTo>
                        <a:lnTo>
                          <a:pt x="38" y="77"/>
                        </a:lnTo>
                        <a:lnTo>
                          <a:pt x="39" y="82"/>
                        </a:lnTo>
                        <a:lnTo>
                          <a:pt x="39" y="85"/>
                        </a:lnTo>
                        <a:lnTo>
                          <a:pt x="41" y="89"/>
                        </a:lnTo>
                        <a:lnTo>
                          <a:pt x="41" y="92"/>
                        </a:lnTo>
                        <a:lnTo>
                          <a:pt x="41" y="95"/>
                        </a:lnTo>
                        <a:lnTo>
                          <a:pt x="41" y="98"/>
                        </a:lnTo>
                        <a:lnTo>
                          <a:pt x="42" y="102"/>
                        </a:lnTo>
                        <a:lnTo>
                          <a:pt x="42" y="104"/>
                        </a:lnTo>
                        <a:lnTo>
                          <a:pt x="42" y="109"/>
                        </a:lnTo>
                        <a:lnTo>
                          <a:pt x="42" y="114"/>
                        </a:lnTo>
                        <a:lnTo>
                          <a:pt x="44" y="120"/>
                        </a:lnTo>
                        <a:lnTo>
                          <a:pt x="44" y="122"/>
                        </a:lnTo>
                        <a:lnTo>
                          <a:pt x="44" y="126"/>
                        </a:lnTo>
                        <a:lnTo>
                          <a:pt x="44" y="129"/>
                        </a:lnTo>
                        <a:lnTo>
                          <a:pt x="44" y="132"/>
                        </a:lnTo>
                        <a:lnTo>
                          <a:pt x="44" y="137"/>
                        </a:lnTo>
                        <a:lnTo>
                          <a:pt x="44" y="143"/>
                        </a:lnTo>
                        <a:lnTo>
                          <a:pt x="44" y="148"/>
                        </a:lnTo>
                        <a:lnTo>
                          <a:pt x="44" y="155"/>
                        </a:lnTo>
                        <a:lnTo>
                          <a:pt x="36" y="150"/>
                        </a:lnTo>
                        <a:lnTo>
                          <a:pt x="36" y="148"/>
                        </a:lnTo>
                        <a:lnTo>
                          <a:pt x="35" y="146"/>
                        </a:lnTo>
                        <a:lnTo>
                          <a:pt x="35" y="142"/>
                        </a:lnTo>
                        <a:lnTo>
                          <a:pt x="35" y="139"/>
                        </a:lnTo>
                        <a:lnTo>
                          <a:pt x="35" y="135"/>
                        </a:lnTo>
                        <a:lnTo>
                          <a:pt x="35" y="131"/>
                        </a:lnTo>
                        <a:lnTo>
                          <a:pt x="35" y="126"/>
                        </a:lnTo>
                        <a:lnTo>
                          <a:pt x="33" y="121"/>
                        </a:lnTo>
                        <a:lnTo>
                          <a:pt x="33" y="117"/>
                        </a:lnTo>
                        <a:lnTo>
                          <a:pt x="32" y="113"/>
                        </a:lnTo>
                        <a:lnTo>
                          <a:pt x="32" y="110"/>
                        </a:lnTo>
                        <a:lnTo>
                          <a:pt x="32" y="106"/>
                        </a:lnTo>
                        <a:lnTo>
                          <a:pt x="32" y="103"/>
                        </a:lnTo>
                        <a:lnTo>
                          <a:pt x="32" y="102"/>
                        </a:lnTo>
                        <a:lnTo>
                          <a:pt x="32" y="100"/>
                        </a:lnTo>
                        <a:lnTo>
                          <a:pt x="30" y="96"/>
                        </a:lnTo>
                        <a:lnTo>
                          <a:pt x="29" y="92"/>
                        </a:lnTo>
                        <a:lnTo>
                          <a:pt x="27" y="89"/>
                        </a:lnTo>
                        <a:lnTo>
                          <a:pt x="26" y="85"/>
                        </a:lnTo>
                        <a:lnTo>
                          <a:pt x="24" y="82"/>
                        </a:lnTo>
                        <a:lnTo>
                          <a:pt x="22" y="78"/>
                        </a:lnTo>
                        <a:lnTo>
                          <a:pt x="21" y="76"/>
                        </a:lnTo>
                        <a:lnTo>
                          <a:pt x="19" y="72"/>
                        </a:lnTo>
                        <a:lnTo>
                          <a:pt x="18" y="69"/>
                        </a:lnTo>
                        <a:lnTo>
                          <a:pt x="16" y="65"/>
                        </a:lnTo>
                        <a:lnTo>
                          <a:pt x="15" y="61"/>
                        </a:lnTo>
                        <a:lnTo>
                          <a:pt x="15" y="58"/>
                        </a:lnTo>
                        <a:lnTo>
                          <a:pt x="13" y="54"/>
                        </a:lnTo>
                        <a:lnTo>
                          <a:pt x="13" y="50"/>
                        </a:lnTo>
                        <a:lnTo>
                          <a:pt x="13" y="45"/>
                        </a:lnTo>
                        <a:lnTo>
                          <a:pt x="15" y="41"/>
                        </a:lnTo>
                        <a:lnTo>
                          <a:pt x="10" y="40"/>
                        </a:lnTo>
                        <a:lnTo>
                          <a:pt x="7" y="37"/>
                        </a:lnTo>
                        <a:lnTo>
                          <a:pt x="4" y="36"/>
                        </a:lnTo>
                        <a:lnTo>
                          <a:pt x="1" y="34"/>
                        </a:lnTo>
                        <a:lnTo>
                          <a:pt x="1" y="36"/>
                        </a:lnTo>
                        <a:lnTo>
                          <a:pt x="0" y="37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0" y="55"/>
                        </a:lnTo>
                        <a:lnTo>
                          <a:pt x="1" y="61"/>
                        </a:lnTo>
                        <a:lnTo>
                          <a:pt x="1" y="65"/>
                        </a:lnTo>
                        <a:lnTo>
                          <a:pt x="1" y="70"/>
                        </a:lnTo>
                        <a:lnTo>
                          <a:pt x="1" y="74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4" y="91"/>
                        </a:lnTo>
                        <a:lnTo>
                          <a:pt x="4" y="96"/>
                        </a:lnTo>
                        <a:lnTo>
                          <a:pt x="6" y="103"/>
                        </a:lnTo>
                        <a:lnTo>
                          <a:pt x="6" y="109"/>
                        </a:lnTo>
                        <a:lnTo>
                          <a:pt x="7" y="113"/>
                        </a:lnTo>
                        <a:lnTo>
                          <a:pt x="7" y="118"/>
                        </a:lnTo>
                        <a:lnTo>
                          <a:pt x="7" y="124"/>
                        </a:lnTo>
                        <a:lnTo>
                          <a:pt x="9" y="128"/>
                        </a:lnTo>
                        <a:lnTo>
                          <a:pt x="9" y="133"/>
                        </a:lnTo>
                        <a:lnTo>
                          <a:pt x="10" y="137"/>
                        </a:lnTo>
                        <a:lnTo>
                          <a:pt x="12" y="142"/>
                        </a:lnTo>
                        <a:lnTo>
                          <a:pt x="12" y="146"/>
                        </a:lnTo>
                        <a:lnTo>
                          <a:pt x="12" y="150"/>
                        </a:lnTo>
                        <a:lnTo>
                          <a:pt x="12" y="152"/>
                        </a:lnTo>
                        <a:lnTo>
                          <a:pt x="13" y="155"/>
                        </a:lnTo>
                        <a:lnTo>
                          <a:pt x="13" y="159"/>
                        </a:lnTo>
                        <a:lnTo>
                          <a:pt x="15" y="162"/>
                        </a:lnTo>
                        <a:lnTo>
                          <a:pt x="15" y="165"/>
                        </a:lnTo>
                        <a:lnTo>
                          <a:pt x="15" y="169"/>
                        </a:lnTo>
                        <a:lnTo>
                          <a:pt x="15" y="173"/>
                        </a:lnTo>
                        <a:lnTo>
                          <a:pt x="15" y="177"/>
                        </a:lnTo>
                        <a:lnTo>
                          <a:pt x="15" y="181"/>
                        </a:lnTo>
                        <a:lnTo>
                          <a:pt x="16" y="185"/>
                        </a:lnTo>
                        <a:lnTo>
                          <a:pt x="16" y="190"/>
                        </a:lnTo>
                        <a:lnTo>
                          <a:pt x="18" y="194"/>
                        </a:lnTo>
                        <a:lnTo>
                          <a:pt x="18" y="196"/>
                        </a:lnTo>
                        <a:lnTo>
                          <a:pt x="18" y="198"/>
                        </a:lnTo>
                        <a:lnTo>
                          <a:pt x="18" y="201"/>
                        </a:lnTo>
                        <a:lnTo>
                          <a:pt x="18" y="202"/>
                        </a:lnTo>
                        <a:lnTo>
                          <a:pt x="16" y="202"/>
                        </a:lnTo>
                        <a:lnTo>
                          <a:pt x="15" y="201"/>
                        </a:lnTo>
                        <a:lnTo>
                          <a:pt x="13" y="198"/>
                        </a:lnTo>
                        <a:lnTo>
                          <a:pt x="12" y="195"/>
                        </a:lnTo>
                        <a:lnTo>
                          <a:pt x="15" y="584"/>
                        </a:lnTo>
                        <a:lnTo>
                          <a:pt x="214" y="584"/>
                        </a:lnTo>
                        <a:lnTo>
                          <a:pt x="209" y="115"/>
                        </a:lnTo>
                        <a:lnTo>
                          <a:pt x="209" y="111"/>
                        </a:lnTo>
                        <a:lnTo>
                          <a:pt x="209" y="109"/>
                        </a:lnTo>
                        <a:lnTo>
                          <a:pt x="209" y="106"/>
                        </a:lnTo>
                        <a:lnTo>
                          <a:pt x="209" y="102"/>
                        </a:lnTo>
                        <a:lnTo>
                          <a:pt x="209" y="99"/>
                        </a:lnTo>
                        <a:lnTo>
                          <a:pt x="209" y="96"/>
                        </a:lnTo>
                        <a:lnTo>
                          <a:pt x="209" y="93"/>
                        </a:lnTo>
                        <a:lnTo>
                          <a:pt x="209" y="91"/>
                        </a:lnTo>
                        <a:lnTo>
                          <a:pt x="209" y="85"/>
                        </a:lnTo>
                        <a:lnTo>
                          <a:pt x="209" y="80"/>
                        </a:lnTo>
                        <a:lnTo>
                          <a:pt x="209" y="74"/>
                        </a:lnTo>
                        <a:lnTo>
                          <a:pt x="209" y="70"/>
                        </a:lnTo>
                        <a:lnTo>
                          <a:pt x="209" y="65"/>
                        </a:lnTo>
                        <a:lnTo>
                          <a:pt x="209" y="61"/>
                        </a:lnTo>
                        <a:lnTo>
                          <a:pt x="209" y="55"/>
                        </a:lnTo>
                        <a:lnTo>
                          <a:pt x="209" y="50"/>
                        </a:lnTo>
                        <a:lnTo>
                          <a:pt x="209" y="44"/>
                        </a:lnTo>
                        <a:lnTo>
                          <a:pt x="209" y="39"/>
                        </a:lnTo>
                        <a:lnTo>
                          <a:pt x="209" y="34"/>
                        </a:lnTo>
                        <a:lnTo>
                          <a:pt x="209" y="32"/>
                        </a:lnTo>
                        <a:lnTo>
                          <a:pt x="209" y="28"/>
                        </a:lnTo>
                        <a:lnTo>
                          <a:pt x="209" y="25"/>
                        </a:lnTo>
                        <a:lnTo>
                          <a:pt x="200" y="32"/>
                        </a:lnTo>
                        <a:lnTo>
                          <a:pt x="200" y="37"/>
                        </a:lnTo>
                        <a:lnTo>
                          <a:pt x="200" y="41"/>
                        </a:lnTo>
                        <a:lnTo>
                          <a:pt x="200" y="47"/>
                        </a:lnTo>
                        <a:lnTo>
                          <a:pt x="200" y="52"/>
                        </a:lnTo>
                        <a:lnTo>
                          <a:pt x="200" y="56"/>
                        </a:lnTo>
                        <a:lnTo>
                          <a:pt x="200" y="62"/>
                        </a:lnTo>
                        <a:lnTo>
                          <a:pt x="200" y="66"/>
                        </a:lnTo>
                        <a:lnTo>
                          <a:pt x="200" y="72"/>
                        </a:lnTo>
                        <a:lnTo>
                          <a:pt x="200" y="76"/>
                        </a:lnTo>
                        <a:lnTo>
                          <a:pt x="200" y="81"/>
                        </a:lnTo>
                        <a:lnTo>
                          <a:pt x="200" y="85"/>
                        </a:lnTo>
                        <a:lnTo>
                          <a:pt x="201" y="89"/>
                        </a:lnTo>
                        <a:lnTo>
                          <a:pt x="201" y="95"/>
                        </a:lnTo>
                        <a:lnTo>
                          <a:pt x="201" y="99"/>
                        </a:lnTo>
                        <a:lnTo>
                          <a:pt x="203" y="104"/>
                        </a:lnTo>
                        <a:lnTo>
                          <a:pt x="203" y="109"/>
                        </a:lnTo>
                        <a:lnTo>
                          <a:pt x="201" y="113"/>
                        </a:lnTo>
                        <a:lnTo>
                          <a:pt x="200" y="115"/>
                        </a:lnTo>
                        <a:lnTo>
                          <a:pt x="200" y="120"/>
                        </a:lnTo>
                        <a:lnTo>
                          <a:pt x="200" y="124"/>
                        </a:lnTo>
                        <a:lnTo>
                          <a:pt x="195" y="73"/>
                        </a:lnTo>
                        <a:lnTo>
                          <a:pt x="194" y="173"/>
                        </a:lnTo>
                        <a:lnTo>
                          <a:pt x="192" y="168"/>
                        </a:lnTo>
                        <a:lnTo>
                          <a:pt x="192" y="163"/>
                        </a:lnTo>
                        <a:lnTo>
                          <a:pt x="191" y="158"/>
                        </a:lnTo>
                        <a:lnTo>
                          <a:pt x="191" y="154"/>
                        </a:lnTo>
                        <a:lnTo>
                          <a:pt x="191" y="148"/>
                        </a:lnTo>
                        <a:lnTo>
                          <a:pt x="191" y="144"/>
                        </a:lnTo>
                        <a:lnTo>
                          <a:pt x="189" y="139"/>
                        </a:lnTo>
                        <a:lnTo>
                          <a:pt x="189" y="135"/>
                        </a:lnTo>
                        <a:lnTo>
                          <a:pt x="189" y="131"/>
                        </a:lnTo>
                        <a:lnTo>
                          <a:pt x="188" y="125"/>
                        </a:lnTo>
                        <a:lnTo>
                          <a:pt x="188" y="121"/>
                        </a:lnTo>
                        <a:lnTo>
                          <a:pt x="188" y="115"/>
                        </a:lnTo>
                        <a:lnTo>
                          <a:pt x="188" y="111"/>
                        </a:lnTo>
                        <a:lnTo>
                          <a:pt x="186" y="106"/>
                        </a:lnTo>
                        <a:lnTo>
                          <a:pt x="186" y="102"/>
                        </a:lnTo>
                        <a:lnTo>
                          <a:pt x="186" y="98"/>
                        </a:lnTo>
                        <a:lnTo>
                          <a:pt x="186" y="92"/>
                        </a:lnTo>
                        <a:lnTo>
                          <a:pt x="186" y="88"/>
                        </a:lnTo>
                        <a:lnTo>
                          <a:pt x="186" y="82"/>
                        </a:lnTo>
                        <a:lnTo>
                          <a:pt x="186" y="78"/>
                        </a:lnTo>
                        <a:lnTo>
                          <a:pt x="185" y="73"/>
                        </a:lnTo>
                        <a:lnTo>
                          <a:pt x="185" y="69"/>
                        </a:lnTo>
                        <a:lnTo>
                          <a:pt x="185" y="63"/>
                        </a:lnTo>
                        <a:lnTo>
                          <a:pt x="185" y="59"/>
                        </a:lnTo>
                        <a:lnTo>
                          <a:pt x="185" y="54"/>
                        </a:lnTo>
                        <a:lnTo>
                          <a:pt x="185" y="50"/>
                        </a:lnTo>
                        <a:lnTo>
                          <a:pt x="183" y="44"/>
                        </a:lnTo>
                        <a:lnTo>
                          <a:pt x="183" y="40"/>
                        </a:lnTo>
                        <a:lnTo>
                          <a:pt x="183" y="34"/>
                        </a:lnTo>
                        <a:lnTo>
                          <a:pt x="183" y="30"/>
                        </a:lnTo>
                        <a:lnTo>
                          <a:pt x="183" y="25"/>
                        </a:lnTo>
                        <a:lnTo>
                          <a:pt x="183" y="21"/>
                        </a:lnTo>
                        <a:lnTo>
                          <a:pt x="182" y="21"/>
                        </a:lnTo>
                        <a:lnTo>
                          <a:pt x="180" y="25"/>
                        </a:lnTo>
                        <a:lnTo>
                          <a:pt x="177" y="28"/>
                        </a:lnTo>
                        <a:lnTo>
                          <a:pt x="177" y="33"/>
                        </a:lnTo>
                        <a:lnTo>
                          <a:pt x="175" y="34"/>
                        </a:lnTo>
                        <a:lnTo>
                          <a:pt x="175" y="39"/>
                        </a:lnTo>
                        <a:lnTo>
                          <a:pt x="174" y="41"/>
                        </a:lnTo>
                        <a:lnTo>
                          <a:pt x="174" y="45"/>
                        </a:lnTo>
                        <a:lnTo>
                          <a:pt x="174" y="50"/>
                        </a:lnTo>
                        <a:lnTo>
                          <a:pt x="172" y="54"/>
                        </a:lnTo>
                        <a:lnTo>
                          <a:pt x="172" y="59"/>
                        </a:lnTo>
                        <a:lnTo>
                          <a:pt x="172" y="65"/>
                        </a:lnTo>
                        <a:lnTo>
                          <a:pt x="172" y="67"/>
                        </a:lnTo>
                        <a:lnTo>
                          <a:pt x="172" y="70"/>
                        </a:lnTo>
                        <a:lnTo>
                          <a:pt x="172" y="73"/>
                        </a:lnTo>
                        <a:lnTo>
                          <a:pt x="172" y="77"/>
                        </a:lnTo>
                        <a:lnTo>
                          <a:pt x="172" y="80"/>
                        </a:lnTo>
                        <a:lnTo>
                          <a:pt x="172" y="82"/>
                        </a:lnTo>
                        <a:lnTo>
                          <a:pt x="172" y="87"/>
                        </a:lnTo>
                        <a:lnTo>
                          <a:pt x="172" y="91"/>
                        </a:lnTo>
                        <a:lnTo>
                          <a:pt x="172" y="93"/>
                        </a:lnTo>
                        <a:lnTo>
                          <a:pt x="172" y="98"/>
                        </a:lnTo>
                        <a:lnTo>
                          <a:pt x="172" y="102"/>
                        </a:lnTo>
                        <a:lnTo>
                          <a:pt x="172" y="106"/>
                        </a:lnTo>
                        <a:lnTo>
                          <a:pt x="172" y="110"/>
                        </a:lnTo>
                        <a:lnTo>
                          <a:pt x="172" y="114"/>
                        </a:lnTo>
                        <a:lnTo>
                          <a:pt x="172" y="120"/>
                        </a:lnTo>
                        <a:lnTo>
                          <a:pt x="172" y="125"/>
                        </a:lnTo>
                        <a:lnTo>
                          <a:pt x="172" y="129"/>
                        </a:lnTo>
                        <a:lnTo>
                          <a:pt x="172" y="135"/>
                        </a:lnTo>
                        <a:lnTo>
                          <a:pt x="172" y="139"/>
                        </a:lnTo>
                        <a:lnTo>
                          <a:pt x="174" y="146"/>
                        </a:lnTo>
                        <a:lnTo>
                          <a:pt x="174" y="150"/>
                        </a:lnTo>
                        <a:lnTo>
                          <a:pt x="174" y="155"/>
                        </a:lnTo>
                        <a:lnTo>
                          <a:pt x="175" y="162"/>
                        </a:lnTo>
                        <a:lnTo>
                          <a:pt x="175" y="168"/>
                        </a:lnTo>
                        <a:lnTo>
                          <a:pt x="175" y="170"/>
                        </a:lnTo>
                        <a:lnTo>
                          <a:pt x="175" y="173"/>
                        </a:lnTo>
                        <a:lnTo>
                          <a:pt x="175" y="177"/>
                        </a:lnTo>
                        <a:lnTo>
                          <a:pt x="175" y="183"/>
                        </a:lnTo>
                        <a:lnTo>
                          <a:pt x="175" y="188"/>
                        </a:lnTo>
                        <a:lnTo>
                          <a:pt x="175" y="194"/>
                        </a:lnTo>
                        <a:lnTo>
                          <a:pt x="175" y="199"/>
                        </a:lnTo>
                        <a:lnTo>
                          <a:pt x="175" y="205"/>
                        </a:lnTo>
                        <a:lnTo>
                          <a:pt x="175" y="210"/>
                        </a:lnTo>
                        <a:lnTo>
                          <a:pt x="175" y="217"/>
                        </a:lnTo>
                        <a:lnTo>
                          <a:pt x="174" y="221"/>
                        </a:lnTo>
                        <a:lnTo>
                          <a:pt x="174" y="227"/>
                        </a:lnTo>
                        <a:lnTo>
                          <a:pt x="172" y="231"/>
                        </a:lnTo>
                        <a:lnTo>
                          <a:pt x="172" y="235"/>
                        </a:lnTo>
                        <a:lnTo>
                          <a:pt x="171" y="239"/>
                        </a:lnTo>
                        <a:lnTo>
                          <a:pt x="171" y="242"/>
                        </a:lnTo>
                        <a:lnTo>
                          <a:pt x="169" y="235"/>
                        </a:lnTo>
                        <a:lnTo>
                          <a:pt x="169" y="229"/>
                        </a:lnTo>
                        <a:lnTo>
                          <a:pt x="168" y="224"/>
                        </a:lnTo>
                        <a:lnTo>
                          <a:pt x="168" y="218"/>
                        </a:lnTo>
                        <a:lnTo>
                          <a:pt x="166" y="213"/>
                        </a:lnTo>
                        <a:lnTo>
                          <a:pt x="166" y="207"/>
                        </a:lnTo>
                        <a:lnTo>
                          <a:pt x="166" y="202"/>
                        </a:lnTo>
                        <a:lnTo>
                          <a:pt x="166" y="196"/>
                        </a:lnTo>
                        <a:lnTo>
                          <a:pt x="166" y="190"/>
                        </a:lnTo>
                        <a:lnTo>
                          <a:pt x="166" y="184"/>
                        </a:lnTo>
                        <a:lnTo>
                          <a:pt x="166" y="179"/>
                        </a:lnTo>
                        <a:lnTo>
                          <a:pt x="166" y="173"/>
                        </a:lnTo>
                        <a:lnTo>
                          <a:pt x="166" y="168"/>
                        </a:lnTo>
                        <a:lnTo>
                          <a:pt x="166" y="162"/>
                        </a:lnTo>
                        <a:lnTo>
                          <a:pt x="166" y="157"/>
                        </a:lnTo>
                        <a:lnTo>
                          <a:pt x="166" y="151"/>
                        </a:lnTo>
                        <a:lnTo>
                          <a:pt x="165" y="146"/>
                        </a:lnTo>
                        <a:lnTo>
                          <a:pt x="165" y="139"/>
                        </a:lnTo>
                        <a:lnTo>
                          <a:pt x="165" y="133"/>
                        </a:lnTo>
                        <a:lnTo>
                          <a:pt x="165" y="128"/>
                        </a:lnTo>
                        <a:lnTo>
                          <a:pt x="165" y="122"/>
                        </a:lnTo>
                        <a:lnTo>
                          <a:pt x="165" y="117"/>
                        </a:lnTo>
                        <a:lnTo>
                          <a:pt x="165" y="111"/>
                        </a:lnTo>
                        <a:lnTo>
                          <a:pt x="165" y="106"/>
                        </a:lnTo>
                        <a:lnTo>
                          <a:pt x="165" y="100"/>
                        </a:lnTo>
                        <a:lnTo>
                          <a:pt x="163" y="95"/>
                        </a:lnTo>
                        <a:lnTo>
                          <a:pt x="163" y="89"/>
                        </a:lnTo>
                        <a:lnTo>
                          <a:pt x="163" y="84"/>
                        </a:lnTo>
                        <a:lnTo>
                          <a:pt x="162" y="78"/>
                        </a:lnTo>
                        <a:lnTo>
                          <a:pt x="162" y="73"/>
                        </a:lnTo>
                        <a:lnTo>
                          <a:pt x="162" y="67"/>
                        </a:lnTo>
                        <a:lnTo>
                          <a:pt x="160" y="62"/>
                        </a:lnTo>
                        <a:lnTo>
                          <a:pt x="160" y="59"/>
                        </a:lnTo>
                        <a:lnTo>
                          <a:pt x="159" y="55"/>
                        </a:lnTo>
                        <a:lnTo>
                          <a:pt x="157" y="50"/>
                        </a:lnTo>
                        <a:lnTo>
                          <a:pt x="156" y="48"/>
                        </a:lnTo>
                        <a:lnTo>
                          <a:pt x="156" y="51"/>
                        </a:lnTo>
                        <a:lnTo>
                          <a:pt x="156" y="55"/>
                        </a:lnTo>
                        <a:lnTo>
                          <a:pt x="154" y="58"/>
                        </a:lnTo>
                        <a:lnTo>
                          <a:pt x="154" y="62"/>
                        </a:lnTo>
                        <a:lnTo>
                          <a:pt x="154" y="65"/>
                        </a:lnTo>
                        <a:lnTo>
                          <a:pt x="153" y="69"/>
                        </a:lnTo>
                        <a:lnTo>
                          <a:pt x="153" y="72"/>
                        </a:lnTo>
                        <a:lnTo>
                          <a:pt x="153" y="76"/>
                        </a:lnTo>
                        <a:lnTo>
                          <a:pt x="156" y="139"/>
                        </a:lnTo>
                        <a:lnTo>
                          <a:pt x="156" y="143"/>
                        </a:lnTo>
                        <a:lnTo>
                          <a:pt x="156" y="148"/>
                        </a:lnTo>
                        <a:lnTo>
                          <a:pt x="156" y="152"/>
                        </a:lnTo>
                        <a:lnTo>
                          <a:pt x="156" y="158"/>
                        </a:lnTo>
                        <a:lnTo>
                          <a:pt x="156" y="163"/>
                        </a:lnTo>
                        <a:lnTo>
                          <a:pt x="156" y="168"/>
                        </a:lnTo>
                        <a:lnTo>
                          <a:pt x="156" y="173"/>
                        </a:lnTo>
                        <a:lnTo>
                          <a:pt x="156" y="179"/>
                        </a:lnTo>
                        <a:lnTo>
                          <a:pt x="154" y="183"/>
                        </a:lnTo>
                        <a:lnTo>
                          <a:pt x="154" y="188"/>
                        </a:lnTo>
                        <a:lnTo>
                          <a:pt x="154" y="194"/>
                        </a:lnTo>
                        <a:lnTo>
                          <a:pt x="154" y="198"/>
                        </a:lnTo>
                        <a:lnTo>
                          <a:pt x="153" y="203"/>
                        </a:lnTo>
                        <a:lnTo>
                          <a:pt x="153" y="207"/>
                        </a:lnTo>
                        <a:lnTo>
                          <a:pt x="153" y="213"/>
                        </a:lnTo>
                        <a:lnTo>
                          <a:pt x="153" y="218"/>
                        </a:lnTo>
                        <a:lnTo>
                          <a:pt x="153" y="548"/>
                        </a:lnTo>
                        <a:lnTo>
                          <a:pt x="78" y="549"/>
                        </a:lnTo>
                        <a:lnTo>
                          <a:pt x="71" y="100"/>
                        </a:lnTo>
                        <a:lnTo>
                          <a:pt x="71" y="96"/>
                        </a:lnTo>
                        <a:lnTo>
                          <a:pt x="71" y="93"/>
                        </a:lnTo>
                        <a:lnTo>
                          <a:pt x="70" y="89"/>
                        </a:lnTo>
                        <a:lnTo>
                          <a:pt x="70" y="87"/>
                        </a:lnTo>
                        <a:lnTo>
                          <a:pt x="70" y="84"/>
                        </a:lnTo>
                        <a:lnTo>
                          <a:pt x="70" y="81"/>
                        </a:lnTo>
                        <a:lnTo>
                          <a:pt x="68" y="77"/>
                        </a:lnTo>
                        <a:lnTo>
                          <a:pt x="68" y="74"/>
                        </a:lnTo>
                        <a:lnTo>
                          <a:pt x="67" y="72"/>
                        </a:lnTo>
                        <a:lnTo>
                          <a:pt x="67" y="67"/>
                        </a:lnTo>
                        <a:lnTo>
                          <a:pt x="67" y="65"/>
                        </a:lnTo>
                        <a:lnTo>
                          <a:pt x="67" y="62"/>
                        </a:lnTo>
                        <a:lnTo>
                          <a:pt x="65" y="58"/>
                        </a:lnTo>
                        <a:lnTo>
                          <a:pt x="65" y="55"/>
                        </a:lnTo>
                        <a:lnTo>
                          <a:pt x="64" y="52"/>
                        </a:lnTo>
                        <a:lnTo>
                          <a:pt x="64" y="50"/>
                        </a:lnTo>
                        <a:lnTo>
                          <a:pt x="62" y="77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145"/>
                  <p:cNvSpPr/>
                  <p:nvPr/>
                </p:nvSpPr>
                <p:spPr>
                  <a:xfrm>
                    <a:off x="4262400" y="3160800"/>
                    <a:ext cx="1080" cy="2592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8" h="199">
                        <a:moveTo>
                          <a:pt x="0" y="199"/>
                        </a:moveTo>
                        <a:lnTo>
                          <a:pt x="3" y="197"/>
                        </a:lnTo>
                        <a:lnTo>
                          <a:pt x="5" y="197"/>
                        </a:lnTo>
                        <a:lnTo>
                          <a:pt x="5" y="195"/>
                        </a:lnTo>
                        <a:lnTo>
                          <a:pt x="5" y="193"/>
                        </a:lnTo>
                        <a:lnTo>
                          <a:pt x="5" y="188"/>
                        </a:lnTo>
                        <a:lnTo>
                          <a:pt x="5" y="182"/>
                        </a:lnTo>
                        <a:lnTo>
                          <a:pt x="5" y="177"/>
                        </a:lnTo>
                        <a:lnTo>
                          <a:pt x="5" y="173"/>
                        </a:lnTo>
                        <a:lnTo>
                          <a:pt x="5" y="166"/>
                        </a:lnTo>
                        <a:lnTo>
                          <a:pt x="5" y="162"/>
                        </a:lnTo>
                        <a:lnTo>
                          <a:pt x="5" y="156"/>
                        </a:lnTo>
                        <a:lnTo>
                          <a:pt x="6" y="151"/>
                        </a:lnTo>
                        <a:lnTo>
                          <a:pt x="6" y="145"/>
                        </a:lnTo>
                        <a:lnTo>
                          <a:pt x="6" y="140"/>
                        </a:lnTo>
                        <a:lnTo>
                          <a:pt x="6" y="134"/>
                        </a:lnTo>
                        <a:lnTo>
                          <a:pt x="6" y="129"/>
                        </a:lnTo>
                        <a:lnTo>
                          <a:pt x="6" y="123"/>
                        </a:lnTo>
                        <a:lnTo>
                          <a:pt x="6" y="118"/>
                        </a:lnTo>
                        <a:lnTo>
                          <a:pt x="6" y="112"/>
                        </a:lnTo>
                        <a:lnTo>
                          <a:pt x="6" y="108"/>
                        </a:lnTo>
                        <a:lnTo>
                          <a:pt x="6" y="101"/>
                        </a:lnTo>
                        <a:lnTo>
                          <a:pt x="6" y="96"/>
                        </a:lnTo>
                        <a:lnTo>
                          <a:pt x="6" y="90"/>
                        </a:lnTo>
                        <a:lnTo>
                          <a:pt x="8" y="86"/>
                        </a:lnTo>
                        <a:lnTo>
                          <a:pt x="8" y="79"/>
                        </a:lnTo>
                        <a:lnTo>
                          <a:pt x="8" y="74"/>
                        </a:lnTo>
                        <a:lnTo>
                          <a:pt x="8" y="70"/>
                        </a:lnTo>
                        <a:lnTo>
                          <a:pt x="8" y="64"/>
                        </a:lnTo>
                        <a:lnTo>
                          <a:pt x="8" y="59"/>
                        </a:lnTo>
                        <a:lnTo>
                          <a:pt x="8" y="53"/>
                        </a:lnTo>
                        <a:lnTo>
                          <a:pt x="8" y="48"/>
                        </a:lnTo>
                        <a:lnTo>
                          <a:pt x="8" y="42"/>
                        </a:lnTo>
                        <a:lnTo>
                          <a:pt x="8" y="37"/>
                        </a:lnTo>
                        <a:lnTo>
                          <a:pt x="8" y="31"/>
                        </a:lnTo>
                        <a:lnTo>
                          <a:pt x="8" y="27"/>
                        </a:lnTo>
                        <a:lnTo>
                          <a:pt x="8" y="22"/>
                        </a:lnTo>
                        <a:lnTo>
                          <a:pt x="6" y="16"/>
                        </a:lnTo>
                        <a:lnTo>
                          <a:pt x="6" y="13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5" y="4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9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0" y="49"/>
                        </a:lnTo>
                        <a:lnTo>
                          <a:pt x="0" y="53"/>
                        </a:lnTo>
                        <a:lnTo>
                          <a:pt x="0" y="56"/>
                        </a:lnTo>
                        <a:lnTo>
                          <a:pt x="0" y="60"/>
                        </a:lnTo>
                        <a:lnTo>
                          <a:pt x="0" y="64"/>
                        </a:lnTo>
                        <a:lnTo>
                          <a:pt x="0" y="67"/>
                        </a:lnTo>
                        <a:lnTo>
                          <a:pt x="0" y="71"/>
                        </a:lnTo>
                        <a:lnTo>
                          <a:pt x="0" y="75"/>
                        </a:lnTo>
                        <a:lnTo>
                          <a:pt x="0" y="79"/>
                        </a:lnTo>
                        <a:lnTo>
                          <a:pt x="1" y="83"/>
                        </a:lnTo>
                        <a:lnTo>
                          <a:pt x="1" y="87"/>
                        </a:lnTo>
                        <a:lnTo>
                          <a:pt x="1" y="92"/>
                        </a:lnTo>
                        <a:lnTo>
                          <a:pt x="1" y="96"/>
                        </a:lnTo>
                        <a:lnTo>
                          <a:pt x="1" y="98"/>
                        </a:lnTo>
                        <a:lnTo>
                          <a:pt x="1" y="103"/>
                        </a:lnTo>
                        <a:lnTo>
                          <a:pt x="1" y="105"/>
                        </a:lnTo>
                        <a:lnTo>
                          <a:pt x="1" y="109"/>
                        </a:lnTo>
                        <a:lnTo>
                          <a:pt x="1" y="112"/>
                        </a:lnTo>
                        <a:lnTo>
                          <a:pt x="1" y="118"/>
                        </a:lnTo>
                        <a:lnTo>
                          <a:pt x="1" y="122"/>
                        </a:lnTo>
                        <a:lnTo>
                          <a:pt x="1" y="125"/>
                        </a:lnTo>
                        <a:lnTo>
                          <a:pt x="3" y="126"/>
                        </a:lnTo>
                        <a:lnTo>
                          <a:pt x="1" y="130"/>
                        </a:lnTo>
                        <a:lnTo>
                          <a:pt x="1" y="134"/>
                        </a:lnTo>
                        <a:lnTo>
                          <a:pt x="1" y="138"/>
                        </a:lnTo>
                        <a:lnTo>
                          <a:pt x="1" y="142"/>
                        </a:lnTo>
                        <a:lnTo>
                          <a:pt x="1" y="148"/>
                        </a:lnTo>
                        <a:lnTo>
                          <a:pt x="1" y="152"/>
                        </a:lnTo>
                        <a:lnTo>
                          <a:pt x="1" y="156"/>
                        </a:lnTo>
                        <a:lnTo>
                          <a:pt x="1" y="162"/>
                        </a:lnTo>
                        <a:lnTo>
                          <a:pt x="0" y="166"/>
                        </a:lnTo>
                        <a:lnTo>
                          <a:pt x="0" y="170"/>
                        </a:lnTo>
                        <a:lnTo>
                          <a:pt x="0" y="174"/>
                        </a:lnTo>
                        <a:lnTo>
                          <a:pt x="0" y="179"/>
                        </a:lnTo>
                        <a:lnTo>
                          <a:pt x="0" y="184"/>
                        </a:lnTo>
                        <a:lnTo>
                          <a:pt x="0" y="189"/>
                        </a:lnTo>
                        <a:lnTo>
                          <a:pt x="0" y="193"/>
                        </a:lnTo>
                        <a:lnTo>
                          <a:pt x="0" y="199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46"/>
                  <p:cNvSpPr/>
                  <p:nvPr/>
                </p:nvSpPr>
                <p:spPr>
                  <a:xfrm>
                    <a:off x="4100760" y="3062160"/>
                    <a:ext cx="212400" cy="6120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1466" h="469">
                        <a:moveTo>
                          <a:pt x="104" y="394"/>
                        </a:moveTo>
                        <a:lnTo>
                          <a:pt x="0" y="469"/>
                        </a:lnTo>
                        <a:lnTo>
                          <a:pt x="773" y="469"/>
                        </a:lnTo>
                        <a:lnTo>
                          <a:pt x="777" y="468"/>
                        </a:lnTo>
                        <a:lnTo>
                          <a:pt x="783" y="468"/>
                        </a:lnTo>
                        <a:lnTo>
                          <a:pt x="788" y="466"/>
                        </a:lnTo>
                        <a:lnTo>
                          <a:pt x="794" y="465"/>
                        </a:lnTo>
                        <a:lnTo>
                          <a:pt x="799" y="465"/>
                        </a:lnTo>
                        <a:lnTo>
                          <a:pt x="803" y="464"/>
                        </a:lnTo>
                        <a:lnTo>
                          <a:pt x="808" y="462"/>
                        </a:lnTo>
                        <a:lnTo>
                          <a:pt x="814" y="462"/>
                        </a:lnTo>
                        <a:lnTo>
                          <a:pt x="809" y="461"/>
                        </a:lnTo>
                        <a:lnTo>
                          <a:pt x="805" y="461"/>
                        </a:lnTo>
                        <a:lnTo>
                          <a:pt x="800" y="461"/>
                        </a:lnTo>
                        <a:lnTo>
                          <a:pt x="797" y="461"/>
                        </a:lnTo>
                        <a:lnTo>
                          <a:pt x="791" y="460"/>
                        </a:lnTo>
                        <a:lnTo>
                          <a:pt x="786" y="460"/>
                        </a:lnTo>
                        <a:lnTo>
                          <a:pt x="783" y="460"/>
                        </a:lnTo>
                        <a:lnTo>
                          <a:pt x="779" y="460"/>
                        </a:lnTo>
                        <a:lnTo>
                          <a:pt x="774" y="458"/>
                        </a:lnTo>
                        <a:lnTo>
                          <a:pt x="770" y="458"/>
                        </a:lnTo>
                        <a:lnTo>
                          <a:pt x="765" y="458"/>
                        </a:lnTo>
                        <a:lnTo>
                          <a:pt x="762" y="458"/>
                        </a:lnTo>
                        <a:lnTo>
                          <a:pt x="757" y="458"/>
                        </a:lnTo>
                        <a:lnTo>
                          <a:pt x="753" y="458"/>
                        </a:lnTo>
                        <a:lnTo>
                          <a:pt x="748" y="458"/>
                        </a:lnTo>
                        <a:lnTo>
                          <a:pt x="745" y="458"/>
                        </a:lnTo>
                        <a:lnTo>
                          <a:pt x="739" y="458"/>
                        </a:lnTo>
                        <a:lnTo>
                          <a:pt x="736" y="458"/>
                        </a:lnTo>
                        <a:lnTo>
                          <a:pt x="731" y="458"/>
                        </a:lnTo>
                        <a:lnTo>
                          <a:pt x="727" y="458"/>
                        </a:lnTo>
                        <a:lnTo>
                          <a:pt x="722" y="458"/>
                        </a:lnTo>
                        <a:lnTo>
                          <a:pt x="718" y="458"/>
                        </a:lnTo>
                        <a:lnTo>
                          <a:pt x="713" y="458"/>
                        </a:lnTo>
                        <a:lnTo>
                          <a:pt x="708" y="458"/>
                        </a:lnTo>
                        <a:lnTo>
                          <a:pt x="704" y="458"/>
                        </a:lnTo>
                        <a:lnTo>
                          <a:pt x="699" y="458"/>
                        </a:lnTo>
                        <a:lnTo>
                          <a:pt x="695" y="458"/>
                        </a:lnTo>
                        <a:lnTo>
                          <a:pt x="692" y="458"/>
                        </a:lnTo>
                        <a:lnTo>
                          <a:pt x="687" y="458"/>
                        </a:lnTo>
                        <a:lnTo>
                          <a:pt x="682" y="458"/>
                        </a:lnTo>
                        <a:lnTo>
                          <a:pt x="678" y="458"/>
                        </a:lnTo>
                        <a:lnTo>
                          <a:pt x="673" y="458"/>
                        </a:lnTo>
                        <a:lnTo>
                          <a:pt x="669" y="458"/>
                        </a:lnTo>
                        <a:lnTo>
                          <a:pt x="664" y="458"/>
                        </a:lnTo>
                        <a:lnTo>
                          <a:pt x="659" y="458"/>
                        </a:lnTo>
                        <a:lnTo>
                          <a:pt x="655" y="458"/>
                        </a:lnTo>
                        <a:lnTo>
                          <a:pt x="650" y="458"/>
                        </a:lnTo>
                        <a:lnTo>
                          <a:pt x="647" y="458"/>
                        </a:lnTo>
                        <a:lnTo>
                          <a:pt x="641" y="458"/>
                        </a:lnTo>
                        <a:lnTo>
                          <a:pt x="638" y="460"/>
                        </a:lnTo>
                        <a:lnTo>
                          <a:pt x="633" y="460"/>
                        </a:lnTo>
                        <a:lnTo>
                          <a:pt x="629" y="460"/>
                        </a:lnTo>
                        <a:lnTo>
                          <a:pt x="623" y="460"/>
                        </a:lnTo>
                        <a:lnTo>
                          <a:pt x="620" y="460"/>
                        </a:lnTo>
                        <a:lnTo>
                          <a:pt x="614" y="460"/>
                        </a:lnTo>
                        <a:lnTo>
                          <a:pt x="611" y="460"/>
                        </a:lnTo>
                        <a:lnTo>
                          <a:pt x="604" y="460"/>
                        </a:lnTo>
                        <a:lnTo>
                          <a:pt x="601" y="461"/>
                        </a:lnTo>
                        <a:lnTo>
                          <a:pt x="597" y="461"/>
                        </a:lnTo>
                        <a:lnTo>
                          <a:pt x="592" y="461"/>
                        </a:lnTo>
                        <a:lnTo>
                          <a:pt x="588" y="461"/>
                        </a:lnTo>
                        <a:lnTo>
                          <a:pt x="583" y="461"/>
                        </a:lnTo>
                        <a:lnTo>
                          <a:pt x="577" y="461"/>
                        </a:lnTo>
                        <a:lnTo>
                          <a:pt x="574" y="461"/>
                        </a:lnTo>
                        <a:lnTo>
                          <a:pt x="569" y="461"/>
                        </a:lnTo>
                        <a:lnTo>
                          <a:pt x="565" y="461"/>
                        </a:lnTo>
                        <a:lnTo>
                          <a:pt x="560" y="461"/>
                        </a:lnTo>
                        <a:lnTo>
                          <a:pt x="555" y="461"/>
                        </a:lnTo>
                        <a:lnTo>
                          <a:pt x="551" y="461"/>
                        </a:lnTo>
                        <a:lnTo>
                          <a:pt x="546" y="461"/>
                        </a:lnTo>
                        <a:lnTo>
                          <a:pt x="542" y="461"/>
                        </a:lnTo>
                        <a:lnTo>
                          <a:pt x="537" y="461"/>
                        </a:lnTo>
                        <a:lnTo>
                          <a:pt x="533" y="461"/>
                        </a:lnTo>
                        <a:lnTo>
                          <a:pt x="528" y="462"/>
                        </a:lnTo>
                        <a:lnTo>
                          <a:pt x="523" y="461"/>
                        </a:lnTo>
                        <a:lnTo>
                          <a:pt x="519" y="461"/>
                        </a:lnTo>
                        <a:lnTo>
                          <a:pt x="513" y="461"/>
                        </a:lnTo>
                        <a:lnTo>
                          <a:pt x="508" y="461"/>
                        </a:lnTo>
                        <a:lnTo>
                          <a:pt x="502" y="461"/>
                        </a:lnTo>
                        <a:lnTo>
                          <a:pt x="496" y="460"/>
                        </a:lnTo>
                        <a:lnTo>
                          <a:pt x="491" y="460"/>
                        </a:lnTo>
                        <a:lnTo>
                          <a:pt x="485" y="460"/>
                        </a:lnTo>
                        <a:lnTo>
                          <a:pt x="490" y="458"/>
                        </a:lnTo>
                        <a:lnTo>
                          <a:pt x="496" y="458"/>
                        </a:lnTo>
                        <a:lnTo>
                          <a:pt x="499" y="458"/>
                        </a:lnTo>
                        <a:lnTo>
                          <a:pt x="502" y="458"/>
                        </a:lnTo>
                        <a:lnTo>
                          <a:pt x="507" y="458"/>
                        </a:lnTo>
                        <a:lnTo>
                          <a:pt x="513" y="458"/>
                        </a:lnTo>
                        <a:lnTo>
                          <a:pt x="516" y="458"/>
                        </a:lnTo>
                        <a:lnTo>
                          <a:pt x="520" y="458"/>
                        </a:lnTo>
                        <a:lnTo>
                          <a:pt x="526" y="458"/>
                        </a:lnTo>
                        <a:lnTo>
                          <a:pt x="531" y="458"/>
                        </a:lnTo>
                        <a:lnTo>
                          <a:pt x="537" y="458"/>
                        </a:lnTo>
                        <a:lnTo>
                          <a:pt x="543" y="458"/>
                        </a:lnTo>
                        <a:lnTo>
                          <a:pt x="548" y="458"/>
                        </a:lnTo>
                        <a:lnTo>
                          <a:pt x="554" y="458"/>
                        </a:lnTo>
                        <a:lnTo>
                          <a:pt x="559" y="458"/>
                        </a:lnTo>
                        <a:lnTo>
                          <a:pt x="565" y="458"/>
                        </a:lnTo>
                        <a:lnTo>
                          <a:pt x="569" y="458"/>
                        </a:lnTo>
                        <a:lnTo>
                          <a:pt x="574" y="458"/>
                        </a:lnTo>
                        <a:lnTo>
                          <a:pt x="580" y="458"/>
                        </a:lnTo>
                        <a:lnTo>
                          <a:pt x="585" y="458"/>
                        </a:lnTo>
                        <a:lnTo>
                          <a:pt x="589" y="458"/>
                        </a:lnTo>
                        <a:lnTo>
                          <a:pt x="594" y="458"/>
                        </a:lnTo>
                        <a:lnTo>
                          <a:pt x="598" y="458"/>
                        </a:lnTo>
                        <a:lnTo>
                          <a:pt x="601" y="457"/>
                        </a:lnTo>
                        <a:lnTo>
                          <a:pt x="604" y="457"/>
                        </a:lnTo>
                        <a:lnTo>
                          <a:pt x="607" y="455"/>
                        </a:lnTo>
                        <a:lnTo>
                          <a:pt x="614" y="454"/>
                        </a:lnTo>
                        <a:lnTo>
                          <a:pt x="617" y="453"/>
                        </a:lnTo>
                        <a:lnTo>
                          <a:pt x="615" y="453"/>
                        </a:lnTo>
                        <a:lnTo>
                          <a:pt x="612" y="451"/>
                        </a:lnTo>
                        <a:lnTo>
                          <a:pt x="607" y="451"/>
                        </a:lnTo>
                        <a:lnTo>
                          <a:pt x="603" y="451"/>
                        </a:lnTo>
                        <a:lnTo>
                          <a:pt x="600" y="451"/>
                        </a:lnTo>
                        <a:lnTo>
                          <a:pt x="597" y="451"/>
                        </a:lnTo>
                        <a:lnTo>
                          <a:pt x="594" y="451"/>
                        </a:lnTo>
                        <a:lnTo>
                          <a:pt x="591" y="451"/>
                        </a:lnTo>
                        <a:lnTo>
                          <a:pt x="588" y="451"/>
                        </a:lnTo>
                        <a:lnTo>
                          <a:pt x="583" y="451"/>
                        </a:lnTo>
                        <a:lnTo>
                          <a:pt x="580" y="451"/>
                        </a:lnTo>
                        <a:lnTo>
                          <a:pt x="577" y="451"/>
                        </a:lnTo>
                        <a:lnTo>
                          <a:pt x="571" y="451"/>
                        </a:lnTo>
                        <a:lnTo>
                          <a:pt x="568" y="451"/>
                        </a:lnTo>
                        <a:lnTo>
                          <a:pt x="563" y="451"/>
                        </a:lnTo>
                        <a:lnTo>
                          <a:pt x="559" y="451"/>
                        </a:lnTo>
                        <a:lnTo>
                          <a:pt x="554" y="451"/>
                        </a:lnTo>
                        <a:lnTo>
                          <a:pt x="549" y="451"/>
                        </a:lnTo>
                        <a:lnTo>
                          <a:pt x="543" y="451"/>
                        </a:lnTo>
                        <a:lnTo>
                          <a:pt x="540" y="451"/>
                        </a:lnTo>
                        <a:lnTo>
                          <a:pt x="534" y="451"/>
                        </a:lnTo>
                        <a:lnTo>
                          <a:pt x="529" y="451"/>
                        </a:lnTo>
                        <a:lnTo>
                          <a:pt x="523" y="451"/>
                        </a:lnTo>
                        <a:lnTo>
                          <a:pt x="519" y="451"/>
                        </a:lnTo>
                        <a:lnTo>
                          <a:pt x="513" y="451"/>
                        </a:lnTo>
                        <a:lnTo>
                          <a:pt x="508" y="451"/>
                        </a:lnTo>
                        <a:lnTo>
                          <a:pt x="502" y="451"/>
                        </a:lnTo>
                        <a:lnTo>
                          <a:pt x="497" y="451"/>
                        </a:lnTo>
                        <a:lnTo>
                          <a:pt x="491" y="451"/>
                        </a:lnTo>
                        <a:lnTo>
                          <a:pt x="487" y="451"/>
                        </a:lnTo>
                        <a:lnTo>
                          <a:pt x="481" y="451"/>
                        </a:lnTo>
                        <a:lnTo>
                          <a:pt x="474" y="451"/>
                        </a:lnTo>
                        <a:lnTo>
                          <a:pt x="470" y="451"/>
                        </a:lnTo>
                        <a:lnTo>
                          <a:pt x="464" y="451"/>
                        </a:lnTo>
                        <a:lnTo>
                          <a:pt x="459" y="451"/>
                        </a:lnTo>
                        <a:lnTo>
                          <a:pt x="455" y="451"/>
                        </a:lnTo>
                        <a:lnTo>
                          <a:pt x="448" y="451"/>
                        </a:lnTo>
                        <a:lnTo>
                          <a:pt x="444" y="451"/>
                        </a:lnTo>
                        <a:lnTo>
                          <a:pt x="438" y="451"/>
                        </a:lnTo>
                        <a:lnTo>
                          <a:pt x="433" y="453"/>
                        </a:lnTo>
                        <a:lnTo>
                          <a:pt x="429" y="453"/>
                        </a:lnTo>
                        <a:lnTo>
                          <a:pt x="424" y="453"/>
                        </a:lnTo>
                        <a:lnTo>
                          <a:pt x="419" y="453"/>
                        </a:lnTo>
                        <a:lnTo>
                          <a:pt x="416" y="453"/>
                        </a:lnTo>
                        <a:lnTo>
                          <a:pt x="410" y="453"/>
                        </a:lnTo>
                        <a:lnTo>
                          <a:pt x="407" y="453"/>
                        </a:lnTo>
                        <a:lnTo>
                          <a:pt x="403" y="453"/>
                        </a:lnTo>
                        <a:lnTo>
                          <a:pt x="399" y="453"/>
                        </a:lnTo>
                        <a:lnTo>
                          <a:pt x="395" y="453"/>
                        </a:lnTo>
                        <a:lnTo>
                          <a:pt x="392" y="454"/>
                        </a:lnTo>
                        <a:lnTo>
                          <a:pt x="389" y="454"/>
                        </a:lnTo>
                        <a:lnTo>
                          <a:pt x="386" y="454"/>
                        </a:lnTo>
                        <a:lnTo>
                          <a:pt x="380" y="454"/>
                        </a:lnTo>
                        <a:lnTo>
                          <a:pt x="375" y="454"/>
                        </a:lnTo>
                        <a:lnTo>
                          <a:pt x="372" y="455"/>
                        </a:lnTo>
                        <a:lnTo>
                          <a:pt x="369" y="455"/>
                        </a:lnTo>
                        <a:lnTo>
                          <a:pt x="375" y="454"/>
                        </a:lnTo>
                        <a:lnTo>
                          <a:pt x="380" y="453"/>
                        </a:lnTo>
                        <a:lnTo>
                          <a:pt x="386" y="451"/>
                        </a:lnTo>
                        <a:lnTo>
                          <a:pt x="390" y="451"/>
                        </a:lnTo>
                        <a:lnTo>
                          <a:pt x="395" y="450"/>
                        </a:lnTo>
                        <a:lnTo>
                          <a:pt x="399" y="450"/>
                        </a:lnTo>
                        <a:lnTo>
                          <a:pt x="406" y="449"/>
                        </a:lnTo>
                        <a:lnTo>
                          <a:pt x="410" y="449"/>
                        </a:lnTo>
                        <a:lnTo>
                          <a:pt x="415" y="449"/>
                        </a:lnTo>
                        <a:lnTo>
                          <a:pt x="419" y="449"/>
                        </a:lnTo>
                        <a:lnTo>
                          <a:pt x="424" y="447"/>
                        </a:lnTo>
                        <a:lnTo>
                          <a:pt x="429" y="447"/>
                        </a:lnTo>
                        <a:lnTo>
                          <a:pt x="433" y="447"/>
                        </a:lnTo>
                        <a:lnTo>
                          <a:pt x="438" y="447"/>
                        </a:lnTo>
                        <a:lnTo>
                          <a:pt x="441" y="447"/>
                        </a:lnTo>
                        <a:lnTo>
                          <a:pt x="447" y="447"/>
                        </a:lnTo>
                        <a:lnTo>
                          <a:pt x="450" y="446"/>
                        </a:lnTo>
                        <a:lnTo>
                          <a:pt x="455" y="446"/>
                        </a:lnTo>
                        <a:lnTo>
                          <a:pt x="459" y="446"/>
                        </a:lnTo>
                        <a:lnTo>
                          <a:pt x="464" y="446"/>
                        </a:lnTo>
                        <a:lnTo>
                          <a:pt x="468" y="446"/>
                        </a:lnTo>
                        <a:lnTo>
                          <a:pt x="473" y="446"/>
                        </a:lnTo>
                        <a:lnTo>
                          <a:pt x="477" y="446"/>
                        </a:lnTo>
                        <a:lnTo>
                          <a:pt x="482" y="446"/>
                        </a:lnTo>
                        <a:lnTo>
                          <a:pt x="487" y="446"/>
                        </a:lnTo>
                        <a:lnTo>
                          <a:pt x="491" y="446"/>
                        </a:lnTo>
                        <a:lnTo>
                          <a:pt x="496" y="446"/>
                        </a:lnTo>
                        <a:lnTo>
                          <a:pt x="502" y="446"/>
                        </a:lnTo>
                        <a:lnTo>
                          <a:pt x="507" y="444"/>
                        </a:lnTo>
                        <a:lnTo>
                          <a:pt x="511" y="444"/>
                        </a:lnTo>
                        <a:lnTo>
                          <a:pt x="517" y="444"/>
                        </a:lnTo>
                        <a:lnTo>
                          <a:pt x="523" y="444"/>
                        </a:lnTo>
                        <a:lnTo>
                          <a:pt x="528" y="443"/>
                        </a:lnTo>
                        <a:lnTo>
                          <a:pt x="533" y="443"/>
                        </a:lnTo>
                        <a:lnTo>
                          <a:pt x="539" y="443"/>
                        </a:lnTo>
                        <a:lnTo>
                          <a:pt x="543" y="443"/>
                        </a:lnTo>
                        <a:lnTo>
                          <a:pt x="549" y="442"/>
                        </a:lnTo>
                        <a:lnTo>
                          <a:pt x="554" y="442"/>
                        </a:lnTo>
                        <a:lnTo>
                          <a:pt x="559" y="442"/>
                        </a:lnTo>
                        <a:lnTo>
                          <a:pt x="565" y="442"/>
                        </a:lnTo>
                        <a:lnTo>
                          <a:pt x="569" y="442"/>
                        </a:lnTo>
                        <a:lnTo>
                          <a:pt x="574" y="442"/>
                        </a:lnTo>
                        <a:lnTo>
                          <a:pt x="580" y="442"/>
                        </a:lnTo>
                        <a:lnTo>
                          <a:pt x="585" y="442"/>
                        </a:lnTo>
                        <a:lnTo>
                          <a:pt x="591" y="442"/>
                        </a:lnTo>
                        <a:lnTo>
                          <a:pt x="595" y="442"/>
                        </a:lnTo>
                        <a:lnTo>
                          <a:pt x="600" y="442"/>
                        </a:lnTo>
                        <a:lnTo>
                          <a:pt x="606" y="442"/>
                        </a:lnTo>
                        <a:lnTo>
                          <a:pt x="611" y="440"/>
                        </a:lnTo>
                        <a:lnTo>
                          <a:pt x="615" y="440"/>
                        </a:lnTo>
                        <a:lnTo>
                          <a:pt x="621" y="440"/>
                        </a:lnTo>
                        <a:lnTo>
                          <a:pt x="626" y="440"/>
                        </a:lnTo>
                        <a:lnTo>
                          <a:pt x="632" y="439"/>
                        </a:lnTo>
                        <a:lnTo>
                          <a:pt x="637" y="439"/>
                        </a:lnTo>
                        <a:lnTo>
                          <a:pt x="641" y="439"/>
                        </a:lnTo>
                        <a:lnTo>
                          <a:pt x="647" y="439"/>
                        </a:lnTo>
                        <a:lnTo>
                          <a:pt x="652" y="439"/>
                        </a:lnTo>
                        <a:lnTo>
                          <a:pt x="656" y="439"/>
                        </a:lnTo>
                        <a:lnTo>
                          <a:pt x="663" y="438"/>
                        </a:lnTo>
                        <a:lnTo>
                          <a:pt x="667" y="438"/>
                        </a:lnTo>
                        <a:lnTo>
                          <a:pt x="673" y="438"/>
                        </a:lnTo>
                        <a:lnTo>
                          <a:pt x="678" y="438"/>
                        </a:lnTo>
                        <a:lnTo>
                          <a:pt x="682" y="438"/>
                        </a:lnTo>
                        <a:lnTo>
                          <a:pt x="689" y="438"/>
                        </a:lnTo>
                        <a:lnTo>
                          <a:pt x="693" y="436"/>
                        </a:lnTo>
                        <a:lnTo>
                          <a:pt x="698" y="436"/>
                        </a:lnTo>
                        <a:lnTo>
                          <a:pt x="702" y="436"/>
                        </a:lnTo>
                        <a:lnTo>
                          <a:pt x="708" y="436"/>
                        </a:lnTo>
                        <a:lnTo>
                          <a:pt x="713" y="435"/>
                        </a:lnTo>
                        <a:lnTo>
                          <a:pt x="718" y="435"/>
                        </a:lnTo>
                        <a:lnTo>
                          <a:pt x="724" y="435"/>
                        </a:lnTo>
                        <a:lnTo>
                          <a:pt x="728" y="435"/>
                        </a:lnTo>
                        <a:lnTo>
                          <a:pt x="733" y="435"/>
                        </a:lnTo>
                        <a:lnTo>
                          <a:pt x="739" y="433"/>
                        </a:lnTo>
                        <a:lnTo>
                          <a:pt x="744" y="433"/>
                        </a:lnTo>
                        <a:lnTo>
                          <a:pt x="750" y="433"/>
                        </a:lnTo>
                        <a:lnTo>
                          <a:pt x="754" y="433"/>
                        </a:lnTo>
                        <a:lnTo>
                          <a:pt x="759" y="433"/>
                        </a:lnTo>
                        <a:lnTo>
                          <a:pt x="764" y="433"/>
                        </a:lnTo>
                        <a:lnTo>
                          <a:pt x="770" y="433"/>
                        </a:lnTo>
                        <a:lnTo>
                          <a:pt x="774" y="432"/>
                        </a:lnTo>
                        <a:lnTo>
                          <a:pt x="780" y="432"/>
                        </a:lnTo>
                        <a:lnTo>
                          <a:pt x="783" y="432"/>
                        </a:lnTo>
                        <a:lnTo>
                          <a:pt x="790" y="432"/>
                        </a:lnTo>
                        <a:lnTo>
                          <a:pt x="794" y="431"/>
                        </a:lnTo>
                        <a:lnTo>
                          <a:pt x="800" y="431"/>
                        </a:lnTo>
                        <a:lnTo>
                          <a:pt x="805" y="431"/>
                        </a:lnTo>
                        <a:lnTo>
                          <a:pt x="811" y="431"/>
                        </a:lnTo>
                        <a:lnTo>
                          <a:pt x="816" y="431"/>
                        </a:lnTo>
                        <a:lnTo>
                          <a:pt x="820" y="431"/>
                        </a:lnTo>
                        <a:lnTo>
                          <a:pt x="825" y="431"/>
                        </a:lnTo>
                        <a:lnTo>
                          <a:pt x="831" y="431"/>
                        </a:lnTo>
                        <a:lnTo>
                          <a:pt x="835" y="431"/>
                        </a:lnTo>
                        <a:lnTo>
                          <a:pt x="842" y="431"/>
                        </a:lnTo>
                        <a:lnTo>
                          <a:pt x="846" y="431"/>
                        </a:lnTo>
                        <a:lnTo>
                          <a:pt x="852" y="431"/>
                        </a:lnTo>
                        <a:lnTo>
                          <a:pt x="855" y="429"/>
                        </a:lnTo>
                        <a:lnTo>
                          <a:pt x="860" y="429"/>
                        </a:lnTo>
                        <a:lnTo>
                          <a:pt x="863" y="428"/>
                        </a:lnTo>
                        <a:lnTo>
                          <a:pt x="866" y="428"/>
                        </a:lnTo>
                        <a:lnTo>
                          <a:pt x="871" y="428"/>
                        </a:lnTo>
                        <a:lnTo>
                          <a:pt x="874" y="427"/>
                        </a:lnTo>
                        <a:lnTo>
                          <a:pt x="878" y="427"/>
                        </a:lnTo>
                        <a:lnTo>
                          <a:pt x="883" y="427"/>
                        </a:lnTo>
                        <a:lnTo>
                          <a:pt x="877" y="425"/>
                        </a:lnTo>
                        <a:lnTo>
                          <a:pt x="871" y="424"/>
                        </a:lnTo>
                        <a:lnTo>
                          <a:pt x="866" y="424"/>
                        </a:lnTo>
                        <a:lnTo>
                          <a:pt x="860" y="424"/>
                        </a:lnTo>
                        <a:lnTo>
                          <a:pt x="855" y="424"/>
                        </a:lnTo>
                        <a:lnTo>
                          <a:pt x="849" y="422"/>
                        </a:lnTo>
                        <a:lnTo>
                          <a:pt x="843" y="422"/>
                        </a:lnTo>
                        <a:lnTo>
                          <a:pt x="838" y="422"/>
                        </a:lnTo>
                        <a:lnTo>
                          <a:pt x="831" y="422"/>
                        </a:lnTo>
                        <a:lnTo>
                          <a:pt x="826" y="422"/>
                        </a:lnTo>
                        <a:lnTo>
                          <a:pt x="820" y="421"/>
                        </a:lnTo>
                        <a:lnTo>
                          <a:pt x="814" y="421"/>
                        </a:lnTo>
                        <a:lnTo>
                          <a:pt x="808" y="421"/>
                        </a:lnTo>
                        <a:lnTo>
                          <a:pt x="802" y="421"/>
                        </a:lnTo>
                        <a:lnTo>
                          <a:pt x="796" y="421"/>
                        </a:lnTo>
                        <a:lnTo>
                          <a:pt x="790" y="421"/>
                        </a:lnTo>
                        <a:lnTo>
                          <a:pt x="783" y="421"/>
                        </a:lnTo>
                        <a:lnTo>
                          <a:pt x="777" y="421"/>
                        </a:lnTo>
                        <a:lnTo>
                          <a:pt x="770" y="421"/>
                        </a:lnTo>
                        <a:lnTo>
                          <a:pt x="764" y="421"/>
                        </a:lnTo>
                        <a:lnTo>
                          <a:pt x="757" y="421"/>
                        </a:lnTo>
                        <a:lnTo>
                          <a:pt x="751" y="421"/>
                        </a:lnTo>
                        <a:lnTo>
                          <a:pt x="745" y="421"/>
                        </a:lnTo>
                        <a:lnTo>
                          <a:pt x="739" y="421"/>
                        </a:lnTo>
                        <a:lnTo>
                          <a:pt x="731" y="421"/>
                        </a:lnTo>
                        <a:lnTo>
                          <a:pt x="725" y="421"/>
                        </a:lnTo>
                        <a:lnTo>
                          <a:pt x="718" y="421"/>
                        </a:lnTo>
                        <a:lnTo>
                          <a:pt x="711" y="421"/>
                        </a:lnTo>
                        <a:lnTo>
                          <a:pt x="705" y="421"/>
                        </a:lnTo>
                        <a:lnTo>
                          <a:pt x="699" y="421"/>
                        </a:lnTo>
                        <a:lnTo>
                          <a:pt x="693" y="421"/>
                        </a:lnTo>
                        <a:lnTo>
                          <a:pt x="687" y="422"/>
                        </a:lnTo>
                        <a:lnTo>
                          <a:pt x="679" y="422"/>
                        </a:lnTo>
                        <a:lnTo>
                          <a:pt x="673" y="422"/>
                        </a:lnTo>
                        <a:lnTo>
                          <a:pt x="667" y="422"/>
                        </a:lnTo>
                        <a:lnTo>
                          <a:pt x="659" y="422"/>
                        </a:lnTo>
                        <a:lnTo>
                          <a:pt x="653" y="422"/>
                        </a:lnTo>
                        <a:lnTo>
                          <a:pt x="647" y="422"/>
                        </a:lnTo>
                        <a:lnTo>
                          <a:pt x="640" y="422"/>
                        </a:lnTo>
                        <a:lnTo>
                          <a:pt x="633" y="422"/>
                        </a:lnTo>
                        <a:lnTo>
                          <a:pt x="627" y="422"/>
                        </a:lnTo>
                        <a:lnTo>
                          <a:pt x="621" y="422"/>
                        </a:lnTo>
                        <a:lnTo>
                          <a:pt x="615" y="422"/>
                        </a:lnTo>
                        <a:lnTo>
                          <a:pt x="607" y="424"/>
                        </a:lnTo>
                        <a:lnTo>
                          <a:pt x="601" y="424"/>
                        </a:lnTo>
                        <a:lnTo>
                          <a:pt x="595" y="424"/>
                        </a:lnTo>
                        <a:lnTo>
                          <a:pt x="589" y="424"/>
                        </a:lnTo>
                        <a:lnTo>
                          <a:pt x="585" y="424"/>
                        </a:lnTo>
                        <a:lnTo>
                          <a:pt x="577" y="424"/>
                        </a:lnTo>
                        <a:lnTo>
                          <a:pt x="571" y="424"/>
                        </a:lnTo>
                        <a:lnTo>
                          <a:pt x="565" y="424"/>
                        </a:lnTo>
                        <a:lnTo>
                          <a:pt x="560" y="424"/>
                        </a:lnTo>
                        <a:lnTo>
                          <a:pt x="554" y="424"/>
                        </a:lnTo>
                        <a:lnTo>
                          <a:pt x="548" y="424"/>
                        </a:lnTo>
                        <a:lnTo>
                          <a:pt x="543" y="424"/>
                        </a:lnTo>
                        <a:lnTo>
                          <a:pt x="537" y="425"/>
                        </a:lnTo>
                        <a:lnTo>
                          <a:pt x="531" y="425"/>
                        </a:lnTo>
                        <a:lnTo>
                          <a:pt x="526" y="425"/>
                        </a:lnTo>
                        <a:lnTo>
                          <a:pt x="520" y="425"/>
                        </a:lnTo>
                        <a:lnTo>
                          <a:pt x="516" y="425"/>
                        </a:lnTo>
                        <a:lnTo>
                          <a:pt x="510" y="425"/>
                        </a:lnTo>
                        <a:lnTo>
                          <a:pt x="505" y="425"/>
                        </a:lnTo>
                        <a:lnTo>
                          <a:pt x="500" y="425"/>
                        </a:lnTo>
                        <a:lnTo>
                          <a:pt x="496" y="427"/>
                        </a:lnTo>
                        <a:lnTo>
                          <a:pt x="491" y="427"/>
                        </a:lnTo>
                        <a:lnTo>
                          <a:pt x="488" y="427"/>
                        </a:lnTo>
                        <a:lnTo>
                          <a:pt x="485" y="427"/>
                        </a:lnTo>
                        <a:lnTo>
                          <a:pt x="482" y="427"/>
                        </a:lnTo>
                        <a:lnTo>
                          <a:pt x="477" y="427"/>
                        </a:lnTo>
                        <a:lnTo>
                          <a:pt x="474" y="427"/>
                        </a:lnTo>
                        <a:lnTo>
                          <a:pt x="470" y="427"/>
                        </a:lnTo>
                        <a:lnTo>
                          <a:pt x="467" y="427"/>
                        </a:lnTo>
                        <a:lnTo>
                          <a:pt x="462" y="427"/>
                        </a:lnTo>
                        <a:lnTo>
                          <a:pt x="458" y="427"/>
                        </a:lnTo>
                        <a:lnTo>
                          <a:pt x="455" y="427"/>
                        </a:lnTo>
                        <a:lnTo>
                          <a:pt x="450" y="427"/>
                        </a:lnTo>
                        <a:lnTo>
                          <a:pt x="447" y="427"/>
                        </a:lnTo>
                        <a:lnTo>
                          <a:pt x="442" y="427"/>
                        </a:lnTo>
                        <a:lnTo>
                          <a:pt x="439" y="427"/>
                        </a:lnTo>
                        <a:lnTo>
                          <a:pt x="435" y="427"/>
                        </a:lnTo>
                        <a:lnTo>
                          <a:pt x="430" y="427"/>
                        </a:lnTo>
                        <a:lnTo>
                          <a:pt x="427" y="427"/>
                        </a:lnTo>
                        <a:lnTo>
                          <a:pt x="422" y="427"/>
                        </a:lnTo>
                        <a:lnTo>
                          <a:pt x="419" y="427"/>
                        </a:lnTo>
                        <a:lnTo>
                          <a:pt x="415" y="427"/>
                        </a:lnTo>
                        <a:lnTo>
                          <a:pt x="410" y="427"/>
                        </a:lnTo>
                        <a:lnTo>
                          <a:pt x="407" y="427"/>
                        </a:lnTo>
                        <a:lnTo>
                          <a:pt x="403" y="427"/>
                        </a:lnTo>
                        <a:lnTo>
                          <a:pt x="398" y="427"/>
                        </a:lnTo>
                        <a:lnTo>
                          <a:pt x="395" y="427"/>
                        </a:lnTo>
                        <a:lnTo>
                          <a:pt x="390" y="427"/>
                        </a:lnTo>
                        <a:lnTo>
                          <a:pt x="387" y="427"/>
                        </a:lnTo>
                        <a:lnTo>
                          <a:pt x="383" y="427"/>
                        </a:lnTo>
                        <a:lnTo>
                          <a:pt x="380" y="427"/>
                        </a:lnTo>
                        <a:lnTo>
                          <a:pt x="375" y="427"/>
                        </a:lnTo>
                        <a:lnTo>
                          <a:pt x="372" y="427"/>
                        </a:lnTo>
                        <a:lnTo>
                          <a:pt x="410" y="414"/>
                        </a:lnTo>
                        <a:lnTo>
                          <a:pt x="713" y="407"/>
                        </a:lnTo>
                        <a:lnTo>
                          <a:pt x="759" y="401"/>
                        </a:lnTo>
                        <a:lnTo>
                          <a:pt x="750" y="401"/>
                        </a:lnTo>
                        <a:lnTo>
                          <a:pt x="742" y="401"/>
                        </a:lnTo>
                        <a:lnTo>
                          <a:pt x="733" y="401"/>
                        </a:lnTo>
                        <a:lnTo>
                          <a:pt x="725" y="402"/>
                        </a:lnTo>
                        <a:lnTo>
                          <a:pt x="716" y="402"/>
                        </a:lnTo>
                        <a:lnTo>
                          <a:pt x="708" y="402"/>
                        </a:lnTo>
                        <a:lnTo>
                          <a:pt x="699" y="402"/>
                        </a:lnTo>
                        <a:lnTo>
                          <a:pt x="692" y="402"/>
                        </a:lnTo>
                        <a:lnTo>
                          <a:pt x="682" y="402"/>
                        </a:lnTo>
                        <a:lnTo>
                          <a:pt x="675" y="402"/>
                        </a:lnTo>
                        <a:lnTo>
                          <a:pt x="666" y="402"/>
                        </a:lnTo>
                        <a:lnTo>
                          <a:pt x="658" y="402"/>
                        </a:lnTo>
                        <a:lnTo>
                          <a:pt x="649" y="402"/>
                        </a:lnTo>
                        <a:lnTo>
                          <a:pt x="641" y="402"/>
                        </a:lnTo>
                        <a:lnTo>
                          <a:pt x="633" y="402"/>
                        </a:lnTo>
                        <a:lnTo>
                          <a:pt x="624" y="402"/>
                        </a:lnTo>
                        <a:lnTo>
                          <a:pt x="615" y="402"/>
                        </a:lnTo>
                        <a:lnTo>
                          <a:pt x="607" y="402"/>
                        </a:lnTo>
                        <a:lnTo>
                          <a:pt x="598" y="402"/>
                        </a:lnTo>
                        <a:lnTo>
                          <a:pt x="591" y="402"/>
                        </a:lnTo>
                        <a:lnTo>
                          <a:pt x="581" y="402"/>
                        </a:lnTo>
                        <a:lnTo>
                          <a:pt x="574" y="402"/>
                        </a:lnTo>
                        <a:lnTo>
                          <a:pt x="565" y="402"/>
                        </a:lnTo>
                        <a:lnTo>
                          <a:pt x="557" y="402"/>
                        </a:lnTo>
                        <a:lnTo>
                          <a:pt x="548" y="402"/>
                        </a:lnTo>
                        <a:lnTo>
                          <a:pt x="539" y="402"/>
                        </a:lnTo>
                        <a:lnTo>
                          <a:pt x="529" y="402"/>
                        </a:lnTo>
                        <a:lnTo>
                          <a:pt x="522" y="402"/>
                        </a:lnTo>
                        <a:lnTo>
                          <a:pt x="513" y="402"/>
                        </a:lnTo>
                        <a:lnTo>
                          <a:pt x="505" y="402"/>
                        </a:lnTo>
                        <a:lnTo>
                          <a:pt x="496" y="402"/>
                        </a:lnTo>
                        <a:lnTo>
                          <a:pt x="488" y="402"/>
                        </a:lnTo>
                        <a:lnTo>
                          <a:pt x="479" y="401"/>
                        </a:lnTo>
                        <a:lnTo>
                          <a:pt x="471" y="401"/>
                        </a:lnTo>
                        <a:lnTo>
                          <a:pt x="462" y="401"/>
                        </a:lnTo>
                        <a:lnTo>
                          <a:pt x="455" y="401"/>
                        </a:lnTo>
                        <a:lnTo>
                          <a:pt x="444" y="399"/>
                        </a:lnTo>
                        <a:lnTo>
                          <a:pt x="436" y="399"/>
                        </a:lnTo>
                        <a:lnTo>
                          <a:pt x="427" y="399"/>
                        </a:lnTo>
                        <a:lnTo>
                          <a:pt x="419" y="399"/>
                        </a:lnTo>
                        <a:lnTo>
                          <a:pt x="410" y="399"/>
                        </a:lnTo>
                        <a:lnTo>
                          <a:pt x="403" y="399"/>
                        </a:lnTo>
                        <a:lnTo>
                          <a:pt x="393" y="399"/>
                        </a:lnTo>
                        <a:lnTo>
                          <a:pt x="386" y="399"/>
                        </a:lnTo>
                        <a:lnTo>
                          <a:pt x="377" y="399"/>
                        </a:lnTo>
                        <a:lnTo>
                          <a:pt x="369" y="399"/>
                        </a:lnTo>
                        <a:lnTo>
                          <a:pt x="360" y="399"/>
                        </a:lnTo>
                        <a:lnTo>
                          <a:pt x="352" y="399"/>
                        </a:lnTo>
                        <a:lnTo>
                          <a:pt x="343" y="398"/>
                        </a:lnTo>
                        <a:lnTo>
                          <a:pt x="335" y="398"/>
                        </a:lnTo>
                        <a:lnTo>
                          <a:pt x="326" y="396"/>
                        </a:lnTo>
                        <a:lnTo>
                          <a:pt x="318" y="396"/>
                        </a:lnTo>
                        <a:lnTo>
                          <a:pt x="309" y="396"/>
                        </a:lnTo>
                        <a:lnTo>
                          <a:pt x="302" y="396"/>
                        </a:lnTo>
                        <a:lnTo>
                          <a:pt x="294" y="396"/>
                        </a:lnTo>
                        <a:lnTo>
                          <a:pt x="285" y="396"/>
                        </a:lnTo>
                        <a:lnTo>
                          <a:pt x="276" y="396"/>
                        </a:lnTo>
                        <a:lnTo>
                          <a:pt x="268" y="395"/>
                        </a:lnTo>
                        <a:lnTo>
                          <a:pt x="260" y="395"/>
                        </a:lnTo>
                        <a:lnTo>
                          <a:pt x="253" y="395"/>
                        </a:lnTo>
                        <a:lnTo>
                          <a:pt x="245" y="394"/>
                        </a:lnTo>
                        <a:lnTo>
                          <a:pt x="236" y="394"/>
                        </a:lnTo>
                        <a:lnTo>
                          <a:pt x="228" y="394"/>
                        </a:lnTo>
                        <a:lnTo>
                          <a:pt x="220" y="394"/>
                        </a:lnTo>
                        <a:lnTo>
                          <a:pt x="228" y="390"/>
                        </a:lnTo>
                        <a:lnTo>
                          <a:pt x="234" y="384"/>
                        </a:lnTo>
                        <a:lnTo>
                          <a:pt x="242" y="379"/>
                        </a:lnTo>
                        <a:lnTo>
                          <a:pt x="250" y="374"/>
                        </a:lnTo>
                        <a:lnTo>
                          <a:pt x="257" y="369"/>
                        </a:lnTo>
                        <a:lnTo>
                          <a:pt x="265" y="365"/>
                        </a:lnTo>
                        <a:lnTo>
                          <a:pt x="272" y="359"/>
                        </a:lnTo>
                        <a:lnTo>
                          <a:pt x="280" y="355"/>
                        </a:lnTo>
                        <a:lnTo>
                          <a:pt x="288" y="350"/>
                        </a:lnTo>
                        <a:lnTo>
                          <a:pt x="295" y="344"/>
                        </a:lnTo>
                        <a:lnTo>
                          <a:pt x="303" y="340"/>
                        </a:lnTo>
                        <a:lnTo>
                          <a:pt x="311" y="335"/>
                        </a:lnTo>
                        <a:lnTo>
                          <a:pt x="317" y="331"/>
                        </a:lnTo>
                        <a:lnTo>
                          <a:pt x="324" y="325"/>
                        </a:lnTo>
                        <a:lnTo>
                          <a:pt x="332" y="321"/>
                        </a:lnTo>
                        <a:lnTo>
                          <a:pt x="340" y="315"/>
                        </a:lnTo>
                        <a:lnTo>
                          <a:pt x="347" y="311"/>
                        </a:lnTo>
                        <a:lnTo>
                          <a:pt x="355" y="306"/>
                        </a:lnTo>
                        <a:lnTo>
                          <a:pt x="363" y="300"/>
                        </a:lnTo>
                        <a:lnTo>
                          <a:pt x="370" y="296"/>
                        </a:lnTo>
                        <a:lnTo>
                          <a:pt x="378" y="291"/>
                        </a:lnTo>
                        <a:lnTo>
                          <a:pt x="386" y="287"/>
                        </a:lnTo>
                        <a:lnTo>
                          <a:pt x="393" y="281"/>
                        </a:lnTo>
                        <a:lnTo>
                          <a:pt x="401" y="277"/>
                        </a:lnTo>
                        <a:lnTo>
                          <a:pt x="409" y="273"/>
                        </a:lnTo>
                        <a:lnTo>
                          <a:pt x="416" y="267"/>
                        </a:lnTo>
                        <a:lnTo>
                          <a:pt x="424" y="262"/>
                        </a:lnTo>
                        <a:lnTo>
                          <a:pt x="432" y="258"/>
                        </a:lnTo>
                        <a:lnTo>
                          <a:pt x="439" y="252"/>
                        </a:lnTo>
                        <a:lnTo>
                          <a:pt x="447" y="248"/>
                        </a:lnTo>
                        <a:lnTo>
                          <a:pt x="455" y="243"/>
                        </a:lnTo>
                        <a:lnTo>
                          <a:pt x="462" y="239"/>
                        </a:lnTo>
                        <a:lnTo>
                          <a:pt x="470" y="233"/>
                        </a:lnTo>
                        <a:lnTo>
                          <a:pt x="477" y="229"/>
                        </a:lnTo>
                        <a:lnTo>
                          <a:pt x="485" y="223"/>
                        </a:lnTo>
                        <a:lnTo>
                          <a:pt x="491" y="219"/>
                        </a:lnTo>
                        <a:lnTo>
                          <a:pt x="499" y="214"/>
                        </a:lnTo>
                        <a:lnTo>
                          <a:pt x="507" y="210"/>
                        </a:lnTo>
                        <a:lnTo>
                          <a:pt x="514" y="204"/>
                        </a:lnTo>
                        <a:lnTo>
                          <a:pt x="522" y="200"/>
                        </a:lnTo>
                        <a:lnTo>
                          <a:pt x="529" y="195"/>
                        </a:lnTo>
                        <a:lnTo>
                          <a:pt x="537" y="189"/>
                        </a:lnTo>
                        <a:lnTo>
                          <a:pt x="545" y="185"/>
                        </a:lnTo>
                        <a:lnTo>
                          <a:pt x="552" y="181"/>
                        </a:lnTo>
                        <a:lnTo>
                          <a:pt x="560" y="175"/>
                        </a:lnTo>
                        <a:lnTo>
                          <a:pt x="568" y="170"/>
                        </a:lnTo>
                        <a:lnTo>
                          <a:pt x="575" y="166"/>
                        </a:lnTo>
                        <a:lnTo>
                          <a:pt x="583" y="162"/>
                        </a:lnTo>
                        <a:lnTo>
                          <a:pt x="591" y="156"/>
                        </a:lnTo>
                        <a:lnTo>
                          <a:pt x="598" y="151"/>
                        </a:lnTo>
                        <a:lnTo>
                          <a:pt x="606" y="147"/>
                        </a:lnTo>
                        <a:lnTo>
                          <a:pt x="614" y="142"/>
                        </a:lnTo>
                        <a:lnTo>
                          <a:pt x="621" y="137"/>
                        </a:lnTo>
                        <a:lnTo>
                          <a:pt x="629" y="133"/>
                        </a:lnTo>
                        <a:lnTo>
                          <a:pt x="637" y="127"/>
                        </a:lnTo>
                        <a:lnTo>
                          <a:pt x="644" y="123"/>
                        </a:lnTo>
                        <a:lnTo>
                          <a:pt x="652" y="118"/>
                        </a:lnTo>
                        <a:lnTo>
                          <a:pt x="659" y="114"/>
                        </a:lnTo>
                        <a:lnTo>
                          <a:pt x="667" y="108"/>
                        </a:lnTo>
                        <a:lnTo>
                          <a:pt x="675" y="104"/>
                        </a:lnTo>
                        <a:lnTo>
                          <a:pt x="682" y="99"/>
                        </a:lnTo>
                        <a:lnTo>
                          <a:pt x="690" y="94"/>
                        </a:lnTo>
                        <a:lnTo>
                          <a:pt x="698" y="90"/>
                        </a:lnTo>
                        <a:lnTo>
                          <a:pt x="705" y="86"/>
                        </a:lnTo>
                        <a:lnTo>
                          <a:pt x="713" y="90"/>
                        </a:lnTo>
                        <a:lnTo>
                          <a:pt x="722" y="96"/>
                        </a:lnTo>
                        <a:lnTo>
                          <a:pt x="730" y="101"/>
                        </a:lnTo>
                        <a:lnTo>
                          <a:pt x="739" y="107"/>
                        </a:lnTo>
                        <a:lnTo>
                          <a:pt x="747" y="112"/>
                        </a:lnTo>
                        <a:lnTo>
                          <a:pt x="754" y="118"/>
                        </a:lnTo>
                        <a:lnTo>
                          <a:pt x="762" y="122"/>
                        </a:lnTo>
                        <a:lnTo>
                          <a:pt x="770" y="127"/>
                        </a:lnTo>
                        <a:lnTo>
                          <a:pt x="777" y="131"/>
                        </a:lnTo>
                        <a:lnTo>
                          <a:pt x="783" y="136"/>
                        </a:lnTo>
                        <a:lnTo>
                          <a:pt x="791" y="140"/>
                        </a:lnTo>
                        <a:lnTo>
                          <a:pt x="799" y="145"/>
                        </a:lnTo>
                        <a:lnTo>
                          <a:pt x="805" y="149"/>
                        </a:lnTo>
                        <a:lnTo>
                          <a:pt x="811" y="153"/>
                        </a:lnTo>
                        <a:lnTo>
                          <a:pt x="819" y="158"/>
                        </a:lnTo>
                        <a:lnTo>
                          <a:pt x="825" y="162"/>
                        </a:lnTo>
                        <a:lnTo>
                          <a:pt x="831" y="166"/>
                        </a:lnTo>
                        <a:lnTo>
                          <a:pt x="837" y="170"/>
                        </a:lnTo>
                        <a:lnTo>
                          <a:pt x="843" y="173"/>
                        </a:lnTo>
                        <a:lnTo>
                          <a:pt x="849" y="177"/>
                        </a:lnTo>
                        <a:lnTo>
                          <a:pt x="855" y="181"/>
                        </a:lnTo>
                        <a:lnTo>
                          <a:pt x="861" y="185"/>
                        </a:lnTo>
                        <a:lnTo>
                          <a:pt x="868" y="188"/>
                        </a:lnTo>
                        <a:lnTo>
                          <a:pt x="874" y="192"/>
                        </a:lnTo>
                        <a:lnTo>
                          <a:pt x="880" y="196"/>
                        </a:lnTo>
                        <a:lnTo>
                          <a:pt x="886" y="199"/>
                        </a:lnTo>
                        <a:lnTo>
                          <a:pt x="890" y="203"/>
                        </a:lnTo>
                        <a:lnTo>
                          <a:pt x="897" y="207"/>
                        </a:lnTo>
                        <a:lnTo>
                          <a:pt x="903" y="210"/>
                        </a:lnTo>
                        <a:lnTo>
                          <a:pt x="909" y="214"/>
                        </a:lnTo>
                        <a:lnTo>
                          <a:pt x="915" y="217"/>
                        </a:lnTo>
                        <a:lnTo>
                          <a:pt x="921" y="221"/>
                        </a:lnTo>
                        <a:lnTo>
                          <a:pt x="927" y="225"/>
                        </a:lnTo>
                        <a:lnTo>
                          <a:pt x="932" y="228"/>
                        </a:lnTo>
                        <a:lnTo>
                          <a:pt x="938" y="232"/>
                        </a:lnTo>
                        <a:lnTo>
                          <a:pt x="944" y="234"/>
                        </a:lnTo>
                        <a:lnTo>
                          <a:pt x="949" y="239"/>
                        </a:lnTo>
                        <a:lnTo>
                          <a:pt x="955" y="241"/>
                        </a:lnTo>
                        <a:lnTo>
                          <a:pt x="961" y="245"/>
                        </a:lnTo>
                        <a:lnTo>
                          <a:pt x="967" y="250"/>
                        </a:lnTo>
                        <a:lnTo>
                          <a:pt x="973" y="252"/>
                        </a:lnTo>
                        <a:lnTo>
                          <a:pt x="979" y="256"/>
                        </a:lnTo>
                        <a:lnTo>
                          <a:pt x="985" y="261"/>
                        </a:lnTo>
                        <a:lnTo>
                          <a:pt x="991" y="263"/>
                        </a:lnTo>
                        <a:lnTo>
                          <a:pt x="998" y="267"/>
                        </a:lnTo>
                        <a:lnTo>
                          <a:pt x="1004" y="271"/>
                        </a:lnTo>
                        <a:lnTo>
                          <a:pt x="1010" y="276"/>
                        </a:lnTo>
                        <a:lnTo>
                          <a:pt x="1017" y="280"/>
                        </a:lnTo>
                        <a:lnTo>
                          <a:pt x="1024" y="282"/>
                        </a:lnTo>
                        <a:lnTo>
                          <a:pt x="1031" y="288"/>
                        </a:lnTo>
                        <a:lnTo>
                          <a:pt x="1037" y="291"/>
                        </a:lnTo>
                        <a:lnTo>
                          <a:pt x="1045" y="296"/>
                        </a:lnTo>
                        <a:lnTo>
                          <a:pt x="1053" y="300"/>
                        </a:lnTo>
                        <a:lnTo>
                          <a:pt x="1060" y="304"/>
                        </a:lnTo>
                        <a:lnTo>
                          <a:pt x="1068" y="309"/>
                        </a:lnTo>
                        <a:lnTo>
                          <a:pt x="1076" y="314"/>
                        </a:lnTo>
                        <a:lnTo>
                          <a:pt x="1083" y="318"/>
                        </a:lnTo>
                        <a:lnTo>
                          <a:pt x="1092" y="322"/>
                        </a:lnTo>
                        <a:lnTo>
                          <a:pt x="1100" y="328"/>
                        </a:lnTo>
                        <a:lnTo>
                          <a:pt x="1109" y="333"/>
                        </a:lnTo>
                        <a:lnTo>
                          <a:pt x="1117" y="339"/>
                        </a:lnTo>
                        <a:lnTo>
                          <a:pt x="1126" y="344"/>
                        </a:lnTo>
                        <a:lnTo>
                          <a:pt x="1135" y="350"/>
                        </a:lnTo>
                        <a:lnTo>
                          <a:pt x="1144" y="355"/>
                        </a:lnTo>
                        <a:lnTo>
                          <a:pt x="1140" y="355"/>
                        </a:lnTo>
                        <a:lnTo>
                          <a:pt x="1134" y="355"/>
                        </a:lnTo>
                        <a:lnTo>
                          <a:pt x="1129" y="355"/>
                        </a:lnTo>
                        <a:lnTo>
                          <a:pt x="1123" y="355"/>
                        </a:lnTo>
                        <a:lnTo>
                          <a:pt x="1118" y="355"/>
                        </a:lnTo>
                        <a:lnTo>
                          <a:pt x="1112" y="355"/>
                        </a:lnTo>
                        <a:lnTo>
                          <a:pt x="1106" y="355"/>
                        </a:lnTo>
                        <a:lnTo>
                          <a:pt x="1102" y="357"/>
                        </a:lnTo>
                        <a:lnTo>
                          <a:pt x="1095" y="357"/>
                        </a:lnTo>
                        <a:lnTo>
                          <a:pt x="1089" y="357"/>
                        </a:lnTo>
                        <a:lnTo>
                          <a:pt x="1083" y="357"/>
                        </a:lnTo>
                        <a:lnTo>
                          <a:pt x="1077" y="357"/>
                        </a:lnTo>
                        <a:lnTo>
                          <a:pt x="1071" y="357"/>
                        </a:lnTo>
                        <a:lnTo>
                          <a:pt x="1065" y="357"/>
                        </a:lnTo>
                        <a:lnTo>
                          <a:pt x="1057" y="357"/>
                        </a:lnTo>
                        <a:lnTo>
                          <a:pt x="1053" y="357"/>
                        </a:lnTo>
                        <a:lnTo>
                          <a:pt x="1045" y="357"/>
                        </a:lnTo>
                        <a:lnTo>
                          <a:pt x="1039" y="357"/>
                        </a:lnTo>
                        <a:lnTo>
                          <a:pt x="1033" y="357"/>
                        </a:lnTo>
                        <a:lnTo>
                          <a:pt x="1027" y="357"/>
                        </a:lnTo>
                        <a:lnTo>
                          <a:pt x="1019" y="357"/>
                        </a:lnTo>
                        <a:lnTo>
                          <a:pt x="1013" y="357"/>
                        </a:lnTo>
                        <a:lnTo>
                          <a:pt x="1007" y="357"/>
                        </a:lnTo>
                        <a:lnTo>
                          <a:pt x="1001" y="357"/>
                        </a:lnTo>
                        <a:lnTo>
                          <a:pt x="993" y="357"/>
                        </a:lnTo>
                        <a:lnTo>
                          <a:pt x="987" y="357"/>
                        </a:lnTo>
                        <a:lnTo>
                          <a:pt x="979" y="357"/>
                        </a:lnTo>
                        <a:lnTo>
                          <a:pt x="972" y="357"/>
                        </a:lnTo>
                        <a:lnTo>
                          <a:pt x="965" y="357"/>
                        </a:lnTo>
                        <a:lnTo>
                          <a:pt x="958" y="357"/>
                        </a:lnTo>
                        <a:lnTo>
                          <a:pt x="952" y="357"/>
                        </a:lnTo>
                        <a:lnTo>
                          <a:pt x="946" y="358"/>
                        </a:lnTo>
                        <a:lnTo>
                          <a:pt x="938" y="358"/>
                        </a:lnTo>
                        <a:lnTo>
                          <a:pt x="932" y="358"/>
                        </a:lnTo>
                        <a:lnTo>
                          <a:pt x="924" y="358"/>
                        </a:lnTo>
                        <a:lnTo>
                          <a:pt x="918" y="358"/>
                        </a:lnTo>
                        <a:lnTo>
                          <a:pt x="910" y="358"/>
                        </a:lnTo>
                        <a:lnTo>
                          <a:pt x="904" y="358"/>
                        </a:lnTo>
                        <a:lnTo>
                          <a:pt x="897" y="358"/>
                        </a:lnTo>
                        <a:lnTo>
                          <a:pt x="890" y="359"/>
                        </a:lnTo>
                        <a:lnTo>
                          <a:pt x="884" y="359"/>
                        </a:lnTo>
                        <a:lnTo>
                          <a:pt x="878" y="359"/>
                        </a:lnTo>
                        <a:lnTo>
                          <a:pt x="871" y="359"/>
                        </a:lnTo>
                        <a:lnTo>
                          <a:pt x="864" y="359"/>
                        </a:lnTo>
                        <a:lnTo>
                          <a:pt x="858" y="359"/>
                        </a:lnTo>
                        <a:lnTo>
                          <a:pt x="852" y="361"/>
                        </a:lnTo>
                        <a:lnTo>
                          <a:pt x="846" y="361"/>
                        </a:lnTo>
                        <a:lnTo>
                          <a:pt x="842" y="362"/>
                        </a:lnTo>
                        <a:lnTo>
                          <a:pt x="835" y="362"/>
                        </a:lnTo>
                        <a:lnTo>
                          <a:pt x="828" y="362"/>
                        </a:lnTo>
                        <a:lnTo>
                          <a:pt x="823" y="362"/>
                        </a:lnTo>
                        <a:lnTo>
                          <a:pt x="817" y="363"/>
                        </a:lnTo>
                        <a:lnTo>
                          <a:pt x="811" y="363"/>
                        </a:lnTo>
                        <a:lnTo>
                          <a:pt x="805" y="365"/>
                        </a:lnTo>
                        <a:lnTo>
                          <a:pt x="800" y="365"/>
                        </a:lnTo>
                        <a:lnTo>
                          <a:pt x="796" y="366"/>
                        </a:lnTo>
                        <a:lnTo>
                          <a:pt x="790" y="366"/>
                        </a:lnTo>
                        <a:lnTo>
                          <a:pt x="785" y="368"/>
                        </a:lnTo>
                        <a:lnTo>
                          <a:pt x="780" y="369"/>
                        </a:lnTo>
                        <a:lnTo>
                          <a:pt x="776" y="369"/>
                        </a:lnTo>
                        <a:lnTo>
                          <a:pt x="770" y="370"/>
                        </a:lnTo>
                        <a:lnTo>
                          <a:pt x="767" y="372"/>
                        </a:lnTo>
                        <a:lnTo>
                          <a:pt x="762" y="372"/>
                        </a:lnTo>
                        <a:lnTo>
                          <a:pt x="759" y="374"/>
                        </a:lnTo>
                        <a:lnTo>
                          <a:pt x="1054" y="368"/>
                        </a:lnTo>
                        <a:lnTo>
                          <a:pt x="872" y="399"/>
                        </a:lnTo>
                        <a:lnTo>
                          <a:pt x="874" y="399"/>
                        </a:lnTo>
                        <a:lnTo>
                          <a:pt x="877" y="399"/>
                        </a:lnTo>
                        <a:lnTo>
                          <a:pt x="880" y="399"/>
                        </a:lnTo>
                        <a:lnTo>
                          <a:pt x="884" y="399"/>
                        </a:lnTo>
                        <a:lnTo>
                          <a:pt x="890" y="399"/>
                        </a:lnTo>
                        <a:lnTo>
                          <a:pt x="892" y="399"/>
                        </a:lnTo>
                        <a:lnTo>
                          <a:pt x="895" y="399"/>
                        </a:lnTo>
                        <a:lnTo>
                          <a:pt x="900" y="399"/>
                        </a:lnTo>
                        <a:lnTo>
                          <a:pt x="903" y="399"/>
                        </a:lnTo>
                        <a:lnTo>
                          <a:pt x="906" y="399"/>
                        </a:lnTo>
                        <a:lnTo>
                          <a:pt x="910" y="399"/>
                        </a:lnTo>
                        <a:lnTo>
                          <a:pt x="913" y="399"/>
                        </a:lnTo>
                        <a:lnTo>
                          <a:pt x="918" y="399"/>
                        </a:lnTo>
                        <a:lnTo>
                          <a:pt x="921" y="399"/>
                        </a:lnTo>
                        <a:lnTo>
                          <a:pt x="926" y="399"/>
                        </a:lnTo>
                        <a:lnTo>
                          <a:pt x="930" y="399"/>
                        </a:lnTo>
                        <a:lnTo>
                          <a:pt x="935" y="399"/>
                        </a:lnTo>
                        <a:lnTo>
                          <a:pt x="938" y="399"/>
                        </a:lnTo>
                        <a:lnTo>
                          <a:pt x="944" y="399"/>
                        </a:lnTo>
                        <a:lnTo>
                          <a:pt x="949" y="399"/>
                        </a:lnTo>
                        <a:lnTo>
                          <a:pt x="953" y="399"/>
                        </a:lnTo>
                        <a:lnTo>
                          <a:pt x="958" y="399"/>
                        </a:lnTo>
                        <a:lnTo>
                          <a:pt x="962" y="399"/>
                        </a:lnTo>
                        <a:lnTo>
                          <a:pt x="967" y="399"/>
                        </a:lnTo>
                        <a:lnTo>
                          <a:pt x="972" y="399"/>
                        </a:lnTo>
                        <a:lnTo>
                          <a:pt x="976" y="399"/>
                        </a:lnTo>
                        <a:lnTo>
                          <a:pt x="981" y="399"/>
                        </a:lnTo>
                        <a:lnTo>
                          <a:pt x="985" y="399"/>
                        </a:lnTo>
                        <a:lnTo>
                          <a:pt x="990" y="399"/>
                        </a:lnTo>
                        <a:lnTo>
                          <a:pt x="994" y="399"/>
                        </a:lnTo>
                        <a:lnTo>
                          <a:pt x="999" y="399"/>
                        </a:lnTo>
                        <a:lnTo>
                          <a:pt x="1004" y="399"/>
                        </a:lnTo>
                        <a:lnTo>
                          <a:pt x="1008" y="399"/>
                        </a:lnTo>
                        <a:lnTo>
                          <a:pt x="1011" y="399"/>
                        </a:lnTo>
                        <a:lnTo>
                          <a:pt x="1016" y="399"/>
                        </a:lnTo>
                        <a:lnTo>
                          <a:pt x="1020" y="399"/>
                        </a:lnTo>
                        <a:lnTo>
                          <a:pt x="1025" y="399"/>
                        </a:lnTo>
                        <a:lnTo>
                          <a:pt x="1028" y="399"/>
                        </a:lnTo>
                        <a:lnTo>
                          <a:pt x="1033" y="399"/>
                        </a:lnTo>
                        <a:lnTo>
                          <a:pt x="1036" y="399"/>
                        </a:lnTo>
                        <a:lnTo>
                          <a:pt x="1040" y="399"/>
                        </a:lnTo>
                        <a:lnTo>
                          <a:pt x="1046" y="399"/>
                        </a:lnTo>
                        <a:lnTo>
                          <a:pt x="1053" y="399"/>
                        </a:lnTo>
                        <a:lnTo>
                          <a:pt x="1057" y="399"/>
                        </a:lnTo>
                        <a:lnTo>
                          <a:pt x="1063" y="399"/>
                        </a:lnTo>
                        <a:lnTo>
                          <a:pt x="1066" y="399"/>
                        </a:lnTo>
                        <a:lnTo>
                          <a:pt x="1069" y="399"/>
                        </a:lnTo>
                        <a:lnTo>
                          <a:pt x="1071" y="399"/>
                        </a:lnTo>
                        <a:lnTo>
                          <a:pt x="1068" y="401"/>
                        </a:lnTo>
                        <a:lnTo>
                          <a:pt x="1063" y="402"/>
                        </a:lnTo>
                        <a:lnTo>
                          <a:pt x="1060" y="403"/>
                        </a:lnTo>
                        <a:lnTo>
                          <a:pt x="1056" y="406"/>
                        </a:lnTo>
                        <a:lnTo>
                          <a:pt x="1050" y="406"/>
                        </a:lnTo>
                        <a:lnTo>
                          <a:pt x="1043" y="406"/>
                        </a:lnTo>
                        <a:lnTo>
                          <a:pt x="1037" y="407"/>
                        </a:lnTo>
                        <a:lnTo>
                          <a:pt x="1031" y="409"/>
                        </a:lnTo>
                        <a:lnTo>
                          <a:pt x="1024" y="409"/>
                        </a:lnTo>
                        <a:lnTo>
                          <a:pt x="1017" y="409"/>
                        </a:lnTo>
                        <a:lnTo>
                          <a:pt x="1011" y="410"/>
                        </a:lnTo>
                        <a:lnTo>
                          <a:pt x="1005" y="412"/>
                        </a:lnTo>
                        <a:lnTo>
                          <a:pt x="999" y="412"/>
                        </a:lnTo>
                        <a:lnTo>
                          <a:pt x="993" y="412"/>
                        </a:lnTo>
                        <a:lnTo>
                          <a:pt x="987" y="412"/>
                        </a:lnTo>
                        <a:lnTo>
                          <a:pt x="979" y="413"/>
                        </a:lnTo>
                        <a:lnTo>
                          <a:pt x="973" y="414"/>
                        </a:lnTo>
                        <a:lnTo>
                          <a:pt x="967" y="414"/>
                        </a:lnTo>
                        <a:lnTo>
                          <a:pt x="961" y="416"/>
                        </a:lnTo>
                        <a:lnTo>
                          <a:pt x="955" y="417"/>
                        </a:lnTo>
                        <a:lnTo>
                          <a:pt x="953" y="418"/>
                        </a:lnTo>
                        <a:lnTo>
                          <a:pt x="952" y="420"/>
                        </a:lnTo>
                        <a:lnTo>
                          <a:pt x="947" y="421"/>
                        </a:lnTo>
                        <a:lnTo>
                          <a:pt x="944" y="424"/>
                        </a:lnTo>
                        <a:lnTo>
                          <a:pt x="938" y="424"/>
                        </a:lnTo>
                        <a:lnTo>
                          <a:pt x="932" y="427"/>
                        </a:lnTo>
                        <a:lnTo>
                          <a:pt x="926" y="427"/>
                        </a:lnTo>
                        <a:lnTo>
                          <a:pt x="920" y="429"/>
                        </a:lnTo>
                        <a:lnTo>
                          <a:pt x="915" y="429"/>
                        </a:lnTo>
                        <a:lnTo>
                          <a:pt x="910" y="429"/>
                        </a:lnTo>
                        <a:lnTo>
                          <a:pt x="907" y="429"/>
                        </a:lnTo>
                        <a:lnTo>
                          <a:pt x="903" y="431"/>
                        </a:lnTo>
                        <a:lnTo>
                          <a:pt x="898" y="432"/>
                        </a:lnTo>
                        <a:lnTo>
                          <a:pt x="894" y="432"/>
                        </a:lnTo>
                        <a:lnTo>
                          <a:pt x="890" y="433"/>
                        </a:lnTo>
                        <a:lnTo>
                          <a:pt x="886" y="433"/>
                        </a:lnTo>
                        <a:lnTo>
                          <a:pt x="881" y="433"/>
                        </a:lnTo>
                        <a:lnTo>
                          <a:pt x="877" y="435"/>
                        </a:lnTo>
                        <a:lnTo>
                          <a:pt x="872" y="435"/>
                        </a:lnTo>
                        <a:lnTo>
                          <a:pt x="868" y="436"/>
                        </a:lnTo>
                        <a:lnTo>
                          <a:pt x="863" y="436"/>
                        </a:lnTo>
                        <a:lnTo>
                          <a:pt x="858" y="436"/>
                        </a:lnTo>
                        <a:lnTo>
                          <a:pt x="854" y="438"/>
                        </a:lnTo>
                        <a:lnTo>
                          <a:pt x="849" y="439"/>
                        </a:lnTo>
                        <a:lnTo>
                          <a:pt x="845" y="439"/>
                        </a:lnTo>
                        <a:lnTo>
                          <a:pt x="840" y="439"/>
                        </a:lnTo>
                        <a:lnTo>
                          <a:pt x="835" y="439"/>
                        </a:lnTo>
                        <a:lnTo>
                          <a:pt x="831" y="440"/>
                        </a:lnTo>
                        <a:lnTo>
                          <a:pt x="825" y="440"/>
                        </a:lnTo>
                        <a:lnTo>
                          <a:pt x="822" y="440"/>
                        </a:lnTo>
                        <a:lnTo>
                          <a:pt x="816" y="442"/>
                        </a:lnTo>
                        <a:lnTo>
                          <a:pt x="812" y="442"/>
                        </a:lnTo>
                        <a:lnTo>
                          <a:pt x="808" y="442"/>
                        </a:lnTo>
                        <a:lnTo>
                          <a:pt x="803" y="442"/>
                        </a:lnTo>
                        <a:lnTo>
                          <a:pt x="799" y="443"/>
                        </a:lnTo>
                        <a:lnTo>
                          <a:pt x="794" y="443"/>
                        </a:lnTo>
                        <a:lnTo>
                          <a:pt x="791" y="443"/>
                        </a:lnTo>
                        <a:lnTo>
                          <a:pt x="786" y="444"/>
                        </a:lnTo>
                        <a:lnTo>
                          <a:pt x="783" y="444"/>
                        </a:lnTo>
                        <a:lnTo>
                          <a:pt x="780" y="446"/>
                        </a:lnTo>
                        <a:lnTo>
                          <a:pt x="776" y="446"/>
                        </a:lnTo>
                        <a:lnTo>
                          <a:pt x="773" y="446"/>
                        </a:lnTo>
                        <a:lnTo>
                          <a:pt x="770" y="446"/>
                        </a:lnTo>
                        <a:lnTo>
                          <a:pt x="767" y="446"/>
                        </a:lnTo>
                        <a:lnTo>
                          <a:pt x="760" y="447"/>
                        </a:lnTo>
                        <a:lnTo>
                          <a:pt x="756" y="449"/>
                        </a:lnTo>
                        <a:lnTo>
                          <a:pt x="751" y="449"/>
                        </a:lnTo>
                        <a:lnTo>
                          <a:pt x="750" y="449"/>
                        </a:lnTo>
                        <a:lnTo>
                          <a:pt x="747" y="450"/>
                        </a:lnTo>
                        <a:lnTo>
                          <a:pt x="747" y="451"/>
                        </a:lnTo>
                        <a:lnTo>
                          <a:pt x="1121" y="439"/>
                        </a:lnTo>
                        <a:lnTo>
                          <a:pt x="1117" y="442"/>
                        </a:lnTo>
                        <a:lnTo>
                          <a:pt x="1112" y="443"/>
                        </a:lnTo>
                        <a:lnTo>
                          <a:pt x="1106" y="444"/>
                        </a:lnTo>
                        <a:lnTo>
                          <a:pt x="1102" y="446"/>
                        </a:lnTo>
                        <a:lnTo>
                          <a:pt x="1095" y="449"/>
                        </a:lnTo>
                        <a:lnTo>
                          <a:pt x="1091" y="450"/>
                        </a:lnTo>
                        <a:lnTo>
                          <a:pt x="1086" y="451"/>
                        </a:lnTo>
                        <a:lnTo>
                          <a:pt x="1082" y="453"/>
                        </a:lnTo>
                        <a:lnTo>
                          <a:pt x="1458" y="453"/>
                        </a:lnTo>
                        <a:lnTo>
                          <a:pt x="1452" y="450"/>
                        </a:lnTo>
                        <a:lnTo>
                          <a:pt x="1447" y="446"/>
                        </a:lnTo>
                        <a:lnTo>
                          <a:pt x="1441" y="443"/>
                        </a:lnTo>
                        <a:lnTo>
                          <a:pt x="1435" y="440"/>
                        </a:lnTo>
                        <a:lnTo>
                          <a:pt x="1432" y="438"/>
                        </a:lnTo>
                        <a:lnTo>
                          <a:pt x="1429" y="436"/>
                        </a:lnTo>
                        <a:lnTo>
                          <a:pt x="1424" y="433"/>
                        </a:lnTo>
                        <a:lnTo>
                          <a:pt x="1421" y="432"/>
                        </a:lnTo>
                        <a:lnTo>
                          <a:pt x="1418" y="429"/>
                        </a:lnTo>
                        <a:lnTo>
                          <a:pt x="1414" y="428"/>
                        </a:lnTo>
                        <a:lnTo>
                          <a:pt x="1411" y="427"/>
                        </a:lnTo>
                        <a:lnTo>
                          <a:pt x="1407" y="424"/>
                        </a:lnTo>
                        <a:lnTo>
                          <a:pt x="1403" y="421"/>
                        </a:lnTo>
                        <a:lnTo>
                          <a:pt x="1398" y="420"/>
                        </a:lnTo>
                        <a:lnTo>
                          <a:pt x="1394" y="417"/>
                        </a:lnTo>
                        <a:lnTo>
                          <a:pt x="1391" y="414"/>
                        </a:lnTo>
                        <a:lnTo>
                          <a:pt x="1386" y="412"/>
                        </a:lnTo>
                        <a:lnTo>
                          <a:pt x="1383" y="410"/>
                        </a:lnTo>
                        <a:lnTo>
                          <a:pt x="1378" y="407"/>
                        </a:lnTo>
                        <a:lnTo>
                          <a:pt x="1374" y="406"/>
                        </a:lnTo>
                        <a:lnTo>
                          <a:pt x="1371" y="403"/>
                        </a:lnTo>
                        <a:lnTo>
                          <a:pt x="1366" y="401"/>
                        </a:lnTo>
                        <a:lnTo>
                          <a:pt x="1362" y="399"/>
                        </a:lnTo>
                        <a:lnTo>
                          <a:pt x="1357" y="396"/>
                        </a:lnTo>
                        <a:lnTo>
                          <a:pt x="1354" y="394"/>
                        </a:lnTo>
                        <a:lnTo>
                          <a:pt x="1349" y="392"/>
                        </a:lnTo>
                        <a:lnTo>
                          <a:pt x="1345" y="390"/>
                        </a:lnTo>
                        <a:lnTo>
                          <a:pt x="1342" y="387"/>
                        </a:lnTo>
                        <a:lnTo>
                          <a:pt x="1337" y="384"/>
                        </a:lnTo>
                        <a:lnTo>
                          <a:pt x="1333" y="383"/>
                        </a:lnTo>
                        <a:lnTo>
                          <a:pt x="1328" y="380"/>
                        </a:lnTo>
                        <a:lnTo>
                          <a:pt x="1325" y="377"/>
                        </a:lnTo>
                        <a:lnTo>
                          <a:pt x="1320" y="374"/>
                        </a:lnTo>
                        <a:lnTo>
                          <a:pt x="1316" y="372"/>
                        </a:lnTo>
                        <a:lnTo>
                          <a:pt x="1311" y="369"/>
                        </a:lnTo>
                        <a:lnTo>
                          <a:pt x="1308" y="368"/>
                        </a:lnTo>
                        <a:lnTo>
                          <a:pt x="1303" y="365"/>
                        </a:lnTo>
                        <a:lnTo>
                          <a:pt x="1299" y="362"/>
                        </a:lnTo>
                        <a:lnTo>
                          <a:pt x="1294" y="359"/>
                        </a:lnTo>
                        <a:lnTo>
                          <a:pt x="1291" y="357"/>
                        </a:lnTo>
                        <a:lnTo>
                          <a:pt x="1288" y="354"/>
                        </a:lnTo>
                        <a:lnTo>
                          <a:pt x="1284" y="352"/>
                        </a:lnTo>
                        <a:lnTo>
                          <a:pt x="1281" y="350"/>
                        </a:lnTo>
                        <a:lnTo>
                          <a:pt x="1277" y="348"/>
                        </a:lnTo>
                        <a:lnTo>
                          <a:pt x="1273" y="346"/>
                        </a:lnTo>
                        <a:lnTo>
                          <a:pt x="1270" y="343"/>
                        </a:lnTo>
                        <a:lnTo>
                          <a:pt x="1265" y="340"/>
                        </a:lnTo>
                        <a:lnTo>
                          <a:pt x="1262" y="339"/>
                        </a:lnTo>
                        <a:lnTo>
                          <a:pt x="1256" y="333"/>
                        </a:lnTo>
                        <a:lnTo>
                          <a:pt x="1250" y="331"/>
                        </a:lnTo>
                        <a:lnTo>
                          <a:pt x="1244" y="325"/>
                        </a:lnTo>
                        <a:lnTo>
                          <a:pt x="1239" y="321"/>
                        </a:lnTo>
                        <a:lnTo>
                          <a:pt x="1235" y="318"/>
                        </a:lnTo>
                        <a:lnTo>
                          <a:pt x="1230" y="315"/>
                        </a:lnTo>
                        <a:lnTo>
                          <a:pt x="1233" y="315"/>
                        </a:lnTo>
                        <a:lnTo>
                          <a:pt x="1236" y="315"/>
                        </a:lnTo>
                        <a:lnTo>
                          <a:pt x="1238" y="318"/>
                        </a:lnTo>
                        <a:lnTo>
                          <a:pt x="1241" y="320"/>
                        </a:lnTo>
                        <a:lnTo>
                          <a:pt x="1466" y="449"/>
                        </a:lnTo>
                        <a:lnTo>
                          <a:pt x="1464" y="447"/>
                        </a:lnTo>
                        <a:lnTo>
                          <a:pt x="1463" y="446"/>
                        </a:lnTo>
                        <a:lnTo>
                          <a:pt x="1459" y="443"/>
                        </a:lnTo>
                        <a:lnTo>
                          <a:pt x="1455" y="440"/>
                        </a:lnTo>
                        <a:lnTo>
                          <a:pt x="1450" y="436"/>
                        </a:lnTo>
                        <a:lnTo>
                          <a:pt x="1446" y="432"/>
                        </a:lnTo>
                        <a:lnTo>
                          <a:pt x="1440" y="428"/>
                        </a:lnTo>
                        <a:lnTo>
                          <a:pt x="1433" y="424"/>
                        </a:lnTo>
                        <a:lnTo>
                          <a:pt x="1427" y="418"/>
                        </a:lnTo>
                        <a:lnTo>
                          <a:pt x="1421" y="414"/>
                        </a:lnTo>
                        <a:lnTo>
                          <a:pt x="1417" y="409"/>
                        </a:lnTo>
                        <a:lnTo>
                          <a:pt x="1412" y="406"/>
                        </a:lnTo>
                        <a:lnTo>
                          <a:pt x="1407" y="402"/>
                        </a:lnTo>
                        <a:lnTo>
                          <a:pt x="1404" y="401"/>
                        </a:lnTo>
                        <a:lnTo>
                          <a:pt x="1403" y="399"/>
                        </a:lnTo>
                        <a:lnTo>
                          <a:pt x="1397" y="394"/>
                        </a:lnTo>
                        <a:lnTo>
                          <a:pt x="1391" y="390"/>
                        </a:lnTo>
                        <a:lnTo>
                          <a:pt x="1385" y="384"/>
                        </a:lnTo>
                        <a:lnTo>
                          <a:pt x="1378" y="381"/>
                        </a:lnTo>
                        <a:lnTo>
                          <a:pt x="1375" y="377"/>
                        </a:lnTo>
                        <a:lnTo>
                          <a:pt x="1372" y="376"/>
                        </a:lnTo>
                        <a:lnTo>
                          <a:pt x="1368" y="373"/>
                        </a:lnTo>
                        <a:lnTo>
                          <a:pt x="1365" y="372"/>
                        </a:lnTo>
                        <a:lnTo>
                          <a:pt x="1362" y="369"/>
                        </a:lnTo>
                        <a:lnTo>
                          <a:pt x="1357" y="368"/>
                        </a:lnTo>
                        <a:lnTo>
                          <a:pt x="1354" y="365"/>
                        </a:lnTo>
                        <a:lnTo>
                          <a:pt x="1351" y="363"/>
                        </a:lnTo>
                        <a:lnTo>
                          <a:pt x="1346" y="361"/>
                        </a:lnTo>
                        <a:lnTo>
                          <a:pt x="1343" y="358"/>
                        </a:lnTo>
                        <a:lnTo>
                          <a:pt x="1339" y="357"/>
                        </a:lnTo>
                        <a:lnTo>
                          <a:pt x="1336" y="354"/>
                        </a:lnTo>
                        <a:lnTo>
                          <a:pt x="1331" y="351"/>
                        </a:lnTo>
                        <a:lnTo>
                          <a:pt x="1326" y="350"/>
                        </a:lnTo>
                        <a:lnTo>
                          <a:pt x="1323" y="347"/>
                        </a:lnTo>
                        <a:lnTo>
                          <a:pt x="1319" y="346"/>
                        </a:lnTo>
                        <a:lnTo>
                          <a:pt x="1316" y="343"/>
                        </a:lnTo>
                        <a:lnTo>
                          <a:pt x="1311" y="340"/>
                        </a:lnTo>
                        <a:lnTo>
                          <a:pt x="1307" y="339"/>
                        </a:lnTo>
                        <a:lnTo>
                          <a:pt x="1302" y="337"/>
                        </a:lnTo>
                        <a:lnTo>
                          <a:pt x="1297" y="335"/>
                        </a:lnTo>
                        <a:lnTo>
                          <a:pt x="1294" y="332"/>
                        </a:lnTo>
                        <a:lnTo>
                          <a:pt x="1290" y="331"/>
                        </a:lnTo>
                        <a:lnTo>
                          <a:pt x="1287" y="328"/>
                        </a:lnTo>
                        <a:lnTo>
                          <a:pt x="1281" y="326"/>
                        </a:lnTo>
                        <a:lnTo>
                          <a:pt x="1277" y="324"/>
                        </a:lnTo>
                        <a:lnTo>
                          <a:pt x="1273" y="321"/>
                        </a:lnTo>
                        <a:lnTo>
                          <a:pt x="1268" y="320"/>
                        </a:lnTo>
                        <a:lnTo>
                          <a:pt x="1264" y="318"/>
                        </a:lnTo>
                        <a:lnTo>
                          <a:pt x="1261" y="315"/>
                        </a:lnTo>
                        <a:lnTo>
                          <a:pt x="1256" y="313"/>
                        </a:lnTo>
                        <a:lnTo>
                          <a:pt x="1251" y="311"/>
                        </a:lnTo>
                        <a:lnTo>
                          <a:pt x="1247" y="309"/>
                        </a:lnTo>
                        <a:lnTo>
                          <a:pt x="1244" y="307"/>
                        </a:lnTo>
                        <a:lnTo>
                          <a:pt x="1239" y="304"/>
                        </a:lnTo>
                        <a:lnTo>
                          <a:pt x="1236" y="303"/>
                        </a:lnTo>
                        <a:lnTo>
                          <a:pt x="1232" y="302"/>
                        </a:lnTo>
                        <a:lnTo>
                          <a:pt x="1227" y="300"/>
                        </a:lnTo>
                        <a:lnTo>
                          <a:pt x="1224" y="298"/>
                        </a:lnTo>
                        <a:lnTo>
                          <a:pt x="1219" y="296"/>
                        </a:lnTo>
                        <a:lnTo>
                          <a:pt x="1216" y="293"/>
                        </a:lnTo>
                        <a:lnTo>
                          <a:pt x="1212" y="292"/>
                        </a:lnTo>
                        <a:lnTo>
                          <a:pt x="1209" y="291"/>
                        </a:lnTo>
                        <a:lnTo>
                          <a:pt x="1204" y="288"/>
                        </a:lnTo>
                        <a:lnTo>
                          <a:pt x="1201" y="287"/>
                        </a:lnTo>
                        <a:lnTo>
                          <a:pt x="1196" y="285"/>
                        </a:lnTo>
                        <a:lnTo>
                          <a:pt x="1193" y="284"/>
                        </a:lnTo>
                        <a:lnTo>
                          <a:pt x="1190" y="281"/>
                        </a:lnTo>
                        <a:lnTo>
                          <a:pt x="1186" y="280"/>
                        </a:lnTo>
                        <a:lnTo>
                          <a:pt x="1183" y="278"/>
                        </a:lnTo>
                        <a:lnTo>
                          <a:pt x="1180" y="277"/>
                        </a:lnTo>
                        <a:lnTo>
                          <a:pt x="1177" y="276"/>
                        </a:lnTo>
                        <a:lnTo>
                          <a:pt x="1170" y="273"/>
                        </a:lnTo>
                        <a:lnTo>
                          <a:pt x="1164" y="269"/>
                        </a:lnTo>
                        <a:lnTo>
                          <a:pt x="1158" y="265"/>
                        </a:lnTo>
                        <a:lnTo>
                          <a:pt x="1151" y="261"/>
                        </a:lnTo>
                        <a:lnTo>
                          <a:pt x="1143" y="256"/>
                        </a:lnTo>
                        <a:lnTo>
                          <a:pt x="1137" y="254"/>
                        </a:lnTo>
                        <a:lnTo>
                          <a:pt x="1129" y="248"/>
                        </a:lnTo>
                        <a:lnTo>
                          <a:pt x="1121" y="245"/>
                        </a:lnTo>
                        <a:lnTo>
                          <a:pt x="1114" y="241"/>
                        </a:lnTo>
                        <a:lnTo>
                          <a:pt x="1108" y="237"/>
                        </a:lnTo>
                        <a:lnTo>
                          <a:pt x="1100" y="233"/>
                        </a:lnTo>
                        <a:lnTo>
                          <a:pt x="1092" y="229"/>
                        </a:lnTo>
                        <a:lnTo>
                          <a:pt x="1085" y="225"/>
                        </a:lnTo>
                        <a:lnTo>
                          <a:pt x="1079" y="221"/>
                        </a:lnTo>
                        <a:lnTo>
                          <a:pt x="1071" y="217"/>
                        </a:lnTo>
                        <a:lnTo>
                          <a:pt x="1063" y="212"/>
                        </a:lnTo>
                        <a:lnTo>
                          <a:pt x="1057" y="208"/>
                        </a:lnTo>
                        <a:lnTo>
                          <a:pt x="1050" y="204"/>
                        </a:lnTo>
                        <a:lnTo>
                          <a:pt x="1042" y="200"/>
                        </a:lnTo>
                        <a:lnTo>
                          <a:pt x="1034" y="196"/>
                        </a:lnTo>
                        <a:lnTo>
                          <a:pt x="1027" y="192"/>
                        </a:lnTo>
                        <a:lnTo>
                          <a:pt x="1020" y="188"/>
                        </a:lnTo>
                        <a:lnTo>
                          <a:pt x="1013" y="184"/>
                        </a:lnTo>
                        <a:lnTo>
                          <a:pt x="1007" y="180"/>
                        </a:lnTo>
                        <a:lnTo>
                          <a:pt x="999" y="175"/>
                        </a:lnTo>
                        <a:lnTo>
                          <a:pt x="993" y="171"/>
                        </a:lnTo>
                        <a:lnTo>
                          <a:pt x="985" y="167"/>
                        </a:lnTo>
                        <a:lnTo>
                          <a:pt x="978" y="163"/>
                        </a:lnTo>
                        <a:lnTo>
                          <a:pt x="970" y="158"/>
                        </a:lnTo>
                        <a:lnTo>
                          <a:pt x="962" y="155"/>
                        </a:lnTo>
                        <a:lnTo>
                          <a:pt x="955" y="149"/>
                        </a:lnTo>
                        <a:lnTo>
                          <a:pt x="949" y="145"/>
                        </a:lnTo>
                        <a:lnTo>
                          <a:pt x="941" y="141"/>
                        </a:lnTo>
                        <a:lnTo>
                          <a:pt x="935" y="137"/>
                        </a:lnTo>
                        <a:lnTo>
                          <a:pt x="927" y="133"/>
                        </a:lnTo>
                        <a:lnTo>
                          <a:pt x="920" y="129"/>
                        </a:lnTo>
                        <a:lnTo>
                          <a:pt x="912" y="123"/>
                        </a:lnTo>
                        <a:lnTo>
                          <a:pt x="906" y="119"/>
                        </a:lnTo>
                        <a:lnTo>
                          <a:pt x="898" y="115"/>
                        </a:lnTo>
                        <a:lnTo>
                          <a:pt x="890" y="111"/>
                        </a:lnTo>
                        <a:lnTo>
                          <a:pt x="883" y="107"/>
                        </a:lnTo>
                        <a:lnTo>
                          <a:pt x="877" y="103"/>
                        </a:lnTo>
                        <a:lnTo>
                          <a:pt x="869" y="97"/>
                        </a:lnTo>
                        <a:lnTo>
                          <a:pt x="861" y="93"/>
                        </a:lnTo>
                        <a:lnTo>
                          <a:pt x="854" y="89"/>
                        </a:lnTo>
                        <a:lnTo>
                          <a:pt x="848" y="85"/>
                        </a:lnTo>
                        <a:lnTo>
                          <a:pt x="840" y="79"/>
                        </a:lnTo>
                        <a:lnTo>
                          <a:pt x="832" y="77"/>
                        </a:lnTo>
                        <a:lnTo>
                          <a:pt x="825" y="71"/>
                        </a:lnTo>
                        <a:lnTo>
                          <a:pt x="819" y="67"/>
                        </a:lnTo>
                        <a:lnTo>
                          <a:pt x="811" y="63"/>
                        </a:lnTo>
                        <a:lnTo>
                          <a:pt x="803" y="59"/>
                        </a:lnTo>
                        <a:lnTo>
                          <a:pt x="796" y="55"/>
                        </a:lnTo>
                        <a:lnTo>
                          <a:pt x="790" y="50"/>
                        </a:lnTo>
                        <a:lnTo>
                          <a:pt x="782" y="45"/>
                        </a:lnTo>
                        <a:lnTo>
                          <a:pt x="774" y="41"/>
                        </a:lnTo>
                        <a:lnTo>
                          <a:pt x="767" y="37"/>
                        </a:lnTo>
                        <a:lnTo>
                          <a:pt x="760" y="33"/>
                        </a:lnTo>
                        <a:lnTo>
                          <a:pt x="753" y="29"/>
                        </a:lnTo>
                        <a:lnTo>
                          <a:pt x="745" y="24"/>
                        </a:lnTo>
                        <a:lnTo>
                          <a:pt x="738" y="20"/>
                        </a:lnTo>
                        <a:lnTo>
                          <a:pt x="731" y="16"/>
                        </a:lnTo>
                        <a:lnTo>
                          <a:pt x="724" y="12"/>
                        </a:lnTo>
                        <a:lnTo>
                          <a:pt x="716" y="8"/>
                        </a:lnTo>
                        <a:lnTo>
                          <a:pt x="710" y="2"/>
                        </a:lnTo>
                        <a:lnTo>
                          <a:pt x="702" y="0"/>
                        </a:lnTo>
                        <a:lnTo>
                          <a:pt x="693" y="5"/>
                        </a:lnTo>
                        <a:lnTo>
                          <a:pt x="684" y="11"/>
                        </a:lnTo>
                        <a:lnTo>
                          <a:pt x="675" y="18"/>
                        </a:lnTo>
                        <a:lnTo>
                          <a:pt x="666" y="23"/>
                        </a:lnTo>
                        <a:lnTo>
                          <a:pt x="656" y="29"/>
                        </a:lnTo>
                        <a:lnTo>
                          <a:pt x="647" y="35"/>
                        </a:lnTo>
                        <a:lnTo>
                          <a:pt x="637" y="41"/>
                        </a:lnTo>
                        <a:lnTo>
                          <a:pt x="627" y="48"/>
                        </a:lnTo>
                        <a:lnTo>
                          <a:pt x="618" y="53"/>
                        </a:lnTo>
                        <a:lnTo>
                          <a:pt x="609" y="60"/>
                        </a:lnTo>
                        <a:lnTo>
                          <a:pt x="600" y="66"/>
                        </a:lnTo>
                        <a:lnTo>
                          <a:pt x="591" y="72"/>
                        </a:lnTo>
                        <a:lnTo>
                          <a:pt x="581" y="78"/>
                        </a:lnTo>
                        <a:lnTo>
                          <a:pt x="571" y="85"/>
                        </a:lnTo>
                        <a:lnTo>
                          <a:pt x="562" y="90"/>
                        </a:lnTo>
                        <a:lnTo>
                          <a:pt x="552" y="97"/>
                        </a:lnTo>
                        <a:lnTo>
                          <a:pt x="543" y="103"/>
                        </a:lnTo>
                        <a:lnTo>
                          <a:pt x="534" y="110"/>
                        </a:lnTo>
                        <a:lnTo>
                          <a:pt x="525" y="115"/>
                        </a:lnTo>
                        <a:lnTo>
                          <a:pt x="516" y="122"/>
                        </a:lnTo>
                        <a:lnTo>
                          <a:pt x="507" y="127"/>
                        </a:lnTo>
                        <a:lnTo>
                          <a:pt x="496" y="134"/>
                        </a:lnTo>
                        <a:lnTo>
                          <a:pt x="487" y="140"/>
                        </a:lnTo>
                        <a:lnTo>
                          <a:pt x="477" y="147"/>
                        </a:lnTo>
                        <a:lnTo>
                          <a:pt x="468" y="152"/>
                        </a:lnTo>
                        <a:lnTo>
                          <a:pt x="459" y="159"/>
                        </a:lnTo>
                        <a:lnTo>
                          <a:pt x="450" y="164"/>
                        </a:lnTo>
                        <a:lnTo>
                          <a:pt x="441" y="171"/>
                        </a:lnTo>
                        <a:lnTo>
                          <a:pt x="430" y="177"/>
                        </a:lnTo>
                        <a:lnTo>
                          <a:pt x="421" y="184"/>
                        </a:lnTo>
                        <a:lnTo>
                          <a:pt x="412" y="189"/>
                        </a:lnTo>
                        <a:lnTo>
                          <a:pt x="403" y="196"/>
                        </a:lnTo>
                        <a:lnTo>
                          <a:pt x="393" y="201"/>
                        </a:lnTo>
                        <a:lnTo>
                          <a:pt x="384" y="208"/>
                        </a:lnTo>
                        <a:lnTo>
                          <a:pt x="375" y="214"/>
                        </a:lnTo>
                        <a:lnTo>
                          <a:pt x="366" y="221"/>
                        </a:lnTo>
                        <a:lnTo>
                          <a:pt x="357" y="226"/>
                        </a:lnTo>
                        <a:lnTo>
                          <a:pt x="347" y="233"/>
                        </a:lnTo>
                        <a:lnTo>
                          <a:pt x="337" y="239"/>
                        </a:lnTo>
                        <a:lnTo>
                          <a:pt x="328" y="245"/>
                        </a:lnTo>
                        <a:lnTo>
                          <a:pt x="318" y="251"/>
                        </a:lnTo>
                        <a:lnTo>
                          <a:pt x="309" y="258"/>
                        </a:lnTo>
                        <a:lnTo>
                          <a:pt x="300" y="263"/>
                        </a:lnTo>
                        <a:lnTo>
                          <a:pt x="291" y="270"/>
                        </a:lnTo>
                        <a:lnTo>
                          <a:pt x="282" y="276"/>
                        </a:lnTo>
                        <a:lnTo>
                          <a:pt x="272" y="282"/>
                        </a:lnTo>
                        <a:lnTo>
                          <a:pt x="262" y="288"/>
                        </a:lnTo>
                        <a:lnTo>
                          <a:pt x="254" y="295"/>
                        </a:lnTo>
                        <a:lnTo>
                          <a:pt x="245" y="300"/>
                        </a:lnTo>
                        <a:lnTo>
                          <a:pt x="234" y="307"/>
                        </a:lnTo>
                        <a:lnTo>
                          <a:pt x="225" y="313"/>
                        </a:lnTo>
                        <a:lnTo>
                          <a:pt x="216" y="320"/>
                        </a:lnTo>
                        <a:lnTo>
                          <a:pt x="207" y="325"/>
                        </a:lnTo>
                        <a:lnTo>
                          <a:pt x="198" y="332"/>
                        </a:lnTo>
                        <a:lnTo>
                          <a:pt x="188" y="337"/>
                        </a:lnTo>
                        <a:lnTo>
                          <a:pt x="179" y="344"/>
                        </a:lnTo>
                        <a:lnTo>
                          <a:pt x="170" y="350"/>
                        </a:lnTo>
                        <a:lnTo>
                          <a:pt x="159" y="357"/>
                        </a:lnTo>
                        <a:lnTo>
                          <a:pt x="150" y="362"/>
                        </a:lnTo>
                        <a:lnTo>
                          <a:pt x="141" y="369"/>
                        </a:lnTo>
                        <a:lnTo>
                          <a:pt x="132" y="374"/>
                        </a:lnTo>
                        <a:lnTo>
                          <a:pt x="123" y="381"/>
                        </a:lnTo>
                        <a:lnTo>
                          <a:pt x="113" y="387"/>
                        </a:lnTo>
                        <a:lnTo>
                          <a:pt x="104" y="39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147"/>
                  <p:cNvSpPr/>
                  <p:nvPr/>
                </p:nvSpPr>
                <p:spPr>
                  <a:xfrm>
                    <a:off x="4213080" y="3077640"/>
                    <a:ext cx="42480" cy="2268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294" h="175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7" y="9"/>
                        </a:lnTo>
                        <a:lnTo>
                          <a:pt x="11" y="11"/>
                        </a:lnTo>
                        <a:lnTo>
                          <a:pt x="17" y="16"/>
                        </a:lnTo>
                        <a:lnTo>
                          <a:pt x="20" y="17"/>
                        </a:lnTo>
                        <a:lnTo>
                          <a:pt x="23" y="20"/>
                        </a:lnTo>
                        <a:lnTo>
                          <a:pt x="28" y="22"/>
                        </a:lnTo>
                        <a:lnTo>
                          <a:pt x="33" y="25"/>
                        </a:lnTo>
                        <a:lnTo>
                          <a:pt x="36" y="28"/>
                        </a:lnTo>
                        <a:lnTo>
                          <a:pt x="40" y="31"/>
                        </a:lnTo>
                        <a:lnTo>
                          <a:pt x="45" y="33"/>
                        </a:lnTo>
                        <a:lnTo>
                          <a:pt x="51" y="37"/>
                        </a:lnTo>
                        <a:lnTo>
                          <a:pt x="55" y="40"/>
                        </a:lnTo>
                        <a:lnTo>
                          <a:pt x="60" y="43"/>
                        </a:lnTo>
                        <a:lnTo>
                          <a:pt x="66" y="46"/>
                        </a:lnTo>
                        <a:lnTo>
                          <a:pt x="72" y="50"/>
                        </a:lnTo>
                        <a:lnTo>
                          <a:pt x="78" y="53"/>
                        </a:lnTo>
                        <a:lnTo>
                          <a:pt x="85" y="57"/>
                        </a:lnTo>
                        <a:lnTo>
                          <a:pt x="91" y="61"/>
                        </a:lnTo>
                        <a:lnTo>
                          <a:pt x="97" y="64"/>
                        </a:lnTo>
                        <a:lnTo>
                          <a:pt x="103" y="68"/>
                        </a:lnTo>
                        <a:lnTo>
                          <a:pt x="109" y="72"/>
                        </a:lnTo>
                        <a:lnTo>
                          <a:pt x="117" y="76"/>
                        </a:lnTo>
                        <a:lnTo>
                          <a:pt x="123" y="79"/>
                        </a:lnTo>
                        <a:lnTo>
                          <a:pt x="129" y="83"/>
                        </a:lnTo>
                        <a:lnTo>
                          <a:pt x="137" y="87"/>
                        </a:lnTo>
                        <a:lnTo>
                          <a:pt x="143" y="91"/>
                        </a:lnTo>
                        <a:lnTo>
                          <a:pt x="150" y="95"/>
                        </a:lnTo>
                        <a:lnTo>
                          <a:pt x="156" y="98"/>
                        </a:lnTo>
                        <a:lnTo>
                          <a:pt x="163" y="102"/>
                        </a:lnTo>
                        <a:lnTo>
                          <a:pt x="169" y="106"/>
                        </a:lnTo>
                        <a:lnTo>
                          <a:pt x="175" y="110"/>
                        </a:lnTo>
                        <a:lnTo>
                          <a:pt x="181" y="113"/>
                        </a:lnTo>
                        <a:lnTo>
                          <a:pt x="187" y="117"/>
                        </a:lnTo>
                        <a:lnTo>
                          <a:pt x="195" y="120"/>
                        </a:lnTo>
                        <a:lnTo>
                          <a:pt x="201" y="124"/>
                        </a:lnTo>
                        <a:lnTo>
                          <a:pt x="207" y="128"/>
                        </a:lnTo>
                        <a:lnTo>
                          <a:pt x="213" y="131"/>
                        </a:lnTo>
                        <a:lnTo>
                          <a:pt x="219" y="135"/>
                        </a:lnTo>
                        <a:lnTo>
                          <a:pt x="225" y="138"/>
                        </a:lnTo>
                        <a:lnTo>
                          <a:pt x="230" y="140"/>
                        </a:lnTo>
                        <a:lnTo>
                          <a:pt x="236" y="145"/>
                        </a:lnTo>
                        <a:lnTo>
                          <a:pt x="241" y="147"/>
                        </a:lnTo>
                        <a:lnTo>
                          <a:pt x="247" y="150"/>
                        </a:lnTo>
                        <a:lnTo>
                          <a:pt x="251" y="153"/>
                        </a:lnTo>
                        <a:lnTo>
                          <a:pt x="256" y="154"/>
                        </a:lnTo>
                        <a:lnTo>
                          <a:pt x="260" y="157"/>
                        </a:lnTo>
                        <a:lnTo>
                          <a:pt x="265" y="160"/>
                        </a:lnTo>
                        <a:lnTo>
                          <a:pt x="268" y="162"/>
                        </a:lnTo>
                        <a:lnTo>
                          <a:pt x="273" y="164"/>
                        </a:lnTo>
                        <a:lnTo>
                          <a:pt x="276" y="167"/>
                        </a:lnTo>
                        <a:lnTo>
                          <a:pt x="280" y="168"/>
                        </a:lnTo>
                        <a:lnTo>
                          <a:pt x="285" y="171"/>
                        </a:lnTo>
                        <a:lnTo>
                          <a:pt x="289" y="173"/>
                        </a:lnTo>
                        <a:lnTo>
                          <a:pt x="293" y="175"/>
                        </a:lnTo>
                        <a:lnTo>
                          <a:pt x="294" y="175"/>
                        </a:lnTo>
                        <a:lnTo>
                          <a:pt x="289" y="171"/>
                        </a:lnTo>
                        <a:lnTo>
                          <a:pt x="277" y="164"/>
                        </a:lnTo>
                        <a:lnTo>
                          <a:pt x="247" y="143"/>
                        </a:lnTo>
                        <a:lnTo>
                          <a:pt x="178" y="107"/>
                        </a:lnTo>
                        <a:lnTo>
                          <a:pt x="173" y="103"/>
                        </a:lnTo>
                        <a:lnTo>
                          <a:pt x="167" y="101"/>
                        </a:lnTo>
                        <a:lnTo>
                          <a:pt x="161" y="97"/>
                        </a:lnTo>
                        <a:lnTo>
                          <a:pt x="156" y="92"/>
                        </a:lnTo>
                        <a:lnTo>
                          <a:pt x="150" y="90"/>
                        </a:lnTo>
                        <a:lnTo>
                          <a:pt x="146" y="86"/>
                        </a:lnTo>
                        <a:lnTo>
                          <a:pt x="140" y="83"/>
                        </a:lnTo>
                        <a:lnTo>
                          <a:pt x="135" y="79"/>
                        </a:lnTo>
                        <a:lnTo>
                          <a:pt x="129" y="76"/>
                        </a:lnTo>
                        <a:lnTo>
                          <a:pt x="123" y="72"/>
                        </a:lnTo>
                        <a:lnTo>
                          <a:pt x="118" y="68"/>
                        </a:lnTo>
                        <a:lnTo>
                          <a:pt x="114" y="65"/>
                        </a:lnTo>
                        <a:lnTo>
                          <a:pt x="107" y="61"/>
                        </a:lnTo>
                        <a:lnTo>
                          <a:pt x="103" y="58"/>
                        </a:lnTo>
                        <a:lnTo>
                          <a:pt x="97" y="54"/>
                        </a:lnTo>
                        <a:lnTo>
                          <a:pt x="92" y="51"/>
                        </a:lnTo>
                        <a:lnTo>
                          <a:pt x="86" y="47"/>
                        </a:lnTo>
                        <a:lnTo>
                          <a:pt x="81" y="44"/>
                        </a:lnTo>
                        <a:lnTo>
                          <a:pt x="75" y="40"/>
                        </a:lnTo>
                        <a:lnTo>
                          <a:pt x="71" y="37"/>
                        </a:lnTo>
                        <a:lnTo>
                          <a:pt x="65" y="33"/>
                        </a:lnTo>
                        <a:lnTo>
                          <a:pt x="59" y="31"/>
                        </a:lnTo>
                        <a:lnTo>
                          <a:pt x="54" y="27"/>
                        </a:lnTo>
                        <a:lnTo>
                          <a:pt x="48" y="24"/>
                        </a:lnTo>
                        <a:lnTo>
                          <a:pt x="43" y="21"/>
                        </a:lnTo>
                        <a:lnTo>
                          <a:pt x="37" y="17"/>
                        </a:lnTo>
                        <a:lnTo>
                          <a:pt x="31" y="14"/>
                        </a:lnTo>
                        <a:lnTo>
                          <a:pt x="26" y="11"/>
                        </a:lnTo>
                        <a:lnTo>
                          <a:pt x="20" y="9"/>
                        </a:lnTo>
                        <a:lnTo>
                          <a:pt x="14" y="6"/>
                        </a:lnTo>
                        <a:lnTo>
                          <a:pt x="10" y="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148"/>
                  <p:cNvSpPr/>
                  <p:nvPr/>
                </p:nvSpPr>
                <p:spPr>
                  <a:xfrm>
                    <a:off x="4123440" y="3095280"/>
                    <a:ext cx="43200" cy="2484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299" h="190">
                        <a:moveTo>
                          <a:pt x="0" y="190"/>
                        </a:moveTo>
                        <a:lnTo>
                          <a:pt x="3" y="188"/>
                        </a:lnTo>
                        <a:lnTo>
                          <a:pt x="8" y="185"/>
                        </a:lnTo>
                        <a:lnTo>
                          <a:pt x="13" y="181"/>
                        </a:lnTo>
                        <a:lnTo>
                          <a:pt x="17" y="178"/>
                        </a:lnTo>
                        <a:lnTo>
                          <a:pt x="22" y="175"/>
                        </a:lnTo>
                        <a:lnTo>
                          <a:pt x="26" y="173"/>
                        </a:lnTo>
                        <a:lnTo>
                          <a:pt x="31" y="170"/>
                        </a:lnTo>
                        <a:lnTo>
                          <a:pt x="36" y="167"/>
                        </a:lnTo>
                        <a:lnTo>
                          <a:pt x="40" y="163"/>
                        </a:lnTo>
                        <a:lnTo>
                          <a:pt x="45" y="160"/>
                        </a:lnTo>
                        <a:lnTo>
                          <a:pt x="48" y="156"/>
                        </a:lnTo>
                        <a:lnTo>
                          <a:pt x="54" y="153"/>
                        </a:lnTo>
                        <a:lnTo>
                          <a:pt x="59" y="151"/>
                        </a:lnTo>
                        <a:lnTo>
                          <a:pt x="63" y="146"/>
                        </a:lnTo>
                        <a:lnTo>
                          <a:pt x="68" y="144"/>
                        </a:lnTo>
                        <a:lnTo>
                          <a:pt x="72" y="141"/>
                        </a:lnTo>
                        <a:lnTo>
                          <a:pt x="75" y="137"/>
                        </a:lnTo>
                        <a:lnTo>
                          <a:pt x="81" y="134"/>
                        </a:lnTo>
                        <a:lnTo>
                          <a:pt x="85" y="131"/>
                        </a:lnTo>
                        <a:lnTo>
                          <a:pt x="91" y="127"/>
                        </a:lnTo>
                        <a:lnTo>
                          <a:pt x="95" y="124"/>
                        </a:lnTo>
                        <a:lnTo>
                          <a:pt x="100" y="120"/>
                        </a:lnTo>
                        <a:lnTo>
                          <a:pt x="104" y="118"/>
                        </a:lnTo>
                        <a:lnTo>
                          <a:pt x="109" y="114"/>
                        </a:lnTo>
                        <a:lnTo>
                          <a:pt x="114" y="111"/>
                        </a:lnTo>
                        <a:lnTo>
                          <a:pt x="118" y="107"/>
                        </a:lnTo>
                        <a:lnTo>
                          <a:pt x="123" y="104"/>
                        </a:lnTo>
                        <a:lnTo>
                          <a:pt x="129" y="100"/>
                        </a:lnTo>
                        <a:lnTo>
                          <a:pt x="133" y="97"/>
                        </a:lnTo>
                        <a:lnTo>
                          <a:pt x="138" y="93"/>
                        </a:lnTo>
                        <a:lnTo>
                          <a:pt x="143" y="90"/>
                        </a:lnTo>
                        <a:lnTo>
                          <a:pt x="147" y="87"/>
                        </a:lnTo>
                        <a:lnTo>
                          <a:pt x="152" y="83"/>
                        </a:lnTo>
                        <a:lnTo>
                          <a:pt x="158" y="81"/>
                        </a:lnTo>
                        <a:lnTo>
                          <a:pt x="161" y="76"/>
                        </a:lnTo>
                        <a:lnTo>
                          <a:pt x="167" y="74"/>
                        </a:lnTo>
                        <a:lnTo>
                          <a:pt x="172" y="70"/>
                        </a:lnTo>
                        <a:lnTo>
                          <a:pt x="176" y="67"/>
                        </a:lnTo>
                        <a:lnTo>
                          <a:pt x="181" y="63"/>
                        </a:lnTo>
                        <a:lnTo>
                          <a:pt x="185" y="60"/>
                        </a:lnTo>
                        <a:lnTo>
                          <a:pt x="190" y="57"/>
                        </a:lnTo>
                        <a:lnTo>
                          <a:pt x="195" y="53"/>
                        </a:lnTo>
                        <a:lnTo>
                          <a:pt x="201" y="50"/>
                        </a:lnTo>
                        <a:lnTo>
                          <a:pt x="205" y="48"/>
                        </a:lnTo>
                        <a:lnTo>
                          <a:pt x="210" y="45"/>
                        </a:lnTo>
                        <a:lnTo>
                          <a:pt x="216" y="41"/>
                        </a:lnTo>
                        <a:lnTo>
                          <a:pt x="219" y="38"/>
                        </a:lnTo>
                        <a:lnTo>
                          <a:pt x="225" y="35"/>
                        </a:lnTo>
                        <a:lnTo>
                          <a:pt x="230" y="33"/>
                        </a:lnTo>
                        <a:lnTo>
                          <a:pt x="234" y="30"/>
                        </a:lnTo>
                        <a:lnTo>
                          <a:pt x="239" y="27"/>
                        </a:lnTo>
                        <a:lnTo>
                          <a:pt x="244" y="24"/>
                        </a:lnTo>
                        <a:lnTo>
                          <a:pt x="248" y="22"/>
                        </a:lnTo>
                        <a:lnTo>
                          <a:pt x="254" y="20"/>
                        </a:lnTo>
                        <a:lnTo>
                          <a:pt x="259" y="16"/>
                        </a:lnTo>
                        <a:lnTo>
                          <a:pt x="264" y="15"/>
                        </a:lnTo>
                        <a:lnTo>
                          <a:pt x="268" y="12"/>
                        </a:lnTo>
                        <a:lnTo>
                          <a:pt x="274" y="9"/>
                        </a:lnTo>
                        <a:lnTo>
                          <a:pt x="279" y="8"/>
                        </a:lnTo>
                        <a:lnTo>
                          <a:pt x="288" y="4"/>
                        </a:lnTo>
                        <a:lnTo>
                          <a:pt x="299" y="0"/>
                        </a:lnTo>
                        <a:lnTo>
                          <a:pt x="288" y="5"/>
                        </a:lnTo>
                        <a:lnTo>
                          <a:pt x="279" y="9"/>
                        </a:lnTo>
                        <a:lnTo>
                          <a:pt x="274" y="12"/>
                        </a:lnTo>
                        <a:lnTo>
                          <a:pt x="271" y="15"/>
                        </a:lnTo>
                        <a:lnTo>
                          <a:pt x="267" y="16"/>
                        </a:lnTo>
                        <a:lnTo>
                          <a:pt x="262" y="20"/>
                        </a:lnTo>
                        <a:lnTo>
                          <a:pt x="257" y="23"/>
                        </a:lnTo>
                        <a:lnTo>
                          <a:pt x="253" y="26"/>
                        </a:lnTo>
                        <a:lnTo>
                          <a:pt x="248" y="28"/>
                        </a:lnTo>
                        <a:lnTo>
                          <a:pt x="244" y="33"/>
                        </a:lnTo>
                        <a:lnTo>
                          <a:pt x="238" y="35"/>
                        </a:lnTo>
                        <a:lnTo>
                          <a:pt x="233" y="38"/>
                        </a:lnTo>
                        <a:lnTo>
                          <a:pt x="228" y="42"/>
                        </a:lnTo>
                        <a:lnTo>
                          <a:pt x="222" y="45"/>
                        </a:lnTo>
                        <a:lnTo>
                          <a:pt x="218" y="49"/>
                        </a:lnTo>
                        <a:lnTo>
                          <a:pt x="211" y="53"/>
                        </a:lnTo>
                        <a:lnTo>
                          <a:pt x="207" y="56"/>
                        </a:lnTo>
                        <a:lnTo>
                          <a:pt x="202" y="60"/>
                        </a:lnTo>
                        <a:lnTo>
                          <a:pt x="196" y="64"/>
                        </a:lnTo>
                        <a:lnTo>
                          <a:pt x="192" y="68"/>
                        </a:lnTo>
                        <a:lnTo>
                          <a:pt x="185" y="71"/>
                        </a:lnTo>
                        <a:lnTo>
                          <a:pt x="179" y="75"/>
                        </a:lnTo>
                        <a:lnTo>
                          <a:pt x="175" y="79"/>
                        </a:lnTo>
                        <a:lnTo>
                          <a:pt x="169" y="83"/>
                        </a:lnTo>
                        <a:lnTo>
                          <a:pt x="164" y="87"/>
                        </a:lnTo>
                        <a:lnTo>
                          <a:pt x="158" y="90"/>
                        </a:lnTo>
                        <a:lnTo>
                          <a:pt x="152" y="94"/>
                        </a:lnTo>
                        <a:lnTo>
                          <a:pt x="147" y="100"/>
                        </a:lnTo>
                        <a:lnTo>
                          <a:pt x="141" y="103"/>
                        </a:lnTo>
                        <a:lnTo>
                          <a:pt x="137" y="107"/>
                        </a:lnTo>
                        <a:lnTo>
                          <a:pt x="130" y="111"/>
                        </a:lnTo>
                        <a:lnTo>
                          <a:pt x="124" y="115"/>
                        </a:lnTo>
                        <a:lnTo>
                          <a:pt x="120" y="118"/>
                        </a:lnTo>
                        <a:lnTo>
                          <a:pt x="114" y="122"/>
                        </a:lnTo>
                        <a:lnTo>
                          <a:pt x="107" y="126"/>
                        </a:lnTo>
                        <a:lnTo>
                          <a:pt x="103" y="130"/>
                        </a:lnTo>
                        <a:lnTo>
                          <a:pt x="97" y="133"/>
                        </a:lnTo>
                        <a:lnTo>
                          <a:pt x="92" y="137"/>
                        </a:lnTo>
                        <a:lnTo>
                          <a:pt x="86" y="140"/>
                        </a:lnTo>
                        <a:lnTo>
                          <a:pt x="81" y="144"/>
                        </a:lnTo>
                        <a:lnTo>
                          <a:pt x="75" y="146"/>
                        </a:lnTo>
                        <a:lnTo>
                          <a:pt x="72" y="151"/>
                        </a:lnTo>
                        <a:lnTo>
                          <a:pt x="66" y="153"/>
                        </a:lnTo>
                        <a:lnTo>
                          <a:pt x="62" y="157"/>
                        </a:lnTo>
                        <a:lnTo>
                          <a:pt x="57" y="160"/>
                        </a:lnTo>
                        <a:lnTo>
                          <a:pt x="52" y="163"/>
                        </a:lnTo>
                        <a:lnTo>
                          <a:pt x="48" y="166"/>
                        </a:lnTo>
                        <a:lnTo>
                          <a:pt x="43" y="168"/>
                        </a:lnTo>
                        <a:lnTo>
                          <a:pt x="39" y="171"/>
                        </a:lnTo>
                        <a:lnTo>
                          <a:pt x="34" y="174"/>
                        </a:lnTo>
                        <a:lnTo>
                          <a:pt x="31" y="175"/>
                        </a:lnTo>
                        <a:lnTo>
                          <a:pt x="28" y="178"/>
                        </a:lnTo>
                        <a:lnTo>
                          <a:pt x="23" y="181"/>
                        </a:lnTo>
                        <a:lnTo>
                          <a:pt x="19" y="182"/>
                        </a:lnTo>
                        <a:lnTo>
                          <a:pt x="16" y="184"/>
                        </a:lnTo>
                        <a:lnTo>
                          <a:pt x="13" y="186"/>
                        </a:lnTo>
                        <a:lnTo>
                          <a:pt x="7" y="189"/>
                        </a:lnTo>
                        <a:lnTo>
                          <a:pt x="0" y="19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149"/>
                  <p:cNvSpPr/>
                  <p:nvPr/>
                </p:nvSpPr>
                <p:spPr>
                  <a:xfrm>
                    <a:off x="4126320" y="3120120"/>
                    <a:ext cx="7200" cy="7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51" h="6">
                        <a:moveTo>
                          <a:pt x="42" y="0"/>
                        </a:moveTo>
                        <a:lnTo>
                          <a:pt x="0" y="3"/>
                        </a:lnTo>
                        <a:lnTo>
                          <a:pt x="5" y="4"/>
                        </a:lnTo>
                        <a:lnTo>
                          <a:pt x="11" y="6"/>
                        </a:lnTo>
                        <a:lnTo>
                          <a:pt x="14" y="6"/>
                        </a:lnTo>
                        <a:lnTo>
                          <a:pt x="20" y="6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35" y="6"/>
                        </a:lnTo>
                        <a:lnTo>
                          <a:pt x="42" y="6"/>
                        </a:lnTo>
                        <a:lnTo>
                          <a:pt x="51" y="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150"/>
                  <p:cNvSpPr/>
                  <p:nvPr/>
                </p:nvSpPr>
                <p:spPr>
                  <a:xfrm>
                    <a:off x="4246560" y="3088800"/>
                    <a:ext cx="6840" cy="360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49" h="30">
                        <a:moveTo>
                          <a:pt x="41" y="30"/>
                        </a:moveTo>
                        <a:lnTo>
                          <a:pt x="49" y="26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3" y="5"/>
                        </a:lnTo>
                        <a:lnTo>
                          <a:pt x="14" y="12"/>
                        </a:lnTo>
                        <a:lnTo>
                          <a:pt x="20" y="17"/>
                        </a:lnTo>
                        <a:lnTo>
                          <a:pt x="26" y="21"/>
                        </a:lnTo>
                        <a:lnTo>
                          <a:pt x="30" y="23"/>
                        </a:lnTo>
                        <a:lnTo>
                          <a:pt x="33" y="26"/>
                        </a:lnTo>
                        <a:lnTo>
                          <a:pt x="38" y="27"/>
                        </a:lnTo>
                        <a:lnTo>
                          <a:pt x="41" y="3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Freeform 151"/>
                  <p:cNvSpPr/>
                  <p:nvPr/>
                </p:nvSpPr>
                <p:spPr>
                  <a:xfrm>
                    <a:off x="4265640" y="3120120"/>
                    <a:ext cx="19440" cy="108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136" h="10">
                        <a:moveTo>
                          <a:pt x="136" y="0"/>
                        </a:moveTo>
                        <a:lnTo>
                          <a:pt x="131" y="0"/>
                        </a:lnTo>
                        <a:lnTo>
                          <a:pt x="127" y="0"/>
                        </a:lnTo>
                        <a:lnTo>
                          <a:pt x="122" y="0"/>
                        </a:lnTo>
                        <a:lnTo>
                          <a:pt x="118" y="0"/>
                        </a:lnTo>
                        <a:lnTo>
                          <a:pt x="113" y="0"/>
                        </a:lnTo>
                        <a:lnTo>
                          <a:pt x="109" y="0"/>
                        </a:lnTo>
                        <a:lnTo>
                          <a:pt x="104" y="0"/>
                        </a:lnTo>
                        <a:lnTo>
                          <a:pt x="101" y="0"/>
                        </a:lnTo>
                        <a:lnTo>
                          <a:pt x="96" y="0"/>
                        </a:lnTo>
                        <a:lnTo>
                          <a:pt x="92" y="0"/>
                        </a:lnTo>
                        <a:lnTo>
                          <a:pt x="87" y="0"/>
                        </a:lnTo>
                        <a:lnTo>
                          <a:pt x="84" y="0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0" y="0"/>
                        </a:lnTo>
                        <a:lnTo>
                          <a:pt x="67" y="0"/>
                        </a:lnTo>
                        <a:lnTo>
                          <a:pt x="63" y="0"/>
                        </a:lnTo>
                        <a:lnTo>
                          <a:pt x="58" y="0"/>
                        </a:lnTo>
                        <a:lnTo>
                          <a:pt x="53" y="0"/>
                        </a:lnTo>
                        <a:lnTo>
                          <a:pt x="50" y="0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7" y="2"/>
                        </a:lnTo>
                        <a:lnTo>
                          <a:pt x="34" y="2"/>
                        </a:lnTo>
                        <a:lnTo>
                          <a:pt x="29" y="2"/>
                        </a:lnTo>
                        <a:lnTo>
                          <a:pt x="24" y="3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2" y="4"/>
                        </a:lnTo>
                        <a:lnTo>
                          <a:pt x="8" y="6"/>
                        </a:lnTo>
                        <a:lnTo>
                          <a:pt x="3" y="6"/>
                        </a:lnTo>
                        <a:lnTo>
                          <a:pt x="0" y="9"/>
                        </a:lnTo>
                        <a:lnTo>
                          <a:pt x="27" y="10"/>
                        </a:lnTo>
                        <a:lnTo>
                          <a:pt x="31" y="9"/>
                        </a:lnTo>
                        <a:lnTo>
                          <a:pt x="35" y="6"/>
                        </a:lnTo>
                        <a:lnTo>
                          <a:pt x="41" y="6"/>
                        </a:lnTo>
                        <a:lnTo>
                          <a:pt x="47" y="6"/>
                        </a:lnTo>
                        <a:lnTo>
                          <a:pt x="55" y="6"/>
                        </a:lnTo>
                        <a:lnTo>
                          <a:pt x="58" y="6"/>
                        </a:lnTo>
                        <a:lnTo>
                          <a:pt x="61" y="6"/>
                        </a:lnTo>
                        <a:lnTo>
                          <a:pt x="66" y="6"/>
                        </a:lnTo>
                        <a:lnTo>
                          <a:pt x="69" y="7"/>
                        </a:lnTo>
                        <a:lnTo>
                          <a:pt x="73" y="7"/>
                        </a:lnTo>
                        <a:lnTo>
                          <a:pt x="76" y="9"/>
                        </a:lnTo>
                        <a:lnTo>
                          <a:pt x="81" y="9"/>
                        </a:lnTo>
                        <a:lnTo>
                          <a:pt x="84" y="9"/>
                        </a:lnTo>
                        <a:lnTo>
                          <a:pt x="87" y="9"/>
                        </a:lnTo>
                        <a:lnTo>
                          <a:pt x="92" y="10"/>
                        </a:lnTo>
                        <a:lnTo>
                          <a:pt x="95" y="10"/>
                        </a:lnTo>
                        <a:lnTo>
                          <a:pt x="99" y="10"/>
                        </a:lnTo>
                        <a:lnTo>
                          <a:pt x="102" y="10"/>
                        </a:lnTo>
                        <a:lnTo>
                          <a:pt x="105" y="10"/>
                        </a:lnTo>
                        <a:lnTo>
                          <a:pt x="109" y="10"/>
                        </a:lnTo>
                        <a:lnTo>
                          <a:pt x="113" y="10"/>
                        </a:lnTo>
                        <a:lnTo>
                          <a:pt x="119" y="9"/>
                        </a:lnTo>
                        <a:lnTo>
                          <a:pt x="125" y="7"/>
                        </a:lnTo>
                        <a:lnTo>
                          <a:pt x="130" y="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152"/>
                  <p:cNvSpPr/>
                  <p:nvPr/>
                </p:nvSpPr>
                <p:spPr>
                  <a:xfrm>
                    <a:off x="4255560" y="3093840"/>
                    <a:ext cx="16200" cy="79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3" h="62">
                        <a:moveTo>
                          <a:pt x="0" y="0"/>
                        </a:moveTo>
                        <a:lnTo>
                          <a:pt x="113" y="62"/>
                        </a:lnTo>
                        <a:lnTo>
                          <a:pt x="112" y="61"/>
                        </a:lnTo>
                        <a:lnTo>
                          <a:pt x="107" y="61"/>
                        </a:lnTo>
                        <a:lnTo>
                          <a:pt x="104" y="59"/>
                        </a:lnTo>
                        <a:lnTo>
                          <a:pt x="103" y="59"/>
                        </a:lnTo>
                        <a:lnTo>
                          <a:pt x="100" y="58"/>
                        </a:lnTo>
                        <a:lnTo>
                          <a:pt x="96" y="58"/>
                        </a:lnTo>
                        <a:lnTo>
                          <a:pt x="92" y="57"/>
                        </a:lnTo>
                        <a:lnTo>
                          <a:pt x="87" y="55"/>
                        </a:lnTo>
                        <a:lnTo>
                          <a:pt x="84" y="54"/>
                        </a:lnTo>
                        <a:lnTo>
                          <a:pt x="80" y="52"/>
                        </a:lnTo>
                        <a:lnTo>
                          <a:pt x="75" y="50"/>
                        </a:lnTo>
                        <a:lnTo>
                          <a:pt x="72" y="48"/>
                        </a:lnTo>
                        <a:lnTo>
                          <a:pt x="67" y="46"/>
                        </a:lnTo>
                        <a:lnTo>
                          <a:pt x="63" y="44"/>
                        </a:lnTo>
                        <a:lnTo>
                          <a:pt x="57" y="40"/>
                        </a:lnTo>
                        <a:lnTo>
                          <a:pt x="52" y="37"/>
                        </a:lnTo>
                        <a:lnTo>
                          <a:pt x="46" y="33"/>
                        </a:lnTo>
                        <a:lnTo>
                          <a:pt x="41" y="31"/>
                        </a:lnTo>
                        <a:lnTo>
                          <a:pt x="35" y="26"/>
                        </a:lnTo>
                        <a:lnTo>
                          <a:pt x="31" y="22"/>
                        </a:lnTo>
                        <a:lnTo>
                          <a:pt x="25" y="20"/>
                        </a:lnTo>
                        <a:lnTo>
                          <a:pt x="21" y="17"/>
                        </a:lnTo>
                        <a:lnTo>
                          <a:pt x="17" y="13"/>
                        </a:lnTo>
                        <a:lnTo>
                          <a:pt x="12" y="10"/>
                        </a:lnTo>
                        <a:lnTo>
                          <a:pt x="9" y="7"/>
                        </a:lnTo>
                        <a:lnTo>
                          <a:pt x="6" y="6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153"/>
                  <p:cNvSpPr/>
                  <p:nvPr/>
                </p:nvSpPr>
                <p:spPr>
                  <a:xfrm>
                    <a:off x="4182120" y="3064320"/>
                    <a:ext cx="20880" cy="126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44" h="96">
                        <a:moveTo>
                          <a:pt x="144" y="0"/>
                        </a:moveTo>
                        <a:lnTo>
                          <a:pt x="139" y="3"/>
                        </a:lnTo>
                        <a:lnTo>
                          <a:pt x="135" y="6"/>
                        </a:lnTo>
                        <a:lnTo>
                          <a:pt x="130" y="8"/>
                        </a:lnTo>
                        <a:lnTo>
                          <a:pt x="126" y="11"/>
                        </a:lnTo>
                        <a:lnTo>
                          <a:pt x="121" y="15"/>
                        </a:lnTo>
                        <a:lnTo>
                          <a:pt x="116" y="18"/>
                        </a:lnTo>
                        <a:lnTo>
                          <a:pt x="112" y="21"/>
                        </a:lnTo>
                        <a:lnTo>
                          <a:pt x="107" y="24"/>
                        </a:lnTo>
                        <a:lnTo>
                          <a:pt x="103" y="26"/>
                        </a:lnTo>
                        <a:lnTo>
                          <a:pt x="98" y="29"/>
                        </a:lnTo>
                        <a:lnTo>
                          <a:pt x="94" y="32"/>
                        </a:lnTo>
                        <a:lnTo>
                          <a:pt x="90" y="36"/>
                        </a:lnTo>
                        <a:lnTo>
                          <a:pt x="84" y="39"/>
                        </a:lnTo>
                        <a:lnTo>
                          <a:pt x="80" y="41"/>
                        </a:lnTo>
                        <a:lnTo>
                          <a:pt x="75" y="44"/>
                        </a:lnTo>
                        <a:lnTo>
                          <a:pt x="72" y="47"/>
                        </a:lnTo>
                        <a:lnTo>
                          <a:pt x="66" y="50"/>
                        </a:lnTo>
                        <a:lnTo>
                          <a:pt x="61" y="52"/>
                        </a:lnTo>
                        <a:lnTo>
                          <a:pt x="57" y="55"/>
                        </a:lnTo>
                        <a:lnTo>
                          <a:pt x="52" y="59"/>
                        </a:lnTo>
                        <a:lnTo>
                          <a:pt x="48" y="62"/>
                        </a:lnTo>
                        <a:lnTo>
                          <a:pt x="45" y="65"/>
                        </a:lnTo>
                        <a:lnTo>
                          <a:pt x="38" y="67"/>
                        </a:lnTo>
                        <a:lnTo>
                          <a:pt x="35" y="70"/>
                        </a:lnTo>
                        <a:lnTo>
                          <a:pt x="31" y="73"/>
                        </a:lnTo>
                        <a:lnTo>
                          <a:pt x="26" y="77"/>
                        </a:lnTo>
                        <a:lnTo>
                          <a:pt x="22" y="80"/>
                        </a:lnTo>
                        <a:lnTo>
                          <a:pt x="17" y="83"/>
                        </a:lnTo>
                        <a:lnTo>
                          <a:pt x="14" y="85"/>
                        </a:lnTo>
                        <a:lnTo>
                          <a:pt x="9" y="89"/>
                        </a:lnTo>
                        <a:lnTo>
                          <a:pt x="5" y="92"/>
                        </a:lnTo>
                        <a:lnTo>
                          <a:pt x="0" y="96"/>
                        </a:lnTo>
                        <a:lnTo>
                          <a:pt x="5" y="94"/>
                        </a:lnTo>
                        <a:lnTo>
                          <a:pt x="9" y="91"/>
                        </a:lnTo>
                        <a:lnTo>
                          <a:pt x="14" y="88"/>
                        </a:lnTo>
                        <a:lnTo>
                          <a:pt x="19" y="85"/>
                        </a:lnTo>
                        <a:lnTo>
                          <a:pt x="23" y="83"/>
                        </a:lnTo>
                        <a:lnTo>
                          <a:pt x="28" y="81"/>
                        </a:lnTo>
                        <a:lnTo>
                          <a:pt x="32" y="78"/>
                        </a:lnTo>
                        <a:lnTo>
                          <a:pt x="37" y="76"/>
                        </a:lnTo>
                        <a:lnTo>
                          <a:pt x="42" y="73"/>
                        </a:lnTo>
                        <a:lnTo>
                          <a:pt x="46" y="70"/>
                        </a:lnTo>
                        <a:lnTo>
                          <a:pt x="51" y="67"/>
                        </a:lnTo>
                        <a:lnTo>
                          <a:pt x="55" y="65"/>
                        </a:lnTo>
                        <a:lnTo>
                          <a:pt x="60" y="61"/>
                        </a:lnTo>
                        <a:lnTo>
                          <a:pt x="64" y="58"/>
                        </a:lnTo>
                        <a:lnTo>
                          <a:pt x="71" y="55"/>
                        </a:lnTo>
                        <a:lnTo>
                          <a:pt x="75" y="52"/>
                        </a:lnTo>
                        <a:lnTo>
                          <a:pt x="80" y="48"/>
                        </a:lnTo>
                        <a:lnTo>
                          <a:pt x="84" y="46"/>
                        </a:lnTo>
                        <a:lnTo>
                          <a:pt x="89" y="43"/>
                        </a:lnTo>
                        <a:lnTo>
                          <a:pt x="94" y="40"/>
                        </a:lnTo>
                        <a:lnTo>
                          <a:pt x="98" y="36"/>
                        </a:lnTo>
                        <a:lnTo>
                          <a:pt x="103" y="33"/>
                        </a:lnTo>
                        <a:lnTo>
                          <a:pt x="107" y="29"/>
                        </a:lnTo>
                        <a:lnTo>
                          <a:pt x="112" y="26"/>
                        </a:lnTo>
                        <a:lnTo>
                          <a:pt x="115" y="24"/>
                        </a:lnTo>
                        <a:lnTo>
                          <a:pt x="120" y="19"/>
                        </a:lnTo>
                        <a:lnTo>
                          <a:pt x="124" y="17"/>
                        </a:lnTo>
                        <a:lnTo>
                          <a:pt x="127" y="13"/>
                        </a:lnTo>
                        <a:lnTo>
                          <a:pt x="132" y="10"/>
                        </a:lnTo>
                        <a:lnTo>
                          <a:pt x="136" y="7"/>
                        </a:lnTo>
                        <a:lnTo>
                          <a:pt x="141" y="3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154"/>
                  <p:cNvSpPr/>
                  <p:nvPr/>
                </p:nvSpPr>
                <p:spPr>
                  <a:xfrm>
                    <a:off x="4212000" y="3120840"/>
                    <a:ext cx="30960" cy="7200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214" h="551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1" y="26"/>
                        </a:lnTo>
                        <a:lnTo>
                          <a:pt x="1" y="32"/>
                        </a:lnTo>
                        <a:lnTo>
                          <a:pt x="1" y="36"/>
                        </a:lnTo>
                        <a:lnTo>
                          <a:pt x="3" y="42"/>
                        </a:lnTo>
                        <a:lnTo>
                          <a:pt x="3" y="47"/>
                        </a:lnTo>
                        <a:lnTo>
                          <a:pt x="5" y="52"/>
                        </a:lnTo>
                        <a:lnTo>
                          <a:pt x="5" y="58"/>
                        </a:lnTo>
                        <a:lnTo>
                          <a:pt x="5" y="63"/>
                        </a:lnTo>
                        <a:lnTo>
                          <a:pt x="6" y="69"/>
                        </a:lnTo>
                        <a:lnTo>
                          <a:pt x="6" y="74"/>
                        </a:lnTo>
                        <a:lnTo>
                          <a:pt x="8" y="80"/>
                        </a:lnTo>
                        <a:lnTo>
                          <a:pt x="8" y="84"/>
                        </a:lnTo>
                        <a:lnTo>
                          <a:pt x="9" y="91"/>
                        </a:lnTo>
                        <a:lnTo>
                          <a:pt x="9" y="95"/>
                        </a:lnTo>
                        <a:lnTo>
                          <a:pt x="11" y="101"/>
                        </a:lnTo>
                        <a:lnTo>
                          <a:pt x="11" y="105"/>
                        </a:lnTo>
                        <a:lnTo>
                          <a:pt x="11" y="109"/>
                        </a:lnTo>
                        <a:lnTo>
                          <a:pt x="11" y="113"/>
                        </a:lnTo>
                        <a:lnTo>
                          <a:pt x="12" y="116"/>
                        </a:lnTo>
                        <a:lnTo>
                          <a:pt x="12" y="118"/>
                        </a:lnTo>
                        <a:lnTo>
                          <a:pt x="14" y="122"/>
                        </a:lnTo>
                        <a:lnTo>
                          <a:pt x="14" y="127"/>
                        </a:lnTo>
                        <a:lnTo>
                          <a:pt x="14" y="129"/>
                        </a:lnTo>
                        <a:lnTo>
                          <a:pt x="14" y="132"/>
                        </a:lnTo>
                        <a:lnTo>
                          <a:pt x="14" y="136"/>
                        </a:lnTo>
                        <a:lnTo>
                          <a:pt x="15" y="140"/>
                        </a:lnTo>
                        <a:lnTo>
                          <a:pt x="15" y="144"/>
                        </a:lnTo>
                        <a:lnTo>
                          <a:pt x="15" y="149"/>
                        </a:lnTo>
                        <a:lnTo>
                          <a:pt x="17" y="153"/>
                        </a:lnTo>
                        <a:lnTo>
                          <a:pt x="17" y="155"/>
                        </a:lnTo>
                        <a:lnTo>
                          <a:pt x="18" y="160"/>
                        </a:lnTo>
                        <a:lnTo>
                          <a:pt x="18" y="162"/>
                        </a:lnTo>
                        <a:lnTo>
                          <a:pt x="18" y="165"/>
                        </a:lnTo>
                        <a:lnTo>
                          <a:pt x="18" y="166"/>
                        </a:lnTo>
                        <a:lnTo>
                          <a:pt x="18" y="168"/>
                        </a:lnTo>
                        <a:lnTo>
                          <a:pt x="17" y="168"/>
                        </a:lnTo>
                        <a:lnTo>
                          <a:pt x="15" y="166"/>
                        </a:lnTo>
                        <a:lnTo>
                          <a:pt x="14" y="165"/>
                        </a:lnTo>
                        <a:lnTo>
                          <a:pt x="12" y="161"/>
                        </a:lnTo>
                        <a:lnTo>
                          <a:pt x="14" y="551"/>
                        </a:lnTo>
                        <a:lnTo>
                          <a:pt x="214" y="551"/>
                        </a:lnTo>
                        <a:lnTo>
                          <a:pt x="210" y="84"/>
                        </a:lnTo>
                        <a:lnTo>
                          <a:pt x="210" y="79"/>
                        </a:lnTo>
                        <a:lnTo>
                          <a:pt x="210" y="74"/>
                        </a:lnTo>
                        <a:lnTo>
                          <a:pt x="210" y="69"/>
                        </a:lnTo>
                        <a:lnTo>
                          <a:pt x="210" y="65"/>
                        </a:lnTo>
                        <a:lnTo>
                          <a:pt x="210" y="59"/>
                        </a:lnTo>
                        <a:lnTo>
                          <a:pt x="210" y="57"/>
                        </a:lnTo>
                        <a:lnTo>
                          <a:pt x="210" y="51"/>
                        </a:lnTo>
                        <a:lnTo>
                          <a:pt x="210" y="47"/>
                        </a:lnTo>
                        <a:lnTo>
                          <a:pt x="210" y="42"/>
                        </a:lnTo>
                        <a:lnTo>
                          <a:pt x="210" y="39"/>
                        </a:lnTo>
                        <a:lnTo>
                          <a:pt x="210" y="33"/>
                        </a:lnTo>
                        <a:lnTo>
                          <a:pt x="210" y="29"/>
                        </a:lnTo>
                        <a:lnTo>
                          <a:pt x="210" y="24"/>
                        </a:lnTo>
                        <a:lnTo>
                          <a:pt x="210" y="20"/>
                        </a:lnTo>
                        <a:lnTo>
                          <a:pt x="210" y="15"/>
                        </a:lnTo>
                        <a:lnTo>
                          <a:pt x="210" y="11"/>
                        </a:lnTo>
                        <a:lnTo>
                          <a:pt x="202" y="15"/>
                        </a:lnTo>
                        <a:lnTo>
                          <a:pt x="200" y="20"/>
                        </a:lnTo>
                        <a:lnTo>
                          <a:pt x="200" y="22"/>
                        </a:lnTo>
                        <a:lnTo>
                          <a:pt x="200" y="26"/>
                        </a:lnTo>
                        <a:lnTo>
                          <a:pt x="200" y="31"/>
                        </a:lnTo>
                        <a:lnTo>
                          <a:pt x="200" y="35"/>
                        </a:lnTo>
                        <a:lnTo>
                          <a:pt x="200" y="39"/>
                        </a:lnTo>
                        <a:lnTo>
                          <a:pt x="200" y="43"/>
                        </a:lnTo>
                        <a:lnTo>
                          <a:pt x="200" y="47"/>
                        </a:lnTo>
                        <a:lnTo>
                          <a:pt x="200" y="51"/>
                        </a:lnTo>
                        <a:lnTo>
                          <a:pt x="200" y="54"/>
                        </a:lnTo>
                        <a:lnTo>
                          <a:pt x="200" y="58"/>
                        </a:lnTo>
                        <a:lnTo>
                          <a:pt x="202" y="62"/>
                        </a:lnTo>
                        <a:lnTo>
                          <a:pt x="202" y="66"/>
                        </a:lnTo>
                        <a:lnTo>
                          <a:pt x="202" y="69"/>
                        </a:lnTo>
                        <a:lnTo>
                          <a:pt x="203" y="73"/>
                        </a:lnTo>
                        <a:lnTo>
                          <a:pt x="203" y="77"/>
                        </a:lnTo>
                        <a:lnTo>
                          <a:pt x="203" y="79"/>
                        </a:lnTo>
                        <a:lnTo>
                          <a:pt x="203" y="81"/>
                        </a:lnTo>
                        <a:lnTo>
                          <a:pt x="202" y="84"/>
                        </a:lnTo>
                        <a:lnTo>
                          <a:pt x="202" y="85"/>
                        </a:lnTo>
                        <a:lnTo>
                          <a:pt x="200" y="80"/>
                        </a:lnTo>
                        <a:lnTo>
                          <a:pt x="200" y="74"/>
                        </a:lnTo>
                        <a:lnTo>
                          <a:pt x="199" y="69"/>
                        </a:lnTo>
                        <a:lnTo>
                          <a:pt x="199" y="63"/>
                        </a:lnTo>
                        <a:lnTo>
                          <a:pt x="199" y="58"/>
                        </a:lnTo>
                        <a:lnTo>
                          <a:pt x="197" y="52"/>
                        </a:lnTo>
                        <a:lnTo>
                          <a:pt x="197" y="47"/>
                        </a:lnTo>
                        <a:lnTo>
                          <a:pt x="196" y="42"/>
                        </a:lnTo>
                        <a:lnTo>
                          <a:pt x="194" y="43"/>
                        </a:lnTo>
                        <a:lnTo>
                          <a:pt x="194" y="47"/>
                        </a:lnTo>
                        <a:lnTo>
                          <a:pt x="194" y="50"/>
                        </a:lnTo>
                        <a:lnTo>
                          <a:pt x="194" y="52"/>
                        </a:lnTo>
                        <a:lnTo>
                          <a:pt x="194" y="57"/>
                        </a:lnTo>
                        <a:lnTo>
                          <a:pt x="194" y="61"/>
                        </a:lnTo>
                        <a:lnTo>
                          <a:pt x="194" y="63"/>
                        </a:lnTo>
                        <a:lnTo>
                          <a:pt x="194" y="69"/>
                        </a:lnTo>
                        <a:lnTo>
                          <a:pt x="194" y="73"/>
                        </a:lnTo>
                        <a:lnTo>
                          <a:pt x="194" y="79"/>
                        </a:lnTo>
                        <a:lnTo>
                          <a:pt x="194" y="83"/>
                        </a:lnTo>
                        <a:lnTo>
                          <a:pt x="194" y="88"/>
                        </a:lnTo>
                        <a:lnTo>
                          <a:pt x="194" y="94"/>
                        </a:lnTo>
                        <a:lnTo>
                          <a:pt x="196" y="99"/>
                        </a:lnTo>
                        <a:lnTo>
                          <a:pt x="196" y="103"/>
                        </a:lnTo>
                        <a:lnTo>
                          <a:pt x="196" y="109"/>
                        </a:lnTo>
                        <a:lnTo>
                          <a:pt x="196" y="113"/>
                        </a:lnTo>
                        <a:lnTo>
                          <a:pt x="196" y="117"/>
                        </a:lnTo>
                        <a:lnTo>
                          <a:pt x="196" y="121"/>
                        </a:lnTo>
                        <a:lnTo>
                          <a:pt x="196" y="125"/>
                        </a:lnTo>
                        <a:lnTo>
                          <a:pt x="196" y="129"/>
                        </a:lnTo>
                        <a:lnTo>
                          <a:pt x="196" y="133"/>
                        </a:lnTo>
                        <a:lnTo>
                          <a:pt x="196" y="138"/>
                        </a:lnTo>
                        <a:lnTo>
                          <a:pt x="196" y="140"/>
                        </a:lnTo>
                        <a:lnTo>
                          <a:pt x="194" y="142"/>
                        </a:lnTo>
                        <a:lnTo>
                          <a:pt x="194" y="140"/>
                        </a:lnTo>
                        <a:lnTo>
                          <a:pt x="193" y="135"/>
                        </a:lnTo>
                        <a:lnTo>
                          <a:pt x="193" y="128"/>
                        </a:lnTo>
                        <a:lnTo>
                          <a:pt x="193" y="122"/>
                        </a:lnTo>
                        <a:lnTo>
                          <a:pt x="193" y="118"/>
                        </a:lnTo>
                        <a:lnTo>
                          <a:pt x="193" y="112"/>
                        </a:lnTo>
                        <a:lnTo>
                          <a:pt x="191" y="106"/>
                        </a:lnTo>
                        <a:lnTo>
                          <a:pt x="191" y="101"/>
                        </a:lnTo>
                        <a:lnTo>
                          <a:pt x="191" y="95"/>
                        </a:lnTo>
                        <a:lnTo>
                          <a:pt x="190" y="92"/>
                        </a:lnTo>
                        <a:lnTo>
                          <a:pt x="190" y="88"/>
                        </a:lnTo>
                        <a:lnTo>
                          <a:pt x="190" y="85"/>
                        </a:lnTo>
                        <a:lnTo>
                          <a:pt x="190" y="84"/>
                        </a:lnTo>
                        <a:lnTo>
                          <a:pt x="188" y="79"/>
                        </a:lnTo>
                        <a:lnTo>
                          <a:pt x="188" y="73"/>
                        </a:lnTo>
                        <a:lnTo>
                          <a:pt x="188" y="69"/>
                        </a:lnTo>
                        <a:lnTo>
                          <a:pt x="188" y="63"/>
                        </a:lnTo>
                        <a:lnTo>
                          <a:pt x="188" y="59"/>
                        </a:lnTo>
                        <a:lnTo>
                          <a:pt x="188" y="55"/>
                        </a:lnTo>
                        <a:lnTo>
                          <a:pt x="188" y="50"/>
                        </a:lnTo>
                        <a:lnTo>
                          <a:pt x="188" y="46"/>
                        </a:lnTo>
                        <a:lnTo>
                          <a:pt x="188" y="40"/>
                        </a:lnTo>
                        <a:lnTo>
                          <a:pt x="190" y="36"/>
                        </a:lnTo>
                        <a:lnTo>
                          <a:pt x="190" y="31"/>
                        </a:lnTo>
                        <a:lnTo>
                          <a:pt x="190" y="25"/>
                        </a:lnTo>
                        <a:lnTo>
                          <a:pt x="190" y="20"/>
                        </a:lnTo>
                        <a:lnTo>
                          <a:pt x="190" y="14"/>
                        </a:lnTo>
                        <a:lnTo>
                          <a:pt x="171" y="14"/>
                        </a:lnTo>
                        <a:lnTo>
                          <a:pt x="171" y="17"/>
                        </a:lnTo>
                        <a:lnTo>
                          <a:pt x="171" y="21"/>
                        </a:lnTo>
                        <a:lnTo>
                          <a:pt x="171" y="25"/>
                        </a:lnTo>
                        <a:lnTo>
                          <a:pt x="171" y="29"/>
                        </a:lnTo>
                        <a:lnTo>
                          <a:pt x="171" y="32"/>
                        </a:lnTo>
                        <a:lnTo>
                          <a:pt x="171" y="36"/>
                        </a:lnTo>
                        <a:lnTo>
                          <a:pt x="171" y="40"/>
                        </a:lnTo>
                        <a:lnTo>
                          <a:pt x="171" y="44"/>
                        </a:lnTo>
                        <a:lnTo>
                          <a:pt x="171" y="47"/>
                        </a:lnTo>
                        <a:lnTo>
                          <a:pt x="171" y="52"/>
                        </a:lnTo>
                        <a:lnTo>
                          <a:pt x="171" y="55"/>
                        </a:lnTo>
                        <a:lnTo>
                          <a:pt x="171" y="59"/>
                        </a:lnTo>
                        <a:lnTo>
                          <a:pt x="171" y="63"/>
                        </a:lnTo>
                        <a:lnTo>
                          <a:pt x="171" y="68"/>
                        </a:lnTo>
                        <a:lnTo>
                          <a:pt x="171" y="72"/>
                        </a:lnTo>
                        <a:lnTo>
                          <a:pt x="173" y="76"/>
                        </a:lnTo>
                        <a:lnTo>
                          <a:pt x="173" y="79"/>
                        </a:lnTo>
                        <a:lnTo>
                          <a:pt x="173" y="83"/>
                        </a:lnTo>
                        <a:lnTo>
                          <a:pt x="173" y="87"/>
                        </a:lnTo>
                        <a:lnTo>
                          <a:pt x="173" y="91"/>
                        </a:lnTo>
                        <a:lnTo>
                          <a:pt x="173" y="94"/>
                        </a:lnTo>
                        <a:lnTo>
                          <a:pt x="174" y="98"/>
                        </a:lnTo>
                        <a:lnTo>
                          <a:pt x="174" y="102"/>
                        </a:lnTo>
                        <a:lnTo>
                          <a:pt x="174" y="106"/>
                        </a:lnTo>
                        <a:lnTo>
                          <a:pt x="174" y="109"/>
                        </a:lnTo>
                        <a:lnTo>
                          <a:pt x="174" y="113"/>
                        </a:lnTo>
                        <a:lnTo>
                          <a:pt x="174" y="116"/>
                        </a:lnTo>
                        <a:lnTo>
                          <a:pt x="174" y="120"/>
                        </a:lnTo>
                        <a:lnTo>
                          <a:pt x="174" y="124"/>
                        </a:lnTo>
                        <a:lnTo>
                          <a:pt x="176" y="127"/>
                        </a:lnTo>
                        <a:lnTo>
                          <a:pt x="176" y="131"/>
                        </a:lnTo>
                        <a:lnTo>
                          <a:pt x="176" y="133"/>
                        </a:lnTo>
                        <a:lnTo>
                          <a:pt x="176" y="136"/>
                        </a:lnTo>
                        <a:lnTo>
                          <a:pt x="176" y="139"/>
                        </a:lnTo>
                        <a:lnTo>
                          <a:pt x="176" y="143"/>
                        </a:lnTo>
                        <a:lnTo>
                          <a:pt x="176" y="149"/>
                        </a:lnTo>
                        <a:lnTo>
                          <a:pt x="176" y="153"/>
                        </a:lnTo>
                        <a:lnTo>
                          <a:pt x="176" y="160"/>
                        </a:lnTo>
                        <a:lnTo>
                          <a:pt x="176" y="162"/>
                        </a:lnTo>
                        <a:lnTo>
                          <a:pt x="176" y="165"/>
                        </a:lnTo>
                        <a:lnTo>
                          <a:pt x="176" y="168"/>
                        </a:lnTo>
                        <a:lnTo>
                          <a:pt x="176" y="172"/>
                        </a:lnTo>
                        <a:lnTo>
                          <a:pt x="176" y="177"/>
                        </a:lnTo>
                        <a:lnTo>
                          <a:pt x="176" y="183"/>
                        </a:lnTo>
                        <a:lnTo>
                          <a:pt x="174" y="187"/>
                        </a:lnTo>
                        <a:lnTo>
                          <a:pt x="174" y="192"/>
                        </a:lnTo>
                        <a:lnTo>
                          <a:pt x="174" y="198"/>
                        </a:lnTo>
                        <a:lnTo>
                          <a:pt x="173" y="202"/>
                        </a:lnTo>
                        <a:lnTo>
                          <a:pt x="171" y="205"/>
                        </a:lnTo>
                        <a:lnTo>
                          <a:pt x="171" y="206"/>
                        </a:lnTo>
                        <a:lnTo>
                          <a:pt x="170" y="201"/>
                        </a:lnTo>
                        <a:lnTo>
                          <a:pt x="170" y="195"/>
                        </a:lnTo>
                        <a:lnTo>
                          <a:pt x="168" y="188"/>
                        </a:lnTo>
                        <a:lnTo>
                          <a:pt x="168" y="183"/>
                        </a:lnTo>
                        <a:lnTo>
                          <a:pt x="168" y="180"/>
                        </a:lnTo>
                        <a:lnTo>
                          <a:pt x="168" y="177"/>
                        </a:lnTo>
                        <a:lnTo>
                          <a:pt x="167" y="173"/>
                        </a:lnTo>
                        <a:lnTo>
                          <a:pt x="167" y="171"/>
                        </a:lnTo>
                        <a:lnTo>
                          <a:pt x="167" y="165"/>
                        </a:lnTo>
                        <a:lnTo>
                          <a:pt x="167" y="160"/>
                        </a:lnTo>
                        <a:lnTo>
                          <a:pt x="167" y="155"/>
                        </a:lnTo>
                        <a:lnTo>
                          <a:pt x="167" y="153"/>
                        </a:lnTo>
                        <a:lnTo>
                          <a:pt x="167" y="149"/>
                        </a:lnTo>
                        <a:lnTo>
                          <a:pt x="167" y="146"/>
                        </a:lnTo>
                        <a:lnTo>
                          <a:pt x="167" y="143"/>
                        </a:lnTo>
                        <a:lnTo>
                          <a:pt x="167" y="140"/>
                        </a:lnTo>
                        <a:lnTo>
                          <a:pt x="167" y="136"/>
                        </a:lnTo>
                        <a:lnTo>
                          <a:pt x="167" y="133"/>
                        </a:lnTo>
                        <a:lnTo>
                          <a:pt x="167" y="131"/>
                        </a:lnTo>
                        <a:lnTo>
                          <a:pt x="167" y="128"/>
                        </a:lnTo>
                        <a:lnTo>
                          <a:pt x="167" y="124"/>
                        </a:lnTo>
                        <a:lnTo>
                          <a:pt x="167" y="121"/>
                        </a:lnTo>
                        <a:lnTo>
                          <a:pt x="167" y="118"/>
                        </a:lnTo>
                        <a:lnTo>
                          <a:pt x="167" y="116"/>
                        </a:lnTo>
                        <a:lnTo>
                          <a:pt x="167" y="112"/>
                        </a:lnTo>
                        <a:lnTo>
                          <a:pt x="168" y="109"/>
                        </a:lnTo>
                        <a:lnTo>
                          <a:pt x="168" y="106"/>
                        </a:lnTo>
                        <a:lnTo>
                          <a:pt x="168" y="102"/>
                        </a:lnTo>
                        <a:lnTo>
                          <a:pt x="168" y="99"/>
                        </a:lnTo>
                        <a:lnTo>
                          <a:pt x="168" y="95"/>
                        </a:lnTo>
                        <a:lnTo>
                          <a:pt x="168" y="92"/>
                        </a:lnTo>
                        <a:lnTo>
                          <a:pt x="168" y="90"/>
                        </a:lnTo>
                        <a:lnTo>
                          <a:pt x="168" y="85"/>
                        </a:lnTo>
                        <a:lnTo>
                          <a:pt x="168" y="83"/>
                        </a:lnTo>
                        <a:lnTo>
                          <a:pt x="168" y="80"/>
                        </a:lnTo>
                        <a:lnTo>
                          <a:pt x="168" y="76"/>
                        </a:lnTo>
                        <a:lnTo>
                          <a:pt x="168" y="73"/>
                        </a:lnTo>
                        <a:lnTo>
                          <a:pt x="168" y="70"/>
                        </a:lnTo>
                        <a:lnTo>
                          <a:pt x="168" y="66"/>
                        </a:lnTo>
                        <a:lnTo>
                          <a:pt x="168" y="63"/>
                        </a:lnTo>
                        <a:lnTo>
                          <a:pt x="168" y="61"/>
                        </a:lnTo>
                        <a:lnTo>
                          <a:pt x="168" y="58"/>
                        </a:lnTo>
                        <a:lnTo>
                          <a:pt x="167" y="54"/>
                        </a:lnTo>
                        <a:lnTo>
                          <a:pt x="167" y="51"/>
                        </a:lnTo>
                        <a:lnTo>
                          <a:pt x="167" y="48"/>
                        </a:lnTo>
                        <a:lnTo>
                          <a:pt x="167" y="46"/>
                        </a:lnTo>
                        <a:lnTo>
                          <a:pt x="167" y="39"/>
                        </a:lnTo>
                        <a:lnTo>
                          <a:pt x="167" y="33"/>
                        </a:lnTo>
                        <a:lnTo>
                          <a:pt x="165" y="28"/>
                        </a:lnTo>
                        <a:lnTo>
                          <a:pt x="165" y="22"/>
                        </a:lnTo>
                        <a:lnTo>
                          <a:pt x="165" y="17"/>
                        </a:lnTo>
                        <a:lnTo>
                          <a:pt x="164" y="11"/>
                        </a:lnTo>
                        <a:lnTo>
                          <a:pt x="162" y="10"/>
                        </a:lnTo>
                        <a:lnTo>
                          <a:pt x="161" y="14"/>
                        </a:lnTo>
                        <a:lnTo>
                          <a:pt x="157" y="17"/>
                        </a:lnTo>
                        <a:lnTo>
                          <a:pt x="156" y="18"/>
                        </a:lnTo>
                        <a:lnTo>
                          <a:pt x="154" y="20"/>
                        </a:lnTo>
                        <a:lnTo>
                          <a:pt x="154" y="22"/>
                        </a:lnTo>
                        <a:lnTo>
                          <a:pt x="153" y="26"/>
                        </a:lnTo>
                        <a:lnTo>
                          <a:pt x="153" y="29"/>
                        </a:lnTo>
                        <a:lnTo>
                          <a:pt x="153" y="32"/>
                        </a:lnTo>
                        <a:lnTo>
                          <a:pt x="153" y="36"/>
                        </a:lnTo>
                        <a:lnTo>
                          <a:pt x="153" y="39"/>
                        </a:lnTo>
                        <a:lnTo>
                          <a:pt x="153" y="43"/>
                        </a:lnTo>
                        <a:lnTo>
                          <a:pt x="156" y="105"/>
                        </a:lnTo>
                        <a:lnTo>
                          <a:pt x="156" y="109"/>
                        </a:lnTo>
                        <a:lnTo>
                          <a:pt x="156" y="114"/>
                        </a:lnTo>
                        <a:lnTo>
                          <a:pt x="156" y="120"/>
                        </a:lnTo>
                        <a:lnTo>
                          <a:pt x="156" y="125"/>
                        </a:lnTo>
                        <a:lnTo>
                          <a:pt x="156" y="129"/>
                        </a:lnTo>
                        <a:lnTo>
                          <a:pt x="156" y="135"/>
                        </a:lnTo>
                        <a:lnTo>
                          <a:pt x="156" y="140"/>
                        </a:lnTo>
                        <a:lnTo>
                          <a:pt x="156" y="144"/>
                        </a:lnTo>
                        <a:lnTo>
                          <a:pt x="154" y="150"/>
                        </a:lnTo>
                        <a:lnTo>
                          <a:pt x="154" y="155"/>
                        </a:lnTo>
                        <a:lnTo>
                          <a:pt x="154" y="160"/>
                        </a:lnTo>
                        <a:lnTo>
                          <a:pt x="154" y="165"/>
                        </a:lnTo>
                        <a:lnTo>
                          <a:pt x="153" y="171"/>
                        </a:lnTo>
                        <a:lnTo>
                          <a:pt x="153" y="175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3" y="512"/>
                        </a:lnTo>
                        <a:lnTo>
                          <a:pt x="78" y="515"/>
                        </a:lnTo>
                        <a:lnTo>
                          <a:pt x="73" y="66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2" y="57"/>
                        </a:lnTo>
                        <a:lnTo>
                          <a:pt x="72" y="54"/>
                        </a:lnTo>
                        <a:lnTo>
                          <a:pt x="70" y="50"/>
                        </a:lnTo>
                        <a:lnTo>
                          <a:pt x="70" y="47"/>
                        </a:lnTo>
                        <a:lnTo>
                          <a:pt x="69" y="43"/>
                        </a:lnTo>
                        <a:lnTo>
                          <a:pt x="69" y="40"/>
                        </a:lnTo>
                        <a:lnTo>
                          <a:pt x="69" y="37"/>
                        </a:lnTo>
                        <a:lnTo>
                          <a:pt x="69" y="33"/>
                        </a:lnTo>
                        <a:lnTo>
                          <a:pt x="67" y="31"/>
                        </a:lnTo>
                        <a:lnTo>
                          <a:pt x="67" y="28"/>
                        </a:lnTo>
                        <a:lnTo>
                          <a:pt x="66" y="21"/>
                        </a:lnTo>
                        <a:lnTo>
                          <a:pt x="66" y="1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55"/>
                  <p:cNvSpPr/>
                  <p:nvPr/>
                </p:nvSpPr>
                <p:spPr>
                  <a:xfrm>
                    <a:off x="4137480" y="3162960"/>
                    <a:ext cx="1800" cy="230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12" h="178">
                        <a:moveTo>
                          <a:pt x="4" y="176"/>
                        </a:moveTo>
                        <a:lnTo>
                          <a:pt x="7" y="178"/>
                        </a:lnTo>
                        <a:lnTo>
                          <a:pt x="9" y="176"/>
                        </a:lnTo>
                        <a:lnTo>
                          <a:pt x="9" y="175"/>
                        </a:lnTo>
                        <a:lnTo>
                          <a:pt x="9" y="172"/>
                        </a:lnTo>
                        <a:lnTo>
                          <a:pt x="9" y="167"/>
                        </a:lnTo>
                        <a:lnTo>
                          <a:pt x="9" y="161"/>
                        </a:lnTo>
                        <a:lnTo>
                          <a:pt x="9" y="156"/>
                        </a:lnTo>
                        <a:lnTo>
                          <a:pt x="9" y="150"/>
                        </a:lnTo>
                        <a:lnTo>
                          <a:pt x="9" y="145"/>
                        </a:lnTo>
                        <a:lnTo>
                          <a:pt x="9" y="139"/>
                        </a:lnTo>
                        <a:lnTo>
                          <a:pt x="9" y="134"/>
                        </a:lnTo>
                        <a:lnTo>
                          <a:pt x="10" y="129"/>
                        </a:lnTo>
                        <a:lnTo>
                          <a:pt x="10" y="124"/>
                        </a:lnTo>
                        <a:lnTo>
                          <a:pt x="10" y="118"/>
                        </a:lnTo>
                        <a:lnTo>
                          <a:pt x="10" y="112"/>
                        </a:lnTo>
                        <a:lnTo>
                          <a:pt x="10" y="108"/>
                        </a:lnTo>
                        <a:lnTo>
                          <a:pt x="10" y="102"/>
                        </a:lnTo>
                        <a:lnTo>
                          <a:pt x="10" y="97"/>
                        </a:lnTo>
                        <a:lnTo>
                          <a:pt x="10" y="91"/>
                        </a:lnTo>
                        <a:lnTo>
                          <a:pt x="12" y="86"/>
                        </a:lnTo>
                        <a:lnTo>
                          <a:pt x="12" y="80"/>
                        </a:lnTo>
                        <a:lnTo>
                          <a:pt x="12" y="75"/>
                        </a:lnTo>
                        <a:lnTo>
                          <a:pt x="12" y="69"/>
                        </a:lnTo>
                        <a:lnTo>
                          <a:pt x="12" y="64"/>
                        </a:lnTo>
                        <a:lnTo>
                          <a:pt x="12" y="58"/>
                        </a:lnTo>
                        <a:lnTo>
                          <a:pt x="12" y="53"/>
                        </a:lnTo>
                        <a:lnTo>
                          <a:pt x="12" y="47"/>
                        </a:lnTo>
                        <a:lnTo>
                          <a:pt x="12" y="43"/>
                        </a:lnTo>
                        <a:lnTo>
                          <a:pt x="12" y="38"/>
                        </a:lnTo>
                        <a:lnTo>
                          <a:pt x="12" y="31"/>
                        </a:lnTo>
                        <a:lnTo>
                          <a:pt x="12" y="25"/>
                        </a:lnTo>
                        <a:lnTo>
                          <a:pt x="12" y="21"/>
                        </a:lnTo>
                        <a:lnTo>
                          <a:pt x="12" y="16"/>
                        </a:lnTo>
                        <a:lnTo>
                          <a:pt x="12" y="10"/>
                        </a:lnTo>
                        <a:lnTo>
                          <a:pt x="12" y="5"/>
                        </a:ln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10" y="9"/>
                        </a:lnTo>
                        <a:lnTo>
                          <a:pt x="9" y="11"/>
                        </a:lnTo>
                        <a:lnTo>
                          <a:pt x="9" y="16"/>
                        </a:lnTo>
                        <a:lnTo>
                          <a:pt x="9" y="18"/>
                        </a:lnTo>
                        <a:lnTo>
                          <a:pt x="9" y="22"/>
                        </a:lnTo>
                        <a:lnTo>
                          <a:pt x="9" y="28"/>
                        </a:lnTo>
                        <a:lnTo>
                          <a:pt x="7" y="29"/>
                        </a:lnTo>
                        <a:lnTo>
                          <a:pt x="7" y="33"/>
                        </a:lnTo>
                        <a:lnTo>
                          <a:pt x="7" y="36"/>
                        </a:lnTo>
                        <a:lnTo>
                          <a:pt x="7" y="40"/>
                        </a:lnTo>
                        <a:lnTo>
                          <a:pt x="6" y="43"/>
                        </a:lnTo>
                        <a:lnTo>
                          <a:pt x="6" y="47"/>
                        </a:lnTo>
                        <a:lnTo>
                          <a:pt x="6" y="51"/>
                        </a:lnTo>
                        <a:lnTo>
                          <a:pt x="6" y="55"/>
                        </a:lnTo>
                        <a:lnTo>
                          <a:pt x="6" y="59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4" y="70"/>
                        </a:lnTo>
                        <a:lnTo>
                          <a:pt x="3" y="73"/>
                        </a:lnTo>
                        <a:lnTo>
                          <a:pt x="3" y="77"/>
                        </a:lnTo>
                        <a:lnTo>
                          <a:pt x="3" y="81"/>
                        </a:lnTo>
                        <a:lnTo>
                          <a:pt x="3" y="84"/>
                        </a:lnTo>
                        <a:lnTo>
                          <a:pt x="1" y="91"/>
                        </a:lnTo>
                        <a:lnTo>
                          <a:pt x="1" y="95"/>
                        </a:lnTo>
                        <a:lnTo>
                          <a:pt x="1" y="99"/>
                        </a:lnTo>
                        <a:lnTo>
                          <a:pt x="1" y="102"/>
                        </a:lnTo>
                        <a:lnTo>
                          <a:pt x="1" y="106"/>
                        </a:lnTo>
                        <a:lnTo>
                          <a:pt x="0" y="110"/>
                        </a:lnTo>
                        <a:lnTo>
                          <a:pt x="0" y="114"/>
                        </a:lnTo>
                        <a:lnTo>
                          <a:pt x="0" y="120"/>
                        </a:lnTo>
                        <a:lnTo>
                          <a:pt x="0" y="124"/>
                        </a:lnTo>
                        <a:lnTo>
                          <a:pt x="0" y="129"/>
                        </a:lnTo>
                        <a:lnTo>
                          <a:pt x="1" y="134"/>
                        </a:lnTo>
                        <a:lnTo>
                          <a:pt x="1" y="139"/>
                        </a:lnTo>
                        <a:lnTo>
                          <a:pt x="1" y="143"/>
                        </a:lnTo>
                        <a:lnTo>
                          <a:pt x="1" y="149"/>
                        </a:lnTo>
                        <a:lnTo>
                          <a:pt x="3" y="153"/>
                        </a:lnTo>
                        <a:lnTo>
                          <a:pt x="3" y="158"/>
                        </a:lnTo>
                        <a:lnTo>
                          <a:pt x="3" y="162"/>
                        </a:lnTo>
                        <a:lnTo>
                          <a:pt x="4" y="168"/>
                        </a:lnTo>
                        <a:lnTo>
                          <a:pt x="4" y="172"/>
                        </a:lnTo>
                        <a:lnTo>
                          <a:pt x="4" y="1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156"/>
                  <p:cNvSpPr/>
                  <p:nvPr/>
                </p:nvSpPr>
                <p:spPr>
                  <a:xfrm>
                    <a:off x="4154760" y="3164400"/>
                    <a:ext cx="1440" cy="20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" h="161">
                        <a:moveTo>
                          <a:pt x="12" y="0"/>
                        </a:moveTo>
                        <a:lnTo>
                          <a:pt x="11" y="5"/>
                        </a:lnTo>
                        <a:lnTo>
                          <a:pt x="11" y="10"/>
                        </a:lnTo>
                        <a:lnTo>
                          <a:pt x="9" y="16"/>
                        </a:lnTo>
                        <a:lnTo>
                          <a:pt x="9" y="20"/>
                        </a:lnTo>
                        <a:lnTo>
                          <a:pt x="9" y="25"/>
                        </a:lnTo>
                        <a:lnTo>
                          <a:pt x="9" y="31"/>
                        </a:lnTo>
                        <a:lnTo>
                          <a:pt x="9" y="36"/>
                        </a:lnTo>
                        <a:lnTo>
                          <a:pt x="9" y="40"/>
                        </a:lnTo>
                        <a:lnTo>
                          <a:pt x="9" y="46"/>
                        </a:lnTo>
                        <a:lnTo>
                          <a:pt x="9" y="51"/>
                        </a:lnTo>
                        <a:lnTo>
                          <a:pt x="9" y="55"/>
                        </a:lnTo>
                        <a:lnTo>
                          <a:pt x="9" y="61"/>
                        </a:lnTo>
                        <a:lnTo>
                          <a:pt x="8" y="66"/>
                        </a:lnTo>
                        <a:lnTo>
                          <a:pt x="8" y="70"/>
                        </a:lnTo>
                        <a:lnTo>
                          <a:pt x="8" y="76"/>
                        </a:lnTo>
                        <a:lnTo>
                          <a:pt x="8" y="81"/>
                        </a:lnTo>
                        <a:lnTo>
                          <a:pt x="8" y="86"/>
                        </a:lnTo>
                        <a:lnTo>
                          <a:pt x="8" y="91"/>
                        </a:lnTo>
                        <a:lnTo>
                          <a:pt x="6" y="97"/>
                        </a:lnTo>
                        <a:lnTo>
                          <a:pt x="6" y="101"/>
                        </a:lnTo>
                        <a:lnTo>
                          <a:pt x="6" y="106"/>
                        </a:lnTo>
                        <a:lnTo>
                          <a:pt x="6" y="112"/>
                        </a:lnTo>
                        <a:lnTo>
                          <a:pt x="6" y="116"/>
                        </a:lnTo>
                        <a:lnTo>
                          <a:pt x="6" y="121"/>
                        </a:lnTo>
                        <a:lnTo>
                          <a:pt x="5" y="125"/>
                        </a:lnTo>
                        <a:lnTo>
                          <a:pt x="5" y="131"/>
                        </a:lnTo>
                        <a:lnTo>
                          <a:pt x="3" y="136"/>
                        </a:lnTo>
                        <a:lnTo>
                          <a:pt x="3" y="140"/>
                        </a:lnTo>
                        <a:lnTo>
                          <a:pt x="2" y="146"/>
                        </a:lnTo>
                        <a:lnTo>
                          <a:pt x="2" y="151"/>
                        </a:lnTo>
                        <a:lnTo>
                          <a:pt x="0" y="157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0" y="150"/>
                        </a:lnTo>
                        <a:lnTo>
                          <a:pt x="0" y="146"/>
                        </a:lnTo>
                        <a:lnTo>
                          <a:pt x="0" y="140"/>
                        </a:lnTo>
                        <a:lnTo>
                          <a:pt x="0" y="136"/>
                        </a:lnTo>
                        <a:lnTo>
                          <a:pt x="2" y="131"/>
                        </a:lnTo>
                        <a:lnTo>
                          <a:pt x="2" y="128"/>
                        </a:lnTo>
                        <a:lnTo>
                          <a:pt x="2" y="125"/>
                        </a:lnTo>
                        <a:lnTo>
                          <a:pt x="2" y="121"/>
                        </a:lnTo>
                        <a:lnTo>
                          <a:pt x="2" y="118"/>
                        </a:lnTo>
                        <a:lnTo>
                          <a:pt x="2" y="116"/>
                        </a:lnTo>
                        <a:lnTo>
                          <a:pt x="2" y="112"/>
                        </a:lnTo>
                        <a:lnTo>
                          <a:pt x="2" y="109"/>
                        </a:lnTo>
                        <a:lnTo>
                          <a:pt x="2" y="106"/>
                        </a:lnTo>
                        <a:lnTo>
                          <a:pt x="2" y="102"/>
                        </a:lnTo>
                        <a:lnTo>
                          <a:pt x="2" y="98"/>
                        </a:lnTo>
                        <a:lnTo>
                          <a:pt x="2" y="95"/>
                        </a:lnTo>
                        <a:lnTo>
                          <a:pt x="3" y="92"/>
                        </a:lnTo>
                        <a:lnTo>
                          <a:pt x="3" y="88"/>
                        </a:lnTo>
                        <a:lnTo>
                          <a:pt x="3" y="86"/>
                        </a:lnTo>
                        <a:lnTo>
                          <a:pt x="3" y="81"/>
                        </a:lnTo>
                        <a:lnTo>
                          <a:pt x="3" y="79"/>
                        </a:lnTo>
                        <a:lnTo>
                          <a:pt x="3" y="75"/>
                        </a:lnTo>
                        <a:lnTo>
                          <a:pt x="3" y="70"/>
                        </a:lnTo>
                        <a:lnTo>
                          <a:pt x="3" y="68"/>
                        </a:lnTo>
                        <a:lnTo>
                          <a:pt x="3" y="64"/>
                        </a:lnTo>
                        <a:lnTo>
                          <a:pt x="3" y="61"/>
                        </a:lnTo>
                        <a:lnTo>
                          <a:pt x="5" y="57"/>
                        </a:lnTo>
                        <a:lnTo>
                          <a:pt x="5" y="54"/>
                        </a:lnTo>
                        <a:lnTo>
                          <a:pt x="5" y="50"/>
                        </a:lnTo>
                        <a:lnTo>
                          <a:pt x="5" y="47"/>
                        </a:lnTo>
                        <a:lnTo>
                          <a:pt x="5" y="43"/>
                        </a:lnTo>
                        <a:lnTo>
                          <a:pt x="5" y="40"/>
                        </a:lnTo>
                        <a:lnTo>
                          <a:pt x="6" y="37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8"/>
                        </a:lnTo>
                        <a:lnTo>
                          <a:pt x="6" y="27"/>
                        </a:lnTo>
                        <a:lnTo>
                          <a:pt x="6" y="20"/>
                        </a:lnTo>
                        <a:lnTo>
                          <a:pt x="8" y="16"/>
                        </a:lnTo>
                        <a:lnTo>
                          <a:pt x="8" y="11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157"/>
                  <p:cNvSpPr/>
                  <p:nvPr/>
                </p:nvSpPr>
                <p:spPr>
                  <a:xfrm>
                    <a:off x="4162680" y="3087000"/>
                    <a:ext cx="84240" cy="255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582" h="195">
                        <a:moveTo>
                          <a:pt x="198" y="136"/>
                        </a:moveTo>
                        <a:lnTo>
                          <a:pt x="199" y="133"/>
                        </a:lnTo>
                        <a:lnTo>
                          <a:pt x="204" y="131"/>
                        </a:lnTo>
                        <a:lnTo>
                          <a:pt x="208" y="125"/>
                        </a:lnTo>
                        <a:lnTo>
                          <a:pt x="216" y="121"/>
                        </a:lnTo>
                        <a:lnTo>
                          <a:pt x="222" y="117"/>
                        </a:lnTo>
                        <a:lnTo>
                          <a:pt x="227" y="113"/>
                        </a:lnTo>
                        <a:lnTo>
                          <a:pt x="231" y="110"/>
                        </a:lnTo>
                        <a:lnTo>
                          <a:pt x="233" y="109"/>
                        </a:lnTo>
                        <a:lnTo>
                          <a:pt x="234" y="107"/>
                        </a:lnTo>
                        <a:lnTo>
                          <a:pt x="238" y="105"/>
                        </a:lnTo>
                        <a:lnTo>
                          <a:pt x="241" y="100"/>
                        </a:lnTo>
                        <a:lnTo>
                          <a:pt x="245" y="98"/>
                        </a:lnTo>
                        <a:lnTo>
                          <a:pt x="250" y="94"/>
                        </a:lnTo>
                        <a:lnTo>
                          <a:pt x="254" y="89"/>
                        </a:lnTo>
                        <a:lnTo>
                          <a:pt x="259" y="85"/>
                        </a:lnTo>
                        <a:lnTo>
                          <a:pt x="265" y="81"/>
                        </a:lnTo>
                        <a:lnTo>
                          <a:pt x="268" y="76"/>
                        </a:lnTo>
                        <a:lnTo>
                          <a:pt x="273" y="70"/>
                        </a:lnTo>
                        <a:lnTo>
                          <a:pt x="277" y="66"/>
                        </a:lnTo>
                        <a:lnTo>
                          <a:pt x="282" y="62"/>
                        </a:lnTo>
                        <a:lnTo>
                          <a:pt x="283" y="56"/>
                        </a:lnTo>
                        <a:lnTo>
                          <a:pt x="286" y="54"/>
                        </a:lnTo>
                        <a:lnTo>
                          <a:pt x="288" y="50"/>
                        </a:lnTo>
                        <a:lnTo>
                          <a:pt x="288" y="48"/>
                        </a:lnTo>
                        <a:lnTo>
                          <a:pt x="286" y="50"/>
                        </a:lnTo>
                        <a:lnTo>
                          <a:pt x="282" y="54"/>
                        </a:lnTo>
                        <a:lnTo>
                          <a:pt x="276" y="59"/>
                        </a:lnTo>
                        <a:lnTo>
                          <a:pt x="274" y="61"/>
                        </a:lnTo>
                        <a:lnTo>
                          <a:pt x="233" y="102"/>
                        </a:lnTo>
                        <a:lnTo>
                          <a:pt x="234" y="98"/>
                        </a:lnTo>
                        <a:lnTo>
                          <a:pt x="236" y="95"/>
                        </a:lnTo>
                        <a:lnTo>
                          <a:pt x="239" y="89"/>
                        </a:lnTo>
                        <a:lnTo>
                          <a:pt x="242" y="85"/>
                        </a:lnTo>
                        <a:lnTo>
                          <a:pt x="245" y="80"/>
                        </a:lnTo>
                        <a:lnTo>
                          <a:pt x="250" y="74"/>
                        </a:lnTo>
                        <a:lnTo>
                          <a:pt x="254" y="69"/>
                        </a:lnTo>
                        <a:lnTo>
                          <a:pt x="259" y="63"/>
                        </a:lnTo>
                        <a:lnTo>
                          <a:pt x="264" y="56"/>
                        </a:lnTo>
                        <a:lnTo>
                          <a:pt x="268" y="51"/>
                        </a:lnTo>
                        <a:lnTo>
                          <a:pt x="271" y="45"/>
                        </a:lnTo>
                        <a:lnTo>
                          <a:pt x="277" y="41"/>
                        </a:lnTo>
                        <a:lnTo>
                          <a:pt x="280" y="36"/>
                        </a:lnTo>
                        <a:lnTo>
                          <a:pt x="285" y="32"/>
                        </a:lnTo>
                        <a:lnTo>
                          <a:pt x="288" y="28"/>
                        </a:lnTo>
                        <a:lnTo>
                          <a:pt x="291" y="25"/>
                        </a:lnTo>
                        <a:lnTo>
                          <a:pt x="288" y="25"/>
                        </a:lnTo>
                        <a:lnTo>
                          <a:pt x="285" y="28"/>
                        </a:lnTo>
                        <a:lnTo>
                          <a:pt x="280" y="29"/>
                        </a:lnTo>
                        <a:lnTo>
                          <a:pt x="276" y="33"/>
                        </a:lnTo>
                        <a:lnTo>
                          <a:pt x="271" y="37"/>
                        </a:lnTo>
                        <a:lnTo>
                          <a:pt x="265" y="41"/>
                        </a:lnTo>
                        <a:lnTo>
                          <a:pt x="259" y="47"/>
                        </a:lnTo>
                        <a:lnTo>
                          <a:pt x="254" y="52"/>
                        </a:lnTo>
                        <a:lnTo>
                          <a:pt x="248" y="56"/>
                        </a:lnTo>
                        <a:lnTo>
                          <a:pt x="242" y="62"/>
                        </a:lnTo>
                        <a:lnTo>
                          <a:pt x="236" y="66"/>
                        </a:lnTo>
                        <a:lnTo>
                          <a:pt x="231" y="72"/>
                        </a:lnTo>
                        <a:lnTo>
                          <a:pt x="227" y="76"/>
                        </a:lnTo>
                        <a:lnTo>
                          <a:pt x="224" y="80"/>
                        </a:lnTo>
                        <a:lnTo>
                          <a:pt x="222" y="81"/>
                        </a:lnTo>
                        <a:lnTo>
                          <a:pt x="221" y="84"/>
                        </a:lnTo>
                        <a:lnTo>
                          <a:pt x="219" y="85"/>
                        </a:lnTo>
                        <a:lnTo>
                          <a:pt x="218" y="87"/>
                        </a:lnTo>
                        <a:lnTo>
                          <a:pt x="215" y="89"/>
                        </a:lnTo>
                        <a:lnTo>
                          <a:pt x="212" y="94"/>
                        </a:lnTo>
                        <a:lnTo>
                          <a:pt x="207" y="95"/>
                        </a:lnTo>
                        <a:lnTo>
                          <a:pt x="204" y="98"/>
                        </a:lnTo>
                        <a:lnTo>
                          <a:pt x="201" y="99"/>
                        </a:lnTo>
                        <a:lnTo>
                          <a:pt x="199" y="100"/>
                        </a:lnTo>
                        <a:lnTo>
                          <a:pt x="204" y="94"/>
                        </a:lnTo>
                        <a:lnTo>
                          <a:pt x="208" y="88"/>
                        </a:lnTo>
                        <a:lnTo>
                          <a:pt x="212" y="84"/>
                        </a:lnTo>
                        <a:lnTo>
                          <a:pt x="216" y="78"/>
                        </a:lnTo>
                        <a:lnTo>
                          <a:pt x="219" y="73"/>
                        </a:lnTo>
                        <a:lnTo>
                          <a:pt x="222" y="69"/>
                        </a:lnTo>
                        <a:lnTo>
                          <a:pt x="225" y="65"/>
                        </a:lnTo>
                        <a:lnTo>
                          <a:pt x="228" y="61"/>
                        </a:lnTo>
                        <a:lnTo>
                          <a:pt x="231" y="55"/>
                        </a:lnTo>
                        <a:lnTo>
                          <a:pt x="236" y="51"/>
                        </a:lnTo>
                        <a:lnTo>
                          <a:pt x="239" y="47"/>
                        </a:lnTo>
                        <a:lnTo>
                          <a:pt x="244" y="43"/>
                        </a:lnTo>
                        <a:lnTo>
                          <a:pt x="248" y="39"/>
                        </a:lnTo>
                        <a:lnTo>
                          <a:pt x="254" y="35"/>
                        </a:lnTo>
                        <a:lnTo>
                          <a:pt x="259" y="30"/>
                        </a:lnTo>
                        <a:lnTo>
                          <a:pt x="265" y="26"/>
                        </a:lnTo>
                        <a:lnTo>
                          <a:pt x="267" y="24"/>
                        </a:lnTo>
                        <a:lnTo>
                          <a:pt x="270" y="21"/>
                        </a:lnTo>
                        <a:lnTo>
                          <a:pt x="273" y="17"/>
                        </a:lnTo>
                        <a:lnTo>
                          <a:pt x="277" y="11"/>
                        </a:lnTo>
                        <a:lnTo>
                          <a:pt x="280" y="7"/>
                        </a:lnTo>
                        <a:lnTo>
                          <a:pt x="283" y="3"/>
                        </a:lnTo>
                        <a:lnTo>
                          <a:pt x="285" y="0"/>
                        </a:lnTo>
                        <a:lnTo>
                          <a:pt x="286" y="0"/>
                        </a:lnTo>
                        <a:lnTo>
                          <a:pt x="283" y="0"/>
                        </a:lnTo>
                        <a:lnTo>
                          <a:pt x="280" y="3"/>
                        </a:lnTo>
                        <a:lnTo>
                          <a:pt x="276" y="6"/>
                        </a:lnTo>
                        <a:lnTo>
                          <a:pt x="271" y="10"/>
                        </a:lnTo>
                        <a:lnTo>
                          <a:pt x="265" y="14"/>
                        </a:lnTo>
                        <a:lnTo>
                          <a:pt x="262" y="17"/>
                        </a:lnTo>
                        <a:lnTo>
                          <a:pt x="259" y="19"/>
                        </a:lnTo>
                        <a:lnTo>
                          <a:pt x="257" y="19"/>
                        </a:lnTo>
                        <a:lnTo>
                          <a:pt x="254" y="22"/>
                        </a:lnTo>
                        <a:lnTo>
                          <a:pt x="250" y="26"/>
                        </a:lnTo>
                        <a:lnTo>
                          <a:pt x="247" y="29"/>
                        </a:lnTo>
                        <a:lnTo>
                          <a:pt x="244" y="32"/>
                        </a:lnTo>
                        <a:lnTo>
                          <a:pt x="239" y="35"/>
                        </a:lnTo>
                        <a:lnTo>
                          <a:pt x="236" y="39"/>
                        </a:lnTo>
                        <a:lnTo>
                          <a:pt x="231" y="41"/>
                        </a:lnTo>
                        <a:lnTo>
                          <a:pt x="227" y="44"/>
                        </a:lnTo>
                        <a:lnTo>
                          <a:pt x="224" y="48"/>
                        </a:lnTo>
                        <a:lnTo>
                          <a:pt x="219" y="52"/>
                        </a:lnTo>
                        <a:lnTo>
                          <a:pt x="215" y="55"/>
                        </a:lnTo>
                        <a:lnTo>
                          <a:pt x="210" y="59"/>
                        </a:lnTo>
                        <a:lnTo>
                          <a:pt x="205" y="62"/>
                        </a:lnTo>
                        <a:lnTo>
                          <a:pt x="202" y="66"/>
                        </a:lnTo>
                        <a:lnTo>
                          <a:pt x="198" y="69"/>
                        </a:lnTo>
                        <a:lnTo>
                          <a:pt x="193" y="72"/>
                        </a:lnTo>
                        <a:lnTo>
                          <a:pt x="189" y="74"/>
                        </a:lnTo>
                        <a:lnTo>
                          <a:pt x="186" y="77"/>
                        </a:lnTo>
                        <a:lnTo>
                          <a:pt x="179" y="80"/>
                        </a:lnTo>
                        <a:lnTo>
                          <a:pt x="175" y="83"/>
                        </a:lnTo>
                        <a:lnTo>
                          <a:pt x="172" y="83"/>
                        </a:lnTo>
                        <a:lnTo>
                          <a:pt x="172" y="81"/>
                        </a:lnTo>
                        <a:lnTo>
                          <a:pt x="172" y="80"/>
                        </a:lnTo>
                        <a:lnTo>
                          <a:pt x="175" y="77"/>
                        </a:lnTo>
                        <a:lnTo>
                          <a:pt x="176" y="73"/>
                        </a:lnTo>
                        <a:lnTo>
                          <a:pt x="179" y="70"/>
                        </a:lnTo>
                        <a:lnTo>
                          <a:pt x="176" y="70"/>
                        </a:lnTo>
                        <a:lnTo>
                          <a:pt x="172" y="73"/>
                        </a:lnTo>
                        <a:lnTo>
                          <a:pt x="166" y="76"/>
                        </a:lnTo>
                        <a:lnTo>
                          <a:pt x="160" y="81"/>
                        </a:lnTo>
                        <a:lnTo>
                          <a:pt x="156" y="83"/>
                        </a:lnTo>
                        <a:lnTo>
                          <a:pt x="152" y="85"/>
                        </a:lnTo>
                        <a:lnTo>
                          <a:pt x="149" y="88"/>
                        </a:lnTo>
                        <a:lnTo>
                          <a:pt x="144" y="92"/>
                        </a:lnTo>
                        <a:lnTo>
                          <a:pt x="141" y="95"/>
                        </a:lnTo>
                        <a:lnTo>
                          <a:pt x="138" y="98"/>
                        </a:lnTo>
                        <a:lnTo>
                          <a:pt x="134" y="100"/>
                        </a:lnTo>
                        <a:lnTo>
                          <a:pt x="130" y="105"/>
                        </a:lnTo>
                        <a:lnTo>
                          <a:pt x="127" y="107"/>
                        </a:lnTo>
                        <a:lnTo>
                          <a:pt x="123" y="110"/>
                        </a:lnTo>
                        <a:lnTo>
                          <a:pt x="120" y="113"/>
                        </a:lnTo>
                        <a:lnTo>
                          <a:pt x="115" y="115"/>
                        </a:lnTo>
                        <a:lnTo>
                          <a:pt x="109" y="121"/>
                        </a:lnTo>
                        <a:lnTo>
                          <a:pt x="103" y="128"/>
                        </a:lnTo>
                        <a:lnTo>
                          <a:pt x="97" y="132"/>
                        </a:lnTo>
                        <a:lnTo>
                          <a:pt x="94" y="136"/>
                        </a:lnTo>
                        <a:lnTo>
                          <a:pt x="91" y="140"/>
                        </a:lnTo>
                        <a:lnTo>
                          <a:pt x="89" y="143"/>
                        </a:lnTo>
                        <a:lnTo>
                          <a:pt x="88" y="143"/>
                        </a:lnTo>
                        <a:lnTo>
                          <a:pt x="86" y="144"/>
                        </a:lnTo>
                        <a:lnTo>
                          <a:pt x="83" y="146"/>
                        </a:lnTo>
                        <a:lnTo>
                          <a:pt x="78" y="150"/>
                        </a:lnTo>
                        <a:lnTo>
                          <a:pt x="72" y="153"/>
                        </a:lnTo>
                        <a:lnTo>
                          <a:pt x="68" y="157"/>
                        </a:lnTo>
                        <a:lnTo>
                          <a:pt x="62" y="159"/>
                        </a:lnTo>
                        <a:lnTo>
                          <a:pt x="56" y="165"/>
                        </a:lnTo>
                        <a:lnTo>
                          <a:pt x="49" y="169"/>
                        </a:lnTo>
                        <a:lnTo>
                          <a:pt x="43" y="172"/>
                        </a:lnTo>
                        <a:lnTo>
                          <a:pt x="37" y="176"/>
                        </a:lnTo>
                        <a:lnTo>
                          <a:pt x="31" y="181"/>
                        </a:lnTo>
                        <a:lnTo>
                          <a:pt x="25" y="184"/>
                        </a:lnTo>
                        <a:lnTo>
                          <a:pt x="22" y="187"/>
                        </a:lnTo>
                        <a:lnTo>
                          <a:pt x="17" y="188"/>
                        </a:lnTo>
                        <a:lnTo>
                          <a:pt x="16" y="191"/>
                        </a:lnTo>
                        <a:lnTo>
                          <a:pt x="13" y="188"/>
                        </a:lnTo>
                        <a:lnTo>
                          <a:pt x="14" y="184"/>
                        </a:lnTo>
                        <a:lnTo>
                          <a:pt x="20" y="181"/>
                        </a:lnTo>
                        <a:lnTo>
                          <a:pt x="22" y="179"/>
                        </a:lnTo>
                        <a:lnTo>
                          <a:pt x="26" y="176"/>
                        </a:lnTo>
                        <a:lnTo>
                          <a:pt x="30" y="175"/>
                        </a:lnTo>
                        <a:lnTo>
                          <a:pt x="34" y="172"/>
                        </a:lnTo>
                        <a:lnTo>
                          <a:pt x="37" y="169"/>
                        </a:lnTo>
                        <a:lnTo>
                          <a:pt x="42" y="168"/>
                        </a:lnTo>
                        <a:lnTo>
                          <a:pt x="45" y="165"/>
                        </a:lnTo>
                        <a:lnTo>
                          <a:pt x="48" y="164"/>
                        </a:lnTo>
                        <a:lnTo>
                          <a:pt x="54" y="159"/>
                        </a:lnTo>
                        <a:lnTo>
                          <a:pt x="59" y="157"/>
                        </a:lnTo>
                        <a:lnTo>
                          <a:pt x="62" y="151"/>
                        </a:lnTo>
                        <a:lnTo>
                          <a:pt x="66" y="146"/>
                        </a:lnTo>
                        <a:lnTo>
                          <a:pt x="71" y="140"/>
                        </a:lnTo>
                        <a:lnTo>
                          <a:pt x="77" y="135"/>
                        </a:lnTo>
                        <a:lnTo>
                          <a:pt x="82" y="128"/>
                        </a:lnTo>
                        <a:lnTo>
                          <a:pt x="88" y="124"/>
                        </a:lnTo>
                        <a:lnTo>
                          <a:pt x="92" y="120"/>
                        </a:lnTo>
                        <a:lnTo>
                          <a:pt x="97" y="118"/>
                        </a:lnTo>
                        <a:lnTo>
                          <a:pt x="100" y="111"/>
                        </a:lnTo>
                        <a:lnTo>
                          <a:pt x="94" y="113"/>
                        </a:lnTo>
                        <a:lnTo>
                          <a:pt x="89" y="115"/>
                        </a:lnTo>
                        <a:lnTo>
                          <a:pt x="83" y="118"/>
                        </a:lnTo>
                        <a:lnTo>
                          <a:pt x="78" y="120"/>
                        </a:lnTo>
                        <a:lnTo>
                          <a:pt x="75" y="124"/>
                        </a:lnTo>
                        <a:lnTo>
                          <a:pt x="72" y="128"/>
                        </a:lnTo>
                        <a:lnTo>
                          <a:pt x="69" y="132"/>
                        </a:lnTo>
                        <a:lnTo>
                          <a:pt x="68" y="135"/>
                        </a:lnTo>
                        <a:lnTo>
                          <a:pt x="62" y="140"/>
                        </a:lnTo>
                        <a:lnTo>
                          <a:pt x="59" y="144"/>
                        </a:lnTo>
                        <a:lnTo>
                          <a:pt x="56" y="147"/>
                        </a:lnTo>
                        <a:lnTo>
                          <a:pt x="51" y="150"/>
                        </a:lnTo>
                        <a:lnTo>
                          <a:pt x="48" y="153"/>
                        </a:lnTo>
                        <a:lnTo>
                          <a:pt x="45" y="155"/>
                        </a:lnTo>
                        <a:lnTo>
                          <a:pt x="40" y="157"/>
                        </a:lnTo>
                        <a:lnTo>
                          <a:pt x="36" y="159"/>
                        </a:lnTo>
                        <a:lnTo>
                          <a:pt x="31" y="162"/>
                        </a:lnTo>
                        <a:lnTo>
                          <a:pt x="26" y="165"/>
                        </a:lnTo>
                        <a:lnTo>
                          <a:pt x="23" y="168"/>
                        </a:lnTo>
                        <a:lnTo>
                          <a:pt x="20" y="170"/>
                        </a:lnTo>
                        <a:lnTo>
                          <a:pt x="17" y="173"/>
                        </a:lnTo>
                        <a:lnTo>
                          <a:pt x="14" y="177"/>
                        </a:lnTo>
                        <a:lnTo>
                          <a:pt x="11" y="180"/>
                        </a:lnTo>
                        <a:lnTo>
                          <a:pt x="8" y="184"/>
                        </a:lnTo>
                        <a:lnTo>
                          <a:pt x="4" y="190"/>
                        </a:lnTo>
                        <a:lnTo>
                          <a:pt x="0" y="195"/>
                        </a:lnTo>
                        <a:lnTo>
                          <a:pt x="8" y="195"/>
                        </a:lnTo>
                        <a:lnTo>
                          <a:pt x="14" y="195"/>
                        </a:lnTo>
                        <a:lnTo>
                          <a:pt x="22" y="195"/>
                        </a:lnTo>
                        <a:lnTo>
                          <a:pt x="30" y="195"/>
                        </a:lnTo>
                        <a:lnTo>
                          <a:pt x="37" y="195"/>
                        </a:lnTo>
                        <a:lnTo>
                          <a:pt x="45" y="195"/>
                        </a:lnTo>
                        <a:lnTo>
                          <a:pt x="51" y="195"/>
                        </a:lnTo>
                        <a:lnTo>
                          <a:pt x="59" y="195"/>
                        </a:lnTo>
                        <a:lnTo>
                          <a:pt x="66" y="194"/>
                        </a:lnTo>
                        <a:lnTo>
                          <a:pt x="74" y="194"/>
                        </a:lnTo>
                        <a:lnTo>
                          <a:pt x="80" y="194"/>
                        </a:lnTo>
                        <a:lnTo>
                          <a:pt x="88" y="194"/>
                        </a:lnTo>
                        <a:lnTo>
                          <a:pt x="95" y="194"/>
                        </a:lnTo>
                        <a:lnTo>
                          <a:pt x="103" y="194"/>
                        </a:lnTo>
                        <a:lnTo>
                          <a:pt x="111" y="192"/>
                        </a:lnTo>
                        <a:lnTo>
                          <a:pt x="117" y="192"/>
                        </a:lnTo>
                        <a:lnTo>
                          <a:pt x="124" y="191"/>
                        </a:lnTo>
                        <a:lnTo>
                          <a:pt x="130" y="191"/>
                        </a:lnTo>
                        <a:lnTo>
                          <a:pt x="138" y="191"/>
                        </a:lnTo>
                        <a:lnTo>
                          <a:pt x="146" y="191"/>
                        </a:lnTo>
                        <a:lnTo>
                          <a:pt x="153" y="190"/>
                        </a:lnTo>
                        <a:lnTo>
                          <a:pt x="160" y="190"/>
                        </a:lnTo>
                        <a:lnTo>
                          <a:pt x="167" y="188"/>
                        </a:lnTo>
                        <a:lnTo>
                          <a:pt x="175" y="188"/>
                        </a:lnTo>
                        <a:lnTo>
                          <a:pt x="182" y="187"/>
                        </a:lnTo>
                        <a:lnTo>
                          <a:pt x="189" y="187"/>
                        </a:lnTo>
                        <a:lnTo>
                          <a:pt x="196" y="186"/>
                        </a:lnTo>
                        <a:lnTo>
                          <a:pt x="204" y="186"/>
                        </a:lnTo>
                        <a:lnTo>
                          <a:pt x="212" y="184"/>
                        </a:lnTo>
                        <a:lnTo>
                          <a:pt x="219" y="184"/>
                        </a:lnTo>
                        <a:lnTo>
                          <a:pt x="227" y="184"/>
                        </a:lnTo>
                        <a:lnTo>
                          <a:pt x="234" y="184"/>
                        </a:lnTo>
                        <a:lnTo>
                          <a:pt x="242" y="183"/>
                        </a:lnTo>
                        <a:lnTo>
                          <a:pt x="250" y="181"/>
                        </a:lnTo>
                        <a:lnTo>
                          <a:pt x="257" y="181"/>
                        </a:lnTo>
                        <a:lnTo>
                          <a:pt x="265" y="181"/>
                        </a:lnTo>
                        <a:lnTo>
                          <a:pt x="273" y="180"/>
                        </a:lnTo>
                        <a:lnTo>
                          <a:pt x="280" y="180"/>
                        </a:lnTo>
                        <a:lnTo>
                          <a:pt x="288" y="179"/>
                        </a:lnTo>
                        <a:lnTo>
                          <a:pt x="296" y="179"/>
                        </a:lnTo>
                        <a:lnTo>
                          <a:pt x="303" y="177"/>
                        </a:lnTo>
                        <a:lnTo>
                          <a:pt x="312" y="177"/>
                        </a:lnTo>
                        <a:lnTo>
                          <a:pt x="320" y="177"/>
                        </a:lnTo>
                        <a:lnTo>
                          <a:pt x="328" y="177"/>
                        </a:lnTo>
                        <a:lnTo>
                          <a:pt x="337" y="176"/>
                        </a:lnTo>
                        <a:lnTo>
                          <a:pt x="345" y="176"/>
                        </a:lnTo>
                        <a:lnTo>
                          <a:pt x="354" y="175"/>
                        </a:lnTo>
                        <a:lnTo>
                          <a:pt x="363" y="175"/>
                        </a:lnTo>
                        <a:lnTo>
                          <a:pt x="371" y="175"/>
                        </a:lnTo>
                        <a:lnTo>
                          <a:pt x="380" y="175"/>
                        </a:lnTo>
                        <a:lnTo>
                          <a:pt x="387" y="173"/>
                        </a:lnTo>
                        <a:lnTo>
                          <a:pt x="398" y="173"/>
                        </a:lnTo>
                        <a:lnTo>
                          <a:pt x="406" y="173"/>
                        </a:lnTo>
                        <a:lnTo>
                          <a:pt x="415" y="173"/>
                        </a:lnTo>
                        <a:lnTo>
                          <a:pt x="426" y="173"/>
                        </a:lnTo>
                        <a:lnTo>
                          <a:pt x="435" y="173"/>
                        </a:lnTo>
                        <a:lnTo>
                          <a:pt x="444" y="173"/>
                        </a:lnTo>
                        <a:lnTo>
                          <a:pt x="453" y="173"/>
                        </a:lnTo>
                        <a:lnTo>
                          <a:pt x="462" y="173"/>
                        </a:lnTo>
                        <a:lnTo>
                          <a:pt x="473" y="173"/>
                        </a:lnTo>
                        <a:lnTo>
                          <a:pt x="482" y="173"/>
                        </a:lnTo>
                        <a:lnTo>
                          <a:pt x="493" y="173"/>
                        </a:lnTo>
                        <a:lnTo>
                          <a:pt x="502" y="175"/>
                        </a:lnTo>
                        <a:lnTo>
                          <a:pt x="513" y="175"/>
                        </a:lnTo>
                        <a:lnTo>
                          <a:pt x="470" y="184"/>
                        </a:lnTo>
                        <a:lnTo>
                          <a:pt x="478" y="183"/>
                        </a:lnTo>
                        <a:lnTo>
                          <a:pt x="484" y="183"/>
                        </a:lnTo>
                        <a:lnTo>
                          <a:pt x="490" y="183"/>
                        </a:lnTo>
                        <a:lnTo>
                          <a:pt x="498" y="183"/>
                        </a:lnTo>
                        <a:lnTo>
                          <a:pt x="501" y="181"/>
                        </a:lnTo>
                        <a:lnTo>
                          <a:pt x="504" y="181"/>
                        </a:lnTo>
                        <a:lnTo>
                          <a:pt x="507" y="181"/>
                        </a:lnTo>
                        <a:lnTo>
                          <a:pt x="511" y="181"/>
                        </a:lnTo>
                        <a:lnTo>
                          <a:pt x="514" y="181"/>
                        </a:lnTo>
                        <a:lnTo>
                          <a:pt x="517" y="181"/>
                        </a:lnTo>
                        <a:lnTo>
                          <a:pt x="522" y="181"/>
                        </a:lnTo>
                        <a:lnTo>
                          <a:pt x="525" y="181"/>
                        </a:lnTo>
                        <a:lnTo>
                          <a:pt x="531" y="180"/>
                        </a:lnTo>
                        <a:lnTo>
                          <a:pt x="539" y="180"/>
                        </a:lnTo>
                        <a:lnTo>
                          <a:pt x="542" y="179"/>
                        </a:lnTo>
                        <a:lnTo>
                          <a:pt x="545" y="179"/>
                        </a:lnTo>
                        <a:lnTo>
                          <a:pt x="550" y="179"/>
                        </a:lnTo>
                        <a:lnTo>
                          <a:pt x="553" y="179"/>
                        </a:lnTo>
                        <a:lnTo>
                          <a:pt x="556" y="177"/>
                        </a:lnTo>
                        <a:lnTo>
                          <a:pt x="559" y="177"/>
                        </a:lnTo>
                        <a:lnTo>
                          <a:pt x="563" y="177"/>
                        </a:lnTo>
                        <a:lnTo>
                          <a:pt x="566" y="177"/>
                        </a:lnTo>
                        <a:lnTo>
                          <a:pt x="569" y="177"/>
                        </a:lnTo>
                        <a:lnTo>
                          <a:pt x="574" y="177"/>
                        </a:lnTo>
                        <a:lnTo>
                          <a:pt x="577" y="177"/>
                        </a:lnTo>
                        <a:lnTo>
                          <a:pt x="582" y="177"/>
                        </a:lnTo>
                        <a:lnTo>
                          <a:pt x="576" y="172"/>
                        </a:lnTo>
                        <a:lnTo>
                          <a:pt x="569" y="166"/>
                        </a:lnTo>
                        <a:lnTo>
                          <a:pt x="563" y="162"/>
                        </a:lnTo>
                        <a:lnTo>
                          <a:pt x="559" y="157"/>
                        </a:lnTo>
                        <a:lnTo>
                          <a:pt x="553" y="151"/>
                        </a:lnTo>
                        <a:lnTo>
                          <a:pt x="547" y="147"/>
                        </a:lnTo>
                        <a:lnTo>
                          <a:pt x="540" y="142"/>
                        </a:lnTo>
                        <a:lnTo>
                          <a:pt x="536" y="137"/>
                        </a:lnTo>
                        <a:lnTo>
                          <a:pt x="528" y="132"/>
                        </a:lnTo>
                        <a:lnTo>
                          <a:pt x="524" y="126"/>
                        </a:lnTo>
                        <a:lnTo>
                          <a:pt x="517" y="122"/>
                        </a:lnTo>
                        <a:lnTo>
                          <a:pt x="511" y="117"/>
                        </a:lnTo>
                        <a:lnTo>
                          <a:pt x="505" y="111"/>
                        </a:lnTo>
                        <a:lnTo>
                          <a:pt x="501" y="107"/>
                        </a:lnTo>
                        <a:lnTo>
                          <a:pt x="495" y="102"/>
                        </a:lnTo>
                        <a:lnTo>
                          <a:pt x="488" y="98"/>
                        </a:lnTo>
                        <a:lnTo>
                          <a:pt x="482" y="92"/>
                        </a:lnTo>
                        <a:lnTo>
                          <a:pt x="476" y="87"/>
                        </a:lnTo>
                        <a:lnTo>
                          <a:pt x="470" y="83"/>
                        </a:lnTo>
                        <a:lnTo>
                          <a:pt x="465" y="77"/>
                        </a:lnTo>
                        <a:lnTo>
                          <a:pt x="459" y="72"/>
                        </a:lnTo>
                        <a:lnTo>
                          <a:pt x="453" y="67"/>
                        </a:lnTo>
                        <a:lnTo>
                          <a:pt x="447" y="62"/>
                        </a:lnTo>
                        <a:lnTo>
                          <a:pt x="441" y="58"/>
                        </a:lnTo>
                        <a:lnTo>
                          <a:pt x="435" y="52"/>
                        </a:lnTo>
                        <a:lnTo>
                          <a:pt x="429" y="48"/>
                        </a:lnTo>
                        <a:lnTo>
                          <a:pt x="423" y="44"/>
                        </a:lnTo>
                        <a:lnTo>
                          <a:pt x="418" y="39"/>
                        </a:lnTo>
                        <a:lnTo>
                          <a:pt x="412" y="35"/>
                        </a:lnTo>
                        <a:lnTo>
                          <a:pt x="406" y="30"/>
                        </a:lnTo>
                        <a:lnTo>
                          <a:pt x="400" y="26"/>
                        </a:lnTo>
                        <a:lnTo>
                          <a:pt x="395" y="22"/>
                        </a:lnTo>
                        <a:lnTo>
                          <a:pt x="392" y="21"/>
                        </a:lnTo>
                        <a:lnTo>
                          <a:pt x="386" y="18"/>
                        </a:lnTo>
                        <a:lnTo>
                          <a:pt x="380" y="14"/>
                        </a:lnTo>
                        <a:lnTo>
                          <a:pt x="377" y="14"/>
                        </a:lnTo>
                        <a:lnTo>
                          <a:pt x="453" y="81"/>
                        </a:lnTo>
                        <a:lnTo>
                          <a:pt x="426" y="67"/>
                        </a:lnTo>
                        <a:lnTo>
                          <a:pt x="429" y="70"/>
                        </a:lnTo>
                        <a:lnTo>
                          <a:pt x="432" y="73"/>
                        </a:lnTo>
                        <a:lnTo>
                          <a:pt x="435" y="76"/>
                        </a:lnTo>
                        <a:lnTo>
                          <a:pt x="439" y="80"/>
                        </a:lnTo>
                        <a:lnTo>
                          <a:pt x="443" y="83"/>
                        </a:lnTo>
                        <a:lnTo>
                          <a:pt x="447" y="85"/>
                        </a:lnTo>
                        <a:lnTo>
                          <a:pt x="450" y="88"/>
                        </a:lnTo>
                        <a:lnTo>
                          <a:pt x="455" y="91"/>
                        </a:lnTo>
                        <a:lnTo>
                          <a:pt x="459" y="94"/>
                        </a:lnTo>
                        <a:lnTo>
                          <a:pt x="462" y="96"/>
                        </a:lnTo>
                        <a:lnTo>
                          <a:pt x="467" y="99"/>
                        </a:lnTo>
                        <a:lnTo>
                          <a:pt x="470" y="102"/>
                        </a:lnTo>
                        <a:lnTo>
                          <a:pt x="475" y="106"/>
                        </a:lnTo>
                        <a:lnTo>
                          <a:pt x="478" y="109"/>
                        </a:lnTo>
                        <a:lnTo>
                          <a:pt x="482" y="113"/>
                        </a:lnTo>
                        <a:lnTo>
                          <a:pt x="485" y="115"/>
                        </a:lnTo>
                        <a:lnTo>
                          <a:pt x="372" y="36"/>
                        </a:lnTo>
                        <a:lnTo>
                          <a:pt x="369" y="35"/>
                        </a:lnTo>
                        <a:lnTo>
                          <a:pt x="366" y="32"/>
                        </a:lnTo>
                        <a:lnTo>
                          <a:pt x="363" y="29"/>
                        </a:lnTo>
                        <a:lnTo>
                          <a:pt x="360" y="26"/>
                        </a:lnTo>
                        <a:lnTo>
                          <a:pt x="355" y="24"/>
                        </a:lnTo>
                        <a:lnTo>
                          <a:pt x="352" y="21"/>
                        </a:lnTo>
                        <a:lnTo>
                          <a:pt x="348" y="18"/>
                        </a:lnTo>
                        <a:lnTo>
                          <a:pt x="345" y="15"/>
                        </a:lnTo>
                        <a:lnTo>
                          <a:pt x="342" y="11"/>
                        </a:lnTo>
                        <a:lnTo>
                          <a:pt x="337" y="10"/>
                        </a:lnTo>
                        <a:lnTo>
                          <a:pt x="334" y="7"/>
                        </a:lnTo>
                        <a:lnTo>
                          <a:pt x="331" y="6"/>
                        </a:lnTo>
                        <a:lnTo>
                          <a:pt x="326" y="4"/>
                        </a:lnTo>
                        <a:lnTo>
                          <a:pt x="323" y="7"/>
                        </a:lnTo>
                        <a:lnTo>
                          <a:pt x="328" y="11"/>
                        </a:lnTo>
                        <a:lnTo>
                          <a:pt x="332" y="14"/>
                        </a:lnTo>
                        <a:lnTo>
                          <a:pt x="339" y="18"/>
                        </a:lnTo>
                        <a:lnTo>
                          <a:pt x="345" y="24"/>
                        </a:lnTo>
                        <a:lnTo>
                          <a:pt x="351" y="26"/>
                        </a:lnTo>
                        <a:lnTo>
                          <a:pt x="355" y="30"/>
                        </a:lnTo>
                        <a:lnTo>
                          <a:pt x="361" y="35"/>
                        </a:lnTo>
                        <a:lnTo>
                          <a:pt x="365" y="39"/>
                        </a:lnTo>
                        <a:lnTo>
                          <a:pt x="369" y="43"/>
                        </a:lnTo>
                        <a:lnTo>
                          <a:pt x="374" y="47"/>
                        </a:lnTo>
                        <a:lnTo>
                          <a:pt x="378" y="51"/>
                        </a:lnTo>
                        <a:lnTo>
                          <a:pt x="384" y="55"/>
                        </a:lnTo>
                        <a:lnTo>
                          <a:pt x="389" y="59"/>
                        </a:lnTo>
                        <a:lnTo>
                          <a:pt x="395" y="63"/>
                        </a:lnTo>
                        <a:lnTo>
                          <a:pt x="400" y="67"/>
                        </a:lnTo>
                        <a:lnTo>
                          <a:pt x="406" y="72"/>
                        </a:lnTo>
                        <a:lnTo>
                          <a:pt x="410" y="74"/>
                        </a:lnTo>
                        <a:lnTo>
                          <a:pt x="415" y="80"/>
                        </a:lnTo>
                        <a:lnTo>
                          <a:pt x="421" y="83"/>
                        </a:lnTo>
                        <a:lnTo>
                          <a:pt x="426" y="87"/>
                        </a:lnTo>
                        <a:lnTo>
                          <a:pt x="430" y="91"/>
                        </a:lnTo>
                        <a:lnTo>
                          <a:pt x="436" y="95"/>
                        </a:lnTo>
                        <a:lnTo>
                          <a:pt x="439" y="99"/>
                        </a:lnTo>
                        <a:lnTo>
                          <a:pt x="446" y="105"/>
                        </a:lnTo>
                        <a:lnTo>
                          <a:pt x="449" y="107"/>
                        </a:lnTo>
                        <a:lnTo>
                          <a:pt x="453" y="113"/>
                        </a:lnTo>
                        <a:lnTo>
                          <a:pt x="458" y="118"/>
                        </a:lnTo>
                        <a:lnTo>
                          <a:pt x="461" y="120"/>
                        </a:lnTo>
                        <a:lnTo>
                          <a:pt x="458" y="120"/>
                        </a:lnTo>
                        <a:lnTo>
                          <a:pt x="455" y="118"/>
                        </a:lnTo>
                        <a:lnTo>
                          <a:pt x="452" y="117"/>
                        </a:lnTo>
                        <a:lnTo>
                          <a:pt x="447" y="114"/>
                        </a:lnTo>
                        <a:lnTo>
                          <a:pt x="444" y="113"/>
                        </a:lnTo>
                        <a:lnTo>
                          <a:pt x="441" y="110"/>
                        </a:lnTo>
                        <a:lnTo>
                          <a:pt x="438" y="109"/>
                        </a:lnTo>
                        <a:lnTo>
                          <a:pt x="433" y="106"/>
                        </a:lnTo>
                        <a:lnTo>
                          <a:pt x="429" y="102"/>
                        </a:lnTo>
                        <a:lnTo>
                          <a:pt x="426" y="99"/>
                        </a:lnTo>
                        <a:lnTo>
                          <a:pt x="423" y="98"/>
                        </a:lnTo>
                        <a:lnTo>
                          <a:pt x="418" y="95"/>
                        </a:lnTo>
                        <a:lnTo>
                          <a:pt x="415" y="92"/>
                        </a:lnTo>
                        <a:lnTo>
                          <a:pt x="410" y="88"/>
                        </a:lnTo>
                        <a:lnTo>
                          <a:pt x="407" y="84"/>
                        </a:lnTo>
                        <a:lnTo>
                          <a:pt x="403" y="81"/>
                        </a:lnTo>
                        <a:lnTo>
                          <a:pt x="398" y="77"/>
                        </a:lnTo>
                        <a:lnTo>
                          <a:pt x="394" y="73"/>
                        </a:lnTo>
                        <a:lnTo>
                          <a:pt x="391" y="70"/>
                        </a:lnTo>
                        <a:lnTo>
                          <a:pt x="384" y="66"/>
                        </a:lnTo>
                        <a:lnTo>
                          <a:pt x="381" y="63"/>
                        </a:lnTo>
                        <a:lnTo>
                          <a:pt x="377" y="59"/>
                        </a:lnTo>
                        <a:lnTo>
                          <a:pt x="372" y="55"/>
                        </a:lnTo>
                        <a:lnTo>
                          <a:pt x="368" y="51"/>
                        </a:lnTo>
                        <a:lnTo>
                          <a:pt x="363" y="48"/>
                        </a:lnTo>
                        <a:lnTo>
                          <a:pt x="358" y="44"/>
                        </a:lnTo>
                        <a:lnTo>
                          <a:pt x="355" y="41"/>
                        </a:lnTo>
                        <a:lnTo>
                          <a:pt x="351" y="39"/>
                        </a:lnTo>
                        <a:lnTo>
                          <a:pt x="348" y="36"/>
                        </a:lnTo>
                        <a:lnTo>
                          <a:pt x="343" y="33"/>
                        </a:lnTo>
                        <a:lnTo>
                          <a:pt x="340" y="32"/>
                        </a:lnTo>
                        <a:lnTo>
                          <a:pt x="337" y="29"/>
                        </a:lnTo>
                        <a:lnTo>
                          <a:pt x="335" y="29"/>
                        </a:lnTo>
                        <a:lnTo>
                          <a:pt x="331" y="26"/>
                        </a:lnTo>
                        <a:lnTo>
                          <a:pt x="329" y="26"/>
                        </a:lnTo>
                        <a:lnTo>
                          <a:pt x="331" y="29"/>
                        </a:lnTo>
                        <a:lnTo>
                          <a:pt x="332" y="32"/>
                        </a:lnTo>
                        <a:lnTo>
                          <a:pt x="334" y="36"/>
                        </a:lnTo>
                        <a:lnTo>
                          <a:pt x="337" y="39"/>
                        </a:lnTo>
                        <a:lnTo>
                          <a:pt x="372" y="66"/>
                        </a:lnTo>
                        <a:lnTo>
                          <a:pt x="374" y="74"/>
                        </a:lnTo>
                        <a:lnTo>
                          <a:pt x="378" y="78"/>
                        </a:lnTo>
                        <a:lnTo>
                          <a:pt x="383" y="83"/>
                        </a:lnTo>
                        <a:lnTo>
                          <a:pt x="387" y="85"/>
                        </a:lnTo>
                        <a:lnTo>
                          <a:pt x="392" y="89"/>
                        </a:lnTo>
                        <a:lnTo>
                          <a:pt x="397" y="92"/>
                        </a:lnTo>
                        <a:lnTo>
                          <a:pt x="401" y="95"/>
                        </a:lnTo>
                        <a:lnTo>
                          <a:pt x="406" y="99"/>
                        </a:lnTo>
                        <a:lnTo>
                          <a:pt x="410" y="102"/>
                        </a:lnTo>
                        <a:lnTo>
                          <a:pt x="415" y="105"/>
                        </a:lnTo>
                        <a:lnTo>
                          <a:pt x="420" y="109"/>
                        </a:lnTo>
                        <a:lnTo>
                          <a:pt x="424" y="111"/>
                        </a:lnTo>
                        <a:lnTo>
                          <a:pt x="429" y="115"/>
                        </a:lnTo>
                        <a:lnTo>
                          <a:pt x="433" y="118"/>
                        </a:lnTo>
                        <a:lnTo>
                          <a:pt x="438" y="122"/>
                        </a:lnTo>
                        <a:lnTo>
                          <a:pt x="443" y="126"/>
                        </a:lnTo>
                        <a:lnTo>
                          <a:pt x="447" y="132"/>
                        </a:lnTo>
                        <a:lnTo>
                          <a:pt x="444" y="132"/>
                        </a:lnTo>
                        <a:lnTo>
                          <a:pt x="439" y="132"/>
                        </a:lnTo>
                        <a:lnTo>
                          <a:pt x="436" y="132"/>
                        </a:lnTo>
                        <a:lnTo>
                          <a:pt x="432" y="132"/>
                        </a:lnTo>
                        <a:lnTo>
                          <a:pt x="429" y="132"/>
                        </a:lnTo>
                        <a:lnTo>
                          <a:pt x="426" y="132"/>
                        </a:lnTo>
                        <a:lnTo>
                          <a:pt x="421" y="132"/>
                        </a:lnTo>
                        <a:lnTo>
                          <a:pt x="418" y="132"/>
                        </a:lnTo>
                        <a:lnTo>
                          <a:pt x="415" y="132"/>
                        </a:lnTo>
                        <a:lnTo>
                          <a:pt x="410" y="132"/>
                        </a:lnTo>
                        <a:lnTo>
                          <a:pt x="407" y="132"/>
                        </a:lnTo>
                        <a:lnTo>
                          <a:pt x="403" y="132"/>
                        </a:lnTo>
                        <a:lnTo>
                          <a:pt x="400" y="132"/>
                        </a:lnTo>
                        <a:lnTo>
                          <a:pt x="395" y="132"/>
                        </a:lnTo>
                        <a:lnTo>
                          <a:pt x="392" y="132"/>
                        </a:lnTo>
                        <a:lnTo>
                          <a:pt x="389" y="132"/>
                        </a:lnTo>
                        <a:lnTo>
                          <a:pt x="384" y="132"/>
                        </a:lnTo>
                        <a:lnTo>
                          <a:pt x="381" y="132"/>
                        </a:lnTo>
                        <a:lnTo>
                          <a:pt x="378" y="132"/>
                        </a:lnTo>
                        <a:lnTo>
                          <a:pt x="374" y="132"/>
                        </a:lnTo>
                        <a:lnTo>
                          <a:pt x="371" y="132"/>
                        </a:lnTo>
                        <a:lnTo>
                          <a:pt x="366" y="132"/>
                        </a:lnTo>
                        <a:lnTo>
                          <a:pt x="363" y="132"/>
                        </a:lnTo>
                        <a:lnTo>
                          <a:pt x="360" y="132"/>
                        </a:lnTo>
                        <a:lnTo>
                          <a:pt x="355" y="132"/>
                        </a:lnTo>
                        <a:lnTo>
                          <a:pt x="352" y="132"/>
                        </a:lnTo>
                        <a:lnTo>
                          <a:pt x="348" y="132"/>
                        </a:lnTo>
                        <a:lnTo>
                          <a:pt x="345" y="132"/>
                        </a:lnTo>
                        <a:lnTo>
                          <a:pt x="340" y="132"/>
                        </a:lnTo>
                        <a:lnTo>
                          <a:pt x="337" y="132"/>
                        </a:lnTo>
                        <a:lnTo>
                          <a:pt x="332" y="132"/>
                        </a:lnTo>
                        <a:lnTo>
                          <a:pt x="329" y="132"/>
                        </a:lnTo>
                        <a:lnTo>
                          <a:pt x="326" y="132"/>
                        </a:lnTo>
                        <a:lnTo>
                          <a:pt x="323" y="132"/>
                        </a:lnTo>
                        <a:lnTo>
                          <a:pt x="319" y="132"/>
                        </a:lnTo>
                        <a:lnTo>
                          <a:pt x="316" y="132"/>
                        </a:lnTo>
                        <a:lnTo>
                          <a:pt x="311" y="132"/>
                        </a:lnTo>
                        <a:lnTo>
                          <a:pt x="308" y="132"/>
                        </a:lnTo>
                        <a:lnTo>
                          <a:pt x="303" y="132"/>
                        </a:lnTo>
                        <a:lnTo>
                          <a:pt x="300" y="132"/>
                        </a:lnTo>
                        <a:lnTo>
                          <a:pt x="296" y="132"/>
                        </a:lnTo>
                        <a:lnTo>
                          <a:pt x="293" y="132"/>
                        </a:lnTo>
                        <a:lnTo>
                          <a:pt x="288" y="132"/>
                        </a:lnTo>
                        <a:lnTo>
                          <a:pt x="285" y="132"/>
                        </a:lnTo>
                        <a:lnTo>
                          <a:pt x="282" y="132"/>
                        </a:lnTo>
                        <a:lnTo>
                          <a:pt x="279" y="132"/>
                        </a:lnTo>
                        <a:lnTo>
                          <a:pt x="274" y="132"/>
                        </a:lnTo>
                        <a:lnTo>
                          <a:pt x="271" y="133"/>
                        </a:lnTo>
                        <a:lnTo>
                          <a:pt x="268" y="133"/>
                        </a:lnTo>
                        <a:lnTo>
                          <a:pt x="265" y="133"/>
                        </a:lnTo>
                        <a:lnTo>
                          <a:pt x="260" y="133"/>
                        </a:lnTo>
                        <a:lnTo>
                          <a:pt x="257" y="133"/>
                        </a:lnTo>
                        <a:lnTo>
                          <a:pt x="254" y="133"/>
                        </a:lnTo>
                        <a:lnTo>
                          <a:pt x="251" y="133"/>
                        </a:lnTo>
                        <a:lnTo>
                          <a:pt x="247" y="133"/>
                        </a:lnTo>
                        <a:lnTo>
                          <a:pt x="244" y="135"/>
                        </a:lnTo>
                        <a:lnTo>
                          <a:pt x="238" y="135"/>
                        </a:lnTo>
                        <a:lnTo>
                          <a:pt x="230" y="135"/>
                        </a:lnTo>
                        <a:lnTo>
                          <a:pt x="224" y="135"/>
                        </a:lnTo>
                        <a:lnTo>
                          <a:pt x="218" y="136"/>
                        </a:lnTo>
                        <a:lnTo>
                          <a:pt x="198" y="13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158"/>
                  <p:cNvSpPr/>
                  <p:nvPr/>
                </p:nvSpPr>
                <p:spPr>
                  <a:xfrm>
                    <a:off x="4181400" y="3105000"/>
                    <a:ext cx="15120" cy="1440"/>
                  </a:xfrm>
                  <a:custGeom>
                    <a:avLst/>
                    <a:gdLst>
                      <a:gd name="textAreaLeft" fmla="*/ 0 w 15120"/>
                      <a:gd name="textAreaRight" fmla="*/ 15480 w 1512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105" h="12">
                        <a:moveTo>
                          <a:pt x="105" y="0"/>
                        </a:moveTo>
                        <a:lnTo>
                          <a:pt x="101" y="0"/>
                        </a:lnTo>
                        <a:lnTo>
                          <a:pt x="96" y="0"/>
                        </a:lnTo>
                        <a:lnTo>
                          <a:pt x="93" y="0"/>
                        </a:lnTo>
                        <a:lnTo>
                          <a:pt x="90" y="0"/>
                        </a:lnTo>
                        <a:lnTo>
                          <a:pt x="85" y="0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3" y="1"/>
                        </a:lnTo>
                        <a:lnTo>
                          <a:pt x="68" y="1"/>
                        </a:lnTo>
                        <a:lnTo>
                          <a:pt x="65" y="3"/>
                        </a:lnTo>
                        <a:lnTo>
                          <a:pt x="61" y="3"/>
                        </a:lnTo>
                        <a:lnTo>
                          <a:pt x="56" y="3"/>
                        </a:lnTo>
                        <a:lnTo>
                          <a:pt x="52" y="3"/>
                        </a:lnTo>
                        <a:lnTo>
                          <a:pt x="49" y="4"/>
                        </a:lnTo>
                        <a:lnTo>
                          <a:pt x="44" y="4"/>
                        </a:lnTo>
                        <a:lnTo>
                          <a:pt x="39" y="4"/>
                        </a:lnTo>
                        <a:lnTo>
                          <a:pt x="35" y="6"/>
                        </a:lnTo>
                        <a:lnTo>
                          <a:pt x="32" y="6"/>
                        </a:lnTo>
                        <a:lnTo>
                          <a:pt x="27" y="6"/>
                        </a:lnTo>
                        <a:lnTo>
                          <a:pt x="23" y="6"/>
                        </a:lnTo>
                        <a:lnTo>
                          <a:pt x="20" y="7"/>
                        </a:lnTo>
                        <a:lnTo>
                          <a:pt x="16" y="8"/>
                        </a:lnTo>
                        <a:lnTo>
                          <a:pt x="10" y="8"/>
                        </a:lnTo>
                        <a:lnTo>
                          <a:pt x="4" y="10"/>
                        </a:lnTo>
                        <a:lnTo>
                          <a:pt x="1" y="11"/>
                        </a:lnTo>
                        <a:lnTo>
                          <a:pt x="0" y="12"/>
                        </a:lnTo>
                        <a:lnTo>
                          <a:pt x="4" y="12"/>
                        </a:lnTo>
                        <a:lnTo>
                          <a:pt x="12" y="12"/>
                        </a:lnTo>
                        <a:lnTo>
                          <a:pt x="15" y="11"/>
                        </a:lnTo>
                        <a:lnTo>
                          <a:pt x="18" y="11"/>
                        </a:lnTo>
                        <a:lnTo>
                          <a:pt x="24" y="10"/>
                        </a:lnTo>
                        <a:lnTo>
                          <a:pt x="30" y="10"/>
                        </a:lnTo>
                        <a:lnTo>
                          <a:pt x="35" y="8"/>
                        </a:lnTo>
                        <a:lnTo>
                          <a:pt x="41" y="8"/>
                        </a:lnTo>
                        <a:lnTo>
                          <a:pt x="46" y="8"/>
                        </a:lnTo>
                        <a:lnTo>
                          <a:pt x="47" y="10"/>
                        </a:lnTo>
                        <a:lnTo>
                          <a:pt x="76" y="6"/>
                        </a:lnTo>
                        <a:lnTo>
                          <a:pt x="76" y="7"/>
                        </a:lnTo>
                        <a:lnTo>
                          <a:pt x="79" y="7"/>
                        </a:lnTo>
                        <a:lnTo>
                          <a:pt x="84" y="7"/>
                        </a:lnTo>
                        <a:lnTo>
                          <a:pt x="87" y="6"/>
                        </a:lnTo>
                        <a:lnTo>
                          <a:pt x="93" y="6"/>
                        </a:lnTo>
                        <a:lnTo>
                          <a:pt x="96" y="6"/>
                        </a:lnTo>
                        <a:lnTo>
                          <a:pt x="101" y="4"/>
                        </a:lnTo>
                        <a:lnTo>
                          <a:pt x="104" y="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159"/>
                  <p:cNvSpPr/>
                  <p:nvPr/>
                </p:nvSpPr>
                <p:spPr>
                  <a:xfrm>
                    <a:off x="4211640" y="3105360"/>
                    <a:ext cx="18000" cy="72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24" h="9">
                        <a:moveTo>
                          <a:pt x="124" y="4"/>
                        </a:moveTo>
                        <a:lnTo>
                          <a:pt x="120" y="4"/>
                        </a:lnTo>
                        <a:lnTo>
                          <a:pt x="116" y="4"/>
                        </a:lnTo>
                        <a:lnTo>
                          <a:pt x="112" y="4"/>
                        </a:lnTo>
                        <a:lnTo>
                          <a:pt x="109" y="4"/>
                        </a:lnTo>
                        <a:lnTo>
                          <a:pt x="104" y="4"/>
                        </a:lnTo>
                        <a:lnTo>
                          <a:pt x="100" y="5"/>
                        </a:lnTo>
                        <a:lnTo>
                          <a:pt x="95" y="5"/>
                        </a:lnTo>
                        <a:lnTo>
                          <a:pt x="92" y="7"/>
                        </a:lnTo>
                        <a:lnTo>
                          <a:pt x="87" y="7"/>
                        </a:lnTo>
                        <a:lnTo>
                          <a:pt x="83" y="7"/>
                        </a:lnTo>
                        <a:lnTo>
                          <a:pt x="77" y="7"/>
                        </a:lnTo>
                        <a:lnTo>
                          <a:pt x="74" y="8"/>
                        </a:lnTo>
                        <a:lnTo>
                          <a:pt x="68" y="8"/>
                        </a:lnTo>
                        <a:lnTo>
                          <a:pt x="63" y="8"/>
                        </a:lnTo>
                        <a:lnTo>
                          <a:pt x="58" y="9"/>
                        </a:lnTo>
                        <a:lnTo>
                          <a:pt x="54" y="9"/>
                        </a:lnTo>
                        <a:lnTo>
                          <a:pt x="49" y="9"/>
                        </a:lnTo>
                        <a:lnTo>
                          <a:pt x="45" y="9"/>
                        </a:lnTo>
                        <a:lnTo>
                          <a:pt x="40" y="9"/>
                        </a:lnTo>
                        <a:lnTo>
                          <a:pt x="35" y="9"/>
                        </a:lnTo>
                        <a:lnTo>
                          <a:pt x="32" y="9"/>
                        </a:lnTo>
                        <a:lnTo>
                          <a:pt x="28" y="9"/>
                        </a:lnTo>
                        <a:lnTo>
                          <a:pt x="25" y="9"/>
                        </a:lnTo>
                        <a:lnTo>
                          <a:pt x="20" y="9"/>
                        </a:lnTo>
                        <a:lnTo>
                          <a:pt x="17" y="9"/>
                        </a:lnTo>
                        <a:lnTo>
                          <a:pt x="14" y="9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3" y="7"/>
                        </a:lnTo>
                        <a:lnTo>
                          <a:pt x="0" y="4"/>
                        </a:lnTo>
                        <a:lnTo>
                          <a:pt x="5" y="4"/>
                        </a:lnTo>
                        <a:lnTo>
                          <a:pt x="8" y="4"/>
                        </a:lnTo>
                        <a:lnTo>
                          <a:pt x="12" y="4"/>
                        </a:lnTo>
                        <a:lnTo>
                          <a:pt x="17" y="4"/>
                        </a:lnTo>
                        <a:lnTo>
                          <a:pt x="20" y="4"/>
                        </a:lnTo>
                        <a:lnTo>
                          <a:pt x="25" y="4"/>
                        </a:lnTo>
                        <a:lnTo>
                          <a:pt x="29" y="4"/>
                        </a:lnTo>
                        <a:lnTo>
                          <a:pt x="32" y="4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5" y="3"/>
                        </a:lnTo>
                        <a:lnTo>
                          <a:pt x="49" y="3"/>
                        </a:lnTo>
                        <a:lnTo>
                          <a:pt x="52" y="1"/>
                        </a:lnTo>
                        <a:lnTo>
                          <a:pt x="57" y="1"/>
                        </a:lnTo>
                        <a:lnTo>
                          <a:pt x="60" y="1"/>
                        </a:lnTo>
                        <a:lnTo>
                          <a:pt x="64" y="1"/>
                        </a:lnTo>
                        <a:lnTo>
                          <a:pt x="69" y="1"/>
                        </a:lnTo>
                        <a:lnTo>
                          <a:pt x="72" y="0"/>
                        </a:lnTo>
                        <a:lnTo>
                          <a:pt x="77" y="0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5" y="0"/>
                        </a:lnTo>
                        <a:lnTo>
                          <a:pt x="98" y="0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09" y="1"/>
                        </a:lnTo>
                        <a:lnTo>
                          <a:pt x="113" y="1"/>
                        </a:lnTo>
                        <a:lnTo>
                          <a:pt x="116" y="3"/>
                        </a:lnTo>
                        <a:lnTo>
                          <a:pt x="121" y="3"/>
                        </a:lnTo>
                        <a:lnTo>
                          <a:pt x="124" y="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160"/>
                  <p:cNvSpPr/>
                  <p:nvPr/>
                </p:nvSpPr>
                <p:spPr>
                  <a:xfrm>
                    <a:off x="4113720" y="3193920"/>
                    <a:ext cx="183960" cy="2808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1270" h="216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0" y="11"/>
                        </a:lnTo>
                        <a:lnTo>
                          <a:pt x="2" y="17"/>
                        </a:lnTo>
                        <a:lnTo>
                          <a:pt x="2" y="22"/>
                        </a:lnTo>
                        <a:lnTo>
                          <a:pt x="2" y="28"/>
                        </a:lnTo>
                        <a:lnTo>
                          <a:pt x="3" y="34"/>
                        </a:lnTo>
                        <a:lnTo>
                          <a:pt x="3" y="37"/>
                        </a:lnTo>
                        <a:lnTo>
                          <a:pt x="3" y="40"/>
                        </a:lnTo>
                        <a:lnTo>
                          <a:pt x="3" y="43"/>
                        </a:lnTo>
                        <a:lnTo>
                          <a:pt x="3" y="47"/>
                        </a:lnTo>
                        <a:lnTo>
                          <a:pt x="3" y="52"/>
                        </a:lnTo>
                        <a:lnTo>
                          <a:pt x="5" y="58"/>
                        </a:lnTo>
                        <a:lnTo>
                          <a:pt x="5" y="60"/>
                        </a:lnTo>
                        <a:lnTo>
                          <a:pt x="5" y="65"/>
                        </a:lnTo>
                        <a:lnTo>
                          <a:pt x="5" y="67"/>
                        </a:lnTo>
                        <a:lnTo>
                          <a:pt x="6" y="71"/>
                        </a:lnTo>
                        <a:lnTo>
                          <a:pt x="6" y="74"/>
                        </a:lnTo>
                        <a:lnTo>
                          <a:pt x="6" y="77"/>
                        </a:lnTo>
                        <a:lnTo>
                          <a:pt x="6" y="80"/>
                        </a:lnTo>
                        <a:lnTo>
                          <a:pt x="6" y="84"/>
                        </a:lnTo>
                        <a:lnTo>
                          <a:pt x="6" y="87"/>
                        </a:lnTo>
                        <a:lnTo>
                          <a:pt x="6" y="89"/>
                        </a:lnTo>
                        <a:lnTo>
                          <a:pt x="8" y="93"/>
                        </a:lnTo>
                        <a:lnTo>
                          <a:pt x="8" y="96"/>
                        </a:lnTo>
                        <a:lnTo>
                          <a:pt x="8" y="99"/>
                        </a:lnTo>
                        <a:lnTo>
                          <a:pt x="8" y="103"/>
                        </a:lnTo>
                        <a:lnTo>
                          <a:pt x="9" y="106"/>
                        </a:lnTo>
                        <a:lnTo>
                          <a:pt x="9" y="109"/>
                        </a:lnTo>
                        <a:lnTo>
                          <a:pt x="9" y="111"/>
                        </a:lnTo>
                        <a:lnTo>
                          <a:pt x="9" y="115"/>
                        </a:lnTo>
                        <a:lnTo>
                          <a:pt x="11" y="118"/>
                        </a:lnTo>
                        <a:lnTo>
                          <a:pt x="11" y="121"/>
                        </a:lnTo>
                        <a:lnTo>
                          <a:pt x="11" y="124"/>
                        </a:lnTo>
                        <a:lnTo>
                          <a:pt x="11" y="128"/>
                        </a:lnTo>
                        <a:lnTo>
                          <a:pt x="12" y="130"/>
                        </a:lnTo>
                        <a:lnTo>
                          <a:pt x="12" y="133"/>
                        </a:lnTo>
                        <a:lnTo>
                          <a:pt x="12" y="136"/>
                        </a:lnTo>
                        <a:lnTo>
                          <a:pt x="14" y="140"/>
                        </a:lnTo>
                        <a:lnTo>
                          <a:pt x="14" y="143"/>
                        </a:lnTo>
                        <a:lnTo>
                          <a:pt x="14" y="147"/>
                        </a:lnTo>
                        <a:lnTo>
                          <a:pt x="14" y="152"/>
                        </a:lnTo>
                        <a:lnTo>
                          <a:pt x="16" y="158"/>
                        </a:lnTo>
                        <a:lnTo>
                          <a:pt x="16" y="161"/>
                        </a:lnTo>
                        <a:lnTo>
                          <a:pt x="17" y="165"/>
                        </a:lnTo>
                        <a:lnTo>
                          <a:pt x="17" y="168"/>
                        </a:lnTo>
                        <a:lnTo>
                          <a:pt x="17" y="170"/>
                        </a:lnTo>
                        <a:lnTo>
                          <a:pt x="19" y="176"/>
                        </a:lnTo>
                        <a:lnTo>
                          <a:pt x="20" y="183"/>
                        </a:lnTo>
                        <a:lnTo>
                          <a:pt x="20" y="185"/>
                        </a:lnTo>
                        <a:lnTo>
                          <a:pt x="20" y="188"/>
                        </a:lnTo>
                        <a:lnTo>
                          <a:pt x="22" y="191"/>
                        </a:lnTo>
                        <a:lnTo>
                          <a:pt x="23" y="195"/>
                        </a:lnTo>
                        <a:lnTo>
                          <a:pt x="25" y="191"/>
                        </a:lnTo>
                        <a:lnTo>
                          <a:pt x="25" y="185"/>
                        </a:lnTo>
                        <a:lnTo>
                          <a:pt x="23" y="179"/>
                        </a:lnTo>
                        <a:lnTo>
                          <a:pt x="23" y="173"/>
                        </a:lnTo>
                        <a:lnTo>
                          <a:pt x="22" y="169"/>
                        </a:lnTo>
                        <a:lnTo>
                          <a:pt x="22" y="163"/>
                        </a:lnTo>
                        <a:lnTo>
                          <a:pt x="20" y="158"/>
                        </a:lnTo>
                        <a:lnTo>
                          <a:pt x="20" y="152"/>
                        </a:lnTo>
                        <a:lnTo>
                          <a:pt x="20" y="148"/>
                        </a:lnTo>
                        <a:lnTo>
                          <a:pt x="20" y="141"/>
                        </a:lnTo>
                        <a:lnTo>
                          <a:pt x="20" y="137"/>
                        </a:lnTo>
                        <a:lnTo>
                          <a:pt x="19" y="132"/>
                        </a:lnTo>
                        <a:lnTo>
                          <a:pt x="19" y="126"/>
                        </a:lnTo>
                        <a:lnTo>
                          <a:pt x="19" y="121"/>
                        </a:lnTo>
                        <a:lnTo>
                          <a:pt x="19" y="117"/>
                        </a:lnTo>
                        <a:lnTo>
                          <a:pt x="19" y="111"/>
                        </a:lnTo>
                        <a:lnTo>
                          <a:pt x="19" y="106"/>
                        </a:lnTo>
                        <a:lnTo>
                          <a:pt x="17" y="100"/>
                        </a:lnTo>
                        <a:lnTo>
                          <a:pt x="17" y="95"/>
                        </a:lnTo>
                        <a:lnTo>
                          <a:pt x="17" y="89"/>
                        </a:lnTo>
                        <a:lnTo>
                          <a:pt x="17" y="85"/>
                        </a:lnTo>
                        <a:lnTo>
                          <a:pt x="17" y="80"/>
                        </a:lnTo>
                        <a:lnTo>
                          <a:pt x="17" y="74"/>
                        </a:lnTo>
                        <a:lnTo>
                          <a:pt x="17" y="69"/>
                        </a:lnTo>
                        <a:lnTo>
                          <a:pt x="17" y="63"/>
                        </a:lnTo>
                        <a:lnTo>
                          <a:pt x="16" y="58"/>
                        </a:lnTo>
                        <a:lnTo>
                          <a:pt x="16" y="54"/>
                        </a:lnTo>
                        <a:lnTo>
                          <a:pt x="16" y="48"/>
                        </a:lnTo>
                        <a:lnTo>
                          <a:pt x="16" y="43"/>
                        </a:lnTo>
                        <a:lnTo>
                          <a:pt x="16" y="37"/>
                        </a:lnTo>
                        <a:lnTo>
                          <a:pt x="16" y="33"/>
                        </a:lnTo>
                        <a:lnTo>
                          <a:pt x="16" y="28"/>
                        </a:lnTo>
                        <a:lnTo>
                          <a:pt x="16" y="22"/>
                        </a:lnTo>
                        <a:lnTo>
                          <a:pt x="17" y="21"/>
                        </a:lnTo>
                        <a:lnTo>
                          <a:pt x="20" y="21"/>
                        </a:lnTo>
                        <a:lnTo>
                          <a:pt x="25" y="21"/>
                        </a:lnTo>
                        <a:lnTo>
                          <a:pt x="31" y="21"/>
                        </a:lnTo>
                        <a:lnTo>
                          <a:pt x="35" y="21"/>
                        </a:lnTo>
                        <a:lnTo>
                          <a:pt x="40" y="21"/>
                        </a:lnTo>
                        <a:lnTo>
                          <a:pt x="43" y="21"/>
                        </a:lnTo>
                        <a:lnTo>
                          <a:pt x="45" y="22"/>
                        </a:lnTo>
                        <a:lnTo>
                          <a:pt x="46" y="21"/>
                        </a:lnTo>
                        <a:lnTo>
                          <a:pt x="49" y="21"/>
                        </a:lnTo>
                        <a:lnTo>
                          <a:pt x="51" y="21"/>
                        </a:lnTo>
                        <a:lnTo>
                          <a:pt x="55" y="21"/>
                        </a:lnTo>
                        <a:lnTo>
                          <a:pt x="58" y="19"/>
                        </a:lnTo>
                        <a:lnTo>
                          <a:pt x="63" y="19"/>
                        </a:lnTo>
                        <a:lnTo>
                          <a:pt x="66" y="19"/>
                        </a:lnTo>
                        <a:lnTo>
                          <a:pt x="71" y="19"/>
                        </a:lnTo>
                        <a:lnTo>
                          <a:pt x="75" y="19"/>
                        </a:lnTo>
                        <a:lnTo>
                          <a:pt x="78" y="19"/>
                        </a:lnTo>
                        <a:lnTo>
                          <a:pt x="81" y="19"/>
                        </a:lnTo>
                        <a:lnTo>
                          <a:pt x="86" y="21"/>
                        </a:lnTo>
                        <a:lnTo>
                          <a:pt x="89" y="23"/>
                        </a:lnTo>
                        <a:lnTo>
                          <a:pt x="90" y="28"/>
                        </a:lnTo>
                        <a:lnTo>
                          <a:pt x="86" y="28"/>
                        </a:lnTo>
                        <a:lnTo>
                          <a:pt x="80" y="29"/>
                        </a:lnTo>
                        <a:lnTo>
                          <a:pt x="75" y="29"/>
                        </a:lnTo>
                        <a:lnTo>
                          <a:pt x="71" y="29"/>
                        </a:lnTo>
                        <a:lnTo>
                          <a:pt x="66" y="29"/>
                        </a:lnTo>
                        <a:lnTo>
                          <a:pt x="63" y="29"/>
                        </a:lnTo>
                        <a:lnTo>
                          <a:pt x="58" y="29"/>
                        </a:lnTo>
                        <a:lnTo>
                          <a:pt x="55" y="29"/>
                        </a:lnTo>
                        <a:lnTo>
                          <a:pt x="51" y="29"/>
                        </a:lnTo>
                        <a:lnTo>
                          <a:pt x="46" y="29"/>
                        </a:lnTo>
                        <a:lnTo>
                          <a:pt x="42" y="29"/>
                        </a:lnTo>
                        <a:lnTo>
                          <a:pt x="38" y="29"/>
                        </a:lnTo>
                        <a:lnTo>
                          <a:pt x="34" y="29"/>
                        </a:lnTo>
                        <a:lnTo>
                          <a:pt x="28" y="29"/>
                        </a:lnTo>
                        <a:lnTo>
                          <a:pt x="23" y="30"/>
                        </a:lnTo>
                        <a:lnTo>
                          <a:pt x="17" y="32"/>
                        </a:lnTo>
                        <a:lnTo>
                          <a:pt x="17" y="37"/>
                        </a:lnTo>
                        <a:lnTo>
                          <a:pt x="19" y="43"/>
                        </a:lnTo>
                        <a:lnTo>
                          <a:pt x="19" y="48"/>
                        </a:lnTo>
                        <a:lnTo>
                          <a:pt x="20" y="55"/>
                        </a:lnTo>
                        <a:lnTo>
                          <a:pt x="20" y="60"/>
                        </a:lnTo>
                        <a:lnTo>
                          <a:pt x="20" y="65"/>
                        </a:lnTo>
                        <a:lnTo>
                          <a:pt x="20" y="70"/>
                        </a:lnTo>
                        <a:lnTo>
                          <a:pt x="22" y="76"/>
                        </a:lnTo>
                        <a:lnTo>
                          <a:pt x="22" y="80"/>
                        </a:lnTo>
                        <a:lnTo>
                          <a:pt x="22" y="85"/>
                        </a:lnTo>
                        <a:lnTo>
                          <a:pt x="23" y="89"/>
                        </a:lnTo>
                        <a:lnTo>
                          <a:pt x="23" y="95"/>
                        </a:lnTo>
                        <a:lnTo>
                          <a:pt x="25" y="98"/>
                        </a:lnTo>
                        <a:lnTo>
                          <a:pt x="25" y="103"/>
                        </a:lnTo>
                        <a:lnTo>
                          <a:pt x="25" y="107"/>
                        </a:lnTo>
                        <a:lnTo>
                          <a:pt x="26" y="111"/>
                        </a:lnTo>
                        <a:lnTo>
                          <a:pt x="26" y="115"/>
                        </a:lnTo>
                        <a:lnTo>
                          <a:pt x="28" y="120"/>
                        </a:lnTo>
                        <a:lnTo>
                          <a:pt x="28" y="124"/>
                        </a:lnTo>
                        <a:lnTo>
                          <a:pt x="29" y="128"/>
                        </a:lnTo>
                        <a:lnTo>
                          <a:pt x="29" y="132"/>
                        </a:lnTo>
                        <a:lnTo>
                          <a:pt x="31" y="137"/>
                        </a:lnTo>
                        <a:lnTo>
                          <a:pt x="31" y="141"/>
                        </a:lnTo>
                        <a:lnTo>
                          <a:pt x="32" y="147"/>
                        </a:lnTo>
                        <a:lnTo>
                          <a:pt x="34" y="151"/>
                        </a:lnTo>
                        <a:lnTo>
                          <a:pt x="35" y="155"/>
                        </a:lnTo>
                        <a:lnTo>
                          <a:pt x="35" y="161"/>
                        </a:lnTo>
                        <a:lnTo>
                          <a:pt x="37" y="166"/>
                        </a:lnTo>
                        <a:lnTo>
                          <a:pt x="38" y="172"/>
                        </a:lnTo>
                        <a:lnTo>
                          <a:pt x="40" y="177"/>
                        </a:lnTo>
                        <a:lnTo>
                          <a:pt x="40" y="180"/>
                        </a:lnTo>
                        <a:lnTo>
                          <a:pt x="42" y="184"/>
                        </a:lnTo>
                        <a:lnTo>
                          <a:pt x="42" y="187"/>
                        </a:lnTo>
                        <a:lnTo>
                          <a:pt x="43" y="191"/>
                        </a:lnTo>
                        <a:lnTo>
                          <a:pt x="46" y="188"/>
                        </a:lnTo>
                        <a:lnTo>
                          <a:pt x="51" y="185"/>
                        </a:lnTo>
                        <a:lnTo>
                          <a:pt x="49" y="180"/>
                        </a:lnTo>
                        <a:lnTo>
                          <a:pt x="49" y="174"/>
                        </a:lnTo>
                        <a:lnTo>
                          <a:pt x="49" y="169"/>
                        </a:lnTo>
                        <a:lnTo>
                          <a:pt x="49" y="165"/>
                        </a:lnTo>
                        <a:lnTo>
                          <a:pt x="48" y="159"/>
                        </a:lnTo>
                        <a:lnTo>
                          <a:pt x="48" y="155"/>
                        </a:lnTo>
                        <a:lnTo>
                          <a:pt x="48" y="151"/>
                        </a:lnTo>
                        <a:lnTo>
                          <a:pt x="48" y="147"/>
                        </a:lnTo>
                        <a:lnTo>
                          <a:pt x="48" y="143"/>
                        </a:lnTo>
                        <a:lnTo>
                          <a:pt x="48" y="139"/>
                        </a:lnTo>
                        <a:lnTo>
                          <a:pt x="48" y="136"/>
                        </a:lnTo>
                        <a:lnTo>
                          <a:pt x="48" y="132"/>
                        </a:lnTo>
                        <a:lnTo>
                          <a:pt x="48" y="129"/>
                        </a:lnTo>
                        <a:lnTo>
                          <a:pt x="48" y="126"/>
                        </a:lnTo>
                        <a:lnTo>
                          <a:pt x="48" y="122"/>
                        </a:lnTo>
                        <a:lnTo>
                          <a:pt x="48" y="120"/>
                        </a:lnTo>
                        <a:lnTo>
                          <a:pt x="46" y="115"/>
                        </a:lnTo>
                        <a:lnTo>
                          <a:pt x="46" y="111"/>
                        </a:lnTo>
                        <a:lnTo>
                          <a:pt x="46" y="107"/>
                        </a:lnTo>
                        <a:lnTo>
                          <a:pt x="46" y="104"/>
                        </a:lnTo>
                        <a:lnTo>
                          <a:pt x="45" y="100"/>
                        </a:lnTo>
                        <a:lnTo>
                          <a:pt x="45" y="98"/>
                        </a:lnTo>
                        <a:lnTo>
                          <a:pt x="45" y="93"/>
                        </a:lnTo>
                        <a:lnTo>
                          <a:pt x="45" y="89"/>
                        </a:lnTo>
                        <a:lnTo>
                          <a:pt x="45" y="85"/>
                        </a:lnTo>
                        <a:lnTo>
                          <a:pt x="45" y="81"/>
                        </a:lnTo>
                        <a:lnTo>
                          <a:pt x="43" y="76"/>
                        </a:lnTo>
                        <a:lnTo>
                          <a:pt x="43" y="73"/>
                        </a:lnTo>
                        <a:lnTo>
                          <a:pt x="42" y="67"/>
                        </a:lnTo>
                        <a:lnTo>
                          <a:pt x="42" y="62"/>
                        </a:lnTo>
                        <a:lnTo>
                          <a:pt x="42" y="58"/>
                        </a:lnTo>
                        <a:lnTo>
                          <a:pt x="40" y="52"/>
                        </a:lnTo>
                        <a:lnTo>
                          <a:pt x="45" y="50"/>
                        </a:lnTo>
                        <a:lnTo>
                          <a:pt x="49" y="48"/>
                        </a:lnTo>
                        <a:lnTo>
                          <a:pt x="54" y="47"/>
                        </a:lnTo>
                        <a:lnTo>
                          <a:pt x="60" y="47"/>
                        </a:lnTo>
                        <a:lnTo>
                          <a:pt x="64" y="45"/>
                        </a:lnTo>
                        <a:lnTo>
                          <a:pt x="69" y="45"/>
                        </a:lnTo>
                        <a:lnTo>
                          <a:pt x="75" y="45"/>
                        </a:lnTo>
                        <a:lnTo>
                          <a:pt x="81" y="47"/>
                        </a:lnTo>
                        <a:lnTo>
                          <a:pt x="61" y="59"/>
                        </a:lnTo>
                        <a:lnTo>
                          <a:pt x="58" y="56"/>
                        </a:lnTo>
                        <a:lnTo>
                          <a:pt x="48" y="59"/>
                        </a:lnTo>
                        <a:lnTo>
                          <a:pt x="48" y="63"/>
                        </a:lnTo>
                        <a:lnTo>
                          <a:pt x="49" y="69"/>
                        </a:lnTo>
                        <a:lnTo>
                          <a:pt x="49" y="73"/>
                        </a:lnTo>
                        <a:lnTo>
                          <a:pt x="49" y="78"/>
                        </a:lnTo>
                        <a:lnTo>
                          <a:pt x="49" y="82"/>
                        </a:lnTo>
                        <a:lnTo>
                          <a:pt x="51" y="88"/>
                        </a:lnTo>
                        <a:lnTo>
                          <a:pt x="51" y="93"/>
                        </a:lnTo>
                        <a:lnTo>
                          <a:pt x="52" y="98"/>
                        </a:lnTo>
                        <a:lnTo>
                          <a:pt x="52" y="103"/>
                        </a:lnTo>
                        <a:lnTo>
                          <a:pt x="54" y="107"/>
                        </a:lnTo>
                        <a:lnTo>
                          <a:pt x="54" y="113"/>
                        </a:lnTo>
                        <a:lnTo>
                          <a:pt x="55" y="118"/>
                        </a:lnTo>
                        <a:lnTo>
                          <a:pt x="55" y="122"/>
                        </a:lnTo>
                        <a:lnTo>
                          <a:pt x="57" y="128"/>
                        </a:lnTo>
                        <a:lnTo>
                          <a:pt x="57" y="132"/>
                        </a:lnTo>
                        <a:lnTo>
                          <a:pt x="58" y="137"/>
                        </a:lnTo>
                        <a:lnTo>
                          <a:pt x="58" y="141"/>
                        </a:lnTo>
                        <a:lnTo>
                          <a:pt x="60" y="147"/>
                        </a:lnTo>
                        <a:lnTo>
                          <a:pt x="60" y="151"/>
                        </a:lnTo>
                        <a:lnTo>
                          <a:pt x="61" y="157"/>
                        </a:lnTo>
                        <a:lnTo>
                          <a:pt x="61" y="161"/>
                        </a:lnTo>
                        <a:lnTo>
                          <a:pt x="63" y="166"/>
                        </a:lnTo>
                        <a:lnTo>
                          <a:pt x="63" y="170"/>
                        </a:lnTo>
                        <a:lnTo>
                          <a:pt x="64" y="176"/>
                        </a:lnTo>
                        <a:lnTo>
                          <a:pt x="64" y="180"/>
                        </a:lnTo>
                        <a:lnTo>
                          <a:pt x="66" y="185"/>
                        </a:lnTo>
                        <a:lnTo>
                          <a:pt x="66" y="190"/>
                        </a:lnTo>
                        <a:lnTo>
                          <a:pt x="68" y="195"/>
                        </a:lnTo>
                        <a:lnTo>
                          <a:pt x="68" y="201"/>
                        </a:lnTo>
                        <a:lnTo>
                          <a:pt x="69" y="205"/>
                        </a:lnTo>
                        <a:lnTo>
                          <a:pt x="69" y="210"/>
                        </a:lnTo>
                        <a:lnTo>
                          <a:pt x="71" y="216"/>
                        </a:lnTo>
                        <a:lnTo>
                          <a:pt x="83" y="213"/>
                        </a:lnTo>
                        <a:lnTo>
                          <a:pt x="83" y="209"/>
                        </a:lnTo>
                        <a:lnTo>
                          <a:pt x="83" y="205"/>
                        </a:lnTo>
                        <a:lnTo>
                          <a:pt x="83" y="201"/>
                        </a:lnTo>
                        <a:lnTo>
                          <a:pt x="83" y="196"/>
                        </a:lnTo>
                        <a:lnTo>
                          <a:pt x="83" y="192"/>
                        </a:lnTo>
                        <a:lnTo>
                          <a:pt x="83" y="188"/>
                        </a:lnTo>
                        <a:lnTo>
                          <a:pt x="83" y="185"/>
                        </a:lnTo>
                        <a:lnTo>
                          <a:pt x="83" y="181"/>
                        </a:lnTo>
                        <a:lnTo>
                          <a:pt x="83" y="176"/>
                        </a:lnTo>
                        <a:lnTo>
                          <a:pt x="83" y="173"/>
                        </a:lnTo>
                        <a:lnTo>
                          <a:pt x="83" y="169"/>
                        </a:lnTo>
                        <a:lnTo>
                          <a:pt x="83" y="165"/>
                        </a:lnTo>
                        <a:lnTo>
                          <a:pt x="81" y="161"/>
                        </a:lnTo>
                        <a:lnTo>
                          <a:pt x="81" y="157"/>
                        </a:lnTo>
                        <a:lnTo>
                          <a:pt x="81" y="152"/>
                        </a:lnTo>
                        <a:lnTo>
                          <a:pt x="81" y="150"/>
                        </a:lnTo>
                        <a:lnTo>
                          <a:pt x="81" y="139"/>
                        </a:lnTo>
                        <a:lnTo>
                          <a:pt x="81" y="135"/>
                        </a:lnTo>
                        <a:lnTo>
                          <a:pt x="83" y="136"/>
                        </a:lnTo>
                        <a:lnTo>
                          <a:pt x="83" y="137"/>
                        </a:lnTo>
                        <a:lnTo>
                          <a:pt x="84" y="140"/>
                        </a:lnTo>
                        <a:lnTo>
                          <a:pt x="86" y="143"/>
                        </a:lnTo>
                        <a:lnTo>
                          <a:pt x="87" y="147"/>
                        </a:lnTo>
                        <a:lnTo>
                          <a:pt x="89" y="151"/>
                        </a:lnTo>
                        <a:lnTo>
                          <a:pt x="89" y="154"/>
                        </a:lnTo>
                        <a:lnTo>
                          <a:pt x="90" y="158"/>
                        </a:lnTo>
                        <a:lnTo>
                          <a:pt x="92" y="163"/>
                        </a:lnTo>
                        <a:lnTo>
                          <a:pt x="94" y="166"/>
                        </a:lnTo>
                        <a:lnTo>
                          <a:pt x="94" y="170"/>
                        </a:lnTo>
                        <a:lnTo>
                          <a:pt x="95" y="173"/>
                        </a:lnTo>
                        <a:lnTo>
                          <a:pt x="97" y="177"/>
                        </a:lnTo>
                        <a:lnTo>
                          <a:pt x="103" y="177"/>
                        </a:lnTo>
                        <a:lnTo>
                          <a:pt x="94" y="102"/>
                        </a:lnTo>
                        <a:lnTo>
                          <a:pt x="100" y="100"/>
                        </a:lnTo>
                        <a:lnTo>
                          <a:pt x="106" y="98"/>
                        </a:lnTo>
                        <a:lnTo>
                          <a:pt x="112" y="96"/>
                        </a:lnTo>
                        <a:lnTo>
                          <a:pt x="120" y="95"/>
                        </a:lnTo>
                        <a:lnTo>
                          <a:pt x="123" y="95"/>
                        </a:lnTo>
                        <a:lnTo>
                          <a:pt x="126" y="93"/>
                        </a:lnTo>
                        <a:lnTo>
                          <a:pt x="130" y="92"/>
                        </a:lnTo>
                        <a:lnTo>
                          <a:pt x="133" y="92"/>
                        </a:lnTo>
                        <a:lnTo>
                          <a:pt x="138" y="91"/>
                        </a:lnTo>
                        <a:lnTo>
                          <a:pt x="141" y="91"/>
                        </a:lnTo>
                        <a:lnTo>
                          <a:pt x="144" y="89"/>
                        </a:lnTo>
                        <a:lnTo>
                          <a:pt x="149" y="88"/>
                        </a:lnTo>
                        <a:lnTo>
                          <a:pt x="152" y="88"/>
                        </a:lnTo>
                        <a:lnTo>
                          <a:pt x="156" y="87"/>
                        </a:lnTo>
                        <a:lnTo>
                          <a:pt x="159" y="85"/>
                        </a:lnTo>
                        <a:lnTo>
                          <a:pt x="164" y="85"/>
                        </a:lnTo>
                        <a:lnTo>
                          <a:pt x="167" y="84"/>
                        </a:lnTo>
                        <a:lnTo>
                          <a:pt x="172" y="84"/>
                        </a:lnTo>
                        <a:lnTo>
                          <a:pt x="175" y="82"/>
                        </a:lnTo>
                        <a:lnTo>
                          <a:pt x="179" y="82"/>
                        </a:lnTo>
                        <a:lnTo>
                          <a:pt x="182" y="81"/>
                        </a:lnTo>
                        <a:lnTo>
                          <a:pt x="187" y="80"/>
                        </a:lnTo>
                        <a:lnTo>
                          <a:pt x="190" y="80"/>
                        </a:lnTo>
                        <a:lnTo>
                          <a:pt x="194" y="78"/>
                        </a:lnTo>
                        <a:lnTo>
                          <a:pt x="198" y="77"/>
                        </a:lnTo>
                        <a:lnTo>
                          <a:pt x="202" y="77"/>
                        </a:lnTo>
                        <a:lnTo>
                          <a:pt x="207" y="76"/>
                        </a:lnTo>
                        <a:lnTo>
                          <a:pt x="210" y="76"/>
                        </a:lnTo>
                        <a:lnTo>
                          <a:pt x="214" y="76"/>
                        </a:lnTo>
                        <a:lnTo>
                          <a:pt x="217" y="74"/>
                        </a:lnTo>
                        <a:lnTo>
                          <a:pt x="222" y="73"/>
                        </a:lnTo>
                        <a:lnTo>
                          <a:pt x="225" y="73"/>
                        </a:lnTo>
                        <a:lnTo>
                          <a:pt x="230" y="73"/>
                        </a:lnTo>
                        <a:lnTo>
                          <a:pt x="233" y="71"/>
                        </a:lnTo>
                        <a:lnTo>
                          <a:pt x="237" y="71"/>
                        </a:lnTo>
                        <a:lnTo>
                          <a:pt x="240" y="71"/>
                        </a:lnTo>
                        <a:lnTo>
                          <a:pt x="243" y="70"/>
                        </a:lnTo>
                        <a:lnTo>
                          <a:pt x="246" y="70"/>
                        </a:lnTo>
                        <a:lnTo>
                          <a:pt x="251" y="70"/>
                        </a:lnTo>
                        <a:lnTo>
                          <a:pt x="254" y="70"/>
                        </a:lnTo>
                        <a:lnTo>
                          <a:pt x="259" y="69"/>
                        </a:lnTo>
                        <a:lnTo>
                          <a:pt x="262" y="69"/>
                        </a:lnTo>
                        <a:lnTo>
                          <a:pt x="266" y="69"/>
                        </a:lnTo>
                        <a:lnTo>
                          <a:pt x="269" y="69"/>
                        </a:lnTo>
                        <a:lnTo>
                          <a:pt x="276" y="69"/>
                        </a:lnTo>
                        <a:lnTo>
                          <a:pt x="282" y="69"/>
                        </a:lnTo>
                        <a:lnTo>
                          <a:pt x="289" y="69"/>
                        </a:lnTo>
                        <a:lnTo>
                          <a:pt x="295" y="70"/>
                        </a:lnTo>
                        <a:lnTo>
                          <a:pt x="302" y="70"/>
                        </a:lnTo>
                        <a:lnTo>
                          <a:pt x="308" y="71"/>
                        </a:lnTo>
                        <a:lnTo>
                          <a:pt x="312" y="73"/>
                        </a:lnTo>
                        <a:lnTo>
                          <a:pt x="318" y="74"/>
                        </a:lnTo>
                        <a:lnTo>
                          <a:pt x="312" y="76"/>
                        </a:lnTo>
                        <a:lnTo>
                          <a:pt x="306" y="76"/>
                        </a:lnTo>
                        <a:lnTo>
                          <a:pt x="300" y="76"/>
                        </a:lnTo>
                        <a:lnTo>
                          <a:pt x="294" y="77"/>
                        </a:lnTo>
                        <a:lnTo>
                          <a:pt x="288" y="78"/>
                        </a:lnTo>
                        <a:lnTo>
                          <a:pt x="282" y="80"/>
                        </a:lnTo>
                        <a:lnTo>
                          <a:pt x="276" y="80"/>
                        </a:lnTo>
                        <a:lnTo>
                          <a:pt x="269" y="81"/>
                        </a:lnTo>
                        <a:lnTo>
                          <a:pt x="265" y="81"/>
                        </a:lnTo>
                        <a:lnTo>
                          <a:pt x="262" y="81"/>
                        </a:lnTo>
                        <a:lnTo>
                          <a:pt x="259" y="81"/>
                        </a:lnTo>
                        <a:lnTo>
                          <a:pt x="256" y="82"/>
                        </a:lnTo>
                        <a:lnTo>
                          <a:pt x="248" y="82"/>
                        </a:lnTo>
                        <a:lnTo>
                          <a:pt x="242" y="84"/>
                        </a:lnTo>
                        <a:lnTo>
                          <a:pt x="239" y="84"/>
                        </a:lnTo>
                        <a:lnTo>
                          <a:pt x="234" y="84"/>
                        </a:lnTo>
                        <a:lnTo>
                          <a:pt x="231" y="84"/>
                        </a:lnTo>
                        <a:lnTo>
                          <a:pt x="228" y="85"/>
                        </a:lnTo>
                        <a:lnTo>
                          <a:pt x="225" y="85"/>
                        </a:lnTo>
                        <a:lnTo>
                          <a:pt x="220" y="85"/>
                        </a:lnTo>
                        <a:lnTo>
                          <a:pt x="217" y="85"/>
                        </a:lnTo>
                        <a:lnTo>
                          <a:pt x="214" y="85"/>
                        </a:lnTo>
                        <a:lnTo>
                          <a:pt x="211" y="85"/>
                        </a:lnTo>
                        <a:lnTo>
                          <a:pt x="207" y="87"/>
                        </a:lnTo>
                        <a:lnTo>
                          <a:pt x="204" y="87"/>
                        </a:lnTo>
                        <a:lnTo>
                          <a:pt x="201" y="88"/>
                        </a:lnTo>
                        <a:lnTo>
                          <a:pt x="198" y="88"/>
                        </a:lnTo>
                        <a:lnTo>
                          <a:pt x="193" y="88"/>
                        </a:lnTo>
                        <a:lnTo>
                          <a:pt x="190" y="89"/>
                        </a:lnTo>
                        <a:lnTo>
                          <a:pt x="187" y="91"/>
                        </a:lnTo>
                        <a:lnTo>
                          <a:pt x="181" y="92"/>
                        </a:lnTo>
                        <a:lnTo>
                          <a:pt x="175" y="93"/>
                        </a:lnTo>
                        <a:lnTo>
                          <a:pt x="167" y="95"/>
                        </a:lnTo>
                        <a:lnTo>
                          <a:pt x="161" y="98"/>
                        </a:lnTo>
                        <a:lnTo>
                          <a:pt x="158" y="98"/>
                        </a:lnTo>
                        <a:lnTo>
                          <a:pt x="153" y="99"/>
                        </a:lnTo>
                        <a:lnTo>
                          <a:pt x="150" y="100"/>
                        </a:lnTo>
                        <a:lnTo>
                          <a:pt x="147" y="102"/>
                        </a:lnTo>
                        <a:lnTo>
                          <a:pt x="141" y="103"/>
                        </a:lnTo>
                        <a:lnTo>
                          <a:pt x="135" y="106"/>
                        </a:lnTo>
                        <a:lnTo>
                          <a:pt x="127" y="109"/>
                        </a:lnTo>
                        <a:lnTo>
                          <a:pt x="123" y="111"/>
                        </a:lnTo>
                        <a:lnTo>
                          <a:pt x="116" y="114"/>
                        </a:lnTo>
                        <a:lnTo>
                          <a:pt x="110" y="118"/>
                        </a:lnTo>
                        <a:lnTo>
                          <a:pt x="113" y="132"/>
                        </a:lnTo>
                        <a:lnTo>
                          <a:pt x="116" y="126"/>
                        </a:lnTo>
                        <a:lnTo>
                          <a:pt x="121" y="124"/>
                        </a:lnTo>
                        <a:lnTo>
                          <a:pt x="124" y="121"/>
                        </a:lnTo>
                        <a:lnTo>
                          <a:pt x="127" y="120"/>
                        </a:lnTo>
                        <a:lnTo>
                          <a:pt x="130" y="118"/>
                        </a:lnTo>
                        <a:lnTo>
                          <a:pt x="135" y="117"/>
                        </a:lnTo>
                        <a:lnTo>
                          <a:pt x="139" y="114"/>
                        </a:lnTo>
                        <a:lnTo>
                          <a:pt x="144" y="113"/>
                        </a:lnTo>
                        <a:lnTo>
                          <a:pt x="147" y="111"/>
                        </a:lnTo>
                        <a:lnTo>
                          <a:pt x="153" y="110"/>
                        </a:lnTo>
                        <a:lnTo>
                          <a:pt x="158" y="107"/>
                        </a:lnTo>
                        <a:lnTo>
                          <a:pt x="164" y="107"/>
                        </a:lnTo>
                        <a:lnTo>
                          <a:pt x="170" y="104"/>
                        </a:lnTo>
                        <a:lnTo>
                          <a:pt x="176" y="104"/>
                        </a:lnTo>
                        <a:lnTo>
                          <a:pt x="182" y="102"/>
                        </a:lnTo>
                        <a:lnTo>
                          <a:pt x="188" y="100"/>
                        </a:lnTo>
                        <a:lnTo>
                          <a:pt x="194" y="99"/>
                        </a:lnTo>
                        <a:lnTo>
                          <a:pt x="202" y="98"/>
                        </a:lnTo>
                        <a:lnTo>
                          <a:pt x="208" y="96"/>
                        </a:lnTo>
                        <a:lnTo>
                          <a:pt x="216" y="95"/>
                        </a:lnTo>
                        <a:lnTo>
                          <a:pt x="224" y="95"/>
                        </a:lnTo>
                        <a:lnTo>
                          <a:pt x="231" y="93"/>
                        </a:lnTo>
                        <a:lnTo>
                          <a:pt x="237" y="92"/>
                        </a:lnTo>
                        <a:lnTo>
                          <a:pt x="245" y="91"/>
                        </a:lnTo>
                        <a:lnTo>
                          <a:pt x="253" y="89"/>
                        </a:lnTo>
                        <a:lnTo>
                          <a:pt x="260" y="88"/>
                        </a:lnTo>
                        <a:lnTo>
                          <a:pt x="268" y="88"/>
                        </a:lnTo>
                        <a:lnTo>
                          <a:pt x="277" y="87"/>
                        </a:lnTo>
                        <a:lnTo>
                          <a:pt x="285" y="85"/>
                        </a:lnTo>
                        <a:lnTo>
                          <a:pt x="292" y="85"/>
                        </a:lnTo>
                        <a:lnTo>
                          <a:pt x="300" y="84"/>
                        </a:lnTo>
                        <a:lnTo>
                          <a:pt x="308" y="82"/>
                        </a:lnTo>
                        <a:lnTo>
                          <a:pt x="315" y="82"/>
                        </a:lnTo>
                        <a:lnTo>
                          <a:pt x="325" y="81"/>
                        </a:lnTo>
                        <a:lnTo>
                          <a:pt x="332" y="80"/>
                        </a:lnTo>
                        <a:lnTo>
                          <a:pt x="340" y="80"/>
                        </a:lnTo>
                        <a:lnTo>
                          <a:pt x="347" y="78"/>
                        </a:lnTo>
                        <a:lnTo>
                          <a:pt x="357" y="78"/>
                        </a:lnTo>
                        <a:lnTo>
                          <a:pt x="364" y="77"/>
                        </a:lnTo>
                        <a:lnTo>
                          <a:pt x="370" y="77"/>
                        </a:lnTo>
                        <a:lnTo>
                          <a:pt x="378" y="76"/>
                        </a:lnTo>
                        <a:lnTo>
                          <a:pt x="386" y="76"/>
                        </a:lnTo>
                        <a:lnTo>
                          <a:pt x="393" y="74"/>
                        </a:lnTo>
                        <a:lnTo>
                          <a:pt x="401" y="74"/>
                        </a:lnTo>
                        <a:lnTo>
                          <a:pt x="409" y="73"/>
                        </a:lnTo>
                        <a:lnTo>
                          <a:pt x="416" y="73"/>
                        </a:lnTo>
                        <a:lnTo>
                          <a:pt x="422" y="73"/>
                        </a:lnTo>
                        <a:lnTo>
                          <a:pt x="429" y="73"/>
                        </a:lnTo>
                        <a:lnTo>
                          <a:pt x="435" y="71"/>
                        </a:lnTo>
                        <a:lnTo>
                          <a:pt x="442" y="71"/>
                        </a:lnTo>
                        <a:lnTo>
                          <a:pt x="448" y="71"/>
                        </a:lnTo>
                        <a:lnTo>
                          <a:pt x="455" y="70"/>
                        </a:lnTo>
                        <a:lnTo>
                          <a:pt x="461" y="70"/>
                        </a:lnTo>
                        <a:lnTo>
                          <a:pt x="467" y="70"/>
                        </a:lnTo>
                        <a:lnTo>
                          <a:pt x="471" y="70"/>
                        </a:lnTo>
                        <a:lnTo>
                          <a:pt x="476" y="70"/>
                        </a:lnTo>
                        <a:lnTo>
                          <a:pt x="481" y="70"/>
                        </a:lnTo>
                        <a:lnTo>
                          <a:pt x="487" y="70"/>
                        </a:lnTo>
                        <a:lnTo>
                          <a:pt x="490" y="70"/>
                        </a:lnTo>
                        <a:lnTo>
                          <a:pt x="494" y="70"/>
                        </a:lnTo>
                        <a:lnTo>
                          <a:pt x="497" y="70"/>
                        </a:lnTo>
                        <a:lnTo>
                          <a:pt x="502" y="70"/>
                        </a:lnTo>
                        <a:lnTo>
                          <a:pt x="1080" y="73"/>
                        </a:lnTo>
                        <a:lnTo>
                          <a:pt x="1079" y="73"/>
                        </a:lnTo>
                        <a:lnTo>
                          <a:pt x="1077" y="73"/>
                        </a:lnTo>
                        <a:lnTo>
                          <a:pt x="1074" y="73"/>
                        </a:lnTo>
                        <a:lnTo>
                          <a:pt x="1071" y="73"/>
                        </a:lnTo>
                        <a:lnTo>
                          <a:pt x="1066" y="73"/>
                        </a:lnTo>
                        <a:lnTo>
                          <a:pt x="1063" y="73"/>
                        </a:lnTo>
                        <a:lnTo>
                          <a:pt x="1059" y="74"/>
                        </a:lnTo>
                        <a:lnTo>
                          <a:pt x="1054" y="74"/>
                        </a:lnTo>
                        <a:lnTo>
                          <a:pt x="1047" y="74"/>
                        </a:lnTo>
                        <a:lnTo>
                          <a:pt x="1040" y="76"/>
                        </a:lnTo>
                        <a:lnTo>
                          <a:pt x="1034" y="76"/>
                        </a:lnTo>
                        <a:lnTo>
                          <a:pt x="1028" y="77"/>
                        </a:lnTo>
                        <a:lnTo>
                          <a:pt x="1024" y="77"/>
                        </a:lnTo>
                        <a:lnTo>
                          <a:pt x="1021" y="77"/>
                        </a:lnTo>
                        <a:lnTo>
                          <a:pt x="1016" y="77"/>
                        </a:lnTo>
                        <a:lnTo>
                          <a:pt x="1013" y="77"/>
                        </a:lnTo>
                        <a:lnTo>
                          <a:pt x="1010" y="77"/>
                        </a:lnTo>
                        <a:lnTo>
                          <a:pt x="1007" y="78"/>
                        </a:lnTo>
                        <a:lnTo>
                          <a:pt x="1002" y="78"/>
                        </a:lnTo>
                        <a:lnTo>
                          <a:pt x="999" y="80"/>
                        </a:lnTo>
                        <a:lnTo>
                          <a:pt x="996" y="80"/>
                        </a:lnTo>
                        <a:lnTo>
                          <a:pt x="991" y="80"/>
                        </a:lnTo>
                        <a:lnTo>
                          <a:pt x="988" y="80"/>
                        </a:lnTo>
                        <a:lnTo>
                          <a:pt x="984" y="80"/>
                        </a:lnTo>
                        <a:lnTo>
                          <a:pt x="981" y="80"/>
                        </a:lnTo>
                        <a:lnTo>
                          <a:pt x="978" y="80"/>
                        </a:lnTo>
                        <a:lnTo>
                          <a:pt x="973" y="80"/>
                        </a:lnTo>
                        <a:lnTo>
                          <a:pt x="970" y="81"/>
                        </a:lnTo>
                        <a:lnTo>
                          <a:pt x="967" y="81"/>
                        </a:lnTo>
                        <a:lnTo>
                          <a:pt x="962" y="81"/>
                        </a:lnTo>
                        <a:lnTo>
                          <a:pt x="959" y="81"/>
                        </a:lnTo>
                        <a:lnTo>
                          <a:pt x="956" y="82"/>
                        </a:lnTo>
                        <a:lnTo>
                          <a:pt x="950" y="82"/>
                        </a:lnTo>
                        <a:lnTo>
                          <a:pt x="944" y="82"/>
                        </a:lnTo>
                        <a:lnTo>
                          <a:pt x="938" y="82"/>
                        </a:lnTo>
                        <a:lnTo>
                          <a:pt x="933" y="84"/>
                        </a:lnTo>
                        <a:lnTo>
                          <a:pt x="929" y="84"/>
                        </a:lnTo>
                        <a:lnTo>
                          <a:pt x="924" y="84"/>
                        </a:lnTo>
                        <a:lnTo>
                          <a:pt x="921" y="84"/>
                        </a:lnTo>
                        <a:lnTo>
                          <a:pt x="918" y="85"/>
                        </a:lnTo>
                        <a:lnTo>
                          <a:pt x="916" y="85"/>
                        </a:lnTo>
                        <a:lnTo>
                          <a:pt x="915" y="85"/>
                        </a:lnTo>
                        <a:lnTo>
                          <a:pt x="918" y="85"/>
                        </a:lnTo>
                        <a:lnTo>
                          <a:pt x="921" y="85"/>
                        </a:lnTo>
                        <a:lnTo>
                          <a:pt x="926" y="85"/>
                        </a:lnTo>
                        <a:lnTo>
                          <a:pt x="929" y="87"/>
                        </a:lnTo>
                        <a:lnTo>
                          <a:pt x="933" y="87"/>
                        </a:lnTo>
                        <a:lnTo>
                          <a:pt x="936" y="87"/>
                        </a:lnTo>
                        <a:lnTo>
                          <a:pt x="939" y="87"/>
                        </a:lnTo>
                        <a:lnTo>
                          <a:pt x="944" y="88"/>
                        </a:lnTo>
                        <a:lnTo>
                          <a:pt x="947" y="88"/>
                        </a:lnTo>
                        <a:lnTo>
                          <a:pt x="952" y="88"/>
                        </a:lnTo>
                        <a:lnTo>
                          <a:pt x="955" y="88"/>
                        </a:lnTo>
                        <a:lnTo>
                          <a:pt x="959" y="88"/>
                        </a:lnTo>
                        <a:lnTo>
                          <a:pt x="962" y="88"/>
                        </a:lnTo>
                        <a:lnTo>
                          <a:pt x="967" y="88"/>
                        </a:lnTo>
                        <a:lnTo>
                          <a:pt x="972" y="88"/>
                        </a:lnTo>
                        <a:lnTo>
                          <a:pt x="975" y="88"/>
                        </a:lnTo>
                        <a:lnTo>
                          <a:pt x="979" y="87"/>
                        </a:lnTo>
                        <a:lnTo>
                          <a:pt x="982" y="87"/>
                        </a:lnTo>
                        <a:lnTo>
                          <a:pt x="987" y="87"/>
                        </a:lnTo>
                        <a:lnTo>
                          <a:pt x="991" y="87"/>
                        </a:lnTo>
                        <a:lnTo>
                          <a:pt x="994" y="87"/>
                        </a:lnTo>
                        <a:lnTo>
                          <a:pt x="999" y="87"/>
                        </a:lnTo>
                        <a:lnTo>
                          <a:pt x="1002" y="87"/>
                        </a:lnTo>
                        <a:lnTo>
                          <a:pt x="1007" y="87"/>
                        </a:lnTo>
                        <a:lnTo>
                          <a:pt x="1011" y="87"/>
                        </a:lnTo>
                        <a:lnTo>
                          <a:pt x="1014" y="87"/>
                        </a:lnTo>
                        <a:lnTo>
                          <a:pt x="1019" y="87"/>
                        </a:lnTo>
                        <a:lnTo>
                          <a:pt x="1022" y="87"/>
                        </a:lnTo>
                        <a:lnTo>
                          <a:pt x="1027" y="85"/>
                        </a:lnTo>
                        <a:lnTo>
                          <a:pt x="1031" y="85"/>
                        </a:lnTo>
                        <a:lnTo>
                          <a:pt x="1036" y="85"/>
                        </a:lnTo>
                        <a:lnTo>
                          <a:pt x="1040" y="85"/>
                        </a:lnTo>
                        <a:lnTo>
                          <a:pt x="1043" y="85"/>
                        </a:lnTo>
                        <a:lnTo>
                          <a:pt x="1047" y="85"/>
                        </a:lnTo>
                        <a:lnTo>
                          <a:pt x="1051" y="85"/>
                        </a:lnTo>
                        <a:lnTo>
                          <a:pt x="1056" y="85"/>
                        </a:lnTo>
                        <a:lnTo>
                          <a:pt x="1059" y="84"/>
                        </a:lnTo>
                        <a:lnTo>
                          <a:pt x="1063" y="84"/>
                        </a:lnTo>
                        <a:lnTo>
                          <a:pt x="1066" y="84"/>
                        </a:lnTo>
                        <a:lnTo>
                          <a:pt x="1071" y="84"/>
                        </a:lnTo>
                        <a:lnTo>
                          <a:pt x="1074" y="84"/>
                        </a:lnTo>
                        <a:lnTo>
                          <a:pt x="1079" y="84"/>
                        </a:lnTo>
                        <a:lnTo>
                          <a:pt x="1082" y="82"/>
                        </a:lnTo>
                        <a:lnTo>
                          <a:pt x="1086" y="82"/>
                        </a:lnTo>
                        <a:lnTo>
                          <a:pt x="1091" y="82"/>
                        </a:lnTo>
                        <a:lnTo>
                          <a:pt x="1094" y="82"/>
                        </a:lnTo>
                        <a:lnTo>
                          <a:pt x="1099" y="82"/>
                        </a:lnTo>
                        <a:lnTo>
                          <a:pt x="1103" y="82"/>
                        </a:lnTo>
                        <a:lnTo>
                          <a:pt x="1106" y="82"/>
                        </a:lnTo>
                        <a:lnTo>
                          <a:pt x="1111" y="82"/>
                        </a:lnTo>
                        <a:lnTo>
                          <a:pt x="1114" y="82"/>
                        </a:lnTo>
                        <a:lnTo>
                          <a:pt x="1118" y="82"/>
                        </a:lnTo>
                        <a:lnTo>
                          <a:pt x="1123" y="81"/>
                        </a:lnTo>
                        <a:lnTo>
                          <a:pt x="1126" y="81"/>
                        </a:lnTo>
                        <a:lnTo>
                          <a:pt x="1129" y="81"/>
                        </a:lnTo>
                        <a:lnTo>
                          <a:pt x="1134" y="81"/>
                        </a:lnTo>
                        <a:lnTo>
                          <a:pt x="1138" y="81"/>
                        </a:lnTo>
                        <a:lnTo>
                          <a:pt x="1141" y="81"/>
                        </a:lnTo>
                        <a:lnTo>
                          <a:pt x="1146" y="81"/>
                        </a:lnTo>
                        <a:lnTo>
                          <a:pt x="1149" y="81"/>
                        </a:lnTo>
                        <a:lnTo>
                          <a:pt x="1154" y="81"/>
                        </a:lnTo>
                        <a:lnTo>
                          <a:pt x="1157" y="81"/>
                        </a:lnTo>
                        <a:lnTo>
                          <a:pt x="1160" y="81"/>
                        </a:lnTo>
                        <a:lnTo>
                          <a:pt x="1164" y="81"/>
                        </a:lnTo>
                        <a:lnTo>
                          <a:pt x="1164" y="84"/>
                        </a:lnTo>
                        <a:lnTo>
                          <a:pt x="1166" y="88"/>
                        </a:lnTo>
                        <a:lnTo>
                          <a:pt x="1166" y="91"/>
                        </a:lnTo>
                        <a:lnTo>
                          <a:pt x="1166" y="95"/>
                        </a:lnTo>
                        <a:lnTo>
                          <a:pt x="1166" y="99"/>
                        </a:lnTo>
                        <a:lnTo>
                          <a:pt x="1167" y="103"/>
                        </a:lnTo>
                        <a:lnTo>
                          <a:pt x="1167" y="107"/>
                        </a:lnTo>
                        <a:lnTo>
                          <a:pt x="1167" y="113"/>
                        </a:lnTo>
                        <a:lnTo>
                          <a:pt x="1167" y="117"/>
                        </a:lnTo>
                        <a:lnTo>
                          <a:pt x="1169" y="120"/>
                        </a:lnTo>
                        <a:lnTo>
                          <a:pt x="1170" y="124"/>
                        </a:lnTo>
                        <a:lnTo>
                          <a:pt x="1170" y="128"/>
                        </a:lnTo>
                        <a:lnTo>
                          <a:pt x="1172" y="132"/>
                        </a:lnTo>
                        <a:lnTo>
                          <a:pt x="1173" y="135"/>
                        </a:lnTo>
                        <a:lnTo>
                          <a:pt x="1175" y="137"/>
                        </a:lnTo>
                        <a:lnTo>
                          <a:pt x="1177" y="140"/>
                        </a:lnTo>
                        <a:lnTo>
                          <a:pt x="1183" y="139"/>
                        </a:lnTo>
                        <a:lnTo>
                          <a:pt x="1183" y="135"/>
                        </a:lnTo>
                        <a:lnTo>
                          <a:pt x="1183" y="130"/>
                        </a:lnTo>
                        <a:lnTo>
                          <a:pt x="1183" y="126"/>
                        </a:lnTo>
                        <a:lnTo>
                          <a:pt x="1184" y="122"/>
                        </a:lnTo>
                        <a:lnTo>
                          <a:pt x="1183" y="118"/>
                        </a:lnTo>
                        <a:lnTo>
                          <a:pt x="1183" y="114"/>
                        </a:lnTo>
                        <a:lnTo>
                          <a:pt x="1181" y="109"/>
                        </a:lnTo>
                        <a:lnTo>
                          <a:pt x="1181" y="104"/>
                        </a:lnTo>
                        <a:lnTo>
                          <a:pt x="1180" y="100"/>
                        </a:lnTo>
                        <a:lnTo>
                          <a:pt x="1180" y="96"/>
                        </a:lnTo>
                        <a:lnTo>
                          <a:pt x="1178" y="92"/>
                        </a:lnTo>
                        <a:lnTo>
                          <a:pt x="1177" y="88"/>
                        </a:lnTo>
                        <a:lnTo>
                          <a:pt x="1177" y="82"/>
                        </a:lnTo>
                        <a:lnTo>
                          <a:pt x="1175" y="80"/>
                        </a:lnTo>
                        <a:lnTo>
                          <a:pt x="1175" y="76"/>
                        </a:lnTo>
                        <a:lnTo>
                          <a:pt x="1175" y="73"/>
                        </a:lnTo>
                        <a:lnTo>
                          <a:pt x="1172" y="70"/>
                        </a:lnTo>
                        <a:lnTo>
                          <a:pt x="1167" y="69"/>
                        </a:lnTo>
                        <a:lnTo>
                          <a:pt x="1161" y="67"/>
                        </a:lnTo>
                        <a:lnTo>
                          <a:pt x="1160" y="66"/>
                        </a:lnTo>
                        <a:lnTo>
                          <a:pt x="1183" y="66"/>
                        </a:lnTo>
                        <a:lnTo>
                          <a:pt x="1184" y="70"/>
                        </a:lnTo>
                        <a:lnTo>
                          <a:pt x="1184" y="74"/>
                        </a:lnTo>
                        <a:lnTo>
                          <a:pt x="1186" y="78"/>
                        </a:lnTo>
                        <a:lnTo>
                          <a:pt x="1187" y="84"/>
                        </a:lnTo>
                        <a:lnTo>
                          <a:pt x="1189" y="80"/>
                        </a:lnTo>
                        <a:lnTo>
                          <a:pt x="1190" y="77"/>
                        </a:lnTo>
                        <a:lnTo>
                          <a:pt x="1192" y="73"/>
                        </a:lnTo>
                        <a:lnTo>
                          <a:pt x="1192" y="70"/>
                        </a:lnTo>
                        <a:lnTo>
                          <a:pt x="1192" y="66"/>
                        </a:lnTo>
                        <a:lnTo>
                          <a:pt x="1190" y="62"/>
                        </a:lnTo>
                        <a:lnTo>
                          <a:pt x="1190" y="59"/>
                        </a:lnTo>
                        <a:lnTo>
                          <a:pt x="1190" y="56"/>
                        </a:lnTo>
                        <a:lnTo>
                          <a:pt x="1186" y="56"/>
                        </a:lnTo>
                        <a:lnTo>
                          <a:pt x="1181" y="56"/>
                        </a:lnTo>
                        <a:lnTo>
                          <a:pt x="1177" y="58"/>
                        </a:lnTo>
                        <a:lnTo>
                          <a:pt x="1170" y="58"/>
                        </a:lnTo>
                        <a:lnTo>
                          <a:pt x="1166" y="59"/>
                        </a:lnTo>
                        <a:lnTo>
                          <a:pt x="1161" y="60"/>
                        </a:lnTo>
                        <a:lnTo>
                          <a:pt x="1158" y="62"/>
                        </a:lnTo>
                        <a:lnTo>
                          <a:pt x="1155" y="63"/>
                        </a:lnTo>
                        <a:lnTo>
                          <a:pt x="1152" y="62"/>
                        </a:lnTo>
                        <a:lnTo>
                          <a:pt x="1149" y="62"/>
                        </a:lnTo>
                        <a:lnTo>
                          <a:pt x="1144" y="60"/>
                        </a:lnTo>
                        <a:lnTo>
                          <a:pt x="1140" y="60"/>
                        </a:lnTo>
                        <a:lnTo>
                          <a:pt x="1137" y="60"/>
                        </a:lnTo>
                        <a:lnTo>
                          <a:pt x="1132" y="60"/>
                        </a:lnTo>
                        <a:lnTo>
                          <a:pt x="1129" y="60"/>
                        </a:lnTo>
                        <a:lnTo>
                          <a:pt x="1126" y="60"/>
                        </a:lnTo>
                        <a:lnTo>
                          <a:pt x="1129" y="59"/>
                        </a:lnTo>
                        <a:lnTo>
                          <a:pt x="1132" y="58"/>
                        </a:lnTo>
                        <a:lnTo>
                          <a:pt x="1135" y="58"/>
                        </a:lnTo>
                        <a:lnTo>
                          <a:pt x="1140" y="56"/>
                        </a:lnTo>
                        <a:lnTo>
                          <a:pt x="1144" y="55"/>
                        </a:lnTo>
                        <a:lnTo>
                          <a:pt x="1149" y="55"/>
                        </a:lnTo>
                        <a:lnTo>
                          <a:pt x="1154" y="54"/>
                        </a:lnTo>
                        <a:lnTo>
                          <a:pt x="1160" y="54"/>
                        </a:lnTo>
                        <a:lnTo>
                          <a:pt x="1164" y="52"/>
                        </a:lnTo>
                        <a:lnTo>
                          <a:pt x="1170" y="52"/>
                        </a:lnTo>
                        <a:lnTo>
                          <a:pt x="1175" y="52"/>
                        </a:lnTo>
                        <a:lnTo>
                          <a:pt x="1180" y="52"/>
                        </a:lnTo>
                        <a:lnTo>
                          <a:pt x="1184" y="51"/>
                        </a:lnTo>
                        <a:lnTo>
                          <a:pt x="1189" y="51"/>
                        </a:lnTo>
                        <a:lnTo>
                          <a:pt x="1193" y="50"/>
                        </a:lnTo>
                        <a:lnTo>
                          <a:pt x="1198" y="50"/>
                        </a:lnTo>
                        <a:lnTo>
                          <a:pt x="1198" y="54"/>
                        </a:lnTo>
                        <a:lnTo>
                          <a:pt x="1198" y="56"/>
                        </a:lnTo>
                        <a:lnTo>
                          <a:pt x="1198" y="60"/>
                        </a:lnTo>
                        <a:lnTo>
                          <a:pt x="1199" y="63"/>
                        </a:lnTo>
                        <a:lnTo>
                          <a:pt x="1199" y="67"/>
                        </a:lnTo>
                        <a:lnTo>
                          <a:pt x="1201" y="70"/>
                        </a:lnTo>
                        <a:lnTo>
                          <a:pt x="1201" y="74"/>
                        </a:lnTo>
                        <a:lnTo>
                          <a:pt x="1203" y="78"/>
                        </a:lnTo>
                        <a:lnTo>
                          <a:pt x="1203" y="81"/>
                        </a:lnTo>
                        <a:lnTo>
                          <a:pt x="1203" y="85"/>
                        </a:lnTo>
                        <a:lnTo>
                          <a:pt x="1204" y="88"/>
                        </a:lnTo>
                        <a:lnTo>
                          <a:pt x="1204" y="92"/>
                        </a:lnTo>
                        <a:lnTo>
                          <a:pt x="1204" y="95"/>
                        </a:lnTo>
                        <a:lnTo>
                          <a:pt x="1206" y="99"/>
                        </a:lnTo>
                        <a:lnTo>
                          <a:pt x="1206" y="102"/>
                        </a:lnTo>
                        <a:lnTo>
                          <a:pt x="1207" y="106"/>
                        </a:lnTo>
                        <a:lnTo>
                          <a:pt x="1207" y="110"/>
                        </a:lnTo>
                        <a:lnTo>
                          <a:pt x="1207" y="113"/>
                        </a:lnTo>
                        <a:lnTo>
                          <a:pt x="1209" y="117"/>
                        </a:lnTo>
                        <a:lnTo>
                          <a:pt x="1209" y="120"/>
                        </a:lnTo>
                        <a:lnTo>
                          <a:pt x="1209" y="124"/>
                        </a:lnTo>
                        <a:lnTo>
                          <a:pt x="1210" y="126"/>
                        </a:lnTo>
                        <a:lnTo>
                          <a:pt x="1210" y="129"/>
                        </a:lnTo>
                        <a:lnTo>
                          <a:pt x="1212" y="133"/>
                        </a:lnTo>
                        <a:lnTo>
                          <a:pt x="1212" y="136"/>
                        </a:lnTo>
                        <a:lnTo>
                          <a:pt x="1213" y="140"/>
                        </a:lnTo>
                        <a:lnTo>
                          <a:pt x="1213" y="143"/>
                        </a:lnTo>
                        <a:lnTo>
                          <a:pt x="1215" y="147"/>
                        </a:lnTo>
                        <a:lnTo>
                          <a:pt x="1215" y="150"/>
                        </a:lnTo>
                        <a:lnTo>
                          <a:pt x="1216" y="154"/>
                        </a:lnTo>
                        <a:lnTo>
                          <a:pt x="1216" y="157"/>
                        </a:lnTo>
                        <a:lnTo>
                          <a:pt x="1218" y="161"/>
                        </a:lnTo>
                        <a:lnTo>
                          <a:pt x="1218" y="166"/>
                        </a:lnTo>
                        <a:lnTo>
                          <a:pt x="1219" y="172"/>
                        </a:lnTo>
                        <a:lnTo>
                          <a:pt x="1221" y="177"/>
                        </a:lnTo>
                        <a:lnTo>
                          <a:pt x="1222" y="183"/>
                        </a:lnTo>
                        <a:lnTo>
                          <a:pt x="1224" y="188"/>
                        </a:lnTo>
                        <a:lnTo>
                          <a:pt x="1227" y="194"/>
                        </a:lnTo>
                        <a:lnTo>
                          <a:pt x="1232" y="196"/>
                        </a:lnTo>
                        <a:lnTo>
                          <a:pt x="1236" y="199"/>
                        </a:lnTo>
                        <a:lnTo>
                          <a:pt x="1235" y="195"/>
                        </a:lnTo>
                        <a:lnTo>
                          <a:pt x="1235" y="191"/>
                        </a:lnTo>
                        <a:lnTo>
                          <a:pt x="1235" y="187"/>
                        </a:lnTo>
                        <a:lnTo>
                          <a:pt x="1235" y="183"/>
                        </a:lnTo>
                        <a:lnTo>
                          <a:pt x="1235" y="177"/>
                        </a:lnTo>
                        <a:lnTo>
                          <a:pt x="1235" y="172"/>
                        </a:lnTo>
                        <a:lnTo>
                          <a:pt x="1235" y="166"/>
                        </a:lnTo>
                        <a:lnTo>
                          <a:pt x="1235" y="161"/>
                        </a:lnTo>
                        <a:lnTo>
                          <a:pt x="1233" y="157"/>
                        </a:lnTo>
                        <a:lnTo>
                          <a:pt x="1233" y="154"/>
                        </a:lnTo>
                        <a:lnTo>
                          <a:pt x="1233" y="151"/>
                        </a:lnTo>
                        <a:lnTo>
                          <a:pt x="1233" y="147"/>
                        </a:lnTo>
                        <a:lnTo>
                          <a:pt x="1233" y="144"/>
                        </a:lnTo>
                        <a:lnTo>
                          <a:pt x="1233" y="140"/>
                        </a:lnTo>
                        <a:lnTo>
                          <a:pt x="1233" y="137"/>
                        </a:lnTo>
                        <a:lnTo>
                          <a:pt x="1233" y="135"/>
                        </a:lnTo>
                        <a:lnTo>
                          <a:pt x="1232" y="130"/>
                        </a:lnTo>
                        <a:lnTo>
                          <a:pt x="1232" y="128"/>
                        </a:lnTo>
                        <a:lnTo>
                          <a:pt x="1232" y="124"/>
                        </a:lnTo>
                        <a:lnTo>
                          <a:pt x="1232" y="121"/>
                        </a:lnTo>
                        <a:lnTo>
                          <a:pt x="1232" y="117"/>
                        </a:lnTo>
                        <a:lnTo>
                          <a:pt x="1232" y="114"/>
                        </a:lnTo>
                        <a:lnTo>
                          <a:pt x="1232" y="111"/>
                        </a:lnTo>
                        <a:lnTo>
                          <a:pt x="1232" y="107"/>
                        </a:lnTo>
                        <a:lnTo>
                          <a:pt x="1232" y="103"/>
                        </a:lnTo>
                        <a:lnTo>
                          <a:pt x="1230" y="100"/>
                        </a:lnTo>
                        <a:lnTo>
                          <a:pt x="1230" y="96"/>
                        </a:lnTo>
                        <a:lnTo>
                          <a:pt x="1230" y="93"/>
                        </a:lnTo>
                        <a:lnTo>
                          <a:pt x="1230" y="89"/>
                        </a:lnTo>
                        <a:lnTo>
                          <a:pt x="1229" y="87"/>
                        </a:lnTo>
                        <a:lnTo>
                          <a:pt x="1229" y="82"/>
                        </a:lnTo>
                        <a:lnTo>
                          <a:pt x="1229" y="80"/>
                        </a:lnTo>
                        <a:lnTo>
                          <a:pt x="1229" y="76"/>
                        </a:lnTo>
                        <a:lnTo>
                          <a:pt x="1229" y="73"/>
                        </a:lnTo>
                        <a:lnTo>
                          <a:pt x="1229" y="70"/>
                        </a:lnTo>
                        <a:lnTo>
                          <a:pt x="1229" y="67"/>
                        </a:lnTo>
                        <a:lnTo>
                          <a:pt x="1227" y="60"/>
                        </a:lnTo>
                        <a:lnTo>
                          <a:pt x="1227" y="56"/>
                        </a:lnTo>
                        <a:lnTo>
                          <a:pt x="1225" y="51"/>
                        </a:lnTo>
                        <a:lnTo>
                          <a:pt x="1224" y="45"/>
                        </a:lnTo>
                        <a:lnTo>
                          <a:pt x="1224" y="41"/>
                        </a:lnTo>
                        <a:lnTo>
                          <a:pt x="1224" y="37"/>
                        </a:lnTo>
                        <a:lnTo>
                          <a:pt x="1222" y="33"/>
                        </a:lnTo>
                        <a:lnTo>
                          <a:pt x="1221" y="30"/>
                        </a:lnTo>
                        <a:lnTo>
                          <a:pt x="1221" y="29"/>
                        </a:lnTo>
                        <a:lnTo>
                          <a:pt x="1221" y="28"/>
                        </a:lnTo>
                        <a:lnTo>
                          <a:pt x="1215" y="28"/>
                        </a:lnTo>
                        <a:lnTo>
                          <a:pt x="1207" y="28"/>
                        </a:lnTo>
                        <a:lnTo>
                          <a:pt x="1201" y="28"/>
                        </a:lnTo>
                        <a:lnTo>
                          <a:pt x="1196" y="28"/>
                        </a:lnTo>
                        <a:lnTo>
                          <a:pt x="1190" y="28"/>
                        </a:lnTo>
                        <a:lnTo>
                          <a:pt x="1184" y="28"/>
                        </a:lnTo>
                        <a:lnTo>
                          <a:pt x="1178" y="28"/>
                        </a:lnTo>
                        <a:lnTo>
                          <a:pt x="1172" y="28"/>
                        </a:lnTo>
                        <a:lnTo>
                          <a:pt x="1170" y="26"/>
                        </a:lnTo>
                        <a:lnTo>
                          <a:pt x="1169" y="26"/>
                        </a:lnTo>
                        <a:lnTo>
                          <a:pt x="1164" y="26"/>
                        </a:lnTo>
                        <a:lnTo>
                          <a:pt x="1161" y="25"/>
                        </a:lnTo>
                        <a:lnTo>
                          <a:pt x="1157" y="23"/>
                        </a:lnTo>
                        <a:lnTo>
                          <a:pt x="1154" y="23"/>
                        </a:lnTo>
                        <a:lnTo>
                          <a:pt x="1151" y="23"/>
                        </a:lnTo>
                        <a:lnTo>
                          <a:pt x="1149" y="22"/>
                        </a:lnTo>
                        <a:lnTo>
                          <a:pt x="1154" y="22"/>
                        </a:lnTo>
                        <a:lnTo>
                          <a:pt x="1160" y="21"/>
                        </a:lnTo>
                        <a:lnTo>
                          <a:pt x="1164" y="21"/>
                        </a:lnTo>
                        <a:lnTo>
                          <a:pt x="1170" y="21"/>
                        </a:lnTo>
                        <a:lnTo>
                          <a:pt x="1175" y="21"/>
                        </a:lnTo>
                        <a:lnTo>
                          <a:pt x="1180" y="19"/>
                        </a:lnTo>
                        <a:lnTo>
                          <a:pt x="1186" y="19"/>
                        </a:lnTo>
                        <a:lnTo>
                          <a:pt x="1190" y="19"/>
                        </a:lnTo>
                        <a:lnTo>
                          <a:pt x="1196" y="18"/>
                        </a:lnTo>
                        <a:lnTo>
                          <a:pt x="1201" y="18"/>
                        </a:lnTo>
                        <a:lnTo>
                          <a:pt x="1206" y="18"/>
                        </a:lnTo>
                        <a:lnTo>
                          <a:pt x="1212" y="18"/>
                        </a:lnTo>
                        <a:lnTo>
                          <a:pt x="1216" y="17"/>
                        </a:lnTo>
                        <a:lnTo>
                          <a:pt x="1221" y="17"/>
                        </a:lnTo>
                        <a:lnTo>
                          <a:pt x="1227" y="15"/>
                        </a:lnTo>
                        <a:lnTo>
                          <a:pt x="1233" y="15"/>
                        </a:lnTo>
                        <a:lnTo>
                          <a:pt x="1233" y="18"/>
                        </a:lnTo>
                        <a:lnTo>
                          <a:pt x="1233" y="21"/>
                        </a:lnTo>
                        <a:lnTo>
                          <a:pt x="1233" y="23"/>
                        </a:lnTo>
                        <a:lnTo>
                          <a:pt x="1233" y="29"/>
                        </a:lnTo>
                        <a:lnTo>
                          <a:pt x="1233" y="33"/>
                        </a:lnTo>
                        <a:lnTo>
                          <a:pt x="1235" y="39"/>
                        </a:lnTo>
                        <a:lnTo>
                          <a:pt x="1235" y="40"/>
                        </a:lnTo>
                        <a:lnTo>
                          <a:pt x="1235" y="43"/>
                        </a:lnTo>
                        <a:lnTo>
                          <a:pt x="1235" y="47"/>
                        </a:lnTo>
                        <a:lnTo>
                          <a:pt x="1236" y="50"/>
                        </a:lnTo>
                        <a:lnTo>
                          <a:pt x="1236" y="52"/>
                        </a:lnTo>
                        <a:lnTo>
                          <a:pt x="1236" y="55"/>
                        </a:lnTo>
                        <a:lnTo>
                          <a:pt x="1236" y="59"/>
                        </a:lnTo>
                        <a:lnTo>
                          <a:pt x="1236" y="62"/>
                        </a:lnTo>
                        <a:lnTo>
                          <a:pt x="1236" y="66"/>
                        </a:lnTo>
                        <a:lnTo>
                          <a:pt x="1236" y="69"/>
                        </a:lnTo>
                        <a:lnTo>
                          <a:pt x="1236" y="73"/>
                        </a:lnTo>
                        <a:lnTo>
                          <a:pt x="1238" y="76"/>
                        </a:lnTo>
                        <a:lnTo>
                          <a:pt x="1238" y="80"/>
                        </a:lnTo>
                        <a:lnTo>
                          <a:pt x="1238" y="82"/>
                        </a:lnTo>
                        <a:lnTo>
                          <a:pt x="1239" y="87"/>
                        </a:lnTo>
                        <a:lnTo>
                          <a:pt x="1239" y="91"/>
                        </a:lnTo>
                        <a:lnTo>
                          <a:pt x="1239" y="93"/>
                        </a:lnTo>
                        <a:lnTo>
                          <a:pt x="1239" y="98"/>
                        </a:lnTo>
                        <a:lnTo>
                          <a:pt x="1241" y="102"/>
                        </a:lnTo>
                        <a:lnTo>
                          <a:pt x="1241" y="106"/>
                        </a:lnTo>
                        <a:lnTo>
                          <a:pt x="1241" y="109"/>
                        </a:lnTo>
                        <a:lnTo>
                          <a:pt x="1242" y="113"/>
                        </a:lnTo>
                        <a:lnTo>
                          <a:pt x="1242" y="115"/>
                        </a:lnTo>
                        <a:lnTo>
                          <a:pt x="1242" y="120"/>
                        </a:lnTo>
                        <a:lnTo>
                          <a:pt x="1242" y="122"/>
                        </a:lnTo>
                        <a:lnTo>
                          <a:pt x="1244" y="126"/>
                        </a:lnTo>
                        <a:lnTo>
                          <a:pt x="1244" y="129"/>
                        </a:lnTo>
                        <a:lnTo>
                          <a:pt x="1245" y="133"/>
                        </a:lnTo>
                        <a:lnTo>
                          <a:pt x="1245" y="136"/>
                        </a:lnTo>
                        <a:lnTo>
                          <a:pt x="1245" y="139"/>
                        </a:lnTo>
                        <a:lnTo>
                          <a:pt x="1245" y="141"/>
                        </a:lnTo>
                        <a:lnTo>
                          <a:pt x="1247" y="146"/>
                        </a:lnTo>
                        <a:lnTo>
                          <a:pt x="1248" y="151"/>
                        </a:lnTo>
                        <a:lnTo>
                          <a:pt x="1250" y="157"/>
                        </a:lnTo>
                        <a:lnTo>
                          <a:pt x="1251" y="162"/>
                        </a:lnTo>
                        <a:lnTo>
                          <a:pt x="1253" y="166"/>
                        </a:lnTo>
                        <a:lnTo>
                          <a:pt x="1253" y="172"/>
                        </a:lnTo>
                        <a:lnTo>
                          <a:pt x="1256" y="176"/>
                        </a:lnTo>
                        <a:lnTo>
                          <a:pt x="1258" y="179"/>
                        </a:lnTo>
                        <a:lnTo>
                          <a:pt x="1259" y="180"/>
                        </a:lnTo>
                        <a:lnTo>
                          <a:pt x="1261" y="181"/>
                        </a:lnTo>
                        <a:lnTo>
                          <a:pt x="1262" y="184"/>
                        </a:lnTo>
                        <a:lnTo>
                          <a:pt x="1262" y="180"/>
                        </a:lnTo>
                        <a:lnTo>
                          <a:pt x="1262" y="177"/>
                        </a:lnTo>
                        <a:lnTo>
                          <a:pt x="1262" y="174"/>
                        </a:lnTo>
                        <a:lnTo>
                          <a:pt x="1262" y="172"/>
                        </a:lnTo>
                        <a:lnTo>
                          <a:pt x="1261" y="168"/>
                        </a:lnTo>
                        <a:lnTo>
                          <a:pt x="1261" y="165"/>
                        </a:lnTo>
                        <a:lnTo>
                          <a:pt x="1261" y="162"/>
                        </a:lnTo>
                        <a:lnTo>
                          <a:pt x="1261" y="159"/>
                        </a:lnTo>
                        <a:lnTo>
                          <a:pt x="1261" y="155"/>
                        </a:lnTo>
                        <a:lnTo>
                          <a:pt x="1261" y="152"/>
                        </a:lnTo>
                        <a:lnTo>
                          <a:pt x="1259" y="150"/>
                        </a:lnTo>
                        <a:lnTo>
                          <a:pt x="1259" y="147"/>
                        </a:lnTo>
                        <a:lnTo>
                          <a:pt x="1259" y="143"/>
                        </a:lnTo>
                        <a:lnTo>
                          <a:pt x="1259" y="140"/>
                        </a:lnTo>
                        <a:lnTo>
                          <a:pt x="1259" y="137"/>
                        </a:lnTo>
                        <a:lnTo>
                          <a:pt x="1259" y="135"/>
                        </a:lnTo>
                        <a:lnTo>
                          <a:pt x="1259" y="130"/>
                        </a:lnTo>
                        <a:lnTo>
                          <a:pt x="1259" y="128"/>
                        </a:lnTo>
                        <a:lnTo>
                          <a:pt x="1258" y="124"/>
                        </a:lnTo>
                        <a:lnTo>
                          <a:pt x="1258" y="121"/>
                        </a:lnTo>
                        <a:lnTo>
                          <a:pt x="1258" y="118"/>
                        </a:lnTo>
                        <a:lnTo>
                          <a:pt x="1258" y="115"/>
                        </a:lnTo>
                        <a:lnTo>
                          <a:pt x="1258" y="111"/>
                        </a:lnTo>
                        <a:lnTo>
                          <a:pt x="1258" y="109"/>
                        </a:lnTo>
                        <a:lnTo>
                          <a:pt x="1256" y="106"/>
                        </a:lnTo>
                        <a:lnTo>
                          <a:pt x="1256" y="102"/>
                        </a:lnTo>
                        <a:lnTo>
                          <a:pt x="1256" y="99"/>
                        </a:lnTo>
                        <a:lnTo>
                          <a:pt x="1256" y="96"/>
                        </a:lnTo>
                        <a:lnTo>
                          <a:pt x="1256" y="92"/>
                        </a:lnTo>
                        <a:lnTo>
                          <a:pt x="1256" y="89"/>
                        </a:lnTo>
                        <a:lnTo>
                          <a:pt x="1256" y="87"/>
                        </a:lnTo>
                        <a:lnTo>
                          <a:pt x="1256" y="84"/>
                        </a:lnTo>
                        <a:lnTo>
                          <a:pt x="1256" y="80"/>
                        </a:lnTo>
                        <a:lnTo>
                          <a:pt x="1258" y="77"/>
                        </a:lnTo>
                        <a:lnTo>
                          <a:pt x="1259" y="74"/>
                        </a:lnTo>
                        <a:lnTo>
                          <a:pt x="1261" y="71"/>
                        </a:lnTo>
                        <a:lnTo>
                          <a:pt x="1262" y="66"/>
                        </a:lnTo>
                        <a:lnTo>
                          <a:pt x="1264" y="60"/>
                        </a:lnTo>
                        <a:lnTo>
                          <a:pt x="1265" y="55"/>
                        </a:lnTo>
                        <a:lnTo>
                          <a:pt x="1267" y="51"/>
                        </a:lnTo>
                        <a:lnTo>
                          <a:pt x="1268" y="45"/>
                        </a:lnTo>
                        <a:lnTo>
                          <a:pt x="1270" y="41"/>
                        </a:lnTo>
                        <a:lnTo>
                          <a:pt x="1270" y="36"/>
                        </a:lnTo>
                        <a:lnTo>
                          <a:pt x="1270" y="32"/>
                        </a:lnTo>
                        <a:lnTo>
                          <a:pt x="1270" y="28"/>
                        </a:lnTo>
                        <a:lnTo>
                          <a:pt x="1270" y="22"/>
                        </a:lnTo>
                        <a:lnTo>
                          <a:pt x="1268" y="17"/>
                        </a:lnTo>
                        <a:lnTo>
                          <a:pt x="1268" y="11"/>
                        </a:lnTo>
                        <a:lnTo>
                          <a:pt x="1267" y="6"/>
                        </a:lnTo>
                        <a:lnTo>
                          <a:pt x="126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161"/>
                  <p:cNvSpPr/>
                  <p:nvPr/>
                </p:nvSpPr>
                <p:spPr>
                  <a:xfrm>
                    <a:off x="4243320" y="3193560"/>
                    <a:ext cx="22320" cy="10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155" h="11">
                        <a:moveTo>
                          <a:pt x="155" y="11"/>
                        </a:moveTo>
                        <a:lnTo>
                          <a:pt x="152" y="11"/>
                        </a:lnTo>
                        <a:lnTo>
                          <a:pt x="149" y="11"/>
                        </a:lnTo>
                        <a:lnTo>
                          <a:pt x="144" y="9"/>
                        </a:lnTo>
                        <a:lnTo>
                          <a:pt x="141" y="9"/>
                        </a:lnTo>
                        <a:lnTo>
                          <a:pt x="135" y="9"/>
                        </a:lnTo>
                        <a:lnTo>
                          <a:pt x="130" y="9"/>
                        </a:lnTo>
                        <a:lnTo>
                          <a:pt x="126" y="9"/>
                        </a:lnTo>
                        <a:lnTo>
                          <a:pt x="120" y="9"/>
                        </a:lnTo>
                        <a:lnTo>
                          <a:pt x="114" y="9"/>
                        </a:lnTo>
                        <a:lnTo>
                          <a:pt x="109" y="9"/>
                        </a:lnTo>
                        <a:lnTo>
                          <a:pt x="103" y="9"/>
                        </a:lnTo>
                        <a:lnTo>
                          <a:pt x="97" y="9"/>
                        </a:lnTo>
                        <a:lnTo>
                          <a:pt x="89" y="8"/>
                        </a:lnTo>
                        <a:lnTo>
                          <a:pt x="85" y="8"/>
                        </a:lnTo>
                        <a:lnTo>
                          <a:pt x="77" y="8"/>
                        </a:lnTo>
                        <a:lnTo>
                          <a:pt x="72" y="8"/>
                        </a:lnTo>
                        <a:lnTo>
                          <a:pt x="65" y="8"/>
                        </a:lnTo>
                        <a:lnTo>
                          <a:pt x="59" y="8"/>
                        </a:lnTo>
                        <a:lnTo>
                          <a:pt x="52" y="7"/>
                        </a:lnTo>
                        <a:lnTo>
                          <a:pt x="46" y="7"/>
                        </a:lnTo>
                        <a:lnTo>
                          <a:pt x="40" y="7"/>
                        </a:lnTo>
                        <a:lnTo>
                          <a:pt x="36" y="7"/>
                        </a:lnTo>
                        <a:lnTo>
                          <a:pt x="29" y="5"/>
                        </a:lnTo>
                        <a:lnTo>
                          <a:pt x="25" y="5"/>
                        </a:lnTo>
                        <a:lnTo>
                          <a:pt x="19" y="5"/>
                        </a:lnTo>
                        <a:lnTo>
                          <a:pt x="16" y="4"/>
                        </a:lnTo>
                        <a:lnTo>
                          <a:pt x="11" y="4"/>
                        </a:lnTo>
                        <a:lnTo>
                          <a:pt x="8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1" y="0"/>
                        </a:lnTo>
                        <a:lnTo>
                          <a:pt x="55" y="3"/>
                        </a:lnTo>
                        <a:lnTo>
                          <a:pt x="60" y="1"/>
                        </a:lnTo>
                        <a:lnTo>
                          <a:pt x="65" y="1"/>
                        </a:lnTo>
                        <a:lnTo>
                          <a:pt x="69" y="1"/>
                        </a:lnTo>
                        <a:lnTo>
                          <a:pt x="72" y="1"/>
                        </a:lnTo>
                        <a:lnTo>
                          <a:pt x="77" y="1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91" y="1"/>
                        </a:lnTo>
                        <a:lnTo>
                          <a:pt x="95" y="1"/>
                        </a:lnTo>
                        <a:lnTo>
                          <a:pt x="100" y="1"/>
                        </a:lnTo>
                        <a:lnTo>
                          <a:pt x="103" y="1"/>
                        </a:lnTo>
                        <a:lnTo>
                          <a:pt x="109" y="1"/>
                        </a:lnTo>
                        <a:lnTo>
                          <a:pt x="114" y="1"/>
                        </a:lnTo>
                        <a:lnTo>
                          <a:pt x="117" y="1"/>
                        </a:lnTo>
                        <a:lnTo>
                          <a:pt x="121" y="1"/>
                        </a:lnTo>
                        <a:lnTo>
                          <a:pt x="127" y="3"/>
                        </a:lnTo>
                        <a:lnTo>
                          <a:pt x="130" y="3"/>
                        </a:lnTo>
                        <a:lnTo>
                          <a:pt x="137" y="3"/>
                        </a:lnTo>
                        <a:lnTo>
                          <a:pt x="141" y="5"/>
                        </a:lnTo>
                        <a:lnTo>
                          <a:pt x="147" y="7"/>
                        </a:lnTo>
                        <a:lnTo>
                          <a:pt x="152" y="8"/>
                        </a:lnTo>
                        <a:lnTo>
                          <a:pt x="155" y="9"/>
                        </a:lnTo>
                        <a:lnTo>
                          <a:pt x="155" y="1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162"/>
                  <p:cNvSpPr/>
                  <p:nvPr/>
                </p:nvSpPr>
                <p:spPr>
                  <a:xfrm>
                    <a:off x="4129200" y="3199680"/>
                    <a:ext cx="9360" cy="54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5" h="42">
                        <a:moveTo>
                          <a:pt x="65" y="0"/>
                        </a:moveTo>
                        <a:lnTo>
                          <a:pt x="64" y="0"/>
                        </a:lnTo>
                        <a:lnTo>
                          <a:pt x="61" y="0"/>
                        </a:lnTo>
                        <a:lnTo>
                          <a:pt x="56" y="0"/>
                        </a:lnTo>
                        <a:lnTo>
                          <a:pt x="53" y="0"/>
                        </a:lnTo>
                        <a:lnTo>
                          <a:pt x="49" y="0"/>
                        </a:lnTo>
                        <a:lnTo>
                          <a:pt x="42" y="0"/>
                        </a:lnTo>
                        <a:lnTo>
                          <a:pt x="38" y="1"/>
                        </a:lnTo>
                        <a:lnTo>
                          <a:pt x="33" y="3"/>
                        </a:lnTo>
                        <a:lnTo>
                          <a:pt x="27" y="3"/>
                        </a:lnTo>
                        <a:lnTo>
                          <a:pt x="23" y="3"/>
                        </a:lnTo>
                        <a:lnTo>
                          <a:pt x="16" y="4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4" y="7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4" y="42"/>
                        </a:lnTo>
                        <a:lnTo>
                          <a:pt x="7" y="41"/>
                        </a:lnTo>
                        <a:lnTo>
                          <a:pt x="6" y="38"/>
                        </a:lnTo>
                        <a:lnTo>
                          <a:pt x="6" y="34"/>
                        </a:lnTo>
                        <a:lnTo>
                          <a:pt x="6" y="30"/>
                        </a:lnTo>
                        <a:lnTo>
                          <a:pt x="4" y="27"/>
                        </a:lnTo>
                        <a:lnTo>
                          <a:pt x="4" y="22"/>
                        </a:lnTo>
                        <a:lnTo>
                          <a:pt x="3" y="19"/>
                        </a:lnTo>
                        <a:lnTo>
                          <a:pt x="3" y="16"/>
                        </a:lnTo>
                        <a:lnTo>
                          <a:pt x="4" y="15"/>
                        </a:lnTo>
                        <a:lnTo>
                          <a:pt x="7" y="15"/>
                        </a:lnTo>
                        <a:lnTo>
                          <a:pt x="12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3" y="14"/>
                        </a:lnTo>
                        <a:lnTo>
                          <a:pt x="27" y="12"/>
                        </a:lnTo>
                        <a:lnTo>
                          <a:pt x="32" y="12"/>
                        </a:lnTo>
                        <a:lnTo>
                          <a:pt x="36" y="11"/>
                        </a:lnTo>
                        <a:lnTo>
                          <a:pt x="39" y="9"/>
                        </a:lnTo>
                        <a:lnTo>
                          <a:pt x="44" y="8"/>
                        </a:lnTo>
                        <a:lnTo>
                          <a:pt x="49" y="7"/>
                        </a:lnTo>
                        <a:lnTo>
                          <a:pt x="53" y="5"/>
                        </a:lnTo>
                        <a:lnTo>
                          <a:pt x="56" y="4"/>
                        </a:lnTo>
                        <a:lnTo>
                          <a:pt x="59" y="3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63"/>
                  <p:cNvSpPr/>
                  <p:nvPr/>
                </p:nvSpPr>
                <p:spPr>
                  <a:xfrm>
                    <a:off x="4106880" y="3213000"/>
                    <a:ext cx="209880" cy="30600"/>
                  </a:xfrm>
                  <a:custGeom>
                    <a:avLst/>
                    <a:gdLst>
                      <a:gd name="textAreaLeft" fmla="*/ 0 w 209880"/>
                      <a:gd name="textAreaRight" fmla="*/ 210240 w 2098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450" h="235">
                        <a:moveTo>
                          <a:pt x="9" y="4"/>
                        </a:moveTo>
                        <a:lnTo>
                          <a:pt x="9" y="7"/>
                        </a:lnTo>
                        <a:lnTo>
                          <a:pt x="8" y="11"/>
                        </a:lnTo>
                        <a:lnTo>
                          <a:pt x="8" y="15"/>
                        </a:lnTo>
                        <a:lnTo>
                          <a:pt x="6" y="19"/>
                        </a:lnTo>
                        <a:lnTo>
                          <a:pt x="6" y="23"/>
                        </a:lnTo>
                        <a:lnTo>
                          <a:pt x="6" y="28"/>
                        </a:lnTo>
                        <a:lnTo>
                          <a:pt x="4" y="33"/>
                        </a:lnTo>
                        <a:lnTo>
                          <a:pt x="4" y="37"/>
                        </a:lnTo>
                        <a:lnTo>
                          <a:pt x="4" y="43"/>
                        </a:lnTo>
                        <a:lnTo>
                          <a:pt x="3" y="47"/>
                        </a:lnTo>
                        <a:lnTo>
                          <a:pt x="3" y="51"/>
                        </a:lnTo>
                        <a:lnTo>
                          <a:pt x="3" y="56"/>
                        </a:lnTo>
                        <a:lnTo>
                          <a:pt x="1" y="62"/>
                        </a:lnTo>
                        <a:lnTo>
                          <a:pt x="1" y="66"/>
                        </a:lnTo>
                        <a:lnTo>
                          <a:pt x="1" y="71"/>
                        </a:lnTo>
                        <a:lnTo>
                          <a:pt x="1" y="77"/>
                        </a:lnTo>
                        <a:lnTo>
                          <a:pt x="1" y="81"/>
                        </a:lnTo>
                        <a:lnTo>
                          <a:pt x="1" y="87"/>
                        </a:lnTo>
                        <a:lnTo>
                          <a:pt x="0" y="91"/>
                        </a:lnTo>
                        <a:lnTo>
                          <a:pt x="0" y="96"/>
                        </a:lnTo>
                        <a:lnTo>
                          <a:pt x="0" y="100"/>
                        </a:lnTo>
                        <a:lnTo>
                          <a:pt x="0" y="104"/>
                        </a:lnTo>
                        <a:lnTo>
                          <a:pt x="0" y="110"/>
                        </a:lnTo>
                        <a:lnTo>
                          <a:pt x="0" y="115"/>
                        </a:lnTo>
                        <a:lnTo>
                          <a:pt x="0" y="119"/>
                        </a:lnTo>
                        <a:lnTo>
                          <a:pt x="0" y="124"/>
                        </a:lnTo>
                        <a:lnTo>
                          <a:pt x="0" y="129"/>
                        </a:lnTo>
                        <a:lnTo>
                          <a:pt x="0" y="133"/>
                        </a:lnTo>
                        <a:lnTo>
                          <a:pt x="0" y="137"/>
                        </a:lnTo>
                        <a:lnTo>
                          <a:pt x="0" y="141"/>
                        </a:lnTo>
                        <a:lnTo>
                          <a:pt x="0" y="147"/>
                        </a:lnTo>
                        <a:lnTo>
                          <a:pt x="0" y="151"/>
                        </a:lnTo>
                        <a:lnTo>
                          <a:pt x="0" y="150"/>
                        </a:lnTo>
                        <a:lnTo>
                          <a:pt x="1" y="147"/>
                        </a:lnTo>
                        <a:lnTo>
                          <a:pt x="3" y="143"/>
                        </a:lnTo>
                        <a:lnTo>
                          <a:pt x="4" y="140"/>
                        </a:lnTo>
                        <a:lnTo>
                          <a:pt x="4" y="135"/>
                        </a:lnTo>
                        <a:lnTo>
                          <a:pt x="6" y="130"/>
                        </a:lnTo>
                        <a:lnTo>
                          <a:pt x="6" y="125"/>
                        </a:lnTo>
                        <a:lnTo>
                          <a:pt x="8" y="121"/>
                        </a:lnTo>
                        <a:lnTo>
                          <a:pt x="8" y="114"/>
                        </a:lnTo>
                        <a:lnTo>
                          <a:pt x="8" y="108"/>
                        </a:lnTo>
                        <a:lnTo>
                          <a:pt x="9" y="104"/>
                        </a:lnTo>
                        <a:lnTo>
                          <a:pt x="9" y="99"/>
                        </a:lnTo>
                        <a:lnTo>
                          <a:pt x="9" y="95"/>
                        </a:lnTo>
                        <a:lnTo>
                          <a:pt x="9" y="92"/>
                        </a:lnTo>
                        <a:lnTo>
                          <a:pt x="9" y="89"/>
                        </a:lnTo>
                        <a:lnTo>
                          <a:pt x="9" y="88"/>
                        </a:lnTo>
                        <a:lnTo>
                          <a:pt x="17" y="33"/>
                        </a:lnTo>
                        <a:lnTo>
                          <a:pt x="21" y="32"/>
                        </a:lnTo>
                        <a:lnTo>
                          <a:pt x="26" y="32"/>
                        </a:lnTo>
                        <a:lnTo>
                          <a:pt x="30" y="30"/>
                        </a:lnTo>
                        <a:lnTo>
                          <a:pt x="37" y="30"/>
                        </a:lnTo>
                        <a:lnTo>
                          <a:pt x="41" y="28"/>
                        </a:lnTo>
                        <a:lnTo>
                          <a:pt x="47" y="28"/>
                        </a:lnTo>
                        <a:lnTo>
                          <a:pt x="50" y="26"/>
                        </a:lnTo>
                        <a:lnTo>
                          <a:pt x="53" y="26"/>
                        </a:lnTo>
                        <a:lnTo>
                          <a:pt x="58" y="25"/>
                        </a:lnTo>
                        <a:lnTo>
                          <a:pt x="61" y="25"/>
                        </a:lnTo>
                        <a:lnTo>
                          <a:pt x="64" y="23"/>
                        </a:lnTo>
                        <a:lnTo>
                          <a:pt x="67" y="23"/>
                        </a:lnTo>
                        <a:lnTo>
                          <a:pt x="72" y="23"/>
                        </a:lnTo>
                        <a:lnTo>
                          <a:pt x="75" y="22"/>
                        </a:lnTo>
                        <a:lnTo>
                          <a:pt x="79" y="22"/>
                        </a:lnTo>
                        <a:lnTo>
                          <a:pt x="82" y="21"/>
                        </a:lnTo>
                        <a:lnTo>
                          <a:pt x="87" y="21"/>
                        </a:lnTo>
                        <a:lnTo>
                          <a:pt x="90" y="21"/>
                        </a:lnTo>
                        <a:lnTo>
                          <a:pt x="95" y="19"/>
                        </a:lnTo>
                        <a:lnTo>
                          <a:pt x="98" y="19"/>
                        </a:lnTo>
                        <a:lnTo>
                          <a:pt x="101" y="18"/>
                        </a:lnTo>
                        <a:lnTo>
                          <a:pt x="105" y="18"/>
                        </a:lnTo>
                        <a:lnTo>
                          <a:pt x="108" y="18"/>
                        </a:lnTo>
                        <a:lnTo>
                          <a:pt x="113" y="17"/>
                        </a:lnTo>
                        <a:lnTo>
                          <a:pt x="118" y="17"/>
                        </a:lnTo>
                        <a:lnTo>
                          <a:pt x="122" y="17"/>
                        </a:lnTo>
                        <a:lnTo>
                          <a:pt x="125" y="15"/>
                        </a:lnTo>
                        <a:lnTo>
                          <a:pt x="128" y="15"/>
                        </a:lnTo>
                        <a:lnTo>
                          <a:pt x="133" y="14"/>
                        </a:lnTo>
                        <a:lnTo>
                          <a:pt x="136" y="14"/>
                        </a:lnTo>
                        <a:lnTo>
                          <a:pt x="141" y="14"/>
                        </a:lnTo>
                        <a:lnTo>
                          <a:pt x="144" y="12"/>
                        </a:lnTo>
                        <a:lnTo>
                          <a:pt x="148" y="12"/>
                        </a:lnTo>
                        <a:lnTo>
                          <a:pt x="151" y="12"/>
                        </a:lnTo>
                        <a:lnTo>
                          <a:pt x="157" y="12"/>
                        </a:lnTo>
                        <a:lnTo>
                          <a:pt x="165" y="11"/>
                        </a:lnTo>
                        <a:lnTo>
                          <a:pt x="171" y="11"/>
                        </a:lnTo>
                        <a:lnTo>
                          <a:pt x="177" y="11"/>
                        </a:lnTo>
                        <a:lnTo>
                          <a:pt x="183" y="11"/>
                        </a:lnTo>
                        <a:lnTo>
                          <a:pt x="190" y="11"/>
                        </a:lnTo>
                        <a:lnTo>
                          <a:pt x="194" y="11"/>
                        </a:lnTo>
                        <a:lnTo>
                          <a:pt x="199" y="11"/>
                        </a:lnTo>
                        <a:lnTo>
                          <a:pt x="202" y="12"/>
                        </a:lnTo>
                        <a:lnTo>
                          <a:pt x="206" y="12"/>
                        </a:lnTo>
                        <a:lnTo>
                          <a:pt x="209" y="14"/>
                        </a:lnTo>
                        <a:lnTo>
                          <a:pt x="211" y="15"/>
                        </a:lnTo>
                        <a:lnTo>
                          <a:pt x="209" y="15"/>
                        </a:lnTo>
                        <a:lnTo>
                          <a:pt x="206" y="14"/>
                        </a:lnTo>
                        <a:lnTo>
                          <a:pt x="202" y="14"/>
                        </a:lnTo>
                        <a:lnTo>
                          <a:pt x="199" y="15"/>
                        </a:lnTo>
                        <a:lnTo>
                          <a:pt x="194" y="15"/>
                        </a:lnTo>
                        <a:lnTo>
                          <a:pt x="190" y="15"/>
                        </a:lnTo>
                        <a:lnTo>
                          <a:pt x="183" y="15"/>
                        </a:lnTo>
                        <a:lnTo>
                          <a:pt x="179" y="15"/>
                        </a:lnTo>
                        <a:lnTo>
                          <a:pt x="173" y="15"/>
                        </a:lnTo>
                        <a:lnTo>
                          <a:pt x="167" y="17"/>
                        </a:lnTo>
                        <a:lnTo>
                          <a:pt x="162" y="17"/>
                        </a:lnTo>
                        <a:lnTo>
                          <a:pt x="159" y="18"/>
                        </a:lnTo>
                        <a:lnTo>
                          <a:pt x="156" y="18"/>
                        </a:lnTo>
                        <a:lnTo>
                          <a:pt x="153" y="18"/>
                        </a:lnTo>
                        <a:lnTo>
                          <a:pt x="148" y="18"/>
                        </a:lnTo>
                        <a:lnTo>
                          <a:pt x="145" y="19"/>
                        </a:lnTo>
                        <a:lnTo>
                          <a:pt x="141" y="19"/>
                        </a:lnTo>
                        <a:lnTo>
                          <a:pt x="138" y="21"/>
                        </a:lnTo>
                        <a:lnTo>
                          <a:pt x="133" y="21"/>
                        </a:lnTo>
                        <a:lnTo>
                          <a:pt x="130" y="21"/>
                        </a:lnTo>
                        <a:lnTo>
                          <a:pt x="125" y="22"/>
                        </a:lnTo>
                        <a:lnTo>
                          <a:pt x="122" y="23"/>
                        </a:lnTo>
                        <a:lnTo>
                          <a:pt x="119" y="23"/>
                        </a:lnTo>
                        <a:lnTo>
                          <a:pt x="115" y="23"/>
                        </a:lnTo>
                        <a:lnTo>
                          <a:pt x="110" y="23"/>
                        </a:lnTo>
                        <a:lnTo>
                          <a:pt x="107" y="25"/>
                        </a:lnTo>
                        <a:lnTo>
                          <a:pt x="102" y="25"/>
                        </a:lnTo>
                        <a:lnTo>
                          <a:pt x="99" y="26"/>
                        </a:lnTo>
                        <a:lnTo>
                          <a:pt x="95" y="26"/>
                        </a:lnTo>
                        <a:lnTo>
                          <a:pt x="92" y="28"/>
                        </a:lnTo>
                        <a:lnTo>
                          <a:pt x="87" y="28"/>
                        </a:lnTo>
                        <a:lnTo>
                          <a:pt x="84" y="28"/>
                        </a:lnTo>
                        <a:lnTo>
                          <a:pt x="81" y="29"/>
                        </a:lnTo>
                        <a:lnTo>
                          <a:pt x="76" y="29"/>
                        </a:lnTo>
                        <a:lnTo>
                          <a:pt x="70" y="30"/>
                        </a:lnTo>
                        <a:lnTo>
                          <a:pt x="63" y="32"/>
                        </a:lnTo>
                        <a:lnTo>
                          <a:pt x="56" y="33"/>
                        </a:lnTo>
                        <a:lnTo>
                          <a:pt x="50" y="34"/>
                        </a:lnTo>
                        <a:lnTo>
                          <a:pt x="44" y="34"/>
                        </a:lnTo>
                        <a:lnTo>
                          <a:pt x="40" y="36"/>
                        </a:lnTo>
                        <a:lnTo>
                          <a:pt x="35" y="37"/>
                        </a:lnTo>
                        <a:lnTo>
                          <a:pt x="30" y="38"/>
                        </a:lnTo>
                        <a:lnTo>
                          <a:pt x="27" y="38"/>
                        </a:lnTo>
                        <a:lnTo>
                          <a:pt x="24" y="40"/>
                        </a:lnTo>
                        <a:lnTo>
                          <a:pt x="23" y="44"/>
                        </a:lnTo>
                        <a:lnTo>
                          <a:pt x="23" y="51"/>
                        </a:lnTo>
                        <a:lnTo>
                          <a:pt x="23" y="54"/>
                        </a:lnTo>
                        <a:lnTo>
                          <a:pt x="21" y="58"/>
                        </a:lnTo>
                        <a:lnTo>
                          <a:pt x="21" y="62"/>
                        </a:lnTo>
                        <a:lnTo>
                          <a:pt x="21" y="65"/>
                        </a:lnTo>
                        <a:lnTo>
                          <a:pt x="21" y="69"/>
                        </a:lnTo>
                        <a:lnTo>
                          <a:pt x="21" y="71"/>
                        </a:lnTo>
                        <a:lnTo>
                          <a:pt x="21" y="76"/>
                        </a:lnTo>
                        <a:lnTo>
                          <a:pt x="23" y="78"/>
                        </a:lnTo>
                        <a:lnTo>
                          <a:pt x="23" y="84"/>
                        </a:lnTo>
                        <a:lnTo>
                          <a:pt x="24" y="88"/>
                        </a:lnTo>
                        <a:lnTo>
                          <a:pt x="24" y="89"/>
                        </a:lnTo>
                        <a:lnTo>
                          <a:pt x="24" y="93"/>
                        </a:lnTo>
                        <a:lnTo>
                          <a:pt x="23" y="96"/>
                        </a:lnTo>
                        <a:lnTo>
                          <a:pt x="23" y="99"/>
                        </a:lnTo>
                        <a:lnTo>
                          <a:pt x="23" y="103"/>
                        </a:lnTo>
                        <a:lnTo>
                          <a:pt x="23" y="106"/>
                        </a:lnTo>
                        <a:lnTo>
                          <a:pt x="23" y="108"/>
                        </a:lnTo>
                        <a:lnTo>
                          <a:pt x="21" y="111"/>
                        </a:lnTo>
                        <a:lnTo>
                          <a:pt x="21" y="114"/>
                        </a:lnTo>
                        <a:lnTo>
                          <a:pt x="21" y="117"/>
                        </a:lnTo>
                        <a:lnTo>
                          <a:pt x="20" y="121"/>
                        </a:lnTo>
                        <a:lnTo>
                          <a:pt x="20" y="122"/>
                        </a:lnTo>
                        <a:lnTo>
                          <a:pt x="20" y="125"/>
                        </a:lnTo>
                        <a:lnTo>
                          <a:pt x="20" y="128"/>
                        </a:lnTo>
                        <a:lnTo>
                          <a:pt x="20" y="130"/>
                        </a:lnTo>
                        <a:lnTo>
                          <a:pt x="20" y="135"/>
                        </a:lnTo>
                        <a:lnTo>
                          <a:pt x="18" y="137"/>
                        </a:lnTo>
                        <a:lnTo>
                          <a:pt x="18" y="140"/>
                        </a:lnTo>
                        <a:lnTo>
                          <a:pt x="18" y="143"/>
                        </a:lnTo>
                        <a:lnTo>
                          <a:pt x="18" y="147"/>
                        </a:lnTo>
                        <a:lnTo>
                          <a:pt x="18" y="150"/>
                        </a:lnTo>
                        <a:lnTo>
                          <a:pt x="18" y="152"/>
                        </a:lnTo>
                        <a:lnTo>
                          <a:pt x="18" y="155"/>
                        </a:lnTo>
                        <a:lnTo>
                          <a:pt x="18" y="159"/>
                        </a:lnTo>
                        <a:lnTo>
                          <a:pt x="17" y="162"/>
                        </a:lnTo>
                        <a:lnTo>
                          <a:pt x="17" y="165"/>
                        </a:lnTo>
                        <a:lnTo>
                          <a:pt x="17" y="168"/>
                        </a:lnTo>
                        <a:lnTo>
                          <a:pt x="17" y="172"/>
                        </a:lnTo>
                        <a:lnTo>
                          <a:pt x="17" y="177"/>
                        </a:lnTo>
                        <a:lnTo>
                          <a:pt x="15" y="183"/>
                        </a:lnTo>
                        <a:lnTo>
                          <a:pt x="15" y="185"/>
                        </a:lnTo>
                        <a:lnTo>
                          <a:pt x="15" y="189"/>
                        </a:lnTo>
                        <a:lnTo>
                          <a:pt x="15" y="192"/>
                        </a:lnTo>
                        <a:lnTo>
                          <a:pt x="15" y="196"/>
                        </a:lnTo>
                        <a:lnTo>
                          <a:pt x="15" y="199"/>
                        </a:lnTo>
                        <a:lnTo>
                          <a:pt x="15" y="202"/>
                        </a:lnTo>
                        <a:lnTo>
                          <a:pt x="15" y="205"/>
                        </a:lnTo>
                        <a:lnTo>
                          <a:pt x="15" y="209"/>
                        </a:lnTo>
                        <a:lnTo>
                          <a:pt x="15" y="211"/>
                        </a:lnTo>
                        <a:lnTo>
                          <a:pt x="15" y="214"/>
                        </a:lnTo>
                        <a:lnTo>
                          <a:pt x="15" y="218"/>
                        </a:lnTo>
                        <a:lnTo>
                          <a:pt x="15" y="221"/>
                        </a:lnTo>
                        <a:lnTo>
                          <a:pt x="15" y="220"/>
                        </a:lnTo>
                        <a:lnTo>
                          <a:pt x="15" y="218"/>
                        </a:lnTo>
                        <a:lnTo>
                          <a:pt x="15" y="217"/>
                        </a:lnTo>
                        <a:lnTo>
                          <a:pt x="17" y="213"/>
                        </a:lnTo>
                        <a:lnTo>
                          <a:pt x="18" y="210"/>
                        </a:lnTo>
                        <a:lnTo>
                          <a:pt x="20" y="206"/>
                        </a:lnTo>
                        <a:lnTo>
                          <a:pt x="20" y="200"/>
                        </a:lnTo>
                        <a:lnTo>
                          <a:pt x="21" y="196"/>
                        </a:lnTo>
                        <a:lnTo>
                          <a:pt x="21" y="191"/>
                        </a:lnTo>
                        <a:lnTo>
                          <a:pt x="23" y="185"/>
                        </a:lnTo>
                        <a:lnTo>
                          <a:pt x="23" y="180"/>
                        </a:lnTo>
                        <a:lnTo>
                          <a:pt x="24" y="173"/>
                        </a:lnTo>
                        <a:lnTo>
                          <a:pt x="24" y="170"/>
                        </a:lnTo>
                        <a:lnTo>
                          <a:pt x="26" y="168"/>
                        </a:lnTo>
                        <a:lnTo>
                          <a:pt x="26" y="163"/>
                        </a:lnTo>
                        <a:lnTo>
                          <a:pt x="26" y="161"/>
                        </a:lnTo>
                        <a:lnTo>
                          <a:pt x="26" y="157"/>
                        </a:lnTo>
                        <a:lnTo>
                          <a:pt x="27" y="154"/>
                        </a:lnTo>
                        <a:lnTo>
                          <a:pt x="27" y="150"/>
                        </a:lnTo>
                        <a:lnTo>
                          <a:pt x="29" y="147"/>
                        </a:lnTo>
                        <a:lnTo>
                          <a:pt x="29" y="143"/>
                        </a:lnTo>
                        <a:lnTo>
                          <a:pt x="29" y="140"/>
                        </a:lnTo>
                        <a:lnTo>
                          <a:pt x="30" y="136"/>
                        </a:lnTo>
                        <a:lnTo>
                          <a:pt x="30" y="133"/>
                        </a:lnTo>
                        <a:lnTo>
                          <a:pt x="30" y="129"/>
                        </a:lnTo>
                        <a:lnTo>
                          <a:pt x="32" y="126"/>
                        </a:lnTo>
                        <a:lnTo>
                          <a:pt x="32" y="122"/>
                        </a:lnTo>
                        <a:lnTo>
                          <a:pt x="32" y="119"/>
                        </a:lnTo>
                        <a:lnTo>
                          <a:pt x="32" y="115"/>
                        </a:lnTo>
                        <a:lnTo>
                          <a:pt x="34" y="113"/>
                        </a:lnTo>
                        <a:lnTo>
                          <a:pt x="34" y="108"/>
                        </a:lnTo>
                        <a:lnTo>
                          <a:pt x="35" y="106"/>
                        </a:lnTo>
                        <a:lnTo>
                          <a:pt x="35" y="99"/>
                        </a:lnTo>
                        <a:lnTo>
                          <a:pt x="37" y="95"/>
                        </a:lnTo>
                        <a:lnTo>
                          <a:pt x="37" y="88"/>
                        </a:lnTo>
                        <a:lnTo>
                          <a:pt x="38" y="84"/>
                        </a:lnTo>
                        <a:lnTo>
                          <a:pt x="38" y="78"/>
                        </a:lnTo>
                        <a:lnTo>
                          <a:pt x="40" y="74"/>
                        </a:lnTo>
                        <a:lnTo>
                          <a:pt x="40" y="70"/>
                        </a:lnTo>
                        <a:lnTo>
                          <a:pt x="41" y="67"/>
                        </a:lnTo>
                        <a:lnTo>
                          <a:pt x="41" y="65"/>
                        </a:lnTo>
                        <a:lnTo>
                          <a:pt x="43" y="63"/>
                        </a:lnTo>
                        <a:lnTo>
                          <a:pt x="43" y="62"/>
                        </a:lnTo>
                        <a:lnTo>
                          <a:pt x="46" y="62"/>
                        </a:lnTo>
                        <a:lnTo>
                          <a:pt x="50" y="60"/>
                        </a:lnTo>
                        <a:lnTo>
                          <a:pt x="55" y="59"/>
                        </a:lnTo>
                        <a:lnTo>
                          <a:pt x="58" y="59"/>
                        </a:lnTo>
                        <a:lnTo>
                          <a:pt x="61" y="58"/>
                        </a:lnTo>
                        <a:lnTo>
                          <a:pt x="64" y="56"/>
                        </a:lnTo>
                        <a:lnTo>
                          <a:pt x="67" y="56"/>
                        </a:lnTo>
                        <a:lnTo>
                          <a:pt x="70" y="55"/>
                        </a:lnTo>
                        <a:lnTo>
                          <a:pt x="75" y="55"/>
                        </a:lnTo>
                        <a:lnTo>
                          <a:pt x="78" y="54"/>
                        </a:lnTo>
                        <a:lnTo>
                          <a:pt x="82" y="54"/>
                        </a:lnTo>
                        <a:lnTo>
                          <a:pt x="86" y="52"/>
                        </a:lnTo>
                        <a:lnTo>
                          <a:pt x="90" y="52"/>
                        </a:lnTo>
                        <a:lnTo>
                          <a:pt x="93" y="51"/>
                        </a:lnTo>
                        <a:lnTo>
                          <a:pt x="98" y="51"/>
                        </a:lnTo>
                        <a:lnTo>
                          <a:pt x="101" y="49"/>
                        </a:lnTo>
                        <a:lnTo>
                          <a:pt x="105" y="49"/>
                        </a:lnTo>
                        <a:lnTo>
                          <a:pt x="108" y="49"/>
                        </a:lnTo>
                        <a:lnTo>
                          <a:pt x="113" y="49"/>
                        </a:lnTo>
                        <a:lnTo>
                          <a:pt x="116" y="48"/>
                        </a:lnTo>
                        <a:lnTo>
                          <a:pt x="119" y="48"/>
                        </a:lnTo>
                        <a:lnTo>
                          <a:pt x="122" y="48"/>
                        </a:lnTo>
                        <a:lnTo>
                          <a:pt x="127" y="48"/>
                        </a:lnTo>
                        <a:lnTo>
                          <a:pt x="133" y="48"/>
                        </a:lnTo>
                        <a:lnTo>
                          <a:pt x="139" y="49"/>
                        </a:lnTo>
                        <a:lnTo>
                          <a:pt x="115" y="60"/>
                        </a:lnTo>
                        <a:lnTo>
                          <a:pt x="113" y="59"/>
                        </a:lnTo>
                        <a:lnTo>
                          <a:pt x="112" y="59"/>
                        </a:lnTo>
                        <a:lnTo>
                          <a:pt x="108" y="59"/>
                        </a:lnTo>
                        <a:lnTo>
                          <a:pt x="105" y="59"/>
                        </a:lnTo>
                        <a:lnTo>
                          <a:pt x="101" y="59"/>
                        </a:lnTo>
                        <a:lnTo>
                          <a:pt x="95" y="60"/>
                        </a:lnTo>
                        <a:lnTo>
                          <a:pt x="90" y="62"/>
                        </a:lnTo>
                        <a:lnTo>
                          <a:pt x="84" y="62"/>
                        </a:lnTo>
                        <a:lnTo>
                          <a:pt x="78" y="63"/>
                        </a:lnTo>
                        <a:lnTo>
                          <a:pt x="73" y="65"/>
                        </a:lnTo>
                        <a:lnTo>
                          <a:pt x="67" y="65"/>
                        </a:lnTo>
                        <a:lnTo>
                          <a:pt x="63" y="66"/>
                        </a:lnTo>
                        <a:lnTo>
                          <a:pt x="56" y="66"/>
                        </a:lnTo>
                        <a:lnTo>
                          <a:pt x="53" y="66"/>
                        </a:lnTo>
                        <a:lnTo>
                          <a:pt x="50" y="67"/>
                        </a:lnTo>
                        <a:lnTo>
                          <a:pt x="47" y="67"/>
                        </a:lnTo>
                        <a:lnTo>
                          <a:pt x="46" y="70"/>
                        </a:lnTo>
                        <a:lnTo>
                          <a:pt x="46" y="74"/>
                        </a:lnTo>
                        <a:lnTo>
                          <a:pt x="44" y="77"/>
                        </a:lnTo>
                        <a:lnTo>
                          <a:pt x="44" y="80"/>
                        </a:lnTo>
                        <a:lnTo>
                          <a:pt x="44" y="84"/>
                        </a:lnTo>
                        <a:lnTo>
                          <a:pt x="43" y="87"/>
                        </a:lnTo>
                        <a:lnTo>
                          <a:pt x="43" y="89"/>
                        </a:lnTo>
                        <a:lnTo>
                          <a:pt x="43" y="93"/>
                        </a:lnTo>
                        <a:lnTo>
                          <a:pt x="43" y="98"/>
                        </a:lnTo>
                        <a:lnTo>
                          <a:pt x="43" y="100"/>
                        </a:lnTo>
                        <a:lnTo>
                          <a:pt x="43" y="104"/>
                        </a:lnTo>
                        <a:lnTo>
                          <a:pt x="43" y="107"/>
                        </a:lnTo>
                        <a:lnTo>
                          <a:pt x="43" y="111"/>
                        </a:lnTo>
                        <a:lnTo>
                          <a:pt x="43" y="114"/>
                        </a:lnTo>
                        <a:lnTo>
                          <a:pt x="43" y="118"/>
                        </a:lnTo>
                        <a:lnTo>
                          <a:pt x="43" y="122"/>
                        </a:lnTo>
                        <a:lnTo>
                          <a:pt x="43" y="125"/>
                        </a:lnTo>
                        <a:lnTo>
                          <a:pt x="43" y="129"/>
                        </a:lnTo>
                        <a:lnTo>
                          <a:pt x="43" y="132"/>
                        </a:lnTo>
                        <a:lnTo>
                          <a:pt x="43" y="136"/>
                        </a:lnTo>
                        <a:lnTo>
                          <a:pt x="43" y="139"/>
                        </a:lnTo>
                        <a:lnTo>
                          <a:pt x="43" y="143"/>
                        </a:lnTo>
                        <a:lnTo>
                          <a:pt x="43" y="146"/>
                        </a:lnTo>
                        <a:lnTo>
                          <a:pt x="43" y="150"/>
                        </a:lnTo>
                        <a:lnTo>
                          <a:pt x="43" y="154"/>
                        </a:lnTo>
                        <a:lnTo>
                          <a:pt x="43" y="157"/>
                        </a:lnTo>
                        <a:lnTo>
                          <a:pt x="43" y="161"/>
                        </a:lnTo>
                        <a:lnTo>
                          <a:pt x="44" y="163"/>
                        </a:lnTo>
                        <a:lnTo>
                          <a:pt x="44" y="168"/>
                        </a:lnTo>
                        <a:lnTo>
                          <a:pt x="44" y="172"/>
                        </a:lnTo>
                        <a:lnTo>
                          <a:pt x="44" y="174"/>
                        </a:lnTo>
                        <a:lnTo>
                          <a:pt x="44" y="179"/>
                        </a:lnTo>
                        <a:lnTo>
                          <a:pt x="44" y="184"/>
                        </a:lnTo>
                        <a:lnTo>
                          <a:pt x="44" y="191"/>
                        </a:lnTo>
                        <a:lnTo>
                          <a:pt x="43" y="194"/>
                        </a:lnTo>
                        <a:lnTo>
                          <a:pt x="43" y="196"/>
                        </a:lnTo>
                        <a:lnTo>
                          <a:pt x="43" y="200"/>
                        </a:lnTo>
                        <a:lnTo>
                          <a:pt x="43" y="203"/>
                        </a:lnTo>
                        <a:lnTo>
                          <a:pt x="43" y="206"/>
                        </a:lnTo>
                        <a:lnTo>
                          <a:pt x="41" y="210"/>
                        </a:lnTo>
                        <a:lnTo>
                          <a:pt x="41" y="213"/>
                        </a:lnTo>
                        <a:lnTo>
                          <a:pt x="41" y="216"/>
                        </a:lnTo>
                        <a:lnTo>
                          <a:pt x="40" y="218"/>
                        </a:lnTo>
                        <a:lnTo>
                          <a:pt x="40" y="222"/>
                        </a:lnTo>
                        <a:lnTo>
                          <a:pt x="40" y="225"/>
                        </a:lnTo>
                        <a:lnTo>
                          <a:pt x="40" y="229"/>
                        </a:lnTo>
                        <a:lnTo>
                          <a:pt x="43" y="231"/>
                        </a:lnTo>
                        <a:lnTo>
                          <a:pt x="47" y="232"/>
                        </a:lnTo>
                        <a:lnTo>
                          <a:pt x="50" y="233"/>
                        </a:lnTo>
                        <a:lnTo>
                          <a:pt x="55" y="235"/>
                        </a:lnTo>
                        <a:lnTo>
                          <a:pt x="58" y="179"/>
                        </a:lnTo>
                        <a:lnTo>
                          <a:pt x="58" y="173"/>
                        </a:lnTo>
                        <a:lnTo>
                          <a:pt x="60" y="168"/>
                        </a:lnTo>
                        <a:lnTo>
                          <a:pt x="60" y="163"/>
                        </a:lnTo>
                        <a:lnTo>
                          <a:pt x="61" y="158"/>
                        </a:lnTo>
                        <a:lnTo>
                          <a:pt x="63" y="152"/>
                        </a:lnTo>
                        <a:lnTo>
                          <a:pt x="63" y="148"/>
                        </a:lnTo>
                        <a:lnTo>
                          <a:pt x="64" y="143"/>
                        </a:lnTo>
                        <a:lnTo>
                          <a:pt x="66" y="137"/>
                        </a:lnTo>
                        <a:lnTo>
                          <a:pt x="66" y="132"/>
                        </a:lnTo>
                        <a:lnTo>
                          <a:pt x="67" y="126"/>
                        </a:lnTo>
                        <a:lnTo>
                          <a:pt x="67" y="122"/>
                        </a:lnTo>
                        <a:lnTo>
                          <a:pt x="69" y="117"/>
                        </a:lnTo>
                        <a:lnTo>
                          <a:pt x="70" y="111"/>
                        </a:lnTo>
                        <a:lnTo>
                          <a:pt x="70" y="107"/>
                        </a:lnTo>
                        <a:lnTo>
                          <a:pt x="72" y="102"/>
                        </a:lnTo>
                        <a:lnTo>
                          <a:pt x="73" y="96"/>
                        </a:lnTo>
                        <a:lnTo>
                          <a:pt x="73" y="102"/>
                        </a:lnTo>
                        <a:lnTo>
                          <a:pt x="73" y="107"/>
                        </a:lnTo>
                        <a:lnTo>
                          <a:pt x="75" y="113"/>
                        </a:lnTo>
                        <a:lnTo>
                          <a:pt x="75" y="118"/>
                        </a:lnTo>
                        <a:lnTo>
                          <a:pt x="75" y="124"/>
                        </a:lnTo>
                        <a:lnTo>
                          <a:pt x="76" y="129"/>
                        </a:lnTo>
                        <a:lnTo>
                          <a:pt x="76" y="135"/>
                        </a:lnTo>
                        <a:lnTo>
                          <a:pt x="78" y="140"/>
                        </a:lnTo>
                        <a:lnTo>
                          <a:pt x="82" y="141"/>
                        </a:lnTo>
                        <a:lnTo>
                          <a:pt x="84" y="139"/>
                        </a:lnTo>
                        <a:lnTo>
                          <a:pt x="86" y="135"/>
                        </a:lnTo>
                        <a:lnTo>
                          <a:pt x="86" y="130"/>
                        </a:lnTo>
                        <a:lnTo>
                          <a:pt x="87" y="128"/>
                        </a:lnTo>
                        <a:lnTo>
                          <a:pt x="87" y="124"/>
                        </a:lnTo>
                        <a:lnTo>
                          <a:pt x="87" y="119"/>
                        </a:lnTo>
                        <a:lnTo>
                          <a:pt x="87" y="117"/>
                        </a:lnTo>
                        <a:lnTo>
                          <a:pt x="87" y="113"/>
                        </a:lnTo>
                        <a:lnTo>
                          <a:pt x="90" y="111"/>
                        </a:lnTo>
                        <a:lnTo>
                          <a:pt x="95" y="111"/>
                        </a:lnTo>
                        <a:lnTo>
                          <a:pt x="98" y="110"/>
                        </a:lnTo>
                        <a:lnTo>
                          <a:pt x="102" y="110"/>
                        </a:lnTo>
                        <a:lnTo>
                          <a:pt x="107" y="108"/>
                        </a:lnTo>
                        <a:lnTo>
                          <a:pt x="110" y="108"/>
                        </a:lnTo>
                        <a:lnTo>
                          <a:pt x="115" y="107"/>
                        </a:lnTo>
                        <a:lnTo>
                          <a:pt x="119" y="107"/>
                        </a:lnTo>
                        <a:lnTo>
                          <a:pt x="124" y="106"/>
                        </a:lnTo>
                        <a:lnTo>
                          <a:pt x="128" y="104"/>
                        </a:lnTo>
                        <a:lnTo>
                          <a:pt x="133" y="103"/>
                        </a:lnTo>
                        <a:lnTo>
                          <a:pt x="138" y="103"/>
                        </a:lnTo>
                        <a:lnTo>
                          <a:pt x="142" y="102"/>
                        </a:lnTo>
                        <a:lnTo>
                          <a:pt x="147" y="102"/>
                        </a:lnTo>
                        <a:lnTo>
                          <a:pt x="153" y="100"/>
                        </a:lnTo>
                        <a:lnTo>
                          <a:pt x="157" y="99"/>
                        </a:lnTo>
                        <a:lnTo>
                          <a:pt x="164" y="98"/>
                        </a:lnTo>
                        <a:lnTo>
                          <a:pt x="168" y="98"/>
                        </a:lnTo>
                        <a:lnTo>
                          <a:pt x="173" y="96"/>
                        </a:lnTo>
                        <a:lnTo>
                          <a:pt x="179" y="96"/>
                        </a:lnTo>
                        <a:lnTo>
                          <a:pt x="183" y="93"/>
                        </a:lnTo>
                        <a:lnTo>
                          <a:pt x="190" y="93"/>
                        </a:lnTo>
                        <a:lnTo>
                          <a:pt x="194" y="92"/>
                        </a:lnTo>
                        <a:lnTo>
                          <a:pt x="200" y="92"/>
                        </a:lnTo>
                        <a:lnTo>
                          <a:pt x="205" y="91"/>
                        </a:lnTo>
                        <a:lnTo>
                          <a:pt x="211" y="89"/>
                        </a:lnTo>
                        <a:lnTo>
                          <a:pt x="217" y="89"/>
                        </a:lnTo>
                        <a:lnTo>
                          <a:pt x="222" y="88"/>
                        </a:lnTo>
                        <a:lnTo>
                          <a:pt x="228" y="87"/>
                        </a:lnTo>
                        <a:lnTo>
                          <a:pt x="234" y="87"/>
                        </a:lnTo>
                        <a:lnTo>
                          <a:pt x="238" y="85"/>
                        </a:lnTo>
                        <a:lnTo>
                          <a:pt x="245" y="85"/>
                        </a:lnTo>
                        <a:lnTo>
                          <a:pt x="249" y="84"/>
                        </a:lnTo>
                        <a:lnTo>
                          <a:pt x="255" y="84"/>
                        </a:lnTo>
                        <a:lnTo>
                          <a:pt x="260" y="82"/>
                        </a:lnTo>
                        <a:lnTo>
                          <a:pt x="266" y="81"/>
                        </a:lnTo>
                        <a:lnTo>
                          <a:pt x="271" y="80"/>
                        </a:lnTo>
                        <a:lnTo>
                          <a:pt x="277" y="80"/>
                        </a:lnTo>
                        <a:lnTo>
                          <a:pt x="281" y="78"/>
                        </a:lnTo>
                        <a:lnTo>
                          <a:pt x="287" y="78"/>
                        </a:lnTo>
                        <a:lnTo>
                          <a:pt x="292" y="77"/>
                        </a:lnTo>
                        <a:lnTo>
                          <a:pt x="297" y="77"/>
                        </a:lnTo>
                        <a:lnTo>
                          <a:pt x="303" y="77"/>
                        </a:lnTo>
                        <a:lnTo>
                          <a:pt x="307" y="77"/>
                        </a:lnTo>
                        <a:lnTo>
                          <a:pt x="312" y="76"/>
                        </a:lnTo>
                        <a:lnTo>
                          <a:pt x="316" y="76"/>
                        </a:lnTo>
                        <a:lnTo>
                          <a:pt x="323" y="76"/>
                        </a:lnTo>
                        <a:lnTo>
                          <a:pt x="327" y="76"/>
                        </a:lnTo>
                        <a:lnTo>
                          <a:pt x="332" y="74"/>
                        </a:lnTo>
                        <a:lnTo>
                          <a:pt x="336" y="74"/>
                        </a:lnTo>
                        <a:lnTo>
                          <a:pt x="341" y="74"/>
                        </a:lnTo>
                        <a:lnTo>
                          <a:pt x="346" y="74"/>
                        </a:lnTo>
                        <a:lnTo>
                          <a:pt x="349" y="74"/>
                        </a:lnTo>
                        <a:lnTo>
                          <a:pt x="353" y="74"/>
                        </a:lnTo>
                        <a:lnTo>
                          <a:pt x="358" y="74"/>
                        </a:lnTo>
                        <a:lnTo>
                          <a:pt x="362" y="76"/>
                        </a:lnTo>
                        <a:lnTo>
                          <a:pt x="365" y="76"/>
                        </a:lnTo>
                        <a:lnTo>
                          <a:pt x="369" y="76"/>
                        </a:lnTo>
                        <a:lnTo>
                          <a:pt x="373" y="77"/>
                        </a:lnTo>
                        <a:lnTo>
                          <a:pt x="376" y="77"/>
                        </a:lnTo>
                        <a:lnTo>
                          <a:pt x="382" y="78"/>
                        </a:lnTo>
                        <a:lnTo>
                          <a:pt x="388" y="81"/>
                        </a:lnTo>
                        <a:lnTo>
                          <a:pt x="385" y="82"/>
                        </a:lnTo>
                        <a:lnTo>
                          <a:pt x="381" y="84"/>
                        </a:lnTo>
                        <a:lnTo>
                          <a:pt x="378" y="84"/>
                        </a:lnTo>
                        <a:lnTo>
                          <a:pt x="375" y="85"/>
                        </a:lnTo>
                        <a:lnTo>
                          <a:pt x="370" y="87"/>
                        </a:lnTo>
                        <a:lnTo>
                          <a:pt x="367" y="87"/>
                        </a:lnTo>
                        <a:lnTo>
                          <a:pt x="364" y="87"/>
                        </a:lnTo>
                        <a:lnTo>
                          <a:pt x="361" y="88"/>
                        </a:lnTo>
                        <a:lnTo>
                          <a:pt x="356" y="88"/>
                        </a:lnTo>
                        <a:lnTo>
                          <a:pt x="353" y="89"/>
                        </a:lnTo>
                        <a:lnTo>
                          <a:pt x="349" y="89"/>
                        </a:lnTo>
                        <a:lnTo>
                          <a:pt x="346" y="89"/>
                        </a:lnTo>
                        <a:lnTo>
                          <a:pt x="341" y="89"/>
                        </a:lnTo>
                        <a:lnTo>
                          <a:pt x="338" y="91"/>
                        </a:lnTo>
                        <a:lnTo>
                          <a:pt x="333" y="91"/>
                        </a:lnTo>
                        <a:lnTo>
                          <a:pt x="330" y="91"/>
                        </a:lnTo>
                        <a:lnTo>
                          <a:pt x="327" y="91"/>
                        </a:lnTo>
                        <a:lnTo>
                          <a:pt x="324" y="91"/>
                        </a:lnTo>
                        <a:lnTo>
                          <a:pt x="320" y="91"/>
                        </a:lnTo>
                        <a:lnTo>
                          <a:pt x="316" y="91"/>
                        </a:lnTo>
                        <a:lnTo>
                          <a:pt x="312" y="91"/>
                        </a:lnTo>
                        <a:lnTo>
                          <a:pt x="309" y="91"/>
                        </a:lnTo>
                        <a:lnTo>
                          <a:pt x="304" y="91"/>
                        </a:lnTo>
                        <a:lnTo>
                          <a:pt x="301" y="92"/>
                        </a:lnTo>
                        <a:lnTo>
                          <a:pt x="297" y="92"/>
                        </a:lnTo>
                        <a:lnTo>
                          <a:pt x="294" y="92"/>
                        </a:lnTo>
                        <a:lnTo>
                          <a:pt x="290" y="92"/>
                        </a:lnTo>
                        <a:lnTo>
                          <a:pt x="286" y="92"/>
                        </a:lnTo>
                        <a:lnTo>
                          <a:pt x="283" y="92"/>
                        </a:lnTo>
                        <a:lnTo>
                          <a:pt x="280" y="92"/>
                        </a:lnTo>
                        <a:lnTo>
                          <a:pt x="275" y="93"/>
                        </a:lnTo>
                        <a:lnTo>
                          <a:pt x="272" y="95"/>
                        </a:lnTo>
                        <a:lnTo>
                          <a:pt x="141" y="113"/>
                        </a:lnTo>
                        <a:lnTo>
                          <a:pt x="194" y="119"/>
                        </a:lnTo>
                        <a:lnTo>
                          <a:pt x="196" y="119"/>
                        </a:lnTo>
                        <a:lnTo>
                          <a:pt x="200" y="118"/>
                        </a:lnTo>
                        <a:lnTo>
                          <a:pt x="203" y="118"/>
                        </a:lnTo>
                        <a:lnTo>
                          <a:pt x="208" y="117"/>
                        </a:lnTo>
                        <a:lnTo>
                          <a:pt x="212" y="117"/>
                        </a:lnTo>
                        <a:lnTo>
                          <a:pt x="219" y="117"/>
                        </a:lnTo>
                        <a:lnTo>
                          <a:pt x="225" y="115"/>
                        </a:lnTo>
                        <a:lnTo>
                          <a:pt x="231" y="114"/>
                        </a:lnTo>
                        <a:lnTo>
                          <a:pt x="234" y="114"/>
                        </a:lnTo>
                        <a:lnTo>
                          <a:pt x="237" y="114"/>
                        </a:lnTo>
                        <a:lnTo>
                          <a:pt x="242" y="113"/>
                        </a:lnTo>
                        <a:lnTo>
                          <a:pt x="246" y="113"/>
                        </a:lnTo>
                        <a:lnTo>
                          <a:pt x="249" y="113"/>
                        </a:lnTo>
                        <a:lnTo>
                          <a:pt x="252" y="111"/>
                        </a:lnTo>
                        <a:lnTo>
                          <a:pt x="257" y="111"/>
                        </a:lnTo>
                        <a:lnTo>
                          <a:pt x="263" y="111"/>
                        </a:lnTo>
                        <a:lnTo>
                          <a:pt x="266" y="111"/>
                        </a:lnTo>
                        <a:lnTo>
                          <a:pt x="271" y="110"/>
                        </a:lnTo>
                        <a:lnTo>
                          <a:pt x="275" y="110"/>
                        </a:lnTo>
                        <a:lnTo>
                          <a:pt x="281" y="110"/>
                        </a:lnTo>
                        <a:lnTo>
                          <a:pt x="286" y="108"/>
                        </a:lnTo>
                        <a:lnTo>
                          <a:pt x="290" y="108"/>
                        </a:lnTo>
                        <a:lnTo>
                          <a:pt x="297" y="107"/>
                        </a:lnTo>
                        <a:lnTo>
                          <a:pt x="301" y="107"/>
                        </a:lnTo>
                        <a:lnTo>
                          <a:pt x="307" y="106"/>
                        </a:lnTo>
                        <a:lnTo>
                          <a:pt x="312" y="104"/>
                        </a:lnTo>
                        <a:lnTo>
                          <a:pt x="318" y="104"/>
                        </a:lnTo>
                        <a:lnTo>
                          <a:pt x="324" y="104"/>
                        </a:lnTo>
                        <a:lnTo>
                          <a:pt x="330" y="103"/>
                        </a:lnTo>
                        <a:lnTo>
                          <a:pt x="335" y="102"/>
                        </a:lnTo>
                        <a:lnTo>
                          <a:pt x="341" y="102"/>
                        </a:lnTo>
                        <a:lnTo>
                          <a:pt x="349" y="102"/>
                        </a:lnTo>
                        <a:lnTo>
                          <a:pt x="355" y="100"/>
                        </a:lnTo>
                        <a:lnTo>
                          <a:pt x="361" y="100"/>
                        </a:lnTo>
                        <a:lnTo>
                          <a:pt x="367" y="99"/>
                        </a:lnTo>
                        <a:lnTo>
                          <a:pt x="375" y="99"/>
                        </a:lnTo>
                        <a:lnTo>
                          <a:pt x="381" y="98"/>
                        </a:lnTo>
                        <a:lnTo>
                          <a:pt x="387" y="98"/>
                        </a:lnTo>
                        <a:lnTo>
                          <a:pt x="393" y="96"/>
                        </a:lnTo>
                        <a:lnTo>
                          <a:pt x="401" y="96"/>
                        </a:lnTo>
                        <a:lnTo>
                          <a:pt x="408" y="95"/>
                        </a:lnTo>
                        <a:lnTo>
                          <a:pt x="414" y="95"/>
                        </a:lnTo>
                        <a:lnTo>
                          <a:pt x="422" y="93"/>
                        </a:lnTo>
                        <a:lnTo>
                          <a:pt x="430" y="93"/>
                        </a:lnTo>
                        <a:lnTo>
                          <a:pt x="437" y="92"/>
                        </a:lnTo>
                        <a:lnTo>
                          <a:pt x="445" y="92"/>
                        </a:lnTo>
                        <a:lnTo>
                          <a:pt x="453" y="91"/>
                        </a:lnTo>
                        <a:lnTo>
                          <a:pt x="460" y="91"/>
                        </a:lnTo>
                        <a:lnTo>
                          <a:pt x="468" y="89"/>
                        </a:lnTo>
                        <a:lnTo>
                          <a:pt x="476" y="89"/>
                        </a:lnTo>
                        <a:lnTo>
                          <a:pt x="483" y="88"/>
                        </a:lnTo>
                        <a:lnTo>
                          <a:pt x="492" y="88"/>
                        </a:lnTo>
                        <a:lnTo>
                          <a:pt x="1211" y="84"/>
                        </a:lnTo>
                        <a:lnTo>
                          <a:pt x="1083" y="92"/>
                        </a:lnTo>
                        <a:lnTo>
                          <a:pt x="1080" y="91"/>
                        </a:lnTo>
                        <a:lnTo>
                          <a:pt x="1077" y="91"/>
                        </a:lnTo>
                        <a:lnTo>
                          <a:pt x="1072" y="89"/>
                        </a:lnTo>
                        <a:lnTo>
                          <a:pt x="1068" y="89"/>
                        </a:lnTo>
                        <a:lnTo>
                          <a:pt x="1061" y="89"/>
                        </a:lnTo>
                        <a:lnTo>
                          <a:pt x="1058" y="89"/>
                        </a:lnTo>
                        <a:lnTo>
                          <a:pt x="1054" y="89"/>
                        </a:lnTo>
                        <a:lnTo>
                          <a:pt x="1051" y="89"/>
                        </a:lnTo>
                        <a:lnTo>
                          <a:pt x="1054" y="89"/>
                        </a:lnTo>
                        <a:lnTo>
                          <a:pt x="1058" y="91"/>
                        </a:lnTo>
                        <a:lnTo>
                          <a:pt x="1061" y="91"/>
                        </a:lnTo>
                        <a:lnTo>
                          <a:pt x="1066" y="92"/>
                        </a:lnTo>
                        <a:lnTo>
                          <a:pt x="1071" y="92"/>
                        </a:lnTo>
                        <a:lnTo>
                          <a:pt x="1075" y="92"/>
                        </a:lnTo>
                        <a:lnTo>
                          <a:pt x="1080" y="93"/>
                        </a:lnTo>
                        <a:lnTo>
                          <a:pt x="1084" y="93"/>
                        </a:lnTo>
                        <a:lnTo>
                          <a:pt x="1087" y="93"/>
                        </a:lnTo>
                        <a:lnTo>
                          <a:pt x="1092" y="93"/>
                        </a:lnTo>
                        <a:lnTo>
                          <a:pt x="1097" y="95"/>
                        </a:lnTo>
                        <a:lnTo>
                          <a:pt x="1101" y="95"/>
                        </a:lnTo>
                        <a:lnTo>
                          <a:pt x="1106" y="95"/>
                        </a:lnTo>
                        <a:lnTo>
                          <a:pt x="1110" y="95"/>
                        </a:lnTo>
                        <a:lnTo>
                          <a:pt x="1115" y="96"/>
                        </a:lnTo>
                        <a:lnTo>
                          <a:pt x="1120" y="96"/>
                        </a:lnTo>
                        <a:lnTo>
                          <a:pt x="1124" y="96"/>
                        </a:lnTo>
                        <a:lnTo>
                          <a:pt x="1130" y="96"/>
                        </a:lnTo>
                        <a:lnTo>
                          <a:pt x="1133" y="96"/>
                        </a:lnTo>
                        <a:lnTo>
                          <a:pt x="1139" y="96"/>
                        </a:lnTo>
                        <a:lnTo>
                          <a:pt x="1144" y="96"/>
                        </a:lnTo>
                        <a:lnTo>
                          <a:pt x="1149" y="96"/>
                        </a:lnTo>
                        <a:lnTo>
                          <a:pt x="1153" y="96"/>
                        </a:lnTo>
                        <a:lnTo>
                          <a:pt x="1158" y="96"/>
                        </a:lnTo>
                        <a:lnTo>
                          <a:pt x="1162" y="96"/>
                        </a:lnTo>
                        <a:lnTo>
                          <a:pt x="1167" y="96"/>
                        </a:lnTo>
                        <a:lnTo>
                          <a:pt x="1172" y="96"/>
                        </a:lnTo>
                        <a:lnTo>
                          <a:pt x="1178" y="96"/>
                        </a:lnTo>
                        <a:lnTo>
                          <a:pt x="1182" y="96"/>
                        </a:lnTo>
                        <a:lnTo>
                          <a:pt x="1187" y="96"/>
                        </a:lnTo>
                        <a:lnTo>
                          <a:pt x="1191" y="96"/>
                        </a:lnTo>
                        <a:lnTo>
                          <a:pt x="1196" y="96"/>
                        </a:lnTo>
                        <a:lnTo>
                          <a:pt x="1201" y="96"/>
                        </a:lnTo>
                        <a:lnTo>
                          <a:pt x="1207" y="96"/>
                        </a:lnTo>
                        <a:lnTo>
                          <a:pt x="1210" y="96"/>
                        </a:lnTo>
                        <a:lnTo>
                          <a:pt x="1216" y="96"/>
                        </a:lnTo>
                        <a:lnTo>
                          <a:pt x="1219" y="95"/>
                        </a:lnTo>
                        <a:lnTo>
                          <a:pt x="1225" y="95"/>
                        </a:lnTo>
                        <a:lnTo>
                          <a:pt x="1230" y="95"/>
                        </a:lnTo>
                        <a:lnTo>
                          <a:pt x="1234" y="95"/>
                        </a:lnTo>
                        <a:lnTo>
                          <a:pt x="1239" y="95"/>
                        </a:lnTo>
                        <a:lnTo>
                          <a:pt x="1243" y="95"/>
                        </a:lnTo>
                        <a:lnTo>
                          <a:pt x="1248" y="93"/>
                        </a:lnTo>
                        <a:lnTo>
                          <a:pt x="1254" y="93"/>
                        </a:lnTo>
                        <a:lnTo>
                          <a:pt x="1257" y="93"/>
                        </a:lnTo>
                        <a:lnTo>
                          <a:pt x="1263" y="93"/>
                        </a:lnTo>
                        <a:lnTo>
                          <a:pt x="1268" y="93"/>
                        </a:lnTo>
                        <a:lnTo>
                          <a:pt x="1273" y="93"/>
                        </a:lnTo>
                        <a:lnTo>
                          <a:pt x="1277" y="92"/>
                        </a:lnTo>
                        <a:lnTo>
                          <a:pt x="1282" y="92"/>
                        </a:lnTo>
                        <a:lnTo>
                          <a:pt x="1286" y="92"/>
                        </a:lnTo>
                        <a:lnTo>
                          <a:pt x="1291" y="92"/>
                        </a:lnTo>
                        <a:lnTo>
                          <a:pt x="1295" y="92"/>
                        </a:lnTo>
                        <a:lnTo>
                          <a:pt x="1300" y="92"/>
                        </a:lnTo>
                        <a:lnTo>
                          <a:pt x="1305" y="92"/>
                        </a:lnTo>
                        <a:lnTo>
                          <a:pt x="1309" y="92"/>
                        </a:lnTo>
                        <a:lnTo>
                          <a:pt x="1314" y="91"/>
                        </a:lnTo>
                        <a:lnTo>
                          <a:pt x="1318" y="91"/>
                        </a:lnTo>
                        <a:lnTo>
                          <a:pt x="1323" y="91"/>
                        </a:lnTo>
                        <a:lnTo>
                          <a:pt x="1328" y="91"/>
                        </a:lnTo>
                        <a:lnTo>
                          <a:pt x="1332" y="89"/>
                        </a:lnTo>
                        <a:lnTo>
                          <a:pt x="1337" y="89"/>
                        </a:lnTo>
                        <a:lnTo>
                          <a:pt x="1340" y="89"/>
                        </a:lnTo>
                        <a:lnTo>
                          <a:pt x="1346" y="89"/>
                        </a:lnTo>
                        <a:lnTo>
                          <a:pt x="1346" y="93"/>
                        </a:lnTo>
                        <a:lnTo>
                          <a:pt x="1346" y="98"/>
                        </a:lnTo>
                        <a:lnTo>
                          <a:pt x="1346" y="102"/>
                        </a:lnTo>
                        <a:lnTo>
                          <a:pt x="1347" y="106"/>
                        </a:lnTo>
                        <a:lnTo>
                          <a:pt x="1347" y="110"/>
                        </a:lnTo>
                        <a:lnTo>
                          <a:pt x="1349" y="115"/>
                        </a:lnTo>
                        <a:lnTo>
                          <a:pt x="1349" y="121"/>
                        </a:lnTo>
                        <a:lnTo>
                          <a:pt x="1351" y="125"/>
                        </a:lnTo>
                        <a:lnTo>
                          <a:pt x="1351" y="129"/>
                        </a:lnTo>
                        <a:lnTo>
                          <a:pt x="1352" y="135"/>
                        </a:lnTo>
                        <a:lnTo>
                          <a:pt x="1352" y="139"/>
                        </a:lnTo>
                        <a:lnTo>
                          <a:pt x="1354" y="144"/>
                        </a:lnTo>
                        <a:lnTo>
                          <a:pt x="1355" y="148"/>
                        </a:lnTo>
                        <a:lnTo>
                          <a:pt x="1357" y="151"/>
                        </a:lnTo>
                        <a:lnTo>
                          <a:pt x="1360" y="154"/>
                        </a:lnTo>
                        <a:lnTo>
                          <a:pt x="1361" y="158"/>
                        </a:lnTo>
                        <a:lnTo>
                          <a:pt x="1366" y="154"/>
                        </a:lnTo>
                        <a:lnTo>
                          <a:pt x="1364" y="148"/>
                        </a:lnTo>
                        <a:lnTo>
                          <a:pt x="1364" y="143"/>
                        </a:lnTo>
                        <a:lnTo>
                          <a:pt x="1363" y="139"/>
                        </a:lnTo>
                        <a:lnTo>
                          <a:pt x="1363" y="133"/>
                        </a:lnTo>
                        <a:lnTo>
                          <a:pt x="1361" y="129"/>
                        </a:lnTo>
                        <a:lnTo>
                          <a:pt x="1361" y="125"/>
                        </a:lnTo>
                        <a:lnTo>
                          <a:pt x="1360" y="121"/>
                        </a:lnTo>
                        <a:lnTo>
                          <a:pt x="1360" y="117"/>
                        </a:lnTo>
                        <a:lnTo>
                          <a:pt x="1360" y="111"/>
                        </a:lnTo>
                        <a:lnTo>
                          <a:pt x="1358" y="107"/>
                        </a:lnTo>
                        <a:lnTo>
                          <a:pt x="1358" y="102"/>
                        </a:lnTo>
                        <a:lnTo>
                          <a:pt x="1358" y="99"/>
                        </a:lnTo>
                        <a:lnTo>
                          <a:pt x="1357" y="93"/>
                        </a:lnTo>
                        <a:lnTo>
                          <a:pt x="1357" y="89"/>
                        </a:lnTo>
                        <a:lnTo>
                          <a:pt x="1357" y="85"/>
                        </a:lnTo>
                        <a:lnTo>
                          <a:pt x="1357" y="81"/>
                        </a:lnTo>
                        <a:lnTo>
                          <a:pt x="1354" y="80"/>
                        </a:lnTo>
                        <a:lnTo>
                          <a:pt x="1351" y="80"/>
                        </a:lnTo>
                        <a:lnTo>
                          <a:pt x="1346" y="80"/>
                        </a:lnTo>
                        <a:lnTo>
                          <a:pt x="1343" y="81"/>
                        </a:lnTo>
                        <a:lnTo>
                          <a:pt x="1340" y="81"/>
                        </a:lnTo>
                        <a:lnTo>
                          <a:pt x="1337" y="82"/>
                        </a:lnTo>
                        <a:lnTo>
                          <a:pt x="1332" y="82"/>
                        </a:lnTo>
                        <a:lnTo>
                          <a:pt x="1329" y="84"/>
                        </a:lnTo>
                        <a:lnTo>
                          <a:pt x="1325" y="84"/>
                        </a:lnTo>
                        <a:lnTo>
                          <a:pt x="1321" y="84"/>
                        </a:lnTo>
                        <a:lnTo>
                          <a:pt x="1326" y="81"/>
                        </a:lnTo>
                        <a:lnTo>
                          <a:pt x="1328" y="80"/>
                        </a:lnTo>
                        <a:lnTo>
                          <a:pt x="1331" y="78"/>
                        </a:lnTo>
                        <a:lnTo>
                          <a:pt x="1334" y="77"/>
                        </a:lnTo>
                        <a:lnTo>
                          <a:pt x="1338" y="77"/>
                        </a:lnTo>
                        <a:lnTo>
                          <a:pt x="1341" y="76"/>
                        </a:lnTo>
                        <a:lnTo>
                          <a:pt x="1347" y="76"/>
                        </a:lnTo>
                        <a:lnTo>
                          <a:pt x="1351" y="74"/>
                        </a:lnTo>
                        <a:lnTo>
                          <a:pt x="1354" y="74"/>
                        </a:lnTo>
                        <a:lnTo>
                          <a:pt x="1357" y="74"/>
                        </a:lnTo>
                        <a:lnTo>
                          <a:pt x="1361" y="74"/>
                        </a:lnTo>
                        <a:lnTo>
                          <a:pt x="1363" y="77"/>
                        </a:lnTo>
                        <a:lnTo>
                          <a:pt x="1364" y="82"/>
                        </a:lnTo>
                        <a:lnTo>
                          <a:pt x="1367" y="87"/>
                        </a:lnTo>
                        <a:lnTo>
                          <a:pt x="1369" y="89"/>
                        </a:lnTo>
                        <a:lnTo>
                          <a:pt x="1369" y="87"/>
                        </a:lnTo>
                        <a:lnTo>
                          <a:pt x="1370" y="84"/>
                        </a:lnTo>
                        <a:lnTo>
                          <a:pt x="1370" y="80"/>
                        </a:lnTo>
                        <a:lnTo>
                          <a:pt x="1370" y="77"/>
                        </a:lnTo>
                        <a:lnTo>
                          <a:pt x="1370" y="74"/>
                        </a:lnTo>
                        <a:lnTo>
                          <a:pt x="1370" y="71"/>
                        </a:lnTo>
                        <a:lnTo>
                          <a:pt x="1370" y="67"/>
                        </a:lnTo>
                        <a:lnTo>
                          <a:pt x="1369" y="65"/>
                        </a:lnTo>
                        <a:lnTo>
                          <a:pt x="1364" y="65"/>
                        </a:lnTo>
                        <a:lnTo>
                          <a:pt x="1360" y="65"/>
                        </a:lnTo>
                        <a:lnTo>
                          <a:pt x="1357" y="65"/>
                        </a:lnTo>
                        <a:lnTo>
                          <a:pt x="1352" y="66"/>
                        </a:lnTo>
                        <a:lnTo>
                          <a:pt x="1347" y="66"/>
                        </a:lnTo>
                        <a:lnTo>
                          <a:pt x="1344" y="67"/>
                        </a:lnTo>
                        <a:lnTo>
                          <a:pt x="1340" y="67"/>
                        </a:lnTo>
                        <a:lnTo>
                          <a:pt x="1337" y="69"/>
                        </a:lnTo>
                        <a:lnTo>
                          <a:pt x="1332" y="69"/>
                        </a:lnTo>
                        <a:lnTo>
                          <a:pt x="1329" y="70"/>
                        </a:lnTo>
                        <a:lnTo>
                          <a:pt x="1325" y="70"/>
                        </a:lnTo>
                        <a:lnTo>
                          <a:pt x="1320" y="71"/>
                        </a:lnTo>
                        <a:lnTo>
                          <a:pt x="1317" y="71"/>
                        </a:lnTo>
                        <a:lnTo>
                          <a:pt x="1312" y="71"/>
                        </a:lnTo>
                        <a:lnTo>
                          <a:pt x="1309" y="71"/>
                        </a:lnTo>
                        <a:lnTo>
                          <a:pt x="1306" y="71"/>
                        </a:lnTo>
                        <a:lnTo>
                          <a:pt x="1302" y="71"/>
                        </a:lnTo>
                        <a:lnTo>
                          <a:pt x="1299" y="71"/>
                        </a:lnTo>
                        <a:lnTo>
                          <a:pt x="1295" y="70"/>
                        </a:lnTo>
                        <a:lnTo>
                          <a:pt x="1292" y="70"/>
                        </a:lnTo>
                        <a:lnTo>
                          <a:pt x="1285" y="69"/>
                        </a:lnTo>
                        <a:lnTo>
                          <a:pt x="1280" y="70"/>
                        </a:lnTo>
                        <a:lnTo>
                          <a:pt x="1285" y="67"/>
                        </a:lnTo>
                        <a:lnTo>
                          <a:pt x="1291" y="65"/>
                        </a:lnTo>
                        <a:lnTo>
                          <a:pt x="1297" y="63"/>
                        </a:lnTo>
                        <a:lnTo>
                          <a:pt x="1302" y="62"/>
                        </a:lnTo>
                        <a:lnTo>
                          <a:pt x="1308" y="62"/>
                        </a:lnTo>
                        <a:lnTo>
                          <a:pt x="1314" y="60"/>
                        </a:lnTo>
                        <a:lnTo>
                          <a:pt x="1320" y="60"/>
                        </a:lnTo>
                        <a:lnTo>
                          <a:pt x="1326" y="60"/>
                        </a:lnTo>
                        <a:lnTo>
                          <a:pt x="1332" y="60"/>
                        </a:lnTo>
                        <a:lnTo>
                          <a:pt x="1337" y="60"/>
                        </a:lnTo>
                        <a:lnTo>
                          <a:pt x="1343" y="60"/>
                        </a:lnTo>
                        <a:lnTo>
                          <a:pt x="1351" y="60"/>
                        </a:lnTo>
                        <a:lnTo>
                          <a:pt x="1355" y="59"/>
                        </a:lnTo>
                        <a:lnTo>
                          <a:pt x="1363" y="59"/>
                        </a:lnTo>
                        <a:lnTo>
                          <a:pt x="1366" y="59"/>
                        </a:lnTo>
                        <a:lnTo>
                          <a:pt x="1369" y="59"/>
                        </a:lnTo>
                        <a:lnTo>
                          <a:pt x="1372" y="59"/>
                        </a:lnTo>
                        <a:lnTo>
                          <a:pt x="1377" y="59"/>
                        </a:lnTo>
                        <a:lnTo>
                          <a:pt x="1377" y="62"/>
                        </a:lnTo>
                        <a:lnTo>
                          <a:pt x="1377" y="66"/>
                        </a:lnTo>
                        <a:lnTo>
                          <a:pt x="1378" y="70"/>
                        </a:lnTo>
                        <a:lnTo>
                          <a:pt x="1380" y="74"/>
                        </a:lnTo>
                        <a:lnTo>
                          <a:pt x="1380" y="78"/>
                        </a:lnTo>
                        <a:lnTo>
                          <a:pt x="1381" y="84"/>
                        </a:lnTo>
                        <a:lnTo>
                          <a:pt x="1381" y="87"/>
                        </a:lnTo>
                        <a:lnTo>
                          <a:pt x="1383" y="92"/>
                        </a:lnTo>
                        <a:lnTo>
                          <a:pt x="1384" y="96"/>
                        </a:lnTo>
                        <a:lnTo>
                          <a:pt x="1384" y="99"/>
                        </a:lnTo>
                        <a:lnTo>
                          <a:pt x="1384" y="103"/>
                        </a:lnTo>
                        <a:lnTo>
                          <a:pt x="1386" y="108"/>
                        </a:lnTo>
                        <a:lnTo>
                          <a:pt x="1387" y="111"/>
                        </a:lnTo>
                        <a:lnTo>
                          <a:pt x="1387" y="117"/>
                        </a:lnTo>
                        <a:lnTo>
                          <a:pt x="1389" y="121"/>
                        </a:lnTo>
                        <a:lnTo>
                          <a:pt x="1390" y="125"/>
                        </a:lnTo>
                        <a:lnTo>
                          <a:pt x="1390" y="129"/>
                        </a:lnTo>
                        <a:lnTo>
                          <a:pt x="1392" y="133"/>
                        </a:lnTo>
                        <a:lnTo>
                          <a:pt x="1392" y="136"/>
                        </a:lnTo>
                        <a:lnTo>
                          <a:pt x="1393" y="141"/>
                        </a:lnTo>
                        <a:lnTo>
                          <a:pt x="1395" y="146"/>
                        </a:lnTo>
                        <a:lnTo>
                          <a:pt x="1395" y="150"/>
                        </a:lnTo>
                        <a:lnTo>
                          <a:pt x="1396" y="154"/>
                        </a:lnTo>
                        <a:lnTo>
                          <a:pt x="1398" y="158"/>
                        </a:lnTo>
                        <a:lnTo>
                          <a:pt x="1398" y="162"/>
                        </a:lnTo>
                        <a:lnTo>
                          <a:pt x="1399" y="166"/>
                        </a:lnTo>
                        <a:lnTo>
                          <a:pt x="1399" y="170"/>
                        </a:lnTo>
                        <a:lnTo>
                          <a:pt x="1401" y="174"/>
                        </a:lnTo>
                        <a:lnTo>
                          <a:pt x="1401" y="179"/>
                        </a:lnTo>
                        <a:lnTo>
                          <a:pt x="1404" y="183"/>
                        </a:lnTo>
                        <a:lnTo>
                          <a:pt x="1404" y="187"/>
                        </a:lnTo>
                        <a:lnTo>
                          <a:pt x="1406" y="192"/>
                        </a:lnTo>
                        <a:lnTo>
                          <a:pt x="1419" y="192"/>
                        </a:lnTo>
                        <a:lnTo>
                          <a:pt x="1418" y="188"/>
                        </a:lnTo>
                        <a:lnTo>
                          <a:pt x="1418" y="184"/>
                        </a:lnTo>
                        <a:lnTo>
                          <a:pt x="1418" y="180"/>
                        </a:lnTo>
                        <a:lnTo>
                          <a:pt x="1418" y="174"/>
                        </a:lnTo>
                        <a:lnTo>
                          <a:pt x="1418" y="170"/>
                        </a:lnTo>
                        <a:lnTo>
                          <a:pt x="1418" y="165"/>
                        </a:lnTo>
                        <a:lnTo>
                          <a:pt x="1418" y="159"/>
                        </a:lnTo>
                        <a:lnTo>
                          <a:pt x="1418" y="155"/>
                        </a:lnTo>
                        <a:lnTo>
                          <a:pt x="1416" y="150"/>
                        </a:lnTo>
                        <a:lnTo>
                          <a:pt x="1416" y="144"/>
                        </a:lnTo>
                        <a:lnTo>
                          <a:pt x="1415" y="139"/>
                        </a:lnTo>
                        <a:lnTo>
                          <a:pt x="1415" y="133"/>
                        </a:lnTo>
                        <a:lnTo>
                          <a:pt x="1415" y="126"/>
                        </a:lnTo>
                        <a:lnTo>
                          <a:pt x="1415" y="121"/>
                        </a:lnTo>
                        <a:lnTo>
                          <a:pt x="1415" y="115"/>
                        </a:lnTo>
                        <a:lnTo>
                          <a:pt x="1415" y="110"/>
                        </a:lnTo>
                        <a:lnTo>
                          <a:pt x="1413" y="104"/>
                        </a:lnTo>
                        <a:lnTo>
                          <a:pt x="1413" y="99"/>
                        </a:lnTo>
                        <a:lnTo>
                          <a:pt x="1412" y="92"/>
                        </a:lnTo>
                        <a:lnTo>
                          <a:pt x="1412" y="87"/>
                        </a:lnTo>
                        <a:lnTo>
                          <a:pt x="1410" y="81"/>
                        </a:lnTo>
                        <a:lnTo>
                          <a:pt x="1410" y="76"/>
                        </a:lnTo>
                        <a:lnTo>
                          <a:pt x="1409" y="71"/>
                        </a:lnTo>
                        <a:lnTo>
                          <a:pt x="1409" y="66"/>
                        </a:lnTo>
                        <a:lnTo>
                          <a:pt x="1407" y="60"/>
                        </a:lnTo>
                        <a:lnTo>
                          <a:pt x="1406" y="55"/>
                        </a:lnTo>
                        <a:lnTo>
                          <a:pt x="1404" y="51"/>
                        </a:lnTo>
                        <a:lnTo>
                          <a:pt x="1404" y="47"/>
                        </a:lnTo>
                        <a:lnTo>
                          <a:pt x="1403" y="43"/>
                        </a:lnTo>
                        <a:lnTo>
                          <a:pt x="1401" y="40"/>
                        </a:lnTo>
                        <a:lnTo>
                          <a:pt x="1399" y="36"/>
                        </a:lnTo>
                        <a:lnTo>
                          <a:pt x="1398" y="33"/>
                        </a:lnTo>
                        <a:lnTo>
                          <a:pt x="1395" y="33"/>
                        </a:lnTo>
                        <a:lnTo>
                          <a:pt x="1390" y="32"/>
                        </a:lnTo>
                        <a:lnTo>
                          <a:pt x="1384" y="32"/>
                        </a:lnTo>
                        <a:lnTo>
                          <a:pt x="1381" y="32"/>
                        </a:lnTo>
                        <a:lnTo>
                          <a:pt x="1378" y="32"/>
                        </a:lnTo>
                        <a:lnTo>
                          <a:pt x="1375" y="32"/>
                        </a:lnTo>
                        <a:lnTo>
                          <a:pt x="1372" y="32"/>
                        </a:lnTo>
                        <a:lnTo>
                          <a:pt x="1367" y="30"/>
                        </a:lnTo>
                        <a:lnTo>
                          <a:pt x="1364" y="30"/>
                        </a:lnTo>
                        <a:lnTo>
                          <a:pt x="1360" y="30"/>
                        </a:lnTo>
                        <a:lnTo>
                          <a:pt x="1357" y="30"/>
                        </a:lnTo>
                        <a:lnTo>
                          <a:pt x="1352" y="30"/>
                        </a:lnTo>
                        <a:lnTo>
                          <a:pt x="1349" y="30"/>
                        </a:lnTo>
                        <a:lnTo>
                          <a:pt x="1344" y="30"/>
                        </a:lnTo>
                        <a:lnTo>
                          <a:pt x="1341" y="30"/>
                        </a:lnTo>
                        <a:lnTo>
                          <a:pt x="1337" y="29"/>
                        </a:lnTo>
                        <a:lnTo>
                          <a:pt x="1334" y="29"/>
                        </a:lnTo>
                        <a:lnTo>
                          <a:pt x="1331" y="29"/>
                        </a:lnTo>
                        <a:lnTo>
                          <a:pt x="1328" y="29"/>
                        </a:lnTo>
                        <a:lnTo>
                          <a:pt x="1323" y="29"/>
                        </a:lnTo>
                        <a:lnTo>
                          <a:pt x="1318" y="29"/>
                        </a:lnTo>
                        <a:lnTo>
                          <a:pt x="1315" y="29"/>
                        </a:lnTo>
                        <a:lnTo>
                          <a:pt x="1321" y="28"/>
                        </a:lnTo>
                        <a:lnTo>
                          <a:pt x="1326" y="26"/>
                        </a:lnTo>
                        <a:lnTo>
                          <a:pt x="1332" y="25"/>
                        </a:lnTo>
                        <a:lnTo>
                          <a:pt x="1338" y="25"/>
                        </a:lnTo>
                        <a:lnTo>
                          <a:pt x="1343" y="23"/>
                        </a:lnTo>
                        <a:lnTo>
                          <a:pt x="1351" y="23"/>
                        </a:lnTo>
                        <a:lnTo>
                          <a:pt x="1355" y="23"/>
                        </a:lnTo>
                        <a:lnTo>
                          <a:pt x="1361" y="23"/>
                        </a:lnTo>
                        <a:lnTo>
                          <a:pt x="1367" y="23"/>
                        </a:lnTo>
                        <a:lnTo>
                          <a:pt x="1373" y="23"/>
                        </a:lnTo>
                        <a:lnTo>
                          <a:pt x="1378" y="23"/>
                        </a:lnTo>
                        <a:lnTo>
                          <a:pt x="1384" y="23"/>
                        </a:lnTo>
                        <a:lnTo>
                          <a:pt x="1390" y="23"/>
                        </a:lnTo>
                        <a:lnTo>
                          <a:pt x="1396" y="23"/>
                        </a:lnTo>
                        <a:lnTo>
                          <a:pt x="1403" y="23"/>
                        </a:lnTo>
                        <a:lnTo>
                          <a:pt x="1409" y="23"/>
                        </a:lnTo>
                        <a:lnTo>
                          <a:pt x="1409" y="29"/>
                        </a:lnTo>
                        <a:lnTo>
                          <a:pt x="1409" y="33"/>
                        </a:lnTo>
                        <a:lnTo>
                          <a:pt x="1410" y="38"/>
                        </a:lnTo>
                        <a:lnTo>
                          <a:pt x="1412" y="44"/>
                        </a:lnTo>
                        <a:lnTo>
                          <a:pt x="1412" y="49"/>
                        </a:lnTo>
                        <a:lnTo>
                          <a:pt x="1412" y="54"/>
                        </a:lnTo>
                        <a:lnTo>
                          <a:pt x="1412" y="59"/>
                        </a:lnTo>
                        <a:lnTo>
                          <a:pt x="1413" y="65"/>
                        </a:lnTo>
                        <a:lnTo>
                          <a:pt x="1413" y="70"/>
                        </a:lnTo>
                        <a:lnTo>
                          <a:pt x="1415" y="74"/>
                        </a:lnTo>
                        <a:lnTo>
                          <a:pt x="1415" y="80"/>
                        </a:lnTo>
                        <a:lnTo>
                          <a:pt x="1415" y="85"/>
                        </a:lnTo>
                        <a:lnTo>
                          <a:pt x="1416" y="91"/>
                        </a:lnTo>
                        <a:lnTo>
                          <a:pt x="1418" y="96"/>
                        </a:lnTo>
                        <a:lnTo>
                          <a:pt x="1418" y="102"/>
                        </a:lnTo>
                        <a:lnTo>
                          <a:pt x="1419" y="107"/>
                        </a:lnTo>
                        <a:lnTo>
                          <a:pt x="1419" y="111"/>
                        </a:lnTo>
                        <a:lnTo>
                          <a:pt x="1421" y="117"/>
                        </a:lnTo>
                        <a:lnTo>
                          <a:pt x="1422" y="122"/>
                        </a:lnTo>
                        <a:lnTo>
                          <a:pt x="1422" y="126"/>
                        </a:lnTo>
                        <a:lnTo>
                          <a:pt x="1424" y="132"/>
                        </a:lnTo>
                        <a:lnTo>
                          <a:pt x="1425" y="137"/>
                        </a:lnTo>
                        <a:lnTo>
                          <a:pt x="1425" y="141"/>
                        </a:lnTo>
                        <a:lnTo>
                          <a:pt x="1429" y="148"/>
                        </a:lnTo>
                        <a:lnTo>
                          <a:pt x="1429" y="152"/>
                        </a:lnTo>
                        <a:lnTo>
                          <a:pt x="1430" y="158"/>
                        </a:lnTo>
                        <a:lnTo>
                          <a:pt x="1432" y="163"/>
                        </a:lnTo>
                        <a:lnTo>
                          <a:pt x="1433" y="168"/>
                        </a:lnTo>
                        <a:lnTo>
                          <a:pt x="1436" y="173"/>
                        </a:lnTo>
                        <a:lnTo>
                          <a:pt x="1438" y="177"/>
                        </a:lnTo>
                        <a:lnTo>
                          <a:pt x="1439" y="183"/>
                        </a:lnTo>
                        <a:lnTo>
                          <a:pt x="1442" y="188"/>
                        </a:lnTo>
                        <a:lnTo>
                          <a:pt x="1442" y="191"/>
                        </a:lnTo>
                        <a:lnTo>
                          <a:pt x="1444" y="195"/>
                        </a:lnTo>
                        <a:lnTo>
                          <a:pt x="1445" y="196"/>
                        </a:lnTo>
                        <a:lnTo>
                          <a:pt x="1447" y="198"/>
                        </a:lnTo>
                        <a:lnTo>
                          <a:pt x="1448" y="196"/>
                        </a:lnTo>
                        <a:lnTo>
                          <a:pt x="1450" y="194"/>
                        </a:lnTo>
                        <a:lnTo>
                          <a:pt x="1450" y="188"/>
                        </a:lnTo>
                        <a:lnTo>
                          <a:pt x="1450" y="183"/>
                        </a:lnTo>
                        <a:lnTo>
                          <a:pt x="1450" y="179"/>
                        </a:lnTo>
                        <a:lnTo>
                          <a:pt x="1450" y="174"/>
                        </a:lnTo>
                        <a:lnTo>
                          <a:pt x="1448" y="170"/>
                        </a:lnTo>
                        <a:lnTo>
                          <a:pt x="1448" y="168"/>
                        </a:lnTo>
                        <a:lnTo>
                          <a:pt x="1448" y="163"/>
                        </a:lnTo>
                        <a:lnTo>
                          <a:pt x="1448" y="159"/>
                        </a:lnTo>
                        <a:lnTo>
                          <a:pt x="1447" y="154"/>
                        </a:lnTo>
                        <a:lnTo>
                          <a:pt x="1447" y="150"/>
                        </a:lnTo>
                        <a:lnTo>
                          <a:pt x="1447" y="143"/>
                        </a:lnTo>
                        <a:lnTo>
                          <a:pt x="1447" y="137"/>
                        </a:lnTo>
                        <a:lnTo>
                          <a:pt x="1447" y="135"/>
                        </a:lnTo>
                        <a:lnTo>
                          <a:pt x="1447" y="130"/>
                        </a:lnTo>
                        <a:lnTo>
                          <a:pt x="1445" y="128"/>
                        </a:lnTo>
                        <a:lnTo>
                          <a:pt x="1445" y="124"/>
                        </a:lnTo>
                        <a:lnTo>
                          <a:pt x="1445" y="121"/>
                        </a:lnTo>
                        <a:lnTo>
                          <a:pt x="1445" y="117"/>
                        </a:lnTo>
                        <a:lnTo>
                          <a:pt x="1444" y="114"/>
                        </a:lnTo>
                        <a:lnTo>
                          <a:pt x="1444" y="111"/>
                        </a:lnTo>
                        <a:lnTo>
                          <a:pt x="1444" y="107"/>
                        </a:lnTo>
                        <a:lnTo>
                          <a:pt x="1444" y="103"/>
                        </a:lnTo>
                        <a:lnTo>
                          <a:pt x="1442" y="99"/>
                        </a:lnTo>
                        <a:lnTo>
                          <a:pt x="1442" y="96"/>
                        </a:lnTo>
                        <a:lnTo>
                          <a:pt x="1442" y="92"/>
                        </a:lnTo>
                        <a:lnTo>
                          <a:pt x="1442" y="88"/>
                        </a:lnTo>
                        <a:lnTo>
                          <a:pt x="1442" y="85"/>
                        </a:lnTo>
                        <a:lnTo>
                          <a:pt x="1442" y="81"/>
                        </a:lnTo>
                        <a:lnTo>
                          <a:pt x="1442" y="77"/>
                        </a:lnTo>
                        <a:lnTo>
                          <a:pt x="1441" y="74"/>
                        </a:lnTo>
                        <a:lnTo>
                          <a:pt x="1441" y="70"/>
                        </a:lnTo>
                        <a:lnTo>
                          <a:pt x="1441" y="66"/>
                        </a:lnTo>
                        <a:lnTo>
                          <a:pt x="1439" y="62"/>
                        </a:lnTo>
                        <a:lnTo>
                          <a:pt x="1439" y="59"/>
                        </a:lnTo>
                        <a:lnTo>
                          <a:pt x="1439" y="55"/>
                        </a:lnTo>
                        <a:lnTo>
                          <a:pt x="1439" y="52"/>
                        </a:lnTo>
                        <a:lnTo>
                          <a:pt x="1439" y="48"/>
                        </a:lnTo>
                        <a:lnTo>
                          <a:pt x="1438" y="45"/>
                        </a:lnTo>
                        <a:lnTo>
                          <a:pt x="1438" y="41"/>
                        </a:lnTo>
                        <a:lnTo>
                          <a:pt x="1438" y="38"/>
                        </a:lnTo>
                        <a:lnTo>
                          <a:pt x="1436" y="36"/>
                        </a:lnTo>
                        <a:lnTo>
                          <a:pt x="1436" y="32"/>
                        </a:lnTo>
                        <a:lnTo>
                          <a:pt x="1436" y="29"/>
                        </a:lnTo>
                        <a:lnTo>
                          <a:pt x="1436" y="28"/>
                        </a:lnTo>
                        <a:lnTo>
                          <a:pt x="1435" y="21"/>
                        </a:lnTo>
                        <a:lnTo>
                          <a:pt x="1435" y="17"/>
                        </a:lnTo>
                        <a:lnTo>
                          <a:pt x="1433" y="11"/>
                        </a:lnTo>
                        <a:lnTo>
                          <a:pt x="1433" y="8"/>
                        </a:lnTo>
                        <a:lnTo>
                          <a:pt x="1433" y="4"/>
                        </a:lnTo>
                        <a:lnTo>
                          <a:pt x="1433" y="3"/>
                        </a:lnTo>
                        <a:lnTo>
                          <a:pt x="1432" y="0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164"/>
                  <p:cNvSpPr/>
                  <p:nvPr/>
                </p:nvSpPr>
                <p:spPr>
                  <a:xfrm>
                    <a:off x="4179960" y="3214080"/>
                    <a:ext cx="39960" cy="2160"/>
                  </a:xfrm>
                  <a:custGeom>
                    <a:avLst/>
                    <a:gdLst>
                      <a:gd name="textAreaLeft" fmla="*/ 0 w 39960"/>
                      <a:gd name="textAreaRight" fmla="*/ 39960 w 3996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277" h="18">
                        <a:moveTo>
                          <a:pt x="277" y="0"/>
                        </a:moveTo>
                        <a:lnTo>
                          <a:pt x="269" y="0"/>
                        </a:lnTo>
                        <a:lnTo>
                          <a:pt x="263" y="0"/>
                        </a:lnTo>
                        <a:lnTo>
                          <a:pt x="257" y="0"/>
                        </a:lnTo>
                        <a:lnTo>
                          <a:pt x="252" y="0"/>
                        </a:lnTo>
                        <a:lnTo>
                          <a:pt x="245" y="0"/>
                        </a:lnTo>
                        <a:lnTo>
                          <a:pt x="240" y="2"/>
                        </a:lnTo>
                        <a:lnTo>
                          <a:pt x="234" y="2"/>
                        </a:lnTo>
                        <a:lnTo>
                          <a:pt x="228" y="3"/>
                        </a:lnTo>
                        <a:lnTo>
                          <a:pt x="222" y="3"/>
                        </a:lnTo>
                        <a:lnTo>
                          <a:pt x="216" y="3"/>
                        </a:lnTo>
                        <a:lnTo>
                          <a:pt x="210" y="4"/>
                        </a:lnTo>
                        <a:lnTo>
                          <a:pt x="203" y="4"/>
                        </a:lnTo>
                        <a:lnTo>
                          <a:pt x="197" y="4"/>
                        </a:lnTo>
                        <a:lnTo>
                          <a:pt x="193" y="4"/>
                        </a:lnTo>
                        <a:lnTo>
                          <a:pt x="187" y="6"/>
                        </a:lnTo>
                        <a:lnTo>
                          <a:pt x="180" y="6"/>
                        </a:lnTo>
                        <a:lnTo>
                          <a:pt x="174" y="6"/>
                        </a:lnTo>
                        <a:lnTo>
                          <a:pt x="168" y="7"/>
                        </a:lnTo>
                        <a:lnTo>
                          <a:pt x="162" y="7"/>
                        </a:lnTo>
                        <a:lnTo>
                          <a:pt x="156" y="7"/>
                        </a:lnTo>
                        <a:lnTo>
                          <a:pt x="150" y="7"/>
                        </a:lnTo>
                        <a:lnTo>
                          <a:pt x="144" y="7"/>
                        </a:lnTo>
                        <a:lnTo>
                          <a:pt x="138" y="9"/>
                        </a:lnTo>
                        <a:lnTo>
                          <a:pt x="131" y="9"/>
                        </a:lnTo>
                        <a:lnTo>
                          <a:pt x="125" y="9"/>
                        </a:lnTo>
                        <a:lnTo>
                          <a:pt x="119" y="10"/>
                        </a:lnTo>
                        <a:lnTo>
                          <a:pt x="113" y="10"/>
                        </a:lnTo>
                        <a:lnTo>
                          <a:pt x="109" y="10"/>
                        </a:lnTo>
                        <a:lnTo>
                          <a:pt x="101" y="10"/>
                        </a:lnTo>
                        <a:lnTo>
                          <a:pt x="96" y="10"/>
                        </a:lnTo>
                        <a:lnTo>
                          <a:pt x="90" y="11"/>
                        </a:lnTo>
                        <a:lnTo>
                          <a:pt x="84" y="11"/>
                        </a:lnTo>
                        <a:lnTo>
                          <a:pt x="79" y="11"/>
                        </a:lnTo>
                        <a:lnTo>
                          <a:pt x="76" y="11"/>
                        </a:lnTo>
                        <a:lnTo>
                          <a:pt x="72" y="11"/>
                        </a:lnTo>
                        <a:lnTo>
                          <a:pt x="67" y="11"/>
                        </a:lnTo>
                        <a:lnTo>
                          <a:pt x="63" y="11"/>
                        </a:lnTo>
                        <a:lnTo>
                          <a:pt x="60" y="11"/>
                        </a:lnTo>
                        <a:lnTo>
                          <a:pt x="55" y="11"/>
                        </a:lnTo>
                        <a:lnTo>
                          <a:pt x="52" y="11"/>
                        </a:lnTo>
                        <a:lnTo>
                          <a:pt x="47" y="11"/>
                        </a:lnTo>
                        <a:lnTo>
                          <a:pt x="43" y="11"/>
                        </a:lnTo>
                        <a:lnTo>
                          <a:pt x="38" y="11"/>
                        </a:lnTo>
                        <a:lnTo>
                          <a:pt x="35" y="13"/>
                        </a:lnTo>
                        <a:lnTo>
                          <a:pt x="31" y="13"/>
                        </a:lnTo>
                        <a:lnTo>
                          <a:pt x="26" y="13"/>
                        </a:lnTo>
                        <a:lnTo>
                          <a:pt x="23" y="13"/>
                        </a:lnTo>
                        <a:lnTo>
                          <a:pt x="18" y="14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29" y="18"/>
                        </a:lnTo>
                        <a:lnTo>
                          <a:pt x="34" y="18"/>
                        </a:lnTo>
                        <a:lnTo>
                          <a:pt x="38" y="18"/>
                        </a:lnTo>
                        <a:lnTo>
                          <a:pt x="43" y="18"/>
                        </a:lnTo>
                        <a:lnTo>
                          <a:pt x="49" y="18"/>
                        </a:lnTo>
                        <a:lnTo>
                          <a:pt x="55" y="18"/>
                        </a:lnTo>
                        <a:lnTo>
                          <a:pt x="60" y="18"/>
                        </a:lnTo>
                        <a:lnTo>
                          <a:pt x="66" y="18"/>
                        </a:lnTo>
                        <a:lnTo>
                          <a:pt x="72" y="18"/>
                        </a:lnTo>
                        <a:lnTo>
                          <a:pt x="76" y="18"/>
                        </a:lnTo>
                        <a:lnTo>
                          <a:pt x="83" y="18"/>
                        </a:lnTo>
                        <a:lnTo>
                          <a:pt x="89" y="17"/>
                        </a:lnTo>
                        <a:lnTo>
                          <a:pt x="95" y="17"/>
                        </a:lnTo>
                        <a:lnTo>
                          <a:pt x="99" y="17"/>
                        </a:lnTo>
                        <a:lnTo>
                          <a:pt x="105" y="17"/>
                        </a:lnTo>
                        <a:lnTo>
                          <a:pt x="112" y="15"/>
                        </a:lnTo>
                        <a:lnTo>
                          <a:pt x="118" y="15"/>
                        </a:lnTo>
                        <a:lnTo>
                          <a:pt x="124" y="15"/>
                        </a:lnTo>
                        <a:lnTo>
                          <a:pt x="128" y="15"/>
                        </a:lnTo>
                        <a:lnTo>
                          <a:pt x="135" y="14"/>
                        </a:lnTo>
                        <a:lnTo>
                          <a:pt x="141" y="14"/>
                        </a:lnTo>
                        <a:lnTo>
                          <a:pt x="145" y="14"/>
                        </a:lnTo>
                        <a:lnTo>
                          <a:pt x="151" y="13"/>
                        </a:lnTo>
                        <a:lnTo>
                          <a:pt x="157" y="13"/>
                        </a:lnTo>
                        <a:lnTo>
                          <a:pt x="164" y="13"/>
                        </a:lnTo>
                        <a:lnTo>
                          <a:pt x="168" y="13"/>
                        </a:lnTo>
                        <a:lnTo>
                          <a:pt x="174" y="11"/>
                        </a:lnTo>
                        <a:lnTo>
                          <a:pt x="180" y="11"/>
                        </a:lnTo>
                        <a:lnTo>
                          <a:pt x="185" y="11"/>
                        </a:lnTo>
                        <a:lnTo>
                          <a:pt x="190" y="10"/>
                        </a:lnTo>
                        <a:lnTo>
                          <a:pt x="196" y="10"/>
                        </a:lnTo>
                        <a:lnTo>
                          <a:pt x="202" y="10"/>
                        </a:lnTo>
                        <a:lnTo>
                          <a:pt x="208" y="10"/>
                        </a:lnTo>
                        <a:lnTo>
                          <a:pt x="211" y="9"/>
                        </a:lnTo>
                        <a:lnTo>
                          <a:pt x="214" y="9"/>
                        </a:lnTo>
                        <a:lnTo>
                          <a:pt x="219" y="9"/>
                        </a:lnTo>
                        <a:lnTo>
                          <a:pt x="222" y="9"/>
                        </a:lnTo>
                        <a:lnTo>
                          <a:pt x="226" y="9"/>
                        </a:lnTo>
                        <a:lnTo>
                          <a:pt x="229" y="9"/>
                        </a:lnTo>
                        <a:lnTo>
                          <a:pt x="234" y="9"/>
                        </a:lnTo>
                        <a:lnTo>
                          <a:pt x="237" y="9"/>
                        </a:lnTo>
                        <a:lnTo>
                          <a:pt x="242" y="9"/>
                        </a:lnTo>
                        <a:lnTo>
                          <a:pt x="245" y="9"/>
                        </a:lnTo>
                        <a:lnTo>
                          <a:pt x="249" y="9"/>
                        </a:lnTo>
                        <a:lnTo>
                          <a:pt x="252" y="9"/>
                        </a:lnTo>
                        <a:lnTo>
                          <a:pt x="255" y="7"/>
                        </a:lnTo>
                        <a:lnTo>
                          <a:pt x="260" y="7"/>
                        </a:lnTo>
                        <a:lnTo>
                          <a:pt x="263" y="7"/>
                        </a:lnTo>
                        <a:lnTo>
                          <a:pt x="268" y="7"/>
                        </a:lnTo>
                        <a:lnTo>
                          <a:pt x="272" y="6"/>
                        </a:lnTo>
                        <a:lnTo>
                          <a:pt x="275" y="4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165"/>
                  <p:cNvSpPr/>
                  <p:nvPr/>
                </p:nvSpPr>
                <p:spPr>
                  <a:xfrm>
                    <a:off x="4254120" y="3216240"/>
                    <a:ext cx="24840" cy="1800"/>
                  </a:xfrm>
                  <a:custGeom>
                    <a:avLst/>
                    <a:gdLst>
                      <a:gd name="textAreaLeft" fmla="*/ 0 w 24840"/>
                      <a:gd name="textAreaRight" fmla="*/ 25200 w 2484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173" h="15">
                        <a:moveTo>
                          <a:pt x="171" y="15"/>
                        </a:moveTo>
                        <a:lnTo>
                          <a:pt x="167" y="13"/>
                        </a:lnTo>
                        <a:lnTo>
                          <a:pt x="162" y="13"/>
                        </a:lnTo>
                        <a:lnTo>
                          <a:pt x="156" y="12"/>
                        </a:lnTo>
                        <a:lnTo>
                          <a:pt x="151" y="12"/>
                        </a:lnTo>
                        <a:lnTo>
                          <a:pt x="147" y="12"/>
                        </a:lnTo>
                        <a:lnTo>
                          <a:pt x="142" y="12"/>
                        </a:lnTo>
                        <a:lnTo>
                          <a:pt x="136" y="12"/>
                        </a:lnTo>
                        <a:lnTo>
                          <a:pt x="131" y="12"/>
                        </a:lnTo>
                        <a:lnTo>
                          <a:pt x="127" y="11"/>
                        </a:lnTo>
                        <a:lnTo>
                          <a:pt x="122" y="11"/>
                        </a:lnTo>
                        <a:lnTo>
                          <a:pt x="116" y="11"/>
                        </a:lnTo>
                        <a:lnTo>
                          <a:pt x="112" y="11"/>
                        </a:lnTo>
                        <a:lnTo>
                          <a:pt x="107" y="11"/>
                        </a:lnTo>
                        <a:lnTo>
                          <a:pt x="102" y="11"/>
                        </a:lnTo>
                        <a:lnTo>
                          <a:pt x="98" y="11"/>
                        </a:lnTo>
                        <a:lnTo>
                          <a:pt x="93" y="12"/>
                        </a:lnTo>
                        <a:lnTo>
                          <a:pt x="87" y="11"/>
                        </a:lnTo>
                        <a:lnTo>
                          <a:pt x="82" y="11"/>
                        </a:lnTo>
                        <a:lnTo>
                          <a:pt x="78" y="11"/>
                        </a:lnTo>
                        <a:lnTo>
                          <a:pt x="73" y="11"/>
                        </a:lnTo>
                        <a:lnTo>
                          <a:pt x="67" y="11"/>
                        </a:lnTo>
                        <a:lnTo>
                          <a:pt x="63" y="11"/>
                        </a:lnTo>
                        <a:lnTo>
                          <a:pt x="56" y="11"/>
                        </a:lnTo>
                        <a:lnTo>
                          <a:pt x="53" y="11"/>
                        </a:lnTo>
                        <a:lnTo>
                          <a:pt x="47" y="11"/>
                        </a:lnTo>
                        <a:lnTo>
                          <a:pt x="43" y="9"/>
                        </a:lnTo>
                        <a:lnTo>
                          <a:pt x="38" y="9"/>
                        </a:lnTo>
                        <a:lnTo>
                          <a:pt x="33" y="8"/>
                        </a:lnTo>
                        <a:lnTo>
                          <a:pt x="29" y="8"/>
                        </a:lnTo>
                        <a:lnTo>
                          <a:pt x="24" y="7"/>
                        </a:lnTo>
                        <a:lnTo>
                          <a:pt x="18" y="7"/>
                        </a:lnTo>
                        <a:lnTo>
                          <a:pt x="15" y="5"/>
                        </a:lnTo>
                        <a:lnTo>
                          <a:pt x="11" y="5"/>
                        </a:lnTo>
                        <a:lnTo>
                          <a:pt x="7" y="4"/>
                        </a:lnTo>
                        <a:lnTo>
                          <a:pt x="4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8" y="0"/>
                        </a:lnTo>
                        <a:lnTo>
                          <a:pt x="63" y="0"/>
                        </a:lnTo>
                        <a:lnTo>
                          <a:pt x="67" y="0"/>
                        </a:lnTo>
                        <a:lnTo>
                          <a:pt x="72" y="0"/>
                        </a:lnTo>
                        <a:lnTo>
                          <a:pt x="76" y="1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89" y="1"/>
                        </a:lnTo>
                        <a:lnTo>
                          <a:pt x="95" y="3"/>
                        </a:lnTo>
                        <a:lnTo>
                          <a:pt x="98" y="3"/>
                        </a:lnTo>
                        <a:lnTo>
                          <a:pt x="102" y="3"/>
                        </a:lnTo>
                        <a:lnTo>
                          <a:pt x="107" y="3"/>
                        </a:lnTo>
                        <a:lnTo>
                          <a:pt x="112" y="3"/>
                        </a:lnTo>
                        <a:lnTo>
                          <a:pt x="115" y="3"/>
                        </a:lnTo>
                        <a:lnTo>
                          <a:pt x="119" y="4"/>
                        </a:lnTo>
                        <a:lnTo>
                          <a:pt x="124" y="4"/>
                        </a:lnTo>
                        <a:lnTo>
                          <a:pt x="128" y="4"/>
                        </a:lnTo>
                        <a:lnTo>
                          <a:pt x="131" y="4"/>
                        </a:lnTo>
                        <a:lnTo>
                          <a:pt x="136" y="5"/>
                        </a:lnTo>
                        <a:lnTo>
                          <a:pt x="139" y="5"/>
                        </a:lnTo>
                        <a:lnTo>
                          <a:pt x="144" y="5"/>
                        </a:lnTo>
                        <a:lnTo>
                          <a:pt x="150" y="7"/>
                        </a:lnTo>
                        <a:lnTo>
                          <a:pt x="156" y="8"/>
                        </a:lnTo>
                        <a:lnTo>
                          <a:pt x="160" y="9"/>
                        </a:lnTo>
                        <a:lnTo>
                          <a:pt x="167" y="12"/>
                        </a:lnTo>
                        <a:lnTo>
                          <a:pt x="170" y="13"/>
                        </a:lnTo>
                        <a:lnTo>
                          <a:pt x="171" y="15"/>
                        </a:lnTo>
                        <a:lnTo>
                          <a:pt x="173" y="15"/>
                        </a:lnTo>
                        <a:lnTo>
                          <a:pt x="171" y="1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166"/>
                  <p:cNvSpPr/>
                  <p:nvPr/>
                </p:nvSpPr>
                <p:spPr>
                  <a:xfrm>
                    <a:off x="4183920" y="3221640"/>
                    <a:ext cx="4680" cy="3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360"/>
                      <a:gd name="textAreaBottom" fmla="*/ 720 h 360"/>
                    </a:gdLst>
                    <a:ahLst/>
                    <a:rect l="textAreaLeft" t="textAreaTop" r="textAreaRight" b="textAreaBottom"/>
                    <a:pathLst>
                      <a:path w="32" h="6">
                        <a:moveTo>
                          <a:pt x="5" y="0"/>
                        </a:move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14" y="6"/>
                        </a:lnTo>
                        <a:lnTo>
                          <a:pt x="20" y="6"/>
                        </a:lnTo>
                        <a:lnTo>
                          <a:pt x="21" y="6"/>
                        </a:lnTo>
                        <a:lnTo>
                          <a:pt x="24" y="6"/>
                        </a:lnTo>
                        <a:lnTo>
                          <a:pt x="28" y="4"/>
                        </a:lnTo>
                        <a:lnTo>
                          <a:pt x="32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167"/>
                  <p:cNvSpPr/>
                  <p:nvPr/>
                </p:nvSpPr>
                <p:spPr>
                  <a:xfrm>
                    <a:off x="4079160" y="3237840"/>
                    <a:ext cx="270720" cy="20160"/>
                  </a:xfrm>
                  <a:custGeom>
                    <a:avLst/>
                    <a:gdLst>
                      <a:gd name="textAreaLeft" fmla="*/ 0 w 270720"/>
                      <a:gd name="textAreaRight" fmla="*/ 271080 w 27072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871" h="154">
                        <a:moveTo>
                          <a:pt x="490" y="18"/>
                        </a:moveTo>
                        <a:lnTo>
                          <a:pt x="483" y="19"/>
                        </a:lnTo>
                        <a:lnTo>
                          <a:pt x="477" y="20"/>
                        </a:lnTo>
                        <a:lnTo>
                          <a:pt x="473" y="22"/>
                        </a:lnTo>
                        <a:lnTo>
                          <a:pt x="467" y="23"/>
                        </a:lnTo>
                        <a:lnTo>
                          <a:pt x="461" y="25"/>
                        </a:lnTo>
                        <a:lnTo>
                          <a:pt x="456" y="26"/>
                        </a:lnTo>
                        <a:lnTo>
                          <a:pt x="450" y="26"/>
                        </a:lnTo>
                        <a:lnTo>
                          <a:pt x="444" y="29"/>
                        </a:lnTo>
                        <a:lnTo>
                          <a:pt x="438" y="29"/>
                        </a:lnTo>
                        <a:lnTo>
                          <a:pt x="431" y="30"/>
                        </a:lnTo>
                        <a:lnTo>
                          <a:pt x="427" y="30"/>
                        </a:lnTo>
                        <a:lnTo>
                          <a:pt x="421" y="31"/>
                        </a:lnTo>
                        <a:lnTo>
                          <a:pt x="415" y="31"/>
                        </a:lnTo>
                        <a:lnTo>
                          <a:pt x="409" y="33"/>
                        </a:lnTo>
                        <a:lnTo>
                          <a:pt x="404" y="34"/>
                        </a:lnTo>
                        <a:lnTo>
                          <a:pt x="398" y="34"/>
                        </a:lnTo>
                        <a:lnTo>
                          <a:pt x="392" y="34"/>
                        </a:lnTo>
                        <a:lnTo>
                          <a:pt x="386" y="35"/>
                        </a:lnTo>
                        <a:lnTo>
                          <a:pt x="379" y="35"/>
                        </a:lnTo>
                        <a:lnTo>
                          <a:pt x="373" y="37"/>
                        </a:lnTo>
                        <a:lnTo>
                          <a:pt x="367" y="37"/>
                        </a:lnTo>
                        <a:lnTo>
                          <a:pt x="363" y="38"/>
                        </a:lnTo>
                        <a:lnTo>
                          <a:pt x="357" y="38"/>
                        </a:lnTo>
                        <a:lnTo>
                          <a:pt x="350" y="40"/>
                        </a:lnTo>
                        <a:lnTo>
                          <a:pt x="344" y="40"/>
                        </a:lnTo>
                        <a:lnTo>
                          <a:pt x="338" y="40"/>
                        </a:lnTo>
                        <a:lnTo>
                          <a:pt x="332" y="41"/>
                        </a:lnTo>
                        <a:lnTo>
                          <a:pt x="327" y="41"/>
                        </a:lnTo>
                        <a:lnTo>
                          <a:pt x="321" y="41"/>
                        </a:lnTo>
                        <a:lnTo>
                          <a:pt x="315" y="42"/>
                        </a:lnTo>
                        <a:lnTo>
                          <a:pt x="309" y="42"/>
                        </a:lnTo>
                        <a:lnTo>
                          <a:pt x="303" y="44"/>
                        </a:lnTo>
                        <a:lnTo>
                          <a:pt x="297" y="44"/>
                        </a:lnTo>
                        <a:lnTo>
                          <a:pt x="291" y="44"/>
                        </a:lnTo>
                        <a:lnTo>
                          <a:pt x="285" y="44"/>
                        </a:lnTo>
                        <a:lnTo>
                          <a:pt x="279" y="45"/>
                        </a:lnTo>
                        <a:lnTo>
                          <a:pt x="272" y="45"/>
                        </a:lnTo>
                        <a:lnTo>
                          <a:pt x="266" y="45"/>
                        </a:lnTo>
                        <a:lnTo>
                          <a:pt x="260" y="46"/>
                        </a:lnTo>
                        <a:lnTo>
                          <a:pt x="254" y="46"/>
                        </a:lnTo>
                        <a:lnTo>
                          <a:pt x="248" y="46"/>
                        </a:lnTo>
                        <a:lnTo>
                          <a:pt x="242" y="48"/>
                        </a:lnTo>
                        <a:lnTo>
                          <a:pt x="237" y="48"/>
                        </a:lnTo>
                        <a:lnTo>
                          <a:pt x="231" y="49"/>
                        </a:lnTo>
                        <a:lnTo>
                          <a:pt x="225" y="51"/>
                        </a:lnTo>
                        <a:lnTo>
                          <a:pt x="219" y="51"/>
                        </a:lnTo>
                        <a:lnTo>
                          <a:pt x="213" y="52"/>
                        </a:lnTo>
                        <a:lnTo>
                          <a:pt x="207" y="53"/>
                        </a:lnTo>
                        <a:lnTo>
                          <a:pt x="201" y="53"/>
                        </a:lnTo>
                        <a:lnTo>
                          <a:pt x="194" y="55"/>
                        </a:lnTo>
                        <a:lnTo>
                          <a:pt x="188" y="55"/>
                        </a:lnTo>
                        <a:lnTo>
                          <a:pt x="184" y="56"/>
                        </a:lnTo>
                        <a:lnTo>
                          <a:pt x="178" y="57"/>
                        </a:lnTo>
                        <a:lnTo>
                          <a:pt x="171" y="59"/>
                        </a:lnTo>
                        <a:lnTo>
                          <a:pt x="165" y="59"/>
                        </a:lnTo>
                        <a:lnTo>
                          <a:pt x="161" y="62"/>
                        </a:lnTo>
                        <a:lnTo>
                          <a:pt x="155" y="63"/>
                        </a:lnTo>
                        <a:lnTo>
                          <a:pt x="148" y="63"/>
                        </a:lnTo>
                        <a:lnTo>
                          <a:pt x="144" y="66"/>
                        </a:lnTo>
                        <a:lnTo>
                          <a:pt x="138" y="67"/>
                        </a:lnTo>
                        <a:lnTo>
                          <a:pt x="132" y="68"/>
                        </a:lnTo>
                        <a:lnTo>
                          <a:pt x="127" y="70"/>
                        </a:lnTo>
                        <a:lnTo>
                          <a:pt x="121" y="73"/>
                        </a:lnTo>
                        <a:lnTo>
                          <a:pt x="116" y="75"/>
                        </a:lnTo>
                        <a:lnTo>
                          <a:pt x="121" y="77"/>
                        </a:lnTo>
                        <a:lnTo>
                          <a:pt x="127" y="75"/>
                        </a:lnTo>
                        <a:lnTo>
                          <a:pt x="133" y="73"/>
                        </a:lnTo>
                        <a:lnTo>
                          <a:pt x="138" y="71"/>
                        </a:lnTo>
                        <a:lnTo>
                          <a:pt x="141" y="71"/>
                        </a:lnTo>
                        <a:lnTo>
                          <a:pt x="144" y="70"/>
                        </a:lnTo>
                        <a:lnTo>
                          <a:pt x="148" y="70"/>
                        </a:lnTo>
                        <a:lnTo>
                          <a:pt x="152" y="68"/>
                        </a:lnTo>
                        <a:lnTo>
                          <a:pt x="155" y="68"/>
                        </a:lnTo>
                        <a:lnTo>
                          <a:pt x="158" y="67"/>
                        </a:lnTo>
                        <a:lnTo>
                          <a:pt x="162" y="67"/>
                        </a:lnTo>
                        <a:lnTo>
                          <a:pt x="165" y="66"/>
                        </a:lnTo>
                        <a:lnTo>
                          <a:pt x="168" y="66"/>
                        </a:lnTo>
                        <a:lnTo>
                          <a:pt x="173" y="66"/>
                        </a:lnTo>
                        <a:lnTo>
                          <a:pt x="176" y="66"/>
                        </a:lnTo>
                        <a:lnTo>
                          <a:pt x="179" y="64"/>
                        </a:lnTo>
                        <a:lnTo>
                          <a:pt x="184" y="64"/>
                        </a:lnTo>
                        <a:lnTo>
                          <a:pt x="187" y="63"/>
                        </a:lnTo>
                        <a:lnTo>
                          <a:pt x="190" y="63"/>
                        </a:lnTo>
                        <a:lnTo>
                          <a:pt x="193" y="63"/>
                        </a:lnTo>
                        <a:lnTo>
                          <a:pt x="197" y="63"/>
                        </a:lnTo>
                        <a:lnTo>
                          <a:pt x="201" y="62"/>
                        </a:lnTo>
                        <a:lnTo>
                          <a:pt x="205" y="62"/>
                        </a:lnTo>
                        <a:lnTo>
                          <a:pt x="208" y="62"/>
                        </a:lnTo>
                        <a:lnTo>
                          <a:pt x="211" y="60"/>
                        </a:lnTo>
                        <a:lnTo>
                          <a:pt x="214" y="60"/>
                        </a:lnTo>
                        <a:lnTo>
                          <a:pt x="219" y="60"/>
                        </a:lnTo>
                        <a:lnTo>
                          <a:pt x="222" y="59"/>
                        </a:lnTo>
                        <a:lnTo>
                          <a:pt x="225" y="59"/>
                        </a:lnTo>
                        <a:lnTo>
                          <a:pt x="230" y="59"/>
                        </a:lnTo>
                        <a:lnTo>
                          <a:pt x="233" y="59"/>
                        </a:lnTo>
                        <a:lnTo>
                          <a:pt x="236" y="57"/>
                        </a:lnTo>
                        <a:lnTo>
                          <a:pt x="240" y="57"/>
                        </a:lnTo>
                        <a:lnTo>
                          <a:pt x="243" y="56"/>
                        </a:lnTo>
                        <a:lnTo>
                          <a:pt x="246" y="56"/>
                        </a:lnTo>
                        <a:lnTo>
                          <a:pt x="249" y="56"/>
                        </a:lnTo>
                        <a:lnTo>
                          <a:pt x="254" y="56"/>
                        </a:lnTo>
                        <a:lnTo>
                          <a:pt x="257" y="56"/>
                        </a:lnTo>
                        <a:lnTo>
                          <a:pt x="260" y="56"/>
                        </a:lnTo>
                        <a:lnTo>
                          <a:pt x="265" y="55"/>
                        </a:lnTo>
                        <a:lnTo>
                          <a:pt x="268" y="55"/>
                        </a:lnTo>
                        <a:lnTo>
                          <a:pt x="271" y="55"/>
                        </a:lnTo>
                        <a:lnTo>
                          <a:pt x="275" y="55"/>
                        </a:lnTo>
                        <a:lnTo>
                          <a:pt x="279" y="53"/>
                        </a:lnTo>
                        <a:lnTo>
                          <a:pt x="282" y="53"/>
                        </a:lnTo>
                        <a:lnTo>
                          <a:pt x="286" y="53"/>
                        </a:lnTo>
                        <a:lnTo>
                          <a:pt x="289" y="53"/>
                        </a:lnTo>
                        <a:lnTo>
                          <a:pt x="286" y="53"/>
                        </a:lnTo>
                        <a:lnTo>
                          <a:pt x="282" y="55"/>
                        </a:lnTo>
                        <a:lnTo>
                          <a:pt x="277" y="55"/>
                        </a:lnTo>
                        <a:lnTo>
                          <a:pt x="274" y="56"/>
                        </a:lnTo>
                        <a:lnTo>
                          <a:pt x="271" y="56"/>
                        </a:lnTo>
                        <a:lnTo>
                          <a:pt x="268" y="56"/>
                        </a:lnTo>
                        <a:lnTo>
                          <a:pt x="263" y="56"/>
                        </a:lnTo>
                        <a:lnTo>
                          <a:pt x="260" y="57"/>
                        </a:lnTo>
                        <a:lnTo>
                          <a:pt x="256" y="59"/>
                        </a:lnTo>
                        <a:lnTo>
                          <a:pt x="251" y="59"/>
                        </a:lnTo>
                        <a:lnTo>
                          <a:pt x="246" y="60"/>
                        </a:lnTo>
                        <a:lnTo>
                          <a:pt x="243" y="62"/>
                        </a:lnTo>
                        <a:lnTo>
                          <a:pt x="239" y="62"/>
                        </a:lnTo>
                        <a:lnTo>
                          <a:pt x="234" y="63"/>
                        </a:lnTo>
                        <a:lnTo>
                          <a:pt x="230" y="63"/>
                        </a:lnTo>
                        <a:lnTo>
                          <a:pt x="225" y="64"/>
                        </a:lnTo>
                        <a:lnTo>
                          <a:pt x="220" y="66"/>
                        </a:lnTo>
                        <a:lnTo>
                          <a:pt x="217" y="66"/>
                        </a:lnTo>
                        <a:lnTo>
                          <a:pt x="213" y="67"/>
                        </a:lnTo>
                        <a:lnTo>
                          <a:pt x="210" y="68"/>
                        </a:lnTo>
                        <a:lnTo>
                          <a:pt x="205" y="68"/>
                        </a:lnTo>
                        <a:lnTo>
                          <a:pt x="204" y="70"/>
                        </a:lnTo>
                        <a:lnTo>
                          <a:pt x="197" y="71"/>
                        </a:lnTo>
                        <a:lnTo>
                          <a:pt x="193" y="74"/>
                        </a:lnTo>
                        <a:lnTo>
                          <a:pt x="190" y="77"/>
                        </a:lnTo>
                        <a:lnTo>
                          <a:pt x="188" y="79"/>
                        </a:lnTo>
                        <a:lnTo>
                          <a:pt x="185" y="79"/>
                        </a:lnTo>
                        <a:lnTo>
                          <a:pt x="181" y="79"/>
                        </a:lnTo>
                        <a:lnTo>
                          <a:pt x="176" y="79"/>
                        </a:lnTo>
                        <a:lnTo>
                          <a:pt x="171" y="81"/>
                        </a:lnTo>
                        <a:lnTo>
                          <a:pt x="164" y="81"/>
                        </a:lnTo>
                        <a:lnTo>
                          <a:pt x="159" y="82"/>
                        </a:lnTo>
                        <a:lnTo>
                          <a:pt x="153" y="84"/>
                        </a:lnTo>
                        <a:lnTo>
                          <a:pt x="147" y="85"/>
                        </a:lnTo>
                        <a:lnTo>
                          <a:pt x="141" y="86"/>
                        </a:lnTo>
                        <a:lnTo>
                          <a:pt x="136" y="88"/>
                        </a:lnTo>
                        <a:lnTo>
                          <a:pt x="130" y="88"/>
                        </a:lnTo>
                        <a:lnTo>
                          <a:pt x="126" y="89"/>
                        </a:lnTo>
                        <a:lnTo>
                          <a:pt x="121" y="90"/>
                        </a:lnTo>
                        <a:lnTo>
                          <a:pt x="119" y="90"/>
                        </a:lnTo>
                        <a:lnTo>
                          <a:pt x="116" y="90"/>
                        </a:lnTo>
                        <a:lnTo>
                          <a:pt x="55" y="105"/>
                        </a:lnTo>
                        <a:lnTo>
                          <a:pt x="57" y="105"/>
                        </a:lnTo>
                        <a:lnTo>
                          <a:pt x="58" y="107"/>
                        </a:lnTo>
                        <a:lnTo>
                          <a:pt x="63" y="107"/>
                        </a:lnTo>
                        <a:lnTo>
                          <a:pt x="67" y="107"/>
                        </a:lnTo>
                        <a:lnTo>
                          <a:pt x="70" y="105"/>
                        </a:lnTo>
                        <a:lnTo>
                          <a:pt x="74" y="105"/>
                        </a:lnTo>
                        <a:lnTo>
                          <a:pt x="77" y="105"/>
                        </a:lnTo>
                        <a:lnTo>
                          <a:pt x="80" y="105"/>
                        </a:lnTo>
                        <a:lnTo>
                          <a:pt x="84" y="104"/>
                        </a:lnTo>
                        <a:lnTo>
                          <a:pt x="87" y="104"/>
                        </a:lnTo>
                        <a:lnTo>
                          <a:pt x="92" y="103"/>
                        </a:lnTo>
                        <a:lnTo>
                          <a:pt x="96" y="103"/>
                        </a:lnTo>
                        <a:lnTo>
                          <a:pt x="100" y="103"/>
                        </a:lnTo>
                        <a:lnTo>
                          <a:pt x="106" y="101"/>
                        </a:lnTo>
                        <a:lnTo>
                          <a:pt x="110" y="101"/>
                        </a:lnTo>
                        <a:lnTo>
                          <a:pt x="115" y="100"/>
                        </a:lnTo>
                        <a:lnTo>
                          <a:pt x="119" y="100"/>
                        </a:lnTo>
                        <a:lnTo>
                          <a:pt x="124" y="99"/>
                        </a:lnTo>
                        <a:lnTo>
                          <a:pt x="130" y="99"/>
                        </a:lnTo>
                        <a:lnTo>
                          <a:pt x="136" y="97"/>
                        </a:lnTo>
                        <a:lnTo>
                          <a:pt x="141" y="96"/>
                        </a:lnTo>
                        <a:lnTo>
                          <a:pt x="147" y="96"/>
                        </a:lnTo>
                        <a:lnTo>
                          <a:pt x="152" y="95"/>
                        </a:lnTo>
                        <a:lnTo>
                          <a:pt x="158" y="93"/>
                        </a:lnTo>
                        <a:lnTo>
                          <a:pt x="164" y="93"/>
                        </a:lnTo>
                        <a:lnTo>
                          <a:pt x="170" y="92"/>
                        </a:lnTo>
                        <a:lnTo>
                          <a:pt x="176" y="90"/>
                        </a:lnTo>
                        <a:lnTo>
                          <a:pt x="182" y="90"/>
                        </a:lnTo>
                        <a:lnTo>
                          <a:pt x="188" y="89"/>
                        </a:lnTo>
                        <a:lnTo>
                          <a:pt x="193" y="88"/>
                        </a:lnTo>
                        <a:lnTo>
                          <a:pt x="199" y="86"/>
                        </a:lnTo>
                        <a:lnTo>
                          <a:pt x="205" y="86"/>
                        </a:lnTo>
                        <a:lnTo>
                          <a:pt x="211" y="85"/>
                        </a:lnTo>
                        <a:lnTo>
                          <a:pt x="217" y="84"/>
                        </a:lnTo>
                        <a:lnTo>
                          <a:pt x="222" y="84"/>
                        </a:lnTo>
                        <a:lnTo>
                          <a:pt x="230" y="82"/>
                        </a:lnTo>
                        <a:lnTo>
                          <a:pt x="234" y="81"/>
                        </a:lnTo>
                        <a:lnTo>
                          <a:pt x="240" y="81"/>
                        </a:lnTo>
                        <a:lnTo>
                          <a:pt x="246" y="79"/>
                        </a:lnTo>
                        <a:lnTo>
                          <a:pt x="251" y="79"/>
                        </a:lnTo>
                        <a:lnTo>
                          <a:pt x="257" y="78"/>
                        </a:lnTo>
                        <a:lnTo>
                          <a:pt x="262" y="78"/>
                        </a:lnTo>
                        <a:lnTo>
                          <a:pt x="268" y="77"/>
                        </a:lnTo>
                        <a:lnTo>
                          <a:pt x="274" y="77"/>
                        </a:lnTo>
                        <a:lnTo>
                          <a:pt x="277" y="75"/>
                        </a:lnTo>
                        <a:lnTo>
                          <a:pt x="283" y="75"/>
                        </a:lnTo>
                        <a:lnTo>
                          <a:pt x="288" y="74"/>
                        </a:lnTo>
                        <a:lnTo>
                          <a:pt x="292" y="74"/>
                        </a:lnTo>
                        <a:lnTo>
                          <a:pt x="297" y="73"/>
                        </a:lnTo>
                        <a:lnTo>
                          <a:pt x="301" y="73"/>
                        </a:lnTo>
                        <a:lnTo>
                          <a:pt x="305" y="73"/>
                        </a:lnTo>
                        <a:lnTo>
                          <a:pt x="309" y="73"/>
                        </a:lnTo>
                        <a:lnTo>
                          <a:pt x="312" y="71"/>
                        </a:lnTo>
                        <a:lnTo>
                          <a:pt x="315" y="71"/>
                        </a:lnTo>
                        <a:lnTo>
                          <a:pt x="318" y="71"/>
                        </a:lnTo>
                        <a:lnTo>
                          <a:pt x="321" y="71"/>
                        </a:lnTo>
                        <a:lnTo>
                          <a:pt x="327" y="71"/>
                        </a:lnTo>
                        <a:lnTo>
                          <a:pt x="332" y="73"/>
                        </a:lnTo>
                        <a:lnTo>
                          <a:pt x="300" y="81"/>
                        </a:lnTo>
                        <a:lnTo>
                          <a:pt x="300" y="79"/>
                        </a:lnTo>
                        <a:lnTo>
                          <a:pt x="294" y="79"/>
                        </a:lnTo>
                        <a:lnTo>
                          <a:pt x="288" y="81"/>
                        </a:lnTo>
                        <a:lnTo>
                          <a:pt x="282" y="82"/>
                        </a:lnTo>
                        <a:lnTo>
                          <a:pt x="277" y="84"/>
                        </a:lnTo>
                        <a:lnTo>
                          <a:pt x="271" y="84"/>
                        </a:lnTo>
                        <a:lnTo>
                          <a:pt x="265" y="85"/>
                        </a:lnTo>
                        <a:lnTo>
                          <a:pt x="259" y="86"/>
                        </a:lnTo>
                        <a:lnTo>
                          <a:pt x="253" y="88"/>
                        </a:lnTo>
                        <a:lnTo>
                          <a:pt x="246" y="88"/>
                        </a:lnTo>
                        <a:lnTo>
                          <a:pt x="240" y="89"/>
                        </a:lnTo>
                        <a:lnTo>
                          <a:pt x="234" y="90"/>
                        </a:lnTo>
                        <a:lnTo>
                          <a:pt x="230" y="90"/>
                        </a:lnTo>
                        <a:lnTo>
                          <a:pt x="223" y="92"/>
                        </a:lnTo>
                        <a:lnTo>
                          <a:pt x="217" y="93"/>
                        </a:lnTo>
                        <a:lnTo>
                          <a:pt x="213" y="93"/>
                        </a:lnTo>
                        <a:lnTo>
                          <a:pt x="207" y="95"/>
                        </a:lnTo>
                        <a:lnTo>
                          <a:pt x="204" y="95"/>
                        </a:lnTo>
                        <a:lnTo>
                          <a:pt x="201" y="96"/>
                        </a:lnTo>
                        <a:lnTo>
                          <a:pt x="197" y="96"/>
                        </a:lnTo>
                        <a:lnTo>
                          <a:pt x="193" y="97"/>
                        </a:lnTo>
                        <a:lnTo>
                          <a:pt x="188" y="97"/>
                        </a:lnTo>
                        <a:lnTo>
                          <a:pt x="184" y="99"/>
                        </a:lnTo>
                        <a:lnTo>
                          <a:pt x="179" y="100"/>
                        </a:lnTo>
                        <a:lnTo>
                          <a:pt x="174" y="103"/>
                        </a:lnTo>
                        <a:lnTo>
                          <a:pt x="168" y="103"/>
                        </a:lnTo>
                        <a:lnTo>
                          <a:pt x="162" y="105"/>
                        </a:lnTo>
                        <a:lnTo>
                          <a:pt x="156" y="107"/>
                        </a:lnTo>
                        <a:lnTo>
                          <a:pt x="150" y="108"/>
                        </a:lnTo>
                        <a:lnTo>
                          <a:pt x="144" y="110"/>
                        </a:lnTo>
                        <a:lnTo>
                          <a:pt x="138" y="112"/>
                        </a:lnTo>
                        <a:lnTo>
                          <a:pt x="130" y="114"/>
                        </a:lnTo>
                        <a:lnTo>
                          <a:pt x="126" y="116"/>
                        </a:lnTo>
                        <a:lnTo>
                          <a:pt x="118" y="118"/>
                        </a:lnTo>
                        <a:lnTo>
                          <a:pt x="112" y="119"/>
                        </a:lnTo>
                        <a:lnTo>
                          <a:pt x="106" y="121"/>
                        </a:lnTo>
                        <a:lnTo>
                          <a:pt x="100" y="122"/>
                        </a:lnTo>
                        <a:lnTo>
                          <a:pt x="93" y="123"/>
                        </a:lnTo>
                        <a:lnTo>
                          <a:pt x="87" y="125"/>
                        </a:lnTo>
                        <a:lnTo>
                          <a:pt x="81" y="126"/>
                        </a:lnTo>
                        <a:lnTo>
                          <a:pt x="77" y="127"/>
                        </a:lnTo>
                        <a:lnTo>
                          <a:pt x="72" y="127"/>
                        </a:lnTo>
                        <a:lnTo>
                          <a:pt x="67" y="129"/>
                        </a:lnTo>
                        <a:lnTo>
                          <a:pt x="63" y="129"/>
                        </a:lnTo>
                        <a:lnTo>
                          <a:pt x="60" y="130"/>
                        </a:lnTo>
                        <a:lnTo>
                          <a:pt x="54" y="130"/>
                        </a:lnTo>
                        <a:lnTo>
                          <a:pt x="51" y="129"/>
                        </a:lnTo>
                        <a:lnTo>
                          <a:pt x="48" y="129"/>
                        </a:lnTo>
                        <a:lnTo>
                          <a:pt x="46" y="130"/>
                        </a:lnTo>
                        <a:lnTo>
                          <a:pt x="43" y="130"/>
                        </a:lnTo>
                        <a:lnTo>
                          <a:pt x="40" y="133"/>
                        </a:lnTo>
                        <a:lnTo>
                          <a:pt x="35" y="134"/>
                        </a:lnTo>
                        <a:lnTo>
                          <a:pt x="31" y="134"/>
                        </a:lnTo>
                        <a:lnTo>
                          <a:pt x="26" y="137"/>
                        </a:lnTo>
                        <a:lnTo>
                          <a:pt x="23" y="138"/>
                        </a:lnTo>
                        <a:lnTo>
                          <a:pt x="17" y="140"/>
                        </a:lnTo>
                        <a:lnTo>
                          <a:pt x="14" y="141"/>
                        </a:lnTo>
                        <a:lnTo>
                          <a:pt x="9" y="143"/>
                        </a:lnTo>
                        <a:lnTo>
                          <a:pt x="6" y="144"/>
                        </a:lnTo>
                        <a:lnTo>
                          <a:pt x="0" y="147"/>
                        </a:lnTo>
                        <a:lnTo>
                          <a:pt x="0" y="149"/>
                        </a:lnTo>
                        <a:lnTo>
                          <a:pt x="3" y="149"/>
                        </a:lnTo>
                        <a:lnTo>
                          <a:pt x="6" y="149"/>
                        </a:lnTo>
                        <a:lnTo>
                          <a:pt x="11" y="149"/>
                        </a:lnTo>
                        <a:lnTo>
                          <a:pt x="14" y="149"/>
                        </a:lnTo>
                        <a:lnTo>
                          <a:pt x="18" y="149"/>
                        </a:lnTo>
                        <a:lnTo>
                          <a:pt x="22" y="149"/>
                        </a:lnTo>
                        <a:lnTo>
                          <a:pt x="26" y="149"/>
                        </a:lnTo>
                        <a:lnTo>
                          <a:pt x="29" y="149"/>
                        </a:lnTo>
                        <a:lnTo>
                          <a:pt x="126" y="132"/>
                        </a:lnTo>
                        <a:lnTo>
                          <a:pt x="234" y="125"/>
                        </a:lnTo>
                        <a:lnTo>
                          <a:pt x="188" y="138"/>
                        </a:lnTo>
                        <a:lnTo>
                          <a:pt x="191" y="143"/>
                        </a:lnTo>
                        <a:lnTo>
                          <a:pt x="199" y="140"/>
                        </a:lnTo>
                        <a:lnTo>
                          <a:pt x="207" y="138"/>
                        </a:lnTo>
                        <a:lnTo>
                          <a:pt x="214" y="136"/>
                        </a:lnTo>
                        <a:lnTo>
                          <a:pt x="222" y="134"/>
                        </a:lnTo>
                        <a:lnTo>
                          <a:pt x="230" y="133"/>
                        </a:lnTo>
                        <a:lnTo>
                          <a:pt x="237" y="130"/>
                        </a:lnTo>
                        <a:lnTo>
                          <a:pt x="243" y="129"/>
                        </a:lnTo>
                        <a:lnTo>
                          <a:pt x="253" y="127"/>
                        </a:lnTo>
                        <a:lnTo>
                          <a:pt x="260" y="126"/>
                        </a:lnTo>
                        <a:lnTo>
                          <a:pt x="268" y="125"/>
                        </a:lnTo>
                        <a:lnTo>
                          <a:pt x="274" y="122"/>
                        </a:lnTo>
                        <a:lnTo>
                          <a:pt x="283" y="121"/>
                        </a:lnTo>
                        <a:lnTo>
                          <a:pt x="291" y="119"/>
                        </a:lnTo>
                        <a:lnTo>
                          <a:pt x="298" y="118"/>
                        </a:lnTo>
                        <a:lnTo>
                          <a:pt x="306" y="116"/>
                        </a:lnTo>
                        <a:lnTo>
                          <a:pt x="314" y="115"/>
                        </a:lnTo>
                        <a:lnTo>
                          <a:pt x="321" y="114"/>
                        </a:lnTo>
                        <a:lnTo>
                          <a:pt x="329" y="112"/>
                        </a:lnTo>
                        <a:lnTo>
                          <a:pt x="337" y="112"/>
                        </a:lnTo>
                        <a:lnTo>
                          <a:pt x="344" y="111"/>
                        </a:lnTo>
                        <a:lnTo>
                          <a:pt x="352" y="110"/>
                        </a:lnTo>
                        <a:lnTo>
                          <a:pt x="360" y="108"/>
                        </a:lnTo>
                        <a:lnTo>
                          <a:pt x="367" y="107"/>
                        </a:lnTo>
                        <a:lnTo>
                          <a:pt x="373" y="107"/>
                        </a:lnTo>
                        <a:lnTo>
                          <a:pt x="381" y="105"/>
                        </a:lnTo>
                        <a:lnTo>
                          <a:pt x="387" y="105"/>
                        </a:lnTo>
                        <a:lnTo>
                          <a:pt x="395" y="104"/>
                        </a:lnTo>
                        <a:lnTo>
                          <a:pt x="402" y="103"/>
                        </a:lnTo>
                        <a:lnTo>
                          <a:pt x="409" y="103"/>
                        </a:lnTo>
                        <a:lnTo>
                          <a:pt x="416" y="103"/>
                        </a:lnTo>
                        <a:lnTo>
                          <a:pt x="422" y="101"/>
                        </a:lnTo>
                        <a:lnTo>
                          <a:pt x="430" y="101"/>
                        </a:lnTo>
                        <a:lnTo>
                          <a:pt x="436" y="100"/>
                        </a:lnTo>
                        <a:lnTo>
                          <a:pt x="442" y="100"/>
                        </a:lnTo>
                        <a:lnTo>
                          <a:pt x="448" y="99"/>
                        </a:lnTo>
                        <a:lnTo>
                          <a:pt x="456" y="99"/>
                        </a:lnTo>
                        <a:lnTo>
                          <a:pt x="462" y="97"/>
                        </a:lnTo>
                        <a:lnTo>
                          <a:pt x="468" y="97"/>
                        </a:lnTo>
                        <a:lnTo>
                          <a:pt x="474" y="96"/>
                        </a:lnTo>
                        <a:lnTo>
                          <a:pt x="480" y="96"/>
                        </a:lnTo>
                        <a:lnTo>
                          <a:pt x="487" y="96"/>
                        </a:lnTo>
                        <a:lnTo>
                          <a:pt x="491" y="96"/>
                        </a:lnTo>
                        <a:lnTo>
                          <a:pt x="497" y="95"/>
                        </a:lnTo>
                        <a:lnTo>
                          <a:pt x="503" y="95"/>
                        </a:lnTo>
                        <a:lnTo>
                          <a:pt x="508" y="95"/>
                        </a:lnTo>
                        <a:lnTo>
                          <a:pt x="513" y="95"/>
                        </a:lnTo>
                        <a:lnTo>
                          <a:pt x="517" y="95"/>
                        </a:lnTo>
                        <a:lnTo>
                          <a:pt x="523" y="95"/>
                        </a:lnTo>
                        <a:lnTo>
                          <a:pt x="528" y="95"/>
                        </a:lnTo>
                        <a:lnTo>
                          <a:pt x="532" y="95"/>
                        </a:lnTo>
                        <a:lnTo>
                          <a:pt x="537" y="95"/>
                        </a:lnTo>
                        <a:lnTo>
                          <a:pt x="542" y="95"/>
                        </a:lnTo>
                        <a:lnTo>
                          <a:pt x="545" y="95"/>
                        </a:lnTo>
                        <a:lnTo>
                          <a:pt x="548" y="95"/>
                        </a:lnTo>
                        <a:lnTo>
                          <a:pt x="552" y="95"/>
                        </a:lnTo>
                        <a:lnTo>
                          <a:pt x="555" y="95"/>
                        </a:lnTo>
                        <a:lnTo>
                          <a:pt x="561" y="95"/>
                        </a:lnTo>
                        <a:lnTo>
                          <a:pt x="569" y="96"/>
                        </a:lnTo>
                        <a:lnTo>
                          <a:pt x="574" y="96"/>
                        </a:lnTo>
                        <a:lnTo>
                          <a:pt x="578" y="97"/>
                        </a:lnTo>
                        <a:lnTo>
                          <a:pt x="572" y="97"/>
                        </a:lnTo>
                        <a:lnTo>
                          <a:pt x="566" y="99"/>
                        </a:lnTo>
                        <a:lnTo>
                          <a:pt x="560" y="99"/>
                        </a:lnTo>
                        <a:lnTo>
                          <a:pt x="555" y="100"/>
                        </a:lnTo>
                        <a:lnTo>
                          <a:pt x="549" y="100"/>
                        </a:lnTo>
                        <a:lnTo>
                          <a:pt x="543" y="101"/>
                        </a:lnTo>
                        <a:lnTo>
                          <a:pt x="539" y="101"/>
                        </a:lnTo>
                        <a:lnTo>
                          <a:pt x="534" y="103"/>
                        </a:lnTo>
                        <a:lnTo>
                          <a:pt x="528" y="103"/>
                        </a:lnTo>
                        <a:lnTo>
                          <a:pt x="523" y="104"/>
                        </a:lnTo>
                        <a:lnTo>
                          <a:pt x="517" y="104"/>
                        </a:lnTo>
                        <a:lnTo>
                          <a:pt x="514" y="105"/>
                        </a:lnTo>
                        <a:lnTo>
                          <a:pt x="508" y="105"/>
                        </a:lnTo>
                        <a:lnTo>
                          <a:pt x="505" y="107"/>
                        </a:lnTo>
                        <a:lnTo>
                          <a:pt x="499" y="107"/>
                        </a:lnTo>
                        <a:lnTo>
                          <a:pt x="496" y="108"/>
                        </a:lnTo>
                        <a:lnTo>
                          <a:pt x="491" y="108"/>
                        </a:lnTo>
                        <a:lnTo>
                          <a:pt x="487" y="108"/>
                        </a:lnTo>
                        <a:lnTo>
                          <a:pt x="480" y="110"/>
                        </a:lnTo>
                        <a:lnTo>
                          <a:pt x="477" y="110"/>
                        </a:lnTo>
                        <a:lnTo>
                          <a:pt x="473" y="111"/>
                        </a:lnTo>
                        <a:lnTo>
                          <a:pt x="468" y="111"/>
                        </a:lnTo>
                        <a:lnTo>
                          <a:pt x="464" y="112"/>
                        </a:lnTo>
                        <a:lnTo>
                          <a:pt x="459" y="112"/>
                        </a:lnTo>
                        <a:lnTo>
                          <a:pt x="456" y="112"/>
                        </a:lnTo>
                        <a:lnTo>
                          <a:pt x="451" y="114"/>
                        </a:lnTo>
                        <a:lnTo>
                          <a:pt x="447" y="114"/>
                        </a:lnTo>
                        <a:lnTo>
                          <a:pt x="442" y="115"/>
                        </a:lnTo>
                        <a:lnTo>
                          <a:pt x="439" y="115"/>
                        </a:lnTo>
                        <a:lnTo>
                          <a:pt x="435" y="116"/>
                        </a:lnTo>
                        <a:lnTo>
                          <a:pt x="430" y="116"/>
                        </a:lnTo>
                        <a:lnTo>
                          <a:pt x="427" y="118"/>
                        </a:lnTo>
                        <a:lnTo>
                          <a:pt x="422" y="118"/>
                        </a:lnTo>
                        <a:lnTo>
                          <a:pt x="418" y="119"/>
                        </a:lnTo>
                        <a:lnTo>
                          <a:pt x="413" y="119"/>
                        </a:lnTo>
                        <a:lnTo>
                          <a:pt x="410" y="121"/>
                        </a:lnTo>
                        <a:lnTo>
                          <a:pt x="405" y="121"/>
                        </a:lnTo>
                        <a:lnTo>
                          <a:pt x="401" y="121"/>
                        </a:lnTo>
                        <a:lnTo>
                          <a:pt x="396" y="122"/>
                        </a:lnTo>
                        <a:lnTo>
                          <a:pt x="393" y="123"/>
                        </a:lnTo>
                        <a:lnTo>
                          <a:pt x="389" y="123"/>
                        </a:lnTo>
                        <a:lnTo>
                          <a:pt x="384" y="125"/>
                        </a:lnTo>
                        <a:lnTo>
                          <a:pt x="379" y="125"/>
                        </a:lnTo>
                        <a:lnTo>
                          <a:pt x="375" y="126"/>
                        </a:lnTo>
                        <a:lnTo>
                          <a:pt x="370" y="126"/>
                        </a:lnTo>
                        <a:lnTo>
                          <a:pt x="367" y="127"/>
                        </a:lnTo>
                        <a:lnTo>
                          <a:pt x="363" y="127"/>
                        </a:lnTo>
                        <a:lnTo>
                          <a:pt x="358" y="130"/>
                        </a:lnTo>
                        <a:lnTo>
                          <a:pt x="353" y="130"/>
                        </a:lnTo>
                        <a:lnTo>
                          <a:pt x="349" y="132"/>
                        </a:lnTo>
                        <a:lnTo>
                          <a:pt x="344" y="132"/>
                        </a:lnTo>
                        <a:lnTo>
                          <a:pt x="340" y="133"/>
                        </a:lnTo>
                        <a:lnTo>
                          <a:pt x="335" y="134"/>
                        </a:lnTo>
                        <a:lnTo>
                          <a:pt x="331" y="136"/>
                        </a:lnTo>
                        <a:lnTo>
                          <a:pt x="326" y="137"/>
                        </a:lnTo>
                        <a:lnTo>
                          <a:pt x="321" y="138"/>
                        </a:lnTo>
                        <a:lnTo>
                          <a:pt x="315" y="140"/>
                        </a:lnTo>
                        <a:lnTo>
                          <a:pt x="311" y="140"/>
                        </a:lnTo>
                        <a:lnTo>
                          <a:pt x="305" y="141"/>
                        </a:lnTo>
                        <a:lnTo>
                          <a:pt x="300" y="144"/>
                        </a:lnTo>
                        <a:lnTo>
                          <a:pt x="295" y="144"/>
                        </a:lnTo>
                        <a:lnTo>
                          <a:pt x="289" y="147"/>
                        </a:lnTo>
                        <a:lnTo>
                          <a:pt x="285" y="148"/>
                        </a:lnTo>
                        <a:lnTo>
                          <a:pt x="280" y="149"/>
                        </a:lnTo>
                        <a:lnTo>
                          <a:pt x="282" y="149"/>
                        </a:lnTo>
                        <a:lnTo>
                          <a:pt x="285" y="149"/>
                        </a:lnTo>
                        <a:lnTo>
                          <a:pt x="288" y="149"/>
                        </a:lnTo>
                        <a:lnTo>
                          <a:pt x="291" y="151"/>
                        </a:lnTo>
                        <a:lnTo>
                          <a:pt x="294" y="151"/>
                        </a:lnTo>
                        <a:lnTo>
                          <a:pt x="297" y="152"/>
                        </a:lnTo>
                        <a:lnTo>
                          <a:pt x="298" y="152"/>
                        </a:lnTo>
                        <a:lnTo>
                          <a:pt x="297" y="154"/>
                        </a:lnTo>
                        <a:lnTo>
                          <a:pt x="308" y="151"/>
                        </a:lnTo>
                        <a:lnTo>
                          <a:pt x="318" y="148"/>
                        </a:lnTo>
                        <a:lnTo>
                          <a:pt x="329" y="145"/>
                        </a:lnTo>
                        <a:lnTo>
                          <a:pt x="340" y="144"/>
                        </a:lnTo>
                        <a:lnTo>
                          <a:pt x="350" y="140"/>
                        </a:lnTo>
                        <a:lnTo>
                          <a:pt x="361" y="138"/>
                        </a:lnTo>
                        <a:lnTo>
                          <a:pt x="372" y="136"/>
                        </a:lnTo>
                        <a:lnTo>
                          <a:pt x="384" y="134"/>
                        </a:lnTo>
                        <a:lnTo>
                          <a:pt x="395" y="132"/>
                        </a:lnTo>
                        <a:lnTo>
                          <a:pt x="404" y="130"/>
                        </a:lnTo>
                        <a:lnTo>
                          <a:pt x="415" y="127"/>
                        </a:lnTo>
                        <a:lnTo>
                          <a:pt x="427" y="126"/>
                        </a:lnTo>
                        <a:lnTo>
                          <a:pt x="438" y="125"/>
                        </a:lnTo>
                        <a:lnTo>
                          <a:pt x="448" y="123"/>
                        </a:lnTo>
                        <a:lnTo>
                          <a:pt x="459" y="121"/>
                        </a:lnTo>
                        <a:lnTo>
                          <a:pt x="470" y="121"/>
                        </a:lnTo>
                        <a:lnTo>
                          <a:pt x="480" y="118"/>
                        </a:lnTo>
                        <a:lnTo>
                          <a:pt x="491" y="116"/>
                        </a:lnTo>
                        <a:lnTo>
                          <a:pt x="502" y="115"/>
                        </a:lnTo>
                        <a:lnTo>
                          <a:pt x="513" y="114"/>
                        </a:lnTo>
                        <a:lnTo>
                          <a:pt x="523" y="112"/>
                        </a:lnTo>
                        <a:lnTo>
                          <a:pt x="535" y="111"/>
                        </a:lnTo>
                        <a:lnTo>
                          <a:pt x="545" y="110"/>
                        </a:lnTo>
                        <a:lnTo>
                          <a:pt x="557" y="108"/>
                        </a:lnTo>
                        <a:lnTo>
                          <a:pt x="568" y="107"/>
                        </a:lnTo>
                        <a:lnTo>
                          <a:pt x="578" y="107"/>
                        </a:lnTo>
                        <a:lnTo>
                          <a:pt x="589" y="105"/>
                        </a:lnTo>
                        <a:lnTo>
                          <a:pt x="600" y="105"/>
                        </a:lnTo>
                        <a:lnTo>
                          <a:pt x="610" y="104"/>
                        </a:lnTo>
                        <a:lnTo>
                          <a:pt x="621" y="103"/>
                        </a:lnTo>
                        <a:lnTo>
                          <a:pt x="633" y="103"/>
                        </a:lnTo>
                        <a:lnTo>
                          <a:pt x="644" y="101"/>
                        </a:lnTo>
                        <a:lnTo>
                          <a:pt x="655" y="100"/>
                        </a:lnTo>
                        <a:lnTo>
                          <a:pt x="666" y="100"/>
                        </a:lnTo>
                        <a:lnTo>
                          <a:pt x="676" y="99"/>
                        </a:lnTo>
                        <a:lnTo>
                          <a:pt x="687" y="99"/>
                        </a:lnTo>
                        <a:lnTo>
                          <a:pt x="698" y="97"/>
                        </a:lnTo>
                        <a:lnTo>
                          <a:pt x="710" y="96"/>
                        </a:lnTo>
                        <a:lnTo>
                          <a:pt x="721" y="96"/>
                        </a:lnTo>
                        <a:lnTo>
                          <a:pt x="731" y="96"/>
                        </a:lnTo>
                        <a:lnTo>
                          <a:pt x="742" y="95"/>
                        </a:lnTo>
                        <a:lnTo>
                          <a:pt x="753" y="95"/>
                        </a:lnTo>
                        <a:lnTo>
                          <a:pt x="763" y="93"/>
                        </a:lnTo>
                        <a:lnTo>
                          <a:pt x="776" y="93"/>
                        </a:lnTo>
                        <a:lnTo>
                          <a:pt x="785" y="93"/>
                        </a:lnTo>
                        <a:lnTo>
                          <a:pt x="797" y="93"/>
                        </a:lnTo>
                        <a:lnTo>
                          <a:pt x="808" y="92"/>
                        </a:lnTo>
                        <a:lnTo>
                          <a:pt x="818" y="92"/>
                        </a:lnTo>
                        <a:lnTo>
                          <a:pt x="831" y="92"/>
                        </a:lnTo>
                        <a:lnTo>
                          <a:pt x="841" y="90"/>
                        </a:lnTo>
                        <a:lnTo>
                          <a:pt x="852" y="90"/>
                        </a:lnTo>
                        <a:lnTo>
                          <a:pt x="863" y="90"/>
                        </a:lnTo>
                        <a:lnTo>
                          <a:pt x="874" y="90"/>
                        </a:lnTo>
                        <a:lnTo>
                          <a:pt x="884" y="89"/>
                        </a:lnTo>
                        <a:lnTo>
                          <a:pt x="896" y="89"/>
                        </a:lnTo>
                        <a:lnTo>
                          <a:pt x="907" y="89"/>
                        </a:lnTo>
                        <a:lnTo>
                          <a:pt x="918" y="88"/>
                        </a:lnTo>
                        <a:lnTo>
                          <a:pt x="929" y="88"/>
                        </a:lnTo>
                        <a:lnTo>
                          <a:pt x="941" y="88"/>
                        </a:lnTo>
                        <a:lnTo>
                          <a:pt x="952" y="88"/>
                        </a:lnTo>
                        <a:lnTo>
                          <a:pt x="964" y="86"/>
                        </a:lnTo>
                        <a:lnTo>
                          <a:pt x="975" y="86"/>
                        </a:lnTo>
                        <a:lnTo>
                          <a:pt x="985" y="86"/>
                        </a:lnTo>
                        <a:lnTo>
                          <a:pt x="997" y="86"/>
                        </a:lnTo>
                        <a:lnTo>
                          <a:pt x="1002" y="86"/>
                        </a:lnTo>
                        <a:lnTo>
                          <a:pt x="1008" y="86"/>
                        </a:lnTo>
                        <a:lnTo>
                          <a:pt x="1013" y="86"/>
                        </a:lnTo>
                        <a:lnTo>
                          <a:pt x="1019" y="88"/>
                        </a:lnTo>
                        <a:lnTo>
                          <a:pt x="1023" y="88"/>
                        </a:lnTo>
                        <a:lnTo>
                          <a:pt x="1028" y="88"/>
                        </a:lnTo>
                        <a:lnTo>
                          <a:pt x="1034" y="88"/>
                        </a:lnTo>
                        <a:lnTo>
                          <a:pt x="1040" y="88"/>
                        </a:lnTo>
                        <a:lnTo>
                          <a:pt x="1045" y="88"/>
                        </a:lnTo>
                        <a:lnTo>
                          <a:pt x="1051" y="88"/>
                        </a:lnTo>
                        <a:lnTo>
                          <a:pt x="1056" y="89"/>
                        </a:lnTo>
                        <a:lnTo>
                          <a:pt x="1062" y="89"/>
                        </a:lnTo>
                        <a:lnTo>
                          <a:pt x="1066" y="89"/>
                        </a:lnTo>
                        <a:lnTo>
                          <a:pt x="1072" y="89"/>
                        </a:lnTo>
                        <a:lnTo>
                          <a:pt x="1079" y="90"/>
                        </a:lnTo>
                        <a:lnTo>
                          <a:pt x="1085" y="90"/>
                        </a:lnTo>
                        <a:lnTo>
                          <a:pt x="1089" y="90"/>
                        </a:lnTo>
                        <a:lnTo>
                          <a:pt x="1094" y="90"/>
                        </a:lnTo>
                        <a:lnTo>
                          <a:pt x="1100" y="90"/>
                        </a:lnTo>
                        <a:lnTo>
                          <a:pt x="1105" y="92"/>
                        </a:lnTo>
                        <a:lnTo>
                          <a:pt x="1111" y="92"/>
                        </a:lnTo>
                        <a:lnTo>
                          <a:pt x="1117" y="92"/>
                        </a:lnTo>
                        <a:lnTo>
                          <a:pt x="1121" y="92"/>
                        </a:lnTo>
                        <a:lnTo>
                          <a:pt x="1127" y="93"/>
                        </a:lnTo>
                        <a:lnTo>
                          <a:pt x="1132" y="93"/>
                        </a:lnTo>
                        <a:lnTo>
                          <a:pt x="1138" y="93"/>
                        </a:lnTo>
                        <a:lnTo>
                          <a:pt x="1143" y="93"/>
                        </a:lnTo>
                        <a:lnTo>
                          <a:pt x="1149" y="93"/>
                        </a:lnTo>
                        <a:lnTo>
                          <a:pt x="1155" y="93"/>
                        </a:lnTo>
                        <a:lnTo>
                          <a:pt x="1160" y="95"/>
                        </a:lnTo>
                        <a:lnTo>
                          <a:pt x="1166" y="95"/>
                        </a:lnTo>
                        <a:lnTo>
                          <a:pt x="1172" y="96"/>
                        </a:lnTo>
                        <a:lnTo>
                          <a:pt x="1176" y="96"/>
                        </a:lnTo>
                        <a:lnTo>
                          <a:pt x="1183" y="96"/>
                        </a:lnTo>
                        <a:lnTo>
                          <a:pt x="1187" y="96"/>
                        </a:lnTo>
                        <a:lnTo>
                          <a:pt x="1193" y="96"/>
                        </a:lnTo>
                        <a:lnTo>
                          <a:pt x="1198" y="96"/>
                        </a:lnTo>
                        <a:lnTo>
                          <a:pt x="1204" y="96"/>
                        </a:lnTo>
                        <a:lnTo>
                          <a:pt x="1210" y="97"/>
                        </a:lnTo>
                        <a:lnTo>
                          <a:pt x="1215" y="97"/>
                        </a:lnTo>
                        <a:lnTo>
                          <a:pt x="1221" y="97"/>
                        </a:lnTo>
                        <a:lnTo>
                          <a:pt x="1225" y="97"/>
                        </a:lnTo>
                        <a:lnTo>
                          <a:pt x="1231" y="97"/>
                        </a:lnTo>
                        <a:lnTo>
                          <a:pt x="1238" y="99"/>
                        </a:lnTo>
                        <a:lnTo>
                          <a:pt x="1242" y="99"/>
                        </a:lnTo>
                        <a:lnTo>
                          <a:pt x="1248" y="99"/>
                        </a:lnTo>
                        <a:lnTo>
                          <a:pt x="1254" y="100"/>
                        </a:lnTo>
                        <a:lnTo>
                          <a:pt x="1259" y="100"/>
                        </a:lnTo>
                        <a:lnTo>
                          <a:pt x="1265" y="100"/>
                        </a:lnTo>
                        <a:lnTo>
                          <a:pt x="1270" y="100"/>
                        </a:lnTo>
                        <a:lnTo>
                          <a:pt x="1276" y="100"/>
                        </a:lnTo>
                        <a:lnTo>
                          <a:pt x="1282" y="100"/>
                        </a:lnTo>
                        <a:lnTo>
                          <a:pt x="1287" y="100"/>
                        </a:lnTo>
                        <a:lnTo>
                          <a:pt x="1293" y="101"/>
                        </a:lnTo>
                        <a:lnTo>
                          <a:pt x="1297" y="101"/>
                        </a:lnTo>
                        <a:lnTo>
                          <a:pt x="1303" y="101"/>
                        </a:lnTo>
                        <a:lnTo>
                          <a:pt x="1309" y="101"/>
                        </a:lnTo>
                        <a:lnTo>
                          <a:pt x="1314" y="101"/>
                        </a:lnTo>
                        <a:lnTo>
                          <a:pt x="1320" y="103"/>
                        </a:lnTo>
                        <a:lnTo>
                          <a:pt x="1326" y="103"/>
                        </a:lnTo>
                        <a:lnTo>
                          <a:pt x="1331" y="103"/>
                        </a:lnTo>
                        <a:lnTo>
                          <a:pt x="1337" y="103"/>
                        </a:lnTo>
                        <a:lnTo>
                          <a:pt x="1343" y="103"/>
                        </a:lnTo>
                        <a:lnTo>
                          <a:pt x="1348" y="104"/>
                        </a:lnTo>
                        <a:lnTo>
                          <a:pt x="1288" y="118"/>
                        </a:lnTo>
                        <a:lnTo>
                          <a:pt x="1290" y="118"/>
                        </a:lnTo>
                        <a:lnTo>
                          <a:pt x="1293" y="118"/>
                        </a:lnTo>
                        <a:lnTo>
                          <a:pt x="1296" y="118"/>
                        </a:lnTo>
                        <a:lnTo>
                          <a:pt x="1299" y="118"/>
                        </a:lnTo>
                        <a:lnTo>
                          <a:pt x="1303" y="118"/>
                        </a:lnTo>
                        <a:lnTo>
                          <a:pt x="1308" y="118"/>
                        </a:lnTo>
                        <a:lnTo>
                          <a:pt x="1313" y="118"/>
                        </a:lnTo>
                        <a:lnTo>
                          <a:pt x="1319" y="118"/>
                        </a:lnTo>
                        <a:lnTo>
                          <a:pt x="1325" y="118"/>
                        </a:lnTo>
                        <a:lnTo>
                          <a:pt x="1331" y="118"/>
                        </a:lnTo>
                        <a:lnTo>
                          <a:pt x="1339" y="118"/>
                        </a:lnTo>
                        <a:lnTo>
                          <a:pt x="1346" y="119"/>
                        </a:lnTo>
                        <a:lnTo>
                          <a:pt x="1354" y="119"/>
                        </a:lnTo>
                        <a:lnTo>
                          <a:pt x="1362" y="119"/>
                        </a:lnTo>
                        <a:lnTo>
                          <a:pt x="1369" y="119"/>
                        </a:lnTo>
                        <a:lnTo>
                          <a:pt x="1378" y="121"/>
                        </a:lnTo>
                        <a:lnTo>
                          <a:pt x="1386" y="121"/>
                        </a:lnTo>
                        <a:lnTo>
                          <a:pt x="1395" y="121"/>
                        </a:lnTo>
                        <a:lnTo>
                          <a:pt x="1406" y="121"/>
                        </a:lnTo>
                        <a:lnTo>
                          <a:pt x="1415" y="121"/>
                        </a:lnTo>
                        <a:lnTo>
                          <a:pt x="1424" y="121"/>
                        </a:lnTo>
                        <a:lnTo>
                          <a:pt x="1435" y="121"/>
                        </a:lnTo>
                        <a:lnTo>
                          <a:pt x="1444" y="121"/>
                        </a:lnTo>
                        <a:lnTo>
                          <a:pt x="1456" y="121"/>
                        </a:lnTo>
                        <a:lnTo>
                          <a:pt x="1466" y="121"/>
                        </a:lnTo>
                        <a:lnTo>
                          <a:pt x="1476" y="121"/>
                        </a:lnTo>
                        <a:lnTo>
                          <a:pt x="1487" y="121"/>
                        </a:lnTo>
                        <a:lnTo>
                          <a:pt x="1498" y="121"/>
                        </a:lnTo>
                        <a:lnTo>
                          <a:pt x="1508" y="121"/>
                        </a:lnTo>
                        <a:lnTo>
                          <a:pt x="1519" y="121"/>
                        </a:lnTo>
                        <a:lnTo>
                          <a:pt x="1531" y="121"/>
                        </a:lnTo>
                        <a:lnTo>
                          <a:pt x="1542" y="121"/>
                        </a:lnTo>
                        <a:lnTo>
                          <a:pt x="1553" y="121"/>
                        </a:lnTo>
                        <a:lnTo>
                          <a:pt x="1563" y="121"/>
                        </a:lnTo>
                        <a:lnTo>
                          <a:pt x="1574" y="121"/>
                        </a:lnTo>
                        <a:lnTo>
                          <a:pt x="1585" y="121"/>
                        </a:lnTo>
                        <a:lnTo>
                          <a:pt x="1596" y="121"/>
                        </a:lnTo>
                        <a:lnTo>
                          <a:pt x="1605" y="121"/>
                        </a:lnTo>
                        <a:lnTo>
                          <a:pt x="1615" y="121"/>
                        </a:lnTo>
                        <a:lnTo>
                          <a:pt x="1626" y="121"/>
                        </a:lnTo>
                        <a:lnTo>
                          <a:pt x="1635" y="121"/>
                        </a:lnTo>
                        <a:lnTo>
                          <a:pt x="1646" y="121"/>
                        </a:lnTo>
                        <a:lnTo>
                          <a:pt x="1655" y="121"/>
                        </a:lnTo>
                        <a:lnTo>
                          <a:pt x="1666" y="121"/>
                        </a:lnTo>
                        <a:lnTo>
                          <a:pt x="1674" y="121"/>
                        </a:lnTo>
                        <a:lnTo>
                          <a:pt x="1684" y="121"/>
                        </a:lnTo>
                        <a:lnTo>
                          <a:pt x="1692" y="121"/>
                        </a:lnTo>
                        <a:lnTo>
                          <a:pt x="1701" y="121"/>
                        </a:lnTo>
                        <a:lnTo>
                          <a:pt x="1709" y="121"/>
                        </a:lnTo>
                        <a:lnTo>
                          <a:pt x="1716" y="121"/>
                        </a:lnTo>
                        <a:lnTo>
                          <a:pt x="1723" y="119"/>
                        </a:lnTo>
                        <a:lnTo>
                          <a:pt x="1730" y="119"/>
                        </a:lnTo>
                        <a:lnTo>
                          <a:pt x="1736" y="119"/>
                        </a:lnTo>
                        <a:lnTo>
                          <a:pt x="1744" y="119"/>
                        </a:lnTo>
                        <a:lnTo>
                          <a:pt x="1749" y="119"/>
                        </a:lnTo>
                        <a:lnTo>
                          <a:pt x="1755" y="119"/>
                        </a:lnTo>
                        <a:lnTo>
                          <a:pt x="1759" y="118"/>
                        </a:lnTo>
                        <a:lnTo>
                          <a:pt x="1764" y="118"/>
                        </a:lnTo>
                        <a:lnTo>
                          <a:pt x="1767" y="118"/>
                        </a:lnTo>
                        <a:lnTo>
                          <a:pt x="1771" y="118"/>
                        </a:lnTo>
                        <a:lnTo>
                          <a:pt x="1776" y="118"/>
                        </a:lnTo>
                        <a:lnTo>
                          <a:pt x="1779" y="118"/>
                        </a:lnTo>
                        <a:lnTo>
                          <a:pt x="1775" y="116"/>
                        </a:lnTo>
                        <a:lnTo>
                          <a:pt x="1770" y="115"/>
                        </a:lnTo>
                        <a:lnTo>
                          <a:pt x="1765" y="115"/>
                        </a:lnTo>
                        <a:lnTo>
                          <a:pt x="1762" y="114"/>
                        </a:lnTo>
                        <a:lnTo>
                          <a:pt x="1758" y="114"/>
                        </a:lnTo>
                        <a:lnTo>
                          <a:pt x="1753" y="112"/>
                        </a:lnTo>
                        <a:lnTo>
                          <a:pt x="1749" y="112"/>
                        </a:lnTo>
                        <a:lnTo>
                          <a:pt x="1745" y="112"/>
                        </a:lnTo>
                        <a:lnTo>
                          <a:pt x="1741" y="112"/>
                        </a:lnTo>
                        <a:lnTo>
                          <a:pt x="1736" y="111"/>
                        </a:lnTo>
                        <a:lnTo>
                          <a:pt x="1732" y="111"/>
                        </a:lnTo>
                        <a:lnTo>
                          <a:pt x="1729" y="111"/>
                        </a:lnTo>
                        <a:lnTo>
                          <a:pt x="1724" y="111"/>
                        </a:lnTo>
                        <a:lnTo>
                          <a:pt x="1719" y="111"/>
                        </a:lnTo>
                        <a:lnTo>
                          <a:pt x="1715" y="111"/>
                        </a:lnTo>
                        <a:lnTo>
                          <a:pt x="1712" y="111"/>
                        </a:lnTo>
                        <a:lnTo>
                          <a:pt x="1707" y="110"/>
                        </a:lnTo>
                        <a:lnTo>
                          <a:pt x="1703" y="110"/>
                        </a:lnTo>
                        <a:lnTo>
                          <a:pt x="1698" y="110"/>
                        </a:lnTo>
                        <a:lnTo>
                          <a:pt x="1693" y="110"/>
                        </a:lnTo>
                        <a:lnTo>
                          <a:pt x="1687" y="108"/>
                        </a:lnTo>
                        <a:lnTo>
                          <a:pt x="1683" y="108"/>
                        </a:lnTo>
                        <a:lnTo>
                          <a:pt x="1678" y="108"/>
                        </a:lnTo>
                        <a:lnTo>
                          <a:pt x="1674" y="108"/>
                        </a:lnTo>
                        <a:lnTo>
                          <a:pt x="1667" y="108"/>
                        </a:lnTo>
                        <a:lnTo>
                          <a:pt x="1663" y="108"/>
                        </a:lnTo>
                        <a:lnTo>
                          <a:pt x="1657" y="107"/>
                        </a:lnTo>
                        <a:lnTo>
                          <a:pt x="1652" y="107"/>
                        </a:lnTo>
                        <a:lnTo>
                          <a:pt x="1648" y="107"/>
                        </a:lnTo>
                        <a:lnTo>
                          <a:pt x="1643" y="107"/>
                        </a:lnTo>
                        <a:lnTo>
                          <a:pt x="1640" y="108"/>
                        </a:lnTo>
                        <a:lnTo>
                          <a:pt x="1635" y="108"/>
                        </a:lnTo>
                        <a:lnTo>
                          <a:pt x="1640" y="107"/>
                        </a:lnTo>
                        <a:lnTo>
                          <a:pt x="1643" y="104"/>
                        </a:lnTo>
                        <a:lnTo>
                          <a:pt x="1649" y="103"/>
                        </a:lnTo>
                        <a:lnTo>
                          <a:pt x="1655" y="103"/>
                        </a:lnTo>
                        <a:lnTo>
                          <a:pt x="1660" y="101"/>
                        </a:lnTo>
                        <a:lnTo>
                          <a:pt x="1666" y="100"/>
                        </a:lnTo>
                        <a:lnTo>
                          <a:pt x="1672" y="100"/>
                        </a:lnTo>
                        <a:lnTo>
                          <a:pt x="1678" y="99"/>
                        </a:lnTo>
                        <a:lnTo>
                          <a:pt x="1683" y="97"/>
                        </a:lnTo>
                        <a:lnTo>
                          <a:pt x="1689" y="97"/>
                        </a:lnTo>
                        <a:lnTo>
                          <a:pt x="1687" y="96"/>
                        </a:lnTo>
                        <a:lnTo>
                          <a:pt x="1683" y="96"/>
                        </a:lnTo>
                        <a:lnTo>
                          <a:pt x="1680" y="96"/>
                        </a:lnTo>
                        <a:lnTo>
                          <a:pt x="1677" y="96"/>
                        </a:lnTo>
                        <a:lnTo>
                          <a:pt x="1674" y="96"/>
                        </a:lnTo>
                        <a:lnTo>
                          <a:pt x="1669" y="96"/>
                        </a:lnTo>
                        <a:lnTo>
                          <a:pt x="1664" y="96"/>
                        </a:lnTo>
                        <a:lnTo>
                          <a:pt x="1660" y="96"/>
                        </a:lnTo>
                        <a:lnTo>
                          <a:pt x="1655" y="96"/>
                        </a:lnTo>
                        <a:lnTo>
                          <a:pt x="1649" y="96"/>
                        </a:lnTo>
                        <a:lnTo>
                          <a:pt x="1644" y="96"/>
                        </a:lnTo>
                        <a:lnTo>
                          <a:pt x="1638" y="96"/>
                        </a:lnTo>
                        <a:lnTo>
                          <a:pt x="1632" y="96"/>
                        </a:lnTo>
                        <a:lnTo>
                          <a:pt x="1628" y="97"/>
                        </a:lnTo>
                        <a:lnTo>
                          <a:pt x="1622" y="97"/>
                        </a:lnTo>
                        <a:lnTo>
                          <a:pt x="1615" y="97"/>
                        </a:lnTo>
                        <a:lnTo>
                          <a:pt x="1609" y="97"/>
                        </a:lnTo>
                        <a:lnTo>
                          <a:pt x="1605" y="97"/>
                        </a:lnTo>
                        <a:lnTo>
                          <a:pt x="1599" y="97"/>
                        </a:lnTo>
                        <a:lnTo>
                          <a:pt x="1592" y="97"/>
                        </a:lnTo>
                        <a:lnTo>
                          <a:pt x="1588" y="97"/>
                        </a:lnTo>
                        <a:lnTo>
                          <a:pt x="1583" y="99"/>
                        </a:lnTo>
                        <a:lnTo>
                          <a:pt x="1577" y="99"/>
                        </a:lnTo>
                        <a:lnTo>
                          <a:pt x="1573" y="99"/>
                        </a:lnTo>
                        <a:lnTo>
                          <a:pt x="1570" y="99"/>
                        </a:lnTo>
                        <a:lnTo>
                          <a:pt x="1565" y="99"/>
                        </a:lnTo>
                        <a:lnTo>
                          <a:pt x="1559" y="99"/>
                        </a:lnTo>
                        <a:lnTo>
                          <a:pt x="1556" y="100"/>
                        </a:lnTo>
                        <a:lnTo>
                          <a:pt x="1559" y="97"/>
                        </a:lnTo>
                        <a:lnTo>
                          <a:pt x="1565" y="95"/>
                        </a:lnTo>
                        <a:lnTo>
                          <a:pt x="1566" y="93"/>
                        </a:lnTo>
                        <a:lnTo>
                          <a:pt x="1570" y="93"/>
                        </a:lnTo>
                        <a:lnTo>
                          <a:pt x="1573" y="92"/>
                        </a:lnTo>
                        <a:lnTo>
                          <a:pt x="1577" y="92"/>
                        </a:lnTo>
                        <a:lnTo>
                          <a:pt x="1580" y="90"/>
                        </a:lnTo>
                        <a:lnTo>
                          <a:pt x="1583" y="90"/>
                        </a:lnTo>
                        <a:lnTo>
                          <a:pt x="1588" y="89"/>
                        </a:lnTo>
                        <a:lnTo>
                          <a:pt x="1591" y="89"/>
                        </a:lnTo>
                        <a:lnTo>
                          <a:pt x="1596" y="89"/>
                        </a:lnTo>
                        <a:lnTo>
                          <a:pt x="1600" y="88"/>
                        </a:lnTo>
                        <a:lnTo>
                          <a:pt x="1605" y="88"/>
                        </a:lnTo>
                        <a:lnTo>
                          <a:pt x="1609" y="88"/>
                        </a:lnTo>
                        <a:lnTo>
                          <a:pt x="1614" y="88"/>
                        </a:lnTo>
                        <a:lnTo>
                          <a:pt x="1618" y="86"/>
                        </a:lnTo>
                        <a:lnTo>
                          <a:pt x="1623" y="86"/>
                        </a:lnTo>
                        <a:lnTo>
                          <a:pt x="1629" y="86"/>
                        </a:lnTo>
                        <a:lnTo>
                          <a:pt x="1634" y="85"/>
                        </a:lnTo>
                        <a:lnTo>
                          <a:pt x="1640" y="85"/>
                        </a:lnTo>
                        <a:lnTo>
                          <a:pt x="1646" y="85"/>
                        </a:lnTo>
                        <a:lnTo>
                          <a:pt x="1651" y="85"/>
                        </a:lnTo>
                        <a:lnTo>
                          <a:pt x="1657" y="85"/>
                        </a:lnTo>
                        <a:lnTo>
                          <a:pt x="1663" y="85"/>
                        </a:lnTo>
                        <a:lnTo>
                          <a:pt x="1667" y="85"/>
                        </a:lnTo>
                        <a:lnTo>
                          <a:pt x="1674" y="85"/>
                        </a:lnTo>
                        <a:lnTo>
                          <a:pt x="1680" y="85"/>
                        </a:lnTo>
                        <a:lnTo>
                          <a:pt x="1686" y="85"/>
                        </a:lnTo>
                        <a:lnTo>
                          <a:pt x="1692" y="85"/>
                        </a:lnTo>
                        <a:lnTo>
                          <a:pt x="1698" y="85"/>
                        </a:lnTo>
                        <a:lnTo>
                          <a:pt x="1704" y="84"/>
                        </a:lnTo>
                        <a:lnTo>
                          <a:pt x="1709" y="84"/>
                        </a:lnTo>
                        <a:lnTo>
                          <a:pt x="1715" y="84"/>
                        </a:lnTo>
                        <a:lnTo>
                          <a:pt x="1723" y="84"/>
                        </a:lnTo>
                        <a:lnTo>
                          <a:pt x="1727" y="84"/>
                        </a:lnTo>
                        <a:lnTo>
                          <a:pt x="1733" y="84"/>
                        </a:lnTo>
                        <a:lnTo>
                          <a:pt x="1739" y="84"/>
                        </a:lnTo>
                        <a:lnTo>
                          <a:pt x="1745" y="84"/>
                        </a:lnTo>
                        <a:lnTo>
                          <a:pt x="1752" y="84"/>
                        </a:lnTo>
                        <a:lnTo>
                          <a:pt x="1758" y="84"/>
                        </a:lnTo>
                        <a:lnTo>
                          <a:pt x="1762" y="84"/>
                        </a:lnTo>
                        <a:lnTo>
                          <a:pt x="1770" y="84"/>
                        </a:lnTo>
                        <a:lnTo>
                          <a:pt x="1775" y="84"/>
                        </a:lnTo>
                        <a:lnTo>
                          <a:pt x="1781" y="84"/>
                        </a:lnTo>
                        <a:lnTo>
                          <a:pt x="1787" y="84"/>
                        </a:lnTo>
                        <a:lnTo>
                          <a:pt x="1793" y="85"/>
                        </a:lnTo>
                        <a:lnTo>
                          <a:pt x="1797" y="84"/>
                        </a:lnTo>
                        <a:lnTo>
                          <a:pt x="1804" y="84"/>
                        </a:lnTo>
                        <a:lnTo>
                          <a:pt x="1810" y="84"/>
                        </a:lnTo>
                        <a:lnTo>
                          <a:pt x="1814" y="84"/>
                        </a:lnTo>
                        <a:lnTo>
                          <a:pt x="1820" y="84"/>
                        </a:lnTo>
                        <a:lnTo>
                          <a:pt x="1825" y="84"/>
                        </a:lnTo>
                        <a:lnTo>
                          <a:pt x="1830" y="84"/>
                        </a:lnTo>
                        <a:lnTo>
                          <a:pt x="1836" y="84"/>
                        </a:lnTo>
                        <a:lnTo>
                          <a:pt x="1840" y="84"/>
                        </a:lnTo>
                        <a:lnTo>
                          <a:pt x="1845" y="84"/>
                        </a:lnTo>
                        <a:lnTo>
                          <a:pt x="1849" y="84"/>
                        </a:lnTo>
                        <a:lnTo>
                          <a:pt x="1854" y="84"/>
                        </a:lnTo>
                        <a:lnTo>
                          <a:pt x="1859" y="84"/>
                        </a:lnTo>
                        <a:lnTo>
                          <a:pt x="1862" y="84"/>
                        </a:lnTo>
                        <a:lnTo>
                          <a:pt x="1866" y="84"/>
                        </a:lnTo>
                        <a:lnTo>
                          <a:pt x="1871" y="84"/>
                        </a:lnTo>
                        <a:lnTo>
                          <a:pt x="1868" y="81"/>
                        </a:lnTo>
                        <a:lnTo>
                          <a:pt x="1863" y="79"/>
                        </a:lnTo>
                        <a:lnTo>
                          <a:pt x="1860" y="78"/>
                        </a:lnTo>
                        <a:lnTo>
                          <a:pt x="1856" y="75"/>
                        </a:lnTo>
                        <a:lnTo>
                          <a:pt x="1853" y="74"/>
                        </a:lnTo>
                        <a:lnTo>
                          <a:pt x="1848" y="74"/>
                        </a:lnTo>
                        <a:lnTo>
                          <a:pt x="1845" y="74"/>
                        </a:lnTo>
                        <a:lnTo>
                          <a:pt x="1842" y="74"/>
                        </a:lnTo>
                        <a:lnTo>
                          <a:pt x="1839" y="73"/>
                        </a:lnTo>
                        <a:lnTo>
                          <a:pt x="1836" y="73"/>
                        </a:lnTo>
                        <a:lnTo>
                          <a:pt x="1831" y="73"/>
                        </a:lnTo>
                        <a:lnTo>
                          <a:pt x="1828" y="73"/>
                        </a:lnTo>
                        <a:lnTo>
                          <a:pt x="1822" y="73"/>
                        </a:lnTo>
                        <a:lnTo>
                          <a:pt x="1814" y="71"/>
                        </a:lnTo>
                        <a:lnTo>
                          <a:pt x="1808" y="71"/>
                        </a:lnTo>
                        <a:lnTo>
                          <a:pt x="1802" y="71"/>
                        </a:lnTo>
                        <a:lnTo>
                          <a:pt x="1794" y="70"/>
                        </a:lnTo>
                        <a:lnTo>
                          <a:pt x="1788" y="70"/>
                        </a:lnTo>
                        <a:lnTo>
                          <a:pt x="1782" y="68"/>
                        </a:lnTo>
                        <a:lnTo>
                          <a:pt x="1776" y="68"/>
                        </a:lnTo>
                        <a:lnTo>
                          <a:pt x="1768" y="68"/>
                        </a:lnTo>
                        <a:lnTo>
                          <a:pt x="1762" y="68"/>
                        </a:lnTo>
                        <a:lnTo>
                          <a:pt x="1756" y="67"/>
                        </a:lnTo>
                        <a:lnTo>
                          <a:pt x="1749" y="67"/>
                        </a:lnTo>
                        <a:lnTo>
                          <a:pt x="1742" y="66"/>
                        </a:lnTo>
                        <a:lnTo>
                          <a:pt x="1736" y="66"/>
                        </a:lnTo>
                        <a:lnTo>
                          <a:pt x="1729" y="66"/>
                        </a:lnTo>
                        <a:lnTo>
                          <a:pt x="1723" y="66"/>
                        </a:lnTo>
                        <a:lnTo>
                          <a:pt x="1716" y="64"/>
                        </a:lnTo>
                        <a:lnTo>
                          <a:pt x="1710" y="64"/>
                        </a:lnTo>
                        <a:lnTo>
                          <a:pt x="1703" y="64"/>
                        </a:lnTo>
                        <a:lnTo>
                          <a:pt x="1696" y="64"/>
                        </a:lnTo>
                        <a:lnTo>
                          <a:pt x="1693" y="63"/>
                        </a:lnTo>
                        <a:lnTo>
                          <a:pt x="1690" y="63"/>
                        </a:lnTo>
                        <a:lnTo>
                          <a:pt x="1686" y="63"/>
                        </a:lnTo>
                        <a:lnTo>
                          <a:pt x="1683" y="63"/>
                        </a:lnTo>
                        <a:lnTo>
                          <a:pt x="1677" y="63"/>
                        </a:lnTo>
                        <a:lnTo>
                          <a:pt x="1670" y="63"/>
                        </a:lnTo>
                        <a:lnTo>
                          <a:pt x="1663" y="63"/>
                        </a:lnTo>
                        <a:lnTo>
                          <a:pt x="1657" y="64"/>
                        </a:lnTo>
                        <a:lnTo>
                          <a:pt x="1649" y="64"/>
                        </a:lnTo>
                        <a:lnTo>
                          <a:pt x="1643" y="66"/>
                        </a:lnTo>
                        <a:lnTo>
                          <a:pt x="1638" y="64"/>
                        </a:lnTo>
                        <a:lnTo>
                          <a:pt x="1632" y="64"/>
                        </a:lnTo>
                        <a:lnTo>
                          <a:pt x="1628" y="63"/>
                        </a:lnTo>
                        <a:lnTo>
                          <a:pt x="1622" y="63"/>
                        </a:lnTo>
                        <a:lnTo>
                          <a:pt x="1617" y="63"/>
                        </a:lnTo>
                        <a:lnTo>
                          <a:pt x="1612" y="63"/>
                        </a:lnTo>
                        <a:lnTo>
                          <a:pt x="1606" y="62"/>
                        </a:lnTo>
                        <a:lnTo>
                          <a:pt x="1602" y="62"/>
                        </a:lnTo>
                        <a:lnTo>
                          <a:pt x="1596" y="62"/>
                        </a:lnTo>
                        <a:lnTo>
                          <a:pt x="1591" y="60"/>
                        </a:lnTo>
                        <a:lnTo>
                          <a:pt x="1586" y="60"/>
                        </a:lnTo>
                        <a:lnTo>
                          <a:pt x="1582" y="60"/>
                        </a:lnTo>
                        <a:lnTo>
                          <a:pt x="1576" y="59"/>
                        </a:lnTo>
                        <a:lnTo>
                          <a:pt x="1571" y="59"/>
                        </a:lnTo>
                        <a:lnTo>
                          <a:pt x="1565" y="59"/>
                        </a:lnTo>
                        <a:lnTo>
                          <a:pt x="1560" y="59"/>
                        </a:lnTo>
                        <a:lnTo>
                          <a:pt x="1565" y="57"/>
                        </a:lnTo>
                        <a:lnTo>
                          <a:pt x="1568" y="56"/>
                        </a:lnTo>
                        <a:lnTo>
                          <a:pt x="1573" y="56"/>
                        </a:lnTo>
                        <a:lnTo>
                          <a:pt x="1577" y="56"/>
                        </a:lnTo>
                        <a:lnTo>
                          <a:pt x="1582" y="55"/>
                        </a:lnTo>
                        <a:lnTo>
                          <a:pt x="1585" y="55"/>
                        </a:lnTo>
                        <a:lnTo>
                          <a:pt x="1589" y="55"/>
                        </a:lnTo>
                        <a:lnTo>
                          <a:pt x="1594" y="55"/>
                        </a:lnTo>
                        <a:lnTo>
                          <a:pt x="1599" y="53"/>
                        </a:lnTo>
                        <a:lnTo>
                          <a:pt x="1602" y="53"/>
                        </a:lnTo>
                        <a:lnTo>
                          <a:pt x="1606" y="53"/>
                        </a:lnTo>
                        <a:lnTo>
                          <a:pt x="1611" y="53"/>
                        </a:lnTo>
                        <a:lnTo>
                          <a:pt x="1615" y="53"/>
                        </a:lnTo>
                        <a:lnTo>
                          <a:pt x="1618" y="53"/>
                        </a:lnTo>
                        <a:lnTo>
                          <a:pt x="1623" y="53"/>
                        </a:lnTo>
                        <a:lnTo>
                          <a:pt x="1629" y="53"/>
                        </a:lnTo>
                        <a:lnTo>
                          <a:pt x="1632" y="53"/>
                        </a:lnTo>
                        <a:lnTo>
                          <a:pt x="1637" y="53"/>
                        </a:lnTo>
                        <a:lnTo>
                          <a:pt x="1641" y="53"/>
                        </a:lnTo>
                        <a:lnTo>
                          <a:pt x="1646" y="53"/>
                        </a:lnTo>
                        <a:lnTo>
                          <a:pt x="1649" y="53"/>
                        </a:lnTo>
                        <a:lnTo>
                          <a:pt x="1654" y="53"/>
                        </a:lnTo>
                        <a:lnTo>
                          <a:pt x="1658" y="53"/>
                        </a:lnTo>
                        <a:lnTo>
                          <a:pt x="1663" y="53"/>
                        </a:lnTo>
                        <a:lnTo>
                          <a:pt x="1667" y="53"/>
                        </a:lnTo>
                        <a:lnTo>
                          <a:pt x="1672" y="53"/>
                        </a:lnTo>
                        <a:lnTo>
                          <a:pt x="1677" y="53"/>
                        </a:lnTo>
                        <a:lnTo>
                          <a:pt x="1681" y="53"/>
                        </a:lnTo>
                        <a:lnTo>
                          <a:pt x="1686" y="53"/>
                        </a:lnTo>
                        <a:lnTo>
                          <a:pt x="1690" y="55"/>
                        </a:lnTo>
                        <a:lnTo>
                          <a:pt x="1695" y="55"/>
                        </a:lnTo>
                        <a:lnTo>
                          <a:pt x="1700" y="55"/>
                        </a:lnTo>
                        <a:lnTo>
                          <a:pt x="1703" y="55"/>
                        </a:lnTo>
                        <a:lnTo>
                          <a:pt x="1707" y="55"/>
                        </a:lnTo>
                        <a:lnTo>
                          <a:pt x="1712" y="55"/>
                        </a:lnTo>
                        <a:lnTo>
                          <a:pt x="1716" y="56"/>
                        </a:lnTo>
                        <a:lnTo>
                          <a:pt x="1721" y="56"/>
                        </a:lnTo>
                        <a:lnTo>
                          <a:pt x="1726" y="56"/>
                        </a:lnTo>
                        <a:lnTo>
                          <a:pt x="1729" y="56"/>
                        </a:lnTo>
                        <a:lnTo>
                          <a:pt x="1735" y="56"/>
                        </a:lnTo>
                        <a:lnTo>
                          <a:pt x="1738" y="56"/>
                        </a:lnTo>
                        <a:lnTo>
                          <a:pt x="1742" y="56"/>
                        </a:lnTo>
                        <a:lnTo>
                          <a:pt x="1747" y="56"/>
                        </a:lnTo>
                        <a:lnTo>
                          <a:pt x="1752" y="56"/>
                        </a:lnTo>
                        <a:lnTo>
                          <a:pt x="1756" y="56"/>
                        </a:lnTo>
                        <a:lnTo>
                          <a:pt x="1761" y="56"/>
                        </a:lnTo>
                        <a:lnTo>
                          <a:pt x="1765" y="56"/>
                        </a:lnTo>
                        <a:lnTo>
                          <a:pt x="1770" y="57"/>
                        </a:lnTo>
                        <a:lnTo>
                          <a:pt x="1773" y="56"/>
                        </a:lnTo>
                        <a:lnTo>
                          <a:pt x="1778" y="56"/>
                        </a:lnTo>
                        <a:lnTo>
                          <a:pt x="1782" y="56"/>
                        </a:lnTo>
                        <a:lnTo>
                          <a:pt x="1787" y="56"/>
                        </a:lnTo>
                        <a:lnTo>
                          <a:pt x="1791" y="56"/>
                        </a:lnTo>
                        <a:lnTo>
                          <a:pt x="1796" y="56"/>
                        </a:lnTo>
                        <a:lnTo>
                          <a:pt x="1801" y="56"/>
                        </a:lnTo>
                        <a:lnTo>
                          <a:pt x="1805" y="56"/>
                        </a:lnTo>
                        <a:lnTo>
                          <a:pt x="1808" y="56"/>
                        </a:lnTo>
                        <a:lnTo>
                          <a:pt x="1814" y="56"/>
                        </a:lnTo>
                        <a:lnTo>
                          <a:pt x="1817" y="55"/>
                        </a:lnTo>
                        <a:lnTo>
                          <a:pt x="1822" y="55"/>
                        </a:lnTo>
                        <a:lnTo>
                          <a:pt x="1827" y="55"/>
                        </a:lnTo>
                        <a:lnTo>
                          <a:pt x="1831" y="55"/>
                        </a:lnTo>
                        <a:lnTo>
                          <a:pt x="1836" y="53"/>
                        </a:lnTo>
                        <a:lnTo>
                          <a:pt x="1840" y="53"/>
                        </a:lnTo>
                        <a:lnTo>
                          <a:pt x="1845" y="53"/>
                        </a:lnTo>
                        <a:lnTo>
                          <a:pt x="1851" y="52"/>
                        </a:lnTo>
                        <a:lnTo>
                          <a:pt x="1856" y="52"/>
                        </a:lnTo>
                        <a:lnTo>
                          <a:pt x="1859" y="51"/>
                        </a:lnTo>
                        <a:lnTo>
                          <a:pt x="1863" y="49"/>
                        </a:lnTo>
                        <a:lnTo>
                          <a:pt x="1866" y="48"/>
                        </a:lnTo>
                        <a:lnTo>
                          <a:pt x="1865" y="46"/>
                        </a:lnTo>
                        <a:lnTo>
                          <a:pt x="1863" y="46"/>
                        </a:lnTo>
                        <a:lnTo>
                          <a:pt x="1860" y="46"/>
                        </a:lnTo>
                        <a:lnTo>
                          <a:pt x="1857" y="45"/>
                        </a:lnTo>
                        <a:lnTo>
                          <a:pt x="1853" y="45"/>
                        </a:lnTo>
                        <a:lnTo>
                          <a:pt x="1848" y="45"/>
                        </a:lnTo>
                        <a:lnTo>
                          <a:pt x="1845" y="45"/>
                        </a:lnTo>
                        <a:lnTo>
                          <a:pt x="1842" y="45"/>
                        </a:lnTo>
                        <a:lnTo>
                          <a:pt x="1839" y="45"/>
                        </a:lnTo>
                        <a:lnTo>
                          <a:pt x="1836" y="45"/>
                        </a:lnTo>
                        <a:lnTo>
                          <a:pt x="1739" y="41"/>
                        </a:lnTo>
                        <a:lnTo>
                          <a:pt x="1723" y="31"/>
                        </a:lnTo>
                        <a:lnTo>
                          <a:pt x="1718" y="33"/>
                        </a:lnTo>
                        <a:lnTo>
                          <a:pt x="1713" y="33"/>
                        </a:lnTo>
                        <a:lnTo>
                          <a:pt x="1709" y="34"/>
                        </a:lnTo>
                        <a:lnTo>
                          <a:pt x="1704" y="34"/>
                        </a:lnTo>
                        <a:lnTo>
                          <a:pt x="1698" y="34"/>
                        </a:lnTo>
                        <a:lnTo>
                          <a:pt x="1689" y="34"/>
                        </a:lnTo>
                        <a:lnTo>
                          <a:pt x="1681" y="34"/>
                        </a:lnTo>
                        <a:lnTo>
                          <a:pt x="1672" y="34"/>
                        </a:lnTo>
                        <a:lnTo>
                          <a:pt x="1663" y="34"/>
                        </a:lnTo>
                        <a:lnTo>
                          <a:pt x="1651" y="34"/>
                        </a:lnTo>
                        <a:lnTo>
                          <a:pt x="1640" y="34"/>
                        </a:lnTo>
                        <a:lnTo>
                          <a:pt x="1628" y="33"/>
                        </a:lnTo>
                        <a:lnTo>
                          <a:pt x="1615" y="33"/>
                        </a:lnTo>
                        <a:lnTo>
                          <a:pt x="1602" y="31"/>
                        </a:lnTo>
                        <a:lnTo>
                          <a:pt x="1588" y="31"/>
                        </a:lnTo>
                        <a:lnTo>
                          <a:pt x="1573" y="31"/>
                        </a:lnTo>
                        <a:lnTo>
                          <a:pt x="1559" y="31"/>
                        </a:lnTo>
                        <a:lnTo>
                          <a:pt x="1542" y="30"/>
                        </a:lnTo>
                        <a:lnTo>
                          <a:pt x="1527" y="30"/>
                        </a:lnTo>
                        <a:lnTo>
                          <a:pt x="1510" y="29"/>
                        </a:lnTo>
                        <a:lnTo>
                          <a:pt x="1495" y="29"/>
                        </a:lnTo>
                        <a:lnTo>
                          <a:pt x="1476" y="27"/>
                        </a:lnTo>
                        <a:lnTo>
                          <a:pt x="1459" y="27"/>
                        </a:lnTo>
                        <a:lnTo>
                          <a:pt x="1441" y="26"/>
                        </a:lnTo>
                        <a:lnTo>
                          <a:pt x="1424" y="26"/>
                        </a:lnTo>
                        <a:lnTo>
                          <a:pt x="1406" y="25"/>
                        </a:lnTo>
                        <a:lnTo>
                          <a:pt x="1388" y="23"/>
                        </a:lnTo>
                        <a:lnTo>
                          <a:pt x="1369" y="23"/>
                        </a:lnTo>
                        <a:lnTo>
                          <a:pt x="1352" y="23"/>
                        </a:lnTo>
                        <a:lnTo>
                          <a:pt x="1334" y="20"/>
                        </a:lnTo>
                        <a:lnTo>
                          <a:pt x="1314" y="20"/>
                        </a:lnTo>
                        <a:lnTo>
                          <a:pt x="1296" y="19"/>
                        </a:lnTo>
                        <a:lnTo>
                          <a:pt x="1279" y="19"/>
                        </a:lnTo>
                        <a:lnTo>
                          <a:pt x="1259" y="16"/>
                        </a:lnTo>
                        <a:lnTo>
                          <a:pt x="1242" y="16"/>
                        </a:lnTo>
                        <a:lnTo>
                          <a:pt x="1224" y="15"/>
                        </a:lnTo>
                        <a:lnTo>
                          <a:pt x="1207" y="15"/>
                        </a:lnTo>
                        <a:lnTo>
                          <a:pt x="1189" y="14"/>
                        </a:lnTo>
                        <a:lnTo>
                          <a:pt x="1172" y="14"/>
                        </a:lnTo>
                        <a:lnTo>
                          <a:pt x="1155" y="12"/>
                        </a:lnTo>
                        <a:lnTo>
                          <a:pt x="1138" y="11"/>
                        </a:lnTo>
                        <a:lnTo>
                          <a:pt x="1121" y="9"/>
                        </a:lnTo>
                        <a:lnTo>
                          <a:pt x="1108" y="9"/>
                        </a:lnTo>
                        <a:lnTo>
                          <a:pt x="1091" y="8"/>
                        </a:lnTo>
                        <a:lnTo>
                          <a:pt x="1077" y="8"/>
                        </a:lnTo>
                        <a:lnTo>
                          <a:pt x="1063" y="7"/>
                        </a:lnTo>
                        <a:lnTo>
                          <a:pt x="1049" y="7"/>
                        </a:lnTo>
                        <a:lnTo>
                          <a:pt x="1036" y="5"/>
                        </a:lnTo>
                        <a:lnTo>
                          <a:pt x="1025" y="5"/>
                        </a:lnTo>
                        <a:lnTo>
                          <a:pt x="1013" y="4"/>
                        </a:lnTo>
                        <a:lnTo>
                          <a:pt x="1002" y="4"/>
                        </a:lnTo>
                        <a:lnTo>
                          <a:pt x="991" y="4"/>
                        </a:lnTo>
                        <a:lnTo>
                          <a:pt x="984" y="4"/>
                        </a:lnTo>
                        <a:lnTo>
                          <a:pt x="975" y="3"/>
                        </a:lnTo>
                        <a:lnTo>
                          <a:pt x="967" y="3"/>
                        </a:lnTo>
                        <a:lnTo>
                          <a:pt x="959" y="1"/>
                        </a:lnTo>
                        <a:lnTo>
                          <a:pt x="955" y="1"/>
                        </a:lnTo>
                        <a:lnTo>
                          <a:pt x="949" y="1"/>
                        </a:lnTo>
                        <a:lnTo>
                          <a:pt x="945" y="1"/>
                        </a:lnTo>
                        <a:lnTo>
                          <a:pt x="942" y="1"/>
                        </a:lnTo>
                        <a:lnTo>
                          <a:pt x="941" y="1"/>
                        </a:lnTo>
                        <a:lnTo>
                          <a:pt x="936" y="1"/>
                        </a:lnTo>
                        <a:lnTo>
                          <a:pt x="930" y="1"/>
                        </a:lnTo>
                        <a:lnTo>
                          <a:pt x="924" y="1"/>
                        </a:lnTo>
                        <a:lnTo>
                          <a:pt x="919" y="1"/>
                        </a:lnTo>
                        <a:lnTo>
                          <a:pt x="913" y="1"/>
                        </a:lnTo>
                        <a:lnTo>
                          <a:pt x="907" y="1"/>
                        </a:lnTo>
                        <a:lnTo>
                          <a:pt x="901" y="1"/>
                        </a:lnTo>
                        <a:lnTo>
                          <a:pt x="896" y="1"/>
                        </a:lnTo>
                        <a:lnTo>
                          <a:pt x="892" y="1"/>
                        </a:lnTo>
                        <a:lnTo>
                          <a:pt x="886" y="1"/>
                        </a:lnTo>
                        <a:lnTo>
                          <a:pt x="880" y="1"/>
                        </a:lnTo>
                        <a:lnTo>
                          <a:pt x="875" y="1"/>
                        </a:lnTo>
                        <a:lnTo>
                          <a:pt x="869" y="1"/>
                        </a:lnTo>
                        <a:lnTo>
                          <a:pt x="863" y="1"/>
                        </a:lnTo>
                        <a:lnTo>
                          <a:pt x="858" y="1"/>
                        </a:lnTo>
                        <a:lnTo>
                          <a:pt x="852" y="1"/>
                        </a:lnTo>
                        <a:lnTo>
                          <a:pt x="846" y="0"/>
                        </a:lnTo>
                        <a:lnTo>
                          <a:pt x="840" y="0"/>
                        </a:lnTo>
                        <a:lnTo>
                          <a:pt x="834" y="0"/>
                        </a:lnTo>
                        <a:lnTo>
                          <a:pt x="828" y="0"/>
                        </a:lnTo>
                        <a:lnTo>
                          <a:pt x="822" y="0"/>
                        </a:lnTo>
                        <a:lnTo>
                          <a:pt x="815" y="0"/>
                        </a:lnTo>
                        <a:lnTo>
                          <a:pt x="811" y="0"/>
                        </a:lnTo>
                        <a:lnTo>
                          <a:pt x="805" y="0"/>
                        </a:lnTo>
                        <a:lnTo>
                          <a:pt x="799" y="0"/>
                        </a:lnTo>
                        <a:lnTo>
                          <a:pt x="792" y="0"/>
                        </a:lnTo>
                        <a:lnTo>
                          <a:pt x="788" y="0"/>
                        </a:lnTo>
                        <a:lnTo>
                          <a:pt x="782" y="0"/>
                        </a:lnTo>
                        <a:lnTo>
                          <a:pt x="776" y="0"/>
                        </a:lnTo>
                        <a:lnTo>
                          <a:pt x="770" y="0"/>
                        </a:lnTo>
                        <a:lnTo>
                          <a:pt x="765" y="0"/>
                        </a:lnTo>
                        <a:lnTo>
                          <a:pt x="759" y="0"/>
                        </a:lnTo>
                        <a:lnTo>
                          <a:pt x="753" y="0"/>
                        </a:lnTo>
                        <a:lnTo>
                          <a:pt x="747" y="0"/>
                        </a:lnTo>
                        <a:lnTo>
                          <a:pt x="740" y="0"/>
                        </a:lnTo>
                        <a:lnTo>
                          <a:pt x="734" y="0"/>
                        </a:lnTo>
                        <a:lnTo>
                          <a:pt x="728" y="0"/>
                        </a:lnTo>
                        <a:lnTo>
                          <a:pt x="724" y="0"/>
                        </a:lnTo>
                        <a:lnTo>
                          <a:pt x="718" y="0"/>
                        </a:lnTo>
                        <a:lnTo>
                          <a:pt x="711" y="0"/>
                        </a:lnTo>
                        <a:lnTo>
                          <a:pt x="705" y="0"/>
                        </a:lnTo>
                        <a:lnTo>
                          <a:pt x="699" y="0"/>
                        </a:lnTo>
                        <a:lnTo>
                          <a:pt x="693" y="0"/>
                        </a:lnTo>
                        <a:lnTo>
                          <a:pt x="688" y="1"/>
                        </a:lnTo>
                        <a:lnTo>
                          <a:pt x="682" y="1"/>
                        </a:lnTo>
                        <a:lnTo>
                          <a:pt x="676" y="1"/>
                        </a:lnTo>
                        <a:lnTo>
                          <a:pt x="672" y="3"/>
                        </a:lnTo>
                        <a:lnTo>
                          <a:pt x="666" y="3"/>
                        </a:lnTo>
                        <a:lnTo>
                          <a:pt x="659" y="3"/>
                        </a:lnTo>
                        <a:lnTo>
                          <a:pt x="653" y="3"/>
                        </a:lnTo>
                        <a:lnTo>
                          <a:pt x="649" y="4"/>
                        </a:lnTo>
                        <a:lnTo>
                          <a:pt x="643" y="4"/>
                        </a:lnTo>
                        <a:lnTo>
                          <a:pt x="636" y="4"/>
                        </a:lnTo>
                        <a:lnTo>
                          <a:pt x="630" y="4"/>
                        </a:lnTo>
                        <a:lnTo>
                          <a:pt x="626" y="5"/>
                        </a:lnTo>
                        <a:lnTo>
                          <a:pt x="621" y="7"/>
                        </a:lnTo>
                        <a:lnTo>
                          <a:pt x="615" y="7"/>
                        </a:lnTo>
                        <a:lnTo>
                          <a:pt x="609" y="8"/>
                        </a:lnTo>
                        <a:lnTo>
                          <a:pt x="604" y="8"/>
                        </a:lnTo>
                        <a:lnTo>
                          <a:pt x="598" y="9"/>
                        </a:lnTo>
                        <a:lnTo>
                          <a:pt x="594" y="9"/>
                        </a:lnTo>
                        <a:lnTo>
                          <a:pt x="588" y="11"/>
                        </a:lnTo>
                        <a:lnTo>
                          <a:pt x="583" y="12"/>
                        </a:lnTo>
                        <a:lnTo>
                          <a:pt x="578" y="14"/>
                        </a:lnTo>
                        <a:lnTo>
                          <a:pt x="575" y="14"/>
                        </a:lnTo>
                        <a:lnTo>
                          <a:pt x="572" y="14"/>
                        </a:lnTo>
                        <a:lnTo>
                          <a:pt x="566" y="15"/>
                        </a:lnTo>
                        <a:lnTo>
                          <a:pt x="561" y="15"/>
                        </a:lnTo>
                        <a:lnTo>
                          <a:pt x="557" y="15"/>
                        </a:lnTo>
                        <a:lnTo>
                          <a:pt x="554" y="15"/>
                        </a:lnTo>
                        <a:lnTo>
                          <a:pt x="549" y="16"/>
                        </a:lnTo>
                        <a:lnTo>
                          <a:pt x="546" y="16"/>
                        </a:lnTo>
                        <a:lnTo>
                          <a:pt x="543" y="16"/>
                        </a:lnTo>
                        <a:lnTo>
                          <a:pt x="539" y="16"/>
                        </a:lnTo>
                        <a:lnTo>
                          <a:pt x="535" y="16"/>
                        </a:lnTo>
                        <a:lnTo>
                          <a:pt x="531" y="18"/>
                        </a:lnTo>
                        <a:lnTo>
                          <a:pt x="528" y="18"/>
                        </a:lnTo>
                        <a:lnTo>
                          <a:pt x="523" y="18"/>
                        </a:lnTo>
                        <a:lnTo>
                          <a:pt x="520" y="18"/>
                        </a:lnTo>
                        <a:lnTo>
                          <a:pt x="516" y="18"/>
                        </a:lnTo>
                        <a:lnTo>
                          <a:pt x="513" y="18"/>
                        </a:lnTo>
                        <a:lnTo>
                          <a:pt x="508" y="18"/>
                        </a:lnTo>
                        <a:lnTo>
                          <a:pt x="505" y="18"/>
                        </a:lnTo>
                        <a:lnTo>
                          <a:pt x="503" y="19"/>
                        </a:lnTo>
                        <a:lnTo>
                          <a:pt x="497" y="18"/>
                        </a:lnTo>
                        <a:lnTo>
                          <a:pt x="493" y="18"/>
                        </a:lnTo>
                        <a:lnTo>
                          <a:pt x="490" y="18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168"/>
                  <p:cNvSpPr/>
                  <p:nvPr/>
                </p:nvSpPr>
                <p:spPr>
                  <a:xfrm>
                    <a:off x="4173480" y="3236040"/>
                    <a:ext cx="41760" cy="144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288" h="14">
                        <a:moveTo>
                          <a:pt x="286" y="0"/>
                        </a:moveTo>
                        <a:lnTo>
                          <a:pt x="280" y="0"/>
                        </a:lnTo>
                        <a:lnTo>
                          <a:pt x="274" y="0"/>
                        </a:lnTo>
                        <a:lnTo>
                          <a:pt x="268" y="0"/>
                        </a:lnTo>
                        <a:lnTo>
                          <a:pt x="263" y="0"/>
                        </a:lnTo>
                        <a:lnTo>
                          <a:pt x="257" y="0"/>
                        </a:lnTo>
                        <a:lnTo>
                          <a:pt x="251" y="0"/>
                        </a:lnTo>
                        <a:lnTo>
                          <a:pt x="245" y="0"/>
                        </a:lnTo>
                        <a:lnTo>
                          <a:pt x="240" y="0"/>
                        </a:lnTo>
                        <a:lnTo>
                          <a:pt x="233" y="0"/>
                        </a:lnTo>
                        <a:lnTo>
                          <a:pt x="228" y="0"/>
                        </a:lnTo>
                        <a:lnTo>
                          <a:pt x="222" y="0"/>
                        </a:lnTo>
                        <a:lnTo>
                          <a:pt x="216" y="0"/>
                        </a:lnTo>
                        <a:lnTo>
                          <a:pt x="210" y="0"/>
                        </a:lnTo>
                        <a:lnTo>
                          <a:pt x="205" y="2"/>
                        </a:lnTo>
                        <a:lnTo>
                          <a:pt x="199" y="2"/>
                        </a:lnTo>
                        <a:lnTo>
                          <a:pt x="193" y="2"/>
                        </a:lnTo>
                        <a:lnTo>
                          <a:pt x="187" y="2"/>
                        </a:lnTo>
                        <a:lnTo>
                          <a:pt x="181" y="2"/>
                        </a:lnTo>
                        <a:lnTo>
                          <a:pt x="174" y="3"/>
                        </a:lnTo>
                        <a:lnTo>
                          <a:pt x="170" y="3"/>
                        </a:lnTo>
                        <a:lnTo>
                          <a:pt x="164" y="3"/>
                        </a:lnTo>
                        <a:lnTo>
                          <a:pt x="158" y="3"/>
                        </a:lnTo>
                        <a:lnTo>
                          <a:pt x="152" y="3"/>
                        </a:lnTo>
                        <a:lnTo>
                          <a:pt x="145" y="4"/>
                        </a:lnTo>
                        <a:lnTo>
                          <a:pt x="139" y="4"/>
                        </a:lnTo>
                        <a:lnTo>
                          <a:pt x="135" y="4"/>
                        </a:lnTo>
                        <a:lnTo>
                          <a:pt x="127" y="4"/>
                        </a:lnTo>
                        <a:lnTo>
                          <a:pt x="122" y="6"/>
                        </a:lnTo>
                        <a:lnTo>
                          <a:pt x="116" y="6"/>
                        </a:lnTo>
                        <a:lnTo>
                          <a:pt x="110" y="6"/>
                        </a:lnTo>
                        <a:lnTo>
                          <a:pt x="104" y="6"/>
                        </a:lnTo>
                        <a:lnTo>
                          <a:pt x="100" y="6"/>
                        </a:lnTo>
                        <a:lnTo>
                          <a:pt x="31" y="8"/>
                        </a:lnTo>
                        <a:lnTo>
                          <a:pt x="11" y="11"/>
                        </a:lnTo>
                        <a:lnTo>
                          <a:pt x="3" y="11"/>
                        </a:lnTo>
                        <a:lnTo>
                          <a:pt x="2" y="11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6" y="14"/>
                        </a:lnTo>
                        <a:lnTo>
                          <a:pt x="9" y="14"/>
                        </a:lnTo>
                        <a:lnTo>
                          <a:pt x="14" y="14"/>
                        </a:lnTo>
                        <a:lnTo>
                          <a:pt x="17" y="14"/>
                        </a:lnTo>
                        <a:lnTo>
                          <a:pt x="22" y="14"/>
                        </a:lnTo>
                        <a:lnTo>
                          <a:pt x="25" y="12"/>
                        </a:lnTo>
                        <a:lnTo>
                          <a:pt x="28" y="12"/>
                        </a:lnTo>
                        <a:lnTo>
                          <a:pt x="31" y="12"/>
                        </a:lnTo>
                        <a:lnTo>
                          <a:pt x="35" y="12"/>
                        </a:lnTo>
                        <a:lnTo>
                          <a:pt x="40" y="12"/>
                        </a:lnTo>
                        <a:lnTo>
                          <a:pt x="43" y="12"/>
                        </a:lnTo>
                        <a:lnTo>
                          <a:pt x="48" y="12"/>
                        </a:lnTo>
                        <a:lnTo>
                          <a:pt x="54" y="12"/>
                        </a:lnTo>
                        <a:lnTo>
                          <a:pt x="58" y="12"/>
                        </a:lnTo>
                        <a:lnTo>
                          <a:pt x="64" y="12"/>
                        </a:lnTo>
                        <a:lnTo>
                          <a:pt x="69" y="12"/>
                        </a:lnTo>
                        <a:lnTo>
                          <a:pt x="75" y="12"/>
                        </a:lnTo>
                        <a:lnTo>
                          <a:pt x="80" y="12"/>
                        </a:lnTo>
                        <a:lnTo>
                          <a:pt x="86" y="12"/>
                        </a:lnTo>
                        <a:lnTo>
                          <a:pt x="90" y="11"/>
                        </a:lnTo>
                        <a:lnTo>
                          <a:pt x="96" y="11"/>
                        </a:lnTo>
                        <a:lnTo>
                          <a:pt x="101" y="11"/>
                        </a:lnTo>
                        <a:lnTo>
                          <a:pt x="107" y="11"/>
                        </a:lnTo>
                        <a:lnTo>
                          <a:pt x="112" y="11"/>
                        </a:lnTo>
                        <a:lnTo>
                          <a:pt x="118" y="11"/>
                        </a:lnTo>
                        <a:lnTo>
                          <a:pt x="122" y="11"/>
                        </a:lnTo>
                        <a:lnTo>
                          <a:pt x="129" y="11"/>
                        </a:lnTo>
                        <a:lnTo>
                          <a:pt x="135" y="11"/>
                        </a:lnTo>
                        <a:lnTo>
                          <a:pt x="139" y="11"/>
                        </a:lnTo>
                        <a:lnTo>
                          <a:pt x="144" y="10"/>
                        </a:lnTo>
                        <a:lnTo>
                          <a:pt x="150" y="10"/>
                        </a:lnTo>
                        <a:lnTo>
                          <a:pt x="155" y="10"/>
                        </a:lnTo>
                        <a:lnTo>
                          <a:pt x="161" y="10"/>
                        </a:lnTo>
                        <a:lnTo>
                          <a:pt x="165" y="10"/>
                        </a:lnTo>
                        <a:lnTo>
                          <a:pt x="171" y="10"/>
                        </a:lnTo>
                        <a:lnTo>
                          <a:pt x="176" y="8"/>
                        </a:lnTo>
                        <a:lnTo>
                          <a:pt x="182" y="8"/>
                        </a:lnTo>
                        <a:lnTo>
                          <a:pt x="187" y="8"/>
                        </a:lnTo>
                        <a:lnTo>
                          <a:pt x="193" y="8"/>
                        </a:lnTo>
                        <a:lnTo>
                          <a:pt x="199" y="8"/>
                        </a:lnTo>
                        <a:lnTo>
                          <a:pt x="204" y="8"/>
                        </a:lnTo>
                        <a:lnTo>
                          <a:pt x="210" y="8"/>
                        </a:lnTo>
                        <a:lnTo>
                          <a:pt x="216" y="8"/>
                        </a:lnTo>
                        <a:lnTo>
                          <a:pt x="219" y="8"/>
                        </a:lnTo>
                        <a:lnTo>
                          <a:pt x="223" y="8"/>
                        </a:lnTo>
                        <a:lnTo>
                          <a:pt x="226" y="8"/>
                        </a:lnTo>
                        <a:lnTo>
                          <a:pt x="230" y="8"/>
                        </a:lnTo>
                        <a:lnTo>
                          <a:pt x="234" y="8"/>
                        </a:lnTo>
                        <a:lnTo>
                          <a:pt x="237" y="8"/>
                        </a:lnTo>
                        <a:lnTo>
                          <a:pt x="242" y="8"/>
                        </a:lnTo>
                        <a:lnTo>
                          <a:pt x="246" y="8"/>
                        </a:lnTo>
                        <a:lnTo>
                          <a:pt x="249" y="8"/>
                        </a:lnTo>
                        <a:lnTo>
                          <a:pt x="254" y="8"/>
                        </a:lnTo>
                        <a:lnTo>
                          <a:pt x="257" y="8"/>
                        </a:lnTo>
                        <a:lnTo>
                          <a:pt x="262" y="8"/>
                        </a:lnTo>
                        <a:lnTo>
                          <a:pt x="265" y="8"/>
                        </a:lnTo>
                        <a:lnTo>
                          <a:pt x="269" y="8"/>
                        </a:lnTo>
                        <a:lnTo>
                          <a:pt x="274" y="8"/>
                        </a:lnTo>
                        <a:lnTo>
                          <a:pt x="279" y="8"/>
                        </a:lnTo>
                        <a:lnTo>
                          <a:pt x="282" y="7"/>
                        </a:lnTo>
                        <a:lnTo>
                          <a:pt x="285" y="4"/>
                        </a:lnTo>
                        <a:lnTo>
                          <a:pt x="288" y="2"/>
                        </a:lnTo>
                        <a:lnTo>
                          <a:pt x="286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169"/>
                  <p:cNvSpPr/>
                  <p:nvPr/>
                </p:nvSpPr>
                <p:spPr>
                  <a:xfrm>
                    <a:off x="4246200" y="3241440"/>
                    <a:ext cx="35640" cy="324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248" h="25">
                        <a:moveTo>
                          <a:pt x="248" y="25"/>
                        </a:moveTo>
                        <a:lnTo>
                          <a:pt x="244" y="25"/>
                        </a:lnTo>
                        <a:lnTo>
                          <a:pt x="237" y="25"/>
                        </a:lnTo>
                        <a:lnTo>
                          <a:pt x="233" y="23"/>
                        </a:lnTo>
                        <a:lnTo>
                          <a:pt x="227" y="23"/>
                        </a:lnTo>
                        <a:lnTo>
                          <a:pt x="224" y="22"/>
                        </a:lnTo>
                        <a:lnTo>
                          <a:pt x="219" y="22"/>
                        </a:lnTo>
                        <a:lnTo>
                          <a:pt x="216" y="22"/>
                        </a:lnTo>
                        <a:lnTo>
                          <a:pt x="213" y="22"/>
                        </a:lnTo>
                        <a:lnTo>
                          <a:pt x="208" y="21"/>
                        </a:lnTo>
                        <a:lnTo>
                          <a:pt x="205" y="21"/>
                        </a:lnTo>
                        <a:lnTo>
                          <a:pt x="201" y="21"/>
                        </a:lnTo>
                        <a:lnTo>
                          <a:pt x="198" y="21"/>
                        </a:lnTo>
                        <a:lnTo>
                          <a:pt x="193" y="21"/>
                        </a:lnTo>
                        <a:lnTo>
                          <a:pt x="188" y="19"/>
                        </a:lnTo>
                        <a:lnTo>
                          <a:pt x="184" y="19"/>
                        </a:lnTo>
                        <a:lnTo>
                          <a:pt x="179" y="19"/>
                        </a:lnTo>
                        <a:lnTo>
                          <a:pt x="175" y="18"/>
                        </a:lnTo>
                        <a:lnTo>
                          <a:pt x="172" y="18"/>
                        </a:lnTo>
                        <a:lnTo>
                          <a:pt x="166" y="18"/>
                        </a:lnTo>
                        <a:lnTo>
                          <a:pt x="162" y="18"/>
                        </a:lnTo>
                        <a:lnTo>
                          <a:pt x="158" y="16"/>
                        </a:lnTo>
                        <a:lnTo>
                          <a:pt x="153" y="16"/>
                        </a:lnTo>
                        <a:lnTo>
                          <a:pt x="149" y="15"/>
                        </a:lnTo>
                        <a:lnTo>
                          <a:pt x="144" y="15"/>
                        </a:lnTo>
                        <a:lnTo>
                          <a:pt x="138" y="15"/>
                        </a:lnTo>
                        <a:lnTo>
                          <a:pt x="135" y="15"/>
                        </a:lnTo>
                        <a:lnTo>
                          <a:pt x="129" y="15"/>
                        </a:lnTo>
                        <a:lnTo>
                          <a:pt x="124" y="15"/>
                        </a:lnTo>
                        <a:lnTo>
                          <a:pt x="120" y="14"/>
                        </a:lnTo>
                        <a:lnTo>
                          <a:pt x="115" y="14"/>
                        </a:lnTo>
                        <a:lnTo>
                          <a:pt x="110" y="12"/>
                        </a:lnTo>
                        <a:lnTo>
                          <a:pt x="106" y="12"/>
                        </a:lnTo>
                        <a:lnTo>
                          <a:pt x="100" y="12"/>
                        </a:lnTo>
                        <a:lnTo>
                          <a:pt x="97" y="12"/>
                        </a:lnTo>
                        <a:lnTo>
                          <a:pt x="91" y="11"/>
                        </a:lnTo>
                        <a:lnTo>
                          <a:pt x="86" y="11"/>
                        </a:lnTo>
                        <a:lnTo>
                          <a:pt x="81" y="11"/>
                        </a:lnTo>
                        <a:lnTo>
                          <a:pt x="77" y="10"/>
                        </a:lnTo>
                        <a:lnTo>
                          <a:pt x="72" y="10"/>
                        </a:lnTo>
                        <a:lnTo>
                          <a:pt x="68" y="10"/>
                        </a:lnTo>
                        <a:lnTo>
                          <a:pt x="63" y="8"/>
                        </a:lnTo>
                        <a:lnTo>
                          <a:pt x="58" y="8"/>
                        </a:lnTo>
                        <a:lnTo>
                          <a:pt x="55" y="8"/>
                        </a:lnTo>
                        <a:lnTo>
                          <a:pt x="52" y="8"/>
                        </a:lnTo>
                        <a:lnTo>
                          <a:pt x="48" y="8"/>
                        </a:lnTo>
                        <a:lnTo>
                          <a:pt x="43" y="7"/>
                        </a:lnTo>
                        <a:lnTo>
                          <a:pt x="39" y="7"/>
                        </a:lnTo>
                        <a:lnTo>
                          <a:pt x="35" y="7"/>
                        </a:lnTo>
                        <a:lnTo>
                          <a:pt x="32" y="5"/>
                        </a:lnTo>
                        <a:lnTo>
                          <a:pt x="28" y="5"/>
                        </a:lnTo>
                        <a:lnTo>
                          <a:pt x="25" y="5"/>
                        </a:lnTo>
                        <a:lnTo>
                          <a:pt x="22" y="5"/>
                        </a:lnTo>
                        <a:lnTo>
                          <a:pt x="16" y="5"/>
                        </a:lnTo>
                        <a:lnTo>
                          <a:pt x="9" y="5"/>
                        </a:lnTo>
                        <a:lnTo>
                          <a:pt x="5" y="4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13" y="4"/>
                        </a:lnTo>
                        <a:lnTo>
                          <a:pt x="19" y="4"/>
                        </a:lnTo>
                        <a:lnTo>
                          <a:pt x="20" y="3"/>
                        </a:lnTo>
                        <a:lnTo>
                          <a:pt x="23" y="3"/>
                        </a:lnTo>
                        <a:lnTo>
                          <a:pt x="26" y="3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7" y="3"/>
                        </a:lnTo>
                        <a:lnTo>
                          <a:pt x="42" y="3"/>
                        </a:lnTo>
                        <a:lnTo>
                          <a:pt x="45" y="3"/>
                        </a:lnTo>
                        <a:lnTo>
                          <a:pt x="49" y="3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60" y="3"/>
                        </a:lnTo>
                        <a:lnTo>
                          <a:pt x="63" y="3"/>
                        </a:lnTo>
                        <a:lnTo>
                          <a:pt x="68" y="3"/>
                        </a:lnTo>
                        <a:lnTo>
                          <a:pt x="72" y="3"/>
                        </a:lnTo>
                        <a:lnTo>
                          <a:pt x="77" y="3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91" y="1"/>
                        </a:lnTo>
                        <a:lnTo>
                          <a:pt x="95" y="1"/>
                        </a:lnTo>
                        <a:lnTo>
                          <a:pt x="100" y="1"/>
                        </a:lnTo>
                        <a:lnTo>
                          <a:pt x="104" y="1"/>
                        </a:lnTo>
                        <a:lnTo>
                          <a:pt x="109" y="1"/>
                        </a:lnTo>
                        <a:lnTo>
                          <a:pt x="113" y="1"/>
                        </a:lnTo>
                        <a:lnTo>
                          <a:pt x="118" y="1"/>
                        </a:lnTo>
                        <a:lnTo>
                          <a:pt x="123" y="1"/>
                        </a:lnTo>
                        <a:lnTo>
                          <a:pt x="126" y="1"/>
                        </a:lnTo>
                        <a:lnTo>
                          <a:pt x="132" y="1"/>
                        </a:lnTo>
                        <a:lnTo>
                          <a:pt x="135" y="0"/>
                        </a:lnTo>
                        <a:lnTo>
                          <a:pt x="140" y="0"/>
                        </a:lnTo>
                        <a:lnTo>
                          <a:pt x="144" y="0"/>
                        </a:lnTo>
                        <a:lnTo>
                          <a:pt x="149" y="0"/>
                        </a:lnTo>
                        <a:lnTo>
                          <a:pt x="152" y="0"/>
                        </a:lnTo>
                        <a:lnTo>
                          <a:pt x="156" y="0"/>
                        </a:lnTo>
                        <a:lnTo>
                          <a:pt x="161" y="0"/>
                        </a:lnTo>
                        <a:lnTo>
                          <a:pt x="166" y="0"/>
                        </a:lnTo>
                        <a:lnTo>
                          <a:pt x="169" y="0"/>
                        </a:lnTo>
                        <a:lnTo>
                          <a:pt x="173" y="0"/>
                        </a:lnTo>
                        <a:lnTo>
                          <a:pt x="178" y="0"/>
                        </a:lnTo>
                        <a:lnTo>
                          <a:pt x="182" y="0"/>
                        </a:lnTo>
                        <a:lnTo>
                          <a:pt x="185" y="0"/>
                        </a:lnTo>
                        <a:lnTo>
                          <a:pt x="188" y="0"/>
                        </a:lnTo>
                        <a:lnTo>
                          <a:pt x="192" y="0"/>
                        </a:lnTo>
                        <a:lnTo>
                          <a:pt x="196" y="0"/>
                        </a:lnTo>
                        <a:lnTo>
                          <a:pt x="202" y="0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8" y="1"/>
                        </a:lnTo>
                        <a:lnTo>
                          <a:pt x="221" y="1"/>
                        </a:lnTo>
                        <a:lnTo>
                          <a:pt x="225" y="3"/>
                        </a:lnTo>
                        <a:lnTo>
                          <a:pt x="230" y="3"/>
                        </a:lnTo>
                        <a:lnTo>
                          <a:pt x="233" y="5"/>
                        </a:lnTo>
                        <a:lnTo>
                          <a:pt x="234" y="8"/>
                        </a:lnTo>
                        <a:lnTo>
                          <a:pt x="237" y="12"/>
                        </a:lnTo>
                        <a:lnTo>
                          <a:pt x="239" y="16"/>
                        </a:lnTo>
                        <a:lnTo>
                          <a:pt x="240" y="19"/>
                        </a:lnTo>
                        <a:lnTo>
                          <a:pt x="244" y="22"/>
                        </a:lnTo>
                        <a:lnTo>
                          <a:pt x="248" y="2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170"/>
                  <p:cNvSpPr/>
                  <p:nvPr/>
                </p:nvSpPr>
                <p:spPr>
                  <a:xfrm>
                    <a:off x="4177080" y="3243240"/>
                    <a:ext cx="4680" cy="72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35" h="8">
                        <a:moveTo>
                          <a:pt x="8" y="1"/>
                        </a:moveTo>
                        <a:lnTo>
                          <a:pt x="0" y="8"/>
                        </a:lnTo>
                        <a:lnTo>
                          <a:pt x="3" y="7"/>
                        </a:lnTo>
                        <a:lnTo>
                          <a:pt x="6" y="6"/>
                        </a:lnTo>
                        <a:lnTo>
                          <a:pt x="9" y="6"/>
                        </a:lnTo>
                        <a:lnTo>
                          <a:pt x="12" y="6"/>
                        </a:lnTo>
                        <a:lnTo>
                          <a:pt x="18" y="6"/>
                        </a:lnTo>
                        <a:lnTo>
                          <a:pt x="23" y="6"/>
                        </a:lnTo>
                        <a:lnTo>
                          <a:pt x="28" y="6"/>
                        </a:lnTo>
                        <a:lnTo>
                          <a:pt x="32" y="6"/>
                        </a:lnTo>
                        <a:lnTo>
                          <a:pt x="35" y="4"/>
                        </a:lnTo>
                        <a:lnTo>
                          <a:pt x="34" y="3"/>
                        </a:lnTo>
                        <a:lnTo>
                          <a:pt x="31" y="3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8" y="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171"/>
                  <p:cNvSpPr/>
                  <p:nvPr/>
                </p:nvSpPr>
                <p:spPr>
                  <a:xfrm>
                    <a:off x="4174920" y="3191760"/>
                    <a:ext cx="37800" cy="180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264" h="14">
                        <a:moveTo>
                          <a:pt x="255" y="7"/>
                        </a:moveTo>
                        <a:lnTo>
                          <a:pt x="258" y="6"/>
                        </a:lnTo>
                        <a:lnTo>
                          <a:pt x="263" y="4"/>
                        </a:lnTo>
                        <a:lnTo>
                          <a:pt x="264" y="0"/>
                        </a:lnTo>
                        <a:lnTo>
                          <a:pt x="263" y="0"/>
                        </a:lnTo>
                        <a:lnTo>
                          <a:pt x="260" y="0"/>
                        </a:lnTo>
                        <a:lnTo>
                          <a:pt x="255" y="0"/>
                        </a:lnTo>
                        <a:lnTo>
                          <a:pt x="252" y="0"/>
                        </a:lnTo>
                        <a:lnTo>
                          <a:pt x="249" y="0"/>
                        </a:lnTo>
                        <a:lnTo>
                          <a:pt x="243" y="0"/>
                        </a:lnTo>
                        <a:lnTo>
                          <a:pt x="235" y="0"/>
                        </a:lnTo>
                        <a:lnTo>
                          <a:pt x="232" y="0"/>
                        </a:lnTo>
                        <a:lnTo>
                          <a:pt x="229" y="0"/>
                        </a:lnTo>
                        <a:lnTo>
                          <a:pt x="225" y="0"/>
                        </a:lnTo>
                        <a:lnTo>
                          <a:pt x="222" y="0"/>
                        </a:lnTo>
                        <a:lnTo>
                          <a:pt x="215" y="0"/>
                        </a:lnTo>
                        <a:lnTo>
                          <a:pt x="209" y="0"/>
                        </a:lnTo>
                        <a:lnTo>
                          <a:pt x="205" y="0"/>
                        </a:lnTo>
                        <a:lnTo>
                          <a:pt x="202" y="0"/>
                        </a:lnTo>
                        <a:lnTo>
                          <a:pt x="199" y="0"/>
                        </a:lnTo>
                        <a:lnTo>
                          <a:pt x="196" y="0"/>
                        </a:lnTo>
                        <a:lnTo>
                          <a:pt x="188" y="0"/>
                        </a:lnTo>
                        <a:lnTo>
                          <a:pt x="182" y="1"/>
                        </a:lnTo>
                        <a:lnTo>
                          <a:pt x="179" y="1"/>
                        </a:lnTo>
                        <a:lnTo>
                          <a:pt x="174" y="1"/>
                        </a:lnTo>
                        <a:lnTo>
                          <a:pt x="171" y="1"/>
                        </a:lnTo>
                        <a:lnTo>
                          <a:pt x="168" y="1"/>
                        </a:lnTo>
                        <a:lnTo>
                          <a:pt x="162" y="1"/>
                        </a:lnTo>
                        <a:lnTo>
                          <a:pt x="156" y="3"/>
                        </a:lnTo>
                        <a:lnTo>
                          <a:pt x="151" y="3"/>
                        </a:lnTo>
                        <a:lnTo>
                          <a:pt x="148" y="3"/>
                        </a:lnTo>
                        <a:lnTo>
                          <a:pt x="145" y="3"/>
                        </a:lnTo>
                        <a:lnTo>
                          <a:pt x="142" y="3"/>
                        </a:lnTo>
                        <a:lnTo>
                          <a:pt x="137" y="3"/>
                        </a:lnTo>
                        <a:lnTo>
                          <a:pt x="134" y="3"/>
                        </a:lnTo>
                        <a:lnTo>
                          <a:pt x="131" y="3"/>
                        </a:lnTo>
                        <a:lnTo>
                          <a:pt x="128" y="4"/>
                        </a:lnTo>
                        <a:lnTo>
                          <a:pt x="124" y="4"/>
                        </a:lnTo>
                        <a:lnTo>
                          <a:pt x="121" y="4"/>
                        </a:lnTo>
                        <a:lnTo>
                          <a:pt x="118" y="4"/>
                        </a:lnTo>
                        <a:lnTo>
                          <a:pt x="114" y="4"/>
                        </a:lnTo>
                        <a:lnTo>
                          <a:pt x="107" y="4"/>
                        </a:lnTo>
                        <a:lnTo>
                          <a:pt x="101" y="4"/>
                        </a:lnTo>
                        <a:lnTo>
                          <a:pt x="98" y="4"/>
                        </a:lnTo>
                        <a:lnTo>
                          <a:pt x="95" y="4"/>
                        </a:lnTo>
                        <a:lnTo>
                          <a:pt x="90" y="4"/>
                        </a:lnTo>
                        <a:lnTo>
                          <a:pt x="87" y="4"/>
                        </a:lnTo>
                        <a:lnTo>
                          <a:pt x="81" y="6"/>
                        </a:lnTo>
                        <a:lnTo>
                          <a:pt x="75" y="6"/>
                        </a:lnTo>
                        <a:lnTo>
                          <a:pt x="67" y="6"/>
                        </a:lnTo>
                        <a:lnTo>
                          <a:pt x="61" y="6"/>
                        </a:lnTo>
                        <a:lnTo>
                          <a:pt x="53" y="7"/>
                        </a:lnTo>
                        <a:lnTo>
                          <a:pt x="47" y="7"/>
                        </a:lnTo>
                        <a:lnTo>
                          <a:pt x="14" y="11"/>
                        </a:lnTo>
                        <a:lnTo>
                          <a:pt x="3" y="11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2"/>
                        </a:lnTo>
                        <a:lnTo>
                          <a:pt x="3" y="12"/>
                        </a:lnTo>
                        <a:lnTo>
                          <a:pt x="6" y="12"/>
                        </a:lnTo>
                        <a:lnTo>
                          <a:pt x="10" y="12"/>
                        </a:lnTo>
                        <a:lnTo>
                          <a:pt x="17" y="12"/>
                        </a:lnTo>
                        <a:lnTo>
                          <a:pt x="23" y="12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3" y="12"/>
                        </a:lnTo>
                        <a:lnTo>
                          <a:pt x="40" y="12"/>
                        </a:lnTo>
                        <a:lnTo>
                          <a:pt x="43" y="12"/>
                        </a:lnTo>
                        <a:lnTo>
                          <a:pt x="47" y="12"/>
                        </a:lnTo>
                        <a:lnTo>
                          <a:pt x="52" y="12"/>
                        </a:lnTo>
                        <a:lnTo>
                          <a:pt x="58" y="12"/>
                        </a:lnTo>
                        <a:lnTo>
                          <a:pt x="61" y="11"/>
                        </a:lnTo>
                        <a:lnTo>
                          <a:pt x="67" y="11"/>
                        </a:lnTo>
                        <a:lnTo>
                          <a:pt x="72" y="11"/>
                        </a:lnTo>
                        <a:lnTo>
                          <a:pt x="78" y="11"/>
                        </a:lnTo>
                        <a:lnTo>
                          <a:pt x="82" y="11"/>
                        </a:lnTo>
                        <a:lnTo>
                          <a:pt x="88" y="11"/>
                        </a:lnTo>
                        <a:lnTo>
                          <a:pt x="95" y="11"/>
                        </a:lnTo>
                        <a:lnTo>
                          <a:pt x="99" y="11"/>
                        </a:lnTo>
                        <a:lnTo>
                          <a:pt x="105" y="11"/>
                        </a:lnTo>
                        <a:lnTo>
                          <a:pt x="111" y="11"/>
                        </a:lnTo>
                        <a:lnTo>
                          <a:pt x="118" y="11"/>
                        </a:lnTo>
                        <a:lnTo>
                          <a:pt x="124" y="11"/>
                        </a:lnTo>
                        <a:lnTo>
                          <a:pt x="130" y="10"/>
                        </a:lnTo>
                        <a:lnTo>
                          <a:pt x="134" y="10"/>
                        </a:lnTo>
                        <a:lnTo>
                          <a:pt x="140" y="10"/>
                        </a:lnTo>
                        <a:lnTo>
                          <a:pt x="147" y="10"/>
                        </a:lnTo>
                        <a:lnTo>
                          <a:pt x="151" y="10"/>
                        </a:lnTo>
                        <a:lnTo>
                          <a:pt x="157" y="10"/>
                        </a:lnTo>
                        <a:lnTo>
                          <a:pt x="163" y="10"/>
                        </a:lnTo>
                        <a:lnTo>
                          <a:pt x="168" y="10"/>
                        </a:lnTo>
                        <a:lnTo>
                          <a:pt x="174" y="10"/>
                        </a:lnTo>
                        <a:lnTo>
                          <a:pt x="179" y="10"/>
                        </a:lnTo>
                        <a:lnTo>
                          <a:pt x="185" y="8"/>
                        </a:lnTo>
                        <a:lnTo>
                          <a:pt x="189" y="8"/>
                        </a:lnTo>
                        <a:lnTo>
                          <a:pt x="194" y="8"/>
                        </a:lnTo>
                        <a:lnTo>
                          <a:pt x="200" y="8"/>
                        </a:lnTo>
                        <a:lnTo>
                          <a:pt x="205" y="8"/>
                        </a:lnTo>
                        <a:lnTo>
                          <a:pt x="209" y="8"/>
                        </a:lnTo>
                        <a:lnTo>
                          <a:pt x="214" y="8"/>
                        </a:lnTo>
                        <a:lnTo>
                          <a:pt x="218" y="8"/>
                        </a:lnTo>
                        <a:lnTo>
                          <a:pt x="222" y="8"/>
                        </a:lnTo>
                        <a:lnTo>
                          <a:pt x="226" y="8"/>
                        </a:lnTo>
                        <a:lnTo>
                          <a:pt x="229" y="7"/>
                        </a:lnTo>
                        <a:lnTo>
                          <a:pt x="232" y="7"/>
                        </a:lnTo>
                        <a:lnTo>
                          <a:pt x="235" y="7"/>
                        </a:lnTo>
                        <a:lnTo>
                          <a:pt x="240" y="7"/>
                        </a:lnTo>
                        <a:lnTo>
                          <a:pt x="245" y="7"/>
                        </a:lnTo>
                        <a:lnTo>
                          <a:pt x="249" y="7"/>
                        </a:lnTo>
                        <a:lnTo>
                          <a:pt x="254" y="7"/>
                        </a:lnTo>
                        <a:lnTo>
                          <a:pt x="255" y="7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02" name="AutoShape 172"/>
                <p:cNvCxnSpPr/>
                <p:nvPr/>
              </p:nvCxnSpPr>
              <p:spPr>
                <a:xfrm>
                  <a:off x="4013280" y="3681720"/>
                  <a:ext cx="108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503" name="Group 173"/>
                <p:cNvGrpSpPr/>
                <p:nvPr/>
              </p:nvGrpSpPr>
              <p:grpSpPr>
                <a:xfrm>
                  <a:off x="3805200" y="3461400"/>
                  <a:ext cx="269280" cy="195840"/>
                  <a:chOff x="3805200" y="3461400"/>
                  <a:chExt cx="269280" cy="195840"/>
                </a:xfrm>
              </p:grpSpPr>
              <p:sp>
                <p:nvSpPr>
                  <p:cNvPr id="504" name="Freeform 174"/>
                  <p:cNvSpPr/>
                  <p:nvPr/>
                </p:nvSpPr>
                <p:spPr>
                  <a:xfrm>
                    <a:off x="3867120" y="3512520"/>
                    <a:ext cx="86400" cy="4320"/>
                  </a:xfrm>
                  <a:custGeom>
                    <a:avLst/>
                    <a:gdLst>
                      <a:gd name="textAreaLeft" fmla="*/ 0 w 86400"/>
                      <a:gd name="textAreaRight" fmla="*/ 86760 w 8640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601" h="34">
                        <a:moveTo>
                          <a:pt x="9" y="0"/>
                        </a:move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5" y="0"/>
                        </a:lnTo>
                        <a:lnTo>
                          <a:pt x="45" y="1"/>
                        </a:lnTo>
                        <a:lnTo>
                          <a:pt x="54" y="1"/>
                        </a:lnTo>
                        <a:lnTo>
                          <a:pt x="63" y="1"/>
                        </a:lnTo>
                        <a:lnTo>
                          <a:pt x="71" y="3"/>
                        </a:lnTo>
                        <a:lnTo>
                          <a:pt x="81" y="3"/>
                        </a:lnTo>
                        <a:lnTo>
                          <a:pt x="89" y="3"/>
                        </a:lnTo>
                        <a:lnTo>
                          <a:pt x="98" y="3"/>
                        </a:lnTo>
                        <a:lnTo>
                          <a:pt x="106" y="4"/>
                        </a:lnTo>
                        <a:lnTo>
                          <a:pt x="117" y="4"/>
                        </a:lnTo>
                        <a:lnTo>
                          <a:pt x="124" y="4"/>
                        </a:lnTo>
                        <a:lnTo>
                          <a:pt x="133" y="4"/>
                        </a:lnTo>
                        <a:lnTo>
                          <a:pt x="143" y="4"/>
                        </a:lnTo>
                        <a:lnTo>
                          <a:pt x="152" y="5"/>
                        </a:lnTo>
                        <a:lnTo>
                          <a:pt x="159" y="5"/>
                        </a:lnTo>
                        <a:lnTo>
                          <a:pt x="169" y="5"/>
                        </a:lnTo>
                        <a:lnTo>
                          <a:pt x="178" y="5"/>
                        </a:lnTo>
                        <a:lnTo>
                          <a:pt x="187" y="5"/>
                        </a:lnTo>
                        <a:lnTo>
                          <a:pt x="195" y="5"/>
                        </a:lnTo>
                        <a:lnTo>
                          <a:pt x="204" y="5"/>
                        </a:lnTo>
                        <a:lnTo>
                          <a:pt x="213" y="5"/>
                        </a:lnTo>
                        <a:lnTo>
                          <a:pt x="222" y="7"/>
                        </a:lnTo>
                        <a:lnTo>
                          <a:pt x="230" y="7"/>
                        </a:lnTo>
                        <a:lnTo>
                          <a:pt x="239" y="7"/>
                        </a:lnTo>
                        <a:lnTo>
                          <a:pt x="248" y="7"/>
                        </a:lnTo>
                        <a:lnTo>
                          <a:pt x="257" y="7"/>
                        </a:lnTo>
                        <a:lnTo>
                          <a:pt x="266" y="7"/>
                        </a:lnTo>
                        <a:lnTo>
                          <a:pt x="274" y="7"/>
                        </a:lnTo>
                        <a:lnTo>
                          <a:pt x="283" y="7"/>
                        </a:lnTo>
                        <a:lnTo>
                          <a:pt x="292" y="7"/>
                        </a:lnTo>
                        <a:lnTo>
                          <a:pt x="302" y="7"/>
                        </a:lnTo>
                        <a:lnTo>
                          <a:pt x="309" y="7"/>
                        </a:lnTo>
                        <a:lnTo>
                          <a:pt x="318" y="7"/>
                        </a:lnTo>
                        <a:lnTo>
                          <a:pt x="328" y="7"/>
                        </a:lnTo>
                        <a:lnTo>
                          <a:pt x="335" y="7"/>
                        </a:lnTo>
                        <a:lnTo>
                          <a:pt x="344" y="7"/>
                        </a:lnTo>
                        <a:lnTo>
                          <a:pt x="354" y="7"/>
                        </a:lnTo>
                        <a:lnTo>
                          <a:pt x="363" y="7"/>
                        </a:lnTo>
                        <a:lnTo>
                          <a:pt x="370" y="7"/>
                        </a:lnTo>
                        <a:lnTo>
                          <a:pt x="380" y="7"/>
                        </a:lnTo>
                        <a:lnTo>
                          <a:pt x="389" y="7"/>
                        </a:lnTo>
                        <a:lnTo>
                          <a:pt x="396" y="7"/>
                        </a:lnTo>
                        <a:lnTo>
                          <a:pt x="406" y="7"/>
                        </a:lnTo>
                        <a:lnTo>
                          <a:pt x="415" y="7"/>
                        </a:lnTo>
                        <a:lnTo>
                          <a:pt x="424" y="7"/>
                        </a:lnTo>
                        <a:lnTo>
                          <a:pt x="433" y="8"/>
                        </a:lnTo>
                        <a:lnTo>
                          <a:pt x="441" y="7"/>
                        </a:lnTo>
                        <a:lnTo>
                          <a:pt x="450" y="7"/>
                        </a:lnTo>
                        <a:lnTo>
                          <a:pt x="459" y="7"/>
                        </a:lnTo>
                        <a:lnTo>
                          <a:pt x="468" y="7"/>
                        </a:lnTo>
                        <a:lnTo>
                          <a:pt x="476" y="7"/>
                        </a:lnTo>
                        <a:lnTo>
                          <a:pt x="485" y="7"/>
                        </a:lnTo>
                        <a:lnTo>
                          <a:pt x="493" y="7"/>
                        </a:lnTo>
                        <a:lnTo>
                          <a:pt x="504" y="7"/>
                        </a:lnTo>
                        <a:lnTo>
                          <a:pt x="511" y="7"/>
                        </a:lnTo>
                        <a:lnTo>
                          <a:pt x="520" y="7"/>
                        </a:lnTo>
                        <a:lnTo>
                          <a:pt x="528" y="7"/>
                        </a:lnTo>
                        <a:lnTo>
                          <a:pt x="537" y="7"/>
                        </a:lnTo>
                        <a:lnTo>
                          <a:pt x="546" y="7"/>
                        </a:lnTo>
                        <a:lnTo>
                          <a:pt x="556" y="7"/>
                        </a:lnTo>
                        <a:lnTo>
                          <a:pt x="565" y="7"/>
                        </a:lnTo>
                        <a:lnTo>
                          <a:pt x="574" y="7"/>
                        </a:lnTo>
                        <a:lnTo>
                          <a:pt x="577" y="7"/>
                        </a:lnTo>
                        <a:lnTo>
                          <a:pt x="580" y="8"/>
                        </a:lnTo>
                        <a:lnTo>
                          <a:pt x="583" y="9"/>
                        </a:lnTo>
                        <a:lnTo>
                          <a:pt x="588" y="9"/>
                        </a:lnTo>
                        <a:lnTo>
                          <a:pt x="591" y="11"/>
                        </a:lnTo>
                        <a:lnTo>
                          <a:pt x="594" y="12"/>
                        </a:lnTo>
                        <a:lnTo>
                          <a:pt x="597" y="12"/>
                        </a:lnTo>
                        <a:lnTo>
                          <a:pt x="601" y="14"/>
                        </a:lnTo>
                        <a:lnTo>
                          <a:pt x="600" y="18"/>
                        </a:lnTo>
                        <a:lnTo>
                          <a:pt x="597" y="23"/>
                        </a:lnTo>
                        <a:lnTo>
                          <a:pt x="595" y="27"/>
                        </a:lnTo>
                        <a:lnTo>
                          <a:pt x="594" y="31"/>
                        </a:lnTo>
                        <a:lnTo>
                          <a:pt x="585" y="31"/>
                        </a:lnTo>
                        <a:lnTo>
                          <a:pt x="579" y="31"/>
                        </a:lnTo>
                        <a:lnTo>
                          <a:pt x="569" y="31"/>
                        </a:lnTo>
                        <a:lnTo>
                          <a:pt x="562" y="31"/>
                        </a:lnTo>
                        <a:lnTo>
                          <a:pt x="554" y="31"/>
                        </a:lnTo>
                        <a:lnTo>
                          <a:pt x="546" y="31"/>
                        </a:lnTo>
                        <a:lnTo>
                          <a:pt x="539" y="31"/>
                        </a:lnTo>
                        <a:lnTo>
                          <a:pt x="531" y="33"/>
                        </a:lnTo>
                        <a:lnTo>
                          <a:pt x="523" y="33"/>
                        </a:lnTo>
                        <a:lnTo>
                          <a:pt x="516" y="33"/>
                        </a:lnTo>
                        <a:lnTo>
                          <a:pt x="508" y="33"/>
                        </a:lnTo>
                        <a:lnTo>
                          <a:pt x="501" y="33"/>
                        </a:lnTo>
                        <a:lnTo>
                          <a:pt x="493" y="33"/>
                        </a:lnTo>
                        <a:lnTo>
                          <a:pt x="485" y="33"/>
                        </a:lnTo>
                        <a:lnTo>
                          <a:pt x="478" y="33"/>
                        </a:lnTo>
                        <a:lnTo>
                          <a:pt x="470" y="33"/>
                        </a:lnTo>
                        <a:lnTo>
                          <a:pt x="462" y="33"/>
                        </a:lnTo>
                        <a:lnTo>
                          <a:pt x="455" y="33"/>
                        </a:lnTo>
                        <a:lnTo>
                          <a:pt x="447" y="33"/>
                        </a:lnTo>
                        <a:lnTo>
                          <a:pt x="439" y="33"/>
                        </a:lnTo>
                        <a:lnTo>
                          <a:pt x="432" y="33"/>
                        </a:lnTo>
                        <a:lnTo>
                          <a:pt x="424" y="33"/>
                        </a:lnTo>
                        <a:lnTo>
                          <a:pt x="416" y="33"/>
                        </a:lnTo>
                        <a:lnTo>
                          <a:pt x="409" y="33"/>
                        </a:lnTo>
                        <a:lnTo>
                          <a:pt x="401" y="33"/>
                        </a:lnTo>
                        <a:lnTo>
                          <a:pt x="393" y="33"/>
                        </a:lnTo>
                        <a:lnTo>
                          <a:pt x="386" y="33"/>
                        </a:lnTo>
                        <a:lnTo>
                          <a:pt x="378" y="33"/>
                        </a:lnTo>
                        <a:lnTo>
                          <a:pt x="370" y="33"/>
                        </a:lnTo>
                        <a:lnTo>
                          <a:pt x="363" y="33"/>
                        </a:lnTo>
                        <a:lnTo>
                          <a:pt x="357" y="33"/>
                        </a:lnTo>
                        <a:lnTo>
                          <a:pt x="349" y="34"/>
                        </a:lnTo>
                        <a:lnTo>
                          <a:pt x="340" y="33"/>
                        </a:lnTo>
                        <a:lnTo>
                          <a:pt x="332" y="33"/>
                        </a:lnTo>
                        <a:lnTo>
                          <a:pt x="325" y="33"/>
                        </a:lnTo>
                        <a:lnTo>
                          <a:pt x="318" y="33"/>
                        </a:lnTo>
                        <a:lnTo>
                          <a:pt x="309" y="33"/>
                        </a:lnTo>
                        <a:lnTo>
                          <a:pt x="302" y="33"/>
                        </a:lnTo>
                        <a:lnTo>
                          <a:pt x="294" y="33"/>
                        </a:lnTo>
                        <a:lnTo>
                          <a:pt x="288" y="33"/>
                        </a:lnTo>
                        <a:lnTo>
                          <a:pt x="279" y="31"/>
                        </a:lnTo>
                        <a:lnTo>
                          <a:pt x="271" y="31"/>
                        </a:lnTo>
                        <a:lnTo>
                          <a:pt x="263" y="31"/>
                        </a:lnTo>
                        <a:lnTo>
                          <a:pt x="257" y="31"/>
                        </a:lnTo>
                        <a:lnTo>
                          <a:pt x="248" y="31"/>
                        </a:lnTo>
                        <a:lnTo>
                          <a:pt x="240" y="31"/>
                        </a:lnTo>
                        <a:lnTo>
                          <a:pt x="233" y="31"/>
                        </a:lnTo>
                        <a:lnTo>
                          <a:pt x="225" y="31"/>
                        </a:lnTo>
                        <a:lnTo>
                          <a:pt x="218" y="31"/>
                        </a:lnTo>
                        <a:lnTo>
                          <a:pt x="210" y="31"/>
                        </a:lnTo>
                        <a:lnTo>
                          <a:pt x="202" y="31"/>
                        </a:lnTo>
                        <a:lnTo>
                          <a:pt x="195" y="31"/>
                        </a:lnTo>
                        <a:lnTo>
                          <a:pt x="187" y="30"/>
                        </a:lnTo>
                        <a:lnTo>
                          <a:pt x="179" y="30"/>
                        </a:lnTo>
                        <a:lnTo>
                          <a:pt x="172" y="30"/>
                        </a:lnTo>
                        <a:lnTo>
                          <a:pt x="164" y="30"/>
                        </a:lnTo>
                        <a:lnTo>
                          <a:pt x="156" y="30"/>
                        </a:lnTo>
                        <a:lnTo>
                          <a:pt x="149" y="30"/>
                        </a:lnTo>
                        <a:lnTo>
                          <a:pt x="141" y="30"/>
                        </a:lnTo>
                        <a:lnTo>
                          <a:pt x="133" y="30"/>
                        </a:lnTo>
                        <a:lnTo>
                          <a:pt x="126" y="29"/>
                        </a:lnTo>
                        <a:lnTo>
                          <a:pt x="120" y="29"/>
                        </a:lnTo>
                        <a:lnTo>
                          <a:pt x="112" y="29"/>
                        </a:lnTo>
                        <a:lnTo>
                          <a:pt x="104" y="29"/>
                        </a:lnTo>
                        <a:lnTo>
                          <a:pt x="100" y="27"/>
                        </a:lnTo>
                        <a:lnTo>
                          <a:pt x="97" y="27"/>
                        </a:lnTo>
                        <a:lnTo>
                          <a:pt x="92" y="26"/>
                        </a:lnTo>
                        <a:lnTo>
                          <a:pt x="89" y="26"/>
                        </a:lnTo>
                        <a:lnTo>
                          <a:pt x="83" y="26"/>
                        </a:lnTo>
                        <a:lnTo>
                          <a:pt x="77" y="26"/>
                        </a:lnTo>
                        <a:lnTo>
                          <a:pt x="72" y="26"/>
                        </a:lnTo>
                        <a:lnTo>
                          <a:pt x="69" y="26"/>
                        </a:lnTo>
                        <a:lnTo>
                          <a:pt x="65" y="26"/>
                        </a:lnTo>
                        <a:lnTo>
                          <a:pt x="61" y="27"/>
                        </a:lnTo>
                        <a:lnTo>
                          <a:pt x="55" y="27"/>
                        </a:lnTo>
                        <a:lnTo>
                          <a:pt x="49" y="29"/>
                        </a:lnTo>
                        <a:lnTo>
                          <a:pt x="45" y="29"/>
                        </a:lnTo>
                        <a:lnTo>
                          <a:pt x="42" y="29"/>
                        </a:lnTo>
                        <a:lnTo>
                          <a:pt x="39" y="29"/>
                        </a:lnTo>
                        <a:lnTo>
                          <a:pt x="35" y="29"/>
                        </a:lnTo>
                        <a:lnTo>
                          <a:pt x="28" y="29"/>
                        </a:lnTo>
                        <a:lnTo>
                          <a:pt x="23" y="27"/>
                        </a:lnTo>
                        <a:lnTo>
                          <a:pt x="17" y="25"/>
                        </a:lnTo>
                        <a:lnTo>
                          <a:pt x="11" y="23"/>
                        </a:lnTo>
                        <a:lnTo>
                          <a:pt x="5" y="19"/>
                        </a:lnTo>
                        <a:lnTo>
                          <a:pt x="0" y="16"/>
                        </a:lnTo>
                        <a:lnTo>
                          <a:pt x="3" y="11"/>
                        </a:lnTo>
                        <a:lnTo>
                          <a:pt x="6" y="7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175"/>
                  <p:cNvSpPr/>
                  <p:nvPr/>
                </p:nvSpPr>
                <p:spPr>
                  <a:xfrm>
                    <a:off x="3947040" y="3485520"/>
                    <a:ext cx="35640" cy="2556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249" h="195">
                        <a:moveTo>
                          <a:pt x="5" y="0"/>
                        </a:moveTo>
                        <a:lnTo>
                          <a:pt x="8" y="2"/>
                        </a:lnTo>
                        <a:lnTo>
                          <a:pt x="12" y="3"/>
                        </a:lnTo>
                        <a:lnTo>
                          <a:pt x="15" y="6"/>
                        </a:lnTo>
                        <a:lnTo>
                          <a:pt x="20" y="9"/>
                        </a:lnTo>
                        <a:lnTo>
                          <a:pt x="25" y="10"/>
                        </a:lnTo>
                        <a:lnTo>
                          <a:pt x="28" y="13"/>
                        </a:lnTo>
                        <a:lnTo>
                          <a:pt x="32" y="14"/>
                        </a:lnTo>
                        <a:lnTo>
                          <a:pt x="37" y="17"/>
                        </a:lnTo>
                        <a:lnTo>
                          <a:pt x="40" y="20"/>
                        </a:lnTo>
                        <a:lnTo>
                          <a:pt x="44" y="21"/>
                        </a:lnTo>
                        <a:lnTo>
                          <a:pt x="47" y="24"/>
                        </a:lnTo>
                        <a:lnTo>
                          <a:pt x="52" y="26"/>
                        </a:lnTo>
                        <a:lnTo>
                          <a:pt x="57" y="28"/>
                        </a:lnTo>
                        <a:lnTo>
                          <a:pt x="60" y="32"/>
                        </a:lnTo>
                        <a:lnTo>
                          <a:pt x="64" y="33"/>
                        </a:lnTo>
                        <a:lnTo>
                          <a:pt x="69" y="36"/>
                        </a:lnTo>
                        <a:lnTo>
                          <a:pt x="72" y="39"/>
                        </a:lnTo>
                        <a:lnTo>
                          <a:pt x="77" y="41"/>
                        </a:lnTo>
                        <a:lnTo>
                          <a:pt x="80" y="44"/>
                        </a:lnTo>
                        <a:lnTo>
                          <a:pt x="84" y="47"/>
                        </a:lnTo>
                        <a:lnTo>
                          <a:pt x="87" y="48"/>
                        </a:lnTo>
                        <a:lnTo>
                          <a:pt x="92" y="51"/>
                        </a:lnTo>
                        <a:lnTo>
                          <a:pt x="95" y="54"/>
                        </a:lnTo>
                        <a:lnTo>
                          <a:pt x="99" y="57"/>
                        </a:lnTo>
                        <a:lnTo>
                          <a:pt x="104" y="59"/>
                        </a:lnTo>
                        <a:lnTo>
                          <a:pt x="107" y="62"/>
                        </a:lnTo>
                        <a:lnTo>
                          <a:pt x="110" y="65"/>
                        </a:lnTo>
                        <a:lnTo>
                          <a:pt x="115" y="68"/>
                        </a:lnTo>
                        <a:lnTo>
                          <a:pt x="118" y="70"/>
                        </a:lnTo>
                        <a:lnTo>
                          <a:pt x="122" y="73"/>
                        </a:lnTo>
                        <a:lnTo>
                          <a:pt x="125" y="76"/>
                        </a:lnTo>
                        <a:lnTo>
                          <a:pt x="130" y="80"/>
                        </a:lnTo>
                        <a:lnTo>
                          <a:pt x="135" y="81"/>
                        </a:lnTo>
                        <a:lnTo>
                          <a:pt x="138" y="84"/>
                        </a:lnTo>
                        <a:lnTo>
                          <a:pt x="141" y="88"/>
                        </a:lnTo>
                        <a:lnTo>
                          <a:pt x="145" y="91"/>
                        </a:lnTo>
                        <a:lnTo>
                          <a:pt x="148" y="94"/>
                        </a:lnTo>
                        <a:lnTo>
                          <a:pt x="153" y="96"/>
                        </a:lnTo>
                        <a:lnTo>
                          <a:pt x="156" y="99"/>
                        </a:lnTo>
                        <a:lnTo>
                          <a:pt x="161" y="103"/>
                        </a:lnTo>
                        <a:lnTo>
                          <a:pt x="164" y="106"/>
                        </a:lnTo>
                        <a:lnTo>
                          <a:pt x="168" y="109"/>
                        </a:lnTo>
                        <a:lnTo>
                          <a:pt x="171" y="111"/>
                        </a:lnTo>
                        <a:lnTo>
                          <a:pt x="176" y="114"/>
                        </a:lnTo>
                        <a:lnTo>
                          <a:pt x="179" y="117"/>
                        </a:lnTo>
                        <a:lnTo>
                          <a:pt x="184" y="120"/>
                        </a:lnTo>
                        <a:lnTo>
                          <a:pt x="187" y="124"/>
                        </a:lnTo>
                        <a:lnTo>
                          <a:pt x="190" y="127"/>
                        </a:lnTo>
                        <a:lnTo>
                          <a:pt x="193" y="129"/>
                        </a:lnTo>
                        <a:lnTo>
                          <a:pt x="197" y="132"/>
                        </a:lnTo>
                        <a:lnTo>
                          <a:pt x="200" y="135"/>
                        </a:lnTo>
                        <a:lnTo>
                          <a:pt x="205" y="139"/>
                        </a:lnTo>
                        <a:lnTo>
                          <a:pt x="208" y="142"/>
                        </a:lnTo>
                        <a:lnTo>
                          <a:pt x="213" y="144"/>
                        </a:lnTo>
                        <a:lnTo>
                          <a:pt x="216" y="149"/>
                        </a:lnTo>
                        <a:lnTo>
                          <a:pt x="220" y="151"/>
                        </a:lnTo>
                        <a:lnTo>
                          <a:pt x="223" y="154"/>
                        </a:lnTo>
                        <a:lnTo>
                          <a:pt x="226" y="158"/>
                        </a:lnTo>
                        <a:lnTo>
                          <a:pt x="231" y="161"/>
                        </a:lnTo>
                        <a:lnTo>
                          <a:pt x="234" y="164"/>
                        </a:lnTo>
                        <a:lnTo>
                          <a:pt x="239" y="168"/>
                        </a:lnTo>
                        <a:lnTo>
                          <a:pt x="242" y="171"/>
                        </a:lnTo>
                        <a:lnTo>
                          <a:pt x="246" y="173"/>
                        </a:lnTo>
                        <a:lnTo>
                          <a:pt x="249" y="177"/>
                        </a:lnTo>
                        <a:lnTo>
                          <a:pt x="246" y="180"/>
                        </a:lnTo>
                        <a:lnTo>
                          <a:pt x="245" y="186"/>
                        </a:lnTo>
                        <a:lnTo>
                          <a:pt x="240" y="190"/>
                        </a:lnTo>
                        <a:lnTo>
                          <a:pt x="239" y="195"/>
                        </a:lnTo>
                        <a:lnTo>
                          <a:pt x="234" y="192"/>
                        </a:lnTo>
                        <a:lnTo>
                          <a:pt x="231" y="191"/>
                        </a:lnTo>
                        <a:lnTo>
                          <a:pt x="226" y="188"/>
                        </a:lnTo>
                        <a:lnTo>
                          <a:pt x="222" y="187"/>
                        </a:lnTo>
                        <a:lnTo>
                          <a:pt x="219" y="184"/>
                        </a:lnTo>
                        <a:lnTo>
                          <a:pt x="214" y="183"/>
                        </a:lnTo>
                        <a:lnTo>
                          <a:pt x="211" y="180"/>
                        </a:lnTo>
                        <a:lnTo>
                          <a:pt x="207" y="177"/>
                        </a:lnTo>
                        <a:lnTo>
                          <a:pt x="203" y="175"/>
                        </a:lnTo>
                        <a:lnTo>
                          <a:pt x="200" y="173"/>
                        </a:lnTo>
                        <a:lnTo>
                          <a:pt x="196" y="171"/>
                        </a:lnTo>
                        <a:lnTo>
                          <a:pt x="193" y="168"/>
                        </a:lnTo>
                        <a:lnTo>
                          <a:pt x="188" y="165"/>
                        </a:lnTo>
                        <a:lnTo>
                          <a:pt x="185" y="162"/>
                        </a:lnTo>
                        <a:lnTo>
                          <a:pt x="181" y="160"/>
                        </a:lnTo>
                        <a:lnTo>
                          <a:pt x="177" y="158"/>
                        </a:lnTo>
                        <a:lnTo>
                          <a:pt x="174" y="154"/>
                        </a:lnTo>
                        <a:lnTo>
                          <a:pt x="170" y="151"/>
                        </a:lnTo>
                        <a:lnTo>
                          <a:pt x="167" y="149"/>
                        </a:lnTo>
                        <a:lnTo>
                          <a:pt x="162" y="146"/>
                        </a:lnTo>
                        <a:lnTo>
                          <a:pt x="159" y="143"/>
                        </a:lnTo>
                        <a:lnTo>
                          <a:pt x="156" y="140"/>
                        </a:lnTo>
                        <a:lnTo>
                          <a:pt x="151" y="138"/>
                        </a:lnTo>
                        <a:lnTo>
                          <a:pt x="148" y="135"/>
                        </a:lnTo>
                        <a:lnTo>
                          <a:pt x="145" y="131"/>
                        </a:lnTo>
                        <a:lnTo>
                          <a:pt x="141" y="128"/>
                        </a:lnTo>
                        <a:lnTo>
                          <a:pt x="138" y="125"/>
                        </a:lnTo>
                        <a:lnTo>
                          <a:pt x="135" y="124"/>
                        </a:lnTo>
                        <a:lnTo>
                          <a:pt x="132" y="120"/>
                        </a:lnTo>
                        <a:lnTo>
                          <a:pt x="127" y="117"/>
                        </a:lnTo>
                        <a:lnTo>
                          <a:pt x="124" y="114"/>
                        </a:lnTo>
                        <a:lnTo>
                          <a:pt x="121" y="113"/>
                        </a:lnTo>
                        <a:lnTo>
                          <a:pt x="118" y="109"/>
                        </a:lnTo>
                        <a:lnTo>
                          <a:pt x="113" y="106"/>
                        </a:lnTo>
                        <a:lnTo>
                          <a:pt x="110" y="103"/>
                        </a:lnTo>
                        <a:lnTo>
                          <a:pt x="107" y="101"/>
                        </a:lnTo>
                        <a:lnTo>
                          <a:pt x="104" y="96"/>
                        </a:lnTo>
                        <a:lnTo>
                          <a:pt x="99" y="94"/>
                        </a:lnTo>
                        <a:lnTo>
                          <a:pt x="96" y="91"/>
                        </a:lnTo>
                        <a:lnTo>
                          <a:pt x="93" y="88"/>
                        </a:lnTo>
                        <a:lnTo>
                          <a:pt x="89" y="85"/>
                        </a:lnTo>
                        <a:lnTo>
                          <a:pt x="86" y="83"/>
                        </a:lnTo>
                        <a:lnTo>
                          <a:pt x="81" y="80"/>
                        </a:lnTo>
                        <a:lnTo>
                          <a:pt x="78" y="77"/>
                        </a:lnTo>
                        <a:lnTo>
                          <a:pt x="75" y="74"/>
                        </a:lnTo>
                        <a:lnTo>
                          <a:pt x="72" y="72"/>
                        </a:lnTo>
                        <a:lnTo>
                          <a:pt x="67" y="69"/>
                        </a:lnTo>
                        <a:lnTo>
                          <a:pt x="64" y="68"/>
                        </a:lnTo>
                        <a:lnTo>
                          <a:pt x="61" y="63"/>
                        </a:lnTo>
                        <a:lnTo>
                          <a:pt x="57" y="62"/>
                        </a:lnTo>
                        <a:lnTo>
                          <a:pt x="54" y="59"/>
                        </a:lnTo>
                        <a:lnTo>
                          <a:pt x="49" y="57"/>
                        </a:lnTo>
                        <a:lnTo>
                          <a:pt x="46" y="54"/>
                        </a:lnTo>
                        <a:lnTo>
                          <a:pt x="43" y="52"/>
                        </a:lnTo>
                        <a:lnTo>
                          <a:pt x="38" y="50"/>
                        </a:lnTo>
                        <a:lnTo>
                          <a:pt x="35" y="47"/>
                        </a:lnTo>
                        <a:lnTo>
                          <a:pt x="31" y="46"/>
                        </a:lnTo>
                        <a:lnTo>
                          <a:pt x="28" y="43"/>
                        </a:lnTo>
                        <a:lnTo>
                          <a:pt x="23" y="40"/>
                        </a:lnTo>
                        <a:lnTo>
                          <a:pt x="20" y="39"/>
                        </a:lnTo>
                        <a:lnTo>
                          <a:pt x="15" y="37"/>
                        </a:lnTo>
                        <a:lnTo>
                          <a:pt x="12" y="36"/>
                        </a:lnTo>
                        <a:lnTo>
                          <a:pt x="8" y="35"/>
                        </a:lnTo>
                        <a:lnTo>
                          <a:pt x="5" y="32"/>
                        </a:lnTo>
                        <a:lnTo>
                          <a:pt x="3" y="28"/>
                        </a:lnTo>
                        <a:lnTo>
                          <a:pt x="2" y="25"/>
                        </a:ln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2" y="6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176"/>
                  <p:cNvSpPr/>
                  <p:nvPr/>
                </p:nvSpPr>
                <p:spPr>
                  <a:xfrm>
                    <a:off x="3951360" y="3525480"/>
                    <a:ext cx="6840" cy="6192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49" h="474">
                        <a:moveTo>
                          <a:pt x="9" y="0"/>
                        </a:moveTo>
                        <a:lnTo>
                          <a:pt x="12" y="3"/>
                        </a:lnTo>
                        <a:lnTo>
                          <a:pt x="15" y="6"/>
                        </a:lnTo>
                        <a:lnTo>
                          <a:pt x="16" y="8"/>
                        </a:lnTo>
                        <a:lnTo>
                          <a:pt x="19" y="12"/>
                        </a:lnTo>
                        <a:lnTo>
                          <a:pt x="21" y="17"/>
                        </a:lnTo>
                        <a:lnTo>
                          <a:pt x="23" y="21"/>
                        </a:lnTo>
                        <a:lnTo>
                          <a:pt x="24" y="25"/>
                        </a:lnTo>
                        <a:lnTo>
                          <a:pt x="26" y="30"/>
                        </a:lnTo>
                        <a:lnTo>
                          <a:pt x="27" y="33"/>
                        </a:lnTo>
                        <a:lnTo>
                          <a:pt x="27" y="38"/>
                        </a:lnTo>
                        <a:lnTo>
                          <a:pt x="29" y="43"/>
                        </a:lnTo>
                        <a:lnTo>
                          <a:pt x="29" y="47"/>
                        </a:lnTo>
                        <a:lnTo>
                          <a:pt x="29" y="52"/>
                        </a:lnTo>
                        <a:lnTo>
                          <a:pt x="30" y="56"/>
                        </a:lnTo>
                        <a:lnTo>
                          <a:pt x="30" y="62"/>
                        </a:lnTo>
                        <a:lnTo>
                          <a:pt x="30" y="67"/>
                        </a:lnTo>
                        <a:lnTo>
                          <a:pt x="30" y="71"/>
                        </a:lnTo>
                        <a:lnTo>
                          <a:pt x="30" y="77"/>
                        </a:lnTo>
                        <a:lnTo>
                          <a:pt x="30" y="81"/>
                        </a:lnTo>
                        <a:lnTo>
                          <a:pt x="30" y="87"/>
                        </a:lnTo>
                        <a:lnTo>
                          <a:pt x="30" y="92"/>
                        </a:lnTo>
                        <a:lnTo>
                          <a:pt x="30" y="96"/>
                        </a:lnTo>
                        <a:lnTo>
                          <a:pt x="30" y="102"/>
                        </a:lnTo>
                        <a:lnTo>
                          <a:pt x="30" y="107"/>
                        </a:lnTo>
                        <a:lnTo>
                          <a:pt x="30" y="111"/>
                        </a:lnTo>
                        <a:lnTo>
                          <a:pt x="30" y="117"/>
                        </a:lnTo>
                        <a:lnTo>
                          <a:pt x="30" y="121"/>
                        </a:lnTo>
                        <a:lnTo>
                          <a:pt x="32" y="126"/>
                        </a:lnTo>
                        <a:lnTo>
                          <a:pt x="32" y="130"/>
                        </a:lnTo>
                        <a:lnTo>
                          <a:pt x="32" y="136"/>
                        </a:lnTo>
                        <a:lnTo>
                          <a:pt x="33" y="140"/>
                        </a:lnTo>
                        <a:lnTo>
                          <a:pt x="35" y="146"/>
                        </a:lnTo>
                        <a:lnTo>
                          <a:pt x="35" y="150"/>
                        </a:lnTo>
                        <a:lnTo>
                          <a:pt x="35" y="154"/>
                        </a:lnTo>
                        <a:lnTo>
                          <a:pt x="35" y="159"/>
                        </a:lnTo>
                        <a:lnTo>
                          <a:pt x="36" y="165"/>
                        </a:lnTo>
                        <a:lnTo>
                          <a:pt x="36" y="169"/>
                        </a:lnTo>
                        <a:lnTo>
                          <a:pt x="36" y="174"/>
                        </a:lnTo>
                        <a:lnTo>
                          <a:pt x="36" y="178"/>
                        </a:lnTo>
                        <a:lnTo>
                          <a:pt x="38" y="184"/>
                        </a:lnTo>
                        <a:lnTo>
                          <a:pt x="38" y="189"/>
                        </a:lnTo>
                        <a:lnTo>
                          <a:pt x="38" y="195"/>
                        </a:lnTo>
                        <a:lnTo>
                          <a:pt x="38" y="199"/>
                        </a:lnTo>
                        <a:lnTo>
                          <a:pt x="38" y="205"/>
                        </a:lnTo>
                        <a:lnTo>
                          <a:pt x="38" y="210"/>
                        </a:lnTo>
                        <a:lnTo>
                          <a:pt x="39" y="214"/>
                        </a:lnTo>
                        <a:lnTo>
                          <a:pt x="39" y="220"/>
                        </a:lnTo>
                        <a:lnTo>
                          <a:pt x="41" y="225"/>
                        </a:lnTo>
                        <a:lnTo>
                          <a:pt x="41" y="229"/>
                        </a:lnTo>
                        <a:lnTo>
                          <a:pt x="41" y="235"/>
                        </a:lnTo>
                        <a:lnTo>
                          <a:pt x="41" y="239"/>
                        </a:lnTo>
                        <a:lnTo>
                          <a:pt x="42" y="244"/>
                        </a:lnTo>
                        <a:lnTo>
                          <a:pt x="42" y="250"/>
                        </a:lnTo>
                        <a:lnTo>
                          <a:pt x="42" y="254"/>
                        </a:lnTo>
                        <a:lnTo>
                          <a:pt x="42" y="259"/>
                        </a:lnTo>
                        <a:lnTo>
                          <a:pt x="42" y="265"/>
                        </a:lnTo>
                        <a:lnTo>
                          <a:pt x="42" y="269"/>
                        </a:lnTo>
                        <a:lnTo>
                          <a:pt x="42" y="275"/>
                        </a:lnTo>
                        <a:lnTo>
                          <a:pt x="44" y="280"/>
                        </a:lnTo>
                        <a:lnTo>
                          <a:pt x="44" y="284"/>
                        </a:lnTo>
                        <a:lnTo>
                          <a:pt x="44" y="290"/>
                        </a:lnTo>
                        <a:lnTo>
                          <a:pt x="44" y="295"/>
                        </a:lnTo>
                        <a:lnTo>
                          <a:pt x="45" y="299"/>
                        </a:lnTo>
                        <a:lnTo>
                          <a:pt x="45" y="305"/>
                        </a:lnTo>
                        <a:lnTo>
                          <a:pt x="45" y="310"/>
                        </a:lnTo>
                        <a:lnTo>
                          <a:pt x="45" y="316"/>
                        </a:lnTo>
                        <a:lnTo>
                          <a:pt x="45" y="320"/>
                        </a:lnTo>
                        <a:lnTo>
                          <a:pt x="45" y="325"/>
                        </a:lnTo>
                        <a:lnTo>
                          <a:pt x="45" y="331"/>
                        </a:lnTo>
                        <a:lnTo>
                          <a:pt x="45" y="335"/>
                        </a:lnTo>
                        <a:lnTo>
                          <a:pt x="45" y="340"/>
                        </a:lnTo>
                        <a:lnTo>
                          <a:pt x="47" y="346"/>
                        </a:lnTo>
                        <a:lnTo>
                          <a:pt x="47" y="350"/>
                        </a:lnTo>
                        <a:lnTo>
                          <a:pt x="47" y="356"/>
                        </a:lnTo>
                        <a:lnTo>
                          <a:pt x="47" y="361"/>
                        </a:lnTo>
                        <a:lnTo>
                          <a:pt x="47" y="365"/>
                        </a:lnTo>
                        <a:lnTo>
                          <a:pt x="47" y="371"/>
                        </a:lnTo>
                        <a:lnTo>
                          <a:pt x="47" y="376"/>
                        </a:lnTo>
                        <a:lnTo>
                          <a:pt x="47" y="380"/>
                        </a:lnTo>
                        <a:lnTo>
                          <a:pt x="49" y="386"/>
                        </a:lnTo>
                        <a:lnTo>
                          <a:pt x="49" y="391"/>
                        </a:lnTo>
                        <a:lnTo>
                          <a:pt x="49" y="397"/>
                        </a:lnTo>
                        <a:lnTo>
                          <a:pt x="49" y="401"/>
                        </a:lnTo>
                        <a:lnTo>
                          <a:pt x="49" y="406"/>
                        </a:lnTo>
                        <a:lnTo>
                          <a:pt x="49" y="412"/>
                        </a:lnTo>
                        <a:lnTo>
                          <a:pt x="49" y="416"/>
                        </a:lnTo>
                        <a:lnTo>
                          <a:pt x="49" y="421"/>
                        </a:lnTo>
                        <a:lnTo>
                          <a:pt x="49" y="427"/>
                        </a:lnTo>
                        <a:lnTo>
                          <a:pt x="47" y="432"/>
                        </a:lnTo>
                        <a:lnTo>
                          <a:pt x="47" y="437"/>
                        </a:lnTo>
                        <a:lnTo>
                          <a:pt x="47" y="442"/>
                        </a:lnTo>
                        <a:lnTo>
                          <a:pt x="47" y="448"/>
                        </a:lnTo>
                        <a:lnTo>
                          <a:pt x="47" y="453"/>
                        </a:lnTo>
                        <a:lnTo>
                          <a:pt x="47" y="459"/>
                        </a:lnTo>
                        <a:lnTo>
                          <a:pt x="47" y="464"/>
                        </a:lnTo>
                        <a:lnTo>
                          <a:pt x="47" y="470"/>
                        </a:lnTo>
                        <a:lnTo>
                          <a:pt x="42" y="470"/>
                        </a:lnTo>
                        <a:lnTo>
                          <a:pt x="36" y="471"/>
                        </a:lnTo>
                        <a:lnTo>
                          <a:pt x="32" y="472"/>
                        </a:lnTo>
                        <a:lnTo>
                          <a:pt x="27" y="474"/>
                        </a:lnTo>
                        <a:lnTo>
                          <a:pt x="26" y="470"/>
                        </a:lnTo>
                        <a:lnTo>
                          <a:pt x="26" y="467"/>
                        </a:lnTo>
                        <a:lnTo>
                          <a:pt x="24" y="463"/>
                        </a:lnTo>
                        <a:lnTo>
                          <a:pt x="24" y="460"/>
                        </a:lnTo>
                        <a:lnTo>
                          <a:pt x="23" y="456"/>
                        </a:lnTo>
                        <a:lnTo>
                          <a:pt x="23" y="452"/>
                        </a:lnTo>
                        <a:lnTo>
                          <a:pt x="21" y="449"/>
                        </a:lnTo>
                        <a:lnTo>
                          <a:pt x="21" y="445"/>
                        </a:lnTo>
                        <a:lnTo>
                          <a:pt x="21" y="442"/>
                        </a:lnTo>
                        <a:lnTo>
                          <a:pt x="19" y="438"/>
                        </a:lnTo>
                        <a:lnTo>
                          <a:pt x="19" y="435"/>
                        </a:lnTo>
                        <a:lnTo>
                          <a:pt x="19" y="431"/>
                        </a:lnTo>
                        <a:lnTo>
                          <a:pt x="19" y="428"/>
                        </a:lnTo>
                        <a:lnTo>
                          <a:pt x="19" y="424"/>
                        </a:lnTo>
                        <a:lnTo>
                          <a:pt x="19" y="421"/>
                        </a:lnTo>
                        <a:lnTo>
                          <a:pt x="19" y="417"/>
                        </a:lnTo>
                        <a:lnTo>
                          <a:pt x="18" y="415"/>
                        </a:lnTo>
                        <a:lnTo>
                          <a:pt x="18" y="410"/>
                        </a:lnTo>
                        <a:lnTo>
                          <a:pt x="18" y="408"/>
                        </a:lnTo>
                        <a:lnTo>
                          <a:pt x="18" y="404"/>
                        </a:lnTo>
                        <a:lnTo>
                          <a:pt x="18" y="399"/>
                        </a:lnTo>
                        <a:lnTo>
                          <a:pt x="18" y="397"/>
                        </a:lnTo>
                        <a:lnTo>
                          <a:pt x="18" y="393"/>
                        </a:lnTo>
                        <a:lnTo>
                          <a:pt x="18" y="390"/>
                        </a:lnTo>
                        <a:lnTo>
                          <a:pt x="18" y="386"/>
                        </a:lnTo>
                        <a:lnTo>
                          <a:pt x="18" y="383"/>
                        </a:lnTo>
                        <a:lnTo>
                          <a:pt x="18" y="379"/>
                        </a:lnTo>
                        <a:lnTo>
                          <a:pt x="18" y="376"/>
                        </a:lnTo>
                        <a:lnTo>
                          <a:pt x="18" y="372"/>
                        </a:lnTo>
                        <a:lnTo>
                          <a:pt x="18" y="369"/>
                        </a:lnTo>
                        <a:lnTo>
                          <a:pt x="18" y="365"/>
                        </a:lnTo>
                        <a:lnTo>
                          <a:pt x="18" y="362"/>
                        </a:lnTo>
                        <a:lnTo>
                          <a:pt x="18" y="358"/>
                        </a:lnTo>
                        <a:lnTo>
                          <a:pt x="18" y="356"/>
                        </a:lnTo>
                        <a:lnTo>
                          <a:pt x="18" y="351"/>
                        </a:lnTo>
                        <a:lnTo>
                          <a:pt x="18" y="347"/>
                        </a:lnTo>
                        <a:lnTo>
                          <a:pt x="18" y="345"/>
                        </a:lnTo>
                        <a:lnTo>
                          <a:pt x="18" y="340"/>
                        </a:lnTo>
                        <a:lnTo>
                          <a:pt x="18" y="338"/>
                        </a:lnTo>
                        <a:lnTo>
                          <a:pt x="18" y="334"/>
                        </a:lnTo>
                        <a:lnTo>
                          <a:pt x="18" y="331"/>
                        </a:lnTo>
                        <a:lnTo>
                          <a:pt x="18" y="327"/>
                        </a:lnTo>
                        <a:lnTo>
                          <a:pt x="18" y="323"/>
                        </a:lnTo>
                        <a:lnTo>
                          <a:pt x="18" y="320"/>
                        </a:lnTo>
                        <a:lnTo>
                          <a:pt x="18" y="316"/>
                        </a:lnTo>
                        <a:lnTo>
                          <a:pt x="18" y="313"/>
                        </a:lnTo>
                        <a:lnTo>
                          <a:pt x="18" y="309"/>
                        </a:lnTo>
                        <a:lnTo>
                          <a:pt x="18" y="306"/>
                        </a:lnTo>
                        <a:lnTo>
                          <a:pt x="18" y="302"/>
                        </a:lnTo>
                        <a:lnTo>
                          <a:pt x="18" y="299"/>
                        </a:lnTo>
                        <a:lnTo>
                          <a:pt x="16" y="295"/>
                        </a:lnTo>
                        <a:lnTo>
                          <a:pt x="16" y="292"/>
                        </a:lnTo>
                        <a:lnTo>
                          <a:pt x="16" y="288"/>
                        </a:lnTo>
                        <a:lnTo>
                          <a:pt x="16" y="286"/>
                        </a:lnTo>
                        <a:lnTo>
                          <a:pt x="15" y="281"/>
                        </a:lnTo>
                        <a:lnTo>
                          <a:pt x="15" y="279"/>
                        </a:lnTo>
                        <a:lnTo>
                          <a:pt x="15" y="275"/>
                        </a:lnTo>
                        <a:lnTo>
                          <a:pt x="15" y="272"/>
                        </a:lnTo>
                        <a:lnTo>
                          <a:pt x="13" y="269"/>
                        </a:lnTo>
                        <a:lnTo>
                          <a:pt x="13" y="265"/>
                        </a:lnTo>
                        <a:lnTo>
                          <a:pt x="13" y="262"/>
                        </a:lnTo>
                        <a:lnTo>
                          <a:pt x="12" y="258"/>
                        </a:lnTo>
                        <a:lnTo>
                          <a:pt x="12" y="255"/>
                        </a:lnTo>
                        <a:lnTo>
                          <a:pt x="12" y="251"/>
                        </a:lnTo>
                        <a:lnTo>
                          <a:pt x="10" y="247"/>
                        </a:lnTo>
                        <a:lnTo>
                          <a:pt x="10" y="243"/>
                        </a:lnTo>
                        <a:lnTo>
                          <a:pt x="10" y="239"/>
                        </a:lnTo>
                        <a:lnTo>
                          <a:pt x="10" y="235"/>
                        </a:lnTo>
                        <a:lnTo>
                          <a:pt x="10" y="231"/>
                        </a:lnTo>
                        <a:lnTo>
                          <a:pt x="10" y="228"/>
                        </a:lnTo>
                        <a:lnTo>
                          <a:pt x="10" y="222"/>
                        </a:lnTo>
                        <a:lnTo>
                          <a:pt x="10" y="220"/>
                        </a:lnTo>
                        <a:lnTo>
                          <a:pt x="9" y="216"/>
                        </a:lnTo>
                        <a:lnTo>
                          <a:pt x="9" y="211"/>
                        </a:lnTo>
                        <a:lnTo>
                          <a:pt x="9" y="207"/>
                        </a:lnTo>
                        <a:lnTo>
                          <a:pt x="9" y="203"/>
                        </a:lnTo>
                        <a:lnTo>
                          <a:pt x="7" y="200"/>
                        </a:lnTo>
                        <a:lnTo>
                          <a:pt x="7" y="196"/>
                        </a:lnTo>
                        <a:lnTo>
                          <a:pt x="7" y="192"/>
                        </a:lnTo>
                        <a:lnTo>
                          <a:pt x="7" y="188"/>
                        </a:lnTo>
                        <a:lnTo>
                          <a:pt x="7" y="185"/>
                        </a:lnTo>
                        <a:lnTo>
                          <a:pt x="7" y="181"/>
                        </a:lnTo>
                        <a:lnTo>
                          <a:pt x="6" y="177"/>
                        </a:lnTo>
                        <a:lnTo>
                          <a:pt x="6" y="173"/>
                        </a:lnTo>
                        <a:lnTo>
                          <a:pt x="6" y="170"/>
                        </a:lnTo>
                        <a:lnTo>
                          <a:pt x="6" y="166"/>
                        </a:lnTo>
                        <a:lnTo>
                          <a:pt x="4" y="162"/>
                        </a:lnTo>
                        <a:lnTo>
                          <a:pt x="4" y="158"/>
                        </a:lnTo>
                        <a:lnTo>
                          <a:pt x="4" y="154"/>
                        </a:lnTo>
                        <a:lnTo>
                          <a:pt x="4" y="151"/>
                        </a:lnTo>
                        <a:lnTo>
                          <a:pt x="3" y="147"/>
                        </a:lnTo>
                        <a:lnTo>
                          <a:pt x="3" y="143"/>
                        </a:lnTo>
                        <a:lnTo>
                          <a:pt x="3" y="139"/>
                        </a:lnTo>
                        <a:lnTo>
                          <a:pt x="3" y="136"/>
                        </a:lnTo>
                        <a:lnTo>
                          <a:pt x="3" y="132"/>
                        </a:lnTo>
                        <a:lnTo>
                          <a:pt x="3" y="128"/>
                        </a:lnTo>
                        <a:lnTo>
                          <a:pt x="3" y="124"/>
                        </a:lnTo>
                        <a:lnTo>
                          <a:pt x="1" y="119"/>
                        </a:lnTo>
                        <a:lnTo>
                          <a:pt x="1" y="115"/>
                        </a:lnTo>
                        <a:lnTo>
                          <a:pt x="1" y="113"/>
                        </a:lnTo>
                        <a:lnTo>
                          <a:pt x="0" y="108"/>
                        </a:lnTo>
                        <a:lnTo>
                          <a:pt x="0" y="104"/>
                        </a:lnTo>
                        <a:lnTo>
                          <a:pt x="0" y="100"/>
                        </a:lnTo>
                        <a:lnTo>
                          <a:pt x="0" y="98"/>
                        </a:lnTo>
                        <a:lnTo>
                          <a:pt x="0" y="93"/>
                        </a:lnTo>
                        <a:lnTo>
                          <a:pt x="0" y="89"/>
                        </a:lnTo>
                        <a:lnTo>
                          <a:pt x="0" y="85"/>
                        </a:lnTo>
                        <a:lnTo>
                          <a:pt x="0" y="82"/>
                        </a:lnTo>
                        <a:lnTo>
                          <a:pt x="0" y="78"/>
                        </a:lnTo>
                        <a:lnTo>
                          <a:pt x="0" y="74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3"/>
                        </a:lnTo>
                        <a:lnTo>
                          <a:pt x="0" y="59"/>
                        </a:lnTo>
                        <a:lnTo>
                          <a:pt x="0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3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" y="10"/>
                        </a:lnTo>
                        <a:lnTo>
                          <a:pt x="1" y="6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Freeform 177"/>
                  <p:cNvSpPr/>
                  <p:nvPr/>
                </p:nvSpPr>
                <p:spPr>
                  <a:xfrm>
                    <a:off x="3990960" y="3524040"/>
                    <a:ext cx="6120" cy="6336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44" h="486">
                        <a:moveTo>
                          <a:pt x="15" y="0"/>
                        </a:moveTo>
                        <a:lnTo>
                          <a:pt x="17" y="3"/>
                        </a:lnTo>
                        <a:lnTo>
                          <a:pt x="20" y="9"/>
                        </a:lnTo>
                        <a:lnTo>
                          <a:pt x="23" y="13"/>
                        </a:lnTo>
                        <a:lnTo>
                          <a:pt x="26" y="17"/>
                        </a:lnTo>
                        <a:lnTo>
                          <a:pt x="27" y="22"/>
                        </a:lnTo>
                        <a:lnTo>
                          <a:pt x="29" y="27"/>
                        </a:lnTo>
                        <a:lnTo>
                          <a:pt x="31" y="32"/>
                        </a:lnTo>
                        <a:lnTo>
                          <a:pt x="32" y="38"/>
                        </a:lnTo>
                        <a:lnTo>
                          <a:pt x="34" y="43"/>
                        </a:lnTo>
                        <a:lnTo>
                          <a:pt x="34" y="47"/>
                        </a:lnTo>
                        <a:lnTo>
                          <a:pt x="34" y="53"/>
                        </a:lnTo>
                        <a:lnTo>
                          <a:pt x="35" y="58"/>
                        </a:lnTo>
                        <a:lnTo>
                          <a:pt x="35" y="64"/>
                        </a:lnTo>
                        <a:lnTo>
                          <a:pt x="35" y="69"/>
                        </a:lnTo>
                        <a:lnTo>
                          <a:pt x="35" y="75"/>
                        </a:lnTo>
                        <a:lnTo>
                          <a:pt x="35" y="81"/>
                        </a:lnTo>
                        <a:lnTo>
                          <a:pt x="35" y="87"/>
                        </a:lnTo>
                        <a:lnTo>
                          <a:pt x="35" y="92"/>
                        </a:lnTo>
                        <a:lnTo>
                          <a:pt x="35" y="98"/>
                        </a:lnTo>
                        <a:lnTo>
                          <a:pt x="35" y="105"/>
                        </a:lnTo>
                        <a:lnTo>
                          <a:pt x="34" y="110"/>
                        </a:lnTo>
                        <a:lnTo>
                          <a:pt x="34" y="116"/>
                        </a:lnTo>
                        <a:lnTo>
                          <a:pt x="34" y="121"/>
                        </a:lnTo>
                        <a:lnTo>
                          <a:pt x="35" y="128"/>
                        </a:lnTo>
                        <a:lnTo>
                          <a:pt x="35" y="134"/>
                        </a:lnTo>
                        <a:lnTo>
                          <a:pt x="35" y="139"/>
                        </a:lnTo>
                        <a:lnTo>
                          <a:pt x="35" y="145"/>
                        </a:lnTo>
                        <a:lnTo>
                          <a:pt x="35" y="150"/>
                        </a:lnTo>
                        <a:lnTo>
                          <a:pt x="37" y="156"/>
                        </a:lnTo>
                        <a:lnTo>
                          <a:pt x="38" y="161"/>
                        </a:lnTo>
                        <a:lnTo>
                          <a:pt x="38" y="167"/>
                        </a:lnTo>
                        <a:lnTo>
                          <a:pt x="40" y="173"/>
                        </a:lnTo>
                        <a:lnTo>
                          <a:pt x="40" y="178"/>
                        </a:lnTo>
                        <a:lnTo>
                          <a:pt x="40" y="182"/>
                        </a:lnTo>
                        <a:lnTo>
                          <a:pt x="38" y="186"/>
                        </a:lnTo>
                        <a:lnTo>
                          <a:pt x="38" y="191"/>
                        </a:lnTo>
                        <a:lnTo>
                          <a:pt x="38" y="195"/>
                        </a:lnTo>
                        <a:lnTo>
                          <a:pt x="38" y="199"/>
                        </a:lnTo>
                        <a:lnTo>
                          <a:pt x="38" y="205"/>
                        </a:lnTo>
                        <a:lnTo>
                          <a:pt x="38" y="209"/>
                        </a:lnTo>
                        <a:lnTo>
                          <a:pt x="38" y="213"/>
                        </a:lnTo>
                        <a:lnTo>
                          <a:pt x="38" y="219"/>
                        </a:lnTo>
                        <a:lnTo>
                          <a:pt x="38" y="223"/>
                        </a:lnTo>
                        <a:lnTo>
                          <a:pt x="38" y="228"/>
                        </a:lnTo>
                        <a:lnTo>
                          <a:pt x="38" y="232"/>
                        </a:lnTo>
                        <a:lnTo>
                          <a:pt x="38" y="237"/>
                        </a:lnTo>
                        <a:lnTo>
                          <a:pt x="38" y="242"/>
                        </a:lnTo>
                        <a:lnTo>
                          <a:pt x="38" y="246"/>
                        </a:lnTo>
                        <a:lnTo>
                          <a:pt x="38" y="252"/>
                        </a:lnTo>
                        <a:lnTo>
                          <a:pt x="38" y="256"/>
                        </a:lnTo>
                        <a:lnTo>
                          <a:pt x="38" y="260"/>
                        </a:lnTo>
                        <a:lnTo>
                          <a:pt x="38" y="265"/>
                        </a:lnTo>
                        <a:lnTo>
                          <a:pt x="38" y="269"/>
                        </a:lnTo>
                        <a:lnTo>
                          <a:pt x="38" y="274"/>
                        </a:lnTo>
                        <a:lnTo>
                          <a:pt x="38" y="279"/>
                        </a:lnTo>
                        <a:lnTo>
                          <a:pt x="38" y="283"/>
                        </a:lnTo>
                        <a:lnTo>
                          <a:pt x="38" y="289"/>
                        </a:lnTo>
                        <a:lnTo>
                          <a:pt x="38" y="293"/>
                        </a:lnTo>
                        <a:lnTo>
                          <a:pt x="38" y="297"/>
                        </a:lnTo>
                        <a:lnTo>
                          <a:pt x="40" y="302"/>
                        </a:lnTo>
                        <a:lnTo>
                          <a:pt x="40" y="307"/>
                        </a:lnTo>
                        <a:lnTo>
                          <a:pt x="40" y="311"/>
                        </a:lnTo>
                        <a:lnTo>
                          <a:pt x="40" y="316"/>
                        </a:lnTo>
                        <a:lnTo>
                          <a:pt x="41" y="320"/>
                        </a:lnTo>
                        <a:lnTo>
                          <a:pt x="41" y="324"/>
                        </a:lnTo>
                        <a:lnTo>
                          <a:pt x="41" y="329"/>
                        </a:lnTo>
                        <a:lnTo>
                          <a:pt x="41" y="334"/>
                        </a:lnTo>
                        <a:lnTo>
                          <a:pt x="41" y="338"/>
                        </a:lnTo>
                        <a:lnTo>
                          <a:pt x="41" y="344"/>
                        </a:lnTo>
                        <a:lnTo>
                          <a:pt x="41" y="348"/>
                        </a:lnTo>
                        <a:lnTo>
                          <a:pt x="41" y="352"/>
                        </a:lnTo>
                        <a:lnTo>
                          <a:pt x="41" y="357"/>
                        </a:lnTo>
                        <a:lnTo>
                          <a:pt x="41" y="361"/>
                        </a:lnTo>
                        <a:lnTo>
                          <a:pt x="41" y="366"/>
                        </a:lnTo>
                        <a:lnTo>
                          <a:pt x="41" y="371"/>
                        </a:lnTo>
                        <a:lnTo>
                          <a:pt x="41" y="375"/>
                        </a:lnTo>
                        <a:lnTo>
                          <a:pt x="41" y="381"/>
                        </a:lnTo>
                        <a:lnTo>
                          <a:pt x="43" y="385"/>
                        </a:lnTo>
                        <a:lnTo>
                          <a:pt x="43" y="389"/>
                        </a:lnTo>
                        <a:lnTo>
                          <a:pt x="43" y="394"/>
                        </a:lnTo>
                        <a:lnTo>
                          <a:pt x="43" y="399"/>
                        </a:lnTo>
                        <a:lnTo>
                          <a:pt x="43" y="403"/>
                        </a:lnTo>
                        <a:lnTo>
                          <a:pt x="43" y="408"/>
                        </a:lnTo>
                        <a:lnTo>
                          <a:pt x="44" y="412"/>
                        </a:lnTo>
                        <a:lnTo>
                          <a:pt x="44" y="418"/>
                        </a:lnTo>
                        <a:lnTo>
                          <a:pt x="44" y="422"/>
                        </a:lnTo>
                        <a:lnTo>
                          <a:pt x="44" y="426"/>
                        </a:lnTo>
                        <a:lnTo>
                          <a:pt x="44" y="431"/>
                        </a:lnTo>
                        <a:lnTo>
                          <a:pt x="44" y="436"/>
                        </a:lnTo>
                        <a:lnTo>
                          <a:pt x="44" y="441"/>
                        </a:lnTo>
                        <a:lnTo>
                          <a:pt x="44" y="445"/>
                        </a:lnTo>
                        <a:lnTo>
                          <a:pt x="44" y="451"/>
                        </a:lnTo>
                        <a:lnTo>
                          <a:pt x="44" y="455"/>
                        </a:lnTo>
                        <a:lnTo>
                          <a:pt x="44" y="460"/>
                        </a:lnTo>
                        <a:lnTo>
                          <a:pt x="44" y="464"/>
                        </a:lnTo>
                        <a:lnTo>
                          <a:pt x="44" y="470"/>
                        </a:lnTo>
                        <a:lnTo>
                          <a:pt x="41" y="474"/>
                        </a:lnTo>
                        <a:lnTo>
                          <a:pt x="38" y="478"/>
                        </a:lnTo>
                        <a:lnTo>
                          <a:pt x="34" y="481"/>
                        </a:lnTo>
                        <a:lnTo>
                          <a:pt x="31" y="486"/>
                        </a:lnTo>
                        <a:lnTo>
                          <a:pt x="26" y="482"/>
                        </a:lnTo>
                        <a:lnTo>
                          <a:pt x="23" y="480"/>
                        </a:lnTo>
                        <a:lnTo>
                          <a:pt x="20" y="475"/>
                        </a:lnTo>
                        <a:lnTo>
                          <a:pt x="18" y="473"/>
                        </a:lnTo>
                        <a:lnTo>
                          <a:pt x="17" y="469"/>
                        </a:lnTo>
                        <a:lnTo>
                          <a:pt x="15" y="464"/>
                        </a:lnTo>
                        <a:lnTo>
                          <a:pt x="14" y="462"/>
                        </a:lnTo>
                        <a:lnTo>
                          <a:pt x="14" y="458"/>
                        </a:lnTo>
                        <a:lnTo>
                          <a:pt x="12" y="453"/>
                        </a:lnTo>
                        <a:lnTo>
                          <a:pt x="12" y="449"/>
                        </a:lnTo>
                        <a:lnTo>
                          <a:pt x="11" y="445"/>
                        </a:lnTo>
                        <a:lnTo>
                          <a:pt x="11" y="442"/>
                        </a:lnTo>
                        <a:lnTo>
                          <a:pt x="11" y="437"/>
                        </a:lnTo>
                        <a:lnTo>
                          <a:pt x="11" y="434"/>
                        </a:lnTo>
                        <a:lnTo>
                          <a:pt x="12" y="430"/>
                        </a:lnTo>
                        <a:lnTo>
                          <a:pt x="12" y="426"/>
                        </a:lnTo>
                        <a:lnTo>
                          <a:pt x="12" y="422"/>
                        </a:lnTo>
                        <a:lnTo>
                          <a:pt x="12" y="418"/>
                        </a:lnTo>
                        <a:lnTo>
                          <a:pt x="14" y="414"/>
                        </a:lnTo>
                        <a:lnTo>
                          <a:pt x="14" y="409"/>
                        </a:lnTo>
                        <a:lnTo>
                          <a:pt x="14" y="405"/>
                        </a:lnTo>
                        <a:lnTo>
                          <a:pt x="15" y="401"/>
                        </a:lnTo>
                        <a:lnTo>
                          <a:pt x="15" y="397"/>
                        </a:lnTo>
                        <a:lnTo>
                          <a:pt x="17" y="394"/>
                        </a:lnTo>
                        <a:lnTo>
                          <a:pt x="17" y="389"/>
                        </a:lnTo>
                        <a:lnTo>
                          <a:pt x="17" y="385"/>
                        </a:lnTo>
                        <a:lnTo>
                          <a:pt x="17" y="382"/>
                        </a:lnTo>
                        <a:lnTo>
                          <a:pt x="17" y="378"/>
                        </a:lnTo>
                        <a:lnTo>
                          <a:pt x="15" y="374"/>
                        </a:lnTo>
                        <a:lnTo>
                          <a:pt x="15" y="370"/>
                        </a:lnTo>
                        <a:lnTo>
                          <a:pt x="15" y="367"/>
                        </a:lnTo>
                        <a:lnTo>
                          <a:pt x="15" y="363"/>
                        </a:lnTo>
                        <a:lnTo>
                          <a:pt x="14" y="357"/>
                        </a:lnTo>
                        <a:lnTo>
                          <a:pt x="14" y="352"/>
                        </a:lnTo>
                        <a:lnTo>
                          <a:pt x="14" y="346"/>
                        </a:lnTo>
                        <a:lnTo>
                          <a:pt x="14" y="341"/>
                        </a:lnTo>
                        <a:lnTo>
                          <a:pt x="14" y="335"/>
                        </a:lnTo>
                        <a:lnTo>
                          <a:pt x="14" y="330"/>
                        </a:lnTo>
                        <a:lnTo>
                          <a:pt x="14" y="324"/>
                        </a:lnTo>
                        <a:lnTo>
                          <a:pt x="14" y="319"/>
                        </a:lnTo>
                        <a:lnTo>
                          <a:pt x="14" y="313"/>
                        </a:lnTo>
                        <a:lnTo>
                          <a:pt x="14" y="308"/>
                        </a:lnTo>
                        <a:lnTo>
                          <a:pt x="14" y="304"/>
                        </a:lnTo>
                        <a:lnTo>
                          <a:pt x="14" y="298"/>
                        </a:lnTo>
                        <a:lnTo>
                          <a:pt x="14" y="293"/>
                        </a:lnTo>
                        <a:lnTo>
                          <a:pt x="14" y="287"/>
                        </a:lnTo>
                        <a:lnTo>
                          <a:pt x="14" y="282"/>
                        </a:lnTo>
                        <a:lnTo>
                          <a:pt x="14" y="276"/>
                        </a:lnTo>
                        <a:lnTo>
                          <a:pt x="12" y="271"/>
                        </a:lnTo>
                        <a:lnTo>
                          <a:pt x="12" y="265"/>
                        </a:lnTo>
                        <a:lnTo>
                          <a:pt x="12" y="261"/>
                        </a:lnTo>
                        <a:lnTo>
                          <a:pt x="12" y="256"/>
                        </a:lnTo>
                        <a:lnTo>
                          <a:pt x="12" y="250"/>
                        </a:lnTo>
                        <a:lnTo>
                          <a:pt x="12" y="245"/>
                        </a:lnTo>
                        <a:lnTo>
                          <a:pt x="12" y="239"/>
                        </a:lnTo>
                        <a:lnTo>
                          <a:pt x="12" y="234"/>
                        </a:lnTo>
                        <a:lnTo>
                          <a:pt x="11" y="228"/>
                        </a:lnTo>
                        <a:lnTo>
                          <a:pt x="11" y="223"/>
                        </a:lnTo>
                        <a:lnTo>
                          <a:pt x="11" y="217"/>
                        </a:lnTo>
                        <a:lnTo>
                          <a:pt x="11" y="213"/>
                        </a:lnTo>
                        <a:lnTo>
                          <a:pt x="11" y="208"/>
                        </a:lnTo>
                        <a:lnTo>
                          <a:pt x="11" y="202"/>
                        </a:lnTo>
                        <a:lnTo>
                          <a:pt x="11" y="197"/>
                        </a:lnTo>
                        <a:lnTo>
                          <a:pt x="11" y="193"/>
                        </a:lnTo>
                        <a:lnTo>
                          <a:pt x="11" y="186"/>
                        </a:lnTo>
                        <a:lnTo>
                          <a:pt x="11" y="182"/>
                        </a:lnTo>
                        <a:lnTo>
                          <a:pt x="9" y="176"/>
                        </a:lnTo>
                        <a:lnTo>
                          <a:pt x="9" y="171"/>
                        </a:lnTo>
                        <a:lnTo>
                          <a:pt x="9" y="165"/>
                        </a:lnTo>
                        <a:lnTo>
                          <a:pt x="9" y="160"/>
                        </a:lnTo>
                        <a:lnTo>
                          <a:pt x="8" y="154"/>
                        </a:lnTo>
                        <a:lnTo>
                          <a:pt x="8" y="149"/>
                        </a:lnTo>
                        <a:lnTo>
                          <a:pt x="8" y="143"/>
                        </a:lnTo>
                        <a:lnTo>
                          <a:pt x="8" y="139"/>
                        </a:lnTo>
                        <a:lnTo>
                          <a:pt x="6" y="134"/>
                        </a:lnTo>
                        <a:lnTo>
                          <a:pt x="6" y="128"/>
                        </a:lnTo>
                        <a:lnTo>
                          <a:pt x="6" y="123"/>
                        </a:lnTo>
                        <a:lnTo>
                          <a:pt x="6" y="117"/>
                        </a:lnTo>
                        <a:lnTo>
                          <a:pt x="6" y="112"/>
                        </a:lnTo>
                        <a:lnTo>
                          <a:pt x="6" y="108"/>
                        </a:lnTo>
                        <a:lnTo>
                          <a:pt x="6" y="102"/>
                        </a:lnTo>
                        <a:lnTo>
                          <a:pt x="5" y="97"/>
                        </a:lnTo>
                        <a:lnTo>
                          <a:pt x="5" y="91"/>
                        </a:lnTo>
                        <a:lnTo>
                          <a:pt x="5" y="86"/>
                        </a:lnTo>
                        <a:lnTo>
                          <a:pt x="3" y="80"/>
                        </a:lnTo>
                        <a:lnTo>
                          <a:pt x="3" y="75"/>
                        </a:lnTo>
                        <a:lnTo>
                          <a:pt x="3" y="70"/>
                        </a:lnTo>
                        <a:lnTo>
                          <a:pt x="3" y="65"/>
                        </a:lnTo>
                        <a:lnTo>
                          <a:pt x="3" y="59"/>
                        </a:lnTo>
                        <a:lnTo>
                          <a:pt x="1" y="54"/>
                        </a:lnTo>
                        <a:lnTo>
                          <a:pt x="1" y="48"/>
                        </a:lnTo>
                        <a:lnTo>
                          <a:pt x="1" y="43"/>
                        </a:lnTo>
                        <a:lnTo>
                          <a:pt x="0" y="38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1" y="17"/>
                        </a:lnTo>
                        <a:lnTo>
                          <a:pt x="5" y="13"/>
                        </a:lnTo>
                        <a:lnTo>
                          <a:pt x="6" y="10"/>
                        </a:lnTo>
                        <a:lnTo>
                          <a:pt x="9" y="6"/>
                        </a:lnTo>
                        <a:lnTo>
                          <a:pt x="11" y="3"/>
                        </a:lnTo>
                        <a:lnTo>
                          <a:pt x="1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178"/>
                  <p:cNvSpPr/>
                  <p:nvPr/>
                </p:nvSpPr>
                <p:spPr>
                  <a:xfrm>
                    <a:off x="3881160" y="3601080"/>
                    <a:ext cx="122400" cy="4320"/>
                  </a:xfrm>
                  <a:custGeom>
                    <a:avLst/>
                    <a:gdLst>
                      <a:gd name="textAreaLeft" fmla="*/ 0 w 122400"/>
                      <a:gd name="textAreaRight" fmla="*/ 122760 w 12240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850" h="34">
                        <a:moveTo>
                          <a:pt x="465" y="0"/>
                        </a:moveTo>
                        <a:lnTo>
                          <a:pt x="469" y="0"/>
                        </a:lnTo>
                        <a:lnTo>
                          <a:pt x="475" y="0"/>
                        </a:lnTo>
                        <a:lnTo>
                          <a:pt x="482" y="0"/>
                        </a:lnTo>
                        <a:lnTo>
                          <a:pt x="486" y="0"/>
                        </a:lnTo>
                        <a:lnTo>
                          <a:pt x="492" y="0"/>
                        </a:lnTo>
                        <a:lnTo>
                          <a:pt x="498" y="0"/>
                        </a:lnTo>
                        <a:lnTo>
                          <a:pt x="503" y="0"/>
                        </a:lnTo>
                        <a:lnTo>
                          <a:pt x="509" y="1"/>
                        </a:lnTo>
                        <a:lnTo>
                          <a:pt x="515" y="1"/>
                        </a:lnTo>
                        <a:lnTo>
                          <a:pt x="521" y="1"/>
                        </a:lnTo>
                        <a:lnTo>
                          <a:pt x="527" y="1"/>
                        </a:lnTo>
                        <a:lnTo>
                          <a:pt x="534" y="1"/>
                        </a:lnTo>
                        <a:lnTo>
                          <a:pt x="538" y="1"/>
                        </a:lnTo>
                        <a:lnTo>
                          <a:pt x="544" y="1"/>
                        </a:lnTo>
                        <a:lnTo>
                          <a:pt x="550" y="1"/>
                        </a:lnTo>
                        <a:lnTo>
                          <a:pt x="556" y="1"/>
                        </a:lnTo>
                        <a:lnTo>
                          <a:pt x="561" y="1"/>
                        </a:lnTo>
                        <a:lnTo>
                          <a:pt x="567" y="1"/>
                        </a:lnTo>
                        <a:lnTo>
                          <a:pt x="573" y="1"/>
                        </a:lnTo>
                        <a:lnTo>
                          <a:pt x="578" y="1"/>
                        </a:lnTo>
                        <a:lnTo>
                          <a:pt x="584" y="1"/>
                        </a:lnTo>
                        <a:lnTo>
                          <a:pt x="590" y="1"/>
                        </a:lnTo>
                        <a:lnTo>
                          <a:pt x="595" y="1"/>
                        </a:lnTo>
                        <a:lnTo>
                          <a:pt x="601" y="1"/>
                        </a:lnTo>
                        <a:lnTo>
                          <a:pt x="607" y="1"/>
                        </a:lnTo>
                        <a:lnTo>
                          <a:pt x="613" y="1"/>
                        </a:lnTo>
                        <a:lnTo>
                          <a:pt x="619" y="1"/>
                        </a:lnTo>
                        <a:lnTo>
                          <a:pt x="625" y="1"/>
                        </a:lnTo>
                        <a:lnTo>
                          <a:pt x="630" y="1"/>
                        </a:lnTo>
                        <a:lnTo>
                          <a:pt x="636" y="1"/>
                        </a:lnTo>
                        <a:lnTo>
                          <a:pt x="642" y="1"/>
                        </a:lnTo>
                        <a:lnTo>
                          <a:pt x="648" y="3"/>
                        </a:lnTo>
                        <a:lnTo>
                          <a:pt x="653" y="1"/>
                        </a:lnTo>
                        <a:lnTo>
                          <a:pt x="659" y="1"/>
                        </a:lnTo>
                        <a:lnTo>
                          <a:pt x="665" y="1"/>
                        </a:lnTo>
                        <a:lnTo>
                          <a:pt x="671" y="1"/>
                        </a:lnTo>
                        <a:lnTo>
                          <a:pt x="676" y="1"/>
                        </a:lnTo>
                        <a:lnTo>
                          <a:pt x="682" y="1"/>
                        </a:lnTo>
                        <a:lnTo>
                          <a:pt x="688" y="1"/>
                        </a:lnTo>
                        <a:lnTo>
                          <a:pt x="694" y="1"/>
                        </a:lnTo>
                        <a:lnTo>
                          <a:pt x="699" y="1"/>
                        </a:lnTo>
                        <a:lnTo>
                          <a:pt x="705" y="1"/>
                        </a:lnTo>
                        <a:lnTo>
                          <a:pt x="711" y="1"/>
                        </a:lnTo>
                        <a:lnTo>
                          <a:pt x="716" y="1"/>
                        </a:lnTo>
                        <a:lnTo>
                          <a:pt x="722" y="1"/>
                        </a:lnTo>
                        <a:lnTo>
                          <a:pt x="728" y="1"/>
                        </a:lnTo>
                        <a:lnTo>
                          <a:pt x="732" y="1"/>
                        </a:lnTo>
                        <a:lnTo>
                          <a:pt x="740" y="1"/>
                        </a:lnTo>
                        <a:lnTo>
                          <a:pt x="745" y="0"/>
                        </a:lnTo>
                        <a:lnTo>
                          <a:pt x="751" y="0"/>
                        </a:lnTo>
                        <a:lnTo>
                          <a:pt x="757" y="0"/>
                        </a:lnTo>
                        <a:lnTo>
                          <a:pt x="761" y="0"/>
                        </a:lnTo>
                        <a:lnTo>
                          <a:pt x="768" y="0"/>
                        </a:lnTo>
                        <a:lnTo>
                          <a:pt x="774" y="0"/>
                        </a:lnTo>
                        <a:lnTo>
                          <a:pt x="778" y="0"/>
                        </a:lnTo>
                        <a:lnTo>
                          <a:pt x="784" y="0"/>
                        </a:lnTo>
                        <a:lnTo>
                          <a:pt x="791" y="0"/>
                        </a:lnTo>
                        <a:lnTo>
                          <a:pt x="797" y="0"/>
                        </a:lnTo>
                        <a:lnTo>
                          <a:pt x="801" y="0"/>
                        </a:lnTo>
                        <a:lnTo>
                          <a:pt x="807" y="0"/>
                        </a:lnTo>
                        <a:lnTo>
                          <a:pt x="813" y="0"/>
                        </a:lnTo>
                        <a:lnTo>
                          <a:pt x="818" y="0"/>
                        </a:lnTo>
                        <a:lnTo>
                          <a:pt x="824" y="0"/>
                        </a:lnTo>
                        <a:lnTo>
                          <a:pt x="830" y="0"/>
                        </a:lnTo>
                        <a:lnTo>
                          <a:pt x="835" y="4"/>
                        </a:lnTo>
                        <a:lnTo>
                          <a:pt x="839" y="8"/>
                        </a:lnTo>
                        <a:lnTo>
                          <a:pt x="846" y="12"/>
                        </a:lnTo>
                        <a:lnTo>
                          <a:pt x="850" y="16"/>
                        </a:lnTo>
                        <a:lnTo>
                          <a:pt x="846" y="18"/>
                        </a:lnTo>
                        <a:lnTo>
                          <a:pt x="841" y="22"/>
                        </a:lnTo>
                        <a:lnTo>
                          <a:pt x="836" y="26"/>
                        </a:lnTo>
                        <a:lnTo>
                          <a:pt x="833" y="30"/>
                        </a:lnTo>
                        <a:lnTo>
                          <a:pt x="820" y="29"/>
                        </a:lnTo>
                        <a:lnTo>
                          <a:pt x="807" y="29"/>
                        </a:lnTo>
                        <a:lnTo>
                          <a:pt x="794" y="29"/>
                        </a:lnTo>
                        <a:lnTo>
                          <a:pt x="780" y="29"/>
                        </a:lnTo>
                        <a:lnTo>
                          <a:pt x="768" y="29"/>
                        </a:lnTo>
                        <a:lnTo>
                          <a:pt x="754" y="29"/>
                        </a:lnTo>
                        <a:lnTo>
                          <a:pt x="742" y="29"/>
                        </a:lnTo>
                        <a:lnTo>
                          <a:pt x="728" y="29"/>
                        </a:lnTo>
                        <a:lnTo>
                          <a:pt x="716" y="29"/>
                        </a:lnTo>
                        <a:lnTo>
                          <a:pt x="702" y="29"/>
                        </a:lnTo>
                        <a:lnTo>
                          <a:pt x="688" y="29"/>
                        </a:lnTo>
                        <a:lnTo>
                          <a:pt x="676" y="29"/>
                        </a:lnTo>
                        <a:lnTo>
                          <a:pt x="664" y="29"/>
                        </a:lnTo>
                        <a:lnTo>
                          <a:pt x="650" y="29"/>
                        </a:lnTo>
                        <a:lnTo>
                          <a:pt x="638" y="29"/>
                        </a:lnTo>
                        <a:lnTo>
                          <a:pt x="625" y="29"/>
                        </a:lnTo>
                        <a:lnTo>
                          <a:pt x="612" y="29"/>
                        </a:lnTo>
                        <a:lnTo>
                          <a:pt x="598" y="29"/>
                        </a:lnTo>
                        <a:lnTo>
                          <a:pt x="586" y="29"/>
                        </a:lnTo>
                        <a:lnTo>
                          <a:pt x="573" y="29"/>
                        </a:lnTo>
                        <a:lnTo>
                          <a:pt x="560" y="29"/>
                        </a:lnTo>
                        <a:lnTo>
                          <a:pt x="547" y="29"/>
                        </a:lnTo>
                        <a:lnTo>
                          <a:pt x="534" y="29"/>
                        </a:lnTo>
                        <a:lnTo>
                          <a:pt x="521" y="29"/>
                        </a:lnTo>
                        <a:lnTo>
                          <a:pt x="509" y="29"/>
                        </a:lnTo>
                        <a:lnTo>
                          <a:pt x="495" y="29"/>
                        </a:lnTo>
                        <a:lnTo>
                          <a:pt x="482" y="29"/>
                        </a:lnTo>
                        <a:lnTo>
                          <a:pt x="469" y="29"/>
                        </a:lnTo>
                        <a:lnTo>
                          <a:pt x="457" y="29"/>
                        </a:lnTo>
                        <a:lnTo>
                          <a:pt x="445" y="30"/>
                        </a:lnTo>
                        <a:lnTo>
                          <a:pt x="431" y="30"/>
                        </a:lnTo>
                        <a:lnTo>
                          <a:pt x="419" y="30"/>
                        </a:lnTo>
                        <a:lnTo>
                          <a:pt x="405" y="30"/>
                        </a:lnTo>
                        <a:lnTo>
                          <a:pt x="393" y="30"/>
                        </a:lnTo>
                        <a:lnTo>
                          <a:pt x="379" y="30"/>
                        </a:lnTo>
                        <a:lnTo>
                          <a:pt x="367" y="30"/>
                        </a:lnTo>
                        <a:lnTo>
                          <a:pt x="353" y="30"/>
                        </a:lnTo>
                        <a:lnTo>
                          <a:pt x="341" y="32"/>
                        </a:lnTo>
                        <a:lnTo>
                          <a:pt x="327" y="32"/>
                        </a:lnTo>
                        <a:lnTo>
                          <a:pt x="315" y="32"/>
                        </a:lnTo>
                        <a:lnTo>
                          <a:pt x="303" y="32"/>
                        </a:lnTo>
                        <a:lnTo>
                          <a:pt x="289" y="32"/>
                        </a:lnTo>
                        <a:lnTo>
                          <a:pt x="277" y="32"/>
                        </a:lnTo>
                        <a:lnTo>
                          <a:pt x="264" y="32"/>
                        </a:lnTo>
                        <a:lnTo>
                          <a:pt x="251" y="32"/>
                        </a:lnTo>
                        <a:lnTo>
                          <a:pt x="238" y="32"/>
                        </a:lnTo>
                        <a:lnTo>
                          <a:pt x="225" y="32"/>
                        </a:lnTo>
                        <a:lnTo>
                          <a:pt x="212" y="33"/>
                        </a:lnTo>
                        <a:lnTo>
                          <a:pt x="200" y="33"/>
                        </a:lnTo>
                        <a:lnTo>
                          <a:pt x="186" y="33"/>
                        </a:lnTo>
                        <a:lnTo>
                          <a:pt x="173" y="33"/>
                        </a:lnTo>
                        <a:lnTo>
                          <a:pt x="160" y="33"/>
                        </a:lnTo>
                        <a:lnTo>
                          <a:pt x="148" y="33"/>
                        </a:lnTo>
                        <a:lnTo>
                          <a:pt x="136" y="33"/>
                        </a:lnTo>
                        <a:lnTo>
                          <a:pt x="122" y="33"/>
                        </a:lnTo>
                        <a:lnTo>
                          <a:pt x="110" y="34"/>
                        </a:lnTo>
                        <a:lnTo>
                          <a:pt x="96" y="34"/>
                        </a:lnTo>
                        <a:lnTo>
                          <a:pt x="84" y="34"/>
                        </a:lnTo>
                        <a:lnTo>
                          <a:pt x="70" y="34"/>
                        </a:lnTo>
                        <a:lnTo>
                          <a:pt x="58" y="34"/>
                        </a:lnTo>
                        <a:lnTo>
                          <a:pt x="46" y="34"/>
                        </a:lnTo>
                        <a:lnTo>
                          <a:pt x="32" y="34"/>
                        </a:lnTo>
                        <a:lnTo>
                          <a:pt x="20" y="34"/>
                        </a:lnTo>
                        <a:lnTo>
                          <a:pt x="7" y="34"/>
                        </a:lnTo>
                        <a:lnTo>
                          <a:pt x="4" y="29"/>
                        </a:lnTo>
                        <a:lnTo>
                          <a:pt x="3" y="25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3" y="15"/>
                        </a:lnTo>
                        <a:lnTo>
                          <a:pt x="7" y="14"/>
                        </a:lnTo>
                        <a:lnTo>
                          <a:pt x="12" y="14"/>
                        </a:lnTo>
                        <a:lnTo>
                          <a:pt x="17" y="12"/>
                        </a:lnTo>
                        <a:lnTo>
                          <a:pt x="21" y="12"/>
                        </a:lnTo>
                        <a:lnTo>
                          <a:pt x="26" y="11"/>
                        </a:lnTo>
                        <a:lnTo>
                          <a:pt x="30" y="11"/>
                        </a:lnTo>
                        <a:lnTo>
                          <a:pt x="35" y="11"/>
                        </a:lnTo>
                        <a:lnTo>
                          <a:pt x="39" y="10"/>
                        </a:lnTo>
                        <a:lnTo>
                          <a:pt x="44" y="10"/>
                        </a:lnTo>
                        <a:lnTo>
                          <a:pt x="49" y="10"/>
                        </a:lnTo>
                        <a:lnTo>
                          <a:pt x="53" y="10"/>
                        </a:lnTo>
                        <a:lnTo>
                          <a:pt x="58" y="8"/>
                        </a:lnTo>
                        <a:lnTo>
                          <a:pt x="62" y="8"/>
                        </a:lnTo>
                        <a:lnTo>
                          <a:pt x="67" y="8"/>
                        </a:lnTo>
                        <a:lnTo>
                          <a:pt x="72" y="8"/>
                        </a:lnTo>
                        <a:lnTo>
                          <a:pt x="76" y="7"/>
                        </a:lnTo>
                        <a:lnTo>
                          <a:pt x="81" y="7"/>
                        </a:lnTo>
                        <a:lnTo>
                          <a:pt x="85" y="7"/>
                        </a:lnTo>
                        <a:lnTo>
                          <a:pt x="90" y="7"/>
                        </a:lnTo>
                        <a:lnTo>
                          <a:pt x="95" y="7"/>
                        </a:lnTo>
                        <a:lnTo>
                          <a:pt x="99" y="7"/>
                        </a:lnTo>
                        <a:lnTo>
                          <a:pt x="104" y="7"/>
                        </a:lnTo>
                        <a:lnTo>
                          <a:pt x="108" y="7"/>
                        </a:lnTo>
                        <a:lnTo>
                          <a:pt x="113" y="7"/>
                        </a:lnTo>
                        <a:lnTo>
                          <a:pt x="117" y="7"/>
                        </a:lnTo>
                        <a:lnTo>
                          <a:pt x="122" y="7"/>
                        </a:lnTo>
                        <a:lnTo>
                          <a:pt x="128" y="7"/>
                        </a:lnTo>
                        <a:lnTo>
                          <a:pt x="131" y="7"/>
                        </a:lnTo>
                        <a:lnTo>
                          <a:pt x="137" y="7"/>
                        </a:lnTo>
                        <a:lnTo>
                          <a:pt x="142" y="7"/>
                        </a:lnTo>
                        <a:lnTo>
                          <a:pt x="147" y="7"/>
                        </a:lnTo>
                        <a:lnTo>
                          <a:pt x="150" y="7"/>
                        </a:lnTo>
                        <a:lnTo>
                          <a:pt x="156" y="7"/>
                        </a:lnTo>
                        <a:lnTo>
                          <a:pt x="160" y="7"/>
                        </a:lnTo>
                        <a:lnTo>
                          <a:pt x="165" y="7"/>
                        </a:lnTo>
                        <a:lnTo>
                          <a:pt x="169" y="7"/>
                        </a:lnTo>
                        <a:lnTo>
                          <a:pt x="174" y="7"/>
                        </a:lnTo>
                        <a:lnTo>
                          <a:pt x="179" y="7"/>
                        </a:lnTo>
                        <a:lnTo>
                          <a:pt x="183" y="7"/>
                        </a:lnTo>
                        <a:lnTo>
                          <a:pt x="188" y="7"/>
                        </a:lnTo>
                        <a:lnTo>
                          <a:pt x="192" y="7"/>
                        </a:lnTo>
                        <a:lnTo>
                          <a:pt x="197" y="7"/>
                        </a:lnTo>
                        <a:lnTo>
                          <a:pt x="202" y="7"/>
                        </a:lnTo>
                        <a:lnTo>
                          <a:pt x="206" y="7"/>
                        </a:lnTo>
                        <a:lnTo>
                          <a:pt x="211" y="7"/>
                        </a:lnTo>
                        <a:lnTo>
                          <a:pt x="215" y="7"/>
                        </a:lnTo>
                        <a:lnTo>
                          <a:pt x="221" y="7"/>
                        </a:lnTo>
                        <a:lnTo>
                          <a:pt x="225" y="7"/>
                        </a:lnTo>
                        <a:lnTo>
                          <a:pt x="231" y="7"/>
                        </a:lnTo>
                        <a:lnTo>
                          <a:pt x="235" y="7"/>
                        </a:lnTo>
                        <a:lnTo>
                          <a:pt x="240" y="7"/>
                        </a:lnTo>
                        <a:lnTo>
                          <a:pt x="244" y="7"/>
                        </a:lnTo>
                        <a:lnTo>
                          <a:pt x="249" y="7"/>
                        </a:lnTo>
                        <a:lnTo>
                          <a:pt x="254" y="7"/>
                        </a:lnTo>
                        <a:lnTo>
                          <a:pt x="260" y="7"/>
                        </a:lnTo>
                        <a:lnTo>
                          <a:pt x="263" y="5"/>
                        </a:lnTo>
                        <a:lnTo>
                          <a:pt x="269" y="5"/>
                        </a:lnTo>
                        <a:lnTo>
                          <a:pt x="273" y="5"/>
                        </a:lnTo>
                        <a:lnTo>
                          <a:pt x="278" y="5"/>
                        </a:lnTo>
                        <a:lnTo>
                          <a:pt x="283" y="4"/>
                        </a:lnTo>
                        <a:lnTo>
                          <a:pt x="287" y="4"/>
                        </a:lnTo>
                        <a:lnTo>
                          <a:pt x="292" y="4"/>
                        </a:lnTo>
                        <a:lnTo>
                          <a:pt x="296" y="4"/>
                        </a:lnTo>
                        <a:lnTo>
                          <a:pt x="303" y="4"/>
                        </a:lnTo>
                        <a:lnTo>
                          <a:pt x="307" y="4"/>
                        </a:lnTo>
                        <a:lnTo>
                          <a:pt x="312" y="4"/>
                        </a:lnTo>
                        <a:lnTo>
                          <a:pt x="318" y="4"/>
                        </a:lnTo>
                        <a:lnTo>
                          <a:pt x="322" y="4"/>
                        </a:lnTo>
                        <a:lnTo>
                          <a:pt x="327" y="4"/>
                        </a:lnTo>
                        <a:lnTo>
                          <a:pt x="333" y="4"/>
                        </a:lnTo>
                        <a:lnTo>
                          <a:pt x="339" y="4"/>
                        </a:lnTo>
                        <a:lnTo>
                          <a:pt x="344" y="4"/>
                        </a:lnTo>
                        <a:lnTo>
                          <a:pt x="348" y="4"/>
                        </a:lnTo>
                        <a:lnTo>
                          <a:pt x="355" y="4"/>
                        </a:lnTo>
                        <a:lnTo>
                          <a:pt x="359" y="4"/>
                        </a:lnTo>
                        <a:lnTo>
                          <a:pt x="365" y="4"/>
                        </a:lnTo>
                        <a:lnTo>
                          <a:pt x="370" y="4"/>
                        </a:lnTo>
                        <a:lnTo>
                          <a:pt x="376" y="4"/>
                        </a:lnTo>
                        <a:lnTo>
                          <a:pt x="382" y="4"/>
                        </a:lnTo>
                        <a:lnTo>
                          <a:pt x="387" y="4"/>
                        </a:lnTo>
                        <a:lnTo>
                          <a:pt x="391" y="4"/>
                        </a:lnTo>
                        <a:lnTo>
                          <a:pt x="396" y="4"/>
                        </a:lnTo>
                        <a:lnTo>
                          <a:pt x="402" y="4"/>
                        </a:lnTo>
                        <a:lnTo>
                          <a:pt x="407" y="4"/>
                        </a:lnTo>
                        <a:lnTo>
                          <a:pt x="413" y="4"/>
                        </a:lnTo>
                        <a:lnTo>
                          <a:pt x="417" y="4"/>
                        </a:lnTo>
                        <a:lnTo>
                          <a:pt x="423" y="4"/>
                        </a:lnTo>
                        <a:lnTo>
                          <a:pt x="428" y="3"/>
                        </a:lnTo>
                        <a:lnTo>
                          <a:pt x="433" y="3"/>
                        </a:lnTo>
                        <a:lnTo>
                          <a:pt x="437" y="1"/>
                        </a:lnTo>
                        <a:lnTo>
                          <a:pt x="443" y="1"/>
                        </a:lnTo>
                        <a:lnTo>
                          <a:pt x="448" y="1"/>
                        </a:lnTo>
                        <a:lnTo>
                          <a:pt x="454" y="0"/>
                        </a:lnTo>
                        <a:lnTo>
                          <a:pt x="459" y="0"/>
                        </a:lnTo>
                        <a:lnTo>
                          <a:pt x="46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179"/>
                  <p:cNvSpPr/>
                  <p:nvPr/>
                </p:nvSpPr>
                <p:spPr>
                  <a:xfrm>
                    <a:off x="3994200" y="3625560"/>
                    <a:ext cx="7200" cy="11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52" h="86">
                        <a:moveTo>
                          <a:pt x="9" y="0"/>
                        </a:moveTo>
                        <a:lnTo>
                          <a:pt x="15" y="1"/>
                        </a:lnTo>
                        <a:lnTo>
                          <a:pt x="21" y="5"/>
                        </a:lnTo>
                        <a:lnTo>
                          <a:pt x="24" y="8"/>
                        </a:lnTo>
                        <a:lnTo>
                          <a:pt x="29" y="11"/>
                        </a:lnTo>
                        <a:lnTo>
                          <a:pt x="32" y="14"/>
                        </a:lnTo>
                        <a:lnTo>
                          <a:pt x="34" y="19"/>
                        </a:lnTo>
                        <a:lnTo>
                          <a:pt x="35" y="23"/>
                        </a:lnTo>
                        <a:lnTo>
                          <a:pt x="38" y="29"/>
                        </a:lnTo>
                        <a:lnTo>
                          <a:pt x="38" y="33"/>
                        </a:lnTo>
                        <a:lnTo>
                          <a:pt x="40" y="38"/>
                        </a:lnTo>
                        <a:lnTo>
                          <a:pt x="40" y="44"/>
                        </a:lnTo>
                        <a:lnTo>
                          <a:pt x="41" y="48"/>
                        </a:lnTo>
                        <a:lnTo>
                          <a:pt x="43" y="54"/>
                        </a:lnTo>
                        <a:lnTo>
                          <a:pt x="46" y="58"/>
                        </a:lnTo>
                        <a:lnTo>
                          <a:pt x="49" y="62"/>
                        </a:lnTo>
                        <a:lnTo>
                          <a:pt x="52" y="67"/>
                        </a:lnTo>
                        <a:lnTo>
                          <a:pt x="52" y="71"/>
                        </a:lnTo>
                        <a:lnTo>
                          <a:pt x="49" y="77"/>
                        </a:lnTo>
                        <a:lnTo>
                          <a:pt x="46" y="82"/>
                        </a:lnTo>
                        <a:lnTo>
                          <a:pt x="44" y="86"/>
                        </a:lnTo>
                        <a:lnTo>
                          <a:pt x="41" y="85"/>
                        </a:lnTo>
                        <a:lnTo>
                          <a:pt x="37" y="85"/>
                        </a:lnTo>
                        <a:lnTo>
                          <a:pt x="34" y="82"/>
                        </a:lnTo>
                        <a:lnTo>
                          <a:pt x="32" y="82"/>
                        </a:lnTo>
                        <a:lnTo>
                          <a:pt x="26" y="78"/>
                        </a:lnTo>
                        <a:lnTo>
                          <a:pt x="23" y="74"/>
                        </a:lnTo>
                        <a:lnTo>
                          <a:pt x="18" y="70"/>
                        </a:lnTo>
                        <a:lnTo>
                          <a:pt x="15" y="65"/>
                        </a:lnTo>
                        <a:lnTo>
                          <a:pt x="12" y="60"/>
                        </a:lnTo>
                        <a:lnTo>
                          <a:pt x="11" y="55"/>
                        </a:lnTo>
                        <a:lnTo>
                          <a:pt x="8" y="48"/>
                        </a:lnTo>
                        <a:lnTo>
                          <a:pt x="6" y="43"/>
                        </a:lnTo>
                        <a:lnTo>
                          <a:pt x="4" y="37"/>
                        </a:lnTo>
                        <a:lnTo>
                          <a:pt x="4" y="32"/>
                        </a:lnTo>
                        <a:lnTo>
                          <a:pt x="3" y="26"/>
                        </a:lnTo>
                        <a:lnTo>
                          <a:pt x="1" y="21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1" y="8"/>
                        </a:lnTo>
                        <a:lnTo>
                          <a:pt x="4" y="5"/>
                        </a:lnTo>
                        <a:lnTo>
                          <a:pt x="8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Freeform 180"/>
                  <p:cNvSpPr/>
                  <p:nvPr/>
                </p:nvSpPr>
                <p:spPr>
                  <a:xfrm>
                    <a:off x="3983400" y="3626280"/>
                    <a:ext cx="6480" cy="936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8" h="73">
                        <a:moveTo>
                          <a:pt x="10" y="0"/>
                        </a:moveTo>
                        <a:lnTo>
                          <a:pt x="14" y="1"/>
                        </a:lnTo>
                        <a:lnTo>
                          <a:pt x="19" y="5"/>
                        </a:lnTo>
                        <a:lnTo>
                          <a:pt x="23" y="8"/>
                        </a:lnTo>
                        <a:lnTo>
                          <a:pt x="26" y="11"/>
                        </a:lnTo>
                        <a:lnTo>
                          <a:pt x="29" y="15"/>
                        </a:lnTo>
                        <a:lnTo>
                          <a:pt x="33" y="19"/>
                        </a:lnTo>
                        <a:lnTo>
                          <a:pt x="34" y="23"/>
                        </a:lnTo>
                        <a:lnTo>
                          <a:pt x="37" y="29"/>
                        </a:lnTo>
                        <a:lnTo>
                          <a:pt x="39" y="33"/>
                        </a:lnTo>
                        <a:lnTo>
                          <a:pt x="40" y="38"/>
                        </a:lnTo>
                        <a:lnTo>
                          <a:pt x="42" y="42"/>
                        </a:lnTo>
                        <a:lnTo>
                          <a:pt x="43" y="48"/>
                        </a:lnTo>
                        <a:lnTo>
                          <a:pt x="45" y="53"/>
                        </a:lnTo>
                        <a:lnTo>
                          <a:pt x="45" y="57"/>
                        </a:lnTo>
                        <a:lnTo>
                          <a:pt x="46" y="63"/>
                        </a:lnTo>
                        <a:lnTo>
                          <a:pt x="48" y="68"/>
                        </a:lnTo>
                        <a:lnTo>
                          <a:pt x="43" y="68"/>
                        </a:lnTo>
                        <a:lnTo>
                          <a:pt x="37" y="70"/>
                        </a:lnTo>
                        <a:lnTo>
                          <a:pt x="31" y="71"/>
                        </a:lnTo>
                        <a:lnTo>
                          <a:pt x="25" y="73"/>
                        </a:lnTo>
                        <a:lnTo>
                          <a:pt x="22" y="68"/>
                        </a:lnTo>
                        <a:lnTo>
                          <a:pt x="19" y="64"/>
                        </a:lnTo>
                        <a:lnTo>
                          <a:pt x="14" y="59"/>
                        </a:lnTo>
                        <a:lnTo>
                          <a:pt x="13" y="55"/>
                        </a:lnTo>
                        <a:lnTo>
                          <a:pt x="10" y="51"/>
                        </a:lnTo>
                        <a:lnTo>
                          <a:pt x="7" y="45"/>
                        </a:lnTo>
                        <a:lnTo>
                          <a:pt x="5" y="41"/>
                        </a:lnTo>
                        <a:lnTo>
                          <a:pt x="3" y="37"/>
                        </a:lnTo>
                        <a:lnTo>
                          <a:pt x="2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0" y="18"/>
                        </a:lnTo>
                        <a:lnTo>
                          <a:pt x="2" y="12"/>
                        </a:lnTo>
                        <a:lnTo>
                          <a:pt x="3" y="8"/>
                        </a:lnTo>
                        <a:lnTo>
                          <a:pt x="7" y="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Freeform 181"/>
                  <p:cNvSpPr/>
                  <p:nvPr/>
                </p:nvSpPr>
                <p:spPr>
                  <a:xfrm>
                    <a:off x="4006800" y="3627000"/>
                    <a:ext cx="7920" cy="90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55" h="70">
                        <a:moveTo>
                          <a:pt x="12" y="0"/>
                        </a:moveTo>
                        <a:lnTo>
                          <a:pt x="16" y="2"/>
                        </a:lnTo>
                        <a:lnTo>
                          <a:pt x="21" y="4"/>
                        </a:lnTo>
                        <a:lnTo>
                          <a:pt x="24" y="7"/>
                        </a:lnTo>
                        <a:lnTo>
                          <a:pt x="29" y="11"/>
                        </a:lnTo>
                        <a:lnTo>
                          <a:pt x="32" y="14"/>
                        </a:lnTo>
                        <a:lnTo>
                          <a:pt x="35" y="18"/>
                        </a:lnTo>
                        <a:lnTo>
                          <a:pt x="38" y="24"/>
                        </a:lnTo>
                        <a:lnTo>
                          <a:pt x="39" y="28"/>
                        </a:lnTo>
                        <a:lnTo>
                          <a:pt x="42" y="33"/>
                        </a:lnTo>
                        <a:lnTo>
                          <a:pt x="44" y="37"/>
                        </a:lnTo>
                        <a:lnTo>
                          <a:pt x="45" y="43"/>
                        </a:lnTo>
                        <a:lnTo>
                          <a:pt x="47" y="48"/>
                        </a:lnTo>
                        <a:lnTo>
                          <a:pt x="49" y="53"/>
                        </a:lnTo>
                        <a:lnTo>
                          <a:pt x="50" y="57"/>
                        </a:lnTo>
                        <a:lnTo>
                          <a:pt x="52" y="62"/>
                        </a:lnTo>
                        <a:lnTo>
                          <a:pt x="55" y="66"/>
                        </a:lnTo>
                        <a:lnTo>
                          <a:pt x="49" y="68"/>
                        </a:lnTo>
                        <a:lnTo>
                          <a:pt x="42" y="69"/>
                        </a:lnTo>
                        <a:lnTo>
                          <a:pt x="38" y="70"/>
                        </a:lnTo>
                        <a:lnTo>
                          <a:pt x="32" y="70"/>
                        </a:lnTo>
                        <a:lnTo>
                          <a:pt x="27" y="66"/>
                        </a:lnTo>
                        <a:lnTo>
                          <a:pt x="23" y="64"/>
                        </a:lnTo>
                        <a:lnTo>
                          <a:pt x="19" y="59"/>
                        </a:lnTo>
                        <a:lnTo>
                          <a:pt x="16" y="55"/>
                        </a:lnTo>
                        <a:lnTo>
                          <a:pt x="12" y="50"/>
                        </a:lnTo>
                        <a:lnTo>
                          <a:pt x="9" y="46"/>
                        </a:lnTo>
                        <a:lnTo>
                          <a:pt x="6" y="42"/>
                        </a:lnTo>
                        <a:lnTo>
                          <a:pt x="4" y="36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1"/>
                        </a:lnTo>
                        <a:lnTo>
                          <a:pt x="1" y="17"/>
                        </a:lnTo>
                        <a:lnTo>
                          <a:pt x="1" y="11"/>
                        </a:lnTo>
                        <a:lnTo>
                          <a:pt x="4" y="9"/>
                        </a:lnTo>
                        <a:lnTo>
                          <a:pt x="7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182"/>
                  <p:cNvSpPr/>
                  <p:nvPr/>
                </p:nvSpPr>
                <p:spPr>
                  <a:xfrm>
                    <a:off x="4017600" y="3628080"/>
                    <a:ext cx="6480" cy="936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7" h="74">
                        <a:moveTo>
                          <a:pt x="9" y="0"/>
                        </a:moveTo>
                        <a:lnTo>
                          <a:pt x="15" y="2"/>
                        </a:lnTo>
                        <a:lnTo>
                          <a:pt x="19" y="4"/>
                        </a:lnTo>
                        <a:lnTo>
                          <a:pt x="24" y="7"/>
                        </a:lnTo>
                        <a:lnTo>
                          <a:pt x="29" y="11"/>
                        </a:lnTo>
                        <a:lnTo>
                          <a:pt x="30" y="14"/>
                        </a:lnTo>
                        <a:lnTo>
                          <a:pt x="33" y="19"/>
                        </a:lnTo>
                        <a:lnTo>
                          <a:pt x="36" y="25"/>
                        </a:lnTo>
                        <a:lnTo>
                          <a:pt x="38" y="29"/>
                        </a:lnTo>
                        <a:lnTo>
                          <a:pt x="38" y="35"/>
                        </a:lnTo>
                        <a:lnTo>
                          <a:pt x="39" y="40"/>
                        </a:lnTo>
                        <a:lnTo>
                          <a:pt x="41" y="46"/>
                        </a:lnTo>
                        <a:lnTo>
                          <a:pt x="42" y="51"/>
                        </a:lnTo>
                        <a:lnTo>
                          <a:pt x="42" y="55"/>
                        </a:lnTo>
                        <a:lnTo>
                          <a:pt x="44" y="61"/>
                        </a:lnTo>
                        <a:lnTo>
                          <a:pt x="45" y="65"/>
                        </a:lnTo>
                        <a:lnTo>
                          <a:pt x="47" y="70"/>
                        </a:lnTo>
                        <a:lnTo>
                          <a:pt x="41" y="70"/>
                        </a:lnTo>
                        <a:lnTo>
                          <a:pt x="35" y="72"/>
                        </a:lnTo>
                        <a:lnTo>
                          <a:pt x="29" y="73"/>
                        </a:lnTo>
                        <a:lnTo>
                          <a:pt x="26" y="74"/>
                        </a:lnTo>
                        <a:lnTo>
                          <a:pt x="21" y="70"/>
                        </a:lnTo>
                        <a:lnTo>
                          <a:pt x="18" y="66"/>
                        </a:lnTo>
                        <a:lnTo>
                          <a:pt x="15" y="61"/>
                        </a:lnTo>
                        <a:lnTo>
                          <a:pt x="12" y="57"/>
                        </a:lnTo>
                        <a:lnTo>
                          <a:pt x="9" y="51"/>
                        </a:lnTo>
                        <a:lnTo>
                          <a:pt x="7" y="47"/>
                        </a:lnTo>
                        <a:lnTo>
                          <a:pt x="4" y="41"/>
                        </a:lnTo>
                        <a:lnTo>
                          <a:pt x="4" y="37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2"/>
                        </a:lnTo>
                        <a:lnTo>
                          <a:pt x="1" y="17"/>
                        </a:lnTo>
                        <a:lnTo>
                          <a:pt x="1" y="13"/>
                        </a:lnTo>
                        <a:lnTo>
                          <a:pt x="3" y="8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Freeform 183"/>
                  <p:cNvSpPr/>
                  <p:nvPr/>
                </p:nvSpPr>
                <p:spPr>
                  <a:xfrm>
                    <a:off x="3886200" y="35535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2" h="53">
                        <a:moveTo>
                          <a:pt x="38" y="0"/>
                        </a:moveTo>
                        <a:lnTo>
                          <a:pt x="41" y="0"/>
                        </a:lnTo>
                        <a:lnTo>
                          <a:pt x="44" y="1"/>
                        </a:lnTo>
                        <a:lnTo>
                          <a:pt x="46" y="2"/>
                        </a:lnTo>
                        <a:lnTo>
                          <a:pt x="49" y="4"/>
                        </a:lnTo>
                        <a:lnTo>
                          <a:pt x="50" y="8"/>
                        </a:lnTo>
                        <a:lnTo>
                          <a:pt x="52" y="13"/>
                        </a:lnTo>
                        <a:lnTo>
                          <a:pt x="50" y="19"/>
                        </a:lnTo>
                        <a:lnTo>
                          <a:pt x="49" y="24"/>
                        </a:lnTo>
                        <a:lnTo>
                          <a:pt x="46" y="30"/>
                        </a:lnTo>
                        <a:lnTo>
                          <a:pt x="43" y="37"/>
                        </a:lnTo>
                        <a:lnTo>
                          <a:pt x="38" y="41"/>
                        </a:lnTo>
                        <a:lnTo>
                          <a:pt x="32" y="46"/>
                        </a:lnTo>
                        <a:lnTo>
                          <a:pt x="27" y="49"/>
                        </a:lnTo>
                        <a:lnTo>
                          <a:pt x="21" y="53"/>
                        </a:lnTo>
                        <a:lnTo>
                          <a:pt x="15" y="53"/>
                        </a:lnTo>
                        <a:lnTo>
                          <a:pt x="9" y="53"/>
                        </a:lnTo>
                        <a:lnTo>
                          <a:pt x="4" y="50"/>
                        </a:lnTo>
                        <a:lnTo>
                          <a:pt x="0" y="48"/>
                        </a:lnTo>
                        <a:lnTo>
                          <a:pt x="0" y="43"/>
                        </a:lnTo>
                        <a:lnTo>
                          <a:pt x="0" y="39"/>
                        </a:lnTo>
                        <a:lnTo>
                          <a:pt x="1" y="35"/>
                        </a:lnTo>
                        <a:lnTo>
                          <a:pt x="3" y="33"/>
                        </a:lnTo>
                        <a:lnTo>
                          <a:pt x="4" y="28"/>
                        </a:lnTo>
                        <a:lnTo>
                          <a:pt x="6" y="26"/>
                        </a:lnTo>
                        <a:lnTo>
                          <a:pt x="9" y="23"/>
                        </a:lnTo>
                        <a:lnTo>
                          <a:pt x="12" y="19"/>
                        </a:lnTo>
                        <a:lnTo>
                          <a:pt x="14" y="16"/>
                        </a:lnTo>
                        <a:lnTo>
                          <a:pt x="17" y="12"/>
                        </a:lnTo>
                        <a:lnTo>
                          <a:pt x="20" y="9"/>
                        </a:lnTo>
                        <a:lnTo>
                          <a:pt x="24" y="8"/>
                        </a:lnTo>
                        <a:lnTo>
                          <a:pt x="27" y="5"/>
                        </a:lnTo>
                        <a:lnTo>
                          <a:pt x="30" y="2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184"/>
                  <p:cNvSpPr/>
                  <p:nvPr/>
                </p:nvSpPr>
                <p:spPr>
                  <a:xfrm>
                    <a:off x="3886200" y="3560040"/>
                    <a:ext cx="9000" cy="1080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63" h="84">
                        <a:moveTo>
                          <a:pt x="47" y="0"/>
                        </a:moveTo>
                        <a:lnTo>
                          <a:pt x="50" y="1"/>
                        </a:lnTo>
                        <a:lnTo>
                          <a:pt x="53" y="4"/>
                        </a:lnTo>
                        <a:lnTo>
                          <a:pt x="55" y="5"/>
                        </a:lnTo>
                        <a:lnTo>
                          <a:pt x="58" y="8"/>
                        </a:lnTo>
                        <a:lnTo>
                          <a:pt x="61" y="14"/>
                        </a:lnTo>
                        <a:lnTo>
                          <a:pt x="63" y="18"/>
                        </a:lnTo>
                        <a:lnTo>
                          <a:pt x="63" y="23"/>
                        </a:lnTo>
                        <a:lnTo>
                          <a:pt x="61" y="29"/>
                        </a:lnTo>
                        <a:lnTo>
                          <a:pt x="60" y="34"/>
                        </a:lnTo>
                        <a:lnTo>
                          <a:pt x="56" y="41"/>
                        </a:lnTo>
                        <a:lnTo>
                          <a:pt x="52" y="47"/>
                        </a:lnTo>
                        <a:lnTo>
                          <a:pt x="49" y="52"/>
                        </a:lnTo>
                        <a:lnTo>
                          <a:pt x="44" y="58"/>
                        </a:lnTo>
                        <a:lnTo>
                          <a:pt x="40" y="63"/>
                        </a:lnTo>
                        <a:lnTo>
                          <a:pt x="35" y="69"/>
                        </a:lnTo>
                        <a:lnTo>
                          <a:pt x="32" y="74"/>
                        </a:lnTo>
                        <a:lnTo>
                          <a:pt x="27" y="78"/>
                        </a:lnTo>
                        <a:lnTo>
                          <a:pt x="24" y="84"/>
                        </a:lnTo>
                        <a:lnTo>
                          <a:pt x="18" y="82"/>
                        </a:lnTo>
                        <a:lnTo>
                          <a:pt x="12" y="81"/>
                        </a:lnTo>
                        <a:lnTo>
                          <a:pt x="9" y="80"/>
                        </a:lnTo>
                        <a:lnTo>
                          <a:pt x="6" y="80"/>
                        </a:lnTo>
                        <a:lnTo>
                          <a:pt x="3" y="80"/>
                        </a:lnTo>
                        <a:lnTo>
                          <a:pt x="0" y="80"/>
                        </a:lnTo>
                        <a:lnTo>
                          <a:pt x="1" y="74"/>
                        </a:lnTo>
                        <a:lnTo>
                          <a:pt x="4" y="69"/>
                        </a:lnTo>
                        <a:lnTo>
                          <a:pt x="6" y="63"/>
                        </a:lnTo>
                        <a:lnTo>
                          <a:pt x="9" y="58"/>
                        </a:lnTo>
                        <a:lnTo>
                          <a:pt x="12" y="52"/>
                        </a:lnTo>
                        <a:lnTo>
                          <a:pt x="15" y="47"/>
                        </a:lnTo>
                        <a:lnTo>
                          <a:pt x="17" y="43"/>
                        </a:lnTo>
                        <a:lnTo>
                          <a:pt x="21" y="38"/>
                        </a:lnTo>
                        <a:lnTo>
                          <a:pt x="23" y="33"/>
                        </a:lnTo>
                        <a:lnTo>
                          <a:pt x="26" y="27"/>
                        </a:lnTo>
                        <a:lnTo>
                          <a:pt x="29" y="23"/>
                        </a:lnTo>
                        <a:lnTo>
                          <a:pt x="34" y="19"/>
                        </a:lnTo>
                        <a:lnTo>
                          <a:pt x="37" y="14"/>
                        </a:lnTo>
                        <a:lnTo>
                          <a:pt x="40" y="10"/>
                        </a:lnTo>
                        <a:lnTo>
                          <a:pt x="44" y="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185"/>
                  <p:cNvSpPr/>
                  <p:nvPr/>
                </p:nvSpPr>
                <p:spPr>
                  <a:xfrm>
                    <a:off x="3886200" y="3571200"/>
                    <a:ext cx="10080" cy="133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72" h="103">
                        <a:moveTo>
                          <a:pt x="55" y="0"/>
                        </a:moveTo>
                        <a:lnTo>
                          <a:pt x="58" y="1"/>
                        </a:lnTo>
                        <a:lnTo>
                          <a:pt x="63" y="4"/>
                        </a:lnTo>
                        <a:lnTo>
                          <a:pt x="64" y="7"/>
                        </a:lnTo>
                        <a:lnTo>
                          <a:pt x="67" y="8"/>
                        </a:lnTo>
                        <a:lnTo>
                          <a:pt x="69" y="13"/>
                        </a:lnTo>
                        <a:lnTo>
                          <a:pt x="72" y="19"/>
                        </a:lnTo>
                        <a:lnTo>
                          <a:pt x="70" y="24"/>
                        </a:lnTo>
                        <a:lnTo>
                          <a:pt x="69" y="30"/>
                        </a:lnTo>
                        <a:lnTo>
                          <a:pt x="66" y="35"/>
                        </a:lnTo>
                        <a:lnTo>
                          <a:pt x="63" y="41"/>
                        </a:lnTo>
                        <a:lnTo>
                          <a:pt x="60" y="46"/>
                        </a:lnTo>
                        <a:lnTo>
                          <a:pt x="55" y="53"/>
                        </a:lnTo>
                        <a:lnTo>
                          <a:pt x="50" y="57"/>
                        </a:lnTo>
                        <a:lnTo>
                          <a:pt x="46" y="64"/>
                        </a:lnTo>
                        <a:lnTo>
                          <a:pt x="43" y="70"/>
                        </a:lnTo>
                        <a:lnTo>
                          <a:pt x="40" y="75"/>
                        </a:lnTo>
                        <a:lnTo>
                          <a:pt x="38" y="81"/>
                        </a:lnTo>
                        <a:lnTo>
                          <a:pt x="38" y="86"/>
                        </a:lnTo>
                        <a:lnTo>
                          <a:pt x="32" y="90"/>
                        </a:lnTo>
                        <a:lnTo>
                          <a:pt x="27" y="94"/>
                        </a:lnTo>
                        <a:lnTo>
                          <a:pt x="21" y="99"/>
                        </a:lnTo>
                        <a:lnTo>
                          <a:pt x="17" y="103"/>
                        </a:lnTo>
                        <a:lnTo>
                          <a:pt x="12" y="100"/>
                        </a:lnTo>
                        <a:lnTo>
                          <a:pt x="9" y="97"/>
                        </a:lnTo>
                        <a:lnTo>
                          <a:pt x="4" y="93"/>
                        </a:lnTo>
                        <a:lnTo>
                          <a:pt x="0" y="90"/>
                        </a:lnTo>
                        <a:lnTo>
                          <a:pt x="0" y="88"/>
                        </a:lnTo>
                        <a:lnTo>
                          <a:pt x="1" y="83"/>
                        </a:lnTo>
                        <a:lnTo>
                          <a:pt x="1" y="81"/>
                        </a:lnTo>
                        <a:lnTo>
                          <a:pt x="3" y="78"/>
                        </a:lnTo>
                        <a:lnTo>
                          <a:pt x="6" y="71"/>
                        </a:lnTo>
                        <a:lnTo>
                          <a:pt x="9" y="66"/>
                        </a:lnTo>
                        <a:lnTo>
                          <a:pt x="12" y="60"/>
                        </a:lnTo>
                        <a:lnTo>
                          <a:pt x="17" y="55"/>
                        </a:lnTo>
                        <a:lnTo>
                          <a:pt x="20" y="49"/>
                        </a:lnTo>
                        <a:lnTo>
                          <a:pt x="24" y="44"/>
                        </a:lnTo>
                        <a:lnTo>
                          <a:pt x="29" y="38"/>
                        </a:lnTo>
                        <a:lnTo>
                          <a:pt x="32" y="31"/>
                        </a:lnTo>
                        <a:lnTo>
                          <a:pt x="35" y="26"/>
                        </a:lnTo>
                        <a:lnTo>
                          <a:pt x="40" y="22"/>
                        </a:lnTo>
                        <a:lnTo>
                          <a:pt x="44" y="16"/>
                        </a:lnTo>
                        <a:lnTo>
                          <a:pt x="47" y="11"/>
                        </a:lnTo>
                        <a:lnTo>
                          <a:pt x="52" y="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186"/>
                  <p:cNvSpPr/>
                  <p:nvPr/>
                </p:nvSpPr>
                <p:spPr>
                  <a:xfrm>
                    <a:off x="3933000" y="3534120"/>
                    <a:ext cx="8640" cy="504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62" h="39">
                        <a:moveTo>
                          <a:pt x="12" y="0"/>
                        </a:moveTo>
                        <a:lnTo>
                          <a:pt x="15" y="0"/>
                        </a:lnTo>
                        <a:lnTo>
                          <a:pt x="18" y="0"/>
                        </a:lnTo>
                        <a:lnTo>
                          <a:pt x="24" y="2"/>
                        </a:lnTo>
                        <a:lnTo>
                          <a:pt x="29" y="3"/>
                        </a:lnTo>
                        <a:lnTo>
                          <a:pt x="35" y="6"/>
                        </a:lnTo>
                        <a:lnTo>
                          <a:pt x="41" y="9"/>
                        </a:lnTo>
                        <a:lnTo>
                          <a:pt x="46" y="10"/>
                        </a:lnTo>
                        <a:lnTo>
                          <a:pt x="52" y="14"/>
                        </a:lnTo>
                        <a:lnTo>
                          <a:pt x="55" y="15"/>
                        </a:lnTo>
                        <a:lnTo>
                          <a:pt x="59" y="20"/>
                        </a:lnTo>
                        <a:lnTo>
                          <a:pt x="61" y="22"/>
                        </a:lnTo>
                        <a:lnTo>
                          <a:pt x="62" y="26"/>
                        </a:lnTo>
                        <a:lnTo>
                          <a:pt x="61" y="29"/>
                        </a:lnTo>
                        <a:lnTo>
                          <a:pt x="59" y="32"/>
                        </a:lnTo>
                        <a:lnTo>
                          <a:pt x="56" y="35"/>
                        </a:lnTo>
                        <a:lnTo>
                          <a:pt x="55" y="36"/>
                        </a:lnTo>
                        <a:lnTo>
                          <a:pt x="52" y="37"/>
                        </a:lnTo>
                        <a:lnTo>
                          <a:pt x="49" y="39"/>
                        </a:lnTo>
                        <a:lnTo>
                          <a:pt x="44" y="39"/>
                        </a:lnTo>
                        <a:lnTo>
                          <a:pt x="41" y="39"/>
                        </a:lnTo>
                        <a:lnTo>
                          <a:pt x="36" y="37"/>
                        </a:lnTo>
                        <a:lnTo>
                          <a:pt x="32" y="37"/>
                        </a:lnTo>
                        <a:lnTo>
                          <a:pt x="26" y="35"/>
                        </a:lnTo>
                        <a:lnTo>
                          <a:pt x="21" y="33"/>
                        </a:lnTo>
                        <a:lnTo>
                          <a:pt x="15" y="31"/>
                        </a:lnTo>
                        <a:lnTo>
                          <a:pt x="10" y="28"/>
                        </a:lnTo>
                        <a:lnTo>
                          <a:pt x="6" y="25"/>
                        </a:lnTo>
                        <a:lnTo>
                          <a:pt x="3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187"/>
                  <p:cNvSpPr/>
                  <p:nvPr/>
                </p:nvSpPr>
                <p:spPr>
                  <a:xfrm>
                    <a:off x="3933360" y="3540960"/>
                    <a:ext cx="9000" cy="540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4" h="42">
                        <a:moveTo>
                          <a:pt x="12" y="0"/>
                        </a:moveTo>
                        <a:lnTo>
                          <a:pt x="15" y="2"/>
                        </a:lnTo>
                        <a:lnTo>
                          <a:pt x="20" y="2"/>
                        </a:lnTo>
                        <a:lnTo>
                          <a:pt x="24" y="5"/>
                        </a:lnTo>
                        <a:lnTo>
                          <a:pt x="30" y="6"/>
                        </a:lnTo>
                        <a:lnTo>
                          <a:pt x="35" y="7"/>
                        </a:lnTo>
                        <a:lnTo>
                          <a:pt x="41" y="10"/>
                        </a:lnTo>
                        <a:lnTo>
                          <a:pt x="47" y="11"/>
                        </a:lnTo>
                        <a:lnTo>
                          <a:pt x="52" y="16"/>
                        </a:lnTo>
                        <a:lnTo>
                          <a:pt x="56" y="17"/>
                        </a:lnTo>
                        <a:lnTo>
                          <a:pt x="59" y="20"/>
                        </a:lnTo>
                        <a:lnTo>
                          <a:pt x="62" y="24"/>
                        </a:lnTo>
                        <a:lnTo>
                          <a:pt x="64" y="27"/>
                        </a:lnTo>
                        <a:lnTo>
                          <a:pt x="62" y="31"/>
                        </a:lnTo>
                        <a:lnTo>
                          <a:pt x="61" y="33"/>
                        </a:lnTo>
                        <a:lnTo>
                          <a:pt x="58" y="35"/>
                        </a:lnTo>
                        <a:lnTo>
                          <a:pt x="56" y="38"/>
                        </a:lnTo>
                        <a:lnTo>
                          <a:pt x="53" y="39"/>
                        </a:lnTo>
                        <a:lnTo>
                          <a:pt x="50" y="42"/>
                        </a:lnTo>
                        <a:lnTo>
                          <a:pt x="46" y="42"/>
                        </a:lnTo>
                        <a:lnTo>
                          <a:pt x="41" y="42"/>
                        </a:lnTo>
                        <a:lnTo>
                          <a:pt x="35" y="40"/>
                        </a:lnTo>
                        <a:lnTo>
                          <a:pt x="30" y="39"/>
                        </a:lnTo>
                        <a:lnTo>
                          <a:pt x="26" y="36"/>
                        </a:lnTo>
                        <a:lnTo>
                          <a:pt x="20" y="35"/>
                        </a:lnTo>
                        <a:lnTo>
                          <a:pt x="15" y="32"/>
                        </a:lnTo>
                        <a:lnTo>
                          <a:pt x="10" y="29"/>
                        </a:lnTo>
                        <a:lnTo>
                          <a:pt x="4" y="25"/>
                        </a:lnTo>
                        <a:lnTo>
                          <a:pt x="1" y="21"/>
                        </a:ln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1" y="7"/>
                        </a:lnTo>
                        <a:lnTo>
                          <a:pt x="3" y="5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188"/>
                  <p:cNvSpPr/>
                  <p:nvPr/>
                </p:nvSpPr>
                <p:spPr>
                  <a:xfrm>
                    <a:off x="3932640" y="3549240"/>
                    <a:ext cx="9360" cy="5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67" h="39">
                        <a:moveTo>
                          <a:pt x="12" y="0"/>
                        </a:moveTo>
                        <a:lnTo>
                          <a:pt x="14" y="0"/>
                        </a:lnTo>
                        <a:lnTo>
                          <a:pt x="18" y="2"/>
                        </a:lnTo>
                        <a:lnTo>
                          <a:pt x="23" y="2"/>
                        </a:lnTo>
                        <a:lnTo>
                          <a:pt x="31" y="3"/>
                        </a:lnTo>
                        <a:lnTo>
                          <a:pt x="35" y="4"/>
                        </a:lnTo>
                        <a:lnTo>
                          <a:pt x="41" y="7"/>
                        </a:lnTo>
                        <a:lnTo>
                          <a:pt x="48" y="8"/>
                        </a:lnTo>
                        <a:lnTo>
                          <a:pt x="54" y="11"/>
                        </a:lnTo>
                        <a:lnTo>
                          <a:pt x="58" y="14"/>
                        </a:lnTo>
                        <a:lnTo>
                          <a:pt x="63" y="17"/>
                        </a:lnTo>
                        <a:lnTo>
                          <a:pt x="66" y="19"/>
                        </a:lnTo>
                        <a:lnTo>
                          <a:pt x="67" y="22"/>
                        </a:lnTo>
                        <a:lnTo>
                          <a:pt x="67" y="26"/>
                        </a:lnTo>
                        <a:lnTo>
                          <a:pt x="66" y="30"/>
                        </a:lnTo>
                        <a:lnTo>
                          <a:pt x="63" y="32"/>
                        </a:lnTo>
                        <a:lnTo>
                          <a:pt x="61" y="35"/>
                        </a:lnTo>
                        <a:lnTo>
                          <a:pt x="58" y="36"/>
                        </a:lnTo>
                        <a:lnTo>
                          <a:pt x="55" y="39"/>
                        </a:lnTo>
                        <a:lnTo>
                          <a:pt x="51" y="39"/>
                        </a:lnTo>
                        <a:lnTo>
                          <a:pt x="46" y="37"/>
                        </a:lnTo>
                        <a:lnTo>
                          <a:pt x="40" y="36"/>
                        </a:lnTo>
                        <a:lnTo>
                          <a:pt x="34" y="35"/>
                        </a:lnTo>
                        <a:lnTo>
                          <a:pt x="28" y="33"/>
                        </a:lnTo>
                        <a:lnTo>
                          <a:pt x="23" y="32"/>
                        </a:lnTo>
                        <a:lnTo>
                          <a:pt x="17" y="29"/>
                        </a:lnTo>
                        <a:lnTo>
                          <a:pt x="12" y="28"/>
                        </a:lnTo>
                        <a:lnTo>
                          <a:pt x="8" y="24"/>
                        </a:lnTo>
                        <a:lnTo>
                          <a:pt x="5" y="21"/>
                        </a:lnTo>
                        <a:lnTo>
                          <a:pt x="2" y="18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2" y="7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189"/>
                  <p:cNvSpPr/>
                  <p:nvPr/>
                </p:nvSpPr>
                <p:spPr>
                  <a:xfrm>
                    <a:off x="3935160" y="3555720"/>
                    <a:ext cx="7920" cy="576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56" h="45">
                        <a:moveTo>
                          <a:pt x="14" y="0"/>
                        </a:moveTo>
                        <a:lnTo>
                          <a:pt x="17" y="1"/>
                        </a:lnTo>
                        <a:lnTo>
                          <a:pt x="20" y="2"/>
                        </a:lnTo>
                        <a:lnTo>
                          <a:pt x="25" y="4"/>
                        </a:lnTo>
                        <a:lnTo>
                          <a:pt x="30" y="7"/>
                        </a:lnTo>
                        <a:lnTo>
                          <a:pt x="34" y="8"/>
                        </a:lnTo>
                        <a:lnTo>
                          <a:pt x="39" y="12"/>
                        </a:lnTo>
                        <a:lnTo>
                          <a:pt x="43" y="15"/>
                        </a:lnTo>
                        <a:lnTo>
                          <a:pt x="48" y="19"/>
                        </a:lnTo>
                        <a:lnTo>
                          <a:pt x="51" y="22"/>
                        </a:lnTo>
                        <a:lnTo>
                          <a:pt x="52" y="24"/>
                        </a:lnTo>
                        <a:lnTo>
                          <a:pt x="56" y="28"/>
                        </a:lnTo>
                        <a:lnTo>
                          <a:pt x="56" y="33"/>
                        </a:lnTo>
                        <a:lnTo>
                          <a:pt x="54" y="35"/>
                        </a:lnTo>
                        <a:lnTo>
                          <a:pt x="52" y="38"/>
                        </a:lnTo>
                        <a:lnTo>
                          <a:pt x="49" y="41"/>
                        </a:lnTo>
                        <a:lnTo>
                          <a:pt x="48" y="42"/>
                        </a:lnTo>
                        <a:lnTo>
                          <a:pt x="45" y="44"/>
                        </a:lnTo>
                        <a:lnTo>
                          <a:pt x="42" y="45"/>
                        </a:lnTo>
                        <a:lnTo>
                          <a:pt x="37" y="44"/>
                        </a:lnTo>
                        <a:lnTo>
                          <a:pt x="33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6" y="34"/>
                        </a:lnTo>
                        <a:lnTo>
                          <a:pt x="11" y="30"/>
                        </a:lnTo>
                        <a:lnTo>
                          <a:pt x="8" y="27"/>
                        </a:lnTo>
                        <a:lnTo>
                          <a:pt x="5" y="23"/>
                        </a:lnTo>
                        <a:lnTo>
                          <a:pt x="2" y="20"/>
                        </a:lnTo>
                        <a:lnTo>
                          <a:pt x="0" y="16"/>
                        </a:lnTo>
                        <a:lnTo>
                          <a:pt x="2" y="13"/>
                        </a:lnTo>
                        <a:lnTo>
                          <a:pt x="2" y="9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190"/>
                  <p:cNvSpPr/>
                  <p:nvPr/>
                </p:nvSpPr>
                <p:spPr>
                  <a:xfrm>
                    <a:off x="3971520" y="3577320"/>
                    <a:ext cx="6120" cy="122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44" h="96">
                        <a:moveTo>
                          <a:pt x="17" y="0"/>
                        </a:moveTo>
                        <a:lnTo>
                          <a:pt x="21" y="2"/>
                        </a:lnTo>
                        <a:lnTo>
                          <a:pt x="26" y="5"/>
                        </a:lnTo>
                        <a:lnTo>
                          <a:pt x="29" y="9"/>
                        </a:lnTo>
                        <a:lnTo>
                          <a:pt x="32" y="15"/>
                        </a:lnTo>
                        <a:lnTo>
                          <a:pt x="33" y="19"/>
                        </a:lnTo>
                        <a:lnTo>
                          <a:pt x="33" y="23"/>
                        </a:lnTo>
                        <a:lnTo>
                          <a:pt x="33" y="30"/>
                        </a:lnTo>
                        <a:lnTo>
                          <a:pt x="35" y="35"/>
                        </a:lnTo>
                        <a:lnTo>
                          <a:pt x="35" y="41"/>
                        </a:lnTo>
                        <a:lnTo>
                          <a:pt x="35" y="46"/>
                        </a:lnTo>
                        <a:lnTo>
                          <a:pt x="35" y="52"/>
                        </a:lnTo>
                        <a:lnTo>
                          <a:pt x="35" y="59"/>
                        </a:lnTo>
                        <a:lnTo>
                          <a:pt x="37" y="64"/>
                        </a:lnTo>
                        <a:lnTo>
                          <a:pt x="38" y="70"/>
                        </a:lnTo>
                        <a:lnTo>
                          <a:pt x="40" y="74"/>
                        </a:lnTo>
                        <a:lnTo>
                          <a:pt x="44" y="79"/>
                        </a:lnTo>
                        <a:lnTo>
                          <a:pt x="40" y="83"/>
                        </a:lnTo>
                        <a:lnTo>
                          <a:pt x="37" y="88"/>
                        </a:lnTo>
                        <a:lnTo>
                          <a:pt x="33" y="92"/>
                        </a:lnTo>
                        <a:lnTo>
                          <a:pt x="32" y="96"/>
                        </a:lnTo>
                        <a:lnTo>
                          <a:pt x="27" y="93"/>
                        </a:lnTo>
                        <a:lnTo>
                          <a:pt x="23" y="92"/>
                        </a:lnTo>
                        <a:lnTo>
                          <a:pt x="20" y="90"/>
                        </a:lnTo>
                        <a:lnTo>
                          <a:pt x="18" y="89"/>
                        </a:lnTo>
                        <a:lnTo>
                          <a:pt x="12" y="83"/>
                        </a:lnTo>
                        <a:lnTo>
                          <a:pt x="9" y="78"/>
                        </a:lnTo>
                        <a:lnTo>
                          <a:pt x="6" y="75"/>
                        </a:lnTo>
                        <a:lnTo>
                          <a:pt x="4" y="71"/>
                        </a:lnTo>
                        <a:lnTo>
                          <a:pt x="3" y="68"/>
                        </a:lnTo>
                        <a:lnTo>
                          <a:pt x="3" y="66"/>
                        </a:lnTo>
                        <a:lnTo>
                          <a:pt x="1" y="62"/>
                        </a:lnTo>
                        <a:lnTo>
                          <a:pt x="0" y="57"/>
                        </a:lnTo>
                        <a:lnTo>
                          <a:pt x="0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5"/>
                        </a:lnTo>
                        <a:lnTo>
                          <a:pt x="0" y="33"/>
                        </a:lnTo>
                        <a:lnTo>
                          <a:pt x="1" y="29"/>
                        </a:lnTo>
                        <a:lnTo>
                          <a:pt x="1" y="26"/>
                        </a:lnTo>
                        <a:lnTo>
                          <a:pt x="3" y="22"/>
                        </a:lnTo>
                        <a:lnTo>
                          <a:pt x="3" y="19"/>
                        </a:lnTo>
                        <a:lnTo>
                          <a:pt x="4" y="15"/>
                        </a:lnTo>
                        <a:lnTo>
                          <a:pt x="6" y="12"/>
                        </a:lnTo>
                        <a:lnTo>
                          <a:pt x="9" y="9"/>
                        </a:lnTo>
                        <a:lnTo>
                          <a:pt x="12" y="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191"/>
                  <p:cNvSpPr/>
                  <p:nvPr/>
                </p:nvSpPr>
                <p:spPr>
                  <a:xfrm>
                    <a:off x="3978360" y="3577680"/>
                    <a:ext cx="3960" cy="576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29" h="46">
                        <a:moveTo>
                          <a:pt x="12" y="0"/>
                        </a:moveTo>
                        <a:lnTo>
                          <a:pt x="17" y="0"/>
                        </a:lnTo>
                        <a:lnTo>
                          <a:pt x="22" y="3"/>
                        </a:lnTo>
                        <a:lnTo>
                          <a:pt x="25" y="6"/>
                        </a:lnTo>
                        <a:lnTo>
                          <a:pt x="28" y="10"/>
                        </a:lnTo>
                        <a:lnTo>
                          <a:pt x="28" y="16"/>
                        </a:lnTo>
                        <a:lnTo>
                          <a:pt x="29" y="21"/>
                        </a:lnTo>
                        <a:lnTo>
                          <a:pt x="29" y="27"/>
                        </a:lnTo>
                        <a:lnTo>
                          <a:pt x="29" y="32"/>
                        </a:lnTo>
                        <a:lnTo>
                          <a:pt x="28" y="36"/>
                        </a:lnTo>
                        <a:lnTo>
                          <a:pt x="25" y="40"/>
                        </a:lnTo>
                        <a:lnTo>
                          <a:pt x="22" y="43"/>
                        </a:lnTo>
                        <a:lnTo>
                          <a:pt x="19" y="46"/>
                        </a:lnTo>
                        <a:lnTo>
                          <a:pt x="14" y="46"/>
                        </a:lnTo>
                        <a:lnTo>
                          <a:pt x="9" y="43"/>
                        </a:lnTo>
                        <a:lnTo>
                          <a:pt x="6" y="42"/>
                        </a:lnTo>
                        <a:lnTo>
                          <a:pt x="5" y="40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31"/>
                        </a:lnTo>
                        <a:lnTo>
                          <a:pt x="0" y="25"/>
                        </a:lnTo>
                        <a:lnTo>
                          <a:pt x="3" y="20"/>
                        </a:lnTo>
                        <a:lnTo>
                          <a:pt x="5" y="16"/>
                        </a:lnTo>
                        <a:lnTo>
                          <a:pt x="6" y="9"/>
                        </a:lnTo>
                        <a:lnTo>
                          <a:pt x="9" y="5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192"/>
                  <p:cNvSpPr/>
                  <p:nvPr/>
                </p:nvSpPr>
                <p:spPr>
                  <a:xfrm>
                    <a:off x="3849480" y="3628080"/>
                    <a:ext cx="79200" cy="756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551" h="61">
                        <a:moveTo>
                          <a:pt x="372" y="0"/>
                        </a:moveTo>
                        <a:lnTo>
                          <a:pt x="377" y="0"/>
                        </a:lnTo>
                        <a:lnTo>
                          <a:pt x="383" y="0"/>
                        </a:lnTo>
                        <a:lnTo>
                          <a:pt x="387" y="0"/>
                        </a:lnTo>
                        <a:lnTo>
                          <a:pt x="394" y="0"/>
                        </a:lnTo>
                        <a:lnTo>
                          <a:pt x="398" y="0"/>
                        </a:lnTo>
                        <a:lnTo>
                          <a:pt x="404" y="0"/>
                        </a:lnTo>
                        <a:lnTo>
                          <a:pt x="410" y="0"/>
                        </a:lnTo>
                        <a:lnTo>
                          <a:pt x="415" y="2"/>
                        </a:lnTo>
                        <a:lnTo>
                          <a:pt x="421" y="0"/>
                        </a:lnTo>
                        <a:lnTo>
                          <a:pt x="426" y="0"/>
                        </a:lnTo>
                        <a:lnTo>
                          <a:pt x="432" y="0"/>
                        </a:lnTo>
                        <a:lnTo>
                          <a:pt x="438" y="0"/>
                        </a:lnTo>
                        <a:lnTo>
                          <a:pt x="442" y="0"/>
                        </a:lnTo>
                        <a:lnTo>
                          <a:pt x="449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5" y="0"/>
                        </a:lnTo>
                        <a:lnTo>
                          <a:pt x="470" y="0"/>
                        </a:lnTo>
                        <a:lnTo>
                          <a:pt x="476" y="0"/>
                        </a:lnTo>
                        <a:lnTo>
                          <a:pt x="482" y="0"/>
                        </a:lnTo>
                        <a:lnTo>
                          <a:pt x="487" y="0"/>
                        </a:lnTo>
                        <a:lnTo>
                          <a:pt x="493" y="0"/>
                        </a:lnTo>
                        <a:lnTo>
                          <a:pt x="499" y="0"/>
                        </a:lnTo>
                        <a:lnTo>
                          <a:pt x="504" y="0"/>
                        </a:lnTo>
                        <a:lnTo>
                          <a:pt x="510" y="0"/>
                        </a:lnTo>
                        <a:lnTo>
                          <a:pt x="514" y="0"/>
                        </a:lnTo>
                        <a:lnTo>
                          <a:pt x="520" y="2"/>
                        </a:lnTo>
                        <a:lnTo>
                          <a:pt x="527" y="2"/>
                        </a:lnTo>
                        <a:lnTo>
                          <a:pt x="531" y="2"/>
                        </a:lnTo>
                        <a:lnTo>
                          <a:pt x="537" y="3"/>
                        </a:lnTo>
                        <a:lnTo>
                          <a:pt x="543" y="3"/>
                        </a:lnTo>
                        <a:lnTo>
                          <a:pt x="548" y="4"/>
                        </a:lnTo>
                        <a:lnTo>
                          <a:pt x="548" y="8"/>
                        </a:lnTo>
                        <a:lnTo>
                          <a:pt x="550" y="14"/>
                        </a:lnTo>
                        <a:lnTo>
                          <a:pt x="551" y="19"/>
                        </a:lnTo>
                        <a:lnTo>
                          <a:pt x="551" y="25"/>
                        </a:lnTo>
                        <a:lnTo>
                          <a:pt x="543" y="25"/>
                        </a:lnTo>
                        <a:lnTo>
                          <a:pt x="536" y="25"/>
                        </a:lnTo>
                        <a:lnTo>
                          <a:pt x="528" y="25"/>
                        </a:lnTo>
                        <a:lnTo>
                          <a:pt x="520" y="25"/>
                        </a:lnTo>
                        <a:lnTo>
                          <a:pt x="513" y="25"/>
                        </a:lnTo>
                        <a:lnTo>
                          <a:pt x="505" y="26"/>
                        </a:lnTo>
                        <a:lnTo>
                          <a:pt x="498" y="26"/>
                        </a:lnTo>
                        <a:lnTo>
                          <a:pt x="490" y="26"/>
                        </a:lnTo>
                        <a:lnTo>
                          <a:pt x="482" y="26"/>
                        </a:lnTo>
                        <a:lnTo>
                          <a:pt x="475" y="26"/>
                        </a:lnTo>
                        <a:lnTo>
                          <a:pt x="465" y="26"/>
                        </a:lnTo>
                        <a:lnTo>
                          <a:pt x="459" y="26"/>
                        </a:lnTo>
                        <a:lnTo>
                          <a:pt x="452" y="26"/>
                        </a:lnTo>
                        <a:lnTo>
                          <a:pt x="444" y="28"/>
                        </a:lnTo>
                        <a:lnTo>
                          <a:pt x="436" y="28"/>
                        </a:lnTo>
                        <a:lnTo>
                          <a:pt x="429" y="28"/>
                        </a:lnTo>
                        <a:lnTo>
                          <a:pt x="421" y="28"/>
                        </a:lnTo>
                        <a:lnTo>
                          <a:pt x="413" y="28"/>
                        </a:lnTo>
                        <a:lnTo>
                          <a:pt x="404" y="28"/>
                        </a:lnTo>
                        <a:lnTo>
                          <a:pt x="398" y="29"/>
                        </a:lnTo>
                        <a:lnTo>
                          <a:pt x="389" y="29"/>
                        </a:lnTo>
                        <a:lnTo>
                          <a:pt x="381" y="29"/>
                        </a:lnTo>
                        <a:lnTo>
                          <a:pt x="374" y="29"/>
                        </a:lnTo>
                        <a:lnTo>
                          <a:pt x="368" y="29"/>
                        </a:lnTo>
                        <a:lnTo>
                          <a:pt x="358" y="29"/>
                        </a:lnTo>
                        <a:lnTo>
                          <a:pt x="351" y="29"/>
                        </a:lnTo>
                        <a:lnTo>
                          <a:pt x="343" y="29"/>
                        </a:lnTo>
                        <a:lnTo>
                          <a:pt x="335" y="30"/>
                        </a:lnTo>
                        <a:lnTo>
                          <a:pt x="329" y="30"/>
                        </a:lnTo>
                        <a:lnTo>
                          <a:pt x="322" y="30"/>
                        </a:lnTo>
                        <a:lnTo>
                          <a:pt x="314" y="32"/>
                        </a:lnTo>
                        <a:lnTo>
                          <a:pt x="306" y="32"/>
                        </a:lnTo>
                        <a:lnTo>
                          <a:pt x="299" y="32"/>
                        </a:lnTo>
                        <a:lnTo>
                          <a:pt x="291" y="32"/>
                        </a:lnTo>
                        <a:lnTo>
                          <a:pt x="282" y="32"/>
                        </a:lnTo>
                        <a:lnTo>
                          <a:pt x="274" y="33"/>
                        </a:lnTo>
                        <a:lnTo>
                          <a:pt x="267" y="33"/>
                        </a:lnTo>
                        <a:lnTo>
                          <a:pt x="259" y="33"/>
                        </a:lnTo>
                        <a:lnTo>
                          <a:pt x="251" y="35"/>
                        </a:lnTo>
                        <a:lnTo>
                          <a:pt x="244" y="36"/>
                        </a:lnTo>
                        <a:lnTo>
                          <a:pt x="236" y="36"/>
                        </a:lnTo>
                        <a:lnTo>
                          <a:pt x="228" y="36"/>
                        </a:lnTo>
                        <a:lnTo>
                          <a:pt x="222" y="36"/>
                        </a:lnTo>
                        <a:lnTo>
                          <a:pt x="215" y="37"/>
                        </a:lnTo>
                        <a:lnTo>
                          <a:pt x="207" y="37"/>
                        </a:lnTo>
                        <a:lnTo>
                          <a:pt x="199" y="39"/>
                        </a:lnTo>
                        <a:lnTo>
                          <a:pt x="192" y="39"/>
                        </a:lnTo>
                        <a:lnTo>
                          <a:pt x="185" y="40"/>
                        </a:lnTo>
                        <a:lnTo>
                          <a:pt x="178" y="41"/>
                        </a:lnTo>
                        <a:lnTo>
                          <a:pt x="170" y="41"/>
                        </a:lnTo>
                        <a:lnTo>
                          <a:pt x="163" y="43"/>
                        </a:lnTo>
                        <a:lnTo>
                          <a:pt x="155" y="44"/>
                        </a:lnTo>
                        <a:lnTo>
                          <a:pt x="147" y="44"/>
                        </a:lnTo>
                        <a:lnTo>
                          <a:pt x="140" y="46"/>
                        </a:lnTo>
                        <a:lnTo>
                          <a:pt x="132" y="46"/>
                        </a:lnTo>
                        <a:lnTo>
                          <a:pt x="126" y="48"/>
                        </a:lnTo>
                        <a:lnTo>
                          <a:pt x="118" y="48"/>
                        </a:lnTo>
                        <a:lnTo>
                          <a:pt x="111" y="50"/>
                        </a:lnTo>
                        <a:lnTo>
                          <a:pt x="103" y="51"/>
                        </a:lnTo>
                        <a:lnTo>
                          <a:pt x="97" y="52"/>
                        </a:lnTo>
                        <a:lnTo>
                          <a:pt x="89" y="54"/>
                        </a:lnTo>
                        <a:lnTo>
                          <a:pt x="81" y="55"/>
                        </a:lnTo>
                        <a:lnTo>
                          <a:pt x="75" y="58"/>
                        </a:lnTo>
                        <a:lnTo>
                          <a:pt x="68" y="59"/>
                        </a:lnTo>
                        <a:lnTo>
                          <a:pt x="65" y="59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4" y="59"/>
                        </a:lnTo>
                        <a:lnTo>
                          <a:pt x="49" y="59"/>
                        </a:lnTo>
                        <a:lnTo>
                          <a:pt x="45" y="59"/>
                        </a:lnTo>
                        <a:lnTo>
                          <a:pt x="39" y="59"/>
                        </a:lnTo>
                        <a:lnTo>
                          <a:pt x="34" y="61"/>
                        </a:lnTo>
                        <a:lnTo>
                          <a:pt x="29" y="61"/>
                        </a:lnTo>
                        <a:lnTo>
                          <a:pt x="23" y="61"/>
                        </a:lnTo>
                        <a:lnTo>
                          <a:pt x="19" y="61"/>
                        </a:lnTo>
                        <a:lnTo>
                          <a:pt x="16" y="61"/>
                        </a:lnTo>
                        <a:lnTo>
                          <a:pt x="11" y="61"/>
                        </a:lnTo>
                        <a:lnTo>
                          <a:pt x="8" y="61"/>
                        </a:lnTo>
                        <a:lnTo>
                          <a:pt x="5" y="61"/>
                        </a:lnTo>
                        <a:lnTo>
                          <a:pt x="3" y="61"/>
                        </a:lnTo>
                        <a:lnTo>
                          <a:pt x="2" y="55"/>
                        </a:lnTo>
                        <a:lnTo>
                          <a:pt x="2" y="50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5" y="39"/>
                        </a:lnTo>
                        <a:lnTo>
                          <a:pt x="11" y="37"/>
                        </a:lnTo>
                        <a:lnTo>
                          <a:pt x="17" y="36"/>
                        </a:lnTo>
                        <a:lnTo>
                          <a:pt x="22" y="36"/>
                        </a:lnTo>
                        <a:lnTo>
                          <a:pt x="28" y="33"/>
                        </a:lnTo>
                        <a:lnTo>
                          <a:pt x="34" y="32"/>
                        </a:lnTo>
                        <a:lnTo>
                          <a:pt x="39" y="32"/>
                        </a:lnTo>
                        <a:lnTo>
                          <a:pt x="45" y="30"/>
                        </a:lnTo>
                        <a:lnTo>
                          <a:pt x="51" y="29"/>
                        </a:lnTo>
                        <a:lnTo>
                          <a:pt x="55" y="29"/>
                        </a:lnTo>
                        <a:lnTo>
                          <a:pt x="62" y="28"/>
                        </a:lnTo>
                        <a:lnTo>
                          <a:pt x="68" y="26"/>
                        </a:lnTo>
                        <a:lnTo>
                          <a:pt x="72" y="26"/>
                        </a:lnTo>
                        <a:lnTo>
                          <a:pt x="78" y="25"/>
                        </a:lnTo>
                        <a:lnTo>
                          <a:pt x="85" y="24"/>
                        </a:lnTo>
                        <a:lnTo>
                          <a:pt x="91" y="24"/>
                        </a:lnTo>
                        <a:lnTo>
                          <a:pt x="95" y="22"/>
                        </a:lnTo>
                        <a:lnTo>
                          <a:pt x="101" y="22"/>
                        </a:lnTo>
                        <a:lnTo>
                          <a:pt x="107" y="21"/>
                        </a:lnTo>
                        <a:lnTo>
                          <a:pt x="112" y="19"/>
                        </a:lnTo>
                        <a:lnTo>
                          <a:pt x="118" y="19"/>
                        </a:lnTo>
                        <a:lnTo>
                          <a:pt x="124" y="18"/>
                        </a:lnTo>
                        <a:lnTo>
                          <a:pt x="130" y="17"/>
                        </a:lnTo>
                        <a:lnTo>
                          <a:pt x="137" y="17"/>
                        </a:lnTo>
                        <a:lnTo>
                          <a:pt x="141" y="15"/>
                        </a:lnTo>
                        <a:lnTo>
                          <a:pt x="147" y="15"/>
                        </a:lnTo>
                        <a:lnTo>
                          <a:pt x="153" y="14"/>
                        </a:lnTo>
                        <a:lnTo>
                          <a:pt x="159" y="14"/>
                        </a:lnTo>
                        <a:lnTo>
                          <a:pt x="164" y="14"/>
                        </a:lnTo>
                        <a:lnTo>
                          <a:pt x="172" y="13"/>
                        </a:lnTo>
                        <a:lnTo>
                          <a:pt x="176" y="13"/>
                        </a:lnTo>
                        <a:lnTo>
                          <a:pt x="182" y="13"/>
                        </a:lnTo>
                        <a:lnTo>
                          <a:pt x="189" y="11"/>
                        </a:lnTo>
                        <a:lnTo>
                          <a:pt x="195" y="11"/>
                        </a:lnTo>
                        <a:lnTo>
                          <a:pt x="199" y="10"/>
                        </a:lnTo>
                        <a:lnTo>
                          <a:pt x="205" y="10"/>
                        </a:lnTo>
                        <a:lnTo>
                          <a:pt x="211" y="10"/>
                        </a:lnTo>
                        <a:lnTo>
                          <a:pt x="218" y="8"/>
                        </a:lnTo>
                        <a:lnTo>
                          <a:pt x="224" y="8"/>
                        </a:lnTo>
                        <a:lnTo>
                          <a:pt x="230" y="8"/>
                        </a:lnTo>
                        <a:lnTo>
                          <a:pt x="236" y="7"/>
                        </a:lnTo>
                        <a:lnTo>
                          <a:pt x="241" y="7"/>
                        </a:lnTo>
                        <a:lnTo>
                          <a:pt x="247" y="7"/>
                        </a:lnTo>
                        <a:lnTo>
                          <a:pt x="253" y="7"/>
                        </a:lnTo>
                        <a:lnTo>
                          <a:pt x="259" y="6"/>
                        </a:lnTo>
                        <a:lnTo>
                          <a:pt x="265" y="6"/>
                        </a:lnTo>
                        <a:lnTo>
                          <a:pt x="271" y="4"/>
                        </a:lnTo>
                        <a:lnTo>
                          <a:pt x="277" y="4"/>
                        </a:lnTo>
                        <a:lnTo>
                          <a:pt x="282" y="4"/>
                        </a:lnTo>
                        <a:lnTo>
                          <a:pt x="288" y="4"/>
                        </a:lnTo>
                        <a:lnTo>
                          <a:pt x="294" y="3"/>
                        </a:lnTo>
                        <a:lnTo>
                          <a:pt x="300" y="3"/>
                        </a:lnTo>
                        <a:lnTo>
                          <a:pt x="305" y="3"/>
                        </a:lnTo>
                        <a:lnTo>
                          <a:pt x="311" y="3"/>
                        </a:lnTo>
                        <a:lnTo>
                          <a:pt x="319" y="2"/>
                        </a:lnTo>
                        <a:lnTo>
                          <a:pt x="325" y="2"/>
                        </a:lnTo>
                        <a:lnTo>
                          <a:pt x="329" y="2"/>
                        </a:lnTo>
                        <a:lnTo>
                          <a:pt x="335" y="2"/>
                        </a:lnTo>
                        <a:lnTo>
                          <a:pt x="342" y="2"/>
                        </a:lnTo>
                        <a:lnTo>
                          <a:pt x="348" y="2"/>
                        </a:lnTo>
                        <a:lnTo>
                          <a:pt x="352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193"/>
                  <p:cNvSpPr/>
                  <p:nvPr/>
                </p:nvSpPr>
                <p:spPr>
                  <a:xfrm>
                    <a:off x="3859200" y="3520080"/>
                    <a:ext cx="30240" cy="7200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211" h="551">
                        <a:moveTo>
                          <a:pt x="61" y="43"/>
                        </a:moveTo>
                        <a:lnTo>
                          <a:pt x="61" y="47"/>
                        </a:lnTo>
                        <a:lnTo>
                          <a:pt x="63" y="51"/>
                        </a:lnTo>
                        <a:lnTo>
                          <a:pt x="63" y="57"/>
                        </a:lnTo>
                        <a:lnTo>
                          <a:pt x="64" y="62"/>
                        </a:lnTo>
                        <a:lnTo>
                          <a:pt x="64" y="66"/>
                        </a:lnTo>
                        <a:lnTo>
                          <a:pt x="66" y="72"/>
                        </a:lnTo>
                        <a:lnTo>
                          <a:pt x="66" y="79"/>
                        </a:lnTo>
                        <a:lnTo>
                          <a:pt x="67" y="84"/>
                        </a:lnTo>
                        <a:lnTo>
                          <a:pt x="67" y="88"/>
                        </a:lnTo>
                        <a:lnTo>
                          <a:pt x="67" y="94"/>
                        </a:lnTo>
                        <a:lnTo>
                          <a:pt x="67" y="99"/>
                        </a:lnTo>
                        <a:lnTo>
                          <a:pt x="67" y="105"/>
                        </a:lnTo>
                        <a:lnTo>
                          <a:pt x="67" y="109"/>
                        </a:lnTo>
                        <a:lnTo>
                          <a:pt x="67" y="114"/>
                        </a:lnTo>
                        <a:lnTo>
                          <a:pt x="66" y="118"/>
                        </a:lnTo>
                        <a:lnTo>
                          <a:pt x="64" y="122"/>
                        </a:lnTo>
                        <a:lnTo>
                          <a:pt x="64" y="118"/>
                        </a:lnTo>
                        <a:lnTo>
                          <a:pt x="64" y="116"/>
                        </a:lnTo>
                        <a:lnTo>
                          <a:pt x="64" y="112"/>
                        </a:lnTo>
                        <a:lnTo>
                          <a:pt x="64" y="109"/>
                        </a:lnTo>
                        <a:lnTo>
                          <a:pt x="63" y="105"/>
                        </a:lnTo>
                        <a:lnTo>
                          <a:pt x="63" y="102"/>
                        </a:lnTo>
                        <a:lnTo>
                          <a:pt x="63" y="98"/>
                        </a:lnTo>
                        <a:lnTo>
                          <a:pt x="63" y="95"/>
                        </a:lnTo>
                        <a:lnTo>
                          <a:pt x="61" y="91"/>
                        </a:lnTo>
                        <a:lnTo>
                          <a:pt x="61" y="88"/>
                        </a:lnTo>
                        <a:lnTo>
                          <a:pt x="61" y="84"/>
                        </a:lnTo>
                        <a:lnTo>
                          <a:pt x="60" y="81"/>
                        </a:lnTo>
                        <a:lnTo>
                          <a:pt x="60" y="79"/>
                        </a:lnTo>
                        <a:lnTo>
                          <a:pt x="58" y="76"/>
                        </a:lnTo>
                        <a:lnTo>
                          <a:pt x="58" y="72"/>
                        </a:lnTo>
                        <a:lnTo>
                          <a:pt x="58" y="69"/>
                        </a:lnTo>
                        <a:lnTo>
                          <a:pt x="57" y="66"/>
                        </a:lnTo>
                        <a:lnTo>
                          <a:pt x="57" y="62"/>
                        </a:lnTo>
                        <a:lnTo>
                          <a:pt x="55" y="59"/>
                        </a:lnTo>
                        <a:lnTo>
                          <a:pt x="54" y="55"/>
                        </a:lnTo>
                        <a:lnTo>
                          <a:pt x="54" y="52"/>
                        </a:lnTo>
                        <a:lnTo>
                          <a:pt x="52" y="48"/>
                        </a:lnTo>
                        <a:lnTo>
                          <a:pt x="52" y="46"/>
                        </a:lnTo>
                        <a:lnTo>
                          <a:pt x="50" y="42"/>
                        </a:lnTo>
                        <a:lnTo>
                          <a:pt x="50" y="39"/>
                        </a:lnTo>
                        <a:lnTo>
                          <a:pt x="49" y="35"/>
                        </a:lnTo>
                        <a:lnTo>
                          <a:pt x="47" y="32"/>
                        </a:lnTo>
                        <a:lnTo>
                          <a:pt x="47" y="29"/>
                        </a:lnTo>
                        <a:lnTo>
                          <a:pt x="46" y="25"/>
                        </a:lnTo>
                        <a:lnTo>
                          <a:pt x="46" y="22"/>
                        </a:lnTo>
                        <a:lnTo>
                          <a:pt x="44" y="18"/>
                        </a:lnTo>
                        <a:lnTo>
                          <a:pt x="44" y="15"/>
                        </a:lnTo>
                        <a:lnTo>
                          <a:pt x="29" y="14"/>
                        </a:lnTo>
                        <a:lnTo>
                          <a:pt x="29" y="17"/>
                        </a:lnTo>
                        <a:lnTo>
                          <a:pt x="31" y="20"/>
                        </a:lnTo>
                        <a:lnTo>
                          <a:pt x="32" y="24"/>
                        </a:lnTo>
                        <a:lnTo>
                          <a:pt x="34" y="26"/>
                        </a:lnTo>
                        <a:lnTo>
                          <a:pt x="35" y="32"/>
                        </a:lnTo>
                        <a:lnTo>
                          <a:pt x="35" y="37"/>
                        </a:lnTo>
                        <a:lnTo>
                          <a:pt x="37" y="43"/>
                        </a:lnTo>
                        <a:lnTo>
                          <a:pt x="37" y="48"/>
                        </a:lnTo>
                        <a:lnTo>
                          <a:pt x="38" y="54"/>
                        </a:lnTo>
                        <a:lnTo>
                          <a:pt x="38" y="61"/>
                        </a:lnTo>
                        <a:lnTo>
                          <a:pt x="38" y="63"/>
                        </a:lnTo>
                        <a:lnTo>
                          <a:pt x="40" y="66"/>
                        </a:lnTo>
                        <a:lnTo>
                          <a:pt x="40" y="70"/>
                        </a:lnTo>
                        <a:lnTo>
                          <a:pt x="41" y="73"/>
                        </a:lnTo>
                        <a:lnTo>
                          <a:pt x="41" y="79"/>
                        </a:lnTo>
                        <a:lnTo>
                          <a:pt x="41" y="85"/>
                        </a:lnTo>
                        <a:lnTo>
                          <a:pt x="41" y="88"/>
                        </a:lnTo>
                        <a:lnTo>
                          <a:pt x="41" y="91"/>
                        </a:lnTo>
                        <a:lnTo>
                          <a:pt x="41" y="94"/>
                        </a:lnTo>
                        <a:lnTo>
                          <a:pt x="41" y="98"/>
                        </a:lnTo>
                        <a:lnTo>
                          <a:pt x="41" y="103"/>
                        </a:lnTo>
                        <a:lnTo>
                          <a:pt x="41" y="109"/>
                        </a:lnTo>
                        <a:lnTo>
                          <a:pt x="41" y="114"/>
                        </a:lnTo>
                        <a:lnTo>
                          <a:pt x="41" y="120"/>
                        </a:lnTo>
                        <a:lnTo>
                          <a:pt x="41" y="117"/>
                        </a:lnTo>
                        <a:lnTo>
                          <a:pt x="41" y="113"/>
                        </a:lnTo>
                        <a:lnTo>
                          <a:pt x="40" y="110"/>
                        </a:lnTo>
                        <a:lnTo>
                          <a:pt x="40" y="107"/>
                        </a:lnTo>
                        <a:lnTo>
                          <a:pt x="38" y="103"/>
                        </a:lnTo>
                        <a:lnTo>
                          <a:pt x="37" y="101"/>
                        </a:lnTo>
                        <a:lnTo>
                          <a:pt x="37" y="98"/>
                        </a:lnTo>
                        <a:lnTo>
                          <a:pt x="37" y="95"/>
                        </a:lnTo>
                        <a:lnTo>
                          <a:pt x="35" y="91"/>
                        </a:lnTo>
                        <a:lnTo>
                          <a:pt x="34" y="88"/>
                        </a:lnTo>
                        <a:lnTo>
                          <a:pt x="34" y="84"/>
                        </a:lnTo>
                        <a:lnTo>
                          <a:pt x="32" y="81"/>
                        </a:lnTo>
                        <a:lnTo>
                          <a:pt x="31" y="79"/>
                        </a:lnTo>
                        <a:lnTo>
                          <a:pt x="31" y="74"/>
                        </a:lnTo>
                        <a:lnTo>
                          <a:pt x="31" y="72"/>
                        </a:lnTo>
                        <a:lnTo>
                          <a:pt x="29" y="68"/>
                        </a:lnTo>
                        <a:lnTo>
                          <a:pt x="28" y="63"/>
                        </a:lnTo>
                        <a:lnTo>
                          <a:pt x="28" y="59"/>
                        </a:lnTo>
                        <a:lnTo>
                          <a:pt x="24" y="57"/>
                        </a:lnTo>
                        <a:lnTo>
                          <a:pt x="23" y="54"/>
                        </a:lnTo>
                        <a:lnTo>
                          <a:pt x="21" y="50"/>
                        </a:lnTo>
                        <a:lnTo>
                          <a:pt x="20" y="46"/>
                        </a:lnTo>
                        <a:lnTo>
                          <a:pt x="18" y="42"/>
                        </a:lnTo>
                        <a:lnTo>
                          <a:pt x="17" y="39"/>
                        </a:lnTo>
                        <a:lnTo>
                          <a:pt x="15" y="35"/>
                        </a:lnTo>
                        <a:lnTo>
                          <a:pt x="14" y="31"/>
                        </a:lnTo>
                        <a:lnTo>
                          <a:pt x="12" y="26"/>
                        </a:lnTo>
                        <a:lnTo>
                          <a:pt x="12" y="24"/>
                        </a:lnTo>
                        <a:lnTo>
                          <a:pt x="11" y="20"/>
                        </a:lnTo>
                        <a:lnTo>
                          <a:pt x="11" y="15"/>
                        </a:lnTo>
                        <a:lnTo>
                          <a:pt x="11" y="10"/>
                        </a:lnTo>
                        <a:lnTo>
                          <a:pt x="12" y="7"/>
                        </a:lnTo>
                        <a:lnTo>
                          <a:pt x="9" y="4"/>
                        </a:lnTo>
                        <a:lnTo>
                          <a:pt x="6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2" y="24"/>
                        </a:lnTo>
                        <a:lnTo>
                          <a:pt x="2" y="28"/>
                        </a:lnTo>
                        <a:lnTo>
                          <a:pt x="2" y="31"/>
                        </a:lnTo>
                        <a:lnTo>
                          <a:pt x="2" y="33"/>
                        </a:lnTo>
                        <a:lnTo>
                          <a:pt x="2" y="37"/>
                        </a:lnTo>
                        <a:lnTo>
                          <a:pt x="2" y="40"/>
                        </a:lnTo>
                        <a:lnTo>
                          <a:pt x="3" y="44"/>
                        </a:lnTo>
                        <a:lnTo>
                          <a:pt x="3" y="47"/>
                        </a:lnTo>
                        <a:lnTo>
                          <a:pt x="3" y="51"/>
                        </a:lnTo>
                        <a:lnTo>
                          <a:pt x="3" y="54"/>
                        </a:lnTo>
                        <a:lnTo>
                          <a:pt x="3" y="58"/>
                        </a:lnTo>
                        <a:lnTo>
                          <a:pt x="3" y="62"/>
                        </a:lnTo>
                        <a:lnTo>
                          <a:pt x="5" y="66"/>
                        </a:lnTo>
                        <a:lnTo>
                          <a:pt x="5" y="69"/>
                        </a:lnTo>
                        <a:lnTo>
                          <a:pt x="6" y="73"/>
                        </a:lnTo>
                        <a:lnTo>
                          <a:pt x="6" y="77"/>
                        </a:lnTo>
                        <a:lnTo>
                          <a:pt x="6" y="81"/>
                        </a:lnTo>
                        <a:lnTo>
                          <a:pt x="6" y="85"/>
                        </a:lnTo>
                        <a:lnTo>
                          <a:pt x="8" y="90"/>
                        </a:lnTo>
                        <a:lnTo>
                          <a:pt x="8" y="94"/>
                        </a:lnTo>
                        <a:lnTo>
                          <a:pt x="8" y="96"/>
                        </a:lnTo>
                        <a:lnTo>
                          <a:pt x="8" y="101"/>
                        </a:lnTo>
                        <a:lnTo>
                          <a:pt x="9" y="105"/>
                        </a:lnTo>
                        <a:lnTo>
                          <a:pt x="9" y="107"/>
                        </a:lnTo>
                        <a:lnTo>
                          <a:pt x="9" y="112"/>
                        </a:lnTo>
                        <a:lnTo>
                          <a:pt x="9" y="116"/>
                        </a:lnTo>
                        <a:lnTo>
                          <a:pt x="9" y="118"/>
                        </a:lnTo>
                        <a:lnTo>
                          <a:pt x="9" y="121"/>
                        </a:lnTo>
                        <a:lnTo>
                          <a:pt x="9" y="125"/>
                        </a:lnTo>
                        <a:lnTo>
                          <a:pt x="11" y="128"/>
                        </a:lnTo>
                        <a:lnTo>
                          <a:pt x="11" y="132"/>
                        </a:lnTo>
                        <a:lnTo>
                          <a:pt x="11" y="138"/>
                        </a:lnTo>
                        <a:lnTo>
                          <a:pt x="12" y="143"/>
                        </a:lnTo>
                        <a:lnTo>
                          <a:pt x="12" y="149"/>
                        </a:lnTo>
                        <a:lnTo>
                          <a:pt x="12" y="153"/>
                        </a:lnTo>
                        <a:lnTo>
                          <a:pt x="12" y="155"/>
                        </a:lnTo>
                        <a:lnTo>
                          <a:pt x="12" y="160"/>
                        </a:lnTo>
                        <a:lnTo>
                          <a:pt x="12" y="162"/>
                        </a:lnTo>
                        <a:lnTo>
                          <a:pt x="12" y="161"/>
                        </a:lnTo>
                        <a:lnTo>
                          <a:pt x="12" y="551"/>
                        </a:lnTo>
                        <a:lnTo>
                          <a:pt x="211" y="551"/>
                        </a:lnTo>
                        <a:lnTo>
                          <a:pt x="208" y="84"/>
                        </a:lnTo>
                        <a:lnTo>
                          <a:pt x="208" y="79"/>
                        </a:lnTo>
                        <a:lnTo>
                          <a:pt x="208" y="74"/>
                        </a:lnTo>
                        <a:lnTo>
                          <a:pt x="208" y="69"/>
                        </a:lnTo>
                        <a:lnTo>
                          <a:pt x="208" y="65"/>
                        </a:lnTo>
                        <a:lnTo>
                          <a:pt x="208" y="61"/>
                        </a:lnTo>
                        <a:lnTo>
                          <a:pt x="208" y="57"/>
                        </a:lnTo>
                        <a:lnTo>
                          <a:pt x="208" y="51"/>
                        </a:lnTo>
                        <a:lnTo>
                          <a:pt x="208" y="47"/>
                        </a:lnTo>
                        <a:lnTo>
                          <a:pt x="208" y="43"/>
                        </a:lnTo>
                        <a:lnTo>
                          <a:pt x="208" y="39"/>
                        </a:lnTo>
                        <a:lnTo>
                          <a:pt x="208" y="35"/>
                        </a:lnTo>
                        <a:lnTo>
                          <a:pt x="208" y="31"/>
                        </a:lnTo>
                        <a:lnTo>
                          <a:pt x="206" y="26"/>
                        </a:lnTo>
                        <a:lnTo>
                          <a:pt x="206" y="22"/>
                        </a:lnTo>
                        <a:lnTo>
                          <a:pt x="206" y="17"/>
                        </a:lnTo>
                        <a:lnTo>
                          <a:pt x="206" y="14"/>
                        </a:lnTo>
                        <a:lnTo>
                          <a:pt x="202" y="14"/>
                        </a:lnTo>
                        <a:lnTo>
                          <a:pt x="200" y="17"/>
                        </a:lnTo>
                        <a:lnTo>
                          <a:pt x="200" y="21"/>
                        </a:lnTo>
                        <a:lnTo>
                          <a:pt x="200" y="25"/>
                        </a:lnTo>
                        <a:lnTo>
                          <a:pt x="200" y="29"/>
                        </a:lnTo>
                        <a:lnTo>
                          <a:pt x="200" y="32"/>
                        </a:lnTo>
                        <a:lnTo>
                          <a:pt x="200" y="36"/>
                        </a:lnTo>
                        <a:lnTo>
                          <a:pt x="200" y="40"/>
                        </a:lnTo>
                        <a:lnTo>
                          <a:pt x="200" y="44"/>
                        </a:lnTo>
                        <a:lnTo>
                          <a:pt x="200" y="48"/>
                        </a:lnTo>
                        <a:lnTo>
                          <a:pt x="200" y="52"/>
                        </a:lnTo>
                        <a:lnTo>
                          <a:pt x="200" y="57"/>
                        </a:lnTo>
                        <a:lnTo>
                          <a:pt x="202" y="61"/>
                        </a:lnTo>
                        <a:lnTo>
                          <a:pt x="202" y="65"/>
                        </a:lnTo>
                        <a:lnTo>
                          <a:pt x="202" y="69"/>
                        </a:lnTo>
                        <a:lnTo>
                          <a:pt x="202" y="72"/>
                        </a:lnTo>
                        <a:lnTo>
                          <a:pt x="203" y="77"/>
                        </a:lnTo>
                        <a:lnTo>
                          <a:pt x="202" y="79"/>
                        </a:lnTo>
                        <a:lnTo>
                          <a:pt x="202" y="81"/>
                        </a:lnTo>
                        <a:lnTo>
                          <a:pt x="200" y="84"/>
                        </a:lnTo>
                        <a:lnTo>
                          <a:pt x="199" y="85"/>
                        </a:lnTo>
                        <a:lnTo>
                          <a:pt x="199" y="80"/>
                        </a:lnTo>
                        <a:lnTo>
                          <a:pt x="199" y="74"/>
                        </a:lnTo>
                        <a:lnTo>
                          <a:pt x="197" y="69"/>
                        </a:lnTo>
                        <a:lnTo>
                          <a:pt x="197" y="63"/>
                        </a:lnTo>
                        <a:lnTo>
                          <a:pt x="197" y="58"/>
                        </a:lnTo>
                        <a:lnTo>
                          <a:pt x="196" y="52"/>
                        </a:lnTo>
                        <a:lnTo>
                          <a:pt x="196" y="47"/>
                        </a:lnTo>
                        <a:lnTo>
                          <a:pt x="196" y="42"/>
                        </a:lnTo>
                        <a:lnTo>
                          <a:pt x="194" y="43"/>
                        </a:lnTo>
                        <a:lnTo>
                          <a:pt x="193" y="47"/>
                        </a:lnTo>
                        <a:lnTo>
                          <a:pt x="191" y="50"/>
                        </a:lnTo>
                        <a:lnTo>
                          <a:pt x="191" y="52"/>
                        </a:lnTo>
                        <a:lnTo>
                          <a:pt x="191" y="57"/>
                        </a:lnTo>
                        <a:lnTo>
                          <a:pt x="191" y="61"/>
                        </a:lnTo>
                        <a:lnTo>
                          <a:pt x="191" y="63"/>
                        </a:lnTo>
                        <a:lnTo>
                          <a:pt x="191" y="69"/>
                        </a:lnTo>
                        <a:lnTo>
                          <a:pt x="191" y="73"/>
                        </a:lnTo>
                        <a:lnTo>
                          <a:pt x="191" y="79"/>
                        </a:lnTo>
                        <a:lnTo>
                          <a:pt x="191" y="83"/>
                        </a:lnTo>
                        <a:lnTo>
                          <a:pt x="193" y="88"/>
                        </a:lnTo>
                        <a:lnTo>
                          <a:pt x="193" y="94"/>
                        </a:lnTo>
                        <a:lnTo>
                          <a:pt x="193" y="99"/>
                        </a:lnTo>
                        <a:lnTo>
                          <a:pt x="193" y="103"/>
                        </a:lnTo>
                        <a:lnTo>
                          <a:pt x="193" y="109"/>
                        </a:lnTo>
                        <a:lnTo>
                          <a:pt x="193" y="113"/>
                        </a:lnTo>
                        <a:lnTo>
                          <a:pt x="194" y="117"/>
                        </a:lnTo>
                        <a:lnTo>
                          <a:pt x="194" y="121"/>
                        </a:lnTo>
                        <a:lnTo>
                          <a:pt x="194" y="125"/>
                        </a:lnTo>
                        <a:lnTo>
                          <a:pt x="194" y="129"/>
                        </a:lnTo>
                        <a:lnTo>
                          <a:pt x="194" y="133"/>
                        </a:lnTo>
                        <a:lnTo>
                          <a:pt x="193" y="138"/>
                        </a:lnTo>
                        <a:lnTo>
                          <a:pt x="193" y="140"/>
                        </a:lnTo>
                        <a:lnTo>
                          <a:pt x="191" y="142"/>
                        </a:lnTo>
                        <a:lnTo>
                          <a:pt x="191" y="140"/>
                        </a:lnTo>
                        <a:lnTo>
                          <a:pt x="190" y="135"/>
                        </a:lnTo>
                        <a:lnTo>
                          <a:pt x="190" y="128"/>
                        </a:lnTo>
                        <a:lnTo>
                          <a:pt x="188" y="122"/>
                        </a:lnTo>
                        <a:lnTo>
                          <a:pt x="188" y="117"/>
                        </a:lnTo>
                        <a:lnTo>
                          <a:pt x="187" y="112"/>
                        </a:lnTo>
                        <a:lnTo>
                          <a:pt x="187" y="106"/>
                        </a:lnTo>
                        <a:lnTo>
                          <a:pt x="185" y="102"/>
                        </a:lnTo>
                        <a:lnTo>
                          <a:pt x="185" y="98"/>
                        </a:lnTo>
                        <a:lnTo>
                          <a:pt x="185" y="91"/>
                        </a:lnTo>
                        <a:lnTo>
                          <a:pt x="185" y="85"/>
                        </a:lnTo>
                        <a:lnTo>
                          <a:pt x="185" y="80"/>
                        </a:lnTo>
                        <a:lnTo>
                          <a:pt x="185" y="76"/>
                        </a:lnTo>
                        <a:lnTo>
                          <a:pt x="185" y="69"/>
                        </a:lnTo>
                        <a:lnTo>
                          <a:pt x="185" y="65"/>
                        </a:lnTo>
                        <a:lnTo>
                          <a:pt x="185" y="59"/>
                        </a:lnTo>
                        <a:lnTo>
                          <a:pt x="185" y="54"/>
                        </a:lnTo>
                        <a:lnTo>
                          <a:pt x="185" y="48"/>
                        </a:lnTo>
                        <a:lnTo>
                          <a:pt x="185" y="44"/>
                        </a:lnTo>
                        <a:lnTo>
                          <a:pt x="185" y="39"/>
                        </a:lnTo>
                        <a:lnTo>
                          <a:pt x="185" y="33"/>
                        </a:lnTo>
                        <a:lnTo>
                          <a:pt x="185" y="29"/>
                        </a:lnTo>
                        <a:lnTo>
                          <a:pt x="185" y="24"/>
                        </a:lnTo>
                        <a:lnTo>
                          <a:pt x="185" y="18"/>
                        </a:lnTo>
                        <a:lnTo>
                          <a:pt x="185" y="14"/>
                        </a:lnTo>
                        <a:lnTo>
                          <a:pt x="180" y="14"/>
                        </a:lnTo>
                        <a:lnTo>
                          <a:pt x="176" y="14"/>
                        </a:lnTo>
                        <a:lnTo>
                          <a:pt x="171" y="14"/>
                        </a:lnTo>
                        <a:lnTo>
                          <a:pt x="168" y="15"/>
                        </a:lnTo>
                        <a:lnTo>
                          <a:pt x="168" y="20"/>
                        </a:lnTo>
                        <a:lnTo>
                          <a:pt x="168" y="22"/>
                        </a:lnTo>
                        <a:lnTo>
                          <a:pt x="168" y="26"/>
                        </a:lnTo>
                        <a:lnTo>
                          <a:pt x="168" y="31"/>
                        </a:lnTo>
                        <a:lnTo>
                          <a:pt x="168" y="35"/>
                        </a:lnTo>
                        <a:lnTo>
                          <a:pt x="168" y="39"/>
                        </a:lnTo>
                        <a:lnTo>
                          <a:pt x="168" y="42"/>
                        </a:lnTo>
                        <a:lnTo>
                          <a:pt x="168" y="46"/>
                        </a:lnTo>
                        <a:lnTo>
                          <a:pt x="168" y="50"/>
                        </a:lnTo>
                        <a:lnTo>
                          <a:pt x="168" y="54"/>
                        </a:lnTo>
                        <a:lnTo>
                          <a:pt x="168" y="57"/>
                        </a:lnTo>
                        <a:lnTo>
                          <a:pt x="168" y="61"/>
                        </a:lnTo>
                        <a:lnTo>
                          <a:pt x="168" y="65"/>
                        </a:lnTo>
                        <a:lnTo>
                          <a:pt x="168" y="69"/>
                        </a:lnTo>
                        <a:lnTo>
                          <a:pt x="168" y="73"/>
                        </a:lnTo>
                        <a:lnTo>
                          <a:pt x="170" y="77"/>
                        </a:lnTo>
                        <a:lnTo>
                          <a:pt x="170" y="80"/>
                        </a:lnTo>
                        <a:lnTo>
                          <a:pt x="170" y="84"/>
                        </a:lnTo>
                        <a:lnTo>
                          <a:pt x="170" y="88"/>
                        </a:lnTo>
                        <a:lnTo>
                          <a:pt x="170" y="91"/>
                        </a:lnTo>
                        <a:lnTo>
                          <a:pt x="170" y="95"/>
                        </a:lnTo>
                        <a:lnTo>
                          <a:pt x="171" y="99"/>
                        </a:lnTo>
                        <a:lnTo>
                          <a:pt x="171" y="102"/>
                        </a:lnTo>
                        <a:lnTo>
                          <a:pt x="171" y="106"/>
                        </a:lnTo>
                        <a:lnTo>
                          <a:pt x="171" y="109"/>
                        </a:lnTo>
                        <a:lnTo>
                          <a:pt x="171" y="113"/>
                        </a:lnTo>
                        <a:lnTo>
                          <a:pt x="171" y="116"/>
                        </a:lnTo>
                        <a:lnTo>
                          <a:pt x="171" y="120"/>
                        </a:lnTo>
                        <a:lnTo>
                          <a:pt x="171" y="124"/>
                        </a:lnTo>
                        <a:lnTo>
                          <a:pt x="173" y="127"/>
                        </a:lnTo>
                        <a:lnTo>
                          <a:pt x="173" y="131"/>
                        </a:lnTo>
                        <a:lnTo>
                          <a:pt x="173" y="133"/>
                        </a:lnTo>
                        <a:lnTo>
                          <a:pt x="173" y="136"/>
                        </a:lnTo>
                        <a:lnTo>
                          <a:pt x="173" y="139"/>
                        </a:lnTo>
                        <a:lnTo>
                          <a:pt x="173" y="143"/>
                        </a:lnTo>
                        <a:lnTo>
                          <a:pt x="174" y="149"/>
                        </a:lnTo>
                        <a:lnTo>
                          <a:pt x="174" y="153"/>
                        </a:lnTo>
                        <a:lnTo>
                          <a:pt x="174" y="160"/>
                        </a:lnTo>
                        <a:lnTo>
                          <a:pt x="174" y="162"/>
                        </a:lnTo>
                        <a:lnTo>
                          <a:pt x="174" y="165"/>
                        </a:lnTo>
                        <a:lnTo>
                          <a:pt x="174" y="168"/>
                        </a:lnTo>
                        <a:lnTo>
                          <a:pt x="174" y="172"/>
                        </a:lnTo>
                        <a:lnTo>
                          <a:pt x="174" y="177"/>
                        </a:lnTo>
                        <a:lnTo>
                          <a:pt x="174" y="183"/>
                        </a:lnTo>
                        <a:lnTo>
                          <a:pt x="173" y="187"/>
                        </a:lnTo>
                        <a:lnTo>
                          <a:pt x="173" y="192"/>
                        </a:lnTo>
                        <a:lnTo>
                          <a:pt x="171" y="198"/>
                        </a:lnTo>
                        <a:lnTo>
                          <a:pt x="171" y="202"/>
                        </a:lnTo>
                        <a:lnTo>
                          <a:pt x="170" y="205"/>
                        </a:lnTo>
                        <a:lnTo>
                          <a:pt x="168" y="206"/>
                        </a:lnTo>
                        <a:lnTo>
                          <a:pt x="167" y="201"/>
                        </a:lnTo>
                        <a:lnTo>
                          <a:pt x="167" y="195"/>
                        </a:lnTo>
                        <a:lnTo>
                          <a:pt x="165" y="190"/>
                        </a:lnTo>
                        <a:lnTo>
                          <a:pt x="165" y="184"/>
                        </a:lnTo>
                        <a:lnTo>
                          <a:pt x="165" y="177"/>
                        </a:lnTo>
                        <a:lnTo>
                          <a:pt x="164" y="172"/>
                        </a:lnTo>
                        <a:lnTo>
                          <a:pt x="164" y="166"/>
                        </a:lnTo>
                        <a:lnTo>
                          <a:pt x="164" y="162"/>
                        </a:lnTo>
                        <a:lnTo>
                          <a:pt x="164" y="155"/>
                        </a:lnTo>
                        <a:lnTo>
                          <a:pt x="164" y="150"/>
                        </a:lnTo>
                        <a:lnTo>
                          <a:pt x="164" y="144"/>
                        </a:lnTo>
                        <a:lnTo>
                          <a:pt x="164" y="139"/>
                        </a:lnTo>
                        <a:lnTo>
                          <a:pt x="164" y="133"/>
                        </a:lnTo>
                        <a:lnTo>
                          <a:pt x="164" y="128"/>
                        </a:lnTo>
                        <a:lnTo>
                          <a:pt x="164" y="121"/>
                        </a:lnTo>
                        <a:lnTo>
                          <a:pt x="164" y="117"/>
                        </a:lnTo>
                        <a:lnTo>
                          <a:pt x="164" y="110"/>
                        </a:lnTo>
                        <a:lnTo>
                          <a:pt x="164" y="105"/>
                        </a:lnTo>
                        <a:lnTo>
                          <a:pt x="164" y="99"/>
                        </a:lnTo>
                        <a:lnTo>
                          <a:pt x="164" y="94"/>
                        </a:lnTo>
                        <a:lnTo>
                          <a:pt x="164" y="88"/>
                        </a:lnTo>
                        <a:lnTo>
                          <a:pt x="164" y="83"/>
                        </a:lnTo>
                        <a:lnTo>
                          <a:pt x="164" y="76"/>
                        </a:lnTo>
                        <a:lnTo>
                          <a:pt x="164" y="72"/>
                        </a:lnTo>
                        <a:lnTo>
                          <a:pt x="164" y="65"/>
                        </a:lnTo>
                        <a:lnTo>
                          <a:pt x="164" y="59"/>
                        </a:lnTo>
                        <a:lnTo>
                          <a:pt x="162" y="54"/>
                        </a:lnTo>
                        <a:lnTo>
                          <a:pt x="162" y="48"/>
                        </a:lnTo>
                        <a:lnTo>
                          <a:pt x="162" y="43"/>
                        </a:lnTo>
                        <a:lnTo>
                          <a:pt x="161" y="37"/>
                        </a:lnTo>
                        <a:lnTo>
                          <a:pt x="161" y="32"/>
                        </a:lnTo>
                        <a:lnTo>
                          <a:pt x="161" y="26"/>
                        </a:lnTo>
                        <a:lnTo>
                          <a:pt x="159" y="25"/>
                        </a:lnTo>
                        <a:lnTo>
                          <a:pt x="158" y="22"/>
                        </a:lnTo>
                        <a:lnTo>
                          <a:pt x="156" y="20"/>
                        </a:lnTo>
                        <a:lnTo>
                          <a:pt x="156" y="18"/>
                        </a:lnTo>
                        <a:lnTo>
                          <a:pt x="154" y="20"/>
                        </a:lnTo>
                        <a:lnTo>
                          <a:pt x="154" y="22"/>
                        </a:lnTo>
                        <a:lnTo>
                          <a:pt x="153" y="26"/>
                        </a:lnTo>
                        <a:lnTo>
                          <a:pt x="153" y="29"/>
                        </a:lnTo>
                        <a:lnTo>
                          <a:pt x="153" y="32"/>
                        </a:lnTo>
                        <a:lnTo>
                          <a:pt x="153" y="36"/>
                        </a:lnTo>
                        <a:lnTo>
                          <a:pt x="153" y="39"/>
                        </a:lnTo>
                        <a:lnTo>
                          <a:pt x="153" y="43"/>
                        </a:lnTo>
                        <a:lnTo>
                          <a:pt x="156" y="105"/>
                        </a:lnTo>
                        <a:lnTo>
                          <a:pt x="156" y="109"/>
                        </a:lnTo>
                        <a:lnTo>
                          <a:pt x="156" y="114"/>
                        </a:lnTo>
                        <a:lnTo>
                          <a:pt x="156" y="120"/>
                        </a:lnTo>
                        <a:lnTo>
                          <a:pt x="156" y="125"/>
                        </a:lnTo>
                        <a:lnTo>
                          <a:pt x="156" y="129"/>
                        </a:lnTo>
                        <a:lnTo>
                          <a:pt x="156" y="135"/>
                        </a:lnTo>
                        <a:lnTo>
                          <a:pt x="154" y="140"/>
                        </a:lnTo>
                        <a:lnTo>
                          <a:pt x="154" y="144"/>
                        </a:lnTo>
                        <a:lnTo>
                          <a:pt x="154" y="150"/>
                        </a:lnTo>
                        <a:lnTo>
                          <a:pt x="154" y="155"/>
                        </a:lnTo>
                        <a:lnTo>
                          <a:pt x="154" y="160"/>
                        </a:lnTo>
                        <a:lnTo>
                          <a:pt x="154" y="165"/>
                        </a:lnTo>
                        <a:lnTo>
                          <a:pt x="153" y="171"/>
                        </a:lnTo>
                        <a:lnTo>
                          <a:pt x="153" y="175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3" y="512"/>
                        </a:lnTo>
                        <a:lnTo>
                          <a:pt x="75" y="515"/>
                        </a:lnTo>
                        <a:lnTo>
                          <a:pt x="72" y="66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2" y="57"/>
                        </a:lnTo>
                        <a:lnTo>
                          <a:pt x="72" y="54"/>
                        </a:lnTo>
                        <a:lnTo>
                          <a:pt x="70" y="50"/>
                        </a:lnTo>
                        <a:lnTo>
                          <a:pt x="69" y="47"/>
                        </a:lnTo>
                        <a:lnTo>
                          <a:pt x="69" y="43"/>
                        </a:lnTo>
                        <a:lnTo>
                          <a:pt x="67" y="40"/>
                        </a:lnTo>
                        <a:lnTo>
                          <a:pt x="67" y="37"/>
                        </a:lnTo>
                        <a:lnTo>
                          <a:pt x="66" y="33"/>
                        </a:lnTo>
                        <a:lnTo>
                          <a:pt x="64" y="31"/>
                        </a:lnTo>
                        <a:lnTo>
                          <a:pt x="64" y="28"/>
                        </a:lnTo>
                        <a:lnTo>
                          <a:pt x="63" y="21"/>
                        </a:lnTo>
                        <a:lnTo>
                          <a:pt x="61" y="15"/>
                        </a:lnTo>
                        <a:lnTo>
                          <a:pt x="57" y="15"/>
                        </a:lnTo>
                        <a:lnTo>
                          <a:pt x="61" y="4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194"/>
                  <p:cNvSpPr/>
                  <p:nvPr/>
                </p:nvSpPr>
                <p:spPr>
                  <a:xfrm>
                    <a:off x="3904920" y="3562200"/>
                    <a:ext cx="1080" cy="2304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" h="178">
                        <a:moveTo>
                          <a:pt x="1" y="176"/>
                        </a:moveTo>
                        <a:lnTo>
                          <a:pt x="1" y="178"/>
                        </a:lnTo>
                        <a:lnTo>
                          <a:pt x="3" y="176"/>
                        </a:lnTo>
                        <a:lnTo>
                          <a:pt x="3" y="175"/>
                        </a:lnTo>
                        <a:lnTo>
                          <a:pt x="3" y="172"/>
                        </a:lnTo>
                        <a:lnTo>
                          <a:pt x="3" y="169"/>
                        </a:lnTo>
                        <a:lnTo>
                          <a:pt x="3" y="165"/>
                        </a:lnTo>
                        <a:lnTo>
                          <a:pt x="3" y="162"/>
                        </a:lnTo>
                        <a:lnTo>
                          <a:pt x="3" y="160"/>
                        </a:lnTo>
                        <a:lnTo>
                          <a:pt x="3" y="154"/>
                        </a:lnTo>
                        <a:lnTo>
                          <a:pt x="4" y="149"/>
                        </a:lnTo>
                        <a:lnTo>
                          <a:pt x="4" y="143"/>
                        </a:lnTo>
                        <a:lnTo>
                          <a:pt x="4" y="138"/>
                        </a:lnTo>
                        <a:lnTo>
                          <a:pt x="4" y="132"/>
                        </a:lnTo>
                        <a:lnTo>
                          <a:pt x="4" y="127"/>
                        </a:lnTo>
                        <a:lnTo>
                          <a:pt x="4" y="121"/>
                        </a:lnTo>
                        <a:lnTo>
                          <a:pt x="4" y="116"/>
                        </a:lnTo>
                        <a:lnTo>
                          <a:pt x="6" y="112"/>
                        </a:lnTo>
                        <a:lnTo>
                          <a:pt x="6" y="106"/>
                        </a:lnTo>
                        <a:lnTo>
                          <a:pt x="6" y="101"/>
                        </a:lnTo>
                        <a:lnTo>
                          <a:pt x="6" y="97"/>
                        </a:lnTo>
                        <a:lnTo>
                          <a:pt x="8" y="91"/>
                        </a:lnTo>
                        <a:lnTo>
                          <a:pt x="8" y="86"/>
                        </a:lnTo>
                        <a:lnTo>
                          <a:pt x="8" y="80"/>
                        </a:lnTo>
                        <a:lnTo>
                          <a:pt x="8" y="75"/>
                        </a:lnTo>
                        <a:lnTo>
                          <a:pt x="8" y="70"/>
                        </a:lnTo>
                        <a:lnTo>
                          <a:pt x="8" y="65"/>
                        </a:lnTo>
                        <a:lnTo>
                          <a:pt x="8" y="59"/>
                        </a:lnTo>
                        <a:lnTo>
                          <a:pt x="8" y="54"/>
                        </a:lnTo>
                        <a:lnTo>
                          <a:pt x="8" y="50"/>
                        </a:lnTo>
                        <a:lnTo>
                          <a:pt x="9" y="44"/>
                        </a:lnTo>
                        <a:lnTo>
                          <a:pt x="8" y="39"/>
                        </a:lnTo>
                        <a:lnTo>
                          <a:pt x="8" y="33"/>
                        </a:lnTo>
                        <a:lnTo>
                          <a:pt x="8" y="28"/>
                        </a:lnTo>
                        <a:lnTo>
                          <a:pt x="8" y="22"/>
                        </a:lnTo>
                        <a:lnTo>
                          <a:pt x="8" y="17"/>
                        </a:lnTo>
                        <a:lnTo>
                          <a:pt x="8" y="11"/>
                        </a:lnTo>
                        <a:lnTo>
                          <a:pt x="8" y="6"/>
                        </a:lnTo>
                        <a:lnTo>
                          <a:pt x="8" y="0"/>
                        </a:lnTo>
                        <a:lnTo>
                          <a:pt x="6" y="5"/>
                        </a:lnTo>
                        <a:lnTo>
                          <a:pt x="6" y="9"/>
                        </a:lnTo>
                        <a:lnTo>
                          <a:pt x="4" y="11"/>
                        </a:lnTo>
                        <a:lnTo>
                          <a:pt x="3" y="16"/>
                        </a:lnTo>
                        <a:lnTo>
                          <a:pt x="1" y="105"/>
                        </a:lnTo>
                        <a:lnTo>
                          <a:pt x="0" y="109"/>
                        </a:lnTo>
                        <a:lnTo>
                          <a:pt x="0" y="113"/>
                        </a:lnTo>
                        <a:lnTo>
                          <a:pt x="0" y="118"/>
                        </a:lnTo>
                        <a:lnTo>
                          <a:pt x="0" y="123"/>
                        </a:lnTo>
                        <a:lnTo>
                          <a:pt x="0" y="127"/>
                        </a:lnTo>
                        <a:lnTo>
                          <a:pt x="0" y="132"/>
                        </a:lnTo>
                        <a:lnTo>
                          <a:pt x="0" y="136"/>
                        </a:lnTo>
                        <a:lnTo>
                          <a:pt x="0" y="142"/>
                        </a:lnTo>
                        <a:lnTo>
                          <a:pt x="0" y="146"/>
                        </a:lnTo>
                        <a:lnTo>
                          <a:pt x="0" y="150"/>
                        </a:lnTo>
                        <a:lnTo>
                          <a:pt x="0" y="154"/>
                        </a:lnTo>
                        <a:lnTo>
                          <a:pt x="0" y="158"/>
                        </a:lnTo>
                        <a:lnTo>
                          <a:pt x="0" y="164"/>
                        </a:lnTo>
                        <a:lnTo>
                          <a:pt x="0" y="168"/>
                        </a:lnTo>
                        <a:lnTo>
                          <a:pt x="0" y="172"/>
                        </a:lnTo>
                        <a:lnTo>
                          <a:pt x="1" y="1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195"/>
                  <p:cNvSpPr/>
                  <p:nvPr/>
                </p:nvSpPr>
                <p:spPr>
                  <a:xfrm>
                    <a:off x="3921480" y="3563640"/>
                    <a:ext cx="1440" cy="20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" h="161">
                        <a:moveTo>
                          <a:pt x="12" y="0"/>
                        </a:moveTo>
                        <a:lnTo>
                          <a:pt x="12" y="5"/>
                        </a:lnTo>
                        <a:lnTo>
                          <a:pt x="10" y="11"/>
                        </a:lnTo>
                        <a:lnTo>
                          <a:pt x="10" y="16"/>
                        </a:lnTo>
                        <a:lnTo>
                          <a:pt x="10" y="21"/>
                        </a:lnTo>
                        <a:lnTo>
                          <a:pt x="10" y="27"/>
                        </a:lnTo>
                        <a:lnTo>
                          <a:pt x="10" y="32"/>
                        </a:lnTo>
                        <a:lnTo>
                          <a:pt x="10" y="37"/>
                        </a:lnTo>
                        <a:lnTo>
                          <a:pt x="10" y="43"/>
                        </a:lnTo>
                        <a:lnTo>
                          <a:pt x="9" y="48"/>
                        </a:lnTo>
                        <a:lnTo>
                          <a:pt x="9" y="53"/>
                        </a:lnTo>
                        <a:lnTo>
                          <a:pt x="9" y="58"/>
                        </a:lnTo>
                        <a:lnTo>
                          <a:pt x="9" y="64"/>
                        </a:lnTo>
                        <a:lnTo>
                          <a:pt x="7" y="69"/>
                        </a:lnTo>
                        <a:lnTo>
                          <a:pt x="7" y="73"/>
                        </a:lnTo>
                        <a:lnTo>
                          <a:pt x="7" y="79"/>
                        </a:lnTo>
                        <a:lnTo>
                          <a:pt x="7" y="84"/>
                        </a:lnTo>
                        <a:lnTo>
                          <a:pt x="7" y="88"/>
                        </a:lnTo>
                        <a:lnTo>
                          <a:pt x="7" y="94"/>
                        </a:lnTo>
                        <a:lnTo>
                          <a:pt x="7" y="99"/>
                        </a:lnTo>
                        <a:lnTo>
                          <a:pt x="7" y="105"/>
                        </a:lnTo>
                        <a:lnTo>
                          <a:pt x="6" y="109"/>
                        </a:lnTo>
                        <a:lnTo>
                          <a:pt x="6" y="113"/>
                        </a:lnTo>
                        <a:lnTo>
                          <a:pt x="6" y="118"/>
                        </a:lnTo>
                        <a:lnTo>
                          <a:pt x="6" y="124"/>
                        </a:lnTo>
                        <a:lnTo>
                          <a:pt x="4" y="128"/>
                        </a:lnTo>
                        <a:lnTo>
                          <a:pt x="4" y="132"/>
                        </a:lnTo>
                        <a:lnTo>
                          <a:pt x="3" y="138"/>
                        </a:lnTo>
                        <a:lnTo>
                          <a:pt x="3" y="142"/>
                        </a:lnTo>
                        <a:lnTo>
                          <a:pt x="1" y="147"/>
                        </a:lnTo>
                        <a:lnTo>
                          <a:pt x="1" y="151"/>
                        </a:lnTo>
                        <a:lnTo>
                          <a:pt x="0" y="157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0" y="149"/>
                        </a:lnTo>
                        <a:lnTo>
                          <a:pt x="0" y="143"/>
                        </a:lnTo>
                        <a:lnTo>
                          <a:pt x="0" y="138"/>
                        </a:lnTo>
                        <a:lnTo>
                          <a:pt x="0" y="135"/>
                        </a:lnTo>
                        <a:lnTo>
                          <a:pt x="0" y="132"/>
                        </a:lnTo>
                        <a:lnTo>
                          <a:pt x="0" y="128"/>
                        </a:lnTo>
                        <a:lnTo>
                          <a:pt x="0" y="125"/>
                        </a:lnTo>
                        <a:lnTo>
                          <a:pt x="0" y="121"/>
                        </a:lnTo>
                        <a:lnTo>
                          <a:pt x="0" y="118"/>
                        </a:lnTo>
                        <a:lnTo>
                          <a:pt x="0" y="114"/>
                        </a:lnTo>
                        <a:lnTo>
                          <a:pt x="0" y="110"/>
                        </a:lnTo>
                        <a:lnTo>
                          <a:pt x="0" y="107"/>
                        </a:lnTo>
                        <a:lnTo>
                          <a:pt x="0" y="103"/>
                        </a:lnTo>
                        <a:lnTo>
                          <a:pt x="0" y="99"/>
                        </a:lnTo>
                        <a:lnTo>
                          <a:pt x="0" y="95"/>
                        </a:lnTo>
                        <a:lnTo>
                          <a:pt x="0" y="92"/>
                        </a:lnTo>
                        <a:lnTo>
                          <a:pt x="0" y="88"/>
                        </a:lnTo>
                        <a:lnTo>
                          <a:pt x="0" y="84"/>
                        </a:lnTo>
                        <a:lnTo>
                          <a:pt x="0" y="80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0" y="69"/>
                        </a:lnTo>
                        <a:lnTo>
                          <a:pt x="0" y="66"/>
                        </a:lnTo>
                        <a:lnTo>
                          <a:pt x="0" y="62"/>
                        </a:lnTo>
                        <a:lnTo>
                          <a:pt x="0" y="59"/>
                        </a:lnTo>
                        <a:lnTo>
                          <a:pt x="0" y="55"/>
                        </a:lnTo>
                        <a:lnTo>
                          <a:pt x="0" y="53"/>
                        </a:lnTo>
                        <a:lnTo>
                          <a:pt x="1" y="46"/>
                        </a:lnTo>
                        <a:lnTo>
                          <a:pt x="1" y="40"/>
                        </a:lnTo>
                        <a:lnTo>
                          <a:pt x="3" y="35"/>
                        </a:lnTo>
                        <a:lnTo>
                          <a:pt x="3" y="29"/>
                        </a:lnTo>
                        <a:lnTo>
                          <a:pt x="3" y="25"/>
                        </a:lnTo>
                        <a:lnTo>
                          <a:pt x="4" y="21"/>
                        </a:lnTo>
                        <a:lnTo>
                          <a:pt x="6" y="17"/>
                        </a:lnTo>
                        <a:lnTo>
                          <a:pt x="7" y="13"/>
                        </a:lnTo>
                        <a:lnTo>
                          <a:pt x="7" y="9"/>
                        </a:lnTo>
                        <a:lnTo>
                          <a:pt x="9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196"/>
                  <p:cNvSpPr/>
                  <p:nvPr/>
                </p:nvSpPr>
                <p:spPr>
                  <a:xfrm>
                    <a:off x="3894840" y="3516840"/>
                    <a:ext cx="30240" cy="759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211" h="582">
                        <a:moveTo>
                          <a:pt x="59" y="76"/>
                        </a:moveTo>
                        <a:lnTo>
                          <a:pt x="59" y="80"/>
                        </a:lnTo>
                        <a:lnTo>
                          <a:pt x="61" y="84"/>
                        </a:lnTo>
                        <a:lnTo>
                          <a:pt x="61" y="88"/>
                        </a:lnTo>
                        <a:lnTo>
                          <a:pt x="62" y="94"/>
                        </a:lnTo>
                        <a:lnTo>
                          <a:pt x="62" y="99"/>
                        </a:lnTo>
                        <a:lnTo>
                          <a:pt x="64" y="103"/>
                        </a:lnTo>
                        <a:lnTo>
                          <a:pt x="64" y="109"/>
                        </a:lnTo>
                        <a:lnTo>
                          <a:pt x="65" y="114"/>
                        </a:lnTo>
                        <a:lnTo>
                          <a:pt x="65" y="120"/>
                        </a:lnTo>
                        <a:lnTo>
                          <a:pt x="67" y="125"/>
                        </a:lnTo>
                        <a:lnTo>
                          <a:pt x="67" y="129"/>
                        </a:lnTo>
                        <a:lnTo>
                          <a:pt x="67" y="136"/>
                        </a:lnTo>
                        <a:lnTo>
                          <a:pt x="67" y="140"/>
                        </a:lnTo>
                        <a:lnTo>
                          <a:pt x="67" y="146"/>
                        </a:lnTo>
                        <a:lnTo>
                          <a:pt x="65" y="150"/>
                        </a:lnTo>
                        <a:lnTo>
                          <a:pt x="64" y="155"/>
                        </a:lnTo>
                        <a:lnTo>
                          <a:pt x="64" y="151"/>
                        </a:lnTo>
                        <a:lnTo>
                          <a:pt x="64" y="147"/>
                        </a:lnTo>
                        <a:lnTo>
                          <a:pt x="64" y="143"/>
                        </a:lnTo>
                        <a:lnTo>
                          <a:pt x="64" y="140"/>
                        </a:lnTo>
                        <a:lnTo>
                          <a:pt x="62" y="136"/>
                        </a:lnTo>
                        <a:lnTo>
                          <a:pt x="62" y="134"/>
                        </a:lnTo>
                        <a:lnTo>
                          <a:pt x="62" y="129"/>
                        </a:lnTo>
                        <a:lnTo>
                          <a:pt x="62" y="127"/>
                        </a:lnTo>
                        <a:lnTo>
                          <a:pt x="61" y="124"/>
                        </a:lnTo>
                        <a:lnTo>
                          <a:pt x="61" y="120"/>
                        </a:lnTo>
                        <a:lnTo>
                          <a:pt x="59" y="117"/>
                        </a:lnTo>
                        <a:lnTo>
                          <a:pt x="59" y="113"/>
                        </a:lnTo>
                        <a:lnTo>
                          <a:pt x="58" y="110"/>
                        </a:lnTo>
                        <a:lnTo>
                          <a:pt x="58" y="106"/>
                        </a:lnTo>
                        <a:lnTo>
                          <a:pt x="58" y="103"/>
                        </a:lnTo>
                        <a:lnTo>
                          <a:pt x="58" y="99"/>
                        </a:lnTo>
                        <a:lnTo>
                          <a:pt x="56" y="96"/>
                        </a:lnTo>
                        <a:lnTo>
                          <a:pt x="55" y="92"/>
                        </a:lnTo>
                        <a:lnTo>
                          <a:pt x="55" y="90"/>
                        </a:lnTo>
                        <a:lnTo>
                          <a:pt x="53" y="85"/>
                        </a:lnTo>
                        <a:lnTo>
                          <a:pt x="52" y="81"/>
                        </a:lnTo>
                        <a:lnTo>
                          <a:pt x="52" y="79"/>
                        </a:lnTo>
                        <a:lnTo>
                          <a:pt x="50" y="75"/>
                        </a:lnTo>
                        <a:lnTo>
                          <a:pt x="50" y="72"/>
                        </a:lnTo>
                        <a:lnTo>
                          <a:pt x="49" y="68"/>
                        </a:lnTo>
                        <a:lnTo>
                          <a:pt x="47" y="65"/>
                        </a:lnTo>
                        <a:lnTo>
                          <a:pt x="47" y="61"/>
                        </a:lnTo>
                        <a:lnTo>
                          <a:pt x="45" y="58"/>
                        </a:lnTo>
                        <a:lnTo>
                          <a:pt x="44" y="54"/>
                        </a:lnTo>
                        <a:lnTo>
                          <a:pt x="44" y="51"/>
                        </a:lnTo>
                        <a:lnTo>
                          <a:pt x="42" y="47"/>
                        </a:lnTo>
                        <a:lnTo>
                          <a:pt x="42" y="44"/>
                        </a:lnTo>
                        <a:lnTo>
                          <a:pt x="29" y="48"/>
                        </a:lnTo>
                        <a:lnTo>
                          <a:pt x="30" y="51"/>
                        </a:lnTo>
                        <a:lnTo>
                          <a:pt x="30" y="55"/>
                        </a:lnTo>
                        <a:lnTo>
                          <a:pt x="32" y="58"/>
                        </a:lnTo>
                        <a:lnTo>
                          <a:pt x="33" y="61"/>
                        </a:lnTo>
                        <a:lnTo>
                          <a:pt x="33" y="64"/>
                        </a:lnTo>
                        <a:lnTo>
                          <a:pt x="35" y="68"/>
                        </a:lnTo>
                        <a:lnTo>
                          <a:pt x="35" y="70"/>
                        </a:lnTo>
                        <a:lnTo>
                          <a:pt x="36" y="75"/>
                        </a:lnTo>
                        <a:lnTo>
                          <a:pt x="38" y="80"/>
                        </a:lnTo>
                        <a:lnTo>
                          <a:pt x="38" y="85"/>
                        </a:lnTo>
                        <a:lnTo>
                          <a:pt x="39" y="88"/>
                        </a:lnTo>
                        <a:lnTo>
                          <a:pt x="39" y="91"/>
                        </a:lnTo>
                        <a:lnTo>
                          <a:pt x="41" y="95"/>
                        </a:lnTo>
                        <a:lnTo>
                          <a:pt x="41" y="98"/>
                        </a:lnTo>
                        <a:lnTo>
                          <a:pt x="41" y="103"/>
                        </a:lnTo>
                        <a:lnTo>
                          <a:pt x="42" y="110"/>
                        </a:lnTo>
                        <a:lnTo>
                          <a:pt x="42" y="113"/>
                        </a:lnTo>
                        <a:lnTo>
                          <a:pt x="42" y="117"/>
                        </a:lnTo>
                        <a:lnTo>
                          <a:pt x="42" y="120"/>
                        </a:lnTo>
                        <a:lnTo>
                          <a:pt x="42" y="124"/>
                        </a:lnTo>
                        <a:lnTo>
                          <a:pt x="42" y="127"/>
                        </a:lnTo>
                        <a:lnTo>
                          <a:pt x="42" y="129"/>
                        </a:lnTo>
                        <a:lnTo>
                          <a:pt x="42" y="134"/>
                        </a:lnTo>
                        <a:lnTo>
                          <a:pt x="42" y="138"/>
                        </a:lnTo>
                        <a:lnTo>
                          <a:pt x="42" y="140"/>
                        </a:lnTo>
                        <a:lnTo>
                          <a:pt x="42" y="145"/>
                        </a:lnTo>
                        <a:lnTo>
                          <a:pt x="42" y="149"/>
                        </a:lnTo>
                        <a:lnTo>
                          <a:pt x="42" y="153"/>
                        </a:lnTo>
                        <a:lnTo>
                          <a:pt x="38" y="149"/>
                        </a:lnTo>
                        <a:lnTo>
                          <a:pt x="36" y="145"/>
                        </a:lnTo>
                        <a:lnTo>
                          <a:pt x="36" y="142"/>
                        </a:lnTo>
                        <a:lnTo>
                          <a:pt x="36" y="139"/>
                        </a:lnTo>
                        <a:lnTo>
                          <a:pt x="36" y="136"/>
                        </a:lnTo>
                        <a:lnTo>
                          <a:pt x="36" y="131"/>
                        </a:lnTo>
                        <a:lnTo>
                          <a:pt x="36" y="125"/>
                        </a:lnTo>
                        <a:lnTo>
                          <a:pt x="35" y="121"/>
                        </a:lnTo>
                        <a:lnTo>
                          <a:pt x="33" y="117"/>
                        </a:lnTo>
                        <a:lnTo>
                          <a:pt x="33" y="113"/>
                        </a:lnTo>
                        <a:lnTo>
                          <a:pt x="33" y="110"/>
                        </a:lnTo>
                        <a:lnTo>
                          <a:pt x="32" y="106"/>
                        </a:lnTo>
                        <a:lnTo>
                          <a:pt x="30" y="102"/>
                        </a:lnTo>
                        <a:lnTo>
                          <a:pt x="29" y="99"/>
                        </a:lnTo>
                        <a:lnTo>
                          <a:pt x="29" y="96"/>
                        </a:lnTo>
                        <a:lnTo>
                          <a:pt x="26" y="92"/>
                        </a:lnTo>
                        <a:lnTo>
                          <a:pt x="24" y="88"/>
                        </a:lnTo>
                        <a:lnTo>
                          <a:pt x="21" y="83"/>
                        </a:lnTo>
                        <a:lnTo>
                          <a:pt x="19" y="79"/>
                        </a:lnTo>
                        <a:lnTo>
                          <a:pt x="16" y="75"/>
                        </a:lnTo>
                        <a:lnTo>
                          <a:pt x="15" y="69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2" y="61"/>
                        </a:lnTo>
                        <a:lnTo>
                          <a:pt x="12" y="58"/>
                        </a:lnTo>
                        <a:lnTo>
                          <a:pt x="12" y="55"/>
                        </a:lnTo>
                        <a:lnTo>
                          <a:pt x="12" y="51"/>
                        </a:lnTo>
                        <a:lnTo>
                          <a:pt x="12" y="47"/>
                        </a:lnTo>
                        <a:lnTo>
                          <a:pt x="12" y="44"/>
                        </a:lnTo>
                        <a:lnTo>
                          <a:pt x="9" y="44"/>
                        </a:lnTo>
                        <a:lnTo>
                          <a:pt x="4" y="46"/>
                        </a:lnTo>
                        <a:lnTo>
                          <a:pt x="0" y="46"/>
                        </a:lnTo>
                        <a:lnTo>
                          <a:pt x="0" y="47"/>
                        </a:lnTo>
                        <a:lnTo>
                          <a:pt x="0" y="50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0" y="61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0" y="73"/>
                        </a:lnTo>
                        <a:lnTo>
                          <a:pt x="1" y="77"/>
                        </a:lnTo>
                        <a:lnTo>
                          <a:pt x="1" y="83"/>
                        </a:lnTo>
                        <a:lnTo>
                          <a:pt x="1" y="87"/>
                        </a:lnTo>
                        <a:lnTo>
                          <a:pt x="3" y="91"/>
                        </a:lnTo>
                        <a:lnTo>
                          <a:pt x="3" y="96"/>
                        </a:lnTo>
                        <a:lnTo>
                          <a:pt x="3" y="101"/>
                        </a:lnTo>
                        <a:lnTo>
                          <a:pt x="3" y="105"/>
                        </a:lnTo>
                        <a:lnTo>
                          <a:pt x="4" y="110"/>
                        </a:lnTo>
                        <a:lnTo>
                          <a:pt x="6" y="114"/>
                        </a:lnTo>
                        <a:lnTo>
                          <a:pt x="6" y="118"/>
                        </a:lnTo>
                        <a:lnTo>
                          <a:pt x="6" y="123"/>
                        </a:lnTo>
                        <a:lnTo>
                          <a:pt x="6" y="127"/>
                        </a:lnTo>
                        <a:lnTo>
                          <a:pt x="7" y="131"/>
                        </a:lnTo>
                        <a:lnTo>
                          <a:pt x="7" y="135"/>
                        </a:lnTo>
                        <a:lnTo>
                          <a:pt x="7" y="139"/>
                        </a:lnTo>
                        <a:lnTo>
                          <a:pt x="9" y="142"/>
                        </a:lnTo>
                        <a:lnTo>
                          <a:pt x="9" y="146"/>
                        </a:lnTo>
                        <a:lnTo>
                          <a:pt x="10" y="151"/>
                        </a:lnTo>
                        <a:lnTo>
                          <a:pt x="10" y="155"/>
                        </a:lnTo>
                        <a:lnTo>
                          <a:pt x="10" y="158"/>
                        </a:lnTo>
                        <a:lnTo>
                          <a:pt x="12" y="160"/>
                        </a:lnTo>
                        <a:lnTo>
                          <a:pt x="12" y="164"/>
                        </a:lnTo>
                        <a:lnTo>
                          <a:pt x="12" y="168"/>
                        </a:lnTo>
                        <a:lnTo>
                          <a:pt x="12" y="171"/>
                        </a:lnTo>
                        <a:lnTo>
                          <a:pt x="13" y="176"/>
                        </a:lnTo>
                        <a:lnTo>
                          <a:pt x="13" y="180"/>
                        </a:lnTo>
                        <a:lnTo>
                          <a:pt x="13" y="183"/>
                        </a:lnTo>
                        <a:lnTo>
                          <a:pt x="13" y="187"/>
                        </a:lnTo>
                        <a:lnTo>
                          <a:pt x="15" y="191"/>
                        </a:lnTo>
                        <a:lnTo>
                          <a:pt x="15" y="197"/>
                        </a:lnTo>
                        <a:lnTo>
                          <a:pt x="15" y="199"/>
                        </a:lnTo>
                        <a:lnTo>
                          <a:pt x="13" y="198"/>
                        </a:lnTo>
                        <a:lnTo>
                          <a:pt x="13" y="197"/>
                        </a:lnTo>
                        <a:lnTo>
                          <a:pt x="12" y="194"/>
                        </a:lnTo>
                        <a:lnTo>
                          <a:pt x="12" y="582"/>
                        </a:lnTo>
                        <a:lnTo>
                          <a:pt x="211" y="582"/>
                        </a:lnTo>
                        <a:lnTo>
                          <a:pt x="206" y="114"/>
                        </a:lnTo>
                        <a:lnTo>
                          <a:pt x="205" y="110"/>
                        </a:lnTo>
                        <a:lnTo>
                          <a:pt x="205" y="107"/>
                        </a:lnTo>
                        <a:lnTo>
                          <a:pt x="205" y="103"/>
                        </a:lnTo>
                        <a:lnTo>
                          <a:pt x="205" y="99"/>
                        </a:lnTo>
                        <a:lnTo>
                          <a:pt x="205" y="96"/>
                        </a:lnTo>
                        <a:lnTo>
                          <a:pt x="205" y="92"/>
                        </a:lnTo>
                        <a:lnTo>
                          <a:pt x="205" y="90"/>
                        </a:lnTo>
                        <a:lnTo>
                          <a:pt x="205" y="85"/>
                        </a:lnTo>
                        <a:lnTo>
                          <a:pt x="205" y="81"/>
                        </a:lnTo>
                        <a:lnTo>
                          <a:pt x="205" y="79"/>
                        </a:lnTo>
                        <a:lnTo>
                          <a:pt x="205" y="75"/>
                        </a:lnTo>
                        <a:lnTo>
                          <a:pt x="205" y="72"/>
                        </a:lnTo>
                        <a:lnTo>
                          <a:pt x="205" y="68"/>
                        </a:lnTo>
                        <a:lnTo>
                          <a:pt x="205" y="65"/>
                        </a:lnTo>
                        <a:lnTo>
                          <a:pt x="205" y="61"/>
                        </a:lnTo>
                        <a:lnTo>
                          <a:pt x="205" y="58"/>
                        </a:lnTo>
                        <a:lnTo>
                          <a:pt x="205" y="54"/>
                        </a:lnTo>
                        <a:lnTo>
                          <a:pt x="205" y="50"/>
                        </a:lnTo>
                        <a:lnTo>
                          <a:pt x="205" y="47"/>
                        </a:lnTo>
                        <a:lnTo>
                          <a:pt x="205" y="43"/>
                        </a:lnTo>
                        <a:lnTo>
                          <a:pt x="205" y="39"/>
                        </a:lnTo>
                        <a:lnTo>
                          <a:pt x="205" y="36"/>
                        </a:lnTo>
                        <a:lnTo>
                          <a:pt x="205" y="32"/>
                        </a:lnTo>
                        <a:lnTo>
                          <a:pt x="205" y="29"/>
                        </a:lnTo>
                        <a:lnTo>
                          <a:pt x="205" y="25"/>
                        </a:lnTo>
                        <a:lnTo>
                          <a:pt x="205" y="21"/>
                        </a:lnTo>
                        <a:lnTo>
                          <a:pt x="205" y="18"/>
                        </a:lnTo>
                        <a:lnTo>
                          <a:pt x="205" y="15"/>
                        </a:lnTo>
                        <a:lnTo>
                          <a:pt x="203" y="11"/>
                        </a:lnTo>
                        <a:lnTo>
                          <a:pt x="203" y="7"/>
                        </a:lnTo>
                        <a:lnTo>
                          <a:pt x="203" y="4"/>
                        </a:lnTo>
                        <a:lnTo>
                          <a:pt x="203" y="0"/>
                        </a:lnTo>
                        <a:lnTo>
                          <a:pt x="203" y="3"/>
                        </a:lnTo>
                        <a:lnTo>
                          <a:pt x="203" y="7"/>
                        </a:lnTo>
                        <a:lnTo>
                          <a:pt x="203" y="10"/>
                        </a:lnTo>
                        <a:lnTo>
                          <a:pt x="203" y="13"/>
                        </a:lnTo>
                        <a:lnTo>
                          <a:pt x="203" y="17"/>
                        </a:lnTo>
                        <a:lnTo>
                          <a:pt x="203" y="20"/>
                        </a:lnTo>
                        <a:lnTo>
                          <a:pt x="203" y="24"/>
                        </a:lnTo>
                        <a:lnTo>
                          <a:pt x="203" y="26"/>
                        </a:lnTo>
                        <a:lnTo>
                          <a:pt x="201" y="29"/>
                        </a:lnTo>
                        <a:lnTo>
                          <a:pt x="201" y="33"/>
                        </a:lnTo>
                        <a:lnTo>
                          <a:pt x="201" y="36"/>
                        </a:lnTo>
                        <a:lnTo>
                          <a:pt x="201" y="40"/>
                        </a:lnTo>
                        <a:lnTo>
                          <a:pt x="201" y="43"/>
                        </a:lnTo>
                        <a:lnTo>
                          <a:pt x="201" y="47"/>
                        </a:lnTo>
                        <a:lnTo>
                          <a:pt x="201" y="50"/>
                        </a:lnTo>
                        <a:lnTo>
                          <a:pt x="201" y="53"/>
                        </a:lnTo>
                        <a:lnTo>
                          <a:pt x="201" y="57"/>
                        </a:lnTo>
                        <a:lnTo>
                          <a:pt x="201" y="59"/>
                        </a:lnTo>
                        <a:lnTo>
                          <a:pt x="201" y="64"/>
                        </a:lnTo>
                        <a:lnTo>
                          <a:pt x="201" y="66"/>
                        </a:lnTo>
                        <a:lnTo>
                          <a:pt x="201" y="70"/>
                        </a:lnTo>
                        <a:lnTo>
                          <a:pt x="201" y="73"/>
                        </a:lnTo>
                        <a:lnTo>
                          <a:pt x="201" y="77"/>
                        </a:lnTo>
                        <a:lnTo>
                          <a:pt x="201" y="80"/>
                        </a:lnTo>
                        <a:lnTo>
                          <a:pt x="201" y="84"/>
                        </a:lnTo>
                        <a:lnTo>
                          <a:pt x="201" y="87"/>
                        </a:lnTo>
                        <a:lnTo>
                          <a:pt x="201" y="90"/>
                        </a:lnTo>
                        <a:lnTo>
                          <a:pt x="201" y="94"/>
                        </a:lnTo>
                        <a:lnTo>
                          <a:pt x="201" y="96"/>
                        </a:lnTo>
                        <a:lnTo>
                          <a:pt x="201" y="101"/>
                        </a:lnTo>
                        <a:lnTo>
                          <a:pt x="201" y="103"/>
                        </a:lnTo>
                        <a:lnTo>
                          <a:pt x="201" y="107"/>
                        </a:lnTo>
                        <a:lnTo>
                          <a:pt x="200" y="103"/>
                        </a:lnTo>
                        <a:lnTo>
                          <a:pt x="198" y="99"/>
                        </a:lnTo>
                        <a:lnTo>
                          <a:pt x="198" y="94"/>
                        </a:lnTo>
                        <a:lnTo>
                          <a:pt x="197" y="90"/>
                        </a:lnTo>
                        <a:lnTo>
                          <a:pt x="195" y="84"/>
                        </a:lnTo>
                        <a:lnTo>
                          <a:pt x="195" y="80"/>
                        </a:lnTo>
                        <a:lnTo>
                          <a:pt x="194" y="76"/>
                        </a:lnTo>
                        <a:lnTo>
                          <a:pt x="194" y="72"/>
                        </a:lnTo>
                        <a:lnTo>
                          <a:pt x="191" y="73"/>
                        </a:lnTo>
                        <a:lnTo>
                          <a:pt x="191" y="79"/>
                        </a:lnTo>
                        <a:lnTo>
                          <a:pt x="191" y="80"/>
                        </a:lnTo>
                        <a:lnTo>
                          <a:pt x="191" y="84"/>
                        </a:lnTo>
                        <a:lnTo>
                          <a:pt x="191" y="88"/>
                        </a:lnTo>
                        <a:lnTo>
                          <a:pt x="191" y="92"/>
                        </a:lnTo>
                        <a:lnTo>
                          <a:pt x="191" y="96"/>
                        </a:lnTo>
                        <a:lnTo>
                          <a:pt x="191" y="101"/>
                        </a:lnTo>
                        <a:lnTo>
                          <a:pt x="191" y="105"/>
                        </a:lnTo>
                        <a:lnTo>
                          <a:pt x="191" y="110"/>
                        </a:lnTo>
                        <a:lnTo>
                          <a:pt x="191" y="114"/>
                        </a:lnTo>
                        <a:lnTo>
                          <a:pt x="191" y="120"/>
                        </a:lnTo>
                        <a:lnTo>
                          <a:pt x="191" y="125"/>
                        </a:lnTo>
                        <a:lnTo>
                          <a:pt x="192" y="131"/>
                        </a:lnTo>
                        <a:lnTo>
                          <a:pt x="192" y="135"/>
                        </a:lnTo>
                        <a:lnTo>
                          <a:pt x="192" y="139"/>
                        </a:lnTo>
                        <a:lnTo>
                          <a:pt x="192" y="145"/>
                        </a:lnTo>
                        <a:lnTo>
                          <a:pt x="192" y="149"/>
                        </a:lnTo>
                        <a:lnTo>
                          <a:pt x="192" y="153"/>
                        </a:lnTo>
                        <a:lnTo>
                          <a:pt x="192" y="157"/>
                        </a:lnTo>
                        <a:lnTo>
                          <a:pt x="192" y="161"/>
                        </a:lnTo>
                        <a:lnTo>
                          <a:pt x="194" y="164"/>
                        </a:lnTo>
                        <a:lnTo>
                          <a:pt x="192" y="168"/>
                        </a:lnTo>
                        <a:lnTo>
                          <a:pt x="192" y="172"/>
                        </a:lnTo>
                        <a:lnTo>
                          <a:pt x="191" y="173"/>
                        </a:lnTo>
                        <a:lnTo>
                          <a:pt x="191" y="171"/>
                        </a:lnTo>
                        <a:lnTo>
                          <a:pt x="191" y="165"/>
                        </a:lnTo>
                        <a:lnTo>
                          <a:pt x="189" y="160"/>
                        </a:lnTo>
                        <a:lnTo>
                          <a:pt x="189" y="154"/>
                        </a:lnTo>
                        <a:lnTo>
                          <a:pt x="189" y="149"/>
                        </a:lnTo>
                        <a:lnTo>
                          <a:pt x="189" y="143"/>
                        </a:lnTo>
                        <a:lnTo>
                          <a:pt x="188" y="139"/>
                        </a:lnTo>
                        <a:lnTo>
                          <a:pt x="188" y="134"/>
                        </a:lnTo>
                        <a:lnTo>
                          <a:pt x="188" y="129"/>
                        </a:lnTo>
                        <a:lnTo>
                          <a:pt x="188" y="124"/>
                        </a:lnTo>
                        <a:lnTo>
                          <a:pt x="188" y="121"/>
                        </a:lnTo>
                        <a:lnTo>
                          <a:pt x="188" y="116"/>
                        </a:lnTo>
                        <a:lnTo>
                          <a:pt x="188" y="112"/>
                        </a:lnTo>
                        <a:lnTo>
                          <a:pt x="186" y="107"/>
                        </a:lnTo>
                        <a:lnTo>
                          <a:pt x="186" y="103"/>
                        </a:lnTo>
                        <a:lnTo>
                          <a:pt x="186" y="99"/>
                        </a:lnTo>
                        <a:lnTo>
                          <a:pt x="186" y="95"/>
                        </a:lnTo>
                        <a:lnTo>
                          <a:pt x="185" y="90"/>
                        </a:lnTo>
                        <a:lnTo>
                          <a:pt x="185" y="87"/>
                        </a:lnTo>
                        <a:lnTo>
                          <a:pt x="185" y="81"/>
                        </a:lnTo>
                        <a:lnTo>
                          <a:pt x="185" y="77"/>
                        </a:lnTo>
                        <a:lnTo>
                          <a:pt x="183" y="73"/>
                        </a:lnTo>
                        <a:lnTo>
                          <a:pt x="183" y="68"/>
                        </a:lnTo>
                        <a:lnTo>
                          <a:pt x="183" y="64"/>
                        </a:lnTo>
                        <a:lnTo>
                          <a:pt x="183" y="59"/>
                        </a:lnTo>
                        <a:lnTo>
                          <a:pt x="182" y="55"/>
                        </a:lnTo>
                        <a:lnTo>
                          <a:pt x="182" y="50"/>
                        </a:lnTo>
                        <a:lnTo>
                          <a:pt x="182" y="44"/>
                        </a:lnTo>
                        <a:lnTo>
                          <a:pt x="182" y="40"/>
                        </a:lnTo>
                        <a:lnTo>
                          <a:pt x="182" y="35"/>
                        </a:lnTo>
                        <a:lnTo>
                          <a:pt x="182" y="31"/>
                        </a:lnTo>
                        <a:lnTo>
                          <a:pt x="182" y="24"/>
                        </a:lnTo>
                        <a:lnTo>
                          <a:pt x="182" y="20"/>
                        </a:lnTo>
                        <a:lnTo>
                          <a:pt x="179" y="20"/>
                        </a:lnTo>
                        <a:lnTo>
                          <a:pt x="177" y="24"/>
                        </a:lnTo>
                        <a:lnTo>
                          <a:pt x="175" y="26"/>
                        </a:lnTo>
                        <a:lnTo>
                          <a:pt x="174" y="31"/>
                        </a:lnTo>
                        <a:lnTo>
                          <a:pt x="174" y="33"/>
                        </a:lnTo>
                        <a:lnTo>
                          <a:pt x="172" y="37"/>
                        </a:lnTo>
                        <a:lnTo>
                          <a:pt x="172" y="40"/>
                        </a:lnTo>
                        <a:lnTo>
                          <a:pt x="172" y="44"/>
                        </a:lnTo>
                        <a:lnTo>
                          <a:pt x="171" y="47"/>
                        </a:lnTo>
                        <a:lnTo>
                          <a:pt x="171" y="53"/>
                        </a:lnTo>
                        <a:lnTo>
                          <a:pt x="169" y="57"/>
                        </a:lnTo>
                        <a:lnTo>
                          <a:pt x="169" y="64"/>
                        </a:lnTo>
                        <a:lnTo>
                          <a:pt x="169" y="65"/>
                        </a:lnTo>
                        <a:lnTo>
                          <a:pt x="169" y="68"/>
                        </a:lnTo>
                        <a:lnTo>
                          <a:pt x="169" y="72"/>
                        </a:lnTo>
                        <a:lnTo>
                          <a:pt x="169" y="75"/>
                        </a:lnTo>
                        <a:lnTo>
                          <a:pt x="169" y="77"/>
                        </a:lnTo>
                        <a:lnTo>
                          <a:pt x="169" y="81"/>
                        </a:lnTo>
                        <a:lnTo>
                          <a:pt x="169" y="85"/>
                        </a:lnTo>
                        <a:lnTo>
                          <a:pt x="169" y="90"/>
                        </a:lnTo>
                        <a:lnTo>
                          <a:pt x="169" y="92"/>
                        </a:lnTo>
                        <a:lnTo>
                          <a:pt x="169" y="96"/>
                        </a:lnTo>
                        <a:lnTo>
                          <a:pt x="169" y="101"/>
                        </a:lnTo>
                        <a:lnTo>
                          <a:pt x="169" y="105"/>
                        </a:lnTo>
                        <a:lnTo>
                          <a:pt x="169" y="109"/>
                        </a:lnTo>
                        <a:lnTo>
                          <a:pt x="169" y="113"/>
                        </a:lnTo>
                        <a:lnTo>
                          <a:pt x="169" y="118"/>
                        </a:lnTo>
                        <a:lnTo>
                          <a:pt x="169" y="124"/>
                        </a:lnTo>
                        <a:lnTo>
                          <a:pt x="169" y="128"/>
                        </a:lnTo>
                        <a:lnTo>
                          <a:pt x="169" y="134"/>
                        </a:lnTo>
                        <a:lnTo>
                          <a:pt x="171" y="138"/>
                        </a:lnTo>
                        <a:lnTo>
                          <a:pt x="171" y="143"/>
                        </a:lnTo>
                        <a:lnTo>
                          <a:pt x="171" y="149"/>
                        </a:lnTo>
                        <a:lnTo>
                          <a:pt x="171" y="154"/>
                        </a:lnTo>
                        <a:lnTo>
                          <a:pt x="172" y="160"/>
                        </a:lnTo>
                        <a:lnTo>
                          <a:pt x="174" y="166"/>
                        </a:lnTo>
                        <a:lnTo>
                          <a:pt x="174" y="169"/>
                        </a:lnTo>
                        <a:lnTo>
                          <a:pt x="174" y="172"/>
                        </a:lnTo>
                        <a:lnTo>
                          <a:pt x="174" y="176"/>
                        </a:lnTo>
                        <a:lnTo>
                          <a:pt x="174" y="182"/>
                        </a:lnTo>
                        <a:lnTo>
                          <a:pt x="174" y="186"/>
                        </a:lnTo>
                        <a:lnTo>
                          <a:pt x="174" y="191"/>
                        </a:lnTo>
                        <a:lnTo>
                          <a:pt x="174" y="197"/>
                        </a:lnTo>
                        <a:lnTo>
                          <a:pt x="174" y="204"/>
                        </a:lnTo>
                        <a:lnTo>
                          <a:pt x="172" y="209"/>
                        </a:lnTo>
                        <a:lnTo>
                          <a:pt x="172" y="215"/>
                        </a:lnTo>
                        <a:lnTo>
                          <a:pt x="172" y="220"/>
                        </a:lnTo>
                        <a:lnTo>
                          <a:pt x="172" y="224"/>
                        </a:lnTo>
                        <a:lnTo>
                          <a:pt x="171" y="228"/>
                        </a:lnTo>
                        <a:lnTo>
                          <a:pt x="171" y="232"/>
                        </a:lnTo>
                        <a:lnTo>
                          <a:pt x="169" y="235"/>
                        </a:lnTo>
                        <a:lnTo>
                          <a:pt x="168" y="238"/>
                        </a:lnTo>
                        <a:lnTo>
                          <a:pt x="166" y="231"/>
                        </a:lnTo>
                        <a:lnTo>
                          <a:pt x="166" y="225"/>
                        </a:lnTo>
                        <a:lnTo>
                          <a:pt x="165" y="220"/>
                        </a:lnTo>
                        <a:lnTo>
                          <a:pt x="165" y="215"/>
                        </a:lnTo>
                        <a:lnTo>
                          <a:pt x="163" y="209"/>
                        </a:lnTo>
                        <a:lnTo>
                          <a:pt x="163" y="204"/>
                        </a:lnTo>
                        <a:lnTo>
                          <a:pt x="163" y="198"/>
                        </a:lnTo>
                        <a:lnTo>
                          <a:pt x="163" y="193"/>
                        </a:lnTo>
                        <a:lnTo>
                          <a:pt x="163" y="186"/>
                        </a:lnTo>
                        <a:lnTo>
                          <a:pt x="163" y="182"/>
                        </a:lnTo>
                        <a:lnTo>
                          <a:pt x="163" y="175"/>
                        </a:lnTo>
                        <a:lnTo>
                          <a:pt x="163" y="171"/>
                        </a:lnTo>
                        <a:lnTo>
                          <a:pt x="163" y="165"/>
                        </a:lnTo>
                        <a:lnTo>
                          <a:pt x="163" y="158"/>
                        </a:lnTo>
                        <a:lnTo>
                          <a:pt x="163" y="153"/>
                        </a:lnTo>
                        <a:lnTo>
                          <a:pt x="163" y="149"/>
                        </a:lnTo>
                        <a:lnTo>
                          <a:pt x="162" y="142"/>
                        </a:lnTo>
                        <a:lnTo>
                          <a:pt x="162" y="136"/>
                        </a:lnTo>
                        <a:lnTo>
                          <a:pt x="162" y="131"/>
                        </a:lnTo>
                        <a:lnTo>
                          <a:pt x="162" y="125"/>
                        </a:lnTo>
                        <a:lnTo>
                          <a:pt x="162" y="118"/>
                        </a:lnTo>
                        <a:lnTo>
                          <a:pt x="162" y="114"/>
                        </a:lnTo>
                        <a:lnTo>
                          <a:pt x="162" y="107"/>
                        </a:lnTo>
                        <a:lnTo>
                          <a:pt x="162" y="102"/>
                        </a:lnTo>
                        <a:lnTo>
                          <a:pt x="162" y="96"/>
                        </a:lnTo>
                        <a:lnTo>
                          <a:pt x="160" y="91"/>
                        </a:lnTo>
                        <a:lnTo>
                          <a:pt x="160" y="85"/>
                        </a:lnTo>
                        <a:lnTo>
                          <a:pt x="160" y="80"/>
                        </a:lnTo>
                        <a:lnTo>
                          <a:pt x="160" y="75"/>
                        </a:lnTo>
                        <a:lnTo>
                          <a:pt x="159" y="69"/>
                        </a:lnTo>
                        <a:lnTo>
                          <a:pt x="159" y="62"/>
                        </a:lnTo>
                        <a:lnTo>
                          <a:pt x="157" y="58"/>
                        </a:lnTo>
                        <a:lnTo>
                          <a:pt x="157" y="55"/>
                        </a:lnTo>
                        <a:lnTo>
                          <a:pt x="157" y="53"/>
                        </a:lnTo>
                        <a:lnTo>
                          <a:pt x="156" y="48"/>
                        </a:lnTo>
                        <a:lnTo>
                          <a:pt x="156" y="47"/>
                        </a:lnTo>
                        <a:lnTo>
                          <a:pt x="154" y="50"/>
                        </a:lnTo>
                        <a:lnTo>
                          <a:pt x="154" y="53"/>
                        </a:lnTo>
                        <a:lnTo>
                          <a:pt x="153" y="57"/>
                        </a:lnTo>
                        <a:lnTo>
                          <a:pt x="153" y="59"/>
                        </a:lnTo>
                        <a:lnTo>
                          <a:pt x="153" y="64"/>
                        </a:lnTo>
                        <a:lnTo>
                          <a:pt x="151" y="66"/>
                        </a:lnTo>
                        <a:lnTo>
                          <a:pt x="151" y="70"/>
                        </a:lnTo>
                        <a:lnTo>
                          <a:pt x="151" y="75"/>
                        </a:lnTo>
                        <a:lnTo>
                          <a:pt x="156" y="138"/>
                        </a:lnTo>
                        <a:lnTo>
                          <a:pt x="154" y="142"/>
                        </a:lnTo>
                        <a:lnTo>
                          <a:pt x="154" y="146"/>
                        </a:lnTo>
                        <a:lnTo>
                          <a:pt x="154" y="151"/>
                        </a:lnTo>
                        <a:lnTo>
                          <a:pt x="154" y="155"/>
                        </a:lnTo>
                        <a:lnTo>
                          <a:pt x="154" y="161"/>
                        </a:lnTo>
                        <a:lnTo>
                          <a:pt x="154" y="166"/>
                        </a:lnTo>
                        <a:lnTo>
                          <a:pt x="153" y="171"/>
                        </a:lnTo>
                        <a:lnTo>
                          <a:pt x="153" y="176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1" y="191"/>
                        </a:lnTo>
                        <a:lnTo>
                          <a:pt x="151" y="195"/>
                        </a:lnTo>
                        <a:lnTo>
                          <a:pt x="151" y="201"/>
                        </a:lnTo>
                        <a:lnTo>
                          <a:pt x="151" y="206"/>
                        </a:lnTo>
                        <a:lnTo>
                          <a:pt x="153" y="210"/>
                        </a:lnTo>
                        <a:lnTo>
                          <a:pt x="153" y="217"/>
                        </a:lnTo>
                        <a:lnTo>
                          <a:pt x="153" y="544"/>
                        </a:lnTo>
                        <a:lnTo>
                          <a:pt x="75" y="545"/>
                        </a:lnTo>
                        <a:lnTo>
                          <a:pt x="71" y="99"/>
                        </a:lnTo>
                        <a:lnTo>
                          <a:pt x="71" y="95"/>
                        </a:lnTo>
                        <a:lnTo>
                          <a:pt x="71" y="92"/>
                        </a:lnTo>
                        <a:lnTo>
                          <a:pt x="71" y="88"/>
                        </a:lnTo>
                        <a:lnTo>
                          <a:pt x="71" y="85"/>
                        </a:lnTo>
                        <a:lnTo>
                          <a:pt x="70" y="81"/>
                        </a:lnTo>
                        <a:lnTo>
                          <a:pt x="68" y="79"/>
                        </a:lnTo>
                        <a:lnTo>
                          <a:pt x="68" y="75"/>
                        </a:lnTo>
                        <a:lnTo>
                          <a:pt x="68" y="72"/>
                        </a:lnTo>
                        <a:lnTo>
                          <a:pt x="67" y="68"/>
                        </a:lnTo>
                        <a:lnTo>
                          <a:pt x="65" y="65"/>
                        </a:lnTo>
                        <a:lnTo>
                          <a:pt x="64" y="62"/>
                        </a:lnTo>
                        <a:lnTo>
                          <a:pt x="64" y="58"/>
                        </a:lnTo>
                        <a:lnTo>
                          <a:pt x="62" y="53"/>
                        </a:lnTo>
                        <a:lnTo>
                          <a:pt x="62" y="47"/>
                        </a:lnTo>
                        <a:lnTo>
                          <a:pt x="58" y="53"/>
                        </a:lnTo>
                        <a:lnTo>
                          <a:pt x="59" y="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197"/>
                  <p:cNvSpPr/>
                  <p:nvPr/>
                </p:nvSpPr>
                <p:spPr>
                  <a:xfrm>
                    <a:off x="3962520" y="3563640"/>
                    <a:ext cx="1800" cy="2088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4" h="161">
                        <a:moveTo>
                          <a:pt x="14" y="0"/>
                        </a:moveTo>
                        <a:lnTo>
                          <a:pt x="14" y="3"/>
                        </a:lnTo>
                        <a:lnTo>
                          <a:pt x="12" y="7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1" y="20"/>
                        </a:lnTo>
                        <a:lnTo>
                          <a:pt x="11" y="24"/>
                        </a:lnTo>
                        <a:lnTo>
                          <a:pt x="11" y="28"/>
                        </a:lnTo>
                        <a:lnTo>
                          <a:pt x="11" y="32"/>
                        </a:lnTo>
                        <a:lnTo>
                          <a:pt x="11" y="36"/>
                        </a:lnTo>
                        <a:lnTo>
                          <a:pt x="11" y="40"/>
                        </a:lnTo>
                        <a:lnTo>
                          <a:pt x="11" y="44"/>
                        </a:lnTo>
                        <a:lnTo>
                          <a:pt x="11" y="48"/>
                        </a:lnTo>
                        <a:lnTo>
                          <a:pt x="11" y="53"/>
                        </a:lnTo>
                        <a:lnTo>
                          <a:pt x="11" y="58"/>
                        </a:lnTo>
                        <a:lnTo>
                          <a:pt x="11" y="61"/>
                        </a:lnTo>
                        <a:lnTo>
                          <a:pt x="11" y="66"/>
                        </a:lnTo>
                        <a:lnTo>
                          <a:pt x="11" y="72"/>
                        </a:lnTo>
                        <a:lnTo>
                          <a:pt x="11" y="77"/>
                        </a:lnTo>
                        <a:lnTo>
                          <a:pt x="11" y="83"/>
                        </a:lnTo>
                        <a:lnTo>
                          <a:pt x="11" y="90"/>
                        </a:lnTo>
                        <a:lnTo>
                          <a:pt x="11" y="95"/>
                        </a:lnTo>
                        <a:lnTo>
                          <a:pt x="9" y="101"/>
                        </a:lnTo>
                        <a:lnTo>
                          <a:pt x="9" y="105"/>
                        </a:lnTo>
                        <a:lnTo>
                          <a:pt x="9" y="107"/>
                        </a:lnTo>
                        <a:lnTo>
                          <a:pt x="9" y="110"/>
                        </a:lnTo>
                        <a:lnTo>
                          <a:pt x="9" y="113"/>
                        </a:lnTo>
                        <a:lnTo>
                          <a:pt x="8" y="120"/>
                        </a:lnTo>
                        <a:lnTo>
                          <a:pt x="6" y="125"/>
                        </a:lnTo>
                        <a:lnTo>
                          <a:pt x="6" y="131"/>
                        </a:lnTo>
                        <a:lnTo>
                          <a:pt x="5" y="138"/>
                        </a:lnTo>
                        <a:lnTo>
                          <a:pt x="3" y="143"/>
                        </a:lnTo>
                        <a:lnTo>
                          <a:pt x="3" y="149"/>
                        </a:lnTo>
                        <a:lnTo>
                          <a:pt x="2" y="151"/>
                        </a:lnTo>
                        <a:lnTo>
                          <a:pt x="2" y="154"/>
                        </a:lnTo>
                        <a:lnTo>
                          <a:pt x="0" y="158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2" y="150"/>
                        </a:lnTo>
                        <a:lnTo>
                          <a:pt x="2" y="145"/>
                        </a:lnTo>
                        <a:lnTo>
                          <a:pt x="2" y="140"/>
                        </a:lnTo>
                        <a:lnTo>
                          <a:pt x="2" y="135"/>
                        </a:lnTo>
                        <a:lnTo>
                          <a:pt x="3" y="129"/>
                        </a:lnTo>
                        <a:lnTo>
                          <a:pt x="3" y="127"/>
                        </a:lnTo>
                        <a:lnTo>
                          <a:pt x="3" y="123"/>
                        </a:lnTo>
                        <a:lnTo>
                          <a:pt x="3" y="120"/>
                        </a:lnTo>
                        <a:lnTo>
                          <a:pt x="3" y="117"/>
                        </a:lnTo>
                        <a:lnTo>
                          <a:pt x="3" y="113"/>
                        </a:lnTo>
                        <a:lnTo>
                          <a:pt x="3" y="110"/>
                        </a:lnTo>
                        <a:lnTo>
                          <a:pt x="3" y="107"/>
                        </a:lnTo>
                        <a:lnTo>
                          <a:pt x="3" y="105"/>
                        </a:lnTo>
                        <a:lnTo>
                          <a:pt x="3" y="101"/>
                        </a:lnTo>
                        <a:lnTo>
                          <a:pt x="3" y="97"/>
                        </a:lnTo>
                        <a:lnTo>
                          <a:pt x="3" y="94"/>
                        </a:lnTo>
                        <a:lnTo>
                          <a:pt x="3" y="90"/>
                        </a:lnTo>
                        <a:lnTo>
                          <a:pt x="3" y="87"/>
                        </a:lnTo>
                        <a:lnTo>
                          <a:pt x="5" y="83"/>
                        </a:lnTo>
                        <a:lnTo>
                          <a:pt x="5" y="80"/>
                        </a:lnTo>
                        <a:lnTo>
                          <a:pt x="5" y="76"/>
                        </a:lnTo>
                        <a:lnTo>
                          <a:pt x="5" y="73"/>
                        </a:lnTo>
                        <a:lnTo>
                          <a:pt x="5" y="69"/>
                        </a:lnTo>
                        <a:lnTo>
                          <a:pt x="5" y="65"/>
                        </a:lnTo>
                        <a:lnTo>
                          <a:pt x="5" y="62"/>
                        </a:lnTo>
                        <a:lnTo>
                          <a:pt x="5" y="58"/>
                        </a:lnTo>
                        <a:lnTo>
                          <a:pt x="6" y="55"/>
                        </a:lnTo>
                        <a:lnTo>
                          <a:pt x="6" y="51"/>
                        </a:lnTo>
                        <a:lnTo>
                          <a:pt x="6" y="48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39"/>
                        </a:lnTo>
                        <a:lnTo>
                          <a:pt x="6" y="36"/>
                        </a:lnTo>
                        <a:lnTo>
                          <a:pt x="8" y="29"/>
                        </a:lnTo>
                        <a:lnTo>
                          <a:pt x="8" y="25"/>
                        </a:lnTo>
                        <a:lnTo>
                          <a:pt x="8" y="20"/>
                        </a:lnTo>
                        <a:lnTo>
                          <a:pt x="9" y="14"/>
                        </a:lnTo>
                        <a:lnTo>
                          <a:pt x="9" y="11"/>
                        </a:lnTo>
                        <a:lnTo>
                          <a:pt x="11" y="7"/>
                        </a:lnTo>
                        <a:lnTo>
                          <a:pt x="11" y="5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198"/>
                  <p:cNvSpPr/>
                  <p:nvPr/>
                </p:nvSpPr>
                <p:spPr>
                  <a:xfrm>
                    <a:off x="3978000" y="3515760"/>
                    <a:ext cx="30600" cy="7632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214" h="584">
                        <a:moveTo>
                          <a:pt x="62" y="77"/>
                        </a:moveTo>
                        <a:lnTo>
                          <a:pt x="62" y="81"/>
                        </a:lnTo>
                        <a:lnTo>
                          <a:pt x="62" y="87"/>
                        </a:lnTo>
                        <a:lnTo>
                          <a:pt x="64" y="91"/>
                        </a:lnTo>
                        <a:lnTo>
                          <a:pt x="64" y="96"/>
                        </a:lnTo>
                        <a:lnTo>
                          <a:pt x="65" y="102"/>
                        </a:lnTo>
                        <a:lnTo>
                          <a:pt x="67" y="107"/>
                        </a:lnTo>
                        <a:lnTo>
                          <a:pt x="67" y="113"/>
                        </a:lnTo>
                        <a:lnTo>
                          <a:pt x="68" y="118"/>
                        </a:lnTo>
                        <a:lnTo>
                          <a:pt x="68" y="124"/>
                        </a:lnTo>
                        <a:lnTo>
                          <a:pt x="68" y="128"/>
                        </a:lnTo>
                        <a:lnTo>
                          <a:pt x="68" y="133"/>
                        </a:lnTo>
                        <a:lnTo>
                          <a:pt x="70" y="139"/>
                        </a:lnTo>
                        <a:lnTo>
                          <a:pt x="68" y="143"/>
                        </a:lnTo>
                        <a:lnTo>
                          <a:pt x="68" y="148"/>
                        </a:lnTo>
                        <a:lnTo>
                          <a:pt x="67" y="152"/>
                        </a:lnTo>
                        <a:lnTo>
                          <a:pt x="67" y="157"/>
                        </a:lnTo>
                        <a:lnTo>
                          <a:pt x="67" y="155"/>
                        </a:lnTo>
                        <a:lnTo>
                          <a:pt x="65" y="152"/>
                        </a:lnTo>
                        <a:lnTo>
                          <a:pt x="65" y="150"/>
                        </a:lnTo>
                        <a:lnTo>
                          <a:pt x="64" y="146"/>
                        </a:lnTo>
                        <a:lnTo>
                          <a:pt x="62" y="142"/>
                        </a:lnTo>
                        <a:lnTo>
                          <a:pt x="61" y="136"/>
                        </a:lnTo>
                        <a:lnTo>
                          <a:pt x="61" y="132"/>
                        </a:lnTo>
                        <a:lnTo>
                          <a:pt x="59" y="129"/>
                        </a:lnTo>
                        <a:lnTo>
                          <a:pt x="59" y="126"/>
                        </a:lnTo>
                        <a:lnTo>
                          <a:pt x="58" y="122"/>
                        </a:lnTo>
                        <a:lnTo>
                          <a:pt x="58" y="120"/>
                        </a:lnTo>
                        <a:lnTo>
                          <a:pt x="56" y="117"/>
                        </a:lnTo>
                        <a:lnTo>
                          <a:pt x="56" y="113"/>
                        </a:lnTo>
                        <a:lnTo>
                          <a:pt x="55" y="110"/>
                        </a:lnTo>
                        <a:lnTo>
                          <a:pt x="55" y="107"/>
                        </a:lnTo>
                        <a:lnTo>
                          <a:pt x="53" y="103"/>
                        </a:lnTo>
                        <a:lnTo>
                          <a:pt x="53" y="99"/>
                        </a:lnTo>
                        <a:lnTo>
                          <a:pt x="52" y="96"/>
                        </a:lnTo>
                        <a:lnTo>
                          <a:pt x="52" y="92"/>
                        </a:lnTo>
                        <a:lnTo>
                          <a:pt x="50" y="88"/>
                        </a:lnTo>
                        <a:lnTo>
                          <a:pt x="50" y="85"/>
                        </a:lnTo>
                        <a:lnTo>
                          <a:pt x="48" y="81"/>
                        </a:lnTo>
                        <a:lnTo>
                          <a:pt x="48" y="78"/>
                        </a:lnTo>
                        <a:lnTo>
                          <a:pt x="47" y="74"/>
                        </a:lnTo>
                        <a:lnTo>
                          <a:pt x="45" y="70"/>
                        </a:lnTo>
                        <a:lnTo>
                          <a:pt x="45" y="66"/>
                        </a:lnTo>
                        <a:lnTo>
                          <a:pt x="44" y="63"/>
                        </a:lnTo>
                        <a:lnTo>
                          <a:pt x="42" y="59"/>
                        </a:lnTo>
                        <a:lnTo>
                          <a:pt x="42" y="56"/>
                        </a:lnTo>
                        <a:lnTo>
                          <a:pt x="41" y="52"/>
                        </a:lnTo>
                        <a:lnTo>
                          <a:pt x="41" y="50"/>
                        </a:lnTo>
                        <a:lnTo>
                          <a:pt x="39" y="45"/>
                        </a:lnTo>
                        <a:lnTo>
                          <a:pt x="38" y="43"/>
                        </a:lnTo>
                        <a:lnTo>
                          <a:pt x="38" y="39"/>
                        </a:lnTo>
                        <a:lnTo>
                          <a:pt x="38" y="36"/>
                        </a:lnTo>
                        <a:lnTo>
                          <a:pt x="36" y="29"/>
                        </a:lnTo>
                        <a:lnTo>
                          <a:pt x="35" y="25"/>
                        </a:lnTo>
                        <a:lnTo>
                          <a:pt x="33" y="18"/>
                        </a:lnTo>
                        <a:lnTo>
                          <a:pt x="32" y="14"/>
                        </a:lnTo>
                        <a:lnTo>
                          <a:pt x="30" y="10"/>
                        </a:lnTo>
                        <a:lnTo>
                          <a:pt x="30" y="6"/>
                        </a:lnTo>
                        <a:lnTo>
                          <a:pt x="29" y="1"/>
                        </a:lnTo>
                        <a:lnTo>
                          <a:pt x="29" y="0"/>
                        </a:lnTo>
                        <a:lnTo>
                          <a:pt x="27" y="6"/>
                        </a:lnTo>
                        <a:lnTo>
                          <a:pt x="27" y="11"/>
                        </a:lnTo>
                        <a:lnTo>
                          <a:pt x="26" y="15"/>
                        </a:lnTo>
                        <a:lnTo>
                          <a:pt x="26" y="18"/>
                        </a:lnTo>
                        <a:lnTo>
                          <a:pt x="26" y="21"/>
                        </a:lnTo>
                        <a:lnTo>
                          <a:pt x="27" y="25"/>
                        </a:lnTo>
                        <a:lnTo>
                          <a:pt x="27" y="28"/>
                        </a:lnTo>
                        <a:lnTo>
                          <a:pt x="27" y="32"/>
                        </a:lnTo>
                        <a:lnTo>
                          <a:pt x="27" y="34"/>
                        </a:lnTo>
                        <a:lnTo>
                          <a:pt x="29" y="39"/>
                        </a:lnTo>
                        <a:lnTo>
                          <a:pt x="29" y="41"/>
                        </a:lnTo>
                        <a:lnTo>
                          <a:pt x="30" y="44"/>
                        </a:lnTo>
                        <a:lnTo>
                          <a:pt x="30" y="47"/>
                        </a:lnTo>
                        <a:lnTo>
                          <a:pt x="32" y="50"/>
                        </a:lnTo>
                        <a:lnTo>
                          <a:pt x="33" y="52"/>
                        </a:lnTo>
                        <a:lnTo>
                          <a:pt x="35" y="55"/>
                        </a:lnTo>
                        <a:lnTo>
                          <a:pt x="35" y="56"/>
                        </a:lnTo>
                        <a:lnTo>
                          <a:pt x="36" y="59"/>
                        </a:lnTo>
                        <a:lnTo>
                          <a:pt x="38" y="65"/>
                        </a:lnTo>
                        <a:lnTo>
                          <a:pt x="38" y="72"/>
                        </a:lnTo>
                        <a:lnTo>
                          <a:pt x="38" y="77"/>
                        </a:lnTo>
                        <a:lnTo>
                          <a:pt x="39" y="82"/>
                        </a:lnTo>
                        <a:lnTo>
                          <a:pt x="39" y="85"/>
                        </a:lnTo>
                        <a:lnTo>
                          <a:pt x="41" y="89"/>
                        </a:lnTo>
                        <a:lnTo>
                          <a:pt x="41" y="92"/>
                        </a:lnTo>
                        <a:lnTo>
                          <a:pt x="41" y="95"/>
                        </a:lnTo>
                        <a:lnTo>
                          <a:pt x="41" y="98"/>
                        </a:lnTo>
                        <a:lnTo>
                          <a:pt x="42" y="102"/>
                        </a:lnTo>
                        <a:lnTo>
                          <a:pt x="42" y="104"/>
                        </a:lnTo>
                        <a:lnTo>
                          <a:pt x="42" y="109"/>
                        </a:lnTo>
                        <a:lnTo>
                          <a:pt x="42" y="114"/>
                        </a:lnTo>
                        <a:lnTo>
                          <a:pt x="44" y="120"/>
                        </a:lnTo>
                        <a:lnTo>
                          <a:pt x="44" y="122"/>
                        </a:lnTo>
                        <a:lnTo>
                          <a:pt x="44" y="126"/>
                        </a:lnTo>
                        <a:lnTo>
                          <a:pt x="44" y="129"/>
                        </a:lnTo>
                        <a:lnTo>
                          <a:pt x="44" y="132"/>
                        </a:lnTo>
                        <a:lnTo>
                          <a:pt x="44" y="137"/>
                        </a:lnTo>
                        <a:lnTo>
                          <a:pt x="44" y="143"/>
                        </a:lnTo>
                        <a:lnTo>
                          <a:pt x="44" y="148"/>
                        </a:lnTo>
                        <a:lnTo>
                          <a:pt x="44" y="155"/>
                        </a:lnTo>
                        <a:lnTo>
                          <a:pt x="36" y="150"/>
                        </a:lnTo>
                        <a:lnTo>
                          <a:pt x="36" y="148"/>
                        </a:lnTo>
                        <a:lnTo>
                          <a:pt x="35" y="146"/>
                        </a:lnTo>
                        <a:lnTo>
                          <a:pt x="35" y="142"/>
                        </a:lnTo>
                        <a:lnTo>
                          <a:pt x="35" y="139"/>
                        </a:lnTo>
                        <a:lnTo>
                          <a:pt x="35" y="135"/>
                        </a:lnTo>
                        <a:lnTo>
                          <a:pt x="35" y="131"/>
                        </a:lnTo>
                        <a:lnTo>
                          <a:pt x="35" y="126"/>
                        </a:lnTo>
                        <a:lnTo>
                          <a:pt x="33" y="121"/>
                        </a:lnTo>
                        <a:lnTo>
                          <a:pt x="33" y="117"/>
                        </a:lnTo>
                        <a:lnTo>
                          <a:pt x="32" y="113"/>
                        </a:lnTo>
                        <a:lnTo>
                          <a:pt x="32" y="110"/>
                        </a:lnTo>
                        <a:lnTo>
                          <a:pt x="32" y="106"/>
                        </a:lnTo>
                        <a:lnTo>
                          <a:pt x="32" y="103"/>
                        </a:lnTo>
                        <a:lnTo>
                          <a:pt x="32" y="102"/>
                        </a:lnTo>
                        <a:lnTo>
                          <a:pt x="32" y="100"/>
                        </a:lnTo>
                        <a:lnTo>
                          <a:pt x="30" y="96"/>
                        </a:lnTo>
                        <a:lnTo>
                          <a:pt x="29" y="92"/>
                        </a:lnTo>
                        <a:lnTo>
                          <a:pt x="27" y="89"/>
                        </a:lnTo>
                        <a:lnTo>
                          <a:pt x="26" y="85"/>
                        </a:lnTo>
                        <a:lnTo>
                          <a:pt x="24" y="82"/>
                        </a:lnTo>
                        <a:lnTo>
                          <a:pt x="22" y="78"/>
                        </a:lnTo>
                        <a:lnTo>
                          <a:pt x="21" y="76"/>
                        </a:lnTo>
                        <a:lnTo>
                          <a:pt x="19" y="72"/>
                        </a:lnTo>
                        <a:lnTo>
                          <a:pt x="18" y="69"/>
                        </a:lnTo>
                        <a:lnTo>
                          <a:pt x="16" y="65"/>
                        </a:lnTo>
                        <a:lnTo>
                          <a:pt x="15" y="61"/>
                        </a:lnTo>
                        <a:lnTo>
                          <a:pt x="15" y="58"/>
                        </a:lnTo>
                        <a:lnTo>
                          <a:pt x="13" y="54"/>
                        </a:lnTo>
                        <a:lnTo>
                          <a:pt x="13" y="50"/>
                        </a:lnTo>
                        <a:lnTo>
                          <a:pt x="13" y="45"/>
                        </a:lnTo>
                        <a:lnTo>
                          <a:pt x="15" y="41"/>
                        </a:lnTo>
                        <a:lnTo>
                          <a:pt x="10" y="40"/>
                        </a:lnTo>
                        <a:lnTo>
                          <a:pt x="7" y="37"/>
                        </a:lnTo>
                        <a:lnTo>
                          <a:pt x="4" y="36"/>
                        </a:lnTo>
                        <a:lnTo>
                          <a:pt x="1" y="34"/>
                        </a:lnTo>
                        <a:lnTo>
                          <a:pt x="1" y="36"/>
                        </a:lnTo>
                        <a:lnTo>
                          <a:pt x="0" y="37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0" y="55"/>
                        </a:lnTo>
                        <a:lnTo>
                          <a:pt x="1" y="61"/>
                        </a:lnTo>
                        <a:lnTo>
                          <a:pt x="1" y="65"/>
                        </a:lnTo>
                        <a:lnTo>
                          <a:pt x="1" y="70"/>
                        </a:lnTo>
                        <a:lnTo>
                          <a:pt x="1" y="74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4" y="91"/>
                        </a:lnTo>
                        <a:lnTo>
                          <a:pt x="4" y="96"/>
                        </a:lnTo>
                        <a:lnTo>
                          <a:pt x="6" y="103"/>
                        </a:lnTo>
                        <a:lnTo>
                          <a:pt x="6" y="109"/>
                        </a:lnTo>
                        <a:lnTo>
                          <a:pt x="7" y="113"/>
                        </a:lnTo>
                        <a:lnTo>
                          <a:pt x="7" y="118"/>
                        </a:lnTo>
                        <a:lnTo>
                          <a:pt x="7" y="124"/>
                        </a:lnTo>
                        <a:lnTo>
                          <a:pt x="9" y="128"/>
                        </a:lnTo>
                        <a:lnTo>
                          <a:pt x="9" y="133"/>
                        </a:lnTo>
                        <a:lnTo>
                          <a:pt x="10" y="137"/>
                        </a:lnTo>
                        <a:lnTo>
                          <a:pt x="12" y="142"/>
                        </a:lnTo>
                        <a:lnTo>
                          <a:pt x="12" y="146"/>
                        </a:lnTo>
                        <a:lnTo>
                          <a:pt x="12" y="150"/>
                        </a:lnTo>
                        <a:lnTo>
                          <a:pt x="12" y="152"/>
                        </a:lnTo>
                        <a:lnTo>
                          <a:pt x="13" y="155"/>
                        </a:lnTo>
                        <a:lnTo>
                          <a:pt x="13" y="159"/>
                        </a:lnTo>
                        <a:lnTo>
                          <a:pt x="15" y="162"/>
                        </a:lnTo>
                        <a:lnTo>
                          <a:pt x="15" y="165"/>
                        </a:lnTo>
                        <a:lnTo>
                          <a:pt x="15" y="169"/>
                        </a:lnTo>
                        <a:lnTo>
                          <a:pt x="15" y="173"/>
                        </a:lnTo>
                        <a:lnTo>
                          <a:pt x="15" y="177"/>
                        </a:lnTo>
                        <a:lnTo>
                          <a:pt x="15" y="181"/>
                        </a:lnTo>
                        <a:lnTo>
                          <a:pt x="16" y="185"/>
                        </a:lnTo>
                        <a:lnTo>
                          <a:pt x="16" y="190"/>
                        </a:lnTo>
                        <a:lnTo>
                          <a:pt x="18" y="194"/>
                        </a:lnTo>
                        <a:lnTo>
                          <a:pt x="18" y="196"/>
                        </a:lnTo>
                        <a:lnTo>
                          <a:pt x="18" y="198"/>
                        </a:lnTo>
                        <a:lnTo>
                          <a:pt x="18" y="201"/>
                        </a:lnTo>
                        <a:lnTo>
                          <a:pt x="18" y="202"/>
                        </a:lnTo>
                        <a:lnTo>
                          <a:pt x="16" y="202"/>
                        </a:lnTo>
                        <a:lnTo>
                          <a:pt x="15" y="201"/>
                        </a:lnTo>
                        <a:lnTo>
                          <a:pt x="13" y="198"/>
                        </a:lnTo>
                        <a:lnTo>
                          <a:pt x="12" y="195"/>
                        </a:lnTo>
                        <a:lnTo>
                          <a:pt x="15" y="584"/>
                        </a:lnTo>
                        <a:lnTo>
                          <a:pt x="214" y="584"/>
                        </a:lnTo>
                        <a:lnTo>
                          <a:pt x="209" y="115"/>
                        </a:lnTo>
                        <a:lnTo>
                          <a:pt x="209" y="111"/>
                        </a:lnTo>
                        <a:lnTo>
                          <a:pt x="209" y="109"/>
                        </a:lnTo>
                        <a:lnTo>
                          <a:pt x="209" y="106"/>
                        </a:lnTo>
                        <a:lnTo>
                          <a:pt x="209" y="102"/>
                        </a:lnTo>
                        <a:lnTo>
                          <a:pt x="209" y="99"/>
                        </a:lnTo>
                        <a:lnTo>
                          <a:pt x="209" y="96"/>
                        </a:lnTo>
                        <a:lnTo>
                          <a:pt x="209" y="93"/>
                        </a:lnTo>
                        <a:lnTo>
                          <a:pt x="209" y="91"/>
                        </a:lnTo>
                        <a:lnTo>
                          <a:pt x="209" y="85"/>
                        </a:lnTo>
                        <a:lnTo>
                          <a:pt x="209" y="80"/>
                        </a:lnTo>
                        <a:lnTo>
                          <a:pt x="209" y="74"/>
                        </a:lnTo>
                        <a:lnTo>
                          <a:pt x="209" y="70"/>
                        </a:lnTo>
                        <a:lnTo>
                          <a:pt x="209" y="65"/>
                        </a:lnTo>
                        <a:lnTo>
                          <a:pt x="209" y="61"/>
                        </a:lnTo>
                        <a:lnTo>
                          <a:pt x="209" y="55"/>
                        </a:lnTo>
                        <a:lnTo>
                          <a:pt x="209" y="50"/>
                        </a:lnTo>
                        <a:lnTo>
                          <a:pt x="209" y="44"/>
                        </a:lnTo>
                        <a:lnTo>
                          <a:pt x="209" y="39"/>
                        </a:lnTo>
                        <a:lnTo>
                          <a:pt x="209" y="34"/>
                        </a:lnTo>
                        <a:lnTo>
                          <a:pt x="209" y="32"/>
                        </a:lnTo>
                        <a:lnTo>
                          <a:pt x="209" y="28"/>
                        </a:lnTo>
                        <a:lnTo>
                          <a:pt x="209" y="25"/>
                        </a:lnTo>
                        <a:lnTo>
                          <a:pt x="200" y="32"/>
                        </a:lnTo>
                        <a:lnTo>
                          <a:pt x="200" y="37"/>
                        </a:lnTo>
                        <a:lnTo>
                          <a:pt x="200" y="41"/>
                        </a:lnTo>
                        <a:lnTo>
                          <a:pt x="200" y="47"/>
                        </a:lnTo>
                        <a:lnTo>
                          <a:pt x="200" y="52"/>
                        </a:lnTo>
                        <a:lnTo>
                          <a:pt x="200" y="56"/>
                        </a:lnTo>
                        <a:lnTo>
                          <a:pt x="200" y="62"/>
                        </a:lnTo>
                        <a:lnTo>
                          <a:pt x="200" y="66"/>
                        </a:lnTo>
                        <a:lnTo>
                          <a:pt x="200" y="72"/>
                        </a:lnTo>
                        <a:lnTo>
                          <a:pt x="200" y="76"/>
                        </a:lnTo>
                        <a:lnTo>
                          <a:pt x="200" y="81"/>
                        </a:lnTo>
                        <a:lnTo>
                          <a:pt x="200" y="85"/>
                        </a:lnTo>
                        <a:lnTo>
                          <a:pt x="201" y="89"/>
                        </a:lnTo>
                        <a:lnTo>
                          <a:pt x="201" y="95"/>
                        </a:lnTo>
                        <a:lnTo>
                          <a:pt x="201" y="99"/>
                        </a:lnTo>
                        <a:lnTo>
                          <a:pt x="203" y="104"/>
                        </a:lnTo>
                        <a:lnTo>
                          <a:pt x="203" y="109"/>
                        </a:lnTo>
                        <a:lnTo>
                          <a:pt x="201" y="113"/>
                        </a:lnTo>
                        <a:lnTo>
                          <a:pt x="200" y="115"/>
                        </a:lnTo>
                        <a:lnTo>
                          <a:pt x="200" y="120"/>
                        </a:lnTo>
                        <a:lnTo>
                          <a:pt x="200" y="124"/>
                        </a:lnTo>
                        <a:lnTo>
                          <a:pt x="195" y="73"/>
                        </a:lnTo>
                        <a:lnTo>
                          <a:pt x="194" y="173"/>
                        </a:lnTo>
                        <a:lnTo>
                          <a:pt x="192" y="168"/>
                        </a:lnTo>
                        <a:lnTo>
                          <a:pt x="192" y="163"/>
                        </a:lnTo>
                        <a:lnTo>
                          <a:pt x="191" y="158"/>
                        </a:lnTo>
                        <a:lnTo>
                          <a:pt x="191" y="154"/>
                        </a:lnTo>
                        <a:lnTo>
                          <a:pt x="191" y="148"/>
                        </a:lnTo>
                        <a:lnTo>
                          <a:pt x="191" y="144"/>
                        </a:lnTo>
                        <a:lnTo>
                          <a:pt x="189" y="139"/>
                        </a:lnTo>
                        <a:lnTo>
                          <a:pt x="189" y="135"/>
                        </a:lnTo>
                        <a:lnTo>
                          <a:pt x="189" y="131"/>
                        </a:lnTo>
                        <a:lnTo>
                          <a:pt x="188" y="125"/>
                        </a:lnTo>
                        <a:lnTo>
                          <a:pt x="188" y="121"/>
                        </a:lnTo>
                        <a:lnTo>
                          <a:pt x="188" y="115"/>
                        </a:lnTo>
                        <a:lnTo>
                          <a:pt x="188" y="111"/>
                        </a:lnTo>
                        <a:lnTo>
                          <a:pt x="186" y="106"/>
                        </a:lnTo>
                        <a:lnTo>
                          <a:pt x="186" y="102"/>
                        </a:lnTo>
                        <a:lnTo>
                          <a:pt x="186" y="98"/>
                        </a:lnTo>
                        <a:lnTo>
                          <a:pt x="186" y="92"/>
                        </a:lnTo>
                        <a:lnTo>
                          <a:pt x="186" y="88"/>
                        </a:lnTo>
                        <a:lnTo>
                          <a:pt x="186" y="82"/>
                        </a:lnTo>
                        <a:lnTo>
                          <a:pt x="186" y="78"/>
                        </a:lnTo>
                        <a:lnTo>
                          <a:pt x="185" y="73"/>
                        </a:lnTo>
                        <a:lnTo>
                          <a:pt x="185" y="69"/>
                        </a:lnTo>
                        <a:lnTo>
                          <a:pt x="185" y="63"/>
                        </a:lnTo>
                        <a:lnTo>
                          <a:pt x="185" y="59"/>
                        </a:lnTo>
                        <a:lnTo>
                          <a:pt x="185" y="54"/>
                        </a:lnTo>
                        <a:lnTo>
                          <a:pt x="185" y="50"/>
                        </a:lnTo>
                        <a:lnTo>
                          <a:pt x="183" y="44"/>
                        </a:lnTo>
                        <a:lnTo>
                          <a:pt x="183" y="40"/>
                        </a:lnTo>
                        <a:lnTo>
                          <a:pt x="183" y="34"/>
                        </a:lnTo>
                        <a:lnTo>
                          <a:pt x="183" y="30"/>
                        </a:lnTo>
                        <a:lnTo>
                          <a:pt x="183" y="25"/>
                        </a:lnTo>
                        <a:lnTo>
                          <a:pt x="183" y="21"/>
                        </a:lnTo>
                        <a:lnTo>
                          <a:pt x="182" y="21"/>
                        </a:lnTo>
                        <a:lnTo>
                          <a:pt x="180" y="25"/>
                        </a:lnTo>
                        <a:lnTo>
                          <a:pt x="177" y="28"/>
                        </a:lnTo>
                        <a:lnTo>
                          <a:pt x="177" y="33"/>
                        </a:lnTo>
                        <a:lnTo>
                          <a:pt x="175" y="34"/>
                        </a:lnTo>
                        <a:lnTo>
                          <a:pt x="175" y="39"/>
                        </a:lnTo>
                        <a:lnTo>
                          <a:pt x="174" y="41"/>
                        </a:lnTo>
                        <a:lnTo>
                          <a:pt x="174" y="45"/>
                        </a:lnTo>
                        <a:lnTo>
                          <a:pt x="174" y="50"/>
                        </a:lnTo>
                        <a:lnTo>
                          <a:pt x="172" y="54"/>
                        </a:lnTo>
                        <a:lnTo>
                          <a:pt x="172" y="59"/>
                        </a:lnTo>
                        <a:lnTo>
                          <a:pt x="172" y="65"/>
                        </a:lnTo>
                        <a:lnTo>
                          <a:pt x="172" y="67"/>
                        </a:lnTo>
                        <a:lnTo>
                          <a:pt x="172" y="70"/>
                        </a:lnTo>
                        <a:lnTo>
                          <a:pt x="172" y="73"/>
                        </a:lnTo>
                        <a:lnTo>
                          <a:pt x="172" y="77"/>
                        </a:lnTo>
                        <a:lnTo>
                          <a:pt x="172" y="80"/>
                        </a:lnTo>
                        <a:lnTo>
                          <a:pt x="172" y="82"/>
                        </a:lnTo>
                        <a:lnTo>
                          <a:pt x="172" y="87"/>
                        </a:lnTo>
                        <a:lnTo>
                          <a:pt x="172" y="91"/>
                        </a:lnTo>
                        <a:lnTo>
                          <a:pt x="172" y="93"/>
                        </a:lnTo>
                        <a:lnTo>
                          <a:pt x="172" y="98"/>
                        </a:lnTo>
                        <a:lnTo>
                          <a:pt x="172" y="102"/>
                        </a:lnTo>
                        <a:lnTo>
                          <a:pt x="172" y="106"/>
                        </a:lnTo>
                        <a:lnTo>
                          <a:pt x="172" y="110"/>
                        </a:lnTo>
                        <a:lnTo>
                          <a:pt x="172" y="114"/>
                        </a:lnTo>
                        <a:lnTo>
                          <a:pt x="172" y="120"/>
                        </a:lnTo>
                        <a:lnTo>
                          <a:pt x="172" y="125"/>
                        </a:lnTo>
                        <a:lnTo>
                          <a:pt x="172" y="129"/>
                        </a:lnTo>
                        <a:lnTo>
                          <a:pt x="172" y="135"/>
                        </a:lnTo>
                        <a:lnTo>
                          <a:pt x="172" y="139"/>
                        </a:lnTo>
                        <a:lnTo>
                          <a:pt x="174" y="146"/>
                        </a:lnTo>
                        <a:lnTo>
                          <a:pt x="174" y="150"/>
                        </a:lnTo>
                        <a:lnTo>
                          <a:pt x="174" y="155"/>
                        </a:lnTo>
                        <a:lnTo>
                          <a:pt x="175" y="162"/>
                        </a:lnTo>
                        <a:lnTo>
                          <a:pt x="175" y="168"/>
                        </a:lnTo>
                        <a:lnTo>
                          <a:pt x="175" y="170"/>
                        </a:lnTo>
                        <a:lnTo>
                          <a:pt x="175" y="173"/>
                        </a:lnTo>
                        <a:lnTo>
                          <a:pt x="175" y="177"/>
                        </a:lnTo>
                        <a:lnTo>
                          <a:pt x="175" y="183"/>
                        </a:lnTo>
                        <a:lnTo>
                          <a:pt x="175" y="188"/>
                        </a:lnTo>
                        <a:lnTo>
                          <a:pt x="175" y="194"/>
                        </a:lnTo>
                        <a:lnTo>
                          <a:pt x="175" y="199"/>
                        </a:lnTo>
                        <a:lnTo>
                          <a:pt x="175" y="205"/>
                        </a:lnTo>
                        <a:lnTo>
                          <a:pt x="175" y="210"/>
                        </a:lnTo>
                        <a:lnTo>
                          <a:pt x="175" y="217"/>
                        </a:lnTo>
                        <a:lnTo>
                          <a:pt x="174" y="221"/>
                        </a:lnTo>
                        <a:lnTo>
                          <a:pt x="174" y="227"/>
                        </a:lnTo>
                        <a:lnTo>
                          <a:pt x="172" y="231"/>
                        </a:lnTo>
                        <a:lnTo>
                          <a:pt x="172" y="235"/>
                        </a:lnTo>
                        <a:lnTo>
                          <a:pt x="171" y="239"/>
                        </a:lnTo>
                        <a:lnTo>
                          <a:pt x="171" y="242"/>
                        </a:lnTo>
                        <a:lnTo>
                          <a:pt x="169" y="235"/>
                        </a:lnTo>
                        <a:lnTo>
                          <a:pt x="169" y="229"/>
                        </a:lnTo>
                        <a:lnTo>
                          <a:pt x="168" y="224"/>
                        </a:lnTo>
                        <a:lnTo>
                          <a:pt x="168" y="218"/>
                        </a:lnTo>
                        <a:lnTo>
                          <a:pt x="166" y="213"/>
                        </a:lnTo>
                        <a:lnTo>
                          <a:pt x="166" y="207"/>
                        </a:lnTo>
                        <a:lnTo>
                          <a:pt x="166" y="202"/>
                        </a:lnTo>
                        <a:lnTo>
                          <a:pt x="166" y="196"/>
                        </a:lnTo>
                        <a:lnTo>
                          <a:pt x="166" y="190"/>
                        </a:lnTo>
                        <a:lnTo>
                          <a:pt x="166" y="184"/>
                        </a:lnTo>
                        <a:lnTo>
                          <a:pt x="166" y="179"/>
                        </a:lnTo>
                        <a:lnTo>
                          <a:pt x="166" y="173"/>
                        </a:lnTo>
                        <a:lnTo>
                          <a:pt x="166" y="168"/>
                        </a:lnTo>
                        <a:lnTo>
                          <a:pt x="166" y="162"/>
                        </a:lnTo>
                        <a:lnTo>
                          <a:pt x="166" y="157"/>
                        </a:lnTo>
                        <a:lnTo>
                          <a:pt x="166" y="151"/>
                        </a:lnTo>
                        <a:lnTo>
                          <a:pt x="165" y="146"/>
                        </a:lnTo>
                        <a:lnTo>
                          <a:pt x="165" y="139"/>
                        </a:lnTo>
                        <a:lnTo>
                          <a:pt x="165" y="133"/>
                        </a:lnTo>
                        <a:lnTo>
                          <a:pt x="165" y="128"/>
                        </a:lnTo>
                        <a:lnTo>
                          <a:pt x="165" y="122"/>
                        </a:lnTo>
                        <a:lnTo>
                          <a:pt x="165" y="117"/>
                        </a:lnTo>
                        <a:lnTo>
                          <a:pt x="165" y="111"/>
                        </a:lnTo>
                        <a:lnTo>
                          <a:pt x="165" y="106"/>
                        </a:lnTo>
                        <a:lnTo>
                          <a:pt x="165" y="100"/>
                        </a:lnTo>
                        <a:lnTo>
                          <a:pt x="163" y="95"/>
                        </a:lnTo>
                        <a:lnTo>
                          <a:pt x="163" y="89"/>
                        </a:lnTo>
                        <a:lnTo>
                          <a:pt x="163" y="84"/>
                        </a:lnTo>
                        <a:lnTo>
                          <a:pt x="162" y="78"/>
                        </a:lnTo>
                        <a:lnTo>
                          <a:pt x="162" y="73"/>
                        </a:lnTo>
                        <a:lnTo>
                          <a:pt x="162" y="67"/>
                        </a:lnTo>
                        <a:lnTo>
                          <a:pt x="160" y="62"/>
                        </a:lnTo>
                        <a:lnTo>
                          <a:pt x="160" y="59"/>
                        </a:lnTo>
                        <a:lnTo>
                          <a:pt x="159" y="55"/>
                        </a:lnTo>
                        <a:lnTo>
                          <a:pt x="157" y="50"/>
                        </a:lnTo>
                        <a:lnTo>
                          <a:pt x="156" y="48"/>
                        </a:lnTo>
                        <a:lnTo>
                          <a:pt x="156" y="51"/>
                        </a:lnTo>
                        <a:lnTo>
                          <a:pt x="156" y="55"/>
                        </a:lnTo>
                        <a:lnTo>
                          <a:pt x="154" y="58"/>
                        </a:lnTo>
                        <a:lnTo>
                          <a:pt x="154" y="62"/>
                        </a:lnTo>
                        <a:lnTo>
                          <a:pt x="154" y="65"/>
                        </a:lnTo>
                        <a:lnTo>
                          <a:pt x="153" y="69"/>
                        </a:lnTo>
                        <a:lnTo>
                          <a:pt x="153" y="72"/>
                        </a:lnTo>
                        <a:lnTo>
                          <a:pt x="153" y="76"/>
                        </a:lnTo>
                        <a:lnTo>
                          <a:pt x="156" y="139"/>
                        </a:lnTo>
                        <a:lnTo>
                          <a:pt x="156" y="143"/>
                        </a:lnTo>
                        <a:lnTo>
                          <a:pt x="156" y="148"/>
                        </a:lnTo>
                        <a:lnTo>
                          <a:pt x="156" y="152"/>
                        </a:lnTo>
                        <a:lnTo>
                          <a:pt x="156" y="158"/>
                        </a:lnTo>
                        <a:lnTo>
                          <a:pt x="156" y="163"/>
                        </a:lnTo>
                        <a:lnTo>
                          <a:pt x="156" y="168"/>
                        </a:lnTo>
                        <a:lnTo>
                          <a:pt x="156" y="173"/>
                        </a:lnTo>
                        <a:lnTo>
                          <a:pt x="156" y="179"/>
                        </a:lnTo>
                        <a:lnTo>
                          <a:pt x="154" y="183"/>
                        </a:lnTo>
                        <a:lnTo>
                          <a:pt x="154" y="188"/>
                        </a:lnTo>
                        <a:lnTo>
                          <a:pt x="154" y="194"/>
                        </a:lnTo>
                        <a:lnTo>
                          <a:pt x="154" y="198"/>
                        </a:lnTo>
                        <a:lnTo>
                          <a:pt x="153" y="203"/>
                        </a:lnTo>
                        <a:lnTo>
                          <a:pt x="153" y="207"/>
                        </a:lnTo>
                        <a:lnTo>
                          <a:pt x="153" y="213"/>
                        </a:lnTo>
                        <a:lnTo>
                          <a:pt x="153" y="218"/>
                        </a:lnTo>
                        <a:lnTo>
                          <a:pt x="153" y="548"/>
                        </a:lnTo>
                        <a:lnTo>
                          <a:pt x="78" y="549"/>
                        </a:lnTo>
                        <a:lnTo>
                          <a:pt x="71" y="100"/>
                        </a:lnTo>
                        <a:lnTo>
                          <a:pt x="71" y="96"/>
                        </a:lnTo>
                        <a:lnTo>
                          <a:pt x="71" y="93"/>
                        </a:lnTo>
                        <a:lnTo>
                          <a:pt x="70" y="89"/>
                        </a:lnTo>
                        <a:lnTo>
                          <a:pt x="70" y="87"/>
                        </a:lnTo>
                        <a:lnTo>
                          <a:pt x="70" y="84"/>
                        </a:lnTo>
                        <a:lnTo>
                          <a:pt x="70" y="81"/>
                        </a:lnTo>
                        <a:lnTo>
                          <a:pt x="68" y="77"/>
                        </a:lnTo>
                        <a:lnTo>
                          <a:pt x="68" y="74"/>
                        </a:lnTo>
                        <a:lnTo>
                          <a:pt x="67" y="72"/>
                        </a:lnTo>
                        <a:lnTo>
                          <a:pt x="67" y="67"/>
                        </a:lnTo>
                        <a:lnTo>
                          <a:pt x="67" y="65"/>
                        </a:lnTo>
                        <a:lnTo>
                          <a:pt x="67" y="62"/>
                        </a:lnTo>
                        <a:lnTo>
                          <a:pt x="65" y="58"/>
                        </a:lnTo>
                        <a:lnTo>
                          <a:pt x="65" y="55"/>
                        </a:lnTo>
                        <a:lnTo>
                          <a:pt x="64" y="52"/>
                        </a:lnTo>
                        <a:lnTo>
                          <a:pt x="64" y="50"/>
                        </a:lnTo>
                        <a:lnTo>
                          <a:pt x="62" y="77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Freeform 199"/>
                  <p:cNvSpPr/>
                  <p:nvPr/>
                </p:nvSpPr>
                <p:spPr>
                  <a:xfrm>
                    <a:off x="3987360" y="3560040"/>
                    <a:ext cx="1080" cy="2592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8" h="199">
                        <a:moveTo>
                          <a:pt x="0" y="199"/>
                        </a:moveTo>
                        <a:lnTo>
                          <a:pt x="3" y="197"/>
                        </a:lnTo>
                        <a:lnTo>
                          <a:pt x="5" y="197"/>
                        </a:lnTo>
                        <a:lnTo>
                          <a:pt x="5" y="195"/>
                        </a:lnTo>
                        <a:lnTo>
                          <a:pt x="5" y="193"/>
                        </a:lnTo>
                        <a:lnTo>
                          <a:pt x="5" y="188"/>
                        </a:lnTo>
                        <a:lnTo>
                          <a:pt x="5" y="182"/>
                        </a:lnTo>
                        <a:lnTo>
                          <a:pt x="5" y="177"/>
                        </a:lnTo>
                        <a:lnTo>
                          <a:pt x="5" y="173"/>
                        </a:lnTo>
                        <a:lnTo>
                          <a:pt x="5" y="166"/>
                        </a:lnTo>
                        <a:lnTo>
                          <a:pt x="5" y="162"/>
                        </a:lnTo>
                        <a:lnTo>
                          <a:pt x="5" y="156"/>
                        </a:lnTo>
                        <a:lnTo>
                          <a:pt x="6" y="151"/>
                        </a:lnTo>
                        <a:lnTo>
                          <a:pt x="6" y="145"/>
                        </a:lnTo>
                        <a:lnTo>
                          <a:pt x="6" y="140"/>
                        </a:lnTo>
                        <a:lnTo>
                          <a:pt x="6" y="134"/>
                        </a:lnTo>
                        <a:lnTo>
                          <a:pt x="6" y="129"/>
                        </a:lnTo>
                        <a:lnTo>
                          <a:pt x="6" y="123"/>
                        </a:lnTo>
                        <a:lnTo>
                          <a:pt x="6" y="118"/>
                        </a:lnTo>
                        <a:lnTo>
                          <a:pt x="6" y="112"/>
                        </a:lnTo>
                        <a:lnTo>
                          <a:pt x="6" y="108"/>
                        </a:lnTo>
                        <a:lnTo>
                          <a:pt x="6" y="101"/>
                        </a:lnTo>
                        <a:lnTo>
                          <a:pt x="6" y="96"/>
                        </a:lnTo>
                        <a:lnTo>
                          <a:pt x="6" y="90"/>
                        </a:lnTo>
                        <a:lnTo>
                          <a:pt x="8" y="86"/>
                        </a:lnTo>
                        <a:lnTo>
                          <a:pt x="8" y="79"/>
                        </a:lnTo>
                        <a:lnTo>
                          <a:pt x="8" y="74"/>
                        </a:lnTo>
                        <a:lnTo>
                          <a:pt x="8" y="70"/>
                        </a:lnTo>
                        <a:lnTo>
                          <a:pt x="8" y="64"/>
                        </a:lnTo>
                        <a:lnTo>
                          <a:pt x="8" y="59"/>
                        </a:lnTo>
                        <a:lnTo>
                          <a:pt x="8" y="53"/>
                        </a:lnTo>
                        <a:lnTo>
                          <a:pt x="8" y="48"/>
                        </a:lnTo>
                        <a:lnTo>
                          <a:pt x="8" y="42"/>
                        </a:lnTo>
                        <a:lnTo>
                          <a:pt x="8" y="37"/>
                        </a:lnTo>
                        <a:lnTo>
                          <a:pt x="8" y="31"/>
                        </a:lnTo>
                        <a:lnTo>
                          <a:pt x="8" y="27"/>
                        </a:lnTo>
                        <a:lnTo>
                          <a:pt x="8" y="22"/>
                        </a:lnTo>
                        <a:lnTo>
                          <a:pt x="6" y="16"/>
                        </a:lnTo>
                        <a:lnTo>
                          <a:pt x="6" y="13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5" y="4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9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0" y="49"/>
                        </a:lnTo>
                        <a:lnTo>
                          <a:pt x="0" y="53"/>
                        </a:lnTo>
                        <a:lnTo>
                          <a:pt x="0" y="56"/>
                        </a:lnTo>
                        <a:lnTo>
                          <a:pt x="0" y="60"/>
                        </a:lnTo>
                        <a:lnTo>
                          <a:pt x="0" y="64"/>
                        </a:lnTo>
                        <a:lnTo>
                          <a:pt x="0" y="67"/>
                        </a:lnTo>
                        <a:lnTo>
                          <a:pt x="0" y="71"/>
                        </a:lnTo>
                        <a:lnTo>
                          <a:pt x="0" y="75"/>
                        </a:lnTo>
                        <a:lnTo>
                          <a:pt x="0" y="79"/>
                        </a:lnTo>
                        <a:lnTo>
                          <a:pt x="1" y="83"/>
                        </a:lnTo>
                        <a:lnTo>
                          <a:pt x="1" y="87"/>
                        </a:lnTo>
                        <a:lnTo>
                          <a:pt x="1" y="92"/>
                        </a:lnTo>
                        <a:lnTo>
                          <a:pt x="1" y="96"/>
                        </a:lnTo>
                        <a:lnTo>
                          <a:pt x="1" y="98"/>
                        </a:lnTo>
                        <a:lnTo>
                          <a:pt x="1" y="103"/>
                        </a:lnTo>
                        <a:lnTo>
                          <a:pt x="1" y="105"/>
                        </a:lnTo>
                        <a:lnTo>
                          <a:pt x="1" y="109"/>
                        </a:lnTo>
                        <a:lnTo>
                          <a:pt x="1" y="112"/>
                        </a:lnTo>
                        <a:lnTo>
                          <a:pt x="1" y="118"/>
                        </a:lnTo>
                        <a:lnTo>
                          <a:pt x="1" y="122"/>
                        </a:lnTo>
                        <a:lnTo>
                          <a:pt x="1" y="125"/>
                        </a:lnTo>
                        <a:lnTo>
                          <a:pt x="3" y="126"/>
                        </a:lnTo>
                        <a:lnTo>
                          <a:pt x="1" y="130"/>
                        </a:lnTo>
                        <a:lnTo>
                          <a:pt x="1" y="134"/>
                        </a:lnTo>
                        <a:lnTo>
                          <a:pt x="1" y="138"/>
                        </a:lnTo>
                        <a:lnTo>
                          <a:pt x="1" y="142"/>
                        </a:lnTo>
                        <a:lnTo>
                          <a:pt x="1" y="148"/>
                        </a:lnTo>
                        <a:lnTo>
                          <a:pt x="1" y="152"/>
                        </a:lnTo>
                        <a:lnTo>
                          <a:pt x="1" y="156"/>
                        </a:lnTo>
                        <a:lnTo>
                          <a:pt x="1" y="162"/>
                        </a:lnTo>
                        <a:lnTo>
                          <a:pt x="0" y="166"/>
                        </a:lnTo>
                        <a:lnTo>
                          <a:pt x="0" y="170"/>
                        </a:lnTo>
                        <a:lnTo>
                          <a:pt x="0" y="174"/>
                        </a:lnTo>
                        <a:lnTo>
                          <a:pt x="0" y="179"/>
                        </a:lnTo>
                        <a:lnTo>
                          <a:pt x="0" y="184"/>
                        </a:lnTo>
                        <a:lnTo>
                          <a:pt x="0" y="189"/>
                        </a:lnTo>
                        <a:lnTo>
                          <a:pt x="0" y="193"/>
                        </a:lnTo>
                        <a:lnTo>
                          <a:pt x="0" y="199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200"/>
                  <p:cNvSpPr/>
                  <p:nvPr/>
                </p:nvSpPr>
                <p:spPr>
                  <a:xfrm>
                    <a:off x="3826800" y="3461400"/>
                    <a:ext cx="210960" cy="6120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1466" h="469">
                        <a:moveTo>
                          <a:pt x="104" y="394"/>
                        </a:moveTo>
                        <a:lnTo>
                          <a:pt x="0" y="469"/>
                        </a:lnTo>
                        <a:lnTo>
                          <a:pt x="773" y="469"/>
                        </a:lnTo>
                        <a:lnTo>
                          <a:pt x="777" y="468"/>
                        </a:lnTo>
                        <a:lnTo>
                          <a:pt x="783" y="468"/>
                        </a:lnTo>
                        <a:lnTo>
                          <a:pt x="788" y="466"/>
                        </a:lnTo>
                        <a:lnTo>
                          <a:pt x="794" y="465"/>
                        </a:lnTo>
                        <a:lnTo>
                          <a:pt x="799" y="465"/>
                        </a:lnTo>
                        <a:lnTo>
                          <a:pt x="803" y="464"/>
                        </a:lnTo>
                        <a:lnTo>
                          <a:pt x="808" y="462"/>
                        </a:lnTo>
                        <a:lnTo>
                          <a:pt x="814" y="462"/>
                        </a:lnTo>
                        <a:lnTo>
                          <a:pt x="809" y="461"/>
                        </a:lnTo>
                        <a:lnTo>
                          <a:pt x="805" y="461"/>
                        </a:lnTo>
                        <a:lnTo>
                          <a:pt x="800" y="461"/>
                        </a:lnTo>
                        <a:lnTo>
                          <a:pt x="797" y="461"/>
                        </a:lnTo>
                        <a:lnTo>
                          <a:pt x="791" y="460"/>
                        </a:lnTo>
                        <a:lnTo>
                          <a:pt x="786" y="460"/>
                        </a:lnTo>
                        <a:lnTo>
                          <a:pt x="783" y="460"/>
                        </a:lnTo>
                        <a:lnTo>
                          <a:pt x="779" y="460"/>
                        </a:lnTo>
                        <a:lnTo>
                          <a:pt x="774" y="458"/>
                        </a:lnTo>
                        <a:lnTo>
                          <a:pt x="770" y="458"/>
                        </a:lnTo>
                        <a:lnTo>
                          <a:pt x="765" y="458"/>
                        </a:lnTo>
                        <a:lnTo>
                          <a:pt x="762" y="458"/>
                        </a:lnTo>
                        <a:lnTo>
                          <a:pt x="757" y="458"/>
                        </a:lnTo>
                        <a:lnTo>
                          <a:pt x="753" y="458"/>
                        </a:lnTo>
                        <a:lnTo>
                          <a:pt x="748" y="458"/>
                        </a:lnTo>
                        <a:lnTo>
                          <a:pt x="745" y="458"/>
                        </a:lnTo>
                        <a:lnTo>
                          <a:pt x="739" y="458"/>
                        </a:lnTo>
                        <a:lnTo>
                          <a:pt x="736" y="458"/>
                        </a:lnTo>
                        <a:lnTo>
                          <a:pt x="731" y="458"/>
                        </a:lnTo>
                        <a:lnTo>
                          <a:pt x="727" y="458"/>
                        </a:lnTo>
                        <a:lnTo>
                          <a:pt x="722" y="458"/>
                        </a:lnTo>
                        <a:lnTo>
                          <a:pt x="718" y="458"/>
                        </a:lnTo>
                        <a:lnTo>
                          <a:pt x="713" y="458"/>
                        </a:lnTo>
                        <a:lnTo>
                          <a:pt x="708" y="458"/>
                        </a:lnTo>
                        <a:lnTo>
                          <a:pt x="704" y="458"/>
                        </a:lnTo>
                        <a:lnTo>
                          <a:pt x="699" y="458"/>
                        </a:lnTo>
                        <a:lnTo>
                          <a:pt x="695" y="458"/>
                        </a:lnTo>
                        <a:lnTo>
                          <a:pt x="692" y="458"/>
                        </a:lnTo>
                        <a:lnTo>
                          <a:pt x="687" y="458"/>
                        </a:lnTo>
                        <a:lnTo>
                          <a:pt x="682" y="458"/>
                        </a:lnTo>
                        <a:lnTo>
                          <a:pt x="678" y="458"/>
                        </a:lnTo>
                        <a:lnTo>
                          <a:pt x="673" y="458"/>
                        </a:lnTo>
                        <a:lnTo>
                          <a:pt x="669" y="458"/>
                        </a:lnTo>
                        <a:lnTo>
                          <a:pt x="664" y="458"/>
                        </a:lnTo>
                        <a:lnTo>
                          <a:pt x="659" y="458"/>
                        </a:lnTo>
                        <a:lnTo>
                          <a:pt x="655" y="458"/>
                        </a:lnTo>
                        <a:lnTo>
                          <a:pt x="650" y="458"/>
                        </a:lnTo>
                        <a:lnTo>
                          <a:pt x="647" y="458"/>
                        </a:lnTo>
                        <a:lnTo>
                          <a:pt x="641" y="458"/>
                        </a:lnTo>
                        <a:lnTo>
                          <a:pt x="638" y="460"/>
                        </a:lnTo>
                        <a:lnTo>
                          <a:pt x="633" y="460"/>
                        </a:lnTo>
                        <a:lnTo>
                          <a:pt x="629" y="460"/>
                        </a:lnTo>
                        <a:lnTo>
                          <a:pt x="623" y="460"/>
                        </a:lnTo>
                        <a:lnTo>
                          <a:pt x="620" y="460"/>
                        </a:lnTo>
                        <a:lnTo>
                          <a:pt x="614" y="460"/>
                        </a:lnTo>
                        <a:lnTo>
                          <a:pt x="611" y="460"/>
                        </a:lnTo>
                        <a:lnTo>
                          <a:pt x="604" y="460"/>
                        </a:lnTo>
                        <a:lnTo>
                          <a:pt x="601" y="461"/>
                        </a:lnTo>
                        <a:lnTo>
                          <a:pt x="597" y="461"/>
                        </a:lnTo>
                        <a:lnTo>
                          <a:pt x="592" y="461"/>
                        </a:lnTo>
                        <a:lnTo>
                          <a:pt x="588" y="461"/>
                        </a:lnTo>
                        <a:lnTo>
                          <a:pt x="583" y="461"/>
                        </a:lnTo>
                        <a:lnTo>
                          <a:pt x="577" y="461"/>
                        </a:lnTo>
                        <a:lnTo>
                          <a:pt x="574" y="461"/>
                        </a:lnTo>
                        <a:lnTo>
                          <a:pt x="569" y="461"/>
                        </a:lnTo>
                        <a:lnTo>
                          <a:pt x="565" y="461"/>
                        </a:lnTo>
                        <a:lnTo>
                          <a:pt x="560" y="461"/>
                        </a:lnTo>
                        <a:lnTo>
                          <a:pt x="555" y="461"/>
                        </a:lnTo>
                        <a:lnTo>
                          <a:pt x="551" y="461"/>
                        </a:lnTo>
                        <a:lnTo>
                          <a:pt x="546" y="461"/>
                        </a:lnTo>
                        <a:lnTo>
                          <a:pt x="542" y="461"/>
                        </a:lnTo>
                        <a:lnTo>
                          <a:pt x="537" y="461"/>
                        </a:lnTo>
                        <a:lnTo>
                          <a:pt x="533" y="461"/>
                        </a:lnTo>
                        <a:lnTo>
                          <a:pt x="528" y="462"/>
                        </a:lnTo>
                        <a:lnTo>
                          <a:pt x="523" y="461"/>
                        </a:lnTo>
                        <a:lnTo>
                          <a:pt x="519" y="461"/>
                        </a:lnTo>
                        <a:lnTo>
                          <a:pt x="513" y="461"/>
                        </a:lnTo>
                        <a:lnTo>
                          <a:pt x="508" y="461"/>
                        </a:lnTo>
                        <a:lnTo>
                          <a:pt x="502" y="461"/>
                        </a:lnTo>
                        <a:lnTo>
                          <a:pt x="496" y="460"/>
                        </a:lnTo>
                        <a:lnTo>
                          <a:pt x="491" y="460"/>
                        </a:lnTo>
                        <a:lnTo>
                          <a:pt x="485" y="460"/>
                        </a:lnTo>
                        <a:lnTo>
                          <a:pt x="490" y="458"/>
                        </a:lnTo>
                        <a:lnTo>
                          <a:pt x="496" y="458"/>
                        </a:lnTo>
                        <a:lnTo>
                          <a:pt x="499" y="458"/>
                        </a:lnTo>
                        <a:lnTo>
                          <a:pt x="502" y="458"/>
                        </a:lnTo>
                        <a:lnTo>
                          <a:pt x="507" y="458"/>
                        </a:lnTo>
                        <a:lnTo>
                          <a:pt x="513" y="458"/>
                        </a:lnTo>
                        <a:lnTo>
                          <a:pt x="516" y="458"/>
                        </a:lnTo>
                        <a:lnTo>
                          <a:pt x="520" y="458"/>
                        </a:lnTo>
                        <a:lnTo>
                          <a:pt x="526" y="458"/>
                        </a:lnTo>
                        <a:lnTo>
                          <a:pt x="531" y="458"/>
                        </a:lnTo>
                        <a:lnTo>
                          <a:pt x="537" y="458"/>
                        </a:lnTo>
                        <a:lnTo>
                          <a:pt x="543" y="458"/>
                        </a:lnTo>
                        <a:lnTo>
                          <a:pt x="548" y="458"/>
                        </a:lnTo>
                        <a:lnTo>
                          <a:pt x="554" y="458"/>
                        </a:lnTo>
                        <a:lnTo>
                          <a:pt x="559" y="458"/>
                        </a:lnTo>
                        <a:lnTo>
                          <a:pt x="565" y="458"/>
                        </a:lnTo>
                        <a:lnTo>
                          <a:pt x="569" y="458"/>
                        </a:lnTo>
                        <a:lnTo>
                          <a:pt x="574" y="458"/>
                        </a:lnTo>
                        <a:lnTo>
                          <a:pt x="580" y="458"/>
                        </a:lnTo>
                        <a:lnTo>
                          <a:pt x="585" y="458"/>
                        </a:lnTo>
                        <a:lnTo>
                          <a:pt x="589" y="458"/>
                        </a:lnTo>
                        <a:lnTo>
                          <a:pt x="594" y="458"/>
                        </a:lnTo>
                        <a:lnTo>
                          <a:pt x="598" y="458"/>
                        </a:lnTo>
                        <a:lnTo>
                          <a:pt x="601" y="457"/>
                        </a:lnTo>
                        <a:lnTo>
                          <a:pt x="604" y="457"/>
                        </a:lnTo>
                        <a:lnTo>
                          <a:pt x="607" y="455"/>
                        </a:lnTo>
                        <a:lnTo>
                          <a:pt x="614" y="454"/>
                        </a:lnTo>
                        <a:lnTo>
                          <a:pt x="617" y="453"/>
                        </a:lnTo>
                        <a:lnTo>
                          <a:pt x="615" y="453"/>
                        </a:lnTo>
                        <a:lnTo>
                          <a:pt x="612" y="451"/>
                        </a:lnTo>
                        <a:lnTo>
                          <a:pt x="607" y="451"/>
                        </a:lnTo>
                        <a:lnTo>
                          <a:pt x="603" y="451"/>
                        </a:lnTo>
                        <a:lnTo>
                          <a:pt x="600" y="451"/>
                        </a:lnTo>
                        <a:lnTo>
                          <a:pt x="597" y="451"/>
                        </a:lnTo>
                        <a:lnTo>
                          <a:pt x="594" y="451"/>
                        </a:lnTo>
                        <a:lnTo>
                          <a:pt x="591" y="451"/>
                        </a:lnTo>
                        <a:lnTo>
                          <a:pt x="588" y="451"/>
                        </a:lnTo>
                        <a:lnTo>
                          <a:pt x="583" y="451"/>
                        </a:lnTo>
                        <a:lnTo>
                          <a:pt x="580" y="451"/>
                        </a:lnTo>
                        <a:lnTo>
                          <a:pt x="577" y="451"/>
                        </a:lnTo>
                        <a:lnTo>
                          <a:pt x="571" y="451"/>
                        </a:lnTo>
                        <a:lnTo>
                          <a:pt x="568" y="451"/>
                        </a:lnTo>
                        <a:lnTo>
                          <a:pt x="563" y="451"/>
                        </a:lnTo>
                        <a:lnTo>
                          <a:pt x="559" y="451"/>
                        </a:lnTo>
                        <a:lnTo>
                          <a:pt x="554" y="451"/>
                        </a:lnTo>
                        <a:lnTo>
                          <a:pt x="549" y="451"/>
                        </a:lnTo>
                        <a:lnTo>
                          <a:pt x="543" y="451"/>
                        </a:lnTo>
                        <a:lnTo>
                          <a:pt x="540" y="451"/>
                        </a:lnTo>
                        <a:lnTo>
                          <a:pt x="534" y="451"/>
                        </a:lnTo>
                        <a:lnTo>
                          <a:pt x="529" y="451"/>
                        </a:lnTo>
                        <a:lnTo>
                          <a:pt x="523" y="451"/>
                        </a:lnTo>
                        <a:lnTo>
                          <a:pt x="519" y="451"/>
                        </a:lnTo>
                        <a:lnTo>
                          <a:pt x="513" y="451"/>
                        </a:lnTo>
                        <a:lnTo>
                          <a:pt x="508" y="451"/>
                        </a:lnTo>
                        <a:lnTo>
                          <a:pt x="502" y="451"/>
                        </a:lnTo>
                        <a:lnTo>
                          <a:pt x="497" y="451"/>
                        </a:lnTo>
                        <a:lnTo>
                          <a:pt x="491" y="451"/>
                        </a:lnTo>
                        <a:lnTo>
                          <a:pt x="487" y="451"/>
                        </a:lnTo>
                        <a:lnTo>
                          <a:pt x="481" y="451"/>
                        </a:lnTo>
                        <a:lnTo>
                          <a:pt x="474" y="451"/>
                        </a:lnTo>
                        <a:lnTo>
                          <a:pt x="470" y="451"/>
                        </a:lnTo>
                        <a:lnTo>
                          <a:pt x="464" y="451"/>
                        </a:lnTo>
                        <a:lnTo>
                          <a:pt x="459" y="451"/>
                        </a:lnTo>
                        <a:lnTo>
                          <a:pt x="455" y="451"/>
                        </a:lnTo>
                        <a:lnTo>
                          <a:pt x="448" y="451"/>
                        </a:lnTo>
                        <a:lnTo>
                          <a:pt x="444" y="451"/>
                        </a:lnTo>
                        <a:lnTo>
                          <a:pt x="438" y="451"/>
                        </a:lnTo>
                        <a:lnTo>
                          <a:pt x="433" y="453"/>
                        </a:lnTo>
                        <a:lnTo>
                          <a:pt x="429" y="453"/>
                        </a:lnTo>
                        <a:lnTo>
                          <a:pt x="424" y="453"/>
                        </a:lnTo>
                        <a:lnTo>
                          <a:pt x="419" y="453"/>
                        </a:lnTo>
                        <a:lnTo>
                          <a:pt x="416" y="453"/>
                        </a:lnTo>
                        <a:lnTo>
                          <a:pt x="410" y="453"/>
                        </a:lnTo>
                        <a:lnTo>
                          <a:pt x="407" y="453"/>
                        </a:lnTo>
                        <a:lnTo>
                          <a:pt x="403" y="453"/>
                        </a:lnTo>
                        <a:lnTo>
                          <a:pt x="399" y="453"/>
                        </a:lnTo>
                        <a:lnTo>
                          <a:pt x="395" y="453"/>
                        </a:lnTo>
                        <a:lnTo>
                          <a:pt x="392" y="454"/>
                        </a:lnTo>
                        <a:lnTo>
                          <a:pt x="389" y="454"/>
                        </a:lnTo>
                        <a:lnTo>
                          <a:pt x="386" y="454"/>
                        </a:lnTo>
                        <a:lnTo>
                          <a:pt x="380" y="454"/>
                        </a:lnTo>
                        <a:lnTo>
                          <a:pt x="375" y="454"/>
                        </a:lnTo>
                        <a:lnTo>
                          <a:pt x="372" y="455"/>
                        </a:lnTo>
                        <a:lnTo>
                          <a:pt x="369" y="455"/>
                        </a:lnTo>
                        <a:lnTo>
                          <a:pt x="375" y="454"/>
                        </a:lnTo>
                        <a:lnTo>
                          <a:pt x="380" y="453"/>
                        </a:lnTo>
                        <a:lnTo>
                          <a:pt x="386" y="451"/>
                        </a:lnTo>
                        <a:lnTo>
                          <a:pt x="390" y="451"/>
                        </a:lnTo>
                        <a:lnTo>
                          <a:pt x="395" y="450"/>
                        </a:lnTo>
                        <a:lnTo>
                          <a:pt x="399" y="450"/>
                        </a:lnTo>
                        <a:lnTo>
                          <a:pt x="406" y="449"/>
                        </a:lnTo>
                        <a:lnTo>
                          <a:pt x="410" y="449"/>
                        </a:lnTo>
                        <a:lnTo>
                          <a:pt x="415" y="449"/>
                        </a:lnTo>
                        <a:lnTo>
                          <a:pt x="419" y="449"/>
                        </a:lnTo>
                        <a:lnTo>
                          <a:pt x="424" y="447"/>
                        </a:lnTo>
                        <a:lnTo>
                          <a:pt x="429" y="447"/>
                        </a:lnTo>
                        <a:lnTo>
                          <a:pt x="433" y="447"/>
                        </a:lnTo>
                        <a:lnTo>
                          <a:pt x="438" y="447"/>
                        </a:lnTo>
                        <a:lnTo>
                          <a:pt x="441" y="447"/>
                        </a:lnTo>
                        <a:lnTo>
                          <a:pt x="447" y="447"/>
                        </a:lnTo>
                        <a:lnTo>
                          <a:pt x="450" y="446"/>
                        </a:lnTo>
                        <a:lnTo>
                          <a:pt x="455" y="446"/>
                        </a:lnTo>
                        <a:lnTo>
                          <a:pt x="459" y="446"/>
                        </a:lnTo>
                        <a:lnTo>
                          <a:pt x="464" y="446"/>
                        </a:lnTo>
                        <a:lnTo>
                          <a:pt x="468" y="446"/>
                        </a:lnTo>
                        <a:lnTo>
                          <a:pt x="473" y="446"/>
                        </a:lnTo>
                        <a:lnTo>
                          <a:pt x="477" y="446"/>
                        </a:lnTo>
                        <a:lnTo>
                          <a:pt x="482" y="446"/>
                        </a:lnTo>
                        <a:lnTo>
                          <a:pt x="487" y="446"/>
                        </a:lnTo>
                        <a:lnTo>
                          <a:pt x="491" y="446"/>
                        </a:lnTo>
                        <a:lnTo>
                          <a:pt x="496" y="446"/>
                        </a:lnTo>
                        <a:lnTo>
                          <a:pt x="502" y="446"/>
                        </a:lnTo>
                        <a:lnTo>
                          <a:pt x="507" y="444"/>
                        </a:lnTo>
                        <a:lnTo>
                          <a:pt x="511" y="444"/>
                        </a:lnTo>
                        <a:lnTo>
                          <a:pt x="517" y="444"/>
                        </a:lnTo>
                        <a:lnTo>
                          <a:pt x="523" y="444"/>
                        </a:lnTo>
                        <a:lnTo>
                          <a:pt x="528" y="443"/>
                        </a:lnTo>
                        <a:lnTo>
                          <a:pt x="533" y="443"/>
                        </a:lnTo>
                        <a:lnTo>
                          <a:pt x="539" y="443"/>
                        </a:lnTo>
                        <a:lnTo>
                          <a:pt x="543" y="443"/>
                        </a:lnTo>
                        <a:lnTo>
                          <a:pt x="549" y="442"/>
                        </a:lnTo>
                        <a:lnTo>
                          <a:pt x="554" y="442"/>
                        </a:lnTo>
                        <a:lnTo>
                          <a:pt x="559" y="442"/>
                        </a:lnTo>
                        <a:lnTo>
                          <a:pt x="565" y="442"/>
                        </a:lnTo>
                        <a:lnTo>
                          <a:pt x="569" y="442"/>
                        </a:lnTo>
                        <a:lnTo>
                          <a:pt x="574" y="442"/>
                        </a:lnTo>
                        <a:lnTo>
                          <a:pt x="580" y="442"/>
                        </a:lnTo>
                        <a:lnTo>
                          <a:pt x="585" y="442"/>
                        </a:lnTo>
                        <a:lnTo>
                          <a:pt x="591" y="442"/>
                        </a:lnTo>
                        <a:lnTo>
                          <a:pt x="595" y="442"/>
                        </a:lnTo>
                        <a:lnTo>
                          <a:pt x="600" y="442"/>
                        </a:lnTo>
                        <a:lnTo>
                          <a:pt x="606" y="442"/>
                        </a:lnTo>
                        <a:lnTo>
                          <a:pt x="611" y="440"/>
                        </a:lnTo>
                        <a:lnTo>
                          <a:pt x="615" y="440"/>
                        </a:lnTo>
                        <a:lnTo>
                          <a:pt x="621" y="440"/>
                        </a:lnTo>
                        <a:lnTo>
                          <a:pt x="626" y="440"/>
                        </a:lnTo>
                        <a:lnTo>
                          <a:pt x="632" y="439"/>
                        </a:lnTo>
                        <a:lnTo>
                          <a:pt x="637" y="439"/>
                        </a:lnTo>
                        <a:lnTo>
                          <a:pt x="641" y="439"/>
                        </a:lnTo>
                        <a:lnTo>
                          <a:pt x="647" y="439"/>
                        </a:lnTo>
                        <a:lnTo>
                          <a:pt x="652" y="439"/>
                        </a:lnTo>
                        <a:lnTo>
                          <a:pt x="656" y="439"/>
                        </a:lnTo>
                        <a:lnTo>
                          <a:pt x="663" y="438"/>
                        </a:lnTo>
                        <a:lnTo>
                          <a:pt x="667" y="438"/>
                        </a:lnTo>
                        <a:lnTo>
                          <a:pt x="673" y="438"/>
                        </a:lnTo>
                        <a:lnTo>
                          <a:pt x="678" y="438"/>
                        </a:lnTo>
                        <a:lnTo>
                          <a:pt x="682" y="438"/>
                        </a:lnTo>
                        <a:lnTo>
                          <a:pt x="689" y="438"/>
                        </a:lnTo>
                        <a:lnTo>
                          <a:pt x="693" y="436"/>
                        </a:lnTo>
                        <a:lnTo>
                          <a:pt x="698" y="436"/>
                        </a:lnTo>
                        <a:lnTo>
                          <a:pt x="702" y="436"/>
                        </a:lnTo>
                        <a:lnTo>
                          <a:pt x="708" y="436"/>
                        </a:lnTo>
                        <a:lnTo>
                          <a:pt x="713" y="435"/>
                        </a:lnTo>
                        <a:lnTo>
                          <a:pt x="718" y="435"/>
                        </a:lnTo>
                        <a:lnTo>
                          <a:pt x="724" y="435"/>
                        </a:lnTo>
                        <a:lnTo>
                          <a:pt x="728" y="435"/>
                        </a:lnTo>
                        <a:lnTo>
                          <a:pt x="733" y="435"/>
                        </a:lnTo>
                        <a:lnTo>
                          <a:pt x="739" y="433"/>
                        </a:lnTo>
                        <a:lnTo>
                          <a:pt x="744" y="433"/>
                        </a:lnTo>
                        <a:lnTo>
                          <a:pt x="750" y="433"/>
                        </a:lnTo>
                        <a:lnTo>
                          <a:pt x="754" y="433"/>
                        </a:lnTo>
                        <a:lnTo>
                          <a:pt x="759" y="433"/>
                        </a:lnTo>
                        <a:lnTo>
                          <a:pt x="764" y="433"/>
                        </a:lnTo>
                        <a:lnTo>
                          <a:pt x="770" y="433"/>
                        </a:lnTo>
                        <a:lnTo>
                          <a:pt x="774" y="432"/>
                        </a:lnTo>
                        <a:lnTo>
                          <a:pt x="780" y="432"/>
                        </a:lnTo>
                        <a:lnTo>
                          <a:pt x="783" y="432"/>
                        </a:lnTo>
                        <a:lnTo>
                          <a:pt x="790" y="432"/>
                        </a:lnTo>
                        <a:lnTo>
                          <a:pt x="794" y="431"/>
                        </a:lnTo>
                        <a:lnTo>
                          <a:pt x="800" y="431"/>
                        </a:lnTo>
                        <a:lnTo>
                          <a:pt x="805" y="431"/>
                        </a:lnTo>
                        <a:lnTo>
                          <a:pt x="811" y="431"/>
                        </a:lnTo>
                        <a:lnTo>
                          <a:pt x="816" y="431"/>
                        </a:lnTo>
                        <a:lnTo>
                          <a:pt x="820" y="431"/>
                        </a:lnTo>
                        <a:lnTo>
                          <a:pt x="825" y="431"/>
                        </a:lnTo>
                        <a:lnTo>
                          <a:pt x="831" y="431"/>
                        </a:lnTo>
                        <a:lnTo>
                          <a:pt x="835" y="431"/>
                        </a:lnTo>
                        <a:lnTo>
                          <a:pt x="842" y="431"/>
                        </a:lnTo>
                        <a:lnTo>
                          <a:pt x="846" y="431"/>
                        </a:lnTo>
                        <a:lnTo>
                          <a:pt x="852" y="431"/>
                        </a:lnTo>
                        <a:lnTo>
                          <a:pt x="855" y="429"/>
                        </a:lnTo>
                        <a:lnTo>
                          <a:pt x="860" y="429"/>
                        </a:lnTo>
                        <a:lnTo>
                          <a:pt x="863" y="428"/>
                        </a:lnTo>
                        <a:lnTo>
                          <a:pt x="866" y="428"/>
                        </a:lnTo>
                        <a:lnTo>
                          <a:pt x="871" y="428"/>
                        </a:lnTo>
                        <a:lnTo>
                          <a:pt x="874" y="427"/>
                        </a:lnTo>
                        <a:lnTo>
                          <a:pt x="878" y="427"/>
                        </a:lnTo>
                        <a:lnTo>
                          <a:pt x="883" y="427"/>
                        </a:lnTo>
                        <a:lnTo>
                          <a:pt x="877" y="425"/>
                        </a:lnTo>
                        <a:lnTo>
                          <a:pt x="871" y="424"/>
                        </a:lnTo>
                        <a:lnTo>
                          <a:pt x="866" y="424"/>
                        </a:lnTo>
                        <a:lnTo>
                          <a:pt x="860" y="424"/>
                        </a:lnTo>
                        <a:lnTo>
                          <a:pt x="855" y="424"/>
                        </a:lnTo>
                        <a:lnTo>
                          <a:pt x="849" y="422"/>
                        </a:lnTo>
                        <a:lnTo>
                          <a:pt x="843" y="422"/>
                        </a:lnTo>
                        <a:lnTo>
                          <a:pt x="838" y="422"/>
                        </a:lnTo>
                        <a:lnTo>
                          <a:pt x="831" y="422"/>
                        </a:lnTo>
                        <a:lnTo>
                          <a:pt x="826" y="422"/>
                        </a:lnTo>
                        <a:lnTo>
                          <a:pt x="820" y="421"/>
                        </a:lnTo>
                        <a:lnTo>
                          <a:pt x="814" y="421"/>
                        </a:lnTo>
                        <a:lnTo>
                          <a:pt x="808" y="421"/>
                        </a:lnTo>
                        <a:lnTo>
                          <a:pt x="802" y="421"/>
                        </a:lnTo>
                        <a:lnTo>
                          <a:pt x="796" y="421"/>
                        </a:lnTo>
                        <a:lnTo>
                          <a:pt x="790" y="421"/>
                        </a:lnTo>
                        <a:lnTo>
                          <a:pt x="783" y="421"/>
                        </a:lnTo>
                        <a:lnTo>
                          <a:pt x="777" y="421"/>
                        </a:lnTo>
                        <a:lnTo>
                          <a:pt x="770" y="421"/>
                        </a:lnTo>
                        <a:lnTo>
                          <a:pt x="764" y="421"/>
                        </a:lnTo>
                        <a:lnTo>
                          <a:pt x="757" y="421"/>
                        </a:lnTo>
                        <a:lnTo>
                          <a:pt x="751" y="421"/>
                        </a:lnTo>
                        <a:lnTo>
                          <a:pt x="745" y="421"/>
                        </a:lnTo>
                        <a:lnTo>
                          <a:pt x="739" y="421"/>
                        </a:lnTo>
                        <a:lnTo>
                          <a:pt x="731" y="421"/>
                        </a:lnTo>
                        <a:lnTo>
                          <a:pt x="725" y="421"/>
                        </a:lnTo>
                        <a:lnTo>
                          <a:pt x="718" y="421"/>
                        </a:lnTo>
                        <a:lnTo>
                          <a:pt x="711" y="421"/>
                        </a:lnTo>
                        <a:lnTo>
                          <a:pt x="705" y="421"/>
                        </a:lnTo>
                        <a:lnTo>
                          <a:pt x="699" y="421"/>
                        </a:lnTo>
                        <a:lnTo>
                          <a:pt x="693" y="421"/>
                        </a:lnTo>
                        <a:lnTo>
                          <a:pt x="687" y="422"/>
                        </a:lnTo>
                        <a:lnTo>
                          <a:pt x="679" y="422"/>
                        </a:lnTo>
                        <a:lnTo>
                          <a:pt x="673" y="422"/>
                        </a:lnTo>
                        <a:lnTo>
                          <a:pt x="667" y="422"/>
                        </a:lnTo>
                        <a:lnTo>
                          <a:pt x="659" y="422"/>
                        </a:lnTo>
                        <a:lnTo>
                          <a:pt x="653" y="422"/>
                        </a:lnTo>
                        <a:lnTo>
                          <a:pt x="647" y="422"/>
                        </a:lnTo>
                        <a:lnTo>
                          <a:pt x="640" y="422"/>
                        </a:lnTo>
                        <a:lnTo>
                          <a:pt x="633" y="422"/>
                        </a:lnTo>
                        <a:lnTo>
                          <a:pt x="627" y="422"/>
                        </a:lnTo>
                        <a:lnTo>
                          <a:pt x="621" y="422"/>
                        </a:lnTo>
                        <a:lnTo>
                          <a:pt x="615" y="422"/>
                        </a:lnTo>
                        <a:lnTo>
                          <a:pt x="607" y="424"/>
                        </a:lnTo>
                        <a:lnTo>
                          <a:pt x="601" y="424"/>
                        </a:lnTo>
                        <a:lnTo>
                          <a:pt x="595" y="424"/>
                        </a:lnTo>
                        <a:lnTo>
                          <a:pt x="589" y="424"/>
                        </a:lnTo>
                        <a:lnTo>
                          <a:pt x="585" y="424"/>
                        </a:lnTo>
                        <a:lnTo>
                          <a:pt x="577" y="424"/>
                        </a:lnTo>
                        <a:lnTo>
                          <a:pt x="571" y="424"/>
                        </a:lnTo>
                        <a:lnTo>
                          <a:pt x="565" y="424"/>
                        </a:lnTo>
                        <a:lnTo>
                          <a:pt x="560" y="424"/>
                        </a:lnTo>
                        <a:lnTo>
                          <a:pt x="554" y="424"/>
                        </a:lnTo>
                        <a:lnTo>
                          <a:pt x="548" y="424"/>
                        </a:lnTo>
                        <a:lnTo>
                          <a:pt x="543" y="424"/>
                        </a:lnTo>
                        <a:lnTo>
                          <a:pt x="537" y="425"/>
                        </a:lnTo>
                        <a:lnTo>
                          <a:pt x="531" y="425"/>
                        </a:lnTo>
                        <a:lnTo>
                          <a:pt x="526" y="425"/>
                        </a:lnTo>
                        <a:lnTo>
                          <a:pt x="520" y="425"/>
                        </a:lnTo>
                        <a:lnTo>
                          <a:pt x="516" y="425"/>
                        </a:lnTo>
                        <a:lnTo>
                          <a:pt x="510" y="425"/>
                        </a:lnTo>
                        <a:lnTo>
                          <a:pt x="505" y="425"/>
                        </a:lnTo>
                        <a:lnTo>
                          <a:pt x="500" y="425"/>
                        </a:lnTo>
                        <a:lnTo>
                          <a:pt x="496" y="427"/>
                        </a:lnTo>
                        <a:lnTo>
                          <a:pt x="491" y="427"/>
                        </a:lnTo>
                        <a:lnTo>
                          <a:pt x="488" y="427"/>
                        </a:lnTo>
                        <a:lnTo>
                          <a:pt x="485" y="427"/>
                        </a:lnTo>
                        <a:lnTo>
                          <a:pt x="482" y="427"/>
                        </a:lnTo>
                        <a:lnTo>
                          <a:pt x="477" y="427"/>
                        </a:lnTo>
                        <a:lnTo>
                          <a:pt x="474" y="427"/>
                        </a:lnTo>
                        <a:lnTo>
                          <a:pt x="470" y="427"/>
                        </a:lnTo>
                        <a:lnTo>
                          <a:pt x="467" y="427"/>
                        </a:lnTo>
                        <a:lnTo>
                          <a:pt x="462" y="427"/>
                        </a:lnTo>
                        <a:lnTo>
                          <a:pt x="458" y="427"/>
                        </a:lnTo>
                        <a:lnTo>
                          <a:pt x="455" y="427"/>
                        </a:lnTo>
                        <a:lnTo>
                          <a:pt x="450" y="427"/>
                        </a:lnTo>
                        <a:lnTo>
                          <a:pt x="447" y="427"/>
                        </a:lnTo>
                        <a:lnTo>
                          <a:pt x="442" y="427"/>
                        </a:lnTo>
                        <a:lnTo>
                          <a:pt x="439" y="427"/>
                        </a:lnTo>
                        <a:lnTo>
                          <a:pt x="435" y="427"/>
                        </a:lnTo>
                        <a:lnTo>
                          <a:pt x="430" y="427"/>
                        </a:lnTo>
                        <a:lnTo>
                          <a:pt x="427" y="427"/>
                        </a:lnTo>
                        <a:lnTo>
                          <a:pt x="422" y="427"/>
                        </a:lnTo>
                        <a:lnTo>
                          <a:pt x="419" y="427"/>
                        </a:lnTo>
                        <a:lnTo>
                          <a:pt x="415" y="427"/>
                        </a:lnTo>
                        <a:lnTo>
                          <a:pt x="410" y="427"/>
                        </a:lnTo>
                        <a:lnTo>
                          <a:pt x="407" y="427"/>
                        </a:lnTo>
                        <a:lnTo>
                          <a:pt x="403" y="427"/>
                        </a:lnTo>
                        <a:lnTo>
                          <a:pt x="398" y="427"/>
                        </a:lnTo>
                        <a:lnTo>
                          <a:pt x="395" y="427"/>
                        </a:lnTo>
                        <a:lnTo>
                          <a:pt x="390" y="427"/>
                        </a:lnTo>
                        <a:lnTo>
                          <a:pt x="387" y="427"/>
                        </a:lnTo>
                        <a:lnTo>
                          <a:pt x="383" y="427"/>
                        </a:lnTo>
                        <a:lnTo>
                          <a:pt x="380" y="427"/>
                        </a:lnTo>
                        <a:lnTo>
                          <a:pt x="375" y="427"/>
                        </a:lnTo>
                        <a:lnTo>
                          <a:pt x="372" y="427"/>
                        </a:lnTo>
                        <a:lnTo>
                          <a:pt x="410" y="414"/>
                        </a:lnTo>
                        <a:lnTo>
                          <a:pt x="713" y="407"/>
                        </a:lnTo>
                        <a:lnTo>
                          <a:pt x="759" y="401"/>
                        </a:lnTo>
                        <a:lnTo>
                          <a:pt x="750" y="401"/>
                        </a:lnTo>
                        <a:lnTo>
                          <a:pt x="742" y="401"/>
                        </a:lnTo>
                        <a:lnTo>
                          <a:pt x="733" y="401"/>
                        </a:lnTo>
                        <a:lnTo>
                          <a:pt x="725" y="402"/>
                        </a:lnTo>
                        <a:lnTo>
                          <a:pt x="716" y="402"/>
                        </a:lnTo>
                        <a:lnTo>
                          <a:pt x="708" y="402"/>
                        </a:lnTo>
                        <a:lnTo>
                          <a:pt x="699" y="402"/>
                        </a:lnTo>
                        <a:lnTo>
                          <a:pt x="692" y="402"/>
                        </a:lnTo>
                        <a:lnTo>
                          <a:pt x="682" y="402"/>
                        </a:lnTo>
                        <a:lnTo>
                          <a:pt x="675" y="402"/>
                        </a:lnTo>
                        <a:lnTo>
                          <a:pt x="666" y="402"/>
                        </a:lnTo>
                        <a:lnTo>
                          <a:pt x="658" y="402"/>
                        </a:lnTo>
                        <a:lnTo>
                          <a:pt x="649" y="402"/>
                        </a:lnTo>
                        <a:lnTo>
                          <a:pt x="641" y="402"/>
                        </a:lnTo>
                        <a:lnTo>
                          <a:pt x="633" y="402"/>
                        </a:lnTo>
                        <a:lnTo>
                          <a:pt x="624" y="402"/>
                        </a:lnTo>
                        <a:lnTo>
                          <a:pt x="615" y="402"/>
                        </a:lnTo>
                        <a:lnTo>
                          <a:pt x="607" y="402"/>
                        </a:lnTo>
                        <a:lnTo>
                          <a:pt x="598" y="402"/>
                        </a:lnTo>
                        <a:lnTo>
                          <a:pt x="591" y="402"/>
                        </a:lnTo>
                        <a:lnTo>
                          <a:pt x="581" y="402"/>
                        </a:lnTo>
                        <a:lnTo>
                          <a:pt x="574" y="402"/>
                        </a:lnTo>
                        <a:lnTo>
                          <a:pt x="565" y="402"/>
                        </a:lnTo>
                        <a:lnTo>
                          <a:pt x="557" y="402"/>
                        </a:lnTo>
                        <a:lnTo>
                          <a:pt x="548" y="402"/>
                        </a:lnTo>
                        <a:lnTo>
                          <a:pt x="539" y="402"/>
                        </a:lnTo>
                        <a:lnTo>
                          <a:pt x="529" y="402"/>
                        </a:lnTo>
                        <a:lnTo>
                          <a:pt x="522" y="402"/>
                        </a:lnTo>
                        <a:lnTo>
                          <a:pt x="513" y="402"/>
                        </a:lnTo>
                        <a:lnTo>
                          <a:pt x="505" y="402"/>
                        </a:lnTo>
                        <a:lnTo>
                          <a:pt x="496" y="402"/>
                        </a:lnTo>
                        <a:lnTo>
                          <a:pt x="488" y="402"/>
                        </a:lnTo>
                        <a:lnTo>
                          <a:pt x="479" y="401"/>
                        </a:lnTo>
                        <a:lnTo>
                          <a:pt x="471" y="401"/>
                        </a:lnTo>
                        <a:lnTo>
                          <a:pt x="462" y="401"/>
                        </a:lnTo>
                        <a:lnTo>
                          <a:pt x="455" y="401"/>
                        </a:lnTo>
                        <a:lnTo>
                          <a:pt x="444" y="399"/>
                        </a:lnTo>
                        <a:lnTo>
                          <a:pt x="436" y="399"/>
                        </a:lnTo>
                        <a:lnTo>
                          <a:pt x="427" y="399"/>
                        </a:lnTo>
                        <a:lnTo>
                          <a:pt x="419" y="399"/>
                        </a:lnTo>
                        <a:lnTo>
                          <a:pt x="410" y="399"/>
                        </a:lnTo>
                        <a:lnTo>
                          <a:pt x="403" y="399"/>
                        </a:lnTo>
                        <a:lnTo>
                          <a:pt x="393" y="399"/>
                        </a:lnTo>
                        <a:lnTo>
                          <a:pt x="386" y="399"/>
                        </a:lnTo>
                        <a:lnTo>
                          <a:pt x="377" y="399"/>
                        </a:lnTo>
                        <a:lnTo>
                          <a:pt x="369" y="399"/>
                        </a:lnTo>
                        <a:lnTo>
                          <a:pt x="360" y="399"/>
                        </a:lnTo>
                        <a:lnTo>
                          <a:pt x="352" y="399"/>
                        </a:lnTo>
                        <a:lnTo>
                          <a:pt x="343" y="398"/>
                        </a:lnTo>
                        <a:lnTo>
                          <a:pt x="335" y="398"/>
                        </a:lnTo>
                        <a:lnTo>
                          <a:pt x="326" y="396"/>
                        </a:lnTo>
                        <a:lnTo>
                          <a:pt x="318" y="396"/>
                        </a:lnTo>
                        <a:lnTo>
                          <a:pt x="309" y="396"/>
                        </a:lnTo>
                        <a:lnTo>
                          <a:pt x="302" y="396"/>
                        </a:lnTo>
                        <a:lnTo>
                          <a:pt x="294" y="396"/>
                        </a:lnTo>
                        <a:lnTo>
                          <a:pt x="285" y="396"/>
                        </a:lnTo>
                        <a:lnTo>
                          <a:pt x="276" y="396"/>
                        </a:lnTo>
                        <a:lnTo>
                          <a:pt x="268" y="395"/>
                        </a:lnTo>
                        <a:lnTo>
                          <a:pt x="260" y="395"/>
                        </a:lnTo>
                        <a:lnTo>
                          <a:pt x="253" y="395"/>
                        </a:lnTo>
                        <a:lnTo>
                          <a:pt x="245" y="394"/>
                        </a:lnTo>
                        <a:lnTo>
                          <a:pt x="236" y="394"/>
                        </a:lnTo>
                        <a:lnTo>
                          <a:pt x="228" y="394"/>
                        </a:lnTo>
                        <a:lnTo>
                          <a:pt x="220" y="394"/>
                        </a:lnTo>
                        <a:lnTo>
                          <a:pt x="228" y="390"/>
                        </a:lnTo>
                        <a:lnTo>
                          <a:pt x="234" y="384"/>
                        </a:lnTo>
                        <a:lnTo>
                          <a:pt x="242" y="379"/>
                        </a:lnTo>
                        <a:lnTo>
                          <a:pt x="250" y="374"/>
                        </a:lnTo>
                        <a:lnTo>
                          <a:pt x="257" y="369"/>
                        </a:lnTo>
                        <a:lnTo>
                          <a:pt x="265" y="365"/>
                        </a:lnTo>
                        <a:lnTo>
                          <a:pt x="272" y="359"/>
                        </a:lnTo>
                        <a:lnTo>
                          <a:pt x="280" y="355"/>
                        </a:lnTo>
                        <a:lnTo>
                          <a:pt x="288" y="350"/>
                        </a:lnTo>
                        <a:lnTo>
                          <a:pt x="295" y="344"/>
                        </a:lnTo>
                        <a:lnTo>
                          <a:pt x="303" y="340"/>
                        </a:lnTo>
                        <a:lnTo>
                          <a:pt x="311" y="335"/>
                        </a:lnTo>
                        <a:lnTo>
                          <a:pt x="317" y="331"/>
                        </a:lnTo>
                        <a:lnTo>
                          <a:pt x="324" y="325"/>
                        </a:lnTo>
                        <a:lnTo>
                          <a:pt x="332" y="321"/>
                        </a:lnTo>
                        <a:lnTo>
                          <a:pt x="340" y="315"/>
                        </a:lnTo>
                        <a:lnTo>
                          <a:pt x="347" y="311"/>
                        </a:lnTo>
                        <a:lnTo>
                          <a:pt x="355" y="306"/>
                        </a:lnTo>
                        <a:lnTo>
                          <a:pt x="363" y="300"/>
                        </a:lnTo>
                        <a:lnTo>
                          <a:pt x="370" y="296"/>
                        </a:lnTo>
                        <a:lnTo>
                          <a:pt x="378" y="291"/>
                        </a:lnTo>
                        <a:lnTo>
                          <a:pt x="386" y="287"/>
                        </a:lnTo>
                        <a:lnTo>
                          <a:pt x="393" y="281"/>
                        </a:lnTo>
                        <a:lnTo>
                          <a:pt x="401" y="277"/>
                        </a:lnTo>
                        <a:lnTo>
                          <a:pt x="409" y="273"/>
                        </a:lnTo>
                        <a:lnTo>
                          <a:pt x="416" y="267"/>
                        </a:lnTo>
                        <a:lnTo>
                          <a:pt x="424" y="262"/>
                        </a:lnTo>
                        <a:lnTo>
                          <a:pt x="432" y="258"/>
                        </a:lnTo>
                        <a:lnTo>
                          <a:pt x="439" y="252"/>
                        </a:lnTo>
                        <a:lnTo>
                          <a:pt x="447" y="248"/>
                        </a:lnTo>
                        <a:lnTo>
                          <a:pt x="455" y="243"/>
                        </a:lnTo>
                        <a:lnTo>
                          <a:pt x="462" y="239"/>
                        </a:lnTo>
                        <a:lnTo>
                          <a:pt x="470" y="233"/>
                        </a:lnTo>
                        <a:lnTo>
                          <a:pt x="477" y="229"/>
                        </a:lnTo>
                        <a:lnTo>
                          <a:pt x="485" y="223"/>
                        </a:lnTo>
                        <a:lnTo>
                          <a:pt x="491" y="219"/>
                        </a:lnTo>
                        <a:lnTo>
                          <a:pt x="499" y="214"/>
                        </a:lnTo>
                        <a:lnTo>
                          <a:pt x="507" y="210"/>
                        </a:lnTo>
                        <a:lnTo>
                          <a:pt x="514" y="204"/>
                        </a:lnTo>
                        <a:lnTo>
                          <a:pt x="522" y="200"/>
                        </a:lnTo>
                        <a:lnTo>
                          <a:pt x="529" y="195"/>
                        </a:lnTo>
                        <a:lnTo>
                          <a:pt x="537" y="189"/>
                        </a:lnTo>
                        <a:lnTo>
                          <a:pt x="545" y="185"/>
                        </a:lnTo>
                        <a:lnTo>
                          <a:pt x="552" y="181"/>
                        </a:lnTo>
                        <a:lnTo>
                          <a:pt x="560" y="175"/>
                        </a:lnTo>
                        <a:lnTo>
                          <a:pt x="568" y="170"/>
                        </a:lnTo>
                        <a:lnTo>
                          <a:pt x="575" y="166"/>
                        </a:lnTo>
                        <a:lnTo>
                          <a:pt x="583" y="162"/>
                        </a:lnTo>
                        <a:lnTo>
                          <a:pt x="591" y="156"/>
                        </a:lnTo>
                        <a:lnTo>
                          <a:pt x="598" y="151"/>
                        </a:lnTo>
                        <a:lnTo>
                          <a:pt x="606" y="147"/>
                        </a:lnTo>
                        <a:lnTo>
                          <a:pt x="614" y="142"/>
                        </a:lnTo>
                        <a:lnTo>
                          <a:pt x="621" y="137"/>
                        </a:lnTo>
                        <a:lnTo>
                          <a:pt x="629" y="133"/>
                        </a:lnTo>
                        <a:lnTo>
                          <a:pt x="637" y="127"/>
                        </a:lnTo>
                        <a:lnTo>
                          <a:pt x="644" y="123"/>
                        </a:lnTo>
                        <a:lnTo>
                          <a:pt x="652" y="118"/>
                        </a:lnTo>
                        <a:lnTo>
                          <a:pt x="659" y="114"/>
                        </a:lnTo>
                        <a:lnTo>
                          <a:pt x="667" y="108"/>
                        </a:lnTo>
                        <a:lnTo>
                          <a:pt x="675" y="104"/>
                        </a:lnTo>
                        <a:lnTo>
                          <a:pt x="682" y="99"/>
                        </a:lnTo>
                        <a:lnTo>
                          <a:pt x="690" y="94"/>
                        </a:lnTo>
                        <a:lnTo>
                          <a:pt x="698" y="90"/>
                        </a:lnTo>
                        <a:lnTo>
                          <a:pt x="705" y="86"/>
                        </a:lnTo>
                        <a:lnTo>
                          <a:pt x="713" y="90"/>
                        </a:lnTo>
                        <a:lnTo>
                          <a:pt x="722" y="96"/>
                        </a:lnTo>
                        <a:lnTo>
                          <a:pt x="730" y="101"/>
                        </a:lnTo>
                        <a:lnTo>
                          <a:pt x="739" y="107"/>
                        </a:lnTo>
                        <a:lnTo>
                          <a:pt x="747" y="112"/>
                        </a:lnTo>
                        <a:lnTo>
                          <a:pt x="754" y="118"/>
                        </a:lnTo>
                        <a:lnTo>
                          <a:pt x="762" y="122"/>
                        </a:lnTo>
                        <a:lnTo>
                          <a:pt x="770" y="127"/>
                        </a:lnTo>
                        <a:lnTo>
                          <a:pt x="777" y="131"/>
                        </a:lnTo>
                        <a:lnTo>
                          <a:pt x="783" y="136"/>
                        </a:lnTo>
                        <a:lnTo>
                          <a:pt x="791" y="140"/>
                        </a:lnTo>
                        <a:lnTo>
                          <a:pt x="799" y="145"/>
                        </a:lnTo>
                        <a:lnTo>
                          <a:pt x="805" y="149"/>
                        </a:lnTo>
                        <a:lnTo>
                          <a:pt x="811" y="153"/>
                        </a:lnTo>
                        <a:lnTo>
                          <a:pt x="819" y="158"/>
                        </a:lnTo>
                        <a:lnTo>
                          <a:pt x="825" y="162"/>
                        </a:lnTo>
                        <a:lnTo>
                          <a:pt x="831" y="166"/>
                        </a:lnTo>
                        <a:lnTo>
                          <a:pt x="837" y="170"/>
                        </a:lnTo>
                        <a:lnTo>
                          <a:pt x="843" y="173"/>
                        </a:lnTo>
                        <a:lnTo>
                          <a:pt x="849" y="177"/>
                        </a:lnTo>
                        <a:lnTo>
                          <a:pt x="855" y="181"/>
                        </a:lnTo>
                        <a:lnTo>
                          <a:pt x="861" y="185"/>
                        </a:lnTo>
                        <a:lnTo>
                          <a:pt x="868" y="188"/>
                        </a:lnTo>
                        <a:lnTo>
                          <a:pt x="874" y="192"/>
                        </a:lnTo>
                        <a:lnTo>
                          <a:pt x="880" y="196"/>
                        </a:lnTo>
                        <a:lnTo>
                          <a:pt x="886" y="199"/>
                        </a:lnTo>
                        <a:lnTo>
                          <a:pt x="890" y="203"/>
                        </a:lnTo>
                        <a:lnTo>
                          <a:pt x="897" y="207"/>
                        </a:lnTo>
                        <a:lnTo>
                          <a:pt x="903" y="210"/>
                        </a:lnTo>
                        <a:lnTo>
                          <a:pt x="909" y="214"/>
                        </a:lnTo>
                        <a:lnTo>
                          <a:pt x="915" y="217"/>
                        </a:lnTo>
                        <a:lnTo>
                          <a:pt x="921" y="221"/>
                        </a:lnTo>
                        <a:lnTo>
                          <a:pt x="927" y="225"/>
                        </a:lnTo>
                        <a:lnTo>
                          <a:pt x="932" y="228"/>
                        </a:lnTo>
                        <a:lnTo>
                          <a:pt x="938" y="232"/>
                        </a:lnTo>
                        <a:lnTo>
                          <a:pt x="944" y="234"/>
                        </a:lnTo>
                        <a:lnTo>
                          <a:pt x="949" y="239"/>
                        </a:lnTo>
                        <a:lnTo>
                          <a:pt x="955" y="241"/>
                        </a:lnTo>
                        <a:lnTo>
                          <a:pt x="961" y="245"/>
                        </a:lnTo>
                        <a:lnTo>
                          <a:pt x="967" y="250"/>
                        </a:lnTo>
                        <a:lnTo>
                          <a:pt x="973" y="252"/>
                        </a:lnTo>
                        <a:lnTo>
                          <a:pt x="979" y="256"/>
                        </a:lnTo>
                        <a:lnTo>
                          <a:pt x="985" y="261"/>
                        </a:lnTo>
                        <a:lnTo>
                          <a:pt x="991" y="263"/>
                        </a:lnTo>
                        <a:lnTo>
                          <a:pt x="998" y="267"/>
                        </a:lnTo>
                        <a:lnTo>
                          <a:pt x="1004" y="271"/>
                        </a:lnTo>
                        <a:lnTo>
                          <a:pt x="1010" y="276"/>
                        </a:lnTo>
                        <a:lnTo>
                          <a:pt x="1017" y="280"/>
                        </a:lnTo>
                        <a:lnTo>
                          <a:pt x="1024" y="282"/>
                        </a:lnTo>
                        <a:lnTo>
                          <a:pt x="1031" y="288"/>
                        </a:lnTo>
                        <a:lnTo>
                          <a:pt x="1037" y="291"/>
                        </a:lnTo>
                        <a:lnTo>
                          <a:pt x="1045" y="296"/>
                        </a:lnTo>
                        <a:lnTo>
                          <a:pt x="1053" y="300"/>
                        </a:lnTo>
                        <a:lnTo>
                          <a:pt x="1060" y="304"/>
                        </a:lnTo>
                        <a:lnTo>
                          <a:pt x="1068" y="309"/>
                        </a:lnTo>
                        <a:lnTo>
                          <a:pt x="1076" y="314"/>
                        </a:lnTo>
                        <a:lnTo>
                          <a:pt x="1083" y="318"/>
                        </a:lnTo>
                        <a:lnTo>
                          <a:pt x="1092" y="322"/>
                        </a:lnTo>
                        <a:lnTo>
                          <a:pt x="1100" y="328"/>
                        </a:lnTo>
                        <a:lnTo>
                          <a:pt x="1109" y="333"/>
                        </a:lnTo>
                        <a:lnTo>
                          <a:pt x="1117" y="339"/>
                        </a:lnTo>
                        <a:lnTo>
                          <a:pt x="1126" y="344"/>
                        </a:lnTo>
                        <a:lnTo>
                          <a:pt x="1135" y="350"/>
                        </a:lnTo>
                        <a:lnTo>
                          <a:pt x="1144" y="355"/>
                        </a:lnTo>
                        <a:lnTo>
                          <a:pt x="1140" y="355"/>
                        </a:lnTo>
                        <a:lnTo>
                          <a:pt x="1134" y="355"/>
                        </a:lnTo>
                        <a:lnTo>
                          <a:pt x="1129" y="355"/>
                        </a:lnTo>
                        <a:lnTo>
                          <a:pt x="1123" y="355"/>
                        </a:lnTo>
                        <a:lnTo>
                          <a:pt x="1118" y="355"/>
                        </a:lnTo>
                        <a:lnTo>
                          <a:pt x="1112" y="355"/>
                        </a:lnTo>
                        <a:lnTo>
                          <a:pt x="1106" y="355"/>
                        </a:lnTo>
                        <a:lnTo>
                          <a:pt x="1102" y="357"/>
                        </a:lnTo>
                        <a:lnTo>
                          <a:pt x="1095" y="357"/>
                        </a:lnTo>
                        <a:lnTo>
                          <a:pt x="1089" y="357"/>
                        </a:lnTo>
                        <a:lnTo>
                          <a:pt x="1083" y="357"/>
                        </a:lnTo>
                        <a:lnTo>
                          <a:pt x="1077" y="357"/>
                        </a:lnTo>
                        <a:lnTo>
                          <a:pt x="1071" y="357"/>
                        </a:lnTo>
                        <a:lnTo>
                          <a:pt x="1065" y="357"/>
                        </a:lnTo>
                        <a:lnTo>
                          <a:pt x="1057" y="357"/>
                        </a:lnTo>
                        <a:lnTo>
                          <a:pt x="1053" y="357"/>
                        </a:lnTo>
                        <a:lnTo>
                          <a:pt x="1045" y="357"/>
                        </a:lnTo>
                        <a:lnTo>
                          <a:pt x="1039" y="357"/>
                        </a:lnTo>
                        <a:lnTo>
                          <a:pt x="1033" y="357"/>
                        </a:lnTo>
                        <a:lnTo>
                          <a:pt x="1027" y="357"/>
                        </a:lnTo>
                        <a:lnTo>
                          <a:pt x="1019" y="357"/>
                        </a:lnTo>
                        <a:lnTo>
                          <a:pt x="1013" y="357"/>
                        </a:lnTo>
                        <a:lnTo>
                          <a:pt x="1007" y="357"/>
                        </a:lnTo>
                        <a:lnTo>
                          <a:pt x="1001" y="357"/>
                        </a:lnTo>
                        <a:lnTo>
                          <a:pt x="993" y="357"/>
                        </a:lnTo>
                        <a:lnTo>
                          <a:pt x="987" y="357"/>
                        </a:lnTo>
                        <a:lnTo>
                          <a:pt x="979" y="357"/>
                        </a:lnTo>
                        <a:lnTo>
                          <a:pt x="972" y="357"/>
                        </a:lnTo>
                        <a:lnTo>
                          <a:pt x="965" y="357"/>
                        </a:lnTo>
                        <a:lnTo>
                          <a:pt x="958" y="357"/>
                        </a:lnTo>
                        <a:lnTo>
                          <a:pt x="952" y="357"/>
                        </a:lnTo>
                        <a:lnTo>
                          <a:pt x="946" y="358"/>
                        </a:lnTo>
                        <a:lnTo>
                          <a:pt x="938" y="358"/>
                        </a:lnTo>
                        <a:lnTo>
                          <a:pt x="932" y="358"/>
                        </a:lnTo>
                        <a:lnTo>
                          <a:pt x="924" y="358"/>
                        </a:lnTo>
                        <a:lnTo>
                          <a:pt x="918" y="358"/>
                        </a:lnTo>
                        <a:lnTo>
                          <a:pt x="910" y="358"/>
                        </a:lnTo>
                        <a:lnTo>
                          <a:pt x="904" y="358"/>
                        </a:lnTo>
                        <a:lnTo>
                          <a:pt x="897" y="358"/>
                        </a:lnTo>
                        <a:lnTo>
                          <a:pt x="890" y="359"/>
                        </a:lnTo>
                        <a:lnTo>
                          <a:pt x="884" y="359"/>
                        </a:lnTo>
                        <a:lnTo>
                          <a:pt x="878" y="359"/>
                        </a:lnTo>
                        <a:lnTo>
                          <a:pt x="871" y="359"/>
                        </a:lnTo>
                        <a:lnTo>
                          <a:pt x="864" y="359"/>
                        </a:lnTo>
                        <a:lnTo>
                          <a:pt x="858" y="359"/>
                        </a:lnTo>
                        <a:lnTo>
                          <a:pt x="852" y="361"/>
                        </a:lnTo>
                        <a:lnTo>
                          <a:pt x="846" y="361"/>
                        </a:lnTo>
                        <a:lnTo>
                          <a:pt x="842" y="362"/>
                        </a:lnTo>
                        <a:lnTo>
                          <a:pt x="835" y="362"/>
                        </a:lnTo>
                        <a:lnTo>
                          <a:pt x="828" y="362"/>
                        </a:lnTo>
                        <a:lnTo>
                          <a:pt x="823" y="362"/>
                        </a:lnTo>
                        <a:lnTo>
                          <a:pt x="817" y="363"/>
                        </a:lnTo>
                        <a:lnTo>
                          <a:pt x="811" y="363"/>
                        </a:lnTo>
                        <a:lnTo>
                          <a:pt x="805" y="365"/>
                        </a:lnTo>
                        <a:lnTo>
                          <a:pt x="800" y="365"/>
                        </a:lnTo>
                        <a:lnTo>
                          <a:pt x="796" y="366"/>
                        </a:lnTo>
                        <a:lnTo>
                          <a:pt x="790" y="366"/>
                        </a:lnTo>
                        <a:lnTo>
                          <a:pt x="785" y="368"/>
                        </a:lnTo>
                        <a:lnTo>
                          <a:pt x="780" y="369"/>
                        </a:lnTo>
                        <a:lnTo>
                          <a:pt x="776" y="369"/>
                        </a:lnTo>
                        <a:lnTo>
                          <a:pt x="770" y="370"/>
                        </a:lnTo>
                        <a:lnTo>
                          <a:pt x="767" y="372"/>
                        </a:lnTo>
                        <a:lnTo>
                          <a:pt x="762" y="372"/>
                        </a:lnTo>
                        <a:lnTo>
                          <a:pt x="759" y="374"/>
                        </a:lnTo>
                        <a:lnTo>
                          <a:pt x="1054" y="368"/>
                        </a:lnTo>
                        <a:lnTo>
                          <a:pt x="872" y="399"/>
                        </a:lnTo>
                        <a:lnTo>
                          <a:pt x="874" y="399"/>
                        </a:lnTo>
                        <a:lnTo>
                          <a:pt x="877" y="399"/>
                        </a:lnTo>
                        <a:lnTo>
                          <a:pt x="880" y="399"/>
                        </a:lnTo>
                        <a:lnTo>
                          <a:pt x="884" y="399"/>
                        </a:lnTo>
                        <a:lnTo>
                          <a:pt x="890" y="399"/>
                        </a:lnTo>
                        <a:lnTo>
                          <a:pt x="892" y="399"/>
                        </a:lnTo>
                        <a:lnTo>
                          <a:pt x="895" y="399"/>
                        </a:lnTo>
                        <a:lnTo>
                          <a:pt x="900" y="399"/>
                        </a:lnTo>
                        <a:lnTo>
                          <a:pt x="903" y="399"/>
                        </a:lnTo>
                        <a:lnTo>
                          <a:pt x="906" y="399"/>
                        </a:lnTo>
                        <a:lnTo>
                          <a:pt x="910" y="399"/>
                        </a:lnTo>
                        <a:lnTo>
                          <a:pt x="913" y="399"/>
                        </a:lnTo>
                        <a:lnTo>
                          <a:pt x="918" y="399"/>
                        </a:lnTo>
                        <a:lnTo>
                          <a:pt x="921" y="399"/>
                        </a:lnTo>
                        <a:lnTo>
                          <a:pt x="926" y="399"/>
                        </a:lnTo>
                        <a:lnTo>
                          <a:pt x="930" y="399"/>
                        </a:lnTo>
                        <a:lnTo>
                          <a:pt x="935" y="399"/>
                        </a:lnTo>
                        <a:lnTo>
                          <a:pt x="938" y="399"/>
                        </a:lnTo>
                        <a:lnTo>
                          <a:pt x="944" y="399"/>
                        </a:lnTo>
                        <a:lnTo>
                          <a:pt x="949" y="399"/>
                        </a:lnTo>
                        <a:lnTo>
                          <a:pt x="953" y="399"/>
                        </a:lnTo>
                        <a:lnTo>
                          <a:pt x="958" y="399"/>
                        </a:lnTo>
                        <a:lnTo>
                          <a:pt x="962" y="399"/>
                        </a:lnTo>
                        <a:lnTo>
                          <a:pt x="967" y="399"/>
                        </a:lnTo>
                        <a:lnTo>
                          <a:pt x="972" y="399"/>
                        </a:lnTo>
                        <a:lnTo>
                          <a:pt x="976" y="399"/>
                        </a:lnTo>
                        <a:lnTo>
                          <a:pt x="981" y="399"/>
                        </a:lnTo>
                        <a:lnTo>
                          <a:pt x="985" y="399"/>
                        </a:lnTo>
                        <a:lnTo>
                          <a:pt x="990" y="399"/>
                        </a:lnTo>
                        <a:lnTo>
                          <a:pt x="994" y="399"/>
                        </a:lnTo>
                        <a:lnTo>
                          <a:pt x="999" y="399"/>
                        </a:lnTo>
                        <a:lnTo>
                          <a:pt x="1004" y="399"/>
                        </a:lnTo>
                        <a:lnTo>
                          <a:pt x="1008" y="399"/>
                        </a:lnTo>
                        <a:lnTo>
                          <a:pt x="1011" y="399"/>
                        </a:lnTo>
                        <a:lnTo>
                          <a:pt x="1016" y="399"/>
                        </a:lnTo>
                        <a:lnTo>
                          <a:pt x="1020" y="399"/>
                        </a:lnTo>
                        <a:lnTo>
                          <a:pt x="1025" y="399"/>
                        </a:lnTo>
                        <a:lnTo>
                          <a:pt x="1028" y="399"/>
                        </a:lnTo>
                        <a:lnTo>
                          <a:pt x="1033" y="399"/>
                        </a:lnTo>
                        <a:lnTo>
                          <a:pt x="1036" y="399"/>
                        </a:lnTo>
                        <a:lnTo>
                          <a:pt x="1040" y="399"/>
                        </a:lnTo>
                        <a:lnTo>
                          <a:pt x="1046" y="399"/>
                        </a:lnTo>
                        <a:lnTo>
                          <a:pt x="1053" y="399"/>
                        </a:lnTo>
                        <a:lnTo>
                          <a:pt x="1057" y="399"/>
                        </a:lnTo>
                        <a:lnTo>
                          <a:pt x="1063" y="399"/>
                        </a:lnTo>
                        <a:lnTo>
                          <a:pt x="1066" y="399"/>
                        </a:lnTo>
                        <a:lnTo>
                          <a:pt x="1069" y="399"/>
                        </a:lnTo>
                        <a:lnTo>
                          <a:pt x="1071" y="399"/>
                        </a:lnTo>
                        <a:lnTo>
                          <a:pt x="1068" y="401"/>
                        </a:lnTo>
                        <a:lnTo>
                          <a:pt x="1063" y="402"/>
                        </a:lnTo>
                        <a:lnTo>
                          <a:pt x="1060" y="403"/>
                        </a:lnTo>
                        <a:lnTo>
                          <a:pt x="1056" y="406"/>
                        </a:lnTo>
                        <a:lnTo>
                          <a:pt x="1050" y="406"/>
                        </a:lnTo>
                        <a:lnTo>
                          <a:pt x="1043" y="406"/>
                        </a:lnTo>
                        <a:lnTo>
                          <a:pt x="1037" y="407"/>
                        </a:lnTo>
                        <a:lnTo>
                          <a:pt x="1031" y="409"/>
                        </a:lnTo>
                        <a:lnTo>
                          <a:pt x="1024" y="409"/>
                        </a:lnTo>
                        <a:lnTo>
                          <a:pt x="1017" y="409"/>
                        </a:lnTo>
                        <a:lnTo>
                          <a:pt x="1011" y="410"/>
                        </a:lnTo>
                        <a:lnTo>
                          <a:pt x="1005" y="412"/>
                        </a:lnTo>
                        <a:lnTo>
                          <a:pt x="999" y="412"/>
                        </a:lnTo>
                        <a:lnTo>
                          <a:pt x="993" y="412"/>
                        </a:lnTo>
                        <a:lnTo>
                          <a:pt x="987" y="412"/>
                        </a:lnTo>
                        <a:lnTo>
                          <a:pt x="979" y="413"/>
                        </a:lnTo>
                        <a:lnTo>
                          <a:pt x="973" y="414"/>
                        </a:lnTo>
                        <a:lnTo>
                          <a:pt x="967" y="414"/>
                        </a:lnTo>
                        <a:lnTo>
                          <a:pt x="961" y="416"/>
                        </a:lnTo>
                        <a:lnTo>
                          <a:pt x="955" y="417"/>
                        </a:lnTo>
                        <a:lnTo>
                          <a:pt x="953" y="418"/>
                        </a:lnTo>
                        <a:lnTo>
                          <a:pt x="952" y="420"/>
                        </a:lnTo>
                        <a:lnTo>
                          <a:pt x="947" y="421"/>
                        </a:lnTo>
                        <a:lnTo>
                          <a:pt x="944" y="424"/>
                        </a:lnTo>
                        <a:lnTo>
                          <a:pt x="938" y="424"/>
                        </a:lnTo>
                        <a:lnTo>
                          <a:pt x="932" y="427"/>
                        </a:lnTo>
                        <a:lnTo>
                          <a:pt x="926" y="427"/>
                        </a:lnTo>
                        <a:lnTo>
                          <a:pt x="920" y="429"/>
                        </a:lnTo>
                        <a:lnTo>
                          <a:pt x="915" y="429"/>
                        </a:lnTo>
                        <a:lnTo>
                          <a:pt x="910" y="429"/>
                        </a:lnTo>
                        <a:lnTo>
                          <a:pt x="907" y="429"/>
                        </a:lnTo>
                        <a:lnTo>
                          <a:pt x="903" y="431"/>
                        </a:lnTo>
                        <a:lnTo>
                          <a:pt x="898" y="432"/>
                        </a:lnTo>
                        <a:lnTo>
                          <a:pt x="894" y="432"/>
                        </a:lnTo>
                        <a:lnTo>
                          <a:pt x="890" y="433"/>
                        </a:lnTo>
                        <a:lnTo>
                          <a:pt x="886" y="433"/>
                        </a:lnTo>
                        <a:lnTo>
                          <a:pt x="881" y="433"/>
                        </a:lnTo>
                        <a:lnTo>
                          <a:pt x="877" y="435"/>
                        </a:lnTo>
                        <a:lnTo>
                          <a:pt x="872" y="435"/>
                        </a:lnTo>
                        <a:lnTo>
                          <a:pt x="868" y="436"/>
                        </a:lnTo>
                        <a:lnTo>
                          <a:pt x="863" y="436"/>
                        </a:lnTo>
                        <a:lnTo>
                          <a:pt x="858" y="436"/>
                        </a:lnTo>
                        <a:lnTo>
                          <a:pt x="854" y="438"/>
                        </a:lnTo>
                        <a:lnTo>
                          <a:pt x="849" y="439"/>
                        </a:lnTo>
                        <a:lnTo>
                          <a:pt x="845" y="439"/>
                        </a:lnTo>
                        <a:lnTo>
                          <a:pt x="840" y="439"/>
                        </a:lnTo>
                        <a:lnTo>
                          <a:pt x="835" y="439"/>
                        </a:lnTo>
                        <a:lnTo>
                          <a:pt x="831" y="440"/>
                        </a:lnTo>
                        <a:lnTo>
                          <a:pt x="825" y="440"/>
                        </a:lnTo>
                        <a:lnTo>
                          <a:pt x="822" y="440"/>
                        </a:lnTo>
                        <a:lnTo>
                          <a:pt x="816" y="442"/>
                        </a:lnTo>
                        <a:lnTo>
                          <a:pt x="812" y="442"/>
                        </a:lnTo>
                        <a:lnTo>
                          <a:pt x="808" y="442"/>
                        </a:lnTo>
                        <a:lnTo>
                          <a:pt x="803" y="442"/>
                        </a:lnTo>
                        <a:lnTo>
                          <a:pt x="799" y="443"/>
                        </a:lnTo>
                        <a:lnTo>
                          <a:pt x="794" y="443"/>
                        </a:lnTo>
                        <a:lnTo>
                          <a:pt x="791" y="443"/>
                        </a:lnTo>
                        <a:lnTo>
                          <a:pt x="786" y="444"/>
                        </a:lnTo>
                        <a:lnTo>
                          <a:pt x="783" y="444"/>
                        </a:lnTo>
                        <a:lnTo>
                          <a:pt x="780" y="446"/>
                        </a:lnTo>
                        <a:lnTo>
                          <a:pt x="776" y="446"/>
                        </a:lnTo>
                        <a:lnTo>
                          <a:pt x="773" y="446"/>
                        </a:lnTo>
                        <a:lnTo>
                          <a:pt x="770" y="446"/>
                        </a:lnTo>
                        <a:lnTo>
                          <a:pt x="767" y="446"/>
                        </a:lnTo>
                        <a:lnTo>
                          <a:pt x="760" y="447"/>
                        </a:lnTo>
                        <a:lnTo>
                          <a:pt x="756" y="449"/>
                        </a:lnTo>
                        <a:lnTo>
                          <a:pt x="751" y="449"/>
                        </a:lnTo>
                        <a:lnTo>
                          <a:pt x="750" y="449"/>
                        </a:lnTo>
                        <a:lnTo>
                          <a:pt x="747" y="450"/>
                        </a:lnTo>
                        <a:lnTo>
                          <a:pt x="747" y="451"/>
                        </a:lnTo>
                        <a:lnTo>
                          <a:pt x="1121" y="439"/>
                        </a:lnTo>
                        <a:lnTo>
                          <a:pt x="1117" y="442"/>
                        </a:lnTo>
                        <a:lnTo>
                          <a:pt x="1112" y="443"/>
                        </a:lnTo>
                        <a:lnTo>
                          <a:pt x="1106" y="444"/>
                        </a:lnTo>
                        <a:lnTo>
                          <a:pt x="1102" y="446"/>
                        </a:lnTo>
                        <a:lnTo>
                          <a:pt x="1095" y="449"/>
                        </a:lnTo>
                        <a:lnTo>
                          <a:pt x="1091" y="450"/>
                        </a:lnTo>
                        <a:lnTo>
                          <a:pt x="1086" y="451"/>
                        </a:lnTo>
                        <a:lnTo>
                          <a:pt x="1082" y="453"/>
                        </a:lnTo>
                        <a:lnTo>
                          <a:pt x="1458" y="453"/>
                        </a:lnTo>
                        <a:lnTo>
                          <a:pt x="1452" y="450"/>
                        </a:lnTo>
                        <a:lnTo>
                          <a:pt x="1447" y="446"/>
                        </a:lnTo>
                        <a:lnTo>
                          <a:pt x="1441" y="443"/>
                        </a:lnTo>
                        <a:lnTo>
                          <a:pt x="1435" y="440"/>
                        </a:lnTo>
                        <a:lnTo>
                          <a:pt x="1432" y="438"/>
                        </a:lnTo>
                        <a:lnTo>
                          <a:pt x="1429" y="436"/>
                        </a:lnTo>
                        <a:lnTo>
                          <a:pt x="1424" y="433"/>
                        </a:lnTo>
                        <a:lnTo>
                          <a:pt x="1421" y="432"/>
                        </a:lnTo>
                        <a:lnTo>
                          <a:pt x="1418" y="429"/>
                        </a:lnTo>
                        <a:lnTo>
                          <a:pt x="1414" y="428"/>
                        </a:lnTo>
                        <a:lnTo>
                          <a:pt x="1411" y="427"/>
                        </a:lnTo>
                        <a:lnTo>
                          <a:pt x="1407" y="424"/>
                        </a:lnTo>
                        <a:lnTo>
                          <a:pt x="1403" y="421"/>
                        </a:lnTo>
                        <a:lnTo>
                          <a:pt x="1398" y="420"/>
                        </a:lnTo>
                        <a:lnTo>
                          <a:pt x="1394" y="417"/>
                        </a:lnTo>
                        <a:lnTo>
                          <a:pt x="1391" y="414"/>
                        </a:lnTo>
                        <a:lnTo>
                          <a:pt x="1386" y="412"/>
                        </a:lnTo>
                        <a:lnTo>
                          <a:pt x="1383" y="410"/>
                        </a:lnTo>
                        <a:lnTo>
                          <a:pt x="1378" y="407"/>
                        </a:lnTo>
                        <a:lnTo>
                          <a:pt x="1374" y="406"/>
                        </a:lnTo>
                        <a:lnTo>
                          <a:pt x="1371" y="403"/>
                        </a:lnTo>
                        <a:lnTo>
                          <a:pt x="1366" y="401"/>
                        </a:lnTo>
                        <a:lnTo>
                          <a:pt x="1362" y="399"/>
                        </a:lnTo>
                        <a:lnTo>
                          <a:pt x="1357" y="396"/>
                        </a:lnTo>
                        <a:lnTo>
                          <a:pt x="1354" y="394"/>
                        </a:lnTo>
                        <a:lnTo>
                          <a:pt x="1349" y="392"/>
                        </a:lnTo>
                        <a:lnTo>
                          <a:pt x="1345" y="390"/>
                        </a:lnTo>
                        <a:lnTo>
                          <a:pt x="1342" y="387"/>
                        </a:lnTo>
                        <a:lnTo>
                          <a:pt x="1337" y="384"/>
                        </a:lnTo>
                        <a:lnTo>
                          <a:pt x="1333" y="383"/>
                        </a:lnTo>
                        <a:lnTo>
                          <a:pt x="1328" y="380"/>
                        </a:lnTo>
                        <a:lnTo>
                          <a:pt x="1325" y="377"/>
                        </a:lnTo>
                        <a:lnTo>
                          <a:pt x="1320" y="374"/>
                        </a:lnTo>
                        <a:lnTo>
                          <a:pt x="1316" y="372"/>
                        </a:lnTo>
                        <a:lnTo>
                          <a:pt x="1311" y="369"/>
                        </a:lnTo>
                        <a:lnTo>
                          <a:pt x="1308" y="368"/>
                        </a:lnTo>
                        <a:lnTo>
                          <a:pt x="1303" y="365"/>
                        </a:lnTo>
                        <a:lnTo>
                          <a:pt x="1299" y="362"/>
                        </a:lnTo>
                        <a:lnTo>
                          <a:pt x="1294" y="359"/>
                        </a:lnTo>
                        <a:lnTo>
                          <a:pt x="1291" y="357"/>
                        </a:lnTo>
                        <a:lnTo>
                          <a:pt x="1288" y="354"/>
                        </a:lnTo>
                        <a:lnTo>
                          <a:pt x="1284" y="352"/>
                        </a:lnTo>
                        <a:lnTo>
                          <a:pt x="1281" y="350"/>
                        </a:lnTo>
                        <a:lnTo>
                          <a:pt x="1277" y="348"/>
                        </a:lnTo>
                        <a:lnTo>
                          <a:pt x="1273" y="346"/>
                        </a:lnTo>
                        <a:lnTo>
                          <a:pt x="1270" y="343"/>
                        </a:lnTo>
                        <a:lnTo>
                          <a:pt x="1265" y="340"/>
                        </a:lnTo>
                        <a:lnTo>
                          <a:pt x="1262" y="339"/>
                        </a:lnTo>
                        <a:lnTo>
                          <a:pt x="1256" y="333"/>
                        </a:lnTo>
                        <a:lnTo>
                          <a:pt x="1250" y="331"/>
                        </a:lnTo>
                        <a:lnTo>
                          <a:pt x="1244" y="325"/>
                        </a:lnTo>
                        <a:lnTo>
                          <a:pt x="1239" y="321"/>
                        </a:lnTo>
                        <a:lnTo>
                          <a:pt x="1235" y="318"/>
                        </a:lnTo>
                        <a:lnTo>
                          <a:pt x="1230" y="315"/>
                        </a:lnTo>
                        <a:lnTo>
                          <a:pt x="1233" y="315"/>
                        </a:lnTo>
                        <a:lnTo>
                          <a:pt x="1236" y="315"/>
                        </a:lnTo>
                        <a:lnTo>
                          <a:pt x="1238" y="318"/>
                        </a:lnTo>
                        <a:lnTo>
                          <a:pt x="1241" y="320"/>
                        </a:lnTo>
                        <a:lnTo>
                          <a:pt x="1466" y="449"/>
                        </a:lnTo>
                        <a:lnTo>
                          <a:pt x="1464" y="447"/>
                        </a:lnTo>
                        <a:lnTo>
                          <a:pt x="1463" y="446"/>
                        </a:lnTo>
                        <a:lnTo>
                          <a:pt x="1459" y="443"/>
                        </a:lnTo>
                        <a:lnTo>
                          <a:pt x="1455" y="440"/>
                        </a:lnTo>
                        <a:lnTo>
                          <a:pt x="1450" y="436"/>
                        </a:lnTo>
                        <a:lnTo>
                          <a:pt x="1446" y="432"/>
                        </a:lnTo>
                        <a:lnTo>
                          <a:pt x="1440" y="428"/>
                        </a:lnTo>
                        <a:lnTo>
                          <a:pt x="1433" y="424"/>
                        </a:lnTo>
                        <a:lnTo>
                          <a:pt x="1427" y="418"/>
                        </a:lnTo>
                        <a:lnTo>
                          <a:pt x="1421" y="414"/>
                        </a:lnTo>
                        <a:lnTo>
                          <a:pt x="1417" y="409"/>
                        </a:lnTo>
                        <a:lnTo>
                          <a:pt x="1412" y="406"/>
                        </a:lnTo>
                        <a:lnTo>
                          <a:pt x="1407" y="402"/>
                        </a:lnTo>
                        <a:lnTo>
                          <a:pt x="1404" y="401"/>
                        </a:lnTo>
                        <a:lnTo>
                          <a:pt x="1403" y="399"/>
                        </a:lnTo>
                        <a:lnTo>
                          <a:pt x="1397" y="394"/>
                        </a:lnTo>
                        <a:lnTo>
                          <a:pt x="1391" y="390"/>
                        </a:lnTo>
                        <a:lnTo>
                          <a:pt x="1385" y="384"/>
                        </a:lnTo>
                        <a:lnTo>
                          <a:pt x="1378" y="381"/>
                        </a:lnTo>
                        <a:lnTo>
                          <a:pt x="1375" y="377"/>
                        </a:lnTo>
                        <a:lnTo>
                          <a:pt x="1372" y="376"/>
                        </a:lnTo>
                        <a:lnTo>
                          <a:pt x="1368" y="373"/>
                        </a:lnTo>
                        <a:lnTo>
                          <a:pt x="1365" y="372"/>
                        </a:lnTo>
                        <a:lnTo>
                          <a:pt x="1362" y="369"/>
                        </a:lnTo>
                        <a:lnTo>
                          <a:pt x="1357" y="368"/>
                        </a:lnTo>
                        <a:lnTo>
                          <a:pt x="1354" y="365"/>
                        </a:lnTo>
                        <a:lnTo>
                          <a:pt x="1351" y="363"/>
                        </a:lnTo>
                        <a:lnTo>
                          <a:pt x="1346" y="361"/>
                        </a:lnTo>
                        <a:lnTo>
                          <a:pt x="1343" y="358"/>
                        </a:lnTo>
                        <a:lnTo>
                          <a:pt x="1339" y="357"/>
                        </a:lnTo>
                        <a:lnTo>
                          <a:pt x="1336" y="354"/>
                        </a:lnTo>
                        <a:lnTo>
                          <a:pt x="1331" y="351"/>
                        </a:lnTo>
                        <a:lnTo>
                          <a:pt x="1326" y="350"/>
                        </a:lnTo>
                        <a:lnTo>
                          <a:pt x="1323" y="347"/>
                        </a:lnTo>
                        <a:lnTo>
                          <a:pt x="1319" y="346"/>
                        </a:lnTo>
                        <a:lnTo>
                          <a:pt x="1316" y="343"/>
                        </a:lnTo>
                        <a:lnTo>
                          <a:pt x="1311" y="340"/>
                        </a:lnTo>
                        <a:lnTo>
                          <a:pt x="1307" y="339"/>
                        </a:lnTo>
                        <a:lnTo>
                          <a:pt x="1302" y="337"/>
                        </a:lnTo>
                        <a:lnTo>
                          <a:pt x="1297" y="335"/>
                        </a:lnTo>
                        <a:lnTo>
                          <a:pt x="1294" y="332"/>
                        </a:lnTo>
                        <a:lnTo>
                          <a:pt x="1290" y="331"/>
                        </a:lnTo>
                        <a:lnTo>
                          <a:pt x="1287" y="328"/>
                        </a:lnTo>
                        <a:lnTo>
                          <a:pt x="1281" y="326"/>
                        </a:lnTo>
                        <a:lnTo>
                          <a:pt x="1277" y="324"/>
                        </a:lnTo>
                        <a:lnTo>
                          <a:pt x="1273" y="321"/>
                        </a:lnTo>
                        <a:lnTo>
                          <a:pt x="1268" y="320"/>
                        </a:lnTo>
                        <a:lnTo>
                          <a:pt x="1264" y="318"/>
                        </a:lnTo>
                        <a:lnTo>
                          <a:pt x="1261" y="315"/>
                        </a:lnTo>
                        <a:lnTo>
                          <a:pt x="1256" y="313"/>
                        </a:lnTo>
                        <a:lnTo>
                          <a:pt x="1251" y="311"/>
                        </a:lnTo>
                        <a:lnTo>
                          <a:pt x="1247" y="309"/>
                        </a:lnTo>
                        <a:lnTo>
                          <a:pt x="1244" y="307"/>
                        </a:lnTo>
                        <a:lnTo>
                          <a:pt x="1239" y="304"/>
                        </a:lnTo>
                        <a:lnTo>
                          <a:pt x="1236" y="303"/>
                        </a:lnTo>
                        <a:lnTo>
                          <a:pt x="1232" y="302"/>
                        </a:lnTo>
                        <a:lnTo>
                          <a:pt x="1227" y="300"/>
                        </a:lnTo>
                        <a:lnTo>
                          <a:pt x="1224" y="298"/>
                        </a:lnTo>
                        <a:lnTo>
                          <a:pt x="1219" y="296"/>
                        </a:lnTo>
                        <a:lnTo>
                          <a:pt x="1216" y="293"/>
                        </a:lnTo>
                        <a:lnTo>
                          <a:pt x="1212" y="292"/>
                        </a:lnTo>
                        <a:lnTo>
                          <a:pt x="1209" y="291"/>
                        </a:lnTo>
                        <a:lnTo>
                          <a:pt x="1204" y="288"/>
                        </a:lnTo>
                        <a:lnTo>
                          <a:pt x="1201" y="287"/>
                        </a:lnTo>
                        <a:lnTo>
                          <a:pt x="1196" y="285"/>
                        </a:lnTo>
                        <a:lnTo>
                          <a:pt x="1193" y="284"/>
                        </a:lnTo>
                        <a:lnTo>
                          <a:pt x="1190" y="281"/>
                        </a:lnTo>
                        <a:lnTo>
                          <a:pt x="1186" y="280"/>
                        </a:lnTo>
                        <a:lnTo>
                          <a:pt x="1183" y="278"/>
                        </a:lnTo>
                        <a:lnTo>
                          <a:pt x="1180" y="277"/>
                        </a:lnTo>
                        <a:lnTo>
                          <a:pt x="1177" y="276"/>
                        </a:lnTo>
                        <a:lnTo>
                          <a:pt x="1170" y="273"/>
                        </a:lnTo>
                        <a:lnTo>
                          <a:pt x="1164" y="269"/>
                        </a:lnTo>
                        <a:lnTo>
                          <a:pt x="1158" y="265"/>
                        </a:lnTo>
                        <a:lnTo>
                          <a:pt x="1151" y="261"/>
                        </a:lnTo>
                        <a:lnTo>
                          <a:pt x="1143" y="256"/>
                        </a:lnTo>
                        <a:lnTo>
                          <a:pt x="1137" y="254"/>
                        </a:lnTo>
                        <a:lnTo>
                          <a:pt x="1129" y="248"/>
                        </a:lnTo>
                        <a:lnTo>
                          <a:pt x="1121" y="245"/>
                        </a:lnTo>
                        <a:lnTo>
                          <a:pt x="1114" y="241"/>
                        </a:lnTo>
                        <a:lnTo>
                          <a:pt x="1108" y="237"/>
                        </a:lnTo>
                        <a:lnTo>
                          <a:pt x="1100" y="233"/>
                        </a:lnTo>
                        <a:lnTo>
                          <a:pt x="1092" y="229"/>
                        </a:lnTo>
                        <a:lnTo>
                          <a:pt x="1085" y="225"/>
                        </a:lnTo>
                        <a:lnTo>
                          <a:pt x="1079" y="221"/>
                        </a:lnTo>
                        <a:lnTo>
                          <a:pt x="1071" y="217"/>
                        </a:lnTo>
                        <a:lnTo>
                          <a:pt x="1063" y="212"/>
                        </a:lnTo>
                        <a:lnTo>
                          <a:pt x="1057" y="208"/>
                        </a:lnTo>
                        <a:lnTo>
                          <a:pt x="1050" y="204"/>
                        </a:lnTo>
                        <a:lnTo>
                          <a:pt x="1042" y="200"/>
                        </a:lnTo>
                        <a:lnTo>
                          <a:pt x="1034" y="196"/>
                        </a:lnTo>
                        <a:lnTo>
                          <a:pt x="1027" y="192"/>
                        </a:lnTo>
                        <a:lnTo>
                          <a:pt x="1020" y="188"/>
                        </a:lnTo>
                        <a:lnTo>
                          <a:pt x="1013" y="184"/>
                        </a:lnTo>
                        <a:lnTo>
                          <a:pt x="1007" y="180"/>
                        </a:lnTo>
                        <a:lnTo>
                          <a:pt x="999" y="175"/>
                        </a:lnTo>
                        <a:lnTo>
                          <a:pt x="993" y="171"/>
                        </a:lnTo>
                        <a:lnTo>
                          <a:pt x="985" y="167"/>
                        </a:lnTo>
                        <a:lnTo>
                          <a:pt x="978" y="163"/>
                        </a:lnTo>
                        <a:lnTo>
                          <a:pt x="970" y="158"/>
                        </a:lnTo>
                        <a:lnTo>
                          <a:pt x="962" y="155"/>
                        </a:lnTo>
                        <a:lnTo>
                          <a:pt x="955" y="149"/>
                        </a:lnTo>
                        <a:lnTo>
                          <a:pt x="949" y="145"/>
                        </a:lnTo>
                        <a:lnTo>
                          <a:pt x="941" y="141"/>
                        </a:lnTo>
                        <a:lnTo>
                          <a:pt x="935" y="137"/>
                        </a:lnTo>
                        <a:lnTo>
                          <a:pt x="927" y="133"/>
                        </a:lnTo>
                        <a:lnTo>
                          <a:pt x="920" y="129"/>
                        </a:lnTo>
                        <a:lnTo>
                          <a:pt x="912" y="123"/>
                        </a:lnTo>
                        <a:lnTo>
                          <a:pt x="906" y="119"/>
                        </a:lnTo>
                        <a:lnTo>
                          <a:pt x="898" y="115"/>
                        </a:lnTo>
                        <a:lnTo>
                          <a:pt x="890" y="111"/>
                        </a:lnTo>
                        <a:lnTo>
                          <a:pt x="883" y="107"/>
                        </a:lnTo>
                        <a:lnTo>
                          <a:pt x="877" y="103"/>
                        </a:lnTo>
                        <a:lnTo>
                          <a:pt x="869" y="97"/>
                        </a:lnTo>
                        <a:lnTo>
                          <a:pt x="861" y="93"/>
                        </a:lnTo>
                        <a:lnTo>
                          <a:pt x="854" y="89"/>
                        </a:lnTo>
                        <a:lnTo>
                          <a:pt x="848" y="85"/>
                        </a:lnTo>
                        <a:lnTo>
                          <a:pt x="840" y="79"/>
                        </a:lnTo>
                        <a:lnTo>
                          <a:pt x="832" y="77"/>
                        </a:lnTo>
                        <a:lnTo>
                          <a:pt x="825" y="71"/>
                        </a:lnTo>
                        <a:lnTo>
                          <a:pt x="819" y="67"/>
                        </a:lnTo>
                        <a:lnTo>
                          <a:pt x="811" y="63"/>
                        </a:lnTo>
                        <a:lnTo>
                          <a:pt x="803" y="59"/>
                        </a:lnTo>
                        <a:lnTo>
                          <a:pt x="796" y="55"/>
                        </a:lnTo>
                        <a:lnTo>
                          <a:pt x="790" y="50"/>
                        </a:lnTo>
                        <a:lnTo>
                          <a:pt x="782" y="45"/>
                        </a:lnTo>
                        <a:lnTo>
                          <a:pt x="774" y="41"/>
                        </a:lnTo>
                        <a:lnTo>
                          <a:pt x="767" y="37"/>
                        </a:lnTo>
                        <a:lnTo>
                          <a:pt x="760" y="33"/>
                        </a:lnTo>
                        <a:lnTo>
                          <a:pt x="753" y="29"/>
                        </a:lnTo>
                        <a:lnTo>
                          <a:pt x="745" y="24"/>
                        </a:lnTo>
                        <a:lnTo>
                          <a:pt x="738" y="20"/>
                        </a:lnTo>
                        <a:lnTo>
                          <a:pt x="731" y="16"/>
                        </a:lnTo>
                        <a:lnTo>
                          <a:pt x="724" y="12"/>
                        </a:lnTo>
                        <a:lnTo>
                          <a:pt x="716" y="8"/>
                        </a:lnTo>
                        <a:lnTo>
                          <a:pt x="710" y="2"/>
                        </a:lnTo>
                        <a:lnTo>
                          <a:pt x="702" y="0"/>
                        </a:lnTo>
                        <a:lnTo>
                          <a:pt x="693" y="5"/>
                        </a:lnTo>
                        <a:lnTo>
                          <a:pt x="684" y="11"/>
                        </a:lnTo>
                        <a:lnTo>
                          <a:pt x="675" y="18"/>
                        </a:lnTo>
                        <a:lnTo>
                          <a:pt x="666" y="23"/>
                        </a:lnTo>
                        <a:lnTo>
                          <a:pt x="656" y="29"/>
                        </a:lnTo>
                        <a:lnTo>
                          <a:pt x="647" y="35"/>
                        </a:lnTo>
                        <a:lnTo>
                          <a:pt x="637" y="41"/>
                        </a:lnTo>
                        <a:lnTo>
                          <a:pt x="627" y="48"/>
                        </a:lnTo>
                        <a:lnTo>
                          <a:pt x="618" y="53"/>
                        </a:lnTo>
                        <a:lnTo>
                          <a:pt x="609" y="60"/>
                        </a:lnTo>
                        <a:lnTo>
                          <a:pt x="600" y="66"/>
                        </a:lnTo>
                        <a:lnTo>
                          <a:pt x="591" y="72"/>
                        </a:lnTo>
                        <a:lnTo>
                          <a:pt x="581" y="78"/>
                        </a:lnTo>
                        <a:lnTo>
                          <a:pt x="571" y="85"/>
                        </a:lnTo>
                        <a:lnTo>
                          <a:pt x="562" y="90"/>
                        </a:lnTo>
                        <a:lnTo>
                          <a:pt x="552" y="97"/>
                        </a:lnTo>
                        <a:lnTo>
                          <a:pt x="543" y="103"/>
                        </a:lnTo>
                        <a:lnTo>
                          <a:pt x="534" y="110"/>
                        </a:lnTo>
                        <a:lnTo>
                          <a:pt x="525" y="115"/>
                        </a:lnTo>
                        <a:lnTo>
                          <a:pt x="516" y="122"/>
                        </a:lnTo>
                        <a:lnTo>
                          <a:pt x="507" y="127"/>
                        </a:lnTo>
                        <a:lnTo>
                          <a:pt x="496" y="134"/>
                        </a:lnTo>
                        <a:lnTo>
                          <a:pt x="487" y="140"/>
                        </a:lnTo>
                        <a:lnTo>
                          <a:pt x="477" y="147"/>
                        </a:lnTo>
                        <a:lnTo>
                          <a:pt x="468" y="152"/>
                        </a:lnTo>
                        <a:lnTo>
                          <a:pt x="459" y="159"/>
                        </a:lnTo>
                        <a:lnTo>
                          <a:pt x="450" y="164"/>
                        </a:lnTo>
                        <a:lnTo>
                          <a:pt x="441" y="171"/>
                        </a:lnTo>
                        <a:lnTo>
                          <a:pt x="430" y="177"/>
                        </a:lnTo>
                        <a:lnTo>
                          <a:pt x="421" y="184"/>
                        </a:lnTo>
                        <a:lnTo>
                          <a:pt x="412" y="189"/>
                        </a:lnTo>
                        <a:lnTo>
                          <a:pt x="403" y="196"/>
                        </a:lnTo>
                        <a:lnTo>
                          <a:pt x="393" y="201"/>
                        </a:lnTo>
                        <a:lnTo>
                          <a:pt x="384" y="208"/>
                        </a:lnTo>
                        <a:lnTo>
                          <a:pt x="375" y="214"/>
                        </a:lnTo>
                        <a:lnTo>
                          <a:pt x="366" y="221"/>
                        </a:lnTo>
                        <a:lnTo>
                          <a:pt x="357" y="226"/>
                        </a:lnTo>
                        <a:lnTo>
                          <a:pt x="347" y="233"/>
                        </a:lnTo>
                        <a:lnTo>
                          <a:pt x="337" y="239"/>
                        </a:lnTo>
                        <a:lnTo>
                          <a:pt x="328" y="245"/>
                        </a:lnTo>
                        <a:lnTo>
                          <a:pt x="318" y="251"/>
                        </a:lnTo>
                        <a:lnTo>
                          <a:pt x="309" y="258"/>
                        </a:lnTo>
                        <a:lnTo>
                          <a:pt x="300" y="263"/>
                        </a:lnTo>
                        <a:lnTo>
                          <a:pt x="291" y="270"/>
                        </a:lnTo>
                        <a:lnTo>
                          <a:pt x="282" y="276"/>
                        </a:lnTo>
                        <a:lnTo>
                          <a:pt x="272" y="282"/>
                        </a:lnTo>
                        <a:lnTo>
                          <a:pt x="262" y="288"/>
                        </a:lnTo>
                        <a:lnTo>
                          <a:pt x="254" y="295"/>
                        </a:lnTo>
                        <a:lnTo>
                          <a:pt x="245" y="300"/>
                        </a:lnTo>
                        <a:lnTo>
                          <a:pt x="234" y="307"/>
                        </a:lnTo>
                        <a:lnTo>
                          <a:pt x="225" y="313"/>
                        </a:lnTo>
                        <a:lnTo>
                          <a:pt x="216" y="320"/>
                        </a:lnTo>
                        <a:lnTo>
                          <a:pt x="207" y="325"/>
                        </a:lnTo>
                        <a:lnTo>
                          <a:pt x="198" y="332"/>
                        </a:lnTo>
                        <a:lnTo>
                          <a:pt x="188" y="337"/>
                        </a:lnTo>
                        <a:lnTo>
                          <a:pt x="179" y="344"/>
                        </a:lnTo>
                        <a:lnTo>
                          <a:pt x="170" y="350"/>
                        </a:lnTo>
                        <a:lnTo>
                          <a:pt x="159" y="357"/>
                        </a:lnTo>
                        <a:lnTo>
                          <a:pt x="150" y="362"/>
                        </a:lnTo>
                        <a:lnTo>
                          <a:pt x="141" y="369"/>
                        </a:lnTo>
                        <a:lnTo>
                          <a:pt x="132" y="374"/>
                        </a:lnTo>
                        <a:lnTo>
                          <a:pt x="123" y="381"/>
                        </a:lnTo>
                        <a:lnTo>
                          <a:pt x="113" y="387"/>
                        </a:lnTo>
                        <a:lnTo>
                          <a:pt x="104" y="39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Freeform 201"/>
                  <p:cNvSpPr/>
                  <p:nvPr/>
                </p:nvSpPr>
                <p:spPr>
                  <a:xfrm>
                    <a:off x="3938400" y="3476880"/>
                    <a:ext cx="42120" cy="22680"/>
                  </a:xfrm>
                  <a:custGeom>
                    <a:avLst/>
                    <a:gdLst>
                      <a:gd name="textAreaLeft" fmla="*/ 0 w 42120"/>
                      <a:gd name="textAreaRight" fmla="*/ 42480 w 4212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294" h="175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7" y="9"/>
                        </a:lnTo>
                        <a:lnTo>
                          <a:pt x="11" y="11"/>
                        </a:lnTo>
                        <a:lnTo>
                          <a:pt x="17" y="16"/>
                        </a:lnTo>
                        <a:lnTo>
                          <a:pt x="20" y="17"/>
                        </a:lnTo>
                        <a:lnTo>
                          <a:pt x="23" y="20"/>
                        </a:lnTo>
                        <a:lnTo>
                          <a:pt x="28" y="22"/>
                        </a:lnTo>
                        <a:lnTo>
                          <a:pt x="33" y="25"/>
                        </a:lnTo>
                        <a:lnTo>
                          <a:pt x="36" y="28"/>
                        </a:lnTo>
                        <a:lnTo>
                          <a:pt x="40" y="31"/>
                        </a:lnTo>
                        <a:lnTo>
                          <a:pt x="45" y="33"/>
                        </a:lnTo>
                        <a:lnTo>
                          <a:pt x="51" y="37"/>
                        </a:lnTo>
                        <a:lnTo>
                          <a:pt x="55" y="40"/>
                        </a:lnTo>
                        <a:lnTo>
                          <a:pt x="60" y="43"/>
                        </a:lnTo>
                        <a:lnTo>
                          <a:pt x="66" y="46"/>
                        </a:lnTo>
                        <a:lnTo>
                          <a:pt x="72" y="50"/>
                        </a:lnTo>
                        <a:lnTo>
                          <a:pt x="78" y="53"/>
                        </a:lnTo>
                        <a:lnTo>
                          <a:pt x="85" y="57"/>
                        </a:lnTo>
                        <a:lnTo>
                          <a:pt x="91" y="61"/>
                        </a:lnTo>
                        <a:lnTo>
                          <a:pt x="97" y="64"/>
                        </a:lnTo>
                        <a:lnTo>
                          <a:pt x="103" y="68"/>
                        </a:lnTo>
                        <a:lnTo>
                          <a:pt x="109" y="72"/>
                        </a:lnTo>
                        <a:lnTo>
                          <a:pt x="117" y="76"/>
                        </a:lnTo>
                        <a:lnTo>
                          <a:pt x="123" y="79"/>
                        </a:lnTo>
                        <a:lnTo>
                          <a:pt x="129" y="83"/>
                        </a:lnTo>
                        <a:lnTo>
                          <a:pt x="137" y="87"/>
                        </a:lnTo>
                        <a:lnTo>
                          <a:pt x="143" y="91"/>
                        </a:lnTo>
                        <a:lnTo>
                          <a:pt x="150" y="95"/>
                        </a:lnTo>
                        <a:lnTo>
                          <a:pt x="156" y="98"/>
                        </a:lnTo>
                        <a:lnTo>
                          <a:pt x="163" y="102"/>
                        </a:lnTo>
                        <a:lnTo>
                          <a:pt x="169" y="106"/>
                        </a:lnTo>
                        <a:lnTo>
                          <a:pt x="175" y="110"/>
                        </a:lnTo>
                        <a:lnTo>
                          <a:pt x="181" y="113"/>
                        </a:lnTo>
                        <a:lnTo>
                          <a:pt x="187" y="117"/>
                        </a:lnTo>
                        <a:lnTo>
                          <a:pt x="195" y="120"/>
                        </a:lnTo>
                        <a:lnTo>
                          <a:pt x="201" y="124"/>
                        </a:lnTo>
                        <a:lnTo>
                          <a:pt x="207" y="128"/>
                        </a:lnTo>
                        <a:lnTo>
                          <a:pt x="213" y="131"/>
                        </a:lnTo>
                        <a:lnTo>
                          <a:pt x="219" y="135"/>
                        </a:lnTo>
                        <a:lnTo>
                          <a:pt x="225" y="138"/>
                        </a:lnTo>
                        <a:lnTo>
                          <a:pt x="230" y="140"/>
                        </a:lnTo>
                        <a:lnTo>
                          <a:pt x="236" y="145"/>
                        </a:lnTo>
                        <a:lnTo>
                          <a:pt x="241" y="147"/>
                        </a:lnTo>
                        <a:lnTo>
                          <a:pt x="247" y="150"/>
                        </a:lnTo>
                        <a:lnTo>
                          <a:pt x="251" y="153"/>
                        </a:lnTo>
                        <a:lnTo>
                          <a:pt x="256" y="154"/>
                        </a:lnTo>
                        <a:lnTo>
                          <a:pt x="260" y="157"/>
                        </a:lnTo>
                        <a:lnTo>
                          <a:pt x="265" y="160"/>
                        </a:lnTo>
                        <a:lnTo>
                          <a:pt x="268" y="162"/>
                        </a:lnTo>
                        <a:lnTo>
                          <a:pt x="273" y="164"/>
                        </a:lnTo>
                        <a:lnTo>
                          <a:pt x="276" y="167"/>
                        </a:lnTo>
                        <a:lnTo>
                          <a:pt x="280" y="168"/>
                        </a:lnTo>
                        <a:lnTo>
                          <a:pt x="285" y="171"/>
                        </a:lnTo>
                        <a:lnTo>
                          <a:pt x="289" y="173"/>
                        </a:lnTo>
                        <a:lnTo>
                          <a:pt x="293" y="175"/>
                        </a:lnTo>
                        <a:lnTo>
                          <a:pt x="294" y="175"/>
                        </a:lnTo>
                        <a:lnTo>
                          <a:pt x="289" y="171"/>
                        </a:lnTo>
                        <a:lnTo>
                          <a:pt x="277" y="164"/>
                        </a:lnTo>
                        <a:lnTo>
                          <a:pt x="247" y="143"/>
                        </a:lnTo>
                        <a:lnTo>
                          <a:pt x="178" y="107"/>
                        </a:lnTo>
                        <a:lnTo>
                          <a:pt x="173" y="103"/>
                        </a:lnTo>
                        <a:lnTo>
                          <a:pt x="167" y="101"/>
                        </a:lnTo>
                        <a:lnTo>
                          <a:pt x="161" y="97"/>
                        </a:lnTo>
                        <a:lnTo>
                          <a:pt x="156" y="92"/>
                        </a:lnTo>
                        <a:lnTo>
                          <a:pt x="150" y="90"/>
                        </a:lnTo>
                        <a:lnTo>
                          <a:pt x="146" y="86"/>
                        </a:lnTo>
                        <a:lnTo>
                          <a:pt x="140" y="83"/>
                        </a:lnTo>
                        <a:lnTo>
                          <a:pt x="135" y="79"/>
                        </a:lnTo>
                        <a:lnTo>
                          <a:pt x="129" y="76"/>
                        </a:lnTo>
                        <a:lnTo>
                          <a:pt x="123" y="72"/>
                        </a:lnTo>
                        <a:lnTo>
                          <a:pt x="118" y="68"/>
                        </a:lnTo>
                        <a:lnTo>
                          <a:pt x="114" y="65"/>
                        </a:lnTo>
                        <a:lnTo>
                          <a:pt x="107" y="61"/>
                        </a:lnTo>
                        <a:lnTo>
                          <a:pt x="103" y="58"/>
                        </a:lnTo>
                        <a:lnTo>
                          <a:pt x="97" y="54"/>
                        </a:lnTo>
                        <a:lnTo>
                          <a:pt x="92" y="51"/>
                        </a:lnTo>
                        <a:lnTo>
                          <a:pt x="86" y="47"/>
                        </a:lnTo>
                        <a:lnTo>
                          <a:pt x="81" y="44"/>
                        </a:lnTo>
                        <a:lnTo>
                          <a:pt x="75" y="40"/>
                        </a:lnTo>
                        <a:lnTo>
                          <a:pt x="71" y="37"/>
                        </a:lnTo>
                        <a:lnTo>
                          <a:pt x="65" y="33"/>
                        </a:lnTo>
                        <a:lnTo>
                          <a:pt x="59" y="31"/>
                        </a:lnTo>
                        <a:lnTo>
                          <a:pt x="54" y="27"/>
                        </a:lnTo>
                        <a:lnTo>
                          <a:pt x="48" y="24"/>
                        </a:lnTo>
                        <a:lnTo>
                          <a:pt x="43" y="21"/>
                        </a:lnTo>
                        <a:lnTo>
                          <a:pt x="37" y="17"/>
                        </a:lnTo>
                        <a:lnTo>
                          <a:pt x="31" y="14"/>
                        </a:lnTo>
                        <a:lnTo>
                          <a:pt x="26" y="11"/>
                        </a:lnTo>
                        <a:lnTo>
                          <a:pt x="20" y="9"/>
                        </a:lnTo>
                        <a:lnTo>
                          <a:pt x="14" y="6"/>
                        </a:lnTo>
                        <a:lnTo>
                          <a:pt x="10" y="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202"/>
                  <p:cNvSpPr/>
                  <p:nvPr/>
                </p:nvSpPr>
                <p:spPr>
                  <a:xfrm>
                    <a:off x="3849480" y="3494520"/>
                    <a:ext cx="42840" cy="248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299" h="190">
                        <a:moveTo>
                          <a:pt x="0" y="190"/>
                        </a:moveTo>
                        <a:lnTo>
                          <a:pt x="3" y="188"/>
                        </a:lnTo>
                        <a:lnTo>
                          <a:pt x="8" y="185"/>
                        </a:lnTo>
                        <a:lnTo>
                          <a:pt x="13" y="181"/>
                        </a:lnTo>
                        <a:lnTo>
                          <a:pt x="17" y="178"/>
                        </a:lnTo>
                        <a:lnTo>
                          <a:pt x="22" y="175"/>
                        </a:lnTo>
                        <a:lnTo>
                          <a:pt x="26" y="173"/>
                        </a:lnTo>
                        <a:lnTo>
                          <a:pt x="31" y="170"/>
                        </a:lnTo>
                        <a:lnTo>
                          <a:pt x="36" y="167"/>
                        </a:lnTo>
                        <a:lnTo>
                          <a:pt x="40" y="163"/>
                        </a:lnTo>
                        <a:lnTo>
                          <a:pt x="45" y="160"/>
                        </a:lnTo>
                        <a:lnTo>
                          <a:pt x="48" y="156"/>
                        </a:lnTo>
                        <a:lnTo>
                          <a:pt x="54" y="153"/>
                        </a:lnTo>
                        <a:lnTo>
                          <a:pt x="59" y="151"/>
                        </a:lnTo>
                        <a:lnTo>
                          <a:pt x="63" y="146"/>
                        </a:lnTo>
                        <a:lnTo>
                          <a:pt x="68" y="144"/>
                        </a:lnTo>
                        <a:lnTo>
                          <a:pt x="72" y="141"/>
                        </a:lnTo>
                        <a:lnTo>
                          <a:pt x="75" y="137"/>
                        </a:lnTo>
                        <a:lnTo>
                          <a:pt x="81" y="134"/>
                        </a:lnTo>
                        <a:lnTo>
                          <a:pt x="85" y="131"/>
                        </a:lnTo>
                        <a:lnTo>
                          <a:pt x="91" y="127"/>
                        </a:lnTo>
                        <a:lnTo>
                          <a:pt x="95" y="124"/>
                        </a:lnTo>
                        <a:lnTo>
                          <a:pt x="100" y="120"/>
                        </a:lnTo>
                        <a:lnTo>
                          <a:pt x="104" y="118"/>
                        </a:lnTo>
                        <a:lnTo>
                          <a:pt x="109" y="114"/>
                        </a:lnTo>
                        <a:lnTo>
                          <a:pt x="114" y="111"/>
                        </a:lnTo>
                        <a:lnTo>
                          <a:pt x="118" y="107"/>
                        </a:lnTo>
                        <a:lnTo>
                          <a:pt x="123" y="104"/>
                        </a:lnTo>
                        <a:lnTo>
                          <a:pt x="129" y="100"/>
                        </a:lnTo>
                        <a:lnTo>
                          <a:pt x="133" y="97"/>
                        </a:lnTo>
                        <a:lnTo>
                          <a:pt x="138" y="93"/>
                        </a:lnTo>
                        <a:lnTo>
                          <a:pt x="143" y="90"/>
                        </a:lnTo>
                        <a:lnTo>
                          <a:pt x="147" y="87"/>
                        </a:lnTo>
                        <a:lnTo>
                          <a:pt x="152" y="83"/>
                        </a:lnTo>
                        <a:lnTo>
                          <a:pt x="158" y="81"/>
                        </a:lnTo>
                        <a:lnTo>
                          <a:pt x="161" y="76"/>
                        </a:lnTo>
                        <a:lnTo>
                          <a:pt x="167" y="74"/>
                        </a:lnTo>
                        <a:lnTo>
                          <a:pt x="172" y="70"/>
                        </a:lnTo>
                        <a:lnTo>
                          <a:pt x="176" y="67"/>
                        </a:lnTo>
                        <a:lnTo>
                          <a:pt x="181" y="63"/>
                        </a:lnTo>
                        <a:lnTo>
                          <a:pt x="185" y="60"/>
                        </a:lnTo>
                        <a:lnTo>
                          <a:pt x="190" y="57"/>
                        </a:lnTo>
                        <a:lnTo>
                          <a:pt x="195" y="53"/>
                        </a:lnTo>
                        <a:lnTo>
                          <a:pt x="201" y="50"/>
                        </a:lnTo>
                        <a:lnTo>
                          <a:pt x="205" y="48"/>
                        </a:lnTo>
                        <a:lnTo>
                          <a:pt x="210" y="45"/>
                        </a:lnTo>
                        <a:lnTo>
                          <a:pt x="216" y="41"/>
                        </a:lnTo>
                        <a:lnTo>
                          <a:pt x="219" y="38"/>
                        </a:lnTo>
                        <a:lnTo>
                          <a:pt x="225" y="35"/>
                        </a:lnTo>
                        <a:lnTo>
                          <a:pt x="230" y="33"/>
                        </a:lnTo>
                        <a:lnTo>
                          <a:pt x="234" y="30"/>
                        </a:lnTo>
                        <a:lnTo>
                          <a:pt x="239" y="27"/>
                        </a:lnTo>
                        <a:lnTo>
                          <a:pt x="244" y="24"/>
                        </a:lnTo>
                        <a:lnTo>
                          <a:pt x="248" y="22"/>
                        </a:lnTo>
                        <a:lnTo>
                          <a:pt x="254" y="20"/>
                        </a:lnTo>
                        <a:lnTo>
                          <a:pt x="259" y="16"/>
                        </a:lnTo>
                        <a:lnTo>
                          <a:pt x="264" y="15"/>
                        </a:lnTo>
                        <a:lnTo>
                          <a:pt x="268" y="12"/>
                        </a:lnTo>
                        <a:lnTo>
                          <a:pt x="274" y="9"/>
                        </a:lnTo>
                        <a:lnTo>
                          <a:pt x="279" y="8"/>
                        </a:lnTo>
                        <a:lnTo>
                          <a:pt x="288" y="4"/>
                        </a:lnTo>
                        <a:lnTo>
                          <a:pt x="299" y="0"/>
                        </a:lnTo>
                        <a:lnTo>
                          <a:pt x="288" y="5"/>
                        </a:lnTo>
                        <a:lnTo>
                          <a:pt x="279" y="9"/>
                        </a:lnTo>
                        <a:lnTo>
                          <a:pt x="274" y="12"/>
                        </a:lnTo>
                        <a:lnTo>
                          <a:pt x="271" y="15"/>
                        </a:lnTo>
                        <a:lnTo>
                          <a:pt x="267" y="16"/>
                        </a:lnTo>
                        <a:lnTo>
                          <a:pt x="262" y="20"/>
                        </a:lnTo>
                        <a:lnTo>
                          <a:pt x="257" y="23"/>
                        </a:lnTo>
                        <a:lnTo>
                          <a:pt x="253" y="26"/>
                        </a:lnTo>
                        <a:lnTo>
                          <a:pt x="248" y="28"/>
                        </a:lnTo>
                        <a:lnTo>
                          <a:pt x="244" y="33"/>
                        </a:lnTo>
                        <a:lnTo>
                          <a:pt x="238" y="35"/>
                        </a:lnTo>
                        <a:lnTo>
                          <a:pt x="233" y="38"/>
                        </a:lnTo>
                        <a:lnTo>
                          <a:pt x="228" y="42"/>
                        </a:lnTo>
                        <a:lnTo>
                          <a:pt x="222" y="45"/>
                        </a:lnTo>
                        <a:lnTo>
                          <a:pt x="218" y="49"/>
                        </a:lnTo>
                        <a:lnTo>
                          <a:pt x="211" y="53"/>
                        </a:lnTo>
                        <a:lnTo>
                          <a:pt x="207" y="56"/>
                        </a:lnTo>
                        <a:lnTo>
                          <a:pt x="202" y="60"/>
                        </a:lnTo>
                        <a:lnTo>
                          <a:pt x="196" y="64"/>
                        </a:lnTo>
                        <a:lnTo>
                          <a:pt x="192" y="68"/>
                        </a:lnTo>
                        <a:lnTo>
                          <a:pt x="185" y="71"/>
                        </a:lnTo>
                        <a:lnTo>
                          <a:pt x="179" y="75"/>
                        </a:lnTo>
                        <a:lnTo>
                          <a:pt x="175" y="79"/>
                        </a:lnTo>
                        <a:lnTo>
                          <a:pt x="169" y="83"/>
                        </a:lnTo>
                        <a:lnTo>
                          <a:pt x="164" y="87"/>
                        </a:lnTo>
                        <a:lnTo>
                          <a:pt x="158" y="90"/>
                        </a:lnTo>
                        <a:lnTo>
                          <a:pt x="152" y="94"/>
                        </a:lnTo>
                        <a:lnTo>
                          <a:pt x="147" y="100"/>
                        </a:lnTo>
                        <a:lnTo>
                          <a:pt x="141" y="103"/>
                        </a:lnTo>
                        <a:lnTo>
                          <a:pt x="137" y="107"/>
                        </a:lnTo>
                        <a:lnTo>
                          <a:pt x="130" y="111"/>
                        </a:lnTo>
                        <a:lnTo>
                          <a:pt x="124" y="115"/>
                        </a:lnTo>
                        <a:lnTo>
                          <a:pt x="120" y="118"/>
                        </a:lnTo>
                        <a:lnTo>
                          <a:pt x="114" y="122"/>
                        </a:lnTo>
                        <a:lnTo>
                          <a:pt x="107" y="126"/>
                        </a:lnTo>
                        <a:lnTo>
                          <a:pt x="103" y="130"/>
                        </a:lnTo>
                        <a:lnTo>
                          <a:pt x="97" y="133"/>
                        </a:lnTo>
                        <a:lnTo>
                          <a:pt x="92" y="137"/>
                        </a:lnTo>
                        <a:lnTo>
                          <a:pt x="86" y="140"/>
                        </a:lnTo>
                        <a:lnTo>
                          <a:pt x="81" y="144"/>
                        </a:lnTo>
                        <a:lnTo>
                          <a:pt x="75" y="146"/>
                        </a:lnTo>
                        <a:lnTo>
                          <a:pt x="72" y="151"/>
                        </a:lnTo>
                        <a:lnTo>
                          <a:pt x="66" y="153"/>
                        </a:lnTo>
                        <a:lnTo>
                          <a:pt x="62" y="157"/>
                        </a:lnTo>
                        <a:lnTo>
                          <a:pt x="57" y="160"/>
                        </a:lnTo>
                        <a:lnTo>
                          <a:pt x="52" y="163"/>
                        </a:lnTo>
                        <a:lnTo>
                          <a:pt x="48" y="166"/>
                        </a:lnTo>
                        <a:lnTo>
                          <a:pt x="43" y="168"/>
                        </a:lnTo>
                        <a:lnTo>
                          <a:pt x="39" y="171"/>
                        </a:lnTo>
                        <a:lnTo>
                          <a:pt x="34" y="174"/>
                        </a:lnTo>
                        <a:lnTo>
                          <a:pt x="31" y="175"/>
                        </a:lnTo>
                        <a:lnTo>
                          <a:pt x="28" y="178"/>
                        </a:lnTo>
                        <a:lnTo>
                          <a:pt x="23" y="181"/>
                        </a:lnTo>
                        <a:lnTo>
                          <a:pt x="19" y="182"/>
                        </a:lnTo>
                        <a:lnTo>
                          <a:pt x="16" y="184"/>
                        </a:lnTo>
                        <a:lnTo>
                          <a:pt x="13" y="186"/>
                        </a:lnTo>
                        <a:lnTo>
                          <a:pt x="7" y="189"/>
                        </a:lnTo>
                        <a:lnTo>
                          <a:pt x="0" y="19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03"/>
                  <p:cNvSpPr/>
                  <p:nvPr/>
                </p:nvSpPr>
                <p:spPr>
                  <a:xfrm>
                    <a:off x="3852360" y="3519360"/>
                    <a:ext cx="7200" cy="7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51" h="6">
                        <a:moveTo>
                          <a:pt x="42" y="0"/>
                        </a:moveTo>
                        <a:lnTo>
                          <a:pt x="0" y="3"/>
                        </a:lnTo>
                        <a:lnTo>
                          <a:pt x="5" y="4"/>
                        </a:lnTo>
                        <a:lnTo>
                          <a:pt x="11" y="6"/>
                        </a:lnTo>
                        <a:lnTo>
                          <a:pt x="14" y="6"/>
                        </a:lnTo>
                        <a:lnTo>
                          <a:pt x="20" y="6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35" y="6"/>
                        </a:lnTo>
                        <a:lnTo>
                          <a:pt x="42" y="6"/>
                        </a:lnTo>
                        <a:lnTo>
                          <a:pt x="51" y="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204"/>
                  <p:cNvSpPr/>
                  <p:nvPr/>
                </p:nvSpPr>
                <p:spPr>
                  <a:xfrm>
                    <a:off x="3971520" y="3488040"/>
                    <a:ext cx="6840" cy="360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49" h="30">
                        <a:moveTo>
                          <a:pt x="41" y="30"/>
                        </a:moveTo>
                        <a:lnTo>
                          <a:pt x="49" y="26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3" y="5"/>
                        </a:lnTo>
                        <a:lnTo>
                          <a:pt x="14" y="12"/>
                        </a:lnTo>
                        <a:lnTo>
                          <a:pt x="20" y="17"/>
                        </a:lnTo>
                        <a:lnTo>
                          <a:pt x="26" y="21"/>
                        </a:lnTo>
                        <a:lnTo>
                          <a:pt x="30" y="23"/>
                        </a:lnTo>
                        <a:lnTo>
                          <a:pt x="33" y="26"/>
                        </a:lnTo>
                        <a:lnTo>
                          <a:pt x="38" y="27"/>
                        </a:lnTo>
                        <a:lnTo>
                          <a:pt x="41" y="3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205"/>
                  <p:cNvSpPr/>
                  <p:nvPr/>
                </p:nvSpPr>
                <p:spPr>
                  <a:xfrm>
                    <a:off x="3990960" y="3519360"/>
                    <a:ext cx="19440" cy="108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136" h="10">
                        <a:moveTo>
                          <a:pt x="136" y="0"/>
                        </a:moveTo>
                        <a:lnTo>
                          <a:pt x="131" y="0"/>
                        </a:lnTo>
                        <a:lnTo>
                          <a:pt x="127" y="0"/>
                        </a:lnTo>
                        <a:lnTo>
                          <a:pt x="122" y="0"/>
                        </a:lnTo>
                        <a:lnTo>
                          <a:pt x="118" y="0"/>
                        </a:lnTo>
                        <a:lnTo>
                          <a:pt x="113" y="0"/>
                        </a:lnTo>
                        <a:lnTo>
                          <a:pt x="109" y="0"/>
                        </a:lnTo>
                        <a:lnTo>
                          <a:pt x="104" y="0"/>
                        </a:lnTo>
                        <a:lnTo>
                          <a:pt x="101" y="0"/>
                        </a:lnTo>
                        <a:lnTo>
                          <a:pt x="96" y="0"/>
                        </a:lnTo>
                        <a:lnTo>
                          <a:pt x="92" y="0"/>
                        </a:lnTo>
                        <a:lnTo>
                          <a:pt x="87" y="0"/>
                        </a:lnTo>
                        <a:lnTo>
                          <a:pt x="84" y="0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0" y="0"/>
                        </a:lnTo>
                        <a:lnTo>
                          <a:pt x="67" y="0"/>
                        </a:lnTo>
                        <a:lnTo>
                          <a:pt x="63" y="0"/>
                        </a:lnTo>
                        <a:lnTo>
                          <a:pt x="58" y="0"/>
                        </a:lnTo>
                        <a:lnTo>
                          <a:pt x="53" y="0"/>
                        </a:lnTo>
                        <a:lnTo>
                          <a:pt x="50" y="0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7" y="2"/>
                        </a:lnTo>
                        <a:lnTo>
                          <a:pt x="34" y="2"/>
                        </a:lnTo>
                        <a:lnTo>
                          <a:pt x="29" y="2"/>
                        </a:lnTo>
                        <a:lnTo>
                          <a:pt x="24" y="3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2" y="4"/>
                        </a:lnTo>
                        <a:lnTo>
                          <a:pt x="8" y="6"/>
                        </a:lnTo>
                        <a:lnTo>
                          <a:pt x="3" y="6"/>
                        </a:lnTo>
                        <a:lnTo>
                          <a:pt x="0" y="9"/>
                        </a:lnTo>
                        <a:lnTo>
                          <a:pt x="27" y="10"/>
                        </a:lnTo>
                        <a:lnTo>
                          <a:pt x="31" y="9"/>
                        </a:lnTo>
                        <a:lnTo>
                          <a:pt x="35" y="6"/>
                        </a:lnTo>
                        <a:lnTo>
                          <a:pt x="41" y="6"/>
                        </a:lnTo>
                        <a:lnTo>
                          <a:pt x="47" y="6"/>
                        </a:lnTo>
                        <a:lnTo>
                          <a:pt x="55" y="6"/>
                        </a:lnTo>
                        <a:lnTo>
                          <a:pt x="58" y="6"/>
                        </a:lnTo>
                        <a:lnTo>
                          <a:pt x="61" y="6"/>
                        </a:lnTo>
                        <a:lnTo>
                          <a:pt x="66" y="6"/>
                        </a:lnTo>
                        <a:lnTo>
                          <a:pt x="69" y="7"/>
                        </a:lnTo>
                        <a:lnTo>
                          <a:pt x="73" y="7"/>
                        </a:lnTo>
                        <a:lnTo>
                          <a:pt x="76" y="9"/>
                        </a:lnTo>
                        <a:lnTo>
                          <a:pt x="81" y="9"/>
                        </a:lnTo>
                        <a:lnTo>
                          <a:pt x="84" y="9"/>
                        </a:lnTo>
                        <a:lnTo>
                          <a:pt x="87" y="9"/>
                        </a:lnTo>
                        <a:lnTo>
                          <a:pt x="92" y="10"/>
                        </a:lnTo>
                        <a:lnTo>
                          <a:pt x="95" y="10"/>
                        </a:lnTo>
                        <a:lnTo>
                          <a:pt x="99" y="10"/>
                        </a:lnTo>
                        <a:lnTo>
                          <a:pt x="102" y="10"/>
                        </a:lnTo>
                        <a:lnTo>
                          <a:pt x="105" y="10"/>
                        </a:lnTo>
                        <a:lnTo>
                          <a:pt x="109" y="10"/>
                        </a:lnTo>
                        <a:lnTo>
                          <a:pt x="113" y="10"/>
                        </a:lnTo>
                        <a:lnTo>
                          <a:pt x="119" y="9"/>
                        </a:lnTo>
                        <a:lnTo>
                          <a:pt x="125" y="7"/>
                        </a:lnTo>
                        <a:lnTo>
                          <a:pt x="130" y="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206"/>
                  <p:cNvSpPr/>
                  <p:nvPr/>
                </p:nvSpPr>
                <p:spPr>
                  <a:xfrm>
                    <a:off x="3980880" y="3493080"/>
                    <a:ext cx="16200" cy="79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3" h="62">
                        <a:moveTo>
                          <a:pt x="0" y="0"/>
                        </a:moveTo>
                        <a:lnTo>
                          <a:pt x="113" y="62"/>
                        </a:lnTo>
                        <a:lnTo>
                          <a:pt x="112" y="61"/>
                        </a:lnTo>
                        <a:lnTo>
                          <a:pt x="107" y="61"/>
                        </a:lnTo>
                        <a:lnTo>
                          <a:pt x="104" y="59"/>
                        </a:lnTo>
                        <a:lnTo>
                          <a:pt x="103" y="59"/>
                        </a:lnTo>
                        <a:lnTo>
                          <a:pt x="100" y="58"/>
                        </a:lnTo>
                        <a:lnTo>
                          <a:pt x="96" y="58"/>
                        </a:lnTo>
                        <a:lnTo>
                          <a:pt x="92" y="57"/>
                        </a:lnTo>
                        <a:lnTo>
                          <a:pt x="87" y="55"/>
                        </a:lnTo>
                        <a:lnTo>
                          <a:pt x="84" y="54"/>
                        </a:lnTo>
                        <a:lnTo>
                          <a:pt x="80" y="52"/>
                        </a:lnTo>
                        <a:lnTo>
                          <a:pt x="75" y="50"/>
                        </a:lnTo>
                        <a:lnTo>
                          <a:pt x="72" y="48"/>
                        </a:lnTo>
                        <a:lnTo>
                          <a:pt x="67" y="46"/>
                        </a:lnTo>
                        <a:lnTo>
                          <a:pt x="63" y="44"/>
                        </a:lnTo>
                        <a:lnTo>
                          <a:pt x="57" y="40"/>
                        </a:lnTo>
                        <a:lnTo>
                          <a:pt x="52" y="37"/>
                        </a:lnTo>
                        <a:lnTo>
                          <a:pt x="46" y="33"/>
                        </a:lnTo>
                        <a:lnTo>
                          <a:pt x="41" y="31"/>
                        </a:lnTo>
                        <a:lnTo>
                          <a:pt x="35" y="26"/>
                        </a:lnTo>
                        <a:lnTo>
                          <a:pt x="31" y="22"/>
                        </a:lnTo>
                        <a:lnTo>
                          <a:pt x="25" y="20"/>
                        </a:lnTo>
                        <a:lnTo>
                          <a:pt x="21" y="17"/>
                        </a:lnTo>
                        <a:lnTo>
                          <a:pt x="17" y="13"/>
                        </a:lnTo>
                        <a:lnTo>
                          <a:pt x="12" y="10"/>
                        </a:lnTo>
                        <a:lnTo>
                          <a:pt x="9" y="7"/>
                        </a:lnTo>
                        <a:lnTo>
                          <a:pt x="6" y="6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207"/>
                  <p:cNvSpPr/>
                  <p:nvPr/>
                </p:nvSpPr>
                <p:spPr>
                  <a:xfrm>
                    <a:off x="3907440" y="3463560"/>
                    <a:ext cx="20880" cy="126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44" h="96">
                        <a:moveTo>
                          <a:pt x="144" y="0"/>
                        </a:moveTo>
                        <a:lnTo>
                          <a:pt x="139" y="3"/>
                        </a:lnTo>
                        <a:lnTo>
                          <a:pt x="135" y="6"/>
                        </a:lnTo>
                        <a:lnTo>
                          <a:pt x="130" y="8"/>
                        </a:lnTo>
                        <a:lnTo>
                          <a:pt x="126" y="11"/>
                        </a:lnTo>
                        <a:lnTo>
                          <a:pt x="121" y="15"/>
                        </a:lnTo>
                        <a:lnTo>
                          <a:pt x="116" y="18"/>
                        </a:lnTo>
                        <a:lnTo>
                          <a:pt x="112" y="21"/>
                        </a:lnTo>
                        <a:lnTo>
                          <a:pt x="107" y="24"/>
                        </a:lnTo>
                        <a:lnTo>
                          <a:pt x="103" y="26"/>
                        </a:lnTo>
                        <a:lnTo>
                          <a:pt x="98" y="29"/>
                        </a:lnTo>
                        <a:lnTo>
                          <a:pt x="94" y="32"/>
                        </a:lnTo>
                        <a:lnTo>
                          <a:pt x="90" y="36"/>
                        </a:lnTo>
                        <a:lnTo>
                          <a:pt x="84" y="39"/>
                        </a:lnTo>
                        <a:lnTo>
                          <a:pt x="80" y="41"/>
                        </a:lnTo>
                        <a:lnTo>
                          <a:pt x="75" y="44"/>
                        </a:lnTo>
                        <a:lnTo>
                          <a:pt x="72" y="47"/>
                        </a:lnTo>
                        <a:lnTo>
                          <a:pt x="66" y="50"/>
                        </a:lnTo>
                        <a:lnTo>
                          <a:pt x="61" y="52"/>
                        </a:lnTo>
                        <a:lnTo>
                          <a:pt x="57" y="55"/>
                        </a:lnTo>
                        <a:lnTo>
                          <a:pt x="52" y="59"/>
                        </a:lnTo>
                        <a:lnTo>
                          <a:pt x="48" y="62"/>
                        </a:lnTo>
                        <a:lnTo>
                          <a:pt x="45" y="65"/>
                        </a:lnTo>
                        <a:lnTo>
                          <a:pt x="38" y="67"/>
                        </a:lnTo>
                        <a:lnTo>
                          <a:pt x="35" y="70"/>
                        </a:lnTo>
                        <a:lnTo>
                          <a:pt x="31" y="73"/>
                        </a:lnTo>
                        <a:lnTo>
                          <a:pt x="26" y="77"/>
                        </a:lnTo>
                        <a:lnTo>
                          <a:pt x="22" y="80"/>
                        </a:lnTo>
                        <a:lnTo>
                          <a:pt x="17" y="83"/>
                        </a:lnTo>
                        <a:lnTo>
                          <a:pt x="14" y="85"/>
                        </a:lnTo>
                        <a:lnTo>
                          <a:pt x="9" y="89"/>
                        </a:lnTo>
                        <a:lnTo>
                          <a:pt x="5" y="92"/>
                        </a:lnTo>
                        <a:lnTo>
                          <a:pt x="0" y="96"/>
                        </a:lnTo>
                        <a:lnTo>
                          <a:pt x="5" y="94"/>
                        </a:lnTo>
                        <a:lnTo>
                          <a:pt x="9" y="91"/>
                        </a:lnTo>
                        <a:lnTo>
                          <a:pt x="14" y="88"/>
                        </a:lnTo>
                        <a:lnTo>
                          <a:pt x="19" y="85"/>
                        </a:lnTo>
                        <a:lnTo>
                          <a:pt x="23" y="83"/>
                        </a:lnTo>
                        <a:lnTo>
                          <a:pt x="28" y="81"/>
                        </a:lnTo>
                        <a:lnTo>
                          <a:pt x="32" y="78"/>
                        </a:lnTo>
                        <a:lnTo>
                          <a:pt x="37" y="76"/>
                        </a:lnTo>
                        <a:lnTo>
                          <a:pt x="42" y="73"/>
                        </a:lnTo>
                        <a:lnTo>
                          <a:pt x="46" y="70"/>
                        </a:lnTo>
                        <a:lnTo>
                          <a:pt x="51" y="67"/>
                        </a:lnTo>
                        <a:lnTo>
                          <a:pt x="55" y="65"/>
                        </a:lnTo>
                        <a:lnTo>
                          <a:pt x="60" y="61"/>
                        </a:lnTo>
                        <a:lnTo>
                          <a:pt x="64" y="58"/>
                        </a:lnTo>
                        <a:lnTo>
                          <a:pt x="71" y="55"/>
                        </a:lnTo>
                        <a:lnTo>
                          <a:pt x="75" y="52"/>
                        </a:lnTo>
                        <a:lnTo>
                          <a:pt x="80" y="48"/>
                        </a:lnTo>
                        <a:lnTo>
                          <a:pt x="84" y="46"/>
                        </a:lnTo>
                        <a:lnTo>
                          <a:pt x="89" y="43"/>
                        </a:lnTo>
                        <a:lnTo>
                          <a:pt x="94" y="40"/>
                        </a:lnTo>
                        <a:lnTo>
                          <a:pt x="98" y="36"/>
                        </a:lnTo>
                        <a:lnTo>
                          <a:pt x="103" y="33"/>
                        </a:lnTo>
                        <a:lnTo>
                          <a:pt x="107" y="29"/>
                        </a:lnTo>
                        <a:lnTo>
                          <a:pt x="112" y="26"/>
                        </a:lnTo>
                        <a:lnTo>
                          <a:pt x="115" y="24"/>
                        </a:lnTo>
                        <a:lnTo>
                          <a:pt x="120" y="19"/>
                        </a:lnTo>
                        <a:lnTo>
                          <a:pt x="124" y="17"/>
                        </a:lnTo>
                        <a:lnTo>
                          <a:pt x="127" y="13"/>
                        </a:lnTo>
                        <a:lnTo>
                          <a:pt x="132" y="10"/>
                        </a:lnTo>
                        <a:lnTo>
                          <a:pt x="136" y="7"/>
                        </a:lnTo>
                        <a:lnTo>
                          <a:pt x="141" y="3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Freeform 208"/>
                  <p:cNvSpPr/>
                  <p:nvPr/>
                </p:nvSpPr>
                <p:spPr>
                  <a:xfrm>
                    <a:off x="3937320" y="3520080"/>
                    <a:ext cx="30600" cy="7200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214" h="551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1" y="26"/>
                        </a:lnTo>
                        <a:lnTo>
                          <a:pt x="1" y="32"/>
                        </a:lnTo>
                        <a:lnTo>
                          <a:pt x="1" y="36"/>
                        </a:lnTo>
                        <a:lnTo>
                          <a:pt x="3" y="42"/>
                        </a:lnTo>
                        <a:lnTo>
                          <a:pt x="3" y="47"/>
                        </a:lnTo>
                        <a:lnTo>
                          <a:pt x="5" y="52"/>
                        </a:lnTo>
                        <a:lnTo>
                          <a:pt x="5" y="58"/>
                        </a:lnTo>
                        <a:lnTo>
                          <a:pt x="5" y="63"/>
                        </a:lnTo>
                        <a:lnTo>
                          <a:pt x="6" y="69"/>
                        </a:lnTo>
                        <a:lnTo>
                          <a:pt x="6" y="74"/>
                        </a:lnTo>
                        <a:lnTo>
                          <a:pt x="8" y="80"/>
                        </a:lnTo>
                        <a:lnTo>
                          <a:pt x="8" y="84"/>
                        </a:lnTo>
                        <a:lnTo>
                          <a:pt x="9" y="91"/>
                        </a:lnTo>
                        <a:lnTo>
                          <a:pt x="9" y="95"/>
                        </a:lnTo>
                        <a:lnTo>
                          <a:pt x="11" y="101"/>
                        </a:lnTo>
                        <a:lnTo>
                          <a:pt x="11" y="105"/>
                        </a:lnTo>
                        <a:lnTo>
                          <a:pt x="11" y="109"/>
                        </a:lnTo>
                        <a:lnTo>
                          <a:pt x="11" y="113"/>
                        </a:lnTo>
                        <a:lnTo>
                          <a:pt x="12" y="116"/>
                        </a:lnTo>
                        <a:lnTo>
                          <a:pt x="12" y="118"/>
                        </a:lnTo>
                        <a:lnTo>
                          <a:pt x="14" y="122"/>
                        </a:lnTo>
                        <a:lnTo>
                          <a:pt x="14" y="127"/>
                        </a:lnTo>
                        <a:lnTo>
                          <a:pt x="14" y="129"/>
                        </a:lnTo>
                        <a:lnTo>
                          <a:pt x="14" y="132"/>
                        </a:lnTo>
                        <a:lnTo>
                          <a:pt x="14" y="136"/>
                        </a:lnTo>
                        <a:lnTo>
                          <a:pt x="15" y="140"/>
                        </a:lnTo>
                        <a:lnTo>
                          <a:pt x="15" y="144"/>
                        </a:lnTo>
                        <a:lnTo>
                          <a:pt x="15" y="149"/>
                        </a:lnTo>
                        <a:lnTo>
                          <a:pt x="17" y="153"/>
                        </a:lnTo>
                        <a:lnTo>
                          <a:pt x="17" y="155"/>
                        </a:lnTo>
                        <a:lnTo>
                          <a:pt x="18" y="160"/>
                        </a:lnTo>
                        <a:lnTo>
                          <a:pt x="18" y="162"/>
                        </a:lnTo>
                        <a:lnTo>
                          <a:pt x="18" y="165"/>
                        </a:lnTo>
                        <a:lnTo>
                          <a:pt x="18" y="166"/>
                        </a:lnTo>
                        <a:lnTo>
                          <a:pt x="18" y="168"/>
                        </a:lnTo>
                        <a:lnTo>
                          <a:pt x="17" y="168"/>
                        </a:lnTo>
                        <a:lnTo>
                          <a:pt x="15" y="166"/>
                        </a:lnTo>
                        <a:lnTo>
                          <a:pt x="14" y="165"/>
                        </a:lnTo>
                        <a:lnTo>
                          <a:pt x="12" y="161"/>
                        </a:lnTo>
                        <a:lnTo>
                          <a:pt x="14" y="551"/>
                        </a:lnTo>
                        <a:lnTo>
                          <a:pt x="214" y="551"/>
                        </a:lnTo>
                        <a:lnTo>
                          <a:pt x="210" y="84"/>
                        </a:lnTo>
                        <a:lnTo>
                          <a:pt x="210" y="79"/>
                        </a:lnTo>
                        <a:lnTo>
                          <a:pt x="210" y="74"/>
                        </a:lnTo>
                        <a:lnTo>
                          <a:pt x="210" y="69"/>
                        </a:lnTo>
                        <a:lnTo>
                          <a:pt x="210" y="65"/>
                        </a:lnTo>
                        <a:lnTo>
                          <a:pt x="210" y="59"/>
                        </a:lnTo>
                        <a:lnTo>
                          <a:pt x="210" y="57"/>
                        </a:lnTo>
                        <a:lnTo>
                          <a:pt x="210" y="51"/>
                        </a:lnTo>
                        <a:lnTo>
                          <a:pt x="210" y="47"/>
                        </a:lnTo>
                        <a:lnTo>
                          <a:pt x="210" y="42"/>
                        </a:lnTo>
                        <a:lnTo>
                          <a:pt x="210" y="39"/>
                        </a:lnTo>
                        <a:lnTo>
                          <a:pt x="210" y="33"/>
                        </a:lnTo>
                        <a:lnTo>
                          <a:pt x="210" y="29"/>
                        </a:lnTo>
                        <a:lnTo>
                          <a:pt x="210" y="24"/>
                        </a:lnTo>
                        <a:lnTo>
                          <a:pt x="210" y="20"/>
                        </a:lnTo>
                        <a:lnTo>
                          <a:pt x="210" y="15"/>
                        </a:lnTo>
                        <a:lnTo>
                          <a:pt x="210" y="11"/>
                        </a:lnTo>
                        <a:lnTo>
                          <a:pt x="202" y="15"/>
                        </a:lnTo>
                        <a:lnTo>
                          <a:pt x="200" y="20"/>
                        </a:lnTo>
                        <a:lnTo>
                          <a:pt x="200" y="22"/>
                        </a:lnTo>
                        <a:lnTo>
                          <a:pt x="200" y="26"/>
                        </a:lnTo>
                        <a:lnTo>
                          <a:pt x="200" y="31"/>
                        </a:lnTo>
                        <a:lnTo>
                          <a:pt x="200" y="35"/>
                        </a:lnTo>
                        <a:lnTo>
                          <a:pt x="200" y="39"/>
                        </a:lnTo>
                        <a:lnTo>
                          <a:pt x="200" y="43"/>
                        </a:lnTo>
                        <a:lnTo>
                          <a:pt x="200" y="47"/>
                        </a:lnTo>
                        <a:lnTo>
                          <a:pt x="200" y="51"/>
                        </a:lnTo>
                        <a:lnTo>
                          <a:pt x="200" y="54"/>
                        </a:lnTo>
                        <a:lnTo>
                          <a:pt x="200" y="58"/>
                        </a:lnTo>
                        <a:lnTo>
                          <a:pt x="202" y="62"/>
                        </a:lnTo>
                        <a:lnTo>
                          <a:pt x="202" y="66"/>
                        </a:lnTo>
                        <a:lnTo>
                          <a:pt x="202" y="69"/>
                        </a:lnTo>
                        <a:lnTo>
                          <a:pt x="203" y="73"/>
                        </a:lnTo>
                        <a:lnTo>
                          <a:pt x="203" y="77"/>
                        </a:lnTo>
                        <a:lnTo>
                          <a:pt x="203" y="79"/>
                        </a:lnTo>
                        <a:lnTo>
                          <a:pt x="203" y="81"/>
                        </a:lnTo>
                        <a:lnTo>
                          <a:pt x="202" y="84"/>
                        </a:lnTo>
                        <a:lnTo>
                          <a:pt x="202" y="85"/>
                        </a:lnTo>
                        <a:lnTo>
                          <a:pt x="200" y="80"/>
                        </a:lnTo>
                        <a:lnTo>
                          <a:pt x="200" y="74"/>
                        </a:lnTo>
                        <a:lnTo>
                          <a:pt x="199" y="69"/>
                        </a:lnTo>
                        <a:lnTo>
                          <a:pt x="199" y="63"/>
                        </a:lnTo>
                        <a:lnTo>
                          <a:pt x="199" y="58"/>
                        </a:lnTo>
                        <a:lnTo>
                          <a:pt x="197" y="52"/>
                        </a:lnTo>
                        <a:lnTo>
                          <a:pt x="197" y="47"/>
                        </a:lnTo>
                        <a:lnTo>
                          <a:pt x="196" y="42"/>
                        </a:lnTo>
                        <a:lnTo>
                          <a:pt x="194" y="43"/>
                        </a:lnTo>
                        <a:lnTo>
                          <a:pt x="194" y="47"/>
                        </a:lnTo>
                        <a:lnTo>
                          <a:pt x="194" y="50"/>
                        </a:lnTo>
                        <a:lnTo>
                          <a:pt x="194" y="52"/>
                        </a:lnTo>
                        <a:lnTo>
                          <a:pt x="194" y="57"/>
                        </a:lnTo>
                        <a:lnTo>
                          <a:pt x="194" y="61"/>
                        </a:lnTo>
                        <a:lnTo>
                          <a:pt x="194" y="63"/>
                        </a:lnTo>
                        <a:lnTo>
                          <a:pt x="194" y="69"/>
                        </a:lnTo>
                        <a:lnTo>
                          <a:pt x="194" y="73"/>
                        </a:lnTo>
                        <a:lnTo>
                          <a:pt x="194" y="79"/>
                        </a:lnTo>
                        <a:lnTo>
                          <a:pt x="194" y="83"/>
                        </a:lnTo>
                        <a:lnTo>
                          <a:pt x="194" y="88"/>
                        </a:lnTo>
                        <a:lnTo>
                          <a:pt x="194" y="94"/>
                        </a:lnTo>
                        <a:lnTo>
                          <a:pt x="196" y="99"/>
                        </a:lnTo>
                        <a:lnTo>
                          <a:pt x="196" y="103"/>
                        </a:lnTo>
                        <a:lnTo>
                          <a:pt x="196" y="109"/>
                        </a:lnTo>
                        <a:lnTo>
                          <a:pt x="196" y="113"/>
                        </a:lnTo>
                        <a:lnTo>
                          <a:pt x="196" y="117"/>
                        </a:lnTo>
                        <a:lnTo>
                          <a:pt x="196" y="121"/>
                        </a:lnTo>
                        <a:lnTo>
                          <a:pt x="196" y="125"/>
                        </a:lnTo>
                        <a:lnTo>
                          <a:pt x="196" y="129"/>
                        </a:lnTo>
                        <a:lnTo>
                          <a:pt x="196" y="133"/>
                        </a:lnTo>
                        <a:lnTo>
                          <a:pt x="196" y="138"/>
                        </a:lnTo>
                        <a:lnTo>
                          <a:pt x="196" y="140"/>
                        </a:lnTo>
                        <a:lnTo>
                          <a:pt x="194" y="142"/>
                        </a:lnTo>
                        <a:lnTo>
                          <a:pt x="194" y="140"/>
                        </a:lnTo>
                        <a:lnTo>
                          <a:pt x="193" y="135"/>
                        </a:lnTo>
                        <a:lnTo>
                          <a:pt x="193" y="128"/>
                        </a:lnTo>
                        <a:lnTo>
                          <a:pt x="193" y="122"/>
                        </a:lnTo>
                        <a:lnTo>
                          <a:pt x="193" y="118"/>
                        </a:lnTo>
                        <a:lnTo>
                          <a:pt x="193" y="112"/>
                        </a:lnTo>
                        <a:lnTo>
                          <a:pt x="191" y="106"/>
                        </a:lnTo>
                        <a:lnTo>
                          <a:pt x="191" y="101"/>
                        </a:lnTo>
                        <a:lnTo>
                          <a:pt x="191" y="95"/>
                        </a:lnTo>
                        <a:lnTo>
                          <a:pt x="190" y="92"/>
                        </a:lnTo>
                        <a:lnTo>
                          <a:pt x="190" y="88"/>
                        </a:lnTo>
                        <a:lnTo>
                          <a:pt x="190" y="85"/>
                        </a:lnTo>
                        <a:lnTo>
                          <a:pt x="190" y="84"/>
                        </a:lnTo>
                        <a:lnTo>
                          <a:pt x="188" y="79"/>
                        </a:lnTo>
                        <a:lnTo>
                          <a:pt x="188" y="73"/>
                        </a:lnTo>
                        <a:lnTo>
                          <a:pt x="188" y="69"/>
                        </a:lnTo>
                        <a:lnTo>
                          <a:pt x="188" y="63"/>
                        </a:lnTo>
                        <a:lnTo>
                          <a:pt x="188" y="59"/>
                        </a:lnTo>
                        <a:lnTo>
                          <a:pt x="188" y="55"/>
                        </a:lnTo>
                        <a:lnTo>
                          <a:pt x="188" y="50"/>
                        </a:lnTo>
                        <a:lnTo>
                          <a:pt x="188" y="46"/>
                        </a:lnTo>
                        <a:lnTo>
                          <a:pt x="188" y="40"/>
                        </a:lnTo>
                        <a:lnTo>
                          <a:pt x="190" y="36"/>
                        </a:lnTo>
                        <a:lnTo>
                          <a:pt x="190" y="31"/>
                        </a:lnTo>
                        <a:lnTo>
                          <a:pt x="190" y="25"/>
                        </a:lnTo>
                        <a:lnTo>
                          <a:pt x="190" y="20"/>
                        </a:lnTo>
                        <a:lnTo>
                          <a:pt x="190" y="14"/>
                        </a:lnTo>
                        <a:lnTo>
                          <a:pt x="171" y="14"/>
                        </a:lnTo>
                        <a:lnTo>
                          <a:pt x="171" y="17"/>
                        </a:lnTo>
                        <a:lnTo>
                          <a:pt x="171" y="21"/>
                        </a:lnTo>
                        <a:lnTo>
                          <a:pt x="171" y="25"/>
                        </a:lnTo>
                        <a:lnTo>
                          <a:pt x="171" y="29"/>
                        </a:lnTo>
                        <a:lnTo>
                          <a:pt x="171" y="32"/>
                        </a:lnTo>
                        <a:lnTo>
                          <a:pt x="171" y="36"/>
                        </a:lnTo>
                        <a:lnTo>
                          <a:pt x="171" y="40"/>
                        </a:lnTo>
                        <a:lnTo>
                          <a:pt x="171" y="44"/>
                        </a:lnTo>
                        <a:lnTo>
                          <a:pt x="171" y="47"/>
                        </a:lnTo>
                        <a:lnTo>
                          <a:pt x="171" y="52"/>
                        </a:lnTo>
                        <a:lnTo>
                          <a:pt x="171" y="55"/>
                        </a:lnTo>
                        <a:lnTo>
                          <a:pt x="171" y="59"/>
                        </a:lnTo>
                        <a:lnTo>
                          <a:pt x="171" y="63"/>
                        </a:lnTo>
                        <a:lnTo>
                          <a:pt x="171" y="68"/>
                        </a:lnTo>
                        <a:lnTo>
                          <a:pt x="171" y="72"/>
                        </a:lnTo>
                        <a:lnTo>
                          <a:pt x="173" y="76"/>
                        </a:lnTo>
                        <a:lnTo>
                          <a:pt x="173" y="79"/>
                        </a:lnTo>
                        <a:lnTo>
                          <a:pt x="173" y="83"/>
                        </a:lnTo>
                        <a:lnTo>
                          <a:pt x="173" y="87"/>
                        </a:lnTo>
                        <a:lnTo>
                          <a:pt x="173" y="91"/>
                        </a:lnTo>
                        <a:lnTo>
                          <a:pt x="173" y="94"/>
                        </a:lnTo>
                        <a:lnTo>
                          <a:pt x="174" y="98"/>
                        </a:lnTo>
                        <a:lnTo>
                          <a:pt x="174" y="102"/>
                        </a:lnTo>
                        <a:lnTo>
                          <a:pt x="174" y="106"/>
                        </a:lnTo>
                        <a:lnTo>
                          <a:pt x="174" y="109"/>
                        </a:lnTo>
                        <a:lnTo>
                          <a:pt x="174" y="113"/>
                        </a:lnTo>
                        <a:lnTo>
                          <a:pt x="174" y="116"/>
                        </a:lnTo>
                        <a:lnTo>
                          <a:pt x="174" y="120"/>
                        </a:lnTo>
                        <a:lnTo>
                          <a:pt x="174" y="124"/>
                        </a:lnTo>
                        <a:lnTo>
                          <a:pt x="176" y="127"/>
                        </a:lnTo>
                        <a:lnTo>
                          <a:pt x="176" y="131"/>
                        </a:lnTo>
                        <a:lnTo>
                          <a:pt x="176" y="133"/>
                        </a:lnTo>
                        <a:lnTo>
                          <a:pt x="176" y="136"/>
                        </a:lnTo>
                        <a:lnTo>
                          <a:pt x="176" y="139"/>
                        </a:lnTo>
                        <a:lnTo>
                          <a:pt x="176" y="143"/>
                        </a:lnTo>
                        <a:lnTo>
                          <a:pt x="176" y="149"/>
                        </a:lnTo>
                        <a:lnTo>
                          <a:pt x="176" y="153"/>
                        </a:lnTo>
                        <a:lnTo>
                          <a:pt x="176" y="160"/>
                        </a:lnTo>
                        <a:lnTo>
                          <a:pt x="176" y="162"/>
                        </a:lnTo>
                        <a:lnTo>
                          <a:pt x="176" y="165"/>
                        </a:lnTo>
                        <a:lnTo>
                          <a:pt x="176" y="168"/>
                        </a:lnTo>
                        <a:lnTo>
                          <a:pt x="176" y="172"/>
                        </a:lnTo>
                        <a:lnTo>
                          <a:pt x="176" y="177"/>
                        </a:lnTo>
                        <a:lnTo>
                          <a:pt x="176" y="183"/>
                        </a:lnTo>
                        <a:lnTo>
                          <a:pt x="174" y="187"/>
                        </a:lnTo>
                        <a:lnTo>
                          <a:pt x="174" y="192"/>
                        </a:lnTo>
                        <a:lnTo>
                          <a:pt x="174" y="198"/>
                        </a:lnTo>
                        <a:lnTo>
                          <a:pt x="173" y="202"/>
                        </a:lnTo>
                        <a:lnTo>
                          <a:pt x="171" y="205"/>
                        </a:lnTo>
                        <a:lnTo>
                          <a:pt x="171" y="206"/>
                        </a:lnTo>
                        <a:lnTo>
                          <a:pt x="170" y="201"/>
                        </a:lnTo>
                        <a:lnTo>
                          <a:pt x="170" y="195"/>
                        </a:lnTo>
                        <a:lnTo>
                          <a:pt x="168" y="188"/>
                        </a:lnTo>
                        <a:lnTo>
                          <a:pt x="168" y="183"/>
                        </a:lnTo>
                        <a:lnTo>
                          <a:pt x="168" y="180"/>
                        </a:lnTo>
                        <a:lnTo>
                          <a:pt x="168" y="177"/>
                        </a:lnTo>
                        <a:lnTo>
                          <a:pt x="167" y="173"/>
                        </a:lnTo>
                        <a:lnTo>
                          <a:pt x="167" y="171"/>
                        </a:lnTo>
                        <a:lnTo>
                          <a:pt x="167" y="165"/>
                        </a:lnTo>
                        <a:lnTo>
                          <a:pt x="167" y="160"/>
                        </a:lnTo>
                        <a:lnTo>
                          <a:pt x="167" y="155"/>
                        </a:lnTo>
                        <a:lnTo>
                          <a:pt x="167" y="153"/>
                        </a:lnTo>
                        <a:lnTo>
                          <a:pt x="167" y="149"/>
                        </a:lnTo>
                        <a:lnTo>
                          <a:pt x="167" y="146"/>
                        </a:lnTo>
                        <a:lnTo>
                          <a:pt x="167" y="143"/>
                        </a:lnTo>
                        <a:lnTo>
                          <a:pt x="167" y="140"/>
                        </a:lnTo>
                        <a:lnTo>
                          <a:pt x="167" y="136"/>
                        </a:lnTo>
                        <a:lnTo>
                          <a:pt x="167" y="133"/>
                        </a:lnTo>
                        <a:lnTo>
                          <a:pt x="167" y="131"/>
                        </a:lnTo>
                        <a:lnTo>
                          <a:pt x="167" y="128"/>
                        </a:lnTo>
                        <a:lnTo>
                          <a:pt x="167" y="124"/>
                        </a:lnTo>
                        <a:lnTo>
                          <a:pt x="167" y="121"/>
                        </a:lnTo>
                        <a:lnTo>
                          <a:pt x="167" y="118"/>
                        </a:lnTo>
                        <a:lnTo>
                          <a:pt x="167" y="116"/>
                        </a:lnTo>
                        <a:lnTo>
                          <a:pt x="167" y="112"/>
                        </a:lnTo>
                        <a:lnTo>
                          <a:pt x="168" y="109"/>
                        </a:lnTo>
                        <a:lnTo>
                          <a:pt x="168" y="106"/>
                        </a:lnTo>
                        <a:lnTo>
                          <a:pt x="168" y="102"/>
                        </a:lnTo>
                        <a:lnTo>
                          <a:pt x="168" y="99"/>
                        </a:lnTo>
                        <a:lnTo>
                          <a:pt x="168" y="95"/>
                        </a:lnTo>
                        <a:lnTo>
                          <a:pt x="168" y="92"/>
                        </a:lnTo>
                        <a:lnTo>
                          <a:pt x="168" y="90"/>
                        </a:lnTo>
                        <a:lnTo>
                          <a:pt x="168" y="85"/>
                        </a:lnTo>
                        <a:lnTo>
                          <a:pt x="168" y="83"/>
                        </a:lnTo>
                        <a:lnTo>
                          <a:pt x="168" y="80"/>
                        </a:lnTo>
                        <a:lnTo>
                          <a:pt x="168" y="76"/>
                        </a:lnTo>
                        <a:lnTo>
                          <a:pt x="168" y="73"/>
                        </a:lnTo>
                        <a:lnTo>
                          <a:pt x="168" y="70"/>
                        </a:lnTo>
                        <a:lnTo>
                          <a:pt x="168" y="66"/>
                        </a:lnTo>
                        <a:lnTo>
                          <a:pt x="168" y="63"/>
                        </a:lnTo>
                        <a:lnTo>
                          <a:pt x="168" y="61"/>
                        </a:lnTo>
                        <a:lnTo>
                          <a:pt x="168" y="58"/>
                        </a:lnTo>
                        <a:lnTo>
                          <a:pt x="167" y="54"/>
                        </a:lnTo>
                        <a:lnTo>
                          <a:pt x="167" y="51"/>
                        </a:lnTo>
                        <a:lnTo>
                          <a:pt x="167" y="48"/>
                        </a:lnTo>
                        <a:lnTo>
                          <a:pt x="167" y="46"/>
                        </a:lnTo>
                        <a:lnTo>
                          <a:pt x="167" y="39"/>
                        </a:lnTo>
                        <a:lnTo>
                          <a:pt x="167" y="33"/>
                        </a:lnTo>
                        <a:lnTo>
                          <a:pt x="165" y="28"/>
                        </a:lnTo>
                        <a:lnTo>
                          <a:pt x="165" y="22"/>
                        </a:lnTo>
                        <a:lnTo>
                          <a:pt x="165" y="17"/>
                        </a:lnTo>
                        <a:lnTo>
                          <a:pt x="164" y="11"/>
                        </a:lnTo>
                        <a:lnTo>
                          <a:pt x="162" y="10"/>
                        </a:lnTo>
                        <a:lnTo>
                          <a:pt x="161" y="14"/>
                        </a:lnTo>
                        <a:lnTo>
                          <a:pt x="157" y="17"/>
                        </a:lnTo>
                        <a:lnTo>
                          <a:pt x="156" y="18"/>
                        </a:lnTo>
                        <a:lnTo>
                          <a:pt x="154" y="20"/>
                        </a:lnTo>
                        <a:lnTo>
                          <a:pt x="154" y="22"/>
                        </a:lnTo>
                        <a:lnTo>
                          <a:pt x="153" y="26"/>
                        </a:lnTo>
                        <a:lnTo>
                          <a:pt x="153" y="29"/>
                        </a:lnTo>
                        <a:lnTo>
                          <a:pt x="153" y="32"/>
                        </a:lnTo>
                        <a:lnTo>
                          <a:pt x="153" y="36"/>
                        </a:lnTo>
                        <a:lnTo>
                          <a:pt x="153" y="39"/>
                        </a:lnTo>
                        <a:lnTo>
                          <a:pt x="153" y="43"/>
                        </a:lnTo>
                        <a:lnTo>
                          <a:pt x="156" y="105"/>
                        </a:lnTo>
                        <a:lnTo>
                          <a:pt x="156" y="109"/>
                        </a:lnTo>
                        <a:lnTo>
                          <a:pt x="156" y="114"/>
                        </a:lnTo>
                        <a:lnTo>
                          <a:pt x="156" y="120"/>
                        </a:lnTo>
                        <a:lnTo>
                          <a:pt x="156" y="125"/>
                        </a:lnTo>
                        <a:lnTo>
                          <a:pt x="156" y="129"/>
                        </a:lnTo>
                        <a:lnTo>
                          <a:pt x="156" y="135"/>
                        </a:lnTo>
                        <a:lnTo>
                          <a:pt x="156" y="140"/>
                        </a:lnTo>
                        <a:lnTo>
                          <a:pt x="156" y="144"/>
                        </a:lnTo>
                        <a:lnTo>
                          <a:pt x="154" y="150"/>
                        </a:lnTo>
                        <a:lnTo>
                          <a:pt x="154" y="155"/>
                        </a:lnTo>
                        <a:lnTo>
                          <a:pt x="154" y="160"/>
                        </a:lnTo>
                        <a:lnTo>
                          <a:pt x="154" y="165"/>
                        </a:lnTo>
                        <a:lnTo>
                          <a:pt x="153" y="171"/>
                        </a:lnTo>
                        <a:lnTo>
                          <a:pt x="153" y="175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3" y="512"/>
                        </a:lnTo>
                        <a:lnTo>
                          <a:pt x="78" y="515"/>
                        </a:lnTo>
                        <a:lnTo>
                          <a:pt x="73" y="66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2" y="57"/>
                        </a:lnTo>
                        <a:lnTo>
                          <a:pt x="72" y="54"/>
                        </a:lnTo>
                        <a:lnTo>
                          <a:pt x="70" y="50"/>
                        </a:lnTo>
                        <a:lnTo>
                          <a:pt x="70" y="47"/>
                        </a:lnTo>
                        <a:lnTo>
                          <a:pt x="69" y="43"/>
                        </a:lnTo>
                        <a:lnTo>
                          <a:pt x="69" y="40"/>
                        </a:lnTo>
                        <a:lnTo>
                          <a:pt x="69" y="37"/>
                        </a:lnTo>
                        <a:lnTo>
                          <a:pt x="69" y="33"/>
                        </a:lnTo>
                        <a:lnTo>
                          <a:pt x="67" y="31"/>
                        </a:lnTo>
                        <a:lnTo>
                          <a:pt x="67" y="28"/>
                        </a:lnTo>
                        <a:lnTo>
                          <a:pt x="66" y="21"/>
                        </a:lnTo>
                        <a:lnTo>
                          <a:pt x="66" y="1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209"/>
                  <p:cNvSpPr/>
                  <p:nvPr/>
                </p:nvSpPr>
                <p:spPr>
                  <a:xfrm>
                    <a:off x="3863160" y="3562200"/>
                    <a:ext cx="1800" cy="230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12" h="178">
                        <a:moveTo>
                          <a:pt x="4" y="176"/>
                        </a:moveTo>
                        <a:lnTo>
                          <a:pt x="7" y="178"/>
                        </a:lnTo>
                        <a:lnTo>
                          <a:pt x="9" y="176"/>
                        </a:lnTo>
                        <a:lnTo>
                          <a:pt x="9" y="175"/>
                        </a:lnTo>
                        <a:lnTo>
                          <a:pt x="9" y="172"/>
                        </a:lnTo>
                        <a:lnTo>
                          <a:pt x="9" y="167"/>
                        </a:lnTo>
                        <a:lnTo>
                          <a:pt x="9" y="161"/>
                        </a:lnTo>
                        <a:lnTo>
                          <a:pt x="9" y="156"/>
                        </a:lnTo>
                        <a:lnTo>
                          <a:pt x="9" y="150"/>
                        </a:lnTo>
                        <a:lnTo>
                          <a:pt x="9" y="145"/>
                        </a:lnTo>
                        <a:lnTo>
                          <a:pt x="9" y="139"/>
                        </a:lnTo>
                        <a:lnTo>
                          <a:pt x="9" y="134"/>
                        </a:lnTo>
                        <a:lnTo>
                          <a:pt x="10" y="129"/>
                        </a:lnTo>
                        <a:lnTo>
                          <a:pt x="10" y="124"/>
                        </a:lnTo>
                        <a:lnTo>
                          <a:pt x="10" y="118"/>
                        </a:lnTo>
                        <a:lnTo>
                          <a:pt x="10" y="112"/>
                        </a:lnTo>
                        <a:lnTo>
                          <a:pt x="10" y="108"/>
                        </a:lnTo>
                        <a:lnTo>
                          <a:pt x="10" y="102"/>
                        </a:lnTo>
                        <a:lnTo>
                          <a:pt x="10" y="97"/>
                        </a:lnTo>
                        <a:lnTo>
                          <a:pt x="10" y="91"/>
                        </a:lnTo>
                        <a:lnTo>
                          <a:pt x="12" y="86"/>
                        </a:lnTo>
                        <a:lnTo>
                          <a:pt x="12" y="80"/>
                        </a:lnTo>
                        <a:lnTo>
                          <a:pt x="12" y="75"/>
                        </a:lnTo>
                        <a:lnTo>
                          <a:pt x="12" y="69"/>
                        </a:lnTo>
                        <a:lnTo>
                          <a:pt x="12" y="64"/>
                        </a:lnTo>
                        <a:lnTo>
                          <a:pt x="12" y="58"/>
                        </a:lnTo>
                        <a:lnTo>
                          <a:pt x="12" y="53"/>
                        </a:lnTo>
                        <a:lnTo>
                          <a:pt x="12" y="47"/>
                        </a:lnTo>
                        <a:lnTo>
                          <a:pt x="12" y="43"/>
                        </a:lnTo>
                        <a:lnTo>
                          <a:pt x="12" y="38"/>
                        </a:lnTo>
                        <a:lnTo>
                          <a:pt x="12" y="31"/>
                        </a:lnTo>
                        <a:lnTo>
                          <a:pt x="12" y="25"/>
                        </a:lnTo>
                        <a:lnTo>
                          <a:pt x="12" y="21"/>
                        </a:lnTo>
                        <a:lnTo>
                          <a:pt x="12" y="16"/>
                        </a:lnTo>
                        <a:lnTo>
                          <a:pt x="12" y="10"/>
                        </a:lnTo>
                        <a:lnTo>
                          <a:pt x="12" y="5"/>
                        </a:ln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10" y="9"/>
                        </a:lnTo>
                        <a:lnTo>
                          <a:pt x="9" y="11"/>
                        </a:lnTo>
                        <a:lnTo>
                          <a:pt x="9" y="16"/>
                        </a:lnTo>
                        <a:lnTo>
                          <a:pt x="9" y="18"/>
                        </a:lnTo>
                        <a:lnTo>
                          <a:pt x="9" y="22"/>
                        </a:lnTo>
                        <a:lnTo>
                          <a:pt x="9" y="28"/>
                        </a:lnTo>
                        <a:lnTo>
                          <a:pt x="7" y="29"/>
                        </a:lnTo>
                        <a:lnTo>
                          <a:pt x="7" y="33"/>
                        </a:lnTo>
                        <a:lnTo>
                          <a:pt x="7" y="36"/>
                        </a:lnTo>
                        <a:lnTo>
                          <a:pt x="7" y="40"/>
                        </a:lnTo>
                        <a:lnTo>
                          <a:pt x="6" y="43"/>
                        </a:lnTo>
                        <a:lnTo>
                          <a:pt x="6" y="47"/>
                        </a:lnTo>
                        <a:lnTo>
                          <a:pt x="6" y="51"/>
                        </a:lnTo>
                        <a:lnTo>
                          <a:pt x="6" y="55"/>
                        </a:lnTo>
                        <a:lnTo>
                          <a:pt x="6" y="59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4" y="70"/>
                        </a:lnTo>
                        <a:lnTo>
                          <a:pt x="3" y="73"/>
                        </a:lnTo>
                        <a:lnTo>
                          <a:pt x="3" y="77"/>
                        </a:lnTo>
                        <a:lnTo>
                          <a:pt x="3" y="81"/>
                        </a:lnTo>
                        <a:lnTo>
                          <a:pt x="3" y="84"/>
                        </a:lnTo>
                        <a:lnTo>
                          <a:pt x="1" y="91"/>
                        </a:lnTo>
                        <a:lnTo>
                          <a:pt x="1" y="95"/>
                        </a:lnTo>
                        <a:lnTo>
                          <a:pt x="1" y="99"/>
                        </a:lnTo>
                        <a:lnTo>
                          <a:pt x="1" y="102"/>
                        </a:lnTo>
                        <a:lnTo>
                          <a:pt x="1" y="106"/>
                        </a:lnTo>
                        <a:lnTo>
                          <a:pt x="0" y="110"/>
                        </a:lnTo>
                        <a:lnTo>
                          <a:pt x="0" y="114"/>
                        </a:lnTo>
                        <a:lnTo>
                          <a:pt x="0" y="120"/>
                        </a:lnTo>
                        <a:lnTo>
                          <a:pt x="0" y="124"/>
                        </a:lnTo>
                        <a:lnTo>
                          <a:pt x="0" y="129"/>
                        </a:lnTo>
                        <a:lnTo>
                          <a:pt x="1" y="134"/>
                        </a:lnTo>
                        <a:lnTo>
                          <a:pt x="1" y="139"/>
                        </a:lnTo>
                        <a:lnTo>
                          <a:pt x="1" y="143"/>
                        </a:lnTo>
                        <a:lnTo>
                          <a:pt x="1" y="149"/>
                        </a:lnTo>
                        <a:lnTo>
                          <a:pt x="3" y="153"/>
                        </a:lnTo>
                        <a:lnTo>
                          <a:pt x="3" y="158"/>
                        </a:lnTo>
                        <a:lnTo>
                          <a:pt x="3" y="162"/>
                        </a:lnTo>
                        <a:lnTo>
                          <a:pt x="4" y="168"/>
                        </a:lnTo>
                        <a:lnTo>
                          <a:pt x="4" y="172"/>
                        </a:lnTo>
                        <a:lnTo>
                          <a:pt x="4" y="1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210"/>
                  <p:cNvSpPr/>
                  <p:nvPr/>
                </p:nvSpPr>
                <p:spPr>
                  <a:xfrm>
                    <a:off x="3880440" y="3563640"/>
                    <a:ext cx="1440" cy="20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" h="161">
                        <a:moveTo>
                          <a:pt x="12" y="0"/>
                        </a:moveTo>
                        <a:lnTo>
                          <a:pt x="11" y="5"/>
                        </a:lnTo>
                        <a:lnTo>
                          <a:pt x="11" y="10"/>
                        </a:lnTo>
                        <a:lnTo>
                          <a:pt x="9" y="16"/>
                        </a:lnTo>
                        <a:lnTo>
                          <a:pt x="9" y="20"/>
                        </a:lnTo>
                        <a:lnTo>
                          <a:pt x="9" y="25"/>
                        </a:lnTo>
                        <a:lnTo>
                          <a:pt x="9" y="31"/>
                        </a:lnTo>
                        <a:lnTo>
                          <a:pt x="9" y="36"/>
                        </a:lnTo>
                        <a:lnTo>
                          <a:pt x="9" y="40"/>
                        </a:lnTo>
                        <a:lnTo>
                          <a:pt x="9" y="46"/>
                        </a:lnTo>
                        <a:lnTo>
                          <a:pt x="9" y="51"/>
                        </a:lnTo>
                        <a:lnTo>
                          <a:pt x="9" y="55"/>
                        </a:lnTo>
                        <a:lnTo>
                          <a:pt x="9" y="61"/>
                        </a:lnTo>
                        <a:lnTo>
                          <a:pt x="8" y="66"/>
                        </a:lnTo>
                        <a:lnTo>
                          <a:pt x="8" y="70"/>
                        </a:lnTo>
                        <a:lnTo>
                          <a:pt x="8" y="76"/>
                        </a:lnTo>
                        <a:lnTo>
                          <a:pt x="8" y="81"/>
                        </a:lnTo>
                        <a:lnTo>
                          <a:pt x="8" y="86"/>
                        </a:lnTo>
                        <a:lnTo>
                          <a:pt x="8" y="91"/>
                        </a:lnTo>
                        <a:lnTo>
                          <a:pt x="6" y="97"/>
                        </a:lnTo>
                        <a:lnTo>
                          <a:pt x="6" y="101"/>
                        </a:lnTo>
                        <a:lnTo>
                          <a:pt x="6" y="106"/>
                        </a:lnTo>
                        <a:lnTo>
                          <a:pt x="6" y="112"/>
                        </a:lnTo>
                        <a:lnTo>
                          <a:pt x="6" y="116"/>
                        </a:lnTo>
                        <a:lnTo>
                          <a:pt x="6" y="121"/>
                        </a:lnTo>
                        <a:lnTo>
                          <a:pt x="5" y="125"/>
                        </a:lnTo>
                        <a:lnTo>
                          <a:pt x="5" y="131"/>
                        </a:lnTo>
                        <a:lnTo>
                          <a:pt x="3" y="136"/>
                        </a:lnTo>
                        <a:lnTo>
                          <a:pt x="3" y="140"/>
                        </a:lnTo>
                        <a:lnTo>
                          <a:pt x="2" y="146"/>
                        </a:lnTo>
                        <a:lnTo>
                          <a:pt x="2" y="151"/>
                        </a:lnTo>
                        <a:lnTo>
                          <a:pt x="0" y="157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0" y="150"/>
                        </a:lnTo>
                        <a:lnTo>
                          <a:pt x="0" y="146"/>
                        </a:lnTo>
                        <a:lnTo>
                          <a:pt x="0" y="140"/>
                        </a:lnTo>
                        <a:lnTo>
                          <a:pt x="0" y="136"/>
                        </a:lnTo>
                        <a:lnTo>
                          <a:pt x="2" y="131"/>
                        </a:lnTo>
                        <a:lnTo>
                          <a:pt x="2" y="128"/>
                        </a:lnTo>
                        <a:lnTo>
                          <a:pt x="2" y="125"/>
                        </a:lnTo>
                        <a:lnTo>
                          <a:pt x="2" y="121"/>
                        </a:lnTo>
                        <a:lnTo>
                          <a:pt x="2" y="118"/>
                        </a:lnTo>
                        <a:lnTo>
                          <a:pt x="2" y="116"/>
                        </a:lnTo>
                        <a:lnTo>
                          <a:pt x="2" y="112"/>
                        </a:lnTo>
                        <a:lnTo>
                          <a:pt x="2" y="109"/>
                        </a:lnTo>
                        <a:lnTo>
                          <a:pt x="2" y="106"/>
                        </a:lnTo>
                        <a:lnTo>
                          <a:pt x="2" y="102"/>
                        </a:lnTo>
                        <a:lnTo>
                          <a:pt x="2" y="98"/>
                        </a:lnTo>
                        <a:lnTo>
                          <a:pt x="2" y="95"/>
                        </a:lnTo>
                        <a:lnTo>
                          <a:pt x="3" y="92"/>
                        </a:lnTo>
                        <a:lnTo>
                          <a:pt x="3" y="88"/>
                        </a:lnTo>
                        <a:lnTo>
                          <a:pt x="3" y="86"/>
                        </a:lnTo>
                        <a:lnTo>
                          <a:pt x="3" y="81"/>
                        </a:lnTo>
                        <a:lnTo>
                          <a:pt x="3" y="79"/>
                        </a:lnTo>
                        <a:lnTo>
                          <a:pt x="3" y="75"/>
                        </a:lnTo>
                        <a:lnTo>
                          <a:pt x="3" y="70"/>
                        </a:lnTo>
                        <a:lnTo>
                          <a:pt x="3" y="68"/>
                        </a:lnTo>
                        <a:lnTo>
                          <a:pt x="3" y="64"/>
                        </a:lnTo>
                        <a:lnTo>
                          <a:pt x="3" y="61"/>
                        </a:lnTo>
                        <a:lnTo>
                          <a:pt x="5" y="57"/>
                        </a:lnTo>
                        <a:lnTo>
                          <a:pt x="5" y="54"/>
                        </a:lnTo>
                        <a:lnTo>
                          <a:pt x="5" y="50"/>
                        </a:lnTo>
                        <a:lnTo>
                          <a:pt x="5" y="47"/>
                        </a:lnTo>
                        <a:lnTo>
                          <a:pt x="5" y="43"/>
                        </a:lnTo>
                        <a:lnTo>
                          <a:pt x="5" y="40"/>
                        </a:lnTo>
                        <a:lnTo>
                          <a:pt x="6" y="37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8"/>
                        </a:lnTo>
                        <a:lnTo>
                          <a:pt x="6" y="27"/>
                        </a:lnTo>
                        <a:lnTo>
                          <a:pt x="6" y="20"/>
                        </a:lnTo>
                        <a:lnTo>
                          <a:pt x="8" y="16"/>
                        </a:lnTo>
                        <a:lnTo>
                          <a:pt x="8" y="11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211"/>
                  <p:cNvSpPr/>
                  <p:nvPr/>
                </p:nvSpPr>
                <p:spPr>
                  <a:xfrm>
                    <a:off x="3888000" y="3486240"/>
                    <a:ext cx="83520" cy="25560"/>
                  </a:xfrm>
                  <a:custGeom>
                    <a:avLst/>
                    <a:gdLst>
                      <a:gd name="textAreaLeft" fmla="*/ 0 w 83520"/>
                      <a:gd name="textAreaRight" fmla="*/ 83880 w 8352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582" h="195">
                        <a:moveTo>
                          <a:pt x="198" y="136"/>
                        </a:moveTo>
                        <a:lnTo>
                          <a:pt x="199" y="133"/>
                        </a:lnTo>
                        <a:lnTo>
                          <a:pt x="204" y="131"/>
                        </a:lnTo>
                        <a:lnTo>
                          <a:pt x="208" y="125"/>
                        </a:lnTo>
                        <a:lnTo>
                          <a:pt x="216" y="121"/>
                        </a:lnTo>
                        <a:lnTo>
                          <a:pt x="222" y="117"/>
                        </a:lnTo>
                        <a:lnTo>
                          <a:pt x="227" y="113"/>
                        </a:lnTo>
                        <a:lnTo>
                          <a:pt x="231" y="110"/>
                        </a:lnTo>
                        <a:lnTo>
                          <a:pt x="233" y="109"/>
                        </a:lnTo>
                        <a:lnTo>
                          <a:pt x="234" y="107"/>
                        </a:lnTo>
                        <a:lnTo>
                          <a:pt x="238" y="105"/>
                        </a:lnTo>
                        <a:lnTo>
                          <a:pt x="241" y="100"/>
                        </a:lnTo>
                        <a:lnTo>
                          <a:pt x="245" y="98"/>
                        </a:lnTo>
                        <a:lnTo>
                          <a:pt x="250" y="94"/>
                        </a:lnTo>
                        <a:lnTo>
                          <a:pt x="254" y="89"/>
                        </a:lnTo>
                        <a:lnTo>
                          <a:pt x="259" y="85"/>
                        </a:lnTo>
                        <a:lnTo>
                          <a:pt x="265" y="81"/>
                        </a:lnTo>
                        <a:lnTo>
                          <a:pt x="268" y="76"/>
                        </a:lnTo>
                        <a:lnTo>
                          <a:pt x="273" y="70"/>
                        </a:lnTo>
                        <a:lnTo>
                          <a:pt x="277" y="66"/>
                        </a:lnTo>
                        <a:lnTo>
                          <a:pt x="282" y="62"/>
                        </a:lnTo>
                        <a:lnTo>
                          <a:pt x="283" y="56"/>
                        </a:lnTo>
                        <a:lnTo>
                          <a:pt x="286" y="54"/>
                        </a:lnTo>
                        <a:lnTo>
                          <a:pt x="288" y="50"/>
                        </a:lnTo>
                        <a:lnTo>
                          <a:pt x="288" y="48"/>
                        </a:lnTo>
                        <a:lnTo>
                          <a:pt x="286" y="50"/>
                        </a:lnTo>
                        <a:lnTo>
                          <a:pt x="282" y="54"/>
                        </a:lnTo>
                        <a:lnTo>
                          <a:pt x="276" y="59"/>
                        </a:lnTo>
                        <a:lnTo>
                          <a:pt x="274" y="61"/>
                        </a:lnTo>
                        <a:lnTo>
                          <a:pt x="233" y="102"/>
                        </a:lnTo>
                        <a:lnTo>
                          <a:pt x="234" y="98"/>
                        </a:lnTo>
                        <a:lnTo>
                          <a:pt x="236" y="95"/>
                        </a:lnTo>
                        <a:lnTo>
                          <a:pt x="239" y="89"/>
                        </a:lnTo>
                        <a:lnTo>
                          <a:pt x="242" y="85"/>
                        </a:lnTo>
                        <a:lnTo>
                          <a:pt x="245" y="80"/>
                        </a:lnTo>
                        <a:lnTo>
                          <a:pt x="250" y="74"/>
                        </a:lnTo>
                        <a:lnTo>
                          <a:pt x="254" y="69"/>
                        </a:lnTo>
                        <a:lnTo>
                          <a:pt x="259" y="63"/>
                        </a:lnTo>
                        <a:lnTo>
                          <a:pt x="264" y="56"/>
                        </a:lnTo>
                        <a:lnTo>
                          <a:pt x="268" y="51"/>
                        </a:lnTo>
                        <a:lnTo>
                          <a:pt x="271" y="45"/>
                        </a:lnTo>
                        <a:lnTo>
                          <a:pt x="277" y="41"/>
                        </a:lnTo>
                        <a:lnTo>
                          <a:pt x="280" y="36"/>
                        </a:lnTo>
                        <a:lnTo>
                          <a:pt x="285" y="32"/>
                        </a:lnTo>
                        <a:lnTo>
                          <a:pt x="288" y="28"/>
                        </a:lnTo>
                        <a:lnTo>
                          <a:pt x="291" y="25"/>
                        </a:lnTo>
                        <a:lnTo>
                          <a:pt x="288" y="25"/>
                        </a:lnTo>
                        <a:lnTo>
                          <a:pt x="285" y="28"/>
                        </a:lnTo>
                        <a:lnTo>
                          <a:pt x="280" y="29"/>
                        </a:lnTo>
                        <a:lnTo>
                          <a:pt x="276" y="33"/>
                        </a:lnTo>
                        <a:lnTo>
                          <a:pt x="271" y="37"/>
                        </a:lnTo>
                        <a:lnTo>
                          <a:pt x="265" y="41"/>
                        </a:lnTo>
                        <a:lnTo>
                          <a:pt x="259" y="47"/>
                        </a:lnTo>
                        <a:lnTo>
                          <a:pt x="254" y="52"/>
                        </a:lnTo>
                        <a:lnTo>
                          <a:pt x="248" y="56"/>
                        </a:lnTo>
                        <a:lnTo>
                          <a:pt x="242" y="62"/>
                        </a:lnTo>
                        <a:lnTo>
                          <a:pt x="236" y="66"/>
                        </a:lnTo>
                        <a:lnTo>
                          <a:pt x="231" y="72"/>
                        </a:lnTo>
                        <a:lnTo>
                          <a:pt x="227" y="76"/>
                        </a:lnTo>
                        <a:lnTo>
                          <a:pt x="224" y="80"/>
                        </a:lnTo>
                        <a:lnTo>
                          <a:pt x="222" y="81"/>
                        </a:lnTo>
                        <a:lnTo>
                          <a:pt x="221" y="84"/>
                        </a:lnTo>
                        <a:lnTo>
                          <a:pt x="219" y="85"/>
                        </a:lnTo>
                        <a:lnTo>
                          <a:pt x="218" y="87"/>
                        </a:lnTo>
                        <a:lnTo>
                          <a:pt x="215" y="89"/>
                        </a:lnTo>
                        <a:lnTo>
                          <a:pt x="212" y="94"/>
                        </a:lnTo>
                        <a:lnTo>
                          <a:pt x="207" y="95"/>
                        </a:lnTo>
                        <a:lnTo>
                          <a:pt x="204" y="98"/>
                        </a:lnTo>
                        <a:lnTo>
                          <a:pt x="201" y="99"/>
                        </a:lnTo>
                        <a:lnTo>
                          <a:pt x="199" y="100"/>
                        </a:lnTo>
                        <a:lnTo>
                          <a:pt x="204" y="94"/>
                        </a:lnTo>
                        <a:lnTo>
                          <a:pt x="208" y="88"/>
                        </a:lnTo>
                        <a:lnTo>
                          <a:pt x="212" y="84"/>
                        </a:lnTo>
                        <a:lnTo>
                          <a:pt x="216" y="78"/>
                        </a:lnTo>
                        <a:lnTo>
                          <a:pt x="219" y="73"/>
                        </a:lnTo>
                        <a:lnTo>
                          <a:pt x="222" y="69"/>
                        </a:lnTo>
                        <a:lnTo>
                          <a:pt x="225" y="65"/>
                        </a:lnTo>
                        <a:lnTo>
                          <a:pt x="228" y="61"/>
                        </a:lnTo>
                        <a:lnTo>
                          <a:pt x="231" y="55"/>
                        </a:lnTo>
                        <a:lnTo>
                          <a:pt x="236" y="51"/>
                        </a:lnTo>
                        <a:lnTo>
                          <a:pt x="239" y="47"/>
                        </a:lnTo>
                        <a:lnTo>
                          <a:pt x="244" y="43"/>
                        </a:lnTo>
                        <a:lnTo>
                          <a:pt x="248" y="39"/>
                        </a:lnTo>
                        <a:lnTo>
                          <a:pt x="254" y="35"/>
                        </a:lnTo>
                        <a:lnTo>
                          <a:pt x="259" y="30"/>
                        </a:lnTo>
                        <a:lnTo>
                          <a:pt x="265" y="26"/>
                        </a:lnTo>
                        <a:lnTo>
                          <a:pt x="267" y="24"/>
                        </a:lnTo>
                        <a:lnTo>
                          <a:pt x="270" y="21"/>
                        </a:lnTo>
                        <a:lnTo>
                          <a:pt x="273" y="17"/>
                        </a:lnTo>
                        <a:lnTo>
                          <a:pt x="277" y="11"/>
                        </a:lnTo>
                        <a:lnTo>
                          <a:pt x="280" y="7"/>
                        </a:lnTo>
                        <a:lnTo>
                          <a:pt x="283" y="3"/>
                        </a:lnTo>
                        <a:lnTo>
                          <a:pt x="285" y="0"/>
                        </a:lnTo>
                        <a:lnTo>
                          <a:pt x="286" y="0"/>
                        </a:lnTo>
                        <a:lnTo>
                          <a:pt x="283" y="0"/>
                        </a:lnTo>
                        <a:lnTo>
                          <a:pt x="280" y="3"/>
                        </a:lnTo>
                        <a:lnTo>
                          <a:pt x="276" y="6"/>
                        </a:lnTo>
                        <a:lnTo>
                          <a:pt x="271" y="10"/>
                        </a:lnTo>
                        <a:lnTo>
                          <a:pt x="265" y="14"/>
                        </a:lnTo>
                        <a:lnTo>
                          <a:pt x="262" y="17"/>
                        </a:lnTo>
                        <a:lnTo>
                          <a:pt x="259" y="19"/>
                        </a:lnTo>
                        <a:lnTo>
                          <a:pt x="257" y="19"/>
                        </a:lnTo>
                        <a:lnTo>
                          <a:pt x="254" y="22"/>
                        </a:lnTo>
                        <a:lnTo>
                          <a:pt x="250" y="26"/>
                        </a:lnTo>
                        <a:lnTo>
                          <a:pt x="247" y="29"/>
                        </a:lnTo>
                        <a:lnTo>
                          <a:pt x="244" y="32"/>
                        </a:lnTo>
                        <a:lnTo>
                          <a:pt x="239" y="35"/>
                        </a:lnTo>
                        <a:lnTo>
                          <a:pt x="236" y="39"/>
                        </a:lnTo>
                        <a:lnTo>
                          <a:pt x="231" y="41"/>
                        </a:lnTo>
                        <a:lnTo>
                          <a:pt x="227" y="44"/>
                        </a:lnTo>
                        <a:lnTo>
                          <a:pt x="224" y="48"/>
                        </a:lnTo>
                        <a:lnTo>
                          <a:pt x="219" y="52"/>
                        </a:lnTo>
                        <a:lnTo>
                          <a:pt x="215" y="55"/>
                        </a:lnTo>
                        <a:lnTo>
                          <a:pt x="210" y="59"/>
                        </a:lnTo>
                        <a:lnTo>
                          <a:pt x="205" y="62"/>
                        </a:lnTo>
                        <a:lnTo>
                          <a:pt x="202" y="66"/>
                        </a:lnTo>
                        <a:lnTo>
                          <a:pt x="198" y="69"/>
                        </a:lnTo>
                        <a:lnTo>
                          <a:pt x="193" y="72"/>
                        </a:lnTo>
                        <a:lnTo>
                          <a:pt x="189" y="74"/>
                        </a:lnTo>
                        <a:lnTo>
                          <a:pt x="186" y="77"/>
                        </a:lnTo>
                        <a:lnTo>
                          <a:pt x="179" y="80"/>
                        </a:lnTo>
                        <a:lnTo>
                          <a:pt x="175" y="83"/>
                        </a:lnTo>
                        <a:lnTo>
                          <a:pt x="172" y="83"/>
                        </a:lnTo>
                        <a:lnTo>
                          <a:pt x="172" y="81"/>
                        </a:lnTo>
                        <a:lnTo>
                          <a:pt x="172" y="80"/>
                        </a:lnTo>
                        <a:lnTo>
                          <a:pt x="175" y="77"/>
                        </a:lnTo>
                        <a:lnTo>
                          <a:pt x="176" y="73"/>
                        </a:lnTo>
                        <a:lnTo>
                          <a:pt x="179" y="70"/>
                        </a:lnTo>
                        <a:lnTo>
                          <a:pt x="176" y="70"/>
                        </a:lnTo>
                        <a:lnTo>
                          <a:pt x="172" y="73"/>
                        </a:lnTo>
                        <a:lnTo>
                          <a:pt x="166" y="76"/>
                        </a:lnTo>
                        <a:lnTo>
                          <a:pt x="160" y="81"/>
                        </a:lnTo>
                        <a:lnTo>
                          <a:pt x="156" y="83"/>
                        </a:lnTo>
                        <a:lnTo>
                          <a:pt x="152" y="85"/>
                        </a:lnTo>
                        <a:lnTo>
                          <a:pt x="149" y="88"/>
                        </a:lnTo>
                        <a:lnTo>
                          <a:pt x="144" y="92"/>
                        </a:lnTo>
                        <a:lnTo>
                          <a:pt x="141" y="95"/>
                        </a:lnTo>
                        <a:lnTo>
                          <a:pt x="138" y="98"/>
                        </a:lnTo>
                        <a:lnTo>
                          <a:pt x="134" y="100"/>
                        </a:lnTo>
                        <a:lnTo>
                          <a:pt x="130" y="105"/>
                        </a:lnTo>
                        <a:lnTo>
                          <a:pt x="127" y="107"/>
                        </a:lnTo>
                        <a:lnTo>
                          <a:pt x="123" y="110"/>
                        </a:lnTo>
                        <a:lnTo>
                          <a:pt x="120" y="113"/>
                        </a:lnTo>
                        <a:lnTo>
                          <a:pt x="115" y="115"/>
                        </a:lnTo>
                        <a:lnTo>
                          <a:pt x="109" y="121"/>
                        </a:lnTo>
                        <a:lnTo>
                          <a:pt x="103" y="128"/>
                        </a:lnTo>
                        <a:lnTo>
                          <a:pt x="97" y="132"/>
                        </a:lnTo>
                        <a:lnTo>
                          <a:pt x="94" y="136"/>
                        </a:lnTo>
                        <a:lnTo>
                          <a:pt x="91" y="140"/>
                        </a:lnTo>
                        <a:lnTo>
                          <a:pt x="89" y="143"/>
                        </a:lnTo>
                        <a:lnTo>
                          <a:pt x="88" y="143"/>
                        </a:lnTo>
                        <a:lnTo>
                          <a:pt x="86" y="144"/>
                        </a:lnTo>
                        <a:lnTo>
                          <a:pt x="83" y="146"/>
                        </a:lnTo>
                        <a:lnTo>
                          <a:pt x="78" y="150"/>
                        </a:lnTo>
                        <a:lnTo>
                          <a:pt x="72" y="153"/>
                        </a:lnTo>
                        <a:lnTo>
                          <a:pt x="68" y="157"/>
                        </a:lnTo>
                        <a:lnTo>
                          <a:pt x="62" y="159"/>
                        </a:lnTo>
                        <a:lnTo>
                          <a:pt x="56" y="165"/>
                        </a:lnTo>
                        <a:lnTo>
                          <a:pt x="49" y="169"/>
                        </a:lnTo>
                        <a:lnTo>
                          <a:pt x="43" y="172"/>
                        </a:lnTo>
                        <a:lnTo>
                          <a:pt x="37" y="176"/>
                        </a:lnTo>
                        <a:lnTo>
                          <a:pt x="31" y="181"/>
                        </a:lnTo>
                        <a:lnTo>
                          <a:pt x="25" y="184"/>
                        </a:lnTo>
                        <a:lnTo>
                          <a:pt x="22" y="187"/>
                        </a:lnTo>
                        <a:lnTo>
                          <a:pt x="17" y="188"/>
                        </a:lnTo>
                        <a:lnTo>
                          <a:pt x="16" y="191"/>
                        </a:lnTo>
                        <a:lnTo>
                          <a:pt x="13" y="188"/>
                        </a:lnTo>
                        <a:lnTo>
                          <a:pt x="14" y="184"/>
                        </a:lnTo>
                        <a:lnTo>
                          <a:pt x="20" y="181"/>
                        </a:lnTo>
                        <a:lnTo>
                          <a:pt x="22" y="179"/>
                        </a:lnTo>
                        <a:lnTo>
                          <a:pt x="26" y="176"/>
                        </a:lnTo>
                        <a:lnTo>
                          <a:pt x="30" y="175"/>
                        </a:lnTo>
                        <a:lnTo>
                          <a:pt x="34" y="172"/>
                        </a:lnTo>
                        <a:lnTo>
                          <a:pt x="37" y="169"/>
                        </a:lnTo>
                        <a:lnTo>
                          <a:pt x="42" y="168"/>
                        </a:lnTo>
                        <a:lnTo>
                          <a:pt x="45" y="165"/>
                        </a:lnTo>
                        <a:lnTo>
                          <a:pt x="48" y="164"/>
                        </a:lnTo>
                        <a:lnTo>
                          <a:pt x="54" y="159"/>
                        </a:lnTo>
                        <a:lnTo>
                          <a:pt x="59" y="157"/>
                        </a:lnTo>
                        <a:lnTo>
                          <a:pt x="62" y="151"/>
                        </a:lnTo>
                        <a:lnTo>
                          <a:pt x="66" y="146"/>
                        </a:lnTo>
                        <a:lnTo>
                          <a:pt x="71" y="140"/>
                        </a:lnTo>
                        <a:lnTo>
                          <a:pt x="77" y="135"/>
                        </a:lnTo>
                        <a:lnTo>
                          <a:pt x="82" y="128"/>
                        </a:lnTo>
                        <a:lnTo>
                          <a:pt x="88" y="124"/>
                        </a:lnTo>
                        <a:lnTo>
                          <a:pt x="92" y="120"/>
                        </a:lnTo>
                        <a:lnTo>
                          <a:pt x="97" y="118"/>
                        </a:lnTo>
                        <a:lnTo>
                          <a:pt x="100" y="111"/>
                        </a:lnTo>
                        <a:lnTo>
                          <a:pt x="94" y="113"/>
                        </a:lnTo>
                        <a:lnTo>
                          <a:pt x="89" y="115"/>
                        </a:lnTo>
                        <a:lnTo>
                          <a:pt x="83" y="118"/>
                        </a:lnTo>
                        <a:lnTo>
                          <a:pt x="78" y="120"/>
                        </a:lnTo>
                        <a:lnTo>
                          <a:pt x="75" y="124"/>
                        </a:lnTo>
                        <a:lnTo>
                          <a:pt x="72" y="128"/>
                        </a:lnTo>
                        <a:lnTo>
                          <a:pt x="69" y="132"/>
                        </a:lnTo>
                        <a:lnTo>
                          <a:pt x="68" y="135"/>
                        </a:lnTo>
                        <a:lnTo>
                          <a:pt x="62" y="140"/>
                        </a:lnTo>
                        <a:lnTo>
                          <a:pt x="59" y="144"/>
                        </a:lnTo>
                        <a:lnTo>
                          <a:pt x="56" y="147"/>
                        </a:lnTo>
                        <a:lnTo>
                          <a:pt x="51" y="150"/>
                        </a:lnTo>
                        <a:lnTo>
                          <a:pt x="48" y="153"/>
                        </a:lnTo>
                        <a:lnTo>
                          <a:pt x="45" y="155"/>
                        </a:lnTo>
                        <a:lnTo>
                          <a:pt x="40" y="157"/>
                        </a:lnTo>
                        <a:lnTo>
                          <a:pt x="36" y="159"/>
                        </a:lnTo>
                        <a:lnTo>
                          <a:pt x="31" y="162"/>
                        </a:lnTo>
                        <a:lnTo>
                          <a:pt x="26" y="165"/>
                        </a:lnTo>
                        <a:lnTo>
                          <a:pt x="23" y="168"/>
                        </a:lnTo>
                        <a:lnTo>
                          <a:pt x="20" y="170"/>
                        </a:lnTo>
                        <a:lnTo>
                          <a:pt x="17" y="173"/>
                        </a:lnTo>
                        <a:lnTo>
                          <a:pt x="14" y="177"/>
                        </a:lnTo>
                        <a:lnTo>
                          <a:pt x="11" y="180"/>
                        </a:lnTo>
                        <a:lnTo>
                          <a:pt x="8" y="184"/>
                        </a:lnTo>
                        <a:lnTo>
                          <a:pt x="4" y="190"/>
                        </a:lnTo>
                        <a:lnTo>
                          <a:pt x="0" y="195"/>
                        </a:lnTo>
                        <a:lnTo>
                          <a:pt x="8" y="195"/>
                        </a:lnTo>
                        <a:lnTo>
                          <a:pt x="14" y="195"/>
                        </a:lnTo>
                        <a:lnTo>
                          <a:pt x="22" y="195"/>
                        </a:lnTo>
                        <a:lnTo>
                          <a:pt x="30" y="195"/>
                        </a:lnTo>
                        <a:lnTo>
                          <a:pt x="37" y="195"/>
                        </a:lnTo>
                        <a:lnTo>
                          <a:pt x="45" y="195"/>
                        </a:lnTo>
                        <a:lnTo>
                          <a:pt x="51" y="195"/>
                        </a:lnTo>
                        <a:lnTo>
                          <a:pt x="59" y="195"/>
                        </a:lnTo>
                        <a:lnTo>
                          <a:pt x="66" y="194"/>
                        </a:lnTo>
                        <a:lnTo>
                          <a:pt x="74" y="194"/>
                        </a:lnTo>
                        <a:lnTo>
                          <a:pt x="80" y="194"/>
                        </a:lnTo>
                        <a:lnTo>
                          <a:pt x="88" y="194"/>
                        </a:lnTo>
                        <a:lnTo>
                          <a:pt x="95" y="194"/>
                        </a:lnTo>
                        <a:lnTo>
                          <a:pt x="103" y="194"/>
                        </a:lnTo>
                        <a:lnTo>
                          <a:pt x="111" y="192"/>
                        </a:lnTo>
                        <a:lnTo>
                          <a:pt x="117" y="192"/>
                        </a:lnTo>
                        <a:lnTo>
                          <a:pt x="124" y="191"/>
                        </a:lnTo>
                        <a:lnTo>
                          <a:pt x="130" y="191"/>
                        </a:lnTo>
                        <a:lnTo>
                          <a:pt x="138" y="191"/>
                        </a:lnTo>
                        <a:lnTo>
                          <a:pt x="146" y="191"/>
                        </a:lnTo>
                        <a:lnTo>
                          <a:pt x="153" y="190"/>
                        </a:lnTo>
                        <a:lnTo>
                          <a:pt x="160" y="190"/>
                        </a:lnTo>
                        <a:lnTo>
                          <a:pt x="167" y="188"/>
                        </a:lnTo>
                        <a:lnTo>
                          <a:pt x="175" y="188"/>
                        </a:lnTo>
                        <a:lnTo>
                          <a:pt x="182" y="187"/>
                        </a:lnTo>
                        <a:lnTo>
                          <a:pt x="189" y="187"/>
                        </a:lnTo>
                        <a:lnTo>
                          <a:pt x="196" y="186"/>
                        </a:lnTo>
                        <a:lnTo>
                          <a:pt x="204" y="186"/>
                        </a:lnTo>
                        <a:lnTo>
                          <a:pt x="212" y="184"/>
                        </a:lnTo>
                        <a:lnTo>
                          <a:pt x="219" y="184"/>
                        </a:lnTo>
                        <a:lnTo>
                          <a:pt x="227" y="184"/>
                        </a:lnTo>
                        <a:lnTo>
                          <a:pt x="234" y="184"/>
                        </a:lnTo>
                        <a:lnTo>
                          <a:pt x="242" y="183"/>
                        </a:lnTo>
                        <a:lnTo>
                          <a:pt x="250" y="181"/>
                        </a:lnTo>
                        <a:lnTo>
                          <a:pt x="257" y="181"/>
                        </a:lnTo>
                        <a:lnTo>
                          <a:pt x="265" y="181"/>
                        </a:lnTo>
                        <a:lnTo>
                          <a:pt x="273" y="180"/>
                        </a:lnTo>
                        <a:lnTo>
                          <a:pt x="280" y="180"/>
                        </a:lnTo>
                        <a:lnTo>
                          <a:pt x="288" y="179"/>
                        </a:lnTo>
                        <a:lnTo>
                          <a:pt x="296" y="179"/>
                        </a:lnTo>
                        <a:lnTo>
                          <a:pt x="303" y="177"/>
                        </a:lnTo>
                        <a:lnTo>
                          <a:pt x="312" y="177"/>
                        </a:lnTo>
                        <a:lnTo>
                          <a:pt x="320" y="177"/>
                        </a:lnTo>
                        <a:lnTo>
                          <a:pt x="328" y="177"/>
                        </a:lnTo>
                        <a:lnTo>
                          <a:pt x="337" y="176"/>
                        </a:lnTo>
                        <a:lnTo>
                          <a:pt x="345" y="176"/>
                        </a:lnTo>
                        <a:lnTo>
                          <a:pt x="354" y="175"/>
                        </a:lnTo>
                        <a:lnTo>
                          <a:pt x="363" y="175"/>
                        </a:lnTo>
                        <a:lnTo>
                          <a:pt x="371" y="175"/>
                        </a:lnTo>
                        <a:lnTo>
                          <a:pt x="380" y="175"/>
                        </a:lnTo>
                        <a:lnTo>
                          <a:pt x="387" y="173"/>
                        </a:lnTo>
                        <a:lnTo>
                          <a:pt x="398" y="173"/>
                        </a:lnTo>
                        <a:lnTo>
                          <a:pt x="406" y="173"/>
                        </a:lnTo>
                        <a:lnTo>
                          <a:pt x="415" y="173"/>
                        </a:lnTo>
                        <a:lnTo>
                          <a:pt x="426" y="173"/>
                        </a:lnTo>
                        <a:lnTo>
                          <a:pt x="435" y="173"/>
                        </a:lnTo>
                        <a:lnTo>
                          <a:pt x="444" y="173"/>
                        </a:lnTo>
                        <a:lnTo>
                          <a:pt x="453" y="173"/>
                        </a:lnTo>
                        <a:lnTo>
                          <a:pt x="462" y="173"/>
                        </a:lnTo>
                        <a:lnTo>
                          <a:pt x="473" y="173"/>
                        </a:lnTo>
                        <a:lnTo>
                          <a:pt x="482" y="173"/>
                        </a:lnTo>
                        <a:lnTo>
                          <a:pt x="493" y="173"/>
                        </a:lnTo>
                        <a:lnTo>
                          <a:pt x="502" y="175"/>
                        </a:lnTo>
                        <a:lnTo>
                          <a:pt x="513" y="175"/>
                        </a:lnTo>
                        <a:lnTo>
                          <a:pt x="470" y="184"/>
                        </a:lnTo>
                        <a:lnTo>
                          <a:pt x="478" y="183"/>
                        </a:lnTo>
                        <a:lnTo>
                          <a:pt x="484" y="183"/>
                        </a:lnTo>
                        <a:lnTo>
                          <a:pt x="490" y="183"/>
                        </a:lnTo>
                        <a:lnTo>
                          <a:pt x="498" y="183"/>
                        </a:lnTo>
                        <a:lnTo>
                          <a:pt x="501" y="181"/>
                        </a:lnTo>
                        <a:lnTo>
                          <a:pt x="504" y="181"/>
                        </a:lnTo>
                        <a:lnTo>
                          <a:pt x="507" y="181"/>
                        </a:lnTo>
                        <a:lnTo>
                          <a:pt x="511" y="181"/>
                        </a:lnTo>
                        <a:lnTo>
                          <a:pt x="514" y="181"/>
                        </a:lnTo>
                        <a:lnTo>
                          <a:pt x="517" y="181"/>
                        </a:lnTo>
                        <a:lnTo>
                          <a:pt x="522" y="181"/>
                        </a:lnTo>
                        <a:lnTo>
                          <a:pt x="525" y="181"/>
                        </a:lnTo>
                        <a:lnTo>
                          <a:pt x="531" y="180"/>
                        </a:lnTo>
                        <a:lnTo>
                          <a:pt x="539" y="180"/>
                        </a:lnTo>
                        <a:lnTo>
                          <a:pt x="542" y="179"/>
                        </a:lnTo>
                        <a:lnTo>
                          <a:pt x="545" y="179"/>
                        </a:lnTo>
                        <a:lnTo>
                          <a:pt x="550" y="179"/>
                        </a:lnTo>
                        <a:lnTo>
                          <a:pt x="553" y="179"/>
                        </a:lnTo>
                        <a:lnTo>
                          <a:pt x="556" y="177"/>
                        </a:lnTo>
                        <a:lnTo>
                          <a:pt x="559" y="177"/>
                        </a:lnTo>
                        <a:lnTo>
                          <a:pt x="563" y="177"/>
                        </a:lnTo>
                        <a:lnTo>
                          <a:pt x="566" y="177"/>
                        </a:lnTo>
                        <a:lnTo>
                          <a:pt x="569" y="177"/>
                        </a:lnTo>
                        <a:lnTo>
                          <a:pt x="574" y="177"/>
                        </a:lnTo>
                        <a:lnTo>
                          <a:pt x="577" y="177"/>
                        </a:lnTo>
                        <a:lnTo>
                          <a:pt x="582" y="177"/>
                        </a:lnTo>
                        <a:lnTo>
                          <a:pt x="576" y="172"/>
                        </a:lnTo>
                        <a:lnTo>
                          <a:pt x="569" y="166"/>
                        </a:lnTo>
                        <a:lnTo>
                          <a:pt x="563" y="162"/>
                        </a:lnTo>
                        <a:lnTo>
                          <a:pt x="559" y="157"/>
                        </a:lnTo>
                        <a:lnTo>
                          <a:pt x="553" y="151"/>
                        </a:lnTo>
                        <a:lnTo>
                          <a:pt x="547" y="147"/>
                        </a:lnTo>
                        <a:lnTo>
                          <a:pt x="540" y="142"/>
                        </a:lnTo>
                        <a:lnTo>
                          <a:pt x="536" y="137"/>
                        </a:lnTo>
                        <a:lnTo>
                          <a:pt x="528" y="132"/>
                        </a:lnTo>
                        <a:lnTo>
                          <a:pt x="524" y="126"/>
                        </a:lnTo>
                        <a:lnTo>
                          <a:pt x="517" y="122"/>
                        </a:lnTo>
                        <a:lnTo>
                          <a:pt x="511" y="117"/>
                        </a:lnTo>
                        <a:lnTo>
                          <a:pt x="505" y="111"/>
                        </a:lnTo>
                        <a:lnTo>
                          <a:pt x="501" y="107"/>
                        </a:lnTo>
                        <a:lnTo>
                          <a:pt x="495" y="102"/>
                        </a:lnTo>
                        <a:lnTo>
                          <a:pt x="488" y="98"/>
                        </a:lnTo>
                        <a:lnTo>
                          <a:pt x="482" y="92"/>
                        </a:lnTo>
                        <a:lnTo>
                          <a:pt x="476" y="87"/>
                        </a:lnTo>
                        <a:lnTo>
                          <a:pt x="470" y="83"/>
                        </a:lnTo>
                        <a:lnTo>
                          <a:pt x="465" y="77"/>
                        </a:lnTo>
                        <a:lnTo>
                          <a:pt x="459" y="72"/>
                        </a:lnTo>
                        <a:lnTo>
                          <a:pt x="453" y="67"/>
                        </a:lnTo>
                        <a:lnTo>
                          <a:pt x="447" y="62"/>
                        </a:lnTo>
                        <a:lnTo>
                          <a:pt x="441" y="58"/>
                        </a:lnTo>
                        <a:lnTo>
                          <a:pt x="435" y="52"/>
                        </a:lnTo>
                        <a:lnTo>
                          <a:pt x="429" y="48"/>
                        </a:lnTo>
                        <a:lnTo>
                          <a:pt x="423" y="44"/>
                        </a:lnTo>
                        <a:lnTo>
                          <a:pt x="418" y="39"/>
                        </a:lnTo>
                        <a:lnTo>
                          <a:pt x="412" y="35"/>
                        </a:lnTo>
                        <a:lnTo>
                          <a:pt x="406" y="30"/>
                        </a:lnTo>
                        <a:lnTo>
                          <a:pt x="400" y="26"/>
                        </a:lnTo>
                        <a:lnTo>
                          <a:pt x="395" y="22"/>
                        </a:lnTo>
                        <a:lnTo>
                          <a:pt x="392" y="21"/>
                        </a:lnTo>
                        <a:lnTo>
                          <a:pt x="386" y="18"/>
                        </a:lnTo>
                        <a:lnTo>
                          <a:pt x="380" y="14"/>
                        </a:lnTo>
                        <a:lnTo>
                          <a:pt x="377" y="14"/>
                        </a:lnTo>
                        <a:lnTo>
                          <a:pt x="453" y="81"/>
                        </a:lnTo>
                        <a:lnTo>
                          <a:pt x="426" y="67"/>
                        </a:lnTo>
                        <a:lnTo>
                          <a:pt x="429" y="70"/>
                        </a:lnTo>
                        <a:lnTo>
                          <a:pt x="432" y="73"/>
                        </a:lnTo>
                        <a:lnTo>
                          <a:pt x="435" y="76"/>
                        </a:lnTo>
                        <a:lnTo>
                          <a:pt x="439" y="80"/>
                        </a:lnTo>
                        <a:lnTo>
                          <a:pt x="443" y="83"/>
                        </a:lnTo>
                        <a:lnTo>
                          <a:pt x="447" y="85"/>
                        </a:lnTo>
                        <a:lnTo>
                          <a:pt x="450" y="88"/>
                        </a:lnTo>
                        <a:lnTo>
                          <a:pt x="455" y="91"/>
                        </a:lnTo>
                        <a:lnTo>
                          <a:pt x="459" y="94"/>
                        </a:lnTo>
                        <a:lnTo>
                          <a:pt x="462" y="96"/>
                        </a:lnTo>
                        <a:lnTo>
                          <a:pt x="467" y="99"/>
                        </a:lnTo>
                        <a:lnTo>
                          <a:pt x="470" y="102"/>
                        </a:lnTo>
                        <a:lnTo>
                          <a:pt x="475" y="106"/>
                        </a:lnTo>
                        <a:lnTo>
                          <a:pt x="478" y="109"/>
                        </a:lnTo>
                        <a:lnTo>
                          <a:pt x="482" y="113"/>
                        </a:lnTo>
                        <a:lnTo>
                          <a:pt x="485" y="115"/>
                        </a:lnTo>
                        <a:lnTo>
                          <a:pt x="372" y="36"/>
                        </a:lnTo>
                        <a:lnTo>
                          <a:pt x="369" y="35"/>
                        </a:lnTo>
                        <a:lnTo>
                          <a:pt x="366" y="32"/>
                        </a:lnTo>
                        <a:lnTo>
                          <a:pt x="363" y="29"/>
                        </a:lnTo>
                        <a:lnTo>
                          <a:pt x="360" y="26"/>
                        </a:lnTo>
                        <a:lnTo>
                          <a:pt x="355" y="24"/>
                        </a:lnTo>
                        <a:lnTo>
                          <a:pt x="352" y="21"/>
                        </a:lnTo>
                        <a:lnTo>
                          <a:pt x="348" y="18"/>
                        </a:lnTo>
                        <a:lnTo>
                          <a:pt x="345" y="15"/>
                        </a:lnTo>
                        <a:lnTo>
                          <a:pt x="342" y="11"/>
                        </a:lnTo>
                        <a:lnTo>
                          <a:pt x="337" y="10"/>
                        </a:lnTo>
                        <a:lnTo>
                          <a:pt x="334" y="7"/>
                        </a:lnTo>
                        <a:lnTo>
                          <a:pt x="331" y="6"/>
                        </a:lnTo>
                        <a:lnTo>
                          <a:pt x="326" y="4"/>
                        </a:lnTo>
                        <a:lnTo>
                          <a:pt x="323" y="7"/>
                        </a:lnTo>
                        <a:lnTo>
                          <a:pt x="328" y="11"/>
                        </a:lnTo>
                        <a:lnTo>
                          <a:pt x="332" y="14"/>
                        </a:lnTo>
                        <a:lnTo>
                          <a:pt x="339" y="18"/>
                        </a:lnTo>
                        <a:lnTo>
                          <a:pt x="345" y="24"/>
                        </a:lnTo>
                        <a:lnTo>
                          <a:pt x="351" y="26"/>
                        </a:lnTo>
                        <a:lnTo>
                          <a:pt x="355" y="30"/>
                        </a:lnTo>
                        <a:lnTo>
                          <a:pt x="361" y="35"/>
                        </a:lnTo>
                        <a:lnTo>
                          <a:pt x="365" y="39"/>
                        </a:lnTo>
                        <a:lnTo>
                          <a:pt x="369" y="43"/>
                        </a:lnTo>
                        <a:lnTo>
                          <a:pt x="374" y="47"/>
                        </a:lnTo>
                        <a:lnTo>
                          <a:pt x="378" y="51"/>
                        </a:lnTo>
                        <a:lnTo>
                          <a:pt x="384" y="55"/>
                        </a:lnTo>
                        <a:lnTo>
                          <a:pt x="389" y="59"/>
                        </a:lnTo>
                        <a:lnTo>
                          <a:pt x="395" y="63"/>
                        </a:lnTo>
                        <a:lnTo>
                          <a:pt x="400" y="67"/>
                        </a:lnTo>
                        <a:lnTo>
                          <a:pt x="406" y="72"/>
                        </a:lnTo>
                        <a:lnTo>
                          <a:pt x="410" y="74"/>
                        </a:lnTo>
                        <a:lnTo>
                          <a:pt x="415" y="80"/>
                        </a:lnTo>
                        <a:lnTo>
                          <a:pt x="421" y="83"/>
                        </a:lnTo>
                        <a:lnTo>
                          <a:pt x="426" y="87"/>
                        </a:lnTo>
                        <a:lnTo>
                          <a:pt x="430" y="91"/>
                        </a:lnTo>
                        <a:lnTo>
                          <a:pt x="436" y="95"/>
                        </a:lnTo>
                        <a:lnTo>
                          <a:pt x="439" y="99"/>
                        </a:lnTo>
                        <a:lnTo>
                          <a:pt x="446" y="105"/>
                        </a:lnTo>
                        <a:lnTo>
                          <a:pt x="449" y="107"/>
                        </a:lnTo>
                        <a:lnTo>
                          <a:pt x="453" y="113"/>
                        </a:lnTo>
                        <a:lnTo>
                          <a:pt x="458" y="118"/>
                        </a:lnTo>
                        <a:lnTo>
                          <a:pt x="461" y="120"/>
                        </a:lnTo>
                        <a:lnTo>
                          <a:pt x="458" y="120"/>
                        </a:lnTo>
                        <a:lnTo>
                          <a:pt x="455" y="118"/>
                        </a:lnTo>
                        <a:lnTo>
                          <a:pt x="452" y="117"/>
                        </a:lnTo>
                        <a:lnTo>
                          <a:pt x="447" y="114"/>
                        </a:lnTo>
                        <a:lnTo>
                          <a:pt x="444" y="113"/>
                        </a:lnTo>
                        <a:lnTo>
                          <a:pt x="441" y="110"/>
                        </a:lnTo>
                        <a:lnTo>
                          <a:pt x="438" y="109"/>
                        </a:lnTo>
                        <a:lnTo>
                          <a:pt x="433" y="106"/>
                        </a:lnTo>
                        <a:lnTo>
                          <a:pt x="429" y="102"/>
                        </a:lnTo>
                        <a:lnTo>
                          <a:pt x="426" y="99"/>
                        </a:lnTo>
                        <a:lnTo>
                          <a:pt x="423" y="98"/>
                        </a:lnTo>
                        <a:lnTo>
                          <a:pt x="418" y="95"/>
                        </a:lnTo>
                        <a:lnTo>
                          <a:pt x="415" y="92"/>
                        </a:lnTo>
                        <a:lnTo>
                          <a:pt x="410" y="88"/>
                        </a:lnTo>
                        <a:lnTo>
                          <a:pt x="407" y="84"/>
                        </a:lnTo>
                        <a:lnTo>
                          <a:pt x="403" y="81"/>
                        </a:lnTo>
                        <a:lnTo>
                          <a:pt x="398" y="77"/>
                        </a:lnTo>
                        <a:lnTo>
                          <a:pt x="394" y="73"/>
                        </a:lnTo>
                        <a:lnTo>
                          <a:pt x="391" y="70"/>
                        </a:lnTo>
                        <a:lnTo>
                          <a:pt x="384" y="66"/>
                        </a:lnTo>
                        <a:lnTo>
                          <a:pt x="381" y="63"/>
                        </a:lnTo>
                        <a:lnTo>
                          <a:pt x="377" y="59"/>
                        </a:lnTo>
                        <a:lnTo>
                          <a:pt x="372" y="55"/>
                        </a:lnTo>
                        <a:lnTo>
                          <a:pt x="368" y="51"/>
                        </a:lnTo>
                        <a:lnTo>
                          <a:pt x="363" y="48"/>
                        </a:lnTo>
                        <a:lnTo>
                          <a:pt x="358" y="44"/>
                        </a:lnTo>
                        <a:lnTo>
                          <a:pt x="355" y="41"/>
                        </a:lnTo>
                        <a:lnTo>
                          <a:pt x="351" y="39"/>
                        </a:lnTo>
                        <a:lnTo>
                          <a:pt x="348" y="36"/>
                        </a:lnTo>
                        <a:lnTo>
                          <a:pt x="343" y="33"/>
                        </a:lnTo>
                        <a:lnTo>
                          <a:pt x="340" y="32"/>
                        </a:lnTo>
                        <a:lnTo>
                          <a:pt x="337" y="29"/>
                        </a:lnTo>
                        <a:lnTo>
                          <a:pt x="335" y="29"/>
                        </a:lnTo>
                        <a:lnTo>
                          <a:pt x="331" y="26"/>
                        </a:lnTo>
                        <a:lnTo>
                          <a:pt x="329" y="26"/>
                        </a:lnTo>
                        <a:lnTo>
                          <a:pt x="331" y="29"/>
                        </a:lnTo>
                        <a:lnTo>
                          <a:pt x="332" y="32"/>
                        </a:lnTo>
                        <a:lnTo>
                          <a:pt x="334" y="36"/>
                        </a:lnTo>
                        <a:lnTo>
                          <a:pt x="337" y="39"/>
                        </a:lnTo>
                        <a:lnTo>
                          <a:pt x="372" y="66"/>
                        </a:lnTo>
                        <a:lnTo>
                          <a:pt x="374" y="74"/>
                        </a:lnTo>
                        <a:lnTo>
                          <a:pt x="378" y="78"/>
                        </a:lnTo>
                        <a:lnTo>
                          <a:pt x="383" y="83"/>
                        </a:lnTo>
                        <a:lnTo>
                          <a:pt x="387" y="85"/>
                        </a:lnTo>
                        <a:lnTo>
                          <a:pt x="392" y="89"/>
                        </a:lnTo>
                        <a:lnTo>
                          <a:pt x="397" y="92"/>
                        </a:lnTo>
                        <a:lnTo>
                          <a:pt x="401" y="95"/>
                        </a:lnTo>
                        <a:lnTo>
                          <a:pt x="406" y="99"/>
                        </a:lnTo>
                        <a:lnTo>
                          <a:pt x="410" y="102"/>
                        </a:lnTo>
                        <a:lnTo>
                          <a:pt x="415" y="105"/>
                        </a:lnTo>
                        <a:lnTo>
                          <a:pt x="420" y="109"/>
                        </a:lnTo>
                        <a:lnTo>
                          <a:pt x="424" y="111"/>
                        </a:lnTo>
                        <a:lnTo>
                          <a:pt x="429" y="115"/>
                        </a:lnTo>
                        <a:lnTo>
                          <a:pt x="433" y="118"/>
                        </a:lnTo>
                        <a:lnTo>
                          <a:pt x="438" y="122"/>
                        </a:lnTo>
                        <a:lnTo>
                          <a:pt x="443" y="126"/>
                        </a:lnTo>
                        <a:lnTo>
                          <a:pt x="447" y="132"/>
                        </a:lnTo>
                        <a:lnTo>
                          <a:pt x="444" y="132"/>
                        </a:lnTo>
                        <a:lnTo>
                          <a:pt x="439" y="132"/>
                        </a:lnTo>
                        <a:lnTo>
                          <a:pt x="436" y="132"/>
                        </a:lnTo>
                        <a:lnTo>
                          <a:pt x="432" y="132"/>
                        </a:lnTo>
                        <a:lnTo>
                          <a:pt x="429" y="132"/>
                        </a:lnTo>
                        <a:lnTo>
                          <a:pt x="426" y="132"/>
                        </a:lnTo>
                        <a:lnTo>
                          <a:pt x="421" y="132"/>
                        </a:lnTo>
                        <a:lnTo>
                          <a:pt x="418" y="132"/>
                        </a:lnTo>
                        <a:lnTo>
                          <a:pt x="415" y="132"/>
                        </a:lnTo>
                        <a:lnTo>
                          <a:pt x="410" y="132"/>
                        </a:lnTo>
                        <a:lnTo>
                          <a:pt x="407" y="132"/>
                        </a:lnTo>
                        <a:lnTo>
                          <a:pt x="403" y="132"/>
                        </a:lnTo>
                        <a:lnTo>
                          <a:pt x="400" y="132"/>
                        </a:lnTo>
                        <a:lnTo>
                          <a:pt x="395" y="132"/>
                        </a:lnTo>
                        <a:lnTo>
                          <a:pt x="392" y="132"/>
                        </a:lnTo>
                        <a:lnTo>
                          <a:pt x="389" y="132"/>
                        </a:lnTo>
                        <a:lnTo>
                          <a:pt x="384" y="132"/>
                        </a:lnTo>
                        <a:lnTo>
                          <a:pt x="381" y="132"/>
                        </a:lnTo>
                        <a:lnTo>
                          <a:pt x="378" y="132"/>
                        </a:lnTo>
                        <a:lnTo>
                          <a:pt x="374" y="132"/>
                        </a:lnTo>
                        <a:lnTo>
                          <a:pt x="371" y="132"/>
                        </a:lnTo>
                        <a:lnTo>
                          <a:pt x="366" y="132"/>
                        </a:lnTo>
                        <a:lnTo>
                          <a:pt x="363" y="132"/>
                        </a:lnTo>
                        <a:lnTo>
                          <a:pt x="360" y="132"/>
                        </a:lnTo>
                        <a:lnTo>
                          <a:pt x="355" y="132"/>
                        </a:lnTo>
                        <a:lnTo>
                          <a:pt x="352" y="132"/>
                        </a:lnTo>
                        <a:lnTo>
                          <a:pt x="348" y="132"/>
                        </a:lnTo>
                        <a:lnTo>
                          <a:pt x="345" y="132"/>
                        </a:lnTo>
                        <a:lnTo>
                          <a:pt x="340" y="132"/>
                        </a:lnTo>
                        <a:lnTo>
                          <a:pt x="337" y="132"/>
                        </a:lnTo>
                        <a:lnTo>
                          <a:pt x="332" y="132"/>
                        </a:lnTo>
                        <a:lnTo>
                          <a:pt x="329" y="132"/>
                        </a:lnTo>
                        <a:lnTo>
                          <a:pt x="326" y="132"/>
                        </a:lnTo>
                        <a:lnTo>
                          <a:pt x="323" y="132"/>
                        </a:lnTo>
                        <a:lnTo>
                          <a:pt x="319" y="132"/>
                        </a:lnTo>
                        <a:lnTo>
                          <a:pt x="316" y="132"/>
                        </a:lnTo>
                        <a:lnTo>
                          <a:pt x="311" y="132"/>
                        </a:lnTo>
                        <a:lnTo>
                          <a:pt x="308" y="132"/>
                        </a:lnTo>
                        <a:lnTo>
                          <a:pt x="303" y="132"/>
                        </a:lnTo>
                        <a:lnTo>
                          <a:pt x="300" y="132"/>
                        </a:lnTo>
                        <a:lnTo>
                          <a:pt x="296" y="132"/>
                        </a:lnTo>
                        <a:lnTo>
                          <a:pt x="293" y="132"/>
                        </a:lnTo>
                        <a:lnTo>
                          <a:pt x="288" y="132"/>
                        </a:lnTo>
                        <a:lnTo>
                          <a:pt x="285" y="132"/>
                        </a:lnTo>
                        <a:lnTo>
                          <a:pt x="282" y="132"/>
                        </a:lnTo>
                        <a:lnTo>
                          <a:pt x="279" y="132"/>
                        </a:lnTo>
                        <a:lnTo>
                          <a:pt x="274" y="132"/>
                        </a:lnTo>
                        <a:lnTo>
                          <a:pt x="271" y="133"/>
                        </a:lnTo>
                        <a:lnTo>
                          <a:pt x="268" y="133"/>
                        </a:lnTo>
                        <a:lnTo>
                          <a:pt x="265" y="133"/>
                        </a:lnTo>
                        <a:lnTo>
                          <a:pt x="260" y="133"/>
                        </a:lnTo>
                        <a:lnTo>
                          <a:pt x="257" y="133"/>
                        </a:lnTo>
                        <a:lnTo>
                          <a:pt x="254" y="133"/>
                        </a:lnTo>
                        <a:lnTo>
                          <a:pt x="251" y="133"/>
                        </a:lnTo>
                        <a:lnTo>
                          <a:pt x="247" y="133"/>
                        </a:lnTo>
                        <a:lnTo>
                          <a:pt x="244" y="135"/>
                        </a:lnTo>
                        <a:lnTo>
                          <a:pt x="238" y="135"/>
                        </a:lnTo>
                        <a:lnTo>
                          <a:pt x="230" y="135"/>
                        </a:lnTo>
                        <a:lnTo>
                          <a:pt x="224" y="135"/>
                        </a:lnTo>
                        <a:lnTo>
                          <a:pt x="218" y="136"/>
                        </a:lnTo>
                        <a:lnTo>
                          <a:pt x="198" y="13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212"/>
                  <p:cNvSpPr/>
                  <p:nvPr/>
                </p:nvSpPr>
                <p:spPr>
                  <a:xfrm>
                    <a:off x="3907080" y="3504240"/>
                    <a:ext cx="15120" cy="1440"/>
                  </a:xfrm>
                  <a:custGeom>
                    <a:avLst/>
                    <a:gdLst>
                      <a:gd name="textAreaLeft" fmla="*/ 0 w 15120"/>
                      <a:gd name="textAreaRight" fmla="*/ 15480 w 1512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105" h="12">
                        <a:moveTo>
                          <a:pt x="105" y="0"/>
                        </a:moveTo>
                        <a:lnTo>
                          <a:pt x="101" y="0"/>
                        </a:lnTo>
                        <a:lnTo>
                          <a:pt x="96" y="0"/>
                        </a:lnTo>
                        <a:lnTo>
                          <a:pt x="93" y="0"/>
                        </a:lnTo>
                        <a:lnTo>
                          <a:pt x="90" y="0"/>
                        </a:lnTo>
                        <a:lnTo>
                          <a:pt x="85" y="0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3" y="1"/>
                        </a:lnTo>
                        <a:lnTo>
                          <a:pt x="68" y="1"/>
                        </a:lnTo>
                        <a:lnTo>
                          <a:pt x="65" y="3"/>
                        </a:lnTo>
                        <a:lnTo>
                          <a:pt x="61" y="3"/>
                        </a:lnTo>
                        <a:lnTo>
                          <a:pt x="56" y="3"/>
                        </a:lnTo>
                        <a:lnTo>
                          <a:pt x="52" y="3"/>
                        </a:lnTo>
                        <a:lnTo>
                          <a:pt x="49" y="4"/>
                        </a:lnTo>
                        <a:lnTo>
                          <a:pt x="44" y="4"/>
                        </a:lnTo>
                        <a:lnTo>
                          <a:pt x="39" y="4"/>
                        </a:lnTo>
                        <a:lnTo>
                          <a:pt x="35" y="6"/>
                        </a:lnTo>
                        <a:lnTo>
                          <a:pt x="32" y="6"/>
                        </a:lnTo>
                        <a:lnTo>
                          <a:pt x="27" y="6"/>
                        </a:lnTo>
                        <a:lnTo>
                          <a:pt x="23" y="6"/>
                        </a:lnTo>
                        <a:lnTo>
                          <a:pt x="20" y="7"/>
                        </a:lnTo>
                        <a:lnTo>
                          <a:pt x="16" y="8"/>
                        </a:lnTo>
                        <a:lnTo>
                          <a:pt x="10" y="8"/>
                        </a:lnTo>
                        <a:lnTo>
                          <a:pt x="4" y="10"/>
                        </a:lnTo>
                        <a:lnTo>
                          <a:pt x="1" y="11"/>
                        </a:lnTo>
                        <a:lnTo>
                          <a:pt x="0" y="12"/>
                        </a:lnTo>
                        <a:lnTo>
                          <a:pt x="4" y="12"/>
                        </a:lnTo>
                        <a:lnTo>
                          <a:pt x="12" y="12"/>
                        </a:lnTo>
                        <a:lnTo>
                          <a:pt x="15" y="11"/>
                        </a:lnTo>
                        <a:lnTo>
                          <a:pt x="18" y="11"/>
                        </a:lnTo>
                        <a:lnTo>
                          <a:pt x="24" y="10"/>
                        </a:lnTo>
                        <a:lnTo>
                          <a:pt x="30" y="10"/>
                        </a:lnTo>
                        <a:lnTo>
                          <a:pt x="35" y="8"/>
                        </a:lnTo>
                        <a:lnTo>
                          <a:pt x="41" y="8"/>
                        </a:lnTo>
                        <a:lnTo>
                          <a:pt x="46" y="8"/>
                        </a:lnTo>
                        <a:lnTo>
                          <a:pt x="47" y="10"/>
                        </a:lnTo>
                        <a:lnTo>
                          <a:pt x="76" y="6"/>
                        </a:lnTo>
                        <a:lnTo>
                          <a:pt x="76" y="7"/>
                        </a:lnTo>
                        <a:lnTo>
                          <a:pt x="79" y="7"/>
                        </a:lnTo>
                        <a:lnTo>
                          <a:pt x="84" y="7"/>
                        </a:lnTo>
                        <a:lnTo>
                          <a:pt x="87" y="6"/>
                        </a:lnTo>
                        <a:lnTo>
                          <a:pt x="93" y="6"/>
                        </a:lnTo>
                        <a:lnTo>
                          <a:pt x="96" y="6"/>
                        </a:lnTo>
                        <a:lnTo>
                          <a:pt x="101" y="4"/>
                        </a:lnTo>
                        <a:lnTo>
                          <a:pt x="104" y="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213"/>
                  <p:cNvSpPr/>
                  <p:nvPr/>
                </p:nvSpPr>
                <p:spPr>
                  <a:xfrm>
                    <a:off x="3936960" y="3504600"/>
                    <a:ext cx="17640" cy="7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24" h="9">
                        <a:moveTo>
                          <a:pt x="124" y="4"/>
                        </a:moveTo>
                        <a:lnTo>
                          <a:pt x="120" y="4"/>
                        </a:lnTo>
                        <a:lnTo>
                          <a:pt x="116" y="4"/>
                        </a:lnTo>
                        <a:lnTo>
                          <a:pt x="112" y="4"/>
                        </a:lnTo>
                        <a:lnTo>
                          <a:pt x="109" y="4"/>
                        </a:lnTo>
                        <a:lnTo>
                          <a:pt x="104" y="4"/>
                        </a:lnTo>
                        <a:lnTo>
                          <a:pt x="100" y="5"/>
                        </a:lnTo>
                        <a:lnTo>
                          <a:pt x="95" y="5"/>
                        </a:lnTo>
                        <a:lnTo>
                          <a:pt x="92" y="7"/>
                        </a:lnTo>
                        <a:lnTo>
                          <a:pt x="87" y="7"/>
                        </a:lnTo>
                        <a:lnTo>
                          <a:pt x="83" y="7"/>
                        </a:lnTo>
                        <a:lnTo>
                          <a:pt x="77" y="7"/>
                        </a:lnTo>
                        <a:lnTo>
                          <a:pt x="74" y="8"/>
                        </a:lnTo>
                        <a:lnTo>
                          <a:pt x="68" y="8"/>
                        </a:lnTo>
                        <a:lnTo>
                          <a:pt x="63" y="8"/>
                        </a:lnTo>
                        <a:lnTo>
                          <a:pt x="58" y="9"/>
                        </a:lnTo>
                        <a:lnTo>
                          <a:pt x="54" y="9"/>
                        </a:lnTo>
                        <a:lnTo>
                          <a:pt x="49" y="9"/>
                        </a:lnTo>
                        <a:lnTo>
                          <a:pt x="45" y="9"/>
                        </a:lnTo>
                        <a:lnTo>
                          <a:pt x="40" y="9"/>
                        </a:lnTo>
                        <a:lnTo>
                          <a:pt x="35" y="9"/>
                        </a:lnTo>
                        <a:lnTo>
                          <a:pt x="32" y="9"/>
                        </a:lnTo>
                        <a:lnTo>
                          <a:pt x="28" y="9"/>
                        </a:lnTo>
                        <a:lnTo>
                          <a:pt x="25" y="9"/>
                        </a:lnTo>
                        <a:lnTo>
                          <a:pt x="20" y="9"/>
                        </a:lnTo>
                        <a:lnTo>
                          <a:pt x="17" y="9"/>
                        </a:lnTo>
                        <a:lnTo>
                          <a:pt x="14" y="9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3" y="7"/>
                        </a:lnTo>
                        <a:lnTo>
                          <a:pt x="0" y="4"/>
                        </a:lnTo>
                        <a:lnTo>
                          <a:pt x="5" y="4"/>
                        </a:lnTo>
                        <a:lnTo>
                          <a:pt x="8" y="4"/>
                        </a:lnTo>
                        <a:lnTo>
                          <a:pt x="12" y="4"/>
                        </a:lnTo>
                        <a:lnTo>
                          <a:pt x="17" y="4"/>
                        </a:lnTo>
                        <a:lnTo>
                          <a:pt x="20" y="4"/>
                        </a:lnTo>
                        <a:lnTo>
                          <a:pt x="25" y="4"/>
                        </a:lnTo>
                        <a:lnTo>
                          <a:pt x="29" y="4"/>
                        </a:lnTo>
                        <a:lnTo>
                          <a:pt x="32" y="4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5" y="3"/>
                        </a:lnTo>
                        <a:lnTo>
                          <a:pt x="49" y="3"/>
                        </a:lnTo>
                        <a:lnTo>
                          <a:pt x="52" y="1"/>
                        </a:lnTo>
                        <a:lnTo>
                          <a:pt x="57" y="1"/>
                        </a:lnTo>
                        <a:lnTo>
                          <a:pt x="60" y="1"/>
                        </a:lnTo>
                        <a:lnTo>
                          <a:pt x="64" y="1"/>
                        </a:lnTo>
                        <a:lnTo>
                          <a:pt x="69" y="1"/>
                        </a:lnTo>
                        <a:lnTo>
                          <a:pt x="72" y="0"/>
                        </a:lnTo>
                        <a:lnTo>
                          <a:pt x="77" y="0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5" y="0"/>
                        </a:lnTo>
                        <a:lnTo>
                          <a:pt x="98" y="0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09" y="1"/>
                        </a:lnTo>
                        <a:lnTo>
                          <a:pt x="113" y="1"/>
                        </a:lnTo>
                        <a:lnTo>
                          <a:pt x="116" y="3"/>
                        </a:lnTo>
                        <a:lnTo>
                          <a:pt x="121" y="3"/>
                        </a:lnTo>
                        <a:lnTo>
                          <a:pt x="124" y="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214"/>
                  <p:cNvSpPr/>
                  <p:nvPr/>
                </p:nvSpPr>
                <p:spPr>
                  <a:xfrm>
                    <a:off x="3839760" y="3593160"/>
                    <a:ext cx="182880" cy="28080"/>
                  </a:xfrm>
                  <a:custGeom>
                    <a:avLst/>
                    <a:gdLst>
                      <a:gd name="textAreaLeft" fmla="*/ 0 w 182880"/>
                      <a:gd name="textAreaRight" fmla="*/ 183240 w 18288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1270" h="216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0" y="11"/>
                        </a:lnTo>
                        <a:lnTo>
                          <a:pt x="2" y="17"/>
                        </a:lnTo>
                        <a:lnTo>
                          <a:pt x="2" y="22"/>
                        </a:lnTo>
                        <a:lnTo>
                          <a:pt x="2" y="28"/>
                        </a:lnTo>
                        <a:lnTo>
                          <a:pt x="3" y="34"/>
                        </a:lnTo>
                        <a:lnTo>
                          <a:pt x="3" y="37"/>
                        </a:lnTo>
                        <a:lnTo>
                          <a:pt x="3" y="40"/>
                        </a:lnTo>
                        <a:lnTo>
                          <a:pt x="3" y="43"/>
                        </a:lnTo>
                        <a:lnTo>
                          <a:pt x="3" y="47"/>
                        </a:lnTo>
                        <a:lnTo>
                          <a:pt x="3" y="52"/>
                        </a:lnTo>
                        <a:lnTo>
                          <a:pt x="5" y="58"/>
                        </a:lnTo>
                        <a:lnTo>
                          <a:pt x="5" y="60"/>
                        </a:lnTo>
                        <a:lnTo>
                          <a:pt x="5" y="65"/>
                        </a:lnTo>
                        <a:lnTo>
                          <a:pt x="5" y="67"/>
                        </a:lnTo>
                        <a:lnTo>
                          <a:pt x="6" y="71"/>
                        </a:lnTo>
                        <a:lnTo>
                          <a:pt x="6" y="74"/>
                        </a:lnTo>
                        <a:lnTo>
                          <a:pt x="6" y="77"/>
                        </a:lnTo>
                        <a:lnTo>
                          <a:pt x="6" y="80"/>
                        </a:lnTo>
                        <a:lnTo>
                          <a:pt x="6" y="84"/>
                        </a:lnTo>
                        <a:lnTo>
                          <a:pt x="6" y="87"/>
                        </a:lnTo>
                        <a:lnTo>
                          <a:pt x="6" y="89"/>
                        </a:lnTo>
                        <a:lnTo>
                          <a:pt x="8" y="93"/>
                        </a:lnTo>
                        <a:lnTo>
                          <a:pt x="8" y="96"/>
                        </a:lnTo>
                        <a:lnTo>
                          <a:pt x="8" y="99"/>
                        </a:lnTo>
                        <a:lnTo>
                          <a:pt x="8" y="103"/>
                        </a:lnTo>
                        <a:lnTo>
                          <a:pt x="9" y="106"/>
                        </a:lnTo>
                        <a:lnTo>
                          <a:pt x="9" y="109"/>
                        </a:lnTo>
                        <a:lnTo>
                          <a:pt x="9" y="111"/>
                        </a:lnTo>
                        <a:lnTo>
                          <a:pt x="9" y="115"/>
                        </a:lnTo>
                        <a:lnTo>
                          <a:pt x="11" y="118"/>
                        </a:lnTo>
                        <a:lnTo>
                          <a:pt x="11" y="121"/>
                        </a:lnTo>
                        <a:lnTo>
                          <a:pt x="11" y="124"/>
                        </a:lnTo>
                        <a:lnTo>
                          <a:pt x="11" y="128"/>
                        </a:lnTo>
                        <a:lnTo>
                          <a:pt x="12" y="130"/>
                        </a:lnTo>
                        <a:lnTo>
                          <a:pt x="12" y="133"/>
                        </a:lnTo>
                        <a:lnTo>
                          <a:pt x="12" y="136"/>
                        </a:lnTo>
                        <a:lnTo>
                          <a:pt x="14" y="140"/>
                        </a:lnTo>
                        <a:lnTo>
                          <a:pt x="14" y="143"/>
                        </a:lnTo>
                        <a:lnTo>
                          <a:pt x="14" y="147"/>
                        </a:lnTo>
                        <a:lnTo>
                          <a:pt x="14" y="152"/>
                        </a:lnTo>
                        <a:lnTo>
                          <a:pt x="16" y="158"/>
                        </a:lnTo>
                        <a:lnTo>
                          <a:pt x="16" y="161"/>
                        </a:lnTo>
                        <a:lnTo>
                          <a:pt x="17" y="165"/>
                        </a:lnTo>
                        <a:lnTo>
                          <a:pt x="17" y="168"/>
                        </a:lnTo>
                        <a:lnTo>
                          <a:pt x="17" y="170"/>
                        </a:lnTo>
                        <a:lnTo>
                          <a:pt x="19" y="176"/>
                        </a:lnTo>
                        <a:lnTo>
                          <a:pt x="20" y="183"/>
                        </a:lnTo>
                        <a:lnTo>
                          <a:pt x="20" y="185"/>
                        </a:lnTo>
                        <a:lnTo>
                          <a:pt x="20" y="188"/>
                        </a:lnTo>
                        <a:lnTo>
                          <a:pt x="22" y="191"/>
                        </a:lnTo>
                        <a:lnTo>
                          <a:pt x="23" y="195"/>
                        </a:lnTo>
                        <a:lnTo>
                          <a:pt x="25" y="191"/>
                        </a:lnTo>
                        <a:lnTo>
                          <a:pt x="25" y="185"/>
                        </a:lnTo>
                        <a:lnTo>
                          <a:pt x="23" y="179"/>
                        </a:lnTo>
                        <a:lnTo>
                          <a:pt x="23" y="173"/>
                        </a:lnTo>
                        <a:lnTo>
                          <a:pt x="22" y="169"/>
                        </a:lnTo>
                        <a:lnTo>
                          <a:pt x="22" y="163"/>
                        </a:lnTo>
                        <a:lnTo>
                          <a:pt x="20" y="158"/>
                        </a:lnTo>
                        <a:lnTo>
                          <a:pt x="20" y="152"/>
                        </a:lnTo>
                        <a:lnTo>
                          <a:pt x="20" y="148"/>
                        </a:lnTo>
                        <a:lnTo>
                          <a:pt x="20" y="141"/>
                        </a:lnTo>
                        <a:lnTo>
                          <a:pt x="20" y="137"/>
                        </a:lnTo>
                        <a:lnTo>
                          <a:pt x="19" y="132"/>
                        </a:lnTo>
                        <a:lnTo>
                          <a:pt x="19" y="126"/>
                        </a:lnTo>
                        <a:lnTo>
                          <a:pt x="19" y="121"/>
                        </a:lnTo>
                        <a:lnTo>
                          <a:pt x="19" y="117"/>
                        </a:lnTo>
                        <a:lnTo>
                          <a:pt x="19" y="111"/>
                        </a:lnTo>
                        <a:lnTo>
                          <a:pt x="19" y="106"/>
                        </a:lnTo>
                        <a:lnTo>
                          <a:pt x="17" y="100"/>
                        </a:lnTo>
                        <a:lnTo>
                          <a:pt x="17" y="95"/>
                        </a:lnTo>
                        <a:lnTo>
                          <a:pt x="17" y="89"/>
                        </a:lnTo>
                        <a:lnTo>
                          <a:pt x="17" y="85"/>
                        </a:lnTo>
                        <a:lnTo>
                          <a:pt x="17" y="80"/>
                        </a:lnTo>
                        <a:lnTo>
                          <a:pt x="17" y="74"/>
                        </a:lnTo>
                        <a:lnTo>
                          <a:pt x="17" y="69"/>
                        </a:lnTo>
                        <a:lnTo>
                          <a:pt x="17" y="63"/>
                        </a:lnTo>
                        <a:lnTo>
                          <a:pt x="16" y="58"/>
                        </a:lnTo>
                        <a:lnTo>
                          <a:pt x="16" y="54"/>
                        </a:lnTo>
                        <a:lnTo>
                          <a:pt x="16" y="48"/>
                        </a:lnTo>
                        <a:lnTo>
                          <a:pt x="16" y="43"/>
                        </a:lnTo>
                        <a:lnTo>
                          <a:pt x="16" y="37"/>
                        </a:lnTo>
                        <a:lnTo>
                          <a:pt x="16" y="33"/>
                        </a:lnTo>
                        <a:lnTo>
                          <a:pt x="16" y="28"/>
                        </a:lnTo>
                        <a:lnTo>
                          <a:pt x="16" y="22"/>
                        </a:lnTo>
                        <a:lnTo>
                          <a:pt x="17" y="21"/>
                        </a:lnTo>
                        <a:lnTo>
                          <a:pt x="20" y="21"/>
                        </a:lnTo>
                        <a:lnTo>
                          <a:pt x="25" y="21"/>
                        </a:lnTo>
                        <a:lnTo>
                          <a:pt x="31" y="21"/>
                        </a:lnTo>
                        <a:lnTo>
                          <a:pt x="35" y="21"/>
                        </a:lnTo>
                        <a:lnTo>
                          <a:pt x="40" y="21"/>
                        </a:lnTo>
                        <a:lnTo>
                          <a:pt x="43" y="21"/>
                        </a:lnTo>
                        <a:lnTo>
                          <a:pt x="45" y="22"/>
                        </a:lnTo>
                        <a:lnTo>
                          <a:pt x="46" y="21"/>
                        </a:lnTo>
                        <a:lnTo>
                          <a:pt x="49" y="21"/>
                        </a:lnTo>
                        <a:lnTo>
                          <a:pt x="51" y="21"/>
                        </a:lnTo>
                        <a:lnTo>
                          <a:pt x="55" y="21"/>
                        </a:lnTo>
                        <a:lnTo>
                          <a:pt x="58" y="19"/>
                        </a:lnTo>
                        <a:lnTo>
                          <a:pt x="63" y="19"/>
                        </a:lnTo>
                        <a:lnTo>
                          <a:pt x="66" y="19"/>
                        </a:lnTo>
                        <a:lnTo>
                          <a:pt x="71" y="19"/>
                        </a:lnTo>
                        <a:lnTo>
                          <a:pt x="75" y="19"/>
                        </a:lnTo>
                        <a:lnTo>
                          <a:pt x="78" y="19"/>
                        </a:lnTo>
                        <a:lnTo>
                          <a:pt x="81" y="19"/>
                        </a:lnTo>
                        <a:lnTo>
                          <a:pt x="86" y="21"/>
                        </a:lnTo>
                        <a:lnTo>
                          <a:pt x="89" y="23"/>
                        </a:lnTo>
                        <a:lnTo>
                          <a:pt x="90" y="28"/>
                        </a:lnTo>
                        <a:lnTo>
                          <a:pt x="86" y="28"/>
                        </a:lnTo>
                        <a:lnTo>
                          <a:pt x="80" y="29"/>
                        </a:lnTo>
                        <a:lnTo>
                          <a:pt x="75" y="29"/>
                        </a:lnTo>
                        <a:lnTo>
                          <a:pt x="71" y="29"/>
                        </a:lnTo>
                        <a:lnTo>
                          <a:pt x="66" y="29"/>
                        </a:lnTo>
                        <a:lnTo>
                          <a:pt x="63" y="29"/>
                        </a:lnTo>
                        <a:lnTo>
                          <a:pt x="58" y="29"/>
                        </a:lnTo>
                        <a:lnTo>
                          <a:pt x="55" y="29"/>
                        </a:lnTo>
                        <a:lnTo>
                          <a:pt x="51" y="29"/>
                        </a:lnTo>
                        <a:lnTo>
                          <a:pt x="46" y="29"/>
                        </a:lnTo>
                        <a:lnTo>
                          <a:pt x="42" y="29"/>
                        </a:lnTo>
                        <a:lnTo>
                          <a:pt x="38" y="29"/>
                        </a:lnTo>
                        <a:lnTo>
                          <a:pt x="34" y="29"/>
                        </a:lnTo>
                        <a:lnTo>
                          <a:pt x="28" y="29"/>
                        </a:lnTo>
                        <a:lnTo>
                          <a:pt x="23" y="30"/>
                        </a:lnTo>
                        <a:lnTo>
                          <a:pt x="17" y="32"/>
                        </a:lnTo>
                        <a:lnTo>
                          <a:pt x="17" y="37"/>
                        </a:lnTo>
                        <a:lnTo>
                          <a:pt x="19" y="43"/>
                        </a:lnTo>
                        <a:lnTo>
                          <a:pt x="19" y="48"/>
                        </a:lnTo>
                        <a:lnTo>
                          <a:pt x="20" y="55"/>
                        </a:lnTo>
                        <a:lnTo>
                          <a:pt x="20" y="60"/>
                        </a:lnTo>
                        <a:lnTo>
                          <a:pt x="20" y="65"/>
                        </a:lnTo>
                        <a:lnTo>
                          <a:pt x="20" y="70"/>
                        </a:lnTo>
                        <a:lnTo>
                          <a:pt x="22" y="76"/>
                        </a:lnTo>
                        <a:lnTo>
                          <a:pt x="22" y="80"/>
                        </a:lnTo>
                        <a:lnTo>
                          <a:pt x="22" y="85"/>
                        </a:lnTo>
                        <a:lnTo>
                          <a:pt x="23" y="89"/>
                        </a:lnTo>
                        <a:lnTo>
                          <a:pt x="23" y="95"/>
                        </a:lnTo>
                        <a:lnTo>
                          <a:pt x="25" y="98"/>
                        </a:lnTo>
                        <a:lnTo>
                          <a:pt x="25" y="103"/>
                        </a:lnTo>
                        <a:lnTo>
                          <a:pt x="25" y="107"/>
                        </a:lnTo>
                        <a:lnTo>
                          <a:pt x="26" y="111"/>
                        </a:lnTo>
                        <a:lnTo>
                          <a:pt x="26" y="115"/>
                        </a:lnTo>
                        <a:lnTo>
                          <a:pt x="28" y="120"/>
                        </a:lnTo>
                        <a:lnTo>
                          <a:pt x="28" y="124"/>
                        </a:lnTo>
                        <a:lnTo>
                          <a:pt x="29" y="128"/>
                        </a:lnTo>
                        <a:lnTo>
                          <a:pt x="29" y="132"/>
                        </a:lnTo>
                        <a:lnTo>
                          <a:pt x="31" y="137"/>
                        </a:lnTo>
                        <a:lnTo>
                          <a:pt x="31" y="141"/>
                        </a:lnTo>
                        <a:lnTo>
                          <a:pt x="32" y="147"/>
                        </a:lnTo>
                        <a:lnTo>
                          <a:pt x="34" y="151"/>
                        </a:lnTo>
                        <a:lnTo>
                          <a:pt x="35" y="155"/>
                        </a:lnTo>
                        <a:lnTo>
                          <a:pt x="35" y="161"/>
                        </a:lnTo>
                        <a:lnTo>
                          <a:pt x="37" y="166"/>
                        </a:lnTo>
                        <a:lnTo>
                          <a:pt x="38" y="172"/>
                        </a:lnTo>
                        <a:lnTo>
                          <a:pt x="40" y="177"/>
                        </a:lnTo>
                        <a:lnTo>
                          <a:pt x="40" y="180"/>
                        </a:lnTo>
                        <a:lnTo>
                          <a:pt x="42" y="184"/>
                        </a:lnTo>
                        <a:lnTo>
                          <a:pt x="42" y="187"/>
                        </a:lnTo>
                        <a:lnTo>
                          <a:pt x="43" y="191"/>
                        </a:lnTo>
                        <a:lnTo>
                          <a:pt x="46" y="188"/>
                        </a:lnTo>
                        <a:lnTo>
                          <a:pt x="51" y="185"/>
                        </a:lnTo>
                        <a:lnTo>
                          <a:pt x="49" y="180"/>
                        </a:lnTo>
                        <a:lnTo>
                          <a:pt x="49" y="174"/>
                        </a:lnTo>
                        <a:lnTo>
                          <a:pt x="49" y="169"/>
                        </a:lnTo>
                        <a:lnTo>
                          <a:pt x="49" y="165"/>
                        </a:lnTo>
                        <a:lnTo>
                          <a:pt x="48" y="159"/>
                        </a:lnTo>
                        <a:lnTo>
                          <a:pt x="48" y="155"/>
                        </a:lnTo>
                        <a:lnTo>
                          <a:pt x="48" y="151"/>
                        </a:lnTo>
                        <a:lnTo>
                          <a:pt x="48" y="147"/>
                        </a:lnTo>
                        <a:lnTo>
                          <a:pt x="48" y="143"/>
                        </a:lnTo>
                        <a:lnTo>
                          <a:pt x="48" y="139"/>
                        </a:lnTo>
                        <a:lnTo>
                          <a:pt x="48" y="136"/>
                        </a:lnTo>
                        <a:lnTo>
                          <a:pt x="48" y="132"/>
                        </a:lnTo>
                        <a:lnTo>
                          <a:pt x="48" y="129"/>
                        </a:lnTo>
                        <a:lnTo>
                          <a:pt x="48" y="126"/>
                        </a:lnTo>
                        <a:lnTo>
                          <a:pt x="48" y="122"/>
                        </a:lnTo>
                        <a:lnTo>
                          <a:pt x="48" y="120"/>
                        </a:lnTo>
                        <a:lnTo>
                          <a:pt x="46" y="115"/>
                        </a:lnTo>
                        <a:lnTo>
                          <a:pt x="46" y="111"/>
                        </a:lnTo>
                        <a:lnTo>
                          <a:pt x="46" y="107"/>
                        </a:lnTo>
                        <a:lnTo>
                          <a:pt x="46" y="104"/>
                        </a:lnTo>
                        <a:lnTo>
                          <a:pt x="45" y="100"/>
                        </a:lnTo>
                        <a:lnTo>
                          <a:pt x="45" y="98"/>
                        </a:lnTo>
                        <a:lnTo>
                          <a:pt x="45" y="93"/>
                        </a:lnTo>
                        <a:lnTo>
                          <a:pt x="45" y="89"/>
                        </a:lnTo>
                        <a:lnTo>
                          <a:pt x="45" y="85"/>
                        </a:lnTo>
                        <a:lnTo>
                          <a:pt x="45" y="81"/>
                        </a:lnTo>
                        <a:lnTo>
                          <a:pt x="43" y="76"/>
                        </a:lnTo>
                        <a:lnTo>
                          <a:pt x="43" y="73"/>
                        </a:lnTo>
                        <a:lnTo>
                          <a:pt x="42" y="67"/>
                        </a:lnTo>
                        <a:lnTo>
                          <a:pt x="42" y="62"/>
                        </a:lnTo>
                        <a:lnTo>
                          <a:pt x="42" y="58"/>
                        </a:lnTo>
                        <a:lnTo>
                          <a:pt x="40" y="52"/>
                        </a:lnTo>
                        <a:lnTo>
                          <a:pt x="45" y="50"/>
                        </a:lnTo>
                        <a:lnTo>
                          <a:pt x="49" y="48"/>
                        </a:lnTo>
                        <a:lnTo>
                          <a:pt x="54" y="47"/>
                        </a:lnTo>
                        <a:lnTo>
                          <a:pt x="60" y="47"/>
                        </a:lnTo>
                        <a:lnTo>
                          <a:pt x="64" y="45"/>
                        </a:lnTo>
                        <a:lnTo>
                          <a:pt x="69" y="45"/>
                        </a:lnTo>
                        <a:lnTo>
                          <a:pt x="75" y="45"/>
                        </a:lnTo>
                        <a:lnTo>
                          <a:pt x="81" y="47"/>
                        </a:lnTo>
                        <a:lnTo>
                          <a:pt x="61" y="59"/>
                        </a:lnTo>
                        <a:lnTo>
                          <a:pt x="58" y="56"/>
                        </a:lnTo>
                        <a:lnTo>
                          <a:pt x="48" y="59"/>
                        </a:lnTo>
                        <a:lnTo>
                          <a:pt x="48" y="63"/>
                        </a:lnTo>
                        <a:lnTo>
                          <a:pt x="49" y="69"/>
                        </a:lnTo>
                        <a:lnTo>
                          <a:pt x="49" y="73"/>
                        </a:lnTo>
                        <a:lnTo>
                          <a:pt x="49" y="78"/>
                        </a:lnTo>
                        <a:lnTo>
                          <a:pt x="49" y="82"/>
                        </a:lnTo>
                        <a:lnTo>
                          <a:pt x="51" y="88"/>
                        </a:lnTo>
                        <a:lnTo>
                          <a:pt x="51" y="93"/>
                        </a:lnTo>
                        <a:lnTo>
                          <a:pt x="52" y="98"/>
                        </a:lnTo>
                        <a:lnTo>
                          <a:pt x="52" y="103"/>
                        </a:lnTo>
                        <a:lnTo>
                          <a:pt x="54" y="107"/>
                        </a:lnTo>
                        <a:lnTo>
                          <a:pt x="54" y="113"/>
                        </a:lnTo>
                        <a:lnTo>
                          <a:pt x="55" y="118"/>
                        </a:lnTo>
                        <a:lnTo>
                          <a:pt x="55" y="122"/>
                        </a:lnTo>
                        <a:lnTo>
                          <a:pt x="57" y="128"/>
                        </a:lnTo>
                        <a:lnTo>
                          <a:pt x="57" y="132"/>
                        </a:lnTo>
                        <a:lnTo>
                          <a:pt x="58" y="137"/>
                        </a:lnTo>
                        <a:lnTo>
                          <a:pt x="58" y="141"/>
                        </a:lnTo>
                        <a:lnTo>
                          <a:pt x="60" y="147"/>
                        </a:lnTo>
                        <a:lnTo>
                          <a:pt x="60" y="151"/>
                        </a:lnTo>
                        <a:lnTo>
                          <a:pt x="61" y="157"/>
                        </a:lnTo>
                        <a:lnTo>
                          <a:pt x="61" y="161"/>
                        </a:lnTo>
                        <a:lnTo>
                          <a:pt x="63" y="166"/>
                        </a:lnTo>
                        <a:lnTo>
                          <a:pt x="63" y="170"/>
                        </a:lnTo>
                        <a:lnTo>
                          <a:pt x="64" y="176"/>
                        </a:lnTo>
                        <a:lnTo>
                          <a:pt x="64" y="180"/>
                        </a:lnTo>
                        <a:lnTo>
                          <a:pt x="66" y="185"/>
                        </a:lnTo>
                        <a:lnTo>
                          <a:pt x="66" y="190"/>
                        </a:lnTo>
                        <a:lnTo>
                          <a:pt x="68" y="195"/>
                        </a:lnTo>
                        <a:lnTo>
                          <a:pt x="68" y="201"/>
                        </a:lnTo>
                        <a:lnTo>
                          <a:pt x="69" y="205"/>
                        </a:lnTo>
                        <a:lnTo>
                          <a:pt x="69" y="210"/>
                        </a:lnTo>
                        <a:lnTo>
                          <a:pt x="71" y="216"/>
                        </a:lnTo>
                        <a:lnTo>
                          <a:pt x="83" y="213"/>
                        </a:lnTo>
                        <a:lnTo>
                          <a:pt x="83" y="209"/>
                        </a:lnTo>
                        <a:lnTo>
                          <a:pt x="83" y="205"/>
                        </a:lnTo>
                        <a:lnTo>
                          <a:pt x="83" y="201"/>
                        </a:lnTo>
                        <a:lnTo>
                          <a:pt x="83" y="196"/>
                        </a:lnTo>
                        <a:lnTo>
                          <a:pt x="83" y="192"/>
                        </a:lnTo>
                        <a:lnTo>
                          <a:pt x="83" y="188"/>
                        </a:lnTo>
                        <a:lnTo>
                          <a:pt x="83" y="185"/>
                        </a:lnTo>
                        <a:lnTo>
                          <a:pt x="83" y="181"/>
                        </a:lnTo>
                        <a:lnTo>
                          <a:pt x="83" y="176"/>
                        </a:lnTo>
                        <a:lnTo>
                          <a:pt x="83" y="173"/>
                        </a:lnTo>
                        <a:lnTo>
                          <a:pt x="83" y="169"/>
                        </a:lnTo>
                        <a:lnTo>
                          <a:pt x="83" y="165"/>
                        </a:lnTo>
                        <a:lnTo>
                          <a:pt x="81" y="161"/>
                        </a:lnTo>
                        <a:lnTo>
                          <a:pt x="81" y="157"/>
                        </a:lnTo>
                        <a:lnTo>
                          <a:pt x="81" y="152"/>
                        </a:lnTo>
                        <a:lnTo>
                          <a:pt x="81" y="150"/>
                        </a:lnTo>
                        <a:lnTo>
                          <a:pt x="81" y="139"/>
                        </a:lnTo>
                        <a:lnTo>
                          <a:pt x="81" y="135"/>
                        </a:lnTo>
                        <a:lnTo>
                          <a:pt x="83" y="136"/>
                        </a:lnTo>
                        <a:lnTo>
                          <a:pt x="83" y="137"/>
                        </a:lnTo>
                        <a:lnTo>
                          <a:pt x="84" y="140"/>
                        </a:lnTo>
                        <a:lnTo>
                          <a:pt x="86" y="143"/>
                        </a:lnTo>
                        <a:lnTo>
                          <a:pt x="87" y="147"/>
                        </a:lnTo>
                        <a:lnTo>
                          <a:pt x="89" y="151"/>
                        </a:lnTo>
                        <a:lnTo>
                          <a:pt x="89" y="154"/>
                        </a:lnTo>
                        <a:lnTo>
                          <a:pt x="90" y="158"/>
                        </a:lnTo>
                        <a:lnTo>
                          <a:pt x="92" y="163"/>
                        </a:lnTo>
                        <a:lnTo>
                          <a:pt x="94" y="166"/>
                        </a:lnTo>
                        <a:lnTo>
                          <a:pt x="94" y="170"/>
                        </a:lnTo>
                        <a:lnTo>
                          <a:pt x="95" y="173"/>
                        </a:lnTo>
                        <a:lnTo>
                          <a:pt x="97" y="177"/>
                        </a:lnTo>
                        <a:lnTo>
                          <a:pt x="103" y="177"/>
                        </a:lnTo>
                        <a:lnTo>
                          <a:pt x="94" y="102"/>
                        </a:lnTo>
                        <a:lnTo>
                          <a:pt x="100" y="100"/>
                        </a:lnTo>
                        <a:lnTo>
                          <a:pt x="106" y="98"/>
                        </a:lnTo>
                        <a:lnTo>
                          <a:pt x="112" y="96"/>
                        </a:lnTo>
                        <a:lnTo>
                          <a:pt x="120" y="95"/>
                        </a:lnTo>
                        <a:lnTo>
                          <a:pt x="123" y="95"/>
                        </a:lnTo>
                        <a:lnTo>
                          <a:pt x="126" y="93"/>
                        </a:lnTo>
                        <a:lnTo>
                          <a:pt x="130" y="92"/>
                        </a:lnTo>
                        <a:lnTo>
                          <a:pt x="133" y="92"/>
                        </a:lnTo>
                        <a:lnTo>
                          <a:pt x="138" y="91"/>
                        </a:lnTo>
                        <a:lnTo>
                          <a:pt x="141" y="91"/>
                        </a:lnTo>
                        <a:lnTo>
                          <a:pt x="144" y="89"/>
                        </a:lnTo>
                        <a:lnTo>
                          <a:pt x="149" y="88"/>
                        </a:lnTo>
                        <a:lnTo>
                          <a:pt x="152" y="88"/>
                        </a:lnTo>
                        <a:lnTo>
                          <a:pt x="156" y="87"/>
                        </a:lnTo>
                        <a:lnTo>
                          <a:pt x="159" y="85"/>
                        </a:lnTo>
                        <a:lnTo>
                          <a:pt x="164" y="85"/>
                        </a:lnTo>
                        <a:lnTo>
                          <a:pt x="167" y="84"/>
                        </a:lnTo>
                        <a:lnTo>
                          <a:pt x="172" y="84"/>
                        </a:lnTo>
                        <a:lnTo>
                          <a:pt x="175" y="82"/>
                        </a:lnTo>
                        <a:lnTo>
                          <a:pt x="179" y="82"/>
                        </a:lnTo>
                        <a:lnTo>
                          <a:pt x="182" y="81"/>
                        </a:lnTo>
                        <a:lnTo>
                          <a:pt x="187" y="80"/>
                        </a:lnTo>
                        <a:lnTo>
                          <a:pt x="190" y="80"/>
                        </a:lnTo>
                        <a:lnTo>
                          <a:pt x="194" y="78"/>
                        </a:lnTo>
                        <a:lnTo>
                          <a:pt x="198" y="77"/>
                        </a:lnTo>
                        <a:lnTo>
                          <a:pt x="202" y="77"/>
                        </a:lnTo>
                        <a:lnTo>
                          <a:pt x="207" y="76"/>
                        </a:lnTo>
                        <a:lnTo>
                          <a:pt x="210" y="76"/>
                        </a:lnTo>
                        <a:lnTo>
                          <a:pt x="214" y="76"/>
                        </a:lnTo>
                        <a:lnTo>
                          <a:pt x="217" y="74"/>
                        </a:lnTo>
                        <a:lnTo>
                          <a:pt x="222" y="73"/>
                        </a:lnTo>
                        <a:lnTo>
                          <a:pt x="225" y="73"/>
                        </a:lnTo>
                        <a:lnTo>
                          <a:pt x="230" y="73"/>
                        </a:lnTo>
                        <a:lnTo>
                          <a:pt x="233" y="71"/>
                        </a:lnTo>
                        <a:lnTo>
                          <a:pt x="237" y="71"/>
                        </a:lnTo>
                        <a:lnTo>
                          <a:pt x="240" y="71"/>
                        </a:lnTo>
                        <a:lnTo>
                          <a:pt x="243" y="70"/>
                        </a:lnTo>
                        <a:lnTo>
                          <a:pt x="246" y="70"/>
                        </a:lnTo>
                        <a:lnTo>
                          <a:pt x="251" y="70"/>
                        </a:lnTo>
                        <a:lnTo>
                          <a:pt x="254" y="70"/>
                        </a:lnTo>
                        <a:lnTo>
                          <a:pt x="259" y="69"/>
                        </a:lnTo>
                        <a:lnTo>
                          <a:pt x="262" y="69"/>
                        </a:lnTo>
                        <a:lnTo>
                          <a:pt x="266" y="69"/>
                        </a:lnTo>
                        <a:lnTo>
                          <a:pt x="269" y="69"/>
                        </a:lnTo>
                        <a:lnTo>
                          <a:pt x="276" y="69"/>
                        </a:lnTo>
                        <a:lnTo>
                          <a:pt x="282" y="69"/>
                        </a:lnTo>
                        <a:lnTo>
                          <a:pt x="289" y="69"/>
                        </a:lnTo>
                        <a:lnTo>
                          <a:pt x="295" y="70"/>
                        </a:lnTo>
                        <a:lnTo>
                          <a:pt x="302" y="70"/>
                        </a:lnTo>
                        <a:lnTo>
                          <a:pt x="308" y="71"/>
                        </a:lnTo>
                        <a:lnTo>
                          <a:pt x="312" y="73"/>
                        </a:lnTo>
                        <a:lnTo>
                          <a:pt x="318" y="74"/>
                        </a:lnTo>
                        <a:lnTo>
                          <a:pt x="312" y="76"/>
                        </a:lnTo>
                        <a:lnTo>
                          <a:pt x="306" y="76"/>
                        </a:lnTo>
                        <a:lnTo>
                          <a:pt x="300" y="76"/>
                        </a:lnTo>
                        <a:lnTo>
                          <a:pt x="294" y="77"/>
                        </a:lnTo>
                        <a:lnTo>
                          <a:pt x="288" y="78"/>
                        </a:lnTo>
                        <a:lnTo>
                          <a:pt x="282" y="80"/>
                        </a:lnTo>
                        <a:lnTo>
                          <a:pt x="276" y="80"/>
                        </a:lnTo>
                        <a:lnTo>
                          <a:pt x="269" y="81"/>
                        </a:lnTo>
                        <a:lnTo>
                          <a:pt x="265" y="81"/>
                        </a:lnTo>
                        <a:lnTo>
                          <a:pt x="262" y="81"/>
                        </a:lnTo>
                        <a:lnTo>
                          <a:pt x="259" y="81"/>
                        </a:lnTo>
                        <a:lnTo>
                          <a:pt x="256" y="82"/>
                        </a:lnTo>
                        <a:lnTo>
                          <a:pt x="248" y="82"/>
                        </a:lnTo>
                        <a:lnTo>
                          <a:pt x="242" y="84"/>
                        </a:lnTo>
                        <a:lnTo>
                          <a:pt x="239" y="84"/>
                        </a:lnTo>
                        <a:lnTo>
                          <a:pt x="234" y="84"/>
                        </a:lnTo>
                        <a:lnTo>
                          <a:pt x="231" y="84"/>
                        </a:lnTo>
                        <a:lnTo>
                          <a:pt x="228" y="85"/>
                        </a:lnTo>
                        <a:lnTo>
                          <a:pt x="225" y="85"/>
                        </a:lnTo>
                        <a:lnTo>
                          <a:pt x="220" y="85"/>
                        </a:lnTo>
                        <a:lnTo>
                          <a:pt x="217" y="85"/>
                        </a:lnTo>
                        <a:lnTo>
                          <a:pt x="214" y="85"/>
                        </a:lnTo>
                        <a:lnTo>
                          <a:pt x="211" y="85"/>
                        </a:lnTo>
                        <a:lnTo>
                          <a:pt x="207" y="87"/>
                        </a:lnTo>
                        <a:lnTo>
                          <a:pt x="204" y="87"/>
                        </a:lnTo>
                        <a:lnTo>
                          <a:pt x="201" y="88"/>
                        </a:lnTo>
                        <a:lnTo>
                          <a:pt x="198" y="88"/>
                        </a:lnTo>
                        <a:lnTo>
                          <a:pt x="193" y="88"/>
                        </a:lnTo>
                        <a:lnTo>
                          <a:pt x="190" y="89"/>
                        </a:lnTo>
                        <a:lnTo>
                          <a:pt x="187" y="91"/>
                        </a:lnTo>
                        <a:lnTo>
                          <a:pt x="181" y="92"/>
                        </a:lnTo>
                        <a:lnTo>
                          <a:pt x="175" y="93"/>
                        </a:lnTo>
                        <a:lnTo>
                          <a:pt x="167" y="95"/>
                        </a:lnTo>
                        <a:lnTo>
                          <a:pt x="161" y="98"/>
                        </a:lnTo>
                        <a:lnTo>
                          <a:pt x="158" y="98"/>
                        </a:lnTo>
                        <a:lnTo>
                          <a:pt x="153" y="99"/>
                        </a:lnTo>
                        <a:lnTo>
                          <a:pt x="150" y="100"/>
                        </a:lnTo>
                        <a:lnTo>
                          <a:pt x="147" y="102"/>
                        </a:lnTo>
                        <a:lnTo>
                          <a:pt x="141" y="103"/>
                        </a:lnTo>
                        <a:lnTo>
                          <a:pt x="135" y="106"/>
                        </a:lnTo>
                        <a:lnTo>
                          <a:pt x="127" y="109"/>
                        </a:lnTo>
                        <a:lnTo>
                          <a:pt x="123" y="111"/>
                        </a:lnTo>
                        <a:lnTo>
                          <a:pt x="116" y="114"/>
                        </a:lnTo>
                        <a:lnTo>
                          <a:pt x="110" y="118"/>
                        </a:lnTo>
                        <a:lnTo>
                          <a:pt x="113" y="132"/>
                        </a:lnTo>
                        <a:lnTo>
                          <a:pt x="116" y="126"/>
                        </a:lnTo>
                        <a:lnTo>
                          <a:pt x="121" y="124"/>
                        </a:lnTo>
                        <a:lnTo>
                          <a:pt x="124" y="121"/>
                        </a:lnTo>
                        <a:lnTo>
                          <a:pt x="127" y="120"/>
                        </a:lnTo>
                        <a:lnTo>
                          <a:pt x="130" y="118"/>
                        </a:lnTo>
                        <a:lnTo>
                          <a:pt x="135" y="117"/>
                        </a:lnTo>
                        <a:lnTo>
                          <a:pt x="139" y="114"/>
                        </a:lnTo>
                        <a:lnTo>
                          <a:pt x="144" y="113"/>
                        </a:lnTo>
                        <a:lnTo>
                          <a:pt x="147" y="111"/>
                        </a:lnTo>
                        <a:lnTo>
                          <a:pt x="153" y="110"/>
                        </a:lnTo>
                        <a:lnTo>
                          <a:pt x="158" y="107"/>
                        </a:lnTo>
                        <a:lnTo>
                          <a:pt x="164" y="107"/>
                        </a:lnTo>
                        <a:lnTo>
                          <a:pt x="170" y="104"/>
                        </a:lnTo>
                        <a:lnTo>
                          <a:pt x="176" y="104"/>
                        </a:lnTo>
                        <a:lnTo>
                          <a:pt x="182" y="102"/>
                        </a:lnTo>
                        <a:lnTo>
                          <a:pt x="188" y="100"/>
                        </a:lnTo>
                        <a:lnTo>
                          <a:pt x="194" y="99"/>
                        </a:lnTo>
                        <a:lnTo>
                          <a:pt x="202" y="98"/>
                        </a:lnTo>
                        <a:lnTo>
                          <a:pt x="208" y="96"/>
                        </a:lnTo>
                        <a:lnTo>
                          <a:pt x="216" y="95"/>
                        </a:lnTo>
                        <a:lnTo>
                          <a:pt x="224" y="95"/>
                        </a:lnTo>
                        <a:lnTo>
                          <a:pt x="231" y="93"/>
                        </a:lnTo>
                        <a:lnTo>
                          <a:pt x="237" y="92"/>
                        </a:lnTo>
                        <a:lnTo>
                          <a:pt x="245" y="91"/>
                        </a:lnTo>
                        <a:lnTo>
                          <a:pt x="253" y="89"/>
                        </a:lnTo>
                        <a:lnTo>
                          <a:pt x="260" y="88"/>
                        </a:lnTo>
                        <a:lnTo>
                          <a:pt x="268" y="88"/>
                        </a:lnTo>
                        <a:lnTo>
                          <a:pt x="277" y="87"/>
                        </a:lnTo>
                        <a:lnTo>
                          <a:pt x="285" y="85"/>
                        </a:lnTo>
                        <a:lnTo>
                          <a:pt x="292" y="85"/>
                        </a:lnTo>
                        <a:lnTo>
                          <a:pt x="300" y="84"/>
                        </a:lnTo>
                        <a:lnTo>
                          <a:pt x="308" y="82"/>
                        </a:lnTo>
                        <a:lnTo>
                          <a:pt x="315" y="82"/>
                        </a:lnTo>
                        <a:lnTo>
                          <a:pt x="325" y="81"/>
                        </a:lnTo>
                        <a:lnTo>
                          <a:pt x="332" y="80"/>
                        </a:lnTo>
                        <a:lnTo>
                          <a:pt x="340" y="80"/>
                        </a:lnTo>
                        <a:lnTo>
                          <a:pt x="347" y="78"/>
                        </a:lnTo>
                        <a:lnTo>
                          <a:pt x="357" y="78"/>
                        </a:lnTo>
                        <a:lnTo>
                          <a:pt x="364" y="77"/>
                        </a:lnTo>
                        <a:lnTo>
                          <a:pt x="370" y="77"/>
                        </a:lnTo>
                        <a:lnTo>
                          <a:pt x="378" y="76"/>
                        </a:lnTo>
                        <a:lnTo>
                          <a:pt x="386" y="76"/>
                        </a:lnTo>
                        <a:lnTo>
                          <a:pt x="393" y="74"/>
                        </a:lnTo>
                        <a:lnTo>
                          <a:pt x="401" y="74"/>
                        </a:lnTo>
                        <a:lnTo>
                          <a:pt x="409" y="73"/>
                        </a:lnTo>
                        <a:lnTo>
                          <a:pt x="416" y="73"/>
                        </a:lnTo>
                        <a:lnTo>
                          <a:pt x="422" y="73"/>
                        </a:lnTo>
                        <a:lnTo>
                          <a:pt x="429" y="73"/>
                        </a:lnTo>
                        <a:lnTo>
                          <a:pt x="435" y="71"/>
                        </a:lnTo>
                        <a:lnTo>
                          <a:pt x="442" y="71"/>
                        </a:lnTo>
                        <a:lnTo>
                          <a:pt x="448" y="71"/>
                        </a:lnTo>
                        <a:lnTo>
                          <a:pt x="455" y="70"/>
                        </a:lnTo>
                        <a:lnTo>
                          <a:pt x="461" y="70"/>
                        </a:lnTo>
                        <a:lnTo>
                          <a:pt x="467" y="70"/>
                        </a:lnTo>
                        <a:lnTo>
                          <a:pt x="471" y="70"/>
                        </a:lnTo>
                        <a:lnTo>
                          <a:pt x="476" y="70"/>
                        </a:lnTo>
                        <a:lnTo>
                          <a:pt x="481" y="70"/>
                        </a:lnTo>
                        <a:lnTo>
                          <a:pt x="487" y="70"/>
                        </a:lnTo>
                        <a:lnTo>
                          <a:pt x="490" y="70"/>
                        </a:lnTo>
                        <a:lnTo>
                          <a:pt x="494" y="70"/>
                        </a:lnTo>
                        <a:lnTo>
                          <a:pt x="497" y="70"/>
                        </a:lnTo>
                        <a:lnTo>
                          <a:pt x="502" y="70"/>
                        </a:lnTo>
                        <a:lnTo>
                          <a:pt x="1080" y="73"/>
                        </a:lnTo>
                        <a:lnTo>
                          <a:pt x="1079" y="73"/>
                        </a:lnTo>
                        <a:lnTo>
                          <a:pt x="1077" y="73"/>
                        </a:lnTo>
                        <a:lnTo>
                          <a:pt x="1074" y="73"/>
                        </a:lnTo>
                        <a:lnTo>
                          <a:pt x="1071" y="73"/>
                        </a:lnTo>
                        <a:lnTo>
                          <a:pt x="1066" y="73"/>
                        </a:lnTo>
                        <a:lnTo>
                          <a:pt x="1063" y="73"/>
                        </a:lnTo>
                        <a:lnTo>
                          <a:pt x="1059" y="74"/>
                        </a:lnTo>
                        <a:lnTo>
                          <a:pt x="1054" y="74"/>
                        </a:lnTo>
                        <a:lnTo>
                          <a:pt x="1047" y="74"/>
                        </a:lnTo>
                        <a:lnTo>
                          <a:pt x="1040" y="76"/>
                        </a:lnTo>
                        <a:lnTo>
                          <a:pt x="1034" y="76"/>
                        </a:lnTo>
                        <a:lnTo>
                          <a:pt x="1028" y="77"/>
                        </a:lnTo>
                        <a:lnTo>
                          <a:pt x="1024" y="77"/>
                        </a:lnTo>
                        <a:lnTo>
                          <a:pt x="1021" y="77"/>
                        </a:lnTo>
                        <a:lnTo>
                          <a:pt x="1016" y="77"/>
                        </a:lnTo>
                        <a:lnTo>
                          <a:pt x="1013" y="77"/>
                        </a:lnTo>
                        <a:lnTo>
                          <a:pt x="1010" y="77"/>
                        </a:lnTo>
                        <a:lnTo>
                          <a:pt x="1007" y="78"/>
                        </a:lnTo>
                        <a:lnTo>
                          <a:pt x="1002" y="78"/>
                        </a:lnTo>
                        <a:lnTo>
                          <a:pt x="999" y="80"/>
                        </a:lnTo>
                        <a:lnTo>
                          <a:pt x="996" y="80"/>
                        </a:lnTo>
                        <a:lnTo>
                          <a:pt x="991" y="80"/>
                        </a:lnTo>
                        <a:lnTo>
                          <a:pt x="988" y="80"/>
                        </a:lnTo>
                        <a:lnTo>
                          <a:pt x="984" y="80"/>
                        </a:lnTo>
                        <a:lnTo>
                          <a:pt x="981" y="80"/>
                        </a:lnTo>
                        <a:lnTo>
                          <a:pt x="978" y="80"/>
                        </a:lnTo>
                        <a:lnTo>
                          <a:pt x="973" y="80"/>
                        </a:lnTo>
                        <a:lnTo>
                          <a:pt x="970" y="81"/>
                        </a:lnTo>
                        <a:lnTo>
                          <a:pt x="967" y="81"/>
                        </a:lnTo>
                        <a:lnTo>
                          <a:pt x="962" y="81"/>
                        </a:lnTo>
                        <a:lnTo>
                          <a:pt x="959" y="81"/>
                        </a:lnTo>
                        <a:lnTo>
                          <a:pt x="956" y="82"/>
                        </a:lnTo>
                        <a:lnTo>
                          <a:pt x="950" y="82"/>
                        </a:lnTo>
                        <a:lnTo>
                          <a:pt x="944" y="82"/>
                        </a:lnTo>
                        <a:lnTo>
                          <a:pt x="938" y="82"/>
                        </a:lnTo>
                        <a:lnTo>
                          <a:pt x="933" y="84"/>
                        </a:lnTo>
                        <a:lnTo>
                          <a:pt x="929" y="84"/>
                        </a:lnTo>
                        <a:lnTo>
                          <a:pt x="924" y="84"/>
                        </a:lnTo>
                        <a:lnTo>
                          <a:pt x="921" y="84"/>
                        </a:lnTo>
                        <a:lnTo>
                          <a:pt x="918" y="85"/>
                        </a:lnTo>
                        <a:lnTo>
                          <a:pt x="916" y="85"/>
                        </a:lnTo>
                        <a:lnTo>
                          <a:pt x="915" y="85"/>
                        </a:lnTo>
                        <a:lnTo>
                          <a:pt x="918" y="85"/>
                        </a:lnTo>
                        <a:lnTo>
                          <a:pt x="921" y="85"/>
                        </a:lnTo>
                        <a:lnTo>
                          <a:pt x="926" y="85"/>
                        </a:lnTo>
                        <a:lnTo>
                          <a:pt x="929" y="87"/>
                        </a:lnTo>
                        <a:lnTo>
                          <a:pt x="933" y="87"/>
                        </a:lnTo>
                        <a:lnTo>
                          <a:pt x="936" y="87"/>
                        </a:lnTo>
                        <a:lnTo>
                          <a:pt x="939" y="87"/>
                        </a:lnTo>
                        <a:lnTo>
                          <a:pt x="944" y="88"/>
                        </a:lnTo>
                        <a:lnTo>
                          <a:pt x="947" y="88"/>
                        </a:lnTo>
                        <a:lnTo>
                          <a:pt x="952" y="88"/>
                        </a:lnTo>
                        <a:lnTo>
                          <a:pt x="955" y="88"/>
                        </a:lnTo>
                        <a:lnTo>
                          <a:pt x="959" y="88"/>
                        </a:lnTo>
                        <a:lnTo>
                          <a:pt x="962" y="88"/>
                        </a:lnTo>
                        <a:lnTo>
                          <a:pt x="967" y="88"/>
                        </a:lnTo>
                        <a:lnTo>
                          <a:pt x="972" y="88"/>
                        </a:lnTo>
                        <a:lnTo>
                          <a:pt x="975" y="88"/>
                        </a:lnTo>
                        <a:lnTo>
                          <a:pt x="979" y="87"/>
                        </a:lnTo>
                        <a:lnTo>
                          <a:pt x="982" y="87"/>
                        </a:lnTo>
                        <a:lnTo>
                          <a:pt x="987" y="87"/>
                        </a:lnTo>
                        <a:lnTo>
                          <a:pt x="991" y="87"/>
                        </a:lnTo>
                        <a:lnTo>
                          <a:pt x="994" y="87"/>
                        </a:lnTo>
                        <a:lnTo>
                          <a:pt x="999" y="87"/>
                        </a:lnTo>
                        <a:lnTo>
                          <a:pt x="1002" y="87"/>
                        </a:lnTo>
                        <a:lnTo>
                          <a:pt x="1007" y="87"/>
                        </a:lnTo>
                        <a:lnTo>
                          <a:pt x="1011" y="87"/>
                        </a:lnTo>
                        <a:lnTo>
                          <a:pt x="1014" y="87"/>
                        </a:lnTo>
                        <a:lnTo>
                          <a:pt x="1019" y="87"/>
                        </a:lnTo>
                        <a:lnTo>
                          <a:pt x="1022" y="87"/>
                        </a:lnTo>
                        <a:lnTo>
                          <a:pt x="1027" y="85"/>
                        </a:lnTo>
                        <a:lnTo>
                          <a:pt x="1031" y="85"/>
                        </a:lnTo>
                        <a:lnTo>
                          <a:pt x="1036" y="85"/>
                        </a:lnTo>
                        <a:lnTo>
                          <a:pt x="1040" y="85"/>
                        </a:lnTo>
                        <a:lnTo>
                          <a:pt x="1043" y="85"/>
                        </a:lnTo>
                        <a:lnTo>
                          <a:pt x="1047" y="85"/>
                        </a:lnTo>
                        <a:lnTo>
                          <a:pt x="1051" y="85"/>
                        </a:lnTo>
                        <a:lnTo>
                          <a:pt x="1056" y="85"/>
                        </a:lnTo>
                        <a:lnTo>
                          <a:pt x="1059" y="84"/>
                        </a:lnTo>
                        <a:lnTo>
                          <a:pt x="1063" y="84"/>
                        </a:lnTo>
                        <a:lnTo>
                          <a:pt x="1066" y="84"/>
                        </a:lnTo>
                        <a:lnTo>
                          <a:pt x="1071" y="84"/>
                        </a:lnTo>
                        <a:lnTo>
                          <a:pt x="1074" y="84"/>
                        </a:lnTo>
                        <a:lnTo>
                          <a:pt x="1079" y="84"/>
                        </a:lnTo>
                        <a:lnTo>
                          <a:pt x="1082" y="82"/>
                        </a:lnTo>
                        <a:lnTo>
                          <a:pt x="1086" y="82"/>
                        </a:lnTo>
                        <a:lnTo>
                          <a:pt x="1091" y="82"/>
                        </a:lnTo>
                        <a:lnTo>
                          <a:pt x="1094" y="82"/>
                        </a:lnTo>
                        <a:lnTo>
                          <a:pt x="1099" y="82"/>
                        </a:lnTo>
                        <a:lnTo>
                          <a:pt x="1103" y="82"/>
                        </a:lnTo>
                        <a:lnTo>
                          <a:pt x="1106" y="82"/>
                        </a:lnTo>
                        <a:lnTo>
                          <a:pt x="1111" y="82"/>
                        </a:lnTo>
                        <a:lnTo>
                          <a:pt x="1114" y="82"/>
                        </a:lnTo>
                        <a:lnTo>
                          <a:pt x="1118" y="82"/>
                        </a:lnTo>
                        <a:lnTo>
                          <a:pt x="1123" y="81"/>
                        </a:lnTo>
                        <a:lnTo>
                          <a:pt x="1126" y="81"/>
                        </a:lnTo>
                        <a:lnTo>
                          <a:pt x="1129" y="81"/>
                        </a:lnTo>
                        <a:lnTo>
                          <a:pt x="1134" y="81"/>
                        </a:lnTo>
                        <a:lnTo>
                          <a:pt x="1138" y="81"/>
                        </a:lnTo>
                        <a:lnTo>
                          <a:pt x="1141" y="81"/>
                        </a:lnTo>
                        <a:lnTo>
                          <a:pt x="1146" y="81"/>
                        </a:lnTo>
                        <a:lnTo>
                          <a:pt x="1149" y="81"/>
                        </a:lnTo>
                        <a:lnTo>
                          <a:pt x="1154" y="81"/>
                        </a:lnTo>
                        <a:lnTo>
                          <a:pt x="1157" y="81"/>
                        </a:lnTo>
                        <a:lnTo>
                          <a:pt x="1160" y="81"/>
                        </a:lnTo>
                        <a:lnTo>
                          <a:pt x="1164" y="81"/>
                        </a:lnTo>
                        <a:lnTo>
                          <a:pt x="1164" y="84"/>
                        </a:lnTo>
                        <a:lnTo>
                          <a:pt x="1166" y="88"/>
                        </a:lnTo>
                        <a:lnTo>
                          <a:pt x="1166" y="91"/>
                        </a:lnTo>
                        <a:lnTo>
                          <a:pt x="1166" y="95"/>
                        </a:lnTo>
                        <a:lnTo>
                          <a:pt x="1166" y="99"/>
                        </a:lnTo>
                        <a:lnTo>
                          <a:pt x="1167" y="103"/>
                        </a:lnTo>
                        <a:lnTo>
                          <a:pt x="1167" y="107"/>
                        </a:lnTo>
                        <a:lnTo>
                          <a:pt x="1167" y="113"/>
                        </a:lnTo>
                        <a:lnTo>
                          <a:pt x="1167" y="117"/>
                        </a:lnTo>
                        <a:lnTo>
                          <a:pt x="1169" y="120"/>
                        </a:lnTo>
                        <a:lnTo>
                          <a:pt x="1170" y="124"/>
                        </a:lnTo>
                        <a:lnTo>
                          <a:pt x="1170" y="128"/>
                        </a:lnTo>
                        <a:lnTo>
                          <a:pt x="1172" y="132"/>
                        </a:lnTo>
                        <a:lnTo>
                          <a:pt x="1173" y="135"/>
                        </a:lnTo>
                        <a:lnTo>
                          <a:pt x="1175" y="137"/>
                        </a:lnTo>
                        <a:lnTo>
                          <a:pt x="1177" y="140"/>
                        </a:lnTo>
                        <a:lnTo>
                          <a:pt x="1183" y="139"/>
                        </a:lnTo>
                        <a:lnTo>
                          <a:pt x="1183" y="135"/>
                        </a:lnTo>
                        <a:lnTo>
                          <a:pt x="1183" y="130"/>
                        </a:lnTo>
                        <a:lnTo>
                          <a:pt x="1183" y="126"/>
                        </a:lnTo>
                        <a:lnTo>
                          <a:pt x="1184" y="122"/>
                        </a:lnTo>
                        <a:lnTo>
                          <a:pt x="1183" y="118"/>
                        </a:lnTo>
                        <a:lnTo>
                          <a:pt x="1183" y="114"/>
                        </a:lnTo>
                        <a:lnTo>
                          <a:pt x="1181" y="109"/>
                        </a:lnTo>
                        <a:lnTo>
                          <a:pt x="1181" y="104"/>
                        </a:lnTo>
                        <a:lnTo>
                          <a:pt x="1180" y="100"/>
                        </a:lnTo>
                        <a:lnTo>
                          <a:pt x="1180" y="96"/>
                        </a:lnTo>
                        <a:lnTo>
                          <a:pt x="1178" y="92"/>
                        </a:lnTo>
                        <a:lnTo>
                          <a:pt x="1177" y="88"/>
                        </a:lnTo>
                        <a:lnTo>
                          <a:pt x="1177" y="82"/>
                        </a:lnTo>
                        <a:lnTo>
                          <a:pt x="1175" y="80"/>
                        </a:lnTo>
                        <a:lnTo>
                          <a:pt x="1175" y="76"/>
                        </a:lnTo>
                        <a:lnTo>
                          <a:pt x="1175" y="73"/>
                        </a:lnTo>
                        <a:lnTo>
                          <a:pt x="1172" y="70"/>
                        </a:lnTo>
                        <a:lnTo>
                          <a:pt x="1167" y="69"/>
                        </a:lnTo>
                        <a:lnTo>
                          <a:pt x="1161" y="67"/>
                        </a:lnTo>
                        <a:lnTo>
                          <a:pt x="1160" y="66"/>
                        </a:lnTo>
                        <a:lnTo>
                          <a:pt x="1183" y="66"/>
                        </a:lnTo>
                        <a:lnTo>
                          <a:pt x="1184" y="70"/>
                        </a:lnTo>
                        <a:lnTo>
                          <a:pt x="1184" y="74"/>
                        </a:lnTo>
                        <a:lnTo>
                          <a:pt x="1186" y="78"/>
                        </a:lnTo>
                        <a:lnTo>
                          <a:pt x="1187" y="84"/>
                        </a:lnTo>
                        <a:lnTo>
                          <a:pt x="1189" y="80"/>
                        </a:lnTo>
                        <a:lnTo>
                          <a:pt x="1190" y="77"/>
                        </a:lnTo>
                        <a:lnTo>
                          <a:pt x="1192" y="73"/>
                        </a:lnTo>
                        <a:lnTo>
                          <a:pt x="1192" y="70"/>
                        </a:lnTo>
                        <a:lnTo>
                          <a:pt x="1192" y="66"/>
                        </a:lnTo>
                        <a:lnTo>
                          <a:pt x="1190" y="62"/>
                        </a:lnTo>
                        <a:lnTo>
                          <a:pt x="1190" y="59"/>
                        </a:lnTo>
                        <a:lnTo>
                          <a:pt x="1190" y="56"/>
                        </a:lnTo>
                        <a:lnTo>
                          <a:pt x="1186" y="56"/>
                        </a:lnTo>
                        <a:lnTo>
                          <a:pt x="1181" y="56"/>
                        </a:lnTo>
                        <a:lnTo>
                          <a:pt x="1177" y="58"/>
                        </a:lnTo>
                        <a:lnTo>
                          <a:pt x="1170" y="58"/>
                        </a:lnTo>
                        <a:lnTo>
                          <a:pt x="1166" y="59"/>
                        </a:lnTo>
                        <a:lnTo>
                          <a:pt x="1161" y="60"/>
                        </a:lnTo>
                        <a:lnTo>
                          <a:pt x="1158" y="62"/>
                        </a:lnTo>
                        <a:lnTo>
                          <a:pt x="1155" y="63"/>
                        </a:lnTo>
                        <a:lnTo>
                          <a:pt x="1152" y="62"/>
                        </a:lnTo>
                        <a:lnTo>
                          <a:pt x="1149" y="62"/>
                        </a:lnTo>
                        <a:lnTo>
                          <a:pt x="1144" y="60"/>
                        </a:lnTo>
                        <a:lnTo>
                          <a:pt x="1140" y="60"/>
                        </a:lnTo>
                        <a:lnTo>
                          <a:pt x="1137" y="60"/>
                        </a:lnTo>
                        <a:lnTo>
                          <a:pt x="1132" y="60"/>
                        </a:lnTo>
                        <a:lnTo>
                          <a:pt x="1129" y="60"/>
                        </a:lnTo>
                        <a:lnTo>
                          <a:pt x="1126" y="60"/>
                        </a:lnTo>
                        <a:lnTo>
                          <a:pt x="1129" y="59"/>
                        </a:lnTo>
                        <a:lnTo>
                          <a:pt x="1132" y="58"/>
                        </a:lnTo>
                        <a:lnTo>
                          <a:pt x="1135" y="58"/>
                        </a:lnTo>
                        <a:lnTo>
                          <a:pt x="1140" y="56"/>
                        </a:lnTo>
                        <a:lnTo>
                          <a:pt x="1144" y="55"/>
                        </a:lnTo>
                        <a:lnTo>
                          <a:pt x="1149" y="55"/>
                        </a:lnTo>
                        <a:lnTo>
                          <a:pt x="1154" y="54"/>
                        </a:lnTo>
                        <a:lnTo>
                          <a:pt x="1160" y="54"/>
                        </a:lnTo>
                        <a:lnTo>
                          <a:pt x="1164" y="52"/>
                        </a:lnTo>
                        <a:lnTo>
                          <a:pt x="1170" y="52"/>
                        </a:lnTo>
                        <a:lnTo>
                          <a:pt x="1175" y="52"/>
                        </a:lnTo>
                        <a:lnTo>
                          <a:pt x="1180" y="52"/>
                        </a:lnTo>
                        <a:lnTo>
                          <a:pt x="1184" y="51"/>
                        </a:lnTo>
                        <a:lnTo>
                          <a:pt x="1189" y="51"/>
                        </a:lnTo>
                        <a:lnTo>
                          <a:pt x="1193" y="50"/>
                        </a:lnTo>
                        <a:lnTo>
                          <a:pt x="1198" y="50"/>
                        </a:lnTo>
                        <a:lnTo>
                          <a:pt x="1198" y="54"/>
                        </a:lnTo>
                        <a:lnTo>
                          <a:pt x="1198" y="56"/>
                        </a:lnTo>
                        <a:lnTo>
                          <a:pt x="1198" y="60"/>
                        </a:lnTo>
                        <a:lnTo>
                          <a:pt x="1199" y="63"/>
                        </a:lnTo>
                        <a:lnTo>
                          <a:pt x="1199" y="67"/>
                        </a:lnTo>
                        <a:lnTo>
                          <a:pt x="1201" y="70"/>
                        </a:lnTo>
                        <a:lnTo>
                          <a:pt x="1201" y="74"/>
                        </a:lnTo>
                        <a:lnTo>
                          <a:pt x="1203" y="78"/>
                        </a:lnTo>
                        <a:lnTo>
                          <a:pt x="1203" y="81"/>
                        </a:lnTo>
                        <a:lnTo>
                          <a:pt x="1203" y="85"/>
                        </a:lnTo>
                        <a:lnTo>
                          <a:pt x="1204" y="88"/>
                        </a:lnTo>
                        <a:lnTo>
                          <a:pt x="1204" y="92"/>
                        </a:lnTo>
                        <a:lnTo>
                          <a:pt x="1204" y="95"/>
                        </a:lnTo>
                        <a:lnTo>
                          <a:pt x="1206" y="99"/>
                        </a:lnTo>
                        <a:lnTo>
                          <a:pt x="1206" y="102"/>
                        </a:lnTo>
                        <a:lnTo>
                          <a:pt x="1207" y="106"/>
                        </a:lnTo>
                        <a:lnTo>
                          <a:pt x="1207" y="110"/>
                        </a:lnTo>
                        <a:lnTo>
                          <a:pt x="1207" y="113"/>
                        </a:lnTo>
                        <a:lnTo>
                          <a:pt x="1209" y="117"/>
                        </a:lnTo>
                        <a:lnTo>
                          <a:pt x="1209" y="120"/>
                        </a:lnTo>
                        <a:lnTo>
                          <a:pt x="1209" y="124"/>
                        </a:lnTo>
                        <a:lnTo>
                          <a:pt x="1210" y="126"/>
                        </a:lnTo>
                        <a:lnTo>
                          <a:pt x="1210" y="129"/>
                        </a:lnTo>
                        <a:lnTo>
                          <a:pt x="1212" y="133"/>
                        </a:lnTo>
                        <a:lnTo>
                          <a:pt x="1212" y="136"/>
                        </a:lnTo>
                        <a:lnTo>
                          <a:pt x="1213" y="140"/>
                        </a:lnTo>
                        <a:lnTo>
                          <a:pt x="1213" y="143"/>
                        </a:lnTo>
                        <a:lnTo>
                          <a:pt x="1215" y="147"/>
                        </a:lnTo>
                        <a:lnTo>
                          <a:pt x="1215" y="150"/>
                        </a:lnTo>
                        <a:lnTo>
                          <a:pt x="1216" y="154"/>
                        </a:lnTo>
                        <a:lnTo>
                          <a:pt x="1216" y="157"/>
                        </a:lnTo>
                        <a:lnTo>
                          <a:pt x="1218" y="161"/>
                        </a:lnTo>
                        <a:lnTo>
                          <a:pt x="1218" y="166"/>
                        </a:lnTo>
                        <a:lnTo>
                          <a:pt x="1219" y="172"/>
                        </a:lnTo>
                        <a:lnTo>
                          <a:pt x="1221" y="177"/>
                        </a:lnTo>
                        <a:lnTo>
                          <a:pt x="1222" y="183"/>
                        </a:lnTo>
                        <a:lnTo>
                          <a:pt x="1224" y="188"/>
                        </a:lnTo>
                        <a:lnTo>
                          <a:pt x="1227" y="194"/>
                        </a:lnTo>
                        <a:lnTo>
                          <a:pt x="1232" y="196"/>
                        </a:lnTo>
                        <a:lnTo>
                          <a:pt x="1236" y="199"/>
                        </a:lnTo>
                        <a:lnTo>
                          <a:pt x="1235" y="195"/>
                        </a:lnTo>
                        <a:lnTo>
                          <a:pt x="1235" y="191"/>
                        </a:lnTo>
                        <a:lnTo>
                          <a:pt x="1235" y="187"/>
                        </a:lnTo>
                        <a:lnTo>
                          <a:pt x="1235" y="183"/>
                        </a:lnTo>
                        <a:lnTo>
                          <a:pt x="1235" y="177"/>
                        </a:lnTo>
                        <a:lnTo>
                          <a:pt x="1235" y="172"/>
                        </a:lnTo>
                        <a:lnTo>
                          <a:pt x="1235" y="166"/>
                        </a:lnTo>
                        <a:lnTo>
                          <a:pt x="1235" y="161"/>
                        </a:lnTo>
                        <a:lnTo>
                          <a:pt x="1233" y="157"/>
                        </a:lnTo>
                        <a:lnTo>
                          <a:pt x="1233" y="154"/>
                        </a:lnTo>
                        <a:lnTo>
                          <a:pt x="1233" y="151"/>
                        </a:lnTo>
                        <a:lnTo>
                          <a:pt x="1233" y="147"/>
                        </a:lnTo>
                        <a:lnTo>
                          <a:pt x="1233" y="144"/>
                        </a:lnTo>
                        <a:lnTo>
                          <a:pt x="1233" y="140"/>
                        </a:lnTo>
                        <a:lnTo>
                          <a:pt x="1233" y="137"/>
                        </a:lnTo>
                        <a:lnTo>
                          <a:pt x="1233" y="135"/>
                        </a:lnTo>
                        <a:lnTo>
                          <a:pt x="1232" y="130"/>
                        </a:lnTo>
                        <a:lnTo>
                          <a:pt x="1232" y="128"/>
                        </a:lnTo>
                        <a:lnTo>
                          <a:pt x="1232" y="124"/>
                        </a:lnTo>
                        <a:lnTo>
                          <a:pt x="1232" y="121"/>
                        </a:lnTo>
                        <a:lnTo>
                          <a:pt x="1232" y="117"/>
                        </a:lnTo>
                        <a:lnTo>
                          <a:pt x="1232" y="114"/>
                        </a:lnTo>
                        <a:lnTo>
                          <a:pt x="1232" y="111"/>
                        </a:lnTo>
                        <a:lnTo>
                          <a:pt x="1232" y="107"/>
                        </a:lnTo>
                        <a:lnTo>
                          <a:pt x="1232" y="103"/>
                        </a:lnTo>
                        <a:lnTo>
                          <a:pt x="1230" y="100"/>
                        </a:lnTo>
                        <a:lnTo>
                          <a:pt x="1230" y="96"/>
                        </a:lnTo>
                        <a:lnTo>
                          <a:pt x="1230" y="93"/>
                        </a:lnTo>
                        <a:lnTo>
                          <a:pt x="1230" y="89"/>
                        </a:lnTo>
                        <a:lnTo>
                          <a:pt x="1229" y="87"/>
                        </a:lnTo>
                        <a:lnTo>
                          <a:pt x="1229" y="82"/>
                        </a:lnTo>
                        <a:lnTo>
                          <a:pt x="1229" y="80"/>
                        </a:lnTo>
                        <a:lnTo>
                          <a:pt x="1229" y="76"/>
                        </a:lnTo>
                        <a:lnTo>
                          <a:pt x="1229" y="73"/>
                        </a:lnTo>
                        <a:lnTo>
                          <a:pt x="1229" y="70"/>
                        </a:lnTo>
                        <a:lnTo>
                          <a:pt x="1229" y="67"/>
                        </a:lnTo>
                        <a:lnTo>
                          <a:pt x="1227" y="60"/>
                        </a:lnTo>
                        <a:lnTo>
                          <a:pt x="1227" y="56"/>
                        </a:lnTo>
                        <a:lnTo>
                          <a:pt x="1225" y="51"/>
                        </a:lnTo>
                        <a:lnTo>
                          <a:pt x="1224" y="45"/>
                        </a:lnTo>
                        <a:lnTo>
                          <a:pt x="1224" y="41"/>
                        </a:lnTo>
                        <a:lnTo>
                          <a:pt x="1224" y="37"/>
                        </a:lnTo>
                        <a:lnTo>
                          <a:pt x="1222" y="33"/>
                        </a:lnTo>
                        <a:lnTo>
                          <a:pt x="1221" y="30"/>
                        </a:lnTo>
                        <a:lnTo>
                          <a:pt x="1221" y="29"/>
                        </a:lnTo>
                        <a:lnTo>
                          <a:pt x="1221" y="28"/>
                        </a:lnTo>
                        <a:lnTo>
                          <a:pt x="1215" y="28"/>
                        </a:lnTo>
                        <a:lnTo>
                          <a:pt x="1207" y="28"/>
                        </a:lnTo>
                        <a:lnTo>
                          <a:pt x="1201" y="28"/>
                        </a:lnTo>
                        <a:lnTo>
                          <a:pt x="1196" y="28"/>
                        </a:lnTo>
                        <a:lnTo>
                          <a:pt x="1190" y="28"/>
                        </a:lnTo>
                        <a:lnTo>
                          <a:pt x="1184" y="28"/>
                        </a:lnTo>
                        <a:lnTo>
                          <a:pt x="1178" y="28"/>
                        </a:lnTo>
                        <a:lnTo>
                          <a:pt x="1172" y="28"/>
                        </a:lnTo>
                        <a:lnTo>
                          <a:pt x="1170" y="26"/>
                        </a:lnTo>
                        <a:lnTo>
                          <a:pt x="1169" y="26"/>
                        </a:lnTo>
                        <a:lnTo>
                          <a:pt x="1164" y="26"/>
                        </a:lnTo>
                        <a:lnTo>
                          <a:pt x="1161" y="25"/>
                        </a:lnTo>
                        <a:lnTo>
                          <a:pt x="1157" y="23"/>
                        </a:lnTo>
                        <a:lnTo>
                          <a:pt x="1154" y="23"/>
                        </a:lnTo>
                        <a:lnTo>
                          <a:pt x="1151" y="23"/>
                        </a:lnTo>
                        <a:lnTo>
                          <a:pt x="1149" y="22"/>
                        </a:lnTo>
                        <a:lnTo>
                          <a:pt x="1154" y="22"/>
                        </a:lnTo>
                        <a:lnTo>
                          <a:pt x="1160" y="21"/>
                        </a:lnTo>
                        <a:lnTo>
                          <a:pt x="1164" y="21"/>
                        </a:lnTo>
                        <a:lnTo>
                          <a:pt x="1170" y="21"/>
                        </a:lnTo>
                        <a:lnTo>
                          <a:pt x="1175" y="21"/>
                        </a:lnTo>
                        <a:lnTo>
                          <a:pt x="1180" y="19"/>
                        </a:lnTo>
                        <a:lnTo>
                          <a:pt x="1186" y="19"/>
                        </a:lnTo>
                        <a:lnTo>
                          <a:pt x="1190" y="19"/>
                        </a:lnTo>
                        <a:lnTo>
                          <a:pt x="1196" y="18"/>
                        </a:lnTo>
                        <a:lnTo>
                          <a:pt x="1201" y="18"/>
                        </a:lnTo>
                        <a:lnTo>
                          <a:pt x="1206" y="18"/>
                        </a:lnTo>
                        <a:lnTo>
                          <a:pt x="1212" y="18"/>
                        </a:lnTo>
                        <a:lnTo>
                          <a:pt x="1216" y="17"/>
                        </a:lnTo>
                        <a:lnTo>
                          <a:pt x="1221" y="17"/>
                        </a:lnTo>
                        <a:lnTo>
                          <a:pt x="1227" y="15"/>
                        </a:lnTo>
                        <a:lnTo>
                          <a:pt x="1233" y="15"/>
                        </a:lnTo>
                        <a:lnTo>
                          <a:pt x="1233" y="18"/>
                        </a:lnTo>
                        <a:lnTo>
                          <a:pt x="1233" y="21"/>
                        </a:lnTo>
                        <a:lnTo>
                          <a:pt x="1233" y="23"/>
                        </a:lnTo>
                        <a:lnTo>
                          <a:pt x="1233" y="29"/>
                        </a:lnTo>
                        <a:lnTo>
                          <a:pt x="1233" y="33"/>
                        </a:lnTo>
                        <a:lnTo>
                          <a:pt x="1235" y="39"/>
                        </a:lnTo>
                        <a:lnTo>
                          <a:pt x="1235" y="40"/>
                        </a:lnTo>
                        <a:lnTo>
                          <a:pt x="1235" y="43"/>
                        </a:lnTo>
                        <a:lnTo>
                          <a:pt x="1235" y="47"/>
                        </a:lnTo>
                        <a:lnTo>
                          <a:pt x="1236" y="50"/>
                        </a:lnTo>
                        <a:lnTo>
                          <a:pt x="1236" y="52"/>
                        </a:lnTo>
                        <a:lnTo>
                          <a:pt x="1236" y="55"/>
                        </a:lnTo>
                        <a:lnTo>
                          <a:pt x="1236" y="59"/>
                        </a:lnTo>
                        <a:lnTo>
                          <a:pt x="1236" y="62"/>
                        </a:lnTo>
                        <a:lnTo>
                          <a:pt x="1236" y="66"/>
                        </a:lnTo>
                        <a:lnTo>
                          <a:pt x="1236" y="69"/>
                        </a:lnTo>
                        <a:lnTo>
                          <a:pt x="1236" y="73"/>
                        </a:lnTo>
                        <a:lnTo>
                          <a:pt x="1238" y="76"/>
                        </a:lnTo>
                        <a:lnTo>
                          <a:pt x="1238" y="80"/>
                        </a:lnTo>
                        <a:lnTo>
                          <a:pt x="1238" y="82"/>
                        </a:lnTo>
                        <a:lnTo>
                          <a:pt x="1239" y="87"/>
                        </a:lnTo>
                        <a:lnTo>
                          <a:pt x="1239" y="91"/>
                        </a:lnTo>
                        <a:lnTo>
                          <a:pt x="1239" y="93"/>
                        </a:lnTo>
                        <a:lnTo>
                          <a:pt x="1239" y="98"/>
                        </a:lnTo>
                        <a:lnTo>
                          <a:pt x="1241" y="102"/>
                        </a:lnTo>
                        <a:lnTo>
                          <a:pt x="1241" y="106"/>
                        </a:lnTo>
                        <a:lnTo>
                          <a:pt x="1241" y="109"/>
                        </a:lnTo>
                        <a:lnTo>
                          <a:pt x="1242" y="113"/>
                        </a:lnTo>
                        <a:lnTo>
                          <a:pt x="1242" y="115"/>
                        </a:lnTo>
                        <a:lnTo>
                          <a:pt x="1242" y="120"/>
                        </a:lnTo>
                        <a:lnTo>
                          <a:pt x="1242" y="122"/>
                        </a:lnTo>
                        <a:lnTo>
                          <a:pt x="1244" y="126"/>
                        </a:lnTo>
                        <a:lnTo>
                          <a:pt x="1244" y="129"/>
                        </a:lnTo>
                        <a:lnTo>
                          <a:pt x="1245" y="133"/>
                        </a:lnTo>
                        <a:lnTo>
                          <a:pt x="1245" y="136"/>
                        </a:lnTo>
                        <a:lnTo>
                          <a:pt x="1245" y="139"/>
                        </a:lnTo>
                        <a:lnTo>
                          <a:pt x="1245" y="141"/>
                        </a:lnTo>
                        <a:lnTo>
                          <a:pt x="1247" y="146"/>
                        </a:lnTo>
                        <a:lnTo>
                          <a:pt x="1248" y="151"/>
                        </a:lnTo>
                        <a:lnTo>
                          <a:pt x="1250" y="157"/>
                        </a:lnTo>
                        <a:lnTo>
                          <a:pt x="1251" y="162"/>
                        </a:lnTo>
                        <a:lnTo>
                          <a:pt x="1253" y="166"/>
                        </a:lnTo>
                        <a:lnTo>
                          <a:pt x="1253" y="172"/>
                        </a:lnTo>
                        <a:lnTo>
                          <a:pt x="1256" y="176"/>
                        </a:lnTo>
                        <a:lnTo>
                          <a:pt x="1258" y="179"/>
                        </a:lnTo>
                        <a:lnTo>
                          <a:pt x="1259" y="180"/>
                        </a:lnTo>
                        <a:lnTo>
                          <a:pt x="1261" y="181"/>
                        </a:lnTo>
                        <a:lnTo>
                          <a:pt x="1262" y="184"/>
                        </a:lnTo>
                        <a:lnTo>
                          <a:pt x="1262" y="180"/>
                        </a:lnTo>
                        <a:lnTo>
                          <a:pt x="1262" y="177"/>
                        </a:lnTo>
                        <a:lnTo>
                          <a:pt x="1262" y="174"/>
                        </a:lnTo>
                        <a:lnTo>
                          <a:pt x="1262" y="172"/>
                        </a:lnTo>
                        <a:lnTo>
                          <a:pt x="1261" y="168"/>
                        </a:lnTo>
                        <a:lnTo>
                          <a:pt x="1261" y="165"/>
                        </a:lnTo>
                        <a:lnTo>
                          <a:pt x="1261" y="162"/>
                        </a:lnTo>
                        <a:lnTo>
                          <a:pt x="1261" y="159"/>
                        </a:lnTo>
                        <a:lnTo>
                          <a:pt x="1261" y="155"/>
                        </a:lnTo>
                        <a:lnTo>
                          <a:pt x="1261" y="152"/>
                        </a:lnTo>
                        <a:lnTo>
                          <a:pt x="1259" y="150"/>
                        </a:lnTo>
                        <a:lnTo>
                          <a:pt x="1259" y="147"/>
                        </a:lnTo>
                        <a:lnTo>
                          <a:pt x="1259" y="143"/>
                        </a:lnTo>
                        <a:lnTo>
                          <a:pt x="1259" y="140"/>
                        </a:lnTo>
                        <a:lnTo>
                          <a:pt x="1259" y="137"/>
                        </a:lnTo>
                        <a:lnTo>
                          <a:pt x="1259" y="135"/>
                        </a:lnTo>
                        <a:lnTo>
                          <a:pt x="1259" y="130"/>
                        </a:lnTo>
                        <a:lnTo>
                          <a:pt x="1259" y="128"/>
                        </a:lnTo>
                        <a:lnTo>
                          <a:pt x="1258" y="124"/>
                        </a:lnTo>
                        <a:lnTo>
                          <a:pt x="1258" y="121"/>
                        </a:lnTo>
                        <a:lnTo>
                          <a:pt x="1258" y="118"/>
                        </a:lnTo>
                        <a:lnTo>
                          <a:pt x="1258" y="115"/>
                        </a:lnTo>
                        <a:lnTo>
                          <a:pt x="1258" y="111"/>
                        </a:lnTo>
                        <a:lnTo>
                          <a:pt x="1258" y="109"/>
                        </a:lnTo>
                        <a:lnTo>
                          <a:pt x="1256" y="106"/>
                        </a:lnTo>
                        <a:lnTo>
                          <a:pt x="1256" y="102"/>
                        </a:lnTo>
                        <a:lnTo>
                          <a:pt x="1256" y="99"/>
                        </a:lnTo>
                        <a:lnTo>
                          <a:pt x="1256" y="96"/>
                        </a:lnTo>
                        <a:lnTo>
                          <a:pt x="1256" y="92"/>
                        </a:lnTo>
                        <a:lnTo>
                          <a:pt x="1256" y="89"/>
                        </a:lnTo>
                        <a:lnTo>
                          <a:pt x="1256" y="87"/>
                        </a:lnTo>
                        <a:lnTo>
                          <a:pt x="1256" y="84"/>
                        </a:lnTo>
                        <a:lnTo>
                          <a:pt x="1256" y="80"/>
                        </a:lnTo>
                        <a:lnTo>
                          <a:pt x="1258" y="77"/>
                        </a:lnTo>
                        <a:lnTo>
                          <a:pt x="1259" y="74"/>
                        </a:lnTo>
                        <a:lnTo>
                          <a:pt x="1261" y="71"/>
                        </a:lnTo>
                        <a:lnTo>
                          <a:pt x="1262" y="66"/>
                        </a:lnTo>
                        <a:lnTo>
                          <a:pt x="1264" y="60"/>
                        </a:lnTo>
                        <a:lnTo>
                          <a:pt x="1265" y="55"/>
                        </a:lnTo>
                        <a:lnTo>
                          <a:pt x="1267" y="51"/>
                        </a:lnTo>
                        <a:lnTo>
                          <a:pt x="1268" y="45"/>
                        </a:lnTo>
                        <a:lnTo>
                          <a:pt x="1270" y="41"/>
                        </a:lnTo>
                        <a:lnTo>
                          <a:pt x="1270" y="36"/>
                        </a:lnTo>
                        <a:lnTo>
                          <a:pt x="1270" y="32"/>
                        </a:lnTo>
                        <a:lnTo>
                          <a:pt x="1270" y="28"/>
                        </a:lnTo>
                        <a:lnTo>
                          <a:pt x="1270" y="22"/>
                        </a:lnTo>
                        <a:lnTo>
                          <a:pt x="1268" y="17"/>
                        </a:lnTo>
                        <a:lnTo>
                          <a:pt x="1268" y="11"/>
                        </a:lnTo>
                        <a:lnTo>
                          <a:pt x="1267" y="6"/>
                        </a:lnTo>
                        <a:lnTo>
                          <a:pt x="126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Freeform 215"/>
                  <p:cNvSpPr/>
                  <p:nvPr/>
                </p:nvSpPr>
                <p:spPr>
                  <a:xfrm>
                    <a:off x="3968280" y="3592800"/>
                    <a:ext cx="22320" cy="10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155" h="11">
                        <a:moveTo>
                          <a:pt x="155" y="11"/>
                        </a:moveTo>
                        <a:lnTo>
                          <a:pt x="152" y="11"/>
                        </a:lnTo>
                        <a:lnTo>
                          <a:pt x="149" y="11"/>
                        </a:lnTo>
                        <a:lnTo>
                          <a:pt x="144" y="9"/>
                        </a:lnTo>
                        <a:lnTo>
                          <a:pt x="141" y="9"/>
                        </a:lnTo>
                        <a:lnTo>
                          <a:pt x="135" y="9"/>
                        </a:lnTo>
                        <a:lnTo>
                          <a:pt x="130" y="9"/>
                        </a:lnTo>
                        <a:lnTo>
                          <a:pt x="126" y="9"/>
                        </a:lnTo>
                        <a:lnTo>
                          <a:pt x="120" y="9"/>
                        </a:lnTo>
                        <a:lnTo>
                          <a:pt x="114" y="9"/>
                        </a:lnTo>
                        <a:lnTo>
                          <a:pt x="109" y="9"/>
                        </a:lnTo>
                        <a:lnTo>
                          <a:pt x="103" y="9"/>
                        </a:lnTo>
                        <a:lnTo>
                          <a:pt x="97" y="9"/>
                        </a:lnTo>
                        <a:lnTo>
                          <a:pt x="89" y="8"/>
                        </a:lnTo>
                        <a:lnTo>
                          <a:pt x="85" y="8"/>
                        </a:lnTo>
                        <a:lnTo>
                          <a:pt x="77" y="8"/>
                        </a:lnTo>
                        <a:lnTo>
                          <a:pt x="72" y="8"/>
                        </a:lnTo>
                        <a:lnTo>
                          <a:pt x="65" y="8"/>
                        </a:lnTo>
                        <a:lnTo>
                          <a:pt x="59" y="8"/>
                        </a:lnTo>
                        <a:lnTo>
                          <a:pt x="52" y="7"/>
                        </a:lnTo>
                        <a:lnTo>
                          <a:pt x="46" y="7"/>
                        </a:lnTo>
                        <a:lnTo>
                          <a:pt x="40" y="7"/>
                        </a:lnTo>
                        <a:lnTo>
                          <a:pt x="36" y="7"/>
                        </a:lnTo>
                        <a:lnTo>
                          <a:pt x="29" y="5"/>
                        </a:lnTo>
                        <a:lnTo>
                          <a:pt x="25" y="5"/>
                        </a:lnTo>
                        <a:lnTo>
                          <a:pt x="19" y="5"/>
                        </a:lnTo>
                        <a:lnTo>
                          <a:pt x="16" y="4"/>
                        </a:lnTo>
                        <a:lnTo>
                          <a:pt x="11" y="4"/>
                        </a:lnTo>
                        <a:lnTo>
                          <a:pt x="8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1" y="0"/>
                        </a:lnTo>
                        <a:lnTo>
                          <a:pt x="55" y="3"/>
                        </a:lnTo>
                        <a:lnTo>
                          <a:pt x="60" y="1"/>
                        </a:lnTo>
                        <a:lnTo>
                          <a:pt x="65" y="1"/>
                        </a:lnTo>
                        <a:lnTo>
                          <a:pt x="69" y="1"/>
                        </a:lnTo>
                        <a:lnTo>
                          <a:pt x="72" y="1"/>
                        </a:lnTo>
                        <a:lnTo>
                          <a:pt x="77" y="1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91" y="1"/>
                        </a:lnTo>
                        <a:lnTo>
                          <a:pt x="95" y="1"/>
                        </a:lnTo>
                        <a:lnTo>
                          <a:pt x="100" y="1"/>
                        </a:lnTo>
                        <a:lnTo>
                          <a:pt x="103" y="1"/>
                        </a:lnTo>
                        <a:lnTo>
                          <a:pt x="109" y="1"/>
                        </a:lnTo>
                        <a:lnTo>
                          <a:pt x="114" y="1"/>
                        </a:lnTo>
                        <a:lnTo>
                          <a:pt x="117" y="1"/>
                        </a:lnTo>
                        <a:lnTo>
                          <a:pt x="121" y="1"/>
                        </a:lnTo>
                        <a:lnTo>
                          <a:pt x="127" y="3"/>
                        </a:lnTo>
                        <a:lnTo>
                          <a:pt x="130" y="3"/>
                        </a:lnTo>
                        <a:lnTo>
                          <a:pt x="137" y="3"/>
                        </a:lnTo>
                        <a:lnTo>
                          <a:pt x="141" y="5"/>
                        </a:lnTo>
                        <a:lnTo>
                          <a:pt x="147" y="7"/>
                        </a:lnTo>
                        <a:lnTo>
                          <a:pt x="152" y="8"/>
                        </a:lnTo>
                        <a:lnTo>
                          <a:pt x="155" y="9"/>
                        </a:lnTo>
                        <a:lnTo>
                          <a:pt x="155" y="1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216"/>
                  <p:cNvSpPr/>
                  <p:nvPr/>
                </p:nvSpPr>
                <p:spPr>
                  <a:xfrm>
                    <a:off x="3854880" y="3598920"/>
                    <a:ext cx="9360" cy="54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5" h="42">
                        <a:moveTo>
                          <a:pt x="65" y="0"/>
                        </a:moveTo>
                        <a:lnTo>
                          <a:pt x="64" y="0"/>
                        </a:lnTo>
                        <a:lnTo>
                          <a:pt x="61" y="0"/>
                        </a:lnTo>
                        <a:lnTo>
                          <a:pt x="56" y="0"/>
                        </a:lnTo>
                        <a:lnTo>
                          <a:pt x="53" y="0"/>
                        </a:lnTo>
                        <a:lnTo>
                          <a:pt x="49" y="0"/>
                        </a:lnTo>
                        <a:lnTo>
                          <a:pt x="42" y="0"/>
                        </a:lnTo>
                        <a:lnTo>
                          <a:pt x="38" y="1"/>
                        </a:lnTo>
                        <a:lnTo>
                          <a:pt x="33" y="3"/>
                        </a:lnTo>
                        <a:lnTo>
                          <a:pt x="27" y="3"/>
                        </a:lnTo>
                        <a:lnTo>
                          <a:pt x="23" y="3"/>
                        </a:lnTo>
                        <a:lnTo>
                          <a:pt x="16" y="4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4" y="7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4" y="42"/>
                        </a:lnTo>
                        <a:lnTo>
                          <a:pt x="7" y="41"/>
                        </a:lnTo>
                        <a:lnTo>
                          <a:pt x="6" y="38"/>
                        </a:lnTo>
                        <a:lnTo>
                          <a:pt x="6" y="34"/>
                        </a:lnTo>
                        <a:lnTo>
                          <a:pt x="6" y="30"/>
                        </a:lnTo>
                        <a:lnTo>
                          <a:pt x="4" y="27"/>
                        </a:lnTo>
                        <a:lnTo>
                          <a:pt x="4" y="22"/>
                        </a:lnTo>
                        <a:lnTo>
                          <a:pt x="3" y="19"/>
                        </a:lnTo>
                        <a:lnTo>
                          <a:pt x="3" y="16"/>
                        </a:lnTo>
                        <a:lnTo>
                          <a:pt x="4" y="15"/>
                        </a:lnTo>
                        <a:lnTo>
                          <a:pt x="7" y="15"/>
                        </a:lnTo>
                        <a:lnTo>
                          <a:pt x="12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3" y="14"/>
                        </a:lnTo>
                        <a:lnTo>
                          <a:pt x="27" y="12"/>
                        </a:lnTo>
                        <a:lnTo>
                          <a:pt x="32" y="12"/>
                        </a:lnTo>
                        <a:lnTo>
                          <a:pt x="36" y="11"/>
                        </a:lnTo>
                        <a:lnTo>
                          <a:pt x="39" y="9"/>
                        </a:lnTo>
                        <a:lnTo>
                          <a:pt x="44" y="8"/>
                        </a:lnTo>
                        <a:lnTo>
                          <a:pt x="49" y="7"/>
                        </a:lnTo>
                        <a:lnTo>
                          <a:pt x="53" y="5"/>
                        </a:lnTo>
                        <a:lnTo>
                          <a:pt x="56" y="4"/>
                        </a:lnTo>
                        <a:lnTo>
                          <a:pt x="59" y="3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217"/>
                  <p:cNvSpPr/>
                  <p:nvPr/>
                </p:nvSpPr>
                <p:spPr>
                  <a:xfrm>
                    <a:off x="3832920" y="3612240"/>
                    <a:ext cx="208800" cy="30600"/>
                  </a:xfrm>
                  <a:custGeom>
                    <a:avLst/>
                    <a:gdLst>
                      <a:gd name="textAreaLeft" fmla="*/ 0 w 208800"/>
                      <a:gd name="textAreaRight" fmla="*/ 209160 w 20880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450" h="235">
                        <a:moveTo>
                          <a:pt x="9" y="4"/>
                        </a:moveTo>
                        <a:lnTo>
                          <a:pt x="9" y="7"/>
                        </a:lnTo>
                        <a:lnTo>
                          <a:pt x="8" y="11"/>
                        </a:lnTo>
                        <a:lnTo>
                          <a:pt x="8" y="15"/>
                        </a:lnTo>
                        <a:lnTo>
                          <a:pt x="6" y="19"/>
                        </a:lnTo>
                        <a:lnTo>
                          <a:pt x="6" y="23"/>
                        </a:lnTo>
                        <a:lnTo>
                          <a:pt x="6" y="28"/>
                        </a:lnTo>
                        <a:lnTo>
                          <a:pt x="4" y="33"/>
                        </a:lnTo>
                        <a:lnTo>
                          <a:pt x="4" y="37"/>
                        </a:lnTo>
                        <a:lnTo>
                          <a:pt x="4" y="43"/>
                        </a:lnTo>
                        <a:lnTo>
                          <a:pt x="3" y="47"/>
                        </a:lnTo>
                        <a:lnTo>
                          <a:pt x="3" y="51"/>
                        </a:lnTo>
                        <a:lnTo>
                          <a:pt x="3" y="56"/>
                        </a:lnTo>
                        <a:lnTo>
                          <a:pt x="1" y="62"/>
                        </a:lnTo>
                        <a:lnTo>
                          <a:pt x="1" y="66"/>
                        </a:lnTo>
                        <a:lnTo>
                          <a:pt x="1" y="71"/>
                        </a:lnTo>
                        <a:lnTo>
                          <a:pt x="1" y="77"/>
                        </a:lnTo>
                        <a:lnTo>
                          <a:pt x="1" y="81"/>
                        </a:lnTo>
                        <a:lnTo>
                          <a:pt x="1" y="87"/>
                        </a:lnTo>
                        <a:lnTo>
                          <a:pt x="0" y="91"/>
                        </a:lnTo>
                        <a:lnTo>
                          <a:pt x="0" y="96"/>
                        </a:lnTo>
                        <a:lnTo>
                          <a:pt x="0" y="100"/>
                        </a:lnTo>
                        <a:lnTo>
                          <a:pt x="0" y="104"/>
                        </a:lnTo>
                        <a:lnTo>
                          <a:pt x="0" y="110"/>
                        </a:lnTo>
                        <a:lnTo>
                          <a:pt x="0" y="115"/>
                        </a:lnTo>
                        <a:lnTo>
                          <a:pt x="0" y="119"/>
                        </a:lnTo>
                        <a:lnTo>
                          <a:pt x="0" y="124"/>
                        </a:lnTo>
                        <a:lnTo>
                          <a:pt x="0" y="129"/>
                        </a:lnTo>
                        <a:lnTo>
                          <a:pt x="0" y="133"/>
                        </a:lnTo>
                        <a:lnTo>
                          <a:pt x="0" y="137"/>
                        </a:lnTo>
                        <a:lnTo>
                          <a:pt x="0" y="141"/>
                        </a:lnTo>
                        <a:lnTo>
                          <a:pt x="0" y="147"/>
                        </a:lnTo>
                        <a:lnTo>
                          <a:pt x="0" y="151"/>
                        </a:lnTo>
                        <a:lnTo>
                          <a:pt x="0" y="150"/>
                        </a:lnTo>
                        <a:lnTo>
                          <a:pt x="1" y="147"/>
                        </a:lnTo>
                        <a:lnTo>
                          <a:pt x="3" y="143"/>
                        </a:lnTo>
                        <a:lnTo>
                          <a:pt x="4" y="140"/>
                        </a:lnTo>
                        <a:lnTo>
                          <a:pt x="4" y="135"/>
                        </a:lnTo>
                        <a:lnTo>
                          <a:pt x="6" y="130"/>
                        </a:lnTo>
                        <a:lnTo>
                          <a:pt x="6" y="125"/>
                        </a:lnTo>
                        <a:lnTo>
                          <a:pt x="8" y="121"/>
                        </a:lnTo>
                        <a:lnTo>
                          <a:pt x="8" y="114"/>
                        </a:lnTo>
                        <a:lnTo>
                          <a:pt x="8" y="108"/>
                        </a:lnTo>
                        <a:lnTo>
                          <a:pt x="9" y="104"/>
                        </a:lnTo>
                        <a:lnTo>
                          <a:pt x="9" y="99"/>
                        </a:lnTo>
                        <a:lnTo>
                          <a:pt x="9" y="95"/>
                        </a:lnTo>
                        <a:lnTo>
                          <a:pt x="9" y="92"/>
                        </a:lnTo>
                        <a:lnTo>
                          <a:pt x="9" y="89"/>
                        </a:lnTo>
                        <a:lnTo>
                          <a:pt x="9" y="88"/>
                        </a:lnTo>
                        <a:lnTo>
                          <a:pt x="17" y="33"/>
                        </a:lnTo>
                        <a:lnTo>
                          <a:pt x="21" y="32"/>
                        </a:lnTo>
                        <a:lnTo>
                          <a:pt x="26" y="32"/>
                        </a:lnTo>
                        <a:lnTo>
                          <a:pt x="30" y="30"/>
                        </a:lnTo>
                        <a:lnTo>
                          <a:pt x="37" y="30"/>
                        </a:lnTo>
                        <a:lnTo>
                          <a:pt x="41" y="28"/>
                        </a:lnTo>
                        <a:lnTo>
                          <a:pt x="47" y="28"/>
                        </a:lnTo>
                        <a:lnTo>
                          <a:pt x="50" y="26"/>
                        </a:lnTo>
                        <a:lnTo>
                          <a:pt x="53" y="26"/>
                        </a:lnTo>
                        <a:lnTo>
                          <a:pt x="58" y="25"/>
                        </a:lnTo>
                        <a:lnTo>
                          <a:pt x="61" y="25"/>
                        </a:lnTo>
                        <a:lnTo>
                          <a:pt x="64" y="23"/>
                        </a:lnTo>
                        <a:lnTo>
                          <a:pt x="67" y="23"/>
                        </a:lnTo>
                        <a:lnTo>
                          <a:pt x="72" y="23"/>
                        </a:lnTo>
                        <a:lnTo>
                          <a:pt x="75" y="22"/>
                        </a:lnTo>
                        <a:lnTo>
                          <a:pt x="79" y="22"/>
                        </a:lnTo>
                        <a:lnTo>
                          <a:pt x="82" y="21"/>
                        </a:lnTo>
                        <a:lnTo>
                          <a:pt x="87" y="21"/>
                        </a:lnTo>
                        <a:lnTo>
                          <a:pt x="90" y="21"/>
                        </a:lnTo>
                        <a:lnTo>
                          <a:pt x="95" y="19"/>
                        </a:lnTo>
                        <a:lnTo>
                          <a:pt x="98" y="19"/>
                        </a:lnTo>
                        <a:lnTo>
                          <a:pt x="101" y="18"/>
                        </a:lnTo>
                        <a:lnTo>
                          <a:pt x="105" y="18"/>
                        </a:lnTo>
                        <a:lnTo>
                          <a:pt x="108" y="18"/>
                        </a:lnTo>
                        <a:lnTo>
                          <a:pt x="113" y="17"/>
                        </a:lnTo>
                        <a:lnTo>
                          <a:pt x="118" y="17"/>
                        </a:lnTo>
                        <a:lnTo>
                          <a:pt x="122" y="17"/>
                        </a:lnTo>
                        <a:lnTo>
                          <a:pt x="125" y="15"/>
                        </a:lnTo>
                        <a:lnTo>
                          <a:pt x="128" y="15"/>
                        </a:lnTo>
                        <a:lnTo>
                          <a:pt x="133" y="14"/>
                        </a:lnTo>
                        <a:lnTo>
                          <a:pt x="136" y="14"/>
                        </a:lnTo>
                        <a:lnTo>
                          <a:pt x="141" y="14"/>
                        </a:lnTo>
                        <a:lnTo>
                          <a:pt x="144" y="12"/>
                        </a:lnTo>
                        <a:lnTo>
                          <a:pt x="148" y="12"/>
                        </a:lnTo>
                        <a:lnTo>
                          <a:pt x="151" y="12"/>
                        </a:lnTo>
                        <a:lnTo>
                          <a:pt x="157" y="12"/>
                        </a:lnTo>
                        <a:lnTo>
                          <a:pt x="165" y="11"/>
                        </a:lnTo>
                        <a:lnTo>
                          <a:pt x="171" y="11"/>
                        </a:lnTo>
                        <a:lnTo>
                          <a:pt x="177" y="11"/>
                        </a:lnTo>
                        <a:lnTo>
                          <a:pt x="183" y="11"/>
                        </a:lnTo>
                        <a:lnTo>
                          <a:pt x="190" y="11"/>
                        </a:lnTo>
                        <a:lnTo>
                          <a:pt x="194" y="11"/>
                        </a:lnTo>
                        <a:lnTo>
                          <a:pt x="199" y="11"/>
                        </a:lnTo>
                        <a:lnTo>
                          <a:pt x="202" y="12"/>
                        </a:lnTo>
                        <a:lnTo>
                          <a:pt x="206" y="12"/>
                        </a:lnTo>
                        <a:lnTo>
                          <a:pt x="209" y="14"/>
                        </a:lnTo>
                        <a:lnTo>
                          <a:pt x="211" y="15"/>
                        </a:lnTo>
                        <a:lnTo>
                          <a:pt x="209" y="15"/>
                        </a:lnTo>
                        <a:lnTo>
                          <a:pt x="206" y="14"/>
                        </a:lnTo>
                        <a:lnTo>
                          <a:pt x="202" y="14"/>
                        </a:lnTo>
                        <a:lnTo>
                          <a:pt x="199" y="15"/>
                        </a:lnTo>
                        <a:lnTo>
                          <a:pt x="194" y="15"/>
                        </a:lnTo>
                        <a:lnTo>
                          <a:pt x="190" y="15"/>
                        </a:lnTo>
                        <a:lnTo>
                          <a:pt x="183" y="15"/>
                        </a:lnTo>
                        <a:lnTo>
                          <a:pt x="179" y="15"/>
                        </a:lnTo>
                        <a:lnTo>
                          <a:pt x="173" y="15"/>
                        </a:lnTo>
                        <a:lnTo>
                          <a:pt x="167" y="17"/>
                        </a:lnTo>
                        <a:lnTo>
                          <a:pt x="162" y="17"/>
                        </a:lnTo>
                        <a:lnTo>
                          <a:pt x="159" y="18"/>
                        </a:lnTo>
                        <a:lnTo>
                          <a:pt x="156" y="18"/>
                        </a:lnTo>
                        <a:lnTo>
                          <a:pt x="153" y="18"/>
                        </a:lnTo>
                        <a:lnTo>
                          <a:pt x="148" y="18"/>
                        </a:lnTo>
                        <a:lnTo>
                          <a:pt x="145" y="19"/>
                        </a:lnTo>
                        <a:lnTo>
                          <a:pt x="141" y="19"/>
                        </a:lnTo>
                        <a:lnTo>
                          <a:pt x="138" y="21"/>
                        </a:lnTo>
                        <a:lnTo>
                          <a:pt x="133" y="21"/>
                        </a:lnTo>
                        <a:lnTo>
                          <a:pt x="130" y="21"/>
                        </a:lnTo>
                        <a:lnTo>
                          <a:pt x="125" y="22"/>
                        </a:lnTo>
                        <a:lnTo>
                          <a:pt x="122" y="23"/>
                        </a:lnTo>
                        <a:lnTo>
                          <a:pt x="119" y="23"/>
                        </a:lnTo>
                        <a:lnTo>
                          <a:pt x="115" y="23"/>
                        </a:lnTo>
                        <a:lnTo>
                          <a:pt x="110" y="23"/>
                        </a:lnTo>
                        <a:lnTo>
                          <a:pt x="107" y="25"/>
                        </a:lnTo>
                        <a:lnTo>
                          <a:pt x="102" y="25"/>
                        </a:lnTo>
                        <a:lnTo>
                          <a:pt x="99" y="26"/>
                        </a:lnTo>
                        <a:lnTo>
                          <a:pt x="95" y="26"/>
                        </a:lnTo>
                        <a:lnTo>
                          <a:pt x="92" y="28"/>
                        </a:lnTo>
                        <a:lnTo>
                          <a:pt x="87" y="28"/>
                        </a:lnTo>
                        <a:lnTo>
                          <a:pt x="84" y="28"/>
                        </a:lnTo>
                        <a:lnTo>
                          <a:pt x="81" y="29"/>
                        </a:lnTo>
                        <a:lnTo>
                          <a:pt x="76" y="29"/>
                        </a:lnTo>
                        <a:lnTo>
                          <a:pt x="70" y="30"/>
                        </a:lnTo>
                        <a:lnTo>
                          <a:pt x="63" y="32"/>
                        </a:lnTo>
                        <a:lnTo>
                          <a:pt x="56" y="33"/>
                        </a:lnTo>
                        <a:lnTo>
                          <a:pt x="50" y="34"/>
                        </a:lnTo>
                        <a:lnTo>
                          <a:pt x="44" y="34"/>
                        </a:lnTo>
                        <a:lnTo>
                          <a:pt x="40" y="36"/>
                        </a:lnTo>
                        <a:lnTo>
                          <a:pt x="35" y="37"/>
                        </a:lnTo>
                        <a:lnTo>
                          <a:pt x="30" y="38"/>
                        </a:lnTo>
                        <a:lnTo>
                          <a:pt x="27" y="38"/>
                        </a:lnTo>
                        <a:lnTo>
                          <a:pt x="24" y="40"/>
                        </a:lnTo>
                        <a:lnTo>
                          <a:pt x="23" y="44"/>
                        </a:lnTo>
                        <a:lnTo>
                          <a:pt x="23" y="51"/>
                        </a:lnTo>
                        <a:lnTo>
                          <a:pt x="23" y="54"/>
                        </a:lnTo>
                        <a:lnTo>
                          <a:pt x="21" y="58"/>
                        </a:lnTo>
                        <a:lnTo>
                          <a:pt x="21" y="62"/>
                        </a:lnTo>
                        <a:lnTo>
                          <a:pt x="21" y="65"/>
                        </a:lnTo>
                        <a:lnTo>
                          <a:pt x="21" y="69"/>
                        </a:lnTo>
                        <a:lnTo>
                          <a:pt x="21" y="71"/>
                        </a:lnTo>
                        <a:lnTo>
                          <a:pt x="21" y="76"/>
                        </a:lnTo>
                        <a:lnTo>
                          <a:pt x="23" y="78"/>
                        </a:lnTo>
                        <a:lnTo>
                          <a:pt x="23" y="84"/>
                        </a:lnTo>
                        <a:lnTo>
                          <a:pt x="24" y="88"/>
                        </a:lnTo>
                        <a:lnTo>
                          <a:pt x="24" y="89"/>
                        </a:lnTo>
                        <a:lnTo>
                          <a:pt x="24" y="93"/>
                        </a:lnTo>
                        <a:lnTo>
                          <a:pt x="23" y="96"/>
                        </a:lnTo>
                        <a:lnTo>
                          <a:pt x="23" y="99"/>
                        </a:lnTo>
                        <a:lnTo>
                          <a:pt x="23" y="103"/>
                        </a:lnTo>
                        <a:lnTo>
                          <a:pt x="23" y="106"/>
                        </a:lnTo>
                        <a:lnTo>
                          <a:pt x="23" y="108"/>
                        </a:lnTo>
                        <a:lnTo>
                          <a:pt x="21" y="111"/>
                        </a:lnTo>
                        <a:lnTo>
                          <a:pt x="21" y="114"/>
                        </a:lnTo>
                        <a:lnTo>
                          <a:pt x="21" y="117"/>
                        </a:lnTo>
                        <a:lnTo>
                          <a:pt x="20" y="121"/>
                        </a:lnTo>
                        <a:lnTo>
                          <a:pt x="20" y="122"/>
                        </a:lnTo>
                        <a:lnTo>
                          <a:pt x="20" y="125"/>
                        </a:lnTo>
                        <a:lnTo>
                          <a:pt x="20" y="128"/>
                        </a:lnTo>
                        <a:lnTo>
                          <a:pt x="20" y="130"/>
                        </a:lnTo>
                        <a:lnTo>
                          <a:pt x="20" y="135"/>
                        </a:lnTo>
                        <a:lnTo>
                          <a:pt x="18" y="137"/>
                        </a:lnTo>
                        <a:lnTo>
                          <a:pt x="18" y="140"/>
                        </a:lnTo>
                        <a:lnTo>
                          <a:pt x="18" y="143"/>
                        </a:lnTo>
                        <a:lnTo>
                          <a:pt x="18" y="147"/>
                        </a:lnTo>
                        <a:lnTo>
                          <a:pt x="18" y="150"/>
                        </a:lnTo>
                        <a:lnTo>
                          <a:pt x="18" y="152"/>
                        </a:lnTo>
                        <a:lnTo>
                          <a:pt x="18" y="155"/>
                        </a:lnTo>
                        <a:lnTo>
                          <a:pt x="18" y="159"/>
                        </a:lnTo>
                        <a:lnTo>
                          <a:pt x="17" y="162"/>
                        </a:lnTo>
                        <a:lnTo>
                          <a:pt x="17" y="165"/>
                        </a:lnTo>
                        <a:lnTo>
                          <a:pt x="17" y="168"/>
                        </a:lnTo>
                        <a:lnTo>
                          <a:pt x="17" y="172"/>
                        </a:lnTo>
                        <a:lnTo>
                          <a:pt x="17" y="177"/>
                        </a:lnTo>
                        <a:lnTo>
                          <a:pt x="15" y="183"/>
                        </a:lnTo>
                        <a:lnTo>
                          <a:pt x="15" y="185"/>
                        </a:lnTo>
                        <a:lnTo>
                          <a:pt x="15" y="189"/>
                        </a:lnTo>
                        <a:lnTo>
                          <a:pt x="15" y="192"/>
                        </a:lnTo>
                        <a:lnTo>
                          <a:pt x="15" y="196"/>
                        </a:lnTo>
                        <a:lnTo>
                          <a:pt x="15" y="199"/>
                        </a:lnTo>
                        <a:lnTo>
                          <a:pt x="15" y="202"/>
                        </a:lnTo>
                        <a:lnTo>
                          <a:pt x="15" y="205"/>
                        </a:lnTo>
                        <a:lnTo>
                          <a:pt x="15" y="209"/>
                        </a:lnTo>
                        <a:lnTo>
                          <a:pt x="15" y="211"/>
                        </a:lnTo>
                        <a:lnTo>
                          <a:pt x="15" y="214"/>
                        </a:lnTo>
                        <a:lnTo>
                          <a:pt x="15" y="218"/>
                        </a:lnTo>
                        <a:lnTo>
                          <a:pt x="15" y="221"/>
                        </a:lnTo>
                        <a:lnTo>
                          <a:pt x="15" y="220"/>
                        </a:lnTo>
                        <a:lnTo>
                          <a:pt x="15" y="218"/>
                        </a:lnTo>
                        <a:lnTo>
                          <a:pt x="15" y="217"/>
                        </a:lnTo>
                        <a:lnTo>
                          <a:pt x="17" y="213"/>
                        </a:lnTo>
                        <a:lnTo>
                          <a:pt x="18" y="210"/>
                        </a:lnTo>
                        <a:lnTo>
                          <a:pt x="20" y="206"/>
                        </a:lnTo>
                        <a:lnTo>
                          <a:pt x="20" y="200"/>
                        </a:lnTo>
                        <a:lnTo>
                          <a:pt x="21" y="196"/>
                        </a:lnTo>
                        <a:lnTo>
                          <a:pt x="21" y="191"/>
                        </a:lnTo>
                        <a:lnTo>
                          <a:pt x="23" y="185"/>
                        </a:lnTo>
                        <a:lnTo>
                          <a:pt x="23" y="180"/>
                        </a:lnTo>
                        <a:lnTo>
                          <a:pt x="24" y="173"/>
                        </a:lnTo>
                        <a:lnTo>
                          <a:pt x="24" y="170"/>
                        </a:lnTo>
                        <a:lnTo>
                          <a:pt x="26" y="168"/>
                        </a:lnTo>
                        <a:lnTo>
                          <a:pt x="26" y="163"/>
                        </a:lnTo>
                        <a:lnTo>
                          <a:pt x="26" y="161"/>
                        </a:lnTo>
                        <a:lnTo>
                          <a:pt x="26" y="157"/>
                        </a:lnTo>
                        <a:lnTo>
                          <a:pt x="27" y="154"/>
                        </a:lnTo>
                        <a:lnTo>
                          <a:pt x="27" y="150"/>
                        </a:lnTo>
                        <a:lnTo>
                          <a:pt x="29" y="147"/>
                        </a:lnTo>
                        <a:lnTo>
                          <a:pt x="29" y="143"/>
                        </a:lnTo>
                        <a:lnTo>
                          <a:pt x="29" y="140"/>
                        </a:lnTo>
                        <a:lnTo>
                          <a:pt x="30" y="136"/>
                        </a:lnTo>
                        <a:lnTo>
                          <a:pt x="30" y="133"/>
                        </a:lnTo>
                        <a:lnTo>
                          <a:pt x="30" y="129"/>
                        </a:lnTo>
                        <a:lnTo>
                          <a:pt x="32" y="126"/>
                        </a:lnTo>
                        <a:lnTo>
                          <a:pt x="32" y="122"/>
                        </a:lnTo>
                        <a:lnTo>
                          <a:pt x="32" y="119"/>
                        </a:lnTo>
                        <a:lnTo>
                          <a:pt x="32" y="115"/>
                        </a:lnTo>
                        <a:lnTo>
                          <a:pt x="34" y="113"/>
                        </a:lnTo>
                        <a:lnTo>
                          <a:pt x="34" y="108"/>
                        </a:lnTo>
                        <a:lnTo>
                          <a:pt x="35" y="106"/>
                        </a:lnTo>
                        <a:lnTo>
                          <a:pt x="35" y="99"/>
                        </a:lnTo>
                        <a:lnTo>
                          <a:pt x="37" y="95"/>
                        </a:lnTo>
                        <a:lnTo>
                          <a:pt x="37" y="88"/>
                        </a:lnTo>
                        <a:lnTo>
                          <a:pt x="38" y="84"/>
                        </a:lnTo>
                        <a:lnTo>
                          <a:pt x="38" y="78"/>
                        </a:lnTo>
                        <a:lnTo>
                          <a:pt x="40" y="74"/>
                        </a:lnTo>
                        <a:lnTo>
                          <a:pt x="40" y="70"/>
                        </a:lnTo>
                        <a:lnTo>
                          <a:pt x="41" y="67"/>
                        </a:lnTo>
                        <a:lnTo>
                          <a:pt x="41" y="65"/>
                        </a:lnTo>
                        <a:lnTo>
                          <a:pt x="43" y="63"/>
                        </a:lnTo>
                        <a:lnTo>
                          <a:pt x="43" y="62"/>
                        </a:lnTo>
                        <a:lnTo>
                          <a:pt x="46" y="62"/>
                        </a:lnTo>
                        <a:lnTo>
                          <a:pt x="50" y="60"/>
                        </a:lnTo>
                        <a:lnTo>
                          <a:pt x="55" y="59"/>
                        </a:lnTo>
                        <a:lnTo>
                          <a:pt x="58" y="59"/>
                        </a:lnTo>
                        <a:lnTo>
                          <a:pt x="61" y="58"/>
                        </a:lnTo>
                        <a:lnTo>
                          <a:pt x="64" y="56"/>
                        </a:lnTo>
                        <a:lnTo>
                          <a:pt x="67" y="56"/>
                        </a:lnTo>
                        <a:lnTo>
                          <a:pt x="70" y="55"/>
                        </a:lnTo>
                        <a:lnTo>
                          <a:pt x="75" y="55"/>
                        </a:lnTo>
                        <a:lnTo>
                          <a:pt x="78" y="54"/>
                        </a:lnTo>
                        <a:lnTo>
                          <a:pt x="82" y="54"/>
                        </a:lnTo>
                        <a:lnTo>
                          <a:pt x="86" y="52"/>
                        </a:lnTo>
                        <a:lnTo>
                          <a:pt x="90" y="52"/>
                        </a:lnTo>
                        <a:lnTo>
                          <a:pt x="93" y="51"/>
                        </a:lnTo>
                        <a:lnTo>
                          <a:pt x="98" y="51"/>
                        </a:lnTo>
                        <a:lnTo>
                          <a:pt x="101" y="49"/>
                        </a:lnTo>
                        <a:lnTo>
                          <a:pt x="105" y="49"/>
                        </a:lnTo>
                        <a:lnTo>
                          <a:pt x="108" y="49"/>
                        </a:lnTo>
                        <a:lnTo>
                          <a:pt x="113" y="49"/>
                        </a:lnTo>
                        <a:lnTo>
                          <a:pt x="116" y="48"/>
                        </a:lnTo>
                        <a:lnTo>
                          <a:pt x="119" y="48"/>
                        </a:lnTo>
                        <a:lnTo>
                          <a:pt x="122" y="48"/>
                        </a:lnTo>
                        <a:lnTo>
                          <a:pt x="127" y="48"/>
                        </a:lnTo>
                        <a:lnTo>
                          <a:pt x="133" y="48"/>
                        </a:lnTo>
                        <a:lnTo>
                          <a:pt x="139" y="49"/>
                        </a:lnTo>
                        <a:lnTo>
                          <a:pt x="115" y="60"/>
                        </a:lnTo>
                        <a:lnTo>
                          <a:pt x="113" y="59"/>
                        </a:lnTo>
                        <a:lnTo>
                          <a:pt x="112" y="59"/>
                        </a:lnTo>
                        <a:lnTo>
                          <a:pt x="108" y="59"/>
                        </a:lnTo>
                        <a:lnTo>
                          <a:pt x="105" y="59"/>
                        </a:lnTo>
                        <a:lnTo>
                          <a:pt x="101" y="59"/>
                        </a:lnTo>
                        <a:lnTo>
                          <a:pt x="95" y="60"/>
                        </a:lnTo>
                        <a:lnTo>
                          <a:pt x="90" y="62"/>
                        </a:lnTo>
                        <a:lnTo>
                          <a:pt x="84" y="62"/>
                        </a:lnTo>
                        <a:lnTo>
                          <a:pt x="78" y="63"/>
                        </a:lnTo>
                        <a:lnTo>
                          <a:pt x="73" y="65"/>
                        </a:lnTo>
                        <a:lnTo>
                          <a:pt x="67" y="65"/>
                        </a:lnTo>
                        <a:lnTo>
                          <a:pt x="63" y="66"/>
                        </a:lnTo>
                        <a:lnTo>
                          <a:pt x="56" y="66"/>
                        </a:lnTo>
                        <a:lnTo>
                          <a:pt x="53" y="66"/>
                        </a:lnTo>
                        <a:lnTo>
                          <a:pt x="50" y="67"/>
                        </a:lnTo>
                        <a:lnTo>
                          <a:pt x="47" y="67"/>
                        </a:lnTo>
                        <a:lnTo>
                          <a:pt x="46" y="70"/>
                        </a:lnTo>
                        <a:lnTo>
                          <a:pt x="46" y="74"/>
                        </a:lnTo>
                        <a:lnTo>
                          <a:pt x="44" y="77"/>
                        </a:lnTo>
                        <a:lnTo>
                          <a:pt x="44" y="80"/>
                        </a:lnTo>
                        <a:lnTo>
                          <a:pt x="44" y="84"/>
                        </a:lnTo>
                        <a:lnTo>
                          <a:pt x="43" y="87"/>
                        </a:lnTo>
                        <a:lnTo>
                          <a:pt x="43" y="89"/>
                        </a:lnTo>
                        <a:lnTo>
                          <a:pt x="43" y="93"/>
                        </a:lnTo>
                        <a:lnTo>
                          <a:pt x="43" y="98"/>
                        </a:lnTo>
                        <a:lnTo>
                          <a:pt x="43" y="100"/>
                        </a:lnTo>
                        <a:lnTo>
                          <a:pt x="43" y="104"/>
                        </a:lnTo>
                        <a:lnTo>
                          <a:pt x="43" y="107"/>
                        </a:lnTo>
                        <a:lnTo>
                          <a:pt x="43" y="111"/>
                        </a:lnTo>
                        <a:lnTo>
                          <a:pt x="43" y="114"/>
                        </a:lnTo>
                        <a:lnTo>
                          <a:pt x="43" y="118"/>
                        </a:lnTo>
                        <a:lnTo>
                          <a:pt x="43" y="122"/>
                        </a:lnTo>
                        <a:lnTo>
                          <a:pt x="43" y="125"/>
                        </a:lnTo>
                        <a:lnTo>
                          <a:pt x="43" y="129"/>
                        </a:lnTo>
                        <a:lnTo>
                          <a:pt x="43" y="132"/>
                        </a:lnTo>
                        <a:lnTo>
                          <a:pt x="43" y="136"/>
                        </a:lnTo>
                        <a:lnTo>
                          <a:pt x="43" y="139"/>
                        </a:lnTo>
                        <a:lnTo>
                          <a:pt x="43" y="143"/>
                        </a:lnTo>
                        <a:lnTo>
                          <a:pt x="43" y="146"/>
                        </a:lnTo>
                        <a:lnTo>
                          <a:pt x="43" y="150"/>
                        </a:lnTo>
                        <a:lnTo>
                          <a:pt x="43" y="154"/>
                        </a:lnTo>
                        <a:lnTo>
                          <a:pt x="43" y="157"/>
                        </a:lnTo>
                        <a:lnTo>
                          <a:pt x="43" y="161"/>
                        </a:lnTo>
                        <a:lnTo>
                          <a:pt x="44" y="163"/>
                        </a:lnTo>
                        <a:lnTo>
                          <a:pt x="44" y="168"/>
                        </a:lnTo>
                        <a:lnTo>
                          <a:pt x="44" y="172"/>
                        </a:lnTo>
                        <a:lnTo>
                          <a:pt x="44" y="174"/>
                        </a:lnTo>
                        <a:lnTo>
                          <a:pt x="44" y="179"/>
                        </a:lnTo>
                        <a:lnTo>
                          <a:pt x="44" y="184"/>
                        </a:lnTo>
                        <a:lnTo>
                          <a:pt x="44" y="191"/>
                        </a:lnTo>
                        <a:lnTo>
                          <a:pt x="43" y="194"/>
                        </a:lnTo>
                        <a:lnTo>
                          <a:pt x="43" y="196"/>
                        </a:lnTo>
                        <a:lnTo>
                          <a:pt x="43" y="200"/>
                        </a:lnTo>
                        <a:lnTo>
                          <a:pt x="43" y="203"/>
                        </a:lnTo>
                        <a:lnTo>
                          <a:pt x="43" y="206"/>
                        </a:lnTo>
                        <a:lnTo>
                          <a:pt x="41" y="210"/>
                        </a:lnTo>
                        <a:lnTo>
                          <a:pt x="41" y="213"/>
                        </a:lnTo>
                        <a:lnTo>
                          <a:pt x="41" y="216"/>
                        </a:lnTo>
                        <a:lnTo>
                          <a:pt x="40" y="218"/>
                        </a:lnTo>
                        <a:lnTo>
                          <a:pt x="40" y="222"/>
                        </a:lnTo>
                        <a:lnTo>
                          <a:pt x="40" y="225"/>
                        </a:lnTo>
                        <a:lnTo>
                          <a:pt x="40" y="229"/>
                        </a:lnTo>
                        <a:lnTo>
                          <a:pt x="43" y="231"/>
                        </a:lnTo>
                        <a:lnTo>
                          <a:pt x="47" y="232"/>
                        </a:lnTo>
                        <a:lnTo>
                          <a:pt x="50" y="233"/>
                        </a:lnTo>
                        <a:lnTo>
                          <a:pt x="55" y="235"/>
                        </a:lnTo>
                        <a:lnTo>
                          <a:pt x="58" y="179"/>
                        </a:lnTo>
                        <a:lnTo>
                          <a:pt x="58" y="173"/>
                        </a:lnTo>
                        <a:lnTo>
                          <a:pt x="60" y="168"/>
                        </a:lnTo>
                        <a:lnTo>
                          <a:pt x="60" y="163"/>
                        </a:lnTo>
                        <a:lnTo>
                          <a:pt x="61" y="158"/>
                        </a:lnTo>
                        <a:lnTo>
                          <a:pt x="63" y="152"/>
                        </a:lnTo>
                        <a:lnTo>
                          <a:pt x="63" y="148"/>
                        </a:lnTo>
                        <a:lnTo>
                          <a:pt x="64" y="143"/>
                        </a:lnTo>
                        <a:lnTo>
                          <a:pt x="66" y="137"/>
                        </a:lnTo>
                        <a:lnTo>
                          <a:pt x="66" y="132"/>
                        </a:lnTo>
                        <a:lnTo>
                          <a:pt x="67" y="126"/>
                        </a:lnTo>
                        <a:lnTo>
                          <a:pt x="67" y="122"/>
                        </a:lnTo>
                        <a:lnTo>
                          <a:pt x="69" y="117"/>
                        </a:lnTo>
                        <a:lnTo>
                          <a:pt x="70" y="111"/>
                        </a:lnTo>
                        <a:lnTo>
                          <a:pt x="70" y="107"/>
                        </a:lnTo>
                        <a:lnTo>
                          <a:pt x="72" y="102"/>
                        </a:lnTo>
                        <a:lnTo>
                          <a:pt x="73" y="96"/>
                        </a:lnTo>
                        <a:lnTo>
                          <a:pt x="73" y="102"/>
                        </a:lnTo>
                        <a:lnTo>
                          <a:pt x="73" y="107"/>
                        </a:lnTo>
                        <a:lnTo>
                          <a:pt x="75" y="113"/>
                        </a:lnTo>
                        <a:lnTo>
                          <a:pt x="75" y="118"/>
                        </a:lnTo>
                        <a:lnTo>
                          <a:pt x="75" y="124"/>
                        </a:lnTo>
                        <a:lnTo>
                          <a:pt x="76" y="129"/>
                        </a:lnTo>
                        <a:lnTo>
                          <a:pt x="76" y="135"/>
                        </a:lnTo>
                        <a:lnTo>
                          <a:pt x="78" y="140"/>
                        </a:lnTo>
                        <a:lnTo>
                          <a:pt x="82" y="141"/>
                        </a:lnTo>
                        <a:lnTo>
                          <a:pt x="84" y="139"/>
                        </a:lnTo>
                        <a:lnTo>
                          <a:pt x="86" y="135"/>
                        </a:lnTo>
                        <a:lnTo>
                          <a:pt x="86" y="130"/>
                        </a:lnTo>
                        <a:lnTo>
                          <a:pt x="87" y="128"/>
                        </a:lnTo>
                        <a:lnTo>
                          <a:pt x="87" y="124"/>
                        </a:lnTo>
                        <a:lnTo>
                          <a:pt x="87" y="119"/>
                        </a:lnTo>
                        <a:lnTo>
                          <a:pt x="87" y="117"/>
                        </a:lnTo>
                        <a:lnTo>
                          <a:pt x="87" y="113"/>
                        </a:lnTo>
                        <a:lnTo>
                          <a:pt x="90" y="111"/>
                        </a:lnTo>
                        <a:lnTo>
                          <a:pt x="95" y="111"/>
                        </a:lnTo>
                        <a:lnTo>
                          <a:pt x="98" y="110"/>
                        </a:lnTo>
                        <a:lnTo>
                          <a:pt x="102" y="110"/>
                        </a:lnTo>
                        <a:lnTo>
                          <a:pt x="107" y="108"/>
                        </a:lnTo>
                        <a:lnTo>
                          <a:pt x="110" y="108"/>
                        </a:lnTo>
                        <a:lnTo>
                          <a:pt x="115" y="107"/>
                        </a:lnTo>
                        <a:lnTo>
                          <a:pt x="119" y="107"/>
                        </a:lnTo>
                        <a:lnTo>
                          <a:pt x="124" y="106"/>
                        </a:lnTo>
                        <a:lnTo>
                          <a:pt x="128" y="104"/>
                        </a:lnTo>
                        <a:lnTo>
                          <a:pt x="133" y="103"/>
                        </a:lnTo>
                        <a:lnTo>
                          <a:pt x="138" y="103"/>
                        </a:lnTo>
                        <a:lnTo>
                          <a:pt x="142" y="102"/>
                        </a:lnTo>
                        <a:lnTo>
                          <a:pt x="147" y="102"/>
                        </a:lnTo>
                        <a:lnTo>
                          <a:pt x="153" y="100"/>
                        </a:lnTo>
                        <a:lnTo>
                          <a:pt x="157" y="99"/>
                        </a:lnTo>
                        <a:lnTo>
                          <a:pt x="164" y="98"/>
                        </a:lnTo>
                        <a:lnTo>
                          <a:pt x="168" y="98"/>
                        </a:lnTo>
                        <a:lnTo>
                          <a:pt x="173" y="96"/>
                        </a:lnTo>
                        <a:lnTo>
                          <a:pt x="179" y="96"/>
                        </a:lnTo>
                        <a:lnTo>
                          <a:pt x="183" y="93"/>
                        </a:lnTo>
                        <a:lnTo>
                          <a:pt x="190" y="93"/>
                        </a:lnTo>
                        <a:lnTo>
                          <a:pt x="194" y="92"/>
                        </a:lnTo>
                        <a:lnTo>
                          <a:pt x="200" y="92"/>
                        </a:lnTo>
                        <a:lnTo>
                          <a:pt x="205" y="91"/>
                        </a:lnTo>
                        <a:lnTo>
                          <a:pt x="211" y="89"/>
                        </a:lnTo>
                        <a:lnTo>
                          <a:pt x="217" y="89"/>
                        </a:lnTo>
                        <a:lnTo>
                          <a:pt x="222" y="88"/>
                        </a:lnTo>
                        <a:lnTo>
                          <a:pt x="228" y="87"/>
                        </a:lnTo>
                        <a:lnTo>
                          <a:pt x="234" y="87"/>
                        </a:lnTo>
                        <a:lnTo>
                          <a:pt x="238" y="85"/>
                        </a:lnTo>
                        <a:lnTo>
                          <a:pt x="245" y="85"/>
                        </a:lnTo>
                        <a:lnTo>
                          <a:pt x="249" y="84"/>
                        </a:lnTo>
                        <a:lnTo>
                          <a:pt x="255" y="84"/>
                        </a:lnTo>
                        <a:lnTo>
                          <a:pt x="260" y="82"/>
                        </a:lnTo>
                        <a:lnTo>
                          <a:pt x="266" y="81"/>
                        </a:lnTo>
                        <a:lnTo>
                          <a:pt x="271" y="80"/>
                        </a:lnTo>
                        <a:lnTo>
                          <a:pt x="277" y="80"/>
                        </a:lnTo>
                        <a:lnTo>
                          <a:pt x="281" y="78"/>
                        </a:lnTo>
                        <a:lnTo>
                          <a:pt x="287" y="78"/>
                        </a:lnTo>
                        <a:lnTo>
                          <a:pt x="292" y="77"/>
                        </a:lnTo>
                        <a:lnTo>
                          <a:pt x="297" y="77"/>
                        </a:lnTo>
                        <a:lnTo>
                          <a:pt x="303" y="77"/>
                        </a:lnTo>
                        <a:lnTo>
                          <a:pt x="307" y="77"/>
                        </a:lnTo>
                        <a:lnTo>
                          <a:pt x="312" y="76"/>
                        </a:lnTo>
                        <a:lnTo>
                          <a:pt x="316" y="76"/>
                        </a:lnTo>
                        <a:lnTo>
                          <a:pt x="323" y="76"/>
                        </a:lnTo>
                        <a:lnTo>
                          <a:pt x="327" y="76"/>
                        </a:lnTo>
                        <a:lnTo>
                          <a:pt x="332" y="74"/>
                        </a:lnTo>
                        <a:lnTo>
                          <a:pt x="336" y="74"/>
                        </a:lnTo>
                        <a:lnTo>
                          <a:pt x="341" y="74"/>
                        </a:lnTo>
                        <a:lnTo>
                          <a:pt x="346" y="74"/>
                        </a:lnTo>
                        <a:lnTo>
                          <a:pt x="349" y="74"/>
                        </a:lnTo>
                        <a:lnTo>
                          <a:pt x="353" y="74"/>
                        </a:lnTo>
                        <a:lnTo>
                          <a:pt x="358" y="74"/>
                        </a:lnTo>
                        <a:lnTo>
                          <a:pt x="362" y="76"/>
                        </a:lnTo>
                        <a:lnTo>
                          <a:pt x="365" y="76"/>
                        </a:lnTo>
                        <a:lnTo>
                          <a:pt x="369" y="76"/>
                        </a:lnTo>
                        <a:lnTo>
                          <a:pt x="373" y="77"/>
                        </a:lnTo>
                        <a:lnTo>
                          <a:pt x="376" y="77"/>
                        </a:lnTo>
                        <a:lnTo>
                          <a:pt x="382" y="78"/>
                        </a:lnTo>
                        <a:lnTo>
                          <a:pt x="388" y="81"/>
                        </a:lnTo>
                        <a:lnTo>
                          <a:pt x="385" y="82"/>
                        </a:lnTo>
                        <a:lnTo>
                          <a:pt x="381" y="84"/>
                        </a:lnTo>
                        <a:lnTo>
                          <a:pt x="378" y="84"/>
                        </a:lnTo>
                        <a:lnTo>
                          <a:pt x="375" y="85"/>
                        </a:lnTo>
                        <a:lnTo>
                          <a:pt x="370" y="87"/>
                        </a:lnTo>
                        <a:lnTo>
                          <a:pt x="367" y="87"/>
                        </a:lnTo>
                        <a:lnTo>
                          <a:pt x="364" y="87"/>
                        </a:lnTo>
                        <a:lnTo>
                          <a:pt x="361" y="88"/>
                        </a:lnTo>
                        <a:lnTo>
                          <a:pt x="356" y="88"/>
                        </a:lnTo>
                        <a:lnTo>
                          <a:pt x="353" y="89"/>
                        </a:lnTo>
                        <a:lnTo>
                          <a:pt x="349" y="89"/>
                        </a:lnTo>
                        <a:lnTo>
                          <a:pt x="346" y="89"/>
                        </a:lnTo>
                        <a:lnTo>
                          <a:pt x="341" y="89"/>
                        </a:lnTo>
                        <a:lnTo>
                          <a:pt x="338" y="91"/>
                        </a:lnTo>
                        <a:lnTo>
                          <a:pt x="333" y="91"/>
                        </a:lnTo>
                        <a:lnTo>
                          <a:pt x="330" y="91"/>
                        </a:lnTo>
                        <a:lnTo>
                          <a:pt x="327" y="91"/>
                        </a:lnTo>
                        <a:lnTo>
                          <a:pt x="324" y="91"/>
                        </a:lnTo>
                        <a:lnTo>
                          <a:pt x="320" y="91"/>
                        </a:lnTo>
                        <a:lnTo>
                          <a:pt x="316" y="91"/>
                        </a:lnTo>
                        <a:lnTo>
                          <a:pt x="312" y="91"/>
                        </a:lnTo>
                        <a:lnTo>
                          <a:pt x="309" y="91"/>
                        </a:lnTo>
                        <a:lnTo>
                          <a:pt x="304" y="91"/>
                        </a:lnTo>
                        <a:lnTo>
                          <a:pt x="301" y="92"/>
                        </a:lnTo>
                        <a:lnTo>
                          <a:pt x="297" y="92"/>
                        </a:lnTo>
                        <a:lnTo>
                          <a:pt x="294" y="92"/>
                        </a:lnTo>
                        <a:lnTo>
                          <a:pt x="290" y="92"/>
                        </a:lnTo>
                        <a:lnTo>
                          <a:pt x="286" y="92"/>
                        </a:lnTo>
                        <a:lnTo>
                          <a:pt x="283" y="92"/>
                        </a:lnTo>
                        <a:lnTo>
                          <a:pt x="280" y="92"/>
                        </a:lnTo>
                        <a:lnTo>
                          <a:pt x="275" y="93"/>
                        </a:lnTo>
                        <a:lnTo>
                          <a:pt x="272" y="95"/>
                        </a:lnTo>
                        <a:lnTo>
                          <a:pt x="141" y="113"/>
                        </a:lnTo>
                        <a:lnTo>
                          <a:pt x="194" y="119"/>
                        </a:lnTo>
                        <a:lnTo>
                          <a:pt x="196" y="119"/>
                        </a:lnTo>
                        <a:lnTo>
                          <a:pt x="200" y="118"/>
                        </a:lnTo>
                        <a:lnTo>
                          <a:pt x="203" y="118"/>
                        </a:lnTo>
                        <a:lnTo>
                          <a:pt x="208" y="117"/>
                        </a:lnTo>
                        <a:lnTo>
                          <a:pt x="212" y="117"/>
                        </a:lnTo>
                        <a:lnTo>
                          <a:pt x="219" y="117"/>
                        </a:lnTo>
                        <a:lnTo>
                          <a:pt x="225" y="115"/>
                        </a:lnTo>
                        <a:lnTo>
                          <a:pt x="231" y="114"/>
                        </a:lnTo>
                        <a:lnTo>
                          <a:pt x="234" y="114"/>
                        </a:lnTo>
                        <a:lnTo>
                          <a:pt x="237" y="114"/>
                        </a:lnTo>
                        <a:lnTo>
                          <a:pt x="242" y="113"/>
                        </a:lnTo>
                        <a:lnTo>
                          <a:pt x="246" y="113"/>
                        </a:lnTo>
                        <a:lnTo>
                          <a:pt x="249" y="113"/>
                        </a:lnTo>
                        <a:lnTo>
                          <a:pt x="252" y="111"/>
                        </a:lnTo>
                        <a:lnTo>
                          <a:pt x="257" y="111"/>
                        </a:lnTo>
                        <a:lnTo>
                          <a:pt x="263" y="111"/>
                        </a:lnTo>
                        <a:lnTo>
                          <a:pt x="266" y="111"/>
                        </a:lnTo>
                        <a:lnTo>
                          <a:pt x="271" y="110"/>
                        </a:lnTo>
                        <a:lnTo>
                          <a:pt x="275" y="110"/>
                        </a:lnTo>
                        <a:lnTo>
                          <a:pt x="281" y="110"/>
                        </a:lnTo>
                        <a:lnTo>
                          <a:pt x="286" y="108"/>
                        </a:lnTo>
                        <a:lnTo>
                          <a:pt x="290" y="108"/>
                        </a:lnTo>
                        <a:lnTo>
                          <a:pt x="297" y="107"/>
                        </a:lnTo>
                        <a:lnTo>
                          <a:pt x="301" y="107"/>
                        </a:lnTo>
                        <a:lnTo>
                          <a:pt x="307" y="106"/>
                        </a:lnTo>
                        <a:lnTo>
                          <a:pt x="312" y="104"/>
                        </a:lnTo>
                        <a:lnTo>
                          <a:pt x="318" y="104"/>
                        </a:lnTo>
                        <a:lnTo>
                          <a:pt x="324" y="104"/>
                        </a:lnTo>
                        <a:lnTo>
                          <a:pt x="330" y="103"/>
                        </a:lnTo>
                        <a:lnTo>
                          <a:pt x="335" y="102"/>
                        </a:lnTo>
                        <a:lnTo>
                          <a:pt x="341" y="102"/>
                        </a:lnTo>
                        <a:lnTo>
                          <a:pt x="349" y="102"/>
                        </a:lnTo>
                        <a:lnTo>
                          <a:pt x="355" y="100"/>
                        </a:lnTo>
                        <a:lnTo>
                          <a:pt x="361" y="100"/>
                        </a:lnTo>
                        <a:lnTo>
                          <a:pt x="367" y="99"/>
                        </a:lnTo>
                        <a:lnTo>
                          <a:pt x="375" y="99"/>
                        </a:lnTo>
                        <a:lnTo>
                          <a:pt x="381" y="98"/>
                        </a:lnTo>
                        <a:lnTo>
                          <a:pt x="387" y="98"/>
                        </a:lnTo>
                        <a:lnTo>
                          <a:pt x="393" y="96"/>
                        </a:lnTo>
                        <a:lnTo>
                          <a:pt x="401" y="96"/>
                        </a:lnTo>
                        <a:lnTo>
                          <a:pt x="408" y="95"/>
                        </a:lnTo>
                        <a:lnTo>
                          <a:pt x="414" y="95"/>
                        </a:lnTo>
                        <a:lnTo>
                          <a:pt x="422" y="93"/>
                        </a:lnTo>
                        <a:lnTo>
                          <a:pt x="430" y="93"/>
                        </a:lnTo>
                        <a:lnTo>
                          <a:pt x="437" y="92"/>
                        </a:lnTo>
                        <a:lnTo>
                          <a:pt x="445" y="92"/>
                        </a:lnTo>
                        <a:lnTo>
                          <a:pt x="453" y="91"/>
                        </a:lnTo>
                        <a:lnTo>
                          <a:pt x="460" y="91"/>
                        </a:lnTo>
                        <a:lnTo>
                          <a:pt x="468" y="89"/>
                        </a:lnTo>
                        <a:lnTo>
                          <a:pt x="476" y="89"/>
                        </a:lnTo>
                        <a:lnTo>
                          <a:pt x="483" y="88"/>
                        </a:lnTo>
                        <a:lnTo>
                          <a:pt x="492" y="88"/>
                        </a:lnTo>
                        <a:lnTo>
                          <a:pt x="1211" y="84"/>
                        </a:lnTo>
                        <a:lnTo>
                          <a:pt x="1083" y="92"/>
                        </a:lnTo>
                        <a:lnTo>
                          <a:pt x="1080" y="91"/>
                        </a:lnTo>
                        <a:lnTo>
                          <a:pt x="1077" y="91"/>
                        </a:lnTo>
                        <a:lnTo>
                          <a:pt x="1072" y="89"/>
                        </a:lnTo>
                        <a:lnTo>
                          <a:pt x="1068" y="89"/>
                        </a:lnTo>
                        <a:lnTo>
                          <a:pt x="1061" y="89"/>
                        </a:lnTo>
                        <a:lnTo>
                          <a:pt x="1058" y="89"/>
                        </a:lnTo>
                        <a:lnTo>
                          <a:pt x="1054" y="89"/>
                        </a:lnTo>
                        <a:lnTo>
                          <a:pt x="1051" y="89"/>
                        </a:lnTo>
                        <a:lnTo>
                          <a:pt x="1054" y="89"/>
                        </a:lnTo>
                        <a:lnTo>
                          <a:pt x="1058" y="91"/>
                        </a:lnTo>
                        <a:lnTo>
                          <a:pt x="1061" y="91"/>
                        </a:lnTo>
                        <a:lnTo>
                          <a:pt x="1066" y="92"/>
                        </a:lnTo>
                        <a:lnTo>
                          <a:pt x="1071" y="92"/>
                        </a:lnTo>
                        <a:lnTo>
                          <a:pt x="1075" y="92"/>
                        </a:lnTo>
                        <a:lnTo>
                          <a:pt x="1080" y="93"/>
                        </a:lnTo>
                        <a:lnTo>
                          <a:pt x="1084" y="93"/>
                        </a:lnTo>
                        <a:lnTo>
                          <a:pt x="1087" y="93"/>
                        </a:lnTo>
                        <a:lnTo>
                          <a:pt x="1092" y="93"/>
                        </a:lnTo>
                        <a:lnTo>
                          <a:pt x="1097" y="95"/>
                        </a:lnTo>
                        <a:lnTo>
                          <a:pt x="1101" y="95"/>
                        </a:lnTo>
                        <a:lnTo>
                          <a:pt x="1106" y="95"/>
                        </a:lnTo>
                        <a:lnTo>
                          <a:pt x="1110" y="95"/>
                        </a:lnTo>
                        <a:lnTo>
                          <a:pt x="1115" y="96"/>
                        </a:lnTo>
                        <a:lnTo>
                          <a:pt x="1120" y="96"/>
                        </a:lnTo>
                        <a:lnTo>
                          <a:pt x="1124" y="96"/>
                        </a:lnTo>
                        <a:lnTo>
                          <a:pt x="1130" y="96"/>
                        </a:lnTo>
                        <a:lnTo>
                          <a:pt x="1133" y="96"/>
                        </a:lnTo>
                        <a:lnTo>
                          <a:pt x="1139" y="96"/>
                        </a:lnTo>
                        <a:lnTo>
                          <a:pt x="1144" y="96"/>
                        </a:lnTo>
                        <a:lnTo>
                          <a:pt x="1149" y="96"/>
                        </a:lnTo>
                        <a:lnTo>
                          <a:pt x="1153" y="96"/>
                        </a:lnTo>
                        <a:lnTo>
                          <a:pt x="1158" y="96"/>
                        </a:lnTo>
                        <a:lnTo>
                          <a:pt x="1162" y="96"/>
                        </a:lnTo>
                        <a:lnTo>
                          <a:pt x="1167" y="96"/>
                        </a:lnTo>
                        <a:lnTo>
                          <a:pt x="1172" y="96"/>
                        </a:lnTo>
                        <a:lnTo>
                          <a:pt x="1178" y="96"/>
                        </a:lnTo>
                        <a:lnTo>
                          <a:pt x="1182" y="96"/>
                        </a:lnTo>
                        <a:lnTo>
                          <a:pt x="1187" y="96"/>
                        </a:lnTo>
                        <a:lnTo>
                          <a:pt x="1191" y="96"/>
                        </a:lnTo>
                        <a:lnTo>
                          <a:pt x="1196" y="96"/>
                        </a:lnTo>
                        <a:lnTo>
                          <a:pt x="1201" y="96"/>
                        </a:lnTo>
                        <a:lnTo>
                          <a:pt x="1207" y="96"/>
                        </a:lnTo>
                        <a:lnTo>
                          <a:pt x="1210" y="96"/>
                        </a:lnTo>
                        <a:lnTo>
                          <a:pt x="1216" y="96"/>
                        </a:lnTo>
                        <a:lnTo>
                          <a:pt x="1219" y="95"/>
                        </a:lnTo>
                        <a:lnTo>
                          <a:pt x="1225" y="95"/>
                        </a:lnTo>
                        <a:lnTo>
                          <a:pt x="1230" y="95"/>
                        </a:lnTo>
                        <a:lnTo>
                          <a:pt x="1234" y="95"/>
                        </a:lnTo>
                        <a:lnTo>
                          <a:pt x="1239" y="95"/>
                        </a:lnTo>
                        <a:lnTo>
                          <a:pt x="1243" y="95"/>
                        </a:lnTo>
                        <a:lnTo>
                          <a:pt x="1248" y="93"/>
                        </a:lnTo>
                        <a:lnTo>
                          <a:pt x="1254" y="93"/>
                        </a:lnTo>
                        <a:lnTo>
                          <a:pt x="1257" y="93"/>
                        </a:lnTo>
                        <a:lnTo>
                          <a:pt x="1263" y="93"/>
                        </a:lnTo>
                        <a:lnTo>
                          <a:pt x="1268" y="93"/>
                        </a:lnTo>
                        <a:lnTo>
                          <a:pt x="1273" y="93"/>
                        </a:lnTo>
                        <a:lnTo>
                          <a:pt x="1277" y="92"/>
                        </a:lnTo>
                        <a:lnTo>
                          <a:pt x="1282" y="92"/>
                        </a:lnTo>
                        <a:lnTo>
                          <a:pt x="1286" y="92"/>
                        </a:lnTo>
                        <a:lnTo>
                          <a:pt x="1291" y="92"/>
                        </a:lnTo>
                        <a:lnTo>
                          <a:pt x="1295" y="92"/>
                        </a:lnTo>
                        <a:lnTo>
                          <a:pt x="1300" y="92"/>
                        </a:lnTo>
                        <a:lnTo>
                          <a:pt x="1305" y="92"/>
                        </a:lnTo>
                        <a:lnTo>
                          <a:pt x="1309" y="92"/>
                        </a:lnTo>
                        <a:lnTo>
                          <a:pt x="1314" y="91"/>
                        </a:lnTo>
                        <a:lnTo>
                          <a:pt x="1318" y="91"/>
                        </a:lnTo>
                        <a:lnTo>
                          <a:pt x="1323" y="91"/>
                        </a:lnTo>
                        <a:lnTo>
                          <a:pt x="1328" y="91"/>
                        </a:lnTo>
                        <a:lnTo>
                          <a:pt x="1332" y="89"/>
                        </a:lnTo>
                        <a:lnTo>
                          <a:pt x="1337" y="89"/>
                        </a:lnTo>
                        <a:lnTo>
                          <a:pt x="1340" y="89"/>
                        </a:lnTo>
                        <a:lnTo>
                          <a:pt x="1346" y="89"/>
                        </a:lnTo>
                        <a:lnTo>
                          <a:pt x="1346" y="93"/>
                        </a:lnTo>
                        <a:lnTo>
                          <a:pt x="1346" y="98"/>
                        </a:lnTo>
                        <a:lnTo>
                          <a:pt x="1346" y="102"/>
                        </a:lnTo>
                        <a:lnTo>
                          <a:pt x="1347" y="106"/>
                        </a:lnTo>
                        <a:lnTo>
                          <a:pt x="1347" y="110"/>
                        </a:lnTo>
                        <a:lnTo>
                          <a:pt x="1349" y="115"/>
                        </a:lnTo>
                        <a:lnTo>
                          <a:pt x="1349" y="121"/>
                        </a:lnTo>
                        <a:lnTo>
                          <a:pt x="1351" y="125"/>
                        </a:lnTo>
                        <a:lnTo>
                          <a:pt x="1351" y="129"/>
                        </a:lnTo>
                        <a:lnTo>
                          <a:pt x="1352" y="135"/>
                        </a:lnTo>
                        <a:lnTo>
                          <a:pt x="1352" y="139"/>
                        </a:lnTo>
                        <a:lnTo>
                          <a:pt x="1354" y="144"/>
                        </a:lnTo>
                        <a:lnTo>
                          <a:pt x="1355" y="148"/>
                        </a:lnTo>
                        <a:lnTo>
                          <a:pt x="1357" y="151"/>
                        </a:lnTo>
                        <a:lnTo>
                          <a:pt x="1360" y="154"/>
                        </a:lnTo>
                        <a:lnTo>
                          <a:pt x="1361" y="158"/>
                        </a:lnTo>
                        <a:lnTo>
                          <a:pt x="1366" y="154"/>
                        </a:lnTo>
                        <a:lnTo>
                          <a:pt x="1364" y="148"/>
                        </a:lnTo>
                        <a:lnTo>
                          <a:pt x="1364" y="143"/>
                        </a:lnTo>
                        <a:lnTo>
                          <a:pt x="1363" y="139"/>
                        </a:lnTo>
                        <a:lnTo>
                          <a:pt x="1363" y="133"/>
                        </a:lnTo>
                        <a:lnTo>
                          <a:pt x="1361" y="129"/>
                        </a:lnTo>
                        <a:lnTo>
                          <a:pt x="1361" y="125"/>
                        </a:lnTo>
                        <a:lnTo>
                          <a:pt x="1360" y="121"/>
                        </a:lnTo>
                        <a:lnTo>
                          <a:pt x="1360" y="117"/>
                        </a:lnTo>
                        <a:lnTo>
                          <a:pt x="1360" y="111"/>
                        </a:lnTo>
                        <a:lnTo>
                          <a:pt x="1358" y="107"/>
                        </a:lnTo>
                        <a:lnTo>
                          <a:pt x="1358" y="102"/>
                        </a:lnTo>
                        <a:lnTo>
                          <a:pt x="1358" y="99"/>
                        </a:lnTo>
                        <a:lnTo>
                          <a:pt x="1357" y="93"/>
                        </a:lnTo>
                        <a:lnTo>
                          <a:pt x="1357" y="89"/>
                        </a:lnTo>
                        <a:lnTo>
                          <a:pt x="1357" y="85"/>
                        </a:lnTo>
                        <a:lnTo>
                          <a:pt x="1357" y="81"/>
                        </a:lnTo>
                        <a:lnTo>
                          <a:pt x="1354" y="80"/>
                        </a:lnTo>
                        <a:lnTo>
                          <a:pt x="1351" y="80"/>
                        </a:lnTo>
                        <a:lnTo>
                          <a:pt x="1346" y="80"/>
                        </a:lnTo>
                        <a:lnTo>
                          <a:pt x="1343" y="81"/>
                        </a:lnTo>
                        <a:lnTo>
                          <a:pt x="1340" y="81"/>
                        </a:lnTo>
                        <a:lnTo>
                          <a:pt x="1337" y="82"/>
                        </a:lnTo>
                        <a:lnTo>
                          <a:pt x="1332" y="82"/>
                        </a:lnTo>
                        <a:lnTo>
                          <a:pt x="1329" y="84"/>
                        </a:lnTo>
                        <a:lnTo>
                          <a:pt x="1325" y="84"/>
                        </a:lnTo>
                        <a:lnTo>
                          <a:pt x="1321" y="84"/>
                        </a:lnTo>
                        <a:lnTo>
                          <a:pt x="1326" y="81"/>
                        </a:lnTo>
                        <a:lnTo>
                          <a:pt x="1328" y="80"/>
                        </a:lnTo>
                        <a:lnTo>
                          <a:pt x="1331" y="78"/>
                        </a:lnTo>
                        <a:lnTo>
                          <a:pt x="1334" y="77"/>
                        </a:lnTo>
                        <a:lnTo>
                          <a:pt x="1338" y="77"/>
                        </a:lnTo>
                        <a:lnTo>
                          <a:pt x="1341" y="76"/>
                        </a:lnTo>
                        <a:lnTo>
                          <a:pt x="1347" y="76"/>
                        </a:lnTo>
                        <a:lnTo>
                          <a:pt x="1351" y="74"/>
                        </a:lnTo>
                        <a:lnTo>
                          <a:pt x="1354" y="74"/>
                        </a:lnTo>
                        <a:lnTo>
                          <a:pt x="1357" y="74"/>
                        </a:lnTo>
                        <a:lnTo>
                          <a:pt x="1361" y="74"/>
                        </a:lnTo>
                        <a:lnTo>
                          <a:pt x="1363" y="77"/>
                        </a:lnTo>
                        <a:lnTo>
                          <a:pt x="1364" y="82"/>
                        </a:lnTo>
                        <a:lnTo>
                          <a:pt x="1367" y="87"/>
                        </a:lnTo>
                        <a:lnTo>
                          <a:pt x="1369" y="89"/>
                        </a:lnTo>
                        <a:lnTo>
                          <a:pt x="1369" y="87"/>
                        </a:lnTo>
                        <a:lnTo>
                          <a:pt x="1370" y="84"/>
                        </a:lnTo>
                        <a:lnTo>
                          <a:pt x="1370" y="80"/>
                        </a:lnTo>
                        <a:lnTo>
                          <a:pt x="1370" y="77"/>
                        </a:lnTo>
                        <a:lnTo>
                          <a:pt x="1370" y="74"/>
                        </a:lnTo>
                        <a:lnTo>
                          <a:pt x="1370" y="71"/>
                        </a:lnTo>
                        <a:lnTo>
                          <a:pt x="1370" y="67"/>
                        </a:lnTo>
                        <a:lnTo>
                          <a:pt x="1369" y="65"/>
                        </a:lnTo>
                        <a:lnTo>
                          <a:pt x="1364" y="65"/>
                        </a:lnTo>
                        <a:lnTo>
                          <a:pt x="1360" y="65"/>
                        </a:lnTo>
                        <a:lnTo>
                          <a:pt x="1357" y="65"/>
                        </a:lnTo>
                        <a:lnTo>
                          <a:pt x="1352" y="66"/>
                        </a:lnTo>
                        <a:lnTo>
                          <a:pt x="1347" y="66"/>
                        </a:lnTo>
                        <a:lnTo>
                          <a:pt x="1344" y="67"/>
                        </a:lnTo>
                        <a:lnTo>
                          <a:pt x="1340" y="67"/>
                        </a:lnTo>
                        <a:lnTo>
                          <a:pt x="1337" y="69"/>
                        </a:lnTo>
                        <a:lnTo>
                          <a:pt x="1332" y="69"/>
                        </a:lnTo>
                        <a:lnTo>
                          <a:pt x="1329" y="70"/>
                        </a:lnTo>
                        <a:lnTo>
                          <a:pt x="1325" y="70"/>
                        </a:lnTo>
                        <a:lnTo>
                          <a:pt x="1320" y="71"/>
                        </a:lnTo>
                        <a:lnTo>
                          <a:pt x="1317" y="71"/>
                        </a:lnTo>
                        <a:lnTo>
                          <a:pt x="1312" y="71"/>
                        </a:lnTo>
                        <a:lnTo>
                          <a:pt x="1309" y="71"/>
                        </a:lnTo>
                        <a:lnTo>
                          <a:pt x="1306" y="71"/>
                        </a:lnTo>
                        <a:lnTo>
                          <a:pt x="1302" y="71"/>
                        </a:lnTo>
                        <a:lnTo>
                          <a:pt x="1299" y="71"/>
                        </a:lnTo>
                        <a:lnTo>
                          <a:pt x="1295" y="70"/>
                        </a:lnTo>
                        <a:lnTo>
                          <a:pt x="1292" y="70"/>
                        </a:lnTo>
                        <a:lnTo>
                          <a:pt x="1285" y="69"/>
                        </a:lnTo>
                        <a:lnTo>
                          <a:pt x="1280" y="70"/>
                        </a:lnTo>
                        <a:lnTo>
                          <a:pt x="1285" y="67"/>
                        </a:lnTo>
                        <a:lnTo>
                          <a:pt x="1291" y="65"/>
                        </a:lnTo>
                        <a:lnTo>
                          <a:pt x="1297" y="63"/>
                        </a:lnTo>
                        <a:lnTo>
                          <a:pt x="1302" y="62"/>
                        </a:lnTo>
                        <a:lnTo>
                          <a:pt x="1308" y="62"/>
                        </a:lnTo>
                        <a:lnTo>
                          <a:pt x="1314" y="60"/>
                        </a:lnTo>
                        <a:lnTo>
                          <a:pt x="1320" y="60"/>
                        </a:lnTo>
                        <a:lnTo>
                          <a:pt x="1326" y="60"/>
                        </a:lnTo>
                        <a:lnTo>
                          <a:pt x="1332" y="60"/>
                        </a:lnTo>
                        <a:lnTo>
                          <a:pt x="1337" y="60"/>
                        </a:lnTo>
                        <a:lnTo>
                          <a:pt x="1343" y="60"/>
                        </a:lnTo>
                        <a:lnTo>
                          <a:pt x="1351" y="60"/>
                        </a:lnTo>
                        <a:lnTo>
                          <a:pt x="1355" y="59"/>
                        </a:lnTo>
                        <a:lnTo>
                          <a:pt x="1363" y="59"/>
                        </a:lnTo>
                        <a:lnTo>
                          <a:pt x="1366" y="59"/>
                        </a:lnTo>
                        <a:lnTo>
                          <a:pt x="1369" y="59"/>
                        </a:lnTo>
                        <a:lnTo>
                          <a:pt x="1372" y="59"/>
                        </a:lnTo>
                        <a:lnTo>
                          <a:pt x="1377" y="59"/>
                        </a:lnTo>
                        <a:lnTo>
                          <a:pt x="1377" y="62"/>
                        </a:lnTo>
                        <a:lnTo>
                          <a:pt x="1377" y="66"/>
                        </a:lnTo>
                        <a:lnTo>
                          <a:pt x="1378" y="70"/>
                        </a:lnTo>
                        <a:lnTo>
                          <a:pt x="1380" y="74"/>
                        </a:lnTo>
                        <a:lnTo>
                          <a:pt x="1380" y="78"/>
                        </a:lnTo>
                        <a:lnTo>
                          <a:pt x="1381" y="84"/>
                        </a:lnTo>
                        <a:lnTo>
                          <a:pt x="1381" y="87"/>
                        </a:lnTo>
                        <a:lnTo>
                          <a:pt x="1383" y="92"/>
                        </a:lnTo>
                        <a:lnTo>
                          <a:pt x="1384" y="96"/>
                        </a:lnTo>
                        <a:lnTo>
                          <a:pt x="1384" y="99"/>
                        </a:lnTo>
                        <a:lnTo>
                          <a:pt x="1384" y="103"/>
                        </a:lnTo>
                        <a:lnTo>
                          <a:pt x="1386" y="108"/>
                        </a:lnTo>
                        <a:lnTo>
                          <a:pt x="1387" y="111"/>
                        </a:lnTo>
                        <a:lnTo>
                          <a:pt x="1387" y="117"/>
                        </a:lnTo>
                        <a:lnTo>
                          <a:pt x="1389" y="121"/>
                        </a:lnTo>
                        <a:lnTo>
                          <a:pt x="1390" y="125"/>
                        </a:lnTo>
                        <a:lnTo>
                          <a:pt x="1390" y="129"/>
                        </a:lnTo>
                        <a:lnTo>
                          <a:pt x="1392" y="133"/>
                        </a:lnTo>
                        <a:lnTo>
                          <a:pt x="1392" y="136"/>
                        </a:lnTo>
                        <a:lnTo>
                          <a:pt x="1393" y="141"/>
                        </a:lnTo>
                        <a:lnTo>
                          <a:pt x="1395" y="146"/>
                        </a:lnTo>
                        <a:lnTo>
                          <a:pt x="1395" y="150"/>
                        </a:lnTo>
                        <a:lnTo>
                          <a:pt x="1396" y="154"/>
                        </a:lnTo>
                        <a:lnTo>
                          <a:pt x="1398" y="158"/>
                        </a:lnTo>
                        <a:lnTo>
                          <a:pt x="1398" y="162"/>
                        </a:lnTo>
                        <a:lnTo>
                          <a:pt x="1399" y="166"/>
                        </a:lnTo>
                        <a:lnTo>
                          <a:pt x="1399" y="170"/>
                        </a:lnTo>
                        <a:lnTo>
                          <a:pt x="1401" y="174"/>
                        </a:lnTo>
                        <a:lnTo>
                          <a:pt x="1401" y="179"/>
                        </a:lnTo>
                        <a:lnTo>
                          <a:pt x="1404" y="183"/>
                        </a:lnTo>
                        <a:lnTo>
                          <a:pt x="1404" y="187"/>
                        </a:lnTo>
                        <a:lnTo>
                          <a:pt x="1406" y="192"/>
                        </a:lnTo>
                        <a:lnTo>
                          <a:pt x="1419" y="192"/>
                        </a:lnTo>
                        <a:lnTo>
                          <a:pt x="1418" y="188"/>
                        </a:lnTo>
                        <a:lnTo>
                          <a:pt x="1418" y="184"/>
                        </a:lnTo>
                        <a:lnTo>
                          <a:pt x="1418" y="180"/>
                        </a:lnTo>
                        <a:lnTo>
                          <a:pt x="1418" y="174"/>
                        </a:lnTo>
                        <a:lnTo>
                          <a:pt x="1418" y="170"/>
                        </a:lnTo>
                        <a:lnTo>
                          <a:pt x="1418" y="165"/>
                        </a:lnTo>
                        <a:lnTo>
                          <a:pt x="1418" y="159"/>
                        </a:lnTo>
                        <a:lnTo>
                          <a:pt x="1418" y="155"/>
                        </a:lnTo>
                        <a:lnTo>
                          <a:pt x="1416" y="150"/>
                        </a:lnTo>
                        <a:lnTo>
                          <a:pt x="1416" y="144"/>
                        </a:lnTo>
                        <a:lnTo>
                          <a:pt x="1415" y="139"/>
                        </a:lnTo>
                        <a:lnTo>
                          <a:pt x="1415" y="133"/>
                        </a:lnTo>
                        <a:lnTo>
                          <a:pt x="1415" y="126"/>
                        </a:lnTo>
                        <a:lnTo>
                          <a:pt x="1415" y="121"/>
                        </a:lnTo>
                        <a:lnTo>
                          <a:pt x="1415" y="115"/>
                        </a:lnTo>
                        <a:lnTo>
                          <a:pt x="1415" y="110"/>
                        </a:lnTo>
                        <a:lnTo>
                          <a:pt x="1413" y="104"/>
                        </a:lnTo>
                        <a:lnTo>
                          <a:pt x="1413" y="99"/>
                        </a:lnTo>
                        <a:lnTo>
                          <a:pt x="1412" y="92"/>
                        </a:lnTo>
                        <a:lnTo>
                          <a:pt x="1412" y="87"/>
                        </a:lnTo>
                        <a:lnTo>
                          <a:pt x="1410" y="81"/>
                        </a:lnTo>
                        <a:lnTo>
                          <a:pt x="1410" y="76"/>
                        </a:lnTo>
                        <a:lnTo>
                          <a:pt x="1409" y="71"/>
                        </a:lnTo>
                        <a:lnTo>
                          <a:pt x="1409" y="66"/>
                        </a:lnTo>
                        <a:lnTo>
                          <a:pt x="1407" y="60"/>
                        </a:lnTo>
                        <a:lnTo>
                          <a:pt x="1406" y="55"/>
                        </a:lnTo>
                        <a:lnTo>
                          <a:pt x="1404" y="51"/>
                        </a:lnTo>
                        <a:lnTo>
                          <a:pt x="1404" y="47"/>
                        </a:lnTo>
                        <a:lnTo>
                          <a:pt x="1403" y="43"/>
                        </a:lnTo>
                        <a:lnTo>
                          <a:pt x="1401" y="40"/>
                        </a:lnTo>
                        <a:lnTo>
                          <a:pt x="1399" y="36"/>
                        </a:lnTo>
                        <a:lnTo>
                          <a:pt x="1398" y="33"/>
                        </a:lnTo>
                        <a:lnTo>
                          <a:pt x="1395" y="33"/>
                        </a:lnTo>
                        <a:lnTo>
                          <a:pt x="1390" y="32"/>
                        </a:lnTo>
                        <a:lnTo>
                          <a:pt x="1384" y="32"/>
                        </a:lnTo>
                        <a:lnTo>
                          <a:pt x="1381" y="32"/>
                        </a:lnTo>
                        <a:lnTo>
                          <a:pt x="1378" y="32"/>
                        </a:lnTo>
                        <a:lnTo>
                          <a:pt x="1375" y="32"/>
                        </a:lnTo>
                        <a:lnTo>
                          <a:pt x="1372" y="32"/>
                        </a:lnTo>
                        <a:lnTo>
                          <a:pt x="1367" y="30"/>
                        </a:lnTo>
                        <a:lnTo>
                          <a:pt x="1364" y="30"/>
                        </a:lnTo>
                        <a:lnTo>
                          <a:pt x="1360" y="30"/>
                        </a:lnTo>
                        <a:lnTo>
                          <a:pt x="1357" y="30"/>
                        </a:lnTo>
                        <a:lnTo>
                          <a:pt x="1352" y="30"/>
                        </a:lnTo>
                        <a:lnTo>
                          <a:pt x="1349" y="30"/>
                        </a:lnTo>
                        <a:lnTo>
                          <a:pt x="1344" y="30"/>
                        </a:lnTo>
                        <a:lnTo>
                          <a:pt x="1341" y="30"/>
                        </a:lnTo>
                        <a:lnTo>
                          <a:pt x="1337" y="29"/>
                        </a:lnTo>
                        <a:lnTo>
                          <a:pt x="1334" y="29"/>
                        </a:lnTo>
                        <a:lnTo>
                          <a:pt x="1331" y="29"/>
                        </a:lnTo>
                        <a:lnTo>
                          <a:pt x="1328" y="29"/>
                        </a:lnTo>
                        <a:lnTo>
                          <a:pt x="1323" y="29"/>
                        </a:lnTo>
                        <a:lnTo>
                          <a:pt x="1318" y="29"/>
                        </a:lnTo>
                        <a:lnTo>
                          <a:pt x="1315" y="29"/>
                        </a:lnTo>
                        <a:lnTo>
                          <a:pt x="1321" y="28"/>
                        </a:lnTo>
                        <a:lnTo>
                          <a:pt x="1326" y="26"/>
                        </a:lnTo>
                        <a:lnTo>
                          <a:pt x="1332" y="25"/>
                        </a:lnTo>
                        <a:lnTo>
                          <a:pt x="1338" y="25"/>
                        </a:lnTo>
                        <a:lnTo>
                          <a:pt x="1343" y="23"/>
                        </a:lnTo>
                        <a:lnTo>
                          <a:pt x="1351" y="23"/>
                        </a:lnTo>
                        <a:lnTo>
                          <a:pt x="1355" y="23"/>
                        </a:lnTo>
                        <a:lnTo>
                          <a:pt x="1361" y="23"/>
                        </a:lnTo>
                        <a:lnTo>
                          <a:pt x="1367" y="23"/>
                        </a:lnTo>
                        <a:lnTo>
                          <a:pt x="1373" y="23"/>
                        </a:lnTo>
                        <a:lnTo>
                          <a:pt x="1378" y="23"/>
                        </a:lnTo>
                        <a:lnTo>
                          <a:pt x="1384" y="23"/>
                        </a:lnTo>
                        <a:lnTo>
                          <a:pt x="1390" y="23"/>
                        </a:lnTo>
                        <a:lnTo>
                          <a:pt x="1396" y="23"/>
                        </a:lnTo>
                        <a:lnTo>
                          <a:pt x="1403" y="23"/>
                        </a:lnTo>
                        <a:lnTo>
                          <a:pt x="1409" y="23"/>
                        </a:lnTo>
                        <a:lnTo>
                          <a:pt x="1409" y="29"/>
                        </a:lnTo>
                        <a:lnTo>
                          <a:pt x="1409" y="33"/>
                        </a:lnTo>
                        <a:lnTo>
                          <a:pt x="1410" y="38"/>
                        </a:lnTo>
                        <a:lnTo>
                          <a:pt x="1412" y="44"/>
                        </a:lnTo>
                        <a:lnTo>
                          <a:pt x="1412" y="49"/>
                        </a:lnTo>
                        <a:lnTo>
                          <a:pt x="1412" y="54"/>
                        </a:lnTo>
                        <a:lnTo>
                          <a:pt x="1412" y="59"/>
                        </a:lnTo>
                        <a:lnTo>
                          <a:pt x="1413" y="65"/>
                        </a:lnTo>
                        <a:lnTo>
                          <a:pt x="1413" y="70"/>
                        </a:lnTo>
                        <a:lnTo>
                          <a:pt x="1415" y="74"/>
                        </a:lnTo>
                        <a:lnTo>
                          <a:pt x="1415" y="80"/>
                        </a:lnTo>
                        <a:lnTo>
                          <a:pt x="1415" y="85"/>
                        </a:lnTo>
                        <a:lnTo>
                          <a:pt x="1416" y="91"/>
                        </a:lnTo>
                        <a:lnTo>
                          <a:pt x="1418" y="96"/>
                        </a:lnTo>
                        <a:lnTo>
                          <a:pt x="1418" y="102"/>
                        </a:lnTo>
                        <a:lnTo>
                          <a:pt x="1419" y="107"/>
                        </a:lnTo>
                        <a:lnTo>
                          <a:pt x="1419" y="111"/>
                        </a:lnTo>
                        <a:lnTo>
                          <a:pt x="1421" y="117"/>
                        </a:lnTo>
                        <a:lnTo>
                          <a:pt x="1422" y="122"/>
                        </a:lnTo>
                        <a:lnTo>
                          <a:pt x="1422" y="126"/>
                        </a:lnTo>
                        <a:lnTo>
                          <a:pt x="1424" y="132"/>
                        </a:lnTo>
                        <a:lnTo>
                          <a:pt x="1425" y="137"/>
                        </a:lnTo>
                        <a:lnTo>
                          <a:pt x="1425" y="141"/>
                        </a:lnTo>
                        <a:lnTo>
                          <a:pt x="1429" y="148"/>
                        </a:lnTo>
                        <a:lnTo>
                          <a:pt x="1429" y="152"/>
                        </a:lnTo>
                        <a:lnTo>
                          <a:pt x="1430" y="158"/>
                        </a:lnTo>
                        <a:lnTo>
                          <a:pt x="1432" y="163"/>
                        </a:lnTo>
                        <a:lnTo>
                          <a:pt x="1433" y="168"/>
                        </a:lnTo>
                        <a:lnTo>
                          <a:pt x="1436" y="173"/>
                        </a:lnTo>
                        <a:lnTo>
                          <a:pt x="1438" y="177"/>
                        </a:lnTo>
                        <a:lnTo>
                          <a:pt x="1439" y="183"/>
                        </a:lnTo>
                        <a:lnTo>
                          <a:pt x="1442" y="188"/>
                        </a:lnTo>
                        <a:lnTo>
                          <a:pt x="1442" y="191"/>
                        </a:lnTo>
                        <a:lnTo>
                          <a:pt x="1444" y="195"/>
                        </a:lnTo>
                        <a:lnTo>
                          <a:pt x="1445" y="196"/>
                        </a:lnTo>
                        <a:lnTo>
                          <a:pt x="1447" y="198"/>
                        </a:lnTo>
                        <a:lnTo>
                          <a:pt x="1448" y="196"/>
                        </a:lnTo>
                        <a:lnTo>
                          <a:pt x="1450" y="194"/>
                        </a:lnTo>
                        <a:lnTo>
                          <a:pt x="1450" y="188"/>
                        </a:lnTo>
                        <a:lnTo>
                          <a:pt x="1450" y="183"/>
                        </a:lnTo>
                        <a:lnTo>
                          <a:pt x="1450" y="179"/>
                        </a:lnTo>
                        <a:lnTo>
                          <a:pt x="1450" y="174"/>
                        </a:lnTo>
                        <a:lnTo>
                          <a:pt x="1448" y="170"/>
                        </a:lnTo>
                        <a:lnTo>
                          <a:pt x="1448" y="168"/>
                        </a:lnTo>
                        <a:lnTo>
                          <a:pt x="1448" y="163"/>
                        </a:lnTo>
                        <a:lnTo>
                          <a:pt x="1448" y="159"/>
                        </a:lnTo>
                        <a:lnTo>
                          <a:pt x="1447" y="154"/>
                        </a:lnTo>
                        <a:lnTo>
                          <a:pt x="1447" y="150"/>
                        </a:lnTo>
                        <a:lnTo>
                          <a:pt x="1447" y="143"/>
                        </a:lnTo>
                        <a:lnTo>
                          <a:pt x="1447" y="137"/>
                        </a:lnTo>
                        <a:lnTo>
                          <a:pt x="1447" y="135"/>
                        </a:lnTo>
                        <a:lnTo>
                          <a:pt x="1447" y="130"/>
                        </a:lnTo>
                        <a:lnTo>
                          <a:pt x="1445" y="128"/>
                        </a:lnTo>
                        <a:lnTo>
                          <a:pt x="1445" y="124"/>
                        </a:lnTo>
                        <a:lnTo>
                          <a:pt x="1445" y="121"/>
                        </a:lnTo>
                        <a:lnTo>
                          <a:pt x="1445" y="117"/>
                        </a:lnTo>
                        <a:lnTo>
                          <a:pt x="1444" y="114"/>
                        </a:lnTo>
                        <a:lnTo>
                          <a:pt x="1444" y="111"/>
                        </a:lnTo>
                        <a:lnTo>
                          <a:pt x="1444" y="107"/>
                        </a:lnTo>
                        <a:lnTo>
                          <a:pt x="1444" y="103"/>
                        </a:lnTo>
                        <a:lnTo>
                          <a:pt x="1442" y="99"/>
                        </a:lnTo>
                        <a:lnTo>
                          <a:pt x="1442" y="96"/>
                        </a:lnTo>
                        <a:lnTo>
                          <a:pt x="1442" y="92"/>
                        </a:lnTo>
                        <a:lnTo>
                          <a:pt x="1442" y="88"/>
                        </a:lnTo>
                        <a:lnTo>
                          <a:pt x="1442" y="85"/>
                        </a:lnTo>
                        <a:lnTo>
                          <a:pt x="1442" y="81"/>
                        </a:lnTo>
                        <a:lnTo>
                          <a:pt x="1442" y="77"/>
                        </a:lnTo>
                        <a:lnTo>
                          <a:pt x="1441" y="74"/>
                        </a:lnTo>
                        <a:lnTo>
                          <a:pt x="1441" y="70"/>
                        </a:lnTo>
                        <a:lnTo>
                          <a:pt x="1441" y="66"/>
                        </a:lnTo>
                        <a:lnTo>
                          <a:pt x="1439" y="62"/>
                        </a:lnTo>
                        <a:lnTo>
                          <a:pt x="1439" y="59"/>
                        </a:lnTo>
                        <a:lnTo>
                          <a:pt x="1439" y="55"/>
                        </a:lnTo>
                        <a:lnTo>
                          <a:pt x="1439" y="52"/>
                        </a:lnTo>
                        <a:lnTo>
                          <a:pt x="1439" y="48"/>
                        </a:lnTo>
                        <a:lnTo>
                          <a:pt x="1438" y="45"/>
                        </a:lnTo>
                        <a:lnTo>
                          <a:pt x="1438" y="41"/>
                        </a:lnTo>
                        <a:lnTo>
                          <a:pt x="1438" y="38"/>
                        </a:lnTo>
                        <a:lnTo>
                          <a:pt x="1436" y="36"/>
                        </a:lnTo>
                        <a:lnTo>
                          <a:pt x="1436" y="32"/>
                        </a:lnTo>
                        <a:lnTo>
                          <a:pt x="1436" y="29"/>
                        </a:lnTo>
                        <a:lnTo>
                          <a:pt x="1436" y="28"/>
                        </a:lnTo>
                        <a:lnTo>
                          <a:pt x="1435" y="21"/>
                        </a:lnTo>
                        <a:lnTo>
                          <a:pt x="1435" y="17"/>
                        </a:lnTo>
                        <a:lnTo>
                          <a:pt x="1433" y="11"/>
                        </a:lnTo>
                        <a:lnTo>
                          <a:pt x="1433" y="8"/>
                        </a:lnTo>
                        <a:lnTo>
                          <a:pt x="1433" y="4"/>
                        </a:lnTo>
                        <a:lnTo>
                          <a:pt x="1433" y="3"/>
                        </a:lnTo>
                        <a:lnTo>
                          <a:pt x="1432" y="0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218"/>
                  <p:cNvSpPr/>
                  <p:nvPr/>
                </p:nvSpPr>
                <p:spPr>
                  <a:xfrm>
                    <a:off x="3905640" y="3613320"/>
                    <a:ext cx="39600" cy="216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277" h="18">
                        <a:moveTo>
                          <a:pt x="277" y="0"/>
                        </a:moveTo>
                        <a:lnTo>
                          <a:pt x="269" y="0"/>
                        </a:lnTo>
                        <a:lnTo>
                          <a:pt x="263" y="0"/>
                        </a:lnTo>
                        <a:lnTo>
                          <a:pt x="257" y="0"/>
                        </a:lnTo>
                        <a:lnTo>
                          <a:pt x="252" y="0"/>
                        </a:lnTo>
                        <a:lnTo>
                          <a:pt x="245" y="0"/>
                        </a:lnTo>
                        <a:lnTo>
                          <a:pt x="240" y="2"/>
                        </a:lnTo>
                        <a:lnTo>
                          <a:pt x="234" y="2"/>
                        </a:lnTo>
                        <a:lnTo>
                          <a:pt x="228" y="3"/>
                        </a:lnTo>
                        <a:lnTo>
                          <a:pt x="222" y="3"/>
                        </a:lnTo>
                        <a:lnTo>
                          <a:pt x="216" y="3"/>
                        </a:lnTo>
                        <a:lnTo>
                          <a:pt x="210" y="4"/>
                        </a:lnTo>
                        <a:lnTo>
                          <a:pt x="203" y="4"/>
                        </a:lnTo>
                        <a:lnTo>
                          <a:pt x="197" y="4"/>
                        </a:lnTo>
                        <a:lnTo>
                          <a:pt x="193" y="4"/>
                        </a:lnTo>
                        <a:lnTo>
                          <a:pt x="187" y="6"/>
                        </a:lnTo>
                        <a:lnTo>
                          <a:pt x="180" y="6"/>
                        </a:lnTo>
                        <a:lnTo>
                          <a:pt x="174" y="6"/>
                        </a:lnTo>
                        <a:lnTo>
                          <a:pt x="168" y="7"/>
                        </a:lnTo>
                        <a:lnTo>
                          <a:pt x="162" y="7"/>
                        </a:lnTo>
                        <a:lnTo>
                          <a:pt x="156" y="7"/>
                        </a:lnTo>
                        <a:lnTo>
                          <a:pt x="150" y="7"/>
                        </a:lnTo>
                        <a:lnTo>
                          <a:pt x="144" y="7"/>
                        </a:lnTo>
                        <a:lnTo>
                          <a:pt x="138" y="9"/>
                        </a:lnTo>
                        <a:lnTo>
                          <a:pt x="131" y="9"/>
                        </a:lnTo>
                        <a:lnTo>
                          <a:pt x="125" y="9"/>
                        </a:lnTo>
                        <a:lnTo>
                          <a:pt x="119" y="10"/>
                        </a:lnTo>
                        <a:lnTo>
                          <a:pt x="113" y="10"/>
                        </a:lnTo>
                        <a:lnTo>
                          <a:pt x="109" y="10"/>
                        </a:lnTo>
                        <a:lnTo>
                          <a:pt x="101" y="10"/>
                        </a:lnTo>
                        <a:lnTo>
                          <a:pt x="96" y="10"/>
                        </a:lnTo>
                        <a:lnTo>
                          <a:pt x="90" y="11"/>
                        </a:lnTo>
                        <a:lnTo>
                          <a:pt x="84" y="11"/>
                        </a:lnTo>
                        <a:lnTo>
                          <a:pt x="79" y="11"/>
                        </a:lnTo>
                        <a:lnTo>
                          <a:pt x="76" y="11"/>
                        </a:lnTo>
                        <a:lnTo>
                          <a:pt x="72" y="11"/>
                        </a:lnTo>
                        <a:lnTo>
                          <a:pt x="67" y="11"/>
                        </a:lnTo>
                        <a:lnTo>
                          <a:pt x="63" y="11"/>
                        </a:lnTo>
                        <a:lnTo>
                          <a:pt x="60" y="11"/>
                        </a:lnTo>
                        <a:lnTo>
                          <a:pt x="55" y="11"/>
                        </a:lnTo>
                        <a:lnTo>
                          <a:pt x="52" y="11"/>
                        </a:lnTo>
                        <a:lnTo>
                          <a:pt x="47" y="11"/>
                        </a:lnTo>
                        <a:lnTo>
                          <a:pt x="43" y="11"/>
                        </a:lnTo>
                        <a:lnTo>
                          <a:pt x="38" y="11"/>
                        </a:lnTo>
                        <a:lnTo>
                          <a:pt x="35" y="13"/>
                        </a:lnTo>
                        <a:lnTo>
                          <a:pt x="31" y="13"/>
                        </a:lnTo>
                        <a:lnTo>
                          <a:pt x="26" y="13"/>
                        </a:lnTo>
                        <a:lnTo>
                          <a:pt x="23" y="13"/>
                        </a:lnTo>
                        <a:lnTo>
                          <a:pt x="18" y="14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29" y="18"/>
                        </a:lnTo>
                        <a:lnTo>
                          <a:pt x="34" y="18"/>
                        </a:lnTo>
                        <a:lnTo>
                          <a:pt x="38" y="18"/>
                        </a:lnTo>
                        <a:lnTo>
                          <a:pt x="43" y="18"/>
                        </a:lnTo>
                        <a:lnTo>
                          <a:pt x="49" y="18"/>
                        </a:lnTo>
                        <a:lnTo>
                          <a:pt x="55" y="18"/>
                        </a:lnTo>
                        <a:lnTo>
                          <a:pt x="60" y="18"/>
                        </a:lnTo>
                        <a:lnTo>
                          <a:pt x="66" y="18"/>
                        </a:lnTo>
                        <a:lnTo>
                          <a:pt x="72" y="18"/>
                        </a:lnTo>
                        <a:lnTo>
                          <a:pt x="76" y="18"/>
                        </a:lnTo>
                        <a:lnTo>
                          <a:pt x="83" y="18"/>
                        </a:lnTo>
                        <a:lnTo>
                          <a:pt x="89" y="17"/>
                        </a:lnTo>
                        <a:lnTo>
                          <a:pt x="95" y="17"/>
                        </a:lnTo>
                        <a:lnTo>
                          <a:pt x="99" y="17"/>
                        </a:lnTo>
                        <a:lnTo>
                          <a:pt x="105" y="17"/>
                        </a:lnTo>
                        <a:lnTo>
                          <a:pt x="112" y="15"/>
                        </a:lnTo>
                        <a:lnTo>
                          <a:pt x="118" y="15"/>
                        </a:lnTo>
                        <a:lnTo>
                          <a:pt x="124" y="15"/>
                        </a:lnTo>
                        <a:lnTo>
                          <a:pt x="128" y="15"/>
                        </a:lnTo>
                        <a:lnTo>
                          <a:pt x="135" y="14"/>
                        </a:lnTo>
                        <a:lnTo>
                          <a:pt x="141" y="14"/>
                        </a:lnTo>
                        <a:lnTo>
                          <a:pt x="145" y="14"/>
                        </a:lnTo>
                        <a:lnTo>
                          <a:pt x="151" y="13"/>
                        </a:lnTo>
                        <a:lnTo>
                          <a:pt x="157" y="13"/>
                        </a:lnTo>
                        <a:lnTo>
                          <a:pt x="164" y="13"/>
                        </a:lnTo>
                        <a:lnTo>
                          <a:pt x="168" y="13"/>
                        </a:lnTo>
                        <a:lnTo>
                          <a:pt x="174" y="11"/>
                        </a:lnTo>
                        <a:lnTo>
                          <a:pt x="180" y="11"/>
                        </a:lnTo>
                        <a:lnTo>
                          <a:pt x="185" y="11"/>
                        </a:lnTo>
                        <a:lnTo>
                          <a:pt x="190" y="10"/>
                        </a:lnTo>
                        <a:lnTo>
                          <a:pt x="196" y="10"/>
                        </a:lnTo>
                        <a:lnTo>
                          <a:pt x="202" y="10"/>
                        </a:lnTo>
                        <a:lnTo>
                          <a:pt x="208" y="10"/>
                        </a:lnTo>
                        <a:lnTo>
                          <a:pt x="211" y="9"/>
                        </a:lnTo>
                        <a:lnTo>
                          <a:pt x="214" y="9"/>
                        </a:lnTo>
                        <a:lnTo>
                          <a:pt x="219" y="9"/>
                        </a:lnTo>
                        <a:lnTo>
                          <a:pt x="222" y="9"/>
                        </a:lnTo>
                        <a:lnTo>
                          <a:pt x="226" y="9"/>
                        </a:lnTo>
                        <a:lnTo>
                          <a:pt x="229" y="9"/>
                        </a:lnTo>
                        <a:lnTo>
                          <a:pt x="234" y="9"/>
                        </a:lnTo>
                        <a:lnTo>
                          <a:pt x="237" y="9"/>
                        </a:lnTo>
                        <a:lnTo>
                          <a:pt x="242" y="9"/>
                        </a:lnTo>
                        <a:lnTo>
                          <a:pt x="245" y="9"/>
                        </a:lnTo>
                        <a:lnTo>
                          <a:pt x="249" y="9"/>
                        </a:lnTo>
                        <a:lnTo>
                          <a:pt x="252" y="9"/>
                        </a:lnTo>
                        <a:lnTo>
                          <a:pt x="255" y="7"/>
                        </a:lnTo>
                        <a:lnTo>
                          <a:pt x="260" y="7"/>
                        </a:lnTo>
                        <a:lnTo>
                          <a:pt x="263" y="7"/>
                        </a:lnTo>
                        <a:lnTo>
                          <a:pt x="268" y="7"/>
                        </a:lnTo>
                        <a:lnTo>
                          <a:pt x="272" y="6"/>
                        </a:lnTo>
                        <a:lnTo>
                          <a:pt x="275" y="4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219"/>
                  <p:cNvSpPr/>
                  <p:nvPr/>
                </p:nvSpPr>
                <p:spPr>
                  <a:xfrm>
                    <a:off x="3979080" y="3615480"/>
                    <a:ext cx="24480" cy="180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173" h="15">
                        <a:moveTo>
                          <a:pt x="171" y="15"/>
                        </a:moveTo>
                        <a:lnTo>
                          <a:pt x="167" y="13"/>
                        </a:lnTo>
                        <a:lnTo>
                          <a:pt x="162" y="13"/>
                        </a:lnTo>
                        <a:lnTo>
                          <a:pt x="156" y="12"/>
                        </a:lnTo>
                        <a:lnTo>
                          <a:pt x="151" y="12"/>
                        </a:lnTo>
                        <a:lnTo>
                          <a:pt x="147" y="12"/>
                        </a:lnTo>
                        <a:lnTo>
                          <a:pt x="142" y="12"/>
                        </a:lnTo>
                        <a:lnTo>
                          <a:pt x="136" y="12"/>
                        </a:lnTo>
                        <a:lnTo>
                          <a:pt x="131" y="12"/>
                        </a:lnTo>
                        <a:lnTo>
                          <a:pt x="127" y="11"/>
                        </a:lnTo>
                        <a:lnTo>
                          <a:pt x="122" y="11"/>
                        </a:lnTo>
                        <a:lnTo>
                          <a:pt x="116" y="11"/>
                        </a:lnTo>
                        <a:lnTo>
                          <a:pt x="112" y="11"/>
                        </a:lnTo>
                        <a:lnTo>
                          <a:pt x="107" y="11"/>
                        </a:lnTo>
                        <a:lnTo>
                          <a:pt x="102" y="11"/>
                        </a:lnTo>
                        <a:lnTo>
                          <a:pt x="98" y="11"/>
                        </a:lnTo>
                        <a:lnTo>
                          <a:pt x="93" y="12"/>
                        </a:lnTo>
                        <a:lnTo>
                          <a:pt x="87" y="11"/>
                        </a:lnTo>
                        <a:lnTo>
                          <a:pt x="82" y="11"/>
                        </a:lnTo>
                        <a:lnTo>
                          <a:pt x="78" y="11"/>
                        </a:lnTo>
                        <a:lnTo>
                          <a:pt x="73" y="11"/>
                        </a:lnTo>
                        <a:lnTo>
                          <a:pt x="67" y="11"/>
                        </a:lnTo>
                        <a:lnTo>
                          <a:pt x="63" y="11"/>
                        </a:lnTo>
                        <a:lnTo>
                          <a:pt x="56" y="11"/>
                        </a:lnTo>
                        <a:lnTo>
                          <a:pt x="53" y="11"/>
                        </a:lnTo>
                        <a:lnTo>
                          <a:pt x="47" y="11"/>
                        </a:lnTo>
                        <a:lnTo>
                          <a:pt x="43" y="9"/>
                        </a:lnTo>
                        <a:lnTo>
                          <a:pt x="38" y="9"/>
                        </a:lnTo>
                        <a:lnTo>
                          <a:pt x="33" y="8"/>
                        </a:lnTo>
                        <a:lnTo>
                          <a:pt x="29" y="8"/>
                        </a:lnTo>
                        <a:lnTo>
                          <a:pt x="24" y="7"/>
                        </a:lnTo>
                        <a:lnTo>
                          <a:pt x="18" y="7"/>
                        </a:lnTo>
                        <a:lnTo>
                          <a:pt x="15" y="5"/>
                        </a:lnTo>
                        <a:lnTo>
                          <a:pt x="11" y="5"/>
                        </a:lnTo>
                        <a:lnTo>
                          <a:pt x="7" y="4"/>
                        </a:lnTo>
                        <a:lnTo>
                          <a:pt x="4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8" y="0"/>
                        </a:lnTo>
                        <a:lnTo>
                          <a:pt x="63" y="0"/>
                        </a:lnTo>
                        <a:lnTo>
                          <a:pt x="67" y="0"/>
                        </a:lnTo>
                        <a:lnTo>
                          <a:pt x="72" y="0"/>
                        </a:lnTo>
                        <a:lnTo>
                          <a:pt x="76" y="1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89" y="1"/>
                        </a:lnTo>
                        <a:lnTo>
                          <a:pt x="95" y="3"/>
                        </a:lnTo>
                        <a:lnTo>
                          <a:pt x="98" y="3"/>
                        </a:lnTo>
                        <a:lnTo>
                          <a:pt x="102" y="3"/>
                        </a:lnTo>
                        <a:lnTo>
                          <a:pt x="107" y="3"/>
                        </a:lnTo>
                        <a:lnTo>
                          <a:pt x="112" y="3"/>
                        </a:lnTo>
                        <a:lnTo>
                          <a:pt x="115" y="3"/>
                        </a:lnTo>
                        <a:lnTo>
                          <a:pt x="119" y="4"/>
                        </a:lnTo>
                        <a:lnTo>
                          <a:pt x="124" y="4"/>
                        </a:lnTo>
                        <a:lnTo>
                          <a:pt x="128" y="4"/>
                        </a:lnTo>
                        <a:lnTo>
                          <a:pt x="131" y="4"/>
                        </a:lnTo>
                        <a:lnTo>
                          <a:pt x="136" y="5"/>
                        </a:lnTo>
                        <a:lnTo>
                          <a:pt x="139" y="5"/>
                        </a:lnTo>
                        <a:lnTo>
                          <a:pt x="144" y="5"/>
                        </a:lnTo>
                        <a:lnTo>
                          <a:pt x="150" y="7"/>
                        </a:lnTo>
                        <a:lnTo>
                          <a:pt x="156" y="8"/>
                        </a:lnTo>
                        <a:lnTo>
                          <a:pt x="160" y="9"/>
                        </a:lnTo>
                        <a:lnTo>
                          <a:pt x="167" y="12"/>
                        </a:lnTo>
                        <a:lnTo>
                          <a:pt x="170" y="13"/>
                        </a:lnTo>
                        <a:lnTo>
                          <a:pt x="171" y="15"/>
                        </a:lnTo>
                        <a:lnTo>
                          <a:pt x="173" y="15"/>
                        </a:lnTo>
                        <a:lnTo>
                          <a:pt x="171" y="1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220"/>
                  <p:cNvSpPr/>
                  <p:nvPr/>
                </p:nvSpPr>
                <p:spPr>
                  <a:xfrm>
                    <a:off x="3909600" y="3620880"/>
                    <a:ext cx="4320" cy="36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360"/>
                      <a:gd name="textAreaBottom" fmla="*/ 720 h 360"/>
                    </a:gdLst>
                    <a:ahLst/>
                    <a:rect l="textAreaLeft" t="textAreaTop" r="textAreaRight" b="textAreaBottom"/>
                    <a:pathLst>
                      <a:path w="32" h="6">
                        <a:moveTo>
                          <a:pt x="5" y="0"/>
                        </a:move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14" y="6"/>
                        </a:lnTo>
                        <a:lnTo>
                          <a:pt x="20" y="6"/>
                        </a:lnTo>
                        <a:lnTo>
                          <a:pt x="21" y="6"/>
                        </a:lnTo>
                        <a:lnTo>
                          <a:pt x="24" y="6"/>
                        </a:lnTo>
                        <a:lnTo>
                          <a:pt x="28" y="4"/>
                        </a:lnTo>
                        <a:lnTo>
                          <a:pt x="32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Freeform 221"/>
                  <p:cNvSpPr/>
                  <p:nvPr/>
                </p:nvSpPr>
                <p:spPr>
                  <a:xfrm>
                    <a:off x="3805200" y="3637080"/>
                    <a:ext cx="269280" cy="2016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871" h="154">
                        <a:moveTo>
                          <a:pt x="490" y="18"/>
                        </a:moveTo>
                        <a:lnTo>
                          <a:pt x="483" y="19"/>
                        </a:lnTo>
                        <a:lnTo>
                          <a:pt x="477" y="20"/>
                        </a:lnTo>
                        <a:lnTo>
                          <a:pt x="473" y="22"/>
                        </a:lnTo>
                        <a:lnTo>
                          <a:pt x="467" y="23"/>
                        </a:lnTo>
                        <a:lnTo>
                          <a:pt x="461" y="25"/>
                        </a:lnTo>
                        <a:lnTo>
                          <a:pt x="456" y="26"/>
                        </a:lnTo>
                        <a:lnTo>
                          <a:pt x="450" y="26"/>
                        </a:lnTo>
                        <a:lnTo>
                          <a:pt x="444" y="29"/>
                        </a:lnTo>
                        <a:lnTo>
                          <a:pt x="438" y="29"/>
                        </a:lnTo>
                        <a:lnTo>
                          <a:pt x="431" y="30"/>
                        </a:lnTo>
                        <a:lnTo>
                          <a:pt x="427" y="30"/>
                        </a:lnTo>
                        <a:lnTo>
                          <a:pt x="421" y="31"/>
                        </a:lnTo>
                        <a:lnTo>
                          <a:pt x="415" y="31"/>
                        </a:lnTo>
                        <a:lnTo>
                          <a:pt x="409" y="33"/>
                        </a:lnTo>
                        <a:lnTo>
                          <a:pt x="404" y="34"/>
                        </a:lnTo>
                        <a:lnTo>
                          <a:pt x="398" y="34"/>
                        </a:lnTo>
                        <a:lnTo>
                          <a:pt x="392" y="34"/>
                        </a:lnTo>
                        <a:lnTo>
                          <a:pt x="386" y="35"/>
                        </a:lnTo>
                        <a:lnTo>
                          <a:pt x="379" y="35"/>
                        </a:lnTo>
                        <a:lnTo>
                          <a:pt x="373" y="37"/>
                        </a:lnTo>
                        <a:lnTo>
                          <a:pt x="367" y="37"/>
                        </a:lnTo>
                        <a:lnTo>
                          <a:pt x="363" y="38"/>
                        </a:lnTo>
                        <a:lnTo>
                          <a:pt x="357" y="38"/>
                        </a:lnTo>
                        <a:lnTo>
                          <a:pt x="350" y="40"/>
                        </a:lnTo>
                        <a:lnTo>
                          <a:pt x="344" y="40"/>
                        </a:lnTo>
                        <a:lnTo>
                          <a:pt x="338" y="40"/>
                        </a:lnTo>
                        <a:lnTo>
                          <a:pt x="332" y="41"/>
                        </a:lnTo>
                        <a:lnTo>
                          <a:pt x="327" y="41"/>
                        </a:lnTo>
                        <a:lnTo>
                          <a:pt x="321" y="41"/>
                        </a:lnTo>
                        <a:lnTo>
                          <a:pt x="315" y="42"/>
                        </a:lnTo>
                        <a:lnTo>
                          <a:pt x="309" y="42"/>
                        </a:lnTo>
                        <a:lnTo>
                          <a:pt x="303" y="44"/>
                        </a:lnTo>
                        <a:lnTo>
                          <a:pt x="297" y="44"/>
                        </a:lnTo>
                        <a:lnTo>
                          <a:pt x="291" y="44"/>
                        </a:lnTo>
                        <a:lnTo>
                          <a:pt x="285" y="44"/>
                        </a:lnTo>
                        <a:lnTo>
                          <a:pt x="279" y="45"/>
                        </a:lnTo>
                        <a:lnTo>
                          <a:pt x="272" y="45"/>
                        </a:lnTo>
                        <a:lnTo>
                          <a:pt x="266" y="45"/>
                        </a:lnTo>
                        <a:lnTo>
                          <a:pt x="260" y="46"/>
                        </a:lnTo>
                        <a:lnTo>
                          <a:pt x="254" y="46"/>
                        </a:lnTo>
                        <a:lnTo>
                          <a:pt x="248" y="46"/>
                        </a:lnTo>
                        <a:lnTo>
                          <a:pt x="242" y="48"/>
                        </a:lnTo>
                        <a:lnTo>
                          <a:pt x="237" y="48"/>
                        </a:lnTo>
                        <a:lnTo>
                          <a:pt x="231" y="49"/>
                        </a:lnTo>
                        <a:lnTo>
                          <a:pt x="225" y="51"/>
                        </a:lnTo>
                        <a:lnTo>
                          <a:pt x="219" y="51"/>
                        </a:lnTo>
                        <a:lnTo>
                          <a:pt x="213" y="52"/>
                        </a:lnTo>
                        <a:lnTo>
                          <a:pt x="207" y="53"/>
                        </a:lnTo>
                        <a:lnTo>
                          <a:pt x="201" y="53"/>
                        </a:lnTo>
                        <a:lnTo>
                          <a:pt x="194" y="55"/>
                        </a:lnTo>
                        <a:lnTo>
                          <a:pt x="188" y="55"/>
                        </a:lnTo>
                        <a:lnTo>
                          <a:pt x="184" y="56"/>
                        </a:lnTo>
                        <a:lnTo>
                          <a:pt x="178" y="57"/>
                        </a:lnTo>
                        <a:lnTo>
                          <a:pt x="171" y="59"/>
                        </a:lnTo>
                        <a:lnTo>
                          <a:pt x="165" y="59"/>
                        </a:lnTo>
                        <a:lnTo>
                          <a:pt x="161" y="62"/>
                        </a:lnTo>
                        <a:lnTo>
                          <a:pt x="155" y="63"/>
                        </a:lnTo>
                        <a:lnTo>
                          <a:pt x="148" y="63"/>
                        </a:lnTo>
                        <a:lnTo>
                          <a:pt x="144" y="66"/>
                        </a:lnTo>
                        <a:lnTo>
                          <a:pt x="138" y="67"/>
                        </a:lnTo>
                        <a:lnTo>
                          <a:pt x="132" y="68"/>
                        </a:lnTo>
                        <a:lnTo>
                          <a:pt x="127" y="70"/>
                        </a:lnTo>
                        <a:lnTo>
                          <a:pt x="121" y="73"/>
                        </a:lnTo>
                        <a:lnTo>
                          <a:pt x="116" y="75"/>
                        </a:lnTo>
                        <a:lnTo>
                          <a:pt x="121" y="77"/>
                        </a:lnTo>
                        <a:lnTo>
                          <a:pt x="127" y="75"/>
                        </a:lnTo>
                        <a:lnTo>
                          <a:pt x="133" y="73"/>
                        </a:lnTo>
                        <a:lnTo>
                          <a:pt x="138" y="71"/>
                        </a:lnTo>
                        <a:lnTo>
                          <a:pt x="141" y="71"/>
                        </a:lnTo>
                        <a:lnTo>
                          <a:pt x="144" y="70"/>
                        </a:lnTo>
                        <a:lnTo>
                          <a:pt x="148" y="70"/>
                        </a:lnTo>
                        <a:lnTo>
                          <a:pt x="152" y="68"/>
                        </a:lnTo>
                        <a:lnTo>
                          <a:pt x="155" y="68"/>
                        </a:lnTo>
                        <a:lnTo>
                          <a:pt x="158" y="67"/>
                        </a:lnTo>
                        <a:lnTo>
                          <a:pt x="162" y="67"/>
                        </a:lnTo>
                        <a:lnTo>
                          <a:pt x="165" y="66"/>
                        </a:lnTo>
                        <a:lnTo>
                          <a:pt x="168" y="66"/>
                        </a:lnTo>
                        <a:lnTo>
                          <a:pt x="173" y="66"/>
                        </a:lnTo>
                        <a:lnTo>
                          <a:pt x="176" y="66"/>
                        </a:lnTo>
                        <a:lnTo>
                          <a:pt x="179" y="64"/>
                        </a:lnTo>
                        <a:lnTo>
                          <a:pt x="184" y="64"/>
                        </a:lnTo>
                        <a:lnTo>
                          <a:pt x="187" y="63"/>
                        </a:lnTo>
                        <a:lnTo>
                          <a:pt x="190" y="63"/>
                        </a:lnTo>
                        <a:lnTo>
                          <a:pt x="193" y="63"/>
                        </a:lnTo>
                        <a:lnTo>
                          <a:pt x="197" y="63"/>
                        </a:lnTo>
                        <a:lnTo>
                          <a:pt x="201" y="62"/>
                        </a:lnTo>
                        <a:lnTo>
                          <a:pt x="205" y="62"/>
                        </a:lnTo>
                        <a:lnTo>
                          <a:pt x="208" y="62"/>
                        </a:lnTo>
                        <a:lnTo>
                          <a:pt x="211" y="60"/>
                        </a:lnTo>
                        <a:lnTo>
                          <a:pt x="214" y="60"/>
                        </a:lnTo>
                        <a:lnTo>
                          <a:pt x="219" y="60"/>
                        </a:lnTo>
                        <a:lnTo>
                          <a:pt x="222" y="59"/>
                        </a:lnTo>
                        <a:lnTo>
                          <a:pt x="225" y="59"/>
                        </a:lnTo>
                        <a:lnTo>
                          <a:pt x="230" y="59"/>
                        </a:lnTo>
                        <a:lnTo>
                          <a:pt x="233" y="59"/>
                        </a:lnTo>
                        <a:lnTo>
                          <a:pt x="236" y="57"/>
                        </a:lnTo>
                        <a:lnTo>
                          <a:pt x="240" y="57"/>
                        </a:lnTo>
                        <a:lnTo>
                          <a:pt x="243" y="56"/>
                        </a:lnTo>
                        <a:lnTo>
                          <a:pt x="246" y="56"/>
                        </a:lnTo>
                        <a:lnTo>
                          <a:pt x="249" y="56"/>
                        </a:lnTo>
                        <a:lnTo>
                          <a:pt x="254" y="56"/>
                        </a:lnTo>
                        <a:lnTo>
                          <a:pt x="257" y="56"/>
                        </a:lnTo>
                        <a:lnTo>
                          <a:pt x="260" y="56"/>
                        </a:lnTo>
                        <a:lnTo>
                          <a:pt x="265" y="55"/>
                        </a:lnTo>
                        <a:lnTo>
                          <a:pt x="268" y="55"/>
                        </a:lnTo>
                        <a:lnTo>
                          <a:pt x="271" y="55"/>
                        </a:lnTo>
                        <a:lnTo>
                          <a:pt x="275" y="55"/>
                        </a:lnTo>
                        <a:lnTo>
                          <a:pt x="279" y="53"/>
                        </a:lnTo>
                        <a:lnTo>
                          <a:pt x="282" y="53"/>
                        </a:lnTo>
                        <a:lnTo>
                          <a:pt x="286" y="53"/>
                        </a:lnTo>
                        <a:lnTo>
                          <a:pt x="289" y="53"/>
                        </a:lnTo>
                        <a:lnTo>
                          <a:pt x="286" y="53"/>
                        </a:lnTo>
                        <a:lnTo>
                          <a:pt x="282" y="55"/>
                        </a:lnTo>
                        <a:lnTo>
                          <a:pt x="277" y="55"/>
                        </a:lnTo>
                        <a:lnTo>
                          <a:pt x="274" y="56"/>
                        </a:lnTo>
                        <a:lnTo>
                          <a:pt x="271" y="56"/>
                        </a:lnTo>
                        <a:lnTo>
                          <a:pt x="268" y="56"/>
                        </a:lnTo>
                        <a:lnTo>
                          <a:pt x="263" y="56"/>
                        </a:lnTo>
                        <a:lnTo>
                          <a:pt x="260" y="57"/>
                        </a:lnTo>
                        <a:lnTo>
                          <a:pt x="256" y="59"/>
                        </a:lnTo>
                        <a:lnTo>
                          <a:pt x="251" y="59"/>
                        </a:lnTo>
                        <a:lnTo>
                          <a:pt x="246" y="60"/>
                        </a:lnTo>
                        <a:lnTo>
                          <a:pt x="243" y="62"/>
                        </a:lnTo>
                        <a:lnTo>
                          <a:pt x="239" y="62"/>
                        </a:lnTo>
                        <a:lnTo>
                          <a:pt x="234" y="63"/>
                        </a:lnTo>
                        <a:lnTo>
                          <a:pt x="230" y="63"/>
                        </a:lnTo>
                        <a:lnTo>
                          <a:pt x="225" y="64"/>
                        </a:lnTo>
                        <a:lnTo>
                          <a:pt x="220" y="66"/>
                        </a:lnTo>
                        <a:lnTo>
                          <a:pt x="217" y="66"/>
                        </a:lnTo>
                        <a:lnTo>
                          <a:pt x="213" y="67"/>
                        </a:lnTo>
                        <a:lnTo>
                          <a:pt x="210" y="68"/>
                        </a:lnTo>
                        <a:lnTo>
                          <a:pt x="205" y="68"/>
                        </a:lnTo>
                        <a:lnTo>
                          <a:pt x="204" y="70"/>
                        </a:lnTo>
                        <a:lnTo>
                          <a:pt x="197" y="71"/>
                        </a:lnTo>
                        <a:lnTo>
                          <a:pt x="193" y="74"/>
                        </a:lnTo>
                        <a:lnTo>
                          <a:pt x="190" y="77"/>
                        </a:lnTo>
                        <a:lnTo>
                          <a:pt x="188" y="79"/>
                        </a:lnTo>
                        <a:lnTo>
                          <a:pt x="185" y="79"/>
                        </a:lnTo>
                        <a:lnTo>
                          <a:pt x="181" y="79"/>
                        </a:lnTo>
                        <a:lnTo>
                          <a:pt x="176" y="79"/>
                        </a:lnTo>
                        <a:lnTo>
                          <a:pt x="171" y="81"/>
                        </a:lnTo>
                        <a:lnTo>
                          <a:pt x="164" y="81"/>
                        </a:lnTo>
                        <a:lnTo>
                          <a:pt x="159" y="82"/>
                        </a:lnTo>
                        <a:lnTo>
                          <a:pt x="153" y="84"/>
                        </a:lnTo>
                        <a:lnTo>
                          <a:pt x="147" y="85"/>
                        </a:lnTo>
                        <a:lnTo>
                          <a:pt x="141" y="86"/>
                        </a:lnTo>
                        <a:lnTo>
                          <a:pt x="136" y="88"/>
                        </a:lnTo>
                        <a:lnTo>
                          <a:pt x="130" y="88"/>
                        </a:lnTo>
                        <a:lnTo>
                          <a:pt x="126" y="89"/>
                        </a:lnTo>
                        <a:lnTo>
                          <a:pt x="121" y="90"/>
                        </a:lnTo>
                        <a:lnTo>
                          <a:pt x="119" y="90"/>
                        </a:lnTo>
                        <a:lnTo>
                          <a:pt x="116" y="90"/>
                        </a:lnTo>
                        <a:lnTo>
                          <a:pt x="55" y="105"/>
                        </a:lnTo>
                        <a:lnTo>
                          <a:pt x="57" y="105"/>
                        </a:lnTo>
                        <a:lnTo>
                          <a:pt x="58" y="107"/>
                        </a:lnTo>
                        <a:lnTo>
                          <a:pt x="63" y="107"/>
                        </a:lnTo>
                        <a:lnTo>
                          <a:pt x="67" y="107"/>
                        </a:lnTo>
                        <a:lnTo>
                          <a:pt x="70" y="105"/>
                        </a:lnTo>
                        <a:lnTo>
                          <a:pt x="74" y="105"/>
                        </a:lnTo>
                        <a:lnTo>
                          <a:pt x="77" y="105"/>
                        </a:lnTo>
                        <a:lnTo>
                          <a:pt x="80" y="105"/>
                        </a:lnTo>
                        <a:lnTo>
                          <a:pt x="84" y="104"/>
                        </a:lnTo>
                        <a:lnTo>
                          <a:pt x="87" y="104"/>
                        </a:lnTo>
                        <a:lnTo>
                          <a:pt x="92" y="103"/>
                        </a:lnTo>
                        <a:lnTo>
                          <a:pt x="96" y="103"/>
                        </a:lnTo>
                        <a:lnTo>
                          <a:pt x="100" y="103"/>
                        </a:lnTo>
                        <a:lnTo>
                          <a:pt x="106" y="101"/>
                        </a:lnTo>
                        <a:lnTo>
                          <a:pt x="110" y="101"/>
                        </a:lnTo>
                        <a:lnTo>
                          <a:pt x="115" y="100"/>
                        </a:lnTo>
                        <a:lnTo>
                          <a:pt x="119" y="100"/>
                        </a:lnTo>
                        <a:lnTo>
                          <a:pt x="124" y="99"/>
                        </a:lnTo>
                        <a:lnTo>
                          <a:pt x="130" y="99"/>
                        </a:lnTo>
                        <a:lnTo>
                          <a:pt x="136" y="97"/>
                        </a:lnTo>
                        <a:lnTo>
                          <a:pt x="141" y="96"/>
                        </a:lnTo>
                        <a:lnTo>
                          <a:pt x="147" y="96"/>
                        </a:lnTo>
                        <a:lnTo>
                          <a:pt x="152" y="95"/>
                        </a:lnTo>
                        <a:lnTo>
                          <a:pt x="158" y="93"/>
                        </a:lnTo>
                        <a:lnTo>
                          <a:pt x="164" y="93"/>
                        </a:lnTo>
                        <a:lnTo>
                          <a:pt x="170" y="92"/>
                        </a:lnTo>
                        <a:lnTo>
                          <a:pt x="176" y="90"/>
                        </a:lnTo>
                        <a:lnTo>
                          <a:pt x="182" y="90"/>
                        </a:lnTo>
                        <a:lnTo>
                          <a:pt x="188" y="89"/>
                        </a:lnTo>
                        <a:lnTo>
                          <a:pt x="193" y="88"/>
                        </a:lnTo>
                        <a:lnTo>
                          <a:pt x="199" y="86"/>
                        </a:lnTo>
                        <a:lnTo>
                          <a:pt x="205" y="86"/>
                        </a:lnTo>
                        <a:lnTo>
                          <a:pt x="211" y="85"/>
                        </a:lnTo>
                        <a:lnTo>
                          <a:pt x="217" y="84"/>
                        </a:lnTo>
                        <a:lnTo>
                          <a:pt x="222" y="84"/>
                        </a:lnTo>
                        <a:lnTo>
                          <a:pt x="230" y="82"/>
                        </a:lnTo>
                        <a:lnTo>
                          <a:pt x="234" y="81"/>
                        </a:lnTo>
                        <a:lnTo>
                          <a:pt x="240" y="81"/>
                        </a:lnTo>
                        <a:lnTo>
                          <a:pt x="246" y="79"/>
                        </a:lnTo>
                        <a:lnTo>
                          <a:pt x="251" y="79"/>
                        </a:lnTo>
                        <a:lnTo>
                          <a:pt x="257" y="78"/>
                        </a:lnTo>
                        <a:lnTo>
                          <a:pt x="262" y="78"/>
                        </a:lnTo>
                        <a:lnTo>
                          <a:pt x="268" y="77"/>
                        </a:lnTo>
                        <a:lnTo>
                          <a:pt x="274" y="77"/>
                        </a:lnTo>
                        <a:lnTo>
                          <a:pt x="277" y="75"/>
                        </a:lnTo>
                        <a:lnTo>
                          <a:pt x="283" y="75"/>
                        </a:lnTo>
                        <a:lnTo>
                          <a:pt x="288" y="74"/>
                        </a:lnTo>
                        <a:lnTo>
                          <a:pt x="292" y="74"/>
                        </a:lnTo>
                        <a:lnTo>
                          <a:pt x="297" y="73"/>
                        </a:lnTo>
                        <a:lnTo>
                          <a:pt x="301" y="73"/>
                        </a:lnTo>
                        <a:lnTo>
                          <a:pt x="305" y="73"/>
                        </a:lnTo>
                        <a:lnTo>
                          <a:pt x="309" y="73"/>
                        </a:lnTo>
                        <a:lnTo>
                          <a:pt x="312" y="71"/>
                        </a:lnTo>
                        <a:lnTo>
                          <a:pt x="315" y="71"/>
                        </a:lnTo>
                        <a:lnTo>
                          <a:pt x="318" y="71"/>
                        </a:lnTo>
                        <a:lnTo>
                          <a:pt x="321" y="71"/>
                        </a:lnTo>
                        <a:lnTo>
                          <a:pt x="327" y="71"/>
                        </a:lnTo>
                        <a:lnTo>
                          <a:pt x="332" y="73"/>
                        </a:lnTo>
                        <a:lnTo>
                          <a:pt x="300" y="81"/>
                        </a:lnTo>
                        <a:lnTo>
                          <a:pt x="300" y="79"/>
                        </a:lnTo>
                        <a:lnTo>
                          <a:pt x="294" y="79"/>
                        </a:lnTo>
                        <a:lnTo>
                          <a:pt x="288" y="81"/>
                        </a:lnTo>
                        <a:lnTo>
                          <a:pt x="282" y="82"/>
                        </a:lnTo>
                        <a:lnTo>
                          <a:pt x="277" y="84"/>
                        </a:lnTo>
                        <a:lnTo>
                          <a:pt x="271" y="84"/>
                        </a:lnTo>
                        <a:lnTo>
                          <a:pt x="265" y="85"/>
                        </a:lnTo>
                        <a:lnTo>
                          <a:pt x="259" y="86"/>
                        </a:lnTo>
                        <a:lnTo>
                          <a:pt x="253" y="88"/>
                        </a:lnTo>
                        <a:lnTo>
                          <a:pt x="246" y="88"/>
                        </a:lnTo>
                        <a:lnTo>
                          <a:pt x="240" y="89"/>
                        </a:lnTo>
                        <a:lnTo>
                          <a:pt x="234" y="90"/>
                        </a:lnTo>
                        <a:lnTo>
                          <a:pt x="230" y="90"/>
                        </a:lnTo>
                        <a:lnTo>
                          <a:pt x="223" y="92"/>
                        </a:lnTo>
                        <a:lnTo>
                          <a:pt x="217" y="93"/>
                        </a:lnTo>
                        <a:lnTo>
                          <a:pt x="213" y="93"/>
                        </a:lnTo>
                        <a:lnTo>
                          <a:pt x="207" y="95"/>
                        </a:lnTo>
                        <a:lnTo>
                          <a:pt x="204" y="95"/>
                        </a:lnTo>
                        <a:lnTo>
                          <a:pt x="201" y="96"/>
                        </a:lnTo>
                        <a:lnTo>
                          <a:pt x="197" y="96"/>
                        </a:lnTo>
                        <a:lnTo>
                          <a:pt x="193" y="97"/>
                        </a:lnTo>
                        <a:lnTo>
                          <a:pt x="188" y="97"/>
                        </a:lnTo>
                        <a:lnTo>
                          <a:pt x="184" y="99"/>
                        </a:lnTo>
                        <a:lnTo>
                          <a:pt x="179" y="100"/>
                        </a:lnTo>
                        <a:lnTo>
                          <a:pt x="174" y="103"/>
                        </a:lnTo>
                        <a:lnTo>
                          <a:pt x="168" y="103"/>
                        </a:lnTo>
                        <a:lnTo>
                          <a:pt x="162" y="105"/>
                        </a:lnTo>
                        <a:lnTo>
                          <a:pt x="156" y="107"/>
                        </a:lnTo>
                        <a:lnTo>
                          <a:pt x="150" y="108"/>
                        </a:lnTo>
                        <a:lnTo>
                          <a:pt x="144" y="110"/>
                        </a:lnTo>
                        <a:lnTo>
                          <a:pt x="138" y="112"/>
                        </a:lnTo>
                        <a:lnTo>
                          <a:pt x="130" y="114"/>
                        </a:lnTo>
                        <a:lnTo>
                          <a:pt x="126" y="116"/>
                        </a:lnTo>
                        <a:lnTo>
                          <a:pt x="118" y="118"/>
                        </a:lnTo>
                        <a:lnTo>
                          <a:pt x="112" y="119"/>
                        </a:lnTo>
                        <a:lnTo>
                          <a:pt x="106" y="121"/>
                        </a:lnTo>
                        <a:lnTo>
                          <a:pt x="100" y="122"/>
                        </a:lnTo>
                        <a:lnTo>
                          <a:pt x="93" y="123"/>
                        </a:lnTo>
                        <a:lnTo>
                          <a:pt x="87" y="125"/>
                        </a:lnTo>
                        <a:lnTo>
                          <a:pt x="81" y="126"/>
                        </a:lnTo>
                        <a:lnTo>
                          <a:pt x="77" y="127"/>
                        </a:lnTo>
                        <a:lnTo>
                          <a:pt x="72" y="127"/>
                        </a:lnTo>
                        <a:lnTo>
                          <a:pt x="67" y="129"/>
                        </a:lnTo>
                        <a:lnTo>
                          <a:pt x="63" y="129"/>
                        </a:lnTo>
                        <a:lnTo>
                          <a:pt x="60" y="130"/>
                        </a:lnTo>
                        <a:lnTo>
                          <a:pt x="54" y="130"/>
                        </a:lnTo>
                        <a:lnTo>
                          <a:pt x="51" y="129"/>
                        </a:lnTo>
                        <a:lnTo>
                          <a:pt x="48" y="129"/>
                        </a:lnTo>
                        <a:lnTo>
                          <a:pt x="46" y="130"/>
                        </a:lnTo>
                        <a:lnTo>
                          <a:pt x="43" y="130"/>
                        </a:lnTo>
                        <a:lnTo>
                          <a:pt x="40" y="133"/>
                        </a:lnTo>
                        <a:lnTo>
                          <a:pt x="35" y="134"/>
                        </a:lnTo>
                        <a:lnTo>
                          <a:pt x="31" y="134"/>
                        </a:lnTo>
                        <a:lnTo>
                          <a:pt x="26" y="137"/>
                        </a:lnTo>
                        <a:lnTo>
                          <a:pt x="23" y="138"/>
                        </a:lnTo>
                        <a:lnTo>
                          <a:pt x="17" y="140"/>
                        </a:lnTo>
                        <a:lnTo>
                          <a:pt x="14" y="141"/>
                        </a:lnTo>
                        <a:lnTo>
                          <a:pt x="9" y="143"/>
                        </a:lnTo>
                        <a:lnTo>
                          <a:pt x="6" y="144"/>
                        </a:lnTo>
                        <a:lnTo>
                          <a:pt x="0" y="147"/>
                        </a:lnTo>
                        <a:lnTo>
                          <a:pt x="0" y="149"/>
                        </a:lnTo>
                        <a:lnTo>
                          <a:pt x="3" y="149"/>
                        </a:lnTo>
                        <a:lnTo>
                          <a:pt x="6" y="149"/>
                        </a:lnTo>
                        <a:lnTo>
                          <a:pt x="11" y="149"/>
                        </a:lnTo>
                        <a:lnTo>
                          <a:pt x="14" y="149"/>
                        </a:lnTo>
                        <a:lnTo>
                          <a:pt x="18" y="149"/>
                        </a:lnTo>
                        <a:lnTo>
                          <a:pt x="22" y="149"/>
                        </a:lnTo>
                        <a:lnTo>
                          <a:pt x="26" y="149"/>
                        </a:lnTo>
                        <a:lnTo>
                          <a:pt x="29" y="149"/>
                        </a:lnTo>
                        <a:lnTo>
                          <a:pt x="126" y="132"/>
                        </a:lnTo>
                        <a:lnTo>
                          <a:pt x="234" y="125"/>
                        </a:lnTo>
                        <a:lnTo>
                          <a:pt x="188" y="138"/>
                        </a:lnTo>
                        <a:lnTo>
                          <a:pt x="191" y="143"/>
                        </a:lnTo>
                        <a:lnTo>
                          <a:pt x="199" y="140"/>
                        </a:lnTo>
                        <a:lnTo>
                          <a:pt x="207" y="138"/>
                        </a:lnTo>
                        <a:lnTo>
                          <a:pt x="214" y="136"/>
                        </a:lnTo>
                        <a:lnTo>
                          <a:pt x="222" y="134"/>
                        </a:lnTo>
                        <a:lnTo>
                          <a:pt x="230" y="133"/>
                        </a:lnTo>
                        <a:lnTo>
                          <a:pt x="237" y="130"/>
                        </a:lnTo>
                        <a:lnTo>
                          <a:pt x="243" y="129"/>
                        </a:lnTo>
                        <a:lnTo>
                          <a:pt x="253" y="127"/>
                        </a:lnTo>
                        <a:lnTo>
                          <a:pt x="260" y="126"/>
                        </a:lnTo>
                        <a:lnTo>
                          <a:pt x="268" y="125"/>
                        </a:lnTo>
                        <a:lnTo>
                          <a:pt x="274" y="122"/>
                        </a:lnTo>
                        <a:lnTo>
                          <a:pt x="283" y="121"/>
                        </a:lnTo>
                        <a:lnTo>
                          <a:pt x="291" y="119"/>
                        </a:lnTo>
                        <a:lnTo>
                          <a:pt x="298" y="118"/>
                        </a:lnTo>
                        <a:lnTo>
                          <a:pt x="306" y="116"/>
                        </a:lnTo>
                        <a:lnTo>
                          <a:pt x="314" y="115"/>
                        </a:lnTo>
                        <a:lnTo>
                          <a:pt x="321" y="114"/>
                        </a:lnTo>
                        <a:lnTo>
                          <a:pt x="329" y="112"/>
                        </a:lnTo>
                        <a:lnTo>
                          <a:pt x="337" y="112"/>
                        </a:lnTo>
                        <a:lnTo>
                          <a:pt x="344" y="111"/>
                        </a:lnTo>
                        <a:lnTo>
                          <a:pt x="352" y="110"/>
                        </a:lnTo>
                        <a:lnTo>
                          <a:pt x="360" y="108"/>
                        </a:lnTo>
                        <a:lnTo>
                          <a:pt x="367" y="107"/>
                        </a:lnTo>
                        <a:lnTo>
                          <a:pt x="373" y="107"/>
                        </a:lnTo>
                        <a:lnTo>
                          <a:pt x="381" y="105"/>
                        </a:lnTo>
                        <a:lnTo>
                          <a:pt x="387" y="105"/>
                        </a:lnTo>
                        <a:lnTo>
                          <a:pt x="395" y="104"/>
                        </a:lnTo>
                        <a:lnTo>
                          <a:pt x="402" y="103"/>
                        </a:lnTo>
                        <a:lnTo>
                          <a:pt x="409" y="103"/>
                        </a:lnTo>
                        <a:lnTo>
                          <a:pt x="416" y="103"/>
                        </a:lnTo>
                        <a:lnTo>
                          <a:pt x="422" y="101"/>
                        </a:lnTo>
                        <a:lnTo>
                          <a:pt x="430" y="101"/>
                        </a:lnTo>
                        <a:lnTo>
                          <a:pt x="436" y="100"/>
                        </a:lnTo>
                        <a:lnTo>
                          <a:pt x="442" y="100"/>
                        </a:lnTo>
                        <a:lnTo>
                          <a:pt x="448" y="99"/>
                        </a:lnTo>
                        <a:lnTo>
                          <a:pt x="456" y="99"/>
                        </a:lnTo>
                        <a:lnTo>
                          <a:pt x="462" y="97"/>
                        </a:lnTo>
                        <a:lnTo>
                          <a:pt x="468" y="97"/>
                        </a:lnTo>
                        <a:lnTo>
                          <a:pt x="474" y="96"/>
                        </a:lnTo>
                        <a:lnTo>
                          <a:pt x="480" y="96"/>
                        </a:lnTo>
                        <a:lnTo>
                          <a:pt x="487" y="96"/>
                        </a:lnTo>
                        <a:lnTo>
                          <a:pt x="491" y="96"/>
                        </a:lnTo>
                        <a:lnTo>
                          <a:pt x="497" y="95"/>
                        </a:lnTo>
                        <a:lnTo>
                          <a:pt x="503" y="95"/>
                        </a:lnTo>
                        <a:lnTo>
                          <a:pt x="508" y="95"/>
                        </a:lnTo>
                        <a:lnTo>
                          <a:pt x="513" y="95"/>
                        </a:lnTo>
                        <a:lnTo>
                          <a:pt x="517" y="95"/>
                        </a:lnTo>
                        <a:lnTo>
                          <a:pt x="523" y="95"/>
                        </a:lnTo>
                        <a:lnTo>
                          <a:pt x="528" y="95"/>
                        </a:lnTo>
                        <a:lnTo>
                          <a:pt x="532" y="95"/>
                        </a:lnTo>
                        <a:lnTo>
                          <a:pt x="537" y="95"/>
                        </a:lnTo>
                        <a:lnTo>
                          <a:pt x="542" y="95"/>
                        </a:lnTo>
                        <a:lnTo>
                          <a:pt x="545" y="95"/>
                        </a:lnTo>
                        <a:lnTo>
                          <a:pt x="548" y="95"/>
                        </a:lnTo>
                        <a:lnTo>
                          <a:pt x="552" y="95"/>
                        </a:lnTo>
                        <a:lnTo>
                          <a:pt x="555" y="95"/>
                        </a:lnTo>
                        <a:lnTo>
                          <a:pt x="561" y="95"/>
                        </a:lnTo>
                        <a:lnTo>
                          <a:pt x="569" y="96"/>
                        </a:lnTo>
                        <a:lnTo>
                          <a:pt x="574" y="96"/>
                        </a:lnTo>
                        <a:lnTo>
                          <a:pt x="578" y="97"/>
                        </a:lnTo>
                        <a:lnTo>
                          <a:pt x="572" y="97"/>
                        </a:lnTo>
                        <a:lnTo>
                          <a:pt x="566" y="99"/>
                        </a:lnTo>
                        <a:lnTo>
                          <a:pt x="560" y="99"/>
                        </a:lnTo>
                        <a:lnTo>
                          <a:pt x="555" y="100"/>
                        </a:lnTo>
                        <a:lnTo>
                          <a:pt x="549" y="100"/>
                        </a:lnTo>
                        <a:lnTo>
                          <a:pt x="543" y="101"/>
                        </a:lnTo>
                        <a:lnTo>
                          <a:pt x="539" y="101"/>
                        </a:lnTo>
                        <a:lnTo>
                          <a:pt x="534" y="103"/>
                        </a:lnTo>
                        <a:lnTo>
                          <a:pt x="528" y="103"/>
                        </a:lnTo>
                        <a:lnTo>
                          <a:pt x="523" y="104"/>
                        </a:lnTo>
                        <a:lnTo>
                          <a:pt x="517" y="104"/>
                        </a:lnTo>
                        <a:lnTo>
                          <a:pt x="514" y="105"/>
                        </a:lnTo>
                        <a:lnTo>
                          <a:pt x="508" y="105"/>
                        </a:lnTo>
                        <a:lnTo>
                          <a:pt x="505" y="107"/>
                        </a:lnTo>
                        <a:lnTo>
                          <a:pt x="499" y="107"/>
                        </a:lnTo>
                        <a:lnTo>
                          <a:pt x="496" y="108"/>
                        </a:lnTo>
                        <a:lnTo>
                          <a:pt x="491" y="108"/>
                        </a:lnTo>
                        <a:lnTo>
                          <a:pt x="487" y="108"/>
                        </a:lnTo>
                        <a:lnTo>
                          <a:pt x="480" y="110"/>
                        </a:lnTo>
                        <a:lnTo>
                          <a:pt x="477" y="110"/>
                        </a:lnTo>
                        <a:lnTo>
                          <a:pt x="473" y="111"/>
                        </a:lnTo>
                        <a:lnTo>
                          <a:pt x="468" y="111"/>
                        </a:lnTo>
                        <a:lnTo>
                          <a:pt x="464" y="112"/>
                        </a:lnTo>
                        <a:lnTo>
                          <a:pt x="459" y="112"/>
                        </a:lnTo>
                        <a:lnTo>
                          <a:pt x="456" y="112"/>
                        </a:lnTo>
                        <a:lnTo>
                          <a:pt x="451" y="114"/>
                        </a:lnTo>
                        <a:lnTo>
                          <a:pt x="447" y="114"/>
                        </a:lnTo>
                        <a:lnTo>
                          <a:pt x="442" y="115"/>
                        </a:lnTo>
                        <a:lnTo>
                          <a:pt x="439" y="115"/>
                        </a:lnTo>
                        <a:lnTo>
                          <a:pt x="435" y="116"/>
                        </a:lnTo>
                        <a:lnTo>
                          <a:pt x="430" y="116"/>
                        </a:lnTo>
                        <a:lnTo>
                          <a:pt x="427" y="118"/>
                        </a:lnTo>
                        <a:lnTo>
                          <a:pt x="422" y="118"/>
                        </a:lnTo>
                        <a:lnTo>
                          <a:pt x="418" y="119"/>
                        </a:lnTo>
                        <a:lnTo>
                          <a:pt x="413" y="119"/>
                        </a:lnTo>
                        <a:lnTo>
                          <a:pt x="410" y="121"/>
                        </a:lnTo>
                        <a:lnTo>
                          <a:pt x="405" y="121"/>
                        </a:lnTo>
                        <a:lnTo>
                          <a:pt x="401" y="121"/>
                        </a:lnTo>
                        <a:lnTo>
                          <a:pt x="396" y="122"/>
                        </a:lnTo>
                        <a:lnTo>
                          <a:pt x="393" y="123"/>
                        </a:lnTo>
                        <a:lnTo>
                          <a:pt x="389" y="123"/>
                        </a:lnTo>
                        <a:lnTo>
                          <a:pt x="384" y="125"/>
                        </a:lnTo>
                        <a:lnTo>
                          <a:pt x="379" y="125"/>
                        </a:lnTo>
                        <a:lnTo>
                          <a:pt x="375" y="126"/>
                        </a:lnTo>
                        <a:lnTo>
                          <a:pt x="370" y="126"/>
                        </a:lnTo>
                        <a:lnTo>
                          <a:pt x="367" y="127"/>
                        </a:lnTo>
                        <a:lnTo>
                          <a:pt x="363" y="127"/>
                        </a:lnTo>
                        <a:lnTo>
                          <a:pt x="358" y="130"/>
                        </a:lnTo>
                        <a:lnTo>
                          <a:pt x="353" y="130"/>
                        </a:lnTo>
                        <a:lnTo>
                          <a:pt x="349" y="132"/>
                        </a:lnTo>
                        <a:lnTo>
                          <a:pt x="344" y="132"/>
                        </a:lnTo>
                        <a:lnTo>
                          <a:pt x="340" y="133"/>
                        </a:lnTo>
                        <a:lnTo>
                          <a:pt x="335" y="134"/>
                        </a:lnTo>
                        <a:lnTo>
                          <a:pt x="331" y="136"/>
                        </a:lnTo>
                        <a:lnTo>
                          <a:pt x="326" y="137"/>
                        </a:lnTo>
                        <a:lnTo>
                          <a:pt x="321" y="138"/>
                        </a:lnTo>
                        <a:lnTo>
                          <a:pt x="315" y="140"/>
                        </a:lnTo>
                        <a:lnTo>
                          <a:pt x="311" y="140"/>
                        </a:lnTo>
                        <a:lnTo>
                          <a:pt x="305" y="141"/>
                        </a:lnTo>
                        <a:lnTo>
                          <a:pt x="300" y="144"/>
                        </a:lnTo>
                        <a:lnTo>
                          <a:pt x="295" y="144"/>
                        </a:lnTo>
                        <a:lnTo>
                          <a:pt x="289" y="147"/>
                        </a:lnTo>
                        <a:lnTo>
                          <a:pt x="285" y="148"/>
                        </a:lnTo>
                        <a:lnTo>
                          <a:pt x="280" y="149"/>
                        </a:lnTo>
                        <a:lnTo>
                          <a:pt x="282" y="149"/>
                        </a:lnTo>
                        <a:lnTo>
                          <a:pt x="285" y="149"/>
                        </a:lnTo>
                        <a:lnTo>
                          <a:pt x="288" y="149"/>
                        </a:lnTo>
                        <a:lnTo>
                          <a:pt x="291" y="151"/>
                        </a:lnTo>
                        <a:lnTo>
                          <a:pt x="294" y="151"/>
                        </a:lnTo>
                        <a:lnTo>
                          <a:pt x="297" y="152"/>
                        </a:lnTo>
                        <a:lnTo>
                          <a:pt x="298" y="152"/>
                        </a:lnTo>
                        <a:lnTo>
                          <a:pt x="297" y="154"/>
                        </a:lnTo>
                        <a:lnTo>
                          <a:pt x="308" y="151"/>
                        </a:lnTo>
                        <a:lnTo>
                          <a:pt x="318" y="148"/>
                        </a:lnTo>
                        <a:lnTo>
                          <a:pt x="329" y="145"/>
                        </a:lnTo>
                        <a:lnTo>
                          <a:pt x="340" y="144"/>
                        </a:lnTo>
                        <a:lnTo>
                          <a:pt x="350" y="140"/>
                        </a:lnTo>
                        <a:lnTo>
                          <a:pt x="361" y="138"/>
                        </a:lnTo>
                        <a:lnTo>
                          <a:pt x="372" y="136"/>
                        </a:lnTo>
                        <a:lnTo>
                          <a:pt x="384" y="134"/>
                        </a:lnTo>
                        <a:lnTo>
                          <a:pt x="395" y="132"/>
                        </a:lnTo>
                        <a:lnTo>
                          <a:pt x="404" y="130"/>
                        </a:lnTo>
                        <a:lnTo>
                          <a:pt x="415" y="127"/>
                        </a:lnTo>
                        <a:lnTo>
                          <a:pt x="427" y="126"/>
                        </a:lnTo>
                        <a:lnTo>
                          <a:pt x="438" y="125"/>
                        </a:lnTo>
                        <a:lnTo>
                          <a:pt x="448" y="123"/>
                        </a:lnTo>
                        <a:lnTo>
                          <a:pt x="459" y="121"/>
                        </a:lnTo>
                        <a:lnTo>
                          <a:pt x="470" y="121"/>
                        </a:lnTo>
                        <a:lnTo>
                          <a:pt x="480" y="118"/>
                        </a:lnTo>
                        <a:lnTo>
                          <a:pt x="491" y="116"/>
                        </a:lnTo>
                        <a:lnTo>
                          <a:pt x="502" y="115"/>
                        </a:lnTo>
                        <a:lnTo>
                          <a:pt x="513" y="114"/>
                        </a:lnTo>
                        <a:lnTo>
                          <a:pt x="523" y="112"/>
                        </a:lnTo>
                        <a:lnTo>
                          <a:pt x="535" y="111"/>
                        </a:lnTo>
                        <a:lnTo>
                          <a:pt x="545" y="110"/>
                        </a:lnTo>
                        <a:lnTo>
                          <a:pt x="557" y="108"/>
                        </a:lnTo>
                        <a:lnTo>
                          <a:pt x="568" y="107"/>
                        </a:lnTo>
                        <a:lnTo>
                          <a:pt x="578" y="107"/>
                        </a:lnTo>
                        <a:lnTo>
                          <a:pt x="589" y="105"/>
                        </a:lnTo>
                        <a:lnTo>
                          <a:pt x="600" y="105"/>
                        </a:lnTo>
                        <a:lnTo>
                          <a:pt x="610" y="104"/>
                        </a:lnTo>
                        <a:lnTo>
                          <a:pt x="621" y="103"/>
                        </a:lnTo>
                        <a:lnTo>
                          <a:pt x="633" y="103"/>
                        </a:lnTo>
                        <a:lnTo>
                          <a:pt x="644" y="101"/>
                        </a:lnTo>
                        <a:lnTo>
                          <a:pt x="655" y="100"/>
                        </a:lnTo>
                        <a:lnTo>
                          <a:pt x="666" y="100"/>
                        </a:lnTo>
                        <a:lnTo>
                          <a:pt x="676" y="99"/>
                        </a:lnTo>
                        <a:lnTo>
                          <a:pt x="687" y="99"/>
                        </a:lnTo>
                        <a:lnTo>
                          <a:pt x="698" y="97"/>
                        </a:lnTo>
                        <a:lnTo>
                          <a:pt x="710" y="96"/>
                        </a:lnTo>
                        <a:lnTo>
                          <a:pt x="721" y="96"/>
                        </a:lnTo>
                        <a:lnTo>
                          <a:pt x="731" y="96"/>
                        </a:lnTo>
                        <a:lnTo>
                          <a:pt x="742" y="95"/>
                        </a:lnTo>
                        <a:lnTo>
                          <a:pt x="753" y="95"/>
                        </a:lnTo>
                        <a:lnTo>
                          <a:pt x="763" y="93"/>
                        </a:lnTo>
                        <a:lnTo>
                          <a:pt x="776" y="93"/>
                        </a:lnTo>
                        <a:lnTo>
                          <a:pt x="785" y="93"/>
                        </a:lnTo>
                        <a:lnTo>
                          <a:pt x="797" y="93"/>
                        </a:lnTo>
                        <a:lnTo>
                          <a:pt x="808" y="92"/>
                        </a:lnTo>
                        <a:lnTo>
                          <a:pt x="818" y="92"/>
                        </a:lnTo>
                        <a:lnTo>
                          <a:pt x="831" y="92"/>
                        </a:lnTo>
                        <a:lnTo>
                          <a:pt x="841" y="90"/>
                        </a:lnTo>
                        <a:lnTo>
                          <a:pt x="852" y="90"/>
                        </a:lnTo>
                        <a:lnTo>
                          <a:pt x="863" y="90"/>
                        </a:lnTo>
                        <a:lnTo>
                          <a:pt x="874" y="90"/>
                        </a:lnTo>
                        <a:lnTo>
                          <a:pt x="884" y="89"/>
                        </a:lnTo>
                        <a:lnTo>
                          <a:pt x="896" y="89"/>
                        </a:lnTo>
                        <a:lnTo>
                          <a:pt x="907" y="89"/>
                        </a:lnTo>
                        <a:lnTo>
                          <a:pt x="918" y="88"/>
                        </a:lnTo>
                        <a:lnTo>
                          <a:pt x="929" y="88"/>
                        </a:lnTo>
                        <a:lnTo>
                          <a:pt x="941" y="88"/>
                        </a:lnTo>
                        <a:lnTo>
                          <a:pt x="952" y="88"/>
                        </a:lnTo>
                        <a:lnTo>
                          <a:pt x="964" y="86"/>
                        </a:lnTo>
                        <a:lnTo>
                          <a:pt x="975" y="86"/>
                        </a:lnTo>
                        <a:lnTo>
                          <a:pt x="985" y="86"/>
                        </a:lnTo>
                        <a:lnTo>
                          <a:pt x="997" y="86"/>
                        </a:lnTo>
                        <a:lnTo>
                          <a:pt x="1002" y="86"/>
                        </a:lnTo>
                        <a:lnTo>
                          <a:pt x="1008" y="86"/>
                        </a:lnTo>
                        <a:lnTo>
                          <a:pt x="1013" y="86"/>
                        </a:lnTo>
                        <a:lnTo>
                          <a:pt x="1019" y="88"/>
                        </a:lnTo>
                        <a:lnTo>
                          <a:pt x="1023" y="88"/>
                        </a:lnTo>
                        <a:lnTo>
                          <a:pt x="1028" y="88"/>
                        </a:lnTo>
                        <a:lnTo>
                          <a:pt x="1034" y="88"/>
                        </a:lnTo>
                        <a:lnTo>
                          <a:pt x="1040" y="88"/>
                        </a:lnTo>
                        <a:lnTo>
                          <a:pt x="1045" y="88"/>
                        </a:lnTo>
                        <a:lnTo>
                          <a:pt x="1051" y="88"/>
                        </a:lnTo>
                        <a:lnTo>
                          <a:pt x="1056" y="89"/>
                        </a:lnTo>
                        <a:lnTo>
                          <a:pt x="1062" y="89"/>
                        </a:lnTo>
                        <a:lnTo>
                          <a:pt x="1066" y="89"/>
                        </a:lnTo>
                        <a:lnTo>
                          <a:pt x="1072" y="89"/>
                        </a:lnTo>
                        <a:lnTo>
                          <a:pt x="1079" y="90"/>
                        </a:lnTo>
                        <a:lnTo>
                          <a:pt x="1085" y="90"/>
                        </a:lnTo>
                        <a:lnTo>
                          <a:pt x="1089" y="90"/>
                        </a:lnTo>
                        <a:lnTo>
                          <a:pt x="1094" y="90"/>
                        </a:lnTo>
                        <a:lnTo>
                          <a:pt x="1100" y="90"/>
                        </a:lnTo>
                        <a:lnTo>
                          <a:pt x="1105" y="92"/>
                        </a:lnTo>
                        <a:lnTo>
                          <a:pt x="1111" y="92"/>
                        </a:lnTo>
                        <a:lnTo>
                          <a:pt x="1117" y="92"/>
                        </a:lnTo>
                        <a:lnTo>
                          <a:pt x="1121" y="92"/>
                        </a:lnTo>
                        <a:lnTo>
                          <a:pt x="1127" y="93"/>
                        </a:lnTo>
                        <a:lnTo>
                          <a:pt x="1132" y="93"/>
                        </a:lnTo>
                        <a:lnTo>
                          <a:pt x="1138" y="93"/>
                        </a:lnTo>
                        <a:lnTo>
                          <a:pt x="1143" y="93"/>
                        </a:lnTo>
                        <a:lnTo>
                          <a:pt x="1149" y="93"/>
                        </a:lnTo>
                        <a:lnTo>
                          <a:pt x="1155" y="93"/>
                        </a:lnTo>
                        <a:lnTo>
                          <a:pt x="1160" y="95"/>
                        </a:lnTo>
                        <a:lnTo>
                          <a:pt x="1166" y="95"/>
                        </a:lnTo>
                        <a:lnTo>
                          <a:pt x="1172" y="96"/>
                        </a:lnTo>
                        <a:lnTo>
                          <a:pt x="1176" y="96"/>
                        </a:lnTo>
                        <a:lnTo>
                          <a:pt x="1183" y="96"/>
                        </a:lnTo>
                        <a:lnTo>
                          <a:pt x="1187" y="96"/>
                        </a:lnTo>
                        <a:lnTo>
                          <a:pt x="1193" y="96"/>
                        </a:lnTo>
                        <a:lnTo>
                          <a:pt x="1198" y="96"/>
                        </a:lnTo>
                        <a:lnTo>
                          <a:pt x="1204" y="96"/>
                        </a:lnTo>
                        <a:lnTo>
                          <a:pt x="1210" y="97"/>
                        </a:lnTo>
                        <a:lnTo>
                          <a:pt x="1215" y="97"/>
                        </a:lnTo>
                        <a:lnTo>
                          <a:pt x="1221" y="97"/>
                        </a:lnTo>
                        <a:lnTo>
                          <a:pt x="1225" y="97"/>
                        </a:lnTo>
                        <a:lnTo>
                          <a:pt x="1231" y="97"/>
                        </a:lnTo>
                        <a:lnTo>
                          <a:pt x="1238" y="99"/>
                        </a:lnTo>
                        <a:lnTo>
                          <a:pt x="1242" y="99"/>
                        </a:lnTo>
                        <a:lnTo>
                          <a:pt x="1248" y="99"/>
                        </a:lnTo>
                        <a:lnTo>
                          <a:pt x="1254" y="100"/>
                        </a:lnTo>
                        <a:lnTo>
                          <a:pt x="1259" y="100"/>
                        </a:lnTo>
                        <a:lnTo>
                          <a:pt x="1265" y="100"/>
                        </a:lnTo>
                        <a:lnTo>
                          <a:pt x="1270" y="100"/>
                        </a:lnTo>
                        <a:lnTo>
                          <a:pt x="1276" y="100"/>
                        </a:lnTo>
                        <a:lnTo>
                          <a:pt x="1282" y="100"/>
                        </a:lnTo>
                        <a:lnTo>
                          <a:pt x="1287" y="100"/>
                        </a:lnTo>
                        <a:lnTo>
                          <a:pt x="1293" y="101"/>
                        </a:lnTo>
                        <a:lnTo>
                          <a:pt x="1297" y="101"/>
                        </a:lnTo>
                        <a:lnTo>
                          <a:pt x="1303" y="101"/>
                        </a:lnTo>
                        <a:lnTo>
                          <a:pt x="1309" y="101"/>
                        </a:lnTo>
                        <a:lnTo>
                          <a:pt x="1314" y="101"/>
                        </a:lnTo>
                        <a:lnTo>
                          <a:pt x="1320" y="103"/>
                        </a:lnTo>
                        <a:lnTo>
                          <a:pt x="1326" y="103"/>
                        </a:lnTo>
                        <a:lnTo>
                          <a:pt x="1331" y="103"/>
                        </a:lnTo>
                        <a:lnTo>
                          <a:pt x="1337" y="103"/>
                        </a:lnTo>
                        <a:lnTo>
                          <a:pt x="1343" y="103"/>
                        </a:lnTo>
                        <a:lnTo>
                          <a:pt x="1348" y="104"/>
                        </a:lnTo>
                        <a:lnTo>
                          <a:pt x="1288" y="118"/>
                        </a:lnTo>
                        <a:lnTo>
                          <a:pt x="1290" y="118"/>
                        </a:lnTo>
                        <a:lnTo>
                          <a:pt x="1293" y="118"/>
                        </a:lnTo>
                        <a:lnTo>
                          <a:pt x="1296" y="118"/>
                        </a:lnTo>
                        <a:lnTo>
                          <a:pt x="1299" y="118"/>
                        </a:lnTo>
                        <a:lnTo>
                          <a:pt x="1303" y="118"/>
                        </a:lnTo>
                        <a:lnTo>
                          <a:pt x="1308" y="118"/>
                        </a:lnTo>
                        <a:lnTo>
                          <a:pt x="1313" y="118"/>
                        </a:lnTo>
                        <a:lnTo>
                          <a:pt x="1319" y="118"/>
                        </a:lnTo>
                        <a:lnTo>
                          <a:pt x="1325" y="118"/>
                        </a:lnTo>
                        <a:lnTo>
                          <a:pt x="1331" y="118"/>
                        </a:lnTo>
                        <a:lnTo>
                          <a:pt x="1339" y="118"/>
                        </a:lnTo>
                        <a:lnTo>
                          <a:pt x="1346" y="119"/>
                        </a:lnTo>
                        <a:lnTo>
                          <a:pt x="1354" y="119"/>
                        </a:lnTo>
                        <a:lnTo>
                          <a:pt x="1362" y="119"/>
                        </a:lnTo>
                        <a:lnTo>
                          <a:pt x="1369" y="119"/>
                        </a:lnTo>
                        <a:lnTo>
                          <a:pt x="1378" y="121"/>
                        </a:lnTo>
                        <a:lnTo>
                          <a:pt x="1386" y="121"/>
                        </a:lnTo>
                        <a:lnTo>
                          <a:pt x="1395" y="121"/>
                        </a:lnTo>
                        <a:lnTo>
                          <a:pt x="1406" y="121"/>
                        </a:lnTo>
                        <a:lnTo>
                          <a:pt x="1415" y="121"/>
                        </a:lnTo>
                        <a:lnTo>
                          <a:pt x="1424" y="121"/>
                        </a:lnTo>
                        <a:lnTo>
                          <a:pt x="1435" y="121"/>
                        </a:lnTo>
                        <a:lnTo>
                          <a:pt x="1444" y="121"/>
                        </a:lnTo>
                        <a:lnTo>
                          <a:pt x="1456" y="121"/>
                        </a:lnTo>
                        <a:lnTo>
                          <a:pt x="1466" y="121"/>
                        </a:lnTo>
                        <a:lnTo>
                          <a:pt x="1476" y="121"/>
                        </a:lnTo>
                        <a:lnTo>
                          <a:pt x="1487" y="121"/>
                        </a:lnTo>
                        <a:lnTo>
                          <a:pt x="1498" y="121"/>
                        </a:lnTo>
                        <a:lnTo>
                          <a:pt x="1508" y="121"/>
                        </a:lnTo>
                        <a:lnTo>
                          <a:pt x="1519" y="121"/>
                        </a:lnTo>
                        <a:lnTo>
                          <a:pt x="1531" y="121"/>
                        </a:lnTo>
                        <a:lnTo>
                          <a:pt x="1542" y="121"/>
                        </a:lnTo>
                        <a:lnTo>
                          <a:pt x="1553" y="121"/>
                        </a:lnTo>
                        <a:lnTo>
                          <a:pt x="1563" y="121"/>
                        </a:lnTo>
                        <a:lnTo>
                          <a:pt x="1574" y="121"/>
                        </a:lnTo>
                        <a:lnTo>
                          <a:pt x="1585" y="121"/>
                        </a:lnTo>
                        <a:lnTo>
                          <a:pt x="1596" y="121"/>
                        </a:lnTo>
                        <a:lnTo>
                          <a:pt x="1605" y="121"/>
                        </a:lnTo>
                        <a:lnTo>
                          <a:pt x="1615" y="121"/>
                        </a:lnTo>
                        <a:lnTo>
                          <a:pt x="1626" y="121"/>
                        </a:lnTo>
                        <a:lnTo>
                          <a:pt x="1635" y="121"/>
                        </a:lnTo>
                        <a:lnTo>
                          <a:pt x="1646" y="121"/>
                        </a:lnTo>
                        <a:lnTo>
                          <a:pt x="1655" y="121"/>
                        </a:lnTo>
                        <a:lnTo>
                          <a:pt x="1666" y="121"/>
                        </a:lnTo>
                        <a:lnTo>
                          <a:pt x="1674" y="121"/>
                        </a:lnTo>
                        <a:lnTo>
                          <a:pt x="1684" y="121"/>
                        </a:lnTo>
                        <a:lnTo>
                          <a:pt x="1692" y="121"/>
                        </a:lnTo>
                        <a:lnTo>
                          <a:pt x="1701" y="121"/>
                        </a:lnTo>
                        <a:lnTo>
                          <a:pt x="1709" y="121"/>
                        </a:lnTo>
                        <a:lnTo>
                          <a:pt x="1716" y="121"/>
                        </a:lnTo>
                        <a:lnTo>
                          <a:pt x="1723" y="119"/>
                        </a:lnTo>
                        <a:lnTo>
                          <a:pt x="1730" y="119"/>
                        </a:lnTo>
                        <a:lnTo>
                          <a:pt x="1736" y="119"/>
                        </a:lnTo>
                        <a:lnTo>
                          <a:pt x="1744" y="119"/>
                        </a:lnTo>
                        <a:lnTo>
                          <a:pt x="1749" y="119"/>
                        </a:lnTo>
                        <a:lnTo>
                          <a:pt x="1755" y="119"/>
                        </a:lnTo>
                        <a:lnTo>
                          <a:pt x="1759" y="118"/>
                        </a:lnTo>
                        <a:lnTo>
                          <a:pt x="1764" y="118"/>
                        </a:lnTo>
                        <a:lnTo>
                          <a:pt x="1767" y="118"/>
                        </a:lnTo>
                        <a:lnTo>
                          <a:pt x="1771" y="118"/>
                        </a:lnTo>
                        <a:lnTo>
                          <a:pt x="1776" y="118"/>
                        </a:lnTo>
                        <a:lnTo>
                          <a:pt x="1779" y="118"/>
                        </a:lnTo>
                        <a:lnTo>
                          <a:pt x="1775" y="116"/>
                        </a:lnTo>
                        <a:lnTo>
                          <a:pt x="1770" y="115"/>
                        </a:lnTo>
                        <a:lnTo>
                          <a:pt x="1765" y="115"/>
                        </a:lnTo>
                        <a:lnTo>
                          <a:pt x="1762" y="114"/>
                        </a:lnTo>
                        <a:lnTo>
                          <a:pt x="1758" y="114"/>
                        </a:lnTo>
                        <a:lnTo>
                          <a:pt x="1753" y="112"/>
                        </a:lnTo>
                        <a:lnTo>
                          <a:pt x="1749" y="112"/>
                        </a:lnTo>
                        <a:lnTo>
                          <a:pt x="1745" y="112"/>
                        </a:lnTo>
                        <a:lnTo>
                          <a:pt x="1741" y="112"/>
                        </a:lnTo>
                        <a:lnTo>
                          <a:pt x="1736" y="111"/>
                        </a:lnTo>
                        <a:lnTo>
                          <a:pt x="1732" y="111"/>
                        </a:lnTo>
                        <a:lnTo>
                          <a:pt x="1729" y="111"/>
                        </a:lnTo>
                        <a:lnTo>
                          <a:pt x="1724" y="111"/>
                        </a:lnTo>
                        <a:lnTo>
                          <a:pt x="1719" y="111"/>
                        </a:lnTo>
                        <a:lnTo>
                          <a:pt x="1715" y="111"/>
                        </a:lnTo>
                        <a:lnTo>
                          <a:pt x="1712" y="111"/>
                        </a:lnTo>
                        <a:lnTo>
                          <a:pt x="1707" y="110"/>
                        </a:lnTo>
                        <a:lnTo>
                          <a:pt x="1703" y="110"/>
                        </a:lnTo>
                        <a:lnTo>
                          <a:pt x="1698" y="110"/>
                        </a:lnTo>
                        <a:lnTo>
                          <a:pt x="1693" y="110"/>
                        </a:lnTo>
                        <a:lnTo>
                          <a:pt x="1687" y="108"/>
                        </a:lnTo>
                        <a:lnTo>
                          <a:pt x="1683" y="108"/>
                        </a:lnTo>
                        <a:lnTo>
                          <a:pt x="1678" y="108"/>
                        </a:lnTo>
                        <a:lnTo>
                          <a:pt x="1674" y="108"/>
                        </a:lnTo>
                        <a:lnTo>
                          <a:pt x="1667" y="108"/>
                        </a:lnTo>
                        <a:lnTo>
                          <a:pt x="1663" y="108"/>
                        </a:lnTo>
                        <a:lnTo>
                          <a:pt x="1657" y="107"/>
                        </a:lnTo>
                        <a:lnTo>
                          <a:pt x="1652" y="107"/>
                        </a:lnTo>
                        <a:lnTo>
                          <a:pt x="1648" y="107"/>
                        </a:lnTo>
                        <a:lnTo>
                          <a:pt x="1643" y="107"/>
                        </a:lnTo>
                        <a:lnTo>
                          <a:pt x="1640" y="108"/>
                        </a:lnTo>
                        <a:lnTo>
                          <a:pt x="1635" y="108"/>
                        </a:lnTo>
                        <a:lnTo>
                          <a:pt x="1640" y="107"/>
                        </a:lnTo>
                        <a:lnTo>
                          <a:pt x="1643" y="104"/>
                        </a:lnTo>
                        <a:lnTo>
                          <a:pt x="1649" y="103"/>
                        </a:lnTo>
                        <a:lnTo>
                          <a:pt x="1655" y="103"/>
                        </a:lnTo>
                        <a:lnTo>
                          <a:pt x="1660" y="101"/>
                        </a:lnTo>
                        <a:lnTo>
                          <a:pt x="1666" y="100"/>
                        </a:lnTo>
                        <a:lnTo>
                          <a:pt x="1672" y="100"/>
                        </a:lnTo>
                        <a:lnTo>
                          <a:pt x="1678" y="99"/>
                        </a:lnTo>
                        <a:lnTo>
                          <a:pt x="1683" y="97"/>
                        </a:lnTo>
                        <a:lnTo>
                          <a:pt x="1689" y="97"/>
                        </a:lnTo>
                        <a:lnTo>
                          <a:pt x="1687" y="96"/>
                        </a:lnTo>
                        <a:lnTo>
                          <a:pt x="1683" y="96"/>
                        </a:lnTo>
                        <a:lnTo>
                          <a:pt x="1680" y="96"/>
                        </a:lnTo>
                        <a:lnTo>
                          <a:pt x="1677" y="96"/>
                        </a:lnTo>
                        <a:lnTo>
                          <a:pt x="1674" y="96"/>
                        </a:lnTo>
                        <a:lnTo>
                          <a:pt x="1669" y="96"/>
                        </a:lnTo>
                        <a:lnTo>
                          <a:pt x="1664" y="96"/>
                        </a:lnTo>
                        <a:lnTo>
                          <a:pt x="1660" y="96"/>
                        </a:lnTo>
                        <a:lnTo>
                          <a:pt x="1655" y="96"/>
                        </a:lnTo>
                        <a:lnTo>
                          <a:pt x="1649" y="96"/>
                        </a:lnTo>
                        <a:lnTo>
                          <a:pt x="1644" y="96"/>
                        </a:lnTo>
                        <a:lnTo>
                          <a:pt x="1638" y="96"/>
                        </a:lnTo>
                        <a:lnTo>
                          <a:pt x="1632" y="96"/>
                        </a:lnTo>
                        <a:lnTo>
                          <a:pt x="1628" y="97"/>
                        </a:lnTo>
                        <a:lnTo>
                          <a:pt x="1622" y="97"/>
                        </a:lnTo>
                        <a:lnTo>
                          <a:pt x="1615" y="97"/>
                        </a:lnTo>
                        <a:lnTo>
                          <a:pt x="1609" y="97"/>
                        </a:lnTo>
                        <a:lnTo>
                          <a:pt x="1605" y="97"/>
                        </a:lnTo>
                        <a:lnTo>
                          <a:pt x="1599" y="97"/>
                        </a:lnTo>
                        <a:lnTo>
                          <a:pt x="1592" y="97"/>
                        </a:lnTo>
                        <a:lnTo>
                          <a:pt x="1588" y="97"/>
                        </a:lnTo>
                        <a:lnTo>
                          <a:pt x="1583" y="99"/>
                        </a:lnTo>
                        <a:lnTo>
                          <a:pt x="1577" y="99"/>
                        </a:lnTo>
                        <a:lnTo>
                          <a:pt x="1573" y="99"/>
                        </a:lnTo>
                        <a:lnTo>
                          <a:pt x="1570" y="99"/>
                        </a:lnTo>
                        <a:lnTo>
                          <a:pt x="1565" y="99"/>
                        </a:lnTo>
                        <a:lnTo>
                          <a:pt x="1559" y="99"/>
                        </a:lnTo>
                        <a:lnTo>
                          <a:pt x="1556" y="100"/>
                        </a:lnTo>
                        <a:lnTo>
                          <a:pt x="1559" y="97"/>
                        </a:lnTo>
                        <a:lnTo>
                          <a:pt x="1565" y="95"/>
                        </a:lnTo>
                        <a:lnTo>
                          <a:pt x="1566" y="93"/>
                        </a:lnTo>
                        <a:lnTo>
                          <a:pt x="1570" y="93"/>
                        </a:lnTo>
                        <a:lnTo>
                          <a:pt x="1573" y="92"/>
                        </a:lnTo>
                        <a:lnTo>
                          <a:pt x="1577" y="92"/>
                        </a:lnTo>
                        <a:lnTo>
                          <a:pt x="1580" y="90"/>
                        </a:lnTo>
                        <a:lnTo>
                          <a:pt x="1583" y="90"/>
                        </a:lnTo>
                        <a:lnTo>
                          <a:pt x="1588" y="89"/>
                        </a:lnTo>
                        <a:lnTo>
                          <a:pt x="1591" y="89"/>
                        </a:lnTo>
                        <a:lnTo>
                          <a:pt x="1596" y="89"/>
                        </a:lnTo>
                        <a:lnTo>
                          <a:pt x="1600" y="88"/>
                        </a:lnTo>
                        <a:lnTo>
                          <a:pt x="1605" y="88"/>
                        </a:lnTo>
                        <a:lnTo>
                          <a:pt x="1609" y="88"/>
                        </a:lnTo>
                        <a:lnTo>
                          <a:pt x="1614" y="88"/>
                        </a:lnTo>
                        <a:lnTo>
                          <a:pt x="1618" y="86"/>
                        </a:lnTo>
                        <a:lnTo>
                          <a:pt x="1623" y="86"/>
                        </a:lnTo>
                        <a:lnTo>
                          <a:pt x="1629" y="86"/>
                        </a:lnTo>
                        <a:lnTo>
                          <a:pt x="1634" y="85"/>
                        </a:lnTo>
                        <a:lnTo>
                          <a:pt x="1640" y="85"/>
                        </a:lnTo>
                        <a:lnTo>
                          <a:pt x="1646" y="85"/>
                        </a:lnTo>
                        <a:lnTo>
                          <a:pt x="1651" y="85"/>
                        </a:lnTo>
                        <a:lnTo>
                          <a:pt x="1657" y="85"/>
                        </a:lnTo>
                        <a:lnTo>
                          <a:pt x="1663" y="85"/>
                        </a:lnTo>
                        <a:lnTo>
                          <a:pt x="1667" y="85"/>
                        </a:lnTo>
                        <a:lnTo>
                          <a:pt x="1674" y="85"/>
                        </a:lnTo>
                        <a:lnTo>
                          <a:pt x="1680" y="85"/>
                        </a:lnTo>
                        <a:lnTo>
                          <a:pt x="1686" y="85"/>
                        </a:lnTo>
                        <a:lnTo>
                          <a:pt x="1692" y="85"/>
                        </a:lnTo>
                        <a:lnTo>
                          <a:pt x="1698" y="85"/>
                        </a:lnTo>
                        <a:lnTo>
                          <a:pt x="1704" y="84"/>
                        </a:lnTo>
                        <a:lnTo>
                          <a:pt x="1709" y="84"/>
                        </a:lnTo>
                        <a:lnTo>
                          <a:pt x="1715" y="84"/>
                        </a:lnTo>
                        <a:lnTo>
                          <a:pt x="1723" y="84"/>
                        </a:lnTo>
                        <a:lnTo>
                          <a:pt x="1727" y="84"/>
                        </a:lnTo>
                        <a:lnTo>
                          <a:pt x="1733" y="84"/>
                        </a:lnTo>
                        <a:lnTo>
                          <a:pt x="1739" y="84"/>
                        </a:lnTo>
                        <a:lnTo>
                          <a:pt x="1745" y="84"/>
                        </a:lnTo>
                        <a:lnTo>
                          <a:pt x="1752" y="84"/>
                        </a:lnTo>
                        <a:lnTo>
                          <a:pt x="1758" y="84"/>
                        </a:lnTo>
                        <a:lnTo>
                          <a:pt x="1762" y="84"/>
                        </a:lnTo>
                        <a:lnTo>
                          <a:pt x="1770" y="84"/>
                        </a:lnTo>
                        <a:lnTo>
                          <a:pt x="1775" y="84"/>
                        </a:lnTo>
                        <a:lnTo>
                          <a:pt x="1781" y="84"/>
                        </a:lnTo>
                        <a:lnTo>
                          <a:pt x="1787" y="84"/>
                        </a:lnTo>
                        <a:lnTo>
                          <a:pt x="1793" y="85"/>
                        </a:lnTo>
                        <a:lnTo>
                          <a:pt x="1797" y="84"/>
                        </a:lnTo>
                        <a:lnTo>
                          <a:pt x="1804" y="84"/>
                        </a:lnTo>
                        <a:lnTo>
                          <a:pt x="1810" y="84"/>
                        </a:lnTo>
                        <a:lnTo>
                          <a:pt x="1814" y="84"/>
                        </a:lnTo>
                        <a:lnTo>
                          <a:pt x="1820" y="84"/>
                        </a:lnTo>
                        <a:lnTo>
                          <a:pt x="1825" y="84"/>
                        </a:lnTo>
                        <a:lnTo>
                          <a:pt x="1830" y="84"/>
                        </a:lnTo>
                        <a:lnTo>
                          <a:pt x="1836" y="84"/>
                        </a:lnTo>
                        <a:lnTo>
                          <a:pt x="1840" y="84"/>
                        </a:lnTo>
                        <a:lnTo>
                          <a:pt x="1845" y="84"/>
                        </a:lnTo>
                        <a:lnTo>
                          <a:pt x="1849" y="84"/>
                        </a:lnTo>
                        <a:lnTo>
                          <a:pt x="1854" y="84"/>
                        </a:lnTo>
                        <a:lnTo>
                          <a:pt x="1859" y="84"/>
                        </a:lnTo>
                        <a:lnTo>
                          <a:pt x="1862" y="84"/>
                        </a:lnTo>
                        <a:lnTo>
                          <a:pt x="1866" y="84"/>
                        </a:lnTo>
                        <a:lnTo>
                          <a:pt x="1871" y="84"/>
                        </a:lnTo>
                        <a:lnTo>
                          <a:pt x="1868" y="81"/>
                        </a:lnTo>
                        <a:lnTo>
                          <a:pt x="1863" y="79"/>
                        </a:lnTo>
                        <a:lnTo>
                          <a:pt x="1860" y="78"/>
                        </a:lnTo>
                        <a:lnTo>
                          <a:pt x="1856" y="75"/>
                        </a:lnTo>
                        <a:lnTo>
                          <a:pt x="1853" y="74"/>
                        </a:lnTo>
                        <a:lnTo>
                          <a:pt x="1848" y="74"/>
                        </a:lnTo>
                        <a:lnTo>
                          <a:pt x="1845" y="74"/>
                        </a:lnTo>
                        <a:lnTo>
                          <a:pt x="1842" y="74"/>
                        </a:lnTo>
                        <a:lnTo>
                          <a:pt x="1839" y="73"/>
                        </a:lnTo>
                        <a:lnTo>
                          <a:pt x="1836" y="73"/>
                        </a:lnTo>
                        <a:lnTo>
                          <a:pt x="1831" y="73"/>
                        </a:lnTo>
                        <a:lnTo>
                          <a:pt x="1828" y="73"/>
                        </a:lnTo>
                        <a:lnTo>
                          <a:pt x="1822" y="73"/>
                        </a:lnTo>
                        <a:lnTo>
                          <a:pt x="1814" y="71"/>
                        </a:lnTo>
                        <a:lnTo>
                          <a:pt x="1808" y="71"/>
                        </a:lnTo>
                        <a:lnTo>
                          <a:pt x="1802" y="71"/>
                        </a:lnTo>
                        <a:lnTo>
                          <a:pt x="1794" y="70"/>
                        </a:lnTo>
                        <a:lnTo>
                          <a:pt x="1788" y="70"/>
                        </a:lnTo>
                        <a:lnTo>
                          <a:pt x="1782" y="68"/>
                        </a:lnTo>
                        <a:lnTo>
                          <a:pt x="1776" y="68"/>
                        </a:lnTo>
                        <a:lnTo>
                          <a:pt x="1768" y="68"/>
                        </a:lnTo>
                        <a:lnTo>
                          <a:pt x="1762" y="68"/>
                        </a:lnTo>
                        <a:lnTo>
                          <a:pt x="1756" y="67"/>
                        </a:lnTo>
                        <a:lnTo>
                          <a:pt x="1749" y="67"/>
                        </a:lnTo>
                        <a:lnTo>
                          <a:pt x="1742" y="66"/>
                        </a:lnTo>
                        <a:lnTo>
                          <a:pt x="1736" y="66"/>
                        </a:lnTo>
                        <a:lnTo>
                          <a:pt x="1729" y="66"/>
                        </a:lnTo>
                        <a:lnTo>
                          <a:pt x="1723" y="66"/>
                        </a:lnTo>
                        <a:lnTo>
                          <a:pt x="1716" y="64"/>
                        </a:lnTo>
                        <a:lnTo>
                          <a:pt x="1710" y="64"/>
                        </a:lnTo>
                        <a:lnTo>
                          <a:pt x="1703" y="64"/>
                        </a:lnTo>
                        <a:lnTo>
                          <a:pt x="1696" y="64"/>
                        </a:lnTo>
                        <a:lnTo>
                          <a:pt x="1693" y="63"/>
                        </a:lnTo>
                        <a:lnTo>
                          <a:pt x="1690" y="63"/>
                        </a:lnTo>
                        <a:lnTo>
                          <a:pt x="1686" y="63"/>
                        </a:lnTo>
                        <a:lnTo>
                          <a:pt x="1683" y="63"/>
                        </a:lnTo>
                        <a:lnTo>
                          <a:pt x="1677" y="63"/>
                        </a:lnTo>
                        <a:lnTo>
                          <a:pt x="1670" y="63"/>
                        </a:lnTo>
                        <a:lnTo>
                          <a:pt x="1663" y="63"/>
                        </a:lnTo>
                        <a:lnTo>
                          <a:pt x="1657" y="64"/>
                        </a:lnTo>
                        <a:lnTo>
                          <a:pt x="1649" y="64"/>
                        </a:lnTo>
                        <a:lnTo>
                          <a:pt x="1643" y="66"/>
                        </a:lnTo>
                        <a:lnTo>
                          <a:pt x="1638" y="64"/>
                        </a:lnTo>
                        <a:lnTo>
                          <a:pt x="1632" y="64"/>
                        </a:lnTo>
                        <a:lnTo>
                          <a:pt x="1628" y="63"/>
                        </a:lnTo>
                        <a:lnTo>
                          <a:pt x="1622" y="63"/>
                        </a:lnTo>
                        <a:lnTo>
                          <a:pt x="1617" y="63"/>
                        </a:lnTo>
                        <a:lnTo>
                          <a:pt x="1612" y="63"/>
                        </a:lnTo>
                        <a:lnTo>
                          <a:pt x="1606" y="62"/>
                        </a:lnTo>
                        <a:lnTo>
                          <a:pt x="1602" y="62"/>
                        </a:lnTo>
                        <a:lnTo>
                          <a:pt x="1596" y="62"/>
                        </a:lnTo>
                        <a:lnTo>
                          <a:pt x="1591" y="60"/>
                        </a:lnTo>
                        <a:lnTo>
                          <a:pt x="1586" y="60"/>
                        </a:lnTo>
                        <a:lnTo>
                          <a:pt x="1582" y="60"/>
                        </a:lnTo>
                        <a:lnTo>
                          <a:pt x="1576" y="59"/>
                        </a:lnTo>
                        <a:lnTo>
                          <a:pt x="1571" y="59"/>
                        </a:lnTo>
                        <a:lnTo>
                          <a:pt x="1565" y="59"/>
                        </a:lnTo>
                        <a:lnTo>
                          <a:pt x="1560" y="59"/>
                        </a:lnTo>
                        <a:lnTo>
                          <a:pt x="1565" y="57"/>
                        </a:lnTo>
                        <a:lnTo>
                          <a:pt x="1568" y="56"/>
                        </a:lnTo>
                        <a:lnTo>
                          <a:pt x="1573" y="56"/>
                        </a:lnTo>
                        <a:lnTo>
                          <a:pt x="1577" y="56"/>
                        </a:lnTo>
                        <a:lnTo>
                          <a:pt x="1582" y="55"/>
                        </a:lnTo>
                        <a:lnTo>
                          <a:pt x="1585" y="55"/>
                        </a:lnTo>
                        <a:lnTo>
                          <a:pt x="1589" y="55"/>
                        </a:lnTo>
                        <a:lnTo>
                          <a:pt x="1594" y="55"/>
                        </a:lnTo>
                        <a:lnTo>
                          <a:pt x="1599" y="53"/>
                        </a:lnTo>
                        <a:lnTo>
                          <a:pt x="1602" y="53"/>
                        </a:lnTo>
                        <a:lnTo>
                          <a:pt x="1606" y="53"/>
                        </a:lnTo>
                        <a:lnTo>
                          <a:pt x="1611" y="53"/>
                        </a:lnTo>
                        <a:lnTo>
                          <a:pt x="1615" y="53"/>
                        </a:lnTo>
                        <a:lnTo>
                          <a:pt x="1618" y="53"/>
                        </a:lnTo>
                        <a:lnTo>
                          <a:pt x="1623" y="53"/>
                        </a:lnTo>
                        <a:lnTo>
                          <a:pt x="1629" y="53"/>
                        </a:lnTo>
                        <a:lnTo>
                          <a:pt x="1632" y="53"/>
                        </a:lnTo>
                        <a:lnTo>
                          <a:pt x="1637" y="53"/>
                        </a:lnTo>
                        <a:lnTo>
                          <a:pt x="1641" y="53"/>
                        </a:lnTo>
                        <a:lnTo>
                          <a:pt x="1646" y="53"/>
                        </a:lnTo>
                        <a:lnTo>
                          <a:pt x="1649" y="53"/>
                        </a:lnTo>
                        <a:lnTo>
                          <a:pt x="1654" y="53"/>
                        </a:lnTo>
                        <a:lnTo>
                          <a:pt x="1658" y="53"/>
                        </a:lnTo>
                        <a:lnTo>
                          <a:pt x="1663" y="53"/>
                        </a:lnTo>
                        <a:lnTo>
                          <a:pt x="1667" y="53"/>
                        </a:lnTo>
                        <a:lnTo>
                          <a:pt x="1672" y="53"/>
                        </a:lnTo>
                        <a:lnTo>
                          <a:pt x="1677" y="53"/>
                        </a:lnTo>
                        <a:lnTo>
                          <a:pt x="1681" y="53"/>
                        </a:lnTo>
                        <a:lnTo>
                          <a:pt x="1686" y="53"/>
                        </a:lnTo>
                        <a:lnTo>
                          <a:pt x="1690" y="55"/>
                        </a:lnTo>
                        <a:lnTo>
                          <a:pt x="1695" y="55"/>
                        </a:lnTo>
                        <a:lnTo>
                          <a:pt x="1700" y="55"/>
                        </a:lnTo>
                        <a:lnTo>
                          <a:pt x="1703" y="55"/>
                        </a:lnTo>
                        <a:lnTo>
                          <a:pt x="1707" y="55"/>
                        </a:lnTo>
                        <a:lnTo>
                          <a:pt x="1712" y="55"/>
                        </a:lnTo>
                        <a:lnTo>
                          <a:pt x="1716" y="56"/>
                        </a:lnTo>
                        <a:lnTo>
                          <a:pt x="1721" y="56"/>
                        </a:lnTo>
                        <a:lnTo>
                          <a:pt x="1726" y="56"/>
                        </a:lnTo>
                        <a:lnTo>
                          <a:pt x="1729" y="56"/>
                        </a:lnTo>
                        <a:lnTo>
                          <a:pt x="1735" y="56"/>
                        </a:lnTo>
                        <a:lnTo>
                          <a:pt x="1738" y="56"/>
                        </a:lnTo>
                        <a:lnTo>
                          <a:pt x="1742" y="56"/>
                        </a:lnTo>
                        <a:lnTo>
                          <a:pt x="1747" y="56"/>
                        </a:lnTo>
                        <a:lnTo>
                          <a:pt x="1752" y="56"/>
                        </a:lnTo>
                        <a:lnTo>
                          <a:pt x="1756" y="56"/>
                        </a:lnTo>
                        <a:lnTo>
                          <a:pt x="1761" y="56"/>
                        </a:lnTo>
                        <a:lnTo>
                          <a:pt x="1765" y="56"/>
                        </a:lnTo>
                        <a:lnTo>
                          <a:pt x="1770" y="57"/>
                        </a:lnTo>
                        <a:lnTo>
                          <a:pt x="1773" y="56"/>
                        </a:lnTo>
                        <a:lnTo>
                          <a:pt x="1778" y="56"/>
                        </a:lnTo>
                        <a:lnTo>
                          <a:pt x="1782" y="56"/>
                        </a:lnTo>
                        <a:lnTo>
                          <a:pt x="1787" y="56"/>
                        </a:lnTo>
                        <a:lnTo>
                          <a:pt x="1791" y="56"/>
                        </a:lnTo>
                        <a:lnTo>
                          <a:pt x="1796" y="56"/>
                        </a:lnTo>
                        <a:lnTo>
                          <a:pt x="1801" y="56"/>
                        </a:lnTo>
                        <a:lnTo>
                          <a:pt x="1805" y="56"/>
                        </a:lnTo>
                        <a:lnTo>
                          <a:pt x="1808" y="56"/>
                        </a:lnTo>
                        <a:lnTo>
                          <a:pt x="1814" y="56"/>
                        </a:lnTo>
                        <a:lnTo>
                          <a:pt x="1817" y="55"/>
                        </a:lnTo>
                        <a:lnTo>
                          <a:pt x="1822" y="55"/>
                        </a:lnTo>
                        <a:lnTo>
                          <a:pt x="1827" y="55"/>
                        </a:lnTo>
                        <a:lnTo>
                          <a:pt x="1831" y="55"/>
                        </a:lnTo>
                        <a:lnTo>
                          <a:pt x="1836" y="53"/>
                        </a:lnTo>
                        <a:lnTo>
                          <a:pt x="1840" y="53"/>
                        </a:lnTo>
                        <a:lnTo>
                          <a:pt x="1845" y="53"/>
                        </a:lnTo>
                        <a:lnTo>
                          <a:pt x="1851" y="52"/>
                        </a:lnTo>
                        <a:lnTo>
                          <a:pt x="1856" y="52"/>
                        </a:lnTo>
                        <a:lnTo>
                          <a:pt x="1859" y="51"/>
                        </a:lnTo>
                        <a:lnTo>
                          <a:pt x="1863" y="49"/>
                        </a:lnTo>
                        <a:lnTo>
                          <a:pt x="1866" y="48"/>
                        </a:lnTo>
                        <a:lnTo>
                          <a:pt x="1865" y="46"/>
                        </a:lnTo>
                        <a:lnTo>
                          <a:pt x="1863" y="46"/>
                        </a:lnTo>
                        <a:lnTo>
                          <a:pt x="1860" y="46"/>
                        </a:lnTo>
                        <a:lnTo>
                          <a:pt x="1857" y="45"/>
                        </a:lnTo>
                        <a:lnTo>
                          <a:pt x="1853" y="45"/>
                        </a:lnTo>
                        <a:lnTo>
                          <a:pt x="1848" y="45"/>
                        </a:lnTo>
                        <a:lnTo>
                          <a:pt x="1845" y="45"/>
                        </a:lnTo>
                        <a:lnTo>
                          <a:pt x="1842" y="45"/>
                        </a:lnTo>
                        <a:lnTo>
                          <a:pt x="1839" y="45"/>
                        </a:lnTo>
                        <a:lnTo>
                          <a:pt x="1836" y="45"/>
                        </a:lnTo>
                        <a:lnTo>
                          <a:pt x="1739" y="41"/>
                        </a:lnTo>
                        <a:lnTo>
                          <a:pt x="1723" y="31"/>
                        </a:lnTo>
                        <a:lnTo>
                          <a:pt x="1718" y="33"/>
                        </a:lnTo>
                        <a:lnTo>
                          <a:pt x="1713" y="33"/>
                        </a:lnTo>
                        <a:lnTo>
                          <a:pt x="1709" y="34"/>
                        </a:lnTo>
                        <a:lnTo>
                          <a:pt x="1704" y="34"/>
                        </a:lnTo>
                        <a:lnTo>
                          <a:pt x="1698" y="34"/>
                        </a:lnTo>
                        <a:lnTo>
                          <a:pt x="1689" y="34"/>
                        </a:lnTo>
                        <a:lnTo>
                          <a:pt x="1681" y="34"/>
                        </a:lnTo>
                        <a:lnTo>
                          <a:pt x="1672" y="34"/>
                        </a:lnTo>
                        <a:lnTo>
                          <a:pt x="1663" y="34"/>
                        </a:lnTo>
                        <a:lnTo>
                          <a:pt x="1651" y="34"/>
                        </a:lnTo>
                        <a:lnTo>
                          <a:pt x="1640" y="34"/>
                        </a:lnTo>
                        <a:lnTo>
                          <a:pt x="1628" y="33"/>
                        </a:lnTo>
                        <a:lnTo>
                          <a:pt x="1615" y="33"/>
                        </a:lnTo>
                        <a:lnTo>
                          <a:pt x="1602" y="31"/>
                        </a:lnTo>
                        <a:lnTo>
                          <a:pt x="1588" y="31"/>
                        </a:lnTo>
                        <a:lnTo>
                          <a:pt x="1573" y="31"/>
                        </a:lnTo>
                        <a:lnTo>
                          <a:pt x="1559" y="31"/>
                        </a:lnTo>
                        <a:lnTo>
                          <a:pt x="1542" y="30"/>
                        </a:lnTo>
                        <a:lnTo>
                          <a:pt x="1527" y="30"/>
                        </a:lnTo>
                        <a:lnTo>
                          <a:pt x="1510" y="29"/>
                        </a:lnTo>
                        <a:lnTo>
                          <a:pt x="1495" y="29"/>
                        </a:lnTo>
                        <a:lnTo>
                          <a:pt x="1476" y="27"/>
                        </a:lnTo>
                        <a:lnTo>
                          <a:pt x="1459" y="27"/>
                        </a:lnTo>
                        <a:lnTo>
                          <a:pt x="1441" y="26"/>
                        </a:lnTo>
                        <a:lnTo>
                          <a:pt x="1424" y="26"/>
                        </a:lnTo>
                        <a:lnTo>
                          <a:pt x="1406" y="25"/>
                        </a:lnTo>
                        <a:lnTo>
                          <a:pt x="1388" y="23"/>
                        </a:lnTo>
                        <a:lnTo>
                          <a:pt x="1369" y="23"/>
                        </a:lnTo>
                        <a:lnTo>
                          <a:pt x="1352" y="23"/>
                        </a:lnTo>
                        <a:lnTo>
                          <a:pt x="1334" y="20"/>
                        </a:lnTo>
                        <a:lnTo>
                          <a:pt x="1314" y="20"/>
                        </a:lnTo>
                        <a:lnTo>
                          <a:pt x="1296" y="19"/>
                        </a:lnTo>
                        <a:lnTo>
                          <a:pt x="1279" y="19"/>
                        </a:lnTo>
                        <a:lnTo>
                          <a:pt x="1259" y="16"/>
                        </a:lnTo>
                        <a:lnTo>
                          <a:pt x="1242" y="16"/>
                        </a:lnTo>
                        <a:lnTo>
                          <a:pt x="1224" y="15"/>
                        </a:lnTo>
                        <a:lnTo>
                          <a:pt x="1207" y="15"/>
                        </a:lnTo>
                        <a:lnTo>
                          <a:pt x="1189" y="14"/>
                        </a:lnTo>
                        <a:lnTo>
                          <a:pt x="1172" y="14"/>
                        </a:lnTo>
                        <a:lnTo>
                          <a:pt x="1155" y="12"/>
                        </a:lnTo>
                        <a:lnTo>
                          <a:pt x="1138" y="11"/>
                        </a:lnTo>
                        <a:lnTo>
                          <a:pt x="1121" y="9"/>
                        </a:lnTo>
                        <a:lnTo>
                          <a:pt x="1108" y="9"/>
                        </a:lnTo>
                        <a:lnTo>
                          <a:pt x="1091" y="8"/>
                        </a:lnTo>
                        <a:lnTo>
                          <a:pt x="1077" y="8"/>
                        </a:lnTo>
                        <a:lnTo>
                          <a:pt x="1063" y="7"/>
                        </a:lnTo>
                        <a:lnTo>
                          <a:pt x="1049" y="7"/>
                        </a:lnTo>
                        <a:lnTo>
                          <a:pt x="1036" y="5"/>
                        </a:lnTo>
                        <a:lnTo>
                          <a:pt x="1025" y="5"/>
                        </a:lnTo>
                        <a:lnTo>
                          <a:pt x="1013" y="4"/>
                        </a:lnTo>
                        <a:lnTo>
                          <a:pt x="1002" y="4"/>
                        </a:lnTo>
                        <a:lnTo>
                          <a:pt x="991" y="4"/>
                        </a:lnTo>
                        <a:lnTo>
                          <a:pt x="984" y="4"/>
                        </a:lnTo>
                        <a:lnTo>
                          <a:pt x="975" y="3"/>
                        </a:lnTo>
                        <a:lnTo>
                          <a:pt x="967" y="3"/>
                        </a:lnTo>
                        <a:lnTo>
                          <a:pt x="959" y="1"/>
                        </a:lnTo>
                        <a:lnTo>
                          <a:pt x="955" y="1"/>
                        </a:lnTo>
                        <a:lnTo>
                          <a:pt x="949" y="1"/>
                        </a:lnTo>
                        <a:lnTo>
                          <a:pt x="945" y="1"/>
                        </a:lnTo>
                        <a:lnTo>
                          <a:pt x="942" y="1"/>
                        </a:lnTo>
                        <a:lnTo>
                          <a:pt x="941" y="1"/>
                        </a:lnTo>
                        <a:lnTo>
                          <a:pt x="936" y="1"/>
                        </a:lnTo>
                        <a:lnTo>
                          <a:pt x="930" y="1"/>
                        </a:lnTo>
                        <a:lnTo>
                          <a:pt x="924" y="1"/>
                        </a:lnTo>
                        <a:lnTo>
                          <a:pt x="919" y="1"/>
                        </a:lnTo>
                        <a:lnTo>
                          <a:pt x="913" y="1"/>
                        </a:lnTo>
                        <a:lnTo>
                          <a:pt x="907" y="1"/>
                        </a:lnTo>
                        <a:lnTo>
                          <a:pt x="901" y="1"/>
                        </a:lnTo>
                        <a:lnTo>
                          <a:pt x="896" y="1"/>
                        </a:lnTo>
                        <a:lnTo>
                          <a:pt x="892" y="1"/>
                        </a:lnTo>
                        <a:lnTo>
                          <a:pt x="886" y="1"/>
                        </a:lnTo>
                        <a:lnTo>
                          <a:pt x="880" y="1"/>
                        </a:lnTo>
                        <a:lnTo>
                          <a:pt x="875" y="1"/>
                        </a:lnTo>
                        <a:lnTo>
                          <a:pt x="869" y="1"/>
                        </a:lnTo>
                        <a:lnTo>
                          <a:pt x="863" y="1"/>
                        </a:lnTo>
                        <a:lnTo>
                          <a:pt x="858" y="1"/>
                        </a:lnTo>
                        <a:lnTo>
                          <a:pt x="852" y="1"/>
                        </a:lnTo>
                        <a:lnTo>
                          <a:pt x="846" y="0"/>
                        </a:lnTo>
                        <a:lnTo>
                          <a:pt x="840" y="0"/>
                        </a:lnTo>
                        <a:lnTo>
                          <a:pt x="834" y="0"/>
                        </a:lnTo>
                        <a:lnTo>
                          <a:pt x="828" y="0"/>
                        </a:lnTo>
                        <a:lnTo>
                          <a:pt x="822" y="0"/>
                        </a:lnTo>
                        <a:lnTo>
                          <a:pt x="815" y="0"/>
                        </a:lnTo>
                        <a:lnTo>
                          <a:pt x="811" y="0"/>
                        </a:lnTo>
                        <a:lnTo>
                          <a:pt x="805" y="0"/>
                        </a:lnTo>
                        <a:lnTo>
                          <a:pt x="799" y="0"/>
                        </a:lnTo>
                        <a:lnTo>
                          <a:pt x="792" y="0"/>
                        </a:lnTo>
                        <a:lnTo>
                          <a:pt x="788" y="0"/>
                        </a:lnTo>
                        <a:lnTo>
                          <a:pt x="782" y="0"/>
                        </a:lnTo>
                        <a:lnTo>
                          <a:pt x="776" y="0"/>
                        </a:lnTo>
                        <a:lnTo>
                          <a:pt x="770" y="0"/>
                        </a:lnTo>
                        <a:lnTo>
                          <a:pt x="765" y="0"/>
                        </a:lnTo>
                        <a:lnTo>
                          <a:pt x="759" y="0"/>
                        </a:lnTo>
                        <a:lnTo>
                          <a:pt x="753" y="0"/>
                        </a:lnTo>
                        <a:lnTo>
                          <a:pt x="747" y="0"/>
                        </a:lnTo>
                        <a:lnTo>
                          <a:pt x="740" y="0"/>
                        </a:lnTo>
                        <a:lnTo>
                          <a:pt x="734" y="0"/>
                        </a:lnTo>
                        <a:lnTo>
                          <a:pt x="728" y="0"/>
                        </a:lnTo>
                        <a:lnTo>
                          <a:pt x="724" y="0"/>
                        </a:lnTo>
                        <a:lnTo>
                          <a:pt x="718" y="0"/>
                        </a:lnTo>
                        <a:lnTo>
                          <a:pt x="711" y="0"/>
                        </a:lnTo>
                        <a:lnTo>
                          <a:pt x="705" y="0"/>
                        </a:lnTo>
                        <a:lnTo>
                          <a:pt x="699" y="0"/>
                        </a:lnTo>
                        <a:lnTo>
                          <a:pt x="693" y="0"/>
                        </a:lnTo>
                        <a:lnTo>
                          <a:pt x="688" y="1"/>
                        </a:lnTo>
                        <a:lnTo>
                          <a:pt x="682" y="1"/>
                        </a:lnTo>
                        <a:lnTo>
                          <a:pt x="676" y="1"/>
                        </a:lnTo>
                        <a:lnTo>
                          <a:pt x="672" y="3"/>
                        </a:lnTo>
                        <a:lnTo>
                          <a:pt x="666" y="3"/>
                        </a:lnTo>
                        <a:lnTo>
                          <a:pt x="659" y="3"/>
                        </a:lnTo>
                        <a:lnTo>
                          <a:pt x="653" y="3"/>
                        </a:lnTo>
                        <a:lnTo>
                          <a:pt x="649" y="4"/>
                        </a:lnTo>
                        <a:lnTo>
                          <a:pt x="643" y="4"/>
                        </a:lnTo>
                        <a:lnTo>
                          <a:pt x="636" y="4"/>
                        </a:lnTo>
                        <a:lnTo>
                          <a:pt x="630" y="4"/>
                        </a:lnTo>
                        <a:lnTo>
                          <a:pt x="626" y="5"/>
                        </a:lnTo>
                        <a:lnTo>
                          <a:pt x="621" y="7"/>
                        </a:lnTo>
                        <a:lnTo>
                          <a:pt x="615" y="7"/>
                        </a:lnTo>
                        <a:lnTo>
                          <a:pt x="609" y="8"/>
                        </a:lnTo>
                        <a:lnTo>
                          <a:pt x="604" y="8"/>
                        </a:lnTo>
                        <a:lnTo>
                          <a:pt x="598" y="9"/>
                        </a:lnTo>
                        <a:lnTo>
                          <a:pt x="594" y="9"/>
                        </a:lnTo>
                        <a:lnTo>
                          <a:pt x="588" y="11"/>
                        </a:lnTo>
                        <a:lnTo>
                          <a:pt x="583" y="12"/>
                        </a:lnTo>
                        <a:lnTo>
                          <a:pt x="578" y="14"/>
                        </a:lnTo>
                        <a:lnTo>
                          <a:pt x="575" y="14"/>
                        </a:lnTo>
                        <a:lnTo>
                          <a:pt x="572" y="14"/>
                        </a:lnTo>
                        <a:lnTo>
                          <a:pt x="566" y="15"/>
                        </a:lnTo>
                        <a:lnTo>
                          <a:pt x="561" y="15"/>
                        </a:lnTo>
                        <a:lnTo>
                          <a:pt x="557" y="15"/>
                        </a:lnTo>
                        <a:lnTo>
                          <a:pt x="554" y="15"/>
                        </a:lnTo>
                        <a:lnTo>
                          <a:pt x="549" y="16"/>
                        </a:lnTo>
                        <a:lnTo>
                          <a:pt x="546" y="16"/>
                        </a:lnTo>
                        <a:lnTo>
                          <a:pt x="543" y="16"/>
                        </a:lnTo>
                        <a:lnTo>
                          <a:pt x="539" y="16"/>
                        </a:lnTo>
                        <a:lnTo>
                          <a:pt x="535" y="16"/>
                        </a:lnTo>
                        <a:lnTo>
                          <a:pt x="531" y="18"/>
                        </a:lnTo>
                        <a:lnTo>
                          <a:pt x="528" y="18"/>
                        </a:lnTo>
                        <a:lnTo>
                          <a:pt x="523" y="18"/>
                        </a:lnTo>
                        <a:lnTo>
                          <a:pt x="520" y="18"/>
                        </a:lnTo>
                        <a:lnTo>
                          <a:pt x="516" y="18"/>
                        </a:lnTo>
                        <a:lnTo>
                          <a:pt x="513" y="18"/>
                        </a:lnTo>
                        <a:lnTo>
                          <a:pt x="508" y="18"/>
                        </a:lnTo>
                        <a:lnTo>
                          <a:pt x="505" y="18"/>
                        </a:lnTo>
                        <a:lnTo>
                          <a:pt x="503" y="19"/>
                        </a:lnTo>
                        <a:lnTo>
                          <a:pt x="497" y="18"/>
                        </a:lnTo>
                        <a:lnTo>
                          <a:pt x="493" y="18"/>
                        </a:lnTo>
                        <a:lnTo>
                          <a:pt x="490" y="18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222"/>
                  <p:cNvSpPr/>
                  <p:nvPr/>
                </p:nvSpPr>
                <p:spPr>
                  <a:xfrm>
                    <a:off x="3899160" y="3635280"/>
                    <a:ext cx="41400" cy="14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288" h="14">
                        <a:moveTo>
                          <a:pt x="286" y="0"/>
                        </a:moveTo>
                        <a:lnTo>
                          <a:pt x="280" y="0"/>
                        </a:lnTo>
                        <a:lnTo>
                          <a:pt x="274" y="0"/>
                        </a:lnTo>
                        <a:lnTo>
                          <a:pt x="268" y="0"/>
                        </a:lnTo>
                        <a:lnTo>
                          <a:pt x="263" y="0"/>
                        </a:lnTo>
                        <a:lnTo>
                          <a:pt x="257" y="0"/>
                        </a:lnTo>
                        <a:lnTo>
                          <a:pt x="251" y="0"/>
                        </a:lnTo>
                        <a:lnTo>
                          <a:pt x="245" y="0"/>
                        </a:lnTo>
                        <a:lnTo>
                          <a:pt x="240" y="0"/>
                        </a:lnTo>
                        <a:lnTo>
                          <a:pt x="233" y="0"/>
                        </a:lnTo>
                        <a:lnTo>
                          <a:pt x="228" y="0"/>
                        </a:lnTo>
                        <a:lnTo>
                          <a:pt x="222" y="0"/>
                        </a:lnTo>
                        <a:lnTo>
                          <a:pt x="216" y="0"/>
                        </a:lnTo>
                        <a:lnTo>
                          <a:pt x="210" y="0"/>
                        </a:lnTo>
                        <a:lnTo>
                          <a:pt x="205" y="2"/>
                        </a:lnTo>
                        <a:lnTo>
                          <a:pt x="199" y="2"/>
                        </a:lnTo>
                        <a:lnTo>
                          <a:pt x="193" y="2"/>
                        </a:lnTo>
                        <a:lnTo>
                          <a:pt x="187" y="2"/>
                        </a:lnTo>
                        <a:lnTo>
                          <a:pt x="181" y="2"/>
                        </a:lnTo>
                        <a:lnTo>
                          <a:pt x="174" y="3"/>
                        </a:lnTo>
                        <a:lnTo>
                          <a:pt x="170" y="3"/>
                        </a:lnTo>
                        <a:lnTo>
                          <a:pt x="164" y="3"/>
                        </a:lnTo>
                        <a:lnTo>
                          <a:pt x="158" y="3"/>
                        </a:lnTo>
                        <a:lnTo>
                          <a:pt x="152" y="3"/>
                        </a:lnTo>
                        <a:lnTo>
                          <a:pt x="145" y="4"/>
                        </a:lnTo>
                        <a:lnTo>
                          <a:pt x="139" y="4"/>
                        </a:lnTo>
                        <a:lnTo>
                          <a:pt x="135" y="4"/>
                        </a:lnTo>
                        <a:lnTo>
                          <a:pt x="127" y="4"/>
                        </a:lnTo>
                        <a:lnTo>
                          <a:pt x="122" y="6"/>
                        </a:lnTo>
                        <a:lnTo>
                          <a:pt x="116" y="6"/>
                        </a:lnTo>
                        <a:lnTo>
                          <a:pt x="110" y="6"/>
                        </a:lnTo>
                        <a:lnTo>
                          <a:pt x="104" y="6"/>
                        </a:lnTo>
                        <a:lnTo>
                          <a:pt x="100" y="6"/>
                        </a:lnTo>
                        <a:lnTo>
                          <a:pt x="31" y="8"/>
                        </a:lnTo>
                        <a:lnTo>
                          <a:pt x="11" y="11"/>
                        </a:lnTo>
                        <a:lnTo>
                          <a:pt x="3" y="11"/>
                        </a:lnTo>
                        <a:lnTo>
                          <a:pt x="2" y="11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6" y="14"/>
                        </a:lnTo>
                        <a:lnTo>
                          <a:pt x="9" y="14"/>
                        </a:lnTo>
                        <a:lnTo>
                          <a:pt x="14" y="14"/>
                        </a:lnTo>
                        <a:lnTo>
                          <a:pt x="17" y="14"/>
                        </a:lnTo>
                        <a:lnTo>
                          <a:pt x="22" y="14"/>
                        </a:lnTo>
                        <a:lnTo>
                          <a:pt x="25" y="12"/>
                        </a:lnTo>
                        <a:lnTo>
                          <a:pt x="28" y="12"/>
                        </a:lnTo>
                        <a:lnTo>
                          <a:pt x="31" y="12"/>
                        </a:lnTo>
                        <a:lnTo>
                          <a:pt x="35" y="12"/>
                        </a:lnTo>
                        <a:lnTo>
                          <a:pt x="40" y="12"/>
                        </a:lnTo>
                        <a:lnTo>
                          <a:pt x="43" y="12"/>
                        </a:lnTo>
                        <a:lnTo>
                          <a:pt x="48" y="12"/>
                        </a:lnTo>
                        <a:lnTo>
                          <a:pt x="54" y="12"/>
                        </a:lnTo>
                        <a:lnTo>
                          <a:pt x="58" y="12"/>
                        </a:lnTo>
                        <a:lnTo>
                          <a:pt x="64" y="12"/>
                        </a:lnTo>
                        <a:lnTo>
                          <a:pt x="69" y="12"/>
                        </a:lnTo>
                        <a:lnTo>
                          <a:pt x="75" y="12"/>
                        </a:lnTo>
                        <a:lnTo>
                          <a:pt x="80" y="12"/>
                        </a:lnTo>
                        <a:lnTo>
                          <a:pt x="86" y="12"/>
                        </a:lnTo>
                        <a:lnTo>
                          <a:pt x="90" y="11"/>
                        </a:lnTo>
                        <a:lnTo>
                          <a:pt x="96" y="11"/>
                        </a:lnTo>
                        <a:lnTo>
                          <a:pt x="101" y="11"/>
                        </a:lnTo>
                        <a:lnTo>
                          <a:pt x="107" y="11"/>
                        </a:lnTo>
                        <a:lnTo>
                          <a:pt x="112" y="11"/>
                        </a:lnTo>
                        <a:lnTo>
                          <a:pt x="118" y="11"/>
                        </a:lnTo>
                        <a:lnTo>
                          <a:pt x="122" y="11"/>
                        </a:lnTo>
                        <a:lnTo>
                          <a:pt x="129" y="11"/>
                        </a:lnTo>
                        <a:lnTo>
                          <a:pt x="135" y="11"/>
                        </a:lnTo>
                        <a:lnTo>
                          <a:pt x="139" y="11"/>
                        </a:lnTo>
                        <a:lnTo>
                          <a:pt x="144" y="10"/>
                        </a:lnTo>
                        <a:lnTo>
                          <a:pt x="150" y="10"/>
                        </a:lnTo>
                        <a:lnTo>
                          <a:pt x="155" y="10"/>
                        </a:lnTo>
                        <a:lnTo>
                          <a:pt x="161" y="10"/>
                        </a:lnTo>
                        <a:lnTo>
                          <a:pt x="165" y="10"/>
                        </a:lnTo>
                        <a:lnTo>
                          <a:pt x="171" y="10"/>
                        </a:lnTo>
                        <a:lnTo>
                          <a:pt x="176" y="8"/>
                        </a:lnTo>
                        <a:lnTo>
                          <a:pt x="182" y="8"/>
                        </a:lnTo>
                        <a:lnTo>
                          <a:pt x="187" y="8"/>
                        </a:lnTo>
                        <a:lnTo>
                          <a:pt x="193" y="8"/>
                        </a:lnTo>
                        <a:lnTo>
                          <a:pt x="199" y="8"/>
                        </a:lnTo>
                        <a:lnTo>
                          <a:pt x="204" y="8"/>
                        </a:lnTo>
                        <a:lnTo>
                          <a:pt x="210" y="8"/>
                        </a:lnTo>
                        <a:lnTo>
                          <a:pt x="216" y="8"/>
                        </a:lnTo>
                        <a:lnTo>
                          <a:pt x="219" y="8"/>
                        </a:lnTo>
                        <a:lnTo>
                          <a:pt x="223" y="8"/>
                        </a:lnTo>
                        <a:lnTo>
                          <a:pt x="226" y="8"/>
                        </a:lnTo>
                        <a:lnTo>
                          <a:pt x="230" y="8"/>
                        </a:lnTo>
                        <a:lnTo>
                          <a:pt x="234" y="8"/>
                        </a:lnTo>
                        <a:lnTo>
                          <a:pt x="237" y="8"/>
                        </a:lnTo>
                        <a:lnTo>
                          <a:pt x="242" y="8"/>
                        </a:lnTo>
                        <a:lnTo>
                          <a:pt x="246" y="8"/>
                        </a:lnTo>
                        <a:lnTo>
                          <a:pt x="249" y="8"/>
                        </a:lnTo>
                        <a:lnTo>
                          <a:pt x="254" y="8"/>
                        </a:lnTo>
                        <a:lnTo>
                          <a:pt x="257" y="8"/>
                        </a:lnTo>
                        <a:lnTo>
                          <a:pt x="262" y="8"/>
                        </a:lnTo>
                        <a:lnTo>
                          <a:pt x="265" y="8"/>
                        </a:lnTo>
                        <a:lnTo>
                          <a:pt x="269" y="8"/>
                        </a:lnTo>
                        <a:lnTo>
                          <a:pt x="274" y="8"/>
                        </a:lnTo>
                        <a:lnTo>
                          <a:pt x="279" y="8"/>
                        </a:lnTo>
                        <a:lnTo>
                          <a:pt x="282" y="7"/>
                        </a:lnTo>
                        <a:lnTo>
                          <a:pt x="285" y="4"/>
                        </a:lnTo>
                        <a:lnTo>
                          <a:pt x="288" y="2"/>
                        </a:lnTo>
                        <a:lnTo>
                          <a:pt x="286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223"/>
                  <p:cNvSpPr/>
                  <p:nvPr/>
                </p:nvSpPr>
                <p:spPr>
                  <a:xfrm>
                    <a:off x="3971520" y="3640680"/>
                    <a:ext cx="35640" cy="324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248" h="25">
                        <a:moveTo>
                          <a:pt x="248" y="25"/>
                        </a:moveTo>
                        <a:lnTo>
                          <a:pt x="244" y="25"/>
                        </a:lnTo>
                        <a:lnTo>
                          <a:pt x="237" y="25"/>
                        </a:lnTo>
                        <a:lnTo>
                          <a:pt x="233" y="23"/>
                        </a:lnTo>
                        <a:lnTo>
                          <a:pt x="227" y="23"/>
                        </a:lnTo>
                        <a:lnTo>
                          <a:pt x="224" y="22"/>
                        </a:lnTo>
                        <a:lnTo>
                          <a:pt x="219" y="22"/>
                        </a:lnTo>
                        <a:lnTo>
                          <a:pt x="216" y="22"/>
                        </a:lnTo>
                        <a:lnTo>
                          <a:pt x="213" y="22"/>
                        </a:lnTo>
                        <a:lnTo>
                          <a:pt x="208" y="21"/>
                        </a:lnTo>
                        <a:lnTo>
                          <a:pt x="205" y="21"/>
                        </a:lnTo>
                        <a:lnTo>
                          <a:pt x="201" y="21"/>
                        </a:lnTo>
                        <a:lnTo>
                          <a:pt x="198" y="21"/>
                        </a:lnTo>
                        <a:lnTo>
                          <a:pt x="193" y="21"/>
                        </a:lnTo>
                        <a:lnTo>
                          <a:pt x="188" y="19"/>
                        </a:lnTo>
                        <a:lnTo>
                          <a:pt x="184" y="19"/>
                        </a:lnTo>
                        <a:lnTo>
                          <a:pt x="179" y="19"/>
                        </a:lnTo>
                        <a:lnTo>
                          <a:pt x="175" y="18"/>
                        </a:lnTo>
                        <a:lnTo>
                          <a:pt x="172" y="18"/>
                        </a:lnTo>
                        <a:lnTo>
                          <a:pt x="166" y="18"/>
                        </a:lnTo>
                        <a:lnTo>
                          <a:pt x="162" y="18"/>
                        </a:lnTo>
                        <a:lnTo>
                          <a:pt x="158" y="16"/>
                        </a:lnTo>
                        <a:lnTo>
                          <a:pt x="153" y="16"/>
                        </a:lnTo>
                        <a:lnTo>
                          <a:pt x="149" y="15"/>
                        </a:lnTo>
                        <a:lnTo>
                          <a:pt x="144" y="15"/>
                        </a:lnTo>
                        <a:lnTo>
                          <a:pt x="138" y="15"/>
                        </a:lnTo>
                        <a:lnTo>
                          <a:pt x="135" y="15"/>
                        </a:lnTo>
                        <a:lnTo>
                          <a:pt x="129" y="15"/>
                        </a:lnTo>
                        <a:lnTo>
                          <a:pt x="124" y="15"/>
                        </a:lnTo>
                        <a:lnTo>
                          <a:pt x="120" y="14"/>
                        </a:lnTo>
                        <a:lnTo>
                          <a:pt x="115" y="14"/>
                        </a:lnTo>
                        <a:lnTo>
                          <a:pt x="110" y="12"/>
                        </a:lnTo>
                        <a:lnTo>
                          <a:pt x="106" y="12"/>
                        </a:lnTo>
                        <a:lnTo>
                          <a:pt x="100" y="12"/>
                        </a:lnTo>
                        <a:lnTo>
                          <a:pt x="97" y="12"/>
                        </a:lnTo>
                        <a:lnTo>
                          <a:pt x="91" y="11"/>
                        </a:lnTo>
                        <a:lnTo>
                          <a:pt x="86" y="11"/>
                        </a:lnTo>
                        <a:lnTo>
                          <a:pt x="81" y="11"/>
                        </a:lnTo>
                        <a:lnTo>
                          <a:pt x="77" y="10"/>
                        </a:lnTo>
                        <a:lnTo>
                          <a:pt x="72" y="10"/>
                        </a:lnTo>
                        <a:lnTo>
                          <a:pt x="68" y="10"/>
                        </a:lnTo>
                        <a:lnTo>
                          <a:pt x="63" y="8"/>
                        </a:lnTo>
                        <a:lnTo>
                          <a:pt x="58" y="8"/>
                        </a:lnTo>
                        <a:lnTo>
                          <a:pt x="55" y="8"/>
                        </a:lnTo>
                        <a:lnTo>
                          <a:pt x="52" y="8"/>
                        </a:lnTo>
                        <a:lnTo>
                          <a:pt x="48" y="8"/>
                        </a:lnTo>
                        <a:lnTo>
                          <a:pt x="43" y="7"/>
                        </a:lnTo>
                        <a:lnTo>
                          <a:pt x="39" y="7"/>
                        </a:lnTo>
                        <a:lnTo>
                          <a:pt x="35" y="7"/>
                        </a:lnTo>
                        <a:lnTo>
                          <a:pt x="32" y="5"/>
                        </a:lnTo>
                        <a:lnTo>
                          <a:pt x="28" y="5"/>
                        </a:lnTo>
                        <a:lnTo>
                          <a:pt x="25" y="5"/>
                        </a:lnTo>
                        <a:lnTo>
                          <a:pt x="22" y="5"/>
                        </a:lnTo>
                        <a:lnTo>
                          <a:pt x="16" y="5"/>
                        </a:lnTo>
                        <a:lnTo>
                          <a:pt x="9" y="5"/>
                        </a:lnTo>
                        <a:lnTo>
                          <a:pt x="5" y="4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13" y="4"/>
                        </a:lnTo>
                        <a:lnTo>
                          <a:pt x="19" y="4"/>
                        </a:lnTo>
                        <a:lnTo>
                          <a:pt x="20" y="3"/>
                        </a:lnTo>
                        <a:lnTo>
                          <a:pt x="23" y="3"/>
                        </a:lnTo>
                        <a:lnTo>
                          <a:pt x="26" y="3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7" y="3"/>
                        </a:lnTo>
                        <a:lnTo>
                          <a:pt x="42" y="3"/>
                        </a:lnTo>
                        <a:lnTo>
                          <a:pt x="45" y="3"/>
                        </a:lnTo>
                        <a:lnTo>
                          <a:pt x="49" y="3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60" y="3"/>
                        </a:lnTo>
                        <a:lnTo>
                          <a:pt x="63" y="3"/>
                        </a:lnTo>
                        <a:lnTo>
                          <a:pt x="68" y="3"/>
                        </a:lnTo>
                        <a:lnTo>
                          <a:pt x="72" y="3"/>
                        </a:lnTo>
                        <a:lnTo>
                          <a:pt x="77" y="3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91" y="1"/>
                        </a:lnTo>
                        <a:lnTo>
                          <a:pt x="95" y="1"/>
                        </a:lnTo>
                        <a:lnTo>
                          <a:pt x="100" y="1"/>
                        </a:lnTo>
                        <a:lnTo>
                          <a:pt x="104" y="1"/>
                        </a:lnTo>
                        <a:lnTo>
                          <a:pt x="109" y="1"/>
                        </a:lnTo>
                        <a:lnTo>
                          <a:pt x="113" y="1"/>
                        </a:lnTo>
                        <a:lnTo>
                          <a:pt x="118" y="1"/>
                        </a:lnTo>
                        <a:lnTo>
                          <a:pt x="123" y="1"/>
                        </a:lnTo>
                        <a:lnTo>
                          <a:pt x="126" y="1"/>
                        </a:lnTo>
                        <a:lnTo>
                          <a:pt x="132" y="1"/>
                        </a:lnTo>
                        <a:lnTo>
                          <a:pt x="135" y="0"/>
                        </a:lnTo>
                        <a:lnTo>
                          <a:pt x="140" y="0"/>
                        </a:lnTo>
                        <a:lnTo>
                          <a:pt x="144" y="0"/>
                        </a:lnTo>
                        <a:lnTo>
                          <a:pt x="149" y="0"/>
                        </a:lnTo>
                        <a:lnTo>
                          <a:pt x="152" y="0"/>
                        </a:lnTo>
                        <a:lnTo>
                          <a:pt x="156" y="0"/>
                        </a:lnTo>
                        <a:lnTo>
                          <a:pt x="161" y="0"/>
                        </a:lnTo>
                        <a:lnTo>
                          <a:pt x="166" y="0"/>
                        </a:lnTo>
                        <a:lnTo>
                          <a:pt x="169" y="0"/>
                        </a:lnTo>
                        <a:lnTo>
                          <a:pt x="173" y="0"/>
                        </a:lnTo>
                        <a:lnTo>
                          <a:pt x="178" y="0"/>
                        </a:lnTo>
                        <a:lnTo>
                          <a:pt x="182" y="0"/>
                        </a:lnTo>
                        <a:lnTo>
                          <a:pt x="185" y="0"/>
                        </a:lnTo>
                        <a:lnTo>
                          <a:pt x="188" y="0"/>
                        </a:lnTo>
                        <a:lnTo>
                          <a:pt x="192" y="0"/>
                        </a:lnTo>
                        <a:lnTo>
                          <a:pt x="196" y="0"/>
                        </a:lnTo>
                        <a:lnTo>
                          <a:pt x="202" y="0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8" y="1"/>
                        </a:lnTo>
                        <a:lnTo>
                          <a:pt x="221" y="1"/>
                        </a:lnTo>
                        <a:lnTo>
                          <a:pt x="225" y="3"/>
                        </a:lnTo>
                        <a:lnTo>
                          <a:pt x="230" y="3"/>
                        </a:lnTo>
                        <a:lnTo>
                          <a:pt x="233" y="5"/>
                        </a:lnTo>
                        <a:lnTo>
                          <a:pt x="234" y="8"/>
                        </a:lnTo>
                        <a:lnTo>
                          <a:pt x="237" y="12"/>
                        </a:lnTo>
                        <a:lnTo>
                          <a:pt x="239" y="16"/>
                        </a:lnTo>
                        <a:lnTo>
                          <a:pt x="240" y="19"/>
                        </a:lnTo>
                        <a:lnTo>
                          <a:pt x="244" y="22"/>
                        </a:lnTo>
                        <a:lnTo>
                          <a:pt x="248" y="2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Freeform 224"/>
                  <p:cNvSpPr/>
                  <p:nvPr/>
                </p:nvSpPr>
                <p:spPr>
                  <a:xfrm>
                    <a:off x="3902400" y="3642480"/>
                    <a:ext cx="4680" cy="72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35" h="8">
                        <a:moveTo>
                          <a:pt x="8" y="1"/>
                        </a:moveTo>
                        <a:lnTo>
                          <a:pt x="0" y="8"/>
                        </a:lnTo>
                        <a:lnTo>
                          <a:pt x="3" y="7"/>
                        </a:lnTo>
                        <a:lnTo>
                          <a:pt x="6" y="6"/>
                        </a:lnTo>
                        <a:lnTo>
                          <a:pt x="9" y="6"/>
                        </a:lnTo>
                        <a:lnTo>
                          <a:pt x="12" y="6"/>
                        </a:lnTo>
                        <a:lnTo>
                          <a:pt x="18" y="6"/>
                        </a:lnTo>
                        <a:lnTo>
                          <a:pt x="23" y="6"/>
                        </a:lnTo>
                        <a:lnTo>
                          <a:pt x="28" y="6"/>
                        </a:lnTo>
                        <a:lnTo>
                          <a:pt x="32" y="6"/>
                        </a:lnTo>
                        <a:lnTo>
                          <a:pt x="35" y="4"/>
                        </a:lnTo>
                        <a:lnTo>
                          <a:pt x="34" y="3"/>
                        </a:lnTo>
                        <a:lnTo>
                          <a:pt x="31" y="3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8" y="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225"/>
                  <p:cNvSpPr/>
                  <p:nvPr/>
                </p:nvSpPr>
                <p:spPr>
                  <a:xfrm>
                    <a:off x="3900600" y="3591000"/>
                    <a:ext cx="37800" cy="180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264" h="14">
                        <a:moveTo>
                          <a:pt x="255" y="7"/>
                        </a:moveTo>
                        <a:lnTo>
                          <a:pt x="258" y="6"/>
                        </a:lnTo>
                        <a:lnTo>
                          <a:pt x="263" y="4"/>
                        </a:lnTo>
                        <a:lnTo>
                          <a:pt x="264" y="0"/>
                        </a:lnTo>
                        <a:lnTo>
                          <a:pt x="263" y="0"/>
                        </a:lnTo>
                        <a:lnTo>
                          <a:pt x="260" y="0"/>
                        </a:lnTo>
                        <a:lnTo>
                          <a:pt x="255" y="0"/>
                        </a:lnTo>
                        <a:lnTo>
                          <a:pt x="252" y="0"/>
                        </a:lnTo>
                        <a:lnTo>
                          <a:pt x="249" y="0"/>
                        </a:lnTo>
                        <a:lnTo>
                          <a:pt x="243" y="0"/>
                        </a:lnTo>
                        <a:lnTo>
                          <a:pt x="235" y="0"/>
                        </a:lnTo>
                        <a:lnTo>
                          <a:pt x="232" y="0"/>
                        </a:lnTo>
                        <a:lnTo>
                          <a:pt x="229" y="0"/>
                        </a:lnTo>
                        <a:lnTo>
                          <a:pt x="225" y="0"/>
                        </a:lnTo>
                        <a:lnTo>
                          <a:pt x="222" y="0"/>
                        </a:lnTo>
                        <a:lnTo>
                          <a:pt x="215" y="0"/>
                        </a:lnTo>
                        <a:lnTo>
                          <a:pt x="209" y="0"/>
                        </a:lnTo>
                        <a:lnTo>
                          <a:pt x="205" y="0"/>
                        </a:lnTo>
                        <a:lnTo>
                          <a:pt x="202" y="0"/>
                        </a:lnTo>
                        <a:lnTo>
                          <a:pt x="199" y="0"/>
                        </a:lnTo>
                        <a:lnTo>
                          <a:pt x="196" y="0"/>
                        </a:lnTo>
                        <a:lnTo>
                          <a:pt x="188" y="0"/>
                        </a:lnTo>
                        <a:lnTo>
                          <a:pt x="182" y="1"/>
                        </a:lnTo>
                        <a:lnTo>
                          <a:pt x="179" y="1"/>
                        </a:lnTo>
                        <a:lnTo>
                          <a:pt x="174" y="1"/>
                        </a:lnTo>
                        <a:lnTo>
                          <a:pt x="171" y="1"/>
                        </a:lnTo>
                        <a:lnTo>
                          <a:pt x="168" y="1"/>
                        </a:lnTo>
                        <a:lnTo>
                          <a:pt x="162" y="1"/>
                        </a:lnTo>
                        <a:lnTo>
                          <a:pt x="156" y="3"/>
                        </a:lnTo>
                        <a:lnTo>
                          <a:pt x="151" y="3"/>
                        </a:lnTo>
                        <a:lnTo>
                          <a:pt x="148" y="3"/>
                        </a:lnTo>
                        <a:lnTo>
                          <a:pt x="145" y="3"/>
                        </a:lnTo>
                        <a:lnTo>
                          <a:pt x="142" y="3"/>
                        </a:lnTo>
                        <a:lnTo>
                          <a:pt x="137" y="3"/>
                        </a:lnTo>
                        <a:lnTo>
                          <a:pt x="134" y="3"/>
                        </a:lnTo>
                        <a:lnTo>
                          <a:pt x="131" y="3"/>
                        </a:lnTo>
                        <a:lnTo>
                          <a:pt x="128" y="4"/>
                        </a:lnTo>
                        <a:lnTo>
                          <a:pt x="124" y="4"/>
                        </a:lnTo>
                        <a:lnTo>
                          <a:pt x="121" y="4"/>
                        </a:lnTo>
                        <a:lnTo>
                          <a:pt x="118" y="4"/>
                        </a:lnTo>
                        <a:lnTo>
                          <a:pt x="114" y="4"/>
                        </a:lnTo>
                        <a:lnTo>
                          <a:pt x="107" y="4"/>
                        </a:lnTo>
                        <a:lnTo>
                          <a:pt x="101" y="4"/>
                        </a:lnTo>
                        <a:lnTo>
                          <a:pt x="98" y="4"/>
                        </a:lnTo>
                        <a:lnTo>
                          <a:pt x="95" y="4"/>
                        </a:lnTo>
                        <a:lnTo>
                          <a:pt x="90" y="4"/>
                        </a:lnTo>
                        <a:lnTo>
                          <a:pt x="87" y="4"/>
                        </a:lnTo>
                        <a:lnTo>
                          <a:pt x="81" y="6"/>
                        </a:lnTo>
                        <a:lnTo>
                          <a:pt x="75" y="6"/>
                        </a:lnTo>
                        <a:lnTo>
                          <a:pt x="67" y="6"/>
                        </a:lnTo>
                        <a:lnTo>
                          <a:pt x="61" y="6"/>
                        </a:lnTo>
                        <a:lnTo>
                          <a:pt x="53" y="7"/>
                        </a:lnTo>
                        <a:lnTo>
                          <a:pt x="47" y="7"/>
                        </a:lnTo>
                        <a:lnTo>
                          <a:pt x="14" y="11"/>
                        </a:lnTo>
                        <a:lnTo>
                          <a:pt x="3" y="11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2"/>
                        </a:lnTo>
                        <a:lnTo>
                          <a:pt x="3" y="12"/>
                        </a:lnTo>
                        <a:lnTo>
                          <a:pt x="6" y="12"/>
                        </a:lnTo>
                        <a:lnTo>
                          <a:pt x="10" y="12"/>
                        </a:lnTo>
                        <a:lnTo>
                          <a:pt x="17" y="12"/>
                        </a:lnTo>
                        <a:lnTo>
                          <a:pt x="23" y="12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3" y="12"/>
                        </a:lnTo>
                        <a:lnTo>
                          <a:pt x="40" y="12"/>
                        </a:lnTo>
                        <a:lnTo>
                          <a:pt x="43" y="12"/>
                        </a:lnTo>
                        <a:lnTo>
                          <a:pt x="47" y="12"/>
                        </a:lnTo>
                        <a:lnTo>
                          <a:pt x="52" y="12"/>
                        </a:lnTo>
                        <a:lnTo>
                          <a:pt x="58" y="12"/>
                        </a:lnTo>
                        <a:lnTo>
                          <a:pt x="61" y="11"/>
                        </a:lnTo>
                        <a:lnTo>
                          <a:pt x="67" y="11"/>
                        </a:lnTo>
                        <a:lnTo>
                          <a:pt x="72" y="11"/>
                        </a:lnTo>
                        <a:lnTo>
                          <a:pt x="78" y="11"/>
                        </a:lnTo>
                        <a:lnTo>
                          <a:pt x="82" y="11"/>
                        </a:lnTo>
                        <a:lnTo>
                          <a:pt x="88" y="11"/>
                        </a:lnTo>
                        <a:lnTo>
                          <a:pt x="95" y="11"/>
                        </a:lnTo>
                        <a:lnTo>
                          <a:pt x="99" y="11"/>
                        </a:lnTo>
                        <a:lnTo>
                          <a:pt x="105" y="11"/>
                        </a:lnTo>
                        <a:lnTo>
                          <a:pt x="111" y="11"/>
                        </a:lnTo>
                        <a:lnTo>
                          <a:pt x="118" y="11"/>
                        </a:lnTo>
                        <a:lnTo>
                          <a:pt x="124" y="11"/>
                        </a:lnTo>
                        <a:lnTo>
                          <a:pt x="130" y="10"/>
                        </a:lnTo>
                        <a:lnTo>
                          <a:pt x="134" y="10"/>
                        </a:lnTo>
                        <a:lnTo>
                          <a:pt x="140" y="10"/>
                        </a:lnTo>
                        <a:lnTo>
                          <a:pt x="147" y="10"/>
                        </a:lnTo>
                        <a:lnTo>
                          <a:pt x="151" y="10"/>
                        </a:lnTo>
                        <a:lnTo>
                          <a:pt x="157" y="10"/>
                        </a:lnTo>
                        <a:lnTo>
                          <a:pt x="163" y="10"/>
                        </a:lnTo>
                        <a:lnTo>
                          <a:pt x="168" y="10"/>
                        </a:lnTo>
                        <a:lnTo>
                          <a:pt x="174" y="10"/>
                        </a:lnTo>
                        <a:lnTo>
                          <a:pt x="179" y="10"/>
                        </a:lnTo>
                        <a:lnTo>
                          <a:pt x="185" y="8"/>
                        </a:lnTo>
                        <a:lnTo>
                          <a:pt x="189" y="8"/>
                        </a:lnTo>
                        <a:lnTo>
                          <a:pt x="194" y="8"/>
                        </a:lnTo>
                        <a:lnTo>
                          <a:pt x="200" y="8"/>
                        </a:lnTo>
                        <a:lnTo>
                          <a:pt x="205" y="8"/>
                        </a:lnTo>
                        <a:lnTo>
                          <a:pt x="209" y="8"/>
                        </a:lnTo>
                        <a:lnTo>
                          <a:pt x="214" y="8"/>
                        </a:lnTo>
                        <a:lnTo>
                          <a:pt x="218" y="8"/>
                        </a:lnTo>
                        <a:lnTo>
                          <a:pt x="222" y="8"/>
                        </a:lnTo>
                        <a:lnTo>
                          <a:pt x="226" y="8"/>
                        </a:lnTo>
                        <a:lnTo>
                          <a:pt x="229" y="7"/>
                        </a:lnTo>
                        <a:lnTo>
                          <a:pt x="232" y="7"/>
                        </a:lnTo>
                        <a:lnTo>
                          <a:pt x="235" y="7"/>
                        </a:lnTo>
                        <a:lnTo>
                          <a:pt x="240" y="7"/>
                        </a:lnTo>
                        <a:lnTo>
                          <a:pt x="245" y="7"/>
                        </a:lnTo>
                        <a:lnTo>
                          <a:pt x="249" y="7"/>
                        </a:lnTo>
                        <a:lnTo>
                          <a:pt x="254" y="7"/>
                        </a:lnTo>
                        <a:lnTo>
                          <a:pt x="255" y="7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56" name="AutoShape 226"/>
                <p:cNvCxnSpPr/>
                <p:nvPr/>
              </p:nvCxnSpPr>
              <p:spPr>
                <a:xfrm>
                  <a:off x="4418280" y="3681720"/>
                  <a:ext cx="108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grpSp>
              <p:nvGrpSpPr>
                <p:cNvPr id="557" name="Group 227"/>
                <p:cNvGrpSpPr/>
                <p:nvPr/>
              </p:nvGrpSpPr>
              <p:grpSpPr>
                <a:xfrm>
                  <a:off x="4306680" y="3461400"/>
                  <a:ext cx="270720" cy="195840"/>
                  <a:chOff x="4306680" y="3461400"/>
                  <a:chExt cx="270720" cy="195840"/>
                </a:xfrm>
              </p:grpSpPr>
              <p:sp>
                <p:nvSpPr>
                  <p:cNvPr id="558" name="Freeform 228"/>
                  <p:cNvSpPr/>
                  <p:nvPr/>
                </p:nvSpPr>
                <p:spPr>
                  <a:xfrm>
                    <a:off x="4368960" y="3512520"/>
                    <a:ext cx="86760" cy="4320"/>
                  </a:xfrm>
                  <a:custGeom>
                    <a:avLst/>
                    <a:gdLst>
                      <a:gd name="textAreaLeft" fmla="*/ 0 w 86760"/>
                      <a:gd name="textAreaRight" fmla="*/ 86760 w 8676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601" h="34">
                        <a:moveTo>
                          <a:pt x="9" y="0"/>
                        </a:move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35" y="0"/>
                        </a:lnTo>
                        <a:lnTo>
                          <a:pt x="45" y="1"/>
                        </a:lnTo>
                        <a:lnTo>
                          <a:pt x="54" y="1"/>
                        </a:lnTo>
                        <a:lnTo>
                          <a:pt x="63" y="1"/>
                        </a:lnTo>
                        <a:lnTo>
                          <a:pt x="71" y="3"/>
                        </a:lnTo>
                        <a:lnTo>
                          <a:pt x="81" y="3"/>
                        </a:lnTo>
                        <a:lnTo>
                          <a:pt x="89" y="3"/>
                        </a:lnTo>
                        <a:lnTo>
                          <a:pt x="98" y="3"/>
                        </a:lnTo>
                        <a:lnTo>
                          <a:pt x="106" y="4"/>
                        </a:lnTo>
                        <a:lnTo>
                          <a:pt x="117" y="4"/>
                        </a:lnTo>
                        <a:lnTo>
                          <a:pt x="124" y="4"/>
                        </a:lnTo>
                        <a:lnTo>
                          <a:pt x="133" y="4"/>
                        </a:lnTo>
                        <a:lnTo>
                          <a:pt x="143" y="4"/>
                        </a:lnTo>
                        <a:lnTo>
                          <a:pt x="152" y="5"/>
                        </a:lnTo>
                        <a:lnTo>
                          <a:pt x="159" y="5"/>
                        </a:lnTo>
                        <a:lnTo>
                          <a:pt x="169" y="5"/>
                        </a:lnTo>
                        <a:lnTo>
                          <a:pt x="178" y="5"/>
                        </a:lnTo>
                        <a:lnTo>
                          <a:pt x="187" y="5"/>
                        </a:lnTo>
                        <a:lnTo>
                          <a:pt x="195" y="5"/>
                        </a:lnTo>
                        <a:lnTo>
                          <a:pt x="204" y="5"/>
                        </a:lnTo>
                        <a:lnTo>
                          <a:pt x="213" y="5"/>
                        </a:lnTo>
                        <a:lnTo>
                          <a:pt x="222" y="7"/>
                        </a:lnTo>
                        <a:lnTo>
                          <a:pt x="230" y="7"/>
                        </a:lnTo>
                        <a:lnTo>
                          <a:pt x="239" y="7"/>
                        </a:lnTo>
                        <a:lnTo>
                          <a:pt x="248" y="7"/>
                        </a:lnTo>
                        <a:lnTo>
                          <a:pt x="257" y="7"/>
                        </a:lnTo>
                        <a:lnTo>
                          <a:pt x="266" y="7"/>
                        </a:lnTo>
                        <a:lnTo>
                          <a:pt x="274" y="7"/>
                        </a:lnTo>
                        <a:lnTo>
                          <a:pt x="283" y="7"/>
                        </a:lnTo>
                        <a:lnTo>
                          <a:pt x="292" y="7"/>
                        </a:lnTo>
                        <a:lnTo>
                          <a:pt x="302" y="7"/>
                        </a:lnTo>
                        <a:lnTo>
                          <a:pt x="309" y="7"/>
                        </a:lnTo>
                        <a:lnTo>
                          <a:pt x="318" y="7"/>
                        </a:lnTo>
                        <a:lnTo>
                          <a:pt x="328" y="7"/>
                        </a:lnTo>
                        <a:lnTo>
                          <a:pt x="335" y="7"/>
                        </a:lnTo>
                        <a:lnTo>
                          <a:pt x="344" y="7"/>
                        </a:lnTo>
                        <a:lnTo>
                          <a:pt x="354" y="7"/>
                        </a:lnTo>
                        <a:lnTo>
                          <a:pt x="363" y="7"/>
                        </a:lnTo>
                        <a:lnTo>
                          <a:pt x="370" y="7"/>
                        </a:lnTo>
                        <a:lnTo>
                          <a:pt x="380" y="7"/>
                        </a:lnTo>
                        <a:lnTo>
                          <a:pt x="389" y="7"/>
                        </a:lnTo>
                        <a:lnTo>
                          <a:pt x="396" y="7"/>
                        </a:lnTo>
                        <a:lnTo>
                          <a:pt x="406" y="7"/>
                        </a:lnTo>
                        <a:lnTo>
                          <a:pt x="415" y="7"/>
                        </a:lnTo>
                        <a:lnTo>
                          <a:pt x="424" y="7"/>
                        </a:lnTo>
                        <a:lnTo>
                          <a:pt x="433" y="8"/>
                        </a:lnTo>
                        <a:lnTo>
                          <a:pt x="441" y="7"/>
                        </a:lnTo>
                        <a:lnTo>
                          <a:pt x="450" y="7"/>
                        </a:lnTo>
                        <a:lnTo>
                          <a:pt x="459" y="7"/>
                        </a:lnTo>
                        <a:lnTo>
                          <a:pt x="468" y="7"/>
                        </a:lnTo>
                        <a:lnTo>
                          <a:pt x="476" y="7"/>
                        </a:lnTo>
                        <a:lnTo>
                          <a:pt x="485" y="7"/>
                        </a:lnTo>
                        <a:lnTo>
                          <a:pt x="493" y="7"/>
                        </a:lnTo>
                        <a:lnTo>
                          <a:pt x="504" y="7"/>
                        </a:lnTo>
                        <a:lnTo>
                          <a:pt x="511" y="7"/>
                        </a:lnTo>
                        <a:lnTo>
                          <a:pt x="520" y="7"/>
                        </a:lnTo>
                        <a:lnTo>
                          <a:pt x="528" y="7"/>
                        </a:lnTo>
                        <a:lnTo>
                          <a:pt x="537" y="7"/>
                        </a:lnTo>
                        <a:lnTo>
                          <a:pt x="546" y="7"/>
                        </a:lnTo>
                        <a:lnTo>
                          <a:pt x="556" y="7"/>
                        </a:lnTo>
                        <a:lnTo>
                          <a:pt x="565" y="7"/>
                        </a:lnTo>
                        <a:lnTo>
                          <a:pt x="574" y="7"/>
                        </a:lnTo>
                        <a:lnTo>
                          <a:pt x="577" y="7"/>
                        </a:lnTo>
                        <a:lnTo>
                          <a:pt x="580" y="8"/>
                        </a:lnTo>
                        <a:lnTo>
                          <a:pt x="583" y="9"/>
                        </a:lnTo>
                        <a:lnTo>
                          <a:pt x="588" y="9"/>
                        </a:lnTo>
                        <a:lnTo>
                          <a:pt x="591" y="11"/>
                        </a:lnTo>
                        <a:lnTo>
                          <a:pt x="594" y="12"/>
                        </a:lnTo>
                        <a:lnTo>
                          <a:pt x="597" y="12"/>
                        </a:lnTo>
                        <a:lnTo>
                          <a:pt x="601" y="14"/>
                        </a:lnTo>
                        <a:lnTo>
                          <a:pt x="600" y="18"/>
                        </a:lnTo>
                        <a:lnTo>
                          <a:pt x="597" y="23"/>
                        </a:lnTo>
                        <a:lnTo>
                          <a:pt x="595" y="27"/>
                        </a:lnTo>
                        <a:lnTo>
                          <a:pt x="594" y="31"/>
                        </a:lnTo>
                        <a:lnTo>
                          <a:pt x="585" y="31"/>
                        </a:lnTo>
                        <a:lnTo>
                          <a:pt x="579" y="31"/>
                        </a:lnTo>
                        <a:lnTo>
                          <a:pt x="569" y="31"/>
                        </a:lnTo>
                        <a:lnTo>
                          <a:pt x="562" y="31"/>
                        </a:lnTo>
                        <a:lnTo>
                          <a:pt x="554" y="31"/>
                        </a:lnTo>
                        <a:lnTo>
                          <a:pt x="546" y="31"/>
                        </a:lnTo>
                        <a:lnTo>
                          <a:pt x="539" y="31"/>
                        </a:lnTo>
                        <a:lnTo>
                          <a:pt x="531" y="33"/>
                        </a:lnTo>
                        <a:lnTo>
                          <a:pt x="523" y="33"/>
                        </a:lnTo>
                        <a:lnTo>
                          <a:pt x="516" y="33"/>
                        </a:lnTo>
                        <a:lnTo>
                          <a:pt x="508" y="33"/>
                        </a:lnTo>
                        <a:lnTo>
                          <a:pt x="501" y="33"/>
                        </a:lnTo>
                        <a:lnTo>
                          <a:pt x="493" y="33"/>
                        </a:lnTo>
                        <a:lnTo>
                          <a:pt x="485" y="33"/>
                        </a:lnTo>
                        <a:lnTo>
                          <a:pt x="478" y="33"/>
                        </a:lnTo>
                        <a:lnTo>
                          <a:pt x="470" y="33"/>
                        </a:lnTo>
                        <a:lnTo>
                          <a:pt x="462" y="33"/>
                        </a:lnTo>
                        <a:lnTo>
                          <a:pt x="455" y="33"/>
                        </a:lnTo>
                        <a:lnTo>
                          <a:pt x="447" y="33"/>
                        </a:lnTo>
                        <a:lnTo>
                          <a:pt x="439" y="33"/>
                        </a:lnTo>
                        <a:lnTo>
                          <a:pt x="432" y="33"/>
                        </a:lnTo>
                        <a:lnTo>
                          <a:pt x="424" y="33"/>
                        </a:lnTo>
                        <a:lnTo>
                          <a:pt x="416" y="33"/>
                        </a:lnTo>
                        <a:lnTo>
                          <a:pt x="409" y="33"/>
                        </a:lnTo>
                        <a:lnTo>
                          <a:pt x="401" y="33"/>
                        </a:lnTo>
                        <a:lnTo>
                          <a:pt x="393" y="33"/>
                        </a:lnTo>
                        <a:lnTo>
                          <a:pt x="386" y="33"/>
                        </a:lnTo>
                        <a:lnTo>
                          <a:pt x="378" y="33"/>
                        </a:lnTo>
                        <a:lnTo>
                          <a:pt x="370" y="33"/>
                        </a:lnTo>
                        <a:lnTo>
                          <a:pt x="363" y="33"/>
                        </a:lnTo>
                        <a:lnTo>
                          <a:pt x="357" y="33"/>
                        </a:lnTo>
                        <a:lnTo>
                          <a:pt x="349" y="34"/>
                        </a:lnTo>
                        <a:lnTo>
                          <a:pt x="340" y="33"/>
                        </a:lnTo>
                        <a:lnTo>
                          <a:pt x="332" y="33"/>
                        </a:lnTo>
                        <a:lnTo>
                          <a:pt x="325" y="33"/>
                        </a:lnTo>
                        <a:lnTo>
                          <a:pt x="318" y="33"/>
                        </a:lnTo>
                        <a:lnTo>
                          <a:pt x="309" y="33"/>
                        </a:lnTo>
                        <a:lnTo>
                          <a:pt x="302" y="33"/>
                        </a:lnTo>
                        <a:lnTo>
                          <a:pt x="294" y="33"/>
                        </a:lnTo>
                        <a:lnTo>
                          <a:pt x="288" y="33"/>
                        </a:lnTo>
                        <a:lnTo>
                          <a:pt x="279" y="31"/>
                        </a:lnTo>
                        <a:lnTo>
                          <a:pt x="271" y="31"/>
                        </a:lnTo>
                        <a:lnTo>
                          <a:pt x="263" y="31"/>
                        </a:lnTo>
                        <a:lnTo>
                          <a:pt x="257" y="31"/>
                        </a:lnTo>
                        <a:lnTo>
                          <a:pt x="248" y="31"/>
                        </a:lnTo>
                        <a:lnTo>
                          <a:pt x="240" y="31"/>
                        </a:lnTo>
                        <a:lnTo>
                          <a:pt x="233" y="31"/>
                        </a:lnTo>
                        <a:lnTo>
                          <a:pt x="225" y="31"/>
                        </a:lnTo>
                        <a:lnTo>
                          <a:pt x="218" y="31"/>
                        </a:lnTo>
                        <a:lnTo>
                          <a:pt x="210" y="31"/>
                        </a:lnTo>
                        <a:lnTo>
                          <a:pt x="202" y="31"/>
                        </a:lnTo>
                        <a:lnTo>
                          <a:pt x="195" y="31"/>
                        </a:lnTo>
                        <a:lnTo>
                          <a:pt x="187" y="30"/>
                        </a:lnTo>
                        <a:lnTo>
                          <a:pt x="179" y="30"/>
                        </a:lnTo>
                        <a:lnTo>
                          <a:pt x="172" y="30"/>
                        </a:lnTo>
                        <a:lnTo>
                          <a:pt x="164" y="30"/>
                        </a:lnTo>
                        <a:lnTo>
                          <a:pt x="156" y="30"/>
                        </a:lnTo>
                        <a:lnTo>
                          <a:pt x="149" y="30"/>
                        </a:lnTo>
                        <a:lnTo>
                          <a:pt x="141" y="30"/>
                        </a:lnTo>
                        <a:lnTo>
                          <a:pt x="133" y="30"/>
                        </a:lnTo>
                        <a:lnTo>
                          <a:pt x="126" y="29"/>
                        </a:lnTo>
                        <a:lnTo>
                          <a:pt x="120" y="29"/>
                        </a:lnTo>
                        <a:lnTo>
                          <a:pt x="112" y="29"/>
                        </a:lnTo>
                        <a:lnTo>
                          <a:pt x="104" y="29"/>
                        </a:lnTo>
                        <a:lnTo>
                          <a:pt x="100" y="27"/>
                        </a:lnTo>
                        <a:lnTo>
                          <a:pt x="97" y="27"/>
                        </a:lnTo>
                        <a:lnTo>
                          <a:pt x="92" y="26"/>
                        </a:lnTo>
                        <a:lnTo>
                          <a:pt x="89" y="26"/>
                        </a:lnTo>
                        <a:lnTo>
                          <a:pt x="83" y="26"/>
                        </a:lnTo>
                        <a:lnTo>
                          <a:pt x="77" y="26"/>
                        </a:lnTo>
                        <a:lnTo>
                          <a:pt x="72" y="26"/>
                        </a:lnTo>
                        <a:lnTo>
                          <a:pt x="69" y="26"/>
                        </a:lnTo>
                        <a:lnTo>
                          <a:pt x="65" y="26"/>
                        </a:lnTo>
                        <a:lnTo>
                          <a:pt x="61" y="27"/>
                        </a:lnTo>
                        <a:lnTo>
                          <a:pt x="55" y="27"/>
                        </a:lnTo>
                        <a:lnTo>
                          <a:pt x="49" y="29"/>
                        </a:lnTo>
                        <a:lnTo>
                          <a:pt x="45" y="29"/>
                        </a:lnTo>
                        <a:lnTo>
                          <a:pt x="42" y="29"/>
                        </a:lnTo>
                        <a:lnTo>
                          <a:pt x="39" y="29"/>
                        </a:lnTo>
                        <a:lnTo>
                          <a:pt x="35" y="29"/>
                        </a:lnTo>
                        <a:lnTo>
                          <a:pt x="28" y="29"/>
                        </a:lnTo>
                        <a:lnTo>
                          <a:pt x="23" y="27"/>
                        </a:lnTo>
                        <a:lnTo>
                          <a:pt x="17" y="25"/>
                        </a:lnTo>
                        <a:lnTo>
                          <a:pt x="11" y="23"/>
                        </a:lnTo>
                        <a:lnTo>
                          <a:pt x="5" y="19"/>
                        </a:lnTo>
                        <a:lnTo>
                          <a:pt x="0" y="16"/>
                        </a:lnTo>
                        <a:lnTo>
                          <a:pt x="3" y="11"/>
                        </a:lnTo>
                        <a:lnTo>
                          <a:pt x="6" y="7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229"/>
                  <p:cNvSpPr/>
                  <p:nvPr/>
                </p:nvSpPr>
                <p:spPr>
                  <a:xfrm>
                    <a:off x="4449240" y="3485520"/>
                    <a:ext cx="36000" cy="2556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249" h="195">
                        <a:moveTo>
                          <a:pt x="5" y="0"/>
                        </a:moveTo>
                        <a:lnTo>
                          <a:pt x="8" y="2"/>
                        </a:lnTo>
                        <a:lnTo>
                          <a:pt x="12" y="3"/>
                        </a:lnTo>
                        <a:lnTo>
                          <a:pt x="15" y="6"/>
                        </a:lnTo>
                        <a:lnTo>
                          <a:pt x="20" y="9"/>
                        </a:lnTo>
                        <a:lnTo>
                          <a:pt x="25" y="10"/>
                        </a:lnTo>
                        <a:lnTo>
                          <a:pt x="28" y="13"/>
                        </a:lnTo>
                        <a:lnTo>
                          <a:pt x="32" y="14"/>
                        </a:lnTo>
                        <a:lnTo>
                          <a:pt x="37" y="17"/>
                        </a:lnTo>
                        <a:lnTo>
                          <a:pt x="40" y="20"/>
                        </a:lnTo>
                        <a:lnTo>
                          <a:pt x="44" y="21"/>
                        </a:lnTo>
                        <a:lnTo>
                          <a:pt x="47" y="24"/>
                        </a:lnTo>
                        <a:lnTo>
                          <a:pt x="52" y="26"/>
                        </a:lnTo>
                        <a:lnTo>
                          <a:pt x="57" y="28"/>
                        </a:lnTo>
                        <a:lnTo>
                          <a:pt x="60" y="32"/>
                        </a:lnTo>
                        <a:lnTo>
                          <a:pt x="64" y="33"/>
                        </a:lnTo>
                        <a:lnTo>
                          <a:pt x="69" y="36"/>
                        </a:lnTo>
                        <a:lnTo>
                          <a:pt x="72" y="39"/>
                        </a:lnTo>
                        <a:lnTo>
                          <a:pt x="77" y="41"/>
                        </a:lnTo>
                        <a:lnTo>
                          <a:pt x="80" y="44"/>
                        </a:lnTo>
                        <a:lnTo>
                          <a:pt x="84" y="47"/>
                        </a:lnTo>
                        <a:lnTo>
                          <a:pt x="87" y="48"/>
                        </a:lnTo>
                        <a:lnTo>
                          <a:pt x="92" y="51"/>
                        </a:lnTo>
                        <a:lnTo>
                          <a:pt x="95" y="54"/>
                        </a:lnTo>
                        <a:lnTo>
                          <a:pt x="99" y="57"/>
                        </a:lnTo>
                        <a:lnTo>
                          <a:pt x="104" y="59"/>
                        </a:lnTo>
                        <a:lnTo>
                          <a:pt x="107" y="62"/>
                        </a:lnTo>
                        <a:lnTo>
                          <a:pt x="110" y="65"/>
                        </a:lnTo>
                        <a:lnTo>
                          <a:pt x="115" y="68"/>
                        </a:lnTo>
                        <a:lnTo>
                          <a:pt x="118" y="70"/>
                        </a:lnTo>
                        <a:lnTo>
                          <a:pt x="122" y="73"/>
                        </a:lnTo>
                        <a:lnTo>
                          <a:pt x="125" y="76"/>
                        </a:lnTo>
                        <a:lnTo>
                          <a:pt x="130" y="80"/>
                        </a:lnTo>
                        <a:lnTo>
                          <a:pt x="135" y="81"/>
                        </a:lnTo>
                        <a:lnTo>
                          <a:pt x="138" y="84"/>
                        </a:lnTo>
                        <a:lnTo>
                          <a:pt x="141" y="88"/>
                        </a:lnTo>
                        <a:lnTo>
                          <a:pt x="145" y="91"/>
                        </a:lnTo>
                        <a:lnTo>
                          <a:pt x="148" y="94"/>
                        </a:lnTo>
                        <a:lnTo>
                          <a:pt x="153" y="96"/>
                        </a:lnTo>
                        <a:lnTo>
                          <a:pt x="156" y="99"/>
                        </a:lnTo>
                        <a:lnTo>
                          <a:pt x="161" y="103"/>
                        </a:lnTo>
                        <a:lnTo>
                          <a:pt x="164" y="106"/>
                        </a:lnTo>
                        <a:lnTo>
                          <a:pt x="168" y="109"/>
                        </a:lnTo>
                        <a:lnTo>
                          <a:pt x="171" y="111"/>
                        </a:lnTo>
                        <a:lnTo>
                          <a:pt x="176" y="114"/>
                        </a:lnTo>
                        <a:lnTo>
                          <a:pt x="179" y="117"/>
                        </a:lnTo>
                        <a:lnTo>
                          <a:pt x="184" y="120"/>
                        </a:lnTo>
                        <a:lnTo>
                          <a:pt x="187" y="124"/>
                        </a:lnTo>
                        <a:lnTo>
                          <a:pt x="190" y="127"/>
                        </a:lnTo>
                        <a:lnTo>
                          <a:pt x="193" y="129"/>
                        </a:lnTo>
                        <a:lnTo>
                          <a:pt x="197" y="132"/>
                        </a:lnTo>
                        <a:lnTo>
                          <a:pt x="200" y="135"/>
                        </a:lnTo>
                        <a:lnTo>
                          <a:pt x="205" y="139"/>
                        </a:lnTo>
                        <a:lnTo>
                          <a:pt x="208" y="142"/>
                        </a:lnTo>
                        <a:lnTo>
                          <a:pt x="213" y="144"/>
                        </a:lnTo>
                        <a:lnTo>
                          <a:pt x="216" y="149"/>
                        </a:lnTo>
                        <a:lnTo>
                          <a:pt x="220" y="151"/>
                        </a:lnTo>
                        <a:lnTo>
                          <a:pt x="223" y="154"/>
                        </a:lnTo>
                        <a:lnTo>
                          <a:pt x="226" y="158"/>
                        </a:lnTo>
                        <a:lnTo>
                          <a:pt x="231" y="161"/>
                        </a:lnTo>
                        <a:lnTo>
                          <a:pt x="234" y="164"/>
                        </a:lnTo>
                        <a:lnTo>
                          <a:pt x="239" y="168"/>
                        </a:lnTo>
                        <a:lnTo>
                          <a:pt x="242" y="171"/>
                        </a:lnTo>
                        <a:lnTo>
                          <a:pt x="246" y="173"/>
                        </a:lnTo>
                        <a:lnTo>
                          <a:pt x="249" y="177"/>
                        </a:lnTo>
                        <a:lnTo>
                          <a:pt x="246" y="180"/>
                        </a:lnTo>
                        <a:lnTo>
                          <a:pt x="245" y="186"/>
                        </a:lnTo>
                        <a:lnTo>
                          <a:pt x="240" y="190"/>
                        </a:lnTo>
                        <a:lnTo>
                          <a:pt x="239" y="195"/>
                        </a:lnTo>
                        <a:lnTo>
                          <a:pt x="234" y="192"/>
                        </a:lnTo>
                        <a:lnTo>
                          <a:pt x="231" y="191"/>
                        </a:lnTo>
                        <a:lnTo>
                          <a:pt x="226" y="188"/>
                        </a:lnTo>
                        <a:lnTo>
                          <a:pt x="222" y="187"/>
                        </a:lnTo>
                        <a:lnTo>
                          <a:pt x="219" y="184"/>
                        </a:lnTo>
                        <a:lnTo>
                          <a:pt x="214" y="183"/>
                        </a:lnTo>
                        <a:lnTo>
                          <a:pt x="211" y="180"/>
                        </a:lnTo>
                        <a:lnTo>
                          <a:pt x="207" y="177"/>
                        </a:lnTo>
                        <a:lnTo>
                          <a:pt x="203" y="175"/>
                        </a:lnTo>
                        <a:lnTo>
                          <a:pt x="200" y="173"/>
                        </a:lnTo>
                        <a:lnTo>
                          <a:pt x="196" y="171"/>
                        </a:lnTo>
                        <a:lnTo>
                          <a:pt x="193" y="168"/>
                        </a:lnTo>
                        <a:lnTo>
                          <a:pt x="188" y="165"/>
                        </a:lnTo>
                        <a:lnTo>
                          <a:pt x="185" y="162"/>
                        </a:lnTo>
                        <a:lnTo>
                          <a:pt x="181" y="160"/>
                        </a:lnTo>
                        <a:lnTo>
                          <a:pt x="177" y="158"/>
                        </a:lnTo>
                        <a:lnTo>
                          <a:pt x="174" y="154"/>
                        </a:lnTo>
                        <a:lnTo>
                          <a:pt x="170" y="151"/>
                        </a:lnTo>
                        <a:lnTo>
                          <a:pt x="167" y="149"/>
                        </a:lnTo>
                        <a:lnTo>
                          <a:pt x="162" y="146"/>
                        </a:lnTo>
                        <a:lnTo>
                          <a:pt x="159" y="143"/>
                        </a:lnTo>
                        <a:lnTo>
                          <a:pt x="156" y="140"/>
                        </a:lnTo>
                        <a:lnTo>
                          <a:pt x="151" y="138"/>
                        </a:lnTo>
                        <a:lnTo>
                          <a:pt x="148" y="135"/>
                        </a:lnTo>
                        <a:lnTo>
                          <a:pt x="145" y="131"/>
                        </a:lnTo>
                        <a:lnTo>
                          <a:pt x="141" y="128"/>
                        </a:lnTo>
                        <a:lnTo>
                          <a:pt x="138" y="125"/>
                        </a:lnTo>
                        <a:lnTo>
                          <a:pt x="135" y="124"/>
                        </a:lnTo>
                        <a:lnTo>
                          <a:pt x="132" y="120"/>
                        </a:lnTo>
                        <a:lnTo>
                          <a:pt x="127" y="117"/>
                        </a:lnTo>
                        <a:lnTo>
                          <a:pt x="124" y="114"/>
                        </a:lnTo>
                        <a:lnTo>
                          <a:pt x="121" y="113"/>
                        </a:lnTo>
                        <a:lnTo>
                          <a:pt x="118" y="109"/>
                        </a:lnTo>
                        <a:lnTo>
                          <a:pt x="113" y="106"/>
                        </a:lnTo>
                        <a:lnTo>
                          <a:pt x="110" y="103"/>
                        </a:lnTo>
                        <a:lnTo>
                          <a:pt x="107" y="101"/>
                        </a:lnTo>
                        <a:lnTo>
                          <a:pt x="104" y="96"/>
                        </a:lnTo>
                        <a:lnTo>
                          <a:pt x="99" y="94"/>
                        </a:lnTo>
                        <a:lnTo>
                          <a:pt x="96" y="91"/>
                        </a:lnTo>
                        <a:lnTo>
                          <a:pt x="93" y="88"/>
                        </a:lnTo>
                        <a:lnTo>
                          <a:pt x="89" y="85"/>
                        </a:lnTo>
                        <a:lnTo>
                          <a:pt x="86" y="83"/>
                        </a:lnTo>
                        <a:lnTo>
                          <a:pt x="81" y="80"/>
                        </a:lnTo>
                        <a:lnTo>
                          <a:pt x="78" y="77"/>
                        </a:lnTo>
                        <a:lnTo>
                          <a:pt x="75" y="74"/>
                        </a:lnTo>
                        <a:lnTo>
                          <a:pt x="72" y="72"/>
                        </a:lnTo>
                        <a:lnTo>
                          <a:pt x="67" y="69"/>
                        </a:lnTo>
                        <a:lnTo>
                          <a:pt x="64" y="68"/>
                        </a:lnTo>
                        <a:lnTo>
                          <a:pt x="61" y="63"/>
                        </a:lnTo>
                        <a:lnTo>
                          <a:pt x="57" y="62"/>
                        </a:lnTo>
                        <a:lnTo>
                          <a:pt x="54" y="59"/>
                        </a:lnTo>
                        <a:lnTo>
                          <a:pt x="49" y="57"/>
                        </a:lnTo>
                        <a:lnTo>
                          <a:pt x="46" y="54"/>
                        </a:lnTo>
                        <a:lnTo>
                          <a:pt x="43" y="52"/>
                        </a:lnTo>
                        <a:lnTo>
                          <a:pt x="38" y="50"/>
                        </a:lnTo>
                        <a:lnTo>
                          <a:pt x="35" y="47"/>
                        </a:lnTo>
                        <a:lnTo>
                          <a:pt x="31" y="46"/>
                        </a:lnTo>
                        <a:lnTo>
                          <a:pt x="28" y="43"/>
                        </a:lnTo>
                        <a:lnTo>
                          <a:pt x="23" y="40"/>
                        </a:lnTo>
                        <a:lnTo>
                          <a:pt x="20" y="39"/>
                        </a:lnTo>
                        <a:lnTo>
                          <a:pt x="15" y="37"/>
                        </a:lnTo>
                        <a:lnTo>
                          <a:pt x="12" y="36"/>
                        </a:lnTo>
                        <a:lnTo>
                          <a:pt x="8" y="35"/>
                        </a:lnTo>
                        <a:lnTo>
                          <a:pt x="5" y="32"/>
                        </a:lnTo>
                        <a:lnTo>
                          <a:pt x="3" y="28"/>
                        </a:lnTo>
                        <a:lnTo>
                          <a:pt x="2" y="25"/>
                        </a:ln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2" y="6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230"/>
                  <p:cNvSpPr/>
                  <p:nvPr/>
                </p:nvSpPr>
                <p:spPr>
                  <a:xfrm>
                    <a:off x="4453560" y="3525480"/>
                    <a:ext cx="6840" cy="6192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49" h="474">
                        <a:moveTo>
                          <a:pt x="9" y="0"/>
                        </a:moveTo>
                        <a:lnTo>
                          <a:pt x="12" y="3"/>
                        </a:lnTo>
                        <a:lnTo>
                          <a:pt x="15" y="6"/>
                        </a:lnTo>
                        <a:lnTo>
                          <a:pt x="16" y="8"/>
                        </a:lnTo>
                        <a:lnTo>
                          <a:pt x="19" y="12"/>
                        </a:lnTo>
                        <a:lnTo>
                          <a:pt x="21" y="17"/>
                        </a:lnTo>
                        <a:lnTo>
                          <a:pt x="23" y="21"/>
                        </a:lnTo>
                        <a:lnTo>
                          <a:pt x="24" y="25"/>
                        </a:lnTo>
                        <a:lnTo>
                          <a:pt x="26" y="30"/>
                        </a:lnTo>
                        <a:lnTo>
                          <a:pt x="27" y="33"/>
                        </a:lnTo>
                        <a:lnTo>
                          <a:pt x="27" y="38"/>
                        </a:lnTo>
                        <a:lnTo>
                          <a:pt x="29" y="43"/>
                        </a:lnTo>
                        <a:lnTo>
                          <a:pt x="29" y="47"/>
                        </a:lnTo>
                        <a:lnTo>
                          <a:pt x="29" y="52"/>
                        </a:lnTo>
                        <a:lnTo>
                          <a:pt x="30" y="56"/>
                        </a:lnTo>
                        <a:lnTo>
                          <a:pt x="30" y="62"/>
                        </a:lnTo>
                        <a:lnTo>
                          <a:pt x="30" y="67"/>
                        </a:lnTo>
                        <a:lnTo>
                          <a:pt x="30" y="71"/>
                        </a:lnTo>
                        <a:lnTo>
                          <a:pt x="30" y="77"/>
                        </a:lnTo>
                        <a:lnTo>
                          <a:pt x="30" y="81"/>
                        </a:lnTo>
                        <a:lnTo>
                          <a:pt x="30" y="87"/>
                        </a:lnTo>
                        <a:lnTo>
                          <a:pt x="30" y="92"/>
                        </a:lnTo>
                        <a:lnTo>
                          <a:pt x="30" y="96"/>
                        </a:lnTo>
                        <a:lnTo>
                          <a:pt x="30" y="102"/>
                        </a:lnTo>
                        <a:lnTo>
                          <a:pt x="30" y="107"/>
                        </a:lnTo>
                        <a:lnTo>
                          <a:pt x="30" y="111"/>
                        </a:lnTo>
                        <a:lnTo>
                          <a:pt x="30" y="117"/>
                        </a:lnTo>
                        <a:lnTo>
                          <a:pt x="30" y="121"/>
                        </a:lnTo>
                        <a:lnTo>
                          <a:pt x="32" y="126"/>
                        </a:lnTo>
                        <a:lnTo>
                          <a:pt x="32" y="130"/>
                        </a:lnTo>
                        <a:lnTo>
                          <a:pt x="32" y="136"/>
                        </a:lnTo>
                        <a:lnTo>
                          <a:pt x="33" y="140"/>
                        </a:lnTo>
                        <a:lnTo>
                          <a:pt x="35" y="146"/>
                        </a:lnTo>
                        <a:lnTo>
                          <a:pt x="35" y="150"/>
                        </a:lnTo>
                        <a:lnTo>
                          <a:pt x="35" y="154"/>
                        </a:lnTo>
                        <a:lnTo>
                          <a:pt x="35" y="159"/>
                        </a:lnTo>
                        <a:lnTo>
                          <a:pt x="36" y="165"/>
                        </a:lnTo>
                        <a:lnTo>
                          <a:pt x="36" y="169"/>
                        </a:lnTo>
                        <a:lnTo>
                          <a:pt x="36" y="174"/>
                        </a:lnTo>
                        <a:lnTo>
                          <a:pt x="36" y="178"/>
                        </a:lnTo>
                        <a:lnTo>
                          <a:pt x="38" y="184"/>
                        </a:lnTo>
                        <a:lnTo>
                          <a:pt x="38" y="189"/>
                        </a:lnTo>
                        <a:lnTo>
                          <a:pt x="38" y="195"/>
                        </a:lnTo>
                        <a:lnTo>
                          <a:pt x="38" y="199"/>
                        </a:lnTo>
                        <a:lnTo>
                          <a:pt x="38" y="205"/>
                        </a:lnTo>
                        <a:lnTo>
                          <a:pt x="38" y="210"/>
                        </a:lnTo>
                        <a:lnTo>
                          <a:pt x="39" y="214"/>
                        </a:lnTo>
                        <a:lnTo>
                          <a:pt x="39" y="220"/>
                        </a:lnTo>
                        <a:lnTo>
                          <a:pt x="41" y="225"/>
                        </a:lnTo>
                        <a:lnTo>
                          <a:pt x="41" y="229"/>
                        </a:lnTo>
                        <a:lnTo>
                          <a:pt x="41" y="235"/>
                        </a:lnTo>
                        <a:lnTo>
                          <a:pt x="41" y="239"/>
                        </a:lnTo>
                        <a:lnTo>
                          <a:pt x="42" y="244"/>
                        </a:lnTo>
                        <a:lnTo>
                          <a:pt x="42" y="250"/>
                        </a:lnTo>
                        <a:lnTo>
                          <a:pt x="42" y="254"/>
                        </a:lnTo>
                        <a:lnTo>
                          <a:pt x="42" y="259"/>
                        </a:lnTo>
                        <a:lnTo>
                          <a:pt x="42" y="265"/>
                        </a:lnTo>
                        <a:lnTo>
                          <a:pt x="42" y="269"/>
                        </a:lnTo>
                        <a:lnTo>
                          <a:pt x="42" y="275"/>
                        </a:lnTo>
                        <a:lnTo>
                          <a:pt x="44" y="280"/>
                        </a:lnTo>
                        <a:lnTo>
                          <a:pt x="44" y="284"/>
                        </a:lnTo>
                        <a:lnTo>
                          <a:pt x="44" y="290"/>
                        </a:lnTo>
                        <a:lnTo>
                          <a:pt x="44" y="295"/>
                        </a:lnTo>
                        <a:lnTo>
                          <a:pt x="45" y="299"/>
                        </a:lnTo>
                        <a:lnTo>
                          <a:pt x="45" y="305"/>
                        </a:lnTo>
                        <a:lnTo>
                          <a:pt x="45" y="310"/>
                        </a:lnTo>
                        <a:lnTo>
                          <a:pt x="45" y="316"/>
                        </a:lnTo>
                        <a:lnTo>
                          <a:pt x="45" y="320"/>
                        </a:lnTo>
                        <a:lnTo>
                          <a:pt x="45" y="325"/>
                        </a:lnTo>
                        <a:lnTo>
                          <a:pt x="45" y="331"/>
                        </a:lnTo>
                        <a:lnTo>
                          <a:pt x="45" y="335"/>
                        </a:lnTo>
                        <a:lnTo>
                          <a:pt x="45" y="340"/>
                        </a:lnTo>
                        <a:lnTo>
                          <a:pt x="47" y="346"/>
                        </a:lnTo>
                        <a:lnTo>
                          <a:pt x="47" y="350"/>
                        </a:lnTo>
                        <a:lnTo>
                          <a:pt x="47" y="356"/>
                        </a:lnTo>
                        <a:lnTo>
                          <a:pt x="47" y="361"/>
                        </a:lnTo>
                        <a:lnTo>
                          <a:pt x="47" y="365"/>
                        </a:lnTo>
                        <a:lnTo>
                          <a:pt x="47" y="371"/>
                        </a:lnTo>
                        <a:lnTo>
                          <a:pt x="47" y="376"/>
                        </a:lnTo>
                        <a:lnTo>
                          <a:pt x="47" y="380"/>
                        </a:lnTo>
                        <a:lnTo>
                          <a:pt x="49" y="386"/>
                        </a:lnTo>
                        <a:lnTo>
                          <a:pt x="49" y="391"/>
                        </a:lnTo>
                        <a:lnTo>
                          <a:pt x="49" y="397"/>
                        </a:lnTo>
                        <a:lnTo>
                          <a:pt x="49" y="401"/>
                        </a:lnTo>
                        <a:lnTo>
                          <a:pt x="49" y="406"/>
                        </a:lnTo>
                        <a:lnTo>
                          <a:pt x="49" y="412"/>
                        </a:lnTo>
                        <a:lnTo>
                          <a:pt x="49" y="416"/>
                        </a:lnTo>
                        <a:lnTo>
                          <a:pt x="49" y="421"/>
                        </a:lnTo>
                        <a:lnTo>
                          <a:pt x="49" y="427"/>
                        </a:lnTo>
                        <a:lnTo>
                          <a:pt x="47" y="432"/>
                        </a:lnTo>
                        <a:lnTo>
                          <a:pt x="47" y="437"/>
                        </a:lnTo>
                        <a:lnTo>
                          <a:pt x="47" y="442"/>
                        </a:lnTo>
                        <a:lnTo>
                          <a:pt x="47" y="448"/>
                        </a:lnTo>
                        <a:lnTo>
                          <a:pt x="47" y="453"/>
                        </a:lnTo>
                        <a:lnTo>
                          <a:pt x="47" y="459"/>
                        </a:lnTo>
                        <a:lnTo>
                          <a:pt x="47" y="464"/>
                        </a:lnTo>
                        <a:lnTo>
                          <a:pt x="47" y="470"/>
                        </a:lnTo>
                        <a:lnTo>
                          <a:pt x="42" y="470"/>
                        </a:lnTo>
                        <a:lnTo>
                          <a:pt x="36" y="471"/>
                        </a:lnTo>
                        <a:lnTo>
                          <a:pt x="32" y="472"/>
                        </a:lnTo>
                        <a:lnTo>
                          <a:pt x="27" y="474"/>
                        </a:lnTo>
                        <a:lnTo>
                          <a:pt x="26" y="470"/>
                        </a:lnTo>
                        <a:lnTo>
                          <a:pt x="26" y="467"/>
                        </a:lnTo>
                        <a:lnTo>
                          <a:pt x="24" y="463"/>
                        </a:lnTo>
                        <a:lnTo>
                          <a:pt x="24" y="460"/>
                        </a:lnTo>
                        <a:lnTo>
                          <a:pt x="23" y="456"/>
                        </a:lnTo>
                        <a:lnTo>
                          <a:pt x="23" y="452"/>
                        </a:lnTo>
                        <a:lnTo>
                          <a:pt x="21" y="449"/>
                        </a:lnTo>
                        <a:lnTo>
                          <a:pt x="21" y="445"/>
                        </a:lnTo>
                        <a:lnTo>
                          <a:pt x="21" y="442"/>
                        </a:lnTo>
                        <a:lnTo>
                          <a:pt x="19" y="438"/>
                        </a:lnTo>
                        <a:lnTo>
                          <a:pt x="19" y="435"/>
                        </a:lnTo>
                        <a:lnTo>
                          <a:pt x="19" y="431"/>
                        </a:lnTo>
                        <a:lnTo>
                          <a:pt x="19" y="428"/>
                        </a:lnTo>
                        <a:lnTo>
                          <a:pt x="19" y="424"/>
                        </a:lnTo>
                        <a:lnTo>
                          <a:pt x="19" y="421"/>
                        </a:lnTo>
                        <a:lnTo>
                          <a:pt x="19" y="417"/>
                        </a:lnTo>
                        <a:lnTo>
                          <a:pt x="18" y="415"/>
                        </a:lnTo>
                        <a:lnTo>
                          <a:pt x="18" y="410"/>
                        </a:lnTo>
                        <a:lnTo>
                          <a:pt x="18" y="408"/>
                        </a:lnTo>
                        <a:lnTo>
                          <a:pt x="18" y="404"/>
                        </a:lnTo>
                        <a:lnTo>
                          <a:pt x="18" y="399"/>
                        </a:lnTo>
                        <a:lnTo>
                          <a:pt x="18" y="397"/>
                        </a:lnTo>
                        <a:lnTo>
                          <a:pt x="18" y="393"/>
                        </a:lnTo>
                        <a:lnTo>
                          <a:pt x="18" y="390"/>
                        </a:lnTo>
                        <a:lnTo>
                          <a:pt x="18" y="386"/>
                        </a:lnTo>
                        <a:lnTo>
                          <a:pt x="18" y="383"/>
                        </a:lnTo>
                        <a:lnTo>
                          <a:pt x="18" y="379"/>
                        </a:lnTo>
                        <a:lnTo>
                          <a:pt x="18" y="376"/>
                        </a:lnTo>
                        <a:lnTo>
                          <a:pt x="18" y="372"/>
                        </a:lnTo>
                        <a:lnTo>
                          <a:pt x="18" y="369"/>
                        </a:lnTo>
                        <a:lnTo>
                          <a:pt x="18" y="365"/>
                        </a:lnTo>
                        <a:lnTo>
                          <a:pt x="18" y="362"/>
                        </a:lnTo>
                        <a:lnTo>
                          <a:pt x="18" y="358"/>
                        </a:lnTo>
                        <a:lnTo>
                          <a:pt x="18" y="356"/>
                        </a:lnTo>
                        <a:lnTo>
                          <a:pt x="18" y="351"/>
                        </a:lnTo>
                        <a:lnTo>
                          <a:pt x="18" y="347"/>
                        </a:lnTo>
                        <a:lnTo>
                          <a:pt x="18" y="345"/>
                        </a:lnTo>
                        <a:lnTo>
                          <a:pt x="18" y="340"/>
                        </a:lnTo>
                        <a:lnTo>
                          <a:pt x="18" y="338"/>
                        </a:lnTo>
                        <a:lnTo>
                          <a:pt x="18" y="334"/>
                        </a:lnTo>
                        <a:lnTo>
                          <a:pt x="18" y="331"/>
                        </a:lnTo>
                        <a:lnTo>
                          <a:pt x="18" y="327"/>
                        </a:lnTo>
                        <a:lnTo>
                          <a:pt x="18" y="323"/>
                        </a:lnTo>
                        <a:lnTo>
                          <a:pt x="18" y="320"/>
                        </a:lnTo>
                        <a:lnTo>
                          <a:pt x="18" y="316"/>
                        </a:lnTo>
                        <a:lnTo>
                          <a:pt x="18" y="313"/>
                        </a:lnTo>
                        <a:lnTo>
                          <a:pt x="18" y="309"/>
                        </a:lnTo>
                        <a:lnTo>
                          <a:pt x="18" y="306"/>
                        </a:lnTo>
                        <a:lnTo>
                          <a:pt x="18" y="302"/>
                        </a:lnTo>
                        <a:lnTo>
                          <a:pt x="18" y="299"/>
                        </a:lnTo>
                        <a:lnTo>
                          <a:pt x="16" y="295"/>
                        </a:lnTo>
                        <a:lnTo>
                          <a:pt x="16" y="292"/>
                        </a:lnTo>
                        <a:lnTo>
                          <a:pt x="16" y="288"/>
                        </a:lnTo>
                        <a:lnTo>
                          <a:pt x="16" y="286"/>
                        </a:lnTo>
                        <a:lnTo>
                          <a:pt x="15" y="281"/>
                        </a:lnTo>
                        <a:lnTo>
                          <a:pt x="15" y="279"/>
                        </a:lnTo>
                        <a:lnTo>
                          <a:pt x="15" y="275"/>
                        </a:lnTo>
                        <a:lnTo>
                          <a:pt x="15" y="272"/>
                        </a:lnTo>
                        <a:lnTo>
                          <a:pt x="13" y="269"/>
                        </a:lnTo>
                        <a:lnTo>
                          <a:pt x="13" y="265"/>
                        </a:lnTo>
                        <a:lnTo>
                          <a:pt x="13" y="262"/>
                        </a:lnTo>
                        <a:lnTo>
                          <a:pt x="12" y="258"/>
                        </a:lnTo>
                        <a:lnTo>
                          <a:pt x="12" y="255"/>
                        </a:lnTo>
                        <a:lnTo>
                          <a:pt x="12" y="251"/>
                        </a:lnTo>
                        <a:lnTo>
                          <a:pt x="10" y="247"/>
                        </a:lnTo>
                        <a:lnTo>
                          <a:pt x="10" y="243"/>
                        </a:lnTo>
                        <a:lnTo>
                          <a:pt x="10" y="239"/>
                        </a:lnTo>
                        <a:lnTo>
                          <a:pt x="10" y="235"/>
                        </a:lnTo>
                        <a:lnTo>
                          <a:pt x="10" y="231"/>
                        </a:lnTo>
                        <a:lnTo>
                          <a:pt x="10" y="228"/>
                        </a:lnTo>
                        <a:lnTo>
                          <a:pt x="10" y="222"/>
                        </a:lnTo>
                        <a:lnTo>
                          <a:pt x="10" y="220"/>
                        </a:lnTo>
                        <a:lnTo>
                          <a:pt x="9" y="216"/>
                        </a:lnTo>
                        <a:lnTo>
                          <a:pt x="9" y="211"/>
                        </a:lnTo>
                        <a:lnTo>
                          <a:pt x="9" y="207"/>
                        </a:lnTo>
                        <a:lnTo>
                          <a:pt x="9" y="203"/>
                        </a:lnTo>
                        <a:lnTo>
                          <a:pt x="7" y="200"/>
                        </a:lnTo>
                        <a:lnTo>
                          <a:pt x="7" y="196"/>
                        </a:lnTo>
                        <a:lnTo>
                          <a:pt x="7" y="192"/>
                        </a:lnTo>
                        <a:lnTo>
                          <a:pt x="7" y="188"/>
                        </a:lnTo>
                        <a:lnTo>
                          <a:pt x="7" y="185"/>
                        </a:lnTo>
                        <a:lnTo>
                          <a:pt x="7" y="181"/>
                        </a:lnTo>
                        <a:lnTo>
                          <a:pt x="6" y="177"/>
                        </a:lnTo>
                        <a:lnTo>
                          <a:pt x="6" y="173"/>
                        </a:lnTo>
                        <a:lnTo>
                          <a:pt x="6" y="170"/>
                        </a:lnTo>
                        <a:lnTo>
                          <a:pt x="6" y="166"/>
                        </a:lnTo>
                        <a:lnTo>
                          <a:pt x="4" y="162"/>
                        </a:lnTo>
                        <a:lnTo>
                          <a:pt x="4" y="158"/>
                        </a:lnTo>
                        <a:lnTo>
                          <a:pt x="4" y="154"/>
                        </a:lnTo>
                        <a:lnTo>
                          <a:pt x="4" y="151"/>
                        </a:lnTo>
                        <a:lnTo>
                          <a:pt x="3" y="147"/>
                        </a:lnTo>
                        <a:lnTo>
                          <a:pt x="3" y="143"/>
                        </a:lnTo>
                        <a:lnTo>
                          <a:pt x="3" y="139"/>
                        </a:lnTo>
                        <a:lnTo>
                          <a:pt x="3" y="136"/>
                        </a:lnTo>
                        <a:lnTo>
                          <a:pt x="3" y="132"/>
                        </a:lnTo>
                        <a:lnTo>
                          <a:pt x="3" y="128"/>
                        </a:lnTo>
                        <a:lnTo>
                          <a:pt x="3" y="124"/>
                        </a:lnTo>
                        <a:lnTo>
                          <a:pt x="1" y="119"/>
                        </a:lnTo>
                        <a:lnTo>
                          <a:pt x="1" y="115"/>
                        </a:lnTo>
                        <a:lnTo>
                          <a:pt x="1" y="113"/>
                        </a:lnTo>
                        <a:lnTo>
                          <a:pt x="0" y="108"/>
                        </a:lnTo>
                        <a:lnTo>
                          <a:pt x="0" y="104"/>
                        </a:lnTo>
                        <a:lnTo>
                          <a:pt x="0" y="100"/>
                        </a:lnTo>
                        <a:lnTo>
                          <a:pt x="0" y="98"/>
                        </a:lnTo>
                        <a:lnTo>
                          <a:pt x="0" y="93"/>
                        </a:lnTo>
                        <a:lnTo>
                          <a:pt x="0" y="89"/>
                        </a:lnTo>
                        <a:lnTo>
                          <a:pt x="0" y="85"/>
                        </a:lnTo>
                        <a:lnTo>
                          <a:pt x="0" y="82"/>
                        </a:lnTo>
                        <a:lnTo>
                          <a:pt x="0" y="78"/>
                        </a:lnTo>
                        <a:lnTo>
                          <a:pt x="0" y="74"/>
                        </a:lnTo>
                        <a:lnTo>
                          <a:pt x="0" y="70"/>
                        </a:lnTo>
                        <a:lnTo>
                          <a:pt x="0" y="67"/>
                        </a:lnTo>
                        <a:lnTo>
                          <a:pt x="0" y="63"/>
                        </a:lnTo>
                        <a:lnTo>
                          <a:pt x="0" y="59"/>
                        </a:lnTo>
                        <a:lnTo>
                          <a:pt x="0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3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" y="10"/>
                        </a:lnTo>
                        <a:lnTo>
                          <a:pt x="1" y="6"/>
                        </a:lnTo>
                        <a:lnTo>
                          <a:pt x="3" y="3"/>
                        </a:lnTo>
                        <a:lnTo>
                          <a:pt x="6" y="1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Freeform 231"/>
                  <p:cNvSpPr/>
                  <p:nvPr/>
                </p:nvSpPr>
                <p:spPr>
                  <a:xfrm>
                    <a:off x="4493160" y="3524040"/>
                    <a:ext cx="6120" cy="6336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44" h="486">
                        <a:moveTo>
                          <a:pt x="15" y="0"/>
                        </a:moveTo>
                        <a:lnTo>
                          <a:pt x="17" y="3"/>
                        </a:lnTo>
                        <a:lnTo>
                          <a:pt x="20" y="9"/>
                        </a:lnTo>
                        <a:lnTo>
                          <a:pt x="23" y="13"/>
                        </a:lnTo>
                        <a:lnTo>
                          <a:pt x="26" y="17"/>
                        </a:lnTo>
                        <a:lnTo>
                          <a:pt x="27" y="22"/>
                        </a:lnTo>
                        <a:lnTo>
                          <a:pt x="29" y="27"/>
                        </a:lnTo>
                        <a:lnTo>
                          <a:pt x="31" y="32"/>
                        </a:lnTo>
                        <a:lnTo>
                          <a:pt x="32" y="38"/>
                        </a:lnTo>
                        <a:lnTo>
                          <a:pt x="34" y="43"/>
                        </a:lnTo>
                        <a:lnTo>
                          <a:pt x="34" y="47"/>
                        </a:lnTo>
                        <a:lnTo>
                          <a:pt x="34" y="53"/>
                        </a:lnTo>
                        <a:lnTo>
                          <a:pt x="35" y="58"/>
                        </a:lnTo>
                        <a:lnTo>
                          <a:pt x="35" y="64"/>
                        </a:lnTo>
                        <a:lnTo>
                          <a:pt x="35" y="69"/>
                        </a:lnTo>
                        <a:lnTo>
                          <a:pt x="35" y="75"/>
                        </a:lnTo>
                        <a:lnTo>
                          <a:pt x="35" y="81"/>
                        </a:lnTo>
                        <a:lnTo>
                          <a:pt x="35" y="87"/>
                        </a:lnTo>
                        <a:lnTo>
                          <a:pt x="35" y="92"/>
                        </a:lnTo>
                        <a:lnTo>
                          <a:pt x="35" y="98"/>
                        </a:lnTo>
                        <a:lnTo>
                          <a:pt x="35" y="105"/>
                        </a:lnTo>
                        <a:lnTo>
                          <a:pt x="34" y="110"/>
                        </a:lnTo>
                        <a:lnTo>
                          <a:pt x="34" y="116"/>
                        </a:lnTo>
                        <a:lnTo>
                          <a:pt x="34" y="121"/>
                        </a:lnTo>
                        <a:lnTo>
                          <a:pt x="35" y="128"/>
                        </a:lnTo>
                        <a:lnTo>
                          <a:pt x="35" y="134"/>
                        </a:lnTo>
                        <a:lnTo>
                          <a:pt x="35" y="139"/>
                        </a:lnTo>
                        <a:lnTo>
                          <a:pt x="35" y="145"/>
                        </a:lnTo>
                        <a:lnTo>
                          <a:pt x="35" y="150"/>
                        </a:lnTo>
                        <a:lnTo>
                          <a:pt x="37" y="156"/>
                        </a:lnTo>
                        <a:lnTo>
                          <a:pt x="38" y="161"/>
                        </a:lnTo>
                        <a:lnTo>
                          <a:pt x="38" y="167"/>
                        </a:lnTo>
                        <a:lnTo>
                          <a:pt x="40" y="173"/>
                        </a:lnTo>
                        <a:lnTo>
                          <a:pt x="40" y="178"/>
                        </a:lnTo>
                        <a:lnTo>
                          <a:pt x="40" y="182"/>
                        </a:lnTo>
                        <a:lnTo>
                          <a:pt x="38" y="186"/>
                        </a:lnTo>
                        <a:lnTo>
                          <a:pt x="38" y="191"/>
                        </a:lnTo>
                        <a:lnTo>
                          <a:pt x="38" y="195"/>
                        </a:lnTo>
                        <a:lnTo>
                          <a:pt x="38" y="199"/>
                        </a:lnTo>
                        <a:lnTo>
                          <a:pt x="38" y="205"/>
                        </a:lnTo>
                        <a:lnTo>
                          <a:pt x="38" y="209"/>
                        </a:lnTo>
                        <a:lnTo>
                          <a:pt x="38" y="213"/>
                        </a:lnTo>
                        <a:lnTo>
                          <a:pt x="38" y="219"/>
                        </a:lnTo>
                        <a:lnTo>
                          <a:pt x="38" y="223"/>
                        </a:lnTo>
                        <a:lnTo>
                          <a:pt x="38" y="228"/>
                        </a:lnTo>
                        <a:lnTo>
                          <a:pt x="38" y="232"/>
                        </a:lnTo>
                        <a:lnTo>
                          <a:pt x="38" y="237"/>
                        </a:lnTo>
                        <a:lnTo>
                          <a:pt x="38" y="242"/>
                        </a:lnTo>
                        <a:lnTo>
                          <a:pt x="38" y="246"/>
                        </a:lnTo>
                        <a:lnTo>
                          <a:pt x="38" y="252"/>
                        </a:lnTo>
                        <a:lnTo>
                          <a:pt x="38" y="256"/>
                        </a:lnTo>
                        <a:lnTo>
                          <a:pt x="38" y="260"/>
                        </a:lnTo>
                        <a:lnTo>
                          <a:pt x="38" y="265"/>
                        </a:lnTo>
                        <a:lnTo>
                          <a:pt x="38" y="269"/>
                        </a:lnTo>
                        <a:lnTo>
                          <a:pt x="38" y="274"/>
                        </a:lnTo>
                        <a:lnTo>
                          <a:pt x="38" y="279"/>
                        </a:lnTo>
                        <a:lnTo>
                          <a:pt x="38" y="283"/>
                        </a:lnTo>
                        <a:lnTo>
                          <a:pt x="38" y="289"/>
                        </a:lnTo>
                        <a:lnTo>
                          <a:pt x="38" y="293"/>
                        </a:lnTo>
                        <a:lnTo>
                          <a:pt x="38" y="297"/>
                        </a:lnTo>
                        <a:lnTo>
                          <a:pt x="40" y="302"/>
                        </a:lnTo>
                        <a:lnTo>
                          <a:pt x="40" y="307"/>
                        </a:lnTo>
                        <a:lnTo>
                          <a:pt x="40" y="311"/>
                        </a:lnTo>
                        <a:lnTo>
                          <a:pt x="40" y="316"/>
                        </a:lnTo>
                        <a:lnTo>
                          <a:pt x="41" y="320"/>
                        </a:lnTo>
                        <a:lnTo>
                          <a:pt x="41" y="324"/>
                        </a:lnTo>
                        <a:lnTo>
                          <a:pt x="41" y="329"/>
                        </a:lnTo>
                        <a:lnTo>
                          <a:pt x="41" y="334"/>
                        </a:lnTo>
                        <a:lnTo>
                          <a:pt x="41" y="338"/>
                        </a:lnTo>
                        <a:lnTo>
                          <a:pt x="41" y="344"/>
                        </a:lnTo>
                        <a:lnTo>
                          <a:pt x="41" y="348"/>
                        </a:lnTo>
                        <a:lnTo>
                          <a:pt x="41" y="352"/>
                        </a:lnTo>
                        <a:lnTo>
                          <a:pt x="41" y="357"/>
                        </a:lnTo>
                        <a:lnTo>
                          <a:pt x="41" y="361"/>
                        </a:lnTo>
                        <a:lnTo>
                          <a:pt x="41" y="366"/>
                        </a:lnTo>
                        <a:lnTo>
                          <a:pt x="41" y="371"/>
                        </a:lnTo>
                        <a:lnTo>
                          <a:pt x="41" y="375"/>
                        </a:lnTo>
                        <a:lnTo>
                          <a:pt x="41" y="381"/>
                        </a:lnTo>
                        <a:lnTo>
                          <a:pt x="43" y="385"/>
                        </a:lnTo>
                        <a:lnTo>
                          <a:pt x="43" y="389"/>
                        </a:lnTo>
                        <a:lnTo>
                          <a:pt x="43" y="394"/>
                        </a:lnTo>
                        <a:lnTo>
                          <a:pt x="43" y="399"/>
                        </a:lnTo>
                        <a:lnTo>
                          <a:pt x="43" y="403"/>
                        </a:lnTo>
                        <a:lnTo>
                          <a:pt x="43" y="408"/>
                        </a:lnTo>
                        <a:lnTo>
                          <a:pt x="44" y="412"/>
                        </a:lnTo>
                        <a:lnTo>
                          <a:pt x="44" y="418"/>
                        </a:lnTo>
                        <a:lnTo>
                          <a:pt x="44" y="422"/>
                        </a:lnTo>
                        <a:lnTo>
                          <a:pt x="44" y="426"/>
                        </a:lnTo>
                        <a:lnTo>
                          <a:pt x="44" y="431"/>
                        </a:lnTo>
                        <a:lnTo>
                          <a:pt x="44" y="436"/>
                        </a:lnTo>
                        <a:lnTo>
                          <a:pt x="44" y="441"/>
                        </a:lnTo>
                        <a:lnTo>
                          <a:pt x="44" y="445"/>
                        </a:lnTo>
                        <a:lnTo>
                          <a:pt x="44" y="451"/>
                        </a:lnTo>
                        <a:lnTo>
                          <a:pt x="44" y="455"/>
                        </a:lnTo>
                        <a:lnTo>
                          <a:pt x="44" y="460"/>
                        </a:lnTo>
                        <a:lnTo>
                          <a:pt x="44" y="464"/>
                        </a:lnTo>
                        <a:lnTo>
                          <a:pt x="44" y="470"/>
                        </a:lnTo>
                        <a:lnTo>
                          <a:pt x="41" y="474"/>
                        </a:lnTo>
                        <a:lnTo>
                          <a:pt x="38" y="478"/>
                        </a:lnTo>
                        <a:lnTo>
                          <a:pt x="34" y="481"/>
                        </a:lnTo>
                        <a:lnTo>
                          <a:pt x="31" y="486"/>
                        </a:lnTo>
                        <a:lnTo>
                          <a:pt x="26" y="482"/>
                        </a:lnTo>
                        <a:lnTo>
                          <a:pt x="23" y="480"/>
                        </a:lnTo>
                        <a:lnTo>
                          <a:pt x="20" y="475"/>
                        </a:lnTo>
                        <a:lnTo>
                          <a:pt x="18" y="473"/>
                        </a:lnTo>
                        <a:lnTo>
                          <a:pt x="17" y="469"/>
                        </a:lnTo>
                        <a:lnTo>
                          <a:pt x="15" y="464"/>
                        </a:lnTo>
                        <a:lnTo>
                          <a:pt x="14" y="462"/>
                        </a:lnTo>
                        <a:lnTo>
                          <a:pt x="14" y="458"/>
                        </a:lnTo>
                        <a:lnTo>
                          <a:pt x="12" y="453"/>
                        </a:lnTo>
                        <a:lnTo>
                          <a:pt x="12" y="449"/>
                        </a:lnTo>
                        <a:lnTo>
                          <a:pt x="11" y="445"/>
                        </a:lnTo>
                        <a:lnTo>
                          <a:pt x="11" y="442"/>
                        </a:lnTo>
                        <a:lnTo>
                          <a:pt x="11" y="437"/>
                        </a:lnTo>
                        <a:lnTo>
                          <a:pt x="11" y="434"/>
                        </a:lnTo>
                        <a:lnTo>
                          <a:pt x="12" y="430"/>
                        </a:lnTo>
                        <a:lnTo>
                          <a:pt x="12" y="426"/>
                        </a:lnTo>
                        <a:lnTo>
                          <a:pt x="12" y="422"/>
                        </a:lnTo>
                        <a:lnTo>
                          <a:pt x="12" y="418"/>
                        </a:lnTo>
                        <a:lnTo>
                          <a:pt x="14" y="414"/>
                        </a:lnTo>
                        <a:lnTo>
                          <a:pt x="14" y="409"/>
                        </a:lnTo>
                        <a:lnTo>
                          <a:pt x="14" y="405"/>
                        </a:lnTo>
                        <a:lnTo>
                          <a:pt x="15" y="401"/>
                        </a:lnTo>
                        <a:lnTo>
                          <a:pt x="15" y="397"/>
                        </a:lnTo>
                        <a:lnTo>
                          <a:pt x="17" y="394"/>
                        </a:lnTo>
                        <a:lnTo>
                          <a:pt x="17" y="389"/>
                        </a:lnTo>
                        <a:lnTo>
                          <a:pt x="17" y="385"/>
                        </a:lnTo>
                        <a:lnTo>
                          <a:pt x="17" y="382"/>
                        </a:lnTo>
                        <a:lnTo>
                          <a:pt x="17" y="378"/>
                        </a:lnTo>
                        <a:lnTo>
                          <a:pt x="15" y="374"/>
                        </a:lnTo>
                        <a:lnTo>
                          <a:pt x="15" y="370"/>
                        </a:lnTo>
                        <a:lnTo>
                          <a:pt x="15" y="367"/>
                        </a:lnTo>
                        <a:lnTo>
                          <a:pt x="15" y="363"/>
                        </a:lnTo>
                        <a:lnTo>
                          <a:pt x="14" y="357"/>
                        </a:lnTo>
                        <a:lnTo>
                          <a:pt x="14" y="352"/>
                        </a:lnTo>
                        <a:lnTo>
                          <a:pt x="14" y="346"/>
                        </a:lnTo>
                        <a:lnTo>
                          <a:pt x="14" y="341"/>
                        </a:lnTo>
                        <a:lnTo>
                          <a:pt x="14" y="335"/>
                        </a:lnTo>
                        <a:lnTo>
                          <a:pt x="14" y="330"/>
                        </a:lnTo>
                        <a:lnTo>
                          <a:pt x="14" y="324"/>
                        </a:lnTo>
                        <a:lnTo>
                          <a:pt x="14" y="319"/>
                        </a:lnTo>
                        <a:lnTo>
                          <a:pt x="14" y="313"/>
                        </a:lnTo>
                        <a:lnTo>
                          <a:pt x="14" y="308"/>
                        </a:lnTo>
                        <a:lnTo>
                          <a:pt x="14" y="304"/>
                        </a:lnTo>
                        <a:lnTo>
                          <a:pt x="14" y="298"/>
                        </a:lnTo>
                        <a:lnTo>
                          <a:pt x="14" y="293"/>
                        </a:lnTo>
                        <a:lnTo>
                          <a:pt x="14" y="287"/>
                        </a:lnTo>
                        <a:lnTo>
                          <a:pt x="14" y="282"/>
                        </a:lnTo>
                        <a:lnTo>
                          <a:pt x="14" y="276"/>
                        </a:lnTo>
                        <a:lnTo>
                          <a:pt x="12" y="271"/>
                        </a:lnTo>
                        <a:lnTo>
                          <a:pt x="12" y="265"/>
                        </a:lnTo>
                        <a:lnTo>
                          <a:pt x="12" y="261"/>
                        </a:lnTo>
                        <a:lnTo>
                          <a:pt x="12" y="256"/>
                        </a:lnTo>
                        <a:lnTo>
                          <a:pt x="12" y="250"/>
                        </a:lnTo>
                        <a:lnTo>
                          <a:pt x="12" y="245"/>
                        </a:lnTo>
                        <a:lnTo>
                          <a:pt x="12" y="239"/>
                        </a:lnTo>
                        <a:lnTo>
                          <a:pt x="12" y="234"/>
                        </a:lnTo>
                        <a:lnTo>
                          <a:pt x="11" y="228"/>
                        </a:lnTo>
                        <a:lnTo>
                          <a:pt x="11" y="223"/>
                        </a:lnTo>
                        <a:lnTo>
                          <a:pt x="11" y="217"/>
                        </a:lnTo>
                        <a:lnTo>
                          <a:pt x="11" y="213"/>
                        </a:lnTo>
                        <a:lnTo>
                          <a:pt x="11" y="208"/>
                        </a:lnTo>
                        <a:lnTo>
                          <a:pt x="11" y="202"/>
                        </a:lnTo>
                        <a:lnTo>
                          <a:pt x="11" y="197"/>
                        </a:lnTo>
                        <a:lnTo>
                          <a:pt x="11" y="193"/>
                        </a:lnTo>
                        <a:lnTo>
                          <a:pt x="11" y="186"/>
                        </a:lnTo>
                        <a:lnTo>
                          <a:pt x="11" y="182"/>
                        </a:lnTo>
                        <a:lnTo>
                          <a:pt x="9" y="176"/>
                        </a:lnTo>
                        <a:lnTo>
                          <a:pt x="9" y="171"/>
                        </a:lnTo>
                        <a:lnTo>
                          <a:pt x="9" y="165"/>
                        </a:lnTo>
                        <a:lnTo>
                          <a:pt x="9" y="160"/>
                        </a:lnTo>
                        <a:lnTo>
                          <a:pt x="8" y="154"/>
                        </a:lnTo>
                        <a:lnTo>
                          <a:pt x="8" y="149"/>
                        </a:lnTo>
                        <a:lnTo>
                          <a:pt x="8" y="143"/>
                        </a:lnTo>
                        <a:lnTo>
                          <a:pt x="8" y="139"/>
                        </a:lnTo>
                        <a:lnTo>
                          <a:pt x="6" y="134"/>
                        </a:lnTo>
                        <a:lnTo>
                          <a:pt x="6" y="128"/>
                        </a:lnTo>
                        <a:lnTo>
                          <a:pt x="6" y="123"/>
                        </a:lnTo>
                        <a:lnTo>
                          <a:pt x="6" y="117"/>
                        </a:lnTo>
                        <a:lnTo>
                          <a:pt x="6" y="112"/>
                        </a:lnTo>
                        <a:lnTo>
                          <a:pt x="6" y="108"/>
                        </a:lnTo>
                        <a:lnTo>
                          <a:pt x="6" y="102"/>
                        </a:lnTo>
                        <a:lnTo>
                          <a:pt x="5" y="97"/>
                        </a:lnTo>
                        <a:lnTo>
                          <a:pt x="5" y="91"/>
                        </a:lnTo>
                        <a:lnTo>
                          <a:pt x="5" y="86"/>
                        </a:lnTo>
                        <a:lnTo>
                          <a:pt x="3" y="80"/>
                        </a:lnTo>
                        <a:lnTo>
                          <a:pt x="3" y="75"/>
                        </a:lnTo>
                        <a:lnTo>
                          <a:pt x="3" y="70"/>
                        </a:lnTo>
                        <a:lnTo>
                          <a:pt x="3" y="65"/>
                        </a:lnTo>
                        <a:lnTo>
                          <a:pt x="3" y="59"/>
                        </a:lnTo>
                        <a:lnTo>
                          <a:pt x="1" y="54"/>
                        </a:lnTo>
                        <a:lnTo>
                          <a:pt x="1" y="48"/>
                        </a:lnTo>
                        <a:lnTo>
                          <a:pt x="1" y="43"/>
                        </a:lnTo>
                        <a:lnTo>
                          <a:pt x="0" y="38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1" y="17"/>
                        </a:lnTo>
                        <a:lnTo>
                          <a:pt x="5" y="13"/>
                        </a:lnTo>
                        <a:lnTo>
                          <a:pt x="6" y="10"/>
                        </a:lnTo>
                        <a:lnTo>
                          <a:pt x="9" y="6"/>
                        </a:lnTo>
                        <a:lnTo>
                          <a:pt x="11" y="3"/>
                        </a:lnTo>
                        <a:lnTo>
                          <a:pt x="1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Freeform 232"/>
                  <p:cNvSpPr/>
                  <p:nvPr/>
                </p:nvSpPr>
                <p:spPr>
                  <a:xfrm>
                    <a:off x="4383000" y="3601080"/>
                    <a:ext cx="123120" cy="4320"/>
                  </a:xfrm>
                  <a:custGeom>
                    <a:avLst/>
                    <a:gdLst>
                      <a:gd name="textAreaLeft" fmla="*/ 0 w 123120"/>
                      <a:gd name="textAreaRight" fmla="*/ 123480 w 123120"/>
                      <a:gd name="textAreaTop" fmla="*/ 0 h 4320"/>
                      <a:gd name="textAreaBottom" fmla="*/ 4680 h 4320"/>
                    </a:gdLst>
                    <a:ahLst/>
                    <a:rect l="textAreaLeft" t="textAreaTop" r="textAreaRight" b="textAreaBottom"/>
                    <a:pathLst>
                      <a:path w="850" h="34">
                        <a:moveTo>
                          <a:pt x="465" y="0"/>
                        </a:moveTo>
                        <a:lnTo>
                          <a:pt x="469" y="0"/>
                        </a:lnTo>
                        <a:lnTo>
                          <a:pt x="475" y="0"/>
                        </a:lnTo>
                        <a:lnTo>
                          <a:pt x="482" y="0"/>
                        </a:lnTo>
                        <a:lnTo>
                          <a:pt x="486" y="0"/>
                        </a:lnTo>
                        <a:lnTo>
                          <a:pt x="492" y="0"/>
                        </a:lnTo>
                        <a:lnTo>
                          <a:pt x="498" y="0"/>
                        </a:lnTo>
                        <a:lnTo>
                          <a:pt x="503" y="0"/>
                        </a:lnTo>
                        <a:lnTo>
                          <a:pt x="509" y="1"/>
                        </a:lnTo>
                        <a:lnTo>
                          <a:pt x="515" y="1"/>
                        </a:lnTo>
                        <a:lnTo>
                          <a:pt x="521" y="1"/>
                        </a:lnTo>
                        <a:lnTo>
                          <a:pt x="527" y="1"/>
                        </a:lnTo>
                        <a:lnTo>
                          <a:pt x="534" y="1"/>
                        </a:lnTo>
                        <a:lnTo>
                          <a:pt x="538" y="1"/>
                        </a:lnTo>
                        <a:lnTo>
                          <a:pt x="544" y="1"/>
                        </a:lnTo>
                        <a:lnTo>
                          <a:pt x="550" y="1"/>
                        </a:lnTo>
                        <a:lnTo>
                          <a:pt x="556" y="1"/>
                        </a:lnTo>
                        <a:lnTo>
                          <a:pt x="561" y="1"/>
                        </a:lnTo>
                        <a:lnTo>
                          <a:pt x="567" y="1"/>
                        </a:lnTo>
                        <a:lnTo>
                          <a:pt x="573" y="1"/>
                        </a:lnTo>
                        <a:lnTo>
                          <a:pt x="578" y="1"/>
                        </a:lnTo>
                        <a:lnTo>
                          <a:pt x="584" y="1"/>
                        </a:lnTo>
                        <a:lnTo>
                          <a:pt x="590" y="1"/>
                        </a:lnTo>
                        <a:lnTo>
                          <a:pt x="595" y="1"/>
                        </a:lnTo>
                        <a:lnTo>
                          <a:pt x="601" y="1"/>
                        </a:lnTo>
                        <a:lnTo>
                          <a:pt x="607" y="1"/>
                        </a:lnTo>
                        <a:lnTo>
                          <a:pt x="613" y="1"/>
                        </a:lnTo>
                        <a:lnTo>
                          <a:pt x="619" y="1"/>
                        </a:lnTo>
                        <a:lnTo>
                          <a:pt x="625" y="1"/>
                        </a:lnTo>
                        <a:lnTo>
                          <a:pt x="630" y="1"/>
                        </a:lnTo>
                        <a:lnTo>
                          <a:pt x="636" y="1"/>
                        </a:lnTo>
                        <a:lnTo>
                          <a:pt x="642" y="1"/>
                        </a:lnTo>
                        <a:lnTo>
                          <a:pt x="648" y="3"/>
                        </a:lnTo>
                        <a:lnTo>
                          <a:pt x="653" y="1"/>
                        </a:lnTo>
                        <a:lnTo>
                          <a:pt x="659" y="1"/>
                        </a:lnTo>
                        <a:lnTo>
                          <a:pt x="665" y="1"/>
                        </a:lnTo>
                        <a:lnTo>
                          <a:pt x="671" y="1"/>
                        </a:lnTo>
                        <a:lnTo>
                          <a:pt x="676" y="1"/>
                        </a:lnTo>
                        <a:lnTo>
                          <a:pt x="682" y="1"/>
                        </a:lnTo>
                        <a:lnTo>
                          <a:pt x="688" y="1"/>
                        </a:lnTo>
                        <a:lnTo>
                          <a:pt x="694" y="1"/>
                        </a:lnTo>
                        <a:lnTo>
                          <a:pt x="699" y="1"/>
                        </a:lnTo>
                        <a:lnTo>
                          <a:pt x="705" y="1"/>
                        </a:lnTo>
                        <a:lnTo>
                          <a:pt x="711" y="1"/>
                        </a:lnTo>
                        <a:lnTo>
                          <a:pt x="716" y="1"/>
                        </a:lnTo>
                        <a:lnTo>
                          <a:pt x="722" y="1"/>
                        </a:lnTo>
                        <a:lnTo>
                          <a:pt x="728" y="1"/>
                        </a:lnTo>
                        <a:lnTo>
                          <a:pt x="732" y="1"/>
                        </a:lnTo>
                        <a:lnTo>
                          <a:pt x="740" y="1"/>
                        </a:lnTo>
                        <a:lnTo>
                          <a:pt x="745" y="0"/>
                        </a:lnTo>
                        <a:lnTo>
                          <a:pt x="751" y="0"/>
                        </a:lnTo>
                        <a:lnTo>
                          <a:pt x="757" y="0"/>
                        </a:lnTo>
                        <a:lnTo>
                          <a:pt x="761" y="0"/>
                        </a:lnTo>
                        <a:lnTo>
                          <a:pt x="768" y="0"/>
                        </a:lnTo>
                        <a:lnTo>
                          <a:pt x="774" y="0"/>
                        </a:lnTo>
                        <a:lnTo>
                          <a:pt x="778" y="0"/>
                        </a:lnTo>
                        <a:lnTo>
                          <a:pt x="784" y="0"/>
                        </a:lnTo>
                        <a:lnTo>
                          <a:pt x="791" y="0"/>
                        </a:lnTo>
                        <a:lnTo>
                          <a:pt x="797" y="0"/>
                        </a:lnTo>
                        <a:lnTo>
                          <a:pt x="801" y="0"/>
                        </a:lnTo>
                        <a:lnTo>
                          <a:pt x="807" y="0"/>
                        </a:lnTo>
                        <a:lnTo>
                          <a:pt x="813" y="0"/>
                        </a:lnTo>
                        <a:lnTo>
                          <a:pt x="818" y="0"/>
                        </a:lnTo>
                        <a:lnTo>
                          <a:pt x="824" y="0"/>
                        </a:lnTo>
                        <a:lnTo>
                          <a:pt x="830" y="0"/>
                        </a:lnTo>
                        <a:lnTo>
                          <a:pt x="835" y="4"/>
                        </a:lnTo>
                        <a:lnTo>
                          <a:pt x="839" y="8"/>
                        </a:lnTo>
                        <a:lnTo>
                          <a:pt x="846" y="12"/>
                        </a:lnTo>
                        <a:lnTo>
                          <a:pt x="850" y="16"/>
                        </a:lnTo>
                        <a:lnTo>
                          <a:pt x="846" y="18"/>
                        </a:lnTo>
                        <a:lnTo>
                          <a:pt x="841" y="22"/>
                        </a:lnTo>
                        <a:lnTo>
                          <a:pt x="836" y="26"/>
                        </a:lnTo>
                        <a:lnTo>
                          <a:pt x="833" y="30"/>
                        </a:lnTo>
                        <a:lnTo>
                          <a:pt x="820" y="29"/>
                        </a:lnTo>
                        <a:lnTo>
                          <a:pt x="807" y="29"/>
                        </a:lnTo>
                        <a:lnTo>
                          <a:pt x="794" y="29"/>
                        </a:lnTo>
                        <a:lnTo>
                          <a:pt x="780" y="29"/>
                        </a:lnTo>
                        <a:lnTo>
                          <a:pt x="768" y="29"/>
                        </a:lnTo>
                        <a:lnTo>
                          <a:pt x="754" y="29"/>
                        </a:lnTo>
                        <a:lnTo>
                          <a:pt x="742" y="29"/>
                        </a:lnTo>
                        <a:lnTo>
                          <a:pt x="728" y="29"/>
                        </a:lnTo>
                        <a:lnTo>
                          <a:pt x="716" y="29"/>
                        </a:lnTo>
                        <a:lnTo>
                          <a:pt x="702" y="29"/>
                        </a:lnTo>
                        <a:lnTo>
                          <a:pt x="688" y="29"/>
                        </a:lnTo>
                        <a:lnTo>
                          <a:pt x="676" y="29"/>
                        </a:lnTo>
                        <a:lnTo>
                          <a:pt x="664" y="29"/>
                        </a:lnTo>
                        <a:lnTo>
                          <a:pt x="650" y="29"/>
                        </a:lnTo>
                        <a:lnTo>
                          <a:pt x="638" y="29"/>
                        </a:lnTo>
                        <a:lnTo>
                          <a:pt x="625" y="29"/>
                        </a:lnTo>
                        <a:lnTo>
                          <a:pt x="612" y="29"/>
                        </a:lnTo>
                        <a:lnTo>
                          <a:pt x="598" y="29"/>
                        </a:lnTo>
                        <a:lnTo>
                          <a:pt x="586" y="29"/>
                        </a:lnTo>
                        <a:lnTo>
                          <a:pt x="573" y="29"/>
                        </a:lnTo>
                        <a:lnTo>
                          <a:pt x="560" y="29"/>
                        </a:lnTo>
                        <a:lnTo>
                          <a:pt x="547" y="29"/>
                        </a:lnTo>
                        <a:lnTo>
                          <a:pt x="534" y="29"/>
                        </a:lnTo>
                        <a:lnTo>
                          <a:pt x="521" y="29"/>
                        </a:lnTo>
                        <a:lnTo>
                          <a:pt x="509" y="29"/>
                        </a:lnTo>
                        <a:lnTo>
                          <a:pt x="495" y="29"/>
                        </a:lnTo>
                        <a:lnTo>
                          <a:pt x="482" y="29"/>
                        </a:lnTo>
                        <a:lnTo>
                          <a:pt x="469" y="29"/>
                        </a:lnTo>
                        <a:lnTo>
                          <a:pt x="457" y="29"/>
                        </a:lnTo>
                        <a:lnTo>
                          <a:pt x="445" y="30"/>
                        </a:lnTo>
                        <a:lnTo>
                          <a:pt x="431" y="30"/>
                        </a:lnTo>
                        <a:lnTo>
                          <a:pt x="419" y="30"/>
                        </a:lnTo>
                        <a:lnTo>
                          <a:pt x="405" y="30"/>
                        </a:lnTo>
                        <a:lnTo>
                          <a:pt x="393" y="30"/>
                        </a:lnTo>
                        <a:lnTo>
                          <a:pt x="379" y="30"/>
                        </a:lnTo>
                        <a:lnTo>
                          <a:pt x="367" y="30"/>
                        </a:lnTo>
                        <a:lnTo>
                          <a:pt x="353" y="30"/>
                        </a:lnTo>
                        <a:lnTo>
                          <a:pt x="341" y="32"/>
                        </a:lnTo>
                        <a:lnTo>
                          <a:pt x="327" y="32"/>
                        </a:lnTo>
                        <a:lnTo>
                          <a:pt x="315" y="32"/>
                        </a:lnTo>
                        <a:lnTo>
                          <a:pt x="303" y="32"/>
                        </a:lnTo>
                        <a:lnTo>
                          <a:pt x="289" y="32"/>
                        </a:lnTo>
                        <a:lnTo>
                          <a:pt x="277" y="32"/>
                        </a:lnTo>
                        <a:lnTo>
                          <a:pt x="264" y="32"/>
                        </a:lnTo>
                        <a:lnTo>
                          <a:pt x="251" y="32"/>
                        </a:lnTo>
                        <a:lnTo>
                          <a:pt x="238" y="32"/>
                        </a:lnTo>
                        <a:lnTo>
                          <a:pt x="225" y="32"/>
                        </a:lnTo>
                        <a:lnTo>
                          <a:pt x="212" y="33"/>
                        </a:lnTo>
                        <a:lnTo>
                          <a:pt x="200" y="33"/>
                        </a:lnTo>
                        <a:lnTo>
                          <a:pt x="186" y="33"/>
                        </a:lnTo>
                        <a:lnTo>
                          <a:pt x="173" y="33"/>
                        </a:lnTo>
                        <a:lnTo>
                          <a:pt x="160" y="33"/>
                        </a:lnTo>
                        <a:lnTo>
                          <a:pt x="148" y="33"/>
                        </a:lnTo>
                        <a:lnTo>
                          <a:pt x="136" y="33"/>
                        </a:lnTo>
                        <a:lnTo>
                          <a:pt x="122" y="33"/>
                        </a:lnTo>
                        <a:lnTo>
                          <a:pt x="110" y="34"/>
                        </a:lnTo>
                        <a:lnTo>
                          <a:pt x="96" y="34"/>
                        </a:lnTo>
                        <a:lnTo>
                          <a:pt x="84" y="34"/>
                        </a:lnTo>
                        <a:lnTo>
                          <a:pt x="70" y="34"/>
                        </a:lnTo>
                        <a:lnTo>
                          <a:pt x="58" y="34"/>
                        </a:lnTo>
                        <a:lnTo>
                          <a:pt x="46" y="34"/>
                        </a:lnTo>
                        <a:lnTo>
                          <a:pt x="32" y="34"/>
                        </a:lnTo>
                        <a:lnTo>
                          <a:pt x="20" y="34"/>
                        </a:lnTo>
                        <a:lnTo>
                          <a:pt x="7" y="34"/>
                        </a:lnTo>
                        <a:lnTo>
                          <a:pt x="4" y="29"/>
                        </a:lnTo>
                        <a:lnTo>
                          <a:pt x="3" y="25"/>
                        </a:lnTo>
                        <a:lnTo>
                          <a:pt x="1" y="19"/>
                        </a:lnTo>
                        <a:lnTo>
                          <a:pt x="0" y="16"/>
                        </a:lnTo>
                        <a:lnTo>
                          <a:pt x="3" y="15"/>
                        </a:lnTo>
                        <a:lnTo>
                          <a:pt x="7" y="14"/>
                        </a:lnTo>
                        <a:lnTo>
                          <a:pt x="12" y="14"/>
                        </a:lnTo>
                        <a:lnTo>
                          <a:pt x="17" y="12"/>
                        </a:lnTo>
                        <a:lnTo>
                          <a:pt x="21" y="12"/>
                        </a:lnTo>
                        <a:lnTo>
                          <a:pt x="26" y="11"/>
                        </a:lnTo>
                        <a:lnTo>
                          <a:pt x="30" y="11"/>
                        </a:lnTo>
                        <a:lnTo>
                          <a:pt x="35" y="11"/>
                        </a:lnTo>
                        <a:lnTo>
                          <a:pt x="39" y="10"/>
                        </a:lnTo>
                        <a:lnTo>
                          <a:pt x="44" y="10"/>
                        </a:lnTo>
                        <a:lnTo>
                          <a:pt x="49" y="10"/>
                        </a:lnTo>
                        <a:lnTo>
                          <a:pt x="53" y="10"/>
                        </a:lnTo>
                        <a:lnTo>
                          <a:pt x="58" y="8"/>
                        </a:lnTo>
                        <a:lnTo>
                          <a:pt x="62" y="8"/>
                        </a:lnTo>
                        <a:lnTo>
                          <a:pt x="67" y="8"/>
                        </a:lnTo>
                        <a:lnTo>
                          <a:pt x="72" y="8"/>
                        </a:lnTo>
                        <a:lnTo>
                          <a:pt x="76" y="7"/>
                        </a:lnTo>
                        <a:lnTo>
                          <a:pt x="81" y="7"/>
                        </a:lnTo>
                        <a:lnTo>
                          <a:pt x="85" y="7"/>
                        </a:lnTo>
                        <a:lnTo>
                          <a:pt x="90" y="7"/>
                        </a:lnTo>
                        <a:lnTo>
                          <a:pt x="95" y="7"/>
                        </a:lnTo>
                        <a:lnTo>
                          <a:pt x="99" y="7"/>
                        </a:lnTo>
                        <a:lnTo>
                          <a:pt x="104" y="7"/>
                        </a:lnTo>
                        <a:lnTo>
                          <a:pt x="108" y="7"/>
                        </a:lnTo>
                        <a:lnTo>
                          <a:pt x="113" y="7"/>
                        </a:lnTo>
                        <a:lnTo>
                          <a:pt x="117" y="7"/>
                        </a:lnTo>
                        <a:lnTo>
                          <a:pt x="122" y="7"/>
                        </a:lnTo>
                        <a:lnTo>
                          <a:pt x="128" y="7"/>
                        </a:lnTo>
                        <a:lnTo>
                          <a:pt x="131" y="7"/>
                        </a:lnTo>
                        <a:lnTo>
                          <a:pt x="137" y="7"/>
                        </a:lnTo>
                        <a:lnTo>
                          <a:pt x="142" y="7"/>
                        </a:lnTo>
                        <a:lnTo>
                          <a:pt x="147" y="7"/>
                        </a:lnTo>
                        <a:lnTo>
                          <a:pt x="150" y="7"/>
                        </a:lnTo>
                        <a:lnTo>
                          <a:pt x="156" y="7"/>
                        </a:lnTo>
                        <a:lnTo>
                          <a:pt x="160" y="7"/>
                        </a:lnTo>
                        <a:lnTo>
                          <a:pt x="165" y="7"/>
                        </a:lnTo>
                        <a:lnTo>
                          <a:pt x="169" y="7"/>
                        </a:lnTo>
                        <a:lnTo>
                          <a:pt x="174" y="7"/>
                        </a:lnTo>
                        <a:lnTo>
                          <a:pt x="179" y="7"/>
                        </a:lnTo>
                        <a:lnTo>
                          <a:pt x="183" y="7"/>
                        </a:lnTo>
                        <a:lnTo>
                          <a:pt x="188" y="7"/>
                        </a:lnTo>
                        <a:lnTo>
                          <a:pt x="192" y="7"/>
                        </a:lnTo>
                        <a:lnTo>
                          <a:pt x="197" y="7"/>
                        </a:lnTo>
                        <a:lnTo>
                          <a:pt x="202" y="7"/>
                        </a:lnTo>
                        <a:lnTo>
                          <a:pt x="206" y="7"/>
                        </a:lnTo>
                        <a:lnTo>
                          <a:pt x="211" y="7"/>
                        </a:lnTo>
                        <a:lnTo>
                          <a:pt x="215" y="7"/>
                        </a:lnTo>
                        <a:lnTo>
                          <a:pt x="221" y="7"/>
                        </a:lnTo>
                        <a:lnTo>
                          <a:pt x="225" y="7"/>
                        </a:lnTo>
                        <a:lnTo>
                          <a:pt x="231" y="7"/>
                        </a:lnTo>
                        <a:lnTo>
                          <a:pt x="235" y="7"/>
                        </a:lnTo>
                        <a:lnTo>
                          <a:pt x="240" y="7"/>
                        </a:lnTo>
                        <a:lnTo>
                          <a:pt x="244" y="7"/>
                        </a:lnTo>
                        <a:lnTo>
                          <a:pt x="249" y="7"/>
                        </a:lnTo>
                        <a:lnTo>
                          <a:pt x="254" y="7"/>
                        </a:lnTo>
                        <a:lnTo>
                          <a:pt x="260" y="7"/>
                        </a:lnTo>
                        <a:lnTo>
                          <a:pt x="263" y="5"/>
                        </a:lnTo>
                        <a:lnTo>
                          <a:pt x="269" y="5"/>
                        </a:lnTo>
                        <a:lnTo>
                          <a:pt x="273" y="5"/>
                        </a:lnTo>
                        <a:lnTo>
                          <a:pt x="278" y="5"/>
                        </a:lnTo>
                        <a:lnTo>
                          <a:pt x="283" y="4"/>
                        </a:lnTo>
                        <a:lnTo>
                          <a:pt x="287" y="4"/>
                        </a:lnTo>
                        <a:lnTo>
                          <a:pt x="292" y="4"/>
                        </a:lnTo>
                        <a:lnTo>
                          <a:pt x="296" y="4"/>
                        </a:lnTo>
                        <a:lnTo>
                          <a:pt x="303" y="4"/>
                        </a:lnTo>
                        <a:lnTo>
                          <a:pt x="307" y="4"/>
                        </a:lnTo>
                        <a:lnTo>
                          <a:pt x="312" y="4"/>
                        </a:lnTo>
                        <a:lnTo>
                          <a:pt x="318" y="4"/>
                        </a:lnTo>
                        <a:lnTo>
                          <a:pt x="322" y="4"/>
                        </a:lnTo>
                        <a:lnTo>
                          <a:pt x="327" y="4"/>
                        </a:lnTo>
                        <a:lnTo>
                          <a:pt x="333" y="4"/>
                        </a:lnTo>
                        <a:lnTo>
                          <a:pt x="339" y="4"/>
                        </a:lnTo>
                        <a:lnTo>
                          <a:pt x="344" y="4"/>
                        </a:lnTo>
                        <a:lnTo>
                          <a:pt x="348" y="4"/>
                        </a:lnTo>
                        <a:lnTo>
                          <a:pt x="355" y="4"/>
                        </a:lnTo>
                        <a:lnTo>
                          <a:pt x="359" y="4"/>
                        </a:lnTo>
                        <a:lnTo>
                          <a:pt x="365" y="4"/>
                        </a:lnTo>
                        <a:lnTo>
                          <a:pt x="370" y="4"/>
                        </a:lnTo>
                        <a:lnTo>
                          <a:pt x="376" y="4"/>
                        </a:lnTo>
                        <a:lnTo>
                          <a:pt x="382" y="4"/>
                        </a:lnTo>
                        <a:lnTo>
                          <a:pt x="387" y="4"/>
                        </a:lnTo>
                        <a:lnTo>
                          <a:pt x="391" y="4"/>
                        </a:lnTo>
                        <a:lnTo>
                          <a:pt x="396" y="4"/>
                        </a:lnTo>
                        <a:lnTo>
                          <a:pt x="402" y="4"/>
                        </a:lnTo>
                        <a:lnTo>
                          <a:pt x="407" y="4"/>
                        </a:lnTo>
                        <a:lnTo>
                          <a:pt x="413" y="4"/>
                        </a:lnTo>
                        <a:lnTo>
                          <a:pt x="417" y="4"/>
                        </a:lnTo>
                        <a:lnTo>
                          <a:pt x="423" y="4"/>
                        </a:lnTo>
                        <a:lnTo>
                          <a:pt x="428" y="3"/>
                        </a:lnTo>
                        <a:lnTo>
                          <a:pt x="433" y="3"/>
                        </a:lnTo>
                        <a:lnTo>
                          <a:pt x="437" y="1"/>
                        </a:lnTo>
                        <a:lnTo>
                          <a:pt x="443" y="1"/>
                        </a:lnTo>
                        <a:lnTo>
                          <a:pt x="448" y="1"/>
                        </a:lnTo>
                        <a:lnTo>
                          <a:pt x="454" y="0"/>
                        </a:lnTo>
                        <a:lnTo>
                          <a:pt x="459" y="0"/>
                        </a:lnTo>
                        <a:lnTo>
                          <a:pt x="46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233"/>
                  <p:cNvSpPr/>
                  <p:nvPr/>
                </p:nvSpPr>
                <p:spPr>
                  <a:xfrm>
                    <a:off x="4496760" y="3625560"/>
                    <a:ext cx="7200" cy="11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52" h="86">
                        <a:moveTo>
                          <a:pt x="9" y="0"/>
                        </a:moveTo>
                        <a:lnTo>
                          <a:pt x="15" y="1"/>
                        </a:lnTo>
                        <a:lnTo>
                          <a:pt x="21" y="5"/>
                        </a:lnTo>
                        <a:lnTo>
                          <a:pt x="24" y="8"/>
                        </a:lnTo>
                        <a:lnTo>
                          <a:pt x="29" y="11"/>
                        </a:lnTo>
                        <a:lnTo>
                          <a:pt x="32" y="14"/>
                        </a:lnTo>
                        <a:lnTo>
                          <a:pt x="34" y="19"/>
                        </a:lnTo>
                        <a:lnTo>
                          <a:pt x="35" y="23"/>
                        </a:lnTo>
                        <a:lnTo>
                          <a:pt x="38" y="29"/>
                        </a:lnTo>
                        <a:lnTo>
                          <a:pt x="38" y="33"/>
                        </a:lnTo>
                        <a:lnTo>
                          <a:pt x="40" y="38"/>
                        </a:lnTo>
                        <a:lnTo>
                          <a:pt x="40" y="44"/>
                        </a:lnTo>
                        <a:lnTo>
                          <a:pt x="41" y="48"/>
                        </a:lnTo>
                        <a:lnTo>
                          <a:pt x="43" y="54"/>
                        </a:lnTo>
                        <a:lnTo>
                          <a:pt x="46" y="58"/>
                        </a:lnTo>
                        <a:lnTo>
                          <a:pt x="49" y="62"/>
                        </a:lnTo>
                        <a:lnTo>
                          <a:pt x="52" y="67"/>
                        </a:lnTo>
                        <a:lnTo>
                          <a:pt x="52" y="71"/>
                        </a:lnTo>
                        <a:lnTo>
                          <a:pt x="49" y="77"/>
                        </a:lnTo>
                        <a:lnTo>
                          <a:pt x="46" y="82"/>
                        </a:lnTo>
                        <a:lnTo>
                          <a:pt x="44" y="86"/>
                        </a:lnTo>
                        <a:lnTo>
                          <a:pt x="41" y="85"/>
                        </a:lnTo>
                        <a:lnTo>
                          <a:pt x="37" y="85"/>
                        </a:lnTo>
                        <a:lnTo>
                          <a:pt x="34" y="82"/>
                        </a:lnTo>
                        <a:lnTo>
                          <a:pt x="32" y="82"/>
                        </a:lnTo>
                        <a:lnTo>
                          <a:pt x="26" y="78"/>
                        </a:lnTo>
                        <a:lnTo>
                          <a:pt x="23" y="74"/>
                        </a:lnTo>
                        <a:lnTo>
                          <a:pt x="18" y="70"/>
                        </a:lnTo>
                        <a:lnTo>
                          <a:pt x="15" y="65"/>
                        </a:lnTo>
                        <a:lnTo>
                          <a:pt x="12" y="60"/>
                        </a:lnTo>
                        <a:lnTo>
                          <a:pt x="11" y="55"/>
                        </a:lnTo>
                        <a:lnTo>
                          <a:pt x="8" y="48"/>
                        </a:lnTo>
                        <a:lnTo>
                          <a:pt x="6" y="43"/>
                        </a:lnTo>
                        <a:lnTo>
                          <a:pt x="4" y="37"/>
                        </a:lnTo>
                        <a:lnTo>
                          <a:pt x="4" y="32"/>
                        </a:lnTo>
                        <a:lnTo>
                          <a:pt x="3" y="26"/>
                        </a:lnTo>
                        <a:lnTo>
                          <a:pt x="1" y="21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1" y="8"/>
                        </a:lnTo>
                        <a:lnTo>
                          <a:pt x="4" y="5"/>
                        </a:lnTo>
                        <a:lnTo>
                          <a:pt x="8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234"/>
                  <p:cNvSpPr/>
                  <p:nvPr/>
                </p:nvSpPr>
                <p:spPr>
                  <a:xfrm>
                    <a:off x="4485960" y="3626280"/>
                    <a:ext cx="6840" cy="936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8" h="73">
                        <a:moveTo>
                          <a:pt x="10" y="0"/>
                        </a:moveTo>
                        <a:lnTo>
                          <a:pt x="14" y="1"/>
                        </a:lnTo>
                        <a:lnTo>
                          <a:pt x="19" y="5"/>
                        </a:lnTo>
                        <a:lnTo>
                          <a:pt x="23" y="8"/>
                        </a:lnTo>
                        <a:lnTo>
                          <a:pt x="26" y="11"/>
                        </a:lnTo>
                        <a:lnTo>
                          <a:pt x="29" y="15"/>
                        </a:lnTo>
                        <a:lnTo>
                          <a:pt x="33" y="19"/>
                        </a:lnTo>
                        <a:lnTo>
                          <a:pt x="34" y="23"/>
                        </a:lnTo>
                        <a:lnTo>
                          <a:pt x="37" y="29"/>
                        </a:lnTo>
                        <a:lnTo>
                          <a:pt x="39" y="33"/>
                        </a:lnTo>
                        <a:lnTo>
                          <a:pt x="40" y="38"/>
                        </a:lnTo>
                        <a:lnTo>
                          <a:pt x="42" y="42"/>
                        </a:lnTo>
                        <a:lnTo>
                          <a:pt x="43" y="48"/>
                        </a:lnTo>
                        <a:lnTo>
                          <a:pt x="45" y="53"/>
                        </a:lnTo>
                        <a:lnTo>
                          <a:pt x="45" y="57"/>
                        </a:lnTo>
                        <a:lnTo>
                          <a:pt x="46" y="63"/>
                        </a:lnTo>
                        <a:lnTo>
                          <a:pt x="48" y="68"/>
                        </a:lnTo>
                        <a:lnTo>
                          <a:pt x="43" y="68"/>
                        </a:lnTo>
                        <a:lnTo>
                          <a:pt x="37" y="70"/>
                        </a:lnTo>
                        <a:lnTo>
                          <a:pt x="31" y="71"/>
                        </a:lnTo>
                        <a:lnTo>
                          <a:pt x="25" y="73"/>
                        </a:lnTo>
                        <a:lnTo>
                          <a:pt x="22" y="68"/>
                        </a:lnTo>
                        <a:lnTo>
                          <a:pt x="19" y="64"/>
                        </a:lnTo>
                        <a:lnTo>
                          <a:pt x="14" y="59"/>
                        </a:lnTo>
                        <a:lnTo>
                          <a:pt x="13" y="55"/>
                        </a:lnTo>
                        <a:lnTo>
                          <a:pt x="10" y="51"/>
                        </a:lnTo>
                        <a:lnTo>
                          <a:pt x="7" y="45"/>
                        </a:lnTo>
                        <a:lnTo>
                          <a:pt x="5" y="41"/>
                        </a:lnTo>
                        <a:lnTo>
                          <a:pt x="3" y="37"/>
                        </a:lnTo>
                        <a:lnTo>
                          <a:pt x="2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0" y="18"/>
                        </a:lnTo>
                        <a:lnTo>
                          <a:pt x="2" y="12"/>
                        </a:lnTo>
                        <a:lnTo>
                          <a:pt x="3" y="8"/>
                        </a:lnTo>
                        <a:lnTo>
                          <a:pt x="7" y="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235"/>
                  <p:cNvSpPr/>
                  <p:nvPr/>
                </p:nvSpPr>
                <p:spPr>
                  <a:xfrm>
                    <a:off x="4509360" y="3627000"/>
                    <a:ext cx="7920" cy="900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55" h="70">
                        <a:moveTo>
                          <a:pt x="12" y="0"/>
                        </a:moveTo>
                        <a:lnTo>
                          <a:pt x="16" y="2"/>
                        </a:lnTo>
                        <a:lnTo>
                          <a:pt x="21" y="4"/>
                        </a:lnTo>
                        <a:lnTo>
                          <a:pt x="24" y="7"/>
                        </a:lnTo>
                        <a:lnTo>
                          <a:pt x="29" y="11"/>
                        </a:lnTo>
                        <a:lnTo>
                          <a:pt x="32" y="14"/>
                        </a:lnTo>
                        <a:lnTo>
                          <a:pt x="35" y="18"/>
                        </a:lnTo>
                        <a:lnTo>
                          <a:pt x="38" y="24"/>
                        </a:lnTo>
                        <a:lnTo>
                          <a:pt x="39" y="28"/>
                        </a:lnTo>
                        <a:lnTo>
                          <a:pt x="42" y="33"/>
                        </a:lnTo>
                        <a:lnTo>
                          <a:pt x="44" y="37"/>
                        </a:lnTo>
                        <a:lnTo>
                          <a:pt x="45" y="43"/>
                        </a:lnTo>
                        <a:lnTo>
                          <a:pt x="47" y="48"/>
                        </a:lnTo>
                        <a:lnTo>
                          <a:pt x="49" y="53"/>
                        </a:lnTo>
                        <a:lnTo>
                          <a:pt x="50" y="57"/>
                        </a:lnTo>
                        <a:lnTo>
                          <a:pt x="52" y="62"/>
                        </a:lnTo>
                        <a:lnTo>
                          <a:pt x="55" y="66"/>
                        </a:lnTo>
                        <a:lnTo>
                          <a:pt x="49" y="68"/>
                        </a:lnTo>
                        <a:lnTo>
                          <a:pt x="42" y="69"/>
                        </a:lnTo>
                        <a:lnTo>
                          <a:pt x="38" y="70"/>
                        </a:lnTo>
                        <a:lnTo>
                          <a:pt x="32" y="70"/>
                        </a:lnTo>
                        <a:lnTo>
                          <a:pt x="27" y="66"/>
                        </a:lnTo>
                        <a:lnTo>
                          <a:pt x="23" y="64"/>
                        </a:lnTo>
                        <a:lnTo>
                          <a:pt x="19" y="59"/>
                        </a:lnTo>
                        <a:lnTo>
                          <a:pt x="16" y="55"/>
                        </a:lnTo>
                        <a:lnTo>
                          <a:pt x="12" y="50"/>
                        </a:lnTo>
                        <a:lnTo>
                          <a:pt x="9" y="46"/>
                        </a:lnTo>
                        <a:lnTo>
                          <a:pt x="6" y="42"/>
                        </a:lnTo>
                        <a:lnTo>
                          <a:pt x="4" y="36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1"/>
                        </a:lnTo>
                        <a:lnTo>
                          <a:pt x="1" y="17"/>
                        </a:lnTo>
                        <a:lnTo>
                          <a:pt x="1" y="11"/>
                        </a:lnTo>
                        <a:lnTo>
                          <a:pt x="4" y="9"/>
                        </a:lnTo>
                        <a:lnTo>
                          <a:pt x="7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Freeform 236"/>
                  <p:cNvSpPr/>
                  <p:nvPr/>
                </p:nvSpPr>
                <p:spPr>
                  <a:xfrm>
                    <a:off x="4520160" y="3628080"/>
                    <a:ext cx="6840" cy="936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47" h="74">
                        <a:moveTo>
                          <a:pt x="9" y="0"/>
                        </a:moveTo>
                        <a:lnTo>
                          <a:pt x="15" y="2"/>
                        </a:lnTo>
                        <a:lnTo>
                          <a:pt x="19" y="4"/>
                        </a:lnTo>
                        <a:lnTo>
                          <a:pt x="24" y="7"/>
                        </a:lnTo>
                        <a:lnTo>
                          <a:pt x="29" y="11"/>
                        </a:lnTo>
                        <a:lnTo>
                          <a:pt x="30" y="14"/>
                        </a:lnTo>
                        <a:lnTo>
                          <a:pt x="33" y="19"/>
                        </a:lnTo>
                        <a:lnTo>
                          <a:pt x="36" y="25"/>
                        </a:lnTo>
                        <a:lnTo>
                          <a:pt x="38" y="29"/>
                        </a:lnTo>
                        <a:lnTo>
                          <a:pt x="38" y="35"/>
                        </a:lnTo>
                        <a:lnTo>
                          <a:pt x="39" y="40"/>
                        </a:lnTo>
                        <a:lnTo>
                          <a:pt x="41" y="46"/>
                        </a:lnTo>
                        <a:lnTo>
                          <a:pt x="42" y="51"/>
                        </a:lnTo>
                        <a:lnTo>
                          <a:pt x="42" y="55"/>
                        </a:lnTo>
                        <a:lnTo>
                          <a:pt x="44" y="61"/>
                        </a:lnTo>
                        <a:lnTo>
                          <a:pt x="45" y="65"/>
                        </a:lnTo>
                        <a:lnTo>
                          <a:pt x="47" y="70"/>
                        </a:lnTo>
                        <a:lnTo>
                          <a:pt x="41" y="70"/>
                        </a:lnTo>
                        <a:lnTo>
                          <a:pt x="35" y="72"/>
                        </a:lnTo>
                        <a:lnTo>
                          <a:pt x="29" y="73"/>
                        </a:lnTo>
                        <a:lnTo>
                          <a:pt x="26" y="74"/>
                        </a:lnTo>
                        <a:lnTo>
                          <a:pt x="21" y="70"/>
                        </a:lnTo>
                        <a:lnTo>
                          <a:pt x="18" y="66"/>
                        </a:lnTo>
                        <a:lnTo>
                          <a:pt x="15" y="61"/>
                        </a:lnTo>
                        <a:lnTo>
                          <a:pt x="12" y="57"/>
                        </a:lnTo>
                        <a:lnTo>
                          <a:pt x="9" y="51"/>
                        </a:lnTo>
                        <a:lnTo>
                          <a:pt x="7" y="47"/>
                        </a:lnTo>
                        <a:lnTo>
                          <a:pt x="4" y="41"/>
                        </a:lnTo>
                        <a:lnTo>
                          <a:pt x="4" y="37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2"/>
                        </a:lnTo>
                        <a:lnTo>
                          <a:pt x="1" y="17"/>
                        </a:lnTo>
                        <a:lnTo>
                          <a:pt x="1" y="13"/>
                        </a:lnTo>
                        <a:lnTo>
                          <a:pt x="3" y="8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Freeform 237"/>
                  <p:cNvSpPr/>
                  <p:nvPr/>
                </p:nvSpPr>
                <p:spPr>
                  <a:xfrm>
                    <a:off x="4388040" y="3553560"/>
                    <a:ext cx="7560" cy="6840"/>
                  </a:xfrm>
                  <a:custGeom>
                    <a:avLst/>
                    <a:gdLst>
                      <a:gd name="textAreaLeft" fmla="*/ 0 w 7560"/>
                      <a:gd name="textAreaRight" fmla="*/ 7920 w 75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2" h="53">
                        <a:moveTo>
                          <a:pt x="38" y="0"/>
                        </a:moveTo>
                        <a:lnTo>
                          <a:pt x="41" y="0"/>
                        </a:lnTo>
                        <a:lnTo>
                          <a:pt x="44" y="1"/>
                        </a:lnTo>
                        <a:lnTo>
                          <a:pt x="46" y="2"/>
                        </a:lnTo>
                        <a:lnTo>
                          <a:pt x="49" y="4"/>
                        </a:lnTo>
                        <a:lnTo>
                          <a:pt x="50" y="8"/>
                        </a:lnTo>
                        <a:lnTo>
                          <a:pt x="52" y="13"/>
                        </a:lnTo>
                        <a:lnTo>
                          <a:pt x="50" y="19"/>
                        </a:lnTo>
                        <a:lnTo>
                          <a:pt x="49" y="24"/>
                        </a:lnTo>
                        <a:lnTo>
                          <a:pt x="46" y="30"/>
                        </a:lnTo>
                        <a:lnTo>
                          <a:pt x="43" y="37"/>
                        </a:lnTo>
                        <a:lnTo>
                          <a:pt x="38" y="41"/>
                        </a:lnTo>
                        <a:lnTo>
                          <a:pt x="32" y="46"/>
                        </a:lnTo>
                        <a:lnTo>
                          <a:pt x="27" y="49"/>
                        </a:lnTo>
                        <a:lnTo>
                          <a:pt x="21" y="53"/>
                        </a:lnTo>
                        <a:lnTo>
                          <a:pt x="15" y="53"/>
                        </a:lnTo>
                        <a:lnTo>
                          <a:pt x="9" y="53"/>
                        </a:lnTo>
                        <a:lnTo>
                          <a:pt x="4" y="50"/>
                        </a:lnTo>
                        <a:lnTo>
                          <a:pt x="0" y="48"/>
                        </a:lnTo>
                        <a:lnTo>
                          <a:pt x="0" y="43"/>
                        </a:lnTo>
                        <a:lnTo>
                          <a:pt x="0" y="39"/>
                        </a:lnTo>
                        <a:lnTo>
                          <a:pt x="1" y="35"/>
                        </a:lnTo>
                        <a:lnTo>
                          <a:pt x="3" y="33"/>
                        </a:lnTo>
                        <a:lnTo>
                          <a:pt x="4" y="28"/>
                        </a:lnTo>
                        <a:lnTo>
                          <a:pt x="6" y="26"/>
                        </a:lnTo>
                        <a:lnTo>
                          <a:pt x="9" y="23"/>
                        </a:lnTo>
                        <a:lnTo>
                          <a:pt x="12" y="19"/>
                        </a:lnTo>
                        <a:lnTo>
                          <a:pt x="14" y="16"/>
                        </a:lnTo>
                        <a:lnTo>
                          <a:pt x="17" y="12"/>
                        </a:lnTo>
                        <a:lnTo>
                          <a:pt x="20" y="9"/>
                        </a:lnTo>
                        <a:lnTo>
                          <a:pt x="24" y="8"/>
                        </a:lnTo>
                        <a:lnTo>
                          <a:pt x="27" y="5"/>
                        </a:lnTo>
                        <a:lnTo>
                          <a:pt x="30" y="2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238"/>
                  <p:cNvSpPr/>
                  <p:nvPr/>
                </p:nvSpPr>
                <p:spPr>
                  <a:xfrm>
                    <a:off x="4388040" y="3560040"/>
                    <a:ext cx="9000" cy="1080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63" h="84">
                        <a:moveTo>
                          <a:pt x="47" y="0"/>
                        </a:moveTo>
                        <a:lnTo>
                          <a:pt x="50" y="1"/>
                        </a:lnTo>
                        <a:lnTo>
                          <a:pt x="53" y="4"/>
                        </a:lnTo>
                        <a:lnTo>
                          <a:pt x="55" y="5"/>
                        </a:lnTo>
                        <a:lnTo>
                          <a:pt x="58" y="8"/>
                        </a:lnTo>
                        <a:lnTo>
                          <a:pt x="61" y="14"/>
                        </a:lnTo>
                        <a:lnTo>
                          <a:pt x="63" y="18"/>
                        </a:lnTo>
                        <a:lnTo>
                          <a:pt x="63" y="23"/>
                        </a:lnTo>
                        <a:lnTo>
                          <a:pt x="61" y="29"/>
                        </a:lnTo>
                        <a:lnTo>
                          <a:pt x="60" y="34"/>
                        </a:lnTo>
                        <a:lnTo>
                          <a:pt x="56" y="41"/>
                        </a:lnTo>
                        <a:lnTo>
                          <a:pt x="52" y="47"/>
                        </a:lnTo>
                        <a:lnTo>
                          <a:pt x="49" y="52"/>
                        </a:lnTo>
                        <a:lnTo>
                          <a:pt x="44" y="58"/>
                        </a:lnTo>
                        <a:lnTo>
                          <a:pt x="40" y="63"/>
                        </a:lnTo>
                        <a:lnTo>
                          <a:pt x="35" y="69"/>
                        </a:lnTo>
                        <a:lnTo>
                          <a:pt x="32" y="74"/>
                        </a:lnTo>
                        <a:lnTo>
                          <a:pt x="27" y="78"/>
                        </a:lnTo>
                        <a:lnTo>
                          <a:pt x="24" y="84"/>
                        </a:lnTo>
                        <a:lnTo>
                          <a:pt x="18" y="82"/>
                        </a:lnTo>
                        <a:lnTo>
                          <a:pt x="12" y="81"/>
                        </a:lnTo>
                        <a:lnTo>
                          <a:pt x="9" y="80"/>
                        </a:lnTo>
                        <a:lnTo>
                          <a:pt x="6" y="80"/>
                        </a:lnTo>
                        <a:lnTo>
                          <a:pt x="3" y="80"/>
                        </a:lnTo>
                        <a:lnTo>
                          <a:pt x="0" y="80"/>
                        </a:lnTo>
                        <a:lnTo>
                          <a:pt x="1" y="74"/>
                        </a:lnTo>
                        <a:lnTo>
                          <a:pt x="4" y="69"/>
                        </a:lnTo>
                        <a:lnTo>
                          <a:pt x="6" y="63"/>
                        </a:lnTo>
                        <a:lnTo>
                          <a:pt x="9" y="58"/>
                        </a:lnTo>
                        <a:lnTo>
                          <a:pt x="12" y="52"/>
                        </a:lnTo>
                        <a:lnTo>
                          <a:pt x="15" y="47"/>
                        </a:lnTo>
                        <a:lnTo>
                          <a:pt x="17" y="43"/>
                        </a:lnTo>
                        <a:lnTo>
                          <a:pt x="21" y="38"/>
                        </a:lnTo>
                        <a:lnTo>
                          <a:pt x="23" y="33"/>
                        </a:lnTo>
                        <a:lnTo>
                          <a:pt x="26" y="27"/>
                        </a:lnTo>
                        <a:lnTo>
                          <a:pt x="29" y="23"/>
                        </a:lnTo>
                        <a:lnTo>
                          <a:pt x="34" y="19"/>
                        </a:lnTo>
                        <a:lnTo>
                          <a:pt x="37" y="14"/>
                        </a:lnTo>
                        <a:lnTo>
                          <a:pt x="40" y="10"/>
                        </a:lnTo>
                        <a:lnTo>
                          <a:pt x="44" y="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Freeform 239"/>
                  <p:cNvSpPr/>
                  <p:nvPr/>
                </p:nvSpPr>
                <p:spPr>
                  <a:xfrm>
                    <a:off x="4388040" y="3571200"/>
                    <a:ext cx="10080" cy="133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72" h="103">
                        <a:moveTo>
                          <a:pt x="55" y="0"/>
                        </a:moveTo>
                        <a:lnTo>
                          <a:pt x="58" y="1"/>
                        </a:lnTo>
                        <a:lnTo>
                          <a:pt x="63" y="4"/>
                        </a:lnTo>
                        <a:lnTo>
                          <a:pt x="64" y="7"/>
                        </a:lnTo>
                        <a:lnTo>
                          <a:pt x="67" y="8"/>
                        </a:lnTo>
                        <a:lnTo>
                          <a:pt x="69" y="13"/>
                        </a:lnTo>
                        <a:lnTo>
                          <a:pt x="72" y="19"/>
                        </a:lnTo>
                        <a:lnTo>
                          <a:pt x="70" y="24"/>
                        </a:lnTo>
                        <a:lnTo>
                          <a:pt x="69" y="30"/>
                        </a:lnTo>
                        <a:lnTo>
                          <a:pt x="66" y="35"/>
                        </a:lnTo>
                        <a:lnTo>
                          <a:pt x="63" y="41"/>
                        </a:lnTo>
                        <a:lnTo>
                          <a:pt x="60" y="46"/>
                        </a:lnTo>
                        <a:lnTo>
                          <a:pt x="55" y="53"/>
                        </a:lnTo>
                        <a:lnTo>
                          <a:pt x="50" y="57"/>
                        </a:lnTo>
                        <a:lnTo>
                          <a:pt x="46" y="64"/>
                        </a:lnTo>
                        <a:lnTo>
                          <a:pt x="43" y="70"/>
                        </a:lnTo>
                        <a:lnTo>
                          <a:pt x="40" y="75"/>
                        </a:lnTo>
                        <a:lnTo>
                          <a:pt x="38" y="81"/>
                        </a:lnTo>
                        <a:lnTo>
                          <a:pt x="38" y="86"/>
                        </a:lnTo>
                        <a:lnTo>
                          <a:pt x="32" y="90"/>
                        </a:lnTo>
                        <a:lnTo>
                          <a:pt x="27" y="94"/>
                        </a:lnTo>
                        <a:lnTo>
                          <a:pt x="21" y="99"/>
                        </a:lnTo>
                        <a:lnTo>
                          <a:pt x="17" y="103"/>
                        </a:lnTo>
                        <a:lnTo>
                          <a:pt x="12" y="100"/>
                        </a:lnTo>
                        <a:lnTo>
                          <a:pt x="9" y="97"/>
                        </a:lnTo>
                        <a:lnTo>
                          <a:pt x="4" y="93"/>
                        </a:lnTo>
                        <a:lnTo>
                          <a:pt x="0" y="90"/>
                        </a:lnTo>
                        <a:lnTo>
                          <a:pt x="0" y="88"/>
                        </a:lnTo>
                        <a:lnTo>
                          <a:pt x="1" y="83"/>
                        </a:lnTo>
                        <a:lnTo>
                          <a:pt x="1" y="81"/>
                        </a:lnTo>
                        <a:lnTo>
                          <a:pt x="3" y="78"/>
                        </a:lnTo>
                        <a:lnTo>
                          <a:pt x="6" y="71"/>
                        </a:lnTo>
                        <a:lnTo>
                          <a:pt x="9" y="66"/>
                        </a:lnTo>
                        <a:lnTo>
                          <a:pt x="12" y="60"/>
                        </a:lnTo>
                        <a:lnTo>
                          <a:pt x="17" y="55"/>
                        </a:lnTo>
                        <a:lnTo>
                          <a:pt x="20" y="49"/>
                        </a:lnTo>
                        <a:lnTo>
                          <a:pt x="24" y="44"/>
                        </a:lnTo>
                        <a:lnTo>
                          <a:pt x="29" y="38"/>
                        </a:lnTo>
                        <a:lnTo>
                          <a:pt x="32" y="31"/>
                        </a:lnTo>
                        <a:lnTo>
                          <a:pt x="35" y="26"/>
                        </a:lnTo>
                        <a:lnTo>
                          <a:pt x="40" y="22"/>
                        </a:lnTo>
                        <a:lnTo>
                          <a:pt x="44" y="16"/>
                        </a:lnTo>
                        <a:lnTo>
                          <a:pt x="47" y="11"/>
                        </a:lnTo>
                        <a:lnTo>
                          <a:pt x="52" y="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Freeform 240"/>
                  <p:cNvSpPr/>
                  <p:nvPr/>
                </p:nvSpPr>
                <p:spPr>
                  <a:xfrm>
                    <a:off x="4435200" y="3534120"/>
                    <a:ext cx="8640" cy="5040"/>
                  </a:xfrm>
                  <a:custGeom>
                    <a:avLst/>
                    <a:gdLst>
                      <a:gd name="textAreaLeft" fmla="*/ 0 w 8640"/>
                      <a:gd name="textAreaRight" fmla="*/ 9000 w 864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62" h="39">
                        <a:moveTo>
                          <a:pt x="12" y="0"/>
                        </a:moveTo>
                        <a:lnTo>
                          <a:pt x="15" y="0"/>
                        </a:lnTo>
                        <a:lnTo>
                          <a:pt x="18" y="0"/>
                        </a:lnTo>
                        <a:lnTo>
                          <a:pt x="24" y="2"/>
                        </a:lnTo>
                        <a:lnTo>
                          <a:pt x="29" y="3"/>
                        </a:lnTo>
                        <a:lnTo>
                          <a:pt x="35" y="6"/>
                        </a:lnTo>
                        <a:lnTo>
                          <a:pt x="41" y="9"/>
                        </a:lnTo>
                        <a:lnTo>
                          <a:pt x="46" y="10"/>
                        </a:lnTo>
                        <a:lnTo>
                          <a:pt x="52" y="14"/>
                        </a:lnTo>
                        <a:lnTo>
                          <a:pt x="55" y="15"/>
                        </a:lnTo>
                        <a:lnTo>
                          <a:pt x="59" y="20"/>
                        </a:lnTo>
                        <a:lnTo>
                          <a:pt x="61" y="22"/>
                        </a:lnTo>
                        <a:lnTo>
                          <a:pt x="62" y="26"/>
                        </a:lnTo>
                        <a:lnTo>
                          <a:pt x="61" y="29"/>
                        </a:lnTo>
                        <a:lnTo>
                          <a:pt x="59" y="32"/>
                        </a:lnTo>
                        <a:lnTo>
                          <a:pt x="56" y="35"/>
                        </a:lnTo>
                        <a:lnTo>
                          <a:pt x="55" y="36"/>
                        </a:lnTo>
                        <a:lnTo>
                          <a:pt x="52" y="37"/>
                        </a:lnTo>
                        <a:lnTo>
                          <a:pt x="49" y="39"/>
                        </a:lnTo>
                        <a:lnTo>
                          <a:pt x="44" y="39"/>
                        </a:lnTo>
                        <a:lnTo>
                          <a:pt x="41" y="39"/>
                        </a:lnTo>
                        <a:lnTo>
                          <a:pt x="36" y="37"/>
                        </a:lnTo>
                        <a:lnTo>
                          <a:pt x="32" y="37"/>
                        </a:lnTo>
                        <a:lnTo>
                          <a:pt x="26" y="35"/>
                        </a:lnTo>
                        <a:lnTo>
                          <a:pt x="21" y="33"/>
                        </a:lnTo>
                        <a:lnTo>
                          <a:pt x="15" y="31"/>
                        </a:lnTo>
                        <a:lnTo>
                          <a:pt x="10" y="28"/>
                        </a:lnTo>
                        <a:lnTo>
                          <a:pt x="6" y="25"/>
                        </a:lnTo>
                        <a:lnTo>
                          <a:pt x="3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241"/>
                  <p:cNvSpPr/>
                  <p:nvPr/>
                </p:nvSpPr>
                <p:spPr>
                  <a:xfrm>
                    <a:off x="4435560" y="3540960"/>
                    <a:ext cx="9000" cy="5400"/>
                  </a:xfrm>
                  <a:custGeom>
                    <a:avLst/>
                    <a:gdLst>
                      <a:gd name="textAreaLeft" fmla="*/ 0 w 9000"/>
                      <a:gd name="textAreaRight" fmla="*/ 9360 w 90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4" h="42">
                        <a:moveTo>
                          <a:pt x="12" y="0"/>
                        </a:moveTo>
                        <a:lnTo>
                          <a:pt x="15" y="2"/>
                        </a:lnTo>
                        <a:lnTo>
                          <a:pt x="20" y="2"/>
                        </a:lnTo>
                        <a:lnTo>
                          <a:pt x="24" y="5"/>
                        </a:lnTo>
                        <a:lnTo>
                          <a:pt x="30" y="6"/>
                        </a:lnTo>
                        <a:lnTo>
                          <a:pt x="35" y="7"/>
                        </a:lnTo>
                        <a:lnTo>
                          <a:pt x="41" y="10"/>
                        </a:lnTo>
                        <a:lnTo>
                          <a:pt x="47" y="11"/>
                        </a:lnTo>
                        <a:lnTo>
                          <a:pt x="52" y="16"/>
                        </a:lnTo>
                        <a:lnTo>
                          <a:pt x="56" y="17"/>
                        </a:lnTo>
                        <a:lnTo>
                          <a:pt x="59" y="20"/>
                        </a:lnTo>
                        <a:lnTo>
                          <a:pt x="62" y="24"/>
                        </a:lnTo>
                        <a:lnTo>
                          <a:pt x="64" y="27"/>
                        </a:lnTo>
                        <a:lnTo>
                          <a:pt x="62" y="31"/>
                        </a:lnTo>
                        <a:lnTo>
                          <a:pt x="61" y="33"/>
                        </a:lnTo>
                        <a:lnTo>
                          <a:pt x="58" y="35"/>
                        </a:lnTo>
                        <a:lnTo>
                          <a:pt x="56" y="38"/>
                        </a:lnTo>
                        <a:lnTo>
                          <a:pt x="53" y="39"/>
                        </a:lnTo>
                        <a:lnTo>
                          <a:pt x="50" y="42"/>
                        </a:lnTo>
                        <a:lnTo>
                          <a:pt x="46" y="42"/>
                        </a:lnTo>
                        <a:lnTo>
                          <a:pt x="41" y="42"/>
                        </a:lnTo>
                        <a:lnTo>
                          <a:pt x="35" y="40"/>
                        </a:lnTo>
                        <a:lnTo>
                          <a:pt x="30" y="39"/>
                        </a:lnTo>
                        <a:lnTo>
                          <a:pt x="26" y="36"/>
                        </a:lnTo>
                        <a:lnTo>
                          <a:pt x="20" y="35"/>
                        </a:lnTo>
                        <a:lnTo>
                          <a:pt x="15" y="32"/>
                        </a:lnTo>
                        <a:lnTo>
                          <a:pt x="10" y="29"/>
                        </a:lnTo>
                        <a:lnTo>
                          <a:pt x="4" y="25"/>
                        </a:lnTo>
                        <a:lnTo>
                          <a:pt x="1" y="21"/>
                        </a:ln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1" y="7"/>
                        </a:lnTo>
                        <a:lnTo>
                          <a:pt x="3" y="5"/>
                        </a:lnTo>
                        <a:lnTo>
                          <a:pt x="6" y="3"/>
                        </a:lnTo>
                        <a:lnTo>
                          <a:pt x="7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242"/>
                  <p:cNvSpPr/>
                  <p:nvPr/>
                </p:nvSpPr>
                <p:spPr>
                  <a:xfrm>
                    <a:off x="4434480" y="3549240"/>
                    <a:ext cx="9360" cy="504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040"/>
                      <a:gd name="textAreaBottom" fmla="*/ 5400 h 5040"/>
                    </a:gdLst>
                    <a:ahLst/>
                    <a:rect l="textAreaLeft" t="textAreaTop" r="textAreaRight" b="textAreaBottom"/>
                    <a:pathLst>
                      <a:path w="67" h="39">
                        <a:moveTo>
                          <a:pt x="12" y="0"/>
                        </a:moveTo>
                        <a:lnTo>
                          <a:pt x="14" y="0"/>
                        </a:lnTo>
                        <a:lnTo>
                          <a:pt x="18" y="2"/>
                        </a:lnTo>
                        <a:lnTo>
                          <a:pt x="23" y="2"/>
                        </a:lnTo>
                        <a:lnTo>
                          <a:pt x="31" y="3"/>
                        </a:lnTo>
                        <a:lnTo>
                          <a:pt x="35" y="4"/>
                        </a:lnTo>
                        <a:lnTo>
                          <a:pt x="41" y="7"/>
                        </a:lnTo>
                        <a:lnTo>
                          <a:pt x="48" y="8"/>
                        </a:lnTo>
                        <a:lnTo>
                          <a:pt x="54" y="11"/>
                        </a:lnTo>
                        <a:lnTo>
                          <a:pt x="58" y="14"/>
                        </a:lnTo>
                        <a:lnTo>
                          <a:pt x="63" y="17"/>
                        </a:lnTo>
                        <a:lnTo>
                          <a:pt x="66" y="19"/>
                        </a:lnTo>
                        <a:lnTo>
                          <a:pt x="67" y="22"/>
                        </a:lnTo>
                        <a:lnTo>
                          <a:pt x="67" y="26"/>
                        </a:lnTo>
                        <a:lnTo>
                          <a:pt x="66" y="30"/>
                        </a:lnTo>
                        <a:lnTo>
                          <a:pt x="63" y="32"/>
                        </a:lnTo>
                        <a:lnTo>
                          <a:pt x="61" y="35"/>
                        </a:lnTo>
                        <a:lnTo>
                          <a:pt x="58" y="36"/>
                        </a:lnTo>
                        <a:lnTo>
                          <a:pt x="55" y="39"/>
                        </a:lnTo>
                        <a:lnTo>
                          <a:pt x="51" y="39"/>
                        </a:lnTo>
                        <a:lnTo>
                          <a:pt x="46" y="37"/>
                        </a:lnTo>
                        <a:lnTo>
                          <a:pt x="40" y="36"/>
                        </a:lnTo>
                        <a:lnTo>
                          <a:pt x="34" y="35"/>
                        </a:lnTo>
                        <a:lnTo>
                          <a:pt x="28" y="33"/>
                        </a:lnTo>
                        <a:lnTo>
                          <a:pt x="23" y="32"/>
                        </a:lnTo>
                        <a:lnTo>
                          <a:pt x="17" y="29"/>
                        </a:lnTo>
                        <a:lnTo>
                          <a:pt x="12" y="28"/>
                        </a:lnTo>
                        <a:lnTo>
                          <a:pt x="8" y="24"/>
                        </a:lnTo>
                        <a:lnTo>
                          <a:pt x="5" y="21"/>
                        </a:lnTo>
                        <a:lnTo>
                          <a:pt x="2" y="18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2" y="7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Freeform 243"/>
                  <p:cNvSpPr/>
                  <p:nvPr/>
                </p:nvSpPr>
                <p:spPr>
                  <a:xfrm>
                    <a:off x="4437360" y="3555720"/>
                    <a:ext cx="7920" cy="576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56" h="45">
                        <a:moveTo>
                          <a:pt x="14" y="0"/>
                        </a:moveTo>
                        <a:lnTo>
                          <a:pt x="17" y="1"/>
                        </a:lnTo>
                        <a:lnTo>
                          <a:pt x="20" y="2"/>
                        </a:lnTo>
                        <a:lnTo>
                          <a:pt x="25" y="4"/>
                        </a:lnTo>
                        <a:lnTo>
                          <a:pt x="30" y="7"/>
                        </a:lnTo>
                        <a:lnTo>
                          <a:pt x="34" y="8"/>
                        </a:lnTo>
                        <a:lnTo>
                          <a:pt x="39" y="12"/>
                        </a:lnTo>
                        <a:lnTo>
                          <a:pt x="43" y="15"/>
                        </a:lnTo>
                        <a:lnTo>
                          <a:pt x="48" y="19"/>
                        </a:lnTo>
                        <a:lnTo>
                          <a:pt x="51" y="22"/>
                        </a:lnTo>
                        <a:lnTo>
                          <a:pt x="52" y="24"/>
                        </a:lnTo>
                        <a:lnTo>
                          <a:pt x="56" y="28"/>
                        </a:lnTo>
                        <a:lnTo>
                          <a:pt x="56" y="33"/>
                        </a:lnTo>
                        <a:lnTo>
                          <a:pt x="54" y="35"/>
                        </a:lnTo>
                        <a:lnTo>
                          <a:pt x="52" y="38"/>
                        </a:lnTo>
                        <a:lnTo>
                          <a:pt x="49" y="41"/>
                        </a:lnTo>
                        <a:lnTo>
                          <a:pt x="48" y="42"/>
                        </a:lnTo>
                        <a:lnTo>
                          <a:pt x="45" y="44"/>
                        </a:lnTo>
                        <a:lnTo>
                          <a:pt x="42" y="45"/>
                        </a:lnTo>
                        <a:lnTo>
                          <a:pt x="37" y="44"/>
                        </a:lnTo>
                        <a:lnTo>
                          <a:pt x="33" y="44"/>
                        </a:lnTo>
                        <a:lnTo>
                          <a:pt x="28" y="41"/>
                        </a:lnTo>
                        <a:lnTo>
                          <a:pt x="23" y="39"/>
                        </a:lnTo>
                        <a:lnTo>
                          <a:pt x="19" y="37"/>
                        </a:lnTo>
                        <a:lnTo>
                          <a:pt x="16" y="34"/>
                        </a:lnTo>
                        <a:lnTo>
                          <a:pt x="11" y="30"/>
                        </a:lnTo>
                        <a:lnTo>
                          <a:pt x="8" y="27"/>
                        </a:lnTo>
                        <a:lnTo>
                          <a:pt x="5" y="23"/>
                        </a:lnTo>
                        <a:lnTo>
                          <a:pt x="2" y="20"/>
                        </a:lnTo>
                        <a:lnTo>
                          <a:pt x="0" y="16"/>
                        </a:lnTo>
                        <a:lnTo>
                          <a:pt x="2" y="13"/>
                        </a:lnTo>
                        <a:lnTo>
                          <a:pt x="2" y="9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Freeform 244"/>
                  <p:cNvSpPr/>
                  <p:nvPr/>
                </p:nvSpPr>
                <p:spPr>
                  <a:xfrm>
                    <a:off x="4474080" y="3577320"/>
                    <a:ext cx="6120" cy="122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44" h="96">
                        <a:moveTo>
                          <a:pt x="17" y="0"/>
                        </a:moveTo>
                        <a:lnTo>
                          <a:pt x="21" y="2"/>
                        </a:lnTo>
                        <a:lnTo>
                          <a:pt x="26" y="5"/>
                        </a:lnTo>
                        <a:lnTo>
                          <a:pt x="29" y="9"/>
                        </a:lnTo>
                        <a:lnTo>
                          <a:pt x="32" y="15"/>
                        </a:lnTo>
                        <a:lnTo>
                          <a:pt x="33" y="19"/>
                        </a:lnTo>
                        <a:lnTo>
                          <a:pt x="33" y="23"/>
                        </a:lnTo>
                        <a:lnTo>
                          <a:pt x="33" y="30"/>
                        </a:lnTo>
                        <a:lnTo>
                          <a:pt x="35" y="35"/>
                        </a:lnTo>
                        <a:lnTo>
                          <a:pt x="35" y="41"/>
                        </a:lnTo>
                        <a:lnTo>
                          <a:pt x="35" y="46"/>
                        </a:lnTo>
                        <a:lnTo>
                          <a:pt x="35" y="52"/>
                        </a:lnTo>
                        <a:lnTo>
                          <a:pt x="35" y="59"/>
                        </a:lnTo>
                        <a:lnTo>
                          <a:pt x="37" y="64"/>
                        </a:lnTo>
                        <a:lnTo>
                          <a:pt x="38" y="70"/>
                        </a:lnTo>
                        <a:lnTo>
                          <a:pt x="40" y="74"/>
                        </a:lnTo>
                        <a:lnTo>
                          <a:pt x="44" y="79"/>
                        </a:lnTo>
                        <a:lnTo>
                          <a:pt x="40" y="83"/>
                        </a:lnTo>
                        <a:lnTo>
                          <a:pt x="37" y="88"/>
                        </a:lnTo>
                        <a:lnTo>
                          <a:pt x="33" y="92"/>
                        </a:lnTo>
                        <a:lnTo>
                          <a:pt x="32" y="96"/>
                        </a:lnTo>
                        <a:lnTo>
                          <a:pt x="27" y="93"/>
                        </a:lnTo>
                        <a:lnTo>
                          <a:pt x="23" y="92"/>
                        </a:lnTo>
                        <a:lnTo>
                          <a:pt x="20" y="90"/>
                        </a:lnTo>
                        <a:lnTo>
                          <a:pt x="18" y="89"/>
                        </a:lnTo>
                        <a:lnTo>
                          <a:pt x="12" y="83"/>
                        </a:lnTo>
                        <a:lnTo>
                          <a:pt x="9" y="78"/>
                        </a:lnTo>
                        <a:lnTo>
                          <a:pt x="6" y="75"/>
                        </a:lnTo>
                        <a:lnTo>
                          <a:pt x="4" y="71"/>
                        </a:lnTo>
                        <a:lnTo>
                          <a:pt x="3" y="68"/>
                        </a:lnTo>
                        <a:lnTo>
                          <a:pt x="3" y="66"/>
                        </a:lnTo>
                        <a:lnTo>
                          <a:pt x="1" y="62"/>
                        </a:lnTo>
                        <a:lnTo>
                          <a:pt x="0" y="57"/>
                        </a:lnTo>
                        <a:lnTo>
                          <a:pt x="0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5"/>
                        </a:lnTo>
                        <a:lnTo>
                          <a:pt x="0" y="33"/>
                        </a:lnTo>
                        <a:lnTo>
                          <a:pt x="1" y="29"/>
                        </a:lnTo>
                        <a:lnTo>
                          <a:pt x="1" y="26"/>
                        </a:lnTo>
                        <a:lnTo>
                          <a:pt x="3" y="22"/>
                        </a:lnTo>
                        <a:lnTo>
                          <a:pt x="3" y="19"/>
                        </a:lnTo>
                        <a:lnTo>
                          <a:pt x="4" y="15"/>
                        </a:lnTo>
                        <a:lnTo>
                          <a:pt x="6" y="12"/>
                        </a:lnTo>
                        <a:lnTo>
                          <a:pt x="9" y="9"/>
                        </a:lnTo>
                        <a:lnTo>
                          <a:pt x="12" y="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Freeform 245"/>
                  <p:cNvSpPr/>
                  <p:nvPr/>
                </p:nvSpPr>
                <p:spPr>
                  <a:xfrm>
                    <a:off x="4480920" y="3577680"/>
                    <a:ext cx="3960" cy="576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5760"/>
                      <a:gd name="textAreaBottom" fmla="*/ 6120 h 5760"/>
                    </a:gdLst>
                    <a:ahLst/>
                    <a:rect l="textAreaLeft" t="textAreaTop" r="textAreaRight" b="textAreaBottom"/>
                    <a:pathLst>
                      <a:path w="29" h="46">
                        <a:moveTo>
                          <a:pt x="12" y="0"/>
                        </a:moveTo>
                        <a:lnTo>
                          <a:pt x="17" y="0"/>
                        </a:lnTo>
                        <a:lnTo>
                          <a:pt x="22" y="3"/>
                        </a:lnTo>
                        <a:lnTo>
                          <a:pt x="25" y="6"/>
                        </a:lnTo>
                        <a:lnTo>
                          <a:pt x="28" y="10"/>
                        </a:lnTo>
                        <a:lnTo>
                          <a:pt x="28" y="16"/>
                        </a:lnTo>
                        <a:lnTo>
                          <a:pt x="29" y="21"/>
                        </a:lnTo>
                        <a:lnTo>
                          <a:pt x="29" y="27"/>
                        </a:lnTo>
                        <a:lnTo>
                          <a:pt x="29" y="32"/>
                        </a:lnTo>
                        <a:lnTo>
                          <a:pt x="28" y="36"/>
                        </a:lnTo>
                        <a:lnTo>
                          <a:pt x="25" y="40"/>
                        </a:lnTo>
                        <a:lnTo>
                          <a:pt x="22" y="43"/>
                        </a:lnTo>
                        <a:lnTo>
                          <a:pt x="19" y="46"/>
                        </a:lnTo>
                        <a:lnTo>
                          <a:pt x="14" y="46"/>
                        </a:lnTo>
                        <a:lnTo>
                          <a:pt x="9" y="43"/>
                        </a:lnTo>
                        <a:lnTo>
                          <a:pt x="6" y="42"/>
                        </a:lnTo>
                        <a:lnTo>
                          <a:pt x="5" y="40"/>
                        </a:lnTo>
                        <a:lnTo>
                          <a:pt x="2" y="38"/>
                        </a:lnTo>
                        <a:lnTo>
                          <a:pt x="0" y="33"/>
                        </a:lnTo>
                        <a:lnTo>
                          <a:pt x="0" y="31"/>
                        </a:lnTo>
                        <a:lnTo>
                          <a:pt x="0" y="25"/>
                        </a:lnTo>
                        <a:lnTo>
                          <a:pt x="3" y="20"/>
                        </a:lnTo>
                        <a:lnTo>
                          <a:pt x="5" y="16"/>
                        </a:lnTo>
                        <a:lnTo>
                          <a:pt x="6" y="9"/>
                        </a:lnTo>
                        <a:lnTo>
                          <a:pt x="9" y="5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Freeform 246"/>
                  <p:cNvSpPr/>
                  <p:nvPr/>
                </p:nvSpPr>
                <p:spPr>
                  <a:xfrm>
                    <a:off x="4350960" y="3628080"/>
                    <a:ext cx="79560" cy="756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551" h="61">
                        <a:moveTo>
                          <a:pt x="372" y="0"/>
                        </a:moveTo>
                        <a:lnTo>
                          <a:pt x="377" y="0"/>
                        </a:lnTo>
                        <a:lnTo>
                          <a:pt x="383" y="0"/>
                        </a:lnTo>
                        <a:lnTo>
                          <a:pt x="387" y="0"/>
                        </a:lnTo>
                        <a:lnTo>
                          <a:pt x="394" y="0"/>
                        </a:lnTo>
                        <a:lnTo>
                          <a:pt x="398" y="0"/>
                        </a:lnTo>
                        <a:lnTo>
                          <a:pt x="404" y="0"/>
                        </a:lnTo>
                        <a:lnTo>
                          <a:pt x="410" y="0"/>
                        </a:lnTo>
                        <a:lnTo>
                          <a:pt x="415" y="2"/>
                        </a:lnTo>
                        <a:lnTo>
                          <a:pt x="421" y="0"/>
                        </a:lnTo>
                        <a:lnTo>
                          <a:pt x="426" y="0"/>
                        </a:lnTo>
                        <a:lnTo>
                          <a:pt x="432" y="0"/>
                        </a:lnTo>
                        <a:lnTo>
                          <a:pt x="438" y="0"/>
                        </a:lnTo>
                        <a:lnTo>
                          <a:pt x="442" y="0"/>
                        </a:lnTo>
                        <a:lnTo>
                          <a:pt x="449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5" y="0"/>
                        </a:lnTo>
                        <a:lnTo>
                          <a:pt x="470" y="0"/>
                        </a:lnTo>
                        <a:lnTo>
                          <a:pt x="476" y="0"/>
                        </a:lnTo>
                        <a:lnTo>
                          <a:pt x="482" y="0"/>
                        </a:lnTo>
                        <a:lnTo>
                          <a:pt x="487" y="0"/>
                        </a:lnTo>
                        <a:lnTo>
                          <a:pt x="493" y="0"/>
                        </a:lnTo>
                        <a:lnTo>
                          <a:pt x="499" y="0"/>
                        </a:lnTo>
                        <a:lnTo>
                          <a:pt x="504" y="0"/>
                        </a:lnTo>
                        <a:lnTo>
                          <a:pt x="510" y="0"/>
                        </a:lnTo>
                        <a:lnTo>
                          <a:pt x="514" y="0"/>
                        </a:lnTo>
                        <a:lnTo>
                          <a:pt x="520" y="2"/>
                        </a:lnTo>
                        <a:lnTo>
                          <a:pt x="527" y="2"/>
                        </a:lnTo>
                        <a:lnTo>
                          <a:pt x="531" y="2"/>
                        </a:lnTo>
                        <a:lnTo>
                          <a:pt x="537" y="3"/>
                        </a:lnTo>
                        <a:lnTo>
                          <a:pt x="543" y="3"/>
                        </a:lnTo>
                        <a:lnTo>
                          <a:pt x="548" y="4"/>
                        </a:lnTo>
                        <a:lnTo>
                          <a:pt x="548" y="8"/>
                        </a:lnTo>
                        <a:lnTo>
                          <a:pt x="550" y="14"/>
                        </a:lnTo>
                        <a:lnTo>
                          <a:pt x="551" y="19"/>
                        </a:lnTo>
                        <a:lnTo>
                          <a:pt x="551" y="25"/>
                        </a:lnTo>
                        <a:lnTo>
                          <a:pt x="543" y="25"/>
                        </a:lnTo>
                        <a:lnTo>
                          <a:pt x="536" y="25"/>
                        </a:lnTo>
                        <a:lnTo>
                          <a:pt x="528" y="25"/>
                        </a:lnTo>
                        <a:lnTo>
                          <a:pt x="520" y="25"/>
                        </a:lnTo>
                        <a:lnTo>
                          <a:pt x="513" y="25"/>
                        </a:lnTo>
                        <a:lnTo>
                          <a:pt x="505" y="26"/>
                        </a:lnTo>
                        <a:lnTo>
                          <a:pt x="498" y="26"/>
                        </a:lnTo>
                        <a:lnTo>
                          <a:pt x="490" y="26"/>
                        </a:lnTo>
                        <a:lnTo>
                          <a:pt x="482" y="26"/>
                        </a:lnTo>
                        <a:lnTo>
                          <a:pt x="475" y="26"/>
                        </a:lnTo>
                        <a:lnTo>
                          <a:pt x="465" y="26"/>
                        </a:lnTo>
                        <a:lnTo>
                          <a:pt x="459" y="26"/>
                        </a:lnTo>
                        <a:lnTo>
                          <a:pt x="452" y="26"/>
                        </a:lnTo>
                        <a:lnTo>
                          <a:pt x="444" y="28"/>
                        </a:lnTo>
                        <a:lnTo>
                          <a:pt x="436" y="28"/>
                        </a:lnTo>
                        <a:lnTo>
                          <a:pt x="429" y="28"/>
                        </a:lnTo>
                        <a:lnTo>
                          <a:pt x="421" y="28"/>
                        </a:lnTo>
                        <a:lnTo>
                          <a:pt x="413" y="28"/>
                        </a:lnTo>
                        <a:lnTo>
                          <a:pt x="404" y="28"/>
                        </a:lnTo>
                        <a:lnTo>
                          <a:pt x="398" y="29"/>
                        </a:lnTo>
                        <a:lnTo>
                          <a:pt x="389" y="29"/>
                        </a:lnTo>
                        <a:lnTo>
                          <a:pt x="381" y="29"/>
                        </a:lnTo>
                        <a:lnTo>
                          <a:pt x="374" y="29"/>
                        </a:lnTo>
                        <a:lnTo>
                          <a:pt x="368" y="29"/>
                        </a:lnTo>
                        <a:lnTo>
                          <a:pt x="358" y="29"/>
                        </a:lnTo>
                        <a:lnTo>
                          <a:pt x="351" y="29"/>
                        </a:lnTo>
                        <a:lnTo>
                          <a:pt x="343" y="29"/>
                        </a:lnTo>
                        <a:lnTo>
                          <a:pt x="335" y="30"/>
                        </a:lnTo>
                        <a:lnTo>
                          <a:pt x="329" y="30"/>
                        </a:lnTo>
                        <a:lnTo>
                          <a:pt x="322" y="30"/>
                        </a:lnTo>
                        <a:lnTo>
                          <a:pt x="314" y="32"/>
                        </a:lnTo>
                        <a:lnTo>
                          <a:pt x="306" y="32"/>
                        </a:lnTo>
                        <a:lnTo>
                          <a:pt x="299" y="32"/>
                        </a:lnTo>
                        <a:lnTo>
                          <a:pt x="291" y="32"/>
                        </a:lnTo>
                        <a:lnTo>
                          <a:pt x="282" y="32"/>
                        </a:lnTo>
                        <a:lnTo>
                          <a:pt x="274" y="33"/>
                        </a:lnTo>
                        <a:lnTo>
                          <a:pt x="267" y="33"/>
                        </a:lnTo>
                        <a:lnTo>
                          <a:pt x="259" y="33"/>
                        </a:lnTo>
                        <a:lnTo>
                          <a:pt x="251" y="35"/>
                        </a:lnTo>
                        <a:lnTo>
                          <a:pt x="244" y="36"/>
                        </a:lnTo>
                        <a:lnTo>
                          <a:pt x="236" y="36"/>
                        </a:lnTo>
                        <a:lnTo>
                          <a:pt x="228" y="36"/>
                        </a:lnTo>
                        <a:lnTo>
                          <a:pt x="222" y="36"/>
                        </a:lnTo>
                        <a:lnTo>
                          <a:pt x="215" y="37"/>
                        </a:lnTo>
                        <a:lnTo>
                          <a:pt x="207" y="37"/>
                        </a:lnTo>
                        <a:lnTo>
                          <a:pt x="199" y="39"/>
                        </a:lnTo>
                        <a:lnTo>
                          <a:pt x="192" y="39"/>
                        </a:lnTo>
                        <a:lnTo>
                          <a:pt x="185" y="40"/>
                        </a:lnTo>
                        <a:lnTo>
                          <a:pt x="178" y="41"/>
                        </a:lnTo>
                        <a:lnTo>
                          <a:pt x="170" y="41"/>
                        </a:lnTo>
                        <a:lnTo>
                          <a:pt x="163" y="43"/>
                        </a:lnTo>
                        <a:lnTo>
                          <a:pt x="155" y="44"/>
                        </a:lnTo>
                        <a:lnTo>
                          <a:pt x="147" y="44"/>
                        </a:lnTo>
                        <a:lnTo>
                          <a:pt x="140" y="46"/>
                        </a:lnTo>
                        <a:lnTo>
                          <a:pt x="132" y="46"/>
                        </a:lnTo>
                        <a:lnTo>
                          <a:pt x="126" y="48"/>
                        </a:lnTo>
                        <a:lnTo>
                          <a:pt x="118" y="48"/>
                        </a:lnTo>
                        <a:lnTo>
                          <a:pt x="111" y="50"/>
                        </a:lnTo>
                        <a:lnTo>
                          <a:pt x="103" y="51"/>
                        </a:lnTo>
                        <a:lnTo>
                          <a:pt x="97" y="52"/>
                        </a:lnTo>
                        <a:lnTo>
                          <a:pt x="89" y="54"/>
                        </a:lnTo>
                        <a:lnTo>
                          <a:pt x="81" y="55"/>
                        </a:lnTo>
                        <a:lnTo>
                          <a:pt x="75" y="58"/>
                        </a:lnTo>
                        <a:lnTo>
                          <a:pt x="68" y="59"/>
                        </a:lnTo>
                        <a:lnTo>
                          <a:pt x="65" y="59"/>
                        </a:lnTo>
                        <a:lnTo>
                          <a:pt x="62" y="59"/>
                        </a:lnTo>
                        <a:lnTo>
                          <a:pt x="59" y="59"/>
                        </a:lnTo>
                        <a:lnTo>
                          <a:pt x="54" y="59"/>
                        </a:lnTo>
                        <a:lnTo>
                          <a:pt x="49" y="59"/>
                        </a:lnTo>
                        <a:lnTo>
                          <a:pt x="45" y="59"/>
                        </a:lnTo>
                        <a:lnTo>
                          <a:pt x="39" y="59"/>
                        </a:lnTo>
                        <a:lnTo>
                          <a:pt x="34" y="61"/>
                        </a:lnTo>
                        <a:lnTo>
                          <a:pt x="29" y="61"/>
                        </a:lnTo>
                        <a:lnTo>
                          <a:pt x="23" y="61"/>
                        </a:lnTo>
                        <a:lnTo>
                          <a:pt x="19" y="61"/>
                        </a:lnTo>
                        <a:lnTo>
                          <a:pt x="16" y="61"/>
                        </a:lnTo>
                        <a:lnTo>
                          <a:pt x="11" y="61"/>
                        </a:lnTo>
                        <a:lnTo>
                          <a:pt x="8" y="61"/>
                        </a:lnTo>
                        <a:lnTo>
                          <a:pt x="5" y="61"/>
                        </a:lnTo>
                        <a:lnTo>
                          <a:pt x="3" y="61"/>
                        </a:lnTo>
                        <a:lnTo>
                          <a:pt x="2" y="55"/>
                        </a:lnTo>
                        <a:lnTo>
                          <a:pt x="2" y="50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5" y="39"/>
                        </a:lnTo>
                        <a:lnTo>
                          <a:pt x="11" y="37"/>
                        </a:lnTo>
                        <a:lnTo>
                          <a:pt x="17" y="36"/>
                        </a:lnTo>
                        <a:lnTo>
                          <a:pt x="22" y="36"/>
                        </a:lnTo>
                        <a:lnTo>
                          <a:pt x="28" y="33"/>
                        </a:lnTo>
                        <a:lnTo>
                          <a:pt x="34" y="32"/>
                        </a:lnTo>
                        <a:lnTo>
                          <a:pt x="39" y="32"/>
                        </a:lnTo>
                        <a:lnTo>
                          <a:pt x="45" y="30"/>
                        </a:lnTo>
                        <a:lnTo>
                          <a:pt x="51" y="29"/>
                        </a:lnTo>
                        <a:lnTo>
                          <a:pt x="55" y="29"/>
                        </a:lnTo>
                        <a:lnTo>
                          <a:pt x="62" y="28"/>
                        </a:lnTo>
                        <a:lnTo>
                          <a:pt x="68" y="26"/>
                        </a:lnTo>
                        <a:lnTo>
                          <a:pt x="72" y="26"/>
                        </a:lnTo>
                        <a:lnTo>
                          <a:pt x="78" y="25"/>
                        </a:lnTo>
                        <a:lnTo>
                          <a:pt x="85" y="24"/>
                        </a:lnTo>
                        <a:lnTo>
                          <a:pt x="91" y="24"/>
                        </a:lnTo>
                        <a:lnTo>
                          <a:pt x="95" y="22"/>
                        </a:lnTo>
                        <a:lnTo>
                          <a:pt x="101" y="22"/>
                        </a:lnTo>
                        <a:lnTo>
                          <a:pt x="107" y="21"/>
                        </a:lnTo>
                        <a:lnTo>
                          <a:pt x="112" y="19"/>
                        </a:lnTo>
                        <a:lnTo>
                          <a:pt x="118" y="19"/>
                        </a:lnTo>
                        <a:lnTo>
                          <a:pt x="124" y="18"/>
                        </a:lnTo>
                        <a:lnTo>
                          <a:pt x="130" y="17"/>
                        </a:lnTo>
                        <a:lnTo>
                          <a:pt x="137" y="17"/>
                        </a:lnTo>
                        <a:lnTo>
                          <a:pt x="141" y="15"/>
                        </a:lnTo>
                        <a:lnTo>
                          <a:pt x="147" y="15"/>
                        </a:lnTo>
                        <a:lnTo>
                          <a:pt x="153" y="14"/>
                        </a:lnTo>
                        <a:lnTo>
                          <a:pt x="159" y="14"/>
                        </a:lnTo>
                        <a:lnTo>
                          <a:pt x="164" y="14"/>
                        </a:lnTo>
                        <a:lnTo>
                          <a:pt x="172" y="13"/>
                        </a:lnTo>
                        <a:lnTo>
                          <a:pt x="176" y="13"/>
                        </a:lnTo>
                        <a:lnTo>
                          <a:pt x="182" y="13"/>
                        </a:lnTo>
                        <a:lnTo>
                          <a:pt x="189" y="11"/>
                        </a:lnTo>
                        <a:lnTo>
                          <a:pt x="195" y="11"/>
                        </a:lnTo>
                        <a:lnTo>
                          <a:pt x="199" y="10"/>
                        </a:lnTo>
                        <a:lnTo>
                          <a:pt x="205" y="10"/>
                        </a:lnTo>
                        <a:lnTo>
                          <a:pt x="211" y="10"/>
                        </a:lnTo>
                        <a:lnTo>
                          <a:pt x="218" y="8"/>
                        </a:lnTo>
                        <a:lnTo>
                          <a:pt x="224" y="8"/>
                        </a:lnTo>
                        <a:lnTo>
                          <a:pt x="230" y="8"/>
                        </a:lnTo>
                        <a:lnTo>
                          <a:pt x="236" y="7"/>
                        </a:lnTo>
                        <a:lnTo>
                          <a:pt x="241" y="7"/>
                        </a:lnTo>
                        <a:lnTo>
                          <a:pt x="247" y="7"/>
                        </a:lnTo>
                        <a:lnTo>
                          <a:pt x="253" y="7"/>
                        </a:lnTo>
                        <a:lnTo>
                          <a:pt x="259" y="6"/>
                        </a:lnTo>
                        <a:lnTo>
                          <a:pt x="265" y="6"/>
                        </a:lnTo>
                        <a:lnTo>
                          <a:pt x="271" y="4"/>
                        </a:lnTo>
                        <a:lnTo>
                          <a:pt x="277" y="4"/>
                        </a:lnTo>
                        <a:lnTo>
                          <a:pt x="282" y="4"/>
                        </a:lnTo>
                        <a:lnTo>
                          <a:pt x="288" y="4"/>
                        </a:lnTo>
                        <a:lnTo>
                          <a:pt x="294" y="3"/>
                        </a:lnTo>
                        <a:lnTo>
                          <a:pt x="300" y="3"/>
                        </a:lnTo>
                        <a:lnTo>
                          <a:pt x="305" y="3"/>
                        </a:lnTo>
                        <a:lnTo>
                          <a:pt x="311" y="3"/>
                        </a:lnTo>
                        <a:lnTo>
                          <a:pt x="319" y="2"/>
                        </a:lnTo>
                        <a:lnTo>
                          <a:pt x="325" y="2"/>
                        </a:lnTo>
                        <a:lnTo>
                          <a:pt x="329" y="2"/>
                        </a:lnTo>
                        <a:lnTo>
                          <a:pt x="335" y="2"/>
                        </a:lnTo>
                        <a:lnTo>
                          <a:pt x="342" y="2"/>
                        </a:lnTo>
                        <a:lnTo>
                          <a:pt x="348" y="2"/>
                        </a:lnTo>
                        <a:lnTo>
                          <a:pt x="352" y="0"/>
                        </a:lnTo>
                        <a:lnTo>
                          <a:pt x="360" y="0"/>
                        </a:lnTo>
                        <a:lnTo>
                          <a:pt x="366" y="0"/>
                        </a:lnTo>
                        <a:lnTo>
                          <a:pt x="37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Freeform 247"/>
                  <p:cNvSpPr/>
                  <p:nvPr/>
                </p:nvSpPr>
                <p:spPr>
                  <a:xfrm>
                    <a:off x="4361040" y="3520080"/>
                    <a:ext cx="30240" cy="7200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211" h="551">
                        <a:moveTo>
                          <a:pt x="61" y="43"/>
                        </a:moveTo>
                        <a:lnTo>
                          <a:pt x="61" y="47"/>
                        </a:lnTo>
                        <a:lnTo>
                          <a:pt x="63" y="51"/>
                        </a:lnTo>
                        <a:lnTo>
                          <a:pt x="63" y="57"/>
                        </a:lnTo>
                        <a:lnTo>
                          <a:pt x="64" y="62"/>
                        </a:lnTo>
                        <a:lnTo>
                          <a:pt x="64" y="66"/>
                        </a:lnTo>
                        <a:lnTo>
                          <a:pt x="66" y="72"/>
                        </a:lnTo>
                        <a:lnTo>
                          <a:pt x="66" y="79"/>
                        </a:lnTo>
                        <a:lnTo>
                          <a:pt x="67" y="84"/>
                        </a:lnTo>
                        <a:lnTo>
                          <a:pt x="67" y="88"/>
                        </a:lnTo>
                        <a:lnTo>
                          <a:pt x="67" y="94"/>
                        </a:lnTo>
                        <a:lnTo>
                          <a:pt x="67" y="99"/>
                        </a:lnTo>
                        <a:lnTo>
                          <a:pt x="67" y="105"/>
                        </a:lnTo>
                        <a:lnTo>
                          <a:pt x="67" y="109"/>
                        </a:lnTo>
                        <a:lnTo>
                          <a:pt x="67" y="114"/>
                        </a:lnTo>
                        <a:lnTo>
                          <a:pt x="66" y="118"/>
                        </a:lnTo>
                        <a:lnTo>
                          <a:pt x="64" y="122"/>
                        </a:lnTo>
                        <a:lnTo>
                          <a:pt x="64" y="118"/>
                        </a:lnTo>
                        <a:lnTo>
                          <a:pt x="64" y="116"/>
                        </a:lnTo>
                        <a:lnTo>
                          <a:pt x="64" y="112"/>
                        </a:lnTo>
                        <a:lnTo>
                          <a:pt x="64" y="109"/>
                        </a:lnTo>
                        <a:lnTo>
                          <a:pt x="63" y="105"/>
                        </a:lnTo>
                        <a:lnTo>
                          <a:pt x="63" y="102"/>
                        </a:lnTo>
                        <a:lnTo>
                          <a:pt x="63" y="98"/>
                        </a:lnTo>
                        <a:lnTo>
                          <a:pt x="63" y="95"/>
                        </a:lnTo>
                        <a:lnTo>
                          <a:pt x="61" y="91"/>
                        </a:lnTo>
                        <a:lnTo>
                          <a:pt x="61" y="88"/>
                        </a:lnTo>
                        <a:lnTo>
                          <a:pt x="61" y="84"/>
                        </a:lnTo>
                        <a:lnTo>
                          <a:pt x="60" y="81"/>
                        </a:lnTo>
                        <a:lnTo>
                          <a:pt x="60" y="79"/>
                        </a:lnTo>
                        <a:lnTo>
                          <a:pt x="58" y="76"/>
                        </a:lnTo>
                        <a:lnTo>
                          <a:pt x="58" y="72"/>
                        </a:lnTo>
                        <a:lnTo>
                          <a:pt x="58" y="69"/>
                        </a:lnTo>
                        <a:lnTo>
                          <a:pt x="57" y="66"/>
                        </a:lnTo>
                        <a:lnTo>
                          <a:pt x="57" y="62"/>
                        </a:lnTo>
                        <a:lnTo>
                          <a:pt x="55" y="59"/>
                        </a:lnTo>
                        <a:lnTo>
                          <a:pt x="54" y="55"/>
                        </a:lnTo>
                        <a:lnTo>
                          <a:pt x="54" y="52"/>
                        </a:lnTo>
                        <a:lnTo>
                          <a:pt x="52" y="48"/>
                        </a:lnTo>
                        <a:lnTo>
                          <a:pt x="52" y="46"/>
                        </a:lnTo>
                        <a:lnTo>
                          <a:pt x="50" y="42"/>
                        </a:lnTo>
                        <a:lnTo>
                          <a:pt x="50" y="39"/>
                        </a:lnTo>
                        <a:lnTo>
                          <a:pt x="49" y="35"/>
                        </a:lnTo>
                        <a:lnTo>
                          <a:pt x="47" y="32"/>
                        </a:lnTo>
                        <a:lnTo>
                          <a:pt x="47" y="29"/>
                        </a:lnTo>
                        <a:lnTo>
                          <a:pt x="46" y="25"/>
                        </a:lnTo>
                        <a:lnTo>
                          <a:pt x="46" y="22"/>
                        </a:lnTo>
                        <a:lnTo>
                          <a:pt x="44" y="18"/>
                        </a:lnTo>
                        <a:lnTo>
                          <a:pt x="44" y="15"/>
                        </a:lnTo>
                        <a:lnTo>
                          <a:pt x="29" y="14"/>
                        </a:lnTo>
                        <a:lnTo>
                          <a:pt x="29" y="17"/>
                        </a:lnTo>
                        <a:lnTo>
                          <a:pt x="31" y="20"/>
                        </a:lnTo>
                        <a:lnTo>
                          <a:pt x="32" y="24"/>
                        </a:lnTo>
                        <a:lnTo>
                          <a:pt x="34" y="26"/>
                        </a:lnTo>
                        <a:lnTo>
                          <a:pt x="35" y="32"/>
                        </a:lnTo>
                        <a:lnTo>
                          <a:pt x="35" y="37"/>
                        </a:lnTo>
                        <a:lnTo>
                          <a:pt x="37" y="43"/>
                        </a:lnTo>
                        <a:lnTo>
                          <a:pt x="37" y="48"/>
                        </a:lnTo>
                        <a:lnTo>
                          <a:pt x="38" y="54"/>
                        </a:lnTo>
                        <a:lnTo>
                          <a:pt x="38" y="61"/>
                        </a:lnTo>
                        <a:lnTo>
                          <a:pt x="38" y="63"/>
                        </a:lnTo>
                        <a:lnTo>
                          <a:pt x="40" y="66"/>
                        </a:lnTo>
                        <a:lnTo>
                          <a:pt x="40" y="70"/>
                        </a:lnTo>
                        <a:lnTo>
                          <a:pt x="41" y="73"/>
                        </a:lnTo>
                        <a:lnTo>
                          <a:pt x="41" y="79"/>
                        </a:lnTo>
                        <a:lnTo>
                          <a:pt x="41" y="85"/>
                        </a:lnTo>
                        <a:lnTo>
                          <a:pt x="41" y="88"/>
                        </a:lnTo>
                        <a:lnTo>
                          <a:pt x="41" y="91"/>
                        </a:lnTo>
                        <a:lnTo>
                          <a:pt x="41" y="94"/>
                        </a:lnTo>
                        <a:lnTo>
                          <a:pt x="41" y="98"/>
                        </a:lnTo>
                        <a:lnTo>
                          <a:pt x="41" y="103"/>
                        </a:lnTo>
                        <a:lnTo>
                          <a:pt x="41" y="109"/>
                        </a:lnTo>
                        <a:lnTo>
                          <a:pt x="41" y="114"/>
                        </a:lnTo>
                        <a:lnTo>
                          <a:pt x="41" y="120"/>
                        </a:lnTo>
                        <a:lnTo>
                          <a:pt x="41" y="117"/>
                        </a:lnTo>
                        <a:lnTo>
                          <a:pt x="41" y="113"/>
                        </a:lnTo>
                        <a:lnTo>
                          <a:pt x="40" y="110"/>
                        </a:lnTo>
                        <a:lnTo>
                          <a:pt x="40" y="107"/>
                        </a:lnTo>
                        <a:lnTo>
                          <a:pt x="38" y="103"/>
                        </a:lnTo>
                        <a:lnTo>
                          <a:pt x="37" y="101"/>
                        </a:lnTo>
                        <a:lnTo>
                          <a:pt x="37" y="98"/>
                        </a:lnTo>
                        <a:lnTo>
                          <a:pt x="37" y="95"/>
                        </a:lnTo>
                        <a:lnTo>
                          <a:pt x="35" y="91"/>
                        </a:lnTo>
                        <a:lnTo>
                          <a:pt x="34" y="88"/>
                        </a:lnTo>
                        <a:lnTo>
                          <a:pt x="34" y="84"/>
                        </a:lnTo>
                        <a:lnTo>
                          <a:pt x="32" y="81"/>
                        </a:lnTo>
                        <a:lnTo>
                          <a:pt x="31" y="79"/>
                        </a:lnTo>
                        <a:lnTo>
                          <a:pt x="31" y="74"/>
                        </a:lnTo>
                        <a:lnTo>
                          <a:pt x="31" y="72"/>
                        </a:lnTo>
                        <a:lnTo>
                          <a:pt x="29" y="68"/>
                        </a:lnTo>
                        <a:lnTo>
                          <a:pt x="28" y="63"/>
                        </a:lnTo>
                        <a:lnTo>
                          <a:pt x="28" y="59"/>
                        </a:lnTo>
                        <a:lnTo>
                          <a:pt x="24" y="57"/>
                        </a:lnTo>
                        <a:lnTo>
                          <a:pt x="23" y="54"/>
                        </a:lnTo>
                        <a:lnTo>
                          <a:pt x="21" y="50"/>
                        </a:lnTo>
                        <a:lnTo>
                          <a:pt x="20" y="46"/>
                        </a:lnTo>
                        <a:lnTo>
                          <a:pt x="18" y="42"/>
                        </a:lnTo>
                        <a:lnTo>
                          <a:pt x="17" y="39"/>
                        </a:lnTo>
                        <a:lnTo>
                          <a:pt x="15" y="35"/>
                        </a:lnTo>
                        <a:lnTo>
                          <a:pt x="14" y="31"/>
                        </a:lnTo>
                        <a:lnTo>
                          <a:pt x="12" y="26"/>
                        </a:lnTo>
                        <a:lnTo>
                          <a:pt x="12" y="24"/>
                        </a:lnTo>
                        <a:lnTo>
                          <a:pt x="11" y="20"/>
                        </a:lnTo>
                        <a:lnTo>
                          <a:pt x="11" y="15"/>
                        </a:lnTo>
                        <a:lnTo>
                          <a:pt x="11" y="10"/>
                        </a:lnTo>
                        <a:lnTo>
                          <a:pt x="12" y="7"/>
                        </a:lnTo>
                        <a:lnTo>
                          <a:pt x="9" y="4"/>
                        </a:lnTo>
                        <a:lnTo>
                          <a:pt x="6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2" y="24"/>
                        </a:lnTo>
                        <a:lnTo>
                          <a:pt x="2" y="28"/>
                        </a:lnTo>
                        <a:lnTo>
                          <a:pt x="2" y="31"/>
                        </a:lnTo>
                        <a:lnTo>
                          <a:pt x="2" y="33"/>
                        </a:lnTo>
                        <a:lnTo>
                          <a:pt x="2" y="37"/>
                        </a:lnTo>
                        <a:lnTo>
                          <a:pt x="2" y="40"/>
                        </a:lnTo>
                        <a:lnTo>
                          <a:pt x="3" y="44"/>
                        </a:lnTo>
                        <a:lnTo>
                          <a:pt x="3" y="47"/>
                        </a:lnTo>
                        <a:lnTo>
                          <a:pt x="3" y="51"/>
                        </a:lnTo>
                        <a:lnTo>
                          <a:pt x="3" y="54"/>
                        </a:lnTo>
                        <a:lnTo>
                          <a:pt x="3" y="58"/>
                        </a:lnTo>
                        <a:lnTo>
                          <a:pt x="3" y="62"/>
                        </a:lnTo>
                        <a:lnTo>
                          <a:pt x="5" y="66"/>
                        </a:lnTo>
                        <a:lnTo>
                          <a:pt x="5" y="69"/>
                        </a:lnTo>
                        <a:lnTo>
                          <a:pt x="6" y="73"/>
                        </a:lnTo>
                        <a:lnTo>
                          <a:pt x="6" y="77"/>
                        </a:lnTo>
                        <a:lnTo>
                          <a:pt x="6" y="81"/>
                        </a:lnTo>
                        <a:lnTo>
                          <a:pt x="6" y="85"/>
                        </a:lnTo>
                        <a:lnTo>
                          <a:pt x="8" y="90"/>
                        </a:lnTo>
                        <a:lnTo>
                          <a:pt x="8" y="94"/>
                        </a:lnTo>
                        <a:lnTo>
                          <a:pt x="8" y="96"/>
                        </a:lnTo>
                        <a:lnTo>
                          <a:pt x="8" y="101"/>
                        </a:lnTo>
                        <a:lnTo>
                          <a:pt x="9" y="105"/>
                        </a:lnTo>
                        <a:lnTo>
                          <a:pt x="9" y="107"/>
                        </a:lnTo>
                        <a:lnTo>
                          <a:pt x="9" y="112"/>
                        </a:lnTo>
                        <a:lnTo>
                          <a:pt x="9" y="116"/>
                        </a:lnTo>
                        <a:lnTo>
                          <a:pt x="9" y="118"/>
                        </a:lnTo>
                        <a:lnTo>
                          <a:pt x="9" y="121"/>
                        </a:lnTo>
                        <a:lnTo>
                          <a:pt x="9" y="125"/>
                        </a:lnTo>
                        <a:lnTo>
                          <a:pt x="11" y="128"/>
                        </a:lnTo>
                        <a:lnTo>
                          <a:pt x="11" y="132"/>
                        </a:lnTo>
                        <a:lnTo>
                          <a:pt x="11" y="138"/>
                        </a:lnTo>
                        <a:lnTo>
                          <a:pt x="12" y="143"/>
                        </a:lnTo>
                        <a:lnTo>
                          <a:pt x="12" y="149"/>
                        </a:lnTo>
                        <a:lnTo>
                          <a:pt x="12" y="153"/>
                        </a:lnTo>
                        <a:lnTo>
                          <a:pt x="12" y="155"/>
                        </a:lnTo>
                        <a:lnTo>
                          <a:pt x="12" y="160"/>
                        </a:lnTo>
                        <a:lnTo>
                          <a:pt x="12" y="162"/>
                        </a:lnTo>
                        <a:lnTo>
                          <a:pt x="12" y="161"/>
                        </a:lnTo>
                        <a:lnTo>
                          <a:pt x="12" y="551"/>
                        </a:lnTo>
                        <a:lnTo>
                          <a:pt x="211" y="551"/>
                        </a:lnTo>
                        <a:lnTo>
                          <a:pt x="208" y="84"/>
                        </a:lnTo>
                        <a:lnTo>
                          <a:pt x="208" y="79"/>
                        </a:lnTo>
                        <a:lnTo>
                          <a:pt x="208" y="74"/>
                        </a:lnTo>
                        <a:lnTo>
                          <a:pt x="208" y="69"/>
                        </a:lnTo>
                        <a:lnTo>
                          <a:pt x="208" y="65"/>
                        </a:lnTo>
                        <a:lnTo>
                          <a:pt x="208" y="61"/>
                        </a:lnTo>
                        <a:lnTo>
                          <a:pt x="208" y="57"/>
                        </a:lnTo>
                        <a:lnTo>
                          <a:pt x="208" y="51"/>
                        </a:lnTo>
                        <a:lnTo>
                          <a:pt x="208" y="47"/>
                        </a:lnTo>
                        <a:lnTo>
                          <a:pt x="208" y="43"/>
                        </a:lnTo>
                        <a:lnTo>
                          <a:pt x="208" y="39"/>
                        </a:lnTo>
                        <a:lnTo>
                          <a:pt x="208" y="35"/>
                        </a:lnTo>
                        <a:lnTo>
                          <a:pt x="208" y="31"/>
                        </a:lnTo>
                        <a:lnTo>
                          <a:pt x="206" y="26"/>
                        </a:lnTo>
                        <a:lnTo>
                          <a:pt x="206" y="22"/>
                        </a:lnTo>
                        <a:lnTo>
                          <a:pt x="206" y="17"/>
                        </a:lnTo>
                        <a:lnTo>
                          <a:pt x="206" y="14"/>
                        </a:lnTo>
                        <a:lnTo>
                          <a:pt x="202" y="14"/>
                        </a:lnTo>
                        <a:lnTo>
                          <a:pt x="200" y="17"/>
                        </a:lnTo>
                        <a:lnTo>
                          <a:pt x="200" y="21"/>
                        </a:lnTo>
                        <a:lnTo>
                          <a:pt x="200" y="25"/>
                        </a:lnTo>
                        <a:lnTo>
                          <a:pt x="200" y="29"/>
                        </a:lnTo>
                        <a:lnTo>
                          <a:pt x="200" y="32"/>
                        </a:lnTo>
                        <a:lnTo>
                          <a:pt x="200" y="36"/>
                        </a:lnTo>
                        <a:lnTo>
                          <a:pt x="200" y="40"/>
                        </a:lnTo>
                        <a:lnTo>
                          <a:pt x="200" y="44"/>
                        </a:lnTo>
                        <a:lnTo>
                          <a:pt x="200" y="48"/>
                        </a:lnTo>
                        <a:lnTo>
                          <a:pt x="200" y="52"/>
                        </a:lnTo>
                        <a:lnTo>
                          <a:pt x="200" y="57"/>
                        </a:lnTo>
                        <a:lnTo>
                          <a:pt x="202" y="61"/>
                        </a:lnTo>
                        <a:lnTo>
                          <a:pt x="202" y="65"/>
                        </a:lnTo>
                        <a:lnTo>
                          <a:pt x="202" y="69"/>
                        </a:lnTo>
                        <a:lnTo>
                          <a:pt x="202" y="72"/>
                        </a:lnTo>
                        <a:lnTo>
                          <a:pt x="203" y="77"/>
                        </a:lnTo>
                        <a:lnTo>
                          <a:pt x="202" y="79"/>
                        </a:lnTo>
                        <a:lnTo>
                          <a:pt x="202" y="81"/>
                        </a:lnTo>
                        <a:lnTo>
                          <a:pt x="200" y="84"/>
                        </a:lnTo>
                        <a:lnTo>
                          <a:pt x="199" y="85"/>
                        </a:lnTo>
                        <a:lnTo>
                          <a:pt x="199" y="80"/>
                        </a:lnTo>
                        <a:lnTo>
                          <a:pt x="199" y="74"/>
                        </a:lnTo>
                        <a:lnTo>
                          <a:pt x="197" y="69"/>
                        </a:lnTo>
                        <a:lnTo>
                          <a:pt x="197" y="63"/>
                        </a:lnTo>
                        <a:lnTo>
                          <a:pt x="197" y="58"/>
                        </a:lnTo>
                        <a:lnTo>
                          <a:pt x="196" y="52"/>
                        </a:lnTo>
                        <a:lnTo>
                          <a:pt x="196" y="47"/>
                        </a:lnTo>
                        <a:lnTo>
                          <a:pt x="196" y="42"/>
                        </a:lnTo>
                        <a:lnTo>
                          <a:pt x="194" y="43"/>
                        </a:lnTo>
                        <a:lnTo>
                          <a:pt x="193" y="47"/>
                        </a:lnTo>
                        <a:lnTo>
                          <a:pt x="191" y="50"/>
                        </a:lnTo>
                        <a:lnTo>
                          <a:pt x="191" y="52"/>
                        </a:lnTo>
                        <a:lnTo>
                          <a:pt x="191" y="57"/>
                        </a:lnTo>
                        <a:lnTo>
                          <a:pt x="191" y="61"/>
                        </a:lnTo>
                        <a:lnTo>
                          <a:pt x="191" y="63"/>
                        </a:lnTo>
                        <a:lnTo>
                          <a:pt x="191" y="69"/>
                        </a:lnTo>
                        <a:lnTo>
                          <a:pt x="191" y="73"/>
                        </a:lnTo>
                        <a:lnTo>
                          <a:pt x="191" y="79"/>
                        </a:lnTo>
                        <a:lnTo>
                          <a:pt x="191" y="83"/>
                        </a:lnTo>
                        <a:lnTo>
                          <a:pt x="193" y="88"/>
                        </a:lnTo>
                        <a:lnTo>
                          <a:pt x="193" y="94"/>
                        </a:lnTo>
                        <a:lnTo>
                          <a:pt x="193" y="99"/>
                        </a:lnTo>
                        <a:lnTo>
                          <a:pt x="193" y="103"/>
                        </a:lnTo>
                        <a:lnTo>
                          <a:pt x="193" y="109"/>
                        </a:lnTo>
                        <a:lnTo>
                          <a:pt x="193" y="113"/>
                        </a:lnTo>
                        <a:lnTo>
                          <a:pt x="194" y="117"/>
                        </a:lnTo>
                        <a:lnTo>
                          <a:pt x="194" y="121"/>
                        </a:lnTo>
                        <a:lnTo>
                          <a:pt x="194" y="125"/>
                        </a:lnTo>
                        <a:lnTo>
                          <a:pt x="194" y="129"/>
                        </a:lnTo>
                        <a:lnTo>
                          <a:pt x="194" y="133"/>
                        </a:lnTo>
                        <a:lnTo>
                          <a:pt x="193" y="138"/>
                        </a:lnTo>
                        <a:lnTo>
                          <a:pt x="193" y="140"/>
                        </a:lnTo>
                        <a:lnTo>
                          <a:pt x="191" y="142"/>
                        </a:lnTo>
                        <a:lnTo>
                          <a:pt x="191" y="140"/>
                        </a:lnTo>
                        <a:lnTo>
                          <a:pt x="190" y="135"/>
                        </a:lnTo>
                        <a:lnTo>
                          <a:pt x="190" y="128"/>
                        </a:lnTo>
                        <a:lnTo>
                          <a:pt x="188" y="122"/>
                        </a:lnTo>
                        <a:lnTo>
                          <a:pt x="188" y="117"/>
                        </a:lnTo>
                        <a:lnTo>
                          <a:pt x="187" y="112"/>
                        </a:lnTo>
                        <a:lnTo>
                          <a:pt x="187" y="106"/>
                        </a:lnTo>
                        <a:lnTo>
                          <a:pt x="185" y="102"/>
                        </a:lnTo>
                        <a:lnTo>
                          <a:pt x="185" y="98"/>
                        </a:lnTo>
                        <a:lnTo>
                          <a:pt x="185" y="91"/>
                        </a:lnTo>
                        <a:lnTo>
                          <a:pt x="185" y="85"/>
                        </a:lnTo>
                        <a:lnTo>
                          <a:pt x="185" y="80"/>
                        </a:lnTo>
                        <a:lnTo>
                          <a:pt x="185" y="76"/>
                        </a:lnTo>
                        <a:lnTo>
                          <a:pt x="185" y="69"/>
                        </a:lnTo>
                        <a:lnTo>
                          <a:pt x="185" y="65"/>
                        </a:lnTo>
                        <a:lnTo>
                          <a:pt x="185" y="59"/>
                        </a:lnTo>
                        <a:lnTo>
                          <a:pt x="185" y="54"/>
                        </a:lnTo>
                        <a:lnTo>
                          <a:pt x="185" y="48"/>
                        </a:lnTo>
                        <a:lnTo>
                          <a:pt x="185" y="44"/>
                        </a:lnTo>
                        <a:lnTo>
                          <a:pt x="185" y="39"/>
                        </a:lnTo>
                        <a:lnTo>
                          <a:pt x="185" y="33"/>
                        </a:lnTo>
                        <a:lnTo>
                          <a:pt x="185" y="29"/>
                        </a:lnTo>
                        <a:lnTo>
                          <a:pt x="185" y="24"/>
                        </a:lnTo>
                        <a:lnTo>
                          <a:pt x="185" y="18"/>
                        </a:lnTo>
                        <a:lnTo>
                          <a:pt x="185" y="14"/>
                        </a:lnTo>
                        <a:lnTo>
                          <a:pt x="180" y="14"/>
                        </a:lnTo>
                        <a:lnTo>
                          <a:pt x="176" y="14"/>
                        </a:lnTo>
                        <a:lnTo>
                          <a:pt x="171" y="14"/>
                        </a:lnTo>
                        <a:lnTo>
                          <a:pt x="168" y="15"/>
                        </a:lnTo>
                        <a:lnTo>
                          <a:pt x="168" y="20"/>
                        </a:lnTo>
                        <a:lnTo>
                          <a:pt x="168" y="22"/>
                        </a:lnTo>
                        <a:lnTo>
                          <a:pt x="168" y="26"/>
                        </a:lnTo>
                        <a:lnTo>
                          <a:pt x="168" y="31"/>
                        </a:lnTo>
                        <a:lnTo>
                          <a:pt x="168" y="35"/>
                        </a:lnTo>
                        <a:lnTo>
                          <a:pt x="168" y="39"/>
                        </a:lnTo>
                        <a:lnTo>
                          <a:pt x="168" y="42"/>
                        </a:lnTo>
                        <a:lnTo>
                          <a:pt x="168" y="46"/>
                        </a:lnTo>
                        <a:lnTo>
                          <a:pt x="168" y="50"/>
                        </a:lnTo>
                        <a:lnTo>
                          <a:pt x="168" y="54"/>
                        </a:lnTo>
                        <a:lnTo>
                          <a:pt x="168" y="57"/>
                        </a:lnTo>
                        <a:lnTo>
                          <a:pt x="168" y="61"/>
                        </a:lnTo>
                        <a:lnTo>
                          <a:pt x="168" y="65"/>
                        </a:lnTo>
                        <a:lnTo>
                          <a:pt x="168" y="69"/>
                        </a:lnTo>
                        <a:lnTo>
                          <a:pt x="168" y="73"/>
                        </a:lnTo>
                        <a:lnTo>
                          <a:pt x="170" y="77"/>
                        </a:lnTo>
                        <a:lnTo>
                          <a:pt x="170" y="80"/>
                        </a:lnTo>
                        <a:lnTo>
                          <a:pt x="170" y="84"/>
                        </a:lnTo>
                        <a:lnTo>
                          <a:pt x="170" y="88"/>
                        </a:lnTo>
                        <a:lnTo>
                          <a:pt x="170" y="91"/>
                        </a:lnTo>
                        <a:lnTo>
                          <a:pt x="170" y="95"/>
                        </a:lnTo>
                        <a:lnTo>
                          <a:pt x="171" y="99"/>
                        </a:lnTo>
                        <a:lnTo>
                          <a:pt x="171" y="102"/>
                        </a:lnTo>
                        <a:lnTo>
                          <a:pt x="171" y="106"/>
                        </a:lnTo>
                        <a:lnTo>
                          <a:pt x="171" y="109"/>
                        </a:lnTo>
                        <a:lnTo>
                          <a:pt x="171" y="113"/>
                        </a:lnTo>
                        <a:lnTo>
                          <a:pt x="171" y="116"/>
                        </a:lnTo>
                        <a:lnTo>
                          <a:pt x="171" y="120"/>
                        </a:lnTo>
                        <a:lnTo>
                          <a:pt x="171" y="124"/>
                        </a:lnTo>
                        <a:lnTo>
                          <a:pt x="173" y="127"/>
                        </a:lnTo>
                        <a:lnTo>
                          <a:pt x="173" y="131"/>
                        </a:lnTo>
                        <a:lnTo>
                          <a:pt x="173" y="133"/>
                        </a:lnTo>
                        <a:lnTo>
                          <a:pt x="173" y="136"/>
                        </a:lnTo>
                        <a:lnTo>
                          <a:pt x="173" y="139"/>
                        </a:lnTo>
                        <a:lnTo>
                          <a:pt x="173" y="143"/>
                        </a:lnTo>
                        <a:lnTo>
                          <a:pt x="174" y="149"/>
                        </a:lnTo>
                        <a:lnTo>
                          <a:pt x="174" y="153"/>
                        </a:lnTo>
                        <a:lnTo>
                          <a:pt x="174" y="160"/>
                        </a:lnTo>
                        <a:lnTo>
                          <a:pt x="174" y="162"/>
                        </a:lnTo>
                        <a:lnTo>
                          <a:pt x="174" y="165"/>
                        </a:lnTo>
                        <a:lnTo>
                          <a:pt x="174" y="168"/>
                        </a:lnTo>
                        <a:lnTo>
                          <a:pt x="174" y="172"/>
                        </a:lnTo>
                        <a:lnTo>
                          <a:pt x="174" y="177"/>
                        </a:lnTo>
                        <a:lnTo>
                          <a:pt x="174" y="183"/>
                        </a:lnTo>
                        <a:lnTo>
                          <a:pt x="173" y="187"/>
                        </a:lnTo>
                        <a:lnTo>
                          <a:pt x="173" y="192"/>
                        </a:lnTo>
                        <a:lnTo>
                          <a:pt x="171" y="198"/>
                        </a:lnTo>
                        <a:lnTo>
                          <a:pt x="171" y="202"/>
                        </a:lnTo>
                        <a:lnTo>
                          <a:pt x="170" y="205"/>
                        </a:lnTo>
                        <a:lnTo>
                          <a:pt x="168" y="206"/>
                        </a:lnTo>
                        <a:lnTo>
                          <a:pt x="167" y="201"/>
                        </a:lnTo>
                        <a:lnTo>
                          <a:pt x="167" y="195"/>
                        </a:lnTo>
                        <a:lnTo>
                          <a:pt x="165" y="190"/>
                        </a:lnTo>
                        <a:lnTo>
                          <a:pt x="165" y="184"/>
                        </a:lnTo>
                        <a:lnTo>
                          <a:pt x="165" y="177"/>
                        </a:lnTo>
                        <a:lnTo>
                          <a:pt x="164" y="172"/>
                        </a:lnTo>
                        <a:lnTo>
                          <a:pt x="164" y="166"/>
                        </a:lnTo>
                        <a:lnTo>
                          <a:pt x="164" y="162"/>
                        </a:lnTo>
                        <a:lnTo>
                          <a:pt x="164" y="155"/>
                        </a:lnTo>
                        <a:lnTo>
                          <a:pt x="164" y="150"/>
                        </a:lnTo>
                        <a:lnTo>
                          <a:pt x="164" y="144"/>
                        </a:lnTo>
                        <a:lnTo>
                          <a:pt x="164" y="139"/>
                        </a:lnTo>
                        <a:lnTo>
                          <a:pt x="164" y="133"/>
                        </a:lnTo>
                        <a:lnTo>
                          <a:pt x="164" y="128"/>
                        </a:lnTo>
                        <a:lnTo>
                          <a:pt x="164" y="121"/>
                        </a:lnTo>
                        <a:lnTo>
                          <a:pt x="164" y="117"/>
                        </a:lnTo>
                        <a:lnTo>
                          <a:pt x="164" y="110"/>
                        </a:lnTo>
                        <a:lnTo>
                          <a:pt x="164" y="105"/>
                        </a:lnTo>
                        <a:lnTo>
                          <a:pt x="164" y="99"/>
                        </a:lnTo>
                        <a:lnTo>
                          <a:pt x="164" y="94"/>
                        </a:lnTo>
                        <a:lnTo>
                          <a:pt x="164" y="88"/>
                        </a:lnTo>
                        <a:lnTo>
                          <a:pt x="164" y="83"/>
                        </a:lnTo>
                        <a:lnTo>
                          <a:pt x="164" y="76"/>
                        </a:lnTo>
                        <a:lnTo>
                          <a:pt x="164" y="72"/>
                        </a:lnTo>
                        <a:lnTo>
                          <a:pt x="164" y="65"/>
                        </a:lnTo>
                        <a:lnTo>
                          <a:pt x="164" y="59"/>
                        </a:lnTo>
                        <a:lnTo>
                          <a:pt x="162" y="54"/>
                        </a:lnTo>
                        <a:lnTo>
                          <a:pt x="162" y="48"/>
                        </a:lnTo>
                        <a:lnTo>
                          <a:pt x="162" y="43"/>
                        </a:lnTo>
                        <a:lnTo>
                          <a:pt x="161" y="37"/>
                        </a:lnTo>
                        <a:lnTo>
                          <a:pt x="161" y="32"/>
                        </a:lnTo>
                        <a:lnTo>
                          <a:pt x="161" y="26"/>
                        </a:lnTo>
                        <a:lnTo>
                          <a:pt x="159" y="25"/>
                        </a:lnTo>
                        <a:lnTo>
                          <a:pt x="158" y="22"/>
                        </a:lnTo>
                        <a:lnTo>
                          <a:pt x="156" y="20"/>
                        </a:lnTo>
                        <a:lnTo>
                          <a:pt x="156" y="18"/>
                        </a:lnTo>
                        <a:lnTo>
                          <a:pt x="154" y="20"/>
                        </a:lnTo>
                        <a:lnTo>
                          <a:pt x="154" y="22"/>
                        </a:lnTo>
                        <a:lnTo>
                          <a:pt x="153" y="26"/>
                        </a:lnTo>
                        <a:lnTo>
                          <a:pt x="153" y="29"/>
                        </a:lnTo>
                        <a:lnTo>
                          <a:pt x="153" y="32"/>
                        </a:lnTo>
                        <a:lnTo>
                          <a:pt x="153" y="36"/>
                        </a:lnTo>
                        <a:lnTo>
                          <a:pt x="153" y="39"/>
                        </a:lnTo>
                        <a:lnTo>
                          <a:pt x="153" y="43"/>
                        </a:lnTo>
                        <a:lnTo>
                          <a:pt x="156" y="105"/>
                        </a:lnTo>
                        <a:lnTo>
                          <a:pt x="156" y="109"/>
                        </a:lnTo>
                        <a:lnTo>
                          <a:pt x="156" y="114"/>
                        </a:lnTo>
                        <a:lnTo>
                          <a:pt x="156" y="120"/>
                        </a:lnTo>
                        <a:lnTo>
                          <a:pt x="156" y="125"/>
                        </a:lnTo>
                        <a:lnTo>
                          <a:pt x="156" y="129"/>
                        </a:lnTo>
                        <a:lnTo>
                          <a:pt x="156" y="135"/>
                        </a:lnTo>
                        <a:lnTo>
                          <a:pt x="154" y="140"/>
                        </a:lnTo>
                        <a:lnTo>
                          <a:pt x="154" y="144"/>
                        </a:lnTo>
                        <a:lnTo>
                          <a:pt x="154" y="150"/>
                        </a:lnTo>
                        <a:lnTo>
                          <a:pt x="154" y="155"/>
                        </a:lnTo>
                        <a:lnTo>
                          <a:pt x="154" y="160"/>
                        </a:lnTo>
                        <a:lnTo>
                          <a:pt x="154" y="165"/>
                        </a:lnTo>
                        <a:lnTo>
                          <a:pt x="153" y="171"/>
                        </a:lnTo>
                        <a:lnTo>
                          <a:pt x="153" y="175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3" y="512"/>
                        </a:lnTo>
                        <a:lnTo>
                          <a:pt x="75" y="515"/>
                        </a:lnTo>
                        <a:lnTo>
                          <a:pt x="72" y="66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2" y="57"/>
                        </a:lnTo>
                        <a:lnTo>
                          <a:pt x="72" y="54"/>
                        </a:lnTo>
                        <a:lnTo>
                          <a:pt x="70" y="50"/>
                        </a:lnTo>
                        <a:lnTo>
                          <a:pt x="69" y="47"/>
                        </a:lnTo>
                        <a:lnTo>
                          <a:pt x="69" y="43"/>
                        </a:lnTo>
                        <a:lnTo>
                          <a:pt x="67" y="40"/>
                        </a:lnTo>
                        <a:lnTo>
                          <a:pt x="67" y="37"/>
                        </a:lnTo>
                        <a:lnTo>
                          <a:pt x="66" y="33"/>
                        </a:lnTo>
                        <a:lnTo>
                          <a:pt x="64" y="31"/>
                        </a:lnTo>
                        <a:lnTo>
                          <a:pt x="64" y="28"/>
                        </a:lnTo>
                        <a:lnTo>
                          <a:pt x="63" y="21"/>
                        </a:lnTo>
                        <a:lnTo>
                          <a:pt x="61" y="15"/>
                        </a:lnTo>
                        <a:lnTo>
                          <a:pt x="57" y="15"/>
                        </a:lnTo>
                        <a:lnTo>
                          <a:pt x="61" y="4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Freeform 248"/>
                  <p:cNvSpPr/>
                  <p:nvPr/>
                </p:nvSpPr>
                <p:spPr>
                  <a:xfrm>
                    <a:off x="4407120" y="3562200"/>
                    <a:ext cx="1080" cy="2304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9" h="178">
                        <a:moveTo>
                          <a:pt x="1" y="176"/>
                        </a:moveTo>
                        <a:lnTo>
                          <a:pt x="1" y="178"/>
                        </a:lnTo>
                        <a:lnTo>
                          <a:pt x="3" y="176"/>
                        </a:lnTo>
                        <a:lnTo>
                          <a:pt x="3" y="175"/>
                        </a:lnTo>
                        <a:lnTo>
                          <a:pt x="3" y="172"/>
                        </a:lnTo>
                        <a:lnTo>
                          <a:pt x="3" y="169"/>
                        </a:lnTo>
                        <a:lnTo>
                          <a:pt x="3" y="165"/>
                        </a:lnTo>
                        <a:lnTo>
                          <a:pt x="3" y="162"/>
                        </a:lnTo>
                        <a:lnTo>
                          <a:pt x="3" y="160"/>
                        </a:lnTo>
                        <a:lnTo>
                          <a:pt x="3" y="154"/>
                        </a:lnTo>
                        <a:lnTo>
                          <a:pt x="4" y="149"/>
                        </a:lnTo>
                        <a:lnTo>
                          <a:pt x="4" y="143"/>
                        </a:lnTo>
                        <a:lnTo>
                          <a:pt x="4" y="138"/>
                        </a:lnTo>
                        <a:lnTo>
                          <a:pt x="4" y="132"/>
                        </a:lnTo>
                        <a:lnTo>
                          <a:pt x="4" y="127"/>
                        </a:lnTo>
                        <a:lnTo>
                          <a:pt x="4" y="121"/>
                        </a:lnTo>
                        <a:lnTo>
                          <a:pt x="4" y="116"/>
                        </a:lnTo>
                        <a:lnTo>
                          <a:pt x="6" y="112"/>
                        </a:lnTo>
                        <a:lnTo>
                          <a:pt x="6" y="106"/>
                        </a:lnTo>
                        <a:lnTo>
                          <a:pt x="6" y="101"/>
                        </a:lnTo>
                        <a:lnTo>
                          <a:pt x="6" y="97"/>
                        </a:lnTo>
                        <a:lnTo>
                          <a:pt x="8" y="91"/>
                        </a:lnTo>
                        <a:lnTo>
                          <a:pt x="8" y="86"/>
                        </a:lnTo>
                        <a:lnTo>
                          <a:pt x="8" y="80"/>
                        </a:lnTo>
                        <a:lnTo>
                          <a:pt x="8" y="75"/>
                        </a:lnTo>
                        <a:lnTo>
                          <a:pt x="8" y="70"/>
                        </a:lnTo>
                        <a:lnTo>
                          <a:pt x="8" y="65"/>
                        </a:lnTo>
                        <a:lnTo>
                          <a:pt x="8" y="59"/>
                        </a:lnTo>
                        <a:lnTo>
                          <a:pt x="8" y="54"/>
                        </a:lnTo>
                        <a:lnTo>
                          <a:pt x="8" y="50"/>
                        </a:lnTo>
                        <a:lnTo>
                          <a:pt x="9" y="44"/>
                        </a:lnTo>
                        <a:lnTo>
                          <a:pt x="8" y="39"/>
                        </a:lnTo>
                        <a:lnTo>
                          <a:pt x="8" y="33"/>
                        </a:lnTo>
                        <a:lnTo>
                          <a:pt x="8" y="28"/>
                        </a:lnTo>
                        <a:lnTo>
                          <a:pt x="8" y="22"/>
                        </a:lnTo>
                        <a:lnTo>
                          <a:pt x="8" y="17"/>
                        </a:lnTo>
                        <a:lnTo>
                          <a:pt x="8" y="11"/>
                        </a:lnTo>
                        <a:lnTo>
                          <a:pt x="8" y="6"/>
                        </a:lnTo>
                        <a:lnTo>
                          <a:pt x="8" y="0"/>
                        </a:lnTo>
                        <a:lnTo>
                          <a:pt x="6" y="5"/>
                        </a:lnTo>
                        <a:lnTo>
                          <a:pt x="6" y="9"/>
                        </a:lnTo>
                        <a:lnTo>
                          <a:pt x="4" y="11"/>
                        </a:lnTo>
                        <a:lnTo>
                          <a:pt x="3" y="16"/>
                        </a:lnTo>
                        <a:lnTo>
                          <a:pt x="1" y="105"/>
                        </a:lnTo>
                        <a:lnTo>
                          <a:pt x="0" y="109"/>
                        </a:lnTo>
                        <a:lnTo>
                          <a:pt x="0" y="113"/>
                        </a:lnTo>
                        <a:lnTo>
                          <a:pt x="0" y="118"/>
                        </a:lnTo>
                        <a:lnTo>
                          <a:pt x="0" y="123"/>
                        </a:lnTo>
                        <a:lnTo>
                          <a:pt x="0" y="127"/>
                        </a:lnTo>
                        <a:lnTo>
                          <a:pt x="0" y="132"/>
                        </a:lnTo>
                        <a:lnTo>
                          <a:pt x="0" y="136"/>
                        </a:lnTo>
                        <a:lnTo>
                          <a:pt x="0" y="142"/>
                        </a:lnTo>
                        <a:lnTo>
                          <a:pt x="0" y="146"/>
                        </a:lnTo>
                        <a:lnTo>
                          <a:pt x="0" y="150"/>
                        </a:lnTo>
                        <a:lnTo>
                          <a:pt x="0" y="154"/>
                        </a:lnTo>
                        <a:lnTo>
                          <a:pt x="0" y="158"/>
                        </a:lnTo>
                        <a:lnTo>
                          <a:pt x="0" y="164"/>
                        </a:lnTo>
                        <a:lnTo>
                          <a:pt x="0" y="168"/>
                        </a:lnTo>
                        <a:lnTo>
                          <a:pt x="0" y="172"/>
                        </a:lnTo>
                        <a:lnTo>
                          <a:pt x="1" y="1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Freeform 249"/>
                  <p:cNvSpPr/>
                  <p:nvPr/>
                </p:nvSpPr>
                <p:spPr>
                  <a:xfrm>
                    <a:off x="4423680" y="3563640"/>
                    <a:ext cx="1440" cy="20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" h="161">
                        <a:moveTo>
                          <a:pt x="12" y="0"/>
                        </a:moveTo>
                        <a:lnTo>
                          <a:pt x="12" y="5"/>
                        </a:lnTo>
                        <a:lnTo>
                          <a:pt x="10" y="11"/>
                        </a:lnTo>
                        <a:lnTo>
                          <a:pt x="10" y="16"/>
                        </a:lnTo>
                        <a:lnTo>
                          <a:pt x="10" y="21"/>
                        </a:lnTo>
                        <a:lnTo>
                          <a:pt x="10" y="27"/>
                        </a:lnTo>
                        <a:lnTo>
                          <a:pt x="10" y="32"/>
                        </a:lnTo>
                        <a:lnTo>
                          <a:pt x="10" y="37"/>
                        </a:lnTo>
                        <a:lnTo>
                          <a:pt x="10" y="43"/>
                        </a:lnTo>
                        <a:lnTo>
                          <a:pt x="9" y="48"/>
                        </a:lnTo>
                        <a:lnTo>
                          <a:pt x="9" y="53"/>
                        </a:lnTo>
                        <a:lnTo>
                          <a:pt x="9" y="58"/>
                        </a:lnTo>
                        <a:lnTo>
                          <a:pt x="9" y="64"/>
                        </a:lnTo>
                        <a:lnTo>
                          <a:pt x="7" y="69"/>
                        </a:lnTo>
                        <a:lnTo>
                          <a:pt x="7" y="73"/>
                        </a:lnTo>
                        <a:lnTo>
                          <a:pt x="7" y="79"/>
                        </a:lnTo>
                        <a:lnTo>
                          <a:pt x="7" y="84"/>
                        </a:lnTo>
                        <a:lnTo>
                          <a:pt x="7" y="88"/>
                        </a:lnTo>
                        <a:lnTo>
                          <a:pt x="7" y="94"/>
                        </a:lnTo>
                        <a:lnTo>
                          <a:pt x="7" y="99"/>
                        </a:lnTo>
                        <a:lnTo>
                          <a:pt x="7" y="105"/>
                        </a:lnTo>
                        <a:lnTo>
                          <a:pt x="6" y="109"/>
                        </a:lnTo>
                        <a:lnTo>
                          <a:pt x="6" y="113"/>
                        </a:lnTo>
                        <a:lnTo>
                          <a:pt x="6" y="118"/>
                        </a:lnTo>
                        <a:lnTo>
                          <a:pt x="6" y="124"/>
                        </a:lnTo>
                        <a:lnTo>
                          <a:pt x="4" y="128"/>
                        </a:lnTo>
                        <a:lnTo>
                          <a:pt x="4" y="132"/>
                        </a:lnTo>
                        <a:lnTo>
                          <a:pt x="3" y="138"/>
                        </a:lnTo>
                        <a:lnTo>
                          <a:pt x="3" y="142"/>
                        </a:lnTo>
                        <a:lnTo>
                          <a:pt x="1" y="147"/>
                        </a:lnTo>
                        <a:lnTo>
                          <a:pt x="1" y="151"/>
                        </a:lnTo>
                        <a:lnTo>
                          <a:pt x="0" y="157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0" y="149"/>
                        </a:lnTo>
                        <a:lnTo>
                          <a:pt x="0" y="143"/>
                        </a:lnTo>
                        <a:lnTo>
                          <a:pt x="0" y="138"/>
                        </a:lnTo>
                        <a:lnTo>
                          <a:pt x="0" y="135"/>
                        </a:lnTo>
                        <a:lnTo>
                          <a:pt x="0" y="132"/>
                        </a:lnTo>
                        <a:lnTo>
                          <a:pt x="0" y="128"/>
                        </a:lnTo>
                        <a:lnTo>
                          <a:pt x="0" y="125"/>
                        </a:lnTo>
                        <a:lnTo>
                          <a:pt x="0" y="121"/>
                        </a:lnTo>
                        <a:lnTo>
                          <a:pt x="0" y="118"/>
                        </a:lnTo>
                        <a:lnTo>
                          <a:pt x="0" y="114"/>
                        </a:lnTo>
                        <a:lnTo>
                          <a:pt x="0" y="110"/>
                        </a:lnTo>
                        <a:lnTo>
                          <a:pt x="0" y="107"/>
                        </a:lnTo>
                        <a:lnTo>
                          <a:pt x="0" y="103"/>
                        </a:lnTo>
                        <a:lnTo>
                          <a:pt x="0" y="99"/>
                        </a:lnTo>
                        <a:lnTo>
                          <a:pt x="0" y="95"/>
                        </a:lnTo>
                        <a:lnTo>
                          <a:pt x="0" y="92"/>
                        </a:lnTo>
                        <a:lnTo>
                          <a:pt x="0" y="88"/>
                        </a:lnTo>
                        <a:lnTo>
                          <a:pt x="0" y="84"/>
                        </a:lnTo>
                        <a:lnTo>
                          <a:pt x="0" y="80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0" y="69"/>
                        </a:lnTo>
                        <a:lnTo>
                          <a:pt x="0" y="66"/>
                        </a:lnTo>
                        <a:lnTo>
                          <a:pt x="0" y="62"/>
                        </a:lnTo>
                        <a:lnTo>
                          <a:pt x="0" y="59"/>
                        </a:lnTo>
                        <a:lnTo>
                          <a:pt x="0" y="55"/>
                        </a:lnTo>
                        <a:lnTo>
                          <a:pt x="0" y="53"/>
                        </a:lnTo>
                        <a:lnTo>
                          <a:pt x="1" y="46"/>
                        </a:lnTo>
                        <a:lnTo>
                          <a:pt x="1" y="40"/>
                        </a:lnTo>
                        <a:lnTo>
                          <a:pt x="3" y="35"/>
                        </a:lnTo>
                        <a:lnTo>
                          <a:pt x="3" y="29"/>
                        </a:lnTo>
                        <a:lnTo>
                          <a:pt x="3" y="25"/>
                        </a:lnTo>
                        <a:lnTo>
                          <a:pt x="4" y="21"/>
                        </a:lnTo>
                        <a:lnTo>
                          <a:pt x="6" y="17"/>
                        </a:lnTo>
                        <a:lnTo>
                          <a:pt x="7" y="13"/>
                        </a:lnTo>
                        <a:lnTo>
                          <a:pt x="7" y="9"/>
                        </a:lnTo>
                        <a:lnTo>
                          <a:pt x="9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Freeform 250"/>
                  <p:cNvSpPr/>
                  <p:nvPr/>
                </p:nvSpPr>
                <p:spPr>
                  <a:xfrm>
                    <a:off x="4397040" y="3516840"/>
                    <a:ext cx="30240" cy="7596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211" h="582">
                        <a:moveTo>
                          <a:pt x="59" y="76"/>
                        </a:moveTo>
                        <a:lnTo>
                          <a:pt x="59" y="80"/>
                        </a:lnTo>
                        <a:lnTo>
                          <a:pt x="61" y="84"/>
                        </a:lnTo>
                        <a:lnTo>
                          <a:pt x="61" y="88"/>
                        </a:lnTo>
                        <a:lnTo>
                          <a:pt x="62" y="94"/>
                        </a:lnTo>
                        <a:lnTo>
                          <a:pt x="62" y="99"/>
                        </a:lnTo>
                        <a:lnTo>
                          <a:pt x="64" y="103"/>
                        </a:lnTo>
                        <a:lnTo>
                          <a:pt x="64" y="109"/>
                        </a:lnTo>
                        <a:lnTo>
                          <a:pt x="65" y="114"/>
                        </a:lnTo>
                        <a:lnTo>
                          <a:pt x="65" y="120"/>
                        </a:lnTo>
                        <a:lnTo>
                          <a:pt x="67" y="125"/>
                        </a:lnTo>
                        <a:lnTo>
                          <a:pt x="67" y="129"/>
                        </a:lnTo>
                        <a:lnTo>
                          <a:pt x="67" y="136"/>
                        </a:lnTo>
                        <a:lnTo>
                          <a:pt x="67" y="140"/>
                        </a:lnTo>
                        <a:lnTo>
                          <a:pt x="67" y="146"/>
                        </a:lnTo>
                        <a:lnTo>
                          <a:pt x="65" y="150"/>
                        </a:lnTo>
                        <a:lnTo>
                          <a:pt x="64" y="155"/>
                        </a:lnTo>
                        <a:lnTo>
                          <a:pt x="64" y="151"/>
                        </a:lnTo>
                        <a:lnTo>
                          <a:pt x="64" y="147"/>
                        </a:lnTo>
                        <a:lnTo>
                          <a:pt x="64" y="143"/>
                        </a:lnTo>
                        <a:lnTo>
                          <a:pt x="64" y="140"/>
                        </a:lnTo>
                        <a:lnTo>
                          <a:pt x="62" y="136"/>
                        </a:lnTo>
                        <a:lnTo>
                          <a:pt x="62" y="134"/>
                        </a:lnTo>
                        <a:lnTo>
                          <a:pt x="62" y="129"/>
                        </a:lnTo>
                        <a:lnTo>
                          <a:pt x="62" y="127"/>
                        </a:lnTo>
                        <a:lnTo>
                          <a:pt x="61" y="124"/>
                        </a:lnTo>
                        <a:lnTo>
                          <a:pt x="61" y="120"/>
                        </a:lnTo>
                        <a:lnTo>
                          <a:pt x="59" y="117"/>
                        </a:lnTo>
                        <a:lnTo>
                          <a:pt x="59" y="113"/>
                        </a:lnTo>
                        <a:lnTo>
                          <a:pt x="58" y="110"/>
                        </a:lnTo>
                        <a:lnTo>
                          <a:pt x="58" y="106"/>
                        </a:lnTo>
                        <a:lnTo>
                          <a:pt x="58" y="103"/>
                        </a:lnTo>
                        <a:lnTo>
                          <a:pt x="58" y="99"/>
                        </a:lnTo>
                        <a:lnTo>
                          <a:pt x="56" y="96"/>
                        </a:lnTo>
                        <a:lnTo>
                          <a:pt x="55" y="92"/>
                        </a:lnTo>
                        <a:lnTo>
                          <a:pt x="55" y="90"/>
                        </a:lnTo>
                        <a:lnTo>
                          <a:pt x="53" y="85"/>
                        </a:lnTo>
                        <a:lnTo>
                          <a:pt x="52" y="81"/>
                        </a:lnTo>
                        <a:lnTo>
                          <a:pt x="52" y="79"/>
                        </a:lnTo>
                        <a:lnTo>
                          <a:pt x="50" y="75"/>
                        </a:lnTo>
                        <a:lnTo>
                          <a:pt x="50" y="72"/>
                        </a:lnTo>
                        <a:lnTo>
                          <a:pt x="49" y="68"/>
                        </a:lnTo>
                        <a:lnTo>
                          <a:pt x="47" y="65"/>
                        </a:lnTo>
                        <a:lnTo>
                          <a:pt x="47" y="61"/>
                        </a:lnTo>
                        <a:lnTo>
                          <a:pt x="45" y="58"/>
                        </a:lnTo>
                        <a:lnTo>
                          <a:pt x="44" y="54"/>
                        </a:lnTo>
                        <a:lnTo>
                          <a:pt x="44" y="51"/>
                        </a:lnTo>
                        <a:lnTo>
                          <a:pt x="42" y="47"/>
                        </a:lnTo>
                        <a:lnTo>
                          <a:pt x="42" y="44"/>
                        </a:lnTo>
                        <a:lnTo>
                          <a:pt x="29" y="48"/>
                        </a:lnTo>
                        <a:lnTo>
                          <a:pt x="30" y="51"/>
                        </a:lnTo>
                        <a:lnTo>
                          <a:pt x="30" y="55"/>
                        </a:lnTo>
                        <a:lnTo>
                          <a:pt x="32" y="58"/>
                        </a:lnTo>
                        <a:lnTo>
                          <a:pt x="33" y="61"/>
                        </a:lnTo>
                        <a:lnTo>
                          <a:pt x="33" y="64"/>
                        </a:lnTo>
                        <a:lnTo>
                          <a:pt x="35" y="68"/>
                        </a:lnTo>
                        <a:lnTo>
                          <a:pt x="35" y="70"/>
                        </a:lnTo>
                        <a:lnTo>
                          <a:pt x="36" y="75"/>
                        </a:lnTo>
                        <a:lnTo>
                          <a:pt x="38" y="80"/>
                        </a:lnTo>
                        <a:lnTo>
                          <a:pt x="38" y="85"/>
                        </a:lnTo>
                        <a:lnTo>
                          <a:pt x="39" y="88"/>
                        </a:lnTo>
                        <a:lnTo>
                          <a:pt x="39" y="91"/>
                        </a:lnTo>
                        <a:lnTo>
                          <a:pt x="41" y="95"/>
                        </a:lnTo>
                        <a:lnTo>
                          <a:pt x="41" y="98"/>
                        </a:lnTo>
                        <a:lnTo>
                          <a:pt x="41" y="103"/>
                        </a:lnTo>
                        <a:lnTo>
                          <a:pt x="42" y="110"/>
                        </a:lnTo>
                        <a:lnTo>
                          <a:pt x="42" y="113"/>
                        </a:lnTo>
                        <a:lnTo>
                          <a:pt x="42" y="117"/>
                        </a:lnTo>
                        <a:lnTo>
                          <a:pt x="42" y="120"/>
                        </a:lnTo>
                        <a:lnTo>
                          <a:pt x="42" y="124"/>
                        </a:lnTo>
                        <a:lnTo>
                          <a:pt x="42" y="127"/>
                        </a:lnTo>
                        <a:lnTo>
                          <a:pt x="42" y="129"/>
                        </a:lnTo>
                        <a:lnTo>
                          <a:pt x="42" y="134"/>
                        </a:lnTo>
                        <a:lnTo>
                          <a:pt x="42" y="138"/>
                        </a:lnTo>
                        <a:lnTo>
                          <a:pt x="42" y="140"/>
                        </a:lnTo>
                        <a:lnTo>
                          <a:pt x="42" y="145"/>
                        </a:lnTo>
                        <a:lnTo>
                          <a:pt x="42" y="149"/>
                        </a:lnTo>
                        <a:lnTo>
                          <a:pt x="42" y="153"/>
                        </a:lnTo>
                        <a:lnTo>
                          <a:pt x="38" y="149"/>
                        </a:lnTo>
                        <a:lnTo>
                          <a:pt x="36" y="145"/>
                        </a:lnTo>
                        <a:lnTo>
                          <a:pt x="36" y="142"/>
                        </a:lnTo>
                        <a:lnTo>
                          <a:pt x="36" y="139"/>
                        </a:lnTo>
                        <a:lnTo>
                          <a:pt x="36" y="136"/>
                        </a:lnTo>
                        <a:lnTo>
                          <a:pt x="36" y="131"/>
                        </a:lnTo>
                        <a:lnTo>
                          <a:pt x="36" y="125"/>
                        </a:lnTo>
                        <a:lnTo>
                          <a:pt x="35" y="121"/>
                        </a:lnTo>
                        <a:lnTo>
                          <a:pt x="33" y="117"/>
                        </a:lnTo>
                        <a:lnTo>
                          <a:pt x="33" y="113"/>
                        </a:lnTo>
                        <a:lnTo>
                          <a:pt x="33" y="110"/>
                        </a:lnTo>
                        <a:lnTo>
                          <a:pt x="32" y="106"/>
                        </a:lnTo>
                        <a:lnTo>
                          <a:pt x="30" y="102"/>
                        </a:lnTo>
                        <a:lnTo>
                          <a:pt x="29" y="99"/>
                        </a:lnTo>
                        <a:lnTo>
                          <a:pt x="29" y="96"/>
                        </a:lnTo>
                        <a:lnTo>
                          <a:pt x="26" y="92"/>
                        </a:lnTo>
                        <a:lnTo>
                          <a:pt x="24" y="88"/>
                        </a:lnTo>
                        <a:lnTo>
                          <a:pt x="21" y="83"/>
                        </a:lnTo>
                        <a:lnTo>
                          <a:pt x="19" y="79"/>
                        </a:lnTo>
                        <a:lnTo>
                          <a:pt x="16" y="75"/>
                        </a:lnTo>
                        <a:lnTo>
                          <a:pt x="15" y="69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2" y="61"/>
                        </a:lnTo>
                        <a:lnTo>
                          <a:pt x="12" y="58"/>
                        </a:lnTo>
                        <a:lnTo>
                          <a:pt x="12" y="55"/>
                        </a:lnTo>
                        <a:lnTo>
                          <a:pt x="12" y="51"/>
                        </a:lnTo>
                        <a:lnTo>
                          <a:pt x="12" y="47"/>
                        </a:lnTo>
                        <a:lnTo>
                          <a:pt x="12" y="44"/>
                        </a:lnTo>
                        <a:lnTo>
                          <a:pt x="9" y="44"/>
                        </a:lnTo>
                        <a:lnTo>
                          <a:pt x="4" y="46"/>
                        </a:lnTo>
                        <a:lnTo>
                          <a:pt x="0" y="46"/>
                        </a:lnTo>
                        <a:lnTo>
                          <a:pt x="0" y="47"/>
                        </a:lnTo>
                        <a:lnTo>
                          <a:pt x="0" y="50"/>
                        </a:lnTo>
                        <a:lnTo>
                          <a:pt x="0" y="53"/>
                        </a:lnTo>
                        <a:lnTo>
                          <a:pt x="0" y="57"/>
                        </a:lnTo>
                        <a:lnTo>
                          <a:pt x="0" y="61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0" y="73"/>
                        </a:lnTo>
                        <a:lnTo>
                          <a:pt x="1" y="77"/>
                        </a:lnTo>
                        <a:lnTo>
                          <a:pt x="1" y="83"/>
                        </a:lnTo>
                        <a:lnTo>
                          <a:pt x="1" y="87"/>
                        </a:lnTo>
                        <a:lnTo>
                          <a:pt x="3" y="91"/>
                        </a:lnTo>
                        <a:lnTo>
                          <a:pt x="3" y="96"/>
                        </a:lnTo>
                        <a:lnTo>
                          <a:pt x="3" y="101"/>
                        </a:lnTo>
                        <a:lnTo>
                          <a:pt x="3" y="105"/>
                        </a:lnTo>
                        <a:lnTo>
                          <a:pt x="4" y="110"/>
                        </a:lnTo>
                        <a:lnTo>
                          <a:pt x="6" y="114"/>
                        </a:lnTo>
                        <a:lnTo>
                          <a:pt x="6" y="118"/>
                        </a:lnTo>
                        <a:lnTo>
                          <a:pt x="6" y="123"/>
                        </a:lnTo>
                        <a:lnTo>
                          <a:pt x="6" y="127"/>
                        </a:lnTo>
                        <a:lnTo>
                          <a:pt x="7" y="131"/>
                        </a:lnTo>
                        <a:lnTo>
                          <a:pt x="7" y="135"/>
                        </a:lnTo>
                        <a:lnTo>
                          <a:pt x="7" y="139"/>
                        </a:lnTo>
                        <a:lnTo>
                          <a:pt x="9" y="142"/>
                        </a:lnTo>
                        <a:lnTo>
                          <a:pt x="9" y="146"/>
                        </a:lnTo>
                        <a:lnTo>
                          <a:pt x="10" y="151"/>
                        </a:lnTo>
                        <a:lnTo>
                          <a:pt x="10" y="155"/>
                        </a:lnTo>
                        <a:lnTo>
                          <a:pt x="10" y="158"/>
                        </a:lnTo>
                        <a:lnTo>
                          <a:pt x="12" y="160"/>
                        </a:lnTo>
                        <a:lnTo>
                          <a:pt x="12" y="164"/>
                        </a:lnTo>
                        <a:lnTo>
                          <a:pt x="12" y="168"/>
                        </a:lnTo>
                        <a:lnTo>
                          <a:pt x="12" y="171"/>
                        </a:lnTo>
                        <a:lnTo>
                          <a:pt x="13" y="176"/>
                        </a:lnTo>
                        <a:lnTo>
                          <a:pt x="13" y="180"/>
                        </a:lnTo>
                        <a:lnTo>
                          <a:pt x="13" y="183"/>
                        </a:lnTo>
                        <a:lnTo>
                          <a:pt x="13" y="187"/>
                        </a:lnTo>
                        <a:lnTo>
                          <a:pt x="15" y="191"/>
                        </a:lnTo>
                        <a:lnTo>
                          <a:pt x="15" y="197"/>
                        </a:lnTo>
                        <a:lnTo>
                          <a:pt x="15" y="199"/>
                        </a:lnTo>
                        <a:lnTo>
                          <a:pt x="13" y="198"/>
                        </a:lnTo>
                        <a:lnTo>
                          <a:pt x="13" y="197"/>
                        </a:lnTo>
                        <a:lnTo>
                          <a:pt x="12" y="194"/>
                        </a:lnTo>
                        <a:lnTo>
                          <a:pt x="12" y="582"/>
                        </a:lnTo>
                        <a:lnTo>
                          <a:pt x="211" y="582"/>
                        </a:lnTo>
                        <a:lnTo>
                          <a:pt x="206" y="114"/>
                        </a:lnTo>
                        <a:lnTo>
                          <a:pt x="205" y="110"/>
                        </a:lnTo>
                        <a:lnTo>
                          <a:pt x="205" y="107"/>
                        </a:lnTo>
                        <a:lnTo>
                          <a:pt x="205" y="103"/>
                        </a:lnTo>
                        <a:lnTo>
                          <a:pt x="205" y="99"/>
                        </a:lnTo>
                        <a:lnTo>
                          <a:pt x="205" y="96"/>
                        </a:lnTo>
                        <a:lnTo>
                          <a:pt x="205" y="92"/>
                        </a:lnTo>
                        <a:lnTo>
                          <a:pt x="205" y="90"/>
                        </a:lnTo>
                        <a:lnTo>
                          <a:pt x="205" y="85"/>
                        </a:lnTo>
                        <a:lnTo>
                          <a:pt x="205" y="81"/>
                        </a:lnTo>
                        <a:lnTo>
                          <a:pt x="205" y="79"/>
                        </a:lnTo>
                        <a:lnTo>
                          <a:pt x="205" y="75"/>
                        </a:lnTo>
                        <a:lnTo>
                          <a:pt x="205" y="72"/>
                        </a:lnTo>
                        <a:lnTo>
                          <a:pt x="205" y="68"/>
                        </a:lnTo>
                        <a:lnTo>
                          <a:pt x="205" y="65"/>
                        </a:lnTo>
                        <a:lnTo>
                          <a:pt x="205" y="61"/>
                        </a:lnTo>
                        <a:lnTo>
                          <a:pt x="205" y="58"/>
                        </a:lnTo>
                        <a:lnTo>
                          <a:pt x="205" y="54"/>
                        </a:lnTo>
                        <a:lnTo>
                          <a:pt x="205" y="50"/>
                        </a:lnTo>
                        <a:lnTo>
                          <a:pt x="205" y="47"/>
                        </a:lnTo>
                        <a:lnTo>
                          <a:pt x="205" y="43"/>
                        </a:lnTo>
                        <a:lnTo>
                          <a:pt x="205" y="39"/>
                        </a:lnTo>
                        <a:lnTo>
                          <a:pt x="205" y="36"/>
                        </a:lnTo>
                        <a:lnTo>
                          <a:pt x="205" y="32"/>
                        </a:lnTo>
                        <a:lnTo>
                          <a:pt x="205" y="29"/>
                        </a:lnTo>
                        <a:lnTo>
                          <a:pt x="205" y="25"/>
                        </a:lnTo>
                        <a:lnTo>
                          <a:pt x="205" y="21"/>
                        </a:lnTo>
                        <a:lnTo>
                          <a:pt x="205" y="18"/>
                        </a:lnTo>
                        <a:lnTo>
                          <a:pt x="205" y="15"/>
                        </a:lnTo>
                        <a:lnTo>
                          <a:pt x="203" y="11"/>
                        </a:lnTo>
                        <a:lnTo>
                          <a:pt x="203" y="7"/>
                        </a:lnTo>
                        <a:lnTo>
                          <a:pt x="203" y="4"/>
                        </a:lnTo>
                        <a:lnTo>
                          <a:pt x="203" y="0"/>
                        </a:lnTo>
                        <a:lnTo>
                          <a:pt x="203" y="3"/>
                        </a:lnTo>
                        <a:lnTo>
                          <a:pt x="203" y="7"/>
                        </a:lnTo>
                        <a:lnTo>
                          <a:pt x="203" y="10"/>
                        </a:lnTo>
                        <a:lnTo>
                          <a:pt x="203" y="13"/>
                        </a:lnTo>
                        <a:lnTo>
                          <a:pt x="203" y="17"/>
                        </a:lnTo>
                        <a:lnTo>
                          <a:pt x="203" y="20"/>
                        </a:lnTo>
                        <a:lnTo>
                          <a:pt x="203" y="24"/>
                        </a:lnTo>
                        <a:lnTo>
                          <a:pt x="203" y="26"/>
                        </a:lnTo>
                        <a:lnTo>
                          <a:pt x="201" y="29"/>
                        </a:lnTo>
                        <a:lnTo>
                          <a:pt x="201" y="33"/>
                        </a:lnTo>
                        <a:lnTo>
                          <a:pt x="201" y="36"/>
                        </a:lnTo>
                        <a:lnTo>
                          <a:pt x="201" y="40"/>
                        </a:lnTo>
                        <a:lnTo>
                          <a:pt x="201" y="43"/>
                        </a:lnTo>
                        <a:lnTo>
                          <a:pt x="201" y="47"/>
                        </a:lnTo>
                        <a:lnTo>
                          <a:pt x="201" y="50"/>
                        </a:lnTo>
                        <a:lnTo>
                          <a:pt x="201" y="53"/>
                        </a:lnTo>
                        <a:lnTo>
                          <a:pt x="201" y="57"/>
                        </a:lnTo>
                        <a:lnTo>
                          <a:pt x="201" y="59"/>
                        </a:lnTo>
                        <a:lnTo>
                          <a:pt x="201" y="64"/>
                        </a:lnTo>
                        <a:lnTo>
                          <a:pt x="201" y="66"/>
                        </a:lnTo>
                        <a:lnTo>
                          <a:pt x="201" y="70"/>
                        </a:lnTo>
                        <a:lnTo>
                          <a:pt x="201" y="73"/>
                        </a:lnTo>
                        <a:lnTo>
                          <a:pt x="201" y="77"/>
                        </a:lnTo>
                        <a:lnTo>
                          <a:pt x="201" y="80"/>
                        </a:lnTo>
                        <a:lnTo>
                          <a:pt x="201" y="84"/>
                        </a:lnTo>
                        <a:lnTo>
                          <a:pt x="201" y="87"/>
                        </a:lnTo>
                        <a:lnTo>
                          <a:pt x="201" y="90"/>
                        </a:lnTo>
                        <a:lnTo>
                          <a:pt x="201" y="94"/>
                        </a:lnTo>
                        <a:lnTo>
                          <a:pt x="201" y="96"/>
                        </a:lnTo>
                        <a:lnTo>
                          <a:pt x="201" y="101"/>
                        </a:lnTo>
                        <a:lnTo>
                          <a:pt x="201" y="103"/>
                        </a:lnTo>
                        <a:lnTo>
                          <a:pt x="201" y="107"/>
                        </a:lnTo>
                        <a:lnTo>
                          <a:pt x="200" y="103"/>
                        </a:lnTo>
                        <a:lnTo>
                          <a:pt x="198" y="99"/>
                        </a:lnTo>
                        <a:lnTo>
                          <a:pt x="198" y="94"/>
                        </a:lnTo>
                        <a:lnTo>
                          <a:pt x="197" y="90"/>
                        </a:lnTo>
                        <a:lnTo>
                          <a:pt x="195" y="84"/>
                        </a:lnTo>
                        <a:lnTo>
                          <a:pt x="195" y="80"/>
                        </a:lnTo>
                        <a:lnTo>
                          <a:pt x="194" y="76"/>
                        </a:lnTo>
                        <a:lnTo>
                          <a:pt x="194" y="72"/>
                        </a:lnTo>
                        <a:lnTo>
                          <a:pt x="191" y="73"/>
                        </a:lnTo>
                        <a:lnTo>
                          <a:pt x="191" y="79"/>
                        </a:lnTo>
                        <a:lnTo>
                          <a:pt x="191" y="80"/>
                        </a:lnTo>
                        <a:lnTo>
                          <a:pt x="191" y="84"/>
                        </a:lnTo>
                        <a:lnTo>
                          <a:pt x="191" y="88"/>
                        </a:lnTo>
                        <a:lnTo>
                          <a:pt x="191" y="92"/>
                        </a:lnTo>
                        <a:lnTo>
                          <a:pt x="191" y="96"/>
                        </a:lnTo>
                        <a:lnTo>
                          <a:pt x="191" y="101"/>
                        </a:lnTo>
                        <a:lnTo>
                          <a:pt x="191" y="105"/>
                        </a:lnTo>
                        <a:lnTo>
                          <a:pt x="191" y="110"/>
                        </a:lnTo>
                        <a:lnTo>
                          <a:pt x="191" y="114"/>
                        </a:lnTo>
                        <a:lnTo>
                          <a:pt x="191" y="120"/>
                        </a:lnTo>
                        <a:lnTo>
                          <a:pt x="191" y="125"/>
                        </a:lnTo>
                        <a:lnTo>
                          <a:pt x="192" y="131"/>
                        </a:lnTo>
                        <a:lnTo>
                          <a:pt x="192" y="135"/>
                        </a:lnTo>
                        <a:lnTo>
                          <a:pt x="192" y="139"/>
                        </a:lnTo>
                        <a:lnTo>
                          <a:pt x="192" y="145"/>
                        </a:lnTo>
                        <a:lnTo>
                          <a:pt x="192" y="149"/>
                        </a:lnTo>
                        <a:lnTo>
                          <a:pt x="192" y="153"/>
                        </a:lnTo>
                        <a:lnTo>
                          <a:pt x="192" y="157"/>
                        </a:lnTo>
                        <a:lnTo>
                          <a:pt x="192" y="161"/>
                        </a:lnTo>
                        <a:lnTo>
                          <a:pt x="194" y="164"/>
                        </a:lnTo>
                        <a:lnTo>
                          <a:pt x="192" y="168"/>
                        </a:lnTo>
                        <a:lnTo>
                          <a:pt x="192" y="172"/>
                        </a:lnTo>
                        <a:lnTo>
                          <a:pt x="191" y="173"/>
                        </a:lnTo>
                        <a:lnTo>
                          <a:pt x="191" y="171"/>
                        </a:lnTo>
                        <a:lnTo>
                          <a:pt x="191" y="165"/>
                        </a:lnTo>
                        <a:lnTo>
                          <a:pt x="189" y="160"/>
                        </a:lnTo>
                        <a:lnTo>
                          <a:pt x="189" y="154"/>
                        </a:lnTo>
                        <a:lnTo>
                          <a:pt x="189" y="149"/>
                        </a:lnTo>
                        <a:lnTo>
                          <a:pt x="189" y="143"/>
                        </a:lnTo>
                        <a:lnTo>
                          <a:pt x="188" y="139"/>
                        </a:lnTo>
                        <a:lnTo>
                          <a:pt x="188" y="134"/>
                        </a:lnTo>
                        <a:lnTo>
                          <a:pt x="188" y="129"/>
                        </a:lnTo>
                        <a:lnTo>
                          <a:pt x="188" y="124"/>
                        </a:lnTo>
                        <a:lnTo>
                          <a:pt x="188" y="121"/>
                        </a:lnTo>
                        <a:lnTo>
                          <a:pt x="188" y="116"/>
                        </a:lnTo>
                        <a:lnTo>
                          <a:pt x="188" y="112"/>
                        </a:lnTo>
                        <a:lnTo>
                          <a:pt x="186" y="107"/>
                        </a:lnTo>
                        <a:lnTo>
                          <a:pt x="186" y="103"/>
                        </a:lnTo>
                        <a:lnTo>
                          <a:pt x="186" y="99"/>
                        </a:lnTo>
                        <a:lnTo>
                          <a:pt x="186" y="95"/>
                        </a:lnTo>
                        <a:lnTo>
                          <a:pt x="185" y="90"/>
                        </a:lnTo>
                        <a:lnTo>
                          <a:pt x="185" y="87"/>
                        </a:lnTo>
                        <a:lnTo>
                          <a:pt x="185" y="81"/>
                        </a:lnTo>
                        <a:lnTo>
                          <a:pt x="185" y="77"/>
                        </a:lnTo>
                        <a:lnTo>
                          <a:pt x="183" y="73"/>
                        </a:lnTo>
                        <a:lnTo>
                          <a:pt x="183" y="68"/>
                        </a:lnTo>
                        <a:lnTo>
                          <a:pt x="183" y="64"/>
                        </a:lnTo>
                        <a:lnTo>
                          <a:pt x="183" y="59"/>
                        </a:lnTo>
                        <a:lnTo>
                          <a:pt x="182" y="55"/>
                        </a:lnTo>
                        <a:lnTo>
                          <a:pt x="182" y="50"/>
                        </a:lnTo>
                        <a:lnTo>
                          <a:pt x="182" y="44"/>
                        </a:lnTo>
                        <a:lnTo>
                          <a:pt x="182" y="40"/>
                        </a:lnTo>
                        <a:lnTo>
                          <a:pt x="182" y="35"/>
                        </a:lnTo>
                        <a:lnTo>
                          <a:pt x="182" y="31"/>
                        </a:lnTo>
                        <a:lnTo>
                          <a:pt x="182" y="24"/>
                        </a:lnTo>
                        <a:lnTo>
                          <a:pt x="182" y="20"/>
                        </a:lnTo>
                        <a:lnTo>
                          <a:pt x="179" y="20"/>
                        </a:lnTo>
                        <a:lnTo>
                          <a:pt x="177" y="24"/>
                        </a:lnTo>
                        <a:lnTo>
                          <a:pt x="175" y="26"/>
                        </a:lnTo>
                        <a:lnTo>
                          <a:pt x="174" y="31"/>
                        </a:lnTo>
                        <a:lnTo>
                          <a:pt x="174" y="33"/>
                        </a:lnTo>
                        <a:lnTo>
                          <a:pt x="172" y="37"/>
                        </a:lnTo>
                        <a:lnTo>
                          <a:pt x="172" y="40"/>
                        </a:lnTo>
                        <a:lnTo>
                          <a:pt x="172" y="44"/>
                        </a:lnTo>
                        <a:lnTo>
                          <a:pt x="171" y="47"/>
                        </a:lnTo>
                        <a:lnTo>
                          <a:pt x="171" y="53"/>
                        </a:lnTo>
                        <a:lnTo>
                          <a:pt x="169" y="57"/>
                        </a:lnTo>
                        <a:lnTo>
                          <a:pt x="169" y="64"/>
                        </a:lnTo>
                        <a:lnTo>
                          <a:pt x="169" y="65"/>
                        </a:lnTo>
                        <a:lnTo>
                          <a:pt x="169" y="68"/>
                        </a:lnTo>
                        <a:lnTo>
                          <a:pt x="169" y="72"/>
                        </a:lnTo>
                        <a:lnTo>
                          <a:pt x="169" y="75"/>
                        </a:lnTo>
                        <a:lnTo>
                          <a:pt x="169" y="77"/>
                        </a:lnTo>
                        <a:lnTo>
                          <a:pt x="169" y="81"/>
                        </a:lnTo>
                        <a:lnTo>
                          <a:pt x="169" y="85"/>
                        </a:lnTo>
                        <a:lnTo>
                          <a:pt x="169" y="90"/>
                        </a:lnTo>
                        <a:lnTo>
                          <a:pt x="169" y="92"/>
                        </a:lnTo>
                        <a:lnTo>
                          <a:pt x="169" y="96"/>
                        </a:lnTo>
                        <a:lnTo>
                          <a:pt x="169" y="101"/>
                        </a:lnTo>
                        <a:lnTo>
                          <a:pt x="169" y="105"/>
                        </a:lnTo>
                        <a:lnTo>
                          <a:pt x="169" y="109"/>
                        </a:lnTo>
                        <a:lnTo>
                          <a:pt x="169" y="113"/>
                        </a:lnTo>
                        <a:lnTo>
                          <a:pt x="169" y="118"/>
                        </a:lnTo>
                        <a:lnTo>
                          <a:pt x="169" y="124"/>
                        </a:lnTo>
                        <a:lnTo>
                          <a:pt x="169" y="128"/>
                        </a:lnTo>
                        <a:lnTo>
                          <a:pt x="169" y="134"/>
                        </a:lnTo>
                        <a:lnTo>
                          <a:pt x="171" y="138"/>
                        </a:lnTo>
                        <a:lnTo>
                          <a:pt x="171" y="143"/>
                        </a:lnTo>
                        <a:lnTo>
                          <a:pt x="171" y="149"/>
                        </a:lnTo>
                        <a:lnTo>
                          <a:pt x="171" y="154"/>
                        </a:lnTo>
                        <a:lnTo>
                          <a:pt x="172" y="160"/>
                        </a:lnTo>
                        <a:lnTo>
                          <a:pt x="174" y="166"/>
                        </a:lnTo>
                        <a:lnTo>
                          <a:pt x="174" y="169"/>
                        </a:lnTo>
                        <a:lnTo>
                          <a:pt x="174" y="172"/>
                        </a:lnTo>
                        <a:lnTo>
                          <a:pt x="174" y="176"/>
                        </a:lnTo>
                        <a:lnTo>
                          <a:pt x="174" y="182"/>
                        </a:lnTo>
                        <a:lnTo>
                          <a:pt x="174" y="186"/>
                        </a:lnTo>
                        <a:lnTo>
                          <a:pt x="174" y="191"/>
                        </a:lnTo>
                        <a:lnTo>
                          <a:pt x="174" y="197"/>
                        </a:lnTo>
                        <a:lnTo>
                          <a:pt x="174" y="204"/>
                        </a:lnTo>
                        <a:lnTo>
                          <a:pt x="172" y="209"/>
                        </a:lnTo>
                        <a:lnTo>
                          <a:pt x="172" y="215"/>
                        </a:lnTo>
                        <a:lnTo>
                          <a:pt x="172" y="220"/>
                        </a:lnTo>
                        <a:lnTo>
                          <a:pt x="172" y="224"/>
                        </a:lnTo>
                        <a:lnTo>
                          <a:pt x="171" y="228"/>
                        </a:lnTo>
                        <a:lnTo>
                          <a:pt x="171" y="232"/>
                        </a:lnTo>
                        <a:lnTo>
                          <a:pt x="169" y="235"/>
                        </a:lnTo>
                        <a:lnTo>
                          <a:pt x="168" y="238"/>
                        </a:lnTo>
                        <a:lnTo>
                          <a:pt x="166" y="231"/>
                        </a:lnTo>
                        <a:lnTo>
                          <a:pt x="166" y="225"/>
                        </a:lnTo>
                        <a:lnTo>
                          <a:pt x="165" y="220"/>
                        </a:lnTo>
                        <a:lnTo>
                          <a:pt x="165" y="215"/>
                        </a:lnTo>
                        <a:lnTo>
                          <a:pt x="163" y="209"/>
                        </a:lnTo>
                        <a:lnTo>
                          <a:pt x="163" y="204"/>
                        </a:lnTo>
                        <a:lnTo>
                          <a:pt x="163" y="198"/>
                        </a:lnTo>
                        <a:lnTo>
                          <a:pt x="163" y="193"/>
                        </a:lnTo>
                        <a:lnTo>
                          <a:pt x="163" y="186"/>
                        </a:lnTo>
                        <a:lnTo>
                          <a:pt x="163" y="182"/>
                        </a:lnTo>
                        <a:lnTo>
                          <a:pt x="163" y="175"/>
                        </a:lnTo>
                        <a:lnTo>
                          <a:pt x="163" y="171"/>
                        </a:lnTo>
                        <a:lnTo>
                          <a:pt x="163" y="165"/>
                        </a:lnTo>
                        <a:lnTo>
                          <a:pt x="163" y="158"/>
                        </a:lnTo>
                        <a:lnTo>
                          <a:pt x="163" y="153"/>
                        </a:lnTo>
                        <a:lnTo>
                          <a:pt x="163" y="149"/>
                        </a:lnTo>
                        <a:lnTo>
                          <a:pt x="162" y="142"/>
                        </a:lnTo>
                        <a:lnTo>
                          <a:pt x="162" y="136"/>
                        </a:lnTo>
                        <a:lnTo>
                          <a:pt x="162" y="131"/>
                        </a:lnTo>
                        <a:lnTo>
                          <a:pt x="162" y="125"/>
                        </a:lnTo>
                        <a:lnTo>
                          <a:pt x="162" y="118"/>
                        </a:lnTo>
                        <a:lnTo>
                          <a:pt x="162" y="114"/>
                        </a:lnTo>
                        <a:lnTo>
                          <a:pt x="162" y="107"/>
                        </a:lnTo>
                        <a:lnTo>
                          <a:pt x="162" y="102"/>
                        </a:lnTo>
                        <a:lnTo>
                          <a:pt x="162" y="96"/>
                        </a:lnTo>
                        <a:lnTo>
                          <a:pt x="160" y="91"/>
                        </a:lnTo>
                        <a:lnTo>
                          <a:pt x="160" y="85"/>
                        </a:lnTo>
                        <a:lnTo>
                          <a:pt x="160" y="80"/>
                        </a:lnTo>
                        <a:lnTo>
                          <a:pt x="160" y="75"/>
                        </a:lnTo>
                        <a:lnTo>
                          <a:pt x="159" y="69"/>
                        </a:lnTo>
                        <a:lnTo>
                          <a:pt x="159" y="62"/>
                        </a:lnTo>
                        <a:lnTo>
                          <a:pt x="157" y="58"/>
                        </a:lnTo>
                        <a:lnTo>
                          <a:pt x="157" y="55"/>
                        </a:lnTo>
                        <a:lnTo>
                          <a:pt x="157" y="53"/>
                        </a:lnTo>
                        <a:lnTo>
                          <a:pt x="156" y="48"/>
                        </a:lnTo>
                        <a:lnTo>
                          <a:pt x="156" y="47"/>
                        </a:lnTo>
                        <a:lnTo>
                          <a:pt x="154" y="50"/>
                        </a:lnTo>
                        <a:lnTo>
                          <a:pt x="154" y="53"/>
                        </a:lnTo>
                        <a:lnTo>
                          <a:pt x="153" y="57"/>
                        </a:lnTo>
                        <a:lnTo>
                          <a:pt x="153" y="59"/>
                        </a:lnTo>
                        <a:lnTo>
                          <a:pt x="153" y="64"/>
                        </a:lnTo>
                        <a:lnTo>
                          <a:pt x="151" y="66"/>
                        </a:lnTo>
                        <a:lnTo>
                          <a:pt x="151" y="70"/>
                        </a:lnTo>
                        <a:lnTo>
                          <a:pt x="151" y="75"/>
                        </a:lnTo>
                        <a:lnTo>
                          <a:pt x="156" y="138"/>
                        </a:lnTo>
                        <a:lnTo>
                          <a:pt x="154" y="142"/>
                        </a:lnTo>
                        <a:lnTo>
                          <a:pt x="154" y="146"/>
                        </a:lnTo>
                        <a:lnTo>
                          <a:pt x="154" y="151"/>
                        </a:lnTo>
                        <a:lnTo>
                          <a:pt x="154" y="155"/>
                        </a:lnTo>
                        <a:lnTo>
                          <a:pt x="154" y="161"/>
                        </a:lnTo>
                        <a:lnTo>
                          <a:pt x="154" y="166"/>
                        </a:lnTo>
                        <a:lnTo>
                          <a:pt x="153" y="171"/>
                        </a:lnTo>
                        <a:lnTo>
                          <a:pt x="153" y="176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1" y="191"/>
                        </a:lnTo>
                        <a:lnTo>
                          <a:pt x="151" y="195"/>
                        </a:lnTo>
                        <a:lnTo>
                          <a:pt x="151" y="201"/>
                        </a:lnTo>
                        <a:lnTo>
                          <a:pt x="151" y="206"/>
                        </a:lnTo>
                        <a:lnTo>
                          <a:pt x="153" y="210"/>
                        </a:lnTo>
                        <a:lnTo>
                          <a:pt x="153" y="217"/>
                        </a:lnTo>
                        <a:lnTo>
                          <a:pt x="153" y="544"/>
                        </a:lnTo>
                        <a:lnTo>
                          <a:pt x="75" y="545"/>
                        </a:lnTo>
                        <a:lnTo>
                          <a:pt x="71" y="99"/>
                        </a:lnTo>
                        <a:lnTo>
                          <a:pt x="71" y="95"/>
                        </a:lnTo>
                        <a:lnTo>
                          <a:pt x="71" y="92"/>
                        </a:lnTo>
                        <a:lnTo>
                          <a:pt x="71" y="88"/>
                        </a:lnTo>
                        <a:lnTo>
                          <a:pt x="71" y="85"/>
                        </a:lnTo>
                        <a:lnTo>
                          <a:pt x="70" y="81"/>
                        </a:lnTo>
                        <a:lnTo>
                          <a:pt x="68" y="79"/>
                        </a:lnTo>
                        <a:lnTo>
                          <a:pt x="68" y="75"/>
                        </a:lnTo>
                        <a:lnTo>
                          <a:pt x="68" y="72"/>
                        </a:lnTo>
                        <a:lnTo>
                          <a:pt x="67" y="68"/>
                        </a:lnTo>
                        <a:lnTo>
                          <a:pt x="65" y="65"/>
                        </a:lnTo>
                        <a:lnTo>
                          <a:pt x="64" y="62"/>
                        </a:lnTo>
                        <a:lnTo>
                          <a:pt x="64" y="58"/>
                        </a:lnTo>
                        <a:lnTo>
                          <a:pt x="62" y="53"/>
                        </a:lnTo>
                        <a:lnTo>
                          <a:pt x="62" y="47"/>
                        </a:lnTo>
                        <a:lnTo>
                          <a:pt x="58" y="53"/>
                        </a:lnTo>
                        <a:lnTo>
                          <a:pt x="59" y="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Freeform 251"/>
                  <p:cNvSpPr/>
                  <p:nvPr/>
                </p:nvSpPr>
                <p:spPr>
                  <a:xfrm>
                    <a:off x="4464720" y="3563640"/>
                    <a:ext cx="1800" cy="2088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4" h="161">
                        <a:moveTo>
                          <a:pt x="14" y="0"/>
                        </a:moveTo>
                        <a:lnTo>
                          <a:pt x="14" y="3"/>
                        </a:lnTo>
                        <a:lnTo>
                          <a:pt x="12" y="7"/>
                        </a:lnTo>
                        <a:lnTo>
                          <a:pt x="12" y="11"/>
                        </a:lnTo>
                        <a:lnTo>
                          <a:pt x="12" y="16"/>
                        </a:lnTo>
                        <a:lnTo>
                          <a:pt x="11" y="20"/>
                        </a:lnTo>
                        <a:lnTo>
                          <a:pt x="11" y="24"/>
                        </a:lnTo>
                        <a:lnTo>
                          <a:pt x="11" y="28"/>
                        </a:lnTo>
                        <a:lnTo>
                          <a:pt x="11" y="32"/>
                        </a:lnTo>
                        <a:lnTo>
                          <a:pt x="11" y="36"/>
                        </a:lnTo>
                        <a:lnTo>
                          <a:pt x="11" y="40"/>
                        </a:lnTo>
                        <a:lnTo>
                          <a:pt x="11" y="44"/>
                        </a:lnTo>
                        <a:lnTo>
                          <a:pt x="11" y="48"/>
                        </a:lnTo>
                        <a:lnTo>
                          <a:pt x="11" y="53"/>
                        </a:lnTo>
                        <a:lnTo>
                          <a:pt x="11" y="58"/>
                        </a:lnTo>
                        <a:lnTo>
                          <a:pt x="11" y="61"/>
                        </a:lnTo>
                        <a:lnTo>
                          <a:pt x="11" y="66"/>
                        </a:lnTo>
                        <a:lnTo>
                          <a:pt x="11" y="72"/>
                        </a:lnTo>
                        <a:lnTo>
                          <a:pt x="11" y="77"/>
                        </a:lnTo>
                        <a:lnTo>
                          <a:pt x="11" y="83"/>
                        </a:lnTo>
                        <a:lnTo>
                          <a:pt x="11" y="90"/>
                        </a:lnTo>
                        <a:lnTo>
                          <a:pt x="11" y="95"/>
                        </a:lnTo>
                        <a:lnTo>
                          <a:pt x="9" y="101"/>
                        </a:lnTo>
                        <a:lnTo>
                          <a:pt x="9" y="105"/>
                        </a:lnTo>
                        <a:lnTo>
                          <a:pt x="9" y="107"/>
                        </a:lnTo>
                        <a:lnTo>
                          <a:pt x="9" y="110"/>
                        </a:lnTo>
                        <a:lnTo>
                          <a:pt x="9" y="113"/>
                        </a:lnTo>
                        <a:lnTo>
                          <a:pt x="8" y="120"/>
                        </a:lnTo>
                        <a:lnTo>
                          <a:pt x="6" y="125"/>
                        </a:lnTo>
                        <a:lnTo>
                          <a:pt x="6" y="131"/>
                        </a:lnTo>
                        <a:lnTo>
                          <a:pt x="5" y="138"/>
                        </a:lnTo>
                        <a:lnTo>
                          <a:pt x="3" y="143"/>
                        </a:lnTo>
                        <a:lnTo>
                          <a:pt x="3" y="149"/>
                        </a:lnTo>
                        <a:lnTo>
                          <a:pt x="2" y="151"/>
                        </a:lnTo>
                        <a:lnTo>
                          <a:pt x="2" y="154"/>
                        </a:lnTo>
                        <a:lnTo>
                          <a:pt x="0" y="158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2" y="150"/>
                        </a:lnTo>
                        <a:lnTo>
                          <a:pt x="2" y="145"/>
                        </a:lnTo>
                        <a:lnTo>
                          <a:pt x="2" y="140"/>
                        </a:lnTo>
                        <a:lnTo>
                          <a:pt x="2" y="135"/>
                        </a:lnTo>
                        <a:lnTo>
                          <a:pt x="3" y="129"/>
                        </a:lnTo>
                        <a:lnTo>
                          <a:pt x="3" y="127"/>
                        </a:lnTo>
                        <a:lnTo>
                          <a:pt x="3" y="123"/>
                        </a:lnTo>
                        <a:lnTo>
                          <a:pt x="3" y="120"/>
                        </a:lnTo>
                        <a:lnTo>
                          <a:pt x="3" y="117"/>
                        </a:lnTo>
                        <a:lnTo>
                          <a:pt x="3" y="113"/>
                        </a:lnTo>
                        <a:lnTo>
                          <a:pt x="3" y="110"/>
                        </a:lnTo>
                        <a:lnTo>
                          <a:pt x="3" y="107"/>
                        </a:lnTo>
                        <a:lnTo>
                          <a:pt x="3" y="105"/>
                        </a:lnTo>
                        <a:lnTo>
                          <a:pt x="3" y="101"/>
                        </a:lnTo>
                        <a:lnTo>
                          <a:pt x="3" y="97"/>
                        </a:lnTo>
                        <a:lnTo>
                          <a:pt x="3" y="94"/>
                        </a:lnTo>
                        <a:lnTo>
                          <a:pt x="3" y="90"/>
                        </a:lnTo>
                        <a:lnTo>
                          <a:pt x="3" y="87"/>
                        </a:lnTo>
                        <a:lnTo>
                          <a:pt x="5" y="83"/>
                        </a:lnTo>
                        <a:lnTo>
                          <a:pt x="5" y="80"/>
                        </a:lnTo>
                        <a:lnTo>
                          <a:pt x="5" y="76"/>
                        </a:lnTo>
                        <a:lnTo>
                          <a:pt x="5" y="73"/>
                        </a:lnTo>
                        <a:lnTo>
                          <a:pt x="5" y="69"/>
                        </a:lnTo>
                        <a:lnTo>
                          <a:pt x="5" y="65"/>
                        </a:lnTo>
                        <a:lnTo>
                          <a:pt x="5" y="62"/>
                        </a:lnTo>
                        <a:lnTo>
                          <a:pt x="5" y="58"/>
                        </a:lnTo>
                        <a:lnTo>
                          <a:pt x="6" y="55"/>
                        </a:lnTo>
                        <a:lnTo>
                          <a:pt x="6" y="51"/>
                        </a:lnTo>
                        <a:lnTo>
                          <a:pt x="6" y="48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39"/>
                        </a:lnTo>
                        <a:lnTo>
                          <a:pt x="6" y="36"/>
                        </a:lnTo>
                        <a:lnTo>
                          <a:pt x="8" y="29"/>
                        </a:lnTo>
                        <a:lnTo>
                          <a:pt x="8" y="25"/>
                        </a:lnTo>
                        <a:lnTo>
                          <a:pt x="8" y="20"/>
                        </a:lnTo>
                        <a:lnTo>
                          <a:pt x="9" y="14"/>
                        </a:lnTo>
                        <a:lnTo>
                          <a:pt x="9" y="11"/>
                        </a:lnTo>
                        <a:lnTo>
                          <a:pt x="11" y="7"/>
                        </a:lnTo>
                        <a:lnTo>
                          <a:pt x="11" y="5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252"/>
                  <p:cNvSpPr/>
                  <p:nvPr/>
                </p:nvSpPr>
                <p:spPr>
                  <a:xfrm>
                    <a:off x="4480200" y="3515760"/>
                    <a:ext cx="30960" cy="7632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214" h="584">
                        <a:moveTo>
                          <a:pt x="62" y="77"/>
                        </a:moveTo>
                        <a:lnTo>
                          <a:pt x="62" y="81"/>
                        </a:lnTo>
                        <a:lnTo>
                          <a:pt x="62" y="87"/>
                        </a:lnTo>
                        <a:lnTo>
                          <a:pt x="64" y="91"/>
                        </a:lnTo>
                        <a:lnTo>
                          <a:pt x="64" y="96"/>
                        </a:lnTo>
                        <a:lnTo>
                          <a:pt x="65" y="102"/>
                        </a:lnTo>
                        <a:lnTo>
                          <a:pt x="67" y="107"/>
                        </a:lnTo>
                        <a:lnTo>
                          <a:pt x="67" y="113"/>
                        </a:lnTo>
                        <a:lnTo>
                          <a:pt x="68" y="118"/>
                        </a:lnTo>
                        <a:lnTo>
                          <a:pt x="68" y="124"/>
                        </a:lnTo>
                        <a:lnTo>
                          <a:pt x="68" y="128"/>
                        </a:lnTo>
                        <a:lnTo>
                          <a:pt x="68" y="133"/>
                        </a:lnTo>
                        <a:lnTo>
                          <a:pt x="70" y="139"/>
                        </a:lnTo>
                        <a:lnTo>
                          <a:pt x="68" y="143"/>
                        </a:lnTo>
                        <a:lnTo>
                          <a:pt x="68" y="148"/>
                        </a:lnTo>
                        <a:lnTo>
                          <a:pt x="67" y="152"/>
                        </a:lnTo>
                        <a:lnTo>
                          <a:pt x="67" y="157"/>
                        </a:lnTo>
                        <a:lnTo>
                          <a:pt x="67" y="155"/>
                        </a:lnTo>
                        <a:lnTo>
                          <a:pt x="65" y="152"/>
                        </a:lnTo>
                        <a:lnTo>
                          <a:pt x="65" y="150"/>
                        </a:lnTo>
                        <a:lnTo>
                          <a:pt x="64" y="146"/>
                        </a:lnTo>
                        <a:lnTo>
                          <a:pt x="62" y="142"/>
                        </a:lnTo>
                        <a:lnTo>
                          <a:pt x="61" y="136"/>
                        </a:lnTo>
                        <a:lnTo>
                          <a:pt x="61" y="132"/>
                        </a:lnTo>
                        <a:lnTo>
                          <a:pt x="59" y="129"/>
                        </a:lnTo>
                        <a:lnTo>
                          <a:pt x="59" y="126"/>
                        </a:lnTo>
                        <a:lnTo>
                          <a:pt x="58" y="122"/>
                        </a:lnTo>
                        <a:lnTo>
                          <a:pt x="58" y="120"/>
                        </a:lnTo>
                        <a:lnTo>
                          <a:pt x="56" y="117"/>
                        </a:lnTo>
                        <a:lnTo>
                          <a:pt x="56" y="113"/>
                        </a:lnTo>
                        <a:lnTo>
                          <a:pt x="55" y="110"/>
                        </a:lnTo>
                        <a:lnTo>
                          <a:pt x="55" y="107"/>
                        </a:lnTo>
                        <a:lnTo>
                          <a:pt x="53" y="103"/>
                        </a:lnTo>
                        <a:lnTo>
                          <a:pt x="53" y="99"/>
                        </a:lnTo>
                        <a:lnTo>
                          <a:pt x="52" y="96"/>
                        </a:lnTo>
                        <a:lnTo>
                          <a:pt x="52" y="92"/>
                        </a:lnTo>
                        <a:lnTo>
                          <a:pt x="50" y="88"/>
                        </a:lnTo>
                        <a:lnTo>
                          <a:pt x="50" y="85"/>
                        </a:lnTo>
                        <a:lnTo>
                          <a:pt x="48" y="81"/>
                        </a:lnTo>
                        <a:lnTo>
                          <a:pt x="48" y="78"/>
                        </a:lnTo>
                        <a:lnTo>
                          <a:pt x="47" y="74"/>
                        </a:lnTo>
                        <a:lnTo>
                          <a:pt x="45" y="70"/>
                        </a:lnTo>
                        <a:lnTo>
                          <a:pt x="45" y="66"/>
                        </a:lnTo>
                        <a:lnTo>
                          <a:pt x="44" y="63"/>
                        </a:lnTo>
                        <a:lnTo>
                          <a:pt x="42" y="59"/>
                        </a:lnTo>
                        <a:lnTo>
                          <a:pt x="42" y="56"/>
                        </a:lnTo>
                        <a:lnTo>
                          <a:pt x="41" y="52"/>
                        </a:lnTo>
                        <a:lnTo>
                          <a:pt x="41" y="50"/>
                        </a:lnTo>
                        <a:lnTo>
                          <a:pt x="39" y="45"/>
                        </a:lnTo>
                        <a:lnTo>
                          <a:pt x="38" y="43"/>
                        </a:lnTo>
                        <a:lnTo>
                          <a:pt x="38" y="39"/>
                        </a:lnTo>
                        <a:lnTo>
                          <a:pt x="38" y="36"/>
                        </a:lnTo>
                        <a:lnTo>
                          <a:pt x="36" y="29"/>
                        </a:lnTo>
                        <a:lnTo>
                          <a:pt x="35" y="25"/>
                        </a:lnTo>
                        <a:lnTo>
                          <a:pt x="33" y="18"/>
                        </a:lnTo>
                        <a:lnTo>
                          <a:pt x="32" y="14"/>
                        </a:lnTo>
                        <a:lnTo>
                          <a:pt x="30" y="10"/>
                        </a:lnTo>
                        <a:lnTo>
                          <a:pt x="30" y="6"/>
                        </a:lnTo>
                        <a:lnTo>
                          <a:pt x="29" y="1"/>
                        </a:lnTo>
                        <a:lnTo>
                          <a:pt x="29" y="0"/>
                        </a:lnTo>
                        <a:lnTo>
                          <a:pt x="27" y="6"/>
                        </a:lnTo>
                        <a:lnTo>
                          <a:pt x="27" y="11"/>
                        </a:lnTo>
                        <a:lnTo>
                          <a:pt x="26" y="15"/>
                        </a:lnTo>
                        <a:lnTo>
                          <a:pt x="26" y="18"/>
                        </a:lnTo>
                        <a:lnTo>
                          <a:pt x="26" y="21"/>
                        </a:lnTo>
                        <a:lnTo>
                          <a:pt x="27" y="25"/>
                        </a:lnTo>
                        <a:lnTo>
                          <a:pt x="27" y="28"/>
                        </a:lnTo>
                        <a:lnTo>
                          <a:pt x="27" y="32"/>
                        </a:lnTo>
                        <a:lnTo>
                          <a:pt x="27" y="34"/>
                        </a:lnTo>
                        <a:lnTo>
                          <a:pt x="29" y="39"/>
                        </a:lnTo>
                        <a:lnTo>
                          <a:pt x="29" y="41"/>
                        </a:lnTo>
                        <a:lnTo>
                          <a:pt x="30" y="44"/>
                        </a:lnTo>
                        <a:lnTo>
                          <a:pt x="30" y="47"/>
                        </a:lnTo>
                        <a:lnTo>
                          <a:pt x="32" y="50"/>
                        </a:lnTo>
                        <a:lnTo>
                          <a:pt x="33" y="52"/>
                        </a:lnTo>
                        <a:lnTo>
                          <a:pt x="35" y="55"/>
                        </a:lnTo>
                        <a:lnTo>
                          <a:pt x="35" y="56"/>
                        </a:lnTo>
                        <a:lnTo>
                          <a:pt x="36" y="59"/>
                        </a:lnTo>
                        <a:lnTo>
                          <a:pt x="38" y="65"/>
                        </a:lnTo>
                        <a:lnTo>
                          <a:pt x="38" y="72"/>
                        </a:lnTo>
                        <a:lnTo>
                          <a:pt x="38" y="77"/>
                        </a:lnTo>
                        <a:lnTo>
                          <a:pt x="39" y="82"/>
                        </a:lnTo>
                        <a:lnTo>
                          <a:pt x="39" y="85"/>
                        </a:lnTo>
                        <a:lnTo>
                          <a:pt x="41" y="89"/>
                        </a:lnTo>
                        <a:lnTo>
                          <a:pt x="41" y="92"/>
                        </a:lnTo>
                        <a:lnTo>
                          <a:pt x="41" y="95"/>
                        </a:lnTo>
                        <a:lnTo>
                          <a:pt x="41" y="98"/>
                        </a:lnTo>
                        <a:lnTo>
                          <a:pt x="42" y="102"/>
                        </a:lnTo>
                        <a:lnTo>
                          <a:pt x="42" y="104"/>
                        </a:lnTo>
                        <a:lnTo>
                          <a:pt x="42" y="109"/>
                        </a:lnTo>
                        <a:lnTo>
                          <a:pt x="42" y="114"/>
                        </a:lnTo>
                        <a:lnTo>
                          <a:pt x="44" y="120"/>
                        </a:lnTo>
                        <a:lnTo>
                          <a:pt x="44" y="122"/>
                        </a:lnTo>
                        <a:lnTo>
                          <a:pt x="44" y="126"/>
                        </a:lnTo>
                        <a:lnTo>
                          <a:pt x="44" y="129"/>
                        </a:lnTo>
                        <a:lnTo>
                          <a:pt x="44" y="132"/>
                        </a:lnTo>
                        <a:lnTo>
                          <a:pt x="44" y="137"/>
                        </a:lnTo>
                        <a:lnTo>
                          <a:pt x="44" y="143"/>
                        </a:lnTo>
                        <a:lnTo>
                          <a:pt x="44" y="148"/>
                        </a:lnTo>
                        <a:lnTo>
                          <a:pt x="44" y="155"/>
                        </a:lnTo>
                        <a:lnTo>
                          <a:pt x="36" y="150"/>
                        </a:lnTo>
                        <a:lnTo>
                          <a:pt x="36" y="148"/>
                        </a:lnTo>
                        <a:lnTo>
                          <a:pt x="35" y="146"/>
                        </a:lnTo>
                        <a:lnTo>
                          <a:pt x="35" y="142"/>
                        </a:lnTo>
                        <a:lnTo>
                          <a:pt x="35" y="139"/>
                        </a:lnTo>
                        <a:lnTo>
                          <a:pt x="35" y="135"/>
                        </a:lnTo>
                        <a:lnTo>
                          <a:pt x="35" y="131"/>
                        </a:lnTo>
                        <a:lnTo>
                          <a:pt x="35" y="126"/>
                        </a:lnTo>
                        <a:lnTo>
                          <a:pt x="33" y="121"/>
                        </a:lnTo>
                        <a:lnTo>
                          <a:pt x="33" y="117"/>
                        </a:lnTo>
                        <a:lnTo>
                          <a:pt x="32" y="113"/>
                        </a:lnTo>
                        <a:lnTo>
                          <a:pt x="32" y="110"/>
                        </a:lnTo>
                        <a:lnTo>
                          <a:pt x="32" y="106"/>
                        </a:lnTo>
                        <a:lnTo>
                          <a:pt x="32" y="103"/>
                        </a:lnTo>
                        <a:lnTo>
                          <a:pt x="32" y="102"/>
                        </a:lnTo>
                        <a:lnTo>
                          <a:pt x="32" y="100"/>
                        </a:lnTo>
                        <a:lnTo>
                          <a:pt x="30" y="96"/>
                        </a:lnTo>
                        <a:lnTo>
                          <a:pt x="29" y="92"/>
                        </a:lnTo>
                        <a:lnTo>
                          <a:pt x="27" y="89"/>
                        </a:lnTo>
                        <a:lnTo>
                          <a:pt x="26" y="85"/>
                        </a:lnTo>
                        <a:lnTo>
                          <a:pt x="24" y="82"/>
                        </a:lnTo>
                        <a:lnTo>
                          <a:pt x="22" y="78"/>
                        </a:lnTo>
                        <a:lnTo>
                          <a:pt x="21" y="76"/>
                        </a:lnTo>
                        <a:lnTo>
                          <a:pt x="19" y="72"/>
                        </a:lnTo>
                        <a:lnTo>
                          <a:pt x="18" y="69"/>
                        </a:lnTo>
                        <a:lnTo>
                          <a:pt x="16" y="65"/>
                        </a:lnTo>
                        <a:lnTo>
                          <a:pt x="15" y="61"/>
                        </a:lnTo>
                        <a:lnTo>
                          <a:pt x="15" y="58"/>
                        </a:lnTo>
                        <a:lnTo>
                          <a:pt x="13" y="54"/>
                        </a:lnTo>
                        <a:lnTo>
                          <a:pt x="13" y="50"/>
                        </a:lnTo>
                        <a:lnTo>
                          <a:pt x="13" y="45"/>
                        </a:lnTo>
                        <a:lnTo>
                          <a:pt x="15" y="41"/>
                        </a:lnTo>
                        <a:lnTo>
                          <a:pt x="10" y="40"/>
                        </a:lnTo>
                        <a:lnTo>
                          <a:pt x="7" y="37"/>
                        </a:lnTo>
                        <a:lnTo>
                          <a:pt x="4" y="36"/>
                        </a:lnTo>
                        <a:lnTo>
                          <a:pt x="1" y="34"/>
                        </a:lnTo>
                        <a:lnTo>
                          <a:pt x="1" y="36"/>
                        </a:lnTo>
                        <a:lnTo>
                          <a:pt x="0" y="37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0" y="51"/>
                        </a:lnTo>
                        <a:lnTo>
                          <a:pt x="0" y="55"/>
                        </a:lnTo>
                        <a:lnTo>
                          <a:pt x="1" y="61"/>
                        </a:lnTo>
                        <a:lnTo>
                          <a:pt x="1" y="65"/>
                        </a:lnTo>
                        <a:lnTo>
                          <a:pt x="1" y="70"/>
                        </a:lnTo>
                        <a:lnTo>
                          <a:pt x="1" y="74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4" y="91"/>
                        </a:lnTo>
                        <a:lnTo>
                          <a:pt x="4" y="96"/>
                        </a:lnTo>
                        <a:lnTo>
                          <a:pt x="6" y="103"/>
                        </a:lnTo>
                        <a:lnTo>
                          <a:pt x="6" y="109"/>
                        </a:lnTo>
                        <a:lnTo>
                          <a:pt x="7" y="113"/>
                        </a:lnTo>
                        <a:lnTo>
                          <a:pt x="7" y="118"/>
                        </a:lnTo>
                        <a:lnTo>
                          <a:pt x="7" y="124"/>
                        </a:lnTo>
                        <a:lnTo>
                          <a:pt x="9" y="128"/>
                        </a:lnTo>
                        <a:lnTo>
                          <a:pt x="9" y="133"/>
                        </a:lnTo>
                        <a:lnTo>
                          <a:pt x="10" y="137"/>
                        </a:lnTo>
                        <a:lnTo>
                          <a:pt x="12" y="142"/>
                        </a:lnTo>
                        <a:lnTo>
                          <a:pt x="12" y="146"/>
                        </a:lnTo>
                        <a:lnTo>
                          <a:pt x="12" y="150"/>
                        </a:lnTo>
                        <a:lnTo>
                          <a:pt x="12" y="152"/>
                        </a:lnTo>
                        <a:lnTo>
                          <a:pt x="13" y="155"/>
                        </a:lnTo>
                        <a:lnTo>
                          <a:pt x="13" y="159"/>
                        </a:lnTo>
                        <a:lnTo>
                          <a:pt x="15" y="162"/>
                        </a:lnTo>
                        <a:lnTo>
                          <a:pt x="15" y="165"/>
                        </a:lnTo>
                        <a:lnTo>
                          <a:pt x="15" y="169"/>
                        </a:lnTo>
                        <a:lnTo>
                          <a:pt x="15" y="173"/>
                        </a:lnTo>
                        <a:lnTo>
                          <a:pt x="15" y="177"/>
                        </a:lnTo>
                        <a:lnTo>
                          <a:pt x="15" y="181"/>
                        </a:lnTo>
                        <a:lnTo>
                          <a:pt x="16" y="185"/>
                        </a:lnTo>
                        <a:lnTo>
                          <a:pt x="16" y="190"/>
                        </a:lnTo>
                        <a:lnTo>
                          <a:pt x="18" y="194"/>
                        </a:lnTo>
                        <a:lnTo>
                          <a:pt x="18" y="196"/>
                        </a:lnTo>
                        <a:lnTo>
                          <a:pt x="18" y="198"/>
                        </a:lnTo>
                        <a:lnTo>
                          <a:pt x="18" y="201"/>
                        </a:lnTo>
                        <a:lnTo>
                          <a:pt x="18" y="202"/>
                        </a:lnTo>
                        <a:lnTo>
                          <a:pt x="16" y="202"/>
                        </a:lnTo>
                        <a:lnTo>
                          <a:pt x="15" y="201"/>
                        </a:lnTo>
                        <a:lnTo>
                          <a:pt x="13" y="198"/>
                        </a:lnTo>
                        <a:lnTo>
                          <a:pt x="12" y="195"/>
                        </a:lnTo>
                        <a:lnTo>
                          <a:pt x="15" y="584"/>
                        </a:lnTo>
                        <a:lnTo>
                          <a:pt x="214" y="584"/>
                        </a:lnTo>
                        <a:lnTo>
                          <a:pt x="209" y="115"/>
                        </a:lnTo>
                        <a:lnTo>
                          <a:pt x="209" y="111"/>
                        </a:lnTo>
                        <a:lnTo>
                          <a:pt x="209" y="109"/>
                        </a:lnTo>
                        <a:lnTo>
                          <a:pt x="209" y="106"/>
                        </a:lnTo>
                        <a:lnTo>
                          <a:pt x="209" y="102"/>
                        </a:lnTo>
                        <a:lnTo>
                          <a:pt x="209" y="99"/>
                        </a:lnTo>
                        <a:lnTo>
                          <a:pt x="209" y="96"/>
                        </a:lnTo>
                        <a:lnTo>
                          <a:pt x="209" y="93"/>
                        </a:lnTo>
                        <a:lnTo>
                          <a:pt x="209" y="91"/>
                        </a:lnTo>
                        <a:lnTo>
                          <a:pt x="209" y="85"/>
                        </a:lnTo>
                        <a:lnTo>
                          <a:pt x="209" y="80"/>
                        </a:lnTo>
                        <a:lnTo>
                          <a:pt x="209" y="74"/>
                        </a:lnTo>
                        <a:lnTo>
                          <a:pt x="209" y="70"/>
                        </a:lnTo>
                        <a:lnTo>
                          <a:pt x="209" y="65"/>
                        </a:lnTo>
                        <a:lnTo>
                          <a:pt x="209" y="61"/>
                        </a:lnTo>
                        <a:lnTo>
                          <a:pt x="209" y="55"/>
                        </a:lnTo>
                        <a:lnTo>
                          <a:pt x="209" y="50"/>
                        </a:lnTo>
                        <a:lnTo>
                          <a:pt x="209" y="44"/>
                        </a:lnTo>
                        <a:lnTo>
                          <a:pt x="209" y="39"/>
                        </a:lnTo>
                        <a:lnTo>
                          <a:pt x="209" y="34"/>
                        </a:lnTo>
                        <a:lnTo>
                          <a:pt x="209" y="32"/>
                        </a:lnTo>
                        <a:lnTo>
                          <a:pt x="209" y="28"/>
                        </a:lnTo>
                        <a:lnTo>
                          <a:pt x="209" y="25"/>
                        </a:lnTo>
                        <a:lnTo>
                          <a:pt x="200" y="32"/>
                        </a:lnTo>
                        <a:lnTo>
                          <a:pt x="200" y="37"/>
                        </a:lnTo>
                        <a:lnTo>
                          <a:pt x="200" y="41"/>
                        </a:lnTo>
                        <a:lnTo>
                          <a:pt x="200" y="47"/>
                        </a:lnTo>
                        <a:lnTo>
                          <a:pt x="200" y="52"/>
                        </a:lnTo>
                        <a:lnTo>
                          <a:pt x="200" y="56"/>
                        </a:lnTo>
                        <a:lnTo>
                          <a:pt x="200" y="62"/>
                        </a:lnTo>
                        <a:lnTo>
                          <a:pt x="200" y="66"/>
                        </a:lnTo>
                        <a:lnTo>
                          <a:pt x="200" y="72"/>
                        </a:lnTo>
                        <a:lnTo>
                          <a:pt x="200" y="76"/>
                        </a:lnTo>
                        <a:lnTo>
                          <a:pt x="200" y="81"/>
                        </a:lnTo>
                        <a:lnTo>
                          <a:pt x="200" y="85"/>
                        </a:lnTo>
                        <a:lnTo>
                          <a:pt x="201" y="89"/>
                        </a:lnTo>
                        <a:lnTo>
                          <a:pt x="201" y="95"/>
                        </a:lnTo>
                        <a:lnTo>
                          <a:pt x="201" y="99"/>
                        </a:lnTo>
                        <a:lnTo>
                          <a:pt x="203" y="104"/>
                        </a:lnTo>
                        <a:lnTo>
                          <a:pt x="203" y="109"/>
                        </a:lnTo>
                        <a:lnTo>
                          <a:pt x="201" y="113"/>
                        </a:lnTo>
                        <a:lnTo>
                          <a:pt x="200" y="115"/>
                        </a:lnTo>
                        <a:lnTo>
                          <a:pt x="200" y="120"/>
                        </a:lnTo>
                        <a:lnTo>
                          <a:pt x="200" y="124"/>
                        </a:lnTo>
                        <a:lnTo>
                          <a:pt x="195" y="73"/>
                        </a:lnTo>
                        <a:lnTo>
                          <a:pt x="194" y="173"/>
                        </a:lnTo>
                        <a:lnTo>
                          <a:pt x="192" y="168"/>
                        </a:lnTo>
                        <a:lnTo>
                          <a:pt x="192" y="163"/>
                        </a:lnTo>
                        <a:lnTo>
                          <a:pt x="191" y="158"/>
                        </a:lnTo>
                        <a:lnTo>
                          <a:pt x="191" y="154"/>
                        </a:lnTo>
                        <a:lnTo>
                          <a:pt x="191" y="148"/>
                        </a:lnTo>
                        <a:lnTo>
                          <a:pt x="191" y="144"/>
                        </a:lnTo>
                        <a:lnTo>
                          <a:pt x="189" y="139"/>
                        </a:lnTo>
                        <a:lnTo>
                          <a:pt x="189" y="135"/>
                        </a:lnTo>
                        <a:lnTo>
                          <a:pt x="189" y="131"/>
                        </a:lnTo>
                        <a:lnTo>
                          <a:pt x="188" y="125"/>
                        </a:lnTo>
                        <a:lnTo>
                          <a:pt x="188" y="121"/>
                        </a:lnTo>
                        <a:lnTo>
                          <a:pt x="188" y="115"/>
                        </a:lnTo>
                        <a:lnTo>
                          <a:pt x="188" y="111"/>
                        </a:lnTo>
                        <a:lnTo>
                          <a:pt x="186" y="106"/>
                        </a:lnTo>
                        <a:lnTo>
                          <a:pt x="186" y="102"/>
                        </a:lnTo>
                        <a:lnTo>
                          <a:pt x="186" y="98"/>
                        </a:lnTo>
                        <a:lnTo>
                          <a:pt x="186" y="92"/>
                        </a:lnTo>
                        <a:lnTo>
                          <a:pt x="186" y="88"/>
                        </a:lnTo>
                        <a:lnTo>
                          <a:pt x="186" y="82"/>
                        </a:lnTo>
                        <a:lnTo>
                          <a:pt x="186" y="78"/>
                        </a:lnTo>
                        <a:lnTo>
                          <a:pt x="185" y="73"/>
                        </a:lnTo>
                        <a:lnTo>
                          <a:pt x="185" y="69"/>
                        </a:lnTo>
                        <a:lnTo>
                          <a:pt x="185" y="63"/>
                        </a:lnTo>
                        <a:lnTo>
                          <a:pt x="185" y="59"/>
                        </a:lnTo>
                        <a:lnTo>
                          <a:pt x="185" y="54"/>
                        </a:lnTo>
                        <a:lnTo>
                          <a:pt x="185" y="50"/>
                        </a:lnTo>
                        <a:lnTo>
                          <a:pt x="183" y="44"/>
                        </a:lnTo>
                        <a:lnTo>
                          <a:pt x="183" y="40"/>
                        </a:lnTo>
                        <a:lnTo>
                          <a:pt x="183" y="34"/>
                        </a:lnTo>
                        <a:lnTo>
                          <a:pt x="183" y="30"/>
                        </a:lnTo>
                        <a:lnTo>
                          <a:pt x="183" y="25"/>
                        </a:lnTo>
                        <a:lnTo>
                          <a:pt x="183" y="21"/>
                        </a:lnTo>
                        <a:lnTo>
                          <a:pt x="182" y="21"/>
                        </a:lnTo>
                        <a:lnTo>
                          <a:pt x="180" y="25"/>
                        </a:lnTo>
                        <a:lnTo>
                          <a:pt x="177" y="28"/>
                        </a:lnTo>
                        <a:lnTo>
                          <a:pt x="177" y="33"/>
                        </a:lnTo>
                        <a:lnTo>
                          <a:pt x="175" y="34"/>
                        </a:lnTo>
                        <a:lnTo>
                          <a:pt x="175" y="39"/>
                        </a:lnTo>
                        <a:lnTo>
                          <a:pt x="174" y="41"/>
                        </a:lnTo>
                        <a:lnTo>
                          <a:pt x="174" y="45"/>
                        </a:lnTo>
                        <a:lnTo>
                          <a:pt x="174" y="50"/>
                        </a:lnTo>
                        <a:lnTo>
                          <a:pt x="172" y="54"/>
                        </a:lnTo>
                        <a:lnTo>
                          <a:pt x="172" y="59"/>
                        </a:lnTo>
                        <a:lnTo>
                          <a:pt x="172" y="65"/>
                        </a:lnTo>
                        <a:lnTo>
                          <a:pt x="172" y="67"/>
                        </a:lnTo>
                        <a:lnTo>
                          <a:pt x="172" y="70"/>
                        </a:lnTo>
                        <a:lnTo>
                          <a:pt x="172" y="73"/>
                        </a:lnTo>
                        <a:lnTo>
                          <a:pt x="172" y="77"/>
                        </a:lnTo>
                        <a:lnTo>
                          <a:pt x="172" y="80"/>
                        </a:lnTo>
                        <a:lnTo>
                          <a:pt x="172" y="82"/>
                        </a:lnTo>
                        <a:lnTo>
                          <a:pt x="172" y="87"/>
                        </a:lnTo>
                        <a:lnTo>
                          <a:pt x="172" y="91"/>
                        </a:lnTo>
                        <a:lnTo>
                          <a:pt x="172" y="93"/>
                        </a:lnTo>
                        <a:lnTo>
                          <a:pt x="172" y="98"/>
                        </a:lnTo>
                        <a:lnTo>
                          <a:pt x="172" y="102"/>
                        </a:lnTo>
                        <a:lnTo>
                          <a:pt x="172" y="106"/>
                        </a:lnTo>
                        <a:lnTo>
                          <a:pt x="172" y="110"/>
                        </a:lnTo>
                        <a:lnTo>
                          <a:pt x="172" y="114"/>
                        </a:lnTo>
                        <a:lnTo>
                          <a:pt x="172" y="120"/>
                        </a:lnTo>
                        <a:lnTo>
                          <a:pt x="172" y="125"/>
                        </a:lnTo>
                        <a:lnTo>
                          <a:pt x="172" y="129"/>
                        </a:lnTo>
                        <a:lnTo>
                          <a:pt x="172" y="135"/>
                        </a:lnTo>
                        <a:lnTo>
                          <a:pt x="172" y="139"/>
                        </a:lnTo>
                        <a:lnTo>
                          <a:pt x="174" y="146"/>
                        </a:lnTo>
                        <a:lnTo>
                          <a:pt x="174" y="150"/>
                        </a:lnTo>
                        <a:lnTo>
                          <a:pt x="174" y="155"/>
                        </a:lnTo>
                        <a:lnTo>
                          <a:pt x="175" y="162"/>
                        </a:lnTo>
                        <a:lnTo>
                          <a:pt x="175" y="168"/>
                        </a:lnTo>
                        <a:lnTo>
                          <a:pt x="175" y="170"/>
                        </a:lnTo>
                        <a:lnTo>
                          <a:pt x="175" y="173"/>
                        </a:lnTo>
                        <a:lnTo>
                          <a:pt x="175" y="177"/>
                        </a:lnTo>
                        <a:lnTo>
                          <a:pt x="175" y="183"/>
                        </a:lnTo>
                        <a:lnTo>
                          <a:pt x="175" y="188"/>
                        </a:lnTo>
                        <a:lnTo>
                          <a:pt x="175" y="194"/>
                        </a:lnTo>
                        <a:lnTo>
                          <a:pt x="175" y="199"/>
                        </a:lnTo>
                        <a:lnTo>
                          <a:pt x="175" y="205"/>
                        </a:lnTo>
                        <a:lnTo>
                          <a:pt x="175" y="210"/>
                        </a:lnTo>
                        <a:lnTo>
                          <a:pt x="175" y="217"/>
                        </a:lnTo>
                        <a:lnTo>
                          <a:pt x="174" y="221"/>
                        </a:lnTo>
                        <a:lnTo>
                          <a:pt x="174" y="227"/>
                        </a:lnTo>
                        <a:lnTo>
                          <a:pt x="172" y="231"/>
                        </a:lnTo>
                        <a:lnTo>
                          <a:pt x="172" y="235"/>
                        </a:lnTo>
                        <a:lnTo>
                          <a:pt x="171" y="239"/>
                        </a:lnTo>
                        <a:lnTo>
                          <a:pt x="171" y="242"/>
                        </a:lnTo>
                        <a:lnTo>
                          <a:pt x="169" y="235"/>
                        </a:lnTo>
                        <a:lnTo>
                          <a:pt x="169" y="229"/>
                        </a:lnTo>
                        <a:lnTo>
                          <a:pt x="168" y="224"/>
                        </a:lnTo>
                        <a:lnTo>
                          <a:pt x="168" y="218"/>
                        </a:lnTo>
                        <a:lnTo>
                          <a:pt x="166" y="213"/>
                        </a:lnTo>
                        <a:lnTo>
                          <a:pt x="166" y="207"/>
                        </a:lnTo>
                        <a:lnTo>
                          <a:pt x="166" y="202"/>
                        </a:lnTo>
                        <a:lnTo>
                          <a:pt x="166" y="196"/>
                        </a:lnTo>
                        <a:lnTo>
                          <a:pt x="166" y="190"/>
                        </a:lnTo>
                        <a:lnTo>
                          <a:pt x="166" y="184"/>
                        </a:lnTo>
                        <a:lnTo>
                          <a:pt x="166" y="179"/>
                        </a:lnTo>
                        <a:lnTo>
                          <a:pt x="166" y="173"/>
                        </a:lnTo>
                        <a:lnTo>
                          <a:pt x="166" y="168"/>
                        </a:lnTo>
                        <a:lnTo>
                          <a:pt x="166" y="162"/>
                        </a:lnTo>
                        <a:lnTo>
                          <a:pt x="166" y="157"/>
                        </a:lnTo>
                        <a:lnTo>
                          <a:pt x="166" y="151"/>
                        </a:lnTo>
                        <a:lnTo>
                          <a:pt x="165" y="146"/>
                        </a:lnTo>
                        <a:lnTo>
                          <a:pt x="165" y="139"/>
                        </a:lnTo>
                        <a:lnTo>
                          <a:pt x="165" y="133"/>
                        </a:lnTo>
                        <a:lnTo>
                          <a:pt x="165" y="128"/>
                        </a:lnTo>
                        <a:lnTo>
                          <a:pt x="165" y="122"/>
                        </a:lnTo>
                        <a:lnTo>
                          <a:pt x="165" y="117"/>
                        </a:lnTo>
                        <a:lnTo>
                          <a:pt x="165" y="111"/>
                        </a:lnTo>
                        <a:lnTo>
                          <a:pt x="165" y="106"/>
                        </a:lnTo>
                        <a:lnTo>
                          <a:pt x="165" y="100"/>
                        </a:lnTo>
                        <a:lnTo>
                          <a:pt x="163" y="95"/>
                        </a:lnTo>
                        <a:lnTo>
                          <a:pt x="163" y="89"/>
                        </a:lnTo>
                        <a:lnTo>
                          <a:pt x="163" y="84"/>
                        </a:lnTo>
                        <a:lnTo>
                          <a:pt x="162" y="78"/>
                        </a:lnTo>
                        <a:lnTo>
                          <a:pt x="162" y="73"/>
                        </a:lnTo>
                        <a:lnTo>
                          <a:pt x="162" y="67"/>
                        </a:lnTo>
                        <a:lnTo>
                          <a:pt x="160" y="62"/>
                        </a:lnTo>
                        <a:lnTo>
                          <a:pt x="160" y="59"/>
                        </a:lnTo>
                        <a:lnTo>
                          <a:pt x="159" y="55"/>
                        </a:lnTo>
                        <a:lnTo>
                          <a:pt x="157" y="50"/>
                        </a:lnTo>
                        <a:lnTo>
                          <a:pt x="156" y="48"/>
                        </a:lnTo>
                        <a:lnTo>
                          <a:pt x="156" y="51"/>
                        </a:lnTo>
                        <a:lnTo>
                          <a:pt x="156" y="55"/>
                        </a:lnTo>
                        <a:lnTo>
                          <a:pt x="154" y="58"/>
                        </a:lnTo>
                        <a:lnTo>
                          <a:pt x="154" y="62"/>
                        </a:lnTo>
                        <a:lnTo>
                          <a:pt x="154" y="65"/>
                        </a:lnTo>
                        <a:lnTo>
                          <a:pt x="153" y="69"/>
                        </a:lnTo>
                        <a:lnTo>
                          <a:pt x="153" y="72"/>
                        </a:lnTo>
                        <a:lnTo>
                          <a:pt x="153" y="76"/>
                        </a:lnTo>
                        <a:lnTo>
                          <a:pt x="156" y="139"/>
                        </a:lnTo>
                        <a:lnTo>
                          <a:pt x="156" y="143"/>
                        </a:lnTo>
                        <a:lnTo>
                          <a:pt x="156" y="148"/>
                        </a:lnTo>
                        <a:lnTo>
                          <a:pt x="156" y="152"/>
                        </a:lnTo>
                        <a:lnTo>
                          <a:pt x="156" y="158"/>
                        </a:lnTo>
                        <a:lnTo>
                          <a:pt x="156" y="163"/>
                        </a:lnTo>
                        <a:lnTo>
                          <a:pt x="156" y="168"/>
                        </a:lnTo>
                        <a:lnTo>
                          <a:pt x="156" y="173"/>
                        </a:lnTo>
                        <a:lnTo>
                          <a:pt x="156" y="179"/>
                        </a:lnTo>
                        <a:lnTo>
                          <a:pt x="154" y="183"/>
                        </a:lnTo>
                        <a:lnTo>
                          <a:pt x="154" y="188"/>
                        </a:lnTo>
                        <a:lnTo>
                          <a:pt x="154" y="194"/>
                        </a:lnTo>
                        <a:lnTo>
                          <a:pt x="154" y="198"/>
                        </a:lnTo>
                        <a:lnTo>
                          <a:pt x="153" y="203"/>
                        </a:lnTo>
                        <a:lnTo>
                          <a:pt x="153" y="207"/>
                        </a:lnTo>
                        <a:lnTo>
                          <a:pt x="153" y="213"/>
                        </a:lnTo>
                        <a:lnTo>
                          <a:pt x="153" y="218"/>
                        </a:lnTo>
                        <a:lnTo>
                          <a:pt x="153" y="548"/>
                        </a:lnTo>
                        <a:lnTo>
                          <a:pt x="78" y="549"/>
                        </a:lnTo>
                        <a:lnTo>
                          <a:pt x="71" y="100"/>
                        </a:lnTo>
                        <a:lnTo>
                          <a:pt x="71" y="96"/>
                        </a:lnTo>
                        <a:lnTo>
                          <a:pt x="71" y="93"/>
                        </a:lnTo>
                        <a:lnTo>
                          <a:pt x="70" y="89"/>
                        </a:lnTo>
                        <a:lnTo>
                          <a:pt x="70" y="87"/>
                        </a:lnTo>
                        <a:lnTo>
                          <a:pt x="70" y="84"/>
                        </a:lnTo>
                        <a:lnTo>
                          <a:pt x="70" y="81"/>
                        </a:lnTo>
                        <a:lnTo>
                          <a:pt x="68" y="77"/>
                        </a:lnTo>
                        <a:lnTo>
                          <a:pt x="68" y="74"/>
                        </a:lnTo>
                        <a:lnTo>
                          <a:pt x="67" y="72"/>
                        </a:lnTo>
                        <a:lnTo>
                          <a:pt x="67" y="67"/>
                        </a:lnTo>
                        <a:lnTo>
                          <a:pt x="67" y="65"/>
                        </a:lnTo>
                        <a:lnTo>
                          <a:pt x="67" y="62"/>
                        </a:lnTo>
                        <a:lnTo>
                          <a:pt x="65" y="58"/>
                        </a:lnTo>
                        <a:lnTo>
                          <a:pt x="65" y="55"/>
                        </a:lnTo>
                        <a:lnTo>
                          <a:pt x="64" y="52"/>
                        </a:lnTo>
                        <a:lnTo>
                          <a:pt x="64" y="50"/>
                        </a:lnTo>
                        <a:lnTo>
                          <a:pt x="62" y="77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Freeform 253"/>
                  <p:cNvSpPr/>
                  <p:nvPr/>
                </p:nvSpPr>
                <p:spPr>
                  <a:xfrm>
                    <a:off x="4489920" y="3560040"/>
                    <a:ext cx="1080" cy="2592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8" h="199">
                        <a:moveTo>
                          <a:pt x="0" y="199"/>
                        </a:moveTo>
                        <a:lnTo>
                          <a:pt x="3" y="197"/>
                        </a:lnTo>
                        <a:lnTo>
                          <a:pt x="5" y="197"/>
                        </a:lnTo>
                        <a:lnTo>
                          <a:pt x="5" y="195"/>
                        </a:lnTo>
                        <a:lnTo>
                          <a:pt x="5" y="193"/>
                        </a:lnTo>
                        <a:lnTo>
                          <a:pt x="5" y="188"/>
                        </a:lnTo>
                        <a:lnTo>
                          <a:pt x="5" y="182"/>
                        </a:lnTo>
                        <a:lnTo>
                          <a:pt x="5" y="177"/>
                        </a:lnTo>
                        <a:lnTo>
                          <a:pt x="5" y="173"/>
                        </a:lnTo>
                        <a:lnTo>
                          <a:pt x="5" y="166"/>
                        </a:lnTo>
                        <a:lnTo>
                          <a:pt x="5" y="162"/>
                        </a:lnTo>
                        <a:lnTo>
                          <a:pt x="5" y="156"/>
                        </a:lnTo>
                        <a:lnTo>
                          <a:pt x="6" y="151"/>
                        </a:lnTo>
                        <a:lnTo>
                          <a:pt x="6" y="145"/>
                        </a:lnTo>
                        <a:lnTo>
                          <a:pt x="6" y="140"/>
                        </a:lnTo>
                        <a:lnTo>
                          <a:pt x="6" y="134"/>
                        </a:lnTo>
                        <a:lnTo>
                          <a:pt x="6" y="129"/>
                        </a:lnTo>
                        <a:lnTo>
                          <a:pt x="6" y="123"/>
                        </a:lnTo>
                        <a:lnTo>
                          <a:pt x="6" y="118"/>
                        </a:lnTo>
                        <a:lnTo>
                          <a:pt x="6" y="112"/>
                        </a:lnTo>
                        <a:lnTo>
                          <a:pt x="6" y="108"/>
                        </a:lnTo>
                        <a:lnTo>
                          <a:pt x="6" y="101"/>
                        </a:lnTo>
                        <a:lnTo>
                          <a:pt x="6" y="96"/>
                        </a:lnTo>
                        <a:lnTo>
                          <a:pt x="6" y="90"/>
                        </a:lnTo>
                        <a:lnTo>
                          <a:pt x="8" y="86"/>
                        </a:lnTo>
                        <a:lnTo>
                          <a:pt x="8" y="79"/>
                        </a:lnTo>
                        <a:lnTo>
                          <a:pt x="8" y="74"/>
                        </a:lnTo>
                        <a:lnTo>
                          <a:pt x="8" y="70"/>
                        </a:lnTo>
                        <a:lnTo>
                          <a:pt x="8" y="64"/>
                        </a:lnTo>
                        <a:lnTo>
                          <a:pt x="8" y="59"/>
                        </a:lnTo>
                        <a:lnTo>
                          <a:pt x="8" y="53"/>
                        </a:lnTo>
                        <a:lnTo>
                          <a:pt x="8" y="48"/>
                        </a:lnTo>
                        <a:lnTo>
                          <a:pt x="8" y="42"/>
                        </a:lnTo>
                        <a:lnTo>
                          <a:pt x="8" y="37"/>
                        </a:lnTo>
                        <a:lnTo>
                          <a:pt x="8" y="31"/>
                        </a:lnTo>
                        <a:lnTo>
                          <a:pt x="8" y="27"/>
                        </a:lnTo>
                        <a:lnTo>
                          <a:pt x="8" y="22"/>
                        </a:lnTo>
                        <a:lnTo>
                          <a:pt x="6" y="16"/>
                        </a:lnTo>
                        <a:lnTo>
                          <a:pt x="6" y="13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5" y="4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1" y="6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9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0" y="49"/>
                        </a:lnTo>
                        <a:lnTo>
                          <a:pt x="0" y="53"/>
                        </a:lnTo>
                        <a:lnTo>
                          <a:pt x="0" y="56"/>
                        </a:lnTo>
                        <a:lnTo>
                          <a:pt x="0" y="60"/>
                        </a:lnTo>
                        <a:lnTo>
                          <a:pt x="0" y="64"/>
                        </a:lnTo>
                        <a:lnTo>
                          <a:pt x="0" y="67"/>
                        </a:lnTo>
                        <a:lnTo>
                          <a:pt x="0" y="71"/>
                        </a:lnTo>
                        <a:lnTo>
                          <a:pt x="0" y="75"/>
                        </a:lnTo>
                        <a:lnTo>
                          <a:pt x="0" y="79"/>
                        </a:lnTo>
                        <a:lnTo>
                          <a:pt x="1" y="83"/>
                        </a:lnTo>
                        <a:lnTo>
                          <a:pt x="1" y="87"/>
                        </a:lnTo>
                        <a:lnTo>
                          <a:pt x="1" y="92"/>
                        </a:lnTo>
                        <a:lnTo>
                          <a:pt x="1" y="96"/>
                        </a:lnTo>
                        <a:lnTo>
                          <a:pt x="1" y="98"/>
                        </a:lnTo>
                        <a:lnTo>
                          <a:pt x="1" y="103"/>
                        </a:lnTo>
                        <a:lnTo>
                          <a:pt x="1" y="105"/>
                        </a:lnTo>
                        <a:lnTo>
                          <a:pt x="1" y="109"/>
                        </a:lnTo>
                        <a:lnTo>
                          <a:pt x="1" y="112"/>
                        </a:lnTo>
                        <a:lnTo>
                          <a:pt x="1" y="118"/>
                        </a:lnTo>
                        <a:lnTo>
                          <a:pt x="1" y="122"/>
                        </a:lnTo>
                        <a:lnTo>
                          <a:pt x="1" y="125"/>
                        </a:lnTo>
                        <a:lnTo>
                          <a:pt x="3" y="126"/>
                        </a:lnTo>
                        <a:lnTo>
                          <a:pt x="1" y="130"/>
                        </a:lnTo>
                        <a:lnTo>
                          <a:pt x="1" y="134"/>
                        </a:lnTo>
                        <a:lnTo>
                          <a:pt x="1" y="138"/>
                        </a:lnTo>
                        <a:lnTo>
                          <a:pt x="1" y="142"/>
                        </a:lnTo>
                        <a:lnTo>
                          <a:pt x="1" y="148"/>
                        </a:lnTo>
                        <a:lnTo>
                          <a:pt x="1" y="152"/>
                        </a:lnTo>
                        <a:lnTo>
                          <a:pt x="1" y="156"/>
                        </a:lnTo>
                        <a:lnTo>
                          <a:pt x="1" y="162"/>
                        </a:lnTo>
                        <a:lnTo>
                          <a:pt x="0" y="166"/>
                        </a:lnTo>
                        <a:lnTo>
                          <a:pt x="0" y="170"/>
                        </a:lnTo>
                        <a:lnTo>
                          <a:pt x="0" y="174"/>
                        </a:lnTo>
                        <a:lnTo>
                          <a:pt x="0" y="179"/>
                        </a:lnTo>
                        <a:lnTo>
                          <a:pt x="0" y="184"/>
                        </a:lnTo>
                        <a:lnTo>
                          <a:pt x="0" y="189"/>
                        </a:lnTo>
                        <a:lnTo>
                          <a:pt x="0" y="193"/>
                        </a:lnTo>
                        <a:lnTo>
                          <a:pt x="0" y="199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254"/>
                  <p:cNvSpPr/>
                  <p:nvPr/>
                </p:nvSpPr>
                <p:spPr>
                  <a:xfrm>
                    <a:off x="4328280" y="3461400"/>
                    <a:ext cx="212400" cy="6120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61200"/>
                      <a:gd name="textAreaBottom" fmla="*/ 61560 h 61200"/>
                    </a:gdLst>
                    <a:ahLst/>
                    <a:rect l="textAreaLeft" t="textAreaTop" r="textAreaRight" b="textAreaBottom"/>
                    <a:pathLst>
                      <a:path w="1466" h="469">
                        <a:moveTo>
                          <a:pt x="104" y="394"/>
                        </a:moveTo>
                        <a:lnTo>
                          <a:pt x="0" y="469"/>
                        </a:lnTo>
                        <a:lnTo>
                          <a:pt x="773" y="469"/>
                        </a:lnTo>
                        <a:lnTo>
                          <a:pt x="777" y="468"/>
                        </a:lnTo>
                        <a:lnTo>
                          <a:pt x="783" y="468"/>
                        </a:lnTo>
                        <a:lnTo>
                          <a:pt x="788" y="466"/>
                        </a:lnTo>
                        <a:lnTo>
                          <a:pt x="794" y="465"/>
                        </a:lnTo>
                        <a:lnTo>
                          <a:pt x="799" y="465"/>
                        </a:lnTo>
                        <a:lnTo>
                          <a:pt x="803" y="464"/>
                        </a:lnTo>
                        <a:lnTo>
                          <a:pt x="808" y="462"/>
                        </a:lnTo>
                        <a:lnTo>
                          <a:pt x="814" y="462"/>
                        </a:lnTo>
                        <a:lnTo>
                          <a:pt x="809" y="461"/>
                        </a:lnTo>
                        <a:lnTo>
                          <a:pt x="805" y="461"/>
                        </a:lnTo>
                        <a:lnTo>
                          <a:pt x="800" y="461"/>
                        </a:lnTo>
                        <a:lnTo>
                          <a:pt x="797" y="461"/>
                        </a:lnTo>
                        <a:lnTo>
                          <a:pt x="791" y="460"/>
                        </a:lnTo>
                        <a:lnTo>
                          <a:pt x="786" y="460"/>
                        </a:lnTo>
                        <a:lnTo>
                          <a:pt x="783" y="460"/>
                        </a:lnTo>
                        <a:lnTo>
                          <a:pt x="779" y="460"/>
                        </a:lnTo>
                        <a:lnTo>
                          <a:pt x="774" y="458"/>
                        </a:lnTo>
                        <a:lnTo>
                          <a:pt x="770" y="458"/>
                        </a:lnTo>
                        <a:lnTo>
                          <a:pt x="765" y="458"/>
                        </a:lnTo>
                        <a:lnTo>
                          <a:pt x="762" y="458"/>
                        </a:lnTo>
                        <a:lnTo>
                          <a:pt x="757" y="458"/>
                        </a:lnTo>
                        <a:lnTo>
                          <a:pt x="753" y="458"/>
                        </a:lnTo>
                        <a:lnTo>
                          <a:pt x="748" y="458"/>
                        </a:lnTo>
                        <a:lnTo>
                          <a:pt x="745" y="458"/>
                        </a:lnTo>
                        <a:lnTo>
                          <a:pt x="739" y="458"/>
                        </a:lnTo>
                        <a:lnTo>
                          <a:pt x="736" y="458"/>
                        </a:lnTo>
                        <a:lnTo>
                          <a:pt x="731" y="458"/>
                        </a:lnTo>
                        <a:lnTo>
                          <a:pt x="727" y="458"/>
                        </a:lnTo>
                        <a:lnTo>
                          <a:pt x="722" y="458"/>
                        </a:lnTo>
                        <a:lnTo>
                          <a:pt x="718" y="458"/>
                        </a:lnTo>
                        <a:lnTo>
                          <a:pt x="713" y="458"/>
                        </a:lnTo>
                        <a:lnTo>
                          <a:pt x="708" y="458"/>
                        </a:lnTo>
                        <a:lnTo>
                          <a:pt x="704" y="458"/>
                        </a:lnTo>
                        <a:lnTo>
                          <a:pt x="699" y="458"/>
                        </a:lnTo>
                        <a:lnTo>
                          <a:pt x="695" y="458"/>
                        </a:lnTo>
                        <a:lnTo>
                          <a:pt x="692" y="458"/>
                        </a:lnTo>
                        <a:lnTo>
                          <a:pt x="687" y="458"/>
                        </a:lnTo>
                        <a:lnTo>
                          <a:pt x="682" y="458"/>
                        </a:lnTo>
                        <a:lnTo>
                          <a:pt x="678" y="458"/>
                        </a:lnTo>
                        <a:lnTo>
                          <a:pt x="673" y="458"/>
                        </a:lnTo>
                        <a:lnTo>
                          <a:pt x="669" y="458"/>
                        </a:lnTo>
                        <a:lnTo>
                          <a:pt x="664" y="458"/>
                        </a:lnTo>
                        <a:lnTo>
                          <a:pt x="659" y="458"/>
                        </a:lnTo>
                        <a:lnTo>
                          <a:pt x="655" y="458"/>
                        </a:lnTo>
                        <a:lnTo>
                          <a:pt x="650" y="458"/>
                        </a:lnTo>
                        <a:lnTo>
                          <a:pt x="647" y="458"/>
                        </a:lnTo>
                        <a:lnTo>
                          <a:pt x="641" y="458"/>
                        </a:lnTo>
                        <a:lnTo>
                          <a:pt x="638" y="460"/>
                        </a:lnTo>
                        <a:lnTo>
                          <a:pt x="633" y="460"/>
                        </a:lnTo>
                        <a:lnTo>
                          <a:pt x="629" y="460"/>
                        </a:lnTo>
                        <a:lnTo>
                          <a:pt x="623" y="460"/>
                        </a:lnTo>
                        <a:lnTo>
                          <a:pt x="620" y="460"/>
                        </a:lnTo>
                        <a:lnTo>
                          <a:pt x="614" y="460"/>
                        </a:lnTo>
                        <a:lnTo>
                          <a:pt x="611" y="460"/>
                        </a:lnTo>
                        <a:lnTo>
                          <a:pt x="604" y="460"/>
                        </a:lnTo>
                        <a:lnTo>
                          <a:pt x="601" y="461"/>
                        </a:lnTo>
                        <a:lnTo>
                          <a:pt x="597" y="461"/>
                        </a:lnTo>
                        <a:lnTo>
                          <a:pt x="592" y="461"/>
                        </a:lnTo>
                        <a:lnTo>
                          <a:pt x="588" y="461"/>
                        </a:lnTo>
                        <a:lnTo>
                          <a:pt x="583" y="461"/>
                        </a:lnTo>
                        <a:lnTo>
                          <a:pt x="577" y="461"/>
                        </a:lnTo>
                        <a:lnTo>
                          <a:pt x="574" y="461"/>
                        </a:lnTo>
                        <a:lnTo>
                          <a:pt x="569" y="461"/>
                        </a:lnTo>
                        <a:lnTo>
                          <a:pt x="565" y="461"/>
                        </a:lnTo>
                        <a:lnTo>
                          <a:pt x="560" y="461"/>
                        </a:lnTo>
                        <a:lnTo>
                          <a:pt x="555" y="461"/>
                        </a:lnTo>
                        <a:lnTo>
                          <a:pt x="551" y="461"/>
                        </a:lnTo>
                        <a:lnTo>
                          <a:pt x="546" y="461"/>
                        </a:lnTo>
                        <a:lnTo>
                          <a:pt x="542" y="461"/>
                        </a:lnTo>
                        <a:lnTo>
                          <a:pt x="537" y="461"/>
                        </a:lnTo>
                        <a:lnTo>
                          <a:pt x="533" y="461"/>
                        </a:lnTo>
                        <a:lnTo>
                          <a:pt x="528" y="462"/>
                        </a:lnTo>
                        <a:lnTo>
                          <a:pt x="523" y="461"/>
                        </a:lnTo>
                        <a:lnTo>
                          <a:pt x="519" y="461"/>
                        </a:lnTo>
                        <a:lnTo>
                          <a:pt x="513" y="461"/>
                        </a:lnTo>
                        <a:lnTo>
                          <a:pt x="508" y="461"/>
                        </a:lnTo>
                        <a:lnTo>
                          <a:pt x="502" y="461"/>
                        </a:lnTo>
                        <a:lnTo>
                          <a:pt x="496" y="460"/>
                        </a:lnTo>
                        <a:lnTo>
                          <a:pt x="491" y="460"/>
                        </a:lnTo>
                        <a:lnTo>
                          <a:pt x="485" y="460"/>
                        </a:lnTo>
                        <a:lnTo>
                          <a:pt x="490" y="458"/>
                        </a:lnTo>
                        <a:lnTo>
                          <a:pt x="496" y="458"/>
                        </a:lnTo>
                        <a:lnTo>
                          <a:pt x="499" y="458"/>
                        </a:lnTo>
                        <a:lnTo>
                          <a:pt x="502" y="458"/>
                        </a:lnTo>
                        <a:lnTo>
                          <a:pt x="507" y="458"/>
                        </a:lnTo>
                        <a:lnTo>
                          <a:pt x="513" y="458"/>
                        </a:lnTo>
                        <a:lnTo>
                          <a:pt x="516" y="458"/>
                        </a:lnTo>
                        <a:lnTo>
                          <a:pt x="520" y="458"/>
                        </a:lnTo>
                        <a:lnTo>
                          <a:pt x="526" y="458"/>
                        </a:lnTo>
                        <a:lnTo>
                          <a:pt x="531" y="458"/>
                        </a:lnTo>
                        <a:lnTo>
                          <a:pt x="537" y="458"/>
                        </a:lnTo>
                        <a:lnTo>
                          <a:pt x="543" y="458"/>
                        </a:lnTo>
                        <a:lnTo>
                          <a:pt x="548" y="458"/>
                        </a:lnTo>
                        <a:lnTo>
                          <a:pt x="554" y="458"/>
                        </a:lnTo>
                        <a:lnTo>
                          <a:pt x="559" y="458"/>
                        </a:lnTo>
                        <a:lnTo>
                          <a:pt x="565" y="458"/>
                        </a:lnTo>
                        <a:lnTo>
                          <a:pt x="569" y="458"/>
                        </a:lnTo>
                        <a:lnTo>
                          <a:pt x="574" y="458"/>
                        </a:lnTo>
                        <a:lnTo>
                          <a:pt x="580" y="458"/>
                        </a:lnTo>
                        <a:lnTo>
                          <a:pt x="585" y="458"/>
                        </a:lnTo>
                        <a:lnTo>
                          <a:pt x="589" y="458"/>
                        </a:lnTo>
                        <a:lnTo>
                          <a:pt x="594" y="458"/>
                        </a:lnTo>
                        <a:lnTo>
                          <a:pt x="598" y="458"/>
                        </a:lnTo>
                        <a:lnTo>
                          <a:pt x="601" y="457"/>
                        </a:lnTo>
                        <a:lnTo>
                          <a:pt x="604" y="457"/>
                        </a:lnTo>
                        <a:lnTo>
                          <a:pt x="607" y="455"/>
                        </a:lnTo>
                        <a:lnTo>
                          <a:pt x="614" y="454"/>
                        </a:lnTo>
                        <a:lnTo>
                          <a:pt x="617" y="453"/>
                        </a:lnTo>
                        <a:lnTo>
                          <a:pt x="615" y="453"/>
                        </a:lnTo>
                        <a:lnTo>
                          <a:pt x="612" y="451"/>
                        </a:lnTo>
                        <a:lnTo>
                          <a:pt x="607" y="451"/>
                        </a:lnTo>
                        <a:lnTo>
                          <a:pt x="603" y="451"/>
                        </a:lnTo>
                        <a:lnTo>
                          <a:pt x="600" y="451"/>
                        </a:lnTo>
                        <a:lnTo>
                          <a:pt x="597" y="451"/>
                        </a:lnTo>
                        <a:lnTo>
                          <a:pt x="594" y="451"/>
                        </a:lnTo>
                        <a:lnTo>
                          <a:pt x="591" y="451"/>
                        </a:lnTo>
                        <a:lnTo>
                          <a:pt x="588" y="451"/>
                        </a:lnTo>
                        <a:lnTo>
                          <a:pt x="583" y="451"/>
                        </a:lnTo>
                        <a:lnTo>
                          <a:pt x="580" y="451"/>
                        </a:lnTo>
                        <a:lnTo>
                          <a:pt x="577" y="451"/>
                        </a:lnTo>
                        <a:lnTo>
                          <a:pt x="571" y="451"/>
                        </a:lnTo>
                        <a:lnTo>
                          <a:pt x="568" y="451"/>
                        </a:lnTo>
                        <a:lnTo>
                          <a:pt x="563" y="451"/>
                        </a:lnTo>
                        <a:lnTo>
                          <a:pt x="559" y="451"/>
                        </a:lnTo>
                        <a:lnTo>
                          <a:pt x="554" y="451"/>
                        </a:lnTo>
                        <a:lnTo>
                          <a:pt x="549" y="451"/>
                        </a:lnTo>
                        <a:lnTo>
                          <a:pt x="543" y="451"/>
                        </a:lnTo>
                        <a:lnTo>
                          <a:pt x="540" y="451"/>
                        </a:lnTo>
                        <a:lnTo>
                          <a:pt x="534" y="451"/>
                        </a:lnTo>
                        <a:lnTo>
                          <a:pt x="529" y="451"/>
                        </a:lnTo>
                        <a:lnTo>
                          <a:pt x="523" y="451"/>
                        </a:lnTo>
                        <a:lnTo>
                          <a:pt x="519" y="451"/>
                        </a:lnTo>
                        <a:lnTo>
                          <a:pt x="513" y="451"/>
                        </a:lnTo>
                        <a:lnTo>
                          <a:pt x="508" y="451"/>
                        </a:lnTo>
                        <a:lnTo>
                          <a:pt x="502" y="451"/>
                        </a:lnTo>
                        <a:lnTo>
                          <a:pt x="497" y="451"/>
                        </a:lnTo>
                        <a:lnTo>
                          <a:pt x="491" y="451"/>
                        </a:lnTo>
                        <a:lnTo>
                          <a:pt x="487" y="451"/>
                        </a:lnTo>
                        <a:lnTo>
                          <a:pt x="481" y="451"/>
                        </a:lnTo>
                        <a:lnTo>
                          <a:pt x="474" y="451"/>
                        </a:lnTo>
                        <a:lnTo>
                          <a:pt x="470" y="451"/>
                        </a:lnTo>
                        <a:lnTo>
                          <a:pt x="464" y="451"/>
                        </a:lnTo>
                        <a:lnTo>
                          <a:pt x="459" y="451"/>
                        </a:lnTo>
                        <a:lnTo>
                          <a:pt x="455" y="451"/>
                        </a:lnTo>
                        <a:lnTo>
                          <a:pt x="448" y="451"/>
                        </a:lnTo>
                        <a:lnTo>
                          <a:pt x="444" y="451"/>
                        </a:lnTo>
                        <a:lnTo>
                          <a:pt x="438" y="451"/>
                        </a:lnTo>
                        <a:lnTo>
                          <a:pt x="433" y="453"/>
                        </a:lnTo>
                        <a:lnTo>
                          <a:pt x="429" y="453"/>
                        </a:lnTo>
                        <a:lnTo>
                          <a:pt x="424" y="453"/>
                        </a:lnTo>
                        <a:lnTo>
                          <a:pt x="419" y="453"/>
                        </a:lnTo>
                        <a:lnTo>
                          <a:pt x="416" y="453"/>
                        </a:lnTo>
                        <a:lnTo>
                          <a:pt x="410" y="453"/>
                        </a:lnTo>
                        <a:lnTo>
                          <a:pt x="407" y="453"/>
                        </a:lnTo>
                        <a:lnTo>
                          <a:pt x="403" y="453"/>
                        </a:lnTo>
                        <a:lnTo>
                          <a:pt x="399" y="453"/>
                        </a:lnTo>
                        <a:lnTo>
                          <a:pt x="395" y="453"/>
                        </a:lnTo>
                        <a:lnTo>
                          <a:pt x="392" y="454"/>
                        </a:lnTo>
                        <a:lnTo>
                          <a:pt x="389" y="454"/>
                        </a:lnTo>
                        <a:lnTo>
                          <a:pt x="386" y="454"/>
                        </a:lnTo>
                        <a:lnTo>
                          <a:pt x="380" y="454"/>
                        </a:lnTo>
                        <a:lnTo>
                          <a:pt x="375" y="454"/>
                        </a:lnTo>
                        <a:lnTo>
                          <a:pt x="372" y="455"/>
                        </a:lnTo>
                        <a:lnTo>
                          <a:pt x="369" y="455"/>
                        </a:lnTo>
                        <a:lnTo>
                          <a:pt x="375" y="454"/>
                        </a:lnTo>
                        <a:lnTo>
                          <a:pt x="380" y="453"/>
                        </a:lnTo>
                        <a:lnTo>
                          <a:pt x="386" y="451"/>
                        </a:lnTo>
                        <a:lnTo>
                          <a:pt x="390" y="451"/>
                        </a:lnTo>
                        <a:lnTo>
                          <a:pt x="395" y="450"/>
                        </a:lnTo>
                        <a:lnTo>
                          <a:pt x="399" y="450"/>
                        </a:lnTo>
                        <a:lnTo>
                          <a:pt x="406" y="449"/>
                        </a:lnTo>
                        <a:lnTo>
                          <a:pt x="410" y="449"/>
                        </a:lnTo>
                        <a:lnTo>
                          <a:pt x="415" y="449"/>
                        </a:lnTo>
                        <a:lnTo>
                          <a:pt x="419" y="449"/>
                        </a:lnTo>
                        <a:lnTo>
                          <a:pt x="424" y="447"/>
                        </a:lnTo>
                        <a:lnTo>
                          <a:pt x="429" y="447"/>
                        </a:lnTo>
                        <a:lnTo>
                          <a:pt x="433" y="447"/>
                        </a:lnTo>
                        <a:lnTo>
                          <a:pt x="438" y="447"/>
                        </a:lnTo>
                        <a:lnTo>
                          <a:pt x="441" y="447"/>
                        </a:lnTo>
                        <a:lnTo>
                          <a:pt x="447" y="447"/>
                        </a:lnTo>
                        <a:lnTo>
                          <a:pt x="450" y="446"/>
                        </a:lnTo>
                        <a:lnTo>
                          <a:pt x="455" y="446"/>
                        </a:lnTo>
                        <a:lnTo>
                          <a:pt x="459" y="446"/>
                        </a:lnTo>
                        <a:lnTo>
                          <a:pt x="464" y="446"/>
                        </a:lnTo>
                        <a:lnTo>
                          <a:pt x="468" y="446"/>
                        </a:lnTo>
                        <a:lnTo>
                          <a:pt x="473" y="446"/>
                        </a:lnTo>
                        <a:lnTo>
                          <a:pt x="477" y="446"/>
                        </a:lnTo>
                        <a:lnTo>
                          <a:pt x="482" y="446"/>
                        </a:lnTo>
                        <a:lnTo>
                          <a:pt x="487" y="446"/>
                        </a:lnTo>
                        <a:lnTo>
                          <a:pt x="491" y="446"/>
                        </a:lnTo>
                        <a:lnTo>
                          <a:pt x="496" y="446"/>
                        </a:lnTo>
                        <a:lnTo>
                          <a:pt x="502" y="446"/>
                        </a:lnTo>
                        <a:lnTo>
                          <a:pt x="507" y="444"/>
                        </a:lnTo>
                        <a:lnTo>
                          <a:pt x="511" y="444"/>
                        </a:lnTo>
                        <a:lnTo>
                          <a:pt x="517" y="444"/>
                        </a:lnTo>
                        <a:lnTo>
                          <a:pt x="523" y="444"/>
                        </a:lnTo>
                        <a:lnTo>
                          <a:pt x="528" y="443"/>
                        </a:lnTo>
                        <a:lnTo>
                          <a:pt x="533" y="443"/>
                        </a:lnTo>
                        <a:lnTo>
                          <a:pt x="539" y="443"/>
                        </a:lnTo>
                        <a:lnTo>
                          <a:pt x="543" y="443"/>
                        </a:lnTo>
                        <a:lnTo>
                          <a:pt x="549" y="442"/>
                        </a:lnTo>
                        <a:lnTo>
                          <a:pt x="554" y="442"/>
                        </a:lnTo>
                        <a:lnTo>
                          <a:pt x="559" y="442"/>
                        </a:lnTo>
                        <a:lnTo>
                          <a:pt x="565" y="442"/>
                        </a:lnTo>
                        <a:lnTo>
                          <a:pt x="569" y="442"/>
                        </a:lnTo>
                        <a:lnTo>
                          <a:pt x="574" y="442"/>
                        </a:lnTo>
                        <a:lnTo>
                          <a:pt x="580" y="442"/>
                        </a:lnTo>
                        <a:lnTo>
                          <a:pt x="585" y="442"/>
                        </a:lnTo>
                        <a:lnTo>
                          <a:pt x="591" y="442"/>
                        </a:lnTo>
                        <a:lnTo>
                          <a:pt x="595" y="442"/>
                        </a:lnTo>
                        <a:lnTo>
                          <a:pt x="600" y="442"/>
                        </a:lnTo>
                        <a:lnTo>
                          <a:pt x="606" y="442"/>
                        </a:lnTo>
                        <a:lnTo>
                          <a:pt x="611" y="440"/>
                        </a:lnTo>
                        <a:lnTo>
                          <a:pt x="615" y="440"/>
                        </a:lnTo>
                        <a:lnTo>
                          <a:pt x="621" y="440"/>
                        </a:lnTo>
                        <a:lnTo>
                          <a:pt x="626" y="440"/>
                        </a:lnTo>
                        <a:lnTo>
                          <a:pt x="632" y="439"/>
                        </a:lnTo>
                        <a:lnTo>
                          <a:pt x="637" y="439"/>
                        </a:lnTo>
                        <a:lnTo>
                          <a:pt x="641" y="439"/>
                        </a:lnTo>
                        <a:lnTo>
                          <a:pt x="647" y="439"/>
                        </a:lnTo>
                        <a:lnTo>
                          <a:pt x="652" y="439"/>
                        </a:lnTo>
                        <a:lnTo>
                          <a:pt x="656" y="439"/>
                        </a:lnTo>
                        <a:lnTo>
                          <a:pt x="663" y="438"/>
                        </a:lnTo>
                        <a:lnTo>
                          <a:pt x="667" y="438"/>
                        </a:lnTo>
                        <a:lnTo>
                          <a:pt x="673" y="438"/>
                        </a:lnTo>
                        <a:lnTo>
                          <a:pt x="678" y="438"/>
                        </a:lnTo>
                        <a:lnTo>
                          <a:pt x="682" y="438"/>
                        </a:lnTo>
                        <a:lnTo>
                          <a:pt x="689" y="438"/>
                        </a:lnTo>
                        <a:lnTo>
                          <a:pt x="693" y="436"/>
                        </a:lnTo>
                        <a:lnTo>
                          <a:pt x="698" y="436"/>
                        </a:lnTo>
                        <a:lnTo>
                          <a:pt x="702" y="436"/>
                        </a:lnTo>
                        <a:lnTo>
                          <a:pt x="708" y="436"/>
                        </a:lnTo>
                        <a:lnTo>
                          <a:pt x="713" y="435"/>
                        </a:lnTo>
                        <a:lnTo>
                          <a:pt x="718" y="435"/>
                        </a:lnTo>
                        <a:lnTo>
                          <a:pt x="724" y="435"/>
                        </a:lnTo>
                        <a:lnTo>
                          <a:pt x="728" y="435"/>
                        </a:lnTo>
                        <a:lnTo>
                          <a:pt x="733" y="435"/>
                        </a:lnTo>
                        <a:lnTo>
                          <a:pt x="739" y="433"/>
                        </a:lnTo>
                        <a:lnTo>
                          <a:pt x="744" y="433"/>
                        </a:lnTo>
                        <a:lnTo>
                          <a:pt x="750" y="433"/>
                        </a:lnTo>
                        <a:lnTo>
                          <a:pt x="754" y="433"/>
                        </a:lnTo>
                        <a:lnTo>
                          <a:pt x="759" y="433"/>
                        </a:lnTo>
                        <a:lnTo>
                          <a:pt x="764" y="433"/>
                        </a:lnTo>
                        <a:lnTo>
                          <a:pt x="770" y="433"/>
                        </a:lnTo>
                        <a:lnTo>
                          <a:pt x="774" y="432"/>
                        </a:lnTo>
                        <a:lnTo>
                          <a:pt x="780" y="432"/>
                        </a:lnTo>
                        <a:lnTo>
                          <a:pt x="783" y="432"/>
                        </a:lnTo>
                        <a:lnTo>
                          <a:pt x="790" y="432"/>
                        </a:lnTo>
                        <a:lnTo>
                          <a:pt x="794" y="431"/>
                        </a:lnTo>
                        <a:lnTo>
                          <a:pt x="800" y="431"/>
                        </a:lnTo>
                        <a:lnTo>
                          <a:pt x="805" y="431"/>
                        </a:lnTo>
                        <a:lnTo>
                          <a:pt x="811" y="431"/>
                        </a:lnTo>
                        <a:lnTo>
                          <a:pt x="816" y="431"/>
                        </a:lnTo>
                        <a:lnTo>
                          <a:pt x="820" y="431"/>
                        </a:lnTo>
                        <a:lnTo>
                          <a:pt x="825" y="431"/>
                        </a:lnTo>
                        <a:lnTo>
                          <a:pt x="831" y="431"/>
                        </a:lnTo>
                        <a:lnTo>
                          <a:pt x="835" y="431"/>
                        </a:lnTo>
                        <a:lnTo>
                          <a:pt x="842" y="431"/>
                        </a:lnTo>
                        <a:lnTo>
                          <a:pt x="846" y="431"/>
                        </a:lnTo>
                        <a:lnTo>
                          <a:pt x="852" y="431"/>
                        </a:lnTo>
                        <a:lnTo>
                          <a:pt x="855" y="429"/>
                        </a:lnTo>
                        <a:lnTo>
                          <a:pt x="860" y="429"/>
                        </a:lnTo>
                        <a:lnTo>
                          <a:pt x="863" y="428"/>
                        </a:lnTo>
                        <a:lnTo>
                          <a:pt x="866" y="428"/>
                        </a:lnTo>
                        <a:lnTo>
                          <a:pt x="871" y="428"/>
                        </a:lnTo>
                        <a:lnTo>
                          <a:pt x="874" y="427"/>
                        </a:lnTo>
                        <a:lnTo>
                          <a:pt x="878" y="427"/>
                        </a:lnTo>
                        <a:lnTo>
                          <a:pt x="883" y="427"/>
                        </a:lnTo>
                        <a:lnTo>
                          <a:pt x="877" y="425"/>
                        </a:lnTo>
                        <a:lnTo>
                          <a:pt x="871" y="424"/>
                        </a:lnTo>
                        <a:lnTo>
                          <a:pt x="866" y="424"/>
                        </a:lnTo>
                        <a:lnTo>
                          <a:pt x="860" y="424"/>
                        </a:lnTo>
                        <a:lnTo>
                          <a:pt x="855" y="424"/>
                        </a:lnTo>
                        <a:lnTo>
                          <a:pt x="849" y="422"/>
                        </a:lnTo>
                        <a:lnTo>
                          <a:pt x="843" y="422"/>
                        </a:lnTo>
                        <a:lnTo>
                          <a:pt x="838" y="422"/>
                        </a:lnTo>
                        <a:lnTo>
                          <a:pt x="831" y="422"/>
                        </a:lnTo>
                        <a:lnTo>
                          <a:pt x="826" y="422"/>
                        </a:lnTo>
                        <a:lnTo>
                          <a:pt x="820" y="421"/>
                        </a:lnTo>
                        <a:lnTo>
                          <a:pt x="814" y="421"/>
                        </a:lnTo>
                        <a:lnTo>
                          <a:pt x="808" y="421"/>
                        </a:lnTo>
                        <a:lnTo>
                          <a:pt x="802" y="421"/>
                        </a:lnTo>
                        <a:lnTo>
                          <a:pt x="796" y="421"/>
                        </a:lnTo>
                        <a:lnTo>
                          <a:pt x="790" y="421"/>
                        </a:lnTo>
                        <a:lnTo>
                          <a:pt x="783" y="421"/>
                        </a:lnTo>
                        <a:lnTo>
                          <a:pt x="777" y="421"/>
                        </a:lnTo>
                        <a:lnTo>
                          <a:pt x="770" y="421"/>
                        </a:lnTo>
                        <a:lnTo>
                          <a:pt x="764" y="421"/>
                        </a:lnTo>
                        <a:lnTo>
                          <a:pt x="757" y="421"/>
                        </a:lnTo>
                        <a:lnTo>
                          <a:pt x="751" y="421"/>
                        </a:lnTo>
                        <a:lnTo>
                          <a:pt x="745" y="421"/>
                        </a:lnTo>
                        <a:lnTo>
                          <a:pt x="739" y="421"/>
                        </a:lnTo>
                        <a:lnTo>
                          <a:pt x="731" y="421"/>
                        </a:lnTo>
                        <a:lnTo>
                          <a:pt x="725" y="421"/>
                        </a:lnTo>
                        <a:lnTo>
                          <a:pt x="718" y="421"/>
                        </a:lnTo>
                        <a:lnTo>
                          <a:pt x="711" y="421"/>
                        </a:lnTo>
                        <a:lnTo>
                          <a:pt x="705" y="421"/>
                        </a:lnTo>
                        <a:lnTo>
                          <a:pt x="699" y="421"/>
                        </a:lnTo>
                        <a:lnTo>
                          <a:pt x="693" y="421"/>
                        </a:lnTo>
                        <a:lnTo>
                          <a:pt x="687" y="422"/>
                        </a:lnTo>
                        <a:lnTo>
                          <a:pt x="679" y="422"/>
                        </a:lnTo>
                        <a:lnTo>
                          <a:pt x="673" y="422"/>
                        </a:lnTo>
                        <a:lnTo>
                          <a:pt x="667" y="422"/>
                        </a:lnTo>
                        <a:lnTo>
                          <a:pt x="659" y="422"/>
                        </a:lnTo>
                        <a:lnTo>
                          <a:pt x="653" y="422"/>
                        </a:lnTo>
                        <a:lnTo>
                          <a:pt x="647" y="422"/>
                        </a:lnTo>
                        <a:lnTo>
                          <a:pt x="640" y="422"/>
                        </a:lnTo>
                        <a:lnTo>
                          <a:pt x="633" y="422"/>
                        </a:lnTo>
                        <a:lnTo>
                          <a:pt x="627" y="422"/>
                        </a:lnTo>
                        <a:lnTo>
                          <a:pt x="621" y="422"/>
                        </a:lnTo>
                        <a:lnTo>
                          <a:pt x="615" y="422"/>
                        </a:lnTo>
                        <a:lnTo>
                          <a:pt x="607" y="424"/>
                        </a:lnTo>
                        <a:lnTo>
                          <a:pt x="601" y="424"/>
                        </a:lnTo>
                        <a:lnTo>
                          <a:pt x="595" y="424"/>
                        </a:lnTo>
                        <a:lnTo>
                          <a:pt x="589" y="424"/>
                        </a:lnTo>
                        <a:lnTo>
                          <a:pt x="585" y="424"/>
                        </a:lnTo>
                        <a:lnTo>
                          <a:pt x="577" y="424"/>
                        </a:lnTo>
                        <a:lnTo>
                          <a:pt x="571" y="424"/>
                        </a:lnTo>
                        <a:lnTo>
                          <a:pt x="565" y="424"/>
                        </a:lnTo>
                        <a:lnTo>
                          <a:pt x="560" y="424"/>
                        </a:lnTo>
                        <a:lnTo>
                          <a:pt x="554" y="424"/>
                        </a:lnTo>
                        <a:lnTo>
                          <a:pt x="548" y="424"/>
                        </a:lnTo>
                        <a:lnTo>
                          <a:pt x="543" y="424"/>
                        </a:lnTo>
                        <a:lnTo>
                          <a:pt x="537" y="425"/>
                        </a:lnTo>
                        <a:lnTo>
                          <a:pt x="531" y="425"/>
                        </a:lnTo>
                        <a:lnTo>
                          <a:pt x="526" y="425"/>
                        </a:lnTo>
                        <a:lnTo>
                          <a:pt x="520" y="425"/>
                        </a:lnTo>
                        <a:lnTo>
                          <a:pt x="516" y="425"/>
                        </a:lnTo>
                        <a:lnTo>
                          <a:pt x="510" y="425"/>
                        </a:lnTo>
                        <a:lnTo>
                          <a:pt x="505" y="425"/>
                        </a:lnTo>
                        <a:lnTo>
                          <a:pt x="500" y="425"/>
                        </a:lnTo>
                        <a:lnTo>
                          <a:pt x="496" y="427"/>
                        </a:lnTo>
                        <a:lnTo>
                          <a:pt x="491" y="427"/>
                        </a:lnTo>
                        <a:lnTo>
                          <a:pt x="488" y="427"/>
                        </a:lnTo>
                        <a:lnTo>
                          <a:pt x="485" y="427"/>
                        </a:lnTo>
                        <a:lnTo>
                          <a:pt x="482" y="427"/>
                        </a:lnTo>
                        <a:lnTo>
                          <a:pt x="477" y="427"/>
                        </a:lnTo>
                        <a:lnTo>
                          <a:pt x="474" y="427"/>
                        </a:lnTo>
                        <a:lnTo>
                          <a:pt x="470" y="427"/>
                        </a:lnTo>
                        <a:lnTo>
                          <a:pt x="467" y="427"/>
                        </a:lnTo>
                        <a:lnTo>
                          <a:pt x="462" y="427"/>
                        </a:lnTo>
                        <a:lnTo>
                          <a:pt x="458" y="427"/>
                        </a:lnTo>
                        <a:lnTo>
                          <a:pt x="455" y="427"/>
                        </a:lnTo>
                        <a:lnTo>
                          <a:pt x="450" y="427"/>
                        </a:lnTo>
                        <a:lnTo>
                          <a:pt x="447" y="427"/>
                        </a:lnTo>
                        <a:lnTo>
                          <a:pt x="442" y="427"/>
                        </a:lnTo>
                        <a:lnTo>
                          <a:pt x="439" y="427"/>
                        </a:lnTo>
                        <a:lnTo>
                          <a:pt x="435" y="427"/>
                        </a:lnTo>
                        <a:lnTo>
                          <a:pt x="430" y="427"/>
                        </a:lnTo>
                        <a:lnTo>
                          <a:pt x="427" y="427"/>
                        </a:lnTo>
                        <a:lnTo>
                          <a:pt x="422" y="427"/>
                        </a:lnTo>
                        <a:lnTo>
                          <a:pt x="419" y="427"/>
                        </a:lnTo>
                        <a:lnTo>
                          <a:pt x="415" y="427"/>
                        </a:lnTo>
                        <a:lnTo>
                          <a:pt x="410" y="427"/>
                        </a:lnTo>
                        <a:lnTo>
                          <a:pt x="407" y="427"/>
                        </a:lnTo>
                        <a:lnTo>
                          <a:pt x="403" y="427"/>
                        </a:lnTo>
                        <a:lnTo>
                          <a:pt x="398" y="427"/>
                        </a:lnTo>
                        <a:lnTo>
                          <a:pt x="395" y="427"/>
                        </a:lnTo>
                        <a:lnTo>
                          <a:pt x="390" y="427"/>
                        </a:lnTo>
                        <a:lnTo>
                          <a:pt x="387" y="427"/>
                        </a:lnTo>
                        <a:lnTo>
                          <a:pt x="383" y="427"/>
                        </a:lnTo>
                        <a:lnTo>
                          <a:pt x="380" y="427"/>
                        </a:lnTo>
                        <a:lnTo>
                          <a:pt x="375" y="427"/>
                        </a:lnTo>
                        <a:lnTo>
                          <a:pt x="372" y="427"/>
                        </a:lnTo>
                        <a:lnTo>
                          <a:pt x="410" y="414"/>
                        </a:lnTo>
                        <a:lnTo>
                          <a:pt x="713" y="407"/>
                        </a:lnTo>
                        <a:lnTo>
                          <a:pt x="759" y="401"/>
                        </a:lnTo>
                        <a:lnTo>
                          <a:pt x="750" y="401"/>
                        </a:lnTo>
                        <a:lnTo>
                          <a:pt x="742" y="401"/>
                        </a:lnTo>
                        <a:lnTo>
                          <a:pt x="733" y="401"/>
                        </a:lnTo>
                        <a:lnTo>
                          <a:pt x="725" y="402"/>
                        </a:lnTo>
                        <a:lnTo>
                          <a:pt x="716" y="402"/>
                        </a:lnTo>
                        <a:lnTo>
                          <a:pt x="708" y="402"/>
                        </a:lnTo>
                        <a:lnTo>
                          <a:pt x="699" y="402"/>
                        </a:lnTo>
                        <a:lnTo>
                          <a:pt x="692" y="402"/>
                        </a:lnTo>
                        <a:lnTo>
                          <a:pt x="682" y="402"/>
                        </a:lnTo>
                        <a:lnTo>
                          <a:pt x="675" y="402"/>
                        </a:lnTo>
                        <a:lnTo>
                          <a:pt x="666" y="402"/>
                        </a:lnTo>
                        <a:lnTo>
                          <a:pt x="658" y="402"/>
                        </a:lnTo>
                        <a:lnTo>
                          <a:pt x="649" y="402"/>
                        </a:lnTo>
                        <a:lnTo>
                          <a:pt x="641" y="402"/>
                        </a:lnTo>
                        <a:lnTo>
                          <a:pt x="633" y="402"/>
                        </a:lnTo>
                        <a:lnTo>
                          <a:pt x="624" y="402"/>
                        </a:lnTo>
                        <a:lnTo>
                          <a:pt x="615" y="402"/>
                        </a:lnTo>
                        <a:lnTo>
                          <a:pt x="607" y="402"/>
                        </a:lnTo>
                        <a:lnTo>
                          <a:pt x="598" y="402"/>
                        </a:lnTo>
                        <a:lnTo>
                          <a:pt x="591" y="402"/>
                        </a:lnTo>
                        <a:lnTo>
                          <a:pt x="581" y="402"/>
                        </a:lnTo>
                        <a:lnTo>
                          <a:pt x="574" y="402"/>
                        </a:lnTo>
                        <a:lnTo>
                          <a:pt x="565" y="402"/>
                        </a:lnTo>
                        <a:lnTo>
                          <a:pt x="557" y="402"/>
                        </a:lnTo>
                        <a:lnTo>
                          <a:pt x="548" y="402"/>
                        </a:lnTo>
                        <a:lnTo>
                          <a:pt x="539" y="402"/>
                        </a:lnTo>
                        <a:lnTo>
                          <a:pt x="529" y="402"/>
                        </a:lnTo>
                        <a:lnTo>
                          <a:pt x="522" y="402"/>
                        </a:lnTo>
                        <a:lnTo>
                          <a:pt x="513" y="402"/>
                        </a:lnTo>
                        <a:lnTo>
                          <a:pt x="505" y="402"/>
                        </a:lnTo>
                        <a:lnTo>
                          <a:pt x="496" y="402"/>
                        </a:lnTo>
                        <a:lnTo>
                          <a:pt x="488" y="402"/>
                        </a:lnTo>
                        <a:lnTo>
                          <a:pt x="479" y="401"/>
                        </a:lnTo>
                        <a:lnTo>
                          <a:pt x="471" y="401"/>
                        </a:lnTo>
                        <a:lnTo>
                          <a:pt x="462" y="401"/>
                        </a:lnTo>
                        <a:lnTo>
                          <a:pt x="455" y="401"/>
                        </a:lnTo>
                        <a:lnTo>
                          <a:pt x="444" y="399"/>
                        </a:lnTo>
                        <a:lnTo>
                          <a:pt x="436" y="399"/>
                        </a:lnTo>
                        <a:lnTo>
                          <a:pt x="427" y="399"/>
                        </a:lnTo>
                        <a:lnTo>
                          <a:pt x="419" y="399"/>
                        </a:lnTo>
                        <a:lnTo>
                          <a:pt x="410" y="399"/>
                        </a:lnTo>
                        <a:lnTo>
                          <a:pt x="403" y="399"/>
                        </a:lnTo>
                        <a:lnTo>
                          <a:pt x="393" y="399"/>
                        </a:lnTo>
                        <a:lnTo>
                          <a:pt x="386" y="399"/>
                        </a:lnTo>
                        <a:lnTo>
                          <a:pt x="377" y="399"/>
                        </a:lnTo>
                        <a:lnTo>
                          <a:pt x="369" y="399"/>
                        </a:lnTo>
                        <a:lnTo>
                          <a:pt x="360" y="399"/>
                        </a:lnTo>
                        <a:lnTo>
                          <a:pt x="352" y="399"/>
                        </a:lnTo>
                        <a:lnTo>
                          <a:pt x="343" y="398"/>
                        </a:lnTo>
                        <a:lnTo>
                          <a:pt x="335" y="398"/>
                        </a:lnTo>
                        <a:lnTo>
                          <a:pt x="326" y="396"/>
                        </a:lnTo>
                        <a:lnTo>
                          <a:pt x="318" y="396"/>
                        </a:lnTo>
                        <a:lnTo>
                          <a:pt x="309" y="396"/>
                        </a:lnTo>
                        <a:lnTo>
                          <a:pt x="302" y="396"/>
                        </a:lnTo>
                        <a:lnTo>
                          <a:pt x="294" y="396"/>
                        </a:lnTo>
                        <a:lnTo>
                          <a:pt x="285" y="396"/>
                        </a:lnTo>
                        <a:lnTo>
                          <a:pt x="276" y="396"/>
                        </a:lnTo>
                        <a:lnTo>
                          <a:pt x="268" y="395"/>
                        </a:lnTo>
                        <a:lnTo>
                          <a:pt x="260" y="395"/>
                        </a:lnTo>
                        <a:lnTo>
                          <a:pt x="253" y="395"/>
                        </a:lnTo>
                        <a:lnTo>
                          <a:pt x="245" y="394"/>
                        </a:lnTo>
                        <a:lnTo>
                          <a:pt x="236" y="394"/>
                        </a:lnTo>
                        <a:lnTo>
                          <a:pt x="228" y="394"/>
                        </a:lnTo>
                        <a:lnTo>
                          <a:pt x="220" y="394"/>
                        </a:lnTo>
                        <a:lnTo>
                          <a:pt x="228" y="390"/>
                        </a:lnTo>
                        <a:lnTo>
                          <a:pt x="234" y="384"/>
                        </a:lnTo>
                        <a:lnTo>
                          <a:pt x="242" y="379"/>
                        </a:lnTo>
                        <a:lnTo>
                          <a:pt x="250" y="374"/>
                        </a:lnTo>
                        <a:lnTo>
                          <a:pt x="257" y="369"/>
                        </a:lnTo>
                        <a:lnTo>
                          <a:pt x="265" y="365"/>
                        </a:lnTo>
                        <a:lnTo>
                          <a:pt x="272" y="359"/>
                        </a:lnTo>
                        <a:lnTo>
                          <a:pt x="280" y="355"/>
                        </a:lnTo>
                        <a:lnTo>
                          <a:pt x="288" y="350"/>
                        </a:lnTo>
                        <a:lnTo>
                          <a:pt x="295" y="344"/>
                        </a:lnTo>
                        <a:lnTo>
                          <a:pt x="303" y="340"/>
                        </a:lnTo>
                        <a:lnTo>
                          <a:pt x="311" y="335"/>
                        </a:lnTo>
                        <a:lnTo>
                          <a:pt x="317" y="331"/>
                        </a:lnTo>
                        <a:lnTo>
                          <a:pt x="324" y="325"/>
                        </a:lnTo>
                        <a:lnTo>
                          <a:pt x="332" y="321"/>
                        </a:lnTo>
                        <a:lnTo>
                          <a:pt x="340" y="315"/>
                        </a:lnTo>
                        <a:lnTo>
                          <a:pt x="347" y="311"/>
                        </a:lnTo>
                        <a:lnTo>
                          <a:pt x="355" y="306"/>
                        </a:lnTo>
                        <a:lnTo>
                          <a:pt x="363" y="300"/>
                        </a:lnTo>
                        <a:lnTo>
                          <a:pt x="370" y="296"/>
                        </a:lnTo>
                        <a:lnTo>
                          <a:pt x="378" y="291"/>
                        </a:lnTo>
                        <a:lnTo>
                          <a:pt x="386" y="287"/>
                        </a:lnTo>
                        <a:lnTo>
                          <a:pt x="393" y="281"/>
                        </a:lnTo>
                        <a:lnTo>
                          <a:pt x="401" y="277"/>
                        </a:lnTo>
                        <a:lnTo>
                          <a:pt x="409" y="273"/>
                        </a:lnTo>
                        <a:lnTo>
                          <a:pt x="416" y="267"/>
                        </a:lnTo>
                        <a:lnTo>
                          <a:pt x="424" y="262"/>
                        </a:lnTo>
                        <a:lnTo>
                          <a:pt x="432" y="258"/>
                        </a:lnTo>
                        <a:lnTo>
                          <a:pt x="439" y="252"/>
                        </a:lnTo>
                        <a:lnTo>
                          <a:pt x="447" y="248"/>
                        </a:lnTo>
                        <a:lnTo>
                          <a:pt x="455" y="243"/>
                        </a:lnTo>
                        <a:lnTo>
                          <a:pt x="462" y="239"/>
                        </a:lnTo>
                        <a:lnTo>
                          <a:pt x="470" y="233"/>
                        </a:lnTo>
                        <a:lnTo>
                          <a:pt x="477" y="229"/>
                        </a:lnTo>
                        <a:lnTo>
                          <a:pt x="485" y="223"/>
                        </a:lnTo>
                        <a:lnTo>
                          <a:pt x="491" y="219"/>
                        </a:lnTo>
                        <a:lnTo>
                          <a:pt x="499" y="214"/>
                        </a:lnTo>
                        <a:lnTo>
                          <a:pt x="507" y="210"/>
                        </a:lnTo>
                        <a:lnTo>
                          <a:pt x="514" y="204"/>
                        </a:lnTo>
                        <a:lnTo>
                          <a:pt x="522" y="200"/>
                        </a:lnTo>
                        <a:lnTo>
                          <a:pt x="529" y="195"/>
                        </a:lnTo>
                        <a:lnTo>
                          <a:pt x="537" y="189"/>
                        </a:lnTo>
                        <a:lnTo>
                          <a:pt x="545" y="185"/>
                        </a:lnTo>
                        <a:lnTo>
                          <a:pt x="552" y="181"/>
                        </a:lnTo>
                        <a:lnTo>
                          <a:pt x="560" y="175"/>
                        </a:lnTo>
                        <a:lnTo>
                          <a:pt x="568" y="170"/>
                        </a:lnTo>
                        <a:lnTo>
                          <a:pt x="575" y="166"/>
                        </a:lnTo>
                        <a:lnTo>
                          <a:pt x="583" y="162"/>
                        </a:lnTo>
                        <a:lnTo>
                          <a:pt x="591" y="156"/>
                        </a:lnTo>
                        <a:lnTo>
                          <a:pt x="598" y="151"/>
                        </a:lnTo>
                        <a:lnTo>
                          <a:pt x="606" y="147"/>
                        </a:lnTo>
                        <a:lnTo>
                          <a:pt x="614" y="142"/>
                        </a:lnTo>
                        <a:lnTo>
                          <a:pt x="621" y="137"/>
                        </a:lnTo>
                        <a:lnTo>
                          <a:pt x="629" y="133"/>
                        </a:lnTo>
                        <a:lnTo>
                          <a:pt x="637" y="127"/>
                        </a:lnTo>
                        <a:lnTo>
                          <a:pt x="644" y="123"/>
                        </a:lnTo>
                        <a:lnTo>
                          <a:pt x="652" y="118"/>
                        </a:lnTo>
                        <a:lnTo>
                          <a:pt x="659" y="114"/>
                        </a:lnTo>
                        <a:lnTo>
                          <a:pt x="667" y="108"/>
                        </a:lnTo>
                        <a:lnTo>
                          <a:pt x="675" y="104"/>
                        </a:lnTo>
                        <a:lnTo>
                          <a:pt x="682" y="99"/>
                        </a:lnTo>
                        <a:lnTo>
                          <a:pt x="690" y="94"/>
                        </a:lnTo>
                        <a:lnTo>
                          <a:pt x="698" y="90"/>
                        </a:lnTo>
                        <a:lnTo>
                          <a:pt x="705" y="86"/>
                        </a:lnTo>
                        <a:lnTo>
                          <a:pt x="713" y="90"/>
                        </a:lnTo>
                        <a:lnTo>
                          <a:pt x="722" y="96"/>
                        </a:lnTo>
                        <a:lnTo>
                          <a:pt x="730" y="101"/>
                        </a:lnTo>
                        <a:lnTo>
                          <a:pt x="739" y="107"/>
                        </a:lnTo>
                        <a:lnTo>
                          <a:pt x="747" y="112"/>
                        </a:lnTo>
                        <a:lnTo>
                          <a:pt x="754" y="118"/>
                        </a:lnTo>
                        <a:lnTo>
                          <a:pt x="762" y="122"/>
                        </a:lnTo>
                        <a:lnTo>
                          <a:pt x="770" y="127"/>
                        </a:lnTo>
                        <a:lnTo>
                          <a:pt x="777" y="131"/>
                        </a:lnTo>
                        <a:lnTo>
                          <a:pt x="783" y="136"/>
                        </a:lnTo>
                        <a:lnTo>
                          <a:pt x="791" y="140"/>
                        </a:lnTo>
                        <a:lnTo>
                          <a:pt x="799" y="145"/>
                        </a:lnTo>
                        <a:lnTo>
                          <a:pt x="805" y="149"/>
                        </a:lnTo>
                        <a:lnTo>
                          <a:pt x="811" y="153"/>
                        </a:lnTo>
                        <a:lnTo>
                          <a:pt x="819" y="158"/>
                        </a:lnTo>
                        <a:lnTo>
                          <a:pt x="825" y="162"/>
                        </a:lnTo>
                        <a:lnTo>
                          <a:pt x="831" y="166"/>
                        </a:lnTo>
                        <a:lnTo>
                          <a:pt x="837" y="170"/>
                        </a:lnTo>
                        <a:lnTo>
                          <a:pt x="843" y="173"/>
                        </a:lnTo>
                        <a:lnTo>
                          <a:pt x="849" y="177"/>
                        </a:lnTo>
                        <a:lnTo>
                          <a:pt x="855" y="181"/>
                        </a:lnTo>
                        <a:lnTo>
                          <a:pt x="861" y="185"/>
                        </a:lnTo>
                        <a:lnTo>
                          <a:pt x="868" y="188"/>
                        </a:lnTo>
                        <a:lnTo>
                          <a:pt x="874" y="192"/>
                        </a:lnTo>
                        <a:lnTo>
                          <a:pt x="880" y="196"/>
                        </a:lnTo>
                        <a:lnTo>
                          <a:pt x="886" y="199"/>
                        </a:lnTo>
                        <a:lnTo>
                          <a:pt x="890" y="203"/>
                        </a:lnTo>
                        <a:lnTo>
                          <a:pt x="897" y="207"/>
                        </a:lnTo>
                        <a:lnTo>
                          <a:pt x="903" y="210"/>
                        </a:lnTo>
                        <a:lnTo>
                          <a:pt x="909" y="214"/>
                        </a:lnTo>
                        <a:lnTo>
                          <a:pt x="915" y="217"/>
                        </a:lnTo>
                        <a:lnTo>
                          <a:pt x="921" y="221"/>
                        </a:lnTo>
                        <a:lnTo>
                          <a:pt x="927" y="225"/>
                        </a:lnTo>
                        <a:lnTo>
                          <a:pt x="932" y="228"/>
                        </a:lnTo>
                        <a:lnTo>
                          <a:pt x="938" y="232"/>
                        </a:lnTo>
                        <a:lnTo>
                          <a:pt x="944" y="234"/>
                        </a:lnTo>
                        <a:lnTo>
                          <a:pt x="949" y="239"/>
                        </a:lnTo>
                        <a:lnTo>
                          <a:pt x="955" y="241"/>
                        </a:lnTo>
                        <a:lnTo>
                          <a:pt x="961" y="245"/>
                        </a:lnTo>
                        <a:lnTo>
                          <a:pt x="967" y="250"/>
                        </a:lnTo>
                        <a:lnTo>
                          <a:pt x="973" y="252"/>
                        </a:lnTo>
                        <a:lnTo>
                          <a:pt x="979" y="256"/>
                        </a:lnTo>
                        <a:lnTo>
                          <a:pt x="985" y="261"/>
                        </a:lnTo>
                        <a:lnTo>
                          <a:pt x="991" y="263"/>
                        </a:lnTo>
                        <a:lnTo>
                          <a:pt x="998" y="267"/>
                        </a:lnTo>
                        <a:lnTo>
                          <a:pt x="1004" y="271"/>
                        </a:lnTo>
                        <a:lnTo>
                          <a:pt x="1010" y="276"/>
                        </a:lnTo>
                        <a:lnTo>
                          <a:pt x="1017" y="280"/>
                        </a:lnTo>
                        <a:lnTo>
                          <a:pt x="1024" y="282"/>
                        </a:lnTo>
                        <a:lnTo>
                          <a:pt x="1031" y="288"/>
                        </a:lnTo>
                        <a:lnTo>
                          <a:pt x="1037" y="291"/>
                        </a:lnTo>
                        <a:lnTo>
                          <a:pt x="1045" y="296"/>
                        </a:lnTo>
                        <a:lnTo>
                          <a:pt x="1053" y="300"/>
                        </a:lnTo>
                        <a:lnTo>
                          <a:pt x="1060" y="304"/>
                        </a:lnTo>
                        <a:lnTo>
                          <a:pt x="1068" y="309"/>
                        </a:lnTo>
                        <a:lnTo>
                          <a:pt x="1076" y="314"/>
                        </a:lnTo>
                        <a:lnTo>
                          <a:pt x="1083" y="318"/>
                        </a:lnTo>
                        <a:lnTo>
                          <a:pt x="1092" y="322"/>
                        </a:lnTo>
                        <a:lnTo>
                          <a:pt x="1100" y="328"/>
                        </a:lnTo>
                        <a:lnTo>
                          <a:pt x="1109" y="333"/>
                        </a:lnTo>
                        <a:lnTo>
                          <a:pt x="1117" y="339"/>
                        </a:lnTo>
                        <a:lnTo>
                          <a:pt x="1126" y="344"/>
                        </a:lnTo>
                        <a:lnTo>
                          <a:pt x="1135" y="350"/>
                        </a:lnTo>
                        <a:lnTo>
                          <a:pt x="1144" y="355"/>
                        </a:lnTo>
                        <a:lnTo>
                          <a:pt x="1140" y="355"/>
                        </a:lnTo>
                        <a:lnTo>
                          <a:pt x="1134" y="355"/>
                        </a:lnTo>
                        <a:lnTo>
                          <a:pt x="1129" y="355"/>
                        </a:lnTo>
                        <a:lnTo>
                          <a:pt x="1123" y="355"/>
                        </a:lnTo>
                        <a:lnTo>
                          <a:pt x="1118" y="355"/>
                        </a:lnTo>
                        <a:lnTo>
                          <a:pt x="1112" y="355"/>
                        </a:lnTo>
                        <a:lnTo>
                          <a:pt x="1106" y="355"/>
                        </a:lnTo>
                        <a:lnTo>
                          <a:pt x="1102" y="357"/>
                        </a:lnTo>
                        <a:lnTo>
                          <a:pt x="1095" y="357"/>
                        </a:lnTo>
                        <a:lnTo>
                          <a:pt x="1089" y="357"/>
                        </a:lnTo>
                        <a:lnTo>
                          <a:pt x="1083" y="357"/>
                        </a:lnTo>
                        <a:lnTo>
                          <a:pt x="1077" y="357"/>
                        </a:lnTo>
                        <a:lnTo>
                          <a:pt x="1071" y="357"/>
                        </a:lnTo>
                        <a:lnTo>
                          <a:pt x="1065" y="357"/>
                        </a:lnTo>
                        <a:lnTo>
                          <a:pt x="1057" y="357"/>
                        </a:lnTo>
                        <a:lnTo>
                          <a:pt x="1053" y="357"/>
                        </a:lnTo>
                        <a:lnTo>
                          <a:pt x="1045" y="357"/>
                        </a:lnTo>
                        <a:lnTo>
                          <a:pt x="1039" y="357"/>
                        </a:lnTo>
                        <a:lnTo>
                          <a:pt x="1033" y="357"/>
                        </a:lnTo>
                        <a:lnTo>
                          <a:pt x="1027" y="357"/>
                        </a:lnTo>
                        <a:lnTo>
                          <a:pt x="1019" y="357"/>
                        </a:lnTo>
                        <a:lnTo>
                          <a:pt x="1013" y="357"/>
                        </a:lnTo>
                        <a:lnTo>
                          <a:pt x="1007" y="357"/>
                        </a:lnTo>
                        <a:lnTo>
                          <a:pt x="1001" y="357"/>
                        </a:lnTo>
                        <a:lnTo>
                          <a:pt x="993" y="357"/>
                        </a:lnTo>
                        <a:lnTo>
                          <a:pt x="987" y="357"/>
                        </a:lnTo>
                        <a:lnTo>
                          <a:pt x="979" y="357"/>
                        </a:lnTo>
                        <a:lnTo>
                          <a:pt x="972" y="357"/>
                        </a:lnTo>
                        <a:lnTo>
                          <a:pt x="965" y="357"/>
                        </a:lnTo>
                        <a:lnTo>
                          <a:pt x="958" y="357"/>
                        </a:lnTo>
                        <a:lnTo>
                          <a:pt x="952" y="357"/>
                        </a:lnTo>
                        <a:lnTo>
                          <a:pt x="946" y="358"/>
                        </a:lnTo>
                        <a:lnTo>
                          <a:pt x="938" y="358"/>
                        </a:lnTo>
                        <a:lnTo>
                          <a:pt x="932" y="358"/>
                        </a:lnTo>
                        <a:lnTo>
                          <a:pt x="924" y="358"/>
                        </a:lnTo>
                        <a:lnTo>
                          <a:pt x="918" y="358"/>
                        </a:lnTo>
                        <a:lnTo>
                          <a:pt x="910" y="358"/>
                        </a:lnTo>
                        <a:lnTo>
                          <a:pt x="904" y="358"/>
                        </a:lnTo>
                        <a:lnTo>
                          <a:pt x="897" y="358"/>
                        </a:lnTo>
                        <a:lnTo>
                          <a:pt x="890" y="359"/>
                        </a:lnTo>
                        <a:lnTo>
                          <a:pt x="884" y="359"/>
                        </a:lnTo>
                        <a:lnTo>
                          <a:pt x="878" y="359"/>
                        </a:lnTo>
                        <a:lnTo>
                          <a:pt x="871" y="359"/>
                        </a:lnTo>
                        <a:lnTo>
                          <a:pt x="864" y="359"/>
                        </a:lnTo>
                        <a:lnTo>
                          <a:pt x="858" y="359"/>
                        </a:lnTo>
                        <a:lnTo>
                          <a:pt x="852" y="361"/>
                        </a:lnTo>
                        <a:lnTo>
                          <a:pt x="846" y="361"/>
                        </a:lnTo>
                        <a:lnTo>
                          <a:pt x="842" y="362"/>
                        </a:lnTo>
                        <a:lnTo>
                          <a:pt x="835" y="362"/>
                        </a:lnTo>
                        <a:lnTo>
                          <a:pt x="828" y="362"/>
                        </a:lnTo>
                        <a:lnTo>
                          <a:pt x="823" y="362"/>
                        </a:lnTo>
                        <a:lnTo>
                          <a:pt x="817" y="363"/>
                        </a:lnTo>
                        <a:lnTo>
                          <a:pt x="811" y="363"/>
                        </a:lnTo>
                        <a:lnTo>
                          <a:pt x="805" y="365"/>
                        </a:lnTo>
                        <a:lnTo>
                          <a:pt x="800" y="365"/>
                        </a:lnTo>
                        <a:lnTo>
                          <a:pt x="796" y="366"/>
                        </a:lnTo>
                        <a:lnTo>
                          <a:pt x="790" y="366"/>
                        </a:lnTo>
                        <a:lnTo>
                          <a:pt x="785" y="368"/>
                        </a:lnTo>
                        <a:lnTo>
                          <a:pt x="780" y="369"/>
                        </a:lnTo>
                        <a:lnTo>
                          <a:pt x="776" y="369"/>
                        </a:lnTo>
                        <a:lnTo>
                          <a:pt x="770" y="370"/>
                        </a:lnTo>
                        <a:lnTo>
                          <a:pt x="767" y="372"/>
                        </a:lnTo>
                        <a:lnTo>
                          <a:pt x="762" y="372"/>
                        </a:lnTo>
                        <a:lnTo>
                          <a:pt x="759" y="374"/>
                        </a:lnTo>
                        <a:lnTo>
                          <a:pt x="1054" y="368"/>
                        </a:lnTo>
                        <a:lnTo>
                          <a:pt x="872" y="399"/>
                        </a:lnTo>
                        <a:lnTo>
                          <a:pt x="874" y="399"/>
                        </a:lnTo>
                        <a:lnTo>
                          <a:pt x="877" y="399"/>
                        </a:lnTo>
                        <a:lnTo>
                          <a:pt x="880" y="399"/>
                        </a:lnTo>
                        <a:lnTo>
                          <a:pt x="884" y="399"/>
                        </a:lnTo>
                        <a:lnTo>
                          <a:pt x="890" y="399"/>
                        </a:lnTo>
                        <a:lnTo>
                          <a:pt x="892" y="399"/>
                        </a:lnTo>
                        <a:lnTo>
                          <a:pt x="895" y="399"/>
                        </a:lnTo>
                        <a:lnTo>
                          <a:pt x="900" y="399"/>
                        </a:lnTo>
                        <a:lnTo>
                          <a:pt x="903" y="399"/>
                        </a:lnTo>
                        <a:lnTo>
                          <a:pt x="906" y="399"/>
                        </a:lnTo>
                        <a:lnTo>
                          <a:pt x="910" y="399"/>
                        </a:lnTo>
                        <a:lnTo>
                          <a:pt x="913" y="399"/>
                        </a:lnTo>
                        <a:lnTo>
                          <a:pt x="918" y="399"/>
                        </a:lnTo>
                        <a:lnTo>
                          <a:pt x="921" y="399"/>
                        </a:lnTo>
                        <a:lnTo>
                          <a:pt x="926" y="399"/>
                        </a:lnTo>
                        <a:lnTo>
                          <a:pt x="930" y="399"/>
                        </a:lnTo>
                        <a:lnTo>
                          <a:pt x="935" y="399"/>
                        </a:lnTo>
                        <a:lnTo>
                          <a:pt x="938" y="399"/>
                        </a:lnTo>
                        <a:lnTo>
                          <a:pt x="944" y="399"/>
                        </a:lnTo>
                        <a:lnTo>
                          <a:pt x="949" y="399"/>
                        </a:lnTo>
                        <a:lnTo>
                          <a:pt x="953" y="399"/>
                        </a:lnTo>
                        <a:lnTo>
                          <a:pt x="958" y="399"/>
                        </a:lnTo>
                        <a:lnTo>
                          <a:pt x="962" y="399"/>
                        </a:lnTo>
                        <a:lnTo>
                          <a:pt x="967" y="399"/>
                        </a:lnTo>
                        <a:lnTo>
                          <a:pt x="972" y="399"/>
                        </a:lnTo>
                        <a:lnTo>
                          <a:pt x="976" y="399"/>
                        </a:lnTo>
                        <a:lnTo>
                          <a:pt x="981" y="399"/>
                        </a:lnTo>
                        <a:lnTo>
                          <a:pt x="985" y="399"/>
                        </a:lnTo>
                        <a:lnTo>
                          <a:pt x="990" y="399"/>
                        </a:lnTo>
                        <a:lnTo>
                          <a:pt x="994" y="399"/>
                        </a:lnTo>
                        <a:lnTo>
                          <a:pt x="999" y="399"/>
                        </a:lnTo>
                        <a:lnTo>
                          <a:pt x="1004" y="399"/>
                        </a:lnTo>
                        <a:lnTo>
                          <a:pt x="1008" y="399"/>
                        </a:lnTo>
                        <a:lnTo>
                          <a:pt x="1011" y="399"/>
                        </a:lnTo>
                        <a:lnTo>
                          <a:pt x="1016" y="399"/>
                        </a:lnTo>
                        <a:lnTo>
                          <a:pt x="1020" y="399"/>
                        </a:lnTo>
                        <a:lnTo>
                          <a:pt x="1025" y="399"/>
                        </a:lnTo>
                        <a:lnTo>
                          <a:pt x="1028" y="399"/>
                        </a:lnTo>
                        <a:lnTo>
                          <a:pt x="1033" y="399"/>
                        </a:lnTo>
                        <a:lnTo>
                          <a:pt x="1036" y="399"/>
                        </a:lnTo>
                        <a:lnTo>
                          <a:pt x="1040" y="399"/>
                        </a:lnTo>
                        <a:lnTo>
                          <a:pt x="1046" y="399"/>
                        </a:lnTo>
                        <a:lnTo>
                          <a:pt x="1053" y="399"/>
                        </a:lnTo>
                        <a:lnTo>
                          <a:pt x="1057" y="399"/>
                        </a:lnTo>
                        <a:lnTo>
                          <a:pt x="1063" y="399"/>
                        </a:lnTo>
                        <a:lnTo>
                          <a:pt x="1066" y="399"/>
                        </a:lnTo>
                        <a:lnTo>
                          <a:pt x="1069" y="399"/>
                        </a:lnTo>
                        <a:lnTo>
                          <a:pt x="1071" y="399"/>
                        </a:lnTo>
                        <a:lnTo>
                          <a:pt x="1068" y="401"/>
                        </a:lnTo>
                        <a:lnTo>
                          <a:pt x="1063" y="402"/>
                        </a:lnTo>
                        <a:lnTo>
                          <a:pt x="1060" y="403"/>
                        </a:lnTo>
                        <a:lnTo>
                          <a:pt x="1056" y="406"/>
                        </a:lnTo>
                        <a:lnTo>
                          <a:pt x="1050" y="406"/>
                        </a:lnTo>
                        <a:lnTo>
                          <a:pt x="1043" y="406"/>
                        </a:lnTo>
                        <a:lnTo>
                          <a:pt x="1037" y="407"/>
                        </a:lnTo>
                        <a:lnTo>
                          <a:pt x="1031" y="409"/>
                        </a:lnTo>
                        <a:lnTo>
                          <a:pt x="1024" y="409"/>
                        </a:lnTo>
                        <a:lnTo>
                          <a:pt x="1017" y="409"/>
                        </a:lnTo>
                        <a:lnTo>
                          <a:pt x="1011" y="410"/>
                        </a:lnTo>
                        <a:lnTo>
                          <a:pt x="1005" y="412"/>
                        </a:lnTo>
                        <a:lnTo>
                          <a:pt x="999" y="412"/>
                        </a:lnTo>
                        <a:lnTo>
                          <a:pt x="993" y="412"/>
                        </a:lnTo>
                        <a:lnTo>
                          <a:pt x="987" y="412"/>
                        </a:lnTo>
                        <a:lnTo>
                          <a:pt x="979" y="413"/>
                        </a:lnTo>
                        <a:lnTo>
                          <a:pt x="973" y="414"/>
                        </a:lnTo>
                        <a:lnTo>
                          <a:pt x="967" y="414"/>
                        </a:lnTo>
                        <a:lnTo>
                          <a:pt x="961" y="416"/>
                        </a:lnTo>
                        <a:lnTo>
                          <a:pt x="955" y="417"/>
                        </a:lnTo>
                        <a:lnTo>
                          <a:pt x="953" y="418"/>
                        </a:lnTo>
                        <a:lnTo>
                          <a:pt x="952" y="420"/>
                        </a:lnTo>
                        <a:lnTo>
                          <a:pt x="947" y="421"/>
                        </a:lnTo>
                        <a:lnTo>
                          <a:pt x="944" y="424"/>
                        </a:lnTo>
                        <a:lnTo>
                          <a:pt x="938" y="424"/>
                        </a:lnTo>
                        <a:lnTo>
                          <a:pt x="932" y="427"/>
                        </a:lnTo>
                        <a:lnTo>
                          <a:pt x="926" y="427"/>
                        </a:lnTo>
                        <a:lnTo>
                          <a:pt x="920" y="429"/>
                        </a:lnTo>
                        <a:lnTo>
                          <a:pt x="915" y="429"/>
                        </a:lnTo>
                        <a:lnTo>
                          <a:pt x="910" y="429"/>
                        </a:lnTo>
                        <a:lnTo>
                          <a:pt x="907" y="429"/>
                        </a:lnTo>
                        <a:lnTo>
                          <a:pt x="903" y="431"/>
                        </a:lnTo>
                        <a:lnTo>
                          <a:pt x="898" y="432"/>
                        </a:lnTo>
                        <a:lnTo>
                          <a:pt x="894" y="432"/>
                        </a:lnTo>
                        <a:lnTo>
                          <a:pt x="890" y="433"/>
                        </a:lnTo>
                        <a:lnTo>
                          <a:pt x="886" y="433"/>
                        </a:lnTo>
                        <a:lnTo>
                          <a:pt x="881" y="433"/>
                        </a:lnTo>
                        <a:lnTo>
                          <a:pt x="877" y="435"/>
                        </a:lnTo>
                        <a:lnTo>
                          <a:pt x="872" y="435"/>
                        </a:lnTo>
                        <a:lnTo>
                          <a:pt x="868" y="436"/>
                        </a:lnTo>
                        <a:lnTo>
                          <a:pt x="863" y="436"/>
                        </a:lnTo>
                        <a:lnTo>
                          <a:pt x="858" y="436"/>
                        </a:lnTo>
                        <a:lnTo>
                          <a:pt x="854" y="438"/>
                        </a:lnTo>
                        <a:lnTo>
                          <a:pt x="849" y="439"/>
                        </a:lnTo>
                        <a:lnTo>
                          <a:pt x="845" y="439"/>
                        </a:lnTo>
                        <a:lnTo>
                          <a:pt x="840" y="439"/>
                        </a:lnTo>
                        <a:lnTo>
                          <a:pt x="835" y="439"/>
                        </a:lnTo>
                        <a:lnTo>
                          <a:pt x="831" y="440"/>
                        </a:lnTo>
                        <a:lnTo>
                          <a:pt x="825" y="440"/>
                        </a:lnTo>
                        <a:lnTo>
                          <a:pt x="822" y="440"/>
                        </a:lnTo>
                        <a:lnTo>
                          <a:pt x="816" y="442"/>
                        </a:lnTo>
                        <a:lnTo>
                          <a:pt x="812" y="442"/>
                        </a:lnTo>
                        <a:lnTo>
                          <a:pt x="808" y="442"/>
                        </a:lnTo>
                        <a:lnTo>
                          <a:pt x="803" y="442"/>
                        </a:lnTo>
                        <a:lnTo>
                          <a:pt x="799" y="443"/>
                        </a:lnTo>
                        <a:lnTo>
                          <a:pt x="794" y="443"/>
                        </a:lnTo>
                        <a:lnTo>
                          <a:pt x="791" y="443"/>
                        </a:lnTo>
                        <a:lnTo>
                          <a:pt x="786" y="444"/>
                        </a:lnTo>
                        <a:lnTo>
                          <a:pt x="783" y="444"/>
                        </a:lnTo>
                        <a:lnTo>
                          <a:pt x="780" y="446"/>
                        </a:lnTo>
                        <a:lnTo>
                          <a:pt x="776" y="446"/>
                        </a:lnTo>
                        <a:lnTo>
                          <a:pt x="773" y="446"/>
                        </a:lnTo>
                        <a:lnTo>
                          <a:pt x="770" y="446"/>
                        </a:lnTo>
                        <a:lnTo>
                          <a:pt x="767" y="446"/>
                        </a:lnTo>
                        <a:lnTo>
                          <a:pt x="760" y="447"/>
                        </a:lnTo>
                        <a:lnTo>
                          <a:pt x="756" y="449"/>
                        </a:lnTo>
                        <a:lnTo>
                          <a:pt x="751" y="449"/>
                        </a:lnTo>
                        <a:lnTo>
                          <a:pt x="750" y="449"/>
                        </a:lnTo>
                        <a:lnTo>
                          <a:pt x="747" y="450"/>
                        </a:lnTo>
                        <a:lnTo>
                          <a:pt x="747" y="451"/>
                        </a:lnTo>
                        <a:lnTo>
                          <a:pt x="1121" y="439"/>
                        </a:lnTo>
                        <a:lnTo>
                          <a:pt x="1117" y="442"/>
                        </a:lnTo>
                        <a:lnTo>
                          <a:pt x="1112" y="443"/>
                        </a:lnTo>
                        <a:lnTo>
                          <a:pt x="1106" y="444"/>
                        </a:lnTo>
                        <a:lnTo>
                          <a:pt x="1102" y="446"/>
                        </a:lnTo>
                        <a:lnTo>
                          <a:pt x="1095" y="449"/>
                        </a:lnTo>
                        <a:lnTo>
                          <a:pt x="1091" y="450"/>
                        </a:lnTo>
                        <a:lnTo>
                          <a:pt x="1086" y="451"/>
                        </a:lnTo>
                        <a:lnTo>
                          <a:pt x="1082" y="453"/>
                        </a:lnTo>
                        <a:lnTo>
                          <a:pt x="1458" y="453"/>
                        </a:lnTo>
                        <a:lnTo>
                          <a:pt x="1452" y="450"/>
                        </a:lnTo>
                        <a:lnTo>
                          <a:pt x="1447" y="446"/>
                        </a:lnTo>
                        <a:lnTo>
                          <a:pt x="1441" y="443"/>
                        </a:lnTo>
                        <a:lnTo>
                          <a:pt x="1435" y="440"/>
                        </a:lnTo>
                        <a:lnTo>
                          <a:pt x="1432" y="438"/>
                        </a:lnTo>
                        <a:lnTo>
                          <a:pt x="1429" y="436"/>
                        </a:lnTo>
                        <a:lnTo>
                          <a:pt x="1424" y="433"/>
                        </a:lnTo>
                        <a:lnTo>
                          <a:pt x="1421" y="432"/>
                        </a:lnTo>
                        <a:lnTo>
                          <a:pt x="1418" y="429"/>
                        </a:lnTo>
                        <a:lnTo>
                          <a:pt x="1414" y="428"/>
                        </a:lnTo>
                        <a:lnTo>
                          <a:pt x="1411" y="427"/>
                        </a:lnTo>
                        <a:lnTo>
                          <a:pt x="1407" y="424"/>
                        </a:lnTo>
                        <a:lnTo>
                          <a:pt x="1403" y="421"/>
                        </a:lnTo>
                        <a:lnTo>
                          <a:pt x="1398" y="420"/>
                        </a:lnTo>
                        <a:lnTo>
                          <a:pt x="1394" y="417"/>
                        </a:lnTo>
                        <a:lnTo>
                          <a:pt x="1391" y="414"/>
                        </a:lnTo>
                        <a:lnTo>
                          <a:pt x="1386" y="412"/>
                        </a:lnTo>
                        <a:lnTo>
                          <a:pt x="1383" y="410"/>
                        </a:lnTo>
                        <a:lnTo>
                          <a:pt x="1378" y="407"/>
                        </a:lnTo>
                        <a:lnTo>
                          <a:pt x="1374" y="406"/>
                        </a:lnTo>
                        <a:lnTo>
                          <a:pt x="1371" y="403"/>
                        </a:lnTo>
                        <a:lnTo>
                          <a:pt x="1366" y="401"/>
                        </a:lnTo>
                        <a:lnTo>
                          <a:pt x="1362" y="399"/>
                        </a:lnTo>
                        <a:lnTo>
                          <a:pt x="1357" y="396"/>
                        </a:lnTo>
                        <a:lnTo>
                          <a:pt x="1354" y="394"/>
                        </a:lnTo>
                        <a:lnTo>
                          <a:pt x="1349" y="392"/>
                        </a:lnTo>
                        <a:lnTo>
                          <a:pt x="1345" y="390"/>
                        </a:lnTo>
                        <a:lnTo>
                          <a:pt x="1342" y="387"/>
                        </a:lnTo>
                        <a:lnTo>
                          <a:pt x="1337" y="384"/>
                        </a:lnTo>
                        <a:lnTo>
                          <a:pt x="1333" y="383"/>
                        </a:lnTo>
                        <a:lnTo>
                          <a:pt x="1328" y="380"/>
                        </a:lnTo>
                        <a:lnTo>
                          <a:pt x="1325" y="377"/>
                        </a:lnTo>
                        <a:lnTo>
                          <a:pt x="1320" y="374"/>
                        </a:lnTo>
                        <a:lnTo>
                          <a:pt x="1316" y="372"/>
                        </a:lnTo>
                        <a:lnTo>
                          <a:pt x="1311" y="369"/>
                        </a:lnTo>
                        <a:lnTo>
                          <a:pt x="1308" y="368"/>
                        </a:lnTo>
                        <a:lnTo>
                          <a:pt x="1303" y="365"/>
                        </a:lnTo>
                        <a:lnTo>
                          <a:pt x="1299" y="362"/>
                        </a:lnTo>
                        <a:lnTo>
                          <a:pt x="1294" y="359"/>
                        </a:lnTo>
                        <a:lnTo>
                          <a:pt x="1291" y="357"/>
                        </a:lnTo>
                        <a:lnTo>
                          <a:pt x="1288" y="354"/>
                        </a:lnTo>
                        <a:lnTo>
                          <a:pt x="1284" y="352"/>
                        </a:lnTo>
                        <a:lnTo>
                          <a:pt x="1281" y="350"/>
                        </a:lnTo>
                        <a:lnTo>
                          <a:pt x="1277" y="348"/>
                        </a:lnTo>
                        <a:lnTo>
                          <a:pt x="1273" y="346"/>
                        </a:lnTo>
                        <a:lnTo>
                          <a:pt x="1270" y="343"/>
                        </a:lnTo>
                        <a:lnTo>
                          <a:pt x="1265" y="340"/>
                        </a:lnTo>
                        <a:lnTo>
                          <a:pt x="1262" y="339"/>
                        </a:lnTo>
                        <a:lnTo>
                          <a:pt x="1256" y="333"/>
                        </a:lnTo>
                        <a:lnTo>
                          <a:pt x="1250" y="331"/>
                        </a:lnTo>
                        <a:lnTo>
                          <a:pt x="1244" y="325"/>
                        </a:lnTo>
                        <a:lnTo>
                          <a:pt x="1239" y="321"/>
                        </a:lnTo>
                        <a:lnTo>
                          <a:pt x="1235" y="318"/>
                        </a:lnTo>
                        <a:lnTo>
                          <a:pt x="1230" y="315"/>
                        </a:lnTo>
                        <a:lnTo>
                          <a:pt x="1233" y="315"/>
                        </a:lnTo>
                        <a:lnTo>
                          <a:pt x="1236" y="315"/>
                        </a:lnTo>
                        <a:lnTo>
                          <a:pt x="1238" y="318"/>
                        </a:lnTo>
                        <a:lnTo>
                          <a:pt x="1241" y="320"/>
                        </a:lnTo>
                        <a:lnTo>
                          <a:pt x="1466" y="449"/>
                        </a:lnTo>
                        <a:lnTo>
                          <a:pt x="1464" y="447"/>
                        </a:lnTo>
                        <a:lnTo>
                          <a:pt x="1463" y="446"/>
                        </a:lnTo>
                        <a:lnTo>
                          <a:pt x="1459" y="443"/>
                        </a:lnTo>
                        <a:lnTo>
                          <a:pt x="1455" y="440"/>
                        </a:lnTo>
                        <a:lnTo>
                          <a:pt x="1450" y="436"/>
                        </a:lnTo>
                        <a:lnTo>
                          <a:pt x="1446" y="432"/>
                        </a:lnTo>
                        <a:lnTo>
                          <a:pt x="1440" y="428"/>
                        </a:lnTo>
                        <a:lnTo>
                          <a:pt x="1433" y="424"/>
                        </a:lnTo>
                        <a:lnTo>
                          <a:pt x="1427" y="418"/>
                        </a:lnTo>
                        <a:lnTo>
                          <a:pt x="1421" y="414"/>
                        </a:lnTo>
                        <a:lnTo>
                          <a:pt x="1417" y="409"/>
                        </a:lnTo>
                        <a:lnTo>
                          <a:pt x="1412" y="406"/>
                        </a:lnTo>
                        <a:lnTo>
                          <a:pt x="1407" y="402"/>
                        </a:lnTo>
                        <a:lnTo>
                          <a:pt x="1404" y="401"/>
                        </a:lnTo>
                        <a:lnTo>
                          <a:pt x="1403" y="399"/>
                        </a:lnTo>
                        <a:lnTo>
                          <a:pt x="1397" y="394"/>
                        </a:lnTo>
                        <a:lnTo>
                          <a:pt x="1391" y="390"/>
                        </a:lnTo>
                        <a:lnTo>
                          <a:pt x="1385" y="384"/>
                        </a:lnTo>
                        <a:lnTo>
                          <a:pt x="1378" y="381"/>
                        </a:lnTo>
                        <a:lnTo>
                          <a:pt x="1375" y="377"/>
                        </a:lnTo>
                        <a:lnTo>
                          <a:pt x="1372" y="376"/>
                        </a:lnTo>
                        <a:lnTo>
                          <a:pt x="1368" y="373"/>
                        </a:lnTo>
                        <a:lnTo>
                          <a:pt x="1365" y="372"/>
                        </a:lnTo>
                        <a:lnTo>
                          <a:pt x="1362" y="369"/>
                        </a:lnTo>
                        <a:lnTo>
                          <a:pt x="1357" y="368"/>
                        </a:lnTo>
                        <a:lnTo>
                          <a:pt x="1354" y="365"/>
                        </a:lnTo>
                        <a:lnTo>
                          <a:pt x="1351" y="363"/>
                        </a:lnTo>
                        <a:lnTo>
                          <a:pt x="1346" y="361"/>
                        </a:lnTo>
                        <a:lnTo>
                          <a:pt x="1343" y="358"/>
                        </a:lnTo>
                        <a:lnTo>
                          <a:pt x="1339" y="357"/>
                        </a:lnTo>
                        <a:lnTo>
                          <a:pt x="1336" y="354"/>
                        </a:lnTo>
                        <a:lnTo>
                          <a:pt x="1331" y="351"/>
                        </a:lnTo>
                        <a:lnTo>
                          <a:pt x="1326" y="350"/>
                        </a:lnTo>
                        <a:lnTo>
                          <a:pt x="1323" y="347"/>
                        </a:lnTo>
                        <a:lnTo>
                          <a:pt x="1319" y="346"/>
                        </a:lnTo>
                        <a:lnTo>
                          <a:pt x="1316" y="343"/>
                        </a:lnTo>
                        <a:lnTo>
                          <a:pt x="1311" y="340"/>
                        </a:lnTo>
                        <a:lnTo>
                          <a:pt x="1307" y="339"/>
                        </a:lnTo>
                        <a:lnTo>
                          <a:pt x="1302" y="337"/>
                        </a:lnTo>
                        <a:lnTo>
                          <a:pt x="1297" y="335"/>
                        </a:lnTo>
                        <a:lnTo>
                          <a:pt x="1294" y="332"/>
                        </a:lnTo>
                        <a:lnTo>
                          <a:pt x="1290" y="331"/>
                        </a:lnTo>
                        <a:lnTo>
                          <a:pt x="1287" y="328"/>
                        </a:lnTo>
                        <a:lnTo>
                          <a:pt x="1281" y="326"/>
                        </a:lnTo>
                        <a:lnTo>
                          <a:pt x="1277" y="324"/>
                        </a:lnTo>
                        <a:lnTo>
                          <a:pt x="1273" y="321"/>
                        </a:lnTo>
                        <a:lnTo>
                          <a:pt x="1268" y="320"/>
                        </a:lnTo>
                        <a:lnTo>
                          <a:pt x="1264" y="318"/>
                        </a:lnTo>
                        <a:lnTo>
                          <a:pt x="1261" y="315"/>
                        </a:lnTo>
                        <a:lnTo>
                          <a:pt x="1256" y="313"/>
                        </a:lnTo>
                        <a:lnTo>
                          <a:pt x="1251" y="311"/>
                        </a:lnTo>
                        <a:lnTo>
                          <a:pt x="1247" y="309"/>
                        </a:lnTo>
                        <a:lnTo>
                          <a:pt x="1244" y="307"/>
                        </a:lnTo>
                        <a:lnTo>
                          <a:pt x="1239" y="304"/>
                        </a:lnTo>
                        <a:lnTo>
                          <a:pt x="1236" y="303"/>
                        </a:lnTo>
                        <a:lnTo>
                          <a:pt x="1232" y="302"/>
                        </a:lnTo>
                        <a:lnTo>
                          <a:pt x="1227" y="300"/>
                        </a:lnTo>
                        <a:lnTo>
                          <a:pt x="1224" y="298"/>
                        </a:lnTo>
                        <a:lnTo>
                          <a:pt x="1219" y="296"/>
                        </a:lnTo>
                        <a:lnTo>
                          <a:pt x="1216" y="293"/>
                        </a:lnTo>
                        <a:lnTo>
                          <a:pt x="1212" y="292"/>
                        </a:lnTo>
                        <a:lnTo>
                          <a:pt x="1209" y="291"/>
                        </a:lnTo>
                        <a:lnTo>
                          <a:pt x="1204" y="288"/>
                        </a:lnTo>
                        <a:lnTo>
                          <a:pt x="1201" y="287"/>
                        </a:lnTo>
                        <a:lnTo>
                          <a:pt x="1196" y="285"/>
                        </a:lnTo>
                        <a:lnTo>
                          <a:pt x="1193" y="284"/>
                        </a:lnTo>
                        <a:lnTo>
                          <a:pt x="1190" y="281"/>
                        </a:lnTo>
                        <a:lnTo>
                          <a:pt x="1186" y="280"/>
                        </a:lnTo>
                        <a:lnTo>
                          <a:pt x="1183" y="278"/>
                        </a:lnTo>
                        <a:lnTo>
                          <a:pt x="1180" y="277"/>
                        </a:lnTo>
                        <a:lnTo>
                          <a:pt x="1177" y="276"/>
                        </a:lnTo>
                        <a:lnTo>
                          <a:pt x="1170" y="273"/>
                        </a:lnTo>
                        <a:lnTo>
                          <a:pt x="1164" y="269"/>
                        </a:lnTo>
                        <a:lnTo>
                          <a:pt x="1158" y="265"/>
                        </a:lnTo>
                        <a:lnTo>
                          <a:pt x="1151" y="261"/>
                        </a:lnTo>
                        <a:lnTo>
                          <a:pt x="1143" y="256"/>
                        </a:lnTo>
                        <a:lnTo>
                          <a:pt x="1137" y="254"/>
                        </a:lnTo>
                        <a:lnTo>
                          <a:pt x="1129" y="248"/>
                        </a:lnTo>
                        <a:lnTo>
                          <a:pt x="1121" y="245"/>
                        </a:lnTo>
                        <a:lnTo>
                          <a:pt x="1114" y="241"/>
                        </a:lnTo>
                        <a:lnTo>
                          <a:pt x="1108" y="237"/>
                        </a:lnTo>
                        <a:lnTo>
                          <a:pt x="1100" y="233"/>
                        </a:lnTo>
                        <a:lnTo>
                          <a:pt x="1092" y="229"/>
                        </a:lnTo>
                        <a:lnTo>
                          <a:pt x="1085" y="225"/>
                        </a:lnTo>
                        <a:lnTo>
                          <a:pt x="1079" y="221"/>
                        </a:lnTo>
                        <a:lnTo>
                          <a:pt x="1071" y="217"/>
                        </a:lnTo>
                        <a:lnTo>
                          <a:pt x="1063" y="212"/>
                        </a:lnTo>
                        <a:lnTo>
                          <a:pt x="1057" y="208"/>
                        </a:lnTo>
                        <a:lnTo>
                          <a:pt x="1050" y="204"/>
                        </a:lnTo>
                        <a:lnTo>
                          <a:pt x="1042" y="200"/>
                        </a:lnTo>
                        <a:lnTo>
                          <a:pt x="1034" y="196"/>
                        </a:lnTo>
                        <a:lnTo>
                          <a:pt x="1027" y="192"/>
                        </a:lnTo>
                        <a:lnTo>
                          <a:pt x="1020" y="188"/>
                        </a:lnTo>
                        <a:lnTo>
                          <a:pt x="1013" y="184"/>
                        </a:lnTo>
                        <a:lnTo>
                          <a:pt x="1007" y="180"/>
                        </a:lnTo>
                        <a:lnTo>
                          <a:pt x="999" y="175"/>
                        </a:lnTo>
                        <a:lnTo>
                          <a:pt x="993" y="171"/>
                        </a:lnTo>
                        <a:lnTo>
                          <a:pt x="985" y="167"/>
                        </a:lnTo>
                        <a:lnTo>
                          <a:pt x="978" y="163"/>
                        </a:lnTo>
                        <a:lnTo>
                          <a:pt x="970" y="158"/>
                        </a:lnTo>
                        <a:lnTo>
                          <a:pt x="962" y="155"/>
                        </a:lnTo>
                        <a:lnTo>
                          <a:pt x="955" y="149"/>
                        </a:lnTo>
                        <a:lnTo>
                          <a:pt x="949" y="145"/>
                        </a:lnTo>
                        <a:lnTo>
                          <a:pt x="941" y="141"/>
                        </a:lnTo>
                        <a:lnTo>
                          <a:pt x="935" y="137"/>
                        </a:lnTo>
                        <a:lnTo>
                          <a:pt x="927" y="133"/>
                        </a:lnTo>
                        <a:lnTo>
                          <a:pt x="920" y="129"/>
                        </a:lnTo>
                        <a:lnTo>
                          <a:pt x="912" y="123"/>
                        </a:lnTo>
                        <a:lnTo>
                          <a:pt x="906" y="119"/>
                        </a:lnTo>
                        <a:lnTo>
                          <a:pt x="898" y="115"/>
                        </a:lnTo>
                        <a:lnTo>
                          <a:pt x="890" y="111"/>
                        </a:lnTo>
                        <a:lnTo>
                          <a:pt x="883" y="107"/>
                        </a:lnTo>
                        <a:lnTo>
                          <a:pt x="877" y="103"/>
                        </a:lnTo>
                        <a:lnTo>
                          <a:pt x="869" y="97"/>
                        </a:lnTo>
                        <a:lnTo>
                          <a:pt x="861" y="93"/>
                        </a:lnTo>
                        <a:lnTo>
                          <a:pt x="854" y="89"/>
                        </a:lnTo>
                        <a:lnTo>
                          <a:pt x="848" y="85"/>
                        </a:lnTo>
                        <a:lnTo>
                          <a:pt x="840" y="79"/>
                        </a:lnTo>
                        <a:lnTo>
                          <a:pt x="832" y="77"/>
                        </a:lnTo>
                        <a:lnTo>
                          <a:pt x="825" y="71"/>
                        </a:lnTo>
                        <a:lnTo>
                          <a:pt x="819" y="67"/>
                        </a:lnTo>
                        <a:lnTo>
                          <a:pt x="811" y="63"/>
                        </a:lnTo>
                        <a:lnTo>
                          <a:pt x="803" y="59"/>
                        </a:lnTo>
                        <a:lnTo>
                          <a:pt x="796" y="55"/>
                        </a:lnTo>
                        <a:lnTo>
                          <a:pt x="790" y="50"/>
                        </a:lnTo>
                        <a:lnTo>
                          <a:pt x="782" y="45"/>
                        </a:lnTo>
                        <a:lnTo>
                          <a:pt x="774" y="41"/>
                        </a:lnTo>
                        <a:lnTo>
                          <a:pt x="767" y="37"/>
                        </a:lnTo>
                        <a:lnTo>
                          <a:pt x="760" y="33"/>
                        </a:lnTo>
                        <a:lnTo>
                          <a:pt x="753" y="29"/>
                        </a:lnTo>
                        <a:lnTo>
                          <a:pt x="745" y="24"/>
                        </a:lnTo>
                        <a:lnTo>
                          <a:pt x="738" y="20"/>
                        </a:lnTo>
                        <a:lnTo>
                          <a:pt x="731" y="16"/>
                        </a:lnTo>
                        <a:lnTo>
                          <a:pt x="724" y="12"/>
                        </a:lnTo>
                        <a:lnTo>
                          <a:pt x="716" y="8"/>
                        </a:lnTo>
                        <a:lnTo>
                          <a:pt x="710" y="2"/>
                        </a:lnTo>
                        <a:lnTo>
                          <a:pt x="702" y="0"/>
                        </a:lnTo>
                        <a:lnTo>
                          <a:pt x="693" y="5"/>
                        </a:lnTo>
                        <a:lnTo>
                          <a:pt x="684" y="11"/>
                        </a:lnTo>
                        <a:lnTo>
                          <a:pt x="675" y="18"/>
                        </a:lnTo>
                        <a:lnTo>
                          <a:pt x="666" y="23"/>
                        </a:lnTo>
                        <a:lnTo>
                          <a:pt x="656" y="29"/>
                        </a:lnTo>
                        <a:lnTo>
                          <a:pt x="647" y="35"/>
                        </a:lnTo>
                        <a:lnTo>
                          <a:pt x="637" y="41"/>
                        </a:lnTo>
                        <a:lnTo>
                          <a:pt x="627" y="48"/>
                        </a:lnTo>
                        <a:lnTo>
                          <a:pt x="618" y="53"/>
                        </a:lnTo>
                        <a:lnTo>
                          <a:pt x="609" y="60"/>
                        </a:lnTo>
                        <a:lnTo>
                          <a:pt x="600" y="66"/>
                        </a:lnTo>
                        <a:lnTo>
                          <a:pt x="591" y="72"/>
                        </a:lnTo>
                        <a:lnTo>
                          <a:pt x="581" y="78"/>
                        </a:lnTo>
                        <a:lnTo>
                          <a:pt x="571" y="85"/>
                        </a:lnTo>
                        <a:lnTo>
                          <a:pt x="562" y="90"/>
                        </a:lnTo>
                        <a:lnTo>
                          <a:pt x="552" y="97"/>
                        </a:lnTo>
                        <a:lnTo>
                          <a:pt x="543" y="103"/>
                        </a:lnTo>
                        <a:lnTo>
                          <a:pt x="534" y="110"/>
                        </a:lnTo>
                        <a:lnTo>
                          <a:pt x="525" y="115"/>
                        </a:lnTo>
                        <a:lnTo>
                          <a:pt x="516" y="122"/>
                        </a:lnTo>
                        <a:lnTo>
                          <a:pt x="507" y="127"/>
                        </a:lnTo>
                        <a:lnTo>
                          <a:pt x="496" y="134"/>
                        </a:lnTo>
                        <a:lnTo>
                          <a:pt x="487" y="140"/>
                        </a:lnTo>
                        <a:lnTo>
                          <a:pt x="477" y="147"/>
                        </a:lnTo>
                        <a:lnTo>
                          <a:pt x="468" y="152"/>
                        </a:lnTo>
                        <a:lnTo>
                          <a:pt x="459" y="159"/>
                        </a:lnTo>
                        <a:lnTo>
                          <a:pt x="450" y="164"/>
                        </a:lnTo>
                        <a:lnTo>
                          <a:pt x="441" y="171"/>
                        </a:lnTo>
                        <a:lnTo>
                          <a:pt x="430" y="177"/>
                        </a:lnTo>
                        <a:lnTo>
                          <a:pt x="421" y="184"/>
                        </a:lnTo>
                        <a:lnTo>
                          <a:pt x="412" y="189"/>
                        </a:lnTo>
                        <a:lnTo>
                          <a:pt x="403" y="196"/>
                        </a:lnTo>
                        <a:lnTo>
                          <a:pt x="393" y="201"/>
                        </a:lnTo>
                        <a:lnTo>
                          <a:pt x="384" y="208"/>
                        </a:lnTo>
                        <a:lnTo>
                          <a:pt x="375" y="214"/>
                        </a:lnTo>
                        <a:lnTo>
                          <a:pt x="366" y="221"/>
                        </a:lnTo>
                        <a:lnTo>
                          <a:pt x="357" y="226"/>
                        </a:lnTo>
                        <a:lnTo>
                          <a:pt x="347" y="233"/>
                        </a:lnTo>
                        <a:lnTo>
                          <a:pt x="337" y="239"/>
                        </a:lnTo>
                        <a:lnTo>
                          <a:pt x="328" y="245"/>
                        </a:lnTo>
                        <a:lnTo>
                          <a:pt x="318" y="251"/>
                        </a:lnTo>
                        <a:lnTo>
                          <a:pt x="309" y="258"/>
                        </a:lnTo>
                        <a:lnTo>
                          <a:pt x="300" y="263"/>
                        </a:lnTo>
                        <a:lnTo>
                          <a:pt x="291" y="270"/>
                        </a:lnTo>
                        <a:lnTo>
                          <a:pt x="282" y="276"/>
                        </a:lnTo>
                        <a:lnTo>
                          <a:pt x="272" y="282"/>
                        </a:lnTo>
                        <a:lnTo>
                          <a:pt x="262" y="288"/>
                        </a:lnTo>
                        <a:lnTo>
                          <a:pt x="254" y="295"/>
                        </a:lnTo>
                        <a:lnTo>
                          <a:pt x="245" y="300"/>
                        </a:lnTo>
                        <a:lnTo>
                          <a:pt x="234" y="307"/>
                        </a:lnTo>
                        <a:lnTo>
                          <a:pt x="225" y="313"/>
                        </a:lnTo>
                        <a:lnTo>
                          <a:pt x="216" y="320"/>
                        </a:lnTo>
                        <a:lnTo>
                          <a:pt x="207" y="325"/>
                        </a:lnTo>
                        <a:lnTo>
                          <a:pt x="198" y="332"/>
                        </a:lnTo>
                        <a:lnTo>
                          <a:pt x="188" y="337"/>
                        </a:lnTo>
                        <a:lnTo>
                          <a:pt x="179" y="344"/>
                        </a:lnTo>
                        <a:lnTo>
                          <a:pt x="170" y="350"/>
                        </a:lnTo>
                        <a:lnTo>
                          <a:pt x="159" y="357"/>
                        </a:lnTo>
                        <a:lnTo>
                          <a:pt x="150" y="362"/>
                        </a:lnTo>
                        <a:lnTo>
                          <a:pt x="141" y="369"/>
                        </a:lnTo>
                        <a:lnTo>
                          <a:pt x="132" y="374"/>
                        </a:lnTo>
                        <a:lnTo>
                          <a:pt x="123" y="381"/>
                        </a:lnTo>
                        <a:lnTo>
                          <a:pt x="113" y="387"/>
                        </a:lnTo>
                        <a:lnTo>
                          <a:pt x="104" y="39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Freeform 255"/>
                  <p:cNvSpPr/>
                  <p:nvPr/>
                </p:nvSpPr>
                <p:spPr>
                  <a:xfrm>
                    <a:off x="4440600" y="3476880"/>
                    <a:ext cx="42480" cy="2268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22680"/>
                      <a:gd name="textAreaBottom" fmla="*/ 23040 h 22680"/>
                    </a:gdLst>
                    <a:ahLst/>
                    <a:rect l="textAreaLeft" t="textAreaTop" r="textAreaRight" b="textAreaBottom"/>
                    <a:pathLst>
                      <a:path w="294" h="175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7" y="9"/>
                        </a:lnTo>
                        <a:lnTo>
                          <a:pt x="11" y="11"/>
                        </a:lnTo>
                        <a:lnTo>
                          <a:pt x="17" y="16"/>
                        </a:lnTo>
                        <a:lnTo>
                          <a:pt x="20" y="17"/>
                        </a:lnTo>
                        <a:lnTo>
                          <a:pt x="23" y="20"/>
                        </a:lnTo>
                        <a:lnTo>
                          <a:pt x="28" y="22"/>
                        </a:lnTo>
                        <a:lnTo>
                          <a:pt x="33" y="25"/>
                        </a:lnTo>
                        <a:lnTo>
                          <a:pt x="36" y="28"/>
                        </a:lnTo>
                        <a:lnTo>
                          <a:pt x="40" y="31"/>
                        </a:lnTo>
                        <a:lnTo>
                          <a:pt x="45" y="33"/>
                        </a:lnTo>
                        <a:lnTo>
                          <a:pt x="51" y="37"/>
                        </a:lnTo>
                        <a:lnTo>
                          <a:pt x="55" y="40"/>
                        </a:lnTo>
                        <a:lnTo>
                          <a:pt x="60" y="43"/>
                        </a:lnTo>
                        <a:lnTo>
                          <a:pt x="66" y="46"/>
                        </a:lnTo>
                        <a:lnTo>
                          <a:pt x="72" y="50"/>
                        </a:lnTo>
                        <a:lnTo>
                          <a:pt x="78" y="53"/>
                        </a:lnTo>
                        <a:lnTo>
                          <a:pt x="85" y="57"/>
                        </a:lnTo>
                        <a:lnTo>
                          <a:pt x="91" y="61"/>
                        </a:lnTo>
                        <a:lnTo>
                          <a:pt x="97" y="64"/>
                        </a:lnTo>
                        <a:lnTo>
                          <a:pt x="103" y="68"/>
                        </a:lnTo>
                        <a:lnTo>
                          <a:pt x="109" y="72"/>
                        </a:lnTo>
                        <a:lnTo>
                          <a:pt x="117" y="76"/>
                        </a:lnTo>
                        <a:lnTo>
                          <a:pt x="123" y="79"/>
                        </a:lnTo>
                        <a:lnTo>
                          <a:pt x="129" y="83"/>
                        </a:lnTo>
                        <a:lnTo>
                          <a:pt x="137" y="87"/>
                        </a:lnTo>
                        <a:lnTo>
                          <a:pt x="143" y="91"/>
                        </a:lnTo>
                        <a:lnTo>
                          <a:pt x="150" y="95"/>
                        </a:lnTo>
                        <a:lnTo>
                          <a:pt x="156" y="98"/>
                        </a:lnTo>
                        <a:lnTo>
                          <a:pt x="163" y="102"/>
                        </a:lnTo>
                        <a:lnTo>
                          <a:pt x="169" y="106"/>
                        </a:lnTo>
                        <a:lnTo>
                          <a:pt x="175" y="110"/>
                        </a:lnTo>
                        <a:lnTo>
                          <a:pt x="181" y="113"/>
                        </a:lnTo>
                        <a:lnTo>
                          <a:pt x="187" y="117"/>
                        </a:lnTo>
                        <a:lnTo>
                          <a:pt x="195" y="120"/>
                        </a:lnTo>
                        <a:lnTo>
                          <a:pt x="201" y="124"/>
                        </a:lnTo>
                        <a:lnTo>
                          <a:pt x="207" y="128"/>
                        </a:lnTo>
                        <a:lnTo>
                          <a:pt x="213" y="131"/>
                        </a:lnTo>
                        <a:lnTo>
                          <a:pt x="219" y="135"/>
                        </a:lnTo>
                        <a:lnTo>
                          <a:pt x="225" y="138"/>
                        </a:lnTo>
                        <a:lnTo>
                          <a:pt x="230" y="140"/>
                        </a:lnTo>
                        <a:lnTo>
                          <a:pt x="236" y="145"/>
                        </a:lnTo>
                        <a:lnTo>
                          <a:pt x="241" y="147"/>
                        </a:lnTo>
                        <a:lnTo>
                          <a:pt x="247" y="150"/>
                        </a:lnTo>
                        <a:lnTo>
                          <a:pt x="251" y="153"/>
                        </a:lnTo>
                        <a:lnTo>
                          <a:pt x="256" y="154"/>
                        </a:lnTo>
                        <a:lnTo>
                          <a:pt x="260" y="157"/>
                        </a:lnTo>
                        <a:lnTo>
                          <a:pt x="265" y="160"/>
                        </a:lnTo>
                        <a:lnTo>
                          <a:pt x="268" y="162"/>
                        </a:lnTo>
                        <a:lnTo>
                          <a:pt x="273" y="164"/>
                        </a:lnTo>
                        <a:lnTo>
                          <a:pt x="276" y="167"/>
                        </a:lnTo>
                        <a:lnTo>
                          <a:pt x="280" y="168"/>
                        </a:lnTo>
                        <a:lnTo>
                          <a:pt x="285" y="171"/>
                        </a:lnTo>
                        <a:lnTo>
                          <a:pt x="289" y="173"/>
                        </a:lnTo>
                        <a:lnTo>
                          <a:pt x="293" y="175"/>
                        </a:lnTo>
                        <a:lnTo>
                          <a:pt x="294" y="175"/>
                        </a:lnTo>
                        <a:lnTo>
                          <a:pt x="289" y="171"/>
                        </a:lnTo>
                        <a:lnTo>
                          <a:pt x="277" y="164"/>
                        </a:lnTo>
                        <a:lnTo>
                          <a:pt x="247" y="143"/>
                        </a:lnTo>
                        <a:lnTo>
                          <a:pt x="178" y="107"/>
                        </a:lnTo>
                        <a:lnTo>
                          <a:pt x="173" y="103"/>
                        </a:lnTo>
                        <a:lnTo>
                          <a:pt x="167" y="101"/>
                        </a:lnTo>
                        <a:lnTo>
                          <a:pt x="161" y="97"/>
                        </a:lnTo>
                        <a:lnTo>
                          <a:pt x="156" y="92"/>
                        </a:lnTo>
                        <a:lnTo>
                          <a:pt x="150" y="90"/>
                        </a:lnTo>
                        <a:lnTo>
                          <a:pt x="146" y="86"/>
                        </a:lnTo>
                        <a:lnTo>
                          <a:pt x="140" y="83"/>
                        </a:lnTo>
                        <a:lnTo>
                          <a:pt x="135" y="79"/>
                        </a:lnTo>
                        <a:lnTo>
                          <a:pt x="129" y="76"/>
                        </a:lnTo>
                        <a:lnTo>
                          <a:pt x="123" y="72"/>
                        </a:lnTo>
                        <a:lnTo>
                          <a:pt x="118" y="68"/>
                        </a:lnTo>
                        <a:lnTo>
                          <a:pt x="114" y="65"/>
                        </a:lnTo>
                        <a:lnTo>
                          <a:pt x="107" y="61"/>
                        </a:lnTo>
                        <a:lnTo>
                          <a:pt x="103" y="58"/>
                        </a:lnTo>
                        <a:lnTo>
                          <a:pt x="97" y="54"/>
                        </a:lnTo>
                        <a:lnTo>
                          <a:pt x="92" y="51"/>
                        </a:lnTo>
                        <a:lnTo>
                          <a:pt x="86" y="47"/>
                        </a:lnTo>
                        <a:lnTo>
                          <a:pt x="81" y="44"/>
                        </a:lnTo>
                        <a:lnTo>
                          <a:pt x="75" y="40"/>
                        </a:lnTo>
                        <a:lnTo>
                          <a:pt x="71" y="37"/>
                        </a:lnTo>
                        <a:lnTo>
                          <a:pt x="65" y="33"/>
                        </a:lnTo>
                        <a:lnTo>
                          <a:pt x="59" y="31"/>
                        </a:lnTo>
                        <a:lnTo>
                          <a:pt x="54" y="27"/>
                        </a:lnTo>
                        <a:lnTo>
                          <a:pt x="48" y="24"/>
                        </a:lnTo>
                        <a:lnTo>
                          <a:pt x="43" y="21"/>
                        </a:lnTo>
                        <a:lnTo>
                          <a:pt x="37" y="17"/>
                        </a:lnTo>
                        <a:lnTo>
                          <a:pt x="31" y="14"/>
                        </a:lnTo>
                        <a:lnTo>
                          <a:pt x="26" y="11"/>
                        </a:lnTo>
                        <a:lnTo>
                          <a:pt x="20" y="9"/>
                        </a:lnTo>
                        <a:lnTo>
                          <a:pt x="14" y="6"/>
                        </a:lnTo>
                        <a:lnTo>
                          <a:pt x="10" y="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256"/>
                  <p:cNvSpPr/>
                  <p:nvPr/>
                </p:nvSpPr>
                <p:spPr>
                  <a:xfrm>
                    <a:off x="4350960" y="3494520"/>
                    <a:ext cx="43200" cy="2484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299" h="190">
                        <a:moveTo>
                          <a:pt x="0" y="190"/>
                        </a:moveTo>
                        <a:lnTo>
                          <a:pt x="3" y="188"/>
                        </a:lnTo>
                        <a:lnTo>
                          <a:pt x="8" y="185"/>
                        </a:lnTo>
                        <a:lnTo>
                          <a:pt x="13" y="181"/>
                        </a:lnTo>
                        <a:lnTo>
                          <a:pt x="17" y="178"/>
                        </a:lnTo>
                        <a:lnTo>
                          <a:pt x="22" y="175"/>
                        </a:lnTo>
                        <a:lnTo>
                          <a:pt x="26" y="173"/>
                        </a:lnTo>
                        <a:lnTo>
                          <a:pt x="31" y="170"/>
                        </a:lnTo>
                        <a:lnTo>
                          <a:pt x="36" y="167"/>
                        </a:lnTo>
                        <a:lnTo>
                          <a:pt x="40" y="163"/>
                        </a:lnTo>
                        <a:lnTo>
                          <a:pt x="45" y="160"/>
                        </a:lnTo>
                        <a:lnTo>
                          <a:pt x="48" y="156"/>
                        </a:lnTo>
                        <a:lnTo>
                          <a:pt x="54" y="153"/>
                        </a:lnTo>
                        <a:lnTo>
                          <a:pt x="59" y="151"/>
                        </a:lnTo>
                        <a:lnTo>
                          <a:pt x="63" y="146"/>
                        </a:lnTo>
                        <a:lnTo>
                          <a:pt x="68" y="144"/>
                        </a:lnTo>
                        <a:lnTo>
                          <a:pt x="72" y="141"/>
                        </a:lnTo>
                        <a:lnTo>
                          <a:pt x="75" y="137"/>
                        </a:lnTo>
                        <a:lnTo>
                          <a:pt x="81" y="134"/>
                        </a:lnTo>
                        <a:lnTo>
                          <a:pt x="85" y="131"/>
                        </a:lnTo>
                        <a:lnTo>
                          <a:pt x="91" y="127"/>
                        </a:lnTo>
                        <a:lnTo>
                          <a:pt x="95" y="124"/>
                        </a:lnTo>
                        <a:lnTo>
                          <a:pt x="100" y="120"/>
                        </a:lnTo>
                        <a:lnTo>
                          <a:pt x="104" y="118"/>
                        </a:lnTo>
                        <a:lnTo>
                          <a:pt x="109" y="114"/>
                        </a:lnTo>
                        <a:lnTo>
                          <a:pt x="114" y="111"/>
                        </a:lnTo>
                        <a:lnTo>
                          <a:pt x="118" y="107"/>
                        </a:lnTo>
                        <a:lnTo>
                          <a:pt x="123" y="104"/>
                        </a:lnTo>
                        <a:lnTo>
                          <a:pt x="129" y="100"/>
                        </a:lnTo>
                        <a:lnTo>
                          <a:pt x="133" y="97"/>
                        </a:lnTo>
                        <a:lnTo>
                          <a:pt x="138" y="93"/>
                        </a:lnTo>
                        <a:lnTo>
                          <a:pt x="143" y="90"/>
                        </a:lnTo>
                        <a:lnTo>
                          <a:pt x="147" y="87"/>
                        </a:lnTo>
                        <a:lnTo>
                          <a:pt x="152" y="83"/>
                        </a:lnTo>
                        <a:lnTo>
                          <a:pt x="158" y="81"/>
                        </a:lnTo>
                        <a:lnTo>
                          <a:pt x="161" y="76"/>
                        </a:lnTo>
                        <a:lnTo>
                          <a:pt x="167" y="74"/>
                        </a:lnTo>
                        <a:lnTo>
                          <a:pt x="172" y="70"/>
                        </a:lnTo>
                        <a:lnTo>
                          <a:pt x="176" y="67"/>
                        </a:lnTo>
                        <a:lnTo>
                          <a:pt x="181" y="63"/>
                        </a:lnTo>
                        <a:lnTo>
                          <a:pt x="185" y="60"/>
                        </a:lnTo>
                        <a:lnTo>
                          <a:pt x="190" y="57"/>
                        </a:lnTo>
                        <a:lnTo>
                          <a:pt x="195" y="53"/>
                        </a:lnTo>
                        <a:lnTo>
                          <a:pt x="201" y="50"/>
                        </a:lnTo>
                        <a:lnTo>
                          <a:pt x="205" y="48"/>
                        </a:lnTo>
                        <a:lnTo>
                          <a:pt x="210" y="45"/>
                        </a:lnTo>
                        <a:lnTo>
                          <a:pt x="216" y="41"/>
                        </a:lnTo>
                        <a:lnTo>
                          <a:pt x="219" y="38"/>
                        </a:lnTo>
                        <a:lnTo>
                          <a:pt x="225" y="35"/>
                        </a:lnTo>
                        <a:lnTo>
                          <a:pt x="230" y="33"/>
                        </a:lnTo>
                        <a:lnTo>
                          <a:pt x="234" y="30"/>
                        </a:lnTo>
                        <a:lnTo>
                          <a:pt x="239" y="27"/>
                        </a:lnTo>
                        <a:lnTo>
                          <a:pt x="244" y="24"/>
                        </a:lnTo>
                        <a:lnTo>
                          <a:pt x="248" y="22"/>
                        </a:lnTo>
                        <a:lnTo>
                          <a:pt x="254" y="20"/>
                        </a:lnTo>
                        <a:lnTo>
                          <a:pt x="259" y="16"/>
                        </a:lnTo>
                        <a:lnTo>
                          <a:pt x="264" y="15"/>
                        </a:lnTo>
                        <a:lnTo>
                          <a:pt x="268" y="12"/>
                        </a:lnTo>
                        <a:lnTo>
                          <a:pt x="274" y="9"/>
                        </a:lnTo>
                        <a:lnTo>
                          <a:pt x="279" y="8"/>
                        </a:lnTo>
                        <a:lnTo>
                          <a:pt x="288" y="4"/>
                        </a:lnTo>
                        <a:lnTo>
                          <a:pt x="299" y="0"/>
                        </a:lnTo>
                        <a:lnTo>
                          <a:pt x="288" y="5"/>
                        </a:lnTo>
                        <a:lnTo>
                          <a:pt x="279" y="9"/>
                        </a:lnTo>
                        <a:lnTo>
                          <a:pt x="274" y="12"/>
                        </a:lnTo>
                        <a:lnTo>
                          <a:pt x="271" y="15"/>
                        </a:lnTo>
                        <a:lnTo>
                          <a:pt x="267" y="16"/>
                        </a:lnTo>
                        <a:lnTo>
                          <a:pt x="262" y="20"/>
                        </a:lnTo>
                        <a:lnTo>
                          <a:pt x="257" y="23"/>
                        </a:lnTo>
                        <a:lnTo>
                          <a:pt x="253" y="26"/>
                        </a:lnTo>
                        <a:lnTo>
                          <a:pt x="248" y="28"/>
                        </a:lnTo>
                        <a:lnTo>
                          <a:pt x="244" y="33"/>
                        </a:lnTo>
                        <a:lnTo>
                          <a:pt x="238" y="35"/>
                        </a:lnTo>
                        <a:lnTo>
                          <a:pt x="233" y="38"/>
                        </a:lnTo>
                        <a:lnTo>
                          <a:pt x="228" y="42"/>
                        </a:lnTo>
                        <a:lnTo>
                          <a:pt x="222" y="45"/>
                        </a:lnTo>
                        <a:lnTo>
                          <a:pt x="218" y="49"/>
                        </a:lnTo>
                        <a:lnTo>
                          <a:pt x="211" y="53"/>
                        </a:lnTo>
                        <a:lnTo>
                          <a:pt x="207" y="56"/>
                        </a:lnTo>
                        <a:lnTo>
                          <a:pt x="202" y="60"/>
                        </a:lnTo>
                        <a:lnTo>
                          <a:pt x="196" y="64"/>
                        </a:lnTo>
                        <a:lnTo>
                          <a:pt x="192" y="68"/>
                        </a:lnTo>
                        <a:lnTo>
                          <a:pt x="185" y="71"/>
                        </a:lnTo>
                        <a:lnTo>
                          <a:pt x="179" y="75"/>
                        </a:lnTo>
                        <a:lnTo>
                          <a:pt x="175" y="79"/>
                        </a:lnTo>
                        <a:lnTo>
                          <a:pt x="169" y="83"/>
                        </a:lnTo>
                        <a:lnTo>
                          <a:pt x="164" y="87"/>
                        </a:lnTo>
                        <a:lnTo>
                          <a:pt x="158" y="90"/>
                        </a:lnTo>
                        <a:lnTo>
                          <a:pt x="152" y="94"/>
                        </a:lnTo>
                        <a:lnTo>
                          <a:pt x="147" y="100"/>
                        </a:lnTo>
                        <a:lnTo>
                          <a:pt x="141" y="103"/>
                        </a:lnTo>
                        <a:lnTo>
                          <a:pt x="137" y="107"/>
                        </a:lnTo>
                        <a:lnTo>
                          <a:pt x="130" y="111"/>
                        </a:lnTo>
                        <a:lnTo>
                          <a:pt x="124" y="115"/>
                        </a:lnTo>
                        <a:lnTo>
                          <a:pt x="120" y="118"/>
                        </a:lnTo>
                        <a:lnTo>
                          <a:pt x="114" y="122"/>
                        </a:lnTo>
                        <a:lnTo>
                          <a:pt x="107" y="126"/>
                        </a:lnTo>
                        <a:lnTo>
                          <a:pt x="103" y="130"/>
                        </a:lnTo>
                        <a:lnTo>
                          <a:pt x="97" y="133"/>
                        </a:lnTo>
                        <a:lnTo>
                          <a:pt x="92" y="137"/>
                        </a:lnTo>
                        <a:lnTo>
                          <a:pt x="86" y="140"/>
                        </a:lnTo>
                        <a:lnTo>
                          <a:pt x="81" y="144"/>
                        </a:lnTo>
                        <a:lnTo>
                          <a:pt x="75" y="146"/>
                        </a:lnTo>
                        <a:lnTo>
                          <a:pt x="72" y="151"/>
                        </a:lnTo>
                        <a:lnTo>
                          <a:pt x="66" y="153"/>
                        </a:lnTo>
                        <a:lnTo>
                          <a:pt x="62" y="157"/>
                        </a:lnTo>
                        <a:lnTo>
                          <a:pt x="57" y="160"/>
                        </a:lnTo>
                        <a:lnTo>
                          <a:pt x="52" y="163"/>
                        </a:lnTo>
                        <a:lnTo>
                          <a:pt x="48" y="166"/>
                        </a:lnTo>
                        <a:lnTo>
                          <a:pt x="43" y="168"/>
                        </a:lnTo>
                        <a:lnTo>
                          <a:pt x="39" y="171"/>
                        </a:lnTo>
                        <a:lnTo>
                          <a:pt x="34" y="174"/>
                        </a:lnTo>
                        <a:lnTo>
                          <a:pt x="31" y="175"/>
                        </a:lnTo>
                        <a:lnTo>
                          <a:pt x="28" y="178"/>
                        </a:lnTo>
                        <a:lnTo>
                          <a:pt x="23" y="181"/>
                        </a:lnTo>
                        <a:lnTo>
                          <a:pt x="19" y="182"/>
                        </a:lnTo>
                        <a:lnTo>
                          <a:pt x="16" y="184"/>
                        </a:lnTo>
                        <a:lnTo>
                          <a:pt x="13" y="186"/>
                        </a:lnTo>
                        <a:lnTo>
                          <a:pt x="7" y="189"/>
                        </a:lnTo>
                        <a:lnTo>
                          <a:pt x="0" y="19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257"/>
                  <p:cNvSpPr/>
                  <p:nvPr/>
                </p:nvSpPr>
                <p:spPr>
                  <a:xfrm>
                    <a:off x="4353840" y="3519360"/>
                    <a:ext cx="7200" cy="7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51" h="6">
                        <a:moveTo>
                          <a:pt x="42" y="0"/>
                        </a:moveTo>
                        <a:lnTo>
                          <a:pt x="0" y="3"/>
                        </a:lnTo>
                        <a:lnTo>
                          <a:pt x="5" y="4"/>
                        </a:lnTo>
                        <a:lnTo>
                          <a:pt x="11" y="6"/>
                        </a:lnTo>
                        <a:lnTo>
                          <a:pt x="14" y="6"/>
                        </a:lnTo>
                        <a:lnTo>
                          <a:pt x="20" y="6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35" y="6"/>
                        </a:lnTo>
                        <a:lnTo>
                          <a:pt x="42" y="6"/>
                        </a:lnTo>
                        <a:lnTo>
                          <a:pt x="51" y="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258"/>
                  <p:cNvSpPr/>
                  <p:nvPr/>
                </p:nvSpPr>
                <p:spPr>
                  <a:xfrm>
                    <a:off x="4474080" y="3488040"/>
                    <a:ext cx="6840" cy="3600"/>
                  </a:xfrm>
                  <a:custGeom>
                    <a:avLst/>
                    <a:gdLst>
                      <a:gd name="textAreaLeft" fmla="*/ 0 w 6840"/>
                      <a:gd name="textAreaRight" fmla="*/ 7200 w 6840"/>
                      <a:gd name="textAreaTop" fmla="*/ 0 h 3600"/>
                      <a:gd name="textAreaBottom" fmla="*/ 3960 h 3600"/>
                    </a:gdLst>
                    <a:ahLst/>
                    <a:rect l="textAreaLeft" t="textAreaTop" r="textAreaRight" b="textAreaBottom"/>
                    <a:pathLst>
                      <a:path w="49" h="30">
                        <a:moveTo>
                          <a:pt x="41" y="30"/>
                        </a:moveTo>
                        <a:lnTo>
                          <a:pt x="49" y="26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3" y="5"/>
                        </a:lnTo>
                        <a:lnTo>
                          <a:pt x="14" y="12"/>
                        </a:lnTo>
                        <a:lnTo>
                          <a:pt x="20" y="17"/>
                        </a:lnTo>
                        <a:lnTo>
                          <a:pt x="26" y="21"/>
                        </a:lnTo>
                        <a:lnTo>
                          <a:pt x="30" y="23"/>
                        </a:lnTo>
                        <a:lnTo>
                          <a:pt x="33" y="26"/>
                        </a:lnTo>
                        <a:lnTo>
                          <a:pt x="38" y="27"/>
                        </a:lnTo>
                        <a:lnTo>
                          <a:pt x="41" y="3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259"/>
                  <p:cNvSpPr/>
                  <p:nvPr/>
                </p:nvSpPr>
                <p:spPr>
                  <a:xfrm>
                    <a:off x="4493160" y="3519360"/>
                    <a:ext cx="19440" cy="108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136" h="10">
                        <a:moveTo>
                          <a:pt x="136" y="0"/>
                        </a:moveTo>
                        <a:lnTo>
                          <a:pt x="131" y="0"/>
                        </a:lnTo>
                        <a:lnTo>
                          <a:pt x="127" y="0"/>
                        </a:lnTo>
                        <a:lnTo>
                          <a:pt x="122" y="0"/>
                        </a:lnTo>
                        <a:lnTo>
                          <a:pt x="118" y="0"/>
                        </a:lnTo>
                        <a:lnTo>
                          <a:pt x="113" y="0"/>
                        </a:lnTo>
                        <a:lnTo>
                          <a:pt x="109" y="0"/>
                        </a:lnTo>
                        <a:lnTo>
                          <a:pt x="104" y="0"/>
                        </a:lnTo>
                        <a:lnTo>
                          <a:pt x="101" y="0"/>
                        </a:lnTo>
                        <a:lnTo>
                          <a:pt x="96" y="0"/>
                        </a:lnTo>
                        <a:lnTo>
                          <a:pt x="92" y="0"/>
                        </a:lnTo>
                        <a:lnTo>
                          <a:pt x="87" y="0"/>
                        </a:lnTo>
                        <a:lnTo>
                          <a:pt x="84" y="0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0" y="0"/>
                        </a:lnTo>
                        <a:lnTo>
                          <a:pt x="67" y="0"/>
                        </a:lnTo>
                        <a:lnTo>
                          <a:pt x="63" y="0"/>
                        </a:lnTo>
                        <a:lnTo>
                          <a:pt x="58" y="0"/>
                        </a:lnTo>
                        <a:lnTo>
                          <a:pt x="53" y="0"/>
                        </a:lnTo>
                        <a:lnTo>
                          <a:pt x="50" y="0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7" y="2"/>
                        </a:lnTo>
                        <a:lnTo>
                          <a:pt x="34" y="2"/>
                        </a:lnTo>
                        <a:lnTo>
                          <a:pt x="29" y="2"/>
                        </a:lnTo>
                        <a:lnTo>
                          <a:pt x="24" y="3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2" y="4"/>
                        </a:lnTo>
                        <a:lnTo>
                          <a:pt x="8" y="6"/>
                        </a:lnTo>
                        <a:lnTo>
                          <a:pt x="3" y="6"/>
                        </a:lnTo>
                        <a:lnTo>
                          <a:pt x="0" y="9"/>
                        </a:lnTo>
                        <a:lnTo>
                          <a:pt x="27" y="10"/>
                        </a:lnTo>
                        <a:lnTo>
                          <a:pt x="31" y="9"/>
                        </a:lnTo>
                        <a:lnTo>
                          <a:pt x="35" y="6"/>
                        </a:lnTo>
                        <a:lnTo>
                          <a:pt x="41" y="6"/>
                        </a:lnTo>
                        <a:lnTo>
                          <a:pt x="47" y="6"/>
                        </a:lnTo>
                        <a:lnTo>
                          <a:pt x="55" y="6"/>
                        </a:lnTo>
                        <a:lnTo>
                          <a:pt x="58" y="6"/>
                        </a:lnTo>
                        <a:lnTo>
                          <a:pt x="61" y="6"/>
                        </a:lnTo>
                        <a:lnTo>
                          <a:pt x="66" y="6"/>
                        </a:lnTo>
                        <a:lnTo>
                          <a:pt x="69" y="7"/>
                        </a:lnTo>
                        <a:lnTo>
                          <a:pt x="73" y="7"/>
                        </a:lnTo>
                        <a:lnTo>
                          <a:pt x="76" y="9"/>
                        </a:lnTo>
                        <a:lnTo>
                          <a:pt x="81" y="9"/>
                        </a:lnTo>
                        <a:lnTo>
                          <a:pt x="84" y="9"/>
                        </a:lnTo>
                        <a:lnTo>
                          <a:pt x="87" y="9"/>
                        </a:lnTo>
                        <a:lnTo>
                          <a:pt x="92" y="10"/>
                        </a:lnTo>
                        <a:lnTo>
                          <a:pt x="95" y="10"/>
                        </a:lnTo>
                        <a:lnTo>
                          <a:pt x="99" y="10"/>
                        </a:lnTo>
                        <a:lnTo>
                          <a:pt x="102" y="10"/>
                        </a:lnTo>
                        <a:lnTo>
                          <a:pt x="105" y="10"/>
                        </a:lnTo>
                        <a:lnTo>
                          <a:pt x="109" y="10"/>
                        </a:lnTo>
                        <a:lnTo>
                          <a:pt x="113" y="10"/>
                        </a:lnTo>
                        <a:lnTo>
                          <a:pt x="119" y="9"/>
                        </a:lnTo>
                        <a:lnTo>
                          <a:pt x="125" y="7"/>
                        </a:lnTo>
                        <a:lnTo>
                          <a:pt x="130" y="4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260"/>
                  <p:cNvSpPr/>
                  <p:nvPr/>
                </p:nvSpPr>
                <p:spPr>
                  <a:xfrm>
                    <a:off x="4483080" y="3493080"/>
                    <a:ext cx="16200" cy="79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3" h="62">
                        <a:moveTo>
                          <a:pt x="0" y="0"/>
                        </a:moveTo>
                        <a:lnTo>
                          <a:pt x="113" y="62"/>
                        </a:lnTo>
                        <a:lnTo>
                          <a:pt x="112" y="61"/>
                        </a:lnTo>
                        <a:lnTo>
                          <a:pt x="107" y="61"/>
                        </a:lnTo>
                        <a:lnTo>
                          <a:pt x="104" y="59"/>
                        </a:lnTo>
                        <a:lnTo>
                          <a:pt x="103" y="59"/>
                        </a:lnTo>
                        <a:lnTo>
                          <a:pt x="100" y="58"/>
                        </a:lnTo>
                        <a:lnTo>
                          <a:pt x="96" y="58"/>
                        </a:lnTo>
                        <a:lnTo>
                          <a:pt x="92" y="57"/>
                        </a:lnTo>
                        <a:lnTo>
                          <a:pt x="87" y="55"/>
                        </a:lnTo>
                        <a:lnTo>
                          <a:pt x="84" y="54"/>
                        </a:lnTo>
                        <a:lnTo>
                          <a:pt x="80" y="52"/>
                        </a:lnTo>
                        <a:lnTo>
                          <a:pt x="75" y="50"/>
                        </a:lnTo>
                        <a:lnTo>
                          <a:pt x="72" y="48"/>
                        </a:lnTo>
                        <a:lnTo>
                          <a:pt x="67" y="46"/>
                        </a:lnTo>
                        <a:lnTo>
                          <a:pt x="63" y="44"/>
                        </a:lnTo>
                        <a:lnTo>
                          <a:pt x="57" y="40"/>
                        </a:lnTo>
                        <a:lnTo>
                          <a:pt x="52" y="37"/>
                        </a:lnTo>
                        <a:lnTo>
                          <a:pt x="46" y="33"/>
                        </a:lnTo>
                        <a:lnTo>
                          <a:pt x="41" y="31"/>
                        </a:lnTo>
                        <a:lnTo>
                          <a:pt x="35" y="26"/>
                        </a:lnTo>
                        <a:lnTo>
                          <a:pt x="31" y="22"/>
                        </a:lnTo>
                        <a:lnTo>
                          <a:pt x="25" y="20"/>
                        </a:lnTo>
                        <a:lnTo>
                          <a:pt x="21" y="17"/>
                        </a:lnTo>
                        <a:lnTo>
                          <a:pt x="17" y="13"/>
                        </a:lnTo>
                        <a:lnTo>
                          <a:pt x="12" y="10"/>
                        </a:lnTo>
                        <a:lnTo>
                          <a:pt x="9" y="7"/>
                        </a:lnTo>
                        <a:lnTo>
                          <a:pt x="6" y="6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261"/>
                  <p:cNvSpPr/>
                  <p:nvPr/>
                </p:nvSpPr>
                <p:spPr>
                  <a:xfrm>
                    <a:off x="4409640" y="3463560"/>
                    <a:ext cx="20880" cy="126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44" h="96">
                        <a:moveTo>
                          <a:pt x="144" y="0"/>
                        </a:moveTo>
                        <a:lnTo>
                          <a:pt x="139" y="3"/>
                        </a:lnTo>
                        <a:lnTo>
                          <a:pt x="135" y="6"/>
                        </a:lnTo>
                        <a:lnTo>
                          <a:pt x="130" y="8"/>
                        </a:lnTo>
                        <a:lnTo>
                          <a:pt x="126" y="11"/>
                        </a:lnTo>
                        <a:lnTo>
                          <a:pt x="121" y="15"/>
                        </a:lnTo>
                        <a:lnTo>
                          <a:pt x="116" y="18"/>
                        </a:lnTo>
                        <a:lnTo>
                          <a:pt x="112" y="21"/>
                        </a:lnTo>
                        <a:lnTo>
                          <a:pt x="107" y="24"/>
                        </a:lnTo>
                        <a:lnTo>
                          <a:pt x="103" y="26"/>
                        </a:lnTo>
                        <a:lnTo>
                          <a:pt x="98" y="29"/>
                        </a:lnTo>
                        <a:lnTo>
                          <a:pt x="94" y="32"/>
                        </a:lnTo>
                        <a:lnTo>
                          <a:pt x="90" y="36"/>
                        </a:lnTo>
                        <a:lnTo>
                          <a:pt x="84" y="39"/>
                        </a:lnTo>
                        <a:lnTo>
                          <a:pt x="80" y="41"/>
                        </a:lnTo>
                        <a:lnTo>
                          <a:pt x="75" y="44"/>
                        </a:lnTo>
                        <a:lnTo>
                          <a:pt x="72" y="47"/>
                        </a:lnTo>
                        <a:lnTo>
                          <a:pt x="66" y="50"/>
                        </a:lnTo>
                        <a:lnTo>
                          <a:pt x="61" y="52"/>
                        </a:lnTo>
                        <a:lnTo>
                          <a:pt x="57" y="55"/>
                        </a:lnTo>
                        <a:lnTo>
                          <a:pt x="52" y="59"/>
                        </a:lnTo>
                        <a:lnTo>
                          <a:pt x="48" y="62"/>
                        </a:lnTo>
                        <a:lnTo>
                          <a:pt x="45" y="65"/>
                        </a:lnTo>
                        <a:lnTo>
                          <a:pt x="38" y="67"/>
                        </a:lnTo>
                        <a:lnTo>
                          <a:pt x="35" y="70"/>
                        </a:lnTo>
                        <a:lnTo>
                          <a:pt x="31" y="73"/>
                        </a:lnTo>
                        <a:lnTo>
                          <a:pt x="26" y="77"/>
                        </a:lnTo>
                        <a:lnTo>
                          <a:pt x="22" y="80"/>
                        </a:lnTo>
                        <a:lnTo>
                          <a:pt x="17" y="83"/>
                        </a:lnTo>
                        <a:lnTo>
                          <a:pt x="14" y="85"/>
                        </a:lnTo>
                        <a:lnTo>
                          <a:pt x="9" y="89"/>
                        </a:lnTo>
                        <a:lnTo>
                          <a:pt x="5" y="92"/>
                        </a:lnTo>
                        <a:lnTo>
                          <a:pt x="0" y="96"/>
                        </a:lnTo>
                        <a:lnTo>
                          <a:pt x="5" y="94"/>
                        </a:lnTo>
                        <a:lnTo>
                          <a:pt x="9" y="91"/>
                        </a:lnTo>
                        <a:lnTo>
                          <a:pt x="14" y="88"/>
                        </a:lnTo>
                        <a:lnTo>
                          <a:pt x="19" y="85"/>
                        </a:lnTo>
                        <a:lnTo>
                          <a:pt x="23" y="83"/>
                        </a:lnTo>
                        <a:lnTo>
                          <a:pt x="28" y="81"/>
                        </a:lnTo>
                        <a:lnTo>
                          <a:pt x="32" y="78"/>
                        </a:lnTo>
                        <a:lnTo>
                          <a:pt x="37" y="76"/>
                        </a:lnTo>
                        <a:lnTo>
                          <a:pt x="42" y="73"/>
                        </a:lnTo>
                        <a:lnTo>
                          <a:pt x="46" y="70"/>
                        </a:lnTo>
                        <a:lnTo>
                          <a:pt x="51" y="67"/>
                        </a:lnTo>
                        <a:lnTo>
                          <a:pt x="55" y="65"/>
                        </a:lnTo>
                        <a:lnTo>
                          <a:pt x="60" y="61"/>
                        </a:lnTo>
                        <a:lnTo>
                          <a:pt x="64" y="58"/>
                        </a:lnTo>
                        <a:lnTo>
                          <a:pt x="71" y="55"/>
                        </a:lnTo>
                        <a:lnTo>
                          <a:pt x="75" y="52"/>
                        </a:lnTo>
                        <a:lnTo>
                          <a:pt x="80" y="48"/>
                        </a:lnTo>
                        <a:lnTo>
                          <a:pt x="84" y="46"/>
                        </a:lnTo>
                        <a:lnTo>
                          <a:pt x="89" y="43"/>
                        </a:lnTo>
                        <a:lnTo>
                          <a:pt x="94" y="40"/>
                        </a:lnTo>
                        <a:lnTo>
                          <a:pt x="98" y="36"/>
                        </a:lnTo>
                        <a:lnTo>
                          <a:pt x="103" y="33"/>
                        </a:lnTo>
                        <a:lnTo>
                          <a:pt x="107" y="29"/>
                        </a:lnTo>
                        <a:lnTo>
                          <a:pt x="112" y="26"/>
                        </a:lnTo>
                        <a:lnTo>
                          <a:pt x="115" y="24"/>
                        </a:lnTo>
                        <a:lnTo>
                          <a:pt x="120" y="19"/>
                        </a:lnTo>
                        <a:lnTo>
                          <a:pt x="124" y="17"/>
                        </a:lnTo>
                        <a:lnTo>
                          <a:pt x="127" y="13"/>
                        </a:lnTo>
                        <a:lnTo>
                          <a:pt x="132" y="10"/>
                        </a:lnTo>
                        <a:lnTo>
                          <a:pt x="136" y="7"/>
                        </a:lnTo>
                        <a:lnTo>
                          <a:pt x="141" y="3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262"/>
                  <p:cNvSpPr/>
                  <p:nvPr/>
                </p:nvSpPr>
                <p:spPr>
                  <a:xfrm>
                    <a:off x="4439520" y="3520080"/>
                    <a:ext cx="30960" cy="7200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72000"/>
                      <a:gd name="textAreaBottom" fmla="*/ 72360 h 72000"/>
                    </a:gdLst>
                    <a:ahLst/>
                    <a:rect l="textAreaLeft" t="textAreaTop" r="textAreaRight" b="textAreaBottom"/>
                    <a:pathLst>
                      <a:path w="214" h="551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1" y="26"/>
                        </a:lnTo>
                        <a:lnTo>
                          <a:pt x="1" y="32"/>
                        </a:lnTo>
                        <a:lnTo>
                          <a:pt x="1" y="36"/>
                        </a:lnTo>
                        <a:lnTo>
                          <a:pt x="3" y="42"/>
                        </a:lnTo>
                        <a:lnTo>
                          <a:pt x="3" y="47"/>
                        </a:lnTo>
                        <a:lnTo>
                          <a:pt x="5" y="52"/>
                        </a:lnTo>
                        <a:lnTo>
                          <a:pt x="5" y="58"/>
                        </a:lnTo>
                        <a:lnTo>
                          <a:pt x="5" y="63"/>
                        </a:lnTo>
                        <a:lnTo>
                          <a:pt x="6" y="69"/>
                        </a:lnTo>
                        <a:lnTo>
                          <a:pt x="6" y="74"/>
                        </a:lnTo>
                        <a:lnTo>
                          <a:pt x="8" y="80"/>
                        </a:lnTo>
                        <a:lnTo>
                          <a:pt x="8" y="84"/>
                        </a:lnTo>
                        <a:lnTo>
                          <a:pt x="9" y="91"/>
                        </a:lnTo>
                        <a:lnTo>
                          <a:pt x="9" y="95"/>
                        </a:lnTo>
                        <a:lnTo>
                          <a:pt x="11" y="101"/>
                        </a:lnTo>
                        <a:lnTo>
                          <a:pt x="11" y="105"/>
                        </a:lnTo>
                        <a:lnTo>
                          <a:pt x="11" y="109"/>
                        </a:lnTo>
                        <a:lnTo>
                          <a:pt x="11" y="113"/>
                        </a:lnTo>
                        <a:lnTo>
                          <a:pt x="12" y="116"/>
                        </a:lnTo>
                        <a:lnTo>
                          <a:pt x="12" y="118"/>
                        </a:lnTo>
                        <a:lnTo>
                          <a:pt x="14" y="122"/>
                        </a:lnTo>
                        <a:lnTo>
                          <a:pt x="14" y="127"/>
                        </a:lnTo>
                        <a:lnTo>
                          <a:pt x="14" y="129"/>
                        </a:lnTo>
                        <a:lnTo>
                          <a:pt x="14" y="132"/>
                        </a:lnTo>
                        <a:lnTo>
                          <a:pt x="14" y="136"/>
                        </a:lnTo>
                        <a:lnTo>
                          <a:pt x="15" y="140"/>
                        </a:lnTo>
                        <a:lnTo>
                          <a:pt x="15" y="144"/>
                        </a:lnTo>
                        <a:lnTo>
                          <a:pt x="15" y="149"/>
                        </a:lnTo>
                        <a:lnTo>
                          <a:pt x="17" y="153"/>
                        </a:lnTo>
                        <a:lnTo>
                          <a:pt x="17" y="155"/>
                        </a:lnTo>
                        <a:lnTo>
                          <a:pt x="18" y="160"/>
                        </a:lnTo>
                        <a:lnTo>
                          <a:pt x="18" y="162"/>
                        </a:lnTo>
                        <a:lnTo>
                          <a:pt x="18" y="165"/>
                        </a:lnTo>
                        <a:lnTo>
                          <a:pt x="18" y="166"/>
                        </a:lnTo>
                        <a:lnTo>
                          <a:pt x="18" y="168"/>
                        </a:lnTo>
                        <a:lnTo>
                          <a:pt x="17" y="168"/>
                        </a:lnTo>
                        <a:lnTo>
                          <a:pt x="15" y="166"/>
                        </a:lnTo>
                        <a:lnTo>
                          <a:pt x="14" y="165"/>
                        </a:lnTo>
                        <a:lnTo>
                          <a:pt x="12" y="161"/>
                        </a:lnTo>
                        <a:lnTo>
                          <a:pt x="14" y="551"/>
                        </a:lnTo>
                        <a:lnTo>
                          <a:pt x="214" y="551"/>
                        </a:lnTo>
                        <a:lnTo>
                          <a:pt x="210" y="84"/>
                        </a:lnTo>
                        <a:lnTo>
                          <a:pt x="210" y="79"/>
                        </a:lnTo>
                        <a:lnTo>
                          <a:pt x="210" y="74"/>
                        </a:lnTo>
                        <a:lnTo>
                          <a:pt x="210" y="69"/>
                        </a:lnTo>
                        <a:lnTo>
                          <a:pt x="210" y="65"/>
                        </a:lnTo>
                        <a:lnTo>
                          <a:pt x="210" y="59"/>
                        </a:lnTo>
                        <a:lnTo>
                          <a:pt x="210" y="57"/>
                        </a:lnTo>
                        <a:lnTo>
                          <a:pt x="210" y="51"/>
                        </a:lnTo>
                        <a:lnTo>
                          <a:pt x="210" y="47"/>
                        </a:lnTo>
                        <a:lnTo>
                          <a:pt x="210" y="42"/>
                        </a:lnTo>
                        <a:lnTo>
                          <a:pt x="210" y="39"/>
                        </a:lnTo>
                        <a:lnTo>
                          <a:pt x="210" y="33"/>
                        </a:lnTo>
                        <a:lnTo>
                          <a:pt x="210" y="29"/>
                        </a:lnTo>
                        <a:lnTo>
                          <a:pt x="210" y="24"/>
                        </a:lnTo>
                        <a:lnTo>
                          <a:pt x="210" y="20"/>
                        </a:lnTo>
                        <a:lnTo>
                          <a:pt x="210" y="15"/>
                        </a:lnTo>
                        <a:lnTo>
                          <a:pt x="210" y="11"/>
                        </a:lnTo>
                        <a:lnTo>
                          <a:pt x="202" y="15"/>
                        </a:lnTo>
                        <a:lnTo>
                          <a:pt x="200" y="20"/>
                        </a:lnTo>
                        <a:lnTo>
                          <a:pt x="200" y="22"/>
                        </a:lnTo>
                        <a:lnTo>
                          <a:pt x="200" y="26"/>
                        </a:lnTo>
                        <a:lnTo>
                          <a:pt x="200" y="31"/>
                        </a:lnTo>
                        <a:lnTo>
                          <a:pt x="200" y="35"/>
                        </a:lnTo>
                        <a:lnTo>
                          <a:pt x="200" y="39"/>
                        </a:lnTo>
                        <a:lnTo>
                          <a:pt x="200" y="43"/>
                        </a:lnTo>
                        <a:lnTo>
                          <a:pt x="200" y="47"/>
                        </a:lnTo>
                        <a:lnTo>
                          <a:pt x="200" y="51"/>
                        </a:lnTo>
                        <a:lnTo>
                          <a:pt x="200" y="54"/>
                        </a:lnTo>
                        <a:lnTo>
                          <a:pt x="200" y="58"/>
                        </a:lnTo>
                        <a:lnTo>
                          <a:pt x="202" y="62"/>
                        </a:lnTo>
                        <a:lnTo>
                          <a:pt x="202" y="66"/>
                        </a:lnTo>
                        <a:lnTo>
                          <a:pt x="202" y="69"/>
                        </a:lnTo>
                        <a:lnTo>
                          <a:pt x="203" y="73"/>
                        </a:lnTo>
                        <a:lnTo>
                          <a:pt x="203" y="77"/>
                        </a:lnTo>
                        <a:lnTo>
                          <a:pt x="203" y="79"/>
                        </a:lnTo>
                        <a:lnTo>
                          <a:pt x="203" y="81"/>
                        </a:lnTo>
                        <a:lnTo>
                          <a:pt x="202" y="84"/>
                        </a:lnTo>
                        <a:lnTo>
                          <a:pt x="202" y="85"/>
                        </a:lnTo>
                        <a:lnTo>
                          <a:pt x="200" y="80"/>
                        </a:lnTo>
                        <a:lnTo>
                          <a:pt x="200" y="74"/>
                        </a:lnTo>
                        <a:lnTo>
                          <a:pt x="199" y="69"/>
                        </a:lnTo>
                        <a:lnTo>
                          <a:pt x="199" y="63"/>
                        </a:lnTo>
                        <a:lnTo>
                          <a:pt x="199" y="58"/>
                        </a:lnTo>
                        <a:lnTo>
                          <a:pt x="197" y="52"/>
                        </a:lnTo>
                        <a:lnTo>
                          <a:pt x="197" y="47"/>
                        </a:lnTo>
                        <a:lnTo>
                          <a:pt x="196" y="42"/>
                        </a:lnTo>
                        <a:lnTo>
                          <a:pt x="194" y="43"/>
                        </a:lnTo>
                        <a:lnTo>
                          <a:pt x="194" y="47"/>
                        </a:lnTo>
                        <a:lnTo>
                          <a:pt x="194" y="50"/>
                        </a:lnTo>
                        <a:lnTo>
                          <a:pt x="194" y="52"/>
                        </a:lnTo>
                        <a:lnTo>
                          <a:pt x="194" y="57"/>
                        </a:lnTo>
                        <a:lnTo>
                          <a:pt x="194" y="61"/>
                        </a:lnTo>
                        <a:lnTo>
                          <a:pt x="194" y="63"/>
                        </a:lnTo>
                        <a:lnTo>
                          <a:pt x="194" y="69"/>
                        </a:lnTo>
                        <a:lnTo>
                          <a:pt x="194" y="73"/>
                        </a:lnTo>
                        <a:lnTo>
                          <a:pt x="194" y="79"/>
                        </a:lnTo>
                        <a:lnTo>
                          <a:pt x="194" y="83"/>
                        </a:lnTo>
                        <a:lnTo>
                          <a:pt x="194" y="88"/>
                        </a:lnTo>
                        <a:lnTo>
                          <a:pt x="194" y="94"/>
                        </a:lnTo>
                        <a:lnTo>
                          <a:pt x="196" y="99"/>
                        </a:lnTo>
                        <a:lnTo>
                          <a:pt x="196" y="103"/>
                        </a:lnTo>
                        <a:lnTo>
                          <a:pt x="196" y="109"/>
                        </a:lnTo>
                        <a:lnTo>
                          <a:pt x="196" y="113"/>
                        </a:lnTo>
                        <a:lnTo>
                          <a:pt x="196" y="117"/>
                        </a:lnTo>
                        <a:lnTo>
                          <a:pt x="196" y="121"/>
                        </a:lnTo>
                        <a:lnTo>
                          <a:pt x="196" y="125"/>
                        </a:lnTo>
                        <a:lnTo>
                          <a:pt x="196" y="129"/>
                        </a:lnTo>
                        <a:lnTo>
                          <a:pt x="196" y="133"/>
                        </a:lnTo>
                        <a:lnTo>
                          <a:pt x="196" y="138"/>
                        </a:lnTo>
                        <a:lnTo>
                          <a:pt x="196" y="140"/>
                        </a:lnTo>
                        <a:lnTo>
                          <a:pt x="194" y="142"/>
                        </a:lnTo>
                        <a:lnTo>
                          <a:pt x="194" y="140"/>
                        </a:lnTo>
                        <a:lnTo>
                          <a:pt x="193" y="135"/>
                        </a:lnTo>
                        <a:lnTo>
                          <a:pt x="193" y="128"/>
                        </a:lnTo>
                        <a:lnTo>
                          <a:pt x="193" y="122"/>
                        </a:lnTo>
                        <a:lnTo>
                          <a:pt x="193" y="118"/>
                        </a:lnTo>
                        <a:lnTo>
                          <a:pt x="193" y="112"/>
                        </a:lnTo>
                        <a:lnTo>
                          <a:pt x="191" y="106"/>
                        </a:lnTo>
                        <a:lnTo>
                          <a:pt x="191" y="101"/>
                        </a:lnTo>
                        <a:lnTo>
                          <a:pt x="191" y="95"/>
                        </a:lnTo>
                        <a:lnTo>
                          <a:pt x="190" y="92"/>
                        </a:lnTo>
                        <a:lnTo>
                          <a:pt x="190" y="88"/>
                        </a:lnTo>
                        <a:lnTo>
                          <a:pt x="190" y="85"/>
                        </a:lnTo>
                        <a:lnTo>
                          <a:pt x="190" y="84"/>
                        </a:lnTo>
                        <a:lnTo>
                          <a:pt x="188" y="79"/>
                        </a:lnTo>
                        <a:lnTo>
                          <a:pt x="188" y="73"/>
                        </a:lnTo>
                        <a:lnTo>
                          <a:pt x="188" y="69"/>
                        </a:lnTo>
                        <a:lnTo>
                          <a:pt x="188" y="63"/>
                        </a:lnTo>
                        <a:lnTo>
                          <a:pt x="188" y="59"/>
                        </a:lnTo>
                        <a:lnTo>
                          <a:pt x="188" y="55"/>
                        </a:lnTo>
                        <a:lnTo>
                          <a:pt x="188" y="50"/>
                        </a:lnTo>
                        <a:lnTo>
                          <a:pt x="188" y="46"/>
                        </a:lnTo>
                        <a:lnTo>
                          <a:pt x="188" y="40"/>
                        </a:lnTo>
                        <a:lnTo>
                          <a:pt x="190" y="36"/>
                        </a:lnTo>
                        <a:lnTo>
                          <a:pt x="190" y="31"/>
                        </a:lnTo>
                        <a:lnTo>
                          <a:pt x="190" y="25"/>
                        </a:lnTo>
                        <a:lnTo>
                          <a:pt x="190" y="20"/>
                        </a:lnTo>
                        <a:lnTo>
                          <a:pt x="190" y="14"/>
                        </a:lnTo>
                        <a:lnTo>
                          <a:pt x="171" y="14"/>
                        </a:lnTo>
                        <a:lnTo>
                          <a:pt x="171" y="17"/>
                        </a:lnTo>
                        <a:lnTo>
                          <a:pt x="171" y="21"/>
                        </a:lnTo>
                        <a:lnTo>
                          <a:pt x="171" y="25"/>
                        </a:lnTo>
                        <a:lnTo>
                          <a:pt x="171" y="29"/>
                        </a:lnTo>
                        <a:lnTo>
                          <a:pt x="171" y="32"/>
                        </a:lnTo>
                        <a:lnTo>
                          <a:pt x="171" y="36"/>
                        </a:lnTo>
                        <a:lnTo>
                          <a:pt x="171" y="40"/>
                        </a:lnTo>
                        <a:lnTo>
                          <a:pt x="171" y="44"/>
                        </a:lnTo>
                        <a:lnTo>
                          <a:pt x="171" y="47"/>
                        </a:lnTo>
                        <a:lnTo>
                          <a:pt x="171" y="52"/>
                        </a:lnTo>
                        <a:lnTo>
                          <a:pt x="171" y="55"/>
                        </a:lnTo>
                        <a:lnTo>
                          <a:pt x="171" y="59"/>
                        </a:lnTo>
                        <a:lnTo>
                          <a:pt x="171" y="63"/>
                        </a:lnTo>
                        <a:lnTo>
                          <a:pt x="171" y="68"/>
                        </a:lnTo>
                        <a:lnTo>
                          <a:pt x="171" y="72"/>
                        </a:lnTo>
                        <a:lnTo>
                          <a:pt x="173" y="76"/>
                        </a:lnTo>
                        <a:lnTo>
                          <a:pt x="173" y="79"/>
                        </a:lnTo>
                        <a:lnTo>
                          <a:pt x="173" y="83"/>
                        </a:lnTo>
                        <a:lnTo>
                          <a:pt x="173" y="87"/>
                        </a:lnTo>
                        <a:lnTo>
                          <a:pt x="173" y="91"/>
                        </a:lnTo>
                        <a:lnTo>
                          <a:pt x="173" y="94"/>
                        </a:lnTo>
                        <a:lnTo>
                          <a:pt x="174" y="98"/>
                        </a:lnTo>
                        <a:lnTo>
                          <a:pt x="174" y="102"/>
                        </a:lnTo>
                        <a:lnTo>
                          <a:pt x="174" y="106"/>
                        </a:lnTo>
                        <a:lnTo>
                          <a:pt x="174" y="109"/>
                        </a:lnTo>
                        <a:lnTo>
                          <a:pt x="174" y="113"/>
                        </a:lnTo>
                        <a:lnTo>
                          <a:pt x="174" y="116"/>
                        </a:lnTo>
                        <a:lnTo>
                          <a:pt x="174" y="120"/>
                        </a:lnTo>
                        <a:lnTo>
                          <a:pt x="174" y="124"/>
                        </a:lnTo>
                        <a:lnTo>
                          <a:pt x="176" y="127"/>
                        </a:lnTo>
                        <a:lnTo>
                          <a:pt x="176" y="131"/>
                        </a:lnTo>
                        <a:lnTo>
                          <a:pt x="176" y="133"/>
                        </a:lnTo>
                        <a:lnTo>
                          <a:pt x="176" y="136"/>
                        </a:lnTo>
                        <a:lnTo>
                          <a:pt x="176" y="139"/>
                        </a:lnTo>
                        <a:lnTo>
                          <a:pt x="176" y="143"/>
                        </a:lnTo>
                        <a:lnTo>
                          <a:pt x="176" y="149"/>
                        </a:lnTo>
                        <a:lnTo>
                          <a:pt x="176" y="153"/>
                        </a:lnTo>
                        <a:lnTo>
                          <a:pt x="176" y="160"/>
                        </a:lnTo>
                        <a:lnTo>
                          <a:pt x="176" y="162"/>
                        </a:lnTo>
                        <a:lnTo>
                          <a:pt x="176" y="165"/>
                        </a:lnTo>
                        <a:lnTo>
                          <a:pt x="176" y="168"/>
                        </a:lnTo>
                        <a:lnTo>
                          <a:pt x="176" y="172"/>
                        </a:lnTo>
                        <a:lnTo>
                          <a:pt x="176" y="177"/>
                        </a:lnTo>
                        <a:lnTo>
                          <a:pt x="176" y="183"/>
                        </a:lnTo>
                        <a:lnTo>
                          <a:pt x="174" y="187"/>
                        </a:lnTo>
                        <a:lnTo>
                          <a:pt x="174" y="192"/>
                        </a:lnTo>
                        <a:lnTo>
                          <a:pt x="174" y="198"/>
                        </a:lnTo>
                        <a:lnTo>
                          <a:pt x="173" y="202"/>
                        </a:lnTo>
                        <a:lnTo>
                          <a:pt x="171" y="205"/>
                        </a:lnTo>
                        <a:lnTo>
                          <a:pt x="171" y="206"/>
                        </a:lnTo>
                        <a:lnTo>
                          <a:pt x="170" y="201"/>
                        </a:lnTo>
                        <a:lnTo>
                          <a:pt x="170" y="195"/>
                        </a:lnTo>
                        <a:lnTo>
                          <a:pt x="168" y="188"/>
                        </a:lnTo>
                        <a:lnTo>
                          <a:pt x="168" y="183"/>
                        </a:lnTo>
                        <a:lnTo>
                          <a:pt x="168" y="180"/>
                        </a:lnTo>
                        <a:lnTo>
                          <a:pt x="168" y="177"/>
                        </a:lnTo>
                        <a:lnTo>
                          <a:pt x="167" y="173"/>
                        </a:lnTo>
                        <a:lnTo>
                          <a:pt x="167" y="171"/>
                        </a:lnTo>
                        <a:lnTo>
                          <a:pt x="167" y="165"/>
                        </a:lnTo>
                        <a:lnTo>
                          <a:pt x="167" y="160"/>
                        </a:lnTo>
                        <a:lnTo>
                          <a:pt x="167" y="155"/>
                        </a:lnTo>
                        <a:lnTo>
                          <a:pt x="167" y="153"/>
                        </a:lnTo>
                        <a:lnTo>
                          <a:pt x="167" y="149"/>
                        </a:lnTo>
                        <a:lnTo>
                          <a:pt x="167" y="146"/>
                        </a:lnTo>
                        <a:lnTo>
                          <a:pt x="167" y="143"/>
                        </a:lnTo>
                        <a:lnTo>
                          <a:pt x="167" y="140"/>
                        </a:lnTo>
                        <a:lnTo>
                          <a:pt x="167" y="136"/>
                        </a:lnTo>
                        <a:lnTo>
                          <a:pt x="167" y="133"/>
                        </a:lnTo>
                        <a:lnTo>
                          <a:pt x="167" y="131"/>
                        </a:lnTo>
                        <a:lnTo>
                          <a:pt x="167" y="128"/>
                        </a:lnTo>
                        <a:lnTo>
                          <a:pt x="167" y="124"/>
                        </a:lnTo>
                        <a:lnTo>
                          <a:pt x="167" y="121"/>
                        </a:lnTo>
                        <a:lnTo>
                          <a:pt x="167" y="118"/>
                        </a:lnTo>
                        <a:lnTo>
                          <a:pt x="167" y="116"/>
                        </a:lnTo>
                        <a:lnTo>
                          <a:pt x="167" y="112"/>
                        </a:lnTo>
                        <a:lnTo>
                          <a:pt x="168" y="109"/>
                        </a:lnTo>
                        <a:lnTo>
                          <a:pt x="168" y="106"/>
                        </a:lnTo>
                        <a:lnTo>
                          <a:pt x="168" y="102"/>
                        </a:lnTo>
                        <a:lnTo>
                          <a:pt x="168" y="99"/>
                        </a:lnTo>
                        <a:lnTo>
                          <a:pt x="168" y="95"/>
                        </a:lnTo>
                        <a:lnTo>
                          <a:pt x="168" y="92"/>
                        </a:lnTo>
                        <a:lnTo>
                          <a:pt x="168" y="90"/>
                        </a:lnTo>
                        <a:lnTo>
                          <a:pt x="168" y="85"/>
                        </a:lnTo>
                        <a:lnTo>
                          <a:pt x="168" y="83"/>
                        </a:lnTo>
                        <a:lnTo>
                          <a:pt x="168" y="80"/>
                        </a:lnTo>
                        <a:lnTo>
                          <a:pt x="168" y="76"/>
                        </a:lnTo>
                        <a:lnTo>
                          <a:pt x="168" y="73"/>
                        </a:lnTo>
                        <a:lnTo>
                          <a:pt x="168" y="70"/>
                        </a:lnTo>
                        <a:lnTo>
                          <a:pt x="168" y="66"/>
                        </a:lnTo>
                        <a:lnTo>
                          <a:pt x="168" y="63"/>
                        </a:lnTo>
                        <a:lnTo>
                          <a:pt x="168" y="61"/>
                        </a:lnTo>
                        <a:lnTo>
                          <a:pt x="168" y="58"/>
                        </a:lnTo>
                        <a:lnTo>
                          <a:pt x="167" y="54"/>
                        </a:lnTo>
                        <a:lnTo>
                          <a:pt x="167" y="51"/>
                        </a:lnTo>
                        <a:lnTo>
                          <a:pt x="167" y="48"/>
                        </a:lnTo>
                        <a:lnTo>
                          <a:pt x="167" y="46"/>
                        </a:lnTo>
                        <a:lnTo>
                          <a:pt x="167" y="39"/>
                        </a:lnTo>
                        <a:lnTo>
                          <a:pt x="167" y="33"/>
                        </a:lnTo>
                        <a:lnTo>
                          <a:pt x="165" y="28"/>
                        </a:lnTo>
                        <a:lnTo>
                          <a:pt x="165" y="22"/>
                        </a:lnTo>
                        <a:lnTo>
                          <a:pt x="165" y="17"/>
                        </a:lnTo>
                        <a:lnTo>
                          <a:pt x="164" y="11"/>
                        </a:lnTo>
                        <a:lnTo>
                          <a:pt x="162" y="10"/>
                        </a:lnTo>
                        <a:lnTo>
                          <a:pt x="161" y="14"/>
                        </a:lnTo>
                        <a:lnTo>
                          <a:pt x="157" y="17"/>
                        </a:lnTo>
                        <a:lnTo>
                          <a:pt x="156" y="18"/>
                        </a:lnTo>
                        <a:lnTo>
                          <a:pt x="154" y="20"/>
                        </a:lnTo>
                        <a:lnTo>
                          <a:pt x="154" y="22"/>
                        </a:lnTo>
                        <a:lnTo>
                          <a:pt x="153" y="26"/>
                        </a:lnTo>
                        <a:lnTo>
                          <a:pt x="153" y="29"/>
                        </a:lnTo>
                        <a:lnTo>
                          <a:pt x="153" y="32"/>
                        </a:lnTo>
                        <a:lnTo>
                          <a:pt x="153" y="36"/>
                        </a:lnTo>
                        <a:lnTo>
                          <a:pt x="153" y="39"/>
                        </a:lnTo>
                        <a:lnTo>
                          <a:pt x="153" y="43"/>
                        </a:lnTo>
                        <a:lnTo>
                          <a:pt x="156" y="105"/>
                        </a:lnTo>
                        <a:lnTo>
                          <a:pt x="156" y="109"/>
                        </a:lnTo>
                        <a:lnTo>
                          <a:pt x="156" y="114"/>
                        </a:lnTo>
                        <a:lnTo>
                          <a:pt x="156" y="120"/>
                        </a:lnTo>
                        <a:lnTo>
                          <a:pt x="156" y="125"/>
                        </a:lnTo>
                        <a:lnTo>
                          <a:pt x="156" y="129"/>
                        </a:lnTo>
                        <a:lnTo>
                          <a:pt x="156" y="135"/>
                        </a:lnTo>
                        <a:lnTo>
                          <a:pt x="156" y="140"/>
                        </a:lnTo>
                        <a:lnTo>
                          <a:pt x="156" y="144"/>
                        </a:lnTo>
                        <a:lnTo>
                          <a:pt x="154" y="150"/>
                        </a:lnTo>
                        <a:lnTo>
                          <a:pt x="154" y="155"/>
                        </a:lnTo>
                        <a:lnTo>
                          <a:pt x="154" y="160"/>
                        </a:lnTo>
                        <a:lnTo>
                          <a:pt x="154" y="165"/>
                        </a:lnTo>
                        <a:lnTo>
                          <a:pt x="153" y="171"/>
                        </a:lnTo>
                        <a:lnTo>
                          <a:pt x="153" y="175"/>
                        </a:lnTo>
                        <a:lnTo>
                          <a:pt x="153" y="180"/>
                        </a:lnTo>
                        <a:lnTo>
                          <a:pt x="153" y="186"/>
                        </a:lnTo>
                        <a:lnTo>
                          <a:pt x="153" y="512"/>
                        </a:lnTo>
                        <a:lnTo>
                          <a:pt x="78" y="515"/>
                        </a:lnTo>
                        <a:lnTo>
                          <a:pt x="73" y="66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2" y="57"/>
                        </a:lnTo>
                        <a:lnTo>
                          <a:pt x="72" y="54"/>
                        </a:lnTo>
                        <a:lnTo>
                          <a:pt x="70" y="50"/>
                        </a:lnTo>
                        <a:lnTo>
                          <a:pt x="70" y="47"/>
                        </a:lnTo>
                        <a:lnTo>
                          <a:pt x="69" y="43"/>
                        </a:lnTo>
                        <a:lnTo>
                          <a:pt x="69" y="40"/>
                        </a:lnTo>
                        <a:lnTo>
                          <a:pt x="69" y="37"/>
                        </a:lnTo>
                        <a:lnTo>
                          <a:pt x="69" y="33"/>
                        </a:lnTo>
                        <a:lnTo>
                          <a:pt x="67" y="31"/>
                        </a:lnTo>
                        <a:lnTo>
                          <a:pt x="67" y="28"/>
                        </a:lnTo>
                        <a:lnTo>
                          <a:pt x="66" y="21"/>
                        </a:lnTo>
                        <a:lnTo>
                          <a:pt x="66" y="1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263"/>
                  <p:cNvSpPr/>
                  <p:nvPr/>
                </p:nvSpPr>
                <p:spPr>
                  <a:xfrm>
                    <a:off x="4365000" y="3562200"/>
                    <a:ext cx="1800" cy="230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12" h="178">
                        <a:moveTo>
                          <a:pt x="4" y="176"/>
                        </a:moveTo>
                        <a:lnTo>
                          <a:pt x="7" y="178"/>
                        </a:lnTo>
                        <a:lnTo>
                          <a:pt x="9" y="176"/>
                        </a:lnTo>
                        <a:lnTo>
                          <a:pt x="9" y="175"/>
                        </a:lnTo>
                        <a:lnTo>
                          <a:pt x="9" y="172"/>
                        </a:lnTo>
                        <a:lnTo>
                          <a:pt x="9" y="167"/>
                        </a:lnTo>
                        <a:lnTo>
                          <a:pt x="9" y="161"/>
                        </a:lnTo>
                        <a:lnTo>
                          <a:pt x="9" y="156"/>
                        </a:lnTo>
                        <a:lnTo>
                          <a:pt x="9" y="150"/>
                        </a:lnTo>
                        <a:lnTo>
                          <a:pt x="9" y="145"/>
                        </a:lnTo>
                        <a:lnTo>
                          <a:pt x="9" y="139"/>
                        </a:lnTo>
                        <a:lnTo>
                          <a:pt x="9" y="134"/>
                        </a:lnTo>
                        <a:lnTo>
                          <a:pt x="10" y="129"/>
                        </a:lnTo>
                        <a:lnTo>
                          <a:pt x="10" y="124"/>
                        </a:lnTo>
                        <a:lnTo>
                          <a:pt x="10" y="118"/>
                        </a:lnTo>
                        <a:lnTo>
                          <a:pt x="10" y="112"/>
                        </a:lnTo>
                        <a:lnTo>
                          <a:pt x="10" y="108"/>
                        </a:lnTo>
                        <a:lnTo>
                          <a:pt x="10" y="102"/>
                        </a:lnTo>
                        <a:lnTo>
                          <a:pt x="10" y="97"/>
                        </a:lnTo>
                        <a:lnTo>
                          <a:pt x="10" y="91"/>
                        </a:lnTo>
                        <a:lnTo>
                          <a:pt x="12" y="86"/>
                        </a:lnTo>
                        <a:lnTo>
                          <a:pt x="12" y="80"/>
                        </a:lnTo>
                        <a:lnTo>
                          <a:pt x="12" y="75"/>
                        </a:lnTo>
                        <a:lnTo>
                          <a:pt x="12" y="69"/>
                        </a:lnTo>
                        <a:lnTo>
                          <a:pt x="12" y="64"/>
                        </a:lnTo>
                        <a:lnTo>
                          <a:pt x="12" y="58"/>
                        </a:lnTo>
                        <a:lnTo>
                          <a:pt x="12" y="53"/>
                        </a:lnTo>
                        <a:lnTo>
                          <a:pt x="12" y="47"/>
                        </a:lnTo>
                        <a:lnTo>
                          <a:pt x="12" y="43"/>
                        </a:lnTo>
                        <a:lnTo>
                          <a:pt x="12" y="38"/>
                        </a:lnTo>
                        <a:lnTo>
                          <a:pt x="12" y="31"/>
                        </a:lnTo>
                        <a:lnTo>
                          <a:pt x="12" y="25"/>
                        </a:lnTo>
                        <a:lnTo>
                          <a:pt x="12" y="21"/>
                        </a:lnTo>
                        <a:lnTo>
                          <a:pt x="12" y="16"/>
                        </a:lnTo>
                        <a:lnTo>
                          <a:pt x="12" y="10"/>
                        </a:lnTo>
                        <a:lnTo>
                          <a:pt x="12" y="5"/>
                        </a:ln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10" y="9"/>
                        </a:lnTo>
                        <a:lnTo>
                          <a:pt x="9" y="11"/>
                        </a:lnTo>
                        <a:lnTo>
                          <a:pt x="9" y="16"/>
                        </a:lnTo>
                        <a:lnTo>
                          <a:pt x="9" y="18"/>
                        </a:lnTo>
                        <a:lnTo>
                          <a:pt x="9" y="22"/>
                        </a:lnTo>
                        <a:lnTo>
                          <a:pt x="9" y="28"/>
                        </a:lnTo>
                        <a:lnTo>
                          <a:pt x="7" y="29"/>
                        </a:lnTo>
                        <a:lnTo>
                          <a:pt x="7" y="33"/>
                        </a:lnTo>
                        <a:lnTo>
                          <a:pt x="7" y="36"/>
                        </a:lnTo>
                        <a:lnTo>
                          <a:pt x="7" y="40"/>
                        </a:lnTo>
                        <a:lnTo>
                          <a:pt x="6" y="43"/>
                        </a:lnTo>
                        <a:lnTo>
                          <a:pt x="6" y="47"/>
                        </a:lnTo>
                        <a:lnTo>
                          <a:pt x="6" y="51"/>
                        </a:lnTo>
                        <a:lnTo>
                          <a:pt x="6" y="55"/>
                        </a:lnTo>
                        <a:lnTo>
                          <a:pt x="6" y="59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4" y="70"/>
                        </a:lnTo>
                        <a:lnTo>
                          <a:pt x="3" y="73"/>
                        </a:lnTo>
                        <a:lnTo>
                          <a:pt x="3" y="77"/>
                        </a:lnTo>
                        <a:lnTo>
                          <a:pt x="3" y="81"/>
                        </a:lnTo>
                        <a:lnTo>
                          <a:pt x="3" y="84"/>
                        </a:lnTo>
                        <a:lnTo>
                          <a:pt x="1" y="91"/>
                        </a:lnTo>
                        <a:lnTo>
                          <a:pt x="1" y="95"/>
                        </a:lnTo>
                        <a:lnTo>
                          <a:pt x="1" y="99"/>
                        </a:lnTo>
                        <a:lnTo>
                          <a:pt x="1" y="102"/>
                        </a:lnTo>
                        <a:lnTo>
                          <a:pt x="1" y="106"/>
                        </a:lnTo>
                        <a:lnTo>
                          <a:pt x="0" y="110"/>
                        </a:lnTo>
                        <a:lnTo>
                          <a:pt x="0" y="114"/>
                        </a:lnTo>
                        <a:lnTo>
                          <a:pt x="0" y="120"/>
                        </a:lnTo>
                        <a:lnTo>
                          <a:pt x="0" y="124"/>
                        </a:lnTo>
                        <a:lnTo>
                          <a:pt x="0" y="129"/>
                        </a:lnTo>
                        <a:lnTo>
                          <a:pt x="1" y="134"/>
                        </a:lnTo>
                        <a:lnTo>
                          <a:pt x="1" y="139"/>
                        </a:lnTo>
                        <a:lnTo>
                          <a:pt x="1" y="143"/>
                        </a:lnTo>
                        <a:lnTo>
                          <a:pt x="1" y="149"/>
                        </a:lnTo>
                        <a:lnTo>
                          <a:pt x="3" y="153"/>
                        </a:lnTo>
                        <a:lnTo>
                          <a:pt x="3" y="158"/>
                        </a:lnTo>
                        <a:lnTo>
                          <a:pt x="3" y="162"/>
                        </a:lnTo>
                        <a:lnTo>
                          <a:pt x="4" y="168"/>
                        </a:lnTo>
                        <a:lnTo>
                          <a:pt x="4" y="172"/>
                        </a:lnTo>
                        <a:lnTo>
                          <a:pt x="4" y="17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Freeform 264"/>
                  <p:cNvSpPr/>
                  <p:nvPr/>
                </p:nvSpPr>
                <p:spPr>
                  <a:xfrm>
                    <a:off x="4382280" y="3563640"/>
                    <a:ext cx="1440" cy="20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" h="161">
                        <a:moveTo>
                          <a:pt x="12" y="0"/>
                        </a:moveTo>
                        <a:lnTo>
                          <a:pt x="11" y="5"/>
                        </a:lnTo>
                        <a:lnTo>
                          <a:pt x="11" y="10"/>
                        </a:lnTo>
                        <a:lnTo>
                          <a:pt x="9" y="16"/>
                        </a:lnTo>
                        <a:lnTo>
                          <a:pt x="9" y="20"/>
                        </a:lnTo>
                        <a:lnTo>
                          <a:pt x="9" y="25"/>
                        </a:lnTo>
                        <a:lnTo>
                          <a:pt x="9" y="31"/>
                        </a:lnTo>
                        <a:lnTo>
                          <a:pt x="9" y="36"/>
                        </a:lnTo>
                        <a:lnTo>
                          <a:pt x="9" y="40"/>
                        </a:lnTo>
                        <a:lnTo>
                          <a:pt x="9" y="46"/>
                        </a:lnTo>
                        <a:lnTo>
                          <a:pt x="9" y="51"/>
                        </a:lnTo>
                        <a:lnTo>
                          <a:pt x="9" y="55"/>
                        </a:lnTo>
                        <a:lnTo>
                          <a:pt x="9" y="61"/>
                        </a:lnTo>
                        <a:lnTo>
                          <a:pt x="8" y="66"/>
                        </a:lnTo>
                        <a:lnTo>
                          <a:pt x="8" y="70"/>
                        </a:lnTo>
                        <a:lnTo>
                          <a:pt x="8" y="76"/>
                        </a:lnTo>
                        <a:lnTo>
                          <a:pt x="8" y="81"/>
                        </a:lnTo>
                        <a:lnTo>
                          <a:pt x="8" y="86"/>
                        </a:lnTo>
                        <a:lnTo>
                          <a:pt x="8" y="91"/>
                        </a:lnTo>
                        <a:lnTo>
                          <a:pt x="6" y="97"/>
                        </a:lnTo>
                        <a:lnTo>
                          <a:pt x="6" y="101"/>
                        </a:lnTo>
                        <a:lnTo>
                          <a:pt x="6" y="106"/>
                        </a:lnTo>
                        <a:lnTo>
                          <a:pt x="6" y="112"/>
                        </a:lnTo>
                        <a:lnTo>
                          <a:pt x="6" y="116"/>
                        </a:lnTo>
                        <a:lnTo>
                          <a:pt x="6" y="121"/>
                        </a:lnTo>
                        <a:lnTo>
                          <a:pt x="5" y="125"/>
                        </a:lnTo>
                        <a:lnTo>
                          <a:pt x="5" y="131"/>
                        </a:lnTo>
                        <a:lnTo>
                          <a:pt x="3" y="136"/>
                        </a:lnTo>
                        <a:lnTo>
                          <a:pt x="3" y="140"/>
                        </a:lnTo>
                        <a:lnTo>
                          <a:pt x="2" y="146"/>
                        </a:lnTo>
                        <a:lnTo>
                          <a:pt x="2" y="151"/>
                        </a:lnTo>
                        <a:lnTo>
                          <a:pt x="0" y="157"/>
                        </a:lnTo>
                        <a:lnTo>
                          <a:pt x="0" y="161"/>
                        </a:lnTo>
                        <a:lnTo>
                          <a:pt x="0" y="160"/>
                        </a:lnTo>
                        <a:lnTo>
                          <a:pt x="0" y="157"/>
                        </a:lnTo>
                        <a:lnTo>
                          <a:pt x="0" y="153"/>
                        </a:lnTo>
                        <a:lnTo>
                          <a:pt x="0" y="150"/>
                        </a:lnTo>
                        <a:lnTo>
                          <a:pt x="0" y="146"/>
                        </a:lnTo>
                        <a:lnTo>
                          <a:pt x="0" y="140"/>
                        </a:lnTo>
                        <a:lnTo>
                          <a:pt x="0" y="136"/>
                        </a:lnTo>
                        <a:lnTo>
                          <a:pt x="2" y="131"/>
                        </a:lnTo>
                        <a:lnTo>
                          <a:pt x="2" y="128"/>
                        </a:lnTo>
                        <a:lnTo>
                          <a:pt x="2" y="125"/>
                        </a:lnTo>
                        <a:lnTo>
                          <a:pt x="2" y="121"/>
                        </a:lnTo>
                        <a:lnTo>
                          <a:pt x="2" y="118"/>
                        </a:lnTo>
                        <a:lnTo>
                          <a:pt x="2" y="116"/>
                        </a:lnTo>
                        <a:lnTo>
                          <a:pt x="2" y="112"/>
                        </a:lnTo>
                        <a:lnTo>
                          <a:pt x="2" y="109"/>
                        </a:lnTo>
                        <a:lnTo>
                          <a:pt x="2" y="106"/>
                        </a:lnTo>
                        <a:lnTo>
                          <a:pt x="2" y="102"/>
                        </a:lnTo>
                        <a:lnTo>
                          <a:pt x="2" y="98"/>
                        </a:lnTo>
                        <a:lnTo>
                          <a:pt x="2" y="95"/>
                        </a:lnTo>
                        <a:lnTo>
                          <a:pt x="3" y="92"/>
                        </a:lnTo>
                        <a:lnTo>
                          <a:pt x="3" y="88"/>
                        </a:lnTo>
                        <a:lnTo>
                          <a:pt x="3" y="86"/>
                        </a:lnTo>
                        <a:lnTo>
                          <a:pt x="3" y="81"/>
                        </a:lnTo>
                        <a:lnTo>
                          <a:pt x="3" y="79"/>
                        </a:lnTo>
                        <a:lnTo>
                          <a:pt x="3" y="75"/>
                        </a:lnTo>
                        <a:lnTo>
                          <a:pt x="3" y="70"/>
                        </a:lnTo>
                        <a:lnTo>
                          <a:pt x="3" y="68"/>
                        </a:lnTo>
                        <a:lnTo>
                          <a:pt x="3" y="64"/>
                        </a:lnTo>
                        <a:lnTo>
                          <a:pt x="3" y="61"/>
                        </a:lnTo>
                        <a:lnTo>
                          <a:pt x="5" y="57"/>
                        </a:lnTo>
                        <a:lnTo>
                          <a:pt x="5" y="54"/>
                        </a:lnTo>
                        <a:lnTo>
                          <a:pt x="5" y="50"/>
                        </a:lnTo>
                        <a:lnTo>
                          <a:pt x="5" y="47"/>
                        </a:lnTo>
                        <a:lnTo>
                          <a:pt x="5" y="43"/>
                        </a:lnTo>
                        <a:lnTo>
                          <a:pt x="5" y="40"/>
                        </a:lnTo>
                        <a:lnTo>
                          <a:pt x="6" y="37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8"/>
                        </a:lnTo>
                        <a:lnTo>
                          <a:pt x="6" y="27"/>
                        </a:lnTo>
                        <a:lnTo>
                          <a:pt x="6" y="20"/>
                        </a:lnTo>
                        <a:lnTo>
                          <a:pt x="8" y="16"/>
                        </a:lnTo>
                        <a:lnTo>
                          <a:pt x="8" y="11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Freeform 265"/>
                  <p:cNvSpPr/>
                  <p:nvPr/>
                </p:nvSpPr>
                <p:spPr>
                  <a:xfrm>
                    <a:off x="4390200" y="3486240"/>
                    <a:ext cx="84240" cy="255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582" h="195">
                        <a:moveTo>
                          <a:pt x="198" y="136"/>
                        </a:moveTo>
                        <a:lnTo>
                          <a:pt x="199" y="133"/>
                        </a:lnTo>
                        <a:lnTo>
                          <a:pt x="204" y="131"/>
                        </a:lnTo>
                        <a:lnTo>
                          <a:pt x="208" y="125"/>
                        </a:lnTo>
                        <a:lnTo>
                          <a:pt x="216" y="121"/>
                        </a:lnTo>
                        <a:lnTo>
                          <a:pt x="222" y="117"/>
                        </a:lnTo>
                        <a:lnTo>
                          <a:pt x="227" y="113"/>
                        </a:lnTo>
                        <a:lnTo>
                          <a:pt x="231" y="110"/>
                        </a:lnTo>
                        <a:lnTo>
                          <a:pt x="233" y="109"/>
                        </a:lnTo>
                        <a:lnTo>
                          <a:pt x="234" y="107"/>
                        </a:lnTo>
                        <a:lnTo>
                          <a:pt x="238" y="105"/>
                        </a:lnTo>
                        <a:lnTo>
                          <a:pt x="241" y="100"/>
                        </a:lnTo>
                        <a:lnTo>
                          <a:pt x="245" y="98"/>
                        </a:lnTo>
                        <a:lnTo>
                          <a:pt x="250" y="94"/>
                        </a:lnTo>
                        <a:lnTo>
                          <a:pt x="254" y="89"/>
                        </a:lnTo>
                        <a:lnTo>
                          <a:pt x="259" y="85"/>
                        </a:lnTo>
                        <a:lnTo>
                          <a:pt x="265" y="81"/>
                        </a:lnTo>
                        <a:lnTo>
                          <a:pt x="268" y="76"/>
                        </a:lnTo>
                        <a:lnTo>
                          <a:pt x="273" y="70"/>
                        </a:lnTo>
                        <a:lnTo>
                          <a:pt x="277" y="66"/>
                        </a:lnTo>
                        <a:lnTo>
                          <a:pt x="282" y="62"/>
                        </a:lnTo>
                        <a:lnTo>
                          <a:pt x="283" y="56"/>
                        </a:lnTo>
                        <a:lnTo>
                          <a:pt x="286" y="54"/>
                        </a:lnTo>
                        <a:lnTo>
                          <a:pt x="288" y="50"/>
                        </a:lnTo>
                        <a:lnTo>
                          <a:pt x="288" y="48"/>
                        </a:lnTo>
                        <a:lnTo>
                          <a:pt x="286" y="50"/>
                        </a:lnTo>
                        <a:lnTo>
                          <a:pt x="282" y="54"/>
                        </a:lnTo>
                        <a:lnTo>
                          <a:pt x="276" y="59"/>
                        </a:lnTo>
                        <a:lnTo>
                          <a:pt x="274" y="61"/>
                        </a:lnTo>
                        <a:lnTo>
                          <a:pt x="233" y="102"/>
                        </a:lnTo>
                        <a:lnTo>
                          <a:pt x="234" y="98"/>
                        </a:lnTo>
                        <a:lnTo>
                          <a:pt x="236" y="95"/>
                        </a:lnTo>
                        <a:lnTo>
                          <a:pt x="239" y="89"/>
                        </a:lnTo>
                        <a:lnTo>
                          <a:pt x="242" y="85"/>
                        </a:lnTo>
                        <a:lnTo>
                          <a:pt x="245" y="80"/>
                        </a:lnTo>
                        <a:lnTo>
                          <a:pt x="250" y="74"/>
                        </a:lnTo>
                        <a:lnTo>
                          <a:pt x="254" y="69"/>
                        </a:lnTo>
                        <a:lnTo>
                          <a:pt x="259" y="63"/>
                        </a:lnTo>
                        <a:lnTo>
                          <a:pt x="264" y="56"/>
                        </a:lnTo>
                        <a:lnTo>
                          <a:pt x="268" y="51"/>
                        </a:lnTo>
                        <a:lnTo>
                          <a:pt x="271" y="45"/>
                        </a:lnTo>
                        <a:lnTo>
                          <a:pt x="277" y="41"/>
                        </a:lnTo>
                        <a:lnTo>
                          <a:pt x="280" y="36"/>
                        </a:lnTo>
                        <a:lnTo>
                          <a:pt x="285" y="32"/>
                        </a:lnTo>
                        <a:lnTo>
                          <a:pt x="288" y="28"/>
                        </a:lnTo>
                        <a:lnTo>
                          <a:pt x="291" y="25"/>
                        </a:lnTo>
                        <a:lnTo>
                          <a:pt x="288" y="25"/>
                        </a:lnTo>
                        <a:lnTo>
                          <a:pt x="285" y="28"/>
                        </a:lnTo>
                        <a:lnTo>
                          <a:pt x="280" y="29"/>
                        </a:lnTo>
                        <a:lnTo>
                          <a:pt x="276" y="33"/>
                        </a:lnTo>
                        <a:lnTo>
                          <a:pt x="271" y="37"/>
                        </a:lnTo>
                        <a:lnTo>
                          <a:pt x="265" y="41"/>
                        </a:lnTo>
                        <a:lnTo>
                          <a:pt x="259" y="47"/>
                        </a:lnTo>
                        <a:lnTo>
                          <a:pt x="254" y="52"/>
                        </a:lnTo>
                        <a:lnTo>
                          <a:pt x="248" y="56"/>
                        </a:lnTo>
                        <a:lnTo>
                          <a:pt x="242" y="62"/>
                        </a:lnTo>
                        <a:lnTo>
                          <a:pt x="236" y="66"/>
                        </a:lnTo>
                        <a:lnTo>
                          <a:pt x="231" y="72"/>
                        </a:lnTo>
                        <a:lnTo>
                          <a:pt x="227" y="76"/>
                        </a:lnTo>
                        <a:lnTo>
                          <a:pt x="224" y="80"/>
                        </a:lnTo>
                        <a:lnTo>
                          <a:pt x="222" y="81"/>
                        </a:lnTo>
                        <a:lnTo>
                          <a:pt x="221" y="84"/>
                        </a:lnTo>
                        <a:lnTo>
                          <a:pt x="219" y="85"/>
                        </a:lnTo>
                        <a:lnTo>
                          <a:pt x="218" y="87"/>
                        </a:lnTo>
                        <a:lnTo>
                          <a:pt x="215" y="89"/>
                        </a:lnTo>
                        <a:lnTo>
                          <a:pt x="212" y="94"/>
                        </a:lnTo>
                        <a:lnTo>
                          <a:pt x="207" y="95"/>
                        </a:lnTo>
                        <a:lnTo>
                          <a:pt x="204" y="98"/>
                        </a:lnTo>
                        <a:lnTo>
                          <a:pt x="201" y="99"/>
                        </a:lnTo>
                        <a:lnTo>
                          <a:pt x="199" y="100"/>
                        </a:lnTo>
                        <a:lnTo>
                          <a:pt x="204" y="94"/>
                        </a:lnTo>
                        <a:lnTo>
                          <a:pt x="208" y="88"/>
                        </a:lnTo>
                        <a:lnTo>
                          <a:pt x="212" y="84"/>
                        </a:lnTo>
                        <a:lnTo>
                          <a:pt x="216" y="78"/>
                        </a:lnTo>
                        <a:lnTo>
                          <a:pt x="219" y="73"/>
                        </a:lnTo>
                        <a:lnTo>
                          <a:pt x="222" y="69"/>
                        </a:lnTo>
                        <a:lnTo>
                          <a:pt x="225" y="65"/>
                        </a:lnTo>
                        <a:lnTo>
                          <a:pt x="228" y="61"/>
                        </a:lnTo>
                        <a:lnTo>
                          <a:pt x="231" y="55"/>
                        </a:lnTo>
                        <a:lnTo>
                          <a:pt x="236" y="51"/>
                        </a:lnTo>
                        <a:lnTo>
                          <a:pt x="239" y="47"/>
                        </a:lnTo>
                        <a:lnTo>
                          <a:pt x="244" y="43"/>
                        </a:lnTo>
                        <a:lnTo>
                          <a:pt x="248" y="39"/>
                        </a:lnTo>
                        <a:lnTo>
                          <a:pt x="254" y="35"/>
                        </a:lnTo>
                        <a:lnTo>
                          <a:pt x="259" y="30"/>
                        </a:lnTo>
                        <a:lnTo>
                          <a:pt x="265" y="26"/>
                        </a:lnTo>
                        <a:lnTo>
                          <a:pt x="267" y="24"/>
                        </a:lnTo>
                        <a:lnTo>
                          <a:pt x="270" y="21"/>
                        </a:lnTo>
                        <a:lnTo>
                          <a:pt x="273" y="17"/>
                        </a:lnTo>
                        <a:lnTo>
                          <a:pt x="277" y="11"/>
                        </a:lnTo>
                        <a:lnTo>
                          <a:pt x="280" y="7"/>
                        </a:lnTo>
                        <a:lnTo>
                          <a:pt x="283" y="3"/>
                        </a:lnTo>
                        <a:lnTo>
                          <a:pt x="285" y="0"/>
                        </a:lnTo>
                        <a:lnTo>
                          <a:pt x="286" y="0"/>
                        </a:lnTo>
                        <a:lnTo>
                          <a:pt x="283" y="0"/>
                        </a:lnTo>
                        <a:lnTo>
                          <a:pt x="280" y="3"/>
                        </a:lnTo>
                        <a:lnTo>
                          <a:pt x="276" y="6"/>
                        </a:lnTo>
                        <a:lnTo>
                          <a:pt x="271" y="10"/>
                        </a:lnTo>
                        <a:lnTo>
                          <a:pt x="265" y="14"/>
                        </a:lnTo>
                        <a:lnTo>
                          <a:pt x="262" y="17"/>
                        </a:lnTo>
                        <a:lnTo>
                          <a:pt x="259" y="19"/>
                        </a:lnTo>
                        <a:lnTo>
                          <a:pt x="257" y="19"/>
                        </a:lnTo>
                        <a:lnTo>
                          <a:pt x="254" y="22"/>
                        </a:lnTo>
                        <a:lnTo>
                          <a:pt x="250" y="26"/>
                        </a:lnTo>
                        <a:lnTo>
                          <a:pt x="247" y="29"/>
                        </a:lnTo>
                        <a:lnTo>
                          <a:pt x="244" y="32"/>
                        </a:lnTo>
                        <a:lnTo>
                          <a:pt x="239" y="35"/>
                        </a:lnTo>
                        <a:lnTo>
                          <a:pt x="236" y="39"/>
                        </a:lnTo>
                        <a:lnTo>
                          <a:pt x="231" y="41"/>
                        </a:lnTo>
                        <a:lnTo>
                          <a:pt x="227" y="44"/>
                        </a:lnTo>
                        <a:lnTo>
                          <a:pt x="224" y="48"/>
                        </a:lnTo>
                        <a:lnTo>
                          <a:pt x="219" y="52"/>
                        </a:lnTo>
                        <a:lnTo>
                          <a:pt x="215" y="55"/>
                        </a:lnTo>
                        <a:lnTo>
                          <a:pt x="210" y="59"/>
                        </a:lnTo>
                        <a:lnTo>
                          <a:pt x="205" y="62"/>
                        </a:lnTo>
                        <a:lnTo>
                          <a:pt x="202" y="66"/>
                        </a:lnTo>
                        <a:lnTo>
                          <a:pt x="198" y="69"/>
                        </a:lnTo>
                        <a:lnTo>
                          <a:pt x="193" y="72"/>
                        </a:lnTo>
                        <a:lnTo>
                          <a:pt x="189" y="74"/>
                        </a:lnTo>
                        <a:lnTo>
                          <a:pt x="186" y="77"/>
                        </a:lnTo>
                        <a:lnTo>
                          <a:pt x="179" y="80"/>
                        </a:lnTo>
                        <a:lnTo>
                          <a:pt x="175" y="83"/>
                        </a:lnTo>
                        <a:lnTo>
                          <a:pt x="172" y="83"/>
                        </a:lnTo>
                        <a:lnTo>
                          <a:pt x="172" y="81"/>
                        </a:lnTo>
                        <a:lnTo>
                          <a:pt x="172" y="80"/>
                        </a:lnTo>
                        <a:lnTo>
                          <a:pt x="175" y="77"/>
                        </a:lnTo>
                        <a:lnTo>
                          <a:pt x="176" y="73"/>
                        </a:lnTo>
                        <a:lnTo>
                          <a:pt x="179" y="70"/>
                        </a:lnTo>
                        <a:lnTo>
                          <a:pt x="176" y="70"/>
                        </a:lnTo>
                        <a:lnTo>
                          <a:pt x="172" y="73"/>
                        </a:lnTo>
                        <a:lnTo>
                          <a:pt x="166" y="76"/>
                        </a:lnTo>
                        <a:lnTo>
                          <a:pt x="160" y="81"/>
                        </a:lnTo>
                        <a:lnTo>
                          <a:pt x="156" y="83"/>
                        </a:lnTo>
                        <a:lnTo>
                          <a:pt x="152" y="85"/>
                        </a:lnTo>
                        <a:lnTo>
                          <a:pt x="149" y="88"/>
                        </a:lnTo>
                        <a:lnTo>
                          <a:pt x="144" y="92"/>
                        </a:lnTo>
                        <a:lnTo>
                          <a:pt x="141" y="95"/>
                        </a:lnTo>
                        <a:lnTo>
                          <a:pt x="138" y="98"/>
                        </a:lnTo>
                        <a:lnTo>
                          <a:pt x="134" y="100"/>
                        </a:lnTo>
                        <a:lnTo>
                          <a:pt x="130" y="105"/>
                        </a:lnTo>
                        <a:lnTo>
                          <a:pt x="127" y="107"/>
                        </a:lnTo>
                        <a:lnTo>
                          <a:pt x="123" y="110"/>
                        </a:lnTo>
                        <a:lnTo>
                          <a:pt x="120" y="113"/>
                        </a:lnTo>
                        <a:lnTo>
                          <a:pt x="115" y="115"/>
                        </a:lnTo>
                        <a:lnTo>
                          <a:pt x="109" y="121"/>
                        </a:lnTo>
                        <a:lnTo>
                          <a:pt x="103" y="128"/>
                        </a:lnTo>
                        <a:lnTo>
                          <a:pt x="97" y="132"/>
                        </a:lnTo>
                        <a:lnTo>
                          <a:pt x="94" y="136"/>
                        </a:lnTo>
                        <a:lnTo>
                          <a:pt x="91" y="140"/>
                        </a:lnTo>
                        <a:lnTo>
                          <a:pt x="89" y="143"/>
                        </a:lnTo>
                        <a:lnTo>
                          <a:pt x="88" y="143"/>
                        </a:lnTo>
                        <a:lnTo>
                          <a:pt x="86" y="144"/>
                        </a:lnTo>
                        <a:lnTo>
                          <a:pt x="83" y="146"/>
                        </a:lnTo>
                        <a:lnTo>
                          <a:pt x="78" y="150"/>
                        </a:lnTo>
                        <a:lnTo>
                          <a:pt x="72" y="153"/>
                        </a:lnTo>
                        <a:lnTo>
                          <a:pt x="68" y="157"/>
                        </a:lnTo>
                        <a:lnTo>
                          <a:pt x="62" y="159"/>
                        </a:lnTo>
                        <a:lnTo>
                          <a:pt x="56" y="165"/>
                        </a:lnTo>
                        <a:lnTo>
                          <a:pt x="49" y="169"/>
                        </a:lnTo>
                        <a:lnTo>
                          <a:pt x="43" y="172"/>
                        </a:lnTo>
                        <a:lnTo>
                          <a:pt x="37" y="176"/>
                        </a:lnTo>
                        <a:lnTo>
                          <a:pt x="31" y="181"/>
                        </a:lnTo>
                        <a:lnTo>
                          <a:pt x="25" y="184"/>
                        </a:lnTo>
                        <a:lnTo>
                          <a:pt x="22" y="187"/>
                        </a:lnTo>
                        <a:lnTo>
                          <a:pt x="17" y="188"/>
                        </a:lnTo>
                        <a:lnTo>
                          <a:pt x="16" y="191"/>
                        </a:lnTo>
                        <a:lnTo>
                          <a:pt x="13" y="188"/>
                        </a:lnTo>
                        <a:lnTo>
                          <a:pt x="14" y="184"/>
                        </a:lnTo>
                        <a:lnTo>
                          <a:pt x="20" y="181"/>
                        </a:lnTo>
                        <a:lnTo>
                          <a:pt x="22" y="179"/>
                        </a:lnTo>
                        <a:lnTo>
                          <a:pt x="26" y="176"/>
                        </a:lnTo>
                        <a:lnTo>
                          <a:pt x="30" y="175"/>
                        </a:lnTo>
                        <a:lnTo>
                          <a:pt x="34" y="172"/>
                        </a:lnTo>
                        <a:lnTo>
                          <a:pt x="37" y="169"/>
                        </a:lnTo>
                        <a:lnTo>
                          <a:pt x="42" y="168"/>
                        </a:lnTo>
                        <a:lnTo>
                          <a:pt x="45" y="165"/>
                        </a:lnTo>
                        <a:lnTo>
                          <a:pt x="48" y="164"/>
                        </a:lnTo>
                        <a:lnTo>
                          <a:pt x="54" y="159"/>
                        </a:lnTo>
                        <a:lnTo>
                          <a:pt x="59" y="157"/>
                        </a:lnTo>
                        <a:lnTo>
                          <a:pt x="62" y="151"/>
                        </a:lnTo>
                        <a:lnTo>
                          <a:pt x="66" y="146"/>
                        </a:lnTo>
                        <a:lnTo>
                          <a:pt x="71" y="140"/>
                        </a:lnTo>
                        <a:lnTo>
                          <a:pt x="77" y="135"/>
                        </a:lnTo>
                        <a:lnTo>
                          <a:pt x="82" y="128"/>
                        </a:lnTo>
                        <a:lnTo>
                          <a:pt x="88" y="124"/>
                        </a:lnTo>
                        <a:lnTo>
                          <a:pt x="92" y="120"/>
                        </a:lnTo>
                        <a:lnTo>
                          <a:pt x="97" y="118"/>
                        </a:lnTo>
                        <a:lnTo>
                          <a:pt x="100" y="111"/>
                        </a:lnTo>
                        <a:lnTo>
                          <a:pt x="94" y="113"/>
                        </a:lnTo>
                        <a:lnTo>
                          <a:pt x="89" y="115"/>
                        </a:lnTo>
                        <a:lnTo>
                          <a:pt x="83" y="118"/>
                        </a:lnTo>
                        <a:lnTo>
                          <a:pt x="78" y="120"/>
                        </a:lnTo>
                        <a:lnTo>
                          <a:pt x="75" y="124"/>
                        </a:lnTo>
                        <a:lnTo>
                          <a:pt x="72" y="128"/>
                        </a:lnTo>
                        <a:lnTo>
                          <a:pt x="69" y="132"/>
                        </a:lnTo>
                        <a:lnTo>
                          <a:pt x="68" y="135"/>
                        </a:lnTo>
                        <a:lnTo>
                          <a:pt x="62" y="140"/>
                        </a:lnTo>
                        <a:lnTo>
                          <a:pt x="59" y="144"/>
                        </a:lnTo>
                        <a:lnTo>
                          <a:pt x="56" y="147"/>
                        </a:lnTo>
                        <a:lnTo>
                          <a:pt x="51" y="150"/>
                        </a:lnTo>
                        <a:lnTo>
                          <a:pt x="48" y="153"/>
                        </a:lnTo>
                        <a:lnTo>
                          <a:pt x="45" y="155"/>
                        </a:lnTo>
                        <a:lnTo>
                          <a:pt x="40" y="157"/>
                        </a:lnTo>
                        <a:lnTo>
                          <a:pt x="36" y="159"/>
                        </a:lnTo>
                        <a:lnTo>
                          <a:pt x="31" y="162"/>
                        </a:lnTo>
                        <a:lnTo>
                          <a:pt x="26" y="165"/>
                        </a:lnTo>
                        <a:lnTo>
                          <a:pt x="23" y="168"/>
                        </a:lnTo>
                        <a:lnTo>
                          <a:pt x="20" y="170"/>
                        </a:lnTo>
                        <a:lnTo>
                          <a:pt x="17" y="173"/>
                        </a:lnTo>
                        <a:lnTo>
                          <a:pt x="14" y="177"/>
                        </a:lnTo>
                        <a:lnTo>
                          <a:pt x="11" y="180"/>
                        </a:lnTo>
                        <a:lnTo>
                          <a:pt x="8" y="184"/>
                        </a:lnTo>
                        <a:lnTo>
                          <a:pt x="4" y="190"/>
                        </a:lnTo>
                        <a:lnTo>
                          <a:pt x="0" y="195"/>
                        </a:lnTo>
                        <a:lnTo>
                          <a:pt x="8" y="195"/>
                        </a:lnTo>
                        <a:lnTo>
                          <a:pt x="14" y="195"/>
                        </a:lnTo>
                        <a:lnTo>
                          <a:pt x="22" y="195"/>
                        </a:lnTo>
                        <a:lnTo>
                          <a:pt x="30" y="195"/>
                        </a:lnTo>
                        <a:lnTo>
                          <a:pt x="37" y="195"/>
                        </a:lnTo>
                        <a:lnTo>
                          <a:pt x="45" y="195"/>
                        </a:lnTo>
                        <a:lnTo>
                          <a:pt x="51" y="195"/>
                        </a:lnTo>
                        <a:lnTo>
                          <a:pt x="59" y="195"/>
                        </a:lnTo>
                        <a:lnTo>
                          <a:pt x="66" y="194"/>
                        </a:lnTo>
                        <a:lnTo>
                          <a:pt x="74" y="194"/>
                        </a:lnTo>
                        <a:lnTo>
                          <a:pt x="80" y="194"/>
                        </a:lnTo>
                        <a:lnTo>
                          <a:pt x="88" y="194"/>
                        </a:lnTo>
                        <a:lnTo>
                          <a:pt x="95" y="194"/>
                        </a:lnTo>
                        <a:lnTo>
                          <a:pt x="103" y="194"/>
                        </a:lnTo>
                        <a:lnTo>
                          <a:pt x="111" y="192"/>
                        </a:lnTo>
                        <a:lnTo>
                          <a:pt x="117" y="192"/>
                        </a:lnTo>
                        <a:lnTo>
                          <a:pt x="124" y="191"/>
                        </a:lnTo>
                        <a:lnTo>
                          <a:pt x="130" y="191"/>
                        </a:lnTo>
                        <a:lnTo>
                          <a:pt x="138" y="191"/>
                        </a:lnTo>
                        <a:lnTo>
                          <a:pt x="146" y="191"/>
                        </a:lnTo>
                        <a:lnTo>
                          <a:pt x="153" y="190"/>
                        </a:lnTo>
                        <a:lnTo>
                          <a:pt x="160" y="190"/>
                        </a:lnTo>
                        <a:lnTo>
                          <a:pt x="167" y="188"/>
                        </a:lnTo>
                        <a:lnTo>
                          <a:pt x="175" y="188"/>
                        </a:lnTo>
                        <a:lnTo>
                          <a:pt x="182" y="187"/>
                        </a:lnTo>
                        <a:lnTo>
                          <a:pt x="189" y="187"/>
                        </a:lnTo>
                        <a:lnTo>
                          <a:pt x="196" y="186"/>
                        </a:lnTo>
                        <a:lnTo>
                          <a:pt x="204" y="186"/>
                        </a:lnTo>
                        <a:lnTo>
                          <a:pt x="212" y="184"/>
                        </a:lnTo>
                        <a:lnTo>
                          <a:pt x="219" y="184"/>
                        </a:lnTo>
                        <a:lnTo>
                          <a:pt x="227" y="184"/>
                        </a:lnTo>
                        <a:lnTo>
                          <a:pt x="234" y="184"/>
                        </a:lnTo>
                        <a:lnTo>
                          <a:pt x="242" y="183"/>
                        </a:lnTo>
                        <a:lnTo>
                          <a:pt x="250" y="181"/>
                        </a:lnTo>
                        <a:lnTo>
                          <a:pt x="257" y="181"/>
                        </a:lnTo>
                        <a:lnTo>
                          <a:pt x="265" y="181"/>
                        </a:lnTo>
                        <a:lnTo>
                          <a:pt x="273" y="180"/>
                        </a:lnTo>
                        <a:lnTo>
                          <a:pt x="280" y="180"/>
                        </a:lnTo>
                        <a:lnTo>
                          <a:pt x="288" y="179"/>
                        </a:lnTo>
                        <a:lnTo>
                          <a:pt x="296" y="179"/>
                        </a:lnTo>
                        <a:lnTo>
                          <a:pt x="303" y="177"/>
                        </a:lnTo>
                        <a:lnTo>
                          <a:pt x="312" y="177"/>
                        </a:lnTo>
                        <a:lnTo>
                          <a:pt x="320" y="177"/>
                        </a:lnTo>
                        <a:lnTo>
                          <a:pt x="328" y="177"/>
                        </a:lnTo>
                        <a:lnTo>
                          <a:pt x="337" y="176"/>
                        </a:lnTo>
                        <a:lnTo>
                          <a:pt x="345" y="176"/>
                        </a:lnTo>
                        <a:lnTo>
                          <a:pt x="354" y="175"/>
                        </a:lnTo>
                        <a:lnTo>
                          <a:pt x="363" y="175"/>
                        </a:lnTo>
                        <a:lnTo>
                          <a:pt x="371" y="175"/>
                        </a:lnTo>
                        <a:lnTo>
                          <a:pt x="380" y="175"/>
                        </a:lnTo>
                        <a:lnTo>
                          <a:pt x="387" y="173"/>
                        </a:lnTo>
                        <a:lnTo>
                          <a:pt x="398" y="173"/>
                        </a:lnTo>
                        <a:lnTo>
                          <a:pt x="406" y="173"/>
                        </a:lnTo>
                        <a:lnTo>
                          <a:pt x="415" y="173"/>
                        </a:lnTo>
                        <a:lnTo>
                          <a:pt x="426" y="173"/>
                        </a:lnTo>
                        <a:lnTo>
                          <a:pt x="435" y="173"/>
                        </a:lnTo>
                        <a:lnTo>
                          <a:pt x="444" y="173"/>
                        </a:lnTo>
                        <a:lnTo>
                          <a:pt x="453" y="173"/>
                        </a:lnTo>
                        <a:lnTo>
                          <a:pt x="462" y="173"/>
                        </a:lnTo>
                        <a:lnTo>
                          <a:pt x="473" y="173"/>
                        </a:lnTo>
                        <a:lnTo>
                          <a:pt x="482" y="173"/>
                        </a:lnTo>
                        <a:lnTo>
                          <a:pt x="493" y="173"/>
                        </a:lnTo>
                        <a:lnTo>
                          <a:pt x="502" y="175"/>
                        </a:lnTo>
                        <a:lnTo>
                          <a:pt x="513" y="175"/>
                        </a:lnTo>
                        <a:lnTo>
                          <a:pt x="470" y="184"/>
                        </a:lnTo>
                        <a:lnTo>
                          <a:pt x="478" y="183"/>
                        </a:lnTo>
                        <a:lnTo>
                          <a:pt x="484" y="183"/>
                        </a:lnTo>
                        <a:lnTo>
                          <a:pt x="490" y="183"/>
                        </a:lnTo>
                        <a:lnTo>
                          <a:pt x="498" y="183"/>
                        </a:lnTo>
                        <a:lnTo>
                          <a:pt x="501" y="181"/>
                        </a:lnTo>
                        <a:lnTo>
                          <a:pt x="504" y="181"/>
                        </a:lnTo>
                        <a:lnTo>
                          <a:pt x="507" y="181"/>
                        </a:lnTo>
                        <a:lnTo>
                          <a:pt x="511" y="181"/>
                        </a:lnTo>
                        <a:lnTo>
                          <a:pt x="514" y="181"/>
                        </a:lnTo>
                        <a:lnTo>
                          <a:pt x="517" y="181"/>
                        </a:lnTo>
                        <a:lnTo>
                          <a:pt x="522" y="181"/>
                        </a:lnTo>
                        <a:lnTo>
                          <a:pt x="525" y="181"/>
                        </a:lnTo>
                        <a:lnTo>
                          <a:pt x="531" y="180"/>
                        </a:lnTo>
                        <a:lnTo>
                          <a:pt x="539" y="180"/>
                        </a:lnTo>
                        <a:lnTo>
                          <a:pt x="542" y="179"/>
                        </a:lnTo>
                        <a:lnTo>
                          <a:pt x="545" y="179"/>
                        </a:lnTo>
                        <a:lnTo>
                          <a:pt x="550" y="179"/>
                        </a:lnTo>
                        <a:lnTo>
                          <a:pt x="553" y="179"/>
                        </a:lnTo>
                        <a:lnTo>
                          <a:pt x="556" y="177"/>
                        </a:lnTo>
                        <a:lnTo>
                          <a:pt x="559" y="177"/>
                        </a:lnTo>
                        <a:lnTo>
                          <a:pt x="563" y="177"/>
                        </a:lnTo>
                        <a:lnTo>
                          <a:pt x="566" y="177"/>
                        </a:lnTo>
                        <a:lnTo>
                          <a:pt x="569" y="177"/>
                        </a:lnTo>
                        <a:lnTo>
                          <a:pt x="574" y="177"/>
                        </a:lnTo>
                        <a:lnTo>
                          <a:pt x="577" y="177"/>
                        </a:lnTo>
                        <a:lnTo>
                          <a:pt x="582" y="177"/>
                        </a:lnTo>
                        <a:lnTo>
                          <a:pt x="576" y="172"/>
                        </a:lnTo>
                        <a:lnTo>
                          <a:pt x="569" y="166"/>
                        </a:lnTo>
                        <a:lnTo>
                          <a:pt x="563" y="162"/>
                        </a:lnTo>
                        <a:lnTo>
                          <a:pt x="559" y="157"/>
                        </a:lnTo>
                        <a:lnTo>
                          <a:pt x="553" y="151"/>
                        </a:lnTo>
                        <a:lnTo>
                          <a:pt x="547" y="147"/>
                        </a:lnTo>
                        <a:lnTo>
                          <a:pt x="540" y="142"/>
                        </a:lnTo>
                        <a:lnTo>
                          <a:pt x="536" y="137"/>
                        </a:lnTo>
                        <a:lnTo>
                          <a:pt x="528" y="132"/>
                        </a:lnTo>
                        <a:lnTo>
                          <a:pt x="524" y="126"/>
                        </a:lnTo>
                        <a:lnTo>
                          <a:pt x="517" y="122"/>
                        </a:lnTo>
                        <a:lnTo>
                          <a:pt x="511" y="117"/>
                        </a:lnTo>
                        <a:lnTo>
                          <a:pt x="505" y="111"/>
                        </a:lnTo>
                        <a:lnTo>
                          <a:pt x="501" y="107"/>
                        </a:lnTo>
                        <a:lnTo>
                          <a:pt x="495" y="102"/>
                        </a:lnTo>
                        <a:lnTo>
                          <a:pt x="488" y="98"/>
                        </a:lnTo>
                        <a:lnTo>
                          <a:pt x="482" y="92"/>
                        </a:lnTo>
                        <a:lnTo>
                          <a:pt x="476" y="87"/>
                        </a:lnTo>
                        <a:lnTo>
                          <a:pt x="470" y="83"/>
                        </a:lnTo>
                        <a:lnTo>
                          <a:pt x="465" y="77"/>
                        </a:lnTo>
                        <a:lnTo>
                          <a:pt x="459" y="72"/>
                        </a:lnTo>
                        <a:lnTo>
                          <a:pt x="453" y="67"/>
                        </a:lnTo>
                        <a:lnTo>
                          <a:pt x="447" y="62"/>
                        </a:lnTo>
                        <a:lnTo>
                          <a:pt x="441" y="58"/>
                        </a:lnTo>
                        <a:lnTo>
                          <a:pt x="435" y="52"/>
                        </a:lnTo>
                        <a:lnTo>
                          <a:pt x="429" y="48"/>
                        </a:lnTo>
                        <a:lnTo>
                          <a:pt x="423" y="44"/>
                        </a:lnTo>
                        <a:lnTo>
                          <a:pt x="418" y="39"/>
                        </a:lnTo>
                        <a:lnTo>
                          <a:pt x="412" y="35"/>
                        </a:lnTo>
                        <a:lnTo>
                          <a:pt x="406" y="30"/>
                        </a:lnTo>
                        <a:lnTo>
                          <a:pt x="400" y="26"/>
                        </a:lnTo>
                        <a:lnTo>
                          <a:pt x="395" y="22"/>
                        </a:lnTo>
                        <a:lnTo>
                          <a:pt x="392" y="21"/>
                        </a:lnTo>
                        <a:lnTo>
                          <a:pt x="386" y="18"/>
                        </a:lnTo>
                        <a:lnTo>
                          <a:pt x="380" y="14"/>
                        </a:lnTo>
                        <a:lnTo>
                          <a:pt x="377" y="14"/>
                        </a:lnTo>
                        <a:lnTo>
                          <a:pt x="453" y="81"/>
                        </a:lnTo>
                        <a:lnTo>
                          <a:pt x="426" y="67"/>
                        </a:lnTo>
                        <a:lnTo>
                          <a:pt x="429" y="70"/>
                        </a:lnTo>
                        <a:lnTo>
                          <a:pt x="432" y="73"/>
                        </a:lnTo>
                        <a:lnTo>
                          <a:pt x="435" y="76"/>
                        </a:lnTo>
                        <a:lnTo>
                          <a:pt x="439" y="80"/>
                        </a:lnTo>
                        <a:lnTo>
                          <a:pt x="443" y="83"/>
                        </a:lnTo>
                        <a:lnTo>
                          <a:pt x="447" y="85"/>
                        </a:lnTo>
                        <a:lnTo>
                          <a:pt x="450" y="88"/>
                        </a:lnTo>
                        <a:lnTo>
                          <a:pt x="455" y="91"/>
                        </a:lnTo>
                        <a:lnTo>
                          <a:pt x="459" y="94"/>
                        </a:lnTo>
                        <a:lnTo>
                          <a:pt x="462" y="96"/>
                        </a:lnTo>
                        <a:lnTo>
                          <a:pt x="467" y="99"/>
                        </a:lnTo>
                        <a:lnTo>
                          <a:pt x="470" y="102"/>
                        </a:lnTo>
                        <a:lnTo>
                          <a:pt x="475" y="106"/>
                        </a:lnTo>
                        <a:lnTo>
                          <a:pt x="478" y="109"/>
                        </a:lnTo>
                        <a:lnTo>
                          <a:pt x="482" y="113"/>
                        </a:lnTo>
                        <a:lnTo>
                          <a:pt x="485" y="115"/>
                        </a:lnTo>
                        <a:lnTo>
                          <a:pt x="372" y="36"/>
                        </a:lnTo>
                        <a:lnTo>
                          <a:pt x="369" y="35"/>
                        </a:lnTo>
                        <a:lnTo>
                          <a:pt x="366" y="32"/>
                        </a:lnTo>
                        <a:lnTo>
                          <a:pt x="363" y="29"/>
                        </a:lnTo>
                        <a:lnTo>
                          <a:pt x="360" y="26"/>
                        </a:lnTo>
                        <a:lnTo>
                          <a:pt x="355" y="24"/>
                        </a:lnTo>
                        <a:lnTo>
                          <a:pt x="352" y="21"/>
                        </a:lnTo>
                        <a:lnTo>
                          <a:pt x="348" y="18"/>
                        </a:lnTo>
                        <a:lnTo>
                          <a:pt x="345" y="15"/>
                        </a:lnTo>
                        <a:lnTo>
                          <a:pt x="342" y="11"/>
                        </a:lnTo>
                        <a:lnTo>
                          <a:pt x="337" y="10"/>
                        </a:lnTo>
                        <a:lnTo>
                          <a:pt x="334" y="7"/>
                        </a:lnTo>
                        <a:lnTo>
                          <a:pt x="331" y="6"/>
                        </a:lnTo>
                        <a:lnTo>
                          <a:pt x="326" y="4"/>
                        </a:lnTo>
                        <a:lnTo>
                          <a:pt x="323" y="7"/>
                        </a:lnTo>
                        <a:lnTo>
                          <a:pt x="328" y="11"/>
                        </a:lnTo>
                        <a:lnTo>
                          <a:pt x="332" y="14"/>
                        </a:lnTo>
                        <a:lnTo>
                          <a:pt x="339" y="18"/>
                        </a:lnTo>
                        <a:lnTo>
                          <a:pt x="345" y="24"/>
                        </a:lnTo>
                        <a:lnTo>
                          <a:pt x="351" y="26"/>
                        </a:lnTo>
                        <a:lnTo>
                          <a:pt x="355" y="30"/>
                        </a:lnTo>
                        <a:lnTo>
                          <a:pt x="361" y="35"/>
                        </a:lnTo>
                        <a:lnTo>
                          <a:pt x="365" y="39"/>
                        </a:lnTo>
                        <a:lnTo>
                          <a:pt x="369" y="43"/>
                        </a:lnTo>
                        <a:lnTo>
                          <a:pt x="374" y="47"/>
                        </a:lnTo>
                        <a:lnTo>
                          <a:pt x="378" y="51"/>
                        </a:lnTo>
                        <a:lnTo>
                          <a:pt x="384" y="55"/>
                        </a:lnTo>
                        <a:lnTo>
                          <a:pt x="389" y="59"/>
                        </a:lnTo>
                        <a:lnTo>
                          <a:pt x="395" y="63"/>
                        </a:lnTo>
                        <a:lnTo>
                          <a:pt x="400" y="67"/>
                        </a:lnTo>
                        <a:lnTo>
                          <a:pt x="406" y="72"/>
                        </a:lnTo>
                        <a:lnTo>
                          <a:pt x="410" y="74"/>
                        </a:lnTo>
                        <a:lnTo>
                          <a:pt x="415" y="80"/>
                        </a:lnTo>
                        <a:lnTo>
                          <a:pt x="421" y="83"/>
                        </a:lnTo>
                        <a:lnTo>
                          <a:pt x="426" y="87"/>
                        </a:lnTo>
                        <a:lnTo>
                          <a:pt x="430" y="91"/>
                        </a:lnTo>
                        <a:lnTo>
                          <a:pt x="436" y="95"/>
                        </a:lnTo>
                        <a:lnTo>
                          <a:pt x="439" y="99"/>
                        </a:lnTo>
                        <a:lnTo>
                          <a:pt x="446" y="105"/>
                        </a:lnTo>
                        <a:lnTo>
                          <a:pt x="449" y="107"/>
                        </a:lnTo>
                        <a:lnTo>
                          <a:pt x="453" y="113"/>
                        </a:lnTo>
                        <a:lnTo>
                          <a:pt x="458" y="118"/>
                        </a:lnTo>
                        <a:lnTo>
                          <a:pt x="461" y="120"/>
                        </a:lnTo>
                        <a:lnTo>
                          <a:pt x="458" y="120"/>
                        </a:lnTo>
                        <a:lnTo>
                          <a:pt x="455" y="118"/>
                        </a:lnTo>
                        <a:lnTo>
                          <a:pt x="452" y="117"/>
                        </a:lnTo>
                        <a:lnTo>
                          <a:pt x="447" y="114"/>
                        </a:lnTo>
                        <a:lnTo>
                          <a:pt x="444" y="113"/>
                        </a:lnTo>
                        <a:lnTo>
                          <a:pt x="441" y="110"/>
                        </a:lnTo>
                        <a:lnTo>
                          <a:pt x="438" y="109"/>
                        </a:lnTo>
                        <a:lnTo>
                          <a:pt x="433" y="106"/>
                        </a:lnTo>
                        <a:lnTo>
                          <a:pt x="429" y="102"/>
                        </a:lnTo>
                        <a:lnTo>
                          <a:pt x="426" y="99"/>
                        </a:lnTo>
                        <a:lnTo>
                          <a:pt x="423" y="98"/>
                        </a:lnTo>
                        <a:lnTo>
                          <a:pt x="418" y="95"/>
                        </a:lnTo>
                        <a:lnTo>
                          <a:pt x="415" y="92"/>
                        </a:lnTo>
                        <a:lnTo>
                          <a:pt x="410" y="88"/>
                        </a:lnTo>
                        <a:lnTo>
                          <a:pt x="407" y="84"/>
                        </a:lnTo>
                        <a:lnTo>
                          <a:pt x="403" y="81"/>
                        </a:lnTo>
                        <a:lnTo>
                          <a:pt x="398" y="77"/>
                        </a:lnTo>
                        <a:lnTo>
                          <a:pt x="394" y="73"/>
                        </a:lnTo>
                        <a:lnTo>
                          <a:pt x="391" y="70"/>
                        </a:lnTo>
                        <a:lnTo>
                          <a:pt x="384" y="66"/>
                        </a:lnTo>
                        <a:lnTo>
                          <a:pt x="381" y="63"/>
                        </a:lnTo>
                        <a:lnTo>
                          <a:pt x="377" y="59"/>
                        </a:lnTo>
                        <a:lnTo>
                          <a:pt x="372" y="55"/>
                        </a:lnTo>
                        <a:lnTo>
                          <a:pt x="368" y="51"/>
                        </a:lnTo>
                        <a:lnTo>
                          <a:pt x="363" y="48"/>
                        </a:lnTo>
                        <a:lnTo>
                          <a:pt x="358" y="44"/>
                        </a:lnTo>
                        <a:lnTo>
                          <a:pt x="355" y="41"/>
                        </a:lnTo>
                        <a:lnTo>
                          <a:pt x="351" y="39"/>
                        </a:lnTo>
                        <a:lnTo>
                          <a:pt x="348" y="36"/>
                        </a:lnTo>
                        <a:lnTo>
                          <a:pt x="343" y="33"/>
                        </a:lnTo>
                        <a:lnTo>
                          <a:pt x="340" y="32"/>
                        </a:lnTo>
                        <a:lnTo>
                          <a:pt x="337" y="29"/>
                        </a:lnTo>
                        <a:lnTo>
                          <a:pt x="335" y="29"/>
                        </a:lnTo>
                        <a:lnTo>
                          <a:pt x="331" y="26"/>
                        </a:lnTo>
                        <a:lnTo>
                          <a:pt x="329" y="26"/>
                        </a:lnTo>
                        <a:lnTo>
                          <a:pt x="331" y="29"/>
                        </a:lnTo>
                        <a:lnTo>
                          <a:pt x="332" y="32"/>
                        </a:lnTo>
                        <a:lnTo>
                          <a:pt x="334" y="36"/>
                        </a:lnTo>
                        <a:lnTo>
                          <a:pt x="337" y="39"/>
                        </a:lnTo>
                        <a:lnTo>
                          <a:pt x="372" y="66"/>
                        </a:lnTo>
                        <a:lnTo>
                          <a:pt x="374" y="74"/>
                        </a:lnTo>
                        <a:lnTo>
                          <a:pt x="378" y="78"/>
                        </a:lnTo>
                        <a:lnTo>
                          <a:pt x="383" y="83"/>
                        </a:lnTo>
                        <a:lnTo>
                          <a:pt x="387" y="85"/>
                        </a:lnTo>
                        <a:lnTo>
                          <a:pt x="392" y="89"/>
                        </a:lnTo>
                        <a:lnTo>
                          <a:pt x="397" y="92"/>
                        </a:lnTo>
                        <a:lnTo>
                          <a:pt x="401" y="95"/>
                        </a:lnTo>
                        <a:lnTo>
                          <a:pt x="406" y="99"/>
                        </a:lnTo>
                        <a:lnTo>
                          <a:pt x="410" y="102"/>
                        </a:lnTo>
                        <a:lnTo>
                          <a:pt x="415" y="105"/>
                        </a:lnTo>
                        <a:lnTo>
                          <a:pt x="420" y="109"/>
                        </a:lnTo>
                        <a:lnTo>
                          <a:pt x="424" y="111"/>
                        </a:lnTo>
                        <a:lnTo>
                          <a:pt x="429" y="115"/>
                        </a:lnTo>
                        <a:lnTo>
                          <a:pt x="433" y="118"/>
                        </a:lnTo>
                        <a:lnTo>
                          <a:pt x="438" y="122"/>
                        </a:lnTo>
                        <a:lnTo>
                          <a:pt x="443" y="126"/>
                        </a:lnTo>
                        <a:lnTo>
                          <a:pt x="447" y="132"/>
                        </a:lnTo>
                        <a:lnTo>
                          <a:pt x="444" y="132"/>
                        </a:lnTo>
                        <a:lnTo>
                          <a:pt x="439" y="132"/>
                        </a:lnTo>
                        <a:lnTo>
                          <a:pt x="436" y="132"/>
                        </a:lnTo>
                        <a:lnTo>
                          <a:pt x="432" y="132"/>
                        </a:lnTo>
                        <a:lnTo>
                          <a:pt x="429" y="132"/>
                        </a:lnTo>
                        <a:lnTo>
                          <a:pt x="426" y="132"/>
                        </a:lnTo>
                        <a:lnTo>
                          <a:pt x="421" y="132"/>
                        </a:lnTo>
                        <a:lnTo>
                          <a:pt x="418" y="132"/>
                        </a:lnTo>
                        <a:lnTo>
                          <a:pt x="415" y="132"/>
                        </a:lnTo>
                        <a:lnTo>
                          <a:pt x="410" y="132"/>
                        </a:lnTo>
                        <a:lnTo>
                          <a:pt x="407" y="132"/>
                        </a:lnTo>
                        <a:lnTo>
                          <a:pt x="403" y="132"/>
                        </a:lnTo>
                        <a:lnTo>
                          <a:pt x="400" y="132"/>
                        </a:lnTo>
                        <a:lnTo>
                          <a:pt x="395" y="132"/>
                        </a:lnTo>
                        <a:lnTo>
                          <a:pt x="392" y="132"/>
                        </a:lnTo>
                        <a:lnTo>
                          <a:pt x="389" y="132"/>
                        </a:lnTo>
                        <a:lnTo>
                          <a:pt x="384" y="132"/>
                        </a:lnTo>
                        <a:lnTo>
                          <a:pt x="381" y="132"/>
                        </a:lnTo>
                        <a:lnTo>
                          <a:pt x="378" y="132"/>
                        </a:lnTo>
                        <a:lnTo>
                          <a:pt x="374" y="132"/>
                        </a:lnTo>
                        <a:lnTo>
                          <a:pt x="371" y="132"/>
                        </a:lnTo>
                        <a:lnTo>
                          <a:pt x="366" y="132"/>
                        </a:lnTo>
                        <a:lnTo>
                          <a:pt x="363" y="132"/>
                        </a:lnTo>
                        <a:lnTo>
                          <a:pt x="360" y="132"/>
                        </a:lnTo>
                        <a:lnTo>
                          <a:pt x="355" y="132"/>
                        </a:lnTo>
                        <a:lnTo>
                          <a:pt x="352" y="132"/>
                        </a:lnTo>
                        <a:lnTo>
                          <a:pt x="348" y="132"/>
                        </a:lnTo>
                        <a:lnTo>
                          <a:pt x="345" y="132"/>
                        </a:lnTo>
                        <a:lnTo>
                          <a:pt x="340" y="132"/>
                        </a:lnTo>
                        <a:lnTo>
                          <a:pt x="337" y="132"/>
                        </a:lnTo>
                        <a:lnTo>
                          <a:pt x="332" y="132"/>
                        </a:lnTo>
                        <a:lnTo>
                          <a:pt x="329" y="132"/>
                        </a:lnTo>
                        <a:lnTo>
                          <a:pt x="326" y="132"/>
                        </a:lnTo>
                        <a:lnTo>
                          <a:pt x="323" y="132"/>
                        </a:lnTo>
                        <a:lnTo>
                          <a:pt x="319" y="132"/>
                        </a:lnTo>
                        <a:lnTo>
                          <a:pt x="316" y="132"/>
                        </a:lnTo>
                        <a:lnTo>
                          <a:pt x="311" y="132"/>
                        </a:lnTo>
                        <a:lnTo>
                          <a:pt x="308" y="132"/>
                        </a:lnTo>
                        <a:lnTo>
                          <a:pt x="303" y="132"/>
                        </a:lnTo>
                        <a:lnTo>
                          <a:pt x="300" y="132"/>
                        </a:lnTo>
                        <a:lnTo>
                          <a:pt x="296" y="132"/>
                        </a:lnTo>
                        <a:lnTo>
                          <a:pt x="293" y="132"/>
                        </a:lnTo>
                        <a:lnTo>
                          <a:pt x="288" y="132"/>
                        </a:lnTo>
                        <a:lnTo>
                          <a:pt x="285" y="132"/>
                        </a:lnTo>
                        <a:lnTo>
                          <a:pt x="282" y="132"/>
                        </a:lnTo>
                        <a:lnTo>
                          <a:pt x="279" y="132"/>
                        </a:lnTo>
                        <a:lnTo>
                          <a:pt x="274" y="132"/>
                        </a:lnTo>
                        <a:lnTo>
                          <a:pt x="271" y="133"/>
                        </a:lnTo>
                        <a:lnTo>
                          <a:pt x="268" y="133"/>
                        </a:lnTo>
                        <a:lnTo>
                          <a:pt x="265" y="133"/>
                        </a:lnTo>
                        <a:lnTo>
                          <a:pt x="260" y="133"/>
                        </a:lnTo>
                        <a:lnTo>
                          <a:pt x="257" y="133"/>
                        </a:lnTo>
                        <a:lnTo>
                          <a:pt x="254" y="133"/>
                        </a:lnTo>
                        <a:lnTo>
                          <a:pt x="251" y="133"/>
                        </a:lnTo>
                        <a:lnTo>
                          <a:pt x="247" y="133"/>
                        </a:lnTo>
                        <a:lnTo>
                          <a:pt x="244" y="135"/>
                        </a:lnTo>
                        <a:lnTo>
                          <a:pt x="238" y="135"/>
                        </a:lnTo>
                        <a:lnTo>
                          <a:pt x="230" y="135"/>
                        </a:lnTo>
                        <a:lnTo>
                          <a:pt x="224" y="135"/>
                        </a:lnTo>
                        <a:lnTo>
                          <a:pt x="218" y="136"/>
                        </a:lnTo>
                        <a:lnTo>
                          <a:pt x="198" y="13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Freeform 266"/>
                  <p:cNvSpPr/>
                  <p:nvPr/>
                </p:nvSpPr>
                <p:spPr>
                  <a:xfrm>
                    <a:off x="4408920" y="3504240"/>
                    <a:ext cx="15120" cy="1440"/>
                  </a:xfrm>
                  <a:custGeom>
                    <a:avLst/>
                    <a:gdLst>
                      <a:gd name="textAreaLeft" fmla="*/ 0 w 15120"/>
                      <a:gd name="textAreaRight" fmla="*/ 15480 w 1512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105" h="12">
                        <a:moveTo>
                          <a:pt x="105" y="0"/>
                        </a:moveTo>
                        <a:lnTo>
                          <a:pt x="101" y="0"/>
                        </a:lnTo>
                        <a:lnTo>
                          <a:pt x="96" y="0"/>
                        </a:lnTo>
                        <a:lnTo>
                          <a:pt x="93" y="0"/>
                        </a:lnTo>
                        <a:lnTo>
                          <a:pt x="90" y="0"/>
                        </a:lnTo>
                        <a:lnTo>
                          <a:pt x="85" y="0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3" y="1"/>
                        </a:lnTo>
                        <a:lnTo>
                          <a:pt x="68" y="1"/>
                        </a:lnTo>
                        <a:lnTo>
                          <a:pt x="65" y="3"/>
                        </a:lnTo>
                        <a:lnTo>
                          <a:pt x="61" y="3"/>
                        </a:lnTo>
                        <a:lnTo>
                          <a:pt x="56" y="3"/>
                        </a:lnTo>
                        <a:lnTo>
                          <a:pt x="52" y="3"/>
                        </a:lnTo>
                        <a:lnTo>
                          <a:pt x="49" y="4"/>
                        </a:lnTo>
                        <a:lnTo>
                          <a:pt x="44" y="4"/>
                        </a:lnTo>
                        <a:lnTo>
                          <a:pt x="39" y="4"/>
                        </a:lnTo>
                        <a:lnTo>
                          <a:pt x="35" y="6"/>
                        </a:lnTo>
                        <a:lnTo>
                          <a:pt x="32" y="6"/>
                        </a:lnTo>
                        <a:lnTo>
                          <a:pt x="27" y="6"/>
                        </a:lnTo>
                        <a:lnTo>
                          <a:pt x="23" y="6"/>
                        </a:lnTo>
                        <a:lnTo>
                          <a:pt x="20" y="7"/>
                        </a:lnTo>
                        <a:lnTo>
                          <a:pt x="16" y="8"/>
                        </a:lnTo>
                        <a:lnTo>
                          <a:pt x="10" y="8"/>
                        </a:lnTo>
                        <a:lnTo>
                          <a:pt x="4" y="10"/>
                        </a:lnTo>
                        <a:lnTo>
                          <a:pt x="1" y="11"/>
                        </a:lnTo>
                        <a:lnTo>
                          <a:pt x="0" y="12"/>
                        </a:lnTo>
                        <a:lnTo>
                          <a:pt x="4" y="12"/>
                        </a:lnTo>
                        <a:lnTo>
                          <a:pt x="12" y="12"/>
                        </a:lnTo>
                        <a:lnTo>
                          <a:pt x="15" y="11"/>
                        </a:lnTo>
                        <a:lnTo>
                          <a:pt x="18" y="11"/>
                        </a:lnTo>
                        <a:lnTo>
                          <a:pt x="24" y="10"/>
                        </a:lnTo>
                        <a:lnTo>
                          <a:pt x="30" y="10"/>
                        </a:lnTo>
                        <a:lnTo>
                          <a:pt x="35" y="8"/>
                        </a:lnTo>
                        <a:lnTo>
                          <a:pt x="41" y="8"/>
                        </a:lnTo>
                        <a:lnTo>
                          <a:pt x="46" y="8"/>
                        </a:lnTo>
                        <a:lnTo>
                          <a:pt x="47" y="10"/>
                        </a:lnTo>
                        <a:lnTo>
                          <a:pt x="76" y="6"/>
                        </a:lnTo>
                        <a:lnTo>
                          <a:pt x="76" y="7"/>
                        </a:lnTo>
                        <a:lnTo>
                          <a:pt x="79" y="7"/>
                        </a:lnTo>
                        <a:lnTo>
                          <a:pt x="84" y="7"/>
                        </a:lnTo>
                        <a:lnTo>
                          <a:pt x="87" y="6"/>
                        </a:lnTo>
                        <a:lnTo>
                          <a:pt x="93" y="6"/>
                        </a:lnTo>
                        <a:lnTo>
                          <a:pt x="96" y="6"/>
                        </a:lnTo>
                        <a:lnTo>
                          <a:pt x="101" y="4"/>
                        </a:lnTo>
                        <a:lnTo>
                          <a:pt x="104" y="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Freeform 267"/>
                  <p:cNvSpPr/>
                  <p:nvPr/>
                </p:nvSpPr>
                <p:spPr>
                  <a:xfrm>
                    <a:off x="4439160" y="3504600"/>
                    <a:ext cx="18000" cy="720"/>
                  </a:xfrm>
                  <a:custGeom>
                    <a:avLst/>
                    <a:gdLst>
                      <a:gd name="textAreaLeft" fmla="*/ 0 w 18000"/>
                      <a:gd name="textAreaRight" fmla="*/ 18360 w 1800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24" h="9">
                        <a:moveTo>
                          <a:pt x="124" y="4"/>
                        </a:moveTo>
                        <a:lnTo>
                          <a:pt x="120" y="4"/>
                        </a:lnTo>
                        <a:lnTo>
                          <a:pt x="116" y="4"/>
                        </a:lnTo>
                        <a:lnTo>
                          <a:pt x="112" y="4"/>
                        </a:lnTo>
                        <a:lnTo>
                          <a:pt x="109" y="4"/>
                        </a:lnTo>
                        <a:lnTo>
                          <a:pt x="104" y="4"/>
                        </a:lnTo>
                        <a:lnTo>
                          <a:pt x="100" y="5"/>
                        </a:lnTo>
                        <a:lnTo>
                          <a:pt x="95" y="5"/>
                        </a:lnTo>
                        <a:lnTo>
                          <a:pt x="92" y="7"/>
                        </a:lnTo>
                        <a:lnTo>
                          <a:pt x="87" y="7"/>
                        </a:lnTo>
                        <a:lnTo>
                          <a:pt x="83" y="7"/>
                        </a:lnTo>
                        <a:lnTo>
                          <a:pt x="77" y="7"/>
                        </a:lnTo>
                        <a:lnTo>
                          <a:pt x="74" y="8"/>
                        </a:lnTo>
                        <a:lnTo>
                          <a:pt x="68" y="8"/>
                        </a:lnTo>
                        <a:lnTo>
                          <a:pt x="63" y="8"/>
                        </a:lnTo>
                        <a:lnTo>
                          <a:pt x="58" y="9"/>
                        </a:lnTo>
                        <a:lnTo>
                          <a:pt x="54" y="9"/>
                        </a:lnTo>
                        <a:lnTo>
                          <a:pt x="49" y="9"/>
                        </a:lnTo>
                        <a:lnTo>
                          <a:pt x="45" y="9"/>
                        </a:lnTo>
                        <a:lnTo>
                          <a:pt x="40" y="9"/>
                        </a:lnTo>
                        <a:lnTo>
                          <a:pt x="35" y="9"/>
                        </a:lnTo>
                        <a:lnTo>
                          <a:pt x="32" y="9"/>
                        </a:lnTo>
                        <a:lnTo>
                          <a:pt x="28" y="9"/>
                        </a:lnTo>
                        <a:lnTo>
                          <a:pt x="25" y="9"/>
                        </a:lnTo>
                        <a:lnTo>
                          <a:pt x="20" y="9"/>
                        </a:lnTo>
                        <a:lnTo>
                          <a:pt x="17" y="9"/>
                        </a:lnTo>
                        <a:lnTo>
                          <a:pt x="14" y="9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3" y="7"/>
                        </a:lnTo>
                        <a:lnTo>
                          <a:pt x="0" y="4"/>
                        </a:lnTo>
                        <a:lnTo>
                          <a:pt x="5" y="4"/>
                        </a:lnTo>
                        <a:lnTo>
                          <a:pt x="8" y="4"/>
                        </a:lnTo>
                        <a:lnTo>
                          <a:pt x="12" y="4"/>
                        </a:lnTo>
                        <a:lnTo>
                          <a:pt x="17" y="4"/>
                        </a:lnTo>
                        <a:lnTo>
                          <a:pt x="20" y="4"/>
                        </a:lnTo>
                        <a:lnTo>
                          <a:pt x="25" y="4"/>
                        </a:lnTo>
                        <a:lnTo>
                          <a:pt x="29" y="4"/>
                        </a:lnTo>
                        <a:lnTo>
                          <a:pt x="32" y="4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5" y="3"/>
                        </a:lnTo>
                        <a:lnTo>
                          <a:pt x="49" y="3"/>
                        </a:lnTo>
                        <a:lnTo>
                          <a:pt x="52" y="1"/>
                        </a:lnTo>
                        <a:lnTo>
                          <a:pt x="57" y="1"/>
                        </a:lnTo>
                        <a:lnTo>
                          <a:pt x="60" y="1"/>
                        </a:lnTo>
                        <a:lnTo>
                          <a:pt x="64" y="1"/>
                        </a:lnTo>
                        <a:lnTo>
                          <a:pt x="69" y="1"/>
                        </a:lnTo>
                        <a:lnTo>
                          <a:pt x="72" y="0"/>
                        </a:lnTo>
                        <a:lnTo>
                          <a:pt x="77" y="0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5" y="0"/>
                        </a:lnTo>
                        <a:lnTo>
                          <a:pt x="98" y="0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09" y="1"/>
                        </a:lnTo>
                        <a:lnTo>
                          <a:pt x="113" y="1"/>
                        </a:lnTo>
                        <a:lnTo>
                          <a:pt x="116" y="3"/>
                        </a:lnTo>
                        <a:lnTo>
                          <a:pt x="121" y="3"/>
                        </a:lnTo>
                        <a:lnTo>
                          <a:pt x="124" y="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Freeform 268"/>
                  <p:cNvSpPr/>
                  <p:nvPr/>
                </p:nvSpPr>
                <p:spPr>
                  <a:xfrm>
                    <a:off x="4341240" y="3593160"/>
                    <a:ext cx="183960" cy="2808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1270" h="216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0" y="11"/>
                        </a:lnTo>
                        <a:lnTo>
                          <a:pt x="2" y="17"/>
                        </a:lnTo>
                        <a:lnTo>
                          <a:pt x="2" y="22"/>
                        </a:lnTo>
                        <a:lnTo>
                          <a:pt x="2" y="28"/>
                        </a:lnTo>
                        <a:lnTo>
                          <a:pt x="3" y="34"/>
                        </a:lnTo>
                        <a:lnTo>
                          <a:pt x="3" y="37"/>
                        </a:lnTo>
                        <a:lnTo>
                          <a:pt x="3" y="40"/>
                        </a:lnTo>
                        <a:lnTo>
                          <a:pt x="3" y="43"/>
                        </a:lnTo>
                        <a:lnTo>
                          <a:pt x="3" y="47"/>
                        </a:lnTo>
                        <a:lnTo>
                          <a:pt x="3" y="52"/>
                        </a:lnTo>
                        <a:lnTo>
                          <a:pt x="5" y="58"/>
                        </a:lnTo>
                        <a:lnTo>
                          <a:pt x="5" y="60"/>
                        </a:lnTo>
                        <a:lnTo>
                          <a:pt x="5" y="65"/>
                        </a:lnTo>
                        <a:lnTo>
                          <a:pt x="5" y="67"/>
                        </a:lnTo>
                        <a:lnTo>
                          <a:pt x="6" y="71"/>
                        </a:lnTo>
                        <a:lnTo>
                          <a:pt x="6" y="74"/>
                        </a:lnTo>
                        <a:lnTo>
                          <a:pt x="6" y="77"/>
                        </a:lnTo>
                        <a:lnTo>
                          <a:pt x="6" y="80"/>
                        </a:lnTo>
                        <a:lnTo>
                          <a:pt x="6" y="84"/>
                        </a:lnTo>
                        <a:lnTo>
                          <a:pt x="6" y="87"/>
                        </a:lnTo>
                        <a:lnTo>
                          <a:pt x="6" y="89"/>
                        </a:lnTo>
                        <a:lnTo>
                          <a:pt x="8" y="93"/>
                        </a:lnTo>
                        <a:lnTo>
                          <a:pt x="8" y="96"/>
                        </a:lnTo>
                        <a:lnTo>
                          <a:pt x="8" y="99"/>
                        </a:lnTo>
                        <a:lnTo>
                          <a:pt x="8" y="103"/>
                        </a:lnTo>
                        <a:lnTo>
                          <a:pt x="9" y="106"/>
                        </a:lnTo>
                        <a:lnTo>
                          <a:pt x="9" y="109"/>
                        </a:lnTo>
                        <a:lnTo>
                          <a:pt x="9" y="111"/>
                        </a:lnTo>
                        <a:lnTo>
                          <a:pt x="9" y="115"/>
                        </a:lnTo>
                        <a:lnTo>
                          <a:pt x="11" y="118"/>
                        </a:lnTo>
                        <a:lnTo>
                          <a:pt x="11" y="121"/>
                        </a:lnTo>
                        <a:lnTo>
                          <a:pt x="11" y="124"/>
                        </a:lnTo>
                        <a:lnTo>
                          <a:pt x="11" y="128"/>
                        </a:lnTo>
                        <a:lnTo>
                          <a:pt x="12" y="130"/>
                        </a:lnTo>
                        <a:lnTo>
                          <a:pt x="12" y="133"/>
                        </a:lnTo>
                        <a:lnTo>
                          <a:pt x="12" y="136"/>
                        </a:lnTo>
                        <a:lnTo>
                          <a:pt x="14" y="140"/>
                        </a:lnTo>
                        <a:lnTo>
                          <a:pt x="14" y="143"/>
                        </a:lnTo>
                        <a:lnTo>
                          <a:pt x="14" y="147"/>
                        </a:lnTo>
                        <a:lnTo>
                          <a:pt x="14" y="152"/>
                        </a:lnTo>
                        <a:lnTo>
                          <a:pt x="16" y="158"/>
                        </a:lnTo>
                        <a:lnTo>
                          <a:pt x="16" y="161"/>
                        </a:lnTo>
                        <a:lnTo>
                          <a:pt x="17" y="165"/>
                        </a:lnTo>
                        <a:lnTo>
                          <a:pt x="17" y="168"/>
                        </a:lnTo>
                        <a:lnTo>
                          <a:pt x="17" y="170"/>
                        </a:lnTo>
                        <a:lnTo>
                          <a:pt x="19" y="176"/>
                        </a:lnTo>
                        <a:lnTo>
                          <a:pt x="20" y="183"/>
                        </a:lnTo>
                        <a:lnTo>
                          <a:pt x="20" y="185"/>
                        </a:lnTo>
                        <a:lnTo>
                          <a:pt x="20" y="188"/>
                        </a:lnTo>
                        <a:lnTo>
                          <a:pt x="22" y="191"/>
                        </a:lnTo>
                        <a:lnTo>
                          <a:pt x="23" y="195"/>
                        </a:lnTo>
                        <a:lnTo>
                          <a:pt x="25" y="191"/>
                        </a:lnTo>
                        <a:lnTo>
                          <a:pt x="25" y="185"/>
                        </a:lnTo>
                        <a:lnTo>
                          <a:pt x="23" y="179"/>
                        </a:lnTo>
                        <a:lnTo>
                          <a:pt x="23" y="173"/>
                        </a:lnTo>
                        <a:lnTo>
                          <a:pt x="22" y="169"/>
                        </a:lnTo>
                        <a:lnTo>
                          <a:pt x="22" y="163"/>
                        </a:lnTo>
                        <a:lnTo>
                          <a:pt x="20" y="158"/>
                        </a:lnTo>
                        <a:lnTo>
                          <a:pt x="20" y="152"/>
                        </a:lnTo>
                        <a:lnTo>
                          <a:pt x="20" y="148"/>
                        </a:lnTo>
                        <a:lnTo>
                          <a:pt x="20" y="141"/>
                        </a:lnTo>
                        <a:lnTo>
                          <a:pt x="20" y="137"/>
                        </a:lnTo>
                        <a:lnTo>
                          <a:pt x="19" y="132"/>
                        </a:lnTo>
                        <a:lnTo>
                          <a:pt x="19" y="126"/>
                        </a:lnTo>
                        <a:lnTo>
                          <a:pt x="19" y="121"/>
                        </a:lnTo>
                        <a:lnTo>
                          <a:pt x="19" y="117"/>
                        </a:lnTo>
                        <a:lnTo>
                          <a:pt x="19" y="111"/>
                        </a:lnTo>
                        <a:lnTo>
                          <a:pt x="19" y="106"/>
                        </a:lnTo>
                        <a:lnTo>
                          <a:pt x="17" y="100"/>
                        </a:lnTo>
                        <a:lnTo>
                          <a:pt x="17" y="95"/>
                        </a:lnTo>
                        <a:lnTo>
                          <a:pt x="17" y="89"/>
                        </a:lnTo>
                        <a:lnTo>
                          <a:pt x="17" y="85"/>
                        </a:lnTo>
                        <a:lnTo>
                          <a:pt x="17" y="80"/>
                        </a:lnTo>
                        <a:lnTo>
                          <a:pt x="17" y="74"/>
                        </a:lnTo>
                        <a:lnTo>
                          <a:pt x="17" y="69"/>
                        </a:lnTo>
                        <a:lnTo>
                          <a:pt x="17" y="63"/>
                        </a:lnTo>
                        <a:lnTo>
                          <a:pt x="16" y="58"/>
                        </a:lnTo>
                        <a:lnTo>
                          <a:pt x="16" y="54"/>
                        </a:lnTo>
                        <a:lnTo>
                          <a:pt x="16" y="48"/>
                        </a:lnTo>
                        <a:lnTo>
                          <a:pt x="16" y="43"/>
                        </a:lnTo>
                        <a:lnTo>
                          <a:pt x="16" y="37"/>
                        </a:lnTo>
                        <a:lnTo>
                          <a:pt x="16" y="33"/>
                        </a:lnTo>
                        <a:lnTo>
                          <a:pt x="16" y="28"/>
                        </a:lnTo>
                        <a:lnTo>
                          <a:pt x="16" y="22"/>
                        </a:lnTo>
                        <a:lnTo>
                          <a:pt x="17" y="21"/>
                        </a:lnTo>
                        <a:lnTo>
                          <a:pt x="20" y="21"/>
                        </a:lnTo>
                        <a:lnTo>
                          <a:pt x="25" y="21"/>
                        </a:lnTo>
                        <a:lnTo>
                          <a:pt x="31" y="21"/>
                        </a:lnTo>
                        <a:lnTo>
                          <a:pt x="35" y="21"/>
                        </a:lnTo>
                        <a:lnTo>
                          <a:pt x="40" y="21"/>
                        </a:lnTo>
                        <a:lnTo>
                          <a:pt x="43" y="21"/>
                        </a:lnTo>
                        <a:lnTo>
                          <a:pt x="45" y="22"/>
                        </a:lnTo>
                        <a:lnTo>
                          <a:pt x="46" y="21"/>
                        </a:lnTo>
                        <a:lnTo>
                          <a:pt x="49" y="21"/>
                        </a:lnTo>
                        <a:lnTo>
                          <a:pt x="51" y="21"/>
                        </a:lnTo>
                        <a:lnTo>
                          <a:pt x="55" y="21"/>
                        </a:lnTo>
                        <a:lnTo>
                          <a:pt x="58" y="19"/>
                        </a:lnTo>
                        <a:lnTo>
                          <a:pt x="63" y="19"/>
                        </a:lnTo>
                        <a:lnTo>
                          <a:pt x="66" y="19"/>
                        </a:lnTo>
                        <a:lnTo>
                          <a:pt x="71" y="19"/>
                        </a:lnTo>
                        <a:lnTo>
                          <a:pt x="75" y="19"/>
                        </a:lnTo>
                        <a:lnTo>
                          <a:pt x="78" y="19"/>
                        </a:lnTo>
                        <a:lnTo>
                          <a:pt x="81" y="19"/>
                        </a:lnTo>
                        <a:lnTo>
                          <a:pt x="86" y="21"/>
                        </a:lnTo>
                        <a:lnTo>
                          <a:pt x="89" y="23"/>
                        </a:lnTo>
                        <a:lnTo>
                          <a:pt x="90" y="28"/>
                        </a:lnTo>
                        <a:lnTo>
                          <a:pt x="86" y="28"/>
                        </a:lnTo>
                        <a:lnTo>
                          <a:pt x="80" y="29"/>
                        </a:lnTo>
                        <a:lnTo>
                          <a:pt x="75" y="29"/>
                        </a:lnTo>
                        <a:lnTo>
                          <a:pt x="71" y="29"/>
                        </a:lnTo>
                        <a:lnTo>
                          <a:pt x="66" y="29"/>
                        </a:lnTo>
                        <a:lnTo>
                          <a:pt x="63" y="29"/>
                        </a:lnTo>
                        <a:lnTo>
                          <a:pt x="58" y="29"/>
                        </a:lnTo>
                        <a:lnTo>
                          <a:pt x="55" y="29"/>
                        </a:lnTo>
                        <a:lnTo>
                          <a:pt x="51" y="29"/>
                        </a:lnTo>
                        <a:lnTo>
                          <a:pt x="46" y="29"/>
                        </a:lnTo>
                        <a:lnTo>
                          <a:pt x="42" y="29"/>
                        </a:lnTo>
                        <a:lnTo>
                          <a:pt x="38" y="29"/>
                        </a:lnTo>
                        <a:lnTo>
                          <a:pt x="34" y="29"/>
                        </a:lnTo>
                        <a:lnTo>
                          <a:pt x="28" y="29"/>
                        </a:lnTo>
                        <a:lnTo>
                          <a:pt x="23" y="30"/>
                        </a:lnTo>
                        <a:lnTo>
                          <a:pt x="17" y="32"/>
                        </a:lnTo>
                        <a:lnTo>
                          <a:pt x="17" y="37"/>
                        </a:lnTo>
                        <a:lnTo>
                          <a:pt x="19" y="43"/>
                        </a:lnTo>
                        <a:lnTo>
                          <a:pt x="19" y="48"/>
                        </a:lnTo>
                        <a:lnTo>
                          <a:pt x="20" y="55"/>
                        </a:lnTo>
                        <a:lnTo>
                          <a:pt x="20" y="60"/>
                        </a:lnTo>
                        <a:lnTo>
                          <a:pt x="20" y="65"/>
                        </a:lnTo>
                        <a:lnTo>
                          <a:pt x="20" y="70"/>
                        </a:lnTo>
                        <a:lnTo>
                          <a:pt x="22" y="76"/>
                        </a:lnTo>
                        <a:lnTo>
                          <a:pt x="22" y="80"/>
                        </a:lnTo>
                        <a:lnTo>
                          <a:pt x="22" y="85"/>
                        </a:lnTo>
                        <a:lnTo>
                          <a:pt x="23" y="89"/>
                        </a:lnTo>
                        <a:lnTo>
                          <a:pt x="23" y="95"/>
                        </a:lnTo>
                        <a:lnTo>
                          <a:pt x="25" y="98"/>
                        </a:lnTo>
                        <a:lnTo>
                          <a:pt x="25" y="103"/>
                        </a:lnTo>
                        <a:lnTo>
                          <a:pt x="25" y="107"/>
                        </a:lnTo>
                        <a:lnTo>
                          <a:pt x="26" y="111"/>
                        </a:lnTo>
                        <a:lnTo>
                          <a:pt x="26" y="115"/>
                        </a:lnTo>
                        <a:lnTo>
                          <a:pt x="28" y="120"/>
                        </a:lnTo>
                        <a:lnTo>
                          <a:pt x="28" y="124"/>
                        </a:lnTo>
                        <a:lnTo>
                          <a:pt x="29" y="128"/>
                        </a:lnTo>
                        <a:lnTo>
                          <a:pt x="29" y="132"/>
                        </a:lnTo>
                        <a:lnTo>
                          <a:pt x="31" y="137"/>
                        </a:lnTo>
                        <a:lnTo>
                          <a:pt x="31" y="141"/>
                        </a:lnTo>
                        <a:lnTo>
                          <a:pt x="32" y="147"/>
                        </a:lnTo>
                        <a:lnTo>
                          <a:pt x="34" y="151"/>
                        </a:lnTo>
                        <a:lnTo>
                          <a:pt x="35" y="155"/>
                        </a:lnTo>
                        <a:lnTo>
                          <a:pt x="35" y="161"/>
                        </a:lnTo>
                        <a:lnTo>
                          <a:pt x="37" y="166"/>
                        </a:lnTo>
                        <a:lnTo>
                          <a:pt x="38" y="172"/>
                        </a:lnTo>
                        <a:lnTo>
                          <a:pt x="40" y="177"/>
                        </a:lnTo>
                        <a:lnTo>
                          <a:pt x="40" y="180"/>
                        </a:lnTo>
                        <a:lnTo>
                          <a:pt x="42" y="184"/>
                        </a:lnTo>
                        <a:lnTo>
                          <a:pt x="42" y="187"/>
                        </a:lnTo>
                        <a:lnTo>
                          <a:pt x="43" y="191"/>
                        </a:lnTo>
                        <a:lnTo>
                          <a:pt x="46" y="188"/>
                        </a:lnTo>
                        <a:lnTo>
                          <a:pt x="51" y="185"/>
                        </a:lnTo>
                        <a:lnTo>
                          <a:pt x="49" y="180"/>
                        </a:lnTo>
                        <a:lnTo>
                          <a:pt x="49" y="174"/>
                        </a:lnTo>
                        <a:lnTo>
                          <a:pt x="49" y="169"/>
                        </a:lnTo>
                        <a:lnTo>
                          <a:pt x="49" y="165"/>
                        </a:lnTo>
                        <a:lnTo>
                          <a:pt x="48" y="159"/>
                        </a:lnTo>
                        <a:lnTo>
                          <a:pt x="48" y="155"/>
                        </a:lnTo>
                        <a:lnTo>
                          <a:pt x="48" y="151"/>
                        </a:lnTo>
                        <a:lnTo>
                          <a:pt x="48" y="147"/>
                        </a:lnTo>
                        <a:lnTo>
                          <a:pt x="48" y="143"/>
                        </a:lnTo>
                        <a:lnTo>
                          <a:pt x="48" y="139"/>
                        </a:lnTo>
                        <a:lnTo>
                          <a:pt x="48" y="136"/>
                        </a:lnTo>
                        <a:lnTo>
                          <a:pt x="48" y="132"/>
                        </a:lnTo>
                        <a:lnTo>
                          <a:pt x="48" y="129"/>
                        </a:lnTo>
                        <a:lnTo>
                          <a:pt x="48" y="126"/>
                        </a:lnTo>
                        <a:lnTo>
                          <a:pt x="48" y="122"/>
                        </a:lnTo>
                        <a:lnTo>
                          <a:pt x="48" y="120"/>
                        </a:lnTo>
                        <a:lnTo>
                          <a:pt x="46" y="115"/>
                        </a:lnTo>
                        <a:lnTo>
                          <a:pt x="46" y="111"/>
                        </a:lnTo>
                        <a:lnTo>
                          <a:pt x="46" y="107"/>
                        </a:lnTo>
                        <a:lnTo>
                          <a:pt x="46" y="104"/>
                        </a:lnTo>
                        <a:lnTo>
                          <a:pt x="45" y="100"/>
                        </a:lnTo>
                        <a:lnTo>
                          <a:pt x="45" y="98"/>
                        </a:lnTo>
                        <a:lnTo>
                          <a:pt x="45" y="93"/>
                        </a:lnTo>
                        <a:lnTo>
                          <a:pt x="45" y="89"/>
                        </a:lnTo>
                        <a:lnTo>
                          <a:pt x="45" y="85"/>
                        </a:lnTo>
                        <a:lnTo>
                          <a:pt x="45" y="81"/>
                        </a:lnTo>
                        <a:lnTo>
                          <a:pt x="43" y="76"/>
                        </a:lnTo>
                        <a:lnTo>
                          <a:pt x="43" y="73"/>
                        </a:lnTo>
                        <a:lnTo>
                          <a:pt x="42" y="67"/>
                        </a:lnTo>
                        <a:lnTo>
                          <a:pt x="42" y="62"/>
                        </a:lnTo>
                        <a:lnTo>
                          <a:pt x="42" y="58"/>
                        </a:lnTo>
                        <a:lnTo>
                          <a:pt x="40" y="52"/>
                        </a:lnTo>
                        <a:lnTo>
                          <a:pt x="45" y="50"/>
                        </a:lnTo>
                        <a:lnTo>
                          <a:pt x="49" y="48"/>
                        </a:lnTo>
                        <a:lnTo>
                          <a:pt x="54" y="47"/>
                        </a:lnTo>
                        <a:lnTo>
                          <a:pt x="60" y="47"/>
                        </a:lnTo>
                        <a:lnTo>
                          <a:pt x="64" y="45"/>
                        </a:lnTo>
                        <a:lnTo>
                          <a:pt x="69" y="45"/>
                        </a:lnTo>
                        <a:lnTo>
                          <a:pt x="75" y="45"/>
                        </a:lnTo>
                        <a:lnTo>
                          <a:pt x="81" y="47"/>
                        </a:lnTo>
                        <a:lnTo>
                          <a:pt x="61" y="59"/>
                        </a:lnTo>
                        <a:lnTo>
                          <a:pt x="58" y="56"/>
                        </a:lnTo>
                        <a:lnTo>
                          <a:pt x="48" y="59"/>
                        </a:lnTo>
                        <a:lnTo>
                          <a:pt x="48" y="63"/>
                        </a:lnTo>
                        <a:lnTo>
                          <a:pt x="49" y="69"/>
                        </a:lnTo>
                        <a:lnTo>
                          <a:pt x="49" y="73"/>
                        </a:lnTo>
                        <a:lnTo>
                          <a:pt x="49" y="78"/>
                        </a:lnTo>
                        <a:lnTo>
                          <a:pt x="49" y="82"/>
                        </a:lnTo>
                        <a:lnTo>
                          <a:pt x="51" y="88"/>
                        </a:lnTo>
                        <a:lnTo>
                          <a:pt x="51" y="93"/>
                        </a:lnTo>
                        <a:lnTo>
                          <a:pt x="52" y="98"/>
                        </a:lnTo>
                        <a:lnTo>
                          <a:pt x="52" y="103"/>
                        </a:lnTo>
                        <a:lnTo>
                          <a:pt x="54" y="107"/>
                        </a:lnTo>
                        <a:lnTo>
                          <a:pt x="54" y="113"/>
                        </a:lnTo>
                        <a:lnTo>
                          <a:pt x="55" y="118"/>
                        </a:lnTo>
                        <a:lnTo>
                          <a:pt x="55" y="122"/>
                        </a:lnTo>
                        <a:lnTo>
                          <a:pt x="57" y="128"/>
                        </a:lnTo>
                        <a:lnTo>
                          <a:pt x="57" y="132"/>
                        </a:lnTo>
                        <a:lnTo>
                          <a:pt x="58" y="137"/>
                        </a:lnTo>
                        <a:lnTo>
                          <a:pt x="58" y="141"/>
                        </a:lnTo>
                        <a:lnTo>
                          <a:pt x="60" y="147"/>
                        </a:lnTo>
                        <a:lnTo>
                          <a:pt x="60" y="151"/>
                        </a:lnTo>
                        <a:lnTo>
                          <a:pt x="61" y="157"/>
                        </a:lnTo>
                        <a:lnTo>
                          <a:pt x="61" y="161"/>
                        </a:lnTo>
                        <a:lnTo>
                          <a:pt x="63" y="166"/>
                        </a:lnTo>
                        <a:lnTo>
                          <a:pt x="63" y="170"/>
                        </a:lnTo>
                        <a:lnTo>
                          <a:pt x="64" y="176"/>
                        </a:lnTo>
                        <a:lnTo>
                          <a:pt x="64" y="180"/>
                        </a:lnTo>
                        <a:lnTo>
                          <a:pt x="66" y="185"/>
                        </a:lnTo>
                        <a:lnTo>
                          <a:pt x="66" y="190"/>
                        </a:lnTo>
                        <a:lnTo>
                          <a:pt x="68" y="195"/>
                        </a:lnTo>
                        <a:lnTo>
                          <a:pt x="68" y="201"/>
                        </a:lnTo>
                        <a:lnTo>
                          <a:pt x="69" y="205"/>
                        </a:lnTo>
                        <a:lnTo>
                          <a:pt x="69" y="210"/>
                        </a:lnTo>
                        <a:lnTo>
                          <a:pt x="71" y="216"/>
                        </a:lnTo>
                        <a:lnTo>
                          <a:pt x="83" y="213"/>
                        </a:lnTo>
                        <a:lnTo>
                          <a:pt x="83" y="209"/>
                        </a:lnTo>
                        <a:lnTo>
                          <a:pt x="83" y="205"/>
                        </a:lnTo>
                        <a:lnTo>
                          <a:pt x="83" y="201"/>
                        </a:lnTo>
                        <a:lnTo>
                          <a:pt x="83" y="196"/>
                        </a:lnTo>
                        <a:lnTo>
                          <a:pt x="83" y="192"/>
                        </a:lnTo>
                        <a:lnTo>
                          <a:pt x="83" y="188"/>
                        </a:lnTo>
                        <a:lnTo>
                          <a:pt x="83" y="185"/>
                        </a:lnTo>
                        <a:lnTo>
                          <a:pt x="83" y="181"/>
                        </a:lnTo>
                        <a:lnTo>
                          <a:pt x="83" y="176"/>
                        </a:lnTo>
                        <a:lnTo>
                          <a:pt x="83" y="173"/>
                        </a:lnTo>
                        <a:lnTo>
                          <a:pt x="83" y="169"/>
                        </a:lnTo>
                        <a:lnTo>
                          <a:pt x="83" y="165"/>
                        </a:lnTo>
                        <a:lnTo>
                          <a:pt x="81" y="161"/>
                        </a:lnTo>
                        <a:lnTo>
                          <a:pt x="81" y="157"/>
                        </a:lnTo>
                        <a:lnTo>
                          <a:pt x="81" y="152"/>
                        </a:lnTo>
                        <a:lnTo>
                          <a:pt x="81" y="150"/>
                        </a:lnTo>
                        <a:lnTo>
                          <a:pt x="81" y="139"/>
                        </a:lnTo>
                        <a:lnTo>
                          <a:pt x="81" y="135"/>
                        </a:lnTo>
                        <a:lnTo>
                          <a:pt x="83" y="136"/>
                        </a:lnTo>
                        <a:lnTo>
                          <a:pt x="83" y="137"/>
                        </a:lnTo>
                        <a:lnTo>
                          <a:pt x="84" y="140"/>
                        </a:lnTo>
                        <a:lnTo>
                          <a:pt x="86" y="143"/>
                        </a:lnTo>
                        <a:lnTo>
                          <a:pt x="87" y="147"/>
                        </a:lnTo>
                        <a:lnTo>
                          <a:pt x="89" y="151"/>
                        </a:lnTo>
                        <a:lnTo>
                          <a:pt x="89" y="154"/>
                        </a:lnTo>
                        <a:lnTo>
                          <a:pt x="90" y="158"/>
                        </a:lnTo>
                        <a:lnTo>
                          <a:pt x="92" y="163"/>
                        </a:lnTo>
                        <a:lnTo>
                          <a:pt x="94" y="166"/>
                        </a:lnTo>
                        <a:lnTo>
                          <a:pt x="94" y="170"/>
                        </a:lnTo>
                        <a:lnTo>
                          <a:pt x="95" y="173"/>
                        </a:lnTo>
                        <a:lnTo>
                          <a:pt x="97" y="177"/>
                        </a:lnTo>
                        <a:lnTo>
                          <a:pt x="103" y="177"/>
                        </a:lnTo>
                        <a:lnTo>
                          <a:pt x="94" y="102"/>
                        </a:lnTo>
                        <a:lnTo>
                          <a:pt x="100" y="100"/>
                        </a:lnTo>
                        <a:lnTo>
                          <a:pt x="106" y="98"/>
                        </a:lnTo>
                        <a:lnTo>
                          <a:pt x="112" y="96"/>
                        </a:lnTo>
                        <a:lnTo>
                          <a:pt x="120" y="95"/>
                        </a:lnTo>
                        <a:lnTo>
                          <a:pt x="123" y="95"/>
                        </a:lnTo>
                        <a:lnTo>
                          <a:pt x="126" y="93"/>
                        </a:lnTo>
                        <a:lnTo>
                          <a:pt x="130" y="92"/>
                        </a:lnTo>
                        <a:lnTo>
                          <a:pt x="133" y="92"/>
                        </a:lnTo>
                        <a:lnTo>
                          <a:pt x="138" y="91"/>
                        </a:lnTo>
                        <a:lnTo>
                          <a:pt x="141" y="91"/>
                        </a:lnTo>
                        <a:lnTo>
                          <a:pt x="144" y="89"/>
                        </a:lnTo>
                        <a:lnTo>
                          <a:pt x="149" y="88"/>
                        </a:lnTo>
                        <a:lnTo>
                          <a:pt x="152" y="88"/>
                        </a:lnTo>
                        <a:lnTo>
                          <a:pt x="156" y="87"/>
                        </a:lnTo>
                        <a:lnTo>
                          <a:pt x="159" y="85"/>
                        </a:lnTo>
                        <a:lnTo>
                          <a:pt x="164" y="85"/>
                        </a:lnTo>
                        <a:lnTo>
                          <a:pt x="167" y="84"/>
                        </a:lnTo>
                        <a:lnTo>
                          <a:pt x="172" y="84"/>
                        </a:lnTo>
                        <a:lnTo>
                          <a:pt x="175" y="82"/>
                        </a:lnTo>
                        <a:lnTo>
                          <a:pt x="179" y="82"/>
                        </a:lnTo>
                        <a:lnTo>
                          <a:pt x="182" y="81"/>
                        </a:lnTo>
                        <a:lnTo>
                          <a:pt x="187" y="80"/>
                        </a:lnTo>
                        <a:lnTo>
                          <a:pt x="190" y="80"/>
                        </a:lnTo>
                        <a:lnTo>
                          <a:pt x="194" y="78"/>
                        </a:lnTo>
                        <a:lnTo>
                          <a:pt x="198" y="77"/>
                        </a:lnTo>
                        <a:lnTo>
                          <a:pt x="202" y="77"/>
                        </a:lnTo>
                        <a:lnTo>
                          <a:pt x="207" y="76"/>
                        </a:lnTo>
                        <a:lnTo>
                          <a:pt x="210" y="76"/>
                        </a:lnTo>
                        <a:lnTo>
                          <a:pt x="214" y="76"/>
                        </a:lnTo>
                        <a:lnTo>
                          <a:pt x="217" y="74"/>
                        </a:lnTo>
                        <a:lnTo>
                          <a:pt x="222" y="73"/>
                        </a:lnTo>
                        <a:lnTo>
                          <a:pt x="225" y="73"/>
                        </a:lnTo>
                        <a:lnTo>
                          <a:pt x="230" y="73"/>
                        </a:lnTo>
                        <a:lnTo>
                          <a:pt x="233" y="71"/>
                        </a:lnTo>
                        <a:lnTo>
                          <a:pt x="237" y="71"/>
                        </a:lnTo>
                        <a:lnTo>
                          <a:pt x="240" y="71"/>
                        </a:lnTo>
                        <a:lnTo>
                          <a:pt x="243" y="70"/>
                        </a:lnTo>
                        <a:lnTo>
                          <a:pt x="246" y="70"/>
                        </a:lnTo>
                        <a:lnTo>
                          <a:pt x="251" y="70"/>
                        </a:lnTo>
                        <a:lnTo>
                          <a:pt x="254" y="70"/>
                        </a:lnTo>
                        <a:lnTo>
                          <a:pt x="259" y="69"/>
                        </a:lnTo>
                        <a:lnTo>
                          <a:pt x="262" y="69"/>
                        </a:lnTo>
                        <a:lnTo>
                          <a:pt x="266" y="69"/>
                        </a:lnTo>
                        <a:lnTo>
                          <a:pt x="269" y="69"/>
                        </a:lnTo>
                        <a:lnTo>
                          <a:pt x="276" y="69"/>
                        </a:lnTo>
                        <a:lnTo>
                          <a:pt x="282" y="69"/>
                        </a:lnTo>
                        <a:lnTo>
                          <a:pt x="289" y="69"/>
                        </a:lnTo>
                        <a:lnTo>
                          <a:pt x="295" y="70"/>
                        </a:lnTo>
                        <a:lnTo>
                          <a:pt x="302" y="70"/>
                        </a:lnTo>
                        <a:lnTo>
                          <a:pt x="308" y="71"/>
                        </a:lnTo>
                        <a:lnTo>
                          <a:pt x="312" y="73"/>
                        </a:lnTo>
                        <a:lnTo>
                          <a:pt x="318" y="74"/>
                        </a:lnTo>
                        <a:lnTo>
                          <a:pt x="312" y="76"/>
                        </a:lnTo>
                        <a:lnTo>
                          <a:pt x="306" y="76"/>
                        </a:lnTo>
                        <a:lnTo>
                          <a:pt x="300" y="76"/>
                        </a:lnTo>
                        <a:lnTo>
                          <a:pt x="294" y="77"/>
                        </a:lnTo>
                        <a:lnTo>
                          <a:pt x="288" y="78"/>
                        </a:lnTo>
                        <a:lnTo>
                          <a:pt x="282" y="80"/>
                        </a:lnTo>
                        <a:lnTo>
                          <a:pt x="276" y="80"/>
                        </a:lnTo>
                        <a:lnTo>
                          <a:pt x="269" y="81"/>
                        </a:lnTo>
                        <a:lnTo>
                          <a:pt x="265" y="81"/>
                        </a:lnTo>
                        <a:lnTo>
                          <a:pt x="262" y="81"/>
                        </a:lnTo>
                        <a:lnTo>
                          <a:pt x="259" y="81"/>
                        </a:lnTo>
                        <a:lnTo>
                          <a:pt x="256" y="82"/>
                        </a:lnTo>
                        <a:lnTo>
                          <a:pt x="248" y="82"/>
                        </a:lnTo>
                        <a:lnTo>
                          <a:pt x="242" y="84"/>
                        </a:lnTo>
                        <a:lnTo>
                          <a:pt x="239" y="84"/>
                        </a:lnTo>
                        <a:lnTo>
                          <a:pt x="234" y="84"/>
                        </a:lnTo>
                        <a:lnTo>
                          <a:pt x="231" y="84"/>
                        </a:lnTo>
                        <a:lnTo>
                          <a:pt x="228" y="85"/>
                        </a:lnTo>
                        <a:lnTo>
                          <a:pt x="225" y="85"/>
                        </a:lnTo>
                        <a:lnTo>
                          <a:pt x="220" y="85"/>
                        </a:lnTo>
                        <a:lnTo>
                          <a:pt x="217" y="85"/>
                        </a:lnTo>
                        <a:lnTo>
                          <a:pt x="214" y="85"/>
                        </a:lnTo>
                        <a:lnTo>
                          <a:pt x="211" y="85"/>
                        </a:lnTo>
                        <a:lnTo>
                          <a:pt x="207" y="87"/>
                        </a:lnTo>
                        <a:lnTo>
                          <a:pt x="204" y="87"/>
                        </a:lnTo>
                        <a:lnTo>
                          <a:pt x="201" y="88"/>
                        </a:lnTo>
                        <a:lnTo>
                          <a:pt x="198" y="88"/>
                        </a:lnTo>
                        <a:lnTo>
                          <a:pt x="193" y="88"/>
                        </a:lnTo>
                        <a:lnTo>
                          <a:pt x="190" y="89"/>
                        </a:lnTo>
                        <a:lnTo>
                          <a:pt x="187" y="91"/>
                        </a:lnTo>
                        <a:lnTo>
                          <a:pt x="181" y="92"/>
                        </a:lnTo>
                        <a:lnTo>
                          <a:pt x="175" y="93"/>
                        </a:lnTo>
                        <a:lnTo>
                          <a:pt x="167" y="95"/>
                        </a:lnTo>
                        <a:lnTo>
                          <a:pt x="161" y="98"/>
                        </a:lnTo>
                        <a:lnTo>
                          <a:pt x="158" y="98"/>
                        </a:lnTo>
                        <a:lnTo>
                          <a:pt x="153" y="99"/>
                        </a:lnTo>
                        <a:lnTo>
                          <a:pt x="150" y="100"/>
                        </a:lnTo>
                        <a:lnTo>
                          <a:pt x="147" y="102"/>
                        </a:lnTo>
                        <a:lnTo>
                          <a:pt x="141" y="103"/>
                        </a:lnTo>
                        <a:lnTo>
                          <a:pt x="135" y="106"/>
                        </a:lnTo>
                        <a:lnTo>
                          <a:pt x="127" y="109"/>
                        </a:lnTo>
                        <a:lnTo>
                          <a:pt x="123" y="111"/>
                        </a:lnTo>
                        <a:lnTo>
                          <a:pt x="116" y="114"/>
                        </a:lnTo>
                        <a:lnTo>
                          <a:pt x="110" y="118"/>
                        </a:lnTo>
                        <a:lnTo>
                          <a:pt x="113" y="132"/>
                        </a:lnTo>
                        <a:lnTo>
                          <a:pt x="116" y="126"/>
                        </a:lnTo>
                        <a:lnTo>
                          <a:pt x="121" y="124"/>
                        </a:lnTo>
                        <a:lnTo>
                          <a:pt x="124" y="121"/>
                        </a:lnTo>
                        <a:lnTo>
                          <a:pt x="127" y="120"/>
                        </a:lnTo>
                        <a:lnTo>
                          <a:pt x="130" y="118"/>
                        </a:lnTo>
                        <a:lnTo>
                          <a:pt x="135" y="117"/>
                        </a:lnTo>
                        <a:lnTo>
                          <a:pt x="139" y="114"/>
                        </a:lnTo>
                        <a:lnTo>
                          <a:pt x="144" y="113"/>
                        </a:lnTo>
                        <a:lnTo>
                          <a:pt x="147" y="111"/>
                        </a:lnTo>
                        <a:lnTo>
                          <a:pt x="153" y="110"/>
                        </a:lnTo>
                        <a:lnTo>
                          <a:pt x="158" y="107"/>
                        </a:lnTo>
                        <a:lnTo>
                          <a:pt x="164" y="107"/>
                        </a:lnTo>
                        <a:lnTo>
                          <a:pt x="170" y="104"/>
                        </a:lnTo>
                        <a:lnTo>
                          <a:pt x="176" y="104"/>
                        </a:lnTo>
                        <a:lnTo>
                          <a:pt x="182" y="102"/>
                        </a:lnTo>
                        <a:lnTo>
                          <a:pt x="188" y="100"/>
                        </a:lnTo>
                        <a:lnTo>
                          <a:pt x="194" y="99"/>
                        </a:lnTo>
                        <a:lnTo>
                          <a:pt x="202" y="98"/>
                        </a:lnTo>
                        <a:lnTo>
                          <a:pt x="208" y="96"/>
                        </a:lnTo>
                        <a:lnTo>
                          <a:pt x="216" y="95"/>
                        </a:lnTo>
                        <a:lnTo>
                          <a:pt x="224" y="95"/>
                        </a:lnTo>
                        <a:lnTo>
                          <a:pt x="231" y="93"/>
                        </a:lnTo>
                        <a:lnTo>
                          <a:pt x="237" y="92"/>
                        </a:lnTo>
                        <a:lnTo>
                          <a:pt x="245" y="91"/>
                        </a:lnTo>
                        <a:lnTo>
                          <a:pt x="253" y="89"/>
                        </a:lnTo>
                        <a:lnTo>
                          <a:pt x="260" y="88"/>
                        </a:lnTo>
                        <a:lnTo>
                          <a:pt x="268" y="88"/>
                        </a:lnTo>
                        <a:lnTo>
                          <a:pt x="277" y="87"/>
                        </a:lnTo>
                        <a:lnTo>
                          <a:pt x="285" y="85"/>
                        </a:lnTo>
                        <a:lnTo>
                          <a:pt x="292" y="85"/>
                        </a:lnTo>
                        <a:lnTo>
                          <a:pt x="300" y="84"/>
                        </a:lnTo>
                        <a:lnTo>
                          <a:pt x="308" y="82"/>
                        </a:lnTo>
                        <a:lnTo>
                          <a:pt x="315" y="82"/>
                        </a:lnTo>
                        <a:lnTo>
                          <a:pt x="325" y="81"/>
                        </a:lnTo>
                        <a:lnTo>
                          <a:pt x="332" y="80"/>
                        </a:lnTo>
                        <a:lnTo>
                          <a:pt x="340" y="80"/>
                        </a:lnTo>
                        <a:lnTo>
                          <a:pt x="347" y="78"/>
                        </a:lnTo>
                        <a:lnTo>
                          <a:pt x="357" y="78"/>
                        </a:lnTo>
                        <a:lnTo>
                          <a:pt x="364" y="77"/>
                        </a:lnTo>
                        <a:lnTo>
                          <a:pt x="370" y="77"/>
                        </a:lnTo>
                        <a:lnTo>
                          <a:pt x="378" y="76"/>
                        </a:lnTo>
                        <a:lnTo>
                          <a:pt x="386" y="76"/>
                        </a:lnTo>
                        <a:lnTo>
                          <a:pt x="393" y="74"/>
                        </a:lnTo>
                        <a:lnTo>
                          <a:pt x="401" y="74"/>
                        </a:lnTo>
                        <a:lnTo>
                          <a:pt x="409" y="73"/>
                        </a:lnTo>
                        <a:lnTo>
                          <a:pt x="416" y="73"/>
                        </a:lnTo>
                        <a:lnTo>
                          <a:pt x="422" y="73"/>
                        </a:lnTo>
                        <a:lnTo>
                          <a:pt x="429" y="73"/>
                        </a:lnTo>
                        <a:lnTo>
                          <a:pt x="435" y="71"/>
                        </a:lnTo>
                        <a:lnTo>
                          <a:pt x="442" y="71"/>
                        </a:lnTo>
                        <a:lnTo>
                          <a:pt x="448" y="71"/>
                        </a:lnTo>
                        <a:lnTo>
                          <a:pt x="455" y="70"/>
                        </a:lnTo>
                        <a:lnTo>
                          <a:pt x="461" y="70"/>
                        </a:lnTo>
                        <a:lnTo>
                          <a:pt x="467" y="70"/>
                        </a:lnTo>
                        <a:lnTo>
                          <a:pt x="471" y="70"/>
                        </a:lnTo>
                        <a:lnTo>
                          <a:pt x="476" y="70"/>
                        </a:lnTo>
                        <a:lnTo>
                          <a:pt x="481" y="70"/>
                        </a:lnTo>
                        <a:lnTo>
                          <a:pt x="487" y="70"/>
                        </a:lnTo>
                        <a:lnTo>
                          <a:pt x="490" y="70"/>
                        </a:lnTo>
                        <a:lnTo>
                          <a:pt x="494" y="70"/>
                        </a:lnTo>
                        <a:lnTo>
                          <a:pt x="497" y="70"/>
                        </a:lnTo>
                        <a:lnTo>
                          <a:pt x="502" y="70"/>
                        </a:lnTo>
                        <a:lnTo>
                          <a:pt x="1080" y="73"/>
                        </a:lnTo>
                        <a:lnTo>
                          <a:pt x="1079" y="73"/>
                        </a:lnTo>
                        <a:lnTo>
                          <a:pt x="1077" y="73"/>
                        </a:lnTo>
                        <a:lnTo>
                          <a:pt x="1074" y="73"/>
                        </a:lnTo>
                        <a:lnTo>
                          <a:pt x="1071" y="73"/>
                        </a:lnTo>
                        <a:lnTo>
                          <a:pt x="1066" y="73"/>
                        </a:lnTo>
                        <a:lnTo>
                          <a:pt x="1063" y="73"/>
                        </a:lnTo>
                        <a:lnTo>
                          <a:pt x="1059" y="74"/>
                        </a:lnTo>
                        <a:lnTo>
                          <a:pt x="1054" y="74"/>
                        </a:lnTo>
                        <a:lnTo>
                          <a:pt x="1047" y="74"/>
                        </a:lnTo>
                        <a:lnTo>
                          <a:pt x="1040" y="76"/>
                        </a:lnTo>
                        <a:lnTo>
                          <a:pt x="1034" y="76"/>
                        </a:lnTo>
                        <a:lnTo>
                          <a:pt x="1028" y="77"/>
                        </a:lnTo>
                        <a:lnTo>
                          <a:pt x="1024" y="77"/>
                        </a:lnTo>
                        <a:lnTo>
                          <a:pt x="1021" y="77"/>
                        </a:lnTo>
                        <a:lnTo>
                          <a:pt x="1016" y="77"/>
                        </a:lnTo>
                        <a:lnTo>
                          <a:pt x="1013" y="77"/>
                        </a:lnTo>
                        <a:lnTo>
                          <a:pt x="1010" y="77"/>
                        </a:lnTo>
                        <a:lnTo>
                          <a:pt x="1007" y="78"/>
                        </a:lnTo>
                        <a:lnTo>
                          <a:pt x="1002" y="78"/>
                        </a:lnTo>
                        <a:lnTo>
                          <a:pt x="999" y="80"/>
                        </a:lnTo>
                        <a:lnTo>
                          <a:pt x="996" y="80"/>
                        </a:lnTo>
                        <a:lnTo>
                          <a:pt x="991" y="80"/>
                        </a:lnTo>
                        <a:lnTo>
                          <a:pt x="988" y="80"/>
                        </a:lnTo>
                        <a:lnTo>
                          <a:pt x="984" y="80"/>
                        </a:lnTo>
                        <a:lnTo>
                          <a:pt x="981" y="80"/>
                        </a:lnTo>
                        <a:lnTo>
                          <a:pt x="978" y="80"/>
                        </a:lnTo>
                        <a:lnTo>
                          <a:pt x="973" y="80"/>
                        </a:lnTo>
                        <a:lnTo>
                          <a:pt x="970" y="81"/>
                        </a:lnTo>
                        <a:lnTo>
                          <a:pt x="967" y="81"/>
                        </a:lnTo>
                        <a:lnTo>
                          <a:pt x="962" y="81"/>
                        </a:lnTo>
                        <a:lnTo>
                          <a:pt x="959" y="81"/>
                        </a:lnTo>
                        <a:lnTo>
                          <a:pt x="956" y="82"/>
                        </a:lnTo>
                        <a:lnTo>
                          <a:pt x="950" y="82"/>
                        </a:lnTo>
                        <a:lnTo>
                          <a:pt x="944" y="82"/>
                        </a:lnTo>
                        <a:lnTo>
                          <a:pt x="938" y="82"/>
                        </a:lnTo>
                        <a:lnTo>
                          <a:pt x="933" y="84"/>
                        </a:lnTo>
                        <a:lnTo>
                          <a:pt x="929" y="84"/>
                        </a:lnTo>
                        <a:lnTo>
                          <a:pt x="924" y="84"/>
                        </a:lnTo>
                        <a:lnTo>
                          <a:pt x="921" y="84"/>
                        </a:lnTo>
                        <a:lnTo>
                          <a:pt x="918" y="85"/>
                        </a:lnTo>
                        <a:lnTo>
                          <a:pt x="916" y="85"/>
                        </a:lnTo>
                        <a:lnTo>
                          <a:pt x="915" y="85"/>
                        </a:lnTo>
                        <a:lnTo>
                          <a:pt x="918" y="85"/>
                        </a:lnTo>
                        <a:lnTo>
                          <a:pt x="921" y="85"/>
                        </a:lnTo>
                        <a:lnTo>
                          <a:pt x="926" y="85"/>
                        </a:lnTo>
                        <a:lnTo>
                          <a:pt x="929" y="87"/>
                        </a:lnTo>
                        <a:lnTo>
                          <a:pt x="933" y="87"/>
                        </a:lnTo>
                        <a:lnTo>
                          <a:pt x="936" y="87"/>
                        </a:lnTo>
                        <a:lnTo>
                          <a:pt x="939" y="87"/>
                        </a:lnTo>
                        <a:lnTo>
                          <a:pt x="944" y="88"/>
                        </a:lnTo>
                        <a:lnTo>
                          <a:pt x="947" y="88"/>
                        </a:lnTo>
                        <a:lnTo>
                          <a:pt x="952" y="88"/>
                        </a:lnTo>
                        <a:lnTo>
                          <a:pt x="955" y="88"/>
                        </a:lnTo>
                        <a:lnTo>
                          <a:pt x="959" y="88"/>
                        </a:lnTo>
                        <a:lnTo>
                          <a:pt x="962" y="88"/>
                        </a:lnTo>
                        <a:lnTo>
                          <a:pt x="967" y="88"/>
                        </a:lnTo>
                        <a:lnTo>
                          <a:pt x="972" y="88"/>
                        </a:lnTo>
                        <a:lnTo>
                          <a:pt x="975" y="88"/>
                        </a:lnTo>
                        <a:lnTo>
                          <a:pt x="979" y="87"/>
                        </a:lnTo>
                        <a:lnTo>
                          <a:pt x="982" y="87"/>
                        </a:lnTo>
                        <a:lnTo>
                          <a:pt x="987" y="87"/>
                        </a:lnTo>
                        <a:lnTo>
                          <a:pt x="991" y="87"/>
                        </a:lnTo>
                        <a:lnTo>
                          <a:pt x="994" y="87"/>
                        </a:lnTo>
                        <a:lnTo>
                          <a:pt x="999" y="87"/>
                        </a:lnTo>
                        <a:lnTo>
                          <a:pt x="1002" y="87"/>
                        </a:lnTo>
                        <a:lnTo>
                          <a:pt x="1007" y="87"/>
                        </a:lnTo>
                        <a:lnTo>
                          <a:pt x="1011" y="87"/>
                        </a:lnTo>
                        <a:lnTo>
                          <a:pt x="1014" y="87"/>
                        </a:lnTo>
                        <a:lnTo>
                          <a:pt x="1019" y="87"/>
                        </a:lnTo>
                        <a:lnTo>
                          <a:pt x="1022" y="87"/>
                        </a:lnTo>
                        <a:lnTo>
                          <a:pt x="1027" y="85"/>
                        </a:lnTo>
                        <a:lnTo>
                          <a:pt x="1031" y="85"/>
                        </a:lnTo>
                        <a:lnTo>
                          <a:pt x="1036" y="85"/>
                        </a:lnTo>
                        <a:lnTo>
                          <a:pt x="1040" y="85"/>
                        </a:lnTo>
                        <a:lnTo>
                          <a:pt x="1043" y="85"/>
                        </a:lnTo>
                        <a:lnTo>
                          <a:pt x="1047" y="85"/>
                        </a:lnTo>
                        <a:lnTo>
                          <a:pt x="1051" y="85"/>
                        </a:lnTo>
                        <a:lnTo>
                          <a:pt x="1056" y="85"/>
                        </a:lnTo>
                        <a:lnTo>
                          <a:pt x="1059" y="84"/>
                        </a:lnTo>
                        <a:lnTo>
                          <a:pt x="1063" y="84"/>
                        </a:lnTo>
                        <a:lnTo>
                          <a:pt x="1066" y="84"/>
                        </a:lnTo>
                        <a:lnTo>
                          <a:pt x="1071" y="84"/>
                        </a:lnTo>
                        <a:lnTo>
                          <a:pt x="1074" y="84"/>
                        </a:lnTo>
                        <a:lnTo>
                          <a:pt x="1079" y="84"/>
                        </a:lnTo>
                        <a:lnTo>
                          <a:pt x="1082" y="82"/>
                        </a:lnTo>
                        <a:lnTo>
                          <a:pt x="1086" y="82"/>
                        </a:lnTo>
                        <a:lnTo>
                          <a:pt x="1091" y="82"/>
                        </a:lnTo>
                        <a:lnTo>
                          <a:pt x="1094" y="82"/>
                        </a:lnTo>
                        <a:lnTo>
                          <a:pt x="1099" y="82"/>
                        </a:lnTo>
                        <a:lnTo>
                          <a:pt x="1103" y="82"/>
                        </a:lnTo>
                        <a:lnTo>
                          <a:pt x="1106" y="82"/>
                        </a:lnTo>
                        <a:lnTo>
                          <a:pt x="1111" y="82"/>
                        </a:lnTo>
                        <a:lnTo>
                          <a:pt x="1114" y="82"/>
                        </a:lnTo>
                        <a:lnTo>
                          <a:pt x="1118" y="82"/>
                        </a:lnTo>
                        <a:lnTo>
                          <a:pt x="1123" y="81"/>
                        </a:lnTo>
                        <a:lnTo>
                          <a:pt x="1126" y="81"/>
                        </a:lnTo>
                        <a:lnTo>
                          <a:pt x="1129" y="81"/>
                        </a:lnTo>
                        <a:lnTo>
                          <a:pt x="1134" y="81"/>
                        </a:lnTo>
                        <a:lnTo>
                          <a:pt x="1138" y="81"/>
                        </a:lnTo>
                        <a:lnTo>
                          <a:pt x="1141" y="81"/>
                        </a:lnTo>
                        <a:lnTo>
                          <a:pt x="1146" y="81"/>
                        </a:lnTo>
                        <a:lnTo>
                          <a:pt x="1149" y="81"/>
                        </a:lnTo>
                        <a:lnTo>
                          <a:pt x="1154" y="81"/>
                        </a:lnTo>
                        <a:lnTo>
                          <a:pt x="1157" y="81"/>
                        </a:lnTo>
                        <a:lnTo>
                          <a:pt x="1160" y="81"/>
                        </a:lnTo>
                        <a:lnTo>
                          <a:pt x="1164" y="81"/>
                        </a:lnTo>
                        <a:lnTo>
                          <a:pt x="1164" y="84"/>
                        </a:lnTo>
                        <a:lnTo>
                          <a:pt x="1166" y="88"/>
                        </a:lnTo>
                        <a:lnTo>
                          <a:pt x="1166" y="91"/>
                        </a:lnTo>
                        <a:lnTo>
                          <a:pt x="1166" y="95"/>
                        </a:lnTo>
                        <a:lnTo>
                          <a:pt x="1166" y="99"/>
                        </a:lnTo>
                        <a:lnTo>
                          <a:pt x="1167" y="103"/>
                        </a:lnTo>
                        <a:lnTo>
                          <a:pt x="1167" y="107"/>
                        </a:lnTo>
                        <a:lnTo>
                          <a:pt x="1167" y="113"/>
                        </a:lnTo>
                        <a:lnTo>
                          <a:pt x="1167" y="117"/>
                        </a:lnTo>
                        <a:lnTo>
                          <a:pt x="1169" y="120"/>
                        </a:lnTo>
                        <a:lnTo>
                          <a:pt x="1170" y="124"/>
                        </a:lnTo>
                        <a:lnTo>
                          <a:pt x="1170" y="128"/>
                        </a:lnTo>
                        <a:lnTo>
                          <a:pt x="1172" y="132"/>
                        </a:lnTo>
                        <a:lnTo>
                          <a:pt x="1173" y="135"/>
                        </a:lnTo>
                        <a:lnTo>
                          <a:pt x="1175" y="137"/>
                        </a:lnTo>
                        <a:lnTo>
                          <a:pt x="1177" y="140"/>
                        </a:lnTo>
                        <a:lnTo>
                          <a:pt x="1183" y="139"/>
                        </a:lnTo>
                        <a:lnTo>
                          <a:pt x="1183" y="135"/>
                        </a:lnTo>
                        <a:lnTo>
                          <a:pt x="1183" y="130"/>
                        </a:lnTo>
                        <a:lnTo>
                          <a:pt x="1183" y="126"/>
                        </a:lnTo>
                        <a:lnTo>
                          <a:pt x="1184" y="122"/>
                        </a:lnTo>
                        <a:lnTo>
                          <a:pt x="1183" y="118"/>
                        </a:lnTo>
                        <a:lnTo>
                          <a:pt x="1183" y="114"/>
                        </a:lnTo>
                        <a:lnTo>
                          <a:pt x="1181" y="109"/>
                        </a:lnTo>
                        <a:lnTo>
                          <a:pt x="1181" y="104"/>
                        </a:lnTo>
                        <a:lnTo>
                          <a:pt x="1180" y="100"/>
                        </a:lnTo>
                        <a:lnTo>
                          <a:pt x="1180" y="96"/>
                        </a:lnTo>
                        <a:lnTo>
                          <a:pt x="1178" y="92"/>
                        </a:lnTo>
                        <a:lnTo>
                          <a:pt x="1177" y="88"/>
                        </a:lnTo>
                        <a:lnTo>
                          <a:pt x="1177" y="82"/>
                        </a:lnTo>
                        <a:lnTo>
                          <a:pt x="1175" y="80"/>
                        </a:lnTo>
                        <a:lnTo>
                          <a:pt x="1175" y="76"/>
                        </a:lnTo>
                        <a:lnTo>
                          <a:pt x="1175" y="73"/>
                        </a:lnTo>
                        <a:lnTo>
                          <a:pt x="1172" y="70"/>
                        </a:lnTo>
                        <a:lnTo>
                          <a:pt x="1167" y="69"/>
                        </a:lnTo>
                        <a:lnTo>
                          <a:pt x="1161" y="67"/>
                        </a:lnTo>
                        <a:lnTo>
                          <a:pt x="1160" y="66"/>
                        </a:lnTo>
                        <a:lnTo>
                          <a:pt x="1183" y="66"/>
                        </a:lnTo>
                        <a:lnTo>
                          <a:pt x="1184" y="70"/>
                        </a:lnTo>
                        <a:lnTo>
                          <a:pt x="1184" y="74"/>
                        </a:lnTo>
                        <a:lnTo>
                          <a:pt x="1186" y="78"/>
                        </a:lnTo>
                        <a:lnTo>
                          <a:pt x="1187" y="84"/>
                        </a:lnTo>
                        <a:lnTo>
                          <a:pt x="1189" y="80"/>
                        </a:lnTo>
                        <a:lnTo>
                          <a:pt x="1190" y="77"/>
                        </a:lnTo>
                        <a:lnTo>
                          <a:pt x="1192" y="73"/>
                        </a:lnTo>
                        <a:lnTo>
                          <a:pt x="1192" y="70"/>
                        </a:lnTo>
                        <a:lnTo>
                          <a:pt x="1192" y="66"/>
                        </a:lnTo>
                        <a:lnTo>
                          <a:pt x="1190" y="62"/>
                        </a:lnTo>
                        <a:lnTo>
                          <a:pt x="1190" y="59"/>
                        </a:lnTo>
                        <a:lnTo>
                          <a:pt x="1190" y="56"/>
                        </a:lnTo>
                        <a:lnTo>
                          <a:pt x="1186" y="56"/>
                        </a:lnTo>
                        <a:lnTo>
                          <a:pt x="1181" y="56"/>
                        </a:lnTo>
                        <a:lnTo>
                          <a:pt x="1177" y="58"/>
                        </a:lnTo>
                        <a:lnTo>
                          <a:pt x="1170" y="58"/>
                        </a:lnTo>
                        <a:lnTo>
                          <a:pt x="1166" y="59"/>
                        </a:lnTo>
                        <a:lnTo>
                          <a:pt x="1161" y="60"/>
                        </a:lnTo>
                        <a:lnTo>
                          <a:pt x="1158" y="62"/>
                        </a:lnTo>
                        <a:lnTo>
                          <a:pt x="1155" y="63"/>
                        </a:lnTo>
                        <a:lnTo>
                          <a:pt x="1152" y="62"/>
                        </a:lnTo>
                        <a:lnTo>
                          <a:pt x="1149" y="62"/>
                        </a:lnTo>
                        <a:lnTo>
                          <a:pt x="1144" y="60"/>
                        </a:lnTo>
                        <a:lnTo>
                          <a:pt x="1140" y="60"/>
                        </a:lnTo>
                        <a:lnTo>
                          <a:pt x="1137" y="60"/>
                        </a:lnTo>
                        <a:lnTo>
                          <a:pt x="1132" y="60"/>
                        </a:lnTo>
                        <a:lnTo>
                          <a:pt x="1129" y="60"/>
                        </a:lnTo>
                        <a:lnTo>
                          <a:pt x="1126" y="60"/>
                        </a:lnTo>
                        <a:lnTo>
                          <a:pt x="1129" y="59"/>
                        </a:lnTo>
                        <a:lnTo>
                          <a:pt x="1132" y="58"/>
                        </a:lnTo>
                        <a:lnTo>
                          <a:pt x="1135" y="58"/>
                        </a:lnTo>
                        <a:lnTo>
                          <a:pt x="1140" y="56"/>
                        </a:lnTo>
                        <a:lnTo>
                          <a:pt x="1144" y="55"/>
                        </a:lnTo>
                        <a:lnTo>
                          <a:pt x="1149" y="55"/>
                        </a:lnTo>
                        <a:lnTo>
                          <a:pt x="1154" y="54"/>
                        </a:lnTo>
                        <a:lnTo>
                          <a:pt x="1160" y="54"/>
                        </a:lnTo>
                        <a:lnTo>
                          <a:pt x="1164" y="52"/>
                        </a:lnTo>
                        <a:lnTo>
                          <a:pt x="1170" y="52"/>
                        </a:lnTo>
                        <a:lnTo>
                          <a:pt x="1175" y="52"/>
                        </a:lnTo>
                        <a:lnTo>
                          <a:pt x="1180" y="52"/>
                        </a:lnTo>
                        <a:lnTo>
                          <a:pt x="1184" y="51"/>
                        </a:lnTo>
                        <a:lnTo>
                          <a:pt x="1189" y="51"/>
                        </a:lnTo>
                        <a:lnTo>
                          <a:pt x="1193" y="50"/>
                        </a:lnTo>
                        <a:lnTo>
                          <a:pt x="1198" y="50"/>
                        </a:lnTo>
                        <a:lnTo>
                          <a:pt x="1198" y="54"/>
                        </a:lnTo>
                        <a:lnTo>
                          <a:pt x="1198" y="56"/>
                        </a:lnTo>
                        <a:lnTo>
                          <a:pt x="1198" y="60"/>
                        </a:lnTo>
                        <a:lnTo>
                          <a:pt x="1199" y="63"/>
                        </a:lnTo>
                        <a:lnTo>
                          <a:pt x="1199" y="67"/>
                        </a:lnTo>
                        <a:lnTo>
                          <a:pt x="1201" y="70"/>
                        </a:lnTo>
                        <a:lnTo>
                          <a:pt x="1201" y="74"/>
                        </a:lnTo>
                        <a:lnTo>
                          <a:pt x="1203" y="78"/>
                        </a:lnTo>
                        <a:lnTo>
                          <a:pt x="1203" y="81"/>
                        </a:lnTo>
                        <a:lnTo>
                          <a:pt x="1203" y="85"/>
                        </a:lnTo>
                        <a:lnTo>
                          <a:pt x="1204" y="88"/>
                        </a:lnTo>
                        <a:lnTo>
                          <a:pt x="1204" y="92"/>
                        </a:lnTo>
                        <a:lnTo>
                          <a:pt x="1204" y="95"/>
                        </a:lnTo>
                        <a:lnTo>
                          <a:pt x="1206" y="99"/>
                        </a:lnTo>
                        <a:lnTo>
                          <a:pt x="1206" y="102"/>
                        </a:lnTo>
                        <a:lnTo>
                          <a:pt x="1207" y="106"/>
                        </a:lnTo>
                        <a:lnTo>
                          <a:pt x="1207" y="110"/>
                        </a:lnTo>
                        <a:lnTo>
                          <a:pt x="1207" y="113"/>
                        </a:lnTo>
                        <a:lnTo>
                          <a:pt x="1209" y="117"/>
                        </a:lnTo>
                        <a:lnTo>
                          <a:pt x="1209" y="120"/>
                        </a:lnTo>
                        <a:lnTo>
                          <a:pt x="1209" y="124"/>
                        </a:lnTo>
                        <a:lnTo>
                          <a:pt x="1210" y="126"/>
                        </a:lnTo>
                        <a:lnTo>
                          <a:pt x="1210" y="129"/>
                        </a:lnTo>
                        <a:lnTo>
                          <a:pt x="1212" y="133"/>
                        </a:lnTo>
                        <a:lnTo>
                          <a:pt x="1212" y="136"/>
                        </a:lnTo>
                        <a:lnTo>
                          <a:pt x="1213" y="140"/>
                        </a:lnTo>
                        <a:lnTo>
                          <a:pt x="1213" y="143"/>
                        </a:lnTo>
                        <a:lnTo>
                          <a:pt x="1215" y="147"/>
                        </a:lnTo>
                        <a:lnTo>
                          <a:pt x="1215" y="150"/>
                        </a:lnTo>
                        <a:lnTo>
                          <a:pt x="1216" y="154"/>
                        </a:lnTo>
                        <a:lnTo>
                          <a:pt x="1216" y="157"/>
                        </a:lnTo>
                        <a:lnTo>
                          <a:pt x="1218" y="161"/>
                        </a:lnTo>
                        <a:lnTo>
                          <a:pt x="1218" y="166"/>
                        </a:lnTo>
                        <a:lnTo>
                          <a:pt x="1219" y="172"/>
                        </a:lnTo>
                        <a:lnTo>
                          <a:pt x="1221" y="177"/>
                        </a:lnTo>
                        <a:lnTo>
                          <a:pt x="1222" y="183"/>
                        </a:lnTo>
                        <a:lnTo>
                          <a:pt x="1224" y="188"/>
                        </a:lnTo>
                        <a:lnTo>
                          <a:pt x="1227" y="194"/>
                        </a:lnTo>
                        <a:lnTo>
                          <a:pt x="1232" y="196"/>
                        </a:lnTo>
                        <a:lnTo>
                          <a:pt x="1236" y="199"/>
                        </a:lnTo>
                        <a:lnTo>
                          <a:pt x="1235" y="195"/>
                        </a:lnTo>
                        <a:lnTo>
                          <a:pt x="1235" y="191"/>
                        </a:lnTo>
                        <a:lnTo>
                          <a:pt x="1235" y="187"/>
                        </a:lnTo>
                        <a:lnTo>
                          <a:pt x="1235" y="183"/>
                        </a:lnTo>
                        <a:lnTo>
                          <a:pt x="1235" y="177"/>
                        </a:lnTo>
                        <a:lnTo>
                          <a:pt x="1235" y="172"/>
                        </a:lnTo>
                        <a:lnTo>
                          <a:pt x="1235" y="166"/>
                        </a:lnTo>
                        <a:lnTo>
                          <a:pt x="1235" y="161"/>
                        </a:lnTo>
                        <a:lnTo>
                          <a:pt x="1233" y="157"/>
                        </a:lnTo>
                        <a:lnTo>
                          <a:pt x="1233" y="154"/>
                        </a:lnTo>
                        <a:lnTo>
                          <a:pt x="1233" y="151"/>
                        </a:lnTo>
                        <a:lnTo>
                          <a:pt x="1233" y="147"/>
                        </a:lnTo>
                        <a:lnTo>
                          <a:pt x="1233" y="144"/>
                        </a:lnTo>
                        <a:lnTo>
                          <a:pt x="1233" y="140"/>
                        </a:lnTo>
                        <a:lnTo>
                          <a:pt x="1233" y="137"/>
                        </a:lnTo>
                        <a:lnTo>
                          <a:pt x="1233" y="135"/>
                        </a:lnTo>
                        <a:lnTo>
                          <a:pt x="1232" y="130"/>
                        </a:lnTo>
                        <a:lnTo>
                          <a:pt x="1232" y="128"/>
                        </a:lnTo>
                        <a:lnTo>
                          <a:pt x="1232" y="124"/>
                        </a:lnTo>
                        <a:lnTo>
                          <a:pt x="1232" y="121"/>
                        </a:lnTo>
                        <a:lnTo>
                          <a:pt x="1232" y="117"/>
                        </a:lnTo>
                        <a:lnTo>
                          <a:pt x="1232" y="114"/>
                        </a:lnTo>
                        <a:lnTo>
                          <a:pt x="1232" y="111"/>
                        </a:lnTo>
                        <a:lnTo>
                          <a:pt x="1232" y="107"/>
                        </a:lnTo>
                        <a:lnTo>
                          <a:pt x="1232" y="103"/>
                        </a:lnTo>
                        <a:lnTo>
                          <a:pt x="1230" y="100"/>
                        </a:lnTo>
                        <a:lnTo>
                          <a:pt x="1230" y="96"/>
                        </a:lnTo>
                        <a:lnTo>
                          <a:pt x="1230" y="93"/>
                        </a:lnTo>
                        <a:lnTo>
                          <a:pt x="1230" y="89"/>
                        </a:lnTo>
                        <a:lnTo>
                          <a:pt x="1229" y="87"/>
                        </a:lnTo>
                        <a:lnTo>
                          <a:pt x="1229" y="82"/>
                        </a:lnTo>
                        <a:lnTo>
                          <a:pt x="1229" y="80"/>
                        </a:lnTo>
                        <a:lnTo>
                          <a:pt x="1229" y="76"/>
                        </a:lnTo>
                        <a:lnTo>
                          <a:pt x="1229" y="73"/>
                        </a:lnTo>
                        <a:lnTo>
                          <a:pt x="1229" y="70"/>
                        </a:lnTo>
                        <a:lnTo>
                          <a:pt x="1229" y="67"/>
                        </a:lnTo>
                        <a:lnTo>
                          <a:pt x="1227" y="60"/>
                        </a:lnTo>
                        <a:lnTo>
                          <a:pt x="1227" y="56"/>
                        </a:lnTo>
                        <a:lnTo>
                          <a:pt x="1225" y="51"/>
                        </a:lnTo>
                        <a:lnTo>
                          <a:pt x="1224" y="45"/>
                        </a:lnTo>
                        <a:lnTo>
                          <a:pt x="1224" y="41"/>
                        </a:lnTo>
                        <a:lnTo>
                          <a:pt x="1224" y="37"/>
                        </a:lnTo>
                        <a:lnTo>
                          <a:pt x="1222" y="33"/>
                        </a:lnTo>
                        <a:lnTo>
                          <a:pt x="1221" y="30"/>
                        </a:lnTo>
                        <a:lnTo>
                          <a:pt x="1221" y="29"/>
                        </a:lnTo>
                        <a:lnTo>
                          <a:pt x="1221" y="28"/>
                        </a:lnTo>
                        <a:lnTo>
                          <a:pt x="1215" y="28"/>
                        </a:lnTo>
                        <a:lnTo>
                          <a:pt x="1207" y="28"/>
                        </a:lnTo>
                        <a:lnTo>
                          <a:pt x="1201" y="28"/>
                        </a:lnTo>
                        <a:lnTo>
                          <a:pt x="1196" y="28"/>
                        </a:lnTo>
                        <a:lnTo>
                          <a:pt x="1190" y="28"/>
                        </a:lnTo>
                        <a:lnTo>
                          <a:pt x="1184" y="28"/>
                        </a:lnTo>
                        <a:lnTo>
                          <a:pt x="1178" y="28"/>
                        </a:lnTo>
                        <a:lnTo>
                          <a:pt x="1172" y="28"/>
                        </a:lnTo>
                        <a:lnTo>
                          <a:pt x="1170" y="26"/>
                        </a:lnTo>
                        <a:lnTo>
                          <a:pt x="1169" y="26"/>
                        </a:lnTo>
                        <a:lnTo>
                          <a:pt x="1164" y="26"/>
                        </a:lnTo>
                        <a:lnTo>
                          <a:pt x="1161" y="25"/>
                        </a:lnTo>
                        <a:lnTo>
                          <a:pt x="1157" y="23"/>
                        </a:lnTo>
                        <a:lnTo>
                          <a:pt x="1154" y="23"/>
                        </a:lnTo>
                        <a:lnTo>
                          <a:pt x="1151" y="23"/>
                        </a:lnTo>
                        <a:lnTo>
                          <a:pt x="1149" y="22"/>
                        </a:lnTo>
                        <a:lnTo>
                          <a:pt x="1154" y="22"/>
                        </a:lnTo>
                        <a:lnTo>
                          <a:pt x="1160" y="21"/>
                        </a:lnTo>
                        <a:lnTo>
                          <a:pt x="1164" y="21"/>
                        </a:lnTo>
                        <a:lnTo>
                          <a:pt x="1170" y="21"/>
                        </a:lnTo>
                        <a:lnTo>
                          <a:pt x="1175" y="21"/>
                        </a:lnTo>
                        <a:lnTo>
                          <a:pt x="1180" y="19"/>
                        </a:lnTo>
                        <a:lnTo>
                          <a:pt x="1186" y="19"/>
                        </a:lnTo>
                        <a:lnTo>
                          <a:pt x="1190" y="19"/>
                        </a:lnTo>
                        <a:lnTo>
                          <a:pt x="1196" y="18"/>
                        </a:lnTo>
                        <a:lnTo>
                          <a:pt x="1201" y="18"/>
                        </a:lnTo>
                        <a:lnTo>
                          <a:pt x="1206" y="18"/>
                        </a:lnTo>
                        <a:lnTo>
                          <a:pt x="1212" y="18"/>
                        </a:lnTo>
                        <a:lnTo>
                          <a:pt x="1216" y="17"/>
                        </a:lnTo>
                        <a:lnTo>
                          <a:pt x="1221" y="17"/>
                        </a:lnTo>
                        <a:lnTo>
                          <a:pt x="1227" y="15"/>
                        </a:lnTo>
                        <a:lnTo>
                          <a:pt x="1233" y="15"/>
                        </a:lnTo>
                        <a:lnTo>
                          <a:pt x="1233" y="18"/>
                        </a:lnTo>
                        <a:lnTo>
                          <a:pt x="1233" y="21"/>
                        </a:lnTo>
                        <a:lnTo>
                          <a:pt x="1233" y="23"/>
                        </a:lnTo>
                        <a:lnTo>
                          <a:pt x="1233" y="29"/>
                        </a:lnTo>
                        <a:lnTo>
                          <a:pt x="1233" y="33"/>
                        </a:lnTo>
                        <a:lnTo>
                          <a:pt x="1235" y="39"/>
                        </a:lnTo>
                        <a:lnTo>
                          <a:pt x="1235" y="40"/>
                        </a:lnTo>
                        <a:lnTo>
                          <a:pt x="1235" y="43"/>
                        </a:lnTo>
                        <a:lnTo>
                          <a:pt x="1235" y="47"/>
                        </a:lnTo>
                        <a:lnTo>
                          <a:pt x="1236" y="50"/>
                        </a:lnTo>
                        <a:lnTo>
                          <a:pt x="1236" y="52"/>
                        </a:lnTo>
                        <a:lnTo>
                          <a:pt x="1236" y="55"/>
                        </a:lnTo>
                        <a:lnTo>
                          <a:pt x="1236" y="59"/>
                        </a:lnTo>
                        <a:lnTo>
                          <a:pt x="1236" y="62"/>
                        </a:lnTo>
                        <a:lnTo>
                          <a:pt x="1236" y="66"/>
                        </a:lnTo>
                        <a:lnTo>
                          <a:pt x="1236" y="69"/>
                        </a:lnTo>
                        <a:lnTo>
                          <a:pt x="1236" y="73"/>
                        </a:lnTo>
                        <a:lnTo>
                          <a:pt x="1238" y="76"/>
                        </a:lnTo>
                        <a:lnTo>
                          <a:pt x="1238" y="80"/>
                        </a:lnTo>
                        <a:lnTo>
                          <a:pt x="1238" y="82"/>
                        </a:lnTo>
                        <a:lnTo>
                          <a:pt x="1239" y="87"/>
                        </a:lnTo>
                        <a:lnTo>
                          <a:pt x="1239" y="91"/>
                        </a:lnTo>
                        <a:lnTo>
                          <a:pt x="1239" y="93"/>
                        </a:lnTo>
                        <a:lnTo>
                          <a:pt x="1239" y="98"/>
                        </a:lnTo>
                        <a:lnTo>
                          <a:pt x="1241" y="102"/>
                        </a:lnTo>
                        <a:lnTo>
                          <a:pt x="1241" y="106"/>
                        </a:lnTo>
                        <a:lnTo>
                          <a:pt x="1241" y="109"/>
                        </a:lnTo>
                        <a:lnTo>
                          <a:pt x="1242" y="113"/>
                        </a:lnTo>
                        <a:lnTo>
                          <a:pt x="1242" y="115"/>
                        </a:lnTo>
                        <a:lnTo>
                          <a:pt x="1242" y="120"/>
                        </a:lnTo>
                        <a:lnTo>
                          <a:pt x="1242" y="122"/>
                        </a:lnTo>
                        <a:lnTo>
                          <a:pt x="1244" y="126"/>
                        </a:lnTo>
                        <a:lnTo>
                          <a:pt x="1244" y="129"/>
                        </a:lnTo>
                        <a:lnTo>
                          <a:pt x="1245" y="133"/>
                        </a:lnTo>
                        <a:lnTo>
                          <a:pt x="1245" y="136"/>
                        </a:lnTo>
                        <a:lnTo>
                          <a:pt x="1245" y="139"/>
                        </a:lnTo>
                        <a:lnTo>
                          <a:pt x="1245" y="141"/>
                        </a:lnTo>
                        <a:lnTo>
                          <a:pt x="1247" y="146"/>
                        </a:lnTo>
                        <a:lnTo>
                          <a:pt x="1248" y="151"/>
                        </a:lnTo>
                        <a:lnTo>
                          <a:pt x="1250" y="157"/>
                        </a:lnTo>
                        <a:lnTo>
                          <a:pt x="1251" y="162"/>
                        </a:lnTo>
                        <a:lnTo>
                          <a:pt x="1253" y="166"/>
                        </a:lnTo>
                        <a:lnTo>
                          <a:pt x="1253" y="172"/>
                        </a:lnTo>
                        <a:lnTo>
                          <a:pt x="1256" y="176"/>
                        </a:lnTo>
                        <a:lnTo>
                          <a:pt x="1258" y="179"/>
                        </a:lnTo>
                        <a:lnTo>
                          <a:pt x="1259" y="180"/>
                        </a:lnTo>
                        <a:lnTo>
                          <a:pt x="1261" y="181"/>
                        </a:lnTo>
                        <a:lnTo>
                          <a:pt x="1262" y="184"/>
                        </a:lnTo>
                        <a:lnTo>
                          <a:pt x="1262" y="180"/>
                        </a:lnTo>
                        <a:lnTo>
                          <a:pt x="1262" y="177"/>
                        </a:lnTo>
                        <a:lnTo>
                          <a:pt x="1262" y="174"/>
                        </a:lnTo>
                        <a:lnTo>
                          <a:pt x="1262" y="172"/>
                        </a:lnTo>
                        <a:lnTo>
                          <a:pt x="1261" y="168"/>
                        </a:lnTo>
                        <a:lnTo>
                          <a:pt x="1261" y="165"/>
                        </a:lnTo>
                        <a:lnTo>
                          <a:pt x="1261" y="162"/>
                        </a:lnTo>
                        <a:lnTo>
                          <a:pt x="1261" y="159"/>
                        </a:lnTo>
                        <a:lnTo>
                          <a:pt x="1261" y="155"/>
                        </a:lnTo>
                        <a:lnTo>
                          <a:pt x="1261" y="152"/>
                        </a:lnTo>
                        <a:lnTo>
                          <a:pt x="1259" y="150"/>
                        </a:lnTo>
                        <a:lnTo>
                          <a:pt x="1259" y="147"/>
                        </a:lnTo>
                        <a:lnTo>
                          <a:pt x="1259" y="143"/>
                        </a:lnTo>
                        <a:lnTo>
                          <a:pt x="1259" y="140"/>
                        </a:lnTo>
                        <a:lnTo>
                          <a:pt x="1259" y="137"/>
                        </a:lnTo>
                        <a:lnTo>
                          <a:pt x="1259" y="135"/>
                        </a:lnTo>
                        <a:lnTo>
                          <a:pt x="1259" y="130"/>
                        </a:lnTo>
                        <a:lnTo>
                          <a:pt x="1259" y="128"/>
                        </a:lnTo>
                        <a:lnTo>
                          <a:pt x="1258" y="124"/>
                        </a:lnTo>
                        <a:lnTo>
                          <a:pt x="1258" y="121"/>
                        </a:lnTo>
                        <a:lnTo>
                          <a:pt x="1258" y="118"/>
                        </a:lnTo>
                        <a:lnTo>
                          <a:pt x="1258" y="115"/>
                        </a:lnTo>
                        <a:lnTo>
                          <a:pt x="1258" y="111"/>
                        </a:lnTo>
                        <a:lnTo>
                          <a:pt x="1258" y="109"/>
                        </a:lnTo>
                        <a:lnTo>
                          <a:pt x="1256" y="106"/>
                        </a:lnTo>
                        <a:lnTo>
                          <a:pt x="1256" y="102"/>
                        </a:lnTo>
                        <a:lnTo>
                          <a:pt x="1256" y="99"/>
                        </a:lnTo>
                        <a:lnTo>
                          <a:pt x="1256" y="96"/>
                        </a:lnTo>
                        <a:lnTo>
                          <a:pt x="1256" y="92"/>
                        </a:lnTo>
                        <a:lnTo>
                          <a:pt x="1256" y="89"/>
                        </a:lnTo>
                        <a:lnTo>
                          <a:pt x="1256" y="87"/>
                        </a:lnTo>
                        <a:lnTo>
                          <a:pt x="1256" y="84"/>
                        </a:lnTo>
                        <a:lnTo>
                          <a:pt x="1256" y="80"/>
                        </a:lnTo>
                        <a:lnTo>
                          <a:pt x="1258" y="77"/>
                        </a:lnTo>
                        <a:lnTo>
                          <a:pt x="1259" y="74"/>
                        </a:lnTo>
                        <a:lnTo>
                          <a:pt x="1261" y="71"/>
                        </a:lnTo>
                        <a:lnTo>
                          <a:pt x="1262" y="66"/>
                        </a:lnTo>
                        <a:lnTo>
                          <a:pt x="1264" y="60"/>
                        </a:lnTo>
                        <a:lnTo>
                          <a:pt x="1265" y="55"/>
                        </a:lnTo>
                        <a:lnTo>
                          <a:pt x="1267" y="51"/>
                        </a:lnTo>
                        <a:lnTo>
                          <a:pt x="1268" y="45"/>
                        </a:lnTo>
                        <a:lnTo>
                          <a:pt x="1270" y="41"/>
                        </a:lnTo>
                        <a:lnTo>
                          <a:pt x="1270" y="36"/>
                        </a:lnTo>
                        <a:lnTo>
                          <a:pt x="1270" y="32"/>
                        </a:lnTo>
                        <a:lnTo>
                          <a:pt x="1270" y="28"/>
                        </a:lnTo>
                        <a:lnTo>
                          <a:pt x="1270" y="22"/>
                        </a:lnTo>
                        <a:lnTo>
                          <a:pt x="1268" y="17"/>
                        </a:lnTo>
                        <a:lnTo>
                          <a:pt x="1268" y="11"/>
                        </a:lnTo>
                        <a:lnTo>
                          <a:pt x="1267" y="6"/>
                        </a:lnTo>
                        <a:lnTo>
                          <a:pt x="126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269"/>
                  <p:cNvSpPr/>
                  <p:nvPr/>
                </p:nvSpPr>
                <p:spPr>
                  <a:xfrm>
                    <a:off x="4470840" y="3592800"/>
                    <a:ext cx="22320" cy="10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155" h="11">
                        <a:moveTo>
                          <a:pt x="155" y="11"/>
                        </a:moveTo>
                        <a:lnTo>
                          <a:pt x="152" y="11"/>
                        </a:lnTo>
                        <a:lnTo>
                          <a:pt x="149" y="11"/>
                        </a:lnTo>
                        <a:lnTo>
                          <a:pt x="144" y="9"/>
                        </a:lnTo>
                        <a:lnTo>
                          <a:pt x="141" y="9"/>
                        </a:lnTo>
                        <a:lnTo>
                          <a:pt x="135" y="9"/>
                        </a:lnTo>
                        <a:lnTo>
                          <a:pt x="130" y="9"/>
                        </a:lnTo>
                        <a:lnTo>
                          <a:pt x="126" y="9"/>
                        </a:lnTo>
                        <a:lnTo>
                          <a:pt x="120" y="9"/>
                        </a:lnTo>
                        <a:lnTo>
                          <a:pt x="114" y="9"/>
                        </a:lnTo>
                        <a:lnTo>
                          <a:pt x="109" y="9"/>
                        </a:lnTo>
                        <a:lnTo>
                          <a:pt x="103" y="9"/>
                        </a:lnTo>
                        <a:lnTo>
                          <a:pt x="97" y="9"/>
                        </a:lnTo>
                        <a:lnTo>
                          <a:pt x="89" y="8"/>
                        </a:lnTo>
                        <a:lnTo>
                          <a:pt x="85" y="8"/>
                        </a:lnTo>
                        <a:lnTo>
                          <a:pt x="77" y="8"/>
                        </a:lnTo>
                        <a:lnTo>
                          <a:pt x="72" y="8"/>
                        </a:lnTo>
                        <a:lnTo>
                          <a:pt x="65" y="8"/>
                        </a:lnTo>
                        <a:lnTo>
                          <a:pt x="59" y="8"/>
                        </a:lnTo>
                        <a:lnTo>
                          <a:pt x="52" y="7"/>
                        </a:lnTo>
                        <a:lnTo>
                          <a:pt x="46" y="7"/>
                        </a:lnTo>
                        <a:lnTo>
                          <a:pt x="40" y="7"/>
                        </a:lnTo>
                        <a:lnTo>
                          <a:pt x="36" y="7"/>
                        </a:lnTo>
                        <a:lnTo>
                          <a:pt x="29" y="5"/>
                        </a:lnTo>
                        <a:lnTo>
                          <a:pt x="25" y="5"/>
                        </a:lnTo>
                        <a:lnTo>
                          <a:pt x="19" y="5"/>
                        </a:lnTo>
                        <a:lnTo>
                          <a:pt x="16" y="4"/>
                        </a:lnTo>
                        <a:lnTo>
                          <a:pt x="11" y="4"/>
                        </a:lnTo>
                        <a:lnTo>
                          <a:pt x="8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1" y="0"/>
                        </a:lnTo>
                        <a:lnTo>
                          <a:pt x="55" y="3"/>
                        </a:lnTo>
                        <a:lnTo>
                          <a:pt x="60" y="1"/>
                        </a:lnTo>
                        <a:lnTo>
                          <a:pt x="65" y="1"/>
                        </a:lnTo>
                        <a:lnTo>
                          <a:pt x="69" y="1"/>
                        </a:lnTo>
                        <a:lnTo>
                          <a:pt x="72" y="1"/>
                        </a:lnTo>
                        <a:lnTo>
                          <a:pt x="77" y="1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91" y="1"/>
                        </a:lnTo>
                        <a:lnTo>
                          <a:pt x="95" y="1"/>
                        </a:lnTo>
                        <a:lnTo>
                          <a:pt x="100" y="1"/>
                        </a:lnTo>
                        <a:lnTo>
                          <a:pt x="103" y="1"/>
                        </a:lnTo>
                        <a:lnTo>
                          <a:pt x="109" y="1"/>
                        </a:lnTo>
                        <a:lnTo>
                          <a:pt x="114" y="1"/>
                        </a:lnTo>
                        <a:lnTo>
                          <a:pt x="117" y="1"/>
                        </a:lnTo>
                        <a:lnTo>
                          <a:pt x="121" y="1"/>
                        </a:lnTo>
                        <a:lnTo>
                          <a:pt x="127" y="3"/>
                        </a:lnTo>
                        <a:lnTo>
                          <a:pt x="130" y="3"/>
                        </a:lnTo>
                        <a:lnTo>
                          <a:pt x="137" y="3"/>
                        </a:lnTo>
                        <a:lnTo>
                          <a:pt x="141" y="5"/>
                        </a:lnTo>
                        <a:lnTo>
                          <a:pt x="147" y="7"/>
                        </a:lnTo>
                        <a:lnTo>
                          <a:pt x="152" y="8"/>
                        </a:lnTo>
                        <a:lnTo>
                          <a:pt x="155" y="9"/>
                        </a:lnTo>
                        <a:lnTo>
                          <a:pt x="155" y="1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270"/>
                  <p:cNvSpPr/>
                  <p:nvPr/>
                </p:nvSpPr>
                <p:spPr>
                  <a:xfrm>
                    <a:off x="4356720" y="3598920"/>
                    <a:ext cx="9360" cy="54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5" h="42">
                        <a:moveTo>
                          <a:pt x="65" y="0"/>
                        </a:moveTo>
                        <a:lnTo>
                          <a:pt x="64" y="0"/>
                        </a:lnTo>
                        <a:lnTo>
                          <a:pt x="61" y="0"/>
                        </a:lnTo>
                        <a:lnTo>
                          <a:pt x="56" y="0"/>
                        </a:lnTo>
                        <a:lnTo>
                          <a:pt x="53" y="0"/>
                        </a:lnTo>
                        <a:lnTo>
                          <a:pt x="49" y="0"/>
                        </a:lnTo>
                        <a:lnTo>
                          <a:pt x="42" y="0"/>
                        </a:lnTo>
                        <a:lnTo>
                          <a:pt x="38" y="1"/>
                        </a:lnTo>
                        <a:lnTo>
                          <a:pt x="33" y="3"/>
                        </a:lnTo>
                        <a:lnTo>
                          <a:pt x="27" y="3"/>
                        </a:lnTo>
                        <a:lnTo>
                          <a:pt x="23" y="3"/>
                        </a:lnTo>
                        <a:lnTo>
                          <a:pt x="16" y="4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4" y="7"/>
                        </a:lnTo>
                        <a:lnTo>
                          <a:pt x="1" y="7"/>
                        </a:lnTo>
                        <a:lnTo>
                          <a:pt x="0" y="8"/>
                        </a:lnTo>
                        <a:lnTo>
                          <a:pt x="4" y="42"/>
                        </a:lnTo>
                        <a:lnTo>
                          <a:pt x="7" y="41"/>
                        </a:lnTo>
                        <a:lnTo>
                          <a:pt x="6" y="38"/>
                        </a:lnTo>
                        <a:lnTo>
                          <a:pt x="6" y="34"/>
                        </a:lnTo>
                        <a:lnTo>
                          <a:pt x="6" y="30"/>
                        </a:lnTo>
                        <a:lnTo>
                          <a:pt x="4" y="27"/>
                        </a:lnTo>
                        <a:lnTo>
                          <a:pt x="4" y="22"/>
                        </a:lnTo>
                        <a:lnTo>
                          <a:pt x="3" y="19"/>
                        </a:lnTo>
                        <a:lnTo>
                          <a:pt x="3" y="16"/>
                        </a:lnTo>
                        <a:lnTo>
                          <a:pt x="4" y="15"/>
                        </a:lnTo>
                        <a:lnTo>
                          <a:pt x="7" y="15"/>
                        </a:lnTo>
                        <a:lnTo>
                          <a:pt x="12" y="15"/>
                        </a:lnTo>
                        <a:lnTo>
                          <a:pt x="15" y="15"/>
                        </a:lnTo>
                        <a:lnTo>
                          <a:pt x="20" y="15"/>
                        </a:lnTo>
                        <a:lnTo>
                          <a:pt x="23" y="14"/>
                        </a:lnTo>
                        <a:lnTo>
                          <a:pt x="27" y="12"/>
                        </a:lnTo>
                        <a:lnTo>
                          <a:pt x="32" y="12"/>
                        </a:lnTo>
                        <a:lnTo>
                          <a:pt x="36" y="11"/>
                        </a:lnTo>
                        <a:lnTo>
                          <a:pt x="39" y="9"/>
                        </a:lnTo>
                        <a:lnTo>
                          <a:pt x="44" y="8"/>
                        </a:lnTo>
                        <a:lnTo>
                          <a:pt x="49" y="7"/>
                        </a:lnTo>
                        <a:lnTo>
                          <a:pt x="53" y="5"/>
                        </a:lnTo>
                        <a:lnTo>
                          <a:pt x="56" y="4"/>
                        </a:lnTo>
                        <a:lnTo>
                          <a:pt x="59" y="3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271"/>
                  <p:cNvSpPr/>
                  <p:nvPr/>
                </p:nvSpPr>
                <p:spPr>
                  <a:xfrm>
                    <a:off x="4334400" y="3612240"/>
                    <a:ext cx="209880" cy="30600"/>
                  </a:xfrm>
                  <a:custGeom>
                    <a:avLst/>
                    <a:gdLst>
                      <a:gd name="textAreaLeft" fmla="*/ 0 w 209880"/>
                      <a:gd name="textAreaRight" fmla="*/ 210240 w 2098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450" h="235">
                        <a:moveTo>
                          <a:pt x="9" y="4"/>
                        </a:moveTo>
                        <a:lnTo>
                          <a:pt x="9" y="7"/>
                        </a:lnTo>
                        <a:lnTo>
                          <a:pt x="8" y="11"/>
                        </a:lnTo>
                        <a:lnTo>
                          <a:pt x="8" y="15"/>
                        </a:lnTo>
                        <a:lnTo>
                          <a:pt x="6" y="19"/>
                        </a:lnTo>
                        <a:lnTo>
                          <a:pt x="6" y="23"/>
                        </a:lnTo>
                        <a:lnTo>
                          <a:pt x="6" y="28"/>
                        </a:lnTo>
                        <a:lnTo>
                          <a:pt x="4" y="33"/>
                        </a:lnTo>
                        <a:lnTo>
                          <a:pt x="4" y="37"/>
                        </a:lnTo>
                        <a:lnTo>
                          <a:pt x="4" y="43"/>
                        </a:lnTo>
                        <a:lnTo>
                          <a:pt x="3" y="47"/>
                        </a:lnTo>
                        <a:lnTo>
                          <a:pt x="3" y="51"/>
                        </a:lnTo>
                        <a:lnTo>
                          <a:pt x="3" y="56"/>
                        </a:lnTo>
                        <a:lnTo>
                          <a:pt x="1" y="62"/>
                        </a:lnTo>
                        <a:lnTo>
                          <a:pt x="1" y="66"/>
                        </a:lnTo>
                        <a:lnTo>
                          <a:pt x="1" y="71"/>
                        </a:lnTo>
                        <a:lnTo>
                          <a:pt x="1" y="77"/>
                        </a:lnTo>
                        <a:lnTo>
                          <a:pt x="1" y="81"/>
                        </a:lnTo>
                        <a:lnTo>
                          <a:pt x="1" y="87"/>
                        </a:lnTo>
                        <a:lnTo>
                          <a:pt x="0" y="91"/>
                        </a:lnTo>
                        <a:lnTo>
                          <a:pt x="0" y="96"/>
                        </a:lnTo>
                        <a:lnTo>
                          <a:pt x="0" y="100"/>
                        </a:lnTo>
                        <a:lnTo>
                          <a:pt x="0" y="104"/>
                        </a:lnTo>
                        <a:lnTo>
                          <a:pt x="0" y="110"/>
                        </a:lnTo>
                        <a:lnTo>
                          <a:pt x="0" y="115"/>
                        </a:lnTo>
                        <a:lnTo>
                          <a:pt x="0" y="119"/>
                        </a:lnTo>
                        <a:lnTo>
                          <a:pt x="0" y="124"/>
                        </a:lnTo>
                        <a:lnTo>
                          <a:pt x="0" y="129"/>
                        </a:lnTo>
                        <a:lnTo>
                          <a:pt x="0" y="133"/>
                        </a:lnTo>
                        <a:lnTo>
                          <a:pt x="0" y="137"/>
                        </a:lnTo>
                        <a:lnTo>
                          <a:pt x="0" y="141"/>
                        </a:lnTo>
                        <a:lnTo>
                          <a:pt x="0" y="147"/>
                        </a:lnTo>
                        <a:lnTo>
                          <a:pt x="0" y="151"/>
                        </a:lnTo>
                        <a:lnTo>
                          <a:pt x="0" y="150"/>
                        </a:lnTo>
                        <a:lnTo>
                          <a:pt x="1" y="147"/>
                        </a:lnTo>
                        <a:lnTo>
                          <a:pt x="3" y="143"/>
                        </a:lnTo>
                        <a:lnTo>
                          <a:pt x="4" y="140"/>
                        </a:lnTo>
                        <a:lnTo>
                          <a:pt x="4" y="135"/>
                        </a:lnTo>
                        <a:lnTo>
                          <a:pt x="6" y="130"/>
                        </a:lnTo>
                        <a:lnTo>
                          <a:pt x="6" y="125"/>
                        </a:lnTo>
                        <a:lnTo>
                          <a:pt x="8" y="121"/>
                        </a:lnTo>
                        <a:lnTo>
                          <a:pt x="8" y="114"/>
                        </a:lnTo>
                        <a:lnTo>
                          <a:pt x="8" y="108"/>
                        </a:lnTo>
                        <a:lnTo>
                          <a:pt x="9" y="104"/>
                        </a:lnTo>
                        <a:lnTo>
                          <a:pt x="9" y="99"/>
                        </a:lnTo>
                        <a:lnTo>
                          <a:pt x="9" y="95"/>
                        </a:lnTo>
                        <a:lnTo>
                          <a:pt x="9" y="92"/>
                        </a:lnTo>
                        <a:lnTo>
                          <a:pt x="9" y="89"/>
                        </a:lnTo>
                        <a:lnTo>
                          <a:pt x="9" y="88"/>
                        </a:lnTo>
                        <a:lnTo>
                          <a:pt x="17" y="33"/>
                        </a:lnTo>
                        <a:lnTo>
                          <a:pt x="21" y="32"/>
                        </a:lnTo>
                        <a:lnTo>
                          <a:pt x="26" y="32"/>
                        </a:lnTo>
                        <a:lnTo>
                          <a:pt x="30" y="30"/>
                        </a:lnTo>
                        <a:lnTo>
                          <a:pt x="37" y="30"/>
                        </a:lnTo>
                        <a:lnTo>
                          <a:pt x="41" y="28"/>
                        </a:lnTo>
                        <a:lnTo>
                          <a:pt x="47" y="28"/>
                        </a:lnTo>
                        <a:lnTo>
                          <a:pt x="50" y="26"/>
                        </a:lnTo>
                        <a:lnTo>
                          <a:pt x="53" y="26"/>
                        </a:lnTo>
                        <a:lnTo>
                          <a:pt x="58" y="25"/>
                        </a:lnTo>
                        <a:lnTo>
                          <a:pt x="61" y="25"/>
                        </a:lnTo>
                        <a:lnTo>
                          <a:pt x="64" y="23"/>
                        </a:lnTo>
                        <a:lnTo>
                          <a:pt x="67" y="23"/>
                        </a:lnTo>
                        <a:lnTo>
                          <a:pt x="72" y="23"/>
                        </a:lnTo>
                        <a:lnTo>
                          <a:pt x="75" y="22"/>
                        </a:lnTo>
                        <a:lnTo>
                          <a:pt x="79" y="22"/>
                        </a:lnTo>
                        <a:lnTo>
                          <a:pt x="82" y="21"/>
                        </a:lnTo>
                        <a:lnTo>
                          <a:pt x="87" y="21"/>
                        </a:lnTo>
                        <a:lnTo>
                          <a:pt x="90" y="21"/>
                        </a:lnTo>
                        <a:lnTo>
                          <a:pt x="95" y="19"/>
                        </a:lnTo>
                        <a:lnTo>
                          <a:pt x="98" y="19"/>
                        </a:lnTo>
                        <a:lnTo>
                          <a:pt x="101" y="18"/>
                        </a:lnTo>
                        <a:lnTo>
                          <a:pt x="105" y="18"/>
                        </a:lnTo>
                        <a:lnTo>
                          <a:pt x="108" y="18"/>
                        </a:lnTo>
                        <a:lnTo>
                          <a:pt x="113" y="17"/>
                        </a:lnTo>
                        <a:lnTo>
                          <a:pt x="118" y="17"/>
                        </a:lnTo>
                        <a:lnTo>
                          <a:pt x="122" y="17"/>
                        </a:lnTo>
                        <a:lnTo>
                          <a:pt x="125" y="15"/>
                        </a:lnTo>
                        <a:lnTo>
                          <a:pt x="128" y="15"/>
                        </a:lnTo>
                        <a:lnTo>
                          <a:pt x="133" y="14"/>
                        </a:lnTo>
                        <a:lnTo>
                          <a:pt x="136" y="14"/>
                        </a:lnTo>
                        <a:lnTo>
                          <a:pt x="141" y="14"/>
                        </a:lnTo>
                        <a:lnTo>
                          <a:pt x="144" y="12"/>
                        </a:lnTo>
                        <a:lnTo>
                          <a:pt x="148" y="12"/>
                        </a:lnTo>
                        <a:lnTo>
                          <a:pt x="151" y="12"/>
                        </a:lnTo>
                        <a:lnTo>
                          <a:pt x="157" y="12"/>
                        </a:lnTo>
                        <a:lnTo>
                          <a:pt x="165" y="11"/>
                        </a:lnTo>
                        <a:lnTo>
                          <a:pt x="171" y="11"/>
                        </a:lnTo>
                        <a:lnTo>
                          <a:pt x="177" y="11"/>
                        </a:lnTo>
                        <a:lnTo>
                          <a:pt x="183" y="11"/>
                        </a:lnTo>
                        <a:lnTo>
                          <a:pt x="190" y="11"/>
                        </a:lnTo>
                        <a:lnTo>
                          <a:pt x="194" y="11"/>
                        </a:lnTo>
                        <a:lnTo>
                          <a:pt x="199" y="11"/>
                        </a:lnTo>
                        <a:lnTo>
                          <a:pt x="202" y="12"/>
                        </a:lnTo>
                        <a:lnTo>
                          <a:pt x="206" y="12"/>
                        </a:lnTo>
                        <a:lnTo>
                          <a:pt x="209" y="14"/>
                        </a:lnTo>
                        <a:lnTo>
                          <a:pt x="211" y="15"/>
                        </a:lnTo>
                        <a:lnTo>
                          <a:pt x="209" y="15"/>
                        </a:lnTo>
                        <a:lnTo>
                          <a:pt x="206" y="14"/>
                        </a:lnTo>
                        <a:lnTo>
                          <a:pt x="202" y="14"/>
                        </a:lnTo>
                        <a:lnTo>
                          <a:pt x="199" y="15"/>
                        </a:lnTo>
                        <a:lnTo>
                          <a:pt x="194" y="15"/>
                        </a:lnTo>
                        <a:lnTo>
                          <a:pt x="190" y="15"/>
                        </a:lnTo>
                        <a:lnTo>
                          <a:pt x="183" y="15"/>
                        </a:lnTo>
                        <a:lnTo>
                          <a:pt x="179" y="15"/>
                        </a:lnTo>
                        <a:lnTo>
                          <a:pt x="173" y="15"/>
                        </a:lnTo>
                        <a:lnTo>
                          <a:pt x="167" y="17"/>
                        </a:lnTo>
                        <a:lnTo>
                          <a:pt x="162" y="17"/>
                        </a:lnTo>
                        <a:lnTo>
                          <a:pt x="159" y="18"/>
                        </a:lnTo>
                        <a:lnTo>
                          <a:pt x="156" y="18"/>
                        </a:lnTo>
                        <a:lnTo>
                          <a:pt x="153" y="18"/>
                        </a:lnTo>
                        <a:lnTo>
                          <a:pt x="148" y="18"/>
                        </a:lnTo>
                        <a:lnTo>
                          <a:pt x="145" y="19"/>
                        </a:lnTo>
                        <a:lnTo>
                          <a:pt x="141" y="19"/>
                        </a:lnTo>
                        <a:lnTo>
                          <a:pt x="138" y="21"/>
                        </a:lnTo>
                        <a:lnTo>
                          <a:pt x="133" y="21"/>
                        </a:lnTo>
                        <a:lnTo>
                          <a:pt x="130" y="21"/>
                        </a:lnTo>
                        <a:lnTo>
                          <a:pt x="125" y="22"/>
                        </a:lnTo>
                        <a:lnTo>
                          <a:pt x="122" y="23"/>
                        </a:lnTo>
                        <a:lnTo>
                          <a:pt x="119" y="23"/>
                        </a:lnTo>
                        <a:lnTo>
                          <a:pt x="115" y="23"/>
                        </a:lnTo>
                        <a:lnTo>
                          <a:pt x="110" y="23"/>
                        </a:lnTo>
                        <a:lnTo>
                          <a:pt x="107" y="25"/>
                        </a:lnTo>
                        <a:lnTo>
                          <a:pt x="102" y="25"/>
                        </a:lnTo>
                        <a:lnTo>
                          <a:pt x="99" y="26"/>
                        </a:lnTo>
                        <a:lnTo>
                          <a:pt x="95" y="26"/>
                        </a:lnTo>
                        <a:lnTo>
                          <a:pt x="92" y="28"/>
                        </a:lnTo>
                        <a:lnTo>
                          <a:pt x="87" y="28"/>
                        </a:lnTo>
                        <a:lnTo>
                          <a:pt x="84" y="28"/>
                        </a:lnTo>
                        <a:lnTo>
                          <a:pt x="81" y="29"/>
                        </a:lnTo>
                        <a:lnTo>
                          <a:pt x="76" y="29"/>
                        </a:lnTo>
                        <a:lnTo>
                          <a:pt x="70" y="30"/>
                        </a:lnTo>
                        <a:lnTo>
                          <a:pt x="63" y="32"/>
                        </a:lnTo>
                        <a:lnTo>
                          <a:pt x="56" y="33"/>
                        </a:lnTo>
                        <a:lnTo>
                          <a:pt x="50" y="34"/>
                        </a:lnTo>
                        <a:lnTo>
                          <a:pt x="44" y="34"/>
                        </a:lnTo>
                        <a:lnTo>
                          <a:pt x="40" y="36"/>
                        </a:lnTo>
                        <a:lnTo>
                          <a:pt x="35" y="37"/>
                        </a:lnTo>
                        <a:lnTo>
                          <a:pt x="30" y="38"/>
                        </a:lnTo>
                        <a:lnTo>
                          <a:pt x="27" y="38"/>
                        </a:lnTo>
                        <a:lnTo>
                          <a:pt x="24" y="40"/>
                        </a:lnTo>
                        <a:lnTo>
                          <a:pt x="23" y="44"/>
                        </a:lnTo>
                        <a:lnTo>
                          <a:pt x="23" y="51"/>
                        </a:lnTo>
                        <a:lnTo>
                          <a:pt x="23" y="54"/>
                        </a:lnTo>
                        <a:lnTo>
                          <a:pt x="21" y="58"/>
                        </a:lnTo>
                        <a:lnTo>
                          <a:pt x="21" y="62"/>
                        </a:lnTo>
                        <a:lnTo>
                          <a:pt x="21" y="65"/>
                        </a:lnTo>
                        <a:lnTo>
                          <a:pt x="21" y="69"/>
                        </a:lnTo>
                        <a:lnTo>
                          <a:pt x="21" y="71"/>
                        </a:lnTo>
                        <a:lnTo>
                          <a:pt x="21" y="76"/>
                        </a:lnTo>
                        <a:lnTo>
                          <a:pt x="23" y="78"/>
                        </a:lnTo>
                        <a:lnTo>
                          <a:pt x="23" y="84"/>
                        </a:lnTo>
                        <a:lnTo>
                          <a:pt x="24" y="88"/>
                        </a:lnTo>
                        <a:lnTo>
                          <a:pt x="24" y="89"/>
                        </a:lnTo>
                        <a:lnTo>
                          <a:pt x="24" y="93"/>
                        </a:lnTo>
                        <a:lnTo>
                          <a:pt x="23" y="96"/>
                        </a:lnTo>
                        <a:lnTo>
                          <a:pt x="23" y="99"/>
                        </a:lnTo>
                        <a:lnTo>
                          <a:pt x="23" y="103"/>
                        </a:lnTo>
                        <a:lnTo>
                          <a:pt x="23" y="106"/>
                        </a:lnTo>
                        <a:lnTo>
                          <a:pt x="23" y="108"/>
                        </a:lnTo>
                        <a:lnTo>
                          <a:pt x="21" y="111"/>
                        </a:lnTo>
                        <a:lnTo>
                          <a:pt x="21" y="114"/>
                        </a:lnTo>
                        <a:lnTo>
                          <a:pt x="21" y="117"/>
                        </a:lnTo>
                        <a:lnTo>
                          <a:pt x="20" y="121"/>
                        </a:lnTo>
                        <a:lnTo>
                          <a:pt x="20" y="122"/>
                        </a:lnTo>
                        <a:lnTo>
                          <a:pt x="20" y="125"/>
                        </a:lnTo>
                        <a:lnTo>
                          <a:pt x="20" y="128"/>
                        </a:lnTo>
                        <a:lnTo>
                          <a:pt x="20" y="130"/>
                        </a:lnTo>
                        <a:lnTo>
                          <a:pt x="20" y="135"/>
                        </a:lnTo>
                        <a:lnTo>
                          <a:pt x="18" y="137"/>
                        </a:lnTo>
                        <a:lnTo>
                          <a:pt x="18" y="140"/>
                        </a:lnTo>
                        <a:lnTo>
                          <a:pt x="18" y="143"/>
                        </a:lnTo>
                        <a:lnTo>
                          <a:pt x="18" y="147"/>
                        </a:lnTo>
                        <a:lnTo>
                          <a:pt x="18" y="150"/>
                        </a:lnTo>
                        <a:lnTo>
                          <a:pt x="18" y="152"/>
                        </a:lnTo>
                        <a:lnTo>
                          <a:pt x="18" y="155"/>
                        </a:lnTo>
                        <a:lnTo>
                          <a:pt x="18" y="159"/>
                        </a:lnTo>
                        <a:lnTo>
                          <a:pt x="17" y="162"/>
                        </a:lnTo>
                        <a:lnTo>
                          <a:pt x="17" y="165"/>
                        </a:lnTo>
                        <a:lnTo>
                          <a:pt x="17" y="168"/>
                        </a:lnTo>
                        <a:lnTo>
                          <a:pt x="17" y="172"/>
                        </a:lnTo>
                        <a:lnTo>
                          <a:pt x="17" y="177"/>
                        </a:lnTo>
                        <a:lnTo>
                          <a:pt x="15" y="183"/>
                        </a:lnTo>
                        <a:lnTo>
                          <a:pt x="15" y="185"/>
                        </a:lnTo>
                        <a:lnTo>
                          <a:pt x="15" y="189"/>
                        </a:lnTo>
                        <a:lnTo>
                          <a:pt x="15" y="192"/>
                        </a:lnTo>
                        <a:lnTo>
                          <a:pt x="15" y="196"/>
                        </a:lnTo>
                        <a:lnTo>
                          <a:pt x="15" y="199"/>
                        </a:lnTo>
                        <a:lnTo>
                          <a:pt x="15" y="202"/>
                        </a:lnTo>
                        <a:lnTo>
                          <a:pt x="15" y="205"/>
                        </a:lnTo>
                        <a:lnTo>
                          <a:pt x="15" y="209"/>
                        </a:lnTo>
                        <a:lnTo>
                          <a:pt x="15" y="211"/>
                        </a:lnTo>
                        <a:lnTo>
                          <a:pt x="15" y="214"/>
                        </a:lnTo>
                        <a:lnTo>
                          <a:pt x="15" y="218"/>
                        </a:lnTo>
                        <a:lnTo>
                          <a:pt x="15" y="221"/>
                        </a:lnTo>
                        <a:lnTo>
                          <a:pt x="15" y="220"/>
                        </a:lnTo>
                        <a:lnTo>
                          <a:pt x="15" y="218"/>
                        </a:lnTo>
                        <a:lnTo>
                          <a:pt x="15" y="217"/>
                        </a:lnTo>
                        <a:lnTo>
                          <a:pt x="17" y="213"/>
                        </a:lnTo>
                        <a:lnTo>
                          <a:pt x="18" y="210"/>
                        </a:lnTo>
                        <a:lnTo>
                          <a:pt x="20" y="206"/>
                        </a:lnTo>
                        <a:lnTo>
                          <a:pt x="20" y="200"/>
                        </a:lnTo>
                        <a:lnTo>
                          <a:pt x="21" y="196"/>
                        </a:lnTo>
                        <a:lnTo>
                          <a:pt x="21" y="191"/>
                        </a:lnTo>
                        <a:lnTo>
                          <a:pt x="23" y="185"/>
                        </a:lnTo>
                        <a:lnTo>
                          <a:pt x="23" y="180"/>
                        </a:lnTo>
                        <a:lnTo>
                          <a:pt x="24" y="173"/>
                        </a:lnTo>
                        <a:lnTo>
                          <a:pt x="24" y="170"/>
                        </a:lnTo>
                        <a:lnTo>
                          <a:pt x="26" y="168"/>
                        </a:lnTo>
                        <a:lnTo>
                          <a:pt x="26" y="163"/>
                        </a:lnTo>
                        <a:lnTo>
                          <a:pt x="26" y="161"/>
                        </a:lnTo>
                        <a:lnTo>
                          <a:pt x="26" y="157"/>
                        </a:lnTo>
                        <a:lnTo>
                          <a:pt x="27" y="154"/>
                        </a:lnTo>
                        <a:lnTo>
                          <a:pt x="27" y="150"/>
                        </a:lnTo>
                        <a:lnTo>
                          <a:pt x="29" y="147"/>
                        </a:lnTo>
                        <a:lnTo>
                          <a:pt x="29" y="143"/>
                        </a:lnTo>
                        <a:lnTo>
                          <a:pt x="29" y="140"/>
                        </a:lnTo>
                        <a:lnTo>
                          <a:pt x="30" y="136"/>
                        </a:lnTo>
                        <a:lnTo>
                          <a:pt x="30" y="133"/>
                        </a:lnTo>
                        <a:lnTo>
                          <a:pt x="30" y="129"/>
                        </a:lnTo>
                        <a:lnTo>
                          <a:pt x="32" y="126"/>
                        </a:lnTo>
                        <a:lnTo>
                          <a:pt x="32" y="122"/>
                        </a:lnTo>
                        <a:lnTo>
                          <a:pt x="32" y="119"/>
                        </a:lnTo>
                        <a:lnTo>
                          <a:pt x="32" y="115"/>
                        </a:lnTo>
                        <a:lnTo>
                          <a:pt x="34" y="113"/>
                        </a:lnTo>
                        <a:lnTo>
                          <a:pt x="34" y="108"/>
                        </a:lnTo>
                        <a:lnTo>
                          <a:pt x="35" y="106"/>
                        </a:lnTo>
                        <a:lnTo>
                          <a:pt x="35" y="99"/>
                        </a:lnTo>
                        <a:lnTo>
                          <a:pt x="37" y="95"/>
                        </a:lnTo>
                        <a:lnTo>
                          <a:pt x="37" y="88"/>
                        </a:lnTo>
                        <a:lnTo>
                          <a:pt x="38" y="84"/>
                        </a:lnTo>
                        <a:lnTo>
                          <a:pt x="38" y="78"/>
                        </a:lnTo>
                        <a:lnTo>
                          <a:pt x="40" y="74"/>
                        </a:lnTo>
                        <a:lnTo>
                          <a:pt x="40" y="70"/>
                        </a:lnTo>
                        <a:lnTo>
                          <a:pt x="41" y="67"/>
                        </a:lnTo>
                        <a:lnTo>
                          <a:pt x="41" y="65"/>
                        </a:lnTo>
                        <a:lnTo>
                          <a:pt x="43" y="63"/>
                        </a:lnTo>
                        <a:lnTo>
                          <a:pt x="43" y="62"/>
                        </a:lnTo>
                        <a:lnTo>
                          <a:pt x="46" y="62"/>
                        </a:lnTo>
                        <a:lnTo>
                          <a:pt x="50" y="60"/>
                        </a:lnTo>
                        <a:lnTo>
                          <a:pt x="55" y="59"/>
                        </a:lnTo>
                        <a:lnTo>
                          <a:pt x="58" y="59"/>
                        </a:lnTo>
                        <a:lnTo>
                          <a:pt x="61" y="58"/>
                        </a:lnTo>
                        <a:lnTo>
                          <a:pt x="64" y="56"/>
                        </a:lnTo>
                        <a:lnTo>
                          <a:pt x="67" y="56"/>
                        </a:lnTo>
                        <a:lnTo>
                          <a:pt x="70" y="55"/>
                        </a:lnTo>
                        <a:lnTo>
                          <a:pt x="75" y="55"/>
                        </a:lnTo>
                        <a:lnTo>
                          <a:pt x="78" y="54"/>
                        </a:lnTo>
                        <a:lnTo>
                          <a:pt x="82" y="54"/>
                        </a:lnTo>
                        <a:lnTo>
                          <a:pt x="86" y="52"/>
                        </a:lnTo>
                        <a:lnTo>
                          <a:pt x="90" y="52"/>
                        </a:lnTo>
                        <a:lnTo>
                          <a:pt x="93" y="51"/>
                        </a:lnTo>
                        <a:lnTo>
                          <a:pt x="98" y="51"/>
                        </a:lnTo>
                        <a:lnTo>
                          <a:pt x="101" y="49"/>
                        </a:lnTo>
                        <a:lnTo>
                          <a:pt x="105" y="49"/>
                        </a:lnTo>
                        <a:lnTo>
                          <a:pt x="108" y="49"/>
                        </a:lnTo>
                        <a:lnTo>
                          <a:pt x="113" y="49"/>
                        </a:lnTo>
                        <a:lnTo>
                          <a:pt x="116" y="48"/>
                        </a:lnTo>
                        <a:lnTo>
                          <a:pt x="119" y="48"/>
                        </a:lnTo>
                        <a:lnTo>
                          <a:pt x="122" y="48"/>
                        </a:lnTo>
                        <a:lnTo>
                          <a:pt x="127" y="48"/>
                        </a:lnTo>
                        <a:lnTo>
                          <a:pt x="133" y="48"/>
                        </a:lnTo>
                        <a:lnTo>
                          <a:pt x="139" y="49"/>
                        </a:lnTo>
                        <a:lnTo>
                          <a:pt x="115" y="60"/>
                        </a:lnTo>
                        <a:lnTo>
                          <a:pt x="113" y="59"/>
                        </a:lnTo>
                        <a:lnTo>
                          <a:pt x="112" y="59"/>
                        </a:lnTo>
                        <a:lnTo>
                          <a:pt x="108" y="59"/>
                        </a:lnTo>
                        <a:lnTo>
                          <a:pt x="105" y="59"/>
                        </a:lnTo>
                        <a:lnTo>
                          <a:pt x="101" y="59"/>
                        </a:lnTo>
                        <a:lnTo>
                          <a:pt x="95" y="60"/>
                        </a:lnTo>
                        <a:lnTo>
                          <a:pt x="90" y="62"/>
                        </a:lnTo>
                        <a:lnTo>
                          <a:pt x="84" y="62"/>
                        </a:lnTo>
                        <a:lnTo>
                          <a:pt x="78" y="63"/>
                        </a:lnTo>
                        <a:lnTo>
                          <a:pt x="73" y="65"/>
                        </a:lnTo>
                        <a:lnTo>
                          <a:pt x="67" y="65"/>
                        </a:lnTo>
                        <a:lnTo>
                          <a:pt x="63" y="66"/>
                        </a:lnTo>
                        <a:lnTo>
                          <a:pt x="56" y="66"/>
                        </a:lnTo>
                        <a:lnTo>
                          <a:pt x="53" y="66"/>
                        </a:lnTo>
                        <a:lnTo>
                          <a:pt x="50" y="67"/>
                        </a:lnTo>
                        <a:lnTo>
                          <a:pt x="47" y="67"/>
                        </a:lnTo>
                        <a:lnTo>
                          <a:pt x="46" y="70"/>
                        </a:lnTo>
                        <a:lnTo>
                          <a:pt x="46" y="74"/>
                        </a:lnTo>
                        <a:lnTo>
                          <a:pt x="44" y="77"/>
                        </a:lnTo>
                        <a:lnTo>
                          <a:pt x="44" y="80"/>
                        </a:lnTo>
                        <a:lnTo>
                          <a:pt x="44" y="84"/>
                        </a:lnTo>
                        <a:lnTo>
                          <a:pt x="43" y="87"/>
                        </a:lnTo>
                        <a:lnTo>
                          <a:pt x="43" y="89"/>
                        </a:lnTo>
                        <a:lnTo>
                          <a:pt x="43" y="93"/>
                        </a:lnTo>
                        <a:lnTo>
                          <a:pt x="43" y="98"/>
                        </a:lnTo>
                        <a:lnTo>
                          <a:pt x="43" y="100"/>
                        </a:lnTo>
                        <a:lnTo>
                          <a:pt x="43" y="104"/>
                        </a:lnTo>
                        <a:lnTo>
                          <a:pt x="43" y="107"/>
                        </a:lnTo>
                        <a:lnTo>
                          <a:pt x="43" y="111"/>
                        </a:lnTo>
                        <a:lnTo>
                          <a:pt x="43" y="114"/>
                        </a:lnTo>
                        <a:lnTo>
                          <a:pt x="43" y="118"/>
                        </a:lnTo>
                        <a:lnTo>
                          <a:pt x="43" y="122"/>
                        </a:lnTo>
                        <a:lnTo>
                          <a:pt x="43" y="125"/>
                        </a:lnTo>
                        <a:lnTo>
                          <a:pt x="43" y="129"/>
                        </a:lnTo>
                        <a:lnTo>
                          <a:pt x="43" y="132"/>
                        </a:lnTo>
                        <a:lnTo>
                          <a:pt x="43" y="136"/>
                        </a:lnTo>
                        <a:lnTo>
                          <a:pt x="43" y="139"/>
                        </a:lnTo>
                        <a:lnTo>
                          <a:pt x="43" y="143"/>
                        </a:lnTo>
                        <a:lnTo>
                          <a:pt x="43" y="146"/>
                        </a:lnTo>
                        <a:lnTo>
                          <a:pt x="43" y="150"/>
                        </a:lnTo>
                        <a:lnTo>
                          <a:pt x="43" y="154"/>
                        </a:lnTo>
                        <a:lnTo>
                          <a:pt x="43" y="157"/>
                        </a:lnTo>
                        <a:lnTo>
                          <a:pt x="43" y="161"/>
                        </a:lnTo>
                        <a:lnTo>
                          <a:pt x="44" y="163"/>
                        </a:lnTo>
                        <a:lnTo>
                          <a:pt x="44" y="168"/>
                        </a:lnTo>
                        <a:lnTo>
                          <a:pt x="44" y="172"/>
                        </a:lnTo>
                        <a:lnTo>
                          <a:pt x="44" y="174"/>
                        </a:lnTo>
                        <a:lnTo>
                          <a:pt x="44" y="179"/>
                        </a:lnTo>
                        <a:lnTo>
                          <a:pt x="44" y="184"/>
                        </a:lnTo>
                        <a:lnTo>
                          <a:pt x="44" y="191"/>
                        </a:lnTo>
                        <a:lnTo>
                          <a:pt x="43" y="194"/>
                        </a:lnTo>
                        <a:lnTo>
                          <a:pt x="43" y="196"/>
                        </a:lnTo>
                        <a:lnTo>
                          <a:pt x="43" y="200"/>
                        </a:lnTo>
                        <a:lnTo>
                          <a:pt x="43" y="203"/>
                        </a:lnTo>
                        <a:lnTo>
                          <a:pt x="43" y="206"/>
                        </a:lnTo>
                        <a:lnTo>
                          <a:pt x="41" y="210"/>
                        </a:lnTo>
                        <a:lnTo>
                          <a:pt x="41" y="213"/>
                        </a:lnTo>
                        <a:lnTo>
                          <a:pt x="41" y="216"/>
                        </a:lnTo>
                        <a:lnTo>
                          <a:pt x="40" y="218"/>
                        </a:lnTo>
                        <a:lnTo>
                          <a:pt x="40" y="222"/>
                        </a:lnTo>
                        <a:lnTo>
                          <a:pt x="40" y="225"/>
                        </a:lnTo>
                        <a:lnTo>
                          <a:pt x="40" y="229"/>
                        </a:lnTo>
                        <a:lnTo>
                          <a:pt x="43" y="231"/>
                        </a:lnTo>
                        <a:lnTo>
                          <a:pt x="47" y="232"/>
                        </a:lnTo>
                        <a:lnTo>
                          <a:pt x="50" y="233"/>
                        </a:lnTo>
                        <a:lnTo>
                          <a:pt x="55" y="235"/>
                        </a:lnTo>
                        <a:lnTo>
                          <a:pt x="58" y="179"/>
                        </a:lnTo>
                        <a:lnTo>
                          <a:pt x="58" y="173"/>
                        </a:lnTo>
                        <a:lnTo>
                          <a:pt x="60" y="168"/>
                        </a:lnTo>
                        <a:lnTo>
                          <a:pt x="60" y="163"/>
                        </a:lnTo>
                        <a:lnTo>
                          <a:pt x="61" y="158"/>
                        </a:lnTo>
                        <a:lnTo>
                          <a:pt x="63" y="152"/>
                        </a:lnTo>
                        <a:lnTo>
                          <a:pt x="63" y="148"/>
                        </a:lnTo>
                        <a:lnTo>
                          <a:pt x="64" y="143"/>
                        </a:lnTo>
                        <a:lnTo>
                          <a:pt x="66" y="137"/>
                        </a:lnTo>
                        <a:lnTo>
                          <a:pt x="66" y="132"/>
                        </a:lnTo>
                        <a:lnTo>
                          <a:pt x="67" y="126"/>
                        </a:lnTo>
                        <a:lnTo>
                          <a:pt x="67" y="122"/>
                        </a:lnTo>
                        <a:lnTo>
                          <a:pt x="69" y="117"/>
                        </a:lnTo>
                        <a:lnTo>
                          <a:pt x="70" y="111"/>
                        </a:lnTo>
                        <a:lnTo>
                          <a:pt x="70" y="107"/>
                        </a:lnTo>
                        <a:lnTo>
                          <a:pt x="72" y="102"/>
                        </a:lnTo>
                        <a:lnTo>
                          <a:pt x="73" y="96"/>
                        </a:lnTo>
                        <a:lnTo>
                          <a:pt x="73" y="102"/>
                        </a:lnTo>
                        <a:lnTo>
                          <a:pt x="73" y="107"/>
                        </a:lnTo>
                        <a:lnTo>
                          <a:pt x="75" y="113"/>
                        </a:lnTo>
                        <a:lnTo>
                          <a:pt x="75" y="118"/>
                        </a:lnTo>
                        <a:lnTo>
                          <a:pt x="75" y="124"/>
                        </a:lnTo>
                        <a:lnTo>
                          <a:pt x="76" y="129"/>
                        </a:lnTo>
                        <a:lnTo>
                          <a:pt x="76" y="135"/>
                        </a:lnTo>
                        <a:lnTo>
                          <a:pt x="78" y="140"/>
                        </a:lnTo>
                        <a:lnTo>
                          <a:pt x="82" y="141"/>
                        </a:lnTo>
                        <a:lnTo>
                          <a:pt x="84" y="139"/>
                        </a:lnTo>
                        <a:lnTo>
                          <a:pt x="86" y="135"/>
                        </a:lnTo>
                        <a:lnTo>
                          <a:pt x="86" y="130"/>
                        </a:lnTo>
                        <a:lnTo>
                          <a:pt x="87" y="128"/>
                        </a:lnTo>
                        <a:lnTo>
                          <a:pt x="87" y="124"/>
                        </a:lnTo>
                        <a:lnTo>
                          <a:pt x="87" y="119"/>
                        </a:lnTo>
                        <a:lnTo>
                          <a:pt x="87" y="117"/>
                        </a:lnTo>
                        <a:lnTo>
                          <a:pt x="87" y="113"/>
                        </a:lnTo>
                        <a:lnTo>
                          <a:pt x="90" y="111"/>
                        </a:lnTo>
                        <a:lnTo>
                          <a:pt x="95" y="111"/>
                        </a:lnTo>
                        <a:lnTo>
                          <a:pt x="98" y="110"/>
                        </a:lnTo>
                        <a:lnTo>
                          <a:pt x="102" y="110"/>
                        </a:lnTo>
                        <a:lnTo>
                          <a:pt x="107" y="108"/>
                        </a:lnTo>
                        <a:lnTo>
                          <a:pt x="110" y="108"/>
                        </a:lnTo>
                        <a:lnTo>
                          <a:pt x="115" y="107"/>
                        </a:lnTo>
                        <a:lnTo>
                          <a:pt x="119" y="107"/>
                        </a:lnTo>
                        <a:lnTo>
                          <a:pt x="124" y="106"/>
                        </a:lnTo>
                        <a:lnTo>
                          <a:pt x="128" y="104"/>
                        </a:lnTo>
                        <a:lnTo>
                          <a:pt x="133" y="103"/>
                        </a:lnTo>
                        <a:lnTo>
                          <a:pt x="138" y="103"/>
                        </a:lnTo>
                        <a:lnTo>
                          <a:pt x="142" y="102"/>
                        </a:lnTo>
                        <a:lnTo>
                          <a:pt x="147" y="102"/>
                        </a:lnTo>
                        <a:lnTo>
                          <a:pt x="153" y="100"/>
                        </a:lnTo>
                        <a:lnTo>
                          <a:pt x="157" y="99"/>
                        </a:lnTo>
                        <a:lnTo>
                          <a:pt x="164" y="98"/>
                        </a:lnTo>
                        <a:lnTo>
                          <a:pt x="168" y="98"/>
                        </a:lnTo>
                        <a:lnTo>
                          <a:pt x="173" y="96"/>
                        </a:lnTo>
                        <a:lnTo>
                          <a:pt x="179" y="96"/>
                        </a:lnTo>
                        <a:lnTo>
                          <a:pt x="183" y="93"/>
                        </a:lnTo>
                        <a:lnTo>
                          <a:pt x="190" y="93"/>
                        </a:lnTo>
                        <a:lnTo>
                          <a:pt x="194" y="92"/>
                        </a:lnTo>
                        <a:lnTo>
                          <a:pt x="200" y="92"/>
                        </a:lnTo>
                        <a:lnTo>
                          <a:pt x="205" y="91"/>
                        </a:lnTo>
                        <a:lnTo>
                          <a:pt x="211" y="89"/>
                        </a:lnTo>
                        <a:lnTo>
                          <a:pt x="217" y="89"/>
                        </a:lnTo>
                        <a:lnTo>
                          <a:pt x="222" y="88"/>
                        </a:lnTo>
                        <a:lnTo>
                          <a:pt x="228" y="87"/>
                        </a:lnTo>
                        <a:lnTo>
                          <a:pt x="234" y="87"/>
                        </a:lnTo>
                        <a:lnTo>
                          <a:pt x="238" y="85"/>
                        </a:lnTo>
                        <a:lnTo>
                          <a:pt x="245" y="85"/>
                        </a:lnTo>
                        <a:lnTo>
                          <a:pt x="249" y="84"/>
                        </a:lnTo>
                        <a:lnTo>
                          <a:pt x="255" y="84"/>
                        </a:lnTo>
                        <a:lnTo>
                          <a:pt x="260" y="82"/>
                        </a:lnTo>
                        <a:lnTo>
                          <a:pt x="266" y="81"/>
                        </a:lnTo>
                        <a:lnTo>
                          <a:pt x="271" y="80"/>
                        </a:lnTo>
                        <a:lnTo>
                          <a:pt x="277" y="80"/>
                        </a:lnTo>
                        <a:lnTo>
                          <a:pt x="281" y="78"/>
                        </a:lnTo>
                        <a:lnTo>
                          <a:pt x="287" y="78"/>
                        </a:lnTo>
                        <a:lnTo>
                          <a:pt x="292" y="77"/>
                        </a:lnTo>
                        <a:lnTo>
                          <a:pt x="297" y="77"/>
                        </a:lnTo>
                        <a:lnTo>
                          <a:pt x="303" y="77"/>
                        </a:lnTo>
                        <a:lnTo>
                          <a:pt x="307" y="77"/>
                        </a:lnTo>
                        <a:lnTo>
                          <a:pt x="312" y="76"/>
                        </a:lnTo>
                        <a:lnTo>
                          <a:pt x="316" y="76"/>
                        </a:lnTo>
                        <a:lnTo>
                          <a:pt x="323" y="76"/>
                        </a:lnTo>
                        <a:lnTo>
                          <a:pt x="327" y="76"/>
                        </a:lnTo>
                        <a:lnTo>
                          <a:pt x="332" y="74"/>
                        </a:lnTo>
                        <a:lnTo>
                          <a:pt x="336" y="74"/>
                        </a:lnTo>
                        <a:lnTo>
                          <a:pt x="341" y="74"/>
                        </a:lnTo>
                        <a:lnTo>
                          <a:pt x="346" y="74"/>
                        </a:lnTo>
                        <a:lnTo>
                          <a:pt x="349" y="74"/>
                        </a:lnTo>
                        <a:lnTo>
                          <a:pt x="353" y="74"/>
                        </a:lnTo>
                        <a:lnTo>
                          <a:pt x="358" y="74"/>
                        </a:lnTo>
                        <a:lnTo>
                          <a:pt x="362" y="76"/>
                        </a:lnTo>
                        <a:lnTo>
                          <a:pt x="365" y="76"/>
                        </a:lnTo>
                        <a:lnTo>
                          <a:pt x="369" y="76"/>
                        </a:lnTo>
                        <a:lnTo>
                          <a:pt x="373" y="77"/>
                        </a:lnTo>
                        <a:lnTo>
                          <a:pt x="376" y="77"/>
                        </a:lnTo>
                        <a:lnTo>
                          <a:pt x="382" y="78"/>
                        </a:lnTo>
                        <a:lnTo>
                          <a:pt x="388" y="81"/>
                        </a:lnTo>
                        <a:lnTo>
                          <a:pt x="385" y="82"/>
                        </a:lnTo>
                        <a:lnTo>
                          <a:pt x="381" y="84"/>
                        </a:lnTo>
                        <a:lnTo>
                          <a:pt x="378" y="84"/>
                        </a:lnTo>
                        <a:lnTo>
                          <a:pt x="375" y="85"/>
                        </a:lnTo>
                        <a:lnTo>
                          <a:pt x="370" y="87"/>
                        </a:lnTo>
                        <a:lnTo>
                          <a:pt x="367" y="87"/>
                        </a:lnTo>
                        <a:lnTo>
                          <a:pt x="364" y="87"/>
                        </a:lnTo>
                        <a:lnTo>
                          <a:pt x="361" y="88"/>
                        </a:lnTo>
                        <a:lnTo>
                          <a:pt x="356" y="88"/>
                        </a:lnTo>
                        <a:lnTo>
                          <a:pt x="353" y="89"/>
                        </a:lnTo>
                        <a:lnTo>
                          <a:pt x="349" y="89"/>
                        </a:lnTo>
                        <a:lnTo>
                          <a:pt x="346" y="89"/>
                        </a:lnTo>
                        <a:lnTo>
                          <a:pt x="341" y="89"/>
                        </a:lnTo>
                        <a:lnTo>
                          <a:pt x="338" y="91"/>
                        </a:lnTo>
                        <a:lnTo>
                          <a:pt x="333" y="91"/>
                        </a:lnTo>
                        <a:lnTo>
                          <a:pt x="330" y="91"/>
                        </a:lnTo>
                        <a:lnTo>
                          <a:pt x="327" y="91"/>
                        </a:lnTo>
                        <a:lnTo>
                          <a:pt x="324" y="91"/>
                        </a:lnTo>
                        <a:lnTo>
                          <a:pt x="320" y="91"/>
                        </a:lnTo>
                        <a:lnTo>
                          <a:pt x="316" y="91"/>
                        </a:lnTo>
                        <a:lnTo>
                          <a:pt x="312" y="91"/>
                        </a:lnTo>
                        <a:lnTo>
                          <a:pt x="309" y="91"/>
                        </a:lnTo>
                        <a:lnTo>
                          <a:pt x="304" y="91"/>
                        </a:lnTo>
                        <a:lnTo>
                          <a:pt x="301" y="92"/>
                        </a:lnTo>
                        <a:lnTo>
                          <a:pt x="297" y="92"/>
                        </a:lnTo>
                        <a:lnTo>
                          <a:pt x="294" y="92"/>
                        </a:lnTo>
                        <a:lnTo>
                          <a:pt x="290" y="92"/>
                        </a:lnTo>
                        <a:lnTo>
                          <a:pt x="286" y="92"/>
                        </a:lnTo>
                        <a:lnTo>
                          <a:pt x="283" y="92"/>
                        </a:lnTo>
                        <a:lnTo>
                          <a:pt x="280" y="92"/>
                        </a:lnTo>
                        <a:lnTo>
                          <a:pt x="275" y="93"/>
                        </a:lnTo>
                        <a:lnTo>
                          <a:pt x="272" y="95"/>
                        </a:lnTo>
                        <a:lnTo>
                          <a:pt x="141" y="113"/>
                        </a:lnTo>
                        <a:lnTo>
                          <a:pt x="194" y="119"/>
                        </a:lnTo>
                        <a:lnTo>
                          <a:pt x="196" y="119"/>
                        </a:lnTo>
                        <a:lnTo>
                          <a:pt x="200" y="118"/>
                        </a:lnTo>
                        <a:lnTo>
                          <a:pt x="203" y="118"/>
                        </a:lnTo>
                        <a:lnTo>
                          <a:pt x="208" y="117"/>
                        </a:lnTo>
                        <a:lnTo>
                          <a:pt x="212" y="117"/>
                        </a:lnTo>
                        <a:lnTo>
                          <a:pt x="219" y="117"/>
                        </a:lnTo>
                        <a:lnTo>
                          <a:pt x="225" y="115"/>
                        </a:lnTo>
                        <a:lnTo>
                          <a:pt x="231" y="114"/>
                        </a:lnTo>
                        <a:lnTo>
                          <a:pt x="234" y="114"/>
                        </a:lnTo>
                        <a:lnTo>
                          <a:pt x="237" y="114"/>
                        </a:lnTo>
                        <a:lnTo>
                          <a:pt x="242" y="113"/>
                        </a:lnTo>
                        <a:lnTo>
                          <a:pt x="246" y="113"/>
                        </a:lnTo>
                        <a:lnTo>
                          <a:pt x="249" y="113"/>
                        </a:lnTo>
                        <a:lnTo>
                          <a:pt x="252" y="111"/>
                        </a:lnTo>
                        <a:lnTo>
                          <a:pt x="257" y="111"/>
                        </a:lnTo>
                        <a:lnTo>
                          <a:pt x="263" y="111"/>
                        </a:lnTo>
                        <a:lnTo>
                          <a:pt x="266" y="111"/>
                        </a:lnTo>
                        <a:lnTo>
                          <a:pt x="271" y="110"/>
                        </a:lnTo>
                        <a:lnTo>
                          <a:pt x="275" y="110"/>
                        </a:lnTo>
                        <a:lnTo>
                          <a:pt x="281" y="110"/>
                        </a:lnTo>
                        <a:lnTo>
                          <a:pt x="286" y="108"/>
                        </a:lnTo>
                        <a:lnTo>
                          <a:pt x="290" y="108"/>
                        </a:lnTo>
                        <a:lnTo>
                          <a:pt x="297" y="107"/>
                        </a:lnTo>
                        <a:lnTo>
                          <a:pt x="301" y="107"/>
                        </a:lnTo>
                        <a:lnTo>
                          <a:pt x="307" y="106"/>
                        </a:lnTo>
                        <a:lnTo>
                          <a:pt x="312" y="104"/>
                        </a:lnTo>
                        <a:lnTo>
                          <a:pt x="318" y="104"/>
                        </a:lnTo>
                        <a:lnTo>
                          <a:pt x="324" y="104"/>
                        </a:lnTo>
                        <a:lnTo>
                          <a:pt x="330" y="103"/>
                        </a:lnTo>
                        <a:lnTo>
                          <a:pt x="335" y="102"/>
                        </a:lnTo>
                        <a:lnTo>
                          <a:pt x="341" y="102"/>
                        </a:lnTo>
                        <a:lnTo>
                          <a:pt x="349" y="102"/>
                        </a:lnTo>
                        <a:lnTo>
                          <a:pt x="355" y="100"/>
                        </a:lnTo>
                        <a:lnTo>
                          <a:pt x="361" y="100"/>
                        </a:lnTo>
                        <a:lnTo>
                          <a:pt x="367" y="99"/>
                        </a:lnTo>
                        <a:lnTo>
                          <a:pt x="375" y="99"/>
                        </a:lnTo>
                        <a:lnTo>
                          <a:pt x="381" y="98"/>
                        </a:lnTo>
                        <a:lnTo>
                          <a:pt x="387" y="98"/>
                        </a:lnTo>
                        <a:lnTo>
                          <a:pt x="393" y="96"/>
                        </a:lnTo>
                        <a:lnTo>
                          <a:pt x="401" y="96"/>
                        </a:lnTo>
                        <a:lnTo>
                          <a:pt x="408" y="95"/>
                        </a:lnTo>
                        <a:lnTo>
                          <a:pt x="414" y="95"/>
                        </a:lnTo>
                        <a:lnTo>
                          <a:pt x="422" y="93"/>
                        </a:lnTo>
                        <a:lnTo>
                          <a:pt x="430" y="93"/>
                        </a:lnTo>
                        <a:lnTo>
                          <a:pt x="437" y="92"/>
                        </a:lnTo>
                        <a:lnTo>
                          <a:pt x="445" y="92"/>
                        </a:lnTo>
                        <a:lnTo>
                          <a:pt x="453" y="91"/>
                        </a:lnTo>
                        <a:lnTo>
                          <a:pt x="460" y="91"/>
                        </a:lnTo>
                        <a:lnTo>
                          <a:pt x="468" y="89"/>
                        </a:lnTo>
                        <a:lnTo>
                          <a:pt x="476" y="89"/>
                        </a:lnTo>
                        <a:lnTo>
                          <a:pt x="483" y="88"/>
                        </a:lnTo>
                        <a:lnTo>
                          <a:pt x="492" y="88"/>
                        </a:lnTo>
                        <a:lnTo>
                          <a:pt x="1211" y="84"/>
                        </a:lnTo>
                        <a:lnTo>
                          <a:pt x="1083" y="92"/>
                        </a:lnTo>
                        <a:lnTo>
                          <a:pt x="1080" y="91"/>
                        </a:lnTo>
                        <a:lnTo>
                          <a:pt x="1077" y="91"/>
                        </a:lnTo>
                        <a:lnTo>
                          <a:pt x="1072" y="89"/>
                        </a:lnTo>
                        <a:lnTo>
                          <a:pt x="1068" y="89"/>
                        </a:lnTo>
                        <a:lnTo>
                          <a:pt x="1061" y="89"/>
                        </a:lnTo>
                        <a:lnTo>
                          <a:pt x="1058" y="89"/>
                        </a:lnTo>
                        <a:lnTo>
                          <a:pt x="1054" y="89"/>
                        </a:lnTo>
                        <a:lnTo>
                          <a:pt x="1051" y="89"/>
                        </a:lnTo>
                        <a:lnTo>
                          <a:pt x="1054" y="89"/>
                        </a:lnTo>
                        <a:lnTo>
                          <a:pt x="1058" y="91"/>
                        </a:lnTo>
                        <a:lnTo>
                          <a:pt x="1061" y="91"/>
                        </a:lnTo>
                        <a:lnTo>
                          <a:pt x="1066" y="92"/>
                        </a:lnTo>
                        <a:lnTo>
                          <a:pt x="1071" y="92"/>
                        </a:lnTo>
                        <a:lnTo>
                          <a:pt x="1075" y="92"/>
                        </a:lnTo>
                        <a:lnTo>
                          <a:pt x="1080" y="93"/>
                        </a:lnTo>
                        <a:lnTo>
                          <a:pt x="1084" y="93"/>
                        </a:lnTo>
                        <a:lnTo>
                          <a:pt x="1087" y="93"/>
                        </a:lnTo>
                        <a:lnTo>
                          <a:pt x="1092" y="93"/>
                        </a:lnTo>
                        <a:lnTo>
                          <a:pt x="1097" y="95"/>
                        </a:lnTo>
                        <a:lnTo>
                          <a:pt x="1101" y="95"/>
                        </a:lnTo>
                        <a:lnTo>
                          <a:pt x="1106" y="95"/>
                        </a:lnTo>
                        <a:lnTo>
                          <a:pt x="1110" y="95"/>
                        </a:lnTo>
                        <a:lnTo>
                          <a:pt x="1115" y="96"/>
                        </a:lnTo>
                        <a:lnTo>
                          <a:pt x="1120" y="96"/>
                        </a:lnTo>
                        <a:lnTo>
                          <a:pt x="1124" y="96"/>
                        </a:lnTo>
                        <a:lnTo>
                          <a:pt x="1130" y="96"/>
                        </a:lnTo>
                        <a:lnTo>
                          <a:pt x="1133" y="96"/>
                        </a:lnTo>
                        <a:lnTo>
                          <a:pt x="1139" y="96"/>
                        </a:lnTo>
                        <a:lnTo>
                          <a:pt x="1144" y="96"/>
                        </a:lnTo>
                        <a:lnTo>
                          <a:pt x="1149" y="96"/>
                        </a:lnTo>
                        <a:lnTo>
                          <a:pt x="1153" y="96"/>
                        </a:lnTo>
                        <a:lnTo>
                          <a:pt x="1158" y="96"/>
                        </a:lnTo>
                        <a:lnTo>
                          <a:pt x="1162" y="96"/>
                        </a:lnTo>
                        <a:lnTo>
                          <a:pt x="1167" y="96"/>
                        </a:lnTo>
                        <a:lnTo>
                          <a:pt x="1172" y="96"/>
                        </a:lnTo>
                        <a:lnTo>
                          <a:pt x="1178" y="96"/>
                        </a:lnTo>
                        <a:lnTo>
                          <a:pt x="1182" y="96"/>
                        </a:lnTo>
                        <a:lnTo>
                          <a:pt x="1187" y="96"/>
                        </a:lnTo>
                        <a:lnTo>
                          <a:pt x="1191" y="96"/>
                        </a:lnTo>
                        <a:lnTo>
                          <a:pt x="1196" y="96"/>
                        </a:lnTo>
                        <a:lnTo>
                          <a:pt x="1201" y="96"/>
                        </a:lnTo>
                        <a:lnTo>
                          <a:pt x="1207" y="96"/>
                        </a:lnTo>
                        <a:lnTo>
                          <a:pt x="1210" y="96"/>
                        </a:lnTo>
                        <a:lnTo>
                          <a:pt x="1216" y="96"/>
                        </a:lnTo>
                        <a:lnTo>
                          <a:pt x="1219" y="95"/>
                        </a:lnTo>
                        <a:lnTo>
                          <a:pt x="1225" y="95"/>
                        </a:lnTo>
                        <a:lnTo>
                          <a:pt x="1230" y="95"/>
                        </a:lnTo>
                        <a:lnTo>
                          <a:pt x="1234" y="95"/>
                        </a:lnTo>
                        <a:lnTo>
                          <a:pt x="1239" y="95"/>
                        </a:lnTo>
                        <a:lnTo>
                          <a:pt x="1243" y="95"/>
                        </a:lnTo>
                        <a:lnTo>
                          <a:pt x="1248" y="93"/>
                        </a:lnTo>
                        <a:lnTo>
                          <a:pt x="1254" y="93"/>
                        </a:lnTo>
                        <a:lnTo>
                          <a:pt x="1257" y="93"/>
                        </a:lnTo>
                        <a:lnTo>
                          <a:pt x="1263" y="93"/>
                        </a:lnTo>
                        <a:lnTo>
                          <a:pt x="1268" y="93"/>
                        </a:lnTo>
                        <a:lnTo>
                          <a:pt x="1273" y="93"/>
                        </a:lnTo>
                        <a:lnTo>
                          <a:pt x="1277" y="92"/>
                        </a:lnTo>
                        <a:lnTo>
                          <a:pt x="1282" y="92"/>
                        </a:lnTo>
                        <a:lnTo>
                          <a:pt x="1286" y="92"/>
                        </a:lnTo>
                        <a:lnTo>
                          <a:pt x="1291" y="92"/>
                        </a:lnTo>
                        <a:lnTo>
                          <a:pt x="1295" y="92"/>
                        </a:lnTo>
                        <a:lnTo>
                          <a:pt x="1300" y="92"/>
                        </a:lnTo>
                        <a:lnTo>
                          <a:pt x="1305" y="92"/>
                        </a:lnTo>
                        <a:lnTo>
                          <a:pt x="1309" y="92"/>
                        </a:lnTo>
                        <a:lnTo>
                          <a:pt x="1314" y="91"/>
                        </a:lnTo>
                        <a:lnTo>
                          <a:pt x="1318" y="91"/>
                        </a:lnTo>
                        <a:lnTo>
                          <a:pt x="1323" y="91"/>
                        </a:lnTo>
                        <a:lnTo>
                          <a:pt x="1328" y="91"/>
                        </a:lnTo>
                        <a:lnTo>
                          <a:pt x="1332" y="89"/>
                        </a:lnTo>
                        <a:lnTo>
                          <a:pt x="1337" y="89"/>
                        </a:lnTo>
                        <a:lnTo>
                          <a:pt x="1340" y="89"/>
                        </a:lnTo>
                        <a:lnTo>
                          <a:pt x="1346" y="89"/>
                        </a:lnTo>
                        <a:lnTo>
                          <a:pt x="1346" y="93"/>
                        </a:lnTo>
                        <a:lnTo>
                          <a:pt x="1346" y="98"/>
                        </a:lnTo>
                        <a:lnTo>
                          <a:pt x="1346" y="102"/>
                        </a:lnTo>
                        <a:lnTo>
                          <a:pt x="1347" y="106"/>
                        </a:lnTo>
                        <a:lnTo>
                          <a:pt x="1347" y="110"/>
                        </a:lnTo>
                        <a:lnTo>
                          <a:pt x="1349" y="115"/>
                        </a:lnTo>
                        <a:lnTo>
                          <a:pt x="1349" y="121"/>
                        </a:lnTo>
                        <a:lnTo>
                          <a:pt x="1351" y="125"/>
                        </a:lnTo>
                        <a:lnTo>
                          <a:pt x="1351" y="129"/>
                        </a:lnTo>
                        <a:lnTo>
                          <a:pt x="1352" y="135"/>
                        </a:lnTo>
                        <a:lnTo>
                          <a:pt x="1352" y="139"/>
                        </a:lnTo>
                        <a:lnTo>
                          <a:pt x="1354" y="144"/>
                        </a:lnTo>
                        <a:lnTo>
                          <a:pt x="1355" y="148"/>
                        </a:lnTo>
                        <a:lnTo>
                          <a:pt x="1357" y="151"/>
                        </a:lnTo>
                        <a:lnTo>
                          <a:pt x="1360" y="154"/>
                        </a:lnTo>
                        <a:lnTo>
                          <a:pt x="1361" y="158"/>
                        </a:lnTo>
                        <a:lnTo>
                          <a:pt x="1366" y="154"/>
                        </a:lnTo>
                        <a:lnTo>
                          <a:pt x="1364" y="148"/>
                        </a:lnTo>
                        <a:lnTo>
                          <a:pt x="1364" y="143"/>
                        </a:lnTo>
                        <a:lnTo>
                          <a:pt x="1363" y="139"/>
                        </a:lnTo>
                        <a:lnTo>
                          <a:pt x="1363" y="133"/>
                        </a:lnTo>
                        <a:lnTo>
                          <a:pt x="1361" y="129"/>
                        </a:lnTo>
                        <a:lnTo>
                          <a:pt x="1361" y="125"/>
                        </a:lnTo>
                        <a:lnTo>
                          <a:pt x="1360" y="121"/>
                        </a:lnTo>
                        <a:lnTo>
                          <a:pt x="1360" y="117"/>
                        </a:lnTo>
                        <a:lnTo>
                          <a:pt x="1360" y="111"/>
                        </a:lnTo>
                        <a:lnTo>
                          <a:pt x="1358" y="107"/>
                        </a:lnTo>
                        <a:lnTo>
                          <a:pt x="1358" y="102"/>
                        </a:lnTo>
                        <a:lnTo>
                          <a:pt x="1358" y="99"/>
                        </a:lnTo>
                        <a:lnTo>
                          <a:pt x="1357" y="93"/>
                        </a:lnTo>
                        <a:lnTo>
                          <a:pt x="1357" y="89"/>
                        </a:lnTo>
                        <a:lnTo>
                          <a:pt x="1357" y="85"/>
                        </a:lnTo>
                        <a:lnTo>
                          <a:pt x="1357" y="81"/>
                        </a:lnTo>
                        <a:lnTo>
                          <a:pt x="1354" y="80"/>
                        </a:lnTo>
                        <a:lnTo>
                          <a:pt x="1351" y="80"/>
                        </a:lnTo>
                        <a:lnTo>
                          <a:pt x="1346" y="80"/>
                        </a:lnTo>
                        <a:lnTo>
                          <a:pt x="1343" y="81"/>
                        </a:lnTo>
                        <a:lnTo>
                          <a:pt x="1340" y="81"/>
                        </a:lnTo>
                        <a:lnTo>
                          <a:pt x="1337" y="82"/>
                        </a:lnTo>
                        <a:lnTo>
                          <a:pt x="1332" y="82"/>
                        </a:lnTo>
                        <a:lnTo>
                          <a:pt x="1329" y="84"/>
                        </a:lnTo>
                        <a:lnTo>
                          <a:pt x="1325" y="84"/>
                        </a:lnTo>
                        <a:lnTo>
                          <a:pt x="1321" y="84"/>
                        </a:lnTo>
                        <a:lnTo>
                          <a:pt x="1326" y="81"/>
                        </a:lnTo>
                        <a:lnTo>
                          <a:pt x="1328" y="80"/>
                        </a:lnTo>
                        <a:lnTo>
                          <a:pt x="1331" y="78"/>
                        </a:lnTo>
                        <a:lnTo>
                          <a:pt x="1334" y="77"/>
                        </a:lnTo>
                        <a:lnTo>
                          <a:pt x="1338" y="77"/>
                        </a:lnTo>
                        <a:lnTo>
                          <a:pt x="1341" y="76"/>
                        </a:lnTo>
                        <a:lnTo>
                          <a:pt x="1347" y="76"/>
                        </a:lnTo>
                        <a:lnTo>
                          <a:pt x="1351" y="74"/>
                        </a:lnTo>
                        <a:lnTo>
                          <a:pt x="1354" y="74"/>
                        </a:lnTo>
                        <a:lnTo>
                          <a:pt x="1357" y="74"/>
                        </a:lnTo>
                        <a:lnTo>
                          <a:pt x="1361" y="74"/>
                        </a:lnTo>
                        <a:lnTo>
                          <a:pt x="1363" y="77"/>
                        </a:lnTo>
                        <a:lnTo>
                          <a:pt x="1364" y="82"/>
                        </a:lnTo>
                        <a:lnTo>
                          <a:pt x="1367" y="87"/>
                        </a:lnTo>
                        <a:lnTo>
                          <a:pt x="1369" y="89"/>
                        </a:lnTo>
                        <a:lnTo>
                          <a:pt x="1369" y="87"/>
                        </a:lnTo>
                        <a:lnTo>
                          <a:pt x="1370" y="84"/>
                        </a:lnTo>
                        <a:lnTo>
                          <a:pt x="1370" y="80"/>
                        </a:lnTo>
                        <a:lnTo>
                          <a:pt x="1370" y="77"/>
                        </a:lnTo>
                        <a:lnTo>
                          <a:pt x="1370" y="74"/>
                        </a:lnTo>
                        <a:lnTo>
                          <a:pt x="1370" y="71"/>
                        </a:lnTo>
                        <a:lnTo>
                          <a:pt x="1370" y="67"/>
                        </a:lnTo>
                        <a:lnTo>
                          <a:pt x="1369" y="65"/>
                        </a:lnTo>
                        <a:lnTo>
                          <a:pt x="1364" y="65"/>
                        </a:lnTo>
                        <a:lnTo>
                          <a:pt x="1360" y="65"/>
                        </a:lnTo>
                        <a:lnTo>
                          <a:pt x="1357" y="65"/>
                        </a:lnTo>
                        <a:lnTo>
                          <a:pt x="1352" y="66"/>
                        </a:lnTo>
                        <a:lnTo>
                          <a:pt x="1347" y="66"/>
                        </a:lnTo>
                        <a:lnTo>
                          <a:pt x="1344" y="67"/>
                        </a:lnTo>
                        <a:lnTo>
                          <a:pt x="1340" y="67"/>
                        </a:lnTo>
                        <a:lnTo>
                          <a:pt x="1337" y="69"/>
                        </a:lnTo>
                        <a:lnTo>
                          <a:pt x="1332" y="69"/>
                        </a:lnTo>
                        <a:lnTo>
                          <a:pt x="1329" y="70"/>
                        </a:lnTo>
                        <a:lnTo>
                          <a:pt x="1325" y="70"/>
                        </a:lnTo>
                        <a:lnTo>
                          <a:pt x="1320" y="71"/>
                        </a:lnTo>
                        <a:lnTo>
                          <a:pt x="1317" y="71"/>
                        </a:lnTo>
                        <a:lnTo>
                          <a:pt x="1312" y="71"/>
                        </a:lnTo>
                        <a:lnTo>
                          <a:pt x="1309" y="71"/>
                        </a:lnTo>
                        <a:lnTo>
                          <a:pt x="1306" y="71"/>
                        </a:lnTo>
                        <a:lnTo>
                          <a:pt x="1302" y="71"/>
                        </a:lnTo>
                        <a:lnTo>
                          <a:pt x="1299" y="71"/>
                        </a:lnTo>
                        <a:lnTo>
                          <a:pt x="1295" y="70"/>
                        </a:lnTo>
                        <a:lnTo>
                          <a:pt x="1292" y="70"/>
                        </a:lnTo>
                        <a:lnTo>
                          <a:pt x="1285" y="69"/>
                        </a:lnTo>
                        <a:lnTo>
                          <a:pt x="1280" y="70"/>
                        </a:lnTo>
                        <a:lnTo>
                          <a:pt x="1285" y="67"/>
                        </a:lnTo>
                        <a:lnTo>
                          <a:pt x="1291" y="65"/>
                        </a:lnTo>
                        <a:lnTo>
                          <a:pt x="1297" y="63"/>
                        </a:lnTo>
                        <a:lnTo>
                          <a:pt x="1302" y="62"/>
                        </a:lnTo>
                        <a:lnTo>
                          <a:pt x="1308" y="62"/>
                        </a:lnTo>
                        <a:lnTo>
                          <a:pt x="1314" y="60"/>
                        </a:lnTo>
                        <a:lnTo>
                          <a:pt x="1320" y="60"/>
                        </a:lnTo>
                        <a:lnTo>
                          <a:pt x="1326" y="60"/>
                        </a:lnTo>
                        <a:lnTo>
                          <a:pt x="1332" y="60"/>
                        </a:lnTo>
                        <a:lnTo>
                          <a:pt x="1337" y="60"/>
                        </a:lnTo>
                        <a:lnTo>
                          <a:pt x="1343" y="60"/>
                        </a:lnTo>
                        <a:lnTo>
                          <a:pt x="1351" y="60"/>
                        </a:lnTo>
                        <a:lnTo>
                          <a:pt x="1355" y="59"/>
                        </a:lnTo>
                        <a:lnTo>
                          <a:pt x="1363" y="59"/>
                        </a:lnTo>
                        <a:lnTo>
                          <a:pt x="1366" y="59"/>
                        </a:lnTo>
                        <a:lnTo>
                          <a:pt x="1369" y="59"/>
                        </a:lnTo>
                        <a:lnTo>
                          <a:pt x="1372" y="59"/>
                        </a:lnTo>
                        <a:lnTo>
                          <a:pt x="1377" y="59"/>
                        </a:lnTo>
                        <a:lnTo>
                          <a:pt x="1377" y="62"/>
                        </a:lnTo>
                        <a:lnTo>
                          <a:pt x="1377" y="66"/>
                        </a:lnTo>
                        <a:lnTo>
                          <a:pt x="1378" y="70"/>
                        </a:lnTo>
                        <a:lnTo>
                          <a:pt x="1380" y="74"/>
                        </a:lnTo>
                        <a:lnTo>
                          <a:pt x="1380" y="78"/>
                        </a:lnTo>
                        <a:lnTo>
                          <a:pt x="1381" y="84"/>
                        </a:lnTo>
                        <a:lnTo>
                          <a:pt x="1381" y="87"/>
                        </a:lnTo>
                        <a:lnTo>
                          <a:pt x="1383" y="92"/>
                        </a:lnTo>
                        <a:lnTo>
                          <a:pt x="1384" y="96"/>
                        </a:lnTo>
                        <a:lnTo>
                          <a:pt x="1384" y="99"/>
                        </a:lnTo>
                        <a:lnTo>
                          <a:pt x="1384" y="103"/>
                        </a:lnTo>
                        <a:lnTo>
                          <a:pt x="1386" y="108"/>
                        </a:lnTo>
                        <a:lnTo>
                          <a:pt x="1387" y="111"/>
                        </a:lnTo>
                        <a:lnTo>
                          <a:pt x="1387" y="117"/>
                        </a:lnTo>
                        <a:lnTo>
                          <a:pt x="1389" y="121"/>
                        </a:lnTo>
                        <a:lnTo>
                          <a:pt x="1390" y="125"/>
                        </a:lnTo>
                        <a:lnTo>
                          <a:pt x="1390" y="129"/>
                        </a:lnTo>
                        <a:lnTo>
                          <a:pt x="1392" y="133"/>
                        </a:lnTo>
                        <a:lnTo>
                          <a:pt x="1392" y="136"/>
                        </a:lnTo>
                        <a:lnTo>
                          <a:pt x="1393" y="141"/>
                        </a:lnTo>
                        <a:lnTo>
                          <a:pt x="1395" y="146"/>
                        </a:lnTo>
                        <a:lnTo>
                          <a:pt x="1395" y="150"/>
                        </a:lnTo>
                        <a:lnTo>
                          <a:pt x="1396" y="154"/>
                        </a:lnTo>
                        <a:lnTo>
                          <a:pt x="1398" y="158"/>
                        </a:lnTo>
                        <a:lnTo>
                          <a:pt x="1398" y="162"/>
                        </a:lnTo>
                        <a:lnTo>
                          <a:pt x="1399" y="166"/>
                        </a:lnTo>
                        <a:lnTo>
                          <a:pt x="1399" y="170"/>
                        </a:lnTo>
                        <a:lnTo>
                          <a:pt x="1401" y="174"/>
                        </a:lnTo>
                        <a:lnTo>
                          <a:pt x="1401" y="179"/>
                        </a:lnTo>
                        <a:lnTo>
                          <a:pt x="1404" y="183"/>
                        </a:lnTo>
                        <a:lnTo>
                          <a:pt x="1404" y="187"/>
                        </a:lnTo>
                        <a:lnTo>
                          <a:pt x="1406" y="192"/>
                        </a:lnTo>
                        <a:lnTo>
                          <a:pt x="1419" y="192"/>
                        </a:lnTo>
                        <a:lnTo>
                          <a:pt x="1418" y="188"/>
                        </a:lnTo>
                        <a:lnTo>
                          <a:pt x="1418" y="184"/>
                        </a:lnTo>
                        <a:lnTo>
                          <a:pt x="1418" y="180"/>
                        </a:lnTo>
                        <a:lnTo>
                          <a:pt x="1418" y="174"/>
                        </a:lnTo>
                        <a:lnTo>
                          <a:pt x="1418" y="170"/>
                        </a:lnTo>
                        <a:lnTo>
                          <a:pt x="1418" y="165"/>
                        </a:lnTo>
                        <a:lnTo>
                          <a:pt x="1418" y="159"/>
                        </a:lnTo>
                        <a:lnTo>
                          <a:pt x="1418" y="155"/>
                        </a:lnTo>
                        <a:lnTo>
                          <a:pt x="1416" y="150"/>
                        </a:lnTo>
                        <a:lnTo>
                          <a:pt x="1416" y="144"/>
                        </a:lnTo>
                        <a:lnTo>
                          <a:pt x="1415" y="139"/>
                        </a:lnTo>
                        <a:lnTo>
                          <a:pt x="1415" y="133"/>
                        </a:lnTo>
                        <a:lnTo>
                          <a:pt x="1415" y="126"/>
                        </a:lnTo>
                        <a:lnTo>
                          <a:pt x="1415" y="121"/>
                        </a:lnTo>
                        <a:lnTo>
                          <a:pt x="1415" y="115"/>
                        </a:lnTo>
                        <a:lnTo>
                          <a:pt x="1415" y="110"/>
                        </a:lnTo>
                        <a:lnTo>
                          <a:pt x="1413" y="104"/>
                        </a:lnTo>
                        <a:lnTo>
                          <a:pt x="1413" y="99"/>
                        </a:lnTo>
                        <a:lnTo>
                          <a:pt x="1412" y="92"/>
                        </a:lnTo>
                        <a:lnTo>
                          <a:pt x="1412" y="87"/>
                        </a:lnTo>
                        <a:lnTo>
                          <a:pt x="1410" y="81"/>
                        </a:lnTo>
                        <a:lnTo>
                          <a:pt x="1410" y="76"/>
                        </a:lnTo>
                        <a:lnTo>
                          <a:pt x="1409" y="71"/>
                        </a:lnTo>
                        <a:lnTo>
                          <a:pt x="1409" y="66"/>
                        </a:lnTo>
                        <a:lnTo>
                          <a:pt x="1407" y="60"/>
                        </a:lnTo>
                        <a:lnTo>
                          <a:pt x="1406" y="55"/>
                        </a:lnTo>
                        <a:lnTo>
                          <a:pt x="1404" y="51"/>
                        </a:lnTo>
                        <a:lnTo>
                          <a:pt x="1404" y="47"/>
                        </a:lnTo>
                        <a:lnTo>
                          <a:pt x="1403" y="43"/>
                        </a:lnTo>
                        <a:lnTo>
                          <a:pt x="1401" y="40"/>
                        </a:lnTo>
                        <a:lnTo>
                          <a:pt x="1399" y="36"/>
                        </a:lnTo>
                        <a:lnTo>
                          <a:pt x="1398" y="33"/>
                        </a:lnTo>
                        <a:lnTo>
                          <a:pt x="1395" y="33"/>
                        </a:lnTo>
                        <a:lnTo>
                          <a:pt x="1390" y="32"/>
                        </a:lnTo>
                        <a:lnTo>
                          <a:pt x="1384" y="32"/>
                        </a:lnTo>
                        <a:lnTo>
                          <a:pt x="1381" y="32"/>
                        </a:lnTo>
                        <a:lnTo>
                          <a:pt x="1378" y="32"/>
                        </a:lnTo>
                        <a:lnTo>
                          <a:pt x="1375" y="32"/>
                        </a:lnTo>
                        <a:lnTo>
                          <a:pt x="1372" y="32"/>
                        </a:lnTo>
                        <a:lnTo>
                          <a:pt x="1367" y="30"/>
                        </a:lnTo>
                        <a:lnTo>
                          <a:pt x="1364" y="30"/>
                        </a:lnTo>
                        <a:lnTo>
                          <a:pt x="1360" y="30"/>
                        </a:lnTo>
                        <a:lnTo>
                          <a:pt x="1357" y="30"/>
                        </a:lnTo>
                        <a:lnTo>
                          <a:pt x="1352" y="30"/>
                        </a:lnTo>
                        <a:lnTo>
                          <a:pt x="1349" y="30"/>
                        </a:lnTo>
                        <a:lnTo>
                          <a:pt x="1344" y="30"/>
                        </a:lnTo>
                        <a:lnTo>
                          <a:pt x="1341" y="30"/>
                        </a:lnTo>
                        <a:lnTo>
                          <a:pt x="1337" y="29"/>
                        </a:lnTo>
                        <a:lnTo>
                          <a:pt x="1334" y="29"/>
                        </a:lnTo>
                        <a:lnTo>
                          <a:pt x="1331" y="29"/>
                        </a:lnTo>
                        <a:lnTo>
                          <a:pt x="1328" y="29"/>
                        </a:lnTo>
                        <a:lnTo>
                          <a:pt x="1323" y="29"/>
                        </a:lnTo>
                        <a:lnTo>
                          <a:pt x="1318" y="29"/>
                        </a:lnTo>
                        <a:lnTo>
                          <a:pt x="1315" y="29"/>
                        </a:lnTo>
                        <a:lnTo>
                          <a:pt x="1321" y="28"/>
                        </a:lnTo>
                        <a:lnTo>
                          <a:pt x="1326" y="26"/>
                        </a:lnTo>
                        <a:lnTo>
                          <a:pt x="1332" y="25"/>
                        </a:lnTo>
                        <a:lnTo>
                          <a:pt x="1338" y="25"/>
                        </a:lnTo>
                        <a:lnTo>
                          <a:pt x="1343" y="23"/>
                        </a:lnTo>
                        <a:lnTo>
                          <a:pt x="1351" y="23"/>
                        </a:lnTo>
                        <a:lnTo>
                          <a:pt x="1355" y="23"/>
                        </a:lnTo>
                        <a:lnTo>
                          <a:pt x="1361" y="23"/>
                        </a:lnTo>
                        <a:lnTo>
                          <a:pt x="1367" y="23"/>
                        </a:lnTo>
                        <a:lnTo>
                          <a:pt x="1373" y="23"/>
                        </a:lnTo>
                        <a:lnTo>
                          <a:pt x="1378" y="23"/>
                        </a:lnTo>
                        <a:lnTo>
                          <a:pt x="1384" y="23"/>
                        </a:lnTo>
                        <a:lnTo>
                          <a:pt x="1390" y="23"/>
                        </a:lnTo>
                        <a:lnTo>
                          <a:pt x="1396" y="23"/>
                        </a:lnTo>
                        <a:lnTo>
                          <a:pt x="1403" y="23"/>
                        </a:lnTo>
                        <a:lnTo>
                          <a:pt x="1409" y="23"/>
                        </a:lnTo>
                        <a:lnTo>
                          <a:pt x="1409" y="29"/>
                        </a:lnTo>
                        <a:lnTo>
                          <a:pt x="1409" y="33"/>
                        </a:lnTo>
                        <a:lnTo>
                          <a:pt x="1410" y="38"/>
                        </a:lnTo>
                        <a:lnTo>
                          <a:pt x="1412" y="44"/>
                        </a:lnTo>
                        <a:lnTo>
                          <a:pt x="1412" y="49"/>
                        </a:lnTo>
                        <a:lnTo>
                          <a:pt x="1412" y="54"/>
                        </a:lnTo>
                        <a:lnTo>
                          <a:pt x="1412" y="59"/>
                        </a:lnTo>
                        <a:lnTo>
                          <a:pt x="1413" y="65"/>
                        </a:lnTo>
                        <a:lnTo>
                          <a:pt x="1413" y="70"/>
                        </a:lnTo>
                        <a:lnTo>
                          <a:pt x="1415" y="74"/>
                        </a:lnTo>
                        <a:lnTo>
                          <a:pt x="1415" y="80"/>
                        </a:lnTo>
                        <a:lnTo>
                          <a:pt x="1415" y="85"/>
                        </a:lnTo>
                        <a:lnTo>
                          <a:pt x="1416" y="91"/>
                        </a:lnTo>
                        <a:lnTo>
                          <a:pt x="1418" y="96"/>
                        </a:lnTo>
                        <a:lnTo>
                          <a:pt x="1418" y="102"/>
                        </a:lnTo>
                        <a:lnTo>
                          <a:pt x="1419" y="107"/>
                        </a:lnTo>
                        <a:lnTo>
                          <a:pt x="1419" y="111"/>
                        </a:lnTo>
                        <a:lnTo>
                          <a:pt x="1421" y="117"/>
                        </a:lnTo>
                        <a:lnTo>
                          <a:pt x="1422" y="122"/>
                        </a:lnTo>
                        <a:lnTo>
                          <a:pt x="1422" y="126"/>
                        </a:lnTo>
                        <a:lnTo>
                          <a:pt x="1424" y="132"/>
                        </a:lnTo>
                        <a:lnTo>
                          <a:pt x="1425" y="137"/>
                        </a:lnTo>
                        <a:lnTo>
                          <a:pt x="1425" y="141"/>
                        </a:lnTo>
                        <a:lnTo>
                          <a:pt x="1429" y="148"/>
                        </a:lnTo>
                        <a:lnTo>
                          <a:pt x="1429" y="152"/>
                        </a:lnTo>
                        <a:lnTo>
                          <a:pt x="1430" y="158"/>
                        </a:lnTo>
                        <a:lnTo>
                          <a:pt x="1432" y="163"/>
                        </a:lnTo>
                        <a:lnTo>
                          <a:pt x="1433" y="168"/>
                        </a:lnTo>
                        <a:lnTo>
                          <a:pt x="1436" y="173"/>
                        </a:lnTo>
                        <a:lnTo>
                          <a:pt x="1438" y="177"/>
                        </a:lnTo>
                        <a:lnTo>
                          <a:pt x="1439" y="183"/>
                        </a:lnTo>
                        <a:lnTo>
                          <a:pt x="1442" y="188"/>
                        </a:lnTo>
                        <a:lnTo>
                          <a:pt x="1442" y="191"/>
                        </a:lnTo>
                        <a:lnTo>
                          <a:pt x="1444" y="195"/>
                        </a:lnTo>
                        <a:lnTo>
                          <a:pt x="1445" y="196"/>
                        </a:lnTo>
                        <a:lnTo>
                          <a:pt x="1447" y="198"/>
                        </a:lnTo>
                        <a:lnTo>
                          <a:pt x="1448" y="196"/>
                        </a:lnTo>
                        <a:lnTo>
                          <a:pt x="1450" y="194"/>
                        </a:lnTo>
                        <a:lnTo>
                          <a:pt x="1450" y="188"/>
                        </a:lnTo>
                        <a:lnTo>
                          <a:pt x="1450" y="183"/>
                        </a:lnTo>
                        <a:lnTo>
                          <a:pt x="1450" y="179"/>
                        </a:lnTo>
                        <a:lnTo>
                          <a:pt x="1450" y="174"/>
                        </a:lnTo>
                        <a:lnTo>
                          <a:pt x="1448" y="170"/>
                        </a:lnTo>
                        <a:lnTo>
                          <a:pt x="1448" y="168"/>
                        </a:lnTo>
                        <a:lnTo>
                          <a:pt x="1448" y="163"/>
                        </a:lnTo>
                        <a:lnTo>
                          <a:pt x="1448" y="159"/>
                        </a:lnTo>
                        <a:lnTo>
                          <a:pt x="1447" y="154"/>
                        </a:lnTo>
                        <a:lnTo>
                          <a:pt x="1447" y="150"/>
                        </a:lnTo>
                        <a:lnTo>
                          <a:pt x="1447" y="143"/>
                        </a:lnTo>
                        <a:lnTo>
                          <a:pt x="1447" y="137"/>
                        </a:lnTo>
                        <a:lnTo>
                          <a:pt x="1447" y="135"/>
                        </a:lnTo>
                        <a:lnTo>
                          <a:pt x="1447" y="130"/>
                        </a:lnTo>
                        <a:lnTo>
                          <a:pt x="1445" y="128"/>
                        </a:lnTo>
                        <a:lnTo>
                          <a:pt x="1445" y="124"/>
                        </a:lnTo>
                        <a:lnTo>
                          <a:pt x="1445" y="121"/>
                        </a:lnTo>
                        <a:lnTo>
                          <a:pt x="1445" y="117"/>
                        </a:lnTo>
                        <a:lnTo>
                          <a:pt x="1444" y="114"/>
                        </a:lnTo>
                        <a:lnTo>
                          <a:pt x="1444" y="111"/>
                        </a:lnTo>
                        <a:lnTo>
                          <a:pt x="1444" y="107"/>
                        </a:lnTo>
                        <a:lnTo>
                          <a:pt x="1444" y="103"/>
                        </a:lnTo>
                        <a:lnTo>
                          <a:pt x="1442" y="99"/>
                        </a:lnTo>
                        <a:lnTo>
                          <a:pt x="1442" y="96"/>
                        </a:lnTo>
                        <a:lnTo>
                          <a:pt x="1442" y="92"/>
                        </a:lnTo>
                        <a:lnTo>
                          <a:pt x="1442" y="88"/>
                        </a:lnTo>
                        <a:lnTo>
                          <a:pt x="1442" y="85"/>
                        </a:lnTo>
                        <a:lnTo>
                          <a:pt x="1442" y="81"/>
                        </a:lnTo>
                        <a:lnTo>
                          <a:pt x="1442" y="77"/>
                        </a:lnTo>
                        <a:lnTo>
                          <a:pt x="1441" y="74"/>
                        </a:lnTo>
                        <a:lnTo>
                          <a:pt x="1441" y="70"/>
                        </a:lnTo>
                        <a:lnTo>
                          <a:pt x="1441" y="66"/>
                        </a:lnTo>
                        <a:lnTo>
                          <a:pt x="1439" y="62"/>
                        </a:lnTo>
                        <a:lnTo>
                          <a:pt x="1439" y="59"/>
                        </a:lnTo>
                        <a:lnTo>
                          <a:pt x="1439" y="55"/>
                        </a:lnTo>
                        <a:lnTo>
                          <a:pt x="1439" y="52"/>
                        </a:lnTo>
                        <a:lnTo>
                          <a:pt x="1439" y="48"/>
                        </a:lnTo>
                        <a:lnTo>
                          <a:pt x="1438" y="45"/>
                        </a:lnTo>
                        <a:lnTo>
                          <a:pt x="1438" y="41"/>
                        </a:lnTo>
                        <a:lnTo>
                          <a:pt x="1438" y="38"/>
                        </a:lnTo>
                        <a:lnTo>
                          <a:pt x="1436" y="36"/>
                        </a:lnTo>
                        <a:lnTo>
                          <a:pt x="1436" y="32"/>
                        </a:lnTo>
                        <a:lnTo>
                          <a:pt x="1436" y="29"/>
                        </a:lnTo>
                        <a:lnTo>
                          <a:pt x="1436" y="28"/>
                        </a:lnTo>
                        <a:lnTo>
                          <a:pt x="1435" y="21"/>
                        </a:lnTo>
                        <a:lnTo>
                          <a:pt x="1435" y="17"/>
                        </a:lnTo>
                        <a:lnTo>
                          <a:pt x="1433" y="11"/>
                        </a:lnTo>
                        <a:lnTo>
                          <a:pt x="1433" y="8"/>
                        </a:lnTo>
                        <a:lnTo>
                          <a:pt x="1433" y="4"/>
                        </a:lnTo>
                        <a:lnTo>
                          <a:pt x="1433" y="3"/>
                        </a:lnTo>
                        <a:lnTo>
                          <a:pt x="1432" y="0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Freeform 272"/>
                  <p:cNvSpPr/>
                  <p:nvPr/>
                </p:nvSpPr>
                <p:spPr>
                  <a:xfrm>
                    <a:off x="4407480" y="3613320"/>
                    <a:ext cx="39960" cy="2160"/>
                  </a:xfrm>
                  <a:custGeom>
                    <a:avLst/>
                    <a:gdLst>
                      <a:gd name="textAreaLeft" fmla="*/ 0 w 39960"/>
                      <a:gd name="textAreaRight" fmla="*/ 39960 w 39960"/>
                      <a:gd name="textAreaTop" fmla="*/ 0 h 2160"/>
                      <a:gd name="textAreaBottom" fmla="*/ 2520 h 2160"/>
                    </a:gdLst>
                    <a:ahLst/>
                    <a:rect l="textAreaLeft" t="textAreaTop" r="textAreaRight" b="textAreaBottom"/>
                    <a:pathLst>
                      <a:path w="277" h="18">
                        <a:moveTo>
                          <a:pt x="277" y="0"/>
                        </a:moveTo>
                        <a:lnTo>
                          <a:pt x="269" y="0"/>
                        </a:lnTo>
                        <a:lnTo>
                          <a:pt x="263" y="0"/>
                        </a:lnTo>
                        <a:lnTo>
                          <a:pt x="257" y="0"/>
                        </a:lnTo>
                        <a:lnTo>
                          <a:pt x="252" y="0"/>
                        </a:lnTo>
                        <a:lnTo>
                          <a:pt x="245" y="0"/>
                        </a:lnTo>
                        <a:lnTo>
                          <a:pt x="240" y="2"/>
                        </a:lnTo>
                        <a:lnTo>
                          <a:pt x="234" y="2"/>
                        </a:lnTo>
                        <a:lnTo>
                          <a:pt x="228" y="3"/>
                        </a:lnTo>
                        <a:lnTo>
                          <a:pt x="222" y="3"/>
                        </a:lnTo>
                        <a:lnTo>
                          <a:pt x="216" y="3"/>
                        </a:lnTo>
                        <a:lnTo>
                          <a:pt x="210" y="4"/>
                        </a:lnTo>
                        <a:lnTo>
                          <a:pt x="203" y="4"/>
                        </a:lnTo>
                        <a:lnTo>
                          <a:pt x="197" y="4"/>
                        </a:lnTo>
                        <a:lnTo>
                          <a:pt x="193" y="4"/>
                        </a:lnTo>
                        <a:lnTo>
                          <a:pt x="187" y="6"/>
                        </a:lnTo>
                        <a:lnTo>
                          <a:pt x="180" y="6"/>
                        </a:lnTo>
                        <a:lnTo>
                          <a:pt x="174" y="6"/>
                        </a:lnTo>
                        <a:lnTo>
                          <a:pt x="168" y="7"/>
                        </a:lnTo>
                        <a:lnTo>
                          <a:pt x="162" y="7"/>
                        </a:lnTo>
                        <a:lnTo>
                          <a:pt x="156" y="7"/>
                        </a:lnTo>
                        <a:lnTo>
                          <a:pt x="150" y="7"/>
                        </a:lnTo>
                        <a:lnTo>
                          <a:pt x="144" y="7"/>
                        </a:lnTo>
                        <a:lnTo>
                          <a:pt x="138" y="9"/>
                        </a:lnTo>
                        <a:lnTo>
                          <a:pt x="131" y="9"/>
                        </a:lnTo>
                        <a:lnTo>
                          <a:pt x="125" y="9"/>
                        </a:lnTo>
                        <a:lnTo>
                          <a:pt x="119" y="10"/>
                        </a:lnTo>
                        <a:lnTo>
                          <a:pt x="113" y="10"/>
                        </a:lnTo>
                        <a:lnTo>
                          <a:pt x="109" y="10"/>
                        </a:lnTo>
                        <a:lnTo>
                          <a:pt x="101" y="10"/>
                        </a:lnTo>
                        <a:lnTo>
                          <a:pt x="96" y="10"/>
                        </a:lnTo>
                        <a:lnTo>
                          <a:pt x="90" y="11"/>
                        </a:lnTo>
                        <a:lnTo>
                          <a:pt x="84" y="11"/>
                        </a:lnTo>
                        <a:lnTo>
                          <a:pt x="79" y="11"/>
                        </a:lnTo>
                        <a:lnTo>
                          <a:pt x="76" y="11"/>
                        </a:lnTo>
                        <a:lnTo>
                          <a:pt x="72" y="11"/>
                        </a:lnTo>
                        <a:lnTo>
                          <a:pt x="67" y="11"/>
                        </a:lnTo>
                        <a:lnTo>
                          <a:pt x="63" y="11"/>
                        </a:lnTo>
                        <a:lnTo>
                          <a:pt x="60" y="11"/>
                        </a:lnTo>
                        <a:lnTo>
                          <a:pt x="55" y="11"/>
                        </a:lnTo>
                        <a:lnTo>
                          <a:pt x="52" y="11"/>
                        </a:lnTo>
                        <a:lnTo>
                          <a:pt x="47" y="11"/>
                        </a:lnTo>
                        <a:lnTo>
                          <a:pt x="43" y="11"/>
                        </a:lnTo>
                        <a:lnTo>
                          <a:pt x="38" y="11"/>
                        </a:lnTo>
                        <a:lnTo>
                          <a:pt x="35" y="13"/>
                        </a:lnTo>
                        <a:lnTo>
                          <a:pt x="31" y="13"/>
                        </a:lnTo>
                        <a:lnTo>
                          <a:pt x="26" y="13"/>
                        </a:lnTo>
                        <a:lnTo>
                          <a:pt x="23" y="13"/>
                        </a:lnTo>
                        <a:lnTo>
                          <a:pt x="18" y="14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1" y="15"/>
                        </a:lnTo>
                        <a:lnTo>
                          <a:pt x="0" y="15"/>
                        </a:lnTo>
                        <a:lnTo>
                          <a:pt x="29" y="18"/>
                        </a:lnTo>
                        <a:lnTo>
                          <a:pt x="34" y="18"/>
                        </a:lnTo>
                        <a:lnTo>
                          <a:pt x="38" y="18"/>
                        </a:lnTo>
                        <a:lnTo>
                          <a:pt x="43" y="18"/>
                        </a:lnTo>
                        <a:lnTo>
                          <a:pt x="49" y="18"/>
                        </a:lnTo>
                        <a:lnTo>
                          <a:pt x="55" y="18"/>
                        </a:lnTo>
                        <a:lnTo>
                          <a:pt x="60" y="18"/>
                        </a:lnTo>
                        <a:lnTo>
                          <a:pt x="66" y="18"/>
                        </a:lnTo>
                        <a:lnTo>
                          <a:pt x="72" y="18"/>
                        </a:lnTo>
                        <a:lnTo>
                          <a:pt x="76" y="18"/>
                        </a:lnTo>
                        <a:lnTo>
                          <a:pt x="83" y="18"/>
                        </a:lnTo>
                        <a:lnTo>
                          <a:pt x="89" y="17"/>
                        </a:lnTo>
                        <a:lnTo>
                          <a:pt x="95" y="17"/>
                        </a:lnTo>
                        <a:lnTo>
                          <a:pt x="99" y="17"/>
                        </a:lnTo>
                        <a:lnTo>
                          <a:pt x="105" y="17"/>
                        </a:lnTo>
                        <a:lnTo>
                          <a:pt x="112" y="15"/>
                        </a:lnTo>
                        <a:lnTo>
                          <a:pt x="118" y="15"/>
                        </a:lnTo>
                        <a:lnTo>
                          <a:pt x="124" y="15"/>
                        </a:lnTo>
                        <a:lnTo>
                          <a:pt x="128" y="15"/>
                        </a:lnTo>
                        <a:lnTo>
                          <a:pt x="135" y="14"/>
                        </a:lnTo>
                        <a:lnTo>
                          <a:pt x="141" y="14"/>
                        </a:lnTo>
                        <a:lnTo>
                          <a:pt x="145" y="14"/>
                        </a:lnTo>
                        <a:lnTo>
                          <a:pt x="151" y="13"/>
                        </a:lnTo>
                        <a:lnTo>
                          <a:pt x="157" y="13"/>
                        </a:lnTo>
                        <a:lnTo>
                          <a:pt x="164" y="13"/>
                        </a:lnTo>
                        <a:lnTo>
                          <a:pt x="168" y="13"/>
                        </a:lnTo>
                        <a:lnTo>
                          <a:pt x="174" y="11"/>
                        </a:lnTo>
                        <a:lnTo>
                          <a:pt x="180" y="11"/>
                        </a:lnTo>
                        <a:lnTo>
                          <a:pt x="185" y="11"/>
                        </a:lnTo>
                        <a:lnTo>
                          <a:pt x="190" y="10"/>
                        </a:lnTo>
                        <a:lnTo>
                          <a:pt x="196" y="10"/>
                        </a:lnTo>
                        <a:lnTo>
                          <a:pt x="202" y="10"/>
                        </a:lnTo>
                        <a:lnTo>
                          <a:pt x="208" y="10"/>
                        </a:lnTo>
                        <a:lnTo>
                          <a:pt x="211" y="9"/>
                        </a:lnTo>
                        <a:lnTo>
                          <a:pt x="214" y="9"/>
                        </a:lnTo>
                        <a:lnTo>
                          <a:pt x="219" y="9"/>
                        </a:lnTo>
                        <a:lnTo>
                          <a:pt x="222" y="9"/>
                        </a:lnTo>
                        <a:lnTo>
                          <a:pt x="226" y="9"/>
                        </a:lnTo>
                        <a:lnTo>
                          <a:pt x="229" y="9"/>
                        </a:lnTo>
                        <a:lnTo>
                          <a:pt x="234" y="9"/>
                        </a:lnTo>
                        <a:lnTo>
                          <a:pt x="237" y="9"/>
                        </a:lnTo>
                        <a:lnTo>
                          <a:pt x="242" y="9"/>
                        </a:lnTo>
                        <a:lnTo>
                          <a:pt x="245" y="9"/>
                        </a:lnTo>
                        <a:lnTo>
                          <a:pt x="249" y="9"/>
                        </a:lnTo>
                        <a:lnTo>
                          <a:pt x="252" y="9"/>
                        </a:lnTo>
                        <a:lnTo>
                          <a:pt x="255" y="7"/>
                        </a:lnTo>
                        <a:lnTo>
                          <a:pt x="260" y="7"/>
                        </a:lnTo>
                        <a:lnTo>
                          <a:pt x="263" y="7"/>
                        </a:lnTo>
                        <a:lnTo>
                          <a:pt x="268" y="7"/>
                        </a:lnTo>
                        <a:lnTo>
                          <a:pt x="272" y="6"/>
                        </a:lnTo>
                        <a:lnTo>
                          <a:pt x="275" y="4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Freeform 273"/>
                  <p:cNvSpPr/>
                  <p:nvPr/>
                </p:nvSpPr>
                <p:spPr>
                  <a:xfrm>
                    <a:off x="4481640" y="3615480"/>
                    <a:ext cx="24840" cy="1800"/>
                  </a:xfrm>
                  <a:custGeom>
                    <a:avLst/>
                    <a:gdLst>
                      <a:gd name="textAreaLeft" fmla="*/ 0 w 24840"/>
                      <a:gd name="textAreaRight" fmla="*/ 25200 w 2484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173" h="15">
                        <a:moveTo>
                          <a:pt x="171" y="15"/>
                        </a:moveTo>
                        <a:lnTo>
                          <a:pt x="167" y="13"/>
                        </a:lnTo>
                        <a:lnTo>
                          <a:pt x="162" y="13"/>
                        </a:lnTo>
                        <a:lnTo>
                          <a:pt x="156" y="12"/>
                        </a:lnTo>
                        <a:lnTo>
                          <a:pt x="151" y="12"/>
                        </a:lnTo>
                        <a:lnTo>
                          <a:pt x="147" y="12"/>
                        </a:lnTo>
                        <a:lnTo>
                          <a:pt x="142" y="12"/>
                        </a:lnTo>
                        <a:lnTo>
                          <a:pt x="136" y="12"/>
                        </a:lnTo>
                        <a:lnTo>
                          <a:pt x="131" y="12"/>
                        </a:lnTo>
                        <a:lnTo>
                          <a:pt x="127" y="11"/>
                        </a:lnTo>
                        <a:lnTo>
                          <a:pt x="122" y="11"/>
                        </a:lnTo>
                        <a:lnTo>
                          <a:pt x="116" y="11"/>
                        </a:lnTo>
                        <a:lnTo>
                          <a:pt x="112" y="11"/>
                        </a:lnTo>
                        <a:lnTo>
                          <a:pt x="107" y="11"/>
                        </a:lnTo>
                        <a:lnTo>
                          <a:pt x="102" y="11"/>
                        </a:lnTo>
                        <a:lnTo>
                          <a:pt x="98" y="11"/>
                        </a:lnTo>
                        <a:lnTo>
                          <a:pt x="93" y="12"/>
                        </a:lnTo>
                        <a:lnTo>
                          <a:pt x="87" y="11"/>
                        </a:lnTo>
                        <a:lnTo>
                          <a:pt x="82" y="11"/>
                        </a:lnTo>
                        <a:lnTo>
                          <a:pt x="78" y="11"/>
                        </a:lnTo>
                        <a:lnTo>
                          <a:pt x="73" y="11"/>
                        </a:lnTo>
                        <a:lnTo>
                          <a:pt x="67" y="11"/>
                        </a:lnTo>
                        <a:lnTo>
                          <a:pt x="63" y="11"/>
                        </a:lnTo>
                        <a:lnTo>
                          <a:pt x="56" y="11"/>
                        </a:lnTo>
                        <a:lnTo>
                          <a:pt x="53" y="11"/>
                        </a:lnTo>
                        <a:lnTo>
                          <a:pt x="47" y="11"/>
                        </a:lnTo>
                        <a:lnTo>
                          <a:pt x="43" y="9"/>
                        </a:lnTo>
                        <a:lnTo>
                          <a:pt x="38" y="9"/>
                        </a:lnTo>
                        <a:lnTo>
                          <a:pt x="33" y="8"/>
                        </a:lnTo>
                        <a:lnTo>
                          <a:pt x="29" y="8"/>
                        </a:lnTo>
                        <a:lnTo>
                          <a:pt x="24" y="7"/>
                        </a:lnTo>
                        <a:lnTo>
                          <a:pt x="18" y="7"/>
                        </a:lnTo>
                        <a:lnTo>
                          <a:pt x="15" y="5"/>
                        </a:lnTo>
                        <a:lnTo>
                          <a:pt x="11" y="5"/>
                        </a:lnTo>
                        <a:lnTo>
                          <a:pt x="7" y="4"/>
                        </a:lnTo>
                        <a:lnTo>
                          <a:pt x="4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8" y="0"/>
                        </a:lnTo>
                        <a:lnTo>
                          <a:pt x="63" y="0"/>
                        </a:lnTo>
                        <a:lnTo>
                          <a:pt x="67" y="0"/>
                        </a:lnTo>
                        <a:lnTo>
                          <a:pt x="72" y="0"/>
                        </a:lnTo>
                        <a:lnTo>
                          <a:pt x="76" y="1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89" y="1"/>
                        </a:lnTo>
                        <a:lnTo>
                          <a:pt x="95" y="3"/>
                        </a:lnTo>
                        <a:lnTo>
                          <a:pt x="98" y="3"/>
                        </a:lnTo>
                        <a:lnTo>
                          <a:pt x="102" y="3"/>
                        </a:lnTo>
                        <a:lnTo>
                          <a:pt x="107" y="3"/>
                        </a:lnTo>
                        <a:lnTo>
                          <a:pt x="112" y="3"/>
                        </a:lnTo>
                        <a:lnTo>
                          <a:pt x="115" y="3"/>
                        </a:lnTo>
                        <a:lnTo>
                          <a:pt x="119" y="4"/>
                        </a:lnTo>
                        <a:lnTo>
                          <a:pt x="124" y="4"/>
                        </a:lnTo>
                        <a:lnTo>
                          <a:pt x="128" y="4"/>
                        </a:lnTo>
                        <a:lnTo>
                          <a:pt x="131" y="4"/>
                        </a:lnTo>
                        <a:lnTo>
                          <a:pt x="136" y="5"/>
                        </a:lnTo>
                        <a:lnTo>
                          <a:pt x="139" y="5"/>
                        </a:lnTo>
                        <a:lnTo>
                          <a:pt x="144" y="5"/>
                        </a:lnTo>
                        <a:lnTo>
                          <a:pt x="150" y="7"/>
                        </a:lnTo>
                        <a:lnTo>
                          <a:pt x="156" y="8"/>
                        </a:lnTo>
                        <a:lnTo>
                          <a:pt x="160" y="9"/>
                        </a:lnTo>
                        <a:lnTo>
                          <a:pt x="167" y="12"/>
                        </a:lnTo>
                        <a:lnTo>
                          <a:pt x="170" y="13"/>
                        </a:lnTo>
                        <a:lnTo>
                          <a:pt x="171" y="15"/>
                        </a:lnTo>
                        <a:lnTo>
                          <a:pt x="173" y="15"/>
                        </a:lnTo>
                        <a:lnTo>
                          <a:pt x="171" y="1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Freeform 274"/>
                  <p:cNvSpPr/>
                  <p:nvPr/>
                </p:nvSpPr>
                <p:spPr>
                  <a:xfrm>
                    <a:off x="4411440" y="3620880"/>
                    <a:ext cx="4680" cy="3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360"/>
                      <a:gd name="textAreaBottom" fmla="*/ 720 h 360"/>
                    </a:gdLst>
                    <a:ahLst/>
                    <a:rect l="textAreaLeft" t="textAreaTop" r="textAreaRight" b="textAreaBottom"/>
                    <a:pathLst>
                      <a:path w="32" h="6">
                        <a:moveTo>
                          <a:pt x="5" y="0"/>
                        </a:move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14" y="6"/>
                        </a:lnTo>
                        <a:lnTo>
                          <a:pt x="20" y="6"/>
                        </a:lnTo>
                        <a:lnTo>
                          <a:pt x="21" y="6"/>
                        </a:lnTo>
                        <a:lnTo>
                          <a:pt x="24" y="6"/>
                        </a:lnTo>
                        <a:lnTo>
                          <a:pt x="28" y="4"/>
                        </a:lnTo>
                        <a:lnTo>
                          <a:pt x="32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275"/>
                  <p:cNvSpPr/>
                  <p:nvPr/>
                </p:nvSpPr>
                <p:spPr>
                  <a:xfrm>
                    <a:off x="4306680" y="3637080"/>
                    <a:ext cx="270720" cy="20160"/>
                  </a:xfrm>
                  <a:custGeom>
                    <a:avLst/>
                    <a:gdLst>
                      <a:gd name="textAreaLeft" fmla="*/ 0 w 270720"/>
                      <a:gd name="textAreaRight" fmla="*/ 271080 w 27072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871" h="154">
                        <a:moveTo>
                          <a:pt x="490" y="18"/>
                        </a:moveTo>
                        <a:lnTo>
                          <a:pt x="483" y="19"/>
                        </a:lnTo>
                        <a:lnTo>
                          <a:pt x="477" y="20"/>
                        </a:lnTo>
                        <a:lnTo>
                          <a:pt x="473" y="22"/>
                        </a:lnTo>
                        <a:lnTo>
                          <a:pt x="467" y="23"/>
                        </a:lnTo>
                        <a:lnTo>
                          <a:pt x="461" y="25"/>
                        </a:lnTo>
                        <a:lnTo>
                          <a:pt x="456" y="26"/>
                        </a:lnTo>
                        <a:lnTo>
                          <a:pt x="450" y="26"/>
                        </a:lnTo>
                        <a:lnTo>
                          <a:pt x="444" y="29"/>
                        </a:lnTo>
                        <a:lnTo>
                          <a:pt x="438" y="29"/>
                        </a:lnTo>
                        <a:lnTo>
                          <a:pt x="431" y="30"/>
                        </a:lnTo>
                        <a:lnTo>
                          <a:pt x="427" y="30"/>
                        </a:lnTo>
                        <a:lnTo>
                          <a:pt x="421" y="31"/>
                        </a:lnTo>
                        <a:lnTo>
                          <a:pt x="415" y="31"/>
                        </a:lnTo>
                        <a:lnTo>
                          <a:pt x="409" y="33"/>
                        </a:lnTo>
                        <a:lnTo>
                          <a:pt x="404" y="34"/>
                        </a:lnTo>
                        <a:lnTo>
                          <a:pt x="398" y="34"/>
                        </a:lnTo>
                        <a:lnTo>
                          <a:pt x="392" y="34"/>
                        </a:lnTo>
                        <a:lnTo>
                          <a:pt x="386" y="35"/>
                        </a:lnTo>
                        <a:lnTo>
                          <a:pt x="379" y="35"/>
                        </a:lnTo>
                        <a:lnTo>
                          <a:pt x="373" y="37"/>
                        </a:lnTo>
                        <a:lnTo>
                          <a:pt x="367" y="37"/>
                        </a:lnTo>
                        <a:lnTo>
                          <a:pt x="363" y="38"/>
                        </a:lnTo>
                        <a:lnTo>
                          <a:pt x="357" y="38"/>
                        </a:lnTo>
                        <a:lnTo>
                          <a:pt x="350" y="40"/>
                        </a:lnTo>
                        <a:lnTo>
                          <a:pt x="344" y="40"/>
                        </a:lnTo>
                        <a:lnTo>
                          <a:pt x="338" y="40"/>
                        </a:lnTo>
                        <a:lnTo>
                          <a:pt x="332" y="41"/>
                        </a:lnTo>
                        <a:lnTo>
                          <a:pt x="327" y="41"/>
                        </a:lnTo>
                        <a:lnTo>
                          <a:pt x="321" y="41"/>
                        </a:lnTo>
                        <a:lnTo>
                          <a:pt x="315" y="42"/>
                        </a:lnTo>
                        <a:lnTo>
                          <a:pt x="309" y="42"/>
                        </a:lnTo>
                        <a:lnTo>
                          <a:pt x="303" y="44"/>
                        </a:lnTo>
                        <a:lnTo>
                          <a:pt x="297" y="44"/>
                        </a:lnTo>
                        <a:lnTo>
                          <a:pt x="291" y="44"/>
                        </a:lnTo>
                        <a:lnTo>
                          <a:pt x="285" y="44"/>
                        </a:lnTo>
                        <a:lnTo>
                          <a:pt x="279" y="45"/>
                        </a:lnTo>
                        <a:lnTo>
                          <a:pt x="272" y="45"/>
                        </a:lnTo>
                        <a:lnTo>
                          <a:pt x="266" y="45"/>
                        </a:lnTo>
                        <a:lnTo>
                          <a:pt x="260" y="46"/>
                        </a:lnTo>
                        <a:lnTo>
                          <a:pt x="254" y="46"/>
                        </a:lnTo>
                        <a:lnTo>
                          <a:pt x="248" y="46"/>
                        </a:lnTo>
                        <a:lnTo>
                          <a:pt x="242" y="48"/>
                        </a:lnTo>
                        <a:lnTo>
                          <a:pt x="237" y="48"/>
                        </a:lnTo>
                        <a:lnTo>
                          <a:pt x="231" y="49"/>
                        </a:lnTo>
                        <a:lnTo>
                          <a:pt x="225" y="51"/>
                        </a:lnTo>
                        <a:lnTo>
                          <a:pt x="219" y="51"/>
                        </a:lnTo>
                        <a:lnTo>
                          <a:pt x="213" y="52"/>
                        </a:lnTo>
                        <a:lnTo>
                          <a:pt x="207" y="53"/>
                        </a:lnTo>
                        <a:lnTo>
                          <a:pt x="201" y="53"/>
                        </a:lnTo>
                        <a:lnTo>
                          <a:pt x="194" y="55"/>
                        </a:lnTo>
                        <a:lnTo>
                          <a:pt x="188" y="55"/>
                        </a:lnTo>
                        <a:lnTo>
                          <a:pt x="184" y="56"/>
                        </a:lnTo>
                        <a:lnTo>
                          <a:pt x="178" y="57"/>
                        </a:lnTo>
                        <a:lnTo>
                          <a:pt x="171" y="59"/>
                        </a:lnTo>
                        <a:lnTo>
                          <a:pt x="165" y="59"/>
                        </a:lnTo>
                        <a:lnTo>
                          <a:pt x="161" y="62"/>
                        </a:lnTo>
                        <a:lnTo>
                          <a:pt x="155" y="63"/>
                        </a:lnTo>
                        <a:lnTo>
                          <a:pt x="148" y="63"/>
                        </a:lnTo>
                        <a:lnTo>
                          <a:pt x="144" y="66"/>
                        </a:lnTo>
                        <a:lnTo>
                          <a:pt x="138" y="67"/>
                        </a:lnTo>
                        <a:lnTo>
                          <a:pt x="132" y="68"/>
                        </a:lnTo>
                        <a:lnTo>
                          <a:pt x="127" y="70"/>
                        </a:lnTo>
                        <a:lnTo>
                          <a:pt x="121" y="73"/>
                        </a:lnTo>
                        <a:lnTo>
                          <a:pt x="116" y="75"/>
                        </a:lnTo>
                        <a:lnTo>
                          <a:pt x="121" y="77"/>
                        </a:lnTo>
                        <a:lnTo>
                          <a:pt x="127" y="75"/>
                        </a:lnTo>
                        <a:lnTo>
                          <a:pt x="133" y="73"/>
                        </a:lnTo>
                        <a:lnTo>
                          <a:pt x="138" y="71"/>
                        </a:lnTo>
                        <a:lnTo>
                          <a:pt x="141" y="71"/>
                        </a:lnTo>
                        <a:lnTo>
                          <a:pt x="144" y="70"/>
                        </a:lnTo>
                        <a:lnTo>
                          <a:pt x="148" y="70"/>
                        </a:lnTo>
                        <a:lnTo>
                          <a:pt x="152" y="68"/>
                        </a:lnTo>
                        <a:lnTo>
                          <a:pt x="155" y="68"/>
                        </a:lnTo>
                        <a:lnTo>
                          <a:pt x="158" y="67"/>
                        </a:lnTo>
                        <a:lnTo>
                          <a:pt x="162" y="67"/>
                        </a:lnTo>
                        <a:lnTo>
                          <a:pt x="165" y="66"/>
                        </a:lnTo>
                        <a:lnTo>
                          <a:pt x="168" y="66"/>
                        </a:lnTo>
                        <a:lnTo>
                          <a:pt x="173" y="66"/>
                        </a:lnTo>
                        <a:lnTo>
                          <a:pt x="176" y="66"/>
                        </a:lnTo>
                        <a:lnTo>
                          <a:pt x="179" y="64"/>
                        </a:lnTo>
                        <a:lnTo>
                          <a:pt x="184" y="64"/>
                        </a:lnTo>
                        <a:lnTo>
                          <a:pt x="187" y="63"/>
                        </a:lnTo>
                        <a:lnTo>
                          <a:pt x="190" y="63"/>
                        </a:lnTo>
                        <a:lnTo>
                          <a:pt x="193" y="63"/>
                        </a:lnTo>
                        <a:lnTo>
                          <a:pt x="197" y="63"/>
                        </a:lnTo>
                        <a:lnTo>
                          <a:pt x="201" y="62"/>
                        </a:lnTo>
                        <a:lnTo>
                          <a:pt x="205" y="62"/>
                        </a:lnTo>
                        <a:lnTo>
                          <a:pt x="208" y="62"/>
                        </a:lnTo>
                        <a:lnTo>
                          <a:pt x="211" y="60"/>
                        </a:lnTo>
                        <a:lnTo>
                          <a:pt x="214" y="60"/>
                        </a:lnTo>
                        <a:lnTo>
                          <a:pt x="219" y="60"/>
                        </a:lnTo>
                        <a:lnTo>
                          <a:pt x="222" y="59"/>
                        </a:lnTo>
                        <a:lnTo>
                          <a:pt x="225" y="59"/>
                        </a:lnTo>
                        <a:lnTo>
                          <a:pt x="230" y="59"/>
                        </a:lnTo>
                        <a:lnTo>
                          <a:pt x="233" y="59"/>
                        </a:lnTo>
                        <a:lnTo>
                          <a:pt x="236" y="57"/>
                        </a:lnTo>
                        <a:lnTo>
                          <a:pt x="240" y="57"/>
                        </a:lnTo>
                        <a:lnTo>
                          <a:pt x="243" y="56"/>
                        </a:lnTo>
                        <a:lnTo>
                          <a:pt x="246" y="56"/>
                        </a:lnTo>
                        <a:lnTo>
                          <a:pt x="249" y="56"/>
                        </a:lnTo>
                        <a:lnTo>
                          <a:pt x="254" y="56"/>
                        </a:lnTo>
                        <a:lnTo>
                          <a:pt x="257" y="56"/>
                        </a:lnTo>
                        <a:lnTo>
                          <a:pt x="260" y="56"/>
                        </a:lnTo>
                        <a:lnTo>
                          <a:pt x="265" y="55"/>
                        </a:lnTo>
                        <a:lnTo>
                          <a:pt x="268" y="55"/>
                        </a:lnTo>
                        <a:lnTo>
                          <a:pt x="271" y="55"/>
                        </a:lnTo>
                        <a:lnTo>
                          <a:pt x="275" y="55"/>
                        </a:lnTo>
                        <a:lnTo>
                          <a:pt x="279" y="53"/>
                        </a:lnTo>
                        <a:lnTo>
                          <a:pt x="282" y="53"/>
                        </a:lnTo>
                        <a:lnTo>
                          <a:pt x="286" y="53"/>
                        </a:lnTo>
                        <a:lnTo>
                          <a:pt x="289" y="53"/>
                        </a:lnTo>
                        <a:lnTo>
                          <a:pt x="286" y="53"/>
                        </a:lnTo>
                        <a:lnTo>
                          <a:pt x="282" y="55"/>
                        </a:lnTo>
                        <a:lnTo>
                          <a:pt x="277" y="55"/>
                        </a:lnTo>
                        <a:lnTo>
                          <a:pt x="274" y="56"/>
                        </a:lnTo>
                        <a:lnTo>
                          <a:pt x="271" y="56"/>
                        </a:lnTo>
                        <a:lnTo>
                          <a:pt x="268" y="56"/>
                        </a:lnTo>
                        <a:lnTo>
                          <a:pt x="263" y="56"/>
                        </a:lnTo>
                        <a:lnTo>
                          <a:pt x="260" y="57"/>
                        </a:lnTo>
                        <a:lnTo>
                          <a:pt x="256" y="59"/>
                        </a:lnTo>
                        <a:lnTo>
                          <a:pt x="251" y="59"/>
                        </a:lnTo>
                        <a:lnTo>
                          <a:pt x="246" y="60"/>
                        </a:lnTo>
                        <a:lnTo>
                          <a:pt x="243" y="62"/>
                        </a:lnTo>
                        <a:lnTo>
                          <a:pt x="239" y="62"/>
                        </a:lnTo>
                        <a:lnTo>
                          <a:pt x="234" y="63"/>
                        </a:lnTo>
                        <a:lnTo>
                          <a:pt x="230" y="63"/>
                        </a:lnTo>
                        <a:lnTo>
                          <a:pt x="225" y="64"/>
                        </a:lnTo>
                        <a:lnTo>
                          <a:pt x="220" y="66"/>
                        </a:lnTo>
                        <a:lnTo>
                          <a:pt x="217" y="66"/>
                        </a:lnTo>
                        <a:lnTo>
                          <a:pt x="213" y="67"/>
                        </a:lnTo>
                        <a:lnTo>
                          <a:pt x="210" y="68"/>
                        </a:lnTo>
                        <a:lnTo>
                          <a:pt x="205" y="68"/>
                        </a:lnTo>
                        <a:lnTo>
                          <a:pt x="204" y="70"/>
                        </a:lnTo>
                        <a:lnTo>
                          <a:pt x="197" y="71"/>
                        </a:lnTo>
                        <a:lnTo>
                          <a:pt x="193" y="74"/>
                        </a:lnTo>
                        <a:lnTo>
                          <a:pt x="190" y="77"/>
                        </a:lnTo>
                        <a:lnTo>
                          <a:pt x="188" y="79"/>
                        </a:lnTo>
                        <a:lnTo>
                          <a:pt x="185" y="79"/>
                        </a:lnTo>
                        <a:lnTo>
                          <a:pt x="181" y="79"/>
                        </a:lnTo>
                        <a:lnTo>
                          <a:pt x="176" y="79"/>
                        </a:lnTo>
                        <a:lnTo>
                          <a:pt x="171" y="81"/>
                        </a:lnTo>
                        <a:lnTo>
                          <a:pt x="164" y="81"/>
                        </a:lnTo>
                        <a:lnTo>
                          <a:pt x="159" y="82"/>
                        </a:lnTo>
                        <a:lnTo>
                          <a:pt x="153" y="84"/>
                        </a:lnTo>
                        <a:lnTo>
                          <a:pt x="147" y="85"/>
                        </a:lnTo>
                        <a:lnTo>
                          <a:pt x="141" y="86"/>
                        </a:lnTo>
                        <a:lnTo>
                          <a:pt x="136" y="88"/>
                        </a:lnTo>
                        <a:lnTo>
                          <a:pt x="130" y="88"/>
                        </a:lnTo>
                        <a:lnTo>
                          <a:pt x="126" y="89"/>
                        </a:lnTo>
                        <a:lnTo>
                          <a:pt x="121" y="90"/>
                        </a:lnTo>
                        <a:lnTo>
                          <a:pt x="119" y="90"/>
                        </a:lnTo>
                        <a:lnTo>
                          <a:pt x="116" y="90"/>
                        </a:lnTo>
                        <a:lnTo>
                          <a:pt x="55" y="105"/>
                        </a:lnTo>
                        <a:lnTo>
                          <a:pt x="57" y="105"/>
                        </a:lnTo>
                        <a:lnTo>
                          <a:pt x="58" y="107"/>
                        </a:lnTo>
                        <a:lnTo>
                          <a:pt x="63" y="107"/>
                        </a:lnTo>
                        <a:lnTo>
                          <a:pt x="67" y="107"/>
                        </a:lnTo>
                        <a:lnTo>
                          <a:pt x="70" y="105"/>
                        </a:lnTo>
                        <a:lnTo>
                          <a:pt x="74" y="105"/>
                        </a:lnTo>
                        <a:lnTo>
                          <a:pt x="77" y="105"/>
                        </a:lnTo>
                        <a:lnTo>
                          <a:pt x="80" y="105"/>
                        </a:lnTo>
                        <a:lnTo>
                          <a:pt x="84" y="104"/>
                        </a:lnTo>
                        <a:lnTo>
                          <a:pt x="87" y="104"/>
                        </a:lnTo>
                        <a:lnTo>
                          <a:pt x="92" y="103"/>
                        </a:lnTo>
                        <a:lnTo>
                          <a:pt x="96" y="103"/>
                        </a:lnTo>
                        <a:lnTo>
                          <a:pt x="100" y="103"/>
                        </a:lnTo>
                        <a:lnTo>
                          <a:pt x="106" y="101"/>
                        </a:lnTo>
                        <a:lnTo>
                          <a:pt x="110" y="101"/>
                        </a:lnTo>
                        <a:lnTo>
                          <a:pt x="115" y="100"/>
                        </a:lnTo>
                        <a:lnTo>
                          <a:pt x="119" y="100"/>
                        </a:lnTo>
                        <a:lnTo>
                          <a:pt x="124" y="99"/>
                        </a:lnTo>
                        <a:lnTo>
                          <a:pt x="130" y="99"/>
                        </a:lnTo>
                        <a:lnTo>
                          <a:pt x="136" y="97"/>
                        </a:lnTo>
                        <a:lnTo>
                          <a:pt x="141" y="96"/>
                        </a:lnTo>
                        <a:lnTo>
                          <a:pt x="147" y="96"/>
                        </a:lnTo>
                        <a:lnTo>
                          <a:pt x="152" y="95"/>
                        </a:lnTo>
                        <a:lnTo>
                          <a:pt x="158" y="93"/>
                        </a:lnTo>
                        <a:lnTo>
                          <a:pt x="164" y="93"/>
                        </a:lnTo>
                        <a:lnTo>
                          <a:pt x="170" y="92"/>
                        </a:lnTo>
                        <a:lnTo>
                          <a:pt x="176" y="90"/>
                        </a:lnTo>
                        <a:lnTo>
                          <a:pt x="182" y="90"/>
                        </a:lnTo>
                        <a:lnTo>
                          <a:pt x="188" y="89"/>
                        </a:lnTo>
                        <a:lnTo>
                          <a:pt x="193" y="88"/>
                        </a:lnTo>
                        <a:lnTo>
                          <a:pt x="199" y="86"/>
                        </a:lnTo>
                        <a:lnTo>
                          <a:pt x="205" y="86"/>
                        </a:lnTo>
                        <a:lnTo>
                          <a:pt x="211" y="85"/>
                        </a:lnTo>
                        <a:lnTo>
                          <a:pt x="217" y="84"/>
                        </a:lnTo>
                        <a:lnTo>
                          <a:pt x="222" y="84"/>
                        </a:lnTo>
                        <a:lnTo>
                          <a:pt x="230" y="82"/>
                        </a:lnTo>
                        <a:lnTo>
                          <a:pt x="234" y="81"/>
                        </a:lnTo>
                        <a:lnTo>
                          <a:pt x="240" y="81"/>
                        </a:lnTo>
                        <a:lnTo>
                          <a:pt x="246" y="79"/>
                        </a:lnTo>
                        <a:lnTo>
                          <a:pt x="251" y="79"/>
                        </a:lnTo>
                        <a:lnTo>
                          <a:pt x="257" y="78"/>
                        </a:lnTo>
                        <a:lnTo>
                          <a:pt x="262" y="78"/>
                        </a:lnTo>
                        <a:lnTo>
                          <a:pt x="268" y="77"/>
                        </a:lnTo>
                        <a:lnTo>
                          <a:pt x="274" y="77"/>
                        </a:lnTo>
                        <a:lnTo>
                          <a:pt x="277" y="75"/>
                        </a:lnTo>
                        <a:lnTo>
                          <a:pt x="283" y="75"/>
                        </a:lnTo>
                        <a:lnTo>
                          <a:pt x="288" y="74"/>
                        </a:lnTo>
                        <a:lnTo>
                          <a:pt x="292" y="74"/>
                        </a:lnTo>
                        <a:lnTo>
                          <a:pt x="297" y="73"/>
                        </a:lnTo>
                        <a:lnTo>
                          <a:pt x="301" y="73"/>
                        </a:lnTo>
                        <a:lnTo>
                          <a:pt x="305" y="73"/>
                        </a:lnTo>
                        <a:lnTo>
                          <a:pt x="309" y="73"/>
                        </a:lnTo>
                        <a:lnTo>
                          <a:pt x="312" y="71"/>
                        </a:lnTo>
                        <a:lnTo>
                          <a:pt x="315" y="71"/>
                        </a:lnTo>
                        <a:lnTo>
                          <a:pt x="318" y="71"/>
                        </a:lnTo>
                        <a:lnTo>
                          <a:pt x="321" y="71"/>
                        </a:lnTo>
                        <a:lnTo>
                          <a:pt x="327" y="71"/>
                        </a:lnTo>
                        <a:lnTo>
                          <a:pt x="332" y="73"/>
                        </a:lnTo>
                        <a:lnTo>
                          <a:pt x="300" y="81"/>
                        </a:lnTo>
                        <a:lnTo>
                          <a:pt x="300" y="79"/>
                        </a:lnTo>
                        <a:lnTo>
                          <a:pt x="294" y="79"/>
                        </a:lnTo>
                        <a:lnTo>
                          <a:pt x="288" y="81"/>
                        </a:lnTo>
                        <a:lnTo>
                          <a:pt x="282" y="82"/>
                        </a:lnTo>
                        <a:lnTo>
                          <a:pt x="277" y="84"/>
                        </a:lnTo>
                        <a:lnTo>
                          <a:pt x="271" y="84"/>
                        </a:lnTo>
                        <a:lnTo>
                          <a:pt x="265" y="85"/>
                        </a:lnTo>
                        <a:lnTo>
                          <a:pt x="259" y="86"/>
                        </a:lnTo>
                        <a:lnTo>
                          <a:pt x="253" y="88"/>
                        </a:lnTo>
                        <a:lnTo>
                          <a:pt x="246" y="88"/>
                        </a:lnTo>
                        <a:lnTo>
                          <a:pt x="240" y="89"/>
                        </a:lnTo>
                        <a:lnTo>
                          <a:pt x="234" y="90"/>
                        </a:lnTo>
                        <a:lnTo>
                          <a:pt x="230" y="90"/>
                        </a:lnTo>
                        <a:lnTo>
                          <a:pt x="223" y="92"/>
                        </a:lnTo>
                        <a:lnTo>
                          <a:pt x="217" y="93"/>
                        </a:lnTo>
                        <a:lnTo>
                          <a:pt x="213" y="93"/>
                        </a:lnTo>
                        <a:lnTo>
                          <a:pt x="207" y="95"/>
                        </a:lnTo>
                        <a:lnTo>
                          <a:pt x="204" y="95"/>
                        </a:lnTo>
                        <a:lnTo>
                          <a:pt x="201" y="96"/>
                        </a:lnTo>
                        <a:lnTo>
                          <a:pt x="197" y="96"/>
                        </a:lnTo>
                        <a:lnTo>
                          <a:pt x="193" y="97"/>
                        </a:lnTo>
                        <a:lnTo>
                          <a:pt x="188" y="97"/>
                        </a:lnTo>
                        <a:lnTo>
                          <a:pt x="184" y="99"/>
                        </a:lnTo>
                        <a:lnTo>
                          <a:pt x="179" y="100"/>
                        </a:lnTo>
                        <a:lnTo>
                          <a:pt x="174" y="103"/>
                        </a:lnTo>
                        <a:lnTo>
                          <a:pt x="168" y="103"/>
                        </a:lnTo>
                        <a:lnTo>
                          <a:pt x="162" y="105"/>
                        </a:lnTo>
                        <a:lnTo>
                          <a:pt x="156" y="107"/>
                        </a:lnTo>
                        <a:lnTo>
                          <a:pt x="150" y="108"/>
                        </a:lnTo>
                        <a:lnTo>
                          <a:pt x="144" y="110"/>
                        </a:lnTo>
                        <a:lnTo>
                          <a:pt x="138" y="112"/>
                        </a:lnTo>
                        <a:lnTo>
                          <a:pt x="130" y="114"/>
                        </a:lnTo>
                        <a:lnTo>
                          <a:pt x="126" y="116"/>
                        </a:lnTo>
                        <a:lnTo>
                          <a:pt x="118" y="118"/>
                        </a:lnTo>
                        <a:lnTo>
                          <a:pt x="112" y="119"/>
                        </a:lnTo>
                        <a:lnTo>
                          <a:pt x="106" y="121"/>
                        </a:lnTo>
                        <a:lnTo>
                          <a:pt x="100" y="122"/>
                        </a:lnTo>
                        <a:lnTo>
                          <a:pt x="93" y="123"/>
                        </a:lnTo>
                        <a:lnTo>
                          <a:pt x="87" y="125"/>
                        </a:lnTo>
                        <a:lnTo>
                          <a:pt x="81" y="126"/>
                        </a:lnTo>
                        <a:lnTo>
                          <a:pt x="77" y="127"/>
                        </a:lnTo>
                        <a:lnTo>
                          <a:pt x="72" y="127"/>
                        </a:lnTo>
                        <a:lnTo>
                          <a:pt x="67" y="129"/>
                        </a:lnTo>
                        <a:lnTo>
                          <a:pt x="63" y="129"/>
                        </a:lnTo>
                        <a:lnTo>
                          <a:pt x="60" y="130"/>
                        </a:lnTo>
                        <a:lnTo>
                          <a:pt x="54" y="130"/>
                        </a:lnTo>
                        <a:lnTo>
                          <a:pt x="51" y="129"/>
                        </a:lnTo>
                        <a:lnTo>
                          <a:pt x="48" y="129"/>
                        </a:lnTo>
                        <a:lnTo>
                          <a:pt x="46" y="130"/>
                        </a:lnTo>
                        <a:lnTo>
                          <a:pt x="43" y="130"/>
                        </a:lnTo>
                        <a:lnTo>
                          <a:pt x="40" y="133"/>
                        </a:lnTo>
                        <a:lnTo>
                          <a:pt x="35" y="134"/>
                        </a:lnTo>
                        <a:lnTo>
                          <a:pt x="31" y="134"/>
                        </a:lnTo>
                        <a:lnTo>
                          <a:pt x="26" y="137"/>
                        </a:lnTo>
                        <a:lnTo>
                          <a:pt x="23" y="138"/>
                        </a:lnTo>
                        <a:lnTo>
                          <a:pt x="17" y="140"/>
                        </a:lnTo>
                        <a:lnTo>
                          <a:pt x="14" y="141"/>
                        </a:lnTo>
                        <a:lnTo>
                          <a:pt x="9" y="143"/>
                        </a:lnTo>
                        <a:lnTo>
                          <a:pt x="6" y="144"/>
                        </a:lnTo>
                        <a:lnTo>
                          <a:pt x="0" y="147"/>
                        </a:lnTo>
                        <a:lnTo>
                          <a:pt x="0" y="149"/>
                        </a:lnTo>
                        <a:lnTo>
                          <a:pt x="3" y="149"/>
                        </a:lnTo>
                        <a:lnTo>
                          <a:pt x="6" y="149"/>
                        </a:lnTo>
                        <a:lnTo>
                          <a:pt x="11" y="149"/>
                        </a:lnTo>
                        <a:lnTo>
                          <a:pt x="14" y="149"/>
                        </a:lnTo>
                        <a:lnTo>
                          <a:pt x="18" y="149"/>
                        </a:lnTo>
                        <a:lnTo>
                          <a:pt x="22" y="149"/>
                        </a:lnTo>
                        <a:lnTo>
                          <a:pt x="26" y="149"/>
                        </a:lnTo>
                        <a:lnTo>
                          <a:pt x="29" y="149"/>
                        </a:lnTo>
                        <a:lnTo>
                          <a:pt x="126" y="132"/>
                        </a:lnTo>
                        <a:lnTo>
                          <a:pt x="234" y="125"/>
                        </a:lnTo>
                        <a:lnTo>
                          <a:pt x="188" y="138"/>
                        </a:lnTo>
                        <a:lnTo>
                          <a:pt x="191" y="143"/>
                        </a:lnTo>
                        <a:lnTo>
                          <a:pt x="199" y="140"/>
                        </a:lnTo>
                        <a:lnTo>
                          <a:pt x="207" y="138"/>
                        </a:lnTo>
                        <a:lnTo>
                          <a:pt x="214" y="136"/>
                        </a:lnTo>
                        <a:lnTo>
                          <a:pt x="222" y="134"/>
                        </a:lnTo>
                        <a:lnTo>
                          <a:pt x="230" y="133"/>
                        </a:lnTo>
                        <a:lnTo>
                          <a:pt x="237" y="130"/>
                        </a:lnTo>
                        <a:lnTo>
                          <a:pt x="243" y="129"/>
                        </a:lnTo>
                        <a:lnTo>
                          <a:pt x="253" y="127"/>
                        </a:lnTo>
                        <a:lnTo>
                          <a:pt x="260" y="126"/>
                        </a:lnTo>
                        <a:lnTo>
                          <a:pt x="268" y="125"/>
                        </a:lnTo>
                        <a:lnTo>
                          <a:pt x="274" y="122"/>
                        </a:lnTo>
                        <a:lnTo>
                          <a:pt x="283" y="121"/>
                        </a:lnTo>
                        <a:lnTo>
                          <a:pt x="291" y="119"/>
                        </a:lnTo>
                        <a:lnTo>
                          <a:pt x="298" y="118"/>
                        </a:lnTo>
                        <a:lnTo>
                          <a:pt x="306" y="116"/>
                        </a:lnTo>
                        <a:lnTo>
                          <a:pt x="314" y="115"/>
                        </a:lnTo>
                        <a:lnTo>
                          <a:pt x="321" y="114"/>
                        </a:lnTo>
                        <a:lnTo>
                          <a:pt x="329" y="112"/>
                        </a:lnTo>
                        <a:lnTo>
                          <a:pt x="337" y="112"/>
                        </a:lnTo>
                        <a:lnTo>
                          <a:pt x="344" y="111"/>
                        </a:lnTo>
                        <a:lnTo>
                          <a:pt x="352" y="110"/>
                        </a:lnTo>
                        <a:lnTo>
                          <a:pt x="360" y="108"/>
                        </a:lnTo>
                        <a:lnTo>
                          <a:pt x="367" y="107"/>
                        </a:lnTo>
                        <a:lnTo>
                          <a:pt x="373" y="107"/>
                        </a:lnTo>
                        <a:lnTo>
                          <a:pt x="381" y="105"/>
                        </a:lnTo>
                        <a:lnTo>
                          <a:pt x="387" y="105"/>
                        </a:lnTo>
                        <a:lnTo>
                          <a:pt x="395" y="104"/>
                        </a:lnTo>
                        <a:lnTo>
                          <a:pt x="402" y="103"/>
                        </a:lnTo>
                        <a:lnTo>
                          <a:pt x="409" y="103"/>
                        </a:lnTo>
                        <a:lnTo>
                          <a:pt x="416" y="103"/>
                        </a:lnTo>
                        <a:lnTo>
                          <a:pt x="422" y="101"/>
                        </a:lnTo>
                        <a:lnTo>
                          <a:pt x="430" y="101"/>
                        </a:lnTo>
                        <a:lnTo>
                          <a:pt x="436" y="100"/>
                        </a:lnTo>
                        <a:lnTo>
                          <a:pt x="442" y="100"/>
                        </a:lnTo>
                        <a:lnTo>
                          <a:pt x="448" y="99"/>
                        </a:lnTo>
                        <a:lnTo>
                          <a:pt x="456" y="99"/>
                        </a:lnTo>
                        <a:lnTo>
                          <a:pt x="462" y="97"/>
                        </a:lnTo>
                        <a:lnTo>
                          <a:pt x="468" y="97"/>
                        </a:lnTo>
                        <a:lnTo>
                          <a:pt x="474" y="96"/>
                        </a:lnTo>
                        <a:lnTo>
                          <a:pt x="480" y="96"/>
                        </a:lnTo>
                        <a:lnTo>
                          <a:pt x="487" y="96"/>
                        </a:lnTo>
                        <a:lnTo>
                          <a:pt x="491" y="96"/>
                        </a:lnTo>
                        <a:lnTo>
                          <a:pt x="497" y="95"/>
                        </a:lnTo>
                        <a:lnTo>
                          <a:pt x="503" y="95"/>
                        </a:lnTo>
                        <a:lnTo>
                          <a:pt x="508" y="95"/>
                        </a:lnTo>
                        <a:lnTo>
                          <a:pt x="513" y="95"/>
                        </a:lnTo>
                        <a:lnTo>
                          <a:pt x="517" y="95"/>
                        </a:lnTo>
                        <a:lnTo>
                          <a:pt x="523" y="95"/>
                        </a:lnTo>
                        <a:lnTo>
                          <a:pt x="528" y="95"/>
                        </a:lnTo>
                        <a:lnTo>
                          <a:pt x="532" y="95"/>
                        </a:lnTo>
                        <a:lnTo>
                          <a:pt x="537" y="95"/>
                        </a:lnTo>
                        <a:lnTo>
                          <a:pt x="542" y="95"/>
                        </a:lnTo>
                        <a:lnTo>
                          <a:pt x="545" y="95"/>
                        </a:lnTo>
                        <a:lnTo>
                          <a:pt x="548" y="95"/>
                        </a:lnTo>
                        <a:lnTo>
                          <a:pt x="552" y="95"/>
                        </a:lnTo>
                        <a:lnTo>
                          <a:pt x="555" y="95"/>
                        </a:lnTo>
                        <a:lnTo>
                          <a:pt x="561" y="95"/>
                        </a:lnTo>
                        <a:lnTo>
                          <a:pt x="569" y="96"/>
                        </a:lnTo>
                        <a:lnTo>
                          <a:pt x="574" y="96"/>
                        </a:lnTo>
                        <a:lnTo>
                          <a:pt x="578" y="97"/>
                        </a:lnTo>
                        <a:lnTo>
                          <a:pt x="572" y="97"/>
                        </a:lnTo>
                        <a:lnTo>
                          <a:pt x="566" y="99"/>
                        </a:lnTo>
                        <a:lnTo>
                          <a:pt x="560" y="99"/>
                        </a:lnTo>
                        <a:lnTo>
                          <a:pt x="555" y="100"/>
                        </a:lnTo>
                        <a:lnTo>
                          <a:pt x="549" y="100"/>
                        </a:lnTo>
                        <a:lnTo>
                          <a:pt x="543" y="101"/>
                        </a:lnTo>
                        <a:lnTo>
                          <a:pt x="539" y="101"/>
                        </a:lnTo>
                        <a:lnTo>
                          <a:pt x="534" y="103"/>
                        </a:lnTo>
                        <a:lnTo>
                          <a:pt x="528" y="103"/>
                        </a:lnTo>
                        <a:lnTo>
                          <a:pt x="523" y="104"/>
                        </a:lnTo>
                        <a:lnTo>
                          <a:pt x="517" y="104"/>
                        </a:lnTo>
                        <a:lnTo>
                          <a:pt x="514" y="105"/>
                        </a:lnTo>
                        <a:lnTo>
                          <a:pt x="508" y="105"/>
                        </a:lnTo>
                        <a:lnTo>
                          <a:pt x="505" y="107"/>
                        </a:lnTo>
                        <a:lnTo>
                          <a:pt x="499" y="107"/>
                        </a:lnTo>
                        <a:lnTo>
                          <a:pt x="496" y="108"/>
                        </a:lnTo>
                        <a:lnTo>
                          <a:pt x="491" y="108"/>
                        </a:lnTo>
                        <a:lnTo>
                          <a:pt x="487" y="108"/>
                        </a:lnTo>
                        <a:lnTo>
                          <a:pt x="480" y="110"/>
                        </a:lnTo>
                        <a:lnTo>
                          <a:pt x="477" y="110"/>
                        </a:lnTo>
                        <a:lnTo>
                          <a:pt x="473" y="111"/>
                        </a:lnTo>
                        <a:lnTo>
                          <a:pt x="468" y="111"/>
                        </a:lnTo>
                        <a:lnTo>
                          <a:pt x="464" y="112"/>
                        </a:lnTo>
                        <a:lnTo>
                          <a:pt x="459" y="112"/>
                        </a:lnTo>
                        <a:lnTo>
                          <a:pt x="456" y="112"/>
                        </a:lnTo>
                        <a:lnTo>
                          <a:pt x="451" y="114"/>
                        </a:lnTo>
                        <a:lnTo>
                          <a:pt x="447" y="114"/>
                        </a:lnTo>
                        <a:lnTo>
                          <a:pt x="442" y="115"/>
                        </a:lnTo>
                        <a:lnTo>
                          <a:pt x="439" y="115"/>
                        </a:lnTo>
                        <a:lnTo>
                          <a:pt x="435" y="116"/>
                        </a:lnTo>
                        <a:lnTo>
                          <a:pt x="430" y="116"/>
                        </a:lnTo>
                        <a:lnTo>
                          <a:pt x="427" y="118"/>
                        </a:lnTo>
                        <a:lnTo>
                          <a:pt x="422" y="118"/>
                        </a:lnTo>
                        <a:lnTo>
                          <a:pt x="418" y="119"/>
                        </a:lnTo>
                        <a:lnTo>
                          <a:pt x="413" y="119"/>
                        </a:lnTo>
                        <a:lnTo>
                          <a:pt x="410" y="121"/>
                        </a:lnTo>
                        <a:lnTo>
                          <a:pt x="405" y="121"/>
                        </a:lnTo>
                        <a:lnTo>
                          <a:pt x="401" y="121"/>
                        </a:lnTo>
                        <a:lnTo>
                          <a:pt x="396" y="122"/>
                        </a:lnTo>
                        <a:lnTo>
                          <a:pt x="393" y="123"/>
                        </a:lnTo>
                        <a:lnTo>
                          <a:pt x="389" y="123"/>
                        </a:lnTo>
                        <a:lnTo>
                          <a:pt x="384" y="125"/>
                        </a:lnTo>
                        <a:lnTo>
                          <a:pt x="379" y="125"/>
                        </a:lnTo>
                        <a:lnTo>
                          <a:pt x="375" y="126"/>
                        </a:lnTo>
                        <a:lnTo>
                          <a:pt x="370" y="126"/>
                        </a:lnTo>
                        <a:lnTo>
                          <a:pt x="367" y="127"/>
                        </a:lnTo>
                        <a:lnTo>
                          <a:pt x="363" y="127"/>
                        </a:lnTo>
                        <a:lnTo>
                          <a:pt x="358" y="130"/>
                        </a:lnTo>
                        <a:lnTo>
                          <a:pt x="353" y="130"/>
                        </a:lnTo>
                        <a:lnTo>
                          <a:pt x="349" y="132"/>
                        </a:lnTo>
                        <a:lnTo>
                          <a:pt x="344" y="132"/>
                        </a:lnTo>
                        <a:lnTo>
                          <a:pt x="340" y="133"/>
                        </a:lnTo>
                        <a:lnTo>
                          <a:pt x="335" y="134"/>
                        </a:lnTo>
                        <a:lnTo>
                          <a:pt x="331" y="136"/>
                        </a:lnTo>
                        <a:lnTo>
                          <a:pt x="326" y="137"/>
                        </a:lnTo>
                        <a:lnTo>
                          <a:pt x="321" y="138"/>
                        </a:lnTo>
                        <a:lnTo>
                          <a:pt x="315" y="140"/>
                        </a:lnTo>
                        <a:lnTo>
                          <a:pt x="311" y="140"/>
                        </a:lnTo>
                        <a:lnTo>
                          <a:pt x="305" y="141"/>
                        </a:lnTo>
                        <a:lnTo>
                          <a:pt x="300" y="144"/>
                        </a:lnTo>
                        <a:lnTo>
                          <a:pt x="295" y="144"/>
                        </a:lnTo>
                        <a:lnTo>
                          <a:pt x="289" y="147"/>
                        </a:lnTo>
                        <a:lnTo>
                          <a:pt x="285" y="148"/>
                        </a:lnTo>
                        <a:lnTo>
                          <a:pt x="280" y="149"/>
                        </a:lnTo>
                        <a:lnTo>
                          <a:pt x="282" y="149"/>
                        </a:lnTo>
                        <a:lnTo>
                          <a:pt x="285" y="149"/>
                        </a:lnTo>
                        <a:lnTo>
                          <a:pt x="288" y="149"/>
                        </a:lnTo>
                        <a:lnTo>
                          <a:pt x="291" y="151"/>
                        </a:lnTo>
                        <a:lnTo>
                          <a:pt x="294" y="151"/>
                        </a:lnTo>
                        <a:lnTo>
                          <a:pt x="297" y="152"/>
                        </a:lnTo>
                        <a:lnTo>
                          <a:pt x="298" y="152"/>
                        </a:lnTo>
                        <a:lnTo>
                          <a:pt x="297" y="154"/>
                        </a:lnTo>
                        <a:lnTo>
                          <a:pt x="308" y="151"/>
                        </a:lnTo>
                        <a:lnTo>
                          <a:pt x="318" y="148"/>
                        </a:lnTo>
                        <a:lnTo>
                          <a:pt x="329" y="145"/>
                        </a:lnTo>
                        <a:lnTo>
                          <a:pt x="340" y="144"/>
                        </a:lnTo>
                        <a:lnTo>
                          <a:pt x="350" y="140"/>
                        </a:lnTo>
                        <a:lnTo>
                          <a:pt x="361" y="138"/>
                        </a:lnTo>
                        <a:lnTo>
                          <a:pt x="372" y="136"/>
                        </a:lnTo>
                        <a:lnTo>
                          <a:pt x="384" y="134"/>
                        </a:lnTo>
                        <a:lnTo>
                          <a:pt x="395" y="132"/>
                        </a:lnTo>
                        <a:lnTo>
                          <a:pt x="404" y="130"/>
                        </a:lnTo>
                        <a:lnTo>
                          <a:pt x="415" y="127"/>
                        </a:lnTo>
                        <a:lnTo>
                          <a:pt x="427" y="126"/>
                        </a:lnTo>
                        <a:lnTo>
                          <a:pt x="438" y="125"/>
                        </a:lnTo>
                        <a:lnTo>
                          <a:pt x="448" y="123"/>
                        </a:lnTo>
                        <a:lnTo>
                          <a:pt x="459" y="121"/>
                        </a:lnTo>
                        <a:lnTo>
                          <a:pt x="470" y="121"/>
                        </a:lnTo>
                        <a:lnTo>
                          <a:pt x="480" y="118"/>
                        </a:lnTo>
                        <a:lnTo>
                          <a:pt x="491" y="116"/>
                        </a:lnTo>
                        <a:lnTo>
                          <a:pt x="502" y="115"/>
                        </a:lnTo>
                        <a:lnTo>
                          <a:pt x="513" y="114"/>
                        </a:lnTo>
                        <a:lnTo>
                          <a:pt x="523" y="112"/>
                        </a:lnTo>
                        <a:lnTo>
                          <a:pt x="535" y="111"/>
                        </a:lnTo>
                        <a:lnTo>
                          <a:pt x="545" y="110"/>
                        </a:lnTo>
                        <a:lnTo>
                          <a:pt x="557" y="108"/>
                        </a:lnTo>
                        <a:lnTo>
                          <a:pt x="568" y="107"/>
                        </a:lnTo>
                        <a:lnTo>
                          <a:pt x="578" y="107"/>
                        </a:lnTo>
                        <a:lnTo>
                          <a:pt x="589" y="105"/>
                        </a:lnTo>
                        <a:lnTo>
                          <a:pt x="600" y="105"/>
                        </a:lnTo>
                        <a:lnTo>
                          <a:pt x="610" y="104"/>
                        </a:lnTo>
                        <a:lnTo>
                          <a:pt x="621" y="103"/>
                        </a:lnTo>
                        <a:lnTo>
                          <a:pt x="633" y="103"/>
                        </a:lnTo>
                        <a:lnTo>
                          <a:pt x="644" y="101"/>
                        </a:lnTo>
                        <a:lnTo>
                          <a:pt x="655" y="100"/>
                        </a:lnTo>
                        <a:lnTo>
                          <a:pt x="666" y="100"/>
                        </a:lnTo>
                        <a:lnTo>
                          <a:pt x="676" y="99"/>
                        </a:lnTo>
                        <a:lnTo>
                          <a:pt x="687" y="99"/>
                        </a:lnTo>
                        <a:lnTo>
                          <a:pt x="698" y="97"/>
                        </a:lnTo>
                        <a:lnTo>
                          <a:pt x="710" y="96"/>
                        </a:lnTo>
                        <a:lnTo>
                          <a:pt x="721" y="96"/>
                        </a:lnTo>
                        <a:lnTo>
                          <a:pt x="731" y="96"/>
                        </a:lnTo>
                        <a:lnTo>
                          <a:pt x="742" y="95"/>
                        </a:lnTo>
                        <a:lnTo>
                          <a:pt x="753" y="95"/>
                        </a:lnTo>
                        <a:lnTo>
                          <a:pt x="763" y="93"/>
                        </a:lnTo>
                        <a:lnTo>
                          <a:pt x="776" y="93"/>
                        </a:lnTo>
                        <a:lnTo>
                          <a:pt x="785" y="93"/>
                        </a:lnTo>
                        <a:lnTo>
                          <a:pt x="797" y="93"/>
                        </a:lnTo>
                        <a:lnTo>
                          <a:pt x="808" y="92"/>
                        </a:lnTo>
                        <a:lnTo>
                          <a:pt x="818" y="92"/>
                        </a:lnTo>
                        <a:lnTo>
                          <a:pt x="831" y="92"/>
                        </a:lnTo>
                        <a:lnTo>
                          <a:pt x="841" y="90"/>
                        </a:lnTo>
                        <a:lnTo>
                          <a:pt x="852" y="90"/>
                        </a:lnTo>
                        <a:lnTo>
                          <a:pt x="863" y="90"/>
                        </a:lnTo>
                        <a:lnTo>
                          <a:pt x="874" y="90"/>
                        </a:lnTo>
                        <a:lnTo>
                          <a:pt x="884" y="89"/>
                        </a:lnTo>
                        <a:lnTo>
                          <a:pt x="896" y="89"/>
                        </a:lnTo>
                        <a:lnTo>
                          <a:pt x="907" y="89"/>
                        </a:lnTo>
                        <a:lnTo>
                          <a:pt x="918" y="88"/>
                        </a:lnTo>
                        <a:lnTo>
                          <a:pt x="929" y="88"/>
                        </a:lnTo>
                        <a:lnTo>
                          <a:pt x="941" y="88"/>
                        </a:lnTo>
                        <a:lnTo>
                          <a:pt x="952" y="88"/>
                        </a:lnTo>
                        <a:lnTo>
                          <a:pt x="964" y="86"/>
                        </a:lnTo>
                        <a:lnTo>
                          <a:pt x="975" y="86"/>
                        </a:lnTo>
                        <a:lnTo>
                          <a:pt x="985" y="86"/>
                        </a:lnTo>
                        <a:lnTo>
                          <a:pt x="997" y="86"/>
                        </a:lnTo>
                        <a:lnTo>
                          <a:pt x="1002" y="86"/>
                        </a:lnTo>
                        <a:lnTo>
                          <a:pt x="1008" y="86"/>
                        </a:lnTo>
                        <a:lnTo>
                          <a:pt x="1013" y="86"/>
                        </a:lnTo>
                        <a:lnTo>
                          <a:pt x="1019" y="88"/>
                        </a:lnTo>
                        <a:lnTo>
                          <a:pt x="1023" y="88"/>
                        </a:lnTo>
                        <a:lnTo>
                          <a:pt x="1028" y="88"/>
                        </a:lnTo>
                        <a:lnTo>
                          <a:pt x="1034" y="88"/>
                        </a:lnTo>
                        <a:lnTo>
                          <a:pt x="1040" y="88"/>
                        </a:lnTo>
                        <a:lnTo>
                          <a:pt x="1045" y="88"/>
                        </a:lnTo>
                        <a:lnTo>
                          <a:pt x="1051" y="88"/>
                        </a:lnTo>
                        <a:lnTo>
                          <a:pt x="1056" y="89"/>
                        </a:lnTo>
                        <a:lnTo>
                          <a:pt x="1062" y="89"/>
                        </a:lnTo>
                        <a:lnTo>
                          <a:pt x="1066" y="89"/>
                        </a:lnTo>
                        <a:lnTo>
                          <a:pt x="1072" y="89"/>
                        </a:lnTo>
                        <a:lnTo>
                          <a:pt x="1079" y="90"/>
                        </a:lnTo>
                        <a:lnTo>
                          <a:pt x="1085" y="90"/>
                        </a:lnTo>
                        <a:lnTo>
                          <a:pt x="1089" y="90"/>
                        </a:lnTo>
                        <a:lnTo>
                          <a:pt x="1094" y="90"/>
                        </a:lnTo>
                        <a:lnTo>
                          <a:pt x="1100" y="90"/>
                        </a:lnTo>
                        <a:lnTo>
                          <a:pt x="1105" y="92"/>
                        </a:lnTo>
                        <a:lnTo>
                          <a:pt x="1111" y="92"/>
                        </a:lnTo>
                        <a:lnTo>
                          <a:pt x="1117" y="92"/>
                        </a:lnTo>
                        <a:lnTo>
                          <a:pt x="1121" y="92"/>
                        </a:lnTo>
                        <a:lnTo>
                          <a:pt x="1127" y="93"/>
                        </a:lnTo>
                        <a:lnTo>
                          <a:pt x="1132" y="93"/>
                        </a:lnTo>
                        <a:lnTo>
                          <a:pt x="1138" y="93"/>
                        </a:lnTo>
                        <a:lnTo>
                          <a:pt x="1143" y="93"/>
                        </a:lnTo>
                        <a:lnTo>
                          <a:pt x="1149" y="93"/>
                        </a:lnTo>
                        <a:lnTo>
                          <a:pt x="1155" y="93"/>
                        </a:lnTo>
                        <a:lnTo>
                          <a:pt x="1160" y="95"/>
                        </a:lnTo>
                        <a:lnTo>
                          <a:pt x="1166" y="95"/>
                        </a:lnTo>
                        <a:lnTo>
                          <a:pt x="1172" y="96"/>
                        </a:lnTo>
                        <a:lnTo>
                          <a:pt x="1176" y="96"/>
                        </a:lnTo>
                        <a:lnTo>
                          <a:pt x="1183" y="96"/>
                        </a:lnTo>
                        <a:lnTo>
                          <a:pt x="1187" y="96"/>
                        </a:lnTo>
                        <a:lnTo>
                          <a:pt x="1193" y="96"/>
                        </a:lnTo>
                        <a:lnTo>
                          <a:pt x="1198" y="96"/>
                        </a:lnTo>
                        <a:lnTo>
                          <a:pt x="1204" y="96"/>
                        </a:lnTo>
                        <a:lnTo>
                          <a:pt x="1210" y="97"/>
                        </a:lnTo>
                        <a:lnTo>
                          <a:pt x="1215" y="97"/>
                        </a:lnTo>
                        <a:lnTo>
                          <a:pt x="1221" y="97"/>
                        </a:lnTo>
                        <a:lnTo>
                          <a:pt x="1225" y="97"/>
                        </a:lnTo>
                        <a:lnTo>
                          <a:pt x="1231" y="97"/>
                        </a:lnTo>
                        <a:lnTo>
                          <a:pt x="1238" y="99"/>
                        </a:lnTo>
                        <a:lnTo>
                          <a:pt x="1242" y="99"/>
                        </a:lnTo>
                        <a:lnTo>
                          <a:pt x="1248" y="99"/>
                        </a:lnTo>
                        <a:lnTo>
                          <a:pt x="1254" y="100"/>
                        </a:lnTo>
                        <a:lnTo>
                          <a:pt x="1259" y="100"/>
                        </a:lnTo>
                        <a:lnTo>
                          <a:pt x="1265" y="100"/>
                        </a:lnTo>
                        <a:lnTo>
                          <a:pt x="1270" y="100"/>
                        </a:lnTo>
                        <a:lnTo>
                          <a:pt x="1276" y="100"/>
                        </a:lnTo>
                        <a:lnTo>
                          <a:pt x="1282" y="100"/>
                        </a:lnTo>
                        <a:lnTo>
                          <a:pt x="1287" y="100"/>
                        </a:lnTo>
                        <a:lnTo>
                          <a:pt x="1293" y="101"/>
                        </a:lnTo>
                        <a:lnTo>
                          <a:pt x="1297" y="101"/>
                        </a:lnTo>
                        <a:lnTo>
                          <a:pt x="1303" y="101"/>
                        </a:lnTo>
                        <a:lnTo>
                          <a:pt x="1309" y="101"/>
                        </a:lnTo>
                        <a:lnTo>
                          <a:pt x="1314" y="101"/>
                        </a:lnTo>
                        <a:lnTo>
                          <a:pt x="1320" y="103"/>
                        </a:lnTo>
                        <a:lnTo>
                          <a:pt x="1326" y="103"/>
                        </a:lnTo>
                        <a:lnTo>
                          <a:pt x="1331" y="103"/>
                        </a:lnTo>
                        <a:lnTo>
                          <a:pt x="1337" y="103"/>
                        </a:lnTo>
                        <a:lnTo>
                          <a:pt x="1343" y="103"/>
                        </a:lnTo>
                        <a:lnTo>
                          <a:pt x="1348" y="104"/>
                        </a:lnTo>
                        <a:lnTo>
                          <a:pt x="1288" y="118"/>
                        </a:lnTo>
                        <a:lnTo>
                          <a:pt x="1290" y="118"/>
                        </a:lnTo>
                        <a:lnTo>
                          <a:pt x="1293" y="118"/>
                        </a:lnTo>
                        <a:lnTo>
                          <a:pt x="1296" y="118"/>
                        </a:lnTo>
                        <a:lnTo>
                          <a:pt x="1299" y="118"/>
                        </a:lnTo>
                        <a:lnTo>
                          <a:pt x="1303" y="118"/>
                        </a:lnTo>
                        <a:lnTo>
                          <a:pt x="1308" y="118"/>
                        </a:lnTo>
                        <a:lnTo>
                          <a:pt x="1313" y="118"/>
                        </a:lnTo>
                        <a:lnTo>
                          <a:pt x="1319" y="118"/>
                        </a:lnTo>
                        <a:lnTo>
                          <a:pt x="1325" y="118"/>
                        </a:lnTo>
                        <a:lnTo>
                          <a:pt x="1331" y="118"/>
                        </a:lnTo>
                        <a:lnTo>
                          <a:pt x="1339" y="118"/>
                        </a:lnTo>
                        <a:lnTo>
                          <a:pt x="1346" y="119"/>
                        </a:lnTo>
                        <a:lnTo>
                          <a:pt x="1354" y="119"/>
                        </a:lnTo>
                        <a:lnTo>
                          <a:pt x="1362" y="119"/>
                        </a:lnTo>
                        <a:lnTo>
                          <a:pt x="1369" y="119"/>
                        </a:lnTo>
                        <a:lnTo>
                          <a:pt x="1378" y="121"/>
                        </a:lnTo>
                        <a:lnTo>
                          <a:pt x="1386" y="121"/>
                        </a:lnTo>
                        <a:lnTo>
                          <a:pt x="1395" y="121"/>
                        </a:lnTo>
                        <a:lnTo>
                          <a:pt x="1406" y="121"/>
                        </a:lnTo>
                        <a:lnTo>
                          <a:pt x="1415" y="121"/>
                        </a:lnTo>
                        <a:lnTo>
                          <a:pt x="1424" y="121"/>
                        </a:lnTo>
                        <a:lnTo>
                          <a:pt x="1435" y="121"/>
                        </a:lnTo>
                        <a:lnTo>
                          <a:pt x="1444" y="121"/>
                        </a:lnTo>
                        <a:lnTo>
                          <a:pt x="1456" y="121"/>
                        </a:lnTo>
                        <a:lnTo>
                          <a:pt x="1466" y="121"/>
                        </a:lnTo>
                        <a:lnTo>
                          <a:pt x="1476" y="121"/>
                        </a:lnTo>
                        <a:lnTo>
                          <a:pt x="1487" y="121"/>
                        </a:lnTo>
                        <a:lnTo>
                          <a:pt x="1498" y="121"/>
                        </a:lnTo>
                        <a:lnTo>
                          <a:pt x="1508" y="121"/>
                        </a:lnTo>
                        <a:lnTo>
                          <a:pt x="1519" y="121"/>
                        </a:lnTo>
                        <a:lnTo>
                          <a:pt x="1531" y="121"/>
                        </a:lnTo>
                        <a:lnTo>
                          <a:pt x="1542" y="121"/>
                        </a:lnTo>
                        <a:lnTo>
                          <a:pt x="1553" y="121"/>
                        </a:lnTo>
                        <a:lnTo>
                          <a:pt x="1563" y="121"/>
                        </a:lnTo>
                        <a:lnTo>
                          <a:pt x="1574" y="121"/>
                        </a:lnTo>
                        <a:lnTo>
                          <a:pt x="1585" y="121"/>
                        </a:lnTo>
                        <a:lnTo>
                          <a:pt x="1596" y="121"/>
                        </a:lnTo>
                        <a:lnTo>
                          <a:pt x="1605" y="121"/>
                        </a:lnTo>
                        <a:lnTo>
                          <a:pt x="1615" y="121"/>
                        </a:lnTo>
                        <a:lnTo>
                          <a:pt x="1626" y="121"/>
                        </a:lnTo>
                        <a:lnTo>
                          <a:pt x="1635" y="121"/>
                        </a:lnTo>
                        <a:lnTo>
                          <a:pt x="1646" y="121"/>
                        </a:lnTo>
                        <a:lnTo>
                          <a:pt x="1655" y="121"/>
                        </a:lnTo>
                        <a:lnTo>
                          <a:pt x="1666" y="121"/>
                        </a:lnTo>
                        <a:lnTo>
                          <a:pt x="1674" y="121"/>
                        </a:lnTo>
                        <a:lnTo>
                          <a:pt x="1684" y="121"/>
                        </a:lnTo>
                        <a:lnTo>
                          <a:pt x="1692" y="121"/>
                        </a:lnTo>
                        <a:lnTo>
                          <a:pt x="1701" y="121"/>
                        </a:lnTo>
                        <a:lnTo>
                          <a:pt x="1709" y="121"/>
                        </a:lnTo>
                        <a:lnTo>
                          <a:pt x="1716" y="121"/>
                        </a:lnTo>
                        <a:lnTo>
                          <a:pt x="1723" y="119"/>
                        </a:lnTo>
                        <a:lnTo>
                          <a:pt x="1730" y="119"/>
                        </a:lnTo>
                        <a:lnTo>
                          <a:pt x="1736" y="119"/>
                        </a:lnTo>
                        <a:lnTo>
                          <a:pt x="1744" y="119"/>
                        </a:lnTo>
                        <a:lnTo>
                          <a:pt x="1749" y="119"/>
                        </a:lnTo>
                        <a:lnTo>
                          <a:pt x="1755" y="119"/>
                        </a:lnTo>
                        <a:lnTo>
                          <a:pt x="1759" y="118"/>
                        </a:lnTo>
                        <a:lnTo>
                          <a:pt x="1764" y="118"/>
                        </a:lnTo>
                        <a:lnTo>
                          <a:pt x="1767" y="118"/>
                        </a:lnTo>
                        <a:lnTo>
                          <a:pt x="1771" y="118"/>
                        </a:lnTo>
                        <a:lnTo>
                          <a:pt x="1776" y="118"/>
                        </a:lnTo>
                        <a:lnTo>
                          <a:pt x="1779" y="118"/>
                        </a:lnTo>
                        <a:lnTo>
                          <a:pt x="1775" y="116"/>
                        </a:lnTo>
                        <a:lnTo>
                          <a:pt x="1770" y="115"/>
                        </a:lnTo>
                        <a:lnTo>
                          <a:pt x="1765" y="115"/>
                        </a:lnTo>
                        <a:lnTo>
                          <a:pt x="1762" y="114"/>
                        </a:lnTo>
                        <a:lnTo>
                          <a:pt x="1758" y="114"/>
                        </a:lnTo>
                        <a:lnTo>
                          <a:pt x="1753" y="112"/>
                        </a:lnTo>
                        <a:lnTo>
                          <a:pt x="1749" y="112"/>
                        </a:lnTo>
                        <a:lnTo>
                          <a:pt x="1745" y="112"/>
                        </a:lnTo>
                        <a:lnTo>
                          <a:pt x="1741" y="112"/>
                        </a:lnTo>
                        <a:lnTo>
                          <a:pt x="1736" y="111"/>
                        </a:lnTo>
                        <a:lnTo>
                          <a:pt x="1732" y="111"/>
                        </a:lnTo>
                        <a:lnTo>
                          <a:pt x="1729" y="111"/>
                        </a:lnTo>
                        <a:lnTo>
                          <a:pt x="1724" y="111"/>
                        </a:lnTo>
                        <a:lnTo>
                          <a:pt x="1719" y="111"/>
                        </a:lnTo>
                        <a:lnTo>
                          <a:pt x="1715" y="111"/>
                        </a:lnTo>
                        <a:lnTo>
                          <a:pt x="1712" y="111"/>
                        </a:lnTo>
                        <a:lnTo>
                          <a:pt x="1707" y="110"/>
                        </a:lnTo>
                        <a:lnTo>
                          <a:pt x="1703" y="110"/>
                        </a:lnTo>
                        <a:lnTo>
                          <a:pt x="1698" y="110"/>
                        </a:lnTo>
                        <a:lnTo>
                          <a:pt x="1693" y="110"/>
                        </a:lnTo>
                        <a:lnTo>
                          <a:pt x="1687" y="108"/>
                        </a:lnTo>
                        <a:lnTo>
                          <a:pt x="1683" y="108"/>
                        </a:lnTo>
                        <a:lnTo>
                          <a:pt x="1678" y="108"/>
                        </a:lnTo>
                        <a:lnTo>
                          <a:pt x="1674" y="108"/>
                        </a:lnTo>
                        <a:lnTo>
                          <a:pt x="1667" y="108"/>
                        </a:lnTo>
                        <a:lnTo>
                          <a:pt x="1663" y="108"/>
                        </a:lnTo>
                        <a:lnTo>
                          <a:pt x="1657" y="107"/>
                        </a:lnTo>
                        <a:lnTo>
                          <a:pt x="1652" y="107"/>
                        </a:lnTo>
                        <a:lnTo>
                          <a:pt x="1648" y="107"/>
                        </a:lnTo>
                        <a:lnTo>
                          <a:pt x="1643" y="107"/>
                        </a:lnTo>
                        <a:lnTo>
                          <a:pt x="1640" y="108"/>
                        </a:lnTo>
                        <a:lnTo>
                          <a:pt x="1635" y="108"/>
                        </a:lnTo>
                        <a:lnTo>
                          <a:pt x="1640" y="107"/>
                        </a:lnTo>
                        <a:lnTo>
                          <a:pt x="1643" y="104"/>
                        </a:lnTo>
                        <a:lnTo>
                          <a:pt x="1649" y="103"/>
                        </a:lnTo>
                        <a:lnTo>
                          <a:pt x="1655" y="103"/>
                        </a:lnTo>
                        <a:lnTo>
                          <a:pt x="1660" y="101"/>
                        </a:lnTo>
                        <a:lnTo>
                          <a:pt x="1666" y="100"/>
                        </a:lnTo>
                        <a:lnTo>
                          <a:pt x="1672" y="100"/>
                        </a:lnTo>
                        <a:lnTo>
                          <a:pt x="1678" y="99"/>
                        </a:lnTo>
                        <a:lnTo>
                          <a:pt x="1683" y="97"/>
                        </a:lnTo>
                        <a:lnTo>
                          <a:pt x="1689" y="97"/>
                        </a:lnTo>
                        <a:lnTo>
                          <a:pt x="1687" y="96"/>
                        </a:lnTo>
                        <a:lnTo>
                          <a:pt x="1683" y="96"/>
                        </a:lnTo>
                        <a:lnTo>
                          <a:pt x="1680" y="96"/>
                        </a:lnTo>
                        <a:lnTo>
                          <a:pt x="1677" y="96"/>
                        </a:lnTo>
                        <a:lnTo>
                          <a:pt x="1674" y="96"/>
                        </a:lnTo>
                        <a:lnTo>
                          <a:pt x="1669" y="96"/>
                        </a:lnTo>
                        <a:lnTo>
                          <a:pt x="1664" y="96"/>
                        </a:lnTo>
                        <a:lnTo>
                          <a:pt x="1660" y="96"/>
                        </a:lnTo>
                        <a:lnTo>
                          <a:pt x="1655" y="96"/>
                        </a:lnTo>
                        <a:lnTo>
                          <a:pt x="1649" y="96"/>
                        </a:lnTo>
                        <a:lnTo>
                          <a:pt x="1644" y="96"/>
                        </a:lnTo>
                        <a:lnTo>
                          <a:pt x="1638" y="96"/>
                        </a:lnTo>
                        <a:lnTo>
                          <a:pt x="1632" y="96"/>
                        </a:lnTo>
                        <a:lnTo>
                          <a:pt x="1628" y="97"/>
                        </a:lnTo>
                        <a:lnTo>
                          <a:pt x="1622" y="97"/>
                        </a:lnTo>
                        <a:lnTo>
                          <a:pt x="1615" y="97"/>
                        </a:lnTo>
                        <a:lnTo>
                          <a:pt x="1609" y="97"/>
                        </a:lnTo>
                        <a:lnTo>
                          <a:pt x="1605" y="97"/>
                        </a:lnTo>
                        <a:lnTo>
                          <a:pt x="1599" y="97"/>
                        </a:lnTo>
                        <a:lnTo>
                          <a:pt x="1592" y="97"/>
                        </a:lnTo>
                        <a:lnTo>
                          <a:pt x="1588" y="97"/>
                        </a:lnTo>
                        <a:lnTo>
                          <a:pt x="1583" y="99"/>
                        </a:lnTo>
                        <a:lnTo>
                          <a:pt x="1577" y="99"/>
                        </a:lnTo>
                        <a:lnTo>
                          <a:pt x="1573" y="99"/>
                        </a:lnTo>
                        <a:lnTo>
                          <a:pt x="1570" y="99"/>
                        </a:lnTo>
                        <a:lnTo>
                          <a:pt x="1565" y="99"/>
                        </a:lnTo>
                        <a:lnTo>
                          <a:pt x="1559" y="99"/>
                        </a:lnTo>
                        <a:lnTo>
                          <a:pt x="1556" y="100"/>
                        </a:lnTo>
                        <a:lnTo>
                          <a:pt x="1559" y="97"/>
                        </a:lnTo>
                        <a:lnTo>
                          <a:pt x="1565" y="95"/>
                        </a:lnTo>
                        <a:lnTo>
                          <a:pt x="1566" y="93"/>
                        </a:lnTo>
                        <a:lnTo>
                          <a:pt x="1570" y="93"/>
                        </a:lnTo>
                        <a:lnTo>
                          <a:pt x="1573" y="92"/>
                        </a:lnTo>
                        <a:lnTo>
                          <a:pt x="1577" y="92"/>
                        </a:lnTo>
                        <a:lnTo>
                          <a:pt x="1580" y="90"/>
                        </a:lnTo>
                        <a:lnTo>
                          <a:pt x="1583" y="90"/>
                        </a:lnTo>
                        <a:lnTo>
                          <a:pt x="1588" y="89"/>
                        </a:lnTo>
                        <a:lnTo>
                          <a:pt x="1591" y="89"/>
                        </a:lnTo>
                        <a:lnTo>
                          <a:pt x="1596" y="89"/>
                        </a:lnTo>
                        <a:lnTo>
                          <a:pt x="1600" y="88"/>
                        </a:lnTo>
                        <a:lnTo>
                          <a:pt x="1605" y="88"/>
                        </a:lnTo>
                        <a:lnTo>
                          <a:pt x="1609" y="88"/>
                        </a:lnTo>
                        <a:lnTo>
                          <a:pt x="1614" y="88"/>
                        </a:lnTo>
                        <a:lnTo>
                          <a:pt x="1618" y="86"/>
                        </a:lnTo>
                        <a:lnTo>
                          <a:pt x="1623" y="86"/>
                        </a:lnTo>
                        <a:lnTo>
                          <a:pt x="1629" y="86"/>
                        </a:lnTo>
                        <a:lnTo>
                          <a:pt x="1634" y="85"/>
                        </a:lnTo>
                        <a:lnTo>
                          <a:pt x="1640" y="85"/>
                        </a:lnTo>
                        <a:lnTo>
                          <a:pt x="1646" y="85"/>
                        </a:lnTo>
                        <a:lnTo>
                          <a:pt x="1651" y="85"/>
                        </a:lnTo>
                        <a:lnTo>
                          <a:pt x="1657" y="85"/>
                        </a:lnTo>
                        <a:lnTo>
                          <a:pt x="1663" y="85"/>
                        </a:lnTo>
                        <a:lnTo>
                          <a:pt x="1667" y="85"/>
                        </a:lnTo>
                        <a:lnTo>
                          <a:pt x="1674" y="85"/>
                        </a:lnTo>
                        <a:lnTo>
                          <a:pt x="1680" y="85"/>
                        </a:lnTo>
                        <a:lnTo>
                          <a:pt x="1686" y="85"/>
                        </a:lnTo>
                        <a:lnTo>
                          <a:pt x="1692" y="85"/>
                        </a:lnTo>
                        <a:lnTo>
                          <a:pt x="1698" y="85"/>
                        </a:lnTo>
                        <a:lnTo>
                          <a:pt x="1704" y="84"/>
                        </a:lnTo>
                        <a:lnTo>
                          <a:pt x="1709" y="84"/>
                        </a:lnTo>
                        <a:lnTo>
                          <a:pt x="1715" y="84"/>
                        </a:lnTo>
                        <a:lnTo>
                          <a:pt x="1723" y="84"/>
                        </a:lnTo>
                        <a:lnTo>
                          <a:pt x="1727" y="84"/>
                        </a:lnTo>
                        <a:lnTo>
                          <a:pt x="1733" y="84"/>
                        </a:lnTo>
                        <a:lnTo>
                          <a:pt x="1739" y="84"/>
                        </a:lnTo>
                        <a:lnTo>
                          <a:pt x="1745" y="84"/>
                        </a:lnTo>
                        <a:lnTo>
                          <a:pt x="1752" y="84"/>
                        </a:lnTo>
                        <a:lnTo>
                          <a:pt x="1758" y="84"/>
                        </a:lnTo>
                        <a:lnTo>
                          <a:pt x="1762" y="84"/>
                        </a:lnTo>
                        <a:lnTo>
                          <a:pt x="1770" y="84"/>
                        </a:lnTo>
                        <a:lnTo>
                          <a:pt x="1775" y="84"/>
                        </a:lnTo>
                        <a:lnTo>
                          <a:pt x="1781" y="84"/>
                        </a:lnTo>
                        <a:lnTo>
                          <a:pt x="1787" y="84"/>
                        </a:lnTo>
                        <a:lnTo>
                          <a:pt x="1793" y="85"/>
                        </a:lnTo>
                        <a:lnTo>
                          <a:pt x="1797" y="84"/>
                        </a:lnTo>
                        <a:lnTo>
                          <a:pt x="1804" y="84"/>
                        </a:lnTo>
                        <a:lnTo>
                          <a:pt x="1810" y="84"/>
                        </a:lnTo>
                        <a:lnTo>
                          <a:pt x="1814" y="84"/>
                        </a:lnTo>
                        <a:lnTo>
                          <a:pt x="1820" y="84"/>
                        </a:lnTo>
                        <a:lnTo>
                          <a:pt x="1825" y="84"/>
                        </a:lnTo>
                        <a:lnTo>
                          <a:pt x="1830" y="84"/>
                        </a:lnTo>
                        <a:lnTo>
                          <a:pt x="1836" y="84"/>
                        </a:lnTo>
                        <a:lnTo>
                          <a:pt x="1840" y="84"/>
                        </a:lnTo>
                        <a:lnTo>
                          <a:pt x="1845" y="84"/>
                        </a:lnTo>
                        <a:lnTo>
                          <a:pt x="1849" y="84"/>
                        </a:lnTo>
                        <a:lnTo>
                          <a:pt x="1854" y="84"/>
                        </a:lnTo>
                        <a:lnTo>
                          <a:pt x="1859" y="84"/>
                        </a:lnTo>
                        <a:lnTo>
                          <a:pt x="1862" y="84"/>
                        </a:lnTo>
                        <a:lnTo>
                          <a:pt x="1866" y="84"/>
                        </a:lnTo>
                        <a:lnTo>
                          <a:pt x="1871" y="84"/>
                        </a:lnTo>
                        <a:lnTo>
                          <a:pt x="1868" y="81"/>
                        </a:lnTo>
                        <a:lnTo>
                          <a:pt x="1863" y="79"/>
                        </a:lnTo>
                        <a:lnTo>
                          <a:pt x="1860" y="78"/>
                        </a:lnTo>
                        <a:lnTo>
                          <a:pt x="1856" y="75"/>
                        </a:lnTo>
                        <a:lnTo>
                          <a:pt x="1853" y="74"/>
                        </a:lnTo>
                        <a:lnTo>
                          <a:pt x="1848" y="74"/>
                        </a:lnTo>
                        <a:lnTo>
                          <a:pt x="1845" y="74"/>
                        </a:lnTo>
                        <a:lnTo>
                          <a:pt x="1842" y="74"/>
                        </a:lnTo>
                        <a:lnTo>
                          <a:pt x="1839" y="73"/>
                        </a:lnTo>
                        <a:lnTo>
                          <a:pt x="1836" y="73"/>
                        </a:lnTo>
                        <a:lnTo>
                          <a:pt x="1831" y="73"/>
                        </a:lnTo>
                        <a:lnTo>
                          <a:pt x="1828" y="73"/>
                        </a:lnTo>
                        <a:lnTo>
                          <a:pt x="1822" y="73"/>
                        </a:lnTo>
                        <a:lnTo>
                          <a:pt x="1814" y="71"/>
                        </a:lnTo>
                        <a:lnTo>
                          <a:pt x="1808" y="71"/>
                        </a:lnTo>
                        <a:lnTo>
                          <a:pt x="1802" y="71"/>
                        </a:lnTo>
                        <a:lnTo>
                          <a:pt x="1794" y="70"/>
                        </a:lnTo>
                        <a:lnTo>
                          <a:pt x="1788" y="70"/>
                        </a:lnTo>
                        <a:lnTo>
                          <a:pt x="1782" y="68"/>
                        </a:lnTo>
                        <a:lnTo>
                          <a:pt x="1776" y="68"/>
                        </a:lnTo>
                        <a:lnTo>
                          <a:pt x="1768" y="68"/>
                        </a:lnTo>
                        <a:lnTo>
                          <a:pt x="1762" y="68"/>
                        </a:lnTo>
                        <a:lnTo>
                          <a:pt x="1756" y="67"/>
                        </a:lnTo>
                        <a:lnTo>
                          <a:pt x="1749" y="67"/>
                        </a:lnTo>
                        <a:lnTo>
                          <a:pt x="1742" y="66"/>
                        </a:lnTo>
                        <a:lnTo>
                          <a:pt x="1736" y="66"/>
                        </a:lnTo>
                        <a:lnTo>
                          <a:pt x="1729" y="66"/>
                        </a:lnTo>
                        <a:lnTo>
                          <a:pt x="1723" y="66"/>
                        </a:lnTo>
                        <a:lnTo>
                          <a:pt x="1716" y="64"/>
                        </a:lnTo>
                        <a:lnTo>
                          <a:pt x="1710" y="64"/>
                        </a:lnTo>
                        <a:lnTo>
                          <a:pt x="1703" y="64"/>
                        </a:lnTo>
                        <a:lnTo>
                          <a:pt x="1696" y="64"/>
                        </a:lnTo>
                        <a:lnTo>
                          <a:pt x="1693" y="63"/>
                        </a:lnTo>
                        <a:lnTo>
                          <a:pt x="1690" y="63"/>
                        </a:lnTo>
                        <a:lnTo>
                          <a:pt x="1686" y="63"/>
                        </a:lnTo>
                        <a:lnTo>
                          <a:pt x="1683" y="63"/>
                        </a:lnTo>
                        <a:lnTo>
                          <a:pt x="1677" y="63"/>
                        </a:lnTo>
                        <a:lnTo>
                          <a:pt x="1670" y="63"/>
                        </a:lnTo>
                        <a:lnTo>
                          <a:pt x="1663" y="63"/>
                        </a:lnTo>
                        <a:lnTo>
                          <a:pt x="1657" y="64"/>
                        </a:lnTo>
                        <a:lnTo>
                          <a:pt x="1649" y="64"/>
                        </a:lnTo>
                        <a:lnTo>
                          <a:pt x="1643" y="66"/>
                        </a:lnTo>
                        <a:lnTo>
                          <a:pt x="1638" y="64"/>
                        </a:lnTo>
                        <a:lnTo>
                          <a:pt x="1632" y="64"/>
                        </a:lnTo>
                        <a:lnTo>
                          <a:pt x="1628" y="63"/>
                        </a:lnTo>
                        <a:lnTo>
                          <a:pt x="1622" y="63"/>
                        </a:lnTo>
                        <a:lnTo>
                          <a:pt x="1617" y="63"/>
                        </a:lnTo>
                        <a:lnTo>
                          <a:pt x="1612" y="63"/>
                        </a:lnTo>
                        <a:lnTo>
                          <a:pt x="1606" y="62"/>
                        </a:lnTo>
                        <a:lnTo>
                          <a:pt x="1602" y="62"/>
                        </a:lnTo>
                        <a:lnTo>
                          <a:pt x="1596" y="62"/>
                        </a:lnTo>
                        <a:lnTo>
                          <a:pt x="1591" y="60"/>
                        </a:lnTo>
                        <a:lnTo>
                          <a:pt x="1586" y="60"/>
                        </a:lnTo>
                        <a:lnTo>
                          <a:pt x="1582" y="60"/>
                        </a:lnTo>
                        <a:lnTo>
                          <a:pt x="1576" y="59"/>
                        </a:lnTo>
                        <a:lnTo>
                          <a:pt x="1571" y="59"/>
                        </a:lnTo>
                        <a:lnTo>
                          <a:pt x="1565" y="59"/>
                        </a:lnTo>
                        <a:lnTo>
                          <a:pt x="1560" y="59"/>
                        </a:lnTo>
                        <a:lnTo>
                          <a:pt x="1565" y="57"/>
                        </a:lnTo>
                        <a:lnTo>
                          <a:pt x="1568" y="56"/>
                        </a:lnTo>
                        <a:lnTo>
                          <a:pt x="1573" y="56"/>
                        </a:lnTo>
                        <a:lnTo>
                          <a:pt x="1577" y="56"/>
                        </a:lnTo>
                        <a:lnTo>
                          <a:pt x="1582" y="55"/>
                        </a:lnTo>
                        <a:lnTo>
                          <a:pt x="1585" y="55"/>
                        </a:lnTo>
                        <a:lnTo>
                          <a:pt x="1589" y="55"/>
                        </a:lnTo>
                        <a:lnTo>
                          <a:pt x="1594" y="55"/>
                        </a:lnTo>
                        <a:lnTo>
                          <a:pt x="1599" y="53"/>
                        </a:lnTo>
                        <a:lnTo>
                          <a:pt x="1602" y="53"/>
                        </a:lnTo>
                        <a:lnTo>
                          <a:pt x="1606" y="53"/>
                        </a:lnTo>
                        <a:lnTo>
                          <a:pt x="1611" y="53"/>
                        </a:lnTo>
                        <a:lnTo>
                          <a:pt x="1615" y="53"/>
                        </a:lnTo>
                        <a:lnTo>
                          <a:pt x="1618" y="53"/>
                        </a:lnTo>
                        <a:lnTo>
                          <a:pt x="1623" y="53"/>
                        </a:lnTo>
                        <a:lnTo>
                          <a:pt x="1629" y="53"/>
                        </a:lnTo>
                        <a:lnTo>
                          <a:pt x="1632" y="53"/>
                        </a:lnTo>
                        <a:lnTo>
                          <a:pt x="1637" y="53"/>
                        </a:lnTo>
                        <a:lnTo>
                          <a:pt x="1641" y="53"/>
                        </a:lnTo>
                        <a:lnTo>
                          <a:pt x="1646" y="53"/>
                        </a:lnTo>
                        <a:lnTo>
                          <a:pt x="1649" y="53"/>
                        </a:lnTo>
                        <a:lnTo>
                          <a:pt x="1654" y="53"/>
                        </a:lnTo>
                        <a:lnTo>
                          <a:pt x="1658" y="53"/>
                        </a:lnTo>
                        <a:lnTo>
                          <a:pt x="1663" y="53"/>
                        </a:lnTo>
                        <a:lnTo>
                          <a:pt x="1667" y="53"/>
                        </a:lnTo>
                        <a:lnTo>
                          <a:pt x="1672" y="53"/>
                        </a:lnTo>
                        <a:lnTo>
                          <a:pt x="1677" y="53"/>
                        </a:lnTo>
                        <a:lnTo>
                          <a:pt x="1681" y="53"/>
                        </a:lnTo>
                        <a:lnTo>
                          <a:pt x="1686" y="53"/>
                        </a:lnTo>
                        <a:lnTo>
                          <a:pt x="1690" y="55"/>
                        </a:lnTo>
                        <a:lnTo>
                          <a:pt x="1695" y="55"/>
                        </a:lnTo>
                        <a:lnTo>
                          <a:pt x="1700" y="55"/>
                        </a:lnTo>
                        <a:lnTo>
                          <a:pt x="1703" y="55"/>
                        </a:lnTo>
                        <a:lnTo>
                          <a:pt x="1707" y="55"/>
                        </a:lnTo>
                        <a:lnTo>
                          <a:pt x="1712" y="55"/>
                        </a:lnTo>
                        <a:lnTo>
                          <a:pt x="1716" y="56"/>
                        </a:lnTo>
                        <a:lnTo>
                          <a:pt x="1721" y="56"/>
                        </a:lnTo>
                        <a:lnTo>
                          <a:pt x="1726" y="56"/>
                        </a:lnTo>
                        <a:lnTo>
                          <a:pt x="1729" y="56"/>
                        </a:lnTo>
                        <a:lnTo>
                          <a:pt x="1735" y="56"/>
                        </a:lnTo>
                        <a:lnTo>
                          <a:pt x="1738" y="56"/>
                        </a:lnTo>
                        <a:lnTo>
                          <a:pt x="1742" y="56"/>
                        </a:lnTo>
                        <a:lnTo>
                          <a:pt x="1747" y="56"/>
                        </a:lnTo>
                        <a:lnTo>
                          <a:pt x="1752" y="56"/>
                        </a:lnTo>
                        <a:lnTo>
                          <a:pt x="1756" y="56"/>
                        </a:lnTo>
                        <a:lnTo>
                          <a:pt x="1761" y="56"/>
                        </a:lnTo>
                        <a:lnTo>
                          <a:pt x="1765" y="56"/>
                        </a:lnTo>
                        <a:lnTo>
                          <a:pt x="1770" y="57"/>
                        </a:lnTo>
                        <a:lnTo>
                          <a:pt x="1773" y="56"/>
                        </a:lnTo>
                        <a:lnTo>
                          <a:pt x="1778" y="56"/>
                        </a:lnTo>
                        <a:lnTo>
                          <a:pt x="1782" y="56"/>
                        </a:lnTo>
                        <a:lnTo>
                          <a:pt x="1787" y="56"/>
                        </a:lnTo>
                        <a:lnTo>
                          <a:pt x="1791" y="56"/>
                        </a:lnTo>
                        <a:lnTo>
                          <a:pt x="1796" y="56"/>
                        </a:lnTo>
                        <a:lnTo>
                          <a:pt x="1801" y="56"/>
                        </a:lnTo>
                        <a:lnTo>
                          <a:pt x="1805" y="56"/>
                        </a:lnTo>
                        <a:lnTo>
                          <a:pt x="1808" y="56"/>
                        </a:lnTo>
                        <a:lnTo>
                          <a:pt x="1814" y="56"/>
                        </a:lnTo>
                        <a:lnTo>
                          <a:pt x="1817" y="55"/>
                        </a:lnTo>
                        <a:lnTo>
                          <a:pt x="1822" y="55"/>
                        </a:lnTo>
                        <a:lnTo>
                          <a:pt x="1827" y="55"/>
                        </a:lnTo>
                        <a:lnTo>
                          <a:pt x="1831" y="55"/>
                        </a:lnTo>
                        <a:lnTo>
                          <a:pt x="1836" y="53"/>
                        </a:lnTo>
                        <a:lnTo>
                          <a:pt x="1840" y="53"/>
                        </a:lnTo>
                        <a:lnTo>
                          <a:pt x="1845" y="53"/>
                        </a:lnTo>
                        <a:lnTo>
                          <a:pt x="1851" y="52"/>
                        </a:lnTo>
                        <a:lnTo>
                          <a:pt x="1856" y="52"/>
                        </a:lnTo>
                        <a:lnTo>
                          <a:pt x="1859" y="51"/>
                        </a:lnTo>
                        <a:lnTo>
                          <a:pt x="1863" y="49"/>
                        </a:lnTo>
                        <a:lnTo>
                          <a:pt x="1866" y="48"/>
                        </a:lnTo>
                        <a:lnTo>
                          <a:pt x="1865" y="46"/>
                        </a:lnTo>
                        <a:lnTo>
                          <a:pt x="1863" y="46"/>
                        </a:lnTo>
                        <a:lnTo>
                          <a:pt x="1860" y="46"/>
                        </a:lnTo>
                        <a:lnTo>
                          <a:pt x="1857" y="45"/>
                        </a:lnTo>
                        <a:lnTo>
                          <a:pt x="1853" y="45"/>
                        </a:lnTo>
                        <a:lnTo>
                          <a:pt x="1848" y="45"/>
                        </a:lnTo>
                        <a:lnTo>
                          <a:pt x="1845" y="45"/>
                        </a:lnTo>
                        <a:lnTo>
                          <a:pt x="1842" y="45"/>
                        </a:lnTo>
                        <a:lnTo>
                          <a:pt x="1839" y="45"/>
                        </a:lnTo>
                        <a:lnTo>
                          <a:pt x="1836" y="45"/>
                        </a:lnTo>
                        <a:lnTo>
                          <a:pt x="1739" y="41"/>
                        </a:lnTo>
                        <a:lnTo>
                          <a:pt x="1723" y="31"/>
                        </a:lnTo>
                        <a:lnTo>
                          <a:pt x="1718" y="33"/>
                        </a:lnTo>
                        <a:lnTo>
                          <a:pt x="1713" y="33"/>
                        </a:lnTo>
                        <a:lnTo>
                          <a:pt x="1709" y="34"/>
                        </a:lnTo>
                        <a:lnTo>
                          <a:pt x="1704" y="34"/>
                        </a:lnTo>
                        <a:lnTo>
                          <a:pt x="1698" y="34"/>
                        </a:lnTo>
                        <a:lnTo>
                          <a:pt x="1689" y="34"/>
                        </a:lnTo>
                        <a:lnTo>
                          <a:pt x="1681" y="34"/>
                        </a:lnTo>
                        <a:lnTo>
                          <a:pt x="1672" y="34"/>
                        </a:lnTo>
                        <a:lnTo>
                          <a:pt x="1663" y="34"/>
                        </a:lnTo>
                        <a:lnTo>
                          <a:pt x="1651" y="34"/>
                        </a:lnTo>
                        <a:lnTo>
                          <a:pt x="1640" y="34"/>
                        </a:lnTo>
                        <a:lnTo>
                          <a:pt x="1628" y="33"/>
                        </a:lnTo>
                        <a:lnTo>
                          <a:pt x="1615" y="33"/>
                        </a:lnTo>
                        <a:lnTo>
                          <a:pt x="1602" y="31"/>
                        </a:lnTo>
                        <a:lnTo>
                          <a:pt x="1588" y="31"/>
                        </a:lnTo>
                        <a:lnTo>
                          <a:pt x="1573" y="31"/>
                        </a:lnTo>
                        <a:lnTo>
                          <a:pt x="1559" y="31"/>
                        </a:lnTo>
                        <a:lnTo>
                          <a:pt x="1542" y="30"/>
                        </a:lnTo>
                        <a:lnTo>
                          <a:pt x="1527" y="30"/>
                        </a:lnTo>
                        <a:lnTo>
                          <a:pt x="1510" y="29"/>
                        </a:lnTo>
                        <a:lnTo>
                          <a:pt x="1495" y="29"/>
                        </a:lnTo>
                        <a:lnTo>
                          <a:pt x="1476" y="27"/>
                        </a:lnTo>
                        <a:lnTo>
                          <a:pt x="1459" y="27"/>
                        </a:lnTo>
                        <a:lnTo>
                          <a:pt x="1441" y="26"/>
                        </a:lnTo>
                        <a:lnTo>
                          <a:pt x="1424" y="26"/>
                        </a:lnTo>
                        <a:lnTo>
                          <a:pt x="1406" y="25"/>
                        </a:lnTo>
                        <a:lnTo>
                          <a:pt x="1388" y="23"/>
                        </a:lnTo>
                        <a:lnTo>
                          <a:pt x="1369" y="23"/>
                        </a:lnTo>
                        <a:lnTo>
                          <a:pt x="1352" y="23"/>
                        </a:lnTo>
                        <a:lnTo>
                          <a:pt x="1334" y="20"/>
                        </a:lnTo>
                        <a:lnTo>
                          <a:pt x="1314" y="20"/>
                        </a:lnTo>
                        <a:lnTo>
                          <a:pt x="1296" y="19"/>
                        </a:lnTo>
                        <a:lnTo>
                          <a:pt x="1279" y="19"/>
                        </a:lnTo>
                        <a:lnTo>
                          <a:pt x="1259" y="16"/>
                        </a:lnTo>
                        <a:lnTo>
                          <a:pt x="1242" y="16"/>
                        </a:lnTo>
                        <a:lnTo>
                          <a:pt x="1224" y="15"/>
                        </a:lnTo>
                        <a:lnTo>
                          <a:pt x="1207" y="15"/>
                        </a:lnTo>
                        <a:lnTo>
                          <a:pt x="1189" y="14"/>
                        </a:lnTo>
                        <a:lnTo>
                          <a:pt x="1172" y="14"/>
                        </a:lnTo>
                        <a:lnTo>
                          <a:pt x="1155" y="12"/>
                        </a:lnTo>
                        <a:lnTo>
                          <a:pt x="1138" y="11"/>
                        </a:lnTo>
                        <a:lnTo>
                          <a:pt x="1121" y="9"/>
                        </a:lnTo>
                        <a:lnTo>
                          <a:pt x="1108" y="9"/>
                        </a:lnTo>
                        <a:lnTo>
                          <a:pt x="1091" y="8"/>
                        </a:lnTo>
                        <a:lnTo>
                          <a:pt x="1077" y="8"/>
                        </a:lnTo>
                        <a:lnTo>
                          <a:pt x="1063" y="7"/>
                        </a:lnTo>
                        <a:lnTo>
                          <a:pt x="1049" y="7"/>
                        </a:lnTo>
                        <a:lnTo>
                          <a:pt x="1036" y="5"/>
                        </a:lnTo>
                        <a:lnTo>
                          <a:pt x="1025" y="5"/>
                        </a:lnTo>
                        <a:lnTo>
                          <a:pt x="1013" y="4"/>
                        </a:lnTo>
                        <a:lnTo>
                          <a:pt x="1002" y="4"/>
                        </a:lnTo>
                        <a:lnTo>
                          <a:pt x="991" y="4"/>
                        </a:lnTo>
                        <a:lnTo>
                          <a:pt x="984" y="4"/>
                        </a:lnTo>
                        <a:lnTo>
                          <a:pt x="975" y="3"/>
                        </a:lnTo>
                        <a:lnTo>
                          <a:pt x="967" y="3"/>
                        </a:lnTo>
                        <a:lnTo>
                          <a:pt x="959" y="1"/>
                        </a:lnTo>
                        <a:lnTo>
                          <a:pt x="955" y="1"/>
                        </a:lnTo>
                        <a:lnTo>
                          <a:pt x="949" y="1"/>
                        </a:lnTo>
                        <a:lnTo>
                          <a:pt x="945" y="1"/>
                        </a:lnTo>
                        <a:lnTo>
                          <a:pt x="942" y="1"/>
                        </a:lnTo>
                        <a:lnTo>
                          <a:pt x="941" y="1"/>
                        </a:lnTo>
                        <a:lnTo>
                          <a:pt x="936" y="1"/>
                        </a:lnTo>
                        <a:lnTo>
                          <a:pt x="930" y="1"/>
                        </a:lnTo>
                        <a:lnTo>
                          <a:pt x="924" y="1"/>
                        </a:lnTo>
                        <a:lnTo>
                          <a:pt x="919" y="1"/>
                        </a:lnTo>
                        <a:lnTo>
                          <a:pt x="913" y="1"/>
                        </a:lnTo>
                        <a:lnTo>
                          <a:pt x="907" y="1"/>
                        </a:lnTo>
                        <a:lnTo>
                          <a:pt x="901" y="1"/>
                        </a:lnTo>
                        <a:lnTo>
                          <a:pt x="896" y="1"/>
                        </a:lnTo>
                        <a:lnTo>
                          <a:pt x="892" y="1"/>
                        </a:lnTo>
                        <a:lnTo>
                          <a:pt x="886" y="1"/>
                        </a:lnTo>
                        <a:lnTo>
                          <a:pt x="880" y="1"/>
                        </a:lnTo>
                        <a:lnTo>
                          <a:pt x="875" y="1"/>
                        </a:lnTo>
                        <a:lnTo>
                          <a:pt x="869" y="1"/>
                        </a:lnTo>
                        <a:lnTo>
                          <a:pt x="863" y="1"/>
                        </a:lnTo>
                        <a:lnTo>
                          <a:pt x="858" y="1"/>
                        </a:lnTo>
                        <a:lnTo>
                          <a:pt x="852" y="1"/>
                        </a:lnTo>
                        <a:lnTo>
                          <a:pt x="846" y="0"/>
                        </a:lnTo>
                        <a:lnTo>
                          <a:pt x="840" y="0"/>
                        </a:lnTo>
                        <a:lnTo>
                          <a:pt x="834" y="0"/>
                        </a:lnTo>
                        <a:lnTo>
                          <a:pt x="828" y="0"/>
                        </a:lnTo>
                        <a:lnTo>
                          <a:pt x="822" y="0"/>
                        </a:lnTo>
                        <a:lnTo>
                          <a:pt x="815" y="0"/>
                        </a:lnTo>
                        <a:lnTo>
                          <a:pt x="811" y="0"/>
                        </a:lnTo>
                        <a:lnTo>
                          <a:pt x="805" y="0"/>
                        </a:lnTo>
                        <a:lnTo>
                          <a:pt x="799" y="0"/>
                        </a:lnTo>
                        <a:lnTo>
                          <a:pt x="792" y="0"/>
                        </a:lnTo>
                        <a:lnTo>
                          <a:pt x="788" y="0"/>
                        </a:lnTo>
                        <a:lnTo>
                          <a:pt x="782" y="0"/>
                        </a:lnTo>
                        <a:lnTo>
                          <a:pt x="776" y="0"/>
                        </a:lnTo>
                        <a:lnTo>
                          <a:pt x="770" y="0"/>
                        </a:lnTo>
                        <a:lnTo>
                          <a:pt x="765" y="0"/>
                        </a:lnTo>
                        <a:lnTo>
                          <a:pt x="759" y="0"/>
                        </a:lnTo>
                        <a:lnTo>
                          <a:pt x="753" y="0"/>
                        </a:lnTo>
                        <a:lnTo>
                          <a:pt x="747" y="0"/>
                        </a:lnTo>
                        <a:lnTo>
                          <a:pt x="740" y="0"/>
                        </a:lnTo>
                        <a:lnTo>
                          <a:pt x="734" y="0"/>
                        </a:lnTo>
                        <a:lnTo>
                          <a:pt x="728" y="0"/>
                        </a:lnTo>
                        <a:lnTo>
                          <a:pt x="724" y="0"/>
                        </a:lnTo>
                        <a:lnTo>
                          <a:pt x="718" y="0"/>
                        </a:lnTo>
                        <a:lnTo>
                          <a:pt x="711" y="0"/>
                        </a:lnTo>
                        <a:lnTo>
                          <a:pt x="705" y="0"/>
                        </a:lnTo>
                        <a:lnTo>
                          <a:pt x="699" y="0"/>
                        </a:lnTo>
                        <a:lnTo>
                          <a:pt x="693" y="0"/>
                        </a:lnTo>
                        <a:lnTo>
                          <a:pt x="688" y="1"/>
                        </a:lnTo>
                        <a:lnTo>
                          <a:pt x="682" y="1"/>
                        </a:lnTo>
                        <a:lnTo>
                          <a:pt x="676" y="1"/>
                        </a:lnTo>
                        <a:lnTo>
                          <a:pt x="672" y="3"/>
                        </a:lnTo>
                        <a:lnTo>
                          <a:pt x="666" y="3"/>
                        </a:lnTo>
                        <a:lnTo>
                          <a:pt x="659" y="3"/>
                        </a:lnTo>
                        <a:lnTo>
                          <a:pt x="653" y="3"/>
                        </a:lnTo>
                        <a:lnTo>
                          <a:pt x="649" y="4"/>
                        </a:lnTo>
                        <a:lnTo>
                          <a:pt x="643" y="4"/>
                        </a:lnTo>
                        <a:lnTo>
                          <a:pt x="636" y="4"/>
                        </a:lnTo>
                        <a:lnTo>
                          <a:pt x="630" y="4"/>
                        </a:lnTo>
                        <a:lnTo>
                          <a:pt x="626" y="5"/>
                        </a:lnTo>
                        <a:lnTo>
                          <a:pt x="621" y="7"/>
                        </a:lnTo>
                        <a:lnTo>
                          <a:pt x="615" y="7"/>
                        </a:lnTo>
                        <a:lnTo>
                          <a:pt x="609" y="8"/>
                        </a:lnTo>
                        <a:lnTo>
                          <a:pt x="604" y="8"/>
                        </a:lnTo>
                        <a:lnTo>
                          <a:pt x="598" y="9"/>
                        </a:lnTo>
                        <a:lnTo>
                          <a:pt x="594" y="9"/>
                        </a:lnTo>
                        <a:lnTo>
                          <a:pt x="588" y="11"/>
                        </a:lnTo>
                        <a:lnTo>
                          <a:pt x="583" y="12"/>
                        </a:lnTo>
                        <a:lnTo>
                          <a:pt x="578" y="14"/>
                        </a:lnTo>
                        <a:lnTo>
                          <a:pt x="575" y="14"/>
                        </a:lnTo>
                        <a:lnTo>
                          <a:pt x="572" y="14"/>
                        </a:lnTo>
                        <a:lnTo>
                          <a:pt x="566" y="15"/>
                        </a:lnTo>
                        <a:lnTo>
                          <a:pt x="561" y="15"/>
                        </a:lnTo>
                        <a:lnTo>
                          <a:pt x="557" y="15"/>
                        </a:lnTo>
                        <a:lnTo>
                          <a:pt x="554" y="15"/>
                        </a:lnTo>
                        <a:lnTo>
                          <a:pt x="549" y="16"/>
                        </a:lnTo>
                        <a:lnTo>
                          <a:pt x="546" y="16"/>
                        </a:lnTo>
                        <a:lnTo>
                          <a:pt x="543" y="16"/>
                        </a:lnTo>
                        <a:lnTo>
                          <a:pt x="539" y="16"/>
                        </a:lnTo>
                        <a:lnTo>
                          <a:pt x="535" y="16"/>
                        </a:lnTo>
                        <a:lnTo>
                          <a:pt x="531" y="18"/>
                        </a:lnTo>
                        <a:lnTo>
                          <a:pt x="528" y="18"/>
                        </a:lnTo>
                        <a:lnTo>
                          <a:pt x="523" y="18"/>
                        </a:lnTo>
                        <a:lnTo>
                          <a:pt x="520" y="18"/>
                        </a:lnTo>
                        <a:lnTo>
                          <a:pt x="516" y="18"/>
                        </a:lnTo>
                        <a:lnTo>
                          <a:pt x="513" y="18"/>
                        </a:lnTo>
                        <a:lnTo>
                          <a:pt x="508" y="18"/>
                        </a:lnTo>
                        <a:lnTo>
                          <a:pt x="505" y="18"/>
                        </a:lnTo>
                        <a:lnTo>
                          <a:pt x="503" y="19"/>
                        </a:lnTo>
                        <a:lnTo>
                          <a:pt x="497" y="18"/>
                        </a:lnTo>
                        <a:lnTo>
                          <a:pt x="493" y="18"/>
                        </a:lnTo>
                        <a:lnTo>
                          <a:pt x="490" y="18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276"/>
                  <p:cNvSpPr/>
                  <p:nvPr/>
                </p:nvSpPr>
                <p:spPr>
                  <a:xfrm>
                    <a:off x="4401000" y="3635280"/>
                    <a:ext cx="41760" cy="1440"/>
                  </a:xfrm>
                  <a:custGeom>
                    <a:avLst/>
                    <a:gdLst>
                      <a:gd name="textAreaLeft" fmla="*/ 0 w 41760"/>
                      <a:gd name="textAreaRight" fmla="*/ 42120 w 4176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288" h="14">
                        <a:moveTo>
                          <a:pt x="286" y="0"/>
                        </a:moveTo>
                        <a:lnTo>
                          <a:pt x="280" y="0"/>
                        </a:lnTo>
                        <a:lnTo>
                          <a:pt x="274" y="0"/>
                        </a:lnTo>
                        <a:lnTo>
                          <a:pt x="268" y="0"/>
                        </a:lnTo>
                        <a:lnTo>
                          <a:pt x="263" y="0"/>
                        </a:lnTo>
                        <a:lnTo>
                          <a:pt x="257" y="0"/>
                        </a:lnTo>
                        <a:lnTo>
                          <a:pt x="251" y="0"/>
                        </a:lnTo>
                        <a:lnTo>
                          <a:pt x="245" y="0"/>
                        </a:lnTo>
                        <a:lnTo>
                          <a:pt x="240" y="0"/>
                        </a:lnTo>
                        <a:lnTo>
                          <a:pt x="233" y="0"/>
                        </a:lnTo>
                        <a:lnTo>
                          <a:pt x="228" y="0"/>
                        </a:lnTo>
                        <a:lnTo>
                          <a:pt x="222" y="0"/>
                        </a:lnTo>
                        <a:lnTo>
                          <a:pt x="216" y="0"/>
                        </a:lnTo>
                        <a:lnTo>
                          <a:pt x="210" y="0"/>
                        </a:lnTo>
                        <a:lnTo>
                          <a:pt x="205" y="2"/>
                        </a:lnTo>
                        <a:lnTo>
                          <a:pt x="199" y="2"/>
                        </a:lnTo>
                        <a:lnTo>
                          <a:pt x="193" y="2"/>
                        </a:lnTo>
                        <a:lnTo>
                          <a:pt x="187" y="2"/>
                        </a:lnTo>
                        <a:lnTo>
                          <a:pt x="181" y="2"/>
                        </a:lnTo>
                        <a:lnTo>
                          <a:pt x="174" y="3"/>
                        </a:lnTo>
                        <a:lnTo>
                          <a:pt x="170" y="3"/>
                        </a:lnTo>
                        <a:lnTo>
                          <a:pt x="164" y="3"/>
                        </a:lnTo>
                        <a:lnTo>
                          <a:pt x="158" y="3"/>
                        </a:lnTo>
                        <a:lnTo>
                          <a:pt x="152" y="3"/>
                        </a:lnTo>
                        <a:lnTo>
                          <a:pt x="145" y="4"/>
                        </a:lnTo>
                        <a:lnTo>
                          <a:pt x="139" y="4"/>
                        </a:lnTo>
                        <a:lnTo>
                          <a:pt x="135" y="4"/>
                        </a:lnTo>
                        <a:lnTo>
                          <a:pt x="127" y="4"/>
                        </a:lnTo>
                        <a:lnTo>
                          <a:pt x="122" y="6"/>
                        </a:lnTo>
                        <a:lnTo>
                          <a:pt x="116" y="6"/>
                        </a:lnTo>
                        <a:lnTo>
                          <a:pt x="110" y="6"/>
                        </a:lnTo>
                        <a:lnTo>
                          <a:pt x="104" y="6"/>
                        </a:lnTo>
                        <a:lnTo>
                          <a:pt x="100" y="6"/>
                        </a:lnTo>
                        <a:lnTo>
                          <a:pt x="31" y="8"/>
                        </a:lnTo>
                        <a:lnTo>
                          <a:pt x="11" y="11"/>
                        </a:lnTo>
                        <a:lnTo>
                          <a:pt x="3" y="11"/>
                        </a:lnTo>
                        <a:lnTo>
                          <a:pt x="2" y="11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6" y="14"/>
                        </a:lnTo>
                        <a:lnTo>
                          <a:pt x="9" y="14"/>
                        </a:lnTo>
                        <a:lnTo>
                          <a:pt x="14" y="14"/>
                        </a:lnTo>
                        <a:lnTo>
                          <a:pt x="17" y="14"/>
                        </a:lnTo>
                        <a:lnTo>
                          <a:pt x="22" y="14"/>
                        </a:lnTo>
                        <a:lnTo>
                          <a:pt x="25" y="12"/>
                        </a:lnTo>
                        <a:lnTo>
                          <a:pt x="28" y="12"/>
                        </a:lnTo>
                        <a:lnTo>
                          <a:pt x="31" y="12"/>
                        </a:lnTo>
                        <a:lnTo>
                          <a:pt x="35" y="12"/>
                        </a:lnTo>
                        <a:lnTo>
                          <a:pt x="40" y="12"/>
                        </a:lnTo>
                        <a:lnTo>
                          <a:pt x="43" y="12"/>
                        </a:lnTo>
                        <a:lnTo>
                          <a:pt x="48" y="12"/>
                        </a:lnTo>
                        <a:lnTo>
                          <a:pt x="54" y="12"/>
                        </a:lnTo>
                        <a:lnTo>
                          <a:pt x="58" y="12"/>
                        </a:lnTo>
                        <a:lnTo>
                          <a:pt x="64" y="12"/>
                        </a:lnTo>
                        <a:lnTo>
                          <a:pt x="69" y="12"/>
                        </a:lnTo>
                        <a:lnTo>
                          <a:pt x="75" y="12"/>
                        </a:lnTo>
                        <a:lnTo>
                          <a:pt x="80" y="12"/>
                        </a:lnTo>
                        <a:lnTo>
                          <a:pt x="86" y="12"/>
                        </a:lnTo>
                        <a:lnTo>
                          <a:pt x="90" y="11"/>
                        </a:lnTo>
                        <a:lnTo>
                          <a:pt x="96" y="11"/>
                        </a:lnTo>
                        <a:lnTo>
                          <a:pt x="101" y="11"/>
                        </a:lnTo>
                        <a:lnTo>
                          <a:pt x="107" y="11"/>
                        </a:lnTo>
                        <a:lnTo>
                          <a:pt x="112" y="11"/>
                        </a:lnTo>
                        <a:lnTo>
                          <a:pt x="118" y="11"/>
                        </a:lnTo>
                        <a:lnTo>
                          <a:pt x="122" y="11"/>
                        </a:lnTo>
                        <a:lnTo>
                          <a:pt x="129" y="11"/>
                        </a:lnTo>
                        <a:lnTo>
                          <a:pt x="135" y="11"/>
                        </a:lnTo>
                        <a:lnTo>
                          <a:pt x="139" y="11"/>
                        </a:lnTo>
                        <a:lnTo>
                          <a:pt x="144" y="10"/>
                        </a:lnTo>
                        <a:lnTo>
                          <a:pt x="150" y="10"/>
                        </a:lnTo>
                        <a:lnTo>
                          <a:pt x="155" y="10"/>
                        </a:lnTo>
                        <a:lnTo>
                          <a:pt x="161" y="10"/>
                        </a:lnTo>
                        <a:lnTo>
                          <a:pt x="165" y="10"/>
                        </a:lnTo>
                        <a:lnTo>
                          <a:pt x="171" y="10"/>
                        </a:lnTo>
                        <a:lnTo>
                          <a:pt x="176" y="8"/>
                        </a:lnTo>
                        <a:lnTo>
                          <a:pt x="182" y="8"/>
                        </a:lnTo>
                        <a:lnTo>
                          <a:pt x="187" y="8"/>
                        </a:lnTo>
                        <a:lnTo>
                          <a:pt x="193" y="8"/>
                        </a:lnTo>
                        <a:lnTo>
                          <a:pt x="199" y="8"/>
                        </a:lnTo>
                        <a:lnTo>
                          <a:pt x="204" y="8"/>
                        </a:lnTo>
                        <a:lnTo>
                          <a:pt x="210" y="8"/>
                        </a:lnTo>
                        <a:lnTo>
                          <a:pt x="216" y="8"/>
                        </a:lnTo>
                        <a:lnTo>
                          <a:pt x="219" y="8"/>
                        </a:lnTo>
                        <a:lnTo>
                          <a:pt x="223" y="8"/>
                        </a:lnTo>
                        <a:lnTo>
                          <a:pt x="226" y="8"/>
                        </a:lnTo>
                        <a:lnTo>
                          <a:pt x="230" y="8"/>
                        </a:lnTo>
                        <a:lnTo>
                          <a:pt x="234" y="8"/>
                        </a:lnTo>
                        <a:lnTo>
                          <a:pt x="237" y="8"/>
                        </a:lnTo>
                        <a:lnTo>
                          <a:pt x="242" y="8"/>
                        </a:lnTo>
                        <a:lnTo>
                          <a:pt x="246" y="8"/>
                        </a:lnTo>
                        <a:lnTo>
                          <a:pt x="249" y="8"/>
                        </a:lnTo>
                        <a:lnTo>
                          <a:pt x="254" y="8"/>
                        </a:lnTo>
                        <a:lnTo>
                          <a:pt x="257" y="8"/>
                        </a:lnTo>
                        <a:lnTo>
                          <a:pt x="262" y="8"/>
                        </a:lnTo>
                        <a:lnTo>
                          <a:pt x="265" y="8"/>
                        </a:lnTo>
                        <a:lnTo>
                          <a:pt x="269" y="8"/>
                        </a:lnTo>
                        <a:lnTo>
                          <a:pt x="274" y="8"/>
                        </a:lnTo>
                        <a:lnTo>
                          <a:pt x="279" y="8"/>
                        </a:lnTo>
                        <a:lnTo>
                          <a:pt x="282" y="7"/>
                        </a:lnTo>
                        <a:lnTo>
                          <a:pt x="285" y="4"/>
                        </a:lnTo>
                        <a:lnTo>
                          <a:pt x="288" y="2"/>
                        </a:lnTo>
                        <a:lnTo>
                          <a:pt x="286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Freeform 277"/>
                  <p:cNvSpPr/>
                  <p:nvPr/>
                </p:nvSpPr>
                <p:spPr>
                  <a:xfrm>
                    <a:off x="4473720" y="3640680"/>
                    <a:ext cx="35640" cy="324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248" h="25">
                        <a:moveTo>
                          <a:pt x="248" y="25"/>
                        </a:moveTo>
                        <a:lnTo>
                          <a:pt x="244" y="25"/>
                        </a:lnTo>
                        <a:lnTo>
                          <a:pt x="237" y="25"/>
                        </a:lnTo>
                        <a:lnTo>
                          <a:pt x="233" y="23"/>
                        </a:lnTo>
                        <a:lnTo>
                          <a:pt x="227" y="23"/>
                        </a:lnTo>
                        <a:lnTo>
                          <a:pt x="224" y="22"/>
                        </a:lnTo>
                        <a:lnTo>
                          <a:pt x="219" y="22"/>
                        </a:lnTo>
                        <a:lnTo>
                          <a:pt x="216" y="22"/>
                        </a:lnTo>
                        <a:lnTo>
                          <a:pt x="213" y="22"/>
                        </a:lnTo>
                        <a:lnTo>
                          <a:pt x="208" y="21"/>
                        </a:lnTo>
                        <a:lnTo>
                          <a:pt x="205" y="21"/>
                        </a:lnTo>
                        <a:lnTo>
                          <a:pt x="201" y="21"/>
                        </a:lnTo>
                        <a:lnTo>
                          <a:pt x="198" y="21"/>
                        </a:lnTo>
                        <a:lnTo>
                          <a:pt x="193" y="21"/>
                        </a:lnTo>
                        <a:lnTo>
                          <a:pt x="188" y="19"/>
                        </a:lnTo>
                        <a:lnTo>
                          <a:pt x="184" y="19"/>
                        </a:lnTo>
                        <a:lnTo>
                          <a:pt x="179" y="19"/>
                        </a:lnTo>
                        <a:lnTo>
                          <a:pt x="175" y="18"/>
                        </a:lnTo>
                        <a:lnTo>
                          <a:pt x="172" y="18"/>
                        </a:lnTo>
                        <a:lnTo>
                          <a:pt x="166" y="18"/>
                        </a:lnTo>
                        <a:lnTo>
                          <a:pt x="162" y="18"/>
                        </a:lnTo>
                        <a:lnTo>
                          <a:pt x="158" y="16"/>
                        </a:lnTo>
                        <a:lnTo>
                          <a:pt x="153" y="16"/>
                        </a:lnTo>
                        <a:lnTo>
                          <a:pt x="149" y="15"/>
                        </a:lnTo>
                        <a:lnTo>
                          <a:pt x="144" y="15"/>
                        </a:lnTo>
                        <a:lnTo>
                          <a:pt x="138" y="15"/>
                        </a:lnTo>
                        <a:lnTo>
                          <a:pt x="135" y="15"/>
                        </a:lnTo>
                        <a:lnTo>
                          <a:pt x="129" y="15"/>
                        </a:lnTo>
                        <a:lnTo>
                          <a:pt x="124" y="15"/>
                        </a:lnTo>
                        <a:lnTo>
                          <a:pt x="120" y="14"/>
                        </a:lnTo>
                        <a:lnTo>
                          <a:pt x="115" y="14"/>
                        </a:lnTo>
                        <a:lnTo>
                          <a:pt x="110" y="12"/>
                        </a:lnTo>
                        <a:lnTo>
                          <a:pt x="106" y="12"/>
                        </a:lnTo>
                        <a:lnTo>
                          <a:pt x="100" y="12"/>
                        </a:lnTo>
                        <a:lnTo>
                          <a:pt x="97" y="12"/>
                        </a:lnTo>
                        <a:lnTo>
                          <a:pt x="91" y="11"/>
                        </a:lnTo>
                        <a:lnTo>
                          <a:pt x="86" y="11"/>
                        </a:lnTo>
                        <a:lnTo>
                          <a:pt x="81" y="11"/>
                        </a:lnTo>
                        <a:lnTo>
                          <a:pt x="77" y="10"/>
                        </a:lnTo>
                        <a:lnTo>
                          <a:pt x="72" y="10"/>
                        </a:lnTo>
                        <a:lnTo>
                          <a:pt x="68" y="10"/>
                        </a:lnTo>
                        <a:lnTo>
                          <a:pt x="63" y="8"/>
                        </a:lnTo>
                        <a:lnTo>
                          <a:pt x="58" y="8"/>
                        </a:lnTo>
                        <a:lnTo>
                          <a:pt x="55" y="8"/>
                        </a:lnTo>
                        <a:lnTo>
                          <a:pt x="52" y="8"/>
                        </a:lnTo>
                        <a:lnTo>
                          <a:pt x="48" y="8"/>
                        </a:lnTo>
                        <a:lnTo>
                          <a:pt x="43" y="7"/>
                        </a:lnTo>
                        <a:lnTo>
                          <a:pt x="39" y="7"/>
                        </a:lnTo>
                        <a:lnTo>
                          <a:pt x="35" y="7"/>
                        </a:lnTo>
                        <a:lnTo>
                          <a:pt x="32" y="5"/>
                        </a:lnTo>
                        <a:lnTo>
                          <a:pt x="28" y="5"/>
                        </a:lnTo>
                        <a:lnTo>
                          <a:pt x="25" y="5"/>
                        </a:lnTo>
                        <a:lnTo>
                          <a:pt x="22" y="5"/>
                        </a:lnTo>
                        <a:lnTo>
                          <a:pt x="16" y="5"/>
                        </a:lnTo>
                        <a:lnTo>
                          <a:pt x="9" y="5"/>
                        </a:lnTo>
                        <a:lnTo>
                          <a:pt x="5" y="4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13" y="4"/>
                        </a:lnTo>
                        <a:lnTo>
                          <a:pt x="19" y="4"/>
                        </a:lnTo>
                        <a:lnTo>
                          <a:pt x="20" y="3"/>
                        </a:lnTo>
                        <a:lnTo>
                          <a:pt x="23" y="3"/>
                        </a:lnTo>
                        <a:lnTo>
                          <a:pt x="26" y="3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7" y="3"/>
                        </a:lnTo>
                        <a:lnTo>
                          <a:pt x="42" y="3"/>
                        </a:lnTo>
                        <a:lnTo>
                          <a:pt x="45" y="3"/>
                        </a:lnTo>
                        <a:lnTo>
                          <a:pt x="49" y="3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60" y="3"/>
                        </a:lnTo>
                        <a:lnTo>
                          <a:pt x="63" y="3"/>
                        </a:lnTo>
                        <a:lnTo>
                          <a:pt x="68" y="3"/>
                        </a:lnTo>
                        <a:lnTo>
                          <a:pt x="72" y="3"/>
                        </a:lnTo>
                        <a:lnTo>
                          <a:pt x="77" y="3"/>
                        </a:lnTo>
                        <a:lnTo>
                          <a:pt x="81" y="1"/>
                        </a:lnTo>
                        <a:lnTo>
                          <a:pt x="86" y="1"/>
                        </a:lnTo>
                        <a:lnTo>
                          <a:pt x="91" y="1"/>
                        </a:lnTo>
                        <a:lnTo>
                          <a:pt x="95" y="1"/>
                        </a:lnTo>
                        <a:lnTo>
                          <a:pt x="100" y="1"/>
                        </a:lnTo>
                        <a:lnTo>
                          <a:pt x="104" y="1"/>
                        </a:lnTo>
                        <a:lnTo>
                          <a:pt x="109" y="1"/>
                        </a:lnTo>
                        <a:lnTo>
                          <a:pt x="113" y="1"/>
                        </a:lnTo>
                        <a:lnTo>
                          <a:pt x="118" y="1"/>
                        </a:lnTo>
                        <a:lnTo>
                          <a:pt x="123" y="1"/>
                        </a:lnTo>
                        <a:lnTo>
                          <a:pt x="126" y="1"/>
                        </a:lnTo>
                        <a:lnTo>
                          <a:pt x="132" y="1"/>
                        </a:lnTo>
                        <a:lnTo>
                          <a:pt x="135" y="0"/>
                        </a:lnTo>
                        <a:lnTo>
                          <a:pt x="140" y="0"/>
                        </a:lnTo>
                        <a:lnTo>
                          <a:pt x="144" y="0"/>
                        </a:lnTo>
                        <a:lnTo>
                          <a:pt x="149" y="0"/>
                        </a:lnTo>
                        <a:lnTo>
                          <a:pt x="152" y="0"/>
                        </a:lnTo>
                        <a:lnTo>
                          <a:pt x="156" y="0"/>
                        </a:lnTo>
                        <a:lnTo>
                          <a:pt x="161" y="0"/>
                        </a:lnTo>
                        <a:lnTo>
                          <a:pt x="166" y="0"/>
                        </a:lnTo>
                        <a:lnTo>
                          <a:pt x="169" y="0"/>
                        </a:lnTo>
                        <a:lnTo>
                          <a:pt x="173" y="0"/>
                        </a:lnTo>
                        <a:lnTo>
                          <a:pt x="178" y="0"/>
                        </a:lnTo>
                        <a:lnTo>
                          <a:pt x="182" y="0"/>
                        </a:lnTo>
                        <a:lnTo>
                          <a:pt x="185" y="0"/>
                        </a:lnTo>
                        <a:lnTo>
                          <a:pt x="188" y="0"/>
                        </a:lnTo>
                        <a:lnTo>
                          <a:pt x="192" y="0"/>
                        </a:lnTo>
                        <a:lnTo>
                          <a:pt x="196" y="0"/>
                        </a:lnTo>
                        <a:lnTo>
                          <a:pt x="202" y="0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8" y="1"/>
                        </a:lnTo>
                        <a:lnTo>
                          <a:pt x="221" y="1"/>
                        </a:lnTo>
                        <a:lnTo>
                          <a:pt x="225" y="3"/>
                        </a:lnTo>
                        <a:lnTo>
                          <a:pt x="230" y="3"/>
                        </a:lnTo>
                        <a:lnTo>
                          <a:pt x="233" y="5"/>
                        </a:lnTo>
                        <a:lnTo>
                          <a:pt x="234" y="8"/>
                        </a:lnTo>
                        <a:lnTo>
                          <a:pt x="237" y="12"/>
                        </a:lnTo>
                        <a:lnTo>
                          <a:pt x="239" y="16"/>
                        </a:lnTo>
                        <a:lnTo>
                          <a:pt x="240" y="19"/>
                        </a:lnTo>
                        <a:lnTo>
                          <a:pt x="244" y="22"/>
                        </a:lnTo>
                        <a:lnTo>
                          <a:pt x="248" y="25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Freeform 278"/>
                  <p:cNvSpPr/>
                  <p:nvPr/>
                </p:nvSpPr>
                <p:spPr>
                  <a:xfrm>
                    <a:off x="4404600" y="3642480"/>
                    <a:ext cx="4680" cy="72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35" h="8">
                        <a:moveTo>
                          <a:pt x="8" y="1"/>
                        </a:moveTo>
                        <a:lnTo>
                          <a:pt x="0" y="8"/>
                        </a:lnTo>
                        <a:lnTo>
                          <a:pt x="3" y="7"/>
                        </a:lnTo>
                        <a:lnTo>
                          <a:pt x="6" y="6"/>
                        </a:lnTo>
                        <a:lnTo>
                          <a:pt x="9" y="6"/>
                        </a:lnTo>
                        <a:lnTo>
                          <a:pt x="12" y="6"/>
                        </a:lnTo>
                        <a:lnTo>
                          <a:pt x="18" y="6"/>
                        </a:lnTo>
                        <a:lnTo>
                          <a:pt x="23" y="6"/>
                        </a:lnTo>
                        <a:lnTo>
                          <a:pt x="28" y="6"/>
                        </a:lnTo>
                        <a:lnTo>
                          <a:pt x="32" y="6"/>
                        </a:lnTo>
                        <a:lnTo>
                          <a:pt x="35" y="4"/>
                        </a:lnTo>
                        <a:lnTo>
                          <a:pt x="34" y="3"/>
                        </a:lnTo>
                        <a:lnTo>
                          <a:pt x="31" y="3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8" y="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279"/>
                  <p:cNvSpPr/>
                  <p:nvPr/>
                </p:nvSpPr>
                <p:spPr>
                  <a:xfrm>
                    <a:off x="4402440" y="3591000"/>
                    <a:ext cx="37800" cy="180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264" h="14">
                        <a:moveTo>
                          <a:pt x="255" y="7"/>
                        </a:moveTo>
                        <a:lnTo>
                          <a:pt x="258" y="6"/>
                        </a:lnTo>
                        <a:lnTo>
                          <a:pt x="263" y="4"/>
                        </a:lnTo>
                        <a:lnTo>
                          <a:pt x="264" y="0"/>
                        </a:lnTo>
                        <a:lnTo>
                          <a:pt x="263" y="0"/>
                        </a:lnTo>
                        <a:lnTo>
                          <a:pt x="260" y="0"/>
                        </a:lnTo>
                        <a:lnTo>
                          <a:pt x="255" y="0"/>
                        </a:lnTo>
                        <a:lnTo>
                          <a:pt x="252" y="0"/>
                        </a:lnTo>
                        <a:lnTo>
                          <a:pt x="249" y="0"/>
                        </a:lnTo>
                        <a:lnTo>
                          <a:pt x="243" y="0"/>
                        </a:lnTo>
                        <a:lnTo>
                          <a:pt x="235" y="0"/>
                        </a:lnTo>
                        <a:lnTo>
                          <a:pt x="232" y="0"/>
                        </a:lnTo>
                        <a:lnTo>
                          <a:pt x="229" y="0"/>
                        </a:lnTo>
                        <a:lnTo>
                          <a:pt x="225" y="0"/>
                        </a:lnTo>
                        <a:lnTo>
                          <a:pt x="222" y="0"/>
                        </a:lnTo>
                        <a:lnTo>
                          <a:pt x="215" y="0"/>
                        </a:lnTo>
                        <a:lnTo>
                          <a:pt x="209" y="0"/>
                        </a:lnTo>
                        <a:lnTo>
                          <a:pt x="205" y="0"/>
                        </a:lnTo>
                        <a:lnTo>
                          <a:pt x="202" y="0"/>
                        </a:lnTo>
                        <a:lnTo>
                          <a:pt x="199" y="0"/>
                        </a:lnTo>
                        <a:lnTo>
                          <a:pt x="196" y="0"/>
                        </a:lnTo>
                        <a:lnTo>
                          <a:pt x="188" y="0"/>
                        </a:lnTo>
                        <a:lnTo>
                          <a:pt x="182" y="1"/>
                        </a:lnTo>
                        <a:lnTo>
                          <a:pt x="179" y="1"/>
                        </a:lnTo>
                        <a:lnTo>
                          <a:pt x="174" y="1"/>
                        </a:lnTo>
                        <a:lnTo>
                          <a:pt x="171" y="1"/>
                        </a:lnTo>
                        <a:lnTo>
                          <a:pt x="168" y="1"/>
                        </a:lnTo>
                        <a:lnTo>
                          <a:pt x="162" y="1"/>
                        </a:lnTo>
                        <a:lnTo>
                          <a:pt x="156" y="3"/>
                        </a:lnTo>
                        <a:lnTo>
                          <a:pt x="151" y="3"/>
                        </a:lnTo>
                        <a:lnTo>
                          <a:pt x="148" y="3"/>
                        </a:lnTo>
                        <a:lnTo>
                          <a:pt x="145" y="3"/>
                        </a:lnTo>
                        <a:lnTo>
                          <a:pt x="142" y="3"/>
                        </a:lnTo>
                        <a:lnTo>
                          <a:pt x="137" y="3"/>
                        </a:lnTo>
                        <a:lnTo>
                          <a:pt x="134" y="3"/>
                        </a:lnTo>
                        <a:lnTo>
                          <a:pt x="131" y="3"/>
                        </a:lnTo>
                        <a:lnTo>
                          <a:pt x="128" y="4"/>
                        </a:lnTo>
                        <a:lnTo>
                          <a:pt x="124" y="4"/>
                        </a:lnTo>
                        <a:lnTo>
                          <a:pt x="121" y="4"/>
                        </a:lnTo>
                        <a:lnTo>
                          <a:pt x="118" y="4"/>
                        </a:lnTo>
                        <a:lnTo>
                          <a:pt x="114" y="4"/>
                        </a:lnTo>
                        <a:lnTo>
                          <a:pt x="107" y="4"/>
                        </a:lnTo>
                        <a:lnTo>
                          <a:pt x="101" y="4"/>
                        </a:lnTo>
                        <a:lnTo>
                          <a:pt x="98" y="4"/>
                        </a:lnTo>
                        <a:lnTo>
                          <a:pt x="95" y="4"/>
                        </a:lnTo>
                        <a:lnTo>
                          <a:pt x="90" y="4"/>
                        </a:lnTo>
                        <a:lnTo>
                          <a:pt x="87" y="4"/>
                        </a:lnTo>
                        <a:lnTo>
                          <a:pt x="81" y="6"/>
                        </a:lnTo>
                        <a:lnTo>
                          <a:pt x="75" y="6"/>
                        </a:lnTo>
                        <a:lnTo>
                          <a:pt x="67" y="6"/>
                        </a:lnTo>
                        <a:lnTo>
                          <a:pt x="61" y="6"/>
                        </a:lnTo>
                        <a:lnTo>
                          <a:pt x="53" y="7"/>
                        </a:lnTo>
                        <a:lnTo>
                          <a:pt x="47" y="7"/>
                        </a:lnTo>
                        <a:lnTo>
                          <a:pt x="14" y="11"/>
                        </a:lnTo>
                        <a:lnTo>
                          <a:pt x="3" y="11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2"/>
                        </a:lnTo>
                        <a:lnTo>
                          <a:pt x="3" y="12"/>
                        </a:lnTo>
                        <a:lnTo>
                          <a:pt x="6" y="12"/>
                        </a:lnTo>
                        <a:lnTo>
                          <a:pt x="10" y="12"/>
                        </a:lnTo>
                        <a:lnTo>
                          <a:pt x="17" y="12"/>
                        </a:lnTo>
                        <a:lnTo>
                          <a:pt x="23" y="12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3" y="12"/>
                        </a:lnTo>
                        <a:lnTo>
                          <a:pt x="40" y="12"/>
                        </a:lnTo>
                        <a:lnTo>
                          <a:pt x="43" y="12"/>
                        </a:lnTo>
                        <a:lnTo>
                          <a:pt x="47" y="12"/>
                        </a:lnTo>
                        <a:lnTo>
                          <a:pt x="52" y="12"/>
                        </a:lnTo>
                        <a:lnTo>
                          <a:pt x="58" y="12"/>
                        </a:lnTo>
                        <a:lnTo>
                          <a:pt x="61" y="11"/>
                        </a:lnTo>
                        <a:lnTo>
                          <a:pt x="67" y="11"/>
                        </a:lnTo>
                        <a:lnTo>
                          <a:pt x="72" y="11"/>
                        </a:lnTo>
                        <a:lnTo>
                          <a:pt x="78" y="11"/>
                        </a:lnTo>
                        <a:lnTo>
                          <a:pt x="82" y="11"/>
                        </a:lnTo>
                        <a:lnTo>
                          <a:pt x="88" y="11"/>
                        </a:lnTo>
                        <a:lnTo>
                          <a:pt x="95" y="11"/>
                        </a:lnTo>
                        <a:lnTo>
                          <a:pt x="99" y="11"/>
                        </a:lnTo>
                        <a:lnTo>
                          <a:pt x="105" y="11"/>
                        </a:lnTo>
                        <a:lnTo>
                          <a:pt x="111" y="11"/>
                        </a:lnTo>
                        <a:lnTo>
                          <a:pt x="118" y="11"/>
                        </a:lnTo>
                        <a:lnTo>
                          <a:pt x="124" y="11"/>
                        </a:lnTo>
                        <a:lnTo>
                          <a:pt x="130" y="10"/>
                        </a:lnTo>
                        <a:lnTo>
                          <a:pt x="134" y="10"/>
                        </a:lnTo>
                        <a:lnTo>
                          <a:pt x="140" y="10"/>
                        </a:lnTo>
                        <a:lnTo>
                          <a:pt x="147" y="10"/>
                        </a:lnTo>
                        <a:lnTo>
                          <a:pt x="151" y="10"/>
                        </a:lnTo>
                        <a:lnTo>
                          <a:pt x="157" y="10"/>
                        </a:lnTo>
                        <a:lnTo>
                          <a:pt x="163" y="10"/>
                        </a:lnTo>
                        <a:lnTo>
                          <a:pt x="168" y="10"/>
                        </a:lnTo>
                        <a:lnTo>
                          <a:pt x="174" y="10"/>
                        </a:lnTo>
                        <a:lnTo>
                          <a:pt x="179" y="10"/>
                        </a:lnTo>
                        <a:lnTo>
                          <a:pt x="185" y="8"/>
                        </a:lnTo>
                        <a:lnTo>
                          <a:pt x="189" y="8"/>
                        </a:lnTo>
                        <a:lnTo>
                          <a:pt x="194" y="8"/>
                        </a:lnTo>
                        <a:lnTo>
                          <a:pt x="200" y="8"/>
                        </a:lnTo>
                        <a:lnTo>
                          <a:pt x="205" y="8"/>
                        </a:lnTo>
                        <a:lnTo>
                          <a:pt x="209" y="8"/>
                        </a:lnTo>
                        <a:lnTo>
                          <a:pt x="214" y="8"/>
                        </a:lnTo>
                        <a:lnTo>
                          <a:pt x="218" y="8"/>
                        </a:lnTo>
                        <a:lnTo>
                          <a:pt x="222" y="8"/>
                        </a:lnTo>
                        <a:lnTo>
                          <a:pt x="226" y="8"/>
                        </a:lnTo>
                        <a:lnTo>
                          <a:pt x="229" y="7"/>
                        </a:lnTo>
                        <a:lnTo>
                          <a:pt x="232" y="7"/>
                        </a:lnTo>
                        <a:lnTo>
                          <a:pt x="235" y="7"/>
                        </a:lnTo>
                        <a:lnTo>
                          <a:pt x="240" y="7"/>
                        </a:lnTo>
                        <a:lnTo>
                          <a:pt x="245" y="7"/>
                        </a:lnTo>
                        <a:lnTo>
                          <a:pt x="249" y="7"/>
                        </a:lnTo>
                        <a:lnTo>
                          <a:pt x="254" y="7"/>
                        </a:lnTo>
                        <a:lnTo>
                          <a:pt x="255" y="7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9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0" name="Line 280"/>
                <p:cNvSpPr/>
                <p:nvPr/>
              </p:nvSpPr>
              <p:spPr>
                <a:xfrm flipH="1">
                  <a:off x="3997800" y="3271680"/>
                  <a:ext cx="131040" cy="184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81"/>
                <p:cNvSpPr/>
                <p:nvPr/>
              </p:nvSpPr>
              <p:spPr>
                <a:xfrm>
                  <a:off x="4278240" y="3271680"/>
                  <a:ext cx="105840" cy="184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82"/>
                <p:cNvSpPr/>
                <p:nvPr/>
              </p:nvSpPr>
              <p:spPr>
                <a:xfrm flipH="1">
                  <a:off x="4029480" y="3566880"/>
                  <a:ext cx="298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283"/>
          <p:cNvGrpSpPr/>
          <p:nvPr/>
        </p:nvGrpSpPr>
        <p:grpSpPr>
          <a:xfrm>
            <a:off x="907920" y="4040280"/>
            <a:ext cx="966960" cy="893880"/>
            <a:chOff x="907920" y="4040280"/>
            <a:chExt cx="966960" cy="893880"/>
          </a:xfrm>
        </p:grpSpPr>
        <p:sp>
          <p:nvSpPr>
            <p:cNvPr id="614" name="Rectangle 284"/>
            <p:cNvSpPr/>
            <p:nvPr/>
          </p:nvSpPr>
          <p:spPr>
            <a:xfrm>
              <a:off x="907920" y="468792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92929"/>
                  </a:solidFill>
                  <a:latin typeface="Futura Bk BT"/>
                </a:rPr>
                <a:t>Regulators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615" name="Group 285"/>
            <p:cNvGrpSpPr/>
            <p:nvPr/>
          </p:nvGrpSpPr>
          <p:grpSpPr>
            <a:xfrm>
              <a:off x="991800" y="4040280"/>
              <a:ext cx="746280" cy="672480"/>
              <a:chOff x="991800" y="4040280"/>
              <a:chExt cx="746280" cy="672480"/>
            </a:xfrm>
          </p:grpSpPr>
          <p:sp>
            <p:nvSpPr>
              <p:cNvPr id="616" name="AutoShape 286"/>
              <p:cNvSpPr/>
              <p:nvPr/>
            </p:nvSpPr>
            <p:spPr>
              <a:xfrm>
                <a:off x="991800" y="4040280"/>
                <a:ext cx="746280" cy="672480"/>
              </a:xfrm>
              <a:prstGeom prst="roundRect">
                <a:avLst>
                  <a:gd name="adj" fmla="val 16667"/>
                </a:avLst>
              </a:prstGeom>
              <a:solidFill>
                <a:srgbClr val="021628">
                  <a:alpha val="7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617" name="Group 287"/>
              <p:cNvGrpSpPr/>
              <p:nvPr/>
            </p:nvGrpSpPr>
            <p:grpSpPr>
              <a:xfrm>
                <a:off x="1041480" y="4140000"/>
                <a:ext cx="639000" cy="460080"/>
                <a:chOff x="1041480" y="4140000"/>
                <a:chExt cx="639000" cy="460080"/>
              </a:xfrm>
            </p:grpSpPr>
            <p:sp>
              <p:nvSpPr>
                <p:cNvPr id="618" name="Freeform 288"/>
                <p:cNvSpPr/>
                <p:nvPr/>
              </p:nvSpPr>
              <p:spPr>
                <a:xfrm>
                  <a:off x="1378440" y="4346280"/>
                  <a:ext cx="290880" cy="88560"/>
                </a:xfrm>
                <a:custGeom>
                  <a:avLst/>
                  <a:gdLst>
                    <a:gd name="textAreaLeft" fmla="*/ 0 w 290880"/>
                    <a:gd name="textAreaRight" fmla="*/ 291240 w 29088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191" h="45">
                      <a:moveTo>
                        <a:pt x="31" y="40"/>
                      </a:moveTo>
                      <a:lnTo>
                        <a:pt x="28" y="39"/>
                      </a:lnTo>
                      <a:lnTo>
                        <a:pt x="24" y="37"/>
                      </a:lnTo>
                      <a:lnTo>
                        <a:pt x="19" y="35"/>
                      </a:lnTo>
                      <a:lnTo>
                        <a:pt x="13" y="32"/>
                      </a:lnTo>
                      <a:lnTo>
                        <a:pt x="8" y="29"/>
                      </a:lnTo>
                      <a:lnTo>
                        <a:pt x="3" y="26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7" y="24"/>
                      </a:lnTo>
                      <a:lnTo>
                        <a:pt x="11" y="25"/>
                      </a:lnTo>
                      <a:lnTo>
                        <a:pt x="15" y="26"/>
                      </a:lnTo>
                      <a:lnTo>
                        <a:pt x="19" y="27"/>
                      </a:lnTo>
                      <a:lnTo>
                        <a:pt x="24" y="28"/>
                      </a:lnTo>
                      <a:lnTo>
                        <a:pt x="29" y="29"/>
                      </a:lnTo>
                      <a:lnTo>
                        <a:pt x="34" y="30"/>
                      </a:lnTo>
                      <a:lnTo>
                        <a:pt x="40" y="31"/>
                      </a:lnTo>
                      <a:lnTo>
                        <a:pt x="46" y="32"/>
                      </a:lnTo>
                      <a:lnTo>
                        <a:pt x="52" y="33"/>
                      </a:lnTo>
                      <a:lnTo>
                        <a:pt x="59" y="34"/>
                      </a:lnTo>
                      <a:lnTo>
                        <a:pt x="66" y="34"/>
                      </a:lnTo>
                      <a:lnTo>
                        <a:pt x="73" y="35"/>
                      </a:lnTo>
                      <a:lnTo>
                        <a:pt x="80" y="35"/>
                      </a:lnTo>
                      <a:lnTo>
                        <a:pt x="87" y="35"/>
                      </a:lnTo>
                      <a:lnTo>
                        <a:pt x="94" y="35"/>
                      </a:lnTo>
                      <a:lnTo>
                        <a:pt x="101" y="35"/>
                      </a:lnTo>
                      <a:lnTo>
                        <a:pt x="109" y="34"/>
                      </a:lnTo>
                      <a:lnTo>
                        <a:pt x="116" y="33"/>
                      </a:lnTo>
                      <a:lnTo>
                        <a:pt x="123" y="32"/>
                      </a:lnTo>
                      <a:lnTo>
                        <a:pt x="130" y="31"/>
                      </a:lnTo>
                      <a:lnTo>
                        <a:pt x="138" y="29"/>
                      </a:lnTo>
                      <a:lnTo>
                        <a:pt x="144" y="27"/>
                      </a:lnTo>
                      <a:lnTo>
                        <a:pt x="151" y="24"/>
                      </a:lnTo>
                      <a:lnTo>
                        <a:pt x="158" y="21"/>
                      </a:lnTo>
                      <a:lnTo>
                        <a:pt x="164" y="18"/>
                      </a:lnTo>
                      <a:lnTo>
                        <a:pt x="171" y="14"/>
                      </a:lnTo>
                      <a:lnTo>
                        <a:pt x="177" y="10"/>
                      </a:lnTo>
                      <a:lnTo>
                        <a:pt x="182" y="5"/>
                      </a:lnTo>
                      <a:lnTo>
                        <a:pt x="188" y="0"/>
                      </a:lnTo>
                      <a:lnTo>
                        <a:pt x="188" y="1"/>
                      </a:lnTo>
                      <a:lnTo>
                        <a:pt x="189" y="1"/>
                      </a:lnTo>
                      <a:lnTo>
                        <a:pt x="190" y="2"/>
                      </a:lnTo>
                      <a:lnTo>
                        <a:pt x="191" y="2"/>
                      </a:lnTo>
                      <a:lnTo>
                        <a:pt x="188" y="7"/>
                      </a:lnTo>
                      <a:lnTo>
                        <a:pt x="185" y="11"/>
                      </a:lnTo>
                      <a:lnTo>
                        <a:pt x="181" y="14"/>
                      </a:lnTo>
                      <a:lnTo>
                        <a:pt x="177" y="18"/>
                      </a:lnTo>
                      <a:lnTo>
                        <a:pt x="173" y="21"/>
                      </a:lnTo>
                      <a:lnTo>
                        <a:pt x="168" y="24"/>
                      </a:lnTo>
                      <a:lnTo>
                        <a:pt x="163" y="27"/>
                      </a:lnTo>
                      <a:lnTo>
                        <a:pt x="157" y="30"/>
                      </a:lnTo>
                      <a:lnTo>
                        <a:pt x="151" y="32"/>
                      </a:lnTo>
                      <a:lnTo>
                        <a:pt x="145" y="34"/>
                      </a:lnTo>
                      <a:lnTo>
                        <a:pt x="139" y="36"/>
                      </a:lnTo>
                      <a:lnTo>
                        <a:pt x="133" y="37"/>
                      </a:lnTo>
                      <a:lnTo>
                        <a:pt x="127" y="39"/>
                      </a:lnTo>
                      <a:lnTo>
                        <a:pt x="120" y="40"/>
                      </a:lnTo>
                      <a:lnTo>
                        <a:pt x="114" y="41"/>
                      </a:lnTo>
                      <a:lnTo>
                        <a:pt x="107" y="42"/>
                      </a:lnTo>
                      <a:lnTo>
                        <a:pt x="101" y="43"/>
                      </a:lnTo>
                      <a:lnTo>
                        <a:pt x="95" y="44"/>
                      </a:lnTo>
                      <a:lnTo>
                        <a:pt x="88" y="44"/>
                      </a:lnTo>
                      <a:lnTo>
                        <a:pt x="82" y="44"/>
                      </a:lnTo>
                      <a:lnTo>
                        <a:pt x="76" y="44"/>
                      </a:lnTo>
                      <a:lnTo>
                        <a:pt x="70" y="45"/>
                      </a:lnTo>
                      <a:lnTo>
                        <a:pt x="65" y="44"/>
                      </a:lnTo>
                      <a:lnTo>
                        <a:pt x="59" y="44"/>
                      </a:lnTo>
                      <a:lnTo>
                        <a:pt x="54" y="44"/>
                      </a:lnTo>
                      <a:lnTo>
                        <a:pt x="50" y="44"/>
                      </a:lnTo>
                      <a:lnTo>
                        <a:pt x="46" y="43"/>
                      </a:lnTo>
                      <a:lnTo>
                        <a:pt x="41" y="43"/>
                      </a:lnTo>
                      <a:lnTo>
                        <a:pt x="38" y="42"/>
                      </a:lnTo>
                      <a:lnTo>
                        <a:pt x="35" y="41"/>
                      </a:lnTo>
                      <a:lnTo>
                        <a:pt x="32" y="41"/>
                      </a:lnTo>
                      <a:lnTo>
                        <a:pt x="3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289"/>
                <p:cNvSpPr/>
                <p:nvPr/>
              </p:nvSpPr>
              <p:spPr>
                <a:xfrm>
                  <a:off x="1347840" y="4140000"/>
                  <a:ext cx="332640" cy="218880"/>
                </a:xfrm>
                <a:custGeom>
                  <a:avLst/>
                  <a:gdLst>
                    <a:gd name="textAreaLeft" fmla="*/ 0 w 332640"/>
                    <a:gd name="textAreaRight" fmla="*/ 333000 w 3326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218" h="108">
                      <a:moveTo>
                        <a:pt x="24" y="94"/>
                      </a:moveTo>
                      <a:lnTo>
                        <a:pt x="19" y="91"/>
                      </a:lnTo>
                      <a:lnTo>
                        <a:pt x="14" y="88"/>
                      </a:lnTo>
                      <a:lnTo>
                        <a:pt x="11" y="85"/>
                      </a:lnTo>
                      <a:lnTo>
                        <a:pt x="9" y="81"/>
                      </a:lnTo>
                      <a:lnTo>
                        <a:pt x="7" y="77"/>
                      </a:lnTo>
                      <a:lnTo>
                        <a:pt x="6" y="73"/>
                      </a:lnTo>
                      <a:lnTo>
                        <a:pt x="5" y="68"/>
                      </a:lnTo>
                      <a:lnTo>
                        <a:pt x="4" y="62"/>
                      </a:lnTo>
                      <a:lnTo>
                        <a:pt x="6" y="67"/>
                      </a:lnTo>
                      <a:lnTo>
                        <a:pt x="7" y="70"/>
                      </a:lnTo>
                      <a:lnTo>
                        <a:pt x="9" y="73"/>
                      </a:lnTo>
                      <a:lnTo>
                        <a:pt x="11" y="76"/>
                      </a:lnTo>
                      <a:lnTo>
                        <a:pt x="13" y="78"/>
                      </a:lnTo>
                      <a:lnTo>
                        <a:pt x="16" y="79"/>
                      </a:lnTo>
                      <a:lnTo>
                        <a:pt x="19" y="81"/>
                      </a:lnTo>
                      <a:lnTo>
                        <a:pt x="21" y="83"/>
                      </a:lnTo>
                      <a:lnTo>
                        <a:pt x="30" y="87"/>
                      </a:lnTo>
                      <a:lnTo>
                        <a:pt x="40" y="89"/>
                      </a:lnTo>
                      <a:lnTo>
                        <a:pt x="49" y="91"/>
                      </a:lnTo>
                      <a:lnTo>
                        <a:pt x="58" y="93"/>
                      </a:lnTo>
                      <a:lnTo>
                        <a:pt x="68" y="94"/>
                      </a:lnTo>
                      <a:lnTo>
                        <a:pt x="78" y="95"/>
                      </a:lnTo>
                      <a:lnTo>
                        <a:pt x="87" y="95"/>
                      </a:lnTo>
                      <a:lnTo>
                        <a:pt x="96" y="94"/>
                      </a:lnTo>
                      <a:lnTo>
                        <a:pt x="105" y="94"/>
                      </a:lnTo>
                      <a:lnTo>
                        <a:pt x="114" y="93"/>
                      </a:lnTo>
                      <a:lnTo>
                        <a:pt x="123" y="92"/>
                      </a:lnTo>
                      <a:lnTo>
                        <a:pt x="132" y="91"/>
                      </a:lnTo>
                      <a:lnTo>
                        <a:pt x="140" y="89"/>
                      </a:lnTo>
                      <a:lnTo>
                        <a:pt x="147" y="87"/>
                      </a:lnTo>
                      <a:lnTo>
                        <a:pt x="154" y="86"/>
                      </a:lnTo>
                      <a:lnTo>
                        <a:pt x="161" y="84"/>
                      </a:lnTo>
                      <a:lnTo>
                        <a:pt x="171" y="80"/>
                      </a:lnTo>
                      <a:lnTo>
                        <a:pt x="181" y="75"/>
                      </a:lnTo>
                      <a:lnTo>
                        <a:pt x="188" y="71"/>
                      </a:lnTo>
                      <a:lnTo>
                        <a:pt x="195" y="66"/>
                      </a:lnTo>
                      <a:lnTo>
                        <a:pt x="200" y="61"/>
                      </a:lnTo>
                      <a:lnTo>
                        <a:pt x="203" y="56"/>
                      </a:lnTo>
                      <a:lnTo>
                        <a:pt x="205" y="50"/>
                      </a:lnTo>
                      <a:lnTo>
                        <a:pt x="205" y="45"/>
                      </a:lnTo>
                      <a:lnTo>
                        <a:pt x="204" y="40"/>
                      </a:lnTo>
                      <a:lnTo>
                        <a:pt x="202" y="35"/>
                      </a:lnTo>
                      <a:lnTo>
                        <a:pt x="198" y="30"/>
                      </a:lnTo>
                      <a:lnTo>
                        <a:pt x="192" y="26"/>
                      </a:lnTo>
                      <a:lnTo>
                        <a:pt x="185" y="21"/>
                      </a:lnTo>
                      <a:lnTo>
                        <a:pt x="176" y="17"/>
                      </a:lnTo>
                      <a:lnTo>
                        <a:pt x="166" y="13"/>
                      </a:lnTo>
                      <a:lnTo>
                        <a:pt x="154" y="10"/>
                      </a:lnTo>
                      <a:lnTo>
                        <a:pt x="144" y="10"/>
                      </a:lnTo>
                      <a:lnTo>
                        <a:pt x="135" y="10"/>
                      </a:lnTo>
                      <a:lnTo>
                        <a:pt x="126" y="10"/>
                      </a:lnTo>
                      <a:lnTo>
                        <a:pt x="116" y="10"/>
                      </a:lnTo>
                      <a:lnTo>
                        <a:pt x="107" y="10"/>
                      </a:lnTo>
                      <a:lnTo>
                        <a:pt x="98" y="10"/>
                      </a:lnTo>
                      <a:lnTo>
                        <a:pt x="89" y="11"/>
                      </a:lnTo>
                      <a:lnTo>
                        <a:pt x="81" y="12"/>
                      </a:lnTo>
                      <a:lnTo>
                        <a:pt x="72" y="14"/>
                      </a:lnTo>
                      <a:lnTo>
                        <a:pt x="63" y="16"/>
                      </a:lnTo>
                      <a:lnTo>
                        <a:pt x="55" y="18"/>
                      </a:lnTo>
                      <a:lnTo>
                        <a:pt x="47" y="22"/>
                      </a:lnTo>
                      <a:lnTo>
                        <a:pt x="38" y="25"/>
                      </a:lnTo>
                      <a:lnTo>
                        <a:pt x="30" y="30"/>
                      </a:lnTo>
                      <a:lnTo>
                        <a:pt x="22" y="35"/>
                      </a:lnTo>
                      <a:lnTo>
                        <a:pt x="14" y="41"/>
                      </a:lnTo>
                      <a:lnTo>
                        <a:pt x="13" y="42"/>
                      </a:lnTo>
                      <a:lnTo>
                        <a:pt x="11" y="43"/>
                      </a:lnTo>
                      <a:lnTo>
                        <a:pt x="9" y="44"/>
                      </a:lnTo>
                      <a:lnTo>
                        <a:pt x="6" y="46"/>
                      </a:lnTo>
                      <a:lnTo>
                        <a:pt x="4" y="47"/>
                      </a:lnTo>
                      <a:lnTo>
                        <a:pt x="2" y="48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4" y="43"/>
                      </a:lnTo>
                      <a:lnTo>
                        <a:pt x="9" y="36"/>
                      </a:lnTo>
                      <a:lnTo>
                        <a:pt x="15" y="31"/>
                      </a:lnTo>
                      <a:lnTo>
                        <a:pt x="22" y="25"/>
                      </a:lnTo>
                      <a:lnTo>
                        <a:pt x="30" y="21"/>
                      </a:lnTo>
                      <a:lnTo>
                        <a:pt x="39" y="16"/>
                      </a:lnTo>
                      <a:lnTo>
                        <a:pt x="48" y="13"/>
                      </a:lnTo>
                      <a:lnTo>
                        <a:pt x="58" y="10"/>
                      </a:lnTo>
                      <a:lnTo>
                        <a:pt x="68" y="7"/>
                      </a:lnTo>
                      <a:lnTo>
                        <a:pt x="78" y="4"/>
                      </a:lnTo>
                      <a:lnTo>
                        <a:pt x="88" y="2"/>
                      </a:lnTo>
                      <a:lnTo>
                        <a:pt x="98" y="1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6" y="0"/>
                      </a:lnTo>
                      <a:lnTo>
                        <a:pt x="135" y="0"/>
                      </a:lnTo>
                      <a:lnTo>
                        <a:pt x="144" y="0"/>
                      </a:lnTo>
                      <a:lnTo>
                        <a:pt x="153" y="2"/>
                      </a:lnTo>
                      <a:lnTo>
                        <a:pt x="162" y="3"/>
                      </a:lnTo>
                      <a:lnTo>
                        <a:pt x="170" y="5"/>
                      </a:lnTo>
                      <a:lnTo>
                        <a:pt x="177" y="8"/>
                      </a:lnTo>
                      <a:lnTo>
                        <a:pt x="183" y="11"/>
                      </a:lnTo>
                      <a:lnTo>
                        <a:pt x="189" y="14"/>
                      </a:lnTo>
                      <a:lnTo>
                        <a:pt x="195" y="17"/>
                      </a:lnTo>
                      <a:lnTo>
                        <a:pt x="199" y="20"/>
                      </a:lnTo>
                      <a:lnTo>
                        <a:pt x="204" y="24"/>
                      </a:lnTo>
                      <a:lnTo>
                        <a:pt x="207" y="27"/>
                      </a:lnTo>
                      <a:lnTo>
                        <a:pt x="210" y="30"/>
                      </a:lnTo>
                      <a:lnTo>
                        <a:pt x="213" y="33"/>
                      </a:lnTo>
                      <a:lnTo>
                        <a:pt x="215" y="36"/>
                      </a:lnTo>
                      <a:lnTo>
                        <a:pt x="217" y="39"/>
                      </a:lnTo>
                      <a:lnTo>
                        <a:pt x="218" y="41"/>
                      </a:lnTo>
                      <a:lnTo>
                        <a:pt x="218" y="52"/>
                      </a:lnTo>
                      <a:lnTo>
                        <a:pt x="218" y="68"/>
                      </a:lnTo>
                      <a:lnTo>
                        <a:pt x="217" y="84"/>
                      </a:lnTo>
                      <a:lnTo>
                        <a:pt x="213" y="98"/>
                      </a:lnTo>
                      <a:lnTo>
                        <a:pt x="210" y="90"/>
                      </a:lnTo>
                      <a:lnTo>
                        <a:pt x="209" y="81"/>
                      </a:lnTo>
                      <a:lnTo>
                        <a:pt x="208" y="74"/>
                      </a:lnTo>
                      <a:lnTo>
                        <a:pt x="208" y="68"/>
                      </a:lnTo>
                      <a:lnTo>
                        <a:pt x="206" y="71"/>
                      </a:lnTo>
                      <a:lnTo>
                        <a:pt x="203" y="74"/>
                      </a:lnTo>
                      <a:lnTo>
                        <a:pt x="200" y="77"/>
                      </a:lnTo>
                      <a:lnTo>
                        <a:pt x="196" y="80"/>
                      </a:lnTo>
                      <a:lnTo>
                        <a:pt x="192" y="83"/>
                      </a:lnTo>
                      <a:lnTo>
                        <a:pt x="187" y="86"/>
                      </a:lnTo>
                      <a:lnTo>
                        <a:pt x="183" y="88"/>
                      </a:lnTo>
                      <a:lnTo>
                        <a:pt x="177" y="91"/>
                      </a:lnTo>
                      <a:lnTo>
                        <a:pt x="171" y="93"/>
                      </a:lnTo>
                      <a:lnTo>
                        <a:pt x="166" y="95"/>
                      </a:lnTo>
                      <a:lnTo>
                        <a:pt x="159" y="97"/>
                      </a:lnTo>
                      <a:lnTo>
                        <a:pt x="153" y="99"/>
                      </a:lnTo>
                      <a:lnTo>
                        <a:pt x="146" y="101"/>
                      </a:lnTo>
                      <a:lnTo>
                        <a:pt x="139" y="102"/>
                      </a:lnTo>
                      <a:lnTo>
                        <a:pt x="132" y="104"/>
                      </a:lnTo>
                      <a:lnTo>
                        <a:pt x="125" y="105"/>
                      </a:lnTo>
                      <a:lnTo>
                        <a:pt x="118" y="106"/>
                      </a:lnTo>
                      <a:lnTo>
                        <a:pt x="110" y="107"/>
                      </a:lnTo>
                      <a:lnTo>
                        <a:pt x="103" y="107"/>
                      </a:lnTo>
                      <a:lnTo>
                        <a:pt x="96" y="108"/>
                      </a:lnTo>
                      <a:lnTo>
                        <a:pt x="89" y="108"/>
                      </a:lnTo>
                      <a:lnTo>
                        <a:pt x="82" y="108"/>
                      </a:lnTo>
                      <a:lnTo>
                        <a:pt x="75" y="108"/>
                      </a:lnTo>
                      <a:lnTo>
                        <a:pt x="68" y="107"/>
                      </a:lnTo>
                      <a:lnTo>
                        <a:pt x="61" y="107"/>
                      </a:lnTo>
                      <a:lnTo>
                        <a:pt x="55" y="105"/>
                      </a:lnTo>
                      <a:lnTo>
                        <a:pt x="49" y="104"/>
                      </a:lnTo>
                      <a:lnTo>
                        <a:pt x="43" y="103"/>
                      </a:lnTo>
                      <a:lnTo>
                        <a:pt x="38" y="101"/>
                      </a:lnTo>
                      <a:lnTo>
                        <a:pt x="33" y="99"/>
                      </a:lnTo>
                      <a:lnTo>
                        <a:pt x="28" y="97"/>
                      </a:lnTo>
                      <a:lnTo>
                        <a:pt x="24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620" name="Group 290"/>
                <p:cNvGrpSpPr/>
                <p:nvPr/>
              </p:nvGrpSpPr>
              <p:grpSpPr>
                <a:xfrm>
                  <a:off x="1041480" y="4351320"/>
                  <a:ext cx="351000" cy="248760"/>
                  <a:chOff x="1041480" y="4351320"/>
                  <a:chExt cx="351000" cy="248760"/>
                </a:xfrm>
              </p:grpSpPr>
              <p:sp>
                <p:nvSpPr>
                  <p:cNvPr id="621" name="Freeform 291"/>
                  <p:cNvSpPr/>
                  <p:nvPr/>
                </p:nvSpPr>
                <p:spPr>
                  <a:xfrm>
                    <a:off x="1189440" y="4351320"/>
                    <a:ext cx="203040" cy="182520"/>
                  </a:xfrm>
                  <a:custGeom>
                    <a:avLst/>
                    <a:gdLst>
                      <a:gd name="textAreaLeft" fmla="*/ 0 w 203040"/>
                      <a:gd name="textAreaRight" fmla="*/ 203400 w 20304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133" h="90">
                        <a:moveTo>
                          <a:pt x="0" y="79"/>
                        </a:moveTo>
                        <a:lnTo>
                          <a:pt x="0" y="90"/>
                        </a:lnTo>
                        <a:lnTo>
                          <a:pt x="7" y="86"/>
                        </a:lnTo>
                        <a:lnTo>
                          <a:pt x="15" y="82"/>
                        </a:lnTo>
                        <a:lnTo>
                          <a:pt x="23" y="79"/>
                        </a:lnTo>
                        <a:lnTo>
                          <a:pt x="30" y="75"/>
                        </a:lnTo>
                        <a:lnTo>
                          <a:pt x="38" y="71"/>
                        </a:lnTo>
                        <a:lnTo>
                          <a:pt x="46" y="66"/>
                        </a:lnTo>
                        <a:lnTo>
                          <a:pt x="54" y="62"/>
                        </a:lnTo>
                        <a:lnTo>
                          <a:pt x="61" y="58"/>
                        </a:lnTo>
                        <a:lnTo>
                          <a:pt x="69" y="54"/>
                        </a:lnTo>
                        <a:lnTo>
                          <a:pt x="77" y="50"/>
                        </a:lnTo>
                        <a:lnTo>
                          <a:pt x="84" y="45"/>
                        </a:lnTo>
                        <a:lnTo>
                          <a:pt x="91" y="41"/>
                        </a:lnTo>
                        <a:lnTo>
                          <a:pt x="98" y="37"/>
                        </a:lnTo>
                        <a:lnTo>
                          <a:pt x="105" y="32"/>
                        </a:lnTo>
                        <a:lnTo>
                          <a:pt x="112" y="28"/>
                        </a:lnTo>
                        <a:lnTo>
                          <a:pt x="118" y="23"/>
                        </a:lnTo>
                        <a:lnTo>
                          <a:pt x="119" y="22"/>
                        </a:lnTo>
                        <a:lnTo>
                          <a:pt x="120" y="20"/>
                        </a:lnTo>
                        <a:lnTo>
                          <a:pt x="121" y="18"/>
                        </a:lnTo>
                        <a:lnTo>
                          <a:pt x="121" y="17"/>
                        </a:lnTo>
                        <a:lnTo>
                          <a:pt x="132" y="11"/>
                        </a:lnTo>
                        <a:lnTo>
                          <a:pt x="133" y="8"/>
                        </a:lnTo>
                        <a:lnTo>
                          <a:pt x="133" y="6"/>
                        </a:lnTo>
                        <a:lnTo>
                          <a:pt x="133" y="3"/>
                        </a:lnTo>
                        <a:lnTo>
                          <a:pt x="132" y="2"/>
                        </a:lnTo>
                        <a:lnTo>
                          <a:pt x="130" y="0"/>
                        </a:lnTo>
                        <a:lnTo>
                          <a:pt x="128" y="0"/>
                        </a:lnTo>
                        <a:lnTo>
                          <a:pt x="126" y="0"/>
                        </a:lnTo>
                        <a:lnTo>
                          <a:pt x="124" y="0"/>
                        </a:lnTo>
                        <a:lnTo>
                          <a:pt x="122" y="1"/>
                        </a:lnTo>
                        <a:lnTo>
                          <a:pt x="121" y="2"/>
                        </a:lnTo>
                        <a:lnTo>
                          <a:pt x="119" y="2"/>
                        </a:lnTo>
                        <a:lnTo>
                          <a:pt x="118" y="3"/>
                        </a:lnTo>
                        <a:lnTo>
                          <a:pt x="117" y="3"/>
                        </a:lnTo>
                        <a:lnTo>
                          <a:pt x="116" y="3"/>
                        </a:lnTo>
                        <a:lnTo>
                          <a:pt x="115" y="4"/>
                        </a:lnTo>
                        <a:lnTo>
                          <a:pt x="114" y="4"/>
                        </a:lnTo>
                        <a:lnTo>
                          <a:pt x="113" y="4"/>
                        </a:lnTo>
                        <a:lnTo>
                          <a:pt x="112" y="4"/>
                        </a:lnTo>
                        <a:lnTo>
                          <a:pt x="111" y="4"/>
                        </a:lnTo>
                        <a:lnTo>
                          <a:pt x="109" y="3"/>
                        </a:lnTo>
                        <a:lnTo>
                          <a:pt x="108" y="3"/>
                        </a:lnTo>
                        <a:lnTo>
                          <a:pt x="107" y="3"/>
                        </a:lnTo>
                        <a:lnTo>
                          <a:pt x="101" y="5"/>
                        </a:lnTo>
                        <a:lnTo>
                          <a:pt x="96" y="7"/>
                        </a:lnTo>
                        <a:lnTo>
                          <a:pt x="90" y="8"/>
                        </a:lnTo>
                        <a:lnTo>
                          <a:pt x="83" y="11"/>
                        </a:lnTo>
                        <a:lnTo>
                          <a:pt x="77" y="13"/>
                        </a:lnTo>
                        <a:lnTo>
                          <a:pt x="71" y="15"/>
                        </a:lnTo>
                        <a:lnTo>
                          <a:pt x="64" y="17"/>
                        </a:lnTo>
                        <a:lnTo>
                          <a:pt x="57" y="19"/>
                        </a:lnTo>
                        <a:lnTo>
                          <a:pt x="50" y="22"/>
                        </a:lnTo>
                        <a:lnTo>
                          <a:pt x="43" y="24"/>
                        </a:lnTo>
                        <a:lnTo>
                          <a:pt x="36" y="27"/>
                        </a:lnTo>
                        <a:lnTo>
                          <a:pt x="29" y="30"/>
                        </a:lnTo>
                        <a:lnTo>
                          <a:pt x="21" y="32"/>
                        </a:lnTo>
                        <a:lnTo>
                          <a:pt x="14" y="35"/>
                        </a:lnTo>
                        <a:lnTo>
                          <a:pt x="7" y="37"/>
                        </a:lnTo>
                        <a:lnTo>
                          <a:pt x="0" y="40"/>
                        </a:lnTo>
                        <a:lnTo>
                          <a:pt x="0" y="52"/>
                        </a:lnTo>
                        <a:lnTo>
                          <a:pt x="87" y="17"/>
                        </a:lnTo>
                        <a:lnTo>
                          <a:pt x="85" y="18"/>
                        </a:lnTo>
                        <a:lnTo>
                          <a:pt x="83" y="19"/>
                        </a:lnTo>
                        <a:lnTo>
                          <a:pt x="79" y="21"/>
                        </a:lnTo>
                        <a:lnTo>
                          <a:pt x="75" y="23"/>
                        </a:lnTo>
                        <a:lnTo>
                          <a:pt x="70" y="25"/>
                        </a:lnTo>
                        <a:lnTo>
                          <a:pt x="65" y="28"/>
                        </a:lnTo>
                        <a:lnTo>
                          <a:pt x="60" y="30"/>
                        </a:lnTo>
                        <a:lnTo>
                          <a:pt x="54" y="33"/>
                        </a:lnTo>
                        <a:lnTo>
                          <a:pt x="48" y="36"/>
                        </a:lnTo>
                        <a:lnTo>
                          <a:pt x="41" y="39"/>
                        </a:lnTo>
                        <a:lnTo>
                          <a:pt x="34" y="43"/>
                        </a:lnTo>
                        <a:lnTo>
                          <a:pt x="28" y="46"/>
                        </a:lnTo>
                        <a:lnTo>
                          <a:pt x="21" y="50"/>
                        </a:lnTo>
                        <a:lnTo>
                          <a:pt x="14" y="53"/>
                        </a:lnTo>
                        <a:lnTo>
                          <a:pt x="7" y="56"/>
                        </a:lnTo>
                        <a:lnTo>
                          <a:pt x="0" y="60"/>
                        </a:lnTo>
                        <a:lnTo>
                          <a:pt x="0" y="64"/>
                        </a:lnTo>
                        <a:lnTo>
                          <a:pt x="91" y="25"/>
                        </a:lnTo>
                        <a:lnTo>
                          <a:pt x="91" y="26"/>
                        </a:lnTo>
                        <a:lnTo>
                          <a:pt x="90" y="27"/>
                        </a:lnTo>
                        <a:lnTo>
                          <a:pt x="89" y="28"/>
                        </a:lnTo>
                        <a:lnTo>
                          <a:pt x="88" y="29"/>
                        </a:lnTo>
                        <a:lnTo>
                          <a:pt x="87" y="30"/>
                        </a:lnTo>
                        <a:lnTo>
                          <a:pt x="88" y="30"/>
                        </a:lnTo>
                        <a:lnTo>
                          <a:pt x="90" y="29"/>
                        </a:lnTo>
                        <a:lnTo>
                          <a:pt x="85" y="32"/>
                        </a:lnTo>
                        <a:lnTo>
                          <a:pt x="80" y="35"/>
                        </a:lnTo>
                        <a:lnTo>
                          <a:pt x="74" y="39"/>
                        </a:lnTo>
                        <a:lnTo>
                          <a:pt x="68" y="42"/>
                        </a:lnTo>
                        <a:lnTo>
                          <a:pt x="63" y="45"/>
                        </a:lnTo>
                        <a:lnTo>
                          <a:pt x="57" y="48"/>
                        </a:lnTo>
                        <a:lnTo>
                          <a:pt x="52" y="51"/>
                        </a:lnTo>
                        <a:lnTo>
                          <a:pt x="46" y="55"/>
                        </a:lnTo>
                        <a:lnTo>
                          <a:pt x="40" y="58"/>
                        </a:lnTo>
                        <a:lnTo>
                          <a:pt x="35" y="61"/>
                        </a:lnTo>
                        <a:lnTo>
                          <a:pt x="29" y="64"/>
                        </a:lnTo>
                        <a:lnTo>
                          <a:pt x="23" y="67"/>
                        </a:lnTo>
                        <a:lnTo>
                          <a:pt x="17" y="70"/>
                        </a:lnTo>
                        <a:lnTo>
                          <a:pt x="12" y="73"/>
                        </a:lnTo>
                        <a:lnTo>
                          <a:pt x="6" y="76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Freeform 292"/>
                  <p:cNvSpPr/>
                  <p:nvPr/>
                </p:nvSpPr>
                <p:spPr>
                  <a:xfrm>
                    <a:off x="1041480" y="4429800"/>
                    <a:ext cx="152640" cy="17028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100" h="84">
                        <a:moveTo>
                          <a:pt x="100" y="12"/>
                        </a:moveTo>
                        <a:lnTo>
                          <a:pt x="100" y="0"/>
                        </a:lnTo>
                        <a:lnTo>
                          <a:pt x="92" y="3"/>
                        </a:lnTo>
                        <a:lnTo>
                          <a:pt x="84" y="6"/>
                        </a:lnTo>
                        <a:lnTo>
                          <a:pt x="76" y="9"/>
                        </a:lnTo>
                        <a:lnTo>
                          <a:pt x="68" y="12"/>
                        </a:lnTo>
                        <a:lnTo>
                          <a:pt x="61" y="16"/>
                        </a:lnTo>
                        <a:lnTo>
                          <a:pt x="54" y="18"/>
                        </a:lnTo>
                        <a:lnTo>
                          <a:pt x="47" y="21"/>
                        </a:lnTo>
                        <a:lnTo>
                          <a:pt x="40" y="24"/>
                        </a:lnTo>
                        <a:lnTo>
                          <a:pt x="34" y="27"/>
                        </a:lnTo>
                        <a:lnTo>
                          <a:pt x="28" y="29"/>
                        </a:lnTo>
                        <a:lnTo>
                          <a:pt x="23" y="32"/>
                        </a:lnTo>
                        <a:lnTo>
                          <a:pt x="18" y="34"/>
                        </a:lnTo>
                        <a:lnTo>
                          <a:pt x="14" y="36"/>
                        </a:lnTo>
                        <a:lnTo>
                          <a:pt x="10" y="39"/>
                        </a:lnTo>
                        <a:lnTo>
                          <a:pt x="7" y="41"/>
                        </a:lnTo>
                        <a:lnTo>
                          <a:pt x="5" y="42"/>
                        </a:lnTo>
                        <a:lnTo>
                          <a:pt x="3" y="47"/>
                        </a:lnTo>
                        <a:lnTo>
                          <a:pt x="1" y="53"/>
                        </a:lnTo>
                        <a:lnTo>
                          <a:pt x="0" y="61"/>
                        </a:lnTo>
                        <a:lnTo>
                          <a:pt x="1" y="68"/>
                        </a:lnTo>
                        <a:lnTo>
                          <a:pt x="4" y="75"/>
                        </a:lnTo>
                        <a:lnTo>
                          <a:pt x="9" y="81"/>
                        </a:lnTo>
                        <a:lnTo>
                          <a:pt x="18" y="84"/>
                        </a:lnTo>
                        <a:lnTo>
                          <a:pt x="30" y="84"/>
                        </a:lnTo>
                        <a:lnTo>
                          <a:pt x="33" y="82"/>
                        </a:lnTo>
                        <a:lnTo>
                          <a:pt x="36" y="81"/>
                        </a:lnTo>
                        <a:lnTo>
                          <a:pt x="39" y="79"/>
                        </a:lnTo>
                        <a:lnTo>
                          <a:pt x="43" y="77"/>
                        </a:lnTo>
                        <a:lnTo>
                          <a:pt x="47" y="75"/>
                        </a:lnTo>
                        <a:lnTo>
                          <a:pt x="51" y="73"/>
                        </a:lnTo>
                        <a:lnTo>
                          <a:pt x="55" y="71"/>
                        </a:lnTo>
                        <a:lnTo>
                          <a:pt x="60" y="69"/>
                        </a:lnTo>
                        <a:lnTo>
                          <a:pt x="64" y="67"/>
                        </a:lnTo>
                        <a:lnTo>
                          <a:pt x="69" y="65"/>
                        </a:lnTo>
                        <a:lnTo>
                          <a:pt x="74" y="62"/>
                        </a:lnTo>
                        <a:lnTo>
                          <a:pt x="79" y="60"/>
                        </a:lnTo>
                        <a:lnTo>
                          <a:pt x="84" y="58"/>
                        </a:lnTo>
                        <a:lnTo>
                          <a:pt x="89" y="55"/>
                        </a:lnTo>
                        <a:lnTo>
                          <a:pt x="95" y="52"/>
                        </a:lnTo>
                        <a:lnTo>
                          <a:pt x="100" y="50"/>
                        </a:lnTo>
                        <a:lnTo>
                          <a:pt x="100" y="39"/>
                        </a:lnTo>
                        <a:lnTo>
                          <a:pt x="96" y="41"/>
                        </a:lnTo>
                        <a:lnTo>
                          <a:pt x="93" y="43"/>
                        </a:lnTo>
                        <a:lnTo>
                          <a:pt x="89" y="44"/>
                        </a:lnTo>
                        <a:lnTo>
                          <a:pt x="85" y="46"/>
                        </a:lnTo>
                        <a:lnTo>
                          <a:pt x="82" y="48"/>
                        </a:lnTo>
                        <a:lnTo>
                          <a:pt x="78" y="50"/>
                        </a:lnTo>
                        <a:lnTo>
                          <a:pt x="75" y="52"/>
                        </a:lnTo>
                        <a:lnTo>
                          <a:pt x="71" y="53"/>
                        </a:lnTo>
                        <a:lnTo>
                          <a:pt x="67" y="55"/>
                        </a:lnTo>
                        <a:lnTo>
                          <a:pt x="64" y="57"/>
                        </a:lnTo>
                        <a:lnTo>
                          <a:pt x="60" y="59"/>
                        </a:lnTo>
                        <a:lnTo>
                          <a:pt x="56" y="60"/>
                        </a:lnTo>
                        <a:lnTo>
                          <a:pt x="53" y="62"/>
                        </a:lnTo>
                        <a:lnTo>
                          <a:pt x="49" y="64"/>
                        </a:lnTo>
                        <a:lnTo>
                          <a:pt x="46" y="66"/>
                        </a:lnTo>
                        <a:lnTo>
                          <a:pt x="42" y="67"/>
                        </a:lnTo>
                        <a:lnTo>
                          <a:pt x="40" y="69"/>
                        </a:lnTo>
                        <a:lnTo>
                          <a:pt x="38" y="70"/>
                        </a:lnTo>
                        <a:lnTo>
                          <a:pt x="36" y="72"/>
                        </a:lnTo>
                        <a:lnTo>
                          <a:pt x="33" y="73"/>
                        </a:lnTo>
                        <a:lnTo>
                          <a:pt x="30" y="74"/>
                        </a:lnTo>
                        <a:lnTo>
                          <a:pt x="27" y="75"/>
                        </a:lnTo>
                        <a:lnTo>
                          <a:pt x="25" y="75"/>
                        </a:lnTo>
                        <a:lnTo>
                          <a:pt x="22" y="76"/>
                        </a:lnTo>
                        <a:lnTo>
                          <a:pt x="17" y="75"/>
                        </a:lnTo>
                        <a:lnTo>
                          <a:pt x="13" y="72"/>
                        </a:lnTo>
                        <a:lnTo>
                          <a:pt x="11" y="68"/>
                        </a:lnTo>
                        <a:lnTo>
                          <a:pt x="9" y="63"/>
                        </a:lnTo>
                        <a:lnTo>
                          <a:pt x="9" y="58"/>
                        </a:lnTo>
                        <a:lnTo>
                          <a:pt x="11" y="54"/>
                        </a:lnTo>
                        <a:lnTo>
                          <a:pt x="13" y="50"/>
                        </a:lnTo>
                        <a:lnTo>
                          <a:pt x="17" y="48"/>
                        </a:lnTo>
                        <a:lnTo>
                          <a:pt x="21" y="49"/>
                        </a:lnTo>
                        <a:lnTo>
                          <a:pt x="24" y="50"/>
                        </a:lnTo>
                        <a:lnTo>
                          <a:pt x="27" y="52"/>
                        </a:lnTo>
                        <a:lnTo>
                          <a:pt x="29" y="54"/>
                        </a:lnTo>
                        <a:lnTo>
                          <a:pt x="30" y="56"/>
                        </a:lnTo>
                        <a:lnTo>
                          <a:pt x="30" y="59"/>
                        </a:lnTo>
                        <a:lnTo>
                          <a:pt x="30" y="61"/>
                        </a:lnTo>
                        <a:lnTo>
                          <a:pt x="29" y="65"/>
                        </a:lnTo>
                        <a:lnTo>
                          <a:pt x="31" y="64"/>
                        </a:lnTo>
                        <a:lnTo>
                          <a:pt x="32" y="63"/>
                        </a:lnTo>
                        <a:lnTo>
                          <a:pt x="33" y="61"/>
                        </a:lnTo>
                        <a:lnTo>
                          <a:pt x="35" y="59"/>
                        </a:lnTo>
                        <a:lnTo>
                          <a:pt x="35" y="56"/>
                        </a:lnTo>
                        <a:lnTo>
                          <a:pt x="35" y="53"/>
                        </a:lnTo>
                        <a:lnTo>
                          <a:pt x="35" y="51"/>
                        </a:lnTo>
                        <a:lnTo>
                          <a:pt x="34" y="49"/>
                        </a:lnTo>
                        <a:lnTo>
                          <a:pt x="33" y="47"/>
                        </a:lnTo>
                        <a:lnTo>
                          <a:pt x="31" y="45"/>
                        </a:lnTo>
                        <a:lnTo>
                          <a:pt x="29" y="44"/>
                        </a:lnTo>
                        <a:lnTo>
                          <a:pt x="26" y="43"/>
                        </a:lnTo>
                        <a:lnTo>
                          <a:pt x="10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Freeform 293"/>
                  <p:cNvSpPr/>
                  <p:nvPr/>
                </p:nvSpPr>
                <p:spPr>
                  <a:xfrm>
                    <a:off x="1107720" y="4469040"/>
                    <a:ext cx="82800" cy="5436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54360"/>
                      <a:gd name="textAreaBottom" fmla="*/ 54720 h 54360"/>
                    </a:gdLst>
                    <a:ahLst/>
                    <a:rect l="textAreaLeft" t="textAreaTop" r="textAreaRight" b="textAreaBottom"/>
                    <a:pathLst>
                      <a:path w="54" h="28">
                        <a:moveTo>
                          <a:pt x="54" y="4"/>
                        </a:moveTo>
                        <a:lnTo>
                          <a:pt x="54" y="0"/>
                        </a:lnTo>
                        <a:lnTo>
                          <a:pt x="49" y="3"/>
                        </a:lnTo>
                        <a:lnTo>
                          <a:pt x="43" y="5"/>
                        </a:lnTo>
                        <a:lnTo>
                          <a:pt x="38" y="8"/>
                        </a:lnTo>
                        <a:lnTo>
                          <a:pt x="33" y="10"/>
                        </a:lnTo>
                        <a:lnTo>
                          <a:pt x="28" y="13"/>
                        </a:lnTo>
                        <a:lnTo>
                          <a:pt x="24" y="15"/>
                        </a:lnTo>
                        <a:lnTo>
                          <a:pt x="19" y="17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9" y="23"/>
                        </a:lnTo>
                        <a:lnTo>
                          <a:pt x="6" y="24"/>
                        </a:lnTo>
                        <a:lnTo>
                          <a:pt x="4" y="25"/>
                        </a:lnTo>
                        <a:lnTo>
                          <a:pt x="2" y="26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5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4" name="Freeform 294"/>
                <p:cNvSpPr/>
                <p:nvPr/>
              </p:nvSpPr>
              <p:spPr>
                <a:xfrm>
                  <a:off x="1347840" y="4262760"/>
                  <a:ext cx="10800" cy="871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7" h="43">
                      <a:moveTo>
                        <a:pt x="4" y="0"/>
                      </a:moveTo>
                      <a:lnTo>
                        <a:pt x="6" y="9"/>
                      </a:lnTo>
                      <a:lnTo>
                        <a:pt x="7" y="22"/>
                      </a:lnTo>
                      <a:lnTo>
                        <a:pt x="7" y="35"/>
                      </a:lnTo>
                      <a:lnTo>
                        <a:pt x="4" y="43"/>
                      </a:lnTo>
                      <a:lnTo>
                        <a:pt x="1" y="30"/>
                      </a:lnTo>
                      <a:lnTo>
                        <a:pt x="0" y="16"/>
                      </a:lnTo>
                      <a:lnTo>
                        <a:pt x="1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295"/>
                <p:cNvSpPr/>
                <p:nvPr/>
              </p:nvSpPr>
              <p:spPr>
                <a:xfrm>
                  <a:off x="1501200" y="4228560"/>
                  <a:ext cx="138240" cy="76680"/>
                </a:xfrm>
                <a:custGeom>
                  <a:avLst/>
                  <a:gdLst>
                    <a:gd name="textAreaLeft" fmla="*/ 0 w 138240"/>
                    <a:gd name="textAreaRight" fmla="*/ 138600 w 13824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91" h="38">
                      <a:moveTo>
                        <a:pt x="0" y="35"/>
                      </a:moveTo>
                      <a:lnTo>
                        <a:pt x="5" y="35"/>
                      </a:lnTo>
                      <a:lnTo>
                        <a:pt x="11" y="34"/>
                      </a:lnTo>
                      <a:lnTo>
                        <a:pt x="17" y="33"/>
                      </a:lnTo>
                      <a:lnTo>
                        <a:pt x="23" y="32"/>
                      </a:lnTo>
                      <a:lnTo>
                        <a:pt x="29" y="31"/>
                      </a:lnTo>
                      <a:lnTo>
                        <a:pt x="35" y="29"/>
                      </a:lnTo>
                      <a:lnTo>
                        <a:pt x="41" y="28"/>
                      </a:lnTo>
                      <a:lnTo>
                        <a:pt x="47" y="26"/>
                      </a:lnTo>
                      <a:lnTo>
                        <a:pt x="53" y="24"/>
                      </a:lnTo>
                      <a:lnTo>
                        <a:pt x="59" y="22"/>
                      </a:lnTo>
                      <a:lnTo>
                        <a:pt x="64" y="19"/>
                      </a:lnTo>
                      <a:lnTo>
                        <a:pt x="70" y="16"/>
                      </a:lnTo>
                      <a:lnTo>
                        <a:pt x="75" y="13"/>
                      </a:lnTo>
                      <a:lnTo>
                        <a:pt x="79" y="9"/>
                      </a:lnTo>
                      <a:lnTo>
                        <a:pt x="84" y="5"/>
                      </a:lnTo>
                      <a:lnTo>
                        <a:pt x="88" y="0"/>
                      </a:lnTo>
                      <a:lnTo>
                        <a:pt x="90" y="3"/>
                      </a:lnTo>
                      <a:lnTo>
                        <a:pt x="91" y="5"/>
                      </a:lnTo>
                      <a:lnTo>
                        <a:pt x="90" y="8"/>
                      </a:lnTo>
                      <a:lnTo>
                        <a:pt x="88" y="12"/>
                      </a:lnTo>
                      <a:lnTo>
                        <a:pt x="84" y="16"/>
                      </a:lnTo>
                      <a:lnTo>
                        <a:pt x="79" y="19"/>
                      </a:lnTo>
                      <a:lnTo>
                        <a:pt x="73" y="23"/>
                      </a:lnTo>
                      <a:lnTo>
                        <a:pt x="67" y="27"/>
                      </a:lnTo>
                      <a:lnTo>
                        <a:pt x="59" y="30"/>
                      </a:lnTo>
                      <a:lnTo>
                        <a:pt x="51" y="33"/>
                      </a:lnTo>
                      <a:lnTo>
                        <a:pt x="43" y="36"/>
                      </a:lnTo>
                      <a:lnTo>
                        <a:pt x="34" y="38"/>
                      </a:lnTo>
                      <a:lnTo>
                        <a:pt x="25" y="38"/>
                      </a:lnTo>
                      <a:lnTo>
                        <a:pt x="16" y="38"/>
                      </a:lnTo>
                      <a:lnTo>
                        <a:pt x="8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296"/>
                <p:cNvSpPr/>
                <p:nvPr/>
              </p:nvSpPr>
              <p:spPr>
                <a:xfrm>
                  <a:off x="1409040" y="4198680"/>
                  <a:ext cx="105120" cy="6876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69" h="34">
                      <a:moveTo>
                        <a:pt x="0" y="34"/>
                      </a:moveTo>
                      <a:lnTo>
                        <a:pt x="2" y="29"/>
                      </a:lnTo>
                      <a:lnTo>
                        <a:pt x="5" y="25"/>
                      </a:lnTo>
                      <a:lnTo>
                        <a:pt x="8" y="22"/>
                      </a:lnTo>
                      <a:lnTo>
                        <a:pt x="11" y="18"/>
                      </a:lnTo>
                      <a:lnTo>
                        <a:pt x="15" y="15"/>
                      </a:lnTo>
                      <a:lnTo>
                        <a:pt x="19" y="13"/>
                      </a:lnTo>
                      <a:lnTo>
                        <a:pt x="23" y="10"/>
                      </a:lnTo>
                      <a:lnTo>
                        <a:pt x="28" y="8"/>
                      </a:lnTo>
                      <a:lnTo>
                        <a:pt x="32" y="6"/>
                      </a:lnTo>
                      <a:lnTo>
                        <a:pt x="37" y="5"/>
                      </a:lnTo>
                      <a:lnTo>
                        <a:pt x="42" y="3"/>
                      </a:lnTo>
                      <a:lnTo>
                        <a:pt x="47" y="2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9" y="0"/>
                      </a:lnTo>
                      <a:lnTo>
                        <a:pt x="63" y="0"/>
                      </a:lnTo>
                      <a:lnTo>
                        <a:pt x="58" y="2"/>
                      </a:lnTo>
                      <a:lnTo>
                        <a:pt x="52" y="4"/>
                      </a:lnTo>
                      <a:lnTo>
                        <a:pt x="47" y="6"/>
                      </a:lnTo>
                      <a:lnTo>
                        <a:pt x="41" y="8"/>
                      </a:lnTo>
                      <a:lnTo>
                        <a:pt x="36" y="10"/>
                      </a:lnTo>
                      <a:lnTo>
                        <a:pt x="31" y="13"/>
                      </a:lnTo>
                      <a:lnTo>
                        <a:pt x="26" y="15"/>
                      </a:lnTo>
                      <a:lnTo>
                        <a:pt x="21" y="18"/>
                      </a:lnTo>
                      <a:lnTo>
                        <a:pt x="17" y="21"/>
                      </a:lnTo>
                      <a:lnTo>
                        <a:pt x="13" y="23"/>
                      </a:lnTo>
                      <a:lnTo>
                        <a:pt x="9" y="26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2" y="3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627" name="AutoShape 297"/>
          <p:cNvCxnSpPr/>
          <p:nvPr/>
        </p:nvCxnSpPr>
        <p:spPr>
          <a:xfrm flipH="1">
            <a:off x="2477880" y="3195360"/>
            <a:ext cx="886320" cy="1151640"/>
          </a:xfrm>
          <a:prstGeom prst="straightConnector1">
            <a:avLst/>
          </a:prstGeom>
          <a:ln w="0">
            <a:noFill/>
          </a:ln>
        </p:spPr>
      </p:cxnSp>
      <p:grpSp>
        <p:nvGrpSpPr>
          <p:cNvPr id="628" name="Group 298"/>
          <p:cNvGrpSpPr/>
          <p:nvPr/>
        </p:nvGrpSpPr>
        <p:grpSpPr>
          <a:xfrm>
            <a:off x="1874520" y="2750760"/>
            <a:ext cx="1733400" cy="1735920"/>
            <a:chOff x="1874520" y="2750760"/>
            <a:chExt cx="1733400" cy="1735920"/>
          </a:xfrm>
        </p:grpSpPr>
        <p:cxnSp>
          <p:nvCxnSpPr>
            <p:cNvPr id="629" name="AutoShape 299"/>
            <p:cNvCxnSpPr/>
            <p:nvPr/>
          </p:nvCxnSpPr>
          <p:spPr>
            <a:xfrm>
              <a:off x="2913480" y="2751120"/>
              <a:ext cx="102600" cy="1701000"/>
            </a:xfrm>
            <a:prstGeom prst="straightConnector1">
              <a:avLst/>
            </a:prstGeom>
            <a:ln w="9360">
              <a:solidFill>
                <a:srgbClr val="292929"/>
              </a:solidFill>
              <a:prstDash val="dashDot"/>
              <a:miter/>
              <a:headEnd len="lg" type="stealth" w="med"/>
              <a:tailEnd len="lg" type="stealth" w="med"/>
            </a:ln>
          </p:spPr>
        </p:cxnSp>
        <p:cxnSp>
          <p:nvCxnSpPr>
            <p:cNvPr id="630" name="AutoShape 300"/>
            <p:cNvCxnSpPr/>
            <p:nvPr/>
          </p:nvCxnSpPr>
          <p:spPr>
            <a:xfrm>
              <a:off x="1883520" y="3157920"/>
              <a:ext cx="1135080" cy="1282680"/>
            </a:xfrm>
            <a:prstGeom prst="straightConnector1">
              <a:avLst/>
            </a:prstGeom>
            <a:ln w="9360">
              <a:solidFill>
                <a:srgbClr val="292929"/>
              </a:solidFill>
              <a:prstDash val="dashDot"/>
              <a:miter/>
              <a:headEnd len="lg" type="stealth" w="med"/>
              <a:tailEnd len="lg" type="stealth" w="med"/>
            </a:ln>
          </p:spPr>
        </p:cxnSp>
        <p:cxnSp>
          <p:nvCxnSpPr>
            <p:cNvPr id="631" name="AutoShape 301"/>
            <p:cNvCxnSpPr/>
            <p:nvPr/>
          </p:nvCxnSpPr>
          <p:spPr>
            <a:xfrm flipH="1">
              <a:off x="1932840" y="2750760"/>
              <a:ext cx="981000" cy="1458000"/>
            </a:xfrm>
            <a:prstGeom prst="straightConnector1">
              <a:avLst/>
            </a:prstGeom>
            <a:ln w="9360">
              <a:solidFill>
                <a:srgbClr val="292929"/>
              </a:solidFill>
              <a:prstDash val="dashDot"/>
              <a:miter/>
              <a:headEnd len="lg" type="stealth" w="med"/>
              <a:tailEnd len="lg" type="stealth" w="med"/>
            </a:ln>
          </p:spPr>
        </p:cxnSp>
        <p:cxnSp>
          <p:nvCxnSpPr>
            <p:cNvPr id="632" name="AutoShape 302"/>
            <p:cNvCxnSpPr/>
            <p:nvPr/>
          </p:nvCxnSpPr>
          <p:spPr>
            <a:xfrm>
              <a:off x="1883880" y="3158280"/>
              <a:ext cx="1707480" cy="392040"/>
            </a:xfrm>
            <a:prstGeom prst="straightConnector1">
              <a:avLst/>
            </a:prstGeom>
            <a:ln w="9360">
              <a:solidFill>
                <a:srgbClr val="292929"/>
              </a:solidFill>
              <a:prstDash val="dashDot"/>
              <a:miter/>
              <a:headEnd len="lg" type="stealth" w="med"/>
              <a:tailEnd len="lg" type="stealth" w="med"/>
            </a:ln>
          </p:spPr>
        </p:cxnSp>
        <p:cxnSp>
          <p:nvCxnSpPr>
            <p:cNvPr id="633" name="AutoShape 303"/>
            <p:cNvCxnSpPr/>
            <p:nvPr/>
          </p:nvCxnSpPr>
          <p:spPr>
            <a:xfrm flipH="1">
              <a:off x="1932480" y="3549240"/>
              <a:ext cx="1658160" cy="659520"/>
            </a:xfrm>
            <a:prstGeom prst="straightConnector1">
              <a:avLst/>
            </a:prstGeom>
            <a:ln w="9360">
              <a:solidFill>
                <a:srgbClr val="292929"/>
              </a:solidFill>
              <a:prstDash val="dashDot"/>
              <a:miter/>
              <a:headEnd len="lg" type="stealth" w="med"/>
              <a:tailEnd len="lg" type="stealth" w="med"/>
            </a:ln>
          </p:spPr>
        </p:cxnSp>
        <p:sp>
          <p:nvSpPr>
            <p:cNvPr id="634" name="Freeform 304"/>
            <p:cNvSpPr/>
            <p:nvPr/>
          </p:nvSpPr>
          <p:spPr>
            <a:xfrm rot="21237600">
              <a:off x="1906200" y="2866680"/>
              <a:ext cx="996480" cy="32076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320760"/>
                <a:gd name="textAreaBottom" fmla="*/ 320760 h 320760"/>
              </a:gdLst>
              <a:ahLst/>
              <a:rect l="textAreaLeft" t="textAreaTop" r="textAreaRight" b="textAreaBottom"/>
              <a:pathLst>
                <a:path w="568" h="185">
                  <a:moveTo>
                    <a:pt x="568" y="0"/>
                  </a:moveTo>
                  <a:cubicBezTo>
                    <a:pt x="524" y="27"/>
                    <a:pt x="399" y="135"/>
                    <a:pt x="304" y="160"/>
                  </a:cubicBezTo>
                  <a:cubicBezTo>
                    <a:pt x="209" y="185"/>
                    <a:pt x="63" y="154"/>
                    <a:pt x="0" y="152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35" name="Freeform 305"/>
            <p:cNvSpPr/>
            <p:nvPr/>
          </p:nvSpPr>
          <p:spPr>
            <a:xfrm rot="21237600">
              <a:off x="2940480" y="2782800"/>
              <a:ext cx="538560" cy="790920"/>
            </a:xfrm>
            <a:custGeom>
              <a:avLst/>
              <a:gdLst>
                <a:gd name="textAreaLeft" fmla="*/ 0 w 538560"/>
                <a:gd name="textAreaRight" fmla="*/ 538920 w 53856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307" h="456">
                  <a:moveTo>
                    <a:pt x="307" y="456"/>
                  </a:moveTo>
                  <a:cubicBezTo>
                    <a:pt x="271" y="428"/>
                    <a:pt x="139" y="361"/>
                    <a:pt x="88" y="285"/>
                  </a:cubicBezTo>
                  <a:cubicBezTo>
                    <a:pt x="37" y="209"/>
                    <a:pt x="18" y="59"/>
                    <a:pt x="0" y="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36" name="Freeform 306"/>
            <p:cNvSpPr/>
            <p:nvPr/>
          </p:nvSpPr>
          <p:spPr>
            <a:xfrm rot="21237600">
              <a:off x="2959920" y="3589920"/>
              <a:ext cx="608760" cy="77364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347" h="446">
                  <a:moveTo>
                    <a:pt x="0" y="446"/>
                  </a:moveTo>
                  <a:cubicBezTo>
                    <a:pt x="20" y="402"/>
                    <a:pt x="62" y="258"/>
                    <a:pt x="120" y="184"/>
                  </a:cubicBezTo>
                  <a:cubicBezTo>
                    <a:pt x="178" y="110"/>
                    <a:pt x="300" y="38"/>
                    <a:pt x="347" y="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37" name="Freeform 307"/>
            <p:cNvSpPr/>
            <p:nvPr/>
          </p:nvSpPr>
          <p:spPr>
            <a:xfrm rot="21237600">
              <a:off x="1967760" y="4122720"/>
              <a:ext cx="1005480" cy="3117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573" h="180">
                  <a:moveTo>
                    <a:pt x="573" y="180"/>
                  </a:moveTo>
                  <a:cubicBezTo>
                    <a:pt x="530" y="155"/>
                    <a:pt x="412" y="56"/>
                    <a:pt x="317" y="28"/>
                  </a:cubicBezTo>
                  <a:cubicBezTo>
                    <a:pt x="222" y="0"/>
                    <a:pt x="66" y="15"/>
                    <a:pt x="0" y="12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38" name="Freeform 308"/>
            <p:cNvSpPr/>
            <p:nvPr/>
          </p:nvSpPr>
          <p:spPr>
            <a:xfrm rot="21237600">
              <a:off x="1925640" y="3193200"/>
              <a:ext cx="159840" cy="9853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91" h="568">
                  <a:moveTo>
                    <a:pt x="0" y="568"/>
                  </a:moveTo>
                  <a:cubicBezTo>
                    <a:pt x="14" y="520"/>
                    <a:pt x="79" y="373"/>
                    <a:pt x="85" y="278"/>
                  </a:cubicBezTo>
                  <a:cubicBezTo>
                    <a:pt x="91" y="183"/>
                    <a:pt x="47" y="58"/>
                    <a:pt x="37" y="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639" name="Diagram 289" descr=""/>
          <p:cNvPicPr/>
          <p:nvPr/>
        </p:nvPicPr>
        <p:blipFill>
          <a:blip r:embed="rId2"/>
          <a:stretch/>
        </p:blipFill>
        <p:spPr>
          <a:xfrm>
            <a:off x="5291280" y="1047600"/>
            <a:ext cx="3157560" cy="51516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39800" y="-360"/>
            <a:ext cx="4621320" cy="1173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A data network to support the microfinance industry  …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Chart 5" descr=""/>
          <p:cNvPicPr/>
          <p:nvPr/>
        </p:nvPicPr>
        <p:blipFill>
          <a:blip r:embed="rId1"/>
          <a:stretch/>
        </p:blipFill>
        <p:spPr>
          <a:xfrm>
            <a:off x="266760" y="2251080"/>
            <a:ext cx="8427960" cy="3700440"/>
          </a:xfrm>
          <a:prstGeom prst="rect">
            <a:avLst/>
          </a:prstGeom>
          <a:ln w="0">
            <a:noFill/>
          </a:ln>
        </p:spPr>
      </p:pic>
      <p:sp>
        <p:nvSpPr>
          <p:cNvPr id="642" name="TextBox 6"/>
          <p:cNvSpPr/>
          <p:nvPr/>
        </p:nvSpPr>
        <p:spPr>
          <a:xfrm>
            <a:off x="1728720" y="2936880"/>
            <a:ext cx="136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arterly (1 yr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2152800" y="3360600"/>
            <a:ext cx="22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ocial Performance (2 yr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3492360" y="3784680"/>
            <a:ext cx="208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unding structure (3 yr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TextBox 9"/>
          <p:cNvSpPr/>
          <p:nvPr/>
        </p:nvSpPr>
        <p:spPr>
          <a:xfrm>
            <a:off x="3844800" y="4137120"/>
            <a:ext cx="188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 details (4 yr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TextBox 10"/>
          <p:cNvSpPr/>
          <p:nvPr/>
        </p:nvSpPr>
        <p:spPr>
          <a:xfrm>
            <a:off x="4410000" y="4560840"/>
            <a:ext cx="1946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ull financial  (10+ yr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TextBox 11"/>
          <p:cNvSpPr/>
          <p:nvPr/>
        </p:nvSpPr>
        <p:spPr>
          <a:xfrm>
            <a:off x="6808680" y="4983120"/>
            <a:ext cx="1430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file (10+ yr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TextBox 19"/>
          <p:cNvSpPr/>
          <p:nvPr/>
        </p:nvSpPr>
        <p:spPr>
          <a:xfrm>
            <a:off x="2505240" y="1878120"/>
            <a:ext cx="4020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ype, Reach and Age of MIX Data Se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TextBox 20"/>
          <p:cNvSpPr/>
          <p:nvPr/>
        </p:nvSpPr>
        <p:spPr>
          <a:xfrm>
            <a:off x="1446120" y="2514600"/>
            <a:ext cx="1838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ecasts (6 month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39800" y="-360"/>
            <a:ext cx="4621320" cy="1173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whose breadth and depth have grown over time.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39800" y="-360"/>
            <a:ext cx="4621320" cy="1173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Evolving transparency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528480" y="2373480"/>
            <a:ext cx="7508880" cy="3389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C:\Users\bstephens\Downloads\World_map.png"/>
          <p:cNvPicPr/>
          <p:nvPr/>
        </p:nvPicPr>
        <p:blipFill>
          <a:blip r:embed="rId2"/>
          <a:stretch/>
        </p:blipFill>
        <p:spPr>
          <a:xfrm>
            <a:off x="0" y="1800360"/>
            <a:ext cx="8961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528480" y="2373480"/>
            <a:ext cx="7508880" cy="33890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C:\Users\bstephens\AppData\Local\Microsoft\Windows\Temporary Internet Files\Content.IE5\C4U1NYVM\By_region (1).png"/>
          <p:cNvPicPr/>
          <p:nvPr/>
        </p:nvPicPr>
        <p:blipFill>
          <a:blip r:embed="rId2"/>
          <a:stretch/>
        </p:blipFill>
        <p:spPr>
          <a:xfrm>
            <a:off x="104760" y="1417680"/>
            <a:ext cx="5081760" cy="4906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" descr="C:\Users\bstephens\AppData\Local\Microsoft\Windows\Temporary Internet Files\Content.IE5\O4ZXOKL0\MENA_by_country.png"/>
          <p:cNvPicPr/>
          <p:nvPr/>
        </p:nvPicPr>
        <p:blipFill>
          <a:blip r:embed="rId3"/>
          <a:stretch/>
        </p:blipFill>
        <p:spPr>
          <a:xfrm>
            <a:off x="3705120" y="1582560"/>
            <a:ext cx="6632640" cy="4106880"/>
          </a:xfrm>
          <a:prstGeom prst="rect">
            <a:avLst/>
          </a:prstGeom>
          <a:ln w="0">
            <a:noFill/>
          </a:ln>
        </p:spPr>
      </p:pic>
      <p:sp>
        <p:nvSpPr>
          <p:cNvPr id="658" name="Title 14"/>
          <p:cNvSpPr/>
          <p:nvPr/>
        </p:nvSpPr>
        <p:spPr>
          <a:xfrm>
            <a:off x="4340160" y="0"/>
            <a:ext cx="462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Evolving transparency: marke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7585200" y="3713040"/>
            <a:ext cx="1271520" cy="635040"/>
          </a:xfrm>
          <a:prstGeom prst="ellipse">
            <a:avLst/>
          </a:prstGeom>
          <a:noFill/>
          <a:ln w="57240">
            <a:solidFill>
              <a:srgbClr val="ea63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Oval 9"/>
          <p:cNvSpPr/>
          <p:nvPr/>
        </p:nvSpPr>
        <p:spPr>
          <a:xfrm>
            <a:off x="2787480" y="4489560"/>
            <a:ext cx="846360" cy="423720"/>
          </a:xfrm>
          <a:prstGeom prst="ellipse">
            <a:avLst/>
          </a:prstGeom>
          <a:noFill/>
          <a:ln w="57240">
            <a:solidFill>
              <a:srgbClr val="ea63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C:\Users\bstephens\AppData\Local\Microsoft\Windows\Temporary Internet Files\Content.IE5\OYVHR3WO\By_legal_status.png"/>
          <p:cNvPicPr/>
          <p:nvPr/>
        </p:nvPicPr>
        <p:blipFill>
          <a:blip r:embed="rId1"/>
          <a:stretch/>
        </p:blipFill>
        <p:spPr>
          <a:xfrm>
            <a:off x="779400" y="1738440"/>
            <a:ext cx="7402680" cy="4097160"/>
          </a:xfrm>
          <a:prstGeom prst="rect">
            <a:avLst/>
          </a:prstGeom>
          <a:ln w="0">
            <a:noFill/>
          </a:ln>
        </p:spPr>
      </p:pic>
      <p:sp>
        <p:nvSpPr>
          <p:cNvPr id="662" name="Title 14"/>
          <p:cNvSpPr/>
          <p:nvPr/>
        </p:nvSpPr>
        <p:spPr>
          <a:xfrm>
            <a:off x="4340160" y="0"/>
            <a:ext cx="462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Evolving transparency: regul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5" descr=""/>
          <p:cNvPicPr/>
          <p:nvPr/>
        </p:nvPicPr>
        <p:blipFill>
          <a:blip r:embed="rId1"/>
          <a:stretch/>
        </p:blipFill>
        <p:spPr>
          <a:xfrm>
            <a:off x="5321160" y="1400040"/>
            <a:ext cx="3535560" cy="2421000"/>
          </a:xfrm>
          <a:prstGeom prst="rect">
            <a:avLst/>
          </a:prstGeom>
          <a:ln w="0">
            <a:noFill/>
          </a:ln>
        </p:spPr>
      </p:pic>
      <p:sp>
        <p:nvSpPr>
          <p:cNvPr id="664" name="Title 14"/>
          <p:cNvSpPr/>
          <p:nvPr/>
        </p:nvSpPr>
        <p:spPr>
          <a:xfrm>
            <a:off x="4340160" y="0"/>
            <a:ext cx="462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Evolving transparency: syste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65" name="Picture 4" descr=""/>
          <p:cNvPicPr/>
          <p:nvPr/>
        </p:nvPicPr>
        <p:blipFill>
          <a:blip r:embed="rId2"/>
          <a:stretch/>
        </p:blipFill>
        <p:spPr>
          <a:xfrm>
            <a:off x="2392200" y="3713040"/>
            <a:ext cx="3614760" cy="26258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3"/>
          <a:stretch/>
        </p:blipFill>
        <p:spPr>
          <a:xfrm>
            <a:off x="144360" y="1450800"/>
            <a:ext cx="3146400" cy="2292480"/>
          </a:xfrm>
          <a:prstGeom prst="rect">
            <a:avLst/>
          </a:prstGeom>
          <a:ln w="0">
            <a:noFill/>
          </a:ln>
        </p:spPr>
      </p:pic>
      <p:sp>
        <p:nvSpPr>
          <p:cNvPr id="667" name="TextBox 9"/>
          <p:cNvSpPr/>
          <p:nvPr/>
        </p:nvSpPr>
        <p:spPr>
          <a:xfrm>
            <a:off x="176040" y="1295280"/>
            <a:ext cx="30337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Arial"/>
              </a:rPr>
              <a:t>How is data transmitted to the head office?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5680080" y="1243080"/>
            <a:ext cx="303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Arial"/>
              </a:rPr>
              <a:t>How much reliance on automated reporting?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itle 14"/>
          <p:cNvSpPr/>
          <p:nvPr/>
        </p:nvSpPr>
        <p:spPr>
          <a:xfrm>
            <a:off x="4340160" y="0"/>
            <a:ext cx="462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Evolving transparency: ecosyste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5749920" y="1298520"/>
            <a:ext cx="3137040" cy="4884840"/>
          </a:xfrm>
          <a:prstGeom prst="rect">
            <a:avLst/>
          </a:prstGeom>
          <a:solidFill>
            <a:srgbClr val="935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671" name="Group 5"/>
          <p:cNvGrpSpPr/>
          <p:nvPr/>
        </p:nvGrpSpPr>
        <p:grpSpPr>
          <a:xfrm>
            <a:off x="74520" y="1344600"/>
            <a:ext cx="6048360" cy="4705200"/>
            <a:chOff x="74520" y="1344600"/>
            <a:chExt cx="6048360" cy="4705200"/>
          </a:xfrm>
        </p:grpSpPr>
        <p:sp>
          <p:nvSpPr>
            <p:cNvPr id="672" name="Freeform 2"/>
            <p:cNvSpPr/>
            <p:nvPr/>
          </p:nvSpPr>
          <p:spPr>
            <a:xfrm>
              <a:off x="1227960" y="1500840"/>
              <a:ext cx="3612600" cy="3713400"/>
            </a:xfrm>
            <a:custGeom>
              <a:avLst/>
              <a:gdLst>
                <a:gd name="textAreaLeft" fmla="*/ 0 w 3612600"/>
                <a:gd name="textAreaRight" fmla="*/ 3612960 w 3612600"/>
                <a:gd name="textAreaTop" fmla="*/ 0 h 3713400"/>
                <a:gd name="textAreaBottom" fmla="*/ 3713760 h 3713400"/>
              </a:gdLst>
              <a:ahLst/>
              <a:rect l="textAreaLeft" t="textAreaTop" r="textAreaRight" b="textAreaBottom"/>
              <a:pathLst>
                <a:path w="4324" h="3487">
                  <a:moveTo>
                    <a:pt x="280" y="751"/>
                  </a:moveTo>
                  <a:cubicBezTo>
                    <a:pt x="528" y="671"/>
                    <a:pt x="776" y="591"/>
                    <a:pt x="1048" y="559"/>
                  </a:cubicBezTo>
                  <a:cubicBezTo>
                    <a:pt x="1320" y="527"/>
                    <a:pt x="1576" y="495"/>
                    <a:pt x="1912" y="559"/>
                  </a:cubicBezTo>
                  <a:cubicBezTo>
                    <a:pt x="2248" y="623"/>
                    <a:pt x="3056" y="727"/>
                    <a:pt x="3064" y="943"/>
                  </a:cubicBezTo>
                  <a:cubicBezTo>
                    <a:pt x="3072" y="1159"/>
                    <a:pt x="2464" y="1599"/>
                    <a:pt x="1960" y="1855"/>
                  </a:cubicBezTo>
                  <a:cubicBezTo>
                    <a:pt x="1456" y="2111"/>
                    <a:pt x="0" y="2263"/>
                    <a:pt x="40" y="2479"/>
                  </a:cubicBezTo>
                  <a:cubicBezTo>
                    <a:pt x="80" y="2695"/>
                    <a:pt x="1616" y="3487"/>
                    <a:pt x="2200" y="3151"/>
                  </a:cubicBezTo>
                  <a:cubicBezTo>
                    <a:pt x="2784" y="2815"/>
                    <a:pt x="3210" y="926"/>
                    <a:pt x="3544" y="463"/>
                  </a:cubicBezTo>
                  <a:cubicBezTo>
                    <a:pt x="3878" y="0"/>
                    <a:pt x="4090" y="303"/>
                    <a:pt x="4207" y="372"/>
                  </a:cubicBezTo>
                  <a:cubicBezTo>
                    <a:pt x="4324" y="441"/>
                    <a:pt x="4283" y="732"/>
                    <a:pt x="4245" y="875"/>
                  </a:cubicBezTo>
                  <a:cubicBezTo>
                    <a:pt x="4207" y="1018"/>
                    <a:pt x="4125" y="1140"/>
                    <a:pt x="3976" y="1231"/>
                  </a:cubicBezTo>
                  <a:cubicBezTo>
                    <a:pt x="3827" y="1322"/>
                    <a:pt x="3480" y="1231"/>
                    <a:pt x="3352" y="1423"/>
                  </a:cubicBezTo>
                  <a:cubicBezTo>
                    <a:pt x="3224" y="1615"/>
                    <a:pt x="3152" y="2135"/>
                    <a:pt x="3208" y="2383"/>
                  </a:cubicBezTo>
                  <a:cubicBezTo>
                    <a:pt x="3264" y="2631"/>
                    <a:pt x="3476" y="2771"/>
                    <a:pt x="3688" y="2911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673" name="Group 316"/>
            <p:cNvGrpSpPr/>
            <p:nvPr/>
          </p:nvGrpSpPr>
          <p:grpSpPr>
            <a:xfrm>
              <a:off x="74520" y="1344600"/>
              <a:ext cx="6048360" cy="4705200"/>
              <a:chOff x="74520" y="1344600"/>
              <a:chExt cx="6048360" cy="4705200"/>
            </a:xfrm>
          </p:grpSpPr>
          <p:sp>
            <p:nvSpPr>
              <p:cNvPr id="674" name="Freeform 3"/>
              <p:cNvSpPr/>
              <p:nvPr/>
            </p:nvSpPr>
            <p:spPr>
              <a:xfrm>
                <a:off x="1447560" y="2122920"/>
                <a:ext cx="4106520" cy="3926880"/>
              </a:xfrm>
              <a:custGeom>
                <a:avLst/>
                <a:gdLst>
                  <a:gd name="textAreaLeft" fmla="*/ 0 w 4106520"/>
                  <a:gd name="textAreaRight" fmla="*/ 4106880 w 4106520"/>
                  <a:gd name="textAreaTop" fmla="*/ 0 h 3926880"/>
                  <a:gd name="textAreaBottom" fmla="*/ 3927240 h 3926880"/>
                </a:gdLst>
                <a:ahLst/>
                <a:rect l="textAreaLeft" t="textAreaTop" r="textAreaRight" b="textAreaBottom"/>
                <a:pathLst>
                  <a:path w="4217" h="3280">
                    <a:moveTo>
                      <a:pt x="1943" y="705"/>
                    </a:moveTo>
                    <a:cubicBezTo>
                      <a:pt x="2198" y="721"/>
                      <a:pt x="3154" y="706"/>
                      <a:pt x="3473" y="792"/>
                    </a:cubicBezTo>
                    <a:cubicBezTo>
                      <a:pt x="3792" y="878"/>
                      <a:pt x="3817" y="1056"/>
                      <a:pt x="3857" y="1224"/>
                    </a:cubicBezTo>
                    <a:cubicBezTo>
                      <a:pt x="3897" y="1392"/>
                      <a:pt x="4217" y="1744"/>
                      <a:pt x="3713" y="1800"/>
                    </a:cubicBezTo>
                    <a:cubicBezTo>
                      <a:pt x="3209" y="1856"/>
                      <a:pt x="1265" y="1344"/>
                      <a:pt x="833" y="1560"/>
                    </a:cubicBezTo>
                    <a:cubicBezTo>
                      <a:pt x="401" y="1776"/>
                      <a:pt x="897" y="2912"/>
                      <a:pt x="1121" y="3096"/>
                    </a:cubicBezTo>
                    <a:cubicBezTo>
                      <a:pt x="1345" y="3280"/>
                      <a:pt x="2145" y="3008"/>
                      <a:pt x="2177" y="2664"/>
                    </a:cubicBezTo>
                    <a:cubicBezTo>
                      <a:pt x="2209" y="2320"/>
                      <a:pt x="1473" y="1416"/>
                      <a:pt x="1313" y="1032"/>
                    </a:cubicBezTo>
                    <a:cubicBezTo>
                      <a:pt x="1153" y="648"/>
                      <a:pt x="1097" y="504"/>
                      <a:pt x="1217" y="360"/>
                    </a:cubicBezTo>
                    <a:cubicBezTo>
                      <a:pt x="1337" y="216"/>
                      <a:pt x="1889" y="0"/>
                      <a:pt x="2033" y="168"/>
                    </a:cubicBezTo>
                    <a:cubicBezTo>
                      <a:pt x="2177" y="336"/>
                      <a:pt x="2420" y="1290"/>
                      <a:pt x="2081" y="1368"/>
                    </a:cubicBezTo>
                    <a:cubicBezTo>
                      <a:pt x="1742" y="1446"/>
                      <a:pt x="434" y="789"/>
                      <a:pt x="0" y="637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75" name="Freeform 4"/>
              <p:cNvSpPr/>
              <p:nvPr/>
            </p:nvSpPr>
            <p:spPr>
              <a:xfrm>
                <a:off x="308880" y="1344600"/>
                <a:ext cx="5024880" cy="4032000"/>
              </a:xfrm>
              <a:custGeom>
                <a:avLst/>
                <a:gdLst>
                  <a:gd name="textAreaLeft" fmla="*/ 0 w 5024880"/>
                  <a:gd name="textAreaRight" fmla="*/ 5024880 w 5024880"/>
                  <a:gd name="textAreaTop" fmla="*/ 0 h 4032000"/>
                  <a:gd name="textAreaBottom" fmla="*/ 4032360 h 4032000"/>
                </a:gdLst>
                <a:ahLst/>
                <a:rect l="textAreaLeft" t="textAreaTop" r="textAreaRight" b="textAreaBottom"/>
                <a:pathLst>
                  <a:path w="5160" h="3368">
                    <a:moveTo>
                      <a:pt x="4480" y="1312"/>
                    </a:moveTo>
                    <a:cubicBezTo>
                      <a:pt x="4332" y="1144"/>
                      <a:pt x="4184" y="976"/>
                      <a:pt x="4096" y="832"/>
                    </a:cubicBezTo>
                    <a:cubicBezTo>
                      <a:pt x="4008" y="688"/>
                      <a:pt x="3928" y="568"/>
                      <a:pt x="3952" y="448"/>
                    </a:cubicBezTo>
                    <a:cubicBezTo>
                      <a:pt x="3976" y="328"/>
                      <a:pt x="4112" y="168"/>
                      <a:pt x="4240" y="112"/>
                    </a:cubicBezTo>
                    <a:cubicBezTo>
                      <a:pt x="4368" y="56"/>
                      <a:pt x="4584" y="48"/>
                      <a:pt x="4720" y="112"/>
                    </a:cubicBezTo>
                    <a:cubicBezTo>
                      <a:pt x="4856" y="176"/>
                      <a:pt x="5032" y="344"/>
                      <a:pt x="5056" y="496"/>
                    </a:cubicBezTo>
                    <a:cubicBezTo>
                      <a:pt x="5080" y="648"/>
                      <a:pt x="5160" y="832"/>
                      <a:pt x="4864" y="1024"/>
                    </a:cubicBezTo>
                    <a:cubicBezTo>
                      <a:pt x="4568" y="1216"/>
                      <a:pt x="3744" y="1584"/>
                      <a:pt x="3280" y="1648"/>
                    </a:cubicBezTo>
                    <a:cubicBezTo>
                      <a:pt x="2816" y="1712"/>
                      <a:pt x="2296" y="1600"/>
                      <a:pt x="2080" y="1408"/>
                    </a:cubicBezTo>
                    <a:cubicBezTo>
                      <a:pt x="1864" y="1216"/>
                      <a:pt x="1864" y="712"/>
                      <a:pt x="1984" y="496"/>
                    </a:cubicBezTo>
                    <a:cubicBezTo>
                      <a:pt x="2104" y="280"/>
                      <a:pt x="2536" y="136"/>
                      <a:pt x="2800" y="112"/>
                    </a:cubicBezTo>
                    <a:cubicBezTo>
                      <a:pt x="3064" y="88"/>
                      <a:pt x="3432" y="0"/>
                      <a:pt x="3568" y="352"/>
                    </a:cubicBezTo>
                    <a:cubicBezTo>
                      <a:pt x="3704" y="704"/>
                      <a:pt x="3680" y="1744"/>
                      <a:pt x="3616" y="2224"/>
                    </a:cubicBezTo>
                    <a:cubicBezTo>
                      <a:pt x="3552" y="2704"/>
                      <a:pt x="3616" y="3096"/>
                      <a:pt x="3184" y="3232"/>
                    </a:cubicBezTo>
                    <a:cubicBezTo>
                      <a:pt x="2752" y="3368"/>
                      <a:pt x="1528" y="3216"/>
                      <a:pt x="1024" y="3040"/>
                    </a:cubicBezTo>
                    <a:cubicBezTo>
                      <a:pt x="520" y="2864"/>
                      <a:pt x="320" y="2512"/>
                      <a:pt x="160" y="2176"/>
                    </a:cubicBezTo>
                    <a:cubicBezTo>
                      <a:pt x="0" y="1840"/>
                      <a:pt x="40" y="1264"/>
                      <a:pt x="64" y="1024"/>
                    </a:cubicBezTo>
                    <a:cubicBezTo>
                      <a:pt x="88" y="784"/>
                      <a:pt x="264" y="784"/>
                      <a:pt x="304" y="736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76" name="Freeform 5"/>
              <p:cNvSpPr/>
              <p:nvPr/>
            </p:nvSpPr>
            <p:spPr>
              <a:xfrm>
                <a:off x="198360" y="1603440"/>
                <a:ext cx="5126040" cy="3562920"/>
              </a:xfrm>
              <a:custGeom>
                <a:avLst/>
                <a:gdLst>
                  <a:gd name="textAreaLeft" fmla="*/ 0 w 5126040"/>
                  <a:gd name="textAreaRight" fmla="*/ 5126400 w 5126040"/>
                  <a:gd name="textAreaTop" fmla="*/ 0 h 3562920"/>
                  <a:gd name="textAreaBottom" fmla="*/ 3563280 h 3562920"/>
                </a:gdLst>
                <a:ahLst/>
                <a:rect l="textAreaLeft" t="textAreaTop" r="textAreaRight" b="textAreaBottom"/>
                <a:pathLst>
                  <a:path w="5264" h="2976">
                    <a:moveTo>
                      <a:pt x="2848" y="2216"/>
                    </a:moveTo>
                    <a:cubicBezTo>
                      <a:pt x="3040" y="2228"/>
                      <a:pt x="3232" y="2240"/>
                      <a:pt x="3376" y="2072"/>
                    </a:cubicBezTo>
                    <a:cubicBezTo>
                      <a:pt x="3520" y="1904"/>
                      <a:pt x="3512" y="1432"/>
                      <a:pt x="3712" y="1208"/>
                    </a:cubicBezTo>
                    <a:cubicBezTo>
                      <a:pt x="3912" y="984"/>
                      <a:pt x="4320" y="728"/>
                      <a:pt x="4576" y="728"/>
                    </a:cubicBezTo>
                    <a:cubicBezTo>
                      <a:pt x="4832" y="728"/>
                      <a:pt x="5232" y="976"/>
                      <a:pt x="5248" y="1208"/>
                    </a:cubicBezTo>
                    <a:cubicBezTo>
                      <a:pt x="5264" y="1440"/>
                      <a:pt x="4896" y="1840"/>
                      <a:pt x="4672" y="2120"/>
                    </a:cubicBezTo>
                    <a:cubicBezTo>
                      <a:pt x="4448" y="2400"/>
                      <a:pt x="4568" y="2976"/>
                      <a:pt x="3904" y="2888"/>
                    </a:cubicBezTo>
                    <a:cubicBezTo>
                      <a:pt x="3240" y="2800"/>
                      <a:pt x="1336" y="1992"/>
                      <a:pt x="688" y="1592"/>
                    </a:cubicBezTo>
                    <a:cubicBezTo>
                      <a:pt x="40" y="1192"/>
                      <a:pt x="32" y="752"/>
                      <a:pt x="16" y="488"/>
                    </a:cubicBezTo>
                    <a:cubicBezTo>
                      <a:pt x="0" y="224"/>
                      <a:pt x="272" y="16"/>
                      <a:pt x="592" y="8"/>
                    </a:cubicBezTo>
                    <a:cubicBezTo>
                      <a:pt x="912" y="0"/>
                      <a:pt x="1848" y="176"/>
                      <a:pt x="1936" y="440"/>
                    </a:cubicBezTo>
                    <a:cubicBezTo>
                      <a:pt x="2024" y="704"/>
                      <a:pt x="1048" y="1192"/>
                      <a:pt x="1120" y="1592"/>
                    </a:cubicBezTo>
                    <a:cubicBezTo>
                      <a:pt x="1192" y="1992"/>
                      <a:pt x="1880" y="2712"/>
                      <a:pt x="2368" y="2840"/>
                    </a:cubicBezTo>
                    <a:cubicBezTo>
                      <a:pt x="2856" y="2968"/>
                      <a:pt x="4160" y="2592"/>
                      <a:pt x="4048" y="2360"/>
                    </a:cubicBezTo>
                    <a:cubicBezTo>
                      <a:pt x="3936" y="2128"/>
                      <a:pt x="2192" y="1688"/>
                      <a:pt x="1696" y="1448"/>
                    </a:cubicBezTo>
                    <a:cubicBezTo>
                      <a:pt x="1200" y="1208"/>
                      <a:pt x="1136" y="1064"/>
                      <a:pt x="1072" y="920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>
                <a:off x="74520" y="1484640"/>
                <a:ext cx="5305320" cy="4233240"/>
              </a:xfrm>
              <a:custGeom>
                <a:avLst/>
                <a:gdLst>
                  <a:gd name="textAreaLeft" fmla="*/ 0 w 5305320"/>
                  <a:gd name="textAreaRight" fmla="*/ 5305680 w 5305320"/>
                  <a:gd name="textAreaTop" fmla="*/ 0 h 4233240"/>
                  <a:gd name="textAreaBottom" fmla="*/ 4233600 h 4233240"/>
                </a:gdLst>
                <a:ahLst/>
                <a:rect l="textAreaLeft" t="textAreaTop" r="textAreaRight" b="textAreaBottom"/>
                <a:pathLst>
                  <a:path w="5448" h="3536">
                    <a:moveTo>
                      <a:pt x="4664" y="384"/>
                    </a:moveTo>
                    <a:cubicBezTo>
                      <a:pt x="4292" y="352"/>
                      <a:pt x="3920" y="320"/>
                      <a:pt x="3560" y="336"/>
                    </a:cubicBezTo>
                    <a:cubicBezTo>
                      <a:pt x="3200" y="352"/>
                      <a:pt x="2840" y="272"/>
                      <a:pt x="2504" y="480"/>
                    </a:cubicBezTo>
                    <a:cubicBezTo>
                      <a:pt x="2168" y="688"/>
                      <a:pt x="1896" y="1384"/>
                      <a:pt x="1544" y="1584"/>
                    </a:cubicBezTo>
                    <a:cubicBezTo>
                      <a:pt x="1192" y="1784"/>
                      <a:pt x="648" y="1784"/>
                      <a:pt x="392" y="1680"/>
                    </a:cubicBezTo>
                    <a:cubicBezTo>
                      <a:pt x="136" y="1576"/>
                      <a:pt x="0" y="1184"/>
                      <a:pt x="8" y="960"/>
                    </a:cubicBezTo>
                    <a:cubicBezTo>
                      <a:pt x="16" y="736"/>
                      <a:pt x="176" y="480"/>
                      <a:pt x="440" y="336"/>
                    </a:cubicBezTo>
                    <a:cubicBezTo>
                      <a:pt x="704" y="192"/>
                      <a:pt x="1336" y="0"/>
                      <a:pt x="1592" y="96"/>
                    </a:cubicBezTo>
                    <a:cubicBezTo>
                      <a:pt x="1848" y="192"/>
                      <a:pt x="2112" y="584"/>
                      <a:pt x="1976" y="912"/>
                    </a:cubicBezTo>
                    <a:cubicBezTo>
                      <a:pt x="1840" y="1240"/>
                      <a:pt x="1096" y="1832"/>
                      <a:pt x="776" y="2064"/>
                    </a:cubicBezTo>
                    <a:cubicBezTo>
                      <a:pt x="456" y="2296"/>
                      <a:pt x="40" y="2144"/>
                      <a:pt x="56" y="2304"/>
                    </a:cubicBezTo>
                    <a:cubicBezTo>
                      <a:pt x="72" y="2464"/>
                      <a:pt x="232" y="2880"/>
                      <a:pt x="872" y="3024"/>
                    </a:cubicBezTo>
                    <a:cubicBezTo>
                      <a:pt x="1512" y="3168"/>
                      <a:pt x="3288" y="3296"/>
                      <a:pt x="3896" y="3168"/>
                    </a:cubicBezTo>
                    <a:cubicBezTo>
                      <a:pt x="4504" y="3040"/>
                      <a:pt x="4280" y="2312"/>
                      <a:pt x="4520" y="2256"/>
                    </a:cubicBezTo>
                    <a:cubicBezTo>
                      <a:pt x="4760" y="2200"/>
                      <a:pt x="5224" y="2664"/>
                      <a:pt x="5336" y="2832"/>
                    </a:cubicBezTo>
                    <a:cubicBezTo>
                      <a:pt x="5448" y="3000"/>
                      <a:pt x="5408" y="3176"/>
                      <a:pt x="5192" y="3264"/>
                    </a:cubicBezTo>
                    <a:cubicBezTo>
                      <a:pt x="4976" y="3352"/>
                      <a:pt x="4696" y="3352"/>
                      <a:pt x="4040" y="3360"/>
                    </a:cubicBezTo>
                    <a:cubicBezTo>
                      <a:pt x="3384" y="3368"/>
                      <a:pt x="1824" y="3536"/>
                      <a:pt x="1256" y="3312"/>
                    </a:cubicBezTo>
                    <a:cubicBezTo>
                      <a:pt x="688" y="3088"/>
                      <a:pt x="712" y="2400"/>
                      <a:pt x="632" y="2016"/>
                    </a:cubicBezTo>
                    <a:cubicBezTo>
                      <a:pt x="552" y="1632"/>
                      <a:pt x="752" y="1176"/>
                      <a:pt x="776" y="1008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678" name="Group 7"/>
              <p:cNvGrpSpPr/>
              <p:nvPr/>
            </p:nvGrpSpPr>
            <p:grpSpPr>
              <a:xfrm>
                <a:off x="983160" y="4617000"/>
                <a:ext cx="186480" cy="286920"/>
                <a:chOff x="983160" y="4617000"/>
                <a:chExt cx="186480" cy="286920"/>
              </a:xfrm>
            </p:grpSpPr>
            <p:sp>
              <p:nvSpPr>
                <p:cNvPr id="679" name="Freeform 8"/>
                <p:cNvSpPr/>
                <p:nvPr/>
              </p:nvSpPr>
              <p:spPr>
                <a:xfrm>
                  <a:off x="994680" y="4629960"/>
                  <a:ext cx="174960" cy="200520"/>
                </a:xfrm>
                <a:custGeom>
                  <a:avLst/>
                  <a:gdLst>
                    <a:gd name="textAreaLeft" fmla="*/ 0 w 174960"/>
                    <a:gd name="textAreaRight" fmla="*/ 175320 w 174960"/>
                    <a:gd name="textAreaTop" fmla="*/ 0 h 200520"/>
                    <a:gd name="textAreaBottom" fmla="*/ 200880 h 200520"/>
                  </a:gdLst>
                  <a:ahLst/>
                  <a:rect l="textAreaLeft" t="textAreaTop" r="textAreaRight" b="textAreaBottom"/>
                  <a:pathLst>
                    <a:path w="355" h="335">
                      <a:moveTo>
                        <a:pt x="43" y="107"/>
                      </a:moveTo>
                      <a:lnTo>
                        <a:pt x="44" y="107"/>
                      </a:lnTo>
                      <a:lnTo>
                        <a:pt x="43" y="107"/>
                      </a:lnTo>
                      <a:lnTo>
                        <a:pt x="53" y="108"/>
                      </a:lnTo>
                      <a:lnTo>
                        <a:pt x="62" y="110"/>
                      </a:lnTo>
                      <a:lnTo>
                        <a:pt x="71" y="114"/>
                      </a:lnTo>
                      <a:lnTo>
                        <a:pt x="78" y="120"/>
                      </a:lnTo>
                      <a:lnTo>
                        <a:pt x="85" y="127"/>
                      </a:lnTo>
                      <a:lnTo>
                        <a:pt x="89" y="135"/>
                      </a:lnTo>
                      <a:lnTo>
                        <a:pt x="93" y="144"/>
                      </a:lnTo>
                      <a:lnTo>
                        <a:pt x="94" y="153"/>
                      </a:lnTo>
                      <a:lnTo>
                        <a:pt x="93" y="163"/>
                      </a:lnTo>
                      <a:lnTo>
                        <a:pt x="90" y="172"/>
                      </a:lnTo>
                      <a:lnTo>
                        <a:pt x="86" y="180"/>
                      </a:lnTo>
                      <a:lnTo>
                        <a:pt x="80" y="187"/>
                      </a:lnTo>
                      <a:lnTo>
                        <a:pt x="73" y="193"/>
                      </a:lnTo>
                      <a:lnTo>
                        <a:pt x="65" y="198"/>
                      </a:lnTo>
                      <a:lnTo>
                        <a:pt x="56" y="200"/>
                      </a:lnTo>
                      <a:lnTo>
                        <a:pt x="47" y="200"/>
                      </a:lnTo>
                      <a:lnTo>
                        <a:pt x="33" y="198"/>
                      </a:lnTo>
                      <a:lnTo>
                        <a:pt x="23" y="193"/>
                      </a:lnTo>
                      <a:lnTo>
                        <a:pt x="14" y="186"/>
                      </a:lnTo>
                      <a:lnTo>
                        <a:pt x="8" y="178"/>
                      </a:lnTo>
                      <a:lnTo>
                        <a:pt x="4" y="169"/>
                      </a:lnTo>
                      <a:lnTo>
                        <a:pt x="2" y="159"/>
                      </a:lnTo>
                      <a:lnTo>
                        <a:pt x="1" y="149"/>
                      </a:lnTo>
                      <a:lnTo>
                        <a:pt x="0" y="137"/>
                      </a:lnTo>
                      <a:lnTo>
                        <a:pt x="1" y="125"/>
                      </a:lnTo>
                      <a:lnTo>
                        <a:pt x="3" y="112"/>
                      </a:lnTo>
                      <a:lnTo>
                        <a:pt x="8" y="99"/>
                      </a:lnTo>
                      <a:lnTo>
                        <a:pt x="14" y="86"/>
                      </a:lnTo>
                      <a:lnTo>
                        <a:pt x="22" y="75"/>
                      </a:lnTo>
                      <a:lnTo>
                        <a:pt x="31" y="63"/>
                      </a:lnTo>
                      <a:lnTo>
                        <a:pt x="42" y="52"/>
                      </a:lnTo>
                      <a:lnTo>
                        <a:pt x="55" y="43"/>
                      </a:lnTo>
                      <a:lnTo>
                        <a:pt x="68" y="33"/>
                      </a:lnTo>
                      <a:lnTo>
                        <a:pt x="84" y="25"/>
                      </a:lnTo>
                      <a:lnTo>
                        <a:pt x="101" y="18"/>
                      </a:lnTo>
                      <a:lnTo>
                        <a:pt x="119" y="12"/>
                      </a:lnTo>
                      <a:lnTo>
                        <a:pt x="138" y="7"/>
                      </a:lnTo>
                      <a:lnTo>
                        <a:pt x="159" y="3"/>
                      </a:lnTo>
                      <a:lnTo>
                        <a:pt x="181" y="0"/>
                      </a:lnTo>
                      <a:lnTo>
                        <a:pt x="204" y="0"/>
                      </a:lnTo>
                      <a:lnTo>
                        <a:pt x="221" y="0"/>
                      </a:lnTo>
                      <a:lnTo>
                        <a:pt x="237" y="2"/>
                      </a:lnTo>
                      <a:lnTo>
                        <a:pt x="253" y="6"/>
                      </a:lnTo>
                      <a:lnTo>
                        <a:pt x="267" y="9"/>
                      </a:lnTo>
                      <a:lnTo>
                        <a:pt x="281" y="14"/>
                      </a:lnTo>
                      <a:lnTo>
                        <a:pt x="293" y="20"/>
                      </a:lnTo>
                      <a:lnTo>
                        <a:pt x="304" y="27"/>
                      </a:lnTo>
                      <a:lnTo>
                        <a:pt x="315" y="35"/>
                      </a:lnTo>
                      <a:lnTo>
                        <a:pt x="324" y="43"/>
                      </a:lnTo>
                      <a:lnTo>
                        <a:pt x="332" y="52"/>
                      </a:lnTo>
                      <a:lnTo>
                        <a:pt x="339" y="62"/>
                      </a:lnTo>
                      <a:lnTo>
                        <a:pt x="345" y="72"/>
                      </a:lnTo>
                      <a:lnTo>
                        <a:pt x="349" y="83"/>
                      </a:lnTo>
                      <a:lnTo>
                        <a:pt x="353" y="94"/>
                      </a:lnTo>
                      <a:lnTo>
                        <a:pt x="355" y="106"/>
                      </a:lnTo>
                      <a:lnTo>
                        <a:pt x="355" y="118"/>
                      </a:lnTo>
                      <a:lnTo>
                        <a:pt x="353" y="143"/>
                      </a:lnTo>
                      <a:lnTo>
                        <a:pt x="346" y="166"/>
                      </a:lnTo>
                      <a:lnTo>
                        <a:pt x="336" y="185"/>
                      </a:lnTo>
                      <a:lnTo>
                        <a:pt x="323" y="201"/>
                      </a:lnTo>
                      <a:lnTo>
                        <a:pt x="309" y="214"/>
                      </a:lnTo>
                      <a:lnTo>
                        <a:pt x="295" y="226"/>
                      </a:lnTo>
                      <a:lnTo>
                        <a:pt x="283" y="234"/>
                      </a:lnTo>
                      <a:lnTo>
                        <a:pt x="271" y="240"/>
                      </a:lnTo>
                      <a:lnTo>
                        <a:pt x="264" y="244"/>
                      </a:lnTo>
                      <a:lnTo>
                        <a:pt x="254" y="247"/>
                      </a:lnTo>
                      <a:lnTo>
                        <a:pt x="244" y="251"/>
                      </a:lnTo>
                      <a:lnTo>
                        <a:pt x="234" y="256"/>
                      </a:lnTo>
                      <a:lnTo>
                        <a:pt x="224" y="264"/>
                      </a:lnTo>
                      <a:lnTo>
                        <a:pt x="216" y="274"/>
                      </a:lnTo>
                      <a:lnTo>
                        <a:pt x="211" y="287"/>
                      </a:lnTo>
                      <a:lnTo>
                        <a:pt x="209" y="305"/>
                      </a:lnTo>
                      <a:lnTo>
                        <a:pt x="209" y="335"/>
                      </a:lnTo>
                      <a:lnTo>
                        <a:pt x="182" y="335"/>
                      </a:lnTo>
                      <a:lnTo>
                        <a:pt x="182" y="287"/>
                      </a:lnTo>
                      <a:lnTo>
                        <a:pt x="186" y="260"/>
                      </a:lnTo>
                      <a:lnTo>
                        <a:pt x="193" y="238"/>
                      </a:lnTo>
                      <a:lnTo>
                        <a:pt x="205" y="220"/>
                      </a:lnTo>
                      <a:lnTo>
                        <a:pt x="218" y="203"/>
                      </a:lnTo>
                      <a:lnTo>
                        <a:pt x="230" y="186"/>
                      </a:lnTo>
                      <a:lnTo>
                        <a:pt x="242" y="169"/>
                      </a:lnTo>
                      <a:lnTo>
                        <a:pt x="250" y="149"/>
                      </a:lnTo>
                      <a:lnTo>
                        <a:pt x="253" y="126"/>
                      </a:lnTo>
                      <a:lnTo>
                        <a:pt x="253" y="117"/>
                      </a:lnTo>
                      <a:lnTo>
                        <a:pt x="252" y="108"/>
                      </a:lnTo>
                      <a:lnTo>
                        <a:pt x="251" y="99"/>
                      </a:lnTo>
                      <a:lnTo>
                        <a:pt x="248" y="91"/>
                      </a:lnTo>
                      <a:lnTo>
                        <a:pt x="246" y="83"/>
                      </a:lnTo>
                      <a:lnTo>
                        <a:pt x="242" y="75"/>
                      </a:lnTo>
                      <a:lnTo>
                        <a:pt x="238" y="68"/>
                      </a:lnTo>
                      <a:lnTo>
                        <a:pt x="233" y="61"/>
                      </a:lnTo>
                      <a:lnTo>
                        <a:pt x="227" y="54"/>
                      </a:lnTo>
                      <a:lnTo>
                        <a:pt x="219" y="49"/>
                      </a:lnTo>
                      <a:lnTo>
                        <a:pt x="210" y="44"/>
                      </a:lnTo>
                      <a:lnTo>
                        <a:pt x="201" y="39"/>
                      </a:lnTo>
                      <a:lnTo>
                        <a:pt x="190" y="36"/>
                      </a:lnTo>
                      <a:lnTo>
                        <a:pt x="177" y="34"/>
                      </a:lnTo>
                      <a:lnTo>
                        <a:pt x="163" y="32"/>
                      </a:lnTo>
                      <a:lnTo>
                        <a:pt x="148" y="31"/>
                      </a:lnTo>
                      <a:lnTo>
                        <a:pt x="139" y="32"/>
                      </a:lnTo>
                      <a:lnTo>
                        <a:pt x="129" y="34"/>
                      </a:lnTo>
                      <a:lnTo>
                        <a:pt x="119" y="36"/>
                      </a:lnTo>
                      <a:lnTo>
                        <a:pt x="110" y="39"/>
                      </a:lnTo>
                      <a:lnTo>
                        <a:pt x="101" y="43"/>
                      </a:lnTo>
                      <a:lnTo>
                        <a:pt x="92" y="47"/>
                      </a:lnTo>
                      <a:lnTo>
                        <a:pt x="84" y="52"/>
                      </a:lnTo>
                      <a:lnTo>
                        <a:pt x="76" y="58"/>
                      </a:lnTo>
                      <a:lnTo>
                        <a:pt x="69" y="63"/>
                      </a:lnTo>
                      <a:lnTo>
                        <a:pt x="63" y="70"/>
                      </a:lnTo>
                      <a:lnTo>
                        <a:pt x="57" y="76"/>
                      </a:lnTo>
                      <a:lnTo>
                        <a:pt x="52" y="82"/>
                      </a:lnTo>
                      <a:lnTo>
                        <a:pt x="48" y="88"/>
                      </a:lnTo>
                      <a:lnTo>
                        <a:pt x="45" y="94"/>
                      </a:lnTo>
                      <a:lnTo>
                        <a:pt x="44" y="100"/>
                      </a:lnTo>
                      <a:lnTo>
                        <a:pt x="43" y="10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9"/>
                <p:cNvSpPr/>
                <p:nvPr/>
              </p:nvSpPr>
              <p:spPr>
                <a:xfrm>
                  <a:off x="1071000" y="4842360"/>
                  <a:ext cx="41760" cy="615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85" h="103">
                      <a:moveTo>
                        <a:pt x="43" y="103"/>
                      </a:moveTo>
                      <a:lnTo>
                        <a:pt x="51" y="102"/>
                      </a:lnTo>
                      <a:lnTo>
                        <a:pt x="60" y="99"/>
                      </a:lnTo>
                      <a:lnTo>
                        <a:pt x="67" y="94"/>
                      </a:lnTo>
                      <a:lnTo>
                        <a:pt x="73" y="88"/>
                      </a:lnTo>
                      <a:lnTo>
                        <a:pt x="78" y="81"/>
                      </a:lnTo>
                      <a:lnTo>
                        <a:pt x="82" y="72"/>
                      </a:lnTo>
                      <a:lnTo>
                        <a:pt x="84" y="62"/>
                      </a:lnTo>
                      <a:lnTo>
                        <a:pt x="85" y="52"/>
                      </a:lnTo>
                      <a:lnTo>
                        <a:pt x="84" y="41"/>
                      </a:lnTo>
                      <a:lnTo>
                        <a:pt x="82" y="32"/>
                      </a:lnTo>
                      <a:lnTo>
                        <a:pt x="78" y="23"/>
                      </a:lnTo>
                      <a:lnTo>
                        <a:pt x="73" y="15"/>
                      </a:lnTo>
                      <a:lnTo>
                        <a:pt x="67" y="9"/>
                      </a:lnTo>
                      <a:lnTo>
                        <a:pt x="60" y="4"/>
                      </a:lnTo>
                      <a:lnTo>
                        <a:pt x="51" y="1"/>
                      </a:lnTo>
                      <a:lnTo>
                        <a:pt x="43" y="0"/>
                      </a:lnTo>
                      <a:lnTo>
                        <a:pt x="34" y="1"/>
                      </a:lnTo>
                      <a:lnTo>
                        <a:pt x="26" y="4"/>
                      </a:lnTo>
                      <a:lnTo>
                        <a:pt x="19" y="9"/>
                      </a:lnTo>
                      <a:lnTo>
                        <a:pt x="13" y="15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1" y="41"/>
                      </a:lnTo>
                      <a:lnTo>
                        <a:pt x="0" y="52"/>
                      </a:lnTo>
                      <a:lnTo>
                        <a:pt x="1" y="62"/>
                      </a:lnTo>
                      <a:lnTo>
                        <a:pt x="4" y="72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19" y="94"/>
                      </a:lnTo>
                      <a:lnTo>
                        <a:pt x="26" y="99"/>
                      </a:lnTo>
                      <a:lnTo>
                        <a:pt x="34" y="102"/>
                      </a:lnTo>
                      <a:lnTo>
                        <a:pt x="43" y="10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0"/>
                <p:cNvSpPr/>
                <p:nvPr/>
              </p:nvSpPr>
              <p:spPr>
                <a:xfrm>
                  <a:off x="983160" y="4617000"/>
                  <a:ext cx="174960" cy="200520"/>
                </a:xfrm>
                <a:custGeom>
                  <a:avLst/>
                  <a:gdLst>
                    <a:gd name="textAreaLeft" fmla="*/ 0 w 174960"/>
                    <a:gd name="textAreaRight" fmla="*/ 175320 w 174960"/>
                    <a:gd name="textAreaTop" fmla="*/ 0 h 200520"/>
                    <a:gd name="textAreaBottom" fmla="*/ 200880 h 200520"/>
                  </a:gdLst>
                  <a:ahLst/>
                  <a:rect l="textAreaLeft" t="textAreaTop" r="textAreaRight" b="textAreaBottom"/>
                  <a:pathLst>
                    <a:path w="355" h="335">
                      <a:moveTo>
                        <a:pt x="43" y="107"/>
                      </a:moveTo>
                      <a:lnTo>
                        <a:pt x="44" y="107"/>
                      </a:lnTo>
                      <a:lnTo>
                        <a:pt x="43" y="107"/>
                      </a:lnTo>
                      <a:lnTo>
                        <a:pt x="53" y="108"/>
                      </a:lnTo>
                      <a:lnTo>
                        <a:pt x="62" y="111"/>
                      </a:lnTo>
                      <a:lnTo>
                        <a:pt x="71" y="115"/>
                      </a:lnTo>
                      <a:lnTo>
                        <a:pt x="78" y="121"/>
                      </a:lnTo>
                      <a:lnTo>
                        <a:pt x="85" y="128"/>
                      </a:lnTo>
                      <a:lnTo>
                        <a:pt x="89" y="136"/>
                      </a:lnTo>
                      <a:lnTo>
                        <a:pt x="92" y="144"/>
                      </a:lnTo>
                      <a:lnTo>
                        <a:pt x="94" y="154"/>
                      </a:lnTo>
                      <a:lnTo>
                        <a:pt x="92" y="163"/>
                      </a:lnTo>
                      <a:lnTo>
                        <a:pt x="90" y="172"/>
                      </a:lnTo>
                      <a:lnTo>
                        <a:pt x="86" y="181"/>
                      </a:lnTo>
                      <a:lnTo>
                        <a:pt x="80" y="188"/>
                      </a:lnTo>
                      <a:lnTo>
                        <a:pt x="73" y="194"/>
                      </a:lnTo>
                      <a:lnTo>
                        <a:pt x="65" y="198"/>
                      </a:lnTo>
                      <a:lnTo>
                        <a:pt x="57" y="200"/>
                      </a:lnTo>
                      <a:lnTo>
                        <a:pt x="47" y="200"/>
                      </a:lnTo>
                      <a:lnTo>
                        <a:pt x="33" y="198"/>
                      </a:lnTo>
                      <a:lnTo>
                        <a:pt x="22" y="193"/>
                      </a:lnTo>
                      <a:lnTo>
                        <a:pt x="14" y="187"/>
                      </a:lnTo>
                      <a:lnTo>
                        <a:pt x="8" y="179"/>
                      </a:lnTo>
                      <a:lnTo>
                        <a:pt x="4" y="170"/>
                      </a:lnTo>
                      <a:lnTo>
                        <a:pt x="2" y="159"/>
                      </a:lnTo>
                      <a:lnTo>
                        <a:pt x="1" y="149"/>
                      </a:lnTo>
                      <a:lnTo>
                        <a:pt x="0" y="138"/>
                      </a:lnTo>
                      <a:lnTo>
                        <a:pt x="1" y="125"/>
                      </a:lnTo>
                      <a:lnTo>
                        <a:pt x="3" y="112"/>
                      </a:lnTo>
                      <a:lnTo>
                        <a:pt x="8" y="99"/>
                      </a:lnTo>
                      <a:lnTo>
                        <a:pt x="14" y="87"/>
                      </a:lnTo>
                      <a:lnTo>
                        <a:pt x="22" y="75"/>
                      </a:lnTo>
                      <a:lnTo>
                        <a:pt x="31" y="63"/>
                      </a:lnTo>
                      <a:lnTo>
                        <a:pt x="43" y="53"/>
                      </a:lnTo>
                      <a:lnTo>
                        <a:pt x="55" y="43"/>
                      </a:lnTo>
                      <a:lnTo>
                        <a:pt x="69" y="34"/>
                      </a:lnTo>
                      <a:lnTo>
                        <a:pt x="84" y="25"/>
                      </a:lnTo>
                      <a:lnTo>
                        <a:pt x="101" y="18"/>
                      </a:lnTo>
                      <a:lnTo>
                        <a:pt x="119" y="12"/>
                      </a:lnTo>
                      <a:lnTo>
                        <a:pt x="138" y="7"/>
                      </a:lnTo>
                      <a:lnTo>
                        <a:pt x="159" y="3"/>
                      </a:lnTo>
                      <a:lnTo>
                        <a:pt x="180" y="1"/>
                      </a:lnTo>
                      <a:lnTo>
                        <a:pt x="203" y="0"/>
                      </a:lnTo>
                      <a:lnTo>
                        <a:pt x="221" y="1"/>
                      </a:lnTo>
                      <a:lnTo>
                        <a:pt x="237" y="3"/>
                      </a:lnTo>
                      <a:lnTo>
                        <a:pt x="253" y="6"/>
                      </a:lnTo>
                      <a:lnTo>
                        <a:pt x="267" y="10"/>
                      </a:lnTo>
                      <a:lnTo>
                        <a:pt x="281" y="15"/>
                      </a:lnTo>
                      <a:lnTo>
                        <a:pt x="293" y="21"/>
                      </a:lnTo>
                      <a:lnTo>
                        <a:pt x="304" y="28"/>
                      </a:lnTo>
                      <a:lnTo>
                        <a:pt x="315" y="35"/>
                      </a:lnTo>
                      <a:lnTo>
                        <a:pt x="324" y="44"/>
                      </a:lnTo>
                      <a:lnTo>
                        <a:pt x="332" y="53"/>
                      </a:lnTo>
                      <a:lnTo>
                        <a:pt x="339" y="62"/>
                      </a:lnTo>
                      <a:lnTo>
                        <a:pt x="345" y="73"/>
                      </a:lnTo>
                      <a:lnTo>
                        <a:pt x="349" y="84"/>
                      </a:lnTo>
                      <a:lnTo>
                        <a:pt x="353" y="95"/>
                      </a:lnTo>
                      <a:lnTo>
                        <a:pt x="355" y="107"/>
                      </a:lnTo>
                      <a:lnTo>
                        <a:pt x="355" y="118"/>
                      </a:lnTo>
                      <a:lnTo>
                        <a:pt x="353" y="144"/>
                      </a:lnTo>
                      <a:lnTo>
                        <a:pt x="346" y="166"/>
                      </a:lnTo>
                      <a:lnTo>
                        <a:pt x="336" y="185"/>
                      </a:lnTo>
                      <a:lnTo>
                        <a:pt x="323" y="201"/>
                      </a:lnTo>
                      <a:lnTo>
                        <a:pt x="309" y="214"/>
                      </a:lnTo>
                      <a:lnTo>
                        <a:pt x="295" y="226"/>
                      </a:lnTo>
                      <a:lnTo>
                        <a:pt x="282" y="234"/>
                      </a:lnTo>
                      <a:lnTo>
                        <a:pt x="271" y="241"/>
                      </a:lnTo>
                      <a:lnTo>
                        <a:pt x="263" y="244"/>
                      </a:lnTo>
                      <a:lnTo>
                        <a:pt x="254" y="248"/>
                      </a:lnTo>
                      <a:lnTo>
                        <a:pt x="244" y="252"/>
                      </a:lnTo>
                      <a:lnTo>
                        <a:pt x="234" y="257"/>
                      </a:lnTo>
                      <a:lnTo>
                        <a:pt x="224" y="264"/>
                      </a:lnTo>
                      <a:lnTo>
                        <a:pt x="216" y="274"/>
                      </a:lnTo>
                      <a:lnTo>
                        <a:pt x="211" y="287"/>
                      </a:lnTo>
                      <a:lnTo>
                        <a:pt x="209" y="305"/>
                      </a:lnTo>
                      <a:lnTo>
                        <a:pt x="209" y="335"/>
                      </a:lnTo>
                      <a:lnTo>
                        <a:pt x="183" y="335"/>
                      </a:lnTo>
                      <a:lnTo>
                        <a:pt x="183" y="287"/>
                      </a:lnTo>
                      <a:lnTo>
                        <a:pt x="186" y="260"/>
                      </a:lnTo>
                      <a:lnTo>
                        <a:pt x="193" y="239"/>
                      </a:lnTo>
                      <a:lnTo>
                        <a:pt x="205" y="220"/>
                      </a:lnTo>
                      <a:lnTo>
                        <a:pt x="217" y="203"/>
                      </a:lnTo>
                      <a:lnTo>
                        <a:pt x="230" y="187"/>
                      </a:lnTo>
                      <a:lnTo>
                        <a:pt x="242" y="170"/>
                      </a:lnTo>
                      <a:lnTo>
                        <a:pt x="249" y="150"/>
                      </a:lnTo>
                      <a:lnTo>
                        <a:pt x="253" y="126"/>
                      </a:lnTo>
                      <a:lnTo>
                        <a:pt x="253" y="117"/>
                      </a:lnTo>
                      <a:lnTo>
                        <a:pt x="252" y="108"/>
                      </a:lnTo>
                      <a:lnTo>
                        <a:pt x="251" y="100"/>
                      </a:lnTo>
                      <a:lnTo>
                        <a:pt x="248" y="92"/>
                      </a:lnTo>
                      <a:lnTo>
                        <a:pt x="245" y="83"/>
                      </a:lnTo>
                      <a:lnTo>
                        <a:pt x="242" y="75"/>
                      </a:lnTo>
                      <a:lnTo>
                        <a:pt x="238" y="68"/>
                      </a:lnTo>
                      <a:lnTo>
                        <a:pt x="233" y="61"/>
                      </a:lnTo>
                      <a:lnTo>
                        <a:pt x="226" y="55"/>
                      </a:lnTo>
                      <a:lnTo>
                        <a:pt x="219" y="49"/>
                      </a:lnTo>
                      <a:lnTo>
                        <a:pt x="210" y="44"/>
                      </a:lnTo>
                      <a:lnTo>
                        <a:pt x="201" y="40"/>
                      </a:lnTo>
                      <a:lnTo>
                        <a:pt x="189" y="36"/>
                      </a:lnTo>
                      <a:lnTo>
                        <a:pt x="177" y="34"/>
                      </a:lnTo>
                      <a:lnTo>
                        <a:pt x="163" y="33"/>
                      </a:lnTo>
                      <a:lnTo>
                        <a:pt x="148" y="32"/>
                      </a:lnTo>
                      <a:lnTo>
                        <a:pt x="138" y="33"/>
                      </a:lnTo>
                      <a:lnTo>
                        <a:pt x="129" y="34"/>
                      </a:lnTo>
                      <a:lnTo>
                        <a:pt x="119" y="36"/>
                      </a:lnTo>
                      <a:lnTo>
                        <a:pt x="110" y="39"/>
                      </a:lnTo>
                      <a:lnTo>
                        <a:pt x="101" y="43"/>
                      </a:lnTo>
                      <a:lnTo>
                        <a:pt x="92" y="48"/>
                      </a:lnTo>
                      <a:lnTo>
                        <a:pt x="84" y="53"/>
                      </a:lnTo>
                      <a:lnTo>
                        <a:pt x="76" y="58"/>
                      </a:lnTo>
                      <a:lnTo>
                        <a:pt x="69" y="64"/>
                      </a:lnTo>
                      <a:lnTo>
                        <a:pt x="63" y="70"/>
                      </a:lnTo>
                      <a:lnTo>
                        <a:pt x="57" y="76"/>
                      </a:lnTo>
                      <a:lnTo>
                        <a:pt x="52" y="83"/>
                      </a:lnTo>
                      <a:lnTo>
                        <a:pt x="48" y="89"/>
                      </a:lnTo>
                      <a:lnTo>
                        <a:pt x="45" y="95"/>
                      </a:lnTo>
                      <a:lnTo>
                        <a:pt x="44" y="101"/>
                      </a:lnTo>
                      <a:lnTo>
                        <a:pt x="43" y="107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1"/>
                <p:cNvSpPr/>
                <p:nvPr/>
              </p:nvSpPr>
              <p:spPr>
                <a:xfrm>
                  <a:off x="1059120" y="4830120"/>
                  <a:ext cx="41760" cy="6084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85" h="102">
                      <a:moveTo>
                        <a:pt x="43" y="102"/>
                      </a:moveTo>
                      <a:lnTo>
                        <a:pt x="51" y="101"/>
                      </a:lnTo>
                      <a:lnTo>
                        <a:pt x="60" y="98"/>
                      </a:lnTo>
                      <a:lnTo>
                        <a:pt x="67" y="93"/>
                      </a:lnTo>
                      <a:lnTo>
                        <a:pt x="73" y="87"/>
                      </a:lnTo>
                      <a:lnTo>
                        <a:pt x="78" y="80"/>
                      </a:lnTo>
                      <a:lnTo>
                        <a:pt x="82" y="71"/>
                      </a:lnTo>
                      <a:lnTo>
                        <a:pt x="84" y="61"/>
                      </a:lnTo>
                      <a:lnTo>
                        <a:pt x="85" y="51"/>
                      </a:lnTo>
                      <a:lnTo>
                        <a:pt x="84" y="41"/>
                      </a:lnTo>
                      <a:lnTo>
                        <a:pt x="82" y="31"/>
                      </a:lnTo>
                      <a:lnTo>
                        <a:pt x="78" y="22"/>
                      </a:lnTo>
                      <a:lnTo>
                        <a:pt x="73" y="15"/>
                      </a:lnTo>
                      <a:lnTo>
                        <a:pt x="67" y="9"/>
                      </a:lnTo>
                      <a:lnTo>
                        <a:pt x="60" y="4"/>
                      </a:lnTo>
                      <a:lnTo>
                        <a:pt x="51" y="1"/>
                      </a:lnTo>
                      <a:lnTo>
                        <a:pt x="43" y="0"/>
                      </a:lnTo>
                      <a:lnTo>
                        <a:pt x="34" y="1"/>
                      </a:lnTo>
                      <a:lnTo>
                        <a:pt x="26" y="4"/>
                      </a:lnTo>
                      <a:lnTo>
                        <a:pt x="19" y="9"/>
                      </a:lnTo>
                      <a:lnTo>
                        <a:pt x="12" y="15"/>
                      </a:lnTo>
                      <a:lnTo>
                        <a:pt x="7" y="22"/>
                      </a:lnTo>
                      <a:lnTo>
                        <a:pt x="3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1" y="61"/>
                      </a:lnTo>
                      <a:lnTo>
                        <a:pt x="3" y="71"/>
                      </a:lnTo>
                      <a:lnTo>
                        <a:pt x="7" y="80"/>
                      </a:lnTo>
                      <a:lnTo>
                        <a:pt x="12" y="87"/>
                      </a:lnTo>
                      <a:lnTo>
                        <a:pt x="19" y="93"/>
                      </a:lnTo>
                      <a:lnTo>
                        <a:pt x="26" y="98"/>
                      </a:lnTo>
                      <a:lnTo>
                        <a:pt x="34" y="101"/>
                      </a:lnTo>
                      <a:lnTo>
                        <a:pt x="43" y="102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12"/>
              <p:cNvGrpSpPr/>
              <p:nvPr/>
            </p:nvGrpSpPr>
            <p:grpSpPr>
              <a:xfrm>
                <a:off x="1492920" y="1484640"/>
                <a:ext cx="233640" cy="344160"/>
                <a:chOff x="1492920" y="1484640"/>
                <a:chExt cx="233640" cy="344160"/>
              </a:xfrm>
            </p:grpSpPr>
            <p:sp>
              <p:nvSpPr>
                <p:cNvPr id="684" name="Freeform 13"/>
                <p:cNvSpPr/>
                <p:nvPr/>
              </p:nvSpPr>
              <p:spPr>
                <a:xfrm>
                  <a:off x="1507680" y="1500120"/>
                  <a:ext cx="218880" cy="240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355" h="335">
                      <a:moveTo>
                        <a:pt x="43" y="107"/>
                      </a:moveTo>
                      <a:lnTo>
                        <a:pt x="44" y="107"/>
                      </a:lnTo>
                      <a:lnTo>
                        <a:pt x="43" y="107"/>
                      </a:lnTo>
                      <a:lnTo>
                        <a:pt x="53" y="108"/>
                      </a:lnTo>
                      <a:lnTo>
                        <a:pt x="62" y="110"/>
                      </a:lnTo>
                      <a:lnTo>
                        <a:pt x="71" y="114"/>
                      </a:lnTo>
                      <a:lnTo>
                        <a:pt x="78" y="120"/>
                      </a:lnTo>
                      <a:lnTo>
                        <a:pt x="85" y="127"/>
                      </a:lnTo>
                      <a:lnTo>
                        <a:pt x="89" y="135"/>
                      </a:lnTo>
                      <a:lnTo>
                        <a:pt x="93" y="144"/>
                      </a:lnTo>
                      <a:lnTo>
                        <a:pt x="94" y="153"/>
                      </a:lnTo>
                      <a:lnTo>
                        <a:pt x="93" y="163"/>
                      </a:lnTo>
                      <a:lnTo>
                        <a:pt x="90" y="172"/>
                      </a:lnTo>
                      <a:lnTo>
                        <a:pt x="86" y="180"/>
                      </a:lnTo>
                      <a:lnTo>
                        <a:pt x="80" y="187"/>
                      </a:lnTo>
                      <a:lnTo>
                        <a:pt x="73" y="193"/>
                      </a:lnTo>
                      <a:lnTo>
                        <a:pt x="65" y="198"/>
                      </a:lnTo>
                      <a:lnTo>
                        <a:pt x="56" y="200"/>
                      </a:lnTo>
                      <a:lnTo>
                        <a:pt x="47" y="200"/>
                      </a:lnTo>
                      <a:lnTo>
                        <a:pt x="33" y="198"/>
                      </a:lnTo>
                      <a:lnTo>
                        <a:pt x="23" y="193"/>
                      </a:lnTo>
                      <a:lnTo>
                        <a:pt x="14" y="186"/>
                      </a:lnTo>
                      <a:lnTo>
                        <a:pt x="8" y="178"/>
                      </a:lnTo>
                      <a:lnTo>
                        <a:pt x="4" y="169"/>
                      </a:lnTo>
                      <a:lnTo>
                        <a:pt x="2" y="159"/>
                      </a:lnTo>
                      <a:lnTo>
                        <a:pt x="1" y="149"/>
                      </a:lnTo>
                      <a:lnTo>
                        <a:pt x="0" y="137"/>
                      </a:lnTo>
                      <a:lnTo>
                        <a:pt x="1" y="125"/>
                      </a:lnTo>
                      <a:lnTo>
                        <a:pt x="3" y="112"/>
                      </a:lnTo>
                      <a:lnTo>
                        <a:pt x="8" y="99"/>
                      </a:lnTo>
                      <a:lnTo>
                        <a:pt x="14" y="86"/>
                      </a:lnTo>
                      <a:lnTo>
                        <a:pt x="22" y="75"/>
                      </a:lnTo>
                      <a:lnTo>
                        <a:pt x="31" y="63"/>
                      </a:lnTo>
                      <a:lnTo>
                        <a:pt x="42" y="52"/>
                      </a:lnTo>
                      <a:lnTo>
                        <a:pt x="55" y="43"/>
                      </a:lnTo>
                      <a:lnTo>
                        <a:pt x="68" y="33"/>
                      </a:lnTo>
                      <a:lnTo>
                        <a:pt x="84" y="25"/>
                      </a:lnTo>
                      <a:lnTo>
                        <a:pt x="101" y="18"/>
                      </a:lnTo>
                      <a:lnTo>
                        <a:pt x="119" y="12"/>
                      </a:lnTo>
                      <a:lnTo>
                        <a:pt x="138" y="7"/>
                      </a:lnTo>
                      <a:lnTo>
                        <a:pt x="159" y="3"/>
                      </a:lnTo>
                      <a:lnTo>
                        <a:pt x="181" y="0"/>
                      </a:lnTo>
                      <a:lnTo>
                        <a:pt x="204" y="0"/>
                      </a:lnTo>
                      <a:lnTo>
                        <a:pt x="221" y="0"/>
                      </a:lnTo>
                      <a:lnTo>
                        <a:pt x="237" y="2"/>
                      </a:lnTo>
                      <a:lnTo>
                        <a:pt x="253" y="6"/>
                      </a:lnTo>
                      <a:lnTo>
                        <a:pt x="267" y="9"/>
                      </a:lnTo>
                      <a:lnTo>
                        <a:pt x="281" y="14"/>
                      </a:lnTo>
                      <a:lnTo>
                        <a:pt x="293" y="20"/>
                      </a:lnTo>
                      <a:lnTo>
                        <a:pt x="304" y="27"/>
                      </a:lnTo>
                      <a:lnTo>
                        <a:pt x="315" y="35"/>
                      </a:lnTo>
                      <a:lnTo>
                        <a:pt x="324" y="43"/>
                      </a:lnTo>
                      <a:lnTo>
                        <a:pt x="332" y="52"/>
                      </a:lnTo>
                      <a:lnTo>
                        <a:pt x="339" y="62"/>
                      </a:lnTo>
                      <a:lnTo>
                        <a:pt x="345" y="72"/>
                      </a:lnTo>
                      <a:lnTo>
                        <a:pt x="349" y="83"/>
                      </a:lnTo>
                      <a:lnTo>
                        <a:pt x="353" y="94"/>
                      </a:lnTo>
                      <a:lnTo>
                        <a:pt x="355" y="106"/>
                      </a:lnTo>
                      <a:lnTo>
                        <a:pt x="355" y="118"/>
                      </a:lnTo>
                      <a:lnTo>
                        <a:pt x="353" y="143"/>
                      </a:lnTo>
                      <a:lnTo>
                        <a:pt x="346" y="166"/>
                      </a:lnTo>
                      <a:lnTo>
                        <a:pt x="336" y="185"/>
                      </a:lnTo>
                      <a:lnTo>
                        <a:pt x="323" y="201"/>
                      </a:lnTo>
                      <a:lnTo>
                        <a:pt x="309" y="214"/>
                      </a:lnTo>
                      <a:lnTo>
                        <a:pt x="295" y="226"/>
                      </a:lnTo>
                      <a:lnTo>
                        <a:pt x="283" y="234"/>
                      </a:lnTo>
                      <a:lnTo>
                        <a:pt x="271" y="240"/>
                      </a:lnTo>
                      <a:lnTo>
                        <a:pt x="264" y="244"/>
                      </a:lnTo>
                      <a:lnTo>
                        <a:pt x="254" y="247"/>
                      </a:lnTo>
                      <a:lnTo>
                        <a:pt x="244" y="251"/>
                      </a:lnTo>
                      <a:lnTo>
                        <a:pt x="234" y="256"/>
                      </a:lnTo>
                      <a:lnTo>
                        <a:pt x="224" y="264"/>
                      </a:lnTo>
                      <a:lnTo>
                        <a:pt x="216" y="274"/>
                      </a:lnTo>
                      <a:lnTo>
                        <a:pt x="211" y="287"/>
                      </a:lnTo>
                      <a:lnTo>
                        <a:pt x="209" y="305"/>
                      </a:lnTo>
                      <a:lnTo>
                        <a:pt x="209" y="335"/>
                      </a:lnTo>
                      <a:lnTo>
                        <a:pt x="182" y="335"/>
                      </a:lnTo>
                      <a:lnTo>
                        <a:pt x="182" y="287"/>
                      </a:lnTo>
                      <a:lnTo>
                        <a:pt x="186" y="260"/>
                      </a:lnTo>
                      <a:lnTo>
                        <a:pt x="193" y="238"/>
                      </a:lnTo>
                      <a:lnTo>
                        <a:pt x="205" y="220"/>
                      </a:lnTo>
                      <a:lnTo>
                        <a:pt x="218" y="203"/>
                      </a:lnTo>
                      <a:lnTo>
                        <a:pt x="230" y="186"/>
                      </a:lnTo>
                      <a:lnTo>
                        <a:pt x="242" y="169"/>
                      </a:lnTo>
                      <a:lnTo>
                        <a:pt x="250" y="149"/>
                      </a:lnTo>
                      <a:lnTo>
                        <a:pt x="253" y="126"/>
                      </a:lnTo>
                      <a:lnTo>
                        <a:pt x="253" y="117"/>
                      </a:lnTo>
                      <a:lnTo>
                        <a:pt x="252" y="108"/>
                      </a:lnTo>
                      <a:lnTo>
                        <a:pt x="251" y="99"/>
                      </a:lnTo>
                      <a:lnTo>
                        <a:pt x="248" y="91"/>
                      </a:lnTo>
                      <a:lnTo>
                        <a:pt x="246" y="83"/>
                      </a:lnTo>
                      <a:lnTo>
                        <a:pt x="242" y="75"/>
                      </a:lnTo>
                      <a:lnTo>
                        <a:pt x="238" y="68"/>
                      </a:lnTo>
                      <a:lnTo>
                        <a:pt x="233" y="61"/>
                      </a:lnTo>
                      <a:lnTo>
                        <a:pt x="227" y="54"/>
                      </a:lnTo>
                      <a:lnTo>
                        <a:pt x="219" y="49"/>
                      </a:lnTo>
                      <a:lnTo>
                        <a:pt x="210" y="44"/>
                      </a:lnTo>
                      <a:lnTo>
                        <a:pt x="201" y="39"/>
                      </a:lnTo>
                      <a:lnTo>
                        <a:pt x="190" y="36"/>
                      </a:lnTo>
                      <a:lnTo>
                        <a:pt x="177" y="34"/>
                      </a:lnTo>
                      <a:lnTo>
                        <a:pt x="163" y="32"/>
                      </a:lnTo>
                      <a:lnTo>
                        <a:pt x="148" y="31"/>
                      </a:lnTo>
                      <a:lnTo>
                        <a:pt x="139" y="32"/>
                      </a:lnTo>
                      <a:lnTo>
                        <a:pt x="129" y="34"/>
                      </a:lnTo>
                      <a:lnTo>
                        <a:pt x="119" y="36"/>
                      </a:lnTo>
                      <a:lnTo>
                        <a:pt x="110" y="39"/>
                      </a:lnTo>
                      <a:lnTo>
                        <a:pt x="101" y="43"/>
                      </a:lnTo>
                      <a:lnTo>
                        <a:pt x="92" y="47"/>
                      </a:lnTo>
                      <a:lnTo>
                        <a:pt x="84" y="52"/>
                      </a:lnTo>
                      <a:lnTo>
                        <a:pt x="76" y="58"/>
                      </a:lnTo>
                      <a:lnTo>
                        <a:pt x="69" y="63"/>
                      </a:lnTo>
                      <a:lnTo>
                        <a:pt x="63" y="70"/>
                      </a:lnTo>
                      <a:lnTo>
                        <a:pt x="57" y="76"/>
                      </a:lnTo>
                      <a:lnTo>
                        <a:pt x="52" y="82"/>
                      </a:lnTo>
                      <a:lnTo>
                        <a:pt x="48" y="88"/>
                      </a:lnTo>
                      <a:lnTo>
                        <a:pt x="45" y="94"/>
                      </a:lnTo>
                      <a:lnTo>
                        <a:pt x="44" y="100"/>
                      </a:lnTo>
                      <a:lnTo>
                        <a:pt x="43" y="10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4"/>
                <p:cNvSpPr/>
                <p:nvPr/>
              </p:nvSpPr>
              <p:spPr>
                <a:xfrm>
                  <a:off x="1602720" y="1755000"/>
                  <a:ext cx="52200" cy="738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85" h="103">
                      <a:moveTo>
                        <a:pt x="43" y="103"/>
                      </a:moveTo>
                      <a:lnTo>
                        <a:pt x="51" y="102"/>
                      </a:lnTo>
                      <a:lnTo>
                        <a:pt x="60" y="99"/>
                      </a:lnTo>
                      <a:lnTo>
                        <a:pt x="67" y="94"/>
                      </a:lnTo>
                      <a:lnTo>
                        <a:pt x="73" y="88"/>
                      </a:lnTo>
                      <a:lnTo>
                        <a:pt x="78" y="81"/>
                      </a:lnTo>
                      <a:lnTo>
                        <a:pt x="82" y="72"/>
                      </a:lnTo>
                      <a:lnTo>
                        <a:pt x="84" y="62"/>
                      </a:lnTo>
                      <a:lnTo>
                        <a:pt x="85" y="52"/>
                      </a:lnTo>
                      <a:lnTo>
                        <a:pt x="84" y="41"/>
                      </a:lnTo>
                      <a:lnTo>
                        <a:pt x="82" y="32"/>
                      </a:lnTo>
                      <a:lnTo>
                        <a:pt x="78" y="23"/>
                      </a:lnTo>
                      <a:lnTo>
                        <a:pt x="73" y="15"/>
                      </a:lnTo>
                      <a:lnTo>
                        <a:pt x="67" y="9"/>
                      </a:lnTo>
                      <a:lnTo>
                        <a:pt x="60" y="4"/>
                      </a:lnTo>
                      <a:lnTo>
                        <a:pt x="51" y="1"/>
                      </a:lnTo>
                      <a:lnTo>
                        <a:pt x="43" y="0"/>
                      </a:lnTo>
                      <a:lnTo>
                        <a:pt x="34" y="1"/>
                      </a:lnTo>
                      <a:lnTo>
                        <a:pt x="26" y="4"/>
                      </a:lnTo>
                      <a:lnTo>
                        <a:pt x="19" y="9"/>
                      </a:lnTo>
                      <a:lnTo>
                        <a:pt x="13" y="15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1" y="41"/>
                      </a:lnTo>
                      <a:lnTo>
                        <a:pt x="0" y="52"/>
                      </a:lnTo>
                      <a:lnTo>
                        <a:pt x="1" y="62"/>
                      </a:lnTo>
                      <a:lnTo>
                        <a:pt x="4" y="72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19" y="94"/>
                      </a:lnTo>
                      <a:lnTo>
                        <a:pt x="26" y="99"/>
                      </a:lnTo>
                      <a:lnTo>
                        <a:pt x="34" y="102"/>
                      </a:lnTo>
                      <a:lnTo>
                        <a:pt x="43" y="10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15"/>
                <p:cNvSpPr/>
                <p:nvPr/>
              </p:nvSpPr>
              <p:spPr>
                <a:xfrm>
                  <a:off x="1492920" y="1484640"/>
                  <a:ext cx="218880" cy="240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355" h="335">
                      <a:moveTo>
                        <a:pt x="43" y="107"/>
                      </a:moveTo>
                      <a:lnTo>
                        <a:pt x="44" y="107"/>
                      </a:lnTo>
                      <a:lnTo>
                        <a:pt x="43" y="107"/>
                      </a:lnTo>
                      <a:lnTo>
                        <a:pt x="53" y="108"/>
                      </a:lnTo>
                      <a:lnTo>
                        <a:pt x="62" y="111"/>
                      </a:lnTo>
                      <a:lnTo>
                        <a:pt x="71" y="115"/>
                      </a:lnTo>
                      <a:lnTo>
                        <a:pt x="78" y="121"/>
                      </a:lnTo>
                      <a:lnTo>
                        <a:pt x="85" y="128"/>
                      </a:lnTo>
                      <a:lnTo>
                        <a:pt x="89" y="136"/>
                      </a:lnTo>
                      <a:lnTo>
                        <a:pt x="92" y="144"/>
                      </a:lnTo>
                      <a:lnTo>
                        <a:pt x="94" y="154"/>
                      </a:lnTo>
                      <a:lnTo>
                        <a:pt x="92" y="163"/>
                      </a:lnTo>
                      <a:lnTo>
                        <a:pt x="90" y="172"/>
                      </a:lnTo>
                      <a:lnTo>
                        <a:pt x="86" y="181"/>
                      </a:lnTo>
                      <a:lnTo>
                        <a:pt x="80" y="188"/>
                      </a:lnTo>
                      <a:lnTo>
                        <a:pt x="73" y="194"/>
                      </a:lnTo>
                      <a:lnTo>
                        <a:pt x="65" y="198"/>
                      </a:lnTo>
                      <a:lnTo>
                        <a:pt x="57" y="200"/>
                      </a:lnTo>
                      <a:lnTo>
                        <a:pt x="47" y="200"/>
                      </a:lnTo>
                      <a:lnTo>
                        <a:pt x="33" y="198"/>
                      </a:lnTo>
                      <a:lnTo>
                        <a:pt x="22" y="193"/>
                      </a:lnTo>
                      <a:lnTo>
                        <a:pt x="14" y="187"/>
                      </a:lnTo>
                      <a:lnTo>
                        <a:pt x="8" y="179"/>
                      </a:lnTo>
                      <a:lnTo>
                        <a:pt x="4" y="170"/>
                      </a:lnTo>
                      <a:lnTo>
                        <a:pt x="2" y="159"/>
                      </a:lnTo>
                      <a:lnTo>
                        <a:pt x="1" y="149"/>
                      </a:lnTo>
                      <a:lnTo>
                        <a:pt x="0" y="138"/>
                      </a:lnTo>
                      <a:lnTo>
                        <a:pt x="1" y="125"/>
                      </a:lnTo>
                      <a:lnTo>
                        <a:pt x="3" y="112"/>
                      </a:lnTo>
                      <a:lnTo>
                        <a:pt x="8" y="99"/>
                      </a:lnTo>
                      <a:lnTo>
                        <a:pt x="14" y="87"/>
                      </a:lnTo>
                      <a:lnTo>
                        <a:pt x="22" y="75"/>
                      </a:lnTo>
                      <a:lnTo>
                        <a:pt x="31" y="63"/>
                      </a:lnTo>
                      <a:lnTo>
                        <a:pt x="43" y="53"/>
                      </a:lnTo>
                      <a:lnTo>
                        <a:pt x="55" y="43"/>
                      </a:lnTo>
                      <a:lnTo>
                        <a:pt x="69" y="34"/>
                      </a:lnTo>
                      <a:lnTo>
                        <a:pt x="84" y="25"/>
                      </a:lnTo>
                      <a:lnTo>
                        <a:pt x="101" y="18"/>
                      </a:lnTo>
                      <a:lnTo>
                        <a:pt x="119" y="12"/>
                      </a:lnTo>
                      <a:lnTo>
                        <a:pt x="138" y="7"/>
                      </a:lnTo>
                      <a:lnTo>
                        <a:pt x="159" y="3"/>
                      </a:lnTo>
                      <a:lnTo>
                        <a:pt x="180" y="1"/>
                      </a:lnTo>
                      <a:lnTo>
                        <a:pt x="203" y="0"/>
                      </a:lnTo>
                      <a:lnTo>
                        <a:pt x="221" y="1"/>
                      </a:lnTo>
                      <a:lnTo>
                        <a:pt x="237" y="3"/>
                      </a:lnTo>
                      <a:lnTo>
                        <a:pt x="253" y="6"/>
                      </a:lnTo>
                      <a:lnTo>
                        <a:pt x="267" y="10"/>
                      </a:lnTo>
                      <a:lnTo>
                        <a:pt x="281" y="15"/>
                      </a:lnTo>
                      <a:lnTo>
                        <a:pt x="293" y="21"/>
                      </a:lnTo>
                      <a:lnTo>
                        <a:pt x="304" y="28"/>
                      </a:lnTo>
                      <a:lnTo>
                        <a:pt x="315" y="35"/>
                      </a:lnTo>
                      <a:lnTo>
                        <a:pt x="324" y="44"/>
                      </a:lnTo>
                      <a:lnTo>
                        <a:pt x="332" y="53"/>
                      </a:lnTo>
                      <a:lnTo>
                        <a:pt x="339" y="62"/>
                      </a:lnTo>
                      <a:lnTo>
                        <a:pt x="345" y="73"/>
                      </a:lnTo>
                      <a:lnTo>
                        <a:pt x="349" y="84"/>
                      </a:lnTo>
                      <a:lnTo>
                        <a:pt x="353" y="95"/>
                      </a:lnTo>
                      <a:lnTo>
                        <a:pt x="355" y="107"/>
                      </a:lnTo>
                      <a:lnTo>
                        <a:pt x="355" y="118"/>
                      </a:lnTo>
                      <a:lnTo>
                        <a:pt x="353" y="144"/>
                      </a:lnTo>
                      <a:lnTo>
                        <a:pt x="346" y="166"/>
                      </a:lnTo>
                      <a:lnTo>
                        <a:pt x="336" y="185"/>
                      </a:lnTo>
                      <a:lnTo>
                        <a:pt x="323" y="201"/>
                      </a:lnTo>
                      <a:lnTo>
                        <a:pt x="309" y="214"/>
                      </a:lnTo>
                      <a:lnTo>
                        <a:pt x="295" y="226"/>
                      </a:lnTo>
                      <a:lnTo>
                        <a:pt x="282" y="234"/>
                      </a:lnTo>
                      <a:lnTo>
                        <a:pt x="271" y="241"/>
                      </a:lnTo>
                      <a:lnTo>
                        <a:pt x="263" y="244"/>
                      </a:lnTo>
                      <a:lnTo>
                        <a:pt x="254" y="248"/>
                      </a:lnTo>
                      <a:lnTo>
                        <a:pt x="244" y="252"/>
                      </a:lnTo>
                      <a:lnTo>
                        <a:pt x="234" y="257"/>
                      </a:lnTo>
                      <a:lnTo>
                        <a:pt x="224" y="264"/>
                      </a:lnTo>
                      <a:lnTo>
                        <a:pt x="216" y="274"/>
                      </a:lnTo>
                      <a:lnTo>
                        <a:pt x="211" y="287"/>
                      </a:lnTo>
                      <a:lnTo>
                        <a:pt x="209" y="305"/>
                      </a:lnTo>
                      <a:lnTo>
                        <a:pt x="209" y="335"/>
                      </a:lnTo>
                      <a:lnTo>
                        <a:pt x="183" y="335"/>
                      </a:lnTo>
                      <a:lnTo>
                        <a:pt x="183" y="287"/>
                      </a:lnTo>
                      <a:lnTo>
                        <a:pt x="186" y="260"/>
                      </a:lnTo>
                      <a:lnTo>
                        <a:pt x="193" y="239"/>
                      </a:lnTo>
                      <a:lnTo>
                        <a:pt x="205" y="220"/>
                      </a:lnTo>
                      <a:lnTo>
                        <a:pt x="217" y="203"/>
                      </a:lnTo>
                      <a:lnTo>
                        <a:pt x="230" y="187"/>
                      </a:lnTo>
                      <a:lnTo>
                        <a:pt x="242" y="170"/>
                      </a:lnTo>
                      <a:lnTo>
                        <a:pt x="249" y="150"/>
                      </a:lnTo>
                      <a:lnTo>
                        <a:pt x="253" y="126"/>
                      </a:lnTo>
                      <a:lnTo>
                        <a:pt x="253" y="117"/>
                      </a:lnTo>
                      <a:lnTo>
                        <a:pt x="252" y="108"/>
                      </a:lnTo>
                      <a:lnTo>
                        <a:pt x="251" y="100"/>
                      </a:lnTo>
                      <a:lnTo>
                        <a:pt x="248" y="92"/>
                      </a:lnTo>
                      <a:lnTo>
                        <a:pt x="245" y="83"/>
                      </a:lnTo>
                      <a:lnTo>
                        <a:pt x="242" y="75"/>
                      </a:lnTo>
                      <a:lnTo>
                        <a:pt x="238" y="68"/>
                      </a:lnTo>
                      <a:lnTo>
                        <a:pt x="233" y="61"/>
                      </a:lnTo>
                      <a:lnTo>
                        <a:pt x="226" y="55"/>
                      </a:lnTo>
                      <a:lnTo>
                        <a:pt x="219" y="49"/>
                      </a:lnTo>
                      <a:lnTo>
                        <a:pt x="210" y="44"/>
                      </a:lnTo>
                      <a:lnTo>
                        <a:pt x="201" y="40"/>
                      </a:lnTo>
                      <a:lnTo>
                        <a:pt x="189" y="36"/>
                      </a:lnTo>
                      <a:lnTo>
                        <a:pt x="177" y="34"/>
                      </a:lnTo>
                      <a:lnTo>
                        <a:pt x="163" y="33"/>
                      </a:lnTo>
                      <a:lnTo>
                        <a:pt x="148" y="32"/>
                      </a:lnTo>
                      <a:lnTo>
                        <a:pt x="138" y="33"/>
                      </a:lnTo>
                      <a:lnTo>
                        <a:pt x="129" y="34"/>
                      </a:lnTo>
                      <a:lnTo>
                        <a:pt x="119" y="36"/>
                      </a:lnTo>
                      <a:lnTo>
                        <a:pt x="110" y="39"/>
                      </a:lnTo>
                      <a:lnTo>
                        <a:pt x="101" y="43"/>
                      </a:lnTo>
                      <a:lnTo>
                        <a:pt x="92" y="48"/>
                      </a:lnTo>
                      <a:lnTo>
                        <a:pt x="84" y="53"/>
                      </a:lnTo>
                      <a:lnTo>
                        <a:pt x="76" y="58"/>
                      </a:lnTo>
                      <a:lnTo>
                        <a:pt x="69" y="64"/>
                      </a:lnTo>
                      <a:lnTo>
                        <a:pt x="63" y="70"/>
                      </a:lnTo>
                      <a:lnTo>
                        <a:pt x="57" y="76"/>
                      </a:lnTo>
                      <a:lnTo>
                        <a:pt x="52" y="83"/>
                      </a:lnTo>
                      <a:lnTo>
                        <a:pt x="48" y="89"/>
                      </a:lnTo>
                      <a:lnTo>
                        <a:pt x="45" y="95"/>
                      </a:lnTo>
                      <a:lnTo>
                        <a:pt x="44" y="101"/>
                      </a:lnTo>
                      <a:lnTo>
                        <a:pt x="43" y="107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6"/>
                <p:cNvSpPr/>
                <p:nvPr/>
              </p:nvSpPr>
              <p:spPr>
                <a:xfrm>
                  <a:off x="1587600" y="1740240"/>
                  <a:ext cx="52200" cy="7308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85" h="102">
                      <a:moveTo>
                        <a:pt x="43" y="102"/>
                      </a:moveTo>
                      <a:lnTo>
                        <a:pt x="51" y="101"/>
                      </a:lnTo>
                      <a:lnTo>
                        <a:pt x="60" y="98"/>
                      </a:lnTo>
                      <a:lnTo>
                        <a:pt x="67" y="93"/>
                      </a:lnTo>
                      <a:lnTo>
                        <a:pt x="73" y="87"/>
                      </a:lnTo>
                      <a:lnTo>
                        <a:pt x="78" y="80"/>
                      </a:lnTo>
                      <a:lnTo>
                        <a:pt x="82" y="71"/>
                      </a:lnTo>
                      <a:lnTo>
                        <a:pt x="84" y="61"/>
                      </a:lnTo>
                      <a:lnTo>
                        <a:pt x="85" y="51"/>
                      </a:lnTo>
                      <a:lnTo>
                        <a:pt x="84" y="41"/>
                      </a:lnTo>
                      <a:lnTo>
                        <a:pt x="82" y="31"/>
                      </a:lnTo>
                      <a:lnTo>
                        <a:pt x="78" y="22"/>
                      </a:lnTo>
                      <a:lnTo>
                        <a:pt x="73" y="15"/>
                      </a:lnTo>
                      <a:lnTo>
                        <a:pt x="67" y="9"/>
                      </a:lnTo>
                      <a:lnTo>
                        <a:pt x="60" y="4"/>
                      </a:lnTo>
                      <a:lnTo>
                        <a:pt x="51" y="1"/>
                      </a:lnTo>
                      <a:lnTo>
                        <a:pt x="43" y="0"/>
                      </a:lnTo>
                      <a:lnTo>
                        <a:pt x="34" y="1"/>
                      </a:lnTo>
                      <a:lnTo>
                        <a:pt x="26" y="4"/>
                      </a:lnTo>
                      <a:lnTo>
                        <a:pt x="19" y="9"/>
                      </a:lnTo>
                      <a:lnTo>
                        <a:pt x="12" y="15"/>
                      </a:lnTo>
                      <a:lnTo>
                        <a:pt x="7" y="22"/>
                      </a:lnTo>
                      <a:lnTo>
                        <a:pt x="3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1" y="61"/>
                      </a:lnTo>
                      <a:lnTo>
                        <a:pt x="3" y="71"/>
                      </a:lnTo>
                      <a:lnTo>
                        <a:pt x="7" y="80"/>
                      </a:lnTo>
                      <a:lnTo>
                        <a:pt x="12" y="87"/>
                      </a:lnTo>
                      <a:lnTo>
                        <a:pt x="19" y="93"/>
                      </a:lnTo>
                      <a:lnTo>
                        <a:pt x="26" y="98"/>
                      </a:lnTo>
                      <a:lnTo>
                        <a:pt x="34" y="101"/>
                      </a:lnTo>
                      <a:lnTo>
                        <a:pt x="43" y="102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17"/>
              <p:cNvGrpSpPr/>
              <p:nvPr/>
            </p:nvGrpSpPr>
            <p:grpSpPr>
              <a:xfrm>
                <a:off x="3322080" y="3477600"/>
                <a:ext cx="281520" cy="359280"/>
                <a:chOff x="3322080" y="3477600"/>
                <a:chExt cx="281520" cy="359280"/>
              </a:xfrm>
            </p:grpSpPr>
            <p:sp>
              <p:nvSpPr>
                <p:cNvPr id="689" name="Freeform 18"/>
                <p:cNvSpPr/>
                <p:nvPr/>
              </p:nvSpPr>
              <p:spPr>
                <a:xfrm rot="20881200">
                  <a:off x="3362040" y="3509280"/>
                  <a:ext cx="218880" cy="240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355" h="335">
                      <a:moveTo>
                        <a:pt x="43" y="107"/>
                      </a:moveTo>
                      <a:lnTo>
                        <a:pt x="44" y="107"/>
                      </a:lnTo>
                      <a:lnTo>
                        <a:pt x="43" y="107"/>
                      </a:lnTo>
                      <a:lnTo>
                        <a:pt x="53" y="108"/>
                      </a:lnTo>
                      <a:lnTo>
                        <a:pt x="62" y="110"/>
                      </a:lnTo>
                      <a:lnTo>
                        <a:pt x="71" y="114"/>
                      </a:lnTo>
                      <a:lnTo>
                        <a:pt x="78" y="120"/>
                      </a:lnTo>
                      <a:lnTo>
                        <a:pt x="85" y="127"/>
                      </a:lnTo>
                      <a:lnTo>
                        <a:pt x="89" y="135"/>
                      </a:lnTo>
                      <a:lnTo>
                        <a:pt x="93" y="144"/>
                      </a:lnTo>
                      <a:lnTo>
                        <a:pt x="94" y="153"/>
                      </a:lnTo>
                      <a:lnTo>
                        <a:pt x="93" y="163"/>
                      </a:lnTo>
                      <a:lnTo>
                        <a:pt x="90" y="172"/>
                      </a:lnTo>
                      <a:lnTo>
                        <a:pt x="86" y="180"/>
                      </a:lnTo>
                      <a:lnTo>
                        <a:pt x="80" y="187"/>
                      </a:lnTo>
                      <a:lnTo>
                        <a:pt x="73" y="193"/>
                      </a:lnTo>
                      <a:lnTo>
                        <a:pt x="65" y="198"/>
                      </a:lnTo>
                      <a:lnTo>
                        <a:pt x="56" y="200"/>
                      </a:lnTo>
                      <a:lnTo>
                        <a:pt x="47" y="200"/>
                      </a:lnTo>
                      <a:lnTo>
                        <a:pt x="33" y="198"/>
                      </a:lnTo>
                      <a:lnTo>
                        <a:pt x="23" y="193"/>
                      </a:lnTo>
                      <a:lnTo>
                        <a:pt x="14" y="186"/>
                      </a:lnTo>
                      <a:lnTo>
                        <a:pt x="8" y="178"/>
                      </a:lnTo>
                      <a:lnTo>
                        <a:pt x="4" y="169"/>
                      </a:lnTo>
                      <a:lnTo>
                        <a:pt x="2" y="159"/>
                      </a:lnTo>
                      <a:lnTo>
                        <a:pt x="1" y="149"/>
                      </a:lnTo>
                      <a:lnTo>
                        <a:pt x="0" y="137"/>
                      </a:lnTo>
                      <a:lnTo>
                        <a:pt x="1" y="125"/>
                      </a:lnTo>
                      <a:lnTo>
                        <a:pt x="3" y="112"/>
                      </a:lnTo>
                      <a:lnTo>
                        <a:pt x="8" y="99"/>
                      </a:lnTo>
                      <a:lnTo>
                        <a:pt x="14" y="86"/>
                      </a:lnTo>
                      <a:lnTo>
                        <a:pt x="22" y="75"/>
                      </a:lnTo>
                      <a:lnTo>
                        <a:pt x="31" y="63"/>
                      </a:lnTo>
                      <a:lnTo>
                        <a:pt x="42" y="52"/>
                      </a:lnTo>
                      <a:lnTo>
                        <a:pt x="55" y="43"/>
                      </a:lnTo>
                      <a:lnTo>
                        <a:pt x="68" y="33"/>
                      </a:lnTo>
                      <a:lnTo>
                        <a:pt x="84" y="25"/>
                      </a:lnTo>
                      <a:lnTo>
                        <a:pt x="101" y="18"/>
                      </a:lnTo>
                      <a:lnTo>
                        <a:pt x="119" y="12"/>
                      </a:lnTo>
                      <a:lnTo>
                        <a:pt x="138" y="7"/>
                      </a:lnTo>
                      <a:lnTo>
                        <a:pt x="159" y="3"/>
                      </a:lnTo>
                      <a:lnTo>
                        <a:pt x="181" y="0"/>
                      </a:lnTo>
                      <a:lnTo>
                        <a:pt x="204" y="0"/>
                      </a:lnTo>
                      <a:lnTo>
                        <a:pt x="221" y="0"/>
                      </a:lnTo>
                      <a:lnTo>
                        <a:pt x="237" y="2"/>
                      </a:lnTo>
                      <a:lnTo>
                        <a:pt x="253" y="6"/>
                      </a:lnTo>
                      <a:lnTo>
                        <a:pt x="267" y="9"/>
                      </a:lnTo>
                      <a:lnTo>
                        <a:pt x="281" y="14"/>
                      </a:lnTo>
                      <a:lnTo>
                        <a:pt x="293" y="20"/>
                      </a:lnTo>
                      <a:lnTo>
                        <a:pt x="304" y="27"/>
                      </a:lnTo>
                      <a:lnTo>
                        <a:pt x="315" y="35"/>
                      </a:lnTo>
                      <a:lnTo>
                        <a:pt x="324" y="43"/>
                      </a:lnTo>
                      <a:lnTo>
                        <a:pt x="332" y="52"/>
                      </a:lnTo>
                      <a:lnTo>
                        <a:pt x="339" y="62"/>
                      </a:lnTo>
                      <a:lnTo>
                        <a:pt x="345" y="72"/>
                      </a:lnTo>
                      <a:lnTo>
                        <a:pt x="349" y="83"/>
                      </a:lnTo>
                      <a:lnTo>
                        <a:pt x="353" y="94"/>
                      </a:lnTo>
                      <a:lnTo>
                        <a:pt x="355" y="106"/>
                      </a:lnTo>
                      <a:lnTo>
                        <a:pt x="355" y="118"/>
                      </a:lnTo>
                      <a:lnTo>
                        <a:pt x="353" y="143"/>
                      </a:lnTo>
                      <a:lnTo>
                        <a:pt x="346" y="166"/>
                      </a:lnTo>
                      <a:lnTo>
                        <a:pt x="336" y="185"/>
                      </a:lnTo>
                      <a:lnTo>
                        <a:pt x="323" y="201"/>
                      </a:lnTo>
                      <a:lnTo>
                        <a:pt x="309" y="214"/>
                      </a:lnTo>
                      <a:lnTo>
                        <a:pt x="295" y="226"/>
                      </a:lnTo>
                      <a:lnTo>
                        <a:pt x="283" y="234"/>
                      </a:lnTo>
                      <a:lnTo>
                        <a:pt x="271" y="240"/>
                      </a:lnTo>
                      <a:lnTo>
                        <a:pt x="264" y="244"/>
                      </a:lnTo>
                      <a:lnTo>
                        <a:pt x="254" y="247"/>
                      </a:lnTo>
                      <a:lnTo>
                        <a:pt x="244" y="251"/>
                      </a:lnTo>
                      <a:lnTo>
                        <a:pt x="234" y="256"/>
                      </a:lnTo>
                      <a:lnTo>
                        <a:pt x="224" y="264"/>
                      </a:lnTo>
                      <a:lnTo>
                        <a:pt x="216" y="274"/>
                      </a:lnTo>
                      <a:lnTo>
                        <a:pt x="211" y="287"/>
                      </a:lnTo>
                      <a:lnTo>
                        <a:pt x="209" y="305"/>
                      </a:lnTo>
                      <a:lnTo>
                        <a:pt x="209" y="335"/>
                      </a:lnTo>
                      <a:lnTo>
                        <a:pt x="182" y="335"/>
                      </a:lnTo>
                      <a:lnTo>
                        <a:pt x="182" y="287"/>
                      </a:lnTo>
                      <a:lnTo>
                        <a:pt x="186" y="260"/>
                      </a:lnTo>
                      <a:lnTo>
                        <a:pt x="193" y="238"/>
                      </a:lnTo>
                      <a:lnTo>
                        <a:pt x="205" y="220"/>
                      </a:lnTo>
                      <a:lnTo>
                        <a:pt x="218" y="203"/>
                      </a:lnTo>
                      <a:lnTo>
                        <a:pt x="230" y="186"/>
                      </a:lnTo>
                      <a:lnTo>
                        <a:pt x="242" y="169"/>
                      </a:lnTo>
                      <a:lnTo>
                        <a:pt x="250" y="149"/>
                      </a:lnTo>
                      <a:lnTo>
                        <a:pt x="253" y="126"/>
                      </a:lnTo>
                      <a:lnTo>
                        <a:pt x="253" y="117"/>
                      </a:lnTo>
                      <a:lnTo>
                        <a:pt x="252" y="108"/>
                      </a:lnTo>
                      <a:lnTo>
                        <a:pt x="251" y="99"/>
                      </a:lnTo>
                      <a:lnTo>
                        <a:pt x="248" y="91"/>
                      </a:lnTo>
                      <a:lnTo>
                        <a:pt x="246" y="83"/>
                      </a:lnTo>
                      <a:lnTo>
                        <a:pt x="242" y="75"/>
                      </a:lnTo>
                      <a:lnTo>
                        <a:pt x="238" y="68"/>
                      </a:lnTo>
                      <a:lnTo>
                        <a:pt x="233" y="61"/>
                      </a:lnTo>
                      <a:lnTo>
                        <a:pt x="227" y="54"/>
                      </a:lnTo>
                      <a:lnTo>
                        <a:pt x="219" y="49"/>
                      </a:lnTo>
                      <a:lnTo>
                        <a:pt x="210" y="44"/>
                      </a:lnTo>
                      <a:lnTo>
                        <a:pt x="201" y="39"/>
                      </a:lnTo>
                      <a:lnTo>
                        <a:pt x="190" y="36"/>
                      </a:lnTo>
                      <a:lnTo>
                        <a:pt x="177" y="34"/>
                      </a:lnTo>
                      <a:lnTo>
                        <a:pt x="163" y="32"/>
                      </a:lnTo>
                      <a:lnTo>
                        <a:pt x="148" y="31"/>
                      </a:lnTo>
                      <a:lnTo>
                        <a:pt x="139" y="32"/>
                      </a:lnTo>
                      <a:lnTo>
                        <a:pt x="129" y="34"/>
                      </a:lnTo>
                      <a:lnTo>
                        <a:pt x="119" y="36"/>
                      </a:lnTo>
                      <a:lnTo>
                        <a:pt x="110" y="39"/>
                      </a:lnTo>
                      <a:lnTo>
                        <a:pt x="101" y="43"/>
                      </a:lnTo>
                      <a:lnTo>
                        <a:pt x="92" y="47"/>
                      </a:lnTo>
                      <a:lnTo>
                        <a:pt x="84" y="52"/>
                      </a:lnTo>
                      <a:lnTo>
                        <a:pt x="76" y="58"/>
                      </a:lnTo>
                      <a:lnTo>
                        <a:pt x="69" y="63"/>
                      </a:lnTo>
                      <a:lnTo>
                        <a:pt x="63" y="70"/>
                      </a:lnTo>
                      <a:lnTo>
                        <a:pt x="57" y="76"/>
                      </a:lnTo>
                      <a:lnTo>
                        <a:pt x="52" y="82"/>
                      </a:lnTo>
                      <a:lnTo>
                        <a:pt x="48" y="88"/>
                      </a:lnTo>
                      <a:lnTo>
                        <a:pt x="45" y="94"/>
                      </a:lnTo>
                      <a:lnTo>
                        <a:pt x="44" y="100"/>
                      </a:lnTo>
                      <a:lnTo>
                        <a:pt x="43" y="10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9"/>
                <p:cNvSpPr/>
                <p:nvPr/>
              </p:nvSpPr>
              <p:spPr>
                <a:xfrm rot="20881200">
                  <a:off x="3492360" y="3758040"/>
                  <a:ext cx="52200" cy="738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85" h="103">
                      <a:moveTo>
                        <a:pt x="43" y="103"/>
                      </a:moveTo>
                      <a:lnTo>
                        <a:pt x="51" y="102"/>
                      </a:lnTo>
                      <a:lnTo>
                        <a:pt x="60" y="99"/>
                      </a:lnTo>
                      <a:lnTo>
                        <a:pt x="67" y="94"/>
                      </a:lnTo>
                      <a:lnTo>
                        <a:pt x="73" y="88"/>
                      </a:lnTo>
                      <a:lnTo>
                        <a:pt x="78" y="81"/>
                      </a:lnTo>
                      <a:lnTo>
                        <a:pt x="82" y="72"/>
                      </a:lnTo>
                      <a:lnTo>
                        <a:pt x="84" y="62"/>
                      </a:lnTo>
                      <a:lnTo>
                        <a:pt x="85" y="52"/>
                      </a:lnTo>
                      <a:lnTo>
                        <a:pt x="84" y="41"/>
                      </a:lnTo>
                      <a:lnTo>
                        <a:pt x="82" y="32"/>
                      </a:lnTo>
                      <a:lnTo>
                        <a:pt x="78" y="23"/>
                      </a:lnTo>
                      <a:lnTo>
                        <a:pt x="73" y="15"/>
                      </a:lnTo>
                      <a:lnTo>
                        <a:pt x="67" y="9"/>
                      </a:lnTo>
                      <a:lnTo>
                        <a:pt x="60" y="4"/>
                      </a:lnTo>
                      <a:lnTo>
                        <a:pt x="51" y="1"/>
                      </a:lnTo>
                      <a:lnTo>
                        <a:pt x="43" y="0"/>
                      </a:lnTo>
                      <a:lnTo>
                        <a:pt x="34" y="1"/>
                      </a:lnTo>
                      <a:lnTo>
                        <a:pt x="26" y="4"/>
                      </a:lnTo>
                      <a:lnTo>
                        <a:pt x="19" y="9"/>
                      </a:lnTo>
                      <a:lnTo>
                        <a:pt x="13" y="15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1" y="41"/>
                      </a:lnTo>
                      <a:lnTo>
                        <a:pt x="0" y="52"/>
                      </a:lnTo>
                      <a:lnTo>
                        <a:pt x="1" y="62"/>
                      </a:lnTo>
                      <a:lnTo>
                        <a:pt x="4" y="72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19" y="94"/>
                      </a:lnTo>
                      <a:lnTo>
                        <a:pt x="26" y="99"/>
                      </a:lnTo>
                      <a:lnTo>
                        <a:pt x="34" y="102"/>
                      </a:lnTo>
                      <a:lnTo>
                        <a:pt x="43" y="10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0"/>
                <p:cNvSpPr/>
                <p:nvPr/>
              </p:nvSpPr>
              <p:spPr>
                <a:xfrm rot="20881200">
                  <a:off x="3344400" y="3497400"/>
                  <a:ext cx="218880" cy="240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355" h="335">
                      <a:moveTo>
                        <a:pt x="43" y="107"/>
                      </a:moveTo>
                      <a:lnTo>
                        <a:pt x="44" y="107"/>
                      </a:lnTo>
                      <a:lnTo>
                        <a:pt x="43" y="107"/>
                      </a:lnTo>
                      <a:lnTo>
                        <a:pt x="53" y="108"/>
                      </a:lnTo>
                      <a:lnTo>
                        <a:pt x="62" y="111"/>
                      </a:lnTo>
                      <a:lnTo>
                        <a:pt x="71" y="115"/>
                      </a:lnTo>
                      <a:lnTo>
                        <a:pt x="78" y="121"/>
                      </a:lnTo>
                      <a:lnTo>
                        <a:pt x="85" y="128"/>
                      </a:lnTo>
                      <a:lnTo>
                        <a:pt x="89" y="136"/>
                      </a:lnTo>
                      <a:lnTo>
                        <a:pt x="92" y="144"/>
                      </a:lnTo>
                      <a:lnTo>
                        <a:pt x="94" y="154"/>
                      </a:lnTo>
                      <a:lnTo>
                        <a:pt x="92" y="163"/>
                      </a:lnTo>
                      <a:lnTo>
                        <a:pt x="90" y="172"/>
                      </a:lnTo>
                      <a:lnTo>
                        <a:pt x="86" y="181"/>
                      </a:lnTo>
                      <a:lnTo>
                        <a:pt x="80" y="188"/>
                      </a:lnTo>
                      <a:lnTo>
                        <a:pt x="73" y="194"/>
                      </a:lnTo>
                      <a:lnTo>
                        <a:pt x="65" y="198"/>
                      </a:lnTo>
                      <a:lnTo>
                        <a:pt x="57" y="200"/>
                      </a:lnTo>
                      <a:lnTo>
                        <a:pt x="47" y="200"/>
                      </a:lnTo>
                      <a:lnTo>
                        <a:pt x="33" y="198"/>
                      </a:lnTo>
                      <a:lnTo>
                        <a:pt x="22" y="193"/>
                      </a:lnTo>
                      <a:lnTo>
                        <a:pt x="14" y="187"/>
                      </a:lnTo>
                      <a:lnTo>
                        <a:pt x="8" y="179"/>
                      </a:lnTo>
                      <a:lnTo>
                        <a:pt x="4" y="170"/>
                      </a:lnTo>
                      <a:lnTo>
                        <a:pt x="2" y="159"/>
                      </a:lnTo>
                      <a:lnTo>
                        <a:pt x="1" y="149"/>
                      </a:lnTo>
                      <a:lnTo>
                        <a:pt x="0" y="138"/>
                      </a:lnTo>
                      <a:lnTo>
                        <a:pt x="1" y="125"/>
                      </a:lnTo>
                      <a:lnTo>
                        <a:pt x="3" y="112"/>
                      </a:lnTo>
                      <a:lnTo>
                        <a:pt x="8" y="99"/>
                      </a:lnTo>
                      <a:lnTo>
                        <a:pt x="14" y="87"/>
                      </a:lnTo>
                      <a:lnTo>
                        <a:pt x="22" y="75"/>
                      </a:lnTo>
                      <a:lnTo>
                        <a:pt x="31" y="63"/>
                      </a:lnTo>
                      <a:lnTo>
                        <a:pt x="43" y="53"/>
                      </a:lnTo>
                      <a:lnTo>
                        <a:pt x="55" y="43"/>
                      </a:lnTo>
                      <a:lnTo>
                        <a:pt x="69" y="34"/>
                      </a:lnTo>
                      <a:lnTo>
                        <a:pt x="84" y="25"/>
                      </a:lnTo>
                      <a:lnTo>
                        <a:pt x="101" y="18"/>
                      </a:lnTo>
                      <a:lnTo>
                        <a:pt x="119" y="12"/>
                      </a:lnTo>
                      <a:lnTo>
                        <a:pt x="138" y="7"/>
                      </a:lnTo>
                      <a:lnTo>
                        <a:pt x="159" y="3"/>
                      </a:lnTo>
                      <a:lnTo>
                        <a:pt x="180" y="1"/>
                      </a:lnTo>
                      <a:lnTo>
                        <a:pt x="203" y="0"/>
                      </a:lnTo>
                      <a:lnTo>
                        <a:pt x="221" y="1"/>
                      </a:lnTo>
                      <a:lnTo>
                        <a:pt x="237" y="3"/>
                      </a:lnTo>
                      <a:lnTo>
                        <a:pt x="253" y="6"/>
                      </a:lnTo>
                      <a:lnTo>
                        <a:pt x="267" y="10"/>
                      </a:lnTo>
                      <a:lnTo>
                        <a:pt x="281" y="15"/>
                      </a:lnTo>
                      <a:lnTo>
                        <a:pt x="293" y="21"/>
                      </a:lnTo>
                      <a:lnTo>
                        <a:pt x="304" y="28"/>
                      </a:lnTo>
                      <a:lnTo>
                        <a:pt x="315" y="35"/>
                      </a:lnTo>
                      <a:lnTo>
                        <a:pt x="324" y="44"/>
                      </a:lnTo>
                      <a:lnTo>
                        <a:pt x="332" y="53"/>
                      </a:lnTo>
                      <a:lnTo>
                        <a:pt x="339" y="62"/>
                      </a:lnTo>
                      <a:lnTo>
                        <a:pt x="345" y="73"/>
                      </a:lnTo>
                      <a:lnTo>
                        <a:pt x="349" y="84"/>
                      </a:lnTo>
                      <a:lnTo>
                        <a:pt x="353" y="95"/>
                      </a:lnTo>
                      <a:lnTo>
                        <a:pt x="355" y="107"/>
                      </a:lnTo>
                      <a:lnTo>
                        <a:pt x="355" y="118"/>
                      </a:lnTo>
                      <a:lnTo>
                        <a:pt x="353" y="144"/>
                      </a:lnTo>
                      <a:lnTo>
                        <a:pt x="346" y="166"/>
                      </a:lnTo>
                      <a:lnTo>
                        <a:pt x="336" y="185"/>
                      </a:lnTo>
                      <a:lnTo>
                        <a:pt x="323" y="201"/>
                      </a:lnTo>
                      <a:lnTo>
                        <a:pt x="309" y="214"/>
                      </a:lnTo>
                      <a:lnTo>
                        <a:pt x="295" y="226"/>
                      </a:lnTo>
                      <a:lnTo>
                        <a:pt x="282" y="234"/>
                      </a:lnTo>
                      <a:lnTo>
                        <a:pt x="271" y="241"/>
                      </a:lnTo>
                      <a:lnTo>
                        <a:pt x="263" y="244"/>
                      </a:lnTo>
                      <a:lnTo>
                        <a:pt x="254" y="248"/>
                      </a:lnTo>
                      <a:lnTo>
                        <a:pt x="244" y="252"/>
                      </a:lnTo>
                      <a:lnTo>
                        <a:pt x="234" y="257"/>
                      </a:lnTo>
                      <a:lnTo>
                        <a:pt x="224" y="264"/>
                      </a:lnTo>
                      <a:lnTo>
                        <a:pt x="216" y="274"/>
                      </a:lnTo>
                      <a:lnTo>
                        <a:pt x="211" y="287"/>
                      </a:lnTo>
                      <a:lnTo>
                        <a:pt x="209" y="305"/>
                      </a:lnTo>
                      <a:lnTo>
                        <a:pt x="209" y="335"/>
                      </a:lnTo>
                      <a:lnTo>
                        <a:pt x="183" y="335"/>
                      </a:lnTo>
                      <a:lnTo>
                        <a:pt x="183" y="287"/>
                      </a:lnTo>
                      <a:lnTo>
                        <a:pt x="186" y="260"/>
                      </a:lnTo>
                      <a:lnTo>
                        <a:pt x="193" y="239"/>
                      </a:lnTo>
                      <a:lnTo>
                        <a:pt x="205" y="220"/>
                      </a:lnTo>
                      <a:lnTo>
                        <a:pt x="217" y="203"/>
                      </a:lnTo>
                      <a:lnTo>
                        <a:pt x="230" y="187"/>
                      </a:lnTo>
                      <a:lnTo>
                        <a:pt x="242" y="170"/>
                      </a:lnTo>
                      <a:lnTo>
                        <a:pt x="249" y="150"/>
                      </a:lnTo>
                      <a:lnTo>
                        <a:pt x="253" y="126"/>
                      </a:lnTo>
                      <a:lnTo>
                        <a:pt x="253" y="117"/>
                      </a:lnTo>
                      <a:lnTo>
                        <a:pt x="252" y="108"/>
                      </a:lnTo>
                      <a:lnTo>
                        <a:pt x="251" y="100"/>
                      </a:lnTo>
                      <a:lnTo>
                        <a:pt x="248" y="92"/>
                      </a:lnTo>
                      <a:lnTo>
                        <a:pt x="245" y="83"/>
                      </a:lnTo>
                      <a:lnTo>
                        <a:pt x="242" y="75"/>
                      </a:lnTo>
                      <a:lnTo>
                        <a:pt x="238" y="68"/>
                      </a:lnTo>
                      <a:lnTo>
                        <a:pt x="233" y="61"/>
                      </a:lnTo>
                      <a:lnTo>
                        <a:pt x="226" y="55"/>
                      </a:lnTo>
                      <a:lnTo>
                        <a:pt x="219" y="49"/>
                      </a:lnTo>
                      <a:lnTo>
                        <a:pt x="210" y="44"/>
                      </a:lnTo>
                      <a:lnTo>
                        <a:pt x="201" y="40"/>
                      </a:lnTo>
                      <a:lnTo>
                        <a:pt x="189" y="36"/>
                      </a:lnTo>
                      <a:lnTo>
                        <a:pt x="177" y="34"/>
                      </a:lnTo>
                      <a:lnTo>
                        <a:pt x="163" y="33"/>
                      </a:lnTo>
                      <a:lnTo>
                        <a:pt x="148" y="32"/>
                      </a:lnTo>
                      <a:lnTo>
                        <a:pt x="138" y="33"/>
                      </a:lnTo>
                      <a:lnTo>
                        <a:pt x="129" y="34"/>
                      </a:lnTo>
                      <a:lnTo>
                        <a:pt x="119" y="36"/>
                      </a:lnTo>
                      <a:lnTo>
                        <a:pt x="110" y="39"/>
                      </a:lnTo>
                      <a:lnTo>
                        <a:pt x="101" y="43"/>
                      </a:lnTo>
                      <a:lnTo>
                        <a:pt x="92" y="48"/>
                      </a:lnTo>
                      <a:lnTo>
                        <a:pt x="84" y="53"/>
                      </a:lnTo>
                      <a:lnTo>
                        <a:pt x="76" y="58"/>
                      </a:lnTo>
                      <a:lnTo>
                        <a:pt x="69" y="64"/>
                      </a:lnTo>
                      <a:lnTo>
                        <a:pt x="63" y="70"/>
                      </a:lnTo>
                      <a:lnTo>
                        <a:pt x="57" y="76"/>
                      </a:lnTo>
                      <a:lnTo>
                        <a:pt x="52" y="83"/>
                      </a:lnTo>
                      <a:lnTo>
                        <a:pt x="48" y="89"/>
                      </a:lnTo>
                      <a:lnTo>
                        <a:pt x="45" y="95"/>
                      </a:lnTo>
                      <a:lnTo>
                        <a:pt x="44" y="101"/>
                      </a:lnTo>
                      <a:lnTo>
                        <a:pt x="43" y="107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1"/>
                <p:cNvSpPr/>
                <p:nvPr/>
              </p:nvSpPr>
              <p:spPr>
                <a:xfrm rot="20881200">
                  <a:off x="3474360" y="3746880"/>
                  <a:ext cx="52200" cy="7308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85" h="102">
                      <a:moveTo>
                        <a:pt x="43" y="102"/>
                      </a:moveTo>
                      <a:lnTo>
                        <a:pt x="51" y="101"/>
                      </a:lnTo>
                      <a:lnTo>
                        <a:pt x="60" y="98"/>
                      </a:lnTo>
                      <a:lnTo>
                        <a:pt x="67" y="93"/>
                      </a:lnTo>
                      <a:lnTo>
                        <a:pt x="73" y="87"/>
                      </a:lnTo>
                      <a:lnTo>
                        <a:pt x="78" y="80"/>
                      </a:lnTo>
                      <a:lnTo>
                        <a:pt x="82" y="71"/>
                      </a:lnTo>
                      <a:lnTo>
                        <a:pt x="84" y="61"/>
                      </a:lnTo>
                      <a:lnTo>
                        <a:pt x="85" y="51"/>
                      </a:lnTo>
                      <a:lnTo>
                        <a:pt x="84" y="41"/>
                      </a:lnTo>
                      <a:lnTo>
                        <a:pt x="82" y="31"/>
                      </a:lnTo>
                      <a:lnTo>
                        <a:pt x="78" y="22"/>
                      </a:lnTo>
                      <a:lnTo>
                        <a:pt x="73" y="15"/>
                      </a:lnTo>
                      <a:lnTo>
                        <a:pt x="67" y="9"/>
                      </a:lnTo>
                      <a:lnTo>
                        <a:pt x="60" y="4"/>
                      </a:lnTo>
                      <a:lnTo>
                        <a:pt x="51" y="1"/>
                      </a:lnTo>
                      <a:lnTo>
                        <a:pt x="43" y="0"/>
                      </a:lnTo>
                      <a:lnTo>
                        <a:pt x="34" y="1"/>
                      </a:lnTo>
                      <a:lnTo>
                        <a:pt x="26" y="4"/>
                      </a:lnTo>
                      <a:lnTo>
                        <a:pt x="19" y="9"/>
                      </a:lnTo>
                      <a:lnTo>
                        <a:pt x="12" y="15"/>
                      </a:lnTo>
                      <a:lnTo>
                        <a:pt x="7" y="22"/>
                      </a:lnTo>
                      <a:lnTo>
                        <a:pt x="3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1" y="61"/>
                      </a:lnTo>
                      <a:lnTo>
                        <a:pt x="3" y="71"/>
                      </a:lnTo>
                      <a:lnTo>
                        <a:pt x="7" y="80"/>
                      </a:lnTo>
                      <a:lnTo>
                        <a:pt x="12" y="87"/>
                      </a:lnTo>
                      <a:lnTo>
                        <a:pt x="19" y="93"/>
                      </a:lnTo>
                      <a:lnTo>
                        <a:pt x="26" y="98"/>
                      </a:lnTo>
                      <a:lnTo>
                        <a:pt x="34" y="101"/>
                      </a:lnTo>
                      <a:lnTo>
                        <a:pt x="43" y="102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Freeform 22"/>
              <p:cNvSpPr/>
              <p:nvPr/>
            </p:nvSpPr>
            <p:spPr>
              <a:xfrm>
                <a:off x="1114560" y="2057040"/>
                <a:ext cx="3365280" cy="2538000"/>
              </a:xfrm>
              <a:custGeom>
                <a:avLst/>
                <a:gdLst>
                  <a:gd name="textAreaLeft" fmla="*/ 0 w 3365280"/>
                  <a:gd name="textAreaRight" fmla="*/ 3365640 w 3365280"/>
                  <a:gd name="textAreaTop" fmla="*/ 0 h 2538000"/>
                  <a:gd name="textAreaBottom" fmla="*/ 2538360 h 2538000"/>
                </a:gdLst>
                <a:ahLst/>
                <a:rect l="textAreaLeft" t="textAreaTop" r="textAreaRight" b="textAreaBottom"/>
                <a:pathLst>
                  <a:path w="3456" h="2120">
                    <a:moveTo>
                      <a:pt x="3456" y="8"/>
                    </a:moveTo>
                    <a:cubicBezTo>
                      <a:pt x="2848" y="4"/>
                      <a:pt x="2240" y="0"/>
                      <a:pt x="1824" y="104"/>
                    </a:cubicBezTo>
                    <a:cubicBezTo>
                      <a:pt x="1408" y="208"/>
                      <a:pt x="1264" y="296"/>
                      <a:pt x="960" y="632"/>
                    </a:cubicBezTo>
                    <a:cubicBezTo>
                      <a:pt x="656" y="968"/>
                      <a:pt x="160" y="1872"/>
                      <a:pt x="0" y="2120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94" name="Freeform 23"/>
              <p:cNvSpPr/>
              <p:nvPr/>
            </p:nvSpPr>
            <p:spPr>
              <a:xfrm>
                <a:off x="1324080" y="1808640"/>
                <a:ext cx="677520" cy="2471040"/>
              </a:xfrm>
              <a:custGeom>
                <a:avLst/>
                <a:gdLst>
                  <a:gd name="textAreaLeft" fmla="*/ 0 w 677520"/>
                  <a:gd name="textAreaRight" fmla="*/ 677520 w 677520"/>
                  <a:gd name="textAreaTop" fmla="*/ 0 h 2471040"/>
                  <a:gd name="textAreaBottom" fmla="*/ 2471400 h 2471040"/>
                </a:gdLst>
                <a:ahLst/>
                <a:rect l="textAreaLeft" t="textAreaTop" r="textAreaRight" b="textAreaBottom"/>
                <a:pathLst>
                  <a:path w="696" h="2064">
                    <a:moveTo>
                      <a:pt x="696" y="2064"/>
                    </a:moveTo>
                    <a:cubicBezTo>
                      <a:pt x="420" y="1996"/>
                      <a:pt x="144" y="1928"/>
                      <a:pt x="72" y="1584"/>
                    </a:cubicBezTo>
                    <a:cubicBezTo>
                      <a:pt x="0" y="1240"/>
                      <a:pt x="132" y="620"/>
                      <a:pt x="264" y="0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95" name="Freeform 24"/>
              <p:cNvSpPr/>
              <p:nvPr/>
            </p:nvSpPr>
            <p:spPr>
              <a:xfrm>
                <a:off x="1494000" y="2715480"/>
                <a:ext cx="1939680" cy="2576160"/>
              </a:xfrm>
              <a:custGeom>
                <a:avLst/>
                <a:gdLst>
                  <a:gd name="textAreaLeft" fmla="*/ 0 w 1939680"/>
                  <a:gd name="textAreaRight" fmla="*/ 1940040 w 1939680"/>
                  <a:gd name="textAreaTop" fmla="*/ 0 h 2576160"/>
                  <a:gd name="textAreaBottom" fmla="*/ 2576520 h 2576160"/>
                </a:gdLst>
                <a:ahLst/>
                <a:rect l="textAreaLeft" t="textAreaTop" r="textAreaRight" b="textAreaBottom"/>
                <a:pathLst>
                  <a:path w="1992" h="2152">
                    <a:moveTo>
                      <a:pt x="1032" y="0"/>
                    </a:moveTo>
                    <a:cubicBezTo>
                      <a:pt x="716" y="264"/>
                      <a:pt x="400" y="528"/>
                      <a:pt x="264" y="864"/>
                    </a:cubicBezTo>
                    <a:cubicBezTo>
                      <a:pt x="128" y="1200"/>
                      <a:pt x="0" y="1880"/>
                      <a:pt x="216" y="2016"/>
                    </a:cubicBezTo>
                    <a:cubicBezTo>
                      <a:pt x="432" y="2152"/>
                      <a:pt x="1264" y="1880"/>
                      <a:pt x="1560" y="1680"/>
                    </a:cubicBezTo>
                    <a:cubicBezTo>
                      <a:pt x="1856" y="1480"/>
                      <a:pt x="1924" y="1148"/>
                      <a:pt x="1992" y="816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696" name="Group 26"/>
              <p:cNvGrpSpPr/>
              <p:nvPr/>
            </p:nvGrpSpPr>
            <p:grpSpPr>
              <a:xfrm>
                <a:off x="4216320" y="4552200"/>
                <a:ext cx="1906560" cy="854280"/>
                <a:chOff x="4216320" y="4552200"/>
                <a:chExt cx="1906560" cy="854280"/>
              </a:xfrm>
            </p:grpSpPr>
            <p:sp>
              <p:nvSpPr>
                <p:cNvPr id="697" name="Rectangle 27"/>
                <p:cNvSpPr/>
                <p:nvPr/>
              </p:nvSpPr>
              <p:spPr>
                <a:xfrm>
                  <a:off x="4216320" y="5069160"/>
                  <a:ext cx="1906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MFI Clients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28"/>
                <p:cNvGrpSpPr/>
                <p:nvPr/>
              </p:nvGrpSpPr>
              <p:grpSpPr>
                <a:xfrm>
                  <a:off x="4704120" y="4552200"/>
                  <a:ext cx="466920" cy="516960"/>
                  <a:chOff x="4704120" y="4552200"/>
                  <a:chExt cx="466920" cy="516960"/>
                </a:xfrm>
              </p:grpSpPr>
              <p:sp>
                <p:nvSpPr>
                  <p:cNvPr id="699" name="AutoShape 29"/>
                  <p:cNvSpPr/>
                  <p:nvPr/>
                </p:nvSpPr>
                <p:spPr>
                  <a:xfrm>
                    <a:off x="4704120" y="4552200"/>
                    <a:ext cx="466920" cy="516960"/>
                  </a:xfrm>
                  <a:custGeom>
                    <a:avLst/>
                    <a:gdLst>
                      <a:gd name="textAreaLeft" fmla="*/ 22680 w 466920"/>
                      <a:gd name="textAreaRight" fmla="*/ 444240 w 466920"/>
                      <a:gd name="textAreaTop" fmla="*/ 22680 h 516960"/>
                      <a:gd name="textAreaBottom" fmla="*/ 494280 h 516960"/>
                    </a:gdLst>
                    <a:ahLst/>
                    <a:rect l="textAreaLeft" t="textAreaTop" r="textAreaRight" b="textAreaBottom"/>
                    <a:pathLst>
                      <a:path w="21600" h="2391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0313"/>
                        </a:lnTo>
                        <a:arcTo wR="3600" hR="3600" stAng="10800000" swAng="-5400000"/>
                        <a:lnTo>
                          <a:pt x="18000" y="2391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969696">
                      <a:alpha val="4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0" name="Group 30"/>
                  <p:cNvGrpSpPr/>
                  <p:nvPr/>
                </p:nvGrpSpPr>
                <p:grpSpPr>
                  <a:xfrm>
                    <a:off x="4781880" y="4638240"/>
                    <a:ext cx="317160" cy="373320"/>
                    <a:chOff x="4781880" y="4638240"/>
                    <a:chExt cx="317160" cy="373320"/>
                  </a:xfrm>
                </p:grpSpPr>
                <p:grpSp>
                  <p:nvGrpSpPr>
                    <p:cNvPr id="701" name="Group 31"/>
                    <p:cNvGrpSpPr/>
                    <p:nvPr/>
                  </p:nvGrpSpPr>
                  <p:grpSpPr>
                    <a:xfrm>
                      <a:off x="4984920" y="4638240"/>
                      <a:ext cx="114120" cy="368640"/>
                      <a:chOff x="4984920" y="4638240"/>
                      <a:chExt cx="114120" cy="368640"/>
                    </a:xfrm>
                  </p:grpSpPr>
                  <p:sp>
                    <p:nvSpPr>
                      <p:cNvPr id="702" name="Freeform 32"/>
                      <p:cNvSpPr/>
                      <p:nvPr/>
                    </p:nvSpPr>
                    <p:spPr>
                      <a:xfrm>
                        <a:off x="5019840" y="4638240"/>
                        <a:ext cx="41040" cy="60120"/>
                      </a:xfrm>
                      <a:custGeom>
                        <a:avLst/>
                        <a:gdLst>
                          <a:gd name="textAreaLeft" fmla="*/ 0 w 41040"/>
                          <a:gd name="textAreaRight" fmla="*/ 41040 w 4104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14" h="17">
                            <a:moveTo>
                              <a:pt x="2" y="3"/>
                            </a:moveTo>
                            <a:lnTo>
                              <a:pt x="3" y="1"/>
                            </a:lnTo>
                            <a:lnTo>
                              <a:pt x="5" y="1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1" y="1"/>
                            </a:lnTo>
                            <a:lnTo>
                              <a:pt x="12" y="3"/>
                            </a:lnTo>
                            <a:lnTo>
                              <a:pt x="13" y="4"/>
                            </a:lnTo>
                            <a:lnTo>
                              <a:pt x="14" y="5"/>
                            </a:lnTo>
                            <a:lnTo>
                              <a:pt x="14" y="7"/>
                            </a:lnTo>
                            <a:lnTo>
                              <a:pt x="14" y="8"/>
                            </a:lnTo>
                            <a:lnTo>
                              <a:pt x="14" y="10"/>
                            </a:lnTo>
                            <a:lnTo>
                              <a:pt x="14" y="12"/>
                            </a:lnTo>
                            <a:lnTo>
                              <a:pt x="13" y="13"/>
                            </a:lnTo>
                            <a:lnTo>
                              <a:pt x="12" y="14"/>
                            </a:lnTo>
                            <a:lnTo>
                              <a:pt x="11" y="15"/>
                            </a:lnTo>
                            <a:lnTo>
                              <a:pt x="10" y="16"/>
                            </a:lnTo>
                            <a:lnTo>
                              <a:pt x="9" y="17"/>
                            </a:lnTo>
                            <a:lnTo>
                              <a:pt x="7" y="17"/>
                            </a:lnTo>
                            <a:lnTo>
                              <a:pt x="6" y="17"/>
                            </a:lnTo>
                            <a:lnTo>
                              <a:pt x="5" y="16"/>
                            </a:lnTo>
                            <a:lnTo>
                              <a:pt x="3" y="15"/>
                            </a:lnTo>
                            <a:lnTo>
                              <a:pt x="2" y="14"/>
                            </a:lnTo>
                            <a:lnTo>
                              <a:pt x="1" y="13"/>
                            </a:lnTo>
                            <a:lnTo>
                              <a:pt x="1" y="12"/>
                            </a:lnTo>
                            <a:lnTo>
                              <a:pt x="1" y="10"/>
                            </a:lnTo>
                            <a:lnTo>
                              <a:pt x="0" y="8"/>
                            </a:lnTo>
                            <a:lnTo>
                              <a:pt x="1" y="7"/>
                            </a:lnTo>
                            <a:lnTo>
                              <a:pt x="1" y="5"/>
                            </a:lnTo>
                            <a:lnTo>
                              <a:pt x="1" y="4"/>
                            </a:lnTo>
                            <a:lnTo>
                              <a:pt x="2" y="3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Freeform 33"/>
                      <p:cNvSpPr/>
                      <p:nvPr/>
                    </p:nvSpPr>
                    <p:spPr>
                      <a:xfrm>
                        <a:off x="4984920" y="4712760"/>
                        <a:ext cx="114120" cy="294120"/>
                      </a:xfrm>
                      <a:custGeom>
                        <a:avLst/>
                        <a:gdLst>
                          <a:gd name="textAreaLeft" fmla="*/ 0 w 114120"/>
                          <a:gd name="textAreaRight" fmla="*/ 114480 w 114120"/>
                          <a:gd name="textAreaTop" fmla="*/ 0 h 294120"/>
                          <a:gd name="textAreaBottom" fmla="*/ 294480 h 294120"/>
                        </a:gdLst>
                        <a:ahLst/>
                        <a:rect l="textAreaLeft" t="textAreaTop" r="textAreaRight" b="textAreaBottom"/>
                        <a:pathLst>
                          <a:path w="39" h="83">
                            <a:moveTo>
                              <a:pt x="10" y="29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28"/>
                            </a:lnTo>
                            <a:lnTo>
                              <a:pt x="6" y="29"/>
                            </a:lnTo>
                            <a:lnTo>
                              <a:pt x="5" y="31"/>
                            </a:lnTo>
                            <a:lnTo>
                              <a:pt x="4" y="32"/>
                            </a:lnTo>
                            <a:lnTo>
                              <a:pt x="3" y="32"/>
                            </a:lnTo>
                            <a:lnTo>
                              <a:pt x="1" y="32"/>
                            </a:lnTo>
                            <a:lnTo>
                              <a:pt x="0" y="31"/>
                            </a:lnTo>
                            <a:lnTo>
                              <a:pt x="0" y="29"/>
                            </a:lnTo>
                            <a:lnTo>
                              <a:pt x="0" y="28"/>
                            </a:lnTo>
                            <a:lnTo>
                              <a:pt x="0" y="9"/>
                            </a:lnTo>
                            <a:lnTo>
                              <a:pt x="0" y="7"/>
                            </a:lnTo>
                            <a:lnTo>
                              <a:pt x="0" y="5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6" y="0"/>
                            </a:lnTo>
                            <a:lnTo>
                              <a:pt x="8" y="0"/>
                            </a:lnTo>
                            <a:lnTo>
                              <a:pt x="30" y="0"/>
                            </a:lnTo>
                            <a:lnTo>
                              <a:pt x="32" y="0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2"/>
                            </a:lnTo>
                            <a:lnTo>
                              <a:pt x="38" y="3"/>
                            </a:lnTo>
                            <a:lnTo>
                              <a:pt x="38" y="5"/>
                            </a:lnTo>
                            <a:lnTo>
                              <a:pt x="39" y="7"/>
                            </a:lnTo>
                            <a:lnTo>
                              <a:pt x="39" y="9"/>
                            </a:lnTo>
                            <a:lnTo>
                              <a:pt x="39" y="28"/>
                            </a:lnTo>
                            <a:lnTo>
                              <a:pt x="39" y="29"/>
                            </a:lnTo>
                            <a:lnTo>
                              <a:pt x="38" y="31"/>
                            </a:lnTo>
                            <a:lnTo>
                              <a:pt x="37" y="32"/>
                            </a:lnTo>
                            <a:lnTo>
                              <a:pt x="36" y="32"/>
                            </a:lnTo>
                            <a:lnTo>
                              <a:pt x="34" y="32"/>
                            </a:lnTo>
                            <a:lnTo>
                              <a:pt x="33" y="31"/>
                            </a:lnTo>
                            <a:lnTo>
                              <a:pt x="33" y="29"/>
                            </a:lnTo>
                            <a:lnTo>
                              <a:pt x="32" y="28"/>
                            </a:lnTo>
                            <a:lnTo>
                              <a:pt x="32" y="9"/>
                            </a:lnTo>
                            <a:lnTo>
                              <a:pt x="28" y="9"/>
                            </a:lnTo>
                            <a:lnTo>
                              <a:pt x="28" y="29"/>
                            </a:lnTo>
                            <a:lnTo>
                              <a:pt x="37" y="49"/>
                            </a:lnTo>
                            <a:lnTo>
                              <a:pt x="30" y="49"/>
                            </a:lnTo>
                            <a:lnTo>
                              <a:pt x="30" y="78"/>
                            </a:lnTo>
                            <a:lnTo>
                              <a:pt x="29" y="80"/>
                            </a:lnTo>
                            <a:lnTo>
                              <a:pt x="29" y="82"/>
                            </a:lnTo>
                            <a:lnTo>
                              <a:pt x="28" y="82"/>
                            </a:lnTo>
                            <a:lnTo>
                              <a:pt x="26" y="83"/>
                            </a:lnTo>
                            <a:lnTo>
                              <a:pt x="24" y="82"/>
                            </a:lnTo>
                            <a:lnTo>
                              <a:pt x="23" y="82"/>
                            </a:lnTo>
                            <a:lnTo>
                              <a:pt x="22" y="80"/>
                            </a:lnTo>
                            <a:lnTo>
                              <a:pt x="22" y="78"/>
                            </a:lnTo>
                            <a:lnTo>
                              <a:pt x="22" y="49"/>
                            </a:lnTo>
                            <a:lnTo>
                              <a:pt x="17" y="49"/>
                            </a:lnTo>
                            <a:lnTo>
                              <a:pt x="17" y="78"/>
                            </a:lnTo>
                            <a:lnTo>
                              <a:pt x="17" y="80"/>
                            </a:lnTo>
                            <a:lnTo>
                              <a:pt x="16" y="82"/>
                            </a:lnTo>
                            <a:lnTo>
                              <a:pt x="15" y="82"/>
                            </a:lnTo>
                            <a:lnTo>
                              <a:pt x="13" y="83"/>
                            </a:lnTo>
                            <a:lnTo>
                              <a:pt x="11" y="82"/>
                            </a:lnTo>
                            <a:lnTo>
                              <a:pt x="10" y="82"/>
                            </a:lnTo>
                            <a:lnTo>
                              <a:pt x="9" y="80"/>
                            </a:lnTo>
                            <a:lnTo>
                              <a:pt x="9" y="78"/>
                            </a:lnTo>
                            <a:lnTo>
                              <a:pt x="9" y="49"/>
                            </a:lnTo>
                            <a:lnTo>
                              <a:pt x="3" y="49"/>
                            </a:lnTo>
                            <a:lnTo>
                              <a:pt x="10" y="29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4" name="Group 37"/>
                    <p:cNvGrpSpPr/>
                    <p:nvPr/>
                  </p:nvGrpSpPr>
                  <p:grpSpPr>
                    <a:xfrm>
                      <a:off x="4781880" y="4642560"/>
                      <a:ext cx="113400" cy="369000"/>
                      <a:chOff x="4781880" y="4642560"/>
                      <a:chExt cx="113400" cy="369000"/>
                    </a:xfrm>
                  </p:grpSpPr>
                  <p:sp>
                    <p:nvSpPr>
                      <p:cNvPr id="705" name="Freeform 35"/>
                      <p:cNvSpPr/>
                      <p:nvPr/>
                    </p:nvSpPr>
                    <p:spPr>
                      <a:xfrm>
                        <a:off x="4818600" y="4642560"/>
                        <a:ext cx="36720" cy="57600"/>
                      </a:xfrm>
                      <a:custGeom>
                        <a:avLst/>
                        <a:gdLst>
                          <a:gd name="textAreaLeft" fmla="*/ 0 w 36720"/>
                          <a:gd name="textAreaRight" fmla="*/ 37080 w 36720"/>
                          <a:gd name="textAreaTop" fmla="*/ 0 h 57600"/>
                          <a:gd name="textAreaBottom" fmla="*/ 57960 h 57600"/>
                        </a:gdLst>
                        <a:ahLst/>
                        <a:rect l="textAreaLeft" t="textAreaTop" r="textAreaRight" b="textAreaBottom"/>
                        <a:pathLst>
                          <a:path w="12" h="14">
                            <a:moveTo>
                              <a:pt x="12" y="7"/>
                            </a:moveTo>
                            <a:lnTo>
                              <a:pt x="12" y="9"/>
                            </a:lnTo>
                            <a:lnTo>
                              <a:pt x="12" y="10"/>
                            </a:lnTo>
                            <a:lnTo>
                              <a:pt x="11" y="11"/>
                            </a:lnTo>
                            <a:lnTo>
                              <a:pt x="10" y="12"/>
                            </a:lnTo>
                            <a:lnTo>
                              <a:pt x="10" y="13"/>
                            </a:lnTo>
                            <a:lnTo>
                              <a:pt x="9" y="14"/>
                            </a:lnTo>
                            <a:lnTo>
                              <a:pt x="7" y="14"/>
                            </a:lnTo>
                            <a:lnTo>
                              <a:pt x="6" y="14"/>
                            </a:lnTo>
                            <a:lnTo>
                              <a:pt x="5" y="14"/>
                            </a:lnTo>
                            <a:lnTo>
                              <a:pt x="4" y="14"/>
                            </a:lnTo>
                            <a:lnTo>
                              <a:pt x="3" y="13"/>
                            </a:lnTo>
                            <a:lnTo>
                              <a:pt x="2" y="12"/>
                            </a:lnTo>
                            <a:lnTo>
                              <a:pt x="1" y="11"/>
                            </a:lnTo>
                            <a:lnTo>
                              <a:pt x="1" y="10"/>
                            </a:lnTo>
                            <a:lnTo>
                              <a:pt x="0" y="9"/>
                            </a:lnTo>
                            <a:lnTo>
                              <a:pt x="0" y="7"/>
                            </a:lnTo>
                            <a:lnTo>
                              <a:pt x="0" y="6"/>
                            </a:lnTo>
                            <a:lnTo>
                              <a:pt x="1" y="4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4" y="0"/>
                            </a:lnTo>
                            <a:lnTo>
                              <a:pt x="5" y="0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0" y="2"/>
                            </a:lnTo>
                            <a:lnTo>
                              <a:pt x="11" y="3"/>
                            </a:lnTo>
                            <a:lnTo>
                              <a:pt x="12" y="4"/>
                            </a:lnTo>
                            <a:lnTo>
                              <a:pt x="12" y="6"/>
                            </a:lnTo>
                            <a:lnTo>
                              <a:pt x="12" y="7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Freeform 36"/>
                      <p:cNvSpPr/>
                      <p:nvPr/>
                    </p:nvSpPr>
                    <p:spPr>
                      <a:xfrm>
                        <a:off x="4781880" y="4716000"/>
                        <a:ext cx="113400" cy="295560"/>
                      </a:xfrm>
                      <a:custGeom>
                        <a:avLst/>
                        <a:gdLst>
                          <a:gd name="textAreaLeft" fmla="*/ 0 w 113400"/>
                          <a:gd name="textAreaRight" fmla="*/ 113760 w 113400"/>
                          <a:gd name="textAreaTop" fmla="*/ 0 h 295560"/>
                          <a:gd name="textAreaBottom" fmla="*/ 295920 h 295560"/>
                        </a:gdLst>
                        <a:ahLst/>
                        <a:rect l="textAreaLeft" t="textAreaTop" r="textAreaRight" b="textAreaBottom"/>
                        <a:pathLst>
                          <a:path w="37" h="72">
                            <a:moveTo>
                              <a:pt x="27" y="68"/>
                            </a:moveTo>
                            <a:lnTo>
                              <a:pt x="27" y="69"/>
                            </a:lnTo>
                            <a:lnTo>
                              <a:pt x="26" y="71"/>
                            </a:lnTo>
                            <a:lnTo>
                              <a:pt x="25" y="71"/>
                            </a:lnTo>
                            <a:lnTo>
                              <a:pt x="24" y="72"/>
                            </a:lnTo>
                            <a:lnTo>
                              <a:pt x="22" y="71"/>
                            </a:lnTo>
                            <a:lnTo>
                              <a:pt x="21" y="71"/>
                            </a:lnTo>
                            <a:lnTo>
                              <a:pt x="20" y="69"/>
                            </a:lnTo>
                            <a:lnTo>
                              <a:pt x="20" y="68"/>
                            </a:lnTo>
                            <a:lnTo>
                              <a:pt x="20" y="28"/>
                            </a:lnTo>
                            <a:lnTo>
                              <a:pt x="16" y="28"/>
                            </a:lnTo>
                            <a:lnTo>
                              <a:pt x="16" y="68"/>
                            </a:lnTo>
                            <a:lnTo>
                              <a:pt x="16" y="69"/>
                            </a:lnTo>
                            <a:lnTo>
                              <a:pt x="15" y="71"/>
                            </a:lnTo>
                            <a:lnTo>
                              <a:pt x="14" y="71"/>
                            </a:lnTo>
                            <a:lnTo>
                              <a:pt x="13" y="72"/>
                            </a:lnTo>
                            <a:lnTo>
                              <a:pt x="11" y="71"/>
                            </a:lnTo>
                            <a:lnTo>
                              <a:pt x="10" y="71"/>
                            </a:lnTo>
                            <a:lnTo>
                              <a:pt x="9" y="69"/>
                            </a:lnTo>
                            <a:lnTo>
                              <a:pt x="9" y="68"/>
                            </a:lnTo>
                            <a:lnTo>
                              <a:pt x="9" y="8"/>
                            </a:lnTo>
                            <a:lnTo>
                              <a:pt x="6" y="8"/>
                            </a:lnTo>
                            <a:lnTo>
                              <a:pt x="6" y="33"/>
                            </a:lnTo>
                            <a:lnTo>
                              <a:pt x="5" y="35"/>
                            </a:lnTo>
                            <a:lnTo>
                              <a:pt x="5" y="36"/>
                            </a:lnTo>
                            <a:lnTo>
                              <a:pt x="4" y="36"/>
                            </a:lnTo>
                            <a:lnTo>
                              <a:pt x="3" y="37"/>
                            </a:lnTo>
                            <a:lnTo>
                              <a:pt x="2" y="36"/>
                            </a:lnTo>
                            <a:lnTo>
                              <a:pt x="1" y="36"/>
                            </a:lnTo>
                            <a:lnTo>
                              <a:pt x="0" y="35"/>
                            </a:lnTo>
                            <a:lnTo>
                              <a:pt x="0" y="33"/>
                            </a:ln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4" y="1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29" y="0"/>
                            </a:lnTo>
                            <a:lnTo>
                              <a:pt x="31" y="0"/>
                            </a:lnTo>
                            <a:lnTo>
                              <a:pt x="32" y="1"/>
                            </a:lnTo>
                            <a:lnTo>
                              <a:pt x="33" y="1"/>
                            </a:lnTo>
                            <a:lnTo>
                              <a:pt x="35" y="2"/>
                            </a:lnTo>
                            <a:lnTo>
                              <a:pt x="35" y="3"/>
                            </a:lnTo>
                            <a:lnTo>
                              <a:pt x="36" y="4"/>
                            </a:lnTo>
                            <a:lnTo>
                              <a:pt x="36" y="6"/>
                            </a:lnTo>
                            <a:lnTo>
                              <a:pt x="37" y="8"/>
                            </a:lnTo>
                            <a:lnTo>
                              <a:pt x="37" y="33"/>
                            </a:lnTo>
                            <a:lnTo>
                              <a:pt x="36" y="35"/>
                            </a:lnTo>
                            <a:lnTo>
                              <a:pt x="36" y="36"/>
                            </a:lnTo>
                            <a:lnTo>
                              <a:pt x="35" y="36"/>
                            </a:lnTo>
                            <a:lnTo>
                              <a:pt x="34" y="37"/>
                            </a:lnTo>
                            <a:lnTo>
                              <a:pt x="33" y="36"/>
                            </a:lnTo>
                            <a:lnTo>
                              <a:pt x="32" y="36"/>
                            </a:lnTo>
                            <a:lnTo>
                              <a:pt x="31" y="35"/>
                            </a:lnTo>
                            <a:lnTo>
                              <a:pt x="31" y="33"/>
                            </a:lnTo>
                            <a:lnTo>
                              <a:pt x="31" y="8"/>
                            </a:lnTo>
                            <a:lnTo>
                              <a:pt x="27" y="8"/>
                            </a:lnTo>
                            <a:lnTo>
                              <a:pt x="27" y="68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7" name="Group 37"/>
                    <p:cNvGrpSpPr/>
                    <p:nvPr/>
                  </p:nvGrpSpPr>
                  <p:grpSpPr>
                    <a:xfrm>
                      <a:off x="4844880" y="4792320"/>
                      <a:ext cx="195840" cy="214920"/>
                      <a:chOff x="4844880" y="4792320"/>
                      <a:chExt cx="195840" cy="214920"/>
                    </a:xfrm>
                  </p:grpSpPr>
                  <p:grpSp>
                    <p:nvGrpSpPr>
                      <p:cNvPr id="708" name="Group 38"/>
                      <p:cNvGrpSpPr/>
                      <p:nvPr/>
                    </p:nvGrpSpPr>
                    <p:grpSpPr>
                      <a:xfrm>
                        <a:off x="4844880" y="4792320"/>
                        <a:ext cx="75960" cy="214920"/>
                        <a:chOff x="4844880" y="4792320"/>
                        <a:chExt cx="75960" cy="214920"/>
                      </a:xfrm>
                    </p:grpSpPr>
                    <p:sp>
                      <p:nvSpPr>
                        <p:cNvPr id="709" name="Freeform 39"/>
                        <p:cNvSpPr/>
                        <p:nvPr/>
                      </p:nvSpPr>
                      <p:spPr>
                        <a:xfrm>
                          <a:off x="4868280" y="4792320"/>
                          <a:ext cx="27360" cy="34920"/>
                        </a:xfrm>
                        <a:custGeom>
                          <a:avLst/>
                          <a:gdLst>
                            <a:gd name="textAreaLeft" fmla="*/ 0 w 27360"/>
                            <a:gd name="textAreaRight" fmla="*/ 27720 w 27360"/>
                            <a:gd name="textAreaTop" fmla="*/ 0 h 34920"/>
                            <a:gd name="textAreaBottom" fmla="*/ 35280 h 34920"/>
                          </a:gdLst>
                          <a:ahLst/>
                          <a:rect l="textAreaLeft" t="textAreaTop" r="textAreaRight" b="textAreaBottom"/>
                          <a:pathLst>
                            <a:path w="14" h="17">
                              <a:moveTo>
                                <a:pt x="2" y="3"/>
                              </a:moveTo>
                              <a:lnTo>
                                <a:pt x="3" y="1"/>
                              </a:lnTo>
                              <a:lnTo>
                                <a:pt x="5" y="1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9" y="0"/>
                              </a:lnTo>
                              <a:lnTo>
                                <a:pt x="10" y="1"/>
                              </a:lnTo>
                              <a:lnTo>
                                <a:pt x="11" y="1"/>
                              </a:lnTo>
                              <a:lnTo>
                                <a:pt x="12" y="3"/>
                              </a:lnTo>
                              <a:lnTo>
                                <a:pt x="13" y="4"/>
                              </a:lnTo>
                              <a:lnTo>
                                <a:pt x="14" y="5"/>
                              </a:lnTo>
                              <a:lnTo>
                                <a:pt x="14" y="7"/>
                              </a:lnTo>
                              <a:lnTo>
                                <a:pt x="14" y="8"/>
                              </a:lnTo>
                              <a:lnTo>
                                <a:pt x="14" y="10"/>
                              </a:lnTo>
                              <a:lnTo>
                                <a:pt x="14" y="12"/>
                              </a:lnTo>
                              <a:lnTo>
                                <a:pt x="13" y="13"/>
                              </a:lnTo>
                              <a:lnTo>
                                <a:pt x="12" y="14"/>
                              </a:lnTo>
                              <a:lnTo>
                                <a:pt x="11" y="15"/>
                              </a:lnTo>
                              <a:lnTo>
                                <a:pt x="10" y="16"/>
                              </a:lnTo>
                              <a:lnTo>
                                <a:pt x="9" y="17"/>
                              </a:lnTo>
                              <a:lnTo>
                                <a:pt x="7" y="17"/>
                              </a:lnTo>
                              <a:lnTo>
                                <a:pt x="6" y="17"/>
                              </a:lnTo>
                              <a:lnTo>
                                <a:pt x="5" y="16"/>
                              </a:lnTo>
                              <a:lnTo>
                                <a:pt x="3" y="15"/>
                              </a:lnTo>
                              <a:lnTo>
                                <a:pt x="2" y="14"/>
                              </a:lnTo>
                              <a:lnTo>
                                <a:pt x="1" y="13"/>
                              </a:lnTo>
                              <a:lnTo>
                                <a:pt x="1" y="12"/>
                              </a:lnTo>
                              <a:lnTo>
                                <a:pt x="1" y="10"/>
                              </a:lnTo>
                              <a:lnTo>
                                <a:pt x="0" y="8"/>
                              </a:lnTo>
                              <a:lnTo>
                                <a:pt x="1" y="7"/>
                              </a:lnTo>
                              <a:lnTo>
                                <a:pt x="1" y="5"/>
                              </a:lnTo>
                              <a:lnTo>
                                <a:pt x="1" y="4"/>
                              </a:lnTo>
                              <a:lnTo>
                                <a:pt x="2" y="3"/>
                              </a:lnTo>
                              <a:close/>
                            </a:path>
                          </a:pathLst>
                        </a:custGeom>
                        <a:noFill/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16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0" name="Freeform 40"/>
                        <p:cNvSpPr/>
                        <p:nvPr/>
                      </p:nvSpPr>
                      <p:spPr>
                        <a:xfrm>
                          <a:off x="4844880" y="4835880"/>
                          <a:ext cx="75960" cy="171360"/>
                        </a:xfrm>
                        <a:custGeom>
                          <a:avLst/>
                          <a:gdLst>
                            <a:gd name="textAreaLeft" fmla="*/ 0 w 75960"/>
                            <a:gd name="textAreaRight" fmla="*/ 76320 w 75960"/>
                            <a:gd name="textAreaTop" fmla="*/ 0 h 171360"/>
                            <a:gd name="textAreaBottom" fmla="*/ 171720 h 171360"/>
                          </a:gdLst>
                          <a:ahLst/>
                          <a:rect l="textAreaLeft" t="textAreaTop" r="textAreaRight" b="textAreaBottom"/>
                          <a:pathLst>
                            <a:path w="39" h="83">
                              <a:moveTo>
                                <a:pt x="10" y="29"/>
                              </a:moveTo>
                              <a:lnTo>
                                <a:pt x="10" y="9"/>
                              </a:lnTo>
                              <a:lnTo>
                                <a:pt x="6" y="9"/>
                              </a:lnTo>
                              <a:lnTo>
                                <a:pt x="6" y="28"/>
                              </a:lnTo>
                              <a:lnTo>
                                <a:pt x="6" y="29"/>
                              </a:lnTo>
                              <a:lnTo>
                                <a:pt x="5" y="31"/>
                              </a:lnTo>
                              <a:lnTo>
                                <a:pt x="4" y="32"/>
                              </a:lnTo>
                              <a:lnTo>
                                <a:pt x="3" y="32"/>
                              </a:lnTo>
                              <a:lnTo>
                                <a:pt x="1" y="32"/>
                              </a:lnTo>
                              <a:lnTo>
                                <a:pt x="0" y="31"/>
                              </a:lnTo>
                              <a:lnTo>
                                <a:pt x="0" y="29"/>
                              </a:lnTo>
                              <a:lnTo>
                                <a:pt x="0" y="28"/>
                              </a:lnTo>
                              <a:lnTo>
                                <a:pt x="0" y="9"/>
                              </a:lnTo>
                              <a:lnTo>
                                <a:pt x="0" y="7"/>
                              </a:lnTo>
                              <a:lnTo>
                                <a:pt x="0" y="5"/>
                              </a:lnTo>
                              <a:lnTo>
                                <a:pt x="1" y="3"/>
                              </a:lnTo>
                              <a:lnTo>
                                <a:pt x="2" y="2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6" y="0"/>
                              </a:lnTo>
                              <a:lnTo>
                                <a:pt x="8" y="0"/>
                              </a:lnTo>
                              <a:lnTo>
                                <a:pt x="30" y="0"/>
                              </a:lnTo>
                              <a:lnTo>
                                <a:pt x="32" y="0"/>
                              </a:lnTo>
                              <a:lnTo>
                                <a:pt x="34" y="1"/>
                              </a:lnTo>
                              <a:lnTo>
                                <a:pt x="35" y="1"/>
                              </a:lnTo>
                              <a:lnTo>
                                <a:pt x="37" y="2"/>
                              </a:lnTo>
                              <a:lnTo>
                                <a:pt x="38" y="3"/>
                              </a:lnTo>
                              <a:lnTo>
                                <a:pt x="38" y="5"/>
                              </a:lnTo>
                              <a:lnTo>
                                <a:pt x="39" y="7"/>
                              </a:lnTo>
                              <a:lnTo>
                                <a:pt x="39" y="9"/>
                              </a:lnTo>
                              <a:lnTo>
                                <a:pt x="39" y="28"/>
                              </a:lnTo>
                              <a:lnTo>
                                <a:pt x="39" y="29"/>
                              </a:lnTo>
                              <a:lnTo>
                                <a:pt x="38" y="31"/>
                              </a:lnTo>
                              <a:lnTo>
                                <a:pt x="37" y="32"/>
                              </a:lnTo>
                              <a:lnTo>
                                <a:pt x="36" y="32"/>
                              </a:lnTo>
                              <a:lnTo>
                                <a:pt x="34" y="32"/>
                              </a:lnTo>
                              <a:lnTo>
                                <a:pt x="33" y="31"/>
                              </a:lnTo>
                              <a:lnTo>
                                <a:pt x="33" y="29"/>
                              </a:lnTo>
                              <a:lnTo>
                                <a:pt x="32" y="28"/>
                              </a:lnTo>
                              <a:lnTo>
                                <a:pt x="32" y="9"/>
                              </a:lnTo>
                              <a:lnTo>
                                <a:pt x="28" y="9"/>
                              </a:lnTo>
                              <a:lnTo>
                                <a:pt x="28" y="29"/>
                              </a:lnTo>
                              <a:lnTo>
                                <a:pt x="37" y="49"/>
                              </a:lnTo>
                              <a:lnTo>
                                <a:pt x="30" y="49"/>
                              </a:lnTo>
                              <a:lnTo>
                                <a:pt x="30" y="78"/>
                              </a:lnTo>
                              <a:lnTo>
                                <a:pt x="29" y="80"/>
                              </a:lnTo>
                              <a:lnTo>
                                <a:pt x="29" y="82"/>
                              </a:lnTo>
                              <a:lnTo>
                                <a:pt x="28" y="82"/>
                              </a:lnTo>
                              <a:lnTo>
                                <a:pt x="26" y="83"/>
                              </a:lnTo>
                              <a:lnTo>
                                <a:pt x="24" y="82"/>
                              </a:lnTo>
                              <a:lnTo>
                                <a:pt x="23" y="82"/>
                              </a:lnTo>
                              <a:lnTo>
                                <a:pt x="22" y="80"/>
                              </a:lnTo>
                              <a:lnTo>
                                <a:pt x="22" y="78"/>
                              </a:lnTo>
                              <a:lnTo>
                                <a:pt x="22" y="49"/>
                              </a:lnTo>
                              <a:lnTo>
                                <a:pt x="17" y="49"/>
                              </a:lnTo>
                              <a:lnTo>
                                <a:pt x="17" y="78"/>
                              </a:lnTo>
                              <a:lnTo>
                                <a:pt x="17" y="80"/>
                              </a:lnTo>
                              <a:lnTo>
                                <a:pt x="16" y="82"/>
                              </a:lnTo>
                              <a:lnTo>
                                <a:pt x="15" y="82"/>
                              </a:lnTo>
                              <a:lnTo>
                                <a:pt x="13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9" y="80"/>
                              </a:lnTo>
                              <a:lnTo>
                                <a:pt x="9" y="78"/>
                              </a:lnTo>
                              <a:lnTo>
                                <a:pt x="9" y="49"/>
                              </a:lnTo>
                              <a:lnTo>
                                <a:pt x="3" y="49"/>
                              </a:lnTo>
                              <a:lnTo>
                                <a:pt x="10" y="29"/>
                              </a:lnTo>
                              <a:close/>
                            </a:path>
                          </a:pathLst>
                        </a:custGeom>
                        <a:noFill/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6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11" name="Group 41"/>
                      <p:cNvGrpSpPr/>
                      <p:nvPr/>
                    </p:nvGrpSpPr>
                    <p:grpSpPr>
                      <a:xfrm>
                        <a:off x="4938840" y="4792320"/>
                        <a:ext cx="101880" cy="214560"/>
                        <a:chOff x="4938840" y="4792320"/>
                        <a:chExt cx="101880" cy="214560"/>
                      </a:xfrm>
                    </p:grpSpPr>
                    <p:sp>
                      <p:nvSpPr>
                        <p:cNvPr id="712" name="Freeform 42"/>
                        <p:cNvSpPr/>
                        <p:nvPr/>
                      </p:nvSpPr>
                      <p:spPr>
                        <a:xfrm>
                          <a:off x="4971960" y="4792320"/>
                          <a:ext cx="33120" cy="33480"/>
                        </a:xfrm>
                        <a:custGeom>
                          <a:avLst/>
                          <a:gdLst>
                            <a:gd name="textAreaLeft" fmla="*/ 0 w 33120"/>
                            <a:gd name="textAreaRight" fmla="*/ 33480 w 33120"/>
                            <a:gd name="textAreaTop" fmla="*/ 0 h 33480"/>
                            <a:gd name="textAreaBottom" fmla="*/ 33840 h 33480"/>
                          </a:gdLst>
                          <a:ahLst/>
                          <a:rect l="textAreaLeft" t="textAreaTop" r="textAreaRight" b="textAreaBottom"/>
                          <a:pathLst>
                            <a:path w="12" h="14">
                              <a:moveTo>
                                <a:pt x="12" y="7"/>
                              </a:move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11" y="11"/>
                              </a:lnTo>
                              <a:lnTo>
                                <a:pt x="10" y="12"/>
                              </a:lnTo>
                              <a:lnTo>
                                <a:pt x="10" y="13"/>
                              </a:lnTo>
                              <a:lnTo>
                                <a:pt x="9" y="14"/>
                              </a:lnTo>
                              <a:lnTo>
                                <a:pt x="7" y="14"/>
                              </a:lnTo>
                              <a:lnTo>
                                <a:pt x="6" y="14"/>
                              </a:lnTo>
                              <a:lnTo>
                                <a:pt x="5" y="14"/>
                              </a:lnTo>
                              <a:lnTo>
                                <a:pt x="4" y="14"/>
                              </a:lnTo>
                              <a:lnTo>
                                <a:pt x="3" y="13"/>
                              </a:lnTo>
                              <a:lnTo>
                                <a:pt x="2" y="12"/>
                              </a:lnTo>
                              <a:lnTo>
                                <a:pt x="1" y="11"/>
                              </a:lnTo>
                              <a:lnTo>
                                <a:pt x="1" y="10"/>
                              </a:lnTo>
                              <a:lnTo>
                                <a:pt x="0" y="9"/>
                              </a:lnTo>
                              <a:lnTo>
                                <a:pt x="0" y="7"/>
                              </a:lnTo>
                              <a:lnTo>
                                <a:pt x="0" y="6"/>
                              </a:lnTo>
                              <a:lnTo>
                                <a:pt x="1" y="4"/>
                              </a:lnTo>
                              <a:lnTo>
                                <a:pt x="1" y="3"/>
                              </a:lnTo>
                              <a:lnTo>
                                <a:pt x="2" y="2"/>
                              </a:lnTo>
                              <a:lnTo>
                                <a:pt x="3" y="1"/>
                              </a:lnTo>
                              <a:lnTo>
                                <a:pt x="4" y="0"/>
                              </a:lnTo>
                              <a:lnTo>
                                <a:pt x="5" y="0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9" y="0"/>
                              </a:lnTo>
                              <a:lnTo>
                                <a:pt x="10" y="1"/>
                              </a:lnTo>
                              <a:lnTo>
                                <a:pt x="10" y="2"/>
                              </a:lnTo>
                              <a:lnTo>
                                <a:pt x="11" y="3"/>
                              </a:lnTo>
                              <a:lnTo>
                                <a:pt x="12" y="4"/>
                              </a:lnTo>
                              <a:lnTo>
                                <a:pt x="12" y="6"/>
                              </a:lnTo>
                              <a:lnTo>
                                <a:pt x="12" y="7"/>
                              </a:lnTo>
                              <a:close/>
                            </a:path>
                          </a:pathLst>
                        </a:custGeom>
                        <a:noFill/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6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3" name="Freeform 43"/>
                        <p:cNvSpPr/>
                        <p:nvPr/>
                      </p:nvSpPr>
                      <p:spPr>
                        <a:xfrm>
                          <a:off x="4938840" y="4834800"/>
                          <a:ext cx="101880" cy="172080"/>
                        </a:xfrm>
                        <a:custGeom>
                          <a:avLst/>
                          <a:gdLst>
                            <a:gd name="textAreaLeft" fmla="*/ 0 w 101880"/>
                            <a:gd name="textAreaRight" fmla="*/ 102240 w 101880"/>
                            <a:gd name="textAreaTop" fmla="*/ 0 h 172080"/>
                            <a:gd name="textAreaBottom" fmla="*/ 172440 h 172080"/>
                          </a:gdLst>
                          <a:ahLst/>
                          <a:rect l="textAreaLeft" t="textAreaTop" r="textAreaRight" b="textAreaBottom"/>
                          <a:pathLst>
                            <a:path w="37" h="72">
                              <a:moveTo>
                                <a:pt x="27" y="68"/>
                              </a:moveTo>
                              <a:lnTo>
                                <a:pt x="27" y="69"/>
                              </a:lnTo>
                              <a:lnTo>
                                <a:pt x="26" y="71"/>
                              </a:lnTo>
                              <a:lnTo>
                                <a:pt x="25" y="71"/>
                              </a:lnTo>
                              <a:lnTo>
                                <a:pt x="24" y="72"/>
                              </a:lnTo>
                              <a:lnTo>
                                <a:pt x="22" y="71"/>
                              </a:lnTo>
                              <a:lnTo>
                                <a:pt x="21" y="71"/>
                              </a:lnTo>
                              <a:lnTo>
                                <a:pt x="20" y="69"/>
                              </a:lnTo>
                              <a:lnTo>
                                <a:pt x="20" y="68"/>
                              </a:lnTo>
                              <a:lnTo>
                                <a:pt x="20" y="28"/>
                              </a:lnTo>
                              <a:lnTo>
                                <a:pt x="16" y="28"/>
                              </a:lnTo>
                              <a:lnTo>
                                <a:pt x="16" y="68"/>
                              </a:lnTo>
                              <a:lnTo>
                                <a:pt x="16" y="6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3" y="72"/>
                              </a:lnTo>
                              <a:lnTo>
                                <a:pt x="11" y="71"/>
                              </a:lnTo>
                              <a:lnTo>
                                <a:pt x="10" y="71"/>
                              </a:lnTo>
                              <a:lnTo>
                                <a:pt x="9" y="69"/>
                              </a:lnTo>
                              <a:lnTo>
                                <a:pt x="9" y="68"/>
                              </a:lnTo>
                              <a:lnTo>
                                <a:pt x="9" y="8"/>
                              </a:lnTo>
                              <a:lnTo>
                                <a:pt x="6" y="8"/>
                              </a:lnTo>
                              <a:lnTo>
                                <a:pt x="6" y="33"/>
                              </a:lnTo>
                              <a:lnTo>
                                <a:pt x="5" y="35"/>
                              </a:lnTo>
                              <a:lnTo>
                                <a:pt x="5" y="36"/>
                              </a:lnTo>
                              <a:lnTo>
                                <a:pt x="4" y="36"/>
                              </a:lnTo>
                              <a:lnTo>
                                <a:pt x="3" y="37"/>
                              </a:lnTo>
                              <a:lnTo>
                                <a:pt x="2" y="36"/>
                              </a:lnTo>
                              <a:lnTo>
                                <a:pt x="1" y="36"/>
                              </a:lnTo>
                              <a:lnTo>
                                <a:pt x="0" y="35"/>
                              </a:lnTo>
                              <a:lnTo>
                                <a:pt x="0" y="33"/>
                              </a:lnTo>
                              <a:lnTo>
                                <a:pt x="0" y="8"/>
                              </a:lnTo>
                              <a:lnTo>
                                <a:pt x="0" y="6"/>
                              </a:lnTo>
                              <a:lnTo>
                                <a:pt x="0" y="4"/>
                              </a:lnTo>
                              <a:lnTo>
                                <a:pt x="1" y="3"/>
                              </a:lnTo>
                              <a:lnTo>
                                <a:pt x="2" y="2"/>
                              </a:lnTo>
                              <a:lnTo>
                                <a:pt x="3" y="1"/>
                              </a:lnTo>
                              <a:lnTo>
                                <a:pt x="4" y="1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29" y="0"/>
                              </a:lnTo>
                              <a:lnTo>
                                <a:pt x="31" y="0"/>
                              </a:lnTo>
                              <a:lnTo>
                                <a:pt x="32" y="1"/>
                              </a:lnTo>
                              <a:lnTo>
                                <a:pt x="33" y="1"/>
                              </a:lnTo>
                              <a:lnTo>
                                <a:pt x="35" y="2"/>
                              </a:lnTo>
                              <a:lnTo>
                                <a:pt x="35" y="3"/>
                              </a:lnTo>
                              <a:lnTo>
                                <a:pt x="36" y="4"/>
                              </a:lnTo>
                              <a:lnTo>
                                <a:pt x="36" y="6"/>
                              </a:lnTo>
                              <a:lnTo>
                                <a:pt x="37" y="8"/>
                              </a:lnTo>
                              <a:lnTo>
                                <a:pt x="37" y="33"/>
                              </a:lnTo>
                              <a:lnTo>
                                <a:pt x="36" y="35"/>
                              </a:lnTo>
                              <a:lnTo>
                                <a:pt x="36" y="36"/>
                              </a:lnTo>
                              <a:lnTo>
                                <a:pt x="35" y="36"/>
                              </a:lnTo>
                              <a:lnTo>
                                <a:pt x="34" y="37"/>
                              </a:lnTo>
                              <a:lnTo>
                                <a:pt x="33" y="36"/>
                              </a:lnTo>
                              <a:lnTo>
                                <a:pt x="32" y="36"/>
                              </a:lnTo>
                              <a:lnTo>
                                <a:pt x="31" y="35"/>
                              </a:lnTo>
                              <a:lnTo>
                                <a:pt x="31" y="33"/>
                              </a:lnTo>
                              <a:lnTo>
                                <a:pt x="31" y="8"/>
                              </a:lnTo>
                              <a:lnTo>
                                <a:pt x="27" y="8"/>
                              </a:lnTo>
                              <a:lnTo>
                                <a:pt x="27" y="68"/>
                              </a:lnTo>
                              <a:close/>
                            </a:path>
                          </a:pathLst>
                        </a:custGeom>
                        <a:noFill/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6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14" name="Group 44"/>
              <p:cNvGrpSpPr/>
              <p:nvPr/>
            </p:nvGrpSpPr>
            <p:grpSpPr>
              <a:xfrm>
                <a:off x="3303720" y="3169080"/>
                <a:ext cx="2653560" cy="806400"/>
                <a:chOff x="3303720" y="3169080"/>
                <a:chExt cx="2653560" cy="806400"/>
              </a:xfrm>
            </p:grpSpPr>
            <p:sp>
              <p:nvSpPr>
                <p:cNvPr id="715" name="Rectangle 45"/>
                <p:cNvSpPr/>
                <p:nvPr/>
              </p:nvSpPr>
              <p:spPr>
                <a:xfrm>
                  <a:off x="3303720" y="3638160"/>
                  <a:ext cx="2653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Rating Agencies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716" name="Group 46"/>
                <p:cNvGrpSpPr/>
                <p:nvPr/>
              </p:nvGrpSpPr>
              <p:grpSpPr>
                <a:xfrm>
                  <a:off x="4476960" y="3169080"/>
                  <a:ext cx="456480" cy="482040"/>
                  <a:chOff x="4476960" y="3169080"/>
                  <a:chExt cx="456480" cy="482040"/>
                </a:xfrm>
              </p:grpSpPr>
              <p:sp>
                <p:nvSpPr>
                  <p:cNvPr id="717" name="AutoShape 47"/>
                  <p:cNvSpPr/>
                  <p:nvPr/>
                </p:nvSpPr>
                <p:spPr>
                  <a:xfrm>
                    <a:off x="4476960" y="3169080"/>
                    <a:ext cx="456480" cy="482040"/>
                  </a:xfrm>
                  <a:custGeom>
                    <a:avLst/>
                    <a:gdLst>
                      <a:gd name="textAreaLeft" fmla="*/ 21960 w 456480"/>
                      <a:gd name="textAreaRight" fmla="*/ 434520 w 456480"/>
                      <a:gd name="textAreaTop" fmla="*/ 21960 h 482040"/>
                      <a:gd name="textAreaBottom" fmla="*/ 460080 h 482040"/>
                    </a:gdLst>
                    <a:ahLst/>
                    <a:rect l="textAreaLeft" t="textAreaTop" r="textAreaRight" b="textAreaBottom"/>
                    <a:pathLst>
                      <a:path w="21600" h="228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9209"/>
                        </a:lnTo>
                        <a:arcTo wR="3600" hR="3600" stAng="10800000" swAng="-5400000"/>
                        <a:lnTo>
                          <a:pt x="18000" y="228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969696">
                      <a:alpha val="4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8" name="Group 48"/>
                  <p:cNvGrpSpPr/>
                  <p:nvPr/>
                </p:nvGrpSpPr>
                <p:grpSpPr>
                  <a:xfrm>
                    <a:off x="4523760" y="3226320"/>
                    <a:ext cx="357840" cy="407520"/>
                    <a:chOff x="4523760" y="3226320"/>
                    <a:chExt cx="357840" cy="407520"/>
                  </a:xfrm>
                </p:grpSpPr>
                <p:sp>
                  <p:nvSpPr>
                    <p:cNvPr id="719" name="Freeform 49"/>
                    <p:cNvSpPr/>
                    <p:nvPr/>
                  </p:nvSpPr>
                  <p:spPr>
                    <a:xfrm>
                      <a:off x="4523760" y="3475080"/>
                      <a:ext cx="227520" cy="158760"/>
                    </a:xfrm>
                    <a:custGeom>
                      <a:avLst/>
                      <a:gdLst>
                        <a:gd name="textAreaLeft" fmla="*/ 0 w 227520"/>
                        <a:gd name="textAreaRight" fmla="*/ 227880 w 227520"/>
                        <a:gd name="textAreaTop" fmla="*/ 0 h 158760"/>
                        <a:gd name="textAreaBottom" fmla="*/ 159120 h 158760"/>
                      </a:gdLst>
                      <a:ahLst/>
                      <a:rect l="textAreaLeft" t="textAreaTop" r="textAreaRight" b="textAreaBottom"/>
                      <a:pathLst>
                        <a:path w="1963" h="1166">
                          <a:moveTo>
                            <a:pt x="0" y="0"/>
                          </a:moveTo>
                          <a:lnTo>
                            <a:pt x="5" y="1"/>
                          </a:lnTo>
                          <a:lnTo>
                            <a:pt x="17" y="4"/>
                          </a:lnTo>
                          <a:lnTo>
                            <a:pt x="38" y="9"/>
                          </a:lnTo>
                          <a:lnTo>
                            <a:pt x="66" y="16"/>
                          </a:lnTo>
                          <a:lnTo>
                            <a:pt x="102" y="26"/>
                          </a:lnTo>
                          <a:lnTo>
                            <a:pt x="143" y="37"/>
                          </a:lnTo>
                          <a:lnTo>
                            <a:pt x="192" y="52"/>
                          </a:lnTo>
                          <a:lnTo>
                            <a:pt x="245" y="69"/>
                          </a:lnTo>
                          <a:lnTo>
                            <a:pt x="303" y="87"/>
                          </a:lnTo>
                          <a:lnTo>
                            <a:pt x="366" y="106"/>
                          </a:lnTo>
                          <a:lnTo>
                            <a:pt x="433" y="129"/>
                          </a:lnTo>
                          <a:lnTo>
                            <a:pt x="504" y="156"/>
                          </a:lnTo>
                          <a:lnTo>
                            <a:pt x="578" y="182"/>
                          </a:lnTo>
                          <a:lnTo>
                            <a:pt x="655" y="212"/>
                          </a:lnTo>
                          <a:lnTo>
                            <a:pt x="735" y="245"/>
                          </a:lnTo>
                          <a:lnTo>
                            <a:pt x="815" y="279"/>
                          </a:lnTo>
                          <a:lnTo>
                            <a:pt x="898" y="315"/>
                          </a:lnTo>
                          <a:lnTo>
                            <a:pt x="980" y="355"/>
                          </a:lnTo>
                          <a:lnTo>
                            <a:pt x="1065" y="398"/>
                          </a:lnTo>
                          <a:lnTo>
                            <a:pt x="1148" y="440"/>
                          </a:lnTo>
                          <a:lnTo>
                            <a:pt x="1229" y="488"/>
                          </a:lnTo>
                          <a:lnTo>
                            <a:pt x="1311" y="538"/>
                          </a:lnTo>
                          <a:lnTo>
                            <a:pt x="1391" y="589"/>
                          </a:lnTo>
                          <a:lnTo>
                            <a:pt x="1470" y="643"/>
                          </a:lnTo>
                          <a:lnTo>
                            <a:pt x="1545" y="699"/>
                          </a:lnTo>
                          <a:lnTo>
                            <a:pt x="1617" y="758"/>
                          </a:lnTo>
                          <a:lnTo>
                            <a:pt x="1686" y="819"/>
                          </a:lnTo>
                          <a:lnTo>
                            <a:pt x="1751" y="883"/>
                          </a:lnTo>
                          <a:lnTo>
                            <a:pt x="1812" y="950"/>
                          </a:lnTo>
                          <a:lnTo>
                            <a:pt x="1867" y="1020"/>
                          </a:lnTo>
                          <a:lnTo>
                            <a:pt x="1919" y="1092"/>
                          </a:lnTo>
                          <a:lnTo>
                            <a:pt x="1963" y="1166"/>
                          </a:lnTo>
                          <a:lnTo>
                            <a:pt x="1961" y="1163"/>
                          </a:lnTo>
                          <a:lnTo>
                            <a:pt x="1958" y="1154"/>
                          </a:lnTo>
                          <a:lnTo>
                            <a:pt x="1953" y="1141"/>
                          </a:lnTo>
                          <a:lnTo>
                            <a:pt x="1944" y="1123"/>
                          </a:lnTo>
                          <a:lnTo>
                            <a:pt x="1933" y="1100"/>
                          </a:lnTo>
                          <a:lnTo>
                            <a:pt x="1920" y="1074"/>
                          </a:lnTo>
                          <a:lnTo>
                            <a:pt x="1903" y="1043"/>
                          </a:lnTo>
                          <a:lnTo>
                            <a:pt x="1883" y="1010"/>
                          </a:lnTo>
                          <a:lnTo>
                            <a:pt x="1859" y="972"/>
                          </a:lnTo>
                          <a:lnTo>
                            <a:pt x="1832" y="932"/>
                          </a:lnTo>
                          <a:lnTo>
                            <a:pt x="1801" y="890"/>
                          </a:lnTo>
                          <a:lnTo>
                            <a:pt x="1766" y="844"/>
                          </a:lnTo>
                          <a:lnTo>
                            <a:pt x="1727" y="797"/>
                          </a:lnTo>
                          <a:lnTo>
                            <a:pt x="1685" y="750"/>
                          </a:lnTo>
                          <a:lnTo>
                            <a:pt x="1638" y="700"/>
                          </a:lnTo>
                          <a:lnTo>
                            <a:pt x="1586" y="649"/>
                          </a:lnTo>
                          <a:lnTo>
                            <a:pt x="1529" y="600"/>
                          </a:lnTo>
                          <a:lnTo>
                            <a:pt x="1468" y="549"/>
                          </a:lnTo>
                          <a:lnTo>
                            <a:pt x="1401" y="498"/>
                          </a:lnTo>
                          <a:lnTo>
                            <a:pt x="1328" y="447"/>
                          </a:lnTo>
                          <a:lnTo>
                            <a:pt x="1251" y="398"/>
                          </a:lnTo>
                          <a:lnTo>
                            <a:pt x="1170" y="350"/>
                          </a:lnTo>
                          <a:lnTo>
                            <a:pt x="1080" y="302"/>
                          </a:lnTo>
                          <a:lnTo>
                            <a:pt x="986" y="258"/>
                          </a:lnTo>
                          <a:lnTo>
                            <a:pt x="886" y="215"/>
                          </a:lnTo>
                          <a:lnTo>
                            <a:pt x="779" y="174"/>
                          </a:lnTo>
                          <a:lnTo>
                            <a:pt x="666" y="136"/>
                          </a:lnTo>
                          <a:lnTo>
                            <a:pt x="546" y="102"/>
                          </a:lnTo>
                          <a:lnTo>
                            <a:pt x="421" y="70"/>
                          </a:lnTo>
                          <a:lnTo>
                            <a:pt x="287" y="42"/>
                          </a:lnTo>
                          <a:lnTo>
                            <a:pt x="148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20" name="Group 50"/>
                    <p:cNvGrpSpPr/>
                    <p:nvPr/>
                  </p:nvGrpSpPr>
                  <p:grpSpPr>
                    <a:xfrm>
                      <a:off x="4538880" y="3226320"/>
                      <a:ext cx="342720" cy="398160"/>
                      <a:chOff x="4538880" y="3226320"/>
                      <a:chExt cx="342720" cy="398160"/>
                    </a:xfrm>
                  </p:grpSpPr>
                  <p:sp>
                    <p:nvSpPr>
                      <p:cNvPr id="721" name="Freeform 51"/>
                      <p:cNvSpPr/>
                      <p:nvPr/>
                    </p:nvSpPr>
                    <p:spPr>
                      <a:xfrm>
                        <a:off x="4538880" y="3226320"/>
                        <a:ext cx="342720" cy="264240"/>
                      </a:xfrm>
                      <a:custGeom>
                        <a:avLst/>
                        <a:gdLst>
                          <a:gd name="textAreaLeft" fmla="*/ 0 w 342720"/>
                          <a:gd name="textAreaRight" fmla="*/ 343080 w 342720"/>
                          <a:gd name="textAreaTop" fmla="*/ 0 h 264240"/>
                          <a:gd name="textAreaBottom" fmla="*/ 264600 h 264240"/>
                        </a:gdLst>
                        <a:ahLst/>
                        <a:rect l="textAreaLeft" t="textAreaTop" r="textAreaRight" b="textAreaBottom"/>
                        <a:pathLst>
                          <a:path w="2939" h="1950">
                            <a:moveTo>
                              <a:pt x="1289" y="163"/>
                            </a:moveTo>
                            <a:lnTo>
                              <a:pt x="1279" y="163"/>
                            </a:lnTo>
                            <a:lnTo>
                              <a:pt x="1270" y="166"/>
                            </a:lnTo>
                            <a:lnTo>
                              <a:pt x="1262" y="169"/>
                            </a:lnTo>
                            <a:lnTo>
                              <a:pt x="1256" y="174"/>
                            </a:lnTo>
                            <a:lnTo>
                              <a:pt x="1249" y="179"/>
                            </a:lnTo>
                            <a:lnTo>
                              <a:pt x="1245" y="188"/>
                            </a:lnTo>
                            <a:lnTo>
                              <a:pt x="1240" y="196"/>
                            </a:lnTo>
                            <a:lnTo>
                              <a:pt x="1237" y="206"/>
                            </a:lnTo>
                            <a:lnTo>
                              <a:pt x="1229" y="239"/>
                            </a:lnTo>
                            <a:lnTo>
                              <a:pt x="1223" y="278"/>
                            </a:lnTo>
                            <a:lnTo>
                              <a:pt x="1218" y="327"/>
                            </a:lnTo>
                            <a:lnTo>
                              <a:pt x="1210" y="385"/>
                            </a:lnTo>
                            <a:lnTo>
                              <a:pt x="1201" y="452"/>
                            </a:lnTo>
                            <a:lnTo>
                              <a:pt x="1183" y="526"/>
                            </a:lnTo>
                            <a:lnTo>
                              <a:pt x="1161" y="609"/>
                            </a:lnTo>
                            <a:lnTo>
                              <a:pt x="1130" y="699"/>
                            </a:lnTo>
                            <a:lnTo>
                              <a:pt x="1089" y="798"/>
                            </a:lnTo>
                            <a:lnTo>
                              <a:pt x="1036" y="903"/>
                            </a:lnTo>
                            <a:lnTo>
                              <a:pt x="968" y="1017"/>
                            </a:lnTo>
                            <a:lnTo>
                              <a:pt x="885" y="1139"/>
                            </a:lnTo>
                            <a:lnTo>
                              <a:pt x="785" y="1267"/>
                            </a:lnTo>
                            <a:lnTo>
                              <a:pt x="665" y="1403"/>
                            </a:lnTo>
                            <a:lnTo>
                              <a:pt x="526" y="1547"/>
                            </a:lnTo>
                            <a:lnTo>
                              <a:pt x="362" y="1698"/>
                            </a:lnTo>
                            <a:lnTo>
                              <a:pt x="343" y="1714"/>
                            </a:lnTo>
                            <a:lnTo>
                              <a:pt x="323" y="1731"/>
                            </a:lnTo>
                            <a:lnTo>
                              <a:pt x="303" y="1747"/>
                            </a:lnTo>
                            <a:lnTo>
                              <a:pt x="282" y="1762"/>
                            </a:lnTo>
                            <a:lnTo>
                              <a:pt x="260" y="1779"/>
                            </a:lnTo>
                            <a:lnTo>
                              <a:pt x="238" y="1793"/>
                            </a:lnTo>
                            <a:lnTo>
                              <a:pt x="216" y="1810"/>
                            </a:lnTo>
                            <a:lnTo>
                              <a:pt x="193" y="1825"/>
                            </a:lnTo>
                            <a:lnTo>
                              <a:pt x="171" y="1841"/>
                            </a:lnTo>
                            <a:lnTo>
                              <a:pt x="147" y="1856"/>
                            </a:lnTo>
                            <a:lnTo>
                              <a:pt x="124" y="1871"/>
                            </a:lnTo>
                            <a:lnTo>
                              <a:pt x="98" y="1887"/>
                            </a:lnTo>
                            <a:lnTo>
                              <a:pt x="75" y="1902"/>
                            </a:lnTo>
                            <a:lnTo>
                              <a:pt x="50" y="1918"/>
                            </a:lnTo>
                            <a:lnTo>
                              <a:pt x="25" y="1933"/>
                            </a:lnTo>
                            <a:lnTo>
                              <a:pt x="0" y="1950"/>
                            </a:lnTo>
                            <a:lnTo>
                              <a:pt x="3" y="1946"/>
                            </a:lnTo>
                            <a:lnTo>
                              <a:pt x="14" y="1940"/>
                            </a:lnTo>
                            <a:lnTo>
                              <a:pt x="31" y="1928"/>
                            </a:lnTo>
                            <a:lnTo>
                              <a:pt x="53" y="1910"/>
                            </a:lnTo>
                            <a:lnTo>
                              <a:pt x="81" y="1889"/>
                            </a:lnTo>
                            <a:lnTo>
                              <a:pt x="116" y="1864"/>
                            </a:lnTo>
                            <a:lnTo>
                              <a:pt x="153" y="1833"/>
                            </a:lnTo>
                            <a:lnTo>
                              <a:pt x="194" y="1798"/>
                            </a:lnTo>
                            <a:lnTo>
                              <a:pt x="240" y="1760"/>
                            </a:lnTo>
                            <a:lnTo>
                              <a:pt x="288" y="1718"/>
                            </a:lnTo>
                            <a:lnTo>
                              <a:pt x="340" y="1672"/>
                            </a:lnTo>
                            <a:lnTo>
                              <a:pt x="394" y="1621"/>
                            </a:lnTo>
                            <a:lnTo>
                              <a:pt x="449" y="1568"/>
                            </a:lnTo>
                            <a:lnTo>
                              <a:pt x="504" y="1510"/>
                            </a:lnTo>
                            <a:lnTo>
                              <a:pt x="560" y="1449"/>
                            </a:lnTo>
                            <a:lnTo>
                              <a:pt x="617" y="1385"/>
                            </a:lnTo>
                            <a:lnTo>
                              <a:pt x="673" y="1318"/>
                            </a:lnTo>
                            <a:lnTo>
                              <a:pt x="730" y="1247"/>
                            </a:lnTo>
                            <a:lnTo>
                              <a:pt x="783" y="1175"/>
                            </a:lnTo>
                            <a:lnTo>
                              <a:pt x="836" y="1097"/>
                            </a:lnTo>
                            <a:lnTo>
                              <a:pt x="887" y="1018"/>
                            </a:lnTo>
                            <a:lnTo>
                              <a:pt x="935" y="938"/>
                            </a:lnTo>
                            <a:lnTo>
                              <a:pt x="979" y="852"/>
                            </a:lnTo>
                            <a:lnTo>
                              <a:pt x="1020" y="767"/>
                            </a:lnTo>
                            <a:lnTo>
                              <a:pt x="1058" y="678"/>
                            </a:lnTo>
                            <a:lnTo>
                              <a:pt x="1089" y="586"/>
                            </a:lnTo>
                            <a:lnTo>
                              <a:pt x="1116" y="494"/>
                            </a:lnTo>
                            <a:lnTo>
                              <a:pt x="1138" y="398"/>
                            </a:lnTo>
                            <a:lnTo>
                              <a:pt x="1154" y="301"/>
                            </a:lnTo>
                            <a:lnTo>
                              <a:pt x="1161" y="202"/>
                            </a:lnTo>
                            <a:lnTo>
                              <a:pt x="1165" y="102"/>
                            </a:lnTo>
                            <a:lnTo>
                              <a:pt x="1158" y="0"/>
                            </a:lnTo>
                            <a:lnTo>
                              <a:pt x="1161" y="2"/>
                            </a:lnTo>
                            <a:lnTo>
                              <a:pt x="1169" y="7"/>
                            </a:lnTo>
                            <a:lnTo>
                              <a:pt x="1183" y="13"/>
                            </a:lnTo>
                            <a:lnTo>
                              <a:pt x="1201" y="23"/>
                            </a:lnTo>
                            <a:lnTo>
                              <a:pt x="1224" y="35"/>
                            </a:lnTo>
                            <a:lnTo>
                              <a:pt x="1252" y="49"/>
                            </a:lnTo>
                            <a:lnTo>
                              <a:pt x="1285" y="64"/>
                            </a:lnTo>
                            <a:lnTo>
                              <a:pt x="1322" y="82"/>
                            </a:lnTo>
                            <a:lnTo>
                              <a:pt x="1362" y="102"/>
                            </a:lnTo>
                            <a:lnTo>
                              <a:pt x="1406" y="123"/>
                            </a:lnTo>
                            <a:lnTo>
                              <a:pt x="1455" y="145"/>
                            </a:lnTo>
                            <a:lnTo>
                              <a:pt x="1505" y="168"/>
                            </a:lnTo>
                            <a:lnTo>
                              <a:pt x="1560" y="192"/>
                            </a:lnTo>
                            <a:lnTo>
                              <a:pt x="1618" y="217"/>
                            </a:lnTo>
                            <a:lnTo>
                              <a:pt x="1678" y="242"/>
                            </a:lnTo>
                            <a:lnTo>
                              <a:pt x="1742" y="268"/>
                            </a:lnTo>
                            <a:lnTo>
                              <a:pt x="1807" y="293"/>
                            </a:lnTo>
                            <a:lnTo>
                              <a:pt x="1874" y="319"/>
                            </a:lnTo>
                            <a:lnTo>
                              <a:pt x="1945" y="344"/>
                            </a:lnTo>
                            <a:lnTo>
                              <a:pt x="2016" y="369"/>
                            </a:lnTo>
                            <a:lnTo>
                              <a:pt x="2089" y="393"/>
                            </a:lnTo>
                            <a:lnTo>
                              <a:pt x="2163" y="418"/>
                            </a:lnTo>
                            <a:lnTo>
                              <a:pt x="2239" y="439"/>
                            </a:lnTo>
                            <a:lnTo>
                              <a:pt x="2315" y="462"/>
                            </a:lnTo>
                            <a:lnTo>
                              <a:pt x="2392" y="482"/>
                            </a:lnTo>
                            <a:lnTo>
                              <a:pt x="2471" y="500"/>
                            </a:lnTo>
                            <a:lnTo>
                              <a:pt x="2549" y="518"/>
                            </a:lnTo>
                            <a:lnTo>
                              <a:pt x="2628" y="533"/>
                            </a:lnTo>
                            <a:lnTo>
                              <a:pt x="2706" y="546"/>
                            </a:lnTo>
                            <a:lnTo>
                              <a:pt x="2783" y="556"/>
                            </a:lnTo>
                            <a:lnTo>
                              <a:pt x="2862" y="564"/>
                            </a:lnTo>
                            <a:lnTo>
                              <a:pt x="2939" y="571"/>
                            </a:lnTo>
                            <a:lnTo>
                              <a:pt x="2937" y="571"/>
                            </a:lnTo>
                            <a:lnTo>
                              <a:pt x="2933" y="571"/>
                            </a:lnTo>
                            <a:lnTo>
                              <a:pt x="2923" y="573"/>
                            </a:lnTo>
                            <a:lnTo>
                              <a:pt x="2912" y="573"/>
                            </a:lnTo>
                            <a:lnTo>
                              <a:pt x="2898" y="574"/>
                            </a:lnTo>
                            <a:lnTo>
                              <a:pt x="2879" y="574"/>
                            </a:lnTo>
                            <a:lnTo>
                              <a:pt x="2859" y="574"/>
                            </a:lnTo>
                            <a:lnTo>
                              <a:pt x="2834" y="574"/>
                            </a:lnTo>
                            <a:lnTo>
                              <a:pt x="2807" y="574"/>
                            </a:lnTo>
                            <a:lnTo>
                              <a:pt x="2777" y="573"/>
                            </a:lnTo>
                            <a:lnTo>
                              <a:pt x="2744" y="571"/>
                            </a:lnTo>
                            <a:lnTo>
                              <a:pt x="2708" y="569"/>
                            </a:lnTo>
                            <a:lnTo>
                              <a:pt x="2670" y="566"/>
                            </a:lnTo>
                            <a:lnTo>
                              <a:pt x="2628" y="563"/>
                            </a:lnTo>
                            <a:lnTo>
                              <a:pt x="2584" y="558"/>
                            </a:lnTo>
                            <a:lnTo>
                              <a:pt x="2538" y="551"/>
                            </a:lnTo>
                            <a:lnTo>
                              <a:pt x="2488" y="545"/>
                            </a:lnTo>
                            <a:lnTo>
                              <a:pt x="2436" y="535"/>
                            </a:lnTo>
                            <a:lnTo>
                              <a:pt x="2383" y="525"/>
                            </a:lnTo>
                            <a:lnTo>
                              <a:pt x="2326" y="513"/>
                            </a:lnTo>
                            <a:lnTo>
                              <a:pt x="2267" y="502"/>
                            </a:lnTo>
                            <a:lnTo>
                              <a:pt x="2206" y="487"/>
                            </a:lnTo>
                            <a:lnTo>
                              <a:pt x="2141" y="471"/>
                            </a:lnTo>
                            <a:lnTo>
                              <a:pt x="2075" y="451"/>
                            </a:lnTo>
                            <a:lnTo>
                              <a:pt x="2008" y="431"/>
                            </a:lnTo>
                            <a:lnTo>
                              <a:pt x="1937" y="408"/>
                            </a:lnTo>
                            <a:lnTo>
                              <a:pt x="1865" y="385"/>
                            </a:lnTo>
                            <a:lnTo>
                              <a:pt x="1791" y="357"/>
                            </a:lnTo>
                            <a:lnTo>
                              <a:pt x="1714" y="327"/>
                            </a:lnTo>
                            <a:lnTo>
                              <a:pt x="1636" y="296"/>
                            </a:lnTo>
                            <a:lnTo>
                              <a:pt x="1556" y="262"/>
                            </a:lnTo>
                            <a:lnTo>
                              <a:pt x="1474" y="225"/>
                            </a:lnTo>
                            <a:lnTo>
                              <a:pt x="1441" y="211"/>
                            </a:lnTo>
                            <a:lnTo>
                              <a:pt x="1410" y="197"/>
                            </a:lnTo>
                            <a:lnTo>
                              <a:pt x="1383" y="186"/>
                            </a:lnTo>
                            <a:lnTo>
                              <a:pt x="1359" y="178"/>
                            </a:lnTo>
                            <a:lnTo>
                              <a:pt x="1339" y="171"/>
                            </a:lnTo>
                            <a:lnTo>
                              <a:pt x="1320" y="166"/>
                            </a:lnTo>
                            <a:lnTo>
                              <a:pt x="1303" y="163"/>
                            </a:lnTo>
                            <a:lnTo>
                              <a:pt x="1289" y="16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Freeform 52"/>
                      <p:cNvSpPr/>
                      <p:nvPr/>
                    </p:nvSpPr>
                    <p:spPr>
                      <a:xfrm>
                        <a:off x="4733640" y="3278160"/>
                        <a:ext cx="137520" cy="346320"/>
                      </a:xfrm>
                      <a:custGeom>
                        <a:avLst/>
                        <a:gdLst>
                          <a:gd name="textAreaLeft" fmla="*/ 0 w 137520"/>
                          <a:gd name="textAreaRight" fmla="*/ 137880 w 137520"/>
                          <a:gd name="textAreaTop" fmla="*/ 0 h 346320"/>
                          <a:gd name="textAreaBottom" fmla="*/ 346680 h 346320"/>
                        </a:gdLst>
                        <a:ahLst/>
                        <a:rect l="textAreaLeft" t="textAreaTop" r="textAreaRight" b="textAreaBottom"/>
                        <a:pathLst>
                          <a:path w="1181" h="2555">
                            <a:moveTo>
                              <a:pt x="1181" y="0"/>
                            </a:moveTo>
                            <a:lnTo>
                              <a:pt x="1181" y="3"/>
                            </a:lnTo>
                            <a:lnTo>
                              <a:pt x="1181" y="15"/>
                            </a:lnTo>
                            <a:lnTo>
                              <a:pt x="1181" y="34"/>
                            </a:lnTo>
                            <a:lnTo>
                              <a:pt x="1179" y="61"/>
                            </a:lnTo>
                            <a:lnTo>
                              <a:pt x="1178" y="92"/>
                            </a:lnTo>
                            <a:lnTo>
                              <a:pt x="1174" y="131"/>
                            </a:lnTo>
                            <a:lnTo>
                              <a:pt x="1170" y="177"/>
                            </a:lnTo>
                            <a:lnTo>
                              <a:pt x="1163" y="228"/>
                            </a:lnTo>
                            <a:lnTo>
                              <a:pt x="1156" y="286"/>
                            </a:lnTo>
                            <a:lnTo>
                              <a:pt x="1146" y="349"/>
                            </a:lnTo>
                            <a:lnTo>
                              <a:pt x="1135" y="416"/>
                            </a:lnTo>
                            <a:lnTo>
                              <a:pt x="1121" y="488"/>
                            </a:lnTo>
                            <a:lnTo>
                              <a:pt x="1105" y="566"/>
                            </a:lnTo>
                            <a:lnTo>
                              <a:pt x="1085" y="648"/>
                            </a:lnTo>
                            <a:lnTo>
                              <a:pt x="1063" y="734"/>
                            </a:lnTo>
                            <a:lnTo>
                              <a:pt x="1038" y="822"/>
                            </a:lnTo>
                            <a:lnTo>
                              <a:pt x="1008" y="916"/>
                            </a:lnTo>
                            <a:lnTo>
                              <a:pt x="975" y="1012"/>
                            </a:lnTo>
                            <a:lnTo>
                              <a:pt x="939" y="1112"/>
                            </a:lnTo>
                            <a:lnTo>
                              <a:pt x="897" y="1214"/>
                            </a:lnTo>
                            <a:lnTo>
                              <a:pt x="853" y="1318"/>
                            </a:lnTo>
                            <a:lnTo>
                              <a:pt x="802" y="1425"/>
                            </a:lnTo>
                            <a:lnTo>
                              <a:pt x="747" y="1533"/>
                            </a:lnTo>
                            <a:lnTo>
                              <a:pt x="688" y="1643"/>
                            </a:lnTo>
                            <a:lnTo>
                              <a:pt x="622" y="1755"/>
                            </a:lnTo>
                            <a:lnTo>
                              <a:pt x="551" y="1869"/>
                            </a:lnTo>
                            <a:lnTo>
                              <a:pt x="476" y="1982"/>
                            </a:lnTo>
                            <a:lnTo>
                              <a:pt x="393" y="2097"/>
                            </a:lnTo>
                            <a:lnTo>
                              <a:pt x="305" y="2211"/>
                            </a:lnTo>
                            <a:lnTo>
                              <a:pt x="210" y="2326"/>
                            </a:lnTo>
                            <a:lnTo>
                              <a:pt x="108" y="2441"/>
                            </a:lnTo>
                            <a:lnTo>
                              <a:pt x="0" y="2555"/>
                            </a:lnTo>
                            <a:lnTo>
                              <a:pt x="3" y="2552"/>
                            </a:lnTo>
                            <a:lnTo>
                              <a:pt x="11" y="2542"/>
                            </a:lnTo>
                            <a:lnTo>
                              <a:pt x="25" y="2525"/>
                            </a:lnTo>
                            <a:lnTo>
                              <a:pt x="42" y="2504"/>
                            </a:lnTo>
                            <a:lnTo>
                              <a:pt x="66" y="2474"/>
                            </a:lnTo>
                            <a:lnTo>
                              <a:pt x="93" y="2440"/>
                            </a:lnTo>
                            <a:lnTo>
                              <a:pt x="122" y="2400"/>
                            </a:lnTo>
                            <a:lnTo>
                              <a:pt x="157" y="2354"/>
                            </a:lnTo>
                            <a:lnTo>
                              <a:pt x="195" y="2303"/>
                            </a:lnTo>
                            <a:lnTo>
                              <a:pt x="236" y="2247"/>
                            </a:lnTo>
                            <a:lnTo>
                              <a:pt x="278" y="2185"/>
                            </a:lnTo>
                            <a:lnTo>
                              <a:pt x="323" y="2119"/>
                            </a:lnTo>
                            <a:lnTo>
                              <a:pt x="369" y="2048"/>
                            </a:lnTo>
                            <a:lnTo>
                              <a:pt x="418" y="1972"/>
                            </a:lnTo>
                            <a:lnTo>
                              <a:pt x="468" y="1892"/>
                            </a:lnTo>
                            <a:lnTo>
                              <a:pt x="518" y="1808"/>
                            </a:lnTo>
                            <a:lnTo>
                              <a:pt x="568" y="1719"/>
                            </a:lnTo>
                            <a:lnTo>
                              <a:pt x="620" y="1625"/>
                            </a:lnTo>
                            <a:lnTo>
                              <a:pt x="672" y="1530"/>
                            </a:lnTo>
                            <a:lnTo>
                              <a:pt x="722" y="1429"/>
                            </a:lnTo>
                            <a:lnTo>
                              <a:pt x="773" y="1326"/>
                            </a:lnTo>
                            <a:lnTo>
                              <a:pt x="821" y="1219"/>
                            </a:lnTo>
                            <a:lnTo>
                              <a:pt x="868" y="1109"/>
                            </a:lnTo>
                            <a:lnTo>
                              <a:pt x="915" y="995"/>
                            </a:lnTo>
                            <a:lnTo>
                              <a:pt x="959" y="878"/>
                            </a:lnTo>
                            <a:lnTo>
                              <a:pt x="1000" y="760"/>
                            </a:lnTo>
                            <a:lnTo>
                              <a:pt x="1039" y="640"/>
                            </a:lnTo>
                            <a:lnTo>
                              <a:pt x="1074" y="515"/>
                            </a:lnTo>
                            <a:lnTo>
                              <a:pt x="1107" y="390"/>
                            </a:lnTo>
                            <a:lnTo>
                              <a:pt x="1135" y="261"/>
                            </a:lnTo>
                            <a:lnTo>
                              <a:pt x="1160" y="131"/>
                            </a:lnTo>
                            <a:lnTo>
                              <a:pt x="118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Freeform 53"/>
                      <p:cNvSpPr/>
                      <p:nvPr/>
                    </p:nvSpPr>
                    <p:spPr>
                      <a:xfrm>
                        <a:off x="4634280" y="3314880"/>
                        <a:ext cx="129240" cy="133560"/>
                      </a:xfrm>
                      <a:custGeom>
                        <a:avLst/>
                        <a:gdLst>
                          <a:gd name="textAreaLeft" fmla="*/ 0 w 129240"/>
                          <a:gd name="textAreaRight" fmla="*/ 129600 w 129240"/>
                          <a:gd name="textAreaTop" fmla="*/ 0 h 133560"/>
                          <a:gd name="textAreaBottom" fmla="*/ 133920 h 133560"/>
                        </a:gdLst>
                        <a:ahLst/>
                        <a:rect l="textAreaLeft" t="textAreaTop" r="textAreaRight" b="textAreaBottom"/>
                        <a:pathLst>
                          <a:path w="1110" h="985">
                            <a:moveTo>
                              <a:pt x="0" y="985"/>
                            </a:moveTo>
                            <a:lnTo>
                              <a:pt x="1" y="984"/>
                            </a:lnTo>
                            <a:lnTo>
                              <a:pt x="9" y="979"/>
                            </a:lnTo>
                            <a:lnTo>
                              <a:pt x="20" y="972"/>
                            </a:lnTo>
                            <a:lnTo>
                              <a:pt x="36" y="962"/>
                            </a:lnTo>
                            <a:lnTo>
                              <a:pt x="55" y="949"/>
                            </a:lnTo>
                            <a:lnTo>
                              <a:pt x="76" y="934"/>
                            </a:lnTo>
                            <a:lnTo>
                              <a:pt x="103" y="916"/>
                            </a:lnTo>
                            <a:lnTo>
                              <a:pt x="131" y="896"/>
                            </a:lnTo>
                            <a:lnTo>
                              <a:pt x="163" y="875"/>
                            </a:lnTo>
                            <a:lnTo>
                              <a:pt x="197" y="850"/>
                            </a:lnTo>
                            <a:lnTo>
                              <a:pt x="234" y="824"/>
                            </a:lnTo>
                            <a:lnTo>
                              <a:pt x="273" y="796"/>
                            </a:lnTo>
                            <a:lnTo>
                              <a:pt x="314" y="766"/>
                            </a:lnTo>
                            <a:lnTo>
                              <a:pt x="356" y="734"/>
                            </a:lnTo>
                            <a:lnTo>
                              <a:pt x="400" y="701"/>
                            </a:lnTo>
                            <a:lnTo>
                              <a:pt x="444" y="666"/>
                            </a:lnTo>
                            <a:lnTo>
                              <a:pt x="489" y="630"/>
                            </a:lnTo>
                            <a:lnTo>
                              <a:pt x="535" y="594"/>
                            </a:lnTo>
                            <a:lnTo>
                              <a:pt x="582" y="554"/>
                            </a:lnTo>
                            <a:lnTo>
                              <a:pt x="629" y="515"/>
                            </a:lnTo>
                            <a:lnTo>
                              <a:pt x="675" y="475"/>
                            </a:lnTo>
                            <a:lnTo>
                              <a:pt x="722" y="434"/>
                            </a:lnTo>
                            <a:lnTo>
                              <a:pt x="767" y="391"/>
                            </a:lnTo>
                            <a:lnTo>
                              <a:pt x="811" y="350"/>
                            </a:lnTo>
                            <a:lnTo>
                              <a:pt x="855" y="306"/>
                            </a:lnTo>
                            <a:lnTo>
                              <a:pt x="898" y="263"/>
                            </a:lnTo>
                            <a:lnTo>
                              <a:pt x="939" y="219"/>
                            </a:lnTo>
                            <a:lnTo>
                              <a:pt x="978" y="176"/>
                            </a:lnTo>
                            <a:lnTo>
                              <a:pt x="1014" y="131"/>
                            </a:lnTo>
                            <a:lnTo>
                              <a:pt x="1048" y="87"/>
                            </a:lnTo>
                            <a:lnTo>
                              <a:pt x="1080" y="44"/>
                            </a:lnTo>
                            <a:lnTo>
                              <a:pt x="1110" y="0"/>
                            </a:lnTo>
                            <a:lnTo>
                              <a:pt x="1110" y="1"/>
                            </a:lnTo>
                            <a:lnTo>
                              <a:pt x="1107" y="6"/>
                            </a:lnTo>
                            <a:lnTo>
                              <a:pt x="1103" y="15"/>
                            </a:lnTo>
                            <a:lnTo>
                              <a:pt x="1099" y="26"/>
                            </a:lnTo>
                            <a:lnTo>
                              <a:pt x="1092" y="39"/>
                            </a:lnTo>
                            <a:lnTo>
                              <a:pt x="1085" y="56"/>
                            </a:lnTo>
                            <a:lnTo>
                              <a:pt x="1074" y="75"/>
                            </a:lnTo>
                            <a:lnTo>
                              <a:pt x="1063" y="97"/>
                            </a:lnTo>
                            <a:lnTo>
                              <a:pt x="1048" y="122"/>
                            </a:lnTo>
                            <a:lnTo>
                              <a:pt x="1033" y="148"/>
                            </a:lnTo>
                            <a:lnTo>
                              <a:pt x="1014" y="176"/>
                            </a:lnTo>
                            <a:lnTo>
                              <a:pt x="995" y="205"/>
                            </a:lnTo>
                            <a:lnTo>
                              <a:pt x="971" y="237"/>
                            </a:lnTo>
                            <a:lnTo>
                              <a:pt x="948" y="271"/>
                            </a:lnTo>
                            <a:lnTo>
                              <a:pt x="920" y="306"/>
                            </a:lnTo>
                            <a:lnTo>
                              <a:pt x="890" y="342"/>
                            </a:lnTo>
                            <a:lnTo>
                              <a:pt x="858" y="378"/>
                            </a:lnTo>
                            <a:lnTo>
                              <a:pt x="822" y="418"/>
                            </a:lnTo>
                            <a:lnTo>
                              <a:pt x="785" y="456"/>
                            </a:lnTo>
                            <a:lnTo>
                              <a:pt x="744" y="497"/>
                            </a:lnTo>
                            <a:lnTo>
                              <a:pt x="700" y="538"/>
                            </a:lnTo>
                            <a:lnTo>
                              <a:pt x="654" y="579"/>
                            </a:lnTo>
                            <a:lnTo>
                              <a:pt x="604" y="620"/>
                            </a:lnTo>
                            <a:lnTo>
                              <a:pt x="551" y="661"/>
                            </a:lnTo>
                            <a:lnTo>
                              <a:pt x="494" y="702"/>
                            </a:lnTo>
                            <a:lnTo>
                              <a:pt x="434" y="745"/>
                            </a:lnTo>
                            <a:lnTo>
                              <a:pt x="372" y="786"/>
                            </a:lnTo>
                            <a:lnTo>
                              <a:pt x="304" y="827"/>
                            </a:lnTo>
                            <a:lnTo>
                              <a:pt x="234" y="869"/>
                            </a:lnTo>
                            <a:lnTo>
                              <a:pt x="160" y="908"/>
                            </a:lnTo>
                            <a:lnTo>
                              <a:pt x="81" y="947"/>
                            </a:lnTo>
                            <a:lnTo>
                              <a:pt x="0" y="98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Freeform 54"/>
                      <p:cNvSpPr/>
                      <p:nvPr/>
                    </p:nvSpPr>
                    <p:spPr>
                      <a:xfrm>
                        <a:off x="4741560" y="3313080"/>
                        <a:ext cx="14400" cy="212760"/>
                      </a:xfrm>
                      <a:custGeom>
                        <a:avLst/>
                        <a:gdLst>
                          <a:gd name="textAreaLeft" fmla="*/ 0 w 14400"/>
                          <a:gd name="textAreaRight" fmla="*/ 14760 w 14400"/>
                          <a:gd name="textAreaTop" fmla="*/ 0 h 212760"/>
                          <a:gd name="textAreaBottom" fmla="*/ 213120 h 212760"/>
                        </a:gdLst>
                        <a:ahLst/>
                        <a:rect l="textAreaLeft" t="textAreaTop" r="textAreaRight" b="textAreaBottom"/>
                        <a:pathLst>
                          <a:path w="124" h="1569">
                            <a:moveTo>
                              <a:pt x="124" y="0"/>
                            </a:moveTo>
                            <a:lnTo>
                              <a:pt x="121" y="42"/>
                            </a:lnTo>
                            <a:lnTo>
                              <a:pt x="115" y="163"/>
                            </a:lnTo>
                            <a:lnTo>
                              <a:pt x="105" y="344"/>
                            </a:lnTo>
                            <a:lnTo>
                              <a:pt x="97" y="566"/>
                            </a:lnTo>
                            <a:lnTo>
                              <a:pt x="91" y="817"/>
                            </a:lnTo>
                            <a:lnTo>
                              <a:pt x="91" y="1079"/>
                            </a:lnTo>
                            <a:lnTo>
                              <a:pt x="97" y="1334"/>
                            </a:lnTo>
                            <a:lnTo>
                              <a:pt x="113" y="1569"/>
                            </a:lnTo>
                            <a:lnTo>
                              <a:pt x="110" y="1561"/>
                            </a:lnTo>
                            <a:lnTo>
                              <a:pt x="102" y="1540"/>
                            </a:lnTo>
                            <a:lnTo>
                              <a:pt x="91" y="1502"/>
                            </a:lnTo>
                            <a:lnTo>
                              <a:pt x="77" y="1451"/>
                            </a:lnTo>
                            <a:lnTo>
                              <a:pt x="61" y="1387"/>
                            </a:lnTo>
                            <a:lnTo>
                              <a:pt x="44" y="1311"/>
                            </a:lnTo>
                            <a:lnTo>
                              <a:pt x="30" y="1222"/>
                            </a:lnTo>
                            <a:lnTo>
                              <a:pt x="16" y="1123"/>
                            </a:lnTo>
                            <a:lnTo>
                              <a:pt x="6" y="1013"/>
                            </a:lnTo>
                            <a:lnTo>
                              <a:pt x="0" y="893"/>
                            </a:lnTo>
                            <a:lnTo>
                              <a:pt x="0" y="765"/>
                            </a:lnTo>
                            <a:lnTo>
                              <a:pt x="8" y="626"/>
                            </a:lnTo>
                            <a:lnTo>
                              <a:pt x="22" y="480"/>
                            </a:lnTo>
                            <a:lnTo>
                              <a:pt x="46" y="327"/>
                            </a:lnTo>
                            <a:lnTo>
                              <a:pt x="79" y="166"/>
                            </a:lnTo>
                            <a:lnTo>
                              <a:pt x="12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Freeform 55"/>
                      <p:cNvSpPr/>
                      <p:nvPr/>
                    </p:nvSpPr>
                    <p:spPr>
                      <a:xfrm>
                        <a:off x="4701240" y="3366360"/>
                        <a:ext cx="67680" cy="49680"/>
                      </a:xfrm>
                      <a:custGeom>
                        <a:avLst/>
                        <a:gdLst>
                          <a:gd name="textAreaLeft" fmla="*/ 0 w 67680"/>
                          <a:gd name="textAreaRight" fmla="*/ 68040 w 67680"/>
                          <a:gd name="textAreaTop" fmla="*/ 0 h 49680"/>
                          <a:gd name="textAreaBottom" fmla="*/ 50040 h 49680"/>
                        </a:gdLst>
                        <a:ahLst/>
                        <a:rect l="textAreaLeft" t="textAreaTop" r="textAreaRight" b="textAreaBottom"/>
                        <a:pathLst>
                          <a:path w="579" h="36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17" y="11"/>
                            </a:lnTo>
                            <a:lnTo>
                              <a:pt x="36" y="26"/>
                            </a:lnTo>
                            <a:lnTo>
                              <a:pt x="61" y="44"/>
                            </a:lnTo>
                            <a:lnTo>
                              <a:pt x="92" y="66"/>
                            </a:lnTo>
                            <a:lnTo>
                              <a:pt x="129" y="92"/>
                            </a:lnTo>
                            <a:lnTo>
                              <a:pt x="169" y="118"/>
                            </a:lnTo>
                            <a:lnTo>
                              <a:pt x="213" y="148"/>
                            </a:lnTo>
                            <a:lnTo>
                              <a:pt x="259" y="179"/>
                            </a:lnTo>
                            <a:lnTo>
                              <a:pt x="306" y="209"/>
                            </a:lnTo>
                            <a:lnTo>
                              <a:pt x="355" y="240"/>
                            </a:lnTo>
                            <a:lnTo>
                              <a:pt x="403" y="270"/>
                            </a:lnTo>
                            <a:lnTo>
                              <a:pt x="450" y="298"/>
                            </a:lnTo>
                            <a:lnTo>
                              <a:pt x="496" y="324"/>
                            </a:lnTo>
                            <a:lnTo>
                              <a:pt x="538" y="347"/>
                            </a:lnTo>
                            <a:lnTo>
                              <a:pt x="579" y="367"/>
                            </a:lnTo>
                            <a:lnTo>
                              <a:pt x="574" y="367"/>
                            </a:lnTo>
                            <a:lnTo>
                              <a:pt x="562" y="365"/>
                            </a:lnTo>
                            <a:lnTo>
                              <a:pt x="541" y="363"/>
                            </a:lnTo>
                            <a:lnTo>
                              <a:pt x="515" y="360"/>
                            </a:lnTo>
                            <a:lnTo>
                              <a:pt x="482" y="354"/>
                            </a:lnTo>
                            <a:lnTo>
                              <a:pt x="444" y="344"/>
                            </a:lnTo>
                            <a:lnTo>
                              <a:pt x="402" y="332"/>
                            </a:lnTo>
                            <a:lnTo>
                              <a:pt x="358" y="316"/>
                            </a:lnTo>
                            <a:lnTo>
                              <a:pt x="311" y="296"/>
                            </a:lnTo>
                            <a:lnTo>
                              <a:pt x="264" y="271"/>
                            </a:lnTo>
                            <a:lnTo>
                              <a:pt x="215" y="242"/>
                            </a:lnTo>
                            <a:lnTo>
                              <a:pt x="168" y="207"/>
                            </a:lnTo>
                            <a:lnTo>
                              <a:pt x="121" y="166"/>
                            </a:lnTo>
                            <a:lnTo>
                              <a:pt x="77" y="118"/>
                            </a:lnTo>
                            <a:lnTo>
                              <a:pt x="36" y="6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Freeform 56"/>
                      <p:cNvSpPr/>
                      <p:nvPr/>
                    </p:nvSpPr>
                    <p:spPr>
                      <a:xfrm>
                        <a:off x="4792680" y="3337200"/>
                        <a:ext cx="23760" cy="56520"/>
                      </a:xfrm>
                      <a:custGeom>
                        <a:avLst/>
                        <a:gdLst>
                          <a:gd name="textAreaLeft" fmla="*/ 0 w 23760"/>
                          <a:gd name="textAreaRight" fmla="*/ 24120 w 23760"/>
                          <a:gd name="textAreaTop" fmla="*/ 0 h 56520"/>
                          <a:gd name="textAreaBottom" fmla="*/ 56880 h 56520"/>
                        </a:gdLst>
                        <a:ahLst/>
                        <a:rect l="textAreaLeft" t="textAreaTop" r="textAreaRight" b="textAreaBottom"/>
                        <a:pathLst>
                          <a:path w="206" h="416">
                            <a:moveTo>
                              <a:pt x="206" y="0"/>
                            </a:moveTo>
                            <a:lnTo>
                              <a:pt x="198" y="11"/>
                            </a:lnTo>
                            <a:lnTo>
                              <a:pt x="178" y="44"/>
                            </a:lnTo>
                            <a:lnTo>
                              <a:pt x="148" y="94"/>
                            </a:lnTo>
                            <a:lnTo>
                              <a:pt x="112" y="155"/>
                            </a:lnTo>
                            <a:lnTo>
                              <a:pt x="76" y="222"/>
                            </a:lnTo>
                            <a:lnTo>
                              <a:pt x="43" y="291"/>
                            </a:lnTo>
                            <a:lnTo>
                              <a:pt x="16" y="357"/>
                            </a:lnTo>
                            <a:lnTo>
                              <a:pt x="0" y="416"/>
                            </a:lnTo>
                            <a:lnTo>
                              <a:pt x="8" y="406"/>
                            </a:lnTo>
                            <a:lnTo>
                              <a:pt x="30" y="378"/>
                            </a:lnTo>
                            <a:lnTo>
                              <a:pt x="62" y="334"/>
                            </a:lnTo>
                            <a:lnTo>
                              <a:pt x="99" y="280"/>
                            </a:lnTo>
                            <a:lnTo>
                              <a:pt x="135" y="216"/>
                            </a:lnTo>
                            <a:lnTo>
                              <a:pt x="168" y="145"/>
                            </a:lnTo>
                            <a:lnTo>
                              <a:pt x="193" y="72"/>
                            </a:lnTo>
                            <a:lnTo>
                              <a:pt x="20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Freeform 57"/>
                      <p:cNvSpPr/>
                      <p:nvPr/>
                    </p:nvSpPr>
                    <p:spPr>
                      <a:xfrm>
                        <a:off x="4782240" y="3354840"/>
                        <a:ext cx="48960" cy="22680"/>
                      </a:xfrm>
                      <a:custGeom>
                        <a:avLst/>
                        <a:gdLst>
                          <a:gd name="textAreaLeft" fmla="*/ 0 w 48960"/>
                          <a:gd name="textAreaRight" fmla="*/ 49320 w 48960"/>
                          <a:gd name="textAreaTop" fmla="*/ 0 h 22680"/>
                          <a:gd name="textAreaBottom" fmla="*/ 23040 h 22680"/>
                        </a:gdLst>
                        <a:ahLst/>
                        <a:rect l="textAreaLeft" t="textAreaTop" r="textAreaRight" b="textAreaBottom"/>
                        <a:pathLst>
                          <a:path w="419" h="168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19" y="5"/>
                            </a:lnTo>
                            <a:lnTo>
                              <a:pt x="41" y="10"/>
                            </a:lnTo>
                            <a:lnTo>
                              <a:pt x="69" y="16"/>
                            </a:lnTo>
                            <a:lnTo>
                              <a:pt x="102" y="25"/>
                            </a:lnTo>
                            <a:lnTo>
                              <a:pt x="138" y="33"/>
                            </a:lnTo>
                            <a:lnTo>
                              <a:pt x="177" y="44"/>
                            </a:lnTo>
                            <a:lnTo>
                              <a:pt x="218" y="54"/>
                            </a:lnTo>
                            <a:lnTo>
                              <a:pt x="259" y="67"/>
                            </a:lnTo>
                            <a:lnTo>
                              <a:pt x="297" y="79"/>
                            </a:lnTo>
                            <a:lnTo>
                              <a:pt x="333" y="92"/>
                            </a:lnTo>
                            <a:lnTo>
                              <a:pt x="364" y="105"/>
                            </a:lnTo>
                            <a:lnTo>
                              <a:pt x="389" y="118"/>
                            </a:lnTo>
                            <a:lnTo>
                              <a:pt x="408" y="132"/>
                            </a:lnTo>
                            <a:lnTo>
                              <a:pt x="417" y="143"/>
                            </a:lnTo>
                            <a:lnTo>
                              <a:pt x="419" y="155"/>
                            </a:lnTo>
                            <a:lnTo>
                              <a:pt x="411" y="163"/>
                            </a:lnTo>
                            <a:lnTo>
                              <a:pt x="397" y="168"/>
                            </a:lnTo>
                            <a:lnTo>
                              <a:pt x="377" y="168"/>
                            </a:lnTo>
                            <a:lnTo>
                              <a:pt x="350" y="166"/>
                            </a:lnTo>
                            <a:lnTo>
                              <a:pt x="322" y="160"/>
                            </a:lnTo>
                            <a:lnTo>
                              <a:pt x="289" y="151"/>
                            </a:lnTo>
                            <a:lnTo>
                              <a:pt x="254" y="140"/>
                            </a:lnTo>
                            <a:lnTo>
                              <a:pt x="218" y="127"/>
                            </a:lnTo>
                            <a:lnTo>
                              <a:pt x="182" y="112"/>
                            </a:lnTo>
                            <a:lnTo>
                              <a:pt x="147" y="97"/>
                            </a:lnTo>
                            <a:lnTo>
                              <a:pt x="113" y="81"/>
                            </a:lnTo>
                            <a:lnTo>
                              <a:pt x="81" y="62"/>
                            </a:lnTo>
                            <a:lnTo>
                              <a:pt x="53" y="46"/>
                            </a:lnTo>
                            <a:lnTo>
                              <a:pt x="30" y="30"/>
                            </a:lnTo>
                            <a:lnTo>
                              <a:pt x="12" y="1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28" name="Group 58"/>
              <p:cNvGrpSpPr/>
              <p:nvPr/>
            </p:nvGrpSpPr>
            <p:grpSpPr>
              <a:xfrm>
                <a:off x="3898080" y="1679040"/>
                <a:ext cx="1631880" cy="1040040"/>
                <a:chOff x="3898080" y="1679040"/>
                <a:chExt cx="1631880" cy="1040040"/>
              </a:xfrm>
            </p:grpSpPr>
            <p:sp>
              <p:nvSpPr>
                <p:cNvPr id="729" name="Rectangle 59"/>
                <p:cNvSpPr/>
                <p:nvPr/>
              </p:nvSpPr>
              <p:spPr>
                <a:xfrm>
                  <a:off x="3898080" y="2138400"/>
                  <a:ext cx="16318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Donors/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Investors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60"/>
                <p:cNvGrpSpPr/>
                <p:nvPr/>
              </p:nvGrpSpPr>
              <p:grpSpPr>
                <a:xfrm>
                  <a:off x="4618440" y="1679040"/>
                  <a:ext cx="467280" cy="459360"/>
                  <a:chOff x="4618440" y="1679040"/>
                  <a:chExt cx="467280" cy="459360"/>
                </a:xfrm>
              </p:grpSpPr>
              <p:sp>
                <p:nvSpPr>
                  <p:cNvPr id="731" name="AutoShape 61"/>
                  <p:cNvSpPr/>
                  <p:nvPr/>
                </p:nvSpPr>
                <p:spPr>
                  <a:xfrm>
                    <a:off x="4618440" y="1679040"/>
                    <a:ext cx="467280" cy="4593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69696">
                      <a:alpha val="5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2" name="Group 62"/>
                  <p:cNvGrpSpPr/>
                  <p:nvPr/>
                </p:nvGrpSpPr>
                <p:grpSpPr>
                  <a:xfrm>
                    <a:off x="4711680" y="1736280"/>
                    <a:ext cx="249120" cy="339840"/>
                    <a:chOff x="4711680" y="1736280"/>
                    <a:chExt cx="249120" cy="339840"/>
                  </a:xfrm>
                </p:grpSpPr>
                <p:sp>
                  <p:nvSpPr>
                    <p:cNvPr id="733" name="Freeform 63"/>
                    <p:cNvSpPr/>
                    <p:nvPr/>
                  </p:nvSpPr>
                  <p:spPr>
                    <a:xfrm>
                      <a:off x="4711680" y="1736280"/>
                      <a:ext cx="249120" cy="339840"/>
                    </a:xfrm>
                    <a:custGeom>
                      <a:avLst/>
                      <a:gdLst>
                        <a:gd name="textAreaLeft" fmla="*/ 0 w 249120"/>
                        <a:gd name="textAreaRight" fmla="*/ 249480 w 249120"/>
                        <a:gd name="textAreaTop" fmla="*/ 0 h 339840"/>
                        <a:gd name="textAreaBottom" fmla="*/ 340200 h 339840"/>
                      </a:gdLst>
                      <a:ahLst/>
                      <a:rect l="textAreaLeft" t="textAreaTop" r="textAreaRight" b="textAreaBottom"/>
                      <a:pathLst>
                        <a:path w="326" h="424">
                          <a:moveTo>
                            <a:pt x="237" y="174"/>
                          </a:moveTo>
                          <a:lnTo>
                            <a:pt x="240" y="179"/>
                          </a:lnTo>
                          <a:lnTo>
                            <a:pt x="244" y="177"/>
                          </a:lnTo>
                          <a:lnTo>
                            <a:pt x="322" y="131"/>
                          </a:lnTo>
                          <a:lnTo>
                            <a:pt x="326" y="129"/>
                          </a:lnTo>
                          <a:lnTo>
                            <a:pt x="324" y="125"/>
                          </a:lnTo>
                          <a:lnTo>
                            <a:pt x="320" y="117"/>
                          </a:lnTo>
                          <a:lnTo>
                            <a:pt x="316" y="109"/>
                          </a:lnTo>
                          <a:lnTo>
                            <a:pt x="312" y="102"/>
                          </a:lnTo>
                          <a:lnTo>
                            <a:pt x="307" y="95"/>
                          </a:lnTo>
                          <a:lnTo>
                            <a:pt x="301" y="88"/>
                          </a:lnTo>
                          <a:lnTo>
                            <a:pt x="296" y="82"/>
                          </a:lnTo>
                          <a:lnTo>
                            <a:pt x="290" y="76"/>
                          </a:lnTo>
                          <a:lnTo>
                            <a:pt x="284" y="70"/>
                          </a:lnTo>
                          <a:lnTo>
                            <a:pt x="277" y="65"/>
                          </a:lnTo>
                          <a:lnTo>
                            <a:pt x="270" y="60"/>
                          </a:lnTo>
                          <a:lnTo>
                            <a:pt x="263" y="55"/>
                          </a:lnTo>
                          <a:lnTo>
                            <a:pt x="256" y="51"/>
                          </a:lnTo>
                          <a:lnTo>
                            <a:pt x="248" y="47"/>
                          </a:lnTo>
                          <a:lnTo>
                            <a:pt x="240" y="44"/>
                          </a:lnTo>
                          <a:lnTo>
                            <a:pt x="232" y="40"/>
                          </a:lnTo>
                          <a:lnTo>
                            <a:pt x="224" y="38"/>
                          </a:lnTo>
                          <a:lnTo>
                            <a:pt x="227" y="30"/>
                          </a:lnTo>
                          <a:lnTo>
                            <a:pt x="230" y="22"/>
                          </a:lnTo>
                          <a:lnTo>
                            <a:pt x="234" y="15"/>
                          </a:lnTo>
                          <a:lnTo>
                            <a:pt x="237" y="7"/>
                          </a:lnTo>
                          <a:lnTo>
                            <a:pt x="241" y="0"/>
                          </a:lnTo>
                          <a:lnTo>
                            <a:pt x="233" y="0"/>
                          </a:lnTo>
                          <a:lnTo>
                            <a:pt x="172" y="0"/>
                          </a:lnTo>
                          <a:lnTo>
                            <a:pt x="169" y="0"/>
                          </a:lnTo>
                          <a:lnTo>
                            <a:pt x="168" y="3"/>
                          </a:lnTo>
                          <a:lnTo>
                            <a:pt x="165" y="11"/>
                          </a:lnTo>
                          <a:lnTo>
                            <a:pt x="163" y="18"/>
                          </a:lnTo>
                          <a:lnTo>
                            <a:pt x="160" y="26"/>
                          </a:lnTo>
                          <a:lnTo>
                            <a:pt x="157" y="34"/>
                          </a:lnTo>
                          <a:lnTo>
                            <a:pt x="155" y="34"/>
                          </a:lnTo>
                          <a:lnTo>
                            <a:pt x="151" y="35"/>
                          </a:lnTo>
                          <a:lnTo>
                            <a:pt x="148" y="35"/>
                          </a:lnTo>
                          <a:lnTo>
                            <a:pt x="145" y="36"/>
                          </a:lnTo>
                          <a:lnTo>
                            <a:pt x="142" y="37"/>
                          </a:lnTo>
                          <a:lnTo>
                            <a:pt x="139" y="38"/>
                          </a:lnTo>
                          <a:lnTo>
                            <a:pt x="136" y="39"/>
                          </a:lnTo>
                          <a:lnTo>
                            <a:pt x="133" y="40"/>
                          </a:lnTo>
                          <a:lnTo>
                            <a:pt x="133" y="50"/>
                          </a:lnTo>
                          <a:lnTo>
                            <a:pt x="137" y="49"/>
                          </a:lnTo>
                          <a:lnTo>
                            <a:pt x="140" y="48"/>
                          </a:lnTo>
                          <a:lnTo>
                            <a:pt x="144" y="47"/>
                          </a:lnTo>
                          <a:lnTo>
                            <a:pt x="147" y="46"/>
                          </a:lnTo>
                          <a:lnTo>
                            <a:pt x="151" y="45"/>
                          </a:lnTo>
                          <a:lnTo>
                            <a:pt x="155" y="45"/>
                          </a:lnTo>
                          <a:lnTo>
                            <a:pt x="158" y="44"/>
                          </a:lnTo>
                          <a:lnTo>
                            <a:pt x="162" y="43"/>
                          </a:lnTo>
                          <a:lnTo>
                            <a:pt x="165" y="43"/>
                          </a:lnTo>
                          <a:lnTo>
                            <a:pt x="166" y="40"/>
                          </a:lnTo>
                          <a:lnTo>
                            <a:pt x="169" y="32"/>
                          </a:lnTo>
                          <a:lnTo>
                            <a:pt x="171" y="24"/>
                          </a:lnTo>
                          <a:lnTo>
                            <a:pt x="174" y="17"/>
                          </a:lnTo>
                          <a:lnTo>
                            <a:pt x="176" y="10"/>
                          </a:lnTo>
                          <a:lnTo>
                            <a:pt x="225" y="10"/>
                          </a:lnTo>
                          <a:lnTo>
                            <a:pt x="221" y="17"/>
                          </a:lnTo>
                          <a:lnTo>
                            <a:pt x="218" y="24"/>
                          </a:lnTo>
                          <a:lnTo>
                            <a:pt x="215" y="32"/>
                          </a:lnTo>
                          <a:lnTo>
                            <a:pt x="213" y="39"/>
                          </a:lnTo>
                          <a:lnTo>
                            <a:pt x="210" y="45"/>
                          </a:lnTo>
                          <a:lnTo>
                            <a:pt x="216" y="46"/>
                          </a:lnTo>
                          <a:lnTo>
                            <a:pt x="217" y="46"/>
                          </a:lnTo>
                          <a:lnTo>
                            <a:pt x="218" y="46"/>
                          </a:lnTo>
                          <a:lnTo>
                            <a:pt x="218" y="47"/>
                          </a:lnTo>
                          <a:lnTo>
                            <a:pt x="219" y="47"/>
                          </a:lnTo>
                          <a:lnTo>
                            <a:pt x="227" y="49"/>
                          </a:lnTo>
                          <a:lnTo>
                            <a:pt x="234" y="52"/>
                          </a:lnTo>
                          <a:lnTo>
                            <a:pt x="242" y="55"/>
                          </a:lnTo>
                          <a:lnTo>
                            <a:pt x="248" y="59"/>
                          </a:lnTo>
                          <a:lnTo>
                            <a:pt x="256" y="62"/>
                          </a:lnTo>
                          <a:lnTo>
                            <a:pt x="262" y="66"/>
                          </a:lnTo>
                          <a:lnTo>
                            <a:pt x="269" y="71"/>
                          </a:lnTo>
                          <a:lnTo>
                            <a:pt x="275" y="75"/>
                          </a:lnTo>
                          <a:lnTo>
                            <a:pt x="281" y="81"/>
                          </a:lnTo>
                          <a:lnTo>
                            <a:pt x="286" y="86"/>
                          </a:lnTo>
                          <a:lnTo>
                            <a:pt x="291" y="92"/>
                          </a:lnTo>
                          <a:lnTo>
                            <a:pt x="297" y="98"/>
                          </a:lnTo>
                          <a:lnTo>
                            <a:pt x="301" y="104"/>
                          </a:lnTo>
                          <a:lnTo>
                            <a:pt x="305" y="111"/>
                          </a:lnTo>
                          <a:lnTo>
                            <a:pt x="309" y="118"/>
                          </a:lnTo>
                          <a:lnTo>
                            <a:pt x="313" y="125"/>
                          </a:lnTo>
                          <a:lnTo>
                            <a:pt x="244" y="165"/>
                          </a:lnTo>
                          <a:lnTo>
                            <a:pt x="240" y="157"/>
                          </a:lnTo>
                          <a:lnTo>
                            <a:pt x="235" y="149"/>
                          </a:lnTo>
                          <a:lnTo>
                            <a:pt x="230" y="141"/>
                          </a:lnTo>
                          <a:lnTo>
                            <a:pt x="224" y="134"/>
                          </a:lnTo>
                          <a:lnTo>
                            <a:pt x="218" y="127"/>
                          </a:lnTo>
                          <a:lnTo>
                            <a:pt x="212" y="120"/>
                          </a:lnTo>
                          <a:lnTo>
                            <a:pt x="205" y="114"/>
                          </a:lnTo>
                          <a:lnTo>
                            <a:pt x="198" y="108"/>
                          </a:lnTo>
                          <a:lnTo>
                            <a:pt x="192" y="104"/>
                          </a:lnTo>
                          <a:lnTo>
                            <a:pt x="190" y="111"/>
                          </a:lnTo>
                          <a:lnTo>
                            <a:pt x="188" y="121"/>
                          </a:lnTo>
                          <a:lnTo>
                            <a:pt x="185" y="131"/>
                          </a:lnTo>
                          <a:lnTo>
                            <a:pt x="184" y="141"/>
                          </a:lnTo>
                          <a:lnTo>
                            <a:pt x="182" y="151"/>
                          </a:lnTo>
                          <a:lnTo>
                            <a:pt x="180" y="161"/>
                          </a:lnTo>
                          <a:lnTo>
                            <a:pt x="178" y="171"/>
                          </a:lnTo>
                          <a:lnTo>
                            <a:pt x="176" y="181"/>
                          </a:lnTo>
                          <a:lnTo>
                            <a:pt x="175" y="191"/>
                          </a:lnTo>
                          <a:lnTo>
                            <a:pt x="174" y="198"/>
                          </a:lnTo>
                          <a:lnTo>
                            <a:pt x="181" y="197"/>
                          </a:lnTo>
                          <a:lnTo>
                            <a:pt x="184" y="197"/>
                          </a:lnTo>
                          <a:lnTo>
                            <a:pt x="188" y="197"/>
                          </a:lnTo>
                          <a:lnTo>
                            <a:pt x="192" y="197"/>
                          </a:lnTo>
                          <a:lnTo>
                            <a:pt x="196" y="197"/>
                          </a:lnTo>
                          <a:lnTo>
                            <a:pt x="200" y="197"/>
                          </a:lnTo>
                          <a:lnTo>
                            <a:pt x="203" y="198"/>
                          </a:lnTo>
                          <a:lnTo>
                            <a:pt x="207" y="198"/>
                          </a:lnTo>
                          <a:lnTo>
                            <a:pt x="211" y="199"/>
                          </a:lnTo>
                          <a:lnTo>
                            <a:pt x="226" y="205"/>
                          </a:lnTo>
                          <a:lnTo>
                            <a:pt x="240" y="214"/>
                          </a:lnTo>
                          <a:lnTo>
                            <a:pt x="251" y="225"/>
                          </a:lnTo>
                          <a:lnTo>
                            <a:pt x="260" y="237"/>
                          </a:lnTo>
                          <a:lnTo>
                            <a:pt x="267" y="252"/>
                          </a:lnTo>
                          <a:lnTo>
                            <a:pt x="271" y="267"/>
                          </a:lnTo>
                          <a:lnTo>
                            <a:pt x="271" y="283"/>
                          </a:lnTo>
                          <a:lnTo>
                            <a:pt x="268" y="299"/>
                          </a:lnTo>
                          <a:lnTo>
                            <a:pt x="266" y="306"/>
                          </a:lnTo>
                          <a:lnTo>
                            <a:pt x="263" y="313"/>
                          </a:lnTo>
                          <a:lnTo>
                            <a:pt x="260" y="320"/>
                          </a:lnTo>
                          <a:lnTo>
                            <a:pt x="256" y="325"/>
                          </a:lnTo>
                          <a:lnTo>
                            <a:pt x="251" y="331"/>
                          </a:lnTo>
                          <a:lnTo>
                            <a:pt x="246" y="336"/>
                          </a:lnTo>
                          <a:lnTo>
                            <a:pt x="241" y="341"/>
                          </a:lnTo>
                          <a:lnTo>
                            <a:pt x="235" y="346"/>
                          </a:lnTo>
                          <a:lnTo>
                            <a:pt x="228" y="351"/>
                          </a:lnTo>
                          <a:lnTo>
                            <a:pt x="221" y="355"/>
                          </a:lnTo>
                          <a:lnTo>
                            <a:pt x="214" y="359"/>
                          </a:lnTo>
                          <a:lnTo>
                            <a:pt x="207" y="363"/>
                          </a:lnTo>
                          <a:lnTo>
                            <a:pt x="199" y="366"/>
                          </a:lnTo>
                          <a:lnTo>
                            <a:pt x="192" y="369"/>
                          </a:lnTo>
                          <a:lnTo>
                            <a:pt x="184" y="371"/>
                          </a:lnTo>
                          <a:lnTo>
                            <a:pt x="177" y="373"/>
                          </a:lnTo>
                          <a:lnTo>
                            <a:pt x="172" y="374"/>
                          </a:lnTo>
                          <a:lnTo>
                            <a:pt x="172" y="379"/>
                          </a:lnTo>
                          <a:lnTo>
                            <a:pt x="173" y="388"/>
                          </a:lnTo>
                          <a:lnTo>
                            <a:pt x="175" y="397"/>
                          </a:lnTo>
                          <a:lnTo>
                            <a:pt x="176" y="406"/>
                          </a:lnTo>
                          <a:lnTo>
                            <a:pt x="177" y="414"/>
                          </a:lnTo>
                          <a:lnTo>
                            <a:pt x="152" y="414"/>
                          </a:lnTo>
                          <a:lnTo>
                            <a:pt x="151" y="406"/>
                          </a:lnTo>
                          <a:lnTo>
                            <a:pt x="149" y="398"/>
                          </a:lnTo>
                          <a:lnTo>
                            <a:pt x="147" y="390"/>
                          </a:lnTo>
                          <a:lnTo>
                            <a:pt x="146" y="381"/>
                          </a:lnTo>
                          <a:lnTo>
                            <a:pt x="145" y="377"/>
                          </a:lnTo>
                          <a:lnTo>
                            <a:pt x="141" y="377"/>
                          </a:lnTo>
                          <a:lnTo>
                            <a:pt x="137" y="377"/>
                          </a:lnTo>
                          <a:lnTo>
                            <a:pt x="133" y="376"/>
                          </a:lnTo>
                          <a:lnTo>
                            <a:pt x="128" y="376"/>
                          </a:lnTo>
                          <a:lnTo>
                            <a:pt x="124" y="375"/>
                          </a:lnTo>
                          <a:lnTo>
                            <a:pt x="120" y="375"/>
                          </a:lnTo>
                          <a:lnTo>
                            <a:pt x="115" y="374"/>
                          </a:lnTo>
                          <a:lnTo>
                            <a:pt x="112" y="373"/>
                          </a:lnTo>
                          <a:lnTo>
                            <a:pt x="107" y="372"/>
                          </a:lnTo>
                          <a:lnTo>
                            <a:pt x="99" y="369"/>
                          </a:lnTo>
                          <a:lnTo>
                            <a:pt x="92" y="367"/>
                          </a:lnTo>
                          <a:lnTo>
                            <a:pt x="84" y="364"/>
                          </a:lnTo>
                          <a:lnTo>
                            <a:pt x="78" y="360"/>
                          </a:lnTo>
                          <a:lnTo>
                            <a:pt x="70" y="356"/>
                          </a:lnTo>
                          <a:lnTo>
                            <a:pt x="64" y="352"/>
                          </a:lnTo>
                          <a:lnTo>
                            <a:pt x="57" y="348"/>
                          </a:lnTo>
                          <a:lnTo>
                            <a:pt x="52" y="343"/>
                          </a:lnTo>
                          <a:lnTo>
                            <a:pt x="45" y="338"/>
                          </a:lnTo>
                          <a:lnTo>
                            <a:pt x="40" y="333"/>
                          </a:lnTo>
                          <a:lnTo>
                            <a:pt x="35" y="327"/>
                          </a:lnTo>
                          <a:lnTo>
                            <a:pt x="29" y="321"/>
                          </a:lnTo>
                          <a:lnTo>
                            <a:pt x="25" y="314"/>
                          </a:lnTo>
                          <a:lnTo>
                            <a:pt x="21" y="308"/>
                          </a:lnTo>
                          <a:lnTo>
                            <a:pt x="17" y="301"/>
                          </a:lnTo>
                          <a:lnTo>
                            <a:pt x="13" y="294"/>
                          </a:lnTo>
                          <a:lnTo>
                            <a:pt x="82" y="254"/>
                          </a:lnTo>
                          <a:lnTo>
                            <a:pt x="86" y="263"/>
                          </a:lnTo>
                          <a:lnTo>
                            <a:pt x="91" y="270"/>
                          </a:lnTo>
                          <a:lnTo>
                            <a:pt x="97" y="278"/>
                          </a:lnTo>
                          <a:lnTo>
                            <a:pt x="102" y="286"/>
                          </a:lnTo>
                          <a:lnTo>
                            <a:pt x="109" y="293"/>
                          </a:lnTo>
                          <a:lnTo>
                            <a:pt x="115" y="299"/>
                          </a:lnTo>
                          <a:lnTo>
                            <a:pt x="123" y="306"/>
                          </a:lnTo>
                          <a:lnTo>
                            <a:pt x="130" y="311"/>
                          </a:lnTo>
                          <a:lnTo>
                            <a:pt x="139" y="318"/>
                          </a:lnTo>
                          <a:lnTo>
                            <a:pt x="138" y="307"/>
                          </a:lnTo>
                          <a:lnTo>
                            <a:pt x="137" y="293"/>
                          </a:lnTo>
                          <a:lnTo>
                            <a:pt x="137" y="280"/>
                          </a:lnTo>
                          <a:lnTo>
                            <a:pt x="136" y="267"/>
                          </a:lnTo>
                          <a:lnTo>
                            <a:pt x="136" y="254"/>
                          </a:lnTo>
                          <a:lnTo>
                            <a:pt x="136" y="248"/>
                          </a:lnTo>
                          <a:lnTo>
                            <a:pt x="136" y="242"/>
                          </a:lnTo>
                          <a:lnTo>
                            <a:pt x="136" y="235"/>
                          </a:lnTo>
                          <a:lnTo>
                            <a:pt x="137" y="228"/>
                          </a:lnTo>
                          <a:lnTo>
                            <a:pt x="137" y="223"/>
                          </a:lnTo>
                          <a:lnTo>
                            <a:pt x="132" y="222"/>
                          </a:lnTo>
                          <a:lnTo>
                            <a:pt x="130" y="222"/>
                          </a:lnTo>
                          <a:lnTo>
                            <a:pt x="127" y="222"/>
                          </a:lnTo>
                          <a:lnTo>
                            <a:pt x="126" y="221"/>
                          </a:lnTo>
                          <a:lnTo>
                            <a:pt x="124" y="221"/>
                          </a:lnTo>
                          <a:lnTo>
                            <a:pt x="121" y="221"/>
                          </a:lnTo>
                          <a:lnTo>
                            <a:pt x="119" y="220"/>
                          </a:lnTo>
                          <a:lnTo>
                            <a:pt x="117" y="220"/>
                          </a:lnTo>
                          <a:lnTo>
                            <a:pt x="115" y="220"/>
                          </a:lnTo>
                          <a:lnTo>
                            <a:pt x="108" y="217"/>
                          </a:lnTo>
                          <a:lnTo>
                            <a:pt x="100" y="214"/>
                          </a:lnTo>
                          <a:lnTo>
                            <a:pt x="94" y="210"/>
                          </a:lnTo>
                          <a:lnTo>
                            <a:pt x="87" y="206"/>
                          </a:lnTo>
                          <a:lnTo>
                            <a:pt x="81" y="201"/>
                          </a:lnTo>
                          <a:lnTo>
                            <a:pt x="75" y="195"/>
                          </a:lnTo>
                          <a:lnTo>
                            <a:pt x="70" y="189"/>
                          </a:lnTo>
                          <a:lnTo>
                            <a:pt x="66" y="182"/>
                          </a:lnTo>
                          <a:lnTo>
                            <a:pt x="59" y="167"/>
                          </a:lnTo>
                          <a:lnTo>
                            <a:pt x="55" y="151"/>
                          </a:lnTo>
                          <a:lnTo>
                            <a:pt x="55" y="135"/>
                          </a:lnTo>
                          <a:lnTo>
                            <a:pt x="58" y="119"/>
                          </a:lnTo>
                          <a:lnTo>
                            <a:pt x="60" y="113"/>
                          </a:lnTo>
                          <a:lnTo>
                            <a:pt x="63" y="106"/>
                          </a:lnTo>
                          <a:lnTo>
                            <a:pt x="66" y="99"/>
                          </a:lnTo>
                          <a:lnTo>
                            <a:pt x="70" y="93"/>
                          </a:lnTo>
                          <a:lnTo>
                            <a:pt x="75" y="88"/>
                          </a:lnTo>
                          <a:lnTo>
                            <a:pt x="80" y="82"/>
                          </a:lnTo>
                          <a:lnTo>
                            <a:pt x="85" y="77"/>
                          </a:lnTo>
                          <a:lnTo>
                            <a:pt x="91" y="73"/>
                          </a:lnTo>
                          <a:lnTo>
                            <a:pt x="96" y="70"/>
                          </a:lnTo>
                          <a:lnTo>
                            <a:pt x="99" y="67"/>
                          </a:lnTo>
                          <a:lnTo>
                            <a:pt x="104" y="64"/>
                          </a:lnTo>
                          <a:lnTo>
                            <a:pt x="108" y="61"/>
                          </a:lnTo>
                          <a:lnTo>
                            <a:pt x="113" y="59"/>
                          </a:lnTo>
                          <a:lnTo>
                            <a:pt x="117" y="57"/>
                          </a:lnTo>
                          <a:lnTo>
                            <a:pt x="122" y="55"/>
                          </a:lnTo>
                          <a:lnTo>
                            <a:pt x="126" y="53"/>
                          </a:lnTo>
                          <a:lnTo>
                            <a:pt x="126" y="42"/>
                          </a:lnTo>
                          <a:lnTo>
                            <a:pt x="121" y="44"/>
                          </a:lnTo>
                          <a:lnTo>
                            <a:pt x="116" y="46"/>
                          </a:lnTo>
                          <a:lnTo>
                            <a:pt x="111" y="49"/>
                          </a:lnTo>
                          <a:lnTo>
                            <a:pt x="105" y="52"/>
                          </a:lnTo>
                          <a:lnTo>
                            <a:pt x="100" y="55"/>
                          </a:lnTo>
                          <a:lnTo>
                            <a:pt x="95" y="58"/>
                          </a:lnTo>
                          <a:lnTo>
                            <a:pt x="90" y="61"/>
                          </a:lnTo>
                          <a:lnTo>
                            <a:pt x="85" y="65"/>
                          </a:lnTo>
                          <a:lnTo>
                            <a:pt x="79" y="70"/>
                          </a:lnTo>
                          <a:lnTo>
                            <a:pt x="72" y="75"/>
                          </a:lnTo>
                          <a:lnTo>
                            <a:pt x="67" y="81"/>
                          </a:lnTo>
                          <a:lnTo>
                            <a:pt x="62" y="87"/>
                          </a:lnTo>
                          <a:lnTo>
                            <a:pt x="57" y="94"/>
                          </a:lnTo>
                          <a:lnTo>
                            <a:pt x="53" y="102"/>
                          </a:lnTo>
                          <a:lnTo>
                            <a:pt x="51" y="109"/>
                          </a:lnTo>
                          <a:lnTo>
                            <a:pt x="48" y="117"/>
                          </a:lnTo>
                          <a:lnTo>
                            <a:pt x="46" y="126"/>
                          </a:lnTo>
                          <a:lnTo>
                            <a:pt x="45" y="135"/>
                          </a:lnTo>
                          <a:lnTo>
                            <a:pt x="45" y="144"/>
                          </a:lnTo>
                          <a:lnTo>
                            <a:pt x="45" y="153"/>
                          </a:lnTo>
                          <a:lnTo>
                            <a:pt x="47" y="162"/>
                          </a:lnTo>
                          <a:lnTo>
                            <a:pt x="50" y="170"/>
                          </a:lnTo>
                          <a:lnTo>
                            <a:pt x="53" y="178"/>
                          </a:lnTo>
                          <a:lnTo>
                            <a:pt x="57" y="187"/>
                          </a:lnTo>
                          <a:lnTo>
                            <a:pt x="62" y="194"/>
                          </a:lnTo>
                          <a:lnTo>
                            <a:pt x="68" y="201"/>
                          </a:lnTo>
                          <a:lnTo>
                            <a:pt x="74" y="208"/>
                          </a:lnTo>
                          <a:lnTo>
                            <a:pt x="81" y="214"/>
                          </a:lnTo>
                          <a:lnTo>
                            <a:pt x="88" y="219"/>
                          </a:lnTo>
                          <a:lnTo>
                            <a:pt x="96" y="223"/>
                          </a:lnTo>
                          <a:lnTo>
                            <a:pt x="104" y="227"/>
                          </a:lnTo>
                          <a:lnTo>
                            <a:pt x="113" y="230"/>
                          </a:lnTo>
                          <a:lnTo>
                            <a:pt x="116" y="230"/>
                          </a:lnTo>
                          <a:lnTo>
                            <a:pt x="120" y="231"/>
                          </a:lnTo>
                          <a:lnTo>
                            <a:pt x="123" y="232"/>
                          </a:lnTo>
                          <a:lnTo>
                            <a:pt x="126" y="232"/>
                          </a:lnTo>
                          <a:lnTo>
                            <a:pt x="126" y="238"/>
                          </a:lnTo>
                          <a:lnTo>
                            <a:pt x="126" y="244"/>
                          </a:lnTo>
                          <a:lnTo>
                            <a:pt x="126" y="249"/>
                          </a:lnTo>
                          <a:lnTo>
                            <a:pt x="126" y="254"/>
                          </a:lnTo>
                          <a:lnTo>
                            <a:pt x="126" y="264"/>
                          </a:lnTo>
                          <a:lnTo>
                            <a:pt x="126" y="275"/>
                          </a:lnTo>
                          <a:lnTo>
                            <a:pt x="126" y="286"/>
                          </a:lnTo>
                          <a:lnTo>
                            <a:pt x="127" y="296"/>
                          </a:lnTo>
                          <a:lnTo>
                            <a:pt x="121" y="291"/>
                          </a:lnTo>
                          <a:lnTo>
                            <a:pt x="115" y="285"/>
                          </a:lnTo>
                          <a:lnTo>
                            <a:pt x="110" y="279"/>
                          </a:lnTo>
                          <a:lnTo>
                            <a:pt x="105" y="273"/>
                          </a:lnTo>
                          <a:lnTo>
                            <a:pt x="100" y="266"/>
                          </a:lnTo>
                          <a:lnTo>
                            <a:pt x="96" y="259"/>
                          </a:lnTo>
                          <a:lnTo>
                            <a:pt x="92" y="252"/>
                          </a:lnTo>
                          <a:lnTo>
                            <a:pt x="89" y="245"/>
                          </a:lnTo>
                          <a:lnTo>
                            <a:pt x="86" y="240"/>
                          </a:lnTo>
                          <a:lnTo>
                            <a:pt x="82" y="243"/>
                          </a:lnTo>
                          <a:lnTo>
                            <a:pt x="4" y="287"/>
                          </a:lnTo>
                          <a:lnTo>
                            <a:pt x="0" y="290"/>
                          </a:lnTo>
                          <a:lnTo>
                            <a:pt x="2" y="294"/>
                          </a:lnTo>
                          <a:lnTo>
                            <a:pt x="6" y="302"/>
                          </a:lnTo>
                          <a:lnTo>
                            <a:pt x="10" y="310"/>
                          </a:lnTo>
                          <a:lnTo>
                            <a:pt x="14" y="317"/>
                          </a:lnTo>
                          <a:lnTo>
                            <a:pt x="20" y="324"/>
                          </a:lnTo>
                          <a:lnTo>
                            <a:pt x="25" y="331"/>
                          </a:lnTo>
                          <a:lnTo>
                            <a:pt x="31" y="337"/>
                          </a:lnTo>
                          <a:lnTo>
                            <a:pt x="37" y="344"/>
                          </a:lnTo>
                          <a:lnTo>
                            <a:pt x="43" y="350"/>
                          </a:lnTo>
                          <a:lnTo>
                            <a:pt x="50" y="355"/>
                          </a:lnTo>
                          <a:lnTo>
                            <a:pt x="57" y="360"/>
                          </a:lnTo>
                          <a:lnTo>
                            <a:pt x="64" y="365"/>
                          </a:lnTo>
                          <a:lnTo>
                            <a:pt x="71" y="369"/>
                          </a:lnTo>
                          <a:lnTo>
                            <a:pt x="80" y="373"/>
                          </a:lnTo>
                          <a:lnTo>
                            <a:pt x="87" y="376"/>
                          </a:lnTo>
                          <a:lnTo>
                            <a:pt x="96" y="379"/>
                          </a:lnTo>
                          <a:lnTo>
                            <a:pt x="104" y="381"/>
                          </a:lnTo>
                          <a:lnTo>
                            <a:pt x="108" y="382"/>
                          </a:lnTo>
                          <a:lnTo>
                            <a:pt x="112" y="383"/>
                          </a:lnTo>
                          <a:lnTo>
                            <a:pt x="116" y="384"/>
                          </a:lnTo>
                          <a:lnTo>
                            <a:pt x="121" y="385"/>
                          </a:lnTo>
                          <a:lnTo>
                            <a:pt x="125" y="385"/>
                          </a:lnTo>
                          <a:lnTo>
                            <a:pt x="128" y="386"/>
                          </a:lnTo>
                          <a:lnTo>
                            <a:pt x="133" y="386"/>
                          </a:lnTo>
                          <a:lnTo>
                            <a:pt x="137" y="387"/>
                          </a:lnTo>
                          <a:lnTo>
                            <a:pt x="138" y="395"/>
                          </a:lnTo>
                          <a:lnTo>
                            <a:pt x="140" y="404"/>
                          </a:lnTo>
                          <a:lnTo>
                            <a:pt x="141" y="412"/>
                          </a:lnTo>
                          <a:lnTo>
                            <a:pt x="143" y="420"/>
                          </a:lnTo>
                          <a:lnTo>
                            <a:pt x="144" y="424"/>
                          </a:lnTo>
                          <a:lnTo>
                            <a:pt x="148" y="424"/>
                          </a:lnTo>
                          <a:lnTo>
                            <a:pt x="183" y="424"/>
                          </a:lnTo>
                          <a:lnTo>
                            <a:pt x="189" y="424"/>
                          </a:lnTo>
                          <a:lnTo>
                            <a:pt x="188" y="419"/>
                          </a:lnTo>
                          <a:lnTo>
                            <a:pt x="186" y="410"/>
                          </a:lnTo>
                          <a:lnTo>
                            <a:pt x="185" y="401"/>
                          </a:lnTo>
                          <a:lnTo>
                            <a:pt x="184" y="392"/>
                          </a:lnTo>
                          <a:lnTo>
                            <a:pt x="183" y="382"/>
                          </a:lnTo>
                          <a:lnTo>
                            <a:pt x="191" y="380"/>
                          </a:lnTo>
                          <a:lnTo>
                            <a:pt x="198" y="377"/>
                          </a:lnTo>
                          <a:lnTo>
                            <a:pt x="206" y="374"/>
                          </a:lnTo>
                          <a:lnTo>
                            <a:pt x="213" y="371"/>
                          </a:lnTo>
                          <a:lnTo>
                            <a:pt x="220" y="367"/>
                          </a:lnTo>
                          <a:lnTo>
                            <a:pt x="228" y="363"/>
                          </a:lnTo>
                          <a:lnTo>
                            <a:pt x="234" y="359"/>
                          </a:lnTo>
                          <a:lnTo>
                            <a:pt x="241" y="354"/>
                          </a:lnTo>
                          <a:lnTo>
                            <a:pt x="247" y="349"/>
                          </a:lnTo>
                          <a:lnTo>
                            <a:pt x="254" y="344"/>
                          </a:lnTo>
                          <a:lnTo>
                            <a:pt x="259" y="337"/>
                          </a:lnTo>
                          <a:lnTo>
                            <a:pt x="264" y="331"/>
                          </a:lnTo>
                          <a:lnTo>
                            <a:pt x="269" y="324"/>
                          </a:lnTo>
                          <a:lnTo>
                            <a:pt x="272" y="317"/>
                          </a:lnTo>
                          <a:lnTo>
                            <a:pt x="276" y="309"/>
                          </a:lnTo>
                          <a:lnTo>
                            <a:pt x="278" y="302"/>
                          </a:lnTo>
                          <a:lnTo>
                            <a:pt x="280" y="293"/>
                          </a:lnTo>
                          <a:lnTo>
                            <a:pt x="281" y="283"/>
                          </a:lnTo>
                          <a:lnTo>
                            <a:pt x="281" y="275"/>
                          </a:lnTo>
                          <a:lnTo>
                            <a:pt x="281" y="265"/>
                          </a:lnTo>
                          <a:lnTo>
                            <a:pt x="279" y="257"/>
                          </a:lnTo>
                          <a:lnTo>
                            <a:pt x="276" y="249"/>
                          </a:lnTo>
                          <a:lnTo>
                            <a:pt x="273" y="240"/>
                          </a:lnTo>
                          <a:lnTo>
                            <a:pt x="269" y="233"/>
                          </a:lnTo>
                          <a:lnTo>
                            <a:pt x="264" y="225"/>
                          </a:lnTo>
                          <a:lnTo>
                            <a:pt x="258" y="218"/>
                          </a:lnTo>
                          <a:lnTo>
                            <a:pt x="253" y="212"/>
                          </a:lnTo>
                          <a:lnTo>
                            <a:pt x="246" y="206"/>
                          </a:lnTo>
                          <a:lnTo>
                            <a:pt x="238" y="201"/>
                          </a:lnTo>
                          <a:lnTo>
                            <a:pt x="230" y="196"/>
                          </a:lnTo>
                          <a:lnTo>
                            <a:pt x="222" y="192"/>
                          </a:lnTo>
                          <a:lnTo>
                            <a:pt x="213" y="190"/>
                          </a:lnTo>
                          <a:lnTo>
                            <a:pt x="210" y="189"/>
                          </a:lnTo>
                          <a:lnTo>
                            <a:pt x="206" y="188"/>
                          </a:lnTo>
                          <a:lnTo>
                            <a:pt x="203" y="188"/>
                          </a:lnTo>
                          <a:lnTo>
                            <a:pt x="199" y="187"/>
                          </a:lnTo>
                          <a:lnTo>
                            <a:pt x="196" y="187"/>
                          </a:lnTo>
                          <a:lnTo>
                            <a:pt x="193" y="187"/>
                          </a:lnTo>
                          <a:lnTo>
                            <a:pt x="189" y="187"/>
                          </a:lnTo>
                          <a:lnTo>
                            <a:pt x="186" y="187"/>
                          </a:lnTo>
                          <a:lnTo>
                            <a:pt x="188" y="170"/>
                          </a:lnTo>
                          <a:lnTo>
                            <a:pt x="191" y="154"/>
                          </a:lnTo>
                          <a:lnTo>
                            <a:pt x="195" y="137"/>
                          </a:lnTo>
                          <a:lnTo>
                            <a:pt x="198" y="121"/>
                          </a:lnTo>
                          <a:lnTo>
                            <a:pt x="204" y="127"/>
                          </a:lnTo>
                          <a:lnTo>
                            <a:pt x="210" y="133"/>
                          </a:lnTo>
                          <a:lnTo>
                            <a:pt x="215" y="139"/>
                          </a:lnTo>
                          <a:lnTo>
                            <a:pt x="220" y="146"/>
                          </a:lnTo>
                          <a:lnTo>
                            <a:pt x="225" y="152"/>
                          </a:lnTo>
                          <a:lnTo>
                            <a:pt x="229" y="159"/>
                          </a:lnTo>
                          <a:lnTo>
                            <a:pt x="233" y="166"/>
                          </a:lnTo>
                          <a:lnTo>
                            <a:pt x="237" y="17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Freeform 64"/>
                    <p:cNvSpPr/>
                    <p:nvPr/>
                  </p:nvSpPr>
                  <p:spPr>
                    <a:xfrm>
                      <a:off x="4784400" y="1816200"/>
                      <a:ext cx="38520" cy="83880"/>
                    </a:xfrm>
                    <a:custGeom>
                      <a:avLst/>
                      <a:gdLst>
                        <a:gd name="textAreaLeft" fmla="*/ 0 w 38520"/>
                        <a:gd name="textAreaRight" fmla="*/ 38880 w 38520"/>
                        <a:gd name="textAreaTop" fmla="*/ 0 h 83880"/>
                        <a:gd name="textAreaBottom" fmla="*/ 84240 h 83880"/>
                      </a:gdLst>
                      <a:ahLst/>
                      <a:rect l="textAreaLeft" t="textAreaTop" r="textAreaRight" b="textAreaBottom"/>
                      <a:pathLst>
                        <a:path w="51" h="104">
                          <a:moveTo>
                            <a:pt x="5" y="0"/>
                          </a:moveTo>
                          <a:lnTo>
                            <a:pt x="4" y="4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1" y="19"/>
                          </a:lnTo>
                          <a:lnTo>
                            <a:pt x="0" y="31"/>
                          </a:lnTo>
                          <a:lnTo>
                            <a:pt x="1" y="43"/>
                          </a:lnTo>
                          <a:lnTo>
                            <a:pt x="4" y="55"/>
                          </a:lnTo>
                          <a:lnTo>
                            <a:pt x="8" y="67"/>
                          </a:lnTo>
                          <a:lnTo>
                            <a:pt x="13" y="78"/>
                          </a:lnTo>
                          <a:lnTo>
                            <a:pt x="20" y="88"/>
                          </a:lnTo>
                          <a:lnTo>
                            <a:pt x="29" y="97"/>
                          </a:lnTo>
                          <a:lnTo>
                            <a:pt x="36" y="104"/>
                          </a:lnTo>
                          <a:lnTo>
                            <a:pt x="37" y="94"/>
                          </a:lnTo>
                          <a:lnTo>
                            <a:pt x="39" y="73"/>
                          </a:lnTo>
                          <a:lnTo>
                            <a:pt x="42" y="53"/>
                          </a:lnTo>
                          <a:lnTo>
                            <a:pt x="46" y="32"/>
                          </a:lnTo>
                          <a:lnTo>
                            <a:pt x="50" y="13"/>
                          </a:lnTo>
                          <a:lnTo>
                            <a:pt x="51" y="8"/>
                          </a:lnTo>
                          <a:lnTo>
                            <a:pt x="49" y="7"/>
                          </a:lnTo>
                          <a:lnTo>
                            <a:pt x="47" y="7"/>
                          </a:lnTo>
                          <a:lnTo>
                            <a:pt x="46" y="6"/>
                          </a:lnTo>
                          <a:lnTo>
                            <a:pt x="45" y="6"/>
                          </a:lnTo>
                          <a:lnTo>
                            <a:pt x="44" y="6"/>
                          </a:lnTo>
                          <a:lnTo>
                            <a:pt x="42" y="6"/>
                          </a:lnTo>
                          <a:lnTo>
                            <a:pt x="41" y="5"/>
                          </a:lnTo>
                          <a:lnTo>
                            <a:pt x="38" y="5"/>
                          </a:lnTo>
                          <a:lnTo>
                            <a:pt x="36" y="4"/>
                          </a:lnTo>
                          <a:lnTo>
                            <a:pt x="33" y="3"/>
                          </a:lnTo>
                          <a:lnTo>
                            <a:pt x="30" y="3"/>
                          </a:lnTo>
                          <a:lnTo>
                            <a:pt x="30" y="13"/>
                          </a:lnTo>
                          <a:lnTo>
                            <a:pt x="32" y="13"/>
                          </a:lnTo>
                          <a:lnTo>
                            <a:pt x="35" y="14"/>
                          </a:lnTo>
                          <a:lnTo>
                            <a:pt x="37" y="14"/>
                          </a:lnTo>
                          <a:lnTo>
                            <a:pt x="38" y="15"/>
                          </a:lnTo>
                          <a:lnTo>
                            <a:pt x="39" y="15"/>
                          </a:lnTo>
                          <a:lnTo>
                            <a:pt x="36" y="31"/>
                          </a:lnTo>
                          <a:lnTo>
                            <a:pt x="33" y="48"/>
                          </a:lnTo>
                          <a:lnTo>
                            <a:pt x="31" y="65"/>
                          </a:lnTo>
                          <a:lnTo>
                            <a:pt x="28" y="82"/>
                          </a:lnTo>
                          <a:lnTo>
                            <a:pt x="23" y="74"/>
                          </a:lnTo>
                          <a:lnTo>
                            <a:pt x="18" y="66"/>
                          </a:lnTo>
                          <a:lnTo>
                            <a:pt x="15" y="57"/>
                          </a:lnTo>
                          <a:lnTo>
                            <a:pt x="12" y="48"/>
                          </a:lnTo>
                          <a:lnTo>
                            <a:pt x="10" y="39"/>
                          </a:lnTo>
                          <a:lnTo>
                            <a:pt x="10" y="29"/>
                          </a:lnTo>
                          <a:lnTo>
                            <a:pt x="10" y="20"/>
                          </a:lnTo>
                          <a:lnTo>
                            <a:pt x="12" y="11"/>
                          </a:lnTo>
                          <a:lnTo>
                            <a:pt x="15" y="11"/>
                          </a:lnTo>
                          <a:lnTo>
                            <a:pt x="18" y="11"/>
                          </a:lnTo>
                          <a:lnTo>
                            <a:pt x="21" y="12"/>
                          </a:lnTo>
                          <a:lnTo>
                            <a:pt x="23" y="12"/>
                          </a:lnTo>
                          <a:lnTo>
                            <a:pt x="23" y="1"/>
                          </a:lnTo>
                          <a:lnTo>
                            <a:pt x="22" y="1"/>
                          </a:lnTo>
                          <a:lnTo>
                            <a:pt x="20" y="1"/>
                          </a:lnTo>
                          <a:lnTo>
                            <a:pt x="18" y="1"/>
                          </a:lnTo>
                          <a:lnTo>
                            <a:pt x="16" y="0"/>
                          </a:lnTo>
                          <a:lnTo>
                            <a:pt x="14" y="0"/>
                          </a:lnTo>
                          <a:lnTo>
                            <a:pt x="13" y="0"/>
                          </a:lnTo>
                          <a:lnTo>
                            <a:pt x="11" y="0"/>
                          </a:lnTo>
                          <a:lnTo>
                            <a:pt x="9" y="0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Freeform 65"/>
                    <p:cNvSpPr/>
                    <p:nvPr/>
                  </p:nvSpPr>
                  <p:spPr>
                    <a:xfrm>
                      <a:off x="4800960" y="1786320"/>
                      <a:ext cx="5400" cy="1080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7" h="13">
                          <a:moveTo>
                            <a:pt x="7" y="10"/>
                          </a:move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3"/>
                          </a:lnTo>
                          <a:lnTo>
                            <a:pt x="2" y="12"/>
                          </a:lnTo>
                          <a:lnTo>
                            <a:pt x="4" y="11"/>
                          </a:lnTo>
                          <a:lnTo>
                            <a:pt x="5" y="11"/>
                          </a:lnTo>
                          <a:lnTo>
                            <a:pt x="7" y="1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66"/>
                    <p:cNvSpPr/>
                    <p:nvPr/>
                  </p:nvSpPr>
                  <p:spPr>
                    <a:xfrm>
                      <a:off x="4800960" y="1816200"/>
                      <a:ext cx="5400" cy="1080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7" h="12">
                          <a:moveTo>
                            <a:pt x="7" y="12"/>
                          </a:moveTo>
                          <a:lnTo>
                            <a:pt x="7" y="2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2" y="1"/>
                          </a:ln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2" y="11"/>
                          </a:lnTo>
                          <a:lnTo>
                            <a:pt x="4" y="12"/>
                          </a:lnTo>
                          <a:lnTo>
                            <a:pt x="5" y="12"/>
                          </a:lnTo>
                          <a:lnTo>
                            <a:pt x="7" y="12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Freeform 67"/>
                    <p:cNvSpPr/>
                    <p:nvPr/>
                  </p:nvSpPr>
                  <p:spPr>
                    <a:xfrm>
                      <a:off x="4835160" y="1937160"/>
                      <a:ext cx="40680" cy="91800"/>
                    </a:xfrm>
                    <a:custGeom>
                      <a:avLst/>
                      <a:gdLst>
                        <a:gd name="textAreaLeft" fmla="*/ 0 w 40680"/>
                        <a:gd name="textAreaRight" fmla="*/ 41040 w 40680"/>
                        <a:gd name="textAreaTop" fmla="*/ 0 h 91800"/>
                        <a:gd name="textAreaBottom" fmla="*/ 92160 h 91800"/>
                      </a:gdLst>
                      <a:ahLst/>
                      <a:rect l="textAreaLeft" t="textAreaTop" r="textAreaRight" b="textAreaBottom"/>
                      <a:pathLst>
                        <a:path w="54" h="113">
                          <a:moveTo>
                            <a:pt x="9" y="4"/>
                          </a:moveTo>
                          <a:lnTo>
                            <a:pt x="2" y="0"/>
                          </a:lnTo>
                          <a:lnTo>
                            <a:pt x="1" y="8"/>
                          </a:lnTo>
                          <a:lnTo>
                            <a:pt x="1" y="23"/>
                          </a:lnTo>
                          <a:lnTo>
                            <a:pt x="0" y="37"/>
                          </a:lnTo>
                          <a:lnTo>
                            <a:pt x="0" y="52"/>
                          </a:lnTo>
                          <a:lnTo>
                            <a:pt x="0" y="67"/>
                          </a:lnTo>
                          <a:lnTo>
                            <a:pt x="0" y="76"/>
                          </a:lnTo>
                          <a:lnTo>
                            <a:pt x="0" y="83"/>
                          </a:lnTo>
                          <a:lnTo>
                            <a:pt x="0" y="92"/>
                          </a:lnTo>
                          <a:lnTo>
                            <a:pt x="0" y="100"/>
                          </a:lnTo>
                          <a:lnTo>
                            <a:pt x="0" y="104"/>
                          </a:lnTo>
                          <a:lnTo>
                            <a:pt x="3" y="105"/>
                          </a:lnTo>
                          <a:lnTo>
                            <a:pt x="6" y="105"/>
                          </a:lnTo>
                          <a:lnTo>
                            <a:pt x="8" y="106"/>
                          </a:lnTo>
                          <a:lnTo>
                            <a:pt x="11" y="107"/>
                          </a:lnTo>
                          <a:lnTo>
                            <a:pt x="13" y="107"/>
                          </a:lnTo>
                          <a:lnTo>
                            <a:pt x="15" y="108"/>
                          </a:lnTo>
                          <a:lnTo>
                            <a:pt x="17" y="108"/>
                          </a:lnTo>
                          <a:lnTo>
                            <a:pt x="19" y="109"/>
                          </a:lnTo>
                          <a:lnTo>
                            <a:pt x="21" y="109"/>
                          </a:lnTo>
                          <a:lnTo>
                            <a:pt x="21" y="99"/>
                          </a:lnTo>
                          <a:lnTo>
                            <a:pt x="20" y="99"/>
                          </a:lnTo>
                          <a:lnTo>
                            <a:pt x="18" y="98"/>
                          </a:lnTo>
                          <a:lnTo>
                            <a:pt x="17" y="98"/>
                          </a:lnTo>
                          <a:lnTo>
                            <a:pt x="16" y="98"/>
                          </a:lnTo>
                          <a:lnTo>
                            <a:pt x="15" y="97"/>
                          </a:lnTo>
                          <a:lnTo>
                            <a:pt x="13" y="97"/>
                          </a:lnTo>
                          <a:lnTo>
                            <a:pt x="12" y="96"/>
                          </a:lnTo>
                          <a:lnTo>
                            <a:pt x="10" y="96"/>
                          </a:lnTo>
                          <a:lnTo>
                            <a:pt x="10" y="89"/>
                          </a:lnTo>
                          <a:lnTo>
                            <a:pt x="10" y="81"/>
                          </a:lnTo>
                          <a:lnTo>
                            <a:pt x="9" y="74"/>
                          </a:lnTo>
                          <a:lnTo>
                            <a:pt x="9" y="67"/>
                          </a:lnTo>
                          <a:lnTo>
                            <a:pt x="9" y="55"/>
                          </a:lnTo>
                          <a:lnTo>
                            <a:pt x="10" y="42"/>
                          </a:lnTo>
                          <a:lnTo>
                            <a:pt x="11" y="30"/>
                          </a:lnTo>
                          <a:lnTo>
                            <a:pt x="11" y="17"/>
                          </a:lnTo>
                          <a:lnTo>
                            <a:pt x="20" y="25"/>
                          </a:lnTo>
                          <a:lnTo>
                            <a:pt x="28" y="34"/>
                          </a:lnTo>
                          <a:lnTo>
                            <a:pt x="34" y="44"/>
                          </a:lnTo>
                          <a:lnTo>
                            <a:pt x="39" y="55"/>
                          </a:lnTo>
                          <a:lnTo>
                            <a:pt x="42" y="66"/>
                          </a:lnTo>
                          <a:lnTo>
                            <a:pt x="44" y="78"/>
                          </a:lnTo>
                          <a:lnTo>
                            <a:pt x="44" y="90"/>
                          </a:lnTo>
                          <a:lnTo>
                            <a:pt x="42" y="102"/>
                          </a:lnTo>
                          <a:lnTo>
                            <a:pt x="40" y="102"/>
                          </a:lnTo>
                          <a:lnTo>
                            <a:pt x="38" y="102"/>
                          </a:lnTo>
                          <a:lnTo>
                            <a:pt x="36" y="102"/>
                          </a:lnTo>
                          <a:lnTo>
                            <a:pt x="34" y="101"/>
                          </a:lnTo>
                          <a:lnTo>
                            <a:pt x="32" y="101"/>
                          </a:lnTo>
                          <a:lnTo>
                            <a:pt x="30" y="101"/>
                          </a:lnTo>
                          <a:lnTo>
                            <a:pt x="28" y="101"/>
                          </a:lnTo>
                          <a:lnTo>
                            <a:pt x="26" y="100"/>
                          </a:lnTo>
                          <a:lnTo>
                            <a:pt x="26" y="110"/>
                          </a:lnTo>
                          <a:lnTo>
                            <a:pt x="29" y="111"/>
                          </a:lnTo>
                          <a:lnTo>
                            <a:pt x="31" y="111"/>
                          </a:lnTo>
                          <a:lnTo>
                            <a:pt x="33" y="111"/>
                          </a:lnTo>
                          <a:lnTo>
                            <a:pt x="35" y="112"/>
                          </a:lnTo>
                          <a:lnTo>
                            <a:pt x="38" y="112"/>
                          </a:lnTo>
                          <a:lnTo>
                            <a:pt x="40" y="112"/>
                          </a:lnTo>
                          <a:lnTo>
                            <a:pt x="43" y="113"/>
                          </a:lnTo>
                          <a:lnTo>
                            <a:pt x="45" y="113"/>
                          </a:lnTo>
                          <a:lnTo>
                            <a:pt x="49" y="113"/>
                          </a:lnTo>
                          <a:lnTo>
                            <a:pt x="50" y="109"/>
                          </a:lnTo>
                          <a:lnTo>
                            <a:pt x="50" y="108"/>
                          </a:lnTo>
                          <a:lnTo>
                            <a:pt x="50" y="107"/>
                          </a:lnTo>
                          <a:lnTo>
                            <a:pt x="51" y="107"/>
                          </a:lnTo>
                          <a:lnTo>
                            <a:pt x="51" y="106"/>
                          </a:lnTo>
                          <a:lnTo>
                            <a:pt x="54" y="91"/>
                          </a:lnTo>
                          <a:lnTo>
                            <a:pt x="54" y="76"/>
                          </a:lnTo>
                          <a:lnTo>
                            <a:pt x="51" y="62"/>
                          </a:lnTo>
                          <a:lnTo>
                            <a:pt x="47" y="48"/>
                          </a:lnTo>
                          <a:lnTo>
                            <a:pt x="41" y="35"/>
                          </a:lnTo>
                          <a:lnTo>
                            <a:pt x="32" y="23"/>
                          </a:lnTo>
                          <a:lnTo>
                            <a:pt x="21" y="13"/>
                          </a:lnTo>
                          <a:lnTo>
                            <a:pt x="9" y="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Freeform 68"/>
                    <p:cNvSpPr/>
                    <p:nvPr/>
                  </p:nvSpPr>
                  <p:spPr>
                    <a:xfrm>
                      <a:off x="4849560" y="2017440"/>
                      <a:ext cx="3960" cy="8280"/>
                    </a:xfrm>
                    <a:custGeom>
                      <a:avLst/>
                      <a:gdLst>
                        <a:gd name="textAreaLeft" fmla="*/ 0 w 3960"/>
                        <a:gd name="textAreaRight" fmla="*/ 4320 w 396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1" y="11"/>
                          </a:lnTo>
                          <a:lnTo>
                            <a:pt x="3" y="11"/>
                          </a:lnTo>
                          <a:lnTo>
                            <a:pt x="4" y="11"/>
                          </a:lnTo>
                          <a:lnTo>
                            <a:pt x="5" y="1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9" name="Group 69"/>
              <p:cNvGrpSpPr/>
              <p:nvPr/>
            </p:nvGrpSpPr>
            <p:grpSpPr>
              <a:xfrm>
                <a:off x="1763280" y="2544120"/>
                <a:ext cx="2261880" cy="854280"/>
                <a:chOff x="1763280" y="2544120"/>
                <a:chExt cx="2261880" cy="854280"/>
              </a:xfrm>
            </p:grpSpPr>
            <p:sp>
              <p:nvSpPr>
                <p:cNvPr id="740" name="Rectangle 70"/>
                <p:cNvSpPr/>
                <p:nvPr/>
              </p:nvSpPr>
              <p:spPr>
                <a:xfrm>
                  <a:off x="1763280" y="3061080"/>
                  <a:ext cx="2261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MFI Networks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Group 71"/>
                <p:cNvGrpSpPr/>
                <p:nvPr/>
              </p:nvGrpSpPr>
              <p:grpSpPr>
                <a:xfrm>
                  <a:off x="2766960" y="2544120"/>
                  <a:ext cx="483120" cy="502560"/>
                  <a:chOff x="2766960" y="2544120"/>
                  <a:chExt cx="483120" cy="502560"/>
                </a:xfrm>
              </p:grpSpPr>
              <p:sp>
                <p:nvSpPr>
                  <p:cNvPr id="742" name="AutoShape 72"/>
                  <p:cNvSpPr/>
                  <p:nvPr/>
                </p:nvSpPr>
                <p:spPr>
                  <a:xfrm>
                    <a:off x="2766960" y="2544120"/>
                    <a:ext cx="483120" cy="502560"/>
                  </a:xfrm>
                  <a:custGeom>
                    <a:avLst/>
                    <a:gdLst>
                      <a:gd name="textAreaLeft" fmla="*/ 23400 w 483120"/>
                      <a:gd name="textAreaRight" fmla="*/ 459720 w 483120"/>
                      <a:gd name="textAreaTop" fmla="*/ 23400 h 502560"/>
                      <a:gd name="textAreaBottom" fmla="*/ 479160 h 502560"/>
                    </a:gdLst>
                    <a:ahLst/>
                    <a:rect l="textAreaLeft" t="textAreaTop" r="textAreaRight" b="textAreaBottom"/>
                    <a:pathLst>
                      <a:path w="21600" h="2246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69"/>
                        </a:lnTo>
                        <a:arcTo wR="3600" hR="3600" stAng="10800000" swAng="-5400000"/>
                        <a:lnTo>
                          <a:pt x="18000" y="2246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969696">
                      <a:alpha val="4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Group 73"/>
                  <p:cNvGrpSpPr/>
                  <p:nvPr/>
                </p:nvGrpSpPr>
                <p:grpSpPr>
                  <a:xfrm>
                    <a:off x="2766960" y="2544120"/>
                    <a:ext cx="482760" cy="477720"/>
                    <a:chOff x="2766960" y="2544120"/>
                    <a:chExt cx="482760" cy="477720"/>
                  </a:xfrm>
                </p:grpSpPr>
                <p:cxnSp>
                  <p:nvCxnSpPr>
                    <p:cNvPr id="744" name="AutoShape 74"/>
                    <p:cNvCxnSpPr/>
                    <p:nvPr/>
                  </p:nvCxnSpPr>
                  <p:spPr>
                    <a:xfrm>
                      <a:off x="3029400" y="2732760"/>
                      <a:ext cx="108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grpSp>
                  <p:nvGrpSpPr>
                    <p:cNvPr id="745" name="Group 75"/>
                    <p:cNvGrpSpPr/>
                    <p:nvPr/>
                  </p:nvGrpSpPr>
                  <p:grpSpPr>
                    <a:xfrm>
                      <a:off x="2938320" y="2544120"/>
                      <a:ext cx="169200" cy="150840"/>
                      <a:chOff x="2938320" y="2544120"/>
                      <a:chExt cx="169200" cy="150840"/>
                    </a:xfrm>
                  </p:grpSpPr>
                  <p:sp>
                    <p:nvSpPr>
                      <p:cNvPr id="746" name="Freeform 76"/>
                      <p:cNvSpPr/>
                      <p:nvPr/>
                    </p:nvSpPr>
                    <p:spPr>
                      <a:xfrm>
                        <a:off x="2977200" y="2583360"/>
                        <a:ext cx="54360" cy="3240"/>
                      </a:xfrm>
                      <a:custGeom>
                        <a:avLst/>
                        <a:gdLst>
                          <a:gd name="textAreaLeft" fmla="*/ 0 w 54360"/>
                          <a:gd name="textAreaRight" fmla="*/ 54720 w 5436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601" h="34">
                            <a:moveTo>
                              <a:pt x="9" y="0"/>
                            </a:moveTo>
                            <a:lnTo>
                              <a:pt x="19" y="0"/>
                            </a:lnTo>
                            <a:lnTo>
                              <a:pt x="26" y="0"/>
                            </a:lnTo>
                            <a:lnTo>
                              <a:pt x="35" y="0"/>
                            </a:lnTo>
                            <a:lnTo>
                              <a:pt x="45" y="1"/>
                            </a:lnTo>
                            <a:lnTo>
                              <a:pt x="54" y="1"/>
                            </a:lnTo>
                            <a:lnTo>
                              <a:pt x="63" y="1"/>
                            </a:lnTo>
                            <a:lnTo>
                              <a:pt x="71" y="3"/>
                            </a:lnTo>
                            <a:lnTo>
                              <a:pt x="81" y="3"/>
                            </a:lnTo>
                            <a:lnTo>
                              <a:pt x="89" y="3"/>
                            </a:lnTo>
                            <a:lnTo>
                              <a:pt x="98" y="3"/>
                            </a:lnTo>
                            <a:lnTo>
                              <a:pt x="106" y="4"/>
                            </a:lnTo>
                            <a:lnTo>
                              <a:pt x="117" y="4"/>
                            </a:lnTo>
                            <a:lnTo>
                              <a:pt x="124" y="4"/>
                            </a:lnTo>
                            <a:lnTo>
                              <a:pt x="133" y="4"/>
                            </a:lnTo>
                            <a:lnTo>
                              <a:pt x="143" y="4"/>
                            </a:lnTo>
                            <a:lnTo>
                              <a:pt x="152" y="5"/>
                            </a:lnTo>
                            <a:lnTo>
                              <a:pt x="159" y="5"/>
                            </a:lnTo>
                            <a:lnTo>
                              <a:pt x="169" y="5"/>
                            </a:lnTo>
                            <a:lnTo>
                              <a:pt x="178" y="5"/>
                            </a:lnTo>
                            <a:lnTo>
                              <a:pt x="187" y="5"/>
                            </a:lnTo>
                            <a:lnTo>
                              <a:pt x="195" y="5"/>
                            </a:lnTo>
                            <a:lnTo>
                              <a:pt x="204" y="5"/>
                            </a:lnTo>
                            <a:lnTo>
                              <a:pt x="213" y="5"/>
                            </a:lnTo>
                            <a:lnTo>
                              <a:pt x="222" y="7"/>
                            </a:lnTo>
                            <a:lnTo>
                              <a:pt x="230" y="7"/>
                            </a:lnTo>
                            <a:lnTo>
                              <a:pt x="239" y="7"/>
                            </a:lnTo>
                            <a:lnTo>
                              <a:pt x="248" y="7"/>
                            </a:lnTo>
                            <a:lnTo>
                              <a:pt x="257" y="7"/>
                            </a:lnTo>
                            <a:lnTo>
                              <a:pt x="266" y="7"/>
                            </a:lnTo>
                            <a:lnTo>
                              <a:pt x="274" y="7"/>
                            </a:lnTo>
                            <a:lnTo>
                              <a:pt x="283" y="7"/>
                            </a:lnTo>
                            <a:lnTo>
                              <a:pt x="292" y="7"/>
                            </a:lnTo>
                            <a:lnTo>
                              <a:pt x="302" y="7"/>
                            </a:lnTo>
                            <a:lnTo>
                              <a:pt x="309" y="7"/>
                            </a:lnTo>
                            <a:lnTo>
                              <a:pt x="318" y="7"/>
                            </a:lnTo>
                            <a:lnTo>
                              <a:pt x="328" y="7"/>
                            </a:lnTo>
                            <a:lnTo>
                              <a:pt x="335" y="7"/>
                            </a:lnTo>
                            <a:lnTo>
                              <a:pt x="344" y="7"/>
                            </a:lnTo>
                            <a:lnTo>
                              <a:pt x="354" y="7"/>
                            </a:lnTo>
                            <a:lnTo>
                              <a:pt x="363" y="7"/>
                            </a:lnTo>
                            <a:lnTo>
                              <a:pt x="370" y="7"/>
                            </a:lnTo>
                            <a:lnTo>
                              <a:pt x="380" y="7"/>
                            </a:lnTo>
                            <a:lnTo>
                              <a:pt x="389" y="7"/>
                            </a:lnTo>
                            <a:lnTo>
                              <a:pt x="396" y="7"/>
                            </a:lnTo>
                            <a:lnTo>
                              <a:pt x="406" y="7"/>
                            </a:lnTo>
                            <a:lnTo>
                              <a:pt x="415" y="7"/>
                            </a:lnTo>
                            <a:lnTo>
                              <a:pt x="424" y="7"/>
                            </a:lnTo>
                            <a:lnTo>
                              <a:pt x="433" y="8"/>
                            </a:lnTo>
                            <a:lnTo>
                              <a:pt x="441" y="7"/>
                            </a:lnTo>
                            <a:lnTo>
                              <a:pt x="450" y="7"/>
                            </a:lnTo>
                            <a:lnTo>
                              <a:pt x="459" y="7"/>
                            </a:lnTo>
                            <a:lnTo>
                              <a:pt x="468" y="7"/>
                            </a:lnTo>
                            <a:lnTo>
                              <a:pt x="476" y="7"/>
                            </a:lnTo>
                            <a:lnTo>
                              <a:pt x="485" y="7"/>
                            </a:lnTo>
                            <a:lnTo>
                              <a:pt x="493" y="7"/>
                            </a:lnTo>
                            <a:lnTo>
                              <a:pt x="504" y="7"/>
                            </a:lnTo>
                            <a:lnTo>
                              <a:pt x="511" y="7"/>
                            </a:lnTo>
                            <a:lnTo>
                              <a:pt x="520" y="7"/>
                            </a:lnTo>
                            <a:lnTo>
                              <a:pt x="528" y="7"/>
                            </a:lnTo>
                            <a:lnTo>
                              <a:pt x="537" y="7"/>
                            </a:lnTo>
                            <a:lnTo>
                              <a:pt x="546" y="7"/>
                            </a:lnTo>
                            <a:lnTo>
                              <a:pt x="556" y="7"/>
                            </a:lnTo>
                            <a:lnTo>
                              <a:pt x="565" y="7"/>
                            </a:lnTo>
                            <a:lnTo>
                              <a:pt x="574" y="7"/>
                            </a:lnTo>
                            <a:lnTo>
                              <a:pt x="577" y="7"/>
                            </a:lnTo>
                            <a:lnTo>
                              <a:pt x="580" y="8"/>
                            </a:lnTo>
                            <a:lnTo>
                              <a:pt x="583" y="9"/>
                            </a:lnTo>
                            <a:lnTo>
                              <a:pt x="588" y="9"/>
                            </a:lnTo>
                            <a:lnTo>
                              <a:pt x="591" y="11"/>
                            </a:lnTo>
                            <a:lnTo>
                              <a:pt x="594" y="12"/>
                            </a:lnTo>
                            <a:lnTo>
                              <a:pt x="597" y="12"/>
                            </a:lnTo>
                            <a:lnTo>
                              <a:pt x="601" y="14"/>
                            </a:lnTo>
                            <a:lnTo>
                              <a:pt x="600" y="18"/>
                            </a:lnTo>
                            <a:lnTo>
                              <a:pt x="597" y="23"/>
                            </a:lnTo>
                            <a:lnTo>
                              <a:pt x="595" y="27"/>
                            </a:lnTo>
                            <a:lnTo>
                              <a:pt x="594" y="31"/>
                            </a:lnTo>
                            <a:lnTo>
                              <a:pt x="585" y="31"/>
                            </a:lnTo>
                            <a:lnTo>
                              <a:pt x="579" y="31"/>
                            </a:lnTo>
                            <a:lnTo>
                              <a:pt x="569" y="31"/>
                            </a:lnTo>
                            <a:lnTo>
                              <a:pt x="562" y="31"/>
                            </a:lnTo>
                            <a:lnTo>
                              <a:pt x="554" y="31"/>
                            </a:lnTo>
                            <a:lnTo>
                              <a:pt x="546" y="31"/>
                            </a:lnTo>
                            <a:lnTo>
                              <a:pt x="539" y="31"/>
                            </a:lnTo>
                            <a:lnTo>
                              <a:pt x="531" y="33"/>
                            </a:lnTo>
                            <a:lnTo>
                              <a:pt x="523" y="33"/>
                            </a:lnTo>
                            <a:lnTo>
                              <a:pt x="516" y="33"/>
                            </a:lnTo>
                            <a:lnTo>
                              <a:pt x="508" y="33"/>
                            </a:lnTo>
                            <a:lnTo>
                              <a:pt x="501" y="33"/>
                            </a:lnTo>
                            <a:lnTo>
                              <a:pt x="493" y="33"/>
                            </a:lnTo>
                            <a:lnTo>
                              <a:pt x="485" y="33"/>
                            </a:lnTo>
                            <a:lnTo>
                              <a:pt x="478" y="33"/>
                            </a:lnTo>
                            <a:lnTo>
                              <a:pt x="470" y="33"/>
                            </a:lnTo>
                            <a:lnTo>
                              <a:pt x="462" y="33"/>
                            </a:lnTo>
                            <a:lnTo>
                              <a:pt x="455" y="33"/>
                            </a:lnTo>
                            <a:lnTo>
                              <a:pt x="447" y="33"/>
                            </a:lnTo>
                            <a:lnTo>
                              <a:pt x="439" y="33"/>
                            </a:lnTo>
                            <a:lnTo>
                              <a:pt x="432" y="33"/>
                            </a:lnTo>
                            <a:lnTo>
                              <a:pt x="424" y="33"/>
                            </a:lnTo>
                            <a:lnTo>
                              <a:pt x="416" y="33"/>
                            </a:lnTo>
                            <a:lnTo>
                              <a:pt x="409" y="33"/>
                            </a:lnTo>
                            <a:lnTo>
                              <a:pt x="401" y="33"/>
                            </a:lnTo>
                            <a:lnTo>
                              <a:pt x="393" y="33"/>
                            </a:lnTo>
                            <a:lnTo>
                              <a:pt x="386" y="33"/>
                            </a:lnTo>
                            <a:lnTo>
                              <a:pt x="378" y="33"/>
                            </a:lnTo>
                            <a:lnTo>
                              <a:pt x="370" y="33"/>
                            </a:lnTo>
                            <a:lnTo>
                              <a:pt x="363" y="33"/>
                            </a:lnTo>
                            <a:lnTo>
                              <a:pt x="357" y="33"/>
                            </a:lnTo>
                            <a:lnTo>
                              <a:pt x="349" y="34"/>
                            </a:lnTo>
                            <a:lnTo>
                              <a:pt x="340" y="33"/>
                            </a:lnTo>
                            <a:lnTo>
                              <a:pt x="332" y="33"/>
                            </a:lnTo>
                            <a:lnTo>
                              <a:pt x="325" y="33"/>
                            </a:lnTo>
                            <a:lnTo>
                              <a:pt x="318" y="33"/>
                            </a:lnTo>
                            <a:lnTo>
                              <a:pt x="309" y="33"/>
                            </a:lnTo>
                            <a:lnTo>
                              <a:pt x="302" y="33"/>
                            </a:lnTo>
                            <a:lnTo>
                              <a:pt x="294" y="33"/>
                            </a:lnTo>
                            <a:lnTo>
                              <a:pt x="288" y="33"/>
                            </a:lnTo>
                            <a:lnTo>
                              <a:pt x="279" y="31"/>
                            </a:lnTo>
                            <a:lnTo>
                              <a:pt x="271" y="31"/>
                            </a:lnTo>
                            <a:lnTo>
                              <a:pt x="263" y="31"/>
                            </a:lnTo>
                            <a:lnTo>
                              <a:pt x="257" y="31"/>
                            </a:lnTo>
                            <a:lnTo>
                              <a:pt x="248" y="31"/>
                            </a:lnTo>
                            <a:lnTo>
                              <a:pt x="240" y="31"/>
                            </a:lnTo>
                            <a:lnTo>
                              <a:pt x="233" y="31"/>
                            </a:lnTo>
                            <a:lnTo>
                              <a:pt x="225" y="31"/>
                            </a:lnTo>
                            <a:lnTo>
                              <a:pt x="218" y="31"/>
                            </a:lnTo>
                            <a:lnTo>
                              <a:pt x="210" y="31"/>
                            </a:lnTo>
                            <a:lnTo>
                              <a:pt x="202" y="31"/>
                            </a:lnTo>
                            <a:lnTo>
                              <a:pt x="195" y="31"/>
                            </a:lnTo>
                            <a:lnTo>
                              <a:pt x="187" y="30"/>
                            </a:lnTo>
                            <a:lnTo>
                              <a:pt x="179" y="30"/>
                            </a:lnTo>
                            <a:lnTo>
                              <a:pt x="172" y="30"/>
                            </a:lnTo>
                            <a:lnTo>
                              <a:pt x="164" y="30"/>
                            </a:lnTo>
                            <a:lnTo>
                              <a:pt x="156" y="30"/>
                            </a:lnTo>
                            <a:lnTo>
                              <a:pt x="149" y="30"/>
                            </a:lnTo>
                            <a:lnTo>
                              <a:pt x="141" y="30"/>
                            </a:lnTo>
                            <a:lnTo>
                              <a:pt x="133" y="30"/>
                            </a:lnTo>
                            <a:lnTo>
                              <a:pt x="126" y="29"/>
                            </a:lnTo>
                            <a:lnTo>
                              <a:pt x="120" y="29"/>
                            </a:lnTo>
                            <a:lnTo>
                              <a:pt x="112" y="29"/>
                            </a:lnTo>
                            <a:lnTo>
                              <a:pt x="104" y="29"/>
                            </a:lnTo>
                            <a:lnTo>
                              <a:pt x="100" y="27"/>
                            </a:lnTo>
                            <a:lnTo>
                              <a:pt x="97" y="27"/>
                            </a:lnTo>
                            <a:lnTo>
                              <a:pt x="92" y="26"/>
                            </a:lnTo>
                            <a:lnTo>
                              <a:pt x="89" y="26"/>
                            </a:lnTo>
                            <a:lnTo>
                              <a:pt x="83" y="26"/>
                            </a:lnTo>
                            <a:lnTo>
                              <a:pt x="77" y="26"/>
                            </a:lnTo>
                            <a:lnTo>
                              <a:pt x="72" y="26"/>
                            </a:lnTo>
                            <a:lnTo>
                              <a:pt x="69" y="26"/>
                            </a:lnTo>
                            <a:lnTo>
                              <a:pt x="65" y="26"/>
                            </a:lnTo>
                            <a:lnTo>
                              <a:pt x="61" y="27"/>
                            </a:lnTo>
                            <a:lnTo>
                              <a:pt x="55" y="27"/>
                            </a:lnTo>
                            <a:lnTo>
                              <a:pt x="49" y="29"/>
                            </a:lnTo>
                            <a:lnTo>
                              <a:pt x="45" y="29"/>
                            </a:lnTo>
                            <a:lnTo>
                              <a:pt x="42" y="29"/>
                            </a:lnTo>
                            <a:lnTo>
                              <a:pt x="39" y="29"/>
                            </a:lnTo>
                            <a:lnTo>
                              <a:pt x="35" y="29"/>
                            </a:lnTo>
                            <a:lnTo>
                              <a:pt x="28" y="29"/>
                            </a:lnTo>
                            <a:lnTo>
                              <a:pt x="23" y="27"/>
                            </a:lnTo>
                            <a:lnTo>
                              <a:pt x="17" y="25"/>
                            </a:lnTo>
                            <a:lnTo>
                              <a:pt x="11" y="23"/>
                            </a:lnTo>
                            <a:lnTo>
                              <a:pt x="5" y="19"/>
                            </a:lnTo>
                            <a:lnTo>
                              <a:pt x="0" y="16"/>
                            </a:lnTo>
                            <a:lnTo>
                              <a:pt x="3" y="11"/>
                            </a:lnTo>
                            <a:lnTo>
                              <a:pt x="6" y="7"/>
                            </a:lnTo>
                            <a:lnTo>
                              <a:pt x="9" y="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Freeform 77"/>
                      <p:cNvSpPr/>
                      <p:nvPr/>
                    </p:nvSpPr>
                    <p:spPr>
                      <a:xfrm>
                        <a:off x="3027600" y="2562480"/>
                        <a:ext cx="22320" cy="194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320 w 2232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249" h="195">
                            <a:moveTo>
                              <a:pt x="5" y="0"/>
                            </a:moveTo>
                            <a:lnTo>
                              <a:pt x="8" y="2"/>
                            </a:ln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20" y="9"/>
                            </a:lnTo>
                            <a:lnTo>
                              <a:pt x="25" y="10"/>
                            </a:lnTo>
                            <a:lnTo>
                              <a:pt x="28" y="13"/>
                            </a:lnTo>
                            <a:lnTo>
                              <a:pt x="32" y="14"/>
                            </a:lnTo>
                            <a:lnTo>
                              <a:pt x="37" y="17"/>
                            </a:lnTo>
                            <a:lnTo>
                              <a:pt x="40" y="20"/>
                            </a:lnTo>
                            <a:lnTo>
                              <a:pt x="44" y="21"/>
                            </a:lnTo>
                            <a:lnTo>
                              <a:pt x="47" y="24"/>
                            </a:lnTo>
                            <a:lnTo>
                              <a:pt x="52" y="26"/>
                            </a:lnTo>
                            <a:lnTo>
                              <a:pt x="57" y="28"/>
                            </a:lnTo>
                            <a:lnTo>
                              <a:pt x="60" y="32"/>
                            </a:lnTo>
                            <a:lnTo>
                              <a:pt x="64" y="33"/>
                            </a:lnTo>
                            <a:lnTo>
                              <a:pt x="69" y="36"/>
                            </a:lnTo>
                            <a:lnTo>
                              <a:pt x="72" y="39"/>
                            </a:lnTo>
                            <a:lnTo>
                              <a:pt x="77" y="41"/>
                            </a:lnTo>
                            <a:lnTo>
                              <a:pt x="80" y="44"/>
                            </a:lnTo>
                            <a:lnTo>
                              <a:pt x="84" y="47"/>
                            </a:lnTo>
                            <a:lnTo>
                              <a:pt x="87" y="48"/>
                            </a:lnTo>
                            <a:lnTo>
                              <a:pt x="92" y="51"/>
                            </a:lnTo>
                            <a:lnTo>
                              <a:pt x="95" y="54"/>
                            </a:lnTo>
                            <a:lnTo>
                              <a:pt x="99" y="57"/>
                            </a:lnTo>
                            <a:lnTo>
                              <a:pt x="104" y="59"/>
                            </a:lnTo>
                            <a:lnTo>
                              <a:pt x="107" y="62"/>
                            </a:lnTo>
                            <a:lnTo>
                              <a:pt x="110" y="65"/>
                            </a:lnTo>
                            <a:lnTo>
                              <a:pt x="115" y="68"/>
                            </a:lnTo>
                            <a:lnTo>
                              <a:pt x="118" y="70"/>
                            </a:lnTo>
                            <a:lnTo>
                              <a:pt x="122" y="73"/>
                            </a:lnTo>
                            <a:lnTo>
                              <a:pt x="125" y="76"/>
                            </a:lnTo>
                            <a:lnTo>
                              <a:pt x="130" y="80"/>
                            </a:lnTo>
                            <a:lnTo>
                              <a:pt x="135" y="81"/>
                            </a:lnTo>
                            <a:lnTo>
                              <a:pt x="138" y="84"/>
                            </a:lnTo>
                            <a:lnTo>
                              <a:pt x="141" y="88"/>
                            </a:lnTo>
                            <a:lnTo>
                              <a:pt x="145" y="91"/>
                            </a:lnTo>
                            <a:lnTo>
                              <a:pt x="148" y="94"/>
                            </a:lnTo>
                            <a:lnTo>
                              <a:pt x="153" y="96"/>
                            </a:lnTo>
                            <a:lnTo>
                              <a:pt x="156" y="99"/>
                            </a:lnTo>
                            <a:lnTo>
                              <a:pt x="161" y="103"/>
                            </a:lnTo>
                            <a:lnTo>
                              <a:pt x="164" y="106"/>
                            </a:lnTo>
                            <a:lnTo>
                              <a:pt x="168" y="109"/>
                            </a:lnTo>
                            <a:lnTo>
                              <a:pt x="171" y="111"/>
                            </a:lnTo>
                            <a:lnTo>
                              <a:pt x="176" y="114"/>
                            </a:lnTo>
                            <a:lnTo>
                              <a:pt x="179" y="117"/>
                            </a:lnTo>
                            <a:lnTo>
                              <a:pt x="184" y="120"/>
                            </a:lnTo>
                            <a:lnTo>
                              <a:pt x="187" y="124"/>
                            </a:lnTo>
                            <a:lnTo>
                              <a:pt x="190" y="127"/>
                            </a:lnTo>
                            <a:lnTo>
                              <a:pt x="193" y="129"/>
                            </a:lnTo>
                            <a:lnTo>
                              <a:pt x="197" y="132"/>
                            </a:lnTo>
                            <a:lnTo>
                              <a:pt x="200" y="135"/>
                            </a:lnTo>
                            <a:lnTo>
                              <a:pt x="205" y="139"/>
                            </a:lnTo>
                            <a:lnTo>
                              <a:pt x="208" y="142"/>
                            </a:lnTo>
                            <a:lnTo>
                              <a:pt x="213" y="144"/>
                            </a:lnTo>
                            <a:lnTo>
                              <a:pt x="216" y="149"/>
                            </a:lnTo>
                            <a:lnTo>
                              <a:pt x="220" y="151"/>
                            </a:lnTo>
                            <a:lnTo>
                              <a:pt x="223" y="154"/>
                            </a:lnTo>
                            <a:lnTo>
                              <a:pt x="226" y="158"/>
                            </a:lnTo>
                            <a:lnTo>
                              <a:pt x="231" y="161"/>
                            </a:lnTo>
                            <a:lnTo>
                              <a:pt x="234" y="164"/>
                            </a:lnTo>
                            <a:lnTo>
                              <a:pt x="239" y="168"/>
                            </a:lnTo>
                            <a:lnTo>
                              <a:pt x="242" y="171"/>
                            </a:lnTo>
                            <a:lnTo>
                              <a:pt x="246" y="173"/>
                            </a:lnTo>
                            <a:lnTo>
                              <a:pt x="249" y="177"/>
                            </a:lnTo>
                            <a:lnTo>
                              <a:pt x="246" y="180"/>
                            </a:lnTo>
                            <a:lnTo>
                              <a:pt x="245" y="186"/>
                            </a:lnTo>
                            <a:lnTo>
                              <a:pt x="240" y="190"/>
                            </a:lnTo>
                            <a:lnTo>
                              <a:pt x="239" y="195"/>
                            </a:lnTo>
                            <a:lnTo>
                              <a:pt x="234" y="192"/>
                            </a:lnTo>
                            <a:lnTo>
                              <a:pt x="231" y="191"/>
                            </a:lnTo>
                            <a:lnTo>
                              <a:pt x="226" y="188"/>
                            </a:lnTo>
                            <a:lnTo>
                              <a:pt x="222" y="187"/>
                            </a:lnTo>
                            <a:lnTo>
                              <a:pt x="219" y="184"/>
                            </a:lnTo>
                            <a:lnTo>
                              <a:pt x="214" y="183"/>
                            </a:lnTo>
                            <a:lnTo>
                              <a:pt x="211" y="180"/>
                            </a:lnTo>
                            <a:lnTo>
                              <a:pt x="207" y="177"/>
                            </a:lnTo>
                            <a:lnTo>
                              <a:pt x="203" y="175"/>
                            </a:lnTo>
                            <a:lnTo>
                              <a:pt x="200" y="173"/>
                            </a:lnTo>
                            <a:lnTo>
                              <a:pt x="196" y="171"/>
                            </a:lnTo>
                            <a:lnTo>
                              <a:pt x="193" y="168"/>
                            </a:lnTo>
                            <a:lnTo>
                              <a:pt x="188" y="165"/>
                            </a:lnTo>
                            <a:lnTo>
                              <a:pt x="185" y="162"/>
                            </a:lnTo>
                            <a:lnTo>
                              <a:pt x="181" y="160"/>
                            </a:lnTo>
                            <a:lnTo>
                              <a:pt x="177" y="158"/>
                            </a:lnTo>
                            <a:lnTo>
                              <a:pt x="174" y="154"/>
                            </a:lnTo>
                            <a:lnTo>
                              <a:pt x="170" y="151"/>
                            </a:lnTo>
                            <a:lnTo>
                              <a:pt x="167" y="149"/>
                            </a:lnTo>
                            <a:lnTo>
                              <a:pt x="162" y="146"/>
                            </a:lnTo>
                            <a:lnTo>
                              <a:pt x="159" y="143"/>
                            </a:lnTo>
                            <a:lnTo>
                              <a:pt x="156" y="140"/>
                            </a:lnTo>
                            <a:lnTo>
                              <a:pt x="151" y="138"/>
                            </a:lnTo>
                            <a:lnTo>
                              <a:pt x="148" y="135"/>
                            </a:lnTo>
                            <a:lnTo>
                              <a:pt x="145" y="131"/>
                            </a:lnTo>
                            <a:lnTo>
                              <a:pt x="141" y="128"/>
                            </a:lnTo>
                            <a:lnTo>
                              <a:pt x="138" y="125"/>
                            </a:lnTo>
                            <a:lnTo>
                              <a:pt x="135" y="124"/>
                            </a:lnTo>
                            <a:lnTo>
                              <a:pt x="132" y="120"/>
                            </a:lnTo>
                            <a:lnTo>
                              <a:pt x="127" y="117"/>
                            </a:lnTo>
                            <a:lnTo>
                              <a:pt x="124" y="114"/>
                            </a:lnTo>
                            <a:lnTo>
                              <a:pt x="121" y="113"/>
                            </a:lnTo>
                            <a:lnTo>
                              <a:pt x="118" y="109"/>
                            </a:lnTo>
                            <a:lnTo>
                              <a:pt x="113" y="106"/>
                            </a:lnTo>
                            <a:lnTo>
                              <a:pt x="110" y="103"/>
                            </a:lnTo>
                            <a:lnTo>
                              <a:pt x="107" y="101"/>
                            </a:lnTo>
                            <a:lnTo>
                              <a:pt x="104" y="96"/>
                            </a:lnTo>
                            <a:lnTo>
                              <a:pt x="99" y="94"/>
                            </a:lnTo>
                            <a:lnTo>
                              <a:pt x="96" y="91"/>
                            </a:lnTo>
                            <a:lnTo>
                              <a:pt x="93" y="88"/>
                            </a:lnTo>
                            <a:lnTo>
                              <a:pt x="89" y="85"/>
                            </a:lnTo>
                            <a:lnTo>
                              <a:pt x="86" y="83"/>
                            </a:lnTo>
                            <a:lnTo>
                              <a:pt x="81" y="80"/>
                            </a:lnTo>
                            <a:lnTo>
                              <a:pt x="78" y="77"/>
                            </a:lnTo>
                            <a:lnTo>
                              <a:pt x="75" y="74"/>
                            </a:lnTo>
                            <a:lnTo>
                              <a:pt x="72" y="72"/>
                            </a:lnTo>
                            <a:lnTo>
                              <a:pt x="67" y="69"/>
                            </a:lnTo>
                            <a:lnTo>
                              <a:pt x="64" y="68"/>
                            </a:lnTo>
                            <a:lnTo>
                              <a:pt x="61" y="63"/>
                            </a:lnTo>
                            <a:lnTo>
                              <a:pt x="57" y="62"/>
                            </a:lnTo>
                            <a:lnTo>
                              <a:pt x="54" y="59"/>
                            </a:lnTo>
                            <a:lnTo>
                              <a:pt x="49" y="57"/>
                            </a:lnTo>
                            <a:lnTo>
                              <a:pt x="46" y="54"/>
                            </a:lnTo>
                            <a:lnTo>
                              <a:pt x="43" y="52"/>
                            </a:lnTo>
                            <a:lnTo>
                              <a:pt x="38" y="50"/>
                            </a:lnTo>
                            <a:lnTo>
                              <a:pt x="35" y="47"/>
                            </a:lnTo>
                            <a:lnTo>
                              <a:pt x="31" y="46"/>
                            </a:lnTo>
                            <a:lnTo>
                              <a:pt x="28" y="43"/>
                            </a:lnTo>
                            <a:lnTo>
                              <a:pt x="23" y="40"/>
                            </a:lnTo>
                            <a:lnTo>
                              <a:pt x="20" y="39"/>
                            </a:lnTo>
                            <a:lnTo>
                              <a:pt x="15" y="37"/>
                            </a:lnTo>
                            <a:lnTo>
                              <a:pt x="12" y="36"/>
                            </a:lnTo>
                            <a:lnTo>
                              <a:pt x="8" y="35"/>
                            </a:lnTo>
                            <a:lnTo>
                              <a:pt x="5" y="32"/>
                            </a:lnTo>
                            <a:lnTo>
                              <a:pt x="3" y="28"/>
                            </a:lnTo>
                            <a:lnTo>
                              <a:pt x="2" y="25"/>
                            </a:lnTo>
                            <a:lnTo>
                              <a:pt x="0" y="20"/>
                            </a:lnTo>
                            <a:lnTo>
                              <a:pt x="0" y="15"/>
                            </a:lnTo>
                            <a:lnTo>
                              <a:pt x="0" y="10"/>
                            </a:lnTo>
                            <a:lnTo>
                              <a:pt x="2" y="6"/>
                            </a:lnTo>
                            <a:lnTo>
                              <a:pt x="3" y="2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Freeform 78"/>
                      <p:cNvSpPr/>
                      <p:nvPr/>
                    </p:nvSpPr>
                    <p:spPr>
                      <a:xfrm>
                        <a:off x="3030120" y="2593440"/>
                        <a:ext cx="4320" cy="4752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47520"/>
                          <a:gd name="textAreaBottom" fmla="*/ 47880 h 47520"/>
                        </a:gdLst>
                        <a:ahLst/>
                        <a:rect l="textAreaLeft" t="textAreaTop" r="textAreaRight" b="textAreaBottom"/>
                        <a:pathLst>
                          <a:path w="49" h="474">
                            <a:moveTo>
                              <a:pt x="9" y="0"/>
                            </a:move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16" y="8"/>
                            </a:lnTo>
                            <a:lnTo>
                              <a:pt x="19" y="12"/>
                            </a:lnTo>
                            <a:lnTo>
                              <a:pt x="21" y="17"/>
                            </a:lnTo>
                            <a:lnTo>
                              <a:pt x="23" y="21"/>
                            </a:lnTo>
                            <a:lnTo>
                              <a:pt x="24" y="25"/>
                            </a:lnTo>
                            <a:lnTo>
                              <a:pt x="26" y="30"/>
                            </a:lnTo>
                            <a:lnTo>
                              <a:pt x="27" y="33"/>
                            </a:lnTo>
                            <a:lnTo>
                              <a:pt x="27" y="38"/>
                            </a:lnTo>
                            <a:lnTo>
                              <a:pt x="29" y="43"/>
                            </a:lnTo>
                            <a:lnTo>
                              <a:pt x="29" y="47"/>
                            </a:lnTo>
                            <a:lnTo>
                              <a:pt x="29" y="52"/>
                            </a:lnTo>
                            <a:lnTo>
                              <a:pt x="30" y="56"/>
                            </a:lnTo>
                            <a:lnTo>
                              <a:pt x="30" y="62"/>
                            </a:lnTo>
                            <a:lnTo>
                              <a:pt x="30" y="67"/>
                            </a:lnTo>
                            <a:lnTo>
                              <a:pt x="30" y="71"/>
                            </a:lnTo>
                            <a:lnTo>
                              <a:pt x="30" y="77"/>
                            </a:lnTo>
                            <a:lnTo>
                              <a:pt x="30" y="81"/>
                            </a:lnTo>
                            <a:lnTo>
                              <a:pt x="30" y="87"/>
                            </a:lnTo>
                            <a:lnTo>
                              <a:pt x="30" y="92"/>
                            </a:lnTo>
                            <a:lnTo>
                              <a:pt x="30" y="96"/>
                            </a:lnTo>
                            <a:lnTo>
                              <a:pt x="30" y="102"/>
                            </a:lnTo>
                            <a:lnTo>
                              <a:pt x="30" y="107"/>
                            </a:lnTo>
                            <a:lnTo>
                              <a:pt x="30" y="111"/>
                            </a:lnTo>
                            <a:lnTo>
                              <a:pt x="30" y="117"/>
                            </a:lnTo>
                            <a:lnTo>
                              <a:pt x="30" y="121"/>
                            </a:lnTo>
                            <a:lnTo>
                              <a:pt x="32" y="126"/>
                            </a:lnTo>
                            <a:lnTo>
                              <a:pt x="32" y="130"/>
                            </a:lnTo>
                            <a:lnTo>
                              <a:pt x="32" y="136"/>
                            </a:lnTo>
                            <a:lnTo>
                              <a:pt x="33" y="140"/>
                            </a:lnTo>
                            <a:lnTo>
                              <a:pt x="35" y="146"/>
                            </a:lnTo>
                            <a:lnTo>
                              <a:pt x="35" y="150"/>
                            </a:lnTo>
                            <a:lnTo>
                              <a:pt x="35" y="154"/>
                            </a:lnTo>
                            <a:lnTo>
                              <a:pt x="35" y="159"/>
                            </a:lnTo>
                            <a:lnTo>
                              <a:pt x="36" y="165"/>
                            </a:lnTo>
                            <a:lnTo>
                              <a:pt x="36" y="169"/>
                            </a:lnTo>
                            <a:lnTo>
                              <a:pt x="36" y="174"/>
                            </a:lnTo>
                            <a:lnTo>
                              <a:pt x="36" y="178"/>
                            </a:lnTo>
                            <a:lnTo>
                              <a:pt x="38" y="184"/>
                            </a:lnTo>
                            <a:lnTo>
                              <a:pt x="38" y="189"/>
                            </a:lnTo>
                            <a:lnTo>
                              <a:pt x="38" y="195"/>
                            </a:lnTo>
                            <a:lnTo>
                              <a:pt x="38" y="199"/>
                            </a:lnTo>
                            <a:lnTo>
                              <a:pt x="38" y="205"/>
                            </a:lnTo>
                            <a:lnTo>
                              <a:pt x="38" y="210"/>
                            </a:lnTo>
                            <a:lnTo>
                              <a:pt x="39" y="214"/>
                            </a:lnTo>
                            <a:lnTo>
                              <a:pt x="39" y="220"/>
                            </a:lnTo>
                            <a:lnTo>
                              <a:pt x="41" y="225"/>
                            </a:lnTo>
                            <a:lnTo>
                              <a:pt x="41" y="229"/>
                            </a:lnTo>
                            <a:lnTo>
                              <a:pt x="41" y="235"/>
                            </a:lnTo>
                            <a:lnTo>
                              <a:pt x="41" y="239"/>
                            </a:lnTo>
                            <a:lnTo>
                              <a:pt x="42" y="244"/>
                            </a:lnTo>
                            <a:lnTo>
                              <a:pt x="42" y="250"/>
                            </a:lnTo>
                            <a:lnTo>
                              <a:pt x="42" y="254"/>
                            </a:lnTo>
                            <a:lnTo>
                              <a:pt x="42" y="259"/>
                            </a:lnTo>
                            <a:lnTo>
                              <a:pt x="42" y="265"/>
                            </a:lnTo>
                            <a:lnTo>
                              <a:pt x="42" y="269"/>
                            </a:lnTo>
                            <a:lnTo>
                              <a:pt x="42" y="275"/>
                            </a:lnTo>
                            <a:lnTo>
                              <a:pt x="44" y="280"/>
                            </a:lnTo>
                            <a:lnTo>
                              <a:pt x="44" y="284"/>
                            </a:lnTo>
                            <a:lnTo>
                              <a:pt x="44" y="290"/>
                            </a:lnTo>
                            <a:lnTo>
                              <a:pt x="44" y="295"/>
                            </a:lnTo>
                            <a:lnTo>
                              <a:pt x="45" y="299"/>
                            </a:lnTo>
                            <a:lnTo>
                              <a:pt x="45" y="305"/>
                            </a:lnTo>
                            <a:lnTo>
                              <a:pt x="45" y="310"/>
                            </a:lnTo>
                            <a:lnTo>
                              <a:pt x="45" y="316"/>
                            </a:lnTo>
                            <a:lnTo>
                              <a:pt x="45" y="320"/>
                            </a:lnTo>
                            <a:lnTo>
                              <a:pt x="45" y="325"/>
                            </a:lnTo>
                            <a:lnTo>
                              <a:pt x="45" y="331"/>
                            </a:lnTo>
                            <a:lnTo>
                              <a:pt x="45" y="335"/>
                            </a:lnTo>
                            <a:lnTo>
                              <a:pt x="45" y="340"/>
                            </a:lnTo>
                            <a:lnTo>
                              <a:pt x="47" y="346"/>
                            </a:lnTo>
                            <a:lnTo>
                              <a:pt x="47" y="350"/>
                            </a:lnTo>
                            <a:lnTo>
                              <a:pt x="47" y="356"/>
                            </a:lnTo>
                            <a:lnTo>
                              <a:pt x="47" y="361"/>
                            </a:lnTo>
                            <a:lnTo>
                              <a:pt x="47" y="365"/>
                            </a:lnTo>
                            <a:lnTo>
                              <a:pt x="47" y="371"/>
                            </a:lnTo>
                            <a:lnTo>
                              <a:pt x="47" y="376"/>
                            </a:lnTo>
                            <a:lnTo>
                              <a:pt x="47" y="380"/>
                            </a:lnTo>
                            <a:lnTo>
                              <a:pt x="49" y="386"/>
                            </a:lnTo>
                            <a:lnTo>
                              <a:pt x="49" y="391"/>
                            </a:lnTo>
                            <a:lnTo>
                              <a:pt x="49" y="397"/>
                            </a:lnTo>
                            <a:lnTo>
                              <a:pt x="49" y="401"/>
                            </a:lnTo>
                            <a:lnTo>
                              <a:pt x="49" y="406"/>
                            </a:lnTo>
                            <a:lnTo>
                              <a:pt x="49" y="412"/>
                            </a:lnTo>
                            <a:lnTo>
                              <a:pt x="49" y="416"/>
                            </a:lnTo>
                            <a:lnTo>
                              <a:pt x="49" y="421"/>
                            </a:lnTo>
                            <a:lnTo>
                              <a:pt x="49" y="427"/>
                            </a:lnTo>
                            <a:lnTo>
                              <a:pt x="47" y="432"/>
                            </a:lnTo>
                            <a:lnTo>
                              <a:pt x="47" y="437"/>
                            </a:lnTo>
                            <a:lnTo>
                              <a:pt x="47" y="442"/>
                            </a:lnTo>
                            <a:lnTo>
                              <a:pt x="47" y="448"/>
                            </a:lnTo>
                            <a:lnTo>
                              <a:pt x="47" y="453"/>
                            </a:lnTo>
                            <a:lnTo>
                              <a:pt x="47" y="459"/>
                            </a:lnTo>
                            <a:lnTo>
                              <a:pt x="47" y="464"/>
                            </a:lnTo>
                            <a:lnTo>
                              <a:pt x="47" y="470"/>
                            </a:lnTo>
                            <a:lnTo>
                              <a:pt x="42" y="470"/>
                            </a:lnTo>
                            <a:lnTo>
                              <a:pt x="36" y="471"/>
                            </a:lnTo>
                            <a:lnTo>
                              <a:pt x="32" y="472"/>
                            </a:lnTo>
                            <a:lnTo>
                              <a:pt x="27" y="474"/>
                            </a:lnTo>
                            <a:lnTo>
                              <a:pt x="26" y="470"/>
                            </a:lnTo>
                            <a:lnTo>
                              <a:pt x="26" y="467"/>
                            </a:lnTo>
                            <a:lnTo>
                              <a:pt x="24" y="463"/>
                            </a:lnTo>
                            <a:lnTo>
                              <a:pt x="24" y="460"/>
                            </a:lnTo>
                            <a:lnTo>
                              <a:pt x="23" y="456"/>
                            </a:lnTo>
                            <a:lnTo>
                              <a:pt x="23" y="452"/>
                            </a:lnTo>
                            <a:lnTo>
                              <a:pt x="21" y="449"/>
                            </a:lnTo>
                            <a:lnTo>
                              <a:pt x="21" y="445"/>
                            </a:lnTo>
                            <a:lnTo>
                              <a:pt x="21" y="442"/>
                            </a:lnTo>
                            <a:lnTo>
                              <a:pt x="19" y="438"/>
                            </a:lnTo>
                            <a:lnTo>
                              <a:pt x="19" y="435"/>
                            </a:lnTo>
                            <a:lnTo>
                              <a:pt x="19" y="431"/>
                            </a:lnTo>
                            <a:lnTo>
                              <a:pt x="19" y="428"/>
                            </a:lnTo>
                            <a:lnTo>
                              <a:pt x="19" y="424"/>
                            </a:lnTo>
                            <a:lnTo>
                              <a:pt x="19" y="421"/>
                            </a:lnTo>
                            <a:lnTo>
                              <a:pt x="19" y="417"/>
                            </a:lnTo>
                            <a:lnTo>
                              <a:pt x="18" y="415"/>
                            </a:lnTo>
                            <a:lnTo>
                              <a:pt x="18" y="410"/>
                            </a:lnTo>
                            <a:lnTo>
                              <a:pt x="18" y="408"/>
                            </a:lnTo>
                            <a:lnTo>
                              <a:pt x="18" y="404"/>
                            </a:lnTo>
                            <a:lnTo>
                              <a:pt x="18" y="399"/>
                            </a:lnTo>
                            <a:lnTo>
                              <a:pt x="18" y="397"/>
                            </a:lnTo>
                            <a:lnTo>
                              <a:pt x="18" y="393"/>
                            </a:lnTo>
                            <a:lnTo>
                              <a:pt x="18" y="390"/>
                            </a:lnTo>
                            <a:lnTo>
                              <a:pt x="18" y="386"/>
                            </a:lnTo>
                            <a:lnTo>
                              <a:pt x="18" y="383"/>
                            </a:lnTo>
                            <a:lnTo>
                              <a:pt x="18" y="379"/>
                            </a:lnTo>
                            <a:lnTo>
                              <a:pt x="18" y="376"/>
                            </a:lnTo>
                            <a:lnTo>
                              <a:pt x="18" y="372"/>
                            </a:lnTo>
                            <a:lnTo>
                              <a:pt x="18" y="369"/>
                            </a:lnTo>
                            <a:lnTo>
                              <a:pt x="18" y="365"/>
                            </a:lnTo>
                            <a:lnTo>
                              <a:pt x="18" y="362"/>
                            </a:lnTo>
                            <a:lnTo>
                              <a:pt x="18" y="358"/>
                            </a:lnTo>
                            <a:lnTo>
                              <a:pt x="18" y="356"/>
                            </a:lnTo>
                            <a:lnTo>
                              <a:pt x="18" y="351"/>
                            </a:lnTo>
                            <a:lnTo>
                              <a:pt x="18" y="347"/>
                            </a:lnTo>
                            <a:lnTo>
                              <a:pt x="18" y="345"/>
                            </a:lnTo>
                            <a:lnTo>
                              <a:pt x="18" y="340"/>
                            </a:lnTo>
                            <a:lnTo>
                              <a:pt x="18" y="338"/>
                            </a:lnTo>
                            <a:lnTo>
                              <a:pt x="18" y="334"/>
                            </a:lnTo>
                            <a:lnTo>
                              <a:pt x="18" y="331"/>
                            </a:lnTo>
                            <a:lnTo>
                              <a:pt x="18" y="327"/>
                            </a:lnTo>
                            <a:lnTo>
                              <a:pt x="18" y="323"/>
                            </a:lnTo>
                            <a:lnTo>
                              <a:pt x="18" y="320"/>
                            </a:lnTo>
                            <a:lnTo>
                              <a:pt x="18" y="316"/>
                            </a:lnTo>
                            <a:lnTo>
                              <a:pt x="18" y="313"/>
                            </a:lnTo>
                            <a:lnTo>
                              <a:pt x="18" y="309"/>
                            </a:lnTo>
                            <a:lnTo>
                              <a:pt x="18" y="306"/>
                            </a:lnTo>
                            <a:lnTo>
                              <a:pt x="18" y="302"/>
                            </a:lnTo>
                            <a:lnTo>
                              <a:pt x="18" y="299"/>
                            </a:lnTo>
                            <a:lnTo>
                              <a:pt x="16" y="295"/>
                            </a:lnTo>
                            <a:lnTo>
                              <a:pt x="16" y="292"/>
                            </a:lnTo>
                            <a:lnTo>
                              <a:pt x="16" y="288"/>
                            </a:lnTo>
                            <a:lnTo>
                              <a:pt x="16" y="286"/>
                            </a:lnTo>
                            <a:lnTo>
                              <a:pt x="15" y="281"/>
                            </a:lnTo>
                            <a:lnTo>
                              <a:pt x="15" y="279"/>
                            </a:lnTo>
                            <a:lnTo>
                              <a:pt x="15" y="275"/>
                            </a:lnTo>
                            <a:lnTo>
                              <a:pt x="15" y="272"/>
                            </a:lnTo>
                            <a:lnTo>
                              <a:pt x="13" y="269"/>
                            </a:lnTo>
                            <a:lnTo>
                              <a:pt x="13" y="265"/>
                            </a:lnTo>
                            <a:lnTo>
                              <a:pt x="13" y="262"/>
                            </a:lnTo>
                            <a:lnTo>
                              <a:pt x="12" y="258"/>
                            </a:lnTo>
                            <a:lnTo>
                              <a:pt x="12" y="255"/>
                            </a:lnTo>
                            <a:lnTo>
                              <a:pt x="12" y="251"/>
                            </a:lnTo>
                            <a:lnTo>
                              <a:pt x="10" y="247"/>
                            </a:lnTo>
                            <a:lnTo>
                              <a:pt x="10" y="243"/>
                            </a:lnTo>
                            <a:lnTo>
                              <a:pt x="10" y="239"/>
                            </a:lnTo>
                            <a:lnTo>
                              <a:pt x="10" y="235"/>
                            </a:lnTo>
                            <a:lnTo>
                              <a:pt x="10" y="231"/>
                            </a:lnTo>
                            <a:lnTo>
                              <a:pt x="10" y="228"/>
                            </a:lnTo>
                            <a:lnTo>
                              <a:pt x="10" y="222"/>
                            </a:lnTo>
                            <a:lnTo>
                              <a:pt x="10" y="220"/>
                            </a:lnTo>
                            <a:lnTo>
                              <a:pt x="9" y="216"/>
                            </a:lnTo>
                            <a:lnTo>
                              <a:pt x="9" y="211"/>
                            </a:lnTo>
                            <a:lnTo>
                              <a:pt x="9" y="207"/>
                            </a:lnTo>
                            <a:lnTo>
                              <a:pt x="9" y="203"/>
                            </a:lnTo>
                            <a:lnTo>
                              <a:pt x="7" y="200"/>
                            </a:lnTo>
                            <a:lnTo>
                              <a:pt x="7" y="196"/>
                            </a:lnTo>
                            <a:lnTo>
                              <a:pt x="7" y="192"/>
                            </a:lnTo>
                            <a:lnTo>
                              <a:pt x="7" y="188"/>
                            </a:lnTo>
                            <a:lnTo>
                              <a:pt x="7" y="185"/>
                            </a:lnTo>
                            <a:lnTo>
                              <a:pt x="7" y="181"/>
                            </a:lnTo>
                            <a:lnTo>
                              <a:pt x="6" y="177"/>
                            </a:lnTo>
                            <a:lnTo>
                              <a:pt x="6" y="173"/>
                            </a:lnTo>
                            <a:lnTo>
                              <a:pt x="6" y="170"/>
                            </a:lnTo>
                            <a:lnTo>
                              <a:pt x="6" y="166"/>
                            </a:lnTo>
                            <a:lnTo>
                              <a:pt x="4" y="162"/>
                            </a:lnTo>
                            <a:lnTo>
                              <a:pt x="4" y="158"/>
                            </a:lnTo>
                            <a:lnTo>
                              <a:pt x="4" y="154"/>
                            </a:lnTo>
                            <a:lnTo>
                              <a:pt x="4" y="151"/>
                            </a:lnTo>
                            <a:lnTo>
                              <a:pt x="3" y="147"/>
                            </a:lnTo>
                            <a:lnTo>
                              <a:pt x="3" y="143"/>
                            </a:lnTo>
                            <a:lnTo>
                              <a:pt x="3" y="139"/>
                            </a:lnTo>
                            <a:lnTo>
                              <a:pt x="3" y="136"/>
                            </a:lnTo>
                            <a:lnTo>
                              <a:pt x="3" y="132"/>
                            </a:lnTo>
                            <a:lnTo>
                              <a:pt x="3" y="128"/>
                            </a:lnTo>
                            <a:lnTo>
                              <a:pt x="3" y="124"/>
                            </a:lnTo>
                            <a:lnTo>
                              <a:pt x="1" y="119"/>
                            </a:lnTo>
                            <a:lnTo>
                              <a:pt x="1" y="115"/>
                            </a:lnTo>
                            <a:lnTo>
                              <a:pt x="1" y="113"/>
                            </a:lnTo>
                            <a:lnTo>
                              <a:pt x="0" y="108"/>
                            </a:lnTo>
                            <a:lnTo>
                              <a:pt x="0" y="104"/>
                            </a:lnTo>
                            <a:lnTo>
                              <a:pt x="0" y="100"/>
                            </a:lnTo>
                            <a:lnTo>
                              <a:pt x="0" y="98"/>
                            </a:lnTo>
                            <a:lnTo>
                              <a:pt x="0" y="93"/>
                            </a:lnTo>
                            <a:lnTo>
                              <a:pt x="0" y="89"/>
                            </a:lnTo>
                            <a:lnTo>
                              <a:pt x="0" y="85"/>
                            </a:lnTo>
                            <a:lnTo>
                              <a:pt x="0" y="82"/>
                            </a:lnTo>
                            <a:lnTo>
                              <a:pt x="0" y="78"/>
                            </a:lnTo>
                            <a:lnTo>
                              <a:pt x="0" y="74"/>
                            </a:lnTo>
                            <a:lnTo>
                              <a:pt x="0" y="70"/>
                            </a:lnTo>
                            <a:lnTo>
                              <a:pt x="0" y="67"/>
                            </a:lnTo>
                            <a:lnTo>
                              <a:pt x="0" y="63"/>
                            </a:lnTo>
                            <a:lnTo>
                              <a:pt x="0" y="59"/>
                            </a:lnTo>
                            <a:lnTo>
                              <a:pt x="0" y="55"/>
                            </a:lnTo>
                            <a:lnTo>
                              <a:pt x="0" y="52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0" y="37"/>
                            </a:lnTo>
                            <a:lnTo>
                              <a:pt x="0" y="33"/>
                            </a:lnTo>
                            <a:lnTo>
                              <a:pt x="0" y="29"/>
                            </a:lnTo>
                            <a:lnTo>
                              <a:pt x="0" y="25"/>
                            </a:lnTo>
                            <a:lnTo>
                              <a:pt x="0" y="21"/>
                            </a:ln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" y="10"/>
                            </a:lnTo>
                            <a:lnTo>
                              <a:pt x="1" y="6"/>
                            </a:lnTo>
                            <a:lnTo>
                              <a:pt x="3" y="3"/>
                            </a:lnTo>
                            <a:lnTo>
                              <a:pt x="6" y="1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Freeform 79"/>
                      <p:cNvSpPr/>
                      <p:nvPr/>
                    </p:nvSpPr>
                    <p:spPr>
                      <a:xfrm>
                        <a:off x="3054960" y="2592360"/>
                        <a:ext cx="3600" cy="4896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48960"/>
                          <a:gd name="textAreaBottom" fmla="*/ 49320 h 48960"/>
                        </a:gdLst>
                        <a:ahLst/>
                        <a:rect l="textAreaLeft" t="textAreaTop" r="textAreaRight" b="textAreaBottom"/>
                        <a:pathLst>
                          <a:path w="44" h="486">
                            <a:moveTo>
                              <a:pt x="15" y="0"/>
                            </a:moveTo>
                            <a:lnTo>
                              <a:pt x="17" y="3"/>
                            </a:lnTo>
                            <a:lnTo>
                              <a:pt x="20" y="9"/>
                            </a:lnTo>
                            <a:lnTo>
                              <a:pt x="23" y="13"/>
                            </a:lnTo>
                            <a:lnTo>
                              <a:pt x="26" y="17"/>
                            </a:lnTo>
                            <a:lnTo>
                              <a:pt x="27" y="22"/>
                            </a:lnTo>
                            <a:lnTo>
                              <a:pt x="29" y="27"/>
                            </a:lnTo>
                            <a:lnTo>
                              <a:pt x="31" y="32"/>
                            </a:lnTo>
                            <a:lnTo>
                              <a:pt x="32" y="38"/>
                            </a:lnTo>
                            <a:lnTo>
                              <a:pt x="34" y="43"/>
                            </a:lnTo>
                            <a:lnTo>
                              <a:pt x="34" y="47"/>
                            </a:lnTo>
                            <a:lnTo>
                              <a:pt x="34" y="53"/>
                            </a:lnTo>
                            <a:lnTo>
                              <a:pt x="35" y="58"/>
                            </a:lnTo>
                            <a:lnTo>
                              <a:pt x="35" y="64"/>
                            </a:lnTo>
                            <a:lnTo>
                              <a:pt x="35" y="69"/>
                            </a:lnTo>
                            <a:lnTo>
                              <a:pt x="35" y="75"/>
                            </a:lnTo>
                            <a:lnTo>
                              <a:pt x="35" y="81"/>
                            </a:lnTo>
                            <a:lnTo>
                              <a:pt x="35" y="87"/>
                            </a:lnTo>
                            <a:lnTo>
                              <a:pt x="35" y="92"/>
                            </a:lnTo>
                            <a:lnTo>
                              <a:pt x="35" y="98"/>
                            </a:lnTo>
                            <a:lnTo>
                              <a:pt x="35" y="105"/>
                            </a:lnTo>
                            <a:lnTo>
                              <a:pt x="34" y="110"/>
                            </a:lnTo>
                            <a:lnTo>
                              <a:pt x="34" y="116"/>
                            </a:lnTo>
                            <a:lnTo>
                              <a:pt x="34" y="121"/>
                            </a:lnTo>
                            <a:lnTo>
                              <a:pt x="35" y="128"/>
                            </a:lnTo>
                            <a:lnTo>
                              <a:pt x="35" y="134"/>
                            </a:lnTo>
                            <a:lnTo>
                              <a:pt x="35" y="139"/>
                            </a:lnTo>
                            <a:lnTo>
                              <a:pt x="35" y="145"/>
                            </a:lnTo>
                            <a:lnTo>
                              <a:pt x="35" y="150"/>
                            </a:lnTo>
                            <a:lnTo>
                              <a:pt x="37" y="156"/>
                            </a:lnTo>
                            <a:lnTo>
                              <a:pt x="38" y="161"/>
                            </a:lnTo>
                            <a:lnTo>
                              <a:pt x="38" y="167"/>
                            </a:lnTo>
                            <a:lnTo>
                              <a:pt x="40" y="173"/>
                            </a:lnTo>
                            <a:lnTo>
                              <a:pt x="40" y="178"/>
                            </a:lnTo>
                            <a:lnTo>
                              <a:pt x="40" y="182"/>
                            </a:lnTo>
                            <a:lnTo>
                              <a:pt x="38" y="186"/>
                            </a:lnTo>
                            <a:lnTo>
                              <a:pt x="38" y="191"/>
                            </a:lnTo>
                            <a:lnTo>
                              <a:pt x="38" y="195"/>
                            </a:lnTo>
                            <a:lnTo>
                              <a:pt x="38" y="199"/>
                            </a:lnTo>
                            <a:lnTo>
                              <a:pt x="38" y="205"/>
                            </a:lnTo>
                            <a:lnTo>
                              <a:pt x="38" y="209"/>
                            </a:lnTo>
                            <a:lnTo>
                              <a:pt x="38" y="213"/>
                            </a:lnTo>
                            <a:lnTo>
                              <a:pt x="38" y="219"/>
                            </a:lnTo>
                            <a:lnTo>
                              <a:pt x="38" y="223"/>
                            </a:lnTo>
                            <a:lnTo>
                              <a:pt x="38" y="228"/>
                            </a:lnTo>
                            <a:lnTo>
                              <a:pt x="38" y="232"/>
                            </a:lnTo>
                            <a:lnTo>
                              <a:pt x="38" y="237"/>
                            </a:lnTo>
                            <a:lnTo>
                              <a:pt x="38" y="242"/>
                            </a:lnTo>
                            <a:lnTo>
                              <a:pt x="38" y="246"/>
                            </a:lnTo>
                            <a:lnTo>
                              <a:pt x="38" y="252"/>
                            </a:lnTo>
                            <a:lnTo>
                              <a:pt x="38" y="256"/>
                            </a:lnTo>
                            <a:lnTo>
                              <a:pt x="38" y="260"/>
                            </a:lnTo>
                            <a:lnTo>
                              <a:pt x="38" y="265"/>
                            </a:lnTo>
                            <a:lnTo>
                              <a:pt x="38" y="269"/>
                            </a:lnTo>
                            <a:lnTo>
                              <a:pt x="38" y="274"/>
                            </a:lnTo>
                            <a:lnTo>
                              <a:pt x="38" y="279"/>
                            </a:lnTo>
                            <a:lnTo>
                              <a:pt x="38" y="283"/>
                            </a:lnTo>
                            <a:lnTo>
                              <a:pt x="38" y="289"/>
                            </a:lnTo>
                            <a:lnTo>
                              <a:pt x="38" y="293"/>
                            </a:lnTo>
                            <a:lnTo>
                              <a:pt x="38" y="297"/>
                            </a:lnTo>
                            <a:lnTo>
                              <a:pt x="40" y="302"/>
                            </a:lnTo>
                            <a:lnTo>
                              <a:pt x="40" y="307"/>
                            </a:lnTo>
                            <a:lnTo>
                              <a:pt x="40" y="311"/>
                            </a:lnTo>
                            <a:lnTo>
                              <a:pt x="40" y="316"/>
                            </a:lnTo>
                            <a:lnTo>
                              <a:pt x="41" y="320"/>
                            </a:lnTo>
                            <a:lnTo>
                              <a:pt x="41" y="324"/>
                            </a:lnTo>
                            <a:lnTo>
                              <a:pt x="41" y="329"/>
                            </a:lnTo>
                            <a:lnTo>
                              <a:pt x="41" y="334"/>
                            </a:lnTo>
                            <a:lnTo>
                              <a:pt x="41" y="338"/>
                            </a:lnTo>
                            <a:lnTo>
                              <a:pt x="41" y="344"/>
                            </a:lnTo>
                            <a:lnTo>
                              <a:pt x="41" y="348"/>
                            </a:lnTo>
                            <a:lnTo>
                              <a:pt x="41" y="352"/>
                            </a:lnTo>
                            <a:lnTo>
                              <a:pt x="41" y="357"/>
                            </a:lnTo>
                            <a:lnTo>
                              <a:pt x="41" y="361"/>
                            </a:lnTo>
                            <a:lnTo>
                              <a:pt x="41" y="366"/>
                            </a:lnTo>
                            <a:lnTo>
                              <a:pt x="41" y="371"/>
                            </a:lnTo>
                            <a:lnTo>
                              <a:pt x="41" y="375"/>
                            </a:lnTo>
                            <a:lnTo>
                              <a:pt x="41" y="381"/>
                            </a:lnTo>
                            <a:lnTo>
                              <a:pt x="43" y="385"/>
                            </a:lnTo>
                            <a:lnTo>
                              <a:pt x="43" y="389"/>
                            </a:lnTo>
                            <a:lnTo>
                              <a:pt x="43" y="394"/>
                            </a:lnTo>
                            <a:lnTo>
                              <a:pt x="43" y="399"/>
                            </a:lnTo>
                            <a:lnTo>
                              <a:pt x="43" y="403"/>
                            </a:lnTo>
                            <a:lnTo>
                              <a:pt x="43" y="408"/>
                            </a:lnTo>
                            <a:lnTo>
                              <a:pt x="44" y="412"/>
                            </a:lnTo>
                            <a:lnTo>
                              <a:pt x="44" y="418"/>
                            </a:lnTo>
                            <a:lnTo>
                              <a:pt x="44" y="422"/>
                            </a:lnTo>
                            <a:lnTo>
                              <a:pt x="44" y="426"/>
                            </a:lnTo>
                            <a:lnTo>
                              <a:pt x="44" y="431"/>
                            </a:lnTo>
                            <a:lnTo>
                              <a:pt x="44" y="436"/>
                            </a:lnTo>
                            <a:lnTo>
                              <a:pt x="44" y="441"/>
                            </a:lnTo>
                            <a:lnTo>
                              <a:pt x="44" y="445"/>
                            </a:lnTo>
                            <a:lnTo>
                              <a:pt x="44" y="451"/>
                            </a:lnTo>
                            <a:lnTo>
                              <a:pt x="44" y="455"/>
                            </a:lnTo>
                            <a:lnTo>
                              <a:pt x="44" y="460"/>
                            </a:lnTo>
                            <a:lnTo>
                              <a:pt x="44" y="464"/>
                            </a:lnTo>
                            <a:lnTo>
                              <a:pt x="44" y="470"/>
                            </a:lnTo>
                            <a:lnTo>
                              <a:pt x="41" y="474"/>
                            </a:lnTo>
                            <a:lnTo>
                              <a:pt x="38" y="478"/>
                            </a:lnTo>
                            <a:lnTo>
                              <a:pt x="34" y="481"/>
                            </a:lnTo>
                            <a:lnTo>
                              <a:pt x="31" y="486"/>
                            </a:lnTo>
                            <a:lnTo>
                              <a:pt x="26" y="482"/>
                            </a:lnTo>
                            <a:lnTo>
                              <a:pt x="23" y="480"/>
                            </a:lnTo>
                            <a:lnTo>
                              <a:pt x="20" y="475"/>
                            </a:lnTo>
                            <a:lnTo>
                              <a:pt x="18" y="473"/>
                            </a:lnTo>
                            <a:lnTo>
                              <a:pt x="17" y="469"/>
                            </a:lnTo>
                            <a:lnTo>
                              <a:pt x="15" y="464"/>
                            </a:lnTo>
                            <a:lnTo>
                              <a:pt x="14" y="462"/>
                            </a:lnTo>
                            <a:lnTo>
                              <a:pt x="14" y="458"/>
                            </a:lnTo>
                            <a:lnTo>
                              <a:pt x="12" y="453"/>
                            </a:lnTo>
                            <a:lnTo>
                              <a:pt x="12" y="449"/>
                            </a:lnTo>
                            <a:lnTo>
                              <a:pt x="11" y="445"/>
                            </a:lnTo>
                            <a:lnTo>
                              <a:pt x="11" y="442"/>
                            </a:lnTo>
                            <a:lnTo>
                              <a:pt x="11" y="437"/>
                            </a:lnTo>
                            <a:lnTo>
                              <a:pt x="11" y="434"/>
                            </a:lnTo>
                            <a:lnTo>
                              <a:pt x="12" y="430"/>
                            </a:lnTo>
                            <a:lnTo>
                              <a:pt x="12" y="426"/>
                            </a:lnTo>
                            <a:lnTo>
                              <a:pt x="12" y="422"/>
                            </a:lnTo>
                            <a:lnTo>
                              <a:pt x="12" y="418"/>
                            </a:lnTo>
                            <a:lnTo>
                              <a:pt x="14" y="414"/>
                            </a:lnTo>
                            <a:lnTo>
                              <a:pt x="14" y="409"/>
                            </a:lnTo>
                            <a:lnTo>
                              <a:pt x="14" y="405"/>
                            </a:lnTo>
                            <a:lnTo>
                              <a:pt x="15" y="401"/>
                            </a:lnTo>
                            <a:lnTo>
                              <a:pt x="15" y="397"/>
                            </a:lnTo>
                            <a:lnTo>
                              <a:pt x="17" y="394"/>
                            </a:lnTo>
                            <a:lnTo>
                              <a:pt x="17" y="389"/>
                            </a:lnTo>
                            <a:lnTo>
                              <a:pt x="17" y="385"/>
                            </a:lnTo>
                            <a:lnTo>
                              <a:pt x="17" y="382"/>
                            </a:lnTo>
                            <a:lnTo>
                              <a:pt x="17" y="378"/>
                            </a:lnTo>
                            <a:lnTo>
                              <a:pt x="15" y="374"/>
                            </a:lnTo>
                            <a:lnTo>
                              <a:pt x="15" y="370"/>
                            </a:lnTo>
                            <a:lnTo>
                              <a:pt x="15" y="367"/>
                            </a:lnTo>
                            <a:lnTo>
                              <a:pt x="15" y="363"/>
                            </a:lnTo>
                            <a:lnTo>
                              <a:pt x="14" y="357"/>
                            </a:lnTo>
                            <a:lnTo>
                              <a:pt x="14" y="352"/>
                            </a:lnTo>
                            <a:lnTo>
                              <a:pt x="14" y="346"/>
                            </a:lnTo>
                            <a:lnTo>
                              <a:pt x="14" y="341"/>
                            </a:lnTo>
                            <a:lnTo>
                              <a:pt x="14" y="335"/>
                            </a:lnTo>
                            <a:lnTo>
                              <a:pt x="14" y="330"/>
                            </a:lnTo>
                            <a:lnTo>
                              <a:pt x="14" y="324"/>
                            </a:lnTo>
                            <a:lnTo>
                              <a:pt x="14" y="319"/>
                            </a:lnTo>
                            <a:lnTo>
                              <a:pt x="14" y="313"/>
                            </a:lnTo>
                            <a:lnTo>
                              <a:pt x="14" y="308"/>
                            </a:lnTo>
                            <a:lnTo>
                              <a:pt x="14" y="304"/>
                            </a:lnTo>
                            <a:lnTo>
                              <a:pt x="14" y="298"/>
                            </a:lnTo>
                            <a:lnTo>
                              <a:pt x="14" y="293"/>
                            </a:lnTo>
                            <a:lnTo>
                              <a:pt x="14" y="287"/>
                            </a:lnTo>
                            <a:lnTo>
                              <a:pt x="14" y="282"/>
                            </a:lnTo>
                            <a:lnTo>
                              <a:pt x="14" y="276"/>
                            </a:lnTo>
                            <a:lnTo>
                              <a:pt x="12" y="271"/>
                            </a:lnTo>
                            <a:lnTo>
                              <a:pt x="12" y="265"/>
                            </a:lnTo>
                            <a:lnTo>
                              <a:pt x="12" y="261"/>
                            </a:lnTo>
                            <a:lnTo>
                              <a:pt x="12" y="256"/>
                            </a:lnTo>
                            <a:lnTo>
                              <a:pt x="12" y="250"/>
                            </a:lnTo>
                            <a:lnTo>
                              <a:pt x="12" y="245"/>
                            </a:lnTo>
                            <a:lnTo>
                              <a:pt x="12" y="239"/>
                            </a:lnTo>
                            <a:lnTo>
                              <a:pt x="12" y="234"/>
                            </a:lnTo>
                            <a:lnTo>
                              <a:pt x="11" y="228"/>
                            </a:lnTo>
                            <a:lnTo>
                              <a:pt x="11" y="223"/>
                            </a:lnTo>
                            <a:lnTo>
                              <a:pt x="11" y="217"/>
                            </a:lnTo>
                            <a:lnTo>
                              <a:pt x="11" y="213"/>
                            </a:lnTo>
                            <a:lnTo>
                              <a:pt x="11" y="208"/>
                            </a:lnTo>
                            <a:lnTo>
                              <a:pt x="11" y="202"/>
                            </a:lnTo>
                            <a:lnTo>
                              <a:pt x="11" y="197"/>
                            </a:lnTo>
                            <a:lnTo>
                              <a:pt x="11" y="193"/>
                            </a:lnTo>
                            <a:lnTo>
                              <a:pt x="11" y="186"/>
                            </a:lnTo>
                            <a:lnTo>
                              <a:pt x="11" y="182"/>
                            </a:lnTo>
                            <a:lnTo>
                              <a:pt x="9" y="176"/>
                            </a:lnTo>
                            <a:lnTo>
                              <a:pt x="9" y="171"/>
                            </a:lnTo>
                            <a:lnTo>
                              <a:pt x="9" y="165"/>
                            </a:lnTo>
                            <a:lnTo>
                              <a:pt x="9" y="160"/>
                            </a:lnTo>
                            <a:lnTo>
                              <a:pt x="8" y="154"/>
                            </a:lnTo>
                            <a:lnTo>
                              <a:pt x="8" y="149"/>
                            </a:lnTo>
                            <a:lnTo>
                              <a:pt x="8" y="143"/>
                            </a:lnTo>
                            <a:lnTo>
                              <a:pt x="8" y="139"/>
                            </a:lnTo>
                            <a:lnTo>
                              <a:pt x="6" y="134"/>
                            </a:lnTo>
                            <a:lnTo>
                              <a:pt x="6" y="128"/>
                            </a:lnTo>
                            <a:lnTo>
                              <a:pt x="6" y="123"/>
                            </a:lnTo>
                            <a:lnTo>
                              <a:pt x="6" y="117"/>
                            </a:lnTo>
                            <a:lnTo>
                              <a:pt x="6" y="112"/>
                            </a:lnTo>
                            <a:lnTo>
                              <a:pt x="6" y="108"/>
                            </a:lnTo>
                            <a:lnTo>
                              <a:pt x="6" y="102"/>
                            </a:lnTo>
                            <a:lnTo>
                              <a:pt x="5" y="97"/>
                            </a:lnTo>
                            <a:lnTo>
                              <a:pt x="5" y="91"/>
                            </a:lnTo>
                            <a:lnTo>
                              <a:pt x="5" y="86"/>
                            </a:lnTo>
                            <a:lnTo>
                              <a:pt x="3" y="80"/>
                            </a:lnTo>
                            <a:lnTo>
                              <a:pt x="3" y="75"/>
                            </a:lnTo>
                            <a:lnTo>
                              <a:pt x="3" y="70"/>
                            </a:lnTo>
                            <a:lnTo>
                              <a:pt x="3" y="65"/>
                            </a:lnTo>
                            <a:lnTo>
                              <a:pt x="3" y="59"/>
                            </a:lnTo>
                            <a:lnTo>
                              <a:pt x="1" y="54"/>
                            </a:lnTo>
                            <a:lnTo>
                              <a:pt x="1" y="48"/>
                            </a:lnTo>
                            <a:lnTo>
                              <a:pt x="1" y="43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0" y="28"/>
                            </a:lnTo>
                            <a:lnTo>
                              <a:pt x="0" y="22"/>
                            </a:lnTo>
                            <a:lnTo>
                              <a:pt x="0" y="20"/>
                            </a:lnTo>
                            <a:lnTo>
                              <a:pt x="1" y="17"/>
                            </a:lnTo>
                            <a:lnTo>
                              <a:pt x="5" y="13"/>
                            </a:lnTo>
                            <a:lnTo>
                              <a:pt x="6" y="10"/>
                            </a:lnTo>
                            <a:lnTo>
                              <a:pt x="9" y="6"/>
                            </a:lnTo>
                            <a:lnTo>
                              <a:pt x="11" y="3"/>
                            </a:lnTo>
                            <a:lnTo>
                              <a:pt x="14" y="2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Freeform 80"/>
                      <p:cNvSpPr/>
                      <p:nvPr/>
                    </p:nvSpPr>
                    <p:spPr>
                      <a:xfrm>
                        <a:off x="2986200" y="2651760"/>
                        <a:ext cx="76680" cy="3240"/>
                      </a:xfrm>
                      <a:custGeom>
                        <a:avLst/>
                        <a:gdLst>
                          <a:gd name="textAreaLeft" fmla="*/ 0 w 76680"/>
                          <a:gd name="textAreaRight" fmla="*/ 77040 w 7668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850" h="34">
                            <a:moveTo>
                              <a:pt x="465" y="0"/>
                            </a:moveTo>
                            <a:lnTo>
                              <a:pt x="469" y="0"/>
                            </a:lnTo>
                            <a:lnTo>
                              <a:pt x="475" y="0"/>
                            </a:lnTo>
                            <a:lnTo>
                              <a:pt x="482" y="0"/>
                            </a:lnTo>
                            <a:lnTo>
                              <a:pt x="486" y="0"/>
                            </a:lnTo>
                            <a:lnTo>
                              <a:pt x="492" y="0"/>
                            </a:lnTo>
                            <a:lnTo>
                              <a:pt x="498" y="0"/>
                            </a:lnTo>
                            <a:lnTo>
                              <a:pt x="503" y="0"/>
                            </a:lnTo>
                            <a:lnTo>
                              <a:pt x="509" y="1"/>
                            </a:lnTo>
                            <a:lnTo>
                              <a:pt x="515" y="1"/>
                            </a:lnTo>
                            <a:lnTo>
                              <a:pt x="521" y="1"/>
                            </a:lnTo>
                            <a:lnTo>
                              <a:pt x="527" y="1"/>
                            </a:lnTo>
                            <a:lnTo>
                              <a:pt x="534" y="1"/>
                            </a:lnTo>
                            <a:lnTo>
                              <a:pt x="538" y="1"/>
                            </a:lnTo>
                            <a:lnTo>
                              <a:pt x="544" y="1"/>
                            </a:lnTo>
                            <a:lnTo>
                              <a:pt x="550" y="1"/>
                            </a:lnTo>
                            <a:lnTo>
                              <a:pt x="556" y="1"/>
                            </a:lnTo>
                            <a:lnTo>
                              <a:pt x="561" y="1"/>
                            </a:lnTo>
                            <a:lnTo>
                              <a:pt x="567" y="1"/>
                            </a:lnTo>
                            <a:lnTo>
                              <a:pt x="573" y="1"/>
                            </a:lnTo>
                            <a:lnTo>
                              <a:pt x="578" y="1"/>
                            </a:lnTo>
                            <a:lnTo>
                              <a:pt x="584" y="1"/>
                            </a:lnTo>
                            <a:lnTo>
                              <a:pt x="590" y="1"/>
                            </a:lnTo>
                            <a:lnTo>
                              <a:pt x="595" y="1"/>
                            </a:lnTo>
                            <a:lnTo>
                              <a:pt x="601" y="1"/>
                            </a:lnTo>
                            <a:lnTo>
                              <a:pt x="607" y="1"/>
                            </a:lnTo>
                            <a:lnTo>
                              <a:pt x="613" y="1"/>
                            </a:lnTo>
                            <a:lnTo>
                              <a:pt x="619" y="1"/>
                            </a:lnTo>
                            <a:lnTo>
                              <a:pt x="625" y="1"/>
                            </a:lnTo>
                            <a:lnTo>
                              <a:pt x="630" y="1"/>
                            </a:lnTo>
                            <a:lnTo>
                              <a:pt x="636" y="1"/>
                            </a:lnTo>
                            <a:lnTo>
                              <a:pt x="642" y="1"/>
                            </a:lnTo>
                            <a:lnTo>
                              <a:pt x="648" y="3"/>
                            </a:lnTo>
                            <a:lnTo>
                              <a:pt x="653" y="1"/>
                            </a:lnTo>
                            <a:lnTo>
                              <a:pt x="659" y="1"/>
                            </a:lnTo>
                            <a:lnTo>
                              <a:pt x="665" y="1"/>
                            </a:lnTo>
                            <a:lnTo>
                              <a:pt x="671" y="1"/>
                            </a:lnTo>
                            <a:lnTo>
                              <a:pt x="676" y="1"/>
                            </a:lnTo>
                            <a:lnTo>
                              <a:pt x="682" y="1"/>
                            </a:lnTo>
                            <a:lnTo>
                              <a:pt x="688" y="1"/>
                            </a:lnTo>
                            <a:lnTo>
                              <a:pt x="694" y="1"/>
                            </a:lnTo>
                            <a:lnTo>
                              <a:pt x="699" y="1"/>
                            </a:lnTo>
                            <a:lnTo>
                              <a:pt x="705" y="1"/>
                            </a:lnTo>
                            <a:lnTo>
                              <a:pt x="711" y="1"/>
                            </a:lnTo>
                            <a:lnTo>
                              <a:pt x="716" y="1"/>
                            </a:lnTo>
                            <a:lnTo>
                              <a:pt x="722" y="1"/>
                            </a:lnTo>
                            <a:lnTo>
                              <a:pt x="728" y="1"/>
                            </a:lnTo>
                            <a:lnTo>
                              <a:pt x="732" y="1"/>
                            </a:lnTo>
                            <a:lnTo>
                              <a:pt x="740" y="1"/>
                            </a:lnTo>
                            <a:lnTo>
                              <a:pt x="745" y="0"/>
                            </a:lnTo>
                            <a:lnTo>
                              <a:pt x="751" y="0"/>
                            </a:lnTo>
                            <a:lnTo>
                              <a:pt x="757" y="0"/>
                            </a:lnTo>
                            <a:lnTo>
                              <a:pt x="761" y="0"/>
                            </a:lnTo>
                            <a:lnTo>
                              <a:pt x="768" y="0"/>
                            </a:lnTo>
                            <a:lnTo>
                              <a:pt x="774" y="0"/>
                            </a:lnTo>
                            <a:lnTo>
                              <a:pt x="778" y="0"/>
                            </a:lnTo>
                            <a:lnTo>
                              <a:pt x="784" y="0"/>
                            </a:lnTo>
                            <a:lnTo>
                              <a:pt x="791" y="0"/>
                            </a:lnTo>
                            <a:lnTo>
                              <a:pt x="797" y="0"/>
                            </a:lnTo>
                            <a:lnTo>
                              <a:pt x="801" y="0"/>
                            </a:lnTo>
                            <a:lnTo>
                              <a:pt x="807" y="0"/>
                            </a:lnTo>
                            <a:lnTo>
                              <a:pt x="813" y="0"/>
                            </a:lnTo>
                            <a:lnTo>
                              <a:pt x="818" y="0"/>
                            </a:lnTo>
                            <a:lnTo>
                              <a:pt x="824" y="0"/>
                            </a:lnTo>
                            <a:lnTo>
                              <a:pt x="830" y="0"/>
                            </a:lnTo>
                            <a:lnTo>
                              <a:pt x="835" y="4"/>
                            </a:lnTo>
                            <a:lnTo>
                              <a:pt x="839" y="8"/>
                            </a:lnTo>
                            <a:lnTo>
                              <a:pt x="846" y="12"/>
                            </a:lnTo>
                            <a:lnTo>
                              <a:pt x="850" y="16"/>
                            </a:lnTo>
                            <a:lnTo>
                              <a:pt x="846" y="18"/>
                            </a:lnTo>
                            <a:lnTo>
                              <a:pt x="841" y="22"/>
                            </a:lnTo>
                            <a:lnTo>
                              <a:pt x="836" y="26"/>
                            </a:lnTo>
                            <a:lnTo>
                              <a:pt x="833" y="30"/>
                            </a:lnTo>
                            <a:lnTo>
                              <a:pt x="820" y="29"/>
                            </a:lnTo>
                            <a:lnTo>
                              <a:pt x="807" y="29"/>
                            </a:lnTo>
                            <a:lnTo>
                              <a:pt x="794" y="29"/>
                            </a:lnTo>
                            <a:lnTo>
                              <a:pt x="780" y="29"/>
                            </a:lnTo>
                            <a:lnTo>
                              <a:pt x="768" y="29"/>
                            </a:lnTo>
                            <a:lnTo>
                              <a:pt x="754" y="29"/>
                            </a:lnTo>
                            <a:lnTo>
                              <a:pt x="742" y="29"/>
                            </a:lnTo>
                            <a:lnTo>
                              <a:pt x="728" y="29"/>
                            </a:lnTo>
                            <a:lnTo>
                              <a:pt x="716" y="29"/>
                            </a:lnTo>
                            <a:lnTo>
                              <a:pt x="702" y="29"/>
                            </a:lnTo>
                            <a:lnTo>
                              <a:pt x="688" y="29"/>
                            </a:lnTo>
                            <a:lnTo>
                              <a:pt x="676" y="29"/>
                            </a:lnTo>
                            <a:lnTo>
                              <a:pt x="664" y="29"/>
                            </a:lnTo>
                            <a:lnTo>
                              <a:pt x="650" y="29"/>
                            </a:lnTo>
                            <a:lnTo>
                              <a:pt x="638" y="29"/>
                            </a:lnTo>
                            <a:lnTo>
                              <a:pt x="625" y="29"/>
                            </a:lnTo>
                            <a:lnTo>
                              <a:pt x="612" y="29"/>
                            </a:lnTo>
                            <a:lnTo>
                              <a:pt x="598" y="29"/>
                            </a:lnTo>
                            <a:lnTo>
                              <a:pt x="586" y="29"/>
                            </a:lnTo>
                            <a:lnTo>
                              <a:pt x="573" y="29"/>
                            </a:lnTo>
                            <a:lnTo>
                              <a:pt x="560" y="29"/>
                            </a:lnTo>
                            <a:lnTo>
                              <a:pt x="547" y="29"/>
                            </a:lnTo>
                            <a:lnTo>
                              <a:pt x="534" y="29"/>
                            </a:lnTo>
                            <a:lnTo>
                              <a:pt x="521" y="29"/>
                            </a:lnTo>
                            <a:lnTo>
                              <a:pt x="509" y="29"/>
                            </a:lnTo>
                            <a:lnTo>
                              <a:pt x="495" y="29"/>
                            </a:lnTo>
                            <a:lnTo>
                              <a:pt x="482" y="29"/>
                            </a:lnTo>
                            <a:lnTo>
                              <a:pt x="469" y="29"/>
                            </a:lnTo>
                            <a:lnTo>
                              <a:pt x="457" y="29"/>
                            </a:lnTo>
                            <a:lnTo>
                              <a:pt x="445" y="30"/>
                            </a:lnTo>
                            <a:lnTo>
                              <a:pt x="431" y="30"/>
                            </a:lnTo>
                            <a:lnTo>
                              <a:pt x="419" y="30"/>
                            </a:lnTo>
                            <a:lnTo>
                              <a:pt x="405" y="30"/>
                            </a:lnTo>
                            <a:lnTo>
                              <a:pt x="393" y="30"/>
                            </a:lnTo>
                            <a:lnTo>
                              <a:pt x="379" y="30"/>
                            </a:lnTo>
                            <a:lnTo>
                              <a:pt x="367" y="30"/>
                            </a:lnTo>
                            <a:lnTo>
                              <a:pt x="353" y="30"/>
                            </a:lnTo>
                            <a:lnTo>
                              <a:pt x="341" y="32"/>
                            </a:lnTo>
                            <a:lnTo>
                              <a:pt x="327" y="32"/>
                            </a:lnTo>
                            <a:lnTo>
                              <a:pt x="315" y="32"/>
                            </a:lnTo>
                            <a:lnTo>
                              <a:pt x="303" y="32"/>
                            </a:lnTo>
                            <a:lnTo>
                              <a:pt x="289" y="32"/>
                            </a:lnTo>
                            <a:lnTo>
                              <a:pt x="277" y="32"/>
                            </a:lnTo>
                            <a:lnTo>
                              <a:pt x="264" y="32"/>
                            </a:lnTo>
                            <a:lnTo>
                              <a:pt x="251" y="32"/>
                            </a:lnTo>
                            <a:lnTo>
                              <a:pt x="238" y="32"/>
                            </a:lnTo>
                            <a:lnTo>
                              <a:pt x="225" y="32"/>
                            </a:lnTo>
                            <a:lnTo>
                              <a:pt x="212" y="33"/>
                            </a:lnTo>
                            <a:lnTo>
                              <a:pt x="200" y="33"/>
                            </a:lnTo>
                            <a:lnTo>
                              <a:pt x="186" y="33"/>
                            </a:lnTo>
                            <a:lnTo>
                              <a:pt x="173" y="33"/>
                            </a:lnTo>
                            <a:lnTo>
                              <a:pt x="160" y="33"/>
                            </a:lnTo>
                            <a:lnTo>
                              <a:pt x="148" y="33"/>
                            </a:lnTo>
                            <a:lnTo>
                              <a:pt x="136" y="33"/>
                            </a:lnTo>
                            <a:lnTo>
                              <a:pt x="122" y="33"/>
                            </a:lnTo>
                            <a:lnTo>
                              <a:pt x="110" y="34"/>
                            </a:lnTo>
                            <a:lnTo>
                              <a:pt x="96" y="34"/>
                            </a:lnTo>
                            <a:lnTo>
                              <a:pt x="84" y="34"/>
                            </a:lnTo>
                            <a:lnTo>
                              <a:pt x="70" y="34"/>
                            </a:lnTo>
                            <a:lnTo>
                              <a:pt x="58" y="34"/>
                            </a:lnTo>
                            <a:lnTo>
                              <a:pt x="46" y="34"/>
                            </a:lnTo>
                            <a:lnTo>
                              <a:pt x="32" y="34"/>
                            </a:lnTo>
                            <a:lnTo>
                              <a:pt x="20" y="34"/>
                            </a:lnTo>
                            <a:lnTo>
                              <a:pt x="7" y="34"/>
                            </a:lnTo>
                            <a:lnTo>
                              <a:pt x="4" y="29"/>
                            </a:lnTo>
                            <a:lnTo>
                              <a:pt x="3" y="25"/>
                            </a:lnTo>
                            <a:lnTo>
                              <a:pt x="1" y="19"/>
                            </a:lnTo>
                            <a:lnTo>
                              <a:pt x="0" y="16"/>
                            </a:lnTo>
                            <a:lnTo>
                              <a:pt x="3" y="15"/>
                            </a:lnTo>
                            <a:lnTo>
                              <a:pt x="7" y="14"/>
                            </a:lnTo>
                            <a:lnTo>
                              <a:pt x="12" y="14"/>
                            </a:lnTo>
                            <a:lnTo>
                              <a:pt x="17" y="12"/>
                            </a:lnTo>
                            <a:lnTo>
                              <a:pt x="21" y="12"/>
                            </a:lnTo>
                            <a:lnTo>
                              <a:pt x="26" y="11"/>
                            </a:lnTo>
                            <a:lnTo>
                              <a:pt x="30" y="11"/>
                            </a:lnTo>
                            <a:lnTo>
                              <a:pt x="35" y="11"/>
                            </a:lnTo>
                            <a:lnTo>
                              <a:pt x="39" y="10"/>
                            </a:lnTo>
                            <a:lnTo>
                              <a:pt x="44" y="10"/>
                            </a:lnTo>
                            <a:lnTo>
                              <a:pt x="49" y="10"/>
                            </a:lnTo>
                            <a:lnTo>
                              <a:pt x="53" y="10"/>
                            </a:lnTo>
                            <a:lnTo>
                              <a:pt x="58" y="8"/>
                            </a:lnTo>
                            <a:lnTo>
                              <a:pt x="62" y="8"/>
                            </a:lnTo>
                            <a:lnTo>
                              <a:pt x="67" y="8"/>
                            </a:lnTo>
                            <a:lnTo>
                              <a:pt x="72" y="8"/>
                            </a:lnTo>
                            <a:lnTo>
                              <a:pt x="76" y="7"/>
                            </a:lnTo>
                            <a:lnTo>
                              <a:pt x="81" y="7"/>
                            </a:lnTo>
                            <a:lnTo>
                              <a:pt x="85" y="7"/>
                            </a:lnTo>
                            <a:lnTo>
                              <a:pt x="90" y="7"/>
                            </a:lnTo>
                            <a:lnTo>
                              <a:pt x="95" y="7"/>
                            </a:lnTo>
                            <a:lnTo>
                              <a:pt x="99" y="7"/>
                            </a:lnTo>
                            <a:lnTo>
                              <a:pt x="104" y="7"/>
                            </a:lnTo>
                            <a:lnTo>
                              <a:pt x="108" y="7"/>
                            </a:lnTo>
                            <a:lnTo>
                              <a:pt x="113" y="7"/>
                            </a:lnTo>
                            <a:lnTo>
                              <a:pt x="117" y="7"/>
                            </a:lnTo>
                            <a:lnTo>
                              <a:pt x="122" y="7"/>
                            </a:lnTo>
                            <a:lnTo>
                              <a:pt x="128" y="7"/>
                            </a:lnTo>
                            <a:lnTo>
                              <a:pt x="131" y="7"/>
                            </a:lnTo>
                            <a:lnTo>
                              <a:pt x="137" y="7"/>
                            </a:lnTo>
                            <a:lnTo>
                              <a:pt x="142" y="7"/>
                            </a:lnTo>
                            <a:lnTo>
                              <a:pt x="147" y="7"/>
                            </a:lnTo>
                            <a:lnTo>
                              <a:pt x="150" y="7"/>
                            </a:lnTo>
                            <a:lnTo>
                              <a:pt x="156" y="7"/>
                            </a:lnTo>
                            <a:lnTo>
                              <a:pt x="160" y="7"/>
                            </a:lnTo>
                            <a:lnTo>
                              <a:pt x="165" y="7"/>
                            </a:lnTo>
                            <a:lnTo>
                              <a:pt x="169" y="7"/>
                            </a:lnTo>
                            <a:lnTo>
                              <a:pt x="174" y="7"/>
                            </a:lnTo>
                            <a:lnTo>
                              <a:pt x="179" y="7"/>
                            </a:lnTo>
                            <a:lnTo>
                              <a:pt x="183" y="7"/>
                            </a:lnTo>
                            <a:lnTo>
                              <a:pt x="188" y="7"/>
                            </a:lnTo>
                            <a:lnTo>
                              <a:pt x="192" y="7"/>
                            </a:lnTo>
                            <a:lnTo>
                              <a:pt x="197" y="7"/>
                            </a:lnTo>
                            <a:lnTo>
                              <a:pt x="202" y="7"/>
                            </a:lnTo>
                            <a:lnTo>
                              <a:pt x="206" y="7"/>
                            </a:lnTo>
                            <a:lnTo>
                              <a:pt x="211" y="7"/>
                            </a:lnTo>
                            <a:lnTo>
                              <a:pt x="215" y="7"/>
                            </a:lnTo>
                            <a:lnTo>
                              <a:pt x="221" y="7"/>
                            </a:lnTo>
                            <a:lnTo>
                              <a:pt x="225" y="7"/>
                            </a:lnTo>
                            <a:lnTo>
                              <a:pt x="231" y="7"/>
                            </a:lnTo>
                            <a:lnTo>
                              <a:pt x="235" y="7"/>
                            </a:lnTo>
                            <a:lnTo>
                              <a:pt x="240" y="7"/>
                            </a:lnTo>
                            <a:lnTo>
                              <a:pt x="244" y="7"/>
                            </a:lnTo>
                            <a:lnTo>
                              <a:pt x="249" y="7"/>
                            </a:lnTo>
                            <a:lnTo>
                              <a:pt x="254" y="7"/>
                            </a:lnTo>
                            <a:lnTo>
                              <a:pt x="260" y="7"/>
                            </a:lnTo>
                            <a:lnTo>
                              <a:pt x="263" y="5"/>
                            </a:lnTo>
                            <a:lnTo>
                              <a:pt x="269" y="5"/>
                            </a:lnTo>
                            <a:lnTo>
                              <a:pt x="273" y="5"/>
                            </a:lnTo>
                            <a:lnTo>
                              <a:pt x="278" y="5"/>
                            </a:lnTo>
                            <a:lnTo>
                              <a:pt x="283" y="4"/>
                            </a:lnTo>
                            <a:lnTo>
                              <a:pt x="287" y="4"/>
                            </a:lnTo>
                            <a:lnTo>
                              <a:pt x="292" y="4"/>
                            </a:lnTo>
                            <a:lnTo>
                              <a:pt x="296" y="4"/>
                            </a:lnTo>
                            <a:lnTo>
                              <a:pt x="303" y="4"/>
                            </a:lnTo>
                            <a:lnTo>
                              <a:pt x="307" y="4"/>
                            </a:lnTo>
                            <a:lnTo>
                              <a:pt x="312" y="4"/>
                            </a:lnTo>
                            <a:lnTo>
                              <a:pt x="318" y="4"/>
                            </a:lnTo>
                            <a:lnTo>
                              <a:pt x="322" y="4"/>
                            </a:lnTo>
                            <a:lnTo>
                              <a:pt x="327" y="4"/>
                            </a:lnTo>
                            <a:lnTo>
                              <a:pt x="333" y="4"/>
                            </a:lnTo>
                            <a:lnTo>
                              <a:pt x="339" y="4"/>
                            </a:lnTo>
                            <a:lnTo>
                              <a:pt x="344" y="4"/>
                            </a:lnTo>
                            <a:lnTo>
                              <a:pt x="348" y="4"/>
                            </a:lnTo>
                            <a:lnTo>
                              <a:pt x="355" y="4"/>
                            </a:lnTo>
                            <a:lnTo>
                              <a:pt x="359" y="4"/>
                            </a:lnTo>
                            <a:lnTo>
                              <a:pt x="365" y="4"/>
                            </a:lnTo>
                            <a:lnTo>
                              <a:pt x="370" y="4"/>
                            </a:lnTo>
                            <a:lnTo>
                              <a:pt x="376" y="4"/>
                            </a:lnTo>
                            <a:lnTo>
                              <a:pt x="382" y="4"/>
                            </a:lnTo>
                            <a:lnTo>
                              <a:pt x="387" y="4"/>
                            </a:lnTo>
                            <a:lnTo>
                              <a:pt x="391" y="4"/>
                            </a:lnTo>
                            <a:lnTo>
                              <a:pt x="396" y="4"/>
                            </a:lnTo>
                            <a:lnTo>
                              <a:pt x="402" y="4"/>
                            </a:lnTo>
                            <a:lnTo>
                              <a:pt x="407" y="4"/>
                            </a:lnTo>
                            <a:lnTo>
                              <a:pt x="413" y="4"/>
                            </a:lnTo>
                            <a:lnTo>
                              <a:pt x="417" y="4"/>
                            </a:lnTo>
                            <a:lnTo>
                              <a:pt x="423" y="4"/>
                            </a:lnTo>
                            <a:lnTo>
                              <a:pt x="428" y="3"/>
                            </a:lnTo>
                            <a:lnTo>
                              <a:pt x="433" y="3"/>
                            </a:lnTo>
                            <a:lnTo>
                              <a:pt x="437" y="1"/>
                            </a:lnTo>
                            <a:lnTo>
                              <a:pt x="443" y="1"/>
                            </a:lnTo>
                            <a:lnTo>
                              <a:pt x="448" y="1"/>
                            </a:lnTo>
                            <a:lnTo>
                              <a:pt x="454" y="0"/>
                            </a:lnTo>
                            <a:lnTo>
                              <a:pt x="459" y="0"/>
                            </a:lnTo>
                            <a:lnTo>
                              <a:pt x="4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1" name="Freeform 81"/>
                      <p:cNvSpPr/>
                      <p:nvPr/>
                    </p:nvSpPr>
                    <p:spPr>
                      <a:xfrm>
                        <a:off x="3057120" y="2670480"/>
                        <a:ext cx="4320" cy="864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8640"/>
                          <a:gd name="textAreaBottom" fmla="*/ 9000 h 8640"/>
                        </a:gdLst>
                        <a:ahLst/>
                        <a:rect l="textAreaLeft" t="textAreaTop" r="textAreaRight" b="textAreaBottom"/>
                        <a:pathLst>
                          <a:path w="52" h="86">
                            <a:moveTo>
                              <a:pt x="9" y="0"/>
                            </a:moveTo>
                            <a:lnTo>
                              <a:pt x="15" y="1"/>
                            </a:lnTo>
                            <a:lnTo>
                              <a:pt x="21" y="5"/>
                            </a:lnTo>
                            <a:lnTo>
                              <a:pt x="24" y="8"/>
                            </a:lnTo>
                            <a:lnTo>
                              <a:pt x="29" y="11"/>
                            </a:lnTo>
                            <a:lnTo>
                              <a:pt x="32" y="14"/>
                            </a:lnTo>
                            <a:lnTo>
                              <a:pt x="34" y="19"/>
                            </a:lnTo>
                            <a:lnTo>
                              <a:pt x="35" y="23"/>
                            </a:lnTo>
                            <a:lnTo>
                              <a:pt x="38" y="29"/>
                            </a:lnTo>
                            <a:lnTo>
                              <a:pt x="38" y="33"/>
                            </a:lnTo>
                            <a:lnTo>
                              <a:pt x="40" y="38"/>
                            </a:lnTo>
                            <a:lnTo>
                              <a:pt x="40" y="44"/>
                            </a:lnTo>
                            <a:lnTo>
                              <a:pt x="41" y="48"/>
                            </a:lnTo>
                            <a:lnTo>
                              <a:pt x="43" y="54"/>
                            </a:lnTo>
                            <a:lnTo>
                              <a:pt x="46" y="58"/>
                            </a:lnTo>
                            <a:lnTo>
                              <a:pt x="49" y="62"/>
                            </a:lnTo>
                            <a:lnTo>
                              <a:pt x="52" y="67"/>
                            </a:lnTo>
                            <a:lnTo>
                              <a:pt x="52" y="71"/>
                            </a:lnTo>
                            <a:lnTo>
                              <a:pt x="49" y="77"/>
                            </a:lnTo>
                            <a:lnTo>
                              <a:pt x="46" y="82"/>
                            </a:lnTo>
                            <a:lnTo>
                              <a:pt x="44" y="86"/>
                            </a:lnTo>
                            <a:lnTo>
                              <a:pt x="41" y="85"/>
                            </a:lnTo>
                            <a:lnTo>
                              <a:pt x="37" y="85"/>
                            </a:lnTo>
                            <a:lnTo>
                              <a:pt x="34" y="82"/>
                            </a:lnTo>
                            <a:lnTo>
                              <a:pt x="32" y="82"/>
                            </a:lnTo>
                            <a:lnTo>
                              <a:pt x="26" y="78"/>
                            </a:lnTo>
                            <a:lnTo>
                              <a:pt x="23" y="74"/>
                            </a:lnTo>
                            <a:lnTo>
                              <a:pt x="18" y="70"/>
                            </a:lnTo>
                            <a:lnTo>
                              <a:pt x="15" y="65"/>
                            </a:lnTo>
                            <a:lnTo>
                              <a:pt x="12" y="60"/>
                            </a:lnTo>
                            <a:lnTo>
                              <a:pt x="11" y="55"/>
                            </a:lnTo>
                            <a:lnTo>
                              <a:pt x="8" y="48"/>
                            </a:lnTo>
                            <a:lnTo>
                              <a:pt x="6" y="43"/>
                            </a:lnTo>
                            <a:lnTo>
                              <a:pt x="4" y="37"/>
                            </a:lnTo>
                            <a:lnTo>
                              <a:pt x="4" y="32"/>
                            </a:lnTo>
                            <a:lnTo>
                              <a:pt x="3" y="26"/>
                            </a:lnTo>
                            <a:lnTo>
                              <a:pt x="1" y="21"/>
                            </a:lnTo>
                            <a:lnTo>
                              <a:pt x="0" y="15"/>
                            </a:lnTo>
                            <a:lnTo>
                              <a:pt x="0" y="10"/>
                            </a:lnTo>
                            <a:lnTo>
                              <a:pt x="1" y="8"/>
                            </a:lnTo>
                            <a:lnTo>
                              <a:pt x="4" y="5"/>
                            </a:lnTo>
                            <a:lnTo>
                              <a:pt x="8" y="3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2" name="Freeform 82"/>
                      <p:cNvSpPr/>
                      <p:nvPr/>
                    </p:nvSpPr>
                    <p:spPr>
                      <a:xfrm>
                        <a:off x="3050280" y="2671200"/>
                        <a:ext cx="3960" cy="7200"/>
                      </a:xfrm>
                      <a:custGeom>
                        <a:avLst/>
                        <a:gdLst>
                          <a:gd name="textAreaLeft" fmla="*/ 0 w 3960"/>
                          <a:gd name="textAreaRight" fmla="*/ 4320 w 396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8" h="73">
                            <a:moveTo>
                              <a:pt x="10" y="0"/>
                            </a:moveTo>
                            <a:lnTo>
                              <a:pt x="14" y="1"/>
                            </a:lnTo>
                            <a:lnTo>
                              <a:pt x="19" y="5"/>
                            </a:lnTo>
                            <a:lnTo>
                              <a:pt x="23" y="8"/>
                            </a:lnTo>
                            <a:lnTo>
                              <a:pt x="26" y="11"/>
                            </a:lnTo>
                            <a:lnTo>
                              <a:pt x="29" y="15"/>
                            </a:lnTo>
                            <a:lnTo>
                              <a:pt x="33" y="19"/>
                            </a:lnTo>
                            <a:lnTo>
                              <a:pt x="34" y="23"/>
                            </a:lnTo>
                            <a:lnTo>
                              <a:pt x="37" y="29"/>
                            </a:lnTo>
                            <a:lnTo>
                              <a:pt x="39" y="33"/>
                            </a:lnTo>
                            <a:lnTo>
                              <a:pt x="40" y="38"/>
                            </a:lnTo>
                            <a:lnTo>
                              <a:pt x="42" y="42"/>
                            </a:lnTo>
                            <a:lnTo>
                              <a:pt x="43" y="48"/>
                            </a:lnTo>
                            <a:lnTo>
                              <a:pt x="45" y="53"/>
                            </a:lnTo>
                            <a:lnTo>
                              <a:pt x="45" y="57"/>
                            </a:lnTo>
                            <a:lnTo>
                              <a:pt x="46" y="63"/>
                            </a:lnTo>
                            <a:lnTo>
                              <a:pt x="48" y="68"/>
                            </a:lnTo>
                            <a:lnTo>
                              <a:pt x="43" y="68"/>
                            </a:lnTo>
                            <a:lnTo>
                              <a:pt x="37" y="70"/>
                            </a:lnTo>
                            <a:lnTo>
                              <a:pt x="31" y="71"/>
                            </a:lnTo>
                            <a:lnTo>
                              <a:pt x="25" y="73"/>
                            </a:lnTo>
                            <a:lnTo>
                              <a:pt x="22" y="68"/>
                            </a:lnTo>
                            <a:lnTo>
                              <a:pt x="19" y="64"/>
                            </a:lnTo>
                            <a:lnTo>
                              <a:pt x="14" y="59"/>
                            </a:lnTo>
                            <a:lnTo>
                              <a:pt x="13" y="55"/>
                            </a:lnTo>
                            <a:lnTo>
                              <a:pt x="10" y="51"/>
                            </a:lnTo>
                            <a:lnTo>
                              <a:pt x="7" y="45"/>
                            </a:lnTo>
                            <a:lnTo>
                              <a:pt x="5" y="41"/>
                            </a:lnTo>
                            <a:lnTo>
                              <a:pt x="3" y="37"/>
                            </a:lnTo>
                            <a:lnTo>
                              <a:pt x="2" y="31"/>
                            </a:lnTo>
                            <a:lnTo>
                              <a:pt x="0" y="27"/>
                            </a:lnTo>
                            <a:lnTo>
                              <a:pt x="0" y="22"/>
                            </a:lnTo>
                            <a:lnTo>
                              <a:pt x="0" y="18"/>
                            </a:lnTo>
                            <a:lnTo>
                              <a:pt x="2" y="12"/>
                            </a:lnTo>
                            <a:lnTo>
                              <a:pt x="3" y="8"/>
                            </a:lnTo>
                            <a:lnTo>
                              <a:pt x="7" y="4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Freeform 83"/>
                      <p:cNvSpPr/>
                      <p:nvPr/>
                    </p:nvSpPr>
                    <p:spPr>
                      <a:xfrm>
                        <a:off x="3065040" y="2671920"/>
                        <a:ext cx="4680" cy="6840"/>
                      </a:xfrm>
                      <a:custGeom>
                        <a:avLst/>
                        <a:gdLst>
                          <a:gd name="textAreaLeft" fmla="*/ 0 w 4680"/>
                          <a:gd name="textAreaRight" fmla="*/ 4680 w 46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55" h="70">
                            <a:moveTo>
                              <a:pt x="12" y="0"/>
                            </a:moveTo>
                            <a:lnTo>
                              <a:pt x="16" y="2"/>
                            </a:lnTo>
                            <a:lnTo>
                              <a:pt x="21" y="4"/>
                            </a:lnTo>
                            <a:lnTo>
                              <a:pt x="24" y="7"/>
                            </a:lnTo>
                            <a:lnTo>
                              <a:pt x="29" y="11"/>
                            </a:lnTo>
                            <a:lnTo>
                              <a:pt x="32" y="14"/>
                            </a:lnTo>
                            <a:lnTo>
                              <a:pt x="35" y="18"/>
                            </a:lnTo>
                            <a:lnTo>
                              <a:pt x="38" y="24"/>
                            </a:lnTo>
                            <a:lnTo>
                              <a:pt x="39" y="28"/>
                            </a:lnTo>
                            <a:lnTo>
                              <a:pt x="42" y="33"/>
                            </a:lnTo>
                            <a:lnTo>
                              <a:pt x="44" y="37"/>
                            </a:lnTo>
                            <a:lnTo>
                              <a:pt x="45" y="43"/>
                            </a:lnTo>
                            <a:lnTo>
                              <a:pt x="47" y="48"/>
                            </a:lnTo>
                            <a:lnTo>
                              <a:pt x="49" y="53"/>
                            </a:lnTo>
                            <a:lnTo>
                              <a:pt x="50" y="57"/>
                            </a:lnTo>
                            <a:lnTo>
                              <a:pt x="52" y="62"/>
                            </a:lnTo>
                            <a:lnTo>
                              <a:pt x="55" y="66"/>
                            </a:lnTo>
                            <a:lnTo>
                              <a:pt x="49" y="68"/>
                            </a:lnTo>
                            <a:lnTo>
                              <a:pt x="42" y="69"/>
                            </a:lnTo>
                            <a:lnTo>
                              <a:pt x="38" y="70"/>
                            </a:lnTo>
                            <a:lnTo>
                              <a:pt x="32" y="70"/>
                            </a:lnTo>
                            <a:lnTo>
                              <a:pt x="27" y="66"/>
                            </a:lnTo>
                            <a:lnTo>
                              <a:pt x="23" y="64"/>
                            </a:lnTo>
                            <a:lnTo>
                              <a:pt x="19" y="59"/>
                            </a:lnTo>
                            <a:lnTo>
                              <a:pt x="16" y="55"/>
                            </a:lnTo>
                            <a:lnTo>
                              <a:pt x="12" y="50"/>
                            </a:lnTo>
                            <a:lnTo>
                              <a:pt x="9" y="46"/>
                            </a:lnTo>
                            <a:lnTo>
                              <a:pt x="6" y="42"/>
                            </a:lnTo>
                            <a:lnTo>
                              <a:pt x="4" y="36"/>
                            </a:lnTo>
                            <a:lnTo>
                              <a:pt x="1" y="32"/>
                            </a:lnTo>
                            <a:lnTo>
                              <a:pt x="1" y="26"/>
                            </a:lnTo>
                            <a:lnTo>
                              <a:pt x="0" y="21"/>
                            </a:lnTo>
                            <a:lnTo>
                              <a:pt x="1" y="17"/>
                            </a:lnTo>
                            <a:lnTo>
                              <a:pt x="1" y="11"/>
                            </a:lnTo>
                            <a:lnTo>
                              <a:pt x="4" y="9"/>
                            </a:lnTo>
                            <a:lnTo>
                              <a:pt x="7" y="3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Freeform 84"/>
                      <p:cNvSpPr/>
                      <p:nvPr/>
                    </p:nvSpPr>
                    <p:spPr>
                      <a:xfrm>
                        <a:off x="3071880" y="2672640"/>
                        <a:ext cx="3960" cy="7200"/>
                      </a:xfrm>
                      <a:custGeom>
                        <a:avLst/>
                        <a:gdLst>
                          <a:gd name="textAreaLeft" fmla="*/ 0 w 3960"/>
                          <a:gd name="textAreaRight" fmla="*/ 3960 w 396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7" h="74">
                            <a:moveTo>
                              <a:pt x="9" y="0"/>
                            </a:moveTo>
                            <a:lnTo>
                              <a:pt x="15" y="2"/>
                            </a:lnTo>
                            <a:lnTo>
                              <a:pt x="19" y="4"/>
                            </a:lnTo>
                            <a:lnTo>
                              <a:pt x="24" y="7"/>
                            </a:lnTo>
                            <a:lnTo>
                              <a:pt x="29" y="11"/>
                            </a:lnTo>
                            <a:lnTo>
                              <a:pt x="30" y="14"/>
                            </a:lnTo>
                            <a:lnTo>
                              <a:pt x="33" y="19"/>
                            </a:lnTo>
                            <a:lnTo>
                              <a:pt x="36" y="25"/>
                            </a:lnTo>
                            <a:lnTo>
                              <a:pt x="38" y="29"/>
                            </a:lnTo>
                            <a:lnTo>
                              <a:pt x="38" y="35"/>
                            </a:lnTo>
                            <a:lnTo>
                              <a:pt x="39" y="40"/>
                            </a:lnTo>
                            <a:lnTo>
                              <a:pt x="41" y="46"/>
                            </a:lnTo>
                            <a:lnTo>
                              <a:pt x="42" y="51"/>
                            </a:lnTo>
                            <a:lnTo>
                              <a:pt x="42" y="55"/>
                            </a:lnTo>
                            <a:lnTo>
                              <a:pt x="44" y="61"/>
                            </a:lnTo>
                            <a:lnTo>
                              <a:pt x="45" y="65"/>
                            </a:lnTo>
                            <a:lnTo>
                              <a:pt x="47" y="70"/>
                            </a:lnTo>
                            <a:lnTo>
                              <a:pt x="41" y="70"/>
                            </a:lnTo>
                            <a:lnTo>
                              <a:pt x="35" y="72"/>
                            </a:lnTo>
                            <a:lnTo>
                              <a:pt x="29" y="73"/>
                            </a:lnTo>
                            <a:lnTo>
                              <a:pt x="26" y="74"/>
                            </a:lnTo>
                            <a:lnTo>
                              <a:pt x="21" y="70"/>
                            </a:lnTo>
                            <a:lnTo>
                              <a:pt x="18" y="66"/>
                            </a:lnTo>
                            <a:lnTo>
                              <a:pt x="15" y="61"/>
                            </a:lnTo>
                            <a:lnTo>
                              <a:pt x="12" y="57"/>
                            </a:lnTo>
                            <a:lnTo>
                              <a:pt x="9" y="51"/>
                            </a:lnTo>
                            <a:lnTo>
                              <a:pt x="7" y="47"/>
                            </a:lnTo>
                            <a:lnTo>
                              <a:pt x="4" y="41"/>
                            </a:lnTo>
                            <a:lnTo>
                              <a:pt x="4" y="37"/>
                            </a:lnTo>
                            <a:lnTo>
                              <a:pt x="1" y="32"/>
                            </a:lnTo>
                            <a:lnTo>
                              <a:pt x="1" y="26"/>
                            </a:lnTo>
                            <a:lnTo>
                              <a:pt x="0" y="22"/>
                            </a:lnTo>
                            <a:lnTo>
                              <a:pt x="1" y="17"/>
                            </a:lnTo>
                            <a:lnTo>
                              <a:pt x="1" y="13"/>
                            </a:lnTo>
                            <a:lnTo>
                              <a:pt x="3" y="8"/>
                            </a:lnTo>
                            <a:lnTo>
                              <a:pt x="6" y="4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Freeform 85"/>
                      <p:cNvSpPr/>
                      <p:nvPr/>
                    </p:nvSpPr>
                    <p:spPr>
                      <a:xfrm>
                        <a:off x="2989080" y="2615400"/>
                        <a:ext cx="4680" cy="5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52" h="53">
                            <a:moveTo>
                              <a:pt x="38" y="0"/>
                            </a:moveTo>
                            <a:lnTo>
                              <a:pt x="41" y="0"/>
                            </a:lnTo>
                            <a:lnTo>
                              <a:pt x="44" y="1"/>
                            </a:lnTo>
                            <a:lnTo>
                              <a:pt x="46" y="2"/>
                            </a:lnTo>
                            <a:lnTo>
                              <a:pt x="49" y="4"/>
                            </a:lnTo>
                            <a:lnTo>
                              <a:pt x="50" y="8"/>
                            </a:lnTo>
                            <a:lnTo>
                              <a:pt x="52" y="13"/>
                            </a:lnTo>
                            <a:lnTo>
                              <a:pt x="50" y="19"/>
                            </a:lnTo>
                            <a:lnTo>
                              <a:pt x="49" y="24"/>
                            </a:lnTo>
                            <a:lnTo>
                              <a:pt x="46" y="30"/>
                            </a:lnTo>
                            <a:lnTo>
                              <a:pt x="43" y="37"/>
                            </a:lnTo>
                            <a:lnTo>
                              <a:pt x="38" y="41"/>
                            </a:lnTo>
                            <a:lnTo>
                              <a:pt x="32" y="46"/>
                            </a:lnTo>
                            <a:lnTo>
                              <a:pt x="27" y="49"/>
                            </a:lnTo>
                            <a:lnTo>
                              <a:pt x="21" y="53"/>
                            </a:lnTo>
                            <a:lnTo>
                              <a:pt x="15" y="53"/>
                            </a:lnTo>
                            <a:lnTo>
                              <a:pt x="9" y="53"/>
                            </a:lnTo>
                            <a:lnTo>
                              <a:pt x="4" y="50"/>
                            </a:lnTo>
                            <a:lnTo>
                              <a:pt x="0" y="48"/>
                            </a:lnTo>
                            <a:lnTo>
                              <a:pt x="0" y="43"/>
                            </a:lnTo>
                            <a:lnTo>
                              <a:pt x="0" y="39"/>
                            </a:lnTo>
                            <a:lnTo>
                              <a:pt x="1" y="35"/>
                            </a:lnTo>
                            <a:lnTo>
                              <a:pt x="3" y="33"/>
                            </a:lnTo>
                            <a:lnTo>
                              <a:pt x="4" y="28"/>
                            </a:lnTo>
                            <a:lnTo>
                              <a:pt x="6" y="26"/>
                            </a:lnTo>
                            <a:lnTo>
                              <a:pt x="9" y="23"/>
                            </a:lnTo>
                            <a:lnTo>
                              <a:pt x="12" y="19"/>
                            </a:lnTo>
                            <a:lnTo>
                              <a:pt x="14" y="16"/>
                            </a:lnTo>
                            <a:lnTo>
                              <a:pt x="17" y="12"/>
                            </a:lnTo>
                            <a:lnTo>
                              <a:pt x="20" y="9"/>
                            </a:lnTo>
                            <a:lnTo>
                              <a:pt x="24" y="8"/>
                            </a:lnTo>
                            <a:lnTo>
                              <a:pt x="27" y="5"/>
                            </a:lnTo>
                            <a:lnTo>
                              <a:pt x="30" y="2"/>
                            </a:lnTo>
                            <a:lnTo>
                              <a:pt x="34" y="1"/>
                            </a:lnTo>
                            <a:lnTo>
                              <a:pt x="3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Freeform 86"/>
                      <p:cNvSpPr/>
                      <p:nvPr/>
                    </p:nvSpPr>
                    <p:spPr>
                      <a:xfrm>
                        <a:off x="2989080" y="2620080"/>
                        <a:ext cx="5400" cy="828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8280"/>
                          <a:gd name="textAreaBottom" fmla="*/ 8640 h 8280"/>
                        </a:gdLst>
                        <a:ahLst/>
                        <a:rect l="textAreaLeft" t="textAreaTop" r="textAreaRight" b="textAreaBottom"/>
                        <a:pathLst>
                          <a:path w="63" h="84">
                            <a:moveTo>
                              <a:pt x="47" y="0"/>
                            </a:moveTo>
                            <a:lnTo>
                              <a:pt x="50" y="1"/>
                            </a:lnTo>
                            <a:lnTo>
                              <a:pt x="53" y="4"/>
                            </a:lnTo>
                            <a:lnTo>
                              <a:pt x="55" y="5"/>
                            </a:lnTo>
                            <a:lnTo>
                              <a:pt x="58" y="8"/>
                            </a:lnTo>
                            <a:lnTo>
                              <a:pt x="61" y="14"/>
                            </a:lnTo>
                            <a:lnTo>
                              <a:pt x="63" y="18"/>
                            </a:lnTo>
                            <a:lnTo>
                              <a:pt x="63" y="23"/>
                            </a:lnTo>
                            <a:lnTo>
                              <a:pt x="61" y="29"/>
                            </a:lnTo>
                            <a:lnTo>
                              <a:pt x="60" y="34"/>
                            </a:lnTo>
                            <a:lnTo>
                              <a:pt x="56" y="41"/>
                            </a:lnTo>
                            <a:lnTo>
                              <a:pt x="52" y="47"/>
                            </a:lnTo>
                            <a:lnTo>
                              <a:pt x="49" y="52"/>
                            </a:lnTo>
                            <a:lnTo>
                              <a:pt x="44" y="58"/>
                            </a:lnTo>
                            <a:lnTo>
                              <a:pt x="40" y="63"/>
                            </a:lnTo>
                            <a:lnTo>
                              <a:pt x="35" y="69"/>
                            </a:lnTo>
                            <a:lnTo>
                              <a:pt x="32" y="74"/>
                            </a:lnTo>
                            <a:lnTo>
                              <a:pt x="27" y="78"/>
                            </a:lnTo>
                            <a:lnTo>
                              <a:pt x="24" y="84"/>
                            </a:lnTo>
                            <a:lnTo>
                              <a:pt x="18" y="82"/>
                            </a:lnTo>
                            <a:lnTo>
                              <a:pt x="12" y="81"/>
                            </a:lnTo>
                            <a:lnTo>
                              <a:pt x="9" y="80"/>
                            </a:lnTo>
                            <a:lnTo>
                              <a:pt x="6" y="80"/>
                            </a:lnTo>
                            <a:lnTo>
                              <a:pt x="3" y="80"/>
                            </a:lnTo>
                            <a:lnTo>
                              <a:pt x="0" y="80"/>
                            </a:lnTo>
                            <a:lnTo>
                              <a:pt x="1" y="74"/>
                            </a:lnTo>
                            <a:lnTo>
                              <a:pt x="4" y="69"/>
                            </a:lnTo>
                            <a:lnTo>
                              <a:pt x="6" y="63"/>
                            </a:lnTo>
                            <a:lnTo>
                              <a:pt x="9" y="58"/>
                            </a:lnTo>
                            <a:lnTo>
                              <a:pt x="12" y="52"/>
                            </a:lnTo>
                            <a:lnTo>
                              <a:pt x="15" y="47"/>
                            </a:lnTo>
                            <a:lnTo>
                              <a:pt x="17" y="43"/>
                            </a:lnTo>
                            <a:lnTo>
                              <a:pt x="21" y="38"/>
                            </a:lnTo>
                            <a:lnTo>
                              <a:pt x="23" y="33"/>
                            </a:lnTo>
                            <a:lnTo>
                              <a:pt x="26" y="27"/>
                            </a:lnTo>
                            <a:lnTo>
                              <a:pt x="29" y="23"/>
                            </a:lnTo>
                            <a:lnTo>
                              <a:pt x="34" y="19"/>
                            </a:lnTo>
                            <a:lnTo>
                              <a:pt x="37" y="14"/>
                            </a:lnTo>
                            <a:lnTo>
                              <a:pt x="40" y="10"/>
                            </a:lnTo>
                            <a:lnTo>
                              <a:pt x="44" y="4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Freeform 87"/>
                      <p:cNvSpPr/>
                      <p:nvPr/>
                    </p:nvSpPr>
                    <p:spPr>
                      <a:xfrm>
                        <a:off x="2989080" y="2628720"/>
                        <a:ext cx="6480" cy="10080"/>
                      </a:xfrm>
                      <a:custGeom>
                        <a:avLst/>
                        <a:gdLst>
                          <a:gd name="textAreaLeft" fmla="*/ 0 w 6480"/>
                          <a:gd name="textAreaRight" fmla="*/ 6840 w 6480"/>
                          <a:gd name="textAreaTop" fmla="*/ 0 h 10080"/>
                          <a:gd name="textAreaBottom" fmla="*/ 10440 h 10080"/>
                        </a:gdLst>
                        <a:ahLst/>
                        <a:rect l="textAreaLeft" t="textAreaTop" r="textAreaRight" b="textAreaBottom"/>
                        <a:pathLst>
                          <a:path w="72" h="103">
                            <a:moveTo>
                              <a:pt x="55" y="0"/>
                            </a:moveTo>
                            <a:lnTo>
                              <a:pt x="58" y="1"/>
                            </a:lnTo>
                            <a:lnTo>
                              <a:pt x="63" y="4"/>
                            </a:lnTo>
                            <a:lnTo>
                              <a:pt x="64" y="7"/>
                            </a:lnTo>
                            <a:lnTo>
                              <a:pt x="67" y="8"/>
                            </a:lnTo>
                            <a:lnTo>
                              <a:pt x="69" y="13"/>
                            </a:lnTo>
                            <a:lnTo>
                              <a:pt x="72" y="19"/>
                            </a:lnTo>
                            <a:lnTo>
                              <a:pt x="70" y="24"/>
                            </a:lnTo>
                            <a:lnTo>
                              <a:pt x="69" y="30"/>
                            </a:lnTo>
                            <a:lnTo>
                              <a:pt x="66" y="35"/>
                            </a:lnTo>
                            <a:lnTo>
                              <a:pt x="63" y="41"/>
                            </a:lnTo>
                            <a:lnTo>
                              <a:pt x="60" y="46"/>
                            </a:lnTo>
                            <a:lnTo>
                              <a:pt x="55" y="53"/>
                            </a:lnTo>
                            <a:lnTo>
                              <a:pt x="50" y="57"/>
                            </a:lnTo>
                            <a:lnTo>
                              <a:pt x="46" y="64"/>
                            </a:lnTo>
                            <a:lnTo>
                              <a:pt x="43" y="70"/>
                            </a:lnTo>
                            <a:lnTo>
                              <a:pt x="40" y="75"/>
                            </a:lnTo>
                            <a:lnTo>
                              <a:pt x="38" y="81"/>
                            </a:lnTo>
                            <a:lnTo>
                              <a:pt x="38" y="86"/>
                            </a:lnTo>
                            <a:lnTo>
                              <a:pt x="32" y="90"/>
                            </a:lnTo>
                            <a:lnTo>
                              <a:pt x="27" y="94"/>
                            </a:lnTo>
                            <a:lnTo>
                              <a:pt x="21" y="99"/>
                            </a:lnTo>
                            <a:lnTo>
                              <a:pt x="17" y="103"/>
                            </a:lnTo>
                            <a:lnTo>
                              <a:pt x="12" y="100"/>
                            </a:lnTo>
                            <a:lnTo>
                              <a:pt x="9" y="97"/>
                            </a:lnTo>
                            <a:lnTo>
                              <a:pt x="4" y="93"/>
                            </a:lnTo>
                            <a:lnTo>
                              <a:pt x="0" y="90"/>
                            </a:lnTo>
                            <a:lnTo>
                              <a:pt x="0" y="88"/>
                            </a:lnTo>
                            <a:lnTo>
                              <a:pt x="1" y="83"/>
                            </a:lnTo>
                            <a:lnTo>
                              <a:pt x="1" y="81"/>
                            </a:lnTo>
                            <a:lnTo>
                              <a:pt x="3" y="78"/>
                            </a:lnTo>
                            <a:lnTo>
                              <a:pt x="6" y="71"/>
                            </a:lnTo>
                            <a:lnTo>
                              <a:pt x="9" y="66"/>
                            </a:lnTo>
                            <a:lnTo>
                              <a:pt x="12" y="60"/>
                            </a:lnTo>
                            <a:lnTo>
                              <a:pt x="17" y="55"/>
                            </a:lnTo>
                            <a:lnTo>
                              <a:pt x="20" y="49"/>
                            </a:lnTo>
                            <a:lnTo>
                              <a:pt x="24" y="44"/>
                            </a:lnTo>
                            <a:lnTo>
                              <a:pt x="29" y="38"/>
                            </a:lnTo>
                            <a:lnTo>
                              <a:pt x="32" y="31"/>
                            </a:lnTo>
                            <a:lnTo>
                              <a:pt x="35" y="26"/>
                            </a:lnTo>
                            <a:lnTo>
                              <a:pt x="40" y="22"/>
                            </a:lnTo>
                            <a:lnTo>
                              <a:pt x="44" y="16"/>
                            </a:lnTo>
                            <a:lnTo>
                              <a:pt x="47" y="11"/>
                            </a:lnTo>
                            <a:lnTo>
                              <a:pt x="52" y="5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8" name="Freeform 88"/>
                      <p:cNvSpPr/>
                      <p:nvPr/>
                    </p:nvSpPr>
                    <p:spPr>
                      <a:xfrm>
                        <a:off x="3018600" y="2600280"/>
                        <a:ext cx="5400" cy="360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3600"/>
                          <a:gd name="textAreaBottom" fmla="*/ 3960 h 3600"/>
                        </a:gdLst>
                        <a:ahLst/>
                        <a:rect l="textAreaLeft" t="textAreaTop" r="textAreaRight" b="textAreaBottom"/>
                        <a:pathLst>
                          <a:path w="62" h="39">
                            <a:moveTo>
                              <a:pt x="12" y="0"/>
                            </a:moveTo>
                            <a:lnTo>
                              <a:pt x="15" y="0"/>
                            </a:lnTo>
                            <a:lnTo>
                              <a:pt x="18" y="0"/>
                            </a:lnTo>
                            <a:lnTo>
                              <a:pt x="24" y="2"/>
                            </a:lnTo>
                            <a:lnTo>
                              <a:pt x="29" y="3"/>
                            </a:lnTo>
                            <a:lnTo>
                              <a:pt x="35" y="6"/>
                            </a:lnTo>
                            <a:lnTo>
                              <a:pt x="41" y="9"/>
                            </a:lnTo>
                            <a:lnTo>
                              <a:pt x="46" y="10"/>
                            </a:lnTo>
                            <a:lnTo>
                              <a:pt x="52" y="14"/>
                            </a:lnTo>
                            <a:lnTo>
                              <a:pt x="55" y="15"/>
                            </a:lnTo>
                            <a:lnTo>
                              <a:pt x="59" y="20"/>
                            </a:lnTo>
                            <a:lnTo>
                              <a:pt x="61" y="22"/>
                            </a:lnTo>
                            <a:lnTo>
                              <a:pt x="62" y="26"/>
                            </a:lnTo>
                            <a:lnTo>
                              <a:pt x="61" y="29"/>
                            </a:lnTo>
                            <a:lnTo>
                              <a:pt x="59" y="32"/>
                            </a:lnTo>
                            <a:lnTo>
                              <a:pt x="56" y="35"/>
                            </a:lnTo>
                            <a:lnTo>
                              <a:pt x="55" y="36"/>
                            </a:lnTo>
                            <a:lnTo>
                              <a:pt x="52" y="37"/>
                            </a:lnTo>
                            <a:lnTo>
                              <a:pt x="49" y="39"/>
                            </a:lnTo>
                            <a:lnTo>
                              <a:pt x="44" y="39"/>
                            </a:lnTo>
                            <a:lnTo>
                              <a:pt x="41" y="39"/>
                            </a:lnTo>
                            <a:lnTo>
                              <a:pt x="36" y="37"/>
                            </a:lnTo>
                            <a:lnTo>
                              <a:pt x="32" y="37"/>
                            </a:lnTo>
                            <a:lnTo>
                              <a:pt x="26" y="35"/>
                            </a:lnTo>
                            <a:lnTo>
                              <a:pt x="21" y="33"/>
                            </a:lnTo>
                            <a:lnTo>
                              <a:pt x="15" y="31"/>
                            </a:lnTo>
                            <a:lnTo>
                              <a:pt x="10" y="28"/>
                            </a:lnTo>
                            <a:lnTo>
                              <a:pt x="6" y="25"/>
                            </a:lnTo>
                            <a:lnTo>
                              <a:pt x="3" y="21"/>
                            </a:ln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0" y="10"/>
                            </a:lnTo>
                            <a:lnTo>
                              <a:pt x="3" y="7"/>
                            </a:lnTo>
                            <a:lnTo>
                              <a:pt x="4" y="6"/>
                            </a:lnTo>
                            <a:lnTo>
                              <a:pt x="6" y="3"/>
                            </a:lnTo>
                            <a:lnTo>
                              <a:pt x="9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9" name="Freeform 89"/>
                      <p:cNvSpPr/>
                      <p:nvPr/>
                    </p:nvSpPr>
                    <p:spPr>
                      <a:xfrm>
                        <a:off x="3018600" y="260532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4" h="42">
                            <a:moveTo>
                              <a:pt x="12" y="0"/>
                            </a:moveTo>
                            <a:lnTo>
                              <a:pt x="15" y="2"/>
                            </a:lnTo>
                            <a:lnTo>
                              <a:pt x="20" y="2"/>
                            </a:lnTo>
                            <a:lnTo>
                              <a:pt x="24" y="5"/>
                            </a:lnTo>
                            <a:lnTo>
                              <a:pt x="30" y="6"/>
                            </a:lnTo>
                            <a:lnTo>
                              <a:pt x="35" y="7"/>
                            </a:lnTo>
                            <a:lnTo>
                              <a:pt x="41" y="10"/>
                            </a:lnTo>
                            <a:lnTo>
                              <a:pt x="47" y="11"/>
                            </a:lnTo>
                            <a:lnTo>
                              <a:pt x="52" y="16"/>
                            </a:lnTo>
                            <a:lnTo>
                              <a:pt x="56" y="17"/>
                            </a:lnTo>
                            <a:lnTo>
                              <a:pt x="59" y="20"/>
                            </a:lnTo>
                            <a:lnTo>
                              <a:pt x="62" y="24"/>
                            </a:lnTo>
                            <a:lnTo>
                              <a:pt x="64" y="27"/>
                            </a:lnTo>
                            <a:lnTo>
                              <a:pt x="62" y="31"/>
                            </a:lnTo>
                            <a:lnTo>
                              <a:pt x="61" y="33"/>
                            </a:lnTo>
                            <a:lnTo>
                              <a:pt x="58" y="35"/>
                            </a:lnTo>
                            <a:lnTo>
                              <a:pt x="56" y="38"/>
                            </a:lnTo>
                            <a:lnTo>
                              <a:pt x="53" y="39"/>
                            </a:lnTo>
                            <a:lnTo>
                              <a:pt x="50" y="42"/>
                            </a:lnTo>
                            <a:lnTo>
                              <a:pt x="46" y="42"/>
                            </a:lnTo>
                            <a:lnTo>
                              <a:pt x="41" y="42"/>
                            </a:lnTo>
                            <a:lnTo>
                              <a:pt x="35" y="40"/>
                            </a:lnTo>
                            <a:lnTo>
                              <a:pt x="30" y="39"/>
                            </a:lnTo>
                            <a:lnTo>
                              <a:pt x="26" y="36"/>
                            </a:lnTo>
                            <a:lnTo>
                              <a:pt x="20" y="35"/>
                            </a:lnTo>
                            <a:lnTo>
                              <a:pt x="15" y="32"/>
                            </a:lnTo>
                            <a:lnTo>
                              <a:pt x="10" y="29"/>
                            </a:lnTo>
                            <a:lnTo>
                              <a:pt x="4" y="25"/>
                            </a:lnTo>
                            <a:lnTo>
                              <a:pt x="1" y="21"/>
                            </a:ln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0" y="10"/>
                            </a:lnTo>
                            <a:lnTo>
                              <a:pt x="1" y="7"/>
                            </a:lnTo>
                            <a:lnTo>
                              <a:pt x="3" y="5"/>
                            </a:lnTo>
                            <a:lnTo>
                              <a:pt x="6" y="3"/>
                            </a:lnTo>
                            <a:lnTo>
                              <a:pt x="7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Freeform 90"/>
                      <p:cNvSpPr/>
                      <p:nvPr/>
                    </p:nvSpPr>
                    <p:spPr>
                      <a:xfrm>
                        <a:off x="3018240" y="261180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7" h="39">
                            <a:moveTo>
                              <a:pt x="12" y="0"/>
                            </a:moveTo>
                            <a:lnTo>
                              <a:pt x="14" y="0"/>
                            </a:lnTo>
                            <a:lnTo>
                              <a:pt x="18" y="2"/>
                            </a:lnTo>
                            <a:lnTo>
                              <a:pt x="23" y="2"/>
                            </a:lnTo>
                            <a:lnTo>
                              <a:pt x="31" y="3"/>
                            </a:lnTo>
                            <a:lnTo>
                              <a:pt x="35" y="4"/>
                            </a:lnTo>
                            <a:lnTo>
                              <a:pt x="41" y="7"/>
                            </a:lnTo>
                            <a:lnTo>
                              <a:pt x="48" y="8"/>
                            </a:lnTo>
                            <a:lnTo>
                              <a:pt x="54" y="11"/>
                            </a:lnTo>
                            <a:lnTo>
                              <a:pt x="58" y="14"/>
                            </a:lnTo>
                            <a:lnTo>
                              <a:pt x="63" y="17"/>
                            </a:lnTo>
                            <a:lnTo>
                              <a:pt x="66" y="19"/>
                            </a:lnTo>
                            <a:lnTo>
                              <a:pt x="67" y="22"/>
                            </a:lnTo>
                            <a:lnTo>
                              <a:pt x="67" y="26"/>
                            </a:lnTo>
                            <a:lnTo>
                              <a:pt x="66" y="30"/>
                            </a:lnTo>
                            <a:lnTo>
                              <a:pt x="63" y="32"/>
                            </a:lnTo>
                            <a:lnTo>
                              <a:pt x="61" y="35"/>
                            </a:lnTo>
                            <a:lnTo>
                              <a:pt x="58" y="36"/>
                            </a:lnTo>
                            <a:lnTo>
                              <a:pt x="55" y="39"/>
                            </a:lnTo>
                            <a:lnTo>
                              <a:pt x="51" y="39"/>
                            </a:lnTo>
                            <a:lnTo>
                              <a:pt x="46" y="37"/>
                            </a:lnTo>
                            <a:lnTo>
                              <a:pt x="40" y="36"/>
                            </a:lnTo>
                            <a:lnTo>
                              <a:pt x="34" y="35"/>
                            </a:lnTo>
                            <a:lnTo>
                              <a:pt x="28" y="33"/>
                            </a:lnTo>
                            <a:lnTo>
                              <a:pt x="23" y="32"/>
                            </a:lnTo>
                            <a:lnTo>
                              <a:pt x="17" y="29"/>
                            </a:lnTo>
                            <a:lnTo>
                              <a:pt x="12" y="28"/>
                            </a:lnTo>
                            <a:lnTo>
                              <a:pt x="8" y="24"/>
                            </a:lnTo>
                            <a:lnTo>
                              <a:pt x="5" y="21"/>
                            </a:lnTo>
                            <a:lnTo>
                              <a:pt x="2" y="18"/>
                            </a:lnTo>
                            <a:lnTo>
                              <a:pt x="0" y="15"/>
                            </a:lnTo>
                            <a:lnTo>
                              <a:pt x="0" y="11"/>
                            </a:lnTo>
                            <a:lnTo>
                              <a:pt x="2" y="7"/>
                            </a:lnTo>
                            <a:lnTo>
                              <a:pt x="6" y="4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Freeform 91"/>
                      <p:cNvSpPr/>
                      <p:nvPr/>
                    </p:nvSpPr>
                    <p:spPr>
                      <a:xfrm>
                        <a:off x="3020040" y="2616840"/>
                        <a:ext cx="5040" cy="432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4320"/>
                          <a:gd name="textAreaBottom" fmla="*/ 4320 h 4320"/>
                        </a:gdLst>
                        <a:ahLst/>
                        <a:rect l="textAreaLeft" t="textAreaTop" r="textAreaRight" b="textAreaBottom"/>
                        <a:pathLst>
                          <a:path w="56" h="45">
                            <a:moveTo>
                              <a:pt x="14" y="0"/>
                            </a:moveTo>
                            <a:lnTo>
                              <a:pt x="17" y="1"/>
                            </a:lnTo>
                            <a:lnTo>
                              <a:pt x="20" y="2"/>
                            </a:lnTo>
                            <a:lnTo>
                              <a:pt x="25" y="4"/>
                            </a:lnTo>
                            <a:lnTo>
                              <a:pt x="30" y="7"/>
                            </a:lnTo>
                            <a:lnTo>
                              <a:pt x="34" y="8"/>
                            </a:lnTo>
                            <a:lnTo>
                              <a:pt x="39" y="12"/>
                            </a:lnTo>
                            <a:lnTo>
                              <a:pt x="43" y="15"/>
                            </a:lnTo>
                            <a:lnTo>
                              <a:pt x="48" y="19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6" y="28"/>
                            </a:lnTo>
                            <a:lnTo>
                              <a:pt x="56" y="33"/>
                            </a:lnTo>
                            <a:lnTo>
                              <a:pt x="54" y="35"/>
                            </a:lnTo>
                            <a:lnTo>
                              <a:pt x="52" y="38"/>
                            </a:lnTo>
                            <a:lnTo>
                              <a:pt x="49" y="41"/>
                            </a:lnTo>
                            <a:lnTo>
                              <a:pt x="48" y="42"/>
                            </a:lnTo>
                            <a:lnTo>
                              <a:pt x="45" y="44"/>
                            </a:lnTo>
                            <a:lnTo>
                              <a:pt x="42" y="45"/>
                            </a:lnTo>
                            <a:lnTo>
                              <a:pt x="37" y="44"/>
                            </a:lnTo>
                            <a:lnTo>
                              <a:pt x="33" y="44"/>
                            </a:lnTo>
                            <a:lnTo>
                              <a:pt x="28" y="41"/>
                            </a:lnTo>
                            <a:lnTo>
                              <a:pt x="23" y="39"/>
                            </a:lnTo>
                            <a:lnTo>
                              <a:pt x="19" y="37"/>
                            </a:lnTo>
                            <a:lnTo>
                              <a:pt x="16" y="34"/>
                            </a:lnTo>
                            <a:lnTo>
                              <a:pt x="11" y="30"/>
                            </a:lnTo>
                            <a:lnTo>
                              <a:pt x="8" y="27"/>
                            </a:lnTo>
                            <a:lnTo>
                              <a:pt x="5" y="23"/>
                            </a:lnTo>
                            <a:lnTo>
                              <a:pt x="2" y="20"/>
                            </a:lnTo>
                            <a:lnTo>
                              <a:pt x="0" y="16"/>
                            </a:lnTo>
                            <a:lnTo>
                              <a:pt x="2" y="13"/>
                            </a:lnTo>
                            <a:lnTo>
                              <a:pt x="2" y="9"/>
                            </a:lnTo>
                            <a:lnTo>
                              <a:pt x="5" y="7"/>
                            </a:lnTo>
                            <a:lnTo>
                              <a:pt x="8" y="2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Freeform 92"/>
                      <p:cNvSpPr/>
                      <p:nvPr/>
                    </p:nvSpPr>
                    <p:spPr>
                      <a:xfrm>
                        <a:off x="3042720" y="2633400"/>
                        <a:ext cx="3600" cy="936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9360"/>
                          <a:gd name="textAreaBottom" fmla="*/ 9720 h 9360"/>
                        </a:gdLst>
                        <a:ahLst/>
                        <a:rect l="textAreaLeft" t="textAreaTop" r="textAreaRight" b="textAreaBottom"/>
                        <a:pathLst>
                          <a:path w="44" h="96">
                            <a:moveTo>
                              <a:pt x="17" y="0"/>
                            </a:moveTo>
                            <a:lnTo>
                              <a:pt x="21" y="2"/>
                            </a:lnTo>
                            <a:lnTo>
                              <a:pt x="26" y="5"/>
                            </a:lnTo>
                            <a:lnTo>
                              <a:pt x="29" y="9"/>
                            </a:lnTo>
                            <a:lnTo>
                              <a:pt x="32" y="15"/>
                            </a:lnTo>
                            <a:lnTo>
                              <a:pt x="33" y="19"/>
                            </a:lnTo>
                            <a:lnTo>
                              <a:pt x="33" y="23"/>
                            </a:lnTo>
                            <a:lnTo>
                              <a:pt x="33" y="30"/>
                            </a:lnTo>
                            <a:lnTo>
                              <a:pt x="35" y="35"/>
                            </a:lnTo>
                            <a:lnTo>
                              <a:pt x="35" y="41"/>
                            </a:lnTo>
                            <a:lnTo>
                              <a:pt x="35" y="46"/>
                            </a:lnTo>
                            <a:lnTo>
                              <a:pt x="35" y="52"/>
                            </a:lnTo>
                            <a:lnTo>
                              <a:pt x="35" y="59"/>
                            </a:lnTo>
                            <a:lnTo>
                              <a:pt x="37" y="64"/>
                            </a:lnTo>
                            <a:lnTo>
                              <a:pt x="38" y="70"/>
                            </a:lnTo>
                            <a:lnTo>
                              <a:pt x="40" y="74"/>
                            </a:lnTo>
                            <a:lnTo>
                              <a:pt x="44" y="79"/>
                            </a:lnTo>
                            <a:lnTo>
                              <a:pt x="40" y="83"/>
                            </a:lnTo>
                            <a:lnTo>
                              <a:pt x="37" y="88"/>
                            </a:lnTo>
                            <a:lnTo>
                              <a:pt x="33" y="92"/>
                            </a:lnTo>
                            <a:lnTo>
                              <a:pt x="32" y="96"/>
                            </a:lnTo>
                            <a:lnTo>
                              <a:pt x="27" y="93"/>
                            </a:lnTo>
                            <a:lnTo>
                              <a:pt x="23" y="92"/>
                            </a:lnTo>
                            <a:lnTo>
                              <a:pt x="20" y="90"/>
                            </a:lnTo>
                            <a:lnTo>
                              <a:pt x="18" y="89"/>
                            </a:lnTo>
                            <a:lnTo>
                              <a:pt x="12" y="83"/>
                            </a:lnTo>
                            <a:lnTo>
                              <a:pt x="9" y="78"/>
                            </a:lnTo>
                            <a:lnTo>
                              <a:pt x="6" y="75"/>
                            </a:lnTo>
                            <a:lnTo>
                              <a:pt x="4" y="71"/>
                            </a:lnTo>
                            <a:lnTo>
                              <a:pt x="3" y="68"/>
                            </a:lnTo>
                            <a:lnTo>
                              <a:pt x="3" y="66"/>
                            </a:lnTo>
                            <a:lnTo>
                              <a:pt x="1" y="62"/>
                            </a:lnTo>
                            <a:lnTo>
                              <a:pt x="0" y="57"/>
                            </a:lnTo>
                            <a:lnTo>
                              <a:pt x="0" y="55"/>
                            </a:lnTo>
                            <a:lnTo>
                              <a:pt x="0" y="52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0" y="35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1" y="26"/>
                            </a:lnTo>
                            <a:lnTo>
                              <a:pt x="3" y="22"/>
                            </a:lnTo>
                            <a:lnTo>
                              <a:pt x="3" y="19"/>
                            </a:lnTo>
                            <a:lnTo>
                              <a:pt x="4" y="15"/>
                            </a:lnTo>
                            <a:lnTo>
                              <a:pt x="6" y="12"/>
                            </a:lnTo>
                            <a:lnTo>
                              <a:pt x="9" y="9"/>
                            </a:lnTo>
                            <a:lnTo>
                              <a:pt x="12" y="4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Freeform 93"/>
                      <p:cNvSpPr/>
                      <p:nvPr/>
                    </p:nvSpPr>
                    <p:spPr>
                      <a:xfrm>
                        <a:off x="3047040" y="2633760"/>
                        <a:ext cx="2520" cy="4320"/>
                      </a:xfrm>
                      <a:custGeom>
                        <a:avLst/>
                        <a:gdLst>
                          <a:gd name="textAreaLeft" fmla="*/ 0 w 2520"/>
                          <a:gd name="textAreaRight" fmla="*/ 2880 w 2520"/>
                          <a:gd name="textAreaTop" fmla="*/ 0 h 4320"/>
                          <a:gd name="textAreaBottom" fmla="*/ 4320 h 4320"/>
                        </a:gdLst>
                        <a:ahLst/>
                        <a:rect l="textAreaLeft" t="textAreaTop" r="textAreaRight" b="textAreaBottom"/>
                        <a:pathLst>
                          <a:path w="29" h="46">
                            <a:moveTo>
                              <a:pt x="12" y="0"/>
                            </a:moveTo>
                            <a:lnTo>
                              <a:pt x="17" y="0"/>
                            </a:lnTo>
                            <a:lnTo>
                              <a:pt x="22" y="3"/>
                            </a:lnTo>
                            <a:lnTo>
                              <a:pt x="25" y="6"/>
                            </a:lnTo>
                            <a:lnTo>
                              <a:pt x="28" y="10"/>
                            </a:lnTo>
                            <a:lnTo>
                              <a:pt x="28" y="16"/>
                            </a:lnTo>
                            <a:lnTo>
                              <a:pt x="29" y="21"/>
                            </a:lnTo>
                            <a:lnTo>
                              <a:pt x="29" y="27"/>
                            </a:lnTo>
                            <a:lnTo>
                              <a:pt x="29" y="32"/>
                            </a:lnTo>
                            <a:lnTo>
                              <a:pt x="28" y="36"/>
                            </a:lnTo>
                            <a:lnTo>
                              <a:pt x="25" y="40"/>
                            </a:lnTo>
                            <a:lnTo>
                              <a:pt x="22" y="43"/>
                            </a:lnTo>
                            <a:lnTo>
                              <a:pt x="19" y="46"/>
                            </a:lnTo>
                            <a:lnTo>
                              <a:pt x="14" y="46"/>
                            </a:lnTo>
                            <a:lnTo>
                              <a:pt x="9" y="43"/>
                            </a:lnTo>
                            <a:lnTo>
                              <a:pt x="6" y="42"/>
                            </a:lnTo>
                            <a:lnTo>
                              <a:pt x="5" y="40"/>
                            </a:lnTo>
                            <a:lnTo>
                              <a:pt x="2" y="38"/>
                            </a:lnTo>
                            <a:lnTo>
                              <a:pt x="0" y="33"/>
                            </a:lnTo>
                            <a:lnTo>
                              <a:pt x="0" y="31"/>
                            </a:lnTo>
                            <a:lnTo>
                              <a:pt x="0" y="25"/>
                            </a:lnTo>
                            <a:lnTo>
                              <a:pt x="3" y="20"/>
                            </a:lnTo>
                            <a:lnTo>
                              <a:pt x="5" y="16"/>
                            </a:lnTo>
                            <a:lnTo>
                              <a:pt x="6" y="9"/>
                            </a:ln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Freeform 94"/>
                      <p:cNvSpPr/>
                      <p:nvPr/>
                    </p:nvSpPr>
                    <p:spPr>
                      <a:xfrm>
                        <a:off x="2966040" y="2672640"/>
                        <a:ext cx="49680" cy="5760"/>
                      </a:xfrm>
                      <a:custGeom>
                        <a:avLst/>
                        <a:gdLst>
                          <a:gd name="textAreaLeft" fmla="*/ 0 w 49680"/>
                          <a:gd name="textAreaRight" fmla="*/ 50040 w 49680"/>
                          <a:gd name="textAreaTop" fmla="*/ 0 h 5760"/>
                          <a:gd name="textAreaBottom" fmla="*/ 6120 h 5760"/>
                        </a:gdLst>
                        <a:ahLst/>
                        <a:rect l="textAreaLeft" t="textAreaTop" r="textAreaRight" b="textAreaBottom"/>
                        <a:pathLst>
                          <a:path w="551" h="61">
                            <a:moveTo>
                              <a:pt x="372" y="0"/>
                            </a:moveTo>
                            <a:lnTo>
                              <a:pt x="377" y="0"/>
                            </a:lnTo>
                            <a:lnTo>
                              <a:pt x="383" y="0"/>
                            </a:lnTo>
                            <a:lnTo>
                              <a:pt x="387" y="0"/>
                            </a:lnTo>
                            <a:lnTo>
                              <a:pt x="394" y="0"/>
                            </a:lnTo>
                            <a:lnTo>
                              <a:pt x="398" y="0"/>
                            </a:lnTo>
                            <a:lnTo>
                              <a:pt x="404" y="0"/>
                            </a:lnTo>
                            <a:lnTo>
                              <a:pt x="410" y="0"/>
                            </a:lnTo>
                            <a:lnTo>
                              <a:pt x="415" y="2"/>
                            </a:lnTo>
                            <a:lnTo>
                              <a:pt x="421" y="0"/>
                            </a:lnTo>
                            <a:lnTo>
                              <a:pt x="426" y="0"/>
                            </a:lnTo>
                            <a:lnTo>
                              <a:pt x="432" y="0"/>
                            </a:lnTo>
                            <a:lnTo>
                              <a:pt x="438" y="0"/>
                            </a:lnTo>
                            <a:lnTo>
                              <a:pt x="442" y="0"/>
                            </a:lnTo>
                            <a:lnTo>
                              <a:pt x="449" y="0"/>
                            </a:lnTo>
                            <a:lnTo>
                              <a:pt x="455" y="0"/>
                            </a:lnTo>
                            <a:lnTo>
                              <a:pt x="459" y="0"/>
                            </a:lnTo>
                            <a:lnTo>
                              <a:pt x="465" y="0"/>
                            </a:lnTo>
                            <a:lnTo>
                              <a:pt x="470" y="0"/>
                            </a:lnTo>
                            <a:lnTo>
                              <a:pt x="476" y="0"/>
                            </a:lnTo>
                            <a:lnTo>
                              <a:pt x="482" y="0"/>
                            </a:lnTo>
                            <a:lnTo>
                              <a:pt x="487" y="0"/>
                            </a:lnTo>
                            <a:lnTo>
                              <a:pt x="493" y="0"/>
                            </a:lnTo>
                            <a:lnTo>
                              <a:pt x="499" y="0"/>
                            </a:lnTo>
                            <a:lnTo>
                              <a:pt x="504" y="0"/>
                            </a:lnTo>
                            <a:lnTo>
                              <a:pt x="510" y="0"/>
                            </a:lnTo>
                            <a:lnTo>
                              <a:pt x="514" y="0"/>
                            </a:lnTo>
                            <a:lnTo>
                              <a:pt x="520" y="2"/>
                            </a:lnTo>
                            <a:lnTo>
                              <a:pt x="527" y="2"/>
                            </a:lnTo>
                            <a:lnTo>
                              <a:pt x="531" y="2"/>
                            </a:lnTo>
                            <a:lnTo>
                              <a:pt x="537" y="3"/>
                            </a:lnTo>
                            <a:lnTo>
                              <a:pt x="543" y="3"/>
                            </a:lnTo>
                            <a:lnTo>
                              <a:pt x="548" y="4"/>
                            </a:lnTo>
                            <a:lnTo>
                              <a:pt x="548" y="8"/>
                            </a:lnTo>
                            <a:lnTo>
                              <a:pt x="550" y="14"/>
                            </a:lnTo>
                            <a:lnTo>
                              <a:pt x="551" y="19"/>
                            </a:lnTo>
                            <a:lnTo>
                              <a:pt x="551" y="25"/>
                            </a:lnTo>
                            <a:lnTo>
                              <a:pt x="543" y="25"/>
                            </a:lnTo>
                            <a:lnTo>
                              <a:pt x="536" y="25"/>
                            </a:lnTo>
                            <a:lnTo>
                              <a:pt x="528" y="25"/>
                            </a:lnTo>
                            <a:lnTo>
                              <a:pt x="520" y="25"/>
                            </a:lnTo>
                            <a:lnTo>
                              <a:pt x="513" y="25"/>
                            </a:lnTo>
                            <a:lnTo>
                              <a:pt x="505" y="26"/>
                            </a:lnTo>
                            <a:lnTo>
                              <a:pt x="498" y="26"/>
                            </a:lnTo>
                            <a:lnTo>
                              <a:pt x="490" y="26"/>
                            </a:lnTo>
                            <a:lnTo>
                              <a:pt x="482" y="26"/>
                            </a:lnTo>
                            <a:lnTo>
                              <a:pt x="475" y="26"/>
                            </a:lnTo>
                            <a:lnTo>
                              <a:pt x="465" y="26"/>
                            </a:lnTo>
                            <a:lnTo>
                              <a:pt x="459" y="26"/>
                            </a:lnTo>
                            <a:lnTo>
                              <a:pt x="452" y="26"/>
                            </a:lnTo>
                            <a:lnTo>
                              <a:pt x="444" y="28"/>
                            </a:lnTo>
                            <a:lnTo>
                              <a:pt x="436" y="28"/>
                            </a:lnTo>
                            <a:lnTo>
                              <a:pt x="429" y="28"/>
                            </a:lnTo>
                            <a:lnTo>
                              <a:pt x="421" y="28"/>
                            </a:lnTo>
                            <a:lnTo>
                              <a:pt x="413" y="28"/>
                            </a:lnTo>
                            <a:lnTo>
                              <a:pt x="404" y="28"/>
                            </a:lnTo>
                            <a:lnTo>
                              <a:pt x="398" y="29"/>
                            </a:lnTo>
                            <a:lnTo>
                              <a:pt x="389" y="29"/>
                            </a:lnTo>
                            <a:lnTo>
                              <a:pt x="381" y="29"/>
                            </a:lnTo>
                            <a:lnTo>
                              <a:pt x="374" y="29"/>
                            </a:lnTo>
                            <a:lnTo>
                              <a:pt x="368" y="29"/>
                            </a:lnTo>
                            <a:lnTo>
                              <a:pt x="358" y="29"/>
                            </a:lnTo>
                            <a:lnTo>
                              <a:pt x="351" y="29"/>
                            </a:lnTo>
                            <a:lnTo>
                              <a:pt x="343" y="29"/>
                            </a:lnTo>
                            <a:lnTo>
                              <a:pt x="335" y="30"/>
                            </a:lnTo>
                            <a:lnTo>
                              <a:pt x="329" y="30"/>
                            </a:lnTo>
                            <a:lnTo>
                              <a:pt x="322" y="30"/>
                            </a:lnTo>
                            <a:lnTo>
                              <a:pt x="314" y="32"/>
                            </a:lnTo>
                            <a:lnTo>
                              <a:pt x="306" y="32"/>
                            </a:lnTo>
                            <a:lnTo>
                              <a:pt x="299" y="32"/>
                            </a:lnTo>
                            <a:lnTo>
                              <a:pt x="291" y="32"/>
                            </a:lnTo>
                            <a:lnTo>
                              <a:pt x="282" y="32"/>
                            </a:lnTo>
                            <a:lnTo>
                              <a:pt x="274" y="33"/>
                            </a:lnTo>
                            <a:lnTo>
                              <a:pt x="267" y="33"/>
                            </a:lnTo>
                            <a:lnTo>
                              <a:pt x="259" y="33"/>
                            </a:lnTo>
                            <a:lnTo>
                              <a:pt x="251" y="35"/>
                            </a:lnTo>
                            <a:lnTo>
                              <a:pt x="244" y="36"/>
                            </a:lnTo>
                            <a:lnTo>
                              <a:pt x="236" y="36"/>
                            </a:lnTo>
                            <a:lnTo>
                              <a:pt x="228" y="36"/>
                            </a:lnTo>
                            <a:lnTo>
                              <a:pt x="222" y="36"/>
                            </a:lnTo>
                            <a:lnTo>
                              <a:pt x="215" y="37"/>
                            </a:lnTo>
                            <a:lnTo>
                              <a:pt x="207" y="37"/>
                            </a:lnTo>
                            <a:lnTo>
                              <a:pt x="199" y="39"/>
                            </a:lnTo>
                            <a:lnTo>
                              <a:pt x="192" y="39"/>
                            </a:lnTo>
                            <a:lnTo>
                              <a:pt x="185" y="40"/>
                            </a:lnTo>
                            <a:lnTo>
                              <a:pt x="178" y="41"/>
                            </a:lnTo>
                            <a:lnTo>
                              <a:pt x="170" y="41"/>
                            </a:lnTo>
                            <a:lnTo>
                              <a:pt x="163" y="43"/>
                            </a:lnTo>
                            <a:lnTo>
                              <a:pt x="155" y="44"/>
                            </a:lnTo>
                            <a:lnTo>
                              <a:pt x="147" y="44"/>
                            </a:lnTo>
                            <a:lnTo>
                              <a:pt x="140" y="46"/>
                            </a:lnTo>
                            <a:lnTo>
                              <a:pt x="132" y="46"/>
                            </a:lnTo>
                            <a:lnTo>
                              <a:pt x="126" y="48"/>
                            </a:lnTo>
                            <a:lnTo>
                              <a:pt x="118" y="48"/>
                            </a:lnTo>
                            <a:lnTo>
                              <a:pt x="111" y="50"/>
                            </a:lnTo>
                            <a:lnTo>
                              <a:pt x="103" y="51"/>
                            </a:lnTo>
                            <a:lnTo>
                              <a:pt x="97" y="52"/>
                            </a:lnTo>
                            <a:lnTo>
                              <a:pt x="89" y="54"/>
                            </a:lnTo>
                            <a:lnTo>
                              <a:pt x="81" y="55"/>
                            </a:lnTo>
                            <a:lnTo>
                              <a:pt x="75" y="58"/>
                            </a:lnTo>
                            <a:lnTo>
                              <a:pt x="68" y="59"/>
                            </a:lnTo>
                            <a:lnTo>
                              <a:pt x="65" y="59"/>
                            </a:lnTo>
                            <a:lnTo>
                              <a:pt x="62" y="59"/>
                            </a:lnTo>
                            <a:lnTo>
                              <a:pt x="59" y="59"/>
                            </a:lnTo>
                            <a:lnTo>
                              <a:pt x="54" y="59"/>
                            </a:lnTo>
                            <a:lnTo>
                              <a:pt x="49" y="59"/>
                            </a:lnTo>
                            <a:lnTo>
                              <a:pt x="45" y="59"/>
                            </a:lnTo>
                            <a:lnTo>
                              <a:pt x="39" y="59"/>
                            </a:lnTo>
                            <a:lnTo>
                              <a:pt x="34" y="61"/>
                            </a:lnTo>
                            <a:lnTo>
                              <a:pt x="29" y="61"/>
                            </a:lnTo>
                            <a:lnTo>
                              <a:pt x="23" y="61"/>
                            </a:lnTo>
                            <a:lnTo>
                              <a:pt x="19" y="61"/>
                            </a:lnTo>
                            <a:lnTo>
                              <a:pt x="16" y="61"/>
                            </a:lnTo>
                            <a:lnTo>
                              <a:pt x="11" y="61"/>
                            </a:lnTo>
                            <a:lnTo>
                              <a:pt x="8" y="61"/>
                            </a:lnTo>
                            <a:lnTo>
                              <a:pt x="5" y="61"/>
                            </a:lnTo>
                            <a:lnTo>
                              <a:pt x="3" y="61"/>
                            </a:lnTo>
                            <a:lnTo>
                              <a:pt x="2" y="55"/>
                            </a:lnTo>
                            <a:lnTo>
                              <a:pt x="2" y="50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5" y="39"/>
                            </a:lnTo>
                            <a:lnTo>
                              <a:pt x="11" y="37"/>
                            </a:lnTo>
                            <a:lnTo>
                              <a:pt x="17" y="36"/>
                            </a:lnTo>
                            <a:lnTo>
                              <a:pt x="22" y="36"/>
                            </a:lnTo>
                            <a:lnTo>
                              <a:pt x="28" y="33"/>
                            </a:lnTo>
                            <a:lnTo>
                              <a:pt x="34" y="32"/>
                            </a:lnTo>
                            <a:lnTo>
                              <a:pt x="39" y="32"/>
                            </a:lnTo>
                            <a:lnTo>
                              <a:pt x="45" y="30"/>
                            </a:lnTo>
                            <a:lnTo>
                              <a:pt x="51" y="29"/>
                            </a:lnTo>
                            <a:lnTo>
                              <a:pt x="55" y="29"/>
                            </a:lnTo>
                            <a:lnTo>
                              <a:pt x="62" y="28"/>
                            </a:lnTo>
                            <a:lnTo>
                              <a:pt x="68" y="26"/>
                            </a:lnTo>
                            <a:lnTo>
                              <a:pt x="72" y="26"/>
                            </a:lnTo>
                            <a:lnTo>
                              <a:pt x="78" y="25"/>
                            </a:lnTo>
                            <a:lnTo>
                              <a:pt x="85" y="24"/>
                            </a:lnTo>
                            <a:lnTo>
                              <a:pt x="91" y="24"/>
                            </a:lnTo>
                            <a:lnTo>
                              <a:pt x="95" y="22"/>
                            </a:lnTo>
                            <a:lnTo>
                              <a:pt x="101" y="22"/>
                            </a:lnTo>
                            <a:lnTo>
                              <a:pt x="107" y="21"/>
                            </a:lnTo>
                            <a:lnTo>
                              <a:pt x="112" y="19"/>
                            </a:lnTo>
                            <a:lnTo>
                              <a:pt x="118" y="19"/>
                            </a:lnTo>
                            <a:lnTo>
                              <a:pt x="124" y="18"/>
                            </a:lnTo>
                            <a:lnTo>
                              <a:pt x="130" y="17"/>
                            </a:lnTo>
                            <a:lnTo>
                              <a:pt x="137" y="17"/>
                            </a:lnTo>
                            <a:lnTo>
                              <a:pt x="141" y="15"/>
                            </a:lnTo>
                            <a:lnTo>
                              <a:pt x="147" y="15"/>
                            </a:lnTo>
                            <a:lnTo>
                              <a:pt x="153" y="14"/>
                            </a:lnTo>
                            <a:lnTo>
                              <a:pt x="159" y="14"/>
                            </a:lnTo>
                            <a:lnTo>
                              <a:pt x="164" y="14"/>
                            </a:lnTo>
                            <a:lnTo>
                              <a:pt x="172" y="13"/>
                            </a:lnTo>
                            <a:lnTo>
                              <a:pt x="176" y="13"/>
                            </a:lnTo>
                            <a:lnTo>
                              <a:pt x="182" y="13"/>
                            </a:lnTo>
                            <a:lnTo>
                              <a:pt x="189" y="11"/>
                            </a:lnTo>
                            <a:lnTo>
                              <a:pt x="195" y="11"/>
                            </a:lnTo>
                            <a:lnTo>
                              <a:pt x="199" y="10"/>
                            </a:lnTo>
                            <a:lnTo>
                              <a:pt x="205" y="10"/>
                            </a:lnTo>
                            <a:lnTo>
                              <a:pt x="211" y="10"/>
                            </a:lnTo>
                            <a:lnTo>
                              <a:pt x="218" y="8"/>
                            </a:lnTo>
                            <a:lnTo>
                              <a:pt x="224" y="8"/>
                            </a:lnTo>
                            <a:lnTo>
                              <a:pt x="230" y="8"/>
                            </a:lnTo>
                            <a:lnTo>
                              <a:pt x="236" y="7"/>
                            </a:lnTo>
                            <a:lnTo>
                              <a:pt x="241" y="7"/>
                            </a:lnTo>
                            <a:lnTo>
                              <a:pt x="247" y="7"/>
                            </a:lnTo>
                            <a:lnTo>
                              <a:pt x="253" y="7"/>
                            </a:lnTo>
                            <a:lnTo>
                              <a:pt x="259" y="6"/>
                            </a:lnTo>
                            <a:lnTo>
                              <a:pt x="265" y="6"/>
                            </a:lnTo>
                            <a:lnTo>
                              <a:pt x="271" y="4"/>
                            </a:lnTo>
                            <a:lnTo>
                              <a:pt x="277" y="4"/>
                            </a:lnTo>
                            <a:lnTo>
                              <a:pt x="282" y="4"/>
                            </a:lnTo>
                            <a:lnTo>
                              <a:pt x="288" y="4"/>
                            </a:lnTo>
                            <a:lnTo>
                              <a:pt x="294" y="3"/>
                            </a:lnTo>
                            <a:lnTo>
                              <a:pt x="300" y="3"/>
                            </a:lnTo>
                            <a:lnTo>
                              <a:pt x="305" y="3"/>
                            </a:lnTo>
                            <a:lnTo>
                              <a:pt x="311" y="3"/>
                            </a:lnTo>
                            <a:lnTo>
                              <a:pt x="319" y="2"/>
                            </a:lnTo>
                            <a:lnTo>
                              <a:pt x="325" y="2"/>
                            </a:lnTo>
                            <a:lnTo>
                              <a:pt x="329" y="2"/>
                            </a:lnTo>
                            <a:lnTo>
                              <a:pt x="335" y="2"/>
                            </a:lnTo>
                            <a:lnTo>
                              <a:pt x="342" y="2"/>
                            </a:lnTo>
                            <a:lnTo>
                              <a:pt x="348" y="2"/>
                            </a:lnTo>
                            <a:lnTo>
                              <a:pt x="352" y="0"/>
                            </a:lnTo>
                            <a:lnTo>
                              <a:pt x="360" y="0"/>
                            </a:lnTo>
                            <a:lnTo>
                              <a:pt x="366" y="0"/>
                            </a:lnTo>
                            <a:lnTo>
                              <a:pt x="37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Freeform 95"/>
                      <p:cNvSpPr/>
                      <p:nvPr/>
                    </p:nvSpPr>
                    <p:spPr>
                      <a:xfrm>
                        <a:off x="2972160" y="2589120"/>
                        <a:ext cx="18720" cy="554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211" h="551">
                            <a:moveTo>
                              <a:pt x="61" y="43"/>
                            </a:moveTo>
                            <a:lnTo>
                              <a:pt x="61" y="47"/>
                            </a:lnTo>
                            <a:lnTo>
                              <a:pt x="63" y="51"/>
                            </a:lnTo>
                            <a:lnTo>
                              <a:pt x="63" y="57"/>
                            </a:lnTo>
                            <a:lnTo>
                              <a:pt x="64" y="62"/>
                            </a:lnTo>
                            <a:lnTo>
                              <a:pt x="64" y="66"/>
                            </a:lnTo>
                            <a:lnTo>
                              <a:pt x="66" y="72"/>
                            </a:lnTo>
                            <a:lnTo>
                              <a:pt x="66" y="79"/>
                            </a:lnTo>
                            <a:lnTo>
                              <a:pt x="67" y="84"/>
                            </a:lnTo>
                            <a:lnTo>
                              <a:pt x="67" y="88"/>
                            </a:lnTo>
                            <a:lnTo>
                              <a:pt x="67" y="94"/>
                            </a:lnTo>
                            <a:lnTo>
                              <a:pt x="67" y="99"/>
                            </a:lnTo>
                            <a:lnTo>
                              <a:pt x="67" y="105"/>
                            </a:lnTo>
                            <a:lnTo>
                              <a:pt x="67" y="109"/>
                            </a:lnTo>
                            <a:lnTo>
                              <a:pt x="67" y="114"/>
                            </a:lnTo>
                            <a:lnTo>
                              <a:pt x="66" y="118"/>
                            </a:lnTo>
                            <a:lnTo>
                              <a:pt x="64" y="122"/>
                            </a:lnTo>
                            <a:lnTo>
                              <a:pt x="64" y="118"/>
                            </a:lnTo>
                            <a:lnTo>
                              <a:pt x="64" y="116"/>
                            </a:lnTo>
                            <a:lnTo>
                              <a:pt x="64" y="112"/>
                            </a:lnTo>
                            <a:lnTo>
                              <a:pt x="64" y="109"/>
                            </a:lnTo>
                            <a:lnTo>
                              <a:pt x="63" y="105"/>
                            </a:lnTo>
                            <a:lnTo>
                              <a:pt x="63" y="102"/>
                            </a:lnTo>
                            <a:lnTo>
                              <a:pt x="63" y="98"/>
                            </a:lnTo>
                            <a:lnTo>
                              <a:pt x="63" y="95"/>
                            </a:lnTo>
                            <a:lnTo>
                              <a:pt x="61" y="91"/>
                            </a:lnTo>
                            <a:lnTo>
                              <a:pt x="61" y="88"/>
                            </a:lnTo>
                            <a:lnTo>
                              <a:pt x="61" y="84"/>
                            </a:lnTo>
                            <a:lnTo>
                              <a:pt x="60" y="81"/>
                            </a:lnTo>
                            <a:lnTo>
                              <a:pt x="60" y="79"/>
                            </a:lnTo>
                            <a:lnTo>
                              <a:pt x="58" y="76"/>
                            </a:lnTo>
                            <a:lnTo>
                              <a:pt x="58" y="72"/>
                            </a:lnTo>
                            <a:lnTo>
                              <a:pt x="58" y="69"/>
                            </a:lnTo>
                            <a:lnTo>
                              <a:pt x="57" y="66"/>
                            </a:lnTo>
                            <a:lnTo>
                              <a:pt x="57" y="62"/>
                            </a:lnTo>
                            <a:lnTo>
                              <a:pt x="55" y="59"/>
                            </a:lnTo>
                            <a:lnTo>
                              <a:pt x="54" y="55"/>
                            </a:lnTo>
                            <a:lnTo>
                              <a:pt x="54" y="52"/>
                            </a:lnTo>
                            <a:lnTo>
                              <a:pt x="52" y="48"/>
                            </a:lnTo>
                            <a:lnTo>
                              <a:pt x="52" y="46"/>
                            </a:lnTo>
                            <a:lnTo>
                              <a:pt x="50" y="42"/>
                            </a:lnTo>
                            <a:lnTo>
                              <a:pt x="50" y="39"/>
                            </a:lnTo>
                            <a:lnTo>
                              <a:pt x="49" y="35"/>
                            </a:lnTo>
                            <a:lnTo>
                              <a:pt x="47" y="32"/>
                            </a:lnTo>
                            <a:lnTo>
                              <a:pt x="47" y="29"/>
                            </a:lnTo>
                            <a:lnTo>
                              <a:pt x="46" y="25"/>
                            </a:lnTo>
                            <a:lnTo>
                              <a:pt x="46" y="22"/>
                            </a:lnTo>
                            <a:lnTo>
                              <a:pt x="44" y="18"/>
                            </a:lnTo>
                            <a:lnTo>
                              <a:pt x="44" y="15"/>
                            </a:lnTo>
                            <a:lnTo>
                              <a:pt x="29" y="14"/>
                            </a:lnTo>
                            <a:lnTo>
                              <a:pt x="29" y="17"/>
                            </a:lnTo>
                            <a:lnTo>
                              <a:pt x="31" y="20"/>
                            </a:lnTo>
                            <a:lnTo>
                              <a:pt x="32" y="24"/>
                            </a:lnTo>
                            <a:lnTo>
                              <a:pt x="34" y="26"/>
                            </a:lnTo>
                            <a:lnTo>
                              <a:pt x="35" y="32"/>
                            </a:lnTo>
                            <a:lnTo>
                              <a:pt x="35" y="37"/>
                            </a:lnTo>
                            <a:lnTo>
                              <a:pt x="37" y="43"/>
                            </a:lnTo>
                            <a:lnTo>
                              <a:pt x="37" y="48"/>
                            </a:lnTo>
                            <a:lnTo>
                              <a:pt x="38" y="54"/>
                            </a:lnTo>
                            <a:lnTo>
                              <a:pt x="38" y="61"/>
                            </a:lnTo>
                            <a:lnTo>
                              <a:pt x="38" y="63"/>
                            </a:lnTo>
                            <a:lnTo>
                              <a:pt x="40" y="66"/>
                            </a:lnTo>
                            <a:lnTo>
                              <a:pt x="40" y="70"/>
                            </a:lnTo>
                            <a:lnTo>
                              <a:pt x="41" y="73"/>
                            </a:lnTo>
                            <a:lnTo>
                              <a:pt x="41" y="79"/>
                            </a:lnTo>
                            <a:lnTo>
                              <a:pt x="41" y="85"/>
                            </a:lnTo>
                            <a:lnTo>
                              <a:pt x="41" y="88"/>
                            </a:lnTo>
                            <a:lnTo>
                              <a:pt x="41" y="91"/>
                            </a:lnTo>
                            <a:lnTo>
                              <a:pt x="41" y="94"/>
                            </a:lnTo>
                            <a:lnTo>
                              <a:pt x="41" y="98"/>
                            </a:lnTo>
                            <a:lnTo>
                              <a:pt x="41" y="103"/>
                            </a:lnTo>
                            <a:lnTo>
                              <a:pt x="41" y="109"/>
                            </a:lnTo>
                            <a:lnTo>
                              <a:pt x="41" y="114"/>
                            </a:lnTo>
                            <a:lnTo>
                              <a:pt x="41" y="120"/>
                            </a:lnTo>
                            <a:lnTo>
                              <a:pt x="41" y="117"/>
                            </a:lnTo>
                            <a:lnTo>
                              <a:pt x="41" y="113"/>
                            </a:lnTo>
                            <a:lnTo>
                              <a:pt x="40" y="110"/>
                            </a:lnTo>
                            <a:lnTo>
                              <a:pt x="40" y="107"/>
                            </a:lnTo>
                            <a:lnTo>
                              <a:pt x="38" y="103"/>
                            </a:lnTo>
                            <a:lnTo>
                              <a:pt x="37" y="101"/>
                            </a:lnTo>
                            <a:lnTo>
                              <a:pt x="37" y="98"/>
                            </a:lnTo>
                            <a:lnTo>
                              <a:pt x="37" y="95"/>
                            </a:lnTo>
                            <a:lnTo>
                              <a:pt x="35" y="91"/>
                            </a:lnTo>
                            <a:lnTo>
                              <a:pt x="34" y="88"/>
                            </a:lnTo>
                            <a:lnTo>
                              <a:pt x="34" y="84"/>
                            </a:lnTo>
                            <a:lnTo>
                              <a:pt x="32" y="81"/>
                            </a:lnTo>
                            <a:lnTo>
                              <a:pt x="31" y="79"/>
                            </a:lnTo>
                            <a:lnTo>
                              <a:pt x="31" y="74"/>
                            </a:lnTo>
                            <a:lnTo>
                              <a:pt x="31" y="72"/>
                            </a:lnTo>
                            <a:lnTo>
                              <a:pt x="29" y="68"/>
                            </a:lnTo>
                            <a:lnTo>
                              <a:pt x="28" y="63"/>
                            </a:lnTo>
                            <a:lnTo>
                              <a:pt x="28" y="59"/>
                            </a:lnTo>
                            <a:lnTo>
                              <a:pt x="24" y="57"/>
                            </a:lnTo>
                            <a:lnTo>
                              <a:pt x="23" y="54"/>
                            </a:lnTo>
                            <a:lnTo>
                              <a:pt x="21" y="50"/>
                            </a:lnTo>
                            <a:lnTo>
                              <a:pt x="20" y="46"/>
                            </a:lnTo>
                            <a:lnTo>
                              <a:pt x="18" y="42"/>
                            </a:lnTo>
                            <a:lnTo>
                              <a:pt x="17" y="39"/>
                            </a:lnTo>
                            <a:lnTo>
                              <a:pt x="15" y="35"/>
                            </a:lnTo>
                            <a:lnTo>
                              <a:pt x="14" y="31"/>
                            </a:lnTo>
                            <a:lnTo>
                              <a:pt x="12" y="26"/>
                            </a:lnTo>
                            <a:lnTo>
                              <a:pt x="12" y="24"/>
                            </a:lnTo>
                            <a:lnTo>
                              <a:pt x="11" y="20"/>
                            </a:lnTo>
                            <a:lnTo>
                              <a:pt x="11" y="15"/>
                            </a:lnTo>
                            <a:lnTo>
                              <a:pt x="11" y="10"/>
                            </a:lnTo>
                            <a:lnTo>
                              <a:pt x="12" y="7"/>
                            </a:lnTo>
                            <a:lnTo>
                              <a:pt x="9" y="4"/>
                            </a:lnTo>
                            <a:lnTo>
                              <a:pt x="6" y="3"/>
                            </a:lnTo>
                            <a:lnTo>
                              <a:pt x="3" y="2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10"/>
                            </a:lnTo>
                            <a:lnTo>
                              <a:pt x="0" y="14"/>
                            </a:lnTo>
                            <a:lnTo>
                              <a:pt x="0" y="20"/>
                            </a:lnTo>
                            <a:lnTo>
                              <a:pt x="0" y="21"/>
                            </a:lnTo>
                            <a:lnTo>
                              <a:pt x="2" y="24"/>
                            </a:lnTo>
                            <a:lnTo>
                              <a:pt x="2" y="28"/>
                            </a:lnTo>
                            <a:lnTo>
                              <a:pt x="2" y="31"/>
                            </a:lnTo>
                            <a:lnTo>
                              <a:pt x="2" y="33"/>
                            </a:lnTo>
                            <a:lnTo>
                              <a:pt x="2" y="37"/>
                            </a:lnTo>
                            <a:lnTo>
                              <a:pt x="2" y="40"/>
                            </a:lnTo>
                            <a:lnTo>
                              <a:pt x="3" y="44"/>
                            </a:lnTo>
                            <a:lnTo>
                              <a:pt x="3" y="47"/>
                            </a:lnTo>
                            <a:lnTo>
                              <a:pt x="3" y="51"/>
                            </a:lnTo>
                            <a:lnTo>
                              <a:pt x="3" y="54"/>
                            </a:lnTo>
                            <a:lnTo>
                              <a:pt x="3" y="58"/>
                            </a:lnTo>
                            <a:lnTo>
                              <a:pt x="3" y="62"/>
                            </a:lnTo>
                            <a:lnTo>
                              <a:pt x="5" y="66"/>
                            </a:lnTo>
                            <a:lnTo>
                              <a:pt x="5" y="69"/>
                            </a:lnTo>
                            <a:lnTo>
                              <a:pt x="6" y="73"/>
                            </a:lnTo>
                            <a:lnTo>
                              <a:pt x="6" y="77"/>
                            </a:lnTo>
                            <a:lnTo>
                              <a:pt x="6" y="81"/>
                            </a:lnTo>
                            <a:lnTo>
                              <a:pt x="6" y="85"/>
                            </a:lnTo>
                            <a:lnTo>
                              <a:pt x="8" y="90"/>
                            </a:lnTo>
                            <a:lnTo>
                              <a:pt x="8" y="94"/>
                            </a:lnTo>
                            <a:lnTo>
                              <a:pt x="8" y="96"/>
                            </a:lnTo>
                            <a:lnTo>
                              <a:pt x="8" y="101"/>
                            </a:lnTo>
                            <a:lnTo>
                              <a:pt x="9" y="105"/>
                            </a:lnTo>
                            <a:lnTo>
                              <a:pt x="9" y="107"/>
                            </a:lnTo>
                            <a:lnTo>
                              <a:pt x="9" y="112"/>
                            </a:lnTo>
                            <a:lnTo>
                              <a:pt x="9" y="116"/>
                            </a:lnTo>
                            <a:lnTo>
                              <a:pt x="9" y="118"/>
                            </a:lnTo>
                            <a:lnTo>
                              <a:pt x="9" y="121"/>
                            </a:lnTo>
                            <a:lnTo>
                              <a:pt x="9" y="125"/>
                            </a:lnTo>
                            <a:lnTo>
                              <a:pt x="11" y="128"/>
                            </a:lnTo>
                            <a:lnTo>
                              <a:pt x="11" y="132"/>
                            </a:lnTo>
                            <a:lnTo>
                              <a:pt x="11" y="138"/>
                            </a:lnTo>
                            <a:lnTo>
                              <a:pt x="12" y="143"/>
                            </a:lnTo>
                            <a:lnTo>
                              <a:pt x="12" y="149"/>
                            </a:lnTo>
                            <a:lnTo>
                              <a:pt x="12" y="153"/>
                            </a:lnTo>
                            <a:lnTo>
                              <a:pt x="12" y="155"/>
                            </a:lnTo>
                            <a:lnTo>
                              <a:pt x="12" y="160"/>
                            </a:lnTo>
                            <a:lnTo>
                              <a:pt x="12" y="162"/>
                            </a:lnTo>
                            <a:lnTo>
                              <a:pt x="12" y="161"/>
                            </a:lnTo>
                            <a:lnTo>
                              <a:pt x="12" y="551"/>
                            </a:lnTo>
                            <a:lnTo>
                              <a:pt x="211" y="551"/>
                            </a:lnTo>
                            <a:lnTo>
                              <a:pt x="208" y="84"/>
                            </a:lnTo>
                            <a:lnTo>
                              <a:pt x="208" y="79"/>
                            </a:lnTo>
                            <a:lnTo>
                              <a:pt x="208" y="74"/>
                            </a:lnTo>
                            <a:lnTo>
                              <a:pt x="208" y="69"/>
                            </a:lnTo>
                            <a:lnTo>
                              <a:pt x="208" y="65"/>
                            </a:lnTo>
                            <a:lnTo>
                              <a:pt x="208" y="61"/>
                            </a:lnTo>
                            <a:lnTo>
                              <a:pt x="208" y="57"/>
                            </a:lnTo>
                            <a:lnTo>
                              <a:pt x="208" y="51"/>
                            </a:lnTo>
                            <a:lnTo>
                              <a:pt x="208" y="47"/>
                            </a:lnTo>
                            <a:lnTo>
                              <a:pt x="208" y="43"/>
                            </a:lnTo>
                            <a:lnTo>
                              <a:pt x="208" y="39"/>
                            </a:lnTo>
                            <a:lnTo>
                              <a:pt x="208" y="35"/>
                            </a:lnTo>
                            <a:lnTo>
                              <a:pt x="208" y="31"/>
                            </a:lnTo>
                            <a:lnTo>
                              <a:pt x="206" y="26"/>
                            </a:lnTo>
                            <a:lnTo>
                              <a:pt x="206" y="22"/>
                            </a:lnTo>
                            <a:lnTo>
                              <a:pt x="206" y="17"/>
                            </a:lnTo>
                            <a:lnTo>
                              <a:pt x="206" y="14"/>
                            </a:lnTo>
                            <a:lnTo>
                              <a:pt x="202" y="14"/>
                            </a:lnTo>
                            <a:lnTo>
                              <a:pt x="200" y="17"/>
                            </a:lnTo>
                            <a:lnTo>
                              <a:pt x="200" y="21"/>
                            </a:lnTo>
                            <a:lnTo>
                              <a:pt x="200" y="25"/>
                            </a:lnTo>
                            <a:lnTo>
                              <a:pt x="200" y="29"/>
                            </a:lnTo>
                            <a:lnTo>
                              <a:pt x="200" y="32"/>
                            </a:lnTo>
                            <a:lnTo>
                              <a:pt x="200" y="36"/>
                            </a:lnTo>
                            <a:lnTo>
                              <a:pt x="200" y="40"/>
                            </a:lnTo>
                            <a:lnTo>
                              <a:pt x="200" y="44"/>
                            </a:lnTo>
                            <a:lnTo>
                              <a:pt x="200" y="48"/>
                            </a:lnTo>
                            <a:lnTo>
                              <a:pt x="200" y="52"/>
                            </a:lnTo>
                            <a:lnTo>
                              <a:pt x="200" y="57"/>
                            </a:lnTo>
                            <a:lnTo>
                              <a:pt x="202" y="61"/>
                            </a:lnTo>
                            <a:lnTo>
                              <a:pt x="202" y="65"/>
                            </a:lnTo>
                            <a:lnTo>
                              <a:pt x="202" y="69"/>
                            </a:lnTo>
                            <a:lnTo>
                              <a:pt x="202" y="72"/>
                            </a:lnTo>
                            <a:lnTo>
                              <a:pt x="203" y="77"/>
                            </a:lnTo>
                            <a:lnTo>
                              <a:pt x="202" y="79"/>
                            </a:lnTo>
                            <a:lnTo>
                              <a:pt x="202" y="81"/>
                            </a:lnTo>
                            <a:lnTo>
                              <a:pt x="200" y="84"/>
                            </a:lnTo>
                            <a:lnTo>
                              <a:pt x="199" y="85"/>
                            </a:lnTo>
                            <a:lnTo>
                              <a:pt x="199" y="80"/>
                            </a:lnTo>
                            <a:lnTo>
                              <a:pt x="199" y="74"/>
                            </a:lnTo>
                            <a:lnTo>
                              <a:pt x="197" y="69"/>
                            </a:lnTo>
                            <a:lnTo>
                              <a:pt x="197" y="63"/>
                            </a:lnTo>
                            <a:lnTo>
                              <a:pt x="197" y="58"/>
                            </a:lnTo>
                            <a:lnTo>
                              <a:pt x="196" y="52"/>
                            </a:lnTo>
                            <a:lnTo>
                              <a:pt x="196" y="47"/>
                            </a:lnTo>
                            <a:lnTo>
                              <a:pt x="196" y="42"/>
                            </a:lnTo>
                            <a:lnTo>
                              <a:pt x="194" y="43"/>
                            </a:lnTo>
                            <a:lnTo>
                              <a:pt x="193" y="47"/>
                            </a:lnTo>
                            <a:lnTo>
                              <a:pt x="191" y="50"/>
                            </a:lnTo>
                            <a:lnTo>
                              <a:pt x="191" y="52"/>
                            </a:lnTo>
                            <a:lnTo>
                              <a:pt x="191" y="57"/>
                            </a:lnTo>
                            <a:lnTo>
                              <a:pt x="191" y="61"/>
                            </a:lnTo>
                            <a:lnTo>
                              <a:pt x="191" y="63"/>
                            </a:lnTo>
                            <a:lnTo>
                              <a:pt x="191" y="69"/>
                            </a:lnTo>
                            <a:lnTo>
                              <a:pt x="191" y="73"/>
                            </a:lnTo>
                            <a:lnTo>
                              <a:pt x="191" y="79"/>
                            </a:lnTo>
                            <a:lnTo>
                              <a:pt x="191" y="83"/>
                            </a:lnTo>
                            <a:lnTo>
                              <a:pt x="193" y="88"/>
                            </a:lnTo>
                            <a:lnTo>
                              <a:pt x="193" y="94"/>
                            </a:lnTo>
                            <a:lnTo>
                              <a:pt x="193" y="99"/>
                            </a:lnTo>
                            <a:lnTo>
                              <a:pt x="193" y="103"/>
                            </a:lnTo>
                            <a:lnTo>
                              <a:pt x="193" y="109"/>
                            </a:lnTo>
                            <a:lnTo>
                              <a:pt x="193" y="113"/>
                            </a:lnTo>
                            <a:lnTo>
                              <a:pt x="194" y="117"/>
                            </a:lnTo>
                            <a:lnTo>
                              <a:pt x="194" y="121"/>
                            </a:lnTo>
                            <a:lnTo>
                              <a:pt x="194" y="125"/>
                            </a:lnTo>
                            <a:lnTo>
                              <a:pt x="194" y="129"/>
                            </a:lnTo>
                            <a:lnTo>
                              <a:pt x="194" y="133"/>
                            </a:lnTo>
                            <a:lnTo>
                              <a:pt x="193" y="138"/>
                            </a:lnTo>
                            <a:lnTo>
                              <a:pt x="193" y="140"/>
                            </a:lnTo>
                            <a:lnTo>
                              <a:pt x="191" y="142"/>
                            </a:lnTo>
                            <a:lnTo>
                              <a:pt x="191" y="140"/>
                            </a:lnTo>
                            <a:lnTo>
                              <a:pt x="190" y="135"/>
                            </a:lnTo>
                            <a:lnTo>
                              <a:pt x="190" y="128"/>
                            </a:lnTo>
                            <a:lnTo>
                              <a:pt x="188" y="122"/>
                            </a:lnTo>
                            <a:lnTo>
                              <a:pt x="188" y="117"/>
                            </a:lnTo>
                            <a:lnTo>
                              <a:pt x="187" y="112"/>
                            </a:lnTo>
                            <a:lnTo>
                              <a:pt x="187" y="106"/>
                            </a:lnTo>
                            <a:lnTo>
                              <a:pt x="185" y="102"/>
                            </a:lnTo>
                            <a:lnTo>
                              <a:pt x="185" y="98"/>
                            </a:lnTo>
                            <a:lnTo>
                              <a:pt x="185" y="91"/>
                            </a:lnTo>
                            <a:lnTo>
                              <a:pt x="185" y="85"/>
                            </a:lnTo>
                            <a:lnTo>
                              <a:pt x="185" y="80"/>
                            </a:lnTo>
                            <a:lnTo>
                              <a:pt x="185" y="76"/>
                            </a:lnTo>
                            <a:lnTo>
                              <a:pt x="185" y="69"/>
                            </a:lnTo>
                            <a:lnTo>
                              <a:pt x="185" y="65"/>
                            </a:lnTo>
                            <a:lnTo>
                              <a:pt x="185" y="59"/>
                            </a:lnTo>
                            <a:lnTo>
                              <a:pt x="185" y="54"/>
                            </a:lnTo>
                            <a:lnTo>
                              <a:pt x="185" y="48"/>
                            </a:lnTo>
                            <a:lnTo>
                              <a:pt x="185" y="44"/>
                            </a:lnTo>
                            <a:lnTo>
                              <a:pt x="185" y="39"/>
                            </a:lnTo>
                            <a:lnTo>
                              <a:pt x="185" y="33"/>
                            </a:lnTo>
                            <a:lnTo>
                              <a:pt x="185" y="29"/>
                            </a:lnTo>
                            <a:lnTo>
                              <a:pt x="185" y="24"/>
                            </a:lnTo>
                            <a:lnTo>
                              <a:pt x="185" y="18"/>
                            </a:lnTo>
                            <a:lnTo>
                              <a:pt x="185" y="14"/>
                            </a:lnTo>
                            <a:lnTo>
                              <a:pt x="180" y="14"/>
                            </a:lnTo>
                            <a:lnTo>
                              <a:pt x="176" y="14"/>
                            </a:lnTo>
                            <a:lnTo>
                              <a:pt x="171" y="14"/>
                            </a:lnTo>
                            <a:lnTo>
                              <a:pt x="168" y="15"/>
                            </a:lnTo>
                            <a:lnTo>
                              <a:pt x="168" y="20"/>
                            </a:lnTo>
                            <a:lnTo>
                              <a:pt x="168" y="22"/>
                            </a:lnTo>
                            <a:lnTo>
                              <a:pt x="168" y="26"/>
                            </a:lnTo>
                            <a:lnTo>
                              <a:pt x="168" y="31"/>
                            </a:lnTo>
                            <a:lnTo>
                              <a:pt x="168" y="35"/>
                            </a:lnTo>
                            <a:lnTo>
                              <a:pt x="168" y="39"/>
                            </a:lnTo>
                            <a:lnTo>
                              <a:pt x="168" y="42"/>
                            </a:lnTo>
                            <a:lnTo>
                              <a:pt x="168" y="46"/>
                            </a:lnTo>
                            <a:lnTo>
                              <a:pt x="168" y="50"/>
                            </a:lnTo>
                            <a:lnTo>
                              <a:pt x="168" y="54"/>
                            </a:lnTo>
                            <a:lnTo>
                              <a:pt x="168" y="57"/>
                            </a:lnTo>
                            <a:lnTo>
                              <a:pt x="168" y="61"/>
                            </a:lnTo>
                            <a:lnTo>
                              <a:pt x="168" y="65"/>
                            </a:lnTo>
                            <a:lnTo>
                              <a:pt x="168" y="69"/>
                            </a:lnTo>
                            <a:lnTo>
                              <a:pt x="168" y="73"/>
                            </a:lnTo>
                            <a:lnTo>
                              <a:pt x="170" y="77"/>
                            </a:lnTo>
                            <a:lnTo>
                              <a:pt x="170" y="80"/>
                            </a:lnTo>
                            <a:lnTo>
                              <a:pt x="170" y="84"/>
                            </a:lnTo>
                            <a:lnTo>
                              <a:pt x="170" y="88"/>
                            </a:lnTo>
                            <a:lnTo>
                              <a:pt x="170" y="91"/>
                            </a:lnTo>
                            <a:lnTo>
                              <a:pt x="170" y="95"/>
                            </a:lnTo>
                            <a:lnTo>
                              <a:pt x="171" y="99"/>
                            </a:lnTo>
                            <a:lnTo>
                              <a:pt x="171" y="102"/>
                            </a:lnTo>
                            <a:lnTo>
                              <a:pt x="171" y="106"/>
                            </a:lnTo>
                            <a:lnTo>
                              <a:pt x="171" y="109"/>
                            </a:lnTo>
                            <a:lnTo>
                              <a:pt x="171" y="113"/>
                            </a:lnTo>
                            <a:lnTo>
                              <a:pt x="171" y="116"/>
                            </a:lnTo>
                            <a:lnTo>
                              <a:pt x="171" y="120"/>
                            </a:lnTo>
                            <a:lnTo>
                              <a:pt x="171" y="124"/>
                            </a:lnTo>
                            <a:lnTo>
                              <a:pt x="173" y="127"/>
                            </a:lnTo>
                            <a:lnTo>
                              <a:pt x="173" y="131"/>
                            </a:lnTo>
                            <a:lnTo>
                              <a:pt x="173" y="133"/>
                            </a:lnTo>
                            <a:lnTo>
                              <a:pt x="173" y="136"/>
                            </a:lnTo>
                            <a:lnTo>
                              <a:pt x="173" y="139"/>
                            </a:lnTo>
                            <a:lnTo>
                              <a:pt x="173" y="143"/>
                            </a:lnTo>
                            <a:lnTo>
                              <a:pt x="174" y="149"/>
                            </a:lnTo>
                            <a:lnTo>
                              <a:pt x="174" y="153"/>
                            </a:lnTo>
                            <a:lnTo>
                              <a:pt x="174" y="160"/>
                            </a:lnTo>
                            <a:lnTo>
                              <a:pt x="174" y="162"/>
                            </a:lnTo>
                            <a:lnTo>
                              <a:pt x="174" y="165"/>
                            </a:lnTo>
                            <a:lnTo>
                              <a:pt x="174" y="168"/>
                            </a:lnTo>
                            <a:lnTo>
                              <a:pt x="174" y="172"/>
                            </a:lnTo>
                            <a:lnTo>
                              <a:pt x="174" y="177"/>
                            </a:lnTo>
                            <a:lnTo>
                              <a:pt x="174" y="183"/>
                            </a:lnTo>
                            <a:lnTo>
                              <a:pt x="173" y="187"/>
                            </a:lnTo>
                            <a:lnTo>
                              <a:pt x="173" y="192"/>
                            </a:lnTo>
                            <a:lnTo>
                              <a:pt x="171" y="198"/>
                            </a:lnTo>
                            <a:lnTo>
                              <a:pt x="171" y="202"/>
                            </a:lnTo>
                            <a:lnTo>
                              <a:pt x="170" y="205"/>
                            </a:lnTo>
                            <a:lnTo>
                              <a:pt x="168" y="206"/>
                            </a:lnTo>
                            <a:lnTo>
                              <a:pt x="167" y="201"/>
                            </a:lnTo>
                            <a:lnTo>
                              <a:pt x="167" y="195"/>
                            </a:lnTo>
                            <a:lnTo>
                              <a:pt x="165" y="190"/>
                            </a:lnTo>
                            <a:lnTo>
                              <a:pt x="165" y="184"/>
                            </a:lnTo>
                            <a:lnTo>
                              <a:pt x="165" y="177"/>
                            </a:lnTo>
                            <a:lnTo>
                              <a:pt x="164" y="172"/>
                            </a:lnTo>
                            <a:lnTo>
                              <a:pt x="164" y="166"/>
                            </a:lnTo>
                            <a:lnTo>
                              <a:pt x="164" y="162"/>
                            </a:lnTo>
                            <a:lnTo>
                              <a:pt x="164" y="155"/>
                            </a:lnTo>
                            <a:lnTo>
                              <a:pt x="164" y="150"/>
                            </a:lnTo>
                            <a:lnTo>
                              <a:pt x="164" y="144"/>
                            </a:lnTo>
                            <a:lnTo>
                              <a:pt x="164" y="139"/>
                            </a:lnTo>
                            <a:lnTo>
                              <a:pt x="164" y="133"/>
                            </a:lnTo>
                            <a:lnTo>
                              <a:pt x="164" y="128"/>
                            </a:lnTo>
                            <a:lnTo>
                              <a:pt x="164" y="121"/>
                            </a:lnTo>
                            <a:lnTo>
                              <a:pt x="164" y="117"/>
                            </a:lnTo>
                            <a:lnTo>
                              <a:pt x="164" y="110"/>
                            </a:lnTo>
                            <a:lnTo>
                              <a:pt x="164" y="105"/>
                            </a:lnTo>
                            <a:lnTo>
                              <a:pt x="164" y="99"/>
                            </a:lnTo>
                            <a:lnTo>
                              <a:pt x="164" y="94"/>
                            </a:lnTo>
                            <a:lnTo>
                              <a:pt x="164" y="88"/>
                            </a:lnTo>
                            <a:lnTo>
                              <a:pt x="164" y="83"/>
                            </a:lnTo>
                            <a:lnTo>
                              <a:pt x="164" y="76"/>
                            </a:lnTo>
                            <a:lnTo>
                              <a:pt x="164" y="72"/>
                            </a:lnTo>
                            <a:lnTo>
                              <a:pt x="164" y="65"/>
                            </a:lnTo>
                            <a:lnTo>
                              <a:pt x="164" y="59"/>
                            </a:lnTo>
                            <a:lnTo>
                              <a:pt x="162" y="54"/>
                            </a:lnTo>
                            <a:lnTo>
                              <a:pt x="162" y="48"/>
                            </a:lnTo>
                            <a:lnTo>
                              <a:pt x="162" y="43"/>
                            </a:lnTo>
                            <a:lnTo>
                              <a:pt x="161" y="37"/>
                            </a:lnTo>
                            <a:lnTo>
                              <a:pt x="161" y="32"/>
                            </a:lnTo>
                            <a:lnTo>
                              <a:pt x="161" y="26"/>
                            </a:lnTo>
                            <a:lnTo>
                              <a:pt x="159" y="25"/>
                            </a:lnTo>
                            <a:lnTo>
                              <a:pt x="158" y="22"/>
                            </a:lnTo>
                            <a:lnTo>
                              <a:pt x="156" y="20"/>
                            </a:lnTo>
                            <a:lnTo>
                              <a:pt x="156" y="18"/>
                            </a:lnTo>
                            <a:lnTo>
                              <a:pt x="154" y="20"/>
                            </a:lnTo>
                            <a:lnTo>
                              <a:pt x="154" y="22"/>
                            </a:lnTo>
                            <a:lnTo>
                              <a:pt x="153" y="26"/>
                            </a:lnTo>
                            <a:lnTo>
                              <a:pt x="153" y="29"/>
                            </a:lnTo>
                            <a:lnTo>
                              <a:pt x="153" y="32"/>
                            </a:lnTo>
                            <a:lnTo>
                              <a:pt x="153" y="36"/>
                            </a:lnTo>
                            <a:lnTo>
                              <a:pt x="153" y="39"/>
                            </a:lnTo>
                            <a:lnTo>
                              <a:pt x="153" y="43"/>
                            </a:lnTo>
                            <a:lnTo>
                              <a:pt x="156" y="105"/>
                            </a:lnTo>
                            <a:lnTo>
                              <a:pt x="156" y="109"/>
                            </a:lnTo>
                            <a:lnTo>
                              <a:pt x="156" y="114"/>
                            </a:lnTo>
                            <a:lnTo>
                              <a:pt x="156" y="120"/>
                            </a:lnTo>
                            <a:lnTo>
                              <a:pt x="156" y="125"/>
                            </a:lnTo>
                            <a:lnTo>
                              <a:pt x="156" y="129"/>
                            </a:lnTo>
                            <a:lnTo>
                              <a:pt x="156" y="135"/>
                            </a:lnTo>
                            <a:lnTo>
                              <a:pt x="154" y="140"/>
                            </a:lnTo>
                            <a:lnTo>
                              <a:pt x="154" y="144"/>
                            </a:lnTo>
                            <a:lnTo>
                              <a:pt x="154" y="150"/>
                            </a:lnTo>
                            <a:lnTo>
                              <a:pt x="154" y="155"/>
                            </a:lnTo>
                            <a:lnTo>
                              <a:pt x="154" y="160"/>
                            </a:lnTo>
                            <a:lnTo>
                              <a:pt x="154" y="165"/>
                            </a:lnTo>
                            <a:lnTo>
                              <a:pt x="153" y="171"/>
                            </a:lnTo>
                            <a:lnTo>
                              <a:pt x="153" y="175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3" y="512"/>
                            </a:lnTo>
                            <a:lnTo>
                              <a:pt x="75" y="515"/>
                            </a:lnTo>
                            <a:lnTo>
                              <a:pt x="72" y="66"/>
                            </a:lnTo>
                            <a:lnTo>
                              <a:pt x="72" y="62"/>
                            </a:lnTo>
                            <a:lnTo>
                              <a:pt x="72" y="59"/>
                            </a:lnTo>
                            <a:lnTo>
                              <a:pt x="72" y="57"/>
                            </a:lnTo>
                            <a:lnTo>
                              <a:pt x="72" y="54"/>
                            </a:lnTo>
                            <a:lnTo>
                              <a:pt x="70" y="50"/>
                            </a:lnTo>
                            <a:lnTo>
                              <a:pt x="69" y="47"/>
                            </a:lnTo>
                            <a:lnTo>
                              <a:pt x="69" y="43"/>
                            </a:lnTo>
                            <a:lnTo>
                              <a:pt x="67" y="40"/>
                            </a:lnTo>
                            <a:lnTo>
                              <a:pt x="67" y="37"/>
                            </a:lnTo>
                            <a:lnTo>
                              <a:pt x="66" y="33"/>
                            </a:lnTo>
                            <a:lnTo>
                              <a:pt x="64" y="31"/>
                            </a:lnTo>
                            <a:lnTo>
                              <a:pt x="64" y="28"/>
                            </a:lnTo>
                            <a:lnTo>
                              <a:pt x="63" y="21"/>
                            </a:lnTo>
                            <a:lnTo>
                              <a:pt x="61" y="15"/>
                            </a:lnTo>
                            <a:lnTo>
                              <a:pt x="57" y="15"/>
                            </a:lnTo>
                            <a:lnTo>
                              <a:pt x="61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Freeform 96"/>
                      <p:cNvSpPr/>
                      <p:nvPr/>
                    </p:nvSpPr>
                    <p:spPr>
                      <a:xfrm>
                        <a:off x="3000960" y="2621880"/>
                        <a:ext cx="720" cy="176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7640"/>
                          <a:gd name="textAreaBottom" fmla="*/ 18000 h 17640"/>
                        </a:gdLst>
                        <a:ahLst/>
                        <a:rect l="textAreaLeft" t="textAreaTop" r="textAreaRight" b="textAreaBottom"/>
                        <a:pathLst>
                          <a:path w="9" h="178">
                            <a:moveTo>
                              <a:pt x="1" y="176"/>
                            </a:moveTo>
                            <a:lnTo>
                              <a:pt x="1" y="178"/>
                            </a:lnTo>
                            <a:lnTo>
                              <a:pt x="3" y="176"/>
                            </a:lnTo>
                            <a:lnTo>
                              <a:pt x="3" y="175"/>
                            </a:lnTo>
                            <a:lnTo>
                              <a:pt x="3" y="172"/>
                            </a:lnTo>
                            <a:lnTo>
                              <a:pt x="3" y="169"/>
                            </a:lnTo>
                            <a:lnTo>
                              <a:pt x="3" y="165"/>
                            </a:lnTo>
                            <a:lnTo>
                              <a:pt x="3" y="162"/>
                            </a:lnTo>
                            <a:lnTo>
                              <a:pt x="3" y="160"/>
                            </a:lnTo>
                            <a:lnTo>
                              <a:pt x="3" y="154"/>
                            </a:lnTo>
                            <a:lnTo>
                              <a:pt x="4" y="149"/>
                            </a:lnTo>
                            <a:lnTo>
                              <a:pt x="4" y="143"/>
                            </a:lnTo>
                            <a:lnTo>
                              <a:pt x="4" y="138"/>
                            </a:lnTo>
                            <a:lnTo>
                              <a:pt x="4" y="132"/>
                            </a:lnTo>
                            <a:lnTo>
                              <a:pt x="4" y="127"/>
                            </a:lnTo>
                            <a:lnTo>
                              <a:pt x="4" y="121"/>
                            </a:lnTo>
                            <a:lnTo>
                              <a:pt x="4" y="116"/>
                            </a:lnTo>
                            <a:lnTo>
                              <a:pt x="6" y="112"/>
                            </a:lnTo>
                            <a:lnTo>
                              <a:pt x="6" y="106"/>
                            </a:lnTo>
                            <a:lnTo>
                              <a:pt x="6" y="101"/>
                            </a:lnTo>
                            <a:lnTo>
                              <a:pt x="6" y="97"/>
                            </a:lnTo>
                            <a:lnTo>
                              <a:pt x="8" y="91"/>
                            </a:lnTo>
                            <a:lnTo>
                              <a:pt x="8" y="86"/>
                            </a:lnTo>
                            <a:lnTo>
                              <a:pt x="8" y="80"/>
                            </a:lnTo>
                            <a:lnTo>
                              <a:pt x="8" y="75"/>
                            </a:lnTo>
                            <a:lnTo>
                              <a:pt x="8" y="70"/>
                            </a:lnTo>
                            <a:lnTo>
                              <a:pt x="8" y="65"/>
                            </a:lnTo>
                            <a:lnTo>
                              <a:pt x="8" y="59"/>
                            </a:lnTo>
                            <a:lnTo>
                              <a:pt x="8" y="54"/>
                            </a:lnTo>
                            <a:lnTo>
                              <a:pt x="8" y="50"/>
                            </a:lnTo>
                            <a:lnTo>
                              <a:pt x="9" y="44"/>
                            </a:lnTo>
                            <a:lnTo>
                              <a:pt x="8" y="39"/>
                            </a:lnTo>
                            <a:lnTo>
                              <a:pt x="8" y="33"/>
                            </a:lnTo>
                            <a:lnTo>
                              <a:pt x="8" y="28"/>
                            </a:lnTo>
                            <a:lnTo>
                              <a:pt x="8" y="22"/>
                            </a:lnTo>
                            <a:lnTo>
                              <a:pt x="8" y="17"/>
                            </a:lnTo>
                            <a:lnTo>
                              <a:pt x="8" y="11"/>
                            </a:lnTo>
                            <a:lnTo>
                              <a:pt x="8" y="6"/>
                            </a:lnTo>
                            <a:lnTo>
                              <a:pt x="8" y="0"/>
                            </a:lnTo>
                            <a:lnTo>
                              <a:pt x="6" y="5"/>
                            </a:lnTo>
                            <a:lnTo>
                              <a:pt x="6" y="9"/>
                            </a:lnTo>
                            <a:lnTo>
                              <a:pt x="4" y="11"/>
                            </a:lnTo>
                            <a:lnTo>
                              <a:pt x="3" y="16"/>
                            </a:lnTo>
                            <a:lnTo>
                              <a:pt x="1" y="105"/>
                            </a:lnTo>
                            <a:lnTo>
                              <a:pt x="0" y="109"/>
                            </a:lnTo>
                            <a:lnTo>
                              <a:pt x="0" y="113"/>
                            </a:lnTo>
                            <a:lnTo>
                              <a:pt x="0" y="118"/>
                            </a:lnTo>
                            <a:lnTo>
                              <a:pt x="0" y="123"/>
                            </a:lnTo>
                            <a:lnTo>
                              <a:pt x="0" y="127"/>
                            </a:lnTo>
                            <a:lnTo>
                              <a:pt x="0" y="132"/>
                            </a:lnTo>
                            <a:lnTo>
                              <a:pt x="0" y="136"/>
                            </a:lnTo>
                            <a:lnTo>
                              <a:pt x="0" y="142"/>
                            </a:lnTo>
                            <a:lnTo>
                              <a:pt x="0" y="146"/>
                            </a:lnTo>
                            <a:lnTo>
                              <a:pt x="0" y="150"/>
                            </a:lnTo>
                            <a:lnTo>
                              <a:pt x="0" y="154"/>
                            </a:lnTo>
                            <a:lnTo>
                              <a:pt x="0" y="158"/>
                            </a:lnTo>
                            <a:lnTo>
                              <a:pt x="0" y="164"/>
                            </a:lnTo>
                            <a:lnTo>
                              <a:pt x="0" y="168"/>
                            </a:lnTo>
                            <a:lnTo>
                              <a:pt x="0" y="172"/>
                            </a:lnTo>
                            <a:lnTo>
                              <a:pt x="1" y="1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Freeform 97"/>
                      <p:cNvSpPr/>
                      <p:nvPr/>
                    </p:nvSpPr>
                    <p:spPr>
                      <a:xfrm>
                        <a:off x="3011400" y="2622960"/>
                        <a:ext cx="720" cy="15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2" h="161">
                            <a:moveTo>
                              <a:pt x="12" y="0"/>
                            </a:moveTo>
                            <a:lnTo>
                              <a:pt x="12" y="5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10" y="21"/>
                            </a:lnTo>
                            <a:lnTo>
                              <a:pt x="10" y="27"/>
                            </a:lnTo>
                            <a:lnTo>
                              <a:pt x="10" y="32"/>
                            </a:lnTo>
                            <a:lnTo>
                              <a:pt x="10" y="37"/>
                            </a:lnTo>
                            <a:lnTo>
                              <a:pt x="10" y="43"/>
                            </a:lnTo>
                            <a:lnTo>
                              <a:pt x="9" y="48"/>
                            </a:lnTo>
                            <a:lnTo>
                              <a:pt x="9" y="53"/>
                            </a:lnTo>
                            <a:lnTo>
                              <a:pt x="9" y="58"/>
                            </a:lnTo>
                            <a:lnTo>
                              <a:pt x="9" y="64"/>
                            </a:lnTo>
                            <a:lnTo>
                              <a:pt x="7" y="69"/>
                            </a:lnTo>
                            <a:lnTo>
                              <a:pt x="7" y="73"/>
                            </a:lnTo>
                            <a:lnTo>
                              <a:pt x="7" y="79"/>
                            </a:lnTo>
                            <a:lnTo>
                              <a:pt x="7" y="84"/>
                            </a:lnTo>
                            <a:lnTo>
                              <a:pt x="7" y="88"/>
                            </a:lnTo>
                            <a:lnTo>
                              <a:pt x="7" y="94"/>
                            </a:lnTo>
                            <a:lnTo>
                              <a:pt x="7" y="99"/>
                            </a:lnTo>
                            <a:lnTo>
                              <a:pt x="7" y="105"/>
                            </a:lnTo>
                            <a:lnTo>
                              <a:pt x="6" y="109"/>
                            </a:lnTo>
                            <a:lnTo>
                              <a:pt x="6" y="113"/>
                            </a:lnTo>
                            <a:lnTo>
                              <a:pt x="6" y="118"/>
                            </a:lnTo>
                            <a:lnTo>
                              <a:pt x="6" y="124"/>
                            </a:lnTo>
                            <a:lnTo>
                              <a:pt x="4" y="128"/>
                            </a:lnTo>
                            <a:lnTo>
                              <a:pt x="4" y="132"/>
                            </a:lnTo>
                            <a:lnTo>
                              <a:pt x="3" y="138"/>
                            </a:lnTo>
                            <a:lnTo>
                              <a:pt x="3" y="142"/>
                            </a:lnTo>
                            <a:lnTo>
                              <a:pt x="1" y="147"/>
                            </a:lnTo>
                            <a:lnTo>
                              <a:pt x="1" y="151"/>
                            </a:lnTo>
                            <a:lnTo>
                              <a:pt x="0" y="157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0" y="149"/>
                            </a:lnTo>
                            <a:lnTo>
                              <a:pt x="0" y="143"/>
                            </a:lnTo>
                            <a:lnTo>
                              <a:pt x="0" y="138"/>
                            </a:lnTo>
                            <a:lnTo>
                              <a:pt x="0" y="135"/>
                            </a:lnTo>
                            <a:lnTo>
                              <a:pt x="0" y="132"/>
                            </a:lnTo>
                            <a:lnTo>
                              <a:pt x="0" y="128"/>
                            </a:lnTo>
                            <a:lnTo>
                              <a:pt x="0" y="125"/>
                            </a:lnTo>
                            <a:lnTo>
                              <a:pt x="0" y="121"/>
                            </a:lnTo>
                            <a:lnTo>
                              <a:pt x="0" y="118"/>
                            </a:lnTo>
                            <a:lnTo>
                              <a:pt x="0" y="114"/>
                            </a:lnTo>
                            <a:lnTo>
                              <a:pt x="0" y="110"/>
                            </a:lnTo>
                            <a:lnTo>
                              <a:pt x="0" y="107"/>
                            </a:lnTo>
                            <a:lnTo>
                              <a:pt x="0" y="103"/>
                            </a:lnTo>
                            <a:lnTo>
                              <a:pt x="0" y="99"/>
                            </a:lnTo>
                            <a:lnTo>
                              <a:pt x="0" y="95"/>
                            </a:lnTo>
                            <a:lnTo>
                              <a:pt x="0" y="92"/>
                            </a:lnTo>
                            <a:lnTo>
                              <a:pt x="0" y="88"/>
                            </a:lnTo>
                            <a:lnTo>
                              <a:pt x="0" y="84"/>
                            </a:lnTo>
                            <a:lnTo>
                              <a:pt x="0" y="80"/>
                            </a:lnTo>
                            <a:lnTo>
                              <a:pt x="0" y="76"/>
                            </a:lnTo>
                            <a:lnTo>
                              <a:pt x="0" y="73"/>
                            </a:lnTo>
                            <a:lnTo>
                              <a:pt x="0" y="69"/>
                            </a:lnTo>
                            <a:lnTo>
                              <a:pt x="0" y="66"/>
                            </a:lnTo>
                            <a:lnTo>
                              <a:pt x="0" y="62"/>
                            </a:lnTo>
                            <a:lnTo>
                              <a:pt x="0" y="59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lnTo>
                              <a:pt x="1" y="46"/>
                            </a:lnTo>
                            <a:lnTo>
                              <a:pt x="1" y="40"/>
                            </a:lnTo>
                            <a:lnTo>
                              <a:pt x="3" y="35"/>
                            </a:lnTo>
                            <a:lnTo>
                              <a:pt x="3" y="29"/>
                            </a:lnTo>
                            <a:lnTo>
                              <a:pt x="3" y="25"/>
                            </a:lnTo>
                            <a:lnTo>
                              <a:pt x="4" y="21"/>
                            </a:lnTo>
                            <a:lnTo>
                              <a:pt x="6" y="17"/>
                            </a:lnTo>
                            <a:lnTo>
                              <a:pt x="7" y="13"/>
                            </a:lnTo>
                            <a:lnTo>
                              <a:pt x="7" y="9"/>
                            </a:lnTo>
                            <a:lnTo>
                              <a:pt x="9" y="7"/>
                            </a:lnTo>
                            <a:lnTo>
                              <a:pt x="10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Freeform 98"/>
                      <p:cNvSpPr/>
                      <p:nvPr/>
                    </p:nvSpPr>
                    <p:spPr>
                      <a:xfrm>
                        <a:off x="2994840" y="2586600"/>
                        <a:ext cx="18720" cy="5868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211" h="582">
                            <a:moveTo>
                              <a:pt x="59" y="76"/>
                            </a:moveTo>
                            <a:lnTo>
                              <a:pt x="59" y="80"/>
                            </a:lnTo>
                            <a:lnTo>
                              <a:pt x="61" y="84"/>
                            </a:lnTo>
                            <a:lnTo>
                              <a:pt x="61" y="88"/>
                            </a:lnTo>
                            <a:lnTo>
                              <a:pt x="62" y="94"/>
                            </a:lnTo>
                            <a:lnTo>
                              <a:pt x="62" y="99"/>
                            </a:lnTo>
                            <a:lnTo>
                              <a:pt x="64" y="103"/>
                            </a:lnTo>
                            <a:lnTo>
                              <a:pt x="64" y="109"/>
                            </a:lnTo>
                            <a:lnTo>
                              <a:pt x="65" y="114"/>
                            </a:lnTo>
                            <a:lnTo>
                              <a:pt x="65" y="120"/>
                            </a:lnTo>
                            <a:lnTo>
                              <a:pt x="67" y="125"/>
                            </a:lnTo>
                            <a:lnTo>
                              <a:pt x="67" y="129"/>
                            </a:lnTo>
                            <a:lnTo>
                              <a:pt x="67" y="136"/>
                            </a:lnTo>
                            <a:lnTo>
                              <a:pt x="67" y="140"/>
                            </a:lnTo>
                            <a:lnTo>
                              <a:pt x="67" y="146"/>
                            </a:lnTo>
                            <a:lnTo>
                              <a:pt x="65" y="150"/>
                            </a:lnTo>
                            <a:lnTo>
                              <a:pt x="64" y="155"/>
                            </a:lnTo>
                            <a:lnTo>
                              <a:pt x="64" y="151"/>
                            </a:lnTo>
                            <a:lnTo>
                              <a:pt x="64" y="147"/>
                            </a:lnTo>
                            <a:lnTo>
                              <a:pt x="64" y="143"/>
                            </a:lnTo>
                            <a:lnTo>
                              <a:pt x="64" y="140"/>
                            </a:lnTo>
                            <a:lnTo>
                              <a:pt x="62" y="136"/>
                            </a:lnTo>
                            <a:lnTo>
                              <a:pt x="62" y="134"/>
                            </a:lnTo>
                            <a:lnTo>
                              <a:pt x="62" y="129"/>
                            </a:lnTo>
                            <a:lnTo>
                              <a:pt x="62" y="127"/>
                            </a:lnTo>
                            <a:lnTo>
                              <a:pt x="61" y="124"/>
                            </a:lnTo>
                            <a:lnTo>
                              <a:pt x="61" y="120"/>
                            </a:lnTo>
                            <a:lnTo>
                              <a:pt x="59" y="117"/>
                            </a:lnTo>
                            <a:lnTo>
                              <a:pt x="59" y="113"/>
                            </a:lnTo>
                            <a:lnTo>
                              <a:pt x="58" y="110"/>
                            </a:lnTo>
                            <a:lnTo>
                              <a:pt x="58" y="106"/>
                            </a:lnTo>
                            <a:lnTo>
                              <a:pt x="58" y="103"/>
                            </a:lnTo>
                            <a:lnTo>
                              <a:pt x="58" y="99"/>
                            </a:lnTo>
                            <a:lnTo>
                              <a:pt x="56" y="96"/>
                            </a:lnTo>
                            <a:lnTo>
                              <a:pt x="55" y="92"/>
                            </a:lnTo>
                            <a:lnTo>
                              <a:pt x="55" y="90"/>
                            </a:lnTo>
                            <a:lnTo>
                              <a:pt x="53" y="85"/>
                            </a:lnTo>
                            <a:lnTo>
                              <a:pt x="52" y="81"/>
                            </a:lnTo>
                            <a:lnTo>
                              <a:pt x="52" y="79"/>
                            </a:lnTo>
                            <a:lnTo>
                              <a:pt x="50" y="75"/>
                            </a:lnTo>
                            <a:lnTo>
                              <a:pt x="50" y="72"/>
                            </a:lnTo>
                            <a:lnTo>
                              <a:pt x="49" y="68"/>
                            </a:lnTo>
                            <a:lnTo>
                              <a:pt x="47" y="65"/>
                            </a:lnTo>
                            <a:lnTo>
                              <a:pt x="47" y="61"/>
                            </a:lnTo>
                            <a:lnTo>
                              <a:pt x="45" y="58"/>
                            </a:lnTo>
                            <a:lnTo>
                              <a:pt x="44" y="54"/>
                            </a:lnTo>
                            <a:lnTo>
                              <a:pt x="44" y="51"/>
                            </a:lnTo>
                            <a:lnTo>
                              <a:pt x="42" y="47"/>
                            </a:lnTo>
                            <a:lnTo>
                              <a:pt x="42" y="44"/>
                            </a:lnTo>
                            <a:lnTo>
                              <a:pt x="29" y="48"/>
                            </a:lnTo>
                            <a:lnTo>
                              <a:pt x="30" y="51"/>
                            </a:lnTo>
                            <a:lnTo>
                              <a:pt x="30" y="55"/>
                            </a:lnTo>
                            <a:lnTo>
                              <a:pt x="32" y="58"/>
                            </a:lnTo>
                            <a:lnTo>
                              <a:pt x="33" y="61"/>
                            </a:lnTo>
                            <a:lnTo>
                              <a:pt x="33" y="64"/>
                            </a:lnTo>
                            <a:lnTo>
                              <a:pt x="35" y="68"/>
                            </a:lnTo>
                            <a:lnTo>
                              <a:pt x="35" y="70"/>
                            </a:lnTo>
                            <a:lnTo>
                              <a:pt x="36" y="75"/>
                            </a:lnTo>
                            <a:lnTo>
                              <a:pt x="38" y="80"/>
                            </a:lnTo>
                            <a:lnTo>
                              <a:pt x="38" y="85"/>
                            </a:lnTo>
                            <a:lnTo>
                              <a:pt x="39" y="88"/>
                            </a:lnTo>
                            <a:lnTo>
                              <a:pt x="39" y="91"/>
                            </a:lnTo>
                            <a:lnTo>
                              <a:pt x="41" y="95"/>
                            </a:lnTo>
                            <a:lnTo>
                              <a:pt x="41" y="98"/>
                            </a:lnTo>
                            <a:lnTo>
                              <a:pt x="41" y="103"/>
                            </a:lnTo>
                            <a:lnTo>
                              <a:pt x="42" y="110"/>
                            </a:lnTo>
                            <a:lnTo>
                              <a:pt x="42" y="113"/>
                            </a:lnTo>
                            <a:lnTo>
                              <a:pt x="42" y="117"/>
                            </a:lnTo>
                            <a:lnTo>
                              <a:pt x="42" y="120"/>
                            </a:lnTo>
                            <a:lnTo>
                              <a:pt x="42" y="124"/>
                            </a:lnTo>
                            <a:lnTo>
                              <a:pt x="42" y="127"/>
                            </a:lnTo>
                            <a:lnTo>
                              <a:pt x="42" y="129"/>
                            </a:lnTo>
                            <a:lnTo>
                              <a:pt x="42" y="134"/>
                            </a:lnTo>
                            <a:lnTo>
                              <a:pt x="42" y="138"/>
                            </a:lnTo>
                            <a:lnTo>
                              <a:pt x="42" y="140"/>
                            </a:lnTo>
                            <a:lnTo>
                              <a:pt x="42" y="145"/>
                            </a:lnTo>
                            <a:lnTo>
                              <a:pt x="42" y="149"/>
                            </a:lnTo>
                            <a:lnTo>
                              <a:pt x="42" y="153"/>
                            </a:lnTo>
                            <a:lnTo>
                              <a:pt x="38" y="149"/>
                            </a:lnTo>
                            <a:lnTo>
                              <a:pt x="36" y="145"/>
                            </a:lnTo>
                            <a:lnTo>
                              <a:pt x="36" y="142"/>
                            </a:lnTo>
                            <a:lnTo>
                              <a:pt x="36" y="139"/>
                            </a:lnTo>
                            <a:lnTo>
                              <a:pt x="36" y="136"/>
                            </a:lnTo>
                            <a:lnTo>
                              <a:pt x="36" y="131"/>
                            </a:lnTo>
                            <a:lnTo>
                              <a:pt x="36" y="125"/>
                            </a:lnTo>
                            <a:lnTo>
                              <a:pt x="35" y="121"/>
                            </a:lnTo>
                            <a:lnTo>
                              <a:pt x="33" y="117"/>
                            </a:lnTo>
                            <a:lnTo>
                              <a:pt x="33" y="113"/>
                            </a:lnTo>
                            <a:lnTo>
                              <a:pt x="33" y="110"/>
                            </a:lnTo>
                            <a:lnTo>
                              <a:pt x="32" y="106"/>
                            </a:lnTo>
                            <a:lnTo>
                              <a:pt x="30" y="102"/>
                            </a:lnTo>
                            <a:lnTo>
                              <a:pt x="29" y="99"/>
                            </a:lnTo>
                            <a:lnTo>
                              <a:pt x="29" y="96"/>
                            </a:lnTo>
                            <a:lnTo>
                              <a:pt x="26" y="92"/>
                            </a:lnTo>
                            <a:lnTo>
                              <a:pt x="24" y="88"/>
                            </a:lnTo>
                            <a:lnTo>
                              <a:pt x="21" y="83"/>
                            </a:lnTo>
                            <a:lnTo>
                              <a:pt x="19" y="79"/>
                            </a:lnTo>
                            <a:lnTo>
                              <a:pt x="16" y="75"/>
                            </a:lnTo>
                            <a:lnTo>
                              <a:pt x="15" y="69"/>
                            </a:lnTo>
                            <a:lnTo>
                              <a:pt x="13" y="66"/>
                            </a:lnTo>
                            <a:lnTo>
                              <a:pt x="13" y="64"/>
                            </a:lnTo>
                            <a:lnTo>
                              <a:pt x="12" y="61"/>
                            </a:lnTo>
                            <a:lnTo>
                              <a:pt x="12" y="58"/>
                            </a:lnTo>
                            <a:lnTo>
                              <a:pt x="12" y="55"/>
                            </a:lnTo>
                            <a:lnTo>
                              <a:pt x="12" y="51"/>
                            </a:lnTo>
                            <a:lnTo>
                              <a:pt x="12" y="47"/>
                            </a:lnTo>
                            <a:lnTo>
                              <a:pt x="12" y="44"/>
                            </a:lnTo>
                            <a:lnTo>
                              <a:pt x="9" y="44"/>
                            </a:lnTo>
                            <a:lnTo>
                              <a:pt x="4" y="46"/>
                            </a:lnTo>
                            <a:lnTo>
                              <a:pt x="0" y="46"/>
                            </a:lnTo>
                            <a:lnTo>
                              <a:pt x="0" y="47"/>
                            </a:lnTo>
                            <a:lnTo>
                              <a:pt x="0" y="50"/>
                            </a:lnTo>
                            <a:lnTo>
                              <a:pt x="0" y="53"/>
                            </a:lnTo>
                            <a:lnTo>
                              <a:pt x="0" y="57"/>
                            </a:lnTo>
                            <a:lnTo>
                              <a:pt x="0" y="61"/>
                            </a:lnTo>
                            <a:lnTo>
                              <a:pt x="0" y="65"/>
                            </a:lnTo>
                            <a:lnTo>
                              <a:pt x="0" y="69"/>
                            </a:lnTo>
                            <a:lnTo>
                              <a:pt x="0" y="73"/>
                            </a:lnTo>
                            <a:lnTo>
                              <a:pt x="1" y="77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3" y="91"/>
                            </a:lnTo>
                            <a:lnTo>
                              <a:pt x="3" y="96"/>
                            </a:lnTo>
                            <a:lnTo>
                              <a:pt x="3" y="101"/>
                            </a:lnTo>
                            <a:lnTo>
                              <a:pt x="3" y="105"/>
                            </a:lnTo>
                            <a:lnTo>
                              <a:pt x="4" y="110"/>
                            </a:lnTo>
                            <a:lnTo>
                              <a:pt x="6" y="114"/>
                            </a:lnTo>
                            <a:lnTo>
                              <a:pt x="6" y="118"/>
                            </a:lnTo>
                            <a:lnTo>
                              <a:pt x="6" y="123"/>
                            </a:lnTo>
                            <a:lnTo>
                              <a:pt x="6" y="127"/>
                            </a:lnTo>
                            <a:lnTo>
                              <a:pt x="7" y="131"/>
                            </a:lnTo>
                            <a:lnTo>
                              <a:pt x="7" y="135"/>
                            </a:lnTo>
                            <a:lnTo>
                              <a:pt x="7" y="139"/>
                            </a:lnTo>
                            <a:lnTo>
                              <a:pt x="9" y="142"/>
                            </a:lnTo>
                            <a:lnTo>
                              <a:pt x="9" y="146"/>
                            </a:lnTo>
                            <a:lnTo>
                              <a:pt x="10" y="151"/>
                            </a:lnTo>
                            <a:lnTo>
                              <a:pt x="10" y="155"/>
                            </a:lnTo>
                            <a:lnTo>
                              <a:pt x="10" y="158"/>
                            </a:lnTo>
                            <a:lnTo>
                              <a:pt x="12" y="160"/>
                            </a:lnTo>
                            <a:lnTo>
                              <a:pt x="12" y="164"/>
                            </a:lnTo>
                            <a:lnTo>
                              <a:pt x="12" y="168"/>
                            </a:lnTo>
                            <a:lnTo>
                              <a:pt x="12" y="171"/>
                            </a:lnTo>
                            <a:lnTo>
                              <a:pt x="13" y="176"/>
                            </a:lnTo>
                            <a:lnTo>
                              <a:pt x="13" y="180"/>
                            </a:lnTo>
                            <a:lnTo>
                              <a:pt x="13" y="183"/>
                            </a:lnTo>
                            <a:lnTo>
                              <a:pt x="13" y="187"/>
                            </a:lnTo>
                            <a:lnTo>
                              <a:pt x="15" y="191"/>
                            </a:lnTo>
                            <a:lnTo>
                              <a:pt x="15" y="197"/>
                            </a:lnTo>
                            <a:lnTo>
                              <a:pt x="15" y="199"/>
                            </a:lnTo>
                            <a:lnTo>
                              <a:pt x="13" y="198"/>
                            </a:lnTo>
                            <a:lnTo>
                              <a:pt x="13" y="197"/>
                            </a:lnTo>
                            <a:lnTo>
                              <a:pt x="12" y="194"/>
                            </a:lnTo>
                            <a:lnTo>
                              <a:pt x="12" y="582"/>
                            </a:lnTo>
                            <a:lnTo>
                              <a:pt x="211" y="582"/>
                            </a:lnTo>
                            <a:lnTo>
                              <a:pt x="206" y="114"/>
                            </a:lnTo>
                            <a:lnTo>
                              <a:pt x="205" y="110"/>
                            </a:lnTo>
                            <a:lnTo>
                              <a:pt x="205" y="107"/>
                            </a:lnTo>
                            <a:lnTo>
                              <a:pt x="205" y="103"/>
                            </a:lnTo>
                            <a:lnTo>
                              <a:pt x="205" y="99"/>
                            </a:lnTo>
                            <a:lnTo>
                              <a:pt x="205" y="96"/>
                            </a:lnTo>
                            <a:lnTo>
                              <a:pt x="205" y="92"/>
                            </a:lnTo>
                            <a:lnTo>
                              <a:pt x="205" y="90"/>
                            </a:lnTo>
                            <a:lnTo>
                              <a:pt x="205" y="85"/>
                            </a:lnTo>
                            <a:lnTo>
                              <a:pt x="205" y="81"/>
                            </a:lnTo>
                            <a:lnTo>
                              <a:pt x="205" y="79"/>
                            </a:lnTo>
                            <a:lnTo>
                              <a:pt x="205" y="75"/>
                            </a:lnTo>
                            <a:lnTo>
                              <a:pt x="205" y="72"/>
                            </a:lnTo>
                            <a:lnTo>
                              <a:pt x="205" y="68"/>
                            </a:lnTo>
                            <a:lnTo>
                              <a:pt x="205" y="65"/>
                            </a:lnTo>
                            <a:lnTo>
                              <a:pt x="205" y="61"/>
                            </a:lnTo>
                            <a:lnTo>
                              <a:pt x="205" y="58"/>
                            </a:lnTo>
                            <a:lnTo>
                              <a:pt x="205" y="54"/>
                            </a:lnTo>
                            <a:lnTo>
                              <a:pt x="205" y="50"/>
                            </a:lnTo>
                            <a:lnTo>
                              <a:pt x="205" y="47"/>
                            </a:lnTo>
                            <a:lnTo>
                              <a:pt x="205" y="43"/>
                            </a:lnTo>
                            <a:lnTo>
                              <a:pt x="205" y="39"/>
                            </a:lnTo>
                            <a:lnTo>
                              <a:pt x="205" y="36"/>
                            </a:lnTo>
                            <a:lnTo>
                              <a:pt x="205" y="32"/>
                            </a:lnTo>
                            <a:lnTo>
                              <a:pt x="205" y="29"/>
                            </a:lnTo>
                            <a:lnTo>
                              <a:pt x="205" y="25"/>
                            </a:lnTo>
                            <a:lnTo>
                              <a:pt x="205" y="21"/>
                            </a:lnTo>
                            <a:lnTo>
                              <a:pt x="205" y="18"/>
                            </a:lnTo>
                            <a:lnTo>
                              <a:pt x="205" y="15"/>
                            </a:lnTo>
                            <a:lnTo>
                              <a:pt x="203" y="11"/>
                            </a:lnTo>
                            <a:lnTo>
                              <a:pt x="203" y="7"/>
                            </a:lnTo>
                            <a:lnTo>
                              <a:pt x="203" y="4"/>
                            </a:lnTo>
                            <a:lnTo>
                              <a:pt x="203" y="0"/>
                            </a:lnTo>
                            <a:lnTo>
                              <a:pt x="203" y="3"/>
                            </a:lnTo>
                            <a:lnTo>
                              <a:pt x="203" y="7"/>
                            </a:lnTo>
                            <a:lnTo>
                              <a:pt x="203" y="10"/>
                            </a:lnTo>
                            <a:lnTo>
                              <a:pt x="203" y="13"/>
                            </a:lnTo>
                            <a:lnTo>
                              <a:pt x="203" y="17"/>
                            </a:lnTo>
                            <a:lnTo>
                              <a:pt x="203" y="20"/>
                            </a:lnTo>
                            <a:lnTo>
                              <a:pt x="203" y="24"/>
                            </a:lnTo>
                            <a:lnTo>
                              <a:pt x="203" y="26"/>
                            </a:lnTo>
                            <a:lnTo>
                              <a:pt x="201" y="29"/>
                            </a:lnTo>
                            <a:lnTo>
                              <a:pt x="201" y="33"/>
                            </a:lnTo>
                            <a:lnTo>
                              <a:pt x="201" y="36"/>
                            </a:lnTo>
                            <a:lnTo>
                              <a:pt x="201" y="40"/>
                            </a:lnTo>
                            <a:lnTo>
                              <a:pt x="201" y="43"/>
                            </a:lnTo>
                            <a:lnTo>
                              <a:pt x="201" y="47"/>
                            </a:lnTo>
                            <a:lnTo>
                              <a:pt x="201" y="50"/>
                            </a:lnTo>
                            <a:lnTo>
                              <a:pt x="201" y="53"/>
                            </a:lnTo>
                            <a:lnTo>
                              <a:pt x="201" y="57"/>
                            </a:lnTo>
                            <a:lnTo>
                              <a:pt x="201" y="59"/>
                            </a:lnTo>
                            <a:lnTo>
                              <a:pt x="201" y="64"/>
                            </a:lnTo>
                            <a:lnTo>
                              <a:pt x="201" y="66"/>
                            </a:lnTo>
                            <a:lnTo>
                              <a:pt x="201" y="70"/>
                            </a:lnTo>
                            <a:lnTo>
                              <a:pt x="201" y="73"/>
                            </a:lnTo>
                            <a:lnTo>
                              <a:pt x="201" y="77"/>
                            </a:lnTo>
                            <a:lnTo>
                              <a:pt x="201" y="80"/>
                            </a:lnTo>
                            <a:lnTo>
                              <a:pt x="201" y="84"/>
                            </a:lnTo>
                            <a:lnTo>
                              <a:pt x="201" y="87"/>
                            </a:lnTo>
                            <a:lnTo>
                              <a:pt x="201" y="90"/>
                            </a:lnTo>
                            <a:lnTo>
                              <a:pt x="201" y="94"/>
                            </a:lnTo>
                            <a:lnTo>
                              <a:pt x="201" y="96"/>
                            </a:lnTo>
                            <a:lnTo>
                              <a:pt x="201" y="101"/>
                            </a:lnTo>
                            <a:lnTo>
                              <a:pt x="201" y="103"/>
                            </a:lnTo>
                            <a:lnTo>
                              <a:pt x="201" y="107"/>
                            </a:lnTo>
                            <a:lnTo>
                              <a:pt x="200" y="103"/>
                            </a:lnTo>
                            <a:lnTo>
                              <a:pt x="198" y="99"/>
                            </a:lnTo>
                            <a:lnTo>
                              <a:pt x="198" y="94"/>
                            </a:lnTo>
                            <a:lnTo>
                              <a:pt x="197" y="90"/>
                            </a:lnTo>
                            <a:lnTo>
                              <a:pt x="195" y="84"/>
                            </a:lnTo>
                            <a:lnTo>
                              <a:pt x="195" y="80"/>
                            </a:lnTo>
                            <a:lnTo>
                              <a:pt x="194" y="76"/>
                            </a:lnTo>
                            <a:lnTo>
                              <a:pt x="194" y="72"/>
                            </a:lnTo>
                            <a:lnTo>
                              <a:pt x="191" y="73"/>
                            </a:lnTo>
                            <a:lnTo>
                              <a:pt x="191" y="79"/>
                            </a:lnTo>
                            <a:lnTo>
                              <a:pt x="191" y="80"/>
                            </a:lnTo>
                            <a:lnTo>
                              <a:pt x="191" y="84"/>
                            </a:lnTo>
                            <a:lnTo>
                              <a:pt x="191" y="88"/>
                            </a:lnTo>
                            <a:lnTo>
                              <a:pt x="191" y="92"/>
                            </a:lnTo>
                            <a:lnTo>
                              <a:pt x="191" y="96"/>
                            </a:lnTo>
                            <a:lnTo>
                              <a:pt x="191" y="101"/>
                            </a:lnTo>
                            <a:lnTo>
                              <a:pt x="191" y="105"/>
                            </a:lnTo>
                            <a:lnTo>
                              <a:pt x="191" y="110"/>
                            </a:lnTo>
                            <a:lnTo>
                              <a:pt x="191" y="114"/>
                            </a:lnTo>
                            <a:lnTo>
                              <a:pt x="191" y="120"/>
                            </a:lnTo>
                            <a:lnTo>
                              <a:pt x="191" y="125"/>
                            </a:lnTo>
                            <a:lnTo>
                              <a:pt x="192" y="131"/>
                            </a:lnTo>
                            <a:lnTo>
                              <a:pt x="192" y="135"/>
                            </a:lnTo>
                            <a:lnTo>
                              <a:pt x="192" y="139"/>
                            </a:lnTo>
                            <a:lnTo>
                              <a:pt x="192" y="145"/>
                            </a:lnTo>
                            <a:lnTo>
                              <a:pt x="192" y="149"/>
                            </a:lnTo>
                            <a:lnTo>
                              <a:pt x="192" y="153"/>
                            </a:lnTo>
                            <a:lnTo>
                              <a:pt x="192" y="157"/>
                            </a:lnTo>
                            <a:lnTo>
                              <a:pt x="192" y="161"/>
                            </a:lnTo>
                            <a:lnTo>
                              <a:pt x="194" y="164"/>
                            </a:lnTo>
                            <a:lnTo>
                              <a:pt x="192" y="168"/>
                            </a:lnTo>
                            <a:lnTo>
                              <a:pt x="192" y="172"/>
                            </a:lnTo>
                            <a:lnTo>
                              <a:pt x="191" y="173"/>
                            </a:lnTo>
                            <a:lnTo>
                              <a:pt x="191" y="171"/>
                            </a:lnTo>
                            <a:lnTo>
                              <a:pt x="191" y="165"/>
                            </a:lnTo>
                            <a:lnTo>
                              <a:pt x="189" y="160"/>
                            </a:lnTo>
                            <a:lnTo>
                              <a:pt x="189" y="154"/>
                            </a:lnTo>
                            <a:lnTo>
                              <a:pt x="189" y="149"/>
                            </a:lnTo>
                            <a:lnTo>
                              <a:pt x="189" y="143"/>
                            </a:lnTo>
                            <a:lnTo>
                              <a:pt x="188" y="139"/>
                            </a:lnTo>
                            <a:lnTo>
                              <a:pt x="188" y="134"/>
                            </a:lnTo>
                            <a:lnTo>
                              <a:pt x="188" y="129"/>
                            </a:lnTo>
                            <a:lnTo>
                              <a:pt x="188" y="124"/>
                            </a:lnTo>
                            <a:lnTo>
                              <a:pt x="188" y="121"/>
                            </a:lnTo>
                            <a:lnTo>
                              <a:pt x="188" y="116"/>
                            </a:lnTo>
                            <a:lnTo>
                              <a:pt x="188" y="112"/>
                            </a:lnTo>
                            <a:lnTo>
                              <a:pt x="186" y="107"/>
                            </a:lnTo>
                            <a:lnTo>
                              <a:pt x="186" y="103"/>
                            </a:lnTo>
                            <a:lnTo>
                              <a:pt x="186" y="99"/>
                            </a:lnTo>
                            <a:lnTo>
                              <a:pt x="186" y="95"/>
                            </a:lnTo>
                            <a:lnTo>
                              <a:pt x="185" y="90"/>
                            </a:lnTo>
                            <a:lnTo>
                              <a:pt x="185" y="87"/>
                            </a:lnTo>
                            <a:lnTo>
                              <a:pt x="185" y="81"/>
                            </a:lnTo>
                            <a:lnTo>
                              <a:pt x="185" y="77"/>
                            </a:lnTo>
                            <a:lnTo>
                              <a:pt x="183" y="73"/>
                            </a:lnTo>
                            <a:lnTo>
                              <a:pt x="183" y="68"/>
                            </a:lnTo>
                            <a:lnTo>
                              <a:pt x="183" y="64"/>
                            </a:lnTo>
                            <a:lnTo>
                              <a:pt x="183" y="59"/>
                            </a:lnTo>
                            <a:lnTo>
                              <a:pt x="182" y="55"/>
                            </a:lnTo>
                            <a:lnTo>
                              <a:pt x="182" y="50"/>
                            </a:lnTo>
                            <a:lnTo>
                              <a:pt x="182" y="44"/>
                            </a:lnTo>
                            <a:lnTo>
                              <a:pt x="182" y="40"/>
                            </a:lnTo>
                            <a:lnTo>
                              <a:pt x="182" y="35"/>
                            </a:lnTo>
                            <a:lnTo>
                              <a:pt x="182" y="31"/>
                            </a:lnTo>
                            <a:lnTo>
                              <a:pt x="182" y="24"/>
                            </a:lnTo>
                            <a:lnTo>
                              <a:pt x="182" y="20"/>
                            </a:lnTo>
                            <a:lnTo>
                              <a:pt x="179" y="20"/>
                            </a:lnTo>
                            <a:lnTo>
                              <a:pt x="177" y="24"/>
                            </a:lnTo>
                            <a:lnTo>
                              <a:pt x="175" y="26"/>
                            </a:lnTo>
                            <a:lnTo>
                              <a:pt x="174" y="31"/>
                            </a:lnTo>
                            <a:lnTo>
                              <a:pt x="174" y="33"/>
                            </a:lnTo>
                            <a:lnTo>
                              <a:pt x="172" y="37"/>
                            </a:lnTo>
                            <a:lnTo>
                              <a:pt x="172" y="40"/>
                            </a:lnTo>
                            <a:lnTo>
                              <a:pt x="172" y="44"/>
                            </a:lnTo>
                            <a:lnTo>
                              <a:pt x="171" y="47"/>
                            </a:lnTo>
                            <a:lnTo>
                              <a:pt x="171" y="53"/>
                            </a:lnTo>
                            <a:lnTo>
                              <a:pt x="169" y="57"/>
                            </a:lnTo>
                            <a:lnTo>
                              <a:pt x="169" y="64"/>
                            </a:lnTo>
                            <a:lnTo>
                              <a:pt x="169" y="65"/>
                            </a:lnTo>
                            <a:lnTo>
                              <a:pt x="169" y="68"/>
                            </a:lnTo>
                            <a:lnTo>
                              <a:pt x="169" y="72"/>
                            </a:lnTo>
                            <a:lnTo>
                              <a:pt x="169" y="75"/>
                            </a:lnTo>
                            <a:lnTo>
                              <a:pt x="169" y="77"/>
                            </a:lnTo>
                            <a:lnTo>
                              <a:pt x="169" y="81"/>
                            </a:lnTo>
                            <a:lnTo>
                              <a:pt x="169" y="85"/>
                            </a:lnTo>
                            <a:lnTo>
                              <a:pt x="169" y="90"/>
                            </a:lnTo>
                            <a:lnTo>
                              <a:pt x="169" y="92"/>
                            </a:lnTo>
                            <a:lnTo>
                              <a:pt x="169" y="96"/>
                            </a:lnTo>
                            <a:lnTo>
                              <a:pt x="169" y="101"/>
                            </a:lnTo>
                            <a:lnTo>
                              <a:pt x="169" y="105"/>
                            </a:lnTo>
                            <a:lnTo>
                              <a:pt x="169" y="109"/>
                            </a:lnTo>
                            <a:lnTo>
                              <a:pt x="169" y="113"/>
                            </a:lnTo>
                            <a:lnTo>
                              <a:pt x="169" y="118"/>
                            </a:lnTo>
                            <a:lnTo>
                              <a:pt x="169" y="124"/>
                            </a:lnTo>
                            <a:lnTo>
                              <a:pt x="169" y="128"/>
                            </a:lnTo>
                            <a:lnTo>
                              <a:pt x="169" y="134"/>
                            </a:lnTo>
                            <a:lnTo>
                              <a:pt x="171" y="138"/>
                            </a:lnTo>
                            <a:lnTo>
                              <a:pt x="171" y="143"/>
                            </a:lnTo>
                            <a:lnTo>
                              <a:pt x="171" y="149"/>
                            </a:lnTo>
                            <a:lnTo>
                              <a:pt x="171" y="154"/>
                            </a:lnTo>
                            <a:lnTo>
                              <a:pt x="172" y="160"/>
                            </a:lnTo>
                            <a:lnTo>
                              <a:pt x="174" y="166"/>
                            </a:lnTo>
                            <a:lnTo>
                              <a:pt x="174" y="169"/>
                            </a:lnTo>
                            <a:lnTo>
                              <a:pt x="174" y="172"/>
                            </a:lnTo>
                            <a:lnTo>
                              <a:pt x="174" y="176"/>
                            </a:lnTo>
                            <a:lnTo>
                              <a:pt x="174" y="182"/>
                            </a:lnTo>
                            <a:lnTo>
                              <a:pt x="174" y="186"/>
                            </a:lnTo>
                            <a:lnTo>
                              <a:pt x="174" y="191"/>
                            </a:lnTo>
                            <a:lnTo>
                              <a:pt x="174" y="197"/>
                            </a:lnTo>
                            <a:lnTo>
                              <a:pt x="174" y="204"/>
                            </a:lnTo>
                            <a:lnTo>
                              <a:pt x="172" y="209"/>
                            </a:lnTo>
                            <a:lnTo>
                              <a:pt x="172" y="215"/>
                            </a:lnTo>
                            <a:lnTo>
                              <a:pt x="172" y="220"/>
                            </a:lnTo>
                            <a:lnTo>
                              <a:pt x="172" y="224"/>
                            </a:lnTo>
                            <a:lnTo>
                              <a:pt x="171" y="228"/>
                            </a:lnTo>
                            <a:lnTo>
                              <a:pt x="171" y="232"/>
                            </a:lnTo>
                            <a:lnTo>
                              <a:pt x="169" y="235"/>
                            </a:lnTo>
                            <a:lnTo>
                              <a:pt x="168" y="238"/>
                            </a:lnTo>
                            <a:lnTo>
                              <a:pt x="166" y="231"/>
                            </a:lnTo>
                            <a:lnTo>
                              <a:pt x="166" y="225"/>
                            </a:lnTo>
                            <a:lnTo>
                              <a:pt x="165" y="220"/>
                            </a:lnTo>
                            <a:lnTo>
                              <a:pt x="165" y="215"/>
                            </a:lnTo>
                            <a:lnTo>
                              <a:pt x="163" y="209"/>
                            </a:lnTo>
                            <a:lnTo>
                              <a:pt x="163" y="204"/>
                            </a:lnTo>
                            <a:lnTo>
                              <a:pt x="163" y="198"/>
                            </a:lnTo>
                            <a:lnTo>
                              <a:pt x="163" y="193"/>
                            </a:lnTo>
                            <a:lnTo>
                              <a:pt x="163" y="186"/>
                            </a:lnTo>
                            <a:lnTo>
                              <a:pt x="163" y="182"/>
                            </a:lnTo>
                            <a:lnTo>
                              <a:pt x="163" y="175"/>
                            </a:lnTo>
                            <a:lnTo>
                              <a:pt x="163" y="171"/>
                            </a:lnTo>
                            <a:lnTo>
                              <a:pt x="163" y="165"/>
                            </a:lnTo>
                            <a:lnTo>
                              <a:pt x="163" y="158"/>
                            </a:lnTo>
                            <a:lnTo>
                              <a:pt x="163" y="153"/>
                            </a:lnTo>
                            <a:lnTo>
                              <a:pt x="163" y="149"/>
                            </a:lnTo>
                            <a:lnTo>
                              <a:pt x="162" y="142"/>
                            </a:lnTo>
                            <a:lnTo>
                              <a:pt x="162" y="136"/>
                            </a:lnTo>
                            <a:lnTo>
                              <a:pt x="162" y="131"/>
                            </a:lnTo>
                            <a:lnTo>
                              <a:pt x="162" y="125"/>
                            </a:lnTo>
                            <a:lnTo>
                              <a:pt x="162" y="118"/>
                            </a:lnTo>
                            <a:lnTo>
                              <a:pt x="162" y="114"/>
                            </a:lnTo>
                            <a:lnTo>
                              <a:pt x="162" y="107"/>
                            </a:lnTo>
                            <a:lnTo>
                              <a:pt x="162" y="102"/>
                            </a:lnTo>
                            <a:lnTo>
                              <a:pt x="162" y="96"/>
                            </a:lnTo>
                            <a:lnTo>
                              <a:pt x="160" y="91"/>
                            </a:lnTo>
                            <a:lnTo>
                              <a:pt x="160" y="85"/>
                            </a:lnTo>
                            <a:lnTo>
                              <a:pt x="160" y="80"/>
                            </a:lnTo>
                            <a:lnTo>
                              <a:pt x="160" y="75"/>
                            </a:lnTo>
                            <a:lnTo>
                              <a:pt x="159" y="69"/>
                            </a:lnTo>
                            <a:lnTo>
                              <a:pt x="159" y="62"/>
                            </a:lnTo>
                            <a:lnTo>
                              <a:pt x="157" y="58"/>
                            </a:lnTo>
                            <a:lnTo>
                              <a:pt x="157" y="55"/>
                            </a:lnTo>
                            <a:lnTo>
                              <a:pt x="157" y="53"/>
                            </a:lnTo>
                            <a:lnTo>
                              <a:pt x="156" y="48"/>
                            </a:lnTo>
                            <a:lnTo>
                              <a:pt x="156" y="47"/>
                            </a:lnTo>
                            <a:lnTo>
                              <a:pt x="154" y="50"/>
                            </a:lnTo>
                            <a:lnTo>
                              <a:pt x="154" y="53"/>
                            </a:lnTo>
                            <a:lnTo>
                              <a:pt x="153" y="57"/>
                            </a:lnTo>
                            <a:lnTo>
                              <a:pt x="153" y="59"/>
                            </a:lnTo>
                            <a:lnTo>
                              <a:pt x="153" y="64"/>
                            </a:lnTo>
                            <a:lnTo>
                              <a:pt x="151" y="66"/>
                            </a:lnTo>
                            <a:lnTo>
                              <a:pt x="151" y="70"/>
                            </a:lnTo>
                            <a:lnTo>
                              <a:pt x="151" y="75"/>
                            </a:lnTo>
                            <a:lnTo>
                              <a:pt x="156" y="138"/>
                            </a:lnTo>
                            <a:lnTo>
                              <a:pt x="154" y="142"/>
                            </a:lnTo>
                            <a:lnTo>
                              <a:pt x="154" y="146"/>
                            </a:lnTo>
                            <a:lnTo>
                              <a:pt x="154" y="151"/>
                            </a:lnTo>
                            <a:lnTo>
                              <a:pt x="154" y="155"/>
                            </a:lnTo>
                            <a:lnTo>
                              <a:pt x="154" y="161"/>
                            </a:lnTo>
                            <a:lnTo>
                              <a:pt x="154" y="166"/>
                            </a:lnTo>
                            <a:lnTo>
                              <a:pt x="153" y="171"/>
                            </a:lnTo>
                            <a:lnTo>
                              <a:pt x="153" y="176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1" y="191"/>
                            </a:lnTo>
                            <a:lnTo>
                              <a:pt x="151" y="195"/>
                            </a:lnTo>
                            <a:lnTo>
                              <a:pt x="151" y="201"/>
                            </a:lnTo>
                            <a:lnTo>
                              <a:pt x="151" y="206"/>
                            </a:lnTo>
                            <a:lnTo>
                              <a:pt x="153" y="210"/>
                            </a:lnTo>
                            <a:lnTo>
                              <a:pt x="153" y="217"/>
                            </a:lnTo>
                            <a:lnTo>
                              <a:pt x="153" y="544"/>
                            </a:lnTo>
                            <a:lnTo>
                              <a:pt x="75" y="545"/>
                            </a:lnTo>
                            <a:lnTo>
                              <a:pt x="71" y="99"/>
                            </a:lnTo>
                            <a:lnTo>
                              <a:pt x="71" y="95"/>
                            </a:lnTo>
                            <a:lnTo>
                              <a:pt x="71" y="92"/>
                            </a:lnTo>
                            <a:lnTo>
                              <a:pt x="71" y="88"/>
                            </a:lnTo>
                            <a:lnTo>
                              <a:pt x="71" y="85"/>
                            </a:lnTo>
                            <a:lnTo>
                              <a:pt x="70" y="81"/>
                            </a:lnTo>
                            <a:lnTo>
                              <a:pt x="68" y="79"/>
                            </a:lnTo>
                            <a:lnTo>
                              <a:pt x="68" y="75"/>
                            </a:lnTo>
                            <a:lnTo>
                              <a:pt x="68" y="72"/>
                            </a:lnTo>
                            <a:lnTo>
                              <a:pt x="67" y="68"/>
                            </a:lnTo>
                            <a:lnTo>
                              <a:pt x="65" y="65"/>
                            </a:lnTo>
                            <a:lnTo>
                              <a:pt x="64" y="62"/>
                            </a:lnTo>
                            <a:lnTo>
                              <a:pt x="64" y="58"/>
                            </a:lnTo>
                            <a:lnTo>
                              <a:pt x="62" y="53"/>
                            </a:lnTo>
                            <a:lnTo>
                              <a:pt x="62" y="47"/>
                            </a:lnTo>
                            <a:lnTo>
                              <a:pt x="58" y="53"/>
                            </a:lnTo>
                            <a:lnTo>
                              <a:pt x="59" y="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Freeform 99"/>
                      <p:cNvSpPr/>
                      <p:nvPr/>
                    </p:nvSpPr>
                    <p:spPr>
                      <a:xfrm>
                        <a:off x="3037320" y="2622960"/>
                        <a:ext cx="1080" cy="15840"/>
                      </a:xfrm>
                      <a:custGeom>
                        <a:avLst/>
                        <a:gdLst>
                          <a:gd name="textAreaLeft" fmla="*/ 0 w 1080"/>
                          <a:gd name="textAreaRight" fmla="*/ 1440 w 108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4" h="161">
                            <a:moveTo>
                              <a:pt x="14" y="0"/>
                            </a:moveTo>
                            <a:lnTo>
                              <a:pt x="14" y="3"/>
                            </a:lnTo>
                            <a:lnTo>
                              <a:pt x="12" y="7"/>
                            </a:lnTo>
                            <a:lnTo>
                              <a:pt x="12" y="11"/>
                            </a:lnTo>
                            <a:lnTo>
                              <a:pt x="12" y="16"/>
                            </a:lnTo>
                            <a:lnTo>
                              <a:pt x="11" y="20"/>
                            </a:lnTo>
                            <a:lnTo>
                              <a:pt x="11" y="24"/>
                            </a:lnTo>
                            <a:lnTo>
                              <a:pt x="11" y="28"/>
                            </a:lnTo>
                            <a:lnTo>
                              <a:pt x="11" y="32"/>
                            </a:lnTo>
                            <a:lnTo>
                              <a:pt x="11" y="36"/>
                            </a:lnTo>
                            <a:lnTo>
                              <a:pt x="11" y="40"/>
                            </a:lnTo>
                            <a:lnTo>
                              <a:pt x="11" y="44"/>
                            </a:lnTo>
                            <a:lnTo>
                              <a:pt x="11" y="48"/>
                            </a:lnTo>
                            <a:lnTo>
                              <a:pt x="11" y="53"/>
                            </a:lnTo>
                            <a:lnTo>
                              <a:pt x="11" y="58"/>
                            </a:lnTo>
                            <a:lnTo>
                              <a:pt x="11" y="61"/>
                            </a:lnTo>
                            <a:lnTo>
                              <a:pt x="11" y="66"/>
                            </a:lnTo>
                            <a:lnTo>
                              <a:pt x="11" y="72"/>
                            </a:lnTo>
                            <a:lnTo>
                              <a:pt x="11" y="77"/>
                            </a:lnTo>
                            <a:lnTo>
                              <a:pt x="11" y="83"/>
                            </a:lnTo>
                            <a:lnTo>
                              <a:pt x="11" y="90"/>
                            </a:lnTo>
                            <a:lnTo>
                              <a:pt x="11" y="95"/>
                            </a:lnTo>
                            <a:lnTo>
                              <a:pt x="9" y="101"/>
                            </a:lnTo>
                            <a:lnTo>
                              <a:pt x="9" y="105"/>
                            </a:lnTo>
                            <a:lnTo>
                              <a:pt x="9" y="107"/>
                            </a:lnTo>
                            <a:lnTo>
                              <a:pt x="9" y="110"/>
                            </a:lnTo>
                            <a:lnTo>
                              <a:pt x="9" y="113"/>
                            </a:lnTo>
                            <a:lnTo>
                              <a:pt x="8" y="120"/>
                            </a:lnTo>
                            <a:lnTo>
                              <a:pt x="6" y="125"/>
                            </a:lnTo>
                            <a:lnTo>
                              <a:pt x="6" y="131"/>
                            </a:lnTo>
                            <a:lnTo>
                              <a:pt x="5" y="138"/>
                            </a:lnTo>
                            <a:lnTo>
                              <a:pt x="3" y="143"/>
                            </a:lnTo>
                            <a:lnTo>
                              <a:pt x="3" y="149"/>
                            </a:lnTo>
                            <a:lnTo>
                              <a:pt x="2" y="151"/>
                            </a:lnTo>
                            <a:lnTo>
                              <a:pt x="2" y="154"/>
                            </a:lnTo>
                            <a:lnTo>
                              <a:pt x="0" y="158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2" y="150"/>
                            </a:lnTo>
                            <a:lnTo>
                              <a:pt x="2" y="145"/>
                            </a:lnTo>
                            <a:lnTo>
                              <a:pt x="2" y="140"/>
                            </a:lnTo>
                            <a:lnTo>
                              <a:pt x="2" y="135"/>
                            </a:lnTo>
                            <a:lnTo>
                              <a:pt x="3" y="129"/>
                            </a:lnTo>
                            <a:lnTo>
                              <a:pt x="3" y="127"/>
                            </a:lnTo>
                            <a:lnTo>
                              <a:pt x="3" y="123"/>
                            </a:lnTo>
                            <a:lnTo>
                              <a:pt x="3" y="120"/>
                            </a:lnTo>
                            <a:lnTo>
                              <a:pt x="3" y="117"/>
                            </a:lnTo>
                            <a:lnTo>
                              <a:pt x="3" y="113"/>
                            </a:lnTo>
                            <a:lnTo>
                              <a:pt x="3" y="110"/>
                            </a:lnTo>
                            <a:lnTo>
                              <a:pt x="3" y="107"/>
                            </a:lnTo>
                            <a:lnTo>
                              <a:pt x="3" y="105"/>
                            </a:lnTo>
                            <a:lnTo>
                              <a:pt x="3" y="101"/>
                            </a:lnTo>
                            <a:lnTo>
                              <a:pt x="3" y="97"/>
                            </a:lnTo>
                            <a:lnTo>
                              <a:pt x="3" y="94"/>
                            </a:lnTo>
                            <a:lnTo>
                              <a:pt x="3" y="90"/>
                            </a:lnTo>
                            <a:lnTo>
                              <a:pt x="3" y="87"/>
                            </a:lnTo>
                            <a:lnTo>
                              <a:pt x="5" y="83"/>
                            </a:lnTo>
                            <a:lnTo>
                              <a:pt x="5" y="80"/>
                            </a:lnTo>
                            <a:lnTo>
                              <a:pt x="5" y="76"/>
                            </a:lnTo>
                            <a:lnTo>
                              <a:pt x="5" y="73"/>
                            </a:lnTo>
                            <a:lnTo>
                              <a:pt x="5" y="69"/>
                            </a:lnTo>
                            <a:lnTo>
                              <a:pt x="5" y="65"/>
                            </a:lnTo>
                            <a:lnTo>
                              <a:pt x="5" y="62"/>
                            </a:lnTo>
                            <a:lnTo>
                              <a:pt x="5" y="58"/>
                            </a:lnTo>
                            <a:lnTo>
                              <a:pt x="6" y="55"/>
                            </a:lnTo>
                            <a:lnTo>
                              <a:pt x="6" y="51"/>
                            </a:lnTo>
                            <a:lnTo>
                              <a:pt x="6" y="48"/>
                            </a:lnTo>
                            <a:lnTo>
                              <a:pt x="6" y="44"/>
                            </a:lnTo>
                            <a:lnTo>
                              <a:pt x="6" y="42"/>
                            </a:lnTo>
                            <a:lnTo>
                              <a:pt x="6" y="39"/>
                            </a:lnTo>
                            <a:lnTo>
                              <a:pt x="6" y="36"/>
                            </a:lnTo>
                            <a:lnTo>
                              <a:pt x="8" y="29"/>
                            </a:lnTo>
                            <a:lnTo>
                              <a:pt x="8" y="25"/>
                            </a:lnTo>
                            <a:lnTo>
                              <a:pt x="8" y="20"/>
                            </a:lnTo>
                            <a:lnTo>
                              <a:pt x="9" y="14"/>
                            </a:lnTo>
                            <a:lnTo>
                              <a:pt x="9" y="11"/>
                            </a:lnTo>
                            <a:lnTo>
                              <a:pt x="11" y="7"/>
                            </a:lnTo>
                            <a:lnTo>
                              <a:pt x="11" y="5"/>
                            </a:lnTo>
                            <a:lnTo>
                              <a:pt x="12" y="2"/>
                            </a:lnTo>
                            <a:lnTo>
                              <a:pt x="12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Freeform 100"/>
                      <p:cNvSpPr/>
                      <p:nvPr/>
                    </p:nvSpPr>
                    <p:spPr>
                      <a:xfrm>
                        <a:off x="3046680" y="2585880"/>
                        <a:ext cx="19080" cy="58680"/>
                      </a:xfrm>
                      <a:custGeom>
                        <a:avLst/>
                        <a:gdLst>
                          <a:gd name="textAreaLeft" fmla="*/ 0 w 19080"/>
                          <a:gd name="textAreaRight" fmla="*/ 19080 w 190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214" h="584">
                            <a:moveTo>
                              <a:pt x="62" y="77"/>
                            </a:moveTo>
                            <a:lnTo>
                              <a:pt x="62" y="81"/>
                            </a:lnTo>
                            <a:lnTo>
                              <a:pt x="62" y="87"/>
                            </a:lnTo>
                            <a:lnTo>
                              <a:pt x="64" y="91"/>
                            </a:lnTo>
                            <a:lnTo>
                              <a:pt x="64" y="96"/>
                            </a:lnTo>
                            <a:lnTo>
                              <a:pt x="65" y="102"/>
                            </a:lnTo>
                            <a:lnTo>
                              <a:pt x="67" y="107"/>
                            </a:lnTo>
                            <a:lnTo>
                              <a:pt x="67" y="113"/>
                            </a:lnTo>
                            <a:lnTo>
                              <a:pt x="68" y="118"/>
                            </a:lnTo>
                            <a:lnTo>
                              <a:pt x="68" y="124"/>
                            </a:lnTo>
                            <a:lnTo>
                              <a:pt x="68" y="128"/>
                            </a:lnTo>
                            <a:lnTo>
                              <a:pt x="68" y="133"/>
                            </a:lnTo>
                            <a:lnTo>
                              <a:pt x="70" y="139"/>
                            </a:lnTo>
                            <a:lnTo>
                              <a:pt x="68" y="143"/>
                            </a:lnTo>
                            <a:lnTo>
                              <a:pt x="68" y="148"/>
                            </a:lnTo>
                            <a:lnTo>
                              <a:pt x="67" y="152"/>
                            </a:lnTo>
                            <a:lnTo>
                              <a:pt x="67" y="157"/>
                            </a:lnTo>
                            <a:lnTo>
                              <a:pt x="67" y="155"/>
                            </a:lnTo>
                            <a:lnTo>
                              <a:pt x="65" y="152"/>
                            </a:lnTo>
                            <a:lnTo>
                              <a:pt x="65" y="150"/>
                            </a:lnTo>
                            <a:lnTo>
                              <a:pt x="64" y="146"/>
                            </a:lnTo>
                            <a:lnTo>
                              <a:pt x="62" y="142"/>
                            </a:lnTo>
                            <a:lnTo>
                              <a:pt x="61" y="136"/>
                            </a:lnTo>
                            <a:lnTo>
                              <a:pt x="61" y="132"/>
                            </a:lnTo>
                            <a:lnTo>
                              <a:pt x="59" y="129"/>
                            </a:lnTo>
                            <a:lnTo>
                              <a:pt x="59" y="126"/>
                            </a:lnTo>
                            <a:lnTo>
                              <a:pt x="58" y="122"/>
                            </a:lnTo>
                            <a:lnTo>
                              <a:pt x="58" y="120"/>
                            </a:lnTo>
                            <a:lnTo>
                              <a:pt x="56" y="117"/>
                            </a:lnTo>
                            <a:lnTo>
                              <a:pt x="56" y="113"/>
                            </a:lnTo>
                            <a:lnTo>
                              <a:pt x="55" y="110"/>
                            </a:lnTo>
                            <a:lnTo>
                              <a:pt x="55" y="107"/>
                            </a:lnTo>
                            <a:lnTo>
                              <a:pt x="53" y="103"/>
                            </a:lnTo>
                            <a:lnTo>
                              <a:pt x="53" y="99"/>
                            </a:lnTo>
                            <a:lnTo>
                              <a:pt x="52" y="96"/>
                            </a:lnTo>
                            <a:lnTo>
                              <a:pt x="52" y="92"/>
                            </a:lnTo>
                            <a:lnTo>
                              <a:pt x="50" y="88"/>
                            </a:lnTo>
                            <a:lnTo>
                              <a:pt x="50" y="85"/>
                            </a:lnTo>
                            <a:lnTo>
                              <a:pt x="48" y="81"/>
                            </a:lnTo>
                            <a:lnTo>
                              <a:pt x="48" y="78"/>
                            </a:lnTo>
                            <a:lnTo>
                              <a:pt x="47" y="74"/>
                            </a:lnTo>
                            <a:lnTo>
                              <a:pt x="45" y="70"/>
                            </a:lnTo>
                            <a:lnTo>
                              <a:pt x="45" y="66"/>
                            </a:lnTo>
                            <a:lnTo>
                              <a:pt x="44" y="63"/>
                            </a:lnTo>
                            <a:lnTo>
                              <a:pt x="42" y="59"/>
                            </a:lnTo>
                            <a:lnTo>
                              <a:pt x="42" y="56"/>
                            </a:lnTo>
                            <a:lnTo>
                              <a:pt x="41" y="52"/>
                            </a:lnTo>
                            <a:lnTo>
                              <a:pt x="41" y="50"/>
                            </a:lnTo>
                            <a:lnTo>
                              <a:pt x="39" y="45"/>
                            </a:lnTo>
                            <a:lnTo>
                              <a:pt x="38" y="43"/>
                            </a:lnTo>
                            <a:lnTo>
                              <a:pt x="38" y="39"/>
                            </a:lnTo>
                            <a:lnTo>
                              <a:pt x="38" y="36"/>
                            </a:lnTo>
                            <a:lnTo>
                              <a:pt x="36" y="29"/>
                            </a:lnTo>
                            <a:lnTo>
                              <a:pt x="35" y="25"/>
                            </a:lnTo>
                            <a:lnTo>
                              <a:pt x="33" y="18"/>
                            </a:lnTo>
                            <a:lnTo>
                              <a:pt x="32" y="14"/>
                            </a:lnTo>
                            <a:lnTo>
                              <a:pt x="30" y="10"/>
                            </a:lnTo>
                            <a:lnTo>
                              <a:pt x="30" y="6"/>
                            </a:lnTo>
                            <a:lnTo>
                              <a:pt x="29" y="1"/>
                            </a:lnTo>
                            <a:lnTo>
                              <a:pt x="29" y="0"/>
                            </a:lnTo>
                            <a:lnTo>
                              <a:pt x="27" y="6"/>
                            </a:lnTo>
                            <a:lnTo>
                              <a:pt x="27" y="11"/>
                            </a:lnTo>
                            <a:lnTo>
                              <a:pt x="26" y="15"/>
                            </a:lnTo>
                            <a:lnTo>
                              <a:pt x="26" y="18"/>
                            </a:lnTo>
                            <a:lnTo>
                              <a:pt x="26" y="21"/>
                            </a:lnTo>
                            <a:lnTo>
                              <a:pt x="27" y="25"/>
                            </a:lnTo>
                            <a:lnTo>
                              <a:pt x="27" y="28"/>
                            </a:lnTo>
                            <a:lnTo>
                              <a:pt x="27" y="32"/>
                            </a:lnTo>
                            <a:lnTo>
                              <a:pt x="27" y="34"/>
                            </a:lnTo>
                            <a:lnTo>
                              <a:pt x="29" y="39"/>
                            </a:lnTo>
                            <a:lnTo>
                              <a:pt x="29" y="41"/>
                            </a:lnTo>
                            <a:lnTo>
                              <a:pt x="30" y="44"/>
                            </a:lnTo>
                            <a:lnTo>
                              <a:pt x="30" y="47"/>
                            </a:lnTo>
                            <a:lnTo>
                              <a:pt x="32" y="50"/>
                            </a:lnTo>
                            <a:lnTo>
                              <a:pt x="33" y="52"/>
                            </a:lnTo>
                            <a:lnTo>
                              <a:pt x="35" y="55"/>
                            </a:lnTo>
                            <a:lnTo>
                              <a:pt x="35" y="56"/>
                            </a:lnTo>
                            <a:lnTo>
                              <a:pt x="36" y="59"/>
                            </a:lnTo>
                            <a:lnTo>
                              <a:pt x="38" y="65"/>
                            </a:lnTo>
                            <a:lnTo>
                              <a:pt x="38" y="72"/>
                            </a:lnTo>
                            <a:lnTo>
                              <a:pt x="38" y="77"/>
                            </a:lnTo>
                            <a:lnTo>
                              <a:pt x="39" y="82"/>
                            </a:lnTo>
                            <a:lnTo>
                              <a:pt x="39" y="85"/>
                            </a:lnTo>
                            <a:lnTo>
                              <a:pt x="41" y="89"/>
                            </a:lnTo>
                            <a:lnTo>
                              <a:pt x="41" y="92"/>
                            </a:lnTo>
                            <a:lnTo>
                              <a:pt x="41" y="95"/>
                            </a:lnTo>
                            <a:lnTo>
                              <a:pt x="41" y="98"/>
                            </a:lnTo>
                            <a:lnTo>
                              <a:pt x="42" y="102"/>
                            </a:lnTo>
                            <a:lnTo>
                              <a:pt x="42" y="104"/>
                            </a:lnTo>
                            <a:lnTo>
                              <a:pt x="42" y="109"/>
                            </a:lnTo>
                            <a:lnTo>
                              <a:pt x="42" y="114"/>
                            </a:lnTo>
                            <a:lnTo>
                              <a:pt x="44" y="120"/>
                            </a:lnTo>
                            <a:lnTo>
                              <a:pt x="44" y="122"/>
                            </a:lnTo>
                            <a:lnTo>
                              <a:pt x="44" y="126"/>
                            </a:lnTo>
                            <a:lnTo>
                              <a:pt x="44" y="129"/>
                            </a:lnTo>
                            <a:lnTo>
                              <a:pt x="44" y="132"/>
                            </a:lnTo>
                            <a:lnTo>
                              <a:pt x="44" y="137"/>
                            </a:lnTo>
                            <a:lnTo>
                              <a:pt x="44" y="143"/>
                            </a:lnTo>
                            <a:lnTo>
                              <a:pt x="44" y="148"/>
                            </a:lnTo>
                            <a:lnTo>
                              <a:pt x="44" y="155"/>
                            </a:lnTo>
                            <a:lnTo>
                              <a:pt x="36" y="150"/>
                            </a:lnTo>
                            <a:lnTo>
                              <a:pt x="36" y="148"/>
                            </a:lnTo>
                            <a:lnTo>
                              <a:pt x="35" y="146"/>
                            </a:lnTo>
                            <a:lnTo>
                              <a:pt x="35" y="142"/>
                            </a:lnTo>
                            <a:lnTo>
                              <a:pt x="35" y="139"/>
                            </a:lnTo>
                            <a:lnTo>
                              <a:pt x="35" y="135"/>
                            </a:lnTo>
                            <a:lnTo>
                              <a:pt x="35" y="131"/>
                            </a:lnTo>
                            <a:lnTo>
                              <a:pt x="35" y="126"/>
                            </a:lnTo>
                            <a:lnTo>
                              <a:pt x="33" y="121"/>
                            </a:lnTo>
                            <a:lnTo>
                              <a:pt x="33" y="117"/>
                            </a:lnTo>
                            <a:lnTo>
                              <a:pt x="32" y="113"/>
                            </a:lnTo>
                            <a:lnTo>
                              <a:pt x="32" y="110"/>
                            </a:lnTo>
                            <a:lnTo>
                              <a:pt x="32" y="106"/>
                            </a:lnTo>
                            <a:lnTo>
                              <a:pt x="32" y="103"/>
                            </a:lnTo>
                            <a:lnTo>
                              <a:pt x="32" y="102"/>
                            </a:lnTo>
                            <a:lnTo>
                              <a:pt x="32" y="100"/>
                            </a:lnTo>
                            <a:lnTo>
                              <a:pt x="30" y="96"/>
                            </a:lnTo>
                            <a:lnTo>
                              <a:pt x="29" y="92"/>
                            </a:lnTo>
                            <a:lnTo>
                              <a:pt x="27" y="89"/>
                            </a:lnTo>
                            <a:lnTo>
                              <a:pt x="26" y="85"/>
                            </a:lnTo>
                            <a:lnTo>
                              <a:pt x="24" y="82"/>
                            </a:lnTo>
                            <a:lnTo>
                              <a:pt x="22" y="78"/>
                            </a:lnTo>
                            <a:lnTo>
                              <a:pt x="21" y="76"/>
                            </a:lnTo>
                            <a:lnTo>
                              <a:pt x="19" y="72"/>
                            </a:lnTo>
                            <a:lnTo>
                              <a:pt x="18" y="69"/>
                            </a:lnTo>
                            <a:lnTo>
                              <a:pt x="16" y="65"/>
                            </a:lnTo>
                            <a:lnTo>
                              <a:pt x="15" y="61"/>
                            </a:lnTo>
                            <a:lnTo>
                              <a:pt x="15" y="58"/>
                            </a:lnTo>
                            <a:lnTo>
                              <a:pt x="13" y="54"/>
                            </a:lnTo>
                            <a:lnTo>
                              <a:pt x="13" y="50"/>
                            </a:lnTo>
                            <a:lnTo>
                              <a:pt x="13" y="45"/>
                            </a:lnTo>
                            <a:lnTo>
                              <a:pt x="15" y="41"/>
                            </a:lnTo>
                            <a:lnTo>
                              <a:pt x="10" y="40"/>
                            </a:lnTo>
                            <a:lnTo>
                              <a:pt x="7" y="37"/>
                            </a:lnTo>
                            <a:lnTo>
                              <a:pt x="4" y="36"/>
                            </a:lnTo>
                            <a:lnTo>
                              <a:pt x="1" y="34"/>
                            </a:lnTo>
                            <a:lnTo>
                              <a:pt x="1" y="36"/>
                            </a:lnTo>
                            <a:lnTo>
                              <a:pt x="0" y="37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0" y="51"/>
                            </a:lnTo>
                            <a:lnTo>
                              <a:pt x="0" y="55"/>
                            </a:lnTo>
                            <a:lnTo>
                              <a:pt x="1" y="61"/>
                            </a:lnTo>
                            <a:lnTo>
                              <a:pt x="1" y="65"/>
                            </a:lnTo>
                            <a:lnTo>
                              <a:pt x="1" y="70"/>
                            </a:lnTo>
                            <a:lnTo>
                              <a:pt x="1" y="74"/>
                            </a:lnTo>
                            <a:lnTo>
                              <a:pt x="3" y="81"/>
                            </a:lnTo>
                            <a:lnTo>
                              <a:pt x="3" y="85"/>
                            </a:lnTo>
                            <a:lnTo>
                              <a:pt x="4" y="91"/>
                            </a:lnTo>
                            <a:lnTo>
                              <a:pt x="4" y="96"/>
                            </a:lnTo>
                            <a:lnTo>
                              <a:pt x="6" y="103"/>
                            </a:lnTo>
                            <a:lnTo>
                              <a:pt x="6" y="109"/>
                            </a:lnTo>
                            <a:lnTo>
                              <a:pt x="7" y="113"/>
                            </a:lnTo>
                            <a:lnTo>
                              <a:pt x="7" y="118"/>
                            </a:lnTo>
                            <a:lnTo>
                              <a:pt x="7" y="124"/>
                            </a:lnTo>
                            <a:lnTo>
                              <a:pt x="9" y="128"/>
                            </a:lnTo>
                            <a:lnTo>
                              <a:pt x="9" y="133"/>
                            </a:lnTo>
                            <a:lnTo>
                              <a:pt x="10" y="137"/>
                            </a:lnTo>
                            <a:lnTo>
                              <a:pt x="12" y="142"/>
                            </a:lnTo>
                            <a:lnTo>
                              <a:pt x="12" y="146"/>
                            </a:lnTo>
                            <a:lnTo>
                              <a:pt x="12" y="150"/>
                            </a:lnTo>
                            <a:lnTo>
                              <a:pt x="12" y="152"/>
                            </a:lnTo>
                            <a:lnTo>
                              <a:pt x="13" y="155"/>
                            </a:lnTo>
                            <a:lnTo>
                              <a:pt x="13" y="159"/>
                            </a:lnTo>
                            <a:lnTo>
                              <a:pt x="15" y="162"/>
                            </a:lnTo>
                            <a:lnTo>
                              <a:pt x="15" y="165"/>
                            </a:lnTo>
                            <a:lnTo>
                              <a:pt x="15" y="169"/>
                            </a:lnTo>
                            <a:lnTo>
                              <a:pt x="15" y="173"/>
                            </a:lnTo>
                            <a:lnTo>
                              <a:pt x="15" y="177"/>
                            </a:lnTo>
                            <a:lnTo>
                              <a:pt x="15" y="181"/>
                            </a:lnTo>
                            <a:lnTo>
                              <a:pt x="16" y="185"/>
                            </a:lnTo>
                            <a:lnTo>
                              <a:pt x="16" y="190"/>
                            </a:lnTo>
                            <a:lnTo>
                              <a:pt x="18" y="194"/>
                            </a:lnTo>
                            <a:lnTo>
                              <a:pt x="18" y="196"/>
                            </a:lnTo>
                            <a:lnTo>
                              <a:pt x="18" y="198"/>
                            </a:lnTo>
                            <a:lnTo>
                              <a:pt x="18" y="201"/>
                            </a:lnTo>
                            <a:lnTo>
                              <a:pt x="18" y="202"/>
                            </a:lnTo>
                            <a:lnTo>
                              <a:pt x="16" y="202"/>
                            </a:lnTo>
                            <a:lnTo>
                              <a:pt x="15" y="201"/>
                            </a:lnTo>
                            <a:lnTo>
                              <a:pt x="13" y="198"/>
                            </a:lnTo>
                            <a:lnTo>
                              <a:pt x="12" y="195"/>
                            </a:lnTo>
                            <a:lnTo>
                              <a:pt x="15" y="584"/>
                            </a:lnTo>
                            <a:lnTo>
                              <a:pt x="214" y="584"/>
                            </a:lnTo>
                            <a:lnTo>
                              <a:pt x="209" y="115"/>
                            </a:lnTo>
                            <a:lnTo>
                              <a:pt x="209" y="111"/>
                            </a:lnTo>
                            <a:lnTo>
                              <a:pt x="209" y="109"/>
                            </a:lnTo>
                            <a:lnTo>
                              <a:pt x="209" y="106"/>
                            </a:lnTo>
                            <a:lnTo>
                              <a:pt x="209" y="102"/>
                            </a:lnTo>
                            <a:lnTo>
                              <a:pt x="209" y="99"/>
                            </a:lnTo>
                            <a:lnTo>
                              <a:pt x="209" y="96"/>
                            </a:lnTo>
                            <a:lnTo>
                              <a:pt x="209" y="93"/>
                            </a:lnTo>
                            <a:lnTo>
                              <a:pt x="209" y="91"/>
                            </a:lnTo>
                            <a:lnTo>
                              <a:pt x="209" y="85"/>
                            </a:lnTo>
                            <a:lnTo>
                              <a:pt x="209" y="80"/>
                            </a:lnTo>
                            <a:lnTo>
                              <a:pt x="209" y="74"/>
                            </a:lnTo>
                            <a:lnTo>
                              <a:pt x="209" y="70"/>
                            </a:lnTo>
                            <a:lnTo>
                              <a:pt x="209" y="65"/>
                            </a:lnTo>
                            <a:lnTo>
                              <a:pt x="209" y="61"/>
                            </a:lnTo>
                            <a:lnTo>
                              <a:pt x="209" y="55"/>
                            </a:lnTo>
                            <a:lnTo>
                              <a:pt x="209" y="50"/>
                            </a:lnTo>
                            <a:lnTo>
                              <a:pt x="209" y="44"/>
                            </a:lnTo>
                            <a:lnTo>
                              <a:pt x="209" y="39"/>
                            </a:lnTo>
                            <a:lnTo>
                              <a:pt x="209" y="34"/>
                            </a:lnTo>
                            <a:lnTo>
                              <a:pt x="209" y="32"/>
                            </a:lnTo>
                            <a:lnTo>
                              <a:pt x="209" y="28"/>
                            </a:lnTo>
                            <a:lnTo>
                              <a:pt x="209" y="25"/>
                            </a:lnTo>
                            <a:lnTo>
                              <a:pt x="200" y="32"/>
                            </a:lnTo>
                            <a:lnTo>
                              <a:pt x="200" y="37"/>
                            </a:lnTo>
                            <a:lnTo>
                              <a:pt x="200" y="41"/>
                            </a:lnTo>
                            <a:lnTo>
                              <a:pt x="200" y="47"/>
                            </a:lnTo>
                            <a:lnTo>
                              <a:pt x="200" y="52"/>
                            </a:lnTo>
                            <a:lnTo>
                              <a:pt x="200" y="56"/>
                            </a:lnTo>
                            <a:lnTo>
                              <a:pt x="200" y="62"/>
                            </a:lnTo>
                            <a:lnTo>
                              <a:pt x="200" y="66"/>
                            </a:lnTo>
                            <a:lnTo>
                              <a:pt x="200" y="72"/>
                            </a:lnTo>
                            <a:lnTo>
                              <a:pt x="200" y="76"/>
                            </a:lnTo>
                            <a:lnTo>
                              <a:pt x="200" y="81"/>
                            </a:lnTo>
                            <a:lnTo>
                              <a:pt x="200" y="85"/>
                            </a:lnTo>
                            <a:lnTo>
                              <a:pt x="201" y="89"/>
                            </a:lnTo>
                            <a:lnTo>
                              <a:pt x="201" y="95"/>
                            </a:lnTo>
                            <a:lnTo>
                              <a:pt x="201" y="99"/>
                            </a:lnTo>
                            <a:lnTo>
                              <a:pt x="203" y="104"/>
                            </a:lnTo>
                            <a:lnTo>
                              <a:pt x="203" y="109"/>
                            </a:lnTo>
                            <a:lnTo>
                              <a:pt x="201" y="113"/>
                            </a:lnTo>
                            <a:lnTo>
                              <a:pt x="200" y="115"/>
                            </a:lnTo>
                            <a:lnTo>
                              <a:pt x="200" y="120"/>
                            </a:lnTo>
                            <a:lnTo>
                              <a:pt x="200" y="124"/>
                            </a:lnTo>
                            <a:lnTo>
                              <a:pt x="195" y="73"/>
                            </a:lnTo>
                            <a:lnTo>
                              <a:pt x="194" y="173"/>
                            </a:lnTo>
                            <a:lnTo>
                              <a:pt x="192" y="168"/>
                            </a:lnTo>
                            <a:lnTo>
                              <a:pt x="192" y="163"/>
                            </a:lnTo>
                            <a:lnTo>
                              <a:pt x="191" y="158"/>
                            </a:lnTo>
                            <a:lnTo>
                              <a:pt x="191" y="154"/>
                            </a:lnTo>
                            <a:lnTo>
                              <a:pt x="191" y="148"/>
                            </a:lnTo>
                            <a:lnTo>
                              <a:pt x="191" y="144"/>
                            </a:lnTo>
                            <a:lnTo>
                              <a:pt x="189" y="139"/>
                            </a:lnTo>
                            <a:lnTo>
                              <a:pt x="189" y="135"/>
                            </a:lnTo>
                            <a:lnTo>
                              <a:pt x="189" y="131"/>
                            </a:lnTo>
                            <a:lnTo>
                              <a:pt x="188" y="125"/>
                            </a:lnTo>
                            <a:lnTo>
                              <a:pt x="188" y="121"/>
                            </a:lnTo>
                            <a:lnTo>
                              <a:pt x="188" y="115"/>
                            </a:lnTo>
                            <a:lnTo>
                              <a:pt x="188" y="111"/>
                            </a:lnTo>
                            <a:lnTo>
                              <a:pt x="186" y="106"/>
                            </a:lnTo>
                            <a:lnTo>
                              <a:pt x="186" y="102"/>
                            </a:lnTo>
                            <a:lnTo>
                              <a:pt x="186" y="98"/>
                            </a:lnTo>
                            <a:lnTo>
                              <a:pt x="186" y="92"/>
                            </a:lnTo>
                            <a:lnTo>
                              <a:pt x="186" y="88"/>
                            </a:lnTo>
                            <a:lnTo>
                              <a:pt x="186" y="82"/>
                            </a:lnTo>
                            <a:lnTo>
                              <a:pt x="186" y="78"/>
                            </a:lnTo>
                            <a:lnTo>
                              <a:pt x="185" y="73"/>
                            </a:lnTo>
                            <a:lnTo>
                              <a:pt x="185" y="69"/>
                            </a:lnTo>
                            <a:lnTo>
                              <a:pt x="185" y="63"/>
                            </a:lnTo>
                            <a:lnTo>
                              <a:pt x="185" y="59"/>
                            </a:lnTo>
                            <a:lnTo>
                              <a:pt x="185" y="54"/>
                            </a:lnTo>
                            <a:lnTo>
                              <a:pt x="185" y="50"/>
                            </a:lnTo>
                            <a:lnTo>
                              <a:pt x="183" y="44"/>
                            </a:lnTo>
                            <a:lnTo>
                              <a:pt x="183" y="40"/>
                            </a:lnTo>
                            <a:lnTo>
                              <a:pt x="183" y="34"/>
                            </a:lnTo>
                            <a:lnTo>
                              <a:pt x="183" y="30"/>
                            </a:lnTo>
                            <a:lnTo>
                              <a:pt x="183" y="25"/>
                            </a:lnTo>
                            <a:lnTo>
                              <a:pt x="183" y="21"/>
                            </a:lnTo>
                            <a:lnTo>
                              <a:pt x="182" y="21"/>
                            </a:lnTo>
                            <a:lnTo>
                              <a:pt x="180" y="25"/>
                            </a:lnTo>
                            <a:lnTo>
                              <a:pt x="177" y="28"/>
                            </a:lnTo>
                            <a:lnTo>
                              <a:pt x="177" y="33"/>
                            </a:lnTo>
                            <a:lnTo>
                              <a:pt x="175" y="34"/>
                            </a:lnTo>
                            <a:lnTo>
                              <a:pt x="175" y="39"/>
                            </a:lnTo>
                            <a:lnTo>
                              <a:pt x="174" y="41"/>
                            </a:lnTo>
                            <a:lnTo>
                              <a:pt x="174" y="45"/>
                            </a:lnTo>
                            <a:lnTo>
                              <a:pt x="174" y="50"/>
                            </a:lnTo>
                            <a:lnTo>
                              <a:pt x="172" y="54"/>
                            </a:lnTo>
                            <a:lnTo>
                              <a:pt x="172" y="59"/>
                            </a:lnTo>
                            <a:lnTo>
                              <a:pt x="172" y="65"/>
                            </a:lnTo>
                            <a:lnTo>
                              <a:pt x="172" y="67"/>
                            </a:lnTo>
                            <a:lnTo>
                              <a:pt x="172" y="70"/>
                            </a:lnTo>
                            <a:lnTo>
                              <a:pt x="172" y="73"/>
                            </a:lnTo>
                            <a:lnTo>
                              <a:pt x="172" y="77"/>
                            </a:lnTo>
                            <a:lnTo>
                              <a:pt x="172" y="80"/>
                            </a:lnTo>
                            <a:lnTo>
                              <a:pt x="172" y="82"/>
                            </a:lnTo>
                            <a:lnTo>
                              <a:pt x="172" y="87"/>
                            </a:lnTo>
                            <a:lnTo>
                              <a:pt x="172" y="91"/>
                            </a:lnTo>
                            <a:lnTo>
                              <a:pt x="172" y="93"/>
                            </a:lnTo>
                            <a:lnTo>
                              <a:pt x="172" y="98"/>
                            </a:lnTo>
                            <a:lnTo>
                              <a:pt x="172" y="102"/>
                            </a:lnTo>
                            <a:lnTo>
                              <a:pt x="172" y="106"/>
                            </a:lnTo>
                            <a:lnTo>
                              <a:pt x="172" y="110"/>
                            </a:lnTo>
                            <a:lnTo>
                              <a:pt x="172" y="114"/>
                            </a:lnTo>
                            <a:lnTo>
                              <a:pt x="172" y="120"/>
                            </a:lnTo>
                            <a:lnTo>
                              <a:pt x="172" y="125"/>
                            </a:lnTo>
                            <a:lnTo>
                              <a:pt x="172" y="129"/>
                            </a:lnTo>
                            <a:lnTo>
                              <a:pt x="172" y="135"/>
                            </a:lnTo>
                            <a:lnTo>
                              <a:pt x="172" y="139"/>
                            </a:lnTo>
                            <a:lnTo>
                              <a:pt x="174" y="146"/>
                            </a:lnTo>
                            <a:lnTo>
                              <a:pt x="174" y="150"/>
                            </a:lnTo>
                            <a:lnTo>
                              <a:pt x="174" y="155"/>
                            </a:lnTo>
                            <a:lnTo>
                              <a:pt x="175" y="162"/>
                            </a:lnTo>
                            <a:lnTo>
                              <a:pt x="175" y="168"/>
                            </a:lnTo>
                            <a:lnTo>
                              <a:pt x="175" y="170"/>
                            </a:lnTo>
                            <a:lnTo>
                              <a:pt x="175" y="173"/>
                            </a:lnTo>
                            <a:lnTo>
                              <a:pt x="175" y="177"/>
                            </a:lnTo>
                            <a:lnTo>
                              <a:pt x="175" y="183"/>
                            </a:lnTo>
                            <a:lnTo>
                              <a:pt x="175" y="188"/>
                            </a:lnTo>
                            <a:lnTo>
                              <a:pt x="175" y="194"/>
                            </a:lnTo>
                            <a:lnTo>
                              <a:pt x="175" y="199"/>
                            </a:lnTo>
                            <a:lnTo>
                              <a:pt x="175" y="205"/>
                            </a:lnTo>
                            <a:lnTo>
                              <a:pt x="175" y="210"/>
                            </a:lnTo>
                            <a:lnTo>
                              <a:pt x="175" y="217"/>
                            </a:lnTo>
                            <a:lnTo>
                              <a:pt x="174" y="221"/>
                            </a:lnTo>
                            <a:lnTo>
                              <a:pt x="174" y="227"/>
                            </a:lnTo>
                            <a:lnTo>
                              <a:pt x="172" y="231"/>
                            </a:lnTo>
                            <a:lnTo>
                              <a:pt x="172" y="235"/>
                            </a:lnTo>
                            <a:lnTo>
                              <a:pt x="171" y="239"/>
                            </a:lnTo>
                            <a:lnTo>
                              <a:pt x="171" y="242"/>
                            </a:lnTo>
                            <a:lnTo>
                              <a:pt x="169" y="235"/>
                            </a:lnTo>
                            <a:lnTo>
                              <a:pt x="169" y="229"/>
                            </a:lnTo>
                            <a:lnTo>
                              <a:pt x="168" y="224"/>
                            </a:lnTo>
                            <a:lnTo>
                              <a:pt x="168" y="218"/>
                            </a:lnTo>
                            <a:lnTo>
                              <a:pt x="166" y="213"/>
                            </a:lnTo>
                            <a:lnTo>
                              <a:pt x="166" y="207"/>
                            </a:lnTo>
                            <a:lnTo>
                              <a:pt x="166" y="202"/>
                            </a:lnTo>
                            <a:lnTo>
                              <a:pt x="166" y="196"/>
                            </a:lnTo>
                            <a:lnTo>
                              <a:pt x="166" y="190"/>
                            </a:lnTo>
                            <a:lnTo>
                              <a:pt x="166" y="184"/>
                            </a:lnTo>
                            <a:lnTo>
                              <a:pt x="166" y="179"/>
                            </a:lnTo>
                            <a:lnTo>
                              <a:pt x="166" y="173"/>
                            </a:lnTo>
                            <a:lnTo>
                              <a:pt x="166" y="168"/>
                            </a:lnTo>
                            <a:lnTo>
                              <a:pt x="166" y="162"/>
                            </a:lnTo>
                            <a:lnTo>
                              <a:pt x="166" y="157"/>
                            </a:lnTo>
                            <a:lnTo>
                              <a:pt x="166" y="151"/>
                            </a:lnTo>
                            <a:lnTo>
                              <a:pt x="165" y="146"/>
                            </a:lnTo>
                            <a:lnTo>
                              <a:pt x="165" y="139"/>
                            </a:lnTo>
                            <a:lnTo>
                              <a:pt x="165" y="133"/>
                            </a:lnTo>
                            <a:lnTo>
                              <a:pt x="165" y="128"/>
                            </a:lnTo>
                            <a:lnTo>
                              <a:pt x="165" y="122"/>
                            </a:lnTo>
                            <a:lnTo>
                              <a:pt x="165" y="117"/>
                            </a:lnTo>
                            <a:lnTo>
                              <a:pt x="165" y="111"/>
                            </a:lnTo>
                            <a:lnTo>
                              <a:pt x="165" y="106"/>
                            </a:lnTo>
                            <a:lnTo>
                              <a:pt x="165" y="100"/>
                            </a:lnTo>
                            <a:lnTo>
                              <a:pt x="163" y="95"/>
                            </a:lnTo>
                            <a:lnTo>
                              <a:pt x="163" y="89"/>
                            </a:lnTo>
                            <a:lnTo>
                              <a:pt x="163" y="84"/>
                            </a:lnTo>
                            <a:lnTo>
                              <a:pt x="162" y="78"/>
                            </a:lnTo>
                            <a:lnTo>
                              <a:pt x="162" y="73"/>
                            </a:lnTo>
                            <a:lnTo>
                              <a:pt x="162" y="67"/>
                            </a:lnTo>
                            <a:lnTo>
                              <a:pt x="160" y="62"/>
                            </a:lnTo>
                            <a:lnTo>
                              <a:pt x="160" y="59"/>
                            </a:lnTo>
                            <a:lnTo>
                              <a:pt x="159" y="55"/>
                            </a:lnTo>
                            <a:lnTo>
                              <a:pt x="157" y="50"/>
                            </a:lnTo>
                            <a:lnTo>
                              <a:pt x="156" y="48"/>
                            </a:lnTo>
                            <a:lnTo>
                              <a:pt x="156" y="51"/>
                            </a:lnTo>
                            <a:lnTo>
                              <a:pt x="156" y="55"/>
                            </a:lnTo>
                            <a:lnTo>
                              <a:pt x="154" y="58"/>
                            </a:lnTo>
                            <a:lnTo>
                              <a:pt x="154" y="62"/>
                            </a:lnTo>
                            <a:lnTo>
                              <a:pt x="154" y="65"/>
                            </a:lnTo>
                            <a:lnTo>
                              <a:pt x="153" y="69"/>
                            </a:lnTo>
                            <a:lnTo>
                              <a:pt x="153" y="72"/>
                            </a:lnTo>
                            <a:lnTo>
                              <a:pt x="153" y="76"/>
                            </a:lnTo>
                            <a:lnTo>
                              <a:pt x="156" y="139"/>
                            </a:lnTo>
                            <a:lnTo>
                              <a:pt x="156" y="143"/>
                            </a:lnTo>
                            <a:lnTo>
                              <a:pt x="156" y="148"/>
                            </a:lnTo>
                            <a:lnTo>
                              <a:pt x="156" y="152"/>
                            </a:lnTo>
                            <a:lnTo>
                              <a:pt x="156" y="158"/>
                            </a:lnTo>
                            <a:lnTo>
                              <a:pt x="156" y="163"/>
                            </a:lnTo>
                            <a:lnTo>
                              <a:pt x="156" y="168"/>
                            </a:lnTo>
                            <a:lnTo>
                              <a:pt x="156" y="173"/>
                            </a:lnTo>
                            <a:lnTo>
                              <a:pt x="156" y="179"/>
                            </a:lnTo>
                            <a:lnTo>
                              <a:pt x="154" y="183"/>
                            </a:lnTo>
                            <a:lnTo>
                              <a:pt x="154" y="188"/>
                            </a:lnTo>
                            <a:lnTo>
                              <a:pt x="154" y="194"/>
                            </a:lnTo>
                            <a:lnTo>
                              <a:pt x="154" y="198"/>
                            </a:lnTo>
                            <a:lnTo>
                              <a:pt x="153" y="203"/>
                            </a:lnTo>
                            <a:lnTo>
                              <a:pt x="153" y="207"/>
                            </a:lnTo>
                            <a:lnTo>
                              <a:pt x="153" y="213"/>
                            </a:lnTo>
                            <a:lnTo>
                              <a:pt x="153" y="218"/>
                            </a:lnTo>
                            <a:lnTo>
                              <a:pt x="153" y="548"/>
                            </a:lnTo>
                            <a:lnTo>
                              <a:pt x="78" y="549"/>
                            </a:lnTo>
                            <a:lnTo>
                              <a:pt x="71" y="100"/>
                            </a:lnTo>
                            <a:lnTo>
                              <a:pt x="71" y="96"/>
                            </a:lnTo>
                            <a:lnTo>
                              <a:pt x="71" y="93"/>
                            </a:lnTo>
                            <a:lnTo>
                              <a:pt x="70" y="89"/>
                            </a:lnTo>
                            <a:lnTo>
                              <a:pt x="70" y="87"/>
                            </a:lnTo>
                            <a:lnTo>
                              <a:pt x="70" y="84"/>
                            </a:lnTo>
                            <a:lnTo>
                              <a:pt x="70" y="81"/>
                            </a:lnTo>
                            <a:lnTo>
                              <a:pt x="68" y="77"/>
                            </a:lnTo>
                            <a:lnTo>
                              <a:pt x="68" y="74"/>
                            </a:lnTo>
                            <a:lnTo>
                              <a:pt x="67" y="72"/>
                            </a:lnTo>
                            <a:lnTo>
                              <a:pt x="67" y="67"/>
                            </a:lnTo>
                            <a:lnTo>
                              <a:pt x="67" y="65"/>
                            </a:lnTo>
                            <a:lnTo>
                              <a:pt x="67" y="62"/>
                            </a:lnTo>
                            <a:lnTo>
                              <a:pt x="65" y="58"/>
                            </a:lnTo>
                            <a:lnTo>
                              <a:pt x="65" y="55"/>
                            </a:lnTo>
                            <a:lnTo>
                              <a:pt x="64" y="52"/>
                            </a:lnTo>
                            <a:lnTo>
                              <a:pt x="64" y="50"/>
                            </a:lnTo>
                            <a:lnTo>
                              <a:pt x="62" y="77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Freeform 101"/>
                      <p:cNvSpPr/>
                      <p:nvPr/>
                    </p:nvSpPr>
                    <p:spPr>
                      <a:xfrm>
                        <a:off x="3052800" y="2620080"/>
                        <a:ext cx="360" cy="19800"/>
                      </a:xfrm>
                      <a:custGeom>
                        <a:avLst/>
                        <a:gdLst>
                          <a:gd name="textAreaLeft" fmla="*/ 0 w 360"/>
                          <a:gd name="textAreaRight" fmla="*/ 720 w 36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8" h="199">
                            <a:moveTo>
                              <a:pt x="0" y="199"/>
                            </a:moveTo>
                            <a:lnTo>
                              <a:pt x="3" y="197"/>
                            </a:lnTo>
                            <a:lnTo>
                              <a:pt x="5" y="197"/>
                            </a:lnTo>
                            <a:lnTo>
                              <a:pt x="5" y="195"/>
                            </a:lnTo>
                            <a:lnTo>
                              <a:pt x="5" y="193"/>
                            </a:lnTo>
                            <a:lnTo>
                              <a:pt x="5" y="188"/>
                            </a:lnTo>
                            <a:lnTo>
                              <a:pt x="5" y="182"/>
                            </a:lnTo>
                            <a:lnTo>
                              <a:pt x="5" y="177"/>
                            </a:lnTo>
                            <a:lnTo>
                              <a:pt x="5" y="173"/>
                            </a:lnTo>
                            <a:lnTo>
                              <a:pt x="5" y="166"/>
                            </a:lnTo>
                            <a:lnTo>
                              <a:pt x="5" y="162"/>
                            </a:lnTo>
                            <a:lnTo>
                              <a:pt x="5" y="156"/>
                            </a:lnTo>
                            <a:lnTo>
                              <a:pt x="6" y="151"/>
                            </a:lnTo>
                            <a:lnTo>
                              <a:pt x="6" y="145"/>
                            </a:lnTo>
                            <a:lnTo>
                              <a:pt x="6" y="140"/>
                            </a:lnTo>
                            <a:lnTo>
                              <a:pt x="6" y="134"/>
                            </a:lnTo>
                            <a:lnTo>
                              <a:pt x="6" y="129"/>
                            </a:lnTo>
                            <a:lnTo>
                              <a:pt x="6" y="123"/>
                            </a:lnTo>
                            <a:lnTo>
                              <a:pt x="6" y="118"/>
                            </a:lnTo>
                            <a:lnTo>
                              <a:pt x="6" y="112"/>
                            </a:lnTo>
                            <a:lnTo>
                              <a:pt x="6" y="108"/>
                            </a:lnTo>
                            <a:lnTo>
                              <a:pt x="6" y="101"/>
                            </a:lnTo>
                            <a:lnTo>
                              <a:pt x="6" y="96"/>
                            </a:lnTo>
                            <a:lnTo>
                              <a:pt x="6" y="90"/>
                            </a:lnTo>
                            <a:lnTo>
                              <a:pt x="8" y="86"/>
                            </a:lnTo>
                            <a:lnTo>
                              <a:pt x="8" y="79"/>
                            </a:lnTo>
                            <a:lnTo>
                              <a:pt x="8" y="74"/>
                            </a:lnTo>
                            <a:lnTo>
                              <a:pt x="8" y="70"/>
                            </a:lnTo>
                            <a:lnTo>
                              <a:pt x="8" y="64"/>
                            </a:lnTo>
                            <a:lnTo>
                              <a:pt x="8" y="59"/>
                            </a:lnTo>
                            <a:lnTo>
                              <a:pt x="8" y="53"/>
                            </a:lnTo>
                            <a:lnTo>
                              <a:pt x="8" y="48"/>
                            </a:lnTo>
                            <a:lnTo>
                              <a:pt x="8" y="42"/>
                            </a:lnTo>
                            <a:lnTo>
                              <a:pt x="8" y="37"/>
                            </a:lnTo>
                            <a:lnTo>
                              <a:pt x="8" y="31"/>
                            </a:lnTo>
                            <a:lnTo>
                              <a:pt x="8" y="27"/>
                            </a:lnTo>
                            <a:lnTo>
                              <a:pt x="8" y="22"/>
                            </a:lnTo>
                            <a:lnTo>
                              <a:pt x="6" y="16"/>
                            </a:lnTo>
                            <a:lnTo>
                              <a:pt x="6" y="13"/>
                            </a:lnTo>
                            <a:lnTo>
                              <a:pt x="6" y="9"/>
                            </a:lnTo>
                            <a:lnTo>
                              <a:pt x="6" y="8"/>
                            </a:lnTo>
                            <a:lnTo>
                              <a:pt x="5" y="4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1" y="11"/>
                            </a:lnTo>
                            <a:lnTo>
                              <a:pt x="0" y="13"/>
                            </a:lnTo>
                            <a:lnTo>
                              <a:pt x="0" y="19"/>
                            </a:lnTo>
                            <a:lnTo>
                              <a:pt x="0" y="23"/>
                            </a:lnTo>
                            <a:lnTo>
                              <a:pt x="0" y="27"/>
                            </a:lnTo>
                            <a:lnTo>
                              <a:pt x="0" y="31"/>
                            </a:lnTo>
                            <a:lnTo>
                              <a:pt x="0" y="35"/>
                            </a:lnTo>
                            <a:lnTo>
                              <a:pt x="0" y="37"/>
                            </a:lnTo>
                            <a:lnTo>
                              <a:pt x="0" y="41"/>
                            </a:lnTo>
                            <a:lnTo>
                              <a:pt x="0" y="44"/>
                            </a:lnTo>
                            <a:lnTo>
                              <a:pt x="0" y="46"/>
                            </a:lnTo>
                            <a:lnTo>
                              <a:pt x="0" y="49"/>
                            </a:lnTo>
                            <a:lnTo>
                              <a:pt x="0" y="53"/>
                            </a:lnTo>
                            <a:lnTo>
                              <a:pt x="0" y="56"/>
                            </a:lnTo>
                            <a:lnTo>
                              <a:pt x="0" y="60"/>
                            </a:lnTo>
                            <a:lnTo>
                              <a:pt x="0" y="64"/>
                            </a:lnTo>
                            <a:lnTo>
                              <a:pt x="0" y="67"/>
                            </a:lnTo>
                            <a:lnTo>
                              <a:pt x="0" y="71"/>
                            </a:lnTo>
                            <a:lnTo>
                              <a:pt x="0" y="75"/>
                            </a:lnTo>
                            <a:lnTo>
                              <a:pt x="0" y="79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1" y="92"/>
                            </a:lnTo>
                            <a:lnTo>
                              <a:pt x="1" y="96"/>
                            </a:lnTo>
                            <a:lnTo>
                              <a:pt x="1" y="98"/>
                            </a:lnTo>
                            <a:lnTo>
                              <a:pt x="1" y="103"/>
                            </a:lnTo>
                            <a:lnTo>
                              <a:pt x="1" y="105"/>
                            </a:lnTo>
                            <a:lnTo>
                              <a:pt x="1" y="109"/>
                            </a:lnTo>
                            <a:lnTo>
                              <a:pt x="1" y="112"/>
                            </a:lnTo>
                            <a:lnTo>
                              <a:pt x="1" y="118"/>
                            </a:lnTo>
                            <a:lnTo>
                              <a:pt x="1" y="122"/>
                            </a:lnTo>
                            <a:lnTo>
                              <a:pt x="1" y="125"/>
                            </a:lnTo>
                            <a:lnTo>
                              <a:pt x="3" y="126"/>
                            </a:lnTo>
                            <a:lnTo>
                              <a:pt x="1" y="130"/>
                            </a:lnTo>
                            <a:lnTo>
                              <a:pt x="1" y="134"/>
                            </a:lnTo>
                            <a:lnTo>
                              <a:pt x="1" y="138"/>
                            </a:lnTo>
                            <a:lnTo>
                              <a:pt x="1" y="142"/>
                            </a:lnTo>
                            <a:lnTo>
                              <a:pt x="1" y="148"/>
                            </a:lnTo>
                            <a:lnTo>
                              <a:pt x="1" y="152"/>
                            </a:lnTo>
                            <a:lnTo>
                              <a:pt x="1" y="156"/>
                            </a:lnTo>
                            <a:lnTo>
                              <a:pt x="1" y="162"/>
                            </a:lnTo>
                            <a:lnTo>
                              <a:pt x="0" y="166"/>
                            </a:lnTo>
                            <a:lnTo>
                              <a:pt x="0" y="170"/>
                            </a:lnTo>
                            <a:lnTo>
                              <a:pt x="0" y="174"/>
                            </a:lnTo>
                            <a:lnTo>
                              <a:pt x="0" y="179"/>
                            </a:lnTo>
                            <a:lnTo>
                              <a:pt x="0" y="184"/>
                            </a:lnTo>
                            <a:lnTo>
                              <a:pt x="0" y="189"/>
                            </a:lnTo>
                            <a:lnTo>
                              <a:pt x="0" y="193"/>
                            </a:lnTo>
                            <a:lnTo>
                              <a:pt x="0" y="199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Freeform 102"/>
                      <p:cNvSpPr/>
                      <p:nvPr/>
                    </p:nvSpPr>
                    <p:spPr>
                      <a:xfrm>
                        <a:off x="2952000" y="2544120"/>
                        <a:ext cx="132840" cy="47160"/>
                      </a:xfrm>
                      <a:custGeom>
                        <a:avLst/>
                        <a:gdLst>
                          <a:gd name="textAreaLeft" fmla="*/ 0 w 132840"/>
                          <a:gd name="textAreaRight" fmla="*/ 133200 w 132840"/>
                          <a:gd name="textAreaTop" fmla="*/ 0 h 47160"/>
                          <a:gd name="textAreaBottom" fmla="*/ 47520 h 47160"/>
                        </a:gdLst>
                        <a:ahLst/>
                        <a:rect l="textAreaLeft" t="textAreaTop" r="textAreaRight" b="textAreaBottom"/>
                        <a:pathLst>
                          <a:path w="1466" h="469">
                            <a:moveTo>
                              <a:pt x="104" y="394"/>
                            </a:moveTo>
                            <a:lnTo>
                              <a:pt x="0" y="469"/>
                            </a:lnTo>
                            <a:lnTo>
                              <a:pt x="773" y="469"/>
                            </a:lnTo>
                            <a:lnTo>
                              <a:pt x="777" y="468"/>
                            </a:lnTo>
                            <a:lnTo>
                              <a:pt x="783" y="468"/>
                            </a:lnTo>
                            <a:lnTo>
                              <a:pt x="788" y="466"/>
                            </a:lnTo>
                            <a:lnTo>
                              <a:pt x="794" y="465"/>
                            </a:lnTo>
                            <a:lnTo>
                              <a:pt x="799" y="465"/>
                            </a:lnTo>
                            <a:lnTo>
                              <a:pt x="803" y="464"/>
                            </a:lnTo>
                            <a:lnTo>
                              <a:pt x="808" y="462"/>
                            </a:lnTo>
                            <a:lnTo>
                              <a:pt x="814" y="462"/>
                            </a:lnTo>
                            <a:lnTo>
                              <a:pt x="809" y="461"/>
                            </a:lnTo>
                            <a:lnTo>
                              <a:pt x="805" y="461"/>
                            </a:lnTo>
                            <a:lnTo>
                              <a:pt x="800" y="461"/>
                            </a:lnTo>
                            <a:lnTo>
                              <a:pt x="797" y="461"/>
                            </a:lnTo>
                            <a:lnTo>
                              <a:pt x="791" y="460"/>
                            </a:lnTo>
                            <a:lnTo>
                              <a:pt x="786" y="460"/>
                            </a:lnTo>
                            <a:lnTo>
                              <a:pt x="783" y="460"/>
                            </a:lnTo>
                            <a:lnTo>
                              <a:pt x="779" y="460"/>
                            </a:lnTo>
                            <a:lnTo>
                              <a:pt x="774" y="458"/>
                            </a:lnTo>
                            <a:lnTo>
                              <a:pt x="770" y="458"/>
                            </a:lnTo>
                            <a:lnTo>
                              <a:pt x="765" y="458"/>
                            </a:lnTo>
                            <a:lnTo>
                              <a:pt x="762" y="458"/>
                            </a:lnTo>
                            <a:lnTo>
                              <a:pt x="757" y="458"/>
                            </a:lnTo>
                            <a:lnTo>
                              <a:pt x="753" y="458"/>
                            </a:lnTo>
                            <a:lnTo>
                              <a:pt x="748" y="458"/>
                            </a:lnTo>
                            <a:lnTo>
                              <a:pt x="745" y="458"/>
                            </a:lnTo>
                            <a:lnTo>
                              <a:pt x="739" y="458"/>
                            </a:lnTo>
                            <a:lnTo>
                              <a:pt x="736" y="458"/>
                            </a:lnTo>
                            <a:lnTo>
                              <a:pt x="731" y="458"/>
                            </a:lnTo>
                            <a:lnTo>
                              <a:pt x="727" y="458"/>
                            </a:lnTo>
                            <a:lnTo>
                              <a:pt x="722" y="458"/>
                            </a:lnTo>
                            <a:lnTo>
                              <a:pt x="718" y="458"/>
                            </a:lnTo>
                            <a:lnTo>
                              <a:pt x="713" y="458"/>
                            </a:lnTo>
                            <a:lnTo>
                              <a:pt x="708" y="458"/>
                            </a:lnTo>
                            <a:lnTo>
                              <a:pt x="704" y="458"/>
                            </a:lnTo>
                            <a:lnTo>
                              <a:pt x="699" y="458"/>
                            </a:lnTo>
                            <a:lnTo>
                              <a:pt x="695" y="458"/>
                            </a:lnTo>
                            <a:lnTo>
                              <a:pt x="692" y="458"/>
                            </a:lnTo>
                            <a:lnTo>
                              <a:pt x="687" y="458"/>
                            </a:lnTo>
                            <a:lnTo>
                              <a:pt x="682" y="458"/>
                            </a:lnTo>
                            <a:lnTo>
                              <a:pt x="678" y="458"/>
                            </a:lnTo>
                            <a:lnTo>
                              <a:pt x="673" y="458"/>
                            </a:lnTo>
                            <a:lnTo>
                              <a:pt x="669" y="458"/>
                            </a:lnTo>
                            <a:lnTo>
                              <a:pt x="664" y="458"/>
                            </a:lnTo>
                            <a:lnTo>
                              <a:pt x="659" y="458"/>
                            </a:lnTo>
                            <a:lnTo>
                              <a:pt x="655" y="458"/>
                            </a:lnTo>
                            <a:lnTo>
                              <a:pt x="650" y="458"/>
                            </a:lnTo>
                            <a:lnTo>
                              <a:pt x="647" y="458"/>
                            </a:lnTo>
                            <a:lnTo>
                              <a:pt x="641" y="458"/>
                            </a:lnTo>
                            <a:lnTo>
                              <a:pt x="638" y="460"/>
                            </a:lnTo>
                            <a:lnTo>
                              <a:pt x="633" y="460"/>
                            </a:lnTo>
                            <a:lnTo>
                              <a:pt x="629" y="460"/>
                            </a:lnTo>
                            <a:lnTo>
                              <a:pt x="623" y="460"/>
                            </a:lnTo>
                            <a:lnTo>
                              <a:pt x="620" y="460"/>
                            </a:lnTo>
                            <a:lnTo>
                              <a:pt x="614" y="460"/>
                            </a:lnTo>
                            <a:lnTo>
                              <a:pt x="611" y="460"/>
                            </a:lnTo>
                            <a:lnTo>
                              <a:pt x="604" y="460"/>
                            </a:lnTo>
                            <a:lnTo>
                              <a:pt x="601" y="461"/>
                            </a:lnTo>
                            <a:lnTo>
                              <a:pt x="597" y="461"/>
                            </a:lnTo>
                            <a:lnTo>
                              <a:pt x="592" y="461"/>
                            </a:lnTo>
                            <a:lnTo>
                              <a:pt x="588" y="461"/>
                            </a:lnTo>
                            <a:lnTo>
                              <a:pt x="583" y="461"/>
                            </a:lnTo>
                            <a:lnTo>
                              <a:pt x="577" y="461"/>
                            </a:lnTo>
                            <a:lnTo>
                              <a:pt x="574" y="461"/>
                            </a:lnTo>
                            <a:lnTo>
                              <a:pt x="569" y="461"/>
                            </a:lnTo>
                            <a:lnTo>
                              <a:pt x="565" y="461"/>
                            </a:lnTo>
                            <a:lnTo>
                              <a:pt x="560" y="461"/>
                            </a:lnTo>
                            <a:lnTo>
                              <a:pt x="555" y="461"/>
                            </a:lnTo>
                            <a:lnTo>
                              <a:pt x="551" y="461"/>
                            </a:lnTo>
                            <a:lnTo>
                              <a:pt x="546" y="461"/>
                            </a:lnTo>
                            <a:lnTo>
                              <a:pt x="542" y="461"/>
                            </a:lnTo>
                            <a:lnTo>
                              <a:pt x="537" y="461"/>
                            </a:lnTo>
                            <a:lnTo>
                              <a:pt x="533" y="461"/>
                            </a:lnTo>
                            <a:lnTo>
                              <a:pt x="528" y="462"/>
                            </a:lnTo>
                            <a:lnTo>
                              <a:pt x="523" y="461"/>
                            </a:lnTo>
                            <a:lnTo>
                              <a:pt x="519" y="461"/>
                            </a:lnTo>
                            <a:lnTo>
                              <a:pt x="513" y="461"/>
                            </a:lnTo>
                            <a:lnTo>
                              <a:pt x="508" y="461"/>
                            </a:lnTo>
                            <a:lnTo>
                              <a:pt x="502" y="461"/>
                            </a:lnTo>
                            <a:lnTo>
                              <a:pt x="496" y="460"/>
                            </a:lnTo>
                            <a:lnTo>
                              <a:pt x="491" y="460"/>
                            </a:lnTo>
                            <a:lnTo>
                              <a:pt x="485" y="460"/>
                            </a:lnTo>
                            <a:lnTo>
                              <a:pt x="490" y="458"/>
                            </a:lnTo>
                            <a:lnTo>
                              <a:pt x="496" y="458"/>
                            </a:lnTo>
                            <a:lnTo>
                              <a:pt x="499" y="458"/>
                            </a:lnTo>
                            <a:lnTo>
                              <a:pt x="502" y="458"/>
                            </a:lnTo>
                            <a:lnTo>
                              <a:pt x="507" y="458"/>
                            </a:lnTo>
                            <a:lnTo>
                              <a:pt x="513" y="458"/>
                            </a:lnTo>
                            <a:lnTo>
                              <a:pt x="516" y="458"/>
                            </a:lnTo>
                            <a:lnTo>
                              <a:pt x="520" y="458"/>
                            </a:lnTo>
                            <a:lnTo>
                              <a:pt x="526" y="458"/>
                            </a:lnTo>
                            <a:lnTo>
                              <a:pt x="531" y="458"/>
                            </a:lnTo>
                            <a:lnTo>
                              <a:pt x="537" y="458"/>
                            </a:lnTo>
                            <a:lnTo>
                              <a:pt x="543" y="458"/>
                            </a:lnTo>
                            <a:lnTo>
                              <a:pt x="548" y="458"/>
                            </a:lnTo>
                            <a:lnTo>
                              <a:pt x="554" y="458"/>
                            </a:lnTo>
                            <a:lnTo>
                              <a:pt x="559" y="458"/>
                            </a:lnTo>
                            <a:lnTo>
                              <a:pt x="565" y="458"/>
                            </a:lnTo>
                            <a:lnTo>
                              <a:pt x="569" y="458"/>
                            </a:lnTo>
                            <a:lnTo>
                              <a:pt x="574" y="458"/>
                            </a:lnTo>
                            <a:lnTo>
                              <a:pt x="580" y="458"/>
                            </a:lnTo>
                            <a:lnTo>
                              <a:pt x="585" y="458"/>
                            </a:lnTo>
                            <a:lnTo>
                              <a:pt x="589" y="458"/>
                            </a:lnTo>
                            <a:lnTo>
                              <a:pt x="594" y="458"/>
                            </a:lnTo>
                            <a:lnTo>
                              <a:pt x="598" y="458"/>
                            </a:lnTo>
                            <a:lnTo>
                              <a:pt x="601" y="457"/>
                            </a:lnTo>
                            <a:lnTo>
                              <a:pt x="604" y="457"/>
                            </a:lnTo>
                            <a:lnTo>
                              <a:pt x="607" y="455"/>
                            </a:lnTo>
                            <a:lnTo>
                              <a:pt x="614" y="454"/>
                            </a:lnTo>
                            <a:lnTo>
                              <a:pt x="617" y="453"/>
                            </a:lnTo>
                            <a:lnTo>
                              <a:pt x="615" y="453"/>
                            </a:lnTo>
                            <a:lnTo>
                              <a:pt x="612" y="451"/>
                            </a:lnTo>
                            <a:lnTo>
                              <a:pt x="607" y="451"/>
                            </a:lnTo>
                            <a:lnTo>
                              <a:pt x="603" y="451"/>
                            </a:lnTo>
                            <a:lnTo>
                              <a:pt x="600" y="451"/>
                            </a:lnTo>
                            <a:lnTo>
                              <a:pt x="597" y="451"/>
                            </a:lnTo>
                            <a:lnTo>
                              <a:pt x="594" y="451"/>
                            </a:lnTo>
                            <a:lnTo>
                              <a:pt x="591" y="451"/>
                            </a:lnTo>
                            <a:lnTo>
                              <a:pt x="588" y="451"/>
                            </a:lnTo>
                            <a:lnTo>
                              <a:pt x="583" y="451"/>
                            </a:lnTo>
                            <a:lnTo>
                              <a:pt x="580" y="451"/>
                            </a:lnTo>
                            <a:lnTo>
                              <a:pt x="577" y="451"/>
                            </a:lnTo>
                            <a:lnTo>
                              <a:pt x="571" y="451"/>
                            </a:lnTo>
                            <a:lnTo>
                              <a:pt x="568" y="451"/>
                            </a:lnTo>
                            <a:lnTo>
                              <a:pt x="563" y="451"/>
                            </a:lnTo>
                            <a:lnTo>
                              <a:pt x="559" y="451"/>
                            </a:lnTo>
                            <a:lnTo>
                              <a:pt x="554" y="451"/>
                            </a:lnTo>
                            <a:lnTo>
                              <a:pt x="549" y="451"/>
                            </a:lnTo>
                            <a:lnTo>
                              <a:pt x="543" y="451"/>
                            </a:lnTo>
                            <a:lnTo>
                              <a:pt x="540" y="451"/>
                            </a:lnTo>
                            <a:lnTo>
                              <a:pt x="534" y="451"/>
                            </a:lnTo>
                            <a:lnTo>
                              <a:pt x="529" y="451"/>
                            </a:lnTo>
                            <a:lnTo>
                              <a:pt x="523" y="451"/>
                            </a:lnTo>
                            <a:lnTo>
                              <a:pt x="519" y="451"/>
                            </a:lnTo>
                            <a:lnTo>
                              <a:pt x="513" y="451"/>
                            </a:lnTo>
                            <a:lnTo>
                              <a:pt x="508" y="451"/>
                            </a:lnTo>
                            <a:lnTo>
                              <a:pt x="502" y="451"/>
                            </a:lnTo>
                            <a:lnTo>
                              <a:pt x="497" y="451"/>
                            </a:lnTo>
                            <a:lnTo>
                              <a:pt x="491" y="451"/>
                            </a:lnTo>
                            <a:lnTo>
                              <a:pt x="487" y="451"/>
                            </a:lnTo>
                            <a:lnTo>
                              <a:pt x="481" y="451"/>
                            </a:lnTo>
                            <a:lnTo>
                              <a:pt x="474" y="451"/>
                            </a:lnTo>
                            <a:lnTo>
                              <a:pt x="470" y="451"/>
                            </a:lnTo>
                            <a:lnTo>
                              <a:pt x="464" y="451"/>
                            </a:lnTo>
                            <a:lnTo>
                              <a:pt x="459" y="451"/>
                            </a:lnTo>
                            <a:lnTo>
                              <a:pt x="455" y="451"/>
                            </a:lnTo>
                            <a:lnTo>
                              <a:pt x="448" y="451"/>
                            </a:lnTo>
                            <a:lnTo>
                              <a:pt x="444" y="451"/>
                            </a:lnTo>
                            <a:lnTo>
                              <a:pt x="438" y="451"/>
                            </a:lnTo>
                            <a:lnTo>
                              <a:pt x="433" y="453"/>
                            </a:lnTo>
                            <a:lnTo>
                              <a:pt x="429" y="453"/>
                            </a:lnTo>
                            <a:lnTo>
                              <a:pt x="424" y="453"/>
                            </a:lnTo>
                            <a:lnTo>
                              <a:pt x="419" y="453"/>
                            </a:lnTo>
                            <a:lnTo>
                              <a:pt x="416" y="453"/>
                            </a:lnTo>
                            <a:lnTo>
                              <a:pt x="410" y="453"/>
                            </a:lnTo>
                            <a:lnTo>
                              <a:pt x="407" y="453"/>
                            </a:lnTo>
                            <a:lnTo>
                              <a:pt x="403" y="453"/>
                            </a:lnTo>
                            <a:lnTo>
                              <a:pt x="399" y="453"/>
                            </a:lnTo>
                            <a:lnTo>
                              <a:pt x="395" y="453"/>
                            </a:lnTo>
                            <a:lnTo>
                              <a:pt x="392" y="454"/>
                            </a:lnTo>
                            <a:lnTo>
                              <a:pt x="389" y="454"/>
                            </a:lnTo>
                            <a:lnTo>
                              <a:pt x="386" y="454"/>
                            </a:lnTo>
                            <a:lnTo>
                              <a:pt x="380" y="454"/>
                            </a:lnTo>
                            <a:lnTo>
                              <a:pt x="375" y="454"/>
                            </a:lnTo>
                            <a:lnTo>
                              <a:pt x="372" y="455"/>
                            </a:lnTo>
                            <a:lnTo>
                              <a:pt x="369" y="455"/>
                            </a:lnTo>
                            <a:lnTo>
                              <a:pt x="375" y="454"/>
                            </a:lnTo>
                            <a:lnTo>
                              <a:pt x="380" y="453"/>
                            </a:lnTo>
                            <a:lnTo>
                              <a:pt x="386" y="451"/>
                            </a:lnTo>
                            <a:lnTo>
                              <a:pt x="390" y="451"/>
                            </a:lnTo>
                            <a:lnTo>
                              <a:pt x="395" y="450"/>
                            </a:lnTo>
                            <a:lnTo>
                              <a:pt x="399" y="450"/>
                            </a:lnTo>
                            <a:lnTo>
                              <a:pt x="406" y="449"/>
                            </a:lnTo>
                            <a:lnTo>
                              <a:pt x="410" y="449"/>
                            </a:lnTo>
                            <a:lnTo>
                              <a:pt x="415" y="449"/>
                            </a:lnTo>
                            <a:lnTo>
                              <a:pt x="419" y="449"/>
                            </a:lnTo>
                            <a:lnTo>
                              <a:pt x="424" y="447"/>
                            </a:lnTo>
                            <a:lnTo>
                              <a:pt x="429" y="447"/>
                            </a:lnTo>
                            <a:lnTo>
                              <a:pt x="433" y="447"/>
                            </a:lnTo>
                            <a:lnTo>
                              <a:pt x="438" y="447"/>
                            </a:lnTo>
                            <a:lnTo>
                              <a:pt x="441" y="447"/>
                            </a:lnTo>
                            <a:lnTo>
                              <a:pt x="447" y="447"/>
                            </a:lnTo>
                            <a:lnTo>
                              <a:pt x="450" y="446"/>
                            </a:lnTo>
                            <a:lnTo>
                              <a:pt x="455" y="446"/>
                            </a:lnTo>
                            <a:lnTo>
                              <a:pt x="459" y="446"/>
                            </a:lnTo>
                            <a:lnTo>
                              <a:pt x="464" y="446"/>
                            </a:lnTo>
                            <a:lnTo>
                              <a:pt x="468" y="446"/>
                            </a:lnTo>
                            <a:lnTo>
                              <a:pt x="473" y="446"/>
                            </a:lnTo>
                            <a:lnTo>
                              <a:pt x="477" y="446"/>
                            </a:lnTo>
                            <a:lnTo>
                              <a:pt x="482" y="446"/>
                            </a:lnTo>
                            <a:lnTo>
                              <a:pt x="487" y="446"/>
                            </a:lnTo>
                            <a:lnTo>
                              <a:pt x="491" y="446"/>
                            </a:lnTo>
                            <a:lnTo>
                              <a:pt x="496" y="446"/>
                            </a:lnTo>
                            <a:lnTo>
                              <a:pt x="502" y="446"/>
                            </a:lnTo>
                            <a:lnTo>
                              <a:pt x="507" y="444"/>
                            </a:lnTo>
                            <a:lnTo>
                              <a:pt x="511" y="444"/>
                            </a:lnTo>
                            <a:lnTo>
                              <a:pt x="517" y="444"/>
                            </a:lnTo>
                            <a:lnTo>
                              <a:pt x="523" y="444"/>
                            </a:lnTo>
                            <a:lnTo>
                              <a:pt x="528" y="443"/>
                            </a:lnTo>
                            <a:lnTo>
                              <a:pt x="533" y="443"/>
                            </a:lnTo>
                            <a:lnTo>
                              <a:pt x="539" y="443"/>
                            </a:lnTo>
                            <a:lnTo>
                              <a:pt x="543" y="443"/>
                            </a:lnTo>
                            <a:lnTo>
                              <a:pt x="549" y="442"/>
                            </a:lnTo>
                            <a:lnTo>
                              <a:pt x="554" y="442"/>
                            </a:lnTo>
                            <a:lnTo>
                              <a:pt x="559" y="442"/>
                            </a:lnTo>
                            <a:lnTo>
                              <a:pt x="565" y="442"/>
                            </a:lnTo>
                            <a:lnTo>
                              <a:pt x="569" y="442"/>
                            </a:lnTo>
                            <a:lnTo>
                              <a:pt x="574" y="442"/>
                            </a:lnTo>
                            <a:lnTo>
                              <a:pt x="580" y="442"/>
                            </a:lnTo>
                            <a:lnTo>
                              <a:pt x="585" y="442"/>
                            </a:lnTo>
                            <a:lnTo>
                              <a:pt x="591" y="442"/>
                            </a:lnTo>
                            <a:lnTo>
                              <a:pt x="595" y="442"/>
                            </a:lnTo>
                            <a:lnTo>
                              <a:pt x="600" y="442"/>
                            </a:lnTo>
                            <a:lnTo>
                              <a:pt x="606" y="442"/>
                            </a:lnTo>
                            <a:lnTo>
                              <a:pt x="611" y="440"/>
                            </a:lnTo>
                            <a:lnTo>
                              <a:pt x="615" y="440"/>
                            </a:lnTo>
                            <a:lnTo>
                              <a:pt x="621" y="440"/>
                            </a:lnTo>
                            <a:lnTo>
                              <a:pt x="626" y="440"/>
                            </a:lnTo>
                            <a:lnTo>
                              <a:pt x="632" y="439"/>
                            </a:lnTo>
                            <a:lnTo>
                              <a:pt x="637" y="439"/>
                            </a:lnTo>
                            <a:lnTo>
                              <a:pt x="641" y="439"/>
                            </a:lnTo>
                            <a:lnTo>
                              <a:pt x="647" y="439"/>
                            </a:lnTo>
                            <a:lnTo>
                              <a:pt x="652" y="439"/>
                            </a:lnTo>
                            <a:lnTo>
                              <a:pt x="656" y="439"/>
                            </a:lnTo>
                            <a:lnTo>
                              <a:pt x="663" y="438"/>
                            </a:lnTo>
                            <a:lnTo>
                              <a:pt x="667" y="438"/>
                            </a:lnTo>
                            <a:lnTo>
                              <a:pt x="673" y="438"/>
                            </a:lnTo>
                            <a:lnTo>
                              <a:pt x="678" y="438"/>
                            </a:lnTo>
                            <a:lnTo>
                              <a:pt x="682" y="438"/>
                            </a:lnTo>
                            <a:lnTo>
                              <a:pt x="689" y="438"/>
                            </a:lnTo>
                            <a:lnTo>
                              <a:pt x="693" y="436"/>
                            </a:lnTo>
                            <a:lnTo>
                              <a:pt x="698" y="436"/>
                            </a:lnTo>
                            <a:lnTo>
                              <a:pt x="702" y="436"/>
                            </a:lnTo>
                            <a:lnTo>
                              <a:pt x="708" y="436"/>
                            </a:lnTo>
                            <a:lnTo>
                              <a:pt x="713" y="435"/>
                            </a:lnTo>
                            <a:lnTo>
                              <a:pt x="718" y="435"/>
                            </a:lnTo>
                            <a:lnTo>
                              <a:pt x="724" y="435"/>
                            </a:lnTo>
                            <a:lnTo>
                              <a:pt x="728" y="435"/>
                            </a:lnTo>
                            <a:lnTo>
                              <a:pt x="733" y="435"/>
                            </a:lnTo>
                            <a:lnTo>
                              <a:pt x="739" y="433"/>
                            </a:lnTo>
                            <a:lnTo>
                              <a:pt x="744" y="433"/>
                            </a:lnTo>
                            <a:lnTo>
                              <a:pt x="750" y="433"/>
                            </a:lnTo>
                            <a:lnTo>
                              <a:pt x="754" y="433"/>
                            </a:lnTo>
                            <a:lnTo>
                              <a:pt x="759" y="433"/>
                            </a:lnTo>
                            <a:lnTo>
                              <a:pt x="764" y="433"/>
                            </a:lnTo>
                            <a:lnTo>
                              <a:pt x="770" y="433"/>
                            </a:lnTo>
                            <a:lnTo>
                              <a:pt x="774" y="432"/>
                            </a:lnTo>
                            <a:lnTo>
                              <a:pt x="780" y="432"/>
                            </a:lnTo>
                            <a:lnTo>
                              <a:pt x="783" y="432"/>
                            </a:lnTo>
                            <a:lnTo>
                              <a:pt x="790" y="432"/>
                            </a:lnTo>
                            <a:lnTo>
                              <a:pt x="794" y="431"/>
                            </a:lnTo>
                            <a:lnTo>
                              <a:pt x="800" y="431"/>
                            </a:lnTo>
                            <a:lnTo>
                              <a:pt x="805" y="431"/>
                            </a:lnTo>
                            <a:lnTo>
                              <a:pt x="811" y="431"/>
                            </a:lnTo>
                            <a:lnTo>
                              <a:pt x="816" y="431"/>
                            </a:lnTo>
                            <a:lnTo>
                              <a:pt x="820" y="431"/>
                            </a:lnTo>
                            <a:lnTo>
                              <a:pt x="825" y="431"/>
                            </a:lnTo>
                            <a:lnTo>
                              <a:pt x="831" y="431"/>
                            </a:lnTo>
                            <a:lnTo>
                              <a:pt x="835" y="431"/>
                            </a:lnTo>
                            <a:lnTo>
                              <a:pt x="842" y="431"/>
                            </a:lnTo>
                            <a:lnTo>
                              <a:pt x="846" y="431"/>
                            </a:lnTo>
                            <a:lnTo>
                              <a:pt x="852" y="431"/>
                            </a:lnTo>
                            <a:lnTo>
                              <a:pt x="855" y="429"/>
                            </a:lnTo>
                            <a:lnTo>
                              <a:pt x="860" y="429"/>
                            </a:lnTo>
                            <a:lnTo>
                              <a:pt x="863" y="428"/>
                            </a:lnTo>
                            <a:lnTo>
                              <a:pt x="866" y="428"/>
                            </a:lnTo>
                            <a:lnTo>
                              <a:pt x="871" y="428"/>
                            </a:lnTo>
                            <a:lnTo>
                              <a:pt x="874" y="427"/>
                            </a:lnTo>
                            <a:lnTo>
                              <a:pt x="878" y="427"/>
                            </a:lnTo>
                            <a:lnTo>
                              <a:pt x="883" y="427"/>
                            </a:lnTo>
                            <a:lnTo>
                              <a:pt x="877" y="425"/>
                            </a:lnTo>
                            <a:lnTo>
                              <a:pt x="871" y="424"/>
                            </a:lnTo>
                            <a:lnTo>
                              <a:pt x="866" y="424"/>
                            </a:lnTo>
                            <a:lnTo>
                              <a:pt x="860" y="424"/>
                            </a:lnTo>
                            <a:lnTo>
                              <a:pt x="855" y="424"/>
                            </a:lnTo>
                            <a:lnTo>
                              <a:pt x="849" y="422"/>
                            </a:lnTo>
                            <a:lnTo>
                              <a:pt x="843" y="422"/>
                            </a:lnTo>
                            <a:lnTo>
                              <a:pt x="838" y="422"/>
                            </a:lnTo>
                            <a:lnTo>
                              <a:pt x="831" y="422"/>
                            </a:lnTo>
                            <a:lnTo>
                              <a:pt x="826" y="422"/>
                            </a:lnTo>
                            <a:lnTo>
                              <a:pt x="820" y="421"/>
                            </a:lnTo>
                            <a:lnTo>
                              <a:pt x="814" y="421"/>
                            </a:lnTo>
                            <a:lnTo>
                              <a:pt x="808" y="421"/>
                            </a:lnTo>
                            <a:lnTo>
                              <a:pt x="802" y="421"/>
                            </a:lnTo>
                            <a:lnTo>
                              <a:pt x="796" y="421"/>
                            </a:lnTo>
                            <a:lnTo>
                              <a:pt x="790" y="421"/>
                            </a:lnTo>
                            <a:lnTo>
                              <a:pt x="783" y="421"/>
                            </a:lnTo>
                            <a:lnTo>
                              <a:pt x="777" y="421"/>
                            </a:lnTo>
                            <a:lnTo>
                              <a:pt x="770" y="421"/>
                            </a:lnTo>
                            <a:lnTo>
                              <a:pt x="764" y="421"/>
                            </a:lnTo>
                            <a:lnTo>
                              <a:pt x="757" y="421"/>
                            </a:lnTo>
                            <a:lnTo>
                              <a:pt x="751" y="421"/>
                            </a:lnTo>
                            <a:lnTo>
                              <a:pt x="745" y="421"/>
                            </a:lnTo>
                            <a:lnTo>
                              <a:pt x="739" y="421"/>
                            </a:lnTo>
                            <a:lnTo>
                              <a:pt x="731" y="421"/>
                            </a:lnTo>
                            <a:lnTo>
                              <a:pt x="725" y="421"/>
                            </a:lnTo>
                            <a:lnTo>
                              <a:pt x="718" y="421"/>
                            </a:lnTo>
                            <a:lnTo>
                              <a:pt x="711" y="421"/>
                            </a:lnTo>
                            <a:lnTo>
                              <a:pt x="705" y="421"/>
                            </a:lnTo>
                            <a:lnTo>
                              <a:pt x="699" y="421"/>
                            </a:lnTo>
                            <a:lnTo>
                              <a:pt x="693" y="421"/>
                            </a:lnTo>
                            <a:lnTo>
                              <a:pt x="687" y="422"/>
                            </a:lnTo>
                            <a:lnTo>
                              <a:pt x="679" y="422"/>
                            </a:lnTo>
                            <a:lnTo>
                              <a:pt x="673" y="422"/>
                            </a:lnTo>
                            <a:lnTo>
                              <a:pt x="667" y="422"/>
                            </a:lnTo>
                            <a:lnTo>
                              <a:pt x="659" y="422"/>
                            </a:lnTo>
                            <a:lnTo>
                              <a:pt x="653" y="422"/>
                            </a:lnTo>
                            <a:lnTo>
                              <a:pt x="647" y="422"/>
                            </a:lnTo>
                            <a:lnTo>
                              <a:pt x="640" y="422"/>
                            </a:lnTo>
                            <a:lnTo>
                              <a:pt x="633" y="422"/>
                            </a:lnTo>
                            <a:lnTo>
                              <a:pt x="627" y="422"/>
                            </a:lnTo>
                            <a:lnTo>
                              <a:pt x="621" y="422"/>
                            </a:lnTo>
                            <a:lnTo>
                              <a:pt x="615" y="422"/>
                            </a:lnTo>
                            <a:lnTo>
                              <a:pt x="607" y="424"/>
                            </a:lnTo>
                            <a:lnTo>
                              <a:pt x="601" y="424"/>
                            </a:lnTo>
                            <a:lnTo>
                              <a:pt x="595" y="424"/>
                            </a:lnTo>
                            <a:lnTo>
                              <a:pt x="589" y="424"/>
                            </a:lnTo>
                            <a:lnTo>
                              <a:pt x="585" y="424"/>
                            </a:lnTo>
                            <a:lnTo>
                              <a:pt x="577" y="424"/>
                            </a:lnTo>
                            <a:lnTo>
                              <a:pt x="571" y="424"/>
                            </a:lnTo>
                            <a:lnTo>
                              <a:pt x="565" y="424"/>
                            </a:lnTo>
                            <a:lnTo>
                              <a:pt x="560" y="424"/>
                            </a:lnTo>
                            <a:lnTo>
                              <a:pt x="554" y="424"/>
                            </a:lnTo>
                            <a:lnTo>
                              <a:pt x="548" y="424"/>
                            </a:lnTo>
                            <a:lnTo>
                              <a:pt x="543" y="424"/>
                            </a:lnTo>
                            <a:lnTo>
                              <a:pt x="537" y="425"/>
                            </a:lnTo>
                            <a:lnTo>
                              <a:pt x="531" y="425"/>
                            </a:lnTo>
                            <a:lnTo>
                              <a:pt x="526" y="425"/>
                            </a:lnTo>
                            <a:lnTo>
                              <a:pt x="520" y="425"/>
                            </a:lnTo>
                            <a:lnTo>
                              <a:pt x="516" y="425"/>
                            </a:lnTo>
                            <a:lnTo>
                              <a:pt x="510" y="425"/>
                            </a:lnTo>
                            <a:lnTo>
                              <a:pt x="505" y="425"/>
                            </a:lnTo>
                            <a:lnTo>
                              <a:pt x="500" y="425"/>
                            </a:lnTo>
                            <a:lnTo>
                              <a:pt x="496" y="427"/>
                            </a:lnTo>
                            <a:lnTo>
                              <a:pt x="491" y="427"/>
                            </a:lnTo>
                            <a:lnTo>
                              <a:pt x="488" y="427"/>
                            </a:lnTo>
                            <a:lnTo>
                              <a:pt x="485" y="427"/>
                            </a:lnTo>
                            <a:lnTo>
                              <a:pt x="482" y="427"/>
                            </a:lnTo>
                            <a:lnTo>
                              <a:pt x="477" y="427"/>
                            </a:lnTo>
                            <a:lnTo>
                              <a:pt x="474" y="427"/>
                            </a:lnTo>
                            <a:lnTo>
                              <a:pt x="470" y="427"/>
                            </a:lnTo>
                            <a:lnTo>
                              <a:pt x="467" y="427"/>
                            </a:lnTo>
                            <a:lnTo>
                              <a:pt x="462" y="427"/>
                            </a:lnTo>
                            <a:lnTo>
                              <a:pt x="458" y="427"/>
                            </a:lnTo>
                            <a:lnTo>
                              <a:pt x="455" y="427"/>
                            </a:lnTo>
                            <a:lnTo>
                              <a:pt x="450" y="427"/>
                            </a:lnTo>
                            <a:lnTo>
                              <a:pt x="447" y="427"/>
                            </a:lnTo>
                            <a:lnTo>
                              <a:pt x="442" y="427"/>
                            </a:lnTo>
                            <a:lnTo>
                              <a:pt x="439" y="427"/>
                            </a:lnTo>
                            <a:lnTo>
                              <a:pt x="435" y="427"/>
                            </a:lnTo>
                            <a:lnTo>
                              <a:pt x="430" y="427"/>
                            </a:lnTo>
                            <a:lnTo>
                              <a:pt x="427" y="427"/>
                            </a:lnTo>
                            <a:lnTo>
                              <a:pt x="422" y="427"/>
                            </a:lnTo>
                            <a:lnTo>
                              <a:pt x="419" y="427"/>
                            </a:lnTo>
                            <a:lnTo>
                              <a:pt x="415" y="427"/>
                            </a:lnTo>
                            <a:lnTo>
                              <a:pt x="410" y="427"/>
                            </a:lnTo>
                            <a:lnTo>
                              <a:pt x="407" y="427"/>
                            </a:lnTo>
                            <a:lnTo>
                              <a:pt x="403" y="427"/>
                            </a:lnTo>
                            <a:lnTo>
                              <a:pt x="398" y="427"/>
                            </a:lnTo>
                            <a:lnTo>
                              <a:pt x="395" y="427"/>
                            </a:lnTo>
                            <a:lnTo>
                              <a:pt x="390" y="427"/>
                            </a:lnTo>
                            <a:lnTo>
                              <a:pt x="387" y="427"/>
                            </a:lnTo>
                            <a:lnTo>
                              <a:pt x="383" y="427"/>
                            </a:lnTo>
                            <a:lnTo>
                              <a:pt x="380" y="427"/>
                            </a:lnTo>
                            <a:lnTo>
                              <a:pt x="375" y="427"/>
                            </a:lnTo>
                            <a:lnTo>
                              <a:pt x="372" y="427"/>
                            </a:lnTo>
                            <a:lnTo>
                              <a:pt x="410" y="414"/>
                            </a:lnTo>
                            <a:lnTo>
                              <a:pt x="713" y="407"/>
                            </a:lnTo>
                            <a:lnTo>
                              <a:pt x="759" y="401"/>
                            </a:lnTo>
                            <a:lnTo>
                              <a:pt x="750" y="401"/>
                            </a:lnTo>
                            <a:lnTo>
                              <a:pt x="742" y="401"/>
                            </a:lnTo>
                            <a:lnTo>
                              <a:pt x="733" y="401"/>
                            </a:lnTo>
                            <a:lnTo>
                              <a:pt x="725" y="402"/>
                            </a:lnTo>
                            <a:lnTo>
                              <a:pt x="716" y="402"/>
                            </a:lnTo>
                            <a:lnTo>
                              <a:pt x="708" y="402"/>
                            </a:lnTo>
                            <a:lnTo>
                              <a:pt x="699" y="402"/>
                            </a:lnTo>
                            <a:lnTo>
                              <a:pt x="692" y="402"/>
                            </a:lnTo>
                            <a:lnTo>
                              <a:pt x="682" y="402"/>
                            </a:lnTo>
                            <a:lnTo>
                              <a:pt x="675" y="402"/>
                            </a:lnTo>
                            <a:lnTo>
                              <a:pt x="666" y="402"/>
                            </a:lnTo>
                            <a:lnTo>
                              <a:pt x="658" y="402"/>
                            </a:lnTo>
                            <a:lnTo>
                              <a:pt x="649" y="402"/>
                            </a:lnTo>
                            <a:lnTo>
                              <a:pt x="641" y="402"/>
                            </a:lnTo>
                            <a:lnTo>
                              <a:pt x="633" y="402"/>
                            </a:lnTo>
                            <a:lnTo>
                              <a:pt x="624" y="402"/>
                            </a:lnTo>
                            <a:lnTo>
                              <a:pt x="615" y="402"/>
                            </a:lnTo>
                            <a:lnTo>
                              <a:pt x="607" y="402"/>
                            </a:lnTo>
                            <a:lnTo>
                              <a:pt x="598" y="402"/>
                            </a:lnTo>
                            <a:lnTo>
                              <a:pt x="591" y="402"/>
                            </a:lnTo>
                            <a:lnTo>
                              <a:pt x="581" y="402"/>
                            </a:lnTo>
                            <a:lnTo>
                              <a:pt x="574" y="402"/>
                            </a:lnTo>
                            <a:lnTo>
                              <a:pt x="565" y="402"/>
                            </a:lnTo>
                            <a:lnTo>
                              <a:pt x="557" y="402"/>
                            </a:lnTo>
                            <a:lnTo>
                              <a:pt x="548" y="402"/>
                            </a:lnTo>
                            <a:lnTo>
                              <a:pt x="539" y="402"/>
                            </a:lnTo>
                            <a:lnTo>
                              <a:pt x="529" y="402"/>
                            </a:lnTo>
                            <a:lnTo>
                              <a:pt x="522" y="402"/>
                            </a:lnTo>
                            <a:lnTo>
                              <a:pt x="513" y="402"/>
                            </a:lnTo>
                            <a:lnTo>
                              <a:pt x="505" y="402"/>
                            </a:lnTo>
                            <a:lnTo>
                              <a:pt x="496" y="402"/>
                            </a:lnTo>
                            <a:lnTo>
                              <a:pt x="488" y="402"/>
                            </a:lnTo>
                            <a:lnTo>
                              <a:pt x="479" y="401"/>
                            </a:lnTo>
                            <a:lnTo>
                              <a:pt x="471" y="401"/>
                            </a:lnTo>
                            <a:lnTo>
                              <a:pt x="462" y="401"/>
                            </a:lnTo>
                            <a:lnTo>
                              <a:pt x="455" y="401"/>
                            </a:lnTo>
                            <a:lnTo>
                              <a:pt x="444" y="399"/>
                            </a:lnTo>
                            <a:lnTo>
                              <a:pt x="436" y="399"/>
                            </a:lnTo>
                            <a:lnTo>
                              <a:pt x="427" y="399"/>
                            </a:lnTo>
                            <a:lnTo>
                              <a:pt x="419" y="399"/>
                            </a:lnTo>
                            <a:lnTo>
                              <a:pt x="410" y="399"/>
                            </a:lnTo>
                            <a:lnTo>
                              <a:pt x="403" y="399"/>
                            </a:lnTo>
                            <a:lnTo>
                              <a:pt x="393" y="399"/>
                            </a:lnTo>
                            <a:lnTo>
                              <a:pt x="386" y="399"/>
                            </a:lnTo>
                            <a:lnTo>
                              <a:pt x="377" y="399"/>
                            </a:lnTo>
                            <a:lnTo>
                              <a:pt x="369" y="399"/>
                            </a:lnTo>
                            <a:lnTo>
                              <a:pt x="360" y="399"/>
                            </a:lnTo>
                            <a:lnTo>
                              <a:pt x="352" y="399"/>
                            </a:lnTo>
                            <a:lnTo>
                              <a:pt x="343" y="398"/>
                            </a:lnTo>
                            <a:lnTo>
                              <a:pt x="335" y="398"/>
                            </a:lnTo>
                            <a:lnTo>
                              <a:pt x="326" y="396"/>
                            </a:lnTo>
                            <a:lnTo>
                              <a:pt x="318" y="396"/>
                            </a:lnTo>
                            <a:lnTo>
                              <a:pt x="309" y="396"/>
                            </a:lnTo>
                            <a:lnTo>
                              <a:pt x="302" y="396"/>
                            </a:lnTo>
                            <a:lnTo>
                              <a:pt x="294" y="396"/>
                            </a:lnTo>
                            <a:lnTo>
                              <a:pt x="285" y="396"/>
                            </a:lnTo>
                            <a:lnTo>
                              <a:pt x="276" y="396"/>
                            </a:lnTo>
                            <a:lnTo>
                              <a:pt x="268" y="395"/>
                            </a:lnTo>
                            <a:lnTo>
                              <a:pt x="260" y="395"/>
                            </a:lnTo>
                            <a:lnTo>
                              <a:pt x="253" y="395"/>
                            </a:lnTo>
                            <a:lnTo>
                              <a:pt x="245" y="394"/>
                            </a:lnTo>
                            <a:lnTo>
                              <a:pt x="236" y="394"/>
                            </a:lnTo>
                            <a:lnTo>
                              <a:pt x="228" y="394"/>
                            </a:lnTo>
                            <a:lnTo>
                              <a:pt x="220" y="394"/>
                            </a:lnTo>
                            <a:lnTo>
                              <a:pt x="228" y="390"/>
                            </a:lnTo>
                            <a:lnTo>
                              <a:pt x="234" y="384"/>
                            </a:lnTo>
                            <a:lnTo>
                              <a:pt x="242" y="379"/>
                            </a:lnTo>
                            <a:lnTo>
                              <a:pt x="250" y="374"/>
                            </a:lnTo>
                            <a:lnTo>
                              <a:pt x="257" y="369"/>
                            </a:lnTo>
                            <a:lnTo>
                              <a:pt x="265" y="365"/>
                            </a:lnTo>
                            <a:lnTo>
                              <a:pt x="272" y="359"/>
                            </a:lnTo>
                            <a:lnTo>
                              <a:pt x="280" y="355"/>
                            </a:lnTo>
                            <a:lnTo>
                              <a:pt x="288" y="350"/>
                            </a:lnTo>
                            <a:lnTo>
                              <a:pt x="295" y="344"/>
                            </a:lnTo>
                            <a:lnTo>
                              <a:pt x="303" y="340"/>
                            </a:lnTo>
                            <a:lnTo>
                              <a:pt x="311" y="335"/>
                            </a:lnTo>
                            <a:lnTo>
                              <a:pt x="317" y="331"/>
                            </a:lnTo>
                            <a:lnTo>
                              <a:pt x="324" y="325"/>
                            </a:lnTo>
                            <a:lnTo>
                              <a:pt x="332" y="321"/>
                            </a:lnTo>
                            <a:lnTo>
                              <a:pt x="340" y="315"/>
                            </a:lnTo>
                            <a:lnTo>
                              <a:pt x="347" y="311"/>
                            </a:lnTo>
                            <a:lnTo>
                              <a:pt x="355" y="306"/>
                            </a:lnTo>
                            <a:lnTo>
                              <a:pt x="363" y="300"/>
                            </a:lnTo>
                            <a:lnTo>
                              <a:pt x="370" y="296"/>
                            </a:lnTo>
                            <a:lnTo>
                              <a:pt x="378" y="291"/>
                            </a:lnTo>
                            <a:lnTo>
                              <a:pt x="386" y="287"/>
                            </a:lnTo>
                            <a:lnTo>
                              <a:pt x="393" y="281"/>
                            </a:lnTo>
                            <a:lnTo>
                              <a:pt x="401" y="277"/>
                            </a:lnTo>
                            <a:lnTo>
                              <a:pt x="409" y="273"/>
                            </a:lnTo>
                            <a:lnTo>
                              <a:pt x="416" y="267"/>
                            </a:lnTo>
                            <a:lnTo>
                              <a:pt x="424" y="262"/>
                            </a:lnTo>
                            <a:lnTo>
                              <a:pt x="432" y="258"/>
                            </a:lnTo>
                            <a:lnTo>
                              <a:pt x="439" y="252"/>
                            </a:lnTo>
                            <a:lnTo>
                              <a:pt x="447" y="248"/>
                            </a:lnTo>
                            <a:lnTo>
                              <a:pt x="455" y="243"/>
                            </a:lnTo>
                            <a:lnTo>
                              <a:pt x="462" y="239"/>
                            </a:lnTo>
                            <a:lnTo>
                              <a:pt x="470" y="233"/>
                            </a:lnTo>
                            <a:lnTo>
                              <a:pt x="477" y="229"/>
                            </a:lnTo>
                            <a:lnTo>
                              <a:pt x="485" y="223"/>
                            </a:lnTo>
                            <a:lnTo>
                              <a:pt x="491" y="219"/>
                            </a:lnTo>
                            <a:lnTo>
                              <a:pt x="499" y="214"/>
                            </a:lnTo>
                            <a:lnTo>
                              <a:pt x="507" y="210"/>
                            </a:lnTo>
                            <a:lnTo>
                              <a:pt x="514" y="204"/>
                            </a:lnTo>
                            <a:lnTo>
                              <a:pt x="522" y="200"/>
                            </a:lnTo>
                            <a:lnTo>
                              <a:pt x="529" y="195"/>
                            </a:lnTo>
                            <a:lnTo>
                              <a:pt x="537" y="189"/>
                            </a:lnTo>
                            <a:lnTo>
                              <a:pt x="545" y="185"/>
                            </a:lnTo>
                            <a:lnTo>
                              <a:pt x="552" y="181"/>
                            </a:lnTo>
                            <a:lnTo>
                              <a:pt x="560" y="175"/>
                            </a:lnTo>
                            <a:lnTo>
                              <a:pt x="568" y="170"/>
                            </a:lnTo>
                            <a:lnTo>
                              <a:pt x="575" y="166"/>
                            </a:lnTo>
                            <a:lnTo>
                              <a:pt x="583" y="162"/>
                            </a:lnTo>
                            <a:lnTo>
                              <a:pt x="591" y="156"/>
                            </a:lnTo>
                            <a:lnTo>
                              <a:pt x="598" y="151"/>
                            </a:lnTo>
                            <a:lnTo>
                              <a:pt x="606" y="147"/>
                            </a:lnTo>
                            <a:lnTo>
                              <a:pt x="614" y="142"/>
                            </a:lnTo>
                            <a:lnTo>
                              <a:pt x="621" y="137"/>
                            </a:lnTo>
                            <a:lnTo>
                              <a:pt x="629" y="133"/>
                            </a:lnTo>
                            <a:lnTo>
                              <a:pt x="637" y="127"/>
                            </a:lnTo>
                            <a:lnTo>
                              <a:pt x="644" y="123"/>
                            </a:lnTo>
                            <a:lnTo>
                              <a:pt x="652" y="118"/>
                            </a:lnTo>
                            <a:lnTo>
                              <a:pt x="659" y="114"/>
                            </a:lnTo>
                            <a:lnTo>
                              <a:pt x="667" y="108"/>
                            </a:lnTo>
                            <a:lnTo>
                              <a:pt x="675" y="104"/>
                            </a:lnTo>
                            <a:lnTo>
                              <a:pt x="682" y="99"/>
                            </a:lnTo>
                            <a:lnTo>
                              <a:pt x="690" y="94"/>
                            </a:lnTo>
                            <a:lnTo>
                              <a:pt x="698" y="90"/>
                            </a:lnTo>
                            <a:lnTo>
                              <a:pt x="705" y="86"/>
                            </a:lnTo>
                            <a:lnTo>
                              <a:pt x="713" y="90"/>
                            </a:lnTo>
                            <a:lnTo>
                              <a:pt x="722" y="96"/>
                            </a:lnTo>
                            <a:lnTo>
                              <a:pt x="730" y="101"/>
                            </a:lnTo>
                            <a:lnTo>
                              <a:pt x="739" y="107"/>
                            </a:lnTo>
                            <a:lnTo>
                              <a:pt x="747" y="112"/>
                            </a:lnTo>
                            <a:lnTo>
                              <a:pt x="754" y="118"/>
                            </a:lnTo>
                            <a:lnTo>
                              <a:pt x="762" y="122"/>
                            </a:lnTo>
                            <a:lnTo>
                              <a:pt x="770" y="127"/>
                            </a:lnTo>
                            <a:lnTo>
                              <a:pt x="777" y="131"/>
                            </a:lnTo>
                            <a:lnTo>
                              <a:pt x="783" y="136"/>
                            </a:lnTo>
                            <a:lnTo>
                              <a:pt x="791" y="140"/>
                            </a:lnTo>
                            <a:lnTo>
                              <a:pt x="799" y="145"/>
                            </a:lnTo>
                            <a:lnTo>
                              <a:pt x="805" y="149"/>
                            </a:lnTo>
                            <a:lnTo>
                              <a:pt x="811" y="153"/>
                            </a:lnTo>
                            <a:lnTo>
                              <a:pt x="819" y="158"/>
                            </a:lnTo>
                            <a:lnTo>
                              <a:pt x="825" y="162"/>
                            </a:lnTo>
                            <a:lnTo>
                              <a:pt x="831" y="166"/>
                            </a:lnTo>
                            <a:lnTo>
                              <a:pt x="837" y="170"/>
                            </a:lnTo>
                            <a:lnTo>
                              <a:pt x="843" y="173"/>
                            </a:lnTo>
                            <a:lnTo>
                              <a:pt x="849" y="177"/>
                            </a:lnTo>
                            <a:lnTo>
                              <a:pt x="855" y="181"/>
                            </a:lnTo>
                            <a:lnTo>
                              <a:pt x="861" y="185"/>
                            </a:lnTo>
                            <a:lnTo>
                              <a:pt x="868" y="188"/>
                            </a:lnTo>
                            <a:lnTo>
                              <a:pt x="874" y="192"/>
                            </a:lnTo>
                            <a:lnTo>
                              <a:pt x="880" y="196"/>
                            </a:lnTo>
                            <a:lnTo>
                              <a:pt x="886" y="199"/>
                            </a:lnTo>
                            <a:lnTo>
                              <a:pt x="890" y="203"/>
                            </a:lnTo>
                            <a:lnTo>
                              <a:pt x="897" y="207"/>
                            </a:lnTo>
                            <a:lnTo>
                              <a:pt x="903" y="210"/>
                            </a:lnTo>
                            <a:lnTo>
                              <a:pt x="909" y="214"/>
                            </a:lnTo>
                            <a:lnTo>
                              <a:pt x="915" y="217"/>
                            </a:lnTo>
                            <a:lnTo>
                              <a:pt x="921" y="221"/>
                            </a:lnTo>
                            <a:lnTo>
                              <a:pt x="927" y="225"/>
                            </a:lnTo>
                            <a:lnTo>
                              <a:pt x="932" y="228"/>
                            </a:lnTo>
                            <a:lnTo>
                              <a:pt x="938" y="232"/>
                            </a:lnTo>
                            <a:lnTo>
                              <a:pt x="944" y="234"/>
                            </a:lnTo>
                            <a:lnTo>
                              <a:pt x="949" y="239"/>
                            </a:lnTo>
                            <a:lnTo>
                              <a:pt x="955" y="241"/>
                            </a:lnTo>
                            <a:lnTo>
                              <a:pt x="961" y="245"/>
                            </a:lnTo>
                            <a:lnTo>
                              <a:pt x="967" y="250"/>
                            </a:lnTo>
                            <a:lnTo>
                              <a:pt x="973" y="252"/>
                            </a:lnTo>
                            <a:lnTo>
                              <a:pt x="979" y="256"/>
                            </a:lnTo>
                            <a:lnTo>
                              <a:pt x="985" y="261"/>
                            </a:lnTo>
                            <a:lnTo>
                              <a:pt x="991" y="263"/>
                            </a:lnTo>
                            <a:lnTo>
                              <a:pt x="998" y="267"/>
                            </a:lnTo>
                            <a:lnTo>
                              <a:pt x="1004" y="271"/>
                            </a:lnTo>
                            <a:lnTo>
                              <a:pt x="1010" y="276"/>
                            </a:lnTo>
                            <a:lnTo>
                              <a:pt x="1017" y="280"/>
                            </a:lnTo>
                            <a:lnTo>
                              <a:pt x="1024" y="282"/>
                            </a:lnTo>
                            <a:lnTo>
                              <a:pt x="1031" y="288"/>
                            </a:lnTo>
                            <a:lnTo>
                              <a:pt x="1037" y="291"/>
                            </a:lnTo>
                            <a:lnTo>
                              <a:pt x="1045" y="296"/>
                            </a:lnTo>
                            <a:lnTo>
                              <a:pt x="1053" y="300"/>
                            </a:lnTo>
                            <a:lnTo>
                              <a:pt x="1060" y="304"/>
                            </a:lnTo>
                            <a:lnTo>
                              <a:pt x="1068" y="309"/>
                            </a:lnTo>
                            <a:lnTo>
                              <a:pt x="1076" y="314"/>
                            </a:lnTo>
                            <a:lnTo>
                              <a:pt x="1083" y="318"/>
                            </a:lnTo>
                            <a:lnTo>
                              <a:pt x="1092" y="322"/>
                            </a:lnTo>
                            <a:lnTo>
                              <a:pt x="1100" y="328"/>
                            </a:lnTo>
                            <a:lnTo>
                              <a:pt x="1109" y="333"/>
                            </a:lnTo>
                            <a:lnTo>
                              <a:pt x="1117" y="339"/>
                            </a:lnTo>
                            <a:lnTo>
                              <a:pt x="1126" y="344"/>
                            </a:lnTo>
                            <a:lnTo>
                              <a:pt x="1135" y="350"/>
                            </a:lnTo>
                            <a:lnTo>
                              <a:pt x="1144" y="355"/>
                            </a:lnTo>
                            <a:lnTo>
                              <a:pt x="1140" y="355"/>
                            </a:lnTo>
                            <a:lnTo>
                              <a:pt x="1134" y="355"/>
                            </a:lnTo>
                            <a:lnTo>
                              <a:pt x="1129" y="355"/>
                            </a:lnTo>
                            <a:lnTo>
                              <a:pt x="1123" y="355"/>
                            </a:lnTo>
                            <a:lnTo>
                              <a:pt x="1118" y="355"/>
                            </a:lnTo>
                            <a:lnTo>
                              <a:pt x="1112" y="355"/>
                            </a:lnTo>
                            <a:lnTo>
                              <a:pt x="1106" y="355"/>
                            </a:lnTo>
                            <a:lnTo>
                              <a:pt x="1102" y="357"/>
                            </a:lnTo>
                            <a:lnTo>
                              <a:pt x="1095" y="357"/>
                            </a:lnTo>
                            <a:lnTo>
                              <a:pt x="1089" y="357"/>
                            </a:lnTo>
                            <a:lnTo>
                              <a:pt x="1083" y="357"/>
                            </a:lnTo>
                            <a:lnTo>
                              <a:pt x="1077" y="357"/>
                            </a:lnTo>
                            <a:lnTo>
                              <a:pt x="1071" y="357"/>
                            </a:lnTo>
                            <a:lnTo>
                              <a:pt x="1065" y="357"/>
                            </a:lnTo>
                            <a:lnTo>
                              <a:pt x="1057" y="357"/>
                            </a:lnTo>
                            <a:lnTo>
                              <a:pt x="1053" y="357"/>
                            </a:lnTo>
                            <a:lnTo>
                              <a:pt x="1045" y="357"/>
                            </a:lnTo>
                            <a:lnTo>
                              <a:pt x="1039" y="357"/>
                            </a:lnTo>
                            <a:lnTo>
                              <a:pt x="1033" y="357"/>
                            </a:lnTo>
                            <a:lnTo>
                              <a:pt x="1027" y="357"/>
                            </a:lnTo>
                            <a:lnTo>
                              <a:pt x="1019" y="357"/>
                            </a:lnTo>
                            <a:lnTo>
                              <a:pt x="1013" y="357"/>
                            </a:lnTo>
                            <a:lnTo>
                              <a:pt x="1007" y="357"/>
                            </a:lnTo>
                            <a:lnTo>
                              <a:pt x="1001" y="357"/>
                            </a:lnTo>
                            <a:lnTo>
                              <a:pt x="993" y="357"/>
                            </a:lnTo>
                            <a:lnTo>
                              <a:pt x="987" y="357"/>
                            </a:lnTo>
                            <a:lnTo>
                              <a:pt x="979" y="357"/>
                            </a:lnTo>
                            <a:lnTo>
                              <a:pt x="972" y="357"/>
                            </a:lnTo>
                            <a:lnTo>
                              <a:pt x="965" y="357"/>
                            </a:lnTo>
                            <a:lnTo>
                              <a:pt x="958" y="357"/>
                            </a:lnTo>
                            <a:lnTo>
                              <a:pt x="952" y="357"/>
                            </a:lnTo>
                            <a:lnTo>
                              <a:pt x="946" y="358"/>
                            </a:lnTo>
                            <a:lnTo>
                              <a:pt x="938" y="358"/>
                            </a:lnTo>
                            <a:lnTo>
                              <a:pt x="932" y="358"/>
                            </a:lnTo>
                            <a:lnTo>
                              <a:pt x="924" y="358"/>
                            </a:lnTo>
                            <a:lnTo>
                              <a:pt x="918" y="358"/>
                            </a:lnTo>
                            <a:lnTo>
                              <a:pt x="910" y="358"/>
                            </a:lnTo>
                            <a:lnTo>
                              <a:pt x="904" y="358"/>
                            </a:lnTo>
                            <a:lnTo>
                              <a:pt x="897" y="358"/>
                            </a:lnTo>
                            <a:lnTo>
                              <a:pt x="890" y="359"/>
                            </a:lnTo>
                            <a:lnTo>
                              <a:pt x="884" y="359"/>
                            </a:lnTo>
                            <a:lnTo>
                              <a:pt x="878" y="359"/>
                            </a:lnTo>
                            <a:lnTo>
                              <a:pt x="871" y="359"/>
                            </a:lnTo>
                            <a:lnTo>
                              <a:pt x="864" y="359"/>
                            </a:lnTo>
                            <a:lnTo>
                              <a:pt x="858" y="359"/>
                            </a:lnTo>
                            <a:lnTo>
                              <a:pt x="852" y="361"/>
                            </a:lnTo>
                            <a:lnTo>
                              <a:pt x="846" y="361"/>
                            </a:lnTo>
                            <a:lnTo>
                              <a:pt x="842" y="362"/>
                            </a:lnTo>
                            <a:lnTo>
                              <a:pt x="835" y="362"/>
                            </a:lnTo>
                            <a:lnTo>
                              <a:pt x="828" y="362"/>
                            </a:lnTo>
                            <a:lnTo>
                              <a:pt x="823" y="362"/>
                            </a:lnTo>
                            <a:lnTo>
                              <a:pt x="817" y="363"/>
                            </a:lnTo>
                            <a:lnTo>
                              <a:pt x="811" y="363"/>
                            </a:lnTo>
                            <a:lnTo>
                              <a:pt x="805" y="365"/>
                            </a:lnTo>
                            <a:lnTo>
                              <a:pt x="800" y="365"/>
                            </a:lnTo>
                            <a:lnTo>
                              <a:pt x="796" y="366"/>
                            </a:lnTo>
                            <a:lnTo>
                              <a:pt x="790" y="366"/>
                            </a:lnTo>
                            <a:lnTo>
                              <a:pt x="785" y="368"/>
                            </a:lnTo>
                            <a:lnTo>
                              <a:pt x="780" y="369"/>
                            </a:lnTo>
                            <a:lnTo>
                              <a:pt x="776" y="369"/>
                            </a:lnTo>
                            <a:lnTo>
                              <a:pt x="770" y="370"/>
                            </a:lnTo>
                            <a:lnTo>
                              <a:pt x="767" y="372"/>
                            </a:lnTo>
                            <a:lnTo>
                              <a:pt x="762" y="372"/>
                            </a:lnTo>
                            <a:lnTo>
                              <a:pt x="759" y="374"/>
                            </a:lnTo>
                            <a:lnTo>
                              <a:pt x="1054" y="368"/>
                            </a:lnTo>
                            <a:lnTo>
                              <a:pt x="872" y="399"/>
                            </a:lnTo>
                            <a:lnTo>
                              <a:pt x="874" y="399"/>
                            </a:lnTo>
                            <a:lnTo>
                              <a:pt x="877" y="399"/>
                            </a:lnTo>
                            <a:lnTo>
                              <a:pt x="880" y="399"/>
                            </a:lnTo>
                            <a:lnTo>
                              <a:pt x="884" y="399"/>
                            </a:lnTo>
                            <a:lnTo>
                              <a:pt x="890" y="399"/>
                            </a:lnTo>
                            <a:lnTo>
                              <a:pt x="892" y="399"/>
                            </a:lnTo>
                            <a:lnTo>
                              <a:pt x="895" y="399"/>
                            </a:lnTo>
                            <a:lnTo>
                              <a:pt x="900" y="399"/>
                            </a:lnTo>
                            <a:lnTo>
                              <a:pt x="903" y="399"/>
                            </a:lnTo>
                            <a:lnTo>
                              <a:pt x="906" y="399"/>
                            </a:lnTo>
                            <a:lnTo>
                              <a:pt x="910" y="399"/>
                            </a:lnTo>
                            <a:lnTo>
                              <a:pt x="913" y="399"/>
                            </a:lnTo>
                            <a:lnTo>
                              <a:pt x="918" y="399"/>
                            </a:lnTo>
                            <a:lnTo>
                              <a:pt x="921" y="399"/>
                            </a:lnTo>
                            <a:lnTo>
                              <a:pt x="926" y="399"/>
                            </a:lnTo>
                            <a:lnTo>
                              <a:pt x="930" y="399"/>
                            </a:lnTo>
                            <a:lnTo>
                              <a:pt x="935" y="399"/>
                            </a:lnTo>
                            <a:lnTo>
                              <a:pt x="938" y="399"/>
                            </a:lnTo>
                            <a:lnTo>
                              <a:pt x="944" y="399"/>
                            </a:lnTo>
                            <a:lnTo>
                              <a:pt x="949" y="399"/>
                            </a:lnTo>
                            <a:lnTo>
                              <a:pt x="953" y="399"/>
                            </a:lnTo>
                            <a:lnTo>
                              <a:pt x="958" y="399"/>
                            </a:lnTo>
                            <a:lnTo>
                              <a:pt x="962" y="399"/>
                            </a:lnTo>
                            <a:lnTo>
                              <a:pt x="967" y="399"/>
                            </a:lnTo>
                            <a:lnTo>
                              <a:pt x="972" y="399"/>
                            </a:lnTo>
                            <a:lnTo>
                              <a:pt x="976" y="399"/>
                            </a:lnTo>
                            <a:lnTo>
                              <a:pt x="981" y="399"/>
                            </a:lnTo>
                            <a:lnTo>
                              <a:pt x="985" y="399"/>
                            </a:lnTo>
                            <a:lnTo>
                              <a:pt x="990" y="399"/>
                            </a:lnTo>
                            <a:lnTo>
                              <a:pt x="994" y="399"/>
                            </a:lnTo>
                            <a:lnTo>
                              <a:pt x="999" y="399"/>
                            </a:lnTo>
                            <a:lnTo>
                              <a:pt x="1004" y="399"/>
                            </a:lnTo>
                            <a:lnTo>
                              <a:pt x="1008" y="399"/>
                            </a:lnTo>
                            <a:lnTo>
                              <a:pt x="1011" y="399"/>
                            </a:lnTo>
                            <a:lnTo>
                              <a:pt x="1016" y="399"/>
                            </a:lnTo>
                            <a:lnTo>
                              <a:pt x="1020" y="399"/>
                            </a:lnTo>
                            <a:lnTo>
                              <a:pt x="1025" y="399"/>
                            </a:lnTo>
                            <a:lnTo>
                              <a:pt x="1028" y="399"/>
                            </a:lnTo>
                            <a:lnTo>
                              <a:pt x="1033" y="399"/>
                            </a:lnTo>
                            <a:lnTo>
                              <a:pt x="1036" y="399"/>
                            </a:lnTo>
                            <a:lnTo>
                              <a:pt x="1040" y="399"/>
                            </a:lnTo>
                            <a:lnTo>
                              <a:pt x="1046" y="399"/>
                            </a:lnTo>
                            <a:lnTo>
                              <a:pt x="1053" y="399"/>
                            </a:lnTo>
                            <a:lnTo>
                              <a:pt x="1057" y="399"/>
                            </a:lnTo>
                            <a:lnTo>
                              <a:pt x="1063" y="399"/>
                            </a:lnTo>
                            <a:lnTo>
                              <a:pt x="1066" y="399"/>
                            </a:lnTo>
                            <a:lnTo>
                              <a:pt x="1069" y="399"/>
                            </a:lnTo>
                            <a:lnTo>
                              <a:pt x="1071" y="399"/>
                            </a:lnTo>
                            <a:lnTo>
                              <a:pt x="1068" y="401"/>
                            </a:lnTo>
                            <a:lnTo>
                              <a:pt x="1063" y="402"/>
                            </a:lnTo>
                            <a:lnTo>
                              <a:pt x="1060" y="403"/>
                            </a:lnTo>
                            <a:lnTo>
                              <a:pt x="1056" y="406"/>
                            </a:lnTo>
                            <a:lnTo>
                              <a:pt x="1050" y="406"/>
                            </a:lnTo>
                            <a:lnTo>
                              <a:pt x="1043" y="406"/>
                            </a:lnTo>
                            <a:lnTo>
                              <a:pt x="1037" y="407"/>
                            </a:lnTo>
                            <a:lnTo>
                              <a:pt x="1031" y="409"/>
                            </a:lnTo>
                            <a:lnTo>
                              <a:pt x="1024" y="409"/>
                            </a:lnTo>
                            <a:lnTo>
                              <a:pt x="1017" y="409"/>
                            </a:lnTo>
                            <a:lnTo>
                              <a:pt x="1011" y="410"/>
                            </a:lnTo>
                            <a:lnTo>
                              <a:pt x="1005" y="412"/>
                            </a:lnTo>
                            <a:lnTo>
                              <a:pt x="999" y="412"/>
                            </a:lnTo>
                            <a:lnTo>
                              <a:pt x="993" y="412"/>
                            </a:lnTo>
                            <a:lnTo>
                              <a:pt x="987" y="412"/>
                            </a:lnTo>
                            <a:lnTo>
                              <a:pt x="979" y="413"/>
                            </a:lnTo>
                            <a:lnTo>
                              <a:pt x="973" y="414"/>
                            </a:lnTo>
                            <a:lnTo>
                              <a:pt x="967" y="414"/>
                            </a:lnTo>
                            <a:lnTo>
                              <a:pt x="961" y="416"/>
                            </a:lnTo>
                            <a:lnTo>
                              <a:pt x="955" y="417"/>
                            </a:lnTo>
                            <a:lnTo>
                              <a:pt x="953" y="418"/>
                            </a:lnTo>
                            <a:lnTo>
                              <a:pt x="952" y="420"/>
                            </a:lnTo>
                            <a:lnTo>
                              <a:pt x="947" y="421"/>
                            </a:lnTo>
                            <a:lnTo>
                              <a:pt x="944" y="424"/>
                            </a:lnTo>
                            <a:lnTo>
                              <a:pt x="938" y="424"/>
                            </a:lnTo>
                            <a:lnTo>
                              <a:pt x="932" y="427"/>
                            </a:lnTo>
                            <a:lnTo>
                              <a:pt x="926" y="427"/>
                            </a:lnTo>
                            <a:lnTo>
                              <a:pt x="920" y="429"/>
                            </a:lnTo>
                            <a:lnTo>
                              <a:pt x="915" y="429"/>
                            </a:lnTo>
                            <a:lnTo>
                              <a:pt x="910" y="429"/>
                            </a:lnTo>
                            <a:lnTo>
                              <a:pt x="907" y="429"/>
                            </a:lnTo>
                            <a:lnTo>
                              <a:pt x="903" y="431"/>
                            </a:lnTo>
                            <a:lnTo>
                              <a:pt x="898" y="432"/>
                            </a:lnTo>
                            <a:lnTo>
                              <a:pt x="894" y="432"/>
                            </a:lnTo>
                            <a:lnTo>
                              <a:pt x="890" y="433"/>
                            </a:lnTo>
                            <a:lnTo>
                              <a:pt x="886" y="433"/>
                            </a:lnTo>
                            <a:lnTo>
                              <a:pt x="881" y="433"/>
                            </a:lnTo>
                            <a:lnTo>
                              <a:pt x="877" y="435"/>
                            </a:lnTo>
                            <a:lnTo>
                              <a:pt x="872" y="435"/>
                            </a:lnTo>
                            <a:lnTo>
                              <a:pt x="868" y="436"/>
                            </a:lnTo>
                            <a:lnTo>
                              <a:pt x="863" y="436"/>
                            </a:lnTo>
                            <a:lnTo>
                              <a:pt x="858" y="436"/>
                            </a:lnTo>
                            <a:lnTo>
                              <a:pt x="854" y="438"/>
                            </a:lnTo>
                            <a:lnTo>
                              <a:pt x="849" y="439"/>
                            </a:lnTo>
                            <a:lnTo>
                              <a:pt x="845" y="439"/>
                            </a:lnTo>
                            <a:lnTo>
                              <a:pt x="840" y="439"/>
                            </a:lnTo>
                            <a:lnTo>
                              <a:pt x="835" y="439"/>
                            </a:lnTo>
                            <a:lnTo>
                              <a:pt x="831" y="440"/>
                            </a:lnTo>
                            <a:lnTo>
                              <a:pt x="825" y="440"/>
                            </a:lnTo>
                            <a:lnTo>
                              <a:pt x="822" y="440"/>
                            </a:lnTo>
                            <a:lnTo>
                              <a:pt x="816" y="442"/>
                            </a:lnTo>
                            <a:lnTo>
                              <a:pt x="812" y="442"/>
                            </a:lnTo>
                            <a:lnTo>
                              <a:pt x="808" y="442"/>
                            </a:lnTo>
                            <a:lnTo>
                              <a:pt x="803" y="442"/>
                            </a:lnTo>
                            <a:lnTo>
                              <a:pt x="799" y="443"/>
                            </a:lnTo>
                            <a:lnTo>
                              <a:pt x="794" y="443"/>
                            </a:lnTo>
                            <a:lnTo>
                              <a:pt x="791" y="443"/>
                            </a:lnTo>
                            <a:lnTo>
                              <a:pt x="786" y="444"/>
                            </a:lnTo>
                            <a:lnTo>
                              <a:pt x="783" y="444"/>
                            </a:lnTo>
                            <a:lnTo>
                              <a:pt x="780" y="446"/>
                            </a:lnTo>
                            <a:lnTo>
                              <a:pt x="776" y="446"/>
                            </a:lnTo>
                            <a:lnTo>
                              <a:pt x="773" y="446"/>
                            </a:lnTo>
                            <a:lnTo>
                              <a:pt x="770" y="446"/>
                            </a:lnTo>
                            <a:lnTo>
                              <a:pt x="767" y="446"/>
                            </a:lnTo>
                            <a:lnTo>
                              <a:pt x="760" y="447"/>
                            </a:lnTo>
                            <a:lnTo>
                              <a:pt x="756" y="449"/>
                            </a:lnTo>
                            <a:lnTo>
                              <a:pt x="751" y="449"/>
                            </a:lnTo>
                            <a:lnTo>
                              <a:pt x="750" y="449"/>
                            </a:lnTo>
                            <a:lnTo>
                              <a:pt x="747" y="450"/>
                            </a:lnTo>
                            <a:lnTo>
                              <a:pt x="747" y="451"/>
                            </a:lnTo>
                            <a:lnTo>
                              <a:pt x="1121" y="439"/>
                            </a:lnTo>
                            <a:lnTo>
                              <a:pt x="1117" y="442"/>
                            </a:lnTo>
                            <a:lnTo>
                              <a:pt x="1112" y="443"/>
                            </a:lnTo>
                            <a:lnTo>
                              <a:pt x="1106" y="444"/>
                            </a:lnTo>
                            <a:lnTo>
                              <a:pt x="1102" y="446"/>
                            </a:lnTo>
                            <a:lnTo>
                              <a:pt x="1095" y="449"/>
                            </a:lnTo>
                            <a:lnTo>
                              <a:pt x="1091" y="450"/>
                            </a:lnTo>
                            <a:lnTo>
                              <a:pt x="1086" y="451"/>
                            </a:lnTo>
                            <a:lnTo>
                              <a:pt x="1082" y="453"/>
                            </a:lnTo>
                            <a:lnTo>
                              <a:pt x="1458" y="453"/>
                            </a:lnTo>
                            <a:lnTo>
                              <a:pt x="1452" y="450"/>
                            </a:lnTo>
                            <a:lnTo>
                              <a:pt x="1447" y="446"/>
                            </a:lnTo>
                            <a:lnTo>
                              <a:pt x="1441" y="443"/>
                            </a:lnTo>
                            <a:lnTo>
                              <a:pt x="1435" y="440"/>
                            </a:lnTo>
                            <a:lnTo>
                              <a:pt x="1432" y="438"/>
                            </a:lnTo>
                            <a:lnTo>
                              <a:pt x="1429" y="436"/>
                            </a:lnTo>
                            <a:lnTo>
                              <a:pt x="1424" y="433"/>
                            </a:lnTo>
                            <a:lnTo>
                              <a:pt x="1421" y="432"/>
                            </a:lnTo>
                            <a:lnTo>
                              <a:pt x="1418" y="429"/>
                            </a:lnTo>
                            <a:lnTo>
                              <a:pt x="1414" y="428"/>
                            </a:lnTo>
                            <a:lnTo>
                              <a:pt x="1411" y="427"/>
                            </a:lnTo>
                            <a:lnTo>
                              <a:pt x="1407" y="424"/>
                            </a:lnTo>
                            <a:lnTo>
                              <a:pt x="1403" y="421"/>
                            </a:lnTo>
                            <a:lnTo>
                              <a:pt x="1398" y="420"/>
                            </a:lnTo>
                            <a:lnTo>
                              <a:pt x="1394" y="417"/>
                            </a:lnTo>
                            <a:lnTo>
                              <a:pt x="1391" y="414"/>
                            </a:lnTo>
                            <a:lnTo>
                              <a:pt x="1386" y="412"/>
                            </a:lnTo>
                            <a:lnTo>
                              <a:pt x="1383" y="410"/>
                            </a:lnTo>
                            <a:lnTo>
                              <a:pt x="1378" y="407"/>
                            </a:lnTo>
                            <a:lnTo>
                              <a:pt x="1374" y="406"/>
                            </a:lnTo>
                            <a:lnTo>
                              <a:pt x="1371" y="403"/>
                            </a:lnTo>
                            <a:lnTo>
                              <a:pt x="1366" y="401"/>
                            </a:lnTo>
                            <a:lnTo>
                              <a:pt x="1362" y="399"/>
                            </a:lnTo>
                            <a:lnTo>
                              <a:pt x="1357" y="396"/>
                            </a:lnTo>
                            <a:lnTo>
                              <a:pt x="1354" y="394"/>
                            </a:lnTo>
                            <a:lnTo>
                              <a:pt x="1349" y="392"/>
                            </a:lnTo>
                            <a:lnTo>
                              <a:pt x="1345" y="390"/>
                            </a:lnTo>
                            <a:lnTo>
                              <a:pt x="1342" y="387"/>
                            </a:lnTo>
                            <a:lnTo>
                              <a:pt x="1337" y="384"/>
                            </a:lnTo>
                            <a:lnTo>
                              <a:pt x="1333" y="383"/>
                            </a:lnTo>
                            <a:lnTo>
                              <a:pt x="1328" y="380"/>
                            </a:lnTo>
                            <a:lnTo>
                              <a:pt x="1325" y="377"/>
                            </a:lnTo>
                            <a:lnTo>
                              <a:pt x="1320" y="374"/>
                            </a:lnTo>
                            <a:lnTo>
                              <a:pt x="1316" y="372"/>
                            </a:lnTo>
                            <a:lnTo>
                              <a:pt x="1311" y="369"/>
                            </a:lnTo>
                            <a:lnTo>
                              <a:pt x="1308" y="368"/>
                            </a:lnTo>
                            <a:lnTo>
                              <a:pt x="1303" y="365"/>
                            </a:lnTo>
                            <a:lnTo>
                              <a:pt x="1299" y="362"/>
                            </a:lnTo>
                            <a:lnTo>
                              <a:pt x="1294" y="359"/>
                            </a:lnTo>
                            <a:lnTo>
                              <a:pt x="1291" y="357"/>
                            </a:lnTo>
                            <a:lnTo>
                              <a:pt x="1288" y="354"/>
                            </a:lnTo>
                            <a:lnTo>
                              <a:pt x="1284" y="352"/>
                            </a:lnTo>
                            <a:lnTo>
                              <a:pt x="1281" y="350"/>
                            </a:lnTo>
                            <a:lnTo>
                              <a:pt x="1277" y="348"/>
                            </a:lnTo>
                            <a:lnTo>
                              <a:pt x="1273" y="346"/>
                            </a:lnTo>
                            <a:lnTo>
                              <a:pt x="1270" y="343"/>
                            </a:lnTo>
                            <a:lnTo>
                              <a:pt x="1265" y="340"/>
                            </a:lnTo>
                            <a:lnTo>
                              <a:pt x="1262" y="339"/>
                            </a:lnTo>
                            <a:lnTo>
                              <a:pt x="1256" y="333"/>
                            </a:lnTo>
                            <a:lnTo>
                              <a:pt x="1250" y="331"/>
                            </a:lnTo>
                            <a:lnTo>
                              <a:pt x="1244" y="325"/>
                            </a:lnTo>
                            <a:lnTo>
                              <a:pt x="1239" y="321"/>
                            </a:lnTo>
                            <a:lnTo>
                              <a:pt x="1235" y="318"/>
                            </a:lnTo>
                            <a:lnTo>
                              <a:pt x="1230" y="315"/>
                            </a:lnTo>
                            <a:lnTo>
                              <a:pt x="1233" y="315"/>
                            </a:lnTo>
                            <a:lnTo>
                              <a:pt x="1236" y="315"/>
                            </a:lnTo>
                            <a:lnTo>
                              <a:pt x="1238" y="318"/>
                            </a:lnTo>
                            <a:lnTo>
                              <a:pt x="1241" y="320"/>
                            </a:lnTo>
                            <a:lnTo>
                              <a:pt x="1466" y="449"/>
                            </a:lnTo>
                            <a:lnTo>
                              <a:pt x="1464" y="447"/>
                            </a:lnTo>
                            <a:lnTo>
                              <a:pt x="1463" y="446"/>
                            </a:lnTo>
                            <a:lnTo>
                              <a:pt x="1459" y="443"/>
                            </a:lnTo>
                            <a:lnTo>
                              <a:pt x="1455" y="440"/>
                            </a:lnTo>
                            <a:lnTo>
                              <a:pt x="1450" y="436"/>
                            </a:lnTo>
                            <a:lnTo>
                              <a:pt x="1446" y="432"/>
                            </a:lnTo>
                            <a:lnTo>
                              <a:pt x="1440" y="428"/>
                            </a:lnTo>
                            <a:lnTo>
                              <a:pt x="1433" y="424"/>
                            </a:lnTo>
                            <a:lnTo>
                              <a:pt x="1427" y="418"/>
                            </a:lnTo>
                            <a:lnTo>
                              <a:pt x="1421" y="414"/>
                            </a:lnTo>
                            <a:lnTo>
                              <a:pt x="1417" y="409"/>
                            </a:lnTo>
                            <a:lnTo>
                              <a:pt x="1412" y="406"/>
                            </a:lnTo>
                            <a:lnTo>
                              <a:pt x="1407" y="402"/>
                            </a:lnTo>
                            <a:lnTo>
                              <a:pt x="1404" y="401"/>
                            </a:lnTo>
                            <a:lnTo>
                              <a:pt x="1403" y="399"/>
                            </a:lnTo>
                            <a:lnTo>
                              <a:pt x="1397" y="394"/>
                            </a:lnTo>
                            <a:lnTo>
                              <a:pt x="1391" y="390"/>
                            </a:lnTo>
                            <a:lnTo>
                              <a:pt x="1385" y="384"/>
                            </a:lnTo>
                            <a:lnTo>
                              <a:pt x="1378" y="381"/>
                            </a:lnTo>
                            <a:lnTo>
                              <a:pt x="1375" y="377"/>
                            </a:lnTo>
                            <a:lnTo>
                              <a:pt x="1372" y="376"/>
                            </a:lnTo>
                            <a:lnTo>
                              <a:pt x="1368" y="373"/>
                            </a:lnTo>
                            <a:lnTo>
                              <a:pt x="1365" y="372"/>
                            </a:lnTo>
                            <a:lnTo>
                              <a:pt x="1362" y="369"/>
                            </a:lnTo>
                            <a:lnTo>
                              <a:pt x="1357" y="368"/>
                            </a:lnTo>
                            <a:lnTo>
                              <a:pt x="1354" y="365"/>
                            </a:lnTo>
                            <a:lnTo>
                              <a:pt x="1351" y="363"/>
                            </a:lnTo>
                            <a:lnTo>
                              <a:pt x="1346" y="361"/>
                            </a:lnTo>
                            <a:lnTo>
                              <a:pt x="1343" y="358"/>
                            </a:lnTo>
                            <a:lnTo>
                              <a:pt x="1339" y="357"/>
                            </a:lnTo>
                            <a:lnTo>
                              <a:pt x="1336" y="354"/>
                            </a:lnTo>
                            <a:lnTo>
                              <a:pt x="1331" y="351"/>
                            </a:lnTo>
                            <a:lnTo>
                              <a:pt x="1326" y="350"/>
                            </a:lnTo>
                            <a:lnTo>
                              <a:pt x="1323" y="347"/>
                            </a:lnTo>
                            <a:lnTo>
                              <a:pt x="1319" y="346"/>
                            </a:lnTo>
                            <a:lnTo>
                              <a:pt x="1316" y="343"/>
                            </a:lnTo>
                            <a:lnTo>
                              <a:pt x="1311" y="340"/>
                            </a:lnTo>
                            <a:lnTo>
                              <a:pt x="1307" y="339"/>
                            </a:lnTo>
                            <a:lnTo>
                              <a:pt x="1302" y="337"/>
                            </a:lnTo>
                            <a:lnTo>
                              <a:pt x="1297" y="335"/>
                            </a:lnTo>
                            <a:lnTo>
                              <a:pt x="1294" y="332"/>
                            </a:lnTo>
                            <a:lnTo>
                              <a:pt x="1290" y="331"/>
                            </a:lnTo>
                            <a:lnTo>
                              <a:pt x="1287" y="328"/>
                            </a:lnTo>
                            <a:lnTo>
                              <a:pt x="1281" y="326"/>
                            </a:lnTo>
                            <a:lnTo>
                              <a:pt x="1277" y="324"/>
                            </a:lnTo>
                            <a:lnTo>
                              <a:pt x="1273" y="321"/>
                            </a:lnTo>
                            <a:lnTo>
                              <a:pt x="1268" y="320"/>
                            </a:lnTo>
                            <a:lnTo>
                              <a:pt x="1264" y="318"/>
                            </a:lnTo>
                            <a:lnTo>
                              <a:pt x="1261" y="315"/>
                            </a:lnTo>
                            <a:lnTo>
                              <a:pt x="1256" y="313"/>
                            </a:lnTo>
                            <a:lnTo>
                              <a:pt x="1251" y="311"/>
                            </a:lnTo>
                            <a:lnTo>
                              <a:pt x="1247" y="309"/>
                            </a:lnTo>
                            <a:lnTo>
                              <a:pt x="1244" y="307"/>
                            </a:lnTo>
                            <a:lnTo>
                              <a:pt x="1239" y="304"/>
                            </a:lnTo>
                            <a:lnTo>
                              <a:pt x="1236" y="303"/>
                            </a:lnTo>
                            <a:lnTo>
                              <a:pt x="1232" y="302"/>
                            </a:lnTo>
                            <a:lnTo>
                              <a:pt x="1227" y="300"/>
                            </a:lnTo>
                            <a:lnTo>
                              <a:pt x="1224" y="298"/>
                            </a:lnTo>
                            <a:lnTo>
                              <a:pt x="1219" y="296"/>
                            </a:lnTo>
                            <a:lnTo>
                              <a:pt x="1216" y="293"/>
                            </a:lnTo>
                            <a:lnTo>
                              <a:pt x="1212" y="292"/>
                            </a:lnTo>
                            <a:lnTo>
                              <a:pt x="1209" y="291"/>
                            </a:lnTo>
                            <a:lnTo>
                              <a:pt x="1204" y="288"/>
                            </a:lnTo>
                            <a:lnTo>
                              <a:pt x="1201" y="287"/>
                            </a:lnTo>
                            <a:lnTo>
                              <a:pt x="1196" y="285"/>
                            </a:lnTo>
                            <a:lnTo>
                              <a:pt x="1193" y="284"/>
                            </a:lnTo>
                            <a:lnTo>
                              <a:pt x="1190" y="281"/>
                            </a:lnTo>
                            <a:lnTo>
                              <a:pt x="1186" y="280"/>
                            </a:lnTo>
                            <a:lnTo>
                              <a:pt x="1183" y="278"/>
                            </a:lnTo>
                            <a:lnTo>
                              <a:pt x="1180" y="277"/>
                            </a:lnTo>
                            <a:lnTo>
                              <a:pt x="1177" y="276"/>
                            </a:lnTo>
                            <a:lnTo>
                              <a:pt x="1170" y="273"/>
                            </a:lnTo>
                            <a:lnTo>
                              <a:pt x="1164" y="269"/>
                            </a:lnTo>
                            <a:lnTo>
                              <a:pt x="1158" y="265"/>
                            </a:lnTo>
                            <a:lnTo>
                              <a:pt x="1151" y="261"/>
                            </a:lnTo>
                            <a:lnTo>
                              <a:pt x="1143" y="256"/>
                            </a:lnTo>
                            <a:lnTo>
                              <a:pt x="1137" y="254"/>
                            </a:lnTo>
                            <a:lnTo>
                              <a:pt x="1129" y="248"/>
                            </a:lnTo>
                            <a:lnTo>
                              <a:pt x="1121" y="245"/>
                            </a:lnTo>
                            <a:lnTo>
                              <a:pt x="1114" y="241"/>
                            </a:lnTo>
                            <a:lnTo>
                              <a:pt x="1108" y="237"/>
                            </a:lnTo>
                            <a:lnTo>
                              <a:pt x="1100" y="233"/>
                            </a:lnTo>
                            <a:lnTo>
                              <a:pt x="1092" y="229"/>
                            </a:lnTo>
                            <a:lnTo>
                              <a:pt x="1085" y="225"/>
                            </a:lnTo>
                            <a:lnTo>
                              <a:pt x="1079" y="221"/>
                            </a:lnTo>
                            <a:lnTo>
                              <a:pt x="1071" y="217"/>
                            </a:lnTo>
                            <a:lnTo>
                              <a:pt x="1063" y="212"/>
                            </a:lnTo>
                            <a:lnTo>
                              <a:pt x="1057" y="208"/>
                            </a:lnTo>
                            <a:lnTo>
                              <a:pt x="1050" y="204"/>
                            </a:lnTo>
                            <a:lnTo>
                              <a:pt x="1042" y="200"/>
                            </a:lnTo>
                            <a:lnTo>
                              <a:pt x="1034" y="196"/>
                            </a:lnTo>
                            <a:lnTo>
                              <a:pt x="1027" y="192"/>
                            </a:lnTo>
                            <a:lnTo>
                              <a:pt x="1020" y="188"/>
                            </a:lnTo>
                            <a:lnTo>
                              <a:pt x="1013" y="184"/>
                            </a:lnTo>
                            <a:lnTo>
                              <a:pt x="1007" y="180"/>
                            </a:lnTo>
                            <a:lnTo>
                              <a:pt x="999" y="175"/>
                            </a:lnTo>
                            <a:lnTo>
                              <a:pt x="993" y="171"/>
                            </a:lnTo>
                            <a:lnTo>
                              <a:pt x="985" y="167"/>
                            </a:lnTo>
                            <a:lnTo>
                              <a:pt x="978" y="163"/>
                            </a:lnTo>
                            <a:lnTo>
                              <a:pt x="970" y="158"/>
                            </a:lnTo>
                            <a:lnTo>
                              <a:pt x="962" y="155"/>
                            </a:lnTo>
                            <a:lnTo>
                              <a:pt x="955" y="149"/>
                            </a:lnTo>
                            <a:lnTo>
                              <a:pt x="949" y="145"/>
                            </a:lnTo>
                            <a:lnTo>
                              <a:pt x="941" y="141"/>
                            </a:lnTo>
                            <a:lnTo>
                              <a:pt x="935" y="137"/>
                            </a:lnTo>
                            <a:lnTo>
                              <a:pt x="927" y="133"/>
                            </a:lnTo>
                            <a:lnTo>
                              <a:pt x="920" y="129"/>
                            </a:lnTo>
                            <a:lnTo>
                              <a:pt x="912" y="123"/>
                            </a:lnTo>
                            <a:lnTo>
                              <a:pt x="906" y="119"/>
                            </a:lnTo>
                            <a:lnTo>
                              <a:pt x="898" y="115"/>
                            </a:lnTo>
                            <a:lnTo>
                              <a:pt x="890" y="111"/>
                            </a:lnTo>
                            <a:lnTo>
                              <a:pt x="883" y="107"/>
                            </a:lnTo>
                            <a:lnTo>
                              <a:pt x="877" y="103"/>
                            </a:lnTo>
                            <a:lnTo>
                              <a:pt x="869" y="97"/>
                            </a:lnTo>
                            <a:lnTo>
                              <a:pt x="861" y="93"/>
                            </a:lnTo>
                            <a:lnTo>
                              <a:pt x="854" y="89"/>
                            </a:lnTo>
                            <a:lnTo>
                              <a:pt x="848" y="85"/>
                            </a:lnTo>
                            <a:lnTo>
                              <a:pt x="840" y="79"/>
                            </a:lnTo>
                            <a:lnTo>
                              <a:pt x="832" y="77"/>
                            </a:lnTo>
                            <a:lnTo>
                              <a:pt x="825" y="71"/>
                            </a:lnTo>
                            <a:lnTo>
                              <a:pt x="819" y="67"/>
                            </a:lnTo>
                            <a:lnTo>
                              <a:pt x="811" y="63"/>
                            </a:lnTo>
                            <a:lnTo>
                              <a:pt x="803" y="59"/>
                            </a:lnTo>
                            <a:lnTo>
                              <a:pt x="796" y="55"/>
                            </a:lnTo>
                            <a:lnTo>
                              <a:pt x="790" y="50"/>
                            </a:lnTo>
                            <a:lnTo>
                              <a:pt x="782" y="45"/>
                            </a:lnTo>
                            <a:lnTo>
                              <a:pt x="774" y="41"/>
                            </a:lnTo>
                            <a:lnTo>
                              <a:pt x="767" y="37"/>
                            </a:lnTo>
                            <a:lnTo>
                              <a:pt x="760" y="33"/>
                            </a:lnTo>
                            <a:lnTo>
                              <a:pt x="753" y="29"/>
                            </a:lnTo>
                            <a:lnTo>
                              <a:pt x="745" y="24"/>
                            </a:lnTo>
                            <a:lnTo>
                              <a:pt x="738" y="20"/>
                            </a:lnTo>
                            <a:lnTo>
                              <a:pt x="731" y="16"/>
                            </a:lnTo>
                            <a:lnTo>
                              <a:pt x="724" y="12"/>
                            </a:lnTo>
                            <a:lnTo>
                              <a:pt x="716" y="8"/>
                            </a:lnTo>
                            <a:lnTo>
                              <a:pt x="710" y="2"/>
                            </a:lnTo>
                            <a:lnTo>
                              <a:pt x="702" y="0"/>
                            </a:lnTo>
                            <a:lnTo>
                              <a:pt x="693" y="5"/>
                            </a:lnTo>
                            <a:lnTo>
                              <a:pt x="684" y="11"/>
                            </a:lnTo>
                            <a:lnTo>
                              <a:pt x="675" y="18"/>
                            </a:lnTo>
                            <a:lnTo>
                              <a:pt x="666" y="23"/>
                            </a:lnTo>
                            <a:lnTo>
                              <a:pt x="656" y="29"/>
                            </a:lnTo>
                            <a:lnTo>
                              <a:pt x="647" y="35"/>
                            </a:lnTo>
                            <a:lnTo>
                              <a:pt x="637" y="41"/>
                            </a:lnTo>
                            <a:lnTo>
                              <a:pt x="627" y="48"/>
                            </a:lnTo>
                            <a:lnTo>
                              <a:pt x="618" y="53"/>
                            </a:lnTo>
                            <a:lnTo>
                              <a:pt x="609" y="60"/>
                            </a:lnTo>
                            <a:lnTo>
                              <a:pt x="600" y="66"/>
                            </a:lnTo>
                            <a:lnTo>
                              <a:pt x="591" y="72"/>
                            </a:lnTo>
                            <a:lnTo>
                              <a:pt x="581" y="78"/>
                            </a:lnTo>
                            <a:lnTo>
                              <a:pt x="571" y="85"/>
                            </a:lnTo>
                            <a:lnTo>
                              <a:pt x="562" y="90"/>
                            </a:lnTo>
                            <a:lnTo>
                              <a:pt x="552" y="97"/>
                            </a:lnTo>
                            <a:lnTo>
                              <a:pt x="543" y="103"/>
                            </a:lnTo>
                            <a:lnTo>
                              <a:pt x="534" y="110"/>
                            </a:lnTo>
                            <a:lnTo>
                              <a:pt x="525" y="115"/>
                            </a:lnTo>
                            <a:lnTo>
                              <a:pt x="516" y="122"/>
                            </a:lnTo>
                            <a:lnTo>
                              <a:pt x="507" y="127"/>
                            </a:lnTo>
                            <a:lnTo>
                              <a:pt x="496" y="134"/>
                            </a:lnTo>
                            <a:lnTo>
                              <a:pt x="487" y="140"/>
                            </a:lnTo>
                            <a:lnTo>
                              <a:pt x="477" y="147"/>
                            </a:lnTo>
                            <a:lnTo>
                              <a:pt x="468" y="152"/>
                            </a:lnTo>
                            <a:lnTo>
                              <a:pt x="459" y="159"/>
                            </a:lnTo>
                            <a:lnTo>
                              <a:pt x="450" y="164"/>
                            </a:lnTo>
                            <a:lnTo>
                              <a:pt x="441" y="171"/>
                            </a:lnTo>
                            <a:lnTo>
                              <a:pt x="430" y="177"/>
                            </a:lnTo>
                            <a:lnTo>
                              <a:pt x="421" y="184"/>
                            </a:lnTo>
                            <a:lnTo>
                              <a:pt x="412" y="189"/>
                            </a:lnTo>
                            <a:lnTo>
                              <a:pt x="403" y="196"/>
                            </a:lnTo>
                            <a:lnTo>
                              <a:pt x="393" y="201"/>
                            </a:lnTo>
                            <a:lnTo>
                              <a:pt x="384" y="208"/>
                            </a:lnTo>
                            <a:lnTo>
                              <a:pt x="375" y="214"/>
                            </a:lnTo>
                            <a:lnTo>
                              <a:pt x="366" y="221"/>
                            </a:lnTo>
                            <a:lnTo>
                              <a:pt x="357" y="226"/>
                            </a:lnTo>
                            <a:lnTo>
                              <a:pt x="347" y="233"/>
                            </a:lnTo>
                            <a:lnTo>
                              <a:pt x="337" y="239"/>
                            </a:lnTo>
                            <a:lnTo>
                              <a:pt x="328" y="245"/>
                            </a:lnTo>
                            <a:lnTo>
                              <a:pt x="318" y="251"/>
                            </a:lnTo>
                            <a:lnTo>
                              <a:pt x="309" y="258"/>
                            </a:lnTo>
                            <a:lnTo>
                              <a:pt x="300" y="263"/>
                            </a:lnTo>
                            <a:lnTo>
                              <a:pt x="291" y="270"/>
                            </a:lnTo>
                            <a:lnTo>
                              <a:pt x="282" y="276"/>
                            </a:lnTo>
                            <a:lnTo>
                              <a:pt x="272" y="282"/>
                            </a:lnTo>
                            <a:lnTo>
                              <a:pt x="262" y="288"/>
                            </a:lnTo>
                            <a:lnTo>
                              <a:pt x="254" y="295"/>
                            </a:lnTo>
                            <a:lnTo>
                              <a:pt x="245" y="300"/>
                            </a:lnTo>
                            <a:lnTo>
                              <a:pt x="234" y="307"/>
                            </a:lnTo>
                            <a:lnTo>
                              <a:pt x="225" y="313"/>
                            </a:lnTo>
                            <a:lnTo>
                              <a:pt x="216" y="320"/>
                            </a:lnTo>
                            <a:lnTo>
                              <a:pt x="207" y="325"/>
                            </a:lnTo>
                            <a:lnTo>
                              <a:pt x="198" y="332"/>
                            </a:lnTo>
                            <a:lnTo>
                              <a:pt x="188" y="337"/>
                            </a:lnTo>
                            <a:lnTo>
                              <a:pt x="179" y="344"/>
                            </a:lnTo>
                            <a:lnTo>
                              <a:pt x="170" y="350"/>
                            </a:lnTo>
                            <a:lnTo>
                              <a:pt x="159" y="357"/>
                            </a:lnTo>
                            <a:lnTo>
                              <a:pt x="150" y="362"/>
                            </a:lnTo>
                            <a:lnTo>
                              <a:pt x="141" y="369"/>
                            </a:lnTo>
                            <a:lnTo>
                              <a:pt x="132" y="374"/>
                            </a:lnTo>
                            <a:lnTo>
                              <a:pt x="123" y="381"/>
                            </a:lnTo>
                            <a:lnTo>
                              <a:pt x="113" y="387"/>
                            </a:lnTo>
                            <a:lnTo>
                              <a:pt x="104" y="39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Freeform 103"/>
                      <p:cNvSpPr/>
                      <p:nvPr/>
                    </p:nvSpPr>
                    <p:spPr>
                      <a:xfrm>
                        <a:off x="3022200" y="2556000"/>
                        <a:ext cx="26640" cy="17280"/>
                      </a:xfrm>
                      <a:custGeom>
                        <a:avLst/>
                        <a:gdLst>
                          <a:gd name="textAreaLeft" fmla="*/ 0 w 26640"/>
                          <a:gd name="textAreaRight" fmla="*/ 27000 w 26640"/>
                          <a:gd name="textAreaTop" fmla="*/ 0 h 17280"/>
                          <a:gd name="textAreaBottom" fmla="*/ 17640 h 17280"/>
                        </a:gdLst>
                        <a:ahLst/>
                        <a:rect l="textAreaLeft" t="textAreaTop" r="textAreaRight" b="textAreaBottom"/>
                        <a:pathLst>
                          <a:path w="294" h="175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2" y="5"/>
                            </a:lnTo>
                            <a:lnTo>
                              <a:pt x="3" y="6"/>
                            </a:lnTo>
                            <a:lnTo>
                              <a:pt x="7" y="9"/>
                            </a:lnTo>
                            <a:lnTo>
                              <a:pt x="11" y="11"/>
                            </a:lnTo>
                            <a:lnTo>
                              <a:pt x="17" y="16"/>
                            </a:lnTo>
                            <a:lnTo>
                              <a:pt x="20" y="17"/>
                            </a:lnTo>
                            <a:lnTo>
                              <a:pt x="23" y="20"/>
                            </a:lnTo>
                            <a:lnTo>
                              <a:pt x="28" y="22"/>
                            </a:lnTo>
                            <a:lnTo>
                              <a:pt x="33" y="25"/>
                            </a:lnTo>
                            <a:lnTo>
                              <a:pt x="36" y="28"/>
                            </a:lnTo>
                            <a:lnTo>
                              <a:pt x="40" y="31"/>
                            </a:lnTo>
                            <a:lnTo>
                              <a:pt x="45" y="33"/>
                            </a:lnTo>
                            <a:lnTo>
                              <a:pt x="51" y="37"/>
                            </a:lnTo>
                            <a:lnTo>
                              <a:pt x="55" y="40"/>
                            </a:lnTo>
                            <a:lnTo>
                              <a:pt x="60" y="43"/>
                            </a:lnTo>
                            <a:lnTo>
                              <a:pt x="66" y="46"/>
                            </a:lnTo>
                            <a:lnTo>
                              <a:pt x="72" y="50"/>
                            </a:lnTo>
                            <a:lnTo>
                              <a:pt x="78" y="53"/>
                            </a:lnTo>
                            <a:lnTo>
                              <a:pt x="85" y="57"/>
                            </a:lnTo>
                            <a:lnTo>
                              <a:pt x="91" y="61"/>
                            </a:lnTo>
                            <a:lnTo>
                              <a:pt x="97" y="64"/>
                            </a:lnTo>
                            <a:lnTo>
                              <a:pt x="103" y="68"/>
                            </a:lnTo>
                            <a:lnTo>
                              <a:pt x="109" y="72"/>
                            </a:lnTo>
                            <a:lnTo>
                              <a:pt x="117" y="76"/>
                            </a:lnTo>
                            <a:lnTo>
                              <a:pt x="123" y="79"/>
                            </a:lnTo>
                            <a:lnTo>
                              <a:pt x="129" y="83"/>
                            </a:lnTo>
                            <a:lnTo>
                              <a:pt x="137" y="87"/>
                            </a:lnTo>
                            <a:lnTo>
                              <a:pt x="143" y="91"/>
                            </a:lnTo>
                            <a:lnTo>
                              <a:pt x="150" y="95"/>
                            </a:lnTo>
                            <a:lnTo>
                              <a:pt x="156" y="98"/>
                            </a:lnTo>
                            <a:lnTo>
                              <a:pt x="163" y="102"/>
                            </a:lnTo>
                            <a:lnTo>
                              <a:pt x="169" y="106"/>
                            </a:lnTo>
                            <a:lnTo>
                              <a:pt x="175" y="110"/>
                            </a:lnTo>
                            <a:lnTo>
                              <a:pt x="181" y="113"/>
                            </a:lnTo>
                            <a:lnTo>
                              <a:pt x="187" y="117"/>
                            </a:lnTo>
                            <a:lnTo>
                              <a:pt x="195" y="120"/>
                            </a:lnTo>
                            <a:lnTo>
                              <a:pt x="201" y="124"/>
                            </a:lnTo>
                            <a:lnTo>
                              <a:pt x="207" y="128"/>
                            </a:lnTo>
                            <a:lnTo>
                              <a:pt x="213" y="131"/>
                            </a:lnTo>
                            <a:lnTo>
                              <a:pt x="219" y="135"/>
                            </a:lnTo>
                            <a:lnTo>
                              <a:pt x="225" y="138"/>
                            </a:lnTo>
                            <a:lnTo>
                              <a:pt x="230" y="140"/>
                            </a:lnTo>
                            <a:lnTo>
                              <a:pt x="236" y="145"/>
                            </a:lnTo>
                            <a:lnTo>
                              <a:pt x="241" y="147"/>
                            </a:lnTo>
                            <a:lnTo>
                              <a:pt x="247" y="150"/>
                            </a:lnTo>
                            <a:lnTo>
                              <a:pt x="251" y="153"/>
                            </a:lnTo>
                            <a:lnTo>
                              <a:pt x="256" y="154"/>
                            </a:lnTo>
                            <a:lnTo>
                              <a:pt x="260" y="157"/>
                            </a:lnTo>
                            <a:lnTo>
                              <a:pt x="265" y="160"/>
                            </a:lnTo>
                            <a:lnTo>
                              <a:pt x="268" y="162"/>
                            </a:lnTo>
                            <a:lnTo>
                              <a:pt x="273" y="164"/>
                            </a:lnTo>
                            <a:lnTo>
                              <a:pt x="276" y="167"/>
                            </a:lnTo>
                            <a:lnTo>
                              <a:pt x="280" y="168"/>
                            </a:lnTo>
                            <a:lnTo>
                              <a:pt x="285" y="171"/>
                            </a:lnTo>
                            <a:lnTo>
                              <a:pt x="289" y="173"/>
                            </a:lnTo>
                            <a:lnTo>
                              <a:pt x="293" y="175"/>
                            </a:lnTo>
                            <a:lnTo>
                              <a:pt x="294" y="175"/>
                            </a:lnTo>
                            <a:lnTo>
                              <a:pt x="289" y="171"/>
                            </a:lnTo>
                            <a:lnTo>
                              <a:pt x="277" y="164"/>
                            </a:lnTo>
                            <a:lnTo>
                              <a:pt x="247" y="143"/>
                            </a:lnTo>
                            <a:lnTo>
                              <a:pt x="178" y="107"/>
                            </a:lnTo>
                            <a:lnTo>
                              <a:pt x="173" y="103"/>
                            </a:lnTo>
                            <a:lnTo>
                              <a:pt x="167" y="101"/>
                            </a:lnTo>
                            <a:lnTo>
                              <a:pt x="161" y="97"/>
                            </a:lnTo>
                            <a:lnTo>
                              <a:pt x="156" y="92"/>
                            </a:lnTo>
                            <a:lnTo>
                              <a:pt x="150" y="90"/>
                            </a:lnTo>
                            <a:lnTo>
                              <a:pt x="146" y="86"/>
                            </a:lnTo>
                            <a:lnTo>
                              <a:pt x="140" y="83"/>
                            </a:lnTo>
                            <a:lnTo>
                              <a:pt x="135" y="79"/>
                            </a:lnTo>
                            <a:lnTo>
                              <a:pt x="129" y="76"/>
                            </a:lnTo>
                            <a:lnTo>
                              <a:pt x="123" y="72"/>
                            </a:lnTo>
                            <a:lnTo>
                              <a:pt x="118" y="68"/>
                            </a:lnTo>
                            <a:lnTo>
                              <a:pt x="114" y="65"/>
                            </a:lnTo>
                            <a:lnTo>
                              <a:pt x="107" y="61"/>
                            </a:lnTo>
                            <a:lnTo>
                              <a:pt x="103" y="58"/>
                            </a:lnTo>
                            <a:lnTo>
                              <a:pt x="97" y="54"/>
                            </a:lnTo>
                            <a:lnTo>
                              <a:pt x="92" y="51"/>
                            </a:lnTo>
                            <a:lnTo>
                              <a:pt x="86" y="47"/>
                            </a:lnTo>
                            <a:lnTo>
                              <a:pt x="81" y="44"/>
                            </a:lnTo>
                            <a:lnTo>
                              <a:pt x="75" y="40"/>
                            </a:lnTo>
                            <a:lnTo>
                              <a:pt x="71" y="37"/>
                            </a:lnTo>
                            <a:lnTo>
                              <a:pt x="65" y="33"/>
                            </a:lnTo>
                            <a:lnTo>
                              <a:pt x="59" y="31"/>
                            </a:lnTo>
                            <a:lnTo>
                              <a:pt x="54" y="27"/>
                            </a:lnTo>
                            <a:lnTo>
                              <a:pt x="48" y="24"/>
                            </a:lnTo>
                            <a:lnTo>
                              <a:pt x="43" y="21"/>
                            </a:lnTo>
                            <a:lnTo>
                              <a:pt x="37" y="17"/>
                            </a:lnTo>
                            <a:lnTo>
                              <a:pt x="31" y="14"/>
                            </a:lnTo>
                            <a:lnTo>
                              <a:pt x="26" y="11"/>
                            </a:lnTo>
                            <a:lnTo>
                              <a:pt x="20" y="9"/>
                            </a:lnTo>
                            <a:lnTo>
                              <a:pt x="14" y="6"/>
                            </a:lnTo>
                            <a:lnTo>
                              <a:pt x="10" y="3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Freeform 104"/>
                      <p:cNvSpPr/>
                      <p:nvPr/>
                    </p:nvSpPr>
                    <p:spPr>
                      <a:xfrm>
                        <a:off x="2966040" y="2569320"/>
                        <a:ext cx="27000" cy="19080"/>
                      </a:xfrm>
                      <a:custGeom>
                        <a:avLst/>
                        <a:gdLst>
                          <a:gd name="textAreaLeft" fmla="*/ 0 w 27000"/>
                          <a:gd name="textAreaRight" fmla="*/ 27360 w 2700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299" h="190">
                            <a:moveTo>
                              <a:pt x="0" y="190"/>
                            </a:moveTo>
                            <a:lnTo>
                              <a:pt x="3" y="188"/>
                            </a:lnTo>
                            <a:lnTo>
                              <a:pt x="8" y="185"/>
                            </a:lnTo>
                            <a:lnTo>
                              <a:pt x="13" y="181"/>
                            </a:lnTo>
                            <a:lnTo>
                              <a:pt x="17" y="178"/>
                            </a:lnTo>
                            <a:lnTo>
                              <a:pt x="22" y="175"/>
                            </a:lnTo>
                            <a:lnTo>
                              <a:pt x="26" y="173"/>
                            </a:lnTo>
                            <a:lnTo>
                              <a:pt x="31" y="170"/>
                            </a:lnTo>
                            <a:lnTo>
                              <a:pt x="36" y="167"/>
                            </a:lnTo>
                            <a:lnTo>
                              <a:pt x="40" y="163"/>
                            </a:lnTo>
                            <a:lnTo>
                              <a:pt x="45" y="160"/>
                            </a:lnTo>
                            <a:lnTo>
                              <a:pt x="48" y="156"/>
                            </a:lnTo>
                            <a:lnTo>
                              <a:pt x="54" y="153"/>
                            </a:lnTo>
                            <a:lnTo>
                              <a:pt x="59" y="151"/>
                            </a:lnTo>
                            <a:lnTo>
                              <a:pt x="63" y="146"/>
                            </a:lnTo>
                            <a:lnTo>
                              <a:pt x="68" y="144"/>
                            </a:lnTo>
                            <a:lnTo>
                              <a:pt x="72" y="141"/>
                            </a:lnTo>
                            <a:lnTo>
                              <a:pt x="75" y="137"/>
                            </a:lnTo>
                            <a:lnTo>
                              <a:pt x="81" y="134"/>
                            </a:lnTo>
                            <a:lnTo>
                              <a:pt x="85" y="131"/>
                            </a:lnTo>
                            <a:lnTo>
                              <a:pt x="91" y="127"/>
                            </a:lnTo>
                            <a:lnTo>
                              <a:pt x="95" y="124"/>
                            </a:lnTo>
                            <a:lnTo>
                              <a:pt x="100" y="120"/>
                            </a:lnTo>
                            <a:lnTo>
                              <a:pt x="104" y="118"/>
                            </a:lnTo>
                            <a:lnTo>
                              <a:pt x="109" y="114"/>
                            </a:lnTo>
                            <a:lnTo>
                              <a:pt x="114" y="111"/>
                            </a:lnTo>
                            <a:lnTo>
                              <a:pt x="118" y="107"/>
                            </a:lnTo>
                            <a:lnTo>
                              <a:pt x="123" y="104"/>
                            </a:lnTo>
                            <a:lnTo>
                              <a:pt x="129" y="100"/>
                            </a:lnTo>
                            <a:lnTo>
                              <a:pt x="133" y="97"/>
                            </a:lnTo>
                            <a:lnTo>
                              <a:pt x="138" y="93"/>
                            </a:lnTo>
                            <a:lnTo>
                              <a:pt x="143" y="90"/>
                            </a:lnTo>
                            <a:lnTo>
                              <a:pt x="147" y="87"/>
                            </a:lnTo>
                            <a:lnTo>
                              <a:pt x="152" y="83"/>
                            </a:lnTo>
                            <a:lnTo>
                              <a:pt x="158" y="81"/>
                            </a:lnTo>
                            <a:lnTo>
                              <a:pt x="161" y="76"/>
                            </a:lnTo>
                            <a:lnTo>
                              <a:pt x="167" y="74"/>
                            </a:lnTo>
                            <a:lnTo>
                              <a:pt x="172" y="70"/>
                            </a:lnTo>
                            <a:lnTo>
                              <a:pt x="176" y="67"/>
                            </a:lnTo>
                            <a:lnTo>
                              <a:pt x="181" y="63"/>
                            </a:lnTo>
                            <a:lnTo>
                              <a:pt x="185" y="60"/>
                            </a:lnTo>
                            <a:lnTo>
                              <a:pt x="190" y="57"/>
                            </a:lnTo>
                            <a:lnTo>
                              <a:pt x="195" y="53"/>
                            </a:lnTo>
                            <a:lnTo>
                              <a:pt x="201" y="50"/>
                            </a:lnTo>
                            <a:lnTo>
                              <a:pt x="205" y="48"/>
                            </a:lnTo>
                            <a:lnTo>
                              <a:pt x="210" y="45"/>
                            </a:lnTo>
                            <a:lnTo>
                              <a:pt x="216" y="41"/>
                            </a:lnTo>
                            <a:lnTo>
                              <a:pt x="219" y="38"/>
                            </a:lnTo>
                            <a:lnTo>
                              <a:pt x="225" y="35"/>
                            </a:lnTo>
                            <a:lnTo>
                              <a:pt x="230" y="33"/>
                            </a:lnTo>
                            <a:lnTo>
                              <a:pt x="234" y="30"/>
                            </a:lnTo>
                            <a:lnTo>
                              <a:pt x="239" y="27"/>
                            </a:lnTo>
                            <a:lnTo>
                              <a:pt x="244" y="24"/>
                            </a:lnTo>
                            <a:lnTo>
                              <a:pt x="248" y="22"/>
                            </a:lnTo>
                            <a:lnTo>
                              <a:pt x="254" y="20"/>
                            </a:lnTo>
                            <a:lnTo>
                              <a:pt x="259" y="16"/>
                            </a:lnTo>
                            <a:lnTo>
                              <a:pt x="264" y="15"/>
                            </a:lnTo>
                            <a:lnTo>
                              <a:pt x="268" y="12"/>
                            </a:lnTo>
                            <a:lnTo>
                              <a:pt x="274" y="9"/>
                            </a:lnTo>
                            <a:lnTo>
                              <a:pt x="279" y="8"/>
                            </a:lnTo>
                            <a:lnTo>
                              <a:pt x="288" y="4"/>
                            </a:lnTo>
                            <a:lnTo>
                              <a:pt x="299" y="0"/>
                            </a:lnTo>
                            <a:lnTo>
                              <a:pt x="288" y="5"/>
                            </a:lnTo>
                            <a:lnTo>
                              <a:pt x="279" y="9"/>
                            </a:lnTo>
                            <a:lnTo>
                              <a:pt x="274" y="12"/>
                            </a:lnTo>
                            <a:lnTo>
                              <a:pt x="271" y="15"/>
                            </a:lnTo>
                            <a:lnTo>
                              <a:pt x="267" y="16"/>
                            </a:lnTo>
                            <a:lnTo>
                              <a:pt x="262" y="20"/>
                            </a:lnTo>
                            <a:lnTo>
                              <a:pt x="257" y="23"/>
                            </a:lnTo>
                            <a:lnTo>
                              <a:pt x="253" y="26"/>
                            </a:lnTo>
                            <a:lnTo>
                              <a:pt x="248" y="28"/>
                            </a:lnTo>
                            <a:lnTo>
                              <a:pt x="244" y="33"/>
                            </a:lnTo>
                            <a:lnTo>
                              <a:pt x="238" y="35"/>
                            </a:lnTo>
                            <a:lnTo>
                              <a:pt x="233" y="38"/>
                            </a:lnTo>
                            <a:lnTo>
                              <a:pt x="228" y="42"/>
                            </a:lnTo>
                            <a:lnTo>
                              <a:pt x="222" y="45"/>
                            </a:lnTo>
                            <a:lnTo>
                              <a:pt x="218" y="49"/>
                            </a:lnTo>
                            <a:lnTo>
                              <a:pt x="211" y="53"/>
                            </a:lnTo>
                            <a:lnTo>
                              <a:pt x="207" y="56"/>
                            </a:lnTo>
                            <a:lnTo>
                              <a:pt x="202" y="60"/>
                            </a:lnTo>
                            <a:lnTo>
                              <a:pt x="196" y="64"/>
                            </a:lnTo>
                            <a:lnTo>
                              <a:pt x="192" y="68"/>
                            </a:lnTo>
                            <a:lnTo>
                              <a:pt x="185" y="71"/>
                            </a:lnTo>
                            <a:lnTo>
                              <a:pt x="179" y="75"/>
                            </a:lnTo>
                            <a:lnTo>
                              <a:pt x="175" y="79"/>
                            </a:lnTo>
                            <a:lnTo>
                              <a:pt x="169" y="83"/>
                            </a:lnTo>
                            <a:lnTo>
                              <a:pt x="164" y="87"/>
                            </a:lnTo>
                            <a:lnTo>
                              <a:pt x="158" y="90"/>
                            </a:lnTo>
                            <a:lnTo>
                              <a:pt x="152" y="94"/>
                            </a:lnTo>
                            <a:lnTo>
                              <a:pt x="147" y="100"/>
                            </a:lnTo>
                            <a:lnTo>
                              <a:pt x="141" y="103"/>
                            </a:lnTo>
                            <a:lnTo>
                              <a:pt x="137" y="107"/>
                            </a:lnTo>
                            <a:lnTo>
                              <a:pt x="130" y="111"/>
                            </a:lnTo>
                            <a:lnTo>
                              <a:pt x="124" y="115"/>
                            </a:lnTo>
                            <a:lnTo>
                              <a:pt x="120" y="118"/>
                            </a:lnTo>
                            <a:lnTo>
                              <a:pt x="114" y="122"/>
                            </a:lnTo>
                            <a:lnTo>
                              <a:pt x="107" y="126"/>
                            </a:lnTo>
                            <a:lnTo>
                              <a:pt x="103" y="130"/>
                            </a:lnTo>
                            <a:lnTo>
                              <a:pt x="97" y="133"/>
                            </a:lnTo>
                            <a:lnTo>
                              <a:pt x="92" y="137"/>
                            </a:lnTo>
                            <a:lnTo>
                              <a:pt x="86" y="140"/>
                            </a:lnTo>
                            <a:lnTo>
                              <a:pt x="81" y="144"/>
                            </a:lnTo>
                            <a:lnTo>
                              <a:pt x="75" y="146"/>
                            </a:lnTo>
                            <a:lnTo>
                              <a:pt x="72" y="151"/>
                            </a:lnTo>
                            <a:lnTo>
                              <a:pt x="66" y="153"/>
                            </a:lnTo>
                            <a:lnTo>
                              <a:pt x="62" y="157"/>
                            </a:lnTo>
                            <a:lnTo>
                              <a:pt x="57" y="160"/>
                            </a:lnTo>
                            <a:lnTo>
                              <a:pt x="52" y="163"/>
                            </a:lnTo>
                            <a:lnTo>
                              <a:pt x="48" y="166"/>
                            </a:lnTo>
                            <a:lnTo>
                              <a:pt x="43" y="168"/>
                            </a:lnTo>
                            <a:lnTo>
                              <a:pt x="39" y="171"/>
                            </a:lnTo>
                            <a:lnTo>
                              <a:pt x="34" y="174"/>
                            </a:lnTo>
                            <a:lnTo>
                              <a:pt x="31" y="175"/>
                            </a:lnTo>
                            <a:lnTo>
                              <a:pt x="28" y="178"/>
                            </a:lnTo>
                            <a:lnTo>
                              <a:pt x="23" y="181"/>
                            </a:lnTo>
                            <a:lnTo>
                              <a:pt x="19" y="182"/>
                            </a:lnTo>
                            <a:lnTo>
                              <a:pt x="16" y="184"/>
                            </a:lnTo>
                            <a:lnTo>
                              <a:pt x="13" y="186"/>
                            </a:lnTo>
                            <a:lnTo>
                              <a:pt x="7" y="189"/>
                            </a:lnTo>
                            <a:lnTo>
                              <a:pt x="0" y="19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Freeform 105"/>
                      <p:cNvSpPr/>
                      <p:nvPr/>
                    </p:nvSpPr>
                    <p:spPr>
                      <a:xfrm>
                        <a:off x="2967840" y="2588760"/>
                        <a:ext cx="4320" cy="36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360"/>
                          <a:gd name="textAreaBottom" fmla="*/ 720 h 360"/>
                        </a:gdLst>
                        <a:ahLst/>
                        <a:rect l="textAreaLeft" t="textAreaTop" r="textAreaRight" b="textAreaBottom"/>
                        <a:pathLst>
                          <a:path w="51" h="6">
                            <a:moveTo>
                              <a:pt x="42" y="0"/>
                            </a:moveTo>
                            <a:lnTo>
                              <a:pt x="0" y="3"/>
                            </a:lnTo>
                            <a:lnTo>
                              <a:pt x="5" y="4"/>
                            </a:lnTo>
                            <a:lnTo>
                              <a:pt x="11" y="6"/>
                            </a:lnTo>
                            <a:lnTo>
                              <a:pt x="14" y="6"/>
                            </a:lnTo>
                            <a:lnTo>
                              <a:pt x="20" y="6"/>
                            </a:lnTo>
                            <a:lnTo>
                              <a:pt x="25" y="6"/>
                            </a:lnTo>
                            <a:lnTo>
                              <a:pt x="29" y="6"/>
                            </a:lnTo>
                            <a:lnTo>
                              <a:pt x="35" y="6"/>
                            </a:lnTo>
                            <a:lnTo>
                              <a:pt x="42" y="6"/>
                            </a:lnTo>
                            <a:lnTo>
                              <a:pt x="51" y="3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Freeform 106"/>
                      <p:cNvSpPr/>
                      <p:nvPr/>
                    </p:nvSpPr>
                    <p:spPr>
                      <a:xfrm>
                        <a:off x="3042720" y="2564640"/>
                        <a:ext cx="4320" cy="288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2880"/>
                          <a:gd name="textAreaBottom" fmla="*/ 3240 h 2880"/>
                        </a:gdLst>
                        <a:ahLst/>
                        <a:rect l="textAreaLeft" t="textAreaTop" r="textAreaRight" b="textAreaBottom"/>
                        <a:pathLst>
                          <a:path w="49" h="30">
                            <a:moveTo>
                              <a:pt x="41" y="30"/>
                            </a:moveTo>
                            <a:lnTo>
                              <a:pt x="49" y="26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3" y="5"/>
                            </a:lnTo>
                            <a:lnTo>
                              <a:pt x="14" y="12"/>
                            </a:lnTo>
                            <a:lnTo>
                              <a:pt x="20" y="17"/>
                            </a:lnTo>
                            <a:lnTo>
                              <a:pt x="26" y="21"/>
                            </a:lnTo>
                            <a:lnTo>
                              <a:pt x="30" y="23"/>
                            </a:lnTo>
                            <a:lnTo>
                              <a:pt x="33" y="26"/>
                            </a:lnTo>
                            <a:lnTo>
                              <a:pt x="38" y="27"/>
                            </a:lnTo>
                            <a:lnTo>
                              <a:pt x="41" y="3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Freeform 107"/>
                      <p:cNvSpPr/>
                      <p:nvPr/>
                    </p:nvSpPr>
                    <p:spPr>
                      <a:xfrm>
                        <a:off x="3054960" y="2588760"/>
                        <a:ext cx="12240" cy="72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36" h="10">
                            <a:moveTo>
                              <a:pt x="136" y="0"/>
                            </a:moveTo>
                            <a:lnTo>
                              <a:pt x="131" y="0"/>
                            </a:lnTo>
                            <a:lnTo>
                              <a:pt x="127" y="0"/>
                            </a:lnTo>
                            <a:lnTo>
                              <a:pt x="122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9" y="0"/>
                            </a:lnTo>
                            <a:lnTo>
                              <a:pt x="104" y="0"/>
                            </a:lnTo>
                            <a:lnTo>
                              <a:pt x="101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7" y="0"/>
                            </a:lnTo>
                            <a:lnTo>
                              <a:pt x="84" y="0"/>
                            </a:lnTo>
                            <a:lnTo>
                              <a:pt x="79" y="0"/>
                            </a:lnTo>
                            <a:lnTo>
                              <a:pt x="75" y="0"/>
                            </a:lnTo>
                            <a:lnTo>
                              <a:pt x="70" y="0"/>
                            </a:lnTo>
                            <a:lnTo>
                              <a:pt x="67" y="0"/>
                            </a:lnTo>
                            <a:lnTo>
                              <a:pt x="63" y="0"/>
                            </a:lnTo>
                            <a:lnTo>
                              <a:pt x="58" y="0"/>
                            </a:lnTo>
                            <a:lnTo>
                              <a:pt x="53" y="0"/>
                            </a:lnTo>
                            <a:lnTo>
                              <a:pt x="50" y="0"/>
                            </a:lnTo>
                            <a:lnTo>
                              <a:pt x="46" y="0"/>
                            </a:lnTo>
                            <a:lnTo>
                              <a:pt x="41" y="0"/>
                            </a:lnTo>
                            <a:lnTo>
                              <a:pt x="37" y="2"/>
                            </a:lnTo>
                            <a:lnTo>
                              <a:pt x="34" y="2"/>
                            </a:lnTo>
                            <a:lnTo>
                              <a:pt x="29" y="2"/>
                            </a:lnTo>
                            <a:lnTo>
                              <a:pt x="24" y="3"/>
                            </a:lnTo>
                            <a:lnTo>
                              <a:pt x="20" y="3"/>
                            </a:lnTo>
                            <a:lnTo>
                              <a:pt x="17" y="4"/>
                            </a:lnTo>
                            <a:lnTo>
                              <a:pt x="12" y="4"/>
                            </a:lnTo>
                            <a:lnTo>
                              <a:pt x="8" y="6"/>
                            </a:lnTo>
                            <a:lnTo>
                              <a:pt x="3" y="6"/>
                            </a:lnTo>
                            <a:lnTo>
                              <a:pt x="0" y="9"/>
                            </a:lnTo>
                            <a:lnTo>
                              <a:pt x="27" y="10"/>
                            </a:lnTo>
                            <a:lnTo>
                              <a:pt x="31" y="9"/>
                            </a:lnTo>
                            <a:lnTo>
                              <a:pt x="35" y="6"/>
                            </a:lnTo>
                            <a:lnTo>
                              <a:pt x="41" y="6"/>
                            </a:lnTo>
                            <a:lnTo>
                              <a:pt x="47" y="6"/>
                            </a:lnTo>
                            <a:lnTo>
                              <a:pt x="55" y="6"/>
                            </a:lnTo>
                            <a:lnTo>
                              <a:pt x="58" y="6"/>
                            </a:lnTo>
                            <a:lnTo>
                              <a:pt x="61" y="6"/>
                            </a:lnTo>
                            <a:lnTo>
                              <a:pt x="66" y="6"/>
                            </a:lnTo>
                            <a:lnTo>
                              <a:pt x="69" y="7"/>
                            </a:lnTo>
                            <a:lnTo>
                              <a:pt x="73" y="7"/>
                            </a:lnTo>
                            <a:lnTo>
                              <a:pt x="76" y="9"/>
                            </a:lnTo>
                            <a:lnTo>
                              <a:pt x="81" y="9"/>
                            </a:lnTo>
                            <a:lnTo>
                              <a:pt x="84" y="9"/>
                            </a:lnTo>
                            <a:lnTo>
                              <a:pt x="87" y="9"/>
                            </a:lnTo>
                            <a:lnTo>
                              <a:pt x="92" y="10"/>
                            </a:lnTo>
                            <a:lnTo>
                              <a:pt x="95" y="10"/>
                            </a:lnTo>
                            <a:lnTo>
                              <a:pt x="99" y="10"/>
                            </a:lnTo>
                            <a:lnTo>
                              <a:pt x="102" y="10"/>
                            </a:lnTo>
                            <a:lnTo>
                              <a:pt x="105" y="10"/>
                            </a:lnTo>
                            <a:lnTo>
                              <a:pt x="109" y="10"/>
                            </a:lnTo>
                            <a:lnTo>
                              <a:pt x="113" y="10"/>
                            </a:lnTo>
                            <a:lnTo>
                              <a:pt x="119" y="9"/>
                            </a:lnTo>
                            <a:lnTo>
                              <a:pt x="125" y="7"/>
                            </a:lnTo>
                            <a:lnTo>
                              <a:pt x="130" y="4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Freeform 108"/>
                      <p:cNvSpPr/>
                      <p:nvPr/>
                    </p:nvSpPr>
                    <p:spPr>
                      <a:xfrm>
                        <a:off x="3048840" y="2568600"/>
                        <a:ext cx="10080" cy="612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0 h 6120"/>
                          <a:gd name="textAreaBottom" fmla="*/ 6480 h 6120"/>
                        </a:gdLst>
                        <a:ahLst/>
                        <a:rect l="textAreaLeft" t="textAreaTop" r="textAreaRight" b="textAreaBottom"/>
                        <a:pathLst>
                          <a:path w="113" h="62">
                            <a:moveTo>
                              <a:pt x="0" y="0"/>
                            </a:moveTo>
                            <a:lnTo>
                              <a:pt x="113" y="62"/>
                            </a:lnTo>
                            <a:lnTo>
                              <a:pt x="112" y="61"/>
                            </a:lnTo>
                            <a:lnTo>
                              <a:pt x="107" y="61"/>
                            </a:lnTo>
                            <a:lnTo>
                              <a:pt x="104" y="59"/>
                            </a:lnTo>
                            <a:lnTo>
                              <a:pt x="103" y="59"/>
                            </a:lnTo>
                            <a:lnTo>
                              <a:pt x="100" y="58"/>
                            </a:lnTo>
                            <a:lnTo>
                              <a:pt x="96" y="58"/>
                            </a:lnTo>
                            <a:lnTo>
                              <a:pt x="92" y="57"/>
                            </a:lnTo>
                            <a:lnTo>
                              <a:pt x="87" y="55"/>
                            </a:lnTo>
                            <a:lnTo>
                              <a:pt x="84" y="54"/>
                            </a:lnTo>
                            <a:lnTo>
                              <a:pt x="80" y="52"/>
                            </a:lnTo>
                            <a:lnTo>
                              <a:pt x="75" y="50"/>
                            </a:lnTo>
                            <a:lnTo>
                              <a:pt x="72" y="48"/>
                            </a:lnTo>
                            <a:lnTo>
                              <a:pt x="67" y="46"/>
                            </a:lnTo>
                            <a:lnTo>
                              <a:pt x="63" y="44"/>
                            </a:lnTo>
                            <a:lnTo>
                              <a:pt x="57" y="40"/>
                            </a:lnTo>
                            <a:lnTo>
                              <a:pt x="52" y="37"/>
                            </a:lnTo>
                            <a:lnTo>
                              <a:pt x="46" y="33"/>
                            </a:lnTo>
                            <a:lnTo>
                              <a:pt x="41" y="31"/>
                            </a:lnTo>
                            <a:lnTo>
                              <a:pt x="35" y="26"/>
                            </a:lnTo>
                            <a:lnTo>
                              <a:pt x="31" y="22"/>
                            </a:lnTo>
                            <a:lnTo>
                              <a:pt x="25" y="20"/>
                            </a:lnTo>
                            <a:lnTo>
                              <a:pt x="21" y="17"/>
                            </a:lnTo>
                            <a:lnTo>
                              <a:pt x="17" y="13"/>
                            </a:lnTo>
                            <a:lnTo>
                              <a:pt x="12" y="10"/>
                            </a:lnTo>
                            <a:lnTo>
                              <a:pt x="9" y="7"/>
                            </a:lnTo>
                            <a:lnTo>
                              <a:pt x="6" y="6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9" name="Freeform 109"/>
                      <p:cNvSpPr/>
                      <p:nvPr/>
                    </p:nvSpPr>
                    <p:spPr>
                      <a:xfrm>
                        <a:off x="3002760" y="2545920"/>
                        <a:ext cx="12960" cy="97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144" h="96">
                            <a:moveTo>
                              <a:pt x="144" y="0"/>
                            </a:moveTo>
                            <a:lnTo>
                              <a:pt x="139" y="3"/>
                            </a:lnTo>
                            <a:lnTo>
                              <a:pt x="135" y="6"/>
                            </a:lnTo>
                            <a:lnTo>
                              <a:pt x="130" y="8"/>
                            </a:lnTo>
                            <a:lnTo>
                              <a:pt x="126" y="11"/>
                            </a:lnTo>
                            <a:lnTo>
                              <a:pt x="121" y="15"/>
                            </a:lnTo>
                            <a:lnTo>
                              <a:pt x="116" y="18"/>
                            </a:lnTo>
                            <a:lnTo>
                              <a:pt x="112" y="21"/>
                            </a:lnTo>
                            <a:lnTo>
                              <a:pt x="107" y="24"/>
                            </a:lnTo>
                            <a:lnTo>
                              <a:pt x="103" y="26"/>
                            </a:lnTo>
                            <a:lnTo>
                              <a:pt x="98" y="29"/>
                            </a:lnTo>
                            <a:lnTo>
                              <a:pt x="94" y="32"/>
                            </a:lnTo>
                            <a:lnTo>
                              <a:pt x="90" y="36"/>
                            </a:lnTo>
                            <a:lnTo>
                              <a:pt x="84" y="39"/>
                            </a:lnTo>
                            <a:lnTo>
                              <a:pt x="80" y="41"/>
                            </a:lnTo>
                            <a:lnTo>
                              <a:pt x="75" y="44"/>
                            </a:lnTo>
                            <a:lnTo>
                              <a:pt x="72" y="47"/>
                            </a:lnTo>
                            <a:lnTo>
                              <a:pt x="66" y="50"/>
                            </a:lnTo>
                            <a:lnTo>
                              <a:pt x="61" y="52"/>
                            </a:lnTo>
                            <a:lnTo>
                              <a:pt x="57" y="55"/>
                            </a:lnTo>
                            <a:lnTo>
                              <a:pt x="52" y="59"/>
                            </a:lnTo>
                            <a:lnTo>
                              <a:pt x="48" y="62"/>
                            </a:lnTo>
                            <a:lnTo>
                              <a:pt x="45" y="65"/>
                            </a:lnTo>
                            <a:lnTo>
                              <a:pt x="38" y="67"/>
                            </a:lnTo>
                            <a:lnTo>
                              <a:pt x="35" y="70"/>
                            </a:lnTo>
                            <a:lnTo>
                              <a:pt x="31" y="73"/>
                            </a:lnTo>
                            <a:lnTo>
                              <a:pt x="26" y="77"/>
                            </a:lnTo>
                            <a:lnTo>
                              <a:pt x="22" y="80"/>
                            </a:lnTo>
                            <a:lnTo>
                              <a:pt x="17" y="83"/>
                            </a:lnTo>
                            <a:lnTo>
                              <a:pt x="14" y="85"/>
                            </a:lnTo>
                            <a:lnTo>
                              <a:pt x="9" y="89"/>
                            </a:lnTo>
                            <a:lnTo>
                              <a:pt x="5" y="92"/>
                            </a:lnTo>
                            <a:lnTo>
                              <a:pt x="0" y="96"/>
                            </a:lnTo>
                            <a:lnTo>
                              <a:pt x="5" y="94"/>
                            </a:lnTo>
                            <a:lnTo>
                              <a:pt x="9" y="91"/>
                            </a:lnTo>
                            <a:lnTo>
                              <a:pt x="14" y="88"/>
                            </a:lnTo>
                            <a:lnTo>
                              <a:pt x="19" y="85"/>
                            </a:lnTo>
                            <a:lnTo>
                              <a:pt x="23" y="83"/>
                            </a:lnTo>
                            <a:lnTo>
                              <a:pt x="28" y="81"/>
                            </a:lnTo>
                            <a:lnTo>
                              <a:pt x="32" y="78"/>
                            </a:lnTo>
                            <a:lnTo>
                              <a:pt x="37" y="76"/>
                            </a:lnTo>
                            <a:lnTo>
                              <a:pt x="42" y="73"/>
                            </a:lnTo>
                            <a:lnTo>
                              <a:pt x="46" y="70"/>
                            </a:lnTo>
                            <a:lnTo>
                              <a:pt x="51" y="67"/>
                            </a:lnTo>
                            <a:lnTo>
                              <a:pt x="55" y="65"/>
                            </a:lnTo>
                            <a:lnTo>
                              <a:pt x="60" y="61"/>
                            </a:lnTo>
                            <a:lnTo>
                              <a:pt x="64" y="58"/>
                            </a:lnTo>
                            <a:lnTo>
                              <a:pt x="71" y="55"/>
                            </a:lnTo>
                            <a:lnTo>
                              <a:pt x="75" y="52"/>
                            </a:lnTo>
                            <a:lnTo>
                              <a:pt x="80" y="48"/>
                            </a:lnTo>
                            <a:lnTo>
                              <a:pt x="84" y="46"/>
                            </a:lnTo>
                            <a:lnTo>
                              <a:pt x="89" y="43"/>
                            </a:lnTo>
                            <a:lnTo>
                              <a:pt x="94" y="40"/>
                            </a:lnTo>
                            <a:lnTo>
                              <a:pt x="98" y="36"/>
                            </a:lnTo>
                            <a:lnTo>
                              <a:pt x="103" y="33"/>
                            </a:lnTo>
                            <a:lnTo>
                              <a:pt x="107" y="29"/>
                            </a:lnTo>
                            <a:lnTo>
                              <a:pt x="112" y="26"/>
                            </a:lnTo>
                            <a:lnTo>
                              <a:pt x="115" y="24"/>
                            </a:lnTo>
                            <a:lnTo>
                              <a:pt x="120" y="19"/>
                            </a:lnTo>
                            <a:lnTo>
                              <a:pt x="124" y="17"/>
                            </a:lnTo>
                            <a:lnTo>
                              <a:pt x="127" y="13"/>
                            </a:lnTo>
                            <a:lnTo>
                              <a:pt x="132" y="10"/>
                            </a:lnTo>
                            <a:lnTo>
                              <a:pt x="136" y="7"/>
                            </a:lnTo>
                            <a:lnTo>
                              <a:pt x="141" y="3"/>
                            </a:lnTo>
                            <a:lnTo>
                              <a:pt x="14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0" name="Freeform 110"/>
                      <p:cNvSpPr/>
                      <p:nvPr/>
                    </p:nvSpPr>
                    <p:spPr>
                      <a:xfrm>
                        <a:off x="3021480" y="2589120"/>
                        <a:ext cx="19440" cy="55440"/>
                      </a:xfrm>
                      <a:custGeom>
                        <a:avLst/>
                        <a:gdLst>
                          <a:gd name="textAreaLeft" fmla="*/ 0 w 19440"/>
                          <a:gd name="textAreaRight" fmla="*/ 19440 w 1944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214" h="551">
                            <a:moveTo>
                              <a:pt x="1" y="0"/>
                            </a:moveTo>
                            <a:lnTo>
                              <a:pt x="1" y="2"/>
                            </a:lnTo>
                            <a:lnTo>
                              <a:pt x="0" y="4"/>
                            </a:lnTo>
                            <a:lnTo>
                              <a:pt x="0" y="7"/>
                            </a:lnTo>
                            <a:lnTo>
                              <a:pt x="0" y="10"/>
                            </a:lnTo>
                            <a:lnTo>
                              <a:pt x="0" y="14"/>
                            </a:lnTo>
                            <a:lnTo>
                              <a:pt x="0" y="17"/>
                            </a:lnTo>
                            <a:lnTo>
                              <a:pt x="0" y="22"/>
                            </a:lnTo>
                            <a:lnTo>
                              <a:pt x="1" y="26"/>
                            </a:lnTo>
                            <a:lnTo>
                              <a:pt x="1" y="32"/>
                            </a:lnTo>
                            <a:lnTo>
                              <a:pt x="1" y="36"/>
                            </a:lnTo>
                            <a:lnTo>
                              <a:pt x="3" y="42"/>
                            </a:lnTo>
                            <a:lnTo>
                              <a:pt x="3" y="47"/>
                            </a:lnTo>
                            <a:lnTo>
                              <a:pt x="5" y="52"/>
                            </a:lnTo>
                            <a:lnTo>
                              <a:pt x="5" y="58"/>
                            </a:lnTo>
                            <a:lnTo>
                              <a:pt x="5" y="63"/>
                            </a:lnTo>
                            <a:lnTo>
                              <a:pt x="6" y="69"/>
                            </a:lnTo>
                            <a:lnTo>
                              <a:pt x="6" y="74"/>
                            </a:lnTo>
                            <a:lnTo>
                              <a:pt x="8" y="80"/>
                            </a:lnTo>
                            <a:lnTo>
                              <a:pt x="8" y="84"/>
                            </a:lnTo>
                            <a:lnTo>
                              <a:pt x="9" y="91"/>
                            </a:lnTo>
                            <a:lnTo>
                              <a:pt x="9" y="95"/>
                            </a:lnTo>
                            <a:lnTo>
                              <a:pt x="11" y="101"/>
                            </a:lnTo>
                            <a:lnTo>
                              <a:pt x="11" y="105"/>
                            </a:lnTo>
                            <a:lnTo>
                              <a:pt x="11" y="109"/>
                            </a:lnTo>
                            <a:lnTo>
                              <a:pt x="11" y="113"/>
                            </a:lnTo>
                            <a:lnTo>
                              <a:pt x="12" y="116"/>
                            </a:lnTo>
                            <a:lnTo>
                              <a:pt x="12" y="118"/>
                            </a:lnTo>
                            <a:lnTo>
                              <a:pt x="14" y="122"/>
                            </a:lnTo>
                            <a:lnTo>
                              <a:pt x="14" y="127"/>
                            </a:lnTo>
                            <a:lnTo>
                              <a:pt x="14" y="129"/>
                            </a:lnTo>
                            <a:lnTo>
                              <a:pt x="14" y="132"/>
                            </a:lnTo>
                            <a:lnTo>
                              <a:pt x="14" y="136"/>
                            </a:lnTo>
                            <a:lnTo>
                              <a:pt x="15" y="140"/>
                            </a:lnTo>
                            <a:lnTo>
                              <a:pt x="15" y="144"/>
                            </a:lnTo>
                            <a:lnTo>
                              <a:pt x="15" y="149"/>
                            </a:lnTo>
                            <a:lnTo>
                              <a:pt x="17" y="153"/>
                            </a:lnTo>
                            <a:lnTo>
                              <a:pt x="17" y="155"/>
                            </a:lnTo>
                            <a:lnTo>
                              <a:pt x="18" y="160"/>
                            </a:lnTo>
                            <a:lnTo>
                              <a:pt x="18" y="162"/>
                            </a:lnTo>
                            <a:lnTo>
                              <a:pt x="18" y="165"/>
                            </a:lnTo>
                            <a:lnTo>
                              <a:pt x="18" y="166"/>
                            </a:lnTo>
                            <a:lnTo>
                              <a:pt x="18" y="168"/>
                            </a:lnTo>
                            <a:lnTo>
                              <a:pt x="17" y="168"/>
                            </a:lnTo>
                            <a:lnTo>
                              <a:pt x="15" y="166"/>
                            </a:lnTo>
                            <a:lnTo>
                              <a:pt x="14" y="165"/>
                            </a:lnTo>
                            <a:lnTo>
                              <a:pt x="12" y="161"/>
                            </a:lnTo>
                            <a:lnTo>
                              <a:pt x="14" y="551"/>
                            </a:lnTo>
                            <a:lnTo>
                              <a:pt x="214" y="551"/>
                            </a:lnTo>
                            <a:lnTo>
                              <a:pt x="210" y="84"/>
                            </a:lnTo>
                            <a:lnTo>
                              <a:pt x="210" y="79"/>
                            </a:lnTo>
                            <a:lnTo>
                              <a:pt x="210" y="74"/>
                            </a:lnTo>
                            <a:lnTo>
                              <a:pt x="210" y="69"/>
                            </a:lnTo>
                            <a:lnTo>
                              <a:pt x="210" y="65"/>
                            </a:lnTo>
                            <a:lnTo>
                              <a:pt x="210" y="59"/>
                            </a:lnTo>
                            <a:lnTo>
                              <a:pt x="210" y="57"/>
                            </a:lnTo>
                            <a:lnTo>
                              <a:pt x="210" y="51"/>
                            </a:lnTo>
                            <a:lnTo>
                              <a:pt x="210" y="47"/>
                            </a:lnTo>
                            <a:lnTo>
                              <a:pt x="210" y="42"/>
                            </a:lnTo>
                            <a:lnTo>
                              <a:pt x="210" y="39"/>
                            </a:lnTo>
                            <a:lnTo>
                              <a:pt x="210" y="33"/>
                            </a:lnTo>
                            <a:lnTo>
                              <a:pt x="210" y="29"/>
                            </a:lnTo>
                            <a:lnTo>
                              <a:pt x="210" y="24"/>
                            </a:lnTo>
                            <a:lnTo>
                              <a:pt x="210" y="20"/>
                            </a:lnTo>
                            <a:lnTo>
                              <a:pt x="210" y="15"/>
                            </a:lnTo>
                            <a:lnTo>
                              <a:pt x="210" y="11"/>
                            </a:lnTo>
                            <a:lnTo>
                              <a:pt x="202" y="15"/>
                            </a:lnTo>
                            <a:lnTo>
                              <a:pt x="200" y="20"/>
                            </a:lnTo>
                            <a:lnTo>
                              <a:pt x="200" y="22"/>
                            </a:lnTo>
                            <a:lnTo>
                              <a:pt x="200" y="26"/>
                            </a:lnTo>
                            <a:lnTo>
                              <a:pt x="200" y="31"/>
                            </a:lnTo>
                            <a:lnTo>
                              <a:pt x="200" y="35"/>
                            </a:lnTo>
                            <a:lnTo>
                              <a:pt x="200" y="39"/>
                            </a:lnTo>
                            <a:lnTo>
                              <a:pt x="200" y="43"/>
                            </a:lnTo>
                            <a:lnTo>
                              <a:pt x="200" y="47"/>
                            </a:lnTo>
                            <a:lnTo>
                              <a:pt x="200" y="51"/>
                            </a:lnTo>
                            <a:lnTo>
                              <a:pt x="200" y="54"/>
                            </a:lnTo>
                            <a:lnTo>
                              <a:pt x="200" y="58"/>
                            </a:lnTo>
                            <a:lnTo>
                              <a:pt x="202" y="62"/>
                            </a:lnTo>
                            <a:lnTo>
                              <a:pt x="202" y="66"/>
                            </a:lnTo>
                            <a:lnTo>
                              <a:pt x="202" y="69"/>
                            </a:lnTo>
                            <a:lnTo>
                              <a:pt x="203" y="73"/>
                            </a:lnTo>
                            <a:lnTo>
                              <a:pt x="203" y="77"/>
                            </a:lnTo>
                            <a:lnTo>
                              <a:pt x="203" y="79"/>
                            </a:lnTo>
                            <a:lnTo>
                              <a:pt x="203" y="81"/>
                            </a:lnTo>
                            <a:lnTo>
                              <a:pt x="202" y="84"/>
                            </a:lnTo>
                            <a:lnTo>
                              <a:pt x="202" y="85"/>
                            </a:lnTo>
                            <a:lnTo>
                              <a:pt x="200" y="80"/>
                            </a:lnTo>
                            <a:lnTo>
                              <a:pt x="200" y="74"/>
                            </a:lnTo>
                            <a:lnTo>
                              <a:pt x="199" y="69"/>
                            </a:lnTo>
                            <a:lnTo>
                              <a:pt x="199" y="63"/>
                            </a:lnTo>
                            <a:lnTo>
                              <a:pt x="199" y="58"/>
                            </a:lnTo>
                            <a:lnTo>
                              <a:pt x="197" y="52"/>
                            </a:lnTo>
                            <a:lnTo>
                              <a:pt x="197" y="47"/>
                            </a:lnTo>
                            <a:lnTo>
                              <a:pt x="196" y="42"/>
                            </a:lnTo>
                            <a:lnTo>
                              <a:pt x="194" y="43"/>
                            </a:lnTo>
                            <a:lnTo>
                              <a:pt x="194" y="47"/>
                            </a:lnTo>
                            <a:lnTo>
                              <a:pt x="194" y="50"/>
                            </a:lnTo>
                            <a:lnTo>
                              <a:pt x="194" y="52"/>
                            </a:lnTo>
                            <a:lnTo>
                              <a:pt x="194" y="57"/>
                            </a:lnTo>
                            <a:lnTo>
                              <a:pt x="194" y="61"/>
                            </a:lnTo>
                            <a:lnTo>
                              <a:pt x="194" y="63"/>
                            </a:lnTo>
                            <a:lnTo>
                              <a:pt x="194" y="69"/>
                            </a:lnTo>
                            <a:lnTo>
                              <a:pt x="194" y="73"/>
                            </a:lnTo>
                            <a:lnTo>
                              <a:pt x="194" y="79"/>
                            </a:lnTo>
                            <a:lnTo>
                              <a:pt x="194" y="83"/>
                            </a:lnTo>
                            <a:lnTo>
                              <a:pt x="194" y="88"/>
                            </a:lnTo>
                            <a:lnTo>
                              <a:pt x="194" y="94"/>
                            </a:lnTo>
                            <a:lnTo>
                              <a:pt x="196" y="99"/>
                            </a:lnTo>
                            <a:lnTo>
                              <a:pt x="196" y="103"/>
                            </a:lnTo>
                            <a:lnTo>
                              <a:pt x="196" y="109"/>
                            </a:lnTo>
                            <a:lnTo>
                              <a:pt x="196" y="113"/>
                            </a:lnTo>
                            <a:lnTo>
                              <a:pt x="196" y="117"/>
                            </a:lnTo>
                            <a:lnTo>
                              <a:pt x="196" y="121"/>
                            </a:lnTo>
                            <a:lnTo>
                              <a:pt x="196" y="125"/>
                            </a:lnTo>
                            <a:lnTo>
                              <a:pt x="196" y="129"/>
                            </a:lnTo>
                            <a:lnTo>
                              <a:pt x="196" y="133"/>
                            </a:lnTo>
                            <a:lnTo>
                              <a:pt x="196" y="138"/>
                            </a:lnTo>
                            <a:lnTo>
                              <a:pt x="196" y="140"/>
                            </a:lnTo>
                            <a:lnTo>
                              <a:pt x="194" y="142"/>
                            </a:lnTo>
                            <a:lnTo>
                              <a:pt x="194" y="140"/>
                            </a:lnTo>
                            <a:lnTo>
                              <a:pt x="193" y="135"/>
                            </a:lnTo>
                            <a:lnTo>
                              <a:pt x="193" y="128"/>
                            </a:lnTo>
                            <a:lnTo>
                              <a:pt x="193" y="122"/>
                            </a:lnTo>
                            <a:lnTo>
                              <a:pt x="193" y="118"/>
                            </a:lnTo>
                            <a:lnTo>
                              <a:pt x="193" y="112"/>
                            </a:lnTo>
                            <a:lnTo>
                              <a:pt x="191" y="106"/>
                            </a:lnTo>
                            <a:lnTo>
                              <a:pt x="191" y="101"/>
                            </a:lnTo>
                            <a:lnTo>
                              <a:pt x="191" y="95"/>
                            </a:lnTo>
                            <a:lnTo>
                              <a:pt x="190" y="92"/>
                            </a:lnTo>
                            <a:lnTo>
                              <a:pt x="190" y="88"/>
                            </a:lnTo>
                            <a:lnTo>
                              <a:pt x="190" y="85"/>
                            </a:lnTo>
                            <a:lnTo>
                              <a:pt x="190" y="84"/>
                            </a:lnTo>
                            <a:lnTo>
                              <a:pt x="188" y="79"/>
                            </a:lnTo>
                            <a:lnTo>
                              <a:pt x="188" y="73"/>
                            </a:lnTo>
                            <a:lnTo>
                              <a:pt x="188" y="69"/>
                            </a:lnTo>
                            <a:lnTo>
                              <a:pt x="188" y="63"/>
                            </a:lnTo>
                            <a:lnTo>
                              <a:pt x="188" y="59"/>
                            </a:lnTo>
                            <a:lnTo>
                              <a:pt x="188" y="55"/>
                            </a:lnTo>
                            <a:lnTo>
                              <a:pt x="188" y="50"/>
                            </a:lnTo>
                            <a:lnTo>
                              <a:pt x="188" y="46"/>
                            </a:lnTo>
                            <a:lnTo>
                              <a:pt x="188" y="40"/>
                            </a:lnTo>
                            <a:lnTo>
                              <a:pt x="190" y="36"/>
                            </a:lnTo>
                            <a:lnTo>
                              <a:pt x="190" y="31"/>
                            </a:lnTo>
                            <a:lnTo>
                              <a:pt x="190" y="25"/>
                            </a:lnTo>
                            <a:lnTo>
                              <a:pt x="190" y="20"/>
                            </a:lnTo>
                            <a:lnTo>
                              <a:pt x="190" y="14"/>
                            </a:lnTo>
                            <a:lnTo>
                              <a:pt x="171" y="14"/>
                            </a:lnTo>
                            <a:lnTo>
                              <a:pt x="171" y="17"/>
                            </a:lnTo>
                            <a:lnTo>
                              <a:pt x="171" y="21"/>
                            </a:lnTo>
                            <a:lnTo>
                              <a:pt x="171" y="25"/>
                            </a:lnTo>
                            <a:lnTo>
                              <a:pt x="171" y="29"/>
                            </a:lnTo>
                            <a:lnTo>
                              <a:pt x="171" y="32"/>
                            </a:lnTo>
                            <a:lnTo>
                              <a:pt x="171" y="36"/>
                            </a:lnTo>
                            <a:lnTo>
                              <a:pt x="171" y="40"/>
                            </a:lnTo>
                            <a:lnTo>
                              <a:pt x="171" y="44"/>
                            </a:lnTo>
                            <a:lnTo>
                              <a:pt x="171" y="47"/>
                            </a:lnTo>
                            <a:lnTo>
                              <a:pt x="171" y="52"/>
                            </a:lnTo>
                            <a:lnTo>
                              <a:pt x="171" y="55"/>
                            </a:lnTo>
                            <a:lnTo>
                              <a:pt x="171" y="59"/>
                            </a:lnTo>
                            <a:lnTo>
                              <a:pt x="171" y="63"/>
                            </a:lnTo>
                            <a:lnTo>
                              <a:pt x="171" y="68"/>
                            </a:lnTo>
                            <a:lnTo>
                              <a:pt x="171" y="72"/>
                            </a:lnTo>
                            <a:lnTo>
                              <a:pt x="173" y="76"/>
                            </a:lnTo>
                            <a:lnTo>
                              <a:pt x="173" y="79"/>
                            </a:lnTo>
                            <a:lnTo>
                              <a:pt x="173" y="83"/>
                            </a:lnTo>
                            <a:lnTo>
                              <a:pt x="173" y="87"/>
                            </a:lnTo>
                            <a:lnTo>
                              <a:pt x="173" y="91"/>
                            </a:lnTo>
                            <a:lnTo>
                              <a:pt x="173" y="94"/>
                            </a:lnTo>
                            <a:lnTo>
                              <a:pt x="174" y="98"/>
                            </a:lnTo>
                            <a:lnTo>
                              <a:pt x="174" y="102"/>
                            </a:lnTo>
                            <a:lnTo>
                              <a:pt x="174" y="106"/>
                            </a:lnTo>
                            <a:lnTo>
                              <a:pt x="174" y="109"/>
                            </a:lnTo>
                            <a:lnTo>
                              <a:pt x="174" y="113"/>
                            </a:lnTo>
                            <a:lnTo>
                              <a:pt x="174" y="116"/>
                            </a:lnTo>
                            <a:lnTo>
                              <a:pt x="174" y="120"/>
                            </a:lnTo>
                            <a:lnTo>
                              <a:pt x="174" y="124"/>
                            </a:lnTo>
                            <a:lnTo>
                              <a:pt x="176" y="127"/>
                            </a:lnTo>
                            <a:lnTo>
                              <a:pt x="176" y="131"/>
                            </a:lnTo>
                            <a:lnTo>
                              <a:pt x="176" y="133"/>
                            </a:lnTo>
                            <a:lnTo>
                              <a:pt x="176" y="136"/>
                            </a:lnTo>
                            <a:lnTo>
                              <a:pt x="176" y="139"/>
                            </a:lnTo>
                            <a:lnTo>
                              <a:pt x="176" y="143"/>
                            </a:lnTo>
                            <a:lnTo>
                              <a:pt x="176" y="149"/>
                            </a:lnTo>
                            <a:lnTo>
                              <a:pt x="176" y="153"/>
                            </a:lnTo>
                            <a:lnTo>
                              <a:pt x="176" y="160"/>
                            </a:lnTo>
                            <a:lnTo>
                              <a:pt x="176" y="162"/>
                            </a:lnTo>
                            <a:lnTo>
                              <a:pt x="176" y="165"/>
                            </a:lnTo>
                            <a:lnTo>
                              <a:pt x="176" y="168"/>
                            </a:lnTo>
                            <a:lnTo>
                              <a:pt x="176" y="172"/>
                            </a:lnTo>
                            <a:lnTo>
                              <a:pt x="176" y="177"/>
                            </a:lnTo>
                            <a:lnTo>
                              <a:pt x="176" y="183"/>
                            </a:lnTo>
                            <a:lnTo>
                              <a:pt x="174" y="187"/>
                            </a:lnTo>
                            <a:lnTo>
                              <a:pt x="174" y="192"/>
                            </a:lnTo>
                            <a:lnTo>
                              <a:pt x="174" y="198"/>
                            </a:lnTo>
                            <a:lnTo>
                              <a:pt x="173" y="202"/>
                            </a:lnTo>
                            <a:lnTo>
                              <a:pt x="171" y="205"/>
                            </a:lnTo>
                            <a:lnTo>
                              <a:pt x="171" y="206"/>
                            </a:lnTo>
                            <a:lnTo>
                              <a:pt x="170" y="201"/>
                            </a:lnTo>
                            <a:lnTo>
                              <a:pt x="170" y="195"/>
                            </a:lnTo>
                            <a:lnTo>
                              <a:pt x="168" y="188"/>
                            </a:lnTo>
                            <a:lnTo>
                              <a:pt x="168" y="183"/>
                            </a:lnTo>
                            <a:lnTo>
                              <a:pt x="168" y="180"/>
                            </a:lnTo>
                            <a:lnTo>
                              <a:pt x="168" y="177"/>
                            </a:lnTo>
                            <a:lnTo>
                              <a:pt x="167" y="173"/>
                            </a:lnTo>
                            <a:lnTo>
                              <a:pt x="167" y="171"/>
                            </a:lnTo>
                            <a:lnTo>
                              <a:pt x="167" y="165"/>
                            </a:lnTo>
                            <a:lnTo>
                              <a:pt x="167" y="160"/>
                            </a:lnTo>
                            <a:lnTo>
                              <a:pt x="167" y="155"/>
                            </a:lnTo>
                            <a:lnTo>
                              <a:pt x="167" y="153"/>
                            </a:lnTo>
                            <a:lnTo>
                              <a:pt x="167" y="149"/>
                            </a:lnTo>
                            <a:lnTo>
                              <a:pt x="167" y="146"/>
                            </a:lnTo>
                            <a:lnTo>
                              <a:pt x="167" y="143"/>
                            </a:lnTo>
                            <a:lnTo>
                              <a:pt x="167" y="140"/>
                            </a:lnTo>
                            <a:lnTo>
                              <a:pt x="167" y="136"/>
                            </a:lnTo>
                            <a:lnTo>
                              <a:pt x="167" y="133"/>
                            </a:lnTo>
                            <a:lnTo>
                              <a:pt x="167" y="131"/>
                            </a:lnTo>
                            <a:lnTo>
                              <a:pt x="167" y="128"/>
                            </a:lnTo>
                            <a:lnTo>
                              <a:pt x="167" y="124"/>
                            </a:lnTo>
                            <a:lnTo>
                              <a:pt x="167" y="121"/>
                            </a:lnTo>
                            <a:lnTo>
                              <a:pt x="167" y="118"/>
                            </a:lnTo>
                            <a:lnTo>
                              <a:pt x="167" y="116"/>
                            </a:lnTo>
                            <a:lnTo>
                              <a:pt x="167" y="112"/>
                            </a:lnTo>
                            <a:lnTo>
                              <a:pt x="168" y="109"/>
                            </a:lnTo>
                            <a:lnTo>
                              <a:pt x="168" y="106"/>
                            </a:lnTo>
                            <a:lnTo>
                              <a:pt x="168" y="102"/>
                            </a:lnTo>
                            <a:lnTo>
                              <a:pt x="168" y="99"/>
                            </a:lnTo>
                            <a:lnTo>
                              <a:pt x="168" y="95"/>
                            </a:lnTo>
                            <a:lnTo>
                              <a:pt x="168" y="92"/>
                            </a:lnTo>
                            <a:lnTo>
                              <a:pt x="168" y="90"/>
                            </a:lnTo>
                            <a:lnTo>
                              <a:pt x="168" y="85"/>
                            </a:lnTo>
                            <a:lnTo>
                              <a:pt x="168" y="83"/>
                            </a:lnTo>
                            <a:lnTo>
                              <a:pt x="168" y="80"/>
                            </a:lnTo>
                            <a:lnTo>
                              <a:pt x="168" y="76"/>
                            </a:lnTo>
                            <a:lnTo>
                              <a:pt x="168" y="73"/>
                            </a:lnTo>
                            <a:lnTo>
                              <a:pt x="168" y="70"/>
                            </a:lnTo>
                            <a:lnTo>
                              <a:pt x="168" y="66"/>
                            </a:lnTo>
                            <a:lnTo>
                              <a:pt x="168" y="63"/>
                            </a:lnTo>
                            <a:lnTo>
                              <a:pt x="168" y="61"/>
                            </a:lnTo>
                            <a:lnTo>
                              <a:pt x="168" y="58"/>
                            </a:lnTo>
                            <a:lnTo>
                              <a:pt x="167" y="54"/>
                            </a:lnTo>
                            <a:lnTo>
                              <a:pt x="167" y="51"/>
                            </a:lnTo>
                            <a:lnTo>
                              <a:pt x="167" y="48"/>
                            </a:lnTo>
                            <a:lnTo>
                              <a:pt x="167" y="46"/>
                            </a:lnTo>
                            <a:lnTo>
                              <a:pt x="167" y="39"/>
                            </a:lnTo>
                            <a:lnTo>
                              <a:pt x="167" y="33"/>
                            </a:lnTo>
                            <a:lnTo>
                              <a:pt x="165" y="28"/>
                            </a:lnTo>
                            <a:lnTo>
                              <a:pt x="165" y="22"/>
                            </a:lnTo>
                            <a:lnTo>
                              <a:pt x="165" y="17"/>
                            </a:lnTo>
                            <a:lnTo>
                              <a:pt x="164" y="11"/>
                            </a:lnTo>
                            <a:lnTo>
                              <a:pt x="162" y="10"/>
                            </a:lnTo>
                            <a:lnTo>
                              <a:pt x="161" y="14"/>
                            </a:lnTo>
                            <a:lnTo>
                              <a:pt x="157" y="17"/>
                            </a:lnTo>
                            <a:lnTo>
                              <a:pt x="156" y="18"/>
                            </a:lnTo>
                            <a:lnTo>
                              <a:pt x="154" y="20"/>
                            </a:lnTo>
                            <a:lnTo>
                              <a:pt x="154" y="22"/>
                            </a:lnTo>
                            <a:lnTo>
                              <a:pt x="153" y="26"/>
                            </a:lnTo>
                            <a:lnTo>
                              <a:pt x="153" y="29"/>
                            </a:lnTo>
                            <a:lnTo>
                              <a:pt x="153" y="32"/>
                            </a:lnTo>
                            <a:lnTo>
                              <a:pt x="153" y="36"/>
                            </a:lnTo>
                            <a:lnTo>
                              <a:pt x="153" y="39"/>
                            </a:lnTo>
                            <a:lnTo>
                              <a:pt x="153" y="43"/>
                            </a:lnTo>
                            <a:lnTo>
                              <a:pt x="156" y="105"/>
                            </a:lnTo>
                            <a:lnTo>
                              <a:pt x="156" y="109"/>
                            </a:lnTo>
                            <a:lnTo>
                              <a:pt x="156" y="114"/>
                            </a:lnTo>
                            <a:lnTo>
                              <a:pt x="156" y="120"/>
                            </a:lnTo>
                            <a:lnTo>
                              <a:pt x="156" y="125"/>
                            </a:lnTo>
                            <a:lnTo>
                              <a:pt x="156" y="129"/>
                            </a:lnTo>
                            <a:lnTo>
                              <a:pt x="156" y="135"/>
                            </a:lnTo>
                            <a:lnTo>
                              <a:pt x="156" y="140"/>
                            </a:lnTo>
                            <a:lnTo>
                              <a:pt x="156" y="144"/>
                            </a:lnTo>
                            <a:lnTo>
                              <a:pt x="154" y="150"/>
                            </a:lnTo>
                            <a:lnTo>
                              <a:pt x="154" y="155"/>
                            </a:lnTo>
                            <a:lnTo>
                              <a:pt x="154" y="160"/>
                            </a:lnTo>
                            <a:lnTo>
                              <a:pt x="154" y="165"/>
                            </a:lnTo>
                            <a:lnTo>
                              <a:pt x="153" y="171"/>
                            </a:lnTo>
                            <a:lnTo>
                              <a:pt x="153" y="175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3" y="512"/>
                            </a:lnTo>
                            <a:lnTo>
                              <a:pt x="78" y="515"/>
                            </a:lnTo>
                            <a:lnTo>
                              <a:pt x="73" y="66"/>
                            </a:lnTo>
                            <a:lnTo>
                              <a:pt x="72" y="62"/>
                            </a:lnTo>
                            <a:lnTo>
                              <a:pt x="72" y="59"/>
                            </a:lnTo>
                            <a:lnTo>
                              <a:pt x="72" y="57"/>
                            </a:lnTo>
                            <a:lnTo>
                              <a:pt x="72" y="54"/>
                            </a:lnTo>
                            <a:lnTo>
                              <a:pt x="70" y="50"/>
                            </a:lnTo>
                            <a:lnTo>
                              <a:pt x="70" y="47"/>
                            </a:lnTo>
                            <a:lnTo>
                              <a:pt x="69" y="43"/>
                            </a:lnTo>
                            <a:lnTo>
                              <a:pt x="69" y="40"/>
                            </a:lnTo>
                            <a:lnTo>
                              <a:pt x="69" y="37"/>
                            </a:lnTo>
                            <a:lnTo>
                              <a:pt x="69" y="33"/>
                            </a:lnTo>
                            <a:lnTo>
                              <a:pt x="67" y="31"/>
                            </a:lnTo>
                            <a:lnTo>
                              <a:pt x="67" y="28"/>
                            </a:lnTo>
                            <a:lnTo>
                              <a:pt x="66" y="21"/>
                            </a:lnTo>
                            <a:lnTo>
                              <a:pt x="66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1" name="Freeform 111"/>
                      <p:cNvSpPr/>
                      <p:nvPr/>
                    </p:nvSpPr>
                    <p:spPr>
                      <a:xfrm>
                        <a:off x="2974680" y="2621880"/>
                        <a:ext cx="1080" cy="17640"/>
                      </a:xfrm>
                      <a:custGeom>
                        <a:avLst/>
                        <a:gdLst>
                          <a:gd name="textAreaLeft" fmla="*/ 0 w 1080"/>
                          <a:gd name="textAreaRight" fmla="*/ 1440 w 1080"/>
                          <a:gd name="textAreaTop" fmla="*/ 0 h 17640"/>
                          <a:gd name="textAreaBottom" fmla="*/ 18000 h 17640"/>
                        </a:gdLst>
                        <a:ahLst/>
                        <a:rect l="textAreaLeft" t="textAreaTop" r="textAreaRight" b="textAreaBottom"/>
                        <a:pathLst>
                          <a:path w="12" h="178">
                            <a:moveTo>
                              <a:pt x="4" y="176"/>
                            </a:moveTo>
                            <a:lnTo>
                              <a:pt x="7" y="178"/>
                            </a:lnTo>
                            <a:lnTo>
                              <a:pt x="9" y="176"/>
                            </a:lnTo>
                            <a:lnTo>
                              <a:pt x="9" y="175"/>
                            </a:lnTo>
                            <a:lnTo>
                              <a:pt x="9" y="172"/>
                            </a:lnTo>
                            <a:lnTo>
                              <a:pt x="9" y="167"/>
                            </a:lnTo>
                            <a:lnTo>
                              <a:pt x="9" y="161"/>
                            </a:lnTo>
                            <a:lnTo>
                              <a:pt x="9" y="156"/>
                            </a:lnTo>
                            <a:lnTo>
                              <a:pt x="9" y="150"/>
                            </a:lnTo>
                            <a:lnTo>
                              <a:pt x="9" y="145"/>
                            </a:lnTo>
                            <a:lnTo>
                              <a:pt x="9" y="139"/>
                            </a:lnTo>
                            <a:lnTo>
                              <a:pt x="9" y="134"/>
                            </a:lnTo>
                            <a:lnTo>
                              <a:pt x="10" y="129"/>
                            </a:lnTo>
                            <a:lnTo>
                              <a:pt x="10" y="124"/>
                            </a:lnTo>
                            <a:lnTo>
                              <a:pt x="10" y="118"/>
                            </a:lnTo>
                            <a:lnTo>
                              <a:pt x="10" y="112"/>
                            </a:lnTo>
                            <a:lnTo>
                              <a:pt x="10" y="108"/>
                            </a:lnTo>
                            <a:lnTo>
                              <a:pt x="10" y="102"/>
                            </a:lnTo>
                            <a:lnTo>
                              <a:pt x="10" y="97"/>
                            </a:lnTo>
                            <a:lnTo>
                              <a:pt x="10" y="91"/>
                            </a:lnTo>
                            <a:lnTo>
                              <a:pt x="12" y="86"/>
                            </a:lnTo>
                            <a:lnTo>
                              <a:pt x="12" y="80"/>
                            </a:lnTo>
                            <a:lnTo>
                              <a:pt x="12" y="75"/>
                            </a:lnTo>
                            <a:lnTo>
                              <a:pt x="12" y="69"/>
                            </a:lnTo>
                            <a:lnTo>
                              <a:pt x="12" y="64"/>
                            </a:lnTo>
                            <a:lnTo>
                              <a:pt x="12" y="58"/>
                            </a:lnTo>
                            <a:lnTo>
                              <a:pt x="12" y="53"/>
                            </a:lnTo>
                            <a:lnTo>
                              <a:pt x="12" y="47"/>
                            </a:lnTo>
                            <a:lnTo>
                              <a:pt x="12" y="43"/>
                            </a:lnTo>
                            <a:lnTo>
                              <a:pt x="12" y="38"/>
                            </a:lnTo>
                            <a:lnTo>
                              <a:pt x="12" y="31"/>
                            </a:lnTo>
                            <a:lnTo>
                              <a:pt x="12" y="25"/>
                            </a:lnTo>
                            <a:lnTo>
                              <a:pt x="12" y="21"/>
                            </a:lnTo>
                            <a:lnTo>
                              <a:pt x="12" y="16"/>
                            </a:lnTo>
                            <a:lnTo>
                              <a:pt x="12" y="10"/>
                            </a:lnTo>
                            <a:lnTo>
                              <a:pt x="12" y="5"/>
                            </a:lnTo>
                            <a:lnTo>
                              <a:pt x="12" y="0"/>
                            </a:lnTo>
                            <a:lnTo>
                              <a:pt x="12" y="5"/>
                            </a:lnTo>
                            <a:lnTo>
                              <a:pt x="10" y="9"/>
                            </a:lnTo>
                            <a:lnTo>
                              <a:pt x="9" y="11"/>
                            </a:lnTo>
                            <a:lnTo>
                              <a:pt x="9" y="16"/>
                            </a:lnTo>
                            <a:lnTo>
                              <a:pt x="9" y="18"/>
                            </a:lnTo>
                            <a:lnTo>
                              <a:pt x="9" y="22"/>
                            </a:lnTo>
                            <a:lnTo>
                              <a:pt x="9" y="28"/>
                            </a:lnTo>
                            <a:lnTo>
                              <a:pt x="7" y="29"/>
                            </a:lnTo>
                            <a:lnTo>
                              <a:pt x="7" y="33"/>
                            </a:lnTo>
                            <a:lnTo>
                              <a:pt x="7" y="36"/>
                            </a:lnTo>
                            <a:lnTo>
                              <a:pt x="7" y="40"/>
                            </a:lnTo>
                            <a:lnTo>
                              <a:pt x="6" y="43"/>
                            </a:lnTo>
                            <a:lnTo>
                              <a:pt x="6" y="47"/>
                            </a:lnTo>
                            <a:lnTo>
                              <a:pt x="6" y="51"/>
                            </a:lnTo>
                            <a:lnTo>
                              <a:pt x="6" y="55"/>
                            </a:lnTo>
                            <a:lnTo>
                              <a:pt x="6" y="59"/>
                            </a:lnTo>
                            <a:lnTo>
                              <a:pt x="4" y="62"/>
                            </a:lnTo>
                            <a:lnTo>
                              <a:pt x="4" y="66"/>
                            </a:lnTo>
                            <a:lnTo>
                              <a:pt x="4" y="70"/>
                            </a:lnTo>
                            <a:lnTo>
                              <a:pt x="3" y="73"/>
                            </a:lnTo>
                            <a:lnTo>
                              <a:pt x="3" y="77"/>
                            </a:lnTo>
                            <a:lnTo>
                              <a:pt x="3" y="81"/>
                            </a:lnTo>
                            <a:lnTo>
                              <a:pt x="3" y="84"/>
                            </a:lnTo>
                            <a:lnTo>
                              <a:pt x="1" y="91"/>
                            </a:lnTo>
                            <a:lnTo>
                              <a:pt x="1" y="95"/>
                            </a:lnTo>
                            <a:lnTo>
                              <a:pt x="1" y="99"/>
                            </a:lnTo>
                            <a:lnTo>
                              <a:pt x="1" y="102"/>
                            </a:lnTo>
                            <a:lnTo>
                              <a:pt x="1" y="106"/>
                            </a:lnTo>
                            <a:lnTo>
                              <a:pt x="0" y="110"/>
                            </a:lnTo>
                            <a:lnTo>
                              <a:pt x="0" y="114"/>
                            </a:lnTo>
                            <a:lnTo>
                              <a:pt x="0" y="120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1" y="134"/>
                            </a:lnTo>
                            <a:lnTo>
                              <a:pt x="1" y="139"/>
                            </a:lnTo>
                            <a:lnTo>
                              <a:pt x="1" y="143"/>
                            </a:lnTo>
                            <a:lnTo>
                              <a:pt x="1" y="149"/>
                            </a:lnTo>
                            <a:lnTo>
                              <a:pt x="3" y="153"/>
                            </a:lnTo>
                            <a:lnTo>
                              <a:pt x="3" y="158"/>
                            </a:lnTo>
                            <a:lnTo>
                              <a:pt x="3" y="162"/>
                            </a:lnTo>
                            <a:lnTo>
                              <a:pt x="4" y="168"/>
                            </a:lnTo>
                            <a:lnTo>
                              <a:pt x="4" y="172"/>
                            </a:lnTo>
                            <a:lnTo>
                              <a:pt x="4" y="1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2" name="Freeform 112"/>
                      <p:cNvSpPr/>
                      <p:nvPr/>
                    </p:nvSpPr>
                    <p:spPr>
                      <a:xfrm>
                        <a:off x="2985480" y="2622960"/>
                        <a:ext cx="720" cy="15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2" h="161">
                            <a:moveTo>
                              <a:pt x="12" y="0"/>
                            </a:moveTo>
                            <a:lnTo>
                              <a:pt x="11" y="5"/>
                            </a:lnTo>
                            <a:lnTo>
                              <a:pt x="11" y="10"/>
                            </a:lnTo>
                            <a:lnTo>
                              <a:pt x="9" y="16"/>
                            </a:lnTo>
                            <a:lnTo>
                              <a:pt x="9" y="20"/>
                            </a:lnTo>
                            <a:lnTo>
                              <a:pt x="9" y="25"/>
                            </a:lnTo>
                            <a:lnTo>
                              <a:pt x="9" y="31"/>
                            </a:lnTo>
                            <a:lnTo>
                              <a:pt x="9" y="36"/>
                            </a:lnTo>
                            <a:lnTo>
                              <a:pt x="9" y="40"/>
                            </a:lnTo>
                            <a:lnTo>
                              <a:pt x="9" y="46"/>
                            </a:lnTo>
                            <a:lnTo>
                              <a:pt x="9" y="51"/>
                            </a:lnTo>
                            <a:lnTo>
                              <a:pt x="9" y="55"/>
                            </a:lnTo>
                            <a:lnTo>
                              <a:pt x="9" y="61"/>
                            </a:lnTo>
                            <a:lnTo>
                              <a:pt x="8" y="66"/>
                            </a:lnTo>
                            <a:lnTo>
                              <a:pt x="8" y="70"/>
                            </a:lnTo>
                            <a:lnTo>
                              <a:pt x="8" y="76"/>
                            </a:lnTo>
                            <a:lnTo>
                              <a:pt x="8" y="81"/>
                            </a:lnTo>
                            <a:lnTo>
                              <a:pt x="8" y="86"/>
                            </a:lnTo>
                            <a:lnTo>
                              <a:pt x="8" y="91"/>
                            </a:lnTo>
                            <a:lnTo>
                              <a:pt x="6" y="97"/>
                            </a:lnTo>
                            <a:lnTo>
                              <a:pt x="6" y="101"/>
                            </a:lnTo>
                            <a:lnTo>
                              <a:pt x="6" y="106"/>
                            </a:lnTo>
                            <a:lnTo>
                              <a:pt x="6" y="112"/>
                            </a:lnTo>
                            <a:lnTo>
                              <a:pt x="6" y="116"/>
                            </a:lnTo>
                            <a:lnTo>
                              <a:pt x="6" y="121"/>
                            </a:lnTo>
                            <a:lnTo>
                              <a:pt x="5" y="125"/>
                            </a:lnTo>
                            <a:lnTo>
                              <a:pt x="5" y="131"/>
                            </a:lnTo>
                            <a:lnTo>
                              <a:pt x="3" y="136"/>
                            </a:lnTo>
                            <a:lnTo>
                              <a:pt x="3" y="140"/>
                            </a:lnTo>
                            <a:lnTo>
                              <a:pt x="2" y="146"/>
                            </a:lnTo>
                            <a:lnTo>
                              <a:pt x="2" y="151"/>
                            </a:lnTo>
                            <a:lnTo>
                              <a:pt x="0" y="157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0" y="150"/>
                            </a:lnTo>
                            <a:lnTo>
                              <a:pt x="0" y="146"/>
                            </a:lnTo>
                            <a:lnTo>
                              <a:pt x="0" y="140"/>
                            </a:lnTo>
                            <a:lnTo>
                              <a:pt x="0" y="136"/>
                            </a:lnTo>
                            <a:lnTo>
                              <a:pt x="2" y="131"/>
                            </a:lnTo>
                            <a:lnTo>
                              <a:pt x="2" y="128"/>
                            </a:lnTo>
                            <a:lnTo>
                              <a:pt x="2" y="125"/>
                            </a:lnTo>
                            <a:lnTo>
                              <a:pt x="2" y="121"/>
                            </a:lnTo>
                            <a:lnTo>
                              <a:pt x="2" y="118"/>
                            </a:lnTo>
                            <a:lnTo>
                              <a:pt x="2" y="116"/>
                            </a:lnTo>
                            <a:lnTo>
                              <a:pt x="2" y="112"/>
                            </a:lnTo>
                            <a:lnTo>
                              <a:pt x="2" y="109"/>
                            </a:lnTo>
                            <a:lnTo>
                              <a:pt x="2" y="106"/>
                            </a:lnTo>
                            <a:lnTo>
                              <a:pt x="2" y="102"/>
                            </a:lnTo>
                            <a:lnTo>
                              <a:pt x="2" y="98"/>
                            </a:lnTo>
                            <a:lnTo>
                              <a:pt x="2" y="95"/>
                            </a:lnTo>
                            <a:lnTo>
                              <a:pt x="3" y="92"/>
                            </a:lnTo>
                            <a:lnTo>
                              <a:pt x="3" y="88"/>
                            </a:lnTo>
                            <a:lnTo>
                              <a:pt x="3" y="86"/>
                            </a:lnTo>
                            <a:lnTo>
                              <a:pt x="3" y="81"/>
                            </a:lnTo>
                            <a:lnTo>
                              <a:pt x="3" y="79"/>
                            </a:lnTo>
                            <a:lnTo>
                              <a:pt x="3" y="75"/>
                            </a:lnTo>
                            <a:lnTo>
                              <a:pt x="3" y="70"/>
                            </a:lnTo>
                            <a:lnTo>
                              <a:pt x="3" y="68"/>
                            </a:lnTo>
                            <a:lnTo>
                              <a:pt x="3" y="64"/>
                            </a:lnTo>
                            <a:lnTo>
                              <a:pt x="3" y="61"/>
                            </a:lnTo>
                            <a:lnTo>
                              <a:pt x="5" y="57"/>
                            </a:lnTo>
                            <a:lnTo>
                              <a:pt x="5" y="54"/>
                            </a:lnTo>
                            <a:lnTo>
                              <a:pt x="5" y="50"/>
                            </a:lnTo>
                            <a:lnTo>
                              <a:pt x="5" y="47"/>
                            </a:lnTo>
                            <a:lnTo>
                              <a:pt x="5" y="43"/>
                            </a:lnTo>
                            <a:lnTo>
                              <a:pt x="5" y="40"/>
                            </a:lnTo>
                            <a:lnTo>
                              <a:pt x="6" y="37"/>
                            </a:lnTo>
                            <a:lnTo>
                              <a:pt x="6" y="33"/>
                            </a:lnTo>
                            <a:lnTo>
                              <a:pt x="6" y="31"/>
                            </a:lnTo>
                            <a:lnTo>
                              <a:pt x="6" y="28"/>
                            </a:lnTo>
                            <a:lnTo>
                              <a:pt x="6" y="27"/>
                            </a:lnTo>
                            <a:lnTo>
                              <a:pt x="6" y="20"/>
                            </a:lnTo>
                            <a:lnTo>
                              <a:pt x="8" y="16"/>
                            </a:lnTo>
                            <a:lnTo>
                              <a:pt x="8" y="11"/>
                            </a:lnTo>
                            <a:lnTo>
                              <a:pt x="9" y="7"/>
                            </a:ln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1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3" name="Freeform 113"/>
                      <p:cNvSpPr/>
                      <p:nvPr/>
                    </p:nvSpPr>
                    <p:spPr>
                      <a:xfrm>
                        <a:off x="2990520" y="2563200"/>
                        <a:ext cx="52560" cy="194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582" h="195">
                            <a:moveTo>
                              <a:pt x="198" y="136"/>
                            </a:moveTo>
                            <a:lnTo>
                              <a:pt x="199" y="133"/>
                            </a:lnTo>
                            <a:lnTo>
                              <a:pt x="204" y="131"/>
                            </a:lnTo>
                            <a:lnTo>
                              <a:pt x="208" y="125"/>
                            </a:lnTo>
                            <a:lnTo>
                              <a:pt x="216" y="121"/>
                            </a:lnTo>
                            <a:lnTo>
                              <a:pt x="222" y="117"/>
                            </a:lnTo>
                            <a:lnTo>
                              <a:pt x="227" y="113"/>
                            </a:lnTo>
                            <a:lnTo>
                              <a:pt x="231" y="110"/>
                            </a:lnTo>
                            <a:lnTo>
                              <a:pt x="233" y="109"/>
                            </a:lnTo>
                            <a:lnTo>
                              <a:pt x="234" y="107"/>
                            </a:lnTo>
                            <a:lnTo>
                              <a:pt x="238" y="105"/>
                            </a:lnTo>
                            <a:lnTo>
                              <a:pt x="241" y="100"/>
                            </a:lnTo>
                            <a:lnTo>
                              <a:pt x="245" y="98"/>
                            </a:lnTo>
                            <a:lnTo>
                              <a:pt x="250" y="94"/>
                            </a:lnTo>
                            <a:lnTo>
                              <a:pt x="254" y="89"/>
                            </a:lnTo>
                            <a:lnTo>
                              <a:pt x="259" y="85"/>
                            </a:lnTo>
                            <a:lnTo>
                              <a:pt x="265" y="81"/>
                            </a:lnTo>
                            <a:lnTo>
                              <a:pt x="268" y="76"/>
                            </a:lnTo>
                            <a:lnTo>
                              <a:pt x="273" y="70"/>
                            </a:lnTo>
                            <a:lnTo>
                              <a:pt x="277" y="66"/>
                            </a:lnTo>
                            <a:lnTo>
                              <a:pt x="282" y="62"/>
                            </a:lnTo>
                            <a:lnTo>
                              <a:pt x="283" y="56"/>
                            </a:lnTo>
                            <a:lnTo>
                              <a:pt x="286" y="54"/>
                            </a:lnTo>
                            <a:lnTo>
                              <a:pt x="288" y="50"/>
                            </a:lnTo>
                            <a:lnTo>
                              <a:pt x="288" y="48"/>
                            </a:lnTo>
                            <a:lnTo>
                              <a:pt x="286" y="50"/>
                            </a:lnTo>
                            <a:lnTo>
                              <a:pt x="282" y="54"/>
                            </a:lnTo>
                            <a:lnTo>
                              <a:pt x="276" y="59"/>
                            </a:lnTo>
                            <a:lnTo>
                              <a:pt x="274" y="61"/>
                            </a:lnTo>
                            <a:lnTo>
                              <a:pt x="233" y="102"/>
                            </a:lnTo>
                            <a:lnTo>
                              <a:pt x="234" y="98"/>
                            </a:lnTo>
                            <a:lnTo>
                              <a:pt x="236" y="95"/>
                            </a:lnTo>
                            <a:lnTo>
                              <a:pt x="239" y="89"/>
                            </a:lnTo>
                            <a:lnTo>
                              <a:pt x="242" y="85"/>
                            </a:lnTo>
                            <a:lnTo>
                              <a:pt x="245" y="80"/>
                            </a:lnTo>
                            <a:lnTo>
                              <a:pt x="250" y="74"/>
                            </a:lnTo>
                            <a:lnTo>
                              <a:pt x="254" y="69"/>
                            </a:lnTo>
                            <a:lnTo>
                              <a:pt x="259" y="63"/>
                            </a:lnTo>
                            <a:lnTo>
                              <a:pt x="264" y="56"/>
                            </a:lnTo>
                            <a:lnTo>
                              <a:pt x="268" y="51"/>
                            </a:lnTo>
                            <a:lnTo>
                              <a:pt x="271" y="45"/>
                            </a:lnTo>
                            <a:lnTo>
                              <a:pt x="277" y="41"/>
                            </a:lnTo>
                            <a:lnTo>
                              <a:pt x="280" y="36"/>
                            </a:lnTo>
                            <a:lnTo>
                              <a:pt x="285" y="32"/>
                            </a:lnTo>
                            <a:lnTo>
                              <a:pt x="288" y="28"/>
                            </a:lnTo>
                            <a:lnTo>
                              <a:pt x="291" y="25"/>
                            </a:lnTo>
                            <a:lnTo>
                              <a:pt x="288" y="25"/>
                            </a:lnTo>
                            <a:lnTo>
                              <a:pt x="285" y="28"/>
                            </a:lnTo>
                            <a:lnTo>
                              <a:pt x="280" y="29"/>
                            </a:lnTo>
                            <a:lnTo>
                              <a:pt x="276" y="33"/>
                            </a:lnTo>
                            <a:lnTo>
                              <a:pt x="271" y="37"/>
                            </a:lnTo>
                            <a:lnTo>
                              <a:pt x="265" y="41"/>
                            </a:lnTo>
                            <a:lnTo>
                              <a:pt x="259" y="47"/>
                            </a:lnTo>
                            <a:lnTo>
                              <a:pt x="254" y="52"/>
                            </a:lnTo>
                            <a:lnTo>
                              <a:pt x="248" y="56"/>
                            </a:lnTo>
                            <a:lnTo>
                              <a:pt x="242" y="62"/>
                            </a:lnTo>
                            <a:lnTo>
                              <a:pt x="236" y="66"/>
                            </a:lnTo>
                            <a:lnTo>
                              <a:pt x="231" y="72"/>
                            </a:lnTo>
                            <a:lnTo>
                              <a:pt x="227" y="76"/>
                            </a:lnTo>
                            <a:lnTo>
                              <a:pt x="224" y="80"/>
                            </a:lnTo>
                            <a:lnTo>
                              <a:pt x="222" y="81"/>
                            </a:lnTo>
                            <a:lnTo>
                              <a:pt x="221" y="84"/>
                            </a:lnTo>
                            <a:lnTo>
                              <a:pt x="219" y="85"/>
                            </a:lnTo>
                            <a:lnTo>
                              <a:pt x="218" y="87"/>
                            </a:lnTo>
                            <a:lnTo>
                              <a:pt x="215" y="89"/>
                            </a:lnTo>
                            <a:lnTo>
                              <a:pt x="212" y="94"/>
                            </a:lnTo>
                            <a:lnTo>
                              <a:pt x="207" y="95"/>
                            </a:lnTo>
                            <a:lnTo>
                              <a:pt x="204" y="98"/>
                            </a:lnTo>
                            <a:lnTo>
                              <a:pt x="201" y="99"/>
                            </a:lnTo>
                            <a:lnTo>
                              <a:pt x="199" y="100"/>
                            </a:lnTo>
                            <a:lnTo>
                              <a:pt x="204" y="94"/>
                            </a:lnTo>
                            <a:lnTo>
                              <a:pt x="208" y="88"/>
                            </a:lnTo>
                            <a:lnTo>
                              <a:pt x="212" y="84"/>
                            </a:lnTo>
                            <a:lnTo>
                              <a:pt x="216" y="78"/>
                            </a:lnTo>
                            <a:lnTo>
                              <a:pt x="219" y="73"/>
                            </a:lnTo>
                            <a:lnTo>
                              <a:pt x="222" y="69"/>
                            </a:lnTo>
                            <a:lnTo>
                              <a:pt x="225" y="65"/>
                            </a:lnTo>
                            <a:lnTo>
                              <a:pt x="228" y="61"/>
                            </a:lnTo>
                            <a:lnTo>
                              <a:pt x="231" y="55"/>
                            </a:lnTo>
                            <a:lnTo>
                              <a:pt x="236" y="51"/>
                            </a:lnTo>
                            <a:lnTo>
                              <a:pt x="239" y="47"/>
                            </a:lnTo>
                            <a:lnTo>
                              <a:pt x="244" y="43"/>
                            </a:lnTo>
                            <a:lnTo>
                              <a:pt x="248" y="39"/>
                            </a:lnTo>
                            <a:lnTo>
                              <a:pt x="254" y="35"/>
                            </a:lnTo>
                            <a:lnTo>
                              <a:pt x="259" y="30"/>
                            </a:lnTo>
                            <a:lnTo>
                              <a:pt x="265" y="26"/>
                            </a:lnTo>
                            <a:lnTo>
                              <a:pt x="267" y="24"/>
                            </a:lnTo>
                            <a:lnTo>
                              <a:pt x="270" y="21"/>
                            </a:lnTo>
                            <a:lnTo>
                              <a:pt x="273" y="17"/>
                            </a:lnTo>
                            <a:lnTo>
                              <a:pt x="277" y="11"/>
                            </a:lnTo>
                            <a:lnTo>
                              <a:pt x="280" y="7"/>
                            </a:lnTo>
                            <a:lnTo>
                              <a:pt x="283" y="3"/>
                            </a:lnTo>
                            <a:lnTo>
                              <a:pt x="285" y="0"/>
                            </a:lnTo>
                            <a:lnTo>
                              <a:pt x="286" y="0"/>
                            </a:lnTo>
                            <a:lnTo>
                              <a:pt x="283" y="0"/>
                            </a:lnTo>
                            <a:lnTo>
                              <a:pt x="280" y="3"/>
                            </a:lnTo>
                            <a:lnTo>
                              <a:pt x="276" y="6"/>
                            </a:lnTo>
                            <a:lnTo>
                              <a:pt x="271" y="10"/>
                            </a:lnTo>
                            <a:lnTo>
                              <a:pt x="265" y="14"/>
                            </a:lnTo>
                            <a:lnTo>
                              <a:pt x="262" y="17"/>
                            </a:lnTo>
                            <a:lnTo>
                              <a:pt x="259" y="19"/>
                            </a:lnTo>
                            <a:lnTo>
                              <a:pt x="257" y="19"/>
                            </a:lnTo>
                            <a:lnTo>
                              <a:pt x="254" y="22"/>
                            </a:lnTo>
                            <a:lnTo>
                              <a:pt x="250" y="26"/>
                            </a:lnTo>
                            <a:lnTo>
                              <a:pt x="247" y="29"/>
                            </a:lnTo>
                            <a:lnTo>
                              <a:pt x="244" y="32"/>
                            </a:lnTo>
                            <a:lnTo>
                              <a:pt x="239" y="35"/>
                            </a:lnTo>
                            <a:lnTo>
                              <a:pt x="236" y="39"/>
                            </a:lnTo>
                            <a:lnTo>
                              <a:pt x="231" y="41"/>
                            </a:lnTo>
                            <a:lnTo>
                              <a:pt x="227" y="44"/>
                            </a:lnTo>
                            <a:lnTo>
                              <a:pt x="224" y="48"/>
                            </a:lnTo>
                            <a:lnTo>
                              <a:pt x="219" y="52"/>
                            </a:lnTo>
                            <a:lnTo>
                              <a:pt x="215" y="55"/>
                            </a:lnTo>
                            <a:lnTo>
                              <a:pt x="210" y="59"/>
                            </a:lnTo>
                            <a:lnTo>
                              <a:pt x="205" y="62"/>
                            </a:lnTo>
                            <a:lnTo>
                              <a:pt x="202" y="66"/>
                            </a:lnTo>
                            <a:lnTo>
                              <a:pt x="198" y="69"/>
                            </a:lnTo>
                            <a:lnTo>
                              <a:pt x="193" y="72"/>
                            </a:lnTo>
                            <a:lnTo>
                              <a:pt x="189" y="74"/>
                            </a:lnTo>
                            <a:lnTo>
                              <a:pt x="186" y="77"/>
                            </a:lnTo>
                            <a:lnTo>
                              <a:pt x="179" y="80"/>
                            </a:lnTo>
                            <a:lnTo>
                              <a:pt x="175" y="83"/>
                            </a:lnTo>
                            <a:lnTo>
                              <a:pt x="172" y="83"/>
                            </a:lnTo>
                            <a:lnTo>
                              <a:pt x="172" y="81"/>
                            </a:lnTo>
                            <a:lnTo>
                              <a:pt x="172" y="80"/>
                            </a:lnTo>
                            <a:lnTo>
                              <a:pt x="175" y="77"/>
                            </a:lnTo>
                            <a:lnTo>
                              <a:pt x="176" y="73"/>
                            </a:lnTo>
                            <a:lnTo>
                              <a:pt x="179" y="70"/>
                            </a:lnTo>
                            <a:lnTo>
                              <a:pt x="176" y="70"/>
                            </a:lnTo>
                            <a:lnTo>
                              <a:pt x="172" y="73"/>
                            </a:lnTo>
                            <a:lnTo>
                              <a:pt x="166" y="76"/>
                            </a:lnTo>
                            <a:lnTo>
                              <a:pt x="160" y="81"/>
                            </a:lnTo>
                            <a:lnTo>
                              <a:pt x="156" y="83"/>
                            </a:lnTo>
                            <a:lnTo>
                              <a:pt x="152" y="85"/>
                            </a:lnTo>
                            <a:lnTo>
                              <a:pt x="149" y="88"/>
                            </a:lnTo>
                            <a:lnTo>
                              <a:pt x="144" y="92"/>
                            </a:lnTo>
                            <a:lnTo>
                              <a:pt x="141" y="95"/>
                            </a:lnTo>
                            <a:lnTo>
                              <a:pt x="138" y="98"/>
                            </a:lnTo>
                            <a:lnTo>
                              <a:pt x="134" y="100"/>
                            </a:lnTo>
                            <a:lnTo>
                              <a:pt x="130" y="105"/>
                            </a:lnTo>
                            <a:lnTo>
                              <a:pt x="127" y="107"/>
                            </a:lnTo>
                            <a:lnTo>
                              <a:pt x="123" y="110"/>
                            </a:lnTo>
                            <a:lnTo>
                              <a:pt x="120" y="113"/>
                            </a:lnTo>
                            <a:lnTo>
                              <a:pt x="115" y="115"/>
                            </a:lnTo>
                            <a:lnTo>
                              <a:pt x="109" y="121"/>
                            </a:lnTo>
                            <a:lnTo>
                              <a:pt x="103" y="128"/>
                            </a:lnTo>
                            <a:lnTo>
                              <a:pt x="97" y="132"/>
                            </a:lnTo>
                            <a:lnTo>
                              <a:pt x="94" y="136"/>
                            </a:lnTo>
                            <a:lnTo>
                              <a:pt x="91" y="140"/>
                            </a:lnTo>
                            <a:lnTo>
                              <a:pt x="89" y="143"/>
                            </a:lnTo>
                            <a:lnTo>
                              <a:pt x="88" y="143"/>
                            </a:lnTo>
                            <a:lnTo>
                              <a:pt x="86" y="144"/>
                            </a:lnTo>
                            <a:lnTo>
                              <a:pt x="83" y="146"/>
                            </a:lnTo>
                            <a:lnTo>
                              <a:pt x="78" y="150"/>
                            </a:lnTo>
                            <a:lnTo>
                              <a:pt x="72" y="153"/>
                            </a:lnTo>
                            <a:lnTo>
                              <a:pt x="68" y="157"/>
                            </a:lnTo>
                            <a:lnTo>
                              <a:pt x="62" y="159"/>
                            </a:lnTo>
                            <a:lnTo>
                              <a:pt x="56" y="165"/>
                            </a:lnTo>
                            <a:lnTo>
                              <a:pt x="49" y="169"/>
                            </a:lnTo>
                            <a:lnTo>
                              <a:pt x="43" y="172"/>
                            </a:lnTo>
                            <a:lnTo>
                              <a:pt x="37" y="176"/>
                            </a:lnTo>
                            <a:lnTo>
                              <a:pt x="31" y="181"/>
                            </a:lnTo>
                            <a:lnTo>
                              <a:pt x="25" y="184"/>
                            </a:lnTo>
                            <a:lnTo>
                              <a:pt x="22" y="187"/>
                            </a:lnTo>
                            <a:lnTo>
                              <a:pt x="17" y="188"/>
                            </a:lnTo>
                            <a:lnTo>
                              <a:pt x="16" y="191"/>
                            </a:lnTo>
                            <a:lnTo>
                              <a:pt x="13" y="188"/>
                            </a:lnTo>
                            <a:lnTo>
                              <a:pt x="14" y="184"/>
                            </a:lnTo>
                            <a:lnTo>
                              <a:pt x="20" y="181"/>
                            </a:lnTo>
                            <a:lnTo>
                              <a:pt x="22" y="179"/>
                            </a:lnTo>
                            <a:lnTo>
                              <a:pt x="26" y="176"/>
                            </a:lnTo>
                            <a:lnTo>
                              <a:pt x="30" y="175"/>
                            </a:lnTo>
                            <a:lnTo>
                              <a:pt x="34" y="172"/>
                            </a:lnTo>
                            <a:lnTo>
                              <a:pt x="37" y="169"/>
                            </a:lnTo>
                            <a:lnTo>
                              <a:pt x="42" y="168"/>
                            </a:lnTo>
                            <a:lnTo>
                              <a:pt x="45" y="165"/>
                            </a:lnTo>
                            <a:lnTo>
                              <a:pt x="48" y="164"/>
                            </a:lnTo>
                            <a:lnTo>
                              <a:pt x="54" y="159"/>
                            </a:lnTo>
                            <a:lnTo>
                              <a:pt x="59" y="157"/>
                            </a:lnTo>
                            <a:lnTo>
                              <a:pt x="62" y="151"/>
                            </a:lnTo>
                            <a:lnTo>
                              <a:pt x="66" y="146"/>
                            </a:lnTo>
                            <a:lnTo>
                              <a:pt x="71" y="140"/>
                            </a:lnTo>
                            <a:lnTo>
                              <a:pt x="77" y="135"/>
                            </a:lnTo>
                            <a:lnTo>
                              <a:pt x="82" y="128"/>
                            </a:lnTo>
                            <a:lnTo>
                              <a:pt x="88" y="124"/>
                            </a:lnTo>
                            <a:lnTo>
                              <a:pt x="92" y="120"/>
                            </a:lnTo>
                            <a:lnTo>
                              <a:pt x="97" y="118"/>
                            </a:lnTo>
                            <a:lnTo>
                              <a:pt x="100" y="111"/>
                            </a:lnTo>
                            <a:lnTo>
                              <a:pt x="94" y="113"/>
                            </a:lnTo>
                            <a:lnTo>
                              <a:pt x="89" y="115"/>
                            </a:lnTo>
                            <a:lnTo>
                              <a:pt x="83" y="118"/>
                            </a:lnTo>
                            <a:lnTo>
                              <a:pt x="78" y="120"/>
                            </a:lnTo>
                            <a:lnTo>
                              <a:pt x="75" y="124"/>
                            </a:lnTo>
                            <a:lnTo>
                              <a:pt x="72" y="128"/>
                            </a:lnTo>
                            <a:lnTo>
                              <a:pt x="69" y="132"/>
                            </a:lnTo>
                            <a:lnTo>
                              <a:pt x="68" y="135"/>
                            </a:lnTo>
                            <a:lnTo>
                              <a:pt x="62" y="140"/>
                            </a:lnTo>
                            <a:lnTo>
                              <a:pt x="59" y="144"/>
                            </a:lnTo>
                            <a:lnTo>
                              <a:pt x="56" y="147"/>
                            </a:lnTo>
                            <a:lnTo>
                              <a:pt x="51" y="150"/>
                            </a:lnTo>
                            <a:lnTo>
                              <a:pt x="48" y="153"/>
                            </a:lnTo>
                            <a:lnTo>
                              <a:pt x="45" y="155"/>
                            </a:lnTo>
                            <a:lnTo>
                              <a:pt x="40" y="157"/>
                            </a:lnTo>
                            <a:lnTo>
                              <a:pt x="36" y="159"/>
                            </a:lnTo>
                            <a:lnTo>
                              <a:pt x="31" y="162"/>
                            </a:lnTo>
                            <a:lnTo>
                              <a:pt x="26" y="165"/>
                            </a:lnTo>
                            <a:lnTo>
                              <a:pt x="23" y="168"/>
                            </a:lnTo>
                            <a:lnTo>
                              <a:pt x="20" y="170"/>
                            </a:lnTo>
                            <a:lnTo>
                              <a:pt x="17" y="173"/>
                            </a:lnTo>
                            <a:lnTo>
                              <a:pt x="14" y="177"/>
                            </a:lnTo>
                            <a:lnTo>
                              <a:pt x="11" y="180"/>
                            </a:lnTo>
                            <a:lnTo>
                              <a:pt x="8" y="184"/>
                            </a:lnTo>
                            <a:lnTo>
                              <a:pt x="4" y="190"/>
                            </a:lnTo>
                            <a:lnTo>
                              <a:pt x="0" y="195"/>
                            </a:lnTo>
                            <a:lnTo>
                              <a:pt x="8" y="195"/>
                            </a:lnTo>
                            <a:lnTo>
                              <a:pt x="14" y="195"/>
                            </a:lnTo>
                            <a:lnTo>
                              <a:pt x="22" y="195"/>
                            </a:lnTo>
                            <a:lnTo>
                              <a:pt x="30" y="195"/>
                            </a:lnTo>
                            <a:lnTo>
                              <a:pt x="37" y="195"/>
                            </a:lnTo>
                            <a:lnTo>
                              <a:pt x="45" y="195"/>
                            </a:lnTo>
                            <a:lnTo>
                              <a:pt x="51" y="195"/>
                            </a:lnTo>
                            <a:lnTo>
                              <a:pt x="59" y="195"/>
                            </a:lnTo>
                            <a:lnTo>
                              <a:pt x="66" y="194"/>
                            </a:lnTo>
                            <a:lnTo>
                              <a:pt x="74" y="194"/>
                            </a:lnTo>
                            <a:lnTo>
                              <a:pt x="80" y="194"/>
                            </a:lnTo>
                            <a:lnTo>
                              <a:pt x="88" y="194"/>
                            </a:lnTo>
                            <a:lnTo>
                              <a:pt x="95" y="194"/>
                            </a:lnTo>
                            <a:lnTo>
                              <a:pt x="103" y="194"/>
                            </a:lnTo>
                            <a:lnTo>
                              <a:pt x="111" y="192"/>
                            </a:lnTo>
                            <a:lnTo>
                              <a:pt x="117" y="192"/>
                            </a:lnTo>
                            <a:lnTo>
                              <a:pt x="124" y="191"/>
                            </a:lnTo>
                            <a:lnTo>
                              <a:pt x="130" y="191"/>
                            </a:lnTo>
                            <a:lnTo>
                              <a:pt x="138" y="191"/>
                            </a:lnTo>
                            <a:lnTo>
                              <a:pt x="146" y="191"/>
                            </a:lnTo>
                            <a:lnTo>
                              <a:pt x="153" y="190"/>
                            </a:lnTo>
                            <a:lnTo>
                              <a:pt x="160" y="190"/>
                            </a:lnTo>
                            <a:lnTo>
                              <a:pt x="167" y="188"/>
                            </a:lnTo>
                            <a:lnTo>
                              <a:pt x="175" y="188"/>
                            </a:lnTo>
                            <a:lnTo>
                              <a:pt x="182" y="187"/>
                            </a:lnTo>
                            <a:lnTo>
                              <a:pt x="189" y="187"/>
                            </a:lnTo>
                            <a:lnTo>
                              <a:pt x="196" y="186"/>
                            </a:lnTo>
                            <a:lnTo>
                              <a:pt x="204" y="186"/>
                            </a:lnTo>
                            <a:lnTo>
                              <a:pt x="212" y="184"/>
                            </a:lnTo>
                            <a:lnTo>
                              <a:pt x="219" y="184"/>
                            </a:lnTo>
                            <a:lnTo>
                              <a:pt x="227" y="184"/>
                            </a:lnTo>
                            <a:lnTo>
                              <a:pt x="234" y="184"/>
                            </a:lnTo>
                            <a:lnTo>
                              <a:pt x="242" y="183"/>
                            </a:lnTo>
                            <a:lnTo>
                              <a:pt x="250" y="181"/>
                            </a:lnTo>
                            <a:lnTo>
                              <a:pt x="257" y="181"/>
                            </a:lnTo>
                            <a:lnTo>
                              <a:pt x="265" y="181"/>
                            </a:lnTo>
                            <a:lnTo>
                              <a:pt x="273" y="180"/>
                            </a:lnTo>
                            <a:lnTo>
                              <a:pt x="280" y="180"/>
                            </a:lnTo>
                            <a:lnTo>
                              <a:pt x="288" y="179"/>
                            </a:lnTo>
                            <a:lnTo>
                              <a:pt x="296" y="179"/>
                            </a:lnTo>
                            <a:lnTo>
                              <a:pt x="303" y="177"/>
                            </a:lnTo>
                            <a:lnTo>
                              <a:pt x="312" y="177"/>
                            </a:lnTo>
                            <a:lnTo>
                              <a:pt x="320" y="177"/>
                            </a:lnTo>
                            <a:lnTo>
                              <a:pt x="328" y="177"/>
                            </a:lnTo>
                            <a:lnTo>
                              <a:pt x="337" y="176"/>
                            </a:lnTo>
                            <a:lnTo>
                              <a:pt x="345" y="176"/>
                            </a:lnTo>
                            <a:lnTo>
                              <a:pt x="354" y="175"/>
                            </a:lnTo>
                            <a:lnTo>
                              <a:pt x="363" y="175"/>
                            </a:lnTo>
                            <a:lnTo>
                              <a:pt x="371" y="175"/>
                            </a:lnTo>
                            <a:lnTo>
                              <a:pt x="380" y="175"/>
                            </a:lnTo>
                            <a:lnTo>
                              <a:pt x="387" y="173"/>
                            </a:lnTo>
                            <a:lnTo>
                              <a:pt x="398" y="173"/>
                            </a:lnTo>
                            <a:lnTo>
                              <a:pt x="406" y="173"/>
                            </a:lnTo>
                            <a:lnTo>
                              <a:pt x="415" y="173"/>
                            </a:lnTo>
                            <a:lnTo>
                              <a:pt x="426" y="173"/>
                            </a:lnTo>
                            <a:lnTo>
                              <a:pt x="435" y="173"/>
                            </a:lnTo>
                            <a:lnTo>
                              <a:pt x="444" y="173"/>
                            </a:lnTo>
                            <a:lnTo>
                              <a:pt x="453" y="173"/>
                            </a:lnTo>
                            <a:lnTo>
                              <a:pt x="462" y="173"/>
                            </a:lnTo>
                            <a:lnTo>
                              <a:pt x="473" y="173"/>
                            </a:lnTo>
                            <a:lnTo>
                              <a:pt x="482" y="173"/>
                            </a:lnTo>
                            <a:lnTo>
                              <a:pt x="493" y="173"/>
                            </a:lnTo>
                            <a:lnTo>
                              <a:pt x="502" y="175"/>
                            </a:lnTo>
                            <a:lnTo>
                              <a:pt x="513" y="175"/>
                            </a:lnTo>
                            <a:lnTo>
                              <a:pt x="470" y="184"/>
                            </a:lnTo>
                            <a:lnTo>
                              <a:pt x="478" y="183"/>
                            </a:lnTo>
                            <a:lnTo>
                              <a:pt x="484" y="183"/>
                            </a:lnTo>
                            <a:lnTo>
                              <a:pt x="490" y="183"/>
                            </a:lnTo>
                            <a:lnTo>
                              <a:pt x="498" y="183"/>
                            </a:lnTo>
                            <a:lnTo>
                              <a:pt x="501" y="181"/>
                            </a:lnTo>
                            <a:lnTo>
                              <a:pt x="504" y="181"/>
                            </a:lnTo>
                            <a:lnTo>
                              <a:pt x="507" y="181"/>
                            </a:lnTo>
                            <a:lnTo>
                              <a:pt x="511" y="181"/>
                            </a:lnTo>
                            <a:lnTo>
                              <a:pt x="514" y="181"/>
                            </a:lnTo>
                            <a:lnTo>
                              <a:pt x="517" y="181"/>
                            </a:lnTo>
                            <a:lnTo>
                              <a:pt x="522" y="181"/>
                            </a:lnTo>
                            <a:lnTo>
                              <a:pt x="525" y="181"/>
                            </a:lnTo>
                            <a:lnTo>
                              <a:pt x="531" y="180"/>
                            </a:lnTo>
                            <a:lnTo>
                              <a:pt x="539" y="180"/>
                            </a:lnTo>
                            <a:lnTo>
                              <a:pt x="542" y="179"/>
                            </a:lnTo>
                            <a:lnTo>
                              <a:pt x="545" y="179"/>
                            </a:lnTo>
                            <a:lnTo>
                              <a:pt x="550" y="179"/>
                            </a:lnTo>
                            <a:lnTo>
                              <a:pt x="553" y="179"/>
                            </a:lnTo>
                            <a:lnTo>
                              <a:pt x="556" y="177"/>
                            </a:lnTo>
                            <a:lnTo>
                              <a:pt x="559" y="177"/>
                            </a:lnTo>
                            <a:lnTo>
                              <a:pt x="563" y="177"/>
                            </a:lnTo>
                            <a:lnTo>
                              <a:pt x="566" y="177"/>
                            </a:lnTo>
                            <a:lnTo>
                              <a:pt x="569" y="177"/>
                            </a:lnTo>
                            <a:lnTo>
                              <a:pt x="574" y="177"/>
                            </a:lnTo>
                            <a:lnTo>
                              <a:pt x="577" y="177"/>
                            </a:lnTo>
                            <a:lnTo>
                              <a:pt x="582" y="177"/>
                            </a:lnTo>
                            <a:lnTo>
                              <a:pt x="576" y="172"/>
                            </a:lnTo>
                            <a:lnTo>
                              <a:pt x="569" y="166"/>
                            </a:lnTo>
                            <a:lnTo>
                              <a:pt x="563" y="162"/>
                            </a:lnTo>
                            <a:lnTo>
                              <a:pt x="559" y="157"/>
                            </a:lnTo>
                            <a:lnTo>
                              <a:pt x="553" y="151"/>
                            </a:lnTo>
                            <a:lnTo>
                              <a:pt x="547" y="147"/>
                            </a:lnTo>
                            <a:lnTo>
                              <a:pt x="540" y="142"/>
                            </a:lnTo>
                            <a:lnTo>
                              <a:pt x="536" y="137"/>
                            </a:lnTo>
                            <a:lnTo>
                              <a:pt x="528" y="132"/>
                            </a:lnTo>
                            <a:lnTo>
                              <a:pt x="524" y="126"/>
                            </a:lnTo>
                            <a:lnTo>
                              <a:pt x="517" y="122"/>
                            </a:lnTo>
                            <a:lnTo>
                              <a:pt x="511" y="117"/>
                            </a:lnTo>
                            <a:lnTo>
                              <a:pt x="505" y="111"/>
                            </a:lnTo>
                            <a:lnTo>
                              <a:pt x="501" y="107"/>
                            </a:lnTo>
                            <a:lnTo>
                              <a:pt x="495" y="102"/>
                            </a:lnTo>
                            <a:lnTo>
                              <a:pt x="488" y="98"/>
                            </a:lnTo>
                            <a:lnTo>
                              <a:pt x="482" y="92"/>
                            </a:lnTo>
                            <a:lnTo>
                              <a:pt x="476" y="87"/>
                            </a:lnTo>
                            <a:lnTo>
                              <a:pt x="470" y="83"/>
                            </a:lnTo>
                            <a:lnTo>
                              <a:pt x="465" y="77"/>
                            </a:lnTo>
                            <a:lnTo>
                              <a:pt x="459" y="72"/>
                            </a:lnTo>
                            <a:lnTo>
                              <a:pt x="453" y="67"/>
                            </a:lnTo>
                            <a:lnTo>
                              <a:pt x="447" y="62"/>
                            </a:lnTo>
                            <a:lnTo>
                              <a:pt x="441" y="58"/>
                            </a:lnTo>
                            <a:lnTo>
                              <a:pt x="435" y="52"/>
                            </a:lnTo>
                            <a:lnTo>
                              <a:pt x="429" y="48"/>
                            </a:lnTo>
                            <a:lnTo>
                              <a:pt x="423" y="44"/>
                            </a:lnTo>
                            <a:lnTo>
                              <a:pt x="418" y="39"/>
                            </a:lnTo>
                            <a:lnTo>
                              <a:pt x="412" y="35"/>
                            </a:lnTo>
                            <a:lnTo>
                              <a:pt x="406" y="30"/>
                            </a:lnTo>
                            <a:lnTo>
                              <a:pt x="400" y="26"/>
                            </a:lnTo>
                            <a:lnTo>
                              <a:pt x="395" y="22"/>
                            </a:lnTo>
                            <a:lnTo>
                              <a:pt x="392" y="21"/>
                            </a:lnTo>
                            <a:lnTo>
                              <a:pt x="386" y="18"/>
                            </a:lnTo>
                            <a:lnTo>
                              <a:pt x="380" y="14"/>
                            </a:lnTo>
                            <a:lnTo>
                              <a:pt x="377" y="14"/>
                            </a:lnTo>
                            <a:lnTo>
                              <a:pt x="453" y="81"/>
                            </a:lnTo>
                            <a:lnTo>
                              <a:pt x="426" y="67"/>
                            </a:lnTo>
                            <a:lnTo>
                              <a:pt x="429" y="70"/>
                            </a:lnTo>
                            <a:lnTo>
                              <a:pt x="432" y="73"/>
                            </a:lnTo>
                            <a:lnTo>
                              <a:pt x="435" y="76"/>
                            </a:lnTo>
                            <a:lnTo>
                              <a:pt x="439" y="80"/>
                            </a:lnTo>
                            <a:lnTo>
                              <a:pt x="443" y="83"/>
                            </a:lnTo>
                            <a:lnTo>
                              <a:pt x="447" y="85"/>
                            </a:lnTo>
                            <a:lnTo>
                              <a:pt x="450" y="88"/>
                            </a:lnTo>
                            <a:lnTo>
                              <a:pt x="455" y="91"/>
                            </a:lnTo>
                            <a:lnTo>
                              <a:pt x="459" y="94"/>
                            </a:lnTo>
                            <a:lnTo>
                              <a:pt x="462" y="96"/>
                            </a:lnTo>
                            <a:lnTo>
                              <a:pt x="467" y="99"/>
                            </a:lnTo>
                            <a:lnTo>
                              <a:pt x="470" y="102"/>
                            </a:lnTo>
                            <a:lnTo>
                              <a:pt x="475" y="106"/>
                            </a:lnTo>
                            <a:lnTo>
                              <a:pt x="478" y="109"/>
                            </a:lnTo>
                            <a:lnTo>
                              <a:pt x="482" y="113"/>
                            </a:lnTo>
                            <a:lnTo>
                              <a:pt x="485" y="115"/>
                            </a:lnTo>
                            <a:lnTo>
                              <a:pt x="372" y="36"/>
                            </a:lnTo>
                            <a:lnTo>
                              <a:pt x="369" y="35"/>
                            </a:lnTo>
                            <a:lnTo>
                              <a:pt x="366" y="32"/>
                            </a:lnTo>
                            <a:lnTo>
                              <a:pt x="363" y="29"/>
                            </a:lnTo>
                            <a:lnTo>
                              <a:pt x="360" y="26"/>
                            </a:lnTo>
                            <a:lnTo>
                              <a:pt x="355" y="24"/>
                            </a:lnTo>
                            <a:lnTo>
                              <a:pt x="352" y="21"/>
                            </a:lnTo>
                            <a:lnTo>
                              <a:pt x="348" y="18"/>
                            </a:lnTo>
                            <a:lnTo>
                              <a:pt x="345" y="15"/>
                            </a:lnTo>
                            <a:lnTo>
                              <a:pt x="342" y="11"/>
                            </a:lnTo>
                            <a:lnTo>
                              <a:pt x="337" y="10"/>
                            </a:lnTo>
                            <a:lnTo>
                              <a:pt x="334" y="7"/>
                            </a:lnTo>
                            <a:lnTo>
                              <a:pt x="331" y="6"/>
                            </a:lnTo>
                            <a:lnTo>
                              <a:pt x="326" y="4"/>
                            </a:lnTo>
                            <a:lnTo>
                              <a:pt x="323" y="7"/>
                            </a:lnTo>
                            <a:lnTo>
                              <a:pt x="328" y="11"/>
                            </a:lnTo>
                            <a:lnTo>
                              <a:pt x="332" y="14"/>
                            </a:lnTo>
                            <a:lnTo>
                              <a:pt x="339" y="18"/>
                            </a:lnTo>
                            <a:lnTo>
                              <a:pt x="345" y="24"/>
                            </a:lnTo>
                            <a:lnTo>
                              <a:pt x="351" y="26"/>
                            </a:lnTo>
                            <a:lnTo>
                              <a:pt x="355" y="30"/>
                            </a:lnTo>
                            <a:lnTo>
                              <a:pt x="361" y="35"/>
                            </a:lnTo>
                            <a:lnTo>
                              <a:pt x="365" y="39"/>
                            </a:lnTo>
                            <a:lnTo>
                              <a:pt x="369" y="43"/>
                            </a:lnTo>
                            <a:lnTo>
                              <a:pt x="374" y="47"/>
                            </a:lnTo>
                            <a:lnTo>
                              <a:pt x="378" y="51"/>
                            </a:lnTo>
                            <a:lnTo>
                              <a:pt x="384" y="55"/>
                            </a:lnTo>
                            <a:lnTo>
                              <a:pt x="389" y="59"/>
                            </a:lnTo>
                            <a:lnTo>
                              <a:pt x="395" y="63"/>
                            </a:lnTo>
                            <a:lnTo>
                              <a:pt x="400" y="67"/>
                            </a:lnTo>
                            <a:lnTo>
                              <a:pt x="406" y="72"/>
                            </a:lnTo>
                            <a:lnTo>
                              <a:pt x="410" y="74"/>
                            </a:lnTo>
                            <a:lnTo>
                              <a:pt x="415" y="80"/>
                            </a:lnTo>
                            <a:lnTo>
                              <a:pt x="421" y="83"/>
                            </a:lnTo>
                            <a:lnTo>
                              <a:pt x="426" y="87"/>
                            </a:lnTo>
                            <a:lnTo>
                              <a:pt x="430" y="91"/>
                            </a:lnTo>
                            <a:lnTo>
                              <a:pt x="436" y="95"/>
                            </a:lnTo>
                            <a:lnTo>
                              <a:pt x="439" y="99"/>
                            </a:lnTo>
                            <a:lnTo>
                              <a:pt x="446" y="105"/>
                            </a:lnTo>
                            <a:lnTo>
                              <a:pt x="449" y="107"/>
                            </a:lnTo>
                            <a:lnTo>
                              <a:pt x="453" y="113"/>
                            </a:lnTo>
                            <a:lnTo>
                              <a:pt x="458" y="118"/>
                            </a:lnTo>
                            <a:lnTo>
                              <a:pt x="461" y="120"/>
                            </a:lnTo>
                            <a:lnTo>
                              <a:pt x="458" y="120"/>
                            </a:lnTo>
                            <a:lnTo>
                              <a:pt x="455" y="118"/>
                            </a:lnTo>
                            <a:lnTo>
                              <a:pt x="452" y="117"/>
                            </a:lnTo>
                            <a:lnTo>
                              <a:pt x="447" y="114"/>
                            </a:lnTo>
                            <a:lnTo>
                              <a:pt x="444" y="113"/>
                            </a:lnTo>
                            <a:lnTo>
                              <a:pt x="441" y="110"/>
                            </a:lnTo>
                            <a:lnTo>
                              <a:pt x="438" y="109"/>
                            </a:lnTo>
                            <a:lnTo>
                              <a:pt x="433" y="106"/>
                            </a:lnTo>
                            <a:lnTo>
                              <a:pt x="429" y="102"/>
                            </a:lnTo>
                            <a:lnTo>
                              <a:pt x="426" y="99"/>
                            </a:lnTo>
                            <a:lnTo>
                              <a:pt x="423" y="98"/>
                            </a:lnTo>
                            <a:lnTo>
                              <a:pt x="418" y="95"/>
                            </a:lnTo>
                            <a:lnTo>
                              <a:pt x="415" y="92"/>
                            </a:lnTo>
                            <a:lnTo>
                              <a:pt x="410" y="88"/>
                            </a:lnTo>
                            <a:lnTo>
                              <a:pt x="407" y="84"/>
                            </a:lnTo>
                            <a:lnTo>
                              <a:pt x="403" y="81"/>
                            </a:lnTo>
                            <a:lnTo>
                              <a:pt x="398" y="77"/>
                            </a:lnTo>
                            <a:lnTo>
                              <a:pt x="394" y="73"/>
                            </a:lnTo>
                            <a:lnTo>
                              <a:pt x="391" y="70"/>
                            </a:lnTo>
                            <a:lnTo>
                              <a:pt x="384" y="66"/>
                            </a:lnTo>
                            <a:lnTo>
                              <a:pt x="381" y="63"/>
                            </a:lnTo>
                            <a:lnTo>
                              <a:pt x="377" y="59"/>
                            </a:lnTo>
                            <a:lnTo>
                              <a:pt x="372" y="55"/>
                            </a:lnTo>
                            <a:lnTo>
                              <a:pt x="368" y="51"/>
                            </a:lnTo>
                            <a:lnTo>
                              <a:pt x="363" y="48"/>
                            </a:lnTo>
                            <a:lnTo>
                              <a:pt x="358" y="44"/>
                            </a:lnTo>
                            <a:lnTo>
                              <a:pt x="355" y="41"/>
                            </a:lnTo>
                            <a:lnTo>
                              <a:pt x="351" y="39"/>
                            </a:lnTo>
                            <a:lnTo>
                              <a:pt x="348" y="36"/>
                            </a:lnTo>
                            <a:lnTo>
                              <a:pt x="343" y="33"/>
                            </a:lnTo>
                            <a:lnTo>
                              <a:pt x="340" y="32"/>
                            </a:lnTo>
                            <a:lnTo>
                              <a:pt x="337" y="29"/>
                            </a:lnTo>
                            <a:lnTo>
                              <a:pt x="335" y="29"/>
                            </a:lnTo>
                            <a:lnTo>
                              <a:pt x="331" y="26"/>
                            </a:lnTo>
                            <a:lnTo>
                              <a:pt x="329" y="26"/>
                            </a:lnTo>
                            <a:lnTo>
                              <a:pt x="331" y="29"/>
                            </a:lnTo>
                            <a:lnTo>
                              <a:pt x="332" y="32"/>
                            </a:lnTo>
                            <a:lnTo>
                              <a:pt x="334" y="36"/>
                            </a:lnTo>
                            <a:lnTo>
                              <a:pt x="337" y="39"/>
                            </a:lnTo>
                            <a:lnTo>
                              <a:pt x="372" y="66"/>
                            </a:lnTo>
                            <a:lnTo>
                              <a:pt x="374" y="74"/>
                            </a:lnTo>
                            <a:lnTo>
                              <a:pt x="378" y="78"/>
                            </a:lnTo>
                            <a:lnTo>
                              <a:pt x="383" y="83"/>
                            </a:lnTo>
                            <a:lnTo>
                              <a:pt x="387" y="85"/>
                            </a:lnTo>
                            <a:lnTo>
                              <a:pt x="392" y="89"/>
                            </a:lnTo>
                            <a:lnTo>
                              <a:pt x="397" y="92"/>
                            </a:lnTo>
                            <a:lnTo>
                              <a:pt x="401" y="95"/>
                            </a:lnTo>
                            <a:lnTo>
                              <a:pt x="406" y="99"/>
                            </a:lnTo>
                            <a:lnTo>
                              <a:pt x="410" y="102"/>
                            </a:lnTo>
                            <a:lnTo>
                              <a:pt x="415" y="105"/>
                            </a:lnTo>
                            <a:lnTo>
                              <a:pt x="420" y="109"/>
                            </a:lnTo>
                            <a:lnTo>
                              <a:pt x="424" y="111"/>
                            </a:lnTo>
                            <a:lnTo>
                              <a:pt x="429" y="115"/>
                            </a:lnTo>
                            <a:lnTo>
                              <a:pt x="433" y="118"/>
                            </a:lnTo>
                            <a:lnTo>
                              <a:pt x="438" y="122"/>
                            </a:lnTo>
                            <a:lnTo>
                              <a:pt x="443" y="126"/>
                            </a:lnTo>
                            <a:lnTo>
                              <a:pt x="447" y="132"/>
                            </a:lnTo>
                            <a:lnTo>
                              <a:pt x="444" y="132"/>
                            </a:lnTo>
                            <a:lnTo>
                              <a:pt x="439" y="132"/>
                            </a:lnTo>
                            <a:lnTo>
                              <a:pt x="436" y="132"/>
                            </a:lnTo>
                            <a:lnTo>
                              <a:pt x="432" y="132"/>
                            </a:lnTo>
                            <a:lnTo>
                              <a:pt x="429" y="132"/>
                            </a:lnTo>
                            <a:lnTo>
                              <a:pt x="426" y="132"/>
                            </a:lnTo>
                            <a:lnTo>
                              <a:pt x="421" y="132"/>
                            </a:lnTo>
                            <a:lnTo>
                              <a:pt x="418" y="132"/>
                            </a:lnTo>
                            <a:lnTo>
                              <a:pt x="415" y="132"/>
                            </a:lnTo>
                            <a:lnTo>
                              <a:pt x="410" y="132"/>
                            </a:lnTo>
                            <a:lnTo>
                              <a:pt x="407" y="132"/>
                            </a:lnTo>
                            <a:lnTo>
                              <a:pt x="403" y="132"/>
                            </a:lnTo>
                            <a:lnTo>
                              <a:pt x="400" y="132"/>
                            </a:lnTo>
                            <a:lnTo>
                              <a:pt x="395" y="132"/>
                            </a:lnTo>
                            <a:lnTo>
                              <a:pt x="392" y="132"/>
                            </a:lnTo>
                            <a:lnTo>
                              <a:pt x="389" y="132"/>
                            </a:lnTo>
                            <a:lnTo>
                              <a:pt x="384" y="132"/>
                            </a:lnTo>
                            <a:lnTo>
                              <a:pt x="381" y="132"/>
                            </a:lnTo>
                            <a:lnTo>
                              <a:pt x="378" y="132"/>
                            </a:lnTo>
                            <a:lnTo>
                              <a:pt x="374" y="132"/>
                            </a:lnTo>
                            <a:lnTo>
                              <a:pt x="371" y="132"/>
                            </a:lnTo>
                            <a:lnTo>
                              <a:pt x="366" y="132"/>
                            </a:lnTo>
                            <a:lnTo>
                              <a:pt x="363" y="132"/>
                            </a:lnTo>
                            <a:lnTo>
                              <a:pt x="360" y="132"/>
                            </a:lnTo>
                            <a:lnTo>
                              <a:pt x="355" y="132"/>
                            </a:lnTo>
                            <a:lnTo>
                              <a:pt x="352" y="132"/>
                            </a:lnTo>
                            <a:lnTo>
                              <a:pt x="348" y="132"/>
                            </a:lnTo>
                            <a:lnTo>
                              <a:pt x="345" y="132"/>
                            </a:lnTo>
                            <a:lnTo>
                              <a:pt x="340" y="132"/>
                            </a:lnTo>
                            <a:lnTo>
                              <a:pt x="337" y="132"/>
                            </a:lnTo>
                            <a:lnTo>
                              <a:pt x="332" y="132"/>
                            </a:lnTo>
                            <a:lnTo>
                              <a:pt x="329" y="132"/>
                            </a:lnTo>
                            <a:lnTo>
                              <a:pt x="326" y="132"/>
                            </a:lnTo>
                            <a:lnTo>
                              <a:pt x="323" y="132"/>
                            </a:lnTo>
                            <a:lnTo>
                              <a:pt x="319" y="132"/>
                            </a:lnTo>
                            <a:lnTo>
                              <a:pt x="316" y="132"/>
                            </a:lnTo>
                            <a:lnTo>
                              <a:pt x="311" y="132"/>
                            </a:lnTo>
                            <a:lnTo>
                              <a:pt x="308" y="132"/>
                            </a:lnTo>
                            <a:lnTo>
                              <a:pt x="303" y="132"/>
                            </a:lnTo>
                            <a:lnTo>
                              <a:pt x="300" y="132"/>
                            </a:lnTo>
                            <a:lnTo>
                              <a:pt x="296" y="132"/>
                            </a:lnTo>
                            <a:lnTo>
                              <a:pt x="293" y="132"/>
                            </a:lnTo>
                            <a:lnTo>
                              <a:pt x="288" y="132"/>
                            </a:lnTo>
                            <a:lnTo>
                              <a:pt x="285" y="132"/>
                            </a:lnTo>
                            <a:lnTo>
                              <a:pt x="282" y="132"/>
                            </a:lnTo>
                            <a:lnTo>
                              <a:pt x="279" y="132"/>
                            </a:lnTo>
                            <a:lnTo>
                              <a:pt x="274" y="132"/>
                            </a:lnTo>
                            <a:lnTo>
                              <a:pt x="271" y="133"/>
                            </a:lnTo>
                            <a:lnTo>
                              <a:pt x="268" y="133"/>
                            </a:lnTo>
                            <a:lnTo>
                              <a:pt x="265" y="133"/>
                            </a:lnTo>
                            <a:lnTo>
                              <a:pt x="260" y="133"/>
                            </a:lnTo>
                            <a:lnTo>
                              <a:pt x="257" y="133"/>
                            </a:lnTo>
                            <a:lnTo>
                              <a:pt x="254" y="133"/>
                            </a:lnTo>
                            <a:lnTo>
                              <a:pt x="251" y="133"/>
                            </a:lnTo>
                            <a:lnTo>
                              <a:pt x="247" y="133"/>
                            </a:lnTo>
                            <a:lnTo>
                              <a:pt x="244" y="135"/>
                            </a:lnTo>
                            <a:lnTo>
                              <a:pt x="238" y="135"/>
                            </a:lnTo>
                            <a:lnTo>
                              <a:pt x="230" y="135"/>
                            </a:lnTo>
                            <a:lnTo>
                              <a:pt x="224" y="135"/>
                            </a:lnTo>
                            <a:lnTo>
                              <a:pt x="218" y="136"/>
                            </a:lnTo>
                            <a:lnTo>
                              <a:pt x="198" y="13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4" name="Freeform 114"/>
                      <p:cNvSpPr/>
                      <p:nvPr/>
                    </p:nvSpPr>
                    <p:spPr>
                      <a:xfrm>
                        <a:off x="3002400" y="2576880"/>
                        <a:ext cx="9360" cy="1080"/>
                      </a:xfrm>
                      <a:custGeom>
                        <a:avLst/>
                        <a:gdLst>
                          <a:gd name="textAreaLeft" fmla="*/ 0 w 9360"/>
                          <a:gd name="textAreaRight" fmla="*/ 9360 w 9360"/>
                          <a:gd name="textAreaTop" fmla="*/ 0 h 1080"/>
                          <a:gd name="textAreaBottom" fmla="*/ 1440 h 1080"/>
                        </a:gdLst>
                        <a:ahLst/>
                        <a:rect l="textAreaLeft" t="textAreaTop" r="textAreaRight" b="textAreaBottom"/>
                        <a:pathLst>
                          <a:path w="105" h="12">
                            <a:moveTo>
                              <a:pt x="105" y="0"/>
                            </a:moveTo>
                            <a:lnTo>
                              <a:pt x="101" y="0"/>
                            </a:lnTo>
                            <a:lnTo>
                              <a:pt x="96" y="0"/>
                            </a:lnTo>
                            <a:lnTo>
                              <a:pt x="93" y="0"/>
                            </a:lnTo>
                            <a:lnTo>
                              <a:pt x="90" y="0"/>
                            </a:lnTo>
                            <a:lnTo>
                              <a:pt x="85" y="0"/>
                            </a:lnTo>
                            <a:lnTo>
                              <a:pt x="82" y="1"/>
                            </a:lnTo>
                            <a:lnTo>
                              <a:pt x="78" y="1"/>
                            </a:lnTo>
                            <a:lnTo>
                              <a:pt x="73" y="1"/>
                            </a:lnTo>
                            <a:lnTo>
                              <a:pt x="68" y="1"/>
                            </a:lnTo>
                            <a:lnTo>
                              <a:pt x="65" y="3"/>
                            </a:lnTo>
                            <a:lnTo>
                              <a:pt x="61" y="3"/>
                            </a:lnTo>
                            <a:lnTo>
                              <a:pt x="56" y="3"/>
                            </a:lnTo>
                            <a:lnTo>
                              <a:pt x="52" y="3"/>
                            </a:lnTo>
                            <a:lnTo>
                              <a:pt x="49" y="4"/>
                            </a:ln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5" y="6"/>
                            </a:lnTo>
                            <a:lnTo>
                              <a:pt x="32" y="6"/>
                            </a:lnTo>
                            <a:lnTo>
                              <a:pt x="27" y="6"/>
                            </a:lnTo>
                            <a:lnTo>
                              <a:pt x="23" y="6"/>
                            </a:lnTo>
                            <a:lnTo>
                              <a:pt x="20" y="7"/>
                            </a:lnTo>
                            <a:lnTo>
                              <a:pt x="16" y="8"/>
                            </a:lnTo>
                            <a:lnTo>
                              <a:pt x="10" y="8"/>
                            </a:lnTo>
                            <a:lnTo>
                              <a:pt x="4" y="10"/>
                            </a:lnTo>
                            <a:lnTo>
                              <a:pt x="1" y="11"/>
                            </a:lnTo>
                            <a:lnTo>
                              <a:pt x="0" y="12"/>
                            </a:lnTo>
                            <a:lnTo>
                              <a:pt x="4" y="12"/>
                            </a:lnTo>
                            <a:lnTo>
                              <a:pt x="12" y="12"/>
                            </a:lnTo>
                            <a:lnTo>
                              <a:pt x="15" y="11"/>
                            </a:lnTo>
                            <a:lnTo>
                              <a:pt x="18" y="11"/>
                            </a:lnTo>
                            <a:lnTo>
                              <a:pt x="24" y="10"/>
                            </a:lnTo>
                            <a:lnTo>
                              <a:pt x="30" y="10"/>
                            </a:lnTo>
                            <a:lnTo>
                              <a:pt x="35" y="8"/>
                            </a:lnTo>
                            <a:lnTo>
                              <a:pt x="41" y="8"/>
                            </a:lnTo>
                            <a:lnTo>
                              <a:pt x="46" y="8"/>
                            </a:lnTo>
                            <a:lnTo>
                              <a:pt x="47" y="10"/>
                            </a:lnTo>
                            <a:lnTo>
                              <a:pt x="76" y="6"/>
                            </a:lnTo>
                            <a:lnTo>
                              <a:pt x="76" y="7"/>
                            </a:lnTo>
                            <a:lnTo>
                              <a:pt x="79" y="7"/>
                            </a:lnTo>
                            <a:lnTo>
                              <a:pt x="84" y="7"/>
                            </a:lnTo>
                            <a:lnTo>
                              <a:pt x="87" y="6"/>
                            </a:lnTo>
                            <a:lnTo>
                              <a:pt x="93" y="6"/>
                            </a:lnTo>
                            <a:lnTo>
                              <a:pt x="96" y="6"/>
                            </a:lnTo>
                            <a:lnTo>
                              <a:pt x="101" y="4"/>
                            </a:lnTo>
                            <a:lnTo>
                              <a:pt x="104" y="1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5" name="Freeform 115"/>
                      <p:cNvSpPr/>
                      <p:nvPr/>
                    </p:nvSpPr>
                    <p:spPr>
                      <a:xfrm>
                        <a:off x="3021120" y="2577240"/>
                        <a:ext cx="11160" cy="72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24" h="9">
                            <a:moveTo>
                              <a:pt x="124" y="4"/>
                            </a:moveTo>
                            <a:lnTo>
                              <a:pt x="120" y="4"/>
                            </a:lnTo>
                            <a:lnTo>
                              <a:pt x="116" y="4"/>
                            </a:lnTo>
                            <a:lnTo>
                              <a:pt x="112" y="4"/>
                            </a:lnTo>
                            <a:lnTo>
                              <a:pt x="109" y="4"/>
                            </a:lnTo>
                            <a:lnTo>
                              <a:pt x="104" y="4"/>
                            </a:lnTo>
                            <a:lnTo>
                              <a:pt x="100" y="5"/>
                            </a:lnTo>
                            <a:lnTo>
                              <a:pt x="95" y="5"/>
                            </a:lnTo>
                            <a:lnTo>
                              <a:pt x="92" y="7"/>
                            </a:lnTo>
                            <a:lnTo>
                              <a:pt x="87" y="7"/>
                            </a:lnTo>
                            <a:lnTo>
                              <a:pt x="83" y="7"/>
                            </a:lnTo>
                            <a:lnTo>
                              <a:pt x="77" y="7"/>
                            </a:lnTo>
                            <a:lnTo>
                              <a:pt x="74" y="8"/>
                            </a:lnTo>
                            <a:lnTo>
                              <a:pt x="68" y="8"/>
                            </a:lnTo>
                            <a:lnTo>
                              <a:pt x="63" y="8"/>
                            </a:lnTo>
                            <a:lnTo>
                              <a:pt x="58" y="9"/>
                            </a:lnTo>
                            <a:lnTo>
                              <a:pt x="54" y="9"/>
                            </a:lnTo>
                            <a:lnTo>
                              <a:pt x="49" y="9"/>
                            </a:lnTo>
                            <a:lnTo>
                              <a:pt x="45" y="9"/>
                            </a:lnTo>
                            <a:lnTo>
                              <a:pt x="40" y="9"/>
                            </a:lnTo>
                            <a:lnTo>
                              <a:pt x="35" y="9"/>
                            </a:lnTo>
                            <a:lnTo>
                              <a:pt x="32" y="9"/>
                            </a:lnTo>
                            <a:lnTo>
                              <a:pt x="28" y="9"/>
                            </a:lnTo>
                            <a:lnTo>
                              <a:pt x="25" y="9"/>
                            </a:lnTo>
                            <a:lnTo>
                              <a:pt x="20" y="9"/>
                            </a:lnTo>
                            <a:lnTo>
                              <a:pt x="17" y="9"/>
                            </a:lnTo>
                            <a:lnTo>
                              <a:pt x="14" y="9"/>
                            </a:lnTo>
                            <a:lnTo>
                              <a:pt x="11" y="8"/>
                            </a:lnTo>
                            <a:lnTo>
                              <a:pt x="8" y="8"/>
                            </a:lnTo>
                            <a:lnTo>
                              <a:pt x="3" y="7"/>
                            </a:lnTo>
                            <a:lnTo>
                              <a:pt x="0" y="4"/>
                            </a:lnTo>
                            <a:lnTo>
                              <a:pt x="5" y="4"/>
                            </a:lnTo>
                            <a:lnTo>
                              <a:pt x="8" y="4"/>
                            </a:lnTo>
                            <a:lnTo>
                              <a:pt x="12" y="4"/>
                            </a:lnTo>
                            <a:lnTo>
                              <a:pt x="17" y="4"/>
                            </a:lnTo>
                            <a:lnTo>
                              <a:pt x="20" y="4"/>
                            </a:lnTo>
                            <a:lnTo>
                              <a:pt x="25" y="4"/>
                            </a:lnTo>
                            <a:lnTo>
                              <a:pt x="29" y="4"/>
                            </a:lnTo>
                            <a:lnTo>
                              <a:pt x="32" y="4"/>
                            </a:lnTo>
                            <a:lnTo>
                              <a:pt x="37" y="3"/>
                            </a:lnTo>
                            <a:lnTo>
                              <a:pt x="40" y="3"/>
                            </a:lnTo>
                            <a:lnTo>
                              <a:pt x="45" y="3"/>
                            </a:lnTo>
                            <a:lnTo>
                              <a:pt x="49" y="3"/>
                            </a:lnTo>
                            <a:lnTo>
                              <a:pt x="52" y="1"/>
                            </a:lnTo>
                            <a:lnTo>
                              <a:pt x="57" y="1"/>
                            </a:lnTo>
                            <a:lnTo>
                              <a:pt x="60" y="1"/>
                            </a:lnTo>
                            <a:lnTo>
                              <a:pt x="64" y="1"/>
                            </a:lnTo>
                            <a:lnTo>
                              <a:pt x="69" y="1"/>
                            </a:lnTo>
                            <a:lnTo>
                              <a:pt x="72" y="0"/>
                            </a:lnTo>
                            <a:lnTo>
                              <a:pt x="77" y="0"/>
                            </a:lnTo>
                            <a:lnTo>
                              <a:pt x="80" y="0"/>
                            </a:lnTo>
                            <a:lnTo>
                              <a:pt x="83" y="0"/>
                            </a:lnTo>
                            <a:lnTo>
                              <a:pt x="87" y="0"/>
                            </a:lnTo>
                            <a:lnTo>
                              <a:pt x="90" y="0"/>
                            </a:lnTo>
                            <a:lnTo>
                              <a:pt x="95" y="0"/>
                            </a:lnTo>
                            <a:lnTo>
                              <a:pt x="98" y="0"/>
                            </a:lnTo>
                            <a:lnTo>
                              <a:pt x="101" y="0"/>
                            </a:lnTo>
                            <a:lnTo>
                              <a:pt x="106" y="0"/>
                            </a:lnTo>
                            <a:lnTo>
                              <a:pt x="109" y="1"/>
                            </a:lnTo>
                            <a:lnTo>
                              <a:pt x="113" y="1"/>
                            </a:lnTo>
                            <a:lnTo>
                              <a:pt x="116" y="3"/>
                            </a:lnTo>
                            <a:lnTo>
                              <a:pt x="121" y="3"/>
                            </a:lnTo>
                            <a:lnTo>
                              <a:pt x="124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Freeform 116"/>
                      <p:cNvSpPr/>
                      <p:nvPr/>
                    </p:nvSpPr>
                    <p:spPr>
                      <a:xfrm>
                        <a:off x="2959920" y="2645640"/>
                        <a:ext cx="114840" cy="21600"/>
                      </a:xfrm>
                      <a:custGeom>
                        <a:avLst/>
                        <a:gdLst>
                          <a:gd name="textAreaLeft" fmla="*/ 0 w 114840"/>
                          <a:gd name="textAreaRight" fmla="*/ 115200 w 114840"/>
                          <a:gd name="textAreaTop" fmla="*/ 0 h 21600"/>
                          <a:gd name="textAreaBottom" fmla="*/ 21600 h 21600"/>
                        </a:gdLst>
                        <a:ahLst/>
                        <a:rect l="textAreaLeft" t="textAreaTop" r="textAreaRight" b="textAreaBottom"/>
                        <a:pathLst>
                          <a:path w="1270" h="216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0" y="11"/>
                            </a:lnTo>
                            <a:lnTo>
                              <a:pt x="2" y="17"/>
                            </a:lnTo>
                            <a:lnTo>
                              <a:pt x="2" y="22"/>
                            </a:lnTo>
                            <a:lnTo>
                              <a:pt x="2" y="28"/>
                            </a:lnTo>
                            <a:lnTo>
                              <a:pt x="3" y="34"/>
                            </a:lnTo>
                            <a:lnTo>
                              <a:pt x="3" y="37"/>
                            </a:lnTo>
                            <a:lnTo>
                              <a:pt x="3" y="40"/>
                            </a:lnTo>
                            <a:lnTo>
                              <a:pt x="3" y="43"/>
                            </a:lnTo>
                            <a:lnTo>
                              <a:pt x="3" y="47"/>
                            </a:lnTo>
                            <a:lnTo>
                              <a:pt x="3" y="52"/>
                            </a:lnTo>
                            <a:lnTo>
                              <a:pt x="5" y="58"/>
                            </a:lnTo>
                            <a:lnTo>
                              <a:pt x="5" y="60"/>
                            </a:lnTo>
                            <a:lnTo>
                              <a:pt x="5" y="65"/>
                            </a:lnTo>
                            <a:lnTo>
                              <a:pt x="5" y="67"/>
                            </a:lnTo>
                            <a:lnTo>
                              <a:pt x="6" y="71"/>
                            </a:lnTo>
                            <a:lnTo>
                              <a:pt x="6" y="74"/>
                            </a:lnTo>
                            <a:lnTo>
                              <a:pt x="6" y="77"/>
                            </a:lnTo>
                            <a:lnTo>
                              <a:pt x="6" y="80"/>
                            </a:lnTo>
                            <a:lnTo>
                              <a:pt x="6" y="84"/>
                            </a:lnTo>
                            <a:lnTo>
                              <a:pt x="6" y="87"/>
                            </a:lnTo>
                            <a:lnTo>
                              <a:pt x="6" y="89"/>
                            </a:lnTo>
                            <a:lnTo>
                              <a:pt x="8" y="93"/>
                            </a:lnTo>
                            <a:lnTo>
                              <a:pt x="8" y="96"/>
                            </a:lnTo>
                            <a:lnTo>
                              <a:pt x="8" y="99"/>
                            </a:lnTo>
                            <a:lnTo>
                              <a:pt x="8" y="103"/>
                            </a:lnTo>
                            <a:lnTo>
                              <a:pt x="9" y="106"/>
                            </a:lnTo>
                            <a:lnTo>
                              <a:pt x="9" y="109"/>
                            </a:lnTo>
                            <a:lnTo>
                              <a:pt x="9" y="111"/>
                            </a:lnTo>
                            <a:lnTo>
                              <a:pt x="9" y="115"/>
                            </a:lnTo>
                            <a:lnTo>
                              <a:pt x="11" y="118"/>
                            </a:lnTo>
                            <a:lnTo>
                              <a:pt x="11" y="121"/>
                            </a:lnTo>
                            <a:lnTo>
                              <a:pt x="11" y="124"/>
                            </a:lnTo>
                            <a:lnTo>
                              <a:pt x="11" y="128"/>
                            </a:lnTo>
                            <a:lnTo>
                              <a:pt x="12" y="130"/>
                            </a:lnTo>
                            <a:lnTo>
                              <a:pt x="12" y="133"/>
                            </a:lnTo>
                            <a:lnTo>
                              <a:pt x="12" y="136"/>
                            </a:lnTo>
                            <a:lnTo>
                              <a:pt x="14" y="140"/>
                            </a:lnTo>
                            <a:lnTo>
                              <a:pt x="14" y="143"/>
                            </a:lnTo>
                            <a:lnTo>
                              <a:pt x="14" y="147"/>
                            </a:lnTo>
                            <a:lnTo>
                              <a:pt x="14" y="152"/>
                            </a:lnTo>
                            <a:lnTo>
                              <a:pt x="16" y="158"/>
                            </a:lnTo>
                            <a:lnTo>
                              <a:pt x="16" y="161"/>
                            </a:lnTo>
                            <a:lnTo>
                              <a:pt x="17" y="165"/>
                            </a:lnTo>
                            <a:lnTo>
                              <a:pt x="17" y="168"/>
                            </a:lnTo>
                            <a:lnTo>
                              <a:pt x="17" y="170"/>
                            </a:lnTo>
                            <a:lnTo>
                              <a:pt x="19" y="176"/>
                            </a:lnTo>
                            <a:lnTo>
                              <a:pt x="20" y="183"/>
                            </a:lnTo>
                            <a:lnTo>
                              <a:pt x="20" y="185"/>
                            </a:lnTo>
                            <a:lnTo>
                              <a:pt x="20" y="188"/>
                            </a:lnTo>
                            <a:lnTo>
                              <a:pt x="22" y="191"/>
                            </a:lnTo>
                            <a:lnTo>
                              <a:pt x="23" y="195"/>
                            </a:lnTo>
                            <a:lnTo>
                              <a:pt x="25" y="191"/>
                            </a:lnTo>
                            <a:lnTo>
                              <a:pt x="25" y="185"/>
                            </a:lnTo>
                            <a:lnTo>
                              <a:pt x="23" y="179"/>
                            </a:lnTo>
                            <a:lnTo>
                              <a:pt x="23" y="173"/>
                            </a:lnTo>
                            <a:lnTo>
                              <a:pt x="22" y="169"/>
                            </a:lnTo>
                            <a:lnTo>
                              <a:pt x="22" y="163"/>
                            </a:lnTo>
                            <a:lnTo>
                              <a:pt x="20" y="158"/>
                            </a:lnTo>
                            <a:lnTo>
                              <a:pt x="20" y="152"/>
                            </a:lnTo>
                            <a:lnTo>
                              <a:pt x="20" y="148"/>
                            </a:lnTo>
                            <a:lnTo>
                              <a:pt x="20" y="141"/>
                            </a:lnTo>
                            <a:lnTo>
                              <a:pt x="20" y="137"/>
                            </a:lnTo>
                            <a:lnTo>
                              <a:pt x="19" y="132"/>
                            </a:lnTo>
                            <a:lnTo>
                              <a:pt x="19" y="126"/>
                            </a:lnTo>
                            <a:lnTo>
                              <a:pt x="19" y="121"/>
                            </a:lnTo>
                            <a:lnTo>
                              <a:pt x="19" y="117"/>
                            </a:lnTo>
                            <a:lnTo>
                              <a:pt x="19" y="111"/>
                            </a:lnTo>
                            <a:lnTo>
                              <a:pt x="19" y="106"/>
                            </a:lnTo>
                            <a:lnTo>
                              <a:pt x="17" y="100"/>
                            </a:lnTo>
                            <a:lnTo>
                              <a:pt x="17" y="95"/>
                            </a:lnTo>
                            <a:lnTo>
                              <a:pt x="17" y="89"/>
                            </a:lnTo>
                            <a:lnTo>
                              <a:pt x="17" y="85"/>
                            </a:lnTo>
                            <a:lnTo>
                              <a:pt x="17" y="80"/>
                            </a:lnTo>
                            <a:lnTo>
                              <a:pt x="17" y="74"/>
                            </a:lnTo>
                            <a:lnTo>
                              <a:pt x="17" y="69"/>
                            </a:lnTo>
                            <a:lnTo>
                              <a:pt x="17" y="63"/>
                            </a:lnTo>
                            <a:lnTo>
                              <a:pt x="16" y="58"/>
                            </a:lnTo>
                            <a:lnTo>
                              <a:pt x="16" y="54"/>
                            </a:lnTo>
                            <a:lnTo>
                              <a:pt x="16" y="48"/>
                            </a:lnTo>
                            <a:lnTo>
                              <a:pt x="16" y="43"/>
                            </a:lnTo>
                            <a:lnTo>
                              <a:pt x="16" y="37"/>
                            </a:lnTo>
                            <a:lnTo>
                              <a:pt x="16" y="33"/>
                            </a:lnTo>
                            <a:lnTo>
                              <a:pt x="16" y="28"/>
                            </a:lnTo>
                            <a:lnTo>
                              <a:pt x="16" y="22"/>
                            </a:lnTo>
                            <a:lnTo>
                              <a:pt x="17" y="21"/>
                            </a:lnTo>
                            <a:lnTo>
                              <a:pt x="20" y="21"/>
                            </a:lnTo>
                            <a:lnTo>
                              <a:pt x="25" y="21"/>
                            </a:lnTo>
                            <a:lnTo>
                              <a:pt x="31" y="21"/>
                            </a:lnTo>
                            <a:lnTo>
                              <a:pt x="35" y="21"/>
                            </a:lnTo>
                            <a:lnTo>
                              <a:pt x="40" y="21"/>
                            </a:lnTo>
                            <a:lnTo>
                              <a:pt x="43" y="21"/>
                            </a:lnTo>
                            <a:lnTo>
                              <a:pt x="45" y="22"/>
                            </a:lnTo>
                            <a:lnTo>
                              <a:pt x="46" y="21"/>
                            </a:lnTo>
                            <a:lnTo>
                              <a:pt x="49" y="21"/>
                            </a:lnTo>
                            <a:lnTo>
                              <a:pt x="51" y="21"/>
                            </a:lnTo>
                            <a:lnTo>
                              <a:pt x="55" y="21"/>
                            </a:lnTo>
                            <a:lnTo>
                              <a:pt x="58" y="19"/>
                            </a:lnTo>
                            <a:lnTo>
                              <a:pt x="63" y="19"/>
                            </a:lnTo>
                            <a:lnTo>
                              <a:pt x="66" y="19"/>
                            </a:lnTo>
                            <a:lnTo>
                              <a:pt x="71" y="19"/>
                            </a:lnTo>
                            <a:lnTo>
                              <a:pt x="75" y="19"/>
                            </a:lnTo>
                            <a:lnTo>
                              <a:pt x="78" y="19"/>
                            </a:lnTo>
                            <a:lnTo>
                              <a:pt x="81" y="19"/>
                            </a:lnTo>
                            <a:lnTo>
                              <a:pt x="86" y="21"/>
                            </a:lnTo>
                            <a:lnTo>
                              <a:pt x="89" y="23"/>
                            </a:lnTo>
                            <a:lnTo>
                              <a:pt x="90" y="28"/>
                            </a:lnTo>
                            <a:lnTo>
                              <a:pt x="86" y="28"/>
                            </a:lnTo>
                            <a:lnTo>
                              <a:pt x="80" y="29"/>
                            </a:lnTo>
                            <a:lnTo>
                              <a:pt x="75" y="29"/>
                            </a:lnTo>
                            <a:lnTo>
                              <a:pt x="71" y="29"/>
                            </a:lnTo>
                            <a:lnTo>
                              <a:pt x="66" y="29"/>
                            </a:lnTo>
                            <a:lnTo>
                              <a:pt x="63" y="29"/>
                            </a:lnTo>
                            <a:lnTo>
                              <a:pt x="58" y="29"/>
                            </a:lnTo>
                            <a:lnTo>
                              <a:pt x="55" y="29"/>
                            </a:lnTo>
                            <a:lnTo>
                              <a:pt x="51" y="29"/>
                            </a:lnTo>
                            <a:lnTo>
                              <a:pt x="46" y="29"/>
                            </a:lnTo>
                            <a:lnTo>
                              <a:pt x="42" y="29"/>
                            </a:lnTo>
                            <a:lnTo>
                              <a:pt x="38" y="29"/>
                            </a:lnTo>
                            <a:lnTo>
                              <a:pt x="34" y="29"/>
                            </a:lnTo>
                            <a:lnTo>
                              <a:pt x="28" y="29"/>
                            </a:lnTo>
                            <a:lnTo>
                              <a:pt x="23" y="30"/>
                            </a:lnTo>
                            <a:lnTo>
                              <a:pt x="17" y="32"/>
                            </a:lnTo>
                            <a:lnTo>
                              <a:pt x="17" y="37"/>
                            </a:lnTo>
                            <a:lnTo>
                              <a:pt x="19" y="43"/>
                            </a:lnTo>
                            <a:lnTo>
                              <a:pt x="19" y="48"/>
                            </a:lnTo>
                            <a:lnTo>
                              <a:pt x="20" y="55"/>
                            </a:lnTo>
                            <a:lnTo>
                              <a:pt x="20" y="60"/>
                            </a:lnTo>
                            <a:lnTo>
                              <a:pt x="20" y="65"/>
                            </a:lnTo>
                            <a:lnTo>
                              <a:pt x="20" y="70"/>
                            </a:lnTo>
                            <a:lnTo>
                              <a:pt x="22" y="76"/>
                            </a:lnTo>
                            <a:lnTo>
                              <a:pt x="22" y="80"/>
                            </a:lnTo>
                            <a:lnTo>
                              <a:pt x="22" y="85"/>
                            </a:lnTo>
                            <a:lnTo>
                              <a:pt x="23" y="89"/>
                            </a:lnTo>
                            <a:lnTo>
                              <a:pt x="23" y="95"/>
                            </a:lnTo>
                            <a:lnTo>
                              <a:pt x="25" y="98"/>
                            </a:lnTo>
                            <a:lnTo>
                              <a:pt x="25" y="103"/>
                            </a:lnTo>
                            <a:lnTo>
                              <a:pt x="25" y="107"/>
                            </a:lnTo>
                            <a:lnTo>
                              <a:pt x="26" y="111"/>
                            </a:lnTo>
                            <a:lnTo>
                              <a:pt x="26" y="115"/>
                            </a:lnTo>
                            <a:lnTo>
                              <a:pt x="28" y="120"/>
                            </a:lnTo>
                            <a:lnTo>
                              <a:pt x="28" y="124"/>
                            </a:lnTo>
                            <a:lnTo>
                              <a:pt x="29" y="128"/>
                            </a:lnTo>
                            <a:lnTo>
                              <a:pt x="29" y="132"/>
                            </a:lnTo>
                            <a:lnTo>
                              <a:pt x="31" y="137"/>
                            </a:lnTo>
                            <a:lnTo>
                              <a:pt x="31" y="141"/>
                            </a:lnTo>
                            <a:lnTo>
                              <a:pt x="32" y="147"/>
                            </a:lnTo>
                            <a:lnTo>
                              <a:pt x="34" y="151"/>
                            </a:lnTo>
                            <a:lnTo>
                              <a:pt x="35" y="155"/>
                            </a:lnTo>
                            <a:lnTo>
                              <a:pt x="35" y="161"/>
                            </a:lnTo>
                            <a:lnTo>
                              <a:pt x="37" y="166"/>
                            </a:lnTo>
                            <a:lnTo>
                              <a:pt x="38" y="172"/>
                            </a:lnTo>
                            <a:lnTo>
                              <a:pt x="40" y="177"/>
                            </a:lnTo>
                            <a:lnTo>
                              <a:pt x="40" y="180"/>
                            </a:lnTo>
                            <a:lnTo>
                              <a:pt x="42" y="184"/>
                            </a:lnTo>
                            <a:lnTo>
                              <a:pt x="42" y="187"/>
                            </a:lnTo>
                            <a:lnTo>
                              <a:pt x="43" y="191"/>
                            </a:lnTo>
                            <a:lnTo>
                              <a:pt x="46" y="188"/>
                            </a:lnTo>
                            <a:lnTo>
                              <a:pt x="51" y="185"/>
                            </a:lnTo>
                            <a:lnTo>
                              <a:pt x="49" y="180"/>
                            </a:lnTo>
                            <a:lnTo>
                              <a:pt x="49" y="174"/>
                            </a:lnTo>
                            <a:lnTo>
                              <a:pt x="49" y="169"/>
                            </a:lnTo>
                            <a:lnTo>
                              <a:pt x="49" y="165"/>
                            </a:lnTo>
                            <a:lnTo>
                              <a:pt x="48" y="159"/>
                            </a:lnTo>
                            <a:lnTo>
                              <a:pt x="48" y="155"/>
                            </a:lnTo>
                            <a:lnTo>
                              <a:pt x="48" y="151"/>
                            </a:lnTo>
                            <a:lnTo>
                              <a:pt x="48" y="147"/>
                            </a:lnTo>
                            <a:lnTo>
                              <a:pt x="48" y="143"/>
                            </a:lnTo>
                            <a:lnTo>
                              <a:pt x="48" y="139"/>
                            </a:lnTo>
                            <a:lnTo>
                              <a:pt x="48" y="136"/>
                            </a:lnTo>
                            <a:lnTo>
                              <a:pt x="48" y="132"/>
                            </a:lnTo>
                            <a:lnTo>
                              <a:pt x="48" y="129"/>
                            </a:lnTo>
                            <a:lnTo>
                              <a:pt x="48" y="126"/>
                            </a:lnTo>
                            <a:lnTo>
                              <a:pt x="48" y="122"/>
                            </a:lnTo>
                            <a:lnTo>
                              <a:pt x="48" y="120"/>
                            </a:lnTo>
                            <a:lnTo>
                              <a:pt x="46" y="115"/>
                            </a:lnTo>
                            <a:lnTo>
                              <a:pt x="46" y="111"/>
                            </a:lnTo>
                            <a:lnTo>
                              <a:pt x="46" y="107"/>
                            </a:lnTo>
                            <a:lnTo>
                              <a:pt x="46" y="104"/>
                            </a:lnTo>
                            <a:lnTo>
                              <a:pt x="45" y="100"/>
                            </a:lnTo>
                            <a:lnTo>
                              <a:pt x="45" y="98"/>
                            </a:lnTo>
                            <a:lnTo>
                              <a:pt x="45" y="93"/>
                            </a:lnTo>
                            <a:lnTo>
                              <a:pt x="45" y="89"/>
                            </a:lnTo>
                            <a:lnTo>
                              <a:pt x="45" y="85"/>
                            </a:lnTo>
                            <a:lnTo>
                              <a:pt x="45" y="81"/>
                            </a:lnTo>
                            <a:lnTo>
                              <a:pt x="43" y="76"/>
                            </a:lnTo>
                            <a:lnTo>
                              <a:pt x="43" y="73"/>
                            </a:lnTo>
                            <a:lnTo>
                              <a:pt x="42" y="67"/>
                            </a:lnTo>
                            <a:lnTo>
                              <a:pt x="42" y="62"/>
                            </a:lnTo>
                            <a:lnTo>
                              <a:pt x="42" y="58"/>
                            </a:lnTo>
                            <a:lnTo>
                              <a:pt x="40" y="52"/>
                            </a:lnTo>
                            <a:lnTo>
                              <a:pt x="45" y="50"/>
                            </a:lnTo>
                            <a:lnTo>
                              <a:pt x="49" y="48"/>
                            </a:lnTo>
                            <a:lnTo>
                              <a:pt x="54" y="47"/>
                            </a:lnTo>
                            <a:lnTo>
                              <a:pt x="60" y="47"/>
                            </a:lnTo>
                            <a:lnTo>
                              <a:pt x="64" y="45"/>
                            </a:lnTo>
                            <a:lnTo>
                              <a:pt x="69" y="45"/>
                            </a:lnTo>
                            <a:lnTo>
                              <a:pt x="75" y="45"/>
                            </a:lnTo>
                            <a:lnTo>
                              <a:pt x="81" y="47"/>
                            </a:lnTo>
                            <a:lnTo>
                              <a:pt x="61" y="59"/>
                            </a:lnTo>
                            <a:lnTo>
                              <a:pt x="58" y="56"/>
                            </a:lnTo>
                            <a:lnTo>
                              <a:pt x="48" y="59"/>
                            </a:lnTo>
                            <a:lnTo>
                              <a:pt x="48" y="63"/>
                            </a:lnTo>
                            <a:lnTo>
                              <a:pt x="49" y="69"/>
                            </a:lnTo>
                            <a:lnTo>
                              <a:pt x="49" y="73"/>
                            </a:lnTo>
                            <a:lnTo>
                              <a:pt x="49" y="78"/>
                            </a:lnTo>
                            <a:lnTo>
                              <a:pt x="49" y="82"/>
                            </a:lnTo>
                            <a:lnTo>
                              <a:pt x="51" y="88"/>
                            </a:lnTo>
                            <a:lnTo>
                              <a:pt x="51" y="93"/>
                            </a:lnTo>
                            <a:lnTo>
                              <a:pt x="52" y="98"/>
                            </a:lnTo>
                            <a:lnTo>
                              <a:pt x="52" y="103"/>
                            </a:lnTo>
                            <a:lnTo>
                              <a:pt x="54" y="107"/>
                            </a:lnTo>
                            <a:lnTo>
                              <a:pt x="54" y="113"/>
                            </a:lnTo>
                            <a:lnTo>
                              <a:pt x="55" y="118"/>
                            </a:lnTo>
                            <a:lnTo>
                              <a:pt x="55" y="122"/>
                            </a:lnTo>
                            <a:lnTo>
                              <a:pt x="57" y="128"/>
                            </a:lnTo>
                            <a:lnTo>
                              <a:pt x="57" y="132"/>
                            </a:lnTo>
                            <a:lnTo>
                              <a:pt x="58" y="137"/>
                            </a:lnTo>
                            <a:lnTo>
                              <a:pt x="58" y="141"/>
                            </a:lnTo>
                            <a:lnTo>
                              <a:pt x="60" y="147"/>
                            </a:lnTo>
                            <a:lnTo>
                              <a:pt x="60" y="151"/>
                            </a:lnTo>
                            <a:lnTo>
                              <a:pt x="61" y="157"/>
                            </a:lnTo>
                            <a:lnTo>
                              <a:pt x="61" y="161"/>
                            </a:lnTo>
                            <a:lnTo>
                              <a:pt x="63" y="166"/>
                            </a:lnTo>
                            <a:lnTo>
                              <a:pt x="63" y="170"/>
                            </a:lnTo>
                            <a:lnTo>
                              <a:pt x="64" y="176"/>
                            </a:lnTo>
                            <a:lnTo>
                              <a:pt x="64" y="180"/>
                            </a:lnTo>
                            <a:lnTo>
                              <a:pt x="66" y="185"/>
                            </a:lnTo>
                            <a:lnTo>
                              <a:pt x="66" y="190"/>
                            </a:lnTo>
                            <a:lnTo>
                              <a:pt x="68" y="195"/>
                            </a:lnTo>
                            <a:lnTo>
                              <a:pt x="68" y="201"/>
                            </a:lnTo>
                            <a:lnTo>
                              <a:pt x="69" y="205"/>
                            </a:lnTo>
                            <a:lnTo>
                              <a:pt x="69" y="210"/>
                            </a:lnTo>
                            <a:lnTo>
                              <a:pt x="71" y="216"/>
                            </a:lnTo>
                            <a:lnTo>
                              <a:pt x="83" y="213"/>
                            </a:lnTo>
                            <a:lnTo>
                              <a:pt x="83" y="209"/>
                            </a:lnTo>
                            <a:lnTo>
                              <a:pt x="83" y="205"/>
                            </a:lnTo>
                            <a:lnTo>
                              <a:pt x="83" y="201"/>
                            </a:lnTo>
                            <a:lnTo>
                              <a:pt x="83" y="196"/>
                            </a:lnTo>
                            <a:lnTo>
                              <a:pt x="83" y="192"/>
                            </a:lnTo>
                            <a:lnTo>
                              <a:pt x="83" y="188"/>
                            </a:lnTo>
                            <a:lnTo>
                              <a:pt x="83" y="185"/>
                            </a:lnTo>
                            <a:lnTo>
                              <a:pt x="83" y="181"/>
                            </a:lnTo>
                            <a:lnTo>
                              <a:pt x="83" y="176"/>
                            </a:lnTo>
                            <a:lnTo>
                              <a:pt x="83" y="173"/>
                            </a:lnTo>
                            <a:lnTo>
                              <a:pt x="83" y="169"/>
                            </a:lnTo>
                            <a:lnTo>
                              <a:pt x="83" y="165"/>
                            </a:lnTo>
                            <a:lnTo>
                              <a:pt x="81" y="161"/>
                            </a:lnTo>
                            <a:lnTo>
                              <a:pt x="81" y="157"/>
                            </a:lnTo>
                            <a:lnTo>
                              <a:pt x="81" y="152"/>
                            </a:lnTo>
                            <a:lnTo>
                              <a:pt x="81" y="150"/>
                            </a:lnTo>
                            <a:lnTo>
                              <a:pt x="81" y="139"/>
                            </a:lnTo>
                            <a:lnTo>
                              <a:pt x="81" y="135"/>
                            </a:lnTo>
                            <a:lnTo>
                              <a:pt x="83" y="136"/>
                            </a:lnTo>
                            <a:lnTo>
                              <a:pt x="83" y="137"/>
                            </a:lnTo>
                            <a:lnTo>
                              <a:pt x="84" y="140"/>
                            </a:lnTo>
                            <a:lnTo>
                              <a:pt x="86" y="143"/>
                            </a:lnTo>
                            <a:lnTo>
                              <a:pt x="87" y="147"/>
                            </a:lnTo>
                            <a:lnTo>
                              <a:pt x="89" y="151"/>
                            </a:lnTo>
                            <a:lnTo>
                              <a:pt x="89" y="154"/>
                            </a:lnTo>
                            <a:lnTo>
                              <a:pt x="90" y="158"/>
                            </a:lnTo>
                            <a:lnTo>
                              <a:pt x="92" y="163"/>
                            </a:lnTo>
                            <a:lnTo>
                              <a:pt x="94" y="166"/>
                            </a:lnTo>
                            <a:lnTo>
                              <a:pt x="94" y="170"/>
                            </a:lnTo>
                            <a:lnTo>
                              <a:pt x="95" y="173"/>
                            </a:lnTo>
                            <a:lnTo>
                              <a:pt x="97" y="177"/>
                            </a:lnTo>
                            <a:lnTo>
                              <a:pt x="103" y="177"/>
                            </a:lnTo>
                            <a:lnTo>
                              <a:pt x="94" y="102"/>
                            </a:lnTo>
                            <a:lnTo>
                              <a:pt x="100" y="100"/>
                            </a:lnTo>
                            <a:lnTo>
                              <a:pt x="106" y="98"/>
                            </a:lnTo>
                            <a:lnTo>
                              <a:pt x="112" y="96"/>
                            </a:lnTo>
                            <a:lnTo>
                              <a:pt x="120" y="95"/>
                            </a:lnTo>
                            <a:lnTo>
                              <a:pt x="123" y="95"/>
                            </a:lnTo>
                            <a:lnTo>
                              <a:pt x="126" y="93"/>
                            </a:lnTo>
                            <a:lnTo>
                              <a:pt x="130" y="92"/>
                            </a:lnTo>
                            <a:lnTo>
                              <a:pt x="133" y="92"/>
                            </a:lnTo>
                            <a:lnTo>
                              <a:pt x="138" y="91"/>
                            </a:lnTo>
                            <a:lnTo>
                              <a:pt x="141" y="91"/>
                            </a:lnTo>
                            <a:lnTo>
                              <a:pt x="144" y="89"/>
                            </a:lnTo>
                            <a:lnTo>
                              <a:pt x="149" y="88"/>
                            </a:lnTo>
                            <a:lnTo>
                              <a:pt x="152" y="88"/>
                            </a:lnTo>
                            <a:lnTo>
                              <a:pt x="156" y="87"/>
                            </a:lnTo>
                            <a:lnTo>
                              <a:pt x="159" y="85"/>
                            </a:lnTo>
                            <a:lnTo>
                              <a:pt x="164" y="85"/>
                            </a:lnTo>
                            <a:lnTo>
                              <a:pt x="167" y="84"/>
                            </a:lnTo>
                            <a:lnTo>
                              <a:pt x="172" y="84"/>
                            </a:lnTo>
                            <a:lnTo>
                              <a:pt x="175" y="82"/>
                            </a:lnTo>
                            <a:lnTo>
                              <a:pt x="179" y="82"/>
                            </a:lnTo>
                            <a:lnTo>
                              <a:pt x="182" y="81"/>
                            </a:lnTo>
                            <a:lnTo>
                              <a:pt x="187" y="80"/>
                            </a:lnTo>
                            <a:lnTo>
                              <a:pt x="190" y="80"/>
                            </a:lnTo>
                            <a:lnTo>
                              <a:pt x="194" y="78"/>
                            </a:lnTo>
                            <a:lnTo>
                              <a:pt x="198" y="77"/>
                            </a:lnTo>
                            <a:lnTo>
                              <a:pt x="202" y="77"/>
                            </a:lnTo>
                            <a:lnTo>
                              <a:pt x="207" y="76"/>
                            </a:lnTo>
                            <a:lnTo>
                              <a:pt x="210" y="76"/>
                            </a:lnTo>
                            <a:lnTo>
                              <a:pt x="214" y="76"/>
                            </a:lnTo>
                            <a:lnTo>
                              <a:pt x="217" y="74"/>
                            </a:lnTo>
                            <a:lnTo>
                              <a:pt x="222" y="73"/>
                            </a:lnTo>
                            <a:lnTo>
                              <a:pt x="225" y="73"/>
                            </a:lnTo>
                            <a:lnTo>
                              <a:pt x="230" y="73"/>
                            </a:lnTo>
                            <a:lnTo>
                              <a:pt x="233" y="71"/>
                            </a:lnTo>
                            <a:lnTo>
                              <a:pt x="237" y="71"/>
                            </a:lnTo>
                            <a:lnTo>
                              <a:pt x="240" y="71"/>
                            </a:lnTo>
                            <a:lnTo>
                              <a:pt x="243" y="70"/>
                            </a:lnTo>
                            <a:lnTo>
                              <a:pt x="246" y="70"/>
                            </a:lnTo>
                            <a:lnTo>
                              <a:pt x="251" y="70"/>
                            </a:lnTo>
                            <a:lnTo>
                              <a:pt x="254" y="70"/>
                            </a:lnTo>
                            <a:lnTo>
                              <a:pt x="259" y="69"/>
                            </a:lnTo>
                            <a:lnTo>
                              <a:pt x="262" y="69"/>
                            </a:lnTo>
                            <a:lnTo>
                              <a:pt x="266" y="69"/>
                            </a:lnTo>
                            <a:lnTo>
                              <a:pt x="269" y="69"/>
                            </a:lnTo>
                            <a:lnTo>
                              <a:pt x="276" y="69"/>
                            </a:lnTo>
                            <a:lnTo>
                              <a:pt x="282" y="69"/>
                            </a:lnTo>
                            <a:lnTo>
                              <a:pt x="289" y="69"/>
                            </a:lnTo>
                            <a:lnTo>
                              <a:pt x="295" y="70"/>
                            </a:lnTo>
                            <a:lnTo>
                              <a:pt x="302" y="70"/>
                            </a:lnTo>
                            <a:lnTo>
                              <a:pt x="308" y="71"/>
                            </a:lnTo>
                            <a:lnTo>
                              <a:pt x="312" y="73"/>
                            </a:lnTo>
                            <a:lnTo>
                              <a:pt x="318" y="74"/>
                            </a:lnTo>
                            <a:lnTo>
                              <a:pt x="312" y="76"/>
                            </a:lnTo>
                            <a:lnTo>
                              <a:pt x="306" y="76"/>
                            </a:lnTo>
                            <a:lnTo>
                              <a:pt x="300" y="76"/>
                            </a:lnTo>
                            <a:lnTo>
                              <a:pt x="294" y="77"/>
                            </a:lnTo>
                            <a:lnTo>
                              <a:pt x="288" y="78"/>
                            </a:lnTo>
                            <a:lnTo>
                              <a:pt x="282" y="80"/>
                            </a:lnTo>
                            <a:lnTo>
                              <a:pt x="276" y="80"/>
                            </a:lnTo>
                            <a:lnTo>
                              <a:pt x="269" y="81"/>
                            </a:lnTo>
                            <a:lnTo>
                              <a:pt x="265" y="81"/>
                            </a:lnTo>
                            <a:lnTo>
                              <a:pt x="262" y="81"/>
                            </a:lnTo>
                            <a:lnTo>
                              <a:pt x="259" y="81"/>
                            </a:lnTo>
                            <a:lnTo>
                              <a:pt x="256" y="82"/>
                            </a:lnTo>
                            <a:lnTo>
                              <a:pt x="248" y="82"/>
                            </a:lnTo>
                            <a:lnTo>
                              <a:pt x="242" y="84"/>
                            </a:lnTo>
                            <a:lnTo>
                              <a:pt x="239" y="84"/>
                            </a:lnTo>
                            <a:lnTo>
                              <a:pt x="234" y="84"/>
                            </a:lnTo>
                            <a:lnTo>
                              <a:pt x="231" y="84"/>
                            </a:lnTo>
                            <a:lnTo>
                              <a:pt x="228" y="85"/>
                            </a:lnTo>
                            <a:lnTo>
                              <a:pt x="225" y="85"/>
                            </a:lnTo>
                            <a:lnTo>
                              <a:pt x="220" y="85"/>
                            </a:lnTo>
                            <a:lnTo>
                              <a:pt x="217" y="85"/>
                            </a:lnTo>
                            <a:lnTo>
                              <a:pt x="214" y="85"/>
                            </a:lnTo>
                            <a:lnTo>
                              <a:pt x="211" y="85"/>
                            </a:lnTo>
                            <a:lnTo>
                              <a:pt x="207" y="87"/>
                            </a:lnTo>
                            <a:lnTo>
                              <a:pt x="204" y="87"/>
                            </a:lnTo>
                            <a:lnTo>
                              <a:pt x="201" y="88"/>
                            </a:lnTo>
                            <a:lnTo>
                              <a:pt x="198" y="88"/>
                            </a:lnTo>
                            <a:lnTo>
                              <a:pt x="193" y="88"/>
                            </a:lnTo>
                            <a:lnTo>
                              <a:pt x="190" y="89"/>
                            </a:lnTo>
                            <a:lnTo>
                              <a:pt x="187" y="91"/>
                            </a:lnTo>
                            <a:lnTo>
                              <a:pt x="181" y="92"/>
                            </a:lnTo>
                            <a:lnTo>
                              <a:pt x="175" y="93"/>
                            </a:lnTo>
                            <a:lnTo>
                              <a:pt x="167" y="95"/>
                            </a:lnTo>
                            <a:lnTo>
                              <a:pt x="161" y="98"/>
                            </a:lnTo>
                            <a:lnTo>
                              <a:pt x="158" y="98"/>
                            </a:lnTo>
                            <a:lnTo>
                              <a:pt x="153" y="99"/>
                            </a:lnTo>
                            <a:lnTo>
                              <a:pt x="150" y="100"/>
                            </a:lnTo>
                            <a:lnTo>
                              <a:pt x="147" y="102"/>
                            </a:lnTo>
                            <a:lnTo>
                              <a:pt x="141" y="103"/>
                            </a:lnTo>
                            <a:lnTo>
                              <a:pt x="135" y="106"/>
                            </a:lnTo>
                            <a:lnTo>
                              <a:pt x="127" y="109"/>
                            </a:lnTo>
                            <a:lnTo>
                              <a:pt x="123" y="111"/>
                            </a:lnTo>
                            <a:lnTo>
                              <a:pt x="116" y="114"/>
                            </a:lnTo>
                            <a:lnTo>
                              <a:pt x="110" y="118"/>
                            </a:lnTo>
                            <a:lnTo>
                              <a:pt x="113" y="132"/>
                            </a:lnTo>
                            <a:lnTo>
                              <a:pt x="116" y="126"/>
                            </a:lnTo>
                            <a:lnTo>
                              <a:pt x="121" y="124"/>
                            </a:lnTo>
                            <a:lnTo>
                              <a:pt x="124" y="121"/>
                            </a:lnTo>
                            <a:lnTo>
                              <a:pt x="127" y="120"/>
                            </a:lnTo>
                            <a:lnTo>
                              <a:pt x="130" y="118"/>
                            </a:lnTo>
                            <a:lnTo>
                              <a:pt x="135" y="117"/>
                            </a:lnTo>
                            <a:lnTo>
                              <a:pt x="139" y="114"/>
                            </a:lnTo>
                            <a:lnTo>
                              <a:pt x="144" y="113"/>
                            </a:lnTo>
                            <a:lnTo>
                              <a:pt x="147" y="111"/>
                            </a:lnTo>
                            <a:lnTo>
                              <a:pt x="153" y="110"/>
                            </a:lnTo>
                            <a:lnTo>
                              <a:pt x="158" y="107"/>
                            </a:lnTo>
                            <a:lnTo>
                              <a:pt x="164" y="107"/>
                            </a:lnTo>
                            <a:lnTo>
                              <a:pt x="170" y="104"/>
                            </a:lnTo>
                            <a:lnTo>
                              <a:pt x="176" y="104"/>
                            </a:lnTo>
                            <a:lnTo>
                              <a:pt x="182" y="102"/>
                            </a:lnTo>
                            <a:lnTo>
                              <a:pt x="188" y="100"/>
                            </a:lnTo>
                            <a:lnTo>
                              <a:pt x="194" y="99"/>
                            </a:lnTo>
                            <a:lnTo>
                              <a:pt x="202" y="98"/>
                            </a:lnTo>
                            <a:lnTo>
                              <a:pt x="208" y="96"/>
                            </a:lnTo>
                            <a:lnTo>
                              <a:pt x="216" y="95"/>
                            </a:lnTo>
                            <a:lnTo>
                              <a:pt x="224" y="95"/>
                            </a:lnTo>
                            <a:lnTo>
                              <a:pt x="231" y="93"/>
                            </a:lnTo>
                            <a:lnTo>
                              <a:pt x="237" y="92"/>
                            </a:lnTo>
                            <a:lnTo>
                              <a:pt x="245" y="91"/>
                            </a:lnTo>
                            <a:lnTo>
                              <a:pt x="253" y="89"/>
                            </a:lnTo>
                            <a:lnTo>
                              <a:pt x="260" y="88"/>
                            </a:lnTo>
                            <a:lnTo>
                              <a:pt x="268" y="88"/>
                            </a:lnTo>
                            <a:lnTo>
                              <a:pt x="277" y="87"/>
                            </a:lnTo>
                            <a:lnTo>
                              <a:pt x="285" y="85"/>
                            </a:lnTo>
                            <a:lnTo>
                              <a:pt x="292" y="85"/>
                            </a:lnTo>
                            <a:lnTo>
                              <a:pt x="300" y="84"/>
                            </a:lnTo>
                            <a:lnTo>
                              <a:pt x="308" y="82"/>
                            </a:lnTo>
                            <a:lnTo>
                              <a:pt x="315" y="82"/>
                            </a:lnTo>
                            <a:lnTo>
                              <a:pt x="325" y="81"/>
                            </a:lnTo>
                            <a:lnTo>
                              <a:pt x="332" y="80"/>
                            </a:lnTo>
                            <a:lnTo>
                              <a:pt x="340" y="80"/>
                            </a:lnTo>
                            <a:lnTo>
                              <a:pt x="347" y="78"/>
                            </a:lnTo>
                            <a:lnTo>
                              <a:pt x="357" y="78"/>
                            </a:lnTo>
                            <a:lnTo>
                              <a:pt x="364" y="77"/>
                            </a:lnTo>
                            <a:lnTo>
                              <a:pt x="370" y="77"/>
                            </a:lnTo>
                            <a:lnTo>
                              <a:pt x="378" y="76"/>
                            </a:lnTo>
                            <a:lnTo>
                              <a:pt x="386" y="76"/>
                            </a:lnTo>
                            <a:lnTo>
                              <a:pt x="393" y="74"/>
                            </a:lnTo>
                            <a:lnTo>
                              <a:pt x="401" y="74"/>
                            </a:lnTo>
                            <a:lnTo>
                              <a:pt x="409" y="73"/>
                            </a:lnTo>
                            <a:lnTo>
                              <a:pt x="416" y="73"/>
                            </a:lnTo>
                            <a:lnTo>
                              <a:pt x="422" y="73"/>
                            </a:lnTo>
                            <a:lnTo>
                              <a:pt x="429" y="73"/>
                            </a:lnTo>
                            <a:lnTo>
                              <a:pt x="435" y="71"/>
                            </a:lnTo>
                            <a:lnTo>
                              <a:pt x="442" y="71"/>
                            </a:lnTo>
                            <a:lnTo>
                              <a:pt x="448" y="71"/>
                            </a:lnTo>
                            <a:lnTo>
                              <a:pt x="455" y="70"/>
                            </a:lnTo>
                            <a:lnTo>
                              <a:pt x="461" y="70"/>
                            </a:lnTo>
                            <a:lnTo>
                              <a:pt x="467" y="70"/>
                            </a:lnTo>
                            <a:lnTo>
                              <a:pt x="471" y="70"/>
                            </a:lnTo>
                            <a:lnTo>
                              <a:pt x="476" y="70"/>
                            </a:lnTo>
                            <a:lnTo>
                              <a:pt x="481" y="70"/>
                            </a:lnTo>
                            <a:lnTo>
                              <a:pt x="487" y="70"/>
                            </a:lnTo>
                            <a:lnTo>
                              <a:pt x="490" y="70"/>
                            </a:lnTo>
                            <a:lnTo>
                              <a:pt x="494" y="70"/>
                            </a:lnTo>
                            <a:lnTo>
                              <a:pt x="497" y="70"/>
                            </a:lnTo>
                            <a:lnTo>
                              <a:pt x="502" y="70"/>
                            </a:lnTo>
                            <a:lnTo>
                              <a:pt x="1080" y="73"/>
                            </a:lnTo>
                            <a:lnTo>
                              <a:pt x="1079" y="73"/>
                            </a:lnTo>
                            <a:lnTo>
                              <a:pt x="1077" y="73"/>
                            </a:lnTo>
                            <a:lnTo>
                              <a:pt x="1074" y="73"/>
                            </a:lnTo>
                            <a:lnTo>
                              <a:pt x="1071" y="73"/>
                            </a:lnTo>
                            <a:lnTo>
                              <a:pt x="1066" y="73"/>
                            </a:lnTo>
                            <a:lnTo>
                              <a:pt x="1063" y="73"/>
                            </a:lnTo>
                            <a:lnTo>
                              <a:pt x="1059" y="74"/>
                            </a:lnTo>
                            <a:lnTo>
                              <a:pt x="1054" y="74"/>
                            </a:lnTo>
                            <a:lnTo>
                              <a:pt x="1047" y="74"/>
                            </a:lnTo>
                            <a:lnTo>
                              <a:pt x="1040" y="76"/>
                            </a:lnTo>
                            <a:lnTo>
                              <a:pt x="1034" y="76"/>
                            </a:lnTo>
                            <a:lnTo>
                              <a:pt x="1028" y="77"/>
                            </a:lnTo>
                            <a:lnTo>
                              <a:pt x="1024" y="77"/>
                            </a:lnTo>
                            <a:lnTo>
                              <a:pt x="1021" y="77"/>
                            </a:lnTo>
                            <a:lnTo>
                              <a:pt x="1016" y="77"/>
                            </a:lnTo>
                            <a:lnTo>
                              <a:pt x="1013" y="77"/>
                            </a:lnTo>
                            <a:lnTo>
                              <a:pt x="1010" y="77"/>
                            </a:lnTo>
                            <a:lnTo>
                              <a:pt x="1007" y="78"/>
                            </a:lnTo>
                            <a:lnTo>
                              <a:pt x="1002" y="78"/>
                            </a:lnTo>
                            <a:lnTo>
                              <a:pt x="999" y="80"/>
                            </a:lnTo>
                            <a:lnTo>
                              <a:pt x="996" y="80"/>
                            </a:lnTo>
                            <a:lnTo>
                              <a:pt x="991" y="80"/>
                            </a:lnTo>
                            <a:lnTo>
                              <a:pt x="988" y="80"/>
                            </a:lnTo>
                            <a:lnTo>
                              <a:pt x="984" y="80"/>
                            </a:lnTo>
                            <a:lnTo>
                              <a:pt x="981" y="80"/>
                            </a:lnTo>
                            <a:lnTo>
                              <a:pt x="978" y="80"/>
                            </a:lnTo>
                            <a:lnTo>
                              <a:pt x="973" y="80"/>
                            </a:lnTo>
                            <a:lnTo>
                              <a:pt x="970" y="81"/>
                            </a:lnTo>
                            <a:lnTo>
                              <a:pt x="967" y="81"/>
                            </a:lnTo>
                            <a:lnTo>
                              <a:pt x="962" y="81"/>
                            </a:lnTo>
                            <a:lnTo>
                              <a:pt x="959" y="81"/>
                            </a:lnTo>
                            <a:lnTo>
                              <a:pt x="956" y="82"/>
                            </a:lnTo>
                            <a:lnTo>
                              <a:pt x="950" y="82"/>
                            </a:lnTo>
                            <a:lnTo>
                              <a:pt x="944" y="82"/>
                            </a:lnTo>
                            <a:lnTo>
                              <a:pt x="938" y="82"/>
                            </a:lnTo>
                            <a:lnTo>
                              <a:pt x="933" y="84"/>
                            </a:lnTo>
                            <a:lnTo>
                              <a:pt x="929" y="84"/>
                            </a:lnTo>
                            <a:lnTo>
                              <a:pt x="924" y="84"/>
                            </a:lnTo>
                            <a:lnTo>
                              <a:pt x="921" y="84"/>
                            </a:lnTo>
                            <a:lnTo>
                              <a:pt x="918" y="85"/>
                            </a:lnTo>
                            <a:lnTo>
                              <a:pt x="916" y="85"/>
                            </a:lnTo>
                            <a:lnTo>
                              <a:pt x="915" y="85"/>
                            </a:lnTo>
                            <a:lnTo>
                              <a:pt x="918" y="85"/>
                            </a:lnTo>
                            <a:lnTo>
                              <a:pt x="921" y="85"/>
                            </a:lnTo>
                            <a:lnTo>
                              <a:pt x="926" y="85"/>
                            </a:lnTo>
                            <a:lnTo>
                              <a:pt x="929" y="87"/>
                            </a:lnTo>
                            <a:lnTo>
                              <a:pt x="933" y="87"/>
                            </a:lnTo>
                            <a:lnTo>
                              <a:pt x="936" y="87"/>
                            </a:lnTo>
                            <a:lnTo>
                              <a:pt x="939" y="87"/>
                            </a:lnTo>
                            <a:lnTo>
                              <a:pt x="944" y="88"/>
                            </a:lnTo>
                            <a:lnTo>
                              <a:pt x="947" y="88"/>
                            </a:lnTo>
                            <a:lnTo>
                              <a:pt x="952" y="88"/>
                            </a:lnTo>
                            <a:lnTo>
                              <a:pt x="955" y="88"/>
                            </a:lnTo>
                            <a:lnTo>
                              <a:pt x="959" y="88"/>
                            </a:lnTo>
                            <a:lnTo>
                              <a:pt x="962" y="88"/>
                            </a:lnTo>
                            <a:lnTo>
                              <a:pt x="967" y="88"/>
                            </a:lnTo>
                            <a:lnTo>
                              <a:pt x="972" y="88"/>
                            </a:lnTo>
                            <a:lnTo>
                              <a:pt x="975" y="88"/>
                            </a:lnTo>
                            <a:lnTo>
                              <a:pt x="979" y="87"/>
                            </a:lnTo>
                            <a:lnTo>
                              <a:pt x="982" y="87"/>
                            </a:lnTo>
                            <a:lnTo>
                              <a:pt x="987" y="87"/>
                            </a:lnTo>
                            <a:lnTo>
                              <a:pt x="991" y="87"/>
                            </a:lnTo>
                            <a:lnTo>
                              <a:pt x="994" y="87"/>
                            </a:lnTo>
                            <a:lnTo>
                              <a:pt x="999" y="87"/>
                            </a:lnTo>
                            <a:lnTo>
                              <a:pt x="1002" y="87"/>
                            </a:lnTo>
                            <a:lnTo>
                              <a:pt x="1007" y="87"/>
                            </a:lnTo>
                            <a:lnTo>
                              <a:pt x="1011" y="87"/>
                            </a:lnTo>
                            <a:lnTo>
                              <a:pt x="1014" y="87"/>
                            </a:lnTo>
                            <a:lnTo>
                              <a:pt x="1019" y="87"/>
                            </a:lnTo>
                            <a:lnTo>
                              <a:pt x="1022" y="87"/>
                            </a:lnTo>
                            <a:lnTo>
                              <a:pt x="1027" y="85"/>
                            </a:lnTo>
                            <a:lnTo>
                              <a:pt x="1031" y="85"/>
                            </a:lnTo>
                            <a:lnTo>
                              <a:pt x="1036" y="85"/>
                            </a:lnTo>
                            <a:lnTo>
                              <a:pt x="1040" y="85"/>
                            </a:lnTo>
                            <a:lnTo>
                              <a:pt x="1043" y="85"/>
                            </a:lnTo>
                            <a:lnTo>
                              <a:pt x="1047" y="85"/>
                            </a:lnTo>
                            <a:lnTo>
                              <a:pt x="1051" y="85"/>
                            </a:lnTo>
                            <a:lnTo>
                              <a:pt x="1056" y="85"/>
                            </a:lnTo>
                            <a:lnTo>
                              <a:pt x="1059" y="84"/>
                            </a:lnTo>
                            <a:lnTo>
                              <a:pt x="1063" y="84"/>
                            </a:lnTo>
                            <a:lnTo>
                              <a:pt x="1066" y="84"/>
                            </a:lnTo>
                            <a:lnTo>
                              <a:pt x="1071" y="84"/>
                            </a:lnTo>
                            <a:lnTo>
                              <a:pt x="1074" y="84"/>
                            </a:lnTo>
                            <a:lnTo>
                              <a:pt x="1079" y="84"/>
                            </a:lnTo>
                            <a:lnTo>
                              <a:pt x="1082" y="82"/>
                            </a:lnTo>
                            <a:lnTo>
                              <a:pt x="1086" y="82"/>
                            </a:lnTo>
                            <a:lnTo>
                              <a:pt x="1091" y="82"/>
                            </a:lnTo>
                            <a:lnTo>
                              <a:pt x="1094" y="82"/>
                            </a:lnTo>
                            <a:lnTo>
                              <a:pt x="1099" y="82"/>
                            </a:lnTo>
                            <a:lnTo>
                              <a:pt x="1103" y="82"/>
                            </a:lnTo>
                            <a:lnTo>
                              <a:pt x="1106" y="82"/>
                            </a:lnTo>
                            <a:lnTo>
                              <a:pt x="1111" y="82"/>
                            </a:lnTo>
                            <a:lnTo>
                              <a:pt x="1114" y="82"/>
                            </a:lnTo>
                            <a:lnTo>
                              <a:pt x="1118" y="82"/>
                            </a:lnTo>
                            <a:lnTo>
                              <a:pt x="1123" y="81"/>
                            </a:lnTo>
                            <a:lnTo>
                              <a:pt x="1126" y="81"/>
                            </a:lnTo>
                            <a:lnTo>
                              <a:pt x="1129" y="81"/>
                            </a:lnTo>
                            <a:lnTo>
                              <a:pt x="1134" y="81"/>
                            </a:lnTo>
                            <a:lnTo>
                              <a:pt x="1138" y="81"/>
                            </a:lnTo>
                            <a:lnTo>
                              <a:pt x="1141" y="81"/>
                            </a:lnTo>
                            <a:lnTo>
                              <a:pt x="1146" y="81"/>
                            </a:lnTo>
                            <a:lnTo>
                              <a:pt x="1149" y="81"/>
                            </a:lnTo>
                            <a:lnTo>
                              <a:pt x="1154" y="81"/>
                            </a:lnTo>
                            <a:lnTo>
                              <a:pt x="1157" y="81"/>
                            </a:lnTo>
                            <a:lnTo>
                              <a:pt x="1160" y="81"/>
                            </a:lnTo>
                            <a:lnTo>
                              <a:pt x="1164" y="81"/>
                            </a:lnTo>
                            <a:lnTo>
                              <a:pt x="1164" y="84"/>
                            </a:lnTo>
                            <a:lnTo>
                              <a:pt x="1166" y="88"/>
                            </a:lnTo>
                            <a:lnTo>
                              <a:pt x="1166" y="91"/>
                            </a:lnTo>
                            <a:lnTo>
                              <a:pt x="1166" y="95"/>
                            </a:lnTo>
                            <a:lnTo>
                              <a:pt x="1166" y="99"/>
                            </a:lnTo>
                            <a:lnTo>
                              <a:pt x="1167" y="103"/>
                            </a:lnTo>
                            <a:lnTo>
                              <a:pt x="1167" y="107"/>
                            </a:lnTo>
                            <a:lnTo>
                              <a:pt x="1167" y="113"/>
                            </a:lnTo>
                            <a:lnTo>
                              <a:pt x="1167" y="117"/>
                            </a:lnTo>
                            <a:lnTo>
                              <a:pt x="1169" y="120"/>
                            </a:lnTo>
                            <a:lnTo>
                              <a:pt x="1170" y="124"/>
                            </a:lnTo>
                            <a:lnTo>
                              <a:pt x="1170" y="128"/>
                            </a:lnTo>
                            <a:lnTo>
                              <a:pt x="1172" y="132"/>
                            </a:lnTo>
                            <a:lnTo>
                              <a:pt x="1173" y="135"/>
                            </a:lnTo>
                            <a:lnTo>
                              <a:pt x="1175" y="137"/>
                            </a:lnTo>
                            <a:lnTo>
                              <a:pt x="1177" y="140"/>
                            </a:lnTo>
                            <a:lnTo>
                              <a:pt x="1183" y="139"/>
                            </a:lnTo>
                            <a:lnTo>
                              <a:pt x="1183" y="135"/>
                            </a:lnTo>
                            <a:lnTo>
                              <a:pt x="1183" y="130"/>
                            </a:lnTo>
                            <a:lnTo>
                              <a:pt x="1183" y="126"/>
                            </a:lnTo>
                            <a:lnTo>
                              <a:pt x="1184" y="122"/>
                            </a:lnTo>
                            <a:lnTo>
                              <a:pt x="1183" y="118"/>
                            </a:lnTo>
                            <a:lnTo>
                              <a:pt x="1183" y="114"/>
                            </a:lnTo>
                            <a:lnTo>
                              <a:pt x="1181" y="109"/>
                            </a:lnTo>
                            <a:lnTo>
                              <a:pt x="1181" y="104"/>
                            </a:lnTo>
                            <a:lnTo>
                              <a:pt x="1180" y="100"/>
                            </a:lnTo>
                            <a:lnTo>
                              <a:pt x="1180" y="96"/>
                            </a:lnTo>
                            <a:lnTo>
                              <a:pt x="1178" y="92"/>
                            </a:lnTo>
                            <a:lnTo>
                              <a:pt x="1177" y="88"/>
                            </a:lnTo>
                            <a:lnTo>
                              <a:pt x="1177" y="82"/>
                            </a:lnTo>
                            <a:lnTo>
                              <a:pt x="1175" y="80"/>
                            </a:lnTo>
                            <a:lnTo>
                              <a:pt x="1175" y="76"/>
                            </a:lnTo>
                            <a:lnTo>
                              <a:pt x="1175" y="73"/>
                            </a:lnTo>
                            <a:lnTo>
                              <a:pt x="1172" y="70"/>
                            </a:lnTo>
                            <a:lnTo>
                              <a:pt x="1167" y="69"/>
                            </a:lnTo>
                            <a:lnTo>
                              <a:pt x="1161" y="67"/>
                            </a:lnTo>
                            <a:lnTo>
                              <a:pt x="1160" y="66"/>
                            </a:lnTo>
                            <a:lnTo>
                              <a:pt x="1183" y="66"/>
                            </a:lnTo>
                            <a:lnTo>
                              <a:pt x="1184" y="70"/>
                            </a:lnTo>
                            <a:lnTo>
                              <a:pt x="1184" y="74"/>
                            </a:lnTo>
                            <a:lnTo>
                              <a:pt x="1186" y="78"/>
                            </a:lnTo>
                            <a:lnTo>
                              <a:pt x="1187" y="84"/>
                            </a:lnTo>
                            <a:lnTo>
                              <a:pt x="1189" y="80"/>
                            </a:lnTo>
                            <a:lnTo>
                              <a:pt x="1190" y="77"/>
                            </a:lnTo>
                            <a:lnTo>
                              <a:pt x="1192" y="73"/>
                            </a:lnTo>
                            <a:lnTo>
                              <a:pt x="1192" y="70"/>
                            </a:lnTo>
                            <a:lnTo>
                              <a:pt x="1192" y="66"/>
                            </a:lnTo>
                            <a:lnTo>
                              <a:pt x="1190" y="62"/>
                            </a:lnTo>
                            <a:lnTo>
                              <a:pt x="1190" y="59"/>
                            </a:lnTo>
                            <a:lnTo>
                              <a:pt x="1190" y="56"/>
                            </a:lnTo>
                            <a:lnTo>
                              <a:pt x="1186" y="56"/>
                            </a:lnTo>
                            <a:lnTo>
                              <a:pt x="1181" y="56"/>
                            </a:lnTo>
                            <a:lnTo>
                              <a:pt x="1177" y="58"/>
                            </a:lnTo>
                            <a:lnTo>
                              <a:pt x="1170" y="58"/>
                            </a:lnTo>
                            <a:lnTo>
                              <a:pt x="1166" y="59"/>
                            </a:lnTo>
                            <a:lnTo>
                              <a:pt x="1161" y="60"/>
                            </a:lnTo>
                            <a:lnTo>
                              <a:pt x="1158" y="62"/>
                            </a:lnTo>
                            <a:lnTo>
                              <a:pt x="1155" y="63"/>
                            </a:lnTo>
                            <a:lnTo>
                              <a:pt x="1152" y="62"/>
                            </a:lnTo>
                            <a:lnTo>
                              <a:pt x="1149" y="62"/>
                            </a:lnTo>
                            <a:lnTo>
                              <a:pt x="1144" y="60"/>
                            </a:lnTo>
                            <a:lnTo>
                              <a:pt x="1140" y="60"/>
                            </a:lnTo>
                            <a:lnTo>
                              <a:pt x="1137" y="60"/>
                            </a:lnTo>
                            <a:lnTo>
                              <a:pt x="1132" y="60"/>
                            </a:lnTo>
                            <a:lnTo>
                              <a:pt x="1129" y="60"/>
                            </a:lnTo>
                            <a:lnTo>
                              <a:pt x="1126" y="60"/>
                            </a:lnTo>
                            <a:lnTo>
                              <a:pt x="1129" y="59"/>
                            </a:lnTo>
                            <a:lnTo>
                              <a:pt x="1132" y="58"/>
                            </a:lnTo>
                            <a:lnTo>
                              <a:pt x="1135" y="58"/>
                            </a:lnTo>
                            <a:lnTo>
                              <a:pt x="1140" y="56"/>
                            </a:lnTo>
                            <a:lnTo>
                              <a:pt x="1144" y="55"/>
                            </a:lnTo>
                            <a:lnTo>
                              <a:pt x="1149" y="55"/>
                            </a:lnTo>
                            <a:lnTo>
                              <a:pt x="1154" y="54"/>
                            </a:lnTo>
                            <a:lnTo>
                              <a:pt x="1160" y="54"/>
                            </a:lnTo>
                            <a:lnTo>
                              <a:pt x="1164" y="52"/>
                            </a:lnTo>
                            <a:lnTo>
                              <a:pt x="1170" y="52"/>
                            </a:lnTo>
                            <a:lnTo>
                              <a:pt x="1175" y="52"/>
                            </a:lnTo>
                            <a:lnTo>
                              <a:pt x="1180" y="52"/>
                            </a:lnTo>
                            <a:lnTo>
                              <a:pt x="1184" y="51"/>
                            </a:lnTo>
                            <a:lnTo>
                              <a:pt x="1189" y="51"/>
                            </a:lnTo>
                            <a:lnTo>
                              <a:pt x="1193" y="50"/>
                            </a:lnTo>
                            <a:lnTo>
                              <a:pt x="1198" y="50"/>
                            </a:lnTo>
                            <a:lnTo>
                              <a:pt x="1198" y="54"/>
                            </a:lnTo>
                            <a:lnTo>
                              <a:pt x="1198" y="56"/>
                            </a:lnTo>
                            <a:lnTo>
                              <a:pt x="1198" y="60"/>
                            </a:lnTo>
                            <a:lnTo>
                              <a:pt x="1199" y="63"/>
                            </a:lnTo>
                            <a:lnTo>
                              <a:pt x="1199" y="67"/>
                            </a:lnTo>
                            <a:lnTo>
                              <a:pt x="1201" y="70"/>
                            </a:lnTo>
                            <a:lnTo>
                              <a:pt x="1201" y="74"/>
                            </a:lnTo>
                            <a:lnTo>
                              <a:pt x="1203" y="78"/>
                            </a:lnTo>
                            <a:lnTo>
                              <a:pt x="1203" y="81"/>
                            </a:lnTo>
                            <a:lnTo>
                              <a:pt x="1203" y="85"/>
                            </a:lnTo>
                            <a:lnTo>
                              <a:pt x="1204" y="88"/>
                            </a:lnTo>
                            <a:lnTo>
                              <a:pt x="1204" y="92"/>
                            </a:lnTo>
                            <a:lnTo>
                              <a:pt x="1204" y="95"/>
                            </a:lnTo>
                            <a:lnTo>
                              <a:pt x="1206" y="99"/>
                            </a:lnTo>
                            <a:lnTo>
                              <a:pt x="1206" y="102"/>
                            </a:lnTo>
                            <a:lnTo>
                              <a:pt x="1207" y="106"/>
                            </a:lnTo>
                            <a:lnTo>
                              <a:pt x="1207" y="110"/>
                            </a:lnTo>
                            <a:lnTo>
                              <a:pt x="1207" y="113"/>
                            </a:lnTo>
                            <a:lnTo>
                              <a:pt x="1209" y="117"/>
                            </a:lnTo>
                            <a:lnTo>
                              <a:pt x="1209" y="120"/>
                            </a:lnTo>
                            <a:lnTo>
                              <a:pt x="1209" y="124"/>
                            </a:lnTo>
                            <a:lnTo>
                              <a:pt x="1210" y="126"/>
                            </a:lnTo>
                            <a:lnTo>
                              <a:pt x="1210" y="129"/>
                            </a:lnTo>
                            <a:lnTo>
                              <a:pt x="1212" y="133"/>
                            </a:lnTo>
                            <a:lnTo>
                              <a:pt x="1212" y="136"/>
                            </a:lnTo>
                            <a:lnTo>
                              <a:pt x="1213" y="140"/>
                            </a:lnTo>
                            <a:lnTo>
                              <a:pt x="1213" y="143"/>
                            </a:lnTo>
                            <a:lnTo>
                              <a:pt x="1215" y="147"/>
                            </a:lnTo>
                            <a:lnTo>
                              <a:pt x="1215" y="150"/>
                            </a:lnTo>
                            <a:lnTo>
                              <a:pt x="1216" y="154"/>
                            </a:lnTo>
                            <a:lnTo>
                              <a:pt x="1216" y="157"/>
                            </a:lnTo>
                            <a:lnTo>
                              <a:pt x="1218" y="161"/>
                            </a:lnTo>
                            <a:lnTo>
                              <a:pt x="1218" y="166"/>
                            </a:lnTo>
                            <a:lnTo>
                              <a:pt x="1219" y="172"/>
                            </a:lnTo>
                            <a:lnTo>
                              <a:pt x="1221" y="177"/>
                            </a:lnTo>
                            <a:lnTo>
                              <a:pt x="1222" y="183"/>
                            </a:lnTo>
                            <a:lnTo>
                              <a:pt x="1224" y="188"/>
                            </a:lnTo>
                            <a:lnTo>
                              <a:pt x="1227" y="194"/>
                            </a:lnTo>
                            <a:lnTo>
                              <a:pt x="1232" y="196"/>
                            </a:lnTo>
                            <a:lnTo>
                              <a:pt x="1236" y="199"/>
                            </a:lnTo>
                            <a:lnTo>
                              <a:pt x="1235" y="195"/>
                            </a:lnTo>
                            <a:lnTo>
                              <a:pt x="1235" y="191"/>
                            </a:lnTo>
                            <a:lnTo>
                              <a:pt x="1235" y="187"/>
                            </a:lnTo>
                            <a:lnTo>
                              <a:pt x="1235" y="183"/>
                            </a:lnTo>
                            <a:lnTo>
                              <a:pt x="1235" y="177"/>
                            </a:lnTo>
                            <a:lnTo>
                              <a:pt x="1235" y="172"/>
                            </a:lnTo>
                            <a:lnTo>
                              <a:pt x="1235" y="166"/>
                            </a:lnTo>
                            <a:lnTo>
                              <a:pt x="1235" y="161"/>
                            </a:lnTo>
                            <a:lnTo>
                              <a:pt x="1233" y="157"/>
                            </a:lnTo>
                            <a:lnTo>
                              <a:pt x="1233" y="154"/>
                            </a:lnTo>
                            <a:lnTo>
                              <a:pt x="1233" y="151"/>
                            </a:lnTo>
                            <a:lnTo>
                              <a:pt x="1233" y="147"/>
                            </a:lnTo>
                            <a:lnTo>
                              <a:pt x="1233" y="144"/>
                            </a:lnTo>
                            <a:lnTo>
                              <a:pt x="1233" y="140"/>
                            </a:lnTo>
                            <a:lnTo>
                              <a:pt x="1233" y="137"/>
                            </a:lnTo>
                            <a:lnTo>
                              <a:pt x="1233" y="135"/>
                            </a:lnTo>
                            <a:lnTo>
                              <a:pt x="1232" y="130"/>
                            </a:lnTo>
                            <a:lnTo>
                              <a:pt x="1232" y="128"/>
                            </a:lnTo>
                            <a:lnTo>
                              <a:pt x="1232" y="124"/>
                            </a:lnTo>
                            <a:lnTo>
                              <a:pt x="1232" y="121"/>
                            </a:lnTo>
                            <a:lnTo>
                              <a:pt x="1232" y="117"/>
                            </a:lnTo>
                            <a:lnTo>
                              <a:pt x="1232" y="114"/>
                            </a:lnTo>
                            <a:lnTo>
                              <a:pt x="1232" y="111"/>
                            </a:lnTo>
                            <a:lnTo>
                              <a:pt x="1232" y="107"/>
                            </a:lnTo>
                            <a:lnTo>
                              <a:pt x="1232" y="103"/>
                            </a:lnTo>
                            <a:lnTo>
                              <a:pt x="1230" y="100"/>
                            </a:lnTo>
                            <a:lnTo>
                              <a:pt x="1230" y="96"/>
                            </a:lnTo>
                            <a:lnTo>
                              <a:pt x="1230" y="93"/>
                            </a:lnTo>
                            <a:lnTo>
                              <a:pt x="1230" y="89"/>
                            </a:lnTo>
                            <a:lnTo>
                              <a:pt x="1229" y="87"/>
                            </a:lnTo>
                            <a:lnTo>
                              <a:pt x="1229" y="82"/>
                            </a:lnTo>
                            <a:lnTo>
                              <a:pt x="1229" y="80"/>
                            </a:lnTo>
                            <a:lnTo>
                              <a:pt x="1229" y="76"/>
                            </a:lnTo>
                            <a:lnTo>
                              <a:pt x="1229" y="73"/>
                            </a:lnTo>
                            <a:lnTo>
                              <a:pt x="1229" y="70"/>
                            </a:lnTo>
                            <a:lnTo>
                              <a:pt x="1229" y="67"/>
                            </a:lnTo>
                            <a:lnTo>
                              <a:pt x="1227" y="60"/>
                            </a:lnTo>
                            <a:lnTo>
                              <a:pt x="1227" y="56"/>
                            </a:lnTo>
                            <a:lnTo>
                              <a:pt x="1225" y="51"/>
                            </a:lnTo>
                            <a:lnTo>
                              <a:pt x="1224" y="45"/>
                            </a:lnTo>
                            <a:lnTo>
                              <a:pt x="1224" y="41"/>
                            </a:lnTo>
                            <a:lnTo>
                              <a:pt x="1224" y="37"/>
                            </a:lnTo>
                            <a:lnTo>
                              <a:pt x="1222" y="33"/>
                            </a:lnTo>
                            <a:lnTo>
                              <a:pt x="1221" y="30"/>
                            </a:lnTo>
                            <a:lnTo>
                              <a:pt x="1221" y="29"/>
                            </a:lnTo>
                            <a:lnTo>
                              <a:pt x="1221" y="28"/>
                            </a:lnTo>
                            <a:lnTo>
                              <a:pt x="1215" y="28"/>
                            </a:lnTo>
                            <a:lnTo>
                              <a:pt x="1207" y="28"/>
                            </a:lnTo>
                            <a:lnTo>
                              <a:pt x="1201" y="28"/>
                            </a:lnTo>
                            <a:lnTo>
                              <a:pt x="1196" y="28"/>
                            </a:lnTo>
                            <a:lnTo>
                              <a:pt x="1190" y="28"/>
                            </a:lnTo>
                            <a:lnTo>
                              <a:pt x="1184" y="28"/>
                            </a:lnTo>
                            <a:lnTo>
                              <a:pt x="1178" y="28"/>
                            </a:lnTo>
                            <a:lnTo>
                              <a:pt x="1172" y="28"/>
                            </a:lnTo>
                            <a:lnTo>
                              <a:pt x="1170" y="26"/>
                            </a:lnTo>
                            <a:lnTo>
                              <a:pt x="1169" y="26"/>
                            </a:lnTo>
                            <a:lnTo>
                              <a:pt x="1164" y="26"/>
                            </a:lnTo>
                            <a:lnTo>
                              <a:pt x="1161" y="25"/>
                            </a:lnTo>
                            <a:lnTo>
                              <a:pt x="1157" y="23"/>
                            </a:lnTo>
                            <a:lnTo>
                              <a:pt x="1154" y="23"/>
                            </a:lnTo>
                            <a:lnTo>
                              <a:pt x="1151" y="23"/>
                            </a:lnTo>
                            <a:lnTo>
                              <a:pt x="1149" y="22"/>
                            </a:lnTo>
                            <a:lnTo>
                              <a:pt x="1154" y="22"/>
                            </a:lnTo>
                            <a:lnTo>
                              <a:pt x="1160" y="21"/>
                            </a:lnTo>
                            <a:lnTo>
                              <a:pt x="1164" y="21"/>
                            </a:lnTo>
                            <a:lnTo>
                              <a:pt x="1170" y="21"/>
                            </a:lnTo>
                            <a:lnTo>
                              <a:pt x="1175" y="21"/>
                            </a:lnTo>
                            <a:lnTo>
                              <a:pt x="1180" y="19"/>
                            </a:lnTo>
                            <a:lnTo>
                              <a:pt x="1186" y="19"/>
                            </a:lnTo>
                            <a:lnTo>
                              <a:pt x="1190" y="19"/>
                            </a:lnTo>
                            <a:lnTo>
                              <a:pt x="1196" y="18"/>
                            </a:lnTo>
                            <a:lnTo>
                              <a:pt x="1201" y="18"/>
                            </a:lnTo>
                            <a:lnTo>
                              <a:pt x="1206" y="18"/>
                            </a:lnTo>
                            <a:lnTo>
                              <a:pt x="1212" y="18"/>
                            </a:lnTo>
                            <a:lnTo>
                              <a:pt x="1216" y="17"/>
                            </a:lnTo>
                            <a:lnTo>
                              <a:pt x="1221" y="17"/>
                            </a:lnTo>
                            <a:lnTo>
                              <a:pt x="1227" y="15"/>
                            </a:lnTo>
                            <a:lnTo>
                              <a:pt x="1233" y="15"/>
                            </a:lnTo>
                            <a:lnTo>
                              <a:pt x="1233" y="18"/>
                            </a:lnTo>
                            <a:lnTo>
                              <a:pt x="1233" y="21"/>
                            </a:lnTo>
                            <a:lnTo>
                              <a:pt x="1233" y="23"/>
                            </a:lnTo>
                            <a:lnTo>
                              <a:pt x="1233" y="29"/>
                            </a:lnTo>
                            <a:lnTo>
                              <a:pt x="1233" y="33"/>
                            </a:lnTo>
                            <a:lnTo>
                              <a:pt x="1235" y="39"/>
                            </a:lnTo>
                            <a:lnTo>
                              <a:pt x="1235" y="40"/>
                            </a:lnTo>
                            <a:lnTo>
                              <a:pt x="1235" y="43"/>
                            </a:lnTo>
                            <a:lnTo>
                              <a:pt x="1235" y="47"/>
                            </a:lnTo>
                            <a:lnTo>
                              <a:pt x="1236" y="50"/>
                            </a:lnTo>
                            <a:lnTo>
                              <a:pt x="1236" y="52"/>
                            </a:lnTo>
                            <a:lnTo>
                              <a:pt x="1236" y="55"/>
                            </a:lnTo>
                            <a:lnTo>
                              <a:pt x="1236" y="59"/>
                            </a:lnTo>
                            <a:lnTo>
                              <a:pt x="1236" y="62"/>
                            </a:lnTo>
                            <a:lnTo>
                              <a:pt x="1236" y="66"/>
                            </a:lnTo>
                            <a:lnTo>
                              <a:pt x="1236" y="69"/>
                            </a:lnTo>
                            <a:lnTo>
                              <a:pt x="1236" y="73"/>
                            </a:lnTo>
                            <a:lnTo>
                              <a:pt x="1238" y="76"/>
                            </a:lnTo>
                            <a:lnTo>
                              <a:pt x="1238" y="80"/>
                            </a:lnTo>
                            <a:lnTo>
                              <a:pt x="1238" y="82"/>
                            </a:lnTo>
                            <a:lnTo>
                              <a:pt x="1239" y="87"/>
                            </a:lnTo>
                            <a:lnTo>
                              <a:pt x="1239" y="91"/>
                            </a:lnTo>
                            <a:lnTo>
                              <a:pt x="1239" y="93"/>
                            </a:lnTo>
                            <a:lnTo>
                              <a:pt x="1239" y="98"/>
                            </a:lnTo>
                            <a:lnTo>
                              <a:pt x="1241" y="102"/>
                            </a:lnTo>
                            <a:lnTo>
                              <a:pt x="1241" y="106"/>
                            </a:lnTo>
                            <a:lnTo>
                              <a:pt x="1241" y="109"/>
                            </a:lnTo>
                            <a:lnTo>
                              <a:pt x="1242" y="113"/>
                            </a:lnTo>
                            <a:lnTo>
                              <a:pt x="1242" y="115"/>
                            </a:lnTo>
                            <a:lnTo>
                              <a:pt x="1242" y="120"/>
                            </a:lnTo>
                            <a:lnTo>
                              <a:pt x="1242" y="122"/>
                            </a:lnTo>
                            <a:lnTo>
                              <a:pt x="1244" y="126"/>
                            </a:lnTo>
                            <a:lnTo>
                              <a:pt x="1244" y="129"/>
                            </a:lnTo>
                            <a:lnTo>
                              <a:pt x="1245" y="133"/>
                            </a:lnTo>
                            <a:lnTo>
                              <a:pt x="1245" y="136"/>
                            </a:lnTo>
                            <a:lnTo>
                              <a:pt x="1245" y="139"/>
                            </a:lnTo>
                            <a:lnTo>
                              <a:pt x="1245" y="141"/>
                            </a:lnTo>
                            <a:lnTo>
                              <a:pt x="1247" y="146"/>
                            </a:lnTo>
                            <a:lnTo>
                              <a:pt x="1248" y="151"/>
                            </a:lnTo>
                            <a:lnTo>
                              <a:pt x="1250" y="157"/>
                            </a:lnTo>
                            <a:lnTo>
                              <a:pt x="1251" y="162"/>
                            </a:lnTo>
                            <a:lnTo>
                              <a:pt x="1253" y="166"/>
                            </a:lnTo>
                            <a:lnTo>
                              <a:pt x="1253" y="172"/>
                            </a:lnTo>
                            <a:lnTo>
                              <a:pt x="1256" y="176"/>
                            </a:lnTo>
                            <a:lnTo>
                              <a:pt x="1258" y="179"/>
                            </a:lnTo>
                            <a:lnTo>
                              <a:pt x="1259" y="180"/>
                            </a:lnTo>
                            <a:lnTo>
                              <a:pt x="1261" y="181"/>
                            </a:lnTo>
                            <a:lnTo>
                              <a:pt x="1262" y="184"/>
                            </a:lnTo>
                            <a:lnTo>
                              <a:pt x="1262" y="180"/>
                            </a:lnTo>
                            <a:lnTo>
                              <a:pt x="1262" y="177"/>
                            </a:lnTo>
                            <a:lnTo>
                              <a:pt x="1262" y="174"/>
                            </a:lnTo>
                            <a:lnTo>
                              <a:pt x="1262" y="172"/>
                            </a:lnTo>
                            <a:lnTo>
                              <a:pt x="1261" y="168"/>
                            </a:lnTo>
                            <a:lnTo>
                              <a:pt x="1261" y="165"/>
                            </a:lnTo>
                            <a:lnTo>
                              <a:pt x="1261" y="162"/>
                            </a:lnTo>
                            <a:lnTo>
                              <a:pt x="1261" y="159"/>
                            </a:lnTo>
                            <a:lnTo>
                              <a:pt x="1261" y="155"/>
                            </a:lnTo>
                            <a:lnTo>
                              <a:pt x="1261" y="152"/>
                            </a:lnTo>
                            <a:lnTo>
                              <a:pt x="1259" y="150"/>
                            </a:lnTo>
                            <a:lnTo>
                              <a:pt x="1259" y="147"/>
                            </a:lnTo>
                            <a:lnTo>
                              <a:pt x="1259" y="143"/>
                            </a:lnTo>
                            <a:lnTo>
                              <a:pt x="1259" y="140"/>
                            </a:lnTo>
                            <a:lnTo>
                              <a:pt x="1259" y="137"/>
                            </a:lnTo>
                            <a:lnTo>
                              <a:pt x="1259" y="135"/>
                            </a:lnTo>
                            <a:lnTo>
                              <a:pt x="1259" y="130"/>
                            </a:lnTo>
                            <a:lnTo>
                              <a:pt x="1259" y="128"/>
                            </a:lnTo>
                            <a:lnTo>
                              <a:pt x="1258" y="124"/>
                            </a:lnTo>
                            <a:lnTo>
                              <a:pt x="1258" y="121"/>
                            </a:lnTo>
                            <a:lnTo>
                              <a:pt x="1258" y="118"/>
                            </a:lnTo>
                            <a:lnTo>
                              <a:pt x="1258" y="115"/>
                            </a:lnTo>
                            <a:lnTo>
                              <a:pt x="1258" y="111"/>
                            </a:lnTo>
                            <a:lnTo>
                              <a:pt x="1258" y="109"/>
                            </a:lnTo>
                            <a:lnTo>
                              <a:pt x="1256" y="106"/>
                            </a:lnTo>
                            <a:lnTo>
                              <a:pt x="1256" y="102"/>
                            </a:lnTo>
                            <a:lnTo>
                              <a:pt x="1256" y="99"/>
                            </a:lnTo>
                            <a:lnTo>
                              <a:pt x="1256" y="96"/>
                            </a:lnTo>
                            <a:lnTo>
                              <a:pt x="1256" y="92"/>
                            </a:lnTo>
                            <a:lnTo>
                              <a:pt x="1256" y="89"/>
                            </a:lnTo>
                            <a:lnTo>
                              <a:pt x="1256" y="87"/>
                            </a:lnTo>
                            <a:lnTo>
                              <a:pt x="1256" y="84"/>
                            </a:lnTo>
                            <a:lnTo>
                              <a:pt x="1256" y="80"/>
                            </a:lnTo>
                            <a:lnTo>
                              <a:pt x="1258" y="77"/>
                            </a:lnTo>
                            <a:lnTo>
                              <a:pt x="1259" y="74"/>
                            </a:lnTo>
                            <a:lnTo>
                              <a:pt x="1261" y="71"/>
                            </a:lnTo>
                            <a:lnTo>
                              <a:pt x="1262" y="66"/>
                            </a:lnTo>
                            <a:lnTo>
                              <a:pt x="1264" y="60"/>
                            </a:lnTo>
                            <a:lnTo>
                              <a:pt x="1265" y="55"/>
                            </a:lnTo>
                            <a:lnTo>
                              <a:pt x="1267" y="51"/>
                            </a:lnTo>
                            <a:lnTo>
                              <a:pt x="1268" y="45"/>
                            </a:lnTo>
                            <a:lnTo>
                              <a:pt x="1270" y="41"/>
                            </a:lnTo>
                            <a:lnTo>
                              <a:pt x="1270" y="36"/>
                            </a:lnTo>
                            <a:lnTo>
                              <a:pt x="1270" y="32"/>
                            </a:lnTo>
                            <a:lnTo>
                              <a:pt x="1270" y="28"/>
                            </a:lnTo>
                            <a:lnTo>
                              <a:pt x="1270" y="22"/>
                            </a:lnTo>
                            <a:lnTo>
                              <a:pt x="1268" y="17"/>
                            </a:lnTo>
                            <a:lnTo>
                              <a:pt x="1268" y="11"/>
                            </a:lnTo>
                            <a:lnTo>
                              <a:pt x="1267" y="6"/>
                            </a:lnTo>
                            <a:lnTo>
                              <a:pt x="1265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Freeform 117"/>
                      <p:cNvSpPr/>
                      <p:nvPr/>
                    </p:nvSpPr>
                    <p:spPr>
                      <a:xfrm>
                        <a:off x="3040920" y="2645280"/>
                        <a:ext cx="14040" cy="72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55" h="11">
                            <a:moveTo>
                              <a:pt x="155" y="11"/>
                            </a:moveTo>
                            <a:lnTo>
                              <a:pt x="152" y="11"/>
                            </a:lnTo>
                            <a:lnTo>
                              <a:pt x="149" y="11"/>
                            </a:lnTo>
                            <a:lnTo>
                              <a:pt x="144" y="9"/>
                            </a:lnTo>
                            <a:lnTo>
                              <a:pt x="141" y="9"/>
                            </a:lnTo>
                            <a:lnTo>
                              <a:pt x="135" y="9"/>
                            </a:lnTo>
                            <a:lnTo>
                              <a:pt x="130" y="9"/>
                            </a:lnTo>
                            <a:lnTo>
                              <a:pt x="126" y="9"/>
                            </a:lnTo>
                            <a:lnTo>
                              <a:pt x="120" y="9"/>
                            </a:lnTo>
                            <a:lnTo>
                              <a:pt x="114" y="9"/>
                            </a:lnTo>
                            <a:lnTo>
                              <a:pt x="109" y="9"/>
                            </a:lnTo>
                            <a:lnTo>
                              <a:pt x="103" y="9"/>
                            </a:lnTo>
                            <a:lnTo>
                              <a:pt x="97" y="9"/>
                            </a:lnTo>
                            <a:lnTo>
                              <a:pt x="89" y="8"/>
                            </a:lnTo>
                            <a:lnTo>
                              <a:pt x="85" y="8"/>
                            </a:lnTo>
                            <a:lnTo>
                              <a:pt x="77" y="8"/>
                            </a:lnTo>
                            <a:lnTo>
                              <a:pt x="72" y="8"/>
                            </a:lnTo>
                            <a:lnTo>
                              <a:pt x="65" y="8"/>
                            </a:lnTo>
                            <a:lnTo>
                              <a:pt x="59" y="8"/>
                            </a:lnTo>
                            <a:lnTo>
                              <a:pt x="52" y="7"/>
                            </a:lnTo>
                            <a:lnTo>
                              <a:pt x="46" y="7"/>
                            </a:lnTo>
                            <a:lnTo>
                              <a:pt x="40" y="7"/>
                            </a:lnTo>
                            <a:lnTo>
                              <a:pt x="36" y="7"/>
                            </a:lnTo>
                            <a:lnTo>
                              <a:pt x="29" y="5"/>
                            </a:lnTo>
                            <a:lnTo>
                              <a:pt x="25" y="5"/>
                            </a:lnTo>
                            <a:lnTo>
                              <a:pt x="19" y="5"/>
                            </a:lnTo>
                            <a:lnTo>
                              <a:pt x="16" y="4"/>
                            </a:lnTo>
                            <a:lnTo>
                              <a:pt x="11" y="4"/>
                            </a:lnTo>
                            <a:lnTo>
                              <a:pt x="8" y="3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1" y="0"/>
                            </a:lnTo>
                            <a:lnTo>
                              <a:pt x="55" y="3"/>
                            </a:lnTo>
                            <a:lnTo>
                              <a:pt x="60" y="1"/>
                            </a:lnTo>
                            <a:lnTo>
                              <a:pt x="65" y="1"/>
                            </a:lnTo>
                            <a:lnTo>
                              <a:pt x="69" y="1"/>
                            </a:lnTo>
                            <a:lnTo>
                              <a:pt x="72" y="1"/>
                            </a:lnTo>
                            <a:lnTo>
                              <a:pt x="77" y="1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91" y="1"/>
                            </a:lnTo>
                            <a:lnTo>
                              <a:pt x="95" y="1"/>
                            </a:lnTo>
                            <a:lnTo>
                              <a:pt x="100" y="1"/>
                            </a:lnTo>
                            <a:lnTo>
                              <a:pt x="103" y="1"/>
                            </a:lnTo>
                            <a:lnTo>
                              <a:pt x="109" y="1"/>
                            </a:lnTo>
                            <a:lnTo>
                              <a:pt x="114" y="1"/>
                            </a:lnTo>
                            <a:lnTo>
                              <a:pt x="117" y="1"/>
                            </a:lnTo>
                            <a:lnTo>
                              <a:pt x="121" y="1"/>
                            </a:lnTo>
                            <a:lnTo>
                              <a:pt x="127" y="3"/>
                            </a:lnTo>
                            <a:lnTo>
                              <a:pt x="130" y="3"/>
                            </a:lnTo>
                            <a:lnTo>
                              <a:pt x="137" y="3"/>
                            </a:lnTo>
                            <a:lnTo>
                              <a:pt x="141" y="5"/>
                            </a:lnTo>
                            <a:lnTo>
                              <a:pt x="147" y="7"/>
                            </a:lnTo>
                            <a:lnTo>
                              <a:pt x="152" y="8"/>
                            </a:lnTo>
                            <a:lnTo>
                              <a:pt x="155" y="9"/>
                            </a:lnTo>
                            <a:lnTo>
                              <a:pt x="155" y="1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8" name="Freeform 118"/>
                      <p:cNvSpPr/>
                      <p:nvPr/>
                    </p:nvSpPr>
                    <p:spPr>
                      <a:xfrm>
                        <a:off x="2969640" y="265032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5" h="42">
                            <a:moveTo>
                              <a:pt x="65" y="0"/>
                            </a:moveTo>
                            <a:lnTo>
                              <a:pt x="64" y="0"/>
                            </a:lnTo>
                            <a:lnTo>
                              <a:pt x="61" y="0"/>
                            </a:lnTo>
                            <a:lnTo>
                              <a:pt x="56" y="0"/>
                            </a:lnTo>
                            <a:lnTo>
                              <a:pt x="53" y="0"/>
                            </a:lnTo>
                            <a:lnTo>
                              <a:pt x="49" y="0"/>
                            </a:lnTo>
                            <a:lnTo>
                              <a:pt x="42" y="0"/>
                            </a:lnTo>
                            <a:lnTo>
                              <a:pt x="38" y="1"/>
                            </a:lnTo>
                            <a:lnTo>
                              <a:pt x="33" y="3"/>
                            </a:lnTo>
                            <a:lnTo>
                              <a:pt x="27" y="3"/>
                            </a:lnTo>
                            <a:lnTo>
                              <a:pt x="23" y="3"/>
                            </a:lnTo>
                            <a:lnTo>
                              <a:pt x="16" y="4"/>
                            </a:lnTo>
                            <a:lnTo>
                              <a:pt x="12" y="5"/>
                            </a:lnTo>
                            <a:lnTo>
                              <a:pt x="7" y="5"/>
                            </a:lnTo>
                            <a:lnTo>
                              <a:pt x="4" y="7"/>
                            </a:lnTo>
                            <a:lnTo>
                              <a:pt x="1" y="7"/>
                            </a:lnTo>
                            <a:lnTo>
                              <a:pt x="0" y="8"/>
                            </a:lnTo>
                            <a:lnTo>
                              <a:pt x="4" y="42"/>
                            </a:lnTo>
                            <a:lnTo>
                              <a:pt x="7" y="41"/>
                            </a:lnTo>
                            <a:lnTo>
                              <a:pt x="6" y="38"/>
                            </a:lnTo>
                            <a:lnTo>
                              <a:pt x="6" y="34"/>
                            </a:lnTo>
                            <a:lnTo>
                              <a:pt x="6" y="30"/>
                            </a:lnTo>
                            <a:lnTo>
                              <a:pt x="4" y="27"/>
                            </a:lnTo>
                            <a:lnTo>
                              <a:pt x="4" y="22"/>
                            </a:lnTo>
                            <a:lnTo>
                              <a:pt x="3" y="19"/>
                            </a:lnTo>
                            <a:lnTo>
                              <a:pt x="3" y="16"/>
                            </a:lnTo>
                            <a:lnTo>
                              <a:pt x="4" y="15"/>
                            </a:lnTo>
                            <a:lnTo>
                              <a:pt x="7" y="15"/>
                            </a:lnTo>
                            <a:lnTo>
                              <a:pt x="12" y="15"/>
                            </a:lnTo>
                            <a:lnTo>
                              <a:pt x="15" y="15"/>
                            </a:lnTo>
                            <a:lnTo>
                              <a:pt x="20" y="15"/>
                            </a:lnTo>
                            <a:lnTo>
                              <a:pt x="23" y="14"/>
                            </a:lnTo>
                            <a:lnTo>
                              <a:pt x="27" y="12"/>
                            </a:lnTo>
                            <a:lnTo>
                              <a:pt x="32" y="12"/>
                            </a:lnTo>
                            <a:lnTo>
                              <a:pt x="36" y="11"/>
                            </a:lnTo>
                            <a:lnTo>
                              <a:pt x="39" y="9"/>
                            </a:lnTo>
                            <a:lnTo>
                              <a:pt x="44" y="8"/>
                            </a:lnTo>
                            <a:lnTo>
                              <a:pt x="49" y="7"/>
                            </a:lnTo>
                            <a:lnTo>
                              <a:pt x="53" y="5"/>
                            </a:lnTo>
                            <a:lnTo>
                              <a:pt x="56" y="4"/>
                            </a:lnTo>
                            <a:lnTo>
                              <a:pt x="59" y="3"/>
                            </a:lnTo>
                            <a:lnTo>
                              <a:pt x="62" y="0"/>
                            </a:lnTo>
                            <a:lnTo>
                              <a:pt x="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Freeform 119"/>
                      <p:cNvSpPr/>
                      <p:nvPr/>
                    </p:nvSpPr>
                    <p:spPr>
                      <a:xfrm>
                        <a:off x="2955600" y="2660040"/>
                        <a:ext cx="131040" cy="23400"/>
                      </a:xfrm>
                      <a:custGeom>
                        <a:avLst/>
                        <a:gdLst>
                          <a:gd name="textAreaLeft" fmla="*/ 0 w 131040"/>
                          <a:gd name="textAreaRight" fmla="*/ 131400 w 131040"/>
                          <a:gd name="textAreaTop" fmla="*/ 0 h 23400"/>
                          <a:gd name="textAreaBottom" fmla="*/ 23760 h 23400"/>
                        </a:gdLst>
                        <a:ahLst/>
                        <a:rect l="textAreaLeft" t="textAreaTop" r="textAreaRight" b="textAreaBottom"/>
                        <a:pathLst>
                          <a:path w="1450" h="235">
                            <a:moveTo>
                              <a:pt x="9" y="4"/>
                            </a:moveTo>
                            <a:lnTo>
                              <a:pt x="9" y="7"/>
                            </a:lnTo>
                            <a:lnTo>
                              <a:pt x="8" y="11"/>
                            </a:lnTo>
                            <a:lnTo>
                              <a:pt x="8" y="15"/>
                            </a:lnTo>
                            <a:lnTo>
                              <a:pt x="6" y="19"/>
                            </a:lnTo>
                            <a:lnTo>
                              <a:pt x="6" y="23"/>
                            </a:lnTo>
                            <a:lnTo>
                              <a:pt x="6" y="28"/>
                            </a:lnTo>
                            <a:lnTo>
                              <a:pt x="4" y="33"/>
                            </a:lnTo>
                            <a:lnTo>
                              <a:pt x="4" y="37"/>
                            </a:lnTo>
                            <a:lnTo>
                              <a:pt x="4" y="43"/>
                            </a:lnTo>
                            <a:lnTo>
                              <a:pt x="3" y="47"/>
                            </a:lnTo>
                            <a:lnTo>
                              <a:pt x="3" y="51"/>
                            </a:lnTo>
                            <a:lnTo>
                              <a:pt x="3" y="56"/>
                            </a:lnTo>
                            <a:lnTo>
                              <a:pt x="1" y="62"/>
                            </a:lnTo>
                            <a:lnTo>
                              <a:pt x="1" y="66"/>
                            </a:lnTo>
                            <a:lnTo>
                              <a:pt x="1" y="71"/>
                            </a:lnTo>
                            <a:lnTo>
                              <a:pt x="1" y="77"/>
                            </a:lnTo>
                            <a:lnTo>
                              <a:pt x="1" y="81"/>
                            </a:lnTo>
                            <a:lnTo>
                              <a:pt x="1" y="87"/>
                            </a:lnTo>
                            <a:lnTo>
                              <a:pt x="0" y="91"/>
                            </a:lnTo>
                            <a:lnTo>
                              <a:pt x="0" y="96"/>
                            </a:lnTo>
                            <a:lnTo>
                              <a:pt x="0" y="100"/>
                            </a:lnTo>
                            <a:lnTo>
                              <a:pt x="0" y="104"/>
                            </a:lnTo>
                            <a:lnTo>
                              <a:pt x="0" y="110"/>
                            </a:lnTo>
                            <a:lnTo>
                              <a:pt x="0" y="115"/>
                            </a:lnTo>
                            <a:lnTo>
                              <a:pt x="0" y="119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0" y="133"/>
                            </a:lnTo>
                            <a:lnTo>
                              <a:pt x="0" y="137"/>
                            </a:lnTo>
                            <a:lnTo>
                              <a:pt x="0" y="141"/>
                            </a:lnTo>
                            <a:lnTo>
                              <a:pt x="0" y="147"/>
                            </a:lnTo>
                            <a:lnTo>
                              <a:pt x="0" y="151"/>
                            </a:lnTo>
                            <a:lnTo>
                              <a:pt x="0" y="150"/>
                            </a:lnTo>
                            <a:lnTo>
                              <a:pt x="1" y="147"/>
                            </a:lnTo>
                            <a:lnTo>
                              <a:pt x="3" y="143"/>
                            </a:lnTo>
                            <a:lnTo>
                              <a:pt x="4" y="140"/>
                            </a:lnTo>
                            <a:lnTo>
                              <a:pt x="4" y="135"/>
                            </a:lnTo>
                            <a:lnTo>
                              <a:pt x="6" y="130"/>
                            </a:lnTo>
                            <a:lnTo>
                              <a:pt x="6" y="125"/>
                            </a:lnTo>
                            <a:lnTo>
                              <a:pt x="8" y="121"/>
                            </a:lnTo>
                            <a:lnTo>
                              <a:pt x="8" y="114"/>
                            </a:lnTo>
                            <a:lnTo>
                              <a:pt x="8" y="108"/>
                            </a:lnTo>
                            <a:lnTo>
                              <a:pt x="9" y="104"/>
                            </a:lnTo>
                            <a:lnTo>
                              <a:pt x="9" y="99"/>
                            </a:lnTo>
                            <a:lnTo>
                              <a:pt x="9" y="95"/>
                            </a:lnTo>
                            <a:lnTo>
                              <a:pt x="9" y="92"/>
                            </a:lnTo>
                            <a:lnTo>
                              <a:pt x="9" y="89"/>
                            </a:lnTo>
                            <a:lnTo>
                              <a:pt x="9" y="88"/>
                            </a:lnTo>
                            <a:lnTo>
                              <a:pt x="17" y="33"/>
                            </a:lnTo>
                            <a:lnTo>
                              <a:pt x="21" y="32"/>
                            </a:lnTo>
                            <a:lnTo>
                              <a:pt x="26" y="32"/>
                            </a:lnTo>
                            <a:lnTo>
                              <a:pt x="30" y="30"/>
                            </a:lnTo>
                            <a:lnTo>
                              <a:pt x="37" y="30"/>
                            </a:lnTo>
                            <a:lnTo>
                              <a:pt x="41" y="28"/>
                            </a:lnTo>
                            <a:lnTo>
                              <a:pt x="47" y="28"/>
                            </a:lnTo>
                            <a:lnTo>
                              <a:pt x="50" y="26"/>
                            </a:lnTo>
                            <a:lnTo>
                              <a:pt x="53" y="26"/>
                            </a:lnTo>
                            <a:lnTo>
                              <a:pt x="58" y="25"/>
                            </a:lnTo>
                            <a:lnTo>
                              <a:pt x="61" y="25"/>
                            </a:lnTo>
                            <a:lnTo>
                              <a:pt x="64" y="23"/>
                            </a:lnTo>
                            <a:lnTo>
                              <a:pt x="67" y="23"/>
                            </a:lnTo>
                            <a:lnTo>
                              <a:pt x="72" y="23"/>
                            </a:lnTo>
                            <a:lnTo>
                              <a:pt x="75" y="22"/>
                            </a:lnTo>
                            <a:lnTo>
                              <a:pt x="79" y="22"/>
                            </a:lnTo>
                            <a:lnTo>
                              <a:pt x="82" y="21"/>
                            </a:lnTo>
                            <a:lnTo>
                              <a:pt x="87" y="21"/>
                            </a:lnTo>
                            <a:lnTo>
                              <a:pt x="90" y="21"/>
                            </a:lnTo>
                            <a:lnTo>
                              <a:pt x="95" y="19"/>
                            </a:lnTo>
                            <a:lnTo>
                              <a:pt x="98" y="19"/>
                            </a:lnTo>
                            <a:lnTo>
                              <a:pt x="101" y="18"/>
                            </a:lnTo>
                            <a:lnTo>
                              <a:pt x="105" y="18"/>
                            </a:lnTo>
                            <a:lnTo>
                              <a:pt x="108" y="18"/>
                            </a:lnTo>
                            <a:lnTo>
                              <a:pt x="113" y="17"/>
                            </a:lnTo>
                            <a:lnTo>
                              <a:pt x="118" y="17"/>
                            </a:lnTo>
                            <a:lnTo>
                              <a:pt x="122" y="17"/>
                            </a:lnTo>
                            <a:lnTo>
                              <a:pt x="125" y="15"/>
                            </a:lnTo>
                            <a:lnTo>
                              <a:pt x="128" y="15"/>
                            </a:lnTo>
                            <a:lnTo>
                              <a:pt x="133" y="14"/>
                            </a:lnTo>
                            <a:lnTo>
                              <a:pt x="136" y="14"/>
                            </a:lnTo>
                            <a:lnTo>
                              <a:pt x="141" y="14"/>
                            </a:lnTo>
                            <a:lnTo>
                              <a:pt x="144" y="12"/>
                            </a:lnTo>
                            <a:lnTo>
                              <a:pt x="148" y="12"/>
                            </a:lnTo>
                            <a:lnTo>
                              <a:pt x="151" y="12"/>
                            </a:lnTo>
                            <a:lnTo>
                              <a:pt x="157" y="12"/>
                            </a:lnTo>
                            <a:lnTo>
                              <a:pt x="165" y="11"/>
                            </a:lnTo>
                            <a:lnTo>
                              <a:pt x="171" y="11"/>
                            </a:lnTo>
                            <a:lnTo>
                              <a:pt x="177" y="11"/>
                            </a:lnTo>
                            <a:lnTo>
                              <a:pt x="183" y="11"/>
                            </a:lnTo>
                            <a:lnTo>
                              <a:pt x="190" y="11"/>
                            </a:lnTo>
                            <a:lnTo>
                              <a:pt x="194" y="11"/>
                            </a:lnTo>
                            <a:lnTo>
                              <a:pt x="199" y="11"/>
                            </a:lnTo>
                            <a:lnTo>
                              <a:pt x="202" y="12"/>
                            </a:lnTo>
                            <a:lnTo>
                              <a:pt x="206" y="12"/>
                            </a:lnTo>
                            <a:lnTo>
                              <a:pt x="209" y="14"/>
                            </a:lnTo>
                            <a:lnTo>
                              <a:pt x="211" y="15"/>
                            </a:lnTo>
                            <a:lnTo>
                              <a:pt x="209" y="15"/>
                            </a:lnTo>
                            <a:lnTo>
                              <a:pt x="206" y="14"/>
                            </a:lnTo>
                            <a:lnTo>
                              <a:pt x="202" y="14"/>
                            </a:lnTo>
                            <a:lnTo>
                              <a:pt x="199" y="15"/>
                            </a:lnTo>
                            <a:lnTo>
                              <a:pt x="194" y="15"/>
                            </a:lnTo>
                            <a:lnTo>
                              <a:pt x="190" y="15"/>
                            </a:lnTo>
                            <a:lnTo>
                              <a:pt x="183" y="15"/>
                            </a:lnTo>
                            <a:lnTo>
                              <a:pt x="179" y="15"/>
                            </a:lnTo>
                            <a:lnTo>
                              <a:pt x="173" y="15"/>
                            </a:lnTo>
                            <a:lnTo>
                              <a:pt x="167" y="17"/>
                            </a:lnTo>
                            <a:lnTo>
                              <a:pt x="162" y="17"/>
                            </a:lnTo>
                            <a:lnTo>
                              <a:pt x="159" y="18"/>
                            </a:lnTo>
                            <a:lnTo>
                              <a:pt x="156" y="18"/>
                            </a:lnTo>
                            <a:lnTo>
                              <a:pt x="153" y="18"/>
                            </a:lnTo>
                            <a:lnTo>
                              <a:pt x="148" y="18"/>
                            </a:lnTo>
                            <a:lnTo>
                              <a:pt x="145" y="19"/>
                            </a:lnTo>
                            <a:lnTo>
                              <a:pt x="141" y="19"/>
                            </a:lnTo>
                            <a:lnTo>
                              <a:pt x="138" y="21"/>
                            </a:lnTo>
                            <a:lnTo>
                              <a:pt x="133" y="21"/>
                            </a:lnTo>
                            <a:lnTo>
                              <a:pt x="130" y="21"/>
                            </a:lnTo>
                            <a:lnTo>
                              <a:pt x="125" y="22"/>
                            </a:lnTo>
                            <a:lnTo>
                              <a:pt x="122" y="23"/>
                            </a:lnTo>
                            <a:lnTo>
                              <a:pt x="119" y="23"/>
                            </a:lnTo>
                            <a:lnTo>
                              <a:pt x="115" y="23"/>
                            </a:lnTo>
                            <a:lnTo>
                              <a:pt x="110" y="23"/>
                            </a:lnTo>
                            <a:lnTo>
                              <a:pt x="107" y="25"/>
                            </a:lnTo>
                            <a:lnTo>
                              <a:pt x="102" y="25"/>
                            </a:lnTo>
                            <a:lnTo>
                              <a:pt x="99" y="26"/>
                            </a:lnTo>
                            <a:lnTo>
                              <a:pt x="95" y="26"/>
                            </a:lnTo>
                            <a:lnTo>
                              <a:pt x="92" y="28"/>
                            </a:lnTo>
                            <a:lnTo>
                              <a:pt x="87" y="28"/>
                            </a:lnTo>
                            <a:lnTo>
                              <a:pt x="84" y="28"/>
                            </a:lnTo>
                            <a:lnTo>
                              <a:pt x="81" y="29"/>
                            </a:lnTo>
                            <a:lnTo>
                              <a:pt x="76" y="29"/>
                            </a:lnTo>
                            <a:lnTo>
                              <a:pt x="70" y="30"/>
                            </a:lnTo>
                            <a:lnTo>
                              <a:pt x="63" y="32"/>
                            </a:lnTo>
                            <a:lnTo>
                              <a:pt x="56" y="33"/>
                            </a:lnTo>
                            <a:lnTo>
                              <a:pt x="50" y="34"/>
                            </a:lnTo>
                            <a:lnTo>
                              <a:pt x="44" y="34"/>
                            </a:lnTo>
                            <a:lnTo>
                              <a:pt x="40" y="36"/>
                            </a:lnTo>
                            <a:lnTo>
                              <a:pt x="35" y="37"/>
                            </a:lnTo>
                            <a:lnTo>
                              <a:pt x="30" y="38"/>
                            </a:lnTo>
                            <a:lnTo>
                              <a:pt x="27" y="38"/>
                            </a:lnTo>
                            <a:lnTo>
                              <a:pt x="24" y="40"/>
                            </a:lnTo>
                            <a:lnTo>
                              <a:pt x="23" y="44"/>
                            </a:lnTo>
                            <a:lnTo>
                              <a:pt x="23" y="51"/>
                            </a:lnTo>
                            <a:lnTo>
                              <a:pt x="23" y="54"/>
                            </a:lnTo>
                            <a:lnTo>
                              <a:pt x="21" y="58"/>
                            </a:lnTo>
                            <a:lnTo>
                              <a:pt x="21" y="62"/>
                            </a:lnTo>
                            <a:lnTo>
                              <a:pt x="21" y="65"/>
                            </a:lnTo>
                            <a:lnTo>
                              <a:pt x="21" y="69"/>
                            </a:lnTo>
                            <a:lnTo>
                              <a:pt x="21" y="71"/>
                            </a:lnTo>
                            <a:lnTo>
                              <a:pt x="21" y="76"/>
                            </a:lnTo>
                            <a:lnTo>
                              <a:pt x="23" y="78"/>
                            </a:lnTo>
                            <a:lnTo>
                              <a:pt x="23" y="84"/>
                            </a:lnTo>
                            <a:lnTo>
                              <a:pt x="24" y="88"/>
                            </a:lnTo>
                            <a:lnTo>
                              <a:pt x="24" y="89"/>
                            </a:lnTo>
                            <a:lnTo>
                              <a:pt x="24" y="93"/>
                            </a:lnTo>
                            <a:lnTo>
                              <a:pt x="23" y="96"/>
                            </a:lnTo>
                            <a:lnTo>
                              <a:pt x="23" y="99"/>
                            </a:lnTo>
                            <a:lnTo>
                              <a:pt x="23" y="103"/>
                            </a:lnTo>
                            <a:lnTo>
                              <a:pt x="23" y="106"/>
                            </a:lnTo>
                            <a:lnTo>
                              <a:pt x="23" y="108"/>
                            </a:lnTo>
                            <a:lnTo>
                              <a:pt x="21" y="111"/>
                            </a:lnTo>
                            <a:lnTo>
                              <a:pt x="21" y="114"/>
                            </a:lnTo>
                            <a:lnTo>
                              <a:pt x="21" y="117"/>
                            </a:lnTo>
                            <a:lnTo>
                              <a:pt x="20" y="121"/>
                            </a:lnTo>
                            <a:lnTo>
                              <a:pt x="20" y="122"/>
                            </a:lnTo>
                            <a:lnTo>
                              <a:pt x="20" y="125"/>
                            </a:lnTo>
                            <a:lnTo>
                              <a:pt x="20" y="128"/>
                            </a:lnTo>
                            <a:lnTo>
                              <a:pt x="20" y="130"/>
                            </a:lnTo>
                            <a:lnTo>
                              <a:pt x="20" y="135"/>
                            </a:lnTo>
                            <a:lnTo>
                              <a:pt x="18" y="137"/>
                            </a:lnTo>
                            <a:lnTo>
                              <a:pt x="18" y="140"/>
                            </a:lnTo>
                            <a:lnTo>
                              <a:pt x="18" y="143"/>
                            </a:lnTo>
                            <a:lnTo>
                              <a:pt x="18" y="147"/>
                            </a:lnTo>
                            <a:lnTo>
                              <a:pt x="18" y="150"/>
                            </a:lnTo>
                            <a:lnTo>
                              <a:pt x="18" y="152"/>
                            </a:lnTo>
                            <a:lnTo>
                              <a:pt x="18" y="155"/>
                            </a:lnTo>
                            <a:lnTo>
                              <a:pt x="18" y="159"/>
                            </a:lnTo>
                            <a:lnTo>
                              <a:pt x="17" y="162"/>
                            </a:lnTo>
                            <a:lnTo>
                              <a:pt x="17" y="165"/>
                            </a:lnTo>
                            <a:lnTo>
                              <a:pt x="17" y="168"/>
                            </a:lnTo>
                            <a:lnTo>
                              <a:pt x="17" y="172"/>
                            </a:lnTo>
                            <a:lnTo>
                              <a:pt x="17" y="177"/>
                            </a:lnTo>
                            <a:lnTo>
                              <a:pt x="15" y="183"/>
                            </a:lnTo>
                            <a:lnTo>
                              <a:pt x="15" y="185"/>
                            </a:lnTo>
                            <a:lnTo>
                              <a:pt x="15" y="189"/>
                            </a:lnTo>
                            <a:lnTo>
                              <a:pt x="15" y="192"/>
                            </a:lnTo>
                            <a:lnTo>
                              <a:pt x="15" y="196"/>
                            </a:lnTo>
                            <a:lnTo>
                              <a:pt x="15" y="199"/>
                            </a:lnTo>
                            <a:lnTo>
                              <a:pt x="15" y="202"/>
                            </a:lnTo>
                            <a:lnTo>
                              <a:pt x="15" y="205"/>
                            </a:lnTo>
                            <a:lnTo>
                              <a:pt x="15" y="209"/>
                            </a:lnTo>
                            <a:lnTo>
                              <a:pt x="15" y="211"/>
                            </a:lnTo>
                            <a:lnTo>
                              <a:pt x="15" y="214"/>
                            </a:lnTo>
                            <a:lnTo>
                              <a:pt x="15" y="218"/>
                            </a:lnTo>
                            <a:lnTo>
                              <a:pt x="15" y="221"/>
                            </a:lnTo>
                            <a:lnTo>
                              <a:pt x="15" y="220"/>
                            </a:lnTo>
                            <a:lnTo>
                              <a:pt x="15" y="218"/>
                            </a:lnTo>
                            <a:lnTo>
                              <a:pt x="15" y="217"/>
                            </a:lnTo>
                            <a:lnTo>
                              <a:pt x="17" y="213"/>
                            </a:lnTo>
                            <a:lnTo>
                              <a:pt x="18" y="210"/>
                            </a:lnTo>
                            <a:lnTo>
                              <a:pt x="20" y="206"/>
                            </a:lnTo>
                            <a:lnTo>
                              <a:pt x="20" y="200"/>
                            </a:lnTo>
                            <a:lnTo>
                              <a:pt x="21" y="196"/>
                            </a:lnTo>
                            <a:lnTo>
                              <a:pt x="21" y="191"/>
                            </a:lnTo>
                            <a:lnTo>
                              <a:pt x="23" y="185"/>
                            </a:lnTo>
                            <a:lnTo>
                              <a:pt x="23" y="180"/>
                            </a:lnTo>
                            <a:lnTo>
                              <a:pt x="24" y="173"/>
                            </a:lnTo>
                            <a:lnTo>
                              <a:pt x="24" y="170"/>
                            </a:lnTo>
                            <a:lnTo>
                              <a:pt x="26" y="168"/>
                            </a:lnTo>
                            <a:lnTo>
                              <a:pt x="26" y="163"/>
                            </a:lnTo>
                            <a:lnTo>
                              <a:pt x="26" y="161"/>
                            </a:lnTo>
                            <a:lnTo>
                              <a:pt x="26" y="157"/>
                            </a:lnTo>
                            <a:lnTo>
                              <a:pt x="27" y="154"/>
                            </a:lnTo>
                            <a:lnTo>
                              <a:pt x="27" y="150"/>
                            </a:lnTo>
                            <a:lnTo>
                              <a:pt x="29" y="147"/>
                            </a:lnTo>
                            <a:lnTo>
                              <a:pt x="29" y="143"/>
                            </a:lnTo>
                            <a:lnTo>
                              <a:pt x="29" y="140"/>
                            </a:lnTo>
                            <a:lnTo>
                              <a:pt x="30" y="136"/>
                            </a:lnTo>
                            <a:lnTo>
                              <a:pt x="30" y="133"/>
                            </a:lnTo>
                            <a:lnTo>
                              <a:pt x="30" y="129"/>
                            </a:lnTo>
                            <a:lnTo>
                              <a:pt x="32" y="126"/>
                            </a:lnTo>
                            <a:lnTo>
                              <a:pt x="32" y="122"/>
                            </a:lnTo>
                            <a:lnTo>
                              <a:pt x="32" y="119"/>
                            </a:lnTo>
                            <a:lnTo>
                              <a:pt x="32" y="115"/>
                            </a:lnTo>
                            <a:lnTo>
                              <a:pt x="34" y="113"/>
                            </a:lnTo>
                            <a:lnTo>
                              <a:pt x="34" y="108"/>
                            </a:lnTo>
                            <a:lnTo>
                              <a:pt x="35" y="106"/>
                            </a:lnTo>
                            <a:lnTo>
                              <a:pt x="35" y="99"/>
                            </a:lnTo>
                            <a:lnTo>
                              <a:pt x="37" y="95"/>
                            </a:lnTo>
                            <a:lnTo>
                              <a:pt x="37" y="88"/>
                            </a:lnTo>
                            <a:lnTo>
                              <a:pt x="38" y="84"/>
                            </a:lnTo>
                            <a:lnTo>
                              <a:pt x="38" y="78"/>
                            </a:lnTo>
                            <a:lnTo>
                              <a:pt x="40" y="74"/>
                            </a:lnTo>
                            <a:lnTo>
                              <a:pt x="40" y="70"/>
                            </a:lnTo>
                            <a:lnTo>
                              <a:pt x="41" y="67"/>
                            </a:lnTo>
                            <a:lnTo>
                              <a:pt x="41" y="65"/>
                            </a:lnTo>
                            <a:lnTo>
                              <a:pt x="43" y="63"/>
                            </a:lnTo>
                            <a:lnTo>
                              <a:pt x="43" y="62"/>
                            </a:lnTo>
                            <a:lnTo>
                              <a:pt x="46" y="62"/>
                            </a:lnTo>
                            <a:lnTo>
                              <a:pt x="50" y="60"/>
                            </a:lnTo>
                            <a:lnTo>
                              <a:pt x="55" y="59"/>
                            </a:lnTo>
                            <a:lnTo>
                              <a:pt x="58" y="59"/>
                            </a:lnTo>
                            <a:lnTo>
                              <a:pt x="61" y="58"/>
                            </a:lnTo>
                            <a:lnTo>
                              <a:pt x="64" y="56"/>
                            </a:lnTo>
                            <a:lnTo>
                              <a:pt x="67" y="56"/>
                            </a:lnTo>
                            <a:lnTo>
                              <a:pt x="70" y="55"/>
                            </a:lnTo>
                            <a:lnTo>
                              <a:pt x="75" y="55"/>
                            </a:lnTo>
                            <a:lnTo>
                              <a:pt x="78" y="54"/>
                            </a:lnTo>
                            <a:lnTo>
                              <a:pt x="82" y="54"/>
                            </a:lnTo>
                            <a:lnTo>
                              <a:pt x="86" y="52"/>
                            </a:lnTo>
                            <a:lnTo>
                              <a:pt x="90" y="52"/>
                            </a:lnTo>
                            <a:lnTo>
                              <a:pt x="93" y="51"/>
                            </a:lnTo>
                            <a:lnTo>
                              <a:pt x="98" y="51"/>
                            </a:lnTo>
                            <a:lnTo>
                              <a:pt x="101" y="49"/>
                            </a:lnTo>
                            <a:lnTo>
                              <a:pt x="105" y="49"/>
                            </a:lnTo>
                            <a:lnTo>
                              <a:pt x="108" y="49"/>
                            </a:lnTo>
                            <a:lnTo>
                              <a:pt x="113" y="49"/>
                            </a:lnTo>
                            <a:lnTo>
                              <a:pt x="116" y="48"/>
                            </a:lnTo>
                            <a:lnTo>
                              <a:pt x="119" y="48"/>
                            </a:lnTo>
                            <a:lnTo>
                              <a:pt x="122" y="48"/>
                            </a:lnTo>
                            <a:lnTo>
                              <a:pt x="127" y="48"/>
                            </a:lnTo>
                            <a:lnTo>
                              <a:pt x="133" y="48"/>
                            </a:lnTo>
                            <a:lnTo>
                              <a:pt x="139" y="49"/>
                            </a:lnTo>
                            <a:lnTo>
                              <a:pt x="115" y="60"/>
                            </a:lnTo>
                            <a:lnTo>
                              <a:pt x="113" y="59"/>
                            </a:lnTo>
                            <a:lnTo>
                              <a:pt x="112" y="59"/>
                            </a:lnTo>
                            <a:lnTo>
                              <a:pt x="108" y="59"/>
                            </a:lnTo>
                            <a:lnTo>
                              <a:pt x="105" y="59"/>
                            </a:lnTo>
                            <a:lnTo>
                              <a:pt x="101" y="59"/>
                            </a:lnTo>
                            <a:lnTo>
                              <a:pt x="95" y="60"/>
                            </a:lnTo>
                            <a:lnTo>
                              <a:pt x="90" y="62"/>
                            </a:lnTo>
                            <a:lnTo>
                              <a:pt x="84" y="62"/>
                            </a:lnTo>
                            <a:lnTo>
                              <a:pt x="78" y="63"/>
                            </a:lnTo>
                            <a:lnTo>
                              <a:pt x="73" y="65"/>
                            </a:lnTo>
                            <a:lnTo>
                              <a:pt x="67" y="65"/>
                            </a:lnTo>
                            <a:lnTo>
                              <a:pt x="63" y="66"/>
                            </a:lnTo>
                            <a:lnTo>
                              <a:pt x="56" y="66"/>
                            </a:lnTo>
                            <a:lnTo>
                              <a:pt x="53" y="66"/>
                            </a:lnTo>
                            <a:lnTo>
                              <a:pt x="50" y="67"/>
                            </a:lnTo>
                            <a:lnTo>
                              <a:pt x="47" y="67"/>
                            </a:lnTo>
                            <a:lnTo>
                              <a:pt x="46" y="70"/>
                            </a:lnTo>
                            <a:lnTo>
                              <a:pt x="46" y="74"/>
                            </a:lnTo>
                            <a:lnTo>
                              <a:pt x="44" y="77"/>
                            </a:lnTo>
                            <a:lnTo>
                              <a:pt x="44" y="80"/>
                            </a:lnTo>
                            <a:lnTo>
                              <a:pt x="44" y="84"/>
                            </a:lnTo>
                            <a:lnTo>
                              <a:pt x="43" y="87"/>
                            </a:lnTo>
                            <a:lnTo>
                              <a:pt x="43" y="89"/>
                            </a:lnTo>
                            <a:lnTo>
                              <a:pt x="43" y="93"/>
                            </a:lnTo>
                            <a:lnTo>
                              <a:pt x="43" y="98"/>
                            </a:lnTo>
                            <a:lnTo>
                              <a:pt x="43" y="100"/>
                            </a:lnTo>
                            <a:lnTo>
                              <a:pt x="43" y="104"/>
                            </a:lnTo>
                            <a:lnTo>
                              <a:pt x="43" y="107"/>
                            </a:lnTo>
                            <a:lnTo>
                              <a:pt x="43" y="111"/>
                            </a:lnTo>
                            <a:lnTo>
                              <a:pt x="43" y="114"/>
                            </a:lnTo>
                            <a:lnTo>
                              <a:pt x="43" y="118"/>
                            </a:lnTo>
                            <a:lnTo>
                              <a:pt x="43" y="122"/>
                            </a:lnTo>
                            <a:lnTo>
                              <a:pt x="43" y="125"/>
                            </a:lnTo>
                            <a:lnTo>
                              <a:pt x="43" y="129"/>
                            </a:lnTo>
                            <a:lnTo>
                              <a:pt x="43" y="132"/>
                            </a:lnTo>
                            <a:lnTo>
                              <a:pt x="43" y="136"/>
                            </a:lnTo>
                            <a:lnTo>
                              <a:pt x="43" y="139"/>
                            </a:lnTo>
                            <a:lnTo>
                              <a:pt x="43" y="143"/>
                            </a:lnTo>
                            <a:lnTo>
                              <a:pt x="43" y="146"/>
                            </a:lnTo>
                            <a:lnTo>
                              <a:pt x="43" y="150"/>
                            </a:lnTo>
                            <a:lnTo>
                              <a:pt x="43" y="154"/>
                            </a:lnTo>
                            <a:lnTo>
                              <a:pt x="43" y="157"/>
                            </a:lnTo>
                            <a:lnTo>
                              <a:pt x="43" y="161"/>
                            </a:lnTo>
                            <a:lnTo>
                              <a:pt x="44" y="163"/>
                            </a:lnTo>
                            <a:lnTo>
                              <a:pt x="44" y="168"/>
                            </a:lnTo>
                            <a:lnTo>
                              <a:pt x="44" y="172"/>
                            </a:lnTo>
                            <a:lnTo>
                              <a:pt x="44" y="174"/>
                            </a:lnTo>
                            <a:lnTo>
                              <a:pt x="44" y="179"/>
                            </a:lnTo>
                            <a:lnTo>
                              <a:pt x="44" y="184"/>
                            </a:lnTo>
                            <a:lnTo>
                              <a:pt x="44" y="191"/>
                            </a:lnTo>
                            <a:lnTo>
                              <a:pt x="43" y="194"/>
                            </a:lnTo>
                            <a:lnTo>
                              <a:pt x="43" y="196"/>
                            </a:lnTo>
                            <a:lnTo>
                              <a:pt x="43" y="200"/>
                            </a:lnTo>
                            <a:lnTo>
                              <a:pt x="43" y="203"/>
                            </a:lnTo>
                            <a:lnTo>
                              <a:pt x="43" y="206"/>
                            </a:lnTo>
                            <a:lnTo>
                              <a:pt x="41" y="210"/>
                            </a:lnTo>
                            <a:lnTo>
                              <a:pt x="41" y="213"/>
                            </a:lnTo>
                            <a:lnTo>
                              <a:pt x="41" y="216"/>
                            </a:lnTo>
                            <a:lnTo>
                              <a:pt x="40" y="218"/>
                            </a:lnTo>
                            <a:lnTo>
                              <a:pt x="40" y="222"/>
                            </a:lnTo>
                            <a:lnTo>
                              <a:pt x="40" y="225"/>
                            </a:lnTo>
                            <a:lnTo>
                              <a:pt x="40" y="229"/>
                            </a:lnTo>
                            <a:lnTo>
                              <a:pt x="43" y="231"/>
                            </a:lnTo>
                            <a:lnTo>
                              <a:pt x="47" y="232"/>
                            </a:lnTo>
                            <a:lnTo>
                              <a:pt x="50" y="233"/>
                            </a:lnTo>
                            <a:lnTo>
                              <a:pt x="55" y="235"/>
                            </a:lnTo>
                            <a:lnTo>
                              <a:pt x="58" y="179"/>
                            </a:lnTo>
                            <a:lnTo>
                              <a:pt x="58" y="173"/>
                            </a:lnTo>
                            <a:lnTo>
                              <a:pt x="60" y="168"/>
                            </a:lnTo>
                            <a:lnTo>
                              <a:pt x="60" y="163"/>
                            </a:lnTo>
                            <a:lnTo>
                              <a:pt x="61" y="158"/>
                            </a:lnTo>
                            <a:lnTo>
                              <a:pt x="63" y="152"/>
                            </a:lnTo>
                            <a:lnTo>
                              <a:pt x="63" y="148"/>
                            </a:lnTo>
                            <a:lnTo>
                              <a:pt x="64" y="143"/>
                            </a:lnTo>
                            <a:lnTo>
                              <a:pt x="66" y="137"/>
                            </a:lnTo>
                            <a:lnTo>
                              <a:pt x="66" y="132"/>
                            </a:lnTo>
                            <a:lnTo>
                              <a:pt x="67" y="126"/>
                            </a:lnTo>
                            <a:lnTo>
                              <a:pt x="67" y="122"/>
                            </a:lnTo>
                            <a:lnTo>
                              <a:pt x="69" y="117"/>
                            </a:lnTo>
                            <a:lnTo>
                              <a:pt x="70" y="111"/>
                            </a:lnTo>
                            <a:lnTo>
                              <a:pt x="70" y="107"/>
                            </a:lnTo>
                            <a:lnTo>
                              <a:pt x="72" y="102"/>
                            </a:lnTo>
                            <a:lnTo>
                              <a:pt x="73" y="96"/>
                            </a:lnTo>
                            <a:lnTo>
                              <a:pt x="73" y="102"/>
                            </a:lnTo>
                            <a:lnTo>
                              <a:pt x="73" y="107"/>
                            </a:lnTo>
                            <a:lnTo>
                              <a:pt x="75" y="113"/>
                            </a:lnTo>
                            <a:lnTo>
                              <a:pt x="75" y="118"/>
                            </a:lnTo>
                            <a:lnTo>
                              <a:pt x="75" y="124"/>
                            </a:lnTo>
                            <a:lnTo>
                              <a:pt x="76" y="129"/>
                            </a:lnTo>
                            <a:lnTo>
                              <a:pt x="76" y="135"/>
                            </a:lnTo>
                            <a:lnTo>
                              <a:pt x="78" y="140"/>
                            </a:lnTo>
                            <a:lnTo>
                              <a:pt x="82" y="141"/>
                            </a:lnTo>
                            <a:lnTo>
                              <a:pt x="84" y="139"/>
                            </a:lnTo>
                            <a:lnTo>
                              <a:pt x="86" y="135"/>
                            </a:lnTo>
                            <a:lnTo>
                              <a:pt x="86" y="130"/>
                            </a:lnTo>
                            <a:lnTo>
                              <a:pt x="87" y="128"/>
                            </a:lnTo>
                            <a:lnTo>
                              <a:pt x="87" y="124"/>
                            </a:lnTo>
                            <a:lnTo>
                              <a:pt x="87" y="119"/>
                            </a:lnTo>
                            <a:lnTo>
                              <a:pt x="87" y="117"/>
                            </a:lnTo>
                            <a:lnTo>
                              <a:pt x="87" y="113"/>
                            </a:lnTo>
                            <a:lnTo>
                              <a:pt x="90" y="111"/>
                            </a:lnTo>
                            <a:lnTo>
                              <a:pt x="95" y="111"/>
                            </a:lnTo>
                            <a:lnTo>
                              <a:pt x="98" y="110"/>
                            </a:lnTo>
                            <a:lnTo>
                              <a:pt x="102" y="110"/>
                            </a:lnTo>
                            <a:lnTo>
                              <a:pt x="107" y="108"/>
                            </a:lnTo>
                            <a:lnTo>
                              <a:pt x="110" y="108"/>
                            </a:lnTo>
                            <a:lnTo>
                              <a:pt x="115" y="107"/>
                            </a:lnTo>
                            <a:lnTo>
                              <a:pt x="119" y="107"/>
                            </a:lnTo>
                            <a:lnTo>
                              <a:pt x="124" y="106"/>
                            </a:lnTo>
                            <a:lnTo>
                              <a:pt x="128" y="104"/>
                            </a:lnTo>
                            <a:lnTo>
                              <a:pt x="133" y="103"/>
                            </a:lnTo>
                            <a:lnTo>
                              <a:pt x="138" y="103"/>
                            </a:lnTo>
                            <a:lnTo>
                              <a:pt x="142" y="102"/>
                            </a:lnTo>
                            <a:lnTo>
                              <a:pt x="147" y="102"/>
                            </a:lnTo>
                            <a:lnTo>
                              <a:pt x="153" y="100"/>
                            </a:lnTo>
                            <a:lnTo>
                              <a:pt x="157" y="99"/>
                            </a:lnTo>
                            <a:lnTo>
                              <a:pt x="164" y="98"/>
                            </a:lnTo>
                            <a:lnTo>
                              <a:pt x="168" y="98"/>
                            </a:lnTo>
                            <a:lnTo>
                              <a:pt x="173" y="96"/>
                            </a:lnTo>
                            <a:lnTo>
                              <a:pt x="179" y="96"/>
                            </a:lnTo>
                            <a:lnTo>
                              <a:pt x="183" y="93"/>
                            </a:lnTo>
                            <a:lnTo>
                              <a:pt x="190" y="93"/>
                            </a:lnTo>
                            <a:lnTo>
                              <a:pt x="194" y="92"/>
                            </a:lnTo>
                            <a:lnTo>
                              <a:pt x="200" y="92"/>
                            </a:lnTo>
                            <a:lnTo>
                              <a:pt x="205" y="91"/>
                            </a:lnTo>
                            <a:lnTo>
                              <a:pt x="211" y="89"/>
                            </a:lnTo>
                            <a:lnTo>
                              <a:pt x="217" y="89"/>
                            </a:lnTo>
                            <a:lnTo>
                              <a:pt x="222" y="88"/>
                            </a:lnTo>
                            <a:lnTo>
                              <a:pt x="228" y="87"/>
                            </a:lnTo>
                            <a:lnTo>
                              <a:pt x="234" y="87"/>
                            </a:lnTo>
                            <a:lnTo>
                              <a:pt x="238" y="85"/>
                            </a:lnTo>
                            <a:lnTo>
                              <a:pt x="245" y="85"/>
                            </a:lnTo>
                            <a:lnTo>
                              <a:pt x="249" y="84"/>
                            </a:lnTo>
                            <a:lnTo>
                              <a:pt x="255" y="84"/>
                            </a:lnTo>
                            <a:lnTo>
                              <a:pt x="260" y="82"/>
                            </a:lnTo>
                            <a:lnTo>
                              <a:pt x="266" y="81"/>
                            </a:lnTo>
                            <a:lnTo>
                              <a:pt x="271" y="80"/>
                            </a:lnTo>
                            <a:lnTo>
                              <a:pt x="277" y="80"/>
                            </a:lnTo>
                            <a:lnTo>
                              <a:pt x="281" y="78"/>
                            </a:lnTo>
                            <a:lnTo>
                              <a:pt x="287" y="78"/>
                            </a:lnTo>
                            <a:lnTo>
                              <a:pt x="292" y="77"/>
                            </a:lnTo>
                            <a:lnTo>
                              <a:pt x="297" y="77"/>
                            </a:lnTo>
                            <a:lnTo>
                              <a:pt x="303" y="77"/>
                            </a:lnTo>
                            <a:lnTo>
                              <a:pt x="307" y="77"/>
                            </a:lnTo>
                            <a:lnTo>
                              <a:pt x="312" y="76"/>
                            </a:lnTo>
                            <a:lnTo>
                              <a:pt x="316" y="76"/>
                            </a:lnTo>
                            <a:lnTo>
                              <a:pt x="323" y="76"/>
                            </a:lnTo>
                            <a:lnTo>
                              <a:pt x="327" y="76"/>
                            </a:lnTo>
                            <a:lnTo>
                              <a:pt x="332" y="74"/>
                            </a:lnTo>
                            <a:lnTo>
                              <a:pt x="336" y="74"/>
                            </a:lnTo>
                            <a:lnTo>
                              <a:pt x="341" y="74"/>
                            </a:lnTo>
                            <a:lnTo>
                              <a:pt x="346" y="74"/>
                            </a:lnTo>
                            <a:lnTo>
                              <a:pt x="349" y="74"/>
                            </a:lnTo>
                            <a:lnTo>
                              <a:pt x="353" y="74"/>
                            </a:lnTo>
                            <a:lnTo>
                              <a:pt x="358" y="74"/>
                            </a:lnTo>
                            <a:lnTo>
                              <a:pt x="362" y="76"/>
                            </a:lnTo>
                            <a:lnTo>
                              <a:pt x="365" y="76"/>
                            </a:lnTo>
                            <a:lnTo>
                              <a:pt x="369" y="76"/>
                            </a:lnTo>
                            <a:lnTo>
                              <a:pt x="373" y="77"/>
                            </a:lnTo>
                            <a:lnTo>
                              <a:pt x="376" y="77"/>
                            </a:lnTo>
                            <a:lnTo>
                              <a:pt x="382" y="78"/>
                            </a:lnTo>
                            <a:lnTo>
                              <a:pt x="388" y="81"/>
                            </a:lnTo>
                            <a:lnTo>
                              <a:pt x="385" y="82"/>
                            </a:lnTo>
                            <a:lnTo>
                              <a:pt x="381" y="84"/>
                            </a:lnTo>
                            <a:lnTo>
                              <a:pt x="378" y="84"/>
                            </a:lnTo>
                            <a:lnTo>
                              <a:pt x="375" y="85"/>
                            </a:lnTo>
                            <a:lnTo>
                              <a:pt x="370" y="87"/>
                            </a:lnTo>
                            <a:lnTo>
                              <a:pt x="367" y="87"/>
                            </a:lnTo>
                            <a:lnTo>
                              <a:pt x="364" y="87"/>
                            </a:lnTo>
                            <a:lnTo>
                              <a:pt x="361" y="88"/>
                            </a:lnTo>
                            <a:lnTo>
                              <a:pt x="356" y="88"/>
                            </a:lnTo>
                            <a:lnTo>
                              <a:pt x="353" y="89"/>
                            </a:lnTo>
                            <a:lnTo>
                              <a:pt x="349" y="89"/>
                            </a:lnTo>
                            <a:lnTo>
                              <a:pt x="346" y="89"/>
                            </a:lnTo>
                            <a:lnTo>
                              <a:pt x="341" y="89"/>
                            </a:lnTo>
                            <a:lnTo>
                              <a:pt x="338" y="91"/>
                            </a:lnTo>
                            <a:lnTo>
                              <a:pt x="333" y="91"/>
                            </a:lnTo>
                            <a:lnTo>
                              <a:pt x="330" y="91"/>
                            </a:lnTo>
                            <a:lnTo>
                              <a:pt x="327" y="91"/>
                            </a:lnTo>
                            <a:lnTo>
                              <a:pt x="324" y="91"/>
                            </a:lnTo>
                            <a:lnTo>
                              <a:pt x="320" y="91"/>
                            </a:lnTo>
                            <a:lnTo>
                              <a:pt x="316" y="91"/>
                            </a:lnTo>
                            <a:lnTo>
                              <a:pt x="312" y="91"/>
                            </a:lnTo>
                            <a:lnTo>
                              <a:pt x="309" y="91"/>
                            </a:lnTo>
                            <a:lnTo>
                              <a:pt x="304" y="91"/>
                            </a:lnTo>
                            <a:lnTo>
                              <a:pt x="301" y="92"/>
                            </a:lnTo>
                            <a:lnTo>
                              <a:pt x="297" y="92"/>
                            </a:lnTo>
                            <a:lnTo>
                              <a:pt x="294" y="92"/>
                            </a:lnTo>
                            <a:lnTo>
                              <a:pt x="290" y="92"/>
                            </a:lnTo>
                            <a:lnTo>
                              <a:pt x="286" y="92"/>
                            </a:lnTo>
                            <a:lnTo>
                              <a:pt x="283" y="92"/>
                            </a:lnTo>
                            <a:lnTo>
                              <a:pt x="280" y="92"/>
                            </a:lnTo>
                            <a:lnTo>
                              <a:pt x="275" y="93"/>
                            </a:lnTo>
                            <a:lnTo>
                              <a:pt x="272" y="95"/>
                            </a:lnTo>
                            <a:lnTo>
                              <a:pt x="141" y="113"/>
                            </a:lnTo>
                            <a:lnTo>
                              <a:pt x="194" y="119"/>
                            </a:lnTo>
                            <a:lnTo>
                              <a:pt x="196" y="119"/>
                            </a:lnTo>
                            <a:lnTo>
                              <a:pt x="200" y="118"/>
                            </a:lnTo>
                            <a:lnTo>
                              <a:pt x="203" y="118"/>
                            </a:lnTo>
                            <a:lnTo>
                              <a:pt x="208" y="117"/>
                            </a:lnTo>
                            <a:lnTo>
                              <a:pt x="212" y="117"/>
                            </a:lnTo>
                            <a:lnTo>
                              <a:pt x="219" y="117"/>
                            </a:lnTo>
                            <a:lnTo>
                              <a:pt x="225" y="115"/>
                            </a:lnTo>
                            <a:lnTo>
                              <a:pt x="231" y="114"/>
                            </a:lnTo>
                            <a:lnTo>
                              <a:pt x="234" y="114"/>
                            </a:lnTo>
                            <a:lnTo>
                              <a:pt x="237" y="114"/>
                            </a:lnTo>
                            <a:lnTo>
                              <a:pt x="242" y="113"/>
                            </a:lnTo>
                            <a:lnTo>
                              <a:pt x="246" y="113"/>
                            </a:lnTo>
                            <a:lnTo>
                              <a:pt x="249" y="113"/>
                            </a:lnTo>
                            <a:lnTo>
                              <a:pt x="252" y="111"/>
                            </a:lnTo>
                            <a:lnTo>
                              <a:pt x="257" y="111"/>
                            </a:lnTo>
                            <a:lnTo>
                              <a:pt x="263" y="111"/>
                            </a:lnTo>
                            <a:lnTo>
                              <a:pt x="266" y="111"/>
                            </a:lnTo>
                            <a:lnTo>
                              <a:pt x="271" y="110"/>
                            </a:lnTo>
                            <a:lnTo>
                              <a:pt x="275" y="110"/>
                            </a:lnTo>
                            <a:lnTo>
                              <a:pt x="281" y="110"/>
                            </a:lnTo>
                            <a:lnTo>
                              <a:pt x="286" y="108"/>
                            </a:lnTo>
                            <a:lnTo>
                              <a:pt x="290" y="108"/>
                            </a:lnTo>
                            <a:lnTo>
                              <a:pt x="297" y="107"/>
                            </a:lnTo>
                            <a:lnTo>
                              <a:pt x="301" y="107"/>
                            </a:lnTo>
                            <a:lnTo>
                              <a:pt x="307" y="106"/>
                            </a:lnTo>
                            <a:lnTo>
                              <a:pt x="312" y="104"/>
                            </a:lnTo>
                            <a:lnTo>
                              <a:pt x="318" y="104"/>
                            </a:lnTo>
                            <a:lnTo>
                              <a:pt x="324" y="104"/>
                            </a:lnTo>
                            <a:lnTo>
                              <a:pt x="330" y="103"/>
                            </a:lnTo>
                            <a:lnTo>
                              <a:pt x="335" y="102"/>
                            </a:lnTo>
                            <a:lnTo>
                              <a:pt x="341" y="102"/>
                            </a:lnTo>
                            <a:lnTo>
                              <a:pt x="349" y="102"/>
                            </a:lnTo>
                            <a:lnTo>
                              <a:pt x="355" y="100"/>
                            </a:lnTo>
                            <a:lnTo>
                              <a:pt x="361" y="100"/>
                            </a:lnTo>
                            <a:lnTo>
                              <a:pt x="367" y="99"/>
                            </a:lnTo>
                            <a:lnTo>
                              <a:pt x="375" y="99"/>
                            </a:lnTo>
                            <a:lnTo>
                              <a:pt x="381" y="98"/>
                            </a:lnTo>
                            <a:lnTo>
                              <a:pt x="387" y="98"/>
                            </a:lnTo>
                            <a:lnTo>
                              <a:pt x="393" y="96"/>
                            </a:lnTo>
                            <a:lnTo>
                              <a:pt x="401" y="96"/>
                            </a:lnTo>
                            <a:lnTo>
                              <a:pt x="408" y="95"/>
                            </a:lnTo>
                            <a:lnTo>
                              <a:pt x="414" y="95"/>
                            </a:lnTo>
                            <a:lnTo>
                              <a:pt x="422" y="93"/>
                            </a:lnTo>
                            <a:lnTo>
                              <a:pt x="430" y="93"/>
                            </a:lnTo>
                            <a:lnTo>
                              <a:pt x="437" y="92"/>
                            </a:lnTo>
                            <a:lnTo>
                              <a:pt x="445" y="92"/>
                            </a:lnTo>
                            <a:lnTo>
                              <a:pt x="453" y="91"/>
                            </a:lnTo>
                            <a:lnTo>
                              <a:pt x="460" y="91"/>
                            </a:lnTo>
                            <a:lnTo>
                              <a:pt x="468" y="89"/>
                            </a:lnTo>
                            <a:lnTo>
                              <a:pt x="476" y="89"/>
                            </a:lnTo>
                            <a:lnTo>
                              <a:pt x="483" y="88"/>
                            </a:lnTo>
                            <a:lnTo>
                              <a:pt x="492" y="88"/>
                            </a:lnTo>
                            <a:lnTo>
                              <a:pt x="1211" y="84"/>
                            </a:lnTo>
                            <a:lnTo>
                              <a:pt x="1083" y="92"/>
                            </a:lnTo>
                            <a:lnTo>
                              <a:pt x="1080" y="91"/>
                            </a:lnTo>
                            <a:lnTo>
                              <a:pt x="1077" y="91"/>
                            </a:lnTo>
                            <a:lnTo>
                              <a:pt x="1072" y="89"/>
                            </a:lnTo>
                            <a:lnTo>
                              <a:pt x="1068" y="89"/>
                            </a:lnTo>
                            <a:lnTo>
                              <a:pt x="1061" y="89"/>
                            </a:lnTo>
                            <a:lnTo>
                              <a:pt x="1058" y="89"/>
                            </a:lnTo>
                            <a:lnTo>
                              <a:pt x="1054" y="89"/>
                            </a:lnTo>
                            <a:lnTo>
                              <a:pt x="1051" y="89"/>
                            </a:lnTo>
                            <a:lnTo>
                              <a:pt x="1054" y="89"/>
                            </a:lnTo>
                            <a:lnTo>
                              <a:pt x="1058" y="91"/>
                            </a:lnTo>
                            <a:lnTo>
                              <a:pt x="1061" y="91"/>
                            </a:lnTo>
                            <a:lnTo>
                              <a:pt x="1066" y="92"/>
                            </a:lnTo>
                            <a:lnTo>
                              <a:pt x="1071" y="92"/>
                            </a:lnTo>
                            <a:lnTo>
                              <a:pt x="1075" y="92"/>
                            </a:lnTo>
                            <a:lnTo>
                              <a:pt x="1080" y="93"/>
                            </a:lnTo>
                            <a:lnTo>
                              <a:pt x="1084" y="93"/>
                            </a:lnTo>
                            <a:lnTo>
                              <a:pt x="1087" y="93"/>
                            </a:lnTo>
                            <a:lnTo>
                              <a:pt x="1092" y="93"/>
                            </a:lnTo>
                            <a:lnTo>
                              <a:pt x="1097" y="95"/>
                            </a:lnTo>
                            <a:lnTo>
                              <a:pt x="1101" y="95"/>
                            </a:lnTo>
                            <a:lnTo>
                              <a:pt x="1106" y="95"/>
                            </a:lnTo>
                            <a:lnTo>
                              <a:pt x="1110" y="95"/>
                            </a:lnTo>
                            <a:lnTo>
                              <a:pt x="1115" y="96"/>
                            </a:lnTo>
                            <a:lnTo>
                              <a:pt x="1120" y="96"/>
                            </a:lnTo>
                            <a:lnTo>
                              <a:pt x="1124" y="96"/>
                            </a:lnTo>
                            <a:lnTo>
                              <a:pt x="1130" y="96"/>
                            </a:lnTo>
                            <a:lnTo>
                              <a:pt x="1133" y="96"/>
                            </a:lnTo>
                            <a:lnTo>
                              <a:pt x="1139" y="96"/>
                            </a:lnTo>
                            <a:lnTo>
                              <a:pt x="1144" y="96"/>
                            </a:lnTo>
                            <a:lnTo>
                              <a:pt x="1149" y="96"/>
                            </a:lnTo>
                            <a:lnTo>
                              <a:pt x="1153" y="96"/>
                            </a:lnTo>
                            <a:lnTo>
                              <a:pt x="1158" y="96"/>
                            </a:lnTo>
                            <a:lnTo>
                              <a:pt x="1162" y="96"/>
                            </a:lnTo>
                            <a:lnTo>
                              <a:pt x="1167" y="96"/>
                            </a:lnTo>
                            <a:lnTo>
                              <a:pt x="1172" y="96"/>
                            </a:lnTo>
                            <a:lnTo>
                              <a:pt x="1178" y="96"/>
                            </a:lnTo>
                            <a:lnTo>
                              <a:pt x="1182" y="96"/>
                            </a:lnTo>
                            <a:lnTo>
                              <a:pt x="1187" y="96"/>
                            </a:lnTo>
                            <a:lnTo>
                              <a:pt x="1191" y="96"/>
                            </a:lnTo>
                            <a:lnTo>
                              <a:pt x="1196" y="96"/>
                            </a:lnTo>
                            <a:lnTo>
                              <a:pt x="1201" y="96"/>
                            </a:lnTo>
                            <a:lnTo>
                              <a:pt x="1207" y="96"/>
                            </a:lnTo>
                            <a:lnTo>
                              <a:pt x="1210" y="96"/>
                            </a:lnTo>
                            <a:lnTo>
                              <a:pt x="1216" y="96"/>
                            </a:lnTo>
                            <a:lnTo>
                              <a:pt x="1219" y="95"/>
                            </a:lnTo>
                            <a:lnTo>
                              <a:pt x="1225" y="95"/>
                            </a:lnTo>
                            <a:lnTo>
                              <a:pt x="1230" y="95"/>
                            </a:lnTo>
                            <a:lnTo>
                              <a:pt x="1234" y="95"/>
                            </a:lnTo>
                            <a:lnTo>
                              <a:pt x="1239" y="95"/>
                            </a:lnTo>
                            <a:lnTo>
                              <a:pt x="1243" y="95"/>
                            </a:lnTo>
                            <a:lnTo>
                              <a:pt x="1248" y="93"/>
                            </a:lnTo>
                            <a:lnTo>
                              <a:pt x="1254" y="93"/>
                            </a:lnTo>
                            <a:lnTo>
                              <a:pt x="1257" y="93"/>
                            </a:lnTo>
                            <a:lnTo>
                              <a:pt x="1263" y="93"/>
                            </a:lnTo>
                            <a:lnTo>
                              <a:pt x="1268" y="93"/>
                            </a:lnTo>
                            <a:lnTo>
                              <a:pt x="1273" y="93"/>
                            </a:lnTo>
                            <a:lnTo>
                              <a:pt x="1277" y="92"/>
                            </a:lnTo>
                            <a:lnTo>
                              <a:pt x="1282" y="92"/>
                            </a:lnTo>
                            <a:lnTo>
                              <a:pt x="1286" y="92"/>
                            </a:lnTo>
                            <a:lnTo>
                              <a:pt x="1291" y="92"/>
                            </a:lnTo>
                            <a:lnTo>
                              <a:pt x="1295" y="92"/>
                            </a:lnTo>
                            <a:lnTo>
                              <a:pt x="1300" y="92"/>
                            </a:lnTo>
                            <a:lnTo>
                              <a:pt x="1305" y="92"/>
                            </a:lnTo>
                            <a:lnTo>
                              <a:pt x="1309" y="92"/>
                            </a:lnTo>
                            <a:lnTo>
                              <a:pt x="1314" y="91"/>
                            </a:lnTo>
                            <a:lnTo>
                              <a:pt x="1318" y="91"/>
                            </a:lnTo>
                            <a:lnTo>
                              <a:pt x="1323" y="91"/>
                            </a:lnTo>
                            <a:lnTo>
                              <a:pt x="1328" y="91"/>
                            </a:lnTo>
                            <a:lnTo>
                              <a:pt x="1332" y="89"/>
                            </a:lnTo>
                            <a:lnTo>
                              <a:pt x="1337" y="89"/>
                            </a:lnTo>
                            <a:lnTo>
                              <a:pt x="1340" y="89"/>
                            </a:lnTo>
                            <a:lnTo>
                              <a:pt x="1346" y="89"/>
                            </a:lnTo>
                            <a:lnTo>
                              <a:pt x="1346" y="93"/>
                            </a:lnTo>
                            <a:lnTo>
                              <a:pt x="1346" y="98"/>
                            </a:lnTo>
                            <a:lnTo>
                              <a:pt x="1346" y="102"/>
                            </a:lnTo>
                            <a:lnTo>
                              <a:pt x="1347" y="106"/>
                            </a:lnTo>
                            <a:lnTo>
                              <a:pt x="1347" y="110"/>
                            </a:lnTo>
                            <a:lnTo>
                              <a:pt x="1349" y="115"/>
                            </a:lnTo>
                            <a:lnTo>
                              <a:pt x="1349" y="121"/>
                            </a:lnTo>
                            <a:lnTo>
                              <a:pt x="1351" y="125"/>
                            </a:lnTo>
                            <a:lnTo>
                              <a:pt x="1351" y="129"/>
                            </a:lnTo>
                            <a:lnTo>
                              <a:pt x="1352" y="135"/>
                            </a:lnTo>
                            <a:lnTo>
                              <a:pt x="1352" y="139"/>
                            </a:lnTo>
                            <a:lnTo>
                              <a:pt x="1354" y="144"/>
                            </a:lnTo>
                            <a:lnTo>
                              <a:pt x="1355" y="148"/>
                            </a:lnTo>
                            <a:lnTo>
                              <a:pt x="1357" y="151"/>
                            </a:lnTo>
                            <a:lnTo>
                              <a:pt x="1360" y="154"/>
                            </a:lnTo>
                            <a:lnTo>
                              <a:pt x="1361" y="158"/>
                            </a:lnTo>
                            <a:lnTo>
                              <a:pt x="1366" y="154"/>
                            </a:lnTo>
                            <a:lnTo>
                              <a:pt x="1364" y="148"/>
                            </a:lnTo>
                            <a:lnTo>
                              <a:pt x="1364" y="143"/>
                            </a:lnTo>
                            <a:lnTo>
                              <a:pt x="1363" y="139"/>
                            </a:lnTo>
                            <a:lnTo>
                              <a:pt x="1363" y="133"/>
                            </a:lnTo>
                            <a:lnTo>
                              <a:pt x="1361" y="129"/>
                            </a:lnTo>
                            <a:lnTo>
                              <a:pt x="1361" y="125"/>
                            </a:lnTo>
                            <a:lnTo>
                              <a:pt x="1360" y="121"/>
                            </a:lnTo>
                            <a:lnTo>
                              <a:pt x="1360" y="117"/>
                            </a:lnTo>
                            <a:lnTo>
                              <a:pt x="1360" y="111"/>
                            </a:lnTo>
                            <a:lnTo>
                              <a:pt x="1358" y="107"/>
                            </a:lnTo>
                            <a:lnTo>
                              <a:pt x="1358" y="102"/>
                            </a:lnTo>
                            <a:lnTo>
                              <a:pt x="1358" y="99"/>
                            </a:lnTo>
                            <a:lnTo>
                              <a:pt x="1357" y="93"/>
                            </a:lnTo>
                            <a:lnTo>
                              <a:pt x="1357" y="89"/>
                            </a:lnTo>
                            <a:lnTo>
                              <a:pt x="1357" y="85"/>
                            </a:lnTo>
                            <a:lnTo>
                              <a:pt x="1357" y="81"/>
                            </a:lnTo>
                            <a:lnTo>
                              <a:pt x="1354" y="80"/>
                            </a:lnTo>
                            <a:lnTo>
                              <a:pt x="1351" y="80"/>
                            </a:lnTo>
                            <a:lnTo>
                              <a:pt x="1346" y="80"/>
                            </a:lnTo>
                            <a:lnTo>
                              <a:pt x="1343" y="81"/>
                            </a:lnTo>
                            <a:lnTo>
                              <a:pt x="1340" y="81"/>
                            </a:lnTo>
                            <a:lnTo>
                              <a:pt x="1337" y="82"/>
                            </a:lnTo>
                            <a:lnTo>
                              <a:pt x="1332" y="82"/>
                            </a:lnTo>
                            <a:lnTo>
                              <a:pt x="1329" y="84"/>
                            </a:lnTo>
                            <a:lnTo>
                              <a:pt x="1325" y="84"/>
                            </a:lnTo>
                            <a:lnTo>
                              <a:pt x="1321" y="84"/>
                            </a:lnTo>
                            <a:lnTo>
                              <a:pt x="1326" y="81"/>
                            </a:lnTo>
                            <a:lnTo>
                              <a:pt x="1328" y="80"/>
                            </a:lnTo>
                            <a:lnTo>
                              <a:pt x="1331" y="78"/>
                            </a:lnTo>
                            <a:lnTo>
                              <a:pt x="1334" y="77"/>
                            </a:lnTo>
                            <a:lnTo>
                              <a:pt x="1338" y="77"/>
                            </a:lnTo>
                            <a:lnTo>
                              <a:pt x="1341" y="76"/>
                            </a:lnTo>
                            <a:lnTo>
                              <a:pt x="1347" y="76"/>
                            </a:lnTo>
                            <a:lnTo>
                              <a:pt x="1351" y="74"/>
                            </a:lnTo>
                            <a:lnTo>
                              <a:pt x="1354" y="74"/>
                            </a:lnTo>
                            <a:lnTo>
                              <a:pt x="1357" y="74"/>
                            </a:lnTo>
                            <a:lnTo>
                              <a:pt x="1361" y="74"/>
                            </a:lnTo>
                            <a:lnTo>
                              <a:pt x="1363" y="77"/>
                            </a:lnTo>
                            <a:lnTo>
                              <a:pt x="1364" y="82"/>
                            </a:lnTo>
                            <a:lnTo>
                              <a:pt x="1367" y="87"/>
                            </a:lnTo>
                            <a:lnTo>
                              <a:pt x="1369" y="89"/>
                            </a:lnTo>
                            <a:lnTo>
                              <a:pt x="1369" y="87"/>
                            </a:lnTo>
                            <a:lnTo>
                              <a:pt x="1370" y="84"/>
                            </a:lnTo>
                            <a:lnTo>
                              <a:pt x="1370" y="80"/>
                            </a:lnTo>
                            <a:lnTo>
                              <a:pt x="1370" y="77"/>
                            </a:lnTo>
                            <a:lnTo>
                              <a:pt x="1370" y="74"/>
                            </a:lnTo>
                            <a:lnTo>
                              <a:pt x="1370" y="71"/>
                            </a:lnTo>
                            <a:lnTo>
                              <a:pt x="1370" y="67"/>
                            </a:lnTo>
                            <a:lnTo>
                              <a:pt x="1369" y="65"/>
                            </a:lnTo>
                            <a:lnTo>
                              <a:pt x="1364" y="65"/>
                            </a:lnTo>
                            <a:lnTo>
                              <a:pt x="1360" y="65"/>
                            </a:lnTo>
                            <a:lnTo>
                              <a:pt x="1357" y="65"/>
                            </a:lnTo>
                            <a:lnTo>
                              <a:pt x="1352" y="66"/>
                            </a:lnTo>
                            <a:lnTo>
                              <a:pt x="1347" y="66"/>
                            </a:lnTo>
                            <a:lnTo>
                              <a:pt x="1344" y="67"/>
                            </a:lnTo>
                            <a:lnTo>
                              <a:pt x="1340" y="67"/>
                            </a:lnTo>
                            <a:lnTo>
                              <a:pt x="1337" y="69"/>
                            </a:lnTo>
                            <a:lnTo>
                              <a:pt x="1332" y="69"/>
                            </a:lnTo>
                            <a:lnTo>
                              <a:pt x="1329" y="70"/>
                            </a:lnTo>
                            <a:lnTo>
                              <a:pt x="1325" y="70"/>
                            </a:lnTo>
                            <a:lnTo>
                              <a:pt x="1320" y="71"/>
                            </a:lnTo>
                            <a:lnTo>
                              <a:pt x="1317" y="71"/>
                            </a:lnTo>
                            <a:lnTo>
                              <a:pt x="1312" y="71"/>
                            </a:lnTo>
                            <a:lnTo>
                              <a:pt x="1309" y="71"/>
                            </a:lnTo>
                            <a:lnTo>
                              <a:pt x="1306" y="71"/>
                            </a:lnTo>
                            <a:lnTo>
                              <a:pt x="1302" y="71"/>
                            </a:lnTo>
                            <a:lnTo>
                              <a:pt x="1299" y="71"/>
                            </a:lnTo>
                            <a:lnTo>
                              <a:pt x="1295" y="70"/>
                            </a:lnTo>
                            <a:lnTo>
                              <a:pt x="1292" y="70"/>
                            </a:lnTo>
                            <a:lnTo>
                              <a:pt x="1285" y="69"/>
                            </a:lnTo>
                            <a:lnTo>
                              <a:pt x="1280" y="70"/>
                            </a:lnTo>
                            <a:lnTo>
                              <a:pt x="1285" y="67"/>
                            </a:lnTo>
                            <a:lnTo>
                              <a:pt x="1291" y="65"/>
                            </a:lnTo>
                            <a:lnTo>
                              <a:pt x="1297" y="63"/>
                            </a:lnTo>
                            <a:lnTo>
                              <a:pt x="1302" y="62"/>
                            </a:lnTo>
                            <a:lnTo>
                              <a:pt x="1308" y="62"/>
                            </a:lnTo>
                            <a:lnTo>
                              <a:pt x="1314" y="60"/>
                            </a:lnTo>
                            <a:lnTo>
                              <a:pt x="1320" y="60"/>
                            </a:lnTo>
                            <a:lnTo>
                              <a:pt x="1326" y="60"/>
                            </a:lnTo>
                            <a:lnTo>
                              <a:pt x="1332" y="60"/>
                            </a:lnTo>
                            <a:lnTo>
                              <a:pt x="1337" y="60"/>
                            </a:lnTo>
                            <a:lnTo>
                              <a:pt x="1343" y="60"/>
                            </a:lnTo>
                            <a:lnTo>
                              <a:pt x="1351" y="60"/>
                            </a:lnTo>
                            <a:lnTo>
                              <a:pt x="1355" y="59"/>
                            </a:lnTo>
                            <a:lnTo>
                              <a:pt x="1363" y="59"/>
                            </a:lnTo>
                            <a:lnTo>
                              <a:pt x="1366" y="59"/>
                            </a:lnTo>
                            <a:lnTo>
                              <a:pt x="1369" y="59"/>
                            </a:lnTo>
                            <a:lnTo>
                              <a:pt x="1372" y="59"/>
                            </a:lnTo>
                            <a:lnTo>
                              <a:pt x="1377" y="59"/>
                            </a:lnTo>
                            <a:lnTo>
                              <a:pt x="1377" y="62"/>
                            </a:lnTo>
                            <a:lnTo>
                              <a:pt x="1377" y="66"/>
                            </a:lnTo>
                            <a:lnTo>
                              <a:pt x="1378" y="70"/>
                            </a:lnTo>
                            <a:lnTo>
                              <a:pt x="1380" y="74"/>
                            </a:lnTo>
                            <a:lnTo>
                              <a:pt x="1380" y="78"/>
                            </a:lnTo>
                            <a:lnTo>
                              <a:pt x="1381" y="84"/>
                            </a:lnTo>
                            <a:lnTo>
                              <a:pt x="1381" y="87"/>
                            </a:lnTo>
                            <a:lnTo>
                              <a:pt x="1383" y="92"/>
                            </a:lnTo>
                            <a:lnTo>
                              <a:pt x="1384" y="96"/>
                            </a:lnTo>
                            <a:lnTo>
                              <a:pt x="1384" y="99"/>
                            </a:lnTo>
                            <a:lnTo>
                              <a:pt x="1384" y="103"/>
                            </a:lnTo>
                            <a:lnTo>
                              <a:pt x="1386" y="108"/>
                            </a:lnTo>
                            <a:lnTo>
                              <a:pt x="1387" y="111"/>
                            </a:lnTo>
                            <a:lnTo>
                              <a:pt x="1387" y="117"/>
                            </a:lnTo>
                            <a:lnTo>
                              <a:pt x="1389" y="121"/>
                            </a:lnTo>
                            <a:lnTo>
                              <a:pt x="1390" y="125"/>
                            </a:lnTo>
                            <a:lnTo>
                              <a:pt x="1390" y="129"/>
                            </a:lnTo>
                            <a:lnTo>
                              <a:pt x="1392" y="133"/>
                            </a:lnTo>
                            <a:lnTo>
                              <a:pt x="1392" y="136"/>
                            </a:lnTo>
                            <a:lnTo>
                              <a:pt x="1393" y="141"/>
                            </a:lnTo>
                            <a:lnTo>
                              <a:pt x="1395" y="146"/>
                            </a:lnTo>
                            <a:lnTo>
                              <a:pt x="1395" y="150"/>
                            </a:lnTo>
                            <a:lnTo>
                              <a:pt x="1396" y="154"/>
                            </a:lnTo>
                            <a:lnTo>
                              <a:pt x="1398" y="158"/>
                            </a:lnTo>
                            <a:lnTo>
                              <a:pt x="1398" y="162"/>
                            </a:lnTo>
                            <a:lnTo>
                              <a:pt x="1399" y="166"/>
                            </a:lnTo>
                            <a:lnTo>
                              <a:pt x="1399" y="170"/>
                            </a:lnTo>
                            <a:lnTo>
                              <a:pt x="1401" y="174"/>
                            </a:lnTo>
                            <a:lnTo>
                              <a:pt x="1401" y="179"/>
                            </a:lnTo>
                            <a:lnTo>
                              <a:pt x="1404" y="183"/>
                            </a:lnTo>
                            <a:lnTo>
                              <a:pt x="1404" y="187"/>
                            </a:lnTo>
                            <a:lnTo>
                              <a:pt x="1406" y="192"/>
                            </a:lnTo>
                            <a:lnTo>
                              <a:pt x="1419" y="192"/>
                            </a:lnTo>
                            <a:lnTo>
                              <a:pt x="1418" y="188"/>
                            </a:lnTo>
                            <a:lnTo>
                              <a:pt x="1418" y="184"/>
                            </a:lnTo>
                            <a:lnTo>
                              <a:pt x="1418" y="180"/>
                            </a:lnTo>
                            <a:lnTo>
                              <a:pt x="1418" y="174"/>
                            </a:lnTo>
                            <a:lnTo>
                              <a:pt x="1418" y="170"/>
                            </a:lnTo>
                            <a:lnTo>
                              <a:pt x="1418" y="165"/>
                            </a:lnTo>
                            <a:lnTo>
                              <a:pt x="1418" y="159"/>
                            </a:lnTo>
                            <a:lnTo>
                              <a:pt x="1418" y="155"/>
                            </a:lnTo>
                            <a:lnTo>
                              <a:pt x="1416" y="150"/>
                            </a:lnTo>
                            <a:lnTo>
                              <a:pt x="1416" y="144"/>
                            </a:lnTo>
                            <a:lnTo>
                              <a:pt x="1415" y="139"/>
                            </a:lnTo>
                            <a:lnTo>
                              <a:pt x="1415" y="133"/>
                            </a:lnTo>
                            <a:lnTo>
                              <a:pt x="1415" y="126"/>
                            </a:lnTo>
                            <a:lnTo>
                              <a:pt x="1415" y="121"/>
                            </a:lnTo>
                            <a:lnTo>
                              <a:pt x="1415" y="115"/>
                            </a:lnTo>
                            <a:lnTo>
                              <a:pt x="1415" y="110"/>
                            </a:lnTo>
                            <a:lnTo>
                              <a:pt x="1413" y="104"/>
                            </a:lnTo>
                            <a:lnTo>
                              <a:pt x="1413" y="99"/>
                            </a:lnTo>
                            <a:lnTo>
                              <a:pt x="1412" y="92"/>
                            </a:lnTo>
                            <a:lnTo>
                              <a:pt x="1412" y="87"/>
                            </a:lnTo>
                            <a:lnTo>
                              <a:pt x="1410" y="81"/>
                            </a:lnTo>
                            <a:lnTo>
                              <a:pt x="1410" y="76"/>
                            </a:lnTo>
                            <a:lnTo>
                              <a:pt x="1409" y="71"/>
                            </a:lnTo>
                            <a:lnTo>
                              <a:pt x="1409" y="66"/>
                            </a:lnTo>
                            <a:lnTo>
                              <a:pt x="1407" y="60"/>
                            </a:lnTo>
                            <a:lnTo>
                              <a:pt x="1406" y="55"/>
                            </a:lnTo>
                            <a:lnTo>
                              <a:pt x="1404" y="51"/>
                            </a:lnTo>
                            <a:lnTo>
                              <a:pt x="1404" y="47"/>
                            </a:lnTo>
                            <a:lnTo>
                              <a:pt x="1403" y="43"/>
                            </a:lnTo>
                            <a:lnTo>
                              <a:pt x="1401" y="40"/>
                            </a:lnTo>
                            <a:lnTo>
                              <a:pt x="1399" y="36"/>
                            </a:lnTo>
                            <a:lnTo>
                              <a:pt x="1398" y="33"/>
                            </a:lnTo>
                            <a:lnTo>
                              <a:pt x="1395" y="33"/>
                            </a:lnTo>
                            <a:lnTo>
                              <a:pt x="1390" y="32"/>
                            </a:lnTo>
                            <a:lnTo>
                              <a:pt x="1384" y="32"/>
                            </a:lnTo>
                            <a:lnTo>
                              <a:pt x="1381" y="32"/>
                            </a:lnTo>
                            <a:lnTo>
                              <a:pt x="1378" y="32"/>
                            </a:lnTo>
                            <a:lnTo>
                              <a:pt x="1375" y="32"/>
                            </a:lnTo>
                            <a:lnTo>
                              <a:pt x="1372" y="32"/>
                            </a:lnTo>
                            <a:lnTo>
                              <a:pt x="1367" y="30"/>
                            </a:lnTo>
                            <a:lnTo>
                              <a:pt x="1364" y="30"/>
                            </a:lnTo>
                            <a:lnTo>
                              <a:pt x="1360" y="30"/>
                            </a:lnTo>
                            <a:lnTo>
                              <a:pt x="1357" y="30"/>
                            </a:lnTo>
                            <a:lnTo>
                              <a:pt x="1352" y="30"/>
                            </a:lnTo>
                            <a:lnTo>
                              <a:pt x="1349" y="30"/>
                            </a:lnTo>
                            <a:lnTo>
                              <a:pt x="1344" y="30"/>
                            </a:lnTo>
                            <a:lnTo>
                              <a:pt x="1341" y="30"/>
                            </a:lnTo>
                            <a:lnTo>
                              <a:pt x="1337" y="29"/>
                            </a:lnTo>
                            <a:lnTo>
                              <a:pt x="1334" y="29"/>
                            </a:lnTo>
                            <a:lnTo>
                              <a:pt x="1331" y="29"/>
                            </a:lnTo>
                            <a:lnTo>
                              <a:pt x="1328" y="29"/>
                            </a:lnTo>
                            <a:lnTo>
                              <a:pt x="1323" y="29"/>
                            </a:lnTo>
                            <a:lnTo>
                              <a:pt x="1318" y="29"/>
                            </a:lnTo>
                            <a:lnTo>
                              <a:pt x="1315" y="29"/>
                            </a:lnTo>
                            <a:lnTo>
                              <a:pt x="1321" y="28"/>
                            </a:lnTo>
                            <a:lnTo>
                              <a:pt x="1326" y="26"/>
                            </a:lnTo>
                            <a:lnTo>
                              <a:pt x="1332" y="25"/>
                            </a:lnTo>
                            <a:lnTo>
                              <a:pt x="1338" y="25"/>
                            </a:lnTo>
                            <a:lnTo>
                              <a:pt x="1343" y="23"/>
                            </a:lnTo>
                            <a:lnTo>
                              <a:pt x="1351" y="23"/>
                            </a:lnTo>
                            <a:lnTo>
                              <a:pt x="1355" y="23"/>
                            </a:lnTo>
                            <a:lnTo>
                              <a:pt x="1361" y="23"/>
                            </a:lnTo>
                            <a:lnTo>
                              <a:pt x="1367" y="23"/>
                            </a:lnTo>
                            <a:lnTo>
                              <a:pt x="1373" y="23"/>
                            </a:lnTo>
                            <a:lnTo>
                              <a:pt x="1378" y="23"/>
                            </a:lnTo>
                            <a:lnTo>
                              <a:pt x="1384" y="23"/>
                            </a:lnTo>
                            <a:lnTo>
                              <a:pt x="1390" y="23"/>
                            </a:lnTo>
                            <a:lnTo>
                              <a:pt x="1396" y="23"/>
                            </a:lnTo>
                            <a:lnTo>
                              <a:pt x="1403" y="23"/>
                            </a:lnTo>
                            <a:lnTo>
                              <a:pt x="1409" y="23"/>
                            </a:lnTo>
                            <a:lnTo>
                              <a:pt x="1409" y="29"/>
                            </a:lnTo>
                            <a:lnTo>
                              <a:pt x="1409" y="33"/>
                            </a:lnTo>
                            <a:lnTo>
                              <a:pt x="1410" y="38"/>
                            </a:lnTo>
                            <a:lnTo>
                              <a:pt x="1412" y="44"/>
                            </a:lnTo>
                            <a:lnTo>
                              <a:pt x="1412" y="49"/>
                            </a:lnTo>
                            <a:lnTo>
                              <a:pt x="1412" y="54"/>
                            </a:lnTo>
                            <a:lnTo>
                              <a:pt x="1412" y="59"/>
                            </a:lnTo>
                            <a:lnTo>
                              <a:pt x="1413" y="65"/>
                            </a:lnTo>
                            <a:lnTo>
                              <a:pt x="1413" y="70"/>
                            </a:lnTo>
                            <a:lnTo>
                              <a:pt x="1415" y="74"/>
                            </a:lnTo>
                            <a:lnTo>
                              <a:pt x="1415" y="80"/>
                            </a:lnTo>
                            <a:lnTo>
                              <a:pt x="1415" y="85"/>
                            </a:lnTo>
                            <a:lnTo>
                              <a:pt x="1416" y="91"/>
                            </a:lnTo>
                            <a:lnTo>
                              <a:pt x="1418" y="96"/>
                            </a:lnTo>
                            <a:lnTo>
                              <a:pt x="1418" y="102"/>
                            </a:lnTo>
                            <a:lnTo>
                              <a:pt x="1419" y="107"/>
                            </a:lnTo>
                            <a:lnTo>
                              <a:pt x="1419" y="111"/>
                            </a:lnTo>
                            <a:lnTo>
                              <a:pt x="1421" y="117"/>
                            </a:lnTo>
                            <a:lnTo>
                              <a:pt x="1422" y="122"/>
                            </a:lnTo>
                            <a:lnTo>
                              <a:pt x="1422" y="126"/>
                            </a:lnTo>
                            <a:lnTo>
                              <a:pt x="1424" y="132"/>
                            </a:lnTo>
                            <a:lnTo>
                              <a:pt x="1425" y="137"/>
                            </a:lnTo>
                            <a:lnTo>
                              <a:pt x="1425" y="141"/>
                            </a:lnTo>
                            <a:lnTo>
                              <a:pt x="1429" y="148"/>
                            </a:lnTo>
                            <a:lnTo>
                              <a:pt x="1429" y="152"/>
                            </a:lnTo>
                            <a:lnTo>
                              <a:pt x="1430" y="158"/>
                            </a:lnTo>
                            <a:lnTo>
                              <a:pt x="1432" y="163"/>
                            </a:lnTo>
                            <a:lnTo>
                              <a:pt x="1433" y="168"/>
                            </a:lnTo>
                            <a:lnTo>
                              <a:pt x="1436" y="173"/>
                            </a:lnTo>
                            <a:lnTo>
                              <a:pt x="1438" y="177"/>
                            </a:lnTo>
                            <a:lnTo>
                              <a:pt x="1439" y="183"/>
                            </a:lnTo>
                            <a:lnTo>
                              <a:pt x="1442" y="188"/>
                            </a:lnTo>
                            <a:lnTo>
                              <a:pt x="1442" y="191"/>
                            </a:lnTo>
                            <a:lnTo>
                              <a:pt x="1444" y="195"/>
                            </a:lnTo>
                            <a:lnTo>
                              <a:pt x="1445" y="196"/>
                            </a:lnTo>
                            <a:lnTo>
                              <a:pt x="1447" y="198"/>
                            </a:lnTo>
                            <a:lnTo>
                              <a:pt x="1448" y="196"/>
                            </a:lnTo>
                            <a:lnTo>
                              <a:pt x="1450" y="194"/>
                            </a:lnTo>
                            <a:lnTo>
                              <a:pt x="1450" y="188"/>
                            </a:lnTo>
                            <a:lnTo>
                              <a:pt x="1450" y="183"/>
                            </a:lnTo>
                            <a:lnTo>
                              <a:pt x="1450" y="179"/>
                            </a:lnTo>
                            <a:lnTo>
                              <a:pt x="1450" y="174"/>
                            </a:lnTo>
                            <a:lnTo>
                              <a:pt x="1448" y="170"/>
                            </a:lnTo>
                            <a:lnTo>
                              <a:pt x="1448" y="168"/>
                            </a:lnTo>
                            <a:lnTo>
                              <a:pt x="1448" y="163"/>
                            </a:lnTo>
                            <a:lnTo>
                              <a:pt x="1448" y="159"/>
                            </a:lnTo>
                            <a:lnTo>
                              <a:pt x="1447" y="154"/>
                            </a:lnTo>
                            <a:lnTo>
                              <a:pt x="1447" y="150"/>
                            </a:lnTo>
                            <a:lnTo>
                              <a:pt x="1447" y="143"/>
                            </a:lnTo>
                            <a:lnTo>
                              <a:pt x="1447" y="137"/>
                            </a:lnTo>
                            <a:lnTo>
                              <a:pt x="1447" y="135"/>
                            </a:lnTo>
                            <a:lnTo>
                              <a:pt x="1447" y="130"/>
                            </a:lnTo>
                            <a:lnTo>
                              <a:pt x="1445" y="128"/>
                            </a:lnTo>
                            <a:lnTo>
                              <a:pt x="1445" y="124"/>
                            </a:lnTo>
                            <a:lnTo>
                              <a:pt x="1445" y="121"/>
                            </a:lnTo>
                            <a:lnTo>
                              <a:pt x="1445" y="117"/>
                            </a:lnTo>
                            <a:lnTo>
                              <a:pt x="1444" y="114"/>
                            </a:lnTo>
                            <a:lnTo>
                              <a:pt x="1444" y="111"/>
                            </a:lnTo>
                            <a:lnTo>
                              <a:pt x="1444" y="107"/>
                            </a:lnTo>
                            <a:lnTo>
                              <a:pt x="1444" y="103"/>
                            </a:lnTo>
                            <a:lnTo>
                              <a:pt x="1442" y="99"/>
                            </a:lnTo>
                            <a:lnTo>
                              <a:pt x="1442" y="96"/>
                            </a:lnTo>
                            <a:lnTo>
                              <a:pt x="1442" y="92"/>
                            </a:lnTo>
                            <a:lnTo>
                              <a:pt x="1442" y="88"/>
                            </a:lnTo>
                            <a:lnTo>
                              <a:pt x="1442" y="85"/>
                            </a:lnTo>
                            <a:lnTo>
                              <a:pt x="1442" y="81"/>
                            </a:lnTo>
                            <a:lnTo>
                              <a:pt x="1442" y="77"/>
                            </a:lnTo>
                            <a:lnTo>
                              <a:pt x="1441" y="74"/>
                            </a:lnTo>
                            <a:lnTo>
                              <a:pt x="1441" y="70"/>
                            </a:lnTo>
                            <a:lnTo>
                              <a:pt x="1441" y="66"/>
                            </a:lnTo>
                            <a:lnTo>
                              <a:pt x="1439" y="62"/>
                            </a:lnTo>
                            <a:lnTo>
                              <a:pt x="1439" y="59"/>
                            </a:lnTo>
                            <a:lnTo>
                              <a:pt x="1439" y="55"/>
                            </a:lnTo>
                            <a:lnTo>
                              <a:pt x="1439" y="52"/>
                            </a:lnTo>
                            <a:lnTo>
                              <a:pt x="1439" y="48"/>
                            </a:lnTo>
                            <a:lnTo>
                              <a:pt x="1438" y="45"/>
                            </a:lnTo>
                            <a:lnTo>
                              <a:pt x="1438" y="41"/>
                            </a:lnTo>
                            <a:lnTo>
                              <a:pt x="1438" y="38"/>
                            </a:lnTo>
                            <a:lnTo>
                              <a:pt x="1436" y="36"/>
                            </a:lnTo>
                            <a:lnTo>
                              <a:pt x="1436" y="32"/>
                            </a:lnTo>
                            <a:lnTo>
                              <a:pt x="1436" y="29"/>
                            </a:lnTo>
                            <a:lnTo>
                              <a:pt x="1436" y="28"/>
                            </a:lnTo>
                            <a:lnTo>
                              <a:pt x="1435" y="21"/>
                            </a:lnTo>
                            <a:lnTo>
                              <a:pt x="1435" y="17"/>
                            </a:lnTo>
                            <a:lnTo>
                              <a:pt x="1433" y="11"/>
                            </a:lnTo>
                            <a:lnTo>
                              <a:pt x="1433" y="8"/>
                            </a:lnTo>
                            <a:lnTo>
                              <a:pt x="1433" y="4"/>
                            </a:lnTo>
                            <a:lnTo>
                              <a:pt x="1433" y="3"/>
                            </a:lnTo>
                            <a:lnTo>
                              <a:pt x="1432" y="0"/>
                            </a:lnTo>
                            <a:lnTo>
                              <a:pt x="9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0" name="Freeform 120"/>
                      <p:cNvSpPr/>
                      <p:nvPr/>
                    </p:nvSpPr>
                    <p:spPr>
                      <a:xfrm>
                        <a:off x="3001320" y="2661120"/>
                        <a:ext cx="24840" cy="1800"/>
                      </a:xfrm>
                      <a:custGeom>
                        <a:avLst/>
                        <a:gdLst>
                          <a:gd name="textAreaLeft" fmla="*/ 0 w 24840"/>
                          <a:gd name="textAreaRight" fmla="*/ 25200 w 24840"/>
                          <a:gd name="textAreaTop" fmla="*/ 0 h 1800"/>
                          <a:gd name="textAreaBottom" fmla="*/ 2160 h 1800"/>
                        </a:gdLst>
                        <a:ahLst/>
                        <a:rect l="textAreaLeft" t="textAreaTop" r="textAreaRight" b="textAreaBottom"/>
                        <a:pathLst>
                          <a:path w="277" h="18">
                            <a:moveTo>
                              <a:pt x="277" y="0"/>
                            </a:moveTo>
                            <a:lnTo>
                              <a:pt x="269" y="0"/>
                            </a:lnTo>
                            <a:lnTo>
                              <a:pt x="263" y="0"/>
                            </a:lnTo>
                            <a:lnTo>
                              <a:pt x="257" y="0"/>
                            </a:lnTo>
                            <a:lnTo>
                              <a:pt x="252" y="0"/>
                            </a:lnTo>
                            <a:lnTo>
                              <a:pt x="245" y="0"/>
                            </a:lnTo>
                            <a:lnTo>
                              <a:pt x="240" y="2"/>
                            </a:lnTo>
                            <a:lnTo>
                              <a:pt x="234" y="2"/>
                            </a:lnTo>
                            <a:lnTo>
                              <a:pt x="228" y="3"/>
                            </a:lnTo>
                            <a:lnTo>
                              <a:pt x="222" y="3"/>
                            </a:lnTo>
                            <a:lnTo>
                              <a:pt x="216" y="3"/>
                            </a:lnTo>
                            <a:lnTo>
                              <a:pt x="210" y="4"/>
                            </a:lnTo>
                            <a:lnTo>
                              <a:pt x="203" y="4"/>
                            </a:lnTo>
                            <a:lnTo>
                              <a:pt x="197" y="4"/>
                            </a:lnTo>
                            <a:lnTo>
                              <a:pt x="193" y="4"/>
                            </a:lnTo>
                            <a:lnTo>
                              <a:pt x="187" y="6"/>
                            </a:lnTo>
                            <a:lnTo>
                              <a:pt x="180" y="6"/>
                            </a:lnTo>
                            <a:lnTo>
                              <a:pt x="174" y="6"/>
                            </a:lnTo>
                            <a:lnTo>
                              <a:pt x="168" y="7"/>
                            </a:lnTo>
                            <a:lnTo>
                              <a:pt x="162" y="7"/>
                            </a:lnTo>
                            <a:lnTo>
                              <a:pt x="156" y="7"/>
                            </a:lnTo>
                            <a:lnTo>
                              <a:pt x="150" y="7"/>
                            </a:lnTo>
                            <a:lnTo>
                              <a:pt x="144" y="7"/>
                            </a:lnTo>
                            <a:lnTo>
                              <a:pt x="138" y="9"/>
                            </a:lnTo>
                            <a:lnTo>
                              <a:pt x="131" y="9"/>
                            </a:lnTo>
                            <a:lnTo>
                              <a:pt x="125" y="9"/>
                            </a:lnTo>
                            <a:lnTo>
                              <a:pt x="119" y="10"/>
                            </a:lnTo>
                            <a:lnTo>
                              <a:pt x="113" y="10"/>
                            </a:lnTo>
                            <a:lnTo>
                              <a:pt x="109" y="10"/>
                            </a:lnTo>
                            <a:lnTo>
                              <a:pt x="101" y="10"/>
                            </a:lnTo>
                            <a:lnTo>
                              <a:pt x="96" y="10"/>
                            </a:lnTo>
                            <a:lnTo>
                              <a:pt x="90" y="11"/>
                            </a:lnTo>
                            <a:lnTo>
                              <a:pt x="84" y="11"/>
                            </a:lnTo>
                            <a:lnTo>
                              <a:pt x="79" y="11"/>
                            </a:lnTo>
                            <a:lnTo>
                              <a:pt x="76" y="11"/>
                            </a:lnTo>
                            <a:lnTo>
                              <a:pt x="72" y="11"/>
                            </a:lnTo>
                            <a:lnTo>
                              <a:pt x="67" y="11"/>
                            </a:lnTo>
                            <a:lnTo>
                              <a:pt x="63" y="11"/>
                            </a:lnTo>
                            <a:lnTo>
                              <a:pt x="60" y="11"/>
                            </a:lnTo>
                            <a:lnTo>
                              <a:pt x="55" y="11"/>
                            </a:lnTo>
                            <a:lnTo>
                              <a:pt x="52" y="11"/>
                            </a:lnTo>
                            <a:lnTo>
                              <a:pt x="47" y="11"/>
                            </a:lnTo>
                            <a:lnTo>
                              <a:pt x="43" y="11"/>
                            </a:lnTo>
                            <a:lnTo>
                              <a:pt x="38" y="11"/>
                            </a:lnTo>
                            <a:lnTo>
                              <a:pt x="35" y="13"/>
                            </a:lnTo>
                            <a:lnTo>
                              <a:pt x="31" y="13"/>
                            </a:lnTo>
                            <a:lnTo>
                              <a:pt x="26" y="13"/>
                            </a:lnTo>
                            <a:lnTo>
                              <a:pt x="23" y="13"/>
                            </a:lnTo>
                            <a:lnTo>
                              <a:pt x="18" y="14"/>
                            </a:lnTo>
                            <a:lnTo>
                              <a:pt x="5" y="15"/>
                            </a:lnTo>
                            <a:lnTo>
                              <a:pt x="3" y="15"/>
                            </a:lnTo>
                            <a:lnTo>
                              <a:pt x="1" y="15"/>
                            </a:lnTo>
                            <a:lnTo>
                              <a:pt x="0" y="15"/>
                            </a:lnTo>
                            <a:lnTo>
                              <a:pt x="29" y="18"/>
                            </a:lnTo>
                            <a:lnTo>
                              <a:pt x="34" y="18"/>
                            </a:lnTo>
                            <a:lnTo>
                              <a:pt x="38" y="18"/>
                            </a:lnTo>
                            <a:lnTo>
                              <a:pt x="43" y="18"/>
                            </a:lnTo>
                            <a:lnTo>
                              <a:pt x="49" y="18"/>
                            </a:lnTo>
                            <a:lnTo>
                              <a:pt x="55" y="18"/>
                            </a:lnTo>
                            <a:lnTo>
                              <a:pt x="60" y="18"/>
                            </a:lnTo>
                            <a:lnTo>
                              <a:pt x="66" y="18"/>
                            </a:lnTo>
                            <a:lnTo>
                              <a:pt x="72" y="18"/>
                            </a:lnTo>
                            <a:lnTo>
                              <a:pt x="76" y="18"/>
                            </a:lnTo>
                            <a:lnTo>
                              <a:pt x="83" y="18"/>
                            </a:lnTo>
                            <a:lnTo>
                              <a:pt x="89" y="17"/>
                            </a:lnTo>
                            <a:lnTo>
                              <a:pt x="95" y="17"/>
                            </a:lnTo>
                            <a:lnTo>
                              <a:pt x="99" y="17"/>
                            </a:lnTo>
                            <a:lnTo>
                              <a:pt x="105" y="17"/>
                            </a:lnTo>
                            <a:lnTo>
                              <a:pt x="112" y="15"/>
                            </a:lnTo>
                            <a:lnTo>
                              <a:pt x="118" y="15"/>
                            </a:lnTo>
                            <a:lnTo>
                              <a:pt x="124" y="15"/>
                            </a:lnTo>
                            <a:lnTo>
                              <a:pt x="128" y="15"/>
                            </a:lnTo>
                            <a:lnTo>
                              <a:pt x="135" y="14"/>
                            </a:lnTo>
                            <a:lnTo>
                              <a:pt x="141" y="14"/>
                            </a:lnTo>
                            <a:lnTo>
                              <a:pt x="145" y="14"/>
                            </a:lnTo>
                            <a:lnTo>
                              <a:pt x="151" y="13"/>
                            </a:lnTo>
                            <a:lnTo>
                              <a:pt x="157" y="13"/>
                            </a:lnTo>
                            <a:lnTo>
                              <a:pt x="164" y="13"/>
                            </a:lnTo>
                            <a:lnTo>
                              <a:pt x="168" y="13"/>
                            </a:lnTo>
                            <a:lnTo>
                              <a:pt x="174" y="11"/>
                            </a:lnTo>
                            <a:lnTo>
                              <a:pt x="180" y="11"/>
                            </a:lnTo>
                            <a:lnTo>
                              <a:pt x="185" y="11"/>
                            </a:lnTo>
                            <a:lnTo>
                              <a:pt x="190" y="10"/>
                            </a:lnTo>
                            <a:lnTo>
                              <a:pt x="196" y="10"/>
                            </a:lnTo>
                            <a:lnTo>
                              <a:pt x="202" y="10"/>
                            </a:lnTo>
                            <a:lnTo>
                              <a:pt x="208" y="10"/>
                            </a:lnTo>
                            <a:lnTo>
                              <a:pt x="211" y="9"/>
                            </a:lnTo>
                            <a:lnTo>
                              <a:pt x="214" y="9"/>
                            </a:lnTo>
                            <a:lnTo>
                              <a:pt x="219" y="9"/>
                            </a:lnTo>
                            <a:lnTo>
                              <a:pt x="222" y="9"/>
                            </a:lnTo>
                            <a:lnTo>
                              <a:pt x="226" y="9"/>
                            </a:lnTo>
                            <a:lnTo>
                              <a:pt x="229" y="9"/>
                            </a:lnTo>
                            <a:lnTo>
                              <a:pt x="234" y="9"/>
                            </a:lnTo>
                            <a:lnTo>
                              <a:pt x="237" y="9"/>
                            </a:lnTo>
                            <a:lnTo>
                              <a:pt x="242" y="9"/>
                            </a:lnTo>
                            <a:lnTo>
                              <a:pt x="245" y="9"/>
                            </a:lnTo>
                            <a:lnTo>
                              <a:pt x="249" y="9"/>
                            </a:lnTo>
                            <a:lnTo>
                              <a:pt x="252" y="9"/>
                            </a:lnTo>
                            <a:lnTo>
                              <a:pt x="255" y="7"/>
                            </a:lnTo>
                            <a:lnTo>
                              <a:pt x="260" y="7"/>
                            </a:lnTo>
                            <a:lnTo>
                              <a:pt x="263" y="7"/>
                            </a:lnTo>
                            <a:lnTo>
                              <a:pt x="268" y="7"/>
                            </a:lnTo>
                            <a:lnTo>
                              <a:pt x="272" y="6"/>
                            </a:lnTo>
                            <a:lnTo>
                              <a:pt x="275" y="4"/>
                            </a:lnTo>
                            <a:lnTo>
                              <a:pt x="2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Freeform 121"/>
                      <p:cNvSpPr/>
                      <p:nvPr/>
                    </p:nvSpPr>
                    <p:spPr>
                      <a:xfrm>
                        <a:off x="3047760" y="2662920"/>
                        <a:ext cx="15480" cy="1440"/>
                      </a:xfrm>
                      <a:custGeom>
                        <a:avLst/>
                        <a:gdLst>
                          <a:gd name="textAreaLeft" fmla="*/ 0 w 15480"/>
                          <a:gd name="textAreaRight" fmla="*/ 15840 w 15480"/>
                          <a:gd name="textAreaTop" fmla="*/ 0 h 1440"/>
                          <a:gd name="textAreaBottom" fmla="*/ 1800 h 1440"/>
                        </a:gdLst>
                        <a:ahLst/>
                        <a:rect l="textAreaLeft" t="textAreaTop" r="textAreaRight" b="textAreaBottom"/>
                        <a:pathLst>
                          <a:path w="173" h="15">
                            <a:moveTo>
                              <a:pt x="171" y="15"/>
                            </a:moveTo>
                            <a:lnTo>
                              <a:pt x="167" y="13"/>
                            </a:lnTo>
                            <a:lnTo>
                              <a:pt x="162" y="13"/>
                            </a:lnTo>
                            <a:lnTo>
                              <a:pt x="156" y="12"/>
                            </a:lnTo>
                            <a:lnTo>
                              <a:pt x="151" y="12"/>
                            </a:lnTo>
                            <a:lnTo>
                              <a:pt x="147" y="12"/>
                            </a:lnTo>
                            <a:lnTo>
                              <a:pt x="142" y="12"/>
                            </a:lnTo>
                            <a:lnTo>
                              <a:pt x="136" y="12"/>
                            </a:lnTo>
                            <a:lnTo>
                              <a:pt x="131" y="12"/>
                            </a:lnTo>
                            <a:lnTo>
                              <a:pt x="127" y="11"/>
                            </a:lnTo>
                            <a:lnTo>
                              <a:pt x="122" y="11"/>
                            </a:lnTo>
                            <a:lnTo>
                              <a:pt x="116" y="11"/>
                            </a:lnTo>
                            <a:lnTo>
                              <a:pt x="112" y="11"/>
                            </a:lnTo>
                            <a:lnTo>
                              <a:pt x="107" y="11"/>
                            </a:lnTo>
                            <a:lnTo>
                              <a:pt x="102" y="11"/>
                            </a:lnTo>
                            <a:lnTo>
                              <a:pt x="98" y="11"/>
                            </a:lnTo>
                            <a:lnTo>
                              <a:pt x="93" y="12"/>
                            </a:lnTo>
                            <a:lnTo>
                              <a:pt x="87" y="11"/>
                            </a:lnTo>
                            <a:lnTo>
                              <a:pt x="82" y="11"/>
                            </a:lnTo>
                            <a:lnTo>
                              <a:pt x="78" y="11"/>
                            </a:lnTo>
                            <a:lnTo>
                              <a:pt x="73" y="11"/>
                            </a:lnTo>
                            <a:lnTo>
                              <a:pt x="67" y="11"/>
                            </a:lnTo>
                            <a:lnTo>
                              <a:pt x="63" y="11"/>
                            </a:lnTo>
                            <a:lnTo>
                              <a:pt x="56" y="11"/>
                            </a:lnTo>
                            <a:lnTo>
                              <a:pt x="53" y="11"/>
                            </a:lnTo>
                            <a:lnTo>
                              <a:pt x="47" y="11"/>
                            </a:lnTo>
                            <a:lnTo>
                              <a:pt x="43" y="9"/>
                            </a:lnTo>
                            <a:lnTo>
                              <a:pt x="38" y="9"/>
                            </a:lnTo>
                            <a:lnTo>
                              <a:pt x="33" y="8"/>
                            </a:lnTo>
                            <a:lnTo>
                              <a:pt x="29" y="8"/>
                            </a:lnTo>
                            <a:lnTo>
                              <a:pt x="24" y="7"/>
                            </a:lnTo>
                            <a:lnTo>
                              <a:pt x="18" y="7"/>
                            </a:lnTo>
                            <a:lnTo>
                              <a:pt x="15" y="5"/>
                            </a:lnTo>
                            <a:lnTo>
                              <a:pt x="11" y="5"/>
                            </a:lnTo>
                            <a:lnTo>
                              <a:pt x="7" y="4"/>
                            </a:lnTo>
                            <a:lnTo>
                              <a:pt x="4" y="3"/>
                            </a:lnTo>
                            <a:lnTo>
                              <a:pt x="1" y="3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3" y="0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lnTo>
                              <a:pt x="20" y="0"/>
                            </a:lnTo>
                            <a:lnTo>
                              <a:pt x="24" y="0"/>
                            </a:lnTo>
                            <a:lnTo>
                              <a:pt x="27" y="0"/>
                            </a:lnTo>
                            <a:lnTo>
                              <a:pt x="32" y="0"/>
                            </a:lnTo>
                            <a:lnTo>
                              <a:pt x="37" y="0"/>
                            </a:lnTo>
                            <a:lnTo>
                              <a:pt x="41" y="0"/>
                            </a:lnTo>
                            <a:lnTo>
                              <a:pt x="44" y="0"/>
                            </a:lnTo>
                            <a:lnTo>
                              <a:pt x="49" y="0"/>
                            </a:lnTo>
                            <a:lnTo>
                              <a:pt x="53" y="0"/>
                            </a:lnTo>
                            <a:lnTo>
                              <a:pt x="58" y="0"/>
                            </a:lnTo>
                            <a:lnTo>
                              <a:pt x="63" y="0"/>
                            </a:lnTo>
                            <a:lnTo>
                              <a:pt x="67" y="0"/>
                            </a:lnTo>
                            <a:lnTo>
                              <a:pt x="72" y="0"/>
                            </a:lnTo>
                            <a:lnTo>
                              <a:pt x="76" y="1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89" y="1"/>
                            </a:lnTo>
                            <a:lnTo>
                              <a:pt x="95" y="3"/>
                            </a:lnTo>
                            <a:lnTo>
                              <a:pt x="98" y="3"/>
                            </a:lnTo>
                            <a:lnTo>
                              <a:pt x="102" y="3"/>
                            </a:lnTo>
                            <a:lnTo>
                              <a:pt x="107" y="3"/>
                            </a:lnTo>
                            <a:lnTo>
                              <a:pt x="112" y="3"/>
                            </a:lnTo>
                            <a:lnTo>
                              <a:pt x="115" y="3"/>
                            </a:lnTo>
                            <a:lnTo>
                              <a:pt x="119" y="4"/>
                            </a:lnTo>
                            <a:lnTo>
                              <a:pt x="124" y="4"/>
                            </a:lnTo>
                            <a:lnTo>
                              <a:pt x="128" y="4"/>
                            </a:lnTo>
                            <a:lnTo>
                              <a:pt x="131" y="4"/>
                            </a:lnTo>
                            <a:lnTo>
                              <a:pt x="136" y="5"/>
                            </a:lnTo>
                            <a:lnTo>
                              <a:pt x="139" y="5"/>
                            </a:lnTo>
                            <a:lnTo>
                              <a:pt x="144" y="5"/>
                            </a:lnTo>
                            <a:lnTo>
                              <a:pt x="150" y="7"/>
                            </a:lnTo>
                            <a:lnTo>
                              <a:pt x="156" y="8"/>
                            </a:lnTo>
                            <a:lnTo>
                              <a:pt x="160" y="9"/>
                            </a:lnTo>
                            <a:lnTo>
                              <a:pt x="167" y="12"/>
                            </a:lnTo>
                            <a:lnTo>
                              <a:pt x="170" y="13"/>
                            </a:lnTo>
                            <a:lnTo>
                              <a:pt x="171" y="15"/>
                            </a:lnTo>
                            <a:lnTo>
                              <a:pt x="173" y="15"/>
                            </a:lnTo>
                            <a:lnTo>
                              <a:pt x="171" y="1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Freeform 122"/>
                      <p:cNvSpPr/>
                      <p:nvPr/>
                    </p:nvSpPr>
                    <p:spPr>
                      <a:xfrm>
                        <a:off x="3003840" y="2667240"/>
                        <a:ext cx="2880" cy="36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360"/>
                          <a:gd name="textAreaBottom" fmla="*/ 720 h 360"/>
                        </a:gdLst>
                        <a:ahLst/>
                        <a:rect l="textAreaLeft" t="textAreaTop" r="textAreaRight" b="textAreaBottom"/>
                        <a:pathLst>
                          <a:path w="32" h="6">
                            <a:moveTo>
                              <a:pt x="5" y="0"/>
                            </a:moveTo>
                            <a:lnTo>
                              <a:pt x="0" y="6"/>
                            </a:lnTo>
                            <a:lnTo>
                              <a:pt x="3" y="6"/>
                            </a:lnTo>
                            <a:lnTo>
                              <a:pt x="6" y="4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14" y="6"/>
                            </a:lnTo>
                            <a:lnTo>
                              <a:pt x="20" y="6"/>
                            </a:lnTo>
                            <a:lnTo>
                              <a:pt x="21" y="6"/>
                            </a:lnTo>
                            <a:lnTo>
                              <a:pt x="24" y="6"/>
                            </a:lnTo>
                            <a:lnTo>
                              <a:pt x="28" y="4"/>
                            </a:lnTo>
                            <a:lnTo>
                              <a:pt x="32" y="3"/>
                            </a:lnTo>
                            <a:lnTo>
                              <a:pt x="28" y="0"/>
                            </a:lnTo>
                            <a:lnTo>
                              <a:pt x="24" y="0"/>
                            </a:lnTo>
                            <a:lnTo>
                              <a:pt x="21" y="0"/>
                            </a:lnTo>
                            <a:lnTo>
                              <a:pt x="18" y="0"/>
                            </a:lnTo>
                            <a:lnTo>
                              <a:pt x="14" y="0"/>
                            </a:lnTo>
                            <a:lnTo>
                              <a:pt x="11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3" name="Freeform 123"/>
                      <p:cNvSpPr/>
                      <p:nvPr/>
                    </p:nvSpPr>
                    <p:spPr>
                      <a:xfrm>
                        <a:off x="2938320" y="2679480"/>
                        <a:ext cx="169200" cy="15480"/>
                      </a:xfrm>
                      <a:custGeom>
                        <a:avLst/>
                        <a:gdLst>
                          <a:gd name="textAreaLeft" fmla="*/ 0 w 169200"/>
                          <a:gd name="textAreaRight" fmla="*/ 169560 w 169200"/>
                          <a:gd name="textAreaTop" fmla="*/ 0 h 15480"/>
                          <a:gd name="textAreaBottom" fmla="*/ 15840 h 15480"/>
                        </a:gdLst>
                        <a:ahLst/>
                        <a:rect l="textAreaLeft" t="textAreaTop" r="textAreaRight" b="textAreaBottom"/>
                        <a:pathLst>
                          <a:path w="1871" h="154">
                            <a:moveTo>
                              <a:pt x="490" y="18"/>
                            </a:moveTo>
                            <a:lnTo>
                              <a:pt x="483" y="19"/>
                            </a:lnTo>
                            <a:lnTo>
                              <a:pt x="477" y="20"/>
                            </a:lnTo>
                            <a:lnTo>
                              <a:pt x="473" y="22"/>
                            </a:lnTo>
                            <a:lnTo>
                              <a:pt x="467" y="23"/>
                            </a:lnTo>
                            <a:lnTo>
                              <a:pt x="461" y="25"/>
                            </a:lnTo>
                            <a:lnTo>
                              <a:pt x="456" y="26"/>
                            </a:lnTo>
                            <a:lnTo>
                              <a:pt x="450" y="26"/>
                            </a:lnTo>
                            <a:lnTo>
                              <a:pt x="444" y="29"/>
                            </a:lnTo>
                            <a:lnTo>
                              <a:pt x="438" y="29"/>
                            </a:lnTo>
                            <a:lnTo>
                              <a:pt x="431" y="30"/>
                            </a:lnTo>
                            <a:lnTo>
                              <a:pt x="427" y="30"/>
                            </a:lnTo>
                            <a:lnTo>
                              <a:pt x="421" y="31"/>
                            </a:lnTo>
                            <a:lnTo>
                              <a:pt x="415" y="31"/>
                            </a:lnTo>
                            <a:lnTo>
                              <a:pt x="409" y="33"/>
                            </a:lnTo>
                            <a:lnTo>
                              <a:pt x="404" y="34"/>
                            </a:lnTo>
                            <a:lnTo>
                              <a:pt x="398" y="34"/>
                            </a:lnTo>
                            <a:lnTo>
                              <a:pt x="392" y="34"/>
                            </a:lnTo>
                            <a:lnTo>
                              <a:pt x="386" y="35"/>
                            </a:lnTo>
                            <a:lnTo>
                              <a:pt x="379" y="35"/>
                            </a:lnTo>
                            <a:lnTo>
                              <a:pt x="373" y="37"/>
                            </a:lnTo>
                            <a:lnTo>
                              <a:pt x="367" y="37"/>
                            </a:lnTo>
                            <a:lnTo>
                              <a:pt x="363" y="38"/>
                            </a:lnTo>
                            <a:lnTo>
                              <a:pt x="357" y="38"/>
                            </a:lnTo>
                            <a:lnTo>
                              <a:pt x="350" y="40"/>
                            </a:lnTo>
                            <a:lnTo>
                              <a:pt x="344" y="40"/>
                            </a:lnTo>
                            <a:lnTo>
                              <a:pt x="338" y="40"/>
                            </a:lnTo>
                            <a:lnTo>
                              <a:pt x="332" y="41"/>
                            </a:lnTo>
                            <a:lnTo>
                              <a:pt x="327" y="41"/>
                            </a:lnTo>
                            <a:lnTo>
                              <a:pt x="321" y="41"/>
                            </a:lnTo>
                            <a:lnTo>
                              <a:pt x="315" y="42"/>
                            </a:lnTo>
                            <a:lnTo>
                              <a:pt x="309" y="42"/>
                            </a:lnTo>
                            <a:lnTo>
                              <a:pt x="303" y="44"/>
                            </a:lnTo>
                            <a:lnTo>
                              <a:pt x="297" y="44"/>
                            </a:lnTo>
                            <a:lnTo>
                              <a:pt x="291" y="44"/>
                            </a:lnTo>
                            <a:lnTo>
                              <a:pt x="285" y="44"/>
                            </a:lnTo>
                            <a:lnTo>
                              <a:pt x="279" y="45"/>
                            </a:lnTo>
                            <a:lnTo>
                              <a:pt x="272" y="45"/>
                            </a:lnTo>
                            <a:lnTo>
                              <a:pt x="266" y="45"/>
                            </a:lnTo>
                            <a:lnTo>
                              <a:pt x="260" y="46"/>
                            </a:lnTo>
                            <a:lnTo>
                              <a:pt x="254" y="46"/>
                            </a:lnTo>
                            <a:lnTo>
                              <a:pt x="248" y="46"/>
                            </a:lnTo>
                            <a:lnTo>
                              <a:pt x="242" y="48"/>
                            </a:lnTo>
                            <a:lnTo>
                              <a:pt x="237" y="48"/>
                            </a:lnTo>
                            <a:lnTo>
                              <a:pt x="231" y="49"/>
                            </a:lnTo>
                            <a:lnTo>
                              <a:pt x="225" y="51"/>
                            </a:lnTo>
                            <a:lnTo>
                              <a:pt x="219" y="51"/>
                            </a:lnTo>
                            <a:lnTo>
                              <a:pt x="213" y="52"/>
                            </a:lnTo>
                            <a:lnTo>
                              <a:pt x="207" y="53"/>
                            </a:lnTo>
                            <a:lnTo>
                              <a:pt x="201" y="53"/>
                            </a:lnTo>
                            <a:lnTo>
                              <a:pt x="194" y="55"/>
                            </a:lnTo>
                            <a:lnTo>
                              <a:pt x="188" y="55"/>
                            </a:lnTo>
                            <a:lnTo>
                              <a:pt x="184" y="56"/>
                            </a:lnTo>
                            <a:lnTo>
                              <a:pt x="178" y="57"/>
                            </a:lnTo>
                            <a:lnTo>
                              <a:pt x="171" y="59"/>
                            </a:lnTo>
                            <a:lnTo>
                              <a:pt x="165" y="59"/>
                            </a:lnTo>
                            <a:lnTo>
                              <a:pt x="161" y="62"/>
                            </a:lnTo>
                            <a:lnTo>
                              <a:pt x="155" y="63"/>
                            </a:lnTo>
                            <a:lnTo>
                              <a:pt x="148" y="63"/>
                            </a:lnTo>
                            <a:lnTo>
                              <a:pt x="144" y="66"/>
                            </a:lnTo>
                            <a:lnTo>
                              <a:pt x="138" y="67"/>
                            </a:lnTo>
                            <a:lnTo>
                              <a:pt x="132" y="68"/>
                            </a:lnTo>
                            <a:lnTo>
                              <a:pt x="127" y="70"/>
                            </a:lnTo>
                            <a:lnTo>
                              <a:pt x="121" y="73"/>
                            </a:lnTo>
                            <a:lnTo>
                              <a:pt x="116" y="75"/>
                            </a:lnTo>
                            <a:lnTo>
                              <a:pt x="121" y="77"/>
                            </a:lnTo>
                            <a:lnTo>
                              <a:pt x="127" y="75"/>
                            </a:lnTo>
                            <a:lnTo>
                              <a:pt x="133" y="73"/>
                            </a:lnTo>
                            <a:lnTo>
                              <a:pt x="138" y="71"/>
                            </a:lnTo>
                            <a:lnTo>
                              <a:pt x="141" y="71"/>
                            </a:lnTo>
                            <a:lnTo>
                              <a:pt x="144" y="70"/>
                            </a:lnTo>
                            <a:lnTo>
                              <a:pt x="148" y="70"/>
                            </a:lnTo>
                            <a:lnTo>
                              <a:pt x="152" y="68"/>
                            </a:lnTo>
                            <a:lnTo>
                              <a:pt x="155" y="68"/>
                            </a:lnTo>
                            <a:lnTo>
                              <a:pt x="158" y="67"/>
                            </a:lnTo>
                            <a:lnTo>
                              <a:pt x="162" y="67"/>
                            </a:lnTo>
                            <a:lnTo>
                              <a:pt x="165" y="66"/>
                            </a:lnTo>
                            <a:lnTo>
                              <a:pt x="168" y="66"/>
                            </a:lnTo>
                            <a:lnTo>
                              <a:pt x="173" y="66"/>
                            </a:lnTo>
                            <a:lnTo>
                              <a:pt x="176" y="66"/>
                            </a:lnTo>
                            <a:lnTo>
                              <a:pt x="179" y="64"/>
                            </a:lnTo>
                            <a:lnTo>
                              <a:pt x="184" y="64"/>
                            </a:lnTo>
                            <a:lnTo>
                              <a:pt x="187" y="63"/>
                            </a:lnTo>
                            <a:lnTo>
                              <a:pt x="190" y="63"/>
                            </a:lnTo>
                            <a:lnTo>
                              <a:pt x="193" y="63"/>
                            </a:lnTo>
                            <a:lnTo>
                              <a:pt x="197" y="63"/>
                            </a:lnTo>
                            <a:lnTo>
                              <a:pt x="201" y="62"/>
                            </a:lnTo>
                            <a:lnTo>
                              <a:pt x="205" y="62"/>
                            </a:lnTo>
                            <a:lnTo>
                              <a:pt x="208" y="62"/>
                            </a:lnTo>
                            <a:lnTo>
                              <a:pt x="211" y="60"/>
                            </a:lnTo>
                            <a:lnTo>
                              <a:pt x="214" y="60"/>
                            </a:lnTo>
                            <a:lnTo>
                              <a:pt x="219" y="60"/>
                            </a:lnTo>
                            <a:lnTo>
                              <a:pt x="222" y="59"/>
                            </a:lnTo>
                            <a:lnTo>
                              <a:pt x="225" y="59"/>
                            </a:lnTo>
                            <a:lnTo>
                              <a:pt x="230" y="59"/>
                            </a:lnTo>
                            <a:lnTo>
                              <a:pt x="233" y="59"/>
                            </a:lnTo>
                            <a:lnTo>
                              <a:pt x="236" y="57"/>
                            </a:lnTo>
                            <a:lnTo>
                              <a:pt x="240" y="57"/>
                            </a:lnTo>
                            <a:lnTo>
                              <a:pt x="243" y="56"/>
                            </a:lnTo>
                            <a:lnTo>
                              <a:pt x="246" y="56"/>
                            </a:lnTo>
                            <a:lnTo>
                              <a:pt x="249" y="56"/>
                            </a:lnTo>
                            <a:lnTo>
                              <a:pt x="254" y="56"/>
                            </a:lnTo>
                            <a:lnTo>
                              <a:pt x="257" y="56"/>
                            </a:lnTo>
                            <a:lnTo>
                              <a:pt x="260" y="56"/>
                            </a:lnTo>
                            <a:lnTo>
                              <a:pt x="265" y="55"/>
                            </a:lnTo>
                            <a:lnTo>
                              <a:pt x="268" y="55"/>
                            </a:lnTo>
                            <a:lnTo>
                              <a:pt x="271" y="55"/>
                            </a:lnTo>
                            <a:lnTo>
                              <a:pt x="275" y="55"/>
                            </a:lnTo>
                            <a:lnTo>
                              <a:pt x="279" y="53"/>
                            </a:lnTo>
                            <a:lnTo>
                              <a:pt x="282" y="53"/>
                            </a:lnTo>
                            <a:lnTo>
                              <a:pt x="286" y="53"/>
                            </a:lnTo>
                            <a:lnTo>
                              <a:pt x="289" y="53"/>
                            </a:lnTo>
                            <a:lnTo>
                              <a:pt x="286" y="53"/>
                            </a:lnTo>
                            <a:lnTo>
                              <a:pt x="282" y="55"/>
                            </a:lnTo>
                            <a:lnTo>
                              <a:pt x="277" y="55"/>
                            </a:lnTo>
                            <a:lnTo>
                              <a:pt x="274" y="56"/>
                            </a:lnTo>
                            <a:lnTo>
                              <a:pt x="271" y="56"/>
                            </a:lnTo>
                            <a:lnTo>
                              <a:pt x="268" y="56"/>
                            </a:lnTo>
                            <a:lnTo>
                              <a:pt x="263" y="56"/>
                            </a:lnTo>
                            <a:lnTo>
                              <a:pt x="260" y="57"/>
                            </a:lnTo>
                            <a:lnTo>
                              <a:pt x="256" y="59"/>
                            </a:lnTo>
                            <a:lnTo>
                              <a:pt x="251" y="59"/>
                            </a:lnTo>
                            <a:lnTo>
                              <a:pt x="246" y="60"/>
                            </a:lnTo>
                            <a:lnTo>
                              <a:pt x="243" y="62"/>
                            </a:lnTo>
                            <a:lnTo>
                              <a:pt x="239" y="62"/>
                            </a:lnTo>
                            <a:lnTo>
                              <a:pt x="234" y="63"/>
                            </a:lnTo>
                            <a:lnTo>
                              <a:pt x="230" y="63"/>
                            </a:lnTo>
                            <a:lnTo>
                              <a:pt x="225" y="64"/>
                            </a:lnTo>
                            <a:lnTo>
                              <a:pt x="220" y="66"/>
                            </a:lnTo>
                            <a:lnTo>
                              <a:pt x="217" y="66"/>
                            </a:lnTo>
                            <a:lnTo>
                              <a:pt x="213" y="67"/>
                            </a:lnTo>
                            <a:lnTo>
                              <a:pt x="210" y="68"/>
                            </a:lnTo>
                            <a:lnTo>
                              <a:pt x="205" y="68"/>
                            </a:lnTo>
                            <a:lnTo>
                              <a:pt x="204" y="70"/>
                            </a:lnTo>
                            <a:lnTo>
                              <a:pt x="197" y="71"/>
                            </a:lnTo>
                            <a:lnTo>
                              <a:pt x="193" y="74"/>
                            </a:lnTo>
                            <a:lnTo>
                              <a:pt x="190" y="77"/>
                            </a:lnTo>
                            <a:lnTo>
                              <a:pt x="188" y="79"/>
                            </a:lnTo>
                            <a:lnTo>
                              <a:pt x="185" y="79"/>
                            </a:lnTo>
                            <a:lnTo>
                              <a:pt x="181" y="79"/>
                            </a:lnTo>
                            <a:lnTo>
                              <a:pt x="176" y="79"/>
                            </a:lnTo>
                            <a:lnTo>
                              <a:pt x="171" y="81"/>
                            </a:lnTo>
                            <a:lnTo>
                              <a:pt x="164" y="81"/>
                            </a:lnTo>
                            <a:lnTo>
                              <a:pt x="159" y="82"/>
                            </a:lnTo>
                            <a:lnTo>
                              <a:pt x="153" y="84"/>
                            </a:lnTo>
                            <a:lnTo>
                              <a:pt x="147" y="85"/>
                            </a:lnTo>
                            <a:lnTo>
                              <a:pt x="141" y="86"/>
                            </a:lnTo>
                            <a:lnTo>
                              <a:pt x="136" y="88"/>
                            </a:lnTo>
                            <a:lnTo>
                              <a:pt x="130" y="88"/>
                            </a:lnTo>
                            <a:lnTo>
                              <a:pt x="126" y="89"/>
                            </a:lnTo>
                            <a:lnTo>
                              <a:pt x="121" y="90"/>
                            </a:lnTo>
                            <a:lnTo>
                              <a:pt x="119" y="90"/>
                            </a:lnTo>
                            <a:lnTo>
                              <a:pt x="116" y="90"/>
                            </a:lnTo>
                            <a:lnTo>
                              <a:pt x="55" y="105"/>
                            </a:lnTo>
                            <a:lnTo>
                              <a:pt x="57" y="105"/>
                            </a:lnTo>
                            <a:lnTo>
                              <a:pt x="58" y="107"/>
                            </a:lnTo>
                            <a:lnTo>
                              <a:pt x="63" y="107"/>
                            </a:lnTo>
                            <a:lnTo>
                              <a:pt x="67" y="107"/>
                            </a:lnTo>
                            <a:lnTo>
                              <a:pt x="70" y="105"/>
                            </a:lnTo>
                            <a:lnTo>
                              <a:pt x="74" y="105"/>
                            </a:lnTo>
                            <a:lnTo>
                              <a:pt x="77" y="105"/>
                            </a:lnTo>
                            <a:lnTo>
                              <a:pt x="80" y="105"/>
                            </a:lnTo>
                            <a:lnTo>
                              <a:pt x="84" y="104"/>
                            </a:lnTo>
                            <a:lnTo>
                              <a:pt x="87" y="104"/>
                            </a:lnTo>
                            <a:lnTo>
                              <a:pt x="92" y="103"/>
                            </a:lnTo>
                            <a:lnTo>
                              <a:pt x="96" y="103"/>
                            </a:lnTo>
                            <a:lnTo>
                              <a:pt x="100" y="103"/>
                            </a:lnTo>
                            <a:lnTo>
                              <a:pt x="106" y="101"/>
                            </a:lnTo>
                            <a:lnTo>
                              <a:pt x="110" y="101"/>
                            </a:lnTo>
                            <a:lnTo>
                              <a:pt x="115" y="100"/>
                            </a:lnTo>
                            <a:lnTo>
                              <a:pt x="119" y="100"/>
                            </a:lnTo>
                            <a:lnTo>
                              <a:pt x="124" y="99"/>
                            </a:lnTo>
                            <a:lnTo>
                              <a:pt x="130" y="99"/>
                            </a:lnTo>
                            <a:lnTo>
                              <a:pt x="136" y="97"/>
                            </a:lnTo>
                            <a:lnTo>
                              <a:pt x="141" y="96"/>
                            </a:lnTo>
                            <a:lnTo>
                              <a:pt x="147" y="96"/>
                            </a:lnTo>
                            <a:lnTo>
                              <a:pt x="152" y="95"/>
                            </a:lnTo>
                            <a:lnTo>
                              <a:pt x="158" y="93"/>
                            </a:lnTo>
                            <a:lnTo>
                              <a:pt x="164" y="93"/>
                            </a:lnTo>
                            <a:lnTo>
                              <a:pt x="170" y="92"/>
                            </a:lnTo>
                            <a:lnTo>
                              <a:pt x="176" y="90"/>
                            </a:lnTo>
                            <a:lnTo>
                              <a:pt x="182" y="90"/>
                            </a:lnTo>
                            <a:lnTo>
                              <a:pt x="188" y="89"/>
                            </a:lnTo>
                            <a:lnTo>
                              <a:pt x="193" y="88"/>
                            </a:lnTo>
                            <a:lnTo>
                              <a:pt x="199" y="86"/>
                            </a:lnTo>
                            <a:lnTo>
                              <a:pt x="205" y="86"/>
                            </a:lnTo>
                            <a:lnTo>
                              <a:pt x="211" y="85"/>
                            </a:lnTo>
                            <a:lnTo>
                              <a:pt x="217" y="84"/>
                            </a:lnTo>
                            <a:lnTo>
                              <a:pt x="222" y="84"/>
                            </a:lnTo>
                            <a:lnTo>
                              <a:pt x="230" y="82"/>
                            </a:lnTo>
                            <a:lnTo>
                              <a:pt x="234" y="81"/>
                            </a:lnTo>
                            <a:lnTo>
                              <a:pt x="240" y="81"/>
                            </a:lnTo>
                            <a:lnTo>
                              <a:pt x="246" y="79"/>
                            </a:lnTo>
                            <a:lnTo>
                              <a:pt x="251" y="79"/>
                            </a:lnTo>
                            <a:lnTo>
                              <a:pt x="257" y="78"/>
                            </a:lnTo>
                            <a:lnTo>
                              <a:pt x="262" y="78"/>
                            </a:lnTo>
                            <a:lnTo>
                              <a:pt x="268" y="77"/>
                            </a:lnTo>
                            <a:lnTo>
                              <a:pt x="274" y="77"/>
                            </a:lnTo>
                            <a:lnTo>
                              <a:pt x="277" y="75"/>
                            </a:lnTo>
                            <a:lnTo>
                              <a:pt x="283" y="75"/>
                            </a:lnTo>
                            <a:lnTo>
                              <a:pt x="288" y="74"/>
                            </a:lnTo>
                            <a:lnTo>
                              <a:pt x="292" y="74"/>
                            </a:lnTo>
                            <a:lnTo>
                              <a:pt x="297" y="73"/>
                            </a:lnTo>
                            <a:lnTo>
                              <a:pt x="301" y="73"/>
                            </a:lnTo>
                            <a:lnTo>
                              <a:pt x="305" y="73"/>
                            </a:lnTo>
                            <a:lnTo>
                              <a:pt x="309" y="73"/>
                            </a:lnTo>
                            <a:lnTo>
                              <a:pt x="312" y="71"/>
                            </a:lnTo>
                            <a:lnTo>
                              <a:pt x="315" y="71"/>
                            </a:lnTo>
                            <a:lnTo>
                              <a:pt x="318" y="71"/>
                            </a:lnTo>
                            <a:lnTo>
                              <a:pt x="321" y="71"/>
                            </a:lnTo>
                            <a:lnTo>
                              <a:pt x="327" y="71"/>
                            </a:lnTo>
                            <a:lnTo>
                              <a:pt x="332" y="73"/>
                            </a:lnTo>
                            <a:lnTo>
                              <a:pt x="300" y="81"/>
                            </a:lnTo>
                            <a:lnTo>
                              <a:pt x="300" y="79"/>
                            </a:lnTo>
                            <a:lnTo>
                              <a:pt x="294" y="79"/>
                            </a:lnTo>
                            <a:lnTo>
                              <a:pt x="288" y="81"/>
                            </a:lnTo>
                            <a:lnTo>
                              <a:pt x="282" y="82"/>
                            </a:lnTo>
                            <a:lnTo>
                              <a:pt x="277" y="84"/>
                            </a:lnTo>
                            <a:lnTo>
                              <a:pt x="271" y="84"/>
                            </a:lnTo>
                            <a:lnTo>
                              <a:pt x="265" y="85"/>
                            </a:lnTo>
                            <a:lnTo>
                              <a:pt x="259" y="86"/>
                            </a:lnTo>
                            <a:lnTo>
                              <a:pt x="253" y="88"/>
                            </a:lnTo>
                            <a:lnTo>
                              <a:pt x="246" y="88"/>
                            </a:lnTo>
                            <a:lnTo>
                              <a:pt x="240" y="89"/>
                            </a:lnTo>
                            <a:lnTo>
                              <a:pt x="234" y="90"/>
                            </a:lnTo>
                            <a:lnTo>
                              <a:pt x="230" y="90"/>
                            </a:lnTo>
                            <a:lnTo>
                              <a:pt x="223" y="92"/>
                            </a:lnTo>
                            <a:lnTo>
                              <a:pt x="217" y="93"/>
                            </a:lnTo>
                            <a:lnTo>
                              <a:pt x="213" y="93"/>
                            </a:lnTo>
                            <a:lnTo>
                              <a:pt x="207" y="95"/>
                            </a:lnTo>
                            <a:lnTo>
                              <a:pt x="204" y="95"/>
                            </a:lnTo>
                            <a:lnTo>
                              <a:pt x="201" y="96"/>
                            </a:lnTo>
                            <a:lnTo>
                              <a:pt x="197" y="96"/>
                            </a:lnTo>
                            <a:lnTo>
                              <a:pt x="193" y="97"/>
                            </a:lnTo>
                            <a:lnTo>
                              <a:pt x="188" y="97"/>
                            </a:lnTo>
                            <a:lnTo>
                              <a:pt x="184" y="99"/>
                            </a:lnTo>
                            <a:lnTo>
                              <a:pt x="179" y="100"/>
                            </a:lnTo>
                            <a:lnTo>
                              <a:pt x="174" y="103"/>
                            </a:lnTo>
                            <a:lnTo>
                              <a:pt x="168" y="103"/>
                            </a:lnTo>
                            <a:lnTo>
                              <a:pt x="162" y="105"/>
                            </a:lnTo>
                            <a:lnTo>
                              <a:pt x="156" y="107"/>
                            </a:lnTo>
                            <a:lnTo>
                              <a:pt x="150" y="108"/>
                            </a:lnTo>
                            <a:lnTo>
                              <a:pt x="144" y="110"/>
                            </a:lnTo>
                            <a:lnTo>
                              <a:pt x="138" y="112"/>
                            </a:lnTo>
                            <a:lnTo>
                              <a:pt x="130" y="114"/>
                            </a:lnTo>
                            <a:lnTo>
                              <a:pt x="126" y="116"/>
                            </a:lnTo>
                            <a:lnTo>
                              <a:pt x="118" y="118"/>
                            </a:lnTo>
                            <a:lnTo>
                              <a:pt x="112" y="119"/>
                            </a:lnTo>
                            <a:lnTo>
                              <a:pt x="106" y="121"/>
                            </a:lnTo>
                            <a:lnTo>
                              <a:pt x="100" y="122"/>
                            </a:lnTo>
                            <a:lnTo>
                              <a:pt x="93" y="123"/>
                            </a:lnTo>
                            <a:lnTo>
                              <a:pt x="87" y="125"/>
                            </a:lnTo>
                            <a:lnTo>
                              <a:pt x="81" y="126"/>
                            </a:lnTo>
                            <a:lnTo>
                              <a:pt x="77" y="127"/>
                            </a:lnTo>
                            <a:lnTo>
                              <a:pt x="72" y="127"/>
                            </a:lnTo>
                            <a:lnTo>
                              <a:pt x="67" y="129"/>
                            </a:lnTo>
                            <a:lnTo>
                              <a:pt x="63" y="129"/>
                            </a:lnTo>
                            <a:lnTo>
                              <a:pt x="60" y="130"/>
                            </a:lnTo>
                            <a:lnTo>
                              <a:pt x="54" y="130"/>
                            </a:lnTo>
                            <a:lnTo>
                              <a:pt x="51" y="129"/>
                            </a:lnTo>
                            <a:lnTo>
                              <a:pt x="48" y="129"/>
                            </a:lnTo>
                            <a:lnTo>
                              <a:pt x="46" y="130"/>
                            </a:lnTo>
                            <a:lnTo>
                              <a:pt x="43" y="130"/>
                            </a:lnTo>
                            <a:lnTo>
                              <a:pt x="40" y="133"/>
                            </a:lnTo>
                            <a:lnTo>
                              <a:pt x="35" y="134"/>
                            </a:lnTo>
                            <a:lnTo>
                              <a:pt x="31" y="134"/>
                            </a:lnTo>
                            <a:lnTo>
                              <a:pt x="26" y="137"/>
                            </a:lnTo>
                            <a:lnTo>
                              <a:pt x="23" y="138"/>
                            </a:lnTo>
                            <a:lnTo>
                              <a:pt x="17" y="140"/>
                            </a:lnTo>
                            <a:lnTo>
                              <a:pt x="14" y="141"/>
                            </a:lnTo>
                            <a:lnTo>
                              <a:pt x="9" y="143"/>
                            </a:lnTo>
                            <a:lnTo>
                              <a:pt x="6" y="144"/>
                            </a:lnTo>
                            <a:lnTo>
                              <a:pt x="0" y="147"/>
                            </a:lnTo>
                            <a:lnTo>
                              <a:pt x="0" y="149"/>
                            </a:lnTo>
                            <a:lnTo>
                              <a:pt x="3" y="149"/>
                            </a:lnTo>
                            <a:lnTo>
                              <a:pt x="6" y="149"/>
                            </a:lnTo>
                            <a:lnTo>
                              <a:pt x="11" y="149"/>
                            </a:lnTo>
                            <a:lnTo>
                              <a:pt x="14" y="149"/>
                            </a:lnTo>
                            <a:lnTo>
                              <a:pt x="18" y="149"/>
                            </a:lnTo>
                            <a:lnTo>
                              <a:pt x="22" y="149"/>
                            </a:lnTo>
                            <a:lnTo>
                              <a:pt x="26" y="149"/>
                            </a:lnTo>
                            <a:lnTo>
                              <a:pt x="29" y="149"/>
                            </a:lnTo>
                            <a:lnTo>
                              <a:pt x="126" y="132"/>
                            </a:lnTo>
                            <a:lnTo>
                              <a:pt x="234" y="125"/>
                            </a:lnTo>
                            <a:lnTo>
                              <a:pt x="188" y="138"/>
                            </a:lnTo>
                            <a:lnTo>
                              <a:pt x="191" y="143"/>
                            </a:lnTo>
                            <a:lnTo>
                              <a:pt x="199" y="140"/>
                            </a:lnTo>
                            <a:lnTo>
                              <a:pt x="207" y="138"/>
                            </a:lnTo>
                            <a:lnTo>
                              <a:pt x="214" y="136"/>
                            </a:lnTo>
                            <a:lnTo>
                              <a:pt x="222" y="134"/>
                            </a:lnTo>
                            <a:lnTo>
                              <a:pt x="230" y="133"/>
                            </a:lnTo>
                            <a:lnTo>
                              <a:pt x="237" y="130"/>
                            </a:lnTo>
                            <a:lnTo>
                              <a:pt x="243" y="129"/>
                            </a:lnTo>
                            <a:lnTo>
                              <a:pt x="253" y="127"/>
                            </a:lnTo>
                            <a:lnTo>
                              <a:pt x="260" y="126"/>
                            </a:lnTo>
                            <a:lnTo>
                              <a:pt x="268" y="125"/>
                            </a:lnTo>
                            <a:lnTo>
                              <a:pt x="274" y="122"/>
                            </a:lnTo>
                            <a:lnTo>
                              <a:pt x="283" y="121"/>
                            </a:lnTo>
                            <a:lnTo>
                              <a:pt x="291" y="119"/>
                            </a:lnTo>
                            <a:lnTo>
                              <a:pt x="298" y="118"/>
                            </a:lnTo>
                            <a:lnTo>
                              <a:pt x="306" y="116"/>
                            </a:lnTo>
                            <a:lnTo>
                              <a:pt x="314" y="115"/>
                            </a:lnTo>
                            <a:lnTo>
                              <a:pt x="321" y="114"/>
                            </a:lnTo>
                            <a:lnTo>
                              <a:pt x="329" y="112"/>
                            </a:lnTo>
                            <a:lnTo>
                              <a:pt x="337" y="112"/>
                            </a:lnTo>
                            <a:lnTo>
                              <a:pt x="344" y="111"/>
                            </a:lnTo>
                            <a:lnTo>
                              <a:pt x="352" y="110"/>
                            </a:lnTo>
                            <a:lnTo>
                              <a:pt x="360" y="108"/>
                            </a:lnTo>
                            <a:lnTo>
                              <a:pt x="367" y="107"/>
                            </a:lnTo>
                            <a:lnTo>
                              <a:pt x="373" y="107"/>
                            </a:lnTo>
                            <a:lnTo>
                              <a:pt x="381" y="105"/>
                            </a:lnTo>
                            <a:lnTo>
                              <a:pt x="387" y="105"/>
                            </a:lnTo>
                            <a:lnTo>
                              <a:pt x="395" y="104"/>
                            </a:lnTo>
                            <a:lnTo>
                              <a:pt x="402" y="103"/>
                            </a:lnTo>
                            <a:lnTo>
                              <a:pt x="409" y="103"/>
                            </a:lnTo>
                            <a:lnTo>
                              <a:pt x="416" y="103"/>
                            </a:lnTo>
                            <a:lnTo>
                              <a:pt x="422" y="101"/>
                            </a:lnTo>
                            <a:lnTo>
                              <a:pt x="430" y="101"/>
                            </a:lnTo>
                            <a:lnTo>
                              <a:pt x="436" y="100"/>
                            </a:lnTo>
                            <a:lnTo>
                              <a:pt x="442" y="100"/>
                            </a:lnTo>
                            <a:lnTo>
                              <a:pt x="448" y="99"/>
                            </a:lnTo>
                            <a:lnTo>
                              <a:pt x="456" y="99"/>
                            </a:lnTo>
                            <a:lnTo>
                              <a:pt x="462" y="97"/>
                            </a:lnTo>
                            <a:lnTo>
                              <a:pt x="468" y="97"/>
                            </a:lnTo>
                            <a:lnTo>
                              <a:pt x="474" y="96"/>
                            </a:lnTo>
                            <a:lnTo>
                              <a:pt x="480" y="96"/>
                            </a:lnTo>
                            <a:lnTo>
                              <a:pt x="487" y="96"/>
                            </a:lnTo>
                            <a:lnTo>
                              <a:pt x="491" y="96"/>
                            </a:lnTo>
                            <a:lnTo>
                              <a:pt x="497" y="95"/>
                            </a:lnTo>
                            <a:lnTo>
                              <a:pt x="503" y="95"/>
                            </a:lnTo>
                            <a:lnTo>
                              <a:pt x="508" y="95"/>
                            </a:lnTo>
                            <a:lnTo>
                              <a:pt x="513" y="95"/>
                            </a:lnTo>
                            <a:lnTo>
                              <a:pt x="517" y="95"/>
                            </a:lnTo>
                            <a:lnTo>
                              <a:pt x="523" y="95"/>
                            </a:lnTo>
                            <a:lnTo>
                              <a:pt x="528" y="95"/>
                            </a:lnTo>
                            <a:lnTo>
                              <a:pt x="532" y="95"/>
                            </a:lnTo>
                            <a:lnTo>
                              <a:pt x="537" y="95"/>
                            </a:lnTo>
                            <a:lnTo>
                              <a:pt x="542" y="95"/>
                            </a:lnTo>
                            <a:lnTo>
                              <a:pt x="545" y="95"/>
                            </a:lnTo>
                            <a:lnTo>
                              <a:pt x="548" y="95"/>
                            </a:lnTo>
                            <a:lnTo>
                              <a:pt x="552" y="95"/>
                            </a:lnTo>
                            <a:lnTo>
                              <a:pt x="555" y="95"/>
                            </a:lnTo>
                            <a:lnTo>
                              <a:pt x="561" y="95"/>
                            </a:lnTo>
                            <a:lnTo>
                              <a:pt x="569" y="96"/>
                            </a:lnTo>
                            <a:lnTo>
                              <a:pt x="574" y="96"/>
                            </a:lnTo>
                            <a:lnTo>
                              <a:pt x="578" y="97"/>
                            </a:lnTo>
                            <a:lnTo>
                              <a:pt x="572" y="97"/>
                            </a:lnTo>
                            <a:lnTo>
                              <a:pt x="566" y="99"/>
                            </a:lnTo>
                            <a:lnTo>
                              <a:pt x="560" y="99"/>
                            </a:lnTo>
                            <a:lnTo>
                              <a:pt x="555" y="100"/>
                            </a:lnTo>
                            <a:lnTo>
                              <a:pt x="549" y="100"/>
                            </a:lnTo>
                            <a:lnTo>
                              <a:pt x="543" y="101"/>
                            </a:lnTo>
                            <a:lnTo>
                              <a:pt x="539" y="101"/>
                            </a:lnTo>
                            <a:lnTo>
                              <a:pt x="534" y="103"/>
                            </a:lnTo>
                            <a:lnTo>
                              <a:pt x="528" y="103"/>
                            </a:lnTo>
                            <a:lnTo>
                              <a:pt x="523" y="104"/>
                            </a:lnTo>
                            <a:lnTo>
                              <a:pt x="517" y="104"/>
                            </a:lnTo>
                            <a:lnTo>
                              <a:pt x="514" y="105"/>
                            </a:lnTo>
                            <a:lnTo>
                              <a:pt x="508" y="105"/>
                            </a:lnTo>
                            <a:lnTo>
                              <a:pt x="505" y="107"/>
                            </a:lnTo>
                            <a:lnTo>
                              <a:pt x="499" y="107"/>
                            </a:lnTo>
                            <a:lnTo>
                              <a:pt x="496" y="108"/>
                            </a:lnTo>
                            <a:lnTo>
                              <a:pt x="491" y="108"/>
                            </a:lnTo>
                            <a:lnTo>
                              <a:pt x="487" y="108"/>
                            </a:lnTo>
                            <a:lnTo>
                              <a:pt x="480" y="110"/>
                            </a:lnTo>
                            <a:lnTo>
                              <a:pt x="477" y="110"/>
                            </a:lnTo>
                            <a:lnTo>
                              <a:pt x="473" y="111"/>
                            </a:lnTo>
                            <a:lnTo>
                              <a:pt x="468" y="111"/>
                            </a:lnTo>
                            <a:lnTo>
                              <a:pt x="464" y="112"/>
                            </a:lnTo>
                            <a:lnTo>
                              <a:pt x="459" y="112"/>
                            </a:lnTo>
                            <a:lnTo>
                              <a:pt x="456" y="112"/>
                            </a:lnTo>
                            <a:lnTo>
                              <a:pt x="451" y="114"/>
                            </a:lnTo>
                            <a:lnTo>
                              <a:pt x="447" y="114"/>
                            </a:lnTo>
                            <a:lnTo>
                              <a:pt x="442" y="115"/>
                            </a:lnTo>
                            <a:lnTo>
                              <a:pt x="439" y="115"/>
                            </a:lnTo>
                            <a:lnTo>
                              <a:pt x="435" y="116"/>
                            </a:lnTo>
                            <a:lnTo>
                              <a:pt x="430" y="116"/>
                            </a:lnTo>
                            <a:lnTo>
                              <a:pt x="427" y="118"/>
                            </a:lnTo>
                            <a:lnTo>
                              <a:pt x="422" y="118"/>
                            </a:lnTo>
                            <a:lnTo>
                              <a:pt x="418" y="119"/>
                            </a:lnTo>
                            <a:lnTo>
                              <a:pt x="413" y="119"/>
                            </a:lnTo>
                            <a:lnTo>
                              <a:pt x="410" y="121"/>
                            </a:lnTo>
                            <a:lnTo>
                              <a:pt x="405" y="121"/>
                            </a:lnTo>
                            <a:lnTo>
                              <a:pt x="401" y="121"/>
                            </a:lnTo>
                            <a:lnTo>
                              <a:pt x="396" y="122"/>
                            </a:lnTo>
                            <a:lnTo>
                              <a:pt x="393" y="123"/>
                            </a:lnTo>
                            <a:lnTo>
                              <a:pt x="389" y="123"/>
                            </a:lnTo>
                            <a:lnTo>
                              <a:pt x="384" y="125"/>
                            </a:lnTo>
                            <a:lnTo>
                              <a:pt x="379" y="125"/>
                            </a:lnTo>
                            <a:lnTo>
                              <a:pt x="375" y="126"/>
                            </a:lnTo>
                            <a:lnTo>
                              <a:pt x="370" y="126"/>
                            </a:lnTo>
                            <a:lnTo>
                              <a:pt x="367" y="127"/>
                            </a:lnTo>
                            <a:lnTo>
                              <a:pt x="363" y="127"/>
                            </a:lnTo>
                            <a:lnTo>
                              <a:pt x="358" y="130"/>
                            </a:lnTo>
                            <a:lnTo>
                              <a:pt x="353" y="130"/>
                            </a:lnTo>
                            <a:lnTo>
                              <a:pt x="349" y="132"/>
                            </a:lnTo>
                            <a:lnTo>
                              <a:pt x="344" y="132"/>
                            </a:lnTo>
                            <a:lnTo>
                              <a:pt x="340" y="133"/>
                            </a:lnTo>
                            <a:lnTo>
                              <a:pt x="335" y="134"/>
                            </a:lnTo>
                            <a:lnTo>
                              <a:pt x="331" y="136"/>
                            </a:lnTo>
                            <a:lnTo>
                              <a:pt x="326" y="137"/>
                            </a:lnTo>
                            <a:lnTo>
                              <a:pt x="321" y="138"/>
                            </a:lnTo>
                            <a:lnTo>
                              <a:pt x="315" y="140"/>
                            </a:lnTo>
                            <a:lnTo>
                              <a:pt x="311" y="140"/>
                            </a:lnTo>
                            <a:lnTo>
                              <a:pt x="305" y="141"/>
                            </a:lnTo>
                            <a:lnTo>
                              <a:pt x="300" y="144"/>
                            </a:lnTo>
                            <a:lnTo>
                              <a:pt x="295" y="144"/>
                            </a:lnTo>
                            <a:lnTo>
                              <a:pt x="289" y="147"/>
                            </a:lnTo>
                            <a:lnTo>
                              <a:pt x="285" y="148"/>
                            </a:lnTo>
                            <a:lnTo>
                              <a:pt x="280" y="149"/>
                            </a:lnTo>
                            <a:lnTo>
                              <a:pt x="282" y="149"/>
                            </a:lnTo>
                            <a:lnTo>
                              <a:pt x="285" y="149"/>
                            </a:lnTo>
                            <a:lnTo>
                              <a:pt x="288" y="149"/>
                            </a:lnTo>
                            <a:lnTo>
                              <a:pt x="291" y="151"/>
                            </a:lnTo>
                            <a:lnTo>
                              <a:pt x="294" y="151"/>
                            </a:lnTo>
                            <a:lnTo>
                              <a:pt x="297" y="152"/>
                            </a:lnTo>
                            <a:lnTo>
                              <a:pt x="298" y="152"/>
                            </a:lnTo>
                            <a:lnTo>
                              <a:pt x="297" y="154"/>
                            </a:lnTo>
                            <a:lnTo>
                              <a:pt x="308" y="151"/>
                            </a:lnTo>
                            <a:lnTo>
                              <a:pt x="318" y="148"/>
                            </a:lnTo>
                            <a:lnTo>
                              <a:pt x="329" y="145"/>
                            </a:lnTo>
                            <a:lnTo>
                              <a:pt x="340" y="144"/>
                            </a:lnTo>
                            <a:lnTo>
                              <a:pt x="350" y="140"/>
                            </a:lnTo>
                            <a:lnTo>
                              <a:pt x="361" y="138"/>
                            </a:lnTo>
                            <a:lnTo>
                              <a:pt x="372" y="136"/>
                            </a:lnTo>
                            <a:lnTo>
                              <a:pt x="384" y="134"/>
                            </a:lnTo>
                            <a:lnTo>
                              <a:pt x="395" y="132"/>
                            </a:lnTo>
                            <a:lnTo>
                              <a:pt x="404" y="130"/>
                            </a:lnTo>
                            <a:lnTo>
                              <a:pt x="415" y="127"/>
                            </a:lnTo>
                            <a:lnTo>
                              <a:pt x="427" y="126"/>
                            </a:lnTo>
                            <a:lnTo>
                              <a:pt x="438" y="125"/>
                            </a:lnTo>
                            <a:lnTo>
                              <a:pt x="448" y="123"/>
                            </a:lnTo>
                            <a:lnTo>
                              <a:pt x="459" y="121"/>
                            </a:lnTo>
                            <a:lnTo>
                              <a:pt x="470" y="121"/>
                            </a:lnTo>
                            <a:lnTo>
                              <a:pt x="480" y="118"/>
                            </a:lnTo>
                            <a:lnTo>
                              <a:pt x="491" y="116"/>
                            </a:lnTo>
                            <a:lnTo>
                              <a:pt x="502" y="115"/>
                            </a:lnTo>
                            <a:lnTo>
                              <a:pt x="513" y="114"/>
                            </a:lnTo>
                            <a:lnTo>
                              <a:pt x="523" y="112"/>
                            </a:lnTo>
                            <a:lnTo>
                              <a:pt x="535" y="111"/>
                            </a:lnTo>
                            <a:lnTo>
                              <a:pt x="545" y="110"/>
                            </a:lnTo>
                            <a:lnTo>
                              <a:pt x="557" y="108"/>
                            </a:lnTo>
                            <a:lnTo>
                              <a:pt x="568" y="107"/>
                            </a:lnTo>
                            <a:lnTo>
                              <a:pt x="578" y="107"/>
                            </a:lnTo>
                            <a:lnTo>
                              <a:pt x="589" y="105"/>
                            </a:lnTo>
                            <a:lnTo>
                              <a:pt x="600" y="105"/>
                            </a:lnTo>
                            <a:lnTo>
                              <a:pt x="610" y="104"/>
                            </a:lnTo>
                            <a:lnTo>
                              <a:pt x="621" y="103"/>
                            </a:lnTo>
                            <a:lnTo>
                              <a:pt x="633" y="103"/>
                            </a:lnTo>
                            <a:lnTo>
                              <a:pt x="644" y="101"/>
                            </a:lnTo>
                            <a:lnTo>
                              <a:pt x="655" y="100"/>
                            </a:lnTo>
                            <a:lnTo>
                              <a:pt x="666" y="100"/>
                            </a:lnTo>
                            <a:lnTo>
                              <a:pt x="676" y="99"/>
                            </a:lnTo>
                            <a:lnTo>
                              <a:pt x="687" y="99"/>
                            </a:lnTo>
                            <a:lnTo>
                              <a:pt x="698" y="97"/>
                            </a:lnTo>
                            <a:lnTo>
                              <a:pt x="710" y="96"/>
                            </a:lnTo>
                            <a:lnTo>
                              <a:pt x="721" y="96"/>
                            </a:lnTo>
                            <a:lnTo>
                              <a:pt x="731" y="96"/>
                            </a:lnTo>
                            <a:lnTo>
                              <a:pt x="742" y="95"/>
                            </a:lnTo>
                            <a:lnTo>
                              <a:pt x="753" y="95"/>
                            </a:lnTo>
                            <a:lnTo>
                              <a:pt x="763" y="93"/>
                            </a:lnTo>
                            <a:lnTo>
                              <a:pt x="776" y="93"/>
                            </a:lnTo>
                            <a:lnTo>
                              <a:pt x="785" y="93"/>
                            </a:lnTo>
                            <a:lnTo>
                              <a:pt x="797" y="93"/>
                            </a:lnTo>
                            <a:lnTo>
                              <a:pt x="808" y="92"/>
                            </a:lnTo>
                            <a:lnTo>
                              <a:pt x="818" y="92"/>
                            </a:lnTo>
                            <a:lnTo>
                              <a:pt x="831" y="92"/>
                            </a:lnTo>
                            <a:lnTo>
                              <a:pt x="841" y="90"/>
                            </a:lnTo>
                            <a:lnTo>
                              <a:pt x="852" y="90"/>
                            </a:lnTo>
                            <a:lnTo>
                              <a:pt x="863" y="90"/>
                            </a:lnTo>
                            <a:lnTo>
                              <a:pt x="874" y="90"/>
                            </a:lnTo>
                            <a:lnTo>
                              <a:pt x="884" y="89"/>
                            </a:lnTo>
                            <a:lnTo>
                              <a:pt x="896" y="89"/>
                            </a:lnTo>
                            <a:lnTo>
                              <a:pt x="907" y="89"/>
                            </a:lnTo>
                            <a:lnTo>
                              <a:pt x="918" y="88"/>
                            </a:lnTo>
                            <a:lnTo>
                              <a:pt x="929" y="88"/>
                            </a:lnTo>
                            <a:lnTo>
                              <a:pt x="941" y="88"/>
                            </a:lnTo>
                            <a:lnTo>
                              <a:pt x="952" y="88"/>
                            </a:lnTo>
                            <a:lnTo>
                              <a:pt x="964" y="86"/>
                            </a:lnTo>
                            <a:lnTo>
                              <a:pt x="975" y="86"/>
                            </a:lnTo>
                            <a:lnTo>
                              <a:pt x="985" y="86"/>
                            </a:lnTo>
                            <a:lnTo>
                              <a:pt x="997" y="86"/>
                            </a:lnTo>
                            <a:lnTo>
                              <a:pt x="1002" y="86"/>
                            </a:lnTo>
                            <a:lnTo>
                              <a:pt x="1008" y="86"/>
                            </a:lnTo>
                            <a:lnTo>
                              <a:pt x="1013" y="86"/>
                            </a:lnTo>
                            <a:lnTo>
                              <a:pt x="1019" y="88"/>
                            </a:lnTo>
                            <a:lnTo>
                              <a:pt x="1023" y="88"/>
                            </a:lnTo>
                            <a:lnTo>
                              <a:pt x="1028" y="88"/>
                            </a:lnTo>
                            <a:lnTo>
                              <a:pt x="1034" y="88"/>
                            </a:lnTo>
                            <a:lnTo>
                              <a:pt x="1040" y="88"/>
                            </a:lnTo>
                            <a:lnTo>
                              <a:pt x="1045" y="88"/>
                            </a:lnTo>
                            <a:lnTo>
                              <a:pt x="1051" y="88"/>
                            </a:lnTo>
                            <a:lnTo>
                              <a:pt x="1056" y="89"/>
                            </a:lnTo>
                            <a:lnTo>
                              <a:pt x="1062" y="89"/>
                            </a:lnTo>
                            <a:lnTo>
                              <a:pt x="1066" y="89"/>
                            </a:lnTo>
                            <a:lnTo>
                              <a:pt x="1072" y="89"/>
                            </a:lnTo>
                            <a:lnTo>
                              <a:pt x="1079" y="90"/>
                            </a:lnTo>
                            <a:lnTo>
                              <a:pt x="1085" y="90"/>
                            </a:lnTo>
                            <a:lnTo>
                              <a:pt x="1089" y="90"/>
                            </a:lnTo>
                            <a:lnTo>
                              <a:pt x="1094" y="90"/>
                            </a:lnTo>
                            <a:lnTo>
                              <a:pt x="1100" y="90"/>
                            </a:lnTo>
                            <a:lnTo>
                              <a:pt x="1105" y="92"/>
                            </a:lnTo>
                            <a:lnTo>
                              <a:pt x="1111" y="92"/>
                            </a:lnTo>
                            <a:lnTo>
                              <a:pt x="1117" y="92"/>
                            </a:lnTo>
                            <a:lnTo>
                              <a:pt x="1121" y="92"/>
                            </a:lnTo>
                            <a:lnTo>
                              <a:pt x="1127" y="93"/>
                            </a:lnTo>
                            <a:lnTo>
                              <a:pt x="1132" y="93"/>
                            </a:lnTo>
                            <a:lnTo>
                              <a:pt x="1138" y="93"/>
                            </a:lnTo>
                            <a:lnTo>
                              <a:pt x="1143" y="93"/>
                            </a:lnTo>
                            <a:lnTo>
                              <a:pt x="1149" y="93"/>
                            </a:lnTo>
                            <a:lnTo>
                              <a:pt x="1155" y="93"/>
                            </a:lnTo>
                            <a:lnTo>
                              <a:pt x="1160" y="95"/>
                            </a:lnTo>
                            <a:lnTo>
                              <a:pt x="1166" y="95"/>
                            </a:lnTo>
                            <a:lnTo>
                              <a:pt x="1172" y="96"/>
                            </a:lnTo>
                            <a:lnTo>
                              <a:pt x="1176" y="96"/>
                            </a:lnTo>
                            <a:lnTo>
                              <a:pt x="1183" y="96"/>
                            </a:lnTo>
                            <a:lnTo>
                              <a:pt x="1187" y="96"/>
                            </a:lnTo>
                            <a:lnTo>
                              <a:pt x="1193" y="96"/>
                            </a:lnTo>
                            <a:lnTo>
                              <a:pt x="1198" y="96"/>
                            </a:lnTo>
                            <a:lnTo>
                              <a:pt x="1204" y="96"/>
                            </a:lnTo>
                            <a:lnTo>
                              <a:pt x="1210" y="97"/>
                            </a:lnTo>
                            <a:lnTo>
                              <a:pt x="1215" y="97"/>
                            </a:lnTo>
                            <a:lnTo>
                              <a:pt x="1221" y="97"/>
                            </a:lnTo>
                            <a:lnTo>
                              <a:pt x="1225" y="97"/>
                            </a:lnTo>
                            <a:lnTo>
                              <a:pt x="1231" y="97"/>
                            </a:lnTo>
                            <a:lnTo>
                              <a:pt x="1238" y="99"/>
                            </a:lnTo>
                            <a:lnTo>
                              <a:pt x="1242" y="99"/>
                            </a:lnTo>
                            <a:lnTo>
                              <a:pt x="1248" y="99"/>
                            </a:lnTo>
                            <a:lnTo>
                              <a:pt x="1254" y="100"/>
                            </a:lnTo>
                            <a:lnTo>
                              <a:pt x="1259" y="100"/>
                            </a:lnTo>
                            <a:lnTo>
                              <a:pt x="1265" y="100"/>
                            </a:lnTo>
                            <a:lnTo>
                              <a:pt x="1270" y="100"/>
                            </a:lnTo>
                            <a:lnTo>
                              <a:pt x="1276" y="100"/>
                            </a:lnTo>
                            <a:lnTo>
                              <a:pt x="1282" y="100"/>
                            </a:lnTo>
                            <a:lnTo>
                              <a:pt x="1287" y="100"/>
                            </a:lnTo>
                            <a:lnTo>
                              <a:pt x="1293" y="101"/>
                            </a:lnTo>
                            <a:lnTo>
                              <a:pt x="1297" y="101"/>
                            </a:lnTo>
                            <a:lnTo>
                              <a:pt x="1303" y="101"/>
                            </a:lnTo>
                            <a:lnTo>
                              <a:pt x="1309" y="101"/>
                            </a:lnTo>
                            <a:lnTo>
                              <a:pt x="1314" y="101"/>
                            </a:lnTo>
                            <a:lnTo>
                              <a:pt x="1320" y="103"/>
                            </a:lnTo>
                            <a:lnTo>
                              <a:pt x="1326" y="103"/>
                            </a:lnTo>
                            <a:lnTo>
                              <a:pt x="1331" y="103"/>
                            </a:lnTo>
                            <a:lnTo>
                              <a:pt x="1337" y="103"/>
                            </a:lnTo>
                            <a:lnTo>
                              <a:pt x="1343" y="103"/>
                            </a:lnTo>
                            <a:lnTo>
                              <a:pt x="1348" y="104"/>
                            </a:lnTo>
                            <a:lnTo>
                              <a:pt x="1288" y="118"/>
                            </a:lnTo>
                            <a:lnTo>
                              <a:pt x="1290" y="118"/>
                            </a:lnTo>
                            <a:lnTo>
                              <a:pt x="1293" y="118"/>
                            </a:lnTo>
                            <a:lnTo>
                              <a:pt x="1296" y="118"/>
                            </a:lnTo>
                            <a:lnTo>
                              <a:pt x="1299" y="118"/>
                            </a:lnTo>
                            <a:lnTo>
                              <a:pt x="1303" y="118"/>
                            </a:lnTo>
                            <a:lnTo>
                              <a:pt x="1308" y="118"/>
                            </a:lnTo>
                            <a:lnTo>
                              <a:pt x="1313" y="118"/>
                            </a:lnTo>
                            <a:lnTo>
                              <a:pt x="1319" y="118"/>
                            </a:lnTo>
                            <a:lnTo>
                              <a:pt x="1325" y="118"/>
                            </a:lnTo>
                            <a:lnTo>
                              <a:pt x="1331" y="118"/>
                            </a:lnTo>
                            <a:lnTo>
                              <a:pt x="1339" y="118"/>
                            </a:lnTo>
                            <a:lnTo>
                              <a:pt x="1346" y="119"/>
                            </a:lnTo>
                            <a:lnTo>
                              <a:pt x="1354" y="119"/>
                            </a:lnTo>
                            <a:lnTo>
                              <a:pt x="1362" y="119"/>
                            </a:lnTo>
                            <a:lnTo>
                              <a:pt x="1369" y="119"/>
                            </a:lnTo>
                            <a:lnTo>
                              <a:pt x="1378" y="121"/>
                            </a:lnTo>
                            <a:lnTo>
                              <a:pt x="1386" y="121"/>
                            </a:lnTo>
                            <a:lnTo>
                              <a:pt x="1395" y="121"/>
                            </a:lnTo>
                            <a:lnTo>
                              <a:pt x="1406" y="121"/>
                            </a:lnTo>
                            <a:lnTo>
                              <a:pt x="1415" y="121"/>
                            </a:lnTo>
                            <a:lnTo>
                              <a:pt x="1424" y="121"/>
                            </a:lnTo>
                            <a:lnTo>
                              <a:pt x="1435" y="121"/>
                            </a:lnTo>
                            <a:lnTo>
                              <a:pt x="1444" y="121"/>
                            </a:lnTo>
                            <a:lnTo>
                              <a:pt x="1456" y="121"/>
                            </a:lnTo>
                            <a:lnTo>
                              <a:pt x="1466" y="121"/>
                            </a:lnTo>
                            <a:lnTo>
                              <a:pt x="1476" y="121"/>
                            </a:lnTo>
                            <a:lnTo>
                              <a:pt x="1487" y="121"/>
                            </a:lnTo>
                            <a:lnTo>
                              <a:pt x="1498" y="121"/>
                            </a:lnTo>
                            <a:lnTo>
                              <a:pt x="1508" y="121"/>
                            </a:lnTo>
                            <a:lnTo>
                              <a:pt x="1519" y="121"/>
                            </a:lnTo>
                            <a:lnTo>
                              <a:pt x="1531" y="121"/>
                            </a:lnTo>
                            <a:lnTo>
                              <a:pt x="1542" y="121"/>
                            </a:lnTo>
                            <a:lnTo>
                              <a:pt x="1553" y="121"/>
                            </a:lnTo>
                            <a:lnTo>
                              <a:pt x="1563" y="121"/>
                            </a:lnTo>
                            <a:lnTo>
                              <a:pt x="1574" y="121"/>
                            </a:lnTo>
                            <a:lnTo>
                              <a:pt x="1585" y="121"/>
                            </a:lnTo>
                            <a:lnTo>
                              <a:pt x="1596" y="121"/>
                            </a:lnTo>
                            <a:lnTo>
                              <a:pt x="1605" y="121"/>
                            </a:lnTo>
                            <a:lnTo>
                              <a:pt x="1615" y="121"/>
                            </a:lnTo>
                            <a:lnTo>
                              <a:pt x="1626" y="121"/>
                            </a:lnTo>
                            <a:lnTo>
                              <a:pt x="1635" y="121"/>
                            </a:lnTo>
                            <a:lnTo>
                              <a:pt x="1646" y="121"/>
                            </a:lnTo>
                            <a:lnTo>
                              <a:pt x="1655" y="121"/>
                            </a:lnTo>
                            <a:lnTo>
                              <a:pt x="1666" y="121"/>
                            </a:lnTo>
                            <a:lnTo>
                              <a:pt x="1674" y="121"/>
                            </a:lnTo>
                            <a:lnTo>
                              <a:pt x="1684" y="121"/>
                            </a:lnTo>
                            <a:lnTo>
                              <a:pt x="1692" y="121"/>
                            </a:lnTo>
                            <a:lnTo>
                              <a:pt x="1701" y="121"/>
                            </a:lnTo>
                            <a:lnTo>
                              <a:pt x="1709" y="121"/>
                            </a:lnTo>
                            <a:lnTo>
                              <a:pt x="1716" y="121"/>
                            </a:lnTo>
                            <a:lnTo>
                              <a:pt x="1723" y="119"/>
                            </a:lnTo>
                            <a:lnTo>
                              <a:pt x="1730" y="119"/>
                            </a:lnTo>
                            <a:lnTo>
                              <a:pt x="1736" y="119"/>
                            </a:lnTo>
                            <a:lnTo>
                              <a:pt x="1744" y="119"/>
                            </a:lnTo>
                            <a:lnTo>
                              <a:pt x="1749" y="119"/>
                            </a:lnTo>
                            <a:lnTo>
                              <a:pt x="1755" y="119"/>
                            </a:lnTo>
                            <a:lnTo>
                              <a:pt x="1759" y="118"/>
                            </a:lnTo>
                            <a:lnTo>
                              <a:pt x="1764" y="118"/>
                            </a:lnTo>
                            <a:lnTo>
                              <a:pt x="1767" y="118"/>
                            </a:lnTo>
                            <a:lnTo>
                              <a:pt x="1771" y="118"/>
                            </a:lnTo>
                            <a:lnTo>
                              <a:pt x="1776" y="118"/>
                            </a:lnTo>
                            <a:lnTo>
                              <a:pt x="1779" y="118"/>
                            </a:lnTo>
                            <a:lnTo>
                              <a:pt x="1775" y="116"/>
                            </a:lnTo>
                            <a:lnTo>
                              <a:pt x="1770" y="115"/>
                            </a:lnTo>
                            <a:lnTo>
                              <a:pt x="1765" y="115"/>
                            </a:lnTo>
                            <a:lnTo>
                              <a:pt x="1762" y="114"/>
                            </a:lnTo>
                            <a:lnTo>
                              <a:pt x="1758" y="114"/>
                            </a:lnTo>
                            <a:lnTo>
                              <a:pt x="1753" y="112"/>
                            </a:lnTo>
                            <a:lnTo>
                              <a:pt x="1749" y="112"/>
                            </a:lnTo>
                            <a:lnTo>
                              <a:pt x="1745" y="112"/>
                            </a:lnTo>
                            <a:lnTo>
                              <a:pt x="1741" y="112"/>
                            </a:lnTo>
                            <a:lnTo>
                              <a:pt x="1736" y="111"/>
                            </a:lnTo>
                            <a:lnTo>
                              <a:pt x="1732" y="111"/>
                            </a:lnTo>
                            <a:lnTo>
                              <a:pt x="1729" y="111"/>
                            </a:lnTo>
                            <a:lnTo>
                              <a:pt x="1724" y="111"/>
                            </a:lnTo>
                            <a:lnTo>
                              <a:pt x="1719" y="111"/>
                            </a:lnTo>
                            <a:lnTo>
                              <a:pt x="1715" y="111"/>
                            </a:lnTo>
                            <a:lnTo>
                              <a:pt x="1712" y="111"/>
                            </a:lnTo>
                            <a:lnTo>
                              <a:pt x="1707" y="110"/>
                            </a:lnTo>
                            <a:lnTo>
                              <a:pt x="1703" y="110"/>
                            </a:lnTo>
                            <a:lnTo>
                              <a:pt x="1698" y="110"/>
                            </a:lnTo>
                            <a:lnTo>
                              <a:pt x="1693" y="110"/>
                            </a:lnTo>
                            <a:lnTo>
                              <a:pt x="1687" y="108"/>
                            </a:lnTo>
                            <a:lnTo>
                              <a:pt x="1683" y="108"/>
                            </a:lnTo>
                            <a:lnTo>
                              <a:pt x="1678" y="108"/>
                            </a:lnTo>
                            <a:lnTo>
                              <a:pt x="1674" y="108"/>
                            </a:lnTo>
                            <a:lnTo>
                              <a:pt x="1667" y="108"/>
                            </a:lnTo>
                            <a:lnTo>
                              <a:pt x="1663" y="108"/>
                            </a:lnTo>
                            <a:lnTo>
                              <a:pt x="1657" y="107"/>
                            </a:lnTo>
                            <a:lnTo>
                              <a:pt x="1652" y="107"/>
                            </a:lnTo>
                            <a:lnTo>
                              <a:pt x="1648" y="107"/>
                            </a:lnTo>
                            <a:lnTo>
                              <a:pt x="1643" y="107"/>
                            </a:lnTo>
                            <a:lnTo>
                              <a:pt x="1640" y="108"/>
                            </a:lnTo>
                            <a:lnTo>
                              <a:pt x="1635" y="108"/>
                            </a:lnTo>
                            <a:lnTo>
                              <a:pt x="1640" y="107"/>
                            </a:lnTo>
                            <a:lnTo>
                              <a:pt x="1643" y="104"/>
                            </a:lnTo>
                            <a:lnTo>
                              <a:pt x="1649" y="103"/>
                            </a:lnTo>
                            <a:lnTo>
                              <a:pt x="1655" y="103"/>
                            </a:lnTo>
                            <a:lnTo>
                              <a:pt x="1660" y="101"/>
                            </a:lnTo>
                            <a:lnTo>
                              <a:pt x="1666" y="100"/>
                            </a:lnTo>
                            <a:lnTo>
                              <a:pt x="1672" y="100"/>
                            </a:lnTo>
                            <a:lnTo>
                              <a:pt x="1678" y="99"/>
                            </a:lnTo>
                            <a:lnTo>
                              <a:pt x="1683" y="97"/>
                            </a:lnTo>
                            <a:lnTo>
                              <a:pt x="1689" y="97"/>
                            </a:lnTo>
                            <a:lnTo>
                              <a:pt x="1687" y="96"/>
                            </a:lnTo>
                            <a:lnTo>
                              <a:pt x="1683" y="96"/>
                            </a:lnTo>
                            <a:lnTo>
                              <a:pt x="1680" y="96"/>
                            </a:lnTo>
                            <a:lnTo>
                              <a:pt x="1677" y="96"/>
                            </a:lnTo>
                            <a:lnTo>
                              <a:pt x="1674" y="96"/>
                            </a:lnTo>
                            <a:lnTo>
                              <a:pt x="1669" y="96"/>
                            </a:lnTo>
                            <a:lnTo>
                              <a:pt x="1664" y="96"/>
                            </a:lnTo>
                            <a:lnTo>
                              <a:pt x="1660" y="96"/>
                            </a:lnTo>
                            <a:lnTo>
                              <a:pt x="1655" y="96"/>
                            </a:lnTo>
                            <a:lnTo>
                              <a:pt x="1649" y="96"/>
                            </a:lnTo>
                            <a:lnTo>
                              <a:pt x="1644" y="96"/>
                            </a:lnTo>
                            <a:lnTo>
                              <a:pt x="1638" y="96"/>
                            </a:lnTo>
                            <a:lnTo>
                              <a:pt x="1632" y="96"/>
                            </a:lnTo>
                            <a:lnTo>
                              <a:pt x="1628" y="97"/>
                            </a:lnTo>
                            <a:lnTo>
                              <a:pt x="1622" y="97"/>
                            </a:lnTo>
                            <a:lnTo>
                              <a:pt x="1615" y="97"/>
                            </a:lnTo>
                            <a:lnTo>
                              <a:pt x="1609" y="97"/>
                            </a:lnTo>
                            <a:lnTo>
                              <a:pt x="1605" y="97"/>
                            </a:lnTo>
                            <a:lnTo>
                              <a:pt x="1599" y="97"/>
                            </a:lnTo>
                            <a:lnTo>
                              <a:pt x="1592" y="97"/>
                            </a:lnTo>
                            <a:lnTo>
                              <a:pt x="1588" y="97"/>
                            </a:lnTo>
                            <a:lnTo>
                              <a:pt x="1583" y="99"/>
                            </a:lnTo>
                            <a:lnTo>
                              <a:pt x="1577" y="99"/>
                            </a:lnTo>
                            <a:lnTo>
                              <a:pt x="1573" y="99"/>
                            </a:lnTo>
                            <a:lnTo>
                              <a:pt x="1570" y="99"/>
                            </a:lnTo>
                            <a:lnTo>
                              <a:pt x="1565" y="99"/>
                            </a:lnTo>
                            <a:lnTo>
                              <a:pt x="1559" y="99"/>
                            </a:lnTo>
                            <a:lnTo>
                              <a:pt x="1556" y="100"/>
                            </a:lnTo>
                            <a:lnTo>
                              <a:pt x="1559" y="97"/>
                            </a:lnTo>
                            <a:lnTo>
                              <a:pt x="1565" y="95"/>
                            </a:lnTo>
                            <a:lnTo>
                              <a:pt x="1566" y="93"/>
                            </a:lnTo>
                            <a:lnTo>
                              <a:pt x="1570" y="93"/>
                            </a:lnTo>
                            <a:lnTo>
                              <a:pt x="1573" y="92"/>
                            </a:lnTo>
                            <a:lnTo>
                              <a:pt x="1577" y="92"/>
                            </a:lnTo>
                            <a:lnTo>
                              <a:pt x="1580" y="90"/>
                            </a:lnTo>
                            <a:lnTo>
                              <a:pt x="1583" y="90"/>
                            </a:lnTo>
                            <a:lnTo>
                              <a:pt x="1588" y="89"/>
                            </a:lnTo>
                            <a:lnTo>
                              <a:pt x="1591" y="89"/>
                            </a:lnTo>
                            <a:lnTo>
                              <a:pt x="1596" y="89"/>
                            </a:lnTo>
                            <a:lnTo>
                              <a:pt x="1600" y="88"/>
                            </a:lnTo>
                            <a:lnTo>
                              <a:pt x="1605" y="88"/>
                            </a:lnTo>
                            <a:lnTo>
                              <a:pt x="1609" y="88"/>
                            </a:lnTo>
                            <a:lnTo>
                              <a:pt x="1614" y="88"/>
                            </a:lnTo>
                            <a:lnTo>
                              <a:pt x="1618" y="86"/>
                            </a:lnTo>
                            <a:lnTo>
                              <a:pt x="1623" y="86"/>
                            </a:lnTo>
                            <a:lnTo>
                              <a:pt x="1629" y="86"/>
                            </a:lnTo>
                            <a:lnTo>
                              <a:pt x="1634" y="85"/>
                            </a:lnTo>
                            <a:lnTo>
                              <a:pt x="1640" y="85"/>
                            </a:lnTo>
                            <a:lnTo>
                              <a:pt x="1646" y="85"/>
                            </a:lnTo>
                            <a:lnTo>
                              <a:pt x="1651" y="85"/>
                            </a:lnTo>
                            <a:lnTo>
                              <a:pt x="1657" y="85"/>
                            </a:lnTo>
                            <a:lnTo>
                              <a:pt x="1663" y="85"/>
                            </a:lnTo>
                            <a:lnTo>
                              <a:pt x="1667" y="85"/>
                            </a:lnTo>
                            <a:lnTo>
                              <a:pt x="1674" y="85"/>
                            </a:lnTo>
                            <a:lnTo>
                              <a:pt x="1680" y="85"/>
                            </a:lnTo>
                            <a:lnTo>
                              <a:pt x="1686" y="85"/>
                            </a:lnTo>
                            <a:lnTo>
                              <a:pt x="1692" y="85"/>
                            </a:lnTo>
                            <a:lnTo>
                              <a:pt x="1698" y="85"/>
                            </a:lnTo>
                            <a:lnTo>
                              <a:pt x="1704" y="84"/>
                            </a:lnTo>
                            <a:lnTo>
                              <a:pt x="1709" y="84"/>
                            </a:lnTo>
                            <a:lnTo>
                              <a:pt x="1715" y="84"/>
                            </a:lnTo>
                            <a:lnTo>
                              <a:pt x="1723" y="84"/>
                            </a:lnTo>
                            <a:lnTo>
                              <a:pt x="1727" y="84"/>
                            </a:lnTo>
                            <a:lnTo>
                              <a:pt x="1733" y="84"/>
                            </a:lnTo>
                            <a:lnTo>
                              <a:pt x="1739" y="84"/>
                            </a:lnTo>
                            <a:lnTo>
                              <a:pt x="1745" y="84"/>
                            </a:lnTo>
                            <a:lnTo>
                              <a:pt x="1752" y="84"/>
                            </a:lnTo>
                            <a:lnTo>
                              <a:pt x="1758" y="84"/>
                            </a:lnTo>
                            <a:lnTo>
                              <a:pt x="1762" y="84"/>
                            </a:lnTo>
                            <a:lnTo>
                              <a:pt x="1770" y="84"/>
                            </a:lnTo>
                            <a:lnTo>
                              <a:pt x="1775" y="84"/>
                            </a:lnTo>
                            <a:lnTo>
                              <a:pt x="1781" y="84"/>
                            </a:lnTo>
                            <a:lnTo>
                              <a:pt x="1787" y="84"/>
                            </a:lnTo>
                            <a:lnTo>
                              <a:pt x="1793" y="85"/>
                            </a:lnTo>
                            <a:lnTo>
                              <a:pt x="1797" y="84"/>
                            </a:lnTo>
                            <a:lnTo>
                              <a:pt x="1804" y="84"/>
                            </a:lnTo>
                            <a:lnTo>
                              <a:pt x="1810" y="84"/>
                            </a:lnTo>
                            <a:lnTo>
                              <a:pt x="1814" y="84"/>
                            </a:lnTo>
                            <a:lnTo>
                              <a:pt x="1820" y="84"/>
                            </a:lnTo>
                            <a:lnTo>
                              <a:pt x="1825" y="84"/>
                            </a:lnTo>
                            <a:lnTo>
                              <a:pt x="1830" y="84"/>
                            </a:lnTo>
                            <a:lnTo>
                              <a:pt x="1836" y="84"/>
                            </a:lnTo>
                            <a:lnTo>
                              <a:pt x="1840" y="84"/>
                            </a:lnTo>
                            <a:lnTo>
                              <a:pt x="1845" y="84"/>
                            </a:lnTo>
                            <a:lnTo>
                              <a:pt x="1849" y="84"/>
                            </a:lnTo>
                            <a:lnTo>
                              <a:pt x="1854" y="84"/>
                            </a:lnTo>
                            <a:lnTo>
                              <a:pt x="1859" y="84"/>
                            </a:lnTo>
                            <a:lnTo>
                              <a:pt x="1862" y="84"/>
                            </a:lnTo>
                            <a:lnTo>
                              <a:pt x="1866" y="84"/>
                            </a:lnTo>
                            <a:lnTo>
                              <a:pt x="1871" y="84"/>
                            </a:lnTo>
                            <a:lnTo>
                              <a:pt x="1868" y="81"/>
                            </a:lnTo>
                            <a:lnTo>
                              <a:pt x="1863" y="79"/>
                            </a:lnTo>
                            <a:lnTo>
                              <a:pt x="1860" y="78"/>
                            </a:lnTo>
                            <a:lnTo>
                              <a:pt x="1856" y="75"/>
                            </a:lnTo>
                            <a:lnTo>
                              <a:pt x="1853" y="74"/>
                            </a:lnTo>
                            <a:lnTo>
                              <a:pt x="1848" y="74"/>
                            </a:lnTo>
                            <a:lnTo>
                              <a:pt x="1845" y="74"/>
                            </a:lnTo>
                            <a:lnTo>
                              <a:pt x="1842" y="74"/>
                            </a:lnTo>
                            <a:lnTo>
                              <a:pt x="1839" y="73"/>
                            </a:lnTo>
                            <a:lnTo>
                              <a:pt x="1836" y="73"/>
                            </a:lnTo>
                            <a:lnTo>
                              <a:pt x="1831" y="73"/>
                            </a:lnTo>
                            <a:lnTo>
                              <a:pt x="1828" y="73"/>
                            </a:lnTo>
                            <a:lnTo>
                              <a:pt x="1822" y="73"/>
                            </a:lnTo>
                            <a:lnTo>
                              <a:pt x="1814" y="71"/>
                            </a:lnTo>
                            <a:lnTo>
                              <a:pt x="1808" y="71"/>
                            </a:lnTo>
                            <a:lnTo>
                              <a:pt x="1802" y="71"/>
                            </a:lnTo>
                            <a:lnTo>
                              <a:pt x="1794" y="70"/>
                            </a:lnTo>
                            <a:lnTo>
                              <a:pt x="1788" y="70"/>
                            </a:lnTo>
                            <a:lnTo>
                              <a:pt x="1782" y="68"/>
                            </a:lnTo>
                            <a:lnTo>
                              <a:pt x="1776" y="68"/>
                            </a:lnTo>
                            <a:lnTo>
                              <a:pt x="1768" y="68"/>
                            </a:lnTo>
                            <a:lnTo>
                              <a:pt x="1762" y="68"/>
                            </a:lnTo>
                            <a:lnTo>
                              <a:pt x="1756" y="67"/>
                            </a:lnTo>
                            <a:lnTo>
                              <a:pt x="1749" y="67"/>
                            </a:lnTo>
                            <a:lnTo>
                              <a:pt x="1742" y="66"/>
                            </a:lnTo>
                            <a:lnTo>
                              <a:pt x="1736" y="66"/>
                            </a:lnTo>
                            <a:lnTo>
                              <a:pt x="1729" y="66"/>
                            </a:lnTo>
                            <a:lnTo>
                              <a:pt x="1723" y="66"/>
                            </a:lnTo>
                            <a:lnTo>
                              <a:pt x="1716" y="64"/>
                            </a:lnTo>
                            <a:lnTo>
                              <a:pt x="1710" y="64"/>
                            </a:lnTo>
                            <a:lnTo>
                              <a:pt x="1703" y="64"/>
                            </a:lnTo>
                            <a:lnTo>
                              <a:pt x="1696" y="64"/>
                            </a:lnTo>
                            <a:lnTo>
                              <a:pt x="1693" y="63"/>
                            </a:lnTo>
                            <a:lnTo>
                              <a:pt x="1690" y="63"/>
                            </a:lnTo>
                            <a:lnTo>
                              <a:pt x="1686" y="63"/>
                            </a:lnTo>
                            <a:lnTo>
                              <a:pt x="1683" y="63"/>
                            </a:lnTo>
                            <a:lnTo>
                              <a:pt x="1677" y="63"/>
                            </a:lnTo>
                            <a:lnTo>
                              <a:pt x="1670" y="63"/>
                            </a:lnTo>
                            <a:lnTo>
                              <a:pt x="1663" y="63"/>
                            </a:lnTo>
                            <a:lnTo>
                              <a:pt x="1657" y="64"/>
                            </a:lnTo>
                            <a:lnTo>
                              <a:pt x="1649" y="64"/>
                            </a:lnTo>
                            <a:lnTo>
                              <a:pt x="1643" y="66"/>
                            </a:lnTo>
                            <a:lnTo>
                              <a:pt x="1638" y="64"/>
                            </a:lnTo>
                            <a:lnTo>
                              <a:pt x="1632" y="64"/>
                            </a:lnTo>
                            <a:lnTo>
                              <a:pt x="1628" y="63"/>
                            </a:lnTo>
                            <a:lnTo>
                              <a:pt x="1622" y="63"/>
                            </a:lnTo>
                            <a:lnTo>
                              <a:pt x="1617" y="63"/>
                            </a:lnTo>
                            <a:lnTo>
                              <a:pt x="1612" y="63"/>
                            </a:lnTo>
                            <a:lnTo>
                              <a:pt x="1606" y="62"/>
                            </a:lnTo>
                            <a:lnTo>
                              <a:pt x="1602" y="62"/>
                            </a:lnTo>
                            <a:lnTo>
                              <a:pt x="1596" y="62"/>
                            </a:lnTo>
                            <a:lnTo>
                              <a:pt x="1591" y="60"/>
                            </a:lnTo>
                            <a:lnTo>
                              <a:pt x="1586" y="60"/>
                            </a:lnTo>
                            <a:lnTo>
                              <a:pt x="1582" y="60"/>
                            </a:lnTo>
                            <a:lnTo>
                              <a:pt x="1576" y="59"/>
                            </a:lnTo>
                            <a:lnTo>
                              <a:pt x="1571" y="59"/>
                            </a:lnTo>
                            <a:lnTo>
                              <a:pt x="1565" y="59"/>
                            </a:lnTo>
                            <a:lnTo>
                              <a:pt x="1560" y="59"/>
                            </a:lnTo>
                            <a:lnTo>
                              <a:pt x="1565" y="57"/>
                            </a:lnTo>
                            <a:lnTo>
                              <a:pt x="1568" y="56"/>
                            </a:lnTo>
                            <a:lnTo>
                              <a:pt x="1573" y="56"/>
                            </a:lnTo>
                            <a:lnTo>
                              <a:pt x="1577" y="56"/>
                            </a:lnTo>
                            <a:lnTo>
                              <a:pt x="1582" y="55"/>
                            </a:lnTo>
                            <a:lnTo>
                              <a:pt x="1585" y="55"/>
                            </a:lnTo>
                            <a:lnTo>
                              <a:pt x="1589" y="55"/>
                            </a:lnTo>
                            <a:lnTo>
                              <a:pt x="1594" y="55"/>
                            </a:lnTo>
                            <a:lnTo>
                              <a:pt x="1599" y="53"/>
                            </a:lnTo>
                            <a:lnTo>
                              <a:pt x="1602" y="53"/>
                            </a:lnTo>
                            <a:lnTo>
                              <a:pt x="1606" y="53"/>
                            </a:lnTo>
                            <a:lnTo>
                              <a:pt x="1611" y="53"/>
                            </a:lnTo>
                            <a:lnTo>
                              <a:pt x="1615" y="53"/>
                            </a:lnTo>
                            <a:lnTo>
                              <a:pt x="1618" y="53"/>
                            </a:lnTo>
                            <a:lnTo>
                              <a:pt x="1623" y="53"/>
                            </a:lnTo>
                            <a:lnTo>
                              <a:pt x="1629" y="53"/>
                            </a:lnTo>
                            <a:lnTo>
                              <a:pt x="1632" y="53"/>
                            </a:lnTo>
                            <a:lnTo>
                              <a:pt x="1637" y="53"/>
                            </a:lnTo>
                            <a:lnTo>
                              <a:pt x="1641" y="53"/>
                            </a:lnTo>
                            <a:lnTo>
                              <a:pt x="1646" y="53"/>
                            </a:lnTo>
                            <a:lnTo>
                              <a:pt x="1649" y="53"/>
                            </a:lnTo>
                            <a:lnTo>
                              <a:pt x="1654" y="53"/>
                            </a:lnTo>
                            <a:lnTo>
                              <a:pt x="1658" y="53"/>
                            </a:lnTo>
                            <a:lnTo>
                              <a:pt x="1663" y="53"/>
                            </a:lnTo>
                            <a:lnTo>
                              <a:pt x="1667" y="53"/>
                            </a:lnTo>
                            <a:lnTo>
                              <a:pt x="1672" y="53"/>
                            </a:lnTo>
                            <a:lnTo>
                              <a:pt x="1677" y="53"/>
                            </a:lnTo>
                            <a:lnTo>
                              <a:pt x="1681" y="53"/>
                            </a:lnTo>
                            <a:lnTo>
                              <a:pt x="1686" y="53"/>
                            </a:lnTo>
                            <a:lnTo>
                              <a:pt x="1690" y="55"/>
                            </a:lnTo>
                            <a:lnTo>
                              <a:pt x="1695" y="55"/>
                            </a:lnTo>
                            <a:lnTo>
                              <a:pt x="1700" y="55"/>
                            </a:lnTo>
                            <a:lnTo>
                              <a:pt x="1703" y="55"/>
                            </a:lnTo>
                            <a:lnTo>
                              <a:pt x="1707" y="55"/>
                            </a:lnTo>
                            <a:lnTo>
                              <a:pt x="1712" y="55"/>
                            </a:lnTo>
                            <a:lnTo>
                              <a:pt x="1716" y="56"/>
                            </a:lnTo>
                            <a:lnTo>
                              <a:pt x="1721" y="56"/>
                            </a:lnTo>
                            <a:lnTo>
                              <a:pt x="1726" y="56"/>
                            </a:lnTo>
                            <a:lnTo>
                              <a:pt x="1729" y="56"/>
                            </a:lnTo>
                            <a:lnTo>
                              <a:pt x="1735" y="56"/>
                            </a:lnTo>
                            <a:lnTo>
                              <a:pt x="1738" y="56"/>
                            </a:lnTo>
                            <a:lnTo>
                              <a:pt x="1742" y="56"/>
                            </a:lnTo>
                            <a:lnTo>
                              <a:pt x="1747" y="56"/>
                            </a:lnTo>
                            <a:lnTo>
                              <a:pt x="1752" y="56"/>
                            </a:lnTo>
                            <a:lnTo>
                              <a:pt x="1756" y="56"/>
                            </a:lnTo>
                            <a:lnTo>
                              <a:pt x="1761" y="56"/>
                            </a:lnTo>
                            <a:lnTo>
                              <a:pt x="1765" y="56"/>
                            </a:lnTo>
                            <a:lnTo>
                              <a:pt x="1770" y="57"/>
                            </a:lnTo>
                            <a:lnTo>
                              <a:pt x="1773" y="56"/>
                            </a:lnTo>
                            <a:lnTo>
                              <a:pt x="1778" y="56"/>
                            </a:lnTo>
                            <a:lnTo>
                              <a:pt x="1782" y="56"/>
                            </a:lnTo>
                            <a:lnTo>
                              <a:pt x="1787" y="56"/>
                            </a:lnTo>
                            <a:lnTo>
                              <a:pt x="1791" y="56"/>
                            </a:lnTo>
                            <a:lnTo>
                              <a:pt x="1796" y="56"/>
                            </a:lnTo>
                            <a:lnTo>
                              <a:pt x="1801" y="56"/>
                            </a:lnTo>
                            <a:lnTo>
                              <a:pt x="1805" y="56"/>
                            </a:lnTo>
                            <a:lnTo>
                              <a:pt x="1808" y="56"/>
                            </a:lnTo>
                            <a:lnTo>
                              <a:pt x="1814" y="56"/>
                            </a:lnTo>
                            <a:lnTo>
                              <a:pt x="1817" y="55"/>
                            </a:lnTo>
                            <a:lnTo>
                              <a:pt x="1822" y="55"/>
                            </a:lnTo>
                            <a:lnTo>
                              <a:pt x="1827" y="55"/>
                            </a:lnTo>
                            <a:lnTo>
                              <a:pt x="1831" y="55"/>
                            </a:lnTo>
                            <a:lnTo>
                              <a:pt x="1836" y="53"/>
                            </a:lnTo>
                            <a:lnTo>
                              <a:pt x="1840" y="53"/>
                            </a:lnTo>
                            <a:lnTo>
                              <a:pt x="1845" y="53"/>
                            </a:lnTo>
                            <a:lnTo>
                              <a:pt x="1851" y="52"/>
                            </a:lnTo>
                            <a:lnTo>
                              <a:pt x="1856" y="52"/>
                            </a:lnTo>
                            <a:lnTo>
                              <a:pt x="1859" y="51"/>
                            </a:lnTo>
                            <a:lnTo>
                              <a:pt x="1863" y="49"/>
                            </a:lnTo>
                            <a:lnTo>
                              <a:pt x="1866" y="48"/>
                            </a:lnTo>
                            <a:lnTo>
                              <a:pt x="1865" y="46"/>
                            </a:lnTo>
                            <a:lnTo>
                              <a:pt x="1863" y="46"/>
                            </a:lnTo>
                            <a:lnTo>
                              <a:pt x="1860" y="46"/>
                            </a:lnTo>
                            <a:lnTo>
                              <a:pt x="1857" y="45"/>
                            </a:lnTo>
                            <a:lnTo>
                              <a:pt x="1853" y="45"/>
                            </a:lnTo>
                            <a:lnTo>
                              <a:pt x="1848" y="45"/>
                            </a:lnTo>
                            <a:lnTo>
                              <a:pt x="1845" y="45"/>
                            </a:lnTo>
                            <a:lnTo>
                              <a:pt x="1842" y="45"/>
                            </a:lnTo>
                            <a:lnTo>
                              <a:pt x="1839" y="45"/>
                            </a:lnTo>
                            <a:lnTo>
                              <a:pt x="1836" y="45"/>
                            </a:lnTo>
                            <a:lnTo>
                              <a:pt x="1739" y="41"/>
                            </a:lnTo>
                            <a:lnTo>
                              <a:pt x="1723" y="31"/>
                            </a:lnTo>
                            <a:lnTo>
                              <a:pt x="1718" y="33"/>
                            </a:lnTo>
                            <a:lnTo>
                              <a:pt x="1713" y="33"/>
                            </a:lnTo>
                            <a:lnTo>
                              <a:pt x="1709" y="34"/>
                            </a:lnTo>
                            <a:lnTo>
                              <a:pt x="1704" y="34"/>
                            </a:lnTo>
                            <a:lnTo>
                              <a:pt x="1698" y="34"/>
                            </a:lnTo>
                            <a:lnTo>
                              <a:pt x="1689" y="34"/>
                            </a:lnTo>
                            <a:lnTo>
                              <a:pt x="1681" y="34"/>
                            </a:lnTo>
                            <a:lnTo>
                              <a:pt x="1672" y="34"/>
                            </a:lnTo>
                            <a:lnTo>
                              <a:pt x="1663" y="34"/>
                            </a:lnTo>
                            <a:lnTo>
                              <a:pt x="1651" y="34"/>
                            </a:lnTo>
                            <a:lnTo>
                              <a:pt x="1640" y="34"/>
                            </a:lnTo>
                            <a:lnTo>
                              <a:pt x="1628" y="33"/>
                            </a:lnTo>
                            <a:lnTo>
                              <a:pt x="1615" y="33"/>
                            </a:lnTo>
                            <a:lnTo>
                              <a:pt x="1602" y="31"/>
                            </a:lnTo>
                            <a:lnTo>
                              <a:pt x="1588" y="31"/>
                            </a:lnTo>
                            <a:lnTo>
                              <a:pt x="1573" y="31"/>
                            </a:lnTo>
                            <a:lnTo>
                              <a:pt x="1559" y="31"/>
                            </a:lnTo>
                            <a:lnTo>
                              <a:pt x="1542" y="30"/>
                            </a:lnTo>
                            <a:lnTo>
                              <a:pt x="1527" y="30"/>
                            </a:lnTo>
                            <a:lnTo>
                              <a:pt x="1510" y="29"/>
                            </a:lnTo>
                            <a:lnTo>
                              <a:pt x="1495" y="29"/>
                            </a:lnTo>
                            <a:lnTo>
                              <a:pt x="1476" y="27"/>
                            </a:lnTo>
                            <a:lnTo>
                              <a:pt x="1459" y="27"/>
                            </a:lnTo>
                            <a:lnTo>
                              <a:pt x="1441" y="26"/>
                            </a:lnTo>
                            <a:lnTo>
                              <a:pt x="1424" y="26"/>
                            </a:lnTo>
                            <a:lnTo>
                              <a:pt x="1406" y="25"/>
                            </a:lnTo>
                            <a:lnTo>
                              <a:pt x="1388" y="23"/>
                            </a:lnTo>
                            <a:lnTo>
                              <a:pt x="1369" y="23"/>
                            </a:lnTo>
                            <a:lnTo>
                              <a:pt x="1352" y="23"/>
                            </a:lnTo>
                            <a:lnTo>
                              <a:pt x="1334" y="20"/>
                            </a:lnTo>
                            <a:lnTo>
                              <a:pt x="1314" y="20"/>
                            </a:lnTo>
                            <a:lnTo>
                              <a:pt x="1296" y="19"/>
                            </a:lnTo>
                            <a:lnTo>
                              <a:pt x="1279" y="19"/>
                            </a:lnTo>
                            <a:lnTo>
                              <a:pt x="1259" y="16"/>
                            </a:lnTo>
                            <a:lnTo>
                              <a:pt x="1242" y="16"/>
                            </a:lnTo>
                            <a:lnTo>
                              <a:pt x="1224" y="15"/>
                            </a:lnTo>
                            <a:lnTo>
                              <a:pt x="1207" y="15"/>
                            </a:lnTo>
                            <a:lnTo>
                              <a:pt x="1189" y="14"/>
                            </a:lnTo>
                            <a:lnTo>
                              <a:pt x="1172" y="14"/>
                            </a:lnTo>
                            <a:lnTo>
                              <a:pt x="1155" y="12"/>
                            </a:lnTo>
                            <a:lnTo>
                              <a:pt x="1138" y="11"/>
                            </a:lnTo>
                            <a:lnTo>
                              <a:pt x="1121" y="9"/>
                            </a:lnTo>
                            <a:lnTo>
                              <a:pt x="1108" y="9"/>
                            </a:lnTo>
                            <a:lnTo>
                              <a:pt x="1091" y="8"/>
                            </a:lnTo>
                            <a:lnTo>
                              <a:pt x="1077" y="8"/>
                            </a:lnTo>
                            <a:lnTo>
                              <a:pt x="1063" y="7"/>
                            </a:lnTo>
                            <a:lnTo>
                              <a:pt x="1049" y="7"/>
                            </a:lnTo>
                            <a:lnTo>
                              <a:pt x="1036" y="5"/>
                            </a:lnTo>
                            <a:lnTo>
                              <a:pt x="1025" y="5"/>
                            </a:lnTo>
                            <a:lnTo>
                              <a:pt x="1013" y="4"/>
                            </a:lnTo>
                            <a:lnTo>
                              <a:pt x="1002" y="4"/>
                            </a:lnTo>
                            <a:lnTo>
                              <a:pt x="991" y="4"/>
                            </a:lnTo>
                            <a:lnTo>
                              <a:pt x="984" y="4"/>
                            </a:lnTo>
                            <a:lnTo>
                              <a:pt x="975" y="3"/>
                            </a:lnTo>
                            <a:lnTo>
                              <a:pt x="967" y="3"/>
                            </a:lnTo>
                            <a:lnTo>
                              <a:pt x="959" y="1"/>
                            </a:lnTo>
                            <a:lnTo>
                              <a:pt x="955" y="1"/>
                            </a:lnTo>
                            <a:lnTo>
                              <a:pt x="949" y="1"/>
                            </a:lnTo>
                            <a:lnTo>
                              <a:pt x="945" y="1"/>
                            </a:lnTo>
                            <a:lnTo>
                              <a:pt x="942" y="1"/>
                            </a:lnTo>
                            <a:lnTo>
                              <a:pt x="941" y="1"/>
                            </a:lnTo>
                            <a:lnTo>
                              <a:pt x="936" y="1"/>
                            </a:lnTo>
                            <a:lnTo>
                              <a:pt x="930" y="1"/>
                            </a:lnTo>
                            <a:lnTo>
                              <a:pt x="924" y="1"/>
                            </a:lnTo>
                            <a:lnTo>
                              <a:pt x="919" y="1"/>
                            </a:lnTo>
                            <a:lnTo>
                              <a:pt x="913" y="1"/>
                            </a:lnTo>
                            <a:lnTo>
                              <a:pt x="907" y="1"/>
                            </a:lnTo>
                            <a:lnTo>
                              <a:pt x="901" y="1"/>
                            </a:lnTo>
                            <a:lnTo>
                              <a:pt x="896" y="1"/>
                            </a:lnTo>
                            <a:lnTo>
                              <a:pt x="892" y="1"/>
                            </a:lnTo>
                            <a:lnTo>
                              <a:pt x="886" y="1"/>
                            </a:lnTo>
                            <a:lnTo>
                              <a:pt x="880" y="1"/>
                            </a:lnTo>
                            <a:lnTo>
                              <a:pt x="875" y="1"/>
                            </a:lnTo>
                            <a:lnTo>
                              <a:pt x="869" y="1"/>
                            </a:lnTo>
                            <a:lnTo>
                              <a:pt x="863" y="1"/>
                            </a:lnTo>
                            <a:lnTo>
                              <a:pt x="858" y="1"/>
                            </a:lnTo>
                            <a:lnTo>
                              <a:pt x="852" y="1"/>
                            </a:lnTo>
                            <a:lnTo>
                              <a:pt x="846" y="0"/>
                            </a:lnTo>
                            <a:lnTo>
                              <a:pt x="840" y="0"/>
                            </a:lnTo>
                            <a:lnTo>
                              <a:pt x="834" y="0"/>
                            </a:lnTo>
                            <a:lnTo>
                              <a:pt x="828" y="0"/>
                            </a:lnTo>
                            <a:lnTo>
                              <a:pt x="822" y="0"/>
                            </a:lnTo>
                            <a:lnTo>
                              <a:pt x="815" y="0"/>
                            </a:lnTo>
                            <a:lnTo>
                              <a:pt x="811" y="0"/>
                            </a:lnTo>
                            <a:lnTo>
                              <a:pt x="805" y="0"/>
                            </a:lnTo>
                            <a:lnTo>
                              <a:pt x="799" y="0"/>
                            </a:lnTo>
                            <a:lnTo>
                              <a:pt x="792" y="0"/>
                            </a:lnTo>
                            <a:lnTo>
                              <a:pt x="788" y="0"/>
                            </a:lnTo>
                            <a:lnTo>
                              <a:pt x="782" y="0"/>
                            </a:lnTo>
                            <a:lnTo>
                              <a:pt x="776" y="0"/>
                            </a:lnTo>
                            <a:lnTo>
                              <a:pt x="770" y="0"/>
                            </a:lnTo>
                            <a:lnTo>
                              <a:pt x="765" y="0"/>
                            </a:lnTo>
                            <a:lnTo>
                              <a:pt x="759" y="0"/>
                            </a:lnTo>
                            <a:lnTo>
                              <a:pt x="753" y="0"/>
                            </a:lnTo>
                            <a:lnTo>
                              <a:pt x="747" y="0"/>
                            </a:lnTo>
                            <a:lnTo>
                              <a:pt x="740" y="0"/>
                            </a:lnTo>
                            <a:lnTo>
                              <a:pt x="734" y="0"/>
                            </a:lnTo>
                            <a:lnTo>
                              <a:pt x="728" y="0"/>
                            </a:lnTo>
                            <a:lnTo>
                              <a:pt x="724" y="0"/>
                            </a:lnTo>
                            <a:lnTo>
                              <a:pt x="718" y="0"/>
                            </a:lnTo>
                            <a:lnTo>
                              <a:pt x="711" y="0"/>
                            </a:lnTo>
                            <a:lnTo>
                              <a:pt x="705" y="0"/>
                            </a:lnTo>
                            <a:lnTo>
                              <a:pt x="699" y="0"/>
                            </a:lnTo>
                            <a:lnTo>
                              <a:pt x="693" y="0"/>
                            </a:lnTo>
                            <a:lnTo>
                              <a:pt x="688" y="1"/>
                            </a:lnTo>
                            <a:lnTo>
                              <a:pt x="682" y="1"/>
                            </a:lnTo>
                            <a:lnTo>
                              <a:pt x="676" y="1"/>
                            </a:lnTo>
                            <a:lnTo>
                              <a:pt x="672" y="3"/>
                            </a:lnTo>
                            <a:lnTo>
                              <a:pt x="666" y="3"/>
                            </a:lnTo>
                            <a:lnTo>
                              <a:pt x="659" y="3"/>
                            </a:lnTo>
                            <a:lnTo>
                              <a:pt x="653" y="3"/>
                            </a:lnTo>
                            <a:lnTo>
                              <a:pt x="649" y="4"/>
                            </a:lnTo>
                            <a:lnTo>
                              <a:pt x="643" y="4"/>
                            </a:lnTo>
                            <a:lnTo>
                              <a:pt x="636" y="4"/>
                            </a:lnTo>
                            <a:lnTo>
                              <a:pt x="630" y="4"/>
                            </a:lnTo>
                            <a:lnTo>
                              <a:pt x="626" y="5"/>
                            </a:lnTo>
                            <a:lnTo>
                              <a:pt x="621" y="7"/>
                            </a:lnTo>
                            <a:lnTo>
                              <a:pt x="615" y="7"/>
                            </a:lnTo>
                            <a:lnTo>
                              <a:pt x="609" y="8"/>
                            </a:lnTo>
                            <a:lnTo>
                              <a:pt x="604" y="8"/>
                            </a:lnTo>
                            <a:lnTo>
                              <a:pt x="598" y="9"/>
                            </a:lnTo>
                            <a:lnTo>
                              <a:pt x="594" y="9"/>
                            </a:lnTo>
                            <a:lnTo>
                              <a:pt x="588" y="11"/>
                            </a:lnTo>
                            <a:lnTo>
                              <a:pt x="583" y="12"/>
                            </a:lnTo>
                            <a:lnTo>
                              <a:pt x="578" y="14"/>
                            </a:lnTo>
                            <a:lnTo>
                              <a:pt x="575" y="14"/>
                            </a:lnTo>
                            <a:lnTo>
                              <a:pt x="572" y="14"/>
                            </a:lnTo>
                            <a:lnTo>
                              <a:pt x="566" y="15"/>
                            </a:lnTo>
                            <a:lnTo>
                              <a:pt x="561" y="15"/>
                            </a:lnTo>
                            <a:lnTo>
                              <a:pt x="557" y="15"/>
                            </a:lnTo>
                            <a:lnTo>
                              <a:pt x="554" y="15"/>
                            </a:lnTo>
                            <a:lnTo>
                              <a:pt x="549" y="16"/>
                            </a:lnTo>
                            <a:lnTo>
                              <a:pt x="546" y="16"/>
                            </a:lnTo>
                            <a:lnTo>
                              <a:pt x="543" y="16"/>
                            </a:lnTo>
                            <a:lnTo>
                              <a:pt x="539" y="16"/>
                            </a:lnTo>
                            <a:lnTo>
                              <a:pt x="535" y="16"/>
                            </a:lnTo>
                            <a:lnTo>
                              <a:pt x="531" y="18"/>
                            </a:lnTo>
                            <a:lnTo>
                              <a:pt x="528" y="18"/>
                            </a:lnTo>
                            <a:lnTo>
                              <a:pt x="523" y="18"/>
                            </a:lnTo>
                            <a:lnTo>
                              <a:pt x="520" y="18"/>
                            </a:lnTo>
                            <a:lnTo>
                              <a:pt x="516" y="18"/>
                            </a:lnTo>
                            <a:lnTo>
                              <a:pt x="513" y="18"/>
                            </a:lnTo>
                            <a:lnTo>
                              <a:pt x="508" y="18"/>
                            </a:lnTo>
                            <a:lnTo>
                              <a:pt x="505" y="18"/>
                            </a:lnTo>
                            <a:lnTo>
                              <a:pt x="503" y="19"/>
                            </a:lnTo>
                            <a:lnTo>
                              <a:pt x="497" y="18"/>
                            </a:lnTo>
                            <a:lnTo>
                              <a:pt x="493" y="18"/>
                            </a:lnTo>
                            <a:lnTo>
                              <a:pt x="49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Freeform 124"/>
                      <p:cNvSpPr/>
                      <p:nvPr/>
                    </p:nvSpPr>
                    <p:spPr>
                      <a:xfrm>
                        <a:off x="2997360" y="2678040"/>
                        <a:ext cx="25920" cy="108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080"/>
                          <a:gd name="textAreaBottom" fmla="*/ 1440 h 1080"/>
                        </a:gdLst>
                        <a:ahLst/>
                        <a:rect l="textAreaLeft" t="textAreaTop" r="textAreaRight" b="textAreaBottom"/>
                        <a:pathLst>
                          <a:path w="288" h="14">
                            <a:moveTo>
                              <a:pt x="286" y="0"/>
                            </a:moveTo>
                            <a:lnTo>
                              <a:pt x="280" y="0"/>
                            </a:lnTo>
                            <a:lnTo>
                              <a:pt x="274" y="0"/>
                            </a:lnTo>
                            <a:lnTo>
                              <a:pt x="268" y="0"/>
                            </a:lnTo>
                            <a:lnTo>
                              <a:pt x="263" y="0"/>
                            </a:lnTo>
                            <a:lnTo>
                              <a:pt x="257" y="0"/>
                            </a:lnTo>
                            <a:lnTo>
                              <a:pt x="251" y="0"/>
                            </a:lnTo>
                            <a:lnTo>
                              <a:pt x="245" y="0"/>
                            </a:lnTo>
                            <a:lnTo>
                              <a:pt x="240" y="0"/>
                            </a:lnTo>
                            <a:lnTo>
                              <a:pt x="233" y="0"/>
                            </a:lnTo>
                            <a:lnTo>
                              <a:pt x="228" y="0"/>
                            </a:lnTo>
                            <a:lnTo>
                              <a:pt x="222" y="0"/>
                            </a:lnTo>
                            <a:lnTo>
                              <a:pt x="216" y="0"/>
                            </a:lnTo>
                            <a:lnTo>
                              <a:pt x="210" y="0"/>
                            </a:lnTo>
                            <a:lnTo>
                              <a:pt x="205" y="2"/>
                            </a:lnTo>
                            <a:lnTo>
                              <a:pt x="199" y="2"/>
                            </a:lnTo>
                            <a:lnTo>
                              <a:pt x="193" y="2"/>
                            </a:lnTo>
                            <a:lnTo>
                              <a:pt x="187" y="2"/>
                            </a:lnTo>
                            <a:lnTo>
                              <a:pt x="181" y="2"/>
                            </a:lnTo>
                            <a:lnTo>
                              <a:pt x="174" y="3"/>
                            </a:lnTo>
                            <a:lnTo>
                              <a:pt x="170" y="3"/>
                            </a:lnTo>
                            <a:lnTo>
                              <a:pt x="164" y="3"/>
                            </a:lnTo>
                            <a:lnTo>
                              <a:pt x="158" y="3"/>
                            </a:lnTo>
                            <a:lnTo>
                              <a:pt x="152" y="3"/>
                            </a:lnTo>
                            <a:lnTo>
                              <a:pt x="145" y="4"/>
                            </a:lnTo>
                            <a:lnTo>
                              <a:pt x="139" y="4"/>
                            </a:lnTo>
                            <a:lnTo>
                              <a:pt x="135" y="4"/>
                            </a:lnTo>
                            <a:lnTo>
                              <a:pt x="127" y="4"/>
                            </a:lnTo>
                            <a:lnTo>
                              <a:pt x="122" y="6"/>
                            </a:lnTo>
                            <a:lnTo>
                              <a:pt x="116" y="6"/>
                            </a:lnTo>
                            <a:lnTo>
                              <a:pt x="110" y="6"/>
                            </a:lnTo>
                            <a:lnTo>
                              <a:pt x="104" y="6"/>
                            </a:lnTo>
                            <a:lnTo>
                              <a:pt x="100" y="6"/>
                            </a:lnTo>
                            <a:lnTo>
                              <a:pt x="31" y="8"/>
                            </a:lnTo>
                            <a:lnTo>
                              <a:pt x="11" y="11"/>
                            </a:lnTo>
                            <a:lnTo>
                              <a:pt x="3" y="11"/>
                            </a:lnTo>
                            <a:lnTo>
                              <a:pt x="2" y="11"/>
                            </a:lnTo>
                            <a:lnTo>
                              <a:pt x="0" y="12"/>
                            </a:lnTo>
                            <a:lnTo>
                              <a:pt x="2" y="12"/>
                            </a:lnTo>
                            <a:lnTo>
                              <a:pt x="6" y="14"/>
                            </a:lnTo>
                            <a:lnTo>
                              <a:pt x="9" y="14"/>
                            </a:lnTo>
                            <a:lnTo>
                              <a:pt x="14" y="14"/>
                            </a:lnTo>
                            <a:lnTo>
                              <a:pt x="17" y="14"/>
                            </a:lnTo>
                            <a:lnTo>
                              <a:pt x="22" y="14"/>
                            </a:lnTo>
                            <a:lnTo>
                              <a:pt x="25" y="12"/>
                            </a:lnTo>
                            <a:lnTo>
                              <a:pt x="28" y="12"/>
                            </a:lnTo>
                            <a:lnTo>
                              <a:pt x="31" y="12"/>
                            </a:lnTo>
                            <a:lnTo>
                              <a:pt x="35" y="12"/>
                            </a:lnTo>
                            <a:lnTo>
                              <a:pt x="40" y="12"/>
                            </a:lnTo>
                            <a:lnTo>
                              <a:pt x="43" y="12"/>
                            </a:lnTo>
                            <a:lnTo>
                              <a:pt x="48" y="12"/>
                            </a:lnTo>
                            <a:lnTo>
                              <a:pt x="54" y="12"/>
                            </a:lnTo>
                            <a:lnTo>
                              <a:pt x="58" y="12"/>
                            </a:lnTo>
                            <a:lnTo>
                              <a:pt x="64" y="12"/>
                            </a:lnTo>
                            <a:lnTo>
                              <a:pt x="69" y="12"/>
                            </a:lnTo>
                            <a:lnTo>
                              <a:pt x="75" y="12"/>
                            </a:lnTo>
                            <a:lnTo>
                              <a:pt x="80" y="12"/>
                            </a:lnTo>
                            <a:lnTo>
                              <a:pt x="86" y="12"/>
                            </a:lnTo>
                            <a:lnTo>
                              <a:pt x="90" y="11"/>
                            </a:lnTo>
                            <a:lnTo>
                              <a:pt x="96" y="11"/>
                            </a:lnTo>
                            <a:lnTo>
                              <a:pt x="101" y="11"/>
                            </a:lnTo>
                            <a:lnTo>
                              <a:pt x="107" y="11"/>
                            </a:lnTo>
                            <a:lnTo>
                              <a:pt x="112" y="11"/>
                            </a:lnTo>
                            <a:lnTo>
                              <a:pt x="118" y="11"/>
                            </a:lnTo>
                            <a:lnTo>
                              <a:pt x="122" y="11"/>
                            </a:lnTo>
                            <a:lnTo>
                              <a:pt x="129" y="11"/>
                            </a:lnTo>
                            <a:lnTo>
                              <a:pt x="135" y="11"/>
                            </a:lnTo>
                            <a:lnTo>
                              <a:pt x="139" y="11"/>
                            </a:lnTo>
                            <a:lnTo>
                              <a:pt x="144" y="10"/>
                            </a:lnTo>
                            <a:lnTo>
                              <a:pt x="150" y="10"/>
                            </a:lnTo>
                            <a:lnTo>
                              <a:pt x="155" y="10"/>
                            </a:lnTo>
                            <a:lnTo>
                              <a:pt x="161" y="10"/>
                            </a:lnTo>
                            <a:lnTo>
                              <a:pt x="165" y="10"/>
                            </a:lnTo>
                            <a:lnTo>
                              <a:pt x="171" y="10"/>
                            </a:lnTo>
                            <a:lnTo>
                              <a:pt x="176" y="8"/>
                            </a:lnTo>
                            <a:lnTo>
                              <a:pt x="182" y="8"/>
                            </a:lnTo>
                            <a:lnTo>
                              <a:pt x="187" y="8"/>
                            </a:lnTo>
                            <a:lnTo>
                              <a:pt x="193" y="8"/>
                            </a:lnTo>
                            <a:lnTo>
                              <a:pt x="199" y="8"/>
                            </a:lnTo>
                            <a:lnTo>
                              <a:pt x="204" y="8"/>
                            </a:lnTo>
                            <a:lnTo>
                              <a:pt x="210" y="8"/>
                            </a:lnTo>
                            <a:lnTo>
                              <a:pt x="216" y="8"/>
                            </a:lnTo>
                            <a:lnTo>
                              <a:pt x="219" y="8"/>
                            </a:lnTo>
                            <a:lnTo>
                              <a:pt x="223" y="8"/>
                            </a:lnTo>
                            <a:lnTo>
                              <a:pt x="226" y="8"/>
                            </a:lnTo>
                            <a:lnTo>
                              <a:pt x="230" y="8"/>
                            </a:lnTo>
                            <a:lnTo>
                              <a:pt x="234" y="8"/>
                            </a:lnTo>
                            <a:lnTo>
                              <a:pt x="237" y="8"/>
                            </a:lnTo>
                            <a:lnTo>
                              <a:pt x="242" y="8"/>
                            </a:lnTo>
                            <a:lnTo>
                              <a:pt x="246" y="8"/>
                            </a:lnTo>
                            <a:lnTo>
                              <a:pt x="249" y="8"/>
                            </a:lnTo>
                            <a:lnTo>
                              <a:pt x="254" y="8"/>
                            </a:lnTo>
                            <a:lnTo>
                              <a:pt x="257" y="8"/>
                            </a:lnTo>
                            <a:lnTo>
                              <a:pt x="262" y="8"/>
                            </a:lnTo>
                            <a:lnTo>
                              <a:pt x="265" y="8"/>
                            </a:lnTo>
                            <a:lnTo>
                              <a:pt x="269" y="8"/>
                            </a:lnTo>
                            <a:lnTo>
                              <a:pt x="274" y="8"/>
                            </a:lnTo>
                            <a:lnTo>
                              <a:pt x="279" y="8"/>
                            </a:lnTo>
                            <a:lnTo>
                              <a:pt x="282" y="7"/>
                            </a:lnTo>
                            <a:lnTo>
                              <a:pt x="285" y="4"/>
                            </a:lnTo>
                            <a:lnTo>
                              <a:pt x="288" y="2"/>
                            </a:lnTo>
                            <a:lnTo>
                              <a:pt x="28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Freeform 125"/>
                      <p:cNvSpPr/>
                      <p:nvPr/>
                    </p:nvSpPr>
                    <p:spPr>
                      <a:xfrm>
                        <a:off x="3042720" y="2682000"/>
                        <a:ext cx="22320" cy="216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248" h="25">
                            <a:moveTo>
                              <a:pt x="248" y="25"/>
                            </a:moveTo>
                            <a:lnTo>
                              <a:pt x="244" y="25"/>
                            </a:lnTo>
                            <a:lnTo>
                              <a:pt x="237" y="25"/>
                            </a:lnTo>
                            <a:lnTo>
                              <a:pt x="233" y="23"/>
                            </a:lnTo>
                            <a:lnTo>
                              <a:pt x="227" y="23"/>
                            </a:lnTo>
                            <a:lnTo>
                              <a:pt x="224" y="22"/>
                            </a:lnTo>
                            <a:lnTo>
                              <a:pt x="219" y="22"/>
                            </a:lnTo>
                            <a:lnTo>
                              <a:pt x="216" y="22"/>
                            </a:lnTo>
                            <a:lnTo>
                              <a:pt x="213" y="22"/>
                            </a:lnTo>
                            <a:lnTo>
                              <a:pt x="208" y="21"/>
                            </a:lnTo>
                            <a:lnTo>
                              <a:pt x="205" y="21"/>
                            </a:lnTo>
                            <a:lnTo>
                              <a:pt x="201" y="21"/>
                            </a:lnTo>
                            <a:lnTo>
                              <a:pt x="198" y="21"/>
                            </a:lnTo>
                            <a:lnTo>
                              <a:pt x="193" y="21"/>
                            </a:lnTo>
                            <a:lnTo>
                              <a:pt x="188" y="19"/>
                            </a:lnTo>
                            <a:lnTo>
                              <a:pt x="184" y="19"/>
                            </a:lnTo>
                            <a:lnTo>
                              <a:pt x="179" y="19"/>
                            </a:lnTo>
                            <a:lnTo>
                              <a:pt x="175" y="18"/>
                            </a:lnTo>
                            <a:lnTo>
                              <a:pt x="172" y="18"/>
                            </a:lnTo>
                            <a:lnTo>
                              <a:pt x="166" y="18"/>
                            </a:lnTo>
                            <a:lnTo>
                              <a:pt x="162" y="18"/>
                            </a:lnTo>
                            <a:lnTo>
                              <a:pt x="158" y="16"/>
                            </a:lnTo>
                            <a:lnTo>
                              <a:pt x="153" y="16"/>
                            </a:lnTo>
                            <a:lnTo>
                              <a:pt x="149" y="15"/>
                            </a:lnTo>
                            <a:lnTo>
                              <a:pt x="144" y="15"/>
                            </a:lnTo>
                            <a:lnTo>
                              <a:pt x="138" y="15"/>
                            </a:lnTo>
                            <a:lnTo>
                              <a:pt x="135" y="15"/>
                            </a:lnTo>
                            <a:lnTo>
                              <a:pt x="129" y="15"/>
                            </a:lnTo>
                            <a:lnTo>
                              <a:pt x="124" y="15"/>
                            </a:lnTo>
                            <a:lnTo>
                              <a:pt x="120" y="14"/>
                            </a:lnTo>
                            <a:lnTo>
                              <a:pt x="115" y="14"/>
                            </a:lnTo>
                            <a:lnTo>
                              <a:pt x="110" y="12"/>
                            </a:lnTo>
                            <a:lnTo>
                              <a:pt x="106" y="12"/>
                            </a:lnTo>
                            <a:lnTo>
                              <a:pt x="100" y="12"/>
                            </a:lnTo>
                            <a:lnTo>
                              <a:pt x="97" y="12"/>
                            </a:lnTo>
                            <a:lnTo>
                              <a:pt x="91" y="11"/>
                            </a:lnTo>
                            <a:lnTo>
                              <a:pt x="86" y="11"/>
                            </a:lnTo>
                            <a:lnTo>
                              <a:pt x="81" y="11"/>
                            </a:lnTo>
                            <a:lnTo>
                              <a:pt x="77" y="10"/>
                            </a:lnTo>
                            <a:lnTo>
                              <a:pt x="72" y="10"/>
                            </a:lnTo>
                            <a:lnTo>
                              <a:pt x="68" y="10"/>
                            </a:lnTo>
                            <a:lnTo>
                              <a:pt x="63" y="8"/>
                            </a:lnTo>
                            <a:lnTo>
                              <a:pt x="58" y="8"/>
                            </a:lnTo>
                            <a:lnTo>
                              <a:pt x="55" y="8"/>
                            </a:lnTo>
                            <a:lnTo>
                              <a:pt x="52" y="8"/>
                            </a:lnTo>
                            <a:lnTo>
                              <a:pt x="48" y="8"/>
                            </a:lnTo>
                            <a:lnTo>
                              <a:pt x="43" y="7"/>
                            </a:lnTo>
                            <a:lnTo>
                              <a:pt x="39" y="7"/>
                            </a:lnTo>
                            <a:lnTo>
                              <a:pt x="35" y="7"/>
                            </a:lnTo>
                            <a:lnTo>
                              <a:pt x="32" y="5"/>
                            </a:lnTo>
                            <a:lnTo>
                              <a:pt x="28" y="5"/>
                            </a:lnTo>
                            <a:lnTo>
                              <a:pt x="25" y="5"/>
                            </a:lnTo>
                            <a:lnTo>
                              <a:pt x="22" y="5"/>
                            </a:lnTo>
                            <a:lnTo>
                              <a:pt x="16" y="5"/>
                            </a:lnTo>
                            <a:lnTo>
                              <a:pt x="9" y="5"/>
                            </a:lnTo>
                            <a:lnTo>
                              <a:pt x="5" y="4"/>
                            </a:lnTo>
                            <a:lnTo>
                              <a:pt x="0" y="4"/>
                            </a:lnTo>
                            <a:lnTo>
                              <a:pt x="3" y="4"/>
                            </a:lnTo>
                            <a:lnTo>
                              <a:pt x="8" y="4"/>
                            </a:lnTo>
                            <a:lnTo>
                              <a:pt x="13" y="4"/>
                            </a:lnTo>
                            <a:lnTo>
                              <a:pt x="19" y="4"/>
                            </a:lnTo>
                            <a:lnTo>
                              <a:pt x="20" y="3"/>
                            </a:lnTo>
                            <a:lnTo>
                              <a:pt x="23" y="3"/>
                            </a:lnTo>
                            <a:lnTo>
                              <a:pt x="26" y="3"/>
                            </a:lnTo>
                            <a:lnTo>
                              <a:pt x="31" y="3"/>
                            </a:lnTo>
                            <a:lnTo>
                              <a:pt x="34" y="3"/>
                            </a:lnTo>
                            <a:lnTo>
                              <a:pt x="37" y="3"/>
                            </a:lnTo>
                            <a:lnTo>
                              <a:pt x="42" y="3"/>
                            </a:lnTo>
                            <a:lnTo>
                              <a:pt x="45" y="3"/>
                            </a:lnTo>
                            <a:lnTo>
                              <a:pt x="49" y="3"/>
                            </a:lnTo>
                            <a:lnTo>
                              <a:pt x="52" y="3"/>
                            </a:lnTo>
                            <a:lnTo>
                              <a:pt x="55" y="3"/>
                            </a:lnTo>
                            <a:lnTo>
                              <a:pt x="60" y="3"/>
                            </a:lnTo>
                            <a:lnTo>
                              <a:pt x="63" y="3"/>
                            </a:lnTo>
                            <a:lnTo>
                              <a:pt x="68" y="3"/>
                            </a:lnTo>
                            <a:lnTo>
                              <a:pt x="72" y="3"/>
                            </a:lnTo>
                            <a:lnTo>
                              <a:pt x="77" y="3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91" y="1"/>
                            </a:lnTo>
                            <a:lnTo>
                              <a:pt x="95" y="1"/>
                            </a:lnTo>
                            <a:lnTo>
                              <a:pt x="100" y="1"/>
                            </a:lnTo>
                            <a:lnTo>
                              <a:pt x="104" y="1"/>
                            </a:lnTo>
                            <a:lnTo>
                              <a:pt x="109" y="1"/>
                            </a:lnTo>
                            <a:lnTo>
                              <a:pt x="113" y="1"/>
                            </a:lnTo>
                            <a:lnTo>
                              <a:pt x="118" y="1"/>
                            </a:lnTo>
                            <a:lnTo>
                              <a:pt x="123" y="1"/>
                            </a:lnTo>
                            <a:lnTo>
                              <a:pt x="126" y="1"/>
                            </a:lnTo>
                            <a:lnTo>
                              <a:pt x="132" y="1"/>
                            </a:lnTo>
                            <a:lnTo>
                              <a:pt x="135" y="0"/>
                            </a:lnTo>
                            <a:lnTo>
                              <a:pt x="140" y="0"/>
                            </a:lnTo>
                            <a:lnTo>
                              <a:pt x="144" y="0"/>
                            </a:lnTo>
                            <a:lnTo>
                              <a:pt x="149" y="0"/>
                            </a:lnTo>
                            <a:lnTo>
                              <a:pt x="152" y="0"/>
                            </a:lnTo>
                            <a:lnTo>
                              <a:pt x="156" y="0"/>
                            </a:lnTo>
                            <a:lnTo>
                              <a:pt x="161" y="0"/>
                            </a:lnTo>
                            <a:lnTo>
                              <a:pt x="166" y="0"/>
                            </a:lnTo>
                            <a:lnTo>
                              <a:pt x="169" y="0"/>
                            </a:lnTo>
                            <a:lnTo>
                              <a:pt x="173" y="0"/>
                            </a:lnTo>
                            <a:lnTo>
                              <a:pt x="178" y="0"/>
                            </a:lnTo>
                            <a:lnTo>
                              <a:pt x="182" y="0"/>
                            </a:lnTo>
                            <a:lnTo>
                              <a:pt x="185" y="0"/>
                            </a:lnTo>
                            <a:lnTo>
                              <a:pt x="188" y="0"/>
                            </a:lnTo>
                            <a:lnTo>
                              <a:pt x="192" y="0"/>
                            </a:lnTo>
                            <a:lnTo>
                              <a:pt x="196" y="0"/>
                            </a:lnTo>
                            <a:lnTo>
                              <a:pt x="202" y="0"/>
                            </a:lnTo>
                            <a:lnTo>
                              <a:pt x="208" y="0"/>
                            </a:lnTo>
                            <a:lnTo>
                              <a:pt x="213" y="0"/>
                            </a:lnTo>
                            <a:lnTo>
                              <a:pt x="218" y="1"/>
                            </a:lnTo>
                            <a:lnTo>
                              <a:pt x="221" y="1"/>
                            </a:lnTo>
                            <a:lnTo>
                              <a:pt x="225" y="3"/>
                            </a:lnTo>
                            <a:lnTo>
                              <a:pt x="230" y="3"/>
                            </a:lnTo>
                            <a:lnTo>
                              <a:pt x="233" y="5"/>
                            </a:lnTo>
                            <a:lnTo>
                              <a:pt x="234" y="8"/>
                            </a:lnTo>
                            <a:lnTo>
                              <a:pt x="237" y="12"/>
                            </a:lnTo>
                            <a:lnTo>
                              <a:pt x="239" y="16"/>
                            </a:lnTo>
                            <a:lnTo>
                              <a:pt x="240" y="19"/>
                            </a:lnTo>
                            <a:lnTo>
                              <a:pt x="244" y="22"/>
                            </a:lnTo>
                            <a:lnTo>
                              <a:pt x="248" y="2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6" name="Freeform 126"/>
                      <p:cNvSpPr/>
                      <p:nvPr/>
                    </p:nvSpPr>
                    <p:spPr>
                      <a:xfrm>
                        <a:off x="2999520" y="2683800"/>
                        <a:ext cx="2880" cy="72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35" h="8">
                            <a:moveTo>
                              <a:pt x="8" y="1"/>
                            </a:moveTo>
                            <a:lnTo>
                              <a:pt x="0" y="8"/>
                            </a:lnTo>
                            <a:lnTo>
                              <a:pt x="3" y="7"/>
                            </a:lnTo>
                            <a:lnTo>
                              <a:pt x="6" y="6"/>
                            </a:lnTo>
                            <a:lnTo>
                              <a:pt x="9" y="6"/>
                            </a:lnTo>
                            <a:lnTo>
                              <a:pt x="12" y="6"/>
                            </a:lnTo>
                            <a:lnTo>
                              <a:pt x="18" y="6"/>
                            </a:lnTo>
                            <a:lnTo>
                              <a:pt x="23" y="6"/>
                            </a:lnTo>
                            <a:lnTo>
                              <a:pt x="28" y="6"/>
                            </a:lnTo>
                            <a:lnTo>
                              <a:pt x="32" y="6"/>
                            </a:lnTo>
                            <a:lnTo>
                              <a:pt x="35" y="4"/>
                            </a:lnTo>
                            <a:lnTo>
                              <a:pt x="34" y="3"/>
                            </a:lnTo>
                            <a:lnTo>
                              <a:pt x="31" y="3"/>
                            </a:lnTo>
                            <a:lnTo>
                              <a:pt x="26" y="1"/>
                            </a:ln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11" y="0"/>
                            </a:lnTo>
                            <a:lnTo>
                              <a:pt x="8" y="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7" name="Freeform 127"/>
                      <p:cNvSpPr/>
                      <p:nvPr/>
                    </p:nvSpPr>
                    <p:spPr>
                      <a:xfrm>
                        <a:off x="2998080" y="2643840"/>
                        <a:ext cx="23760" cy="1440"/>
                      </a:xfrm>
                      <a:custGeom>
                        <a:avLst/>
                        <a:gdLst>
                          <a:gd name="textAreaLeft" fmla="*/ 0 w 23760"/>
                          <a:gd name="textAreaRight" fmla="*/ 24120 w 23760"/>
                          <a:gd name="textAreaTop" fmla="*/ 0 h 1440"/>
                          <a:gd name="textAreaBottom" fmla="*/ 1800 h 1440"/>
                        </a:gdLst>
                        <a:ahLst/>
                        <a:rect l="textAreaLeft" t="textAreaTop" r="textAreaRight" b="textAreaBottom"/>
                        <a:pathLst>
                          <a:path w="264" h="14">
                            <a:moveTo>
                              <a:pt x="255" y="7"/>
                            </a:moveTo>
                            <a:lnTo>
                              <a:pt x="258" y="6"/>
                            </a:lnTo>
                            <a:lnTo>
                              <a:pt x="263" y="4"/>
                            </a:lnTo>
                            <a:lnTo>
                              <a:pt x="264" y="0"/>
                            </a:lnTo>
                            <a:lnTo>
                              <a:pt x="263" y="0"/>
                            </a:lnTo>
                            <a:lnTo>
                              <a:pt x="260" y="0"/>
                            </a:lnTo>
                            <a:lnTo>
                              <a:pt x="255" y="0"/>
                            </a:lnTo>
                            <a:lnTo>
                              <a:pt x="252" y="0"/>
                            </a:lnTo>
                            <a:lnTo>
                              <a:pt x="249" y="0"/>
                            </a:lnTo>
                            <a:lnTo>
                              <a:pt x="243" y="0"/>
                            </a:lnTo>
                            <a:lnTo>
                              <a:pt x="235" y="0"/>
                            </a:lnTo>
                            <a:lnTo>
                              <a:pt x="232" y="0"/>
                            </a:lnTo>
                            <a:lnTo>
                              <a:pt x="229" y="0"/>
                            </a:lnTo>
                            <a:lnTo>
                              <a:pt x="225" y="0"/>
                            </a:lnTo>
                            <a:lnTo>
                              <a:pt x="222" y="0"/>
                            </a:lnTo>
                            <a:lnTo>
                              <a:pt x="215" y="0"/>
                            </a:lnTo>
                            <a:lnTo>
                              <a:pt x="209" y="0"/>
                            </a:lnTo>
                            <a:lnTo>
                              <a:pt x="205" y="0"/>
                            </a:lnTo>
                            <a:lnTo>
                              <a:pt x="202" y="0"/>
                            </a:lnTo>
                            <a:lnTo>
                              <a:pt x="199" y="0"/>
                            </a:lnTo>
                            <a:lnTo>
                              <a:pt x="196" y="0"/>
                            </a:lnTo>
                            <a:lnTo>
                              <a:pt x="188" y="0"/>
                            </a:lnTo>
                            <a:lnTo>
                              <a:pt x="182" y="1"/>
                            </a:lnTo>
                            <a:lnTo>
                              <a:pt x="179" y="1"/>
                            </a:lnTo>
                            <a:lnTo>
                              <a:pt x="174" y="1"/>
                            </a:lnTo>
                            <a:lnTo>
                              <a:pt x="171" y="1"/>
                            </a:lnTo>
                            <a:lnTo>
                              <a:pt x="168" y="1"/>
                            </a:lnTo>
                            <a:lnTo>
                              <a:pt x="162" y="1"/>
                            </a:lnTo>
                            <a:lnTo>
                              <a:pt x="156" y="3"/>
                            </a:lnTo>
                            <a:lnTo>
                              <a:pt x="151" y="3"/>
                            </a:lnTo>
                            <a:lnTo>
                              <a:pt x="148" y="3"/>
                            </a:lnTo>
                            <a:lnTo>
                              <a:pt x="145" y="3"/>
                            </a:lnTo>
                            <a:lnTo>
                              <a:pt x="142" y="3"/>
                            </a:lnTo>
                            <a:lnTo>
                              <a:pt x="137" y="3"/>
                            </a:lnTo>
                            <a:lnTo>
                              <a:pt x="134" y="3"/>
                            </a:lnTo>
                            <a:lnTo>
                              <a:pt x="131" y="3"/>
                            </a:lnTo>
                            <a:lnTo>
                              <a:pt x="128" y="4"/>
                            </a:lnTo>
                            <a:lnTo>
                              <a:pt x="124" y="4"/>
                            </a:lnTo>
                            <a:lnTo>
                              <a:pt x="121" y="4"/>
                            </a:lnTo>
                            <a:lnTo>
                              <a:pt x="118" y="4"/>
                            </a:lnTo>
                            <a:lnTo>
                              <a:pt x="114" y="4"/>
                            </a:lnTo>
                            <a:lnTo>
                              <a:pt x="107" y="4"/>
                            </a:lnTo>
                            <a:lnTo>
                              <a:pt x="101" y="4"/>
                            </a:lnTo>
                            <a:lnTo>
                              <a:pt x="98" y="4"/>
                            </a:lnTo>
                            <a:lnTo>
                              <a:pt x="95" y="4"/>
                            </a:lnTo>
                            <a:lnTo>
                              <a:pt x="90" y="4"/>
                            </a:lnTo>
                            <a:lnTo>
                              <a:pt x="87" y="4"/>
                            </a:lnTo>
                            <a:lnTo>
                              <a:pt x="81" y="6"/>
                            </a:lnTo>
                            <a:lnTo>
                              <a:pt x="75" y="6"/>
                            </a:lnTo>
                            <a:lnTo>
                              <a:pt x="67" y="6"/>
                            </a:lnTo>
                            <a:lnTo>
                              <a:pt x="61" y="6"/>
                            </a:lnTo>
                            <a:lnTo>
                              <a:pt x="53" y="7"/>
                            </a:lnTo>
                            <a:lnTo>
                              <a:pt x="47" y="7"/>
                            </a:lnTo>
                            <a:lnTo>
                              <a:pt x="14" y="11"/>
                            </a:lnTo>
                            <a:lnTo>
                              <a:pt x="3" y="11"/>
                            </a:lnTo>
                            <a:lnTo>
                              <a:pt x="0" y="11"/>
                            </a:lnTo>
                            <a:lnTo>
                              <a:pt x="0" y="14"/>
                            </a:lnTo>
                            <a:lnTo>
                              <a:pt x="0" y="12"/>
                            </a:lnTo>
                            <a:lnTo>
                              <a:pt x="3" y="12"/>
                            </a:lnTo>
                            <a:lnTo>
                              <a:pt x="6" y="12"/>
                            </a:lnTo>
                            <a:lnTo>
                              <a:pt x="10" y="12"/>
                            </a:lnTo>
                            <a:lnTo>
                              <a:pt x="17" y="12"/>
                            </a:lnTo>
                            <a:lnTo>
                              <a:pt x="23" y="12"/>
                            </a:lnTo>
                            <a:lnTo>
                              <a:pt x="27" y="12"/>
                            </a:lnTo>
                            <a:lnTo>
                              <a:pt x="30" y="12"/>
                            </a:lnTo>
                            <a:lnTo>
                              <a:pt x="33" y="12"/>
                            </a:lnTo>
                            <a:lnTo>
                              <a:pt x="40" y="12"/>
                            </a:lnTo>
                            <a:lnTo>
                              <a:pt x="43" y="12"/>
                            </a:lnTo>
                            <a:lnTo>
                              <a:pt x="47" y="12"/>
                            </a:lnTo>
                            <a:lnTo>
                              <a:pt x="52" y="12"/>
                            </a:lnTo>
                            <a:lnTo>
                              <a:pt x="58" y="12"/>
                            </a:lnTo>
                            <a:lnTo>
                              <a:pt x="61" y="11"/>
                            </a:lnTo>
                            <a:lnTo>
                              <a:pt x="67" y="11"/>
                            </a:lnTo>
                            <a:lnTo>
                              <a:pt x="72" y="11"/>
                            </a:lnTo>
                            <a:lnTo>
                              <a:pt x="78" y="11"/>
                            </a:lnTo>
                            <a:lnTo>
                              <a:pt x="82" y="11"/>
                            </a:lnTo>
                            <a:lnTo>
                              <a:pt x="88" y="11"/>
                            </a:lnTo>
                            <a:lnTo>
                              <a:pt x="95" y="11"/>
                            </a:lnTo>
                            <a:lnTo>
                              <a:pt x="99" y="11"/>
                            </a:lnTo>
                            <a:lnTo>
                              <a:pt x="105" y="11"/>
                            </a:lnTo>
                            <a:lnTo>
                              <a:pt x="111" y="11"/>
                            </a:lnTo>
                            <a:lnTo>
                              <a:pt x="118" y="11"/>
                            </a:lnTo>
                            <a:lnTo>
                              <a:pt x="124" y="11"/>
                            </a:lnTo>
                            <a:lnTo>
                              <a:pt x="130" y="10"/>
                            </a:lnTo>
                            <a:lnTo>
                              <a:pt x="134" y="10"/>
                            </a:lnTo>
                            <a:lnTo>
                              <a:pt x="140" y="10"/>
                            </a:lnTo>
                            <a:lnTo>
                              <a:pt x="147" y="10"/>
                            </a:lnTo>
                            <a:lnTo>
                              <a:pt x="151" y="10"/>
                            </a:lnTo>
                            <a:lnTo>
                              <a:pt x="157" y="10"/>
                            </a:lnTo>
                            <a:lnTo>
                              <a:pt x="163" y="10"/>
                            </a:lnTo>
                            <a:lnTo>
                              <a:pt x="168" y="10"/>
                            </a:lnTo>
                            <a:lnTo>
                              <a:pt x="174" y="10"/>
                            </a:lnTo>
                            <a:lnTo>
                              <a:pt x="179" y="10"/>
                            </a:lnTo>
                            <a:lnTo>
                              <a:pt x="185" y="8"/>
                            </a:lnTo>
                            <a:lnTo>
                              <a:pt x="189" y="8"/>
                            </a:lnTo>
                            <a:lnTo>
                              <a:pt x="194" y="8"/>
                            </a:lnTo>
                            <a:lnTo>
                              <a:pt x="200" y="8"/>
                            </a:lnTo>
                            <a:lnTo>
                              <a:pt x="205" y="8"/>
                            </a:lnTo>
                            <a:lnTo>
                              <a:pt x="209" y="8"/>
                            </a:lnTo>
                            <a:lnTo>
                              <a:pt x="214" y="8"/>
                            </a:lnTo>
                            <a:lnTo>
                              <a:pt x="218" y="8"/>
                            </a:lnTo>
                            <a:lnTo>
                              <a:pt x="222" y="8"/>
                            </a:lnTo>
                            <a:lnTo>
                              <a:pt x="226" y="8"/>
                            </a:lnTo>
                            <a:lnTo>
                              <a:pt x="229" y="7"/>
                            </a:lnTo>
                            <a:lnTo>
                              <a:pt x="232" y="7"/>
                            </a:lnTo>
                            <a:lnTo>
                              <a:pt x="235" y="7"/>
                            </a:lnTo>
                            <a:lnTo>
                              <a:pt x="240" y="7"/>
                            </a:lnTo>
                            <a:lnTo>
                              <a:pt x="245" y="7"/>
                            </a:lnTo>
                            <a:lnTo>
                              <a:pt x="249" y="7"/>
                            </a:lnTo>
                            <a:lnTo>
                              <a:pt x="254" y="7"/>
                            </a:lnTo>
                            <a:lnTo>
                              <a:pt x="255" y="7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cxnSp>
                  <p:nvCxnSpPr>
                    <p:cNvPr id="798" name="AutoShape 128"/>
                    <p:cNvCxnSpPr/>
                    <p:nvPr/>
                  </p:nvCxnSpPr>
                  <p:spPr>
                    <a:xfrm>
                      <a:off x="2896920" y="3021120"/>
                      <a:ext cx="108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grpSp>
                  <p:nvGrpSpPr>
                    <p:cNvPr id="799" name="Group 129"/>
                    <p:cNvGrpSpPr/>
                    <p:nvPr/>
                  </p:nvGrpSpPr>
                  <p:grpSpPr>
                    <a:xfrm>
                      <a:off x="2766960" y="2851560"/>
                      <a:ext cx="168480" cy="150840"/>
                      <a:chOff x="2766960" y="2851560"/>
                      <a:chExt cx="168480" cy="150840"/>
                    </a:xfrm>
                  </p:grpSpPr>
                  <p:sp>
                    <p:nvSpPr>
                      <p:cNvPr id="800" name="Freeform 130"/>
                      <p:cNvSpPr/>
                      <p:nvPr/>
                    </p:nvSpPr>
                    <p:spPr>
                      <a:xfrm>
                        <a:off x="2805840" y="2890800"/>
                        <a:ext cx="54000" cy="3240"/>
                      </a:xfrm>
                      <a:custGeom>
                        <a:avLst/>
                        <a:gdLst>
                          <a:gd name="textAreaLeft" fmla="*/ 0 w 54000"/>
                          <a:gd name="textAreaRight" fmla="*/ 54360 w 5400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601" h="34">
                            <a:moveTo>
                              <a:pt x="9" y="0"/>
                            </a:moveTo>
                            <a:lnTo>
                              <a:pt x="19" y="0"/>
                            </a:lnTo>
                            <a:lnTo>
                              <a:pt x="26" y="0"/>
                            </a:lnTo>
                            <a:lnTo>
                              <a:pt x="35" y="0"/>
                            </a:lnTo>
                            <a:lnTo>
                              <a:pt x="45" y="1"/>
                            </a:lnTo>
                            <a:lnTo>
                              <a:pt x="54" y="1"/>
                            </a:lnTo>
                            <a:lnTo>
                              <a:pt x="63" y="1"/>
                            </a:lnTo>
                            <a:lnTo>
                              <a:pt x="71" y="3"/>
                            </a:lnTo>
                            <a:lnTo>
                              <a:pt x="81" y="3"/>
                            </a:lnTo>
                            <a:lnTo>
                              <a:pt x="89" y="3"/>
                            </a:lnTo>
                            <a:lnTo>
                              <a:pt x="98" y="3"/>
                            </a:lnTo>
                            <a:lnTo>
                              <a:pt x="106" y="4"/>
                            </a:lnTo>
                            <a:lnTo>
                              <a:pt x="117" y="4"/>
                            </a:lnTo>
                            <a:lnTo>
                              <a:pt x="124" y="4"/>
                            </a:lnTo>
                            <a:lnTo>
                              <a:pt x="133" y="4"/>
                            </a:lnTo>
                            <a:lnTo>
                              <a:pt x="143" y="4"/>
                            </a:lnTo>
                            <a:lnTo>
                              <a:pt x="152" y="5"/>
                            </a:lnTo>
                            <a:lnTo>
                              <a:pt x="159" y="5"/>
                            </a:lnTo>
                            <a:lnTo>
                              <a:pt x="169" y="5"/>
                            </a:lnTo>
                            <a:lnTo>
                              <a:pt x="178" y="5"/>
                            </a:lnTo>
                            <a:lnTo>
                              <a:pt x="187" y="5"/>
                            </a:lnTo>
                            <a:lnTo>
                              <a:pt x="195" y="5"/>
                            </a:lnTo>
                            <a:lnTo>
                              <a:pt x="204" y="5"/>
                            </a:lnTo>
                            <a:lnTo>
                              <a:pt x="213" y="5"/>
                            </a:lnTo>
                            <a:lnTo>
                              <a:pt x="222" y="7"/>
                            </a:lnTo>
                            <a:lnTo>
                              <a:pt x="230" y="7"/>
                            </a:lnTo>
                            <a:lnTo>
                              <a:pt x="239" y="7"/>
                            </a:lnTo>
                            <a:lnTo>
                              <a:pt x="248" y="7"/>
                            </a:lnTo>
                            <a:lnTo>
                              <a:pt x="257" y="7"/>
                            </a:lnTo>
                            <a:lnTo>
                              <a:pt x="266" y="7"/>
                            </a:lnTo>
                            <a:lnTo>
                              <a:pt x="274" y="7"/>
                            </a:lnTo>
                            <a:lnTo>
                              <a:pt x="283" y="7"/>
                            </a:lnTo>
                            <a:lnTo>
                              <a:pt x="292" y="7"/>
                            </a:lnTo>
                            <a:lnTo>
                              <a:pt x="302" y="7"/>
                            </a:lnTo>
                            <a:lnTo>
                              <a:pt x="309" y="7"/>
                            </a:lnTo>
                            <a:lnTo>
                              <a:pt x="318" y="7"/>
                            </a:lnTo>
                            <a:lnTo>
                              <a:pt x="328" y="7"/>
                            </a:lnTo>
                            <a:lnTo>
                              <a:pt x="335" y="7"/>
                            </a:lnTo>
                            <a:lnTo>
                              <a:pt x="344" y="7"/>
                            </a:lnTo>
                            <a:lnTo>
                              <a:pt x="354" y="7"/>
                            </a:lnTo>
                            <a:lnTo>
                              <a:pt x="363" y="7"/>
                            </a:lnTo>
                            <a:lnTo>
                              <a:pt x="370" y="7"/>
                            </a:lnTo>
                            <a:lnTo>
                              <a:pt x="380" y="7"/>
                            </a:lnTo>
                            <a:lnTo>
                              <a:pt x="389" y="7"/>
                            </a:lnTo>
                            <a:lnTo>
                              <a:pt x="396" y="7"/>
                            </a:lnTo>
                            <a:lnTo>
                              <a:pt x="406" y="7"/>
                            </a:lnTo>
                            <a:lnTo>
                              <a:pt x="415" y="7"/>
                            </a:lnTo>
                            <a:lnTo>
                              <a:pt x="424" y="7"/>
                            </a:lnTo>
                            <a:lnTo>
                              <a:pt x="433" y="8"/>
                            </a:lnTo>
                            <a:lnTo>
                              <a:pt x="441" y="7"/>
                            </a:lnTo>
                            <a:lnTo>
                              <a:pt x="450" y="7"/>
                            </a:lnTo>
                            <a:lnTo>
                              <a:pt x="459" y="7"/>
                            </a:lnTo>
                            <a:lnTo>
                              <a:pt x="468" y="7"/>
                            </a:lnTo>
                            <a:lnTo>
                              <a:pt x="476" y="7"/>
                            </a:lnTo>
                            <a:lnTo>
                              <a:pt x="485" y="7"/>
                            </a:lnTo>
                            <a:lnTo>
                              <a:pt x="493" y="7"/>
                            </a:lnTo>
                            <a:lnTo>
                              <a:pt x="504" y="7"/>
                            </a:lnTo>
                            <a:lnTo>
                              <a:pt x="511" y="7"/>
                            </a:lnTo>
                            <a:lnTo>
                              <a:pt x="520" y="7"/>
                            </a:lnTo>
                            <a:lnTo>
                              <a:pt x="528" y="7"/>
                            </a:lnTo>
                            <a:lnTo>
                              <a:pt x="537" y="7"/>
                            </a:lnTo>
                            <a:lnTo>
                              <a:pt x="546" y="7"/>
                            </a:lnTo>
                            <a:lnTo>
                              <a:pt x="556" y="7"/>
                            </a:lnTo>
                            <a:lnTo>
                              <a:pt x="565" y="7"/>
                            </a:lnTo>
                            <a:lnTo>
                              <a:pt x="574" y="7"/>
                            </a:lnTo>
                            <a:lnTo>
                              <a:pt x="577" y="7"/>
                            </a:lnTo>
                            <a:lnTo>
                              <a:pt x="580" y="8"/>
                            </a:lnTo>
                            <a:lnTo>
                              <a:pt x="583" y="9"/>
                            </a:lnTo>
                            <a:lnTo>
                              <a:pt x="588" y="9"/>
                            </a:lnTo>
                            <a:lnTo>
                              <a:pt x="591" y="11"/>
                            </a:lnTo>
                            <a:lnTo>
                              <a:pt x="594" y="12"/>
                            </a:lnTo>
                            <a:lnTo>
                              <a:pt x="597" y="12"/>
                            </a:lnTo>
                            <a:lnTo>
                              <a:pt x="601" y="14"/>
                            </a:lnTo>
                            <a:lnTo>
                              <a:pt x="600" y="18"/>
                            </a:lnTo>
                            <a:lnTo>
                              <a:pt x="597" y="23"/>
                            </a:lnTo>
                            <a:lnTo>
                              <a:pt x="595" y="27"/>
                            </a:lnTo>
                            <a:lnTo>
                              <a:pt x="594" y="31"/>
                            </a:lnTo>
                            <a:lnTo>
                              <a:pt x="585" y="31"/>
                            </a:lnTo>
                            <a:lnTo>
                              <a:pt x="579" y="31"/>
                            </a:lnTo>
                            <a:lnTo>
                              <a:pt x="569" y="31"/>
                            </a:lnTo>
                            <a:lnTo>
                              <a:pt x="562" y="31"/>
                            </a:lnTo>
                            <a:lnTo>
                              <a:pt x="554" y="31"/>
                            </a:lnTo>
                            <a:lnTo>
                              <a:pt x="546" y="31"/>
                            </a:lnTo>
                            <a:lnTo>
                              <a:pt x="539" y="31"/>
                            </a:lnTo>
                            <a:lnTo>
                              <a:pt x="531" y="33"/>
                            </a:lnTo>
                            <a:lnTo>
                              <a:pt x="523" y="33"/>
                            </a:lnTo>
                            <a:lnTo>
                              <a:pt x="516" y="33"/>
                            </a:lnTo>
                            <a:lnTo>
                              <a:pt x="508" y="33"/>
                            </a:lnTo>
                            <a:lnTo>
                              <a:pt x="501" y="33"/>
                            </a:lnTo>
                            <a:lnTo>
                              <a:pt x="493" y="33"/>
                            </a:lnTo>
                            <a:lnTo>
                              <a:pt x="485" y="33"/>
                            </a:lnTo>
                            <a:lnTo>
                              <a:pt x="478" y="33"/>
                            </a:lnTo>
                            <a:lnTo>
                              <a:pt x="470" y="33"/>
                            </a:lnTo>
                            <a:lnTo>
                              <a:pt x="462" y="33"/>
                            </a:lnTo>
                            <a:lnTo>
                              <a:pt x="455" y="33"/>
                            </a:lnTo>
                            <a:lnTo>
                              <a:pt x="447" y="33"/>
                            </a:lnTo>
                            <a:lnTo>
                              <a:pt x="439" y="33"/>
                            </a:lnTo>
                            <a:lnTo>
                              <a:pt x="432" y="33"/>
                            </a:lnTo>
                            <a:lnTo>
                              <a:pt x="424" y="33"/>
                            </a:lnTo>
                            <a:lnTo>
                              <a:pt x="416" y="33"/>
                            </a:lnTo>
                            <a:lnTo>
                              <a:pt x="409" y="33"/>
                            </a:lnTo>
                            <a:lnTo>
                              <a:pt x="401" y="33"/>
                            </a:lnTo>
                            <a:lnTo>
                              <a:pt x="393" y="33"/>
                            </a:lnTo>
                            <a:lnTo>
                              <a:pt x="386" y="33"/>
                            </a:lnTo>
                            <a:lnTo>
                              <a:pt x="378" y="33"/>
                            </a:lnTo>
                            <a:lnTo>
                              <a:pt x="370" y="33"/>
                            </a:lnTo>
                            <a:lnTo>
                              <a:pt x="363" y="33"/>
                            </a:lnTo>
                            <a:lnTo>
                              <a:pt x="357" y="33"/>
                            </a:lnTo>
                            <a:lnTo>
                              <a:pt x="349" y="34"/>
                            </a:lnTo>
                            <a:lnTo>
                              <a:pt x="340" y="33"/>
                            </a:lnTo>
                            <a:lnTo>
                              <a:pt x="332" y="33"/>
                            </a:lnTo>
                            <a:lnTo>
                              <a:pt x="325" y="33"/>
                            </a:lnTo>
                            <a:lnTo>
                              <a:pt x="318" y="33"/>
                            </a:lnTo>
                            <a:lnTo>
                              <a:pt x="309" y="33"/>
                            </a:lnTo>
                            <a:lnTo>
                              <a:pt x="302" y="33"/>
                            </a:lnTo>
                            <a:lnTo>
                              <a:pt x="294" y="33"/>
                            </a:lnTo>
                            <a:lnTo>
                              <a:pt x="288" y="33"/>
                            </a:lnTo>
                            <a:lnTo>
                              <a:pt x="279" y="31"/>
                            </a:lnTo>
                            <a:lnTo>
                              <a:pt x="271" y="31"/>
                            </a:lnTo>
                            <a:lnTo>
                              <a:pt x="263" y="31"/>
                            </a:lnTo>
                            <a:lnTo>
                              <a:pt x="257" y="31"/>
                            </a:lnTo>
                            <a:lnTo>
                              <a:pt x="248" y="31"/>
                            </a:lnTo>
                            <a:lnTo>
                              <a:pt x="240" y="31"/>
                            </a:lnTo>
                            <a:lnTo>
                              <a:pt x="233" y="31"/>
                            </a:lnTo>
                            <a:lnTo>
                              <a:pt x="225" y="31"/>
                            </a:lnTo>
                            <a:lnTo>
                              <a:pt x="218" y="31"/>
                            </a:lnTo>
                            <a:lnTo>
                              <a:pt x="210" y="31"/>
                            </a:lnTo>
                            <a:lnTo>
                              <a:pt x="202" y="31"/>
                            </a:lnTo>
                            <a:lnTo>
                              <a:pt x="195" y="31"/>
                            </a:lnTo>
                            <a:lnTo>
                              <a:pt x="187" y="30"/>
                            </a:lnTo>
                            <a:lnTo>
                              <a:pt x="179" y="30"/>
                            </a:lnTo>
                            <a:lnTo>
                              <a:pt x="172" y="30"/>
                            </a:lnTo>
                            <a:lnTo>
                              <a:pt x="164" y="30"/>
                            </a:lnTo>
                            <a:lnTo>
                              <a:pt x="156" y="30"/>
                            </a:lnTo>
                            <a:lnTo>
                              <a:pt x="149" y="30"/>
                            </a:lnTo>
                            <a:lnTo>
                              <a:pt x="141" y="30"/>
                            </a:lnTo>
                            <a:lnTo>
                              <a:pt x="133" y="30"/>
                            </a:lnTo>
                            <a:lnTo>
                              <a:pt x="126" y="29"/>
                            </a:lnTo>
                            <a:lnTo>
                              <a:pt x="120" y="29"/>
                            </a:lnTo>
                            <a:lnTo>
                              <a:pt x="112" y="29"/>
                            </a:lnTo>
                            <a:lnTo>
                              <a:pt x="104" y="29"/>
                            </a:lnTo>
                            <a:lnTo>
                              <a:pt x="100" y="27"/>
                            </a:lnTo>
                            <a:lnTo>
                              <a:pt x="97" y="27"/>
                            </a:lnTo>
                            <a:lnTo>
                              <a:pt x="92" y="26"/>
                            </a:lnTo>
                            <a:lnTo>
                              <a:pt x="89" y="26"/>
                            </a:lnTo>
                            <a:lnTo>
                              <a:pt x="83" y="26"/>
                            </a:lnTo>
                            <a:lnTo>
                              <a:pt x="77" y="26"/>
                            </a:lnTo>
                            <a:lnTo>
                              <a:pt x="72" y="26"/>
                            </a:lnTo>
                            <a:lnTo>
                              <a:pt x="69" y="26"/>
                            </a:lnTo>
                            <a:lnTo>
                              <a:pt x="65" y="26"/>
                            </a:lnTo>
                            <a:lnTo>
                              <a:pt x="61" y="27"/>
                            </a:lnTo>
                            <a:lnTo>
                              <a:pt x="55" y="27"/>
                            </a:lnTo>
                            <a:lnTo>
                              <a:pt x="49" y="29"/>
                            </a:lnTo>
                            <a:lnTo>
                              <a:pt x="45" y="29"/>
                            </a:lnTo>
                            <a:lnTo>
                              <a:pt x="42" y="29"/>
                            </a:lnTo>
                            <a:lnTo>
                              <a:pt x="39" y="29"/>
                            </a:lnTo>
                            <a:lnTo>
                              <a:pt x="35" y="29"/>
                            </a:lnTo>
                            <a:lnTo>
                              <a:pt x="28" y="29"/>
                            </a:lnTo>
                            <a:lnTo>
                              <a:pt x="23" y="27"/>
                            </a:lnTo>
                            <a:lnTo>
                              <a:pt x="17" y="25"/>
                            </a:lnTo>
                            <a:lnTo>
                              <a:pt x="11" y="23"/>
                            </a:lnTo>
                            <a:lnTo>
                              <a:pt x="5" y="19"/>
                            </a:lnTo>
                            <a:lnTo>
                              <a:pt x="0" y="16"/>
                            </a:lnTo>
                            <a:lnTo>
                              <a:pt x="3" y="11"/>
                            </a:lnTo>
                            <a:lnTo>
                              <a:pt x="6" y="7"/>
                            </a:lnTo>
                            <a:lnTo>
                              <a:pt x="9" y="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Freeform 131"/>
                      <p:cNvSpPr/>
                      <p:nvPr/>
                    </p:nvSpPr>
                    <p:spPr>
                      <a:xfrm>
                        <a:off x="2855880" y="2869920"/>
                        <a:ext cx="22320" cy="194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320 w 2232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249" h="195">
                            <a:moveTo>
                              <a:pt x="5" y="0"/>
                            </a:moveTo>
                            <a:lnTo>
                              <a:pt x="8" y="2"/>
                            </a:ln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20" y="9"/>
                            </a:lnTo>
                            <a:lnTo>
                              <a:pt x="25" y="10"/>
                            </a:lnTo>
                            <a:lnTo>
                              <a:pt x="28" y="13"/>
                            </a:lnTo>
                            <a:lnTo>
                              <a:pt x="32" y="14"/>
                            </a:lnTo>
                            <a:lnTo>
                              <a:pt x="37" y="17"/>
                            </a:lnTo>
                            <a:lnTo>
                              <a:pt x="40" y="20"/>
                            </a:lnTo>
                            <a:lnTo>
                              <a:pt x="44" y="21"/>
                            </a:lnTo>
                            <a:lnTo>
                              <a:pt x="47" y="24"/>
                            </a:lnTo>
                            <a:lnTo>
                              <a:pt x="52" y="26"/>
                            </a:lnTo>
                            <a:lnTo>
                              <a:pt x="57" y="28"/>
                            </a:lnTo>
                            <a:lnTo>
                              <a:pt x="60" y="32"/>
                            </a:lnTo>
                            <a:lnTo>
                              <a:pt x="64" y="33"/>
                            </a:lnTo>
                            <a:lnTo>
                              <a:pt x="69" y="36"/>
                            </a:lnTo>
                            <a:lnTo>
                              <a:pt x="72" y="39"/>
                            </a:lnTo>
                            <a:lnTo>
                              <a:pt x="77" y="41"/>
                            </a:lnTo>
                            <a:lnTo>
                              <a:pt x="80" y="44"/>
                            </a:lnTo>
                            <a:lnTo>
                              <a:pt x="84" y="47"/>
                            </a:lnTo>
                            <a:lnTo>
                              <a:pt x="87" y="48"/>
                            </a:lnTo>
                            <a:lnTo>
                              <a:pt x="92" y="51"/>
                            </a:lnTo>
                            <a:lnTo>
                              <a:pt x="95" y="54"/>
                            </a:lnTo>
                            <a:lnTo>
                              <a:pt x="99" y="57"/>
                            </a:lnTo>
                            <a:lnTo>
                              <a:pt x="104" y="59"/>
                            </a:lnTo>
                            <a:lnTo>
                              <a:pt x="107" y="62"/>
                            </a:lnTo>
                            <a:lnTo>
                              <a:pt x="110" y="65"/>
                            </a:lnTo>
                            <a:lnTo>
                              <a:pt x="115" y="68"/>
                            </a:lnTo>
                            <a:lnTo>
                              <a:pt x="118" y="70"/>
                            </a:lnTo>
                            <a:lnTo>
                              <a:pt x="122" y="73"/>
                            </a:lnTo>
                            <a:lnTo>
                              <a:pt x="125" y="76"/>
                            </a:lnTo>
                            <a:lnTo>
                              <a:pt x="130" y="80"/>
                            </a:lnTo>
                            <a:lnTo>
                              <a:pt x="135" y="81"/>
                            </a:lnTo>
                            <a:lnTo>
                              <a:pt x="138" y="84"/>
                            </a:lnTo>
                            <a:lnTo>
                              <a:pt x="141" y="88"/>
                            </a:lnTo>
                            <a:lnTo>
                              <a:pt x="145" y="91"/>
                            </a:lnTo>
                            <a:lnTo>
                              <a:pt x="148" y="94"/>
                            </a:lnTo>
                            <a:lnTo>
                              <a:pt x="153" y="96"/>
                            </a:lnTo>
                            <a:lnTo>
                              <a:pt x="156" y="99"/>
                            </a:lnTo>
                            <a:lnTo>
                              <a:pt x="161" y="103"/>
                            </a:lnTo>
                            <a:lnTo>
                              <a:pt x="164" y="106"/>
                            </a:lnTo>
                            <a:lnTo>
                              <a:pt x="168" y="109"/>
                            </a:lnTo>
                            <a:lnTo>
                              <a:pt x="171" y="111"/>
                            </a:lnTo>
                            <a:lnTo>
                              <a:pt x="176" y="114"/>
                            </a:lnTo>
                            <a:lnTo>
                              <a:pt x="179" y="117"/>
                            </a:lnTo>
                            <a:lnTo>
                              <a:pt x="184" y="120"/>
                            </a:lnTo>
                            <a:lnTo>
                              <a:pt x="187" y="124"/>
                            </a:lnTo>
                            <a:lnTo>
                              <a:pt x="190" y="127"/>
                            </a:lnTo>
                            <a:lnTo>
                              <a:pt x="193" y="129"/>
                            </a:lnTo>
                            <a:lnTo>
                              <a:pt x="197" y="132"/>
                            </a:lnTo>
                            <a:lnTo>
                              <a:pt x="200" y="135"/>
                            </a:lnTo>
                            <a:lnTo>
                              <a:pt x="205" y="139"/>
                            </a:lnTo>
                            <a:lnTo>
                              <a:pt x="208" y="142"/>
                            </a:lnTo>
                            <a:lnTo>
                              <a:pt x="213" y="144"/>
                            </a:lnTo>
                            <a:lnTo>
                              <a:pt x="216" y="149"/>
                            </a:lnTo>
                            <a:lnTo>
                              <a:pt x="220" y="151"/>
                            </a:lnTo>
                            <a:lnTo>
                              <a:pt x="223" y="154"/>
                            </a:lnTo>
                            <a:lnTo>
                              <a:pt x="226" y="158"/>
                            </a:lnTo>
                            <a:lnTo>
                              <a:pt x="231" y="161"/>
                            </a:lnTo>
                            <a:lnTo>
                              <a:pt x="234" y="164"/>
                            </a:lnTo>
                            <a:lnTo>
                              <a:pt x="239" y="168"/>
                            </a:lnTo>
                            <a:lnTo>
                              <a:pt x="242" y="171"/>
                            </a:lnTo>
                            <a:lnTo>
                              <a:pt x="246" y="173"/>
                            </a:lnTo>
                            <a:lnTo>
                              <a:pt x="249" y="177"/>
                            </a:lnTo>
                            <a:lnTo>
                              <a:pt x="246" y="180"/>
                            </a:lnTo>
                            <a:lnTo>
                              <a:pt x="245" y="186"/>
                            </a:lnTo>
                            <a:lnTo>
                              <a:pt x="240" y="190"/>
                            </a:lnTo>
                            <a:lnTo>
                              <a:pt x="239" y="195"/>
                            </a:lnTo>
                            <a:lnTo>
                              <a:pt x="234" y="192"/>
                            </a:lnTo>
                            <a:lnTo>
                              <a:pt x="231" y="191"/>
                            </a:lnTo>
                            <a:lnTo>
                              <a:pt x="226" y="188"/>
                            </a:lnTo>
                            <a:lnTo>
                              <a:pt x="222" y="187"/>
                            </a:lnTo>
                            <a:lnTo>
                              <a:pt x="219" y="184"/>
                            </a:lnTo>
                            <a:lnTo>
                              <a:pt x="214" y="183"/>
                            </a:lnTo>
                            <a:lnTo>
                              <a:pt x="211" y="180"/>
                            </a:lnTo>
                            <a:lnTo>
                              <a:pt x="207" y="177"/>
                            </a:lnTo>
                            <a:lnTo>
                              <a:pt x="203" y="175"/>
                            </a:lnTo>
                            <a:lnTo>
                              <a:pt x="200" y="173"/>
                            </a:lnTo>
                            <a:lnTo>
                              <a:pt x="196" y="171"/>
                            </a:lnTo>
                            <a:lnTo>
                              <a:pt x="193" y="168"/>
                            </a:lnTo>
                            <a:lnTo>
                              <a:pt x="188" y="165"/>
                            </a:lnTo>
                            <a:lnTo>
                              <a:pt x="185" y="162"/>
                            </a:lnTo>
                            <a:lnTo>
                              <a:pt x="181" y="160"/>
                            </a:lnTo>
                            <a:lnTo>
                              <a:pt x="177" y="158"/>
                            </a:lnTo>
                            <a:lnTo>
                              <a:pt x="174" y="154"/>
                            </a:lnTo>
                            <a:lnTo>
                              <a:pt x="170" y="151"/>
                            </a:lnTo>
                            <a:lnTo>
                              <a:pt x="167" y="149"/>
                            </a:lnTo>
                            <a:lnTo>
                              <a:pt x="162" y="146"/>
                            </a:lnTo>
                            <a:lnTo>
                              <a:pt x="159" y="143"/>
                            </a:lnTo>
                            <a:lnTo>
                              <a:pt x="156" y="140"/>
                            </a:lnTo>
                            <a:lnTo>
                              <a:pt x="151" y="138"/>
                            </a:lnTo>
                            <a:lnTo>
                              <a:pt x="148" y="135"/>
                            </a:lnTo>
                            <a:lnTo>
                              <a:pt x="145" y="131"/>
                            </a:lnTo>
                            <a:lnTo>
                              <a:pt x="141" y="128"/>
                            </a:lnTo>
                            <a:lnTo>
                              <a:pt x="138" y="125"/>
                            </a:lnTo>
                            <a:lnTo>
                              <a:pt x="135" y="124"/>
                            </a:lnTo>
                            <a:lnTo>
                              <a:pt x="132" y="120"/>
                            </a:lnTo>
                            <a:lnTo>
                              <a:pt x="127" y="117"/>
                            </a:lnTo>
                            <a:lnTo>
                              <a:pt x="124" y="114"/>
                            </a:lnTo>
                            <a:lnTo>
                              <a:pt x="121" y="113"/>
                            </a:lnTo>
                            <a:lnTo>
                              <a:pt x="118" y="109"/>
                            </a:lnTo>
                            <a:lnTo>
                              <a:pt x="113" y="106"/>
                            </a:lnTo>
                            <a:lnTo>
                              <a:pt x="110" y="103"/>
                            </a:lnTo>
                            <a:lnTo>
                              <a:pt x="107" y="101"/>
                            </a:lnTo>
                            <a:lnTo>
                              <a:pt x="104" y="96"/>
                            </a:lnTo>
                            <a:lnTo>
                              <a:pt x="99" y="94"/>
                            </a:lnTo>
                            <a:lnTo>
                              <a:pt x="96" y="91"/>
                            </a:lnTo>
                            <a:lnTo>
                              <a:pt x="93" y="88"/>
                            </a:lnTo>
                            <a:lnTo>
                              <a:pt x="89" y="85"/>
                            </a:lnTo>
                            <a:lnTo>
                              <a:pt x="86" y="83"/>
                            </a:lnTo>
                            <a:lnTo>
                              <a:pt x="81" y="80"/>
                            </a:lnTo>
                            <a:lnTo>
                              <a:pt x="78" y="77"/>
                            </a:lnTo>
                            <a:lnTo>
                              <a:pt x="75" y="74"/>
                            </a:lnTo>
                            <a:lnTo>
                              <a:pt x="72" y="72"/>
                            </a:lnTo>
                            <a:lnTo>
                              <a:pt x="67" y="69"/>
                            </a:lnTo>
                            <a:lnTo>
                              <a:pt x="64" y="68"/>
                            </a:lnTo>
                            <a:lnTo>
                              <a:pt x="61" y="63"/>
                            </a:lnTo>
                            <a:lnTo>
                              <a:pt x="57" y="62"/>
                            </a:lnTo>
                            <a:lnTo>
                              <a:pt x="54" y="59"/>
                            </a:lnTo>
                            <a:lnTo>
                              <a:pt x="49" y="57"/>
                            </a:lnTo>
                            <a:lnTo>
                              <a:pt x="46" y="54"/>
                            </a:lnTo>
                            <a:lnTo>
                              <a:pt x="43" y="52"/>
                            </a:lnTo>
                            <a:lnTo>
                              <a:pt x="38" y="50"/>
                            </a:lnTo>
                            <a:lnTo>
                              <a:pt x="35" y="47"/>
                            </a:lnTo>
                            <a:lnTo>
                              <a:pt x="31" y="46"/>
                            </a:lnTo>
                            <a:lnTo>
                              <a:pt x="28" y="43"/>
                            </a:lnTo>
                            <a:lnTo>
                              <a:pt x="23" y="40"/>
                            </a:lnTo>
                            <a:lnTo>
                              <a:pt x="20" y="39"/>
                            </a:lnTo>
                            <a:lnTo>
                              <a:pt x="15" y="37"/>
                            </a:lnTo>
                            <a:lnTo>
                              <a:pt x="12" y="36"/>
                            </a:lnTo>
                            <a:lnTo>
                              <a:pt x="8" y="35"/>
                            </a:lnTo>
                            <a:lnTo>
                              <a:pt x="5" y="32"/>
                            </a:lnTo>
                            <a:lnTo>
                              <a:pt x="3" y="28"/>
                            </a:lnTo>
                            <a:lnTo>
                              <a:pt x="2" y="25"/>
                            </a:lnTo>
                            <a:lnTo>
                              <a:pt x="0" y="20"/>
                            </a:lnTo>
                            <a:lnTo>
                              <a:pt x="0" y="15"/>
                            </a:lnTo>
                            <a:lnTo>
                              <a:pt x="0" y="10"/>
                            </a:lnTo>
                            <a:lnTo>
                              <a:pt x="2" y="6"/>
                            </a:lnTo>
                            <a:lnTo>
                              <a:pt x="3" y="2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2" name="Freeform 132"/>
                      <p:cNvSpPr/>
                      <p:nvPr/>
                    </p:nvSpPr>
                    <p:spPr>
                      <a:xfrm>
                        <a:off x="2858400" y="2900880"/>
                        <a:ext cx="4320" cy="4752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47520"/>
                          <a:gd name="textAreaBottom" fmla="*/ 47880 h 47520"/>
                        </a:gdLst>
                        <a:ahLst/>
                        <a:rect l="textAreaLeft" t="textAreaTop" r="textAreaRight" b="textAreaBottom"/>
                        <a:pathLst>
                          <a:path w="49" h="474">
                            <a:moveTo>
                              <a:pt x="9" y="0"/>
                            </a:move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16" y="8"/>
                            </a:lnTo>
                            <a:lnTo>
                              <a:pt x="19" y="12"/>
                            </a:lnTo>
                            <a:lnTo>
                              <a:pt x="21" y="17"/>
                            </a:lnTo>
                            <a:lnTo>
                              <a:pt x="23" y="21"/>
                            </a:lnTo>
                            <a:lnTo>
                              <a:pt x="24" y="25"/>
                            </a:lnTo>
                            <a:lnTo>
                              <a:pt x="26" y="30"/>
                            </a:lnTo>
                            <a:lnTo>
                              <a:pt x="27" y="33"/>
                            </a:lnTo>
                            <a:lnTo>
                              <a:pt x="27" y="38"/>
                            </a:lnTo>
                            <a:lnTo>
                              <a:pt x="29" y="43"/>
                            </a:lnTo>
                            <a:lnTo>
                              <a:pt x="29" y="47"/>
                            </a:lnTo>
                            <a:lnTo>
                              <a:pt x="29" y="52"/>
                            </a:lnTo>
                            <a:lnTo>
                              <a:pt x="30" y="56"/>
                            </a:lnTo>
                            <a:lnTo>
                              <a:pt x="30" y="62"/>
                            </a:lnTo>
                            <a:lnTo>
                              <a:pt x="30" y="67"/>
                            </a:lnTo>
                            <a:lnTo>
                              <a:pt x="30" y="71"/>
                            </a:lnTo>
                            <a:lnTo>
                              <a:pt x="30" y="77"/>
                            </a:lnTo>
                            <a:lnTo>
                              <a:pt x="30" y="81"/>
                            </a:lnTo>
                            <a:lnTo>
                              <a:pt x="30" y="87"/>
                            </a:lnTo>
                            <a:lnTo>
                              <a:pt x="30" y="92"/>
                            </a:lnTo>
                            <a:lnTo>
                              <a:pt x="30" y="96"/>
                            </a:lnTo>
                            <a:lnTo>
                              <a:pt x="30" y="102"/>
                            </a:lnTo>
                            <a:lnTo>
                              <a:pt x="30" y="107"/>
                            </a:lnTo>
                            <a:lnTo>
                              <a:pt x="30" y="111"/>
                            </a:lnTo>
                            <a:lnTo>
                              <a:pt x="30" y="117"/>
                            </a:lnTo>
                            <a:lnTo>
                              <a:pt x="30" y="121"/>
                            </a:lnTo>
                            <a:lnTo>
                              <a:pt x="32" y="126"/>
                            </a:lnTo>
                            <a:lnTo>
                              <a:pt x="32" y="130"/>
                            </a:lnTo>
                            <a:lnTo>
                              <a:pt x="32" y="136"/>
                            </a:lnTo>
                            <a:lnTo>
                              <a:pt x="33" y="140"/>
                            </a:lnTo>
                            <a:lnTo>
                              <a:pt x="35" y="146"/>
                            </a:lnTo>
                            <a:lnTo>
                              <a:pt x="35" y="150"/>
                            </a:lnTo>
                            <a:lnTo>
                              <a:pt x="35" y="154"/>
                            </a:lnTo>
                            <a:lnTo>
                              <a:pt x="35" y="159"/>
                            </a:lnTo>
                            <a:lnTo>
                              <a:pt x="36" y="165"/>
                            </a:lnTo>
                            <a:lnTo>
                              <a:pt x="36" y="169"/>
                            </a:lnTo>
                            <a:lnTo>
                              <a:pt x="36" y="174"/>
                            </a:lnTo>
                            <a:lnTo>
                              <a:pt x="36" y="178"/>
                            </a:lnTo>
                            <a:lnTo>
                              <a:pt x="38" y="184"/>
                            </a:lnTo>
                            <a:lnTo>
                              <a:pt x="38" y="189"/>
                            </a:lnTo>
                            <a:lnTo>
                              <a:pt x="38" y="195"/>
                            </a:lnTo>
                            <a:lnTo>
                              <a:pt x="38" y="199"/>
                            </a:lnTo>
                            <a:lnTo>
                              <a:pt x="38" y="205"/>
                            </a:lnTo>
                            <a:lnTo>
                              <a:pt x="38" y="210"/>
                            </a:lnTo>
                            <a:lnTo>
                              <a:pt x="39" y="214"/>
                            </a:lnTo>
                            <a:lnTo>
                              <a:pt x="39" y="220"/>
                            </a:lnTo>
                            <a:lnTo>
                              <a:pt x="41" y="225"/>
                            </a:lnTo>
                            <a:lnTo>
                              <a:pt x="41" y="229"/>
                            </a:lnTo>
                            <a:lnTo>
                              <a:pt x="41" y="235"/>
                            </a:lnTo>
                            <a:lnTo>
                              <a:pt x="41" y="239"/>
                            </a:lnTo>
                            <a:lnTo>
                              <a:pt x="42" y="244"/>
                            </a:lnTo>
                            <a:lnTo>
                              <a:pt x="42" y="250"/>
                            </a:lnTo>
                            <a:lnTo>
                              <a:pt x="42" y="254"/>
                            </a:lnTo>
                            <a:lnTo>
                              <a:pt x="42" y="259"/>
                            </a:lnTo>
                            <a:lnTo>
                              <a:pt x="42" y="265"/>
                            </a:lnTo>
                            <a:lnTo>
                              <a:pt x="42" y="269"/>
                            </a:lnTo>
                            <a:lnTo>
                              <a:pt x="42" y="275"/>
                            </a:lnTo>
                            <a:lnTo>
                              <a:pt x="44" y="280"/>
                            </a:lnTo>
                            <a:lnTo>
                              <a:pt x="44" y="284"/>
                            </a:lnTo>
                            <a:lnTo>
                              <a:pt x="44" y="290"/>
                            </a:lnTo>
                            <a:lnTo>
                              <a:pt x="44" y="295"/>
                            </a:lnTo>
                            <a:lnTo>
                              <a:pt x="45" y="299"/>
                            </a:lnTo>
                            <a:lnTo>
                              <a:pt x="45" y="305"/>
                            </a:lnTo>
                            <a:lnTo>
                              <a:pt x="45" y="310"/>
                            </a:lnTo>
                            <a:lnTo>
                              <a:pt x="45" y="316"/>
                            </a:lnTo>
                            <a:lnTo>
                              <a:pt x="45" y="320"/>
                            </a:lnTo>
                            <a:lnTo>
                              <a:pt x="45" y="325"/>
                            </a:lnTo>
                            <a:lnTo>
                              <a:pt x="45" y="331"/>
                            </a:lnTo>
                            <a:lnTo>
                              <a:pt x="45" y="335"/>
                            </a:lnTo>
                            <a:lnTo>
                              <a:pt x="45" y="340"/>
                            </a:lnTo>
                            <a:lnTo>
                              <a:pt x="47" y="346"/>
                            </a:lnTo>
                            <a:lnTo>
                              <a:pt x="47" y="350"/>
                            </a:lnTo>
                            <a:lnTo>
                              <a:pt x="47" y="356"/>
                            </a:lnTo>
                            <a:lnTo>
                              <a:pt x="47" y="361"/>
                            </a:lnTo>
                            <a:lnTo>
                              <a:pt x="47" y="365"/>
                            </a:lnTo>
                            <a:lnTo>
                              <a:pt x="47" y="371"/>
                            </a:lnTo>
                            <a:lnTo>
                              <a:pt x="47" y="376"/>
                            </a:lnTo>
                            <a:lnTo>
                              <a:pt x="47" y="380"/>
                            </a:lnTo>
                            <a:lnTo>
                              <a:pt x="49" y="386"/>
                            </a:lnTo>
                            <a:lnTo>
                              <a:pt x="49" y="391"/>
                            </a:lnTo>
                            <a:lnTo>
                              <a:pt x="49" y="397"/>
                            </a:lnTo>
                            <a:lnTo>
                              <a:pt x="49" y="401"/>
                            </a:lnTo>
                            <a:lnTo>
                              <a:pt x="49" y="406"/>
                            </a:lnTo>
                            <a:lnTo>
                              <a:pt x="49" y="412"/>
                            </a:lnTo>
                            <a:lnTo>
                              <a:pt x="49" y="416"/>
                            </a:lnTo>
                            <a:lnTo>
                              <a:pt x="49" y="421"/>
                            </a:lnTo>
                            <a:lnTo>
                              <a:pt x="49" y="427"/>
                            </a:lnTo>
                            <a:lnTo>
                              <a:pt x="47" y="432"/>
                            </a:lnTo>
                            <a:lnTo>
                              <a:pt x="47" y="437"/>
                            </a:lnTo>
                            <a:lnTo>
                              <a:pt x="47" y="442"/>
                            </a:lnTo>
                            <a:lnTo>
                              <a:pt x="47" y="448"/>
                            </a:lnTo>
                            <a:lnTo>
                              <a:pt x="47" y="453"/>
                            </a:lnTo>
                            <a:lnTo>
                              <a:pt x="47" y="459"/>
                            </a:lnTo>
                            <a:lnTo>
                              <a:pt x="47" y="464"/>
                            </a:lnTo>
                            <a:lnTo>
                              <a:pt x="47" y="470"/>
                            </a:lnTo>
                            <a:lnTo>
                              <a:pt x="42" y="470"/>
                            </a:lnTo>
                            <a:lnTo>
                              <a:pt x="36" y="471"/>
                            </a:lnTo>
                            <a:lnTo>
                              <a:pt x="32" y="472"/>
                            </a:lnTo>
                            <a:lnTo>
                              <a:pt x="27" y="474"/>
                            </a:lnTo>
                            <a:lnTo>
                              <a:pt x="26" y="470"/>
                            </a:lnTo>
                            <a:lnTo>
                              <a:pt x="26" y="467"/>
                            </a:lnTo>
                            <a:lnTo>
                              <a:pt x="24" y="463"/>
                            </a:lnTo>
                            <a:lnTo>
                              <a:pt x="24" y="460"/>
                            </a:lnTo>
                            <a:lnTo>
                              <a:pt x="23" y="456"/>
                            </a:lnTo>
                            <a:lnTo>
                              <a:pt x="23" y="452"/>
                            </a:lnTo>
                            <a:lnTo>
                              <a:pt x="21" y="449"/>
                            </a:lnTo>
                            <a:lnTo>
                              <a:pt x="21" y="445"/>
                            </a:lnTo>
                            <a:lnTo>
                              <a:pt x="21" y="442"/>
                            </a:lnTo>
                            <a:lnTo>
                              <a:pt x="19" y="438"/>
                            </a:lnTo>
                            <a:lnTo>
                              <a:pt x="19" y="435"/>
                            </a:lnTo>
                            <a:lnTo>
                              <a:pt x="19" y="431"/>
                            </a:lnTo>
                            <a:lnTo>
                              <a:pt x="19" y="428"/>
                            </a:lnTo>
                            <a:lnTo>
                              <a:pt x="19" y="424"/>
                            </a:lnTo>
                            <a:lnTo>
                              <a:pt x="19" y="421"/>
                            </a:lnTo>
                            <a:lnTo>
                              <a:pt x="19" y="417"/>
                            </a:lnTo>
                            <a:lnTo>
                              <a:pt x="18" y="415"/>
                            </a:lnTo>
                            <a:lnTo>
                              <a:pt x="18" y="410"/>
                            </a:lnTo>
                            <a:lnTo>
                              <a:pt x="18" y="408"/>
                            </a:lnTo>
                            <a:lnTo>
                              <a:pt x="18" y="404"/>
                            </a:lnTo>
                            <a:lnTo>
                              <a:pt x="18" y="399"/>
                            </a:lnTo>
                            <a:lnTo>
                              <a:pt x="18" y="397"/>
                            </a:lnTo>
                            <a:lnTo>
                              <a:pt x="18" y="393"/>
                            </a:lnTo>
                            <a:lnTo>
                              <a:pt x="18" y="390"/>
                            </a:lnTo>
                            <a:lnTo>
                              <a:pt x="18" y="386"/>
                            </a:lnTo>
                            <a:lnTo>
                              <a:pt x="18" y="383"/>
                            </a:lnTo>
                            <a:lnTo>
                              <a:pt x="18" y="379"/>
                            </a:lnTo>
                            <a:lnTo>
                              <a:pt x="18" y="376"/>
                            </a:lnTo>
                            <a:lnTo>
                              <a:pt x="18" y="372"/>
                            </a:lnTo>
                            <a:lnTo>
                              <a:pt x="18" y="369"/>
                            </a:lnTo>
                            <a:lnTo>
                              <a:pt x="18" y="365"/>
                            </a:lnTo>
                            <a:lnTo>
                              <a:pt x="18" y="362"/>
                            </a:lnTo>
                            <a:lnTo>
                              <a:pt x="18" y="358"/>
                            </a:lnTo>
                            <a:lnTo>
                              <a:pt x="18" y="356"/>
                            </a:lnTo>
                            <a:lnTo>
                              <a:pt x="18" y="351"/>
                            </a:lnTo>
                            <a:lnTo>
                              <a:pt x="18" y="347"/>
                            </a:lnTo>
                            <a:lnTo>
                              <a:pt x="18" y="345"/>
                            </a:lnTo>
                            <a:lnTo>
                              <a:pt x="18" y="340"/>
                            </a:lnTo>
                            <a:lnTo>
                              <a:pt x="18" y="338"/>
                            </a:lnTo>
                            <a:lnTo>
                              <a:pt x="18" y="334"/>
                            </a:lnTo>
                            <a:lnTo>
                              <a:pt x="18" y="331"/>
                            </a:lnTo>
                            <a:lnTo>
                              <a:pt x="18" y="327"/>
                            </a:lnTo>
                            <a:lnTo>
                              <a:pt x="18" y="323"/>
                            </a:lnTo>
                            <a:lnTo>
                              <a:pt x="18" y="320"/>
                            </a:lnTo>
                            <a:lnTo>
                              <a:pt x="18" y="316"/>
                            </a:lnTo>
                            <a:lnTo>
                              <a:pt x="18" y="313"/>
                            </a:lnTo>
                            <a:lnTo>
                              <a:pt x="18" y="309"/>
                            </a:lnTo>
                            <a:lnTo>
                              <a:pt x="18" y="306"/>
                            </a:lnTo>
                            <a:lnTo>
                              <a:pt x="18" y="302"/>
                            </a:lnTo>
                            <a:lnTo>
                              <a:pt x="18" y="299"/>
                            </a:lnTo>
                            <a:lnTo>
                              <a:pt x="16" y="295"/>
                            </a:lnTo>
                            <a:lnTo>
                              <a:pt x="16" y="292"/>
                            </a:lnTo>
                            <a:lnTo>
                              <a:pt x="16" y="288"/>
                            </a:lnTo>
                            <a:lnTo>
                              <a:pt x="16" y="286"/>
                            </a:lnTo>
                            <a:lnTo>
                              <a:pt x="15" y="281"/>
                            </a:lnTo>
                            <a:lnTo>
                              <a:pt x="15" y="279"/>
                            </a:lnTo>
                            <a:lnTo>
                              <a:pt x="15" y="275"/>
                            </a:lnTo>
                            <a:lnTo>
                              <a:pt x="15" y="272"/>
                            </a:lnTo>
                            <a:lnTo>
                              <a:pt x="13" y="269"/>
                            </a:lnTo>
                            <a:lnTo>
                              <a:pt x="13" y="265"/>
                            </a:lnTo>
                            <a:lnTo>
                              <a:pt x="13" y="262"/>
                            </a:lnTo>
                            <a:lnTo>
                              <a:pt x="12" y="258"/>
                            </a:lnTo>
                            <a:lnTo>
                              <a:pt x="12" y="255"/>
                            </a:lnTo>
                            <a:lnTo>
                              <a:pt x="12" y="251"/>
                            </a:lnTo>
                            <a:lnTo>
                              <a:pt x="10" y="247"/>
                            </a:lnTo>
                            <a:lnTo>
                              <a:pt x="10" y="243"/>
                            </a:lnTo>
                            <a:lnTo>
                              <a:pt x="10" y="239"/>
                            </a:lnTo>
                            <a:lnTo>
                              <a:pt x="10" y="235"/>
                            </a:lnTo>
                            <a:lnTo>
                              <a:pt x="10" y="231"/>
                            </a:lnTo>
                            <a:lnTo>
                              <a:pt x="10" y="228"/>
                            </a:lnTo>
                            <a:lnTo>
                              <a:pt x="10" y="222"/>
                            </a:lnTo>
                            <a:lnTo>
                              <a:pt x="10" y="220"/>
                            </a:lnTo>
                            <a:lnTo>
                              <a:pt x="9" y="216"/>
                            </a:lnTo>
                            <a:lnTo>
                              <a:pt x="9" y="211"/>
                            </a:lnTo>
                            <a:lnTo>
                              <a:pt x="9" y="207"/>
                            </a:lnTo>
                            <a:lnTo>
                              <a:pt x="9" y="203"/>
                            </a:lnTo>
                            <a:lnTo>
                              <a:pt x="7" y="200"/>
                            </a:lnTo>
                            <a:lnTo>
                              <a:pt x="7" y="196"/>
                            </a:lnTo>
                            <a:lnTo>
                              <a:pt x="7" y="192"/>
                            </a:lnTo>
                            <a:lnTo>
                              <a:pt x="7" y="188"/>
                            </a:lnTo>
                            <a:lnTo>
                              <a:pt x="7" y="185"/>
                            </a:lnTo>
                            <a:lnTo>
                              <a:pt x="7" y="181"/>
                            </a:lnTo>
                            <a:lnTo>
                              <a:pt x="6" y="177"/>
                            </a:lnTo>
                            <a:lnTo>
                              <a:pt x="6" y="173"/>
                            </a:lnTo>
                            <a:lnTo>
                              <a:pt x="6" y="170"/>
                            </a:lnTo>
                            <a:lnTo>
                              <a:pt x="6" y="166"/>
                            </a:lnTo>
                            <a:lnTo>
                              <a:pt x="4" y="162"/>
                            </a:lnTo>
                            <a:lnTo>
                              <a:pt x="4" y="158"/>
                            </a:lnTo>
                            <a:lnTo>
                              <a:pt x="4" y="154"/>
                            </a:lnTo>
                            <a:lnTo>
                              <a:pt x="4" y="151"/>
                            </a:lnTo>
                            <a:lnTo>
                              <a:pt x="3" y="147"/>
                            </a:lnTo>
                            <a:lnTo>
                              <a:pt x="3" y="143"/>
                            </a:lnTo>
                            <a:lnTo>
                              <a:pt x="3" y="139"/>
                            </a:lnTo>
                            <a:lnTo>
                              <a:pt x="3" y="136"/>
                            </a:lnTo>
                            <a:lnTo>
                              <a:pt x="3" y="132"/>
                            </a:lnTo>
                            <a:lnTo>
                              <a:pt x="3" y="128"/>
                            </a:lnTo>
                            <a:lnTo>
                              <a:pt x="3" y="124"/>
                            </a:lnTo>
                            <a:lnTo>
                              <a:pt x="1" y="119"/>
                            </a:lnTo>
                            <a:lnTo>
                              <a:pt x="1" y="115"/>
                            </a:lnTo>
                            <a:lnTo>
                              <a:pt x="1" y="113"/>
                            </a:lnTo>
                            <a:lnTo>
                              <a:pt x="0" y="108"/>
                            </a:lnTo>
                            <a:lnTo>
                              <a:pt x="0" y="104"/>
                            </a:lnTo>
                            <a:lnTo>
                              <a:pt x="0" y="100"/>
                            </a:lnTo>
                            <a:lnTo>
                              <a:pt x="0" y="98"/>
                            </a:lnTo>
                            <a:lnTo>
                              <a:pt x="0" y="93"/>
                            </a:lnTo>
                            <a:lnTo>
                              <a:pt x="0" y="89"/>
                            </a:lnTo>
                            <a:lnTo>
                              <a:pt x="0" y="85"/>
                            </a:lnTo>
                            <a:lnTo>
                              <a:pt x="0" y="82"/>
                            </a:lnTo>
                            <a:lnTo>
                              <a:pt x="0" y="78"/>
                            </a:lnTo>
                            <a:lnTo>
                              <a:pt x="0" y="74"/>
                            </a:lnTo>
                            <a:lnTo>
                              <a:pt x="0" y="70"/>
                            </a:lnTo>
                            <a:lnTo>
                              <a:pt x="0" y="67"/>
                            </a:lnTo>
                            <a:lnTo>
                              <a:pt x="0" y="63"/>
                            </a:lnTo>
                            <a:lnTo>
                              <a:pt x="0" y="59"/>
                            </a:lnTo>
                            <a:lnTo>
                              <a:pt x="0" y="55"/>
                            </a:lnTo>
                            <a:lnTo>
                              <a:pt x="0" y="52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0" y="37"/>
                            </a:lnTo>
                            <a:lnTo>
                              <a:pt x="0" y="33"/>
                            </a:lnTo>
                            <a:lnTo>
                              <a:pt x="0" y="29"/>
                            </a:lnTo>
                            <a:lnTo>
                              <a:pt x="0" y="25"/>
                            </a:lnTo>
                            <a:lnTo>
                              <a:pt x="0" y="21"/>
                            </a:ln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" y="10"/>
                            </a:lnTo>
                            <a:lnTo>
                              <a:pt x="1" y="6"/>
                            </a:lnTo>
                            <a:lnTo>
                              <a:pt x="3" y="3"/>
                            </a:lnTo>
                            <a:lnTo>
                              <a:pt x="6" y="1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3" name="Freeform 133"/>
                      <p:cNvSpPr/>
                      <p:nvPr/>
                    </p:nvSpPr>
                    <p:spPr>
                      <a:xfrm>
                        <a:off x="2883240" y="2899800"/>
                        <a:ext cx="3600" cy="4896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48960"/>
                          <a:gd name="textAreaBottom" fmla="*/ 49320 h 48960"/>
                        </a:gdLst>
                        <a:ahLst/>
                        <a:rect l="textAreaLeft" t="textAreaTop" r="textAreaRight" b="textAreaBottom"/>
                        <a:pathLst>
                          <a:path w="44" h="486">
                            <a:moveTo>
                              <a:pt x="15" y="0"/>
                            </a:moveTo>
                            <a:lnTo>
                              <a:pt x="17" y="3"/>
                            </a:lnTo>
                            <a:lnTo>
                              <a:pt x="20" y="9"/>
                            </a:lnTo>
                            <a:lnTo>
                              <a:pt x="23" y="13"/>
                            </a:lnTo>
                            <a:lnTo>
                              <a:pt x="26" y="17"/>
                            </a:lnTo>
                            <a:lnTo>
                              <a:pt x="27" y="22"/>
                            </a:lnTo>
                            <a:lnTo>
                              <a:pt x="29" y="27"/>
                            </a:lnTo>
                            <a:lnTo>
                              <a:pt x="31" y="32"/>
                            </a:lnTo>
                            <a:lnTo>
                              <a:pt x="32" y="38"/>
                            </a:lnTo>
                            <a:lnTo>
                              <a:pt x="34" y="43"/>
                            </a:lnTo>
                            <a:lnTo>
                              <a:pt x="34" y="47"/>
                            </a:lnTo>
                            <a:lnTo>
                              <a:pt x="34" y="53"/>
                            </a:lnTo>
                            <a:lnTo>
                              <a:pt x="35" y="58"/>
                            </a:lnTo>
                            <a:lnTo>
                              <a:pt x="35" y="64"/>
                            </a:lnTo>
                            <a:lnTo>
                              <a:pt x="35" y="69"/>
                            </a:lnTo>
                            <a:lnTo>
                              <a:pt x="35" y="75"/>
                            </a:lnTo>
                            <a:lnTo>
                              <a:pt x="35" y="81"/>
                            </a:lnTo>
                            <a:lnTo>
                              <a:pt x="35" y="87"/>
                            </a:lnTo>
                            <a:lnTo>
                              <a:pt x="35" y="92"/>
                            </a:lnTo>
                            <a:lnTo>
                              <a:pt x="35" y="98"/>
                            </a:lnTo>
                            <a:lnTo>
                              <a:pt x="35" y="105"/>
                            </a:lnTo>
                            <a:lnTo>
                              <a:pt x="34" y="110"/>
                            </a:lnTo>
                            <a:lnTo>
                              <a:pt x="34" y="116"/>
                            </a:lnTo>
                            <a:lnTo>
                              <a:pt x="34" y="121"/>
                            </a:lnTo>
                            <a:lnTo>
                              <a:pt x="35" y="128"/>
                            </a:lnTo>
                            <a:lnTo>
                              <a:pt x="35" y="134"/>
                            </a:lnTo>
                            <a:lnTo>
                              <a:pt x="35" y="139"/>
                            </a:lnTo>
                            <a:lnTo>
                              <a:pt x="35" y="145"/>
                            </a:lnTo>
                            <a:lnTo>
                              <a:pt x="35" y="150"/>
                            </a:lnTo>
                            <a:lnTo>
                              <a:pt x="37" y="156"/>
                            </a:lnTo>
                            <a:lnTo>
                              <a:pt x="38" y="161"/>
                            </a:lnTo>
                            <a:lnTo>
                              <a:pt x="38" y="167"/>
                            </a:lnTo>
                            <a:lnTo>
                              <a:pt x="40" y="173"/>
                            </a:lnTo>
                            <a:lnTo>
                              <a:pt x="40" y="178"/>
                            </a:lnTo>
                            <a:lnTo>
                              <a:pt x="40" y="182"/>
                            </a:lnTo>
                            <a:lnTo>
                              <a:pt x="38" y="186"/>
                            </a:lnTo>
                            <a:lnTo>
                              <a:pt x="38" y="191"/>
                            </a:lnTo>
                            <a:lnTo>
                              <a:pt x="38" y="195"/>
                            </a:lnTo>
                            <a:lnTo>
                              <a:pt x="38" y="199"/>
                            </a:lnTo>
                            <a:lnTo>
                              <a:pt x="38" y="205"/>
                            </a:lnTo>
                            <a:lnTo>
                              <a:pt x="38" y="209"/>
                            </a:lnTo>
                            <a:lnTo>
                              <a:pt x="38" y="213"/>
                            </a:lnTo>
                            <a:lnTo>
                              <a:pt x="38" y="219"/>
                            </a:lnTo>
                            <a:lnTo>
                              <a:pt x="38" y="223"/>
                            </a:lnTo>
                            <a:lnTo>
                              <a:pt x="38" y="228"/>
                            </a:lnTo>
                            <a:lnTo>
                              <a:pt x="38" y="232"/>
                            </a:lnTo>
                            <a:lnTo>
                              <a:pt x="38" y="237"/>
                            </a:lnTo>
                            <a:lnTo>
                              <a:pt x="38" y="242"/>
                            </a:lnTo>
                            <a:lnTo>
                              <a:pt x="38" y="246"/>
                            </a:lnTo>
                            <a:lnTo>
                              <a:pt x="38" y="252"/>
                            </a:lnTo>
                            <a:lnTo>
                              <a:pt x="38" y="256"/>
                            </a:lnTo>
                            <a:lnTo>
                              <a:pt x="38" y="260"/>
                            </a:lnTo>
                            <a:lnTo>
                              <a:pt x="38" y="265"/>
                            </a:lnTo>
                            <a:lnTo>
                              <a:pt x="38" y="269"/>
                            </a:lnTo>
                            <a:lnTo>
                              <a:pt x="38" y="274"/>
                            </a:lnTo>
                            <a:lnTo>
                              <a:pt x="38" y="279"/>
                            </a:lnTo>
                            <a:lnTo>
                              <a:pt x="38" y="283"/>
                            </a:lnTo>
                            <a:lnTo>
                              <a:pt x="38" y="289"/>
                            </a:lnTo>
                            <a:lnTo>
                              <a:pt x="38" y="293"/>
                            </a:lnTo>
                            <a:lnTo>
                              <a:pt x="38" y="297"/>
                            </a:lnTo>
                            <a:lnTo>
                              <a:pt x="40" y="302"/>
                            </a:lnTo>
                            <a:lnTo>
                              <a:pt x="40" y="307"/>
                            </a:lnTo>
                            <a:lnTo>
                              <a:pt x="40" y="311"/>
                            </a:lnTo>
                            <a:lnTo>
                              <a:pt x="40" y="316"/>
                            </a:lnTo>
                            <a:lnTo>
                              <a:pt x="41" y="320"/>
                            </a:lnTo>
                            <a:lnTo>
                              <a:pt x="41" y="324"/>
                            </a:lnTo>
                            <a:lnTo>
                              <a:pt x="41" y="329"/>
                            </a:lnTo>
                            <a:lnTo>
                              <a:pt x="41" y="334"/>
                            </a:lnTo>
                            <a:lnTo>
                              <a:pt x="41" y="338"/>
                            </a:lnTo>
                            <a:lnTo>
                              <a:pt x="41" y="344"/>
                            </a:lnTo>
                            <a:lnTo>
                              <a:pt x="41" y="348"/>
                            </a:lnTo>
                            <a:lnTo>
                              <a:pt x="41" y="352"/>
                            </a:lnTo>
                            <a:lnTo>
                              <a:pt x="41" y="357"/>
                            </a:lnTo>
                            <a:lnTo>
                              <a:pt x="41" y="361"/>
                            </a:lnTo>
                            <a:lnTo>
                              <a:pt x="41" y="366"/>
                            </a:lnTo>
                            <a:lnTo>
                              <a:pt x="41" y="371"/>
                            </a:lnTo>
                            <a:lnTo>
                              <a:pt x="41" y="375"/>
                            </a:lnTo>
                            <a:lnTo>
                              <a:pt x="41" y="381"/>
                            </a:lnTo>
                            <a:lnTo>
                              <a:pt x="43" y="385"/>
                            </a:lnTo>
                            <a:lnTo>
                              <a:pt x="43" y="389"/>
                            </a:lnTo>
                            <a:lnTo>
                              <a:pt x="43" y="394"/>
                            </a:lnTo>
                            <a:lnTo>
                              <a:pt x="43" y="399"/>
                            </a:lnTo>
                            <a:lnTo>
                              <a:pt x="43" y="403"/>
                            </a:lnTo>
                            <a:lnTo>
                              <a:pt x="43" y="408"/>
                            </a:lnTo>
                            <a:lnTo>
                              <a:pt x="44" y="412"/>
                            </a:lnTo>
                            <a:lnTo>
                              <a:pt x="44" y="418"/>
                            </a:lnTo>
                            <a:lnTo>
                              <a:pt x="44" y="422"/>
                            </a:lnTo>
                            <a:lnTo>
                              <a:pt x="44" y="426"/>
                            </a:lnTo>
                            <a:lnTo>
                              <a:pt x="44" y="431"/>
                            </a:lnTo>
                            <a:lnTo>
                              <a:pt x="44" y="436"/>
                            </a:lnTo>
                            <a:lnTo>
                              <a:pt x="44" y="441"/>
                            </a:lnTo>
                            <a:lnTo>
                              <a:pt x="44" y="445"/>
                            </a:lnTo>
                            <a:lnTo>
                              <a:pt x="44" y="451"/>
                            </a:lnTo>
                            <a:lnTo>
                              <a:pt x="44" y="455"/>
                            </a:lnTo>
                            <a:lnTo>
                              <a:pt x="44" y="460"/>
                            </a:lnTo>
                            <a:lnTo>
                              <a:pt x="44" y="464"/>
                            </a:lnTo>
                            <a:lnTo>
                              <a:pt x="44" y="470"/>
                            </a:lnTo>
                            <a:lnTo>
                              <a:pt x="41" y="474"/>
                            </a:lnTo>
                            <a:lnTo>
                              <a:pt x="38" y="478"/>
                            </a:lnTo>
                            <a:lnTo>
                              <a:pt x="34" y="481"/>
                            </a:lnTo>
                            <a:lnTo>
                              <a:pt x="31" y="486"/>
                            </a:lnTo>
                            <a:lnTo>
                              <a:pt x="26" y="482"/>
                            </a:lnTo>
                            <a:lnTo>
                              <a:pt x="23" y="480"/>
                            </a:lnTo>
                            <a:lnTo>
                              <a:pt x="20" y="475"/>
                            </a:lnTo>
                            <a:lnTo>
                              <a:pt x="18" y="473"/>
                            </a:lnTo>
                            <a:lnTo>
                              <a:pt x="17" y="469"/>
                            </a:lnTo>
                            <a:lnTo>
                              <a:pt x="15" y="464"/>
                            </a:lnTo>
                            <a:lnTo>
                              <a:pt x="14" y="462"/>
                            </a:lnTo>
                            <a:lnTo>
                              <a:pt x="14" y="458"/>
                            </a:lnTo>
                            <a:lnTo>
                              <a:pt x="12" y="453"/>
                            </a:lnTo>
                            <a:lnTo>
                              <a:pt x="12" y="449"/>
                            </a:lnTo>
                            <a:lnTo>
                              <a:pt x="11" y="445"/>
                            </a:lnTo>
                            <a:lnTo>
                              <a:pt x="11" y="442"/>
                            </a:lnTo>
                            <a:lnTo>
                              <a:pt x="11" y="437"/>
                            </a:lnTo>
                            <a:lnTo>
                              <a:pt x="11" y="434"/>
                            </a:lnTo>
                            <a:lnTo>
                              <a:pt x="12" y="430"/>
                            </a:lnTo>
                            <a:lnTo>
                              <a:pt x="12" y="426"/>
                            </a:lnTo>
                            <a:lnTo>
                              <a:pt x="12" y="422"/>
                            </a:lnTo>
                            <a:lnTo>
                              <a:pt x="12" y="418"/>
                            </a:lnTo>
                            <a:lnTo>
                              <a:pt x="14" y="414"/>
                            </a:lnTo>
                            <a:lnTo>
                              <a:pt x="14" y="409"/>
                            </a:lnTo>
                            <a:lnTo>
                              <a:pt x="14" y="405"/>
                            </a:lnTo>
                            <a:lnTo>
                              <a:pt x="15" y="401"/>
                            </a:lnTo>
                            <a:lnTo>
                              <a:pt x="15" y="397"/>
                            </a:lnTo>
                            <a:lnTo>
                              <a:pt x="17" y="394"/>
                            </a:lnTo>
                            <a:lnTo>
                              <a:pt x="17" y="389"/>
                            </a:lnTo>
                            <a:lnTo>
                              <a:pt x="17" y="385"/>
                            </a:lnTo>
                            <a:lnTo>
                              <a:pt x="17" y="382"/>
                            </a:lnTo>
                            <a:lnTo>
                              <a:pt x="17" y="378"/>
                            </a:lnTo>
                            <a:lnTo>
                              <a:pt x="15" y="374"/>
                            </a:lnTo>
                            <a:lnTo>
                              <a:pt x="15" y="370"/>
                            </a:lnTo>
                            <a:lnTo>
                              <a:pt x="15" y="367"/>
                            </a:lnTo>
                            <a:lnTo>
                              <a:pt x="15" y="363"/>
                            </a:lnTo>
                            <a:lnTo>
                              <a:pt x="14" y="357"/>
                            </a:lnTo>
                            <a:lnTo>
                              <a:pt x="14" y="352"/>
                            </a:lnTo>
                            <a:lnTo>
                              <a:pt x="14" y="346"/>
                            </a:lnTo>
                            <a:lnTo>
                              <a:pt x="14" y="341"/>
                            </a:lnTo>
                            <a:lnTo>
                              <a:pt x="14" y="335"/>
                            </a:lnTo>
                            <a:lnTo>
                              <a:pt x="14" y="330"/>
                            </a:lnTo>
                            <a:lnTo>
                              <a:pt x="14" y="324"/>
                            </a:lnTo>
                            <a:lnTo>
                              <a:pt x="14" y="319"/>
                            </a:lnTo>
                            <a:lnTo>
                              <a:pt x="14" y="313"/>
                            </a:lnTo>
                            <a:lnTo>
                              <a:pt x="14" y="308"/>
                            </a:lnTo>
                            <a:lnTo>
                              <a:pt x="14" y="304"/>
                            </a:lnTo>
                            <a:lnTo>
                              <a:pt x="14" y="298"/>
                            </a:lnTo>
                            <a:lnTo>
                              <a:pt x="14" y="293"/>
                            </a:lnTo>
                            <a:lnTo>
                              <a:pt x="14" y="287"/>
                            </a:lnTo>
                            <a:lnTo>
                              <a:pt x="14" y="282"/>
                            </a:lnTo>
                            <a:lnTo>
                              <a:pt x="14" y="276"/>
                            </a:lnTo>
                            <a:lnTo>
                              <a:pt x="12" y="271"/>
                            </a:lnTo>
                            <a:lnTo>
                              <a:pt x="12" y="265"/>
                            </a:lnTo>
                            <a:lnTo>
                              <a:pt x="12" y="261"/>
                            </a:lnTo>
                            <a:lnTo>
                              <a:pt x="12" y="256"/>
                            </a:lnTo>
                            <a:lnTo>
                              <a:pt x="12" y="250"/>
                            </a:lnTo>
                            <a:lnTo>
                              <a:pt x="12" y="245"/>
                            </a:lnTo>
                            <a:lnTo>
                              <a:pt x="12" y="239"/>
                            </a:lnTo>
                            <a:lnTo>
                              <a:pt x="12" y="234"/>
                            </a:lnTo>
                            <a:lnTo>
                              <a:pt x="11" y="228"/>
                            </a:lnTo>
                            <a:lnTo>
                              <a:pt x="11" y="223"/>
                            </a:lnTo>
                            <a:lnTo>
                              <a:pt x="11" y="217"/>
                            </a:lnTo>
                            <a:lnTo>
                              <a:pt x="11" y="213"/>
                            </a:lnTo>
                            <a:lnTo>
                              <a:pt x="11" y="208"/>
                            </a:lnTo>
                            <a:lnTo>
                              <a:pt x="11" y="202"/>
                            </a:lnTo>
                            <a:lnTo>
                              <a:pt x="11" y="197"/>
                            </a:lnTo>
                            <a:lnTo>
                              <a:pt x="11" y="193"/>
                            </a:lnTo>
                            <a:lnTo>
                              <a:pt x="11" y="186"/>
                            </a:lnTo>
                            <a:lnTo>
                              <a:pt x="11" y="182"/>
                            </a:lnTo>
                            <a:lnTo>
                              <a:pt x="9" y="176"/>
                            </a:lnTo>
                            <a:lnTo>
                              <a:pt x="9" y="171"/>
                            </a:lnTo>
                            <a:lnTo>
                              <a:pt x="9" y="165"/>
                            </a:lnTo>
                            <a:lnTo>
                              <a:pt x="9" y="160"/>
                            </a:lnTo>
                            <a:lnTo>
                              <a:pt x="8" y="154"/>
                            </a:lnTo>
                            <a:lnTo>
                              <a:pt x="8" y="149"/>
                            </a:lnTo>
                            <a:lnTo>
                              <a:pt x="8" y="143"/>
                            </a:lnTo>
                            <a:lnTo>
                              <a:pt x="8" y="139"/>
                            </a:lnTo>
                            <a:lnTo>
                              <a:pt x="6" y="134"/>
                            </a:lnTo>
                            <a:lnTo>
                              <a:pt x="6" y="128"/>
                            </a:lnTo>
                            <a:lnTo>
                              <a:pt x="6" y="123"/>
                            </a:lnTo>
                            <a:lnTo>
                              <a:pt x="6" y="117"/>
                            </a:lnTo>
                            <a:lnTo>
                              <a:pt x="6" y="112"/>
                            </a:lnTo>
                            <a:lnTo>
                              <a:pt x="6" y="108"/>
                            </a:lnTo>
                            <a:lnTo>
                              <a:pt x="6" y="102"/>
                            </a:lnTo>
                            <a:lnTo>
                              <a:pt x="5" y="97"/>
                            </a:lnTo>
                            <a:lnTo>
                              <a:pt x="5" y="91"/>
                            </a:lnTo>
                            <a:lnTo>
                              <a:pt x="5" y="86"/>
                            </a:lnTo>
                            <a:lnTo>
                              <a:pt x="3" y="80"/>
                            </a:lnTo>
                            <a:lnTo>
                              <a:pt x="3" y="75"/>
                            </a:lnTo>
                            <a:lnTo>
                              <a:pt x="3" y="70"/>
                            </a:lnTo>
                            <a:lnTo>
                              <a:pt x="3" y="65"/>
                            </a:lnTo>
                            <a:lnTo>
                              <a:pt x="3" y="59"/>
                            </a:lnTo>
                            <a:lnTo>
                              <a:pt x="1" y="54"/>
                            </a:lnTo>
                            <a:lnTo>
                              <a:pt x="1" y="48"/>
                            </a:lnTo>
                            <a:lnTo>
                              <a:pt x="1" y="43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0" y="28"/>
                            </a:lnTo>
                            <a:lnTo>
                              <a:pt x="0" y="22"/>
                            </a:lnTo>
                            <a:lnTo>
                              <a:pt x="0" y="20"/>
                            </a:lnTo>
                            <a:lnTo>
                              <a:pt x="1" y="17"/>
                            </a:lnTo>
                            <a:lnTo>
                              <a:pt x="5" y="13"/>
                            </a:lnTo>
                            <a:lnTo>
                              <a:pt x="6" y="10"/>
                            </a:lnTo>
                            <a:lnTo>
                              <a:pt x="9" y="6"/>
                            </a:lnTo>
                            <a:lnTo>
                              <a:pt x="11" y="3"/>
                            </a:lnTo>
                            <a:lnTo>
                              <a:pt x="14" y="2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Freeform 134"/>
                      <p:cNvSpPr/>
                      <p:nvPr/>
                    </p:nvSpPr>
                    <p:spPr>
                      <a:xfrm>
                        <a:off x="2814480" y="2959200"/>
                        <a:ext cx="76680" cy="3240"/>
                      </a:xfrm>
                      <a:custGeom>
                        <a:avLst/>
                        <a:gdLst>
                          <a:gd name="textAreaLeft" fmla="*/ 0 w 76680"/>
                          <a:gd name="textAreaRight" fmla="*/ 77040 w 7668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850" h="34">
                            <a:moveTo>
                              <a:pt x="465" y="0"/>
                            </a:moveTo>
                            <a:lnTo>
                              <a:pt x="469" y="0"/>
                            </a:lnTo>
                            <a:lnTo>
                              <a:pt x="475" y="0"/>
                            </a:lnTo>
                            <a:lnTo>
                              <a:pt x="482" y="0"/>
                            </a:lnTo>
                            <a:lnTo>
                              <a:pt x="486" y="0"/>
                            </a:lnTo>
                            <a:lnTo>
                              <a:pt x="492" y="0"/>
                            </a:lnTo>
                            <a:lnTo>
                              <a:pt x="498" y="0"/>
                            </a:lnTo>
                            <a:lnTo>
                              <a:pt x="503" y="0"/>
                            </a:lnTo>
                            <a:lnTo>
                              <a:pt x="509" y="1"/>
                            </a:lnTo>
                            <a:lnTo>
                              <a:pt x="515" y="1"/>
                            </a:lnTo>
                            <a:lnTo>
                              <a:pt x="521" y="1"/>
                            </a:lnTo>
                            <a:lnTo>
                              <a:pt x="527" y="1"/>
                            </a:lnTo>
                            <a:lnTo>
                              <a:pt x="534" y="1"/>
                            </a:lnTo>
                            <a:lnTo>
                              <a:pt x="538" y="1"/>
                            </a:lnTo>
                            <a:lnTo>
                              <a:pt x="544" y="1"/>
                            </a:lnTo>
                            <a:lnTo>
                              <a:pt x="550" y="1"/>
                            </a:lnTo>
                            <a:lnTo>
                              <a:pt x="556" y="1"/>
                            </a:lnTo>
                            <a:lnTo>
                              <a:pt x="561" y="1"/>
                            </a:lnTo>
                            <a:lnTo>
                              <a:pt x="567" y="1"/>
                            </a:lnTo>
                            <a:lnTo>
                              <a:pt x="573" y="1"/>
                            </a:lnTo>
                            <a:lnTo>
                              <a:pt x="578" y="1"/>
                            </a:lnTo>
                            <a:lnTo>
                              <a:pt x="584" y="1"/>
                            </a:lnTo>
                            <a:lnTo>
                              <a:pt x="590" y="1"/>
                            </a:lnTo>
                            <a:lnTo>
                              <a:pt x="595" y="1"/>
                            </a:lnTo>
                            <a:lnTo>
                              <a:pt x="601" y="1"/>
                            </a:lnTo>
                            <a:lnTo>
                              <a:pt x="607" y="1"/>
                            </a:lnTo>
                            <a:lnTo>
                              <a:pt x="613" y="1"/>
                            </a:lnTo>
                            <a:lnTo>
                              <a:pt x="619" y="1"/>
                            </a:lnTo>
                            <a:lnTo>
                              <a:pt x="625" y="1"/>
                            </a:lnTo>
                            <a:lnTo>
                              <a:pt x="630" y="1"/>
                            </a:lnTo>
                            <a:lnTo>
                              <a:pt x="636" y="1"/>
                            </a:lnTo>
                            <a:lnTo>
                              <a:pt x="642" y="1"/>
                            </a:lnTo>
                            <a:lnTo>
                              <a:pt x="648" y="3"/>
                            </a:lnTo>
                            <a:lnTo>
                              <a:pt x="653" y="1"/>
                            </a:lnTo>
                            <a:lnTo>
                              <a:pt x="659" y="1"/>
                            </a:lnTo>
                            <a:lnTo>
                              <a:pt x="665" y="1"/>
                            </a:lnTo>
                            <a:lnTo>
                              <a:pt x="671" y="1"/>
                            </a:lnTo>
                            <a:lnTo>
                              <a:pt x="676" y="1"/>
                            </a:lnTo>
                            <a:lnTo>
                              <a:pt x="682" y="1"/>
                            </a:lnTo>
                            <a:lnTo>
                              <a:pt x="688" y="1"/>
                            </a:lnTo>
                            <a:lnTo>
                              <a:pt x="694" y="1"/>
                            </a:lnTo>
                            <a:lnTo>
                              <a:pt x="699" y="1"/>
                            </a:lnTo>
                            <a:lnTo>
                              <a:pt x="705" y="1"/>
                            </a:lnTo>
                            <a:lnTo>
                              <a:pt x="711" y="1"/>
                            </a:lnTo>
                            <a:lnTo>
                              <a:pt x="716" y="1"/>
                            </a:lnTo>
                            <a:lnTo>
                              <a:pt x="722" y="1"/>
                            </a:lnTo>
                            <a:lnTo>
                              <a:pt x="728" y="1"/>
                            </a:lnTo>
                            <a:lnTo>
                              <a:pt x="732" y="1"/>
                            </a:lnTo>
                            <a:lnTo>
                              <a:pt x="740" y="1"/>
                            </a:lnTo>
                            <a:lnTo>
                              <a:pt x="745" y="0"/>
                            </a:lnTo>
                            <a:lnTo>
                              <a:pt x="751" y="0"/>
                            </a:lnTo>
                            <a:lnTo>
                              <a:pt x="757" y="0"/>
                            </a:lnTo>
                            <a:lnTo>
                              <a:pt x="761" y="0"/>
                            </a:lnTo>
                            <a:lnTo>
                              <a:pt x="768" y="0"/>
                            </a:lnTo>
                            <a:lnTo>
                              <a:pt x="774" y="0"/>
                            </a:lnTo>
                            <a:lnTo>
                              <a:pt x="778" y="0"/>
                            </a:lnTo>
                            <a:lnTo>
                              <a:pt x="784" y="0"/>
                            </a:lnTo>
                            <a:lnTo>
                              <a:pt x="791" y="0"/>
                            </a:lnTo>
                            <a:lnTo>
                              <a:pt x="797" y="0"/>
                            </a:lnTo>
                            <a:lnTo>
                              <a:pt x="801" y="0"/>
                            </a:lnTo>
                            <a:lnTo>
                              <a:pt x="807" y="0"/>
                            </a:lnTo>
                            <a:lnTo>
                              <a:pt x="813" y="0"/>
                            </a:lnTo>
                            <a:lnTo>
                              <a:pt x="818" y="0"/>
                            </a:lnTo>
                            <a:lnTo>
                              <a:pt x="824" y="0"/>
                            </a:lnTo>
                            <a:lnTo>
                              <a:pt x="830" y="0"/>
                            </a:lnTo>
                            <a:lnTo>
                              <a:pt x="835" y="4"/>
                            </a:lnTo>
                            <a:lnTo>
                              <a:pt x="839" y="8"/>
                            </a:lnTo>
                            <a:lnTo>
                              <a:pt x="846" y="12"/>
                            </a:lnTo>
                            <a:lnTo>
                              <a:pt x="850" y="16"/>
                            </a:lnTo>
                            <a:lnTo>
                              <a:pt x="846" y="18"/>
                            </a:lnTo>
                            <a:lnTo>
                              <a:pt x="841" y="22"/>
                            </a:lnTo>
                            <a:lnTo>
                              <a:pt x="836" y="26"/>
                            </a:lnTo>
                            <a:lnTo>
                              <a:pt x="833" y="30"/>
                            </a:lnTo>
                            <a:lnTo>
                              <a:pt x="820" y="29"/>
                            </a:lnTo>
                            <a:lnTo>
                              <a:pt x="807" y="29"/>
                            </a:lnTo>
                            <a:lnTo>
                              <a:pt x="794" y="29"/>
                            </a:lnTo>
                            <a:lnTo>
                              <a:pt x="780" y="29"/>
                            </a:lnTo>
                            <a:lnTo>
                              <a:pt x="768" y="29"/>
                            </a:lnTo>
                            <a:lnTo>
                              <a:pt x="754" y="29"/>
                            </a:lnTo>
                            <a:lnTo>
                              <a:pt x="742" y="29"/>
                            </a:lnTo>
                            <a:lnTo>
                              <a:pt x="728" y="29"/>
                            </a:lnTo>
                            <a:lnTo>
                              <a:pt x="716" y="29"/>
                            </a:lnTo>
                            <a:lnTo>
                              <a:pt x="702" y="29"/>
                            </a:lnTo>
                            <a:lnTo>
                              <a:pt x="688" y="29"/>
                            </a:lnTo>
                            <a:lnTo>
                              <a:pt x="676" y="29"/>
                            </a:lnTo>
                            <a:lnTo>
                              <a:pt x="664" y="29"/>
                            </a:lnTo>
                            <a:lnTo>
                              <a:pt x="650" y="29"/>
                            </a:lnTo>
                            <a:lnTo>
                              <a:pt x="638" y="29"/>
                            </a:lnTo>
                            <a:lnTo>
                              <a:pt x="625" y="29"/>
                            </a:lnTo>
                            <a:lnTo>
                              <a:pt x="612" y="29"/>
                            </a:lnTo>
                            <a:lnTo>
                              <a:pt x="598" y="29"/>
                            </a:lnTo>
                            <a:lnTo>
                              <a:pt x="586" y="29"/>
                            </a:lnTo>
                            <a:lnTo>
                              <a:pt x="573" y="29"/>
                            </a:lnTo>
                            <a:lnTo>
                              <a:pt x="560" y="29"/>
                            </a:lnTo>
                            <a:lnTo>
                              <a:pt x="547" y="29"/>
                            </a:lnTo>
                            <a:lnTo>
                              <a:pt x="534" y="29"/>
                            </a:lnTo>
                            <a:lnTo>
                              <a:pt x="521" y="29"/>
                            </a:lnTo>
                            <a:lnTo>
                              <a:pt x="509" y="29"/>
                            </a:lnTo>
                            <a:lnTo>
                              <a:pt x="495" y="29"/>
                            </a:lnTo>
                            <a:lnTo>
                              <a:pt x="482" y="29"/>
                            </a:lnTo>
                            <a:lnTo>
                              <a:pt x="469" y="29"/>
                            </a:lnTo>
                            <a:lnTo>
                              <a:pt x="457" y="29"/>
                            </a:lnTo>
                            <a:lnTo>
                              <a:pt x="445" y="30"/>
                            </a:lnTo>
                            <a:lnTo>
                              <a:pt x="431" y="30"/>
                            </a:lnTo>
                            <a:lnTo>
                              <a:pt x="419" y="30"/>
                            </a:lnTo>
                            <a:lnTo>
                              <a:pt x="405" y="30"/>
                            </a:lnTo>
                            <a:lnTo>
                              <a:pt x="393" y="30"/>
                            </a:lnTo>
                            <a:lnTo>
                              <a:pt x="379" y="30"/>
                            </a:lnTo>
                            <a:lnTo>
                              <a:pt x="367" y="30"/>
                            </a:lnTo>
                            <a:lnTo>
                              <a:pt x="353" y="30"/>
                            </a:lnTo>
                            <a:lnTo>
                              <a:pt x="341" y="32"/>
                            </a:lnTo>
                            <a:lnTo>
                              <a:pt x="327" y="32"/>
                            </a:lnTo>
                            <a:lnTo>
                              <a:pt x="315" y="32"/>
                            </a:lnTo>
                            <a:lnTo>
                              <a:pt x="303" y="32"/>
                            </a:lnTo>
                            <a:lnTo>
                              <a:pt x="289" y="32"/>
                            </a:lnTo>
                            <a:lnTo>
                              <a:pt x="277" y="32"/>
                            </a:lnTo>
                            <a:lnTo>
                              <a:pt x="264" y="32"/>
                            </a:lnTo>
                            <a:lnTo>
                              <a:pt x="251" y="32"/>
                            </a:lnTo>
                            <a:lnTo>
                              <a:pt x="238" y="32"/>
                            </a:lnTo>
                            <a:lnTo>
                              <a:pt x="225" y="32"/>
                            </a:lnTo>
                            <a:lnTo>
                              <a:pt x="212" y="33"/>
                            </a:lnTo>
                            <a:lnTo>
                              <a:pt x="200" y="33"/>
                            </a:lnTo>
                            <a:lnTo>
                              <a:pt x="186" y="33"/>
                            </a:lnTo>
                            <a:lnTo>
                              <a:pt x="173" y="33"/>
                            </a:lnTo>
                            <a:lnTo>
                              <a:pt x="160" y="33"/>
                            </a:lnTo>
                            <a:lnTo>
                              <a:pt x="148" y="33"/>
                            </a:lnTo>
                            <a:lnTo>
                              <a:pt x="136" y="33"/>
                            </a:lnTo>
                            <a:lnTo>
                              <a:pt x="122" y="33"/>
                            </a:lnTo>
                            <a:lnTo>
                              <a:pt x="110" y="34"/>
                            </a:lnTo>
                            <a:lnTo>
                              <a:pt x="96" y="34"/>
                            </a:lnTo>
                            <a:lnTo>
                              <a:pt x="84" y="34"/>
                            </a:lnTo>
                            <a:lnTo>
                              <a:pt x="70" y="34"/>
                            </a:lnTo>
                            <a:lnTo>
                              <a:pt x="58" y="34"/>
                            </a:lnTo>
                            <a:lnTo>
                              <a:pt x="46" y="34"/>
                            </a:lnTo>
                            <a:lnTo>
                              <a:pt x="32" y="34"/>
                            </a:lnTo>
                            <a:lnTo>
                              <a:pt x="20" y="34"/>
                            </a:lnTo>
                            <a:lnTo>
                              <a:pt x="7" y="34"/>
                            </a:lnTo>
                            <a:lnTo>
                              <a:pt x="4" y="29"/>
                            </a:lnTo>
                            <a:lnTo>
                              <a:pt x="3" y="25"/>
                            </a:lnTo>
                            <a:lnTo>
                              <a:pt x="1" y="19"/>
                            </a:lnTo>
                            <a:lnTo>
                              <a:pt x="0" y="16"/>
                            </a:lnTo>
                            <a:lnTo>
                              <a:pt x="3" y="15"/>
                            </a:lnTo>
                            <a:lnTo>
                              <a:pt x="7" y="14"/>
                            </a:lnTo>
                            <a:lnTo>
                              <a:pt x="12" y="14"/>
                            </a:lnTo>
                            <a:lnTo>
                              <a:pt x="17" y="12"/>
                            </a:lnTo>
                            <a:lnTo>
                              <a:pt x="21" y="12"/>
                            </a:lnTo>
                            <a:lnTo>
                              <a:pt x="26" y="11"/>
                            </a:lnTo>
                            <a:lnTo>
                              <a:pt x="30" y="11"/>
                            </a:lnTo>
                            <a:lnTo>
                              <a:pt x="35" y="11"/>
                            </a:lnTo>
                            <a:lnTo>
                              <a:pt x="39" y="10"/>
                            </a:lnTo>
                            <a:lnTo>
                              <a:pt x="44" y="10"/>
                            </a:lnTo>
                            <a:lnTo>
                              <a:pt x="49" y="10"/>
                            </a:lnTo>
                            <a:lnTo>
                              <a:pt x="53" y="10"/>
                            </a:lnTo>
                            <a:lnTo>
                              <a:pt x="58" y="8"/>
                            </a:lnTo>
                            <a:lnTo>
                              <a:pt x="62" y="8"/>
                            </a:lnTo>
                            <a:lnTo>
                              <a:pt x="67" y="8"/>
                            </a:lnTo>
                            <a:lnTo>
                              <a:pt x="72" y="8"/>
                            </a:lnTo>
                            <a:lnTo>
                              <a:pt x="76" y="7"/>
                            </a:lnTo>
                            <a:lnTo>
                              <a:pt x="81" y="7"/>
                            </a:lnTo>
                            <a:lnTo>
                              <a:pt x="85" y="7"/>
                            </a:lnTo>
                            <a:lnTo>
                              <a:pt x="90" y="7"/>
                            </a:lnTo>
                            <a:lnTo>
                              <a:pt x="95" y="7"/>
                            </a:lnTo>
                            <a:lnTo>
                              <a:pt x="99" y="7"/>
                            </a:lnTo>
                            <a:lnTo>
                              <a:pt x="104" y="7"/>
                            </a:lnTo>
                            <a:lnTo>
                              <a:pt x="108" y="7"/>
                            </a:lnTo>
                            <a:lnTo>
                              <a:pt x="113" y="7"/>
                            </a:lnTo>
                            <a:lnTo>
                              <a:pt x="117" y="7"/>
                            </a:lnTo>
                            <a:lnTo>
                              <a:pt x="122" y="7"/>
                            </a:lnTo>
                            <a:lnTo>
                              <a:pt x="128" y="7"/>
                            </a:lnTo>
                            <a:lnTo>
                              <a:pt x="131" y="7"/>
                            </a:lnTo>
                            <a:lnTo>
                              <a:pt x="137" y="7"/>
                            </a:lnTo>
                            <a:lnTo>
                              <a:pt x="142" y="7"/>
                            </a:lnTo>
                            <a:lnTo>
                              <a:pt x="147" y="7"/>
                            </a:lnTo>
                            <a:lnTo>
                              <a:pt x="150" y="7"/>
                            </a:lnTo>
                            <a:lnTo>
                              <a:pt x="156" y="7"/>
                            </a:lnTo>
                            <a:lnTo>
                              <a:pt x="160" y="7"/>
                            </a:lnTo>
                            <a:lnTo>
                              <a:pt x="165" y="7"/>
                            </a:lnTo>
                            <a:lnTo>
                              <a:pt x="169" y="7"/>
                            </a:lnTo>
                            <a:lnTo>
                              <a:pt x="174" y="7"/>
                            </a:lnTo>
                            <a:lnTo>
                              <a:pt x="179" y="7"/>
                            </a:lnTo>
                            <a:lnTo>
                              <a:pt x="183" y="7"/>
                            </a:lnTo>
                            <a:lnTo>
                              <a:pt x="188" y="7"/>
                            </a:lnTo>
                            <a:lnTo>
                              <a:pt x="192" y="7"/>
                            </a:lnTo>
                            <a:lnTo>
                              <a:pt x="197" y="7"/>
                            </a:lnTo>
                            <a:lnTo>
                              <a:pt x="202" y="7"/>
                            </a:lnTo>
                            <a:lnTo>
                              <a:pt x="206" y="7"/>
                            </a:lnTo>
                            <a:lnTo>
                              <a:pt x="211" y="7"/>
                            </a:lnTo>
                            <a:lnTo>
                              <a:pt x="215" y="7"/>
                            </a:lnTo>
                            <a:lnTo>
                              <a:pt x="221" y="7"/>
                            </a:lnTo>
                            <a:lnTo>
                              <a:pt x="225" y="7"/>
                            </a:lnTo>
                            <a:lnTo>
                              <a:pt x="231" y="7"/>
                            </a:lnTo>
                            <a:lnTo>
                              <a:pt x="235" y="7"/>
                            </a:lnTo>
                            <a:lnTo>
                              <a:pt x="240" y="7"/>
                            </a:lnTo>
                            <a:lnTo>
                              <a:pt x="244" y="7"/>
                            </a:lnTo>
                            <a:lnTo>
                              <a:pt x="249" y="7"/>
                            </a:lnTo>
                            <a:lnTo>
                              <a:pt x="254" y="7"/>
                            </a:lnTo>
                            <a:lnTo>
                              <a:pt x="260" y="7"/>
                            </a:lnTo>
                            <a:lnTo>
                              <a:pt x="263" y="5"/>
                            </a:lnTo>
                            <a:lnTo>
                              <a:pt x="269" y="5"/>
                            </a:lnTo>
                            <a:lnTo>
                              <a:pt x="273" y="5"/>
                            </a:lnTo>
                            <a:lnTo>
                              <a:pt x="278" y="5"/>
                            </a:lnTo>
                            <a:lnTo>
                              <a:pt x="283" y="4"/>
                            </a:lnTo>
                            <a:lnTo>
                              <a:pt x="287" y="4"/>
                            </a:lnTo>
                            <a:lnTo>
                              <a:pt x="292" y="4"/>
                            </a:lnTo>
                            <a:lnTo>
                              <a:pt x="296" y="4"/>
                            </a:lnTo>
                            <a:lnTo>
                              <a:pt x="303" y="4"/>
                            </a:lnTo>
                            <a:lnTo>
                              <a:pt x="307" y="4"/>
                            </a:lnTo>
                            <a:lnTo>
                              <a:pt x="312" y="4"/>
                            </a:lnTo>
                            <a:lnTo>
                              <a:pt x="318" y="4"/>
                            </a:lnTo>
                            <a:lnTo>
                              <a:pt x="322" y="4"/>
                            </a:lnTo>
                            <a:lnTo>
                              <a:pt x="327" y="4"/>
                            </a:lnTo>
                            <a:lnTo>
                              <a:pt x="333" y="4"/>
                            </a:lnTo>
                            <a:lnTo>
                              <a:pt x="339" y="4"/>
                            </a:lnTo>
                            <a:lnTo>
                              <a:pt x="344" y="4"/>
                            </a:lnTo>
                            <a:lnTo>
                              <a:pt x="348" y="4"/>
                            </a:lnTo>
                            <a:lnTo>
                              <a:pt x="355" y="4"/>
                            </a:lnTo>
                            <a:lnTo>
                              <a:pt x="359" y="4"/>
                            </a:lnTo>
                            <a:lnTo>
                              <a:pt x="365" y="4"/>
                            </a:lnTo>
                            <a:lnTo>
                              <a:pt x="370" y="4"/>
                            </a:lnTo>
                            <a:lnTo>
                              <a:pt x="376" y="4"/>
                            </a:lnTo>
                            <a:lnTo>
                              <a:pt x="382" y="4"/>
                            </a:lnTo>
                            <a:lnTo>
                              <a:pt x="387" y="4"/>
                            </a:lnTo>
                            <a:lnTo>
                              <a:pt x="391" y="4"/>
                            </a:lnTo>
                            <a:lnTo>
                              <a:pt x="396" y="4"/>
                            </a:lnTo>
                            <a:lnTo>
                              <a:pt x="402" y="4"/>
                            </a:lnTo>
                            <a:lnTo>
                              <a:pt x="407" y="4"/>
                            </a:lnTo>
                            <a:lnTo>
                              <a:pt x="413" y="4"/>
                            </a:lnTo>
                            <a:lnTo>
                              <a:pt x="417" y="4"/>
                            </a:lnTo>
                            <a:lnTo>
                              <a:pt x="423" y="4"/>
                            </a:lnTo>
                            <a:lnTo>
                              <a:pt x="428" y="3"/>
                            </a:lnTo>
                            <a:lnTo>
                              <a:pt x="433" y="3"/>
                            </a:lnTo>
                            <a:lnTo>
                              <a:pt x="437" y="1"/>
                            </a:lnTo>
                            <a:lnTo>
                              <a:pt x="443" y="1"/>
                            </a:lnTo>
                            <a:lnTo>
                              <a:pt x="448" y="1"/>
                            </a:lnTo>
                            <a:lnTo>
                              <a:pt x="454" y="0"/>
                            </a:lnTo>
                            <a:lnTo>
                              <a:pt x="459" y="0"/>
                            </a:lnTo>
                            <a:lnTo>
                              <a:pt x="4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Freeform 135"/>
                      <p:cNvSpPr/>
                      <p:nvPr/>
                    </p:nvSpPr>
                    <p:spPr>
                      <a:xfrm>
                        <a:off x="2885040" y="2977920"/>
                        <a:ext cx="4320" cy="864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8640"/>
                          <a:gd name="textAreaBottom" fmla="*/ 9000 h 8640"/>
                        </a:gdLst>
                        <a:ahLst/>
                        <a:rect l="textAreaLeft" t="textAreaTop" r="textAreaRight" b="textAreaBottom"/>
                        <a:pathLst>
                          <a:path w="52" h="86">
                            <a:moveTo>
                              <a:pt x="9" y="0"/>
                            </a:moveTo>
                            <a:lnTo>
                              <a:pt x="15" y="1"/>
                            </a:lnTo>
                            <a:lnTo>
                              <a:pt x="21" y="5"/>
                            </a:lnTo>
                            <a:lnTo>
                              <a:pt x="24" y="8"/>
                            </a:lnTo>
                            <a:lnTo>
                              <a:pt x="29" y="11"/>
                            </a:lnTo>
                            <a:lnTo>
                              <a:pt x="32" y="14"/>
                            </a:lnTo>
                            <a:lnTo>
                              <a:pt x="34" y="19"/>
                            </a:lnTo>
                            <a:lnTo>
                              <a:pt x="35" y="23"/>
                            </a:lnTo>
                            <a:lnTo>
                              <a:pt x="38" y="29"/>
                            </a:lnTo>
                            <a:lnTo>
                              <a:pt x="38" y="33"/>
                            </a:lnTo>
                            <a:lnTo>
                              <a:pt x="40" y="38"/>
                            </a:lnTo>
                            <a:lnTo>
                              <a:pt x="40" y="44"/>
                            </a:lnTo>
                            <a:lnTo>
                              <a:pt x="41" y="48"/>
                            </a:lnTo>
                            <a:lnTo>
                              <a:pt x="43" y="54"/>
                            </a:lnTo>
                            <a:lnTo>
                              <a:pt x="46" y="58"/>
                            </a:lnTo>
                            <a:lnTo>
                              <a:pt x="49" y="62"/>
                            </a:lnTo>
                            <a:lnTo>
                              <a:pt x="52" y="67"/>
                            </a:lnTo>
                            <a:lnTo>
                              <a:pt x="52" y="71"/>
                            </a:lnTo>
                            <a:lnTo>
                              <a:pt x="49" y="77"/>
                            </a:lnTo>
                            <a:lnTo>
                              <a:pt x="46" y="82"/>
                            </a:lnTo>
                            <a:lnTo>
                              <a:pt x="44" y="86"/>
                            </a:lnTo>
                            <a:lnTo>
                              <a:pt x="41" y="85"/>
                            </a:lnTo>
                            <a:lnTo>
                              <a:pt x="37" y="85"/>
                            </a:lnTo>
                            <a:lnTo>
                              <a:pt x="34" y="82"/>
                            </a:lnTo>
                            <a:lnTo>
                              <a:pt x="32" y="82"/>
                            </a:lnTo>
                            <a:lnTo>
                              <a:pt x="26" y="78"/>
                            </a:lnTo>
                            <a:lnTo>
                              <a:pt x="23" y="74"/>
                            </a:lnTo>
                            <a:lnTo>
                              <a:pt x="18" y="70"/>
                            </a:lnTo>
                            <a:lnTo>
                              <a:pt x="15" y="65"/>
                            </a:lnTo>
                            <a:lnTo>
                              <a:pt x="12" y="60"/>
                            </a:lnTo>
                            <a:lnTo>
                              <a:pt x="11" y="55"/>
                            </a:lnTo>
                            <a:lnTo>
                              <a:pt x="8" y="48"/>
                            </a:lnTo>
                            <a:lnTo>
                              <a:pt x="6" y="43"/>
                            </a:lnTo>
                            <a:lnTo>
                              <a:pt x="4" y="37"/>
                            </a:lnTo>
                            <a:lnTo>
                              <a:pt x="4" y="32"/>
                            </a:lnTo>
                            <a:lnTo>
                              <a:pt x="3" y="26"/>
                            </a:lnTo>
                            <a:lnTo>
                              <a:pt x="1" y="21"/>
                            </a:lnTo>
                            <a:lnTo>
                              <a:pt x="0" y="15"/>
                            </a:lnTo>
                            <a:lnTo>
                              <a:pt x="0" y="10"/>
                            </a:lnTo>
                            <a:lnTo>
                              <a:pt x="1" y="8"/>
                            </a:lnTo>
                            <a:lnTo>
                              <a:pt x="4" y="5"/>
                            </a:lnTo>
                            <a:lnTo>
                              <a:pt x="8" y="3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Freeform 136"/>
                      <p:cNvSpPr/>
                      <p:nvPr/>
                    </p:nvSpPr>
                    <p:spPr>
                      <a:xfrm>
                        <a:off x="2878560" y="2978640"/>
                        <a:ext cx="3960" cy="7200"/>
                      </a:xfrm>
                      <a:custGeom>
                        <a:avLst/>
                        <a:gdLst>
                          <a:gd name="textAreaLeft" fmla="*/ 0 w 3960"/>
                          <a:gd name="textAreaRight" fmla="*/ 4320 w 396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8" h="73">
                            <a:moveTo>
                              <a:pt x="10" y="0"/>
                            </a:moveTo>
                            <a:lnTo>
                              <a:pt x="14" y="1"/>
                            </a:lnTo>
                            <a:lnTo>
                              <a:pt x="19" y="5"/>
                            </a:lnTo>
                            <a:lnTo>
                              <a:pt x="23" y="8"/>
                            </a:lnTo>
                            <a:lnTo>
                              <a:pt x="26" y="11"/>
                            </a:lnTo>
                            <a:lnTo>
                              <a:pt x="29" y="15"/>
                            </a:lnTo>
                            <a:lnTo>
                              <a:pt x="33" y="19"/>
                            </a:lnTo>
                            <a:lnTo>
                              <a:pt x="34" y="23"/>
                            </a:lnTo>
                            <a:lnTo>
                              <a:pt x="37" y="29"/>
                            </a:lnTo>
                            <a:lnTo>
                              <a:pt x="39" y="33"/>
                            </a:lnTo>
                            <a:lnTo>
                              <a:pt x="40" y="38"/>
                            </a:lnTo>
                            <a:lnTo>
                              <a:pt x="42" y="42"/>
                            </a:lnTo>
                            <a:lnTo>
                              <a:pt x="43" y="48"/>
                            </a:lnTo>
                            <a:lnTo>
                              <a:pt x="45" y="53"/>
                            </a:lnTo>
                            <a:lnTo>
                              <a:pt x="45" y="57"/>
                            </a:lnTo>
                            <a:lnTo>
                              <a:pt x="46" y="63"/>
                            </a:lnTo>
                            <a:lnTo>
                              <a:pt x="48" y="68"/>
                            </a:lnTo>
                            <a:lnTo>
                              <a:pt x="43" y="68"/>
                            </a:lnTo>
                            <a:lnTo>
                              <a:pt x="37" y="70"/>
                            </a:lnTo>
                            <a:lnTo>
                              <a:pt x="31" y="71"/>
                            </a:lnTo>
                            <a:lnTo>
                              <a:pt x="25" y="73"/>
                            </a:lnTo>
                            <a:lnTo>
                              <a:pt x="22" y="68"/>
                            </a:lnTo>
                            <a:lnTo>
                              <a:pt x="19" y="64"/>
                            </a:lnTo>
                            <a:lnTo>
                              <a:pt x="14" y="59"/>
                            </a:lnTo>
                            <a:lnTo>
                              <a:pt x="13" y="55"/>
                            </a:lnTo>
                            <a:lnTo>
                              <a:pt x="10" y="51"/>
                            </a:lnTo>
                            <a:lnTo>
                              <a:pt x="7" y="45"/>
                            </a:lnTo>
                            <a:lnTo>
                              <a:pt x="5" y="41"/>
                            </a:lnTo>
                            <a:lnTo>
                              <a:pt x="3" y="37"/>
                            </a:lnTo>
                            <a:lnTo>
                              <a:pt x="2" y="31"/>
                            </a:lnTo>
                            <a:lnTo>
                              <a:pt x="0" y="27"/>
                            </a:lnTo>
                            <a:lnTo>
                              <a:pt x="0" y="22"/>
                            </a:lnTo>
                            <a:lnTo>
                              <a:pt x="0" y="18"/>
                            </a:lnTo>
                            <a:lnTo>
                              <a:pt x="2" y="12"/>
                            </a:lnTo>
                            <a:lnTo>
                              <a:pt x="3" y="8"/>
                            </a:lnTo>
                            <a:lnTo>
                              <a:pt x="7" y="4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Freeform 137"/>
                      <p:cNvSpPr/>
                      <p:nvPr/>
                    </p:nvSpPr>
                    <p:spPr>
                      <a:xfrm>
                        <a:off x="2893320" y="2979360"/>
                        <a:ext cx="4680" cy="6840"/>
                      </a:xfrm>
                      <a:custGeom>
                        <a:avLst/>
                        <a:gdLst>
                          <a:gd name="textAreaLeft" fmla="*/ 0 w 4680"/>
                          <a:gd name="textAreaRight" fmla="*/ 4680 w 46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55" h="70">
                            <a:moveTo>
                              <a:pt x="12" y="0"/>
                            </a:moveTo>
                            <a:lnTo>
                              <a:pt x="16" y="2"/>
                            </a:lnTo>
                            <a:lnTo>
                              <a:pt x="21" y="4"/>
                            </a:lnTo>
                            <a:lnTo>
                              <a:pt x="24" y="7"/>
                            </a:lnTo>
                            <a:lnTo>
                              <a:pt x="29" y="11"/>
                            </a:lnTo>
                            <a:lnTo>
                              <a:pt x="32" y="14"/>
                            </a:lnTo>
                            <a:lnTo>
                              <a:pt x="35" y="18"/>
                            </a:lnTo>
                            <a:lnTo>
                              <a:pt x="38" y="24"/>
                            </a:lnTo>
                            <a:lnTo>
                              <a:pt x="39" y="28"/>
                            </a:lnTo>
                            <a:lnTo>
                              <a:pt x="42" y="33"/>
                            </a:lnTo>
                            <a:lnTo>
                              <a:pt x="44" y="37"/>
                            </a:lnTo>
                            <a:lnTo>
                              <a:pt x="45" y="43"/>
                            </a:lnTo>
                            <a:lnTo>
                              <a:pt x="47" y="48"/>
                            </a:lnTo>
                            <a:lnTo>
                              <a:pt x="49" y="53"/>
                            </a:lnTo>
                            <a:lnTo>
                              <a:pt x="50" y="57"/>
                            </a:lnTo>
                            <a:lnTo>
                              <a:pt x="52" y="62"/>
                            </a:lnTo>
                            <a:lnTo>
                              <a:pt x="55" y="66"/>
                            </a:lnTo>
                            <a:lnTo>
                              <a:pt x="49" y="68"/>
                            </a:lnTo>
                            <a:lnTo>
                              <a:pt x="42" y="69"/>
                            </a:lnTo>
                            <a:lnTo>
                              <a:pt x="38" y="70"/>
                            </a:lnTo>
                            <a:lnTo>
                              <a:pt x="32" y="70"/>
                            </a:lnTo>
                            <a:lnTo>
                              <a:pt x="27" y="66"/>
                            </a:lnTo>
                            <a:lnTo>
                              <a:pt x="23" y="64"/>
                            </a:lnTo>
                            <a:lnTo>
                              <a:pt x="19" y="59"/>
                            </a:lnTo>
                            <a:lnTo>
                              <a:pt x="16" y="55"/>
                            </a:lnTo>
                            <a:lnTo>
                              <a:pt x="12" y="50"/>
                            </a:lnTo>
                            <a:lnTo>
                              <a:pt x="9" y="46"/>
                            </a:lnTo>
                            <a:lnTo>
                              <a:pt x="6" y="42"/>
                            </a:lnTo>
                            <a:lnTo>
                              <a:pt x="4" y="36"/>
                            </a:lnTo>
                            <a:lnTo>
                              <a:pt x="1" y="32"/>
                            </a:lnTo>
                            <a:lnTo>
                              <a:pt x="1" y="26"/>
                            </a:lnTo>
                            <a:lnTo>
                              <a:pt x="0" y="21"/>
                            </a:lnTo>
                            <a:lnTo>
                              <a:pt x="1" y="17"/>
                            </a:lnTo>
                            <a:lnTo>
                              <a:pt x="1" y="11"/>
                            </a:lnTo>
                            <a:lnTo>
                              <a:pt x="4" y="9"/>
                            </a:lnTo>
                            <a:lnTo>
                              <a:pt x="7" y="3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Freeform 138"/>
                      <p:cNvSpPr/>
                      <p:nvPr/>
                    </p:nvSpPr>
                    <p:spPr>
                      <a:xfrm>
                        <a:off x="2899800" y="2980080"/>
                        <a:ext cx="3960" cy="7200"/>
                      </a:xfrm>
                      <a:custGeom>
                        <a:avLst/>
                        <a:gdLst>
                          <a:gd name="textAreaLeft" fmla="*/ 0 w 3960"/>
                          <a:gd name="textAreaRight" fmla="*/ 3960 w 396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7" h="74">
                            <a:moveTo>
                              <a:pt x="9" y="0"/>
                            </a:moveTo>
                            <a:lnTo>
                              <a:pt x="15" y="2"/>
                            </a:lnTo>
                            <a:lnTo>
                              <a:pt x="19" y="4"/>
                            </a:lnTo>
                            <a:lnTo>
                              <a:pt x="24" y="7"/>
                            </a:lnTo>
                            <a:lnTo>
                              <a:pt x="29" y="11"/>
                            </a:lnTo>
                            <a:lnTo>
                              <a:pt x="30" y="14"/>
                            </a:lnTo>
                            <a:lnTo>
                              <a:pt x="33" y="19"/>
                            </a:lnTo>
                            <a:lnTo>
                              <a:pt x="36" y="25"/>
                            </a:lnTo>
                            <a:lnTo>
                              <a:pt x="38" y="29"/>
                            </a:lnTo>
                            <a:lnTo>
                              <a:pt x="38" y="35"/>
                            </a:lnTo>
                            <a:lnTo>
                              <a:pt x="39" y="40"/>
                            </a:lnTo>
                            <a:lnTo>
                              <a:pt x="41" y="46"/>
                            </a:lnTo>
                            <a:lnTo>
                              <a:pt x="42" y="51"/>
                            </a:lnTo>
                            <a:lnTo>
                              <a:pt x="42" y="55"/>
                            </a:lnTo>
                            <a:lnTo>
                              <a:pt x="44" y="61"/>
                            </a:lnTo>
                            <a:lnTo>
                              <a:pt x="45" y="65"/>
                            </a:lnTo>
                            <a:lnTo>
                              <a:pt x="47" y="70"/>
                            </a:lnTo>
                            <a:lnTo>
                              <a:pt x="41" y="70"/>
                            </a:lnTo>
                            <a:lnTo>
                              <a:pt x="35" y="72"/>
                            </a:lnTo>
                            <a:lnTo>
                              <a:pt x="29" y="73"/>
                            </a:lnTo>
                            <a:lnTo>
                              <a:pt x="26" y="74"/>
                            </a:lnTo>
                            <a:lnTo>
                              <a:pt x="21" y="70"/>
                            </a:lnTo>
                            <a:lnTo>
                              <a:pt x="18" y="66"/>
                            </a:lnTo>
                            <a:lnTo>
                              <a:pt x="15" y="61"/>
                            </a:lnTo>
                            <a:lnTo>
                              <a:pt x="12" y="57"/>
                            </a:lnTo>
                            <a:lnTo>
                              <a:pt x="9" y="51"/>
                            </a:lnTo>
                            <a:lnTo>
                              <a:pt x="7" y="47"/>
                            </a:lnTo>
                            <a:lnTo>
                              <a:pt x="4" y="41"/>
                            </a:lnTo>
                            <a:lnTo>
                              <a:pt x="4" y="37"/>
                            </a:lnTo>
                            <a:lnTo>
                              <a:pt x="1" y="32"/>
                            </a:lnTo>
                            <a:lnTo>
                              <a:pt x="1" y="26"/>
                            </a:lnTo>
                            <a:lnTo>
                              <a:pt x="0" y="22"/>
                            </a:lnTo>
                            <a:lnTo>
                              <a:pt x="1" y="17"/>
                            </a:lnTo>
                            <a:lnTo>
                              <a:pt x="1" y="13"/>
                            </a:lnTo>
                            <a:lnTo>
                              <a:pt x="3" y="8"/>
                            </a:lnTo>
                            <a:lnTo>
                              <a:pt x="6" y="4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Freeform 139"/>
                      <p:cNvSpPr/>
                      <p:nvPr/>
                    </p:nvSpPr>
                    <p:spPr>
                      <a:xfrm>
                        <a:off x="2817720" y="2922840"/>
                        <a:ext cx="4680" cy="5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52" h="53">
                            <a:moveTo>
                              <a:pt x="38" y="0"/>
                            </a:moveTo>
                            <a:lnTo>
                              <a:pt x="41" y="0"/>
                            </a:lnTo>
                            <a:lnTo>
                              <a:pt x="44" y="1"/>
                            </a:lnTo>
                            <a:lnTo>
                              <a:pt x="46" y="2"/>
                            </a:lnTo>
                            <a:lnTo>
                              <a:pt x="49" y="4"/>
                            </a:lnTo>
                            <a:lnTo>
                              <a:pt x="50" y="8"/>
                            </a:lnTo>
                            <a:lnTo>
                              <a:pt x="52" y="13"/>
                            </a:lnTo>
                            <a:lnTo>
                              <a:pt x="50" y="19"/>
                            </a:lnTo>
                            <a:lnTo>
                              <a:pt x="49" y="24"/>
                            </a:lnTo>
                            <a:lnTo>
                              <a:pt x="46" y="30"/>
                            </a:lnTo>
                            <a:lnTo>
                              <a:pt x="43" y="37"/>
                            </a:lnTo>
                            <a:lnTo>
                              <a:pt x="38" y="41"/>
                            </a:lnTo>
                            <a:lnTo>
                              <a:pt x="32" y="46"/>
                            </a:lnTo>
                            <a:lnTo>
                              <a:pt x="27" y="49"/>
                            </a:lnTo>
                            <a:lnTo>
                              <a:pt x="21" y="53"/>
                            </a:lnTo>
                            <a:lnTo>
                              <a:pt x="15" y="53"/>
                            </a:lnTo>
                            <a:lnTo>
                              <a:pt x="9" y="53"/>
                            </a:lnTo>
                            <a:lnTo>
                              <a:pt x="4" y="50"/>
                            </a:lnTo>
                            <a:lnTo>
                              <a:pt x="0" y="48"/>
                            </a:lnTo>
                            <a:lnTo>
                              <a:pt x="0" y="43"/>
                            </a:lnTo>
                            <a:lnTo>
                              <a:pt x="0" y="39"/>
                            </a:lnTo>
                            <a:lnTo>
                              <a:pt x="1" y="35"/>
                            </a:lnTo>
                            <a:lnTo>
                              <a:pt x="3" y="33"/>
                            </a:lnTo>
                            <a:lnTo>
                              <a:pt x="4" y="28"/>
                            </a:lnTo>
                            <a:lnTo>
                              <a:pt x="6" y="26"/>
                            </a:lnTo>
                            <a:lnTo>
                              <a:pt x="9" y="23"/>
                            </a:lnTo>
                            <a:lnTo>
                              <a:pt x="12" y="19"/>
                            </a:lnTo>
                            <a:lnTo>
                              <a:pt x="14" y="16"/>
                            </a:lnTo>
                            <a:lnTo>
                              <a:pt x="17" y="12"/>
                            </a:lnTo>
                            <a:lnTo>
                              <a:pt x="20" y="9"/>
                            </a:lnTo>
                            <a:lnTo>
                              <a:pt x="24" y="8"/>
                            </a:lnTo>
                            <a:lnTo>
                              <a:pt x="27" y="5"/>
                            </a:lnTo>
                            <a:lnTo>
                              <a:pt x="30" y="2"/>
                            </a:lnTo>
                            <a:lnTo>
                              <a:pt x="34" y="1"/>
                            </a:lnTo>
                            <a:lnTo>
                              <a:pt x="3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Freeform 140"/>
                      <p:cNvSpPr/>
                      <p:nvPr/>
                    </p:nvSpPr>
                    <p:spPr>
                      <a:xfrm>
                        <a:off x="2817720" y="2927520"/>
                        <a:ext cx="5400" cy="828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8280"/>
                          <a:gd name="textAreaBottom" fmla="*/ 8640 h 8280"/>
                        </a:gdLst>
                        <a:ahLst/>
                        <a:rect l="textAreaLeft" t="textAreaTop" r="textAreaRight" b="textAreaBottom"/>
                        <a:pathLst>
                          <a:path w="63" h="84">
                            <a:moveTo>
                              <a:pt x="47" y="0"/>
                            </a:moveTo>
                            <a:lnTo>
                              <a:pt x="50" y="1"/>
                            </a:lnTo>
                            <a:lnTo>
                              <a:pt x="53" y="4"/>
                            </a:lnTo>
                            <a:lnTo>
                              <a:pt x="55" y="5"/>
                            </a:lnTo>
                            <a:lnTo>
                              <a:pt x="58" y="8"/>
                            </a:lnTo>
                            <a:lnTo>
                              <a:pt x="61" y="14"/>
                            </a:lnTo>
                            <a:lnTo>
                              <a:pt x="63" y="18"/>
                            </a:lnTo>
                            <a:lnTo>
                              <a:pt x="63" y="23"/>
                            </a:lnTo>
                            <a:lnTo>
                              <a:pt x="61" y="29"/>
                            </a:lnTo>
                            <a:lnTo>
                              <a:pt x="60" y="34"/>
                            </a:lnTo>
                            <a:lnTo>
                              <a:pt x="56" y="41"/>
                            </a:lnTo>
                            <a:lnTo>
                              <a:pt x="52" y="47"/>
                            </a:lnTo>
                            <a:lnTo>
                              <a:pt x="49" y="52"/>
                            </a:lnTo>
                            <a:lnTo>
                              <a:pt x="44" y="58"/>
                            </a:lnTo>
                            <a:lnTo>
                              <a:pt x="40" y="63"/>
                            </a:lnTo>
                            <a:lnTo>
                              <a:pt x="35" y="69"/>
                            </a:lnTo>
                            <a:lnTo>
                              <a:pt x="32" y="74"/>
                            </a:lnTo>
                            <a:lnTo>
                              <a:pt x="27" y="78"/>
                            </a:lnTo>
                            <a:lnTo>
                              <a:pt x="24" y="84"/>
                            </a:lnTo>
                            <a:lnTo>
                              <a:pt x="18" y="82"/>
                            </a:lnTo>
                            <a:lnTo>
                              <a:pt x="12" y="81"/>
                            </a:lnTo>
                            <a:lnTo>
                              <a:pt x="9" y="80"/>
                            </a:lnTo>
                            <a:lnTo>
                              <a:pt x="6" y="80"/>
                            </a:lnTo>
                            <a:lnTo>
                              <a:pt x="3" y="80"/>
                            </a:lnTo>
                            <a:lnTo>
                              <a:pt x="0" y="80"/>
                            </a:lnTo>
                            <a:lnTo>
                              <a:pt x="1" y="74"/>
                            </a:lnTo>
                            <a:lnTo>
                              <a:pt x="4" y="69"/>
                            </a:lnTo>
                            <a:lnTo>
                              <a:pt x="6" y="63"/>
                            </a:lnTo>
                            <a:lnTo>
                              <a:pt x="9" y="58"/>
                            </a:lnTo>
                            <a:lnTo>
                              <a:pt x="12" y="52"/>
                            </a:lnTo>
                            <a:lnTo>
                              <a:pt x="15" y="47"/>
                            </a:lnTo>
                            <a:lnTo>
                              <a:pt x="17" y="43"/>
                            </a:lnTo>
                            <a:lnTo>
                              <a:pt x="21" y="38"/>
                            </a:lnTo>
                            <a:lnTo>
                              <a:pt x="23" y="33"/>
                            </a:lnTo>
                            <a:lnTo>
                              <a:pt x="26" y="27"/>
                            </a:lnTo>
                            <a:lnTo>
                              <a:pt x="29" y="23"/>
                            </a:lnTo>
                            <a:lnTo>
                              <a:pt x="34" y="19"/>
                            </a:lnTo>
                            <a:lnTo>
                              <a:pt x="37" y="14"/>
                            </a:lnTo>
                            <a:lnTo>
                              <a:pt x="40" y="10"/>
                            </a:lnTo>
                            <a:lnTo>
                              <a:pt x="44" y="4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Freeform 141"/>
                      <p:cNvSpPr/>
                      <p:nvPr/>
                    </p:nvSpPr>
                    <p:spPr>
                      <a:xfrm>
                        <a:off x="2817720" y="2936160"/>
                        <a:ext cx="6480" cy="10080"/>
                      </a:xfrm>
                      <a:custGeom>
                        <a:avLst/>
                        <a:gdLst>
                          <a:gd name="textAreaLeft" fmla="*/ 0 w 6480"/>
                          <a:gd name="textAreaRight" fmla="*/ 6840 w 6480"/>
                          <a:gd name="textAreaTop" fmla="*/ 0 h 10080"/>
                          <a:gd name="textAreaBottom" fmla="*/ 10440 h 10080"/>
                        </a:gdLst>
                        <a:ahLst/>
                        <a:rect l="textAreaLeft" t="textAreaTop" r="textAreaRight" b="textAreaBottom"/>
                        <a:pathLst>
                          <a:path w="72" h="103">
                            <a:moveTo>
                              <a:pt x="55" y="0"/>
                            </a:moveTo>
                            <a:lnTo>
                              <a:pt x="58" y="1"/>
                            </a:lnTo>
                            <a:lnTo>
                              <a:pt x="63" y="4"/>
                            </a:lnTo>
                            <a:lnTo>
                              <a:pt x="64" y="7"/>
                            </a:lnTo>
                            <a:lnTo>
                              <a:pt x="67" y="8"/>
                            </a:lnTo>
                            <a:lnTo>
                              <a:pt x="69" y="13"/>
                            </a:lnTo>
                            <a:lnTo>
                              <a:pt x="72" y="19"/>
                            </a:lnTo>
                            <a:lnTo>
                              <a:pt x="70" y="24"/>
                            </a:lnTo>
                            <a:lnTo>
                              <a:pt x="69" y="30"/>
                            </a:lnTo>
                            <a:lnTo>
                              <a:pt x="66" y="35"/>
                            </a:lnTo>
                            <a:lnTo>
                              <a:pt x="63" y="41"/>
                            </a:lnTo>
                            <a:lnTo>
                              <a:pt x="60" y="46"/>
                            </a:lnTo>
                            <a:lnTo>
                              <a:pt x="55" y="53"/>
                            </a:lnTo>
                            <a:lnTo>
                              <a:pt x="50" y="57"/>
                            </a:lnTo>
                            <a:lnTo>
                              <a:pt x="46" y="64"/>
                            </a:lnTo>
                            <a:lnTo>
                              <a:pt x="43" y="70"/>
                            </a:lnTo>
                            <a:lnTo>
                              <a:pt x="40" y="75"/>
                            </a:lnTo>
                            <a:lnTo>
                              <a:pt x="38" y="81"/>
                            </a:lnTo>
                            <a:lnTo>
                              <a:pt x="38" y="86"/>
                            </a:lnTo>
                            <a:lnTo>
                              <a:pt x="32" y="90"/>
                            </a:lnTo>
                            <a:lnTo>
                              <a:pt x="27" y="94"/>
                            </a:lnTo>
                            <a:lnTo>
                              <a:pt x="21" y="99"/>
                            </a:lnTo>
                            <a:lnTo>
                              <a:pt x="17" y="103"/>
                            </a:lnTo>
                            <a:lnTo>
                              <a:pt x="12" y="100"/>
                            </a:lnTo>
                            <a:lnTo>
                              <a:pt x="9" y="97"/>
                            </a:lnTo>
                            <a:lnTo>
                              <a:pt x="4" y="93"/>
                            </a:lnTo>
                            <a:lnTo>
                              <a:pt x="0" y="90"/>
                            </a:lnTo>
                            <a:lnTo>
                              <a:pt x="0" y="88"/>
                            </a:lnTo>
                            <a:lnTo>
                              <a:pt x="1" y="83"/>
                            </a:lnTo>
                            <a:lnTo>
                              <a:pt x="1" y="81"/>
                            </a:lnTo>
                            <a:lnTo>
                              <a:pt x="3" y="78"/>
                            </a:lnTo>
                            <a:lnTo>
                              <a:pt x="6" y="71"/>
                            </a:lnTo>
                            <a:lnTo>
                              <a:pt x="9" y="66"/>
                            </a:lnTo>
                            <a:lnTo>
                              <a:pt x="12" y="60"/>
                            </a:lnTo>
                            <a:lnTo>
                              <a:pt x="17" y="55"/>
                            </a:lnTo>
                            <a:lnTo>
                              <a:pt x="20" y="49"/>
                            </a:lnTo>
                            <a:lnTo>
                              <a:pt x="24" y="44"/>
                            </a:lnTo>
                            <a:lnTo>
                              <a:pt x="29" y="38"/>
                            </a:lnTo>
                            <a:lnTo>
                              <a:pt x="32" y="31"/>
                            </a:lnTo>
                            <a:lnTo>
                              <a:pt x="35" y="26"/>
                            </a:lnTo>
                            <a:lnTo>
                              <a:pt x="40" y="22"/>
                            </a:lnTo>
                            <a:lnTo>
                              <a:pt x="44" y="16"/>
                            </a:lnTo>
                            <a:lnTo>
                              <a:pt x="47" y="11"/>
                            </a:lnTo>
                            <a:lnTo>
                              <a:pt x="52" y="5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Freeform 142"/>
                      <p:cNvSpPr/>
                      <p:nvPr/>
                    </p:nvSpPr>
                    <p:spPr>
                      <a:xfrm>
                        <a:off x="2846880" y="2907720"/>
                        <a:ext cx="5400" cy="360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3600"/>
                          <a:gd name="textAreaBottom" fmla="*/ 3960 h 3600"/>
                        </a:gdLst>
                        <a:ahLst/>
                        <a:rect l="textAreaLeft" t="textAreaTop" r="textAreaRight" b="textAreaBottom"/>
                        <a:pathLst>
                          <a:path w="62" h="39">
                            <a:moveTo>
                              <a:pt x="12" y="0"/>
                            </a:moveTo>
                            <a:lnTo>
                              <a:pt x="15" y="0"/>
                            </a:lnTo>
                            <a:lnTo>
                              <a:pt x="18" y="0"/>
                            </a:lnTo>
                            <a:lnTo>
                              <a:pt x="24" y="2"/>
                            </a:lnTo>
                            <a:lnTo>
                              <a:pt x="29" y="3"/>
                            </a:lnTo>
                            <a:lnTo>
                              <a:pt x="35" y="6"/>
                            </a:lnTo>
                            <a:lnTo>
                              <a:pt x="41" y="9"/>
                            </a:lnTo>
                            <a:lnTo>
                              <a:pt x="46" y="10"/>
                            </a:lnTo>
                            <a:lnTo>
                              <a:pt x="52" y="14"/>
                            </a:lnTo>
                            <a:lnTo>
                              <a:pt x="55" y="15"/>
                            </a:lnTo>
                            <a:lnTo>
                              <a:pt x="59" y="20"/>
                            </a:lnTo>
                            <a:lnTo>
                              <a:pt x="61" y="22"/>
                            </a:lnTo>
                            <a:lnTo>
                              <a:pt x="62" y="26"/>
                            </a:lnTo>
                            <a:lnTo>
                              <a:pt x="61" y="29"/>
                            </a:lnTo>
                            <a:lnTo>
                              <a:pt x="59" y="32"/>
                            </a:lnTo>
                            <a:lnTo>
                              <a:pt x="56" y="35"/>
                            </a:lnTo>
                            <a:lnTo>
                              <a:pt x="55" y="36"/>
                            </a:lnTo>
                            <a:lnTo>
                              <a:pt x="52" y="37"/>
                            </a:lnTo>
                            <a:lnTo>
                              <a:pt x="49" y="39"/>
                            </a:lnTo>
                            <a:lnTo>
                              <a:pt x="44" y="39"/>
                            </a:lnTo>
                            <a:lnTo>
                              <a:pt x="41" y="39"/>
                            </a:lnTo>
                            <a:lnTo>
                              <a:pt x="36" y="37"/>
                            </a:lnTo>
                            <a:lnTo>
                              <a:pt x="32" y="37"/>
                            </a:lnTo>
                            <a:lnTo>
                              <a:pt x="26" y="35"/>
                            </a:lnTo>
                            <a:lnTo>
                              <a:pt x="21" y="33"/>
                            </a:lnTo>
                            <a:lnTo>
                              <a:pt x="15" y="31"/>
                            </a:lnTo>
                            <a:lnTo>
                              <a:pt x="10" y="28"/>
                            </a:lnTo>
                            <a:lnTo>
                              <a:pt x="6" y="25"/>
                            </a:lnTo>
                            <a:lnTo>
                              <a:pt x="3" y="21"/>
                            </a:ln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0" y="10"/>
                            </a:lnTo>
                            <a:lnTo>
                              <a:pt x="3" y="7"/>
                            </a:lnTo>
                            <a:lnTo>
                              <a:pt x="4" y="6"/>
                            </a:lnTo>
                            <a:lnTo>
                              <a:pt x="6" y="3"/>
                            </a:lnTo>
                            <a:lnTo>
                              <a:pt x="9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Freeform 143"/>
                      <p:cNvSpPr/>
                      <p:nvPr/>
                    </p:nvSpPr>
                    <p:spPr>
                      <a:xfrm>
                        <a:off x="2847240" y="291276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4" h="42">
                            <a:moveTo>
                              <a:pt x="12" y="0"/>
                            </a:moveTo>
                            <a:lnTo>
                              <a:pt x="15" y="2"/>
                            </a:lnTo>
                            <a:lnTo>
                              <a:pt x="20" y="2"/>
                            </a:lnTo>
                            <a:lnTo>
                              <a:pt x="24" y="5"/>
                            </a:lnTo>
                            <a:lnTo>
                              <a:pt x="30" y="6"/>
                            </a:lnTo>
                            <a:lnTo>
                              <a:pt x="35" y="7"/>
                            </a:lnTo>
                            <a:lnTo>
                              <a:pt x="41" y="10"/>
                            </a:lnTo>
                            <a:lnTo>
                              <a:pt x="47" y="11"/>
                            </a:lnTo>
                            <a:lnTo>
                              <a:pt x="52" y="16"/>
                            </a:lnTo>
                            <a:lnTo>
                              <a:pt x="56" y="17"/>
                            </a:lnTo>
                            <a:lnTo>
                              <a:pt x="59" y="20"/>
                            </a:lnTo>
                            <a:lnTo>
                              <a:pt x="62" y="24"/>
                            </a:lnTo>
                            <a:lnTo>
                              <a:pt x="64" y="27"/>
                            </a:lnTo>
                            <a:lnTo>
                              <a:pt x="62" y="31"/>
                            </a:lnTo>
                            <a:lnTo>
                              <a:pt x="61" y="33"/>
                            </a:lnTo>
                            <a:lnTo>
                              <a:pt x="58" y="35"/>
                            </a:lnTo>
                            <a:lnTo>
                              <a:pt x="56" y="38"/>
                            </a:lnTo>
                            <a:lnTo>
                              <a:pt x="53" y="39"/>
                            </a:lnTo>
                            <a:lnTo>
                              <a:pt x="50" y="42"/>
                            </a:lnTo>
                            <a:lnTo>
                              <a:pt x="46" y="42"/>
                            </a:lnTo>
                            <a:lnTo>
                              <a:pt x="41" y="42"/>
                            </a:lnTo>
                            <a:lnTo>
                              <a:pt x="35" y="40"/>
                            </a:lnTo>
                            <a:lnTo>
                              <a:pt x="30" y="39"/>
                            </a:lnTo>
                            <a:lnTo>
                              <a:pt x="26" y="36"/>
                            </a:lnTo>
                            <a:lnTo>
                              <a:pt x="20" y="35"/>
                            </a:lnTo>
                            <a:lnTo>
                              <a:pt x="15" y="32"/>
                            </a:lnTo>
                            <a:lnTo>
                              <a:pt x="10" y="29"/>
                            </a:lnTo>
                            <a:lnTo>
                              <a:pt x="4" y="25"/>
                            </a:lnTo>
                            <a:lnTo>
                              <a:pt x="1" y="21"/>
                            </a:ln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0" y="10"/>
                            </a:lnTo>
                            <a:lnTo>
                              <a:pt x="1" y="7"/>
                            </a:lnTo>
                            <a:lnTo>
                              <a:pt x="3" y="5"/>
                            </a:lnTo>
                            <a:lnTo>
                              <a:pt x="6" y="3"/>
                            </a:lnTo>
                            <a:lnTo>
                              <a:pt x="7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Freeform 144"/>
                      <p:cNvSpPr/>
                      <p:nvPr/>
                    </p:nvSpPr>
                    <p:spPr>
                      <a:xfrm>
                        <a:off x="2846520" y="291924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7" h="39">
                            <a:moveTo>
                              <a:pt x="12" y="0"/>
                            </a:moveTo>
                            <a:lnTo>
                              <a:pt x="14" y="0"/>
                            </a:lnTo>
                            <a:lnTo>
                              <a:pt x="18" y="2"/>
                            </a:lnTo>
                            <a:lnTo>
                              <a:pt x="23" y="2"/>
                            </a:lnTo>
                            <a:lnTo>
                              <a:pt x="31" y="3"/>
                            </a:lnTo>
                            <a:lnTo>
                              <a:pt x="35" y="4"/>
                            </a:lnTo>
                            <a:lnTo>
                              <a:pt x="41" y="7"/>
                            </a:lnTo>
                            <a:lnTo>
                              <a:pt x="48" y="8"/>
                            </a:lnTo>
                            <a:lnTo>
                              <a:pt x="54" y="11"/>
                            </a:lnTo>
                            <a:lnTo>
                              <a:pt x="58" y="14"/>
                            </a:lnTo>
                            <a:lnTo>
                              <a:pt x="63" y="17"/>
                            </a:lnTo>
                            <a:lnTo>
                              <a:pt x="66" y="19"/>
                            </a:lnTo>
                            <a:lnTo>
                              <a:pt x="67" y="22"/>
                            </a:lnTo>
                            <a:lnTo>
                              <a:pt x="67" y="26"/>
                            </a:lnTo>
                            <a:lnTo>
                              <a:pt x="66" y="30"/>
                            </a:lnTo>
                            <a:lnTo>
                              <a:pt x="63" y="32"/>
                            </a:lnTo>
                            <a:lnTo>
                              <a:pt x="61" y="35"/>
                            </a:lnTo>
                            <a:lnTo>
                              <a:pt x="58" y="36"/>
                            </a:lnTo>
                            <a:lnTo>
                              <a:pt x="55" y="39"/>
                            </a:lnTo>
                            <a:lnTo>
                              <a:pt x="51" y="39"/>
                            </a:lnTo>
                            <a:lnTo>
                              <a:pt x="46" y="37"/>
                            </a:lnTo>
                            <a:lnTo>
                              <a:pt x="40" y="36"/>
                            </a:lnTo>
                            <a:lnTo>
                              <a:pt x="34" y="35"/>
                            </a:lnTo>
                            <a:lnTo>
                              <a:pt x="28" y="33"/>
                            </a:lnTo>
                            <a:lnTo>
                              <a:pt x="23" y="32"/>
                            </a:lnTo>
                            <a:lnTo>
                              <a:pt x="17" y="29"/>
                            </a:lnTo>
                            <a:lnTo>
                              <a:pt x="12" y="28"/>
                            </a:lnTo>
                            <a:lnTo>
                              <a:pt x="8" y="24"/>
                            </a:lnTo>
                            <a:lnTo>
                              <a:pt x="5" y="21"/>
                            </a:lnTo>
                            <a:lnTo>
                              <a:pt x="2" y="18"/>
                            </a:lnTo>
                            <a:lnTo>
                              <a:pt x="0" y="15"/>
                            </a:lnTo>
                            <a:lnTo>
                              <a:pt x="0" y="11"/>
                            </a:lnTo>
                            <a:lnTo>
                              <a:pt x="2" y="7"/>
                            </a:lnTo>
                            <a:lnTo>
                              <a:pt x="6" y="4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Freeform 145"/>
                      <p:cNvSpPr/>
                      <p:nvPr/>
                    </p:nvSpPr>
                    <p:spPr>
                      <a:xfrm>
                        <a:off x="2848320" y="2924280"/>
                        <a:ext cx="5040" cy="432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4320"/>
                          <a:gd name="textAreaBottom" fmla="*/ 4320 h 4320"/>
                        </a:gdLst>
                        <a:ahLst/>
                        <a:rect l="textAreaLeft" t="textAreaTop" r="textAreaRight" b="textAreaBottom"/>
                        <a:pathLst>
                          <a:path w="56" h="45">
                            <a:moveTo>
                              <a:pt x="14" y="0"/>
                            </a:moveTo>
                            <a:lnTo>
                              <a:pt x="17" y="1"/>
                            </a:lnTo>
                            <a:lnTo>
                              <a:pt x="20" y="2"/>
                            </a:lnTo>
                            <a:lnTo>
                              <a:pt x="25" y="4"/>
                            </a:lnTo>
                            <a:lnTo>
                              <a:pt x="30" y="7"/>
                            </a:lnTo>
                            <a:lnTo>
                              <a:pt x="34" y="8"/>
                            </a:lnTo>
                            <a:lnTo>
                              <a:pt x="39" y="12"/>
                            </a:lnTo>
                            <a:lnTo>
                              <a:pt x="43" y="15"/>
                            </a:lnTo>
                            <a:lnTo>
                              <a:pt x="48" y="19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6" y="28"/>
                            </a:lnTo>
                            <a:lnTo>
                              <a:pt x="56" y="33"/>
                            </a:lnTo>
                            <a:lnTo>
                              <a:pt x="54" y="35"/>
                            </a:lnTo>
                            <a:lnTo>
                              <a:pt x="52" y="38"/>
                            </a:lnTo>
                            <a:lnTo>
                              <a:pt x="49" y="41"/>
                            </a:lnTo>
                            <a:lnTo>
                              <a:pt x="48" y="42"/>
                            </a:lnTo>
                            <a:lnTo>
                              <a:pt x="45" y="44"/>
                            </a:lnTo>
                            <a:lnTo>
                              <a:pt x="42" y="45"/>
                            </a:lnTo>
                            <a:lnTo>
                              <a:pt x="37" y="44"/>
                            </a:lnTo>
                            <a:lnTo>
                              <a:pt x="33" y="44"/>
                            </a:lnTo>
                            <a:lnTo>
                              <a:pt x="28" y="41"/>
                            </a:lnTo>
                            <a:lnTo>
                              <a:pt x="23" y="39"/>
                            </a:lnTo>
                            <a:lnTo>
                              <a:pt x="19" y="37"/>
                            </a:lnTo>
                            <a:lnTo>
                              <a:pt x="16" y="34"/>
                            </a:lnTo>
                            <a:lnTo>
                              <a:pt x="11" y="30"/>
                            </a:lnTo>
                            <a:lnTo>
                              <a:pt x="8" y="27"/>
                            </a:lnTo>
                            <a:lnTo>
                              <a:pt x="5" y="23"/>
                            </a:lnTo>
                            <a:lnTo>
                              <a:pt x="2" y="20"/>
                            </a:lnTo>
                            <a:lnTo>
                              <a:pt x="0" y="16"/>
                            </a:lnTo>
                            <a:lnTo>
                              <a:pt x="2" y="13"/>
                            </a:lnTo>
                            <a:lnTo>
                              <a:pt x="2" y="9"/>
                            </a:lnTo>
                            <a:lnTo>
                              <a:pt x="5" y="7"/>
                            </a:lnTo>
                            <a:lnTo>
                              <a:pt x="8" y="2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6" name="Freeform 146"/>
                      <p:cNvSpPr/>
                      <p:nvPr/>
                    </p:nvSpPr>
                    <p:spPr>
                      <a:xfrm>
                        <a:off x="2871000" y="2940840"/>
                        <a:ext cx="3600" cy="936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9360"/>
                          <a:gd name="textAreaBottom" fmla="*/ 9720 h 9360"/>
                        </a:gdLst>
                        <a:ahLst/>
                        <a:rect l="textAreaLeft" t="textAreaTop" r="textAreaRight" b="textAreaBottom"/>
                        <a:pathLst>
                          <a:path w="44" h="96">
                            <a:moveTo>
                              <a:pt x="17" y="0"/>
                            </a:moveTo>
                            <a:lnTo>
                              <a:pt x="21" y="2"/>
                            </a:lnTo>
                            <a:lnTo>
                              <a:pt x="26" y="5"/>
                            </a:lnTo>
                            <a:lnTo>
                              <a:pt x="29" y="9"/>
                            </a:lnTo>
                            <a:lnTo>
                              <a:pt x="32" y="15"/>
                            </a:lnTo>
                            <a:lnTo>
                              <a:pt x="33" y="19"/>
                            </a:lnTo>
                            <a:lnTo>
                              <a:pt x="33" y="23"/>
                            </a:lnTo>
                            <a:lnTo>
                              <a:pt x="33" y="30"/>
                            </a:lnTo>
                            <a:lnTo>
                              <a:pt x="35" y="35"/>
                            </a:lnTo>
                            <a:lnTo>
                              <a:pt x="35" y="41"/>
                            </a:lnTo>
                            <a:lnTo>
                              <a:pt x="35" y="46"/>
                            </a:lnTo>
                            <a:lnTo>
                              <a:pt x="35" y="52"/>
                            </a:lnTo>
                            <a:lnTo>
                              <a:pt x="35" y="59"/>
                            </a:lnTo>
                            <a:lnTo>
                              <a:pt x="37" y="64"/>
                            </a:lnTo>
                            <a:lnTo>
                              <a:pt x="38" y="70"/>
                            </a:lnTo>
                            <a:lnTo>
                              <a:pt x="40" y="74"/>
                            </a:lnTo>
                            <a:lnTo>
                              <a:pt x="44" y="79"/>
                            </a:lnTo>
                            <a:lnTo>
                              <a:pt x="40" y="83"/>
                            </a:lnTo>
                            <a:lnTo>
                              <a:pt x="37" y="88"/>
                            </a:lnTo>
                            <a:lnTo>
                              <a:pt x="33" y="92"/>
                            </a:lnTo>
                            <a:lnTo>
                              <a:pt x="32" y="96"/>
                            </a:lnTo>
                            <a:lnTo>
                              <a:pt x="27" y="93"/>
                            </a:lnTo>
                            <a:lnTo>
                              <a:pt x="23" y="92"/>
                            </a:lnTo>
                            <a:lnTo>
                              <a:pt x="20" y="90"/>
                            </a:lnTo>
                            <a:lnTo>
                              <a:pt x="18" y="89"/>
                            </a:lnTo>
                            <a:lnTo>
                              <a:pt x="12" y="83"/>
                            </a:lnTo>
                            <a:lnTo>
                              <a:pt x="9" y="78"/>
                            </a:lnTo>
                            <a:lnTo>
                              <a:pt x="6" y="75"/>
                            </a:lnTo>
                            <a:lnTo>
                              <a:pt x="4" y="71"/>
                            </a:lnTo>
                            <a:lnTo>
                              <a:pt x="3" y="68"/>
                            </a:lnTo>
                            <a:lnTo>
                              <a:pt x="3" y="66"/>
                            </a:lnTo>
                            <a:lnTo>
                              <a:pt x="1" y="62"/>
                            </a:lnTo>
                            <a:lnTo>
                              <a:pt x="0" y="57"/>
                            </a:lnTo>
                            <a:lnTo>
                              <a:pt x="0" y="55"/>
                            </a:lnTo>
                            <a:lnTo>
                              <a:pt x="0" y="52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0" y="35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1" y="26"/>
                            </a:lnTo>
                            <a:lnTo>
                              <a:pt x="3" y="22"/>
                            </a:lnTo>
                            <a:lnTo>
                              <a:pt x="3" y="19"/>
                            </a:lnTo>
                            <a:lnTo>
                              <a:pt x="4" y="15"/>
                            </a:lnTo>
                            <a:lnTo>
                              <a:pt x="6" y="12"/>
                            </a:lnTo>
                            <a:lnTo>
                              <a:pt x="9" y="9"/>
                            </a:lnTo>
                            <a:lnTo>
                              <a:pt x="12" y="4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Freeform 147"/>
                      <p:cNvSpPr/>
                      <p:nvPr/>
                    </p:nvSpPr>
                    <p:spPr>
                      <a:xfrm>
                        <a:off x="2875320" y="2941200"/>
                        <a:ext cx="2520" cy="4320"/>
                      </a:xfrm>
                      <a:custGeom>
                        <a:avLst/>
                        <a:gdLst>
                          <a:gd name="textAreaLeft" fmla="*/ 0 w 2520"/>
                          <a:gd name="textAreaRight" fmla="*/ 2880 w 2520"/>
                          <a:gd name="textAreaTop" fmla="*/ 0 h 4320"/>
                          <a:gd name="textAreaBottom" fmla="*/ 4320 h 4320"/>
                        </a:gdLst>
                        <a:ahLst/>
                        <a:rect l="textAreaLeft" t="textAreaTop" r="textAreaRight" b="textAreaBottom"/>
                        <a:pathLst>
                          <a:path w="29" h="46">
                            <a:moveTo>
                              <a:pt x="12" y="0"/>
                            </a:moveTo>
                            <a:lnTo>
                              <a:pt x="17" y="0"/>
                            </a:lnTo>
                            <a:lnTo>
                              <a:pt x="22" y="3"/>
                            </a:lnTo>
                            <a:lnTo>
                              <a:pt x="25" y="6"/>
                            </a:lnTo>
                            <a:lnTo>
                              <a:pt x="28" y="10"/>
                            </a:lnTo>
                            <a:lnTo>
                              <a:pt x="28" y="16"/>
                            </a:lnTo>
                            <a:lnTo>
                              <a:pt x="29" y="21"/>
                            </a:lnTo>
                            <a:lnTo>
                              <a:pt x="29" y="27"/>
                            </a:lnTo>
                            <a:lnTo>
                              <a:pt x="29" y="32"/>
                            </a:lnTo>
                            <a:lnTo>
                              <a:pt x="28" y="36"/>
                            </a:lnTo>
                            <a:lnTo>
                              <a:pt x="25" y="40"/>
                            </a:lnTo>
                            <a:lnTo>
                              <a:pt x="22" y="43"/>
                            </a:lnTo>
                            <a:lnTo>
                              <a:pt x="19" y="46"/>
                            </a:lnTo>
                            <a:lnTo>
                              <a:pt x="14" y="46"/>
                            </a:lnTo>
                            <a:lnTo>
                              <a:pt x="9" y="43"/>
                            </a:lnTo>
                            <a:lnTo>
                              <a:pt x="6" y="42"/>
                            </a:lnTo>
                            <a:lnTo>
                              <a:pt x="5" y="40"/>
                            </a:lnTo>
                            <a:lnTo>
                              <a:pt x="2" y="38"/>
                            </a:lnTo>
                            <a:lnTo>
                              <a:pt x="0" y="33"/>
                            </a:lnTo>
                            <a:lnTo>
                              <a:pt x="0" y="31"/>
                            </a:lnTo>
                            <a:lnTo>
                              <a:pt x="0" y="25"/>
                            </a:lnTo>
                            <a:lnTo>
                              <a:pt x="3" y="20"/>
                            </a:lnTo>
                            <a:lnTo>
                              <a:pt x="5" y="16"/>
                            </a:lnTo>
                            <a:lnTo>
                              <a:pt x="6" y="9"/>
                            </a:ln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Freeform 148"/>
                      <p:cNvSpPr/>
                      <p:nvPr/>
                    </p:nvSpPr>
                    <p:spPr>
                      <a:xfrm>
                        <a:off x="2794680" y="2980080"/>
                        <a:ext cx="49680" cy="5760"/>
                      </a:xfrm>
                      <a:custGeom>
                        <a:avLst/>
                        <a:gdLst>
                          <a:gd name="textAreaLeft" fmla="*/ 0 w 49680"/>
                          <a:gd name="textAreaRight" fmla="*/ 50040 w 49680"/>
                          <a:gd name="textAreaTop" fmla="*/ 0 h 5760"/>
                          <a:gd name="textAreaBottom" fmla="*/ 6120 h 5760"/>
                        </a:gdLst>
                        <a:ahLst/>
                        <a:rect l="textAreaLeft" t="textAreaTop" r="textAreaRight" b="textAreaBottom"/>
                        <a:pathLst>
                          <a:path w="551" h="61">
                            <a:moveTo>
                              <a:pt x="372" y="0"/>
                            </a:moveTo>
                            <a:lnTo>
                              <a:pt x="377" y="0"/>
                            </a:lnTo>
                            <a:lnTo>
                              <a:pt x="383" y="0"/>
                            </a:lnTo>
                            <a:lnTo>
                              <a:pt x="387" y="0"/>
                            </a:lnTo>
                            <a:lnTo>
                              <a:pt x="394" y="0"/>
                            </a:lnTo>
                            <a:lnTo>
                              <a:pt x="398" y="0"/>
                            </a:lnTo>
                            <a:lnTo>
                              <a:pt x="404" y="0"/>
                            </a:lnTo>
                            <a:lnTo>
                              <a:pt x="410" y="0"/>
                            </a:lnTo>
                            <a:lnTo>
                              <a:pt x="415" y="2"/>
                            </a:lnTo>
                            <a:lnTo>
                              <a:pt x="421" y="0"/>
                            </a:lnTo>
                            <a:lnTo>
                              <a:pt x="426" y="0"/>
                            </a:lnTo>
                            <a:lnTo>
                              <a:pt x="432" y="0"/>
                            </a:lnTo>
                            <a:lnTo>
                              <a:pt x="438" y="0"/>
                            </a:lnTo>
                            <a:lnTo>
                              <a:pt x="442" y="0"/>
                            </a:lnTo>
                            <a:lnTo>
                              <a:pt x="449" y="0"/>
                            </a:lnTo>
                            <a:lnTo>
                              <a:pt x="455" y="0"/>
                            </a:lnTo>
                            <a:lnTo>
                              <a:pt x="459" y="0"/>
                            </a:lnTo>
                            <a:lnTo>
                              <a:pt x="465" y="0"/>
                            </a:lnTo>
                            <a:lnTo>
                              <a:pt x="470" y="0"/>
                            </a:lnTo>
                            <a:lnTo>
                              <a:pt x="476" y="0"/>
                            </a:lnTo>
                            <a:lnTo>
                              <a:pt x="482" y="0"/>
                            </a:lnTo>
                            <a:lnTo>
                              <a:pt x="487" y="0"/>
                            </a:lnTo>
                            <a:lnTo>
                              <a:pt x="493" y="0"/>
                            </a:lnTo>
                            <a:lnTo>
                              <a:pt x="499" y="0"/>
                            </a:lnTo>
                            <a:lnTo>
                              <a:pt x="504" y="0"/>
                            </a:lnTo>
                            <a:lnTo>
                              <a:pt x="510" y="0"/>
                            </a:lnTo>
                            <a:lnTo>
                              <a:pt x="514" y="0"/>
                            </a:lnTo>
                            <a:lnTo>
                              <a:pt x="520" y="2"/>
                            </a:lnTo>
                            <a:lnTo>
                              <a:pt x="527" y="2"/>
                            </a:lnTo>
                            <a:lnTo>
                              <a:pt x="531" y="2"/>
                            </a:lnTo>
                            <a:lnTo>
                              <a:pt x="537" y="3"/>
                            </a:lnTo>
                            <a:lnTo>
                              <a:pt x="543" y="3"/>
                            </a:lnTo>
                            <a:lnTo>
                              <a:pt x="548" y="4"/>
                            </a:lnTo>
                            <a:lnTo>
                              <a:pt x="548" y="8"/>
                            </a:lnTo>
                            <a:lnTo>
                              <a:pt x="550" y="14"/>
                            </a:lnTo>
                            <a:lnTo>
                              <a:pt x="551" y="19"/>
                            </a:lnTo>
                            <a:lnTo>
                              <a:pt x="551" y="25"/>
                            </a:lnTo>
                            <a:lnTo>
                              <a:pt x="543" y="25"/>
                            </a:lnTo>
                            <a:lnTo>
                              <a:pt x="536" y="25"/>
                            </a:lnTo>
                            <a:lnTo>
                              <a:pt x="528" y="25"/>
                            </a:lnTo>
                            <a:lnTo>
                              <a:pt x="520" y="25"/>
                            </a:lnTo>
                            <a:lnTo>
                              <a:pt x="513" y="25"/>
                            </a:lnTo>
                            <a:lnTo>
                              <a:pt x="505" y="26"/>
                            </a:lnTo>
                            <a:lnTo>
                              <a:pt x="498" y="26"/>
                            </a:lnTo>
                            <a:lnTo>
                              <a:pt x="490" y="26"/>
                            </a:lnTo>
                            <a:lnTo>
                              <a:pt x="482" y="26"/>
                            </a:lnTo>
                            <a:lnTo>
                              <a:pt x="475" y="26"/>
                            </a:lnTo>
                            <a:lnTo>
                              <a:pt x="465" y="26"/>
                            </a:lnTo>
                            <a:lnTo>
                              <a:pt x="459" y="26"/>
                            </a:lnTo>
                            <a:lnTo>
                              <a:pt x="452" y="26"/>
                            </a:lnTo>
                            <a:lnTo>
                              <a:pt x="444" y="28"/>
                            </a:lnTo>
                            <a:lnTo>
                              <a:pt x="436" y="28"/>
                            </a:lnTo>
                            <a:lnTo>
                              <a:pt x="429" y="28"/>
                            </a:lnTo>
                            <a:lnTo>
                              <a:pt x="421" y="28"/>
                            </a:lnTo>
                            <a:lnTo>
                              <a:pt x="413" y="28"/>
                            </a:lnTo>
                            <a:lnTo>
                              <a:pt x="404" y="28"/>
                            </a:lnTo>
                            <a:lnTo>
                              <a:pt x="398" y="29"/>
                            </a:lnTo>
                            <a:lnTo>
                              <a:pt x="389" y="29"/>
                            </a:lnTo>
                            <a:lnTo>
                              <a:pt x="381" y="29"/>
                            </a:lnTo>
                            <a:lnTo>
                              <a:pt x="374" y="29"/>
                            </a:lnTo>
                            <a:lnTo>
                              <a:pt x="368" y="29"/>
                            </a:lnTo>
                            <a:lnTo>
                              <a:pt x="358" y="29"/>
                            </a:lnTo>
                            <a:lnTo>
                              <a:pt x="351" y="29"/>
                            </a:lnTo>
                            <a:lnTo>
                              <a:pt x="343" y="29"/>
                            </a:lnTo>
                            <a:lnTo>
                              <a:pt x="335" y="30"/>
                            </a:lnTo>
                            <a:lnTo>
                              <a:pt x="329" y="30"/>
                            </a:lnTo>
                            <a:lnTo>
                              <a:pt x="322" y="30"/>
                            </a:lnTo>
                            <a:lnTo>
                              <a:pt x="314" y="32"/>
                            </a:lnTo>
                            <a:lnTo>
                              <a:pt x="306" y="32"/>
                            </a:lnTo>
                            <a:lnTo>
                              <a:pt x="299" y="32"/>
                            </a:lnTo>
                            <a:lnTo>
                              <a:pt x="291" y="32"/>
                            </a:lnTo>
                            <a:lnTo>
                              <a:pt x="282" y="32"/>
                            </a:lnTo>
                            <a:lnTo>
                              <a:pt x="274" y="33"/>
                            </a:lnTo>
                            <a:lnTo>
                              <a:pt x="267" y="33"/>
                            </a:lnTo>
                            <a:lnTo>
                              <a:pt x="259" y="33"/>
                            </a:lnTo>
                            <a:lnTo>
                              <a:pt x="251" y="35"/>
                            </a:lnTo>
                            <a:lnTo>
                              <a:pt x="244" y="36"/>
                            </a:lnTo>
                            <a:lnTo>
                              <a:pt x="236" y="36"/>
                            </a:lnTo>
                            <a:lnTo>
                              <a:pt x="228" y="36"/>
                            </a:lnTo>
                            <a:lnTo>
                              <a:pt x="222" y="36"/>
                            </a:lnTo>
                            <a:lnTo>
                              <a:pt x="215" y="37"/>
                            </a:lnTo>
                            <a:lnTo>
                              <a:pt x="207" y="37"/>
                            </a:lnTo>
                            <a:lnTo>
                              <a:pt x="199" y="39"/>
                            </a:lnTo>
                            <a:lnTo>
                              <a:pt x="192" y="39"/>
                            </a:lnTo>
                            <a:lnTo>
                              <a:pt x="185" y="40"/>
                            </a:lnTo>
                            <a:lnTo>
                              <a:pt x="178" y="41"/>
                            </a:lnTo>
                            <a:lnTo>
                              <a:pt x="170" y="41"/>
                            </a:lnTo>
                            <a:lnTo>
                              <a:pt x="163" y="43"/>
                            </a:lnTo>
                            <a:lnTo>
                              <a:pt x="155" y="44"/>
                            </a:lnTo>
                            <a:lnTo>
                              <a:pt x="147" y="44"/>
                            </a:lnTo>
                            <a:lnTo>
                              <a:pt x="140" y="46"/>
                            </a:lnTo>
                            <a:lnTo>
                              <a:pt x="132" y="46"/>
                            </a:lnTo>
                            <a:lnTo>
                              <a:pt x="126" y="48"/>
                            </a:lnTo>
                            <a:lnTo>
                              <a:pt x="118" y="48"/>
                            </a:lnTo>
                            <a:lnTo>
                              <a:pt x="111" y="50"/>
                            </a:lnTo>
                            <a:lnTo>
                              <a:pt x="103" y="51"/>
                            </a:lnTo>
                            <a:lnTo>
                              <a:pt x="97" y="52"/>
                            </a:lnTo>
                            <a:lnTo>
                              <a:pt x="89" y="54"/>
                            </a:lnTo>
                            <a:lnTo>
                              <a:pt x="81" y="55"/>
                            </a:lnTo>
                            <a:lnTo>
                              <a:pt x="75" y="58"/>
                            </a:lnTo>
                            <a:lnTo>
                              <a:pt x="68" y="59"/>
                            </a:lnTo>
                            <a:lnTo>
                              <a:pt x="65" y="59"/>
                            </a:lnTo>
                            <a:lnTo>
                              <a:pt x="62" y="59"/>
                            </a:lnTo>
                            <a:lnTo>
                              <a:pt x="59" y="59"/>
                            </a:lnTo>
                            <a:lnTo>
                              <a:pt x="54" y="59"/>
                            </a:lnTo>
                            <a:lnTo>
                              <a:pt x="49" y="59"/>
                            </a:lnTo>
                            <a:lnTo>
                              <a:pt x="45" y="59"/>
                            </a:lnTo>
                            <a:lnTo>
                              <a:pt x="39" y="59"/>
                            </a:lnTo>
                            <a:lnTo>
                              <a:pt x="34" y="61"/>
                            </a:lnTo>
                            <a:lnTo>
                              <a:pt x="29" y="61"/>
                            </a:lnTo>
                            <a:lnTo>
                              <a:pt x="23" y="61"/>
                            </a:lnTo>
                            <a:lnTo>
                              <a:pt x="19" y="61"/>
                            </a:lnTo>
                            <a:lnTo>
                              <a:pt x="16" y="61"/>
                            </a:lnTo>
                            <a:lnTo>
                              <a:pt x="11" y="61"/>
                            </a:lnTo>
                            <a:lnTo>
                              <a:pt x="8" y="61"/>
                            </a:lnTo>
                            <a:lnTo>
                              <a:pt x="5" y="61"/>
                            </a:lnTo>
                            <a:lnTo>
                              <a:pt x="3" y="61"/>
                            </a:lnTo>
                            <a:lnTo>
                              <a:pt x="2" y="55"/>
                            </a:lnTo>
                            <a:lnTo>
                              <a:pt x="2" y="50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5" y="39"/>
                            </a:lnTo>
                            <a:lnTo>
                              <a:pt x="11" y="37"/>
                            </a:lnTo>
                            <a:lnTo>
                              <a:pt x="17" y="36"/>
                            </a:lnTo>
                            <a:lnTo>
                              <a:pt x="22" y="36"/>
                            </a:lnTo>
                            <a:lnTo>
                              <a:pt x="28" y="33"/>
                            </a:lnTo>
                            <a:lnTo>
                              <a:pt x="34" y="32"/>
                            </a:lnTo>
                            <a:lnTo>
                              <a:pt x="39" y="32"/>
                            </a:lnTo>
                            <a:lnTo>
                              <a:pt x="45" y="30"/>
                            </a:lnTo>
                            <a:lnTo>
                              <a:pt x="51" y="29"/>
                            </a:lnTo>
                            <a:lnTo>
                              <a:pt x="55" y="29"/>
                            </a:lnTo>
                            <a:lnTo>
                              <a:pt x="62" y="28"/>
                            </a:lnTo>
                            <a:lnTo>
                              <a:pt x="68" y="26"/>
                            </a:lnTo>
                            <a:lnTo>
                              <a:pt x="72" y="26"/>
                            </a:lnTo>
                            <a:lnTo>
                              <a:pt x="78" y="25"/>
                            </a:lnTo>
                            <a:lnTo>
                              <a:pt x="85" y="24"/>
                            </a:lnTo>
                            <a:lnTo>
                              <a:pt x="91" y="24"/>
                            </a:lnTo>
                            <a:lnTo>
                              <a:pt x="95" y="22"/>
                            </a:lnTo>
                            <a:lnTo>
                              <a:pt x="101" y="22"/>
                            </a:lnTo>
                            <a:lnTo>
                              <a:pt x="107" y="21"/>
                            </a:lnTo>
                            <a:lnTo>
                              <a:pt x="112" y="19"/>
                            </a:lnTo>
                            <a:lnTo>
                              <a:pt x="118" y="19"/>
                            </a:lnTo>
                            <a:lnTo>
                              <a:pt x="124" y="18"/>
                            </a:lnTo>
                            <a:lnTo>
                              <a:pt x="130" y="17"/>
                            </a:lnTo>
                            <a:lnTo>
                              <a:pt x="137" y="17"/>
                            </a:lnTo>
                            <a:lnTo>
                              <a:pt x="141" y="15"/>
                            </a:lnTo>
                            <a:lnTo>
                              <a:pt x="147" y="15"/>
                            </a:lnTo>
                            <a:lnTo>
                              <a:pt x="153" y="14"/>
                            </a:lnTo>
                            <a:lnTo>
                              <a:pt x="159" y="14"/>
                            </a:lnTo>
                            <a:lnTo>
                              <a:pt x="164" y="14"/>
                            </a:lnTo>
                            <a:lnTo>
                              <a:pt x="172" y="13"/>
                            </a:lnTo>
                            <a:lnTo>
                              <a:pt x="176" y="13"/>
                            </a:lnTo>
                            <a:lnTo>
                              <a:pt x="182" y="13"/>
                            </a:lnTo>
                            <a:lnTo>
                              <a:pt x="189" y="11"/>
                            </a:lnTo>
                            <a:lnTo>
                              <a:pt x="195" y="11"/>
                            </a:lnTo>
                            <a:lnTo>
                              <a:pt x="199" y="10"/>
                            </a:lnTo>
                            <a:lnTo>
                              <a:pt x="205" y="10"/>
                            </a:lnTo>
                            <a:lnTo>
                              <a:pt x="211" y="10"/>
                            </a:lnTo>
                            <a:lnTo>
                              <a:pt x="218" y="8"/>
                            </a:lnTo>
                            <a:lnTo>
                              <a:pt x="224" y="8"/>
                            </a:lnTo>
                            <a:lnTo>
                              <a:pt x="230" y="8"/>
                            </a:lnTo>
                            <a:lnTo>
                              <a:pt x="236" y="7"/>
                            </a:lnTo>
                            <a:lnTo>
                              <a:pt x="241" y="7"/>
                            </a:lnTo>
                            <a:lnTo>
                              <a:pt x="247" y="7"/>
                            </a:lnTo>
                            <a:lnTo>
                              <a:pt x="253" y="7"/>
                            </a:lnTo>
                            <a:lnTo>
                              <a:pt x="259" y="6"/>
                            </a:lnTo>
                            <a:lnTo>
                              <a:pt x="265" y="6"/>
                            </a:lnTo>
                            <a:lnTo>
                              <a:pt x="271" y="4"/>
                            </a:lnTo>
                            <a:lnTo>
                              <a:pt x="277" y="4"/>
                            </a:lnTo>
                            <a:lnTo>
                              <a:pt x="282" y="4"/>
                            </a:lnTo>
                            <a:lnTo>
                              <a:pt x="288" y="4"/>
                            </a:lnTo>
                            <a:lnTo>
                              <a:pt x="294" y="3"/>
                            </a:lnTo>
                            <a:lnTo>
                              <a:pt x="300" y="3"/>
                            </a:lnTo>
                            <a:lnTo>
                              <a:pt x="305" y="3"/>
                            </a:lnTo>
                            <a:lnTo>
                              <a:pt x="311" y="3"/>
                            </a:lnTo>
                            <a:lnTo>
                              <a:pt x="319" y="2"/>
                            </a:lnTo>
                            <a:lnTo>
                              <a:pt x="325" y="2"/>
                            </a:lnTo>
                            <a:lnTo>
                              <a:pt x="329" y="2"/>
                            </a:lnTo>
                            <a:lnTo>
                              <a:pt x="335" y="2"/>
                            </a:lnTo>
                            <a:lnTo>
                              <a:pt x="342" y="2"/>
                            </a:lnTo>
                            <a:lnTo>
                              <a:pt x="348" y="2"/>
                            </a:lnTo>
                            <a:lnTo>
                              <a:pt x="352" y="0"/>
                            </a:lnTo>
                            <a:lnTo>
                              <a:pt x="360" y="0"/>
                            </a:lnTo>
                            <a:lnTo>
                              <a:pt x="366" y="0"/>
                            </a:lnTo>
                            <a:lnTo>
                              <a:pt x="37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Freeform 149"/>
                      <p:cNvSpPr/>
                      <p:nvPr/>
                    </p:nvSpPr>
                    <p:spPr>
                      <a:xfrm>
                        <a:off x="2800800" y="2896560"/>
                        <a:ext cx="18720" cy="554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211" h="551">
                            <a:moveTo>
                              <a:pt x="61" y="43"/>
                            </a:moveTo>
                            <a:lnTo>
                              <a:pt x="61" y="47"/>
                            </a:lnTo>
                            <a:lnTo>
                              <a:pt x="63" y="51"/>
                            </a:lnTo>
                            <a:lnTo>
                              <a:pt x="63" y="57"/>
                            </a:lnTo>
                            <a:lnTo>
                              <a:pt x="64" y="62"/>
                            </a:lnTo>
                            <a:lnTo>
                              <a:pt x="64" y="66"/>
                            </a:lnTo>
                            <a:lnTo>
                              <a:pt x="66" y="72"/>
                            </a:lnTo>
                            <a:lnTo>
                              <a:pt x="66" y="79"/>
                            </a:lnTo>
                            <a:lnTo>
                              <a:pt x="67" y="84"/>
                            </a:lnTo>
                            <a:lnTo>
                              <a:pt x="67" y="88"/>
                            </a:lnTo>
                            <a:lnTo>
                              <a:pt x="67" y="94"/>
                            </a:lnTo>
                            <a:lnTo>
                              <a:pt x="67" y="99"/>
                            </a:lnTo>
                            <a:lnTo>
                              <a:pt x="67" y="105"/>
                            </a:lnTo>
                            <a:lnTo>
                              <a:pt x="67" y="109"/>
                            </a:lnTo>
                            <a:lnTo>
                              <a:pt x="67" y="114"/>
                            </a:lnTo>
                            <a:lnTo>
                              <a:pt x="66" y="118"/>
                            </a:lnTo>
                            <a:lnTo>
                              <a:pt x="64" y="122"/>
                            </a:lnTo>
                            <a:lnTo>
                              <a:pt x="64" y="118"/>
                            </a:lnTo>
                            <a:lnTo>
                              <a:pt x="64" y="116"/>
                            </a:lnTo>
                            <a:lnTo>
                              <a:pt x="64" y="112"/>
                            </a:lnTo>
                            <a:lnTo>
                              <a:pt x="64" y="109"/>
                            </a:lnTo>
                            <a:lnTo>
                              <a:pt x="63" y="105"/>
                            </a:lnTo>
                            <a:lnTo>
                              <a:pt x="63" y="102"/>
                            </a:lnTo>
                            <a:lnTo>
                              <a:pt x="63" y="98"/>
                            </a:lnTo>
                            <a:lnTo>
                              <a:pt x="63" y="95"/>
                            </a:lnTo>
                            <a:lnTo>
                              <a:pt x="61" y="91"/>
                            </a:lnTo>
                            <a:lnTo>
                              <a:pt x="61" y="88"/>
                            </a:lnTo>
                            <a:lnTo>
                              <a:pt x="61" y="84"/>
                            </a:lnTo>
                            <a:lnTo>
                              <a:pt x="60" y="81"/>
                            </a:lnTo>
                            <a:lnTo>
                              <a:pt x="60" y="79"/>
                            </a:lnTo>
                            <a:lnTo>
                              <a:pt x="58" y="76"/>
                            </a:lnTo>
                            <a:lnTo>
                              <a:pt x="58" y="72"/>
                            </a:lnTo>
                            <a:lnTo>
                              <a:pt x="58" y="69"/>
                            </a:lnTo>
                            <a:lnTo>
                              <a:pt x="57" y="66"/>
                            </a:lnTo>
                            <a:lnTo>
                              <a:pt x="57" y="62"/>
                            </a:lnTo>
                            <a:lnTo>
                              <a:pt x="55" y="59"/>
                            </a:lnTo>
                            <a:lnTo>
                              <a:pt x="54" y="55"/>
                            </a:lnTo>
                            <a:lnTo>
                              <a:pt x="54" y="52"/>
                            </a:lnTo>
                            <a:lnTo>
                              <a:pt x="52" y="48"/>
                            </a:lnTo>
                            <a:lnTo>
                              <a:pt x="52" y="46"/>
                            </a:lnTo>
                            <a:lnTo>
                              <a:pt x="50" y="42"/>
                            </a:lnTo>
                            <a:lnTo>
                              <a:pt x="50" y="39"/>
                            </a:lnTo>
                            <a:lnTo>
                              <a:pt x="49" y="35"/>
                            </a:lnTo>
                            <a:lnTo>
                              <a:pt x="47" y="32"/>
                            </a:lnTo>
                            <a:lnTo>
                              <a:pt x="47" y="29"/>
                            </a:lnTo>
                            <a:lnTo>
                              <a:pt x="46" y="25"/>
                            </a:lnTo>
                            <a:lnTo>
                              <a:pt x="46" y="22"/>
                            </a:lnTo>
                            <a:lnTo>
                              <a:pt x="44" y="18"/>
                            </a:lnTo>
                            <a:lnTo>
                              <a:pt x="44" y="15"/>
                            </a:lnTo>
                            <a:lnTo>
                              <a:pt x="29" y="14"/>
                            </a:lnTo>
                            <a:lnTo>
                              <a:pt x="29" y="17"/>
                            </a:lnTo>
                            <a:lnTo>
                              <a:pt x="31" y="20"/>
                            </a:lnTo>
                            <a:lnTo>
                              <a:pt x="32" y="24"/>
                            </a:lnTo>
                            <a:lnTo>
                              <a:pt x="34" y="26"/>
                            </a:lnTo>
                            <a:lnTo>
                              <a:pt x="35" y="32"/>
                            </a:lnTo>
                            <a:lnTo>
                              <a:pt x="35" y="37"/>
                            </a:lnTo>
                            <a:lnTo>
                              <a:pt x="37" y="43"/>
                            </a:lnTo>
                            <a:lnTo>
                              <a:pt x="37" y="48"/>
                            </a:lnTo>
                            <a:lnTo>
                              <a:pt x="38" y="54"/>
                            </a:lnTo>
                            <a:lnTo>
                              <a:pt x="38" y="61"/>
                            </a:lnTo>
                            <a:lnTo>
                              <a:pt x="38" y="63"/>
                            </a:lnTo>
                            <a:lnTo>
                              <a:pt x="40" y="66"/>
                            </a:lnTo>
                            <a:lnTo>
                              <a:pt x="40" y="70"/>
                            </a:lnTo>
                            <a:lnTo>
                              <a:pt x="41" y="73"/>
                            </a:lnTo>
                            <a:lnTo>
                              <a:pt x="41" y="79"/>
                            </a:lnTo>
                            <a:lnTo>
                              <a:pt x="41" y="85"/>
                            </a:lnTo>
                            <a:lnTo>
                              <a:pt x="41" y="88"/>
                            </a:lnTo>
                            <a:lnTo>
                              <a:pt x="41" y="91"/>
                            </a:lnTo>
                            <a:lnTo>
                              <a:pt x="41" y="94"/>
                            </a:lnTo>
                            <a:lnTo>
                              <a:pt x="41" y="98"/>
                            </a:lnTo>
                            <a:lnTo>
                              <a:pt x="41" y="103"/>
                            </a:lnTo>
                            <a:lnTo>
                              <a:pt x="41" y="109"/>
                            </a:lnTo>
                            <a:lnTo>
                              <a:pt x="41" y="114"/>
                            </a:lnTo>
                            <a:lnTo>
                              <a:pt x="41" y="120"/>
                            </a:lnTo>
                            <a:lnTo>
                              <a:pt x="41" y="117"/>
                            </a:lnTo>
                            <a:lnTo>
                              <a:pt x="41" y="113"/>
                            </a:lnTo>
                            <a:lnTo>
                              <a:pt x="40" y="110"/>
                            </a:lnTo>
                            <a:lnTo>
                              <a:pt x="40" y="107"/>
                            </a:lnTo>
                            <a:lnTo>
                              <a:pt x="38" y="103"/>
                            </a:lnTo>
                            <a:lnTo>
                              <a:pt x="37" y="101"/>
                            </a:lnTo>
                            <a:lnTo>
                              <a:pt x="37" y="98"/>
                            </a:lnTo>
                            <a:lnTo>
                              <a:pt x="37" y="95"/>
                            </a:lnTo>
                            <a:lnTo>
                              <a:pt x="35" y="91"/>
                            </a:lnTo>
                            <a:lnTo>
                              <a:pt x="34" y="88"/>
                            </a:lnTo>
                            <a:lnTo>
                              <a:pt x="34" y="84"/>
                            </a:lnTo>
                            <a:lnTo>
                              <a:pt x="32" y="81"/>
                            </a:lnTo>
                            <a:lnTo>
                              <a:pt x="31" y="79"/>
                            </a:lnTo>
                            <a:lnTo>
                              <a:pt x="31" y="74"/>
                            </a:lnTo>
                            <a:lnTo>
                              <a:pt x="31" y="72"/>
                            </a:lnTo>
                            <a:lnTo>
                              <a:pt x="29" y="68"/>
                            </a:lnTo>
                            <a:lnTo>
                              <a:pt x="28" y="63"/>
                            </a:lnTo>
                            <a:lnTo>
                              <a:pt x="28" y="59"/>
                            </a:lnTo>
                            <a:lnTo>
                              <a:pt x="24" y="57"/>
                            </a:lnTo>
                            <a:lnTo>
                              <a:pt x="23" y="54"/>
                            </a:lnTo>
                            <a:lnTo>
                              <a:pt x="21" y="50"/>
                            </a:lnTo>
                            <a:lnTo>
                              <a:pt x="20" y="46"/>
                            </a:lnTo>
                            <a:lnTo>
                              <a:pt x="18" y="42"/>
                            </a:lnTo>
                            <a:lnTo>
                              <a:pt x="17" y="39"/>
                            </a:lnTo>
                            <a:lnTo>
                              <a:pt x="15" y="35"/>
                            </a:lnTo>
                            <a:lnTo>
                              <a:pt x="14" y="31"/>
                            </a:lnTo>
                            <a:lnTo>
                              <a:pt x="12" y="26"/>
                            </a:lnTo>
                            <a:lnTo>
                              <a:pt x="12" y="24"/>
                            </a:lnTo>
                            <a:lnTo>
                              <a:pt x="11" y="20"/>
                            </a:lnTo>
                            <a:lnTo>
                              <a:pt x="11" y="15"/>
                            </a:lnTo>
                            <a:lnTo>
                              <a:pt x="11" y="10"/>
                            </a:lnTo>
                            <a:lnTo>
                              <a:pt x="12" y="7"/>
                            </a:lnTo>
                            <a:lnTo>
                              <a:pt x="9" y="4"/>
                            </a:lnTo>
                            <a:lnTo>
                              <a:pt x="6" y="3"/>
                            </a:lnTo>
                            <a:lnTo>
                              <a:pt x="3" y="2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10"/>
                            </a:lnTo>
                            <a:lnTo>
                              <a:pt x="0" y="14"/>
                            </a:lnTo>
                            <a:lnTo>
                              <a:pt x="0" y="20"/>
                            </a:lnTo>
                            <a:lnTo>
                              <a:pt x="0" y="21"/>
                            </a:lnTo>
                            <a:lnTo>
                              <a:pt x="2" y="24"/>
                            </a:lnTo>
                            <a:lnTo>
                              <a:pt x="2" y="28"/>
                            </a:lnTo>
                            <a:lnTo>
                              <a:pt x="2" y="31"/>
                            </a:lnTo>
                            <a:lnTo>
                              <a:pt x="2" y="33"/>
                            </a:lnTo>
                            <a:lnTo>
                              <a:pt x="2" y="37"/>
                            </a:lnTo>
                            <a:lnTo>
                              <a:pt x="2" y="40"/>
                            </a:lnTo>
                            <a:lnTo>
                              <a:pt x="3" y="44"/>
                            </a:lnTo>
                            <a:lnTo>
                              <a:pt x="3" y="47"/>
                            </a:lnTo>
                            <a:lnTo>
                              <a:pt x="3" y="51"/>
                            </a:lnTo>
                            <a:lnTo>
                              <a:pt x="3" y="54"/>
                            </a:lnTo>
                            <a:lnTo>
                              <a:pt x="3" y="58"/>
                            </a:lnTo>
                            <a:lnTo>
                              <a:pt x="3" y="62"/>
                            </a:lnTo>
                            <a:lnTo>
                              <a:pt x="5" y="66"/>
                            </a:lnTo>
                            <a:lnTo>
                              <a:pt x="5" y="69"/>
                            </a:lnTo>
                            <a:lnTo>
                              <a:pt x="6" y="73"/>
                            </a:lnTo>
                            <a:lnTo>
                              <a:pt x="6" y="77"/>
                            </a:lnTo>
                            <a:lnTo>
                              <a:pt x="6" y="81"/>
                            </a:lnTo>
                            <a:lnTo>
                              <a:pt x="6" y="85"/>
                            </a:lnTo>
                            <a:lnTo>
                              <a:pt x="8" y="90"/>
                            </a:lnTo>
                            <a:lnTo>
                              <a:pt x="8" y="94"/>
                            </a:lnTo>
                            <a:lnTo>
                              <a:pt x="8" y="96"/>
                            </a:lnTo>
                            <a:lnTo>
                              <a:pt x="8" y="101"/>
                            </a:lnTo>
                            <a:lnTo>
                              <a:pt x="9" y="105"/>
                            </a:lnTo>
                            <a:lnTo>
                              <a:pt x="9" y="107"/>
                            </a:lnTo>
                            <a:lnTo>
                              <a:pt x="9" y="112"/>
                            </a:lnTo>
                            <a:lnTo>
                              <a:pt x="9" y="116"/>
                            </a:lnTo>
                            <a:lnTo>
                              <a:pt x="9" y="118"/>
                            </a:lnTo>
                            <a:lnTo>
                              <a:pt x="9" y="121"/>
                            </a:lnTo>
                            <a:lnTo>
                              <a:pt x="9" y="125"/>
                            </a:lnTo>
                            <a:lnTo>
                              <a:pt x="11" y="128"/>
                            </a:lnTo>
                            <a:lnTo>
                              <a:pt x="11" y="132"/>
                            </a:lnTo>
                            <a:lnTo>
                              <a:pt x="11" y="138"/>
                            </a:lnTo>
                            <a:lnTo>
                              <a:pt x="12" y="143"/>
                            </a:lnTo>
                            <a:lnTo>
                              <a:pt x="12" y="149"/>
                            </a:lnTo>
                            <a:lnTo>
                              <a:pt x="12" y="153"/>
                            </a:lnTo>
                            <a:lnTo>
                              <a:pt x="12" y="155"/>
                            </a:lnTo>
                            <a:lnTo>
                              <a:pt x="12" y="160"/>
                            </a:lnTo>
                            <a:lnTo>
                              <a:pt x="12" y="162"/>
                            </a:lnTo>
                            <a:lnTo>
                              <a:pt x="12" y="161"/>
                            </a:lnTo>
                            <a:lnTo>
                              <a:pt x="12" y="551"/>
                            </a:lnTo>
                            <a:lnTo>
                              <a:pt x="211" y="551"/>
                            </a:lnTo>
                            <a:lnTo>
                              <a:pt x="208" y="84"/>
                            </a:lnTo>
                            <a:lnTo>
                              <a:pt x="208" y="79"/>
                            </a:lnTo>
                            <a:lnTo>
                              <a:pt x="208" y="74"/>
                            </a:lnTo>
                            <a:lnTo>
                              <a:pt x="208" y="69"/>
                            </a:lnTo>
                            <a:lnTo>
                              <a:pt x="208" y="65"/>
                            </a:lnTo>
                            <a:lnTo>
                              <a:pt x="208" y="61"/>
                            </a:lnTo>
                            <a:lnTo>
                              <a:pt x="208" y="57"/>
                            </a:lnTo>
                            <a:lnTo>
                              <a:pt x="208" y="51"/>
                            </a:lnTo>
                            <a:lnTo>
                              <a:pt x="208" y="47"/>
                            </a:lnTo>
                            <a:lnTo>
                              <a:pt x="208" y="43"/>
                            </a:lnTo>
                            <a:lnTo>
                              <a:pt x="208" y="39"/>
                            </a:lnTo>
                            <a:lnTo>
                              <a:pt x="208" y="35"/>
                            </a:lnTo>
                            <a:lnTo>
                              <a:pt x="208" y="31"/>
                            </a:lnTo>
                            <a:lnTo>
                              <a:pt x="206" y="26"/>
                            </a:lnTo>
                            <a:lnTo>
                              <a:pt x="206" y="22"/>
                            </a:lnTo>
                            <a:lnTo>
                              <a:pt x="206" y="17"/>
                            </a:lnTo>
                            <a:lnTo>
                              <a:pt x="206" y="14"/>
                            </a:lnTo>
                            <a:lnTo>
                              <a:pt x="202" y="14"/>
                            </a:lnTo>
                            <a:lnTo>
                              <a:pt x="200" y="17"/>
                            </a:lnTo>
                            <a:lnTo>
                              <a:pt x="200" y="21"/>
                            </a:lnTo>
                            <a:lnTo>
                              <a:pt x="200" y="25"/>
                            </a:lnTo>
                            <a:lnTo>
                              <a:pt x="200" y="29"/>
                            </a:lnTo>
                            <a:lnTo>
                              <a:pt x="200" y="32"/>
                            </a:lnTo>
                            <a:lnTo>
                              <a:pt x="200" y="36"/>
                            </a:lnTo>
                            <a:lnTo>
                              <a:pt x="200" y="40"/>
                            </a:lnTo>
                            <a:lnTo>
                              <a:pt x="200" y="44"/>
                            </a:lnTo>
                            <a:lnTo>
                              <a:pt x="200" y="48"/>
                            </a:lnTo>
                            <a:lnTo>
                              <a:pt x="200" y="52"/>
                            </a:lnTo>
                            <a:lnTo>
                              <a:pt x="200" y="57"/>
                            </a:lnTo>
                            <a:lnTo>
                              <a:pt x="202" y="61"/>
                            </a:lnTo>
                            <a:lnTo>
                              <a:pt x="202" y="65"/>
                            </a:lnTo>
                            <a:lnTo>
                              <a:pt x="202" y="69"/>
                            </a:lnTo>
                            <a:lnTo>
                              <a:pt x="202" y="72"/>
                            </a:lnTo>
                            <a:lnTo>
                              <a:pt x="203" y="77"/>
                            </a:lnTo>
                            <a:lnTo>
                              <a:pt x="202" y="79"/>
                            </a:lnTo>
                            <a:lnTo>
                              <a:pt x="202" y="81"/>
                            </a:lnTo>
                            <a:lnTo>
                              <a:pt x="200" y="84"/>
                            </a:lnTo>
                            <a:lnTo>
                              <a:pt x="199" y="85"/>
                            </a:lnTo>
                            <a:lnTo>
                              <a:pt x="199" y="80"/>
                            </a:lnTo>
                            <a:lnTo>
                              <a:pt x="199" y="74"/>
                            </a:lnTo>
                            <a:lnTo>
                              <a:pt x="197" y="69"/>
                            </a:lnTo>
                            <a:lnTo>
                              <a:pt x="197" y="63"/>
                            </a:lnTo>
                            <a:lnTo>
                              <a:pt x="197" y="58"/>
                            </a:lnTo>
                            <a:lnTo>
                              <a:pt x="196" y="52"/>
                            </a:lnTo>
                            <a:lnTo>
                              <a:pt x="196" y="47"/>
                            </a:lnTo>
                            <a:lnTo>
                              <a:pt x="196" y="42"/>
                            </a:lnTo>
                            <a:lnTo>
                              <a:pt x="194" y="43"/>
                            </a:lnTo>
                            <a:lnTo>
                              <a:pt x="193" y="47"/>
                            </a:lnTo>
                            <a:lnTo>
                              <a:pt x="191" y="50"/>
                            </a:lnTo>
                            <a:lnTo>
                              <a:pt x="191" y="52"/>
                            </a:lnTo>
                            <a:lnTo>
                              <a:pt x="191" y="57"/>
                            </a:lnTo>
                            <a:lnTo>
                              <a:pt x="191" y="61"/>
                            </a:lnTo>
                            <a:lnTo>
                              <a:pt x="191" y="63"/>
                            </a:lnTo>
                            <a:lnTo>
                              <a:pt x="191" y="69"/>
                            </a:lnTo>
                            <a:lnTo>
                              <a:pt x="191" y="73"/>
                            </a:lnTo>
                            <a:lnTo>
                              <a:pt x="191" y="79"/>
                            </a:lnTo>
                            <a:lnTo>
                              <a:pt x="191" y="83"/>
                            </a:lnTo>
                            <a:lnTo>
                              <a:pt x="193" y="88"/>
                            </a:lnTo>
                            <a:lnTo>
                              <a:pt x="193" y="94"/>
                            </a:lnTo>
                            <a:lnTo>
                              <a:pt x="193" y="99"/>
                            </a:lnTo>
                            <a:lnTo>
                              <a:pt x="193" y="103"/>
                            </a:lnTo>
                            <a:lnTo>
                              <a:pt x="193" y="109"/>
                            </a:lnTo>
                            <a:lnTo>
                              <a:pt x="193" y="113"/>
                            </a:lnTo>
                            <a:lnTo>
                              <a:pt x="194" y="117"/>
                            </a:lnTo>
                            <a:lnTo>
                              <a:pt x="194" y="121"/>
                            </a:lnTo>
                            <a:lnTo>
                              <a:pt x="194" y="125"/>
                            </a:lnTo>
                            <a:lnTo>
                              <a:pt x="194" y="129"/>
                            </a:lnTo>
                            <a:lnTo>
                              <a:pt x="194" y="133"/>
                            </a:lnTo>
                            <a:lnTo>
                              <a:pt x="193" y="138"/>
                            </a:lnTo>
                            <a:lnTo>
                              <a:pt x="193" y="140"/>
                            </a:lnTo>
                            <a:lnTo>
                              <a:pt x="191" y="142"/>
                            </a:lnTo>
                            <a:lnTo>
                              <a:pt x="191" y="140"/>
                            </a:lnTo>
                            <a:lnTo>
                              <a:pt x="190" y="135"/>
                            </a:lnTo>
                            <a:lnTo>
                              <a:pt x="190" y="128"/>
                            </a:lnTo>
                            <a:lnTo>
                              <a:pt x="188" y="122"/>
                            </a:lnTo>
                            <a:lnTo>
                              <a:pt x="188" y="117"/>
                            </a:lnTo>
                            <a:lnTo>
                              <a:pt x="187" y="112"/>
                            </a:lnTo>
                            <a:lnTo>
                              <a:pt x="187" y="106"/>
                            </a:lnTo>
                            <a:lnTo>
                              <a:pt x="185" y="102"/>
                            </a:lnTo>
                            <a:lnTo>
                              <a:pt x="185" y="98"/>
                            </a:lnTo>
                            <a:lnTo>
                              <a:pt x="185" y="91"/>
                            </a:lnTo>
                            <a:lnTo>
                              <a:pt x="185" y="85"/>
                            </a:lnTo>
                            <a:lnTo>
                              <a:pt x="185" y="80"/>
                            </a:lnTo>
                            <a:lnTo>
                              <a:pt x="185" y="76"/>
                            </a:lnTo>
                            <a:lnTo>
                              <a:pt x="185" y="69"/>
                            </a:lnTo>
                            <a:lnTo>
                              <a:pt x="185" y="65"/>
                            </a:lnTo>
                            <a:lnTo>
                              <a:pt x="185" y="59"/>
                            </a:lnTo>
                            <a:lnTo>
                              <a:pt x="185" y="54"/>
                            </a:lnTo>
                            <a:lnTo>
                              <a:pt x="185" y="48"/>
                            </a:lnTo>
                            <a:lnTo>
                              <a:pt x="185" y="44"/>
                            </a:lnTo>
                            <a:lnTo>
                              <a:pt x="185" y="39"/>
                            </a:lnTo>
                            <a:lnTo>
                              <a:pt x="185" y="33"/>
                            </a:lnTo>
                            <a:lnTo>
                              <a:pt x="185" y="29"/>
                            </a:lnTo>
                            <a:lnTo>
                              <a:pt x="185" y="24"/>
                            </a:lnTo>
                            <a:lnTo>
                              <a:pt x="185" y="18"/>
                            </a:lnTo>
                            <a:lnTo>
                              <a:pt x="185" y="14"/>
                            </a:lnTo>
                            <a:lnTo>
                              <a:pt x="180" y="14"/>
                            </a:lnTo>
                            <a:lnTo>
                              <a:pt x="176" y="14"/>
                            </a:lnTo>
                            <a:lnTo>
                              <a:pt x="171" y="14"/>
                            </a:lnTo>
                            <a:lnTo>
                              <a:pt x="168" y="15"/>
                            </a:lnTo>
                            <a:lnTo>
                              <a:pt x="168" y="20"/>
                            </a:lnTo>
                            <a:lnTo>
                              <a:pt x="168" y="22"/>
                            </a:lnTo>
                            <a:lnTo>
                              <a:pt x="168" y="26"/>
                            </a:lnTo>
                            <a:lnTo>
                              <a:pt x="168" y="31"/>
                            </a:lnTo>
                            <a:lnTo>
                              <a:pt x="168" y="35"/>
                            </a:lnTo>
                            <a:lnTo>
                              <a:pt x="168" y="39"/>
                            </a:lnTo>
                            <a:lnTo>
                              <a:pt x="168" y="42"/>
                            </a:lnTo>
                            <a:lnTo>
                              <a:pt x="168" y="46"/>
                            </a:lnTo>
                            <a:lnTo>
                              <a:pt x="168" y="50"/>
                            </a:lnTo>
                            <a:lnTo>
                              <a:pt x="168" y="54"/>
                            </a:lnTo>
                            <a:lnTo>
                              <a:pt x="168" y="57"/>
                            </a:lnTo>
                            <a:lnTo>
                              <a:pt x="168" y="61"/>
                            </a:lnTo>
                            <a:lnTo>
                              <a:pt x="168" y="65"/>
                            </a:lnTo>
                            <a:lnTo>
                              <a:pt x="168" y="69"/>
                            </a:lnTo>
                            <a:lnTo>
                              <a:pt x="168" y="73"/>
                            </a:lnTo>
                            <a:lnTo>
                              <a:pt x="170" y="77"/>
                            </a:lnTo>
                            <a:lnTo>
                              <a:pt x="170" y="80"/>
                            </a:lnTo>
                            <a:lnTo>
                              <a:pt x="170" y="84"/>
                            </a:lnTo>
                            <a:lnTo>
                              <a:pt x="170" y="88"/>
                            </a:lnTo>
                            <a:lnTo>
                              <a:pt x="170" y="91"/>
                            </a:lnTo>
                            <a:lnTo>
                              <a:pt x="170" y="95"/>
                            </a:lnTo>
                            <a:lnTo>
                              <a:pt x="171" y="99"/>
                            </a:lnTo>
                            <a:lnTo>
                              <a:pt x="171" y="102"/>
                            </a:lnTo>
                            <a:lnTo>
                              <a:pt x="171" y="106"/>
                            </a:lnTo>
                            <a:lnTo>
                              <a:pt x="171" y="109"/>
                            </a:lnTo>
                            <a:lnTo>
                              <a:pt x="171" y="113"/>
                            </a:lnTo>
                            <a:lnTo>
                              <a:pt x="171" y="116"/>
                            </a:lnTo>
                            <a:lnTo>
                              <a:pt x="171" y="120"/>
                            </a:lnTo>
                            <a:lnTo>
                              <a:pt x="171" y="124"/>
                            </a:lnTo>
                            <a:lnTo>
                              <a:pt x="173" y="127"/>
                            </a:lnTo>
                            <a:lnTo>
                              <a:pt x="173" y="131"/>
                            </a:lnTo>
                            <a:lnTo>
                              <a:pt x="173" y="133"/>
                            </a:lnTo>
                            <a:lnTo>
                              <a:pt x="173" y="136"/>
                            </a:lnTo>
                            <a:lnTo>
                              <a:pt x="173" y="139"/>
                            </a:lnTo>
                            <a:lnTo>
                              <a:pt x="173" y="143"/>
                            </a:lnTo>
                            <a:lnTo>
                              <a:pt x="174" y="149"/>
                            </a:lnTo>
                            <a:lnTo>
                              <a:pt x="174" y="153"/>
                            </a:lnTo>
                            <a:lnTo>
                              <a:pt x="174" y="160"/>
                            </a:lnTo>
                            <a:lnTo>
                              <a:pt x="174" y="162"/>
                            </a:lnTo>
                            <a:lnTo>
                              <a:pt x="174" y="165"/>
                            </a:lnTo>
                            <a:lnTo>
                              <a:pt x="174" y="168"/>
                            </a:lnTo>
                            <a:lnTo>
                              <a:pt x="174" y="172"/>
                            </a:lnTo>
                            <a:lnTo>
                              <a:pt x="174" y="177"/>
                            </a:lnTo>
                            <a:lnTo>
                              <a:pt x="174" y="183"/>
                            </a:lnTo>
                            <a:lnTo>
                              <a:pt x="173" y="187"/>
                            </a:lnTo>
                            <a:lnTo>
                              <a:pt x="173" y="192"/>
                            </a:lnTo>
                            <a:lnTo>
                              <a:pt x="171" y="198"/>
                            </a:lnTo>
                            <a:lnTo>
                              <a:pt x="171" y="202"/>
                            </a:lnTo>
                            <a:lnTo>
                              <a:pt x="170" y="205"/>
                            </a:lnTo>
                            <a:lnTo>
                              <a:pt x="168" y="206"/>
                            </a:lnTo>
                            <a:lnTo>
                              <a:pt x="167" y="201"/>
                            </a:lnTo>
                            <a:lnTo>
                              <a:pt x="167" y="195"/>
                            </a:lnTo>
                            <a:lnTo>
                              <a:pt x="165" y="190"/>
                            </a:lnTo>
                            <a:lnTo>
                              <a:pt x="165" y="184"/>
                            </a:lnTo>
                            <a:lnTo>
                              <a:pt x="165" y="177"/>
                            </a:lnTo>
                            <a:lnTo>
                              <a:pt x="164" y="172"/>
                            </a:lnTo>
                            <a:lnTo>
                              <a:pt x="164" y="166"/>
                            </a:lnTo>
                            <a:lnTo>
                              <a:pt x="164" y="162"/>
                            </a:lnTo>
                            <a:lnTo>
                              <a:pt x="164" y="155"/>
                            </a:lnTo>
                            <a:lnTo>
                              <a:pt x="164" y="150"/>
                            </a:lnTo>
                            <a:lnTo>
                              <a:pt x="164" y="144"/>
                            </a:lnTo>
                            <a:lnTo>
                              <a:pt x="164" y="139"/>
                            </a:lnTo>
                            <a:lnTo>
                              <a:pt x="164" y="133"/>
                            </a:lnTo>
                            <a:lnTo>
                              <a:pt x="164" y="128"/>
                            </a:lnTo>
                            <a:lnTo>
                              <a:pt x="164" y="121"/>
                            </a:lnTo>
                            <a:lnTo>
                              <a:pt x="164" y="117"/>
                            </a:lnTo>
                            <a:lnTo>
                              <a:pt x="164" y="110"/>
                            </a:lnTo>
                            <a:lnTo>
                              <a:pt x="164" y="105"/>
                            </a:lnTo>
                            <a:lnTo>
                              <a:pt x="164" y="99"/>
                            </a:lnTo>
                            <a:lnTo>
                              <a:pt x="164" y="94"/>
                            </a:lnTo>
                            <a:lnTo>
                              <a:pt x="164" y="88"/>
                            </a:lnTo>
                            <a:lnTo>
                              <a:pt x="164" y="83"/>
                            </a:lnTo>
                            <a:lnTo>
                              <a:pt x="164" y="76"/>
                            </a:lnTo>
                            <a:lnTo>
                              <a:pt x="164" y="72"/>
                            </a:lnTo>
                            <a:lnTo>
                              <a:pt x="164" y="65"/>
                            </a:lnTo>
                            <a:lnTo>
                              <a:pt x="164" y="59"/>
                            </a:lnTo>
                            <a:lnTo>
                              <a:pt x="162" y="54"/>
                            </a:lnTo>
                            <a:lnTo>
                              <a:pt x="162" y="48"/>
                            </a:lnTo>
                            <a:lnTo>
                              <a:pt x="162" y="43"/>
                            </a:lnTo>
                            <a:lnTo>
                              <a:pt x="161" y="37"/>
                            </a:lnTo>
                            <a:lnTo>
                              <a:pt x="161" y="32"/>
                            </a:lnTo>
                            <a:lnTo>
                              <a:pt x="161" y="26"/>
                            </a:lnTo>
                            <a:lnTo>
                              <a:pt x="159" y="25"/>
                            </a:lnTo>
                            <a:lnTo>
                              <a:pt x="158" y="22"/>
                            </a:lnTo>
                            <a:lnTo>
                              <a:pt x="156" y="20"/>
                            </a:lnTo>
                            <a:lnTo>
                              <a:pt x="156" y="18"/>
                            </a:lnTo>
                            <a:lnTo>
                              <a:pt x="154" y="20"/>
                            </a:lnTo>
                            <a:lnTo>
                              <a:pt x="154" y="22"/>
                            </a:lnTo>
                            <a:lnTo>
                              <a:pt x="153" y="26"/>
                            </a:lnTo>
                            <a:lnTo>
                              <a:pt x="153" y="29"/>
                            </a:lnTo>
                            <a:lnTo>
                              <a:pt x="153" y="32"/>
                            </a:lnTo>
                            <a:lnTo>
                              <a:pt x="153" y="36"/>
                            </a:lnTo>
                            <a:lnTo>
                              <a:pt x="153" y="39"/>
                            </a:lnTo>
                            <a:lnTo>
                              <a:pt x="153" y="43"/>
                            </a:lnTo>
                            <a:lnTo>
                              <a:pt x="156" y="105"/>
                            </a:lnTo>
                            <a:lnTo>
                              <a:pt x="156" y="109"/>
                            </a:lnTo>
                            <a:lnTo>
                              <a:pt x="156" y="114"/>
                            </a:lnTo>
                            <a:lnTo>
                              <a:pt x="156" y="120"/>
                            </a:lnTo>
                            <a:lnTo>
                              <a:pt x="156" y="125"/>
                            </a:lnTo>
                            <a:lnTo>
                              <a:pt x="156" y="129"/>
                            </a:lnTo>
                            <a:lnTo>
                              <a:pt x="156" y="135"/>
                            </a:lnTo>
                            <a:lnTo>
                              <a:pt x="154" y="140"/>
                            </a:lnTo>
                            <a:lnTo>
                              <a:pt x="154" y="144"/>
                            </a:lnTo>
                            <a:lnTo>
                              <a:pt x="154" y="150"/>
                            </a:lnTo>
                            <a:lnTo>
                              <a:pt x="154" y="155"/>
                            </a:lnTo>
                            <a:lnTo>
                              <a:pt x="154" y="160"/>
                            </a:lnTo>
                            <a:lnTo>
                              <a:pt x="154" y="165"/>
                            </a:lnTo>
                            <a:lnTo>
                              <a:pt x="153" y="171"/>
                            </a:lnTo>
                            <a:lnTo>
                              <a:pt x="153" y="175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3" y="512"/>
                            </a:lnTo>
                            <a:lnTo>
                              <a:pt x="75" y="515"/>
                            </a:lnTo>
                            <a:lnTo>
                              <a:pt x="72" y="66"/>
                            </a:lnTo>
                            <a:lnTo>
                              <a:pt x="72" y="62"/>
                            </a:lnTo>
                            <a:lnTo>
                              <a:pt x="72" y="59"/>
                            </a:lnTo>
                            <a:lnTo>
                              <a:pt x="72" y="57"/>
                            </a:lnTo>
                            <a:lnTo>
                              <a:pt x="72" y="54"/>
                            </a:lnTo>
                            <a:lnTo>
                              <a:pt x="70" y="50"/>
                            </a:lnTo>
                            <a:lnTo>
                              <a:pt x="69" y="47"/>
                            </a:lnTo>
                            <a:lnTo>
                              <a:pt x="69" y="43"/>
                            </a:lnTo>
                            <a:lnTo>
                              <a:pt x="67" y="40"/>
                            </a:lnTo>
                            <a:lnTo>
                              <a:pt x="67" y="37"/>
                            </a:lnTo>
                            <a:lnTo>
                              <a:pt x="66" y="33"/>
                            </a:lnTo>
                            <a:lnTo>
                              <a:pt x="64" y="31"/>
                            </a:lnTo>
                            <a:lnTo>
                              <a:pt x="64" y="28"/>
                            </a:lnTo>
                            <a:lnTo>
                              <a:pt x="63" y="21"/>
                            </a:lnTo>
                            <a:lnTo>
                              <a:pt x="61" y="15"/>
                            </a:lnTo>
                            <a:lnTo>
                              <a:pt x="57" y="15"/>
                            </a:lnTo>
                            <a:lnTo>
                              <a:pt x="61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Freeform 150"/>
                      <p:cNvSpPr/>
                      <p:nvPr/>
                    </p:nvSpPr>
                    <p:spPr>
                      <a:xfrm>
                        <a:off x="2829240" y="2929320"/>
                        <a:ext cx="720" cy="176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7640"/>
                          <a:gd name="textAreaBottom" fmla="*/ 18000 h 17640"/>
                        </a:gdLst>
                        <a:ahLst/>
                        <a:rect l="textAreaLeft" t="textAreaTop" r="textAreaRight" b="textAreaBottom"/>
                        <a:pathLst>
                          <a:path w="9" h="178">
                            <a:moveTo>
                              <a:pt x="1" y="176"/>
                            </a:moveTo>
                            <a:lnTo>
                              <a:pt x="1" y="178"/>
                            </a:lnTo>
                            <a:lnTo>
                              <a:pt x="3" y="176"/>
                            </a:lnTo>
                            <a:lnTo>
                              <a:pt x="3" y="175"/>
                            </a:lnTo>
                            <a:lnTo>
                              <a:pt x="3" y="172"/>
                            </a:lnTo>
                            <a:lnTo>
                              <a:pt x="3" y="169"/>
                            </a:lnTo>
                            <a:lnTo>
                              <a:pt x="3" y="165"/>
                            </a:lnTo>
                            <a:lnTo>
                              <a:pt x="3" y="162"/>
                            </a:lnTo>
                            <a:lnTo>
                              <a:pt x="3" y="160"/>
                            </a:lnTo>
                            <a:lnTo>
                              <a:pt x="3" y="154"/>
                            </a:lnTo>
                            <a:lnTo>
                              <a:pt x="4" y="149"/>
                            </a:lnTo>
                            <a:lnTo>
                              <a:pt x="4" y="143"/>
                            </a:lnTo>
                            <a:lnTo>
                              <a:pt x="4" y="138"/>
                            </a:lnTo>
                            <a:lnTo>
                              <a:pt x="4" y="132"/>
                            </a:lnTo>
                            <a:lnTo>
                              <a:pt x="4" y="127"/>
                            </a:lnTo>
                            <a:lnTo>
                              <a:pt x="4" y="121"/>
                            </a:lnTo>
                            <a:lnTo>
                              <a:pt x="4" y="116"/>
                            </a:lnTo>
                            <a:lnTo>
                              <a:pt x="6" y="112"/>
                            </a:lnTo>
                            <a:lnTo>
                              <a:pt x="6" y="106"/>
                            </a:lnTo>
                            <a:lnTo>
                              <a:pt x="6" y="101"/>
                            </a:lnTo>
                            <a:lnTo>
                              <a:pt x="6" y="97"/>
                            </a:lnTo>
                            <a:lnTo>
                              <a:pt x="8" y="91"/>
                            </a:lnTo>
                            <a:lnTo>
                              <a:pt x="8" y="86"/>
                            </a:lnTo>
                            <a:lnTo>
                              <a:pt x="8" y="80"/>
                            </a:lnTo>
                            <a:lnTo>
                              <a:pt x="8" y="75"/>
                            </a:lnTo>
                            <a:lnTo>
                              <a:pt x="8" y="70"/>
                            </a:lnTo>
                            <a:lnTo>
                              <a:pt x="8" y="65"/>
                            </a:lnTo>
                            <a:lnTo>
                              <a:pt x="8" y="59"/>
                            </a:lnTo>
                            <a:lnTo>
                              <a:pt x="8" y="54"/>
                            </a:lnTo>
                            <a:lnTo>
                              <a:pt x="8" y="50"/>
                            </a:lnTo>
                            <a:lnTo>
                              <a:pt x="9" y="44"/>
                            </a:lnTo>
                            <a:lnTo>
                              <a:pt x="8" y="39"/>
                            </a:lnTo>
                            <a:lnTo>
                              <a:pt x="8" y="33"/>
                            </a:lnTo>
                            <a:lnTo>
                              <a:pt x="8" y="28"/>
                            </a:lnTo>
                            <a:lnTo>
                              <a:pt x="8" y="22"/>
                            </a:lnTo>
                            <a:lnTo>
                              <a:pt x="8" y="17"/>
                            </a:lnTo>
                            <a:lnTo>
                              <a:pt x="8" y="11"/>
                            </a:lnTo>
                            <a:lnTo>
                              <a:pt x="8" y="6"/>
                            </a:lnTo>
                            <a:lnTo>
                              <a:pt x="8" y="0"/>
                            </a:lnTo>
                            <a:lnTo>
                              <a:pt x="6" y="5"/>
                            </a:lnTo>
                            <a:lnTo>
                              <a:pt x="6" y="9"/>
                            </a:lnTo>
                            <a:lnTo>
                              <a:pt x="4" y="11"/>
                            </a:lnTo>
                            <a:lnTo>
                              <a:pt x="3" y="16"/>
                            </a:lnTo>
                            <a:lnTo>
                              <a:pt x="1" y="105"/>
                            </a:lnTo>
                            <a:lnTo>
                              <a:pt x="0" y="109"/>
                            </a:lnTo>
                            <a:lnTo>
                              <a:pt x="0" y="113"/>
                            </a:lnTo>
                            <a:lnTo>
                              <a:pt x="0" y="118"/>
                            </a:lnTo>
                            <a:lnTo>
                              <a:pt x="0" y="123"/>
                            </a:lnTo>
                            <a:lnTo>
                              <a:pt x="0" y="127"/>
                            </a:lnTo>
                            <a:lnTo>
                              <a:pt x="0" y="132"/>
                            </a:lnTo>
                            <a:lnTo>
                              <a:pt x="0" y="136"/>
                            </a:lnTo>
                            <a:lnTo>
                              <a:pt x="0" y="142"/>
                            </a:lnTo>
                            <a:lnTo>
                              <a:pt x="0" y="146"/>
                            </a:lnTo>
                            <a:lnTo>
                              <a:pt x="0" y="150"/>
                            </a:lnTo>
                            <a:lnTo>
                              <a:pt x="0" y="154"/>
                            </a:lnTo>
                            <a:lnTo>
                              <a:pt x="0" y="158"/>
                            </a:lnTo>
                            <a:lnTo>
                              <a:pt x="0" y="164"/>
                            </a:lnTo>
                            <a:lnTo>
                              <a:pt x="0" y="168"/>
                            </a:lnTo>
                            <a:lnTo>
                              <a:pt x="0" y="172"/>
                            </a:lnTo>
                            <a:lnTo>
                              <a:pt x="1" y="1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1" name="Freeform 151"/>
                      <p:cNvSpPr/>
                      <p:nvPr/>
                    </p:nvSpPr>
                    <p:spPr>
                      <a:xfrm>
                        <a:off x="2839680" y="2930400"/>
                        <a:ext cx="720" cy="15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2" h="161">
                            <a:moveTo>
                              <a:pt x="12" y="0"/>
                            </a:moveTo>
                            <a:lnTo>
                              <a:pt x="12" y="5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10" y="21"/>
                            </a:lnTo>
                            <a:lnTo>
                              <a:pt x="10" y="27"/>
                            </a:lnTo>
                            <a:lnTo>
                              <a:pt x="10" y="32"/>
                            </a:lnTo>
                            <a:lnTo>
                              <a:pt x="10" y="37"/>
                            </a:lnTo>
                            <a:lnTo>
                              <a:pt x="10" y="43"/>
                            </a:lnTo>
                            <a:lnTo>
                              <a:pt x="9" y="48"/>
                            </a:lnTo>
                            <a:lnTo>
                              <a:pt x="9" y="53"/>
                            </a:lnTo>
                            <a:lnTo>
                              <a:pt x="9" y="58"/>
                            </a:lnTo>
                            <a:lnTo>
                              <a:pt x="9" y="64"/>
                            </a:lnTo>
                            <a:lnTo>
                              <a:pt x="7" y="69"/>
                            </a:lnTo>
                            <a:lnTo>
                              <a:pt x="7" y="73"/>
                            </a:lnTo>
                            <a:lnTo>
                              <a:pt x="7" y="79"/>
                            </a:lnTo>
                            <a:lnTo>
                              <a:pt x="7" y="84"/>
                            </a:lnTo>
                            <a:lnTo>
                              <a:pt x="7" y="88"/>
                            </a:lnTo>
                            <a:lnTo>
                              <a:pt x="7" y="94"/>
                            </a:lnTo>
                            <a:lnTo>
                              <a:pt x="7" y="99"/>
                            </a:lnTo>
                            <a:lnTo>
                              <a:pt x="7" y="105"/>
                            </a:lnTo>
                            <a:lnTo>
                              <a:pt x="6" y="109"/>
                            </a:lnTo>
                            <a:lnTo>
                              <a:pt x="6" y="113"/>
                            </a:lnTo>
                            <a:lnTo>
                              <a:pt x="6" y="118"/>
                            </a:lnTo>
                            <a:lnTo>
                              <a:pt x="6" y="124"/>
                            </a:lnTo>
                            <a:lnTo>
                              <a:pt x="4" y="128"/>
                            </a:lnTo>
                            <a:lnTo>
                              <a:pt x="4" y="132"/>
                            </a:lnTo>
                            <a:lnTo>
                              <a:pt x="3" y="138"/>
                            </a:lnTo>
                            <a:lnTo>
                              <a:pt x="3" y="142"/>
                            </a:lnTo>
                            <a:lnTo>
                              <a:pt x="1" y="147"/>
                            </a:lnTo>
                            <a:lnTo>
                              <a:pt x="1" y="151"/>
                            </a:lnTo>
                            <a:lnTo>
                              <a:pt x="0" y="157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0" y="149"/>
                            </a:lnTo>
                            <a:lnTo>
                              <a:pt x="0" y="143"/>
                            </a:lnTo>
                            <a:lnTo>
                              <a:pt x="0" y="138"/>
                            </a:lnTo>
                            <a:lnTo>
                              <a:pt x="0" y="135"/>
                            </a:lnTo>
                            <a:lnTo>
                              <a:pt x="0" y="132"/>
                            </a:lnTo>
                            <a:lnTo>
                              <a:pt x="0" y="128"/>
                            </a:lnTo>
                            <a:lnTo>
                              <a:pt x="0" y="125"/>
                            </a:lnTo>
                            <a:lnTo>
                              <a:pt x="0" y="121"/>
                            </a:lnTo>
                            <a:lnTo>
                              <a:pt x="0" y="118"/>
                            </a:lnTo>
                            <a:lnTo>
                              <a:pt x="0" y="114"/>
                            </a:lnTo>
                            <a:lnTo>
                              <a:pt x="0" y="110"/>
                            </a:lnTo>
                            <a:lnTo>
                              <a:pt x="0" y="107"/>
                            </a:lnTo>
                            <a:lnTo>
                              <a:pt x="0" y="103"/>
                            </a:lnTo>
                            <a:lnTo>
                              <a:pt x="0" y="99"/>
                            </a:lnTo>
                            <a:lnTo>
                              <a:pt x="0" y="95"/>
                            </a:lnTo>
                            <a:lnTo>
                              <a:pt x="0" y="92"/>
                            </a:lnTo>
                            <a:lnTo>
                              <a:pt x="0" y="88"/>
                            </a:lnTo>
                            <a:lnTo>
                              <a:pt x="0" y="84"/>
                            </a:lnTo>
                            <a:lnTo>
                              <a:pt x="0" y="80"/>
                            </a:lnTo>
                            <a:lnTo>
                              <a:pt x="0" y="76"/>
                            </a:lnTo>
                            <a:lnTo>
                              <a:pt x="0" y="73"/>
                            </a:lnTo>
                            <a:lnTo>
                              <a:pt x="0" y="69"/>
                            </a:lnTo>
                            <a:lnTo>
                              <a:pt x="0" y="66"/>
                            </a:lnTo>
                            <a:lnTo>
                              <a:pt x="0" y="62"/>
                            </a:lnTo>
                            <a:lnTo>
                              <a:pt x="0" y="59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lnTo>
                              <a:pt x="1" y="46"/>
                            </a:lnTo>
                            <a:lnTo>
                              <a:pt x="1" y="40"/>
                            </a:lnTo>
                            <a:lnTo>
                              <a:pt x="3" y="35"/>
                            </a:lnTo>
                            <a:lnTo>
                              <a:pt x="3" y="29"/>
                            </a:lnTo>
                            <a:lnTo>
                              <a:pt x="3" y="25"/>
                            </a:lnTo>
                            <a:lnTo>
                              <a:pt x="4" y="21"/>
                            </a:lnTo>
                            <a:lnTo>
                              <a:pt x="6" y="17"/>
                            </a:lnTo>
                            <a:lnTo>
                              <a:pt x="7" y="13"/>
                            </a:lnTo>
                            <a:lnTo>
                              <a:pt x="7" y="9"/>
                            </a:lnTo>
                            <a:lnTo>
                              <a:pt x="9" y="7"/>
                            </a:lnTo>
                            <a:lnTo>
                              <a:pt x="10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2" name="Freeform 152"/>
                      <p:cNvSpPr/>
                      <p:nvPr/>
                    </p:nvSpPr>
                    <p:spPr>
                      <a:xfrm>
                        <a:off x="2823120" y="2894040"/>
                        <a:ext cx="18720" cy="5868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211" h="582">
                            <a:moveTo>
                              <a:pt x="59" y="76"/>
                            </a:moveTo>
                            <a:lnTo>
                              <a:pt x="59" y="80"/>
                            </a:lnTo>
                            <a:lnTo>
                              <a:pt x="61" y="84"/>
                            </a:lnTo>
                            <a:lnTo>
                              <a:pt x="61" y="88"/>
                            </a:lnTo>
                            <a:lnTo>
                              <a:pt x="62" y="94"/>
                            </a:lnTo>
                            <a:lnTo>
                              <a:pt x="62" y="99"/>
                            </a:lnTo>
                            <a:lnTo>
                              <a:pt x="64" y="103"/>
                            </a:lnTo>
                            <a:lnTo>
                              <a:pt x="64" y="109"/>
                            </a:lnTo>
                            <a:lnTo>
                              <a:pt x="65" y="114"/>
                            </a:lnTo>
                            <a:lnTo>
                              <a:pt x="65" y="120"/>
                            </a:lnTo>
                            <a:lnTo>
                              <a:pt x="67" y="125"/>
                            </a:lnTo>
                            <a:lnTo>
                              <a:pt x="67" y="129"/>
                            </a:lnTo>
                            <a:lnTo>
                              <a:pt x="67" y="136"/>
                            </a:lnTo>
                            <a:lnTo>
                              <a:pt x="67" y="140"/>
                            </a:lnTo>
                            <a:lnTo>
                              <a:pt x="67" y="146"/>
                            </a:lnTo>
                            <a:lnTo>
                              <a:pt x="65" y="150"/>
                            </a:lnTo>
                            <a:lnTo>
                              <a:pt x="64" y="155"/>
                            </a:lnTo>
                            <a:lnTo>
                              <a:pt x="64" y="151"/>
                            </a:lnTo>
                            <a:lnTo>
                              <a:pt x="64" y="147"/>
                            </a:lnTo>
                            <a:lnTo>
                              <a:pt x="64" y="143"/>
                            </a:lnTo>
                            <a:lnTo>
                              <a:pt x="64" y="140"/>
                            </a:lnTo>
                            <a:lnTo>
                              <a:pt x="62" y="136"/>
                            </a:lnTo>
                            <a:lnTo>
                              <a:pt x="62" y="134"/>
                            </a:lnTo>
                            <a:lnTo>
                              <a:pt x="62" y="129"/>
                            </a:lnTo>
                            <a:lnTo>
                              <a:pt x="62" y="127"/>
                            </a:lnTo>
                            <a:lnTo>
                              <a:pt x="61" y="124"/>
                            </a:lnTo>
                            <a:lnTo>
                              <a:pt x="61" y="120"/>
                            </a:lnTo>
                            <a:lnTo>
                              <a:pt x="59" y="117"/>
                            </a:lnTo>
                            <a:lnTo>
                              <a:pt x="59" y="113"/>
                            </a:lnTo>
                            <a:lnTo>
                              <a:pt x="58" y="110"/>
                            </a:lnTo>
                            <a:lnTo>
                              <a:pt x="58" y="106"/>
                            </a:lnTo>
                            <a:lnTo>
                              <a:pt x="58" y="103"/>
                            </a:lnTo>
                            <a:lnTo>
                              <a:pt x="58" y="99"/>
                            </a:lnTo>
                            <a:lnTo>
                              <a:pt x="56" y="96"/>
                            </a:lnTo>
                            <a:lnTo>
                              <a:pt x="55" y="92"/>
                            </a:lnTo>
                            <a:lnTo>
                              <a:pt x="55" y="90"/>
                            </a:lnTo>
                            <a:lnTo>
                              <a:pt x="53" y="85"/>
                            </a:lnTo>
                            <a:lnTo>
                              <a:pt x="52" y="81"/>
                            </a:lnTo>
                            <a:lnTo>
                              <a:pt x="52" y="79"/>
                            </a:lnTo>
                            <a:lnTo>
                              <a:pt x="50" y="75"/>
                            </a:lnTo>
                            <a:lnTo>
                              <a:pt x="50" y="72"/>
                            </a:lnTo>
                            <a:lnTo>
                              <a:pt x="49" y="68"/>
                            </a:lnTo>
                            <a:lnTo>
                              <a:pt x="47" y="65"/>
                            </a:lnTo>
                            <a:lnTo>
                              <a:pt x="47" y="61"/>
                            </a:lnTo>
                            <a:lnTo>
                              <a:pt x="45" y="58"/>
                            </a:lnTo>
                            <a:lnTo>
                              <a:pt x="44" y="54"/>
                            </a:lnTo>
                            <a:lnTo>
                              <a:pt x="44" y="51"/>
                            </a:lnTo>
                            <a:lnTo>
                              <a:pt x="42" y="47"/>
                            </a:lnTo>
                            <a:lnTo>
                              <a:pt x="42" y="44"/>
                            </a:lnTo>
                            <a:lnTo>
                              <a:pt x="29" y="48"/>
                            </a:lnTo>
                            <a:lnTo>
                              <a:pt x="30" y="51"/>
                            </a:lnTo>
                            <a:lnTo>
                              <a:pt x="30" y="55"/>
                            </a:lnTo>
                            <a:lnTo>
                              <a:pt x="32" y="58"/>
                            </a:lnTo>
                            <a:lnTo>
                              <a:pt x="33" y="61"/>
                            </a:lnTo>
                            <a:lnTo>
                              <a:pt x="33" y="64"/>
                            </a:lnTo>
                            <a:lnTo>
                              <a:pt x="35" y="68"/>
                            </a:lnTo>
                            <a:lnTo>
                              <a:pt x="35" y="70"/>
                            </a:lnTo>
                            <a:lnTo>
                              <a:pt x="36" y="75"/>
                            </a:lnTo>
                            <a:lnTo>
                              <a:pt x="38" y="80"/>
                            </a:lnTo>
                            <a:lnTo>
                              <a:pt x="38" y="85"/>
                            </a:lnTo>
                            <a:lnTo>
                              <a:pt x="39" y="88"/>
                            </a:lnTo>
                            <a:lnTo>
                              <a:pt x="39" y="91"/>
                            </a:lnTo>
                            <a:lnTo>
                              <a:pt x="41" y="95"/>
                            </a:lnTo>
                            <a:lnTo>
                              <a:pt x="41" y="98"/>
                            </a:lnTo>
                            <a:lnTo>
                              <a:pt x="41" y="103"/>
                            </a:lnTo>
                            <a:lnTo>
                              <a:pt x="42" y="110"/>
                            </a:lnTo>
                            <a:lnTo>
                              <a:pt x="42" y="113"/>
                            </a:lnTo>
                            <a:lnTo>
                              <a:pt x="42" y="117"/>
                            </a:lnTo>
                            <a:lnTo>
                              <a:pt x="42" y="120"/>
                            </a:lnTo>
                            <a:lnTo>
                              <a:pt x="42" y="124"/>
                            </a:lnTo>
                            <a:lnTo>
                              <a:pt x="42" y="127"/>
                            </a:lnTo>
                            <a:lnTo>
                              <a:pt x="42" y="129"/>
                            </a:lnTo>
                            <a:lnTo>
                              <a:pt x="42" y="134"/>
                            </a:lnTo>
                            <a:lnTo>
                              <a:pt x="42" y="138"/>
                            </a:lnTo>
                            <a:lnTo>
                              <a:pt x="42" y="140"/>
                            </a:lnTo>
                            <a:lnTo>
                              <a:pt x="42" y="145"/>
                            </a:lnTo>
                            <a:lnTo>
                              <a:pt x="42" y="149"/>
                            </a:lnTo>
                            <a:lnTo>
                              <a:pt x="42" y="153"/>
                            </a:lnTo>
                            <a:lnTo>
                              <a:pt x="38" y="149"/>
                            </a:lnTo>
                            <a:lnTo>
                              <a:pt x="36" y="145"/>
                            </a:lnTo>
                            <a:lnTo>
                              <a:pt x="36" y="142"/>
                            </a:lnTo>
                            <a:lnTo>
                              <a:pt x="36" y="139"/>
                            </a:lnTo>
                            <a:lnTo>
                              <a:pt x="36" y="136"/>
                            </a:lnTo>
                            <a:lnTo>
                              <a:pt x="36" y="131"/>
                            </a:lnTo>
                            <a:lnTo>
                              <a:pt x="36" y="125"/>
                            </a:lnTo>
                            <a:lnTo>
                              <a:pt x="35" y="121"/>
                            </a:lnTo>
                            <a:lnTo>
                              <a:pt x="33" y="117"/>
                            </a:lnTo>
                            <a:lnTo>
                              <a:pt x="33" y="113"/>
                            </a:lnTo>
                            <a:lnTo>
                              <a:pt x="33" y="110"/>
                            </a:lnTo>
                            <a:lnTo>
                              <a:pt x="32" y="106"/>
                            </a:lnTo>
                            <a:lnTo>
                              <a:pt x="30" y="102"/>
                            </a:lnTo>
                            <a:lnTo>
                              <a:pt x="29" y="99"/>
                            </a:lnTo>
                            <a:lnTo>
                              <a:pt x="29" y="96"/>
                            </a:lnTo>
                            <a:lnTo>
                              <a:pt x="26" y="92"/>
                            </a:lnTo>
                            <a:lnTo>
                              <a:pt x="24" y="88"/>
                            </a:lnTo>
                            <a:lnTo>
                              <a:pt x="21" y="83"/>
                            </a:lnTo>
                            <a:lnTo>
                              <a:pt x="19" y="79"/>
                            </a:lnTo>
                            <a:lnTo>
                              <a:pt x="16" y="75"/>
                            </a:lnTo>
                            <a:lnTo>
                              <a:pt x="15" y="69"/>
                            </a:lnTo>
                            <a:lnTo>
                              <a:pt x="13" y="66"/>
                            </a:lnTo>
                            <a:lnTo>
                              <a:pt x="13" y="64"/>
                            </a:lnTo>
                            <a:lnTo>
                              <a:pt x="12" y="61"/>
                            </a:lnTo>
                            <a:lnTo>
                              <a:pt x="12" y="58"/>
                            </a:lnTo>
                            <a:lnTo>
                              <a:pt x="12" y="55"/>
                            </a:lnTo>
                            <a:lnTo>
                              <a:pt x="12" y="51"/>
                            </a:lnTo>
                            <a:lnTo>
                              <a:pt x="12" y="47"/>
                            </a:lnTo>
                            <a:lnTo>
                              <a:pt x="12" y="44"/>
                            </a:lnTo>
                            <a:lnTo>
                              <a:pt x="9" y="44"/>
                            </a:lnTo>
                            <a:lnTo>
                              <a:pt x="4" y="46"/>
                            </a:lnTo>
                            <a:lnTo>
                              <a:pt x="0" y="46"/>
                            </a:lnTo>
                            <a:lnTo>
                              <a:pt x="0" y="47"/>
                            </a:lnTo>
                            <a:lnTo>
                              <a:pt x="0" y="50"/>
                            </a:lnTo>
                            <a:lnTo>
                              <a:pt x="0" y="53"/>
                            </a:lnTo>
                            <a:lnTo>
                              <a:pt x="0" y="57"/>
                            </a:lnTo>
                            <a:lnTo>
                              <a:pt x="0" y="61"/>
                            </a:lnTo>
                            <a:lnTo>
                              <a:pt x="0" y="65"/>
                            </a:lnTo>
                            <a:lnTo>
                              <a:pt x="0" y="69"/>
                            </a:lnTo>
                            <a:lnTo>
                              <a:pt x="0" y="73"/>
                            </a:lnTo>
                            <a:lnTo>
                              <a:pt x="1" y="77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3" y="91"/>
                            </a:lnTo>
                            <a:lnTo>
                              <a:pt x="3" y="96"/>
                            </a:lnTo>
                            <a:lnTo>
                              <a:pt x="3" y="101"/>
                            </a:lnTo>
                            <a:lnTo>
                              <a:pt x="3" y="105"/>
                            </a:lnTo>
                            <a:lnTo>
                              <a:pt x="4" y="110"/>
                            </a:lnTo>
                            <a:lnTo>
                              <a:pt x="6" y="114"/>
                            </a:lnTo>
                            <a:lnTo>
                              <a:pt x="6" y="118"/>
                            </a:lnTo>
                            <a:lnTo>
                              <a:pt x="6" y="123"/>
                            </a:lnTo>
                            <a:lnTo>
                              <a:pt x="6" y="127"/>
                            </a:lnTo>
                            <a:lnTo>
                              <a:pt x="7" y="131"/>
                            </a:lnTo>
                            <a:lnTo>
                              <a:pt x="7" y="135"/>
                            </a:lnTo>
                            <a:lnTo>
                              <a:pt x="7" y="139"/>
                            </a:lnTo>
                            <a:lnTo>
                              <a:pt x="9" y="142"/>
                            </a:lnTo>
                            <a:lnTo>
                              <a:pt x="9" y="146"/>
                            </a:lnTo>
                            <a:lnTo>
                              <a:pt x="10" y="151"/>
                            </a:lnTo>
                            <a:lnTo>
                              <a:pt x="10" y="155"/>
                            </a:lnTo>
                            <a:lnTo>
                              <a:pt x="10" y="158"/>
                            </a:lnTo>
                            <a:lnTo>
                              <a:pt x="12" y="160"/>
                            </a:lnTo>
                            <a:lnTo>
                              <a:pt x="12" y="164"/>
                            </a:lnTo>
                            <a:lnTo>
                              <a:pt x="12" y="168"/>
                            </a:lnTo>
                            <a:lnTo>
                              <a:pt x="12" y="171"/>
                            </a:lnTo>
                            <a:lnTo>
                              <a:pt x="13" y="176"/>
                            </a:lnTo>
                            <a:lnTo>
                              <a:pt x="13" y="180"/>
                            </a:lnTo>
                            <a:lnTo>
                              <a:pt x="13" y="183"/>
                            </a:lnTo>
                            <a:lnTo>
                              <a:pt x="13" y="187"/>
                            </a:lnTo>
                            <a:lnTo>
                              <a:pt x="15" y="191"/>
                            </a:lnTo>
                            <a:lnTo>
                              <a:pt x="15" y="197"/>
                            </a:lnTo>
                            <a:lnTo>
                              <a:pt x="15" y="199"/>
                            </a:lnTo>
                            <a:lnTo>
                              <a:pt x="13" y="198"/>
                            </a:lnTo>
                            <a:lnTo>
                              <a:pt x="13" y="197"/>
                            </a:lnTo>
                            <a:lnTo>
                              <a:pt x="12" y="194"/>
                            </a:lnTo>
                            <a:lnTo>
                              <a:pt x="12" y="582"/>
                            </a:lnTo>
                            <a:lnTo>
                              <a:pt x="211" y="582"/>
                            </a:lnTo>
                            <a:lnTo>
                              <a:pt x="206" y="114"/>
                            </a:lnTo>
                            <a:lnTo>
                              <a:pt x="205" y="110"/>
                            </a:lnTo>
                            <a:lnTo>
                              <a:pt x="205" y="107"/>
                            </a:lnTo>
                            <a:lnTo>
                              <a:pt x="205" y="103"/>
                            </a:lnTo>
                            <a:lnTo>
                              <a:pt x="205" y="99"/>
                            </a:lnTo>
                            <a:lnTo>
                              <a:pt x="205" y="96"/>
                            </a:lnTo>
                            <a:lnTo>
                              <a:pt x="205" y="92"/>
                            </a:lnTo>
                            <a:lnTo>
                              <a:pt x="205" y="90"/>
                            </a:lnTo>
                            <a:lnTo>
                              <a:pt x="205" y="85"/>
                            </a:lnTo>
                            <a:lnTo>
                              <a:pt x="205" y="81"/>
                            </a:lnTo>
                            <a:lnTo>
                              <a:pt x="205" y="79"/>
                            </a:lnTo>
                            <a:lnTo>
                              <a:pt x="205" y="75"/>
                            </a:lnTo>
                            <a:lnTo>
                              <a:pt x="205" y="72"/>
                            </a:lnTo>
                            <a:lnTo>
                              <a:pt x="205" y="68"/>
                            </a:lnTo>
                            <a:lnTo>
                              <a:pt x="205" y="65"/>
                            </a:lnTo>
                            <a:lnTo>
                              <a:pt x="205" y="61"/>
                            </a:lnTo>
                            <a:lnTo>
                              <a:pt x="205" y="58"/>
                            </a:lnTo>
                            <a:lnTo>
                              <a:pt x="205" y="54"/>
                            </a:lnTo>
                            <a:lnTo>
                              <a:pt x="205" y="50"/>
                            </a:lnTo>
                            <a:lnTo>
                              <a:pt x="205" y="47"/>
                            </a:lnTo>
                            <a:lnTo>
                              <a:pt x="205" y="43"/>
                            </a:lnTo>
                            <a:lnTo>
                              <a:pt x="205" y="39"/>
                            </a:lnTo>
                            <a:lnTo>
                              <a:pt x="205" y="36"/>
                            </a:lnTo>
                            <a:lnTo>
                              <a:pt x="205" y="32"/>
                            </a:lnTo>
                            <a:lnTo>
                              <a:pt x="205" y="29"/>
                            </a:lnTo>
                            <a:lnTo>
                              <a:pt x="205" y="25"/>
                            </a:lnTo>
                            <a:lnTo>
                              <a:pt x="205" y="21"/>
                            </a:lnTo>
                            <a:lnTo>
                              <a:pt x="205" y="18"/>
                            </a:lnTo>
                            <a:lnTo>
                              <a:pt x="205" y="15"/>
                            </a:lnTo>
                            <a:lnTo>
                              <a:pt x="203" y="11"/>
                            </a:lnTo>
                            <a:lnTo>
                              <a:pt x="203" y="7"/>
                            </a:lnTo>
                            <a:lnTo>
                              <a:pt x="203" y="4"/>
                            </a:lnTo>
                            <a:lnTo>
                              <a:pt x="203" y="0"/>
                            </a:lnTo>
                            <a:lnTo>
                              <a:pt x="203" y="3"/>
                            </a:lnTo>
                            <a:lnTo>
                              <a:pt x="203" y="7"/>
                            </a:lnTo>
                            <a:lnTo>
                              <a:pt x="203" y="10"/>
                            </a:lnTo>
                            <a:lnTo>
                              <a:pt x="203" y="13"/>
                            </a:lnTo>
                            <a:lnTo>
                              <a:pt x="203" y="17"/>
                            </a:lnTo>
                            <a:lnTo>
                              <a:pt x="203" y="20"/>
                            </a:lnTo>
                            <a:lnTo>
                              <a:pt x="203" y="24"/>
                            </a:lnTo>
                            <a:lnTo>
                              <a:pt x="203" y="26"/>
                            </a:lnTo>
                            <a:lnTo>
                              <a:pt x="201" y="29"/>
                            </a:lnTo>
                            <a:lnTo>
                              <a:pt x="201" y="33"/>
                            </a:lnTo>
                            <a:lnTo>
                              <a:pt x="201" y="36"/>
                            </a:lnTo>
                            <a:lnTo>
                              <a:pt x="201" y="40"/>
                            </a:lnTo>
                            <a:lnTo>
                              <a:pt x="201" y="43"/>
                            </a:lnTo>
                            <a:lnTo>
                              <a:pt x="201" y="47"/>
                            </a:lnTo>
                            <a:lnTo>
                              <a:pt x="201" y="50"/>
                            </a:lnTo>
                            <a:lnTo>
                              <a:pt x="201" y="53"/>
                            </a:lnTo>
                            <a:lnTo>
                              <a:pt x="201" y="57"/>
                            </a:lnTo>
                            <a:lnTo>
                              <a:pt x="201" y="59"/>
                            </a:lnTo>
                            <a:lnTo>
                              <a:pt x="201" y="64"/>
                            </a:lnTo>
                            <a:lnTo>
                              <a:pt x="201" y="66"/>
                            </a:lnTo>
                            <a:lnTo>
                              <a:pt x="201" y="70"/>
                            </a:lnTo>
                            <a:lnTo>
                              <a:pt x="201" y="73"/>
                            </a:lnTo>
                            <a:lnTo>
                              <a:pt x="201" y="77"/>
                            </a:lnTo>
                            <a:lnTo>
                              <a:pt x="201" y="80"/>
                            </a:lnTo>
                            <a:lnTo>
                              <a:pt x="201" y="84"/>
                            </a:lnTo>
                            <a:lnTo>
                              <a:pt x="201" y="87"/>
                            </a:lnTo>
                            <a:lnTo>
                              <a:pt x="201" y="90"/>
                            </a:lnTo>
                            <a:lnTo>
                              <a:pt x="201" y="94"/>
                            </a:lnTo>
                            <a:lnTo>
                              <a:pt x="201" y="96"/>
                            </a:lnTo>
                            <a:lnTo>
                              <a:pt x="201" y="101"/>
                            </a:lnTo>
                            <a:lnTo>
                              <a:pt x="201" y="103"/>
                            </a:lnTo>
                            <a:lnTo>
                              <a:pt x="201" y="107"/>
                            </a:lnTo>
                            <a:lnTo>
                              <a:pt x="200" y="103"/>
                            </a:lnTo>
                            <a:lnTo>
                              <a:pt x="198" y="99"/>
                            </a:lnTo>
                            <a:lnTo>
                              <a:pt x="198" y="94"/>
                            </a:lnTo>
                            <a:lnTo>
                              <a:pt x="197" y="90"/>
                            </a:lnTo>
                            <a:lnTo>
                              <a:pt x="195" y="84"/>
                            </a:lnTo>
                            <a:lnTo>
                              <a:pt x="195" y="80"/>
                            </a:lnTo>
                            <a:lnTo>
                              <a:pt x="194" y="76"/>
                            </a:lnTo>
                            <a:lnTo>
                              <a:pt x="194" y="72"/>
                            </a:lnTo>
                            <a:lnTo>
                              <a:pt x="191" y="73"/>
                            </a:lnTo>
                            <a:lnTo>
                              <a:pt x="191" y="79"/>
                            </a:lnTo>
                            <a:lnTo>
                              <a:pt x="191" y="80"/>
                            </a:lnTo>
                            <a:lnTo>
                              <a:pt x="191" y="84"/>
                            </a:lnTo>
                            <a:lnTo>
                              <a:pt x="191" y="88"/>
                            </a:lnTo>
                            <a:lnTo>
                              <a:pt x="191" y="92"/>
                            </a:lnTo>
                            <a:lnTo>
                              <a:pt x="191" y="96"/>
                            </a:lnTo>
                            <a:lnTo>
                              <a:pt x="191" y="101"/>
                            </a:lnTo>
                            <a:lnTo>
                              <a:pt x="191" y="105"/>
                            </a:lnTo>
                            <a:lnTo>
                              <a:pt x="191" y="110"/>
                            </a:lnTo>
                            <a:lnTo>
                              <a:pt x="191" y="114"/>
                            </a:lnTo>
                            <a:lnTo>
                              <a:pt x="191" y="120"/>
                            </a:lnTo>
                            <a:lnTo>
                              <a:pt x="191" y="125"/>
                            </a:lnTo>
                            <a:lnTo>
                              <a:pt x="192" y="131"/>
                            </a:lnTo>
                            <a:lnTo>
                              <a:pt x="192" y="135"/>
                            </a:lnTo>
                            <a:lnTo>
                              <a:pt x="192" y="139"/>
                            </a:lnTo>
                            <a:lnTo>
                              <a:pt x="192" y="145"/>
                            </a:lnTo>
                            <a:lnTo>
                              <a:pt x="192" y="149"/>
                            </a:lnTo>
                            <a:lnTo>
                              <a:pt x="192" y="153"/>
                            </a:lnTo>
                            <a:lnTo>
                              <a:pt x="192" y="157"/>
                            </a:lnTo>
                            <a:lnTo>
                              <a:pt x="192" y="161"/>
                            </a:lnTo>
                            <a:lnTo>
                              <a:pt x="194" y="164"/>
                            </a:lnTo>
                            <a:lnTo>
                              <a:pt x="192" y="168"/>
                            </a:lnTo>
                            <a:lnTo>
                              <a:pt x="192" y="172"/>
                            </a:lnTo>
                            <a:lnTo>
                              <a:pt x="191" y="173"/>
                            </a:lnTo>
                            <a:lnTo>
                              <a:pt x="191" y="171"/>
                            </a:lnTo>
                            <a:lnTo>
                              <a:pt x="191" y="165"/>
                            </a:lnTo>
                            <a:lnTo>
                              <a:pt x="189" y="160"/>
                            </a:lnTo>
                            <a:lnTo>
                              <a:pt x="189" y="154"/>
                            </a:lnTo>
                            <a:lnTo>
                              <a:pt x="189" y="149"/>
                            </a:lnTo>
                            <a:lnTo>
                              <a:pt x="189" y="143"/>
                            </a:lnTo>
                            <a:lnTo>
                              <a:pt x="188" y="139"/>
                            </a:lnTo>
                            <a:lnTo>
                              <a:pt x="188" y="134"/>
                            </a:lnTo>
                            <a:lnTo>
                              <a:pt x="188" y="129"/>
                            </a:lnTo>
                            <a:lnTo>
                              <a:pt x="188" y="124"/>
                            </a:lnTo>
                            <a:lnTo>
                              <a:pt x="188" y="121"/>
                            </a:lnTo>
                            <a:lnTo>
                              <a:pt x="188" y="116"/>
                            </a:lnTo>
                            <a:lnTo>
                              <a:pt x="188" y="112"/>
                            </a:lnTo>
                            <a:lnTo>
                              <a:pt x="186" y="107"/>
                            </a:lnTo>
                            <a:lnTo>
                              <a:pt x="186" y="103"/>
                            </a:lnTo>
                            <a:lnTo>
                              <a:pt x="186" y="99"/>
                            </a:lnTo>
                            <a:lnTo>
                              <a:pt x="186" y="95"/>
                            </a:lnTo>
                            <a:lnTo>
                              <a:pt x="185" y="90"/>
                            </a:lnTo>
                            <a:lnTo>
                              <a:pt x="185" y="87"/>
                            </a:lnTo>
                            <a:lnTo>
                              <a:pt x="185" y="81"/>
                            </a:lnTo>
                            <a:lnTo>
                              <a:pt x="185" y="77"/>
                            </a:lnTo>
                            <a:lnTo>
                              <a:pt x="183" y="73"/>
                            </a:lnTo>
                            <a:lnTo>
                              <a:pt x="183" y="68"/>
                            </a:lnTo>
                            <a:lnTo>
                              <a:pt x="183" y="64"/>
                            </a:lnTo>
                            <a:lnTo>
                              <a:pt x="183" y="59"/>
                            </a:lnTo>
                            <a:lnTo>
                              <a:pt x="182" y="55"/>
                            </a:lnTo>
                            <a:lnTo>
                              <a:pt x="182" y="50"/>
                            </a:lnTo>
                            <a:lnTo>
                              <a:pt x="182" y="44"/>
                            </a:lnTo>
                            <a:lnTo>
                              <a:pt x="182" y="40"/>
                            </a:lnTo>
                            <a:lnTo>
                              <a:pt x="182" y="35"/>
                            </a:lnTo>
                            <a:lnTo>
                              <a:pt x="182" y="31"/>
                            </a:lnTo>
                            <a:lnTo>
                              <a:pt x="182" y="24"/>
                            </a:lnTo>
                            <a:lnTo>
                              <a:pt x="182" y="20"/>
                            </a:lnTo>
                            <a:lnTo>
                              <a:pt x="179" y="20"/>
                            </a:lnTo>
                            <a:lnTo>
                              <a:pt x="177" y="24"/>
                            </a:lnTo>
                            <a:lnTo>
                              <a:pt x="175" y="26"/>
                            </a:lnTo>
                            <a:lnTo>
                              <a:pt x="174" y="31"/>
                            </a:lnTo>
                            <a:lnTo>
                              <a:pt x="174" y="33"/>
                            </a:lnTo>
                            <a:lnTo>
                              <a:pt x="172" y="37"/>
                            </a:lnTo>
                            <a:lnTo>
                              <a:pt x="172" y="40"/>
                            </a:lnTo>
                            <a:lnTo>
                              <a:pt x="172" y="44"/>
                            </a:lnTo>
                            <a:lnTo>
                              <a:pt x="171" y="47"/>
                            </a:lnTo>
                            <a:lnTo>
                              <a:pt x="171" y="53"/>
                            </a:lnTo>
                            <a:lnTo>
                              <a:pt x="169" y="57"/>
                            </a:lnTo>
                            <a:lnTo>
                              <a:pt x="169" y="64"/>
                            </a:lnTo>
                            <a:lnTo>
                              <a:pt x="169" y="65"/>
                            </a:lnTo>
                            <a:lnTo>
                              <a:pt x="169" y="68"/>
                            </a:lnTo>
                            <a:lnTo>
                              <a:pt x="169" y="72"/>
                            </a:lnTo>
                            <a:lnTo>
                              <a:pt x="169" y="75"/>
                            </a:lnTo>
                            <a:lnTo>
                              <a:pt x="169" y="77"/>
                            </a:lnTo>
                            <a:lnTo>
                              <a:pt x="169" y="81"/>
                            </a:lnTo>
                            <a:lnTo>
                              <a:pt x="169" y="85"/>
                            </a:lnTo>
                            <a:lnTo>
                              <a:pt x="169" y="90"/>
                            </a:lnTo>
                            <a:lnTo>
                              <a:pt x="169" y="92"/>
                            </a:lnTo>
                            <a:lnTo>
                              <a:pt x="169" y="96"/>
                            </a:lnTo>
                            <a:lnTo>
                              <a:pt x="169" y="101"/>
                            </a:lnTo>
                            <a:lnTo>
                              <a:pt x="169" y="105"/>
                            </a:lnTo>
                            <a:lnTo>
                              <a:pt x="169" y="109"/>
                            </a:lnTo>
                            <a:lnTo>
                              <a:pt x="169" y="113"/>
                            </a:lnTo>
                            <a:lnTo>
                              <a:pt x="169" y="118"/>
                            </a:lnTo>
                            <a:lnTo>
                              <a:pt x="169" y="124"/>
                            </a:lnTo>
                            <a:lnTo>
                              <a:pt x="169" y="128"/>
                            </a:lnTo>
                            <a:lnTo>
                              <a:pt x="169" y="134"/>
                            </a:lnTo>
                            <a:lnTo>
                              <a:pt x="171" y="138"/>
                            </a:lnTo>
                            <a:lnTo>
                              <a:pt x="171" y="143"/>
                            </a:lnTo>
                            <a:lnTo>
                              <a:pt x="171" y="149"/>
                            </a:lnTo>
                            <a:lnTo>
                              <a:pt x="171" y="154"/>
                            </a:lnTo>
                            <a:lnTo>
                              <a:pt x="172" y="160"/>
                            </a:lnTo>
                            <a:lnTo>
                              <a:pt x="174" y="166"/>
                            </a:lnTo>
                            <a:lnTo>
                              <a:pt x="174" y="169"/>
                            </a:lnTo>
                            <a:lnTo>
                              <a:pt x="174" y="172"/>
                            </a:lnTo>
                            <a:lnTo>
                              <a:pt x="174" y="176"/>
                            </a:lnTo>
                            <a:lnTo>
                              <a:pt x="174" y="182"/>
                            </a:lnTo>
                            <a:lnTo>
                              <a:pt x="174" y="186"/>
                            </a:lnTo>
                            <a:lnTo>
                              <a:pt x="174" y="191"/>
                            </a:lnTo>
                            <a:lnTo>
                              <a:pt x="174" y="197"/>
                            </a:lnTo>
                            <a:lnTo>
                              <a:pt x="174" y="204"/>
                            </a:lnTo>
                            <a:lnTo>
                              <a:pt x="172" y="209"/>
                            </a:lnTo>
                            <a:lnTo>
                              <a:pt x="172" y="215"/>
                            </a:lnTo>
                            <a:lnTo>
                              <a:pt x="172" y="220"/>
                            </a:lnTo>
                            <a:lnTo>
                              <a:pt x="172" y="224"/>
                            </a:lnTo>
                            <a:lnTo>
                              <a:pt x="171" y="228"/>
                            </a:lnTo>
                            <a:lnTo>
                              <a:pt x="171" y="232"/>
                            </a:lnTo>
                            <a:lnTo>
                              <a:pt x="169" y="235"/>
                            </a:lnTo>
                            <a:lnTo>
                              <a:pt x="168" y="238"/>
                            </a:lnTo>
                            <a:lnTo>
                              <a:pt x="166" y="231"/>
                            </a:lnTo>
                            <a:lnTo>
                              <a:pt x="166" y="225"/>
                            </a:lnTo>
                            <a:lnTo>
                              <a:pt x="165" y="220"/>
                            </a:lnTo>
                            <a:lnTo>
                              <a:pt x="165" y="215"/>
                            </a:lnTo>
                            <a:lnTo>
                              <a:pt x="163" y="209"/>
                            </a:lnTo>
                            <a:lnTo>
                              <a:pt x="163" y="204"/>
                            </a:lnTo>
                            <a:lnTo>
                              <a:pt x="163" y="198"/>
                            </a:lnTo>
                            <a:lnTo>
                              <a:pt x="163" y="193"/>
                            </a:lnTo>
                            <a:lnTo>
                              <a:pt x="163" y="186"/>
                            </a:lnTo>
                            <a:lnTo>
                              <a:pt x="163" y="182"/>
                            </a:lnTo>
                            <a:lnTo>
                              <a:pt x="163" y="175"/>
                            </a:lnTo>
                            <a:lnTo>
                              <a:pt x="163" y="171"/>
                            </a:lnTo>
                            <a:lnTo>
                              <a:pt x="163" y="165"/>
                            </a:lnTo>
                            <a:lnTo>
                              <a:pt x="163" y="158"/>
                            </a:lnTo>
                            <a:lnTo>
                              <a:pt x="163" y="153"/>
                            </a:lnTo>
                            <a:lnTo>
                              <a:pt x="163" y="149"/>
                            </a:lnTo>
                            <a:lnTo>
                              <a:pt x="162" y="142"/>
                            </a:lnTo>
                            <a:lnTo>
                              <a:pt x="162" y="136"/>
                            </a:lnTo>
                            <a:lnTo>
                              <a:pt x="162" y="131"/>
                            </a:lnTo>
                            <a:lnTo>
                              <a:pt x="162" y="125"/>
                            </a:lnTo>
                            <a:lnTo>
                              <a:pt x="162" y="118"/>
                            </a:lnTo>
                            <a:lnTo>
                              <a:pt x="162" y="114"/>
                            </a:lnTo>
                            <a:lnTo>
                              <a:pt x="162" y="107"/>
                            </a:lnTo>
                            <a:lnTo>
                              <a:pt x="162" y="102"/>
                            </a:lnTo>
                            <a:lnTo>
                              <a:pt x="162" y="96"/>
                            </a:lnTo>
                            <a:lnTo>
                              <a:pt x="160" y="91"/>
                            </a:lnTo>
                            <a:lnTo>
                              <a:pt x="160" y="85"/>
                            </a:lnTo>
                            <a:lnTo>
                              <a:pt x="160" y="80"/>
                            </a:lnTo>
                            <a:lnTo>
                              <a:pt x="160" y="75"/>
                            </a:lnTo>
                            <a:lnTo>
                              <a:pt x="159" y="69"/>
                            </a:lnTo>
                            <a:lnTo>
                              <a:pt x="159" y="62"/>
                            </a:lnTo>
                            <a:lnTo>
                              <a:pt x="157" y="58"/>
                            </a:lnTo>
                            <a:lnTo>
                              <a:pt x="157" y="55"/>
                            </a:lnTo>
                            <a:lnTo>
                              <a:pt x="157" y="53"/>
                            </a:lnTo>
                            <a:lnTo>
                              <a:pt x="156" y="48"/>
                            </a:lnTo>
                            <a:lnTo>
                              <a:pt x="156" y="47"/>
                            </a:lnTo>
                            <a:lnTo>
                              <a:pt x="154" y="50"/>
                            </a:lnTo>
                            <a:lnTo>
                              <a:pt x="154" y="53"/>
                            </a:lnTo>
                            <a:lnTo>
                              <a:pt x="153" y="57"/>
                            </a:lnTo>
                            <a:lnTo>
                              <a:pt x="153" y="59"/>
                            </a:lnTo>
                            <a:lnTo>
                              <a:pt x="153" y="64"/>
                            </a:lnTo>
                            <a:lnTo>
                              <a:pt x="151" y="66"/>
                            </a:lnTo>
                            <a:lnTo>
                              <a:pt x="151" y="70"/>
                            </a:lnTo>
                            <a:lnTo>
                              <a:pt x="151" y="75"/>
                            </a:lnTo>
                            <a:lnTo>
                              <a:pt x="156" y="138"/>
                            </a:lnTo>
                            <a:lnTo>
                              <a:pt x="154" y="142"/>
                            </a:lnTo>
                            <a:lnTo>
                              <a:pt x="154" y="146"/>
                            </a:lnTo>
                            <a:lnTo>
                              <a:pt x="154" y="151"/>
                            </a:lnTo>
                            <a:lnTo>
                              <a:pt x="154" y="155"/>
                            </a:lnTo>
                            <a:lnTo>
                              <a:pt x="154" y="161"/>
                            </a:lnTo>
                            <a:lnTo>
                              <a:pt x="154" y="166"/>
                            </a:lnTo>
                            <a:lnTo>
                              <a:pt x="153" y="171"/>
                            </a:lnTo>
                            <a:lnTo>
                              <a:pt x="153" y="176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1" y="191"/>
                            </a:lnTo>
                            <a:lnTo>
                              <a:pt x="151" y="195"/>
                            </a:lnTo>
                            <a:lnTo>
                              <a:pt x="151" y="201"/>
                            </a:lnTo>
                            <a:lnTo>
                              <a:pt x="151" y="206"/>
                            </a:lnTo>
                            <a:lnTo>
                              <a:pt x="153" y="210"/>
                            </a:lnTo>
                            <a:lnTo>
                              <a:pt x="153" y="217"/>
                            </a:lnTo>
                            <a:lnTo>
                              <a:pt x="153" y="544"/>
                            </a:lnTo>
                            <a:lnTo>
                              <a:pt x="75" y="545"/>
                            </a:lnTo>
                            <a:lnTo>
                              <a:pt x="71" y="99"/>
                            </a:lnTo>
                            <a:lnTo>
                              <a:pt x="71" y="95"/>
                            </a:lnTo>
                            <a:lnTo>
                              <a:pt x="71" y="92"/>
                            </a:lnTo>
                            <a:lnTo>
                              <a:pt x="71" y="88"/>
                            </a:lnTo>
                            <a:lnTo>
                              <a:pt x="71" y="85"/>
                            </a:lnTo>
                            <a:lnTo>
                              <a:pt x="70" y="81"/>
                            </a:lnTo>
                            <a:lnTo>
                              <a:pt x="68" y="79"/>
                            </a:lnTo>
                            <a:lnTo>
                              <a:pt x="68" y="75"/>
                            </a:lnTo>
                            <a:lnTo>
                              <a:pt x="68" y="72"/>
                            </a:lnTo>
                            <a:lnTo>
                              <a:pt x="67" y="68"/>
                            </a:lnTo>
                            <a:lnTo>
                              <a:pt x="65" y="65"/>
                            </a:lnTo>
                            <a:lnTo>
                              <a:pt x="64" y="62"/>
                            </a:lnTo>
                            <a:lnTo>
                              <a:pt x="64" y="58"/>
                            </a:lnTo>
                            <a:lnTo>
                              <a:pt x="62" y="53"/>
                            </a:lnTo>
                            <a:lnTo>
                              <a:pt x="62" y="47"/>
                            </a:lnTo>
                            <a:lnTo>
                              <a:pt x="58" y="53"/>
                            </a:lnTo>
                            <a:lnTo>
                              <a:pt x="59" y="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3" name="Freeform 153"/>
                      <p:cNvSpPr/>
                      <p:nvPr/>
                    </p:nvSpPr>
                    <p:spPr>
                      <a:xfrm>
                        <a:off x="2865240" y="2930400"/>
                        <a:ext cx="1080" cy="15840"/>
                      </a:xfrm>
                      <a:custGeom>
                        <a:avLst/>
                        <a:gdLst>
                          <a:gd name="textAreaLeft" fmla="*/ 0 w 1080"/>
                          <a:gd name="textAreaRight" fmla="*/ 1440 w 108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4" h="161">
                            <a:moveTo>
                              <a:pt x="14" y="0"/>
                            </a:moveTo>
                            <a:lnTo>
                              <a:pt x="14" y="3"/>
                            </a:lnTo>
                            <a:lnTo>
                              <a:pt x="12" y="7"/>
                            </a:lnTo>
                            <a:lnTo>
                              <a:pt x="12" y="11"/>
                            </a:lnTo>
                            <a:lnTo>
                              <a:pt x="12" y="16"/>
                            </a:lnTo>
                            <a:lnTo>
                              <a:pt x="11" y="20"/>
                            </a:lnTo>
                            <a:lnTo>
                              <a:pt x="11" y="24"/>
                            </a:lnTo>
                            <a:lnTo>
                              <a:pt x="11" y="28"/>
                            </a:lnTo>
                            <a:lnTo>
                              <a:pt x="11" y="32"/>
                            </a:lnTo>
                            <a:lnTo>
                              <a:pt x="11" y="36"/>
                            </a:lnTo>
                            <a:lnTo>
                              <a:pt x="11" y="40"/>
                            </a:lnTo>
                            <a:lnTo>
                              <a:pt x="11" y="44"/>
                            </a:lnTo>
                            <a:lnTo>
                              <a:pt x="11" y="48"/>
                            </a:lnTo>
                            <a:lnTo>
                              <a:pt x="11" y="53"/>
                            </a:lnTo>
                            <a:lnTo>
                              <a:pt x="11" y="58"/>
                            </a:lnTo>
                            <a:lnTo>
                              <a:pt x="11" y="61"/>
                            </a:lnTo>
                            <a:lnTo>
                              <a:pt x="11" y="66"/>
                            </a:lnTo>
                            <a:lnTo>
                              <a:pt x="11" y="72"/>
                            </a:lnTo>
                            <a:lnTo>
                              <a:pt x="11" y="77"/>
                            </a:lnTo>
                            <a:lnTo>
                              <a:pt x="11" y="83"/>
                            </a:lnTo>
                            <a:lnTo>
                              <a:pt x="11" y="90"/>
                            </a:lnTo>
                            <a:lnTo>
                              <a:pt x="11" y="95"/>
                            </a:lnTo>
                            <a:lnTo>
                              <a:pt x="9" y="101"/>
                            </a:lnTo>
                            <a:lnTo>
                              <a:pt x="9" y="105"/>
                            </a:lnTo>
                            <a:lnTo>
                              <a:pt x="9" y="107"/>
                            </a:lnTo>
                            <a:lnTo>
                              <a:pt x="9" y="110"/>
                            </a:lnTo>
                            <a:lnTo>
                              <a:pt x="9" y="113"/>
                            </a:lnTo>
                            <a:lnTo>
                              <a:pt x="8" y="120"/>
                            </a:lnTo>
                            <a:lnTo>
                              <a:pt x="6" y="125"/>
                            </a:lnTo>
                            <a:lnTo>
                              <a:pt x="6" y="131"/>
                            </a:lnTo>
                            <a:lnTo>
                              <a:pt x="5" y="138"/>
                            </a:lnTo>
                            <a:lnTo>
                              <a:pt x="3" y="143"/>
                            </a:lnTo>
                            <a:lnTo>
                              <a:pt x="3" y="149"/>
                            </a:lnTo>
                            <a:lnTo>
                              <a:pt x="2" y="151"/>
                            </a:lnTo>
                            <a:lnTo>
                              <a:pt x="2" y="154"/>
                            </a:lnTo>
                            <a:lnTo>
                              <a:pt x="0" y="158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2" y="150"/>
                            </a:lnTo>
                            <a:lnTo>
                              <a:pt x="2" y="145"/>
                            </a:lnTo>
                            <a:lnTo>
                              <a:pt x="2" y="140"/>
                            </a:lnTo>
                            <a:lnTo>
                              <a:pt x="2" y="135"/>
                            </a:lnTo>
                            <a:lnTo>
                              <a:pt x="3" y="129"/>
                            </a:lnTo>
                            <a:lnTo>
                              <a:pt x="3" y="127"/>
                            </a:lnTo>
                            <a:lnTo>
                              <a:pt x="3" y="123"/>
                            </a:lnTo>
                            <a:lnTo>
                              <a:pt x="3" y="120"/>
                            </a:lnTo>
                            <a:lnTo>
                              <a:pt x="3" y="117"/>
                            </a:lnTo>
                            <a:lnTo>
                              <a:pt x="3" y="113"/>
                            </a:lnTo>
                            <a:lnTo>
                              <a:pt x="3" y="110"/>
                            </a:lnTo>
                            <a:lnTo>
                              <a:pt x="3" y="107"/>
                            </a:lnTo>
                            <a:lnTo>
                              <a:pt x="3" y="105"/>
                            </a:lnTo>
                            <a:lnTo>
                              <a:pt x="3" y="101"/>
                            </a:lnTo>
                            <a:lnTo>
                              <a:pt x="3" y="97"/>
                            </a:lnTo>
                            <a:lnTo>
                              <a:pt x="3" y="94"/>
                            </a:lnTo>
                            <a:lnTo>
                              <a:pt x="3" y="90"/>
                            </a:lnTo>
                            <a:lnTo>
                              <a:pt x="3" y="87"/>
                            </a:lnTo>
                            <a:lnTo>
                              <a:pt x="5" y="83"/>
                            </a:lnTo>
                            <a:lnTo>
                              <a:pt x="5" y="80"/>
                            </a:lnTo>
                            <a:lnTo>
                              <a:pt x="5" y="76"/>
                            </a:lnTo>
                            <a:lnTo>
                              <a:pt x="5" y="73"/>
                            </a:lnTo>
                            <a:lnTo>
                              <a:pt x="5" y="69"/>
                            </a:lnTo>
                            <a:lnTo>
                              <a:pt x="5" y="65"/>
                            </a:lnTo>
                            <a:lnTo>
                              <a:pt x="5" y="62"/>
                            </a:lnTo>
                            <a:lnTo>
                              <a:pt x="5" y="58"/>
                            </a:lnTo>
                            <a:lnTo>
                              <a:pt x="6" y="55"/>
                            </a:lnTo>
                            <a:lnTo>
                              <a:pt x="6" y="51"/>
                            </a:lnTo>
                            <a:lnTo>
                              <a:pt x="6" y="48"/>
                            </a:lnTo>
                            <a:lnTo>
                              <a:pt x="6" y="44"/>
                            </a:lnTo>
                            <a:lnTo>
                              <a:pt x="6" y="42"/>
                            </a:lnTo>
                            <a:lnTo>
                              <a:pt x="6" y="39"/>
                            </a:lnTo>
                            <a:lnTo>
                              <a:pt x="6" y="36"/>
                            </a:lnTo>
                            <a:lnTo>
                              <a:pt x="8" y="29"/>
                            </a:lnTo>
                            <a:lnTo>
                              <a:pt x="8" y="25"/>
                            </a:lnTo>
                            <a:lnTo>
                              <a:pt x="8" y="20"/>
                            </a:lnTo>
                            <a:lnTo>
                              <a:pt x="9" y="14"/>
                            </a:lnTo>
                            <a:lnTo>
                              <a:pt x="9" y="11"/>
                            </a:lnTo>
                            <a:lnTo>
                              <a:pt x="11" y="7"/>
                            </a:lnTo>
                            <a:lnTo>
                              <a:pt x="11" y="5"/>
                            </a:lnTo>
                            <a:lnTo>
                              <a:pt x="12" y="2"/>
                            </a:lnTo>
                            <a:lnTo>
                              <a:pt x="12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4" name="Freeform 154"/>
                      <p:cNvSpPr/>
                      <p:nvPr/>
                    </p:nvSpPr>
                    <p:spPr>
                      <a:xfrm>
                        <a:off x="2874960" y="2893320"/>
                        <a:ext cx="19080" cy="58680"/>
                      </a:xfrm>
                      <a:custGeom>
                        <a:avLst/>
                        <a:gdLst>
                          <a:gd name="textAreaLeft" fmla="*/ 0 w 19080"/>
                          <a:gd name="textAreaRight" fmla="*/ 19080 w 190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214" h="584">
                            <a:moveTo>
                              <a:pt x="62" y="77"/>
                            </a:moveTo>
                            <a:lnTo>
                              <a:pt x="62" y="81"/>
                            </a:lnTo>
                            <a:lnTo>
                              <a:pt x="62" y="87"/>
                            </a:lnTo>
                            <a:lnTo>
                              <a:pt x="64" y="91"/>
                            </a:lnTo>
                            <a:lnTo>
                              <a:pt x="64" y="96"/>
                            </a:lnTo>
                            <a:lnTo>
                              <a:pt x="65" y="102"/>
                            </a:lnTo>
                            <a:lnTo>
                              <a:pt x="67" y="107"/>
                            </a:lnTo>
                            <a:lnTo>
                              <a:pt x="67" y="113"/>
                            </a:lnTo>
                            <a:lnTo>
                              <a:pt x="68" y="118"/>
                            </a:lnTo>
                            <a:lnTo>
                              <a:pt x="68" y="124"/>
                            </a:lnTo>
                            <a:lnTo>
                              <a:pt x="68" y="128"/>
                            </a:lnTo>
                            <a:lnTo>
                              <a:pt x="68" y="133"/>
                            </a:lnTo>
                            <a:lnTo>
                              <a:pt x="70" y="139"/>
                            </a:lnTo>
                            <a:lnTo>
                              <a:pt x="68" y="143"/>
                            </a:lnTo>
                            <a:lnTo>
                              <a:pt x="68" y="148"/>
                            </a:lnTo>
                            <a:lnTo>
                              <a:pt x="67" y="152"/>
                            </a:lnTo>
                            <a:lnTo>
                              <a:pt x="67" y="157"/>
                            </a:lnTo>
                            <a:lnTo>
                              <a:pt x="67" y="155"/>
                            </a:lnTo>
                            <a:lnTo>
                              <a:pt x="65" y="152"/>
                            </a:lnTo>
                            <a:lnTo>
                              <a:pt x="65" y="150"/>
                            </a:lnTo>
                            <a:lnTo>
                              <a:pt x="64" y="146"/>
                            </a:lnTo>
                            <a:lnTo>
                              <a:pt x="62" y="142"/>
                            </a:lnTo>
                            <a:lnTo>
                              <a:pt x="61" y="136"/>
                            </a:lnTo>
                            <a:lnTo>
                              <a:pt x="61" y="132"/>
                            </a:lnTo>
                            <a:lnTo>
                              <a:pt x="59" y="129"/>
                            </a:lnTo>
                            <a:lnTo>
                              <a:pt x="59" y="126"/>
                            </a:lnTo>
                            <a:lnTo>
                              <a:pt x="58" y="122"/>
                            </a:lnTo>
                            <a:lnTo>
                              <a:pt x="58" y="120"/>
                            </a:lnTo>
                            <a:lnTo>
                              <a:pt x="56" y="117"/>
                            </a:lnTo>
                            <a:lnTo>
                              <a:pt x="56" y="113"/>
                            </a:lnTo>
                            <a:lnTo>
                              <a:pt x="55" y="110"/>
                            </a:lnTo>
                            <a:lnTo>
                              <a:pt x="55" y="107"/>
                            </a:lnTo>
                            <a:lnTo>
                              <a:pt x="53" y="103"/>
                            </a:lnTo>
                            <a:lnTo>
                              <a:pt x="53" y="99"/>
                            </a:lnTo>
                            <a:lnTo>
                              <a:pt x="52" y="96"/>
                            </a:lnTo>
                            <a:lnTo>
                              <a:pt x="52" y="92"/>
                            </a:lnTo>
                            <a:lnTo>
                              <a:pt x="50" y="88"/>
                            </a:lnTo>
                            <a:lnTo>
                              <a:pt x="50" y="85"/>
                            </a:lnTo>
                            <a:lnTo>
                              <a:pt x="48" y="81"/>
                            </a:lnTo>
                            <a:lnTo>
                              <a:pt x="48" y="78"/>
                            </a:lnTo>
                            <a:lnTo>
                              <a:pt x="47" y="74"/>
                            </a:lnTo>
                            <a:lnTo>
                              <a:pt x="45" y="70"/>
                            </a:lnTo>
                            <a:lnTo>
                              <a:pt x="45" y="66"/>
                            </a:lnTo>
                            <a:lnTo>
                              <a:pt x="44" y="63"/>
                            </a:lnTo>
                            <a:lnTo>
                              <a:pt x="42" y="59"/>
                            </a:lnTo>
                            <a:lnTo>
                              <a:pt x="42" y="56"/>
                            </a:lnTo>
                            <a:lnTo>
                              <a:pt x="41" y="52"/>
                            </a:lnTo>
                            <a:lnTo>
                              <a:pt x="41" y="50"/>
                            </a:lnTo>
                            <a:lnTo>
                              <a:pt x="39" y="45"/>
                            </a:lnTo>
                            <a:lnTo>
                              <a:pt x="38" y="43"/>
                            </a:lnTo>
                            <a:lnTo>
                              <a:pt x="38" y="39"/>
                            </a:lnTo>
                            <a:lnTo>
                              <a:pt x="38" y="36"/>
                            </a:lnTo>
                            <a:lnTo>
                              <a:pt x="36" y="29"/>
                            </a:lnTo>
                            <a:lnTo>
                              <a:pt x="35" y="25"/>
                            </a:lnTo>
                            <a:lnTo>
                              <a:pt x="33" y="18"/>
                            </a:lnTo>
                            <a:lnTo>
                              <a:pt x="32" y="14"/>
                            </a:lnTo>
                            <a:lnTo>
                              <a:pt x="30" y="10"/>
                            </a:lnTo>
                            <a:lnTo>
                              <a:pt x="30" y="6"/>
                            </a:lnTo>
                            <a:lnTo>
                              <a:pt x="29" y="1"/>
                            </a:lnTo>
                            <a:lnTo>
                              <a:pt x="29" y="0"/>
                            </a:lnTo>
                            <a:lnTo>
                              <a:pt x="27" y="6"/>
                            </a:lnTo>
                            <a:lnTo>
                              <a:pt x="27" y="11"/>
                            </a:lnTo>
                            <a:lnTo>
                              <a:pt x="26" y="15"/>
                            </a:lnTo>
                            <a:lnTo>
                              <a:pt x="26" y="18"/>
                            </a:lnTo>
                            <a:lnTo>
                              <a:pt x="26" y="21"/>
                            </a:lnTo>
                            <a:lnTo>
                              <a:pt x="27" y="25"/>
                            </a:lnTo>
                            <a:lnTo>
                              <a:pt x="27" y="28"/>
                            </a:lnTo>
                            <a:lnTo>
                              <a:pt x="27" y="32"/>
                            </a:lnTo>
                            <a:lnTo>
                              <a:pt x="27" y="34"/>
                            </a:lnTo>
                            <a:lnTo>
                              <a:pt x="29" y="39"/>
                            </a:lnTo>
                            <a:lnTo>
                              <a:pt x="29" y="41"/>
                            </a:lnTo>
                            <a:lnTo>
                              <a:pt x="30" y="44"/>
                            </a:lnTo>
                            <a:lnTo>
                              <a:pt x="30" y="47"/>
                            </a:lnTo>
                            <a:lnTo>
                              <a:pt x="32" y="50"/>
                            </a:lnTo>
                            <a:lnTo>
                              <a:pt x="33" y="52"/>
                            </a:lnTo>
                            <a:lnTo>
                              <a:pt x="35" y="55"/>
                            </a:lnTo>
                            <a:lnTo>
                              <a:pt x="35" y="56"/>
                            </a:lnTo>
                            <a:lnTo>
                              <a:pt x="36" y="59"/>
                            </a:lnTo>
                            <a:lnTo>
                              <a:pt x="38" y="65"/>
                            </a:lnTo>
                            <a:lnTo>
                              <a:pt x="38" y="72"/>
                            </a:lnTo>
                            <a:lnTo>
                              <a:pt x="38" y="77"/>
                            </a:lnTo>
                            <a:lnTo>
                              <a:pt x="39" y="82"/>
                            </a:lnTo>
                            <a:lnTo>
                              <a:pt x="39" y="85"/>
                            </a:lnTo>
                            <a:lnTo>
                              <a:pt x="41" y="89"/>
                            </a:lnTo>
                            <a:lnTo>
                              <a:pt x="41" y="92"/>
                            </a:lnTo>
                            <a:lnTo>
                              <a:pt x="41" y="95"/>
                            </a:lnTo>
                            <a:lnTo>
                              <a:pt x="41" y="98"/>
                            </a:lnTo>
                            <a:lnTo>
                              <a:pt x="42" y="102"/>
                            </a:lnTo>
                            <a:lnTo>
                              <a:pt x="42" y="104"/>
                            </a:lnTo>
                            <a:lnTo>
                              <a:pt x="42" y="109"/>
                            </a:lnTo>
                            <a:lnTo>
                              <a:pt x="42" y="114"/>
                            </a:lnTo>
                            <a:lnTo>
                              <a:pt x="44" y="120"/>
                            </a:lnTo>
                            <a:lnTo>
                              <a:pt x="44" y="122"/>
                            </a:lnTo>
                            <a:lnTo>
                              <a:pt x="44" y="126"/>
                            </a:lnTo>
                            <a:lnTo>
                              <a:pt x="44" y="129"/>
                            </a:lnTo>
                            <a:lnTo>
                              <a:pt x="44" y="132"/>
                            </a:lnTo>
                            <a:lnTo>
                              <a:pt x="44" y="137"/>
                            </a:lnTo>
                            <a:lnTo>
                              <a:pt x="44" y="143"/>
                            </a:lnTo>
                            <a:lnTo>
                              <a:pt x="44" y="148"/>
                            </a:lnTo>
                            <a:lnTo>
                              <a:pt x="44" y="155"/>
                            </a:lnTo>
                            <a:lnTo>
                              <a:pt x="36" y="150"/>
                            </a:lnTo>
                            <a:lnTo>
                              <a:pt x="36" y="148"/>
                            </a:lnTo>
                            <a:lnTo>
                              <a:pt x="35" y="146"/>
                            </a:lnTo>
                            <a:lnTo>
                              <a:pt x="35" y="142"/>
                            </a:lnTo>
                            <a:lnTo>
                              <a:pt x="35" y="139"/>
                            </a:lnTo>
                            <a:lnTo>
                              <a:pt x="35" y="135"/>
                            </a:lnTo>
                            <a:lnTo>
                              <a:pt x="35" y="131"/>
                            </a:lnTo>
                            <a:lnTo>
                              <a:pt x="35" y="126"/>
                            </a:lnTo>
                            <a:lnTo>
                              <a:pt x="33" y="121"/>
                            </a:lnTo>
                            <a:lnTo>
                              <a:pt x="33" y="117"/>
                            </a:lnTo>
                            <a:lnTo>
                              <a:pt x="32" y="113"/>
                            </a:lnTo>
                            <a:lnTo>
                              <a:pt x="32" y="110"/>
                            </a:lnTo>
                            <a:lnTo>
                              <a:pt x="32" y="106"/>
                            </a:lnTo>
                            <a:lnTo>
                              <a:pt x="32" y="103"/>
                            </a:lnTo>
                            <a:lnTo>
                              <a:pt x="32" y="102"/>
                            </a:lnTo>
                            <a:lnTo>
                              <a:pt x="32" y="100"/>
                            </a:lnTo>
                            <a:lnTo>
                              <a:pt x="30" y="96"/>
                            </a:lnTo>
                            <a:lnTo>
                              <a:pt x="29" y="92"/>
                            </a:lnTo>
                            <a:lnTo>
                              <a:pt x="27" y="89"/>
                            </a:lnTo>
                            <a:lnTo>
                              <a:pt x="26" y="85"/>
                            </a:lnTo>
                            <a:lnTo>
                              <a:pt x="24" y="82"/>
                            </a:lnTo>
                            <a:lnTo>
                              <a:pt x="22" y="78"/>
                            </a:lnTo>
                            <a:lnTo>
                              <a:pt x="21" y="76"/>
                            </a:lnTo>
                            <a:lnTo>
                              <a:pt x="19" y="72"/>
                            </a:lnTo>
                            <a:lnTo>
                              <a:pt x="18" y="69"/>
                            </a:lnTo>
                            <a:lnTo>
                              <a:pt x="16" y="65"/>
                            </a:lnTo>
                            <a:lnTo>
                              <a:pt x="15" y="61"/>
                            </a:lnTo>
                            <a:lnTo>
                              <a:pt x="15" y="58"/>
                            </a:lnTo>
                            <a:lnTo>
                              <a:pt x="13" y="54"/>
                            </a:lnTo>
                            <a:lnTo>
                              <a:pt x="13" y="50"/>
                            </a:lnTo>
                            <a:lnTo>
                              <a:pt x="13" y="45"/>
                            </a:lnTo>
                            <a:lnTo>
                              <a:pt x="15" y="41"/>
                            </a:lnTo>
                            <a:lnTo>
                              <a:pt x="10" y="40"/>
                            </a:lnTo>
                            <a:lnTo>
                              <a:pt x="7" y="37"/>
                            </a:lnTo>
                            <a:lnTo>
                              <a:pt x="4" y="36"/>
                            </a:lnTo>
                            <a:lnTo>
                              <a:pt x="1" y="34"/>
                            </a:lnTo>
                            <a:lnTo>
                              <a:pt x="1" y="36"/>
                            </a:lnTo>
                            <a:lnTo>
                              <a:pt x="0" y="37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0" y="51"/>
                            </a:lnTo>
                            <a:lnTo>
                              <a:pt x="0" y="55"/>
                            </a:lnTo>
                            <a:lnTo>
                              <a:pt x="1" y="61"/>
                            </a:lnTo>
                            <a:lnTo>
                              <a:pt x="1" y="65"/>
                            </a:lnTo>
                            <a:lnTo>
                              <a:pt x="1" y="70"/>
                            </a:lnTo>
                            <a:lnTo>
                              <a:pt x="1" y="74"/>
                            </a:lnTo>
                            <a:lnTo>
                              <a:pt x="3" y="81"/>
                            </a:lnTo>
                            <a:lnTo>
                              <a:pt x="3" y="85"/>
                            </a:lnTo>
                            <a:lnTo>
                              <a:pt x="4" y="91"/>
                            </a:lnTo>
                            <a:lnTo>
                              <a:pt x="4" y="96"/>
                            </a:lnTo>
                            <a:lnTo>
                              <a:pt x="6" y="103"/>
                            </a:lnTo>
                            <a:lnTo>
                              <a:pt x="6" y="109"/>
                            </a:lnTo>
                            <a:lnTo>
                              <a:pt x="7" y="113"/>
                            </a:lnTo>
                            <a:lnTo>
                              <a:pt x="7" y="118"/>
                            </a:lnTo>
                            <a:lnTo>
                              <a:pt x="7" y="124"/>
                            </a:lnTo>
                            <a:lnTo>
                              <a:pt x="9" y="128"/>
                            </a:lnTo>
                            <a:lnTo>
                              <a:pt x="9" y="133"/>
                            </a:lnTo>
                            <a:lnTo>
                              <a:pt x="10" y="137"/>
                            </a:lnTo>
                            <a:lnTo>
                              <a:pt x="12" y="142"/>
                            </a:lnTo>
                            <a:lnTo>
                              <a:pt x="12" y="146"/>
                            </a:lnTo>
                            <a:lnTo>
                              <a:pt x="12" y="150"/>
                            </a:lnTo>
                            <a:lnTo>
                              <a:pt x="12" y="152"/>
                            </a:lnTo>
                            <a:lnTo>
                              <a:pt x="13" y="155"/>
                            </a:lnTo>
                            <a:lnTo>
                              <a:pt x="13" y="159"/>
                            </a:lnTo>
                            <a:lnTo>
                              <a:pt x="15" y="162"/>
                            </a:lnTo>
                            <a:lnTo>
                              <a:pt x="15" y="165"/>
                            </a:lnTo>
                            <a:lnTo>
                              <a:pt x="15" y="169"/>
                            </a:lnTo>
                            <a:lnTo>
                              <a:pt x="15" y="173"/>
                            </a:lnTo>
                            <a:lnTo>
                              <a:pt x="15" y="177"/>
                            </a:lnTo>
                            <a:lnTo>
                              <a:pt x="15" y="181"/>
                            </a:lnTo>
                            <a:lnTo>
                              <a:pt x="16" y="185"/>
                            </a:lnTo>
                            <a:lnTo>
                              <a:pt x="16" y="190"/>
                            </a:lnTo>
                            <a:lnTo>
                              <a:pt x="18" y="194"/>
                            </a:lnTo>
                            <a:lnTo>
                              <a:pt x="18" y="196"/>
                            </a:lnTo>
                            <a:lnTo>
                              <a:pt x="18" y="198"/>
                            </a:lnTo>
                            <a:lnTo>
                              <a:pt x="18" y="201"/>
                            </a:lnTo>
                            <a:lnTo>
                              <a:pt x="18" y="202"/>
                            </a:lnTo>
                            <a:lnTo>
                              <a:pt x="16" y="202"/>
                            </a:lnTo>
                            <a:lnTo>
                              <a:pt x="15" y="201"/>
                            </a:lnTo>
                            <a:lnTo>
                              <a:pt x="13" y="198"/>
                            </a:lnTo>
                            <a:lnTo>
                              <a:pt x="12" y="195"/>
                            </a:lnTo>
                            <a:lnTo>
                              <a:pt x="15" y="584"/>
                            </a:lnTo>
                            <a:lnTo>
                              <a:pt x="214" y="584"/>
                            </a:lnTo>
                            <a:lnTo>
                              <a:pt x="209" y="115"/>
                            </a:lnTo>
                            <a:lnTo>
                              <a:pt x="209" y="111"/>
                            </a:lnTo>
                            <a:lnTo>
                              <a:pt x="209" y="109"/>
                            </a:lnTo>
                            <a:lnTo>
                              <a:pt x="209" y="106"/>
                            </a:lnTo>
                            <a:lnTo>
                              <a:pt x="209" y="102"/>
                            </a:lnTo>
                            <a:lnTo>
                              <a:pt x="209" y="99"/>
                            </a:lnTo>
                            <a:lnTo>
                              <a:pt x="209" y="96"/>
                            </a:lnTo>
                            <a:lnTo>
                              <a:pt x="209" y="93"/>
                            </a:lnTo>
                            <a:lnTo>
                              <a:pt x="209" y="91"/>
                            </a:lnTo>
                            <a:lnTo>
                              <a:pt x="209" y="85"/>
                            </a:lnTo>
                            <a:lnTo>
                              <a:pt x="209" y="80"/>
                            </a:lnTo>
                            <a:lnTo>
                              <a:pt x="209" y="74"/>
                            </a:lnTo>
                            <a:lnTo>
                              <a:pt x="209" y="70"/>
                            </a:lnTo>
                            <a:lnTo>
                              <a:pt x="209" y="65"/>
                            </a:lnTo>
                            <a:lnTo>
                              <a:pt x="209" y="61"/>
                            </a:lnTo>
                            <a:lnTo>
                              <a:pt x="209" y="55"/>
                            </a:lnTo>
                            <a:lnTo>
                              <a:pt x="209" y="50"/>
                            </a:lnTo>
                            <a:lnTo>
                              <a:pt x="209" y="44"/>
                            </a:lnTo>
                            <a:lnTo>
                              <a:pt x="209" y="39"/>
                            </a:lnTo>
                            <a:lnTo>
                              <a:pt x="209" y="34"/>
                            </a:lnTo>
                            <a:lnTo>
                              <a:pt x="209" y="32"/>
                            </a:lnTo>
                            <a:lnTo>
                              <a:pt x="209" y="28"/>
                            </a:lnTo>
                            <a:lnTo>
                              <a:pt x="209" y="25"/>
                            </a:lnTo>
                            <a:lnTo>
                              <a:pt x="200" y="32"/>
                            </a:lnTo>
                            <a:lnTo>
                              <a:pt x="200" y="37"/>
                            </a:lnTo>
                            <a:lnTo>
                              <a:pt x="200" y="41"/>
                            </a:lnTo>
                            <a:lnTo>
                              <a:pt x="200" y="47"/>
                            </a:lnTo>
                            <a:lnTo>
                              <a:pt x="200" y="52"/>
                            </a:lnTo>
                            <a:lnTo>
                              <a:pt x="200" y="56"/>
                            </a:lnTo>
                            <a:lnTo>
                              <a:pt x="200" y="62"/>
                            </a:lnTo>
                            <a:lnTo>
                              <a:pt x="200" y="66"/>
                            </a:lnTo>
                            <a:lnTo>
                              <a:pt x="200" y="72"/>
                            </a:lnTo>
                            <a:lnTo>
                              <a:pt x="200" y="76"/>
                            </a:lnTo>
                            <a:lnTo>
                              <a:pt x="200" y="81"/>
                            </a:lnTo>
                            <a:lnTo>
                              <a:pt x="200" y="85"/>
                            </a:lnTo>
                            <a:lnTo>
                              <a:pt x="201" y="89"/>
                            </a:lnTo>
                            <a:lnTo>
                              <a:pt x="201" y="95"/>
                            </a:lnTo>
                            <a:lnTo>
                              <a:pt x="201" y="99"/>
                            </a:lnTo>
                            <a:lnTo>
                              <a:pt x="203" y="104"/>
                            </a:lnTo>
                            <a:lnTo>
                              <a:pt x="203" y="109"/>
                            </a:lnTo>
                            <a:lnTo>
                              <a:pt x="201" y="113"/>
                            </a:lnTo>
                            <a:lnTo>
                              <a:pt x="200" y="115"/>
                            </a:lnTo>
                            <a:lnTo>
                              <a:pt x="200" y="120"/>
                            </a:lnTo>
                            <a:lnTo>
                              <a:pt x="200" y="124"/>
                            </a:lnTo>
                            <a:lnTo>
                              <a:pt x="195" y="73"/>
                            </a:lnTo>
                            <a:lnTo>
                              <a:pt x="194" y="173"/>
                            </a:lnTo>
                            <a:lnTo>
                              <a:pt x="192" y="168"/>
                            </a:lnTo>
                            <a:lnTo>
                              <a:pt x="192" y="163"/>
                            </a:lnTo>
                            <a:lnTo>
                              <a:pt x="191" y="158"/>
                            </a:lnTo>
                            <a:lnTo>
                              <a:pt x="191" y="154"/>
                            </a:lnTo>
                            <a:lnTo>
                              <a:pt x="191" y="148"/>
                            </a:lnTo>
                            <a:lnTo>
                              <a:pt x="191" y="144"/>
                            </a:lnTo>
                            <a:lnTo>
                              <a:pt x="189" y="139"/>
                            </a:lnTo>
                            <a:lnTo>
                              <a:pt x="189" y="135"/>
                            </a:lnTo>
                            <a:lnTo>
                              <a:pt x="189" y="131"/>
                            </a:lnTo>
                            <a:lnTo>
                              <a:pt x="188" y="125"/>
                            </a:lnTo>
                            <a:lnTo>
                              <a:pt x="188" y="121"/>
                            </a:lnTo>
                            <a:lnTo>
                              <a:pt x="188" y="115"/>
                            </a:lnTo>
                            <a:lnTo>
                              <a:pt x="188" y="111"/>
                            </a:lnTo>
                            <a:lnTo>
                              <a:pt x="186" y="106"/>
                            </a:lnTo>
                            <a:lnTo>
                              <a:pt x="186" y="102"/>
                            </a:lnTo>
                            <a:lnTo>
                              <a:pt x="186" y="98"/>
                            </a:lnTo>
                            <a:lnTo>
                              <a:pt x="186" y="92"/>
                            </a:lnTo>
                            <a:lnTo>
                              <a:pt x="186" y="88"/>
                            </a:lnTo>
                            <a:lnTo>
                              <a:pt x="186" y="82"/>
                            </a:lnTo>
                            <a:lnTo>
                              <a:pt x="186" y="78"/>
                            </a:lnTo>
                            <a:lnTo>
                              <a:pt x="185" y="73"/>
                            </a:lnTo>
                            <a:lnTo>
                              <a:pt x="185" y="69"/>
                            </a:lnTo>
                            <a:lnTo>
                              <a:pt x="185" y="63"/>
                            </a:lnTo>
                            <a:lnTo>
                              <a:pt x="185" y="59"/>
                            </a:lnTo>
                            <a:lnTo>
                              <a:pt x="185" y="54"/>
                            </a:lnTo>
                            <a:lnTo>
                              <a:pt x="185" y="50"/>
                            </a:lnTo>
                            <a:lnTo>
                              <a:pt x="183" y="44"/>
                            </a:lnTo>
                            <a:lnTo>
                              <a:pt x="183" y="40"/>
                            </a:lnTo>
                            <a:lnTo>
                              <a:pt x="183" y="34"/>
                            </a:lnTo>
                            <a:lnTo>
                              <a:pt x="183" y="30"/>
                            </a:lnTo>
                            <a:lnTo>
                              <a:pt x="183" y="25"/>
                            </a:lnTo>
                            <a:lnTo>
                              <a:pt x="183" y="21"/>
                            </a:lnTo>
                            <a:lnTo>
                              <a:pt x="182" y="21"/>
                            </a:lnTo>
                            <a:lnTo>
                              <a:pt x="180" y="25"/>
                            </a:lnTo>
                            <a:lnTo>
                              <a:pt x="177" y="28"/>
                            </a:lnTo>
                            <a:lnTo>
                              <a:pt x="177" y="33"/>
                            </a:lnTo>
                            <a:lnTo>
                              <a:pt x="175" y="34"/>
                            </a:lnTo>
                            <a:lnTo>
                              <a:pt x="175" y="39"/>
                            </a:lnTo>
                            <a:lnTo>
                              <a:pt x="174" y="41"/>
                            </a:lnTo>
                            <a:lnTo>
                              <a:pt x="174" y="45"/>
                            </a:lnTo>
                            <a:lnTo>
                              <a:pt x="174" y="50"/>
                            </a:lnTo>
                            <a:lnTo>
                              <a:pt x="172" y="54"/>
                            </a:lnTo>
                            <a:lnTo>
                              <a:pt x="172" y="59"/>
                            </a:lnTo>
                            <a:lnTo>
                              <a:pt x="172" y="65"/>
                            </a:lnTo>
                            <a:lnTo>
                              <a:pt x="172" y="67"/>
                            </a:lnTo>
                            <a:lnTo>
                              <a:pt x="172" y="70"/>
                            </a:lnTo>
                            <a:lnTo>
                              <a:pt x="172" y="73"/>
                            </a:lnTo>
                            <a:lnTo>
                              <a:pt x="172" y="77"/>
                            </a:lnTo>
                            <a:lnTo>
                              <a:pt x="172" y="80"/>
                            </a:lnTo>
                            <a:lnTo>
                              <a:pt x="172" y="82"/>
                            </a:lnTo>
                            <a:lnTo>
                              <a:pt x="172" y="87"/>
                            </a:lnTo>
                            <a:lnTo>
                              <a:pt x="172" y="91"/>
                            </a:lnTo>
                            <a:lnTo>
                              <a:pt x="172" y="93"/>
                            </a:lnTo>
                            <a:lnTo>
                              <a:pt x="172" y="98"/>
                            </a:lnTo>
                            <a:lnTo>
                              <a:pt x="172" y="102"/>
                            </a:lnTo>
                            <a:lnTo>
                              <a:pt x="172" y="106"/>
                            </a:lnTo>
                            <a:lnTo>
                              <a:pt x="172" y="110"/>
                            </a:lnTo>
                            <a:lnTo>
                              <a:pt x="172" y="114"/>
                            </a:lnTo>
                            <a:lnTo>
                              <a:pt x="172" y="120"/>
                            </a:lnTo>
                            <a:lnTo>
                              <a:pt x="172" y="125"/>
                            </a:lnTo>
                            <a:lnTo>
                              <a:pt x="172" y="129"/>
                            </a:lnTo>
                            <a:lnTo>
                              <a:pt x="172" y="135"/>
                            </a:lnTo>
                            <a:lnTo>
                              <a:pt x="172" y="139"/>
                            </a:lnTo>
                            <a:lnTo>
                              <a:pt x="174" y="146"/>
                            </a:lnTo>
                            <a:lnTo>
                              <a:pt x="174" y="150"/>
                            </a:lnTo>
                            <a:lnTo>
                              <a:pt x="174" y="155"/>
                            </a:lnTo>
                            <a:lnTo>
                              <a:pt x="175" y="162"/>
                            </a:lnTo>
                            <a:lnTo>
                              <a:pt x="175" y="168"/>
                            </a:lnTo>
                            <a:lnTo>
                              <a:pt x="175" y="170"/>
                            </a:lnTo>
                            <a:lnTo>
                              <a:pt x="175" y="173"/>
                            </a:lnTo>
                            <a:lnTo>
                              <a:pt x="175" y="177"/>
                            </a:lnTo>
                            <a:lnTo>
                              <a:pt x="175" y="183"/>
                            </a:lnTo>
                            <a:lnTo>
                              <a:pt x="175" y="188"/>
                            </a:lnTo>
                            <a:lnTo>
                              <a:pt x="175" y="194"/>
                            </a:lnTo>
                            <a:lnTo>
                              <a:pt x="175" y="199"/>
                            </a:lnTo>
                            <a:lnTo>
                              <a:pt x="175" y="205"/>
                            </a:lnTo>
                            <a:lnTo>
                              <a:pt x="175" y="210"/>
                            </a:lnTo>
                            <a:lnTo>
                              <a:pt x="175" y="217"/>
                            </a:lnTo>
                            <a:lnTo>
                              <a:pt x="174" y="221"/>
                            </a:lnTo>
                            <a:lnTo>
                              <a:pt x="174" y="227"/>
                            </a:lnTo>
                            <a:lnTo>
                              <a:pt x="172" y="231"/>
                            </a:lnTo>
                            <a:lnTo>
                              <a:pt x="172" y="235"/>
                            </a:lnTo>
                            <a:lnTo>
                              <a:pt x="171" y="239"/>
                            </a:lnTo>
                            <a:lnTo>
                              <a:pt x="171" y="242"/>
                            </a:lnTo>
                            <a:lnTo>
                              <a:pt x="169" y="235"/>
                            </a:lnTo>
                            <a:lnTo>
                              <a:pt x="169" y="229"/>
                            </a:lnTo>
                            <a:lnTo>
                              <a:pt x="168" y="224"/>
                            </a:lnTo>
                            <a:lnTo>
                              <a:pt x="168" y="218"/>
                            </a:lnTo>
                            <a:lnTo>
                              <a:pt x="166" y="213"/>
                            </a:lnTo>
                            <a:lnTo>
                              <a:pt x="166" y="207"/>
                            </a:lnTo>
                            <a:lnTo>
                              <a:pt x="166" y="202"/>
                            </a:lnTo>
                            <a:lnTo>
                              <a:pt x="166" y="196"/>
                            </a:lnTo>
                            <a:lnTo>
                              <a:pt x="166" y="190"/>
                            </a:lnTo>
                            <a:lnTo>
                              <a:pt x="166" y="184"/>
                            </a:lnTo>
                            <a:lnTo>
                              <a:pt x="166" y="179"/>
                            </a:lnTo>
                            <a:lnTo>
                              <a:pt x="166" y="173"/>
                            </a:lnTo>
                            <a:lnTo>
                              <a:pt x="166" y="168"/>
                            </a:lnTo>
                            <a:lnTo>
                              <a:pt x="166" y="162"/>
                            </a:lnTo>
                            <a:lnTo>
                              <a:pt x="166" y="157"/>
                            </a:lnTo>
                            <a:lnTo>
                              <a:pt x="166" y="151"/>
                            </a:lnTo>
                            <a:lnTo>
                              <a:pt x="165" y="146"/>
                            </a:lnTo>
                            <a:lnTo>
                              <a:pt x="165" y="139"/>
                            </a:lnTo>
                            <a:lnTo>
                              <a:pt x="165" y="133"/>
                            </a:lnTo>
                            <a:lnTo>
                              <a:pt x="165" y="128"/>
                            </a:lnTo>
                            <a:lnTo>
                              <a:pt x="165" y="122"/>
                            </a:lnTo>
                            <a:lnTo>
                              <a:pt x="165" y="117"/>
                            </a:lnTo>
                            <a:lnTo>
                              <a:pt x="165" y="111"/>
                            </a:lnTo>
                            <a:lnTo>
                              <a:pt x="165" y="106"/>
                            </a:lnTo>
                            <a:lnTo>
                              <a:pt x="165" y="100"/>
                            </a:lnTo>
                            <a:lnTo>
                              <a:pt x="163" y="95"/>
                            </a:lnTo>
                            <a:lnTo>
                              <a:pt x="163" y="89"/>
                            </a:lnTo>
                            <a:lnTo>
                              <a:pt x="163" y="84"/>
                            </a:lnTo>
                            <a:lnTo>
                              <a:pt x="162" y="78"/>
                            </a:lnTo>
                            <a:lnTo>
                              <a:pt x="162" y="73"/>
                            </a:lnTo>
                            <a:lnTo>
                              <a:pt x="162" y="67"/>
                            </a:lnTo>
                            <a:lnTo>
                              <a:pt x="160" y="62"/>
                            </a:lnTo>
                            <a:lnTo>
                              <a:pt x="160" y="59"/>
                            </a:lnTo>
                            <a:lnTo>
                              <a:pt x="159" y="55"/>
                            </a:lnTo>
                            <a:lnTo>
                              <a:pt x="157" y="50"/>
                            </a:lnTo>
                            <a:lnTo>
                              <a:pt x="156" y="48"/>
                            </a:lnTo>
                            <a:lnTo>
                              <a:pt x="156" y="51"/>
                            </a:lnTo>
                            <a:lnTo>
                              <a:pt x="156" y="55"/>
                            </a:lnTo>
                            <a:lnTo>
                              <a:pt x="154" y="58"/>
                            </a:lnTo>
                            <a:lnTo>
                              <a:pt x="154" y="62"/>
                            </a:lnTo>
                            <a:lnTo>
                              <a:pt x="154" y="65"/>
                            </a:lnTo>
                            <a:lnTo>
                              <a:pt x="153" y="69"/>
                            </a:lnTo>
                            <a:lnTo>
                              <a:pt x="153" y="72"/>
                            </a:lnTo>
                            <a:lnTo>
                              <a:pt x="153" y="76"/>
                            </a:lnTo>
                            <a:lnTo>
                              <a:pt x="156" y="139"/>
                            </a:lnTo>
                            <a:lnTo>
                              <a:pt x="156" y="143"/>
                            </a:lnTo>
                            <a:lnTo>
                              <a:pt x="156" y="148"/>
                            </a:lnTo>
                            <a:lnTo>
                              <a:pt x="156" y="152"/>
                            </a:lnTo>
                            <a:lnTo>
                              <a:pt x="156" y="158"/>
                            </a:lnTo>
                            <a:lnTo>
                              <a:pt x="156" y="163"/>
                            </a:lnTo>
                            <a:lnTo>
                              <a:pt x="156" y="168"/>
                            </a:lnTo>
                            <a:lnTo>
                              <a:pt x="156" y="173"/>
                            </a:lnTo>
                            <a:lnTo>
                              <a:pt x="156" y="179"/>
                            </a:lnTo>
                            <a:lnTo>
                              <a:pt x="154" y="183"/>
                            </a:lnTo>
                            <a:lnTo>
                              <a:pt x="154" y="188"/>
                            </a:lnTo>
                            <a:lnTo>
                              <a:pt x="154" y="194"/>
                            </a:lnTo>
                            <a:lnTo>
                              <a:pt x="154" y="198"/>
                            </a:lnTo>
                            <a:lnTo>
                              <a:pt x="153" y="203"/>
                            </a:lnTo>
                            <a:lnTo>
                              <a:pt x="153" y="207"/>
                            </a:lnTo>
                            <a:lnTo>
                              <a:pt x="153" y="213"/>
                            </a:lnTo>
                            <a:lnTo>
                              <a:pt x="153" y="218"/>
                            </a:lnTo>
                            <a:lnTo>
                              <a:pt x="153" y="548"/>
                            </a:lnTo>
                            <a:lnTo>
                              <a:pt x="78" y="549"/>
                            </a:lnTo>
                            <a:lnTo>
                              <a:pt x="71" y="100"/>
                            </a:lnTo>
                            <a:lnTo>
                              <a:pt x="71" y="96"/>
                            </a:lnTo>
                            <a:lnTo>
                              <a:pt x="71" y="93"/>
                            </a:lnTo>
                            <a:lnTo>
                              <a:pt x="70" y="89"/>
                            </a:lnTo>
                            <a:lnTo>
                              <a:pt x="70" y="87"/>
                            </a:lnTo>
                            <a:lnTo>
                              <a:pt x="70" y="84"/>
                            </a:lnTo>
                            <a:lnTo>
                              <a:pt x="70" y="81"/>
                            </a:lnTo>
                            <a:lnTo>
                              <a:pt x="68" y="77"/>
                            </a:lnTo>
                            <a:lnTo>
                              <a:pt x="68" y="74"/>
                            </a:lnTo>
                            <a:lnTo>
                              <a:pt x="67" y="72"/>
                            </a:lnTo>
                            <a:lnTo>
                              <a:pt x="67" y="67"/>
                            </a:lnTo>
                            <a:lnTo>
                              <a:pt x="67" y="65"/>
                            </a:lnTo>
                            <a:lnTo>
                              <a:pt x="67" y="62"/>
                            </a:lnTo>
                            <a:lnTo>
                              <a:pt x="65" y="58"/>
                            </a:lnTo>
                            <a:lnTo>
                              <a:pt x="65" y="55"/>
                            </a:lnTo>
                            <a:lnTo>
                              <a:pt x="64" y="52"/>
                            </a:lnTo>
                            <a:lnTo>
                              <a:pt x="64" y="50"/>
                            </a:lnTo>
                            <a:lnTo>
                              <a:pt x="62" y="77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Freeform 155"/>
                      <p:cNvSpPr/>
                      <p:nvPr/>
                    </p:nvSpPr>
                    <p:spPr>
                      <a:xfrm>
                        <a:off x="2881080" y="2927520"/>
                        <a:ext cx="360" cy="19800"/>
                      </a:xfrm>
                      <a:custGeom>
                        <a:avLst/>
                        <a:gdLst>
                          <a:gd name="textAreaLeft" fmla="*/ 0 w 360"/>
                          <a:gd name="textAreaRight" fmla="*/ 720 w 36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8" h="199">
                            <a:moveTo>
                              <a:pt x="0" y="199"/>
                            </a:moveTo>
                            <a:lnTo>
                              <a:pt x="3" y="197"/>
                            </a:lnTo>
                            <a:lnTo>
                              <a:pt x="5" y="197"/>
                            </a:lnTo>
                            <a:lnTo>
                              <a:pt x="5" y="195"/>
                            </a:lnTo>
                            <a:lnTo>
                              <a:pt x="5" y="193"/>
                            </a:lnTo>
                            <a:lnTo>
                              <a:pt x="5" y="188"/>
                            </a:lnTo>
                            <a:lnTo>
                              <a:pt x="5" y="182"/>
                            </a:lnTo>
                            <a:lnTo>
                              <a:pt x="5" y="177"/>
                            </a:lnTo>
                            <a:lnTo>
                              <a:pt x="5" y="173"/>
                            </a:lnTo>
                            <a:lnTo>
                              <a:pt x="5" y="166"/>
                            </a:lnTo>
                            <a:lnTo>
                              <a:pt x="5" y="162"/>
                            </a:lnTo>
                            <a:lnTo>
                              <a:pt x="5" y="156"/>
                            </a:lnTo>
                            <a:lnTo>
                              <a:pt x="6" y="151"/>
                            </a:lnTo>
                            <a:lnTo>
                              <a:pt x="6" y="145"/>
                            </a:lnTo>
                            <a:lnTo>
                              <a:pt x="6" y="140"/>
                            </a:lnTo>
                            <a:lnTo>
                              <a:pt x="6" y="134"/>
                            </a:lnTo>
                            <a:lnTo>
                              <a:pt x="6" y="129"/>
                            </a:lnTo>
                            <a:lnTo>
                              <a:pt x="6" y="123"/>
                            </a:lnTo>
                            <a:lnTo>
                              <a:pt x="6" y="118"/>
                            </a:lnTo>
                            <a:lnTo>
                              <a:pt x="6" y="112"/>
                            </a:lnTo>
                            <a:lnTo>
                              <a:pt x="6" y="108"/>
                            </a:lnTo>
                            <a:lnTo>
                              <a:pt x="6" y="101"/>
                            </a:lnTo>
                            <a:lnTo>
                              <a:pt x="6" y="96"/>
                            </a:lnTo>
                            <a:lnTo>
                              <a:pt x="6" y="90"/>
                            </a:lnTo>
                            <a:lnTo>
                              <a:pt x="8" y="86"/>
                            </a:lnTo>
                            <a:lnTo>
                              <a:pt x="8" y="79"/>
                            </a:lnTo>
                            <a:lnTo>
                              <a:pt x="8" y="74"/>
                            </a:lnTo>
                            <a:lnTo>
                              <a:pt x="8" y="70"/>
                            </a:lnTo>
                            <a:lnTo>
                              <a:pt x="8" y="64"/>
                            </a:lnTo>
                            <a:lnTo>
                              <a:pt x="8" y="59"/>
                            </a:lnTo>
                            <a:lnTo>
                              <a:pt x="8" y="53"/>
                            </a:lnTo>
                            <a:lnTo>
                              <a:pt x="8" y="48"/>
                            </a:lnTo>
                            <a:lnTo>
                              <a:pt x="8" y="42"/>
                            </a:lnTo>
                            <a:lnTo>
                              <a:pt x="8" y="37"/>
                            </a:lnTo>
                            <a:lnTo>
                              <a:pt x="8" y="31"/>
                            </a:lnTo>
                            <a:lnTo>
                              <a:pt x="8" y="27"/>
                            </a:lnTo>
                            <a:lnTo>
                              <a:pt x="8" y="22"/>
                            </a:lnTo>
                            <a:lnTo>
                              <a:pt x="6" y="16"/>
                            </a:lnTo>
                            <a:lnTo>
                              <a:pt x="6" y="13"/>
                            </a:lnTo>
                            <a:lnTo>
                              <a:pt x="6" y="9"/>
                            </a:lnTo>
                            <a:lnTo>
                              <a:pt x="6" y="8"/>
                            </a:lnTo>
                            <a:lnTo>
                              <a:pt x="5" y="4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1" y="11"/>
                            </a:lnTo>
                            <a:lnTo>
                              <a:pt x="0" y="13"/>
                            </a:lnTo>
                            <a:lnTo>
                              <a:pt x="0" y="19"/>
                            </a:lnTo>
                            <a:lnTo>
                              <a:pt x="0" y="23"/>
                            </a:lnTo>
                            <a:lnTo>
                              <a:pt x="0" y="27"/>
                            </a:lnTo>
                            <a:lnTo>
                              <a:pt x="0" y="31"/>
                            </a:lnTo>
                            <a:lnTo>
                              <a:pt x="0" y="35"/>
                            </a:lnTo>
                            <a:lnTo>
                              <a:pt x="0" y="37"/>
                            </a:lnTo>
                            <a:lnTo>
                              <a:pt x="0" y="41"/>
                            </a:lnTo>
                            <a:lnTo>
                              <a:pt x="0" y="44"/>
                            </a:lnTo>
                            <a:lnTo>
                              <a:pt x="0" y="46"/>
                            </a:lnTo>
                            <a:lnTo>
                              <a:pt x="0" y="49"/>
                            </a:lnTo>
                            <a:lnTo>
                              <a:pt x="0" y="53"/>
                            </a:lnTo>
                            <a:lnTo>
                              <a:pt x="0" y="56"/>
                            </a:lnTo>
                            <a:lnTo>
                              <a:pt x="0" y="60"/>
                            </a:lnTo>
                            <a:lnTo>
                              <a:pt x="0" y="64"/>
                            </a:lnTo>
                            <a:lnTo>
                              <a:pt x="0" y="67"/>
                            </a:lnTo>
                            <a:lnTo>
                              <a:pt x="0" y="71"/>
                            </a:lnTo>
                            <a:lnTo>
                              <a:pt x="0" y="75"/>
                            </a:lnTo>
                            <a:lnTo>
                              <a:pt x="0" y="79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1" y="92"/>
                            </a:lnTo>
                            <a:lnTo>
                              <a:pt x="1" y="96"/>
                            </a:lnTo>
                            <a:lnTo>
                              <a:pt x="1" y="98"/>
                            </a:lnTo>
                            <a:lnTo>
                              <a:pt x="1" y="103"/>
                            </a:lnTo>
                            <a:lnTo>
                              <a:pt x="1" y="105"/>
                            </a:lnTo>
                            <a:lnTo>
                              <a:pt x="1" y="109"/>
                            </a:lnTo>
                            <a:lnTo>
                              <a:pt x="1" y="112"/>
                            </a:lnTo>
                            <a:lnTo>
                              <a:pt x="1" y="118"/>
                            </a:lnTo>
                            <a:lnTo>
                              <a:pt x="1" y="122"/>
                            </a:lnTo>
                            <a:lnTo>
                              <a:pt x="1" y="125"/>
                            </a:lnTo>
                            <a:lnTo>
                              <a:pt x="3" y="126"/>
                            </a:lnTo>
                            <a:lnTo>
                              <a:pt x="1" y="130"/>
                            </a:lnTo>
                            <a:lnTo>
                              <a:pt x="1" y="134"/>
                            </a:lnTo>
                            <a:lnTo>
                              <a:pt x="1" y="138"/>
                            </a:lnTo>
                            <a:lnTo>
                              <a:pt x="1" y="142"/>
                            </a:lnTo>
                            <a:lnTo>
                              <a:pt x="1" y="148"/>
                            </a:lnTo>
                            <a:lnTo>
                              <a:pt x="1" y="152"/>
                            </a:lnTo>
                            <a:lnTo>
                              <a:pt x="1" y="156"/>
                            </a:lnTo>
                            <a:lnTo>
                              <a:pt x="1" y="162"/>
                            </a:lnTo>
                            <a:lnTo>
                              <a:pt x="0" y="166"/>
                            </a:lnTo>
                            <a:lnTo>
                              <a:pt x="0" y="170"/>
                            </a:lnTo>
                            <a:lnTo>
                              <a:pt x="0" y="174"/>
                            </a:lnTo>
                            <a:lnTo>
                              <a:pt x="0" y="179"/>
                            </a:lnTo>
                            <a:lnTo>
                              <a:pt x="0" y="184"/>
                            </a:lnTo>
                            <a:lnTo>
                              <a:pt x="0" y="189"/>
                            </a:lnTo>
                            <a:lnTo>
                              <a:pt x="0" y="193"/>
                            </a:lnTo>
                            <a:lnTo>
                              <a:pt x="0" y="199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Freeform 156"/>
                      <p:cNvSpPr/>
                      <p:nvPr/>
                    </p:nvSpPr>
                    <p:spPr>
                      <a:xfrm>
                        <a:off x="2780280" y="2851560"/>
                        <a:ext cx="132120" cy="47160"/>
                      </a:xfrm>
                      <a:custGeom>
                        <a:avLst/>
                        <a:gdLst>
                          <a:gd name="textAreaLeft" fmla="*/ 0 w 132120"/>
                          <a:gd name="textAreaRight" fmla="*/ 132480 w 132120"/>
                          <a:gd name="textAreaTop" fmla="*/ 0 h 47160"/>
                          <a:gd name="textAreaBottom" fmla="*/ 47520 h 47160"/>
                        </a:gdLst>
                        <a:ahLst/>
                        <a:rect l="textAreaLeft" t="textAreaTop" r="textAreaRight" b="textAreaBottom"/>
                        <a:pathLst>
                          <a:path w="1466" h="469">
                            <a:moveTo>
                              <a:pt x="104" y="394"/>
                            </a:moveTo>
                            <a:lnTo>
                              <a:pt x="0" y="469"/>
                            </a:lnTo>
                            <a:lnTo>
                              <a:pt x="773" y="469"/>
                            </a:lnTo>
                            <a:lnTo>
                              <a:pt x="777" y="468"/>
                            </a:lnTo>
                            <a:lnTo>
                              <a:pt x="783" y="468"/>
                            </a:lnTo>
                            <a:lnTo>
                              <a:pt x="788" y="466"/>
                            </a:lnTo>
                            <a:lnTo>
                              <a:pt x="794" y="465"/>
                            </a:lnTo>
                            <a:lnTo>
                              <a:pt x="799" y="465"/>
                            </a:lnTo>
                            <a:lnTo>
                              <a:pt x="803" y="464"/>
                            </a:lnTo>
                            <a:lnTo>
                              <a:pt x="808" y="462"/>
                            </a:lnTo>
                            <a:lnTo>
                              <a:pt x="814" y="462"/>
                            </a:lnTo>
                            <a:lnTo>
                              <a:pt x="809" y="461"/>
                            </a:lnTo>
                            <a:lnTo>
                              <a:pt x="805" y="461"/>
                            </a:lnTo>
                            <a:lnTo>
                              <a:pt x="800" y="461"/>
                            </a:lnTo>
                            <a:lnTo>
                              <a:pt x="797" y="461"/>
                            </a:lnTo>
                            <a:lnTo>
                              <a:pt x="791" y="460"/>
                            </a:lnTo>
                            <a:lnTo>
                              <a:pt x="786" y="460"/>
                            </a:lnTo>
                            <a:lnTo>
                              <a:pt x="783" y="460"/>
                            </a:lnTo>
                            <a:lnTo>
                              <a:pt x="779" y="460"/>
                            </a:lnTo>
                            <a:lnTo>
                              <a:pt x="774" y="458"/>
                            </a:lnTo>
                            <a:lnTo>
                              <a:pt x="770" y="458"/>
                            </a:lnTo>
                            <a:lnTo>
                              <a:pt x="765" y="458"/>
                            </a:lnTo>
                            <a:lnTo>
                              <a:pt x="762" y="458"/>
                            </a:lnTo>
                            <a:lnTo>
                              <a:pt x="757" y="458"/>
                            </a:lnTo>
                            <a:lnTo>
                              <a:pt x="753" y="458"/>
                            </a:lnTo>
                            <a:lnTo>
                              <a:pt x="748" y="458"/>
                            </a:lnTo>
                            <a:lnTo>
                              <a:pt x="745" y="458"/>
                            </a:lnTo>
                            <a:lnTo>
                              <a:pt x="739" y="458"/>
                            </a:lnTo>
                            <a:lnTo>
                              <a:pt x="736" y="458"/>
                            </a:lnTo>
                            <a:lnTo>
                              <a:pt x="731" y="458"/>
                            </a:lnTo>
                            <a:lnTo>
                              <a:pt x="727" y="458"/>
                            </a:lnTo>
                            <a:lnTo>
                              <a:pt x="722" y="458"/>
                            </a:lnTo>
                            <a:lnTo>
                              <a:pt x="718" y="458"/>
                            </a:lnTo>
                            <a:lnTo>
                              <a:pt x="713" y="458"/>
                            </a:lnTo>
                            <a:lnTo>
                              <a:pt x="708" y="458"/>
                            </a:lnTo>
                            <a:lnTo>
                              <a:pt x="704" y="458"/>
                            </a:lnTo>
                            <a:lnTo>
                              <a:pt x="699" y="458"/>
                            </a:lnTo>
                            <a:lnTo>
                              <a:pt x="695" y="458"/>
                            </a:lnTo>
                            <a:lnTo>
                              <a:pt x="692" y="458"/>
                            </a:lnTo>
                            <a:lnTo>
                              <a:pt x="687" y="458"/>
                            </a:lnTo>
                            <a:lnTo>
                              <a:pt x="682" y="458"/>
                            </a:lnTo>
                            <a:lnTo>
                              <a:pt x="678" y="458"/>
                            </a:lnTo>
                            <a:lnTo>
                              <a:pt x="673" y="458"/>
                            </a:lnTo>
                            <a:lnTo>
                              <a:pt x="669" y="458"/>
                            </a:lnTo>
                            <a:lnTo>
                              <a:pt x="664" y="458"/>
                            </a:lnTo>
                            <a:lnTo>
                              <a:pt x="659" y="458"/>
                            </a:lnTo>
                            <a:lnTo>
                              <a:pt x="655" y="458"/>
                            </a:lnTo>
                            <a:lnTo>
                              <a:pt x="650" y="458"/>
                            </a:lnTo>
                            <a:lnTo>
                              <a:pt x="647" y="458"/>
                            </a:lnTo>
                            <a:lnTo>
                              <a:pt x="641" y="458"/>
                            </a:lnTo>
                            <a:lnTo>
                              <a:pt x="638" y="460"/>
                            </a:lnTo>
                            <a:lnTo>
                              <a:pt x="633" y="460"/>
                            </a:lnTo>
                            <a:lnTo>
                              <a:pt x="629" y="460"/>
                            </a:lnTo>
                            <a:lnTo>
                              <a:pt x="623" y="460"/>
                            </a:lnTo>
                            <a:lnTo>
                              <a:pt x="620" y="460"/>
                            </a:lnTo>
                            <a:lnTo>
                              <a:pt x="614" y="460"/>
                            </a:lnTo>
                            <a:lnTo>
                              <a:pt x="611" y="460"/>
                            </a:lnTo>
                            <a:lnTo>
                              <a:pt x="604" y="460"/>
                            </a:lnTo>
                            <a:lnTo>
                              <a:pt x="601" y="461"/>
                            </a:lnTo>
                            <a:lnTo>
                              <a:pt x="597" y="461"/>
                            </a:lnTo>
                            <a:lnTo>
                              <a:pt x="592" y="461"/>
                            </a:lnTo>
                            <a:lnTo>
                              <a:pt x="588" y="461"/>
                            </a:lnTo>
                            <a:lnTo>
                              <a:pt x="583" y="461"/>
                            </a:lnTo>
                            <a:lnTo>
                              <a:pt x="577" y="461"/>
                            </a:lnTo>
                            <a:lnTo>
                              <a:pt x="574" y="461"/>
                            </a:lnTo>
                            <a:lnTo>
                              <a:pt x="569" y="461"/>
                            </a:lnTo>
                            <a:lnTo>
                              <a:pt x="565" y="461"/>
                            </a:lnTo>
                            <a:lnTo>
                              <a:pt x="560" y="461"/>
                            </a:lnTo>
                            <a:lnTo>
                              <a:pt x="555" y="461"/>
                            </a:lnTo>
                            <a:lnTo>
                              <a:pt x="551" y="461"/>
                            </a:lnTo>
                            <a:lnTo>
                              <a:pt x="546" y="461"/>
                            </a:lnTo>
                            <a:lnTo>
                              <a:pt x="542" y="461"/>
                            </a:lnTo>
                            <a:lnTo>
                              <a:pt x="537" y="461"/>
                            </a:lnTo>
                            <a:lnTo>
                              <a:pt x="533" y="461"/>
                            </a:lnTo>
                            <a:lnTo>
                              <a:pt x="528" y="462"/>
                            </a:lnTo>
                            <a:lnTo>
                              <a:pt x="523" y="461"/>
                            </a:lnTo>
                            <a:lnTo>
                              <a:pt x="519" y="461"/>
                            </a:lnTo>
                            <a:lnTo>
                              <a:pt x="513" y="461"/>
                            </a:lnTo>
                            <a:lnTo>
                              <a:pt x="508" y="461"/>
                            </a:lnTo>
                            <a:lnTo>
                              <a:pt x="502" y="461"/>
                            </a:lnTo>
                            <a:lnTo>
                              <a:pt x="496" y="460"/>
                            </a:lnTo>
                            <a:lnTo>
                              <a:pt x="491" y="460"/>
                            </a:lnTo>
                            <a:lnTo>
                              <a:pt x="485" y="460"/>
                            </a:lnTo>
                            <a:lnTo>
                              <a:pt x="490" y="458"/>
                            </a:lnTo>
                            <a:lnTo>
                              <a:pt x="496" y="458"/>
                            </a:lnTo>
                            <a:lnTo>
                              <a:pt x="499" y="458"/>
                            </a:lnTo>
                            <a:lnTo>
                              <a:pt x="502" y="458"/>
                            </a:lnTo>
                            <a:lnTo>
                              <a:pt x="507" y="458"/>
                            </a:lnTo>
                            <a:lnTo>
                              <a:pt x="513" y="458"/>
                            </a:lnTo>
                            <a:lnTo>
                              <a:pt x="516" y="458"/>
                            </a:lnTo>
                            <a:lnTo>
                              <a:pt x="520" y="458"/>
                            </a:lnTo>
                            <a:lnTo>
                              <a:pt x="526" y="458"/>
                            </a:lnTo>
                            <a:lnTo>
                              <a:pt x="531" y="458"/>
                            </a:lnTo>
                            <a:lnTo>
                              <a:pt x="537" y="458"/>
                            </a:lnTo>
                            <a:lnTo>
                              <a:pt x="543" y="458"/>
                            </a:lnTo>
                            <a:lnTo>
                              <a:pt x="548" y="458"/>
                            </a:lnTo>
                            <a:lnTo>
                              <a:pt x="554" y="458"/>
                            </a:lnTo>
                            <a:lnTo>
                              <a:pt x="559" y="458"/>
                            </a:lnTo>
                            <a:lnTo>
                              <a:pt x="565" y="458"/>
                            </a:lnTo>
                            <a:lnTo>
                              <a:pt x="569" y="458"/>
                            </a:lnTo>
                            <a:lnTo>
                              <a:pt x="574" y="458"/>
                            </a:lnTo>
                            <a:lnTo>
                              <a:pt x="580" y="458"/>
                            </a:lnTo>
                            <a:lnTo>
                              <a:pt x="585" y="458"/>
                            </a:lnTo>
                            <a:lnTo>
                              <a:pt x="589" y="458"/>
                            </a:lnTo>
                            <a:lnTo>
                              <a:pt x="594" y="458"/>
                            </a:lnTo>
                            <a:lnTo>
                              <a:pt x="598" y="458"/>
                            </a:lnTo>
                            <a:lnTo>
                              <a:pt x="601" y="457"/>
                            </a:lnTo>
                            <a:lnTo>
                              <a:pt x="604" y="457"/>
                            </a:lnTo>
                            <a:lnTo>
                              <a:pt x="607" y="455"/>
                            </a:lnTo>
                            <a:lnTo>
                              <a:pt x="614" y="454"/>
                            </a:lnTo>
                            <a:lnTo>
                              <a:pt x="617" y="453"/>
                            </a:lnTo>
                            <a:lnTo>
                              <a:pt x="615" y="453"/>
                            </a:lnTo>
                            <a:lnTo>
                              <a:pt x="612" y="451"/>
                            </a:lnTo>
                            <a:lnTo>
                              <a:pt x="607" y="451"/>
                            </a:lnTo>
                            <a:lnTo>
                              <a:pt x="603" y="451"/>
                            </a:lnTo>
                            <a:lnTo>
                              <a:pt x="600" y="451"/>
                            </a:lnTo>
                            <a:lnTo>
                              <a:pt x="597" y="451"/>
                            </a:lnTo>
                            <a:lnTo>
                              <a:pt x="594" y="451"/>
                            </a:lnTo>
                            <a:lnTo>
                              <a:pt x="591" y="451"/>
                            </a:lnTo>
                            <a:lnTo>
                              <a:pt x="588" y="451"/>
                            </a:lnTo>
                            <a:lnTo>
                              <a:pt x="583" y="451"/>
                            </a:lnTo>
                            <a:lnTo>
                              <a:pt x="580" y="451"/>
                            </a:lnTo>
                            <a:lnTo>
                              <a:pt x="577" y="451"/>
                            </a:lnTo>
                            <a:lnTo>
                              <a:pt x="571" y="451"/>
                            </a:lnTo>
                            <a:lnTo>
                              <a:pt x="568" y="451"/>
                            </a:lnTo>
                            <a:lnTo>
                              <a:pt x="563" y="451"/>
                            </a:lnTo>
                            <a:lnTo>
                              <a:pt x="559" y="451"/>
                            </a:lnTo>
                            <a:lnTo>
                              <a:pt x="554" y="451"/>
                            </a:lnTo>
                            <a:lnTo>
                              <a:pt x="549" y="451"/>
                            </a:lnTo>
                            <a:lnTo>
                              <a:pt x="543" y="451"/>
                            </a:lnTo>
                            <a:lnTo>
                              <a:pt x="540" y="451"/>
                            </a:lnTo>
                            <a:lnTo>
                              <a:pt x="534" y="451"/>
                            </a:lnTo>
                            <a:lnTo>
                              <a:pt x="529" y="451"/>
                            </a:lnTo>
                            <a:lnTo>
                              <a:pt x="523" y="451"/>
                            </a:lnTo>
                            <a:lnTo>
                              <a:pt x="519" y="451"/>
                            </a:lnTo>
                            <a:lnTo>
                              <a:pt x="513" y="451"/>
                            </a:lnTo>
                            <a:lnTo>
                              <a:pt x="508" y="451"/>
                            </a:lnTo>
                            <a:lnTo>
                              <a:pt x="502" y="451"/>
                            </a:lnTo>
                            <a:lnTo>
                              <a:pt x="497" y="451"/>
                            </a:lnTo>
                            <a:lnTo>
                              <a:pt x="491" y="451"/>
                            </a:lnTo>
                            <a:lnTo>
                              <a:pt x="487" y="451"/>
                            </a:lnTo>
                            <a:lnTo>
                              <a:pt x="481" y="451"/>
                            </a:lnTo>
                            <a:lnTo>
                              <a:pt x="474" y="451"/>
                            </a:lnTo>
                            <a:lnTo>
                              <a:pt x="470" y="451"/>
                            </a:lnTo>
                            <a:lnTo>
                              <a:pt x="464" y="451"/>
                            </a:lnTo>
                            <a:lnTo>
                              <a:pt x="459" y="451"/>
                            </a:lnTo>
                            <a:lnTo>
                              <a:pt x="455" y="451"/>
                            </a:lnTo>
                            <a:lnTo>
                              <a:pt x="448" y="451"/>
                            </a:lnTo>
                            <a:lnTo>
                              <a:pt x="444" y="451"/>
                            </a:lnTo>
                            <a:lnTo>
                              <a:pt x="438" y="451"/>
                            </a:lnTo>
                            <a:lnTo>
                              <a:pt x="433" y="453"/>
                            </a:lnTo>
                            <a:lnTo>
                              <a:pt x="429" y="453"/>
                            </a:lnTo>
                            <a:lnTo>
                              <a:pt x="424" y="453"/>
                            </a:lnTo>
                            <a:lnTo>
                              <a:pt x="419" y="453"/>
                            </a:lnTo>
                            <a:lnTo>
                              <a:pt x="416" y="453"/>
                            </a:lnTo>
                            <a:lnTo>
                              <a:pt x="410" y="453"/>
                            </a:lnTo>
                            <a:lnTo>
                              <a:pt x="407" y="453"/>
                            </a:lnTo>
                            <a:lnTo>
                              <a:pt x="403" y="453"/>
                            </a:lnTo>
                            <a:lnTo>
                              <a:pt x="399" y="453"/>
                            </a:lnTo>
                            <a:lnTo>
                              <a:pt x="395" y="453"/>
                            </a:lnTo>
                            <a:lnTo>
                              <a:pt x="392" y="454"/>
                            </a:lnTo>
                            <a:lnTo>
                              <a:pt x="389" y="454"/>
                            </a:lnTo>
                            <a:lnTo>
                              <a:pt x="386" y="454"/>
                            </a:lnTo>
                            <a:lnTo>
                              <a:pt x="380" y="454"/>
                            </a:lnTo>
                            <a:lnTo>
                              <a:pt x="375" y="454"/>
                            </a:lnTo>
                            <a:lnTo>
                              <a:pt x="372" y="455"/>
                            </a:lnTo>
                            <a:lnTo>
                              <a:pt x="369" y="455"/>
                            </a:lnTo>
                            <a:lnTo>
                              <a:pt x="375" y="454"/>
                            </a:lnTo>
                            <a:lnTo>
                              <a:pt x="380" y="453"/>
                            </a:lnTo>
                            <a:lnTo>
                              <a:pt x="386" y="451"/>
                            </a:lnTo>
                            <a:lnTo>
                              <a:pt x="390" y="451"/>
                            </a:lnTo>
                            <a:lnTo>
                              <a:pt x="395" y="450"/>
                            </a:lnTo>
                            <a:lnTo>
                              <a:pt x="399" y="450"/>
                            </a:lnTo>
                            <a:lnTo>
                              <a:pt x="406" y="449"/>
                            </a:lnTo>
                            <a:lnTo>
                              <a:pt x="410" y="449"/>
                            </a:lnTo>
                            <a:lnTo>
                              <a:pt x="415" y="449"/>
                            </a:lnTo>
                            <a:lnTo>
                              <a:pt x="419" y="449"/>
                            </a:lnTo>
                            <a:lnTo>
                              <a:pt x="424" y="447"/>
                            </a:lnTo>
                            <a:lnTo>
                              <a:pt x="429" y="447"/>
                            </a:lnTo>
                            <a:lnTo>
                              <a:pt x="433" y="447"/>
                            </a:lnTo>
                            <a:lnTo>
                              <a:pt x="438" y="447"/>
                            </a:lnTo>
                            <a:lnTo>
                              <a:pt x="441" y="447"/>
                            </a:lnTo>
                            <a:lnTo>
                              <a:pt x="447" y="447"/>
                            </a:lnTo>
                            <a:lnTo>
                              <a:pt x="450" y="446"/>
                            </a:lnTo>
                            <a:lnTo>
                              <a:pt x="455" y="446"/>
                            </a:lnTo>
                            <a:lnTo>
                              <a:pt x="459" y="446"/>
                            </a:lnTo>
                            <a:lnTo>
                              <a:pt x="464" y="446"/>
                            </a:lnTo>
                            <a:lnTo>
                              <a:pt x="468" y="446"/>
                            </a:lnTo>
                            <a:lnTo>
                              <a:pt x="473" y="446"/>
                            </a:lnTo>
                            <a:lnTo>
                              <a:pt x="477" y="446"/>
                            </a:lnTo>
                            <a:lnTo>
                              <a:pt x="482" y="446"/>
                            </a:lnTo>
                            <a:lnTo>
                              <a:pt x="487" y="446"/>
                            </a:lnTo>
                            <a:lnTo>
                              <a:pt x="491" y="446"/>
                            </a:lnTo>
                            <a:lnTo>
                              <a:pt x="496" y="446"/>
                            </a:lnTo>
                            <a:lnTo>
                              <a:pt x="502" y="446"/>
                            </a:lnTo>
                            <a:lnTo>
                              <a:pt x="507" y="444"/>
                            </a:lnTo>
                            <a:lnTo>
                              <a:pt x="511" y="444"/>
                            </a:lnTo>
                            <a:lnTo>
                              <a:pt x="517" y="444"/>
                            </a:lnTo>
                            <a:lnTo>
                              <a:pt x="523" y="444"/>
                            </a:lnTo>
                            <a:lnTo>
                              <a:pt x="528" y="443"/>
                            </a:lnTo>
                            <a:lnTo>
                              <a:pt x="533" y="443"/>
                            </a:lnTo>
                            <a:lnTo>
                              <a:pt x="539" y="443"/>
                            </a:lnTo>
                            <a:lnTo>
                              <a:pt x="543" y="443"/>
                            </a:lnTo>
                            <a:lnTo>
                              <a:pt x="549" y="442"/>
                            </a:lnTo>
                            <a:lnTo>
                              <a:pt x="554" y="442"/>
                            </a:lnTo>
                            <a:lnTo>
                              <a:pt x="559" y="442"/>
                            </a:lnTo>
                            <a:lnTo>
                              <a:pt x="565" y="442"/>
                            </a:lnTo>
                            <a:lnTo>
                              <a:pt x="569" y="442"/>
                            </a:lnTo>
                            <a:lnTo>
                              <a:pt x="574" y="442"/>
                            </a:lnTo>
                            <a:lnTo>
                              <a:pt x="580" y="442"/>
                            </a:lnTo>
                            <a:lnTo>
                              <a:pt x="585" y="442"/>
                            </a:lnTo>
                            <a:lnTo>
                              <a:pt x="591" y="442"/>
                            </a:lnTo>
                            <a:lnTo>
                              <a:pt x="595" y="442"/>
                            </a:lnTo>
                            <a:lnTo>
                              <a:pt x="600" y="442"/>
                            </a:lnTo>
                            <a:lnTo>
                              <a:pt x="606" y="442"/>
                            </a:lnTo>
                            <a:lnTo>
                              <a:pt x="611" y="440"/>
                            </a:lnTo>
                            <a:lnTo>
                              <a:pt x="615" y="440"/>
                            </a:lnTo>
                            <a:lnTo>
                              <a:pt x="621" y="440"/>
                            </a:lnTo>
                            <a:lnTo>
                              <a:pt x="626" y="440"/>
                            </a:lnTo>
                            <a:lnTo>
                              <a:pt x="632" y="439"/>
                            </a:lnTo>
                            <a:lnTo>
                              <a:pt x="637" y="439"/>
                            </a:lnTo>
                            <a:lnTo>
                              <a:pt x="641" y="439"/>
                            </a:lnTo>
                            <a:lnTo>
                              <a:pt x="647" y="439"/>
                            </a:lnTo>
                            <a:lnTo>
                              <a:pt x="652" y="439"/>
                            </a:lnTo>
                            <a:lnTo>
                              <a:pt x="656" y="439"/>
                            </a:lnTo>
                            <a:lnTo>
                              <a:pt x="663" y="438"/>
                            </a:lnTo>
                            <a:lnTo>
                              <a:pt x="667" y="438"/>
                            </a:lnTo>
                            <a:lnTo>
                              <a:pt x="673" y="438"/>
                            </a:lnTo>
                            <a:lnTo>
                              <a:pt x="678" y="438"/>
                            </a:lnTo>
                            <a:lnTo>
                              <a:pt x="682" y="438"/>
                            </a:lnTo>
                            <a:lnTo>
                              <a:pt x="689" y="438"/>
                            </a:lnTo>
                            <a:lnTo>
                              <a:pt x="693" y="436"/>
                            </a:lnTo>
                            <a:lnTo>
                              <a:pt x="698" y="436"/>
                            </a:lnTo>
                            <a:lnTo>
                              <a:pt x="702" y="436"/>
                            </a:lnTo>
                            <a:lnTo>
                              <a:pt x="708" y="436"/>
                            </a:lnTo>
                            <a:lnTo>
                              <a:pt x="713" y="435"/>
                            </a:lnTo>
                            <a:lnTo>
                              <a:pt x="718" y="435"/>
                            </a:lnTo>
                            <a:lnTo>
                              <a:pt x="724" y="435"/>
                            </a:lnTo>
                            <a:lnTo>
                              <a:pt x="728" y="435"/>
                            </a:lnTo>
                            <a:lnTo>
                              <a:pt x="733" y="435"/>
                            </a:lnTo>
                            <a:lnTo>
                              <a:pt x="739" y="433"/>
                            </a:lnTo>
                            <a:lnTo>
                              <a:pt x="744" y="433"/>
                            </a:lnTo>
                            <a:lnTo>
                              <a:pt x="750" y="433"/>
                            </a:lnTo>
                            <a:lnTo>
                              <a:pt x="754" y="433"/>
                            </a:lnTo>
                            <a:lnTo>
                              <a:pt x="759" y="433"/>
                            </a:lnTo>
                            <a:lnTo>
                              <a:pt x="764" y="433"/>
                            </a:lnTo>
                            <a:lnTo>
                              <a:pt x="770" y="433"/>
                            </a:lnTo>
                            <a:lnTo>
                              <a:pt x="774" y="432"/>
                            </a:lnTo>
                            <a:lnTo>
                              <a:pt x="780" y="432"/>
                            </a:lnTo>
                            <a:lnTo>
                              <a:pt x="783" y="432"/>
                            </a:lnTo>
                            <a:lnTo>
                              <a:pt x="790" y="432"/>
                            </a:lnTo>
                            <a:lnTo>
                              <a:pt x="794" y="431"/>
                            </a:lnTo>
                            <a:lnTo>
                              <a:pt x="800" y="431"/>
                            </a:lnTo>
                            <a:lnTo>
                              <a:pt x="805" y="431"/>
                            </a:lnTo>
                            <a:lnTo>
                              <a:pt x="811" y="431"/>
                            </a:lnTo>
                            <a:lnTo>
                              <a:pt x="816" y="431"/>
                            </a:lnTo>
                            <a:lnTo>
                              <a:pt x="820" y="431"/>
                            </a:lnTo>
                            <a:lnTo>
                              <a:pt x="825" y="431"/>
                            </a:lnTo>
                            <a:lnTo>
                              <a:pt x="831" y="431"/>
                            </a:lnTo>
                            <a:lnTo>
                              <a:pt x="835" y="431"/>
                            </a:lnTo>
                            <a:lnTo>
                              <a:pt x="842" y="431"/>
                            </a:lnTo>
                            <a:lnTo>
                              <a:pt x="846" y="431"/>
                            </a:lnTo>
                            <a:lnTo>
                              <a:pt x="852" y="431"/>
                            </a:lnTo>
                            <a:lnTo>
                              <a:pt x="855" y="429"/>
                            </a:lnTo>
                            <a:lnTo>
                              <a:pt x="860" y="429"/>
                            </a:lnTo>
                            <a:lnTo>
                              <a:pt x="863" y="428"/>
                            </a:lnTo>
                            <a:lnTo>
                              <a:pt x="866" y="428"/>
                            </a:lnTo>
                            <a:lnTo>
                              <a:pt x="871" y="428"/>
                            </a:lnTo>
                            <a:lnTo>
                              <a:pt x="874" y="427"/>
                            </a:lnTo>
                            <a:lnTo>
                              <a:pt x="878" y="427"/>
                            </a:lnTo>
                            <a:lnTo>
                              <a:pt x="883" y="427"/>
                            </a:lnTo>
                            <a:lnTo>
                              <a:pt x="877" y="425"/>
                            </a:lnTo>
                            <a:lnTo>
                              <a:pt x="871" y="424"/>
                            </a:lnTo>
                            <a:lnTo>
                              <a:pt x="866" y="424"/>
                            </a:lnTo>
                            <a:lnTo>
                              <a:pt x="860" y="424"/>
                            </a:lnTo>
                            <a:lnTo>
                              <a:pt x="855" y="424"/>
                            </a:lnTo>
                            <a:lnTo>
                              <a:pt x="849" y="422"/>
                            </a:lnTo>
                            <a:lnTo>
                              <a:pt x="843" y="422"/>
                            </a:lnTo>
                            <a:lnTo>
                              <a:pt x="838" y="422"/>
                            </a:lnTo>
                            <a:lnTo>
                              <a:pt x="831" y="422"/>
                            </a:lnTo>
                            <a:lnTo>
                              <a:pt x="826" y="422"/>
                            </a:lnTo>
                            <a:lnTo>
                              <a:pt x="820" y="421"/>
                            </a:lnTo>
                            <a:lnTo>
                              <a:pt x="814" y="421"/>
                            </a:lnTo>
                            <a:lnTo>
                              <a:pt x="808" y="421"/>
                            </a:lnTo>
                            <a:lnTo>
                              <a:pt x="802" y="421"/>
                            </a:lnTo>
                            <a:lnTo>
                              <a:pt x="796" y="421"/>
                            </a:lnTo>
                            <a:lnTo>
                              <a:pt x="790" y="421"/>
                            </a:lnTo>
                            <a:lnTo>
                              <a:pt x="783" y="421"/>
                            </a:lnTo>
                            <a:lnTo>
                              <a:pt x="777" y="421"/>
                            </a:lnTo>
                            <a:lnTo>
                              <a:pt x="770" y="421"/>
                            </a:lnTo>
                            <a:lnTo>
                              <a:pt x="764" y="421"/>
                            </a:lnTo>
                            <a:lnTo>
                              <a:pt x="757" y="421"/>
                            </a:lnTo>
                            <a:lnTo>
                              <a:pt x="751" y="421"/>
                            </a:lnTo>
                            <a:lnTo>
                              <a:pt x="745" y="421"/>
                            </a:lnTo>
                            <a:lnTo>
                              <a:pt x="739" y="421"/>
                            </a:lnTo>
                            <a:lnTo>
                              <a:pt x="731" y="421"/>
                            </a:lnTo>
                            <a:lnTo>
                              <a:pt x="725" y="421"/>
                            </a:lnTo>
                            <a:lnTo>
                              <a:pt x="718" y="421"/>
                            </a:lnTo>
                            <a:lnTo>
                              <a:pt x="711" y="421"/>
                            </a:lnTo>
                            <a:lnTo>
                              <a:pt x="705" y="421"/>
                            </a:lnTo>
                            <a:lnTo>
                              <a:pt x="699" y="421"/>
                            </a:lnTo>
                            <a:lnTo>
                              <a:pt x="693" y="421"/>
                            </a:lnTo>
                            <a:lnTo>
                              <a:pt x="687" y="422"/>
                            </a:lnTo>
                            <a:lnTo>
                              <a:pt x="679" y="422"/>
                            </a:lnTo>
                            <a:lnTo>
                              <a:pt x="673" y="422"/>
                            </a:lnTo>
                            <a:lnTo>
                              <a:pt x="667" y="422"/>
                            </a:lnTo>
                            <a:lnTo>
                              <a:pt x="659" y="422"/>
                            </a:lnTo>
                            <a:lnTo>
                              <a:pt x="653" y="422"/>
                            </a:lnTo>
                            <a:lnTo>
                              <a:pt x="647" y="422"/>
                            </a:lnTo>
                            <a:lnTo>
                              <a:pt x="640" y="422"/>
                            </a:lnTo>
                            <a:lnTo>
                              <a:pt x="633" y="422"/>
                            </a:lnTo>
                            <a:lnTo>
                              <a:pt x="627" y="422"/>
                            </a:lnTo>
                            <a:lnTo>
                              <a:pt x="621" y="422"/>
                            </a:lnTo>
                            <a:lnTo>
                              <a:pt x="615" y="422"/>
                            </a:lnTo>
                            <a:lnTo>
                              <a:pt x="607" y="424"/>
                            </a:lnTo>
                            <a:lnTo>
                              <a:pt x="601" y="424"/>
                            </a:lnTo>
                            <a:lnTo>
                              <a:pt x="595" y="424"/>
                            </a:lnTo>
                            <a:lnTo>
                              <a:pt x="589" y="424"/>
                            </a:lnTo>
                            <a:lnTo>
                              <a:pt x="585" y="424"/>
                            </a:lnTo>
                            <a:lnTo>
                              <a:pt x="577" y="424"/>
                            </a:lnTo>
                            <a:lnTo>
                              <a:pt x="571" y="424"/>
                            </a:lnTo>
                            <a:lnTo>
                              <a:pt x="565" y="424"/>
                            </a:lnTo>
                            <a:lnTo>
                              <a:pt x="560" y="424"/>
                            </a:lnTo>
                            <a:lnTo>
                              <a:pt x="554" y="424"/>
                            </a:lnTo>
                            <a:lnTo>
                              <a:pt x="548" y="424"/>
                            </a:lnTo>
                            <a:lnTo>
                              <a:pt x="543" y="424"/>
                            </a:lnTo>
                            <a:lnTo>
                              <a:pt x="537" y="425"/>
                            </a:lnTo>
                            <a:lnTo>
                              <a:pt x="531" y="425"/>
                            </a:lnTo>
                            <a:lnTo>
                              <a:pt x="526" y="425"/>
                            </a:lnTo>
                            <a:lnTo>
                              <a:pt x="520" y="425"/>
                            </a:lnTo>
                            <a:lnTo>
                              <a:pt x="516" y="425"/>
                            </a:lnTo>
                            <a:lnTo>
                              <a:pt x="510" y="425"/>
                            </a:lnTo>
                            <a:lnTo>
                              <a:pt x="505" y="425"/>
                            </a:lnTo>
                            <a:lnTo>
                              <a:pt x="500" y="425"/>
                            </a:lnTo>
                            <a:lnTo>
                              <a:pt x="496" y="427"/>
                            </a:lnTo>
                            <a:lnTo>
                              <a:pt x="491" y="427"/>
                            </a:lnTo>
                            <a:lnTo>
                              <a:pt x="488" y="427"/>
                            </a:lnTo>
                            <a:lnTo>
                              <a:pt x="485" y="427"/>
                            </a:lnTo>
                            <a:lnTo>
                              <a:pt x="482" y="427"/>
                            </a:lnTo>
                            <a:lnTo>
                              <a:pt x="477" y="427"/>
                            </a:lnTo>
                            <a:lnTo>
                              <a:pt x="474" y="427"/>
                            </a:lnTo>
                            <a:lnTo>
                              <a:pt x="470" y="427"/>
                            </a:lnTo>
                            <a:lnTo>
                              <a:pt x="467" y="427"/>
                            </a:lnTo>
                            <a:lnTo>
                              <a:pt x="462" y="427"/>
                            </a:lnTo>
                            <a:lnTo>
                              <a:pt x="458" y="427"/>
                            </a:lnTo>
                            <a:lnTo>
                              <a:pt x="455" y="427"/>
                            </a:lnTo>
                            <a:lnTo>
                              <a:pt x="450" y="427"/>
                            </a:lnTo>
                            <a:lnTo>
                              <a:pt x="447" y="427"/>
                            </a:lnTo>
                            <a:lnTo>
                              <a:pt x="442" y="427"/>
                            </a:lnTo>
                            <a:lnTo>
                              <a:pt x="439" y="427"/>
                            </a:lnTo>
                            <a:lnTo>
                              <a:pt x="435" y="427"/>
                            </a:lnTo>
                            <a:lnTo>
                              <a:pt x="430" y="427"/>
                            </a:lnTo>
                            <a:lnTo>
                              <a:pt x="427" y="427"/>
                            </a:lnTo>
                            <a:lnTo>
                              <a:pt x="422" y="427"/>
                            </a:lnTo>
                            <a:lnTo>
                              <a:pt x="419" y="427"/>
                            </a:lnTo>
                            <a:lnTo>
                              <a:pt x="415" y="427"/>
                            </a:lnTo>
                            <a:lnTo>
                              <a:pt x="410" y="427"/>
                            </a:lnTo>
                            <a:lnTo>
                              <a:pt x="407" y="427"/>
                            </a:lnTo>
                            <a:lnTo>
                              <a:pt x="403" y="427"/>
                            </a:lnTo>
                            <a:lnTo>
                              <a:pt x="398" y="427"/>
                            </a:lnTo>
                            <a:lnTo>
                              <a:pt x="395" y="427"/>
                            </a:lnTo>
                            <a:lnTo>
                              <a:pt x="390" y="427"/>
                            </a:lnTo>
                            <a:lnTo>
                              <a:pt x="387" y="427"/>
                            </a:lnTo>
                            <a:lnTo>
                              <a:pt x="383" y="427"/>
                            </a:lnTo>
                            <a:lnTo>
                              <a:pt x="380" y="427"/>
                            </a:lnTo>
                            <a:lnTo>
                              <a:pt x="375" y="427"/>
                            </a:lnTo>
                            <a:lnTo>
                              <a:pt x="372" y="427"/>
                            </a:lnTo>
                            <a:lnTo>
                              <a:pt x="410" y="414"/>
                            </a:lnTo>
                            <a:lnTo>
                              <a:pt x="713" y="407"/>
                            </a:lnTo>
                            <a:lnTo>
                              <a:pt x="759" y="401"/>
                            </a:lnTo>
                            <a:lnTo>
                              <a:pt x="750" y="401"/>
                            </a:lnTo>
                            <a:lnTo>
                              <a:pt x="742" y="401"/>
                            </a:lnTo>
                            <a:lnTo>
                              <a:pt x="733" y="401"/>
                            </a:lnTo>
                            <a:lnTo>
                              <a:pt x="725" y="402"/>
                            </a:lnTo>
                            <a:lnTo>
                              <a:pt x="716" y="402"/>
                            </a:lnTo>
                            <a:lnTo>
                              <a:pt x="708" y="402"/>
                            </a:lnTo>
                            <a:lnTo>
                              <a:pt x="699" y="402"/>
                            </a:lnTo>
                            <a:lnTo>
                              <a:pt x="692" y="402"/>
                            </a:lnTo>
                            <a:lnTo>
                              <a:pt x="682" y="402"/>
                            </a:lnTo>
                            <a:lnTo>
                              <a:pt x="675" y="402"/>
                            </a:lnTo>
                            <a:lnTo>
                              <a:pt x="666" y="402"/>
                            </a:lnTo>
                            <a:lnTo>
                              <a:pt x="658" y="402"/>
                            </a:lnTo>
                            <a:lnTo>
                              <a:pt x="649" y="402"/>
                            </a:lnTo>
                            <a:lnTo>
                              <a:pt x="641" y="402"/>
                            </a:lnTo>
                            <a:lnTo>
                              <a:pt x="633" y="402"/>
                            </a:lnTo>
                            <a:lnTo>
                              <a:pt x="624" y="402"/>
                            </a:lnTo>
                            <a:lnTo>
                              <a:pt x="615" y="402"/>
                            </a:lnTo>
                            <a:lnTo>
                              <a:pt x="607" y="402"/>
                            </a:lnTo>
                            <a:lnTo>
                              <a:pt x="598" y="402"/>
                            </a:lnTo>
                            <a:lnTo>
                              <a:pt x="591" y="402"/>
                            </a:lnTo>
                            <a:lnTo>
                              <a:pt x="581" y="402"/>
                            </a:lnTo>
                            <a:lnTo>
                              <a:pt x="574" y="402"/>
                            </a:lnTo>
                            <a:lnTo>
                              <a:pt x="565" y="402"/>
                            </a:lnTo>
                            <a:lnTo>
                              <a:pt x="557" y="402"/>
                            </a:lnTo>
                            <a:lnTo>
                              <a:pt x="548" y="402"/>
                            </a:lnTo>
                            <a:lnTo>
                              <a:pt x="539" y="402"/>
                            </a:lnTo>
                            <a:lnTo>
                              <a:pt x="529" y="402"/>
                            </a:lnTo>
                            <a:lnTo>
                              <a:pt x="522" y="402"/>
                            </a:lnTo>
                            <a:lnTo>
                              <a:pt x="513" y="402"/>
                            </a:lnTo>
                            <a:lnTo>
                              <a:pt x="505" y="402"/>
                            </a:lnTo>
                            <a:lnTo>
                              <a:pt x="496" y="402"/>
                            </a:lnTo>
                            <a:lnTo>
                              <a:pt x="488" y="402"/>
                            </a:lnTo>
                            <a:lnTo>
                              <a:pt x="479" y="401"/>
                            </a:lnTo>
                            <a:lnTo>
                              <a:pt x="471" y="401"/>
                            </a:lnTo>
                            <a:lnTo>
                              <a:pt x="462" y="401"/>
                            </a:lnTo>
                            <a:lnTo>
                              <a:pt x="455" y="401"/>
                            </a:lnTo>
                            <a:lnTo>
                              <a:pt x="444" y="399"/>
                            </a:lnTo>
                            <a:lnTo>
                              <a:pt x="436" y="399"/>
                            </a:lnTo>
                            <a:lnTo>
                              <a:pt x="427" y="399"/>
                            </a:lnTo>
                            <a:lnTo>
                              <a:pt x="419" y="399"/>
                            </a:lnTo>
                            <a:lnTo>
                              <a:pt x="410" y="399"/>
                            </a:lnTo>
                            <a:lnTo>
                              <a:pt x="403" y="399"/>
                            </a:lnTo>
                            <a:lnTo>
                              <a:pt x="393" y="399"/>
                            </a:lnTo>
                            <a:lnTo>
                              <a:pt x="386" y="399"/>
                            </a:lnTo>
                            <a:lnTo>
                              <a:pt x="377" y="399"/>
                            </a:lnTo>
                            <a:lnTo>
                              <a:pt x="369" y="399"/>
                            </a:lnTo>
                            <a:lnTo>
                              <a:pt x="360" y="399"/>
                            </a:lnTo>
                            <a:lnTo>
                              <a:pt x="352" y="399"/>
                            </a:lnTo>
                            <a:lnTo>
                              <a:pt x="343" y="398"/>
                            </a:lnTo>
                            <a:lnTo>
                              <a:pt x="335" y="398"/>
                            </a:lnTo>
                            <a:lnTo>
                              <a:pt x="326" y="396"/>
                            </a:lnTo>
                            <a:lnTo>
                              <a:pt x="318" y="396"/>
                            </a:lnTo>
                            <a:lnTo>
                              <a:pt x="309" y="396"/>
                            </a:lnTo>
                            <a:lnTo>
                              <a:pt x="302" y="396"/>
                            </a:lnTo>
                            <a:lnTo>
                              <a:pt x="294" y="396"/>
                            </a:lnTo>
                            <a:lnTo>
                              <a:pt x="285" y="396"/>
                            </a:lnTo>
                            <a:lnTo>
                              <a:pt x="276" y="396"/>
                            </a:lnTo>
                            <a:lnTo>
                              <a:pt x="268" y="395"/>
                            </a:lnTo>
                            <a:lnTo>
                              <a:pt x="260" y="395"/>
                            </a:lnTo>
                            <a:lnTo>
                              <a:pt x="253" y="395"/>
                            </a:lnTo>
                            <a:lnTo>
                              <a:pt x="245" y="394"/>
                            </a:lnTo>
                            <a:lnTo>
                              <a:pt x="236" y="394"/>
                            </a:lnTo>
                            <a:lnTo>
                              <a:pt x="228" y="394"/>
                            </a:lnTo>
                            <a:lnTo>
                              <a:pt x="220" y="394"/>
                            </a:lnTo>
                            <a:lnTo>
                              <a:pt x="228" y="390"/>
                            </a:lnTo>
                            <a:lnTo>
                              <a:pt x="234" y="384"/>
                            </a:lnTo>
                            <a:lnTo>
                              <a:pt x="242" y="379"/>
                            </a:lnTo>
                            <a:lnTo>
                              <a:pt x="250" y="374"/>
                            </a:lnTo>
                            <a:lnTo>
                              <a:pt x="257" y="369"/>
                            </a:lnTo>
                            <a:lnTo>
                              <a:pt x="265" y="365"/>
                            </a:lnTo>
                            <a:lnTo>
                              <a:pt x="272" y="359"/>
                            </a:lnTo>
                            <a:lnTo>
                              <a:pt x="280" y="355"/>
                            </a:lnTo>
                            <a:lnTo>
                              <a:pt x="288" y="350"/>
                            </a:lnTo>
                            <a:lnTo>
                              <a:pt x="295" y="344"/>
                            </a:lnTo>
                            <a:lnTo>
                              <a:pt x="303" y="340"/>
                            </a:lnTo>
                            <a:lnTo>
                              <a:pt x="311" y="335"/>
                            </a:lnTo>
                            <a:lnTo>
                              <a:pt x="317" y="331"/>
                            </a:lnTo>
                            <a:lnTo>
                              <a:pt x="324" y="325"/>
                            </a:lnTo>
                            <a:lnTo>
                              <a:pt x="332" y="321"/>
                            </a:lnTo>
                            <a:lnTo>
                              <a:pt x="340" y="315"/>
                            </a:lnTo>
                            <a:lnTo>
                              <a:pt x="347" y="311"/>
                            </a:lnTo>
                            <a:lnTo>
                              <a:pt x="355" y="306"/>
                            </a:lnTo>
                            <a:lnTo>
                              <a:pt x="363" y="300"/>
                            </a:lnTo>
                            <a:lnTo>
                              <a:pt x="370" y="296"/>
                            </a:lnTo>
                            <a:lnTo>
                              <a:pt x="378" y="291"/>
                            </a:lnTo>
                            <a:lnTo>
                              <a:pt x="386" y="287"/>
                            </a:lnTo>
                            <a:lnTo>
                              <a:pt x="393" y="281"/>
                            </a:lnTo>
                            <a:lnTo>
                              <a:pt x="401" y="277"/>
                            </a:lnTo>
                            <a:lnTo>
                              <a:pt x="409" y="273"/>
                            </a:lnTo>
                            <a:lnTo>
                              <a:pt x="416" y="267"/>
                            </a:lnTo>
                            <a:lnTo>
                              <a:pt x="424" y="262"/>
                            </a:lnTo>
                            <a:lnTo>
                              <a:pt x="432" y="258"/>
                            </a:lnTo>
                            <a:lnTo>
                              <a:pt x="439" y="252"/>
                            </a:lnTo>
                            <a:lnTo>
                              <a:pt x="447" y="248"/>
                            </a:lnTo>
                            <a:lnTo>
                              <a:pt x="455" y="243"/>
                            </a:lnTo>
                            <a:lnTo>
                              <a:pt x="462" y="239"/>
                            </a:lnTo>
                            <a:lnTo>
                              <a:pt x="470" y="233"/>
                            </a:lnTo>
                            <a:lnTo>
                              <a:pt x="477" y="229"/>
                            </a:lnTo>
                            <a:lnTo>
                              <a:pt x="485" y="223"/>
                            </a:lnTo>
                            <a:lnTo>
                              <a:pt x="491" y="219"/>
                            </a:lnTo>
                            <a:lnTo>
                              <a:pt x="499" y="214"/>
                            </a:lnTo>
                            <a:lnTo>
                              <a:pt x="507" y="210"/>
                            </a:lnTo>
                            <a:lnTo>
                              <a:pt x="514" y="204"/>
                            </a:lnTo>
                            <a:lnTo>
                              <a:pt x="522" y="200"/>
                            </a:lnTo>
                            <a:lnTo>
                              <a:pt x="529" y="195"/>
                            </a:lnTo>
                            <a:lnTo>
                              <a:pt x="537" y="189"/>
                            </a:lnTo>
                            <a:lnTo>
                              <a:pt x="545" y="185"/>
                            </a:lnTo>
                            <a:lnTo>
                              <a:pt x="552" y="181"/>
                            </a:lnTo>
                            <a:lnTo>
                              <a:pt x="560" y="175"/>
                            </a:lnTo>
                            <a:lnTo>
                              <a:pt x="568" y="170"/>
                            </a:lnTo>
                            <a:lnTo>
                              <a:pt x="575" y="166"/>
                            </a:lnTo>
                            <a:lnTo>
                              <a:pt x="583" y="162"/>
                            </a:lnTo>
                            <a:lnTo>
                              <a:pt x="591" y="156"/>
                            </a:lnTo>
                            <a:lnTo>
                              <a:pt x="598" y="151"/>
                            </a:lnTo>
                            <a:lnTo>
                              <a:pt x="606" y="147"/>
                            </a:lnTo>
                            <a:lnTo>
                              <a:pt x="614" y="142"/>
                            </a:lnTo>
                            <a:lnTo>
                              <a:pt x="621" y="137"/>
                            </a:lnTo>
                            <a:lnTo>
                              <a:pt x="629" y="133"/>
                            </a:lnTo>
                            <a:lnTo>
                              <a:pt x="637" y="127"/>
                            </a:lnTo>
                            <a:lnTo>
                              <a:pt x="644" y="123"/>
                            </a:lnTo>
                            <a:lnTo>
                              <a:pt x="652" y="118"/>
                            </a:lnTo>
                            <a:lnTo>
                              <a:pt x="659" y="114"/>
                            </a:lnTo>
                            <a:lnTo>
                              <a:pt x="667" y="108"/>
                            </a:lnTo>
                            <a:lnTo>
                              <a:pt x="675" y="104"/>
                            </a:lnTo>
                            <a:lnTo>
                              <a:pt x="682" y="99"/>
                            </a:lnTo>
                            <a:lnTo>
                              <a:pt x="690" y="94"/>
                            </a:lnTo>
                            <a:lnTo>
                              <a:pt x="698" y="90"/>
                            </a:lnTo>
                            <a:lnTo>
                              <a:pt x="705" y="86"/>
                            </a:lnTo>
                            <a:lnTo>
                              <a:pt x="713" y="90"/>
                            </a:lnTo>
                            <a:lnTo>
                              <a:pt x="722" y="96"/>
                            </a:lnTo>
                            <a:lnTo>
                              <a:pt x="730" y="101"/>
                            </a:lnTo>
                            <a:lnTo>
                              <a:pt x="739" y="107"/>
                            </a:lnTo>
                            <a:lnTo>
                              <a:pt x="747" y="112"/>
                            </a:lnTo>
                            <a:lnTo>
                              <a:pt x="754" y="118"/>
                            </a:lnTo>
                            <a:lnTo>
                              <a:pt x="762" y="122"/>
                            </a:lnTo>
                            <a:lnTo>
                              <a:pt x="770" y="127"/>
                            </a:lnTo>
                            <a:lnTo>
                              <a:pt x="777" y="131"/>
                            </a:lnTo>
                            <a:lnTo>
                              <a:pt x="783" y="136"/>
                            </a:lnTo>
                            <a:lnTo>
                              <a:pt x="791" y="140"/>
                            </a:lnTo>
                            <a:lnTo>
                              <a:pt x="799" y="145"/>
                            </a:lnTo>
                            <a:lnTo>
                              <a:pt x="805" y="149"/>
                            </a:lnTo>
                            <a:lnTo>
                              <a:pt x="811" y="153"/>
                            </a:lnTo>
                            <a:lnTo>
                              <a:pt x="819" y="158"/>
                            </a:lnTo>
                            <a:lnTo>
                              <a:pt x="825" y="162"/>
                            </a:lnTo>
                            <a:lnTo>
                              <a:pt x="831" y="166"/>
                            </a:lnTo>
                            <a:lnTo>
                              <a:pt x="837" y="170"/>
                            </a:lnTo>
                            <a:lnTo>
                              <a:pt x="843" y="173"/>
                            </a:lnTo>
                            <a:lnTo>
                              <a:pt x="849" y="177"/>
                            </a:lnTo>
                            <a:lnTo>
                              <a:pt x="855" y="181"/>
                            </a:lnTo>
                            <a:lnTo>
                              <a:pt x="861" y="185"/>
                            </a:lnTo>
                            <a:lnTo>
                              <a:pt x="868" y="188"/>
                            </a:lnTo>
                            <a:lnTo>
                              <a:pt x="874" y="192"/>
                            </a:lnTo>
                            <a:lnTo>
                              <a:pt x="880" y="196"/>
                            </a:lnTo>
                            <a:lnTo>
                              <a:pt x="886" y="199"/>
                            </a:lnTo>
                            <a:lnTo>
                              <a:pt x="890" y="203"/>
                            </a:lnTo>
                            <a:lnTo>
                              <a:pt x="897" y="207"/>
                            </a:lnTo>
                            <a:lnTo>
                              <a:pt x="903" y="210"/>
                            </a:lnTo>
                            <a:lnTo>
                              <a:pt x="909" y="214"/>
                            </a:lnTo>
                            <a:lnTo>
                              <a:pt x="915" y="217"/>
                            </a:lnTo>
                            <a:lnTo>
                              <a:pt x="921" y="221"/>
                            </a:lnTo>
                            <a:lnTo>
                              <a:pt x="927" y="225"/>
                            </a:lnTo>
                            <a:lnTo>
                              <a:pt x="932" y="228"/>
                            </a:lnTo>
                            <a:lnTo>
                              <a:pt x="938" y="232"/>
                            </a:lnTo>
                            <a:lnTo>
                              <a:pt x="944" y="234"/>
                            </a:lnTo>
                            <a:lnTo>
                              <a:pt x="949" y="239"/>
                            </a:lnTo>
                            <a:lnTo>
                              <a:pt x="955" y="241"/>
                            </a:lnTo>
                            <a:lnTo>
                              <a:pt x="961" y="245"/>
                            </a:lnTo>
                            <a:lnTo>
                              <a:pt x="967" y="250"/>
                            </a:lnTo>
                            <a:lnTo>
                              <a:pt x="973" y="252"/>
                            </a:lnTo>
                            <a:lnTo>
                              <a:pt x="979" y="256"/>
                            </a:lnTo>
                            <a:lnTo>
                              <a:pt x="985" y="261"/>
                            </a:lnTo>
                            <a:lnTo>
                              <a:pt x="991" y="263"/>
                            </a:lnTo>
                            <a:lnTo>
                              <a:pt x="998" y="267"/>
                            </a:lnTo>
                            <a:lnTo>
                              <a:pt x="1004" y="271"/>
                            </a:lnTo>
                            <a:lnTo>
                              <a:pt x="1010" y="276"/>
                            </a:lnTo>
                            <a:lnTo>
                              <a:pt x="1017" y="280"/>
                            </a:lnTo>
                            <a:lnTo>
                              <a:pt x="1024" y="282"/>
                            </a:lnTo>
                            <a:lnTo>
                              <a:pt x="1031" y="288"/>
                            </a:lnTo>
                            <a:lnTo>
                              <a:pt x="1037" y="291"/>
                            </a:lnTo>
                            <a:lnTo>
                              <a:pt x="1045" y="296"/>
                            </a:lnTo>
                            <a:lnTo>
                              <a:pt x="1053" y="300"/>
                            </a:lnTo>
                            <a:lnTo>
                              <a:pt x="1060" y="304"/>
                            </a:lnTo>
                            <a:lnTo>
                              <a:pt x="1068" y="309"/>
                            </a:lnTo>
                            <a:lnTo>
                              <a:pt x="1076" y="314"/>
                            </a:lnTo>
                            <a:lnTo>
                              <a:pt x="1083" y="318"/>
                            </a:lnTo>
                            <a:lnTo>
                              <a:pt x="1092" y="322"/>
                            </a:lnTo>
                            <a:lnTo>
                              <a:pt x="1100" y="328"/>
                            </a:lnTo>
                            <a:lnTo>
                              <a:pt x="1109" y="333"/>
                            </a:lnTo>
                            <a:lnTo>
                              <a:pt x="1117" y="339"/>
                            </a:lnTo>
                            <a:lnTo>
                              <a:pt x="1126" y="344"/>
                            </a:lnTo>
                            <a:lnTo>
                              <a:pt x="1135" y="350"/>
                            </a:lnTo>
                            <a:lnTo>
                              <a:pt x="1144" y="355"/>
                            </a:lnTo>
                            <a:lnTo>
                              <a:pt x="1140" y="355"/>
                            </a:lnTo>
                            <a:lnTo>
                              <a:pt x="1134" y="355"/>
                            </a:lnTo>
                            <a:lnTo>
                              <a:pt x="1129" y="355"/>
                            </a:lnTo>
                            <a:lnTo>
                              <a:pt x="1123" y="355"/>
                            </a:lnTo>
                            <a:lnTo>
                              <a:pt x="1118" y="355"/>
                            </a:lnTo>
                            <a:lnTo>
                              <a:pt x="1112" y="355"/>
                            </a:lnTo>
                            <a:lnTo>
                              <a:pt x="1106" y="355"/>
                            </a:lnTo>
                            <a:lnTo>
                              <a:pt x="1102" y="357"/>
                            </a:lnTo>
                            <a:lnTo>
                              <a:pt x="1095" y="357"/>
                            </a:lnTo>
                            <a:lnTo>
                              <a:pt x="1089" y="357"/>
                            </a:lnTo>
                            <a:lnTo>
                              <a:pt x="1083" y="357"/>
                            </a:lnTo>
                            <a:lnTo>
                              <a:pt x="1077" y="357"/>
                            </a:lnTo>
                            <a:lnTo>
                              <a:pt x="1071" y="357"/>
                            </a:lnTo>
                            <a:lnTo>
                              <a:pt x="1065" y="357"/>
                            </a:lnTo>
                            <a:lnTo>
                              <a:pt x="1057" y="357"/>
                            </a:lnTo>
                            <a:lnTo>
                              <a:pt x="1053" y="357"/>
                            </a:lnTo>
                            <a:lnTo>
                              <a:pt x="1045" y="357"/>
                            </a:lnTo>
                            <a:lnTo>
                              <a:pt x="1039" y="357"/>
                            </a:lnTo>
                            <a:lnTo>
                              <a:pt x="1033" y="357"/>
                            </a:lnTo>
                            <a:lnTo>
                              <a:pt x="1027" y="357"/>
                            </a:lnTo>
                            <a:lnTo>
                              <a:pt x="1019" y="357"/>
                            </a:lnTo>
                            <a:lnTo>
                              <a:pt x="1013" y="357"/>
                            </a:lnTo>
                            <a:lnTo>
                              <a:pt x="1007" y="357"/>
                            </a:lnTo>
                            <a:lnTo>
                              <a:pt x="1001" y="357"/>
                            </a:lnTo>
                            <a:lnTo>
                              <a:pt x="993" y="357"/>
                            </a:lnTo>
                            <a:lnTo>
                              <a:pt x="987" y="357"/>
                            </a:lnTo>
                            <a:lnTo>
                              <a:pt x="979" y="357"/>
                            </a:lnTo>
                            <a:lnTo>
                              <a:pt x="972" y="357"/>
                            </a:lnTo>
                            <a:lnTo>
                              <a:pt x="965" y="357"/>
                            </a:lnTo>
                            <a:lnTo>
                              <a:pt x="958" y="357"/>
                            </a:lnTo>
                            <a:lnTo>
                              <a:pt x="952" y="357"/>
                            </a:lnTo>
                            <a:lnTo>
                              <a:pt x="946" y="358"/>
                            </a:lnTo>
                            <a:lnTo>
                              <a:pt x="938" y="358"/>
                            </a:lnTo>
                            <a:lnTo>
                              <a:pt x="932" y="358"/>
                            </a:lnTo>
                            <a:lnTo>
                              <a:pt x="924" y="358"/>
                            </a:lnTo>
                            <a:lnTo>
                              <a:pt x="918" y="358"/>
                            </a:lnTo>
                            <a:lnTo>
                              <a:pt x="910" y="358"/>
                            </a:lnTo>
                            <a:lnTo>
                              <a:pt x="904" y="358"/>
                            </a:lnTo>
                            <a:lnTo>
                              <a:pt x="897" y="358"/>
                            </a:lnTo>
                            <a:lnTo>
                              <a:pt x="890" y="359"/>
                            </a:lnTo>
                            <a:lnTo>
                              <a:pt x="884" y="359"/>
                            </a:lnTo>
                            <a:lnTo>
                              <a:pt x="878" y="359"/>
                            </a:lnTo>
                            <a:lnTo>
                              <a:pt x="871" y="359"/>
                            </a:lnTo>
                            <a:lnTo>
                              <a:pt x="864" y="359"/>
                            </a:lnTo>
                            <a:lnTo>
                              <a:pt x="858" y="359"/>
                            </a:lnTo>
                            <a:lnTo>
                              <a:pt x="852" y="361"/>
                            </a:lnTo>
                            <a:lnTo>
                              <a:pt x="846" y="361"/>
                            </a:lnTo>
                            <a:lnTo>
                              <a:pt x="842" y="362"/>
                            </a:lnTo>
                            <a:lnTo>
                              <a:pt x="835" y="362"/>
                            </a:lnTo>
                            <a:lnTo>
                              <a:pt x="828" y="362"/>
                            </a:lnTo>
                            <a:lnTo>
                              <a:pt x="823" y="362"/>
                            </a:lnTo>
                            <a:lnTo>
                              <a:pt x="817" y="363"/>
                            </a:lnTo>
                            <a:lnTo>
                              <a:pt x="811" y="363"/>
                            </a:lnTo>
                            <a:lnTo>
                              <a:pt x="805" y="365"/>
                            </a:lnTo>
                            <a:lnTo>
                              <a:pt x="800" y="365"/>
                            </a:lnTo>
                            <a:lnTo>
                              <a:pt x="796" y="366"/>
                            </a:lnTo>
                            <a:lnTo>
                              <a:pt x="790" y="366"/>
                            </a:lnTo>
                            <a:lnTo>
                              <a:pt x="785" y="368"/>
                            </a:lnTo>
                            <a:lnTo>
                              <a:pt x="780" y="369"/>
                            </a:lnTo>
                            <a:lnTo>
                              <a:pt x="776" y="369"/>
                            </a:lnTo>
                            <a:lnTo>
                              <a:pt x="770" y="370"/>
                            </a:lnTo>
                            <a:lnTo>
                              <a:pt x="767" y="372"/>
                            </a:lnTo>
                            <a:lnTo>
                              <a:pt x="762" y="372"/>
                            </a:lnTo>
                            <a:lnTo>
                              <a:pt x="759" y="374"/>
                            </a:lnTo>
                            <a:lnTo>
                              <a:pt x="1054" y="368"/>
                            </a:lnTo>
                            <a:lnTo>
                              <a:pt x="872" y="399"/>
                            </a:lnTo>
                            <a:lnTo>
                              <a:pt x="874" y="399"/>
                            </a:lnTo>
                            <a:lnTo>
                              <a:pt x="877" y="399"/>
                            </a:lnTo>
                            <a:lnTo>
                              <a:pt x="880" y="399"/>
                            </a:lnTo>
                            <a:lnTo>
                              <a:pt x="884" y="399"/>
                            </a:lnTo>
                            <a:lnTo>
                              <a:pt x="890" y="399"/>
                            </a:lnTo>
                            <a:lnTo>
                              <a:pt x="892" y="399"/>
                            </a:lnTo>
                            <a:lnTo>
                              <a:pt x="895" y="399"/>
                            </a:lnTo>
                            <a:lnTo>
                              <a:pt x="900" y="399"/>
                            </a:lnTo>
                            <a:lnTo>
                              <a:pt x="903" y="399"/>
                            </a:lnTo>
                            <a:lnTo>
                              <a:pt x="906" y="399"/>
                            </a:lnTo>
                            <a:lnTo>
                              <a:pt x="910" y="399"/>
                            </a:lnTo>
                            <a:lnTo>
                              <a:pt x="913" y="399"/>
                            </a:lnTo>
                            <a:lnTo>
                              <a:pt x="918" y="399"/>
                            </a:lnTo>
                            <a:lnTo>
                              <a:pt x="921" y="399"/>
                            </a:lnTo>
                            <a:lnTo>
                              <a:pt x="926" y="399"/>
                            </a:lnTo>
                            <a:lnTo>
                              <a:pt x="930" y="399"/>
                            </a:lnTo>
                            <a:lnTo>
                              <a:pt x="935" y="399"/>
                            </a:lnTo>
                            <a:lnTo>
                              <a:pt x="938" y="399"/>
                            </a:lnTo>
                            <a:lnTo>
                              <a:pt x="944" y="399"/>
                            </a:lnTo>
                            <a:lnTo>
                              <a:pt x="949" y="399"/>
                            </a:lnTo>
                            <a:lnTo>
                              <a:pt x="953" y="399"/>
                            </a:lnTo>
                            <a:lnTo>
                              <a:pt x="958" y="399"/>
                            </a:lnTo>
                            <a:lnTo>
                              <a:pt x="962" y="399"/>
                            </a:lnTo>
                            <a:lnTo>
                              <a:pt x="967" y="399"/>
                            </a:lnTo>
                            <a:lnTo>
                              <a:pt x="972" y="399"/>
                            </a:lnTo>
                            <a:lnTo>
                              <a:pt x="976" y="399"/>
                            </a:lnTo>
                            <a:lnTo>
                              <a:pt x="981" y="399"/>
                            </a:lnTo>
                            <a:lnTo>
                              <a:pt x="985" y="399"/>
                            </a:lnTo>
                            <a:lnTo>
                              <a:pt x="990" y="399"/>
                            </a:lnTo>
                            <a:lnTo>
                              <a:pt x="994" y="399"/>
                            </a:lnTo>
                            <a:lnTo>
                              <a:pt x="999" y="399"/>
                            </a:lnTo>
                            <a:lnTo>
                              <a:pt x="1004" y="399"/>
                            </a:lnTo>
                            <a:lnTo>
                              <a:pt x="1008" y="399"/>
                            </a:lnTo>
                            <a:lnTo>
                              <a:pt x="1011" y="399"/>
                            </a:lnTo>
                            <a:lnTo>
                              <a:pt x="1016" y="399"/>
                            </a:lnTo>
                            <a:lnTo>
                              <a:pt x="1020" y="399"/>
                            </a:lnTo>
                            <a:lnTo>
                              <a:pt x="1025" y="399"/>
                            </a:lnTo>
                            <a:lnTo>
                              <a:pt x="1028" y="399"/>
                            </a:lnTo>
                            <a:lnTo>
                              <a:pt x="1033" y="399"/>
                            </a:lnTo>
                            <a:lnTo>
                              <a:pt x="1036" y="399"/>
                            </a:lnTo>
                            <a:lnTo>
                              <a:pt x="1040" y="399"/>
                            </a:lnTo>
                            <a:lnTo>
                              <a:pt x="1046" y="399"/>
                            </a:lnTo>
                            <a:lnTo>
                              <a:pt x="1053" y="399"/>
                            </a:lnTo>
                            <a:lnTo>
                              <a:pt x="1057" y="399"/>
                            </a:lnTo>
                            <a:lnTo>
                              <a:pt x="1063" y="399"/>
                            </a:lnTo>
                            <a:lnTo>
                              <a:pt x="1066" y="399"/>
                            </a:lnTo>
                            <a:lnTo>
                              <a:pt x="1069" y="399"/>
                            </a:lnTo>
                            <a:lnTo>
                              <a:pt x="1071" y="399"/>
                            </a:lnTo>
                            <a:lnTo>
                              <a:pt x="1068" y="401"/>
                            </a:lnTo>
                            <a:lnTo>
                              <a:pt x="1063" y="402"/>
                            </a:lnTo>
                            <a:lnTo>
                              <a:pt x="1060" y="403"/>
                            </a:lnTo>
                            <a:lnTo>
                              <a:pt x="1056" y="406"/>
                            </a:lnTo>
                            <a:lnTo>
                              <a:pt x="1050" y="406"/>
                            </a:lnTo>
                            <a:lnTo>
                              <a:pt x="1043" y="406"/>
                            </a:lnTo>
                            <a:lnTo>
                              <a:pt x="1037" y="407"/>
                            </a:lnTo>
                            <a:lnTo>
                              <a:pt x="1031" y="409"/>
                            </a:lnTo>
                            <a:lnTo>
                              <a:pt x="1024" y="409"/>
                            </a:lnTo>
                            <a:lnTo>
                              <a:pt x="1017" y="409"/>
                            </a:lnTo>
                            <a:lnTo>
                              <a:pt x="1011" y="410"/>
                            </a:lnTo>
                            <a:lnTo>
                              <a:pt x="1005" y="412"/>
                            </a:lnTo>
                            <a:lnTo>
                              <a:pt x="999" y="412"/>
                            </a:lnTo>
                            <a:lnTo>
                              <a:pt x="993" y="412"/>
                            </a:lnTo>
                            <a:lnTo>
                              <a:pt x="987" y="412"/>
                            </a:lnTo>
                            <a:lnTo>
                              <a:pt x="979" y="413"/>
                            </a:lnTo>
                            <a:lnTo>
                              <a:pt x="973" y="414"/>
                            </a:lnTo>
                            <a:lnTo>
                              <a:pt x="967" y="414"/>
                            </a:lnTo>
                            <a:lnTo>
                              <a:pt x="961" y="416"/>
                            </a:lnTo>
                            <a:lnTo>
                              <a:pt x="955" y="417"/>
                            </a:lnTo>
                            <a:lnTo>
                              <a:pt x="953" y="418"/>
                            </a:lnTo>
                            <a:lnTo>
                              <a:pt x="952" y="420"/>
                            </a:lnTo>
                            <a:lnTo>
                              <a:pt x="947" y="421"/>
                            </a:lnTo>
                            <a:lnTo>
                              <a:pt x="944" y="424"/>
                            </a:lnTo>
                            <a:lnTo>
                              <a:pt x="938" y="424"/>
                            </a:lnTo>
                            <a:lnTo>
                              <a:pt x="932" y="427"/>
                            </a:lnTo>
                            <a:lnTo>
                              <a:pt x="926" y="427"/>
                            </a:lnTo>
                            <a:lnTo>
                              <a:pt x="920" y="429"/>
                            </a:lnTo>
                            <a:lnTo>
                              <a:pt x="915" y="429"/>
                            </a:lnTo>
                            <a:lnTo>
                              <a:pt x="910" y="429"/>
                            </a:lnTo>
                            <a:lnTo>
                              <a:pt x="907" y="429"/>
                            </a:lnTo>
                            <a:lnTo>
                              <a:pt x="903" y="431"/>
                            </a:lnTo>
                            <a:lnTo>
                              <a:pt x="898" y="432"/>
                            </a:lnTo>
                            <a:lnTo>
                              <a:pt x="894" y="432"/>
                            </a:lnTo>
                            <a:lnTo>
                              <a:pt x="890" y="433"/>
                            </a:lnTo>
                            <a:lnTo>
                              <a:pt x="886" y="433"/>
                            </a:lnTo>
                            <a:lnTo>
                              <a:pt x="881" y="433"/>
                            </a:lnTo>
                            <a:lnTo>
                              <a:pt x="877" y="435"/>
                            </a:lnTo>
                            <a:lnTo>
                              <a:pt x="872" y="435"/>
                            </a:lnTo>
                            <a:lnTo>
                              <a:pt x="868" y="436"/>
                            </a:lnTo>
                            <a:lnTo>
                              <a:pt x="863" y="436"/>
                            </a:lnTo>
                            <a:lnTo>
                              <a:pt x="858" y="436"/>
                            </a:lnTo>
                            <a:lnTo>
                              <a:pt x="854" y="438"/>
                            </a:lnTo>
                            <a:lnTo>
                              <a:pt x="849" y="439"/>
                            </a:lnTo>
                            <a:lnTo>
                              <a:pt x="845" y="439"/>
                            </a:lnTo>
                            <a:lnTo>
                              <a:pt x="840" y="439"/>
                            </a:lnTo>
                            <a:lnTo>
                              <a:pt x="835" y="439"/>
                            </a:lnTo>
                            <a:lnTo>
                              <a:pt x="831" y="440"/>
                            </a:lnTo>
                            <a:lnTo>
                              <a:pt x="825" y="440"/>
                            </a:lnTo>
                            <a:lnTo>
                              <a:pt x="822" y="440"/>
                            </a:lnTo>
                            <a:lnTo>
                              <a:pt x="816" y="442"/>
                            </a:lnTo>
                            <a:lnTo>
                              <a:pt x="812" y="442"/>
                            </a:lnTo>
                            <a:lnTo>
                              <a:pt x="808" y="442"/>
                            </a:lnTo>
                            <a:lnTo>
                              <a:pt x="803" y="442"/>
                            </a:lnTo>
                            <a:lnTo>
                              <a:pt x="799" y="443"/>
                            </a:lnTo>
                            <a:lnTo>
                              <a:pt x="794" y="443"/>
                            </a:lnTo>
                            <a:lnTo>
                              <a:pt x="791" y="443"/>
                            </a:lnTo>
                            <a:lnTo>
                              <a:pt x="786" y="444"/>
                            </a:lnTo>
                            <a:lnTo>
                              <a:pt x="783" y="444"/>
                            </a:lnTo>
                            <a:lnTo>
                              <a:pt x="780" y="446"/>
                            </a:lnTo>
                            <a:lnTo>
                              <a:pt x="776" y="446"/>
                            </a:lnTo>
                            <a:lnTo>
                              <a:pt x="773" y="446"/>
                            </a:lnTo>
                            <a:lnTo>
                              <a:pt x="770" y="446"/>
                            </a:lnTo>
                            <a:lnTo>
                              <a:pt x="767" y="446"/>
                            </a:lnTo>
                            <a:lnTo>
                              <a:pt x="760" y="447"/>
                            </a:lnTo>
                            <a:lnTo>
                              <a:pt x="756" y="449"/>
                            </a:lnTo>
                            <a:lnTo>
                              <a:pt x="751" y="449"/>
                            </a:lnTo>
                            <a:lnTo>
                              <a:pt x="750" y="449"/>
                            </a:lnTo>
                            <a:lnTo>
                              <a:pt x="747" y="450"/>
                            </a:lnTo>
                            <a:lnTo>
                              <a:pt x="747" y="451"/>
                            </a:lnTo>
                            <a:lnTo>
                              <a:pt x="1121" y="439"/>
                            </a:lnTo>
                            <a:lnTo>
                              <a:pt x="1117" y="442"/>
                            </a:lnTo>
                            <a:lnTo>
                              <a:pt x="1112" y="443"/>
                            </a:lnTo>
                            <a:lnTo>
                              <a:pt x="1106" y="444"/>
                            </a:lnTo>
                            <a:lnTo>
                              <a:pt x="1102" y="446"/>
                            </a:lnTo>
                            <a:lnTo>
                              <a:pt x="1095" y="449"/>
                            </a:lnTo>
                            <a:lnTo>
                              <a:pt x="1091" y="450"/>
                            </a:lnTo>
                            <a:lnTo>
                              <a:pt x="1086" y="451"/>
                            </a:lnTo>
                            <a:lnTo>
                              <a:pt x="1082" y="453"/>
                            </a:lnTo>
                            <a:lnTo>
                              <a:pt x="1458" y="453"/>
                            </a:lnTo>
                            <a:lnTo>
                              <a:pt x="1452" y="450"/>
                            </a:lnTo>
                            <a:lnTo>
                              <a:pt x="1447" y="446"/>
                            </a:lnTo>
                            <a:lnTo>
                              <a:pt x="1441" y="443"/>
                            </a:lnTo>
                            <a:lnTo>
                              <a:pt x="1435" y="440"/>
                            </a:lnTo>
                            <a:lnTo>
                              <a:pt x="1432" y="438"/>
                            </a:lnTo>
                            <a:lnTo>
                              <a:pt x="1429" y="436"/>
                            </a:lnTo>
                            <a:lnTo>
                              <a:pt x="1424" y="433"/>
                            </a:lnTo>
                            <a:lnTo>
                              <a:pt x="1421" y="432"/>
                            </a:lnTo>
                            <a:lnTo>
                              <a:pt x="1418" y="429"/>
                            </a:lnTo>
                            <a:lnTo>
                              <a:pt x="1414" y="428"/>
                            </a:lnTo>
                            <a:lnTo>
                              <a:pt x="1411" y="427"/>
                            </a:lnTo>
                            <a:lnTo>
                              <a:pt x="1407" y="424"/>
                            </a:lnTo>
                            <a:lnTo>
                              <a:pt x="1403" y="421"/>
                            </a:lnTo>
                            <a:lnTo>
                              <a:pt x="1398" y="420"/>
                            </a:lnTo>
                            <a:lnTo>
                              <a:pt x="1394" y="417"/>
                            </a:lnTo>
                            <a:lnTo>
                              <a:pt x="1391" y="414"/>
                            </a:lnTo>
                            <a:lnTo>
                              <a:pt x="1386" y="412"/>
                            </a:lnTo>
                            <a:lnTo>
                              <a:pt x="1383" y="410"/>
                            </a:lnTo>
                            <a:lnTo>
                              <a:pt x="1378" y="407"/>
                            </a:lnTo>
                            <a:lnTo>
                              <a:pt x="1374" y="406"/>
                            </a:lnTo>
                            <a:lnTo>
                              <a:pt x="1371" y="403"/>
                            </a:lnTo>
                            <a:lnTo>
                              <a:pt x="1366" y="401"/>
                            </a:lnTo>
                            <a:lnTo>
                              <a:pt x="1362" y="399"/>
                            </a:lnTo>
                            <a:lnTo>
                              <a:pt x="1357" y="396"/>
                            </a:lnTo>
                            <a:lnTo>
                              <a:pt x="1354" y="394"/>
                            </a:lnTo>
                            <a:lnTo>
                              <a:pt x="1349" y="392"/>
                            </a:lnTo>
                            <a:lnTo>
                              <a:pt x="1345" y="390"/>
                            </a:lnTo>
                            <a:lnTo>
                              <a:pt x="1342" y="387"/>
                            </a:lnTo>
                            <a:lnTo>
                              <a:pt x="1337" y="384"/>
                            </a:lnTo>
                            <a:lnTo>
                              <a:pt x="1333" y="383"/>
                            </a:lnTo>
                            <a:lnTo>
                              <a:pt x="1328" y="380"/>
                            </a:lnTo>
                            <a:lnTo>
                              <a:pt x="1325" y="377"/>
                            </a:lnTo>
                            <a:lnTo>
                              <a:pt x="1320" y="374"/>
                            </a:lnTo>
                            <a:lnTo>
                              <a:pt x="1316" y="372"/>
                            </a:lnTo>
                            <a:lnTo>
                              <a:pt x="1311" y="369"/>
                            </a:lnTo>
                            <a:lnTo>
                              <a:pt x="1308" y="368"/>
                            </a:lnTo>
                            <a:lnTo>
                              <a:pt x="1303" y="365"/>
                            </a:lnTo>
                            <a:lnTo>
                              <a:pt x="1299" y="362"/>
                            </a:lnTo>
                            <a:lnTo>
                              <a:pt x="1294" y="359"/>
                            </a:lnTo>
                            <a:lnTo>
                              <a:pt x="1291" y="357"/>
                            </a:lnTo>
                            <a:lnTo>
                              <a:pt x="1288" y="354"/>
                            </a:lnTo>
                            <a:lnTo>
                              <a:pt x="1284" y="352"/>
                            </a:lnTo>
                            <a:lnTo>
                              <a:pt x="1281" y="350"/>
                            </a:lnTo>
                            <a:lnTo>
                              <a:pt x="1277" y="348"/>
                            </a:lnTo>
                            <a:lnTo>
                              <a:pt x="1273" y="346"/>
                            </a:lnTo>
                            <a:lnTo>
                              <a:pt x="1270" y="343"/>
                            </a:lnTo>
                            <a:lnTo>
                              <a:pt x="1265" y="340"/>
                            </a:lnTo>
                            <a:lnTo>
                              <a:pt x="1262" y="339"/>
                            </a:lnTo>
                            <a:lnTo>
                              <a:pt x="1256" y="333"/>
                            </a:lnTo>
                            <a:lnTo>
                              <a:pt x="1250" y="331"/>
                            </a:lnTo>
                            <a:lnTo>
                              <a:pt x="1244" y="325"/>
                            </a:lnTo>
                            <a:lnTo>
                              <a:pt x="1239" y="321"/>
                            </a:lnTo>
                            <a:lnTo>
                              <a:pt x="1235" y="318"/>
                            </a:lnTo>
                            <a:lnTo>
                              <a:pt x="1230" y="315"/>
                            </a:lnTo>
                            <a:lnTo>
                              <a:pt x="1233" y="315"/>
                            </a:lnTo>
                            <a:lnTo>
                              <a:pt x="1236" y="315"/>
                            </a:lnTo>
                            <a:lnTo>
                              <a:pt x="1238" y="318"/>
                            </a:lnTo>
                            <a:lnTo>
                              <a:pt x="1241" y="320"/>
                            </a:lnTo>
                            <a:lnTo>
                              <a:pt x="1466" y="449"/>
                            </a:lnTo>
                            <a:lnTo>
                              <a:pt x="1464" y="447"/>
                            </a:lnTo>
                            <a:lnTo>
                              <a:pt x="1463" y="446"/>
                            </a:lnTo>
                            <a:lnTo>
                              <a:pt x="1459" y="443"/>
                            </a:lnTo>
                            <a:lnTo>
                              <a:pt x="1455" y="440"/>
                            </a:lnTo>
                            <a:lnTo>
                              <a:pt x="1450" y="436"/>
                            </a:lnTo>
                            <a:lnTo>
                              <a:pt x="1446" y="432"/>
                            </a:lnTo>
                            <a:lnTo>
                              <a:pt x="1440" y="428"/>
                            </a:lnTo>
                            <a:lnTo>
                              <a:pt x="1433" y="424"/>
                            </a:lnTo>
                            <a:lnTo>
                              <a:pt x="1427" y="418"/>
                            </a:lnTo>
                            <a:lnTo>
                              <a:pt x="1421" y="414"/>
                            </a:lnTo>
                            <a:lnTo>
                              <a:pt x="1417" y="409"/>
                            </a:lnTo>
                            <a:lnTo>
                              <a:pt x="1412" y="406"/>
                            </a:lnTo>
                            <a:lnTo>
                              <a:pt x="1407" y="402"/>
                            </a:lnTo>
                            <a:lnTo>
                              <a:pt x="1404" y="401"/>
                            </a:lnTo>
                            <a:lnTo>
                              <a:pt x="1403" y="399"/>
                            </a:lnTo>
                            <a:lnTo>
                              <a:pt x="1397" y="394"/>
                            </a:lnTo>
                            <a:lnTo>
                              <a:pt x="1391" y="390"/>
                            </a:lnTo>
                            <a:lnTo>
                              <a:pt x="1385" y="384"/>
                            </a:lnTo>
                            <a:lnTo>
                              <a:pt x="1378" y="381"/>
                            </a:lnTo>
                            <a:lnTo>
                              <a:pt x="1375" y="377"/>
                            </a:lnTo>
                            <a:lnTo>
                              <a:pt x="1372" y="376"/>
                            </a:lnTo>
                            <a:lnTo>
                              <a:pt x="1368" y="373"/>
                            </a:lnTo>
                            <a:lnTo>
                              <a:pt x="1365" y="372"/>
                            </a:lnTo>
                            <a:lnTo>
                              <a:pt x="1362" y="369"/>
                            </a:lnTo>
                            <a:lnTo>
                              <a:pt x="1357" y="368"/>
                            </a:lnTo>
                            <a:lnTo>
                              <a:pt x="1354" y="365"/>
                            </a:lnTo>
                            <a:lnTo>
                              <a:pt x="1351" y="363"/>
                            </a:lnTo>
                            <a:lnTo>
                              <a:pt x="1346" y="361"/>
                            </a:lnTo>
                            <a:lnTo>
                              <a:pt x="1343" y="358"/>
                            </a:lnTo>
                            <a:lnTo>
                              <a:pt x="1339" y="357"/>
                            </a:lnTo>
                            <a:lnTo>
                              <a:pt x="1336" y="354"/>
                            </a:lnTo>
                            <a:lnTo>
                              <a:pt x="1331" y="351"/>
                            </a:lnTo>
                            <a:lnTo>
                              <a:pt x="1326" y="350"/>
                            </a:lnTo>
                            <a:lnTo>
                              <a:pt x="1323" y="347"/>
                            </a:lnTo>
                            <a:lnTo>
                              <a:pt x="1319" y="346"/>
                            </a:lnTo>
                            <a:lnTo>
                              <a:pt x="1316" y="343"/>
                            </a:lnTo>
                            <a:lnTo>
                              <a:pt x="1311" y="340"/>
                            </a:lnTo>
                            <a:lnTo>
                              <a:pt x="1307" y="339"/>
                            </a:lnTo>
                            <a:lnTo>
                              <a:pt x="1302" y="337"/>
                            </a:lnTo>
                            <a:lnTo>
                              <a:pt x="1297" y="335"/>
                            </a:lnTo>
                            <a:lnTo>
                              <a:pt x="1294" y="332"/>
                            </a:lnTo>
                            <a:lnTo>
                              <a:pt x="1290" y="331"/>
                            </a:lnTo>
                            <a:lnTo>
                              <a:pt x="1287" y="328"/>
                            </a:lnTo>
                            <a:lnTo>
                              <a:pt x="1281" y="326"/>
                            </a:lnTo>
                            <a:lnTo>
                              <a:pt x="1277" y="324"/>
                            </a:lnTo>
                            <a:lnTo>
                              <a:pt x="1273" y="321"/>
                            </a:lnTo>
                            <a:lnTo>
                              <a:pt x="1268" y="320"/>
                            </a:lnTo>
                            <a:lnTo>
                              <a:pt x="1264" y="318"/>
                            </a:lnTo>
                            <a:lnTo>
                              <a:pt x="1261" y="315"/>
                            </a:lnTo>
                            <a:lnTo>
                              <a:pt x="1256" y="313"/>
                            </a:lnTo>
                            <a:lnTo>
                              <a:pt x="1251" y="311"/>
                            </a:lnTo>
                            <a:lnTo>
                              <a:pt x="1247" y="309"/>
                            </a:lnTo>
                            <a:lnTo>
                              <a:pt x="1244" y="307"/>
                            </a:lnTo>
                            <a:lnTo>
                              <a:pt x="1239" y="304"/>
                            </a:lnTo>
                            <a:lnTo>
                              <a:pt x="1236" y="303"/>
                            </a:lnTo>
                            <a:lnTo>
                              <a:pt x="1232" y="302"/>
                            </a:lnTo>
                            <a:lnTo>
                              <a:pt x="1227" y="300"/>
                            </a:lnTo>
                            <a:lnTo>
                              <a:pt x="1224" y="298"/>
                            </a:lnTo>
                            <a:lnTo>
                              <a:pt x="1219" y="296"/>
                            </a:lnTo>
                            <a:lnTo>
                              <a:pt x="1216" y="293"/>
                            </a:lnTo>
                            <a:lnTo>
                              <a:pt x="1212" y="292"/>
                            </a:lnTo>
                            <a:lnTo>
                              <a:pt x="1209" y="291"/>
                            </a:lnTo>
                            <a:lnTo>
                              <a:pt x="1204" y="288"/>
                            </a:lnTo>
                            <a:lnTo>
                              <a:pt x="1201" y="287"/>
                            </a:lnTo>
                            <a:lnTo>
                              <a:pt x="1196" y="285"/>
                            </a:lnTo>
                            <a:lnTo>
                              <a:pt x="1193" y="284"/>
                            </a:lnTo>
                            <a:lnTo>
                              <a:pt x="1190" y="281"/>
                            </a:lnTo>
                            <a:lnTo>
                              <a:pt x="1186" y="280"/>
                            </a:lnTo>
                            <a:lnTo>
                              <a:pt x="1183" y="278"/>
                            </a:lnTo>
                            <a:lnTo>
                              <a:pt x="1180" y="277"/>
                            </a:lnTo>
                            <a:lnTo>
                              <a:pt x="1177" y="276"/>
                            </a:lnTo>
                            <a:lnTo>
                              <a:pt x="1170" y="273"/>
                            </a:lnTo>
                            <a:lnTo>
                              <a:pt x="1164" y="269"/>
                            </a:lnTo>
                            <a:lnTo>
                              <a:pt x="1158" y="265"/>
                            </a:lnTo>
                            <a:lnTo>
                              <a:pt x="1151" y="261"/>
                            </a:lnTo>
                            <a:lnTo>
                              <a:pt x="1143" y="256"/>
                            </a:lnTo>
                            <a:lnTo>
                              <a:pt x="1137" y="254"/>
                            </a:lnTo>
                            <a:lnTo>
                              <a:pt x="1129" y="248"/>
                            </a:lnTo>
                            <a:lnTo>
                              <a:pt x="1121" y="245"/>
                            </a:lnTo>
                            <a:lnTo>
                              <a:pt x="1114" y="241"/>
                            </a:lnTo>
                            <a:lnTo>
                              <a:pt x="1108" y="237"/>
                            </a:lnTo>
                            <a:lnTo>
                              <a:pt x="1100" y="233"/>
                            </a:lnTo>
                            <a:lnTo>
                              <a:pt x="1092" y="229"/>
                            </a:lnTo>
                            <a:lnTo>
                              <a:pt x="1085" y="225"/>
                            </a:lnTo>
                            <a:lnTo>
                              <a:pt x="1079" y="221"/>
                            </a:lnTo>
                            <a:lnTo>
                              <a:pt x="1071" y="217"/>
                            </a:lnTo>
                            <a:lnTo>
                              <a:pt x="1063" y="212"/>
                            </a:lnTo>
                            <a:lnTo>
                              <a:pt x="1057" y="208"/>
                            </a:lnTo>
                            <a:lnTo>
                              <a:pt x="1050" y="204"/>
                            </a:lnTo>
                            <a:lnTo>
                              <a:pt x="1042" y="200"/>
                            </a:lnTo>
                            <a:lnTo>
                              <a:pt x="1034" y="196"/>
                            </a:lnTo>
                            <a:lnTo>
                              <a:pt x="1027" y="192"/>
                            </a:lnTo>
                            <a:lnTo>
                              <a:pt x="1020" y="188"/>
                            </a:lnTo>
                            <a:lnTo>
                              <a:pt x="1013" y="184"/>
                            </a:lnTo>
                            <a:lnTo>
                              <a:pt x="1007" y="180"/>
                            </a:lnTo>
                            <a:lnTo>
                              <a:pt x="999" y="175"/>
                            </a:lnTo>
                            <a:lnTo>
                              <a:pt x="993" y="171"/>
                            </a:lnTo>
                            <a:lnTo>
                              <a:pt x="985" y="167"/>
                            </a:lnTo>
                            <a:lnTo>
                              <a:pt x="978" y="163"/>
                            </a:lnTo>
                            <a:lnTo>
                              <a:pt x="970" y="158"/>
                            </a:lnTo>
                            <a:lnTo>
                              <a:pt x="962" y="155"/>
                            </a:lnTo>
                            <a:lnTo>
                              <a:pt x="955" y="149"/>
                            </a:lnTo>
                            <a:lnTo>
                              <a:pt x="949" y="145"/>
                            </a:lnTo>
                            <a:lnTo>
                              <a:pt x="941" y="141"/>
                            </a:lnTo>
                            <a:lnTo>
                              <a:pt x="935" y="137"/>
                            </a:lnTo>
                            <a:lnTo>
                              <a:pt x="927" y="133"/>
                            </a:lnTo>
                            <a:lnTo>
                              <a:pt x="920" y="129"/>
                            </a:lnTo>
                            <a:lnTo>
                              <a:pt x="912" y="123"/>
                            </a:lnTo>
                            <a:lnTo>
                              <a:pt x="906" y="119"/>
                            </a:lnTo>
                            <a:lnTo>
                              <a:pt x="898" y="115"/>
                            </a:lnTo>
                            <a:lnTo>
                              <a:pt x="890" y="111"/>
                            </a:lnTo>
                            <a:lnTo>
                              <a:pt x="883" y="107"/>
                            </a:lnTo>
                            <a:lnTo>
                              <a:pt x="877" y="103"/>
                            </a:lnTo>
                            <a:lnTo>
                              <a:pt x="869" y="97"/>
                            </a:lnTo>
                            <a:lnTo>
                              <a:pt x="861" y="93"/>
                            </a:lnTo>
                            <a:lnTo>
                              <a:pt x="854" y="89"/>
                            </a:lnTo>
                            <a:lnTo>
                              <a:pt x="848" y="85"/>
                            </a:lnTo>
                            <a:lnTo>
                              <a:pt x="840" y="79"/>
                            </a:lnTo>
                            <a:lnTo>
                              <a:pt x="832" y="77"/>
                            </a:lnTo>
                            <a:lnTo>
                              <a:pt x="825" y="71"/>
                            </a:lnTo>
                            <a:lnTo>
                              <a:pt x="819" y="67"/>
                            </a:lnTo>
                            <a:lnTo>
                              <a:pt x="811" y="63"/>
                            </a:lnTo>
                            <a:lnTo>
                              <a:pt x="803" y="59"/>
                            </a:lnTo>
                            <a:lnTo>
                              <a:pt x="796" y="55"/>
                            </a:lnTo>
                            <a:lnTo>
                              <a:pt x="790" y="50"/>
                            </a:lnTo>
                            <a:lnTo>
                              <a:pt x="782" y="45"/>
                            </a:lnTo>
                            <a:lnTo>
                              <a:pt x="774" y="41"/>
                            </a:lnTo>
                            <a:lnTo>
                              <a:pt x="767" y="37"/>
                            </a:lnTo>
                            <a:lnTo>
                              <a:pt x="760" y="33"/>
                            </a:lnTo>
                            <a:lnTo>
                              <a:pt x="753" y="29"/>
                            </a:lnTo>
                            <a:lnTo>
                              <a:pt x="745" y="24"/>
                            </a:lnTo>
                            <a:lnTo>
                              <a:pt x="738" y="20"/>
                            </a:lnTo>
                            <a:lnTo>
                              <a:pt x="731" y="16"/>
                            </a:lnTo>
                            <a:lnTo>
                              <a:pt x="724" y="12"/>
                            </a:lnTo>
                            <a:lnTo>
                              <a:pt x="716" y="8"/>
                            </a:lnTo>
                            <a:lnTo>
                              <a:pt x="710" y="2"/>
                            </a:lnTo>
                            <a:lnTo>
                              <a:pt x="702" y="0"/>
                            </a:lnTo>
                            <a:lnTo>
                              <a:pt x="693" y="5"/>
                            </a:lnTo>
                            <a:lnTo>
                              <a:pt x="684" y="11"/>
                            </a:lnTo>
                            <a:lnTo>
                              <a:pt x="675" y="18"/>
                            </a:lnTo>
                            <a:lnTo>
                              <a:pt x="666" y="23"/>
                            </a:lnTo>
                            <a:lnTo>
                              <a:pt x="656" y="29"/>
                            </a:lnTo>
                            <a:lnTo>
                              <a:pt x="647" y="35"/>
                            </a:lnTo>
                            <a:lnTo>
                              <a:pt x="637" y="41"/>
                            </a:lnTo>
                            <a:lnTo>
                              <a:pt x="627" y="48"/>
                            </a:lnTo>
                            <a:lnTo>
                              <a:pt x="618" y="53"/>
                            </a:lnTo>
                            <a:lnTo>
                              <a:pt x="609" y="60"/>
                            </a:lnTo>
                            <a:lnTo>
                              <a:pt x="600" y="66"/>
                            </a:lnTo>
                            <a:lnTo>
                              <a:pt x="591" y="72"/>
                            </a:lnTo>
                            <a:lnTo>
                              <a:pt x="581" y="78"/>
                            </a:lnTo>
                            <a:lnTo>
                              <a:pt x="571" y="85"/>
                            </a:lnTo>
                            <a:lnTo>
                              <a:pt x="562" y="90"/>
                            </a:lnTo>
                            <a:lnTo>
                              <a:pt x="552" y="97"/>
                            </a:lnTo>
                            <a:lnTo>
                              <a:pt x="543" y="103"/>
                            </a:lnTo>
                            <a:lnTo>
                              <a:pt x="534" y="110"/>
                            </a:lnTo>
                            <a:lnTo>
                              <a:pt x="525" y="115"/>
                            </a:lnTo>
                            <a:lnTo>
                              <a:pt x="516" y="122"/>
                            </a:lnTo>
                            <a:lnTo>
                              <a:pt x="507" y="127"/>
                            </a:lnTo>
                            <a:lnTo>
                              <a:pt x="496" y="134"/>
                            </a:lnTo>
                            <a:lnTo>
                              <a:pt x="487" y="140"/>
                            </a:lnTo>
                            <a:lnTo>
                              <a:pt x="477" y="147"/>
                            </a:lnTo>
                            <a:lnTo>
                              <a:pt x="468" y="152"/>
                            </a:lnTo>
                            <a:lnTo>
                              <a:pt x="459" y="159"/>
                            </a:lnTo>
                            <a:lnTo>
                              <a:pt x="450" y="164"/>
                            </a:lnTo>
                            <a:lnTo>
                              <a:pt x="441" y="171"/>
                            </a:lnTo>
                            <a:lnTo>
                              <a:pt x="430" y="177"/>
                            </a:lnTo>
                            <a:lnTo>
                              <a:pt x="421" y="184"/>
                            </a:lnTo>
                            <a:lnTo>
                              <a:pt x="412" y="189"/>
                            </a:lnTo>
                            <a:lnTo>
                              <a:pt x="403" y="196"/>
                            </a:lnTo>
                            <a:lnTo>
                              <a:pt x="393" y="201"/>
                            </a:lnTo>
                            <a:lnTo>
                              <a:pt x="384" y="208"/>
                            </a:lnTo>
                            <a:lnTo>
                              <a:pt x="375" y="214"/>
                            </a:lnTo>
                            <a:lnTo>
                              <a:pt x="366" y="221"/>
                            </a:lnTo>
                            <a:lnTo>
                              <a:pt x="357" y="226"/>
                            </a:lnTo>
                            <a:lnTo>
                              <a:pt x="347" y="233"/>
                            </a:lnTo>
                            <a:lnTo>
                              <a:pt x="337" y="239"/>
                            </a:lnTo>
                            <a:lnTo>
                              <a:pt x="328" y="245"/>
                            </a:lnTo>
                            <a:lnTo>
                              <a:pt x="318" y="251"/>
                            </a:lnTo>
                            <a:lnTo>
                              <a:pt x="309" y="258"/>
                            </a:lnTo>
                            <a:lnTo>
                              <a:pt x="300" y="263"/>
                            </a:lnTo>
                            <a:lnTo>
                              <a:pt x="291" y="270"/>
                            </a:lnTo>
                            <a:lnTo>
                              <a:pt x="282" y="276"/>
                            </a:lnTo>
                            <a:lnTo>
                              <a:pt x="272" y="282"/>
                            </a:lnTo>
                            <a:lnTo>
                              <a:pt x="262" y="288"/>
                            </a:lnTo>
                            <a:lnTo>
                              <a:pt x="254" y="295"/>
                            </a:lnTo>
                            <a:lnTo>
                              <a:pt x="245" y="300"/>
                            </a:lnTo>
                            <a:lnTo>
                              <a:pt x="234" y="307"/>
                            </a:lnTo>
                            <a:lnTo>
                              <a:pt x="225" y="313"/>
                            </a:lnTo>
                            <a:lnTo>
                              <a:pt x="216" y="320"/>
                            </a:lnTo>
                            <a:lnTo>
                              <a:pt x="207" y="325"/>
                            </a:lnTo>
                            <a:lnTo>
                              <a:pt x="198" y="332"/>
                            </a:lnTo>
                            <a:lnTo>
                              <a:pt x="188" y="337"/>
                            </a:lnTo>
                            <a:lnTo>
                              <a:pt x="179" y="344"/>
                            </a:lnTo>
                            <a:lnTo>
                              <a:pt x="170" y="350"/>
                            </a:lnTo>
                            <a:lnTo>
                              <a:pt x="159" y="357"/>
                            </a:lnTo>
                            <a:lnTo>
                              <a:pt x="150" y="362"/>
                            </a:lnTo>
                            <a:lnTo>
                              <a:pt x="141" y="369"/>
                            </a:lnTo>
                            <a:lnTo>
                              <a:pt x="132" y="374"/>
                            </a:lnTo>
                            <a:lnTo>
                              <a:pt x="123" y="381"/>
                            </a:lnTo>
                            <a:lnTo>
                              <a:pt x="113" y="387"/>
                            </a:lnTo>
                            <a:lnTo>
                              <a:pt x="104" y="39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Freeform 157"/>
                      <p:cNvSpPr/>
                      <p:nvPr/>
                    </p:nvSpPr>
                    <p:spPr>
                      <a:xfrm>
                        <a:off x="2850480" y="2863440"/>
                        <a:ext cx="26280" cy="17280"/>
                      </a:xfrm>
                      <a:custGeom>
                        <a:avLst/>
                        <a:gdLst>
                          <a:gd name="textAreaLeft" fmla="*/ 0 w 26280"/>
                          <a:gd name="textAreaRight" fmla="*/ 26640 w 26280"/>
                          <a:gd name="textAreaTop" fmla="*/ 0 h 17280"/>
                          <a:gd name="textAreaBottom" fmla="*/ 17640 h 17280"/>
                        </a:gdLst>
                        <a:ahLst/>
                        <a:rect l="textAreaLeft" t="textAreaTop" r="textAreaRight" b="textAreaBottom"/>
                        <a:pathLst>
                          <a:path w="294" h="175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2" y="5"/>
                            </a:lnTo>
                            <a:lnTo>
                              <a:pt x="3" y="6"/>
                            </a:lnTo>
                            <a:lnTo>
                              <a:pt x="7" y="9"/>
                            </a:lnTo>
                            <a:lnTo>
                              <a:pt x="11" y="11"/>
                            </a:lnTo>
                            <a:lnTo>
                              <a:pt x="17" y="16"/>
                            </a:lnTo>
                            <a:lnTo>
                              <a:pt x="20" y="17"/>
                            </a:lnTo>
                            <a:lnTo>
                              <a:pt x="23" y="20"/>
                            </a:lnTo>
                            <a:lnTo>
                              <a:pt x="28" y="22"/>
                            </a:lnTo>
                            <a:lnTo>
                              <a:pt x="33" y="25"/>
                            </a:lnTo>
                            <a:lnTo>
                              <a:pt x="36" y="28"/>
                            </a:lnTo>
                            <a:lnTo>
                              <a:pt x="40" y="31"/>
                            </a:lnTo>
                            <a:lnTo>
                              <a:pt x="45" y="33"/>
                            </a:lnTo>
                            <a:lnTo>
                              <a:pt x="51" y="37"/>
                            </a:lnTo>
                            <a:lnTo>
                              <a:pt x="55" y="40"/>
                            </a:lnTo>
                            <a:lnTo>
                              <a:pt x="60" y="43"/>
                            </a:lnTo>
                            <a:lnTo>
                              <a:pt x="66" y="46"/>
                            </a:lnTo>
                            <a:lnTo>
                              <a:pt x="72" y="50"/>
                            </a:lnTo>
                            <a:lnTo>
                              <a:pt x="78" y="53"/>
                            </a:lnTo>
                            <a:lnTo>
                              <a:pt x="85" y="57"/>
                            </a:lnTo>
                            <a:lnTo>
                              <a:pt x="91" y="61"/>
                            </a:lnTo>
                            <a:lnTo>
                              <a:pt x="97" y="64"/>
                            </a:lnTo>
                            <a:lnTo>
                              <a:pt x="103" y="68"/>
                            </a:lnTo>
                            <a:lnTo>
                              <a:pt x="109" y="72"/>
                            </a:lnTo>
                            <a:lnTo>
                              <a:pt x="117" y="76"/>
                            </a:lnTo>
                            <a:lnTo>
                              <a:pt x="123" y="79"/>
                            </a:lnTo>
                            <a:lnTo>
                              <a:pt x="129" y="83"/>
                            </a:lnTo>
                            <a:lnTo>
                              <a:pt x="137" y="87"/>
                            </a:lnTo>
                            <a:lnTo>
                              <a:pt x="143" y="91"/>
                            </a:lnTo>
                            <a:lnTo>
                              <a:pt x="150" y="95"/>
                            </a:lnTo>
                            <a:lnTo>
                              <a:pt x="156" y="98"/>
                            </a:lnTo>
                            <a:lnTo>
                              <a:pt x="163" y="102"/>
                            </a:lnTo>
                            <a:lnTo>
                              <a:pt x="169" y="106"/>
                            </a:lnTo>
                            <a:lnTo>
                              <a:pt x="175" y="110"/>
                            </a:lnTo>
                            <a:lnTo>
                              <a:pt x="181" y="113"/>
                            </a:lnTo>
                            <a:lnTo>
                              <a:pt x="187" y="117"/>
                            </a:lnTo>
                            <a:lnTo>
                              <a:pt x="195" y="120"/>
                            </a:lnTo>
                            <a:lnTo>
                              <a:pt x="201" y="124"/>
                            </a:lnTo>
                            <a:lnTo>
                              <a:pt x="207" y="128"/>
                            </a:lnTo>
                            <a:lnTo>
                              <a:pt x="213" y="131"/>
                            </a:lnTo>
                            <a:lnTo>
                              <a:pt x="219" y="135"/>
                            </a:lnTo>
                            <a:lnTo>
                              <a:pt x="225" y="138"/>
                            </a:lnTo>
                            <a:lnTo>
                              <a:pt x="230" y="140"/>
                            </a:lnTo>
                            <a:lnTo>
                              <a:pt x="236" y="145"/>
                            </a:lnTo>
                            <a:lnTo>
                              <a:pt x="241" y="147"/>
                            </a:lnTo>
                            <a:lnTo>
                              <a:pt x="247" y="150"/>
                            </a:lnTo>
                            <a:lnTo>
                              <a:pt x="251" y="153"/>
                            </a:lnTo>
                            <a:lnTo>
                              <a:pt x="256" y="154"/>
                            </a:lnTo>
                            <a:lnTo>
                              <a:pt x="260" y="157"/>
                            </a:lnTo>
                            <a:lnTo>
                              <a:pt x="265" y="160"/>
                            </a:lnTo>
                            <a:lnTo>
                              <a:pt x="268" y="162"/>
                            </a:lnTo>
                            <a:lnTo>
                              <a:pt x="273" y="164"/>
                            </a:lnTo>
                            <a:lnTo>
                              <a:pt x="276" y="167"/>
                            </a:lnTo>
                            <a:lnTo>
                              <a:pt x="280" y="168"/>
                            </a:lnTo>
                            <a:lnTo>
                              <a:pt x="285" y="171"/>
                            </a:lnTo>
                            <a:lnTo>
                              <a:pt x="289" y="173"/>
                            </a:lnTo>
                            <a:lnTo>
                              <a:pt x="293" y="175"/>
                            </a:lnTo>
                            <a:lnTo>
                              <a:pt x="294" y="175"/>
                            </a:lnTo>
                            <a:lnTo>
                              <a:pt x="289" y="171"/>
                            </a:lnTo>
                            <a:lnTo>
                              <a:pt x="277" y="164"/>
                            </a:lnTo>
                            <a:lnTo>
                              <a:pt x="247" y="143"/>
                            </a:lnTo>
                            <a:lnTo>
                              <a:pt x="178" y="107"/>
                            </a:lnTo>
                            <a:lnTo>
                              <a:pt x="173" y="103"/>
                            </a:lnTo>
                            <a:lnTo>
                              <a:pt x="167" y="101"/>
                            </a:lnTo>
                            <a:lnTo>
                              <a:pt x="161" y="97"/>
                            </a:lnTo>
                            <a:lnTo>
                              <a:pt x="156" y="92"/>
                            </a:lnTo>
                            <a:lnTo>
                              <a:pt x="150" y="90"/>
                            </a:lnTo>
                            <a:lnTo>
                              <a:pt x="146" y="86"/>
                            </a:lnTo>
                            <a:lnTo>
                              <a:pt x="140" y="83"/>
                            </a:lnTo>
                            <a:lnTo>
                              <a:pt x="135" y="79"/>
                            </a:lnTo>
                            <a:lnTo>
                              <a:pt x="129" y="76"/>
                            </a:lnTo>
                            <a:lnTo>
                              <a:pt x="123" y="72"/>
                            </a:lnTo>
                            <a:lnTo>
                              <a:pt x="118" y="68"/>
                            </a:lnTo>
                            <a:lnTo>
                              <a:pt x="114" y="65"/>
                            </a:lnTo>
                            <a:lnTo>
                              <a:pt x="107" y="61"/>
                            </a:lnTo>
                            <a:lnTo>
                              <a:pt x="103" y="58"/>
                            </a:lnTo>
                            <a:lnTo>
                              <a:pt x="97" y="54"/>
                            </a:lnTo>
                            <a:lnTo>
                              <a:pt x="92" y="51"/>
                            </a:lnTo>
                            <a:lnTo>
                              <a:pt x="86" y="47"/>
                            </a:lnTo>
                            <a:lnTo>
                              <a:pt x="81" y="44"/>
                            </a:lnTo>
                            <a:lnTo>
                              <a:pt x="75" y="40"/>
                            </a:lnTo>
                            <a:lnTo>
                              <a:pt x="71" y="37"/>
                            </a:lnTo>
                            <a:lnTo>
                              <a:pt x="65" y="33"/>
                            </a:lnTo>
                            <a:lnTo>
                              <a:pt x="59" y="31"/>
                            </a:lnTo>
                            <a:lnTo>
                              <a:pt x="54" y="27"/>
                            </a:lnTo>
                            <a:lnTo>
                              <a:pt x="48" y="24"/>
                            </a:lnTo>
                            <a:lnTo>
                              <a:pt x="43" y="21"/>
                            </a:lnTo>
                            <a:lnTo>
                              <a:pt x="37" y="17"/>
                            </a:lnTo>
                            <a:lnTo>
                              <a:pt x="31" y="14"/>
                            </a:lnTo>
                            <a:lnTo>
                              <a:pt x="26" y="11"/>
                            </a:lnTo>
                            <a:lnTo>
                              <a:pt x="20" y="9"/>
                            </a:lnTo>
                            <a:lnTo>
                              <a:pt x="14" y="6"/>
                            </a:lnTo>
                            <a:lnTo>
                              <a:pt x="10" y="3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8" name="Freeform 158"/>
                      <p:cNvSpPr/>
                      <p:nvPr/>
                    </p:nvSpPr>
                    <p:spPr>
                      <a:xfrm>
                        <a:off x="2794680" y="2876760"/>
                        <a:ext cx="27000" cy="19080"/>
                      </a:xfrm>
                      <a:custGeom>
                        <a:avLst/>
                        <a:gdLst>
                          <a:gd name="textAreaLeft" fmla="*/ 0 w 27000"/>
                          <a:gd name="textAreaRight" fmla="*/ 27360 w 2700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299" h="190">
                            <a:moveTo>
                              <a:pt x="0" y="190"/>
                            </a:moveTo>
                            <a:lnTo>
                              <a:pt x="3" y="188"/>
                            </a:lnTo>
                            <a:lnTo>
                              <a:pt x="8" y="185"/>
                            </a:lnTo>
                            <a:lnTo>
                              <a:pt x="13" y="181"/>
                            </a:lnTo>
                            <a:lnTo>
                              <a:pt x="17" y="178"/>
                            </a:lnTo>
                            <a:lnTo>
                              <a:pt x="22" y="175"/>
                            </a:lnTo>
                            <a:lnTo>
                              <a:pt x="26" y="173"/>
                            </a:lnTo>
                            <a:lnTo>
                              <a:pt x="31" y="170"/>
                            </a:lnTo>
                            <a:lnTo>
                              <a:pt x="36" y="167"/>
                            </a:lnTo>
                            <a:lnTo>
                              <a:pt x="40" y="163"/>
                            </a:lnTo>
                            <a:lnTo>
                              <a:pt x="45" y="160"/>
                            </a:lnTo>
                            <a:lnTo>
                              <a:pt x="48" y="156"/>
                            </a:lnTo>
                            <a:lnTo>
                              <a:pt x="54" y="153"/>
                            </a:lnTo>
                            <a:lnTo>
                              <a:pt x="59" y="151"/>
                            </a:lnTo>
                            <a:lnTo>
                              <a:pt x="63" y="146"/>
                            </a:lnTo>
                            <a:lnTo>
                              <a:pt x="68" y="144"/>
                            </a:lnTo>
                            <a:lnTo>
                              <a:pt x="72" y="141"/>
                            </a:lnTo>
                            <a:lnTo>
                              <a:pt x="75" y="137"/>
                            </a:lnTo>
                            <a:lnTo>
                              <a:pt x="81" y="134"/>
                            </a:lnTo>
                            <a:lnTo>
                              <a:pt x="85" y="131"/>
                            </a:lnTo>
                            <a:lnTo>
                              <a:pt x="91" y="127"/>
                            </a:lnTo>
                            <a:lnTo>
                              <a:pt x="95" y="124"/>
                            </a:lnTo>
                            <a:lnTo>
                              <a:pt x="100" y="120"/>
                            </a:lnTo>
                            <a:lnTo>
                              <a:pt x="104" y="118"/>
                            </a:lnTo>
                            <a:lnTo>
                              <a:pt x="109" y="114"/>
                            </a:lnTo>
                            <a:lnTo>
                              <a:pt x="114" y="111"/>
                            </a:lnTo>
                            <a:lnTo>
                              <a:pt x="118" y="107"/>
                            </a:lnTo>
                            <a:lnTo>
                              <a:pt x="123" y="104"/>
                            </a:lnTo>
                            <a:lnTo>
                              <a:pt x="129" y="100"/>
                            </a:lnTo>
                            <a:lnTo>
                              <a:pt x="133" y="97"/>
                            </a:lnTo>
                            <a:lnTo>
                              <a:pt x="138" y="93"/>
                            </a:lnTo>
                            <a:lnTo>
                              <a:pt x="143" y="90"/>
                            </a:lnTo>
                            <a:lnTo>
                              <a:pt x="147" y="87"/>
                            </a:lnTo>
                            <a:lnTo>
                              <a:pt x="152" y="83"/>
                            </a:lnTo>
                            <a:lnTo>
                              <a:pt x="158" y="81"/>
                            </a:lnTo>
                            <a:lnTo>
                              <a:pt x="161" y="76"/>
                            </a:lnTo>
                            <a:lnTo>
                              <a:pt x="167" y="74"/>
                            </a:lnTo>
                            <a:lnTo>
                              <a:pt x="172" y="70"/>
                            </a:lnTo>
                            <a:lnTo>
                              <a:pt x="176" y="67"/>
                            </a:lnTo>
                            <a:lnTo>
                              <a:pt x="181" y="63"/>
                            </a:lnTo>
                            <a:lnTo>
                              <a:pt x="185" y="60"/>
                            </a:lnTo>
                            <a:lnTo>
                              <a:pt x="190" y="57"/>
                            </a:lnTo>
                            <a:lnTo>
                              <a:pt x="195" y="53"/>
                            </a:lnTo>
                            <a:lnTo>
                              <a:pt x="201" y="50"/>
                            </a:lnTo>
                            <a:lnTo>
                              <a:pt x="205" y="48"/>
                            </a:lnTo>
                            <a:lnTo>
                              <a:pt x="210" y="45"/>
                            </a:lnTo>
                            <a:lnTo>
                              <a:pt x="216" y="41"/>
                            </a:lnTo>
                            <a:lnTo>
                              <a:pt x="219" y="38"/>
                            </a:lnTo>
                            <a:lnTo>
                              <a:pt x="225" y="35"/>
                            </a:lnTo>
                            <a:lnTo>
                              <a:pt x="230" y="33"/>
                            </a:lnTo>
                            <a:lnTo>
                              <a:pt x="234" y="30"/>
                            </a:lnTo>
                            <a:lnTo>
                              <a:pt x="239" y="27"/>
                            </a:lnTo>
                            <a:lnTo>
                              <a:pt x="244" y="24"/>
                            </a:lnTo>
                            <a:lnTo>
                              <a:pt x="248" y="22"/>
                            </a:lnTo>
                            <a:lnTo>
                              <a:pt x="254" y="20"/>
                            </a:lnTo>
                            <a:lnTo>
                              <a:pt x="259" y="16"/>
                            </a:lnTo>
                            <a:lnTo>
                              <a:pt x="264" y="15"/>
                            </a:lnTo>
                            <a:lnTo>
                              <a:pt x="268" y="12"/>
                            </a:lnTo>
                            <a:lnTo>
                              <a:pt x="274" y="9"/>
                            </a:lnTo>
                            <a:lnTo>
                              <a:pt x="279" y="8"/>
                            </a:lnTo>
                            <a:lnTo>
                              <a:pt x="288" y="4"/>
                            </a:lnTo>
                            <a:lnTo>
                              <a:pt x="299" y="0"/>
                            </a:lnTo>
                            <a:lnTo>
                              <a:pt x="288" y="5"/>
                            </a:lnTo>
                            <a:lnTo>
                              <a:pt x="279" y="9"/>
                            </a:lnTo>
                            <a:lnTo>
                              <a:pt x="274" y="12"/>
                            </a:lnTo>
                            <a:lnTo>
                              <a:pt x="271" y="15"/>
                            </a:lnTo>
                            <a:lnTo>
                              <a:pt x="267" y="16"/>
                            </a:lnTo>
                            <a:lnTo>
                              <a:pt x="262" y="20"/>
                            </a:lnTo>
                            <a:lnTo>
                              <a:pt x="257" y="23"/>
                            </a:lnTo>
                            <a:lnTo>
                              <a:pt x="253" y="26"/>
                            </a:lnTo>
                            <a:lnTo>
                              <a:pt x="248" y="28"/>
                            </a:lnTo>
                            <a:lnTo>
                              <a:pt x="244" y="33"/>
                            </a:lnTo>
                            <a:lnTo>
                              <a:pt x="238" y="35"/>
                            </a:lnTo>
                            <a:lnTo>
                              <a:pt x="233" y="38"/>
                            </a:lnTo>
                            <a:lnTo>
                              <a:pt x="228" y="42"/>
                            </a:lnTo>
                            <a:lnTo>
                              <a:pt x="222" y="45"/>
                            </a:lnTo>
                            <a:lnTo>
                              <a:pt x="218" y="49"/>
                            </a:lnTo>
                            <a:lnTo>
                              <a:pt x="211" y="53"/>
                            </a:lnTo>
                            <a:lnTo>
                              <a:pt x="207" y="56"/>
                            </a:lnTo>
                            <a:lnTo>
                              <a:pt x="202" y="60"/>
                            </a:lnTo>
                            <a:lnTo>
                              <a:pt x="196" y="64"/>
                            </a:lnTo>
                            <a:lnTo>
                              <a:pt x="192" y="68"/>
                            </a:lnTo>
                            <a:lnTo>
                              <a:pt x="185" y="71"/>
                            </a:lnTo>
                            <a:lnTo>
                              <a:pt x="179" y="75"/>
                            </a:lnTo>
                            <a:lnTo>
                              <a:pt x="175" y="79"/>
                            </a:lnTo>
                            <a:lnTo>
                              <a:pt x="169" y="83"/>
                            </a:lnTo>
                            <a:lnTo>
                              <a:pt x="164" y="87"/>
                            </a:lnTo>
                            <a:lnTo>
                              <a:pt x="158" y="90"/>
                            </a:lnTo>
                            <a:lnTo>
                              <a:pt x="152" y="94"/>
                            </a:lnTo>
                            <a:lnTo>
                              <a:pt x="147" y="100"/>
                            </a:lnTo>
                            <a:lnTo>
                              <a:pt x="141" y="103"/>
                            </a:lnTo>
                            <a:lnTo>
                              <a:pt x="137" y="107"/>
                            </a:lnTo>
                            <a:lnTo>
                              <a:pt x="130" y="111"/>
                            </a:lnTo>
                            <a:lnTo>
                              <a:pt x="124" y="115"/>
                            </a:lnTo>
                            <a:lnTo>
                              <a:pt x="120" y="118"/>
                            </a:lnTo>
                            <a:lnTo>
                              <a:pt x="114" y="122"/>
                            </a:lnTo>
                            <a:lnTo>
                              <a:pt x="107" y="126"/>
                            </a:lnTo>
                            <a:lnTo>
                              <a:pt x="103" y="130"/>
                            </a:lnTo>
                            <a:lnTo>
                              <a:pt x="97" y="133"/>
                            </a:lnTo>
                            <a:lnTo>
                              <a:pt x="92" y="137"/>
                            </a:lnTo>
                            <a:lnTo>
                              <a:pt x="86" y="140"/>
                            </a:lnTo>
                            <a:lnTo>
                              <a:pt x="81" y="144"/>
                            </a:lnTo>
                            <a:lnTo>
                              <a:pt x="75" y="146"/>
                            </a:lnTo>
                            <a:lnTo>
                              <a:pt x="72" y="151"/>
                            </a:lnTo>
                            <a:lnTo>
                              <a:pt x="66" y="153"/>
                            </a:lnTo>
                            <a:lnTo>
                              <a:pt x="62" y="157"/>
                            </a:lnTo>
                            <a:lnTo>
                              <a:pt x="57" y="160"/>
                            </a:lnTo>
                            <a:lnTo>
                              <a:pt x="52" y="163"/>
                            </a:lnTo>
                            <a:lnTo>
                              <a:pt x="48" y="166"/>
                            </a:lnTo>
                            <a:lnTo>
                              <a:pt x="43" y="168"/>
                            </a:lnTo>
                            <a:lnTo>
                              <a:pt x="39" y="171"/>
                            </a:lnTo>
                            <a:lnTo>
                              <a:pt x="34" y="174"/>
                            </a:lnTo>
                            <a:lnTo>
                              <a:pt x="31" y="175"/>
                            </a:lnTo>
                            <a:lnTo>
                              <a:pt x="28" y="178"/>
                            </a:lnTo>
                            <a:lnTo>
                              <a:pt x="23" y="181"/>
                            </a:lnTo>
                            <a:lnTo>
                              <a:pt x="19" y="182"/>
                            </a:lnTo>
                            <a:lnTo>
                              <a:pt x="16" y="184"/>
                            </a:lnTo>
                            <a:lnTo>
                              <a:pt x="13" y="186"/>
                            </a:lnTo>
                            <a:lnTo>
                              <a:pt x="7" y="189"/>
                            </a:lnTo>
                            <a:lnTo>
                              <a:pt x="0" y="19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Freeform 159"/>
                      <p:cNvSpPr/>
                      <p:nvPr/>
                    </p:nvSpPr>
                    <p:spPr>
                      <a:xfrm>
                        <a:off x="2796480" y="2896200"/>
                        <a:ext cx="4320" cy="36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360"/>
                          <a:gd name="textAreaBottom" fmla="*/ 720 h 360"/>
                        </a:gdLst>
                        <a:ahLst/>
                        <a:rect l="textAreaLeft" t="textAreaTop" r="textAreaRight" b="textAreaBottom"/>
                        <a:pathLst>
                          <a:path w="51" h="6">
                            <a:moveTo>
                              <a:pt x="42" y="0"/>
                            </a:moveTo>
                            <a:lnTo>
                              <a:pt x="0" y="3"/>
                            </a:lnTo>
                            <a:lnTo>
                              <a:pt x="5" y="4"/>
                            </a:lnTo>
                            <a:lnTo>
                              <a:pt x="11" y="6"/>
                            </a:lnTo>
                            <a:lnTo>
                              <a:pt x="14" y="6"/>
                            </a:lnTo>
                            <a:lnTo>
                              <a:pt x="20" y="6"/>
                            </a:lnTo>
                            <a:lnTo>
                              <a:pt x="25" y="6"/>
                            </a:lnTo>
                            <a:lnTo>
                              <a:pt x="29" y="6"/>
                            </a:lnTo>
                            <a:lnTo>
                              <a:pt x="35" y="6"/>
                            </a:lnTo>
                            <a:lnTo>
                              <a:pt x="42" y="6"/>
                            </a:lnTo>
                            <a:lnTo>
                              <a:pt x="51" y="3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Freeform 160"/>
                      <p:cNvSpPr/>
                      <p:nvPr/>
                    </p:nvSpPr>
                    <p:spPr>
                      <a:xfrm>
                        <a:off x="2871000" y="2872080"/>
                        <a:ext cx="4320" cy="288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2880"/>
                          <a:gd name="textAreaBottom" fmla="*/ 3240 h 2880"/>
                        </a:gdLst>
                        <a:ahLst/>
                        <a:rect l="textAreaLeft" t="textAreaTop" r="textAreaRight" b="textAreaBottom"/>
                        <a:pathLst>
                          <a:path w="49" h="30">
                            <a:moveTo>
                              <a:pt x="41" y="30"/>
                            </a:moveTo>
                            <a:lnTo>
                              <a:pt x="49" y="26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3" y="5"/>
                            </a:lnTo>
                            <a:lnTo>
                              <a:pt x="14" y="12"/>
                            </a:lnTo>
                            <a:lnTo>
                              <a:pt x="20" y="17"/>
                            </a:lnTo>
                            <a:lnTo>
                              <a:pt x="26" y="21"/>
                            </a:lnTo>
                            <a:lnTo>
                              <a:pt x="30" y="23"/>
                            </a:lnTo>
                            <a:lnTo>
                              <a:pt x="33" y="26"/>
                            </a:lnTo>
                            <a:lnTo>
                              <a:pt x="38" y="27"/>
                            </a:lnTo>
                            <a:lnTo>
                              <a:pt x="41" y="3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Freeform 161"/>
                      <p:cNvSpPr/>
                      <p:nvPr/>
                    </p:nvSpPr>
                    <p:spPr>
                      <a:xfrm>
                        <a:off x="2883240" y="2896200"/>
                        <a:ext cx="12240" cy="72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36" h="10">
                            <a:moveTo>
                              <a:pt x="136" y="0"/>
                            </a:moveTo>
                            <a:lnTo>
                              <a:pt x="131" y="0"/>
                            </a:lnTo>
                            <a:lnTo>
                              <a:pt x="127" y="0"/>
                            </a:lnTo>
                            <a:lnTo>
                              <a:pt x="122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9" y="0"/>
                            </a:lnTo>
                            <a:lnTo>
                              <a:pt x="104" y="0"/>
                            </a:lnTo>
                            <a:lnTo>
                              <a:pt x="101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7" y="0"/>
                            </a:lnTo>
                            <a:lnTo>
                              <a:pt x="84" y="0"/>
                            </a:lnTo>
                            <a:lnTo>
                              <a:pt x="79" y="0"/>
                            </a:lnTo>
                            <a:lnTo>
                              <a:pt x="75" y="0"/>
                            </a:lnTo>
                            <a:lnTo>
                              <a:pt x="70" y="0"/>
                            </a:lnTo>
                            <a:lnTo>
                              <a:pt x="67" y="0"/>
                            </a:lnTo>
                            <a:lnTo>
                              <a:pt x="63" y="0"/>
                            </a:lnTo>
                            <a:lnTo>
                              <a:pt x="58" y="0"/>
                            </a:lnTo>
                            <a:lnTo>
                              <a:pt x="53" y="0"/>
                            </a:lnTo>
                            <a:lnTo>
                              <a:pt x="50" y="0"/>
                            </a:lnTo>
                            <a:lnTo>
                              <a:pt x="46" y="0"/>
                            </a:lnTo>
                            <a:lnTo>
                              <a:pt x="41" y="0"/>
                            </a:lnTo>
                            <a:lnTo>
                              <a:pt x="37" y="2"/>
                            </a:lnTo>
                            <a:lnTo>
                              <a:pt x="34" y="2"/>
                            </a:lnTo>
                            <a:lnTo>
                              <a:pt x="29" y="2"/>
                            </a:lnTo>
                            <a:lnTo>
                              <a:pt x="24" y="3"/>
                            </a:lnTo>
                            <a:lnTo>
                              <a:pt x="20" y="3"/>
                            </a:lnTo>
                            <a:lnTo>
                              <a:pt x="17" y="4"/>
                            </a:lnTo>
                            <a:lnTo>
                              <a:pt x="12" y="4"/>
                            </a:lnTo>
                            <a:lnTo>
                              <a:pt x="8" y="6"/>
                            </a:lnTo>
                            <a:lnTo>
                              <a:pt x="3" y="6"/>
                            </a:lnTo>
                            <a:lnTo>
                              <a:pt x="0" y="9"/>
                            </a:lnTo>
                            <a:lnTo>
                              <a:pt x="27" y="10"/>
                            </a:lnTo>
                            <a:lnTo>
                              <a:pt x="31" y="9"/>
                            </a:lnTo>
                            <a:lnTo>
                              <a:pt x="35" y="6"/>
                            </a:lnTo>
                            <a:lnTo>
                              <a:pt x="41" y="6"/>
                            </a:lnTo>
                            <a:lnTo>
                              <a:pt x="47" y="6"/>
                            </a:lnTo>
                            <a:lnTo>
                              <a:pt x="55" y="6"/>
                            </a:lnTo>
                            <a:lnTo>
                              <a:pt x="58" y="6"/>
                            </a:lnTo>
                            <a:lnTo>
                              <a:pt x="61" y="6"/>
                            </a:lnTo>
                            <a:lnTo>
                              <a:pt x="66" y="6"/>
                            </a:lnTo>
                            <a:lnTo>
                              <a:pt x="69" y="7"/>
                            </a:lnTo>
                            <a:lnTo>
                              <a:pt x="73" y="7"/>
                            </a:lnTo>
                            <a:lnTo>
                              <a:pt x="76" y="9"/>
                            </a:lnTo>
                            <a:lnTo>
                              <a:pt x="81" y="9"/>
                            </a:lnTo>
                            <a:lnTo>
                              <a:pt x="84" y="9"/>
                            </a:lnTo>
                            <a:lnTo>
                              <a:pt x="87" y="9"/>
                            </a:lnTo>
                            <a:lnTo>
                              <a:pt x="92" y="10"/>
                            </a:lnTo>
                            <a:lnTo>
                              <a:pt x="95" y="10"/>
                            </a:lnTo>
                            <a:lnTo>
                              <a:pt x="99" y="10"/>
                            </a:lnTo>
                            <a:lnTo>
                              <a:pt x="102" y="10"/>
                            </a:lnTo>
                            <a:lnTo>
                              <a:pt x="105" y="10"/>
                            </a:lnTo>
                            <a:lnTo>
                              <a:pt x="109" y="10"/>
                            </a:lnTo>
                            <a:lnTo>
                              <a:pt x="113" y="10"/>
                            </a:lnTo>
                            <a:lnTo>
                              <a:pt x="119" y="9"/>
                            </a:lnTo>
                            <a:lnTo>
                              <a:pt x="125" y="7"/>
                            </a:lnTo>
                            <a:lnTo>
                              <a:pt x="130" y="4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Freeform 162"/>
                      <p:cNvSpPr/>
                      <p:nvPr/>
                    </p:nvSpPr>
                    <p:spPr>
                      <a:xfrm>
                        <a:off x="2876760" y="2876040"/>
                        <a:ext cx="10080" cy="612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0 h 6120"/>
                          <a:gd name="textAreaBottom" fmla="*/ 6480 h 6120"/>
                        </a:gdLst>
                        <a:ahLst/>
                        <a:rect l="textAreaLeft" t="textAreaTop" r="textAreaRight" b="textAreaBottom"/>
                        <a:pathLst>
                          <a:path w="113" h="62">
                            <a:moveTo>
                              <a:pt x="0" y="0"/>
                            </a:moveTo>
                            <a:lnTo>
                              <a:pt x="113" y="62"/>
                            </a:lnTo>
                            <a:lnTo>
                              <a:pt x="112" y="61"/>
                            </a:lnTo>
                            <a:lnTo>
                              <a:pt x="107" y="61"/>
                            </a:lnTo>
                            <a:lnTo>
                              <a:pt x="104" y="59"/>
                            </a:lnTo>
                            <a:lnTo>
                              <a:pt x="103" y="59"/>
                            </a:lnTo>
                            <a:lnTo>
                              <a:pt x="100" y="58"/>
                            </a:lnTo>
                            <a:lnTo>
                              <a:pt x="96" y="58"/>
                            </a:lnTo>
                            <a:lnTo>
                              <a:pt x="92" y="57"/>
                            </a:lnTo>
                            <a:lnTo>
                              <a:pt x="87" y="55"/>
                            </a:lnTo>
                            <a:lnTo>
                              <a:pt x="84" y="54"/>
                            </a:lnTo>
                            <a:lnTo>
                              <a:pt x="80" y="52"/>
                            </a:lnTo>
                            <a:lnTo>
                              <a:pt x="75" y="50"/>
                            </a:lnTo>
                            <a:lnTo>
                              <a:pt x="72" y="48"/>
                            </a:lnTo>
                            <a:lnTo>
                              <a:pt x="67" y="46"/>
                            </a:lnTo>
                            <a:lnTo>
                              <a:pt x="63" y="44"/>
                            </a:lnTo>
                            <a:lnTo>
                              <a:pt x="57" y="40"/>
                            </a:lnTo>
                            <a:lnTo>
                              <a:pt x="52" y="37"/>
                            </a:lnTo>
                            <a:lnTo>
                              <a:pt x="46" y="33"/>
                            </a:lnTo>
                            <a:lnTo>
                              <a:pt x="41" y="31"/>
                            </a:lnTo>
                            <a:lnTo>
                              <a:pt x="35" y="26"/>
                            </a:lnTo>
                            <a:lnTo>
                              <a:pt x="31" y="22"/>
                            </a:lnTo>
                            <a:lnTo>
                              <a:pt x="25" y="20"/>
                            </a:lnTo>
                            <a:lnTo>
                              <a:pt x="21" y="17"/>
                            </a:lnTo>
                            <a:lnTo>
                              <a:pt x="17" y="13"/>
                            </a:lnTo>
                            <a:lnTo>
                              <a:pt x="12" y="10"/>
                            </a:lnTo>
                            <a:lnTo>
                              <a:pt x="9" y="7"/>
                            </a:lnTo>
                            <a:lnTo>
                              <a:pt x="6" y="6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Freeform 163"/>
                      <p:cNvSpPr/>
                      <p:nvPr/>
                    </p:nvSpPr>
                    <p:spPr>
                      <a:xfrm>
                        <a:off x="2831040" y="2853360"/>
                        <a:ext cx="12960" cy="97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144" h="96">
                            <a:moveTo>
                              <a:pt x="144" y="0"/>
                            </a:moveTo>
                            <a:lnTo>
                              <a:pt x="139" y="3"/>
                            </a:lnTo>
                            <a:lnTo>
                              <a:pt x="135" y="6"/>
                            </a:lnTo>
                            <a:lnTo>
                              <a:pt x="130" y="8"/>
                            </a:lnTo>
                            <a:lnTo>
                              <a:pt x="126" y="11"/>
                            </a:lnTo>
                            <a:lnTo>
                              <a:pt x="121" y="15"/>
                            </a:lnTo>
                            <a:lnTo>
                              <a:pt x="116" y="18"/>
                            </a:lnTo>
                            <a:lnTo>
                              <a:pt x="112" y="21"/>
                            </a:lnTo>
                            <a:lnTo>
                              <a:pt x="107" y="24"/>
                            </a:lnTo>
                            <a:lnTo>
                              <a:pt x="103" y="26"/>
                            </a:lnTo>
                            <a:lnTo>
                              <a:pt x="98" y="29"/>
                            </a:lnTo>
                            <a:lnTo>
                              <a:pt x="94" y="32"/>
                            </a:lnTo>
                            <a:lnTo>
                              <a:pt x="90" y="36"/>
                            </a:lnTo>
                            <a:lnTo>
                              <a:pt x="84" y="39"/>
                            </a:lnTo>
                            <a:lnTo>
                              <a:pt x="80" y="41"/>
                            </a:lnTo>
                            <a:lnTo>
                              <a:pt x="75" y="44"/>
                            </a:lnTo>
                            <a:lnTo>
                              <a:pt x="72" y="47"/>
                            </a:lnTo>
                            <a:lnTo>
                              <a:pt x="66" y="50"/>
                            </a:lnTo>
                            <a:lnTo>
                              <a:pt x="61" y="52"/>
                            </a:lnTo>
                            <a:lnTo>
                              <a:pt x="57" y="55"/>
                            </a:lnTo>
                            <a:lnTo>
                              <a:pt x="52" y="59"/>
                            </a:lnTo>
                            <a:lnTo>
                              <a:pt x="48" y="62"/>
                            </a:lnTo>
                            <a:lnTo>
                              <a:pt x="45" y="65"/>
                            </a:lnTo>
                            <a:lnTo>
                              <a:pt x="38" y="67"/>
                            </a:lnTo>
                            <a:lnTo>
                              <a:pt x="35" y="70"/>
                            </a:lnTo>
                            <a:lnTo>
                              <a:pt x="31" y="73"/>
                            </a:lnTo>
                            <a:lnTo>
                              <a:pt x="26" y="77"/>
                            </a:lnTo>
                            <a:lnTo>
                              <a:pt x="22" y="80"/>
                            </a:lnTo>
                            <a:lnTo>
                              <a:pt x="17" y="83"/>
                            </a:lnTo>
                            <a:lnTo>
                              <a:pt x="14" y="85"/>
                            </a:lnTo>
                            <a:lnTo>
                              <a:pt x="9" y="89"/>
                            </a:lnTo>
                            <a:lnTo>
                              <a:pt x="5" y="92"/>
                            </a:lnTo>
                            <a:lnTo>
                              <a:pt x="0" y="96"/>
                            </a:lnTo>
                            <a:lnTo>
                              <a:pt x="5" y="94"/>
                            </a:lnTo>
                            <a:lnTo>
                              <a:pt x="9" y="91"/>
                            </a:lnTo>
                            <a:lnTo>
                              <a:pt x="14" y="88"/>
                            </a:lnTo>
                            <a:lnTo>
                              <a:pt x="19" y="85"/>
                            </a:lnTo>
                            <a:lnTo>
                              <a:pt x="23" y="83"/>
                            </a:lnTo>
                            <a:lnTo>
                              <a:pt x="28" y="81"/>
                            </a:lnTo>
                            <a:lnTo>
                              <a:pt x="32" y="78"/>
                            </a:lnTo>
                            <a:lnTo>
                              <a:pt x="37" y="76"/>
                            </a:lnTo>
                            <a:lnTo>
                              <a:pt x="42" y="73"/>
                            </a:lnTo>
                            <a:lnTo>
                              <a:pt x="46" y="70"/>
                            </a:lnTo>
                            <a:lnTo>
                              <a:pt x="51" y="67"/>
                            </a:lnTo>
                            <a:lnTo>
                              <a:pt x="55" y="65"/>
                            </a:lnTo>
                            <a:lnTo>
                              <a:pt x="60" y="61"/>
                            </a:lnTo>
                            <a:lnTo>
                              <a:pt x="64" y="58"/>
                            </a:lnTo>
                            <a:lnTo>
                              <a:pt x="71" y="55"/>
                            </a:lnTo>
                            <a:lnTo>
                              <a:pt x="75" y="52"/>
                            </a:lnTo>
                            <a:lnTo>
                              <a:pt x="80" y="48"/>
                            </a:lnTo>
                            <a:lnTo>
                              <a:pt x="84" y="46"/>
                            </a:lnTo>
                            <a:lnTo>
                              <a:pt x="89" y="43"/>
                            </a:lnTo>
                            <a:lnTo>
                              <a:pt x="94" y="40"/>
                            </a:lnTo>
                            <a:lnTo>
                              <a:pt x="98" y="36"/>
                            </a:lnTo>
                            <a:lnTo>
                              <a:pt x="103" y="33"/>
                            </a:lnTo>
                            <a:lnTo>
                              <a:pt x="107" y="29"/>
                            </a:lnTo>
                            <a:lnTo>
                              <a:pt x="112" y="26"/>
                            </a:lnTo>
                            <a:lnTo>
                              <a:pt x="115" y="24"/>
                            </a:lnTo>
                            <a:lnTo>
                              <a:pt x="120" y="19"/>
                            </a:lnTo>
                            <a:lnTo>
                              <a:pt x="124" y="17"/>
                            </a:lnTo>
                            <a:lnTo>
                              <a:pt x="127" y="13"/>
                            </a:lnTo>
                            <a:lnTo>
                              <a:pt x="132" y="10"/>
                            </a:lnTo>
                            <a:lnTo>
                              <a:pt x="136" y="7"/>
                            </a:lnTo>
                            <a:lnTo>
                              <a:pt x="141" y="3"/>
                            </a:lnTo>
                            <a:lnTo>
                              <a:pt x="14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Freeform 164"/>
                      <p:cNvSpPr/>
                      <p:nvPr/>
                    </p:nvSpPr>
                    <p:spPr>
                      <a:xfrm>
                        <a:off x="2849760" y="2896560"/>
                        <a:ext cx="19080" cy="55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080 w 190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214" h="551">
                            <a:moveTo>
                              <a:pt x="1" y="0"/>
                            </a:moveTo>
                            <a:lnTo>
                              <a:pt x="1" y="2"/>
                            </a:lnTo>
                            <a:lnTo>
                              <a:pt x="0" y="4"/>
                            </a:lnTo>
                            <a:lnTo>
                              <a:pt x="0" y="7"/>
                            </a:lnTo>
                            <a:lnTo>
                              <a:pt x="0" y="10"/>
                            </a:lnTo>
                            <a:lnTo>
                              <a:pt x="0" y="14"/>
                            </a:lnTo>
                            <a:lnTo>
                              <a:pt x="0" y="17"/>
                            </a:lnTo>
                            <a:lnTo>
                              <a:pt x="0" y="22"/>
                            </a:lnTo>
                            <a:lnTo>
                              <a:pt x="1" y="26"/>
                            </a:lnTo>
                            <a:lnTo>
                              <a:pt x="1" y="32"/>
                            </a:lnTo>
                            <a:lnTo>
                              <a:pt x="1" y="36"/>
                            </a:lnTo>
                            <a:lnTo>
                              <a:pt x="3" y="42"/>
                            </a:lnTo>
                            <a:lnTo>
                              <a:pt x="3" y="47"/>
                            </a:lnTo>
                            <a:lnTo>
                              <a:pt x="5" y="52"/>
                            </a:lnTo>
                            <a:lnTo>
                              <a:pt x="5" y="58"/>
                            </a:lnTo>
                            <a:lnTo>
                              <a:pt x="5" y="63"/>
                            </a:lnTo>
                            <a:lnTo>
                              <a:pt x="6" y="69"/>
                            </a:lnTo>
                            <a:lnTo>
                              <a:pt x="6" y="74"/>
                            </a:lnTo>
                            <a:lnTo>
                              <a:pt x="8" y="80"/>
                            </a:lnTo>
                            <a:lnTo>
                              <a:pt x="8" y="84"/>
                            </a:lnTo>
                            <a:lnTo>
                              <a:pt x="9" y="91"/>
                            </a:lnTo>
                            <a:lnTo>
                              <a:pt x="9" y="95"/>
                            </a:lnTo>
                            <a:lnTo>
                              <a:pt x="11" y="101"/>
                            </a:lnTo>
                            <a:lnTo>
                              <a:pt x="11" y="105"/>
                            </a:lnTo>
                            <a:lnTo>
                              <a:pt x="11" y="109"/>
                            </a:lnTo>
                            <a:lnTo>
                              <a:pt x="11" y="113"/>
                            </a:lnTo>
                            <a:lnTo>
                              <a:pt x="12" y="116"/>
                            </a:lnTo>
                            <a:lnTo>
                              <a:pt x="12" y="118"/>
                            </a:lnTo>
                            <a:lnTo>
                              <a:pt x="14" y="122"/>
                            </a:lnTo>
                            <a:lnTo>
                              <a:pt x="14" y="127"/>
                            </a:lnTo>
                            <a:lnTo>
                              <a:pt x="14" y="129"/>
                            </a:lnTo>
                            <a:lnTo>
                              <a:pt x="14" y="132"/>
                            </a:lnTo>
                            <a:lnTo>
                              <a:pt x="14" y="136"/>
                            </a:lnTo>
                            <a:lnTo>
                              <a:pt x="15" y="140"/>
                            </a:lnTo>
                            <a:lnTo>
                              <a:pt x="15" y="144"/>
                            </a:lnTo>
                            <a:lnTo>
                              <a:pt x="15" y="149"/>
                            </a:lnTo>
                            <a:lnTo>
                              <a:pt x="17" y="153"/>
                            </a:lnTo>
                            <a:lnTo>
                              <a:pt x="17" y="155"/>
                            </a:lnTo>
                            <a:lnTo>
                              <a:pt x="18" y="160"/>
                            </a:lnTo>
                            <a:lnTo>
                              <a:pt x="18" y="162"/>
                            </a:lnTo>
                            <a:lnTo>
                              <a:pt x="18" y="165"/>
                            </a:lnTo>
                            <a:lnTo>
                              <a:pt x="18" y="166"/>
                            </a:lnTo>
                            <a:lnTo>
                              <a:pt x="18" y="168"/>
                            </a:lnTo>
                            <a:lnTo>
                              <a:pt x="17" y="168"/>
                            </a:lnTo>
                            <a:lnTo>
                              <a:pt x="15" y="166"/>
                            </a:lnTo>
                            <a:lnTo>
                              <a:pt x="14" y="165"/>
                            </a:lnTo>
                            <a:lnTo>
                              <a:pt x="12" y="161"/>
                            </a:lnTo>
                            <a:lnTo>
                              <a:pt x="14" y="551"/>
                            </a:lnTo>
                            <a:lnTo>
                              <a:pt x="214" y="551"/>
                            </a:lnTo>
                            <a:lnTo>
                              <a:pt x="210" y="84"/>
                            </a:lnTo>
                            <a:lnTo>
                              <a:pt x="210" y="79"/>
                            </a:lnTo>
                            <a:lnTo>
                              <a:pt x="210" y="74"/>
                            </a:lnTo>
                            <a:lnTo>
                              <a:pt x="210" y="69"/>
                            </a:lnTo>
                            <a:lnTo>
                              <a:pt x="210" y="65"/>
                            </a:lnTo>
                            <a:lnTo>
                              <a:pt x="210" y="59"/>
                            </a:lnTo>
                            <a:lnTo>
                              <a:pt x="210" y="57"/>
                            </a:lnTo>
                            <a:lnTo>
                              <a:pt x="210" y="51"/>
                            </a:lnTo>
                            <a:lnTo>
                              <a:pt x="210" y="47"/>
                            </a:lnTo>
                            <a:lnTo>
                              <a:pt x="210" y="42"/>
                            </a:lnTo>
                            <a:lnTo>
                              <a:pt x="210" y="39"/>
                            </a:lnTo>
                            <a:lnTo>
                              <a:pt x="210" y="33"/>
                            </a:lnTo>
                            <a:lnTo>
                              <a:pt x="210" y="29"/>
                            </a:lnTo>
                            <a:lnTo>
                              <a:pt x="210" y="24"/>
                            </a:lnTo>
                            <a:lnTo>
                              <a:pt x="210" y="20"/>
                            </a:lnTo>
                            <a:lnTo>
                              <a:pt x="210" y="15"/>
                            </a:lnTo>
                            <a:lnTo>
                              <a:pt x="210" y="11"/>
                            </a:lnTo>
                            <a:lnTo>
                              <a:pt x="202" y="15"/>
                            </a:lnTo>
                            <a:lnTo>
                              <a:pt x="200" y="20"/>
                            </a:lnTo>
                            <a:lnTo>
                              <a:pt x="200" y="22"/>
                            </a:lnTo>
                            <a:lnTo>
                              <a:pt x="200" y="26"/>
                            </a:lnTo>
                            <a:lnTo>
                              <a:pt x="200" y="31"/>
                            </a:lnTo>
                            <a:lnTo>
                              <a:pt x="200" y="35"/>
                            </a:lnTo>
                            <a:lnTo>
                              <a:pt x="200" y="39"/>
                            </a:lnTo>
                            <a:lnTo>
                              <a:pt x="200" y="43"/>
                            </a:lnTo>
                            <a:lnTo>
                              <a:pt x="200" y="47"/>
                            </a:lnTo>
                            <a:lnTo>
                              <a:pt x="200" y="51"/>
                            </a:lnTo>
                            <a:lnTo>
                              <a:pt x="200" y="54"/>
                            </a:lnTo>
                            <a:lnTo>
                              <a:pt x="200" y="58"/>
                            </a:lnTo>
                            <a:lnTo>
                              <a:pt x="202" y="62"/>
                            </a:lnTo>
                            <a:lnTo>
                              <a:pt x="202" y="66"/>
                            </a:lnTo>
                            <a:lnTo>
                              <a:pt x="202" y="69"/>
                            </a:lnTo>
                            <a:lnTo>
                              <a:pt x="203" y="73"/>
                            </a:lnTo>
                            <a:lnTo>
                              <a:pt x="203" y="77"/>
                            </a:lnTo>
                            <a:lnTo>
                              <a:pt x="203" y="79"/>
                            </a:lnTo>
                            <a:lnTo>
                              <a:pt x="203" y="81"/>
                            </a:lnTo>
                            <a:lnTo>
                              <a:pt x="202" y="84"/>
                            </a:lnTo>
                            <a:lnTo>
                              <a:pt x="202" y="85"/>
                            </a:lnTo>
                            <a:lnTo>
                              <a:pt x="200" y="80"/>
                            </a:lnTo>
                            <a:lnTo>
                              <a:pt x="200" y="74"/>
                            </a:lnTo>
                            <a:lnTo>
                              <a:pt x="199" y="69"/>
                            </a:lnTo>
                            <a:lnTo>
                              <a:pt x="199" y="63"/>
                            </a:lnTo>
                            <a:lnTo>
                              <a:pt x="199" y="58"/>
                            </a:lnTo>
                            <a:lnTo>
                              <a:pt x="197" y="52"/>
                            </a:lnTo>
                            <a:lnTo>
                              <a:pt x="197" y="47"/>
                            </a:lnTo>
                            <a:lnTo>
                              <a:pt x="196" y="42"/>
                            </a:lnTo>
                            <a:lnTo>
                              <a:pt x="194" y="43"/>
                            </a:lnTo>
                            <a:lnTo>
                              <a:pt x="194" y="47"/>
                            </a:lnTo>
                            <a:lnTo>
                              <a:pt x="194" y="50"/>
                            </a:lnTo>
                            <a:lnTo>
                              <a:pt x="194" y="52"/>
                            </a:lnTo>
                            <a:lnTo>
                              <a:pt x="194" y="57"/>
                            </a:lnTo>
                            <a:lnTo>
                              <a:pt x="194" y="61"/>
                            </a:lnTo>
                            <a:lnTo>
                              <a:pt x="194" y="63"/>
                            </a:lnTo>
                            <a:lnTo>
                              <a:pt x="194" y="69"/>
                            </a:lnTo>
                            <a:lnTo>
                              <a:pt x="194" y="73"/>
                            </a:lnTo>
                            <a:lnTo>
                              <a:pt x="194" y="79"/>
                            </a:lnTo>
                            <a:lnTo>
                              <a:pt x="194" y="83"/>
                            </a:lnTo>
                            <a:lnTo>
                              <a:pt x="194" y="88"/>
                            </a:lnTo>
                            <a:lnTo>
                              <a:pt x="194" y="94"/>
                            </a:lnTo>
                            <a:lnTo>
                              <a:pt x="196" y="99"/>
                            </a:lnTo>
                            <a:lnTo>
                              <a:pt x="196" y="103"/>
                            </a:lnTo>
                            <a:lnTo>
                              <a:pt x="196" y="109"/>
                            </a:lnTo>
                            <a:lnTo>
                              <a:pt x="196" y="113"/>
                            </a:lnTo>
                            <a:lnTo>
                              <a:pt x="196" y="117"/>
                            </a:lnTo>
                            <a:lnTo>
                              <a:pt x="196" y="121"/>
                            </a:lnTo>
                            <a:lnTo>
                              <a:pt x="196" y="125"/>
                            </a:lnTo>
                            <a:lnTo>
                              <a:pt x="196" y="129"/>
                            </a:lnTo>
                            <a:lnTo>
                              <a:pt x="196" y="133"/>
                            </a:lnTo>
                            <a:lnTo>
                              <a:pt x="196" y="138"/>
                            </a:lnTo>
                            <a:lnTo>
                              <a:pt x="196" y="140"/>
                            </a:lnTo>
                            <a:lnTo>
                              <a:pt x="194" y="142"/>
                            </a:lnTo>
                            <a:lnTo>
                              <a:pt x="194" y="140"/>
                            </a:lnTo>
                            <a:lnTo>
                              <a:pt x="193" y="135"/>
                            </a:lnTo>
                            <a:lnTo>
                              <a:pt x="193" y="128"/>
                            </a:lnTo>
                            <a:lnTo>
                              <a:pt x="193" y="122"/>
                            </a:lnTo>
                            <a:lnTo>
                              <a:pt x="193" y="118"/>
                            </a:lnTo>
                            <a:lnTo>
                              <a:pt x="193" y="112"/>
                            </a:lnTo>
                            <a:lnTo>
                              <a:pt x="191" y="106"/>
                            </a:lnTo>
                            <a:lnTo>
                              <a:pt x="191" y="101"/>
                            </a:lnTo>
                            <a:lnTo>
                              <a:pt x="191" y="95"/>
                            </a:lnTo>
                            <a:lnTo>
                              <a:pt x="190" y="92"/>
                            </a:lnTo>
                            <a:lnTo>
                              <a:pt x="190" y="88"/>
                            </a:lnTo>
                            <a:lnTo>
                              <a:pt x="190" y="85"/>
                            </a:lnTo>
                            <a:lnTo>
                              <a:pt x="190" y="84"/>
                            </a:lnTo>
                            <a:lnTo>
                              <a:pt x="188" y="79"/>
                            </a:lnTo>
                            <a:lnTo>
                              <a:pt x="188" y="73"/>
                            </a:lnTo>
                            <a:lnTo>
                              <a:pt x="188" y="69"/>
                            </a:lnTo>
                            <a:lnTo>
                              <a:pt x="188" y="63"/>
                            </a:lnTo>
                            <a:lnTo>
                              <a:pt x="188" y="59"/>
                            </a:lnTo>
                            <a:lnTo>
                              <a:pt x="188" y="55"/>
                            </a:lnTo>
                            <a:lnTo>
                              <a:pt x="188" y="50"/>
                            </a:lnTo>
                            <a:lnTo>
                              <a:pt x="188" y="46"/>
                            </a:lnTo>
                            <a:lnTo>
                              <a:pt x="188" y="40"/>
                            </a:lnTo>
                            <a:lnTo>
                              <a:pt x="190" y="36"/>
                            </a:lnTo>
                            <a:lnTo>
                              <a:pt x="190" y="31"/>
                            </a:lnTo>
                            <a:lnTo>
                              <a:pt x="190" y="25"/>
                            </a:lnTo>
                            <a:lnTo>
                              <a:pt x="190" y="20"/>
                            </a:lnTo>
                            <a:lnTo>
                              <a:pt x="190" y="14"/>
                            </a:lnTo>
                            <a:lnTo>
                              <a:pt x="171" y="14"/>
                            </a:lnTo>
                            <a:lnTo>
                              <a:pt x="171" y="17"/>
                            </a:lnTo>
                            <a:lnTo>
                              <a:pt x="171" y="21"/>
                            </a:lnTo>
                            <a:lnTo>
                              <a:pt x="171" y="25"/>
                            </a:lnTo>
                            <a:lnTo>
                              <a:pt x="171" y="29"/>
                            </a:lnTo>
                            <a:lnTo>
                              <a:pt x="171" y="32"/>
                            </a:lnTo>
                            <a:lnTo>
                              <a:pt x="171" y="36"/>
                            </a:lnTo>
                            <a:lnTo>
                              <a:pt x="171" y="40"/>
                            </a:lnTo>
                            <a:lnTo>
                              <a:pt x="171" y="44"/>
                            </a:lnTo>
                            <a:lnTo>
                              <a:pt x="171" y="47"/>
                            </a:lnTo>
                            <a:lnTo>
                              <a:pt x="171" y="52"/>
                            </a:lnTo>
                            <a:lnTo>
                              <a:pt x="171" y="55"/>
                            </a:lnTo>
                            <a:lnTo>
                              <a:pt x="171" y="59"/>
                            </a:lnTo>
                            <a:lnTo>
                              <a:pt x="171" y="63"/>
                            </a:lnTo>
                            <a:lnTo>
                              <a:pt x="171" y="68"/>
                            </a:lnTo>
                            <a:lnTo>
                              <a:pt x="171" y="72"/>
                            </a:lnTo>
                            <a:lnTo>
                              <a:pt x="173" y="76"/>
                            </a:lnTo>
                            <a:lnTo>
                              <a:pt x="173" y="79"/>
                            </a:lnTo>
                            <a:lnTo>
                              <a:pt x="173" y="83"/>
                            </a:lnTo>
                            <a:lnTo>
                              <a:pt x="173" y="87"/>
                            </a:lnTo>
                            <a:lnTo>
                              <a:pt x="173" y="91"/>
                            </a:lnTo>
                            <a:lnTo>
                              <a:pt x="173" y="94"/>
                            </a:lnTo>
                            <a:lnTo>
                              <a:pt x="174" y="98"/>
                            </a:lnTo>
                            <a:lnTo>
                              <a:pt x="174" y="102"/>
                            </a:lnTo>
                            <a:lnTo>
                              <a:pt x="174" y="106"/>
                            </a:lnTo>
                            <a:lnTo>
                              <a:pt x="174" y="109"/>
                            </a:lnTo>
                            <a:lnTo>
                              <a:pt x="174" y="113"/>
                            </a:lnTo>
                            <a:lnTo>
                              <a:pt x="174" y="116"/>
                            </a:lnTo>
                            <a:lnTo>
                              <a:pt x="174" y="120"/>
                            </a:lnTo>
                            <a:lnTo>
                              <a:pt x="174" y="124"/>
                            </a:lnTo>
                            <a:lnTo>
                              <a:pt x="176" y="127"/>
                            </a:lnTo>
                            <a:lnTo>
                              <a:pt x="176" y="131"/>
                            </a:lnTo>
                            <a:lnTo>
                              <a:pt x="176" y="133"/>
                            </a:lnTo>
                            <a:lnTo>
                              <a:pt x="176" y="136"/>
                            </a:lnTo>
                            <a:lnTo>
                              <a:pt x="176" y="139"/>
                            </a:lnTo>
                            <a:lnTo>
                              <a:pt x="176" y="143"/>
                            </a:lnTo>
                            <a:lnTo>
                              <a:pt x="176" y="149"/>
                            </a:lnTo>
                            <a:lnTo>
                              <a:pt x="176" y="153"/>
                            </a:lnTo>
                            <a:lnTo>
                              <a:pt x="176" y="160"/>
                            </a:lnTo>
                            <a:lnTo>
                              <a:pt x="176" y="162"/>
                            </a:lnTo>
                            <a:lnTo>
                              <a:pt x="176" y="165"/>
                            </a:lnTo>
                            <a:lnTo>
                              <a:pt x="176" y="168"/>
                            </a:lnTo>
                            <a:lnTo>
                              <a:pt x="176" y="172"/>
                            </a:lnTo>
                            <a:lnTo>
                              <a:pt x="176" y="177"/>
                            </a:lnTo>
                            <a:lnTo>
                              <a:pt x="176" y="183"/>
                            </a:lnTo>
                            <a:lnTo>
                              <a:pt x="174" y="187"/>
                            </a:lnTo>
                            <a:lnTo>
                              <a:pt x="174" y="192"/>
                            </a:lnTo>
                            <a:lnTo>
                              <a:pt x="174" y="198"/>
                            </a:lnTo>
                            <a:lnTo>
                              <a:pt x="173" y="202"/>
                            </a:lnTo>
                            <a:lnTo>
                              <a:pt x="171" y="205"/>
                            </a:lnTo>
                            <a:lnTo>
                              <a:pt x="171" y="206"/>
                            </a:lnTo>
                            <a:lnTo>
                              <a:pt x="170" y="201"/>
                            </a:lnTo>
                            <a:lnTo>
                              <a:pt x="170" y="195"/>
                            </a:lnTo>
                            <a:lnTo>
                              <a:pt x="168" y="188"/>
                            </a:lnTo>
                            <a:lnTo>
                              <a:pt x="168" y="183"/>
                            </a:lnTo>
                            <a:lnTo>
                              <a:pt x="168" y="180"/>
                            </a:lnTo>
                            <a:lnTo>
                              <a:pt x="168" y="177"/>
                            </a:lnTo>
                            <a:lnTo>
                              <a:pt x="167" y="173"/>
                            </a:lnTo>
                            <a:lnTo>
                              <a:pt x="167" y="171"/>
                            </a:lnTo>
                            <a:lnTo>
                              <a:pt x="167" y="165"/>
                            </a:lnTo>
                            <a:lnTo>
                              <a:pt x="167" y="160"/>
                            </a:lnTo>
                            <a:lnTo>
                              <a:pt x="167" y="155"/>
                            </a:lnTo>
                            <a:lnTo>
                              <a:pt x="167" y="153"/>
                            </a:lnTo>
                            <a:lnTo>
                              <a:pt x="167" y="149"/>
                            </a:lnTo>
                            <a:lnTo>
                              <a:pt x="167" y="146"/>
                            </a:lnTo>
                            <a:lnTo>
                              <a:pt x="167" y="143"/>
                            </a:lnTo>
                            <a:lnTo>
                              <a:pt x="167" y="140"/>
                            </a:lnTo>
                            <a:lnTo>
                              <a:pt x="167" y="136"/>
                            </a:lnTo>
                            <a:lnTo>
                              <a:pt x="167" y="133"/>
                            </a:lnTo>
                            <a:lnTo>
                              <a:pt x="167" y="131"/>
                            </a:lnTo>
                            <a:lnTo>
                              <a:pt x="167" y="128"/>
                            </a:lnTo>
                            <a:lnTo>
                              <a:pt x="167" y="124"/>
                            </a:lnTo>
                            <a:lnTo>
                              <a:pt x="167" y="121"/>
                            </a:lnTo>
                            <a:lnTo>
                              <a:pt x="167" y="118"/>
                            </a:lnTo>
                            <a:lnTo>
                              <a:pt x="167" y="116"/>
                            </a:lnTo>
                            <a:lnTo>
                              <a:pt x="167" y="112"/>
                            </a:lnTo>
                            <a:lnTo>
                              <a:pt x="168" y="109"/>
                            </a:lnTo>
                            <a:lnTo>
                              <a:pt x="168" y="106"/>
                            </a:lnTo>
                            <a:lnTo>
                              <a:pt x="168" y="102"/>
                            </a:lnTo>
                            <a:lnTo>
                              <a:pt x="168" y="99"/>
                            </a:lnTo>
                            <a:lnTo>
                              <a:pt x="168" y="95"/>
                            </a:lnTo>
                            <a:lnTo>
                              <a:pt x="168" y="92"/>
                            </a:lnTo>
                            <a:lnTo>
                              <a:pt x="168" y="90"/>
                            </a:lnTo>
                            <a:lnTo>
                              <a:pt x="168" y="85"/>
                            </a:lnTo>
                            <a:lnTo>
                              <a:pt x="168" y="83"/>
                            </a:lnTo>
                            <a:lnTo>
                              <a:pt x="168" y="80"/>
                            </a:lnTo>
                            <a:lnTo>
                              <a:pt x="168" y="76"/>
                            </a:lnTo>
                            <a:lnTo>
                              <a:pt x="168" y="73"/>
                            </a:lnTo>
                            <a:lnTo>
                              <a:pt x="168" y="70"/>
                            </a:lnTo>
                            <a:lnTo>
                              <a:pt x="168" y="66"/>
                            </a:lnTo>
                            <a:lnTo>
                              <a:pt x="168" y="63"/>
                            </a:lnTo>
                            <a:lnTo>
                              <a:pt x="168" y="61"/>
                            </a:lnTo>
                            <a:lnTo>
                              <a:pt x="168" y="58"/>
                            </a:lnTo>
                            <a:lnTo>
                              <a:pt x="167" y="54"/>
                            </a:lnTo>
                            <a:lnTo>
                              <a:pt x="167" y="51"/>
                            </a:lnTo>
                            <a:lnTo>
                              <a:pt x="167" y="48"/>
                            </a:lnTo>
                            <a:lnTo>
                              <a:pt x="167" y="46"/>
                            </a:lnTo>
                            <a:lnTo>
                              <a:pt x="167" y="39"/>
                            </a:lnTo>
                            <a:lnTo>
                              <a:pt x="167" y="33"/>
                            </a:lnTo>
                            <a:lnTo>
                              <a:pt x="165" y="28"/>
                            </a:lnTo>
                            <a:lnTo>
                              <a:pt x="165" y="22"/>
                            </a:lnTo>
                            <a:lnTo>
                              <a:pt x="165" y="17"/>
                            </a:lnTo>
                            <a:lnTo>
                              <a:pt x="164" y="11"/>
                            </a:lnTo>
                            <a:lnTo>
                              <a:pt x="162" y="10"/>
                            </a:lnTo>
                            <a:lnTo>
                              <a:pt x="161" y="14"/>
                            </a:lnTo>
                            <a:lnTo>
                              <a:pt x="157" y="17"/>
                            </a:lnTo>
                            <a:lnTo>
                              <a:pt x="156" y="18"/>
                            </a:lnTo>
                            <a:lnTo>
                              <a:pt x="154" y="20"/>
                            </a:lnTo>
                            <a:lnTo>
                              <a:pt x="154" y="22"/>
                            </a:lnTo>
                            <a:lnTo>
                              <a:pt x="153" y="26"/>
                            </a:lnTo>
                            <a:lnTo>
                              <a:pt x="153" y="29"/>
                            </a:lnTo>
                            <a:lnTo>
                              <a:pt x="153" y="32"/>
                            </a:lnTo>
                            <a:lnTo>
                              <a:pt x="153" y="36"/>
                            </a:lnTo>
                            <a:lnTo>
                              <a:pt x="153" y="39"/>
                            </a:lnTo>
                            <a:lnTo>
                              <a:pt x="153" y="43"/>
                            </a:lnTo>
                            <a:lnTo>
                              <a:pt x="156" y="105"/>
                            </a:lnTo>
                            <a:lnTo>
                              <a:pt x="156" y="109"/>
                            </a:lnTo>
                            <a:lnTo>
                              <a:pt x="156" y="114"/>
                            </a:lnTo>
                            <a:lnTo>
                              <a:pt x="156" y="120"/>
                            </a:lnTo>
                            <a:lnTo>
                              <a:pt x="156" y="125"/>
                            </a:lnTo>
                            <a:lnTo>
                              <a:pt x="156" y="129"/>
                            </a:lnTo>
                            <a:lnTo>
                              <a:pt x="156" y="135"/>
                            </a:lnTo>
                            <a:lnTo>
                              <a:pt x="156" y="140"/>
                            </a:lnTo>
                            <a:lnTo>
                              <a:pt x="156" y="144"/>
                            </a:lnTo>
                            <a:lnTo>
                              <a:pt x="154" y="150"/>
                            </a:lnTo>
                            <a:lnTo>
                              <a:pt x="154" y="155"/>
                            </a:lnTo>
                            <a:lnTo>
                              <a:pt x="154" y="160"/>
                            </a:lnTo>
                            <a:lnTo>
                              <a:pt x="154" y="165"/>
                            </a:lnTo>
                            <a:lnTo>
                              <a:pt x="153" y="171"/>
                            </a:lnTo>
                            <a:lnTo>
                              <a:pt x="153" y="175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3" y="512"/>
                            </a:lnTo>
                            <a:lnTo>
                              <a:pt x="78" y="515"/>
                            </a:lnTo>
                            <a:lnTo>
                              <a:pt x="73" y="66"/>
                            </a:lnTo>
                            <a:lnTo>
                              <a:pt x="72" y="62"/>
                            </a:lnTo>
                            <a:lnTo>
                              <a:pt x="72" y="59"/>
                            </a:lnTo>
                            <a:lnTo>
                              <a:pt x="72" y="57"/>
                            </a:lnTo>
                            <a:lnTo>
                              <a:pt x="72" y="54"/>
                            </a:lnTo>
                            <a:lnTo>
                              <a:pt x="70" y="50"/>
                            </a:lnTo>
                            <a:lnTo>
                              <a:pt x="70" y="47"/>
                            </a:lnTo>
                            <a:lnTo>
                              <a:pt x="69" y="43"/>
                            </a:lnTo>
                            <a:lnTo>
                              <a:pt x="69" y="40"/>
                            </a:lnTo>
                            <a:lnTo>
                              <a:pt x="69" y="37"/>
                            </a:lnTo>
                            <a:lnTo>
                              <a:pt x="69" y="33"/>
                            </a:lnTo>
                            <a:lnTo>
                              <a:pt x="67" y="31"/>
                            </a:lnTo>
                            <a:lnTo>
                              <a:pt x="67" y="28"/>
                            </a:lnTo>
                            <a:lnTo>
                              <a:pt x="66" y="21"/>
                            </a:lnTo>
                            <a:lnTo>
                              <a:pt x="66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5" name="Freeform 165"/>
                      <p:cNvSpPr/>
                      <p:nvPr/>
                    </p:nvSpPr>
                    <p:spPr>
                      <a:xfrm>
                        <a:off x="2803320" y="2929320"/>
                        <a:ext cx="1080" cy="17640"/>
                      </a:xfrm>
                      <a:custGeom>
                        <a:avLst/>
                        <a:gdLst>
                          <a:gd name="textAreaLeft" fmla="*/ 0 w 1080"/>
                          <a:gd name="textAreaRight" fmla="*/ 1440 w 1080"/>
                          <a:gd name="textAreaTop" fmla="*/ 0 h 17640"/>
                          <a:gd name="textAreaBottom" fmla="*/ 18000 h 17640"/>
                        </a:gdLst>
                        <a:ahLst/>
                        <a:rect l="textAreaLeft" t="textAreaTop" r="textAreaRight" b="textAreaBottom"/>
                        <a:pathLst>
                          <a:path w="12" h="178">
                            <a:moveTo>
                              <a:pt x="4" y="176"/>
                            </a:moveTo>
                            <a:lnTo>
                              <a:pt x="7" y="178"/>
                            </a:lnTo>
                            <a:lnTo>
                              <a:pt x="9" y="176"/>
                            </a:lnTo>
                            <a:lnTo>
                              <a:pt x="9" y="175"/>
                            </a:lnTo>
                            <a:lnTo>
                              <a:pt x="9" y="172"/>
                            </a:lnTo>
                            <a:lnTo>
                              <a:pt x="9" y="167"/>
                            </a:lnTo>
                            <a:lnTo>
                              <a:pt x="9" y="161"/>
                            </a:lnTo>
                            <a:lnTo>
                              <a:pt x="9" y="156"/>
                            </a:lnTo>
                            <a:lnTo>
                              <a:pt x="9" y="150"/>
                            </a:lnTo>
                            <a:lnTo>
                              <a:pt x="9" y="145"/>
                            </a:lnTo>
                            <a:lnTo>
                              <a:pt x="9" y="139"/>
                            </a:lnTo>
                            <a:lnTo>
                              <a:pt x="9" y="134"/>
                            </a:lnTo>
                            <a:lnTo>
                              <a:pt x="10" y="129"/>
                            </a:lnTo>
                            <a:lnTo>
                              <a:pt x="10" y="124"/>
                            </a:lnTo>
                            <a:lnTo>
                              <a:pt x="10" y="118"/>
                            </a:lnTo>
                            <a:lnTo>
                              <a:pt x="10" y="112"/>
                            </a:lnTo>
                            <a:lnTo>
                              <a:pt x="10" y="108"/>
                            </a:lnTo>
                            <a:lnTo>
                              <a:pt x="10" y="102"/>
                            </a:lnTo>
                            <a:lnTo>
                              <a:pt x="10" y="97"/>
                            </a:lnTo>
                            <a:lnTo>
                              <a:pt x="10" y="91"/>
                            </a:lnTo>
                            <a:lnTo>
                              <a:pt x="12" y="86"/>
                            </a:lnTo>
                            <a:lnTo>
                              <a:pt x="12" y="80"/>
                            </a:lnTo>
                            <a:lnTo>
                              <a:pt x="12" y="75"/>
                            </a:lnTo>
                            <a:lnTo>
                              <a:pt x="12" y="69"/>
                            </a:lnTo>
                            <a:lnTo>
                              <a:pt x="12" y="64"/>
                            </a:lnTo>
                            <a:lnTo>
                              <a:pt x="12" y="58"/>
                            </a:lnTo>
                            <a:lnTo>
                              <a:pt x="12" y="53"/>
                            </a:lnTo>
                            <a:lnTo>
                              <a:pt x="12" y="47"/>
                            </a:lnTo>
                            <a:lnTo>
                              <a:pt x="12" y="43"/>
                            </a:lnTo>
                            <a:lnTo>
                              <a:pt x="12" y="38"/>
                            </a:lnTo>
                            <a:lnTo>
                              <a:pt x="12" y="31"/>
                            </a:lnTo>
                            <a:lnTo>
                              <a:pt x="12" y="25"/>
                            </a:lnTo>
                            <a:lnTo>
                              <a:pt x="12" y="21"/>
                            </a:lnTo>
                            <a:lnTo>
                              <a:pt x="12" y="16"/>
                            </a:lnTo>
                            <a:lnTo>
                              <a:pt x="12" y="10"/>
                            </a:lnTo>
                            <a:lnTo>
                              <a:pt x="12" y="5"/>
                            </a:lnTo>
                            <a:lnTo>
                              <a:pt x="12" y="0"/>
                            </a:lnTo>
                            <a:lnTo>
                              <a:pt x="12" y="5"/>
                            </a:lnTo>
                            <a:lnTo>
                              <a:pt x="10" y="9"/>
                            </a:lnTo>
                            <a:lnTo>
                              <a:pt x="9" y="11"/>
                            </a:lnTo>
                            <a:lnTo>
                              <a:pt x="9" y="16"/>
                            </a:lnTo>
                            <a:lnTo>
                              <a:pt x="9" y="18"/>
                            </a:lnTo>
                            <a:lnTo>
                              <a:pt x="9" y="22"/>
                            </a:lnTo>
                            <a:lnTo>
                              <a:pt x="9" y="28"/>
                            </a:lnTo>
                            <a:lnTo>
                              <a:pt x="7" y="29"/>
                            </a:lnTo>
                            <a:lnTo>
                              <a:pt x="7" y="33"/>
                            </a:lnTo>
                            <a:lnTo>
                              <a:pt x="7" y="36"/>
                            </a:lnTo>
                            <a:lnTo>
                              <a:pt x="7" y="40"/>
                            </a:lnTo>
                            <a:lnTo>
                              <a:pt x="6" y="43"/>
                            </a:lnTo>
                            <a:lnTo>
                              <a:pt x="6" y="47"/>
                            </a:lnTo>
                            <a:lnTo>
                              <a:pt x="6" y="51"/>
                            </a:lnTo>
                            <a:lnTo>
                              <a:pt x="6" y="55"/>
                            </a:lnTo>
                            <a:lnTo>
                              <a:pt x="6" y="59"/>
                            </a:lnTo>
                            <a:lnTo>
                              <a:pt x="4" y="62"/>
                            </a:lnTo>
                            <a:lnTo>
                              <a:pt x="4" y="66"/>
                            </a:lnTo>
                            <a:lnTo>
                              <a:pt x="4" y="70"/>
                            </a:lnTo>
                            <a:lnTo>
                              <a:pt x="3" y="73"/>
                            </a:lnTo>
                            <a:lnTo>
                              <a:pt x="3" y="77"/>
                            </a:lnTo>
                            <a:lnTo>
                              <a:pt x="3" y="81"/>
                            </a:lnTo>
                            <a:lnTo>
                              <a:pt x="3" y="84"/>
                            </a:lnTo>
                            <a:lnTo>
                              <a:pt x="1" y="91"/>
                            </a:lnTo>
                            <a:lnTo>
                              <a:pt x="1" y="95"/>
                            </a:lnTo>
                            <a:lnTo>
                              <a:pt x="1" y="99"/>
                            </a:lnTo>
                            <a:lnTo>
                              <a:pt x="1" y="102"/>
                            </a:lnTo>
                            <a:lnTo>
                              <a:pt x="1" y="106"/>
                            </a:lnTo>
                            <a:lnTo>
                              <a:pt x="0" y="110"/>
                            </a:lnTo>
                            <a:lnTo>
                              <a:pt x="0" y="114"/>
                            </a:lnTo>
                            <a:lnTo>
                              <a:pt x="0" y="120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1" y="134"/>
                            </a:lnTo>
                            <a:lnTo>
                              <a:pt x="1" y="139"/>
                            </a:lnTo>
                            <a:lnTo>
                              <a:pt x="1" y="143"/>
                            </a:lnTo>
                            <a:lnTo>
                              <a:pt x="1" y="149"/>
                            </a:lnTo>
                            <a:lnTo>
                              <a:pt x="3" y="153"/>
                            </a:lnTo>
                            <a:lnTo>
                              <a:pt x="3" y="158"/>
                            </a:lnTo>
                            <a:lnTo>
                              <a:pt x="3" y="162"/>
                            </a:lnTo>
                            <a:lnTo>
                              <a:pt x="4" y="168"/>
                            </a:lnTo>
                            <a:lnTo>
                              <a:pt x="4" y="172"/>
                            </a:lnTo>
                            <a:lnTo>
                              <a:pt x="4" y="1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6" name="Freeform 166"/>
                      <p:cNvSpPr/>
                      <p:nvPr/>
                    </p:nvSpPr>
                    <p:spPr>
                      <a:xfrm>
                        <a:off x="2814120" y="2930400"/>
                        <a:ext cx="720" cy="15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2" h="161">
                            <a:moveTo>
                              <a:pt x="12" y="0"/>
                            </a:moveTo>
                            <a:lnTo>
                              <a:pt x="11" y="5"/>
                            </a:lnTo>
                            <a:lnTo>
                              <a:pt x="11" y="10"/>
                            </a:lnTo>
                            <a:lnTo>
                              <a:pt x="9" y="16"/>
                            </a:lnTo>
                            <a:lnTo>
                              <a:pt x="9" y="20"/>
                            </a:lnTo>
                            <a:lnTo>
                              <a:pt x="9" y="25"/>
                            </a:lnTo>
                            <a:lnTo>
                              <a:pt x="9" y="31"/>
                            </a:lnTo>
                            <a:lnTo>
                              <a:pt x="9" y="36"/>
                            </a:lnTo>
                            <a:lnTo>
                              <a:pt x="9" y="40"/>
                            </a:lnTo>
                            <a:lnTo>
                              <a:pt x="9" y="46"/>
                            </a:lnTo>
                            <a:lnTo>
                              <a:pt x="9" y="51"/>
                            </a:lnTo>
                            <a:lnTo>
                              <a:pt x="9" y="55"/>
                            </a:lnTo>
                            <a:lnTo>
                              <a:pt x="9" y="61"/>
                            </a:lnTo>
                            <a:lnTo>
                              <a:pt x="8" y="66"/>
                            </a:lnTo>
                            <a:lnTo>
                              <a:pt x="8" y="70"/>
                            </a:lnTo>
                            <a:lnTo>
                              <a:pt x="8" y="76"/>
                            </a:lnTo>
                            <a:lnTo>
                              <a:pt x="8" y="81"/>
                            </a:lnTo>
                            <a:lnTo>
                              <a:pt x="8" y="86"/>
                            </a:lnTo>
                            <a:lnTo>
                              <a:pt x="8" y="91"/>
                            </a:lnTo>
                            <a:lnTo>
                              <a:pt x="6" y="97"/>
                            </a:lnTo>
                            <a:lnTo>
                              <a:pt x="6" y="101"/>
                            </a:lnTo>
                            <a:lnTo>
                              <a:pt x="6" y="106"/>
                            </a:lnTo>
                            <a:lnTo>
                              <a:pt x="6" y="112"/>
                            </a:lnTo>
                            <a:lnTo>
                              <a:pt x="6" y="116"/>
                            </a:lnTo>
                            <a:lnTo>
                              <a:pt x="6" y="121"/>
                            </a:lnTo>
                            <a:lnTo>
                              <a:pt x="5" y="125"/>
                            </a:lnTo>
                            <a:lnTo>
                              <a:pt x="5" y="131"/>
                            </a:lnTo>
                            <a:lnTo>
                              <a:pt x="3" y="136"/>
                            </a:lnTo>
                            <a:lnTo>
                              <a:pt x="3" y="140"/>
                            </a:lnTo>
                            <a:lnTo>
                              <a:pt x="2" y="146"/>
                            </a:lnTo>
                            <a:lnTo>
                              <a:pt x="2" y="151"/>
                            </a:lnTo>
                            <a:lnTo>
                              <a:pt x="0" y="157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0" y="150"/>
                            </a:lnTo>
                            <a:lnTo>
                              <a:pt x="0" y="146"/>
                            </a:lnTo>
                            <a:lnTo>
                              <a:pt x="0" y="140"/>
                            </a:lnTo>
                            <a:lnTo>
                              <a:pt x="0" y="136"/>
                            </a:lnTo>
                            <a:lnTo>
                              <a:pt x="2" y="131"/>
                            </a:lnTo>
                            <a:lnTo>
                              <a:pt x="2" y="128"/>
                            </a:lnTo>
                            <a:lnTo>
                              <a:pt x="2" y="125"/>
                            </a:lnTo>
                            <a:lnTo>
                              <a:pt x="2" y="121"/>
                            </a:lnTo>
                            <a:lnTo>
                              <a:pt x="2" y="118"/>
                            </a:lnTo>
                            <a:lnTo>
                              <a:pt x="2" y="116"/>
                            </a:lnTo>
                            <a:lnTo>
                              <a:pt x="2" y="112"/>
                            </a:lnTo>
                            <a:lnTo>
                              <a:pt x="2" y="109"/>
                            </a:lnTo>
                            <a:lnTo>
                              <a:pt x="2" y="106"/>
                            </a:lnTo>
                            <a:lnTo>
                              <a:pt x="2" y="102"/>
                            </a:lnTo>
                            <a:lnTo>
                              <a:pt x="2" y="98"/>
                            </a:lnTo>
                            <a:lnTo>
                              <a:pt x="2" y="95"/>
                            </a:lnTo>
                            <a:lnTo>
                              <a:pt x="3" y="92"/>
                            </a:lnTo>
                            <a:lnTo>
                              <a:pt x="3" y="88"/>
                            </a:lnTo>
                            <a:lnTo>
                              <a:pt x="3" y="86"/>
                            </a:lnTo>
                            <a:lnTo>
                              <a:pt x="3" y="81"/>
                            </a:lnTo>
                            <a:lnTo>
                              <a:pt x="3" y="79"/>
                            </a:lnTo>
                            <a:lnTo>
                              <a:pt x="3" y="75"/>
                            </a:lnTo>
                            <a:lnTo>
                              <a:pt x="3" y="70"/>
                            </a:lnTo>
                            <a:lnTo>
                              <a:pt x="3" y="68"/>
                            </a:lnTo>
                            <a:lnTo>
                              <a:pt x="3" y="64"/>
                            </a:lnTo>
                            <a:lnTo>
                              <a:pt x="3" y="61"/>
                            </a:lnTo>
                            <a:lnTo>
                              <a:pt x="5" y="57"/>
                            </a:lnTo>
                            <a:lnTo>
                              <a:pt x="5" y="54"/>
                            </a:lnTo>
                            <a:lnTo>
                              <a:pt x="5" y="50"/>
                            </a:lnTo>
                            <a:lnTo>
                              <a:pt x="5" y="47"/>
                            </a:lnTo>
                            <a:lnTo>
                              <a:pt x="5" y="43"/>
                            </a:lnTo>
                            <a:lnTo>
                              <a:pt x="5" y="40"/>
                            </a:lnTo>
                            <a:lnTo>
                              <a:pt x="6" y="37"/>
                            </a:lnTo>
                            <a:lnTo>
                              <a:pt x="6" y="33"/>
                            </a:lnTo>
                            <a:lnTo>
                              <a:pt x="6" y="31"/>
                            </a:lnTo>
                            <a:lnTo>
                              <a:pt x="6" y="28"/>
                            </a:lnTo>
                            <a:lnTo>
                              <a:pt x="6" y="27"/>
                            </a:lnTo>
                            <a:lnTo>
                              <a:pt x="6" y="20"/>
                            </a:lnTo>
                            <a:lnTo>
                              <a:pt x="8" y="16"/>
                            </a:lnTo>
                            <a:lnTo>
                              <a:pt x="8" y="11"/>
                            </a:lnTo>
                            <a:lnTo>
                              <a:pt x="9" y="7"/>
                            </a:ln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1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7" name="Freeform 167"/>
                      <p:cNvSpPr/>
                      <p:nvPr/>
                    </p:nvSpPr>
                    <p:spPr>
                      <a:xfrm>
                        <a:off x="2818800" y="2870640"/>
                        <a:ext cx="52200" cy="1944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582" h="195">
                            <a:moveTo>
                              <a:pt x="198" y="136"/>
                            </a:moveTo>
                            <a:lnTo>
                              <a:pt x="199" y="133"/>
                            </a:lnTo>
                            <a:lnTo>
                              <a:pt x="204" y="131"/>
                            </a:lnTo>
                            <a:lnTo>
                              <a:pt x="208" y="125"/>
                            </a:lnTo>
                            <a:lnTo>
                              <a:pt x="216" y="121"/>
                            </a:lnTo>
                            <a:lnTo>
                              <a:pt x="222" y="117"/>
                            </a:lnTo>
                            <a:lnTo>
                              <a:pt x="227" y="113"/>
                            </a:lnTo>
                            <a:lnTo>
                              <a:pt x="231" y="110"/>
                            </a:lnTo>
                            <a:lnTo>
                              <a:pt x="233" y="109"/>
                            </a:lnTo>
                            <a:lnTo>
                              <a:pt x="234" y="107"/>
                            </a:lnTo>
                            <a:lnTo>
                              <a:pt x="238" y="105"/>
                            </a:lnTo>
                            <a:lnTo>
                              <a:pt x="241" y="100"/>
                            </a:lnTo>
                            <a:lnTo>
                              <a:pt x="245" y="98"/>
                            </a:lnTo>
                            <a:lnTo>
                              <a:pt x="250" y="94"/>
                            </a:lnTo>
                            <a:lnTo>
                              <a:pt x="254" y="89"/>
                            </a:lnTo>
                            <a:lnTo>
                              <a:pt x="259" y="85"/>
                            </a:lnTo>
                            <a:lnTo>
                              <a:pt x="265" y="81"/>
                            </a:lnTo>
                            <a:lnTo>
                              <a:pt x="268" y="76"/>
                            </a:lnTo>
                            <a:lnTo>
                              <a:pt x="273" y="70"/>
                            </a:lnTo>
                            <a:lnTo>
                              <a:pt x="277" y="66"/>
                            </a:lnTo>
                            <a:lnTo>
                              <a:pt x="282" y="62"/>
                            </a:lnTo>
                            <a:lnTo>
                              <a:pt x="283" y="56"/>
                            </a:lnTo>
                            <a:lnTo>
                              <a:pt x="286" y="54"/>
                            </a:lnTo>
                            <a:lnTo>
                              <a:pt x="288" y="50"/>
                            </a:lnTo>
                            <a:lnTo>
                              <a:pt x="288" y="48"/>
                            </a:lnTo>
                            <a:lnTo>
                              <a:pt x="286" y="50"/>
                            </a:lnTo>
                            <a:lnTo>
                              <a:pt x="282" y="54"/>
                            </a:lnTo>
                            <a:lnTo>
                              <a:pt x="276" y="59"/>
                            </a:lnTo>
                            <a:lnTo>
                              <a:pt x="274" y="61"/>
                            </a:lnTo>
                            <a:lnTo>
                              <a:pt x="233" y="102"/>
                            </a:lnTo>
                            <a:lnTo>
                              <a:pt x="234" y="98"/>
                            </a:lnTo>
                            <a:lnTo>
                              <a:pt x="236" y="95"/>
                            </a:lnTo>
                            <a:lnTo>
                              <a:pt x="239" y="89"/>
                            </a:lnTo>
                            <a:lnTo>
                              <a:pt x="242" y="85"/>
                            </a:lnTo>
                            <a:lnTo>
                              <a:pt x="245" y="80"/>
                            </a:lnTo>
                            <a:lnTo>
                              <a:pt x="250" y="74"/>
                            </a:lnTo>
                            <a:lnTo>
                              <a:pt x="254" y="69"/>
                            </a:lnTo>
                            <a:lnTo>
                              <a:pt x="259" y="63"/>
                            </a:lnTo>
                            <a:lnTo>
                              <a:pt x="264" y="56"/>
                            </a:lnTo>
                            <a:lnTo>
                              <a:pt x="268" y="51"/>
                            </a:lnTo>
                            <a:lnTo>
                              <a:pt x="271" y="45"/>
                            </a:lnTo>
                            <a:lnTo>
                              <a:pt x="277" y="41"/>
                            </a:lnTo>
                            <a:lnTo>
                              <a:pt x="280" y="36"/>
                            </a:lnTo>
                            <a:lnTo>
                              <a:pt x="285" y="32"/>
                            </a:lnTo>
                            <a:lnTo>
                              <a:pt x="288" y="28"/>
                            </a:lnTo>
                            <a:lnTo>
                              <a:pt x="291" y="25"/>
                            </a:lnTo>
                            <a:lnTo>
                              <a:pt x="288" y="25"/>
                            </a:lnTo>
                            <a:lnTo>
                              <a:pt x="285" y="28"/>
                            </a:lnTo>
                            <a:lnTo>
                              <a:pt x="280" y="29"/>
                            </a:lnTo>
                            <a:lnTo>
                              <a:pt x="276" y="33"/>
                            </a:lnTo>
                            <a:lnTo>
                              <a:pt x="271" y="37"/>
                            </a:lnTo>
                            <a:lnTo>
                              <a:pt x="265" y="41"/>
                            </a:lnTo>
                            <a:lnTo>
                              <a:pt x="259" y="47"/>
                            </a:lnTo>
                            <a:lnTo>
                              <a:pt x="254" y="52"/>
                            </a:lnTo>
                            <a:lnTo>
                              <a:pt x="248" y="56"/>
                            </a:lnTo>
                            <a:lnTo>
                              <a:pt x="242" y="62"/>
                            </a:lnTo>
                            <a:lnTo>
                              <a:pt x="236" y="66"/>
                            </a:lnTo>
                            <a:lnTo>
                              <a:pt x="231" y="72"/>
                            </a:lnTo>
                            <a:lnTo>
                              <a:pt x="227" y="76"/>
                            </a:lnTo>
                            <a:lnTo>
                              <a:pt x="224" y="80"/>
                            </a:lnTo>
                            <a:lnTo>
                              <a:pt x="222" y="81"/>
                            </a:lnTo>
                            <a:lnTo>
                              <a:pt x="221" y="84"/>
                            </a:lnTo>
                            <a:lnTo>
                              <a:pt x="219" y="85"/>
                            </a:lnTo>
                            <a:lnTo>
                              <a:pt x="218" y="87"/>
                            </a:lnTo>
                            <a:lnTo>
                              <a:pt x="215" y="89"/>
                            </a:lnTo>
                            <a:lnTo>
                              <a:pt x="212" y="94"/>
                            </a:lnTo>
                            <a:lnTo>
                              <a:pt x="207" y="95"/>
                            </a:lnTo>
                            <a:lnTo>
                              <a:pt x="204" y="98"/>
                            </a:lnTo>
                            <a:lnTo>
                              <a:pt x="201" y="99"/>
                            </a:lnTo>
                            <a:lnTo>
                              <a:pt x="199" y="100"/>
                            </a:lnTo>
                            <a:lnTo>
                              <a:pt x="204" y="94"/>
                            </a:lnTo>
                            <a:lnTo>
                              <a:pt x="208" y="88"/>
                            </a:lnTo>
                            <a:lnTo>
                              <a:pt x="212" y="84"/>
                            </a:lnTo>
                            <a:lnTo>
                              <a:pt x="216" y="78"/>
                            </a:lnTo>
                            <a:lnTo>
                              <a:pt x="219" y="73"/>
                            </a:lnTo>
                            <a:lnTo>
                              <a:pt x="222" y="69"/>
                            </a:lnTo>
                            <a:lnTo>
                              <a:pt x="225" y="65"/>
                            </a:lnTo>
                            <a:lnTo>
                              <a:pt x="228" y="61"/>
                            </a:lnTo>
                            <a:lnTo>
                              <a:pt x="231" y="55"/>
                            </a:lnTo>
                            <a:lnTo>
                              <a:pt x="236" y="51"/>
                            </a:lnTo>
                            <a:lnTo>
                              <a:pt x="239" y="47"/>
                            </a:lnTo>
                            <a:lnTo>
                              <a:pt x="244" y="43"/>
                            </a:lnTo>
                            <a:lnTo>
                              <a:pt x="248" y="39"/>
                            </a:lnTo>
                            <a:lnTo>
                              <a:pt x="254" y="35"/>
                            </a:lnTo>
                            <a:lnTo>
                              <a:pt x="259" y="30"/>
                            </a:lnTo>
                            <a:lnTo>
                              <a:pt x="265" y="26"/>
                            </a:lnTo>
                            <a:lnTo>
                              <a:pt x="267" y="24"/>
                            </a:lnTo>
                            <a:lnTo>
                              <a:pt x="270" y="21"/>
                            </a:lnTo>
                            <a:lnTo>
                              <a:pt x="273" y="17"/>
                            </a:lnTo>
                            <a:lnTo>
                              <a:pt x="277" y="11"/>
                            </a:lnTo>
                            <a:lnTo>
                              <a:pt x="280" y="7"/>
                            </a:lnTo>
                            <a:lnTo>
                              <a:pt x="283" y="3"/>
                            </a:lnTo>
                            <a:lnTo>
                              <a:pt x="285" y="0"/>
                            </a:lnTo>
                            <a:lnTo>
                              <a:pt x="286" y="0"/>
                            </a:lnTo>
                            <a:lnTo>
                              <a:pt x="283" y="0"/>
                            </a:lnTo>
                            <a:lnTo>
                              <a:pt x="280" y="3"/>
                            </a:lnTo>
                            <a:lnTo>
                              <a:pt x="276" y="6"/>
                            </a:lnTo>
                            <a:lnTo>
                              <a:pt x="271" y="10"/>
                            </a:lnTo>
                            <a:lnTo>
                              <a:pt x="265" y="14"/>
                            </a:lnTo>
                            <a:lnTo>
                              <a:pt x="262" y="17"/>
                            </a:lnTo>
                            <a:lnTo>
                              <a:pt x="259" y="19"/>
                            </a:lnTo>
                            <a:lnTo>
                              <a:pt x="257" y="19"/>
                            </a:lnTo>
                            <a:lnTo>
                              <a:pt x="254" y="22"/>
                            </a:lnTo>
                            <a:lnTo>
                              <a:pt x="250" y="26"/>
                            </a:lnTo>
                            <a:lnTo>
                              <a:pt x="247" y="29"/>
                            </a:lnTo>
                            <a:lnTo>
                              <a:pt x="244" y="32"/>
                            </a:lnTo>
                            <a:lnTo>
                              <a:pt x="239" y="35"/>
                            </a:lnTo>
                            <a:lnTo>
                              <a:pt x="236" y="39"/>
                            </a:lnTo>
                            <a:lnTo>
                              <a:pt x="231" y="41"/>
                            </a:lnTo>
                            <a:lnTo>
                              <a:pt x="227" y="44"/>
                            </a:lnTo>
                            <a:lnTo>
                              <a:pt x="224" y="48"/>
                            </a:lnTo>
                            <a:lnTo>
                              <a:pt x="219" y="52"/>
                            </a:lnTo>
                            <a:lnTo>
                              <a:pt x="215" y="55"/>
                            </a:lnTo>
                            <a:lnTo>
                              <a:pt x="210" y="59"/>
                            </a:lnTo>
                            <a:lnTo>
                              <a:pt x="205" y="62"/>
                            </a:lnTo>
                            <a:lnTo>
                              <a:pt x="202" y="66"/>
                            </a:lnTo>
                            <a:lnTo>
                              <a:pt x="198" y="69"/>
                            </a:lnTo>
                            <a:lnTo>
                              <a:pt x="193" y="72"/>
                            </a:lnTo>
                            <a:lnTo>
                              <a:pt x="189" y="74"/>
                            </a:lnTo>
                            <a:lnTo>
                              <a:pt x="186" y="77"/>
                            </a:lnTo>
                            <a:lnTo>
                              <a:pt x="179" y="80"/>
                            </a:lnTo>
                            <a:lnTo>
                              <a:pt x="175" y="83"/>
                            </a:lnTo>
                            <a:lnTo>
                              <a:pt x="172" y="83"/>
                            </a:lnTo>
                            <a:lnTo>
                              <a:pt x="172" y="81"/>
                            </a:lnTo>
                            <a:lnTo>
                              <a:pt x="172" y="80"/>
                            </a:lnTo>
                            <a:lnTo>
                              <a:pt x="175" y="77"/>
                            </a:lnTo>
                            <a:lnTo>
                              <a:pt x="176" y="73"/>
                            </a:lnTo>
                            <a:lnTo>
                              <a:pt x="179" y="70"/>
                            </a:lnTo>
                            <a:lnTo>
                              <a:pt x="176" y="70"/>
                            </a:lnTo>
                            <a:lnTo>
                              <a:pt x="172" y="73"/>
                            </a:lnTo>
                            <a:lnTo>
                              <a:pt x="166" y="76"/>
                            </a:lnTo>
                            <a:lnTo>
                              <a:pt x="160" y="81"/>
                            </a:lnTo>
                            <a:lnTo>
                              <a:pt x="156" y="83"/>
                            </a:lnTo>
                            <a:lnTo>
                              <a:pt x="152" y="85"/>
                            </a:lnTo>
                            <a:lnTo>
                              <a:pt x="149" y="88"/>
                            </a:lnTo>
                            <a:lnTo>
                              <a:pt x="144" y="92"/>
                            </a:lnTo>
                            <a:lnTo>
                              <a:pt x="141" y="95"/>
                            </a:lnTo>
                            <a:lnTo>
                              <a:pt x="138" y="98"/>
                            </a:lnTo>
                            <a:lnTo>
                              <a:pt x="134" y="100"/>
                            </a:lnTo>
                            <a:lnTo>
                              <a:pt x="130" y="105"/>
                            </a:lnTo>
                            <a:lnTo>
                              <a:pt x="127" y="107"/>
                            </a:lnTo>
                            <a:lnTo>
                              <a:pt x="123" y="110"/>
                            </a:lnTo>
                            <a:lnTo>
                              <a:pt x="120" y="113"/>
                            </a:lnTo>
                            <a:lnTo>
                              <a:pt x="115" y="115"/>
                            </a:lnTo>
                            <a:lnTo>
                              <a:pt x="109" y="121"/>
                            </a:lnTo>
                            <a:lnTo>
                              <a:pt x="103" y="128"/>
                            </a:lnTo>
                            <a:lnTo>
                              <a:pt x="97" y="132"/>
                            </a:lnTo>
                            <a:lnTo>
                              <a:pt x="94" y="136"/>
                            </a:lnTo>
                            <a:lnTo>
                              <a:pt x="91" y="140"/>
                            </a:lnTo>
                            <a:lnTo>
                              <a:pt x="89" y="143"/>
                            </a:lnTo>
                            <a:lnTo>
                              <a:pt x="88" y="143"/>
                            </a:lnTo>
                            <a:lnTo>
                              <a:pt x="86" y="144"/>
                            </a:lnTo>
                            <a:lnTo>
                              <a:pt x="83" y="146"/>
                            </a:lnTo>
                            <a:lnTo>
                              <a:pt x="78" y="150"/>
                            </a:lnTo>
                            <a:lnTo>
                              <a:pt x="72" y="153"/>
                            </a:lnTo>
                            <a:lnTo>
                              <a:pt x="68" y="157"/>
                            </a:lnTo>
                            <a:lnTo>
                              <a:pt x="62" y="159"/>
                            </a:lnTo>
                            <a:lnTo>
                              <a:pt x="56" y="165"/>
                            </a:lnTo>
                            <a:lnTo>
                              <a:pt x="49" y="169"/>
                            </a:lnTo>
                            <a:lnTo>
                              <a:pt x="43" y="172"/>
                            </a:lnTo>
                            <a:lnTo>
                              <a:pt x="37" y="176"/>
                            </a:lnTo>
                            <a:lnTo>
                              <a:pt x="31" y="181"/>
                            </a:lnTo>
                            <a:lnTo>
                              <a:pt x="25" y="184"/>
                            </a:lnTo>
                            <a:lnTo>
                              <a:pt x="22" y="187"/>
                            </a:lnTo>
                            <a:lnTo>
                              <a:pt x="17" y="188"/>
                            </a:lnTo>
                            <a:lnTo>
                              <a:pt x="16" y="191"/>
                            </a:lnTo>
                            <a:lnTo>
                              <a:pt x="13" y="188"/>
                            </a:lnTo>
                            <a:lnTo>
                              <a:pt x="14" y="184"/>
                            </a:lnTo>
                            <a:lnTo>
                              <a:pt x="20" y="181"/>
                            </a:lnTo>
                            <a:lnTo>
                              <a:pt x="22" y="179"/>
                            </a:lnTo>
                            <a:lnTo>
                              <a:pt x="26" y="176"/>
                            </a:lnTo>
                            <a:lnTo>
                              <a:pt x="30" y="175"/>
                            </a:lnTo>
                            <a:lnTo>
                              <a:pt x="34" y="172"/>
                            </a:lnTo>
                            <a:lnTo>
                              <a:pt x="37" y="169"/>
                            </a:lnTo>
                            <a:lnTo>
                              <a:pt x="42" y="168"/>
                            </a:lnTo>
                            <a:lnTo>
                              <a:pt x="45" y="165"/>
                            </a:lnTo>
                            <a:lnTo>
                              <a:pt x="48" y="164"/>
                            </a:lnTo>
                            <a:lnTo>
                              <a:pt x="54" y="159"/>
                            </a:lnTo>
                            <a:lnTo>
                              <a:pt x="59" y="157"/>
                            </a:lnTo>
                            <a:lnTo>
                              <a:pt x="62" y="151"/>
                            </a:lnTo>
                            <a:lnTo>
                              <a:pt x="66" y="146"/>
                            </a:lnTo>
                            <a:lnTo>
                              <a:pt x="71" y="140"/>
                            </a:lnTo>
                            <a:lnTo>
                              <a:pt x="77" y="135"/>
                            </a:lnTo>
                            <a:lnTo>
                              <a:pt x="82" y="128"/>
                            </a:lnTo>
                            <a:lnTo>
                              <a:pt x="88" y="124"/>
                            </a:lnTo>
                            <a:lnTo>
                              <a:pt x="92" y="120"/>
                            </a:lnTo>
                            <a:lnTo>
                              <a:pt x="97" y="118"/>
                            </a:lnTo>
                            <a:lnTo>
                              <a:pt x="100" y="111"/>
                            </a:lnTo>
                            <a:lnTo>
                              <a:pt x="94" y="113"/>
                            </a:lnTo>
                            <a:lnTo>
                              <a:pt x="89" y="115"/>
                            </a:lnTo>
                            <a:lnTo>
                              <a:pt x="83" y="118"/>
                            </a:lnTo>
                            <a:lnTo>
                              <a:pt x="78" y="120"/>
                            </a:lnTo>
                            <a:lnTo>
                              <a:pt x="75" y="124"/>
                            </a:lnTo>
                            <a:lnTo>
                              <a:pt x="72" y="128"/>
                            </a:lnTo>
                            <a:lnTo>
                              <a:pt x="69" y="132"/>
                            </a:lnTo>
                            <a:lnTo>
                              <a:pt x="68" y="135"/>
                            </a:lnTo>
                            <a:lnTo>
                              <a:pt x="62" y="140"/>
                            </a:lnTo>
                            <a:lnTo>
                              <a:pt x="59" y="144"/>
                            </a:lnTo>
                            <a:lnTo>
                              <a:pt x="56" y="147"/>
                            </a:lnTo>
                            <a:lnTo>
                              <a:pt x="51" y="150"/>
                            </a:lnTo>
                            <a:lnTo>
                              <a:pt x="48" y="153"/>
                            </a:lnTo>
                            <a:lnTo>
                              <a:pt x="45" y="155"/>
                            </a:lnTo>
                            <a:lnTo>
                              <a:pt x="40" y="157"/>
                            </a:lnTo>
                            <a:lnTo>
                              <a:pt x="36" y="159"/>
                            </a:lnTo>
                            <a:lnTo>
                              <a:pt x="31" y="162"/>
                            </a:lnTo>
                            <a:lnTo>
                              <a:pt x="26" y="165"/>
                            </a:lnTo>
                            <a:lnTo>
                              <a:pt x="23" y="168"/>
                            </a:lnTo>
                            <a:lnTo>
                              <a:pt x="20" y="170"/>
                            </a:lnTo>
                            <a:lnTo>
                              <a:pt x="17" y="173"/>
                            </a:lnTo>
                            <a:lnTo>
                              <a:pt x="14" y="177"/>
                            </a:lnTo>
                            <a:lnTo>
                              <a:pt x="11" y="180"/>
                            </a:lnTo>
                            <a:lnTo>
                              <a:pt x="8" y="184"/>
                            </a:lnTo>
                            <a:lnTo>
                              <a:pt x="4" y="190"/>
                            </a:lnTo>
                            <a:lnTo>
                              <a:pt x="0" y="195"/>
                            </a:lnTo>
                            <a:lnTo>
                              <a:pt x="8" y="195"/>
                            </a:lnTo>
                            <a:lnTo>
                              <a:pt x="14" y="195"/>
                            </a:lnTo>
                            <a:lnTo>
                              <a:pt x="22" y="195"/>
                            </a:lnTo>
                            <a:lnTo>
                              <a:pt x="30" y="195"/>
                            </a:lnTo>
                            <a:lnTo>
                              <a:pt x="37" y="195"/>
                            </a:lnTo>
                            <a:lnTo>
                              <a:pt x="45" y="195"/>
                            </a:lnTo>
                            <a:lnTo>
                              <a:pt x="51" y="195"/>
                            </a:lnTo>
                            <a:lnTo>
                              <a:pt x="59" y="195"/>
                            </a:lnTo>
                            <a:lnTo>
                              <a:pt x="66" y="194"/>
                            </a:lnTo>
                            <a:lnTo>
                              <a:pt x="74" y="194"/>
                            </a:lnTo>
                            <a:lnTo>
                              <a:pt x="80" y="194"/>
                            </a:lnTo>
                            <a:lnTo>
                              <a:pt x="88" y="194"/>
                            </a:lnTo>
                            <a:lnTo>
                              <a:pt x="95" y="194"/>
                            </a:lnTo>
                            <a:lnTo>
                              <a:pt x="103" y="194"/>
                            </a:lnTo>
                            <a:lnTo>
                              <a:pt x="111" y="192"/>
                            </a:lnTo>
                            <a:lnTo>
                              <a:pt x="117" y="192"/>
                            </a:lnTo>
                            <a:lnTo>
                              <a:pt x="124" y="191"/>
                            </a:lnTo>
                            <a:lnTo>
                              <a:pt x="130" y="191"/>
                            </a:lnTo>
                            <a:lnTo>
                              <a:pt x="138" y="191"/>
                            </a:lnTo>
                            <a:lnTo>
                              <a:pt x="146" y="191"/>
                            </a:lnTo>
                            <a:lnTo>
                              <a:pt x="153" y="190"/>
                            </a:lnTo>
                            <a:lnTo>
                              <a:pt x="160" y="190"/>
                            </a:lnTo>
                            <a:lnTo>
                              <a:pt x="167" y="188"/>
                            </a:lnTo>
                            <a:lnTo>
                              <a:pt x="175" y="188"/>
                            </a:lnTo>
                            <a:lnTo>
                              <a:pt x="182" y="187"/>
                            </a:lnTo>
                            <a:lnTo>
                              <a:pt x="189" y="187"/>
                            </a:lnTo>
                            <a:lnTo>
                              <a:pt x="196" y="186"/>
                            </a:lnTo>
                            <a:lnTo>
                              <a:pt x="204" y="186"/>
                            </a:lnTo>
                            <a:lnTo>
                              <a:pt x="212" y="184"/>
                            </a:lnTo>
                            <a:lnTo>
                              <a:pt x="219" y="184"/>
                            </a:lnTo>
                            <a:lnTo>
                              <a:pt x="227" y="184"/>
                            </a:lnTo>
                            <a:lnTo>
                              <a:pt x="234" y="184"/>
                            </a:lnTo>
                            <a:lnTo>
                              <a:pt x="242" y="183"/>
                            </a:lnTo>
                            <a:lnTo>
                              <a:pt x="250" y="181"/>
                            </a:lnTo>
                            <a:lnTo>
                              <a:pt x="257" y="181"/>
                            </a:lnTo>
                            <a:lnTo>
                              <a:pt x="265" y="181"/>
                            </a:lnTo>
                            <a:lnTo>
                              <a:pt x="273" y="180"/>
                            </a:lnTo>
                            <a:lnTo>
                              <a:pt x="280" y="180"/>
                            </a:lnTo>
                            <a:lnTo>
                              <a:pt x="288" y="179"/>
                            </a:lnTo>
                            <a:lnTo>
                              <a:pt x="296" y="179"/>
                            </a:lnTo>
                            <a:lnTo>
                              <a:pt x="303" y="177"/>
                            </a:lnTo>
                            <a:lnTo>
                              <a:pt x="312" y="177"/>
                            </a:lnTo>
                            <a:lnTo>
                              <a:pt x="320" y="177"/>
                            </a:lnTo>
                            <a:lnTo>
                              <a:pt x="328" y="177"/>
                            </a:lnTo>
                            <a:lnTo>
                              <a:pt x="337" y="176"/>
                            </a:lnTo>
                            <a:lnTo>
                              <a:pt x="345" y="176"/>
                            </a:lnTo>
                            <a:lnTo>
                              <a:pt x="354" y="175"/>
                            </a:lnTo>
                            <a:lnTo>
                              <a:pt x="363" y="175"/>
                            </a:lnTo>
                            <a:lnTo>
                              <a:pt x="371" y="175"/>
                            </a:lnTo>
                            <a:lnTo>
                              <a:pt x="380" y="175"/>
                            </a:lnTo>
                            <a:lnTo>
                              <a:pt x="387" y="173"/>
                            </a:lnTo>
                            <a:lnTo>
                              <a:pt x="398" y="173"/>
                            </a:lnTo>
                            <a:lnTo>
                              <a:pt x="406" y="173"/>
                            </a:lnTo>
                            <a:lnTo>
                              <a:pt x="415" y="173"/>
                            </a:lnTo>
                            <a:lnTo>
                              <a:pt x="426" y="173"/>
                            </a:lnTo>
                            <a:lnTo>
                              <a:pt x="435" y="173"/>
                            </a:lnTo>
                            <a:lnTo>
                              <a:pt x="444" y="173"/>
                            </a:lnTo>
                            <a:lnTo>
                              <a:pt x="453" y="173"/>
                            </a:lnTo>
                            <a:lnTo>
                              <a:pt x="462" y="173"/>
                            </a:lnTo>
                            <a:lnTo>
                              <a:pt x="473" y="173"/>
                            </a:lnTo>
                            <a:lnTo>
                              <a:pt x="482" y="173"/>
                            </a:lnTo>
                            <a:lnTo>
                              <a:pt x="493" y="173"/>
                            </a:lnTo>
                            <a:lnTo>
                              <a:pt x="502" y="175"/>
                            </a:lnTo>
                            <a:lnTo>
                              <a:pt x="513" y="175"/>
                            </a:lnTo>
                            <a:lnTo>
                              <a:pt x="470" y="184"/>
                            </a:lnTo>
                            <a:lnTo>
                              <a:pt x="478" y="183"/>
                            </a:lnTo>
                            <a:lnTo>
                              <a:pt x="484" y="183"/>
                            </a:lnTo>
                            <a:lnTo>
                              <a:pt x="490" y="183"/>
                            </a:lnTo>
                            <a:lnTo>
                              <a:pt x="498" y="183"/>
                            </a:lnTo>
                            <a:lnTo>
                              <a:pt x="501" y="181"/>
                            </a:lnTo>
                            <a:lnTo>
                              <a:pt x="504" y="181"/>
                            </a:lnTo>
                            <a:lnTo>
                              <a:pt x="507" y="181"/>
                            </a:lnTo>
                            <a:lnTo>
                              <a:pt x="511" y="181"/>
                            </a:lnTo>
                            <a:lnTo>
                              <a:pt x="514" y="181"/>
                            </a:lnTo>
                            <a:lnTo>
                              <a:pt x="517" y="181"/>
                            </a:lnTo>
                            <a:lnTo>
                              <a:pt x="522" y="181"/>
                            </a:lnTo>
                            <a:lnTo>
                              <a:pt x="525" y="181"/>
                            </a:lnTo>
                            <a:lnTo>
                              <a:pt x="531" y="180"/>
                            </a:lnTo>
                            <a:lnTo>
                              <a:pt x="539" y="180"/>
                            </a:lnTo>
                            <a:lnTo>
                              <a:pt x="542" y="179"/>
                            </a:lnTo>
                            <a:lnTo>
                              <a:pt x="545" y="179"/>
                            </a:lnTo>
                            <a:lnTo>
                              <a:pt x="550" y="179"/>
                            </a:lnTo>
                            <a:lnTo>
                              <a:pt x="553" y="179"/>
                            </a:lnTo>
                            <a:lnTo>
                              <a:pt x="556" y="177"/>
                            </a:lnTo>
                            <a:lnTo>
                              <a:pt x="559" y="177"/>
                            </a:lnTo>
                            <a:lnTo>
                              <a:pt x="563" y="177"/>
                            </a:lnTo>
                            <a:lnTo>
                              <a:pt x="566" y="177"/>
                            </a:lnTo>
                            <a:lnTo>
                              <a:pt x="569" y="177"/>
                            </a:lnTo>
                            <a:lnTo>
                              <a:pt x="574" y="177"/>
                            </a:lnTo>
                            <a:lnTo>
                              <a:pt x="577" y="177"/>
                            </a:lnTo>
                            <a:lnTo>
                              <a:pt x="582" y="177"/>
                            </a:lnTo>
                            <a:lnTo>
                              <a:pt x="576" y="172"/>
                            </a:lnTo>
                            <a:lnTo>
                              <a:pt x="569" y="166"/>
                            </a:lnTo>
                            <a:lnTo>
                              <a:pt x="563" y="162"/>
                            </a:lnTo>
                            <a:lnTo>
                              <a:pt x="559" y="157"/>
                            </a:lnTo>
                            <a:lnTo>
                              <a:pt x="553" y="151"/>
                            </a:lnTo>
                            <a:lnTo>
                              <a:pt x="547" y="147"/>
                            </a:lnTo>
                            <a:lnTo>
                              <a:pt x="540" y="142"/>
                            </a:lnTo>
                            <a:lnTo>
                              <a:pt x="536" y="137"/>
                            </a:lnTo>
                            <a:lnTo>
                              <a:pt x="528" y="132"/>
                            </a:lnTo>
                            <a:lnTo>
                              <a:pt x="524" y="126"/>
                            </a:lnTo>
                            <a:lnTo>
                              <a:pt x="517" y="122"/>
                            </a:lnTo>
                            <a:lnTo>
                              <a:pt x="511" y="117"/>
                            </a:lnTo>
                            <a:lnTo>
                              <a:pt x="505" y="111"/>
                            </a:lnTo>
                            <a:lnTo>
                              <a:pt x="501" y="107"/>
                            </a:lnTo>
                            <a:lnTo>
                              <a:pt x="495" y="102"/>
                            </a:lnTo>
                            <a:lnTo>
                              <a:pt x="488" y="98"/>
                            </a:lnTo>
                            <a:lnTo>
                              <a:pt x="482" y="92"/>
                            </a:lnTo>
                            <a:lnTo>
                              <a:pt x="476" y="87"/>
                            </a:lnTo>
                            <a:lnTo>
                              <a:pt x="470" y="83"/>
                            </a:lnTo>
                            <a:lnTo>
                              <a:pt x="465" y="77"/>
                            </a:lnTo>
                            <a:lnTo>
                              <a:pt x="459" y="72"/>
                            </a:lnTo>
                            <a:lnTo>
                              <a:pt x="453" y="67"/>
                            </a:lnTo>
                            <a:lnTo>
                              <a:pt x="447" y="62"/>
                            </a:lnTo>
                            <a:lnTo>
                              <a:pt x="441" y="58"/>
                            </a:lnTo>
                            <a:lnTo>
                              <a:pt x="435" y="52"/>
                            </a:lnTo>
                            <a:lnTo>
                              <a:pt x="429" y="48"/>
                            </a:lnTo>
                            <a:lnTo>
                              <a:pt x="423" y="44"/>
                            </a:lnTo>
                            <a:lnTo>
                              <a:pt x="418" y="39"/>
                            </a:lnTo>
                            <a:lnTo>
                              <a:pt x="412" y="35"/>
                            </a:lnTo>
                            <a:lnTo>
                              <a:pt x="406" y="30"/>
                            </a:lnTo>
                            <a:lnTo>
                              <a:pt x="400" y="26"/>
                            </a:lnTo>
                            <a:lnTo>
                              <a:pt x="395" y="22"/>
                            </a:lnTo>
                            <a:lnTo>
                              <a:pt x="392" y="21"/>
                            </a:lnTo>
                            <a:lnTo>
                              <a:pt x="386" y="18"/>
                            </a:lnTo>
                            <a:lnTo>
                              <a:pt x="380" y="14"/>
                            </a:lnTo>
                            <a:lnTo>
                              <a:pt x="377" y="14"/>
                            </a:lnTo>
                            <a:lnTo>
                              <a:pt x="453" y="81"/>
                            </a:lnTo>
                            <a:lnTo>
                              <a:pt x="426" y="67"/>
                            </a:lnTo>
                            <a:lnTo>
                              <a:pt x="429" y="70"/>
                            </a:lnTo>
                            <a:lnTo>
                              <a:pt x="432" y="73"/>
                            </a:lnTo>
                            <a:lnTo>
                              <a:pt x="435" y="76"/>
                            </a:lnTo>
                            <a:lnTo>
                              <a:pt x="439" y="80"/>
                            </a:lnTo>
                            <a:lnTo>
                              <a:pt x="443" y="83"/>
                            </a:lnTo>
                            <a:lnTo>
                              <a:pt x="447" y="85"/>
                            </a:lnTo>
                            <a:lnTo>
                              <a:pt x="450" y="88"/>
                            </a:lnTo>
                            <a:lnTo>
                              <a:pt x="455" y="91"/>
                            </a:lnTo>
                            <a:lnTo>
                              <a:pt x="459" y="94"/>
                            </a:lnTo>
                            <a:lnTo>
                              <a:pt x="462" y="96"/>
                            </a:lnTo>
                            <a:lnTo>
                              <a:pt x="467" y="99"/>
                            </a:lnTo>
                            <a:lnTo>
                              <a:pt x="470" y="102"/>
                            </a:lnTo>
                            <a:lnTo>
                              <a:pt x="475" y="106"/>
                            </a:lnTo>
                            <a:lnTo>
                              <a:pt x="478" y="109"/>
                            </a:lnTo>
                            <a:lnTo>
                              <a:pt x="482" y="113"/>
                            </a:lnTo>
                            <a:lnTo>
                              <a:pt x="485" y="115"/>
                            </a:lnTo>
                            <a:lnTo>
                              <a:pt x="372" y="36"/>
                            </a:lnTo>
                            <a:lnTo>
                              <a:pt x="369" y="35"/>
                            </a:lnTo>
                            <a:lnTo>
                              <a:pt x="366" y="32"/>
                            </a:lnTo>
                            <a:lnTo>
                              <a:pt x="363" y="29"/>
                            </a:lnTo>
                            <a:lnTo>
                              <a:pt x="360" y="26"/>
                            </a:lnTo>
                            <a:lnTo>
                              <a:pt x="355" y="24"/>
                            </a:lnTo>
                            <a:lnTo>
                              <a:pt x="352" y="21"/>
                            </a:lnTo>
                            <a:lnTo>
                              <a:pt x="348" y="18"/>
                            </a:lnTo>
                            <a:lnTo>
                              <a:pt x="345" y="15"/>
                            </a:lnTo>
                            <a:lnTo>
                              <a:pt x="342" y="11"/>
                            </a:lnTo>
                            <a:lnTo>
                              <a:pt x="337" y="10"/>
                            </a:lnTo>
                            <a:lnTo>
                              <a:pt x="334" y="7"/>
                            </a:lnTo>
                            <a:lnTo>
                              <a:pt x="331" y="6"/>
                            </a:lnTo>
                            <a:lnTo>
                              <a:pt x="326" y="4"/>
                            </a:lnTo>
                            <a:lnTo>
                              <a:pt x="323" y="7"/>
                            </a:lnTo>
                            <a:lnTo>
                              <a:pt x="328" y="11"/>
                            </a:lnTo>
                            <a:lnTo>
                              <a:pt x="332" y="14"/>
                            </a:lnTo>
                            <a:lnTo>
                              <a:pt x="339" y="18"/>
                            </a:lnTo>
                            <a:lnTo>
                              <a:pt x="345" y="24"/>
                            </a:lnTo>
                            <a:lnTo>
                              <a:pt x="351" y="26"/>
                            </a:lnTo>
                            <a:lnTo>
                              <a:pt x="355" y="30"/>
                            </a:lnTo>
                            <a:lnTo>
                              <a:pt x="361" y="35"/>
                            </a:lnTo>
                            <a:lnTo>
                              <a:pt x="365" y="39"/>
                            </a:lnTo>
                            <a:lnTo>
                              <a:pt x="369" y="43"/>
                            </a:lnTo>
                            <a:lnTo>
                              <a:pt x="374" y="47"/>
                            </a:lnTo>
                            <a:lnTo>
                              <a:pt x="378" y="51"/>
                            </a:lnTo>
                            <a:lnTo>
                              <a:pt x="384" y="55"/>
                            </a:lnTo>
                            <a:lnTo>
                              <a:pt x="389" y="59"/>
                            </a:lnTo>
                            <a:lnTo>
                              <a:pt x="395" y="63"/>
                            </a:lnTo>
                            <a:lnTo>
                              <a:pt x="400" y="67"/>
                            </a:lnTo>
                            <a:lnTo>
                              <a:pt x="406" y="72"/>
                            </a:lnTo>
                            <a:lnTo>
                              <a:pt x="410" y="74"/>
                            </a:lnTo>
                            <a:lnTo>
                              <a:pt x="415" y="80"/>
                            </a:lnTo>
                            <a:lnTo>
                              <a:pt x="421" y="83"/>
                            </a:lnTo>
                            <a:lnTo>
                              <a:pt x="426" y="87"/>
                            </a:lnTo>
                            <a:lnTo>
                              <a:pt x="430" y="91"/>
                            </a:lnTo>
                            <a:lnTo>
                              <a:pt x="436" y="95"/>
                            </a:lnTo>
                            <a:lnTo>
                              <a:pt x="439" y="99"/>
                            </a:lnTo>
                            <a:lnTo>
                              <a:pt x="446" y="105"/>
                            </a:lnTo>
                            <a:lnTo>
                              <a:pt x="449" y="107"/>
                            </a:lnTo>
                            <a:lnTo>
                              <a:pt x="453" y="113"/>
                            </a:lnTo>
                            <a:lnTo>
                              <a:pt x="458" y="118"/>
                            </a:lnTo>
                            <a:lnTo>
                              <a:pt x="461" y="120"/>
                            </a:lnTo>
                            <a:lnTo>
                              <a:pt x="458" y="120"/>
                            </a:lnTo>
                            <a:lnTo>
                              <a:pt x="455" y="118"/>
                            </a:lnTo>
                            <a:lnTo>
                              <a:pt x="452" y="117"/>
                            </a:lnTo>
                            <a:lnTo>
                              <a:pt x="447" y="114"/>
                            </a:lnTo>
                            <a:lnTo>
                              <a:pt x="444" y="113"/>
                            </a:lnTo>
                            <a:lnTo>
                              <a:pt x="441" y="110"/>
                            </a:lnTo>
                            <a:lnTo>
                              <a:pt x="438" y="109"/>
                            </a:lnTo>
                            <a:lnTo>
                              <a:pt x="433" y="106"/>
                            </a:lnTo>
                            <a:lnTo>
                              <a:pt x="429" y="102"/>
                            </a:lnTo>
                            <a:lnTo>
                              <a:pt x="426" y="99"/>
                            </a:lnTo>
                            <a:lnTo>
                              <a:pt x="423" y="98"/>
                            </a:lnTo>
                            <a:lnTo>
                              <a:pt x="418" y="95"/>
                            </a:lnTo>
                            <a:lnTo>
                              <a:pt x="415" y="92"/>
                            </a:lnTo>
                            <a:lnTo>
                              <a:pt x="410" y="88"/>
                            </a:lnTo>
                            <a:lnTo>
                              <a:pt x="407" y="84"/>
                            </a:lnTo>
                            <a:lnTo>
                              <a:pt x="403" y="81"/>
                            </a:lnTo>
                            <a:lnTo>
                              <a:pt x="398" y="77"/>
                            </a:lnTo>
                            <a:lnTo>
                              <a:pt x="394" y="73"/>
                            </a:lnTo>
                            <a:lnTo>
                              <a:pt x="391" y="70"/>
                            </a:lnTo>
                            <a:lnTo>
                              <a:pt x="384" y="66"/>
                            </a:lnTo>
                            <a:lnTo>
                              <a:pt x="381" y="63"/>
                            </a:lnTo>
                            <a:lnTo>
                              <a:pt x="377" y="59"/>
                            </a:lnTo>
                            <a:lnTo>
                              <a:pt x="372" y="55"/>
                            </a:lnTo>
                            <a:lnTo>
                              <a:pt x="368" y="51"/>
                            </a:lnTo>
                            <a:lnTo>
                              <a:pt x="363" y="48"/>
                            </a:lnTo>
                            <a:lnTo>
                              <a:pt x="358" y="44"/>
                            </a:lnTo>
                            <a:lnTo>
                              <a:pt x="355" y="41"/>
                            </a:lnTo>
                            <a:lnTo>
                              <a:pt x="351" y="39"/>
                            </a:lnTo>
                            <a:lnTo>
                              <a:pt x="348" y="36"/>
                            </a:lnTo>
                            <a:lnTo>
                              <a:pt x="343" y="33"/>
                            </a:lnTo>
                            <a:lnTo>
                              <a:pt x="340" y="32"/>
                            </a:lnTo>
                            <a:lnTo>
                              <a:pt x="337" y="29"/>
                            </a:lnTo>
                            <a:lnTo>
                              <a:pt x="335" y="29"/>
                            </a:lnTo>
                            <a:lnTo>
                              <a:pt x="331" y="26"/>
                            </a:lnTo>
                            <a:lnTo>
                              <a:pt x="329" y="26"/>
                            </a:lnTo>
                            <a:lnTo>
                              <a:pt x="331" y="29"/>
                            </a:lnTo>
                            <a:lnTo>
                              <a:pt x="332" y="32"/>
                            </a:lnTo>
                            <a:lnTo>
                              <a:pt x="334" y="36"/>
                            </a:lnTo>
                            <a:lnTo>
                              <a:pt x="337" y="39"/>
                            </a:lnTo>
                            <a:lnTo>
                              <a:pt x="372" y="66"/>
                            </a:lnTo>
                            <a:lnTo>
                              <a:pt x="374" y="74"/>
                            </a:lnTo>
                            <a:lnTo>
                              <a:pt x="378" y="78"/>
                            </a:lnTo>
                            <a:lnTo>
                              <a:pt x="383" y="83"/>
                            </a:lnTo>
                            <a:lnTo>
                              <a:pt x="387" y="85"/>
                            </a:lnTo>
                            <a:lnTo>
                              <a:pt x="392" y="89"/>
                            </a:lnTo>
                            <a:lnTo>
                              <a:pt x="397" y="92"/>
                            </a:lnTo>
                            <a:lnTo>
                              <a:pt x="401" y="95"/>
                            </a:lnTo>
                            <a:lnTo>
                              <a:pt x="406" y="99"/>
                            </a:lnTo>
                            <a:lnTo>
                              <a:pt x="410" y="102"/>
                            </a:lnTo>
                            <a:lnTo>
                              <a:pt x="415" y="105"/>
                            </a:lnTo>
                            <a:lnTo>
                              <a:pt x="420" y="109"/>
                            </a:lnTo>
                            <a:lnTo>
                              <a:pt x="424" y="111"/>
                            </a:lnTo>
                            <a:lnTo>
                              <a:pt x="429" y="115"/>
                            </a:lnTo>
                            <a:lnTo>
                              <a:pt x="433" y="118"/>
                            </a:lnTo>
                            <a:lnTo>
                              <a:pt x="438" y="122"/>
                            </a:lnTo>
                            <a:lnTo>
                              <a:pt x="443" y="126"/>
                            </a:lnTo>
                            <a:lnTo>
                              <a:pt x="447" y="132"/>
                            </a:lnTo>
                            <a:lnTo>
                              <a:pt x="444" y="132"/>
                            </a:lnTo>
                            <a:lnTo>
                              <a:pt x="439" y="132"/>
                            </a:lnTo>
                            <a:lnTo>
                              <a:pt x="436" y="132"/>
                            </a:lnTo>
                            <a:lnTo>
                              <a:pt x="432" y="132"/>
                            </a:lnTo>
                            <a:lnTo>
                              <a:pt x="429" y="132"/>
                            </a:lnTo>
                            <a:lnTo>
                              <a:pt x="426" y="132"/>
                            </a:lnTo>
                            <a:lnTo>
                              <a:pt x="421" y="132"/>
                            </a:lnTo>
                            <a:lnTo>
                              <a:pt x="418" y="132"/>
                            </a:lnTo>
                            <a:lnTo>
                              <a:pt x="415" y="132"/>
                            </a:lnTo>
                            <a:lnTo>
                              <a:pt x="410" y="132"/>
                            </a:lnTo>
                            <a:lnTo>
                              <a:pt x="407" y="132"/>
                            </a:lnTo>
                            <a:lnTo>
                              <a:pt x="403" y="132"/>
                            </a:lnTo>
                            <a:lnTo>
                              <a:pt x="400" y="132"/>
                            </a:lnTo>
                            <a:lnTo>
                              <a:pt x="395" y="132"/>
                            </a:lnTo>
                            <a:lnTo>
                              <a:pt x="392" y="132"/>
                            </a:lnTo>
                            <a:lnTo>
                              <a:pt x="389" y="132"/>
                            </a:lnTo>
                            <a:lnTo>
                              <a:pt x="384" y="132"/>
                            </a:lnTo>
                            <a:lnTo>
                              <a:pt x="381" y="132"/>
                            </a:lnTo>
                            <a:lnTo>
                              <a:pt x="378" y="132"/>
                            </a:lnTo>
                            <a:lnTo>
                              <a:pt x="374" y="132"/>
                            </a:lnTo>
                            <a:lnTo>
                              <a:pt x="371" y="132"/>
                            </a:lnTo>
                            <a:lnTo>
                              <a:pt x="366" y="132"/>
                            </a:lnTo>
                            <a:lnTo>
                              <a:pt x="363" y="132"/>
                            </a:lnTo>
                            <a:lnTo>
                              <a:pt x="360" y="132"/>
                            </a:lnTo>
                            <a:lnTo>
                              <a:pt x="355" y="132"/>
                            </a:lnTo>
                            <a:lnTo>
                              <a:pt x="352" y="132"/>
                            </a:lnTo>
                            <a:lnTo>
                              <a:pt x="348" y="132"/>
                            </a:lnTo>
                            <a:lnTo>
                              <a:pt x="345" y="132"/>
                            </a:lnTo>
                            <a:lnTo>
                              <a:pt x="340" y="132"/>
                            </a:lnTo>
                            <a:lnTo>
                              <a:pt x="337" y="132"/>
                            </a:lnTo>
                            <a:lnTo>
                              <a:pt x="332" y="132"/>
                            </a:lnTo>
                            <a:lnTo>
                              <a:pt x="329" y="132"/>
                            </a:lnTo>
                            <a:lnTo>
                              <a:pt x="326" y="132"/>
                            </a:lnTo>
                            <a:lnTo>
                              <a:pt x="323" y="132"/>
                            </a:lnTo>
                            <a:lnTo>
                              <a:pt x="319" y="132"/>
                            </a:lnTo>
                            <a:lnTo>
                              <a:pt x="316" y="132"/>
                            </a:lnTo>
                            <a:lnTo>
                              <a:pt x="311" y="132"/>
                            </a:lnTo>
                            <a:lnTo>
                              <a:pt x="308" y="132"/>
                            </a:lnTo>
                            <a:lnTo>
                              <a:pt x="303" y="132"/>
                            </a:lnTo>
                            <a:lnTo>
                              <a:pt x="300" y="132"/>
                            </a:lnTo>
                            <a:lnTo>
                              <a:pt x="296" y="132"/>
                            </a:lnTo>
                            <a:lnTo>
                              <a:pt x="293" y="132"/>
                            </a:lnTo>
                            <a:lnTo>
                              <a:pt x="288" y="132"/>
                            </a:lnTo>
                            <a:lnTo>
                              <a:pt x="285" y="132"/>
                            </a:lnTo>
                            <a:lnTo>
                              <a:pt x="282" y="132"/>
                            </a:lnTo>
                            <a:lnTo>
                              <a:pt x="279" y="132"/>
                            </a:lnTo>
                            <a:lnTo>
                              <a:pt x="274" y="132"/>
                            </a:lnTo>
                            <a:lnTo>
                              <a:pt x="271" y="133"/>
                            </a:lnTo>
                            <a:lnTo>
                              <a:pt x="268" y="133"/>
                            </a:lnTo>
                            <a:lnTo>
                              <a:pt x="265" y="133"/>
                            </a:lnTo>
                            <a:lnTo>
                              <a:pt x="260" y="133"/>
                            </a:lnTo>
                            <a:lnTo>
                              <a:pt x="257" y="133"/>
                            </a:lnTo>
                            <a:lnTo>
                              <a:pt x="254" y="133"/>
                            </a:lnTo>
                            <a:lnTo>
                              <a:pt x="251" y="133"/>
                            </a:lnTo>
                            <a:lnTo>
                              <a:pt x="247" y="133"/>
                            </a:lnTo>
                            <a:lnTo>
                              <a:pt x="244" y="135"/>
                            </a:lnTo>
                            <a:lnTo>
                              <a:pt x="238" y="135"/>
                            </a:lnTo>
                            <a:lnTo>
                              <a:pt x="230" y="135"/>
                            </a:lnTo>
                            <a:lnTo>
                              <a:pt x="224" y="135"/>
                            </a:lnTo>
                            <a:lnTo>
                              <a:pt x="218" y="136"/>
                            </a:lnTo>
                            <a:lnTo>
                              <a:pt x="198" y="13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8" name="Freeform 168"/>
                      <p:cNvSpPr/>
                      <p:nvPr/>
                    </p:nvSpPr>
                    <p:spPr>
                      <a:xfrm>
                        <a:off x="2830680" y="2884320"/>
                        <a:ext cx="9360" cy="1080"/>
                      </a:xfrm>
                      <a:custGeom>
                        <a:avLst/>
                        <a:gdLst>
                          <a:gd name="textAreaLeft" fmla="*/ 0 w 9360"/>
                          <a:gd name="textAreaRight" fmla="*/ 9360 w 9360"/>
                          <a:gd name="textAreaTop" fmla="*/ 0 h 1080"/>
                          <a:gd name="textAreaBottom" fmla="*/ 1440 h 1080"/>
                        </a:gdLst>
                        <a:ahLst/>
                        <a:rect l="textAreaLeft" t="textAreaTop" r="textAreaRight" b="textAreaBottom"/>
                        <a:pathLst>
                          <a:path w="105" h="12">
                            <a:moveTo>
                              <a:pt x="105" y="0"/>
                            </a:moveTo>
                            <a:lnTo>
                              <a:pt x="101" y="0"/>
                            </a:lnTo>
                            <a:lnTo>
                              <a:pt x="96" y="0"/>
                            </a:lnTo>
                            <a:lnTo>
                              <a:pt x="93" y="0"/>
                            </a:lnTo>
                            <a:lnTo>
                              <a:pt x="90" y="0"/>
                            </a:lnTo>
                            <a:lnTo>
                              <a:pt x="85" y="0"/>
                            </a:lnTo>
                            <a:lnTo>
                              <a:pt x="82" y="1"/>
                            </a:lnTo>
                            <a:lnTo>
                              <a:pt x="78" y="1"/>
                            </a:lnTo>
                            <a:lnTo>
                              <a:pt x="73" y="1"/>
                            </a:lnTo>
                            <a:lnTo>
                              <a:pt x="68" y="1"/>
                            </a:lnTo>
                            <a:lnTo>
                              <a:pt x="65" y="3"/>
                            </a:lnTo>
                            <a:lnTo>
                              <a:pt x="61" y="3"/>
                            </a:lnTo>
                            <a:lnTo>
                              <a:pt x="56" y="3"/>
                            </a:lnTo>
                            <a:lnTo>
                              <a:pt x="52" y="3"/>
                            </a:lnTo>
                            <a:lnTo>
                              <a:pt x="49" y="4"/>
                            </a:ln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5" y="6"/>
                            </a:lnTo>
                            <a:lnTo>
                              <a:pt x="32" y="6"/>
                            </a:lnTo>
                            <a:lnTo>
                              <a:pt x="27" y="6"/>
                            </a:lnTo>
                            <a:lnTo>
                              <a:pt x="23" y="6"/>
                            </a:lnTo>
                            <a:lnTo>
                              <a:pt x="20" y="7"/>
                            </a:lnTo>
                            <a:lnTo>
                              <a:pt x="16" y="8"/>
                            </a:lnTo>
                            <a:lnTo>
                              <a:pt x="10" y="8"/>
                            </a:lnTo>
                            <a:lnTo>
                              <a:pt x="4" y="10"/>
                            </a:lnTo>
                            <a:lnTo>
                              <a:pt x="1" y="11"/>
                            </a:lnTo>
                            <a:lnTo>
                              <a:pt x="0" y="12"/>
                            </a:lnTo>
                            <a:lnTo>
                              <a:pt x="4" y="12"/>
                            </a:lnTo>
                            <a:lnTo>
                              <a:pt x="12" y="12"/>
                            </a:lnTo>
                            <a:lnTo>
                              <a:pt x="15" y="11"/>
                            </a:lnTo>
                            <a:lnTo>
                              <a:pt x="18" y="11"/>
                            </a:lnTo>
                            <a:lnTo>
                              <a:pt x="24" y="10"/>
                            </a:lnTo>
                            <a:lnTo>
                              <a:pt x="30" y="10"/>
                            </a:lnTo>
                            <a:lnTo>
                              <a:pt x="35" y="8"/>
                            </a:lnTo>
                            <a:lnTo>
                              <a:pt x="41" y="8"/>
                            </a:lnTo>
                            <a:lnTo>
                              <a:pt x="46" y="8"/>
                            </a:lnTo>
                            <a:lnTo>
                              <a:pt x="47" y="10"/>
                            </a:lnTo>
                            <a:lnTo>
                              <a:pt x="76" y="6"/>
                            </a:lnTo>
                            <a:lnTo>
                              <a:pt x="76" y="7"/>
                            </a:lnTo>
                            <a:lnTo>
                              <a:pt x="79" y="7"/>
                            </a:lnTo>
                            <a:lnTo>
                              <a:pt x="84" y="7"/>
                            </a:lnTo>
                            <a:lnTo>
                              <a:pt x="87" y="6"/>
                            </a:lnTo>
                            <a:lnTo>
                              <a:pt x="93" y="6"/>
                            </a:lnTo>
                            <a:lnTo>
                              <a:pt x="96" y="6"/>
                            </a:lnTo>
                            <a:lnTo>
                              <a:pt x="101" y="4"/>
                            </a:lnTo>
                            <a:lnTo>
                              <a:pt x="104" y="1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9" name="Freeform 169"/>
                      <p:cNvSpPr/>
                      <p:nvPr/>
                    </p:nvSpPr>
                    <p:spPr>
                      <a:xfrm>
                        <a:off x="2849400" y="2884680"/>
                        <a:ext cx="11160" cy="72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24" h="9">
                            <a:moveTo>
                              <a:pt x="124" y="4"/>
                            </a:moveTo>
                            <a:lnTo>
                              <a:pt x="120" y="4"/>
                            </a:lnTo>
                            <a:lnTo>
                              <a:pt x="116" y="4"/>
                            </a:lnTo>
                            <a:lnTo>
                              <a:pt x="112" y="4"/>
                            </a:lnTo>
                            <a:lnTo>
                              <a:pt x="109" y="4"/>
                            </a:lnTo>
                            <a:lnTo>
                              <a:pt x="104" y="4"/>
                            </a:lnTo>
                            <a:lnTo>
                              <a:pt x="100" y="5"/>
                            </a:lnTo>
                            <a:lnTo>
                              <a:pt x="95" y="5"/>
                            </a:lnTo>
                            <a:lnTo>
                              <a:pt x="92" y="7"/>
                            </a:lnTo>
                            <a:lnTo>
                              <a:pt x="87" y="7"/>
                            </a:lnTo>
                            <a:lnTo>
                              <a:pt x="83" y="7"/>
                            </a:lnTo>
                            <a:lnTo>
                              <a:pt x="77" y="7"/>
                            </a:lnTo>
                            <a:lnTo>
                              <a:pt x="74" y="8"/>
                            </a:lnTo>
                            <a:lnTo>
                              <a:pt x="68" y="8"/>
                            </a:lnTo>
                            <a:lnTo>
                              <a:pt x="63" y="8"/>
                            </a:lnTo>
                            <a:lnTo>
                              <a:pt x="58" y="9"/>
                            </a:lnTo>
                            <a:lnTo>
                              <a:pt x="54" y="9"/>
                            </a:lnTo>
                            <a:lnTo>
                              <a:pt x="49" y="9"/>
                            </a:lnTo>
                            <a:lnTo>
                              <a:pt x="45" y="9"/>
                            </a:lnTo>
                            <a:lnTo>
                              <a:pt x="40" y="9"/>
                            </a:lnTo>
                            <a:lnTo>
                              <a:pt x="35" y="9"/>
                            </a:lnTo>
                            <a:lnTo>
                              <a:pt x="32" y="9"/>
                            </a:lnTo>
                            <a:lnTo>
                              <a:pt x="28" y="9"/>
                            </a:lnTo>
                            <a:lnTo>
                              <a:pt x="25" y="9"/>
                            </a:lnTo>
                            <a:lnTo>
                              <a:pt x="20" y="9"/>
                            </a:lnTo>
                            <a:lnTo>
                              <a:pt x="17" y="9"/>
                            </a:lnTo>
                            <a:lnTo>
                              <a:pt x="14" y="9"/>
                            </a:lnTo>
                            <a:lnTo>
                              <a:pt x="11" y="8"/>
                            </a:lnTo>
                            <a:lnTo>
                              <a:pt x="8" y="8"/>
                            </a:lnTo>
                            <a:lnTo>
                              <a:pt x="3" y="7"/>
                            </a:lnTo>
                            <a:lnTo>
                              <a:pt x="0" y="4"/>
                            </a:lnTo>
                            <a:lnTo>
                              <a:pt x="5" y="4"/>
                            </a:lnTo>
                            <a:lnTo>
                              <a:pt x="8" y="4"/>
                            </a:lnTo>
                            <a:lnTo>
                              <a:pt x="12" y="4"/>
                            </a:lnTo>
                            <a:lnTo>
                              <a:pt x="17" y="4"/>
                            </a:lnTo>
                            <a:lnTo>
                              <a:pt x="20" y="4"/>
                            </a:lnTo>
                            <a:lnTo>
                              <a:pt x="25" y="4"/>
                            </a:lnTo>
                            <a:lnTo>
                              <a:pt x="29" y="4"/>
                            </a:lnTo>
                            <a:lnTo>
                              <a:pt x="32" y="4"/>
                            </a:lnTo>
                            <a:lnTo>
                              <a:pt x="37" y="3"/>
                            </a:lnTo>
                            <a:lnTo>
                              <a:pt x="40" y="3"/>
                            </a:lnTo>
                            <a:lnTo>
                              <a:pt x="45" y="3"/>
                            </a:lnTo>
                            <a:lnTo>
                              <a:pt x="49" y="3"/>
                            </a:lnTo>
                            <a:lnTo>
                              <a:pt x="52" y="1"/>
                            </a:lnTo>
                            <a:lnTo>
                              <a:pt x="57" y="1"/>
                            </a:lnTo>
                            <a:lnTo>
                              <a:pt x="60" y="1"/>
                            </a:lnTo>
                            <a:lnTo>
                              <a:pt x="64" y="1"/>
                            </a:lnTo>
                            <a:lnTo>
                              <a:pt x="69" y="1"/>
                            </a:lnTo>
                            <a:lnTo>
                              <a:pt x="72" y="0"/>
                            </a:lnTo>
                            <a:lnTo>
                              <a:pt x="77" y="0"/>
                            </a:lnTo>
                            <a:lnTo>
                              <a:pt x="80" y="0"/>
                            </a:lnTo>
                            <a:lnTo>
                              <a:pt x="83" y="0"/>
                            </a:lnTo>
                            <a:lnTo>
                              <a:pt x="87" y="0"/>
                            </a:lnTo>
                            <a:lnTo>
                              <a:pt x="90" y="0"/>
                            </a:lnTo>
                            <a:lnTo>
                              <a:pt x="95" y="0"/>
                            </a:lnTo>
                            <a:lnTo>
                              <a:pt x="98" y="0"/>
                            </a:lnTo>
                            <a:lnTo>
                              <a:pt x="101" y="0"/>
                            </a:lnTo>
                            <a:lnTo>
                              <a:pt x="106" y="0"/>
                            </a:lnTo>
                            <a:lnTo>
                              <a:pt x="109" y="1"/>
                            </a:lnTo>
                            <a:lnTo>
                              <a:pt x="113" y="1"/>
                            </a:lnTo>
                            <a:lnTo>
                              <a:pt x="116" y="3"/>
                            </a:lnTo>
                            <a:lnTo>
                              <a:pt x="121" y="3"/>
                            </a:lnTo>
                            <a:lnTo>
                              <a:pt x="124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0" name="Freeform 170"/>
                      <p:cNvSpPr/>
                      <p:nvPr/>
                    </p:nvSpPr>
                    <p:spPr>
                      <a:xfrm>
                        <a:off x="2788560" y="2953080"/>
                        <a:ext cx="1144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0" h="216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0" y="11"/>
                            </a:lnTo>
                            <a:lnTo>
                              <a:pt x="2" y="17"/>
                            </a:lnTo>
                            <a:lnTo>
                              <a:pt x="2" y="22"/>
                            </a:lnTo>
                            <a:lnTo>
                              <a:pt x="2" y="28"/>
                            </a:lnTo>
                            <a:lnTo>
                              <a:pt x="3" y="34"/>
                            </a:lnTo>
                            <a:lnTo>
                              <a:pt x="3" y="37"/>
                            </a:lnTo>
                            <a:lnTo>
                              <a:pt x="3" y="40"/>
                            </a:lnTo>
                            <a:lnTo>
                              <a:pt x="3" y="43"/>
                            </a:lnTo>
                            <a:lnTo>
                              <a:pt x="3" y="47"/>
                            </a:lnTo>
                            <a:lnTo>
                              <a:pt x="3" y="52"/>
                            </a:lnTo>
                            <a:lnTo>
                              <a:pt x="5" y="58"/>
                            </a:lnTo>
                            <a:lnTo>
                              <a:pt x="5" y="60"/>
                            </a:lnTo>
                            <a:lnTo>
                              <a:pt x="5" y="65"/>
                            </a:lnTo>
                            <a:lnTo>
                              <a:pt x="5" y="67"/>
                            </a:lnTo>
                            <a:lnTo>
                              <a:pt x="6" y="71"/>
                            </a:lnTo>
                            <a:lnTo>
                              <a:pt x="6" y="74"/>
                            </a:lnTo>
                            <a:lnTo>
                              <a:pt x="6" y="77"/>
                            </a:lnTo>
                            <a:lnTo>
                              <a:pt x="6" y="80"/>
                            </a:lnTo>
                            <a:lnTo>
                              <a:pt x="6" y="84"/>
                            </a:lnTo>
                            <a:lnTo>
                              <a:pt x="6" y="87"/>
                            </a:lnTo>
                            <a:lnTo>
                              <a:pt x="6" y="89"/>
                            </a:lnTo>
                            <a:lnTo>
                              <a:pt x="8" y="93"/>
                            </a:lnTo>
                            <a:lnTo>
                              <a:pt x="8" y="96"/>
                            </a:lnTo>
                            <a:lnTo>
                              <a:pt x="8" y="99"/>
                            </a:lnTo>
                            <a:lnTo>
                              <a:pt x="8" y="103"/>
                            </a:lnTo>
                            <a:lnTo>
                              <a:pt x="9" y="106"/>
                            </a:lnTo>
                            <a:lnTo>
                              <a:pt x="9" y="109"/>
                            </a:lnTo>
                            <a:lnTo>
                              <a:pt x="9" y="111"/>
                            </a:lnTo>
                            <a:lnTo>
                              <a:pt x="9" y="115"/>
                            </a:lnTo>
                            <a:lnTo>
                              <a:pt x="11" y="118"/>
                            </a:lnTo>
                            <a:lnTo>
                              <a:pt x="11" y="121"/>
                            </a:lnTo>
                            <a:lnTo>
                              <a:pt x="11" y="124"/>
                            </a:lnTo>
                            <a:lnTo>
                              <a:pt x="11" y="128"/>
                            </a:lnTo>
                            <a:lnTo>
                              <a:pt x="12" y="130"/>
                            </a:lnTo>
                            <a:lnTo>
                              <a:pt x="12" y="133"/>
                            </a:lnTo>
                            <a:lnTo>
                              <a:pt x="12" y="136"/>
                            </a:lnTo>
                            <a:lnTo>
                              <a:pt x="14" y="140"/>
                            </a:lnTo>
                            <a:lnTo>
                              <a:pt x="14" y="143"/>
                            </a:lnTo>
                            <a:lnTo>
                              <a:pt x="14" y="147"/>
                            </a:lnTo>
                            <a:lnTo>
                              <a:pt x="14" y="152"/>
                            </a:lnTo>
                            <a:lnTo>
                              <a:pt x="16" y="158"/>
                            </a:lnTo>
                            <a:lnTo>
                              <a:pt x="16" y="161"/>
                            </a:lnTo>
                            <a:lnTo>
                              <a:pt x="17" y="165"/>
                            </a:lnTo>
                            <a:lnTo>
                              <a:pt x="17" y="168"/>
                            </a:lnTo>
                            <a:lnTo>
                              <a:pt x="17" y="170"/>
                            </a:lnTo>
                            <a:lnTo>
                              <a:pt x="19" y="176"/>
                            </a:lnTo>
                            <a:lnTo>
                              <a:pt x="20" y="183"/>
                            </a:lnTo>
                            <a:lnTo>
                              <a:pt x="20" y="185"/>
                            </a:lnTo>
                            <a:lnTo>
                              <a:pt x="20" y="188"/>
                            </a:lnTo>
                            <a:lnTo>
                              <a:pt x="22" y="191"/>
                            </a:lnTo>
                            <a:lnTo>
                              <a:pt x="23" y="195"/>
                            </a:lnTo>
                            <a:lnTo>
                              <a:pt x="25" y="191"/>
                            </a:lnTo>
                            <a:lnTo>
                              <a:pt x="25" y="185"/>
                            </a:lnTo>
                            <a:lnTo>
                              <a:pt x="23" y="179"/>
                            </a:lnTo>
                            <a:lnTo>
                              <a:pt x="23" y="173"/>
                            </a:lnTo>
                            <a:lnTo>
                              <a:pt x="22" y="169"/>
                            </a:lnTo>
                            <a:lnTo>
                              <a:pt x="22" y="163"/>
                            </a:lnTo>
                            <a:lnTo>
                              <a:pt x="20" y="158"/>
                            </a:lnTo>
                            <a:lnTo>
                              <a:pt x="20" y="152"/>
                            </a:lnTo>
                            <a:lnTo>
                              <a:pt x="20" y="148"/>
                            </a:lnTo>
                            <a:lnTo>
                              <a:pt x="20" y="141"/>
                            </a:lnTo>
                            <a:lnTo>
                              <a:pt x="20" y="137"/>
                            </a:lnTo>
                            <a:lnTo>
                              <a:pt x="19" y="132"/>
                            </a:lnTo>
                            <a:lnTo>
                              <a:pt x="19" y="126"/>
                            </a:lnTo>
                            <a:lnTo>
                              <a:pt x="19" y="121"/>
                            </a:lnTo>
                            <a:lnTo>
                              <a:pt x="19" y="117"/>
                            </a:lnTo>
                            <a:lnTo>
                              <a:pt x="19" y="111"/>
                            </a:lnTo>
                            <a:lnTo>
                              <a:pt x="19" y="106"/>
                            </a:lnTo>
                            <a:lnTo>
                              <a:pt x="17" y="100"/>
                            </a:lnTo>
                            <a:lnTo>
                              <a:pt x="17" y="95"/>
                            </a:lnTo>
                            <a:lnTo>
                              <a:pt x="17" y="89"/>
                            </a:lnTo>
                            <a:lnTo>
                              <a:pt x="17" y="85"/>
                            </a:lnTo>
                            <a:lnTo>
                              <a:pt x="17" y="80"/>
                            </a:lnTo>
                            <a:lnTo>
                              <a:pt x="17" y="74"/>
                            </a:lnTo>
                            <a:lnTo>
                              <a:pt x="17" y="69"/>
                            </a:lnTo>
                            <a:lnTo>
                              <a:pt x="17" y="63"/>
                            </a:lnTo>
                            <a:lnTo>
                              <a:pt x="16" y="58"/>
                            </a:lnTo>
                            <a:lnTo>
                              <a:pt x="16" y="54"/>
                            </a:lnTo>
                            <a:lnTo>
                              <a:pt x="16" y="48"/>
                            </a:lnTo>
                            <a:lnTo>
                              <a:pt x="16" y="43"/>
                            </a:lnTo>
                            <a:lnTo>
                              <a:pt x="16" y="37"/>
                            </a:lnTo>
                            <a:lnTo>
                              <a:pt x="16" y="33"/>
                            </a:lnTo>
                            <a:lnTo>
                              <a:pt x="16" y="28"/>
                            </a:lnTo>
                            <a:lnTo>
                              <a:pt x="16" y="22"/>
                            </a:lnTo>
                            <a:lnTo>
                              <a:pt x="17" y="21"/>
                            </a:lnTo>
                            <a:lnTo>
                              <a:pt x="20" y="21"/>
                            </a:lnTo>
                            <a:lnTo>
                              <a:pt x="25" y="21"/>
                            </a:lnTo>
                            <a:lnTo>
                              <a:pt x="31" y="21"/>
                            </a:lnTo>
                            <a:lnTo>
                              <a:pt x="35" y="21"/>
                            </a:lnTo>
                            <a:lnTo>
                              <a:pt x="40" y="21"/>
                            </a:lnTo>
                            <a:lnTo>
                              <a:pt x="43" y="21"/>
                            </a:lnTo>
                            <a:lnTo>
                              <a:pt x="45" y="22"/>
                            </a:lnTo>
                            <a:lnTo>
                              <a:pt x="46" y="21"/>
                            </a:lnTo>
                            <a:lnTo>
                              <a:pt x="49" y="21"/>
                            </a:lnTo>
                            <a:lnTo>
                              <a:pt x="51" y="21"/>
                            </a:lnTo>
                            <a:lnTo>
                              <a:pt x="55" y="21"/>
                            </a:lnTo>
                            <a:lnTo>
                              <a:pt x="58" y="19"/>
                            </a:lnTo>
                            <a:lnTo>
                              <a:pt x="63" y="19"/>
                            </a:lnTo>
                            <a:lnTo>
                              <a:pt x="66" y="19"/>
                            </a:lnTo>
                            <a:lnTo>
                              <a:pt x="71" y="19"/>
                            </a:lnTo>
                            <a:lnTo>
                              <a:pt x="75" y="19"/>
                            </a:lnTo>
                            <a:lnTo>
                              <a:pt x="78" y="19"/>
                            </a:lnTo>
                            <a:lnTo>
                              <a:pt x="81" y="19"/>
                            </a:lnTo>
                            <a:lnTo>
                              <a:pt x="86" y="21"/>
                            </a:lnTo>
                            <a:lnTo>
                              <a:pt x="89" y="23"/>
                            </a:lnTo>
                            <a:lnTo>
                              <a:pt x="90" y="28"/>
                            </a:lnTo>
                            <a:lnTo>
                              <a:pt x="86" y="28"/>
                            </a:lnTo>
                            <a:lnTo>
                              <a:pt x="80" y="29"/>
                            </a:lnTo>
                            <a:lnTo>
                              <a:pt x="75" y="29"/>
                            </a:lnTo>
                            <a:lnTo>
                              <a:pt x="71" y="29"/>
                            </a:lnTo>
                            <a:lnTo>
                              <a:pt x="66" y="29"/>
                            </a:lnTo>
                            <a:lnTo>
                              <a:pt x="63" y="29"/>
                            </a:lnTo>
                            <a:lnTo>
                              <a:pt x="58" y="29"/>
                            </a:lnTo>
                            <a:lnTo>
                              <a:pt x="55" y="29"/>
                            </a:lnTo>
                            <a:lnTo>
                              <a:pt x="51" y="29"/>
                            </a:lnTo>
                            <a:lnTo>
                              <a:pt x="46" y="29"/>
                            </a:lnTo>
                            <a:lnTo>
                              <a:pt x="42" y="29"/>
                            </a:lnTo>
                            <a:lnTo>
                              <a:pt x="38" y="29"/>
                            </a:lnTo>
                            <a:lnTo>
                              <a:pt x="34" y="29"/>
                            </a:lnTo>
                            <a:lnTo>
                              <a:pt x="28" y="29"/>
                            </a:lnTo>
                            <a:lnTo>
                              <a:pt x="23" y="30"/>
                            </a:lnTo>
                            <a:lnTo>
                              <a:pt x="17" y="32"/>
                            </a:lnTo>
                            <a:lnTo>
                              <a:pt x="17" y="37"/>
                            </a:lnTo>
                            <a:lnTo>
                              <a:pt x="19" y="43"/>
                            </a:lnTo>
                            <a:lnTo>
                              <a:pt x="19" y="48"/>
                            </a:lnTo>
                            <a:lnTo>
                              <a:pt x="20" y="55"/>
                            </a:lnTo>
                            <a:lnTo>
                              <a:pt x="20" y="60"/>
                            </a:lnTo>
                            <a:lnTo>
                              <a:pt x="20" y="65"/>
                            </a:lnTo>
                            <a:lnTo>
                              <a:pt x="20" y="70"/>
                            </a:lnTo>
                            <a:lnTo>
                              <a:pt x="22" y="76"/>
                            </a:lnTo>
                            <a:lnTo>
                              <a:pt x="22" y="80"/>
                            </a:lnTo>
                            <a:lnTo>
                              <a:pt x="22" y="85"/>
                            </a:lnTo>
                            <a:lnTo>
                              <a:pt x="23" y="89"/>
                            </a:lnTo>
                            <a:lnTo>
                              <a:pt x="23" y="95"/>
                            </a:lnTo>
                            <a:lnTo>
                              <a:pt x="25" y="98"/>
                            </a:lnTo>
                            <a:lnTo>
                              <a:pt x="25" y="103"/>
                            </a:lnTo>
                            <a:lnTo>
                              <a:pt x="25" y="107"/>
                            </a:lnTo>
                            <a:lnTo>
                              <a:pt x="26" y="111"/>
                            </a:lnTo>
                            <a:lnTo>
                              <a:pt x="26" y="115"/>
                            </a:lnTo>
                            <a:lnTo>
                              <a:pt x="28" y="120"/>
                            </a:lnTo>
                            <a:lnTo>
                              <a:pt x="28" y="124"/>
                            </a:lnTo>
                            <a:lnTo>
                              <a:pt x="29" y="128"/>
                            </a:lnTo>
                            <a:lnTo>
                              <a:pt x="29" y="132"/>
                            </a:lnTo>
                            <a:lnTo>
                              <a:pt x="31" y="137"/>
                            </a:lnTo>
                            <a:lnTo>
                              <a:pt x="31" y="141"/>
                            </a:lnTo>
                            <a:lnTo>
                              <a:pt x="32" y="147"/>
                            </a:lnTo>
                            <a:lnTo>
                              <a:pt x="34" y="151"/>
                            </a:lnTo>
                            <a:lnTo>
                              <a:pt x="35" y="155"/>
                            </a:lnTo>
                            <a:lnTo>
                              <a:pt x="35" y="161"/>
                            </a:lnTo>
                            <a:lnTo>
                              <a:pt x="37" y="166"/>
                            </a:lnTo>
                            <a:lnTo>
                              <a:pt x="38" y="172"/>
                            </a:lnTo>
                            <a:lnTo>
                              <a:pt x="40" y="177"/>
                            </a:lnTo>
                            <a:lnTo>
                              <a:pt x="40" y="180"/>
                            </a:lnTo>
                            <a:lnTo>
                              <a:pt x="42" y="184"/>
                            </a:lnTo>
                            <a:lnTo>
                              <a:pt x="42" y="187"/>
                            </a:lnTo>
                            <a:lnTo>
                              <a:pt x="43" y="191"/>
                            </a:lnTo>
                            <a:lnTo>
                              <a:pt x="46" y="188"/>
                            </a:lnTo>
                            <a:lnTo>
                              <a:pt x="51" y="185"/>
                            </a:lnTo>
                            <a:lnTo>
                              <a:pt x="49" y="180"/>
                            </a:lnTo>
                            <a:lnTo>
                              <a:pt x="49" y="174"/>
                            </a:lnTo>
                            <a:lnTo>
                              <a:pt x="49" y="169"/>
                            </a:lnTo>
                            <a:lnTo>
                              <a:pt x="49" y="165"/>
                            </a:lnTo>
                            <a:lnTo>
                              <a:pt x="48" y="159"/>
                            </a:lnTo>
                            <a:lnTo>
                              <a:pt x="48" y="155"/>
                            </a:lnTo>
                            <a:lnTo>
                              <a:pt x="48" y="151"/>
                            </a:lnTo>
                            <a:lnTo>
                              <a:pt x="48" y="147"/>
                            </a:lnTo>
                            <a:lnTo>
                              <a:pt x="48" y="143"/>
                            </a:lnTo>
                            <a:lnTo>
                              <a:pt x="48" y="139"/>
                            </a:lnTo>
                            <a:lnTo>
                              <a:pt x="48" y="136"/>
                            </a:lnTo>
                            <a:lnTo>
                              <a:pt x="48" y="132"/>
                            </a:lnTo>
                            <a:lnTo>
                              <a:pt x="48" y="129"/>
                            </a:lnTo>
                            <a:lnTo>
                              <a:pt x="48" y="126"/>
                            </a:lnTo>
                            <a:lnTo>
                              <a:pt x="48" y="122"/>
                            </a:lnTo>
                            <a:lnTo>
                              <a:pt x="48" y="120"/>
                            </a:lnTo>
                            <a:lnTo>
                              <a:pt x="46" y="115"/>
                            </a:lnTo>
                            <a:lnTo>
                              <a:pt x="46" y="111"/>
                            </a:lnTo>
                            <a:lnTo>
                              <a:pt x="46" y="107"/>
                            </a:lnTo>
                            <a:lnTo>
                              <a:pt x="46" y="104"/>
                            </a:lnTo>
                            <a:lnTo>
                              <a:pt x="45" y="100"/>
                            </a:lnTo>
                            <a:lnTo>
                              <a:pt x="45" y="98"/>
                            </a:lnTo>
                            <a:lnTo>
                              <a:pt x="45" y="93"/>
                            </a:lnTo>
                            <a:lnTo>
                              <a:pt x="45" y="89"/>
                            </a:lnTo>
                            <a:lnTo>
                              <a:pt x="45" y="85"/>
                            </a:lnTo>
                            <a:lnTo>
                              <a:pt x="45" y="81"/>
                            </a:lnTo>
                            <a:lnTo>
                              <a:pt x="43" y="76"/>
                            </a:lnTo>
                            <a:lnTo>
                              <a:pt x="43" y="73"/>
                            </a:lnTo>
                            <a:lnTo>
                              <a:pt x="42" y="67"/>
                            </a:lnTo>
                            <a:lnTo>
                              <a:pt x="42" y="62"/>
                            </a:lnTo>
                            <a:lnTo>
                              <a:pt x="42" y="58"/>
                            </a:lnTo>
                            <a:lnTo>
                              <a:pt x="40" y="52"/>
                            </a:lnTo>
                            <a:lnTo>
                              <a:pt x="45" y="50"/>
                            </a:lnTo>
                            <a:lnTo>
                              <a:pt x="49" y="48"/>
                            </a:lnTo>
                            <a:lnTo>
                              <a:pt x="54" y="47"/>
                            </a:lnTo>
                            <a:lnTo>
                              <a:pt x="60" y="47"/>
                            </a:lnTo>
                            <a:lnTo>
                              <a:pt x="64" y="45"/>
                            </a:lnTo>
                            <a:lnTo>
                              <a:pt x="69" y="45"/>
                            </a:lnTo>
                            <a:lnTo>
                              <a:pt x="75" y="45"/>
                            </a:lnTo>
                            <a:lnTo>
                              <a:pt x="81" y="47"/>
                            </a:lnTo>
                            <a:lnTo>
                              <a:pt x="61" y="59"/>
                            </a:lnTo>
                            <a:lnTo>
                              <a:pt x="58" y="56"/>
                            </a:lnTo>
                            <a:lnTo>
                              <a:pt x="48" y="59"/>
                            </a:lnTo>
                            <a:lnTo>
                              <a:pt x="48" y="63"/>
                            </a:lnTo>
                            <a:lnTo>
                              <a:pt x="49" y="69"/>
                            </a:lnTo>
                            <a:lnTo>
                              <a:pt x="49" y="73"/>
                            </a:lnTo>
                            <a:lnTo>
                              <a:pt x="49" y="78"/>
                            </a:lnTo>
                            <a:lnTo>
                              <a:pt x="49" y="82"/>
                            </a:lnTo>
                            <a:lnTo>
                              <a:pt x="51" y="88"/>
                            </a:lnTo>
                            <a:lnTo>
                              <a:pt x="51" y="93"/>
                            </a:lnTo>
                            <a:lnTo>
                              <a:pt x="52" y="98"/>
                            </a:lnTo>
                            <a:lnTo>
                              <a:pt x="52" y="103"/>
                            </a:lnTo>
                            <a:lnTo>
                              <a:pt x="54" y="107"/>
                            </a:lnTo>
                            <a:lnTo>
                              <a:pt x="54" y="113"/>
                            </a:lnTo>
                            <a:lnTo>
                              <a:pt x="55" y="118"/>
                            </a:lnTo>
                            <a:lnTo>
                              <a:pt x="55" y="122"/>
                            </a:lnTo>
                            <a:lnTo>
                              <a:pt x="57" y="128"/>
                            </a:lnTo>
                            <a:lnTo>
                              <a:pt x="57" y="132"/>
                            </a:lnTo>
                            <a:lnTo>
                              <a:pt x="58" y="137"/>
                            </a:lnTo>
                            <a:lnTo>
                              <a:pt x="58" y="141"/>
                            </a:lnTo>
                            <a:lnTo>
                              <a:pt x="60" y="147"/>
                            </a:lnTo>
                            <a:lnTo>
                              <a:pt x="60" y="151"/>
                            </a:lnTo>
                            <a:lnTo>
                              <a:pt x="61" y="157"/>
                            </a:lnTo>
                            <a:lnTo>
                              <a:pt x="61" y="161"/>
                            </a:lnTo>
                            <a:lnTo>
                              <a:pt x="63" y="166"/>
                            </a:lnTo>
                            <a:lnTo>
                              <a:pt x="63" y="170"/>
                            </a:lnTo>
                            <a:lnTo>
                              <a:pt x="64" y="176"/>
                            </a:lnTo>
                            <a:lnTo>
                              <a:pt x="64" y="180"/>
                            </a:lnTo>
                            <a:lnTo>
                              <a:pt x="66" y="185"/>
                            </a:lnTo>
                            <a:lnTo>
                              <a:pt x="66" y="190"/>
                            </a:lnTo>
                            <a:lnTo>
                              <a:pt x="68" y="195"/>
                            </a:lnTo>
                            <a:lnTo>
                              <a:pt x="68" y="201"/>
                            </a:lnTo>
                            <a:lnTo>
                              <a:pt x="69" y="205"/>
                            </a:lnTo>
                            <a:lnTo>
                              <a:pt x="69" y="210"/>
                            </a:lnTo>
                            <a:lnTo>
                              <a:pt x="71" y="216"/>
                            </a:lnTo>
                            <a:lnTo>
                              <a:pt x="83" y="213"/>
                            </a:lnTo>
                            <a:lnTo>
                              <a:pt x="83" y="209"/>
                            </a:lnTo>
                            <a:lnTo>
                              <a:pt x="83" y="205"/>
                            </a:lnTo>
                            <a:lnTo>
                              <a:pt x="83" y="201"/>
                            </a:lnTo>
                            <a:lnTo>
                              <a:pt x="83" y="196"/>
                            </a:lnTo>
                            <a:lnTo>
                              <a:pt x="83" y="192"/>
                            </a:lnTo>
                            <a:lnTo>
                              <a:pt x="83" y="188"/>
                            </a:lnTo>
                            <a:lnTo>
                              <a:pt x="83" y="185"/>
                            </a:lnTo>
                            <a:lnTo>
                              <a:pt x="83" y="181"/>
                            </a:lnTo>
                            <a:lnTo>
                              <a:pt x="83" y="176"/>
                            </a:lnTo>
                            <a:lnTo>
                              <a:pt x="83" y="173"/>
                            </a:lnTo>
                            <a:lnTo>
                              <a:pt x="83" y="169"/>
                            </a:lnTo>
                            <a:lnTo>
                              <a:pt x="83" y="165"/>
                            </a:lnTo>
                            <a:lnTo>
                              <a:pt x="81" y="161"/>
                            </a:lnTo>
                            <a:lnTo>
                              <a:pt x="81" y="157"/>
                            </a:lnTo>
                            <a:lnTo>
                              <a:pt x="81" y="152"/>
                            </a:lnTo>
                            <a:lnTo>
                              <a:pt x="81" y="150"/>
                            </a:lnTo>
                            <a:lnTo>
                              <a:pt x="81" y="139"/>
                            </a:lnTo>
                            <a:lnTo>
                              <a:pt x="81" y="135"/>
                            </a:lnTo>
                            <a:lnTo>
                              <a:pt x="83" y="136"/>
                            </a:lnTo>
                            <a:lnTo>
                              <a:pt x="83" y="137"/>
                            </a:lnTo>
                            <a:lnTo>
                              <a:pt x="84" y="140"/>
                            </a:lnTo>
                            <a:lnTo>
                              <a:pt x="86" y="143"/>
                            </a:lnTo>
                            <a:lnTo>
                              <a:pt x="87" y="147"/>
                            </a:lnTo>
                            <a:lnTo>
                              <a:pt x="89" y="151"/>
                            </a:lnTo>
                            <a:lnTo>
                              <a:pt x="89" y="154"/>
                            </a:lnTo>
                            <a:lnTo>
                              <a:pt x="90" y="158"/>
                            </a:lnTo>
                            <a:lnTo>
                              <a:pt x="92" y="163"/>
                            </a:lnTo>
                            <a:lnTo>
                              <a:pt x="94" y="166"/>
                            </a:lnTo>
                            <a:lnTo>
                              <a:pt x="94" y="170"/>
                            </a:lnTo>
                            <a:lnTo>
                              <a:pt x="95" y="173"/>
                            </a:lnTo>
                            <a:lnTo>
                              <a:pt x="97" y="177"/>
                            </a:lnTo>
                            <a:lnTo>
                              <a:pt x="103" y="177"/>
                            </a:lnTo>
                            <a:lnTo>
                              <a:pt x="94" y="102"/>
                            </a:lnTo>
                            <a:lnTo>
                              <a:pt x="100" y="100"/>
                            </a:lnTo>
                            <a:lnTo>
                              <a:pt x="106" y="98"/>
                            </a:lnTo>
                            <a:lnTo>
                              <a:pt x="112" y="96"/>
                            </a:lnTo>
                            <a:lnTo>
                              <a:pt x="120" y="95"/>
                            </a:lnTo>
                            <a:lnTo>
                              <a:pt x="123" y="95"/>
                            </a:lnTo>
                            <a:lnTo>
                              <a:pt x="126" y="93"/>
                            </a:lnTo>
                            <a:lnTo>
                              <a:pt x="130" y="92"/>
                            </a:lnTo>
                            <a:lnTo>
                              <a:pt x="133" y="92"/>
                            </a:lnTo>
                            <a:lnTo>
                              <a:pt x="138" y="91"/>
                            </a:lnTo>
                            <a:lnTo>
                              <a:pt x="141" y="91"/>
                            </a:lnTo>
                            <a:lnTo>
                              <a:pt x="144" y="89"/>
                            </a:lnTo>
                            <a:lnTo>
                              <a:pt x="149" y="88"/>
                            </a:lnTo>
                            <a:lnTo>
                              <a:pt x="152" y="88"/>
                            </a:lnTo>
                            <a:lnTo>
                              <a:pt x="156" y="87"/>
                            </a:lnTo>
                            <a:lnTo>
                              <a:pt x="159" y="85"/>
                            </a:lnTo>
                            <a:lnTo>
                              <a:pt x="164" y="85"/>
                            </a:lnTo>
                            <a:lnTo>
                              <a:pt x="167" y="84"/>
                            </a:lnTo>
                            <a:lnTo>
                              <a:pt x="172" y="84"/>
                            </a:lnTo>
                            <a:lnTo>
                              <a:pt x="175" y="82"/>
                            </a:lnTo>
                            <a:lnTo>
                              <a:pt x="179" y="82"/>
                            </a:lnTo>
                            <a:lnTo>
                              <a:pt x="182" y="81"/>
                            </a:lnTo>
                            <a:lnTo>
                              <a:pt x="187" y="80"/>
                            </a:lnTo>
                            <a:lnTo>
                              <a:pt x="190" y="80"/>
                            </a:lnTo>
                            <a:lnTo>
                              <a:pt x="194" y="78"/>
                            </a:lnTo>
                            <a:lnTo>
                              <a:pt x="198" y="77"/>
                            </a:lnTo>
                            <a:lnTo>
                              <a:pt x="202" y="77"/>
                            </a:lnTo>
                            <a:lnTo>
                              <a:pt x="207" y="76"/>
                            </a:lnTo>
                            <a:lnTo>
                              <a:pt x="210" y="76"/>
                            </a:lnTo>
                            <a:lnTo>
                              <a:pt x="214" y="76"/>
                            </a:lnTo>
                            <a:lnTo>
                              <a:pt x="217" y="74"/>
                            </a:lnTo>
                            <a:lnTo>
                              <a:pt x="222" y="73"/>
                            </a:lnTo>
                            <a:lnTo>
                              <a:pt x="225" y="73"/>
                            </a:lnTo>
                            <a:lnTo>
                              <a:pt x="230" y="73"/>
                            </a:lnTo>
                            <a:lnTo>
                              <a:pt x="233" y="71"/>
                            </a:lnTo>
                            <a:lnTo>
                              <a:pt x="237" y="71"/>
                            </a:lnTo>
                            <a:lnTo>
                              <a:pt x="240" y="71"/>
                            </a:lnTo>
                            <a:lnTo>
                              <a:pt x="243" y="70"/>
                            </a:lnTo>
                            <a:lnTo>
                              <a:pt x="246" y="70"/>
                            </a:lnTo>
                            <a:lnTo>
                              <a:pt x="251" y="70"/>
                            </a:lnTo>
                            <a:lnTo>
                              <a:pt x="254" y="70"/>
                            </a:lnTo>
                            <a:lnTo>
                              <a:pt x="259" y="69"/>
                            </a:lnTo>
                            <a:lnTo>
                              <a:pt x="262" y="69"/>
                            </a:lnTo>
                            <a:lnTo>
                              <a:pt x="266" y="69"/>
                            </a:lnTo>
                            <a:lnTo>
                              <a:pt x="269" y="69"/>
                            </a:lnTo>
                            <a:lnTo>
                              <a:pt x="276" y="69"/>
                            </a:lnTo>
                            <a:lnTo>
                              <a:pt x="282" y="69"/>
                            </a:lnTo>
                            <a:lnTo>
                              <a:pt x="289" y="69"/>
                            </a:lnTo>
                            <a:lnTo>
                              <a:pt x="295" y="70"/>
                            </a:lnTo>
                            <a:lnTo>
                              <a:pt x="302" y="70"/>
                            </a:lnTo>
                            <a:lnTo>
                              <a:pt x="308" y="71"/>
                            </a:lnTo>
                            <a:lnTo>
                              <a:pt x="312" y="73"/>
                            </a:lnTo>
                            <a:lnTo>
                              <a:pt x="318" y="74"/>
                            </a:lnTo>
                            <a:lnTo>
                              <a:pt x="312" y="76"/>
                            </a:lnTo>
                            <a:lnTo>
                              <a:pt x="306" y="76"/>
                            </a:lnTo>
                            <a:lnTo>
                              <a:pt x="300" y="76"/>
                            </a:lnTo>
                            <a:lnTo>
                              <a:pt x="294" y="77"/>
                            </a:lnTo>
                            <a:lnTo>
                              <a:pt x="288" y="78"/>
                            </a:lnTo>
                            <a:lnTo>
                              <a:pt x="282" y="80"/>
                            </a:lnTo>
                            <a:lnTo>
                              <a:pt x="276" y="80"/>
                            </a:lnTo>
                            <a:lnTo>
                              <a:pt x="269" y="81"/>
                            </a:lnTo>
                            <a:lnTo>
                              <a:pt x="265" y="81"/>
                            </a:lnTo>
                            <a:lnTo>
                              <a:pt x="262" y="81"/>
                            </a:lnTo>
                            <a:lnTo>
                              <a:pt x="259" y="81"/>
                            </a:lnTo>
                            <a:lnTo>
                              <a:pt x="256" y="82"/>
                            </a:lnTo>
                            <a:lnTo>
                              <a:pt x="248" y="82"/>
                            </a:lnTo>
                            <a:lnTo>
                              <a:pt x="242" y="84"/>
                            </a:lnTo>
                            <a:lnTo>
                              <a:pt x="239" y="84"/>
                            </a:lnTo>
                            <a:lnTo>
                              <a:pt x="234" y="84"/>
                            </a:lnTo>
                            <a:lnTo>
                              <a:pt x="231" y="84"/>
                            </a:lnTo>
                            <a:lnTo>
                              <a:pt x="228" y="85"/>
                            </a:lnTo>
                            <a:lnTo>
                              <a:pt x="225" y="85"/>
                            </a:lnTo>
                            <a:lnTo>
                              <a:pt x="220" y="85"/>
                            </a:lnTo>
                            <a:lnTo>
                              <a:pt x="217" y="85"/>
                            </a:lnTo>
                            <a:lnTo>
                              <a:pt x="214" y="85"/>
                            </a:lnTo>
                            <a:lnTo>
                              <a:pt x="211" y="85"/>
                            </a:lnTo>
                            <a:lnTo>
                              <a:pt x="207" y="87"/>
                            </a:lnTo>
                            <a:lnTo>
                              <a:pt x="204" y="87"/>
                            </a:lnTo>
                            <a:lnTo>
                              <a:pt x="201" y="88"/>
                            </a:lnTo>
                            <a:lnTo>
                              <a:pt x="198" y="88"/>
                            </a:lnTo>
                            <a:lnTo>
                              <a:pt x="193" y="88"/>
                            </a:lnTo>
                            <a:lnTo>
                              <a:pt x="190" y="89"/>
                            </a:lnTo>
                            <a:lnTo>
                              <a:pt x="187" y="91"/>
                            </a:lnTo>
                            <a:lnTo>
                              <a:pt x="181" y="92"/>
                            </a:lnTo>
                            <a:lnTo>
                              <a:pt x="175" y="93"/>
                            </a:lnTo>
                            <a:lnTo>
                              <a:pt x="167" y="95"/>
                            </a:lnTo>
                            <a:lnTo>
                              <a:pt x="161" y="98"/>
                            </a:lnTo>
                            <a:lnTo>
                              <a:pt x="158" y="98"/>
                            </a:lnTo>
                            <a:lnTo>
                              <a:pt x="153" y="99"/>
                            </a:lnTo>
                            <a:lnTo>
                              <a:pt x="150" y="100"/>
                            </a:lnTo>
                            <a:lnTo>
                              <a:pt x="147" y="102"/>
                            </a:lnTo>
                            <a:lnTo>
                              <a:pt x="141" y="103"/>
                            </a:lnTo>
                            <a:lnTo>
                              <a:pt x="135" y="106"/>
                            </a:lnTo>
                            <a:lnTo>
                              <a:pt x="127" y="109"/>
                            </a:lnTo>
                            <a:lnTo>
                              <a:pt x="123" y="111"/>
                            </a:lnTo>
                            <a:lnTo>
                              <a:pt x="116" y="114"/>
                            </a:lnTo>
                            <a:lnTo>
                              <a:pt x="110" y="118"/>
                            </a:lnTo>
                            <a:lnTo>
                              <a:pt x="113" y="132"/>
                            </a:lnTo>
                            <a:lnTo>
                              <a:pt x="116" y="126"/>
                            </a:lnTo>
                            <a:lnTo>
                              <a:pt x="121" y="124"/>
                            </a:lnTo>
                            <a:lnTo>
                              <a:pt x="124" y="121"/>
                            </a:lnTo>
                            <a:lnTo>
                              <a:pt x="127" y="120"/>
                            </a:lnTo>
                            <a:lnTo>
                              <a:pt x="130" y="118"/>
                            </a:lnTo>
                            <a:lnTo>
                              <a:pt x="135" y="117"/>
                            </a:lnTo>
                            <a:lnTo>
                              <a:pt x="139" y="114"/>
                            </a:lnTo>
                            <a:lnTo>
                              <a:pt x="144" y="113"/>
                            </a:lnTo>
                            <a:lnTo>
                              <a:pt x="147" y="111"/>
                            </a:lnTo>
                            <a:lnTo>
                              <a:pt x="153" y="110"/>
                            </a:lnTo>
                            <a:lnTo>
                              <a:pt x="158" y="107"/>
                            </a:lnTo>
                            <a:lnTo>
                              <a:pt x="164" y="107"/>
                            </a:lnTo>
                            <a:lnTo>
                              <a:pt x="170" y="104"/>
                            </a:lnTo>
                            <a:lnTo>
                              <a:pt x="176" y="104"/>
                            </a:lnTo>
                            <a:lnTo>
                              <a:pt x="182" y="102"/>
                            </a:lnTo>
                            <a:lnTo>
                              <a:pt x="188" y="100"/>
                            </a:lnTo>
                            <a:lnTo>
                              <a:pt x="194" y="99"/>
                            </a:lnTo>
                            <a:lnTo>
                              <a:pt x="202" y="98"/>
                            </a:lnTo>
                            <a:lnTo>
                              <a:pt x="208" y="96"/>
                            </a:lnTo>
                            <a:lnTo>
                              <a:pt x="216" y="95"/>
                            </a:lnTo>
                            <a:lnTo>
                              <a:pt x="224" y="95"/>
                            </a:lnTo>
                            <a:lnTo>
                              <a:pt x="231" y="93"/>
                            </a:lnTo>
                            <a:lnTo>
                              <a:pt x="237" y="92"/>
                            </a:lnTo>
                            <a:lnTo>
                              <a:pt x="245" y="91"/>
                            </a:lnTo>
                            <a:lnTo>
                              <a:pt x="253" y="89"/>
                            </a:lnTo>
                            <a:lnTo>
                              <a:pt x="260" y="88"/>
                            </a:lnTo>
                            <a:lnTo>
                              <a:pt x="268" y="88"/>
                            </a:lnTo>
                            <a:lnTo>
                              <a:pt x="277" y="87"/>
                            </a:lnTo>
                            <a:lnTo>
                              <a:pt x="285" y="85"/>
                            </a:lnTo>
                            <a:lnTo>
                              <a:pt x="292" y="85"/>
                            </a:lnTo>
                            <a:lnTo>
                              <a:pt x="300" y="84"/>
                            </a:lnTo>
                            <a:lnTo>
                              <a:pt x="308" y="82"/>
                            </a:lnTo>
                            <a:lnTo>
                              <a:pt x="315" y="82"/>
                            </a:lnTo>
                            <a:lnTo>
                              <a:pt x="325" y="81"/>
                            </a:lnTo>
                            <a:lnTo>
                              <a:pt x="332" y="80"/>
                            </a:lnTo>
                            <a:lnTo>
                              <a:pt x="340" y="80"/>
                            </a:lnTo>
                            <a:lnTo>
                              <a:pt x="347" y="78"/>
                            </a:lnTo>
                            <a:lnTo>
                              <a:pt x="357" y="78"/>
                            </a:lnTo>
                            <a:lnTo>
                              <a:pt x="364" y="77"/>
                            </a:lnTo>
                            <a:lnTo>
                              <a:pt x="370" y="77"/>
                            </a:lnTo>
                            <a:lnTo>
                              <a:pt x="378" y="76"/>
                            </a:lnTo>
                            <a:lnTo>
                              <a:pt x="386" y="76"/>
                            </a:lnTo>
                            <a:lnTo>
                              <a:pt x="393" y="74"/>
                            </a:lnTo>
                            <a:lnTo>
                              <a:pt x="401" y="74"/>
                            </a:lnTo>
                            <a:lnTo>
                              <a:pt x="409" y="73"/>
                            </a:lnTo>
                            <a:lnTo>
                              <a:pt x="416" y="73"/>
                            </a:lnTo>
                            <a:lnTo>
                              <a:pt x="422" y="73"/>
                            </a:lnTo>
                            <a:lnTo>
                              <a:pt x="429" y="73"/>
                            </a:lnTo>
                            <a:lnTo>
                              <a:pt x="435" y="71"/>
                            </a:lnTo>
                            <a:lnTo>
                              <a:pt x="442" y="71"/>
                            </a:lnTo>
                            <a:lnTo>
                              <a:pt x="448" y="71"/>
                            </a:lnTo>
                            <a:lnTo>
                              <a:pt x="455" y="70"/>
                            </a:lnTo>
                            <a:lnTo>
                              <a:pt x="461" y="70"/>
                            </a:lnTo>
                            <a:lnTo>
                              <a:pt x="467" y="70"/>
                            </a:lnTo>
                            <a:lnTo>
                              <a:pt x="471" y="70"/>
                            </a:lnTo>
                            <a:lnTo>
                              <a:pt x="476" y="70"/>
                            </a:lnTo>
                            <a:lnTo>
                              <a:pt x="481" y="70"/>
                            </a:lnTo>
                            <a:lnTo>
                              <a:pt x="487" y="70"/>
                            </a:lnTo>
                            <a:lnTo>
                              <a:pt x="490" y="70"/>
                            </a:lnTo>
                            <a:lnTo>
                              <a:pt x="494" y="70"/>
                            </a:lnTo>
                            <a:lnTo>
                              <a:pt x="497" y="70"/>
                            </a:lnTo>
                            <a:lnTo>
                              <a:pt x="502" y="70"/>
                            </a:lnTo>
                            <a:lnTo>
                              <a:pt x="1080" y="73"/>
                            </a:lnTo>
                            <a:lnTo>
                              <a:pt x="1079" y="73"/>
                            </a:lnTo>
                            <a:lnTo>
                              <a:pt x="1077" y="73"/>
                            </a:lnTo>
                            <a:lnTo>
                              <a:pt x="1074" y="73"/>
                            </a:lnTo>
                            <a:lnTo>
                              <a:pt x="1071" y="73"/>
                            </a:lnTo>
                            <a:lnTo>
                              <a:pt x="1066" y="73"/>
                            </a:lnTo>
                            <a:lnTo>
                              <a:pt x="1063" y="73"/>
                            </a:lnTo>
                            <a:lnTo>
                              <a:pt x="1059" y="74"/>
                            </a:lnTo>
                            <a:lnTo>
                              <a:pt x="1054" y="74"/>
                            </a:lnTo>
                            <a:lnTo>
                              <a:pt x="1047" y="74"/>
                            </a:lnTo>
                            <a:lnTo>
                              <a:pt x="1040" y="76"/>
                            </a:lnTo>
                            <a:lnTo>
                              <a:pt x="1034" y="76"/>
                            </a:lnTo>
                            <a:lnTo>
                              <a:pt x="1028" y="77"/>
                            </a:lnTo>
                            <a:lnTo>
                              <a:pt x="1024" y="77"/>
                            </a:lnTo>
                            <a:lnTo>
                              <a:pt x="1021" y="77"/>
                            </a:lnTo>
                            <a:lnTo>
                              <a:pt x="1016" y="77"/>
                            </a:lnTo>
                            <a:lnTo>
                              <a:pt x="1013" y="77"/>
                            </a:lnTo>
                            <a:lnTo>
                              <a:pt x="1010" y="77"/>
                            </a:lnTo>
                            <a:lnTo>
                              <a:pt x="1007" y="78"/>
                            </a:lnTo>
                            <a:lnTo>
                              <a:pt x="1002" y="78"/>
                            </a:lnTo>
                            <a:lnTo>
                              <a:pt x="999" y="80"/>
                            </a:lnTo>
                            <a:lnTo>
                              <a:pt x="996" y="80"/>
                            </a:lnTo>
                            <a:lnTo>
                              <a:pt x="991" y="80"/>
                            </a:lnTo>
                            <a:lnTo>
                              <a:pt x="988" y="80"/>
                            </a:lnTo>
                            <a:lnTo>
                              <a:pt x="984" y="80"/>
                            </a:lnTo>
                            <a:lnTo>
                              <a:pt x="981" y="80"/>
                            </a:lnTo>
                            <a:lnTo>
                              <a:pt x="978" y="80"/>
                            </a:lnTo>
                            <a:lnTo>
                              <a:pt x="973" y="80"/>
                            </a:lnTo>
                            <a:lnTo>
                              <a:pt x="970" y="81"/>
                            </a:lnTo>
                            <a:lnTo>
                              <a:pt x="967" y="81"/>
                            </a:lnTo>
                            <a:lnTo>
                              <a:pt x="962" y="81"/>
                            </a:lnTo>
                            <a:lnTo>
                              <a:pt x="959" y="81"/>
                            </a:lnTo>
                            <a:lnTo>
                              <a:pt x="956" y="82"/>
                            </a:lnTo>
                            <a:lnTo>
                              <a:pt x="950" y="82"/>
                            </a:lnTo>
                            <a:lnTo>
                              <a:pt x="944" y="82"/>
                            </a:lnTo>
                            <a:lnTo>
                              <a:pt x="938" y="82"/>
                            </a:lnTo>
                            <a:lnTo>
                              <a:pt x="933" y="84"/>
                            </a:lnTo>
                            <a:lnTo>
                              <a:pt x="929" y="84"/>
                            </a:lnTo>
                            <a:lnTo>
                              <a:pt x="924" y="84"/>
                            </a:lnTo>
                            <a:lnTo>
                              <a:pt x="921" y="84"/>
                            </a:lnTo>
                            <a:lnTo>
                              <a:pt x="918" y="85"/>
                            </a:lnTo>
                            <a:lnTo>
                              <a:pt x="916" y="85"/>
                            </a:lnTo>
                            <a:lnTo>
                              <a:pt x="915" y="85"/>
                            </a:lnTo>
                            <a:lnTo>
                              <a:pt x="918" y="85"/>
                            </a:lnTo>
                            <a:lnTo>
                              <a:pt x="921" y="85"/>
                            </a:lnTo>
                            <a:lnTo>
                              <a:pt x="926" y="85"/>
                            </a:lnTo>
                            <a:lnTo>
                              <a:pt x="929" y="87"/>
                            </a:lnTo>
                            <a:lnTo>
                              <a:pt x="933" y="87"/>
                            </a:lnTo>
                            <a:lnTo>
                              <a:pt x="936" y="87"/>
                            </a:lnTo>
                            <a:lnTo>
                              <a:pt x="939" y="87"/>
                            </a:lnTo>
                            <a:lnTo>
                              <a:pt x="944" y="88"/>
                            </a:lnTo>
                            <a:lnTo>
                              <a:pt x="947" y="88"/>
                            </a:lnTo>
                            <a:lnTo>
                              <a:pt x="952" y="88"/>
                            </a:lnTo>
                            <a:lnTo>
                              <a:pt x="955" y="88"/>
                            </a:lnTo>
                            <a:lnTo>
                              <a:pt x="959" y="88"/>
                            </a:lnTo>
                            <a:lnTo>
                              <a:pt x="962" y="88"/>
                            </a:lnTo>
                            <a:lnTo>
                              <a:pt x="967" y="88"/>
                            </a:lnTo>
                            <a:lnTo>
                              <a:pt x="972" y="88"/>
                            </a:lnTo>
                            <a:lnTo>
                              <a:pt x="975" y="88"/>
                            </a:lnTo>
                            <a:lnTo>
                              <a:pt x="979" y="87"/>
                            </a:lnTo>
                            <a:lnTo>
                              <a:pt x="982" y="87"/>
                            </a:lnTo>
                            <a:lnTo>
                              <a:pt x="987" y="87"/>
                            </a:lnTo>
                            <a:lnTo>
                              <a:pt x="991" y="87"/>
                            </a:lnTo>
                            <a:lnTo>
                              <a:pt x="994" y="87"/>
                            </a:lnTo>
                            <a:lnTo>
                              <a:pt x="999" y="87"/>
                            </a:lnTo>
                            <a:lnTo>
                              <a:pt x="1002" y="87"/>
                            </a:lnTo>
                            <a:lnTo>
                              <a:pt x="1007" y="87"/>
                            </a:lnTo>
                            <a:lnTo>
                              <a:pt x="1011" y="87"/>
                            </a:lnTo>
                            <a:lnTo>
                              <a:pt x="1014" y="87"/>
                            </a:lnTo>
                            <a:lnTo>
                              <a:pt x="1019" y="87"/>
                            </a:lnTo>
                            <a:lnTo>
                              <a:pt x="1022" y="87"/>
                            </a:lnTo>
                            <a:lnTo>
                              <a:pt x="1027" y="85"/>
                            </a:lnTo>
                            <a:lnTo>
                              <a:pt x="1031" y="85"/>
                            </a:lnTo>
                            <a:lnTo>
                              <a:pt x="1036" y="85"/>
                            </a:lnTo>
                            <a:lnTo>
                              <a:pt x="1040" y="85"/>
                            </a:lnTo>
                            <a:lnTo>
                              <a:pt x="1043" y="85"/>
                            </a:lnTo>
                            <a:lnTo>
                              <a:pt x="1047" y="85"/>
                            </a:lnTo>
                            <a:lnTo>
                              <a:pt x="1051" y="85"/>
                            </a:lnTo>
                            <a:lnTo>
                              <a:pt x="1056" y="85"/>
                            </a:lnTo>
                            <a:lnTo>
                              <a:pt x="1059" y="84"/>
                            </a:lnTo>
                            <a:lnTo>
                              <a:pt x="1063" y="84"/>
                            </a:lnTo>
                            <a:lnTo>
                              <a:pt x="1066" y="84"/>
                            </a:lnTo>
                            <a:lnTo>
                              <a:pt x="1071" y="84"/>
                            </a:lnTo>
                            <a:lnTo>
                              <a:pt x="1074" y="84"/>
                            </a:lnTo>
                            <a:lnTo>
                              <a:pt x="1079" y="84"/>
                            </a:lnTo>
                            <a:lnTo>
                              <a:pt x="1082" y="82"/>
                            </a:lnTo>
                            <a:lnTo>
                              <a:pt x="1086" y="82"/>
                            </a:lnTo>
                            <a:lnTo>
                              <a:pt x="1091" y="82"/>
                            </a:lnTo>
                            <a:lnTo>
                              <a:pt x="1094" y="82"/>
                            </a:lnTo>
                            <a:lnTo>
                              <a:pt x="1099" y="82"/>
                            </a:lnTo>
                            <a:lnTo>
                              <a:pt x="1103" y="82"/>
                            </a:lnTo>
                            <a:lnTo>
                              <a:pt x="1106" y="82"/>
                            </a:lnTo>
                            <a:lnTo>
                              <a:pt x="1111" y="82"/>
                            </a:lnTo>
                            <a:lnTo>
                              <a:pt x="1114" y="82"/>
                            </a:lnTo>
                            <a:lnTo>
                              <a:pt x="1118" y="82"/>
                            </a:lnTo>
                            <a:lnTo>
                              <a:pt x="1123" y="81"/>
                            </a:lnTo>
                            <a:lnTo>
                              <a:pt x="1126" y="81"/>
                            </a:lnTo>
                            <a:lnTo>
                              <a:pt x="1129" y="81"/>
                            </a:lnTo>
                            <a:lnTo>
                              <a:pt x="1134" y="81"/>
                            </a:lnTo>
                            <a:lnTo>
                              <a:pt x="1138" y="81"/>
                            </a:lnTo>
                            <a:lnTo>
                              <a:pt x="1141" y="81"/>
                            </a:lnTo>
                            <a:lnTo>
                              <a:pt x="1146" y="81"/>
                            </a:lnTo>
                            <a:lnTo>
                              <a:pt x="1149" y="81"/>
                            </a:lnTo>
                            <a:lnTo>
                              <a:pt x="1154" y="81"/>
                            </a:lnTo>
                            <a:lnTo>
                              <a:pt x="1157" y="81"/>
                            </a:lnTo>
                            <a:lnTo>
                              <a:pt x="1160" y="81"/>
                            </a:lnTo>
                            <a:lnTo>
                              <a:pt x="1164" y="81"/>
                            </a:lnTo>
                            <a:lnTo>
                              <a:pt x="1164" y="84"/>
                            </a:lnTo>
                            <a:lnTo>
                              <a:pt x="1166" y="88"/>
                            </a:lnTo>
                            <a:lnTo>
                              <a:pt x="1166" y="91"/>
                            </a:lnTo>
                            <a:lnTo>
                              <a:pt x="1166" y="95"/>
                            </a:lnTo>
                            <a:lnTo>
                              <a:pt x="1166" y="99"/>
                            </a:lnTo>
                            <a:lnTo>
                              <a:pt x="1167" y="103"/>
                            </a:lnTo>
                            <a:lnTo>
                              <a:pt x="1167" y="107"/>
                            </a:lnTo>
                            <a:lnTo>
                              <a:pt x="1167" y="113"/>
                            </a:lnTo>
                            <a:lnTo>
                              <a:pt x="1167" y="117"/>
                            </a:lnTo>
                            <a:lnTo>
                              <a:pt x="1169" y="120"/>
                            </a:lnTo>
                            <a:lnTo>
                              <a:pt x="1170" y="124"/>
                            </a:lnTo>
                            <a:lnTo>
                              <a:pt x="1170" y="128"/>
                            </a:lnTo>
                            <a:lnTo>
                              <a:pt x="1172" y="132"/>
                            </a:lnTo>
                            <a:lnTo>
                              <a:pt x="1173" y="135"/>
                            </a:lnTo>
                            <a:lnTo>
                              <a:pt x="1175" y="137"/>
                            </a:lnTo>
                            <a:lnTo>
                              <a:pt x="1177" y="140"/>
                            </a:lnTo>
                            <a:lnTo>
                              <a:pt x="1183" y="139"/>
                            </a:lnTo>
                            <a:lnTo>
                              <a:pt x="1183" y="135"/>
                            </a:lnTo>
                            <a:lnTo>
                              <a:pt x="1183" y="130"/>
                            </a:lnTo>
                            <a:lnTo>
                              <a:pt x="1183" y="126"/>
                            </a:lnTo>
                            <a:lnTo>
                              <a:pt x="1184" y="122"/>
                            </a:lnTo>
                            <a:lnTo>
                              <a:pt x="1183" y="118"/>
                            </a:lnTo>
                            <a:lnTo>
                              <a:pt x="1183" y="114"/>
                            </a:lnTo>
                            <a:lnTo>
                              <a:pt x="1181" y="109"/>
                            </a:lnTo>
                            <a:lnTo>
                              <a:pt x="1181" y="104"/>
                            </a:lnTo>
                            <a:lnTo>
                              <a:pt x="1180" y="100"/>
                            </a:lnTo>
                            <a:lnTo>
                              <a:pt x="1180" y="96"/>
                            </a:lnTo>
                            <a:lnTo>
                              <a:pt x="1178" y="92"/>
                            </a:lnTo>
                            <a:lnTo>
                              <a:pt x="1177" y="88"/>
                            </a:lnTo>
                            <a:lnTo>
                              <a:pt x="1177" y="82"/>
                            </a:lnTo>
                            <a:lnTo>
                              <a:pt x="1175" y="80"/>
                            </a:lnTo>
                            <a:lnTo>
                              <a:pt x="1175" y="76"/>
                            </a:lnTo>
                            <a:lnTo>
                              <a:pt x="1175" y="73"/>
                            </a:lnTo>
                            <a:lnTo>
                              <a:pt x="1172" y="70"/>
                            </a:lnTo>
                            <a:lnTo>
                              <a:pt x="1167" y="69"/>
                            </a:lnTo>
                            <a:lnTo>
                              <a:pt x="1161" y="67"/>
                            </a:lnTo>
                            <a:lnTo>
                              <a:pt x="1160" y="66"/>
                            </a:lnTo>
                            <a:lnTo>
                              <a:pt x="1183" y="66"/>
                            </a:lnTo>
                            <a:lnTo>
                              <a:pt x="1184" y="70"/>
                            </a:lnTo>
                            <a:lnTo>
                              <a:pt x="1184" y="74"/>
                            </a:lnTo>
                            <a:lnTo>
                              <a:pt x="1186" y="78"/>
                            </a:lnTo>
                            <a:lnTo>
                              <a:pt x="1187" y="84"/>
                            </a:lnTo>
                            <a:lnTo>
                              <a:pt x="1189" y="80"/>
                            </a:lnTo>
                            <a:lnTo>
                              <a:pt x="1190" y="77"/>
                            </a:lnTo>
                            <a:lnTo>
                              <a:pt x="1192" y="73"/>
                            </a:lnTo>
                            <a:lnTo>
                              <a:pt x="1192" y="70"/>
                            </a:lnTo>
                            <a:lnTo>
                              <a:pt x="1192" y="66"/>
                            </a:lnTo>
                            <a:lnTo>
                              <a:pt x="1190" y="62"/>
                            </a:lnTo>
                            <a:lnTo>
                              <a:pt x="1190" y="59"/>
                            </a:lnTo>
                            <a:lnTo>
                              <a:pt x="1190" y="56"/>
                            </a:lnTo>
                            <a:lnTo>
                              <a:pt x="1186" y="56"/>
                            </a:lnTo>
                            <a:lnTo>
                              <a:pt x="1181" y="56"/>
                            </a:lnTo>
                            <a:lnTo>
                              <a:pt x="1177" y="58"/>
                            </a:lnTo>
                            <a:lnTo>
                              <a:pt x="1170" y="58"/>
                            </a:lnTo>
                            <a:lnTo>
                              <a:pt x="1166" y="59"/>
                            </a:lnTo>
                            <a:lnTo>
                              <a:pt x="1161" y="60"/>
                            </a:lnTo>
                            <a:lnTo>
                              <a:pt x="1158" y="62"/>
                            </a:lnTo>
                            <a:lnTo>
                              <a:pt x="1155" y="63"/>
                            </a:lnTo>
                            <a:lnTo>
                              <a:pt x="1152" y="62"/>
                            </a:lnTo>
                            <a:lnTo>
                              <a:pt x="1149" y="62"/>
                            </a:lnTo>
                            <a:lnTo>
                              <a:pt x="1144" y="60"/>
                            </a:lnTo>
                            <a:lnTo>
                              <a:pt x="1140" y="60"/>
                            </a:lnTo>
                            <a:lnTo>
                              <a:pt x="1137" y="60"/>
                            </a:lnTo>
                            <a:lnTo>
                              <a:pt x="1132" y="60"/>
                            </a:lnTo>
                            <a:lnTo>
                              <a:pt x="1129" y="60"/>
                            </a:lnTo>
                            <a:lnTo>
                              <a:pt x="1126" y="60"/>
                            </a:lnTo>
                            <a:lnTo>
                              <a:pt x="1129" y="59"/>
                            </a:lnTo>
                            <a:lnTo>
                              <a:pt x="1132" y="58"/>
                            </a:lnTo>
                            <a:lnTo>
                              <a:pt x="1135" y="58"/>
                            </a:lnTo>
                            <a:lnTo>
                              <a:pt x="1140" y="56"/>
                            </a:lnTo>
                            <a:lnTo>
                              <a:pt x="1144" y="55"/>
                            </a:lnTo>
                            <a:lnTo>
                              <a:pt x="1149" y="55"/>
                            </a:lnTo>
                            <a:lnTo>
                              <a:pt x="1154" y="54"/>
                            </a:lnTo>
                            <a:lnTo>
                              <a:pt x="1160" y="54"/>
                            </a:lnTo>
                            <a:lnTo>
                              <a:pt x="1164" y="52"/>
                            </a:lnTo>
                            <a:lnTo>
                              <a:pt x="1170" y="52"/>
                            </a:lnTo>
                            <a:lnTo>
                              <a:pt x="1175" y="52"/>
                            </a:lnTo>
                            <a:lnTo>
                              <a:pt x="1180" y="52"/>
                            </a:lnTo>
                            <a:lnTo>
                              <a:pt x="1184" y="51"/>
                            </a:lnTo>
                            <a:lnTo>
                              <a:pt x="1189" y="51"/>
                            </a:lnTo>
                            <a:lnTo>
                              <a:pt x="1193" y="50"/>
                            </a:lnTo>
                            <a:lnTo>
                              <a:pt x="1198" y="50"/>
                            </a:lnTo>
                            <a:lnTo>
                              <a:pt x="1198" y="54"/>
                            </a:lnTo>
                            <a:lnTo>
                              <a:pt x="1198" y="56"/>
                            </a:lnTo>
                            <a:lnTo>
                              <a:pt x="1198" y="60"/>
                            </a:lnTo>
                            <a:lnTo>
                              <a:pt x="1199" y="63"/>
                            </a:lnTo>
                            <a:lnTo>
                              <a:pt x="1199" y="67"/>
                            </a:lnTo>
                            <a:lnTo>
                              <a:pt x="1201" y="70"/>
                            </a:lnTo>
                            <a:lnTo>
                              <a:pt x="1201" y="74"/>
                            </a:lnTo>
                            <a:lnTo>
                              <a:pt x="1203" y="78"/>
                            </a:lnTo>
                            <a:lnTo>
                              <a:pt x="1203" y="81"/>
                            </a:lnTo>
                            <a:lnTo>
                              <a:pt x="1203" y="85"/>
                            </a:lnTo>
                            <a:lnTo>
                              <a:pt x="1204" y="88"/>
                            </a:lnTo>
                            <a:lnTo>
                              <a:pt x="1204" y="92"/>
                            </a:lnTo>
                            <a:lnTo>
                              <a:pt x="1204" y="95"/>
                            </a:lnTo>
                            <a:lnTo>
                              <a:pt x="1206" y="99"/>
                            </a:lnTo>
                            <a:lnTo>
                              <a:pt x="1206" y="102"/>
                            </a:lnTo>
                            <a:lnTo>
                              <a:pt x="1207" y="106"/>
                            </a:lnTo>
                            <a:lnTo>
                              <a:pt x="1207" y="110"/>
                            </a:lnTo>
                            <a:lnTo>
                              <a:pt x="1207" y="113"/>
                            </a:lnTo>
                            <a:lnTo>
                              <a:pt x="1209" y="117"/>
                            </a:lnTo>
                            <a:lnTo>
                              <a:pt x="1209" y="120"/>
                            </a:lnTo>
                            <a:lnTo>
                              <a:pt x="1209" y="124"/>
                            </a:lnTo>
                            <a:lnTo>
                              <a:pt x="1210" y="126"/>
                            </a:lnTo>
                            <a:lnTo>
                              <a:pt x="1210" y="129"/>
                            </a:lnTo>
                            <a:lnTo>
                              <a:pt x="1212" y="133"/>
                            </a:lnTo>
                            <a:lnTo>
                              <a:pt x="1212" y="136"/>
                            </a:lnTo>
                            <a:lnTo>
                              <a:pt x="1213" y="140"/>
                            </a:lnTo>
                            <a:lnTo>
                              <a:pt x="1213" y="143"/>
                            </a:lnTo>
                            <a:lnTo>
                              <a:pt x="1215" y="147"/>
                            </a:lnTo>
                            <a:lnTo>
                              <a:pt x="1215" y="150"/>
                            </a:lnTo>
                            <a:lnTo>
                              <a:pt x="1216" y="154"/>
                            </a:lnTo>
                            <a:lnTo>
                              <a:pt x="1216" y="157"/>
                            </a:lnTo>
                            <a:lnTo>
                              <a:pt x="1218" y="161"/>
                            </a:lnTo>
                            <a:lnTo>
                              <a:pt x="1218" y="166"/>
                            </a:lnTo>
                            <a:lnTo>
                              <a:pt x="1219" y="172"/>
                            </a:lnTo>
                            <a:lnTo>
                              <a:pt x="1221" y="177"/>
                            </a:lnTo>
                            <a:lnTo>
                              <a:pt x="1222" y="183"/>
                            </a:lnTo>
                            <a:lnTo>
                              <a:pt x="1224" y="188"/>
                            </a:lnTo>
                            <a:lnTo>
                              <a:pt x="1227" y="194"/>
                            </a:lnTo>
                            <a:lnTo>
                              <a:pt x="1232" y="196"/>
                            </a:lnTo>
                            <a:lnTo>
                              <a:pt x="1236" y="199"/>
                            </a:lnTo>
                            <a:lnTo>
                              <a:pt x="1235" y="195"/>
                            </a:lnTo>
                            <a:lnTo>
                              <a:pt x="1235" y="191"/>
                            </a:lnTo>
                            <a:lnTo>
                              <a:pt x="1235" y="187"/>
                            </a:lnTo>
                            <a:lnTo>
                              <a:pt x="1235" y="183"/>
                            </a:lnTo>
                            <a:lnTo>
                              <a:pt x="1235" y="177"/>
                            </a:lnTo>
                            <a:lnTo>
                              <a:pt x="1235" y="172"/>
                            </a:lnTo>
                            <a:lnTo>
                              <a:pt x="1235" y="166"/>
                            </a:lnTo>
                            <a:lnTo>
                              <a:pt x="1235" y="161"/>
                            </a:lnTo>
                            <a:lnTo>
                              <a:pt x="1233" y="157"/>
                            </a:lnTo>
                            <a:lnTo>
                              <a:pt x="1233" y="154"/>
                            </a:lnTo>
                            <a:lnTo>
                              <a:pt x="1233" y="151"/>
                            </a:lnTo>
                            <a:lnTo>
                              <a:pt x="1233" y="147"/>
                            </a:lnTo>
                            <a:lnTo>
                              <a:pt x="1233" y="144"/>
                            </a:lnTo>
                            <a:lnTo>
                              <a:pt x="1233" y="140"/>
                            </a:lnTo>
                            <a:lnTo>
                              <a:pt x="1233" y="137"/>
                            </a:lnTo>
                            <a:lnTo>
                              <a:pt x="1233" y="135"/>
                            </a:lnTo>
                            <a:lnTo>
                              <a:pt x="1232" y="130"/>
                            </a:lnTo>
                            <a:lnTo>
                              <a:pt x="1232" y="128"/>
                            </a:lnTo>
                            <a:lnTo>
                              <a:pt x="1232" y="124"/>
                            </a:lnTo>
                            <a:lnTo>
                              <a:pt x="1232" y="121"/>
                            </a:lnTo>
                            <a:lnTo>
                              <a:pt x="1232" y="117"/>
                            </a:lnTo>
                            <a:lnTo>
                              <a:pt x="1232" y="114"/>
                            </a:lnTo>
                            <a:lnTo>
                              <a:pt x="1232" y="111"/>
                            </a:lnTo>
                            <a:lnTo>
                              <a:pt x="1232" y="107"/>
                            </a:lnTo>
                            <a:lnTo>
                              <a:pt x="1232" y="103"/>
                            </a:lnTo>
                            <a:lnTo>
                              <a:pt x="1230" y="100"/>
                            </a:lnTo>
                            <a:lnTo>
                              <a:pt x="1230" y="96"/>
                            </a:lnTo>
                            <a:lnTo>
                              <a:pt x="1230" y="93"/>
                            </a:lnTo>
                            <a:lnTo>
                              <a:pt x="1230" y="89"/>
                            </a:lnTo>
                            <a:lnTo>
                              <a:pt x="1229" y="87"/>
                            </a:lnTo>
                            <a:lnTo>
                              <a:pt x="1229" y="82"/>
                            </a:lnTo>
                            <a:lnTo>
                              <a:pt x="1229" y="80"/>
                            </a:lnTo>
                            <a:lnTo>
                              <a:pt x="1229" y="76"/>
                            </a:lnTo>
                            <a:lnTo>
                              <a:pt x="1229" y="73"/>
                            </a:lnTo>
                            <a:lnTo>
                              <a:pt x="1229" y="70"/>
                            </a:lnTo>
                            <a:lnTo>
                              <a:pt x="1229" y="67"/>
                            </a:lnTo>
                            <a:lnTo>
                              <a:pt x="1227" y="60"/>
                            </a:lnTo>
                            <a:lnTo>
                              <a:pt x="1227" y="56"/>
                            </a:lnTo>
                            <a:lnTo>
                              <a:pt x="1225" y="51"/>
                            </a:lnTo>
                            <a:lnTo>
                              <a:pt x="1224" y="45"/>
                            </a:lnTo>
                            <a:lnTo>
                              <a:pt x="1224" y="41"/>
                            </a:lnTo>
                            <a:lnTo>
                              <a:pt x="1224" y="37"/>
                            </a:lnTo>
                            <a:lnTo>
                              <a:pt x="1222" y="33"/>
                            </a:lnTo>
                            <a:lnTo>
                              <a:pt x="1221" y="30"/>
                            </a:lnTo>
                            <a:lnTo>
                              <a:pt x="1221" y="29"/>
                            </a:lnTo>
                            <a:lnTo>
                              <a:pt x="1221" y="28"/>
                            </a:lnTo>
                            <a:lnTo>
                              <a:pt x="1215" y="28"/>
                            </a:lnTo>
                            <a:lnTo>
                              <a:pt x="1207" y="28"/>
                            </a:lnTo>
                            <a:lnTo>
                              <a:pt x="1201" y="28"/>
                            </a:lnTo>
                            <a:lnTo>
                              <a:pt x="1196" y="28"/>
                            </a:lnTo>
                            <a:lnTo>
                              <a:pt x="1190" y="28"/>
                            </a:lnTo>
                            <a:lnTo>
                              <a:pt x="1184" y="28"/>
                            </a:lnTo>
                            <a:lnTo>
                              <a:pt x="1178" y="28"/>
                            </a:lnTo>
                            <a:lnTo>
                              <a:pt x="1172" y="28"/>
                            </a:lnTo>
                            <a:lnTo>
                              <a:pt x="1170" y="26"/>
                            </a:lnTo>
                            <a:lnTo>
                              <a:pt x="1169" y="26"/>
                            </a:lnTo>
                            <a:lnTo>
                              <a:pt x="1164" y="26"/>
                            </a:lnTo>
                            <a:lnTo>
                              <a:pt x="1161" y="25"/>
                            </a:lnTo>
                            <a:lnTo>
                              <a:pt x="1157" y="23"/>
                            </a:lnTo>
                            <a:lnTo>
                              <a:pt x="1154" y="23"/>
                            </a:lnTo>
                            <a:lnTo>
                              <a:pt x="1151" y="23"/>
                            </a:lnTo>
                            <a:lnTo>
                              <a:pt x="1149" y="22"/>
                            </a:lnTo>
                            <a:lnTo>
                              <a:pt x="1154" y="22"/>
                            </a:lnTo>
                            <a:lnTo>
                              <a:pt x="1160" y="21"/>
                            </a:lnTo>
                            <a:lnTo>
                              <a:pt x="1164" y="21"/>
                            </a:lnTo>
                            <a:lnTo>
                              <a:pt x="1170" y="21"/>
                            </a:lnTo>
                            <a:lnTo>
                              <a:pt x="1175" y="21"/>
                            </a:lnTo>
                            <a:lnTo>
                              <a:pt x="1180" y="19"/>
                            </a:lnTo>
                            <a:lnTo>
                              <a:pt x="1186" y="19"/>
                            </a:lnTo>
                            <a:lnTo>
                              <a:pt x="1190" y="19"/>
                            </a:lnTo>
                            <a:lnTo>
                              <a:pt x="1196" y="18"/>
                            </a:lnTo>
                            <a:lnTo>
                              <a:pt x="1201" y="18"/>
                            </a:lnTo>
                            <a:lnTo>
                              <a:pt x="1206" y="18"/>
                            </a:lnTo>
                            <a:lnTo>
                              <a:pt x="1212" y="18"/>
                            </a:lnTo>
                            <a:lnTo>
                              <a:pt x="1216" y="17"/>
                            </a:lnTo>
                            <a:lnTo>
                              <a:pt x="1221" y="17"/>
                            </a:lnTo>
                            <a:lnTo>
                              <a:pt x="1227" y="15"/>
                            </a:lnTo>
                            <a:lnTo>
                              <a:pt x="1233" y="15"/>
                            </a:lnTo>
                            <a:lnTo>
                              <a:pt x="1233" y="18"/>
                            </a:lnTo>
                            <a:lnTo>
                              <a:pt x="1233" y="21"/>
                            </a:lnTo>
                            <a:lnTo>
                              <a:pt x="1233" y="23"/>
                            </a:lnTo>
                            <a:lnTo>
                              <a:pt x="1233" y="29"/>
                            </a:lnTo>
                            <a:lnTo>
                              <a:pt x="1233" y="33"/>
                            </a:lnTo>
                            <a:lnTo>
                              <a:pt x="1235" y="39"/>
                            </a:lnTo>
                            <a:lnTo>
                              <a:pt x="1235" y="40"/>
                            </a:lnTo>
                            <a:lnTo>
                              <a:pt x="1235" y="43"/>
                            </a:lnTo>
                            <a:lnTo>
                              <a:pt x="1235" y="47"/>
                            </a:lnTo>
                            <a:lnTo>
                              <a:pt x="1236" y="50"/>
                            </a:lnTo>
                            <a:lnTo>
                              <a:pt x="1236" y="52"/>
                            </a:lnTo>
                            <a:lnTo>
                              <a:pt x="1236" y="55"/>
                            </a:lnTo>
                            <a:lnTo>
                              <a:pt x="1236" y="59"/>
                            </a:lnTo>
                            <a:lnTo>
                              <a:pt x="1236" y="62"/>
                            </a:lnTo>
                            <a:lnTo>
                              <a:pt x="1236" y="66"/>
                            </a:lnTo>
                            <a:lnTo>
                              <a:pt x="1236" y="69"/>
                            </a:lnTo>
                            <a:lnTo>
                              <a:pt x="1236" y="73"/>
                            </a:lnTo>
                            <a:lnTo>
                              <a:pt x="1238" y="76"/>
                            </a:lnTo>
                            <a:lnTo>
                              <a:pt x="1238" y="80"/>
                            </a:lnTo>
                            <a:lnTo>
                              <a:pt x="1238" y="82"/>
                            </a:lnTo>
                            <a:lnTo>
                              <a:pt x="1239" y="87"/>
                            </a:lnTo>
                            <a:lnTo>
                              <a:pt x="1239" y="91"/>
                            </a:lnTo>
                            <a:lnTo>
                              <a:pt x="1239" y="93"/>
                            </a:lnTo>
                            <a:lnTo>
                              <a:pt x="1239" y="98"/>
                            </a:lnTo>
                            <a:lnTo>
                              <a:pt x="1241" y="102"/>
                            </a:lnTo>
                            <a:lnTo>
                              <a:pt x="1241" y="106"/>
                            </a:lnTo>
                            <a:lnTo>
                              <a:pt x="1241" y="109"/>
                            </a:lnTo>
                            <a:lnTo>
                              <a:pt x="1242" y="113"/>
                            </a:lnTo>
                            <a:lnTo>
                              <a:pt x="1242" y="115"/>
                            </a:lnTo>
                            <a:lnTo>
                              <a:pt x="1242" y="120"/>
                            </a:lnTo>
                            <a:lnTo>
                              <a:pt x="1242" y="122"/>
                            </a:lnTo>
                            <a:lnTo>
                              <a:pt x="1244" y="126"/>
                            </a:lnTo>
                            <a:lnTo>
                              <a:pt x="1244" y="129"/>
                            </a:lnTo>
                            <a:lnTo>
                              <a:pt x="1245" y="133"/>
                            </a:lnTo>
                            <a:lnTo>
                              <a:pt x="1245" y="136"/>
                            </a:lnTo>
                            <a:lnTo>
                              <a:pt x="1245" y="139"/>
                            </a:lnTo>
                            <a:lnTo>
                              <a:pt x="1245" y="141"/>
                            </a:lnTo>
                            <a:lnTo>
                              <a:pt x="1247" y="146"/>
                            </a:lnTo>
                            <a:lnTo>
                              <a:pt x="1248" y="151"/>
                            </a:lnTo>
                            <a:lnTo>
                              <a:pt x="1250" y="157"/>
                            </a:lnTo>
                            <a:lnTo>
                              <a:pt x="1251" y="162"/>
                            </a:lnTo>
                            <a:lnTo>
                              <a:pt x="1253" y="166"/>
                            </a:lnTo>
                            <a:lnTo>
                              <a:pt x="1253" y="172"/>
                            </a:lnTo>
                            <a:lnTo>
                              <a:pt x="1256" y="176"/>
                            </a:lnTo>
                            <a:lnTo>
                              <a:pt x="1258" y="179"/>
                            </a:lnTo>
                            <a:lnTo>
                              <a:pt x="1259" y="180"/>
                            </a:lnTo>
                            <a:lnTo>
                              <a:pt x="1261" y="181"/>
                            </a:lnTo>
                            <a:lnTo>
                              <a:pt x="1262" y="184"/>
                            </a:lnTo>
                            <a:lnTo>
                              <a:pt x="1262" y="180"/>
                            </a:lnTo>
                            <a:lnTo>
                              <a:pt x="1262" y="177"/>
                            </a:lnTo>
                            <a:lnTo>
                              <a:pt x="1262" y="174"/>
                            </a:lnTo>
                            <a:lnTo>
                              <a:pt x="1262" y="172"/>
                            </a:lnTo>
                            <a:lnTo>
                              <a:pt x="1261" y="168"/>
                            </a:lnTo>
                            <a:lnTo>
                              <a:pt x="1261" y="165"/>
                            </a:lnTo>
                            <a:lnTo>
                              <a:pt x="1261" y="162"/>
                            </a:lnTo>
                            <a:lnTo>
                              <a:pt x="1261" y="159"/>
                            </a:lnTo>
                            <a:lnTo>
                              <a:pt x="1261" y="155"/>
                            </a:lnTo>
                            <a:lnTo>
                              <a:pt x="1261" y="152"/>
                            </a:lnTo>
                            <a:lnTo>
                              <a:pt x="1259" y="150"/>
                            </a:lnTo>
                            <a:lnTo>
                              <a:pt x="1259" y="147"/>
                            </a:lnTo>
                            <a:lnTo>
                              <a:pt x="1259" y="143"/>
                            </a:lnTo>
                            <a:lnTo>
                              <a:pt x="1259" y="140"/>
                            </a:lnTo>
                            <a:lnTo>
                              <a:pt x="1259" y="137"/>
                            </a:lnTo>
                            <a:lnTo>
                              <a:pt x="1259" y="135"/>
                            </a:lnTo>
                            <a:lnTo>
                              <a:pt x="1259" y="130"/>
                            </a:lnTo>
                            <a:lnTo>
                              <a:pt x="1259" y="128"/>
                            </a:lnTo>
                            <a:lnTo>
                              <a:pt x="1258" y="124"/>
                            </a:lnTo>
                            <a:lnTo>
                              <a:pt x="1258" y="121"/>
                            </a:lnTo>
                            <a:lnTo>
                              <a:pt x="1258" y="118"/>
                            </a:lnTo>
                            <a:lnTo>
                              <a:pt x="1258" y="115"/>
                            </a:lnTo>
                            <a:lnTo>
                              <a:pt x="1258" y="111"/>
                            </a:lnTo>
                            <a:lnTo>
                              <a:pt x="1258" y="109"/>
                            </a:lnTo>
                            <a:lnTo>
                              <a:pt x="1256" y="106"/>
                            </a:lnTo>
                            <a:lnTo>
                              <a:pt x="1256" y="102"/>
                            </a:lnTo>
                            <a:lnTo>
                              <a:pt x="1256" y="99"/>
                            </a:lnTo>
                            <a:lnTo>
                              <a:pt x="1256" y="96"/>
                            </a:lnTo>
                            <a:lnTo>
                              <a:pt x="1256" y="92"/>
                            </a:lnTo>
                            <a:lnTo>
                              <a:pt x="1256" y="89"/>
                            </a:lnTo>
                            <a:lnTo>
                              <a:pt x="1256" y="87"/>
                            </a:lnTo>
                            <a:lnTo>
                              <a:pt x="1256" y="84"/>
                            </a:lnTo>
                            <a:lnTo>
                              <a:pt x="1256" y="80"/>
                            </a:lnTo>
                            <a:lnTo>
                              <a:pt x="1258" y="77"/>
                            </a:lnTo>
                            <a:lnTo>
                              <a:pt x="1259" y="74"/>
                            </a:lnTo>
                            <a:lnTo>
                              <a:pt x="1261" y="71"/>
                            </a:lnTo>
                            <a:lnTo>
                              <a:pt x="1262" y="66"/>
                            </a:lnTo>
                            <a:lnTo>
                              <a:pt x="1264" y="60"/>
                            </a:lnTo>
                            <a:lnTo>
                              <a:pt x="1265" y="55"/>
                            </a:lnTo>
                            <a:lnTo>
                              <a:pt x="1267" y="51"/>
                            </a:lnTo>
                            <a:lnTo>
                              <a:pt x="1268" y="45"/>
                            </a:lnTo>
                            <a:lnTo>
                              <a:pt x="1270" y="41"/>
                            </a:lnTo>
                            <a:lnTo>
                              <a:pt x="1270" y="36"/>
                            </a:lnTo>
                            <a:lnTo>
                              <a:pt x="1270" y="32"/>
                            </a:lnTo>
                            <a:lnTo>
                              <a:pt x="1270" y="28"/>
                            </a:lnTo>
                            <a:lnTo>
                              <a:pt x="1270" y="22"/>
                            </a:lnTo>
                            <a:lnTo>
                              <a:pt x="1268" y="17"/>
                            </a:lnTo>
                            <a:lnTo>
                              <a:pt x="1268" y="11"/>
                            </a:lnTo>
                            <a:lnTo>
                              <a:pt x="1267" y="6"/>
                            </a:lnTo>
                            <a:lnTo>
                              <a:pt x="1265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1" name="Freeform 171"/>
                      <p:cNvSpPr/>
                      <p:nvPr/>
                    </p:nvSpPr>
                    <p:spPr>
                      <a:xfrm>
                        <a:off x="2869200" y="2952720"/>
                        <a:ext cx="13680" cy="720"/>
                      </a:xfrm>
                      <a:custGeom>
                        <a:avLst/>
                        <a:gdLst>
                          <a:gd name="textAreaLeft" fmla="*/ 0 w 13680"/>
                          <a:gd name="textAreaRight" fmla="*/ 13680 w 1368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55" h="11">
                            <a:moveTo>
                              <a:pt x="155" y="11"/>
                            </a:moveTo>
                            <a:lnTo>
                              <a:pt x="152" y="11"/>
                            </a:lnTo>
                            <a:lnTo>
                              <a:pt x="149" y="11"/>
                            </a:lnTo>
                            <a:lnTo>
                              <a:pt x="144" y="9"/>
                            </a:lnTo>
                            <a:lnTo>
                              <a:pt x="141" y="9"/>
                            </a:lnTo>
                            <a:lnTo>
                              <a:pt x="135" y="9"/>
                            </a:lnTo>
                            <a:lnTo>
                              <a:pt x="130" y="9"/>
                            </a:lnTo>
                            <a:lnTo>
                              <a:pt x="126" y="9"/>
                            </a:lnTo>
                            <a:lnTo>
                              <a:pt x="120" y="9"/>
                            </a:lnTo>
                            <a:lnTo>
                              <a:pt x="114" y="9"/>
                            </a:lnTo>
                            <a:lnTo>
                              <a:pt x="109" y="9"/>
                            </a:lnTo>
                            <a:lnTo>
                              <a:pt x="103" y="9"/>
                            </a:lnTo>
                            <a:lnTo>
                              <a:pt x="97" y="9"/>
                            </a:lnTo>
                            <a:lnTo>
                              <a:pt x="89" y="8"/>
                            </a:lnTo>
                            <a:lnTo>
                              <a:pt x="85" y="8"/>
                            </a:lnTo>
                            <a:lnTo>
                              <a:pt x="77" y="8"/>
                            </a:lnTo>
                            <a:lnTo>
                              <a:pt x="72" y="8"/>
                            </a:lnTo>
                            <a:lnTo>
                              <a:pt x="65" y="8"/>
                            </a:lnTo>
                            <a:lnTo>
                              <a:pt x="59" y="8"/>
                            </a:lnTo>
                            <a:lnTo>
                              <a:pt x="52" y="7"/>
                            </a:lnTo>
                            <a:lnTo>
                              <a:pt x="46" y="7"/>
                            </a:lnTo>
                            <a:lnTo>
                              <a:pt x="40" y="7"/>
                            </a:lnTo>
                            <a:lnTo>
                              <a:pt x="36" y="7"/>
                            </a:lnTo>
                            <a:lnTo>
                              <a:pt x="29" y="5"/>
                            </a:lnTo>
                            <a:lnTo>
                              <a:pt x="25" y="5"/>
                            </a:lnTo>
                            <a:lnTo>
                              <a:pt x="19" y="5"/>
                            </a:lnTo>
                            <a:lnTo>
                              <a:pt x="16" y="4"/>
                            </a:lnTo>
                            <a:lnTo>
                              <a:pt x="11" y="4"/>
                            </a:lnTo>
                            <a:lnTo>
                              <a:pt x="8" y="3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1" y="0"/>
                            </a:lnTo>
                            <a:lnTo>
                              <a:pt x="55" y="3"/>
                            </a:lnTo>
                            <a:lnTo>
                              <a:pt x="60" y="1"/>
                            </a:lnTo>
                            <a:lnTo>
                              <a:pt x="65" y="1"/>
                            </a:lnTo>
                            <a:lnTo>
                              <a:pt x="69" y="1"/>
                            </a:lnTo>
                            <a:lnTo>
                              <a:pt x="72" y="1"/>
                            </a:lnTo>
                            <a:lnTo>
                              <a:pt x="77" y="1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91" y="1"/>
                            </a:lnTo>
                            <a:lnTo>
                              <a:pt x="95" y="1"/>
                            </a:lnTo>
                            <a:lnTo>
                              <a:pt x="100" y="1"/>
                            </a:lnTo>
                            <a:lnTo>
                              <a:pt x="103" y="1"/>
                            </a:lnTo>
                            <a:lnTo>
                              <a:pt x="109" y="1"/>
                            </a:lnTo>
                            <a:lnTo>
                              <a:pt x="114" y="1"/>
                            </a:lnTo>
                            <a:lnTo>
                              <a:pt x="117" y="1"/>
                            </a:lnTo>
                            <a:lnTo>
                              <a:pt x="121" y="1"/>
                            </a:lnTo>
                            <a:lnTo>
                              <a:pt x="127" y="3"/>
                            </a:lnTo>
                            <a:lnTo>
                              <a:pt x="130" y="3"/>
                            </a:lnTo>
                            <a:lnTo>
                              <a:pt x="137" y="3"/>
                            </a:lnTo>
                            <a:lnTo>
                              <a:pt x="141" y="5"/>
                            </a:lnTo>
                            <a:lnTo>
                              <a:pt x="147" y="7"/>
                            </a:lnTo>
                            <a:lnTo>
                              <a:pt x="152" y="8"/>
                            </a:lnTo>
                            <a:lnTo>
                              <a:pt x="155" y="9"/>
                            </a:lnTo>
                            <a:lnTo>
                              <a:pt x="155" y="1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Freeform 172"/>
                      <p:cNvSpPr/>
                      <p:nvPr/>
                    </p:nvSpPr>
                    <p:spPr>
                      <a:xfrm>
                        <a:off x="2797920" y="295776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5" h="42">
                            <a:moveTo>
                              <a:pt x="65" y="0"/>
                            </a:moveTo>
                            <a:lnTo>
                              <a:pt x="64" y="0"/>
                            </a:lnTo>
                            <a:lnTo>
                              <a:pt x="61" y="0"/>
                            </a:lnTo>
                            <a:lnTo>
                              <a:pt x="56" y="0"/>
                            </a:lnTo>
                            <a:lnTo>
                              <a:pt x="53" y="0"/>
                            </a:lnTo>
                            <a:lnTo>
                              <a:pt x="49" y="0"/>
                            </a:lnTo>
                            <a:lnTo>
                              <a:pt x="42" y="0"/>
                            </a:lnTo>
                            <a:lnTo>
                              <a:pt x="38" y="1"/>
                            </a:lnTo>
                            <a:lnTo>
                              <a:pt x="33" y="3"/>
                            </a:lnTo>
                            <a:lnTo>
                              <a:pt x="27" y="3"/>
                            </a:lnTo>
                            <a:lnTo>
                              <a:pt x="23" y="3"/>
                            </a:lnTo>
                            <a:lnTo>
                              <a:pt x="16" y="4"/>
                            </a:lnTo>
                            <a:lnTo>
                              <a:pt x="12" y="5"/>
                            </a:lnTo>
                            <a:lnTo>
                              <a:pt x="7" y="5"/>
                            </a:lnTo>
                            <a:lnTo>
                              <a:pt x="4" y="7"/>
                            </a:lnTo>
                            <a:lnTo>
                              <a:pt x="1" y="7"/>
                            </a:lnTo>
                            <a:lnTo>
                              <a:pt x="0" y="8"/>
                            </a:lnTo>
                            <a:lnTo>
                              <a:pt x="4" y="42"/>
                            </a:lnTo>
                            <a:lnTo>
                              <a:pt x="7" y="41"/>
                            </a:lnTo>
                            <a:lnTo>
                              <a:pt x="6" y="38"/>
                            </a:lnTo>
                            <a:lnTo>
                              <a:pt x="6" y="34"/>
                            </a:lnTo>
                            <a:lnTo>
                              <a:pt x="6" y="30"/>
                            </a:lnTo>
                            <a:lnTo>
                              <a:pt x="4" y="27"/>
                            </a:lnTo>
                            <a:lnTo>
                              <a:pt x="4" y="22"/>
                            </a:lnTo>
                            <a:lnTo>
                              <a:pt x="3" y="19"/>
                            </a:lnTo>
                            <a:lnTo>
                              <a:pt x="3" y="16"/>
                            </a:lnTo>
                            <a:lnTo>
                              <a:pt x="4" y="15"/>
                            </a:lnTo>
                            <a:lnTo>
                              <a:pt x="7" y="15"/>
                            </a:lnTo>
                            <a:lnTo>
                              <a:pt x="12" y="15"/>
                            </a:lnTo>
                            <a:lnTo>
                              <a:pt x="15" y="15"/>
                            </a:lnTo>
                            <a:lnTo>
                              <a:pt x="20" y="15"/>
                            </a:lnTo>
                            <a:lnTo>
                              <a:pt x="23" y="14"/>
                            </a:lnTo>
                            <a:lnTo>
                              <a:pt x="27" y="12"/>
                            </a:lnTo>
                            <a:lnTo>
                              <a:pt x="32" y="12"/>
                            </a:lnTo>
                            <a:lnTo>
                              <a:pt x="36" y="11"/>
                            </a:lnTo>
                            <a:lnTo>
                              <a:pt x="39" y="9"/>
                            </a:lnTo>
                            <a:lnTo>
                              <a:pt x="44" y="8"/>
                            </a:lnTo>
                            <a:lnTo>
                              <a:pt x="49" y="7"/>
                            </a:lnTo>
                            <a:lnTo>
                              <a:pt x="53" y="5"/>
                            </a:lnTo>
                            <a:lnTo>
                              <a:pt x="56" y="4"/>
                            </a:lnTo>
                            <a:lnTo>
                              <a:pt x="59" y="3"/>
                            </a:lnTo>
                            <a:lnTo>
                              <a:pt x="62" y="0"/>
                            </a:lnTo>
                            <a:lnTo>
                              <a:pt x="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3" name="Freeform 173"/>
                      <p:cNvSpPr/>
                      <p:nvPr/>
                    </p:nvSpPr>
                    <p:spPr>
                      <a:xfrm>
                        <a:off x="2784240" y="2967480"/>
                        <a:ext cx="130680" cy="23400"/>
                      </a:xfrm>
                      <a:custGeom>
                        <a:avLst/>
                        <a:gdLst>
                          <a:gd name="textAreaLeft" fmla="*/ 0 w 130680"/>
                          <a:gd name="textAreaRight" fmla="*/ 130680 w 130680"/>
                          <a:gd name="textAreaTop" fmla="*/ 0 h 23400"/>
                          <a:gd name="textAreaBottom" fmla="*/ 23760 h 23400"/>
                        </a:gdLst>
                        <a:ahLst/>
                        <a:rect l="textAreaLeft" t="textAreaTop" r="textAreaRight" b="textAreaBottom"/>
                        <a:pathLst>
                          <a:path w="1450" h="235">
                            <a:moveTo>
                              <a:pt x="9" y="4"/>
                            </a:moveTo>
                            <a:lnTo>
                              <a:pt x="9" y="7"/>
                            </a:lnTo>
                            <a:lnTo>
                              <a:pt x="8" y="11"/>
                            </a:lnTo>
                            <a:lnTo>
                              <a:pt x="8" y="15"/>
                            </a:lnTo>
                            <a:lnTo>
                              <a:pt x="6" y="19"/>
                            </a:lnTo>
                            <a:lnTo>
                              <a:pt x="6" y="23"/>
                            </a:lnTo>
                            <a:lnTo>
                              <a:pt x="6" y="28"/>
                            </a:lnTo>
                            <a:lnTo>
                              <a:pt x="4" y="33"/>
                            </a:lnTo>
                            <a:lnTo>
                              <a:pt x="4" y="37"/>
                            </a:lnTo>
                            <a:lnTo>
                              <a:pt x="4" y="43"/>
                            </a:lnTo>
                            <a:lnTo>
                              <a:pt x="3" y="47"/>
                            </a:lnTo>
                            <a:lnTo>
                              <a:pt x="3" y="51"/>
                            </a:lnTo>
                            <a:lnTo>
                              <a:pt x="3" y="56"/>
                            </a:lnTo>
                            <a:lnTo>
                              <a:pt x="1" y="62"/>
                            </a:lnTo>
                            <a:lnTo>
                              <a:pt x="1" y="66"/>
                            </a:lnTo>
                            <a:lnTo>
                              <a:pt x="1" y="71"/>
                            </a:lnTo>
                            <a:lnTo>
                              <a:pt x="1" y="77"/>
                            </a:lnTo>
                            <a:lnTo>
                              <a:pt x="1" y="81"/>
                            </a:lnTo>
                            <a:lnTo>
                              <a:pt x="1" y="87"/>
                            </a:lnTo>
                            <a:lnTo>
                              <a:pt x="0" y="91"/>
                            </a:lnTo>
                            <a:lnTo>
                              <a:pt x="0" y="96"/>
                            </a:lnTo>
                            <a:lnTo>
                              <a:pt x="0" y="100"/>
                            </a:lnTo>
                            <a:lnTo>
                              <a:pt x="0" y="104"/>
                            </a:lnTo>
                            <a:lnTo>
                              <a:pt x="0" y="110"/>
                            </a:lnTo>
                            <a:lnTo>
                              <a:pt x="0" y="115"/>
                            </a:lnTo>
                            <a:lnTo>
                              <a:pt x="0" y="119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0" y="133"/>
                            </a:lnTo>
                            <a:lnTo>
                              <a:pt x="0" y="137"/>
                            </a:lnTo>
                            <a:lnTo>
                              <a:pt x="0" y="141"/>
                            </a:lnTo>
                            <a:lnTo>
                              <a:pt x="0" y="147"/>
                            </a:lnTo>
                            <a:lnTo>
                              <a:pt x="0" y="151"/>
                            </a:lnTo>
                            <a:lnTo>
                              <a:pt x="0" y="150"/>
                            </a:lnTo>
                            <a:lnTo>
                              <a:pt x="1" y="147"/>
                            </a:lnTo>
                            <a:lnTo>
                              <a:pt x="3" y="143"/>
                            </a:lnTo>
                            <a:lnTo>
                              <a:pt x="4" y="140"/>
                            </a:lnTo>
                            <a:lnTo>
                              <a:pt x="4" y="135"/>
                            </a:lnTo>
                            <a:lnTo>
                              <a:pt x="6" y="130"/>
                            </a:lnTo>
                            <a:lnTo>
                              <a:pt x="6" y="125"/>
                            </a:lnTo>
                            <a:lnTo>
                              <a:pt x="8" y="121"/>
                            </a:lnTo>
                            <a:lnTo>
                              <a:pt x="8" y="114"/>
                            </a:lnTo>
                            <a:lnTo>
                              <a:pt x="8" y="108"/>
                            </a:lnTo>
                            <a:lnTo>
                              <a:pt x="9" y="104"/>
                            </a:lnTo>
                            <a:lnTo>
                              <a:pt x="9" y="99"/>
                            </a:lnTo>
                            <a:lnTo>
                              <a:pt x="9" y="95"/>
                            </a:lnTo>
                            <a:lnTo>
                              <a:pt x="9" y="92"/>
                            </a:lnTo>
                            <a:lnTo>
                              <a:pt x="9" y="89"/>
                            </a:lnTo>
                            <a:lnTo>
                              <a:pt x="9" y="88"/>
                            </a:lnTo>
                            <a:lnTo>
                              <a:pt x="17" y="33"/>
                            </a:lnTo>
                            <a:lnTo>
                              <a:pt x="21" y="32"/>
                            </a:lnTo>
                            <a:lnTo>
                              <a:pt x="26" y="32"/>
                            </a:lnTo>
                            <a:lnTo>
                              <a:pt x="30" y="30"/>
                            </a:lnTo>
                            <a:lnTo>
                              <a:pt x="37" y="30"/>
                            </a:lnTo>
                            <a:lnTo>
                              <a:pt x="41" y="28"/>
                            </a:lnTo>
                            <a:lnTo>
                              <a:pt x="47" y="28"/>
                            </a:lnTo>
                            <a:lnTo>
                              <a:pt x="50" y="26"/>
                            </a:lnTo>
                            <a:lnTo>
                              <a:pt x="53" y="26"/>
                            </a:lnTo>
                            <a:lnTo>
                              <a:pt x="58" y="25"/>
                            </a:lnTo>
                            <a:lnTo>
                              <a:pt x="61" y="25"/>
                            </a:lnTo>
                            <a:lnTo>
                              <a:pt x="64" y="23"/>
                            </a:lnTo>
                            <a:lnTo>
                              <a:pt x="67" y="23"/>
                            </a:lnTo>
                            <a:lnTo>
                              <a:pt x="72" y="23"/>
                            </a:lnTo>
                            <a:lnTo>
                              <a:pt x="75" y="22"/>
                            </a:lnTo>
                            <a:lnTo>
                              <a:pt x="79" y="22"/>
                            </a:lnTo>
                            <a:lnTo>
                              <a:pt x="82" y="21"/>
                            </a:lnTo>
                            <a:lnTo>
                              <a:pt x="87" y="21"/>
                            </a:lnTo>
                            <a:lnTo>
                              <a:pt x="90" y="21"/>
                            </a:lnTo>
                            <a:lnTo>
                              <a:pt x="95" y="19"/>
                            </a:lnTo>
                            <a:lnTo>
                              <a:pt x="98" y="19"/>
                            </a:lnTo>
                            <a:lnTo>
                              <a:pt x="101" y="18"/>
                            </a:lnTo>
                            <a:lnTo>
                              <a:pt x="105" y="18"/>
                            </a:lnTo>
                            <a:lnTo>
                              <a:pt x="108" y="18"/>
                            </a:lnTo>
                            <a:lnTo>
                              <a:pt x="113" y="17"/>
                            </a:lnTo>
                            <a:lnTo>
                              <a:pt x="118" y="17"/>
                            </a:lnTo>
                            <a:lnTo>
                              <a:pt x="122" y="17"/>
                            </a:lnTo>
                            <a:lnTo>
                              <a:pt x="125" y="15"/>
                            </a:lnTo>
                            <a:lnTo>
                              <a:pt x="128" y="15"/>
                            </a:lnTo>
                            <a:lnTo>
                              <a:pt x="133" y="14"/>
                            </a:lnTo>
                            <a:lnTo>
                              <a:pt x="136" y="14"/>
                            </a:lnTo>
                            <a:lnTo>
                              <a:pt x="141" y="14"/>
                            </a:lnTo>
                            <a:lnTo>
                              <a:pt x="144" y="12"/>
                            </a:lnTo>
                            <a:lnTo>
                              <a:pt x="148" y="12"/>
                            </a:lnTo>
                            <a:lnTo>
                              <a:pt x="151" y="12"/>
                            </a:lnTo>
                            <a:lnTo>
                              <a:pt x="157" y="12"/>
                            </a:lnTo>
                            <a:lnTo>
                              <a:pt x="165" y="11"/>
                            </a:lnTo>
                            <a:lnTo>
                              <a:pt x="171" y="11"/>
                            </a:lnTo>
                            <a:lnTo>
                              <a:pt x="177" y="11"/>
                            </a:lnTo>
                            <a:lnTo>
                              <a:pt x="183" y="11"/>
                            </a:lnTo>
                            <a:lnTo>
                              <a:pt x="190" y="11"/>
                            </a:lnTo>
                            <a:lnTo>
                              <a:pt x="194" y="11"/>
                            </a:lnTo>
                            <a:lnTo>
                              <a:pt x="199" y="11"/>
                            </a:lnTo>
                            <a:lnTo>
                              <a:pt x="202" y="12"/>
                            </a:lnTo>
                            <a:lnTo>
                              <a:pt x="206" y="12"/>
                            </a:lnTo>
                            <a:lnTo>
                              <a:pt x="209" y="14"/>
                            </a:lnTo>
                            <a:lnTo>
                              <a:pt x="211" y="15"/>
                            </a:lnTo>
                            <a:lnTo>
                              <a:pt x="209" y="15"/>
                            </a:lnTo>
                            <a:lnTo>
                              <a:pt x="206" y="14"/>
                            </a:lnTo>
                            <a:lnTo>
                              <a:pt x="202" y="14"/>
                            </a:lnTo>
                            <a:lnTo>
                              <a:pt x="199" y="15"/>
                            </a:lnTo>
                            <a:lnTo>
                              <a:pt x="194" y="15"/>
                            </a:lnTo>
                            <a:lnTo>
                              <a:pt x="190" y="15"/>
                            </a:lnTo>
                            <a:lnTo>
                              <a:pt x="183" y="15"/>
                            </a:lnTo>
                            <a:lnTo>
                              <a:pt x="179" y="15"/>
                            </a:lnTo>
                            <a:lnTo>
                              <a:pt x="173" y="15"/>
                            </a:lnTo>
                            <a:lnTo>
                              <a:pt x="167" y="17"/>
                            </a:lnTo>
                            <a:lnTo>
                              <a:pt x="162" y="17"/>
                            </a:lnTo>
                            <a:lnTo>
                              <a:pt x="159" y="18"/>
                            </a:lnTo>
                            <a:lnTo>
                              <a:pt x="156" y="18"/>
                            </a:lnTo>
                            <a:lnTo>
                              <a:pt x="153" y="18"/>
                            </a:lnTo>
                            <a:lnTo>
                              <a:pt x="148" y="18"/>
                            </a:lnTo>
                            <a:lnTo>
                              <a:pt x="145" y="19"/>
                            </a:lnTo>
                            <a:lnTo>
                              <a:pt x="141" y="19"/>
                            </a:lnTo>
                            <a:lnTo>
                              <a:pt x="138" y="21"/>
                            </a:lnTo>
                            <a:lnTo>
                              <a:pt x="133" y="21"/>
                            </a:lnTo>
                            <a:lnTo>
                              <a:pt x="130" y="21"/>
                            </a:lnTo>
                            <a:lnTo>
                              <a:pt x="125" y="22"/>
                            </a:lnTo>
                            <a:lnTo>
                              <a:pt x="122" y="23"/>
                            </a:lnTo>
                            <a:lnTo>
                              <a:pt x="119" y="23"/>
                            </a:lnTo>
                            <a:lnTo>
                              <a:pt x="115" y="23"/>
                            </a:lnTo>
                            <a:lnTo>
                              <a:pt x="110" y="23"/>
                            </a:lnTo>
                            <a:lnTo>
                              <a:pt x="107" y="25"/>
                            </a:lnTo>
                            <a:lnTo>
                              <a:pt x="102" y="25"/>
                            </a:lnTo>
                            <a:lnTo>
                              <a:pt x="99" y="26"/>
                            </a:lnTo>
                            <a:lnTo>
                              <a:pt x="95" y="26"/>
                            </a:lnTo>
                            <a:lnTo>
                              <a:pt x="92" y="28"/>
                            </a:lnTo>
                            <a:lnTo>
                              <a:pt x="87" y="28"/>
                            </a:lnTo>
                            <a:lnTo>
                              <a:pt x="84" y="28"/>
                            </a:lnTo>
                            <a:lnTo>
                              <a:pt x="81" y="29"/>
                            </a:lnTo>
                            <a:lnTo>
                              <a:pt x="76" y="29"/>
                            </a:lnTo>
                            <a:lnTo>
                              <a:pt x="70" y="30"/>
                            </a:lnTo>
                            <a:lnTo>
                              <a:pt x="63" y="32"/>
                            </a:lnTo>
                            <a:lnTo>
                              <a:pt x="56" y="33"/>
                            </a:lnTo>
                            <a:lnTo>
                              <a:pt x="50" y="34"/>
                            </a:lnTo>
                            <a:lnTo>
                              <a:pt x="44" y="34"/>
                            </a:lnTo>
                            <a:lnTo>
                              <a:pt x="40" y="36"/>
                            </a:lnTo>
                            <a:lnTo>
                              <a:pt x="35" y="37"/>
                            </a:lnTo>
                            <a:lnTo>
                              <a:pt x="30" y="38"/>
                            </a:lnTo>
                            <a:lnTo>
                              <a:pt x="27" y="38"/>
                            </a:lnTo>
                            <a:lnTo>
                              <a:pt x="24" y="40"/>
                            </a:lnTo>
                            <a:lnTo>
                              <a:pt x="23" y="44"/>
                            </a:lnTo>
                            <a:lnTo>
                              <a:pt x="23" y="51"/>
                            </a:lnTo>
                            <a:lnTo>
                              <a:pt x="23" y="54"/>
                            </a:lnTo>
                            <a:lnTo>
                              <a:pt x="21" y="58"/>
                            </a:lnTo>
                            <a:lnTo>
                              <a:pt x="21" y="62"/>
                            </a:lnTo>
                            <a:lnTo>
                              <a:pt x="21" y="65"/>
                            </a:lnTo>
                            <a:lnTo>
                              <a:pt x="21" y="69"/>
                            </a:lnTo>
                            <a:lnTo>
                              <a:pt x="21" y="71"/>
                            </a:lnTo>
                            <a:lnTo>
                              <a:pt x="21" y="76"/>
                            </a:lnTo>
                            <a:lnTo>
                              <a:pt x="23" y="78"/>
                            </a:lnTo>
                            <a:lnTo>
                              <a:pt x="23" y="84"/>
                            </a:lnTo>
                            <a:lnTo>
                              <a:pt x="24" y="88"/>
                            </a:lnTo>
                            <a:lnTo>
                              <a:pt x="24" y="89"/>
                            </a:lnTo>
                            <a:lnTo>
                              <a:pt x="24" y="93"/>
                            </a:lnTo>
                            <a:lnTo>
                              <a:pt x="23" y="96"/>
                            </a:lnTo>
                            <a:lnTo>
                              <a:pt x="23" y="99"/>
                            </a:lnTo>
                            <a:lnTo>
                              <a:pt x="23" y="103"/>
                            </a:lnTo>
                            <a:lnTo>
                              <a:pt x="23" y="106"/>
                            </a:lnTo>
                            <a:lnTo>
                              <a:pt x="23" y="108"/>
                            </a:lnTo>
                            <a:lnTo>
                              <a:pt x="21" y="111"/>
                            </a:lnTo>
                            <a:lnTo>
                              <a:pt x="21" y="114"/>
                            </a:lnTo>
                            <a:lnTo>
                              <a:pt x="21" y="117"/>
                            </a:lnTo>
                            <a:lnTo>
                              <a:pt x="20" y="121"/>
                            </a:lnTo>
                            <a:lnTo>
                              <a:pt x="20" y="122"/>
                            </a:lnTo>
                            <a:lnTo>
                              <a:pt x="20" y="125"/>
                            </a:lnTo>
                            <a:lnTo>
                              <a:pt x="20" y="128"/>
                            </a:lnTo>
                            <a:lnTo>
                              <a:pt x="20" y="130"/>
                            </a:lnTo>
                            <a:lnTo>
                              <a:pt x="20" y="135"/>
                            </a:lnTo>
                            <a:lnTo>
                              <a:pt x="18" y="137"/>
                            </a:lnTo>
                            <a:lnTo>
                              <a:pt x="18" y="140"/>
                            </a:lnTo>
                            <a:lnTo>
                              <a:pt x="18" y="143"/>
                            </a:lnTo>
                            <a:lnTo>
                              <a:pt x="18" y="147"/>
                            </a:lnTo>
                            <a:lnTo>
                              <a:pt x="18" y="150"/>
                            </a:lnTo>
                            <a:lnTo>
                              <a:pt x="18" y="152"/>
                            </a:lnTo>
                            <a:lnTo>
                              <a:pt x="18" y="155"/>
                            </a:lnTo>
                            <a:lnTo>
                              <a:pt x="18" y="159"/>
                            </a:lnTo>
                            <a:lnTo>
                              <a:pt x="17" y="162"/>
                            </a:lnTo>
                            <a:lnTo>
                              <a:pt x="17" y="165"/>
                            </a:lnTo>
                            <a:lnTo>
                              <a:pt x="17" y="168"/>
                            </a:lnTo>
                            <a:lnTo>
                              <a:pt x="17" y="172"/>
                            </a:lnTo>
                            <a:lnTo>
                              <a:pt x="17" y="177"/>
                            </a:lnTo>
                            <a:lnTo>
                              <a:pt x="15" y="183"/>
                            </a:lnTo>
                            <a:lnTo>
                              <a:pt x="15" y="185"/>
                            </a:lnTo>
                            <a:lnTo>
                              <a:pt x="15" y="189"/>
                            </a:lnTo>
                            <a:lnTo>
                              <a:pt x="15" y="192"/>
                            </a:lnTo>
                            <a:lnTo>
                              <a:pt x="15" y="196"/>
                            </a:lnTo>
                            <a:lnTo>
                              <a:pt x="15" y="199"/>
                            </a:lnTo>
                            <a:lnTo>
                              <a:pt x="15" y="202"/>
                            </a:lnTo>
                            <a:lnTo>
                              <a:pt x="15" y="205"/>
                            </a:lnTo>
                            <a:lnTo>
                              <a:pt x="15" y="209"/>
                            </a:lnTo>
                            <a:lnTo>
                              <a:pt x="15" y="211"/>
                            </a:lnTo>
                            <a:lnTo>
                              <a:pt x="15" y="214"/>
                            </a:lnTo>
                            <a:lnTo>
                              <a:pt x="15" y="218"/>
                            </a:lnTo>
                            <a:lnTo>
                              <a:pt x="15" y="221"/>
                            </a:lnTo>
                            <a:lnTo>
                              <a:pt x="15" y="220"/>
                            </a:lnTo>
                            <a:lnTo>
                              <a:pt x="15" y="218"/>
                            </a:lnTo>
                            <a:lnTo>
                              <a:pt x="15" y="217"/>
                            </a:lnTo>
                            <a:lnTo>
                              <a:pt x="17" y="213"/>
                            </a:lnTo>
                            <a:lnTo>
                              <a:pt x="18" y="210"/>
                            </a:lnTo>
                            <a:lnTo>
                              <a:pt x="20" y="206"/>
                            </a:lnTo>
                            <a:lnTo>
                              <a:pt x="20" y="200"/>
                            </a:lnTo>
                            <a:lnTo>
                              <a:pt x="21" y="196"/>
                            </a:lnTo>
                            <a:lnTo>
                              <a:pt x="21" y="191"/>
                            </a:lnTo>
                            <a:lnTo>
                              <a:pt x="23" y="185"/>
                            </a:lnTo>
                            <a:lnTo>
                              <a:pt x="23" y="180"/>
                            </a:lnTo>
                            <a:lnTo>
                              <a:pt x="24" y="173"/>
                            </a:lnTo>
                            <a:lnTo>
                              <a:pt x="24" y="170"/>
                            </a:lnTo>
                            <a:lnTo>
                              <a:pt x="26" y="168"/>
                            </a:lnTo>
                            <a:lnTo>
                              <a:pt x="26" y="163"/>
                            </a:lnTo>
                            <a:lnTo>
                              <a:pt x="26" y="161"/>
                            </a:lnTo>
                            <a:lnTo>
                              <a:pt x="26" y="157"/>
                            </a:lnTo>
                            <a:lnTo>
                              <a:pt x="27" y="154"/>
                            </a:lnTo>
                            <a:lnTo>
                              <a:pt x="27" y="150"/>
                            </a:lnTo>
                            <a:lnTo>
                              <a:pt x="29" y="147"/>
                            </a:lnTo>
                            <a:lnTo>
                              <a:pt x="29" y="143"/>
                            </a:lnTo>
                            <a:lnTo>
                              <a:pt x="29" y="140"/>
                            </a:lnTo>
                            <a:lnTo>
                              <a:pt x="30" y="136"/>
                            </a:lnTo>
                            <a:lnTo>
                              <a:pt x="30" y="133"/>
                            </a:lnTo>
                            <a:lnTo>
                              <a:pt x="30" y="129"/>
                            </a:lnTo>
                            <a:lnTo>
                              <a:pt x="32" y="126"/>
                            </a:lnTo>
                            <a:lnTo>
                              <a:pt x="32" y="122"/>
                            </a:lnTo>
                            <a:lnTo>
                              <a:pt x="32" y="119"/>
                            </a:lnTo>
                            <a:lnTo>
                              <a:pt x="32" y="115"/>
                            </a:lnTo>
                            <a:lnTo>
                              <a:pt x="34" y="113"/>
                            </a:lnTo>
                            <a:lnTo>
                              <a:pt x="34" y="108"/>
                            </a:lnTo>
                            <a:lnTo>
                              <a:pt x="35" y="106"/>
                            </a:lnTo>
                            <a:lnTo>
                              <a:pt x="35" y="99"/>
                            </a:lnTo>
                            <a:lnTo>
                              <a:pt x="37" y="95"/>
                            </a:lnTo>
                            <a:lnTo>
                              <a:pt x="37" y="88"/>
                            </a:lnTo>
                            <a:lnTo>
                              <a:pt x="38" y="84"/>
                            </a:lnTo>
                            <a:lnTo>
                              <a:pt x="38" y="78"/>
                            </a:lnTo>
                            <a:lnTo>
                              <a:pt x="40" y="74"/>
                            </a:lnTo>
                            <a:lnTo>
                              <a:pt x="40" y="70"/>
                            </a:lnTo>
                            <a:lnTo>
                              <a:pt x="41" y="67"/>
                            </a:lnTo>
                            <a:lnTo>
                              <a:pt x="41" y="65"/>
                            </a:lnTo>
                            <a:lnTo>
                              <a:pt x="43" y="63"/>
                            </a:lnTo>
                            <a:lnTo>
                              <a:pt x="43" y="62"/>
                            </a:lnTo>
                            <a:lnTo>
                              <a:pt x="46" y="62"/>
                            </a:lnTo>
                            <a:lnTo>
                              <a:pt x="50" y="60"/>
                            </a:lnTo>
                            <a:lnTo>
                              <a:pt x="55" y="59"/>
                            </a:lnTo>
                            <a:lnTo>
                              <a:pt x="58" y="59"/>
                            </a:lnTo>
                            <a:lnTo>
                              <a:pt x="61" y="58"/>
                            </a:lnTo>
                            <a:lnTo>
                              <a:pt x="64" y="56"/>
                            </a:lnTo>
                            <a:lnTo>
                              <a:pt x="67" y="56"/>
                            </a:lnTo>
                            <a:lnTo>
                              <a:pt x="70" y="55"/>
                            </a:lnTo>
                            <a:lnTo>
                              <a:pt x="75" y="55"/>
                            </a:lnTo>
                            <a:lnTo>
                              <a:pt x="78" y="54"/>
                            </a:lnTo>
                            <a:lnTo>
                              <a:pt x="82" y="54"/>
                            </a:lnTo>
                            <a:lnTo>
                              <a:pt x="86" y="52"/>
                            </a:lnTo>
                            <a:lnTo>
                              <a:pt x="90" y="52"/>
                            </a:lnTo>
                            <a:lnTo>
                              <a:pt x="93" y="51"/>
                            </a:lnTo>
                            <a:lnTo>
                              <a:pt x="98" y="51"/>
                            </a:lnTo>
                            <a:lnTo>
                              <a:pt x="101" y="49"/>
                            </a:lnTo>
                            <a:lnTo>
                              <a:pt x="105" y="49"/>
                            </a:lnTo>
                            <a:lnTo>
                              <a:pt x="108" y="49"/>
                            </a:lnTo>
                            <a:lnTo>
                              <a:pt x="113" y="49"/>
                            </a:lnTo>
                            <a:lnTo>
                              <a:pt x="116" y="48"/>
                            </a:lnTo>
                            <a:lnTo>
                              <a:pt x="119" y="48"/>
                            </a:lnTo>
                            <a:lnTo>
                              <a:pt x="122" y="48"/>
                            </a:lnTo>
                            <a:lnTo>
                              <a:pt x="127" y="48"/>
                            </a:lnTo>
                            <a:lnTo>
                              <a:pt x="133" y="48"/>
                            </a:lnTo>
                            <a:lnTo>
                              <a:pt x="139" y="49"/>
                            </a:lnTo>
                            <a:lnTo>
                              <a:pt x="115" y="60"/>
                            </a:lnTo>
                            <a:lnTo>
                              <a:pt x="113" y="59"/>
                            </a:lnTo>
                            <a:lnTo>
                              <a:pt x="112" y="59"/>
                            </a:lnTo>
                            <a:lnTo>
                              <a:pt x="108" y="59"/>
                            </a:lnTo>
                            <a:lnTo>
                              <a:pt x="105" y="59"/>
                            </a:lnTo>
                            <a:lnTo>
                              <a:pt x="101" y="59"/>
                            </a:lnTo>
                            <a:lnTo>
                              <a:pt x="95" y="60"/>
                            </a:lnTo>
                            <a:lnTo>
                              <a:pt x="90" y="62"/>
                            </a:lnTo>
                            <a:lnTo>
                              <a:pt x="84" y="62"/>
                            </a:lnTo>
                            <a:lnTo>
                              <a:pt x="78" y="63"/>
                            </a:lnTo>
                            <a:lnTo>
                              <a:pt x="73" y="65"/>
                            </a:lnTo>
                            <a:lnTo>
                              <a:pt x="67" y="65"/>
                            </a:lnTo>
                            <a:lnTo>
                              <a:pt x="63" y="66"/>
                            </a:lnTo>
                            <a:lnTo>
                              <a:pt x="56" y="66"/>
                            </a:lnTo>
                            <a:lnTo>
                              <a:pt x="53" y="66"/>
                            </a:lnTo>
                            <a:lnTo>
                              <a:pt x="50" y="67"/>
                            </a:lnTo>
                            <a:lnTo>
                              <a:pt x="47" y="67"/>
                            </a:lnTo>
                            <a:lnTo>
                              <a:pt x="46" y="70"/>
                            </a:lnTo>
                            <a:lnTo>
                              <a:pt x="46" y="74"/>
                            </a:lnTo>
                            <a:lnTo>
                              <a:pt x="44" y="77"/>
                            </a:lnTo>
                            <a:lnTo>
                              <a:pt x="44" y="80"/>
                            </a:lnTo>
                            <a:lnTo>
                              <a:pt x="44" y="84"/>
                            </a:lnTo>
                            <a:lnTo>
                              <a:pt x="43" y="87"/>
                            </a:lnTo>
                            <a:lnTo>
                              <a:pt x="43" y="89"/>
                            </a:lnTo>
                            <a:lnTo>
                              <a:pt x="43" y="93"/>
                            </a:lnTo>
                            <a:lnTo>
                              <a:pt x="43" y="98"/>
                            </a:lnTo>
                            <a:lnTo>
                              <a:pt x="43" y="100"/>
                            </a:lnTo>
                            <a:lnTo>
                              <a:pt x="43" y="104"/>
                            </a:lnTo>
                            <a:lnTo>
                              <a:pt x="43" y="107"/>
                            </a:lnTo>
                            <a:lnTo>
                              <a:pt x="43" y="111"/>
                            </a:lnTo>
                            <a:lnTo>
                              <a:pt x="43" y="114"/>
                            </a:lnTo>
                            <a:lnTo>
                              <a:pt x="43" y="118"/>
                            </a:lnTo>
                            <a:lnTo>
                              <a:pt x="43" y="122"/>
                            </a:lnTo>
                            <a:lnTo>
                              <a:pt x="43" y="125"/>
                            </a:lnTo>
                            <a:lnTo>
                              <a:pt x="43" y="129"/>
                            </a:lnTo>
                            <a:lnTo>
                              <a:pt x="43" y="132"/>
                            </a:lnTo>
                            <a:lnTo>
                              <a:pt x="43" y="136"/>
                            </a:lnTo>
                            <a:lnTo>
                              <a:pt x="43" y="139"/>
                            </a:lnTo>
                            <a:lnTo>
                              <a:pt x="43" y="143"/>
                            </a:lnTo>
                            <a:lnTo>
                              <a:pt x="43" y="146"/>
                            </a:lnTo>
                            <a:lnTo>
                              <a:pt x="43" y="150"/>
                            </a:lnTo>
                            <a:lnTo>
                              <a:pt x="43" y="154"/>
                            </a:lnTo>
                            <a:lnTo>
                              <a:pt x="43" y="157"/>
                            </a:lnTo>
                            <a:lnTo>
                              <a:pt x="43" y="161"/>
                            </a:lnTo>
                            <a:lnTo>
                              <a:pt x="44" y="163"/>
                            </a:lnTo>
                            <a:lnTo>
                              <a:pt x="44" y="168"/>
                            </a:lnTo>
                            <a:lnTo>
                              <a:pt x="44" y="172"/>
                            </a:lnTo>
                            <a:lnTo>
                              <a:pt x="44" y="174"/>
                            </a:lnTo>
                            <a:lnTo>
                              <a:pt x="44" y="179"/>
                            </a:lnTo>
                            <a:lnTo>
                              <a:pt x="44" y="184"/>
                            </a:lnTo>
                            <a:lnTo>
                              <a:pt x="44" y="191"/>
                            </a:lnTo>
                            <a:lnTo>
                              <a:pt x="43" y="194"/>
                            </a:lnTo>
                            <a:lnTo>
                              <a:pt x="43" y="196"/>
                            </a:lnTo>
                            <a:lnTo>
                              <a:pt x="43" y="200"/>
                            </a:lnTo>
                            <a:lnTo>
                              <a:pt x="43" y="203"/>
                            </a:lnTo>
                            <a:lnTo>
                              <a:pt x="43" y="206"/>
                            </a:lnTo>
                            <a:lnTo>
                              <a:pt x="41" y="210"/>
                            </a:lnTo>
                            <a:lnTo>
                              <a:pt x="41" y="213"/>
                            </a:lnTo>
                            <a:lnTo>
                              <a:pt x="41" y="216"/>
                            </a:lnTo>
                            <a:lnTo>
                              <a:pt x="40" y="218"/>
                            </a:lnTo>
                            <a:lnTo>
                              <a:pt x="40" y="222"/>
                            </a:lnTo>
                            <a:lnTo>
                              <a:pt x="40" y="225"/>
                            </a:lnTo>
                            <a:lnTo>
                              <a:pt x="40" y="229"/>
                            </a:lnTo>
                            <a:lnTo>
                              <a:pt x="43" y="231"/>
                            </a:lnTo>
                            <a:lnTo>
                              <a:pt x="47" y="232"/>
                            </a:lnTo>
                            <a:lnTo>
                              <a:pt x="50" y="233"/>
                            </a:lnTo>
                            <a:lnTo>
                              <a:pt x="55" y="235"/>
                            </a:lnTo>
                            <a:lnTo>
                              <a:pt x="58" y="179"/>
                            </a:lnTo>
                            <a:lnTo>
                              <a:pt x="58" y="173"/>
                            </a:lnTo>
                            <a:lnTo>
                              <a:pt x="60" y="168"/>
                            </a:lnTo>
                            <a:lnTo>
                              <a:pt x="60" y="163"/>
                            </a:lnTo>
                            <a:lnTo>
                              <a:pt x="61" y="158"/>
                            </a:lnTo>
                            <a:lnTo>
                              <a:pt x="63" y="152"/>
                            </a:lnTo>
                            <a:lnTo>
                              <a:pt x="63" y="148"/>
                            </a:lnTo>
                            <a:lnTo>
                              <a:pt x="64" y="143"/>
                            </a:lnTo>
                            <a:lnTo>
                              <a:pt x="66" y="137"/>
                            </a:lnTo>
                            <a:lnTo>
                              <a:pt x="66" y="132"/>
                            </a:lnTo>
                            <a:lnTo>
                              <a:pt x="67" y="126"/>
                            </a:lnTo>
                            <a:lnTo>
                              <a:pt x="67" y="122"/>
                            </a:lnTo>
                            <a:lnTo>
                              <a:pt x="69" y="117"/>
                            </a:lnTo>
                            <a:lnTo>
                              <a:pt x="70" y="111"/>
                            </a:lnTo>
                            <a:lnTo>
                              <a:pt x="70" y="107"/>
                            </a:lnTo>
                            <a:lnTo>
                              <a:pt x="72" y="102"/>
                            </a:lnTo>
                            <a:lnTo>
                              <a:pt x="73" y="96"/>
                            </a:lnTo>
                            <a:lnTo>
                              <a:pt x="73" y="102"/>
                            </a:lnTo>
                            <a:lnTo>
                              <a:pt x="73" y="107"/>
                            </a:lnTo>
                            <a:lnTo>
                              <a:pt x="75" y="113"/>
                            </a:lnTo>
                            <a:lnTo>
                              <a:pt x="75" y="118"/>
                            </a:lnTo>
                            <a:lnTo>
                              <a:pt x="75" y="124"/>
                            </a:lnTo>
                            <a:lnTo>
                              <a:pt x="76" y="129"/>
                            </a:lnTo>
                            <a:lnTo>
                              <a:pt x="76" y="135"/>
                            </a:lnTo>
                            <a:lnTo>
                              <a:pt x="78" y="140"/>
                            </a:lnTo>
                            <a:lnTo>
                              <a:pt x="82" y="141"/>
                            </a:lnTo>
                            <a:lnTo>
                              <a:pt x="84" y="139"/>
                            </a:lnTo>
                            <a:lnTo>
                              <a:pt x="86" y="135"/>
                            </a:lnTo>
                            <a:lnTo>
                              <a:pt x="86" y="130"/>
                            </a:lnTo>
                            <a:lnTo>
                              <a:pt x="87" y="128"/>
                            </a:lnTo>
                            <a:lnTo>
                              <a:pt x="87" y="124"/>
                            </a:lnTo>
                            <a:lnTo>
                              <a:pt x="87" y="119"/>
                            </a:lnTo>
                            <a:lnTo>
                              <a:pt x="87" y="117"/>
                            </a:lnTo>
                            <a:lnTo>
                              <a:pt x="87" y="113"/>
                            </a:lnTo>
                            <a:lnTo>
                              <a:pt x="90" y="111"/>
                            </a:lnTo>
                            <a:lnTo>
                              <a:pt x="95" y="111"/>
                            </a:lnTo>
                            <a:lnTo>
                              <a:pt x="98" y="110"/>
                            </a:lnTo>
                            <a:lnTo>
                              <a:pt x="102" y="110"/>
                            </a:lnTo>
                            <a:lnTo>
                              <a:pt x="107" y="108"/>
                            </a:lnTo>
                            <a:lnTo>
                              <a:pt x="110" y="108"/>
                            </a:lnTo>
                            <a:lnTo>
                              <a:pt x="115" y="107"/>
                            </a:lnTo>
                            <a:lnTo>
                              <a:pt x="119" y="107"/>
                            </a:lnTo>
                            <a:lnTo>
                              <a:pt x="124" y="106"/>
                            </a:lnTo>
                            <a:lnTo>
                              <a:pt x="128" y="104"/>
                            </a:lnTo>
                            <a:lnTo>
                              <a:pt x="133" y="103"/>
                            </a:lnTo>
                            <a:lnTo>
                              <a:pt x="138" y="103"/>
                            </a:lnTo>
                            <a:lnTo>
                              <a:pt x="142" y="102"/>
                            </a:lnTo>
                            <a:lnTo>
                              <a:pt x="147" y="102"/>
                            </a:lnTo>
                            <a:lnTo>
                              <a:pt x="153" y="100"/>
                            </a:lnTo>
                            <a:lnTo>
                              <a:pt x="157" y="99"/>
                            </a:lnTo>
                            <a:lnTo>
                              <a:pt x="164" y="98"/>
                            </a:lnTo>
                            <a:lnTo>
                              <a:pt x="168" y="98"/>
                            </a:lnTo>
                            <a:lnTo>
                              <a:pt x="173" y="96"/>
                            </a:lnTo>
                            <a:lnTo>
                              <a:pt x="179" y="96"/>
                            </a:lnTo>
                            <a:lnTo>
                              <a:pt x="183" y="93"/>
                            </a:lnTo>
                            <a:lnTo>
                              <a:pt x="190" y="93"/>
                            </a:lnTo>
                            <a:lnTo>
                              <a:pt x="194" y="92"/>
                            </a:lnTo>
                            <a:lnTo>
                              <a:pt x="200" y="92"/>
                            </a:lnTo>
                            <a:lnTo>
                              <a:pt x="205" y="91"/>
                            </a:lnTo>
                            <a:lnTo>
                              <a:pt x="211" y="89"/>
                            </a:lnTo>
                            <a:lnTo>
                              <a:pt x="217" y="89"/>
                            </a:lnTo>
                            <a:lnTo>
                              <a:pt x="222" y="88"/>
                            </a:lnTo>
                            <a:lnTo>
                              <a:pt x="228" y="87"/>
                            </a:lnTo>
                            <a:lnTo>
                              <a:pt x="234" y="87"/>
                            </a:lnTo>
                            <a:lnTo>
                              <a:pt x="238" y="85"/>
                            </a:lnTo>
                            <a:lnTo>
                              <a:pt x="245" y="85"/>
                            </a:lnTo>
                            <a:lnTo>
                              <a:pt x="249" y="84"/>
                            </a:lnTo>
                            <a:lnTo>
                              <a:pt x="255" y="84"/>
                            </a:lnTo>
                            <a:lnTo>
                              <a:pt x="260" y="82"/>
                            </a:lnTo>
                            <a:lnTo>
                              <a:pt x="266" y="81"/>
                            </a:lnTo>
                            <a:lnTo>
                              <a:pt x="271" y="80"/>
                            </a:lnTo>
                            <a:lnTo>
                              <a:pt x="277" y="80"/>
                            </a:lnTo>
                            <a:lnTo>
                              <a:pt x="281" y="78"/>
                            </a:lnTo>
                            <a:lnTo>
                              <a:pt x="287" y="78"/>
                            </a:lnTo>
                            <a:lnTo>
                              <a:pt x="292" y="77"/>
                            </a:lnTo>
                            <a:lnTo>
                              <a:pt x="297" y="77"/>
                            </a:lnTo>
                            <a:lnTo>
                              <a:pt x="303" y="77"/>
                            </a:lnTo>
                            <a:lnTo>
                              <a:pt x="307" y="77"/>
                            </a:lnTo>
                            <a:lnTo>
                              <a:pt x="312" y="76"/>
                            </a:lnTo>
                            <a:lnTo>
                              <a:pt x="316" y="76"/>
                            </a:lnTo>
                            <a:lnTo>
                              <a:pt x="323" y="76"/>
                            </a:lnTo>
                            <a:lnTo>
                              <a:pt x="327" y="76"/>
                            </a:lnTo>
                            <a:lnTo>
                              <a:pt x="332" y="74"/>
                            </a:lnTo>
                            <a:lnTo>
                              <a:pt x="336" y="74"/>
                            </a:lnTo>
                            <a:lnTo>
                              <a:pt x="341" y="74"/>
                            </a:lnTo>
                            <a:lnTo>
                              <a:pt x="346" y="74"/>
                            </a:lnTo>
                            <a:lnTo>
                              <a:pt x="349" y="74"/>
                            </a:lnTo>
                            <a:lnTo>
                              <a:pt x="353" y="74"/>
                            </a:lnTo>
                            <a:lnTo>
                              <a:pt x="358" y="74"/>
                            </a:lnTo>
                            <a:lnTo>
                              <a:pt x="362" y="76"/>
                            </a:lnTo>
                            <a:lnTo>
                              <a:pt x="365" y="76"/>
                            </a:lnTo>
                            <a:lnTo>
                              <a:pt x="369" y="76"/>
                            </a:lnTo>
                            <a:lnTo>
                              <a:pt x="373" y="77"/>
                            </a:lnTo>
                            <a:lnTo>
                              <a:pt x="376" y="77"/>
                            </a:lnTo>
                            <a:lnTo>
                              <a:pt x="382" y="78"/>
                            </a:lnTo>
                            <a:lnTo>
                              <a:pt x="388" y="81"/>
                            </a:lnTo>
                            <a:lnTo>
                              <a:pt x="385" y="82"/>
                            </a:lnTo>
                            <a:lnTo>
                              <a:pt x="381" y="84"/>
                            </a:lnTo>
                            <a:lnTo>
                              <a:pt x="378" y="84"/>
                            </a:lnTo>
                            <a:lnTo>
                              <a:pt x="375" y="85"/>
                            </a:lnTo>
                            <a:lnTo>
                              <a:pt x="370" y="87"/>
                            </a:lnTo>
                            <a:lnTo>
                              <a:pt x="367" y="87"/>
                            </a:lnTo>
                            <a:lnTo>
                              <a:pt x="364" y="87"/>
                            </a:lnTo>
                            <a:lnTo>
                              <a:pt x="361" y="88"/>
                            </a:lnTo>
                            <a:lnTo>
                              <a:pt x="356" y="88"/>
                            </a:lnTo>
                            <a:lnTo>
                              <a:pt x="353" y="89"/>
                            </a:lnTo>
                            <a:lnTo>
                              <a:pt x="349" y="89"/>
                            </a:lnTo>
                            <a:lnTo>
                              <a:pt x="346" y="89"/>
                            </a:lnTo>
                            <a:lnTo>
                              <a:pt x="341" y="89"/>
                            </a:lnTo>
                            <a:lnTo>
                              <a:pt x="338" y="91"/>
                            </a:lnTo>
                            <a:lnTo>
                              <a:pt x="333" y="91"/>
                            </a:lnTo>
                            <a:lnTo>
                              <a:pt x="330" y="91"/>
                            </a:lnTo>
                            <a:lnTo>
                              <a:pt x="327" y="91"/>
                            </a:lnTo>
                            <a:lnTo>
                              <a:pt x="324" y="91"/>
                            </a:lnTo>
                            <a:lnTo>
                              <a:pt x="320" y="91"/>
                            </a:lnTo>
                            <a:lnTo>
                              <a:pt x="316" y="91"/>
                            </a:lnTo>
                            <a:lnTo>
                              <a:pt x="312" y="91"/>
                            </a:lnTo>
                            <a:lnTo>
                              <a:pt x="309" y="91"/>
                            </a:lnTo>
                            <a:lnTo>
                              <a:pt x="304" y="91"/>
                            </a:lnTo>
                            <a:lnTo>
                              <a:pt x="301" y="92"/>
                            </a:lnTo>
                            <a:lnTo>
                              <a:pt x="297" y="92"/>
                            </a:lnTo>
                            <a:lnTo>
                              <a:pt x="294" y="92"/>
                            </a:lnTo>
                            <a:lnTo>
                              <a:pt x="290" y="92"/>
                            </a:lnTo>
                            <a:lnTo>
                              <a:pt x="286" y="92"/>
                            </a:lnTo>
                            <a:lnTo>
                              <a:pt x="283" y="92"/>
                            </a:lnTo>
                            <a:lnTo>
                              <a:pt x="280" y="92"/>
                            </a:lnTo>
                            <a:lnTo>
                              <a:pt x="275" y="93"/>
                            </a:lnTo>
                            <a:lnTo>
                              <a:pt x="272" y="95"/>
                            </a:lnTo>
                            <a:lnTo>
                              <a:pt x="141" y="113"/>
                            </a:lnTo>
                            <a:lnTo>
                              <a:pt x="194" y="119"/>
                            </a:lnTo>
                            <a:lnTo>
                              <a:pt x="196" y="119"/>
                            </a:lnTo>
                            <a:lnTo>
                              <a:pt x="200" y="118"/>
                            </a:lnTo>
                            <a:lnTo>
                              <a:pt x="203" y="118"/>
                            </a:lnTo>
                            <a:lnTo>
                              <a:pt x="208" y="117"/>
                            </a:lnTo>
                            <a:lnTo>
                              <a:pt x="212" y="117"/>
                            </a:lnTo>
                            <a:lnTo>
                              <a:pt x="219" y="117"/>
                            </a:lnTo>
                            <a:lnTo>
                              <a:pt x="225" y="115"/>
                            </a:lnTo>
                            <a:lnTo>
                              <a:pt x="231" y="114"/>
                            </a:lnTo>
                            <a:lnTo>
                              <a:pt x="234" y="114"/>
                            </a:lnTo>
                            <a:lnTo>
                              <a:pt x="237" y="114"/>
                            </a:lnTo>
                            <a:lnTo>
                              <a:pt x="242" y="113"/>
                            </a:lnTo>
                            <a:lnTo>
                              <a:pt x="246" y="113"/>
                            </a:lnTo>
                            <a:lnTo>
                              <a:pt x="249" y="113"/>
                            </a:lnTo>
                            <a:lnTo>
                              <a:pt x="252" y="111"/>
                            </a:lnTo>
                            <a:lnTo>
                              <a:pt x="257" y="111"/>
                            </a:lnTo>
                            <a:lnTo>
                              <a:pt x="263" y="111"/>
                            </a:lnTo>
                            <a:lnTo>
                              <a:pt x="266" y="111"/>
                            </a:lnTo>
                            <a:lnTo>
                              <a:pt x="271" y="110"/>
                            </a:lnTo>
                            <a:lnTo>
                              <a:pt x="275" y="110"/>
                            </a:lnTo>
                            <a:lnTo>
                              <a:pt x="281" y="110"/>
                            </a:lnTo>
                            <a:lnTo>
                              <a:pt x="286" y="108"/>
                            </a:lnTo>
                            <a:lnTo>
                              <a:pt x="290" y="108"/>
                            </a:lnTo>
                            <a:lnTo>
                              <a:pt x="297" y="107"/>
                            </a:lnTo>
                            <a:lnTo>
                              <a:pt x="301" y="107"/>
                            </a:lnTo>
                            <a:lnTo>
                              <a:pt x="307" y="106"/>
                            </a:lnTo>
                            <a:lnTo>
                              <a:pt x="312" y="104"/>
                            </a:lnTo>
                            <a:lnTo>
                              <a:pt x="318" y="104"/>
                            </a:lnTo>
                            <a:lnTo>
                              <a:pt x="324" y="104"/>
                            </a:lnTo>
                            <a:lnTo>
                              <a:pt x="330" y="103"/>
                            </a:lnTo>
                            <a:lnTo>
                              <a:pt x="335" y="102"/>
                            </a:lnTo>
                            <a:lnTo>
                              <a:pt x="341" y="102"/>
                            </a:lnTo>
                            <a:lnTo>
                              <a:pt x="349" y="102"/>
                            </a:lnTo>
                            <a:lnTo>
                              <a:pt x="355" y="100"/>
                            </a:lnTo>
                            <a:lnTo>
                              <a:pt x="361" y="100"/>
                            </a:lnTo>
                            <a:lnTo>
                              <a:pt x="367" y="99"/>
                            </a:lnTo>
                            <a:lnTo>
                              <a:pt x="375" y="99"/>
                            </a:lnTo>
                            <a:lnTo>
                              <a:pt x="381" y="98"/>
                            </a:lnTo>
                            <a:lnTo>
                              <a:pt x="387" y="98"/>
                            </a:lnTo>
                            <a:lnTo>
                              <a:pt x="393" y="96"/>
                            </a:lnTo>
                            <a:lnTo>
                              <a:pt x="401" y="96"/>
                            </a:lnTo>
                            <a:lnTo>
                              <a:pt x="408" y="95"/>
                            </a:lnTo>
                            <a:lnTo>
                              <a:pt x="414" y="95"/>
                            </a:lnTo>
                            <a:lnTo>
                              <a:pt x="422" y="93"/>
                            </a:lnTo>
                            <a:lnTo>
                              <a:pt x="430" y="93"/>
                            </a:lnTo>
                            <a:lnTo>
                              <a:pt x="437" y="92"/>
                            </a:lnTo>
                            <a:lnTo>
                              <a:pt x="445" y="92"/>
                            </a:lnTo>
                            <a:lnTo>
                              <a:pt x="453" y="91"/>
                            </a:lnTo>
                            <a:lnTo>
                              <a:pt x="460" y="91"/>
                            </a:lnTo>
                            <a:lnTo>
                              <a:pt x="468" y="89"/>
                            </a:lnTo>
                            <a:lnTo>
                              <a:pt x="476" y="89"/>
                            </a:lnTo>
                            <a:lnTo>
                              <a:pt x="483" y="88"/>
                            </a:lnTo>
                            <a:lnTo>
                              <a:pt x="492" y="88"/>
                            </a:lnTo>
                            <a:lnTo>
                              <a:pt x="1211" y="84"/>
                            </a:lnTo>
                            <a:lnTo>
                              <a:pt x="1083" y="92"/>
                            </a:lnTo>
                            <a:lnTo>
                              <a:pt x="1080" y="91"/>
                            </a:lnTo>
                            <a:lnTo>
                              <a:pt x="1077" y="91"/>
                            </a:lnTo>
                            <a:lnTo>
                              <a:pt x="1072" y="89"/>
                            </a:lnTo>
                            <a:lnTo>
                              <a:pt x="1068" y="89"/>
                            </a:lnTo>
                            <a:lnTo>
                              <a:pt x="1061" y="89"/>
                            </a:lnTo>
                            <a:lnTo>
                              <a:pt x="1058" y="89"/>
                            </a:lnTo>
                            <a:lnTo>
                              <a:pt x="1054" y="89"/>
                            </a:lnTo>
                            <a:lnTo>
                              <a:pt x="1051" y="89"/>
                            </a:lnTo>
                            <a:lnTo>
                              <a:pt x="1054" y="89"/>
                            </a:lnTo>
                            <a:lnTo>
                              <a:pt x="1058" y="91"/>
                            </a:lnTo>
                            <a:lnTo>
                              <a:pt x="1061" y="91"/>
                            </a:lnTo>
                            <a:lnTo>
                              <a:pt x="1066" y="92"/>
                            </a:lnTo>
                            <a:lnTo>
                              <a:pt x="1071" y="92"/>
                            </a:lnTo>
                            <a:lnTo>
                              <a:pt x="1075" y="92"/>
                            </a:lnTo>
                            <a:lnTo>
                              <a:pt x="1080" y="93"/>
                            </a:lnTo>
                            <a:lnTo>
                              <a:pt x="1084" y="93"/>
                            </a:lnTo>
                            <a:lnTo>
                              <a:pt x="1087" y="93"/>
                            </a:lnTo>
                            <a:lnTo>
                              <a:pt x="1092" y="93"/>
                            </a:lnTo>
                            <a:lnTo>
                              <a:pt x="1097" y="95"/>
                            </a:lnTo>
                            <a:lnTo>
                              <a:pt x="1101" y="95"/>
                            </a:lnTo>
                            <a:lnTo>
                              <a:pt x="1106" y="95"/>
                            </a:lnTo>
                            <a:lnTo>
                              <a:pt x="1110" y="95"/>
                            </a:lnTo>
                            <a:lnTo>
                              <a:pt x="1115" y="96"/>
                            </a:lnTo>
                            <a:lnTo>
                              <a:pt x="1120" y="96"/>
                            </a:lnTo>
                            <a:lnTo>
                              <a:pt x="1124" y="96"/>
                            </a:lnTo>
                            <a:lnTo>
                              <a:pt x="1130" y="96"/>
                            </a:lnTo>
                            <a:lnTo>
                              <a:pt x="1133" y="96"/>
                            </a:lnTo>
                            <a:lnTo>
                              <a:pt x="1139" y="96"/>
                            </a:lnTo>
                            <a:lnTo>
                              <a:pt x="1144" y="96"/>
                            </a:lnTo>
                            <a:lnTo>
                              <a:pt x="1149" y="96"/>
                            </a:lnTo>
                            <a:lnTo>
                              <a:pt x="1153" y="96"/>
                            </a:lnTo>
                            <a:lnTo>
                              <a:pt x="1158" y="96"/>
                            </a:lnTo>
                            <a:lnTo>
                              <a:pt x="1162" y="96"/>
                            </a:lnTo>
                            <a:lnTo>
                              <a:pt x="1167" y="96"/>
                            </a:lnTo>
                            <a:lnTo>
                              <a:pt x="1172" y="96"/>
                            </a:lnTo>
                            <a:lnTo>
                              <a:pt x="1178" y="96"/>
                            </a:lnTo>
                            <a:lnTo>
                              <a:pt x="1182" y="96"/>
                            </a:lnTo>
                            <a:lnTo>
                              <a:pt x="1187" y="96"/>
                            </a:lnTo>
                            <a:lnTo>
                              <a:pt x="1191" y="96"/>
                            </a:lnTo>
                            <a:lnTo>
                              <a:pt x="1196" y="96"/>
                            </a:lnTo>
                            <a:lnTo>
                              <a:pt x="1201" y="96"/>
                            </a:lnTo>
                            <a:lnTo>
                              <a:pt x="1207" y="96"/>
                            </a:lnTo>
                            <a:lnTo>
                              <a:pt x="1210" y="96"/>
                            </a:lnTo>
                            <a:lnTo>
                              <a:pt x="1216" y="96"/>
                            </a:lnTo>
                            <a:lnTo>
                              <a:pt x="1219" y="95"/>
                            </a:lnTo>
                            <a:lnTo>
                              <a:pt x="1225" y="95"/>
                            </a:lnTo>
                            <a:lnTo>
                              <a:pt x="1230" y="95"/>
                            </a:lnTo>
                            <a:lnTo>
                              <a:pt x="1234" y="95"/>
                            </a:lnTo>
                            <a:lnTo>
                              <a:pt x="1239" y="95"/>
                            </a:lnTo>
                            <a:lnTo>
                              <a:pt x="1243" y="95"/>
                            </a:lnTo>
                            <a:lnTo>
                              <a:pt x="1248" y="93"/>
                            </a:lnTo>
                            <a:lnTo>
                              <a:pt x="1254" y="93"/>
                            </a:lnTo>
                            <a:lnTo>
                              <a:pt x="1257" y="93"/>
                            </a:lnTo>
                            <a:lnTo>
                              <a:pt x="1263" y="93"/>
                            </a:lnTo>
                            <a:lnTo>
                              <a:pt x="1268" y="93"/>
                            </a:lnTo>
                            <a:lnTo>
                              <a:pt x="1273" y="93"/>
                            </a:lnTo>
                            <a:lnTo>
                              <a:pt x="1277" y="92"/>
                            </a:lnTo>
                            <a:lnTo>
                              <a:pt x="1282" y="92"/>
                            </a:lnTo>
                            <a:lnTo>
                              <a:pt x="1286" y="92"/>
                            </a:lnTo>
                            <a:lnTo>
                              <a:pt x="1291" y="92"/>
                            </a:lnTo>
                            <a:lnTo>
                              <a:pt x="1295" y="92"/>
                            </a:lnTo>
                            <a:lnTo>
                              <a:pt x="1300" y="92"/>
                            </a:lnTo>
                            <a:lnTo>
                              <a:pt x="1305" y="92"/>
                            </a:lnTo>
                            <a:lnTo>
                              <a:pt x="1309" y="92"/>
                            </a:lnTo>
                            <a:lnTo>
                              <a:pt x="1314" y="91"/>
                            </a:lnTo>
                            <a:lnTo>
                              <a:pt x="1318" y="91"/>
                            </a:lnTo>
                            <a:lnTo>
                              <a:pt x="1323" y="91"/>
                            </a:lnTo>
                            <a:lnTo>
                              <a:pt x="1328" y="91"/>
                            </a:lnTo>
                            <a:lnTo>
                              <a:pt x="1332" y="89"/>
                            </a:lnTo>
                            <a:lnTo>
                              <a:pt x="1337" y="89"/>
                            </a:lnTo>
                            <a:lnTo>
                              <a:pt x="1340" y="89"/>
                            </a:lnTo>
                            <a:lnTo>
                              <a:pt x="1346" y="89"/>
                            </a:lnTo>
                            <a:lnTo>
                              <a:pt x="1346" y="93"/>
                            </a:lnTo>
                            <a:lnTo>
                              <a:pt x="1346" y="98"/>
                            </a:lnTo>
                            <a:lnTo>
                              <a:pt x="1346" y="102"/>
                            </a:lnTo>
                            <a:lnTo>
                              <a:pt x="1347" y="106"/>
                            </a:lnTo>
                            <a:lnTo>
                              <a:pt x="1347" y="110"/>
                            </a:lnTo>
                            <a:lnTo>
                              <a:pt x="1349" y="115"/>
                            </a:lnTo>
                            <a:lnTo>
                              <a:pt x="1349" y="121"/>
                            </a:lnTo>
                            <a:lnTo>
                              <a:pt x="1351" y="125"/>
                            </a:lnTo>
                            <a:lnTo>
                              <a:pt x="1351" y="129"/>
                            </a:lnTo>
                            <a:lnTo>
                              <a:pt x="1352" y="135"/>
                            </a:lnTo>
                            <a:lnTo>
                              <a:pt x="1352" y="139"/>
                            </a:lnTo>
                            <a:lnTo>
                              <a:pt x="1354" y="144"/>
                            </a:lnTo>
                            <a:lnTo>
                              <a:pt x="1355" y="148"/>
                            </a:lnTo>
                            <a:lnTo>
                              <a:pt x="1357" y="151"/>
                            </a:lnTo>
                            <a:lnTo>
                              <a:pt x="1360" y="154"/>
                            </a:lnTo>
                            <a:lnTo>
                              <a:pt x="1361" y="158"/>
                            </a:lnTo>
                            <a:lnTo>
                              <a:pt x="1366" y="154"/>
                            </a:lnTo>
                            <a:lnTo>
                              <a:pt x="1364" y="148"/>
                            </a:lnTo>
                            <a:lnTo>
                              <a:pt x="1364" y="143"/>
                            </a:lnTo>
                            <a:lnTo>
                              <a:pt x="1363" y="139"/>
                            </a:lnTo>
                            <a:lnTo>
                              <a:pt x="1363" y="133"/>
                            </a:lnTo>
                            <a:lnTo>
                              <a:pt x="1361" y="129"/>
                            </a:lnTo>
                            <a:lnTo>
                              <a:pt x="1361" y="125"/>
                            </a:lnTo>
                            <a:lnTo>
                              <a:pt x="1360" y="121"/>
                            </a:lnTo>
                            <a:lnTo>
                              <a:pt x="1360" y="117"/>
                            </a:lnTo>
                            <a:lnTo>
                              <a:pt x="1360" y="111"/>
                            </a:lnTo>
                            <a:lnTo>
                              <a:pt x="1358" y="107"/>
                            </a:lnTo>
                            <a:lnTo>
                              <a:pt x="1358" y="102"/>
                            </a:lnTo>
                            <a:lnTo>
                              <a:pt x="1358" y="99"/>
                            </a:lnTo>
                            <a:lnTo>
                              <a:pt x="1357" y="93"/>
                            </a:lnTo>
                            <a:lnTo>
                              <a:pt x="1357" y="89"/>
                            </a:lnTo>
                            <a:lnTo>
                              <a:pt x="1357" y="85"/>
                            </a:lnTo>
                            <a:lnTo>
                              <a:pt x="1357" y="81"/>
                            </a:lnTo>
                            <a:lnTo>
                              <a:pt x="1354" y="80"/>
                            </a:lnTo>
                            <a:lnTo>
                              <a:pt x="1351" y="80"/>
                            </a:lnTo>
                            <a:lnTo>
                              <a:pt x="1346" y="80"/>
                            </a:lnTo>
                            <a:lnTo>
                              <a:pt x="1343" y="81"/>
                            </a:lnTo>
                            <a:lnTo>
                              <a:pt x="1340" y="81"/>
                            </a:lnTo>
                            <a:lnTo>
                              <a:pt x="1337" y="82"/>
                            </a:lnTo>
                            <a:lnTo>
                              <a:pt x="1332" y="82"/>
                            </a:lnTo>
                            <a:lnTo>
                              <a:pt x="1329" y="84"/>
                            </a:lnTo>
                            <a:lnTo>
                              <a:pt x="1325" y="84"/>
                            </a:lnTo>
                            <a:lnTo>
                              <a:pt x="1321" y="84"/>
                            </a:lnTo>
                            <a:lnTo>
                              <a:pt x="1326" y="81"/>
                            </a:lnTo>
                            <a:lnTo>
                              <a:pt x="1328" y="80"/>
                            </a:lnTo>
                            <a:lnTo>
                              <a:pt x="1331" y="78"/>
                            </a:lnTo>
                            <a:lnTo>
                              <a:pt x="1334" y="77"/>
                            </a:lnTo>
                            <a:lnTo>
                              <a:pt x="1338" y="77"/>
                            </a:lnTo>
                            <a:lnTo>
                              <a:pt x="1341" y="76"/>
                            </a:lnTo>
                            <a:lnTo>
                              <a:pt x="1347" y="76"/>
                            </a:lnTo>
                            <a:lnTo>
                              <a:pt x="1351" y="74"/>
                            </a:lnTo>
                            <a:lnTo>
                              <a:pt x="1354" y="74"/>
                            </a:lnTo>
                            <a:lnTo>
                              <a:pt x="1357" y="74"/>
                            </a:lnTo>
                            <a:lnTo>
                              <a:pt x="1361" y="74"/>
                            </a:lnTo>
                            <a:lnTo>
                              <a:pt x="1363" y="77"/>
                            </a:lnTo>
                            <a:lnTo>
                              <a:pt x="1364" y="82"/>
                            </a:lnTo>
                            <a:lnTo>
                              <a:pt x="1367" y="87"/>
                            </a:lnTo>
                            <a:lnTo>
                              <a:pt x="1369" y="89"/>
                            </a:lnTo>
                            <a:lnTo>
                              <a:pt x="1369" y="87"/>
                            </a:lnTo>
                            <a:lnTo>
                              <a:pt x="1370" y="84"/>
                            </a:lnTo>
                            <a:lnTo>
                              <a:pt x="1370" y="80"/>
                            </a:lnTo>
                            <a:lnTo>
                              <a:pt x="1370" y="77"/>
                            </a:lnTo>
                            <a:lnTo>
                              <a:pt x="1370" y="74"/>
                            </a:lnTo>
                            <a:lnTo>
                              <a:pt x="1370" y="71"/>
                            </a:lnTo>
                            <a:lnTo>
                              <a:pt x="1370" y="67"/>
                            </a:lnTo>
                            <a:lnTo>
                              <a:pt x="1369" y="65"/>
                            </a:lnTo>
                            <a:lnTo>
                              <a:pt x="1364" y="65"/>
                            </a:lnTo>
                            <a:lnTo>
                              <a:pt x="1360" y="65"/>
                            </a:lnTo>
                            <a:lnTo>
                              <a:pt x="1357" y="65"/>
                            </a:lnTo>
                            <a:lnTo>
                              <a:pt x="1352" y="66"/>
                            </a:lnTo>
                            <a:lnTo>
                              <a:pt x="1347" y="66"/>
                            </a:lnTo>
                            <a:lnTo>
                              <a:pt x="1344" y="67"/>
                            </a:lnTo>
                            <a:lnTo>
                              <a:pt x="1340" y="67"/>
                            </a:lnTo>
                            <a:lnTo>
                              <a:pt x="1337" y="69"/>
                            </a:lnTo>
                            <a:lnTo>
                              <a:pt x="1332" y="69"/>
                            </a:lnTo>
                            <a:lnTo>
                              <a:pt x="1329" y="70"/>
                            </a:lnTo>
                            <a:lnTo>
                              <a:pt x="1325" y="70"/>
                            </a:lnTo>
                            <a:lnTo>
                              <a:pt x="1320" y="71"/>
                            </a:lnTo>
                            <a:lnTo>
                              <a:pt x="1317" y="71"/>
                            </a:lnTo>
                            <a:lnTo>
                              <a:pt x="1312" y="71"/>
                            </a:lnTo>
                            <a:lnTo>
                              <a:pt x="1309" y="71"/>
                            </a:lnTo>
                            <a:lnTo>
                              <a:pt x="1306" y="71"/>
                            </a:lnTo>
                            <a:lnTo>
                              <a:pt x="1302" y="71"/>
                            </a:lnTo>
                            <a:lnTo>
                              <a:pt x="1299" y="71"/>
                            </a:lnTo>
                            <a:lnTo>
                              <a:pt x="1295" y="70"/>
                            </a:lnTo>
                            <a:lnTo>
                              <a:pt x="1292" y="70"/>
                            </a:lnTo>
                            <a:lnTo>
                              <a:pt x="1285" y="69"/>
                            </a:lnTo>
                            <a:lnTo>
                              <a:pt x="1280" y="70"/>
                            </a:lnTo>
                            <a:lnTo>
                              <a:pt x="1285" y="67"/>
                            </a:lnTo>
                            <a:lnTo>
                              <a:pt x="1291" y="65"/>
                            </a:lnTo>
                            <a:lnTo>
                              <a:pt x="1297" y="63"/>
                            </a:lnTo>
                            <a:lnTo>
                              <a:pt x="1302" y="62"/>
                            </a:lnTo>
                            <a:lnTo>
                              <a:pt x="1308" y="62"/>
                            </a:lnTo>
                            <a:lnTo>
                              <a:pt x="1314" y="60"/>
                            </a:lnTo>
                            <a:lnTo>
                              <a:pt x="1320" y="60"/>
                            </a:lnTo>
                            <a:lnTo>
                              <a:pt x="1326" y="60"/>
                            </a:lnTo>
                            <a:lnTo>
                              <a:pt x="1332" y="60"/>
                            </a:lnTo>
                            <a:lnTo>
                              <a:pt x="1337" y="60"/>
                            </a:lnTo>
                            <a:lnTo>
                              <a:pt x="1343" y="60"/>
                            </a:lnTo>
                            <a:lnTo>
                              <a:pt x="1351" y="60"/>
                            </a:lnTo>
                            <a:lnTo>
                              <a:pt x="1355" y="59"/>
                            </a:lnTo>
                            <a:lnTo>
                              <a:pt x="1363" y="59"/>
                            </a:lnTo>
                            <a:lnTo>
                              <a:pt x="1366" y="59"/>
                            </a:lnTo>
                            <a:lnTo>
                              <a:pt x="1369" y="59"/>
                            </a:lnTo>
                            <a:lnTo>
                              <a:pt x="1372" y="59"/>
                            </a:lnTo>
                            <a:lnTo>
                              <a:pt x="1377" y="59"/>
                            </a:lnTo>
                            <a:lnTo>
                              <a:pt x="1377" y="62"/>
                            </a:lnTo>
                            <a:lnTo>
                              <a:pt x="1377" y="66"/>
                            </a:lnTo>
                            <a:lnTo>
                              <a:pt x="1378" y="70"/>
                            </a:lnTo>
                            <a:lnTo>
                              <a:pt x="1380" y="74"/>
                            </a:lnTo>
                            <a:lnTo>
                              <a:pt x="1380" y="78"/>
                            </a:lnTo>
                            <a:lnTo>
                              <a:pt x="1381" y="84"/>
                            </a:lnTo>
                            <a:lnTo>
                              <a:pt x="1381" y="87"/>
                            </a:lnTo>
                            <a:lnTo>
                              <a:pt x="1383" y="92"/>
                            </a:lnTo>
                            <a:lnTo>
                              <a:pt x="1384" y="96"/>
                            </a:lnTo>
                            <a:lnTo>
                              <a:pt x="1384" y="99"/>
                            </a:lnTo>
                            <a:lnTo>
                              <a:pt x="1384" y="103"/>
                            </a:lnTo>
                            <a:lnTo>
                              <a:pt x="1386" y="108"/>
                            </a:lnTo>
                            <a:lnTo>
                              <a:pt x="1387" y="111"/>
                            </a:lnTo>
                            <a:lnTo>
                              <a:pt x="1387" y="117"/>
                            </a:lnTo>
                            <a:lnTo>
                              <a:pt x="1389" y="121"/>
                            </a:lnTo>
                            <a:lnTo>
                              <a:pt x="1390" y="125"/>
                            </a:lnTo>
                            <a:lnTo>
                              <a:pt x="1390" y="129"/>
                            </a:lnTo>
                            <a:lnTo>
                              <a:pt x="1392" y="133"/>
                            </a:lnTo>
                            <a:lnTo>
                              <a:pt x="1392" y="136"/>
                            </a:lnTo>
                            <a:lnTo>
                              <a:pt x="1393" y="141"/>
                            </a:lnTo>
                            <a:lnTo>
                              <a:pt x="1395" y="146"/>
                            </a:lnTo>
                            <a:lnTo>
                              <a:pt x="1395" y="150"/>
                            </a:lnTo>
                            <a:lnTo>
                              <a:pt x="1396" y="154"/>
                            </a:lnTo>
                            <a:lnTo>
                              <a:pt x="1398" y="158"/>
                            </a:lnTo>
                            <a:lnTo>
                              <a:pt x="1398" y="162"/>
                            </a:lnTo>
                            <a:lnTo>
                              <a:pt x="1399" y="166"/>
                            </a:lnTo>
                            <a:lnTo>
                              <a:pt x="1399" y="170"/>
                            </a:lnTo>
                            <a:lnTo>
                              <a:pt x="1401" y="174"/>
                            </a:lnTo>
                            <a:lnTo>
                              <a:pt x="1401" y="179"/>
                            </a:lnTo>
                            <a:lnTo>
                              <a:pt x="1404" y="183"/>
                            </a:lnTo>
                            <a:lnTo>
                              <a:pt x="1404" y="187"/>
                            </a:lnTo>
                            <a:lnTo>
                              <a:pt x="1406" y="192"/>
                            </a:lnTo>
                            <a:lnTo>
                              <a:pt x="1419" y="192"/>
                            </a:lnTo>
                            <a:lnTo>
                              <a:pt x="1418" y="188"/>
                            </a:lnTo>
                            <a:lnTo>
                              <a:pt x="1418" y="184"/>
                            </a:lnTo>
                            <a:lnTo>
                              <a:pt x="1418" y="180"/>
                            </a:lnTo>
                            <a:lnTo>
                              <a:pt x="1418" y="174"/>
                            </a:lnTo>
                            <a:lnTo>
                              <a:pt x="1418" y="170"/>
                            </a:lnTo>
                            <a:lnTo>
                              <a:pt x="1418" y="165"/>
                            </a:lnTo>
                            <a:lnTo>
                              <a:pt x="1418" y="159"/>
                            </a:lnTo>
                            <a:lnTo>
                              <a:pt x="1418" y="155"/>
                            </a:lnTo>
                            <a:lnTo>
                              <a:pt x="1416" y="150"/>
                            </a:lnTo>
                            <a:lnTo>
                              <a:pt x="1416" y="144"/>
                            </a:lnTo>
                            <a:lnTo>
                              <a:pt x="1415" y="139"/>
                            </a:lnTo>
                            <a:lnTo>
                              <a:pt x="1415" y="133"/>
                            </a:lnTo>
                            <a:lnTo>
                              <a:pt x="1415" y="126"/>
                            </a:lnTo>
                            <a:lnTo>
                              <a:pt x="1415" y="121"/>
                            </a:lnTo>
                            <a:lnTo>
                              <a:pt x="1415" y="115"/>
                            </a:lnTo>
                            <a:lnTo>
                              <a:pt x="1415" y="110"/>
                            </a:lnTo>
                            <a:lnTo>
                              <a:pt x="1413" y="104"/>
                            </a:lnTo>
                            <a:lnTo>
                              <a:pt x="1413" y="99"/>
                            </a:lnTo>
                            <a:lnTo>
                              <a:pt x="1412" y="92"/>
                            </a:lnTo>
                            <a:lnTo>
                              <a:pt x="1412" y="87"/>
                            </a:lnTo>
                            <a:lnTo>
                              <a:pt x="1410" y="81"/>
                            </a:lnTo>
                            <a:lnTo>
                              <a:pt x="1410" y="76"/>
                            </a:lnTo>
                            <a:lnTo>
                              <a:pt x="1409" y="71"/>
                            </a:lnTo>
                            <a:lnTo>
                              <a:pt x="1409" y="66"/>
                            </a:lnTo>
                            <a:lnTo>
                              <a:pt x="1407" y="60"/>
                            </a:lnTo>
                            <a:lnTo>
                              <a:pt x="1406" y="55"/>
                            </a:lnTo>
                            <a:lnTo>
                              <a:pt x="1404" y="51"/>
                            </a:lnTo>
                            <a:lnTo>
                              <a:pt x="1404" y="47"/>
                            </a:lnTo>
                            <a:lnTo>
                              <a:pt x="1403" y="43"/>
                            </a:lnTo>
                            <a:lnTo>
                              <a:pt x="1401" y="40"/>
                            </a:lnTo>
                            <a:lnTo>
                              <a:pt x="1399" y="36"/>
                            </a:lnTo>
                            <a:lnTo>
                              <a:pt x="1398" y="33"/>
                            </a:lnTo>
                            <a:lnTo>
                              <a:pt x="1395" y="33"/>
                            </a:lnTo>
                            <a:lnTo>
                              <a:pt x="1390" y="32"/>
                            </a:lnTo>
                            <a:lnTo>
                              <a:pt x="1384" y="32"/>
                            </a:lnTo>
                            <a:lnTo>
                              <a:pt x="1381" y="32"/>
                            </a:lnTo>
                            <a:lnTo>
                              <a:pt x="1378" y="32"/>
                            </a:lnTo>
                            <a:lnTo>
                              <a:pt x="1375" y="32"/>
                            </a:lnTo>
                            <a:lnTo>
                              <a:pt x="1372" y="32"/>
                            </a:lnTo>
                            <a:lnTo>
                              <a:pt x="1367" y="30"/>
                            </a:lnTo>
                            <a:lnTo>
                              <a:pt x="1364" y="30"/>
                            </a:lnTo>
                            <a:lnTo>
                              <a:pt x="1360" y="30"/>
                            </a:lnTo>
                            <a:lnTo>
                              <a:pt x="1357" y="30"/>
                            </a:lnTo>
                            <a:lnTo>
                              <a:pt x="1352" y="30"/>
                            </a:lnTo>
                            <a:lnTo>
                              <a:pt x="1349" y="30"/>
                            </a:lnTo>
                            <a:lnTo>
                              <a:pt x="1344" y="30"/>
                            </a:lnTo>
                            <a:lnTo>
                              <a:pt x="1341" y="30"/>
                            </a:lnTo>
                            <a:lnTo>
                              <a:pt x="1337" y="29"/>
                            </a:lnTo>
                            <a:lnTo>
                              <a:pt x="1334" y="29"/>
                            </a:lnTo>
                            <a:lnTo>
                              <a:pt x="1331" y="29"/>
                            </a:lnTo>
                            <a:lnTo>
                              <a:pt x="1328" y="29"/>
                            </a:lnTo>
                            <a:lnTo>
                              <a:pt x="1323" y="29"/>
                            </a:lnTo>
                            <a:lnTo>
                              <a:pt x="1318" y="29"/>
                            </a:lnTo>
                            <a:lnTo>
                              <a:pt x="1315" y="29"/>
                            </a:lnTo>
                            <a:lnTo>
                              <a:pt x="1321" y="28"/>
                            </a:lnTo>
                            <a:lnTo>
                              <a:pt x="1326" y="26"/>
                            </a:lnTo>
                            <a:lnTo>
                              <a:pt x="1332" y="25"/>
                            </a:lnTo>
                            <a:lnTo>
                              <a:pt x="1338" y="25"/>
                            </a:lnTo>
                            <a:lnTo>
                              <a:pt x="1343" y="23"/>
                            </a:lnTo>
                            <a:lnTo>
                              <a:pt x="1351" y="23"/>
                            </a:lnTo>
                            <a:lnTo>
                              <a:pt x="1355" y="23"/>
                            </a:lnTo>
                            <a:lnTo>
                              <a:pt x="1361" y="23"/>
                            </a:lnTo>
                            <a:lnTo>
                              <a:pt x="1367" y="23"/>
                            </a:lnTo>
                            <a:lnTo>
                              <a:pt x="1373" y="23"/>
                            </a:lnTo>
                            <a:lnTo>
                              <a:pt x="1378" y="23"/>
                            </a:lnTo>
                            <a:lnTo>
                              <a:pt x="1384" y="23"/>
                            </a:lnTo>
                            <a:lnTo>
                              <a:pt x="1390" y="23"/>
                            </a:lnTo>
                            <a:lnTo>
                              <a:pt x="1396" y="23"/>
                            </a:lnTo>
                            <a:lnTo>
                              <a:pt x="1403" y="23"/>
                            </a:lnTo>
                            <a:lnTo>
                              <a:pt x="1409" y="23"/>
                            </a:lnTo>
                            <a:lnTo>
                              <a:pt x="1409" y="29"/>
                            </a:lnTo>
                            <a:lnTo>
                              <a:pt x="1409" y="33"/>
                            </a:lnTo>
                            <a:lnTo>
                              <a:pt x="1410" y="38"/>
                            </a:lnTo>
                            <a:lnTo>
                              <a:pt x="1412" y="44"/>
                            </a:lnTo>
                            <a:lnTo>
                              <a:pt x="1412" y="49"/>
                            </a:lnTo>
                            <a:lnTo>
                              <a:pt x="1412" y="54"/>
                            </a:lnTo>
                            <a:lnTo>
                              <a:pt x="1412" y="59"/>
                            </a:lnTo>
                            <a:lnTo>
                              <a:pt x="1413" y="65"/>
                            </a:lnTo>
                            <a:lnTo>
                              <a:pt x="1413" y="70"/>
                            </a:lnTo>
                            <a:lnTo>
                              <a:pt x="1415" y="74"/>
                            </a:lnTo>
                            <a:lnTo>
                              <a:pt x="1415" y="80"/>
                            </a:lnTo>
                            <a:lnTo>
                              <a:pt x="1415" y="85"/>
                            </a:lnTo>
                            <a:lnTo>
                              <a:pt x="1416" y="91"/>
                            </a:lnTo>
                            <a:lnTo>
                              <a:pt x="1418" y="96"/>
                            </a:lnTo>
                            <a:lnTo>
                              <a:pt x="1418" y="102"/>
                            </a:lnTo>
                            <a:lnTo>
                              <a:pt x="1419" y="107"/>
                            </a:lnTo>
                            <a:lnTo>
                              <a:pt x="1419" y="111"/>
                            </a:lnTo>
                            <a:lnTo>
                              <a:pt x="1421" y="117"/>
                            </a:lnTo>
                            <a:lnTo>
                              <a:pt x="1422" y="122"/>
                            </a:lnTo>
                            <a:lnTo>
                              <a:pt x="1422" y="126"/>
                            </a:lnTo>
                            <a:lnTo>
                              <a:pt x="1424" y="132"/>
                            </a:lnTo>
                            <a:lnTo>
                              <a:pt x="1425" y="137"/>
                            </a:lnTo>
                            <a:lnTo>
                              <a:pt x="1425" y="141"/>
                            </a:lnTo>
                            <a:lnTo>
                              <a:pt x="1429" y="148"/>
                            </a:lnTo>
                            <a:lnTo>
                              <a:pt x="1429" y="152"/>
                            </a:lnTo>
                            <a:lnTo>
                              <a:pt x="1430" y="158"/>
                            </a:lnTo>
                            <a:lnTo>
                              <a:pt x="1432" y="163"/>
                            </a:lnTo>
                            <a:lnTo>
                              <a:pt x="1433" y="168"/>
                            </a:lnTo>
                            <a:lnTo>
                              <a:pt x="1436" y="173"/>
                            </a:lnTo>
                            <a:lnTo>
                              <a:pt x="1438" y="177"/>
                            </a:lnTo>
                            <a:lnTo>
                              <a:pt x="1439" y="183"/>
                            </a:lnTo>
                            <a:lnTo>
                              <a:pt x="1442" y="188"/>
                            </a:lnTo>
                            <a:lnTo>
                              <a:pt x="1442" y="191"/>
                            </a:lnTo>
                            <a:lnTo>
                              <a:pt x="1444" y="195"/>
                            </a:lnTo>
                            <a:lnTo>
                              <a:pt x="1445" y="196"/>
                            </a:lnTo>
                            <a:lnTo>
                              <a:pt x="1447" y="198"/>
                            </a:lnTo>
                            <a:lnTo>
                              <a:pt x="1448" y="196"/>
                            </a:lnTo>
                            <a:lnTo>
                              <a:pt x="1450" y="194"/>
                            </a:lnTo>
                            <a:lnTo>
                              <a:pt x="1450" y="188"/>
                            </a:lnTo>
                            <a:lnTo>
                              <a:pt x="1450" y="183"/>
                            </a:lnTo>
                            <a:lnTo>
                              <a:pt x="1450" y="179"/>
                            </a:lnTo>
                            <a:lnTo>
                              <a:pt x="1450" y="174"/>
                            </a:lnTo>
                            <a:lnTo>
                              <a:pt x="1448" y="170"/>
                            </a:lnTo>
                            <a:lnTo>
                              <a:pt x="1448" y="168"/>
                            </a:lnTo>
                            <a:lnTo>
                              <a:pt x="1448" y="163"/>
                            </a:lnTo>
                            <a:lnTo>
                              <a:pt x="1448" y="159"/>
                            </a:lnTo>
                            <a:lnTo>
                              <a:pt x="1447" y="154"/>
                            </a:lnTo>
                            <a:lnTo>
                              <a:pt x="1447" y="150"/>
                            </a:lnTo>
                            <a:lnTo>
                              <a:pt x="1447" y="143"/>
                            </a:lnTo>
                            <a:lnTo>
                              <a:pt x="1447" y="137"/>
                            </a:lnTo>
                            <a:lnTo>
                              <a:pt x="1447" y="135"/>
                            </a:lnTo>
                            <a:lnTo>
                              <a:pt x="1447" y="130"/>
                            </a:lnTo>
                            <a:lnTo>
                              <a:pt x="1445" y="128"/>
                            </a:lnTo>
                            <a:lnTo>
                              <a:pt x="1445" y="124"/>
                            </a:lnTo>
                            <a:lnTo>
                              <a:pt x="1445" y="121"/>
                            </a:lnTo>
                            <a:lnTo>
                              <a:pt x="1445" y="117"/>
                            </a:lnTo>
                            <a:lnTo>
                              <a:pt x="1444" y="114"/>
                            </a:lnTo>
                            <a:lnTo>
                              <a:pt x="1444" y="111"/>
                            </a:lnTo>
                            <a:lnTo>
                              <a:pt x="1444" y="107"/>
                            </a:lnTo>
                            <a:lnTo>
                              <a:pt x="1444" y="103"/>
                            </a:lnTo>
                            <a:lnTo>
                              <a:pt x="1442" y="99"/>
                            </a:lnTo>
                            <a:lnTo>
                              <a:pt x="1442" y="96"/>
                            </a:lnTo>
                            <a:lnTo>
                              <a:pt x="1442" y="92"/>
                            </a:lnTo>
                            <a:lnTo>
                              <a:pt x="1442" y="88"/>
                            </a:lnTo>
                            <a:lnTo>
                              <a:pt x="1442" y="85"/>
                            </a:lnTo>
                            <a:lnTo>
                              <a:pt x="1442" y="81"/>
                            </a:lnTo>
                            <a:lnTo>
                              <a:pt x="1442" y="77"/>
                            </a:lnTo>
                            <a:lnTo>
                              <a:pt x="1441" y="74"/>
                            </a:lnTo>
                            <a:lnTo>
                              <a:pt x="1441" y="70"/>
                            </a:lnTo>
                            <a:lnTo>
                              <a:pt x="1441" y="66"/>
                            </a:lnTo>
                            <a:lnTo>
                              <a:pt x="1439" y="62"/>
                            </a:lnTo>
                            <a:lnTo>
                              <a:pt x="1439" y="59"/>
                            </a:lnTo>
                            <a:lnTo>
                              <a:pt x="1439" y="55"/>
                            </a:lnTo>
                            <a:lnTo>
                              <a:pt x="1439" y="52"/>
                            </a:lnTo>
                            <a:lnTo>
                              <a:pt x="1439" y="48"/>
                            </a:lnTo>
                            <a:lnTo>
                              <a:pt x="1438" y="45"/>
                            </a:lnTo>
                            <a:lnTo>
                              <a:pt x="1438" y="41"/>
                            </a:lnTo>
                            <a:lnTo>
                              <a:pt x="1438" y="38"/>
                            </a:lnTo>
                            <a:lnTo>
                              <a:pt x="1436" y="36"/>
                            </a:lnTo>
                            <a:lnTo>
                              <a:pt x="1436" y="32"/>
                            </a:lnTo>
                            <a:lnTo>
                              <a:pt x="1436" y="29"/>
                            </a:lnTo>
                            <a:lnTo>
                              <a:pt x="1436" y="28"/>
                            </a:lnTo>
                            <a:lnTo>
                              <a:pt x="1435" y="21"/>
                            </a:lnTo>
                            <a:lnTo>
                              <a:pt x="1435" y="17"/>
                            </a:lnTo>
                            <a:lnTo>
                              <a:pt x="1433" y="11"/>
                            </a:lnTo>
                            <a:lnTo>
                              <a:pt x="1433" y="8"/>
                            </a:lnTo>
                            <a:lnTo>
                              <a:pt x="1433" y="4"/>
                            </a:lnTo>
                            <a:lnTo>
                              <a:pt x="1433" y="3"/>
                            </a:lnTo>
                            <a:lnTo>
                              <a:pt x="1432" y="0"/>
                            </a:lnTo>
                            <a:lnTo>
                              <a:pt x="9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4" name="Freeform 174"/>
                      <p:cNvSpPr/>
                      <p:nvPr/>
                    </p:nvSpPr>
                    <p:spPr>
                      <a:xfrm>
                        <a:off x="2829600" y="2968560"/>
                        <a:ext cx="24840" cy="1800"/>
                      </a:xfrm>
                      <a:custGeom>
                        <a:avLst/>
                        <a:gdLst>
                          <a:gd name="textAreaLeft" fmla="*/ 0 w 24840"/>
                          <a:gd name="textAreaRight" fmla="*/ 25200 w 24840"/>
                          <a:gd name="textAreaTop" fmla="*/ 0 h 1800"/>
                          <a:gd name="textAreaBottom" fmla="*/ 2160 h 1800"/>
                        </a:gdLst>
                        <a:ahLst/>
                        <a:rect l="textAreaLeft" t="textAreaTop" r="textAreaRight" b="textAreaBottom"/>
                        <a:pathLst>
                          <a:path w="277" h="18">
                            <a:moveTo>
                              <a:pt x="277" y="0"/>
                            </a:moveTo>
                            <a:lnTo>
                              <a:pt x="269" y="0"/>
                            </a:lnTo>
                            <a:lnTo>
                              <a:pt x="263" y="0"/>
                            </a:lnTo>
                            <a:lnTo>
                              <a:pt x="257" y="0"/>
                            </a:lnTo>
                            <a:lnTo>
                              <a:pt x="252" y="0"/>
                            </a:lnTo>
                            <a:lnTo>
                              <a:pt x="245" y="0"/>
                            </a:lnTo>
                            <a:lnTo>
                              <a:pt x="240" y="2"/>
                            </a:lnTo>
                            <a:lnTo>
                              <a:pt x="234" y="2"/>
                            </a:lnTo>
                            <a:lnTo>
                              <a:pt x="228" y="3"/>
                            </a:lnTo>
                            <a:lnTo>
                              <a:pt x="222" y="3"/>
                            </a:lnTo>
                            <a:lnTo>
                              <a:pt x="216" y="3"/>
                            </a:lnTo>
                            <a:lnTo>
                              <a:pt x="210" y="4"/>
                            </a:lnTo>
                            <a:lnTo>
                              <a:pt x="203" y="4"/>
                            </a:lnTo>
                            <a:lnTo>
                              <a:pt x="197" y="4"/>
                            </a:lnTo>
                            <a:lnTo>
                              <a:pt x="193" y="4"/>
                            </a:lnTo>
                            <a:lnTo>
                              <a:pt x="187" y="6"/>
                            </a:lnTo>
                            <a:lnTo>
                              <a:pt x="180" y="6"/>
                            </a:lnTo>
                            <a:lnTo>
                              <a:pt x="174" y="6"/>
                            </a:lnTo>
                            <a:lnTo>
                              <a:pt x="168" y="7"/>
                            </a:lnTo>
                            <a:lnTo>
                              <a:pt x="162" y="7"/>
                            </a:lnTo>
                            <a:lnTo>
                              <a:pt x="156" y="7"/>
                            </a:lnTo>
                            <a:lnTo>
                              <a:pt x="150" y="7"/>
                            </a:lnTo>
                            <a:lnTo>
                              <a:pt x="144" y="7"/>
                            </a:lnTo>
                            <a:lnTo>
                              <a:pt x="138" y="9"/>
                            </a:lnTo>
                            <a:lnTo>
                              <a:pt x="131" y="9"/>
                            </a:lnTo>
                            <a:lnTo>
                              <a:pt x="125" y="9"/>
                            </a:lnTo>
                            <a:lnTo>
                              <a:pt x="119" y="10"/>
                            </a:lnTo>
                            <a:lnTo>
                              <a:pt x="113" y="10"/>
                            </a:lnTo>
                            <a:lnTo>
                              <a:pt x="109" y="10"/>
                            </a:lnTo>
                            <a:lnTo>
                              <a:pt x="101" y="10"/>
                            </a:lnTo>
                            <a:lnTo>
                              <a:pt x="96" y="10"/>
                            </a:lnTo>
                            <a:lnTo>
                              <a:pt x="90" y="11"/>
                            </a:lnTo>
                            <a:lnTo>
                              <a:pt x="84" y="11"/>
                            </a:lnTo>
                            <a:lnTo>
                              <a:pt x="79" y="11"/>
                            </a:lnTo>
                            <a:lnTo>
                              <a:pt x="76" y="11"/>
                            </a:lnTo>
                            <a:lnTo>
                              <a:pt x="72" y="11"/>
                            </a:lnTo>
                            <a:lnTo>
                              <a:pt x="67" y="11"/>
                            </a:lnTo>
                            <a:lnTo>
                              <a:pt x="63" y="11"/>
                            </a:lnTo>
                            <a:lnTo>
                              <a:pt x="60" y="11"/>
                            </a:lnTo>
                            <a:lnTo>
                              <a:pt x="55" y="11"/>
                            </a:lnTo>
                            <a:lnTo>
                              <a:pt x="52" y="11"/>
                            </a:lnTo>
                            <a:lnTo>
                              <a:pt x="47" y="11"/>
                            </a:lnTo>
                            <a:lnTo>
                              <a:pt x="43" y="11"/>
                            </a:lnTo>
                            <a:lnTo>
                              <a:pt x="38" y="11"/>
                            </a:lnTo>
                            <a:lnTo>
                              <a:pt x="35" y="13"/>
                            </a:lnTo>
                            <a:lnTo>
                              <a:pt x="31" y="13"/>
                            </a:lnTo>
                            <a:lnTo>
                              <a:pt x="26" y="13"/>
                            </a:lnTo>
                            <a:lnTo>
                              <a:pt x="23" y="13"/>
                            </a:lnTo>
                            <a:lnTo>
                              <a:pt x="18" y="14"/>
                            </a:lnTo>
                            <a:lnTo>
                              <a:pt x="5" y="15"/>
                            </a:lnTo>
                            <a:lnTo>
                              <a:pt x="3" y="15"/>
                            </a:lnTo>
                            <a:lnTo>
                              <a:pt x="1" y="15"/>
                            </a:lnTo>
                            <a:lnTo>
                              <a:pt x="0" y="15"/>
                            </a:lnTo>
                            <a:lnTo>
                              <a:pt x="29" y="18"/>
                            </a:lnTo>
                            <a:lnTo>
                              <a:pt x="34" y="18"/>
                            </a:lnTo>
                            <a:lnTo>
                              <a:pt x="38" y="18"/>
                            </a:lnTo>
                            <a:lnTo>
                              <a:pt x="43" y="18"/>
                            </a:lnTo>
                            <a:lnTo>
                              <a:pt x="49" y="18"/>
                            </a:lnTo>
                            <a:lnTo>
                              <a:pt x="55" y="18"/>
                            </a:lnTo>
                            <a:lnTo>
                              <a:pt x="60" y="18"/>
                            </a:lnTo>
                            <a:lnTo>
                              <a:pt x="66" y="18"/>
                            </a:lnTo>
                            <a:lnTo>
                              <a:pt x="72" y="18"/>
                            </a:lnTo>
                            <a:lnTo>
                              <a:pt x="76" y="18"/>
                            </a:lnTo>
                            <a:lnTo>
                              <a:pt x="83" y="18"/>
                            </a:lnTo>
                            <a:lnTo>
                              <a:pt x="89" y="17"/>
                            </a:lnTo>
                            <a:lnTo>
                              <a:pt x="95" y="17"/>
                            </a:lnTo>
                            <a:lnTo>
                              <a:pt x="99" y="17"/>
                            </a:lnTo>
                            <a:lnTo>
                              <a:pt x="105" y="17"/>
                            </a:lnTo>
                            <a:lnTo>
                              <a:pt x="112" y="15"/>
                            </a:lnTo>
                            <a:lnTo>
                              <a:pt x="118" y="15"/>
                            </a:lnTo>
                            <a:lnTo>
                              <a:pt x="124" y="15"/>
                            </a:lnTo>
                            <a:lnTo>
                              <a:pt x="128" y="15"/>
                            </a:lnTo>
                            <a:lnTo>
                              <a:pt x="135" y="14"/>
                            </a:lnTo>
                            <a:lnTo>
                              <a:pt x="141" y="14"/>
                            </a:lnTo>
                            <a:lnTo>
                              <a:pt x="145" y="14"/>
                            </a:lnTo>
                            <a:lnTo>
                              <a:pt x="151" y="13"/>
                            </a:lnTo>
                            <a:lnTo>
                              <a:pt x="157" y="13"/>
                            </a:lnTo>
                            <a:lnTo>
                              <a:pt x="164" y="13"/>
                            </a:lnTo>
                            <a:lnTo>
                              <a:pt x="168" y="13"/>
                            </a:lnTo>
                            <a:lnTo>
                              <a:pt x="174" y="11"/>
                            </a:lnTo>
                            <a:lnTo>
                              <a:pt x="180" y="11"/>
                            </a:lnTo>
                            <a:lnTo>
                              <a:pt x="185" y="11"/>
                            </a:lnTo>
                            <a:lnTo>
                              <a:pt x="190" y="10"/>
                            </a:lnTo>
                            <a:lnTo>
                              <a:pt x="196" y="10"/>
                            </a:lnTo>
                            <a:lnTo>
                              <a:pt x="202" y="10"/>
                            </a:lnTo>
                            <a:lnTo>
                              <a:pt x="208" y="10"/>
                            </a:lnTo>
                            <a:lnTo>
                              <a:pt x="211" y="9"/>
                            </a:lnTo>
                            <a:lnTo>
                              <a:pt x="214" y="9"/>
                            </a:lnTo>
                            <a:lnTo>
                              <a:pt x="219" y="9"/>
                            </a:lnTo>
                            <a:lnTo>
                              <a:pt x="222" y="9"/>
                            </a:lnTo>
                            <a:lnTo>
                              <a:pt x="226" y="9"/>
                            </a:lnTo>
                            <a:lnTo>
                              <a:pt x="229" y="9"/>
                            </a:lnTo>
                            <a:lnTo>
                              <a:pt x="234" y="9"/>
                            </a:lnTo>
                            <a:lnTo>
                              <a:pt x="237" y="9"/>
                            </a:lnTo>
                            <a:lnTo>
                              <a:pt x="242" y="9"/>
                            </a:lnTo>
                            <a:lnTo>
                              <a:pt x="245" y="9"/>
                            </a:lnTo>
                            <a:lnTo>
                              <a:pt x="249" y="9"/>
                            </a:lnTo>
                            <a:lnTo>
                              <a:pt x="252" y="9"/>
                            </a:lnTo>
                            <a:lnTo>
                              <a:pt x="255" y="7"/>
                            </a:lnTo>
                            <a:lnTo>
                              <a:pt x="260" y="7"/>
                            </a:lnTo>
                            <a:lnTo>
                              <a:pt x="263" y="7"/>
                            </a:lnTo>
                            <a:lnTo>
                              <a:pt x="268" y="7"/>
                            </a:lnTo>
                            <a:lnTo>
                              <a:pt x="272" y="6"/>
                            </a:lnTo>
                            <a:lnTo>
                              <a:pt x="275" y="4"/>
                            </a:lnTo>
                            <a:lnTo>
                              <a:pt x="2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5" name="Freeform 175"/>
                      <p:cNvSpPr/>
                      <p:nvPr/>
                    </p:nvSpPr>
                    <p:spPr>
                      <a:xfrm>
                        <a:off x="2875680" y="2970360"/>
                        <a:ext cx="15480" cy="1440"/>
                      </a:xfrm>
                      <a:custGeom>
                        <a:avLst/>
                        <a:gdLst>
                          <a:gd name="textAreaLeft" fmla="*/ 0 w 15480"/>
                          <a:gd name="textAreaRight" fmla="*/ 15840 w 15480"/>
                          <a:gd name="textAreaTop" fmla="*/ 0 h 1440"/>
                          <a:gd name="textAreaBottom" fmla="*/ 1800 h 1440"/>
                        </a:gdLst>
                        <a:ahLst/>
                        <a:rect l="textAreaLeft" t="textAreaTop" r="textAreaRight" b="textAreaBottom"/>
                        <a:pathLst>
                          <a:path w="173" h="15">
                            <a:moveTo>
                              <a:pt x="171" y="15"/>
                            </a:moveTo>
                            <a:lnTo>
                              <a:pt x="167" y="13"/>
                            </a:lnTo>
                            <a:lnTo>
                              <a:pt x="162" y="13"/>
                            </a:lnTo>
                            <a:lnTo>
                              <a:pt x="156" y="12"/>
                            </a:lnTo>
                            <a:lnTo>
                              <a:pt x="151" y="12"/>
                            </a:lnTo>
                            <a:lnTo>
                              <a:pt x="147" y="12"/>
                            </a:lnTo>
                            <a:lnTo>
                              <a:pt x="142" y="12"/>
                            </a:lnTo>
                            <a:lnTo>
                              <a:pt x="136" y="12"/>
                            </a:lnTo>
                            <a:lnTo>
                              <a:pt x="131" y="12"/>
                            </a:lnTo>
                            <a:lnTo>
                              <a:pt x="127" y="11"/>
                            </a:lnTo>
                            <a:lnTo>
                              <a:pt x="122" y="11"/>
                            </a:lnTo>
                            <a:lnTo>
                              <a:pt x="116" y="11"/>
                            </a:lnTo>
                            <a:lnTo>
                              <a:pt x="112" y="11"/>
                            </a:lnTo>
                            <a:lnTo>
                              <a:pt x="107" y="11"/>
                            </a:lnTo>
                            <a:lnTo>
                              <a:pt x="102" y="11"/>
                            </a:lnTo>
                            <a:lnTo>
                              <a:pt x="98" y="11"/>
                            </a:lnTo>
                            <a:lnTo>
                              <a:pt x="93" y="12"/>
                            </a:lnTo>
                            <a:lnTo>
                              <a:pt x="87" y="11"/>
                            </a:lnTo>
                            <a:lnTo>
                              <a:pt x="82" y="11"/>
                            </a:lnTo>
                            <a:lnTo>
                              <a:pt x="78" y="11"/>
                            </a:lnTo>
                            <a:lnTo>
                              <a:pt x="73" y="11"/>
                            </a:lnTo>
                            <a:lnTo>
                              <a:pt x="67" y="11"/>
                            </a:lnTo>
                            <a:lnTo>
                              <a:pt x="63" y="11"/>
                            </a:lnTo>
                            <a:lnTo>
                              <a:pt x="56" y="11"/>
                            </a:lnTo>
                            <a:lnTo>
                              <a:pt x="53" y="11"/>
                            </a:lnTo>
                            <a:lnTo>
                              <a:pt x="47" y="11"/>
                            </a:lnTo>
                            <a:lnTo>
                              <a:pt x="43" y="9"/>
                            </a:lnTo>
                            <a:lnTo>
                              <a:pt x="38" y="9"/>
                            </a:lnTo>
                            <a:lnTo>
                              <a:pt x="33" y="8"/>
                            </a:lnTo>
                            <a:lnTo>
                              <a:pt x="29" y="8"/>
                            </a:lnTo>
                            <a:lnTo>
                              <a:pt x="24" y="7"/>
                            </a:lnTo>
                            <a:lnTo>
                              <a:pt x="18" y="7"/>
                            </a:lnTo>
                            <a:lnTo>
                              <a:pt x="15" y="5"/>
                            </a:lnTo>
                            <a:lnTo>
                              <a:pt x="11" y="5"/>
                            </a:lnTo>
                            <a:lnTo>
                              <a:pt x="7" y="4"/>
                            </a:lnTo>
                            <a:lnTo>
                              <a:pt x="4" y="3"/>
                            </a:lnTo>
                            <a:lnTo>
                              <a:pt x="1" y="3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3" y="0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lnTo>
                              <a:pt x="20" y="0"/>
                            </a:lnTo>
                            <a:lnTo>
                              <a:pt x="24" y="0"/>
                            </a:lnTo>
                            <a:lnTo>
                              <a:pt x="27" y="0"/>
                            </a:lnTo>
                            <a:lnTo>
                              <a:pt x="32" y="0"/>
                            </a:lnTo>
                            <a:lnTo>
                              <a:pt x="37" y="0"/>
                            </a:lnTo>
                            <a:lnTo>
                              <a:pt x="41" y="0"/>
                            </a:lnTo>
                            <a:lnTo>
                              <a:pt x="44" y="0"/>
                            </a:lnTo>
                            <a:lnTo>
                              <a:pt x="49" y="0"/>
                            </a:lnTo>
                            <a:lnTo>
                              <a:pt x="53" y="0"/>
                            </a:lnTo>
                            <a:lnTo>
                              <a:pt x="58" y="0"/>
                            </a:lnTo>
                            <a:lnTo>
                              <a:pt x="63" y="0"/>
                            </a:lnTo>
                            <a:lnTo>
                              <a:pt x="67" y="0"/>
                            </a:lnTo>
                            <a:lnTo>
                              <a:pt x="72" y="0"/>
                            </a:lnTo>
                            <a:lnTo>
                              <a:pt x="76" y="1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89" y="1"/>
                            </a:lnTo>
                            <a:lnTo>
                              <a:pt x="95" y="3"/>
                            </a:lnTo>
                            <a:lnTo>
                              <a:pt x="98" y="3"/>
                            </a:lnTo>
                            <a:lnTo>
                              <a:pt x="102" y="3"/>
                            </a:lnTo>
                            <a:lnTo>
                              <a:pt x="107" y="3"/>
                            </a:lnTo>
                            <a:lnTo>
                              <a:pt x="112" y="3"/>
                            </a:lnTo>
                            <a:lnTo>
                              <a:pt x="115" y="3"/>
                            </a:lnTo>
                            <a:lnTo>
                              <a:pt x="119" y="4"/>
                            </a:lnTo>
                            <a:lnTo>
                              <a:pt x="124" y="4"/>
                            </a:lnTo>
                            <a:lnTo>
                              <a:pt x="128" y="4"/>
                            </a:lnTo>
                            <a:lnTo>
                              <a:pt x="131" y="4"/>
                            </a:lnTo>
                            <a:lnTo>
                              <a:pt x="136" y="5"/>
                            </a:lnTo>
                            <a:lnTo>
                              <a:pt x="139" y="5"/>
                            </a:lnTo>
                            <a:lnTo>
                              <a:pt x="144" y="5"/>
                            </a:lnTo>
                            <a:lnTo>
                              <a:pt x="150" y="7"/>
                            </a:lnTo>
                            <a:lnTo>
                              <a:pt x="156" y="8"/>
                            </a:lnTo>
                            <a:lnTo>
                              <a:pt x="160" y="9"/>
                            </a:lnTo>
                            <a:lnTo>
                              <a:pt x="167" y="12"/>
                            </a:lnTo>
                            <a:lnTo>
                              <a:pt x="170" y="13"/>
                            </a:lnTo>
                            <a:lnTo>
                              <a:pt x="171" y="15"/>
                            </a:lnTo>
                            <a:lnTo>
                              <a:pt x="173" y="15"/>
                            </a:lnTo>
                            <a:lnTo>
                              <a:pt x="171" y="1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6" name="Freeform 176"/>
                      <p:cNvSpPr/>
                      <p:nvPr/>
                    </p:nvSpPr>
                    <p:spPr>
                      <a:xfrm>
                        <a:off x="2832120" y="2974680"/>
                        <a:ext cx="2880" cy="36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360"/>
                          <a:gd name="textAreaBottom" fmla="*/ 720 h 360"/>
                        </a:gdLst>
                        <a:ahLst/>
                        <a:rect l="textAreaLeft" t="textAreaTop" r="textAreaRight" b="textAreaBottom"/>
                        <a:pathLst>
                          <a:path w="32" h="6">
                            <a:moveTo>
                              <a:pt x="5" y="0"/>
                            </a:moveTo>
                            <a:lnTo>
                              <a:pt x="0" y="6"/>
                            </a:lnTo>
                            <a:lnTo>
                              <a:pt x="3" y="6"/>
                            </a:lnTo>
                            <a:lnTo>
                              <a:pt x="6" y="4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14" y="6"/>
                            </a:lnTo>
                            <a:lnTo>
                              <a:pt x="20" y="6"/>
                            </a:lnTo>
                            <a:lnTo>
                              <a:pt x="21" y="6"/>
                            </a:lnTo>
                            <a:lnTo>
                              <a:pt x="24" y="6"/>
                            </a:lnTo>
                            <a:lnTo>
                              <a:pt x="28" y="4"/>
                            </a:lnTo>
                            <a:lnTo>
                              <a:pt x="32" y="3"/>
                            </a:lnTo>
                            <a:lnTo>
                              <a:pt x="28" y="0"/>
                            </a:lnTo>
                            <a:lnTo>
                              <a:pt x="24" y="0"/>
                            </a:lnTo>
                            <a:lnTo>
                              <a:pt x="21" y="0"/>
                            </a:lnTo>
                            <a:lnTo>
                              <a:pt x="18" y="0"/>
                            </a:lnTo>
                            <a:lnTo>
                              <a:pt x="14" y="0"/>
                            </a:lnTo>
                            <a:lnTo>
                              <a:pt x="11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7" name="Freeform 177"/>
                      <p:cNvSpPr/>
                      <p:nvPr/>
                    </p:nvSpPr>
                    <p:spPr>
                      <a:xfrm>
                        <a:off x="2766960" y="2986920"/>
                        <a:ext cx="168480" cy="15480"/>
                      </a:xfrm>
                      <a:custGeom>
                        <a:avLst/>
                        <a:gdLst>
                          <a:gd name="textAreaLeft" fmla="*/ 0 w 168480"/>
                          <a:gd name="textAreaRight" fmla="*/ 168840 w 168480"/>
                          <a:gd name="textAreaTop" fmla="*/ 0 h 15480"/>
                          <a:gd name="textAreaBottom" fmla="*/ 15840 h 15480"/>
                        </a:gdLst>
                        <a:ahLst/>
                        <a:rect l="textAreaLeft" t="textAreaTop" r="textAreaRight" b="textAreaBottom"/>
                        <a:pathLst>
                          <a:path w="1871" h="154">
                            <a:moveTo>
                              <a:pt x="490" y="18"/>
                            </a:moveTo>
                            <a:lnTo>
                              <a:pt x="483" y="19"/>
                            </a:lnTo>
                            <a:lnTo>
                              <a:pt x="477" y="20"/>
                            </a:lnTo>
                            <a:lnTo>
                              <a:pt x="473" y="22"/>
                            </a:lnTo>
                            <a:lnTo>
                              <a:pt x="467" y="23"/>
                            </a:lnTo>
                            <a:lnTo>
                              <a:pt x="461" y="25"/>
                            </a:lnTo>
                            <a:lnTo>
                              <a:pt x="456" y="26"/>
                            </a:lnTo>
                            <a:lnTo>
                              <a:pt x="450" y="26"/>
                            </a:lnTo>
                            <a:lnTo>
                              <a:pt x="444" y="29"/>
                            </a:lnTo>
                            <a:lnTo>
                              <a:pt x="438" y="29"/>
                            </a:lnTo>
                            <a:lnTo>
                              <a:pt x="431" y="30"/>
                            </a:lnTo>
                            <a:lnTo>
                              <a:pt x="427" y="30"/>
                            </a:lnTo>
                            <a:lnTo>
                              <a:pt x="421" y="31"/>
                            </a:lnTo>
                            <a:lnTo>
                              <a:pt x="415" y="31"/>
                            </a:lnTo>
                            <a:lnTo>
                              <a:pt x="409" y="33"/>
                            </a:lnTo>
                            <a:lnTo>
                              <a:pt x="404" y="34"/>
                            </a:lnTo>
                            <a:lnTo>
                              <a:pt x="398" y="34"/>
                            </a:lnTo>
                            <a:lnTo>
                              <a:pt x="392" y="34"/>
                            </a:lnTo>
                            <a:lnTo>
                              <a:pt x="386" y="35"/>
                            </a:lnTo>
                            <a:lnTo>
                              <a:pt x="379" y="35"/>
                            </a:lnTo>
                            <a:lnTo>
                              <a:pt x="373" y="37"/>
                            </a:lnTo>
                            <a:lnTo>
                              <a:pt x="367" y="37"/>
                            </a:lnTo>
                            <a:lnTo>
                              <a:pt x="363" y="38"/>
                            </a:lnTo>
                            <a:lnTo>
                              <a:pt x="357" y="38"/>
                            </a:lnTo>
                            <a:lnTo>
                              <a:pt x="350" y="40"/>
                            </a:lnTo>
                            <a:lnTo>
                              <a:pt x="344" y="40"/>
                            </a:lnTo>
                            <a:lnTo>
                              <a:pt x="338" y="40"/>
                            </a:lnTo>
                            <a:lnTo>
                              <a:pt x="332" y="41"/>
                            </a:lnTo>
                            <a:lnTo>
                              <a:pt x="327" y="41"/>
                            </a:lnTo>
                            <a:lnTo>
                              <a:pt x="321" y="41"/>
                            </a:lnTo>
                            <a:lnTo>
                              <a:pt x="315" y="42"/>
                            </a:lnTo>
                            <a:lnTo>
                              <a:pt x="309" y="42"/>
                            </a:lnTo>
                            <a:lnTo>
                              <a:pt x="303" y="44"/>
                            </a:lnTo>
                            <a:lnTo>
                              <a:pt x="297" y="44"/>
                            </a:lnTo>
                            <a:lnTo>
                              <a:pt x="291" y="44"/>
                            </a:lnTo>
                            <a:lnTo>
                              <a:pt x="285" y="44"/>
                            </a:lnTo>
                            <a:lnTo>
                              <a:pt x="279" y="45"/>
                            </a:lnTo>
                            <a:lnTo>
                              <a:pt x="272" y="45"/>
                            </a:lnTo>
                            <a:lnTo>
                              <a:pt x="266" y="45"/>
                            </a:lnTo>
                            <a:lnTo>
                              <a:pt x="260" y="46"/>
                            </a:lnTo>
                            <a:lnTo>
                              <a:pt x="254" y="46"/>
                            </a:lnTo>
                            <a:lnTo>
                              <a:pt x="248" y="46"/>
                            </a:lnTo>
                            <a:lnTo>
                              <a:pt x="242" y="48"/>
                            </a:lnTo>
                            <a:lnTo>
                              <a:pt x="237" y="48"/>
                            </a:lnTo>
                            <a:lnTo>
                              <a:pt x="231" y="49"/>
                            </a:lnTo>
                            <a:lnTo>
                              <a:pt x="225" y="51"/>
                            </a:lnTo>
                            <a:lnTo>
                              <a:pt x="219" y="51"/>
                            </a:lnTo>
                            <a:lnTo>
                              <a:pt x="213" y="52"/>
                            </a:lnTo>
                            <a:lnTo>
                              <a:pt x="207" y="53"/>
                            </a:lnTo>
                            <a:lnTo>
                              <a:pt x="201" y="53"/>
                            </a:lnTo>
                            <a:lnTo>
                              <a:pt x="194" y="55"/>
                            </a:lnTo>
                            <a:lnTo>
                              <a:pt x="188" y="55"/>
                            </a:lnTo>
                            <a:lnTo>
                              <a:pt x="184" y="56"/>
                            </a:lnTo>
                            <a:lnTo>
                              <a:pt x="178" y="57"/>
                            </a:lnTo>
                            <a:lnTo>
                              <a:pt x="171" y="59"/>
                            </a:lnTo>
                            <a:lnTo>
                              <a:pt x="165" y="59"/>
                            </a:lnTo>
                            <a:lnTo>
                              <a:pt x="161" y="62"/>
                            </a:lnTo>
                            <a:lnTo>
                              <a:pt x="155" y="63"/>
                            </a:lnTo>
                            <a:lnTo>
                              <a:pt x="148" y="63"/>
                            </a:lnTo>
                            <a:lnTo>
                              <a:pt x="144" y="66"/>
                            </a:lnTo>
                            <a:lnTo>
                              <a:pt x="138" y="67"/>
                            </a:lnTo>
                            <a:lnTo>
                              <a:pt x="132" y="68"/>
                            </a:lnTo>
                            <a:lnTo>
                              <a:pt x="127" y="70"/>
                            </a:lnTo>
                            <a:lnTo>
                              <a:pt x="121" y="73"/>
                            </a:lnTo>
                            <a:lnTo>
                              <a:pt x="116" y="75"/>
                            </a:lnTo>
                            <a:lnTo>
                              <a:pt x="121" y="77"/>
                            </a:lnTo>
                            <a:lnTo>
                              <a:pt x="127" y="75"/>
                            </a:lnTo>
                            <a:lnTo>
                              <a:pt x="133" y="73"/>
                            </a:lnTo>
                            <a:lnTo>
                              <a:pt x="138" y="71"/>
                            </a:lnTo>
                            <a:lnTo>
                              <a:pt x="141" y="71"/>
                            </a:lnTo>
                            <a:lnTo>
                              <a:pt x="144" y="70"/>
                            </a:lnTo>
                            <a:lnTo>
                              <a:pt x="148" y="70"/>
                            </a:lnTo>
                            <a:lnTo>
                              <a:pt x="152" y="68"/>
                            </a:lnTo>
                            <a:lnTo>
                              <a:pt x="155" y="68"/>
                            </a:lnTo>
                            <a:lnTo>
                              <a:pt x="158" y="67"/>
                            </a:lnTo>
                            <a:lnTo>
                              <a:pt x="162" y="67"/>
                            </a:lnTo>
                            <a:lnTo>
                              <a:pt x="165" y="66"/>
                            </a:lnTo>
                            <a:lnTo>
                              <a:pt x="168" y="66"/>
                            </a:lnTo>
                            <a:lnTo>
                              <a:pt x="173" y="66"/>
                            </a:lnTo>
                            <a:lnTo>
                              <a:pt x="176" y="66"/>
                            </a:lnTo>
                            <a:lnTo>
                              <a:pt x="179" y="64"/>
                            </a:lnTo>
                            <a:lnTo>
                              <a:pt x="184" y="64"/>
                            </a:lnTo>
                            <a:lnTo>
                              <a:pt x="187" y="63"/>
                            </a:lnTo>
                            <a:lnTo>
                              <a:pt x="190" y="63"/>
                            </a:lnTo>
                            <a:lnTo>
                              <a:pt x="193" y="63"/>
                            </a:lnTo>
                            <a:lnTo>
                              <a:pt x="197" y="63"/>
                            </a:lnTo>
                            <a:lnTo>
                              <a:pt x="201" y="62"/>
                            </a:lnTo>
                            <a:lnTo>
                              <a:pt x="205" y="62"/>
                            </a:lnTo>
                            <a:lnTo>
                              <a:pt x="208" y="62"/>
                            </a:lnTo>
                            <a:lnTo>
                              <a:pt x="211" y="60"/>
                            </a:lnTo>
                            <a:lnTo>
                              <a:pt x="214" y="60"/>
                            </a:lnTo>
                            <a:lnTo>
                              <a:pt x="219" y="60"/>
                            </a:lnTo>
                            <a:lnTo>
                              <a:pt x="222" y="59"/>
                            </a:lnTo>
                            <a:lnTo>
                              <a:pt x="225" y="59"/>
                            </a:lnTo>
                            <a:lnTo>
                              <a:pt x="230" y="59"/>
                            </a:lnTo>
                            <a:lnTo>
                              <a:pt x="233" y="59"/>
                            </a:lnTo>
                            <a:lnTo>
                              <a:pt x="236" y="57"/>
                            </a:lnTo>
                            <a:lnTo>
                              <a:pt x="240" y="57"/>
                            </a:lnTo>
                            <a:lnTo>
                              <a:pt x="243" y="56"/>
                            </a:lnTo>
                            <a:lnTo>
                              <a:pt x="246" y="56"/>
                            </a:lnTo>
                            <a:lnTo>
                              <a:pt x="249" y="56"/>
                            </a:lnTo>
                            <a:lnTo>
                              <a:pt x="254" y="56"/>
                            </a:lnTo>
                            <a:lnTo>
                              <a:pt x="257" y="56"/>
                            </a:lnTo>
                            <a:lnTo>
                              <a:pt x="260" y="56"/>
                            </a:lnTo>
                            <a:lnTo>
                              <a:pt x="265" y="55"/>
                            </a:lnTo>
                            <a:lnTo>
                              <a:pt x="268" y="55"/>
                            </a:lnTo>
                            <a:lnTo>
                              <a:pt x="271" y="55"/>
                            </a:lnTo>
                            <a:lnTo>
                              <a:pt x="275" y="55"/>
                            </a:lnTo>
                            <a:lnTo>
                              <a:pt x="279" y="53"/>
                            </a:lnTo>
                            <a:lnTo>
                              <a:pt x="282" y="53"/>
                            </a:lnTo>
                            <a:lnTo>
                              <a:pt x="286" y="53"/>
                            </a:lnTo>
                            <a:lnTo>
                              <a:pt x="289" y="53"/>
                            </a:lnTo>
                            <a:lnTo>
                              <a:pt x="286" y="53"/>
                            </a:lnTo>
                            <a:lnTo>
                              <a:pt x="282" y="55"/>
                            </a:lnTo>
                            <a:lnTo>
                              <a:pt x="277" y="55"/>
                            </a:lnTo>
                            <a:lnTo>
                              <a:pt x="274" y="56"/>
                            </a:lnTo>
                            <a:lnTo>
                              <a:pt x="271" y="56"/>
                            </a:lnTo>
                            <a:lnTo>
                              <a:pt x="268" y="56"/>
                            </a:lnTo>
                            <a:lnTo>
                              <a:pt x="263" y="56"/>
                            </a:lnTo>
                            <a:lnTo>
                              <a:pt x="260" y="57"/>
                            </a:lnTo>
                            <a:lnTo>
                              <a:pt x="256" y="59"/>
                            </a:lnTo>
                            <a:lnTo>
                              <a:pt x="251" y="59"/>
                            </a:lnTo>
                            <a:lnTo>
                              <a:pt x="246" y="60"/>
                            </a:lnTo>
                            <a:lnTo>
                              <a:pt x="243" y="62"/>
                            </a:lnTo>
                            <a:lnTo>
                              <a:pt x="239" y="62"/>
                            </a:lnTo>
                            <a:lnTo>
                              <a:pt x="234" y="63"/>
                            </a:lnTo>
                            <a:lnTo>
                              <a:pt x="230" y="63"/>
                            </a:lnTo>
                            <a:lnTo>
                              <a:pt x="225" y="64"/>
                            </a:lnTo>
                            <a:lnTo>
                              <a:pt x="220" y="66"/>
                            </a:lnTo>
                            <a:lnTo>
                              <a:pt x="217" y="66"/>
                            </a:lnTo>
                            <a:lnTo>
                              <a:pt x="213" y="67"/>
                            </a:lnTo>
                            <a:lnTo>
                              <a:pt x="210" y="68"/>
                            </a:lnTo>
                            <a:lnTo>
                              <a:pt x="205" y="68"/>
                            </a:lnTo>
                            <a:lnTo>
                              <a:pt x="204" y="70"/>
                            </a:lnTo>
                            <a:lnTo>
                              <a:pt x="197" y="71"/>
                            </a:lnTo>
                            <a:lnTo>
                              <a:pt x="193" y="74"/>
                            </a:lnTo>
                            <a:lnTo>
                              <a:pt x="190" y="77"/>
                            </a:lnTo>
                            <a:lnTo>
                              <a:pt x="188" y="79"/>
                            </a:lnTo>
                            <a:lnTo>
                              <a:pt x="185" y="79"/>
                            </a:lnTo>
                            <a:lnTo>
                              <a:pt x="181" y="79"/>
                            </a:lnTo>
                            <a:lnTo>
                              <a:pt x="176" y="79"/>
                            </a:lnTo>
                            <a:lnTo>
                              <a:pt x="171" y="81"/>
                            </a:lnTo>
                            <a:lnTo>
                              <a:pt x="164" y="81"/>
                            </a:lnTo>
                            <a:lnTo>
                              <a:pt x="159" y="82"/>
                            </a:lnTo>
                            <a:lnTo>
                              <a:pt x="153" y="84"/>
                            </a:lnTo>
                            <a:lnTo>
                              <a:pt x="147" y="85"/>
                            </a:lnTo>
                            <a:lnTo>
                              <a:pt x="141" y="86"/>
                            </a:lnTo>
                            <a:lnTo>
                              <a:pt x="136" y="88"/>
                            </a:lnTo>
                            <a:lnTo>
                              <a:pt x="130" y="88"/>
                            </a:lnTo>
                            <a:lnTo>
                              <a:pt x="126" y="89"/>
                            </a:lnTo>
                            <a:lnTo>
                              <a:pt x="121" y="90"/>
                            </a:lnTo>
                            <a:lnTo>
                              <a:pt x="119" y="90"/>
                            </a:lnTo>
                            <a:lnTo>
                              <a:pt x="116" y="90"/>
                            </a:lnTo>
                            <a:lnTo>
                              <a:pt x="55" y="105"/>
                            </a:lnTo>
                            <a:lnTo>
                              <a:pt x="57" y="105"/>
                            </a:lnTo>
                            <a:lnTo>
                              <a:pt x="58" y="107"/>
                            </a:lnTo>
                            <a:lnTo>
                              <a:pt x="63" y="107"/>
                            </a:lnTo>
                            <a:lnTo>
                              <a:pt x="67" y="107"/>
                            </a:lnTo>
                            <a:lnTo>
                              <a:pt x="70" y="105"/>
                            </a:lnTo>
                            <a:lnTo>
                              <a:pt x="74" y="105"/>
                            </a:lnTo>
                            <a:lnTo>
                              <a:pt x="77" y="105"/>
                            </a:lnTo>
                            <a:lnTo>
                              <a:pt x="80" y="105"/>
                            </a:lnTo>
                            <a:lnTo>
                              <a:pt x="84" y="104"/>
                            </a:lnTo>
                            <a:lnTo>
                              <a:pt x="87" y="104"/>
                            </a:lnTo>
                            <a:lnTo>
                              <a:pt x="92" y="103"/>
                            </a:lnTo>
                            <a:lnTo>
                              <a:pt x="96" y="103"/>
                            </a:lnTo>
                            <a:lnTo>
                              <a:pt x="100" y="103"/>
                            </a:lnTo>
                            <a:lnTo>
                              <a:pt x="106" y="101"/>
                            </a:lnTo>
                            <a:lnTo>
                              <a:pt x="110" y="101"/>
                            </a:lnTo>
                            <a:lnTo>
                              <a:pt x="115" y="100"/>
                            </a:lnTo>
                            <a:lnTo>
                              <a:pt x="119" y="100"/>
                            </a:lnTo>
                            <a:lnTo>
                              <a:pt x="124" y="99"/>
                            </a:lnTo>
                            <a:lnTo>
                              <a:pt x="130" y="99"/>
                            </a:lnTo>
                            <a:lnTo>
                              <a:pt x="136" y="97"/>
                            </a:lnTo>
                            <a:lnTo>
                              <a:pt x="141" y="96"/>
                            </a:lnTo>
                            <a:lnTo>
                              <a:pt x="147" y="96"/>
                            </a:lnTo>
                            <a:lnTo>
                              <a:pt x="152" y="95"/>
                            </a:lnTo>
                            <a:lnTo>
                              <a:pt x="158" y="93"/>
                            </a:lnTo>
                            <a:lnTo>
                              <a:pt x="164" y="93"/>
                            </a:lnTo>
                            <a:lnTo>
                              <a:pt x="170" y="92"/>
                            </a:lnTo>
                            <a:lnTo>
                              <a:pt x="176" y="90"/>
                            </a:lnTo>
                            <a:lnTo>
                              <a:pt x="182" y="90"/>
                            </a:lnTo>
                            <a:lnTo>
                              <a:pt x="188" y="89"/>
                            </a:lnTo>
                            <a:lnTo>
                              <a:pt x="193" y="88"/>
                            </a:lnTo>
                            <a:lnTo>
                              <a:pt x="199" y="86"/>
                            </a:lnTo>
                            <a:lnTo>
                              <a:pt x="205" y="86"/>
                            </a:lnTo>
                            <a:lnTo>
                              <a:pt x="211" y="85"/>
                            </a:lnTo>
                            <a:lnTo>
                              <a:pt x="217" y="84"/>
                            </a:lnTo>
                            <a:lnTo>
                              <a:pt x="222" y="84"/>
                            </a:lnTo>
                            <a:lnTo>
                              <a:pt x="230" y="82"/>
                            </a:lnTo>
                            <a:lnTo>
                              <a:pt x="234" y="81"/>
                            </a:lnTo>
                            <a:lnTo>
                              <a:pt x="240" y="81"/>
                            </a:lnTo>
                            <a:lnTo>
                              <a:pt x="246" y="79"/>
                            </a:lnTo>
                            <a:lnTo>
                              <a:pt x="251" y="79"/>
                            </a:lnTo>
                            <a:lnTo>
                              <a:pt x="257" y="78"/>
                            </a:lnTo>
                            <a:lnTo>
                              <a:pt x="262" y="78"/>
                            </a:lnTo>
                            <a:lnTo>
                              <a:pt x="268" y="77"/>
                            </a:lnTo>
                            <a:lnTo>
                              <a:pt x="274" y="77"/>
                            </a:lnTo>
                            <a:lnTo>
                              <a:pt x="277" y="75"/>
                            </a:lnTo>
                            <a:lnTo>
                              <a:pt x="283" y="75"/>
                            </a:lnTo>
                            <a:lnTo>
                              <a:pt x="288" y="74"/>
                            </a:lnTo>
                            <a:lnTo>
                              <a:pt x="292" y="74"/>
                            </a:lnTo>
                            <a:lnTo>
                              <a:pt x="297" y="73"/>
                            </a:lnTo>
                            <a:lnTo>
                              <a:pt x="301" y="73"/>
                            </a:lnTo>
                            <a:lnTo>
                              <a:pt x="305" y="73"/>
                            </a:lnTo>
                            <a:lnTo>
                              <a:pt x="309" y="73"/>
                            </a:lnTo>
                            <a:lnTo>
                              <a:pt x="312" y="71"/>
                            </a:lnTo>
                            <a:lnTo>
                              <a:pt x="315" y="71"/>
                            </a:lnTo>
                            <a:lnTo>
                              <a:pt x="318" y="71"/>
                            </a:lnTo>
                            <a:lnTo>
                              <a:pt x="321" y="71"/>
                            </a:lnTo>
                            <a:lnTo>
                              <a:pt x="327" y="71"/>
                            </a:lnTo>
                            <a:lnTo>
                              <a:pt x="332" y="73"/>
                            </a:lnTo>
                            <a:lnTo>
                              <a:pt x="300" y="81"/>
                            </a:lnTo>
                            <a:lnTo>
                              <a:pt x="300" y="79"/>
                            </a:lnTo>
                            <a:lnTo>
                              <a:pt x="294" y="79"/>
                            </a:lnTo>
                            <a:lnTo>
                              <a:pt x="288" y="81"/>
                            </a:lnTo>
                            <a:lnTo>
                              <a:pt x="282" y="82"/>
                            </a:lnTo>
                            <a:lnTo>
                              <a:pt x="277" y="84"/>
                            </a:lnTo>
                            <a:lnTo>
                              <a:pt x="271" y="84"/>
                            </a:lnTo>
                            <a:lnTo>
                              <a:pt x="265" y="85"/>
                            </a:lnTo>
                            <a:lnTo>
                              <a:pt x="259" y="86"/>
                            </a:lnTo>
                            <a:lnTo>
                              <a:pt x="253" y="88"/>
                            </a:lnTo>
                            <a:lnTo>
                              <a:pt x="246" y="88"/>
                            </a:lnTo>
                            <a:lnTo>
                              <a:pt x="240" y="89"/>
                            </a:lnTo>
                            <a:lnTo>
                              <a:pt x="234" y="90"/>
                            </a:lnTo>
                            <a:lnTo>
                              <a:pt x="230" y="90"/>
                            </a:lnTo>
                            <a:lnTo>
                              <a:pt x="223" y="92"/>
                            </a:lnTo>
                            <a:lnTo>
                              <a:pt x="217" y="93"/>
                            </a:lnTo>
                            <a:lnTo>
                              <a:pt x="213" y="93"/>
                            </a:lnTo>
                            <a:lnTo>
                              <a:pt x="207" y="95"/>
                            </a:lnTo>
                            <a:lnTo>
                              <a:pt x="204" y="95"/>
                            </a:lnTo>
                            <a:lnTo>
                              <a:pt x="201" y="96"/>
                            </a:lnTo>
                            <a:lnTo>
                              <a:pt x="197" y="96"/>
                            </a:lnTo>
                            <a:lnTo>
                              <a:pt x="193" y="97"/>
                            </a:lnTo>
                            <a:lnTo>
                              <a:pt x="188" y="97"/>
                            </a:lnTo>
                            <a:lnTo>
                              <a:pt x="184" y="99"/>
                            </a:lnTo>
                            <a:lnTo>
                              <a:pt x="179" y="100"/>
                            </a:lnTo>
                            <a:lnTo>
                              <a:pt x="174" y="103"/>
                            </a:lnTo>
                            <a:lnTo>
                              <a:pt x="168" y="103"/>
                            </a:lnTo>
                            <a:lnTo>
                              <a:pt x="162" y="105"/>
                            </a:lnTo>
                            <a:lnTo>
                              <a:pt x="156" y="107"/>
                            </a:lnTo>
                            <a:lnTo>
                              <a:pt x="150" y="108"/>
                            </a:lnTo>
                            <a:lnTo>
                              <a:pt x="144" y="110"/>
                            </a:lnTo>
                            <a:lnTo>
                              <a:pt x="138" y="112"/>
                            </a:lnTo>
                            <a:lnTo>
                              <a:pt x="130" y="114"/>
                            </a:lnTo>
                            <a:lnTo>
                              <a:pt x="126" y="116"/>
                            </a:lnTo>
                            <a:lnTo>
                              <a:pt x="118" y="118"/>
                            </a:lnTo>
                            <a:lnTo>
                              <a:pt x="112" y="119"/>
                            </a:lnTo>
                            <a:lnTo>
                              <a:pt x="106" y="121"/>
                            </a:lnTo>
                            <a:lnTo>
                              <a:pt x="100" y="122"/>
                            </a:lnTo>
                            <a:lnTo>
                              <a:pt x="93" y="123"/>
                            </a:lnTo>
                            <a:lnTo>
                              <a:pt x="87" y="125"/>
                            </a:lnTo>
                            <a:lnTo>
                              <a:pt x="81" y="126"/>
                            </a:lnTo>
                            <a:lnTo>
                              <a:pt x="77" y="127"/>
                            </a:lnTo>
                            <a:lnTo>
                              <a:pt x="72" y="127"/>
                            </a:lnTo>
                            <a:lnTo>
                              <a:pt x="67" y="129"/>
                            </a:lnTo>
                            <a:lnTo>
                              <a:pt x="63" y="129"/>
                            </a:lnTo>
                            <a:lnTo>
                              <a:pt x="60" y="130"/>
                            </a:lnTo>
                            <a:lnTo>
                              <a:pt x="54" y="130"/>
                            </a:lnTo>
                            <a:lnTo>
                              <a:pt x="51" y="129"/>
                            </a:lnTo>
                            <a:lnTo>
                              <a:pt x="48" y="129"/>
                            </a:lnTo>
                            <a:lnTo>
                              <a:pt x="46" y="130"/>
                            </a:lnTo>
                            <a:lnTo>
                              <a:pt x="43" y="130"/>
                            </a:lnTo>
                            <a:lnTo>
                              <a:pt x="40" y="133"/>
                            </a:lnTo>
                            <a:lnTo>
                              <a:pt x="35" y="134"/>
                            </a:lnTo>
                            <a:lnTo>
                              <a:pt x="31" y="134"/>
                            </a:lnTo>
                            <a:lnTo>
                              <a:pt x="26" y="137"/>
                            </a:lnTo>
                            <a:lnTo>
                              <a:pt x="23" y="138"/>
                            </a:lnTo>
                            <a:lnTo>
                              <a:pt x="17" y="140"/>
                            </a:lnTo>
                            <a:lnTo>
                              <a:pt x="14" y="141"/>
                            </a:lnTo>
                            <a:lnTo>
                              <a:pt x="9" y="143"/>
                            </a:lnTo>
                            <a:lnTo>
                              <a:pt x="6" y="144"/>
                            </a:lnTo>
                            <a:lnTo>
                              <a:pt x="0" y="147"/>
                            </a:lnTo>
                            <a:lnTo>
                              <a:pt x="0" y="149"/>
                            </a:lnTo>
                            <a:lnTo>
                              <a:pt x="3" y="149"/>
                            </a:lnTo>
                            <a:lnTo>
                              <a:pt x="6" y="149"/>
                            </a:lnTo>
                            <a:lnTo>
                              <a:pt x="11" y="149"/>
                            </a:lnTo>
                            <a:lnTo>
                              <a:pt x="14" y="149"/>
                            </a:lnTo>
                            <a:lnTo>
                              <a:pt x="18" y="149"/>
                            </a:lnTo>
                            <a:lnTo>
                              <a:pt x="22" y="149"/>
                            </a:lnTo>
                            <a:lnTo>
                              <a:pt x="26" y="149"/>
                            </a:lnTo>
                            <a:lnTo>
                              <a:pt x="29" y="149"/>
                            </a:lnTo>
                            <a:lnTo>
                              <a:pt x="126" y="132"/>
                            </a:lnTo>
                            <a:lnTo>
                              <a:pt x="234" y="125"/>
                            </a:lnTo>
                            <a:lnTo>
                              <a:pt x="188" y="138"/>
                            </a:lnTo>
                            <a:lnTo>
                              <a:pt x="191" y="143"/>
                            </a:lnTo>
                            <a:lnTo>
                              <a:pt x="199" y="140"/>
                            </a:lnTo>
                            <a:lnTo>
                              <a:pt x="207" y="138"/>
                            </a:lnTo>
                            <a:lnTo>
                              <a:pt x="214" y="136"/>
                            </a:lnTo>
                            <a:lnTo>
                              <a:pt x="222" y="134"/>
                            </a:lnTo>
                            <a:lnTo>
                              <a:pt x="230" y="133"/>
                            </a:lnTo>
                            <a:lnTo>
                              <a:pt x="237" y="130"/>
                            </a:lnTo>
                            <a:lnTo>
                              <a:pt x="243" y="129"/>
                            </a:lnTo>
                            <a:lnTo>
                              <a:pt x="253" y="127"/>
                            </a:lnTo>
                            <a:lnTo>
                              <a:pt x="260" y="126"/>
                            </a:lnTo>
                            <a:lnTo>
                              <a:pt x="268" y="125"/>
                            </a:lnTo>
                            <a:lnTo>
                              <a:pt x="274" y="122"/>
                            </a:lnTo>
                            <a:lnTo>
                              <a:pt x="283" y="121"/>
                            </a:lnTo>
                            <a:lnTo>
                              <a:pt x="291" y="119"/>
                            </a:lnTo>
                            <a:lnTo>
                              <a:pt x="298" y="118"/>
                            </a:lnTo>
                            <a:lnTo>
                              <a:pt x="306" y="116"/>
                            </a:lnTo>
                            <a:lnTo>
                              <a:pt x="314" y="115"/>
                            </a:lnTo>
                            <a:lnTo>
                              <a:pt x="321" y="114"/>
                            </a:lnTo>
                            <a:lnTo>
                              <a:pt x="329" y="112"/>
                            </a:lnTo>
                            <a:lnTo>
                              <a:pt x="337" y="112"/>
                            </a:lnTo>
                            <a:lnTo>
                              <a:pt x="344" y="111"/>
                            </a:lnTo>
                            <a:lnTo>
                              <a:pt x="352" y="110"/>
                            </a:lnTo>
                            <a:lnTo>
                              <a:pt x="360" y="108"/>
                            </a:lnTo>
                            <a:lnTo>
                              <a:pt x="367" y="107"/>
                            </a:lnTo>
                            <a:lnTo>
                              <a:pt x="373" y="107"/>
                            </a:lnTo>
                            <a:lnTo>
                              <a:pt x="381" y="105"/>
                            </a:lnTo>
                            <a:lnTo>
                              <a:pt x="387" y="105"/>
                            </a:lnTo>
                            <a:lnTo>
                              <a:pt x="395" y="104"/>
                            </a:lnTo>
                            <a:lnTo>
                              <a:pt x="402" y="103"/>
                            </a:lnTo>
                            <a:lnTo>
                              <a:pt x="409" y="103"/>
                            </a:lnTo>
                            <a:lnTo>
                              <a:pt x="416" y="103"/>
                            </a:lnTo>
                            <a:lnTo>
                              <a:pt x="422" y="101"/>
                            </a:lnTo>
                            <a:lnTo>
                              <a:pt x="430" y="101"/>
                            </a:lnTo>
                            <a:lnTo>
                              <a:pt x="436" y="100"/>
                            </a:lnTo>
                            <a:lnTo>
                              <a:pt x="442" y="100"/>
                            </a:lnTo>
                            <a:lnTo>
                              <a:pt x="448" y="99"/>
                            </a:lnTo>
                            <a:lnTo>
                              <a:pt x="456" y="99"/>
                            </a:lnTo>
                            <a:lnTo>
                              <a:pt x="462" y="97"/>
                            </a:lnTo>
                            <a:lnTo>
                              <a:pt x="468" y="97"/>
                            </a:lnTo>
                            <a:lnTo>
                              <a:pt x="474" y="96"/>
                            </a:lnTo>
                            <a:lnTo>
                              <a:pt x="480" y="96"/>
                            </a:lnTo>
                            <a:lnTo>
                              <a:pt x="487" y="96"/>
                            </a:lnTo>
                            <a:lnTo>
                              <a:pt x="491" y="96"/>
                            </a:lnTo>
                            <a:lnTo>
                              <a:pt x="497" y="95"/>
                            </a:lnTo>
                            <a:lnTo>
                              <a:pt x="503" y="95"/>
                            </a:lnTo>
                            <a:lnTo>
                              <a:pt x="508" y="95"/>
                            </a:lnTo>
                            <a:lnTo>
                              <a:pt x="513" y="95"/>
                            </a:lnTo>
                            <a:lnTo>
                              <a:pt x="517" y="95"/>
                            </a:lnTo>
                            <a:lnTo>
                              <a:pt x="523" y="95"/>
                            </a:lnTo>
                            <a:lnTo>
                              <a:pt x="528" y="95"/>
                            </a:lnTo>
                            <a:lnTo>
                              <a:pt x="532" y="95"/>
                            </a:lnTo>
                            <a:lnTo>
                              <a:pt x="537" y="95"/>
                            </a:lnTo>
                            <a:lnTo>
                              <a:pt x="542" y="95"/>
                            </a:lnTo>
                            <a:lnTo>
                              <a:pt x="545" y="95"/>
                            </a:lnTo>
                            <a:lnTo>
                              <a:pt x="548" y="95"/>
                            </a:lnTo>
                            <a:lnTo>
                              <a:pt x="552" y="95"/>
                            </a:lnTo>
                            <a:lnTo>
                              <a:pt x="555" y="95"/>
                            </a:lnTo>
                            <a:lnTo>
                              <a:pt x="561" y="95"/>
                            </a:lnTo>
                            <a:lnTo>
                              <a:pt x="569" y="96"/>
                            </a:lnTo>
                            <a:lnTo>
                              <a:pt x="574" y="96"/>
                            </a:lnTo>
                            <a:lnTo>
                              <a:pt x="578" y="97"/>
                            </a:lnTo>
                            <a:lnTo>
                              <a:pt x="572" y="97"/>
                            </a:lnTo>
                            <a:lnTo>
                              <a:pt x="566" y="99"/>
                            </a:lnTo>
                            <a:lnTo>
                              <a:pt x="560" y="99"/>
                            </a:lnTo>
                            <a:lnTo>
                              <a:pt x="555" y="100"/>
                            </a:lnTo>
                            <a:lnTo>
                              <a:pt x="549" y="100"/>
                            </a:lnTo>
                            <a:lnTo>
                              <a:pt x="543" y="101"/>
                            </a:lnTo>
                            <a:lnTo>
                              <a:pt x="539" y="101"/>
                            </a:lnTo>
                            <a:lnTo>
                              <a:pt x="534" y="103"/>
                            </a:lnTo>
                            <a:lnTo>
                              <a:pt x="528" y="103"/>
                            </a:lnTo>
                            <a:lnTo>
                              <a:pt x="523" y="104"/>
                            </a:lnTo>
                            <a:lnTo>
                              <a:pt x="517" y="104"/>
                            </a:lnTo>
                            <a:lnTo>
                              <a:pt x="514" y="105"/>
                            </a:lnTo>
                            <a:lnTo>
                              <a:pt x="508" y="105"/>
                            </a:lnTo>
                            <a:lnTo>
                              <a:pt x="505" y="107"/>
                            </a:lnTo>
                            <a:lnTo>
                              <a:pt x="499" y="107"/>
                            </a:lnTo>
                            <a:lnTo>
                              <a:pt x="496" y="108"/>
                            </a:lnTo>
                            <a:lnTo>
                              <a:pt x="491" y="108"/>
                            </a:lnTo>
                            <a:lnTo>
                              <a:pt x="487" y="108"/>
                            </a:lnTo>
                            <a:lnTo>
                              <a:pt x="480" y="110"/>
                            </a:lnTo>
                            <a:lnTo>
                              <a:pt x="477" y="110"/>
                            </a:lnTo>
                            <a:lnTo>
                              <a:pt x="473" y="111"/>
                            </a:lnTo>
                            <a:lnTo>
                              <a:pt x="468" y="111"/>
                            </a:lnTo>
                            <a:lnTo>
                              <a:pt x="464" y="112"/>
                            </a:lnTo>
                            <a:lnTo>
                              <a:pt x="459" y="112"/>
                            </a:lnTo>
                            <a:lnTo>
                              <a:pt x="456" y="112"/>
                            </a:lnTo>
                            <a:lnTo>
                              <a:pt x="451" y="114"/>
                            </a:lnTo>
                            <a:lnTo>
                              <a:pt x="447" y="114"/>
                            </a:lnTo>
                            <a:lnTo>
                              <a:pt x="442" y="115"/>
                            </a:lnTo>
                            <a:lnTo>
                              <a:pt x="439" y="115"/>
                            </a:lnTo>
                            <a:lnTo>
                              <a:pt x="435" y="116"/>
                            </a:lnTo>
                            <a:lnTo>
                              <a:pt x="430" y="116"/>
                            </a:lnTo>
                            <a:lnTo>
                              <a:pt x="427" y="118"/>
                            </a:lnTo>
                            <a:lnTo>
                              <a:pt x="422" y="118"/>
                            </a:lnTo>
                            <a:lnTo>
                              <a:pt x="418" y="119"/>
                            </a:lnTo>
                            <a:lnTo>
                              <a:pt x="413" y="119"/>
                            </a:lnTo>
                            <a:lnTo>
                              <a:pt x="410" y="121"/>
                            </a:lnTo>
                            <a:lnTo>
                              <a:pt x="405" y="121"/>
                            </a:lnTo>
                            <a:lnTo>
                              <a:pt x="401" y="121"/>
                            </a:lnTo>
                            <a:lnTo>
                              <a:pt x="396" y="122"/>
                            </a:lnTo>
                            <a:lnTo>
                              <a:pt x="393" y="123"/>
                            </a:lnTo>
                            <a:lnTo>
                              <a:pt x="389" y="123"/>
                            </a:lnTo>
                            <a:lnTo>
                              <a:pt x="384" y="125"/>
                            </a:lnTo>
                            <a:lnTo>
                              <a:pt x="379" y="125"/>
                            </a:lnTo>
                            <a:lnTo>
                              <a:pt x="375" y="126"/>
                            </a:lnTo>
                            <a:lnTo>
                              <a:pt x="370" y="126"/>
                            </a:lnTo>
                            <a:lnTo>
                              <a:pt x="367" y="127"/>
                            </a:lnTo>
                            <a:lnTo>
                              <a:pt x="363" y="127"/>
                            </a:lnTo>
                            <a:lnTo>
                              <a:pt x="358" y="130"/>
                            </a:lnTo>
                            <a:lnTo>
                              <a:pt x="353" y="130"/>
                            </a:lnTo>
                            <a:lnTo>
                              <a:pt x="349" y="132"/>
                            </a:lnTo>
                            <a:lnTo>
                              <a:pt x="344" y="132"/>
                            </a:lnTo>
                            <a:lnTo>
                              <a:pt x="340" y="133"/>
                            </a:lnTo>
                            <a:lnTo>
                              <a:pt x="335" y="134"/>
                            </a:lnTo>
                            <a:lnTo>
                              <a:pt x="331" y="136"/>
                            </a:lnTo>
                            <a:lnTo>
                              <a:pt x="326" y="137"/>
                            </a:lnTo>
                            <a:lnTo>
                              <a:pt x="321" y="138"/>
                            </a:lnTo>
                            <a:lnTo>
                              <a:pt x="315" y="140"/>
                            </a:lnTo>
                            <a:lnTo>
                              <a:pt x="311" y="140"/>
                            </a:lnTo>
                            <a:lnTo>
                              <a:pt x="305" y="141"/>
                            </a:lnTo>
                            <a:lnTo>
                              <a:pt x="300" y="144"/>
                            </a:lnTo>
                            <a:lnTo>
                              <a:pt x="295" y="144"/>
                            </a:lnTo>
                            <a:lnTo>
                              <a:pt x="289" y="147"/>
                            </a:lnTo>
                            <a:lnTo>
                              <a:pt x="285" y="148"/>
                            </a:lnTo>
                            <a:lnTo>
                              <a:pt x="280" y="149"/>
                            </a:lnTo>
                            <a:lnTo>
                              <a:pt x="282" y="149"/>
                            </a:lnTo>
                            <a:lnTo>
                              <a:pt x="285" y="149"/>
                            </a:lnTo>
                            <a:lnTo>
                              <a:pt x="288" y="149"/>
                            </a:lnTo>
                            <a:lnTo>
                              <a:pt x="291" y="151"/>
                            </a:lnTo>
                            <a:lnTo>
                              <a:pt x="294" y="151"/>
                            </a:lnTo>
                            <a:lnTo>
                              <a:pt x="297" y="152"/>
                            </a:lnTo>
                            <a:lnTo>
                              <a:pt x="298" y="152"/>
                            </a:lnTo>
                            <a:lnTo>
                              <a:pt x="297" y="154"/>
                            </a:lnTo>
                            <a:lnTo>
                              <a:pt x="308" y="151"/>
                            </a:lnTo>
                            <a:lnTo>
                              <a:pt x="318" y="148"/>
                            </a:lnTo>
                            <a:lnTo>
                              <a:pt x="329" y="145"/>
                            </a:lnTo>
                            <a:lnTo>
                              <a:pt x="340" y="144"/>
                            </a:lnTo>
                            <a:lnTo>
                              <a:pt x="350" y="140"/>
                            </a:lnTo>
                            <a:lnTo>
                              <a:pt x="361" y="138"/>
                            </a:lnTo>
                            <a:lnTo>
                              <a:pt x="372" y="136"/>
                            </a:lnTo>
                            <a:lnTo>
                              <a:pt x="384" y="134"/>
                            </a:lnTo>
                            <a:lnTo>
                              <a:pt x="395" y="132"/>
                            </a:lnTo>
                            <a:lnTo>
                              <a:pt x="404" y="130"/>
                            </a:lnTo>
                            <a:lnTo>
                              <a:pt x="415" y="127"/>
                            </a:lnTo>
                            <a:lnTo>
                              <a:pt x="427" y="126"/>
                            </a:lnTo>
                            <a:lnTo>
                              <a:pt x="438" y="125"/>
                            </a:lnTo>
                            <a:lnTo>
                              <a:pt x="448" y="123"/>
                            </a:lnTo>
                            <a:lnTo>
                              <a:pt x="459" y="121"/>
                            </a:lnTo>
                            <a:lnTo>
                              <a:pt x="470" y="121"/>
                            </a:lnTo>
                            <a:lnTo>
                              <a:pt x="480" y="118"/>
                            </a:lnTo>
                            <a:lnTo>
                              <a:pt x="491" y="116"/>
                            </a:lnTo>
                            <a:lnTo>
                              <a:pt x="502" y="115"/>
                            </a:lnTo>
                            <a:lnTo>
                              <a:pt x="513" y="114"/>
                            </a:lnTo>
                            <a:lnTo>
                              <a:pt x="523" y="112"/>
                            </a:lnTo>
                            <a:lnTo>
                              <a:pt x="535" y="111"/>
                            </a:lnTo>
                            <a:lnTo>
                              <a:pt x="545" y="110"/>
                            </a:lnTo>
                            <a:lnTo>
                              <a:pt x="557" y="108"/>
                            </a:lnTo>
                            <a:lnTo>
                              <a:pt x="568" y="107"/>
                            </a:lnTo>
                            <a:lnTo>
                              <a:pt x="578" y="107"/>
                            </a:lnTo>
                            <a:lnTo>
                              <a:pt x="589" y="105"/>
                            </a:lnTo>
                            <a:lnTo>
                              <a:pt x="600" y="105"/>
                            </a:lnTo>
                            <a:lnTo>
                              <a:pt x="610" y="104"/>
                            </a:lnTo>
                            <a:lnTo>
                              <a:pt x="621" y="103"/>
                            </a:lnTo>
                            <a:lnTo>
                              <a:pt x="633" y="103"/>
                            </a:lnTo>
                            <a:lnTo>
                              <a:pt x="644" y="101"/>
                            </a:lnTo>
                            <a:lnTo>
                              <a:pt x="655" y="100"/>
                            </a:lnTo>
                            <a:lnTo>
                              <a:pt x="666" y="100"/>
                            </a:lnTo>
                            <a:lnTo>
                              <a:pt x="676" y="99"/>
                            </a:lnTo>
                            <a:lnTo>
                              <a:pt x="687" y="99"/>
                            </a:lnTo>
                            <a:lnTo>
                              <a:pt x="698" y="97"/>
                            </a:lnTo>
                            <a:lnTo>
                              <a:pt x="710" y="96"/>
                            </a:lnTo>
                            <a:lnTo>
                              <a:pt x="721" y="96"/>
                            </a:lnTo>
                            <a:lnTo>
                              <a:pt x="731" y="96"/>
                            </a:lnTo>
                            <a:lnTo>
                              <a:pt x="742" y="95"/>
                            </a:lnTo>
                            <a:lnTo>
                              <a:pt x="753" y="95"/>
                            </a:lnTo>
                            <a:lnTo>
                              <a:pt x="763" y="93"/>
                            </a:lnTo>
                            <a:lnTo>
                              <a:pt x="776" y="93"/>
                            </a:lnTo>
                            <a:lnTo>
                              <a:pt x="785" y="93"/>
                            </a:lnTo>
                            <a:lnTo>
                              <a:pt x="797" y="93"/>
                            </a:lnTo>
                            <a:lnTo>
                              <a:pt x="808" y="92"/>
                            </a:lnTo>
                            <a:lnTo>
                              <a:pt x="818" y="92"/>
                            </a:lnTo>
                            <a:lnTo>
                              <a:pt x="831" y="92"/>
                            </a:lnTo>
                            <a:lnTo>
                              <a:pt x="841" y="90"/>
                            </a:lnTo>
                            <a:lnTo>
                              <a:pt x="852" y="90"/>
                            </a:lnTo>
                            <a:lnTo>
                              <a:pt x="863" y="90"/>
                            </a:lnTo>
                            <a:lnTo>
                              <a:pt x="874" y="90"/>
                            </a:lnTo>
                            <a:lnTo>
                              <a:pt x="884" y="89"/>
                            </a:lnTo>
                            <a:lnTo>
                              <a:pt x="896" y="89"/>
                            </a:lnTo>
                            <a:lnTo>
                              <a:pt x="907" y="89"/>
                            </a:lnTo>
                            <a:lnTo>
                              <a:pt x="918" y="88"/>
                            </a:lnTo>
                            <a:lnTo>
                              <a:pt x="929" y="88"/>
                            </a:lnTo>
                            <a:lnTo>
                              <a:pt x="941" y="88"/>
                            </a:lnTo>
                            <a:lnTo>
                              <a:pt x="952" y="88"/>
                            </a:lnTo>
                            <a:lnTo>
                              <a:pt x="964" y="86"/>
                            </a:lnTo>
                            <a:lnTo>
                              <a:pt x="975" y="86"/>
                            </a:lnTo>
                            <a:lnTo>
                              <a:pt x="985" y="86"/>
                            </a:lnTo>
                            <a:lnTo>
                              <a:pt x="997" y="86"/>
                            </a:lnTo>
                            <a:lnTo>
                              <a:pt x="1002" y="86"/>
                            </a:lnTo>
                            <a:lnTo>
                              <a:pt x="1008" y="86"/>
                            </a:lnTo>
                            <a:lnTo>
                              <a:pt x="1013" y="86"/>
                            </a:lnTo>
                            <a:lnTo>
                              <a:pt x="1019" y="88"/>
                            </a:lnTo>
                            <a:lnTo>
                              <a:pt x="1023" y="88"/>
                            </a:lnTo>
                            <a:lnTo>
                              <a:pt x="1028" y="88"/>
                            </a:lnTo>
                            <a:lnTo>
                              <a:pt x="1034" y="88"/>
                            </a:lnTo>
                            <a:lnTo>
                              <a:pt x="1040" y="88"/>
                            </a:lnTo>
                            <a:lnTo>
                              <a:pt x="1045" y="88"/>
                            </a:lnTo>
                            <a:lnTo>
                              <a:pt x="1051" y="88"/>
                            </a:lnTo>
                            <a:lnTo>
                              <a:pt x="1056" y="89"/>
                            </a:lnTo>
                            <a:lnTo>
                              <a:pt x="1062" y="89"/>
                            </a:lnTo>
                            <a:lnTo>
                              <a:pt x="1066" y="89"/>
                            </a:lnTo>
                            <a:lnTo>
                              <a:pt x="1072" y="89"/>
                            </a:lnTo>
                            <a:lnTo>
                              <a:pt x="1079" y="90"/>
                            </a:lnTo>
                            <a:lnTo>
                              <a:pt x="1085" y="90"/>
                            </a:lnTo>
                            <a:lnTo>
                              <a:pt x="1089" y="90"/>
                            </a:lnTo>
                            <a:lnTo>
                              <a:pt x="1094" y="90"/>
                            </a:lnTo>
                            <a:lnTo>
                              <a:pt x="1100" y="90"/>
                            </a:lnTo>
                            <a:lnTo>
                              <a:pt x="1105" y="92"/>
                            </a:lnTo>
                            <a:lnTo>
                              <a:pt x="1111" y="92"/>
                            </a:lnTo>
                            <a:lnTo>
                              <a:pt x="1117" y="92"/>
                            </a:lnTo>
                            <a:lnTo>
                              <a:pt x="1121" y="92"/>
                            </a:lnTo>
                            <a:lnTo>
                              <a:pt x="1127" y="93"/>
                            </a:lnTo>
                            <a:lnTo>
                              <a:pt x="1132" y="93"/>
                            </a:lnTo>
                            <a:lnTo>
                              <a:pt x="1138" y="93"/>
                            </a:lnTo>
                            <a:lnTo>
                              <a:pt x="1143" y="93"/>
                            </a:lnTo>
                            <a:lnTo>
                              <a:pt x="1149" y="93"/>
                            </a:lnTo>
                            <a:lnTo>
                              <a:pt x="1155" y="93"/>
                            </a:lnTo>
                            <a:lnTo>
                              <a:pt x="1160" y="95"/>
                            </a:lnTo>
                            <a:lnTo>
                              <a:pt x="1166" y="95"/>
                            </a:lnTo>
                            <a:lnTo>
                              <a:pt x="1172" y="96"/>
                            </a:lnTo>
                            <a:lnTo>
                              <a:pt x="1176" y="96"/>
                            </a:lnTo>
                            <a:lnTo>
                              <a:pt x="1183" y="96"/>
                            </a:lnTo>
                            <a:lnTo>
                              <a:pt x="1187" y="96"/>
                            </a:lnTo>
                            <a:lnTo>
                              <a:pt x="1193" y="96"/>
                            </a:lnTo>
                            <a:lnTo>
                              <a:pt x="1198" y="96"/>
                            </a:lnTo>
                            <a:lnTo>
                              <a:pt x="1204" y="96"/>
                            </a:lnTo>
                            <a:lnTo>
                              <a:pt x="1210" y="97"/>
                            </a:lnTo>
                            <a:lnTo>
                              <a:pt x="1215" y="97"/>
                            </a:lnTo>
                            <a:lnTo>
                              <a:pt x="1221" y="97"/>
                            </a:lnTo>
                            <a:lnTo>
                              <a:pt x="1225" y="97"/>
                            </a:lnTo>
                            <a:lnTo>
                              <a:pt x="1231" y="97"/>
                            </a:lnTo>
                            <a:lnTo>
                              <a:pt x="1238" y="99"/>
                            </a:lnTo>
                            <a:lnTo>
                              <a:pt x="1242" y="99"/>
                            </a:lnTo>
                            <a:lnTo>
                              <a:pt x="1248" y="99"/>
                            </a:lnTo>
                            <a:lnTo>
                              <a:pt x="1254" y="100"/>
                            </a:lnTo>
                            <a:lnTo>
                              <a:pt x="1259" y="100"/>
                            </a:lnTo>
                            <a:lnTo>
                              <a:pt x="1265" y="100"/>
                            </a:lnTo>
                            <a:lnTo>
                              <a:pt x="1270" y="100"/>
                            </a:lnTo>
                            <a:lnTo>
                              <a:pt x="1276" y="100"/>
                            </a:lnTo>
                            <a:lnTo>
                              <a:pt x="1282" y="100"/>
                            </a:lnTo>
                            <a:lnTo>
                              <a:pt x="1287" y="100"/>
                            </a:lnTo>
                            <a:lnTo>
                              <a:pt x="1293" y="101"/>
                            </a:lnTo>
                            <a:lnTo>
                              <a:pt x="1297" y="101"/>
                            </a:lnTo>
                            <a:lnTo>
                              <a:pt x="1303" y="101"/>
                            </a:lnTo>
                            <a:lnTo>
                              <a:pt x="1309" y="101"/>
                            </a:lnTo>
                            <a:lnTo>
                              <a:pt x="1314" y="101"/>
                            </a:lnTo>
                            <a:lnTo>
                              <a:pt x="1320" y="103"/>
                            </a:lnTo>
                            <a:lnTo>
                              <a:pt x="1326" y="103"/>
                            </a:lnTo>
                            <a:lnTo>
                              <a:pt x="1331" y="103"/>
                            </a:lnTo>
                            <a:lnTo>
                              <a:pt x="1337" y="103"/>
                            </a:lnTo>
                            <a:lnTo>
                              <a:pt x="1343" y="103"/>
                            </a:lnTo>
                            <a:lnTo>
                              <a:pt x="1348" y="104"/>
                            </a:lnTo>
                            <a:lnTo>
                              <a:pt x="1288" y="118"/>
                            </a:lnTo>
                            <a:lnTo>
                              <a:pt x="1290" y="118"/>
                            </a:lnTo>
                            <a:lnTo>
                              <a:pt x="1293" y="118"/>
                            </a:lnTo>
                            <a:lnTo>
                              <a:pt x="1296" y="118"/>
                            </a:lnTo>
                            <a:lnTo>
                              <a:pt x="1299" y="118"/>
                            </a:lnTo>
                            <a:lnTo>
                              <a:pt x="1303" y="118"/>
                            </a:lnTo>
                            <a:lnTo>
                              <a:pt x="1308" y="118"/>
                            </a:lnTo>
                            <a:lnTo>
                              <a:pt x="1313" y="118"/>
                            </a:lnTo>
                            <a:lnTo>
                              <a:pt x="1319" y="118"/>
                            </a:lnTo>
                            <a:lnTo>
                              <a:pt x="1325" y="118"/>
                            </a:lnTo>
                            <a:lnTo>
                              <a:pt x="1331" y="118"/>
                            </a:lnTo>
                            <a:lnTo>
                              <a:pt x="1339" y="118"/>
                            </a:lnTo>
                            <a:lnTo>
                              <a:pt x="1346" y="119"/>
                            </a:lnTo>
                            <a:lnTo>
                              <a:pt x="1354" y="119"/>
                            </a:lnTo>
                            <a:lnTo>
                              <a:pt x="1362" y="119"/>
                            </a:lnTo>
                            <a:lnTo>
                              <a:pt x="1369" y="119"/>
                            </a:lnTo>
                            <a:lnTo>
                              <a:pt x="1378" y="121"/>
                            </a:lnTo>
                            <a:lnTo>
                              <a:pt x="1386" y="121"/>
                            </a:lnTo>
                            <a:lnTo>
                              <a:pt x="1395" y="121"/>
                            </a:lnTo>
                            <a:lnTo>
                              <a:pt x="1406" y="121"/>
                            </a:lnTo>
                            <a:lnTo>
                              <a:pt x="1415" y="121"/>
                            </a:lnTo>
                            <a:lnTo>
                              <a:pt x="1424" y="121"/>
                            </a:lnTo>
                            <a:lnTo>
                              <a:pt x="1435" y="121"/>
                            </a:lnTo>
                            <a:lnTo>
                              <a:pt x="1444" y="121"/>
                            </a:lnTo>
                            <a:lnTo>
                              <a:pt x="1456" y="121"/>
                            </a:lnTo>
                            <a:lnTo>
                              <a:pt x="1466" y="121"/>
                            </a:lnTo>
                            <a:lnTo>
                              <a:pt x="1476" y="121"/>
                            </a:lnTo>
                            <a:lnTo>
                              <a:pt x="1487" y="121"/>
                            </a:lnTo>
                            <a:lnTo>
                              <a:pt x="1498" y="121"/>
                            </a:lnTo>
                            <a:lnTo>
                              <a:pt x="1508" y="121"/>
                            </a:lnTo>
                            <a:lnTo>
                              <a:pt x="1519" y="121"/>
                            </a:lnTo>
                            <a:lnTo>
                              <a:pt x="1531" y="121"/>
                            </a:lnTo>
                            <a:lnTo>
                              <a:pt x="1542" y="121"/>
                            </a:lnTo>
                            <a:lnTo>
                              <a:pt x="1553" y="121"/>
                            </a:lnTo>
                            <a:lnTo>
                              <a:pt x="1563" y="121"/>
                            </a:lnTo>
                            <a:lnTo>
                              <a:pt x="1574" y="121"/>
                            </a:lnTo>
                            <a:lnTo>
                              <a:pt x="1585" y="121"/>
                            </a:lnTo>
                            <a:lnTo>
                              <a:pt x="1596" y="121"/>
                            </a:lnTo>
                            <a:lnTo>
                              <a:pt x="1605" y="121"/>
                            </a:lnTo>
                            <a:lnTo>
                              <a:pt x="1615" y="121"/>
                            </a:lnTo>
                            <a:lnTo>
                              <a:pt x="1626" y="121"/>
                            </a:lnTo>
                            <a:lnTo>
                              <a:pt x="1635" y="121"/>
                            </a:lnTo>
                            <a:lnTo>
                              <a:pt x="1646" y="121"/>
                            </a:lnTo>
                            <a:lnTo>
                              <a:pt x="1655" y="121"/>
                            </a:lnTo>
                            <a:lnTo>
                              <a:pt x="1666" y="121"/>
                            </a:lnTo>
                            <a:lnTo>
                              <a:pt x="1674" y="121"/>
                            </a:lnTo>
                            <a:lnTo>
                              <a:pt x="1684" y="121"/>
                            </a:lnTo>
                            <a:lnTo>
                              <a:pt x="1692" y="121"/>
                            </a:lnTo>
                            <a:lnTo>
                              <a:pt x="1701" y="121"/>
                            </a:lnTo>
                            <a:lnTo>
                              <a:pt x="1709" y="121"/>
                            </a:lnTo>
                            <a:lnTo>
                              <a:pt x="1716" y="121"/>
                            </a:lnTo>
                            <a:lnTo>
                              <a:pt x="1723" y="119"/>
                            </a:lnTo>
                            <a:lnTo>
                              <a:pt x="1730" y="119"/>
                            </a:lnTo>
                            <a:lnTo>
                              <a:pt x="1736" y="119"/>
                            </a:lnTo>
                            <a:lnTo>
                              <a:pt x="1744" y="119"/>
                            </a:lnTo>
                            <a:lnTo>
                              <a:pt x="1749" y="119"/>
                            </a:lnTo>
                            <a:lnTo>
                              <a:pt x="1755" y="119"/>
                            </a:lnTo>
                            <a:lnTo>
                              <a:pt x="1759" y="118"/>
                            </a:lnTo>
                            <a:lnTo>
                              <a:pt x="1764" y="118"/>
                            </a:lnTo>
                            <a:lnTo>
                              <a:pt x="1767" y="118"/>
                            </a:lnTo>
                            <a:lnTo>
                              <a:pt x="1771" y="118"/>
                            </a:lnTo>
                            <a:lnTo>
                              <a:pt x="1776" y="118"/>
                            </a:lnTo>
                            <a:lnTo>
                              <a:pt x="1779" y="118"/>
                            </a:lnTo>
                            <a:lnTo>
                              <a:pt x="1775" y="116"/>
                            </a:lnTo>
                            <a:lnTo>
                              <a:pt x="1770" y="115"/>
                            </a:lnTo>
                            <a:lnTo>
                              <a:pt x="1765" y="115"/>
                            </a:lnTo>
                            <a:lnTo>
                              <a:pt x="1762" y="114"/>
                            </a:lnTo>
                            <a:lnTo>
                              <a:pt x="1758" y="114"/>
                            </a:lnTo>
                            <a:lnTo>
                              <a:pt x="1753" y="112"/>
                            </a:lnTo>
                            <a:lnTo>
                              <a:pt x="1749" y="112"/>
                            </a:lnTo>
                            <a:lnTo>
                              <a:pt x="1745" y="112"/>
                            </a:lnTo>
                            <a:lnTo>
                              <a:pt x="1741" y="112"/>
                            </a:lnTo>
                            <a:lnTo>
                              <a:pt x="1736" y="111"/>
                            </a:lnTo>
                            <a:lnTo>
                              <a:pt x="1732" y="111"/>
                            </a:lnTo>
                            <a:lnTo>
                              <a:pt x="1729" y="111"/>
                            </a:lnTo>
                            <a:lnTo>
                              <a:pt x="1724" y="111"/>
                            </a:lnTo>
                            <a:lnTo>
                              <a:pt x="1719" y="111"/>
                            </a:lnTo>
                            <a:lnTo>
                              <a:pt x="1715" y="111"/>
                            </a:lnTo>
                            <a:lnTo>
                              <a:pt x="1712" y="111"/>
                            </a:lnTo>
                            <a:lnTo>
                              <a:pt x="1707" y="110"/>
                            </a:lnTo>
                            <a:lnTo>
                              <a:pt x="1703" y="110"/>
                            </a:lnTo>
                            <a:lnTo>
                              <a:pt x="1698" y="110"/>
                            </a:lnTo>
                            <a:lnTo>
                              <a:pt x="1693" y="110"/>
                            </a:lnTo>
                            <a:lnTo>
                              <a:pt x="1687" y="108"/>
                            </a:lnTo>
                            <a:lnTo>
                              <a:pt x="1683" y="108"/>
                            </a:lnTo>
                            <a:lnTo>
                              <a:pt x="1678" y="108"/>
                            </a:lnTo>
                            <a:lnTo>
                              <a:pt x="1674" y="108"/>
                            </a:lnTo>
                            <a:lnTo>
                              <a:pt x="1667" y="108"/>
                            </a:lnTo>
                            <a:lnTo>
                              <a:pt x="1663" y="108"/>
                            </a:lnTo>
                            <a:lnTo>
                              <a:pt x="1657" y="107"/>
                            </a:lnTo>
                            <a:lnTo>
                              <a:pt x="1652" y="107"/>
                            </a:lnTo>
                            <a:lnTo>
                              <a:pt x="1648" y="107"/>
                            </a:lnTo>
                            <a:lnTo>
                              <a:pt x="1643" y="107"/>
                            </a:lnTo>
                            <a:lnTo>
                              <a:pt x="1640" y="108"/>
                            </a:lnTo>
                            <a:lnTo>
                              <a:pt x="1635" y="108"/>
                            </a:lnTo>
                            <a:lnTo>
                              <a:pt x="1640" y="107"/>
                            </a:lnTo>
                            <a:lnTo>
                              <a:pt x="1643" y="104"/>
                            </a:lnTo>
                            <a:lnTo>
                              <a:pt x="1649" y="103"/>
                            </a:lnTo>
                            <a:lnTo>
                              <a:pt x="1655" y="103"/>
                            </a:lnTo>
                            <a:lnTo>
                              <a:pt x="1660" y="101"/>
                            </a:lnTo>
                            <a:lnTo>
                              <a:pt x="1666" y="100"/>
                            </a:lnTo>
                            <a:lnTo>
                              <a:pt x="1672" y="100"/>
                            </a:lnTo>
                            <a:lnTo>
                              <a:pt x="1678" y="99"/>
                            </a:lnTo>
                            <a:lnTo>
                              <a:pt x="1683" y="97"/>
                            </a:lnTo>
                            <a:lnTo>
                              <a:pt x="1689" y="97"/>
                            </a:lnTo>
                            <a:lnTo>
                              <a:pt x="1687" y="96"/>
                            </a:lnTo>
                            <a:lnTo>
                              <a:pt x="1683" y="96"/>
                            </a:lnTo>
                            <a:lnTo>
                              <a:pt x="1680" y="96"/>
                            </a:lnTo>
                            <a:lnTo>
                              <a:pt x="1677" y="96"/>
                            </a:lnTo>
                            <a:lnTo>
                              <a:pt x="1674" y="96"/>
                            </a:lnTo>
                            <a:lnTo>
                              <a:pt x="1669" y="96"/>
                            </a:lnTo>
                            <a:lnTo>
                              <a:pt x="1664" y="96"/>
                            </a:lnTo>
                            <a:lnTo>
                              <a:pt x="1660" y="96"/>
                            </a:lnTo>
                            <a:lnTo>
                              <a:pt x="1655" y="96"/>
                            </a:lnTo>
                            <a:lnTo>
                              <a:pt x="1649" y="96"/>
                            </a:lnTo>
                            <a:lnTo>
                              <a:pt x="1644" y="96"/>
                            </a:lnTo>
                            <a:lnTo>
                              <a:pt x="1638" y="96"/>
                            </a:lnTo>
                            <a:lnTo>
                              <a:pt x="1632" y="96"/>
                            </a:lnTo>
                            <a:lnTo>
                              <a:pt x="1628" y="97"/>
                            </a:lnTo>
                            <a:lnTo>
                              <a:pt x="1622" y="97"/>
                            </a:lnTo>
                            <a:lnTo>
                              <a:pt x="1615" y="97"/>
                            </a:lnTo>
                            <a:lnTo>
                              <a:pt x="1609" y="97"/>
                            </a:lnTo>
                            <a:lnTo>
                              <a:pt x="1605" y="97"/>
                            </a:lnTo>
                            <a:lnTo>
                              <a:pt x="1599" y="97"/>
                            </a:lnTo>
                            <a:lnTo>
                              <a:pt x="1592" y="97"/>
                            </a:lnTo>
                            <a:lnTo>
                              <a:pt x="1588" y="97"/>
                            </a:lnTo>
                            <a:lnTo>
                              <a:pt x="1583" y="99"/>
                            </a:lnTo>
                            <a:lnTo>
                              <a:pt x="1577" y="99"/>
                            </a:lnTo>
                            <a:lnTo>
                              <a:pt x="1573" y="99"/>
                            </a:lnTo>
                            <a:lnTo>
                              <a:pt x="1570" y="99"/>
                            </a:lnTo>
                            <a:lnTo>
                              <a:pt x="1565" y="99"/>
                            </a:lnTo>
                            <a:lnTo>
                              <a:pt x="1559" y="99"/>
                            </a:lnTo>
                            <a:lnTo>
                              <a:pt x="1556" y="100"/>
                            </a:lnTo>
                            <a:lnTo>
                              <a:pt x="1559" y="97"/>
                            </a:lnTo>
                            <a:lnTo>
                              <a:pt x="1565" y="95"/>
                            </a:lnTo>
                            <a:lnTo>
                              <a:pt x="1566" y="93"/>
                            </a:lnTo>
                            <a:lnTo>
                              <a:pt x="1570" y="93"/>
                            </a:lnTo>
                            <a:lnTo>
                              <a:pt x="1573" y="92"/>
                            </a:lnTo>
                            <a:lnTo>
                              <a:pt x="1577" y="92"/>
                            </a:lnTo>
                            <a:lnTo>
                              <a:pt x="1580" y="90"/>
                            </a:lnTo>
                            <a:lnTo>
                              <a:pt x="1583" y="90"/>
                            </a:lnTo>
                            <a:lnTo>
                              <a:pt x="1588" y="89"/>
                            </a:lnTo>
                            <a:lnTo>
                              <a:pt x="1591" y="89"/>
                            </a:lnTo>
                            <a:lnTo>
                              <a:pt x="1596" y="89"/>
                            </a:lnTo>
                            <a:lnTo>
                              <a:pt x="1600" y="88"/>
                            </a:lnTo>
                            <a:lnTo>
                              <a:pt x="1605" y="88"/>
                            </a:lnTo>
                            <a:lnTo>
                              <a:pt x="1609" y="88"/>
                            </a:lnTo>
                            <a:lnTo>
                              <a:pt x="1614" y="88"/>
                            </a:lnTo>
                            <a:lnTo>
                              <a:pt x="1618" y="86"/>
                            </a:lnTo>
                            <a:lnTo>
                              <a:pt x="1623" y="86"/>
                            </a:lnTo>
                            <a:lnTo>
                              <a:pt x="1629" y="86"/>
                            </a:lnTo>
                            <a:lnTo>
                              <a:pt x="1634" y="85"/>
                            </a:lnTo>
                            <a:lnTo>
                              <a:pt x="1640" y="85"/>
                            </a:lnTo>
                            <a:lnTo>
                              <a:pt x="1646" y="85"/>
                            </a:lnTo>
                            <a:lnTo>
                              <a:pt x="1651" y="85"/>
                            </a:lnTo>
                            <a:lnTo>
                              <a:pt x="1657" y="85"/>
                            </a:lnTo>
                            <a:lnTo>
                              <a:pt x="1663" y="85"/>
                            </a:lnTo>
                            <a:lnTo>
                              <a:pt x="1667" y="85"/>
                            </a:lnTo>
                            <a:lnTo>
                              <a:pt x="1674" y="85"/>
                            </a:lnTo>
                            <a:lnTo>
                              <a:pt x="1680" y="85"/>
                            </a:lnTo>
                            <a:lnTo>
                              <a:pt x="1686" y="85"/>
                            </a:lnTo>
                            <a:lnTo>
                              <a:pt x="1692" y="85"/>
                            </a:lnTo>
                            <a:lnTo>
                              <a:pt x="1698" y="85"/>
                            </a:lnTo>
                            <a:lnTo>
                              <a:pt x="1704" y="84"/>
                            </a:lnTo>
                            <a:lnTo>
                              <a:pt x="1709" y="84"/>
                            </a:lnTo>
                            <a:lnTo>
                              <a:pt x="1715" y="84"/>
                            </a:lnTo>
                            <a:lnTo>
                              <a:pt x="1723" y="84"/>
                            </a:lnTo>
                            <a:lnTo>
                              <a:pt x="1727" y="84"/>
                            </a:lnTo>
                            <a:lnTo>
                              <a:pt x="1733" y="84"/>
                            </a:lnTo>
                            <a:lnTo>
                              <a:pt x="1739" y="84"/>
                            </a:lnTo>
                            <a:lnTo>
                              <a:pt x="1745" y="84"/>
                            </a:lnTo>
                            <a:lnTo>
                              <a:pt x="1752" y="84"/>
                            </a:lnTo>
                            <a:lnTo>
                              <a:pt x="1758" y="84"/>
                            </a:lnTo>
                            <a:lnTo>
                              <a:pt x="1762" y="84"/>
                            </a:lnTo>
                            <a:lnTo>
                              <a:pt x="1770" y="84"/>
                            </a:lnTo>
                            <a:lnTo>
                              <a:pt x="1775" y="84"/>
                            </a:lnTo>
                            <a:lnTo>
                              <a:pt x="1781" y="84"/>
                            </a:lnTo>
                            <a:lnTo>
                              <a:pt x="1787" y="84"/>
                            </a:lnTo>
                            <a:lnTo>
                              <a:pt x="1793" y="85"/>
                            </a:lnTo>
                            <a:lnTo>
                              <a:pt x="1797" y="84"/>
                            </a:lnTo>
                            <a:lnTo>
                              <a:pt x="1804" y="84"/>
                            </a:lnTo>
                            <a:lnTo>
                              <a:pt x="1810" y="84"/>
                            </a:lnTo>
                            <a:lnTo>
                              <a:pt x="1814" y="84"/>
                            </a:lnTo>
                            <a:lnTo>
                              <a:pt x="1820" y="84"/>
                            </a:lnTo>
                            <a:lnTo>
                              <a:pt x="1825" y="84"/>
                            </a:lnTo>
                            <a:lnTo>
                              <a:pt x="1830" y="84"/>
                            </a:lnTo>
                            <a:lnTo>
                              <a:pt x="1836" y="84"/>
                            </a:lnTo>
                            <a:lnTo>
                              <a:pt x="1840" y="84"/>
                            </a:lnTo>
                            <a:lnTo>
                              <a:pt x="1845" y="84"/>
                            </a:lnTo>
                            <a:lnTo>
                              <a:pt x="1849" y="84"/>
                            </a:lnTo>
                            <a:lnTo>
                              <a:pt x="1854" y="84"/>
                            </a:lnTo>
                            <a:lnTo>
                              <a:pt x="1859" y="84"/>
                            </a:lnTo>
                            <a:lnTo>
                              <a:pt x="1862" y="84"/>
                            </a:lnTo>
                            <a:lnTo>
                              <a:pt x="1866" y="84"/>
                            </a:lnTo>
                            <a:lnTo>
                              <a:pt x="1871" y="84"/>
                            </a:lnTo>
                            <a:lnTo>
                              <a:pt x="1868" y="81"/>
                            </a:lnTo>
                            <a:lnTo>
                              <a:pt x="1863" y="79"/>
                            </a:lnTo>
                            <a:lnTo>
                              <a:pt x="1860" y="78"/>
                            </a:lnTo>
                            <a:lnTo>
                              <a:pt x="1856" y="75"/>
                            </a:lnTo>
                            <a:lnTo>
                              <a:pt x="1853" y="74"/>
                            </a:lnTo>
                            <a:lnTo>
                              <a:pt x="1848" y="74"/>
                            </a:lnTo>
                            <a:lnTo>
                              <a:pt x="1845" y="74"/>
                            </a:lnTo>
                            <a:lnTo>
                              <a:pt x="1842" y="74"/>
                            </a:lnTo>
                            <a:lnTo>
                              <a:pt x="1839" y="73"/>
                            </a:lnTo>
                            <a:lnTo>
                              <a:pt x="1836" y="73"/>
                            </a:lnTo>
                            <a:lnTo>
                              <a:pt x="1831" y="73"/>
                            </a:lnTo>
                            <a:lnTo>
                              <a:pt x="1828" y="73"/>
                            </a:lnTo>
                            <a:lnTo>
                              <a:pt x="1822" y="73"/>
                            </a:lnTo>
                            <a:lnTo>
                              <a:pt x="1814" y="71"/>
                            </a:lnTo>
                            <a:lnTo>
                              <a:pt x="1808" y="71"/>
                            </a:lnTo>
                            <a:lnTo>
                              <a:pt x="1802" y="71"/>
                            </a:lnTo>
                            <a:lnTo>
                              <a:pt x="1794" y="70"/>
                            </a:lnTo>
                            <a:lnTo>
                              <a:pt x="1788" y="70"/>
                            </a:lnTo>
                            <a:lnTo>
                              <a:pt x="1782" y="68"/>
                            </a:lnTo>
                            <a:lnTo>
                              <a:pt x="1776" y="68"/>
                            </a:lnTo>
                            <a:lnTo>
                              <a:pt x="1768" y="68"/>
                            </a:lnTo>
                            <a:lnTo>
                              <a:pt x="1762" y="68"/>
                            </a:lnTo>
                            <a:lnTo>
                              <a:pt x="1756" y="67"/>
                            </a:lnTo>
                            <a:lnTo>
                              <a:pt x="1749" y="67"/>
                            </a:lnTo>
                            <a:lnTo>
                              <a:pt x="1742" y="66"/>
                            </a:lnTo>
                            <a:lnTo>
                              <a:pt x="1736" y="66"/>
                            </a:lnTo>
                            <a:lnTo>
                              <a:pt x="1729" y="66"/>
                            </a:lnTo>
                            <a:lnTo>
                              <a:pt x="1723" y="66"/>
                            </a:lnTo>
                            <a:lnTo>
                              <a:pt x="1716" y="64"/>
                            </a:lnTo>
                            <a:lnTo>
                              <a:pt x="1710" y="64"/>
                            </a:lnTo>
                            <a:lnTo>
                              <a:pt x="1703" y="64"/>
                            </a:lnTo>
                            <a:lnTo>
                              <a:pt x="1696" y="64"/>
                            </a:lnTo>
                            <a:lnTo>
                              <a:pt x="1693" y="63"/>
                            </a:lnTo>
                            <a:lnTo>
                              <a:pt x="1690" y="63"/>
                            </a:lnTo>
                            <a:lnTo>
                              <a:pt x="1686" y="63"/>
                            </a:lnTo>
                            <a:lnTo>
                              <a:pt x="1683" y="63"/>
                            </a:lnTo>
                            <a:lnTo>
                              <a:pt x="1677" y="63"/>
                            </a:lnTo>
                            <a:lnTo>
                              <a:pt x="1670" y="63"/>
                            </a:lnTo>
                            <a:lnTo>
                              <a:pt x="1663" y="63"/>
                            </a:lnTo>
                            <a:lnTo>
                              <a:pt x="1657" y="64"/>
                            </a:lnTo>
                            <a:lnTo>
                              <a:pt x="1649" y="64"/>
                            </a:lnTo>
                            <a:lnTo>
                              <a:pt x="1643" y="66"/>
                            </a:lnTo>
                            <a:lnTo>
                              <a:pt x="1638" y="64"/>
                            </a:lnTo>
                            <a:lnTo>
                              <a:pt x="1632" y="64"/>
                            </a:lnTo>
                            <a:lnTo>
                              <a:pt x="1628" y="63"/>
                            </a:lnTo>
                            <a:lnTo>
                              <a:pt x="1622" y="63"/>
                            </a:lnTo>
                            <a:lnTo>
                              <a:pt x="1617" y="63"/>
                            </a:lnTo>
                            <a:lnTo>
                              <a:pt x="1612" y="63"/>
                            </a:lnTo>
                            <a:lnTo>
                              <a:pt x="1606" y="62"/>
                            </a:lnTo>
                            <a:lnTo>
                              <a:pt x="1602" y="62"/>
                            </a:lnTo>
                            <a:lnTo>
                              <a:pt x="1596" y="62"/>
                            </a:lnTo>
                            <a:lnTo>
                              <a:pt x="1591" y="60"/>
                            </a:lnTo>
                            <a:lnTo>
                              <a:pt x="1586" y="60"/>
                            </a:lnTo>
                            <a:lnTo>
                              <a:pt x="1582" y="60"/>
                            </a:lnTo>
                            <a:lnTo>
                              <a:pt x="1576" y="59"/>
                            </a:lnTo>
                            <a:lnTo>
                              <a:pt x="1571" y="59"/>
                            </a:lnTo>
                            <a:lnTo>
                              <a:pt x="1565" y="59"/>
                            </a:lnTo>
                            <a:lnTo>
                              <a:pt x="1560" y="59"/>
                            </a:lnTo>
                            <a:lnTo>
                              <a:pt x="1565" y="57"/>
                            </a:lnTo>
                            <a:lnTo>
                              <a:pt x="1568" y="56"/>
                            </a:lnTo>
                            <a:lnTo>
                              <a:pt x="1573" y="56"/>
                            </a:lnTo>
                            <a:lnTo>
                              <a:pt x="1577" y="56"/>
                            </a:lnTo>
                            <a:lnTo>
                              <a:pt x="1582" y="55"/>
                            </a:lnTo>
                            <a:lnTo>
                              <a:pt x="1585" y="55"/>
                            </a:lnTo>
                            <a:lnTo>
                              <a:pt x="1589" y="55"/>
                            </a:lnTo>
                            <a:lnTo>
                              <a:pt x="1594" y="55"/>
                            </a:lnTo>
                            <a:lnTo>
                              <a:pt x="1599" y="53"/>
                            </a:lnTo>
                            <a:lnTo>
                              <a:pt x="1602" y="53"/>
                            </a:lnTo>
                            <a:lnTo>
                              <a:pt x="1606" y="53"/>
                            </a:lnTo>
                            <a:lnTo>
                              <a:pt x="1611" y="53"/>
                            </a:lnTo>
                            <a:lnTo>
                              <a:pt x="1615" y="53"/>
                            </a:lnTo>
                            <a:lnTo>
                              <a:pt x="1618" y="53"/>
                            </a:lnTo>
                            <a:lnTo>
                              <a:pt x="1623" y="53"/>
                            </a:lnTo>
                            <a:lnTo>
                              <a:pt x="1629" y="53"/>
                            </a:lnTo>
                            <a:lnTo>
                              <a:pt x="1632" y="53"/>
                            </a:lnTo>
                            <a:lnTo>
                              <a:pt x="1637" y="53"/>
                            </a:lnTo>
                            <a:lnTo>
                              <a:pt x="1641" y="53"/>
                            </a:lnTo>
                            <a:lnTo>
                              <a:pt x="1646" y="53"/>
                            </a:lnTo>
                            <a:lnTo>
                              <a:pt x="1649" y="53"/>
                            </a:lnTo>
                            <a:lnTo>
                              <a:pt x="1654" y="53"/>
                            </a:lnTo>
                            <a:lnTo>
                              <a:pt x="1658" y="53"/>
                            </a:lnTo>
                            <a:lnTo>
                              <a:pt x="1663" y="53"/>
                            </a:lnTo>
                            <a:lnTo>
                              <a:pt x="1667" y="53"/>
                            </a:lnTo>
                            <a:lnTo>
                              <a:pt x="1672" y="53"/>
                            </a:lnTo>
                            <a:lnTo>
                              <a:pt x="1677" y="53"/>
                            </a:lnTo>
                            <a:lnTo>
                              <a:pt x="1681" y="53"/>
                            </a:lnTo>
                            <a:lnTo>
                              <a:pt x="1686" y="53"/>
                            </a:lnTo>
                            <a:lnTo>
                              <a:pt x="1690" y="55"/>
                            </a:lnTo>
                            <a:lnTo>
                              <a:pt x="1695" y="55"/>
                            </a:lnTo>
                            <a:lnTo>
                              <a:pt x="1700" y="55"/>
                            </a:lnTo>
                            <a:lnTo>
                              <a:pt x="1703" y="55"/>
                            </a:lnTo>
                            <a:lnTo>
                              <a:pt x="1707" y="55"/>
                            </a:lnTo>
                            <a:lnTo>
                              <a:pt x="1712" y="55"/>
                            </a:lnTo>
                            <a:lnTo>
                              <a:pt x="1716" y="56"/>
                            </a:lnTo>
                            <a:lnTo>
                              <a:pt x="1721" y="56"/>
                            </a:lnTo>
                            <a:lnTo>
                              <a:pt x="1726" y="56"/>
                            </a:lnTo>
                            <a:lnTo>
                              <a:pt x="1729" y="56"/>
                            </a:lnTo>
                            <a:lnTo>
                              <a:pt x="1735" y="56"/>
                            </a:lnTo>
                            <a:lnTo>
                              <a:pt x="1738" y="56"/>
                            </a:lnTo>
                            <a:lnTo>
                              <a:pt x="1742" y="56"/>
                            </a:lnTo>
                            <a:lnTo>
                              <a:pt x="1747" y="56"/>
                            </a:lnTo>
                            <a:lnTo>
                              <a:pt x="1752" y="56"/>
                            </a:lnTo>
                            <a:lnTo>
                              <a:pt x="1756" y="56"/>
                            </a:lnTo>
                            <a:lnTo>
                              <a:pt x="1761" y="56"/>
                            </a:lnTo>
                            <a:lnTo>
                              <a:pt x="1765" y="56"/>
                            </a:lnTo>
                            <a:lnTo>
                              <a:pt x="1770" y="57"/>
                            </a:lnTo>
                            <a:lnTo>
                              <a:pt x="1773" y="56"/>
                            </a:lnTo>
                            <a:lnTo>
                              <a:pt x="1778" y="56"/>
                            </a:lnTo>
                            <a:lnTo>
                              <a:pt x="1782" y="56"/>
                            </a:lnTo>
                            <a:lnTo>
                              <a:pt x="1787" y="56"/>
                            </a:lnTo>
                            <a:lnTo>
                              <a:pt x="1791" y="56"/>
                            </a:lnTo>
                            <a:lnTo>
                              <a:pt x="1796" y="56"/>
                            </a:lnTo>
                            <a:lnTo>
                              <a:pt x="1801" y="56"/>
                            </a:lnTo>
                            <a:lnTo>
                              <a:pt x="1805" y="56"/>
                            </a:lnTo>
                            <a:lnTo>
                              <a:pt x="1808" y="56"/>
                            </a:lnTo>
                            <a:lnTo>
                              <a:pt x="1814" y="56"/>
                            </a:lnTo>
                            <a:lnTo>
                              <a:pt x="1817" y="55"/>
                            </a:lnTo>
                            <a:lnTo>
                              <a:pt x="1822" y="55"/>
                            </a:lnTo>
                            <a:lnTo>
                              <a:pt x="1827" y="55"/>
                            </a:lnTo>
                            <a:lnTo>
                              <a:pt x="1831" y="55"/>
                            </a:lnTo>
                            <a:lnTo>
                              <a:pt x="1836" y="53"/>
                            </a:lnTo>
                            <a:lnTo>
                              <a:pt x="1840" y="53"/>
                            </a:lnTo>
                            <a:lnTo>
                              <a:pt x="1845" y="53"/>
                            </a:lnTo>
                            <a:lnTo>
                              <a:pt x="1851" y="52"/>
                            </a:lnTo>
                            <a:lnTo>
                              <a:pt x="1856" y="52"/>
                            </a:lnTo>
                            <a:lnTo>
                              <a:pt x="1859" y="51"/>
                            </a:lnTo>
                            <a:lnTo>
                              <a:pt x="1863" y="49"/>
                            </a:lnTo>
                            <a:lnTo>
                              <a:pt x="1866" y="48"/>
                            </a:lnTo>
                            <a:lnTo>
                              <a:pt x="1865" y="46"/>
                            </a:lnTo>
                            <a:lnTo>
                              <a:pt x="1863" y="46"/>
                            </a:lnTo>
                            <a:lnTo>
                              <a:pt x="1860" y="46"/>
                            </a:lnTo>
                            <a:lnTo>
                              <a:pt x="1857" y="45"/>
                            </a:lnTo>
                            <a:lnTo>
                              <a:pt x="1853" y="45"/>
                            </a:lnTo>
                            <a:lnTo>
                              <a:pt x="1848" y="45"/>
                            </a:lnTo>
                            <a:lnTo>
                              <a:pt x="1845" y="45"/>
                            </a:lnTo>
                            <a:lnTo>
                              <a:pt x="1842" y="45"/>
                            </a:lnTo>
                            <a:lnTo>
                              <a:pt x="1839" y="45"/>
                            </a:lnTo>
                            <a:lnTo>
                              <a:pt x="1836" y="45"/>
                            </a:lnTo>
                            <a:lnTo>
                              <a:pt x="1739" y="41"/>
                            </a:lnTo>
                            <a:lnTo>
                              <a:pt x="1723" y="31"/>
                            </a:lnTo>
                            <a:lnTo>
                              <a:pt x="1718" y="33"/>
                            </a:lnTo>
                            <a:lnTo>
                              <a:pt x="1713" y="33"/>
                            </a:lnTo>
                            <a:lnTo>
                              <a:pt x="1709" y="34"/>
                            </a:lnTo>
                            <a:lnTo>
                              <a:pt x="1704" y="34"/>
                            </a:lnTo>
                            <a:lnTo>
                              <a:pt x="1698" y="34"/>
                            </a:lnTo>
                            <a:lnTo>
                              <a:pt x="1689" y="34"/>
                            </a:lnTo>
                            <a:lnTo>
                              <a:pt x="1681" y="34"/>
                            </a:lnTo>
                            <a:lnTo>
                              <a:pt x="1672" y="34"/>
                            </a:lnTo>
                            <a:lnTo>
                              <a:pt x="1663" y="34"/>
                            </a:lnTo>
                            <a:lnTo>
                              <a:pt x="1651" y="34"/>
                            </a:lnTo>
                            <a:lnTo>
                              <a:pt x="1640" y="34"/>
                            </a:lnTo>
                            <a:lnTo>
                              <a:pt x="1628" y="33"/>
                            </a:lnTo>
                            <a:lnTo>
                              <a:pt x="1615" y="33"/>
                            </a:lnTo>
                            <a:lnTo>
                              <a:pt x="1602" y="31"/>
                            </a:lnTo>
                            <a:lnTo>
                              <a:pt x="1588" y="31"/>
                            </a:lnTo>
                            <a:lnTo>
                              <a:pt x="1573" y="31"/>
                            </a:lnTo>
                            <a:lnTo>
                              <a:pt x="1559" y="31"/>
                            </a:lnTo>
                            <a:lnTo>
                              <a:pt x="1542" y="30"/>
                            </a:lnTo>
                            <a:lnTo>
                              <a:pt x="1527" y="30"/>
                            </a:lnTo>
                            <a:lnTo>
                              <a:pt x="1510" y="29"/>
                            </a:lnTo>
                            <a:lnTo>
                              <a:pt x="1495" y="29"/>
                            </a:lnTo>
                            <a:lnTo>
                              <a:pt x="1476" y="27"/>
                            </a:lnTo>
                            <a:lnTo>
                              <a:pt x="1459" y="27"/>
                            </a:lnTo>
                            <a:lnTo>
                              <a:pt x="1441" y="26"/>
                            </a:lnTo>
                            <a:lnTo>
                              <a:pt x="1424" y="26"/>
                            </a:lnTo>
                            <a:lnTo>
                              <a:pt x="1406" y="25"/>
                            </a:lnTo>
                            <a:lnTo>
                              <a:pt x="1388" y="23"/>
                            </a:lnTo>
                            <a:lnTo>
                              <a:pt x="1369" y="23"/>
                            </a:lnTo>
                            <a:lnTo>
                              <a:pt x="1352" y="23"/>
                            </a:lnTo>
                            <a:lnTo>
                              <a:pt x="1334" y="20"/>
                            </a:lnTo>
                            <a:lnTo>
                              <a:pt x="1314" y="20"/>
                            </a:lnTo>
                            <a:lnTo>
                              <a:pt x="1296" y="19"/>
                            </a:lnTo>
                            <a:lnTo>
                              <a:pt x="1279" y="19"/>
                            </a:lnTo>
                            <a:lnTo>
                              <a:pt x="1259" y="16"/>
                            </a:lnTo>
                            <a:lnTo>
                              <a:pt x="1242" y="16"/>
                            </a:lnTo>
                            <a:lnTo>
                              <a:pt x="1224" y="15"/>
                            </a:lnTo>
                            <a:lnTo>
                              <a:pt x="1207" y="15"/>
                            </a:lnTo>
                            <a:lnTo>
                              <a:pt x="1189" y="14"/>
                            </a:lnTo>
                            <a:lnTo>
                              <a:pt x="1172" y="14"/>
                            </a:lnTo>
                            <a:lnTo>
                              <a:pt x="1155" y="12"/>
                            </a:lnTo>
                            <a:lnTo>
                              <a:pt x="1138" y="11"/>
                            </a:lnTo>
                            <a:lnTo>
                              <a:pt x="1121" y="9"/>
                            </a:lnTo>
                            <a:lnTo>
                              <a:pt x="1108" y="9"/>
                            </a:lnTo>
                            <a:lnTo>
                              <a:pt x="1091" y="8"/>
                            </a:lnTo>
                            <a:lnTo>
                              <a:pt x="1077" y="8"/>
                            </a:lnTo>
                            <a:lnTo>
                              <a:pt x="1063" y="7"/>
                            </a:lnTo>
                            <a:lnTo>
                              <a:pt x="1049" y="7"/>
                            </a:lnTo>
                            <a:lnTo>
                              <a:pt x="1036" y="5"/>
                            </a:lnTo>
                            <a:lnTo>
                              <a:pt x="1025" y="5"/>
                            </a:lnTo>
                            <a:lnTo>
                              <a:pt x="1013" y="4"/>
                            </a:lnTo>
                            <a:lnTo>
                              <a:pt x="1002" y="4"/>
                            </a:lnTo>
                            <a:lnTo>
                              <a:pt x="991" y="4"/>
                            </a:lnTo>
                            <a:lnTo>
                              <a:pt x="984" y="4"/>
                            </a:lnTo>
                            <a:lnTo>
                              <a:pt x="975" y="3"/>
                            </a:lnTo>
                            <a:lnTo>
                              <a:pt x="967" y="3"/>
                            </a:lnTo>
                            <a:lnTo>
                              <a:pt x="959" y="1"/>
                            </a:lnTo>
                            <a:lnTo>
                              <a:pt x="955" y="1"/>
                            </a:lnTo>
                            <a:lnTo>
                              <a:pt x="949" y="1"/>
                            </a:lnTo>
                            <a:lnTo>
                              <a:pt x="945" y="1"/>
                            </a:lnTo>
                            <a:lnTo>
                              <a:pt x="942" y="1"/>
                            </a:lnTo>
                            <a:lnTo>
                              <a:pt x="941" y="1"/>
                            </a:lnTo>
                            <a:lnTo>
                              <a:pt x="936" y="1"/>
                            </a:lnTo>
                            <a:lnTo>
                              <a:pt x="930" y="1"/>
                            </a:lnTo>
                            <a:lnTo>
                              <a:pt x="924" y="1"/>
                            </a:lnTo>
                            <a:lnTo>
                              <a:pt x="919" y="1"/>
                            </a:lnTo>
                            <a:lnTo>
                              <a:pt x="913" y="1"/>
                            </a:lnTo>
                            <a:lnTo>
                              <a:pt x="907" y="1"/>
                            </a:lnTo>
                            <a:lnTo>
                              <a:pt x="901" y="1"/>
                            </a:lnTo>
                            <a:lnTo>
                              <a:pt x="896" y="1"/>
                            </a:lnTo>
                            <a:lnTo>
                              <a:pt x="892" y="1"/>
                            </a:lnTo>
                            <a:lnTo>
                              <a:pt x="886" y="1"/>
                            </a:lnTo>
                            <a:lnTo>
                              <a:pt x="880" y="1"/>
                            </a:lnTo>
                            <a:lnTo>
                              <a:pt x="875" y="1"/>
                            </a:lnTo>
                            <a:lnTo>
                              <a:pt x="869" y="1"/>
                            </a:lnTo>
                            <a:lnTo>
                              <a:pt x="863" y="1"/>
                            </a:lnTo>
                            <a:lnTo>
                              <a:pt x="858" y="1"/>
                            </a:lnTo>
                            <a:lnTo>
                              <a:pt x="852" y="1"/>
                            </a:lnTo>
                            <a:lnTo>
                              <a:pt x="846" y="0"/>
                            </a:lnTo>
                            <a:lnTo>
                              <a:pt x="840" y="0"/>
                            </a:lnTo>
                            <a:lnTo>
                              <a:pt x="834" y="0"/>
                            </a:lnTo>
                            <a:lnTo>
                              <a:pt x="828" y="0"/>
                            </a:lnTo>
                            <a:lnTo>
                              <a:pt x="822" y="0"/>
                            </a:lnTo>
                            <a:lnTo>
                              <a:pt x="815" y="0"/>
                            </a:lnTo>
                            <a:lnTo>
                              <a:pt x="811" y="0"/>
                            </a:lnTo>
                            <a:lnTo>
                              <a:pt x="805" y="0"/>
                            </a:lnTo>
                            <a:lnTo>
                              <a:pt x="799" y="0"/>
                            </a:lnTo>
                            <a:lnTo>
                              <a:pt x="792" y="0"/>
                            </a:lnTo>
                            <a:lnTo>
                              <a:pt x="788" y="0"/>
                            </a:lnTo>
                            <a:lnTo>
                              <a:pt x="782" y="0"/>
                            </a:lnTo>
                            <a:lnTo>
                              <a:pt x="776" y="0"/>
                            </a:lnTo>
                            <a:lnTo>
                              <a:pt x="770" y="0"/>
                            </a:lnTo>
                            <a:lnTo>
                              <a:pt x="765" y="0"/>
                            </a:lnTo>
                            <a:lnTo>
                              <a:pt x="759" y="0"/>
                            </a:lnTo>
                            <a:lnTo>
                              <a:pt x="753" y="0"/>
                            </a:lnTo>
                            <a:lnTo>
                              <a:pt x="747" y="0"/>
                            </a:lnTo>
                            <a:lnTo>
                              <a:pt x="740" y="0"/>
                            </a:lnTo>
                            <a:lnTo>
                              <a:pt x="734" y="0"/>
                            </a:lnTo>
                            <a:lnTo>
                              <a:pt x="728" y="0"/>
                            </a:lnTo>
                            <a:lnTo>
                              <a:pt x="724" y="0"/>
                            </a:lnTo>
                            <a:lnTo>
                              <a:pt x="718" y="0"/>
                            </a:lnTo>
                            <a:lnTo>
                              <a:pt x="711" y="0"/>
                            </a:lnTo>
                            <a:lnTo>
                              <a:pt x="705" y="0"/>
                            </a:lnTo>
                            <a:lnTo>
                              <a:pt x="699" y="0"/>
                            </a:lnTo>
                            <a:lnTo>
                              <a:pt x="693" y="0"/>
                            </a:lnTo>
                            <a:lnTo>
                              <a:pt x="688" y="1"/>
                            </a:lnTo>
                            <a:lnTo>
                              <a:pt x="682" y="1"/>
                            </a:lnTo>
                            <a:lnTo>
                              <a:pt x="676" y="1"/>
                            </a:lnTo>
                            <a:lnTo>
                              <a:pt x="672" y="3"/>
                            </a:lnTo>
                            <a:lnTo>
                              <a:pt x="666" y="3"/>
                            </a:lnTo>
                            <a:lnTo>
                              <a:pt x="659" y="3"/>
                            </a:lnTo>
                            <a:lnTo>
                              <a:pt x="653" y="3"/>
                            </a:lnTo>
                            <a:lnTo>
                              <a:pt x="649" y="4"/>
                            </a:lnTo>
                            <a:lnTo>
                              <a:pt x="643" y="4"/>
                            </a:lnTo>
                            <a:lnTo>
                              <a:pt x="636" y="4"/>
                            </a:lnTo>
                            <a:lnTo>
                              <a:pt x="630" y="4"/>
                            </a:lnTo>
                            <a:lnTo>
                              <a:pt x="626" y="5"/>
                            </a:lnTo>
                            <a:lnTo>
                              <a:pt x="621" y="7"/>
                            </a:lnTo>
                            <a:lnTo>
                              <a:pt x="615" y="7"/>
                            </a:lnTo>
                            <a:lnTo>
                              <a:pt x="609" y="8"/>
                            </a:lnTo>
                            <a:lnTo>
                              <a:pt x="604" y="8"/>
                            </a:lnTo>
                            <a:lnTo>
                              <a:pt x="598" y="9"/>
                            </a:lnTo>
                            <a:lnTo>
                              <a:pt x="594" y="9"/>
                            </a:lnTo>
                            <a:lnTo>
                              <a:pt x="588" y="11"/>
                            </a:lnTo>
                            <a:lnTo>
                              <a:pt x="583" y="12"/>
                            </a:lnTo>
                            <a:lnTo>
                              <a:pt x="578" y="14"/>
                            </a:lnTo>
                            <a:lnTo>
                              <a:pt x="575" y="14"/>
                            </a:lnTo>
                            <a:lnTo>
                              <a:pt x="572" y="14"/>
                            </a:lnTo>
                            <a:lnTo>
                              <a:pt x="566" y="15"/>
                            </a:lnTo>
                            <a:lnTo>
                              <a:pt x="561" y="15"/>
                            </a:lnTo>
                            <a:lnTo>
                              <a:pt x="557" y="15"/>
                            </a:lnTo>
                            <a:lnTo>
                              <a:pt x="554" y="15"/>
                            </a:lnTo>
                            <a:lnTo>
                              <a:pt x="549" y="16"/>
                            </a:lnTo>
                            <a:lnTo>
                              <a:pt x="546" y="16"/>
                            </a:lnTo>
                            <a:lnTo>
                              <a:pt x="543" y="16"/>
                            </a:lnTo>
                            <a:lnTo>
                              <a:pt x="539" y="16"/>
                            </a:lnTo>
                            <a:lnTo>
                              <a:pt x="535" y="16"/>
                            </a:lnTo>
                            <a:lnTo>
                              <a:pt x="531" y="18"/>
                            </a:lnTo>
                            <a:lnTo>
                              <a:pt x="528" y="18"/>
                            </a:lnTo>
                            <a:lnTo>
                              <a:pt x="523" y="18"/>
                            </a:lnTo>
                            <a:lnTo>
                              <a:pt x="520" y="18"/>
                            </a:lnTo>
                            <a:lnTo>
                              <a:pt x="516" y="18"/>
                            </a:lnTo>
                            <a:lnTo>
                              <a:pt x="513" y="18"/>
                            </a:lnTo>
                            <a:lnTo>
                              <a:pt x="508" y="18"/>
                            </a:lnTo>
                            <a:lnTo>
                              <a:pt x="505" y="18"/>
                            </a:lnTo>
                            <a:lnTo>
                              <a:pt x="503" y="19"/>
                            </a:lnTo>
                            <a:lnTo>
                              <a:pt x="497" y="18"/>
                            </a:lnTo>
                            <a:lnTo>
                              <a:pt x="493" y="18"/>
                            </a:lnTo>
                            <a:lnTo>
                              <a:pt x="49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8" name="Freeform 178"/>
                      <p:cNvSpPr/>
                      <p:nvPr/>
                    </p:nvSpPr>
                    <p:spPr>
                      <a:xfrm>
                        <a:off x="2825640" y="2985480"/>
                        <a:ext cx="25920" cy="108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080"/>
                          <a:gd name="textAreaBottom" fmla="*/ 1440 h 1080"/>
                        </a:gdLst>
                        <a:ahLst/>
                        <a:rect l="textAreaLeft" t="textAreaTop" r="textAreaRight" b="textAreaBottom"/>
                        <a:pathLst>
                          <a:path w="288" h="14">
                            <a:moveTo>
                              <a:pt x="286" y="0"/>
                            </a:moveTo>
                            <a:lnTo>
                              <a:pt x="280" y="0"/>
                            </a:lnTo>
                            <a:lnTo>
                              <a:pt x="274" y="0"/>
                            </a:lnTo>
                            <a:lnTo>
                              <a:pt x="268" y="0"/>
                            </a:lnTo>
                            <a:lnTo>
                              <a:pt x="263" y="0"/>
                            </a:lnTo>
                            <a:lnTo>
                              <a:pt x="257" y="0"/>
                            </a:lnTo>
                            <a:lnTo>
                              <a:pt x="251" y="0"/>
                            </a:lnTo>
                            <a:lnTo>
                              <a:pt x="245" y="0"/>
                            </a:lnTo>
                            <a:lnTo>
                              <a:pt x="240" y="0"/>
                            </a:lnTo>
                            <a:lnTo>
                              <a:pt x="233" y="0"/>
                            </a:lnTo>
                            <a:lnTo>
                              <a:pt x="228" y="0"/>
                            </a:lnTo>
                            <a:lnTo>
                              <a:pt x="222" y="0"/>
                            </a:lnTo>
                            <a:lnTo>
                              <a:pt x="216" y="0"/>
                            </a:lnTo>
                            <a:lnTo>
                              <a:pt x="210" y="0"/>
                            </a:lnTo>
                            <a:lnTo>
                              <a:pt x="205" y="2"/>
                            </a:lnTo>
                            <a:lnTo>
                              <a:pt x="199" y="2"/>
                            </a:lnTo>
                            <a:lnTo>
                              <a:pt x="193" y="2"/>
                            </a:lnTo>
                            <a:lnTo>
                              <a:pt x="187" y="2"/>
                            </a:lnTo>
                            <a:lnTo>
                              <a:pt x="181" y="2"/>
                            </a:lnTo>
                            <a:lnTo>
                              <a:pt x="174" y="3"/>
                            </a:lnTo>
                            <a:lnTo>
                              <a:pt x="170" y="3"/>
                            </a:lnTo>
                            <a:lnTo>
                              <a:pt x="164" y="3"/>
                            </a:lnTo>
                            <a:lnTo>
                              <a:pt x="158" y="3"/>
                            </a:lnTo>
                            <a:lnTo>
                              <a:pt x="152" y="3"/>
                            </a:lnTo>
                            <a:lnTo>
                              <a:pt x="145" y="4"/>
                            </a:lnTo>
                            <a:lnTo>
                              <a:pt x="139" y="4"/>
                            </a:lnTo>
                            <a:lnTo>
                              <a:pt x="135" y="4"/>
                            </a:lnTo>
                            <a:lnTo>
                              <a:pt x="127" y="4"/>
                            </a:lnTo>
                            <a:lnTo>
                              <a:pt x="122" y="6"/>
                            </a:lnTo>
                            <a:lnTo>
                              <a:pt x="116" y="6"/>
                            </a:lnTo>
                            <a:lnTo>
                              <a:pt x="110" y="6"/>
                            </a:lnTo>
                            <a:lnTo>
                              <a:pt x="104" y="6"/>
                            </a:lnTo>
                            <a:lnTo>
                              <a:pt x="100" y="6"/>
                            </a:lnTo>
                            <a:lnTo>
                              <a:pt x="31" y="8"/>
                            </a:lnTo>
                            <a:lnTo>
                              <a:pt x="11" y="11"/>
                            </a:lnTo>
                            <a:lnTo>
                              <a:pt x="3" y="11"/>
                            </a:lnTo>
                            <a:lnTo>
                              <a:pt x="2" y="11"/>
                            </a:lnTo>
                            <a:lnTo>
                              <a:pt x="0" y="12"/>
                            </a:lnTo>
                            <a:lnTo>
                              <a:pt x="2" y="12"/>
                            </a:lnTo>
                            <a:lnTo>
                              <a:pt x="6" y="14"/>
                            </a:lnTo>
                            <a:lnTo>
                              <a:pt x="9" y="14"/>
                            </a:lnTo>
                            <a:lnTo>
                              <a:pt x="14" y="14"/>
                            </a:lnTo>
                            <a:lnTo>
                              <a:pt x="17" y="14"/>
                            </a:lnTo>
                            <a:lnTo>
                              <a:pt x="22" y="14"/>
                            </a:lnTo>
                            <a:lnTo>
                              <a:pt x="25" y="12"/>
                            </a:lnTo>
                            <a:lnTo>
                              <a:pt x="28" y="12"/>
                            </a:lnTo>
                            <a:lnTo>
                              <a:pt x="31" y="12"/>
                            </a:lnTo>
                            <a:lnTo>
                              <a:pt x="35" y="12"/>
                            </a:lnTo>
                            <a:lnTo>
                              <a:pt x="40" y="12"/>
                            </a:lnTo>
                            <a:lnTo>
                              <a:pt x="43" y="12"/>
                            </a:lnTo>
                            <a:lnTo>
                              <a:pt x="48" y="12"/>
                            </a:lnTo>
                            <a:lnTo>
                              <a:pt x="54" y="12"/>
                            </a:lnTo>
                            <a:lnTo>
                              <a:pt x="58" y="12"/>
                            </a:lnTo>
                            <a:lnTo>
                              <a:pt x="64" y="12"/>
                            </a:lnTo>
                            <a:lnTo>
                              <a:pt x="69" y="12"/>
                            </a:lnTo>
                            <a:lnTo>
                              <a:pt x="75" y="12"/>
                            </a:lnTo>
                            <a:lnTo>
                              <a:pt x="80" y="12"/>
                            </a:lnTo>
                            <a:lnTo>
                              <a:pt x="86" y="12"/>
                            </a:lnTo>
                            <a:lnTo>
                              <a:pt x="90" y="11"/>
                            </a:lnTo>
                            <a:lnTo>
                              <a:pt x="96" y="11"/>
                            </a:lnTo>
                            <a:lnTo>
                              <a:pt x="101" y="11"/>
                            </a:lnTo>
                            <a:lnTo>
                              <a:pt x="107" y="11"/>
                            </a:lnTo>
                            <a:lnTo>
                              <a:pt x="112" y="11"/>
                            </a:lnTo>
                            <a:lnTo>
                              <a:pt x="118" y="11"/>
                            </a:lnTo>
                            <a:lnTo>
                              <a:pt x="122" y="11"/>
                            </a:lnTo>
                            <a:lnTo>
                              <a:pt x="129" y="11"/>
                            </a:lnTo>
                            <a:lnTo>
                              <a:pt x="135" y="11"/>
                            </a:lnTo>
                            <a:lnTo>
                              <a:pt x="139" y="11"/>
                            </a:lnTo>
                            <a:lnTo>
                              <a:pt x="144" y="10"/>
                            </a:lnTo>
                            <a:lnTo>
                              <a:pt x="150" y="10"/>
                            </a:lnTo>
                            <a:lnTo>
                              <a:pt x="155" y="10"/>
                            </a:lnTo>
                            <a:lnTo>
                              <a:pt x="161" y="10"/>
                            </a:lnTo>
                            <a:lnTo>
                              <a:pt x="165" y="10"/>
                            </a:lnTo>
                            <a:lnTo>
                              <a:pt x="171" y="10"/>
                            </a:lnTo>
                            <a:lnTo>
                              <a:pt x="176" y="8"/>
                            </a:lnTo>
                            <a:lnTo>
                              <a:pt x="182" y="8"/>
                            </a:lnTo>
                            <a:lnTo>
                              <a:pt x="187" y="8"/>
                            </a:lnTo>
                            <a:lnTo>
                              <a:pt x="193" y="8"/>
                            </a:lnTo>
                            <a:lnTo>
                              <a:pt x="199" y="8"/>
                            </a:lnTo>
                            <a:lnTo>
                              <a:pt x="204" y="8"/>
                            </a:lnTo>
                            <a:lnTo>
                              <a:pt x="210" y="8"/>
                            </a:lnTo>
                            <a:lnTo>
                              <a:pt x="216" y="8"/>
                            </a:lnTo>
                            <a:lnTo>
                              <a:pt x="219" y="8"/>
                            </a:lnTo>
                            <a:lnTo>
                              <a:pt x="223" y="8"/>
                            </a:lnTo>
                            <a:lnTo>
                              <a:pt x="226" y="8"/>
                            </a:lnTo>
                            <a:lnTo>
                              <a:pt x="230" y="8"/>
                            </a:lnTo>
                            <a:lnTo>
                              <a:pt x="234" y="8"/>
                            </a:lnTo>
                            <a:lnTo>
                              <a:pt x="237" y="8"/>
                            </a:lnTo>
                            <a:lnTo>
                              <a:pt x="242" y="8"/>
                            </a:lnTo>
                            <a:lnTo>
                              <a:pt x="246" y="8"/>
                            </a:lnTo>
                            <a:lnTo>
                              <a:pt x="249" y="8"/>
                            </a:lnTo>
                            <a:lnTo>
                              <a:pt x="254" y="8"/>
                            </a:lnTo>
                            <a:lnTo>
                              <a:pt x="257" y="8"/>
                            </a:lnTo>
                            <a:lnTo>
                              <a:pt x="262" y="8"/>
                            </a:lnTo>
                            <a:lnTo>
                              <a:pt x="265" y="8"/>
                            </a:lnTo>
                            <a:lnTo>
                              <a:pt x="269" y="8"/>
                            </a:lnTo>
                            <a:lnTo>
                              <a:pt x="274" y="8"/>
                            </a:lnTo>
                            <a:lnTo>
                              <a:pt x="279" y="8"/>
                            </a:lnTo>
                            <a:lnTo>
                              <a:pt x="282" y="7"/>
                            </a:lnTo>
                            <a:lnTo>
                              <a:pt x="285" y="4"/>
                            </a:lnTo>
                            <a:lnTo>
                              <a:pt x="288" y="2"/>
                            </a:lnTo>
                            <a:lnTo>
                              <a:pt x="28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9" name="Freeform 179"/>
                      <p:cNvSpPr/>
                      <p:nvPr/>
                    </p:nvSpPr>
                    <p:spPr>
                      <a:xfrm>
                        <a:off x="2871000" y="2989440"/>
                        <a:ext cx="22320" cy="216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248" h="25">
                            <a:moveTo>
                              <a:pt x="248" y="25"/>
                            </a:moveTo>
                            <a:lnTo>
                              <a:pt x="244" y="25"/>
                            </a:lnTo>
                            <a:lnTo>
                              <a:pt x="237" y="25"/>
                            </a:lnTo>
                            <a:lnTo>
                              <a:pt x="233" y="23"/>
                            </a:lnTo>
                            <a:lnTo>
                              <a:pt x="227" y="23"/>
                            </a:lnTo>
                            <a:lnTo>
                              <a:pt x="224" y="22"/>
                            </a:lnTo>
                            <a:lnTo>
                              <a:pt x="219" y="22"/>
                            </a:lnTo>
                            <a:lnTo>
                              <a:pt x="216" y="22"/>
                            </a:lnTo>
                            <a:lnTo>
                              <a:pt x="213" y="22"/>
                            </a:lnTo>
                            <a:lnTo>
                              <a:pt x="208" y="21"/>
                            </a:lnTo>
                            <a:lnTo>
                              <a:pt x="205" y="21"/>
                            </a:lnTo>
                            <a:lnTo>
                              <a:pt x="201" y="21"/>
                            </a:lnTo>
                            <a:lnTo>
                              <a:pt x="198" y="21"/>
                            </a:lnTo>
                            <a:lnTo>
                              <a:pt x="193" y="21"/>
                            </a:lnTo>
                            <a:lnTo>
                              <a:pt x="188" y="19"/>
                            </a:lnTo>
                            <a:lnTo>
                              <a:pt x="184" y="19"/>
                            </a:lnTo>
                            <a:lnTo>
                              <a:pt x="179" y="19"/>
                            </a:lnTo>
                            <a:lnTo>
                              <a:pt x="175" y="18"/>
                            </a:lnTo>
                            <a:lnTo>
                              <a:pt x="172" y="18"/>
                            </a:lnTo>
                            <a:lnTo>
                              <a:pt x="166" y="18"/>
                            </a:lnTo>
                            <a:lnTo>
                              <a:pt x="162" y="18"/>
                            </a:lnTo>
                            <a:lnTo>
                              <a:pt x="158" y="16"/>
                            </a:lnTo>
                            <a:lnTo>
                              <a:pt x="153" y="16"/>
                            </a:lnTo>
                            <a:lnTo>
                              <a:pt x="149" y="15"/>
                            </a:lnTo>
                            <a:lnTo>
                              <a:pt x="144" y="15"/>
                            </a:lnTo>
                            <a:lnTo>
                              <a:pt x="138" y="15"/>
                            </a:lnTo>
                            <a:lnTo>
                              <a:pt x="135" y="15"/>
                            </a:lnTo>
                            <a:lnTo>
                              <a:pt x="129" y="15"/>
                            </a:lnTo>
                            <a:lnTo>
                              <a:pt x="124" y="15"/>
                            </a:lnTo>
                            <a:lnTo>
                              <a:pt x="120" y="14"/>
                            </a:lnTo>
                            <a:lnTo>
                              <a:pt x="115" y="14"/>
                            </a:lnTo>
                            <a:lnTo>
                              <a:pt x="110" y="12"/>
                            </a:lnTo>
                            <a:lnTo>
                              <a:pt x="106" y="12"/>
                            </a:lnTo>
                            <a:lnTo>
                              <a:pt x="100" y="12"/>
                            </a:lnTo>
                            <a:lnTo>
                              <a:pt x="97" y="12"/>
                            </a:lnTo>
                            <a:lnTo>
                              <a:pt x="91" y="11"/>
                            </a:lnTo>
                            <a:lnTo>
                              <a:pt x="86" y="11"/>
                            </a:lnTo>
                            <a:lnTo>
                              <a:pt x="81" y="11"/>
                            </a:lnTo>
                            <a:lnTo>
                              <a:pt x="77" y="10"/>
                            </a:lnTo>
                            <a:lnTo>
                              <a:pt x="72" y="10"/>
                            </a:lnTo>
                            <a:lnTo>
                              <a:pt x="68" y="10"/>
                            </a:lnTo>
                            <a:lnTo>
                              <a:pt x="63" y="8"/>
                            </a:lnTo>
                            <a:lnTo>
                              <a:pt x="58" y="8"/>
                            </a:lnTo>
                            <a:lnTo>
                              <a:pt x="55" y="8"/>
                            </a:lnTo>
                            <a:lnTo>
                              <a:pt x="52" y="8"/>
                            </a:lnTo>
                            <a:lnTo>
                              <a:pt x="48" y="8"/>
                            </a:lnTo>
                            <a:lnTo>
                              <a:pt x="43" y="7"/>
                            </a:lnTo>
                            <a:lnTo>
                              <a:pt x="39" y="7"/>
                            </a:lnTo>
                            <a:lnTo>
                              <a:pt x="35" y="7"/>
                            </a:lnTo>
                            <a:lnTo>
                              <a:pt x="32" y="5"/>
                            </a:lnTo>
                            <a:lnTo>
                              <a:pt x="28" y="5"/>
                            </a:lnTo>
                            <a:lnTo>
                              <a:pt x="25" y="5"/>
                            </a:lnTo>
                            <a:lnTo>
                              <a:pt x="22" y="5"/>
                            </a:lnTo>
                            <a:lnTo>
                              <a:pt x="16" y="5"/>
                            </a:lnTo>
                            <a:lnTo>
                              <a:pt x="9" y="5"/>
                            </a:lnTo>
                            <a:lnTo>
                              <a:pt x="5" y="4"/>
                            </a:lnTo>
                            <a:lnTo>
                              <a:pt x="0" y="4"/>
                            </a:lnTo>
                            <a:lnTo>
                              <a:pt x="3" y="4"/>
                            </a:lnTo>
                            <a:lnTo>
                              <a:pt x="8" y="4"/>
                            </a:lnTo>
                            <a:lnTo>
                              <a:pt x="13" y="4"/>
                            </a:lnTo>
                            <a:lnTo>
                              <a:pt x="19" y="4"/>
                            </a:lnTo>
                            <a:lnTo>
                              <a:pt x="20" y="3"/>
                            </a:lnTo>
                            <a:lnTo>
                              <a:pt x="23" y="3"/>
                            </a:lnTo>
                            <a:lnTo>
                              <a:pt x="26" y="3"/>
                            </a:lnTo>
                            <a:lnTo>
                              <a:pt x="31" y="3"/>
                            </a:lnTo>
                            <a:lnTo>
                              <a:pt x="34" y="3"/>
                            </a:lnTo>
                            <a:lnTo>
                              <a:pt x="37" y="3"/>
                            </a:lnTo>
                            <a:lnTo>
                              <a:pt x="42" y="3"/>
                            </a:lnTo>
                            <a:lnTo>
                              <a:pt x="45" y="3"/>
                            </a:lnTo>
                            <a:lnTo>
                              <a:pt x="49" y="3"/>
                            </a:lnTo>
                            <a:lnTo>
                              <a:pt x="52" y="3"/>
                            </a:lnTo>
                            <a:lnTo>
                              <a:pt x="55" y="3"/>
                            </a:lnTo>
                            <a:lnTo>
                              <a:pt x="60" y="3"/>
                            </a:lnTo>
                            <a:lnTo>
                              <a:pt x="63" y="3"/>
                            </a:lnTo>
                            <a:lnTo>
                              <a:pt x="68" y="3"/>
                            </a:lnTo>
                            <a:lnTo>
                              <a:pt x="72" y="3"/>
                            </a:lnTo>
                            <a:lnTo>
                              <a:pt x="77" y="3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91" y="1"/>
                            </a:lnTo>
                            <a:lnTo>
                              <a:pt x="95" y="1"/>
                            </a:lnTo>
                            <a:lnTo>
                              <a:pt x="100" y="1"/>
                            </a:lnTo>
                            <a:lnTo>
                              <a:pt x="104" y="1"/>
                            </a:lnTo>
                            <a:lnTo>
                              <a:pt x="109" y="1"/>
                            </a:lnTo>
                            <a:lnTo>
                              <a:pt x="113" y="1"/>
                            </a:lnTo>
                            <a:lnTo>
                              <a:pt x="118" y="1"/>
                            </a:lnTo>
                            <a:lnTo>
                              <a:pt x="123" y="1"/>
                            </a:lnTo>
                            <a:lnTo>
                              <a:pt x="126" y="1"/>
                            </a:lnTo>
                            <a:lnTo>
                              <a:pt x="132" y="1"/>
                            </a:lnTo>
                            <a:lnTo>
                              <a:pt x="135" y="0"/>
                            </a:lnTo>
                            <a:lnTo>
                              <a:pt x="140" y="0"/>
                            </a:lnTo>
                            <a:lnTo>
                              <a:pt x="144" y="0"/>
                            </a:lnTo>
                            <a:lnTo>
                              <a:pt x="149" y="0"/>
                            </a:lnTo>
                            <a:lnTo>
                              <a:pt x="152" y="0"/>
                            </a:lnTo>
                            <a:lnTo>
                              <a:pt x="156" y="0"/>
                            </a:lnTo>
                            <a:lnTo>
                              <a:pt x="161" y="0"/>
                            </a:lnTo>
                            <a:lnTo>
                              <a:pt x="166" y="0"/>
                            </a:lnTo>
                            <a:lnTo>
                              <a:pt x="169" y="0"/>
                            </a:lnTo>
                            <a:lnTo>
                              <a:pt x="173" y="0"/>
                            </a:lnTo>
                            <a:lnTo>
                              <a:pt x="178" y="0"/>
                            </a:lnTo>
                            <a:lnTo>
                              <a:pt x="182" y="0"/>
                            </a:lnTo>
                            <a:lnTo>
                              <a:pt x="185" y="0"/>
                            </a:lnTo>
                            <a:lnTo>
                              <a:pt x="188" y="0"/>
                            </a:lnTo>
                            <a:lnTo>
                              <a:pt x="192" y="0"/>
                            </a:lnTo>
                            <a:lnTo>
                              <a:pt x="196" y="0"/>
                            </a:lnTo>
                            <a:lnTo>
                              <a:pt x="202" y="0"/>
                            </a:lnTo>
                            <a:lnTo>
                              <a:pt x="208" y="0"/>
                            </a:lnTo>
                            <a:lnTo>
                              <a:pt x="213" y="0"/>
                            </a:lnTo>
                            <a:lnTo>
                              <a:pt x="218" y="1"/>
                            </a:lnTo>
                            <a:lnTo>
                              <a:pt x="221" y="1"/>
                            </a:lnTo>
                            <a:lnTo>
                              <a:pt x="225" y="3"/>
                            </a:lnTo>
                            <a:lnTo>
                              <a:pt x="230" y="3"/>
                            </a:lnTo>
                            <a:lnTo>
                              <a:pt x="233" y="5"/>
                            </a:lnTo>
                            <a:lnTo>
                              <a:pt x="234" y="8"/>
                            </a:lnTo>
                            <a:lnTo>
                              <a:pt x="237" y="12"/>
                            </a:lnTo>
                            <a:lnTo>
                              <a:pt x="239" y="16"/>
                            </a:lnTo>
                            <a:lnTo>
                              <a:pt x="240" y="19"/>
                            </a:lnTo>
                            <a:lnTo>
                              <a:pt x="244" y="22"/>
                            </a:lnTo>
                            <a:lnTo>
                              <a:pt x="248" y="2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0" name="Freeform 180"/>
                      <p:cNvSpPr/>
                      <p:nvPr/>
                    </p:nvSpPr>
                    <p:spPr>
                      <a:xfrm>
                        <a:off x="2827800" y="2991240"/>
                        <a:ext cx="2880" cy="72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35" h="8">
                            <a:moveTo>
                              <a:pt x="8" y="1"/>
                            </a:moveTo>
                            <a:lnTo>
                              <a:pt x="0" y="8"/>
                            </a:lnTo>
                            <a:lnTo>
                              <a:pt x="3" y="7"/>
                            </a:lnTo>
                            <a:lnTo>
                              <a:pt x="6" y="6"/>
                            </a:lnTo>
                            <a:lnTo>
                              <a:pt x="9" y="6"/>
                            </a:lnTo>
                            <a:lnTo>
                              <a:pt x="12" y="6"/>
                            </a:lnTo>
                            <a:lnTo>
                              <a:pt x="18" y="6"/>
                            </a:lnTo>
                            <a:lnTo>
                              <a:pt x="23" y="6"/>
                            </a:lnTo>
                            <a:lnTo>
                              <a:pt x="28" y="6"/>
                            </a:lnTo>
                            <a:lnTo>
                              <a:pt x="32" y="6"/>
                            </a:lnTo>
                            <a:lnTo>
                              <a:pt x="35" y="4"/>
                            </a:lnTo>
                            <a:lnTo>
                              <a:pt x="34" y="3"/>
                            </a:lnTo>
                            <a:lnTo>
                              <a:pt x="31" y="3"/>
                            </a:lnTo>
                            <a:lnTo>
                              <a:pt x="26" y="1"/>
                            </a:ln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11" y="0"/>
                            </a:lnTo>
                            <a:lnTo>
                              <a:pt x="8" y="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1" name="Freeform 181"/>
                      <p:cNvSpPr/>
                      <p:nvPr/>
                    </p:nvSpPr>
                    <p:spPr>
                      <a:xfrm>
                        <a:off x="2826720" y="2951280"/>
                        <a:ext cx="23400" cy="1440"/>
                      </a:xfrm>
                      <a:custGeom>
                        <a:avLst/>
                        <a:gdLst>
                          <a:gd name="textAreaLeft" fmla="*/ 0 w 23400"/>
                          <a:gd name="textAreaRight" fmla="*/ 23760 w 23400"/>
                          <a:gd name="textAreaTop" fmla="*/ 0 h 1440"/>
                          <a:gd name="textAreaBottom" fmla="*/ 1800 h 1440"/>
                        </a:gdLst>
                        <a:ahLst/>
                        <a:rect l="textAreaLeft" t="textAreaTop" r="textAreaRight" b="textAreaBottom"/>
                        <a:pathLst>
                          <a:path w="264" h="14">
                            <a:moveTo>
                              <a:pt x="255" y="7"/>
                            </a:moveTo>
                            <a:lnTo>
                              <a:pt x="258" y="6"/>
                            </a:lnTo>
                            <a:lnTo>
                              <a:pt x="263" y="4"/>
                            </a:lnTo>
                            <a:lnTo>
                              <a:pt x="264" y="0"/>
                            </a:lnTo>
                            <a:lnTo>
                              <a:pt x="263" y="0"/>
                            </a:lnTo>
                            <a:lnTo>
                              <a:pt x="260" y="0"/>
                            </a:lnTo>
                            <a:lnTo>
                              <a:pt x="255" y="0"/>
                            </a:lnTo>
                            <a:lnTo>
                              <a:pt x="252" y="0"/>
                            </a:lnTo>
                            <a:lnTo>
                              <a:pt x="249" y="0"/>
                            </a:lnTo>
                            <a:lnTo>
                              <a:pt x="243" y="0"/>
                            </a:lnTo>
                            <a:lnTo>
                              <a:pt x="235" y="0"/>
                            </a:lnTo>
                            <a:lnTo>
                              <a:pt x="232" y="0"/>
                            </a:lnTo>
                            <a:lnTo>
                              <a:pt x="229" y="0"/>
                            </a:lnTo>
                            <a:lnTo>
                              <a:pt x="225" y="0"/>
                            </a:lnTo>
                            <a:lnTo>
                              <a:pt x="222" y="0"/>
                            </a:lnTo>
                            <a:lnTo>
                              <a:pt x="215" y="0"/>
                            </a:lnTo>
                            <a:lnTo>
                              <a:pt x="209" y="0"/>
                            </a:lnTo>
                            <a:lnTo>
                              <a:pt x="205" y="0"/>
                            </a:lnTo>
                            <a:lnTo>
                              <a:pt x="202" y="0"/>
                            </a:lnTo>
                            <a:lnTo>
                              <a:pt x="199" y="0"/>
                            </a:lnTo>
                            <a:lnTo>
                              <a:pt x="196" y="0"/>
                            </a:lnTo>
                            <a:lnTo>
                              <a:pt x="188" y="0"/>
                            </a:lnTo>
                            <a:lnTo>
                              <a:pt x="182" y="1"/>
                            </a:lnTo>
                            <a:lnTo>
                              <a:pt x="179" y="1"/>
                            </a:lnTo>
                            <a:lnTo>
                              <a:pt x="174" y="1"/>
                            </a:lnTo>
                            <a:lnTo>
                              <a:pt x="171" y="1"/>
                            </a:lnTo>
                            <a:lnTo>
                              <a:pt x="168" y="1"/>
                            </a:lnTo>
                            <a:lnTo>
                              <a:pt x="162" y="1"/>
                            </a:lnTo>
                            <a:lnTo>
                              <a:pt x="156" y="3"/>
                            </a:lnTo>
                            <a:lnTo>
                              <a:pt x="151" y="3"/>
                            </a:lnTo>
                            <a:lnTo>
                              <a:pt x="148" y="3"/>
                            </a:lnTo>
                            <a:lnTo>
                              <a:pt x="145" y="3"/>
                            </a:lnTo>
                            <a:lnTo>
                              <a:pt x="142" y="3"/>
                            </a:lnTo>
                            <a:lnTo>
                              <a:pt x="137" y="3"/>
                            </a:lnTo>
                            <a:lnTo>
                              <a:pt x="134" y="3"/>
                            </a:lnTo>
                            <a:lnTo>
                              <a:pt x="131" y="3"/>
                            </a:lnTo>
                            <a:lnTo>
                              <a:pt x="128" y="4"/>
                            </a:lnTo>
                            <a:lnTo>
                              <a:pt x="124" y="4"/>
                            </a:lnTo>
                            <a:lnTo>
                              <a:pt x="121" y="4"/>
                            </a:lnTo>
                            <a:lnTo>
                              <a:pt x="118" y="4"/>
                            </a:lnTo>
                            <a:lnTo>
                              <a:pt x="114" y="4"/>
                            </a:lnTo>
                            <a:lnTo>
                              <a:pt x="107" y="4"/>
                            </a:lnTo>
                            <a:lnTo>
                              <a:pt x="101" y="4"/>
                            </a:lnTo>
                            <a:lnTo>
                              <a:pt x="98" y="4"/>
                            </a:lnTo>
                            <a:lnTo>
                              <a:pt x="95" y="4"/>
                            </a:lnTo>
                            <a:lnTo>
                              <a:pt x="90" y="4"/>
                            </a:lnTo>
                            <a:lnTo>
                              <a:pt x="87" y="4"/>
                            </a:lnTo>
                            <a:lnTo>
                              <a:pt x="81" y="6"/>
                            </a:lnTo>
                            <a:lnTo>
                              <a:pt x="75" y="6"/>
                            </a:lnTo>
                            <a:lnTo>
                              <a:pt x="67" y="6"/>
                            </a:lnTo>
                            <a:lnTo>
                              <a:pt x="61" y="6"/>
                            </a:lnTo>
                            <a:lnTo>
                              <a:pt x="53" y="7"/>
                            </a:lnTo>
                            <a:lnTo>
                              <a:pt x="47" y="7"/>
                            </a:lnTo>
                            <a:lnTo>
                              <a:pt x="14" y="11"/>
                            </a:lnTo>
                            <a:lnTo>
                              <a:pt x="3" y="11"/>
                            </a:lnTo>
                            <a:lnTo>
                              <a:pt x="0" y="11"/>
                            </a:lnTo>
                            <a:lnTo>
                              <a:pt x="0" y="14"/>
                            </a:lnTo>
                            <a:lnTo>
                              <a:pt x="0" y="12"/>
                            </a:lnTo>
                            <a:lnTo>
                              <a:pt x="3" y="12"/>
                            </a:lnTo>
                            <a:lnTo>
                              <a:pt x="6" y="12"/>
                            </a:lnTo>
                            <a:lnTo>
                              <a:pt x="10" y="12"/>
                            </a:lnTo>
                            <a:lnTo>
                              <a:pt x="17" y="12"/>
                            </a:lnTo>
                            <a:lnTo>
                              <a:pt x="23" y="12"/>
                            </a:lnTo>
                            <a:lnTo>
                              <a:pt x="27" y="12"/>
                            </a:lnTo>
                            <a:lnTo>
                              <a:pt x="30" y="12"/>
                            </a:lnTo>
                            <a:lnTo>
                              <a:pt x="33" y="12"/>
                            </a:lnTo>
                            <a:lnTo>
                              <a:pt x="40" y="12"/>
                            </a:lnTo>
                            <a:lnTo>
                              <a:pt x="43" y="12"/>
                            </a:lnTo>
                            <a:lnTo>
                              <a:pt x="47" y="12"/>
                            </a:lnTo>
                            <a:lnTo>
                              <a:pt x="52" y="12"/>
                            </a:lnTo>
                            <a:lnTo>
                              <a:pt x="58" y="12"/>
                            </a:lnTo>
                            <a:lnTo>
                              <a:pt x="61" y="11"/>
                            </a:lnTo>
                            <a:lnTo>
                              <a:pt x="67" y="11"/>
                            </a:lnTo>
                            <a:lnTo>
                              <a:pt x="72" y="11"/>
                            </a:lnTo>
                            <a:lnTo>
                              <a:pt x="78" y="11"/>
                            </a:lnTo>
                            <a:lnTo>
                              <a:pt x="82" y="11"/>
                            </a:lnTo>
                            <a:lnTo>
                              <a:pt x="88" y="11"/>
                            </a:lnTo>
                            <a:lnTo>
                              <a:pt x="95" y="11"/>
                            </a:lnTo>
                            <a:lnTo>
                              <a:pt x="99" y="11"/>
                            </a:lnTo>
                            <a:lnTo>
                              <a:pt x="105" y="11"/>
                            </a:lnTo>
                            <a:lnTo>
                              <a:pt x="111" y="11"/>
                            </a:lnTo>
                            <a:lnTo>
                              <a:pt x="118" y="11"/>
                            </a:lnTo>
                            <a:lnTo>
                              <a:pt x="124" y="11"/>
                            </a:lnTo>
                            <a:lnTo>
                              <a:pt x="130" y="10"/>
                            </a:lnTo>
                            <a:lnTo>
                              <a:pt x="134" y="10"/>
                            </a:lnTo>
                            <a:lnTo>
                              <a:pt x="140" y="10"/>
                            </a:lnTo>
                            <a:lnTo>
                              <a:pt x="147" y="10"/>
                            </a:lnTo>
                            <a:lnTo>
                              <a:pt x="151" y="10"/>
                            </a:lnTo>
                            <a:lnTo>
                              <a:pt x="157" y="10"/>
                            </a:lnTo>
                            <a:lnTo>
                              <a:pt x="163" y="10"/>
                            </a:lnTo>
                            <a:lnTo>
                              <a:pt x="168" y="10"/>
                            </a:lnTo>
                            <a:lnTo>
                              <a:pt x="174" y="10"/>
                            </a:lnTo>
                            <a:lnTo>
                              <a:pt x="179" y="10"/>
                            </a:lnTo>
                            <a:lnTo>
                              <a:pt x="185" y="8"/>
                            </a:lnTo>
                            <a:lnTo>
                              <a:pt x="189" y="8"/>
                            </a:lnTo>
                            <a:lnTo>
                              <a:pt x="194" y="8"/>
                            </a:lnTo>
                            <a:lnTo>
                              <a:pt x="200" y="8"/>
                            </a:lnTo>
                            <a:lnTo>
                              <a:pt x="205" y="8"/>
                            </a:lnTo>
                            <a:lnTo>
                              <a:pt x="209" y="8"/>
                            </a:lnTo>
                            <a:lnTo>
                              <a:pt x="214" y="8"/>
                            </a:lnTo>
                            <a:lnTo>
                              <a:pt x="218" y="8"/>
                            </a:lnTo>
                            <a:lnTo>
                              <a:pt x="222" y="8"/>
                            </a:lnTo>
                            <a:lnTo>
                              <a:pt x="226" y="8"/>
                            </a:lnTo>
                            <a:lnTo>
                              <a:pt x="229" y="7"/>
                            </a:lnTo>
                            <a:lnTo>
                              <a:pt x="232" y="7"/>
                            </a:lnTo>
                            <a:lnTo>
                              <a:pt x="235" y="7"/>
                            </a:lnTo>
                            <a:lnTo>
                              <a:pt x="240" y="7"/>
                            </a:lnTo>
                            <a:lnTo>
                              <a:pt x="245" y="7"/>
                            </a:lnTo>
                            <a:lnTo>
                              <a:pt x="249" y="7"/>
                            </a:lnTo>
                            <a:lnTo>
                              <a:pt x="254" y="7"/>
                            </a:lnTo>
                            <a:lnTo>
                              <a:pt x="255" y="7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cxnSp>
                  <p:nvCxnSpPr>
                    <p:cNvPr id="852" name="AutoShape 182"/>
                    <p:cNvCxnSpPr/>
                    <p:nvPr/>
                  </p:nvCxnSpPr>
                  <p:spPr>
                    <a:xfrm>
                      <a:off x="3150360" y="3021120"/>
                      <a:ext cx="108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grpSp>
                  <p:nvGrpSpPr>
                    <p:cNvPr id="853" name="Group 183"/>
                    <p:cNvGrpSpPr/>
                    <p:nvPr/>
                  </p:nvGrpSpPr>
                  <p:grpSpPr>
                    <a:xfrm>
                      <a:off x="3080520" y="2851560"/>
                      <a:ext cx="169200" cy="150840"/>
                      <a:chOff x="3080520" y="2851560"/>
                      <a:chExt cx="169200" cy="150840"/>
                    </a:xfrm>
                  </p:grpSpPr>
                  <p:sp>
                    <p:nvSpPr>
                      <p:cNvPr id="854" name="Freeform 184"/>
                      <p:cNvSpPr/>
                      <p:nvPr/>
                    </p:nvSpPr>
                    <p:spPr>
                      <a:xfrm>
                        <a:off x="3119400" y="2890800"/>
                        <a:ext cx="54360" cy="3240"/>
                      </a:xfrm>
                      <a:custGeom>
                        <a:avLst/>
                        <a:gdLst>
                          <a:gd name="textAreaLeft" fmla="*/ 0 w 54360"/>
                          <a:gd name="textAreaRight" fmla="*/ 54720 w 5436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601" h="34">
                            <a:moveTo>
                              <a:pt x="9" y="0"/>
                            </a:moveTo>
                            <a:lnTo>
                              <a:pt x="19" y="0"/>
                            </a:lnTo>
                            <a:lnTo>
                              <a:pt x="26" y="0"/>
                            </a:lnTo>
                            <a:lnTo>
                              <a:pt x="35" y="0"/>
                            </a:lnTo>
                            <a:lnTo>
                              <a:pt x="45" y="1"/>
                            </a:lnTo>
                            <a:lnTo>
                              <a:pt x="54" y="1"/>
                            </a:lnTo>
                            <a:lnTo>
                              <a:pt x="63" y="1"/>
                            </a:lnTo>
                            <a:lnTo>
                              <a:pt x="71" y="3"/>
                            </a:lnTo>
                            <a:lnTo>
                              <a:pt x="81" y="3"/>
                            </a:lnTo>
                            <a:lnTo>
                              <a:pt x="89" y="3"/>
                            </a:lnTo>
                            <a:lnTo>
                              <a:pt x="98" y="3"/>
                            </a:lnTo>
                            <a:lnTo>
                              <a:pt x="106" y="4"/>
                            </a:lnTo>
                            <a:lnTo>
                              <a:pt x="117" y="4"/>
                            </a:lnTo>
                            <a:lnTo>
                              <a:pt x="124" y="4"/>
                            </a:lnTo>
                            <a:lnTo>
                              <a:pt x="133" y="4"/>
                            </a:lnTo>
                            <a:lnTo>
                              <a:pt x="143" y="4"/>
                            </a:lnTo>
                            <a:lnTo>
                              <a:pt x="152" y="5"/>
                            </a:lnTo>
                            <a:lnTo>
                              <a:pt x="159" y="5"/>
                            </a:lnTo>
                            <a:lnTo>
                              <a:pt x="169" y="5"/>
                            </a:lnTo>
                            <a:lnTo>
                              <a:pt x="178" y="5"/>
                            </a:lnTo>
                            <a:lnTo>
                              <a:pt x="187" y="5"/>
                            </a:lnTo>
                            <a:lnTo>
                              <a:pt x="195" y="5"/>
                            </a:lnTo>
                            <a:lnTo>
                              <a:pt x="204" y="5"/>
                            </a:lnTo>
                            <a:lnTo>
                              <a:pt x="213" y="5"/>
                            </a:lnTo>
                            <a:lnTo>
                              <a:pt x="222" y="7"/>
                            </a:lnTo>
                            <a:lnTo>
                              <a:pt x="230" y="7"/>
                            </a:lnTo>
                            <a:lnTo>
                              <a:pt x="239" y="7"/>
                            </a:lnTo>
                            <a:lnTo>
                              <a:pt x="248" y="7"/>
                            </a:lnTo>
                            <a:lnTo>
                              <a:pt x="257" y="7"/>
                            </a:lnTo>
                            <a:lnTo>
                              <a:pt x="266" y="7"/>
                            </a:lnTo>
                            <a:lnTo>
                              <a:pt x="274" y="7"/>
                            </a:lnTo>
                            <a:lnTo>
                              <a:pt x="283" y="7"/>
                            </a:lnTo>
                            <a:lnTo>
                              <a:pt x="292" y="7"/>
                            </a:lnTo>
                            <a:lnTo>
                              <a:pt x="302" y="7"/>
                            </a:lnTo>
                            <a:lnTo>
                              <a:pt x="309" y="7"/>
                            </a:lnTo>
                            <a:lnTo>
                              <a:pt x="318" y="7"/>
                            </a:lnTo>
                            <a:lnTo>
                              <a:pt x="328" y="7"/>
                            </a:lnTo>
                            <a:lnTo>
                              <a:pt x="335" y="7"/>
                            </a:lnTo>
                            <a:lnTo>
                              <a:pt x="344" y="7"/>
                            </a:lnTo>
                            <a:lnTo>
                              <a:pt x="354" y="7"/>
                            </a:lnTo>
                            <a:lnTo>
                              <a:pt x="363" y="7"/>
                            </a:lnTo>
                            <a:lnTo>
                              <a:pt x="370" y="7"/>
                            </a:lnTo>
                            <a:lnTo>
                              <a:pt x="380" y="7"/>
                            </a:lnTo>
                            <a:lnTo>
                              <a:pt x="389" y="7"/>
                            </a:lnTo>
                            <a:lnTo>
                              <a:pt x="396" y="7"/>
                            </a:lnTo>
                            <a:lnTo>
                              <a:pt x="406" y="7"/>
                            </a:lnTo>
                            <a:lnTo>
                              <a:pt x="415" y="7"/>
                            </a:lnTo>
                            <a:lnTo>
                              <a:pt x="424" y="7"/>
                            </a:lnTo>
                            <a:lnTo>
                              <a:pt x="433" y="8"/>
                            </a:lnTo>
                            <a:lnTo>
                              <a:pt x="441" y="7"/>
                            </a:lnTo>
                            <a:lnTo>
                              <a:pt x="450" y="7"/>
                            </a:lnTo>
                            <a:lnTo>
                              <a:pt x="459" y="7"/>
                            </a:lnTo>
                            <a:lnTo>
                              <a:pt x="468" y="7"/>
                            </a:lnTo>
                            <a:lnTo>
                              <a:pt x="476" y="7"/>
                            </a:lnTo>
                            <a:lnTo>
                              <a:pt x="485" y="7"/>
                            </a:lnTo>
                            <a:lnTo>
                              <a:pt x="493" y="7"/>
                            </a:lnTo>
                            <a:lnTo>
                              <a:pt x="504" y="7"/>
                            </a:lnTo>
                            <a:lnTo>
                              <a:pt x="511" y="7"/>
                            </a:lnTo>
                            <a:lnTo>
                              <a:pt x="520" y="7"/>
                            </a:lnTo>
                            <a:lnTo>
                              <a:pt x="528" y="7"/>
                            </a:lnTo>
                            <a:lnTo>
                              <a:pt x="537" y="7"/>
                            </a:lnTo>
                            <a:lnTo>
                              <a:pt x="546" y="7"/>
                            </a:lnTo>
                            <a:lnTo>
                              <a:pt x="556" y="7"/>
                            </a:lnTo>
                            <a:lnTo>
                              <a:pt x="565" y="7"/>
                            </a:lnTo>
                            <a:lnTo>
                              <a:pt x="574" y="7"/>
                            </a:lnTo>
                            <a:lnTo>
                              <a:pt x="577" y="7"/>
                            </a:lnTo>
                            <a:lnTo>
                              <a:pt x="580" y="8"/>
                            </a:lnTo>
                            <a:lnTo>
                              <a:pt x="583" y="9"/>
                            </a:lnTo>
                            <a:lnTo>
                              <a:pt x="588" y="9"/>
                            </a:lnTo>
                            <a:lnTo>
                              <a:pt x="591" y="11"/>
                            </a:lnTo>
                            <a:lnTo>
                              <a:pt x="594" y="12"/>
                            </a:lnTo>
                            <a:lnTo>
                              <a:pt x="597" y="12"/>
                            </a:lnTo>
                            <a:lnTo>
                              <a:pt x="601" y="14"/>
                            </a:lnTo>
                            <a:lnTo>
                              <a:pt x="600" y="18"/>
                            </a:lnTo>
                            <a:lnTo>
                              <a:pt x="597" y="23"/>
                            </a:lnTo>
                            <a:lnTo>
                              <a:pt x="595" y="27"/>
                            </a:lnTo>
                            <a:lnTo>
                              <a:pt x="594" y="31"/>
                            </a:lnTo>
                            <a:lnTo>
                              <a:pt x="585" y="31"/>
                            </a:lnTo>
                            <a:lnTo>
                              <a:pt x="579" y="31"/>
                            </a:lnTo>
                            <a:lnTo>
                              <a:pt x="569" y="31"/>
                            </a:lnTo>
                            <a:lnTo>
                              <a:pt x="562" y="31"/>
                            </a:lnTo>
                            <a:lnTo>
                              <a:pt x="554" y="31"/>
                            </a:lnTo>
                            <a:lnTo>
                              <a:pt x="546" y="31"/>
                            </a:lnTo>
                            <a:lnTo>
                              <a:pt x="539" y="31"/>
                            </a:lnTo>
                            <a:lnTo>
                              <a:pt x="531" y="33"/>
                            </a:lnTo>
                            <a:lnTo>
                              <a:pt x="523" y="33"/>
                            </a:lnTo>
                            <a:lnTo>
                              <a:pt x="516" y="33"/>
                            </a:lnTo>
                            <a:lnTo>
                              <a:pt x="508" y="33"/>
                            </a:lnTo>
                            <a:lnTo>
                              <a:pt x="501" y="33"/>
                            </a:lnTo>
                            <a:lnTo>
                              <a:pt x="493" y="33"/>
                            </a:lnTo>
                            <a:lnTo>
                              <a:pt x="485" y="33"/>
                            </a:lnTo>
                            <a:lnTo>
                              <a:pt x="478" y="33"/>
                            </a:lnTo>
                            <a:lnTo>
                              <a:pt x="470" y="33"/>
                            </a:lnTo>
                            <a:lnTo>
                              <a:pt x="462" y="33"/>
                            </a:lnTo>
                            <a:lnTo>
                              <a:pt x="455" y="33"/>
                            </a:lnTo>
                            <a:lnTo>
                              <a:pt x="447" y="33"/>
                            </a:lnTo>
                            <a:lnTo>
                              <a:pt x="439" y="33"/>
                            </a:lnTo>
                            <a:lnTo>
                              <a:pt x="432" y="33"/>
                            </a:lnTo>
                            <a:lnTo>
                              <a:pt x="424" y="33"/>
                            </a:lnTo>
                            <a:lnTo>
                              <a:pt x="416" y="33"/>
                            </a:lnTo>
                            <a:lnTo>
                              <a:pt x="409" y="33"/>
                            </a:lnTo>
                            <a:lnTo>
                              <a:pt x="401" y="33"/>
                            </a:lnTo>
                            <a:lnTo>
                              <a:pt x="393" y="33"/>
                            </a:lnTo>
                            <a:lnTo>
                              <a:pt x="386" y="33"/>
                            </a:lnTo>
                            <a:lnTo>
                              <a:pt x="378" y="33"/>
                            </a:lnTo>
                            <a:lnTo>
                              <a:pt x="370" y="33"/>
                            </a:lnTo>
                            <a:lnTo>
                              <a:pt x="363" y="33"/>
                            </a:lnTo>
                            <a:lnTo>
                              <a:pt x="357" y="33"/>
                            </a:lnTo>
                            <a:lnTo>
                              <a:pt x="349" y="34"/>
                            </a:lnTo>
                            <a:lnTo>
                              <a:pt x="340" y="33"/>
                            </a:lnTo>
                            <a:lnTo>
                              <a:pt x="332" y="33"/>
                            </a:lnTo>
                            <a:lnTo>
                              <a:pt x="325" y="33"/>
                            </a:lnTo>
                            <a:lnTo>
                              <a:pt x="318" y="33"/>
                            </a:lnTo>
                            <a:lnTo>
                              <a:pt x="309" y="33"/>
                            </a:lnTo>
                            <a:lnTo>
                              <a:pt x="302" y="33"/>
                            </a:lnTo>
                            <a:lnTo>
                              <a:pt x="294" y="33"/>
                            </a:lnTo>
                            <a:lnTo>
                              <a:pt x="288" y="33"/>
                            </a:lnTo>
                            <a:lnTo>
                              <a:pt x="279" y="31"/>
                            </a:lnTo>
                            <a:lnTo>
                              <a:pt x="271" y="31"/>
                            </a:lnTo>
                            <a:lnTo>
                              <a:pt x="263" y="31"/>
                            </a:lnTo>
                            <a:lnTo>
                              <a:pt x="257" y="31"/>
                            </a:lnTo>
                            <a:lnTo>
                              <a:pt x="248" y="31"/>
                            </a:lnTo>
                            <a:lnTo>
                              <a:pt x="240" y="31"/>
                            </a:lnTo>
                            <a:lnTo>
                              <a:pt x="233" y="31"/>
                            </a:lnTo>
                            <a:lnTo>
                              <a:pt x="225" y="31"/>
                            </a:lnTo>
                            <a:lnTo>
                              <a:pt x="218" y="31"/>
                            </a:lnTo>
                            <a:lnTo>
                              <a:pt x="210" y="31"/>
                            </a:lnTo>
                            <a:lnTo>
                              <a:pt x="202" y="31"/>
                            </a:lnTo>
                            <a:lnTo>
                              <a:pt x="195" y="31"/>
                            </a:lnTo>
                            <a:lnTo>
                              <a:pt x="187" y="30"/>
                            </a:lnTo>
                            <a:lnTo>
                              <a:pt x="179" y="30"/>
                            </a:lnTo>
                            <a:lnTo>
                              <a:pt x="172" y="30"/>
                            </a:lnTo>
                            <a:lnTo>
                              <a:pt x="164" y="30"/>
                            </a:lnTo>
                            <a:lnTo>
                              <a:pt x="156" y="30"/>
                            </a:lnTo>
                            <a:lnTo>
                              <a:pt x="149" y="30"/>
                            </a:lnTo>
                            <a:lnTo>
                              <a:pt x="141" y="30"/>
                            </a:lnTo>
                            <a:lnTo>
                              <a:pt x="133" y="30"/>
                            </a:lnTo>
                            <a:lnTo>
                              <a:pt x="126" y="29"/>
                            </a:lnTo>
                            <a:lnTo>
                              <a:pt x="120" y="29"/>
                            </a:lnTo>
                            <a:lnTo>
                              <a:pt x="112" y="29"/>
                            </a:lnTo>
                            <a:lnTo>
                              <a:pt x="104" y="29"/>
                            </a:lnTo>
                            <a:lnTo>
                              <a:pt x="100" y="27"/>
                            </a:lnTo>
                            <a:lnTo>
                              <a:pt x="97" y="27"/>
                            </a:lnTo>
                            <a:lnTo>
                              <a:pt x="92" y="26"/>
                            </a:lnTo>
                            <a:lnTo>
                              <a:pt x="89" y="26"/>
                            </a:lnTo>
                            <a:lnTo>
                              <a:pt x="83" y="26"/>
                            </a:lnTo>
                            <a:lnTo>
                              <a:pt x="77" y="26"/>
                            </a:lnTo>
                            <a:lnTo>
                              <a:pt x="72" y="26"/>
                            </a:lnTo>
                            <a:lnTo>
                              <a:pt x="69" y="26"/>
                            </a:lnTo>
                            <a:lnTo>
                              <a:pt x="65" y="26"/>
                            </a:lnTo>
                            <a:lnTo>
                              <a:pt x="61" y="27"/>
                            </a:lnTo>
                            <a:lnTo>
                              <a:pt x="55" y="27"/>
                            </a:lnTo>
                            <a:lnTo>
                              <a:pt x="49" y="29"/>
                            </a:lnTo>
                            <a:lnTo>
                              <a:pt x="45" y="29"/>
                            </a:lnTo>
                            <a:lnTo>
                              <a:pt x="42" y="29"/>
                            </a:lnTo>
                            <a:lnTo>
                              <a:pt x="39" y="29"/>
                            </a:lnTo>
                            <a:lnTo>
                              <a:pt x="35" y="29"/>
                            </a:lnTo>
                            <a:lnTo>
                              <a:pt x="28" y="29"/>
                            </a:lnTo>
                            <a:lnTo>
                              <a:pt x="23" y="27"/>
                            </a:lnTo>
                            <a:lnTo>
                              <a:pt x="17" y="25"/>
                            </a:lnTo>
                            <a:lnTo>
                              <a:pt x="11" y="23"/>
                            </a:lnTo>
                            <a:lnTo>
                              <a:pt x="5" y="19"/>
                            </a:lnTo>
                            <a:lnTo>
                              <a:pt x="0" y="16"/>
                            </a:lnTo>
                            <a:lnTo>
                              <a:pt x="3" y="11"/>
                            </a:lnTo>
                            <a:lnTo>
                              <a:pt x="6" y="7"/>
                            </a:lnTo>
                            <a:lnTo>
                              <a:pt x="9" y="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Freeform 185"/>
                      <p:cNvSpPr/>
                      <p:nvPr/>
                    </p:nvSpPr>
                    <p:spPr>
                      <a:xfrm>
                        <a:off x="3169800" y="2869920"/>
                        <a:ext cx="22320" cy="194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320 w 2232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249" h="195">
                            <a:moveTo>
                              <a:pt x="5" y="0"/>
                            </a:moveTo>
                            <a:lnTo>
                              <a:pt x="8" y="2"/>
                            </a:ln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20" y="9"/>
                            </a:lnTo>
                            <a:lnTo>
                              <a:pt x="25" y="10"/>
                            </a:lnTo>
                            <a:lnTo>
                              <a:pt x="28" y="13"/>
                            </a:lnTo>
                            <a:lnTo>
                              <a:pt x="32" y="14"/>
                            </a:lnTo>
                            <a:lnTo>
                              <a:pt x="37" y="17"/>
                            </a:lnTo>
                            <a:lnTo>
                              <a:pt x="40" y="20"/>
                            </a:lnTo>
                            <a:lnTo>
                              <a:pt x="44" y="21"/>
                            </a:lnTo>
                            <a:lnTo>
                              <a:pt x="47" y="24"/>
                            </a:lnTo>
                            <a:lnTo>
                              <a:pt x="52" y="26"/>
                            </a:lnTo>
                            <a:lnTo>
                              <a:pt x="57" y="28"/>
                            </a:lnTo>
                            <a:lnTo>
                              <a:pt x="60" y="32"/>
                            </a:lnTo>
                            <a:lnTo>
                              <a:pt x="64" y="33"/>
                            </a:lnTo>
                            <a:lnTo>
                              <a:pt x="69" y="36"/>
                            </a:lnTo>
                            <a:lnTo>
                              <a:pt x="72" y="39"/>
                            </a:lnTo>
                            <a:lnTo>
                              <a:pt x="77" y="41"/>
                            </a:lnTo>
                            <a:lnTo>
                              <a:pt x="80" y="44"/>
                            </a:lnTo>
                            <a:lnTo>
                              <a:pt x="84" y="47"/>
                            </a:lnTo>
                            <a:lnTo>
                              <a:pt x="87" y="48"/>
                            </a:lnTo>
                            <a:lnTo>
                              <a:pt x="92" y="51"/>
                            </a:lnTo>
                            <a:lnTo>
                              <a:pt x="95" y="54"/>
                            </a:lnTo>
                            <a:lnTo>
                              <a:pt x="99" y="57"/>
                            </a:lnTo>
                            <a:lnTo>
                              <a:pt x="104" y="59"/>
                            </a:lnTo>
                            <a:lnTo>
                              <a:pt x="107" y="62"/>
                            </a:lnTo>
                            <a:lnTo>
                              <a:pt x="110" y="65"/>
                            </a:lnTo>
                            <a:lnTo>
                              <a:pt x="115" y="68"/>
                            </a:lnTo>
                            <a:lnTo>
                              <a:pt x="118" y="70"/>
                            </a:lnTo>
                            <a:lnTo>
                              <a:pt x="122" y="73"/>
                            </a:lnTo>
                            <a:lnTo>
                              <a:pt x="125" y="76"/>
                            </a:lnTo>
                            <a:lnTo>
                              <a:pt x="130" y="80"/>
                            </a:lnTo>
                            <a:lnTo>
                              <a:pt x="135" y="81"/>
                            </a:lnTo>
                            <a:lnTo>
                              <a:pt x="138" y="84"/>
                            </a:lnTo>
                            <a:lnTo>
                              <a:pt x="141" y="88"/>
                            </a:lnTo>
                            <a:lnTo>
                              <a:pt x="145" y="91"/>
                            </a:lnTo>
                            <a:lnTo>
                              <a:pt x="148" y="94"/>
                            </a:lnTo>
                            <a:lnTo>
                              <a:pt x="153" y="96"/>
                            </a:lnTo>
                            <a:lnTo>
                              <a:pt x="156" y="99"/>
                            </a:lnTo>
                            <a:lnTo>
                              <a:pt x="161" y="103"/>
                            </a:lnTo>
                            <a:lnTo>
                              <a:pt x="164" y="106"/>
                            </a:lnTo>
                            <a:lnTo>
                              <a:pt x="168" y="109"/>
                            </a:lnTo>
                            <a:lnTo>
                              <a:pt x="171" y="111"/>
                            </a:lnTo>
                            <a:lnTo>
                              <a:pt x="176" y="114"/>
                            </a:lnTo>
                            <a:lnTo>
                              <a:pt x="179" y="117"/>
                            </a:lnTo>
                            <a:lnTo>
                              <a:pt x="184" y="120"/>
                            </a:lnTo>
                            <a:lnTo>
                              <a:pt x="187" y="124"/>
                            </a:lnTo>
                            <a:lnTo>
                              <a:pt x="190" y="127"/>
                            </a:lnTo>
                            <a:lnTo>
                              <a:pt x="193" y="129"/>
                            </a:lnTo>
                            <a:lnTo>
                              <a:pt x="197" y="132"/>
                            </a:lnTo>
                            <a:lnTo>
                              <a:pt x="200" y="135"/>
                            </a:lnTo>
                            <a:lnTo>
                              <a:pt x="205" y="139"/>
                            </a:lnTo>
                            <a:lnTo>
                              <a:pt x="208" y="142"/>
                            </a:lnTo>
                            <a:lnTo>
                              <a:pt x="213" y="144"/>
                            </a:lnTo>
                            <a:lnTo>
                              <a:pt x="216" y="149"/>
                            </a:lnTo>
                            <a:lnTo>
                              <a:pt x="220" y="151"/>
                            </a:lnTo>
                            <a:lnTo>
                              <a:pt x="223" y="154"/>
                            </a:lnTo>
                            <a:lnTo>
                              <a:pt x="226" y="158"/>
                            </a:lnTo>
                            <a:lnTo>
                              <a:pt x="231" y="161"/>
                            </a:lnTo>
                            <a:lnTo>
                              <a:pt x="234" y="164"/>
                            </a:lnTo>
                            <a:lnTo>
                              <a:pt x="239" y="168"/>
                            </a:lnTo>
                            <a:lnTo>
                              <a:pt x="242" y="171"/>
                            </a:lnTo>
                            <a:lnTo>
                              <a:pt x="246" y="173"/>
                            </a:lnTo>
                            <a:lnTo>
                              <a:pt x="249" y="177"/>
                            </a:lnTo>
                            <a:lnTo>
                              <a:pt x="246" y="180"/>
                            </a:lnTo>
                            <a:lnTo>
                              <a:pt x="245" y="186"/>
                            </a:lnTo>
                            <a:lnTo>
                              <a:pt x="240" y="190"/>
                            </a:lnTo>
                            <a:lnTo>
                              <a:pt x="239" y="195"/>
                            </a:lnTo>
                            <a:lnTo>
                              <a:pt x="234" y="192"/>
                            </a:lnTo>
                            <a:lnTo>
                              <a:pt x="231" y="191"/>
                            </a:lnTo>
                            <a:lnTo>
                              <a:pt x="226" y="188"/>
                            </a:lnTo>
                            <a:lnTo>
                              <a:pt x="222" y="187"/>
                            </a:lnTo>
                            <a:lnTo>
                              <a:pt x="219" y="184"/>
                            </a:lnTo>
                            <a:lnTo>
                              <a:pt x="214" y="183"/>
                            </a:lnTo>
                            <a:lnTo>
                              <a:pt x="211" y="180"/>
                            </a:lnTo>
                            <a:lnTo>
                              <a:pt x="207" y="177"/>
                            </a:lnTo>
                            <a:lnTo>
                              <a:pt x="203" y="175"/>
                            </a:lnTo>
                            <a:lnTo>
                              <a:pt x="200" y="173"/>
                            </a:lnTo>
                            <a:lnTo>
                              <a:pt x="196" y="171"/>
                            </a:lnTo>
                            <a:lnTo>
                              <a:pt x="193" y="168"/>
                            </a:lnTo>
                            <a:lnTo>
                              <a:pt x="188" y="165"/>
                            </a:lnTo>
                            <a:lnTo>
                              <a:pt x="185" y="162"/>
                            </a:lnTo>
                            <a:lnTo>
                              <a:pt x="181" y="160"/>
                            </a:lnTo>
                            <a:lnTo>
                              <a:pt x="177" y="158"/>
                            </a:lnTo>
                            <a:lnTo>
                              <a:pt x="174" y="154"/>
                            </a:lnTo>
                            <a:lnTo>
                              <a:pt x="170" y="151"/>
                            </a:lnTo>
                            <a:lnTo>
                              <a:pt x="167" y="149"/>
                            </a:lnTo>
                            <a:lnTo>
                              <a:pt x="162" y="146"/>
                            </a:lnTo>
                            <a:lnTo>
                              <a:pt x="159" y="143"/>
                            </a:lnTo>
                            <a:lnTo>
                              <a:pt x="156" y="140"/>
                            </a:lnTo>
                            <a:lnTo>
                              <a:pt x="151" y="138"/>
                            </a:lnTo>
                            <a:lnTo>
                              <a:pt x="148" y="135"/>
                            </a:lnTo>
                            <a:lnTo>
                              <a:pt x="145" y="131"/>
                            </a:lnTo>
                            <a:lnTo>
                              <a:pt x="141" y="128"/>
                            </a:lnTo>
                            <a:lnTo>
                              <a:pt x="138" y="125"/>
                            </a:lnTo>
                            <a:lnTo>
                              <a:pt x="135" y="124"/>
                            </a:lnTo>
                            <a:lnTo>
                              <a:pt x="132" y="120"/>
                            </a:lnTo>
                            <a:lnTo>
                              <a:pt x="127" y="117"/>
                            </a:lnTo>
                            <a:lnTo>
                              <a:pt x="124" y="114"/>
                            </a:lnTo>
                            <a:lnTo>
                              <a:pt x="121" y="113"/>
                            </a:lnTo>
                            <a:lnTo>
                              <a:pt x="118" y="109"/>
                            </a:lnTo>
                            <a:lnTo>
                              <a:pt x="113" y="106"/>
                            </a:lnTo>
                            <a:lnTo>
                              <a:pt x="110" y="103"/>
                            </a:lnTo>
                            <a:lnTo>
                              <a:pt x="107" y="101"/>
                            </a:lnTo>
                            <a:lnTo>
                              <a:pt x="104" y="96"/>
                            </a:lnTo>
                            <a:lnTo>
                              <a:pt x="99" y="94"/>
                            </a:lnTo>
                            <a:lnTo>
                              <a:pt x="96" y="91"/>
                            </a:lnTo>
                            <a:lnTo>
                              <a:pt x="93" y="88"/>
                            </a:lnTo>
                            <a:lnTo>
                              <a:pt x="89" y="85"/>
                            </a:lnTo>
                            <a:lnTo>
                              <a:pt x="86" y="83"/>
                            </a:lnTo>
                            <a:lnTo>
                              <a:pt x="81" y="80"/>
                            </a:lnTo>
                            <a:lnTo>
                              <a:pt x="78" y="77"/>
                            </a:lnTo>
                            <a:lnTo>
                              <a:pt x="75" y="74"/>
                            </a:lnTo>
                            <a:lnTo>
                              <a:pt x="72" y="72"/>
                            </a:lnTo>
                            <a:lnTo>
                              <a:pt x="67" y="69"/>
                            </a:lnTo>
                            <a:lnTo>
                              <a:pt x="64" y="68"/>
                            </a:lnTo>
                            <a:lnTo>
                              <a:pt x="61" y="63"/>
                            </a:lnTo>
                            <a:lnTo>
                              <a:pt x="57" y="62"/>
                            </a:lnTo>
                            <a:lnTo>
                              <a:pt x="54" y="59"/>
                            </a:lnTo>
                            <a:lnTo>
                              <a:pt x="49" y="57"/>
                            </a:lnTo>
                            <a:lnTo>
                              <a:pt x="46" y="54"/>
                            </a:lnTo>
                            <a:lnTo>
                              <a:pt x="43" y="52"/>
                            </a:lnTo>
                            <a:lnTo>
                              <a:pt x="38" y="50"/>
                            </a:lnTo>
                            <a:lnTo>
                              <a:pt x="35" y="47"/>
                            </a:lnTo>
                            <a:lnTo>
                              <a:pt x="31" y="46"/>
                            </a:lnTo>
                            <a:lnTo>
                              <a:pt x="28" y="43"/>
                            </a:lnTo>
                            <a:lnTo>
                              <a:pt x="23" y="40"/>
                            </a:lnTo>
                            <a:lnTo>
                              <a:pt x="20" y="39"/>
                            </a:lnTo>
                            <a:lnTo>
                              <a:pt x="15" y="37"/>
                            </a:lnTo>
                            <a:lnTo>
                              <a:pt x="12" y="36"/>
                            </a:lnTo>
                            <a:lnTo>
                              <a:pt x="8" y="35"/>
                            </a:lnTo>
                            <a:lnTo>
                              <a:pt x="5" y="32"/>
                            </a:lnTo>
                            <a:lnTo>
                              <a:pt x="3" y="28"/>
                            </a:lnTo>
                            <a:lnTo>
                              <a:pt x="2" y="25"/>
                            </a:lnTo>
                            <a:lnTo>
                              <a:pt x="0" y="20"/>
                            </a:lnTo>
                            <a:lnTo>
                              <a:pt x="0" y="15"/>
                            </a:lnTo>
                            <a:lnTo>
                              <a:pt x="0" y="10"/>
                            </a:lnTo>
                            <a:lnTo>
                              <a:pt x="2" y="6"/>
                            </a:lnTo>
                            <a:lnTo>
                              <a:pt x="3" y="2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Freeform 186"/>
                      <p:cNvSpPr/>
                      <p:nvPr/>
                    </p:nvSpPr>
                    <p:spPr>
                      <a:xfrm>
                        <a:off x="3172320" y="2900880"/>
                        <a:ext cx="4320" cy="4752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47520"/>
                          <a:gd name="textAreaBottom" fmla="*/ 47880 h 47520"/>
                        </a:gdLst>
                        <a:ahLst/>
                        <a:rect l="textAreaLeft" t="textAreaTop" r="textAreaRight" b="textAreaBottom"/>
                        <a:pathLst>
                          <a:path w="49" h="474">
                            <a:moveTo>
                              <a:pt x="9" y="0"/>
                            </a:move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16" y="8"/>
                            </a:lnTo>
                            <a:lnTo>
                              <a:pt x="19" y="12"/>
                            </a:lnTo>
                            <a:lnTo>
                              <a:pt x="21" y="17"/>
                            </a:lnTo>
                            <a:lnTo>
                              <a:pt x="23" y="21"/>
                            </a:lnTo>
                            <a:lnTo>
                              <a:pt x="24" y="25"/>
                            </a:lnTo>
                            <a:lnTo>
                              <a:pt x="26" y="30"/>
                            </a:lnTo>
                            <a:lnTo>
                              <a:pt x="27" y="33"/>
                            </a:lnTo>
                            <a:lnTo>
                              <a:pt x="27" y="38"/>
                            </a:lnTo>
                            <a:lnTo>
                              <a:pt x="29" y="43"/>
                            </a:lnTo>
                            <a:lnTo>
                              <a:pt x="29" y="47"/>
                            </a:lnTo>
                            <a:lnTo>
                              <a:pt x="29" y="52"/>
                            </a:lnTo>
                            <a:lnTo>
                              <a:pt x="30" y="56"/>
                            </a:lnTo>
                            <a:lnTo>
                              <a:pt x="30" y="62"/>
                            </a:lnTo>
                            <a:lnTo>
                              <a:pt x="30" y="67"/>
                            </a:lnTo>
                            <a:lnTo>
                              <a:pt x="30" y="71"/>
                            </a:lnTo>
                            <a:lnTo>
                              <a:pt x="30" y="77"/>
                            </a:lnTo>
                            <a:lnTo>
                              <a:pt x="30" y="81"/>
                            </a:lnTo>
                            <a:lnTo>
                              <a:pt x="30" y="87"/>
                            </a:lnTo>
                            <a:lnTo>
                              <a:pt x="30" y="92"/>
                            </a:lnTo>
                            <a:lnTo>
                              <a:pt x="30" y="96"/>
                            </a:lnTo>
                            <a:lnTo>
                              <a:pt x="30" y="102"/>
                            </a:lnTo>
                            <a:lnTo>
                              <a:pt x="30" y="107"/>
                            </a:lnTo>
                            <a:lnTo>
                              <a:pt x="30" y="111"/>
                            </a:lnTo>
                            <a:lnTo>
                              <a:pt x="30" y="117"/>
                            </a:lnTo>
                            <a:lnTo>
                              <a:pt x="30" y="121"/>
                            </a:lnTo>
                            <a:lnTo>
                              <a:pt x="32" y="126"/>
                            </a:lnTo>
                            <a:lnTo>
                              <a:pt x="32" y="130"/>
                            </a:lnTo>
                            <a:lnTo>
                              <a:pt x="32" y="136"/>
                            </a:lnTo>
                            <a:lnTo>
                              <a:pt x="33" y="140"/>
                            </a:lnTo>
                            <a:lnTo>
                              <a:pt x="35" y="146"/>
                            </a:lnTo>
                            <a:lnTo>
                              <a:pt x="35" y="150"/>
                            </a:lnTo>
                            <a:lnTo>
                              <a:pt x="35" y="154"/>
                            </a:lnTo>
                            <a:lnTo>
                              <a:pt x="35" y="159"/>
                            </a:lnTo>
                            <a:lnTo>
                              <a:pt x="36" y="165"/>
                            </a:lnTo>
                            <a:lnTo>
                              <a:pt x="36" y="169"/>
                            </a:lnTo>
                            <a:lnTo>
                              <a:pt x="36" y="174"/>
                            </a:lnTo>
                            <a:lnTo>
                              <a:pt x="36" y="178"/>
                            </a:lnTo>
                            <a:lnTo>
                              <a:pt x="38" y="184"/>
                            </a:lnTo>
                            <a:lnTo>
                              <a:pt x="38" y="189"/>
                            </a:lnTo>
                            <a:lnTo>
                              <a:pt x="38" y="195"/>
                            </a:lnTo>
                            <a:lnTo>
                              <a:pt x="38" y="199"/>
                            </a:lnTo>
                            <a:lnTo>
                              <a:pt x="38" y="205"/>
                            </a:lnTo>
                            <a:lnTo>
                              <a:pt x="38" y="210"/>
                            </a:lnTo>
                            <a:lnTo>
                              <a:pt x="39" y="214"/>
                            </a:lnTo>
                            <a:lnTo>
                              <a:pt x="39" y="220"/>
                            </a:lnTo>
                            <a:lnTo>
                              <a:pt x="41" y="225"/>
                            </a:lnTo>
                            <a:lnTo>
                              <a:pt x="41" y="229"/>
                            </a:lnTo>
                            <a:lnTo>
                              <a:pt x="41" y="235"/>
                            </a:lnTo>
                            <a:lnTo>
                              <a:pt x="41" y="239"/>
                            </a:lnTo>
                            <a:lnTo>
                              <a:pt x="42" y="244"/>
                            </a:lnTo>
                            <a:lnTo>
                              <a:pt x="42" y="250"/>
                            </a:lnTo>
                            <a:lnTo>
                              <a:pt x="42" y="254"/>
                            </a:lnTo>
                            <a:lnTo>
                              <a:pt x="42" y="259"/>
                            </a:lnTo>
                            <a:lnTo>
                              <a:pt x="42" y="265"/>
                            </a:lnTo>
                            <a:lnTo>
                              <a:pt x="42" y="269"/>
                            </a:lnTo>
                            <a:lnTo>
                              <a:pt x="42" y="275"/>
                            </a:lnTo>
                            <a:lnTo>
                              <a:pt x="44" y="280"/>
                            </a:lnTo>
                            <a:lnTo>
                              <a:pt x="44" y="284"/>
                            </a:lnTo>
                            <a:lnTo>
                              <a:pt x="44" y="290"/>
                            </a:lnTo>
                            <a:lnTo>
                              <a:pt x="44" y="295"/>
                            </a:lnTo>
                            <a:lnTo>
                              <a:pt x="45" y="299"/>
                            </a:lnTo>
                            <a:lnTo>
                              <a:pt x="45" y="305"/>
                            </a:lnTo>
                            <a:lnTo>
                              <a:pt x="45" y="310"/>
                            </a:lnTo>
                            <a:lnTo>
                              <a:pt x="45" y="316"/>
                            </a:lnTo>
                            <a:lnTo>
                              <a:pt x="45" y="320"/>
                            </a:lnTo>
                            <a:lnTo>
                              <a:pt x="45" y="325"/>
                            </a:lnTo>
                            <a:lnTo>
                              <a:pt x="45" y="331"/>
                            </a:lnTo>
                            <a:lnTo>
                              <a:pt x="45" y="335"/>
                            </a:lnTo>
                            <a:lnTo>
                              <a:pt x="45" y="340"/>
                            </a:lnTo>
                            <a:lnTo>
                              <a:pt x="47" y="346"/>
                            </a:lnTo>
                            <a:lnTo>
                              <a:pt x="47" y="350"/>
                            </a:lnTo>
                            <a:lnTo>
                              <a:pt x="47" y="356"/>
                            </a:lnTo>
                            <a:lnTo>
                              <a:pt x="47" y="361"/>
                            </a:lnTo>
                            <a:lnTo>
                              <a:pt x="47" y="365"/>
                            </a:lnTo>
                            <a:lnTo>
                              <a:pt x="47" y="371"/>
                            </a:lnTo>
                            <a:lnTo>
                              <a:pt x="47" y="376"/>
                            </a:lnTo>
                            <a:lnTo>
                              <a:pt x="47" y="380"/>
                            </a:lnTo>
                            <a:lnTo>
                              <a:pt x="49" y="386"/>
                            </a:lnTo>
                            <a:lnTo>
                              <a:pt x="49" y="391"/>
                            </a:lnTo>
                            <a:lnTo>
                              <a:pt x="49" y="397"/>
                            </a:lnTo>
                            <a:lnTo>
                              <a:pt x="49" y="401"/>
                            </a:lnTo>
                            <a:lnTo>
                              <a:pt x="49" y="406"/>
                            </a:lnTo>
                            <a:lnTo>
                              <a:pt x="49" y="412"/>
                            </a:lnTo>
                            <a:lnTo>
                              <a:pt x="49" y="416"/>
                            </a:lnTo>
                            <a:lnTo>
                              <a:pt x="49" y="421"/>
                            </a:lnTo>
                            <a:lnTo>
                              <a:pt x="49" y="427"/>
                            </a:lnTo>
                            <a:lnTo>
                              <a:pt x="47" y="432"/>
                            </a:lnTo>
                            <a:lnTo>
                              <a:pt x="47" y="437"/>
                            </a:lnTo>
                            <a:lnTo>
                              <a:pt x="47" y="442"/>
                            </a:lnTo>
                            <a:lnTo>
                              <a:pt x="47" y="448"/>
                            </a:lnTo>
                            <a:lnTo>
                              <a:pt x="47" y="453"/>
                            </a:lnTo>
                            <a:lnTo>
                              <a:pt x="47" y="459"/>
                            </a:lnTo>
                            <a:lnTo>
                              <a:pt x="47" y="464"/>
                            </a:lnTo>
                            <a:lnTo>
                              <a:pt x="47" y="470"/>
                            </a:lnTo>
                            <a:lnTo>
                              <a:pt x="42" y="470"/>
                            </a:lnTo>
                            <a:lnTo>
                              <a:pt x="36" y="471"/>
                            </a:lnTo>
                            <a:lnTo>
                              <a:pt x="32" y="472"/>
                            </a:lnTo>
                            <a:lnTo>
                              <a:pt x="27" y="474"/>
                            </a:lnTo>
                            <a:lnTo>
                              <a:pt x="26" y="470"/>
                            </a:lnTo>
                            <a:lnTo>
                              <a:pt x="26" y="467"/>
                            </a:lnTo>
                            <a:lnTo>
                              <a:pt x="24" y="463"/>
                            </a:lnTo>
                            <a:lnTo>
                              <a:pt x="24" y="460"/>
                            </a:lnTo>
                            <a:lnTo>
                              <a:pt x="23" y="456"/>
                            </a:lnTo>
                            <a:lnTo>
                              <a:pt x="23" y="452"/>
                            </a:lnTo>
                            <a:lnTo>
                              <a:pt x="21" y="449"/>
                            </a:lnTo>
                            <a:lnTo>
                              <a:pt x="21" y="445"/>
                            </a:lnTo>
                            <a:lnTo>
                              <a:pt x="21" y="442"/>
                            </a:lnTo>
                            <a:lnTo>
                              <a:pt x="19" y="438"/>
                            </a:lnTo>
                            <a:lnTo>
                              <a:pt x="19" y="435"/>
                            </a:lnTo>
                            <a:lnTo>
                              <a:pt x="19" y="431"/>
                            </a:lnTo>
                            <a:lnTo>
                              <a:pt x="19" y="428"/>
                            </a:lnTo>
                            <a:lnTo>
                              <a:pt x="19" y="424"/>
                            </a:lnTo>
                            <a:lnTo>
                              <a:pt x="19" y="421"/>
                            </a:lnTo>
                            <a:lnTo>
                              <a:pt x="19" y="417"/>
                            </a:lnTo>
                            <a:lnTo>
                              <a:pt x="18" y="415"/>
                            </a:lnTo>
                            <a:lnTo>
                              <a:pt x="18" y="410"/>
                            </a:lnTo>
                            <a:lnTo>
                              <a:pt x="18" y="408"/>
                            </a:lnTo>
                            <a:lnTo>
                              <a:pt x="18" y="404"/>
                            </a:lnTo>
                            <a:lnTo>
                              <a:pt x="18" y="399"/>
                            </a:lnTo>
                            <a:lnTo>
                              <a:pt x="18" y="397"/>
                            </a:lnTo>
                            <a:lnTo>
                              <a:pt x="18" y="393"/>
                            </a:lnTo>
                            <a:lnTo>
                              <a:pt x="18" y="390"/>
                            </a:lnTo>
                            <a:lnTo>
                              <a:pt x="18" y="386"/>
                            </a:lnTo>
                            <a:lnTo>
                              <a:pt x="18" y="383"/>
                            </a:lnTo>
                            <a:lnTo>
                              <a:pt x="18" y="379"/>
                            </a:lnTo>
                            <a:lnTo>
                              <a:pt x="18" y="376"/>
                            </a:lnTo>
                            <a:lnTo>
                              <a:pt x="18" y="372"/>
                            </a:lnTo>
                            <a:lnTo>
                              <a:pt x="18" y="369"/>
                            </a:lnTo>
                            <a:lnTo>
                              <a:pt x="18" y="365"/>
                            </a:lnTo>
                            <a:lnTo>
                              <a:pt x="18" y="362"/>
                            </a:lnTo>
                            <a:lnTo>
                              <a:pt x="18" y="358"/>
                            </a:lnTo>
                            <a:lnTo>
                              <a:pt x="18" y="356"/>
                            </a:lnTo>
                            <a:lnTo>
                              <a:pt x="18" y="351"/>
                            </a:lnTo>
                            <a:lnTo>
                              <a:pt x="18" y="347"/>
                            </a:lnTo>
                            <a:lnTo>
                              <a:pt x="18" y="345"/>
                            </a:lnTo>
                            <a:lnTo>
                              <a:pt x="18" y="340"/>
                            </a:lnTo>
                            <a:lnTo>
                              <a:pt x="18" y="338"/>
                            </a:lnTo>
                            <a:lnTo>
                              <a:pt x="18" y="334"/>
                            </a:lnTo>
                            <a:lnTo>
                              <a:pt x="18" y="331"/>
                            </a:lnTo>
                            <a:lnTo>
                              <a:pt x="18" y="327"/>
                            </a:lnTo>
                            <a:lnTo>
                              <a:pt x="18" y="323"/>
                            </a:lnTo>
                            <a:lnTo>
                              <a:pt x="18" y="320"/>
                            </a:lnTo>
                            <a:lnTo>
                              <a:pt x="18" y="316"/>
                            </a:lnTo>
                            <a:lnTo>
                              <a:pt x="18" y="313"/>
                            </a:lnTo>
                            <a:lnTo>
                              <a:pt x="18" y="309"/>
                            </a:lnTo>
                            <a:lnTo>
                              <a:pt x="18" y="306"/>
                            </a:lnTo>
                            <a:lnTo>
                              <a:pt x="18" y="302"/>
                            </a:lnTo>
                            <a:lnTo>
                              <a:pt x="18" y="299"/>
                            </a:lnTo>
                            <a:lnTo>
                              <a:pt x="16" y="295"/>
                            </a:lnTo>
                            <a:lnTo>
                              <a:pt x="16" y="292"/>
                            </a:lnTo>
                            <a:lnTo>
                              <a:pt x="16" y="288"/>
                            </a:lnTo>
                            <a:lnTo>
                              <a:pt x="16" y="286"/>
                            </a:lnTo>
                            <a:lnTo>
                              <a:pt x="15" y="281"/>
                            </a:lnTo>
                            <a:lnTo>
                              <a:pt x="15" y="279"/>
                            </a:lnTo>
                            <a:lnTo>
                              <a:pt x="15" y="275"/>
                            </a:lnTo>
                            <a:lnTo>
                              <a:pt x="15" y="272"/>
                            </a:lnTo>
                            <a:lnTo>
                              <a:pt x="13" y="269"/>
                            </a:lnTo>
                            <a:lnTo>
                              <a:pt x="13" y="265"/>
                            </a:lnTo>
                            <a:lnTo>
                              <a:pt x="13" y="262"/>
                            </a:lnTo>
                            <a:lnTo>
                              <a:pt x="12" y="258"/>
                            </a:lnTo>
                            <a:lnTo>
                              <a:pt x="12" y="255"/>
                            </a:lnTo>
                            <a:lnTo>
                              <a:pt x="12" y="251"/>
                            </a:lnTo>
                            <a:lnTo>
                              <a:pt x="10" y="247"/>
                            </a:lnTo>
                            <a:lnTo>
                              <a:pt x="10" y="243"/>
                            </a:lnTo>
                            <a:lnTo>
                              <a:pt x="10" y="239"/>
                            </a:lnTo>
                            <a:lnTo>
                              <a:pt x="10" y="235"/>
                            </a:lnTo>
                            <a:lnTo>
                              <a:pt x="10" y="231"/>
                            </a:lnTo>
                            <a:lnTo>
                              <a:pt x="10" y="228"/>
                            </a:lnTo>
                            <a:lnTo>
                              <a:pt x="10" y="222"/>
                            </a:lnTo>
                            <a:lnTo>
                              <a:pt x="10" y="220"/>
                            </a:lnTo>
                            <a:lnTo>
                              <a:pt x="9" y="216"/>
                            </a:lnTo>
                            <a:lnTo>
                              <a:pt x="9" y="211"/>
                            </a:lnTo>
                            <a:lnTo>
                              <a:pt x="9" y="207"/>
                            </a:lnTo>
                            <a:lnTo>
                              <a:pt x="9" y="203"/>
                            </a:lnTo>
                            <a:lnTo>
                              <a:pt x="7" y="200"/>
                            </a:lnTo>
                            <a:lnTo>
                              <a:pt x="7" y="196"/>
                            </a:lnTo>
                            <a:lnTo>
                              <a:pt x="7" y="192"/>
                            </a:lnTo>
                            <a:lnTo>
                              <a:pt x="7" y="188"/>
                            </a:lnTo>
                            <a:lnTo>
                              <a:pt x="7" y="185"/>
                            </a:lnTo>
                            <a:lnTo>
                              <a:pt x="7" y="181"/>
                            </a:lnTo>
                            <a:lnTo>
                              <a:pt x="6" y="177"/>
                            </a:lnTo>
                            <a:lnTo>
                              <a:pt x="6" y="173"/>
                            </a:lnTo>
                            <a:lnTo>
                              <a:pt x="6" y="170"/>
                            </a:lnTo>
                            <a:lnTo>
                              <a:pt x="6" y="166"/>
                            </a:lnTo>
                            <a:lnTo>
                              <a:pt x="4" y="162"/>
                            </a:lnTo>
                            <a:lnTo>
                              <a:pt x="4" y="158"/>
                            </a:lnTo>
                            <a:lnTo>
                              <a:pt x="4" y="154"/>
                            </a:lnTo>
                            <a:lnTo>
                              <a:pt x="4" y="151"/>
                            </a:lnTo>
                            <a:lnTo>
                              <a:pt x="3" y="147"/>
                            </a:lnTo>
                            <a:lnTo>
                              <a:pt x="3" y="143"/>
                            </a:lnTo>
                            <a:lnTo>
                              <a:pt x="3" y="139"/>
                            </a:lnTo>
                            <a:lnTo>
                              <a:pt x="3" y="136"/>
                            </a:lnTo>
                            <a:lnTo>
                              <a:pt x="3" y="132"/>
                            </a:lnTo>
                            <a:lnTo>
                              <a:pt x="3" y="128"/>
                            </a:lnTo>
                            <a:lnTo>
                              <a:pt x="3" y="124"/>
                            </a:lnTo>
                            <a:lnTo>
                              <a:pt x="1" y="119"/>
                            </a:lnTo>
                            <a:lnTo>
                              <a:pt x="1" y="115"/>
                            </a:lnTo>
                            <a:lnTo>
                              <a:pt x="1" y="113"/>
                            </a:lnTo>
                            <a:lnTo>
                              <a:pt x="0" y="108"/>
                            </a:lnTo>
                            <a:lnTo>
                              <a:pt x="0" y="104"/>
                            </a:lnTo>
                            <a:lnTo>
                              <a:pt x="0" y="100"/>
                            </a:lnTo>
                            <a:lnTo>
                              <a:pt x="0" y="98"/>
                            </a:lnTo>
                            <a:lnTo>
                              <a:pt x="0" y="93"/>
                            </a:lnTo>
                            <a:lnTo>
                              <a:pt x="0" y="89"/>
                            </a:lnTo>
                            <a:lnTo>
                              <a:pt x="0" y="85"/>
                            </a:lnTo>
                            <a:lnTo>
                              <a:pt x="0" y="82"/>
                            </a:lnTo>
                            <a:lnTo>
                              <a:pt x="0" y="78"/>
                            </a:lnTo>
                            <a:lnTo>
                              <a:pt x="0" y="74"/>
                            </a:lnTo>
                            <a:lnTo>
                              <a:pt x="0" y="70"/>
                            </a:lnTo>
                            <a:lnTo>
                              <a:pt x="0" y="67"/>
                            </a:lnTo>
                            <a:lnTo>
                              <a:pt x="0" y="63"/>
                            </a:lnTo>
                            <a:lnTo>
                              <a:pt x="0" y="59"/>
                            </a:lnTo>
                            <a:lnTo>
                              <a:pt x="0" y="55"/>
                            </a:lnTo>
                            <a:lnTo>
                              <a:pt x="0" y="52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0" y="37"/>
                            </a:lnTo>
                            <a:lnTo>
                              <a:pt x="0" y="33"/>
                            </a:lnTo>
                            <a:lnTo>
                              <a:pt x="0" y="29"/>
                            </a:lnTo>
                            <a:lnTo>
                              <a:pt x="0" y="25"/>
                            </a:lnTo>
                            <a:lnTo>
                              <a:pt x="0" y="21"/>
                            </a:ln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" y="10"/>
                            </a:lnTo>
                            <a:lnTo>
                              <a:pt x="1" y="6"/>
                            </a:lnTo>
                            <a:lnTo>
                              <a:pt x="3" y="3"/>
                            </a:lnTo>
                            <a:lnTo>
                              <a:pt x="6" y="1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7" name="Freeform 187"/>
                      <p:cNvSpPr/>
                      <p:nvPr/>
                    </p:nvSpPr>
                    <p:spPr>
                      <a:xfrm>
                        <a:off x="3197160" y="2899800"/>
                        <a:ext cx="3600" cy="4896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48960"/>
                          <a:gd name="textAreaBottom" fmla="*/ 49320 h 48960"/>
                        </a:gdLst>
                        <a:ahLst/>
                        <a:rect l="textAreaLeft" t="textAreaTop" r="textAreaRight" b="textAreaBottom"/>
                        <a:pathLst>
                          <a:path w="44" h="486">
                            <a:moveTo>
                              <a:pt x="15" y="0"/>
                            </a:moveTo>
                            <a:lnTo>
                              <a:pt x="17" y="3"/>
                            </a:lnTo>
                            <a:lnTo>
                              <a:pt x="20" y="9"/>
                            </a:lnTo>
                            <a:lnTo>
                              <a:pt x="23" y="13"/>
                            </a:lnTo>
                            <a:lnTo>
                              <a:pt x="26" y="17"/>
                            </a:lnTo>
                            <a:lnTo>
                              <a:pt x="27" y="22"/>
                            </a:lnTo>
                            <a:lnTo>
                              <a:pt x="29" y="27"/>
                            </a:lnTo>
                            <a:lnTo>
                              <a:pt x="31" y="32"/>
                            </a:lnTo>
                            <a:lnTo>
                              <a:pt x="32" y="38"/>
                            </a:lnTo>
                            <a:lnTo>
                              <a:pt x="34" y="43"/>
                            </a:lnTo>
                            <a:lnTo>
                              <a:pt x="34" y="47"/>
                            </a:lnTo>
                            <a:lnTo>
                              <a:pt x="34" y="53"/>
                            </a:lnTo>
                            <a:lnTo>
                              <a:pt x="35" y="58"/>
                            </a:lnTo>
                            <a:lnTo>
                              <a:pt x="35" y="64"/>
                            </a:lnTo>
                            <a:lnTo>
                              <a:pt x="35" y="69"/>
                            </a:lnTo>
                            <a:lnTo>
                              <a:pt x="35" y="75"/>
                            </a:lnTo>
                            <a:lnTo>
                              <a:pt x="35" y="81"/>
                            </a:lnTo>
                            <a:lnTo>
                              <a:pt x="35" y="87"/>
                            </a:lnTo>
                            <a:lnTo>
                              <a:pt x="35" y="92"/>
                            </a:lnTo>
                            <a:lnTo>
                              <a:pt x="35" y="98"/>
                            </a:lnTo>
                            <a:lnTo>
                              <a:pt x="35" y="105"/>
                            </a:lnTo>
                            <a:lnTo>
                              <a:pt x="34" y="110"/>
                            </a:lnTo>
                            <a:lnTo>
                              <a:pt x="34" y="116"/>
                            </a:lnTo>
                            <a:lnTo>
                              <a:pt x="34" y="121"/>
                            </a:lnTo>
                            <a:lnTo>
                              <a:pt x="35" y="128"/>
                            </a:lnTo>
                            <a:lnTo>
                              <a:pt x="35" y="134"/>
                            </a:lnTo>
                            <a:lnTo>
                              <a:pt x="35" y="139"/>
                            </a:lnTo>
                            <a:lnTo>
                              <a:pt x="35" y="145"/>
                            </a:lnTo>
                            <a:lnTo>
                              <a:pt x="35" y="150"/>
                            </a:lnTo>
                            <a:lnTo>
                              <a:pt x="37" y="156"/>
                            </a:lnTo>
                            <a:lnTo>
                              <a:pt x="38" y="161"/>
                            </a:lnTo>
                            <a:lnTo>
                              <a:pt x="38" y="167"/>
                            </a:lnTo>
                            <a:lnTo>
                              <a:pt x="40" y="173"/>
                            </a:lnTo>
                            <a:lnTo>
                              <a:pt x="40" y="178"/>
                            </a:lnTo>
                            <a:lnTo>
                              <a:pt x="40" y="182"/>
                            </a:lnTo>
                            <a:lnTo>
                              <a:pt x="38" y="186"/>
                            </a:lnTo>
                            <a:lnTo>
                              <a:pt x="38" y="191"/>
                            </a:lnTo>
                            <a:lnTo>
                              <a:pt x="38" y="195"/>
                            </a:lnTo>
                            <a:lnTo>
                              <a:pt x="38" y="199"/>
                            </a:lnTo>
                            <a:lnTo>
                              <a:pt x="38" y="205"/>
                            </a:lnTo>
                            <a:lnTo>
                              <a:pt x="38" y="209"/>
                            </a:lnTo>
                            <a:lnTo>
                              <a:pt x="38" y="213"/>
                            </a:lnTo>
                            <a:lnTo>
                              <a:pt x="38" y="219"/>
                            </a:lnTo>
                            <a:lnTo>
                              <a:pt x="38" y="223"/>
                            </a:lnTo>
                            <a:lnTo>
                              <a:pt x="38" y="228"/>
                            </a:lnTo>
                            <a:lnTo>
                              <a:pt x="38" y="232"/>
                            </a:lnTo>
                            <a:lnTo>
                              <a:pt x="38" y="237"/>
                            </a:lnTo>
                            <a:lnTo>
                              <a:pt x="38" y="242"/>
                            </a:lnTo>
                            <a:lnTo>
                              <a:pt x="38" y="246"/>
                            </a:lnTo>
                            <a:lnTo>
                              <a:pt x="38" y="252"/>
                            </a:lnTo>
                            <a:lnTo>
                              <a:pt x="38" y="256"/>
                            </a:lnTo>
                            <a:lnTo>
                              <a:pt x="38" y="260"/>
                            </a:lnTo>
                            <a:lnTo>
                              <a:pt x="38" y="265"/>
                            </a:lnTo>
                            <a:lnTo>
                              <a:pt x="38" y="269"/>
                            </a:lnTo>
                            <a:lnTo>
                              <a:pt x="38" y="274"/>
                            </a:lnTo>
                            <a:lnTo>
                              <a:pt x="38" y="279"/>
                            </a:lnTo>
                            <a:lnTo>
                              <a:pt x="38" y="283"/>
                            </a:lnTo>
                            <a:lnTo>
                              <a:pt x="38" y="289"/>
                            </a:lnTo>
                            <a:lnTo>
                              <a:pt x="38" y="293"/>
                            </a:lnTo>
                            <a:lnTo>
                              <a:pt x="38" y="297"/>
                            </a:lnTo>
                            <a:lnTo>
                              <a:pt x="40" y="302"/>
                            </a:lnTo>
                            <a:lnTo>
                              <a:pt x="40" y="307"/>
                            </a:lnTo>
                            <a:lnTo>
                              <a:pt x="40" y="311"/>
                            </a:lnTo>
                            <a:lnTo>
                              <a:pt x="40" y="316"/>
                            </a:lnTo>
                            <a:lnTo>
                              <a:pt x="41" y="320"/>
                            </a:lnTo>
                            <a:lnTo>
                              <a:pt x="41" y="324"/>
                            </a:lnTo>
                            <a:lnTo>
                              <a:pt x="41" y="329"/>
                            </a:lnTo>
                            <a:lnTo>
                              <a:pt x="41" y="334"/>
                            </a:lnTo>
                            <a:lnTo>
                              <a:pt x="41" y="338"/>
                            </a:lnTo>
                            <a:lnTo>
                              <a:pt x="41" y="344"/>
                            </a:lnTo>
                            <a:lnTo>
                              <a:pt x="41" y="348"/>
                            </a:lnTo>
                            <a:lnTo>
                              <a:pt x="41" y="352"/>
                            </a:lnTo>
                            <a:lnTo>
                              <a:pt x="41" y="357"/>
                            </a:lnTo>
                            <a:lnTo>
                              <a:pt x="41" y="361"/>
                            </a:lnTo>
                            <a:lnTo>
                              <a:pt x="41" y="366"/>
                            </a:lnTo>
                            <a:lnTo>
                              <a:pt x="41" y="371"/>
                            </a:lnTo>
                            <a:lnTo>
                              <a:pt x="41" y="375"/>
                            </a:lnTo>
                            <a:lnTo>
                              <a:pt x="41" y="381"/>
                            </a:lnTo>
                            <a:lnTo>
                              <a:pt x="43" y="385"/>
                            </a:lnTo>
                            <a:lnTo>
                              <a:pt x="43" y="389"/>
                            </a:lnTo>
                            <a:lnTo>
                              <a:pt x="43" y="394"/>
                            </a:lnTo>
                            <a:lnTo>
                              <a:pt x="43" y="399"/>
                            </a:lnTo>
                            <a:lnTo>
                              <a:pt x="43" y="403"/>
                            </a:lnTo>
                            <a:lnTo>
                              <a:pt x="43" y="408"/>
                            </a:lnTo>
                            <a:lnTo>
                              <a:pt x="44" y="412"/>
                            </a:lnTo>
                            <a:lnTo>
                              <a:pt x="44" y="418"/>
                            </a:lnTo>
                            <a:lnTo>
                              <a:pt x="44" y="422"/>
                            </a:lnTo>
                            <a:lnTo>
                              <a:pt x="44" y="426"/>
                            </a:lnTo>
                            <a:lnTo>
                              <a:pt x="44" y="431"/>
                            </a:lnTo>
                            <a:lnTo>
                              <a:pt x="44" y="436"/>
                            </a:lnTo>
                            <a:lnTo>
                              <a:pt x="44" y="441"/>
                            </a:lnTo>
                            <a:lnTo>
                              <a:pt x="44" y="445"/>
                            </a:lnTo>
                            <a:lnTo>
                              <a:pt x="44" y="451"/>
                            </a:lnTo>
                            <a:lnTo>
                              <a:pt x="44" y="455"/>
                            </a:lnTo>
                            <a:lnTo>
                              <a:pt x="44" y="460"/>
                            </a:lnTo>
                            <a:lnTo>
                              <a:pt x="44" y="464"/>
                            </a:lnTo>
                            <a:lnTo>
                              <a:pt x="44" y="470"/>
                            </a:lnTo>
                            <a:lnTo>
                              <a:pt x="41" y="474"/>
                            </a:lnTo>
                            <a:lnTo>
                              <a:pt x="38" y="478"/>
                            </a:lnTo>
                            <a:lnTo>
                              <a:pt x="34" y="481"/>
                            </a:lnTo>
                            <a:lnTo>
                              <a:pt x="31" y="486"/>
                            </a:lnTo>
                            <a:lnTo>
                              <a:pt x="26" y="482"/>
                            </a:lnTo>
                            <a:lnTo>
                              <a:pt x="23" y="480"/>
                            </a:lnTo>
                            <a:lnTo>
                              <a:pt x="20" y="475"/>
                            </a:lnTo>
                            <a:lnTo>
                              <a:pt x="18" y="473"/>
                            </a:lnTo>
                            <a:lnTo>
                              <a:pt x="17" y="469"/>
                            </a:lnTo>
                            <a:lnTo>
                              <a:pt x="15" y="464"/>
                            </a:lnTo>
                            <a:lnTo>
                              <a:pt x="14" y="462"/>
                            </a:lnTo>
                            <a:lnTo>
                              <a:pt x="14" y="458"/>
                            </a:lnTo>
                            <a:lnTo>
                              <a:pt x="12" y="453"/>
                            </a:lnTo>
                            <a:lnTo>
                              <a:pt x="12" y="449"/>
                            </a:lnTo>
                            <a:lnTo>
                              <a:pt x="11" y="445"/>
                            </a:lnTo>
                            <a:lnTo>
                              <a:pt x="11" y="442"/>
                            </a:lnTo>
                            <a:lnTo>
                              <a:pt x="11" y="437"/>
                            </a:lnTo>
                            <a:lnTo>
                              <a:pt x="11" y="434"/>
                            </a:lnTo>
                            <a:lnTo>
                              <a:pt x="12" y="430"/>
                            </a:lnTo>
                            <a:lnTo>
                              <a:pt x="12" y="426"/>
                            </a:lnTo>
                            <a:lnTo>
                              <a:pt x="12" y="422"/>
                            </a:lnTo>
                            <a:lnTo>
                              <a:pt x="12" y="418"/>
                            </a:lnTo>
                            <a:lnTo>
                              <a:pt x="14" y="414"/>
                            </a:lnTo>
                            <a:lnTo>
                              <a:pt x="14" y="409"/>
                            </a:lnTo>
                            <a:lnTo>
                              <a:pt x="14" y="405"/>
                            </a:lnTo>
                            <a:lnTo>
                              <a:pt x="15" y="401"/>
                            </a:lnTo>
                            <a:lnTo>
                              <a:pt x="15" y="397"/>
                            </a:lnTo>
                            <a:lnTo>
                              <a:pt x="17" y="394"/>
                            </a:lnTo>
                            <a:lnTo>
                              <a:pt x="17" y="389"/>
                            </a:lnTo>
                            <a:lnTo>
                              <a:pt x="17" y="385"/>
                            </a:lnTo>
                            <a:lnTo>
                              <a:pt x="17" y="382"/>
                            </a:lnTo>
                            <a:lnTo>
                              <a:pt x="17" y="378"/>
                            </a:lnTo>
                            <a:lnTo>
                              <a:pt x="15" y="374"/>
                            </a:lnTo>
                            <a:lnTo>
                              <a:pt x="15" y="370"/>
                            </a:lnTo>
                            <a:lnTo>
                              <a:pt x="15" y="367"/>
                            </a:lnTo>
                            <a:lnTo>
                              <a:pt x="15" y="363"/>
                            </a:lnTo>
                            <a:lnTo>
                              <a:pt x="14" y="357"/>
                            </a:lnTo>
                            <a:lnTo>
                              <a:pt x="14" y="352"/>
                            </a:lnTo>
                            <a:lnTo>
                              <a:pt x="14" y="346"/>
                            </a:lnTo>
                            <a:lnTo>
                              <a:pt x="14" y="341"/>
                            </a:lnTo>
                            <a:lnTo>
                              <a:pt x="14" y="335"/>
                            </a:lnTo>
                            <a:lnTo>
                              <a:pt x="14" y="330"/>
                            </a:lnTo>
                            <a:lnTo>
                              <a:pt x="14" y="324"/>
                            </a:lnTo>
                            <a:lnTo>
                              <a:pt x="14" y="319"/>
                            </a:lnTo>
                            <a:lnTo>
                              <a:pt x="14" y="313"/>
                            </a:lnTo>
                            <a:lnTo>
                              <a:pt x="14" y="308"/>
                            </a:lnTo>
                            <a:lnTo>
                              <a:pt x="14" y="304"/>
                            </a:lnTo>
                            <a:lnTo>
                              <a:pt x="14" y="298"/>
                            </a:lnTo>
                            <a:lnTo>
                              <a:pt x="14" y="293"/>
                            </a:lnTo>
                            <a:lnTo>
                              <a:pt x="14" y="287"/>
                            </a:lnTo>
                            <a:lnTo>
                              <a:pt x="14" y="282"/>
                            </a:lnTo>
                            <a:lnTo>
                              <a:pt x="14" y="276"/>
                            </a:lnTo>
                            <a:lnTo>
                              <a:pt x="12" y="271"/>
                            </a:lnTo>
                            <a:lnTo>
                              <a:pt x="12" y="265"/>
                            </a:lnTo>
                            <a:lnTo>
                              <a:pt x="12" y="261"/>
                            </a:lnTo>
                            <a:lnTo>
                              <a:pt x="12" y="256"/>
                            </a:lnTo>
                            <a:lnTo>
                              <a:pt x="12" y="250"/>
                            </a:lnTo>
                            <a:lnTo>
                              <a:pt x="12" y="245"/>
                            </a:lnTo>
                            <a:lnTo>
                              <a:pt x="12" y="239"/>
                            </a:lnTo>
                            <a:lnTo>
                              <a:pt x="12" y="234"/>
                            </a:lnTo>
                            <a:lnTo>
                              <a:pt x="11" y="228"/>
                            </a:lnTo>
                            <a:lnTo>
                              <a:pt x="11" y="223"/>
                            </a:lnTo>
                            <a:lnTo>
                              <a:pt x="11" y="217"/>
                            </a:lnTo>
                            <a:lnTo>
                              <a:pt x="11" y="213"/>
                            </a:lnTo>
                            <a:lnTo>
                              <a:pt x="11" y="208"/>
                            </a:lnTo>
                            <a:lnTo>
                              <a:pt x="11" y="202"/>
                            </a:lnTo>
                            <a:lnTo>
                              <a:pt x="11" y="197"/>
                            </a:lnTo>
                            <a:lnTo>
                              <a:pt x="11" y="193"/>
                            </a:lnTo>
                            <a:lnTo>
                              <a:pt x="11" y="186"/>
                            </a:lnTo>
                            <a:lnTo>
                              <a:pt x="11" y="182"/>
                            </a:lnTo>
                            <a:lnTo>
                              <a:pt x="9" y="176"/>
                            </a:lnTo>
                            <a:lnTo>
                              <a:pt x="9" y="171"/>
                            </a:lnTo>
                            <a:lnTo>
                              <a:pt x="9" y="165"/>
                            </a:lnTo>
                            <a:lnTo>
                              <a:pt x="9" y="160"/>
                            </a:lnTo>
                            <a:lnTo>
                              <a:pt x="8" y="154"/>
                            </a:lnTo>
                            <a:lnTo>
                              <a:pt x="8" y="149"/>
                            </a:lnTo>
                            <a:lnTo>
                              <a:pt x="8" y="143"/>
                            </a:lnTo>
                            <a:lnTo>
                              <a:pt x="8" y="139"/>
                            </a:lnTo>
                            <a:lnTo>
                              <a:pt x="6" y="134"/>
                            </a:lnTo>
                            <a:lnTo>
                              <a:pt x="6" y="128"/>
                            </a:lnTo>
                            <a:lnTo>
                              <a:pt x="6" y="123"/>
                            </a:lnTo>
                            <a:lnTo>
                              <a:pt x="6" y="117"/>
                            </a:lnTo>
                            <a:lnTo>
                              <a:pt x="6" y="112"/>
                            </a:lnTo>
                            <a:lnTo>
                              <a:pt x="6" y="108"/>
                            </a:lnTo>
                            <a:lnTo>
                              <a:pt x="6" y="102"/>
                            </a:lnTo>
                            <a:lnTo>
                              <a:pt x="5" y="97"/>
                            </a:lnTo>
                            <a:lnTo>
                              <a:pt x="5" y="91"/>
                            </a:lnTo>
                            <a:lnTo>
                              <a:pt x="5" y="86"/>
                            </a:lnTo>
                            <a:lnTo>
                              <a:pt x="3" y="80"/>
                            </a:lnTo>
                            <a:lnTo>
                              <a:pt x="3" y="75"/>
                            </a:lnTo>
                            <a:lnTo>
                              <a:pt x="3" y="70"/>
                            </a:lnTo>
                            <a:lnTo>
                              <a:pt x="3" y="65"/>
                            </a:lnTo>
                            <a:lnTo>
                              <a:pt x="3" y="59"/>
                            </a:lnTo>
                            <a:lnTo>
                              <a:pt x="1" y="54"/>
                            </a:lnTo>
                            <a:lnTo>
                              <a:pt x="1" y="48"/>
                            </a:lnTo>
                            <a:lnTo>
                              <a:pt x="1" y="43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0" y="28"/>
                            </a:lnTo>
                            <a:lnTo>
                              <a:pt x="0" y="22"/>
                            </a:lnTo>
                            <a:lnTo>
                              <a:pt x="0" y="20"/>
                            </a:lnTo>
                            <a:lnTo>
                              <a:pt x="1" y="17"/>
                            </a:lnTo>
                            <a:lnTo>
                              <a:pt x="5" y="13"/>
                            </a:lnTo>
                            <a:lnTo>
                              <a:pt x="6" y="10"/>
                            </a:lnTo>
                            <a:lnTo>
                              <a:pt x="9" y="6"/>
                            </a:lnTo>
                            <a:lnTo>
                              <a:pt x="11" y="3"/>
                            </a:lnTo>
                            <a:lnTo>
                              <a:pt x="14" y="2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Freeform 188"/>
                      <p:cNvSpPr/>
                      <p:nvPr/>
                    </p:nvSpPr>
                    <p:spPr>
                      <a:xfrm>
                        <a:off x="3128400" y="2959200"/>
                        <a:ext cx="76680" cy="3240"/>
                      </a:xfrm>
                      <a:custGeom>
                        <a:avLst/>
                        <a:gdLst>
                          <a:gd name="textAreaLeft" fmla="*/ 0 w 76680"/>
                          <a:gd name="textAreaRight" fmla="*/ 77040 w 7668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850" h="34">
                            <a:moveTo>
                              <a:pt x="465" y="0"/>
                            </a:moveTo>
                            <a:lnTo>
                              <a:pt x="469" y="0"/>
                            </a:lnTo>
                            <a:lnTo>
                              <a:pt x="475" y="0"/>
                            </a:lnTo>
                            <a:lnTo>
                              <a:pt x="482" y="0"/>
                            </a:lnTo>
                            <a:lnTo>
                              <a:pt x="486" y="0"/>
                            </a:lnTo>
                            <a:lnTo>
                              <a:pt x="492" y="0"/>
                            </a:lnTo>
                            <a:lnTo>
                              <a:pt x="498" y="0"/>
                            </a:lnTo>
                            <a:lnTo>
                              <a:pt x="503" y="0"/>
                            </a:lnTo>
                            <a:lnTo>
                              <a:pt x="509" y="1"/>
                            </a:lnTo>
                            <a:lnTo>
                              <a:pt x="515" y="1"/>
                            </a:lnTo>
                            <a:lnTo>
                              <a:pt x="521" y="1"/>
                            </a:lnTo>
                            <a:lnTo>
                              <a:pt x="527" y="1"/>
                            </a:lnTo>
                            <a:lnTo>
                              <a:pt x="534" y="1"/>
                            </a:lnTo>
                            <a:lnTo>
                              <a:pt x="538" y="1"/>
                            </a:lnTo>
                            <a:lnTo>
                              <a:pt x="544" y="1"/>
                            </a:lnTo>
                            <a:lnTo>
                              <a:pt x="550" y="1"/>
                            </a:lnTo>
                            <a:lnTo>
                              <a:pt x="556" y="1"/>
                            </a:lnTo>
                            <a:lnTo>
                              <a:pt x="561" y="1"/>
                            </a:lnTo>
                            <a:lnTo>
                              <a:pt x="567" y="1"/>
                            </a:lnTo>
                            <a:lnTo>
                              <a:pt x="573" y="1"/>
                            </a:lnTo>
                            <a:lnTo>
                              <a:pt x="578" y="1"/>
                            </a:lnTo>
                            <a:lnTo>
                              <a:pt x="584" y="1"/>
                            </a:lnTo>
                            <a:lnTo>
                              <a:pt x="590" y="1"/>
                            </a:lnTo>
                            <a:lnTo>
                              <a:pt x="595" y="1"/>
                            </a:lnTo>
                            <a:lnTo>
                              <a:pt x="601" y="1"/>
                            </a:lnTo>
                            <a:lnTo>
                              <a:pt x="607" y="1"/>
                            </a:lnTo>
                            <a:lnTo>
                              <a:pt x="613" y="1"/>
                            </a:lnTo>
                            <a:lnTo>
                              <a:pt x="619" y="1"/>
                            </a:lnTo>
                            <a:lnTo>
                              <a:pt x="625" y="1"/>
                            </a:lnTo>
                            <a:lnTo>
                              <a:pt x="630" y="1"/>
                            </a:lnTo>
                            <a:lnTo>
                              <a:pt x="636" y="1"/>
                            </a:lnTo>
                            <a:lnTo>
                              <a:pt x="642" y="1"/>
                            </a:lnTo>
                            <a:lnTo>
                              <a:pt x="648" y="3"/>
                            </a:lnTo>
                            <a:lnTo>
                              <a:pt x="653" y="1"/>
                            </a:lnTo>
                            <a:lnTo>
                              <a:pt x="659" y="1"/>
                            </a:lnTo>
                            <a:lnTo>
                              <a:pt x="665" y="1"/>
                            </a:lnTo>
                            <a:lnTo>
                              <a:pt x="671" y="1"/>
                            </a:lnTo>
                            <a:lnTo>
                              <a:pt x="676" y="1"/>
                            </a:lnTo>
                            <a:lnTo>
                              <a:pt x="682" y="1"/>
                            </a:lnTo>
                            <a:lnTo>
                              <a:pt x="688" y="1"/>
                            </a:lnTo>
                            <a:lnTo>
                              <a:pt x="694" y="1"/>
                            </a:lnTo>
                            <a:lnTo>
                              <a:pt x="699" y="1"/>
                            </a:lnTo>
                            <a:lnTo>
                              <a:pt x="705" y="1"/>
                            </a:lnTo>
                            <a:lnTo>
                              <a:pt x="711" y="1"/>
                            </a:lnTo>
                            <a:lnTo>
                              <a:pt x="716" y="1"/>
                            </a:lnTo>
                            <a:lnTo>
                              <a:pt x="722" y="1"/>
                            </a:lnTo>
                            <a:lnTo>
                              <a:pt x="728" y="1"/>
                            </a:lnTo>
                            <a:lnTo>
                              <a:pt x="732" y="1"/>
                            </a:lnTo>
                            <a:lnTo>
                              <a:pt x="740" y="1"/>
                            </a:lnTo>
                            <a:lnTo>
                              <a:pt x="745" y="0"/>
                            </a:lnTo>
                            <a:lnTo>
                              <a:pt x="751" y="0"/>
                            </a:lnTo>
                            <a:lnTo>
                              <a:pt x="757" y="0"/>
                            </a:lnTo>
                            <a:lnTo>
                              <a:pt x="761" y="0"/>
                            </a:lnTo>
                            <a:lnTo>
                              <a:pt x="768" y="0"/>
                            </a:lnTo>
                            <a:lnTo>
                              <a:pt x="774" y="0"/>
                            </a:lnTo>
                            <a:lnTo>
                              <a:pt x="778" y="0"/>
                            </a:lnTo>
                            <a:lnTo>
                              <a:pt x="784" y="0"/>
                            </a:lnTo>
                            <a:lnTo>
                              <a:pt x="791" y="0"/>
                            </a:lnTo>
                            <a:lnTo>
                              <a:pt x="797" y="0"/>
                            </a:lnTo>
                            <a:lnTo>
                              <a:pt x="801" y="0"/>
                            </a:lnTo>
                            <a:lnTo>
                              <a:pt x="807" y="0"/>
                            </a:lnTo>
                            <a:lnTo>
                              <a:pt x="813" y="0"/>
                            </a:lnTo>
                            <a:lnTo>
                              <a:pt x="818" y="0"/>
                            </a:lnTo>
                            <a:lnTo>
                              <a:pt x="824" y="0"/>
                            </a:lnTo>
                            <a:lnTo>
                              <a:pt x="830" y="0"/>
                            </a:lnTo>
                            <a:lnTo>
                              <a:pt x="835" y="4"/>
                            </a:lnTo>
                            <a:lnTo>
                              <a:pt x="839" y="8"/>
                            </a:lnTo>
                            <a:lnTo>
                              <a:pt x="846" y="12"/>
                            </a:lnTo>
                            <a:lnTo>
                              <a:pt x="850" y="16"/>
                            </a:lnTo>
                            <a:lnTo>
                              <a:pt x="846" y="18"/>
                            </a:lnTo>
                            <a:lnTo>
                              <a:pt x="841" y="22"/>
                            </a:lnTo>
                            <a:lnTo>
                              <a:pt x="836" y="26"/>
                            </a:lnTo>
                            <a:lnTo>
                              <a:pt x="833" y="30"/>
                            </a:lnTo>
                            <a:lnTo>
                              <a:pt x="820" y="29"/>
                            </a:lnTo>
                            <a:lnTo>
                              <a:pt x="807" y="29"/>
                            </a:lnTo>
                            <a:lnTo>
                              <a:pt x="794" y="29"/>
                            </a:lnTo>
                            <a:lnTo>
                              <a:pt x="780" y="29"/>
                            </a:lnTo>
                            <a:lnTo>
                              <a:pt x="768" y="29"/>
                            </a:lnTo>
                            <a:lnTo>
                              <a:pt x="754" y="29"/>
                            </a:lnTo>
                            <a:lnTo>
                              <a:pt x="742" y="29"/>
                            </a:lnTo>
                            <a:lnTo>
                              <a:pt x="728" y="29"/>
                            </a:lnTo>
                            <a:lnTo>
                              <a:pt x="716" y="29"/>
                            </a:lnTo>
                            <a:lnTo>
                              <a:pt x="702" y="29"/>
                            </a:lnTo>
                            <a:lnTo>
                              <a:pt x="688" y="29"/>
                            </a:lnTo>
                            <a:lnTo>
                              <a:pt x="676" y="29"/>
                            </a:lnTo>
                            <a:lnTo>
                              <a:pt x="664" y="29"/>
                            </a:lnTo>
                            <a:lnTo>
                              <a:pt x="650" y="29"/>
                            </a:lnTo>
                            <a:lnTo>
                              <a:pt x="638" y="29"/>
                            </a:lnTo>
                            <a:lnTo>
                              <a:pt x="625" y="29"/>
                            </a:lnTo>
                            <a:lnTo>
                              <a:pt x="612" y="29"/>
                            </a:lnTo>
                            <a:lnTo>
                              <a:pt x="598" y="29"/>
                            </a:lnTo>
                            <a:lnTo>
                              <a:pt x="586" y="29"/>
                            </a:lnTo>
                            <a:lnTo>
                              <a:pt x="573" y="29"/>
                            </a:lnTo>
                            <a:lnTo>
                              <a:pt x="560" y="29"/>
                            </a:lnTo>
                            <a:lnTo>
                              <a:pt x="547" y="29"/>
                            </a:lnTo>
                            <a:lnTo>
                              <a:pt x="534" y="29"/>
                            </a:lnTo>
                            <a:lnTo>
                              <a:pt x="521" y="29"/>
                            </a:lnTo>
                            <a:lnTo>
                              <a:pt x="509" y="29"/>
                            </a:lnTo>
                            <a:lnTo>
                              <a:pt x="495" y="29"/>
                            </a:lnTo>
                            <a:lnTo>
                              <a:pt x="482" y="29"/>
                            </a:lnTo>
                            <a:lnTo>
                              <a:pt x="469" y="29"/>
                            </a:lnTo>
                            <a:lnTo>
                              <a:pt x="457" y="29"/>
                            </a:lnTo>
                            <a:lnTo>
                              <a:pt x="445" y="30"/>
                            </a:lnTo>
                            <a:lnTo>
                              <a:pt x="431" y="30"/>
                            </a:lnTo>
                            <a:lnTo>
                              <a:pt x="419" y="30"/>
                            </a:lnTo>
                            <a:lnTo>
                              <a:pt x="405" y="30"/>
                            </a:lnTo>
                            <a:lnTo>
                              <a:pt x="393" y="30"/>
                            </a:lnTo>
                            <a:lnTo>
                              <a:pt x="379" y="30"/>
                            </a:lnTo>
                            <a:lnTo>
                              <a:pt x="367" y="30"/>
                            </a:lnTo>
                            <a:lnTo>
                              <a:pt x="353" y="30"/>
                            </a:lnTo>
                            <a:lnTo>
                              <a:pt x="341" y="32"/>
                            </a:lnTo>
                            <a:lnTo>
                              <a:pt x="327" y="32"/>
                            </a:lnTo>
                            <a:lnTo>
                              <a:pt x="315" y="32"/>
                            </a:lnTo>
                            <a:lnTo>
                              <a:pt x="303" y="32"/>
                            </a:lnTo>
                            <a:lnTo>
                              <a:pt x="289" y="32"/>
                            </a:lnTo>
                            <a:lnTo>
                              <a:pt x="277" y="32"/>
                            </a:lnTo>
                            <a:lnTo>
                              <a:pt x="264" y="32"/>
                            </a:lnTo>
                            <a:lnTo>
                              <a:pt x="251" y="32"/>
                            </a:lnTo>
                            <a:lnTo>
                              <a:pt x="238" y="32"/>
                            </a:lnTo>
                            <a:lnTo>
                              <a:pt x="225" y="32"/>
                            </a:lnTo>
                            <a:lnTo>
                              <a:pt x="212" y="33"/>
                            </a:lnTo>
                            <a:lnTo>
                              <a:pt x="200" y="33"/>
                            </a:lnTo>
                            <a:lnTo>
                              <a:pt x="186" y="33"/>
                            </a:lnTo>
                            <a:lnTo>
                              <a:pt x="173" y="33"/>
                            </a:lnTo>
                            <a:lnTo>
                              <a:pt x="160" y="33"/>
                            </a:lnTo>
                            <a:lnTo>
                              <a:pt x="148" y="33"/>
                            </a:lnTo>
                            <a:lnTo>
                              <a:pt x="136" y="33"/>
                            </a:lnTo>
                            <a:lnTo>
                              <a:pt x="122" y="33"/>
                            </a:lnTo>
                            <a:lnTo>
                              <a:pt x="110" y="34"/>
                            </a:lnTo>
                            <a:lnTo>
                              <a:pt x="96" y="34"/>
                            </a:lnTo>
                            <a:lnTo>
                              <a:pt x="84" y="34"/>
                            </a:lnTo>
                            <a:lnTo>
                              <a:pt x="70" y="34"/>
                            </a:lnTo>
                            <a:lnTo>
                              <a:pt x="58" y="34"/>
                            </a:lnTo>
                            <a:lnTo>
                              <a:pt x="46" y="34"/>
                            </a:lnTo>
                            <a:lnTo>
                              <a:pt x="32" y="34"/>
                            </a:lnTo>
                            <a:lnTo>
                              <a:pt x="20" y="34"/>
                            </a:lnTo>
                            <a:lnTo>
                              <a:pt x="7" y="34"/>
                            </a:lnTo>
                            <a:lnTo>
                              <a:pt x="4" y="29"/>
                            </a:lnTo>
                            <a:lnTo>
                              <a:pt x="3" y="25"/>
                            </a:lnTo>
                            <a:lnTo>
                              <a:pt x="1" y="19"/>
                            </a:lnTo>
                            <a:lnTo>
                              <a:pt x="0" y="16"/>
                            </a:lnTo>
                            <a:lnTo>
                              <a:pt x="3" y="15"/>
                            </a:lnTo>
                            <a:lnTo>
                              <a:pt x="7" y="14"/>
                            </a:lnTo>
                            <a:lnTo>
                              <a:pt x="12" y="14"/>
                            </a:lnTo>
                            <a:lnTo>
                              <a:pt x="17" y="12"/>
                            </a:lnTo>
                            <a:lnTo>
                              <a:pt x="21" y="12"/>
                            </a:lnTo>
                            <a:lnTo>
                              <a:pt x="26" y="11"/>
                            </a:lnTo>
                            <a:lnTo>
                              <a:pt x="30" y="11"/>
                            </a:lnTo>
                            <a:lnTo>
                              <a:pt x="35" y="11"/>
                            </a:lnTo>
                            <a:lnTo>
                              <a:pt x="39" y="10"/>
                            </a:lnTo>
                            <a:lnTo>
                              <a:pt x="44" y="10"/>
                            </a:lnTo>
                            <a:lnTo>
                              <a:pt x="49" y="10"/>
                            </a:lnTo>
                            <a:lnTo>
                              <a:pt x="53" y="10"/>
                            </a:lnTo>
                            <a:lnTo>
                              <a:pt x="58" y="8"/>
                            </a:lnTo>
                            <a:lnTo>
                              <a:pt x="62" y="8"/>
                            </a:lnTo>
                            <a:lnTo>
                              <a:pt x="67" y="8"/>
                            </a:lnTo>
                            <a:lnTo>
                              <a:pt x="72" y="8"/>
                            </a:lnTo>
                            <a:lnTo>
                              <a:pt x="76" y="7"/>
                            </a:lnTo>
                            <a:lnTo>
                              <a:pt x="81" y="7"/>
                            </a:lnTo>
                            <a:lnTo>
                              <a:pt x="85" y="7"/>
                            </a:lnTo>
                            <a:lnTo>
                              <a:pt x="90" y="7"/>
                            </a:lnTo>
                            <a:lnTo>
                              <a:pt x="95" y="7"/>
                            </a:lnTo>
                            <a:lnTo>
                              <a:pt x="99" y="7"/>
                            </a:lnTo>
                            <a:lnTo>
                              <a:pt x="104" y="7"/>
                            </a:lnTo>
                            <a:lnTo>
                              <a:pt x="108" y="7"/>
                            </a:lnTo>
                            <a:lnTo>
                              <a:pt x="113" y="7"/>
                            </a:lnTo>
                            <a:lnTo>
                              <a:pt x="117" y="7"/>
                            </a:lnTo>
                            <a:lnTo>
                              <a:pt x="122" y="7"/>
                            </a:lnTo>
                            <a:lnTo>
                              <a:pt x="128" y="7"/>
                            </a:lnTo>
                            <a:lnTo>
                              <a:pt x="131" y="7"/>
                            </a:lnTo>
                            <a:lnTo>
                              <a:pt x="137" y="7"/>
                            </a:lnTo>
                            <a:lnTo>
                              <a:pt x="142" y="7"/>
                            </a:lnTo>
                            <a:lnTo>
                              <a:pt x="147" y="7"/>
                            </a:lnTo>
                            <a:lnTo>
                              <a:pt x="150" y="7"/>
                            </a:lnTo>
                            <a:lnTo>
                              <a:pt x="156" y="7"/>
                            </a:lnTo>
                            <a:lnTo>
                              <a:pt x="160" y="7"/>
                            </a:lnTo>
                            <a:lnTo>
                              <a:pt x="165" y="7"/>
                            </a:lnTo>
                            <a:lnTo>
                              <a:pt x="169" y="7"/>
                            </a:lnTo>
                            <a:lnTo>
                              <a:pt x="174" y="7"/>
                            </a:lnTo>
                            <a:lnTo>
                              <a:pt x="179" y="7"/>
                            </a:lnTo>
                            <a:lnTo>
                              <a:pt x="183" y="7"/>
                            </a:lnTo>
                            <a:lnTo>
                              <a:pt x="188" y="7"/>
                            </a:lnTo>
                            <a:lnTo>
                              <a:pt x="192" y="7"/>
                            </a:lnTo>
                            <a:lnTo>
                              <a:pt x="197" y="7"/>
                            </a:lnTo>
                            <a:lnTo>
                              <a:pt x="202" y="7"/>
                            </a:lnTo>
                            <a:lnTo>
                              <a:pt x="206" y="7"/>
                            </a:lnTo>
                            <a:lnTo>
                              <a:pt x="211" y="7"/>
                            </a:lnTo>
                            <a:lnTo>
                              <a:pt x="215" y="7"/>
                            </a:lnTo>
                            <a:lnTo>
                              <a:pt x="221" y="7"/>
                            </a:lnTo>
                            <a:lnTo>
                              <a:pt x="225" y="7"/>
                            </a:lnTo>
                            <a:lnTo>
                              <a:pt x="231" y="7"/>
                            </a:lnTo>
                            <a:lnTo>
                              <a:pt x="235" y="7"/>
                            </a:lnTo>
                            <a:lnTo>
                              <a:pt x="240" y="7"/>
                            </a:lnTo>
                            <a:lnTo>
                              <a:pt x="244" y="7"/>
                            </a:lnTo>
                            <a:lnTo>
                              <a:pt x="249" y="7"/>
                            </a:lnTo>
                            <a:lnTo>
                              <a:pt x="254" y="7"/>
                            </a:lnTo>
                            <a:lnTo>
                              <a:pt x="260" y="7"/>
                            </a:lnTo>
                            <a:lnTo>
                              <a:pt x="263" y="5"/>
                            </a:lnTo>
                            <a:lnTo>
                              <a:pt x="269" y="5"/>
                            </a:lnTo>
                            <a:lnTo>
                              <a:pt x="273" y="5"/>
                            </a:lnTo>
                            <a:lnTo>
                              <a:pt x="278" y="5"/>
                            </a:lnTo>
                            <a:lnTo>
                              <a:pt x="283" y="4"/>
                            </a:lnTo>
                            <a:lnTo>
                              <a:pt x="287" y="4"/>
                            </a:lnTo>
                            <a:lnTo>
                              <a:pt x="292" y="4"/>
                            </a:lnTo>
                            <a:lnTo>
                              <a:pt x="296" y="4"/>
                            </a:lnTo>
                            <a:lnTo>
                              <a:pt x="303" y="4"/>
                            </a:lnTo>
                            <a:lnTo>
                              <a:pt x="307" y="4"/>
                            </a:lnTo>
                            <a:lnTo>
                              <a:pt x="312" y="4"/>
                            </a:lnTo>
                            <a:lnTo>
                              <a:pt x="318" y="4"/>
                            </a:lnTo>
                            <a:lnTo>
                              <a:pt x="322" y="4"/>
                            </a:lnTo>
                            <a:lnTo>
                              <a:pt x="327" y="4"/>
                            </a:lnTo>
                            <a:lnTo>
                              <a:pt x="333" y="4"/>
                            </a:lnTo>
                            <a:lnTo>
                              <a:pt x="339" y="4"/>
                            </a:lnTo>
                            <a:lnTo>
                              <a:pt x="344" y="4"/>
                            </a:lnTo>
                            <a:lnTo>
                              <a:pt x="348" y="4"/>
                            </a:lnTo>
                            <a:lnTo>
                              <a:pt x="355" y="4"/>
                            </a:lnTo>
                            <a:lnTo>
                              <a:pt x="359" y="4"/>
                            </a:lnTo>
                            <a:lnTo>
                              <a:pt x="365" y="4"/>
                            </a:lnTo>
                            <a:lnTo>
                              <a:pt x="370" y="4"/>
                            </a:lnTo>
                            <a:lnTo>
                              <a:pt x="376" y="4"/>
                            </a:lnTo>
                            <a:lnTo>
                              <a:pt x="382" y="4"/>
                            </a:lnTo>
                            <a:lnTo>
                              <a:pt x="387" y="4"/>
                            </a:lnTo>
                            <a:lnTo>
                              <a:pt x="391" y="4"/>
                            </a:lnTo>
                            <a:lnTo>
                              <a:pt x="396" y="4"/>
                            </a:lnTo>
                            <a:lnTo>
                              <a:pt x="402" y="4"/>
                            </a:lnTo>
                            <a:lnTo>
                              <a:pt x="407" y="4"/>
                            </a:lnTo>
                            <a:lnTo>
                              <a:pt x="413" y="4"/>
                            </a:lnTo>
                            <a:lnTo>
                              <a:pt x="417" y="4"/>
                            </a:lnTo>
                            <a:lnTo>
                              <a:pt x="423" y="4"/>
                            </a:lnTo>
                            <a:lnTo>
                              <a:pt x="428" y="3"/>
                            </a:lnTo>
                            <a:lnTo>
                              <a:pt x="433" y="3"/>
                            </a:lnTo>
                            <a:lnTo>
                              <a:pt x="437" y="1"/>
                            </a:lnTo>
                            <a:lnTo>
                              <a:pt x="443" y="1"/>
                            </a:lnTo>
                            <a:lnTo>
                              <a:pt x="448" y="1"/>
                            </a:lnTo>
                            <a:lnTo>
                              <a:pt x="454" y="0"/>
                            </a:lnTo>
                            <a:lnTo>
                              <a:pt x="459" y="0"/>
                            </a:lnTo>
                            <a:lnTo>
                              <a:pt x="4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Freeform 189"/>
                      <p:cNvSpPr/>
                      <p:nvPr/>
                    </p:nvSpPr>
                    <p:spPr>
                      <a:xfrm>
                        <a:off x="3199320" y="2977920"/>
                        <a:ext cx="4320" cy="864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8640"/>
                          <a:gd name="textAreaBottom" fmla="*/ 9000 h 8640"/>
                        </a:gdLst>
                        <a:ahLst/>
                        <a:rect l="textAreaLeft" t="textAreaTop" r="textAreaRight" b="textAreaBottom"/>
                        <a:pathLst>
                          <a:path w="52" h="86">
                            <a:moveTo>
                              <a:pt x="9" y="0"/>
                            </a:moveTo>
                            <a:lnTo>
                              <a:pt x="15" y="1"/>
                            </a:lnTo>
                            <a:lnTo>
                              <a:pt x="21" y="5"/>
                            </a:lnTo>
                            <a:lnTo>
                              <a:pt x="24" y="8"/>
                            </a:lnTo>
                            <a:lnTo>
                              <a:pt x="29" y="11"/>
                            </a:lnTo>
                            <a:lnTo>
                              <a:pt x="32" y="14"/>
                            </a:lnTo>
                            <a:lnTo>
                              <a:pt x="34" y="19"/>
                            </a:lnTo>
                            <a:lnTo>
                              <a:pt x="35" y="23"/>
                            </a:lnTo>
                            <a:lnTo>
                              <a:pt x="38" y="29"/>
                            </a:lnTo>
                            <a:lnTo>
                              <a:pt x="38" y="33"/>
                            </a:lnTo>
                            <a:lnTo>
                              <a:pt x="40" y="38"/>
                            </a:lnTo>
                            <a:lnTo>
                              <a:pt x="40" y="44"/>
                            </a:lnTo>
                            <a:lnTo>
                              <a:pt x="41" y="48"/>
                            </a:lnTo>
                            <a:lnTo>
                              <a:pt x="43" y="54"/>
                            </a:lnTo>
                            <a:lnTo>
                              <a:pt x="46" y="58"/>
                            </a:lnTo>
                            <a:lnTo>
                              <a:pt x="49" y="62"/>
                            </a:lnTo>
                            <a:lnTo>
                              <a:pt x="52" y="67"/>
                            </a:lnTo>
                            <a:lnTo>
                              <a:pt x="52" y="71"/>
                            </a:lnTo>
                            <a:lnTo>
                              <a:pt x="49" y="77"/>
                            </a:lnTo>
                            <a:lnTo>
                              <a:pt x="46" y="82"/>
                            </a:lnTo>
                            <a:lnTo>
                              <a:pt x="44" y="86"/>
                            </a:lnTo>
                            <a:lnTo>
                              <a:pt x="41" y="85"/>
                            </a:lnTo>
                            <a:lnTo>
                              <a:pt x="37" y="85"/>
                            </a:lnTo>
                            <a:lnTo>
                              <a:pt x="34" y="82"/>
                            </a:lnTo>
                            <a:lnTo>
                              <a:pt x="32" y="82"/>
                            </a:lnTo>
                            <a:lnTo>
                              <a:pt x="26" y="78"/>
                            </a:lnTo>
                            <a:lnTo>
                              <a:pt x="23" y="74"/>
                            </a:lnTo>
                            <a:lnTo>
                              <a:pt x="18" y="70"/>
                            </a:lnTo>
                            <a:lnTo>
                              <a:pt x="15" y="65"/>
                            </a:lnTo>
                            <a:lnTo>
                              <a:pt x="12" y="60"/>
                            </a:lnTo>
                            <a:lnTo>
                              <a:pt x="11" y="55"/>
                            </a:lnTo>
                            <a:lnTo>
                              <a:pt x="8" y="48"/>
                            </a:lnTo>
                            <a:lnTo>
                              <a:pt x="6" y="43"/>
                            </a:lnTo>
                            <a:lnTo>
                              <a:pt x="4" y="37"/>
                            </a:lnTo>
                            <a:lnTo>
                              <a:pt x="4" y="32"/>
                            </a:lnTo>
                            <a:lnTo>
                              <a:pt x="3" y="26"/>
                            </a:lnTo>
                            <a:lnTo>
                              <a:pt x="1" y="21"/>
                            </a:lnTo>
                            <a:lnTo>
                              <a:pt x="0" y="15"/>
                            </a:lnTo>
                            <a:lnTo>
                              <a:pt x="0" y="10"/>
                            </a:lnTo>
                            <a:lnTo>
                              <a:pt x="1" y="8"/>
                            </a:lnTo>
                            <a:lnTo>
                              <a:pt x="4" y="5"/>
                            </a:lnTo>
                            <a:lnTo>
                              <a:pt x="8" y="3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0" name="Freeform 190"/>
                      <p:cNvSpPr/>
                      <p:nvPr/>
                    </p:nvSpPr>
                    <p:spPr>
                      <a:xfrm>
                        <a:off x="3192480" y="2978640"/>
                        <a:ext cx="3960" cy="7200"/>
                      </a:xfrm>
                      <a:custGeom>
                        <a:avLst/>
                        <a:gdLst>
                          <a:gd name="textAreaLeft" fmla="*/ 0 w 3960"/>
                          <a:gd name="textAreaRight" fmla="*/ 4320 w 396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8" h="73">
                            <a:moveTo>
                              <a:pt x="10" y="0"/>
                            </a:moveTo>
                            <a:lnTo>
                              <a:pt x="14" y="1"/>
                            </a:lnTo>
                            <a:lnTo>
                              <a:pt x="19" y="5"/>
                            </a:lnTo>
                            <a:lnTo>
                              <a:pt x="23" y="8"/>
                            </a:lnTo>
                            <a:lnTo>
                              <a:pt x="26" y="11"/>
                            </a:lnTo>
                            <a:lnTo>
                              <a:pt x="29" y="15"/>
                            </a:lnTo>
                            <a:lnTo>
                              <a:pt x="33" y="19"/>
                            </a:lnTo>
                            <a:lnTo>
                              <a:pt x="34" y="23"/>
                            </a:lnTo>
                            <a:lnTo>
                              <a:pt x="37" y="29"/>
                            </a:lnTo>
                            <a:lnTo>
                              <a:pt x="39" y="33"/>
                            </a:lnTo>
                            <a:lnTo>
                              <a:pt x="40" y="38"/>
                            </a:lnTo>
                            <a:lnTo>
                              <a:pt x="42" y="42"/>
                            </a:lnTo>
                            <a:lnTo>
                              <a:pt x="43" y="48"/>
                            </a:lnTo>
                            <a:lnTo>
                              <a:pt x="45" y="53"/>
                            </a:lnTo>
                            <a:lnTo>
                              <a:pt x="45" y="57"/>
                            </a:lnTo>
                            <a:lnTo>
                              <a:pt x="46" y="63"/>
                            </a:lnTo>
                            <a:lnTo>
                              <a:pt x="48" y="68"/>
                            </a:lnTo>
                            <a:lnTo>
                              <a:pt x="43" y="68"/>
                            </a:lnTo>
                            <a:lnTo>
                              <a:pt x="37" y="70"/>
                            </a:lnTo>
                            <a:lnTo>
                              <a:pt x="31" y="71"/>
                            </a:lnTo>
                            <a:lnTo>
                              <a:pt x="25" y="73"/>
                            </a:lnTo>
                            <a:lnTo>
                              <a:pt x="22" y="68"/>
                            </a:lnTo>
                            <a:lnTo>
                              <a:pt x="19" y="64"/>
                            </a:lnTo>
                            <a:lnTo>
                              <a:pt x="14" y="59"/>
                            </a:lnTo>
                            <a:lnTo>
                              <a:pt x="13" y="55"/>
                            </a:lnTo>
                            <a:lnTo>
                              <a:pt x="10" y="51"/>
                            </a:lnTo>
                            <a:lnTo>
                              <a:pt x="7" y="45"/>
                            </a:lnTo>
                            <a:lnTo>
                              <a:pt x="5" y="41"/>
                            </a:lnTo>
                            <a:lnTo>
                              <a:pt x="3" y="37"/>
                            </a:lnTo>
                            <a:lnTo>
                              <a:pt x="2" y="31"/>
                            </a:lnTo>
                            <a:lnTo>
                              <a:pt x="0" y="27"/>
                            </a:lnTo>
                            <a:lnTo>
                              <a:pt x="0" y="22"/>
                            </a:lnTo>
                            <a:lnTo>
                              <a:pt x="0" y="18"/>
                            </a:lnTo>
                            <a:lnTo>
                              <a:pt x="2" y="12"/>
                            </a:lnTo>
                            <a:lnTo>
                              <a:pt x="3" y="8"/>
                            </a:lnTo>
                            <a:lnTo>
                              <a:pt x="7" y="4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1" name="Freeform 191"/>
                      <p:cNvSpPr/>
                      <p:nvPr/>
                    </p:nvSpPr>
                    <p:spPr>
                      <a:xfrm>
                        <a:off x="3207240" y="2979360"/>
                        <a:ext cx="4680" cy="6840"/>
                      </a:xfrm>
                      <a:custGeom>
                        <a:avLst/>
                        <a:gdLst>
                          <a:gd name="textAreaLeft" fmla="*/ 0 w 4680"/>
                          <a:gd name="textAreaRight" fmla="*/ 4680 w 46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55" h="70">
                            <a:moveTo>
                              <a:pt x="12" y="0"/>
                            </a:moveTo>
                            <a:lnTo>
                              <a:pt x="16" y="2"/>
                            </a:lnTo>
                            <a:lnTo>
                              <a:pt x="21" y="4"/>
                            </a:lnTo>
                            <a:lnTo>
                              <a:pt x="24" y="7"/>
                            </a:lnTo>
                            <a:lnTo>
                              <a:pt x="29" y="11"/>
                            </a:lnTo>
                            <a:lnTo>
                              <a:pt x="32" y="14"/>
                            </a:lnTo>
                            <a:lnTo>
                              <a:pt x="35" y="18"/>
                            </a:lnTo>
                            <a:lnTo>
                              <a:pt x="38" y="24"/>
                            </a:lnTo>
                            <a:lnTo>
                              <a:pt x="39" y="28"/>
                            </a:lnTo>
                            <a:lnTo>
                              <a:pt x="42" y="33"/>
                            </a:lnTo>
                            <a:lnTo>
                              <a:pt x="44" y="37"/>
                            </a:lnTo>
                            <a:lnTo>
                              <a:pt x="45" y="43"/>
                            </a:lnTo>
                            <a:lnTo>
                              <a:pt x="47" y="48"/>
                            </a:lnTo>
                            <a:lnTo>
                              <a:pt x="49" y="53"/>
                            </a:lnTo>
                            <a:lnTo>
                              <a:pt x="50" y="57"/>
                            </a:lnTo>
                            <a:lnTo>
                              <a:pt x="52" y="62"/>
                            </a:lnTo>
                            <a:lnTo>
                              <a:pt x="55" y="66"/>
                            </a:lnTo>
                            <a:lnTo>
                              <a:pt x="49" y="68"/>
                            </a:lnTo>
                            <a:lnTo>
                              <a:pt x="42" y="69"/>
                            </a:lnTo>
                            <a:lnTo>
                              <a:pt x="38" y="70"/>
                            </a:lnTo>
                            <a:lnTo>
                              <a:pt x="32" y="70"/>
                            </a:lnTo>
                            <a:lnTo>
                              <a:pt x="27" y="66"/>
                            </a:lnTo>
                            <a:lnTo>
                              <a:pt x="23" y="64"/>
                            </a:lnTo>
                            <a:lnTo>
                              <a:pt x="19" y="59"/>
                            </a:lnTo>
                            <a:lnTo>
                              <a:pt x="16" y="55"/>
                            </a:lnTo>
                            <a:lnTo>
                              <a:pt x="12" y="50"/>
                            </a:lnTo>
                            <a:lnTo>
                              <a:pt x="9" y="46"/>
                            </a:lnTo>
                            <a:lnTo>
                              <a:pt x="6" y="42"/>
                            </a:lnTo>
                            <a:lnTo>
                              <a:pt x="4" y="36"/>
                            </a:lnTo>
                            <a:lnTo>
                              <a:pt x="1" y="32"/>
                            </a:lnTo>
                            <a:lnTo>
                              <a:pt x="1" y="26"/>
                            </a:lnTo>
                            <a:lnTo>
                              <a:pt x="0" y="21"/>
                            </a:lnTo>
                            <a:lnTo>
                              <a:pt x="1" y="17"/>
                            </a:lnTo>
                            <a:lnTo>
                              <a:pt x="1" y="11"/>
                            </a:lnTo>
                            <a:lnTo>
                              <a:pt x="4" y="9"/>
                            </a:lnTo>
                            <a:lnTo>
                              <a:pt x="7" y="3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2" name="Freeform 192"/>
                      <p:cNvSpPr/>
                      <p:nvPr/>
                    </p:nvSpPr>
                    <p:spPr>
                      <a:xfrm>
                        <a:off x="3214080" y="2980080"/>
                        <a:ext cx="3960" cy="7200"/>
                      </a:xfrm>
                      <a:custGeom>
                        <a:avLst/>
                        <a:gdLst>
                          <a:gd name="textAreaLeft" fmla="*/ 0 w 3960"/>
                          <a:gd name="textAreaRight" fmla="*/ 3960 w 396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7" h="74">
                            <a:moveTo>
                              <a:pt x="9" y="0"/>
                            </a:moveTo>
                            <a:lnTo>
                              <a:pt x="15" y="2"/>
                            </a:lnTo>
                            <a:lnTo>
                              <a:pt x="19" y="4"/>
                            </a:lnTo>
                            <a:lnTo>
                              <a:pt x="24" y="7"/>
                            </a:lnTo>
                            <a:lnTo>
                              <a:pt x="29" y="11"/>
                            </a:lnTo>
                            <a:lnTo>
                              <a:pt x="30" y="14"/>
                            </a:lnTo>
                            <a:lnTo>
                              <a:pt x="33" y="19"/>
                            </a:lnTo>
                            <a:lnTo>
                              <a:pt x="36" y="25"/>
                            </a:lnTo>
                            <a:lnTo>
                              <a:pt x="38" y="29"/>
                            </a:lnTo>
                            <a:lnTo>
                              <a:pt x="38" y="35"/>
                            </a:lnTo>
                            <a:lnTo>
                              <a:pt x="39" y="40"/>
                            </a:lnTo>
                            <a:lnTo>
                              <a:pt x="41" y="46"/>
                            </a:lnTo>
                            <a:lnTo>
                              <a:pt x="42" y="51"/>
                            </a:lnTo>
                            <a:lnTo>
                              <a:pt x="42" y="55"/>
                            </a:lnTo>
                            <a:lnTo>
                              <a:pt x="44" y="61"/>
                            </a:lnTo>
                            <a:lnTo>
                              <a:pt x="45" y="65"/>
                            </a:lnTo>
                            <a:lnTo>
                              <a:pt x="47" y="70"/>
                            </a:lnTo>
                            <a:lnTo>
                              <a:pt x="41" y="70"/>
                            </a:lnTo>
                            <a:lnTo>
                              <a:pt x="35" y="72"/>
                            </a:lnTo>
                            <a:lnTo>
                              <a:pt x="29" y="73"/>
                            </a:lnTo>
                            <a:lnTo>
                              <a:pt x="26" y="74"/>
                            </a:lnTo>
                            <a:lnTo>
                              <a:pt x="21" y="70"/>
                            </a:lnTo>
                            <a:lnTo>
                              <a:pt x="18" y="66"/>
                            </a:lnTo>
                            <a:lnTo>
                              <a:pt x="15" y="61"/>
                            </a:lnTo>
                            <a:lnTo>
                              <a:pt x="12" y="57"/>
                            </a:lnTo>
                            <a:lnTo>
                              <a:pt x="9" y="51"/>
                            </a:lnTo>
                            <a:lnTo>
                              <a:pt x="7" y="47"/>
                            </a:lnTo>
                            <a:lnTo>
                              <a:pt x="4" y="41"/>
                            </a:lnTo>
                            <a:lnTo>
                              <a:pt x="4" y="37"/>
                            </a:lnTo>
                            <a:lnTo>
                              <a:pt x="1" y="32"/>
                            </a:lnTo>
                            <a:lnTo>
                              <a:pt x="1" y="26"/>
                            </a:lnTo>
                            <a:lnTo>
                              <a:pt x="0" y="22"/>
                            </a:lnTo>
                            <a:lnTo>
                              <a:pt x="1" y="17"/>
                            </a:lnTo>
                            <a:lnTo>
                              <a:pt x="1" y="13"/>
                            </a:lnTo>
                            <a:lnTo>
                              <a:pt x="3" y="8"/>
                            </a:lnTo>
                            <a:lnTo>
                              <a:pt x="6" y="4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3" name="Freeform 193"/>
                      <p:cNvSpPr/>
                      <p:nvPr/>
                    </p:nvSpPr>
                    <p:spPr>
                      <a:xfrm>
                        <a:off x="3131280" y="2922840"/>
                        <a:ext cx="4680" cy="5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52" h="53">
                            <a:moveTo>
                              <a:pt x="38" y="0"/>
                            </a:moveTo>
                            <a:lnTo>
                              <a:pt x="41" y="0"/>
                            </a:lnTo>
                            <a:lnTo>
                              <a:pt x="44" y="1"/>
                            </a:lnTo>
                            <a:lnTo>
                              <a:pt x="46" y="2"/>
                            </a:lnTo>
                            <a:lnTo>
                              <a:pt x="49" y="4"/>
                            </a:lnTo>
                            <a:lnTo>
                              <a:pt x="50" y="8"/>
                            </a:lnTo>
                            <a:lnTo>
                              <a:pt x="52" y="13"/>
                            </a:lnTo>
                            <a:lnTo>
                              <a:pt x="50" y="19"/>
                            </a:lnTo>
                            <a:lnTo>
                              <a:pt x="49" y="24"/>
                            </a:lnTo>
                            <a:lnTo>
                              <a:pt x="46" y="30"/>
                            </a:lnTo>
                            <a:lnTo>
                              <a:pt x="43" y="37"/>
                            </a:lnTo>
                            <a:lnTo>
                              <a:pt x="38" y="41"/>
                            </a:lnTo>
                            <a:lnTo>
                              <a:pt x="32" y="46"/>
                            </a:lnTo>
                            <a:lnTo>
                              <a:pt x="27" y="49"/>
                            </a:lnTo>
                            <a:lnTo>
                              <a:pt x="21" y="53"/>
                            </a:lnTo>
                            <a:lnTo>
                              <a:pt x="15" y="53"/>
                            </a:lnTo>
                            <a:lnTo>
                              <a:pt x="9" y="53"/>
                            </a:lnTo>
                            <a:lnTo>
                              <a:pt x="4" y="50"/>
                            </a:lnTo>
                            <a:lnTo>
                              <a:pt x="0" y="48"/>
                            </a:lnTo>
                            <a:lnTo>
                              <a:pt x="0" y="43"/>
                            </a:lnTo>
                            <a:lnTo>
                              <a:pt x="0" y="39"/>
                            </a:lnTo>
                            <a:lnTo>
                              <a:pt x="1" y="35"/>
                            </a:lnTo>
                            <a:lnTo>
                              <a:pt x="3" y="33"/>
                            </a:lnTo>
                            <a:lnTo>
                              <a:pt x="4" y="28"/>
                            </a:lnTo>
                            <a:lnTo>
                              <a:pt x="6" y="26"/>
                            </a:lnTo>
                            <a:lnTo>
                              <a:pt x="9" y="23"/>
                            </a:lnTo>
                            <a:lnTo>
                              <a:pt x="12" y="19"/>
                            </a:lnTo>
                            <a:lnTo>
                              <a:pt x="14" y="16"/>
                            </a:lnTo>
                            <a:lnTo>
                              <a:pt x="17" y="12"/>
                            </a:lnTo>
                            <a:lnTo>
                              <a:pt x="20" y="9"/>
                            </a:lnTo>
                            <a:lnTo>
                              <a:pt x="24" y="8"/>
                            </a:lnTo>
                            <a:lnTo>
                              <a:pt x="27" y="5"/>
                            </a:lnTo>
                            <a:lnTo>
                              <a:pt x="30" y="2"/>
                            </a:lnTo>
                            <a:lnTo>
                              <a:pt x="34" y="1"/>
                            </a:lnTo>
                            <a:lnTo>
                              <a:pt x="3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Freeform 194"/>
                      <p:cNvSpPr/>
                      <p:nvPr/>
                    </p:nvSpPr>
                    <p:spPr>
                      <a:xfrm>
                        <a:off x="3131280" y="2927520"/>
                        <a:ext cx="5400" cy="828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8280"/>
                          <a:gd name="textAreaBottom" fmla="*/ 8640 h 8280"/>
                        </a:gdLst>
                        <a:ahLst/>
                        <a:rect l="textAreaLeft" t="textAreaTop" r="textAreaRight" b="textAreaBottom"/>
                        <a:pathLst>
                          <a:path w="63" h="84">
                            <a:moveTo>
                              <a:pt x="47" y="0"/>
                            </a:moveTo>
                            <a:lnTo>
                              <a:pt x="50" y="1"/>
                            </a:lnTo>
                            <a:lnTo>
                              <a:pt x="53" y="4"/>
                            </a:lnTo>
                            <a:lnTo>
                              <a:pt x="55" y="5"/>
                            </a:lnTo>
                            <a:lnTo>
                              <a:pt x="58" y="8"/>
                            </a:lnTo>
                            <a:lnTo>
                              <a:pt x="61" y="14"/>
                            </a:lnTo>
                            <a:lnTo>
                              <a:pt x="63" y="18"/>
                            </a:lnTo>
                            <a:lnTo>
                              <a:pt x="63" y="23"/>
                            </a:lnTo>
                            <a:lnTo>
                              <a:pt x="61" y="29"/>
                            </a:lnTo>
                            <a:lnTo>
                              <a:pt x="60" y="34"/>
                            </a:lnTo>
                            <a:lnTo>
                              <a:pt x="56" y="41"/>
                            </a:lnTo>
                            <a:lnTo>
                              <a:pt x="52" y="47"/>
                            </a:lnTo>
                            <a:lnTo>
                              <a:pt x="49" y="52"/>
                            </a:lnTo>
                            <a:lnTo>
                              <a:pt x="44" y="58"/>
                            </a:lnTo>
                            <a:lnTo>
                              <a:pt x="40" y="63"/>
                            </a:lnTo>
                            <a:lnTo>
                              <a:pt x="35" y="69"/>
                            </a:lnTo>
                            <a:lnTo>
                              <a:pt x="32" y="74"/>
                            </a:lnTo>
                            <a:lnTo>
                              <a:pt x="27" y="78"/>
                            </a:lnTo>
                            <a:lnTo>
                              <a:pt x="24" y="84"/>
                            </a:lnTo>
                            <a:lnTo>
                              <a:pt x="18" y="82"/>
                            </a:lnTo>
                            <a:lnTo>
                              <a:pt x="12" y="81"/>
                            </a:lnTo>
                            <a:lnTo>
                              <a:pt x="9" y="80"/>
                            </a:lnTo>
                            <a:lnTo>
                              <a:pt x="6" y="80"/>
                            </a:lnTo>
                            <a:lnTo>
                              <a:pt x="3" y="80"/>
                            </a:lnTo>
                            <a:lnTo>
                              <a:pt x="0" y="80"/>
                            </a:lnTo>
                            <a:lnTo>
                              <a:pt x="1" y="74"/>
                            </a:lnTo>
                            <a:lnTo>
                              <a:pt x="4" y="69"/>
                            </a:lnTo>
                            <a:lnTo>
                              <a:pt x="6" y="63"/>
                            </a:lnTo>
                            <a:lnTo>
                              <a:pt x="9" y="58"/>
                            </a:lnTo>
                            <a:lnTo>
                              <a:pt x="12" y="52"/>
                            </a:lnTo>
                            <a:lnTo>
                              <a:pt x="15" y="47"/>
                            </a:lnTo>
                            <a:lnTo>
                              <a:pt x="17" y="43"/>
                            </a:lnTo>
                            <a:lnTo>
                              <a:pt x="21" y="38"/>
                            </a:lnTo>
                            <a:lnTo>
                              <a:pt x="23" y="33"/>
                            </a:lnTo>
                            <a:lnTo>
                              <a:pt x="26" y="27"/>
                            </a:lnTo>
                            <a:lnTo>
                              <a:pt x="29" y="23"/>
                            </a:lnTo>
                            <a:lnTo>
                              <a:pt x="34" y="19"/>
                            </a:lnTo>
                            <a:lnTo>
                              <a:pt x="37" y="14"/>
                            </a:lnTo>
                            <a:lnTo>
                              <a:pt x="40" y="10"/>
                            </a:lnTo>
                            <a:lnTo>
                              <a:pt x="44" y="4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5" name="Freeform 195"/>
                      <p:cNvSpPr/>
                      <p:nvPr/>
                    </p:nvSpPr>
                    <p:spPr>
                      <a:xfrm>
                        <a:off x="3131280" y="2936160"/>
                        <a:ext cx="6480" cy="10080"/>
                      </a:xfrm>
                      <a:custGeom>
                        <a:avLst/>
                        <a:gdLst>
                          <a:gd name="textAreaLeft" fmla="*/ 0 w 6480"/>
                          <a:gd name="textAreaRight" fmla="*/ 6840 w 6480"/>
                          <a:gd name="textAreaTop" fmla="*/ 0 h 10080"/>
                          <a:gd name="textAreaBottom" fmla="*/ 10440 h 10080"/>
                        </a:gdLst>
                        <a:ahLst/>
                        <a:rect l="textAreaLeft" t="textAreaTop" r="textAreaRight" b="textAreaBottom"/>
                        <a:pathLst>
                          <a:path w="72" h="103">
                            <a:moveTo>
                              <a:pt x="55" y="0"/>
                            </a:moveTo>
                            <a:lnTo>
                              <a:pt x="58" y="1"/>
                            </a:lnTo>
                            <a:lnTo>
                              <a:pt x="63" y="4"/>
                            </a:lnTo>
                            <a:lnTo>
                              <a:pt x="64" y="7"/>
                            </a:lnTo>
                            <a:lnTo>
                              <a:pt x="67" y="8"/>
                            </a:lnTo>
                            <a:lnTo>
                              <a:pt x="69" y="13"/>
                            </a:lnTo>
                            <a:lnTo>
                              <a:pt x="72" y="19"/>
                            </a:lnTo>
                            <a:lnTo>
                              <a:pt x="70" y="24"/>
                            </a:lnTo>
                            <a:lnTo>
                              <a:pt x="69" y="30"/>
                            </a:lnTo>
                            <a:lnTo>
                              <a:pt x="66" y="35"/>
                            </a:lnTo>
                            <a:lnTo>
                              <a:pt x="63" y="41"/>
                            </a:lnTo>
                            <a:lnTo>
                              <a:pt x="60" y="46"/>
                            </a:lnTo>
                            <a:lnTo>
                              <a:pt x="55" y="53"/>
                            </a:lnTo>
                            <a:lnTo>
                              <a:pt x="50" y="57"/>
                            </a:lnTo>
                            <a:lnTo>
                              <a:pt x="46" y="64"/>
                            </a:lnTo>
                            <a:lnTo>
                              <a:pt x="43" y="70"/>
                            </a:lnTo>
                            <a:lnTo>
                              <a:pt x="40" y="75"/>
                            </a:lnTo>
                            <a:lnTo>
                              <a:pt x="38" y="81"/>
                            </a:lnTo>
                            <a:lnTo>
                              <a:pt x="38" y="86"/>
                            </a:lnTo>
                            <a:lnTo>
                              <a:pt x="32" y="90"/>
                            </a:lnTo>
                            <a:lnTo>
                              <a:pt x="27" y="94"/>
                            </a:lnTo>
                            <a:lnTo>
                              <a:pt x="21" y="99"/>
                            </a:lnTo>
                            <a:lnTo>
                              <a:pt x="17" y="103"/>
                            </a:lnTo>
                            <a:lnTo>
                              <a:pt x="12" y="100"/>
                            </a:lnTo>
                            <a:lnTo>
                              <a:pt x="9" y="97"/>
                            </a:lnTo>
                            <a:lnTo>
                              <a:pt x="4" y="93"/>
                            </a:lnTo>
                            <a:lnTo>
                              <a:pt x="0" y="90"/>
                            </a:lnTo>
                            <a:lnTo>
                              <a:pt x="0" y="88"/>
                            </a:lnTo>
                            <a:lnTo>
                              <a:pt x="1" y="83"/>
                            </a:lnTo>
                            <a:lnTo>
                              <a:pt x="1" y="81"/>
                            </a:lnTo>
                            <a:lnTo>
                              <a:pt x="3" y="78"/>
                            </a:lnTo>
                            <a:lnTo>
                              <a:pt x="6" y="71"/>
                            </a:lnTo>
                            <a:lnTo>
                              <a:pt x="9" y="66"/>
                            </a:lnTo>
                            <a:lnTo>
                              <a:pt x="12" y="60"/>
                            </a:lnTo>
                            <a:lnTo>
                              <a:pt x="17" y="55"/>
                            </a:lnTo>
                            <a:lnTo>
                              <a:pt x="20" y="49"/>
                            </a:lnTo>
                            <a:lnTo>
                              <a:pt x="24" y="44"/>
                            </a:lnTo>
                            <a:lnTo>
                              <a:pt x="29" y="38"/>
                            </a:lnTo>
                            <a:lnTo>
                              <a:pt x="32" y="31"/>
                            </a:lnTo>
                            <a:lnTo>
                              <a:pt x="35" y="26"/>
                            </a:lnTo>
                            <a:lnTo>
                              <a:pt x="40" y="22"/>
                            </a:lnTo>
                            <a:lnTo>
                              <a:pt x="44" y="16"/>
                            </a:lnTo>
                            <a:lnTo>
                              <a:pt x="47" y="11"/>
                            </a:lnTo>
                            <a:lnTo>
                              <a:pt x="52" y="5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6" name="Freeform 196"/>
                      <p:cNvSpPr/>
                      <p:nvPr/>
                    </p:nvSpPr>
                    <p:spPr>
                      <a:xfrm>
                        <a:off x="3160800" y="2907720"/>
                        <a:ext cx="5400" cy="360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3600"/>
                          <a:gd name="textAreaBottom" fmla="*/ 3960 h 3600"/>
                        </a:gdLst>
                        <a:ahLst/>
                        <a:rect l="textAreaLeft" t="textAreaTop" r="textAreaRight" b="textAreaBottom"/>
                        <a:pathLst>
                          <a:path w="62" h="39">
                            <a:moveTo>
                              <a:pt x="12" y="0"/>
                            </a:moveTo>
                            <a:lnTo>
                              <a:pt x="15" y="0"/>
                            </a:lnTo>
                            <a:lnTo>
                              <a:pt x="18" y="0"/>
                            </a:lnTo>
                            <a:lnTo>
                              <a:pt x="24" y="2"/>
                            </a:lnTo>
                            <a:lnTo>
                              <a:pt x="29" y="3"/>
                            </a:lnTo>
                            <a:lnTo>
                              <a:pt x="35" y="6"/>
                            </a:lnTo>
                            <a:lnTo>
                              <a:pt x="41" y="9"/>
                            </a:lnTo>
                            <a:lnTo>
                              <a:pt x="46" y="10"/>
                            </a:lnTo>
                            <a:lnTo>
                              <a:pt x="52" y="14"/>
                            </a:lnTo>
                            <a:lnTo>
                              <a:pt x="55" y="15"/>
                            </a:lnTo>
                            <a:lnTo>
                              <a:pt x="59" y="20"/>
                            </a:lnTo>
                            <a:lnTo>
                              <a:pt x="61" y="22"/>
                            </a:lnTo>
                            <a:lnTo>
                              <a:pt x="62" y="26"/>
                            </a:lnTo>
                            <a:lnTo>
                              <a:pt x="61" y="29"/>
                            </a:lnTo>
                            <a:lnTo>
                              <a:pt x="59" y="32"/>
                            </a:lnTo>
                            <a:lnTo>
                              <a:pt x="56" y="35"/>
                            </a:lnTo>
                            <a:lnTo>
                              <a:pt x="55" y="36"/>
                            </a:lnTo>
                            <a:lnTo>
                              <a:pt x="52" y="37"/>
                            </a:lnTo>
                            <a:lnTo>
                              <a:pt x="49" y="39"/>
                            </a:lnTo>
                            <a:lnTo>
                              <a:pt x="44" y="39"/>
                            </a:lnTo>
                            <a:lnTo>
                              <a:pt x="41" y="39"/>
                            </a:lnTo>
                            <a:lnTo>
                              <a:pt x="36" y="37"/>
                            </a:lnTo>
                            <a:lnTo>
                              <a:pt x="32" y="37"/>
                            </a:lnTo>
                            <a:lnTo>
                              <a:pt x="26" y="35"/>
                            </a:lnTo>
                            <a:lnTo>
                              <a:pt x="21" y="33"/>
                            </a:lnTo>
                            <a:lnTo>
                              <a:pt x="15" y="31"/>
                            </a:lnTo>
                            <a:lnTo>
                              <a:pt x="10" y="28"/>
                            </a:lnTo>
                            <a:lnTo>
                              <a:pt x="6" y="25"/>
                            </a:lnTo>
                            <a:lnTo>
                              <a:pt x="3" y="21"/>
                            </a:ln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0" y="10"/>
                            </a:lnTo>
                            <a:lnTo>
                              <a:pt x="3" y="7"/>
                            </a:lnTo>
                            <a:lnTo>
                              <a:pt x="4" y="6"/>
                            </a:lnTo>
                            <a:lnTo>
                              <a:pt x="6" y="3"/>
                            </a:lnTo>
                            <a:lnTo>
                              <a:pt x="9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7" name="Freeform 197"/>
                      <p:cNvSpPr/>
                      <p:nvPr/>
                    </p:nvSpPr>
                    <p:spPr>
                      <a:xfrm>
                        <a:off x="3160800" y="291276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4" h="42">
                            <a:moveTo>
                              <a:pt x="12" y="0"/>
                            </a:moveTo>
                            <a:lnTo>
                              <a:pt x="15" y="2"/>
                            </a:lnTo>
                            <a:lnTo>
                              <a:pt x="20" y="2"/>
                            </a:lnTo>
                            <a:lnTo>
                              <a:pt x="24" y="5"/>
                            </a:lnTo>
                            <a:lnTo>
                              <a:pt x="30" y="6"/>
                            </a:lnTo>
                            <a:lnTo>
                              <a:pt x="35" y="7"/>
                            </a:lnTo>
                            <a:lnTo>
                              <a:pt x="41" y="10"/>
                            </a:lnTo>
                            <a:lnTo>
                              <a:pt x="47" y="11"/>
                            </a:lnTo>
                            <a:lnTo>
                              <a:pt x="52" y="16"/>
                            </a:lnTo>
                            <a:lnTo>
                              <a:pt x="56" y="17"/>
                            </a:lnTo>
                            <a:lnTo>
                              <a:pt x="59" y="20"/>
                            </a:lnTo>
                            <a:lnTo>
                              <a:pt x="62" y="24"/>
                            </a:lnTo>
                            <a:lnTo>
                              <a:pt x="64" y="27"/>
                            </a:lnTo>
                            <a:lnTo>
                              <a:pt x="62" y="31"/>
                            </a:lnTo>
                            <a:lnTo>
                              <a:pt x="61" y="33"/>
                            </a:lnTo>
                            <a:lnTo>
                              <a:pt x="58" y="35"/>
                            </a:lnTo>
                            <a:lnTo>
                              <a:pt x="56" y="38"/>
                            </a:lnTo>
                            <a:lnTo>
                              <a:pt x="53" y="39"/>
                            </a:lnTo>
                            <a:lnTo>
                              <a:pt x="50" y="42"/>
                            </a:lnTo>
                            <a:lnTo>
                              <a:pt x="46" y="42"/>
                            </a:lnTo>
                            <a:lnTo>
                              <a:pt x="41" y="42"/>
                            </a:lnTo>
                            <a:lnTo>
                              <a:pt x="35" y="40"/>
                            </a:lnTo>
                            <a:lnTo>
                              <a:pt x="30" y="39"/>
                            </a:lnTo>
                            <a:lnTo>
                              <a:pt x="26" y="36"/>
                            </a:lnTo>
                            <a:lnTo>
                              <a:pt x="20" y="35"/>
                            </a:lnTo>
                            <a:lnTo>
                              <a:pt x="15" y="32"/>
                            </a:lnTo>
                            <a:lnTo>
                              <a:pt x="10" y="29"/>
                            </a:lnTo>
                            <a:lnTo>
                              <a:pt x="4" y="25"/>
                            </a:lnTo>
                            <a:lnTo>
                              <a:pt x="1" y="21"/>
                            </a:ln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0" y="10"/>
                            </a:lnTo>
                            <a:lnTo>
                              <a:pt x="1" y="7"/>
                            </a:lnTo>
                            <a:lnTo>
                              <a:pt x="3" y="5"/>
                            </a:lnTo>
                            <a:lnTo>
                              <a:pt x="6" y="3"/>
                            </a:lnTo>
                            <a:lnTo>
                              <a:pt x="7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8" name="Freeform 198"/>
                      <p:cNvSpPr/>
                      <p:nvPr/>
                    </p:nvSpPr>
                    <p:spPr>
                      <a:xfrm>
                        <a:off x="3160440" y="291924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7" h="39">
                            <a:moveTo>
                              <a:pt x="12" y="0"/>
                            </a:moveTo>
                            <a:lnTo>
                              <a:pt x="14" y="0"/>
                            </a:lnTo>
                            <a:lnTo>
                              <a:pt x="18" y="2"/>
                            </a:lnTo>
                            <a:lnTo>
                              <a:pt x="23" y="2"/>
                            </a:lnTo>
                            <a:lnTo>
                              <a:pt x="31" y="3"/>
                            </a:lnTo>
                            <a:lnTo>
                              <a:pt x="35" y="4"/>
                            </a:lnTo>
                            <a:lnTo>
                              <a:pt x="41" y="7"/>
                            </a:lnTo>
                            <a:lnTo>
                              <a:pt x="48" y="8"/>
                            </a:lnTo>
                            <a:lnTo>
                              <a:pt x="54" y="11"/>
                            </a:lnTo>
                            <a:lnTo>
                              <a:pt x="58" y="14"/>
                            </a:lnTo>
                            <a:lnTo>
                              <a:pt x="63" y="17"/>
                            </a:lnTo>
                            <a:lnTo>
                              <a:pt x="66" y="19"/>
                            </a:lnTo>
                            <a:lnTo>
                              <a:pt x="67" y="22"/>
                            </a:lnTo>
                            <a:lnTo>
                              <a:pt x="67" y="26"/>
                            </a:lnTo>
                            <a:lnTo>
                              <a:pt x="66" y="30"/>
                            </a:lnTo>
                            <a:lnTo>
                              <a:pt x="63" y="32"/>
                            </a:lnTo>
                            <a:lnTo>
                              <a:pt x="61" y="35"/>
                            </a:lnTo>
                            <a:lnTo>
                              <a:pt x="58" y="36"/>
                            </a:lnTo>
                            <a:lnTo>
                              <a:pt x="55" y="39"/>
                            </a:lnTo>
                            <a:lnTo>
                              <a:pt x="51" y="39"/>
                            </a:lnTo>
                            <a:lnTo>
                              <a:pt x="46" y="37"/>
                            </a:lnTo>
                            <a:lnTo>
                              <a:pt x="40" y="36"/>
                            </a:lnTo>
                            <a:lnTo>
                              <a:pt x="34" y="35"/>
                            </a:lnTo>
                            <a:lnTo>
                              <a:pt x="28" y="33"/>
                            </a:lnTo>
                            <a:lnTo>
                              <a:pt x="23" y="32"/>
                            </a:lnTo>
                            <a:lnTo>
                              <a:pt x="17" y="29"/>
                            </a:lnTo>
                            <a:lnTo>
                              <a:pt x="12" y="28"/>
                            </a:lnTo>
                            <a:lnTo>
                              <a:pt x="8" y="24"/>
                            </a:lnTo>
                            <a:lnTo>
                              <a:pt x="5" y="21"/>
                            </a:lnTo>
                            <a:lnTo>
                              <a:pt x="2" y="18"/>
                            </a:lnTo>
                            <a:lnTo>
                              <a:pt x="0" y="15"/>
                            </a:lnTo>
                            <a:lnTo>
                              <a:pt x="0" y="11"/>
                            </a:lnTo>
                            <a:lnTo>
                              <a:pt x="2" y="7"/>
                            </a:lnTo>
                            <a:lnTo>
                              <a:pt x="6" y="4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Freeform 199"/>
                      <p:cNvSpPr/>
                      <p:nvPr/>
                    </p:nvSpPr>
                    <p:spPr>
                      <a:xfrm>
                        <a:off x="3162240" y="2924280"/>
                        <a:ext cx="5040" cy="432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4320"/>
                          <a:gd name="textAreaBottom" fmla="*/ 4320 h 4320"/>
                        </a:gdLst>
                        <a:ahLst/>
                        <a:rect l="textAreaLeft" t="textAreaTop" r="textAreaRight" b="textAreaBottom"/>
                        <a:pathLst>
                          <a:path w="56" h="45">
                            <a:moveTo>
                              <a:pt x="14" y="0"/>
                            </a:moveTo>
                            <a:lnTo>
                              <a:pt x="17" y="1"/>
                            </a:lnTo>
                            <a:lnTo>
                              <a:pt x="20" y="2"/>
                            </a:lnTo>
                            <a:lnTo>
                              <a:pt x="25" y="4"/>
                            </a:lnTo>
                            <a:lnTo>
                              <a:pt x="30" y="7"/>
                            </a:lnTo>
                            <a:lnTo>
                              <a:pt x="34" y="8"/>
                            </a:lnTo>
                            <a:lnTo>
                              <a:pt x="39" y="12"/>
                            </a:lnTo>
                            <a:lnTo>
                              <a:pt x="43" y="15"/>
                            </a:lnTo>
                            <a:lnTo>
                              <a:pt x="48" y="19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6" y="28"/>
                            </a:lnTo>
                            <a:lnTo>
                              <a:pt x="56" y="33"/>
                            </a:lnTo>
                            <a:lnTo>
                              <a:pt x="54" y="35"/>
                            </a:lnTo>
                            <a:lnTo>
                              <a:pt x="52" y="38"/>
                            </a:lnTo>
                            <a:lnTo>
                              <a:pt x="49" y="41"/>
                            </a:lnTo>
                            <a:lnTo>
                              <a:pt x="48" y="42"/>
                            </a:lnTo>
                            <a:lnTo>
                              <a:pt x="45" y="44"/>
                            </a:lnTo>
                            <a:lnTo>
                              <a:pt x="42" y="45"/>
                            </a:lnTo>
                            <a:lnTo>
                              <a:pt x="37" y="44"/>
                            </a:lnTo>
                            <a:lnTo>
                              <a:pt x="33" y="44"/>
                            </a:lnTo>
                            <a:lnTo>
                              <a:pt x="28" y="41"/>
                            </a:lnTo>
                            <a:lnTo>
                              <a:pt x="23" y="39"/>
                            </a:lnTo>
                            <a:lnTo>
                              <a:pt x="19" y="37"/>
                            </a:lnTo>
                            <a:lnTo>
                              <a:pt x="16" y="34"/>
                            </a:lnTo>
                            <a:lnTo>
                              <a:pt x="11" y="30"/>
                            </a:lnTo>
                            <a:lnTo>
                              <a:pt x="8" y="27"/>
                            </a:lnTo>
                            <a:lnTo>
                              <a:pt x="5" y="23"/>
                            </a:lnTo>
                            <a:lnTo>
                              <a:pt x="2" y="20"/>
                            </a:lnTo>
                            <a:lnTo>
                              <a:pt x="0" y="16"/>
                            </a:lnTo>
                            <a:lnTo>
                              <a:pt x="2" y="13"/>
                            </a:lnTo>
                            <a:lnTo>
                              <a:pt x="2" y="9"/>
                            </a:lnTo>
                            <a:lnTo>
                              <a:pt x="5" y="7"/>
                            </a:lnTo>
                            <a:lnTo>
                              <a:pt x="8" y="2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Freeform 200"/>
                      <p:cNvSpPr/>
                      <p:nvPr/>
                    </p:nvSpPr>
                    <p:spPr>
                      <a:xfrm>
                        <a:off x="3184920" y="2940840"/>
                        <a:ext cx="3600" cy="936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9360"/>
                          <a:gd name="textAreaBottom" fmla="*/ 9720 h 9360"/>
                        </a:gdLst>
                        <a:ahLst/>
                        <a:rect l="textAreaLeft" t="textAreaTop" r="textAreaRight" b="textAreaBottom"/>
                        <a:pathLst>
                          <a:path w="44" h="96">
                            <a:moveTo>
                              <a:pt x="17" y="0"/>
                            </a:moveTo>
                            <a:lnTo>
                              <a:pt x="21" y="2"/>
                            </a:lnTo>
                            <a:lnTo>
                              <a:pt x="26" y="5"/>
                            </a:lnTo>
                            <a:lnTo>
                              <a:pt x="29" y="9"/>
                            </a:lnTo>
                            <a:lnTo>
                              <a:pt x="32" y="15"/>
                            </a:lnTo>
                            <a:lnTo>
                              <a:pt x="33" y="19"/>
                            </a:lnTo>
                            <a:lnTo>
                              <a:pt x="33" y="23"/>
                            </a:lnTo>
                            <a:lnTo>
                              <a:pt x="33" y="30"/>
                            </a:lnTo>
                            <a:lnTo>
                              <a:pt x="35" y="35"/>
                            </a:lnTo>
                            <a:lnTo>
                              <a:pt x="35" y="41"/>
                            </a:lnTo>
                            <a:lnTo>
                              <a:pt x="35" y="46"/>
                            </a:lnTo>
                            <a:lnTo>
                              <a:pt x="35" y="52"/>
                            </a:lnTo>
                            <a:lnTo>
                              <a:pt x="35" y="59"/>
                            </a:lnTo>
                            <a:lnTo>
                              <a:pt x="37" y="64"/>
                            </a:lnTo>
                            <a:lnTo>
                              <a:pt x="38" y="70"/>
                            </a:lnTo>
                            <a:lnTo>
                              <a:pt x="40" y="74"/>
                            </a:lnTo>
                            <a:lnTo>
                              <a:pt x="44" y="79"/>
                            </a:lnTo>
                            <a:lnTo>
                              <a:pt x="40" y="83"/>
                            </a:lnTo>
                            <a:lnTo>
                              <a:pt x="37" y="88"/>
                            </a:lnTo>
                            <a:lnTo>
                              <a:pt x="33" y="92"/>
                            </a:lnTo>
                            <a:lnTo>
                              <a:pt x="32" y="96"/>
                            </a:lnTo>
                            <a:lnTo>
                              <a:pt x="27" y="93"/>
                            </a:lnTo>
                            <a:lnTo>
                              <a:pt x="23" y="92"/>
                            </a:lnTo>
                            <a:lnTo>
                              <a:pt x="20" y="90"/>
                            </a:lnTo>
                            <a:lnTo>
                              <a:pt x="18" y="89"/>
                            </a:lnTo>
                            <a:lnTo>
                              <a:pt x="12" y="83"/>
                            </a:lnTo>
                            <a:lnTo>
                              <a:pt x="9" y="78"/>
                            </a:lnTo>
                            <a:lnTo>
                              <a:pt x="6" y="75"/>
                            </a:lnTo>
                            <a:lnTo>
                              <a:pt x="4" y="71"/>
                            </a:lnTo>
                            <a:lnTo>
                              <a:pt x="3" y="68"/>
                            </a:lnTo>
                            <a:lnTo>
                              <a:pt x="3" y="66"/>
                            </a:lnTo>
                            <a:lnTo>
                              <a:pt x="1" y="62"/>
                            </a:lnTo>
                            <a:lnTo>
                              <a:pt x="0" y="57"/>
                            </a:lnTo>
                            <a:lnTo>
                              <a:pt x="0" y="55"/>
                            </a:lnTo>
                            <a:lnTo>
                              <a:pt x="0" y="52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0" y="35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1" y="26"/>
                            </a:lnTo>
                            <a:lnTo>
                              <a:pt x="3" y="22"/>
                            </a:lnTo>
                            <a:lnTo>
                              <a:pt x="3" y="19"/>
                            </a:lnTo>
                            <a:lnTo>
                              <a:pt x="4" y="15"/>
                            </a:lnTo>
                            <a:lnTo>
                              <a:pt x="6" y="12"/>
                            </a:lnTo>
                            <a:lnTo>
                              <a:pt x="9" y="9"/>
                            </a:lnTo>
                            <a:lnTo>
                              <a:pt x="12" y="4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1" name="Freeform 201"/>
                      <p:cNvSpPr/>
                      <p:nvPr/>
                    </p:nvSpPr>
                    <p:spPr>
                      <a:xfrm>
                        <a:off x="3189240" y="2941200"/>
                        <a:ext cx="2520" cy="4320"/>
                      </a:xfrm>
                      <a:custGeom>
                        <a:avLst/>
                        <a:gdLst>
                          <a:gd name="textAreaLeft" fmla="*/ 0 w 2520"/>
                          <a:gd name="textAreaRight" fmla="*/ 2880 w 2520"/>
                          <a:gd name="textAreaTop" fmla="*/ 0 h 4320"/>
                          <a:gd name="textAreaBottom" fmla="*/ 4320 h 4320"/>
                        </a:gdLst>
                        <a:ahLst/>
                        <a:rect l="textAreaLeft" t="textAreaTop" r="textAreaRight" b="textAreaBottom"/>
                        <a:pathLst>
                          <a:path w="29" h="46">
                            <a:moveTo>
                              <a:pt x="12" y="0"/>
                            </a:moveTo>
                            <a:lnTo>
                              <a:pt x="17" y="0"/>
                            </a:lnTo>
                            <a:lnTo>
                              <a:pt x="22" y="3"/>
                            </a:lnTo>
                            <a:lnTo>
                              <a:pt x="25" y="6"/>
                            </a:lnTo>
                            <a:lnTo>
                              <a:pt x="28" y="10"/>
                            </a:lnTo>
                            <a:lnTo>
                              <a:pt x="28" y="16"/>
                            </a:lnTo>
                            <a:lnTo>
                              <a:pt x="29" y="21"/>
                            </a:lnTo>
                            <a:lnTo>
                              <a:pt x="29" y="27"/>
                            </a:lnTo>
                            <a:lnTo>
                              <a:pt x="29" y="32"/>
                            </a:lnTo>
                            <a:lnTo>
                              <a:pt x="28" y="36"/>
                            </a:lnTo>
                            <a:lnTo>
                              <a:pt x="25" y="40"/>
                            </a:lnTo>
                            <a:lnTo>
                              <a:pt x="22" y="43"/>
                            </a:lnTo>
                            <a:lnTo>
                              <a:pt x="19" y="46"/>
                            </a:lnTo>
                            <a:lnTo>
                              <a:pt x="14" y="46"/>
                            </a:lnTo>
                            <a:lnTo>
                              <a:pt x="9" y="43"/>
                            </a:lnTo>
                            <a:lnTo>
                              <a:pt x="6" y="42"/>
                            </a:lnTo>
                            <a:lnTo>
                              <a:pt x="5" y="40"/>
                            </a:lnTo>
                            <a:lnTo>
                              <a:pt x="2" y="38"/>
                            </a:lnTo>
                            <a:lnTo>
                              <a:pt x="0" y="33"/>
                            </a:lnTo>
                            <a:lnTo>
                              <a:pt x="0" y="31"/>
                            </a:lnTo>
                            <a:lnTo>
                              <a:pt x="0" y="25"/>
                            </a:lnTo>
                            <a:lnTo>
                              <a:pt x="3" y="20"/>
                            </a:lnTo>
                            <a:lnTo>
                              <a:pt x="5" y="16"/>
                            </a:lnTo>
                            <a:lnTo>
                              <a:pt x="6" y="9"/>
                            </a:ln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2" name="Freeform 202"/>
                      <p:cNvSpPr/>
                      <p:nvPr/>
                    </p:nvSpPr>
                    <p:spPr>
                      <a:xfrm>
                        <a:off x="3108240" y="2980080"/>
                        <a:ext cx="49680" cy="5760"/>
                      </a:xfrm>
                      <a:custGeom>
                        <a:avLst/>
                        <a:gdLst>
                          <a:gd name="textAreaLeft" fmla="*/ 0 w 49680"/>
                          <a:gd name="textAreaRight" fmla="*/ 50040 w 49680"/>
                          <a:gd name="textAreaTop" fmla="*/ 0 h 5760"/>
                          <a:gd name="textAreaBottom" fmla="*/ 6120 h 5760"/>
                        </a:gdLst>
                        <a:ahLst/>
                        <a:rect l="textAreaLeft" t="textAreaTop" r="textAreaRight" b="textAreaBottom"/>
                        <a:pathLst>
                          <a:path w="551" h="61">
                            <a:moveTo>
                              <a:pt x="372" y="0"/>
                            </a:moveTo>
                            <a:lnTo>
                              <a:pt x="377" y="0"/>
                            </a:lnTo>
                            <a:lnTo>
                              <a:pt x="383" y="0"/>
                            </a:lnTo>
                            <a:lnTo>
                              <a:pt x="387" y="0"/>
                            </a:lnTo>
                            <a:lnTo>
                              <a:pt x="394" y="0"/>
                            </a:lnTo>
                            <a:lnTo>
                              <a:pt x="398" y="0"/>
                            </a:lnTo>
                            <a:lnTo>
                              <a:pt x="404" y="0"/>
                            </a:lnTo>
                            <a:lnTo>
                              <a:pt x="410" y="0"/>
                            </a:lnTo>
                            <a:lnTo>
                              <a:pt x="415" y="2"/>
                            </a:lnTo>
                            <a:lnTo>
                              <a:pt x="421" y="0"/>
                            </a:lnTo>
                            <a:lnTo>
                              <a:pt x="426" y="0"/>
                            </a:lnTo>
                            <a:lnTo>
                              <a:pt x="432" y="0"/>
                            </a:lnTo>
                            <a:lnTo>
                              <a:pt x="438" y="0"/>
                            </a:lnTo>
                            <a:lnTo>
                              <a:pt x="442" y="0"/>
                            </a:lnTo>
                            <a:lnTo>
                              <a:pt x="449" y="0"/>
                            </a:lnTo>
                            <a:lnTo>
                              <a:pt x="455" y="0"/>
                            </a:lnTo>
                            <a:lnTo>
                              <a:pt x="459" y="0"/>
                            </a:lnTo>
                            <a:lnTo>
                              <a:pt x="465" y="0"/>
                            </a:lnTo>
                            <a:lnTo>
                              <a:pt x="470" y="0"/>
                            </a:lnTo>
                            <a:lnTo>
                              <a:pt x="476" y="0"/>
                            </a:lnTo>
                            <a:lnTo>
                              <a:pt x="482" y="0"/>
                            </a:lnTo>
                            <a:lnTo>
                              <a:pt x="487" y="0"/>
                            </a:lnTo>
                            <a:lnTo>
                              <a:pt x="493" y="0"/>
                            </a:lnTo>
                            <a:lnTo>
                              <a:pt x="499" y="0"/>
                            </a:lnTo>
                            <a:lnTo>
                              <a:pt x="504" y="0"/>
                            </a:lnTo>
                            <a:lnTo>
                              <a:pt x="510" y="0"/>
                            </a:lnTo>
                            <a:lnTo>
                              <a:pt x="514" y="0"/>
                            </a:lnTo>
                            <a:lnTo>
                              <a:pt x="520" y="2"/>
                            </a:lnTo>
                            <a:lnTo>
                              <a:pt x="527" y="2"/>
                            </a:lnTo>
                            <a:lnTo>
                              <a:pt x="531" y="2"/>
                            </a:lnTo>
                            <a:lnTo>
                              <a:pt x="537" y="3"/>
                            </a:lnTo>
                            <a:lnTo>
                              <a:pt x="543" y="3"/>
                            </a:lnTo>
                            <a:lnTo>
                              <a:pt x="548" y="4"/>
                            </a:lnTo>
                            <a:lnTo>
                              <a:pt x="548" y="8"/>
                            </a:lnTo>
                            <a:lnTo>
                              <a:pt x="550" y="14"/>
                            </a:lnTo>
                            <a:lnTo>
                              <a:pt x="551" y="19"/>
                            </a:lnTo>
                            <a:lnTo>
                              <a:pt x="551" y="25"/>
                            </a:lnTo>
                            <a:lnTo>
                              <a:pt x="543" y="25"/>
                            </a:lnTo>
                            <a:lnTo>
                              <a:pt x="536" y="25"/>
                            </a:lnTo>
                            <a:lnTo>
                              <a:pt x="528" y="25"/>
                            </a:lnTo>
                            <a:lnTo>
                              <a:pt x="520" y="25"/>
                            </a:lnTo>
                            <a:lnTo>
                              <a:pt x="513" y="25"/>
                            </a:lnTo>
                            <a:lnTo>
                              <a:pt x="505" y="26"/>
                            </a:lnTo>
                            <a:lnTo>
                              <a:pt x="498" y="26"/>
                            </a:lnTo>
                            <a:lnTo>
                              <a:pt x="490" y="26"/>
                            </a:lnTo>
                            <a:lnTo>
                              <a:pt x="482" y="26"/>
                            </a:lnTo>
                            <a:lnTo>
                              <a:pt x="475" y="26"/>
                            </a:lnTo>
                            <a:lnTo>
                              <a:pt x="465" y="26"/>
                            </a:lnTo>
                            <a:lnTo>
                              <a:pt x="459" y="26"/>
                            </a:lnTo>
                            <a:lnTo>
                              <a:pt x="452" y="26"/>
                            </a:lnTo>
                            <a:lnTo>
                              <a:pt x="444" y="28"/>
                            </a:lnTo>
                            <a:lnTo>
                              <a:pt x="436" y="28"/>
                            </a:lnTo>
                            <a:lnTo>
                              <a:pt x="429" y="28"/>
                            </a:lnTo>
                            <a:lnTo>
                              <a:pt x="421" y="28"/>
                            </a:lnTo>
                            <a:lnTo>
                              <a:pt x="413" y="28"/>
                            </a:lnTo>
                            <a:lnTo>
                              <a:pt x="404" y="28"/>
                            </a:lnTo>
                            <a:lnTo>
                              <a:pt x="398" y="29"/>
                            </a:lnTo>
                            <a:lnTo>
                              <a:pt x="389" y="29"/>
                            </a:lnTo>
                            <a:lnTo>
                              <a:pt x="381" y="29"/>
                            </a:lnTo>
                            <a:lnTo>
                              <a:pt x="374" y="29"/>
                            </a:lnTo>
                            <a:lnTo>
                              <a:pt x="368" y="29"/>
                            </a:lnTo>
                            <a:lnTo>
                              <a:pt x="358" y="29"/>
                            </a:lnTo>
                            <a:lnTo>
                              <a:pt x="351" y="29"/>
                            </a:lnTo>
                            <a:lnTo>
                              <a:pt x="343" y="29"/>
                            </a:lnTo>
                            <a:lnTo>
                              <a:pt x="335" y="30"/>
                            </a:lnTo>
                            <a:lnTo>
                              <a:pt x="329" y="30"/>
                            </a:lnTo>
                            <a:lnTo>
                              <a:pt x="322" y="30"/>
                            </a:lnTo>
                            <a:lnTo>
                              <a:pt x="314" y="32"/>
                            </a:lnTo>
                            <a:lnTo>
                              <a:pt x="306" y="32"/>
                            </a:lnTo>
                            <a:lnTo>
                              <a:pt x="299" y="32"/>
                            </a:lnTo>
                            <a:lnTo>
                              <a:pt x="291" y="32"/>
                            </a:lnTo>
                            <a:lnTo>
                              <a:pt x="282" y="32"/>
                            </a:lnTo>
                            <a:lnTo>
                              <a:pt x="274" y="33"/>
                            </a:lnTo>
                            <a:lnTo>
                              <a:pt x="267" y="33"/>
                            </a:lnTo>
                            <a:lnTo>
                              <a:pt x="259" y="33"/>
                            </a:lnTo>
                            <a:lnTo>
                              <a:pt x="251" y="35"/>
                            </a:lnTo>
                            <a:lnTo>
                              <a:pt x="244" y="36"/>
                            </a:lnTo>
                            <a:lnTo>
                              <a:pt x="236" y="36"/>
                            </a:lnTo>
                            <a:lnTo>
                              <a:pt x="228" y="36"/>
                            </a:lnTo>
                            <a:lnTo>
                              <a:pt x="222" y="36"/>
                            </a:lnTo>
                            <a:lnTo>
                              <a:pt x="215" y="37"/>
                            </a:lnTo>
                            <a:lnTo>
                              <a:pt x="207" y="37"/>
                            </a:lnTo>
                            <a:lnTo>
                              <a:pt x="199" y="39"/>
                            </a:lnTo>
                            <a:lnTo>
                              <a:pt x="192" y="39"/>
                            </a:lnTo>
                            <a:lnTo>
                              <a:pt x="185" y="40"/>
                            </a:lnTo>
                            <a:lnTo>
                              <a:pt x="178" y="41"/>
                            </a:lnTo>
                            <a:lnTo>
                              <a:pt x="170" y="41"/>
                            </a:lnTo>
                            <a:lnTo>
                              <a:pt x="163" y="43"/>
                            </a:lnTo>
                            <a:lnTo>
                              <a:pt x="155" y="44"/>
                            </a:lnTo>
                            <a:lnTo>
                              <a:pt x="147" y="44"/>
                            </a:lnTo>
                            <a:lnTo>
                              <a:pt x="140" y="46"/>
                            </a:lnTo>
                            <a:lnTo>
                              <a:pt x="132" y="46"/>
                            </a:lnTo>
                            <a:lnTo>
                              <a:pt x="126" y="48"/>
                            </a:lnTo>
                            <a:lnTo>
                              <a:pt x="118" y="48"/>
                            </a:lnTo>
                            <a:lnTo>
                              <a:pt x="111" y="50"/>
                            </a:lnTo>
                            <a:lnTo>
                              <a:pt x="103" y="51"/>
                            </a:lnTo>
                            <a:lnTo>
                              <a:pt x="97" y="52"/>
                            </a:lnTo>
                            <a:lnTo>
                              <a:pt x="89" y="54"/>
                            </a:lnTo>
                            <a:lnTo>
                              <a:pt x="81" y="55"/>
                            </a:lnTo>
                            <a:lnTo>
                              <a:pt x="75" y="58"/>
                            </a:lnTo>
                            <a:lnTo>
                              <a:pt x="68" y="59"/>
                            </a:lnTo>
                            <a:lnTo>
                              <a:pt x="65" y="59"/>
                            </a:lnTo>
                            <a:lnTo>
                              <a:pt x="62" y="59"/>
                            </a:lnTo>
                            <a:lnTo>
                              <a:pt x="59" y="59"/>
                            </a:lnTo>
                            <a:lnTo>
                              <a:pt x="54" y="59"/>
                            </a:lnTo>
                            <a:lnTo>
                              <a:pt x="49" y="59"/>
                            </a:lnTo>
                            <a:lnTo>
                              <a:pt x="45" y="59"/>
                            </a:lnTo>
                            <a:lnTo>
                              <a:pt x="39" y="59"/>
                            </a:lnTo>
                            <a:lnTo>
                              <a:pt x="34" y="61"/>
                            </a:lnTo>
                            <a:lnTo>
                              <a:pt x="29" y="61"/>
                            </a:lnTo>
                            <a:lnTo>
                              <a:pt x="23" y="61"/>
                            </a:lnTo>
                            <a:lnTo>
                              <a:pt x="19" y="61"/>
                            </a:lnTo>
                            <a:lnTo>
                              <a:pt x="16" y="61"/>
                            </a:lnTo>
                            <a:lnTo>
                              <a:pt x="11" y="61"/>
                            </a:lnTo>
                            <a:lnTo>
                              <a:pt x="8" y="61"/>
                            </a:lnTo>
                            <a:lnTo>
                              <a:pt x="5" y="61"/>
                            </a:lnTo>
                            <a:lnTo>
                              <a:pt x="3" y="61"/>
                            </a:lnTo>
                            <a:lnTo>
                              <a:pt x="2" y="55"/>
                            </a:lnTo>
                            <a:lnTo>
                              <a:pt x="2" y="50"/>
                            </a:lnTo>
                            <a:lnTo>
                              <a:pt x="0" y="44"/>
                            </a:lnTo>
                            <a:lnTo>
                              <a:pt x="0" y="40"/>
                            </a:lnTo>
                            <a:lnTo>
                              <a:pt x="5" y="39"/>
                            </a:lnTo>
                            <a:lnTo>
                              <a:pt x="11" y="37"/>
                            </a:lnTo>
                            <a:lnTo>
                              <a:pt x="17" y="36"/>
                            </a:lnTo>
                            <a:lnTo>
                              <a:pt x="22" y="36"/>
                            </a:lnTo>
                            <a:lnTo>
                              <a:pt x="28" y="33"/>
                            </a:lnTo>
                            <a:lnTo>
                              <a:pt x="34" y="32"/>
                            </a:lnTo>
                            <a:lnTo>
                              <a:pt x="39" y="32"/>
                            </a:lnTo>
                            <a:lnTo>
                              <a:pt x="45" y="30"/>
                            </a:lnTo>
                            <a:lnTo>
                              <a:pt x="51" y="29"/>
                            </a:lnTo>
                            <a:lnTo>
                              <a:pt x="55" y="29"/>
                            </a:lnTo>
                            <a:lnTo>
                              <a:pt x="62" y="28"/>
                            </a:lnTo>
                            <a:lnTo>
                              <a:pt x="68" y="26"/>
                            </a:lnTo>
                            <a:lnTo>
                              <a:pt x="72" y="26"/>
                            </a:lnTo>
                            <a:lnTo>
                              <a:pt x="78" y="25"/>
                            </a:lnTo>
                            <a:lnTo>
                              <a:pt x="85" y="24"/>
                            </a:lnTo>
                            <a:lnTo>
                              <a:pt x="91" y="24"/>
                            </a:lnTo>
                            <a:lnTo>
                              <a:pt x="95" y="22"/>
                            </a:lnTo>
                            <a:lnTo>
                              <a:pt x="101" y="22"/>
                            </a:lnTo>
                            <a:lnTo>
                              <a:pt x="107" y="21"/>
                            </a:lnTo>
                            <a:lnTo>
                              <a:pt x="112" y="19"/>
                            </a:lnTo>
                            <a:lnTo>
                              <a:pt x="118" y="19"/>
                            </a:lnTo>
                            <a:lnTo>
                              <a:pt x="124" y="18"/>
                            </a:lnTo>
                            <a:lnTo>
                              <a:pt x="130" y="17"/>
                            </a:lnTo>
                            <a:lnTo>
                              <a:pt x="137" y="17"/>
                            </a:lnTo>
                            <a:lnTo>
                              <a:pt x="141" y="15"/>
                            </a:lnTo>
                            <a:lnTo>
                              <a:pt x="147" y="15"/>
                            </a:lnTo>
                            <a:lnTo>
                              <a:pt x="153" y="14"/>
                            </a:lnTo>
                            <a:lnTo>
                              <a:pt x="159" y="14"/>
                            </a:lnTo>
                            <a:lnTo>
                              <a:pt x="164" y="14"/>
                            </a:lnTo>
                            <a:lnTo>
                              <a:pt x="172" y="13"/>
                            </a:lnTo>
                            <a:lnTo>
                              <a:pt x="176" y="13"/>
                            </a:lnTo>
                            <a:lnTo>
                              <a:pt x="182" y="13"/>
                            </a:lnTo>
                            <a:lnTo>
                              <a:pt x="189" y="11"/>
                            </a:lnTo>
                            <a:lnTo>
                              <a:pt x="195" y="11"/>
                            </a:lnTo>
                            <a:lnTo>
                              <a:pt x="199" y="10"/>
                            </a:lnTo>
                            <a:lnTo>
                              <a:pt x="205" y="10"/>
                            </a:lnTo>
                            <a:lnTo>
                              <a:pt x="211" y="10"/>
                            </a:lnTo>
                            <a:lnTo>
                              <a:pt x="218" y="8"/>
                            </a:lnTo>
                            <a:lnTo>
                              <a:pt x="224" y="8"/>
                            </a:lnTo>
                            <a:lnTo>
                              <a:pt x="230" y="8"/>
                            </a:lnTo>
                            <a:lnTo>
                              <a:pt x="236" y="7"/>
                            </a:lnTo>
                            <a:lnTo>
                              <a:pt x="241" y="7"/>
                            </a:lnTo>
                            <a:lnTo>
                              <a:pt x="247" y="7"/>
                            </a:lnTo>
                            <a:lnTo>
                              <a:pt x="253" y="7"/>
                            </a:lnTo>
                            <a:lnTo>
                              <a:pt x="259" y="6"/>
                            </a:lnTo>
                            <a:lnTo>
                              <a:pt x="265" y="6"/>
                            </a:lnTo>
                            <a:lnTo>
                              <a:pt x="271" y="4"/>
                            </a:lnTo>
                            <a:lnTo>
                              <a:pt x="277" y="4"/>
                            </a:lnTo>
                            <a:lnTo>
                              <a:pt x="282" y="4"/>
                            </a:lnTo>
                            <a:lnTo>
                              <a:pt x="288" y="4"/>
                            </a:lnTo>
                            <a:lnTo>
                              <a:pt x="294" y="3"/>
                            </a:lnTo>
                            <a:lnTo>
                              <a:pt x="300" y="3"/>
                            </a:lnTo>
                            <a:lnTo>
                              <a:pt x="305" y="3"/>
                            </a:lnTo>
                            <a:lnTo>
                              <a:pt x="311" y="3"/>
                            </a:lnTo>
                            <a:lnTo>
                              <a:pt x="319" y="2"/>
                            </a:lnTo>
                            <a:lnTo>
                              <a:pt x="325" y="2"/>
                            </a:lnTo>
                            <a:lnTo>
                              <a:pt x="329" y="2"/>
                            </a:lnTo>
                            <a:lnTo>
                              <a:pt x="335" y="2"/>
                            </a:lnTo>
                            <a:lnTo>
                              <a:pt x="342" y="2"/>
                            </a:lnTo>
                            <a:lnTo>
                              <a:pt x="348" y="2"/>
                            </a:lnTo>
                            <a:lnTo>
                              <a:pt x="352" y="0"/>
                            </a:lnTo>
                            <a:lnTo>
                              <a:pt x="360" y="0"/>
                            </a:lnTo>
                            <a:lnTo>
                              <a:pt x="366" y="0"/>
                            </a:lnTo>
                            <a:lnTo>
                              <a:pt x="37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Freeform 203"/>
                      <p:cNvSpPr/>
                      <p:nvPr/>
                    </p:nvSpPr>
                    <p:spPr>
                      <a:xfrm>
                        <a:off x="3114360" y="2896560"/>
                        <a:ext cx="18720" cy="5544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211" h="551">
                            <a:moveTo>
                              <a:pt x="61" y="43"/>
                            </a:moveTo>
                            <a:lnTo>
                              <a:pt x="61" y="47"/>
                            </a:lnTo>
                            <a:lnTo>
                              <a:pt x="63" y="51"/>
                            </a:lnTo>
                            <a:lnTo>
                              <a:pt x="63" y="57"/>
                            </a:lnTo>
                            <a:lnTo>
                              <a:pt x="64" y="62"/>
                            </a:lnTo>
                            <a:lnTo>
                              <a:pt x="64" y="66"/>
                            </a:lnTo>
                            <a:lnTo>
                              <a:pt x="66" y="72"/>
                            </a:lnTo>
                            <a:lnTo>
                              <a:pt x="66" y="79"/>
                            </a:lnTo>
                            <a:lnTo>
                              <a:pt x="67" y="84"/>
                            </a:lnTo>
                            <a:lnTo>
                              <a:pt x="67" y="88"/>
                            </a:lnTo>
                            <a:lnTo>
                              <a:pt x="67" y="94"/>
                            </a:lnTo>
                            <a:lnTo>
                              <a:pt x="67" y="99"/>
                            </a:lnTo>
                            <a:lnTo>
                              <a:pt x="67" y="105"/>
                            </a:lnTo>
                            <a:lnTo>
                              <a:pt x="67" y="109"/>
                            </a:lnTo>
                            <a:lnTo>
                              <a:pt x="67" y="114"/>
                            </a:lnTo>
                            <a:lnTo>
                              <a:pt x="66" y="118"/>
                            </a:lnTo>
                            <a:lnTo>
                              <a:pt x="64" y="122"/>
                            </a:lnTo>
                            <a:lnTo>
                              <a:pt x="64" y="118"/>
                            </a:lnTo>
                            <a:lnTo>
                              <a:pt x="64" y="116"/>
                            </a:lnTo>
                            <a:lnTo>
                              <a:pt x="64" y="112"/>
                            </a:lnTo>
                            <a:lnTo>
                              <a:pt x="64" y="109"/>
                            </a:lnTo>
                            <a:lnTo>
                              <a:pt x="63" y="105"/>
                            </a:lnTo>
                            <a:lnTo>
                              <a:pt x="63" y="102"/>
                            </a:lnTo>
                            <a:lnTo>
                              <a:pt x="63" y="98"/>
                            </a:lnTo>
                            <a:lnTo>
                              <a:pt x="63" y="95"/>
                            </a:lnTo>
                            <a:lnTo>
                              <a:pt x="61" y="91"/>
                            </a:lnTo>
                            <a:lnTo>
                              <a:pt x="61" y="88"/>
                            </a:lnTo>
                            <a:lnTo>
                              <a:pt x="61" y="84"/>
                            </a:lnTo>
                            <a:lnTo>
                              <a:pt x="60" y="81"/>
                            </a:lnTo>
                            <a:lnTo>
                              <a:pt x="60" y="79"/>
                            </a:lnTo>
                            <a:lnTo>
                              <a:pt x="58" y="76"/>
                            </a:lnTo>
                            <a:lnTo>
                              <a:pt x="58" y="72"/>
                            </a:lnTo>
                            <a:lnTo>
                              <a:pt x="58" y="69"/>
                            </a:lnTo>
                            <a:lnTo>
                              <a:pt x="57" y="66"/>
                            </a:lnTo>
                            <a:lnTo>
                              <a:pt x="57" y="62"/>
                            </a:lnTo>
                            <a:lnTo>
                              <a:pt x="55" y="59"/>
                            </a:lnTo>
                            <a:lnTo>
                              <a:pt x="54" y="55"/>
                            </a:lnTo>
                            <a:lnTo>
                              <a:pt x="54" y="52"/>
                            </a:lnTo>
                            <a:lnTo>
                              <a:pt x="52" y="48"/>
                            </a:lnTo>
                            <a:lnTo>
                              <a:pt x="52" y="46"/>
                            </a:lnTo>
                            <a:lnTo>
                              <a:pt x="50" y="42"/>
                            </a:lnTo>
                            <a:lnTo>
                              <a:pt x="50" y="39"/>
                            </a:lnTo>
                            <a:lnTo>
                              <a:pt x="49" y="35"/>
                            </a:lnTo>
                            <a:lnTo>
                              <a:pt x="47" y="32"/>
                            </a:lnTo>
                            <a:lnTo>
                              <a:pt x="47" y="29"/>
                            </a:lnTo>
                            <a:lnTo>
                              <a:pt x="46" y="25"/>
                            </a:lnTo>
                            <a:lnTo>
                              <a:pt x="46" y="22"/>
                            </a:lnTo>
                            <a:lnTo>
                              <a:pt x="44" y="18"/>
                            </a:lnTo>
                            <a:lnTo>
                              <a:pt x="44" y="15"/>
                            </a:lnTo>
                            <a:lnTo>
                              <a:pt x="29" y="14"/>
                            </a:lnTo>
                            <a:lnTo>
                              <a:pt x="29" y="17"/>
                            </a:lnTo>
                            <a:lnTo>
                              <a:pt x="31" y="20"/>
                            </a:lnTo>
                            <a:lnTo>
                              <a:pt x="32" y="24"/>
                            </a:lnTo>
                            <a:lnTo>
                              <a:pt x="34" y="26"/>
                            </a:lnTo>
                            <a:lnTo>
                              <a:pt x="35" y="32"/>
                            </a:lnTo>
                            <a:lnTo>
                              <a:pt x="35" y="37"/>
                            </a:lnTo>
                            <a:lnTo>
                              <a:pt x="37" y="43"/>
                            </a:lnTo>
                            <a:lnTo>
                              <a:pt x="37" y="48"/>
                            </a:lnTo>
                            <a:lnTo>
                              <a:pt x="38" y="54"/>
                            </a:lnTo>
                            <a:lnTo>
                              <a:pt x="38" y="61"/>
                            </a:lnTo>
                            <a:lnTo>
                              <a:pt x="38" y="63"/>
                            </a:lnTo>
                            <a:lnTo>
                              <a:pt x="40" y="66"/>
                            </a:lnTo>
                            <a:lnTo>
                              <a:pt x="40" y="70"/>
                            </a:lnTo>
                            <a:lnTo>
                              <a:pt x="41" y="73"/>
                            </a:lnTo>
                            <a:lnTo>
                              <a:pt x="41" y="79"/>
                            </a:lnTo>
                            <a:lnTo>
                              <a:pt x="41" y="85"/>
                            </a:lnTo>
                            <a:lnTo>
                              <a:pt x="41" y="88"/>
                            </a:lnTo>
                            <a:lnTo>
                              <a:pt x="41" y="91"/>
                            </a:lnTo>
                            <a:lnTo>
                              <a:pt x="41" y="94"/>
                            </a:lnTo>
                            <a:lnTo>
                              <a:pt x="41" y="98"/>
                            </a:lnTo>
                            <a:lnTo>
                              <a:pt x="41" y="103"/>
                            </a:lnTo>
                            <a:lnTo>
                              <a:pt x="41" y="109"/>
                            </a:lnTo>
                            <a:lnTo>
                              <a:pt x="41" y="114"/>
                            </a:lnTo>
                            <a:lnTo>
                              <a:pt x="41" y="120"/>
                            </a:lnTo>
                            <a:lnTo>
                              <a:pt x="41" y="117"/>
                            </a:lnTo>
                            <a:lnTo>
                              <a:pt x="41" y="113"/>
                            </a:lnTo>
                            <a:lnTo>
                              <a:pt x="40" y="110"/>
                            </a:lnTo>
                            <a:lnTo>
                              <a:pt x="40" y="107"/>
                            </a:lnTo>
                            <a:lnTo>
                              <a:pt x="38" y="103"/>
                            </a:lnTo>
                            <a:lnTo>
                              <a:pt x="37" y="101"/>
                            </a:lnTo>
                            <a:lnTo>
                              <a:pt x="37" y="98"/>
                            </a:lnTo>
                            <a:lnTo>
                              <a:pt x="37" y="95"/>
                            </a:lnTo>
                            <a:lnTo>
                              <a:pt x="35" y="91"/>
                            </a:lnTo>
                            <a:lnTo>
                              <a:pt x="34" y="88"/>
                            </a:lnTo>
                            <a:lnTo>
                              <a:pt x="34" y="84"/>
                            </a:lnTo>
                            <a:lnTo>
                              <a:pt x="32" y="81"/>
                            </a:lnTo>
                            <a:lnTo>
                              <a:pt x="31" y="79"/>
                            </a:lnTo>
                            <a:lnTo>
                              <a:pt x="31" y="74"/>
                            </a:lnTo>
                            <a:lnTo>
                              <a:pt x="31" y="72"/>
                            </a:lnTo>
                            <a:lnTo>
                              <a:pt x="29" y="68"/>
                            </a:lnTo>
                            <a:lnTo>
                              <a:pt x="28" y="63"/>
                            </a:lnTo>
                            <a:lnTo>
                              <a:pt x="28" y="59"/>
                            </a:lnTo>
                            <a:lnTo>
                              <a:pt x="24" y="57"/>
                            </a:lnTo>
                            <a:lnTo>
                              <a:pt x="23" y="54"/>
                            </a:lnTo>
                            <a:lnTo>
                              <a:pt x="21" y="50"/>
                            </a:lnTo>
                            <a:lnTo>
                              <a:pt x="20" y="46"/>
                            </a:lnTo>
                            <a:lnTo>
                              <a:pt x="18" y="42"/>
                            </a:lnTo>
                            <a:lnTo>
                              <a:pt x="17" y="39"/>
                            </a:lnTo>
                            <a:lnTo>
                              <a:pt x="15" y="35"/>
                            </a:lnTo>
                            <a:lnTo>
                              <a:pt x="14" y="31"/>
                            </a:lnTo>
                            <a:lnTo>
                              <a:pt x="12" y="26"/>
                            </a:lnTo>
                            <a:lnTo>
                              <a:pt x="12" y="24"/>
                            </a:lnTo>
                            <a:lnTo>
                              <a:pt x="11" y="20"/>
                            </a:lnTo>
                            <a:lnTo>
                              <a:pt x="11" y="15"/>
                            </a:lnTo>
                            <a:lnTo>
                              <a:pt x="11" y="10"/>
                            </a:lnTo>
                            <a:lnTo>
                              <a:pt x="12" y="7"/>
                            </a:lnTo>
                            <a:lnTo>
                              <a:pt x="9" y="4"/>
                            </a:lnTo>
                            <a:lnTo>
                              <a:pt x="6" y="3"/>
                            </a:lnTo>
                            <a:lnTo>
                              <a:pt x="3" y="2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10"/>
                            </a:lnTo>
                            <a:lnTo>
                              <a:pt x="0" y="14"/>
                            </a:lnTo>
                            <a:lnTo>
                              <a:pt x="0" y="20"/>
                            </a:lnTo>
                            <a:lnTo>
                              <a:pt x="0" y="21"/>
                            </a:lnTo>
                            <a:lnTo>
                              <a:pt x="2" y="24"/>
                            </a:lnTo>
                            <a:lnTo>
                              <a:pt x="2" y="28"/>
                            </a:lnTo>
                            <a:lnTo>
                              <a:pt x="2" y="31"/>
                            </a:lnTo>
                            <a:lnTo>
                              <a:pt x="2" y="33"/>
                            </a:lnTo>
                            <a:lnTo>
                              <a:pt x="2" y="37"/>
                            </a:lnTo>
                            <a:lnTo>
                              <a:pt x="2" y="40"/>
                            </a:lnTo>
                            <a:lnTo>
                              <a:pt x="3" y="44"/>
                            </a:lnTo>
                            <a:lnTo>
                              <a:pt x="3" y="47"/>
                            </a:lnTo>
                            <a:lnTo>
                              <a:pt x="3" y="51"/>
                            </a:lnTo>
                            <a:lnTo>
                              <a:pt x="3" y="54"/>
                            </a:lnTo>
                            <a:lnTo>
                              <a:pt x="3" y="58"/>
                            </a:lnTo>
                            <a:lnTo>
                              <a:pt x="3" y="62"/>
                            </a:lnTo>
                            <a:lnTo>
                              <a:pt x="5" y="66"/>
                            </a:lnTo>
                            <a:lnTo>
                              <a:pt x="5" y="69"/>
                            </a:lnTo>
                            <a:lnTo>
                              <a:pt x="6" y="73"/>
                            </a:lnTo>
                            <a:lnTo>
                              <a:pt x="6" y="77"/>
                            </a:lnTo>
                            <a:lnTo>
                              <a:pt x="6" y="81"/>
                            </a:lnTo>
                            <a:lnTo>
                              <a:pt x="6" y="85"/>
                            </a:lnTo>
                            <a:lnTo>
                              <a:pt x="8" y="90"/>
                            </a:lnTo>
                            <a:lnTo>
                              <a:pt x="8" y="94"/>
                            </a:lnTo>
                            <a:lnTo>
                              <a:pt x="8" y="96"/>
                            </a:lnTo>
                            <a:lnTo>
                              <a:pt x="8" y="101"/>
                            </a:lnTo>
                            <a:lnTo>
                              <a:pt x="9" y="105"/>
                            </a:lnTo>
                            <a:lnTo>
                              <a:pt x="9" y="107"/>
                            </a:lnTo>
                            <a:lnTo>
                              <a:pt x="9" y="112"/>
                            </a:lnTo>
                            <a:lnTo>
                              <a:pt x="9" y="116"/>
                            </a:lnTo>
                            <a:lnTo>
                              <a:pt x="9" y="118"/>
                            </a:lnTo>
                            <a:lnTo>
                              <a:pt x="9" y="121"/>
                            </a:lnTo>
                            <a:lnTo>
                              <a:pt x="9" y="125"/>
                            </a:lnTo>
                            <a:lnTo>
                              <a:pt x="11" y="128"/>
                            </a:lnTo>
                            <a:lnTo>
                              <a:pt x="11" y="132"/>
                            </a:lnTo>
                            <a:lnTo>
                              <a:pt x="11" y="138"/>
                            </a:lnTo>
                            <a:lnTo>
                              <a:pt x="12" y="143"/>
                            </a:lnTo>
                            <a:lnTo>
                              <a:pt x="12" y="149"/>
                            </a:lnTo>
                            <a:lnTo>
                              <a:pt x="12" y="153"/>
                            </a:lnTo>
                            <a:lnTo>
                              <a:pt x="12" y="155"/>
                            </a:lnTo>
                            <a:lnTo>
                              <a:pt x="12" y="160"/>
                            </a:lnTo>
                            <a:lnTo>
                              <a:pt x="12" y="162"/>
                            </a:lnTo>
                            <a:lnTo>
                              <a:pt x="12" y="161"/>
                            </a:lnTo>
                            <a:lnTo>
                              <a:pt x="12" y="551"/>
                            </a:lnTo>
                            <a:lnTo>
                              <a:pt x="211" y="551"/>
                            </a:lnTo>
                            <a:lnTo>
                              <a:pt x="208" y="84"/>
                            </a:lnTo>
                            <a:lnTo>
                              <a:pt x="208" y="79"/>
                            </a:lnTo>
                            <a:lnTo>
                              <a:pt x="208" y="74"/>
                            </a:lnTo>
                            <a:lnTo>
                              <a:pt x="208" y="69"/>
                            </a:lnTo>
                            <a:lnTo>
                              <a:pt x="208" y="65"/>
                            </a:lnTo>
                            <a:lnTo>
                              <a:pt x="208" y="61"/>
                            </a:lnTo>
                            <a:lnTo>
                              <a:pt x="208" y="57"/>
                            </a:lnTo>
                            <a:lnTo>
                              <a:pt x="208" y="51"/>
                            </a:lnTo>
                            <a:lnTo>
                              <a:pt x="208" y="47"/>
                            </a:lnTo>
                            <a:lnTo>
                              <a:pt x="208" y="43"/>
                            </a:lnTo>
                            <a:lnTo>
                              <a:pt x="208" y="39"/>
                            </a:lnTo>
                            <a:lnTo>
                              <a:pt x="208" y="35"/>
                            </a:lnTo>
                            <a:lnTo>
                              <a:pt x="208" y="31"/>
                            </a:lnTo>
                            <a:lnTo>
                              <a:pt x="206" y="26"/>
                            </a:lnTo>
                            <a:lnTo>
                              <a:pt x="206" y="22"/>
                            </a:lnTo>
                            <a:lnTo>
                              <a:pt x="206" y="17"/>
                            </a:lnTo>
                            <a:lnTo>
                              <a:pt x="206" y="14"/>
                            </a:lnTo>
                            <a:lnTo>
                              <a:pt x="202" y="14"/>
                            </a:lnTo>
                            <a:lnTo>
                              <a:pt x="200" y="17"/>
                            </a:lnTo>
                            <a:lnTo>
                              <a:pt x="200" y="21"/>
                            </a:lnTo>
                            <a:lnTo>
                              <a:pt x="200" y="25"/>
                            </a:lnTo>
                            <a:lnTo>
                              <a:pt x="200" y="29"/>
                            </a:lnTo>
                            <a:lnTo>
                              <a:pt x="200" y="32"/>
                            </a:lnTo>
                            <a:lnTo>
                              <a:pt x="200" y="36"/>
                            </a:lnTo>
                            <a:lnTo>
                              <a:pt x="200" y="40"/>
                            </a:lnTo>
                            <a:lnTo>
                              <a:pt x="200" y="44"/>
                            </a:lnTo>
                            <a:lnTo>
                              <a:pt x="200" y="48"/>
                            </a:lnTo>
                            <a:lnTo>
                              <a:pt x="200" y="52"/>
                            </a:lnTo>
                            <a:lnTo>
                              <a:pt x="200" y="57"/>
                            </a:lnTo>
                            <a:lnTo>
                              <a:pt x="202" y="61"/>
                            </a:lnTo>
                            <a:lnTo>
                              <a:pt x="202" y="65"/>
                            </a:lnTo>
                            <a:lnTo>
                              <a:pt x="202" y="69"/>
                            </a:lnTo>
                            <a:lnTo>
                              <a:pt x="202" y="72"/>
                            </a:lnTo>
                            <a:lnTo>
                              <a:pt x="203" y="77"/>
                            </a:lnTo>
                            <a:lnTo>
                              <a:pt x="202" y="79"/>
                            </a:lnTo>
                            <a:lnTo>
                              <a:pt x="202" y="81"/>
                            </a:lnTo>
                            <a:lnTo>
                              <a:pt x="200" y="84"/>
                            </a:lnTo>
                            <a:lnTo>
                              <a:pt x="199" y="85"/>
                            </a:lnTo>
                            <a:lnTo>
                              <a:pt x="199" y="80"/>
                            </a:lnTo>
                            <a:lnTo>
                              <a:pt x="199" y="74"/>
                            </a:lnTo>
                            <a:lnTo>
                              <a:pt x="197" y="69"/>
                            </a:lnTo>
                            <a:lnTo>
                              <a:pt x="197" y="63"/>
                            </a:lnTo>
                            <a:lnTo>
                              <a:pt x="197" y="58"/>
                            </a:lnTo>
                            <a:lnTo>
                              <a:pt x="196" y="52"/>
                            </a:lnTo>
                            <a:lnTo>
                              <a:pt x="196" y="47"/>
                            </a:lnTo>
                            <a:lnTo>
                              <a:pt x="196" y="42"/>
                            </a:lnTo>
                            <a:lnTo>
                              <a:pt x="194" y="43"/>
                            </a:lnTo>
                            <a:lnTo>
                              <a:pt x="193" y="47"/>
                            </a:lnTo>
                            <a:lnTo>
                              <a:pt x="191" y="50"/>
                            </a:lnTo>
                            <a:lnTo>
                              <a:pt x="191" y="52"/>
                            </a:lnTo>
                            <a:lnTo>
                              <a:pt x="191" y="57"/>
                            </a:lnTo>
                            <a:lnTo>
                              <a:pt x="191" y="61"/>
                            </a:lnTo>
                            <a:lnTo>
                              <a:pt x="191" y="63"/>
                            </a:lnTo>
                            <a:lnTo>
                              <a:pt x="191" y="69"/>
                            </a:lnTo>
                            <a:lnTo>
                              <a:pt x="191" y="73"/>
                            </a:lnTo>
                            <a:lnTo>
                              <a:pt x="191" y="79"/>
                            </a:lnTo>
                            <a:lnTo>
                              <a:pt x="191" y="83"/>
                            </a:lnTo>
                            <a:lnTo>
                              <a:pt x="193" y="88"/>
                            </a:lnTo>
                            <a:lnTo>
                              <a:pt x="193" y="94"/>
                            </a:lnTo>
                            <a:lnTo>
                              <a:pt x="193" y="99"/>
                            </a:lnTo>
                            <a:lnTo>
                              <a:pt x="193" y="103"/>
                            </a:lnTo>
                            <a:lnTo>
                              <a:pt x="193" y="109"/>
                            </a:lnTo>
                            <a:lnTo>
                              <a:pt x="193" y="113"/>
                            </a:lnTo>
                            <a:lnTo>
                              <a:pt x="194" y="117"/>
                            </a:lnTo>
                            <a:lnTo>
                              <a:pt x="194" y="121"/>
                            </a:lnTo>
                            <a:lnTo>
                              <a:pt x="194" y="125"/>
                            </a:lnTo>
                            <a:lnTo>
                              <a:pt x="194" y="129"/>
                            </a:lnTo>
                            <a:lnTo>
                              <a:pt x="194" y="133"/>
                            </a:lnTo>
                            <a:lnTo>
                              <a:pt x="193" y="138"/>
                            </a:lnTo>
                            <a:lnTo>
                              <a:pt x="193" y="140"/>
                            </a:lnTo>
                            <a:lnTo>
                              <a:pt x="191" y="142"/>
                            </a:lnTo>
                            <a:lnTo>
                              <a:pt x="191" y="140"/>
                            </a:lnTo>
                            <a:lnTo>
                              <a:pt x="190" y="135"/>
                            </a:lnTo>
                            <a:lnTo>
                              <a:pt x="190" y="128"/>
                            </a:lnTo>
                            <a:lnTo>
                              <a:pt x="188" y="122"/>
                            </a:lnTo>
                            <a:lnTo>
                              <a:pt x="188" y="117"/>
                            </a:lnTo>
                            <a:lnTo>
                              <a:pt x="187" y="112"/>
                            </a:lnTo>
                            <a:lnTo>
                              <a:pt x="187" y="106"/>
                            </a:lnTo>
                            <a:lnTo>
                              <a:pt x="185" y="102"/>
                            </a:lnTo>
                            <a:lnTo>
                              <a:pt x="185" y="98"/>
                            </a:lnTo>
                            <a:lnTo>
                              <a:pt x="185" y="91"/>
                            </a:lnTo>
                            <a:lnTo>
                              <a:pt x="185" y="85"/>
                            </a:lnTo>
                            <a:lnTo>
                              <a:pt x="185" y="80"/>
                            </a:lnTo>
                            <a:lnTo>
                              <a:pt x="185" y="76"/>
                            </a:lnTo>
                            <a:lnTo>
                              <a:pt x="185" y="69"/>
                            </a:lnTo>
                            <a:lnTo>
                              <a:pt x="185" y="65"/>
                            </a:lnTo>
                            <a:lnTo>
                              <a:pt x="185" y="59"/>
                            </a:lnTo>
                            <a:lnTo>
                              <a:pt x="185" y="54"/>
                            </a:lnTo>
                            <a:lnTo>
                              <a:pt x="185" y="48"/>
                            </a:lnTo>
                            <a:lnTo>
                              <a:pt x="185" y="44"/>
                            </a:lnTo>
                            <a:lnTo>
                              <a:pt x="185" y="39"/>
                            </a:lnTo>
                            <a:lnTo>
                              <a:pt x="185" y="33"/>
                            </a:lnTo>
                            <a:lnTo>
                              <a:pt x="185" y="29"/>
                            </a:lnTo>
                            <a:lnTo>
                              <a:pt x="185" y="24"/>
                            </a:lnTo>
                            <a:lnTo>
                              <a:pt x="185" y="18"/>
                            </a:lnTo>
                            <a:lnTo>
                              <a:pt x="185" y="14"/>
                            </a:lnTo>
                            <a:lnTo>
                              <a:pt x="180" y="14"/>
                            </a:lnTo>
                            <a:lnTo>
                              <a:pt x="176" y="14"/>
                            </a:lnTo>
                            <a:lnTo>
                              <a:pt x="171" y="14"/>
                            </a:lnTo>
                            <a:lnTo>
                              <a:pt x="168" y="15"/>
                            </a:lnTo>
                            <a:lnTo>
                              <a:pt x="168" y="20"/>
                            </a:lnTo>
                            <a:lnTo>
                              <a:pt x="168" y="22"/>
                            </a:lnTo>
                            <a:lnTo>
                              <a:pt x="168" y="26"/>
                            </a:lnTo>
                            <a:lnTo>
                              <a:pt x="168" y="31"/>
                            </a:lnTo>
                            <a:lnTo>
                              <a:pt x="168" y="35"/>
                            </a:lnTo>
                            <a:lnTo>
                              <a:pt x="168" y="39"/>
                            </a:lnTo>
                            <a:lnTo>
                              <a:pt x="168" y="42"/>
                            </a:lnTo>
                            <a:lnTo>
                              <a:pt x="168" y="46"/>
                            </a:lnTo>
                            <a:lnTo>
                              <a:pt x="168" y="50"/>
                            </a:lnTo>
                            <a:lnTo>
                              <a:pt x="168" y="54"/>
                            </a:lnTo>
                            <a:lnTo>
                              <a:pt x="168" y="57"/>
                            </a:lnTo>
                            <a:lnTo>
                              <a:pt x="168" y="61"/>
                            </a:lnTo>
                            <a:lnTo>
                              <a:pt x="168" y="65"/>
                            </a:lnTo>
                            <a:lnTo>
                              <a:pt x="168" y="69"/>
                            </a:lnTo>
                            <a:lnTo>
                              <a:pt x="168" y="73"/>
                            </a:lnTo>
                            <a:lnTo>
                              <a:pt x="170" y="77"/>
                            </a:lnTo>
                            <a:lnTo>
                              <a:pt x="170" y="80"/>
                            </a:lnTo>
                            <a:lnTo>
                              <a:pt x="170" y="84"/>
                            </a:lnTo>
                            <a:lnTo>
                              <a:pt x="170" y="88"/>
                            </a:lnTo>
                            <a:lnTo>
                              <a:pt x="170" y="91"/>
                            </a:lnTo>
                            <a:lnTo>
                              <a:pt x="170" y="95"/>
                            </a:lnTo>
                            <a:lnTo>
                              <a:pt x="171" y="99"/>
                            </a:lnTo>
                            <a:lnTo>
                              <a:pt x="171" y="102"/>
                            </a:lnTo>
                            <a:lnTo>
                              <a:pt x="171" y="106"/>
                            </a:lnTo>
                            <a:lnTo>
                              <a:pt x="171" y="109"/>
                            </a:lnTo>
                            <a:lnTo>
                              <a:pt x="171" y="113"/>
                            </a:lnTo>
                            <a:lnTo>
                              <a:pt x="171" y="116"/>
                            </a:lnTo>
                            <a:lnTo>
                              <a:pt x="171" y="120"/>
                            </a:lnTo>
                            <a:lnTo>
                              <a:pt x="171" y="124"/>
                            </a:lnTo>
                            <a:lnTo>
                              <a:pt x="173" y="127"/>
                            </a:lnTo>
                            <a:lnTo>
                              <a:pt x="173" y="131"/>
                            </a:lnTo>
                            <a:lnTo>
                              <a:pt x="173" y="133"/>
                            </a:lnTo>
                            <a:lnTo>
                              <a:pt x="173" y="136"/>
                            </a:lnTo>
                            <a:lnTo>
                              <a:pt x="173" y="139"/>
                            </a:lnTo>
                            <a:lnTo>
                              <a:pt x="173" y="143"/>
                            </a:lnTo>
                            <a:lnTo>
                              <a:pt x="174" y="149"/>
                            </a:lnTo>
                            <a:lnTo>
                              <a:pt x="174" y="153"/>
                            </a:lnTo>
                            <a:lnTo>
                              <a:pt x="174" y="160"/>
                            </a:lnTo>
                            <a:lnTo>
                              <a:pt x="174" y="162"/>
                            </a:lnTo>
                            <a:lnTo>
                              <a:pt x="174" y="165"/>
                            </a:lnTo>
                            <a:lnTo>
                              <a:pt x="174" y="168"/>
                            </a:lnTo>
                            <a:lnTo>
                              <a:pt x="174" y="172"/>
                            </a:lnTo>
                            <a:lnTo>
                              <a:pt x="174" y="177"/>
                            </a:lnTo>
                            <a:lnTo>
                              <a:pt x="174" y="183"/>
                            </a:lnTo>
                            <a:lnTo>
                              <a:pt x="173" y="187"/>
                            </a:lnTo>
                            <a:lnTo>
                              <a:pt x="173" y="192"/>
                            </a:lnTo>
                            <a:lnTo>
                              <a:pt x="171" y="198"/>
                            </a:lnTo>
                            <a:lnTo>
                              <a:pt x="171" y="202"/>
                            </a:lnTo>
                            <a:lnTo>
                              <a:pt x="170" y="205"/>
                            </a:lnTo>
                            <a:lnTo>
                              <a:pt x="168" y="206"/>
                            </a:lnTo>
                            <a:lnTo>
                              <a:pt x="167" y="201"/>
                            </a:lnTo>
                            <a:lnTo>
                              <a:pt x="167" y="195"/>
                            </a:lnTo>
                            <a:lnTo>
                              <a:pt x="165" y="190"/>
                            </a:lnTo>
                            <a:lnTo>
                              <a:pt x="165" y="184"/>
                            </a:lnTo>
                            <a:lnTo>
                              <a:pt x="165" y="177"/>
                            </a:lnTo>
                            <a:lnTo>
                              <a:pt x="164" y="172"/>
                            </a:lnTo>
                            <a:lnTo>
                              <a:pt x="164" y="166"/>
                            </a:lnTo>
                            <a:lnTo>
                              <a:pt x="164" y="162"/>
                            </a:lnTo>
                            <a:lnTo>
                              <a:pt x="164" y="155"/>
                            </a:lnTo>
                            <a:lnTo>
                              <a:pt x="164" y="150"/>
                            </a:lnTo>
                            <a:lnTo>
                              <a:pt x="164" y="144"/>
                            </a:lnTo>
                            <a:lnTo>
                              <a:pt x="164" y="139"/>
                            </a:lnTo>
                            <a:lnTo>
                              <a:pt x="164" y="133"/>
                            </a:lnTo>
                            <a:lnTo>
                              <a:pt x="164" y="128"/>
                            </a:lnTo>
                            <a:lnTo>
                              <a:pt x="164" y="121"/>
                            </a:lnTo>
                            <a:lnTo>
                              <a:pt x="164" y="117"/>
                            </a:lnTo>
                            <a:lnTo>
                              <a:pt x="164" y="110"/>
                            </a:lnTo>
                            <a:lnTo>
                              <a:pt x="164" y="105"/>
                            </a:lnTo>
                            <a:lnTo>
                              <a:pt x="164" y="99"/>
                            </a:lnTo>
                            <a:lnTo>
                              <a:pt x="164" y="94"/>
                            </a:lnTo>
                            <a:lnTo>
                              <a:pt x="164" y="88"/>
                            </a:lnTo>
                            <a:lnTo>
                              <a:pt x="164" y="83"/>
                            </a:lnTo>
                            <a:lnTo>
                              <a:pt x="164" y="76"/>
                            </a:lnTo>
                            <a:lnTo>
                              <a:pt x="164" y="72"/>
                            </a:lnTo>
                            <a:lnTo>
                              <a:pt x="164" y="65"/>
                            </a:lnTo>
                            <a:lnTo>
                              <a:pt x="164" y="59"/>
                            </a:lnTo>
                            <a:lnTo>
                              <a:pt x="162" y="54"/>
                            </a:lnTo>
                            <a:lnTo>
                              <a:pt x="162" y="48"/>
                            </a:lnTo>
                            <a:lnTo>
                              <a:pt x="162" y="43"/>
                            </a:lnTo>
                            <a:lnTo>
                              <a:pt x="161" y="37"/>
                            </a:lnTo>
                            <a:lnTo>
                              <a:pt x="161" y="32"/>
                            </a:lnTo>
                            <a:lnTo>
                              <a:pt x="161" y="26"/>
                            </a:lnTo>
                            <a:lnTo>
                              <a:pt x="159" y="25"/>
                            </a:lnTo>
                            <a:lnTo>
                              <a:pt x="158" y="22"/>
                            </a:lnTo>
                            <a:lnTo>
                              <a:pt x="156" y="20"/>
                            </a:lnTo>
                            <a:lnTo>
                              <a:pt x="156" y="18"/>
                            </a:lnTo>
                            <a:lnTo>
                              <a:pt x="154" y="20"/>
                            </a:lnTo>
                            <a:lnTo>
                              <a:pt x="154" y="22"/>
                            </a:lnTo>
                            <a:lnTo>
                              <a:pt x="153" y="26"/>
                            </a:lnTo>
                            <a:lnTo>
                              <a:pt x="153" y="29"/>
                            </a:lnTo>
                            <a:lnTo>
                              <a:pt x="153" y="32"/>
                            </a:lnTo>
                            <a:lnTo>
                              <a:pt x="153" y="36"/>
                            </a:lnTo>
                            <a:lnTo>
                              <a:pt x="153" y="39"/>
                            </a:lnTo>
                            <a:lnTo>
                              <a:pt x="153" y="43"/>
                            </a:lnTo>
                            <a:lnTo>
                              <a:pt x="156" y="105"/>
                            </a:lnTo>
                            <a:lnTo>
                              <a:pt x="156" y="109"/>
                            </a:lnTo>
                            <a:lnTo>
                              <a:pt x="156" y="114"/>
                            </a:lnTo>
                            <a:lnTo>
                              <a:pt x="156" y="120"/>
                            </a:lnTo>
                            <a:lnTo>
                              <a:pt x="156" y="125"/>
                            </a:lnTo>
                            <a:lnTo>
                              <a:pt x="156" y="129"/>
                            </a:lnTo>
                            <a:lnTo>
                              <a:pt x="156" y="135"/>
                            </a:lnTo>
                            <a:lnTo>
                              <a:pt x="154" y="140"/>
                            </a:lnTo>
                            <a:lnTo>
                              <a:pt x="154" y="144"/>
                            </a:lnTo>
                            <a:lnTo>
                              <a:pt x="154" y="150"/>
                            </a:lnTo>
                            <a:lnTo>
                              <a:pt x="154" y="155"/>
                            </a:lnTo>
                            <a:lnTo>
                              <a:pt x="154" y="160"/>
                            </a:lnTo>
                            <a:lnTo>
                              <a:pt x="154" y="165"/>
                            </a:lnTo>
                            <a:lnTo>
                              <a:pt x="153" y="171"/>
                            </a:lnTo>
                            <a:lnTo>
                              <a:pt x="153" y="175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3" y="512"/>
                            </a:lnTo>
                            <a:lnTo>
                              <a:pt x="75" y="515"/>
                            </a:lnTo>
                            <a:lnTo>
                              <a:pt x="72" y="66"/>
                            </a:lnTo>
                            <a:lnTo>
                              <a:pt x="72" y="62"/>
                            </a:lnTo>
                            <a:lnTo>
                              <a:pt x="72" y="59"/>
                            </a:lnTo>
                            <a:lnTo>
                              <a:pt x="72" y="57"/>
                            </a:lnTo>
                            <a:lnTo>
                              <a:pt x="72" y="54"/>
                            </a:lnTo>
                            <a:lnTo>
                              <a:pt x="70" y="50"/>
                            </a:lnTo>
                            <a:lnTo>
                              <a:pt x="69" y="47"/>
                            </a:lnTo>
                            <a:lnTo>
                              <a:pt x="69" y="43"/>
                            </a:lnTo>
                            <a:lnTo>
                              <a:pt x="67" y="40"/>
                            </a:lnTo>
                            <a:lnTo>
                              <a:pt x="67" y="37"/>
                            </a:lnTo>
                            <a:lnTo>
                              <a:pt x="66" y="33"/>
                            </a:lnTo>
                            <a:lnTo>
                              <a:pt x="64" y="31"/>
                            </a:lnTo>
                            <a:lnTo>
                              <a:pt x="64" y="28"/>
                            </a:lnTo>
                            <a:lnTo>
                              <a:pt x="63" y="21"/>
                            </a:lnTo>
                            <a:lnTo>
                              <a:pt x="61" y="15"/>
                            </a:lnTo>
                            <a:lnTo>
                              <a:pt x="57" y="15"/>
                            </a:lnTo>
                            <a:lnTo>
                              <a:pt x="61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Freeform 204"/>
                      <p:cNvSpPr/>
                      <p:nvPr/>
                    </p:nvSpPr>
                    <p:spPr>
                      <a:xfrm>
                        <a:off x="3143160" y="2929320"/>
                        <a:ext cx="720" cy="176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7640"/>
                          <a:gd name="textAreaBottom" fmla="*/ 18000 h 17640"/>
                        </a:gdLst>
                        <a:ahLst/>
                        <a:rect l="textAreaLeft" t="textAreaTop" r="textAreaRight" b="textAreaBottom"/>
                        <a:pathLst>
                          <a:path w="9" h="178">
                            <a:moveTo>
                              <a:pt x="1" y="176"/>
                            </a:moveTo>
                            <a:lnTo>
                              <a:pt x="1" y="178"/>
                            </a:lnTo>
                            <a:lnTo>
                              <a:pt x="3" y="176"/>
                            </a:lnTo>
                            <a:lnTo>
                              <a:pt x="3" y="175"/>
                            </a:lnTo>
                            <a:lnTo>
                              <a:pt x="3" y="172"/>
                            </a:lnTo>
                            <a:lnTo>
                              <a:pt x="3" y="169"/>
                            </a:lnTo>
                            <a:lnTo>
                              <a:pt x="3" y="165"/>
                            </a:lnTo>
                            <a:lnTo>
                              <a:pt x="3" y="162"/>
                            </a:lnTo>
                            <a:lnTo>
                              <a:pt x="3" y="160"/>
                            </a:lnTo>
                            <a:lnTo>
                              <a:pt x="3" y="154"/>
                            </a:lnTo>
                            <a:lnTo>
                              <a:pt x="4" y="149"/>
                            </a:lnTo>
                            <a:lnTo>
                              <a:pt x="4" y="143"/>
                            </a:lnTo>
                            <a:lnTo>
                              <a:pt x="4" y="138"/>
                            </a:lnTo>
                            <a:lnTo>
                              <a:pt x="4" y="132"/>
                            </a:lnTo>
                            <a:lnTo>
                              <a:pt x="4" y="127"/>
                            </a:lnTo>
                            <a:lnTo>
                              <a:pt x="4" y="121"/>
                            </a:lnTo>
                            <a:lnTo>
                              <a:pt x="4" y="116"/>
                            </a:lnTo>
                            <a:lnTo>
                              <a:pt x="6" y="112"/>
                            </a:lnTo>
                            <a:lnTo>
                              <a:pt x="6" y="106"/>
                            </a:lnTo>
                            <a:lnTo>
                              <a:pt x="6" y="101"/>
                            </a:lnTo>
                            <a:lnTo>
                              <a:pt x="6" y="97"/>
                            </a:lnTo>
                            <a:lnTo>
                              <a:pt x="8" y="91"/>
                            </a:lnTo>
                            <a:lnTo>
                              <a:pt x="8" y="86"/>
                            </a:lnTo>
                            <a:lnTo>
                              <a:pt x="8" y="80"/>
                            </a:lnTo>
                            <a:lnTo>
                              <a:pt x="8" y="75"/>
                            </a:lnTo>
                            <a:lnTo>
                              <a:pt x="8" y="70"/>
                            </a:lnTo>
                            <a:lnTo>
                              <a:pt x="8" y="65"/>
                            </a:lnTo>
                            <a:lnTo>
                              <a:pt x="8" y="59"/>
                            </a:lnTo>
                            <a:lnTo>
                              <a:pt x="8" y="54"/>
                            </a:lnTo>
                            <a:lnTo>
                              <a:pt x="8" y="50"/>
                            </a:lnTo>
                            <a:lnTo>
                              <a:pt x="9" y="44"/>
                            </a:lnTo>
                            <a:lnTo>
                              <a:pt x="8" y="39"/>
                            </a:lnTo>
                            <a:lnTo>
                              <a:pt x="8" y="33"/>
                            </a:lnTo>
                            <a:lnTo>
                              <a:pt x="8" y="28"/>
                            </a:lnTo>
                            <a:lnTo>
                              <a:pt x="8" y="22"/>
                            </a:lnTo>
                            <a:lnTo>
                              <a:pt x="8" y="17"/>
                            </a:lnTo>
                            <a:lnTo>
                              <a:pt x="8" y="11"/>
                            </a:lnTo>
                            <a:lnTo>
                              <a:pt x="8" y="6"/>
                            </a:lnTo>
                            <a:lnTo>
                              <a:pt x="8" y="0"/>
                            </a:lnTo>
                            <a:lnTo>
                              <a:pt x="6" y="5"/>
                            </a:lnTo>
                            <a:lnTo>
                              <a:pt x="6" y="9"/>
                            </a:lnTo>
                            <a:lnTo>
                              <a:pt x="4" y="11"/>
                            </a:lnTo>
                            <a:lnTo>
                              <a:pt x="3" y="16"/>
                            </a:lnTo>
                            <a:lnTo>
                              <a:pt x="1" y="105"/>
                            </a:lnTo>
                            <a:lnTo>
                              <a:pt x="0" y="109"/>
                            </a:lnTo>
                            <a:lnTo>
                              <a:pt x="0" y="113"/>
                            </a:lnTo>
                            <a:lnTo>
                              <a:pt x="0" y="118"/>
                            </a:lnTo>
                            <a:lnTo>
                              <a:pt x="0" y="123"/>
                            </a:lnTo>
                            <a:lnTo>
                              <a:pt x="0" y="127"/>
                            </a:lnTo>
                            <a:lnTo>
                              <a:pt x="0" y="132"/>
                            </a:lnTo>
                            <a:lnTo>
                              <a:pt x="0" y="136"/>
                            </a:lnTo>
                            <a:lnTo>
                              <a:pt x="0" y="142"/>
                            </a:lnTo>
                            <a:lnTo>
                              <a:pt x="0" y="146"/>
                            </a:lnTo>
                            <a:lnTo>
                              <a:pt x="0" y="150"/>
                            </a:lnTo>
                            <a:lnTo>
                              <a:pt x="0" y="154"/>
                            </a:lnTo>
                            <a:lnTo>
                              <a:pt x="0" y="158"/>
                            </a:lnTo>
                            <a:lnTo>
                              <a:pt x="0" y="164"/>
                            </a:lnTo>
                            <a:lnTo>
                              <a:pt x="0" y="168"/>
                            </a:lnTo>
                            <a:lnTo>
                              <a:pt x="0" y="172"/>
                            </a:lnTo>
                            <a:lnTo>
                              <a:pt x="1" y="1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Freeform 205"/>
                      <p:cNvSpPr/>
                      <p:nvPr/>
                    </p:nvSpPr>
                    <p:spPr>
                      <a:xfrm>
                        <a:off x="3153600" y="2930400"/>
                        <a:ext cx="720" cy="15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2" h="161">
                            <a:moveTo>
                              <a:pt x="12" y="0"/>
                            </a:moveTo>
                            <a:lnTo>
                              <a:pt x="12" y="5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10" y="21"/>
                            </a:lnTo>
                            <a:lnTo>
                              <a:pt x="10" y="27"/>
                            </a:lnTo>
                            <a:lnTo>
                              <a:pt x="10" y="32"/>
                            </a:lnTo>
                            <a:lnTo>
                              <a:pt x="10" y="37"/>
                            </a:lnTo>
                            <a:lnTo>
                              <a:pt x="10" y="43"/>
                            </a:lnTo>
                            <a:lnTo>
                              <a:pt x="9" y="48"/>
                            </a:lnTo>
                            <a:lnTo>
                              <a:pt x="9" y="53"/>
                            </a:lnTo>
                            <a:lnTo>
                              <a:pt x="9" y="58"/>
                            </a:lnTo>
                            <a:lnTo>
                              <a:pt x="9" y="64"/>
                            </a:lnTo>
                            <a:lnTo>
                              <a:pt x="7" y="69"/>
                            </a:lnTo>
                            <a:lnTo>
                              <a:pt x="7" y="73"/>
                            </a:lnTo>
                            <a:lnTo>
                              <a:pt x="7" y="79"/>
                            </a:lnTo>
                            <a:lnTo>
                              <a:pt x="7" y="84"/>
                            </a:lnTo>
                            <a:lnTo>
                              <a:pt x="7" y="88"/>
                            </a:lnTo>
                            <a:lnTo>
                              <a:pt x="7" y="94"/>
                            </a:lnTo>
                            <a:lnTo>
                              <a:pt x="7" y="99"/>
                            </a:lnTo>
                            <a:lnTo>
                              <a:pt x="7" y="105"/>
                            </a:lnTo>
                            <a:lnTo>
                              <a:pt x="6" y="109"/>
                            </a:lnTo>
                            <a:lnTo>
                              <a:pt x="6" y="113"/>
                            </a:lnTo>
                            <a:lnTo>
                              <a:pt x="6" y="118"/>
                            </a:lnTo>
                            <a:lnTo>
                              <a:pt x="6" y="124"/>
                            </a:lnTo>
                            <a:lnTo>
                              <a:pt x="4" y="128"/>
                            </a:lnTo>
                            <a:lnTo>
                              <a:pt x="4" y="132"/>
                            </a:lnTo>
                            <a:lnTo>
                              <a:pt x="3" y="138"/>
                            </a:lnTo>
                            <a:lnTo>
                              <a:pt x="3" y="142"/>
                            </a:lnTo>
                            <a:lnTo>
                              <a:pt x="1" y="147"/>
                            </a:lnTo>
                            <a:lnTo>
                              <a:pt x="1" y="151"/>
                            </a:lnTo>
                            <a:lnTo>
                              <a:pt x="0" y="157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0" y="149"/>
                            </a:lnTo>
                            <a:lnTo>
                              <a:pt x="0" y="143"/>
                            </a:lnTo>
                            <a:lnTo>
                              <a:pt x="0" y="138"/>
                            </a:lnTo>
                            <a:lnTo>
                              <a:pt x="0" y="135"/>
                            </a:lnTo>
                            <a:lnTo>
                              <a:pt x="0" y="132"/>
                            </a:lnTo>
                            <a:lnTo>
                              <a:pt x="0" y="128"/>
                            </a:lnTo>
                            <a:lnTo>
                              <a:pt x="0" y="125"/>
                            </a:lnTo>
                            <a:lnTo>
                              <a:pt x="0" y="121"/>
                            </a:lnTo>
                            <a:lnTo>
                              <a:pt x="0" y="118"/>
                            </a:lnTo>
                            <a:lnTo>
                              <a:pt x="0" y="114"/>
                            </a:lnTo>
                            <a:lnTo>
                              <a:pt x="0" y="110"/>
                            </a:lnTo>
                            <a:lnTo>
                              <a:pt x="0" y="107"/>
                            </a:lnTo>
                            <a:lnTo>
                              <a:pt x="0" y="103"/>
                            </a:lnTo>
                            <a:lnTo>
                              <a:pt x="0" y="99"/>
                            </a:lnTo>
                            <a:lnTo>
                              <a:pt x="0" y="95"/>
                            </a:lnTo>
                            <a:lnTo>
                              <a:pt x="0" y="92"/>
                            </a:lnTo>
                            <a:lnTo>
                              <a:pt x="0" y="88"/>
                            </a:lnTo>
                            <a:lnTo>
                              <a:pt x="0" y="84"/>
                            </a:lnTo>
                            <a:lnTo>
                              <a:pt x="0" y="80"/>
                            </a:lnTo>
                            <a:lnTo>
                              <a:pt x="0" y="76"/>
                            </a:lnTo>
                            <a:lnTo>
                              <a:pt x="0" y="73"/>
                            </a:lnTo>
                            <a:lnTo>
                              <a:pt x="0" y="69"/>
                            </a:lnTo>
                            <a:lnTo>
                              <a:pt x="0" y="66"/>
                            </a:lnTo>
                            <a:lnTo>
                              <a:pt x="0" y="62"/>
                            </a:lnTo>
                            <a:lnTo>
                              <a:pt x="0" y="59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lnTo>
                              <a:pt x="1" y="46"/>
                            </a:lnTo>
                            <a:lnTo>
                              <a:pt x="1" y="40"/>
                            </a:lnTo>
                            <a:lnTo>
                              <a:pt x="3" y="35"/>
                            </a:lnTo>
                            <a:lnTo>
                              <a:pt x="3" y="29"/>
                            </a:lnTo>
                            <a:lnTo>
                              <a:pt x="3" y="25"/>
                            </a:lnTo>
                            <a:lnTo>
                              <a:pt x="4" y="21"/>
                            </a:lnTo>
                            <a:lnTo>
                              <a:pt x="6" y="17"/>
                            </a:lnTo>
                            <a:lnTo>
                              <a:pt x="7" y="13"/>
                            </a:lnTo>
                            <a:lnTo>
                              <a:pt x="7" y="9"/>
                            </a:lnTo>
                            <a:lnTo>
                              <a:pt x="9" y="7"/>
                            </a:lnTo>
                            <a:lnTo>
                              <a:pt x="10" y="2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6" name="Freeform 206"/>
                      <p:cNvSpPr/>
                      <p:nvPr/>
                    </p:nvSpPr>
                    <p:spPr>
                      <a:xfrm>
                        <a:off x="3137040" y="2894040"/>
                        <a:ext cx="18720" cy="58680"/>
                      </a:xfrm>
                      <a:custGeom>
                        <a:avLst/>
                        <a:gdLst>
                          <a:gd name="textAreaLeft" fmla="*/ 0 w 18720"/>
                          <a:gd name="textAreaRight" fmla="*/ 19080 w 1872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211" h="582">
                            <a:moveTo>
                              <a:pt x="59" y="76"/>
                            </a:moveTo>
                            <a:lnTo>
                              <a:pt x="59" y="80"/>
                            </a:lnTo>
                            <a:lnTo>
                              <a:pt x="61" y="84"/>
                            </a:lnTo>
                            <a:lnTo>
                              <a:pt x="61" y="88"/>
                            </a:lnTo>
                            <a:lnTo>
                              <a:pt x="62" y="94"/>
                            </a:lnTo>
                            <a:lnTo>
                              <a:pt x="62" y="99"/>
                            </a:lnTo>
                            <a:lnTo>
                              <a:pt x="64" y="103"/>
                            </a:lnTo>
                            <a:lnTo>
                              <a:pt x="64" y="109"/>
                            </a:lnTo>
                            <a:lnTo>
                              <a:pt x="65" y="114"/>
                            </a:lnTo>
                            <a:lnTo>
                              <a:pt x="65" y="120"/>
                            </a:lnTo>
                            <a:lnTo>
                              <a:pt x="67" y="125"/>
                            </a:lnTo>
                            <a:lnTo>
                              <a:pt x="67" y="129"/>
                            </a:lnTo>
                            <a:lnTo>
                              <a:pt x="67" y="136"/>
                            </a:lnTo>
                            <a:lnTo>
                              <a:pt x="67" y="140"/>
                            </a:lnTo>
                            <a:lnTo>
                              <a:pt x="67" y="146"/>
                            </a:lnTo>
                            <a:lnTo>
                              <a:pt x="65" y="150"/>
                            </a:lnTo>
                            <a:lnTo>
                              <a:pt x="64" y="155"/>
                            </a:lnTo>
                            <a:lnTo>
                              <a:pt x="64" y="151"/>
                            </a:lnTo>
                            <a:lnTo>
                              <a:pt x="64" y="147"/>
                            </a:lnTo>
                            <a:lnTo>
                              <a:pt x="64" y="143"/>
                            </a:lnTo>
                            <a:lnTo>
                              <a:pt x="64" y="140"/>
                            </a:lnTo>
                            <a:lnTo>
                              <a:pt x="62" y="136"/>
                            </a:lnTo>
                            <a:lnTo>
                              <a:pt x="62" y="134"/>
                            </a:lnTo>
                            <a:lnTo>
                              <a:pt x="62" y="129"/>
                            </a:lnTo>
                            <a:lnTo>
                              <a:pt x="62" y="127"/>
                            </a:lnTo>
                            <a:lnTo>
                              <a:pt x="61" y="124"/>
                            </a:lnTo>
                            <a:lnTo>
                              <a:pt x="61" y="120"/>
                            </a:lnTo>
                            <a:lnTo>
                              <a:pt x="59" y="117"/>
                            </a:lnTo>
                            <a:lnTo>
                              <a:pt x="59" y="113"/>
                            </a:lnTo>
                            <a:lnTo>
                              <a:pt x="58" y="110"/>
                            </a:lnTo>
                            <a:lnTo>
                              <a:pt x="58" y="106"/>
                            </a:lnTo>
                            <a:lnTo>
                              <a:pt x="58" y="103"/>
                            </a:lnTo>
                            <a:lnTo>
                              <a:pt x="58" y="99"/>
                            </a:lnTo>
                            <a:lnTo>
                              <a:pt x="56" y="96"/>
                            </a:lnTo>
                            <a:lnTo>
                              <a:pt x="55" y="92"/>
                            </a:lnTo>
                            <a:lnTo>
                              <a:pt x="55" y="90"/>
                            </a:lnTo>
                            <a:lnTo>
                              <a:pt x="53" y="85"/>
                            </a:lnTo>
                            <a:lnTo>
                              <a:pt x="52" y="81"/>
                            </a:lnTo>
                            <a:lnTo>
                              <a:pt x="52" y="79"/>
                            </a:lnTo>
                            <a:lnTo>
                              <a:pt x="50" y="75"/>
                            </a:lnTo>
                            <a:lnTo>
                              <a:pt x="50" y="72"/>
                            </a:lnTo>
                            <a:lnTo>
                              <a:pt x="49" y="68"/>
                            </a:lnTo>
                            <a:lnTo>
                              <a:pt x="47" y="65"/>
                            </a:lnTo>
                            <a:lnTo>
                              <a:pt x="47" y="61"/>
                            </a:lnTo>
                            <a:lnTo>
                              <a:pt x="45" y="58"/>
                            </a:lnTo>
                            <a:lnTo>
                              <a:pt x="44" y="54"/>
                            </a:lnTo>
                            <a:lnTo>
                              <a:pt x="44" y="51"/>
                            </a:lnTo>
                            <a:lnTo>
                              <a:pt x="42" y="47"/>
                            </a:lnTo>
                            <a:lnTo>
                              <a:pt x="42" y="44"/>
                            </a:lnTo>
                            <a:lnTo>
                              <a:pt x="29" y="48"/>
                            </a:lnTo>
                            <a:lnTo>
                              <a:pt x="30" y="51"/>
                            </a:lnTo>
                            <a:lnTo>
                              <a:pt x="30" y="55"/>
                            </a:lnTo>
                            <a:lnTo>
                              <a:pt x="32" y="58"/>
                            </a:lnTo>
                            <a:lnTo>
                              <a:pt x="33" y="61"/>
                            </a:lnTo>
                            <a:lnTo>
                              <a:pt x="33" y="64"/>
                            </a:lnTo>
                            <a:lnTo>
                              <a:pt x="35" y="68"/>
                            </a:lnTo>
                            <a:lnTo>
                              <a:pt x="35" y="70"/>
                            </a:lnTo>
                            <a:lnTo>
                              <a:pt x="36" y="75"/>
                            </a:lnTo>
                            <a:lnTo>
                              <a:pt x="38" y="80"/>
                            </a:lnTo>
                            <a:lnTo>
                              <a:pt x="38" y="85"/>
                            </a:lnTo>
                            <a:lnTo>
                              <a:pt x="39" y="88"/>
                            </a:lnTo>
                            <a:lnTo>
                              <a:pt x="39" y="91"/>
                            </a:lnTo>
                            <a:lnTo>
                              <a:pt x="41" y="95"/>
                            </a:lnTo>
                            <a:lnTo>
                              <a:pt x="41" y="98"/>
                            </a:lnTo>
                            <a:lnTo>
                              <a:pt x="41" y="103"/>
                            </a:lnTo>
                            <a:lnTo>
                              <a:pt x="42" y="110"/>
                            </a:lnTo>
                            <a:lnTo>
                              <a:pt x="42" y="113"/>
                            </a:lnTo>
                            <a:lnTo>
                              <a:pt x="42" y="117"/>
                            </a:lnTo>
                            <a:lnTo>
                              <a:pt x="42" y="120"/>
                            </a:lnTo>
                            <a:lnTo>
                              <a:pt x="42" y="124"/>
                            </a:lnTo>
                            <a:lnTo>
                              <a:pt x="42" y="127"/>
                            </a:lnTo>
                            <a:lnTo>
                              <a:pt x="42" y="129"/>
                            </a:lnTo>
                            <a:lnTo>
                              <a:pt x="42" y="134"/>
                            </a:lnTo>
                            <a:lnTo>
                              <a:pt x="42" y="138"/>
                            </a:lnTo>
                            <a:lnTo>
                              <a:pt x="42" y="140"/>
                            </a:lnTo>
                            <a:lnTo>
                              <a:pt x="42" y="145"/>
                            </a:lnTo>
                            <a:lnTo>
                              <a:pt x="42" y="149"/>
                            </a:lnTo>
                            <a:lnTo>
                              <a:pt x="42" y="153"/>
                            </a:lnTo>
                            <a:lnTo>
                              <a:pt x="38" y="149"/>
                            </a:lnTo>
                            <a:lnTo>
                              <a:pt x="36" y="145"/>
                            </a:lnTo>
                            <a:lnTo>
                              <a:pt x="36" y="142"/>
                            </a:lnTo>
                            <a:lnTo>
                              <a:pt x="36" y="139"/>
                            </a:lnTo>
                            <a:lnTo>
                              <a:pt x="36" y="136"/>
                            </a:lnTo>
                            <a:lnTo>
                              <a:pt x="36" y="131"/>
                            </a:lnTo>
                            <a:lnTo>
                              <a:pt x="36" y="125"/>
                            </a:lnTo>
                            <a:lnTo>
                              <a:pt x="35" y="121"/>
                            </a:lnTo>
                            <a:lnTo>
                              <a:pt x="33" y="117"/>
                            </a:lnTo>
                            <a:lnTo>
                              <a:pt x="33" y="113"/>
                            </a:lnTo>
                            <a:lnTo>
                              <a:pt x="33" y="110"/>
                            </a:lnTo>
                            <a:lnTo>
                              <a:pt x="32" y="106"/>
                            </a:lnTo>
                            <a:lnTo>
                              <a:pt x="30" y="102"/>
                            </a:lnTo>
                            <a:lnTo>
                              <a:pt x="29" y="99"/>
                            </a:lnTo>
                            <a:lnTo>
                              <a:pt x="29" y="96"/>
                            </a:lnTo>
                            <a:lnTo>
                              <a:pt x="26" y="92"/>
                            </a:lnTo>
                            <a:lnTo>
                              <a:pt x="24" y="88"/>
                            </a:lnTo>
                            <a:lnTo>
                              <a:pt x="21" y="83"/>
                            </a:lnTo>
                            <a:lnTo>
                              <a:pt x="19" y="79"/>
                            </a:lnTo>
                            <a:lnTo>
                              <a:pt x="16" y="75"/>
                            </a:lnTo>
                            <a:lnTo>
                              <a:pt x="15" y="69"/>
                            </a:lnTo>
                            <a:lnTo>
                              <a:pt x="13" y="66"/>
                            </a:lnTo>
                            <a:lnTo>
                              <a:pt x="13" y="64"/>
                            </a:lnTo>
                            <a:lnTo>
                              <a:pt x="12" y="61"/>
                            </a:lnTo>
                            <a:lnTo>
                              <a:pt x="12" y="58"/>
                            </a:lnTo>
                            <a:lnTo>
                              <a:pt x="12" y="55"/>
                            </a:lnTo>
                            <a:lnTo>
                              <a:pt x="12" y="51"/>
                            </a:lnTo>
                            <a:lnTo>
                              <a:pt x="12" y="47"/>
                            </a:lnTo>
                            <a:lnTo>
                              <a:pt x="12" y="44"/>
                            </a:lnTo>
                            <a:lnTo>
                              <a:pt x="9" y="44"/>
                            </a:lnTo>
                            <a:lnTo>
                              <a:pt x="4" y="46"/>
                            </a:lnTo>
                            <a:lnTo>
                              <a:pt x="0" y="46"/>
                            </a:lnTo>
                            <a:lnTo>
                              <a:pt x="0" y="47"/>
                            </a:lnTo>
                            <a:lnTo>
                              <a:pt x="0" y="50"/>
                            </a:lnTo>
                            <a:lnTo>
                              <a:pt x="0" y="53"/>
                            </a:lnTo>
                            <a:lnTo>
                              <a:pt x="0" y="57"/>
                            </a:lnTo>
                            <a:lnTo>
                              <a:pt x="0" y="61"/>
                            </a:lnTo>
                            <a:lnTo>
                              <a:pt x="0" y="65"/>
                            </a:lnTo>
                            <a:lnTo>
                              <a:pt x="0" y="69"/>
                            </a:lnTo>
                            <a:lnTo>
                              <a:pt x="0" y="73"/>
                            </a:lnTo>
                            <a:lnTo>
                              <a:pt x="1" y="77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3" y="91"/>
                            </a:lnTo>
                            <a:lnTo>
                              <a:pt x="3" y="96"/>
                            </a:lnTo>
                            <a:lnTo>
                              <a:pt x="3" y="101"/>
                            </a:lnTo>
                            <a:lnTo>
                              <a:pt x="3" y="105"/>
                            </a:lnTo>
                            <a:lnTo>
                              <a:pt x="4" y="110"/>
                            </a:lnTo>
                            <a:lnTo>
                              <a:pt x="6" y="114"/>
                            </a:lnTo>
                            <a:lnTo>
                              <a:pt x="6" y="118"/>
                            </a:lnTo>
                            <a:lnTo>
                              <a:pt x="6" y="123"/>
                            </a:lnTo>
                            <a:lnTo>
                              <a:pt x="6" y="127"/>
                            </a:lnTo>
                            <a:lnTo>
                              <a:pt x="7" y="131"/>
                            </a:lnTo>
                            <a:lnTo>
                              <a:pt x="7" y="135"/>
                            </a:lnTo>
                            <a:lnTo>
                              <a:pt x="7" y="139"/>
                            </a:lnTo>
                            <a:lnTo>
                              <a:pt x="9" y="142"/>
                            </a:lnTo>
                            <a:lnTo>
                              <a:pt x="9" y="146"/>
                            </a:lnTo>
                            <a:lnTo>
                              <a:pt x="10" y="151"/>
                            </a:lnTo>
                            <a:lnTo>
                              <a:pt x="10" y="155"/>
                            </a:lnTo>
                            <a:lnTo>
                              <a:pt x="10" y="158"/>
                            </a:lnTo>
                            <a:lnTo>
                              <a:pt x="12" y="160"/>
                            </a:lnTo>
                            <a:lnTo>
                              <a:pt x="12" y="164"/>
                            </a:lnTo>
                            <a:lnTo>
                              <a:pt x="12" y="168"/>
                            </a:lnTo>
                            <a:lnTo>
                              <a:pt x="12" y="171"/>
                            </a:lnTo>
                            <a:lnTo>
                              <a:pt x="13" y="176"/>
                            </a:lnTo>
                            <a:lnTo>
                              <a:pt x="13" y="180"/>
                            </a:lnTo>
                            <a:lnTo>
                              <a:pt x="13" y="183"/>
                            </a:lnTo>
                            <a:lnTo>
                              <a:pt x="13" y="187"/>
                            </a:lnTo>
                            <a:lnTo>
                              <a:pt x="15" y="191"/>
                            </a:lnTo>
                            <a:lnTo>
                              <a:pt x="15" y="197"/>
                            </a:lnTo>
                            <a:lnTo>
                              <a:pt x="15" y="199"/>
                            </a:lnTo>
                            <a:lnTo>
                              <a:pt x="13" y="198"/>
                            </a:lnTo>
                            <a:lnTo>
                              <a:pt x="13" y="197"/>
                            </a:lnTo>
                            <a:lnTo>
                              <a:pt x="12" y="194"/>
                            </a:lnTo>
                            <a:lnTo>
                              <a:pt x="12" y="582"/>
                            </a:lnTo>
                            <a:lnTo>
                              <a:pt x="211" y="582"/>
                            </a:lnTo>
                            <a:lnTo>
                              <a:pt x="206" y="114"/>
                            </a:lnTo>
                            <a:lnTo>
                              <a:pt x="205" y="110"/>
                            </a:lnTo>
                            <a:lnTo>
                              <a:pt x="205" y="107"/>
                            </a:lnTo>
                            <a:lnTo>
                              <a:pt x="205" y="103"/>
                            </a:lnTo>
                            <a:lnTo>
                              <a:pt x="205" y="99"/>
                            </a:lnTo>
                            <a:lnTo>
                              <a:pt x="205" y="96"/>
                            </a:lnTo>
                            <a:lnTo>
                              <a:pt x="205" y="92"/>
                            </a:lnTo>
                            <a:lnTo>
                              <a:pt x="205" y="90"/>
                            </a:lnTo>
                            <a:lnTo>
                              <a:pt x="205" y="85"/>
                            </a:lnTo>
                            <a:lnTo>
                              <a:pt x="205" y="81"/>
                            </a:lnTo>
                            <a:lnTo>
                              <a:pt x="205" y="79"/>
                            </a:lnTo>
                            <a:lnTo>
                              <a:pt x="205" y="75"/>
                            </a:lnTo>
                            <a:lnTo>
                              <a:pt x="205" y="72"/>
                            </a:lnTo>
                            <a:lnTo>
                              <a:pt x="205" y="68"/>
                            </a:lnTo>
                            <a:lnTo>
                              <a:pt x="205" y="65"/>
                            </a:lnTo>
                            <a:lnTo>
                              <a:pt x="205" y="61"/>
                            </a:lnTo>
                            <a:lnTo>
                              <a:pt x="205" y="58"/>
                            </a:lnTo>
                            <a:lnTo>
                              <a:pt x="205" y="54"/>
                            </a:lnTo>
                            <a:lnTo>
                              <a:pt x="205" y="50"/>
                            </a:lnTo>
                            <a:lnTo>
                              <a:pt x="205" y="47"/>
                            </a:lnTo>
                            <a:lnTo>
                              <a:pt x="205" y="43"/>
                            </a:lnTo>
                            <a:lnTo>
                              <a:pt x="205" y="39"/>
                            </a:lnTo>
                            <a:lnTo>
                              <a:pt x="205" y="36"/>
                            </a:lnTo>
                            <a:lnTo>
                              <a:pt x="205" y="32"/>
                            </a:lnTo>
                            <a:lnTo>
                              <a:pt x="205" y="29"/>
                            </a:lnTo>
                            <a:lnTo>
                              <a:pt x="205" y="25"/>
                            </a:lnTo>
                            <a:lnTo>
                              <a:pt x="205" y="21"/>
                            </a:lnTo>
                            <a:lnTo>
                              <a:pt x="205" y="18"/>
                            </a:lnTo>
                            <a:lnTo>
                              <a:pt x="205" y="15"/>
                            </a:lnTo>
                            <a:lnTo>
                              <a:pt x="203" y="11"/>
                            </a:lnTo>
                            <a:lnTo>
                              <a:pt x="203" y="7"/>
                            </a:lnTo>
                            <a:lnTo>
                              <a:pt x="203" y="4"/>
                            </a:lnTo>
                            <a:lnTo>
                              <a:pt x="203" y="0"/>
                            </a:lnTo>
                            <a:lnTo>
                              <a:pt x="203" y="3"/>
                            </a:lnTo>
                            <a:lnTo>
                              <a:pt x="203" y="7"/>
                            </a:lnTo>
                            <a:lnTo>
                              <a:pt x="203" y="10"/>
                            </a:lnTo>
                            <a:lnTo>
                              <a:pt x="203" y="13"/>
                            </a:lnTo>
                            <a:lnTo>
                              <a:pt x="203" y="17"/>
                            </a:lnTo>
                            <a:lnTo>
                              <a:pt x="203" y="20"/>
                            </a:lnTo>
                            <a:lnTo>
                              <a:pt x="203" y="24"/>
                            </a:lnTo>
                            <a:lnTo>
                              <a:pt x="203" y="26"/>
                            </a:lnTo>
                            <a:lnTo>
                              <a:pt x="201" y="29"/>
                            </a:lnTo>
                            <a:lnTo>
                              <a:pt x="201" y="33"/>
                            </a:lnTo>
                            <a:lnTo>
                              <a:pt x="201" y="36"/>
                            </a:lnTo>
                            <a:lnTo>
                              <a:pt x="201" y="40"/>
                            </a:lnTo>
                            <a:lnTo>
                              <a:pt x="201" y="43"/>
                            </a:lnTo>
                            <a:lnTo>
                              <a:pt x="201" y="47"/>
                            </a:lnTo>
                            <a:lnTo>
                              <a:pt x="201" y="50"/>
                            </a:lnTo>
                            <a:lnTo>
                              <a:pt x="201" y="53"/>
                            </a:lnTo>
                            <a:lnTo>
                              <a:pt x="201" y="57"/>
                            </a:lnTo>
                            <a:lnTo>
                              <a:pt x="201" y="59"/>
                            </a:lnTo>
                            <a:lnTo>
                              <a:pt x="201" y="64"/>
                            </a:lnTo>
                            <a:lnTo>
                              <a:pt x="201" y="66"/>
                            </a:lnTo>
                            <a:lnTo>
                              <a:pt x="201" y="70"/>
                            </a:lnTo>
                            <a:lnTo>
                              <a:pt x="201" y="73"/>
                            </a:lnTo>
                            <a:lnTo>
                              <a:pt x="201" y="77"/>
                            </a:lnTo>
                            <a:lnTo>
                              <a:pt x="201" y="80"/>
                            </a:lnTo>
                            <a:lnTo>
                              <a:pt x="201" y="84"/>
                            </a:lnTo>
                            <a:lnTo>
                              <a:pt x="201" y="87"/>
                            </a:lnTo>
                            <a:lnTo>
                              <a:pt x="201" y="90"/>
                            </a:lnTo>
                            <a:lnTo>
                              <a:pt x="201" y="94"/>
                            </a:lnTo>
                            <a:lnTo>
                              <a:pt x="201" y="96"/>
                            </a:lnTo>
                            <a:lnTo>
                              <a:pt x="201" y="101"/>
                            </a:lnTo>
                            <a:lnTo>
                              <a:pt x="201" y="103"/>
                            </a:lnTo>
                            <a:lnTo>
                              <a:pt x="201" y="107"/>
                            </a:lnTo>
                            <a:lnTo>
                              <a:pt x="200" y="103"/>
                            </a:lnTo>
                            <a:lnTo>
                              <a:pt x="198" y="99"/>
                            </a:lnTo>
                            <a:lnTo>
                              <a:pt x="198" y="94"/>
                            </a:lnTo>
                            <a:lnTo>
                              <a:pt x="197" y="90"/>
                            </a:lnTo>
                            <a:lnTo>
                              <a:pt x="195" y="84"/>
                            </a:lnTo>
                            <a:lnTo>
                              <a:pt x="195" y="80"/>
                            </a:lnTo>
                            <a:lnTo>
                              <a:pt x="194" y="76"/>
                            </a:lnTo>
                            <a:lnTo>
                              <a:pt x="194" y="72"/>
                            </a:lnTo>
                            <a:lnTo>
                              <a:pt x="191" y="73"/>
                            </a:lnTo>
                            <a:lnTo>
                              <a:pt x="191" y="79"/>
                            </a:lnTo>
                            <a:lnTo>
                              <a:pt x="191" y="80"/>
                            </a:lnTo>
                            <a:lnTo>
                              <a:pt x="191" y="84"/>
                            </a:lnTo>
                            <a:lnTo>
                              <a:pt x="191" y="88"/>
                            </a:lnTo>
                            <a:lnTo>
                              <a:pt x="191" y="92"/>
                            </a:lnTo>
                            <a:lnTo>
                              <a:pt x="191" y="96"/>
                            </a:lnTo>
                            <a:lnTo>
                              <a:pt x="191" y="101"/>
                            </a:lnTo>
                            <a:lnTo>
                              <a:pt x="191" y="105"/>
                            </a:lnTo>
                            <a:lnTo>
                              <a:pt x="191" y="110"/>
                            </a:lnTo>
                            <a:lnTo>
                              <a:pt x="191" y="114"/>
                            </a:lnTo>
                            <a:lnTo>
                              <a:pt x="191" y="120"/>
                            </a:lnTo>
                            <a:lnTo>
                              <a:pt x="191" y="125"/>
                            </a:lnTo>
                            <a:lnTo>
                              <a:pt x="192" y="131"/>
                            </a:lnTo>
                            <a:lnTo>
                              <a:pt x="192" y="135"/>
                            </a:lnTo>
                            <a:lnTo>
                              <a:pt x="192" y="139"/>
                            </a:lnTo>
                            <a:lnTo>
                              <a:pt x="192" y="145"/>
                            </a:lnTo>
                            <a:lnTo>
                              <a:pt x="192" y="149"/>
                            </a:lnTo>
                            <a:lnTo>
                              <a:pt x="192" y="153"/>
                            </a:lnTo>
                            <a:lnTo>
                              <a:pt x="192" y="157"/>
                            </a:lnTo>
                            <a:lnTo>
                              <a:pt x="192" y="161"/>
                            </a:lnTo>
                            <a:lnTo>
                              <a:pt x="194" y="164"/>
                            </a:lnTo>
                            <a:lnTo>
                              <a:pt x="192" y="168"/>
                            </a:lnTo>
                            <a:lnTo>
                              <a:pt x="192" y="172"/>
                            </a:lnTo>
                            <a:lnTo>
                              <a:pt x="191" y="173"/>
                            </a:lnTo>
                            <a:lnTo>
                              <a:pt x="191" y="171"/>
                            </a:lnTo>
                            <a:lnTo>
                              <a:pt x="191" y="165"/>
                            </a:lnTo>
                            <a:lnTo>
                              <a:pt x="189" y="160"/>
                            </a:lnTo>
                            <a:lnTo>
                              <a:pt x="189" y="154"/>
                            </a:lnTo>
                            <a:lnTo>
                              <a:pt x="189" y="149"/>
                            </a:lnTo>
                            <a:lnTo>
                              <a:pt x="189" y="143"/>
                            </a:lnTo>
                            <a:lnTo>
                              <a:pt x="188" y="139"/>
                            </a:lnTo>
                            <a:lnTo>
                              <a:pt x="188" y="134"/>
                            </a:lnTo>
                            <a:lnTo>
                              <a:pt x="188" y="129"/>
                            </a:lnTo>
                            <a:lnTo>
                              <a:pt x="188" y="124"/>
                            </a:lnTo>
                            <a:lnTo>
                              <a:pt x="188" y="121"/>
                            </a:lnTo>
                            <a:lnTo>
                              <a:pt x="188" y="116"/>
                            </a:lnTo>
                            <a:lnTo>
                              <a:pt x="188" y="112"/>
                            </a:lnTo>
                            <a:lnTo>
                              <a:pt x="186" y="107"/>
                            </a:lnTo>
                            <a:lnTo>
                              <a:pt x="186" y="103"/>
                            </a:lnTo>
                            <a:lnTo>
                              <a:pt x="186" y="99"/>
                            </a:lnTo>
                            <a:lnTo>
                              <a:pt x="186" y="95"/>
                            </a:lnTo>
                            <a:lnTo>
                              <a:pt x="185" y="90"/>
                            </a:lnTo>
                            <a:lnTo>
                              <a:pt x="185" y="87"/>
                            </a:lnTo>
                            <a:lnTo>
                              <a:pt x="185" y="81"/>
                            </a:lnTo>
                            <a:lnTo>
                              <a:pt x="185" y="77"/>
                            </a:lnTo>
                            <a:lnTo>
                              <a:pt x="183" y="73"/>
                            </a:lnTo>
                            <a:lnTo>
                              <a:pt x="183" y="68"/>
                            </a:lnTo>
                            <a:lnTo>
                              <a:pt x="183" y="64"/>
                            </a:lnTo>
                            <a:lnTo>
                              <a:pt x="183" y="59"/>
                            </a:lnTo>
                            <a:lnTo>
                              <a:pt x="182" y="55"/>
                            </a:lnTo>
                            <a:lnTo>
                              <a:pt x="182" y="50"/>
                            </a:lnTo>
                            <a:lnTo>
                              <a:pt x="182" y="44"/>
                            </a:lnTo>
                            <a:lnTo>
                              <a:pt x="182" y="40"/>
                            </a:lnTo>
                            <a:lnTo>
                              <a:pt x="182" y="35"/>
                            </a:lnTo>
                            <a:lnTo>
                              <a:pt x="182" y="31"/>
                            </a:lnTo>
                            <a:lnTo>
                              <a:pt x="182" y="24"/>
                            </a:lnTo>
                            <a:lnTo>
                              <a:pt x="182" y="20"/>
                            </a:lnTo>
                            <a:lnTo>
                              <a:pt x="179" y="20"/>
                            </a:lnTo>
                            <a:lnTo>
                              <a:pt x="177" y="24"/>
                            </a:lnTo>
                            <a:lnTo>
                              <a:pt x="175" y="26"/>
                            </a:lnTo>
                            <a:lnTo>
                              <a:pt x="174" y="31"/>
                            </a:lnTo>
                            <a:lnTo>
                              <a:pt x="174" y="33"/>
                            </a:lnTo>
                            <a:lnTo>
                              <a:pt x="172" y="37"/>
                            </a:lnTo>
                            <a:lnTo>
                              <a:pt x="172" y="40"/>
                            </a:lnTo>
                            <a:lnTo>
                              <a:pt x="172" y="44"/>
                            </a:lnTo>
                            <a:lnTo>
                              <a:pt x="171" y="47"/>
                            </a:lnTo>
                            <a:lnTo>
                              <a:pt x="171" y="53"/>
                            </a:lnTo>
                            <a:lnTo>
                              <a:pt x="169" y="57"/>
                            </a:lnTo>
                            <a:lnTo>
                              <a:pt x="169" y="64"/>
                            </a:lnTo>
                            <a:lnTo>
                              <a:pt x="169" y="65"/>
                            </a:lnTo>
                            <a:lnTo>
                              <a:pt x="169" y="68"/>
                            </a:lnTo>
                            <a:lnTo>
                              <a:pt x="169" y="72"/>
                            </a:lnTo>
                            <a:lnTo>
                              <a:pt x="169" y="75"/>
                            </a:lnTo>
                            <a:lnTo>
                              <a:pt x="169" y="77"/>
                            </a:lnTo>
                            <a:lnTo>
                              <a:pt x="169" y="81"/>
                            </a:lnTo>
                            <a:lnTo>
                              <a:pt x="169" y="85"/>
                            </a:lnTo>
                            <a:lnTo>
                              <a:pt x="169" y="90"/>
                            </a:lnTo>
                            <a:lnTo>
                              <a:pt x="169" y="92"/>
                            </a:lnTo>
                            <a:lnTo>
                              <a:pt x="169" y="96"/>
                            </a:lnTo>
                            <a:lnTo>
                              <a:pt x="169" y="101"/>
                            </a:lnTo>
                            <a:lnTo>
                              <a:pt x="169" y="105"/>
                            </a:lnTo>
                            <a:lnTo>
                              <a:pt x="169" y="109"/>
                            </a:lnTo>
                            <a:lnTo>
                              <a:pt x="169" y="113"/>
                            </a:lnTo>
                            <a:lnTo>
                              <a:pt x="169" y="118"/>
                            </a:lnTo>
                            <a:lnTo>
                              <a:pt x="169" y="124"/>
                            </a:lnTo>
                            <a:lnTo>
                              <a:pt x="169" y="128"/>
                            </a:lnTo>
                            <a:lnTo>
                              <a:pt x="169" y="134"/>
                            </a:lnTo>
                            <a:lnTo>
                              <a:pt x="171" y="138"/>
                            </a:lnTo>
                            <a:lnTo>
                              <a:pt x="171" y="143"/>
                            </a:lnTo>
                            <a:lnTo>
                              <a:pt x="171" y="149"/>
                            </a:lnTo>
                            <a:lnTo>
                              <a:pt x="171" y="154"/>
                            </a:lnTo>
                            <a:lnTo>
                              <a:pt x="172" y="160"/>
                            </a:lnTo>
                            <a:lnTo>
                              <a:pt x="174" y="166"/>
                            </a:lnTo>
                            <a:lnTo>
                              <a:pt x="174" y="169"/>
                            </a:lnTo>
                            <a:lnTo>
                              <a:pt x="174" y="172"/>
                            </a:lnTo>
                            <a:lnTo>
                              <a:pt x="174" y="176"/>
                            </a:lnTo>
                            <a:lnTo>
                              <a:pt x="174" y="182"/>
                            </a:lnTo>
                            <a:lnTo>
                              <a:pt x="174" y="186"/>
                            </a:lnTo>
                            <a:lnTo>
                              <a:pt x="174" y="191"/>
                            </a:lnTo>
                            <a:lnTo>
                              <a:pt x="174" y="197"/>
                            </a:lnTo>
                            <a:lnTo>
                              <a:pt x="174" y="204"/>
                            </a:lnTo>
                            <a:lnTo>
                              <a:pt x="172" y="209"/>
                            </a:lnTo>
                            <a:lnTo>
                              <a:pt x="172" y="215"/>
                            </a:lnTo>
                            <a:lnTo>
                              <a:pt x="172" y="220"/>
                            </a:lnTo>
                            <a:lnTo>
                              <a:pt x="172" y="224"/>
                            </a:lnTo>
                            <a:lnTo>
                              <a:pt x="171" y="228"/>
                            </a:lnTo>
                            <a:lnTo>
                              <a:pt x="171" y="232"/>
                            </a:lnTo>
                            <a:lnTo>
                              <a:pt x="169" y="235"/>
                            </a:lnTo>
                            <a:lnTo>
                              <a:pt x="168" y="238"/>
                            </a:lnTo>
                            <a:lnTo>
                              <a:pt x="166" y="231"/>
                            </a:lnTo>
                            <a:lnTo>
                              <a:pt x="166" y="225"/>
                            </a:lnTo>
                            <a:lnTo>
                              <a:pt x="165" y="220"/>
                            </a:lnTo>
                            <a:lnTo>
                              <a:pt x="165" y="215"/>
                            </a:lnTo>
                            <a:lnTo>
                              <a:pt x="163" y="209"/>
                            </a:lnTo>
                            <a:lnTo>
                              <a:pt x="163" y="204"/>
                            </a:lnTo>
                            <a:lnTo>
                              <a:pt x="163" y="198"/>
                            </a:lnTo>
                            <a:lnTo>
                              <a:pt x="163" y="193"/>
                            </a:lnTo>
                            <a:lnTo>
                              <a:pt x="163" y="186"/>
                            </a:lnTo>
                            <a:lnTo>
                              <a:pt x="163" y="182"/>
                            </a:lnTo>
                            <a:lnTo>
                              <a:pt x="163" y="175"/>
                            </a:lnTo>
                            <a:lnTo>
                              <a:pt x="163" y="171"/>
                            </a:lnTo>
                            <a:lnTo>
                              <a:pt x="163" y="165"/>
                            </a:lnTo>
                            <a:lnTo>
                              <a:pt x="163" y="158"/>
                            </a:lnTo>
                            <a:lnTo>
                              <a:pt x="163" y="153"/>
                            </a:lnTo>
                            <a:lnTo>
                              <a:pt x="163" y="149"/>
                            </a:lnTo>
                            <a:lnTo>
                              <a:pt x="162" y="142"/>
                            </a:lnTo>
                            <a:lnTo>
                              <a:pt x="162" y="136"/>
                            </a:lnTo>
                            <a:lnTo>
                              <a:pt x="162" y="131"/>
                            </a:lnTo>
                            <a:lnTo>
                              <a:pt x="162" y="125"/>
                            </a:lnTo>
                            <a:lnTo>
                              <a:pt x="162" y="118"/>
                            </a:lnTo>
                            <a:lnTo>
                              <a:pt x="162" y="114"/>
                            </a:lnTo>
                            <a:lnTo>
                              <a:pt x="162" y="107"/>
                            </a:lnTo>
                            <a:lnTo>
                              <a:pt x="162" y="102"/>
                            </a:lnTo>
                            <a:lnTo>
                              <a:pt x="162" y="96"/>
                            </a:lnTo>
                            <a:lnTo>
                              <a:pt x="160" y="91"/>
                            </a:lnTo>
                            <a:lnTo>
                              <a:pt x="160" y="85"/>
                            </a:lnTo>
                            <a:lnTo>
                              <a:pt x="160" y="80"/>
                            </a:lnTo>
                            <a:lnTo>
                              <a:pt x="160" y="75"/>
                            </a:lnTo>
                            <a:lnTo>
                              <a:pt x="159" y="69"/>
                            </a:lnTo>
                            <a:lnTo>
                              <a:pt x="159" y="62"/>
                            </a:lnTo>
                            <a:lnTo>
                              <a:pt x="157" y="58"/>
                            </a:lnTo>
                            <a:lnTo>
                              <a:pt x="157" y="55"/>
                            </a:lnTo>
                            <a:lnTo>
                              <a:pt x="157" y="53"/>
                            </a:lnTo>
                            <a:lnTo>
                              <a:pt x="156" y="48"/>
                            </a:lnTo>
                            <a:lnTo>
                              <a:pt x="156" y="47"/>
                            </a:lnTo>
                            <a:lnTo>
                              <a:pt x="154" y="50"/>
                            </a:lnTo>
                            <a:lnTo>
                              <a:pt x="154" y="53"/>
                            </a:lnTo>
                            <a:lnTo>
                              <a:pt x="153" y="57"/>
                            </a:lnTo>
                            <a:lnTo>
                              <a:pt x="153" y="59"/>
                            </a:lnTo>
                            <a:lnTo>
                              <a:pt x="153" y="64"/>
                            </a:lnTo>
                            <a:lnTo>
                              <a:pt x="151" y="66"/>
                            </a:lnTo>
                            <a:lnTo>
                              <a:pt x="151" y="70"/>
                            </a:lnTo>
                            <a:lnTo>
                              <a:pt x="151" y="75"/>
                            </a:lnTo>
                            <a:lnTo>
                              <a:pt x="156" y="138"/>
                            </a:lnTo>
                            <a:lnTo>
                              <a:pt x="154" y="142"/>
                            </a:lnTo>
                            <a:lnTo>
                              <a:pt x="154" y="146"/>
                            </a:lnTo>
                            <a:lnTo>
                              <a:pt x="154" y="151"/>
                            </a:lnTo>
                            <a:lnTo>
                              <a:pt x="154" y="155"/>
                            </a:lnTo>
                            <a:lnTo>
                              <a:pt x="154" y="161"/>
                            </a:lnTo>
                            <a:lnTo>
                              <a:pt x="154" y="166"/>
                            </a:lnTo>
                            <a:lnTo>
                              <a:pt x="153" y="171"/>
                            </a:lnTo>
                            <a:lnTo>
                              <a:pt x="153" y="176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1" y="191"/>
                            </a:lnTo>
                            <a:lnTo>
                              <a:pt x="151" y="195"/>
                            </a:lnTo>
                            <a:lnTo>
                              <a:pt x="151" y="201"/>
                            </a:lnTo>
                            <a:lnTo>
                              <a:pt x="151" y="206"/>
                            </a:lnTo>
                            <a:lnTo>
                              <a:pt x="153" y="210"/>
                            </a:lnTo>
                            <a:lnTo>
                              <a:pt x="153" y="217"/>
                            </a:lnTo>
                            <a:lnTo>
                              <a:pt x="153" y="544"/>
                            </a:lnTo>
                            <a:lnTo>
                              <a:pt x="75" y="545"/>
                            </a:lnTo>
                            <a:lnTo>
                              <a:pt x="71" y="99"/>
                            </a:lnTo>
                            <a:lnTo>
                              <a:pt x="71" y="95"/>
                            </a:lnTo>
                            <a:lnTo>
                              <a:pt x="71" y="92"/>
                            </a:lnTo>
                            <a:lnTo>
                              <a:pt x="71" y="88"/>
                            </a:lnTo>
                            <a:lnTo>
                              <a:pt x="71" y="85"/>
                            </a:lnTo>
                            <a:lnTo>
                              <a:pt x="70" y="81"/>
                            </a:lnTo>
                            <a:lnTo>
                              <a:pt x="68" y="79"/>
                            </a:lnTo>
                            <a:lnTo>
                              <a:pt x="68" y="75"/>
                            </a:lnTo>
                            <a:lnTo>
                              <a:pt x="68" y="72"/>
                            </a:lnTo>
                            <a:lnTo>
                              <a:pt x="67" y="68"/>
                            </a:lnTo>
                            <a:lnTo>
                              <a:pt x="65" y="65"/>
                            </a:lnTo>
                            <a:lnTo>
                              <a:pt x="64" y="62"/>
                            </a:lnTo>
                            <a:lnTo>
                              <a:pt x="64" y="58"/>
                            </a:lnTo>
                            <a:lnTo>
                              <a:pt x="62" y="53"/>
                            </a:lnTo>
                            <a:lnTo>
                              <a:pt x="62" y="47"/>
                            </a:lnTo>
                            <a:lnTo>
                              <a:pt x="58" y="53"/>
                            </a:lnTo>
                            <a:lnTo>
                              <a:pt x="59" y="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Freeform 207"/>
                      <p:cNvSpPr/>
                      <p:nvPr/>
                    </p:nvSpPr>
                    <p:spPr>
                      <a:xfrm>
                        <a:off x="3179520" y="2930400"/>
                        <a:ext cx="1080" cy="15840"/>
                      </a:xfrm>
                      <a:custGeom>
                        <a:avLst/>
                        <a:gdLst>
                          <a:gd name="textAreaLeft" fmla="*/ 0 w 1080"/>
                          <a:gd name="textAreaRight" fmla="*/ 1440 w 108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4" h="161">
                            <a:moveTo>
                              <a:pt x="14" y="0"/>
                            </a:moveTo>
                            <a:lnTo>
                              <a:pt x="14" y="3"/>
                            </a:lnTo>
                            <a:lnTo>
                              <a:pt x="12" y="7"/>
                            </a:lnTo>
                            <a:lnTo>
                              <a:pt x="12" y="11"/>
                            </a:lnTo>
                            <a:lnTo>
                              <a:pt x="12" y="16"/>
                            </a:lnTo>
                            <a:lnTo>
                              <a:pt x="11" y="20"/>
                            </a:lnTo>
                            <a:lnTo>
                              <a:pt x="11" y="24"/>
                            </a:lnTo>
                            <a:lnTo>
                              <a:pt x="11" y="28"/>
                            </a:lnTo>
                            <a:lnTo>
                              <a:pt x="11" y="32"/>
                            </a:lnTo>
                            <a:lnTo>
                              <a:pt x="11" y="36"/>
                            </a:lnTo>
                            <a:lnTo>
                              <a:pt x="11" y="40"/>
                            </a:lnTo>
                            <a:lnTo>
                              <a:pt x="11" y="44"/>
                            </a:lnTo>
                            <a:lnTo>
                              <a:pt x="11" y="48"/>
                            </a:lnTo>
                            <a:lnTo>
                              <a:pt x="11" y="53"/>
                            </a:lnTo>
                            <a:lnTo>
                              <a:pt x="11" y="58"/>
                            </a:lnTo>
                            <a:lnTo>
                              <a:pt x="11" y="61"/>
                            </a:lnTo>
                            <a:lnTo>
                              <a:pt x="11" y="66"/>
                            </a:lnTo>
                            <a:lnTo>
                              <a:pt x="11" y="72"/>
                            </a:lnTo>
                            <a:lnTo>
                              <a:pt x="11" y="77"/>
                            </a:lnTo>
                            <a:lnTo>
                              <a:pt x="11" y="83"/>
                            </a:lnTo>
                            <a:lnTo>
                              <a:pt x="11" y="90"/>
                            </a:lnTo>
                            <a:lnTo>
                              <a:pt x="11" y="95"/>
                            </a:lnTo>
                            <a:lnTo>
                              <a:pt x="9" y="101"/>
                            </a:lnTo>
                            <a:lnTo>
                              <a:pt x="9" y="105"/>
                            </a:lnTo>
                            <a:lnTo>
                              <a:pt x="9" y="107"/>
                            </a:lnTo>
                            <a:lnTo>
                              <a:pt x="9" y="110"/>
                            </a:lnTo>
                            <a:lnTo>
                              <a:pt x="9" y="113"/>
                            </a:lnTo>
                            <a:lnTo>
                              <a:pt x="8" y="120"/>
                            </a:lnTo>
                            <a:lnTo>
                              <a:pt x="6" y="125"/>
                            </a:lnTo>
                            <a:lnTo>
                              <a:pt x="6" y="131"/>
                            </a:lnTo>
                            <a:lnTo>
                              <a:pt x="5" y="138"/>
                            </a:lnTo>
                            <a:lnTo>
                              <a:pt x="3" y="143"/>
                            </a:lnTo>
                            <a:lnTo>
                              <a:pt x="3" y="149"/>
                            </a:lnTo>
                            <a:lnTo>
                              <a:pt x="2" y="151"/>
                            </a:lnTo>
                            <a:lnTo>
                              <a:pt x="2" y="154"/>
                            </a:lnTo>
                            <a:lnTo>
                              <a:pt x="0" y="158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2" y="150"/>
                            </a:lnTo>
                            <a:lnTo>
                              <a:pt x="2" y="145"/>
                            </a:lnTo>
                            <a:lnTo>
                              <a:pt x="2" y="140"/>
                            </a:lnTo>
                            <a:lnTo>
                              <a:pt x="2" y="135"/>
                            </a:lnTo>
                            <a:lnTo>
                              <a:pt x="3" y="129"/>
                            </a:lnTo>
                            <a:lnTo>
                              <a:pt x="3" y="127"/>
                            </a:lnTo>
                            <a:lnTo>
                              <a:pt x="3" y="123"/>
                            </a:lnTo>
                            <a:lnTo>
                              <a:pt x="3" y="120"/>
                            </a:lnTo>
                            <a:lnTo>
                              <a:pt x="3" y="117"/>
                            </a:lnTo>
                            <a:lnTo>
                              <a:pt x="3" y="113"/>
                            </a:lnTo>
                            <a:lnTo>
                              <a:pt x="3" y="110"/>
                            </a:lnTo>
                            <a:lnTo>
                              <a:pt x="3" y="107"/>
                            </a:lnTo>
                            <a:lnTo>
                              <a:pt x="3" y="105"/>
                            </a:lnTo>
                            <a:lnTo>
                              <a:pt x="3" y="101"/>
                            </a:lnTo>
                            <a:lnTo>
                              <a:pt x="3" y="97"/>
                            </a:lnTo>
                            <a:lnTo>
                              <a:pt x="3" y="94"/>
                            </a:lnTo>
                            <a:lnTo>
                              <a:pt x="3" y="90"/>
                            </a:lnTo>
                            <a:lnTo>
                              <a:pt x="3" y="87"/>
                            </a:lnTo>
                            <a:lnTo>
                              <a:pt x="5" y="83"/>
                            </a:lnTo>
                            <a:lnTo>
                              <a:pt x="5" y="80"/>
                            </a:lnTo>
                            <a:lnTo>
                              <a:pt x="5" y="76"/>
                            </a:lnTo>
                            <a:lnTo>
                              <a:pt x="5" y="73"/>
                            </a:lnTo>
                            <a:lnTo>
                              <a:pt x="5" y="69"/>
                            </a:lnTo>
                            <a:lnTo>
                              <a:pt x="5" y="65"/>
                            </a:lnTo>
                            <a:lnTo>
                              <a:pt x="5" y="62"/>
                            </a:lnTo>
                            <a:lnTo>
                              <a:pt x="5" y="58"/>
                            </a:lnTo>
                            <a:lnTo>
                              <a:pt x="6" y="55"/>
                            </a:lnTo>
                            <a:lnTo>
                              <a:pt x="6" y="51"/>
                            </a:lnTo>
                            <a:lnTo>
                              <a:pt x="6" y="48"/>
                            </a:lnTo>
                            <a:lnTo>
                              <a:pt x="6" y="44"/>
                            </a:lnTo>
                            <a:lnTo>
                              <a:pt x="6" y="42"/>
                            </a:lnTo>
                            <a:lnTo>
                              <a:pt x="6" y="39"/>
                            </a:lnTo>
                            <a:lnTo>
                              <a:pt x="6" y="36"/>
                            </a:lnTo>
                            <a:lnTo>
                              <a:pt x="8" y="29"/>
                            </a:lnTo>
                            <a:lnTo>
                              <a:pt x="8" y="25"/>
                            </a:lnTo>
                            <a:lnTo>
                              <a:pt x="8" y="20"/>
                            </a:lnTo>
                            <a:lnTo>
                              <a:pt x="9" y="14"/>
                            </a:lnTo>
                            <a:lnTo>
                              <a:pt x="9" y="11"/>
                            </a:lnTo>
                            <a:lnTo>
                              <a:pt x="11" y="7"/>
                            </a:lnTo>
                            <a:lnTo>
                              <a:pt x="11" y="5"/>
                            </a:lnTo>
                            <a:lnTo>
                              <a:pt x="12" y="2"/>
                            </a:lnTo>
                            <a:lnTo>
                              <a:pt x="12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Freeform 208"/>
                      <p:cNvSpPr/>
                      <p:nvPr/>
                    </p:nvSpPr>
                    <p:spPr>
                      <a:xfrm>
                        <a:off x="3188880" y="2893320"/>
                        <a:ext cx="19080" cy="58680"/>
                      </a:xfrm>
                      <a:custGeom>
                        <a:avLst/>
                        <a:gdLst>
                          <a:gd name="textAreaLeft" fmla="*/ 0 w 19080"/>
                          <a:gd name="textAreaRight" fmla="*/ 19080 w 1908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214" h="584">
                            <a:moveTo>
                              <a:pt x="62" y="77"/>
                            </a:moveTo>
                            <a:lnTo>
                              <a:pt x="62" y="81"/>
                            </a:lnTo>
                            <a:lnTo>
                              <a:pt x="62" y="87"/>
                            </a:lnTo>
                            <a:lnTo>
                              <a:pt x="64" y="91"/>
                            </a:lnTo>
                            <a:lnTo>
                              <a:pt x="64" y="96"/>
                            </a:lnTo>
                            <a:lnTo>
                              <a:pt x="65" y="102"/>
                            </a:lnTo>
                            <a:lnTo>
                              <a:pt x="67" y="107"/>
                            </a:lnTo>
                            <a:lnTo>
                              <a:pt x="67" y="113"/>
                            </a:lnTo>
                            <a:lnTo>
                              <a:pt x="68" y="118"/>
                            </a:lnTo>
                            <a:lnTo>
                              <a:pt x="68" y="124"/>
                            </a:lnTo>
                            <a:lnTo>
                              <a:pt x="68" y="128"/>
                            </a:lnTo>
                            <a:lnTo>
                              <a:pt x="68" y="133"/>
                            </a:lnTo>
                            <a:lnTo>
                              <a:pt x="70" y="139"/>
                            </a:lnTo>
                            <a:lnTo>
                              <a:pt x="68" y="143"/>
                            </a:lnTo>
                            <a:lnTo>
                              <a:pt x="68" y="148"/>
                            </a:lnTo>
                            <a:lnTo>
                              <a:pt x="67" y="152"/>
                            </a:lnTo>
                            <a:lnTo>
                              <a:pt x="67" y="157"/>
                            </a:lnTo>
                            <a:lnTo>
                              <a:pt x="67" y="155"/>
                            </a:lnTo>
                            <a:lnTo>
                              <a:pt x="65" y="152"/>
                            </a:lnTo>
                            <a:lnTo>
                              <a:pt x="65" y="150"/>
                            </a:lnTo>
                            <a:lnTo>
                              <a:pt x="64" y="146"/>
                            </a:lnTo>
                            <a:lnTo>
                              <a:pt x="62" y="142"/>
                            </a:lnTo>
                            <a:lnTo>
                              <a:pt x="61" y="136"/>
                            </a:lnTo>
                            <a:lnTo>
                              <a:pt x="61" y="132"/>
                            </a:lnTo>
                            <a:lnTo>
                              <a:pt x="59" y="129"/>
                            </a:lnTo>
                            <a:lnTo>
                              <a:pt x="59" y="126"/>
                            </a:lnTo>
                            <a:lnTo>
                              <a:pt x="58" y="122"/>
                            </a:lnTo>
                            <a:lnTo>
                              <a:pt x="58" y="120"/>
                            </a:lnTo>
                            <a:lnTo>
                              <a:pt x="56" y="117"/>
                            </a:lnTo>
                            <a:lnTo>
                              <a:pt x="56" y="113"/>
                            </a:lnTo>
                            <a:lnTo>
                              <a:pt x="55" y="110"/>
                            </a:lnTo>
                            <a:lnTo>
                              <a:pt x="55" y="107"/>
                            </a:lnTo>
                            <a:lnTo>
                              <a:pt x="53" y="103"/>
                            </a:lnTo>
                            <a:lnTo>
                              <a:pt x="53" y="99"/>
                            </a:lnTo>
                            <a:lnTo>
                              <a:pt x="52" y="96"/>
                            </a:lnTo>
                            <a:lnTo>
                              <a:pt x="52" y="92"/>
                            </a:lnTo>
                            <a:lnTo>
                              <a:pt x="50" y="88"/>
                            </a:lnTo>
                            <a:lnTo>
                              <a:pt x="50" y="85"/>
                            </a:lnTo>
                            <a:lnTo>
                              <a:pt x="48" y="81"/>
                            </a:lnTo>
                            <a:lnTo>
                              <a:pt x="48" y="78"/>
                            </a:lnTo>
                            <a:lnTo>
                              <a:pt x="47" y="74"/>
                            </a:lnTo>
                            <a:lnTo>
                              <a:pt x="45" y="70"/>
                            </a:lnTo>
                            <a:lnTo>
                              <a:pt x="45" y="66"/>
                            </a:lnTo>
                            <a:lnTo>
                              <a:pt x="44" y="63"/>
                            </a:lnTo>
                            <a:lnTo>
                              <a:pt x="42" y="59"/>
                            </a:lnTo>
                            <a:lnTo>
                              <a:pt x="42" y="56"/>
                            </a:lnTo>
                            <a:lnTo>
                              <a:pt x="41" y="52"/>
                            </a:lnTo>
                            <a:lnTo>
                              <a:pt x="41" y="50"/>
                            </a:lnTo>
                            <a:lnTo>
                              <a:pt x="39" y="45"/>
                            </a:lnTo>
                            <a:lnTo>
                              <a:pt x="38" y="43"/>
                            </a:lnTo>
                            <a:lnTo>
                              <a:pt x="38" y="39"/>
                            </a:lnTo>
                            <a:lnTo>
                              <a:pt x="38" y="36"/>
                            </a:lnTo>
                            <a:lnTo>
                              <a:pt x="36" y="29"/>
                            </a:lnTo>
                            <a:lnTo>
                              <a:pt x="35" y="25"/>
                            </a:lnTo>
                            <a:lnTo>
                              <a:pt x="33" y="18"/>
                            </a:lnTo>
                            <a:lnTo>
                              <a:pt x="32" y="14"/>
                            </a:lnTo>
                            <a:lnTo>
                              <a:pt x="30" y="10"/>
                            </a:lnTo>
                            <a:lnTo>
                              <a:pt x="30" y="6"/>
                            </a:lnTo>
                            <a:lnTo>
                              <a:pt x="29" y="1"/>
                            </a:lnTo>
                            <a:lnTo>
                              <a:pt x="29" y="0"/>
                            </a:lnTo>
                            <a:lnTo>
                              <a:pt x="27" y="6"/>
                            </a:lnTo>
                            <a:lnTo>
                              <a:pt x="27" y="11"/>
                            </a:lnTo>
                            <a:lnTo>
                              <a:pt x="26" y="15"/>
                            </a:lnTo>
                            <a:lnTo>
                              <a:pt x="26" y="18"/>
                            </a:lnTo>
                            <a:lnTo>
                              <a:pt x="26" y="21"/>
                            </a:lnTo>
                            <a:lnTo>
                              <a:pt x="27" y="25"/>
                            </a:lnTo>
                            <a:lnTo>
                              <a:pt x="27" y="28"/>
                            </a:lnTo>
                            <a:lnTo>
                              <a:pt x="27" y="32"/>
                            </a:lnTo>
                            <a:lnTo>
                              <a:pt x="27" y="34"/>
                            </a:lnTo>
                            <a:lnTo>
                              <a:pt x="29" y="39"/>
                            </a:lnTo>
                            <a:lnTo>
                              <a:pt x="29" y="41"/>
                            </a:lnTo>
                            <a:lnTo>
                              <a:pt x="30" y="44"/>
                            </a:lnTo>
                            <a:lnTo>
                              <a:pt x="30" y="47"/>
                            </a:lnTo>
                            <a:lnTo>
                              <a:pt x="32" y="50"/>
                            </a:lnTo>
                            <a:lnTo>
                              <a:pt x="33" y="52"/>
                            </a:lnTo>
                            <a:lnTo>
                              <a:pt x="35" y="55"/>
                            </a:lnTo>
                            <a:lnTo>
                              <a:pt x="35" y="56"/>
                            </a:lnTo>
                            <a:lnTo>
                              <a:pt x="36" y="59"/>
                            </a:lnTo>
                            <a:lnTo>
                              <a:pt x="38" y="65"/>
                            </a:lnTo>
                            <a:lnTo>
                              <a:pt x="38" y="72"/>
                            </a:lnTo>
                            <a:lnTo>
                              <a:pt x="38" y="77"/>
                            </a:lnTo>
                            <a:lnTo>
                              <a:pt x="39" y="82"/>
                            </a:lnTo>
                            <a:lnTo>
                              <a:pt x="39" y="85"/>
                            </a:lnTo>
                            <a:lnTo>
                              <a:pt x="41" y="89"/>
                            </a:lnTo>
                            <a:lnTo>
                              <a:pt x="41" y="92"/>
                            </a:lnTo>
                            <a:lnTo>
                              <a:pt x="41" y="95"/>
                            </a:lnTo>
                            <a:lnTo>
                              <a:pt x="41" y="98"/>
                            </a:lnTo>
                            <a:lnTo>
                              <a:pt x="42" y="102"/>
                            </a:lnTo>
                            <a:lnTo>
                              <a:pt x="42" y="104"/>
                            </a:lnTo>
                            <a:lnTo>
                              <a:pt x="42" y="109"/>
                            </a:lnTo>
                            <a:lnTo>
                              <a:pt x="42" y="114"/>
                            </a:lnTo>
                            <a:lnTo>
                              <a:pt x="44" y="120"/>
                            </a:lnTo>
                            <a:lnTo>
                              <a:pt x="44" y="122"/>
                            </a:lnTo>
                            <a:lnTo>
                              <a:pt x="44" y="126"/>
                            </a:lnTo>
                            <a:lnTo>
                              <a:pt x="44" y="129"/>
                            </a:lnTo>
                            <a:lnTo>
                              <a:pt x="44" y="132"/>
                            </a:lnTo>
                            <a:lnTo>
                              <a:pt x="44" y="137"/>
                            </a:lnTo>
                            <a:lnTo>
                              <a:pt x="44" y="143"/>
                            </a:lnTo>
                            <a:lnTo>
                              <a:pt x="44" y="148"/>
                            </a:lnTo>
                            <a:lnTo>
                              <a:pt x="44" y="155"/>
                            </a:lnTo>
                            <a:lnTo>
                              <a:pt x="36" y="150"/>
                            </a:lnTo>
                            <a:lnTo>
                              <a:pt x="36" y="148"/>
                            </a:lnTo>
                            <a:lnTo>
                              <a:pt x="35" y="146"/>
                            </a:lnTo>
                            <a:lnTo>
                              <a:pt x="35" y="142"/>
                            </a:lnTo>
                            <a:lnTo>
                              <a:pt x="35" y="139"/>
                            </a:lnTo>
                            <a:lnTo>
                              <a:pt x="35" y="135"/>
                            </a:lnTo>
                            <a:lnTo>
                              <a:pt x="35" y="131"/>
                            </a:lnTo>
                            <a:lnTo>
                              <a:pt x="35" y="126"/>
                            </a:lnTo>
                            <a:lnTo>
                              <a:pt x="33" y="121"/>
                            </a:lnTo>
                            <a:lnTo>
                              <a:pt x="33" y="117"/>
                            </a:lnTo>
                            <a:lnTo>
                              <a:pt x="32" y="113"/>
                            </a:lnTo>
                            <a:lnTo>
                              <a:pt x="32" y="110"/>
                            </a:lnTo>
                            <a:lnTo>
                              <a:pt x="32" y="106"/>
                            </a:lnTo>
                            <a:lnTo>
                              <a:pt x="32" y="103"/>
                            </a:lnTo>
                            <a:lnTo>
                              <a:pt x="32" y="102"/>
                            </a:lnTo>
                            <a:lnTo>
                              <a:pt x="32" y="100"/>
                            </a:lnTo>
                            <a:lnTo>
                              <a:pt x="30" y="96"/>
                            </a:lnTo>
                            <a:lnTo>
                              <a:pt x="29" y="92"/>
                            </a:lnTo>
                            <a:lnTo>
                              <a:pt x="27" y="89"/>
                            </a:lnTo>
                            <a:lnTo>
                              <a:pt x="26" y="85"/>
                            </a:lnTo>
                            <a:lnTo>
                              <a:pt x="24" y="82"/>
                            </a:lnTo>
                            <a:lnTo>
                              <a:pt x="22" y="78"/>
                            </a:lnTo>
                            <a:lnTo>
                              <a:pt x="21" y="76"/>
                            </a:lnTo>
                            <a:lnTo>
                              <a:pt x="19" y="72"/>
                            </a:lnTo>
                            <a:lnTo>
                              <a:pt x="18" y="69"/>
                            </a:lnTo>
                            <a:lnTo>
                              <a:pt x="16" y="65"/>
                            </a:lnTo>
                            <a:lnTo>
                              <a:pt x="15" y="61"/>
                            </a:lnTo>
                            <a:lnTo>
                              <a:pt x="15" y="58"/>
                            </a:lnTo>
                            <a:lnTo>
                              <a:pt x="13" y="54"/>
                            </a:lnTo>
                            <a:lnTo>
                              <a:pt x="13" y="50"/>
                            </a:lnTo>
                            <a:lnTo>
                              <a:pt x="13" y="45"/>
                            </a:lnTo>
                            <a:lnTo>
                              <a:pt x="15" y="41"/>
                            </a:lnTo>
                            <a:lnTo>
                              <a:pt x="10" y="40"/>
                            </a:lnTo>
                            <a:lnTo>
                              <a:pt x="7" y="37"/>
                            </a:lnTo>
                            <a:lnTo>
                              <a:pt x="4" y="36"/>
                            </a:lnTo>
                            <a:lnTo>
                              <a:pt x="1" y="34"/>
                            </a:lnTo>
                            <a:lnTo>
                              <a:pt x="1" y="36"/>
                            </a:lnTo>
                            <a:lnTo>
                              <a:pt x="0" y="37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0" y="51"/>
                            </a:lnTo>
                            <a:lnTo>
                              <a:pt x="0" y="55"/>
                            </a:lnTo>
                            <a:lnTo>
                              <a:pt x="1" y="61"/>
                            </a:lnTo>
                            <a:lnTo>
                              <a:pt x="1" y="65"/>
                            </a:lnTo>
                            <a:lnTo>
                              <a:pt x="1" y="70"/>
                            </a:lnTo>
                            <a:lnTo>
                              <a:pt x="1" y="74"/>
                            </a:lnTo>
                            <a:lnTo>
                              <a:pt x="3" y="81"/>
                            </a:lnTo>
                            <a:lnTo>
                              <a:pt x="3" y="85"/>
                            </a:lnTo>
                            <a:lnTo>
                              <a:pt x="4" y="91"/>
                            </a:lnTo>
                            <a:lnTo>
                              <a:pt x="4" y="96"/>
                            </a:lnTo>
                            <a:lnTo>
                              <a:pt x="6" y="103"/>
                            </a:lnTo>
                            <a:lnTo>
                              <a:pt x="6" y="109"/>
                            </a:lnTo>
                            <a:lnTo>
                              <a:pt x="7" y="113"/>
                            </a:lnTo>
                            <a:lnTo>
                              <a:pt x="7" y="118"/>
                            </a:lnTo>
                            <a:lnTo>
                              <a:pt x="7" y="124"/>
                            </a:lnTo>
                            <a:lnTo>
                              <a:pt x="9" y="128"/>
                            </a:lnTo>
                            <a:lnTo>
                              <a:pt x="9" y="133"/>
                            </a:lnTo>
                            <a:lnTo>
                              <a:pt x="10" y="137"/>
                            </a:lnTo>
                            <a:lnTo>
                              <a:pt x="12" y="142"/>
                            </a:lnTo>
                            <a:lnTo>
                              <a:pt x="12" y="146"/>
                            </a:lnTo>
                            <a:lnTo>
                              <a:pt x="12" y="150"/>
                            </a:lnTo>
                            <a:lnTo>
                              <a:pt x="12" y="152"/>
                            </a:lnTo>
                            <a:lnTo>
                              <a:pt x="13" y="155"/>
                            </a:lnTo>
                            <a:lnTo>
                              <a:pt x="13" y="159"/>
                            </a:lnTo>
                            <a:lnTo>
                              <a:pt x="15" y="162"/>
                            </a:lnTo>
                            <a:lnTo>
                              <a:pt x="15" y="165"/>
                            </a:lnTo>
                            <a:lnTo>
                              <a:pt x="15" y="169"/>
                            </a:lnTo>
                            <a:lnTo>
                              <a:pt x="15" y="173"/>
                            </a:lnTo>
                            <a:lnTo>
                              <a:pt x="15" y="177"/>
                            </a:lnTo>
                            <a:lnTo>
                              <a:pt x="15" y="181"/>
                            </a:lnTo>
                            <a:lnTo>
                              <a:pt x="16" y="185"/>
                            </a:lnTo>
                            <a:lnTo>
                              <a:pt x="16" y="190"/>
                            </a:lnTo>
                            <a:lnTo>
                              <a:pt x="18" y="194"/>
                            </a:lnTo>
                            <a:lnTo>
                              <a:pt x="18" y="196"/>
                            </a:lnTo>
                            <a:lnTo>
                              <a:pt x="18" y="198"/>
                            </a:lnTo>
                            <a:lnTo>
                              <a:pt x="18" y="201"/>
                            </a:lnTo>
                            <a:lnTo>
                              <a:pt x="18" y="202"/>
                            </a:lnTo>
                            <a:lnTo>
                              <a:pt x="16" y="202"/>
                            </a:lnTo>
                            <a:lnTo>
                              <a:pt x="15" y="201"/>
                            </a:lnTo>
                            <a:lnTo>
                              <a:pt x="13" y="198"/>
                            </a:lnTo>
                            <a:lnTo>
                              <a:pt x="12" y="195"/>
                            </a:lnTo>
                            <a:lnTo>
                              <a:pt x="15" y="584"/>
                            </a:lnTo>
                            <a:lnTo>
                              <a:pt x="214" y="584"/>
                            </a:lnTo>
                            <a:lnTo>
                              <a:pt x="209" y="115"/>
                            </a:lnTo>
                            <a:lnTo>
                              <a:pt x="209" y="111"/>
                            </a:lnTo>
                            <a:lnTo>
                              <a:pt x="209" y="109"/>
                            </a:lnTo>
                            <a:lnTo>
                              <a:pt x="209" y="106"/>
                            </a:lnTo>
                            <a:lnTo>
                              <a:pt x="209" y="102"/>
                            </a:lnTo>
                            <a:lnTo>
                              <a:pt x="209" y="99"/>
                            </a:lnTo>
                            <a:lnTo>
                              <a:pt x="209" y="96"/>
                            </a:lnTo>
                            <a:lnTo>
                              <a:pt x="209" y="93"/>
                            </a:lnTo>
                            <a:lnTo>
                              <a:pt x="209" y="91"/>
                            </a:lnTo>
                            <a:lnTo>
                              <a:pt x="209" y="85"/>
                            </a:lnTo>
                            <a:lnTo>
                              <a:pt x="209" y="80"/>
                            </a:lnTo>
                            <a:lnTo>
                              <a:pt x="209" y="74"/>
                            </a:lnTo>
                            <a:lnTo>
                              <a:pt x="209" y="70"/>
                            </a:lnTo>
                            <a:lnTo>
                              <a:pt x="209" y="65"/>
                            </a:lnTo>
                            <a:lnTo>
                              <a:pt x="209" y="61"/>
                            </a:lnTo>
                            <a:lnTo>
                              <a:pt x="209" y="55"/>
                            </a:lnTo>
                            <a:lnTo>
                              <a:pt x="209" y="50"/>
                            </a:lnTo>
                            <a:lnTo>
                              <a:pt x="209" y="44"/>
                            </a:lnTo>
                            <a:lnTo>
                              <a:pt x="209" y="39"/>
                            </a:lnTo>
                            <a:lnTo>
                              <a:pt x="209" y="34"/>
                            </a:lnTo>
                            <a:lnTo>
                              <a:pt x="209" y="32"/>
                            </a:lnTo>
                            <a:lnTo>
                              <a:pt x="209" y="28"/>
                            </a:lnTo>
                            <a:lnTo>
                              <a:pt x="209" y="25"/>
                            </a:lnTo>
                            <a:lnTo>
                              <a:pt x="200" y="32"/>
                            </a:lnTo>
                            <a:lnTo>
                              <a:pt x="200" y="37"/>
                            </a:lnTo>
                            <a:lnTo>
                              <a:pt x="200" y="41"/>
                            </a:lnTo>
                            <a:lnTo>
                              <a:pt x="200" y="47"/>
                            </a:lnTo>
                            <a:lnTo>
                              <a:pt x="200" y="52"/>
                            </a:lnTo>
                            <a:lnTo>
                              <a:pt x="200" y="56"/>
                            </a:lnTo>
                            <a:lnTo>
                              <a:pt x="200" y="62"/>
                            </a:lnTo>
                            <a:lnTo>
                              <a:pt x="200" y="66"/>
                            </a:lnTo>
                            <a:lnTo>
                              <a:pt x="200" y="72"/>
                            </a:lnTo>
                            <a:lnTo>
                              <a:pt x="200" y="76"/>
                            </a:lnTo>
                            <a:lnTo>
                              <a:pt x="200" y="81"/>
                            </a:lnTo>
                            <a:lnTo>
                              <a:pt x="200" y="85"/>
                            </a:lnTo>
                            <a:lnTo>
                              <a:pt x="201" y="89"/>
                            </a:lnTo>
                            <a:lnTo>
                              <a:pt x="201" y="95"/>
                            </a:lnTo>
                            <a:lnTo>
                              <a:pt x="201" y="99"/>
                            </a:lnTo>
                            <a:lnTo>
                              <a:pt x="203" y="104"/>
                            </a:lnTo>
                            <a:lnTo>
                              <a:pt x="203" y="109"/>
                            </a:lnTo>
                            <a:lnTo>
                              <a:pt x="201" y="113"/>
                            </a:lnTo>
                            <a:lnTo>
                              <a:pt x="200" y="115"/>
                            </a:lnTo>
                            <a:lnTo>
                              <a:pt x="200" y="120"/>
                            </a:lnTo>
                            <a:lnTo>
                              <a:pt x="200" y="124"/>
                            </a:lnTo>
                            <a:lnTo>
                              <a:pt x="195" y="73"/>
                            </a:lnTo>
                            <a:lnTo>
                              <a:pt x="194" y="173"/>
                            </a:lnTo>
                            <a:lnTo>
                              <a:pt x="192" y="168"/>
                            </a:lnTo>
                            <a:lnTo>
                              <a:pt x="192" y="163"/>
                            </a:lnTo>
                            <a:lnTo>
                              <a:pt x="191" y="158"/>
                            </a:lnTo>
                            <a:lnTo>
                              <a:pt x="191" y="154"/>
                            </a:lnTo>
                            <a:lnTo>
                              <a:pt x="191" y="148"/>
                            </a:lnTo>
                            <a:lnTo>
                              <a:pt x="191" y="144"/>
                            </a:lnTo>
                            <a:lnTo>
                              <a:pt x="189" y="139"/>
                            </a:lnTo>
                            <a:lnTo>
                              <a:pt x="189" y="135"/>
                            </a:lnTo>
                            <a:lnTo>
                              <a:pt x="189" y="131"/>
                            </a:lnTo>
                            <a:lnTo>
                              <a:pt x="188" y="125"/>
                            </a:lnTo>
                            <a:lnTo>
                              <a:pt x="188" y="121"/>
                            </a:lnTo>
                            <a:lnTo>
                              <a:pt x="188" y="115"/>
                            </a:lnTo>
                            <a:lnTo>
                              <a:pt x="188" y="111"/>
                            </a:lnTo>
                            <a:lnTo>
                              <a:pt x="186" y="106"/>
                            </a:lnTo>
                            <a:lnTo>
                              <a:pt x="186" y="102"/>
                            </a:lnTo>
                            <a:lnTo>
                              <a:pt x="186" y="98"/>
                            </a:lnTo>
                            <a:lnTo>
                              <a:pt x="186" y="92"/>
                            </a:lnTo>
                            <a:lnTo>
                              <a:pt x="186" y="88"/>
                            </a:lnTo>
                            <a:lnTo>
                              <a:pt x="186" y="82"/>
                            </a:lnTo>
                            <a:lnTo>
                              <a:pt x="186" y="78"/>
                            </a:lnTo>
                            <a:lnTo>
                              <a:pt x="185" y="73"/>
                            </a:lnTo>
                            <a:lnTo>
                              <a:pt x="185" y="69"/>
                            </a:lnTo>
                            <a:lnTo>
                              <a:pt x="185" y="63"/>
                            </a:lnTo>
                            <a:lnTo>
                              <a:pt x="185" y="59"/>
                            </a:lnTo>
                            <a:lnTo>
                              <a:pt x="185" y="54"/>
                            </a:lnTo>
                            <a:lnTo>
                              <a:pt x="185" y="50"/>
                            </a:lnTo>
                            <a:lnTo>
                              <a:pt x="183" y="44"/>
                            </a:lnTo>
                            <a:lnTo>
                              <a:pt x="183" y="40"/>
                            </a:lnTo>
                            <a:lnTo>
                              <a:pt x="183" y="34"/>
                            </a:lnTo>
                            <a:lnTo>
                              <a:pt x="183" y="30"/>
                            </a:lnTo>
                            <a:lnTo>
                              <a:pt x="183" y="25"/>
                            </a:lnTo>
                            <a:lnTo>
                              <a:pt x="183" y="21"/>
                            </a:lnTo>
                            <a:lnTo>
                              <a:pt x="182" y="21"/>
                            </a:lnTo>
                            <a:lnTo>
                              <a:pt x="180" y="25"/>
                            </a:lnTo>
                            <a:lnTo>
                              <a:pt x="177" y="28"/>
                            </a:lnTo>
                            <a:lnTo>
                              <a:pt x="177" y="33"/>
                            </a:lnTo>
                            <a:lnTo>
                              <a:pt x="175" y="34"/>
                            </a:lnTo>
                            <a:lnTo>
                              <a:pt x="175" y="39"/>
                            </a:lnTo>
                            <a:lnTo>
                              <a:pt x="174" y="41"/>
                            </a:lnTo>
                            <a:lnTo>
                              <a:pt x="174" y="45"/>
                            </a:lnTo>
                            <a:lnTo>
                              <a:pt x="174" y="50"/>
                            </a:lnTo>
                            <a:lnTo>
                              <a:pt x="172" y="54"/>
                            </a:lnTo>
                            <a:lnTo>
                              <a:pt x="172" y="59"/>
                            </a:lnTo>
                            <a:lnTo>
                              <a:pt x="172" y="65"/>
                            </a:lnTo>
                            <a:lnTo>
                              <a:pt x="172" y="67"/>
                            </a:lnTo>
                            <a:lnTo>
                              <a:pt x="172" y="70"/>
                            </a:lnTo>
                            <a:lnTo>
                              <a:pt x="172" y="73"/>
                            </a:lnTo>
                            <a:lnTo>
                              <a:pt x="172" y="77"/>
                            </a:lnTo>
                            <a:lnTo>
                              <a:pt x="172" y="80"/>
                            </a:lnTo>
                            <a:lnTo>
                              <a:pt x="172" y="82"/>
                            </a:lnTo>
                            <a:lnTo>
                              <a:pt x="172" y="87"/>
                            </a:lnTo>
                            <a:lnTo>
                              <a:pt x="172" y="91"/>
                            </a:lnTo>
                            <a:lnTo>
                              <a:pt x="172" y="93"/>
                            </a:lnTo>
                            <a:lnTo>
                              <a:pt x="172" y="98"/>
                            </a:lnTo>
                            <a:lnTo>
                              <a:pt x="172" y="102"/>
                            </a:lnTo>
                            <a:lnTo>
                              <a:pt x="172" y="106"/>
                            </a:lnTo>
                            <a:lnTo>
                              <a:pt x="172" y="110"/>
                            </a:lnTo>
                            <a:lnTo>
                              <a:pt x="172" y="114"/>
                            </a:lnTo>
                            <a:lnTo>
                              <a:pt x="172" y="120"/>
                            </a:lnTo>
                            <a:lnTo>
                              <a:pt x="172" y="125"/>
                            </a:lnTo>
                            <a:lnTo>
                              <a:pt x="172" y="129"/>
                            </a:lnTo>
                            <a:lnTo>
                              <a:pt x="172" y="135"/>
                            </a:lnTo>
                            <a:lnTo>
                              <a:pt x="172" y="139"/>
                            </a:lnTo>
                            <a:lnTo>
                              <a:pt x="174" y="146"/>
                            </a:lnTo>
                            <a:lnTo>
                              <a:pt x="174" y="150"/>
                            </a:lnTo>
                            <a:lnTo>
                              <a:pt x="174" y="155"/>
                            </a:lnTo>
                            <a:lnTo>
                              <a:pt x="175" y="162"/>
                            </a:lnTo>
                            <a:lnTo>
                              <a:pt x="175" y="168"/>
                            </a:lnTo>
                            <a:lnTo>
                              <a:pt x="175" y="170"/>
                            </a:lnTo>
                            <a:lnTo>
                              <a:pt x="175" y="173"/>
                            </a:lnTo>
                            <a:lnTo>
                              <a:pt x="175" y="177"/>
                            </a:lnTo>
                            <a:lnTo>
                              <a:pt x="175" y="183"/>
                            </a:lnTo>
                            <a:lnTo>
                              <a:pt x="175" y="188"/>
                            </a:lnTo>
                            <a:lnTo>
                              <a:pt x="175" y="194"/>
                            </a:lnTo>
                            <a:lnTo>
                              <a:pt x="175" y="199"/>
                            </a:lnTo>
                            <a:lnTo>
                              <a:pt x="175" y="205"/>
                            </a:lnTo>
                            <a:lnTo>
                              <a:pt x="175" y="210"/>
                            </a:lnTo>
                            <a:lnTo>
                              <a:pt x="175" y="217"/>
                            </a:lnTo>
                            <a:lnTo>
                              <a:pt x="174" y="221"/>
                            </a:lnTo>
                            <a:lnTo>
                              <a:pt x="174" y="227"/>
                            </a:lnTo>
                            <a:lnTo>
                              <a:pt x="172" y="231"/>
                            </a:lnTo>
                            <a:lnTo>
                              <a:pt x="172" y="235"/>
                            </a:lnTo>
                            <a:lnTo>
                              <a:pt x="171" y="239"/>
                            </a:lnTo>
                            <a:lnTo>
                              <a:pt x="171" y="242"/>
                            </a:lnTo>
                            <a:lnTo>
                              <a:pt x="169" y="235"/>
                            </a:lnTo>
                            <a:lnTo>
                              <a:pt x="169" y="229"/>
                            </a:lnTo>
                            <a:lnTo>
                              <a:pt x="168" y="224"/>
                            </a:lnTo>
                            <a:lnTo>
                              <a:pt x="168" y="218"/>
                            </a:lnTo>
                            <a:lnTo>
                              <a:pt x="166" y="213"/>
                            </a:lnTo>
                            <a:lnTo>
                              <a:pt x="166" y="207"/>
                            </a:lnTo>
                            <a:lnTo>
                              <a:pt x="166" y="202"/>
                            </a:lnTo>
                            <a:lnTo>
                              <a:pt x="166" y="196"/>
                            </a:lnTo>
                            <a:lnTo>
                              <a:pt x="166" y="190"/>
                            </a:lnTo>
                            <a:lnTo>
                              <a:pt x="166" y="184"/>
                            </a:lnTo>
                            <a:lnTo>
                              <a:pt x="166" y="179"/>
                            </a:lnTo>
                            <a:lnTo>
                              <a:pt x="166" y="173"/>
                            </a:lnTo>
                            <a:lnTo>
                              <a:pt x="166" y="168"/>
                            </a:lnTo>
                            <a:lnTo>
                              <a:pt x="166" y="162"/>
                            </a:lnTo>
                            <a:lnTo>
                              <a:pt x="166" y="157"/>
                            </a:lnTo>
                            <a:lnTo>
                              <a:pt x="166" y="151"/>
                            </a:lnTo>
                            <a:lnTo>
                              <a:pt x="165" y="146"/>
                            </a:lnTo>
                            <a:lnTo>
                              <a:pt x="165" y="139"/>
                            </a:lnTo>
                            <a:lnTo>
                              <a:pt x="165" y="133"/>
                            </a:lnTo>
                            <a:lnTo>
                              <a:pt x="165" y="128"/>
                            </a:lnTo>
                            <a:lnTo>
                              <a:pt x="165" y="122"/>
                            </a:lnTo>
                            <a:lnTo>
                              <a:pt x="165" y="117"/>
                            </a:lnTo>
                            <a:lnTo>
                              <a:pt x="165" y="111"/>
                            </a:lnTo>
                            <a:lnTo>
                              <a:pt x="165" y="106"/>
                            </a:lnTo>
                            <a:lnTo>
                              <a:pt x="165" y="100"/>
                            </a:lnTo>
                            <a:lnTo>
                              <a:pt x="163" y="95"/>
                            </a:lnTo>
                            <a:lnTo>
                              <a:pt x="163" y="89"/>
                            </a:lnTo>
                            <a:lnTo>
                              <a:pt x="163" y="84"/>
                            </a:lnTo>
                            <a:lnTo>
                              <a:pt x="162" y="78"/>
                            </a:lnTo>
                            <a:lnTo>
                              <a:pt x="162" y="73"/>
                            </a:lnTo>
                            <a:lnTo>
                              <a:pt x="162" y="67"/>
                            </a:lnTo>
                            <a:lnTo>
                              <a:pt x="160" y="62"/>
                            </a:lnTo>
                            <a:lnTo>
                              <a:pt x="160" y="59"/>
                            </a:lnTo>
                            <a:lnTo>
                              <a:pt x="159" y="55"/>
                            </a:lnTo>
                            <a:lnTo>
                              <a:pt x="157" y="50"/>
                            </a:lnTo>
                            <a:lnTo>
                              <a:pt x="156" y="48"/>
                            </a:lnTo>
                            <a:lnTo>
                              <a:pt x="156" y="51"/>
                            </a:lnTo>
                            <a:lnTo>
                              <a:pt x="156" y="55"/>
                            </a:lnTo>
                            <a:lnTo>
                              <a:pt x="154" y="58"/>
                            </a:lnTo>
                            <a:lnTo>
                              <a:pt x="154" y="62"/>
                            </a:lnTo>
                            <a:lnTo>
                              <a:pt x="154" y="65"/>
                            </a:lnTo>
                            <a:lnTo>
                              <a:pt x="153" y="69"/>
                            </a:lnTo>
                            <a:lnTo>
                              <a:pt x="153" y="72"/>
                            </a:lnTo>
                            <a:lnTo>
                              <a:pt x="153" y="76"/>
                            </a:lnTo>
                            <a:lnTo>
                              <a:pt x="156" y="139"/>
                            </a:lnTo>
                            <a:lnTo>
                              <a:pt x="156" y="143"/>
                            </a:lnTo>
                            <a:lnTo>
                              <a:pt x="156" y="148"/>
                            </a:lnTo>
                            <a:lnTo>
                              <a:pt x="156" y="152"/>
                            </a:lnTo>
                            <a:lnTo>
                              <a:pt x="156" y="158"/>
                            </a:lnTo>
                            <a:lnTo>
                              <a:pt x="156" y="163"/>
                            </a:lnTo>
                            <a:lnTo>
                              <a:pt x="156" y="168"/>
                            </a:lnTo>
                            <a:lnTo>
                              <a:pt x="156" y="173"/>
                            </a:lnTo>
                            <a:lnTo>
                              <a:pt x="156" y="179"/>
                            </a:lnTo>
                            <a:lnTo>
                              <a:pt x="154" y="183"/>
                            </a:lnTo>
                            <a:lnTo>
                              <a:pt x="154" y="188"/>
                            </a:lnTo>
                            <a:lnTo>
                              <a:pt x="154" y="194"/>
                            </a:lnTo>
                            <a:lnTo>
                              <a:pt x="154" y="198"/>
                            </a:lnTo>
                            <a:lnTo>
                              <a:pt x="153" y="203"/>
                            </a:lnTo>
                            <a:lnTo>
                              <a:pt x="153" y="207"/>
                            </a:lnTo>
                            <a:lnTo>
                              <a:pt x="153" y="213"/>
                            </a:lnTo>
                            <a:lnTo>
                              <a:pt x="153" y="218"/>
                            </a:lnTo>
                            <a:lnTo>
                              <a:pt x="153" y="548"/>
                            </a:lnTo>
                            <a:lnTo>
                              <a:pt x="78" y="549"/>
                            </a:lnTo>
                            <a:lnTo>
                              <a:pt x="71" y="100"/>
                            </a:lnTo>
                            <a:lnTo>
                              <a:pt x="71" y="96"/>
                            </a:lnTo>
                            <a:lnTo>
                              <a:pt x="71" y="93"/>
                            </a:lnTo>
                            <a:lnTo>
                              <a:pt x="70" y="89"/>
                            </a:lnTo>
                            <a:lnTo>
                              <a:pt x="70" y="87"/>
                            </a:lnTo>
                            <a:lnTo>
                              <a:pt x="70" y="84"/>
                            </a:lnTo>
                            <a:lnTo>
                              <a:pt x="70" y="81"/>
                            </a:lnTo>
                            <a:lnTo>
                              <a:pt x="68" y="77"/>
                            </a:lnTo>
                            <a:lnTo>
                              <a:pt x="68" y="74"/>
                            </a:lnTo>
                            <a:lnTo>
                              <a:pt x="67" y="72"/>
                            </a:lnTo>
                            <a:lnTo>
                              <a:pt x="67" y="67"/>
                            </a:lnTo>
                            <a:lnTo>
                              <a:pt x="67" y="65"/>
                            </a:lnTo>
                            <a:lnTo>
                              <a:pt x="67" y="62"/>
                            </a:lnTo>
                            <a:lnTo>
                              <a:pt x="65" y="58"/>
                            </a:lnTo>
                            <a:lnTo>
                              <a:pt x="65" y="55"/>
                            </a:lnTo>
                            <a:lnTo>
                              <a:pt x="64" y="52"/>
                            </a:lnTo>
                            <a:lnTo>
                              <a:pt x="64" y="50"/>
                            </a:lnTo>
                            <a:lnTo>
                              <a:pt x="62" y="77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9" name="Freeform 209"/>
                      <p:cNvSpPr/>
                      <p:nvPr/>
                    </p:nvSpPr>
                    <p:spPr>
                      <a:xfrm>
                        <a:off x="3195000" y="2927520"/>
                        <a:ext cx="360" cy="19800"/>
                      </a:xfrm>
                      <a:custGeom>
                        <a:avLst/>
                        <a:gdLst>
                          <a:gd name="textAreaLeft" fmla="*/ 0 w 360"/>
                          <a:gd name="textAreaRight" fmla="*/ 720 w 360"/>
                          <a:gd name="textAreaTop" fmla="*/ 0 h 19800"/>
                          <a:gd name="textAreaBottom" fmla="*/ 20160 h 19800"/>
                        </a:gdLst>
                        <a:ahLst/>
                        <a:rect l="textAreaLeft" t="textAreaTop" r="textAreaRight" b="textAreaBottom"/>
                        <a:pathLst>
                          <a:path w="8" h="199">
                            <a:moveTo>
                              <a:pt x="0" y="199"/>
                            </a:moveTo>
                            <a:lnTo>
                              <a:pt x="3" y="197"/>
                            </a:lnTo>
                            <a:lnTo>
                              <a:pt x="5" y="197"/>
                            </a:lnTo>
                            <a:lnTo>
                              <a:pt x="5" y="195"/>
                            </a:lnTo>
                            <a:lnTo>
                              <a:pt x="5" y="193"/>
                            </a:lnTo>
                            <a:lnTo>
                              <a:pt x="5" y="188"/>
                            </a:lnTo>
                            <a:lnTo>
                              <a:pt x="5" y="182"/>
                            </a:lnTo>
                            <a:lnTo>
                              <a:pt x="5" y="177"/>
                            </a:lnTo>
                            <a:lnTo>
                              <a:pt x="5" y="173"/>
                            </a:lnTo>
                            <a:lnTo>
                              <a:pt x="5" y="166"/>
                            </a:lnTo>
                            <a:lnTo>
                              <a:pt x="5" y="162"/>
                            </a:lnTo>
                            <a:lnTo>
                              <a:pt x="5" y="156"/>
                            </a:lnTo>
                            <a:lnTo>
                              <a:pt x="6" y="151"/>
                            </a:lnTo>
                            <a:lnTo>
                              <a:pt x="6" y="145"/>
                            </a:lnTo>
                            <a:lnTo>
                              <a:pt x="6" y="140"/>
                            </a:lnTo>
                            <a:lnTo>
                              <a:pt x="6" y="134"/>
                            </a:lnTo>
                            <a:lnTo>
                              <a:pt x="6" y="129"/>
                            </a:lnTo>
                            <a:lnTo>
                              <a:pt x="6" y="123"/>
                            </a:lnTo>
                            <a:lnTo>
                              <a:pt x="6" y="118"/>
                            </a:lnTo>
                            <a:lnTo>
                              <a:pt x="6" y="112"/>
                            </a:lnTo>
                            <a:lnTo>
                              <a:pt x="6" y="108"/>
                            </a:lnTo>
                            <a:lnTo>
                              <a:pt x="6" y="101"/>
                            </a:lnTo>
                            <a:lnTo>
                              <a:pt x="6" y="96"/>
                            </a:lnTo>
                            <a:lnTo>
                              <a:pt x="6" y="90"/>
                            </a:lnTo>
                            <a:lnTo>
                              <a:pt x="8" y="86"/>
                            </a:lnTo>
                            <a:lnTo>
                              <a:pt x="8" y="79"/>
                            </a:lnTo>
                            <a:lnTo>
                              <a:pt x="8" y="74"/>
                            </a:lnTo>
                            <a:lnTo>
                              <a:pt x="8" y="70"/>
                            </a:lnTo>
                            <a:lnTo>
                              <a:pt x="8" y="64"/>
                            </a:lnTo>
                            <a:lnTo>
                              <a:pt x="8" y="59"/>
                            </a:lnTo>
                            <a:lnTo>
                              <a:pt x="8" y="53"/>
                            </a:lnTo>
                            <a:lnTo>
                              <a:pt x="8" y="48"/>
                            </a:lnTo>
                            <a:lnTo>
                              <a:pt x="8" y="42"/>
                            </a:lnTo>
                            <a:lnTo>
                              <a:pt x="8" y="37"/>
                            </a:lnTo>
                            <a:lnTo>
                              <a:pt x="8" y="31"/>
                            </a:lnTo>
                            <a:lnTo>
                              <a:pt x="8" y="27"/>
                            </a:lnTo>
                            <a:lnTo>
                              <a:pt x="8" y="22"/>
                            </a:lnTo>
                            <a:lnTo>
                              <a:pt x="6" y="16"/>
                            </a:lnTo>
                            <a:lnTo>
                              <a:pt x="6" y="13"/>
                            </a:lnTo>
                            <a:lnTo>
                              <a:pt x="6" y="9"/>
                            </a:lnTo>
                            <a:lnTo>
                              <a:pt x="6" y="8"/>
                            </a:lnTo>
                            <a:lnTo>
                              <a:pt x="5" y="4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1" y="11"/>
                            </a:lnTo>
                            <a:lnTo>
                              <a:pt x="0" y="13"/>
                            </a:lnTo>
                            <a:lnTo>
                              <a:pt x="0" y="19"/>
                            </a:lnTo>
                            <a:lnTo>
                              <a:pt x="0" y="23"/>
                            </a:lnTo>
                            <a:lnTo>
                              <a:pt x="0" y="27"/>
                            </a:lnTo>
                            <a:lnTo>
                              <a:pt x="0" y="31"/>
                            </a:lnTo>
                            <a:lnTo>
                              <a:pt x="0" y="35"/>
                            </a:lnTo>
                            <a:lnTo>
                              <a:pt x="0" y="37"/>
                            </a:lnTo>
                            <a:lnTo>
                              <a:pt x="0" y="41"/>
                            </a:lnTo>
                            <a:lnTo>
                              <a:pt x="0" y="44"/>
                            </a:lnTo>
                            <a:lnTo>
                              <a:pt x="0" y="46"/>
                            </a:lnTo>
                            <a:lnTo>
                              <a:pt x="0" y="49"/>
                            </a:lnTo>
                            <a:lnTo>
                              <a:pt x="0" y="53"/>
                            </a:lnTo>
                            <a:lnTo>
                              <a:pt x="0" y="56"/>
                            </a:lnTo>
                            <a:lnTo>
                              <a:pt x="0" y="60"/>
                            </a:lnTo>
                            <a:lnTo>
                              <a:pt x="0" y="64"/>
                            </a:lnTo>
                            <a:lnTo>
                              <a:pt x="0" y="67"/>
                            </a:lnTo>
                            <a:lnTo>
                              <a:pt x="0" y="71"/>
                            </a:lnTo>
                            <a:lnTo>
                              <a:pt x="0" y="75"/>
                            </a:lnTo>
                            <a:lnTo>
                              <a:pt x="0" y="79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1" y="92"/>
                            </a:lnTo>
                            <a:lnTo>
                              <a:pt x="1" y="96"/>
                            </a:lnTo>
                            <a:lnTo>
                              <a:pt x="1" y="98"/>
                            </a:lnTo>
                            <a:lnTo>
                              <a:pt x="1" y="103"/>
                            </a:lnTo>
                            <a:lnTo>
                              <a:pt x="1" y="105"/>
                            </a:lnTo>
                            <a:lnTo>
                              <a:pt x="1" y="109"/>
                            </a:lnTo>
                            <a:lnTo>
                              <a:pt x="1" y="112"/>
                            </a:lnTo>
                            <a:lnTo>
                              <a:pt x="1" y="118"/>
                            </a:lnTo>
                            <a:lnTo>
                              <a:pt x="1" y="122"/>
                            </a:lnTo>
                            <a:lnTo>
                              <a:pt x="1" y="125"/>
                            </a:lnTo>
                            <a:lnTo>
                              <a:pt x="3" y="126"/>
                            </a:lnTo>
                            <a:lnTo>
                              <a:pt x="1" y="130"/>
                            </a:lnTo>
                            <a:lnTo>
                              <a:pt x="1" y="134"/>
                            </a:lnTo>
                            <a:lnTo>
                              <a:pt x="1" y="138"/>
                            </a:lnTo>
                            <a:lnTo>
                              <a:pt x="1" y="142"/>
                            </a:lnTo>
                            <a:lnTo>
                              <a:pt x="1" y="148"/>
                            </a:lnTo>
                            <a:lnTo>
                              <a:pt x="1" y="152"/>
                            </a:lnTo>
                            <a:lnTo>
                              <a:pt x="1" y="156"/>
                            </a:lnTo>
                            <a:lnTo>
                              <a:pt x="1" y="162"/>
                            </a:lnTo>
                            <a:lnTo>
                              <a:pt x="0" y="166"/>
                            </a:lnTo>
                            <a:lnTo>
                              <a:pt x="0" y="170"/>
                            </a:lnTo>
                            <a:lnTo>
                              <a:pt x="0" y="174"/>
                            </a:lnTo>
                            <a:lnTo>
                              <a:pt x="0" y="179"/>
                            </a:lnTo>
                            <a:lnTo>
                              <a:pt x="0" y="184"/>
                            </a:lnTo>
                            <a:lnTo>
                              <a:pt x="0" y="189"/>
                            </a:lnTo>
                            <a:lnTo>
                              <a:pt x="0" y="193"/>
                            </a:lnTo>
                            <a:lnTo>
                              <a:pt x="0" y="199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0" name="Freeform 210"/>
                      <p:cNvSpPr/>
                      <p:nvPr/>
                    </p:nvSpPr>
                    <p:spPr>
                      <a:xfrm>
                        <a:off x="3094200" y="2851560"/>
                        <a:ext cx="132840" cy="47160"/>
                      </a:xfrm>
                      <a:custGeom>
                        <a:avLst/>
                        <a:gdLst>
                          <a:gd name="textAreaLeft" fmla="*/ 0 w 132840"/>
                          <a:gd name="textAreaRight" fmla="*/ 133200 w 132840"/>
                          <a:gd name="textAreaTop" fmla="*/ 0 h 47160"/>
                          <a:gd name="textAreaBottom" fmla="*/ 47520 h 47160"/>
                        </a:gdLst>
                        <a:ahLst/>
                        <a:rect l="textAreaLeft" t="textAreaTop" r="textAreaRight" b="textAreaBottom"/>
                        <a:pathLst>
                          <a:path w="1466" h="469">
                            <a:moveTo>
                              <a:pt x="104" y="394"/>
                            </a:moveTo>
                            <a:lnTo>
                              <a:pt x="0" y="469"/>
                            </a:lnTo>
                            <a:lnTo>
                              <a:pt x="773" y="469"/>
                            </a:lnTo>
                            <a:lnTo>
                              <a:pt x="777" y="468"/>
                            </a:lnTo>
                            <a:lnTo>
                              <a:pt x="783" y="468"/>
                            </a:lnTo>
                            <a:lnTo>
                              <a:pt x="788" y="466"/>
                            </a:lnTo>
                            <a:lnTo>
                              <a:pt x="794" y="465"/>
                            </a:lnTo>
                            <a:lnTo>
                              <a:pt x="799" y="465"/>
                            </a:lnTo>
                            <a:lnTo>
                              <a:pt x="803" y="464"/>
                            </a:lnTo>
                            <a:lnTo>
                              <a:pt x="808" y="462"/>
                            </a:lnTo>
                            <a:lnTo>
                              <a:pt x="814" y="462"/>
                            </a:lnTo>
                            <a:lnTo>
                              <a:pt x="809" y="461"/>
                            </a:lnTo>
                            <a:lnTo>
                              <a:pt x="805" y="461"/>
                            </a:lnTo>
                            <a:lnTo>
                              <a:pt x="800" y="461"/>
                            </a:lnTo>
                            <a:lnTo>
                              <a:pt x="797" y="461"/>
                            </a:lnTo>
                            <a:lnTo>
                              <a:pt x="791" y="460"/>
                            </a:lnTo>
                            <a:lnTo>
                              <a:pt x="786" y="460"/>
                            </a:lnTo>
                            <a:lnTo>
                              <a:pt x="783" y="460"/>
                            </a:lnTo>
                            <a:lnTo>
                              <a:pt x="779" y="460"/>
                            </a:lnTo>
                            <a:lnTo>
                              <a:pt x="774" y="458"/>
                            </a:lnTo>
                            <a:lnTo>
                              <a:pt x="770" y="458"/>
                            </a:lnTo>
                            <a:lnTo>
                              <a:pt x="765" y="458"/>
                            </a:lnTo>
                            <a:lnTo>
                              <a:pt x="762" y="458"/>
                            </a:lnTo>
                            <a:lnTo>
                              <a:pt x="757" y="458"/>
                            </a:lnTo>
                            <a:lnTo>
                              <a:pt x="753" y="458"/>
                            </a:lnTo>
                            <a:lnTo>
                              <a:pt x="748" y="458"/>
                            </a:lnTo>
                            <a:lnTo>
                              <a:pt x="745" y="458"/>
                            </a:lnTo>
                            <a:lnTo>
                              <a:pt x="739" y="458"/>
                            </a:lnTo>
                            <a:lnTo>
                              <a:pt x="736" y="458"/>
                            </a:lnTo>
                            <a:lnTo>
                              <a:pt x="731" y="458"/>
                            </a:lnTo>
                            <a:lnTo>
                              <a:pt x="727" y="458"/>
                            </a:lnTo>
                            <a:lnTo>
                              <a:pt x="722" y="458"/>
                            </a:lnTo>
                            <a:lnTo>
                              <a:pt x="718" y="458"/>
                            </a:lnTo>
                            <a:lnTo>
                              <a:pt x="713" y="458"/>
                            </a:lnTo>
                            <a:lnTo>
                              <a:pt x="708" y="458"/>
                            </a:lnTo>
                            <a:lnTo>
                              <a:pt x="704" y="458"/>
                            </a:lnTo>
                            <a:lnTo>
                              <a:pt x="699" y="458"/>
                            </a:lnTo>
                            <a:lnTo>
                              <a:pt x="695" y="458"/>
                            </a:lnTo>
                            <a:lnTo>
                              <a:pt x="692" y="458"/>
                            </a:lnTo>
                            <a:lnTo>
                              <a:pt x="687" y="458"/>
                            </a:lnTo>
                            <a:lnTo>
                              <a:pt x="682" y="458"/>
                            </a:lnTo>
                            <a:lnTo>
                              <a:pt x="678" y="458"/>
                            </a:lnTo>
                            <a:lnTo>
                              <a:pt x="673" y="458"/>
                            </a:lnTo>
                            <a:lnTo>
                              <a:pt x="669" y="458"/>
                            </a:lnTo>
                            <a:lnTo>
                              <a:pt x="664" y="458"/>
                            </a:lnTo>
                            <a:lnTo>
                              <a:pt x="659" y="458"/>
                            </a:lnTo>
                            <a:lnTo>
                              <a:pt x="655" y="458"/>
                            </a:lnTo>
                            <a:lnTo>
                              <a:pt x="650" y="458"/>
                            </a:lnTo>
                            <a:lnTo>
                              <a:pt x="647" y="458"/>
                            </a:lnTo>
                            <a:lnTo>
                              <a:pt x="641" y="458"/>
                            </a:lnTo>
                            <a:lnTo>
                              <a:pt x="638" y="460"/>
                            </a:lnTo>
                            <a:lnTo>
                              <a:pt x="633" y="460"/>
                            </a:lnTo>
                            <a:lnTo>
                              <a:pt x="629" y="460"/>
                            </a:lnTo>
                            <a:lnTo>
                              <a:pt x="623" y="460"/>
                            </a:lnTo>
                            <a:lnTo>
                              <a:pt x="620" y="460"/>
                            </a:lnTo>
                            <a:lnTo>
                              <a:pt x="614" y="460"/>
                            </a:lnTo>
                            <a:lnTo>
                              <a:pt x="611" y="460"/>
                            </a:lnTo>
                            <a:lnTo>
                              <a:pt x="604" y="460"/>
                            </a:lnTo>
                            <a:lnTo>
                              <a:pt x="601" y="461"/>
                            </a:lnTo>
                            <a:lnTo>
                              <a:pt x="597" y="461"/>
                            </a:lnTo>
                            <a:lnTo>
                              <a:pt x="592" y="461"/>
                            </a:lnTo>
                            <a:lnTo>
                              <a:pt x="588" y="461"/>
                            </a:lnTo>
                            <a:lnTo>
                              <a:pt x="583" y="461"/>
                            </a:lnTo>
                            <a:lnTo>
                              <a:pt x="577" y="461"/>
                            </a:lnTo>
                            <a:lnTo>
                              <a:pt x="574" y="461"/>
                            </a:lnTo>
                            <a:lnTo>
                              <a:pt x="569" y="461"/>
                            </a:lnTo>
                            <a:lnTo>
                              <a:pt x="565" y="461"/>
                            </a:lnTo>
                            <a:lnTo>
                              <a:pt x="560" y="461"/>
                            </a:lnTo>
                            <a:lnTo>
                              <a:pt x="555" y="461"/>
                            </a:lnTo>
                            <a:lnTo>
                              <a:pt x="551" y="461"/>
                            </a:lnTo>
                            <a:lnTo>
                              <a:pt x="546" y="461"/>
                            </a:lnTo>
                            <a:lnTo>
                              <a:pt x="542" y="461"/>
                            </a:lnTo>
                            <a:lnTo>
                              <a:pt x="537" y="461"/>
                            </a:lnTo>
                            <a:lnTo>
                              <a:pt x="533" y="461"/>
                            </a:lnTo>
                            <a:lnTo>
                              <a:pt x="528" y="462"/>
                            </a:lnTo>
                            <a:lnTo>
                              <a:pt x="523" y="461"/>
                            </a:lnTo>
                            <a:lnTo>
                              <a:pt x="519" y="461"/>
                            </a:lnTo>
                            <a:lnTo>
                              <a:pt x="513" y="461"/>
                            </a:lnTo>
                            <a:lnTo>
                              <a:pt x="508" y="461"/>
                            </a:lnTo>
                            <a:lnTo>
                              <a:pt x="502" y="461"/>
                            </a:lnTo>
                            <a:lnTo>
                              <a:pt x="496" y="460"/>
                            </a:lnTo>
                            <a:lnTo>
                              <a:pt x="491" y="460"/>
                            </a:lnTo>
                            <a:lnTo>
                              <a:pt x="485" y="460"/>
                            </a:lnTo>
                            <a:lnTo>
                              <a:pt x="490" y="458"/>
                            </a:lnTo>
                            <a:lnTo>
                              <a:pt x="496" y="458"/>
                            </a:lnTo>
                            <a:lnTo>
                              <a:pt x="499" y="458"/>
                            </a:lnTo>
                            <a:lnTo>
                              <a:pt x="502" y="458"/>
                            </a:lnTo>
                            <a:lnTo>
                              <a:pt x="507" y="458"/>
                            </a:lnTo>
                            <a:lnTo>
                              <a:pt x="513" y="458"/>
                            </a:lnTo>
                            <a:lnTo>
                              <a:pt x="516" y="458"/>
                            </a:lnTo>
                            <a:lnTo>
                              <a:pt x="520" y="458"/>
                            </a:lnTo>
                            <a:lnTo>
                              <a:pt x="526" y="458"/>
                            </a:lnTo>
                            <a:lnTo>
                              <a:pt x="531" y="458"/>
                            </a:lnTo>
                            <a:lnTo>
                              <a:pt x="537" y="458"/>
                            </a:lnTo>
                            <a:lnTo>
                              <a:pt x="543" y="458"/>
                            </a:lnTo>
                            <a:lnTo>
                              <a:pt x="548" y="458"/>
                            </a:lnTo>
                            <a:lnTo>
                              <a:pt x="554" y="458"/>
                            </a:lnTo>
                            <a:lnTo>
                              <a:pt x="559" y="458"/>
                            </a:lnTo>
                            <a:lnTo>
                              <a:pt x="565" y="458"/>
                            </a:lnTo>
                            <a:lnTo>
                              <a:pt x="569" y="458"/>
                            </a:lnTo>
                            <a:lnTo>
                              <a:pt x="574" y="458"/>
                            </a:lnTo>
                            <a:lnTo>
                              <a:pt x="580" y="458"/>
                            </a:lnTo>
                            <a:lnTo>
                              <a:pt x="585" y="458"/>
                            </a:lnTo>
                            <a:lnTo>
                              <a:pt x="589" y="458"/>
                            </a:lnTo>
                            <a:lnTo>
                              <a:pt x="594" y="458"/>
                            </a:lnTo>
                            <a:lnTo>
                              <a:pt x="598" y="458"/>
                            </a:lnTo>
                            <a:lnTo>
                              <a:pt x="601" y="457"/>
                            </a:lnTo>
                            <a:lnTo>
                              <a:pt x="604" y="457"/>
                            </a:lnTo>
                            <a:lnTo>
                              <a:pt x="607" y="455"/>
                            </a:lnTo>
                            <a:lnTo>
                              <a:pt x="614" y="454"/>
                            </a:lnTo>
                            <a:lnTo>
                              <a:pt x="617" y="453"/>
                            </a:lnTo>
                            <a:lnTo>
                              <a:pt x="615" y="453"/>
                            </a:lnTo>
                            <a:lnTo>
                              <a:pt x="612" y="451"/>
                            </a:lnTo>
                            <a:lnTo>
                              <a:pt x="607" y="451"/>
                            </a:lnTo>
                            <a:lnTo>
                              <a:pt x="603" y="451"/>
                            </a:lnTo>
                            <a:lnTo>
                              <a:pt x="600" y="451"/>
                            </a:lnTo>
                            <a:lnTo>
                              <a:pt x="597" y="451"/>
                            </a:lnTo>
                            <a:lnTo>
                              <a:pt x="594" y="451"/>
                            </a:lnTo>
                            <a:lnTo>
                              <a:pt x="591" y="451"/>
                            </a:lnTo>
                            <a:lnTo>
                              <a:pt x="588" y="451"/>
                            </a:lnTo>
                            <a:lnTo>
                              <a:pt x="583" y="451"/>
                            </a:lnTo>
                            <a:lnTo>
                              <a:pt x="580" y="451"/>
                            </a:lnTo>
                            <a:lnTo>
                              <a:pt x="577" y="451"/>
                            </a:lnTo>
                            <a:lnTo>
                              <a:pt x="571" y="451"/>
                            </a:lnTo>
                            <a:lnTo>
                              <a:pt x="568" y="451"/>
                            </a:lnTo>
                            <a:lnTo>
                              <a:pt x="563" y="451"/>
                            </a:lnTo>
                            <a:lnTo>
                              <a:pt x="559" y="451"/>
                            </a:lnTo>
                            <a:lnTo>
                              <a:pt x="554" y="451"/>
                            </a:lnTo>
                            <a:lnTo>
                              <a:pt x="549" y="451"/>
                            </a:lnTo>
                            <a:lnTo>
                              <a:pt x="543" y="451"/>
                            </a:lnTo>
                            <a:lnTo>
                              <a:pt x="540" y="451"/>
                            </a:lnTo>
                            <a:lnTo>
                              <a:pt x="534" y="451"/>
                            </a:lnTo>
                            <a:lnTo>
                              <a:pt x="529" y="451"/>
                            </a:lnTo>
                            <a:lnTo>
                              <a:pt x="523" y="451"/>
                            </a:lnTo>
                            <a:lnTo>
                              <a:pt x="519" y="451"/>
                            </a:lnTo>
                            <a:lnTo>
                              <a:pt x="513" y="451"/>
                            </a:lnTo>
                            <a:lnTo>
                              <a:pt x="508" y="451"/>
                            </a:lnTo>
                            <a:lnTo>
                              <a:pt x="502" y="451"/>
                            </a:lnTo>
                            <a:lnTo>
                              <a:pt x="497" y="451"/>
                            </a:lnTo>
                            <a:lnTo>
                              <a:pt x="491" y="451"/>
                            </a:lnTo>
                            <a:lnTo>
                              <a:pt x="487" y="451"/>
                            </a:lnTo>
                            <a:lnTo>
                              <a:pt x="481" y="451"/>
                            </a:lnTo>
                            <a:lnTo>
                              <a:pt x="474" y="451"/>
                            </a:lnTo>
                            <a:lnTo>
                              <a:pt x="470" y="451"/>
                            </a:lnTo>
                            <a:lnTo>
                              <a:pt x="464" y="451"/>
                            </a:lnTo>
                            <a:lnTo>
                              <a:pt x="459" y="451"/>
                            </a:lnTo>
                            <a:lnTo>
                              <a:pt x="455" y="451"/>
                            </a:lnTo>
                            <a:lnTo>
                              <a:pt x="448" y="451"/>
                            </a:lnTo>
                            <a:lnTo>
                              <a:pt x="444" y="451"/>
                            </a:lnTo>
                            <a:lnTo>
                              <a:pt x="438" y="451"/>
                            </a:lnTo>
                            <a:lnTo>
                              <a:pt x="433" y="453"/>
                            </a:lnTo>
                            <a:lnTo>
                              <a:pt x="429" y="453"/>
                            </a:lnTo>
                            <a:lnTo>
                              <a:pt x="424" y="453"/>
                            </a:lnTo>
                            <a:lnTo>
                              <a:pt x="419" y="453"/>
                            </a:lnTo>
                            <a:lnTo>
                              <a:pt x="416" y="453"/>
                            </a:lnTo>
                            <a:lnTo>
                              <a:pt x="410" y="453"/>
                            </a:lnTo>
                            <a:lnTo>
                              <a:pt x="407" y="453"/>
                            </a:lnTo>
                            <a:lnTo>
                              <a:pt x="403" y="453"/>
                            </a:lnTo>
                            <a:lnTo>
                              <a:pt x="399" y="453"/>
                            </a:lnTo>
                            <a:lnTo>
                              <a:pt x="395" y="453"/>
                            </a:lnTo>
                            <a:lnTo>
                              <a:pt x="392" y="454"/>
                            </a:lnTo>
                            <a:lnTo>
                              <a:pt x="389" y="454"/>
                            </a:lnTo>
                            <a:lnTo>
                              <a:pt x="386" y="454"/>
                            </a:lnTo>
                            <a:lnTo>
                              <a:pt x="380" y="454"/>
                            </a:lnTo>
                            <a:lnTo>
                              <a:pt x="375" y="454"/>
                            </a:lnTo>
                            <a:lnTo>
                              <a:pt x="372" y="455"/>
                            </a:lnTo>
                            <a:lnTo>
                              <a:pt x="369" y="455"/>
                            </a:lnTo>
                            <a:lnTo>
                              <a:pt x="375" y="454"/>
                            </a:lnTo>
                            <a:lnTo>
                              <a:pt x="380" y="453"/>
                            </a:lnTo>
                            <a:lnTo>
                              <a:pt x="386" y="451"/>
                            </a:lnTo>
                            <a:lnTo>
                              <a:pt x="390" y="451"/>
                            </a:lnTo>
                            <a:lnTo>
                              <a:pt x="395" y="450"/>
                            </a:lnTo>
                            <a:lnTo>
                              <a:pt x="399" y="450"/>
                            </a:lnTo>
                            <a:lnTo>
                              <a:pt x="406" y="449"/>
                            </a:lnTo>
                            <a:lnTo>
                              <a:pt x="410" y="449"/>
                            </a:lnTo>
                            <a:lnTo>
                              <a:pt x="415" y="449"/>
                            </a:lnTo>
                            <a:lnTo>
                              <a:pt x="419" y="449"/>
                            </a:lnTo>
                            <a:lnTo>
                              <a:pt x="424" y="447"/>
                            </a:lnTo>
                            <a:lnTo>
                              <a:pt x="429" y="447"/>
                            </a:lnTo>
                            <a:lnTo>
                              <a:pt x="433" y="447"/>
                            </a:lnTo>
                            <a:lnTo>
                              <a:pt x="438" y="447"/>
                            </a:lnTo>
                            <a:lnTo>
                              <a:pt x="441" y="447"/>
                            </a:lnTo>
                            <a:lnTo>
                              <a:pt x="447" y="447"/>
                            </a:lnTo>
                            <a:lnTo>
                              <a:pt x="450" y="446"/>
                            </a:lnTo>
                            <a:lnTo>
                              <a:pt x="455" y="446"/>
                            </a:lnTo>
                            <a:lnTo>
                              <a:pt x="459" y="446"/>
                            </a:lnTo>
                            <a:lnTo>
                              <a:pt x="464" y="446"/>
                            </a:lnTo>
                            <a:lnTo>
                              <a:pt x="468" y="446"/>
                            </a:lnTo>
                            <a:lnTo>
                              <a:pt x="473" y="446"/>
                            </a:lnTo>
                            <a:lnTo>
                              <a:pt x="477" y="446"/>
                            </a:lnTo>
                            <a:lnTo>
                              <a:pt x="482" y="446"/>
                            </a:lnTo>
                            <a:lnTo>
                              <a:pt x="487" y="446"/>
                            </a:lnTo>
                            <a:lnTo>
                              <a:pt x="491" y="446"/>
                            </a:lnTo>
                            <a:lnTo>
                              <a:pt x="496" y="446"/>
                            </a:lnTo>
                            <a:lnTo>
                              <a:pt x="502" y="446"/>
                            </a:lnTo>
                            <a:lnTo>
                              <a:pt x="507" y="444"/>
                            </a:lnTo>
                            <a:lnTo>
                              <a:pt x="511" y="444"/>
                            </a:lnTo>
                            <a:lnTo>
                              <a:pt x="517" y="444"/>
                            </a:lnTo>
                            <a:lnTo>
                              <a:pt x="523" y="444"/>
                            </a:lnTo>
                            <a:lnTo>
                              <a:pt x="528" y="443"/>
                            </a:lnTo>
                            <a:lnTo>
                              <a:pt x="533" y="443"/>
                            </a:lnTo>
                            <a:lnTo>
                              <a:pt x="539" y="443"/>
                            </a:lnTo>
                            <a:lnTo>
                              <a:pt x="543" y="443"/>
                            </a:lnTo>
                            <a:lnTo>
                              <a:pt x="549" y="442"/>
                            </a:lnTo>
                            <a:lnTo>
                              <a:pt x="554" y="442"/>
                            </a:lnTo>
                            <a:lnTo>
                              <a:pt x="559" y="442"/>
                            </a:lnTo>
                            <a:lnTo>
                              <a:pt x="565" y="442"/>
                            </a:lnTo>
                            <a:lnTo>
                              <a:pt x="569" y="442"/>
                            </a:lnTo>
                            <a:lnTo>
                              <a:pt x="574" y="442"/>
                            </a:lnTo>
                            <a:lnTo>
                              <a:pt x="580" y="442"/>
                            </a:lnTo>
                            <a:lnTo>
                              <a:pt x="585" y="442"/>
                            </a:lnTo>
                            <a:lnTo>
                              <a:pt x="591" y="442"/>
                            </a:lnTo>
                            <a:lnTo>
                              <a:pt x="595" y="442"/>
                            </a:lnTo>
                            <a:lnTo>
                              <a:pt x="600" y="442"/>
                            </a:lnTo>
                            <a:lnTo>
                              <a:pt x="606" y="442"/>
                            </a:lnTo>
                            <a:lnTo>
                              <a:pt x="611" y="440"/>
                            </a:lnTo>
                            <a:lnTo>
                              <a:pt x="615" y="440"/>
                            </a:lnTo>
                            <a:lnTo>
                              <a:pt x="621" y="440"/>
                            </a:lnTo>
                            <a:lnTo>
                              <a:pt x="626" y="440"/>
                            </a:lnTo>
                            <a:lnTo>
                              <a:pt x="632" y="439"/>
                            </a:lnTo>
                            <a:lnTo>
                              <a:pt x="637" y="439"/>
                            </a:lnTo>
                            <a:lnTo>
                              <a:pt x="641" y="439"/>
                            </a:lnTo>
                            <a:lnTo>
                              <a:pt x="647" y="439"/>
                            </a:lnTo>
                            <a:lnTo>
                              <a:pt x="652" y="439"/>
                            </a:lnTo>
                            <a:lnTo>
                              <a:pt x="656" y="439"/>
                            </a:lnTo>
                            <a:lnTo>
                              <a:pt x="663" y="438"/>
                            </a:lnTo>
                            <a:lnTo>
                              <a:pt x="667" y="438"/>
                            </a:lnTo>
                            <a:lnTo>
                              <a:pt x="673" y="438"/>
                            </a:lnTo>
                            <a:lnTo>
                              <a:pt x="678" y="438"/>
                            </a:lnTo>
                            <a:lnTo>
                              <a:pt x="682" y="438"/>
                            </a:lnTo>
                            <a:lnTo>
                              <a:pt x="689" y="438"/>
                            </a:lnTo>
                            <a:lnTo>
                              <a:pt x="693" y="436"/>
                            </a:lnTo>
                            <a:lnTo>
                              <a:pt x="698" y="436"/>
                            </a:lnTo>
                            <a:lnTo>
                              <a:pt x="702" y="436"/>
                            </a:lnTo>
                            <a:lnTo>
                              <a:pt x="708" y="436"/>
                            </a:lnTo>
                            <a:lnTo>
                              <a:pt x="713" y="435"/>
                            </a:lnTo>
                            <a:lnTo>
                              <a:pt x="718" y="435"/>
                            </a:lnTo>
                            <a:lnTo>
                              <a:pt x="724" y="435"/>
                            </a:lnTo>
                            <a:lnTo>
                              <a:pt x="728" y="435"/>
                            </a:lnTo>
                            <a:lnTo>
                              <a:pt x="733" y="435"/>
                            </a:lnTo>
                            <a:lnTo>
                              <a:pt x="739" y="433"/>
                            </a:lnTo>
                            <a:lnTo>
                              <a:pt x="744" y="433"/>
                            </a:lnTo>
                            <a:lnTo>
                              <a:pt x="750" y="433"/>
                            </a:lnTo>
                            <a:lnTo>
                              <a:pt x="754" y="433"/>
                            </a:lnTo>
                            <a:lnTo>
                              <a:pt x="759" y="433"/>
                            </a:lnTo>
                            <a:lnTo>
                              <a:pt x="764" y="433"/>
                            </a:lnTo>
                            <a:lnTo>
                              <a:pt x="770" y="433"/>
                            </a:lnTo>
                            <a:lnTo>
                              <a:pt x="774" y="432"/>
                            </a:lnTo>
                            <a:lnTo>
                              <a:pt x="780" y="432"/>
                            </a:lnTo>
                            <a:lnTo>
                              <a:pt x="783" y="432"/>
                            </a:lnTo>
                            <a:lnTo>
                              <a:pt x="790" y="432"/>
                            </a:lnTo>
                            <a:lnTo>
                              <a:pt x="794" y="431"/>
                            </a:lnTo>
                            <a:lnTo>
                              <a:pt x="800" y="431"/>
                            </a:lnTo>
                            <a:lnTo>
                              <a:pt x="805" y="431"/>
                            </a:lnTo>
                            <a:lnTo>
                              <a:pt x="811" y="431"/>
                            </a:lnTo>
                            <a:lnTo>
                              <a:pt x="816" y="431"/>
                            </a:lnTo>
                            <a:lnTo>
                              <a:pt x="820" y="431"/>
                            </a:lnTo>
                            <a:lnTo>
                              <a:pt x="825" y="431"/>
                            </a:lnTo>
                            <a:lnTo>
                              <a:pt x="831" y="431"/>
                            </a:lnTo>
                            <a:lnTo>
                              <a:pt x="835" y="431"/>
                            </a:lnTo>
                            <a:lnTo>
                              <a:pt x="842" y="431"/>
                            </a:lnTo>
                            <a:lnTo>
                              <a:pt x="846" y="431"/>
                            </a:lnTo>
                            <a:lnTo>
                              <a:pt x="852" y="431"/>
                            </a:lnTo>
                            <a:lnTo>
                              <a:pt x="855" y="429"/>
                            </a:lnTo>
                            <a:lnTo>
                              <a:pt x="860" y="429"/>
                            </a:lnTo>
                            <a:lnTo>
                              <a:pt x="863" y="428"/>
                            </a:lnTo>
                            <a:lnTo>
                              <a:pt x="866" y="428"/>
                            </a:lnTo>
                            <a:lnTo>
                              <a:pt x="871" y="428"/>
                            </a:lnTo>
                            <a:lnTo>
                              <a:pt x="874" y="427"/>
                            </a:lnTo>
                            <a:lnTo>
                              <a:pt x="878" y="427"/>
                            </a:lnTo>
                            <a:lnTo>
                              <a:pt x="883" y="427"/>
                            </a:lnTo>
                            <a:lnTo>
                              <a:pt x="877" y="425"/>
                            </a:lnTo>
                            <a:lnTo>
                              <a:pt x="871" y="424"/>
                            </a:lnTo>
                            <a:lnTo>
                              <a:pt x="866" y="424"/>
                            </a:lnTo>
                            <a:lnTo>
                              <a:pt x="860" y="424"/>
                            </a:lnTo>
                            <a:lnTo>
                              <a:pt x="855" y="424"/>
                            </a:lnTo>
                            <a:lnTo>
                              <a:pt x="849" y="422"/>
                            </a:lnTo>
                            <a:lnTo>
                              <a:pt x="843" y="422"/>
                            </a:lnTo>
                            <a:lnTo>
                              <a:pt x="838" y="422"/>
                            </a:lnTo>
                            <a:lnTo>
                              <a:pt x="831" y="422"/>
                            </a:lnTo>
                            <a:lnTo>
                              <a:pt x="826" y="422"/>
                            </a:lnTo>
                            <a:lnTo>
                              <a:pt x="820" y="421"/>
                            </a:lnTo>
                            <a:lnTo>
                              <a:pt x="814" y="421"/>
                            </a:lnTo>
                            <a:lnTo>
                              <a:pt x="808" y="421"/>
                            </a:lnTo>
                            <a:lnTo>
                              <a:pt x="802" y="421"/>
                            </a:lnTo>
                            <a:lnTo>
                              <a:pt x="796" y="421"/>
                            </a:lnTo>
                            <a:lnTo>
                              <a:pt x="790" y="421"/>
                            </a:lnTo>
                            <a:lnTo>
                              <a:pt x="783" y="421"/>
                            </a:lnTo>
                            <a:lnTo>
                              <a:pt x="777" y="421"/>
                            </a:lnTo>
                            <a:lnTo>
                              <a:pt x="770" y="421"/>
                            </a:lnTo>
                            <a:lnTo>
                              <a:pt x="764" y="421"/>
                            </a:lnTo>
                            <a:lnTo>
                              <a:pt x="757" y="421"/>
                            </a:lnTo>
                            <a:lnTo>
                              <a:pt x="751" y="421"/>
                            </a:lnTo>
                            <a:lnTo>
                              <a:pt x="745" y="421"/>
                            </a:lnTo>
                            <a:lnTo>
                              <a:pt x="739" y="421"/>
                            </a:lnTo>
                            <a:lnTo>
                              <a:pt x="731" y="421"/>
                            </a:lnTo>
                            <a:lnTo>
                              <a:pt x="725" y="421"/>
                            </a:lnTo>
                            <a:lnTo>
                              <a:pt x="718" y="421"/>
                            </a:lnTo>
                            <a:lnTo>
                              <a:pt x="711" y="421"/>
                            </a:lnTo>
                            <a:lnTo>
                              <a:pt x="705" y="421"/>
                            </a:lnTo>
                            <a:lnTo>
                              <a:pt x="699" y="421"/>
                            </a:lnTo>
                            <a:lnTo>
                              <a:pt x="693" y="421"/>
                            </a:lnTo>
                            <a:lnTo>
                              <a:pt x="687" y="422"/>
                            </a:lnTo>
                            <a:lnTo>
                              <a:pt x="679" y="422"/>
                            </a:lnTo>
                            <a:lnTo>
                              <a:pt x="673" y="422"/>
                            </a:lnTo>
                            <a:lnTo>
                              <a:pt x="667" y="422"/>
                            </a:lnTo>
                            <a:lnTo>
                              <a:pt x="659" y="422"/>
                            </a:lnTo>
                            <a:lnTo>
                              <a:pt x="653" y="422"/>
                            </a:lnTo>
                            <a:lnTo>
                              <a:pt x="647" y="422"/>
                            </a:lnTo>
                            <a:lnTo>
                              <a:pt x="640" y="422"/>
                            </a:lnTo>
                            <a:lnTo>
                              <a:pt x="633" y="422"/>
                            </a:lnTo>
                            <a:lnTo>
                              <a:pt x="627" y="422"/>
                            </a:lnTo>
                            <a:lnTo>
                              <a:pt x="621" y="422"/>
                            </a:lnTo>
                            <a:lnTo>
                              <a:pt x="615" y="422"/>
                            </a:lnTo>
                            <a:lnTo>
                              <a:pt x="607" y="424"/>
                            </a:lnTo>
                            <a:lnTo>
                              <a:pt x="601" y="424"/>
                            </a:lnTo>
                            <a:lnTo>
                              <a:pt x="595" y="424"/>
                            </a:lnTo>
                            <a:lnTo>
                              <a:pt x="589" y="424"/>
                            </a:lnTo>
                            <a:lnTo>
                              <a:pt x="585" y="424"/>
                            </a:lnTo>
                            <a:lnTo>
                              <a:pt x="577" y="424"/>
                            </a:lnTo>
                            <a:lnTo>
                              <a:pt x="571" y="424"/>
                            </a:lnTo>
                            <a:lnTo>
                              <a:pt x="565" y="424"/>
                            </a:lnTo>
                            <a:lnTo>
                              <a:pt x="560" y="424"/>
                            </a:lnTo>
                            <a:lnTo>
                              <a:pt x="554" y="424"/>
                            </a:lnTo>
                            <a:lnTo>
                              <a:pt x="548" y="424"/>
                            </a:lnTo>
                            <a:lnTo>
                              <a:pt x="543" y="424"/>
                            </a:lnTo>
                            <a:lnTo>
                              <a:pt x="537" y="425"/>
                            </a:lnTo>
                            <a:lnTo>
                              <a:pt x="531" y="425"/>
                            </a:lnTo>
                            <a:lnTo>
                              <a:pt x="526" y="425"/>
                            </a:lnTo>
                            <a:lnTo>
                              <a:pt x="520" y="425"/>
                            </a:lnTo>
                            <a:lnTo>
                              <a:pt x="516" y="425"/>
                            </a:lnTo>
                            <a:lnTo>
                              <a:pt x="510" y="425"/>
                            </a:lnTo>
                            <a:lnTo>
                              <a:pt x="505" y="425"/>
                            </a:lnTo>
                            <a:lnTo>
                              <a:pt x="500" y="425"/>
                            </a:lnTo>
                            <a:lnTo>
                              <a:pt x="496" y="427"/>
                            </a:lnTo>
                            <a:lnTo>
                              <a:pt x="491" y="427"/>
                            </a:lnTo>
                            <a:lnTo>
                              <a:pt x="488" y="427"/>
                            </a:lnTo>
                            <a:lnTo>
                              <a:pt x="485" y="427"/>
                            </a:lnTo>
                            <a:lnTo>
                              <a:pt x="482" y="427"/>
                            </a:lnTo>
                            <a:lnTo>
                              <a:pt x="477" y="427"/>
                            </a:lnTo>
                            <a:lnTo>
                              <a:pt x="474" y="427"/>
                            </a:lnTo>
                            <a:lnTo>
                              <a:pt x="470" y="427"/>
                            </a:lnTo>
                            <a:lnTo>
                              <a:pt x="467" y="427"/>
                            </a:lnTo>
                            <a:lnTo>
                              <a:pt x="462" y="427"/>
                            </a:lnTo>
                            <a:lnTo>
                              <a:pt x="458" y="427"/>
                            </a:lnTo>
                            <a:lnTo>
                              <a:pt x="455" y="427"/>
                            </a:lnTo>
                            <a:lnTo>
                              <a:pt x="450" y="427"/>
                            </a:lnTo>
                            <a:lnTo>
                              <a:pt x="447" y="427"/>
                            </a:lnTo>
                            <a:lnTo>
                              <a:pt x="442" y="427"/>
                            </a:lnTo>
                            <a:lnTo>
                              <a:pt x="439" y="427"/>
                            </a:lnTo>
                            <a:lnTo>
                              <a:pt x="435" y="427"/>
                            </a:lnTo>
                            <a:lnTo>
                              <a:pt x="430" y="427"/>
                            </a:lnTo>
                            <a:lnTo>
                              <a:pt x="427" y="427"/>
                            </a:lnTo>
                            <a:lnTo>
                              <a:pt x="422" y="427"/>
                            </a:lnTo>
                            <a:lnTo>
                              <a:pt x="419" y="427"/>
                            </a:lnTo>
                            <a:lnTo>
                              <a:pt x="415" y="427"/>
                            </a:lnTo>
                            <a:lnTo>
                              <a:pt x="410" y="427"/>
                            </a:lnTo>
                            <a:lnTo>
                              <a:pt x="407" y="427"/>
                            </a:lnTo>
                            <a:lnTo>
                              <a:pt x="403" y="427"/>
                            </a:lnTo>
                            <a:lnTo>
                              <a:pt x="398" y="427"/>
                            </a:lnTo>
                            <a:lnTo>
                              <a:pt x="395" y="427"/>
                            </a:lnTo>
                            <a:lnTo>
                              <a:pt x="390" y="427"/>
                            </a:lnTo>
                            <a:lnTo>
                              <a:pt x="387" y="427"/>
                            </a:lnTo>
                            <a:lnTo>
                              <a:pt x="383" y="427"/>
                            </a:lnTo>
                            <a:lnTo>
                              <a:pt x="380" y="427"/>
                            </a:lnTo>
                            <a:lnTo>
                              <a:pt x="375" y="427"/>
                            </a:lnTo>
                            <a:lnTo>
                              <a:pt x="372" y="427"/>
                            </a:lnTo>
                            <a:lnTo>
                              <a:pt x="410" y="414"/>
                            </a:lnTo>
                            <a:lnTo>
                              <a:pt x="713" y="407"/>
                            </a:lnTo>
                            <a:lnTo>
                              <a:pt x="759" y="401"/>
                            </a:lnTo>
                            <a:lnTo>
                              <a:pt x="750" y="401"/>
                            </a:lnTo>
                            <a:lnTo>
                              <a:pt x="742" y="401"/>
                            </a:lnTo>
                            <a:lnTo>
                              <a:pt x="733" y="401"/>
                            </a:lnTo>
                            <a:lnTo>
                              <a:pt x="725" y="402"/>
                            </a:lnTo>
                            <a:lnTo>
                              <a:pt x="716" y="402"/>
                            </a:lnTo>
                            <a:lnTo>
                              <a:pt x="708" y="402"/>
                            </a:lnTo>
                            <a:lnTo>
                              <a:pt x="699" y="402"/>
                            </a:lnTo>
                            <a:lnTo>
                              <a:pt x="692" y="402"/>
                            </a:lnTo>
                            <a:lnTo>
                              <a:pt x="682" y="402"/>
                            </a:lnTo>
                            <a:lnTo>
                              <a:pt x="675" y="402"/>
                            </a:lnTo>
                            <a:lnTo>
                              <a:pt x="666" y="402"/>
                            </a:lnTo>
                            <a:lnTo>
                              <a:pt x="658" y="402"/>
                            </a:lnTo>
                            <a:lnTo>
                              <a:pt x="649" y="402"/>
                            </a:lnTo>
                            <a:lnTo>
                              <a:pt x="641" y="402"/>
                            </a:lnTo>
                            <a:lnTo>
                              <a:pt x="633" y="402"/>
                            </a:lnTo>
                            <a:lnTo>
                              <a:pt x="624" y="402"/>
                            </a:lnTo>
                            <a:lnTo>
                              <a:pt x="615" y="402"/>
                            </a:lnTo>
                            <a:lnTo>
                              <a:pt x="607" y="402"/>
                            </a:lnTo>
                            <a:lnTo>
                              <a:pt x="598" y="402"/>
                            </a:lnTo>
                            <a:lnTo>
                              <a:pt x="591" y="402"/>
                            </a:lnTo>
                            <a:lnTo>
                              <a:pt x="581" y="402"/>
                            </a:lnTo>
                            <a:lnTo>
                              <a:pt x="574" y="402"/>
                            </a:lnTo>
                            <a:lnTo>
                              <a:pt x="565" y="402"/>
                            </a:lnTo>
                            <a:lnTo>
                              <a:pt x="557" y="402"/>
                            </a:lnTo>
                            <a:lnTo>
                              <a:pt x="548" y="402"/>
                            </a:lnTo>
                            <a:lnTo>
                              <a:pt x="539" y="402"/>
                            </a:lnTo>
                            <a:lnTo>
                              <a:pt x="529" y="402"/>
                            </a:lnTo>
                            <a:lnTo>
                              <a:pt x="522" y="402"/>
                            </a:lnTo>
                            <a:lnTo>
                              <a:pt x="513" y="402"/>
                            </a:lnTo>
                            <a:lnTo>
                              <a:pt x="505" y="402"/>
                            </a:lnTo>
                            <a:lnTo>
                              <a:pt x="496" y="402"/>
                            </a:lnTo>
                            <a:lnTo>
                              <a:pt x="488" y="402"/>
                            </a:lnTo>
                            <a:lnTo>
                              <a:pt x="479" y="401"/>
                            </a:lnTo>
                            <a:lnTo>
                              <a:pt x="471" y="401"/>
                            </a:lnTo>
                            <a:lnTo>
                              <a:pt x="462" y="401"/>
                            </a:lnTo>
                            <a:lnTo>
                              <a:pt x="455" y="401"/>
                            </a:lnTo>
                            <a:lnTo>
                              <a:pt x="444" y="399"/>
                            </a:lnTo>
                            <a:lnTo>
                              <a:pt x="436" y="399"/>
                            </a:lnTo>
                            <a:lnTo>
                              <a:pt x="427" y="399"/>
                            </a:lnTo>
                            <a:lnTo>
                              <a:pt x="419" y="399"/>
                            </a:lnTo>
                            <a:lnTo>
                              <a:pt x="410" y="399"/>
                            </a:lnTo>
                            <a:lnTo>
                              <a:pt x="403" y="399"/>
                            </a:lnTo>
                            <a:lnTo>
                              <a:pt x="393" y="399"/>
                            </a:lnTo>
                            <a:lnTo>
                              <a:pt x="386" y="399"/>
                            </a:lnTo>
                            <a:lnTo>
                              <a:pt x="377" y="399"/>
                            </a:lnTo>
                            <a:lnTo>
                              <a:pt x="369" y="399"/>
                            </a:lnTo>
                            <a:lnTo>
                              <a:pt x="360" y="399"/>
                            </a:lnTo>
                            <a:lnTo>
                              <a:pt x="352" y="399"/>
                            </a:lnTo>
                            <a:lnTo>
                              <a:pt x="343" y="398"/>
                            </a:lnTo>
                            <a:lnTo>
                              <a:pt x="335" y="398"/>
                            </a:lnTo>
                            <a:lnTo>
                              <a:pt x="326" y="396"/>
                            </a:lnTo>
                            <a:lnTo>
                              <a:pt x="318" y="396"/>
                            </a:lnTo>
                            <a:lnTo>
                              <a:pt x="309" y="396"/>
                            </a:lnTo>
                            <a:lnTo>
                              <a:pt x="302" y="396"/>
                            </a:lnTo>
                            <a:lnTo>
                              <a:pt x="294" y="396"/>
                            </a:lnTo>
                            <a:lnTo>
                              <a:pt x="285" y="396"/>
                            </a:lnTo>
                            <a:lnTo>
                              <a:pt x="276" y="396"/>
                            </a:lnTo>
                            <a:lnTo>
                              <a:pt x="268" y="395"/>
                            </a:lnTo>
                            <a:lnTo>
                              <a:pt x="260" y="395"/>
                            </a:lnTo>
                            <a:lnTo>
                              <a:pt x="253" y="395"/>
                            </a:lnTo>
                            <a:lnTo>
                              <a:pt x="245" y="394"/>
                            </a:lnTo>
                            <a:lnTo>
                              <a:pt x="236" y="394"/>
                            </a:lnTo>
                            <a:lnTo>
                              <a:pt x="228" y="394"/>
                            </a:lnTo>
                            <a:lnTo>
                              <a:pt x="220" y="394"/>
                            </a:lnTo>
                            <a:lnTo>
                              <a:pt x="228" y="390"/>
                            </a:lnTo>
                            <a:lnTo>
                              <a:pt x="234" y="384"/>
                            </a:lnTo>
                            <a:lnTo>
                              <a:pt x="242" y="379"/>
                            </a:lnTo>
                            <a:lnTo>
                              <a:pt x="250" y="374"/>
                            </a:lnTo>
                            <a:lnTo>
                              <a:pt x="257" y="369"/>
                            </a:lnTo>
                            <a:lnTo>
                              <a:pt x="265" y="365"/>
                            </a:lnTo>
                            <a:lnTo>
                              <a:pt x="272" y="359"/>
                            </a:lnTo>
                            <a:lnTo>
                              <a:pt x="280" y="355"/>
                            </a:lnTo>
                            <a:lnTo>
                              <a:pt x="288" y="350"/>
                            </a:lnTo>
                            <a:lnTo>
                              <a:pt x="295" y="344"/>
                            </a:lnTo>
                            <a:lnTo>
                              <a:pt x="303" y="340"/>
                            </a:lnTo>
                            <a:lnTo>
                              <a:pt x="311" y="335"/>
                            </a:lnTo>
                            <a:lnTo>
                              <a:pt x="317" y="331"/>
                            </a:lnTo>
                            <a:lnTo>
                              <a:pt x="324" y="325"/>
                            </a:lnTo>
                            <a:lnTo>
                              <a:pt x="332" y="321"/>
                            </a:lnTo>
                            <a:lnTo>
                              <a:pt x="340" y="315"/>
                            </a:lnTo>
                            <a:lnTo>
                              <a:pt x="347" y="311"/>
                            </a:lnTo>
                            <a:lnTo>
                              <a:pt x="355" y="306"/>
                            </a:lnTo>
                            <a:lnTo>
                              <a:pt x="363" y="300"/>
                            </a:lnTo>
                            <a:lnTo>
                              <a:pt x="370" y="296"/>
                            </a:lnTo>
                            <a:lnTo>
                              <a:pt x="378" y="291"/>
                            </a:lnTo>
                            <a:lnTo>
                              <a:pt x="386" y="287"/>
                            </a:lnTo>
                            <a:lnTo>
                              <a:pt x="393" y="281"/>
                            </a:lnTo>
                            <a:lnTo>
                              <a:pt x="401" y="277"/>
                            </a:lnTo>
                            <a:lnTo>
                              <a:pt x="409" y="273"/>
                            </a:lnTo>
                            <a:lnTo>
                              <a:pt x="416" y="267"/>
                            </a:lnTo>
                            <a:lnTo>
                              <a:pt x="424" y="262"/>
                            </a:lnTo>
                            <a:lnTo>
                              <a:pt x="432" y="258"/>
                            </a:lnTo>
                            <a:lnTo>
                              <a:pt x="439" y="252"/>
                            </a:lnTo>
                            <a:lnTo>
                              <a:pt x="447" y="248"/>
                            </a:lnTo>
                            <a:lnTo>
                              <a:pt x="455" y="243"/>
                            </a:lnTo>
                            <a:lnTo>
                              <a:pt x="462" y="239"/>
                            </a:lnTo>
                            <a:lnTo>
                              <a:pt x="470" y="233"/>
                            </a:lnTo>
                            <a:lnTo>
                              <a:pt x="477" y="229"/>
                            </a:lnTo>
                            <a:lnTo>
                              <a:pt x="485" y="223"/>
                            </a:lnTo>
                            <a:lnTo>
                              <a:pt x="491" y="219"/>
                            </a:lnTo>
                            <a:lnTo>
                              <a:pt x="499" y="214"/>
                            </a:lnTo>
                            <a:lnTo>
                              <a:pt x="507" y="210"/>
                            </a:lnTo>
                            <a:lnTo>
                              <a:pt x="514" y="204"/>
                            </a:lnTo>
                            <a:lnTo>
                              <a:pt x="522" y="200"/>
                            </a:lnTo>
                            <a:lnTo>
                              <a:pt x="529" y="195"/>
                            </a:lnTo>
                            <a:lnTo>
                              <a:pt x="537" y="189"/>
                            </a:lnTo>
                            <a:lnTo>
                              <a:pt x="545" y="185"/>
                            </a:lnTo>
                            <a:lnTo>
                              <a:pt x="552" y="181"/>
                            </a:lnTo>
                            <a:lnTo>
                              <a:pt x="560" y="175"/>
                            </a:lnTo>
                            <a:lnTo>
                              <a:pt x="568" y="170"/>
                            </a:lnTo>
                            <a:lnTo>
                              <a:pt x="575" y="166"/>
                            </a:lnTo>
                            <a:lnTo>
                              <a:pt x="583" y="162"/>
                            </a:lnTo>
                            <a:lnTo>
                              <a:pt x="591" y="156"/>
                            </a:lnTo>
                            <a:lnTo>
                              <a:pt x="598" y="151"/>
                            </a:lnTo>
                            <a:lnTo>
                              <a:pt x="606" y="147"/>
                            </a:lnTo>
                            <a:lnTo>
                              <a:pt x="614" y="142"/>
                            </a:lnTo>
                            <a:lnTo>
                              <a:pt x="621" y="137"/>
                            </a:lnTo>
                            <a:lnTo>
                              <a:pt x="629" y="133"/>
                            </a:lnTo>
                            <a:lnTo>
                              <a:pt x="637" y="127"/>
                            </a:lnTo>
                            <a:lnTo>
                              <a:pt x="644" y="123"/>
                            </a:lnTo>
                            <a:lnTo>
                              <a:pt x="652" y="118"/>
                            </a:lnTo>
                            <a:lnTo>
                              <a:pt x="659" y="114"/>
                            </a:lnTo>
                            <a:lnTo>
                              <a:pt x="667" y="108"/>
                            </a:lnTo>
                            <a:lnTo>
                              <a:pt x="675" y="104"/>
                            </a:lnTo>
                            <a:lnTo>
                              <a:pt x="682" y="99"/>
                            </a:lnTo>
                            <a:lnTo>
                              <a:pt x="690" y="94"/>
                            </a:lnTo>
                            <a:lnTo>
                              <a:pt x="698" y="90"/>
                            </a:lnTo>
                            <a:lnTo>
                              <a:pt x="705" y="86"/>
                            </a:lnTo>
                            <a:lnTo>
                              <a:pt x="713" y="90"/>
                            </a:lnTo>
                            <a:lnTo>
                              <a:pt x="722" y="96"/>
                            </a:lnTo>
                            <a:lnTo>
                              <a:pt x="730" y="101"/>
                            </a:lnTo>
                            <a:lnTo>
                              <a:pt x="739" y="107"/>
                            </a:lnTo>
                            <a:lnTo>
                              <a:pt x="747" y="112"/>
                            </a:lnTo>
                            <a:lnTo>
                              <a:pt x="754" y="118"/>
                            </a:lnTo>
                            <a:lnTo>
                              <a:pt x="762" y="122"/>
                            </a:lnTo>
                            <a:lnTo>
                              <a:pt x="770" y="127"/>
                            </a:lnTo>
                            <a:lnTo>
                              <a:pt x="777" y="131"/>
                            </a:lnTo>
                            <a:lnTo>
                              <a:pt x="783" y="136"/>
                            </a:lnTo>
                            <a:lnTo>
                              <a:pt x="791" y="140"/>
                            </a:lnTo>
                            <a:lnTo>
                              <a:pt x="799" y="145"/>
                            </a:lnTo>
                            <a:lnTo>
                              <a:pt x="805" y="149"/>
                            </a:lnTo>
                            <a:lnTo>
                              <a:pt x="811" y="153"/>
                            </a:lnTo>
                            <a:lnTo>
                              <a:pt x="819" y="158"/>
                            </a:lnTo>
                            <a:lnTo>
                              <a:pt x="825" y="162"/>
                            </a:lnTo>
                            <a:lnTo>
                              <a:pt x="831" y="166"/>
                            </a:lnTo>
                            <a:lnTo>
                              <a:pt x="837" y="170"/>
                            </a:lnTo>
                            <a:lnTo>
                              <a:pt x="843" y="173"/>
                            </a:lnTo>
                            <a:lnTo>
                              <a:pt x="849" y="177"/>
                            </a:lnTo>
                            <a:lnTo>
                              <a:pt x="855" y="181"/>
                            </a:lnTo>
                            <a:lnTo>
                              <a:pt x="861" y="185"/>
                            </a:lnTo>
                            <a:lnTo>
                              <a:pt x="868" y="188"/>
                            </a:lnTo>
                            <a:lnTo>
                              <a:pt x="874" y="192"/>
                            </a:lnTo>
                            <a:lnTo>
                              <a:pt x="880" y="196"/>
                            </a:lnTo>
                            <a:lnTo>
                              <a:pt x="886" y="199"/>
                            </a:lnTo>
                            <a:lnTo>
                              <a:pt x="890" y="203"/>
                            </a:lnTo>
                            <a:lnTo>
                              <a:pt x="897" y="207"/>
                            </a:lnTo>
                            <a:lnTo>
                              <a:pt x="903" y="210"/>
                            </a:lnTo>
                            <a:lnTo>
                              <a:pt x="909" y="214"/>
                            </a:lnTo>
                            <a:lnTo>
                              <a:pt x="915" y="217"/>
                            </a:lnTo>
                            <a:lnTo>
                              <a:pt x="921" y="221"/>
                            </a:lnTo>
                            <a:lnTo>
                              <a:pt x="927" y="225"/>
                            </a:lnTo>
                            <a:lnTo>
                              <a:pt x="932" y="228"/>
                            </a:lnTo>
                            <a:lnTo>
                              <a:pt x="938" y="232"/>
                            </a:lnTo>
                            <a:lnTo>
                              <a:pt x="944" y="234"/>
                            </a:lnTo>
                            <a:lnTo>
                              <a:pt x="949" y="239"/>
                            </a:lnTo>
                            <a:lnTo>
                              <a:pt x="955" y="241"/>
                            </a:lnTo>
                            <a:lnTo>
                              <a:pt x="961" y="245"/>
                            </a:lnTo>
                            <a:lnTo>
                              <a:pt x="967" y="250"/>
                            </a:lnTo>
                            <a:lnTo>
                              <a:pt x="973" y="252"/>
                            </a:lnTo>
                            <a:lnTo>
                              <a:pt x="979" y="256"/>
                            </a:lnTo>
                            <a:lnTo>
                              <a:pt x="985" y="261"/>
                            </a:lnTo>
                            <a:lnTo>
                              <a:pt x="991" y="263"/>
                            </a:lnTo>
                            <a:lnTo>
                              <a:pt x="998" y="267"/>
                            </a:lnTo>
                            <a:lnTo>
                              <a:pt x="1004" y="271"/>
                            </a:lnTo>
                            <a:lnTo>
                              <a:pt x="1010" y="276"/>
                            </a:lnTo>
                            <a:lnTo>
                              <a:pt x="1017" y="280"/>
                            </a:lnTo>
                            <a:lnTo>
                              <a:pt x="1024" y="282"/>
                            </a:lnTo>
                            <a:lnTo>
                              <a:pt x="1031" y="288"/>
                            </a:lnTo>
                            <a:lnTo>
                              <a:pt x="1037" y="291"/>
                            </a:lnTo>
                            <a:lnTo>
                              <a:pt x="1045" y="296"/>
                            </a:lnTo>
                            <a:lnTo>
                              <a:pt x="1053" y="300"/>
                            </a:lnTo>
                            <a:lnTo>
                              <a:pt x="1060" y="304"/>
                            </a:lnTo>
                            <a:lnTo>
                              <a:pt x="1068" y="309"/>
                            </a:lnTo>
                            <a:lnTo>
                              <a:pt x="1076" y="314"/>
                            </a:lnTo>
                            <a:lnTo>
                              <a:pt x="1083" y="318"/>
                            </a:lnTo>
                            <a:lnTo>
                              <a:pt x="1092" y="322"/>
                            </a:lnTo>
                            <a:lnTo>
                              <a:pt x="1100" y="328"/>
                            </a:lnTo>
                            <a:lnTo>
                              <a:pt x="1109" y="333"/>
                            </a:lnTo>
                            <a:lnTo>
                              <a:pt x="1117" y="339"/>
                            </a:lnTo>
                            <a:lnTo>
                              <a:pt x="1126" y="344"/>
                            </a:lnTo>
                            <a:lnTo>
                              <a:pt x="1135" y="350"/>
                            </a:lnTo>
                            <a:lnTo>
                              <a:pt x="1144" y="355"/>
                            </a:lnTo>
                            <a:lnTo>
                              <a:pt x="1140" y="355"/>
                            </a:lnTo>
                            <a:lnTo>
                              <a:pt x="1134" y="355"/>
                            </a:lnTo>
                            <a:lnTo>
                              <a:pt x="1129" y="355"/>
                            </a:lnTo>
                            <a:lnTo>
                              <a:pt x="1123" y="355"/>
                            </a:lnTo>
                            <a:lnTo>
                              <a:pt x="1118" y="355"/>
                            </a:lnTo>
                            <a:lnTo>
                              <a:pt x="1112" y="355"/>
                            </a:lnTo>
                            <a:lnTo>
                              <a:pt x="1106" y="355"/>
                            </a:lnTo>
                            <a:lnTo>
                              <a:pt x="1102" y="357"/>
                            </a:lnTo>
                            <a:lnTo>
                              <a:pt x="1095" y="357"/>
                            </a:lnTo>
                            <a:lnTo>
                              <a:pt x="1089" y="357"/>
                            </a:lnTo>
                            <a:lnTo>
                              <a:pt x="1083" y="357"/>
                            </a:lnTo>
                            <a:lnTo>
                              <a:pt x="1077" y="357"/>
                            </a:lnTo>
                            <a:lnTo>
                              <a:pt x="1071" y="357"/>
                            </a:lnTo>
                            <a:lnTo>
                              <a:pt x="1065" y="357"/>
                            </a:lnTo>
                            <a:lnTo>
                              <a:pt x="1057" y="357"/>
                            </a:lnTo>
                            <a:lnTo>
                              <a:pt x="1053" y="357"/>
                            </a:lnTo>
                            <a:lnTo>
                              <a:pt x="1045" y="357"/>
                            </a:lnTo>
                            <a:lnTo>
                              <a:pt x="1039" y="357"/>
                            </a:lnTo>
                            <a:lnTo>
                              <a:pt x="1033" y="357"/>
                            </a:lnTo>
                            <a:lnTo>
                              <a:pt x="1027" y="357"/>
                            </a:lnTo>
                            <a:lnTo>
                              <a:pt x="1019" y="357"/>
                            </a:lnTo>
                            <a:lnTo>
                              <a:pt x="1013" y="357"/>
                            </a:lnTo>
                            <a:lnTo>
                              <a:pt x="1007" y="357"/>
                            </a:lnTo>
                            <a:lnTo>
                              <a:pt x="1001" y="357"/>
                            </a:lnTo>
                            <a:lnTo>
                              <a:pt x="993" y="357"/>
                            </a:lnTo>
                            <a:lnTo>
                              <a:pt x="987" y="357"/>
                            </a:lnTo>
                            <a:lnTo>
                              <a:pt x="979" y="357"/>
                            </a:lnTo>
                            <a:lnTo>
                              <a:pt x="972" y="357"/>
                            </a:lnTo>
                            <a:lnTo>
                              <a:pt x="965" y="357"/>
                            </a:lnTo>
                            <a:lnTo>
                              <a:pt x="958" y="357"/>
                            </a:lnTo>
                            <a:lnTo>
                              <a:pt x="952" y="357"/>
                            </a:lnTo>
                            <a:lnTo>
                              <a:pt x="946" y="358"/>
                            </a:lnTo>
                            <a:lnTo>
                              <a:pt x="938" y="358"/>
                            </a:lnTo>
                            <a:lnTo>
                              <a:pt x="932" y="358"/>
                            </a:lnTo>
                            <a:lnTo>
                              <a:pt x="924" y="358"/>
                            </a:lnTo>
                            <a:lnTo>
                              <a:pt x="918" y="358"/>
                            </a:lnTo>
                            <a:lnTo>
                              <a:pt x="910" y="358"/>
                            </a:lnTo>
                            <a:lnTo>
                              <a:pt x="904" y="358"/>
                            </a:lnTo>
                            <a:lnTo>
                              <a:pt x="897" y="358"/>
                            </a:lnTo>
                            <a:lnTo>
                              <a:pt x="890" y="359"/>
                            </a:lnTo>
                            <a:lnTo>
                              <a:pt x="884" y="359"/>
                            </a:lnTo>
                            <a:lnTo>
                              <a:pt x="878" y="359"/>
                            </a:lnTo>
                            <a:lnTo>
                              <a:pt x="871" y="359"/>
                            </a:lnTo>
                            <a:lnTo>
                              <a:pt x="864" y="359"/>
                            </a:lnTo>
                            <a:lnTo>
                              <a:pt x="858" y="359"/>
                            </a:lnTo>
                            <a:lnTo>
                              <a:pt x="852" y="361"/>
                            </a:lnTo>
                            <a:lnTo>
                              <a:pt x="846" y="361"/>
                            </a:lnTo>
                            <a:lnTo>
                              <a:pt x="842" y="362"/>
                            </a:lnTo>
                            <a:lnTo>
                              <a:pt x="835" y="362"/>
                            </a:lnTo>
                            <a:lnTo>
                              <a:pt x="828" y="362"/>
                            </a:lnTo>
                            <a:lnTo>
                              <a:pt x="823" y="362"/>
                            </a:lnTo>
                            <a:lnTo>
                              <a:pt x="817" y="363"/>
                            </a:lnTo>
                            <a:lnTo>
                              <a:pt x="811" y="363"/>
                            </a:lnTo>
                            <a:lnTo>
                              <a:pt x="805" y="365"/>
                            </a:lnTo>
                            <a:lnTo>
                              <a:pt x="800" y="365"/>
                            </a:lnTo>
                            <a:lnTo>
                              <a:pt x="796" y="366"/>
                            </a:lnTo>
                            <a:lnTo>
                              <a:pt x="790" y="366"/>
                            </a:lnTo>
                            <a:lnTo>
                              <a:pt x="785" y="368"/>
                            </a:lnTo>
                            <a:lnTo>
                              <a:pt x="780" y="369"/>
                            </a:lnTo>
                            <a:lnTo>
                              <a:pt x="776" y="369"/>
                            </a:lnTo>
                            <a:lnTo>
                              <a:pt x="770" y="370"/>
                            </a:lnTo>
                            <a:lnTo>
                              <a:pt x="767" y="372"/>
                            </a:lnTo>
                            <a:lnTo>
                              <a:pt x="762" y="372"/>
                            </a:lnTo>
                            <a:lnTo>
                              <a:pt x="759" y="374"/>
                            </a:lnTo>
                            <a:lnTo>
                              <a:pt x="1054" y="368"/>
                            </a:lnTo>
                            <a:lnTo>
                              <a:pt x="872" y="399"/>
                            </a:lnTo>
                            <a:lnTo>
                              <a:pt x="874" y="399"/>
                            </a:lnTo>
                            <a:lnTo>
                              <a:pt x="877" y="399"/>
                            </a:lnTo>
                            <a:lnTo>
                              <a:pt x="880" y="399"/>
                            </a:lnTo>
                            <a:lnTo>
                              <a:pt x="884" y="399"/>
                            </a:lnTo>
                            <a:lnTo>
                              <a:pt x="890" y="399"/>
                            </a:lnTo>
                            <a:lnTo>
                              <a:pt x="892" y="399"/>
                            </a:lnTo>
                            <a:lnTo>
                              <a:pt x="895" y="399"/>
                            </a:lnTo>
                            <a:lnTo>
                              <a:pt x="900" y="399"/>
                            </a:lnTo>
                            <a:lnTo>
                              <a:pt x="903" y="399"/>
                            </a:lnTo>
                            <a:lnTo>
                              <a:pt x="906" y="399"/>
                            </a:lnTo>
                            <a:lnTo>
                              <a:pt x="910" y="399"/>
                            </a:lnTo>
                            <a:lnTo>
                              <a:pt x="913" y="399"/>
                            </a:lnTo>
                            <a:lnTo>
                              <a:pt x="918" y="399"/>
                            </a:lnTo>
                            <a:lnTo>
                              <a:pt x="921" y="399"/>
                            </a:lnTo>
                            <a:lnTo>
                              <a:pt x="926" y="399"/>
                            </a:lnTo>
                            <a:lnTo>
                              <a:pt x="930" y="399"/>
                            </a:lnTo>
                            <a:lnTo>
                              <a:pt x="935" y="399"/>
                            </a:lnTo>
                            <a:lnTo>
                              <a:pt x="938" y="399"/>
                            </a:lnTo>
                            <a:lnTo>
                              <a:pt x="944" y="399"/>
                            </a:lnTo>
                            <a:lnTo>
                              <a:pt x="949" y="399"/>
                            </a:lnTo>
                            <a:lnTo>
                              <a:pt x="953" y="399"/>
                            </a:lnTo>
                            <a:lnTo>
                              <a:pt x="958" y="399"/>
                            </a:lnTo>
                            <a:lnTo>
                              <a:pt x="962" y="399"/>
                            </a:lnTo>
                            <a:lnTo>
                              <a:pt x="967" y="399"/>
                            </a:lnTo>
                            <a:lnTo>
                              <a:pt x="972" y="399"/>
                            </a:lnTo>
                            <a:lnTo>
                              <a:pt x="976" y="399"/>
                            </a:lnTo>
                            <a:lnTo>
                              <a:pt x="981" y="399"/>
                            </a:lnTo>
                            <a:lnTo>
                              <a:pt x="985" y="399"/>
                            </a:lnTo>
                            <a:lnTo>
                              <a:pt x="990" y="399"/>
                            </a:lnTo>
                            <a:lnTo>
                              <a:pt x="994" y="399"/>
                            </a:lnTo>
                            <a:lnTo>
                              <a:pt x="999" y="399"/>
                            </a:lnTo>
                            <a:lnTo>
                              <a:pt x="1004" y="399"/>
                            </a:lnTo>
                            <a:lnTo>
                              <a:pt x="1008" y="399"/>
                            </a:lnTo>
                            <a:lnTo>
                              <a:pt x="1011" y="399"/>
                            </a:lnTo>
                            <a:lnTo>
                              <a:pt x="1016" y="399"/>
                            </a:lnTo>
                            <a:lnTo>
                              <a:pt x="1020" y="399"/>
                            </a:lnTo>
                            <a:lnTo>
                              <a:pt x="1025" y="399"/>
                            </a:lnTo>
                            <a:lnTo>
                              <a:pt x="1028" y="399"/>
                            </a:lnTo>
                            <a:lnTo>
                              <a:pt x="1033" y="399"/>
                            </a:lnTo>
                            <a:lnTo>
                              <a:pt x="1036" y="399"/>
                            </a:lnTo>
                            <a:lnTo>
                              <a:pt x="1040" y="399"/>
                            </a:lnTo>
                            <a:lnTo>
                              <a:pt x="1046" y="399"/>
                            </a:lnTo>
                            <a:lnTo>
                              <a:pt x="1053" y="399"/>
                            </a:lnTo>
                            <a:lnTo>
                              <a:pt x="1057" y="399"/>
                            </a:lnTo>
                            <a:lnTo>
                              <a:pt x="1063" y="399"/>
                            </a:lnTo>
                            <a:lnTo>
                              <a:pt x="1066" y="399"/>
                            </a:lnTo>
                            <a:lnTo>
                              <a:pt x="1069" y="399"/>
                            </a:lnTo>
                            <a:lnTo>
                              <a:pt x="1071" y="399"/>
                            </a:lnTo>
                            <a:lnTo>
                              <a:pt x="1068" y="401"/>
                            </a:lnTo>
                            <a:lnTo>
                              <a:pt x="1063" y="402"/>
                            </a:lnTo>
                            <a:lnTo>
                              <a:pt x="1060" y="403"/>
                            </a:lnTo>
                            <a:lnTo>
                              <a:pt x="1056" y="406"/>
                            </a:lnTo>
                            <a:lnTo>
                              <a:pt x="1050" y="406"/>
                            </a:lnTo>
                            <a:lnTo>
                              <a:pt x="1043" y="406"/>
                            </a:lnTo>
                            <a:lnTo>
                              <a:pt x="1037" y="407"/>
                            </a:lnTo>
                            <a:lnTo>
                              <a:pt x="1031" y="409"/>
                            </a:lnTo>
                            <a:lnTo>
                              <a:pt x="1024" y="409"/>
                            </a:lnTo>
                            <a:lnTo>
                              <a:pt x="1017" y="409"/>
                            </a:lnTo>
                            <a:lnTo>
                              <a:pt x="1011" y="410"/>
                            </a:lnTo>
                            <a:lnTo>
                              <a:pt x="1005" y="412"/>
                            </a:lnTo>
                            <a:lnTo>
                              <a:pt x="999" y="412"/>
                            </a:lnTo>
                            <a:lnTo>
                              <a:pt x="993" y="412"/>
                            </a:lnTo>
                            <a:lnTo>
                              <a:pt x="987" y="412"/>
                            </a:lnTo>
                            <a:lnTo>
                              <a:pt x="979" y="413"/>
                            </a:lnTo>
                            <a:lnTo>
                              <a:pt x="973" y="414"/>
                            </a:lnTo>
                            <a:lnTo>
                              <a:pt x="967" y="414"/>
                            </a:lnTo>
                            <a:lnTo>
                              <a:pt x="961" y="416"/>
                            </a:lnTo>
                            <a:lnTo>
                              <a:pt x="955" y="417"/>
                            </a:lnTo>
                            <a:lnTo>
                              <a:pt x="953" y="418"/>
                            </a:lnTo>
                            <a:lnTo>
                              <a:pt x="952" y="420"/>
                            </a:lnTo>
                            <a:lnTo>
                              <a:pt x="947" y="421"/>
                            </a:lnTo>
                            <a:lnTo>
                              <a:pt x="944" y="424"/>
                            </a:lnTo>
                            <a:lnTo>
                              <a:pt x="938" y="424"/>
                            </a:lnTo>
                            <a:lnTo>
                              <a:pt x="932" y="427"/>
                            </a:lnTo>
                            <a:lnTo>
                              <a:pt x="926" y="427"/>
                            </a:lnTo>
                            <a:lnTo>
                              <a:pt x="920" y="429"/>
                            </a:lnTo>
                            <a:lnTo>
                              <a:pt x="915" y="429"/>
                            </a:lnTo>
                            <a:lnTo>
                              <a:pt x="910" y="429"/>
                            </a:lnTo>
                            <a:lnTo>
                              <a:pt x="907" y="429"/>
                            </a:lnTo>
                            <a:lnTo>
                              <a:pt x="903" y="431"/>
                            </a:lnTo>
                            <a:lnTo>
                              <a:pt x="898" y="432"/>
                            </a:lnTo>
                            <a:lnTo>
                              <a:pt x="894" y="432"/>
                            </a:lnTo>
                            <a:lnTo>
                              <a:pt x="890" y="433"/>
                            </a:lnTo>
                            <a:lnTo>
                              <a:pt x="886" y="433"/>
                            </a:lnTo>
                            <a:lnTo>
                              <a:pt x="881" y="433"/>
                            </a:lnTo>
                            <a:lnTo>
                              <a:pt x="877" y="435"/>
                            </a:lnTo>
                            <a:lnTo>
                              <a:pt x="872" y="435"/>
                            </a:lnTo>
                            <a:lnTo>
                              <a:pt x="868" y="436"/>
                            </a:lnTo>
                            <a:lnTo>
                              <a:pt x="863" y="436"/>
                            </a:lnTo>
                            <a:lnTo>
                              <a:pt x="858" y="436"/>
                            </a:lnTo>
                            <a:lnTo>
                              <a:pt x="854" y="438"/>
                            </a:lnTo>
                            <a:lnTo>
                              <a:pt x="849" y="439"/>
                            </a:lnTo>
                            <a:lnTo>
                              <a:pt x="845" y="439"/>
                            </a:lnTo>
                            <a:lnTo>
                              <a:pt x="840" y="439"/>
                            </a:lnTo>
                            <a:lnTo>
                              <a:pt x="835" y="439"/>
                            </a:lnTo>
                            <a:lnTo>
                              <a:pt x="831" y="440"/>
                            </a:lnTo>
                            <a:lnTo>
                              <a:pt x="825" y="440"/>
                            </a:lnTo>
                            <a:lnTo>
                              <a:pt x="822" y="440"/>
                            </a:lnTo>
                            <a:lnTo>
                              <a:pt x="816" y="442"/>
                            </a:lnTo>
                            <a:lnTo>
                              <a:pt x="812" y="442"/>
                            </a:lnTo>
                            <a:lnTo>
                              <a:pt x="808" y="442"/>
                            </a:lnTo>
                            <a:lnTo>
                              <a:pt x="803" y="442"/>
                            </a:lnTo>
                            <a:lnTo>
                              <a:pt x="799" y="443"/>
                            </a:lnTo>
                            <a:lnTo>
                              <a:pt x="794" y="443"/>
                            </a:lnTo>
                            <a:lnTo>
                              <a:pt x="791" y="443"/>
                            </a:lnTo>
                            <a:lnTo>
                              <a:pt x="786" y="444"/>
                            </a:lnTo>
                            <a:lnTo>
                              <a:pt x="783" y="444"/>
                            </a:lnTo>
                            <a:lnTo>
                              <a:pt x="780" y="446"/>
                            </a:lnTo>
                            <a:lnTo>
                              <a:pt x="776" y="446"/>
                            </a:lnTo>
                            <a:lnTo>
                              <a:pt x="773" y="446"/>
                            </a:lnTo>
                            <a:lnTo>
                              <a:pt x="770" y="446"/>
                            </a:lnTo>
                            <a:lnTo>
                              <a:pt x="767" y="446"/>
                            </a:lnTo>
                            <a:lnTo>
                              <a:pt x="760" y="447"/>
                            </a:lnTo>
                            <a:lnTo>
                              <a:pt x="756" y="449"/>
                            </a:lnTo>
                            <a:lnTo>
                              <a:pt x="751" y="449"/>
                            </a:lnTo>
                            <a:lnTo>
                              <a:pt x="750" y="449"/>
                            </a:lnTo>
                            <a:lnTo>
                              <a:pt x="747" y="450"/>
                            </a:lnTo>
                            <a:lnTo>
                              <a:pt x="747" y="451"/>
                            </a:lnTo>
                            <a:lnTo>
                              <a:pt x="1121" y="439"/>
                            </a:lnTo>
                            <a:lnTo>
                              <a:pt x="1117" y="442"/>
                            </a:lnTo>
                            <a:lnTo>
                              <a:pt x="1112" y="443"/>
                            </a:lnTo>
                            <a:lnTo>
                              <a:pt x="1106" y="444"/>
                            </a:lnTo>
                            <a:lnTo>
                              <a:pt x="1102" y="446"/>
                            </a:lnTo>
                            <a:lnTo>
                              <a:pt x="1095" y="449"/>
                            </a:lnTo>
                            <a:lnTo>
                              <a:pt x="1091" y="450"/>
                            </a:lnTo>
                            <a:lnTo>
                              <a:pt x="1086" y="451"/>
                            </a:lnTo>
                            <a:lnTo>
                              <a:pt x="1082" y="453"/>
                            </a:lnTo>
                            <a:lnTo>
                              <a:pt x="1458" y="453"/>
                            </a:lnTo>
                            <a:lnTo>
                              <a:pt x="1452" y="450"/>
                            </a:lnTo>
                            <a:lnTo>
                              <a:pt x="1447" y="446"/>
                            </a:lnTo>
                            <a:lnTo>
                              <a:pt x="1441" y="443"/>
                            </a:lnTo>
                            <a:lnTo>
                              <a:pt x="1435" y="440"/>
                            </a:lnTo>
                            <a:lnTo>
                              <a:pt x="1432" y="438"/>
                            </a:lnTo>
                            <a:lnTo>
                              <a:pt x="1429" y="436"/>
                            </a:lnTo>
                            <a:lnTo>
                              <a:pt x="1424" y="433"/>
                            </a:lnTo>
                            <a:lnTo>
                              <a:pt x="1421" y="432"/>
                            </a:lnTo>
                            <a:lnTo>
                              <a:pt x="1418" y="429"/>
                            </a:lnTo>
                            <a:lnTo>
                              <a:pt x="1414" y="428"/>
                            </a:lnTo>
                            <a:lnTo>
                              <a:pt x="1411" y="427"/>
                            </a:lnTo>
                            <a:lnTo>
                              <a:pt x="1407" y="424"/>
                            </a:lnTo>
                            <a:lnTo>
                              <a:pt x="1403" y="421"/>
                            </a:lnTo>
                            <a:lnTo>
                              <a:pt x="1398" y="420"/>
                            </a:lnTo>
                            <a:lnTo>
                              <a:pt x="1394" y="417"/>
                            </a:lnTo>
                            <a:lnTo>
                              <a:pt x="1391" y="414"/>
                            </a:lnTo>
                            <a:lnTo>
                              <a:pt x="1386" y="412"/>
                            </a:lnTo>
                            <a:lnTo>
                              <a:pt x="1383" y="410"/>
                            </a:lnTo>
                            <a:lnTo>
                              <a:pt x="1378" y="407"/>
                            </a:lnTo>
                            <a:lnTo>
                              <a:pt x="1374" y="406"/>
                            </a:lnTo>
                            <a:lnTo>
                              <a:pt x="1371" y="403"/>
                            </a:lnTo>
                            <a:lnTo>
                              <a:pt x="1366" y="401"/>
                            </a:lnTo>
                            <a:lnTo>
                              <a:pt x="1362" y="399"/>
                            </a:lnTo>
                            <a:lnTo>
                              <a:pt x="1357" y="396"/>
                            </a:lnTo>
                            <a:lnTo>
                              <a:pt x="1354" y="394"/>
                            </a:lnTo>
                            <a:lnTo>
                              <a:pt x="1349" y="392"/>
                            </a:lnTo>
                            <a:lnTo>
                              <a:pt x="1345" y="390"/>
                            </a:lnTo>
                            <a:lnTo>
                              <a:pt x="1342" y="387"/>
                            </a:lnTo>
                            <a:lnTo>
                              <a:pt x="1337" y="384"/>
                            </a:lnTo>
                            <a:lnTo>
                              <a:pt x="1333" y="383"/>
                            </a:lnTo>
                            <a:lnTo>
                              <a:pt x="1328" y="380"/>
                            </a:lnTo>
                            <a:lnTo>
                              <a:pt x="1325" y="377"/>
                            </a:lnTo>
                            <a:lnTo>
                              <a:pt x="1320" y="374"/>
                            </a:lnTo>
                            <a:lnTo>
                              <a:pt x="1316" y="372"/>
                            </a:lnTo>
                            <a:lnTo>
                              <a:pt x="1311" y="369"/>
                            </a:lnTo>
                            <a:lnTo>
                              <a:pt x="1308" y="368"/>
                            </a:lnTo>
                            <a:lnTo>
                              <a:pt x="1303" y="365"/>
                            </a:lnTo>
                            <a:lnTo>
                              <a:pt x="1299" y="362"/>
                            </a:lnTo>
                            <a:lnTo>
                              <a:pt x="1294" y="359"/>
                            </a:lnTo>
                            <a:lnTo>
                              <a:pt x="1291" y="357"/>
                            </a:lnTo>
                            <a:lnTo>
                              <a:pt x="1288" y="354"/>
                            </a:lnTo>
                            <a:lnTo>
                              <a:pt x="1284" y="352"/>
                            </a:lnTo>
                            <a:lnTo>
                              <a:pt x="1281" y="350"/>
                            </a:lnTo>
                            <a:lnTo>
                              <a:pt x="1277" y="348"/>
                            </a:lnTo>
                            <a:lnTo>
                              <a:pt x="1273" y="346"/>
                            </a:lnTo>
                            <a:lnTo>
                              <a:pt x="1270" y="343"/>
                            </a:lnTo>
                            <a:lnTo>
                              <a:pt x="1265" y="340"/>
                            </a:lnTo>
                            <a:lnTo>
                              <a:pt x="1262" y="339"/>
                            </a:lnTo>
                            <a:lnTo>
                              <a:pt x="1256" y="333"/>
                            </a:lnTo>
                            <a:lnTo>
                              <a:pt x="1250" y="331"/>
                            </a:lnTo>
                            <a:lnTo>
                              <a:pt x="1244" y="325"/>
                            </a:lnTo>
                            <a:lnTo>
                              <a:pt x="1239" y="321"/>
                            </a:lnTo>
                            <a:lnTo>
                              <a:pt x="1235" y="318"/>
                            </a:lnTo>
                            <a:lnTo>
                              <a:pt x="1230" y="315"/>
                            </a:lnTo>
                            <a:lnTo>
                              <a:pt x="1233" y="315"/>
                            </a:lnTo>
                            <a:lnTo>
                              <a:pt x="1236" y="315"/>
                            </a:lnTo>
                            <a:lnTo>
                              <a:pt x="1238" y="318"/>
                            </a:lnTo>
                            <a:lnTo>
                              <a:pt x="1241" y="320"/>
                            </a:lnTo>
                            <a:lnTo>
                              <a:pt x="1466" y="449"/>
                            </a:lnTo>
                            <a:lnTo>
                              <a:pt x="1464" y="447"/>
                            </a:lnTo>
                            <a:lnTo>
                              <a:pt x="1463" y="446"/>
                            </a:lnTo>
                            <a:lnTo>
                              <a:pt x="1459" y="443"/>
                            </a:lnTo>
                            <a:lnTo>
                              <a:pt x="1455" y="440"/>
                            </a:lnTo>
                            <a:lnTo>
                              <a:pt x="1450" y="436"/>
                            </a:lnTo>
                            <a:lnTo>
                              <a:pt x="1446" y="432"/>
                            </a:lnTo>
                            <a:lnTo>
                              <a:pt x="1440" y="428"/>
                            </a:lnTo>
                            <a:lnTo>
                              <a:pt x="1433" y="424"/>
                            </a:lnTo>
                            <a:lnTo>
                              <a:pt x="1427" y="418"/>
                            </a:lnTo>
                            <a:lnTo>
                              <a:pt x="1421" y="414"/>
                            </a:lnTo>
                            <a:lnTo>
                              <a:pt x="1417" y="409"/>
                            </a:lnTo>
                            <a:lnTo>
                              <a:pt x="1412" y="406"/>
                            </a:lnTo>
                            <a:lnTo>
                              <a:pt x="1407" y="402"/>
                            </a:lnTo>
                            <a:lnTo>
                              <a:pt x="1404" y="401"/>
                            </a:lnTo>
                            <a:lnTo>
                              <a:pt x="1403" y="399"/>
                            </a:lnTo>
                            <a:lnTo>
                              <a:pt x="1397" y="394"/>
                            </a:lnTo>
                            <a:lnTo>
                              <a:pt x="1391" y="390"/>
                            </a:lnTo>
                            <a:lnTo>
                              <a:pt x="1385" y="384"/>
                            </a:lnTo>
                            <a:lnTo>
                              <a:pt x="1378" y="381"/>
                            </a:lnTo>
                            <a:lnTo>
                              <a:pt x="1375" y="377"/>
                            </a:lnTo>
                            <a:lnTo>
                              <a:pt x="1372" y="376"/>
                            </a:lnTo>
                            <a:lnTo>
                              <a:pt x="1368" y="373"/>
                            </a:lnTo>
                            <a:lnTo>
                              <a:pt x="1365" y="372"/>
                            </a:lnTo>
                            <a:lnTo>
                              <a:pt x="1362" y="369"/>
                            </a:lnTo>
                            <a:lnTo>
                              <a:pt x="1357" y="368"/>
                            </a:lnTo>
                            <a:lnTo>
                              <a:pt x="1354" y="365"/>
                            </a:lnTo>
                            <a:lnTo>
                              <a:pt x="1351" y="363"/>
                            </a:lnTo>
                            <a:lnTo>
                              <a:pt x="1346" y="361"/>
                            </a:lnTo>
                            <a:lnTo>
                              <a:pt x="1343" y="358"/>
                            </a:lnTo>
                            <a:lnTo>
                              <a:pt x="1339" y="357"/>
                            </a:lnTo>
                            <a:lnTo>
                              <a:pt x="1336" y="354"/>
                            </a:lnTo>
                            <a:lnTo>
                              <a:pt x="1331" y="351"/>
                            </a:lnTo>
                            <a:lnTo>
                              <a:pt x="1326" y="350"/>
                            </a:lnTo>
                            <a:lnTo>
                              <a:pt x="1323" y="347"/>
                            </a:lnTo>
                            <a:lnTo>
                              <a:pt x="1319" y="346"/>
                            </a:lnTo>
                            <a:lnTo>
                              <a:pt x="1316" y="343"/>
                            </a:lnTo>
                            <a:lnTo>
                              <a:pt x="1311" y="340"/>
                            </a:lnTo>
                            <a:lnTo>
                              <a:pt x="1307" y="339"/>
                            </a:lnTo>
                            <a:lnTo>
                              <a:pt x="1302" y="337"/>
                            </a:lnTo>
                            <a:lnTo>
                              <a:pt x="1297" y="335"/>
                            </a:lnTo>
                            <a:lnTo>
                              <a:pt x="1294" y="332"/>
                            </a:lnTo>
                            <a:lnTo>
                              <a:pt x="1290" y="331"/>
                            </a:lnTo>
                            <a:lnTo>
                              <a:pt x="1287" y="328"/>
                            </a:lnTo>
                            <a:lnTo>
                              <a:pt x="1281" y="326"/>
                            </a:lnTo>
                            <a:lnTo>
                              <a:pt x="1277" y="324"/>
                            </a:lnTo>
                            <a:lnTo>
                              <a:pt x="1273" y="321"/>
                            </a:lnTo>
                            <a:lnTo>
                              <a:pt x="1268" y="320"/>
                            </a:lnTo>
                            <a:lnTo>
                              <a:pt x="1264" y="318"/>
                            </a:lnTo>
                            <a:lnTo>
                              <a:pt x="1261" y="315"/>
                            </a:lnTo>
                            <a:lnTo>
                              <a:pt x="1256" y="313"/>
                            </a:lnTo>
                            <a:lnTo>
                              <a:pt x="1251" y="311"/>
                            </a:lnTo>
                            <a:lnTo>
                              <a:pt x="1247" y="309"/>
                            </a:lnTo>
                            <a:lnTo>
                              <a:pt x="1244" y="307"/>
                            </a:lnTo>
                            <a:lnTo>
                              <a:pt x="1239" y="304"/>
                            </a:lnTo>
                            <a:lnTo>
                              <a:pt x="1236" y="303"/>
                            </a:lnTo>
                            <a:lnTo>
                              <a:pt x="1232" y="302"/>
                            </a:lnTo>
                            <a:lnTo>
                              <a:pt x="1227" y="300"/>
                            </a:lnTo>
                            <a:lnTo>
                              <a:pt x="1224" y="298"/>
                            </a:lnTo>
                            <a:lnTo>
                              <a:pt x="1219" y="296"/>
                            </a:lnTo>
                            <a:lnTo>
                              <a:pt x="1216" y="293"/>
                            </a:lnTo>
                            <a:lnTo>
                              <a:pt x="1212" y="292"/>
                            </a:lnTo>
                            <a:lnTo>
                              <a:pt x="1209" y="291"/>
                            </a:lnTo>
                            <a:lnTo>
                              <a:pt x="1204" y="288"/>
                            </a:lnTo>
                            <a:lnTo>
                              <a:pt x="1201" y="287"/>
                            </a:lnTo>
                            <a:lnTo>
                              <a:pt x="1196" y="285"/>
                            </a:lnTo>
                            <a:lnTo>
                              <a:pt x="1193" y="284"/>
                            </a:lnTo>
                            <a:lnTo>
                              <a:pt x="1190" y="281"/>
                            </a:lnTo>
                            <a:lnTo>
                              <a:pt x="1186" y="280"/>
                            </a:lnTo>
                            <a:lnTo>
                              <a:pt x="1183" y="278"/>
                            </a:lnTo>
                            <a:lnTo>
                              <a:pt x="1180" y="277"/>
                            </a:lnTo>
                            <a:lnTo>
                              <a:pt x="1177" y="276"/>
                            </a:lnTo>
                            <a:lnTo>
                              <a:pt x="1170" y="273"/>
                            </a:lnTo>
                            <a:lnTo>
                              <a:pt x="1164" y="269"/>
                            </a:lnTo>
                            <a:lnTo>
                              <a:pt x="1158" y="265"/>
                            </a:lnTo>
                            <a:lnTo>
                              <a:pt x="1151" y="261"/>
                            </a:lnTo>
                            <a:lnTo>
                              <a:pt x="1143" y="256"/>
                            </a:lnTo>
                            <a:lnTo>
                              <a:pt x="1137" y="254"/>
                            </a:lnTo>
                            <a:lnTo>
                              <a:pt x="1129" y="248"/>
                            </a:lnTo>
                            <a:lnTo>
                              <a:pt x="1121" y="245"/>
                            </a:lnTo>
                            <a:lnTo>
                              <a:pt x="1114" y="241"/>
                            </a:lnTo>
                            <a:lnTo>
                              <a:pt x="1108" y="237"/>
                            </a:lnTo>
                            <a:lnTo>
                              <a:pt x="1100" y="233"/>
                            </a:lnTo>
                            <a:lnTo>
                              <a:pt x="1092" y="229"/>
                            </a:lnTo>
                            <a:lnTo>
                              <a:pt x="1085" y="225"/>
                            </a:lnTo>
                            <a:lnTo>
                              <a:pt x="1079" y="221"/>
                            </a:lnTo>
                            <a:lnTo>
                              <a:pt x="1071" y="217"/>
                            </a:lnTo>
                            <a:lnTo>
                              <a:pt x="1063" y="212"/>
                            </a:lnTo>
                            <a:lnTo>
                              <a:pt x="1057" y="208"/>
                            </a:lnTo>
                            <a:lnTo>
                              <a:pt x="1050" y="204"/>
                            </a:lnTo>
                            <a:lnTo>
                              <a:pt x="1042" y="200"/>
                            </a:lnTo>
                            <a:lnTo>
                              <a:pt x="1034" y="196"/>
                            </a:lnTo>
                            <a:lnTo>
                              <a:pt x="1027" y="192"/>
                            </a:lnTo>
                            <a:lnTo>
                              <a:pt x="1020" y="188"/>
                            </a:lnTo>
                            <a:lnTo>
                              <a:pt x="1013" y="184"/>
                            </a:lnTo>
                            <a:lnTo>
                              <a:pt x="1007" y="180"/>
                            </a:lnTo>
                            <a:lnTo>
                              <a:pt x="999" y="175"/>
                            </a:lnTo>
                            <a:lnTo>
                              <a:pt x="993" y="171"/>
                            </a:lnTo>
                            <a:lnTo>
                              <a:pt x="985" y="167"/>
                            </a:lnTo>
                            <a:lnTo>
                              <a:pt x="978" y="163"/>
                            </a:lnTo>
                            <a:lnTo>
                              <a:pt x="970" y="158"/>
                            </a:lnTo>
                            <a:lnTo>
                              <a:pt x="962" y="155"/>
                            </a:lnTo>
                            <a:lnTo>
                              <a:pt x="955" y="149"/>
                            </a:lnTo>
                            <a:lnTo>
                              <a:pt x="949" y="145"/>
                            </a:lnTo>
                            <a:lnTo>
                              <a:pt x="941" y="141"/>
                            </a:lnTo>
                            <a:lnTo>
                              <a:pt x="935" y="137"/>
                            </a:lnTo>
                            <a:lnTo>
                              <a:pt x="927" y="133"/>
                            </a:lnTo>
                            <a:lnTo>
                              <a:pt x="920" y="129"/>
                            </a:lnTo>
                            <a:lnTo>
                              <a:pt x="912" y="123"/>
                            </a:lnTo>
                            <a:lnTo>
                              <a:pt x="906" y="119"/>
                            </a:lnTo>
                            <a:lnTo>
                              <a:pt x="898" y="115"/>
                            </a:lnTo>
                            <a:lnTo>
                              <a:pt x="890" y="111"/>
                            </a:lnTo>
                            <a:lnTo>
                              <a:pt x="883" y="107"/>
                            </a:lnTo>
                            <a:lnTo>
                              <a:pt x="877" y="103"/>
                            </a:lnTo>
                            <a:lnTo>
                              <a:pt x="869" y="97"/>
                            </a:lnTo>
                            <a:lnTo>
                              <a:pt x="861" y="93"/>
                            </a:lnTo>
                            <a:lnTo>
                              <a:pt x="854" y="89"/>
                            </a:lnTo>
                            <a:lnTo>
                              <a:pt x="848" y="85"/>
                            </a:lnTo>
                            <a:lnTo>
                              <a:pt x="840" y="79"/>
                            </a:lnTo>
                            <a:lnTo>
                              <a:pt x="832" y="77"/>
                            </a:lnTo>
                            <a:lnTo>
                              <a:pt x="825" y="71"/>
                            </a:lnTo>
                            <a:lnTo>
                              <a:pt x="819" y="67"/>
                            </a:lnTo>
                            <a:lnTo>
                              <a:pt x="811" y="63"/>
                            </a:lnTo>
                            <a:lnTo>
                              <a:pt x="803" y="59"/>
                            </a:lnTo>
                            <a:lnTo>
                              <a:pt x="796" y="55"/>
                            </a:lnTo>
                            <a:lnTo>
                              <a:pt x="790" y="50"/>
                            </a:lnTo>
                            <a:lnTo>
                              <a:pt x="782" y="45"/>
                            </a:lnTo>
                            <a:lnTo>
                              <a:pt x="774" y="41"/>
                            </a:lnTo>
                            <a:lnTo>
                              <a:pt x="767" y="37"/>
                            </a:lnTo>
                            <a:lnTo>
                              <a:pt x="760" y="33"/>
                            </a:lnTo>
                            <a:lnTo>
                              <a:pt x="753" y="29"/>
                            </a:lnTo>
                            <a:lnTo>
                              <a:pt x="745" y="24"/>
                            </a:lnTo>
                            <a:lnTo>
                              <a:pt x="738" y="20"/>
                            </a:lnTo>
                            <a:lnTo>
                              <a:pt x="731" y="16"/>
                            </a:lnTo>
                            <a:lnTo>
                              <a:pt x="724" y="12"/>
                            </a:lnTo>
                            <a:lnTo>
                              <a:pt x="716" y="8"/>
                            </a:lnTo>
                            <a:lnTo>
                              <a:pt x="710" y="2"/>
                            </a:lnTo>
                            <a:lnTo>
                              <a:pt x="702" y="0"/>
                            </a:lnTo>
                            <a:lnTo>
                              <a:pt x="693" y="5"/>
                            </a:lnTo>
                            <a:lnTo>
                              <a:pt x="684" y="11"/>
                            </a:lnTo>
                            <a:lnTo>
                              <a:pt x="675" y="18"/>
                            </a:lnTo>
                            <a:lnTo>
                              <a:pt x="666" y="23"/>
                            </a:lnTo>
                            <a:lnTo>
                              <a:pt x="656" y="29"/>
                            </a:lnTo>
                            <a:lnTo>
                              <a:pt x="647" y="35"/>
                            </a:lnTo>
                            <a:lnTo>
                              <a:pt x="637" y="41"/>
                            </a:lnTo>
                            <a:lnTo>
                              <a:pt x="627" y="48"/>
                            </a:lnTo>
                            <a:lnTo>
                              <a:pt x="618" y="53"/>
                            </a:lnTo>
                            <a:lnTo>
                              <a:pt x="609" y="60"/>
                            </a:lnTo>
                            <a:lnTo>
                              <a:pt x="600" y="66"/>
                            </a:lnTo>
                            <a:lnTo>
                              <a:pt x="591" y="72"/>
                            </a:lnTo>
                            <a:lnTo>
                              <a:pt x="581" y="78"/>
                            </a:lnTo>
                            <a:lnTo>
                              <a:pt x="571" y="85"/>
                            </a:lnTo>
                            <a:lnTo>
                              <a:pt x="562" y="90"/>
                            </a:lnTo>
                            <a:lnTo>
                              <a:pt x="552" y="97"/>
                            </a:lnTo>
                            <a:lnTo>
                              <a:pt x="543" y="103"/>
                            </a:lnTo>
                            <a:lnTo>
                              <a:pt x="534" y="110"/>
                            </a:lnTo>
                            <a:lnTo>
                              <a:pt x="525" y="115"/>
                            </a:lnTo>
                            <a:lnTo>
                              <a:pt x="516" y="122"/>
                            </a:lnTo>
                            <a:lnTo>
                              <a:pt x="507" y="127"/>
                            </a:lnTo>
                            <a:lnTo>
                              <a:pt x="496" y="134"/>
                            </a:lnTo>
                            <a:lnTo>
                              <a:pt x="487" y="140"/>
                            </a:lnTo>
                            <a:lnTo>
                              <a:pt x="477" y="147"/>
                            </a:lnTo>
                            <a:lnTo>
                              <a:pt x="468" y="152"/>
                            </a:lnTo>
                            <a:lnTo>
                              <a:pt x="459" y="159"/>
                            </a:lnTo>
                            <a:lnTo>
                              <a:pt x="450" y="164"/>
                            </a:lnTo>
                            <a:lnTo>
                              <a:pt x="441" y="171"/>
                            </a:lnTo>
                            <a:lnTo>
                              <a:pt x="430" y="177"/>
                            </a:lnTo>
                            <a:lnTo>
                              <a:pt x="421" y="184"/>
                            </a:lnTo>
                            <a:lnTo>
                              <a:pt x="412" y="189"/>
                            </a:lnTo>
                            <a:lnTo>
                              <a:pt x="403" y="196"/>
                            </a:lnTo>
                            <a:lnTo>
                              <a:pt x="393" y="201"/>
                            </a:lnTo>
                            <a:lnTo>
                              <a:pt x="384" y="208"/>
                            </a:lnTo>
                            <a:lnTo>
                              <a:pt x="375" y="214"/>
                            </a:lnTo>
                            <a:lnTo>
                              <a:pt x="366" y="221"/>
                            </a:lnTo>
                            <a:lnTo>
                              <a:pt x="357" y="226"/>
                            </a:lnTo>
                            <a:lnTo>
                              <a:pt x="347" y="233"/>
                            </a:lnTo>
                            <a:lnTo>
                              <a:pt x="337" y="239"/>
                            </a:lnTo>
                            <a:lnTo>
                              <a:pt x="328" y="245"/>
                            </a:lnTo>
                            <a:lnTo>
                              <a:pt x="318" y="251"/>
                            </a:lnTo>
                            <a:lnTo>
                              <a:pt x="309" y="258"/>
                            </a:lnTo>
                            <a:lnTo>
                              <a:pt x="300" y="263"/>
                            </a:lnTo>
                            <a:lnTo>
                              <a:pt x="291" y="270"/>
                            </a:lnTo>
                            <a:lnTo>
                              <a:pt x="282" y="276"/>
                            </a:lnTo>
                            <a:lnTo>
                              <a:pt x="272" y="282"/>
                            </a:lnTo>
                            <a:lnTo>
                              <a:pt x="262" y="288"/>
                            </a:lnTo>
                            <a:lnTo>
                              <a:pt x="254" y="295"/>
                            </a:lnTo>
                            <a:lnTo>
                              <a:pt x="245" y="300"/>
                            </a:lnTo>
                            <a:lnTo>
                              <a:pt x="234" y="307"/>
                            </a:lnTo>
                            <a:lnTo>
                              <a:pt x="225" y="313"/>
                            </a:lnTo>
                            <a:lnTo>
                              <a:pt x="216" y="320"/>
                            </a:lnTo>
                            <a:lnTo>
                              <a:pt x="207" y="325"/>
                            </a:lnTo>
                            <a:lnTo>
                              <a:pt x="198" y="332"/>
                            </a:lnTo>
                            <a:lnTo>
                              <a:pt x="188" y="337"/>
                            </a:lnTo>
                            <a:lnTo>
                              <a:pt x="179" y="344"/>
                            </a:lnTo>
                            <a:lnTo>
                              <a:pt x="170" y="350"/>
                            </a:lnTo>
                            <a:lnTo>
                              <a:pt x="159" y="357"/>
                            </a:lnTo>
                            <a:lnTo>
                              <a:pt x="150" y="362"/>
                            </a:lnTo>
                            <a:lnTo>
                              <a:pt x="141" y="369"/>
                            </a:lnTo>
                            <a:lnTo>
                              <a:pt x="132" y="374"/>
                            </a:lnTo>
                            <a:lnTo>
                              <a:pt x="123" y="381"/>
                            </a:lnTo>
                            <a:lnTo>
                              <a:pt x="113" y="387"/>
                            </a:lnTo>
                            <a:lnTo>
                              <a:pt x="104" y="39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1" name="Freeform 211"/>
                      <p:cNvSpPr/>
                      <p:nvPr/>
                    </p:nvSpPr>
                    <p:spPr>
                      <a:xfrm>
                        <a:off x="3164400" y="2863440"/>
                        <a:ext cx="26640" cy="17280"/>
                      </a:xfrm>
                      <a:custGeom>
                        <a:avLst/>
                        <a:gdLst>
                          <a:gd name="textAreaLeft" fmla="*/ 0 w 26640"/>
                          <a:gd name="textAreaRight" fmla="*/ 27000 w 26640"/>
                          <a:gd name="textAreaTop" fmla="*/ 0 h 17280"/>
                          <a:gd name="textAreaBottom" fmla="*/ 17640 h 17280"/>
                        </a:gdLst>
                        <a:ahLst/>
                        <a:rect l="textAreaLeft" t="textAreaTop" r="textAreaRight" b="textAreaBottom"/>
                        <a:pathLst>
                          <a:path w="294" h="175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2" y="5"/>
                            </a:lnTo>
                            <a:lnTo>
                              <a:pt x="3" y="6"/>
                            </a:lnTo>
                            <a:lnTo>
                              <a:pt x="7" y="9"/>
                            </a:lnTo>
                            <a:lnTo>
                              <a:pt x="11" y="11"/>
                            </a:lnTo>
                            <a:lnTo>
                              <a:pt x="17" y="16"/>
                            </a:lnTo>
                            <a:lnTo>
                              <a:pt x="20" y="17"/>
                            </a:lnTo>
                            <a:lnTo>
                              <a:pt x="23" y="20"/>
                            </a:lnTo>
                            <a:lnTo>
                              <a:pt x="28" y="22"/>
                            </a:lnTo>
                            <a:lnTo>
                              <a:pt x="33" y="25"/>
                            </a:lnTo>
                            <a:lnTo>
                              <a:pt x="36" y="28"/>
                            </a:lnTo>
                            <a:lnTo>
                              <a:pt x="40" y="31"/>
                            </a:lnTo>
                            <a:lnTo>
                              <a:pt x="45" y="33"/>
                            </a:lnTo>
                            <a:lnTo>
                              <a:pt x="51" y="37"/>
                            </a:lnTo>
                            <a:lnTo>
                              <a:pt x="55" y="40"/>
                            </a:lnTo>
                            <a:lnTo>
                              <a:pt x="60" y="43"/>
                            </a:lnTo>
                            <a:lnTo>
                              <a:pt x="66" y="46"/>
                            </a:lnTo>
                            <a:lnTo>
                              <a:pt x="72" y="50"/>
                            </a:lnTo>
                            <a:lnTo>
                              <a:pt x="78" y="53"/>
                            </a:lnTo>
                            <a:lnTo>
                              <a:pt x="85" y="57"/>
                            </a:lnTo>
                            <a:lnTo>
                              <a:pt x="91" y="61"/>
                            </a:lnTo>
                            <a:lnTo>
                              <a:pt x="97" y="64"/>
                            </a:lnTo>
                            <a:lnTo>
                              <a:pt x="103" y="68"/>
                            </a:lnTo>
                            <a:lnTo>
                              <a:pt x="109" y="72"/>
                            </a:lnTo>
                            <a:lnTo>
                              <a:pt x="117" y="76"/>
                            </a:lnTo>
                            <a:lnTo>
                              <a:pt x="123" y="79"/>
                            </a:lnTo>
                            <a:lnTo>
                              <a:pt x="129" y="83"/>
                            </a:lnTo>
                            <a:lnTo>
                              <a:pt x="137" y="87"/>
                            </a:lnTo>
                            <a:lnTo>
                              <a:pt x="143" y="91"/>
                            </a:lnTo>
                            <a:lnTo>
                              <a:pt x="150" y="95"/>
                            </a:lnTo>
                            <a:lnTo>
                              <a:pt x="156" y="98"/>
                            </a:lnTo>
                            <a:lnTo>
                              <a:pt x="163" y="102"/>
                            </a:lnTo>
                            <a:lnTo>
                              <a:pt x="169" y="106"/>
                            </a:lnTo>
                            <a:lnTo>
                              <a:pt x="175" y="110"/>
                            </a:lnTo>
                            <a:lnTo>
                              <a:pt x="181" y="113"/>
                            </a:lnTo>
                            <a:lnTo>
                              <a:pt x="187" y="117"/>
                            </a:lnTo>
                            <a:lnTo>
                              <a:pt x="195" y="120"/>
                            </a:lnTo>
                            <a:lnTo>
                              <a:pt x="201" y="124"/>
                            </a:lnTo>
                            <a:lnTo>
                              <a:pt x="207" y="128"/>
                            </a:lnTo>
                            <a:lnTo>
                              <a:pt x="213" y="131"/>
                            </a:lnTo>
                            <a:lnTo>
                              <a:pt x="219" y="135"/>
                            </a:lnTo>
                            <a:lnTo>
                              <a:pt x="225" y="138"/>
                            </a:lnTo>
                            <a:lnTo>
                              <a:pt x="230" y="140"/>
                            </a:lnTo>
                            <a:lnTo>
                              <a:pt x="236" y="145"/>
                            </a:lnTo>
                            <a:lnTo>
                              <a:pt x="241" y="147"/>
                            </a:lnTo>
                            <a:lnTo>
                              <a:pt x="247" y="150"/>
                            </a:lnTo>
                            <a:lnTo>
                              <a:pt x="251" y="153"/>
                            </a:lnTo>
                            <a:lnTo>
                              <a:pt x="256" y="154"/>
                            </a:lnTo>
                            <a:lnTo>
                              <a:pt x="260" y="157"/>
                            </a:lnTo>
                            <a:lnTo>
                              <a:pt x="265" y="160"/>
                            </a:lnTo>
                            <a:lnTo>
                              <a:pt x="268" y="162"/>
                            </a:lnTo>
                            <a:lnTo>
                              <a:pt x="273" y="164"/>
                            </a:lnTo>
                            <a:lnTo>
                              <a:pt x="276" y="167"/>
                            </a:lnTo>
                            <a:lnTo>
                              <a:pt x="280" y="168"/>
                            </a:lnTo>
                            <a:lnTo>
                              <a:pt x="285" y="171"/>
                            </a:lnTo>
                            <a:lnTo>
                              <a:pt x="289" y="173"/>
                            </a:lnTo>
                            <a:lnTo>
                              <a:pt x="293" y="175"/>
                            </a:lnTo>
                            <a:lnTo>
                              <a:pt x="294" y="175"/>
                            </a:lnTo>
                            <a:lnTo>
                              <a:pt x="289" y="171"/>
                            </a:lnTo>
                            <a:lnTo>
                              <a:pt x="277" y="164"/>
                            </a:lnTo>
                            <a:lnTo>
                              <a:pt x="247" y="143"/>
                            </a:lnTo>
                            <a:lnTo>
                              <a:pt x="178" y="107"/>
                            </a:lnTo>
                            <a:lnTo>
                              <a:pt x="173" y="103"/>
                            </a:lnTo>
                            <a:lnTo>
                              <a:pt x="167" y="101"/>
                            </a:lnTo>
                            <a:lnTo>
                              <a:pt x="161" y="97"/>
                            </a:lnTo>
                            <a:lnTo>
                              <a:pt x="156" y="92"/>
                            </a:lnTo>
                            <a:lnTo>
                              <a:pt x="150" y="90"/>
                            </a:lnTo>
                            <a:lnTo>
                              <a:pt x="146" y="86"/>
                            </a:lnTo>
                            <a:lnTo>
                              <a:pt x="140" y="83"/>
                            </a:lnTo>
                            <a:lnTo>
                              <a:pt x="135" y="79"/>
                            </a:lnTo>
                            <a:lnTo>
                              <a:pt x="129" y="76"/>
                            </a:lnTo>
                            <a:lnTo>
                              <a:pt x="123" y="72"/>
                            </a:lnTo>
                            <a:lnTo>
                              <a:pt x="118" y="68"/>
                            </a:lnTo>
                            <a:lnTo>
                              <a:pt x="114" y="65"/>
                            </a:lnTo>
                            <a:lnTo>
                              <a:pt x="107" y="61"/>
                            </a:lnTo>
                            <a:lnTo>
                              <a:pt x="103" y="58"/>
                            </a:lnTo>
                            <a:lnTo>
                              <a:pt x="97" y="54"/>
                            </a:lnTo>
                            <a:lnTo>
                              <a:pt x="92" y="51"/>
                            </a:lnTo>
                            <a:lnTo>
                              <a:pt x="86" y="47"/>
                            </a:lnTo>
                            <a:lnTo>
                              <a:pt x="81" y="44"/>
                            </a:lnTo>
                            <a:lnTo>
                              <a:pt x="75" y="40"/>
                            </a:lnTo>
                            <a:lnTo>
                              <a:pt x="71" y="37"/>
                            </a:lnTo>
                            <a:lnTo>
                              <a:pt x="65" y="33"/>
                            </a:lnTo>
                            <a:lnTo>
                              <a:pt x="59" y="31"/>
                            </a:lnTo>
                            <a:lnTo>
                              <a:pt x="54" y="27"/>
                            </a:lnTo>
                            <a:lnTo>
                              <a:pt x="48" y="24"/>
                            </a:lnTo>
                            <a:lnTo>
                              <a:pt x="43" y="21"/>
                            </a:lnTo>
                            <a:lnTo>
                              <a:pt x="37" y="17"/>
                            </a:lnTo>
                            <a:lnTo>
                              <a:pt x="31" y="14"/>
                            </a:lnTo>
                            <a:lnTo>
                              <a:pt x="26" y="11"/>
                            </a:lnTo>
                            <a:lnTo>
                              <a:pt x="20" y="9"/>
                            </a:lnTo>
                            <a:lnTo>
                              <a:pt x="14" y="6"/>
                            </a:lnTo>
                            <a:lnTo>
                              <a:pt x="10" y="3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Freeform 212"/>
                      <p:cNvSpPr/>
                      <p:nvPr/>
                    </p:nvSpPr>
                    <p:spPr>
                      <a:xfrm>
                        <a:off x="3108240" y="2876760"/>
                        <a:ext cx="27000" cy="19080"/>
                      </a:xfrm>
                      <a:custGeom>
                        <a:avLst/>
                        <a:gdLst>
                          <a:gd name="textAreaLeft" fmla="*/ 0 w 27000"/>
                          <a:gd name="textAreaRight" fmla="*/ 27360 w 2700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299" h="190">
                            <a:moveTo>
                              <a:pt x="0" y="190"/>
                            </a:moveTo>
                            <a:lnTo>
                              <a:pt x="3" y="188"/>
                            </a:lnTo>
                            <a:lnTo>
                              <a:pt x="8" y="185"/>
                            </a:lnTo>
                            <a:lnTo>
                              <a:pt x="13" y="181"/>
                            </a:lnTo>
                            <a:lnTo>
                              <a:pt x="17" y="178"/>
                            </a:lnTo>
                            <a:lnTo>
                              <a:pt x="22" y="175"/>
                            </a:lnTo>
                            <a:lnTo>
                              <a:pt x="26" y="173"/>
                            </a:lnTo>
                            <a:lnTo>
                              <a:pt x="31" y="170"/>
                            </a:lnTo>
                            <a:lnTo>
                              <a:pt x="36" y="167"/>
                            </a:lnTo>
                            <a:lnTo>
                              <a:pt x="40" y="163"/>
                            </a:lnTo>
                            <a:lnTo>
                              <a:pt x="45" y="160"/>
                            </a:lnTo>
                            <a:lnTo>
                              <a:pt x="48" y="156"/>
                            </a:lnTo>
                            <a:lnTo>
                              <a:pt x="54" y="153"/>
                            </a:lnTo>
                            <a:lnTo>
                              <a:pt x="59" y="151"/>
                            </a:lnTo>
                            <a:lnTo>
                              <a:pt x="63" y="146"/>
                            </a:lnTo>
                            <a:lnTo>
                              <a:pt x="68" y="144"/>
                            </a:lnTo>
                            <a:lnTo>
                              <a:pt x="72" y="141"/>
                            </a:lnTo>
                            <a:lnTo>
                              <a:pt x="75" y="137"/>
                            </a:lnTo>
                            <a:lnTo>
                              <a:pt x="81" y="134"/>
                            </a:lnTo>
                            <a:lnTo>
                              <a:pt x="85" y="131"/>
                            </a:lnTo>
                            <a:lnTo>
                              <a:pt x="91" y="127"/>
                            </a:lnTo>
                            <a:lnTo>
                              <a:pt x="95" y="124"/>
                            </a:lnTo>
                            <a:lnTo>
                              <a:pt x="100" y="120"/>
                            </a:lnTo>
                            <a:lnTo>
                              <a:pt x="104" y="118"/>
                            </a:lnTo>
                            <a:lnTo>
                              <a:pt x="109" y="114"/>
                            </a:lnTo>
                            <a:lnTo>
                              <a:pt x="114" y="111"/>
                            </a:lnTo>
                            <a:lnTo>
                              <a:pt x="118" y="107"/>
                            </a:lnTo>
                            <a:lnTo>
                              <a:pt x="123" y="104"/>
                            </a:lnTo>
                            <a:lnTo>
                              <a:pt x="129" y="100"/>
                            </a:lnTo>
                            <a:lnTo>
                              <a:pt x="133" y="97"/>
                            </a:lnTo>
                            <a:lnTo>
                              <a:pt x="138" y="93"/>
                            </a:lnTo>
                            <a:lnTo>
                              <a:pt x="143" y="90"/>
                            </a:lnTo>
                            <a:lnTo>
                              <a:pt x="147" y="87"/>
                            </a:lnTo>
                            <a:lnTo>
                              <a:pt x="152" y="83"/>
                            </a:lnTo>
                            <a:lnTo>
                              <a:pt x="158" y="81"/>
                            </a:lnTo>
                            <a:lnTo>
                              <a:pt x="161" y="76"/>
                            </a:lnTo>
                            <a:lnTo>
                              <a:pt x="167" y="74"/>
                            </a:lnTo>
                            <a:lnTo>
                              <a:pt x="172" y="70"/>
                            </a:lnTo>
                            <a:lnTo>
                              <a:pt x="176" y="67"/>
                            </a:lnTo>
                            <a:lnTo>
                              <a:pt x="181" y="63"/>
                            </a:lnTo>
                            <a:lnTo>
                              <a:pt x="185" y="60"/>
                            </a:lnTo>
                            <a:lnTo>
                              <a:pt x="190" y="57"/>
                            </a:lnTo>
                            <a:lnTo>
                              <a:pt x="195" y="53"/>
                            </a:lnTo>
                            <a:lnTo>
                              <a:pt x="201" y="50"/>
                            </a:lnTo>
                            <a:lnTo>
                              <a:pt x="205" y="48"/>
                            </a:lnTo>
                            <a:lnTo>
                              <a:pt x="210" y="45"/>
                            </a:lnTo>
                            <a:lnTo>
                              <a:pt x="216" y="41"/>
                            </a:lnTo>
                            <a:lnTo>
                              <a:pt x="219" y="38"/>
                            </a:lnTo>
                            <a:lnTo>
                              <a:pt x="225" y="35"/>
                            </a:lnTo>
                            <a:lnTo>
                              <a:pt x="230" y="33"/>
                            </a:lnTo>
                            <a:lnTo>
                              <a:pt x="234" y="30"/>
                            </a:lnTo>
                            <a:lnTo>
                              <a:pt x="239" y="27"/>
                            </a:lnTo>
                            <a:lnTo>
                              <a:pt x="244" y="24"/>
                            </a:lnTo>
                            <a:lnTo>
                              <a:pt x="248" y="22"/>
                            </a:lnTo>
                            <a:lnTo>
                              <a:pt x="254" y="20"/>
                            </a:lnTo>
                            <a:lnTo>
                              <a:pt x="259" y="16"/>
                            </a:lnTo>
                            <a:lnTo>
                              <a:pt x="264" y="15"/>
                            </a:lnTo>
                            <a:lnTo>
                              <a:pt x="268" y="12"/>
                            </a:lnTo>
                            <a:lnTo>
                              <a:pt x="274" y="9"/>
                            </a:lnTo>
                            <a:lnTo>
                              <a:pt x="279" y="8"/>
                            </a:lnTo>
                            <a:lnTo>
                              <a:pt x="288" y="4"/>
                            </a:lnTo>
                            <a:lnTo>
                              <a:pt x="299" y="0"/>
                            </a:lnTo>
                            <a:lnTo>
                              <a:pt x="288" y="5"/>
                            </a:lnTo>
                            <a:lnTo>
                              <a:pt x="279" y="9"/>
                            </a:lnTo>
                            <a:lnTo>
                              <a:pt x="274" y="12"/>
                            </a:lnTo>
                            <a:lnTo>
                              <a:pt x="271" y="15"/>
                            </a:lnTo>
                            <a:lnTo>
                              <a:pt x="267" y="16"/>
                            </a:lnTo>
                            <a:lnTo>
                              <a:pt x="262" y="20"/>
                            </a:lnTo>
                            <a:lnTo>
                              <a:pt x="257" y="23"/>
                            </a:lnTo>
                            <a:lnTo>
                              <a:pt x="253" y="26"/>
                            </a:lnTo>
                            <a:lnTo>
                              <a:pt x="248" y="28"/>
                            </a:lnTo>
                            <a:lnTo>
                              <a:pt x="244" y="33"/>
                            </a:lnTo>
                            <a:lnTo>
                              <a:pt x="238" y="35"/>
                            </a:lnTo>
                            <a:lnTo>
                              <a:pt x="233" y="38"/>
                            </a:lnTo>
                            <a:lnTo>
                              <a:pt x="228" y="42"/>
                            </a:lnTo>
                            <a:lnTo>
                              <a:pt x="222" y="45"/>
                            </a:lnTo>
                            <a:lnTo>
                              <a:pt x="218" y="49"/>
                            </a:lnTo>
                            <a:lnTo>
                              <a:pt x="211" y="53"/>
                            </a:lnTo>
                            <a:lnTo>
                              <a:pt x="207" y="56"/>
                            </a:lnTo>
                            <a:lnTo>
                              <a:pt x="202" y="60"/>
                            </a:lnTo>
                            <a:lnTo>
                              <a:pt x="196" y="64"/>
                            </a:lnTo>
                            <a:lnTo>
                              <a:pt x="192" y="68"/>
                            </a:lnTo>
                            <a:lnTo>
                              <a:pt x="185" y="71"/>
                            </a:lnTo>
                            <a:lnTo>
                              <a:pt x="179" y="75"/>
                            </a:lnTo>
                            <a:lnTo>
                              <a:pt x="175" y="79"/>
                            </a:lnTo>
                            <a:lnTo>
                              <a:pt x="169" y="83"/>
                            </a:lnTo>
                            <a:lnTo>
                              <a:pt x="164" y="87"/>
                            </a:lnTo>
                            <a:lnTo>
                              <a:pt x="158" y="90"/>
                            </a:lnTo>
                            <a:lnTo>
                              <a:pt x="152" y="94"/>
                            </a:lnTo>
                            <a:lnTo>
                              <a:pt x="147" y="100"/>
                            </a:lnTo>
                            <a:lnTo>
                              <a:pt x="141" y="103"/>
                            </a:lnTo>
                            <a:lnTo>
                              <a:pt x="137" y="107"/>
                            </a:lnTo>
                            <a:lnTo>
                              <a:pt x="130" y="111"/>
                            </a:lnTo>
                            <a:lnTo>
                              <a:pt x="124" y="115"/>
                            </a:lnTo>
                            <a:lnTo>
                              <a:pt x="120" y="118"/>
                            </a:lnTo>
                            <a:lnTo>
                              <a:pt x="114" y="122"/>
                            </a:lnTo>
                            <a:lnTo>
                              <a:pt x="107" y="126"/>
                            </a:lnTo>
                            <a:lnTo>
                              <a:pt x="103" y="130"/>
                            </a:lnTo>
                            <a:lnTo>
                              <a:pt x="97" y="133"/>
                            </a:lnTo>
                            <a:lnTo>
                              <a:pt x="92" y="137"/>
                            </a:lnTo>
                            <a:lnTo>
                              <a:pt x="86" y="140"/>
                            </a:lnTo>
                            <a:lnTo>
                              <a:pt x="81" y="144"/>
                            </a:lnTo>
                            <a:lnTo>
                              <a:pt x="75" y="146"/>
                            </a:lnTo>
                            <a:lnTo>
                              <a:pt x="72" y="151"/>
                            </a:lnTo>
                            <a:lnTo>
                              <a:pt x="66" y="153"/>
                            </a:lnTo>
                            <a:lnTo>
                              <a:pt x="62" y="157"/>
                            </a:lnTo>
                            <a:lnTo>
                              <a:pt x="57" y="160"/>
                            </a:lnTo>
                            <a:lnTo>
                              <a:pt x="52" y="163"/>
                            </a:lnTo>
                            <a:lnTo>
                              <a:pt x="48" y="166"/>
                            </a:lnTo>
                            <a:lnTo>
                              <a:pt x="43" y="168"/>
                            </a:lnTo>
                            <a:lnTo>
                              <a:pt x="39" y="171"/>
                            </a:lnTo>
                            <a:lnTo>
                              <a:pt x="34" y="174"/>
                            </a:lnTo>
                            <a:lnTo>
                              <a:pt x="31" y="175"/>
                            </a:lnTo>
                            <a:lnTo>
                              <a:pt x="28" y="178"/>
                            </a:lnTo>
                            <a:lnTo>
                              <a:pt x="23" y="181"/>
                            </a:lnTo>
                            <a:lnTo>
                              <a:pt x="19" y="182"/>
                            </a:lnTo>
                            <a:lnTo>
                              <a:pt x="16" y="184"/>
                            </a:lnTo>
                            <a:lnTo>
                              <a:pt x="13" y="186"/>
                            </a:lnTo>
                            <a:lnTo>
                              <a:pt x="7" y="189"/>
                            </a:lnTo>
                            <a:lnTo>
                              <a:pt x="0" y="19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3" name="Freeform 213"/>
                      <p:cNvSpPr/>
                      <p:nvPr/>
                    </p:nvSpPr>
                    <p:spPr>
                      <a:xfrm>
                        <a:off x="3110040" y="2896200"/>
                        <a:ext cx="4320" cy="36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360"/>
                          <a:gd name="textAreaBottom" fmla="*/ 720 h 360"/>
                        </a:gdLst>
                        <a:ahLst/>
                        <a:rect l="textAreaLeft" t="textAreaTop" r="textAreaRight" b="textAreaBottom"/>
                        <a:pathLst>
                          <a:path w="51" h="6">
                            <a:moveTo>
                              <a:pt x="42" y="0"/>
                            </a:moveTo>
                            <a:lnTo>
                              <a:pt x="0" y="3"/>
                            </a:lnTo>
                            <a:lnTo>
                              <a:pt x="5" y="4"/>
                            </a:lnTo>
                            <a:lnTo>
                              <a:pt x="11" y="6"/>
                            </a:lnTo>
                            <a:lnTo>
                              <a:pt x="14" y="6"/>
                            </a:lnTo>
                            <a:lnTo>
                              <a:pt x="20" y="6"/>
                            </a:lnTo>
                            <a:lnTo>
                              <a:pt x="25" y="6"/>
                            </a:lnTo>
                            <a:lnTo>
                              <a:pt x="29" y="6"/>
                            </a:lnTo>
                            <a:lnTo>
                              <a:pt x="35" y="6"/>
                            </a:lnTo>
                            <a:lnTo>
                              <a:pt x="42" y="6"/>
                            </a:lnTo>
                            <a:lnTo>
                              <a:pt x="51" y="3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4" name="Freeform 214"/>
                      <p:cNvSpPr/>
                      <p:nvPr/>
                    </p:nvSpPr>
                    <p:spPr>
                      <a:xfrm>
                        <a:off x="3184920" y="2872080"/>
                        <a:ext cx="4320" cy="2880"/>
                      </a:xfrm>
                      <a:custGeom>
                        <a:avLst/>
                        <a:gdLst>
                          <a:gd name="textAreaLeft" fmla="*/ 0 w 4320"/>
                          <a:gd name="textAreaRight" fmla="*/ 4680 w 4320"/>
                          <a:gd name="textAreaTop" fmla="*/ 0 h 2880"/>
                          <a:gd name="textAreaBottom" fmla="*/ 3240 h 2880"/>
                        </a:gdLst>
                        <a:ahLst/>
                        <a:rect l="textAreaLeft" t="textAreaTop" r="textAreaRight" b="textAreaBottom"/>
                        <a:pathLst>
                          <a:path w="49" h="30">
                            <a:moveTo>
                              <a:pt x="41" y="30"/>
                            </a:moveTo>
                            <a:lnTo>
                              <a:pt x="49" y="26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3" y="5"/>
                            </a:lnTo>
                            <a:lnTo>
                              <a:pt x="14" y="12"/>
                            </a:lnTo>
                            <a:lnTo>
                              <a:pt x="20" y="17"/>
                            </a:lnTo>
                            <a:lnTo>
                              <a:pt x="26" y="21"/>
                            </a:lnTo>
                            <a:lnTo>
                              <a:pt x="30" y="23"/>
                            </a:lnTo>
                            <a:lnTo>
                              <a:pt x="33" y="26"/>
                            </a:lnTo>
                            <a:lnTo>
                              <a:pt x="38" y="27"/>
                            </a:lnTo>
                            <a:lnTo>
                              <a:pt x="41" y="3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5" name="Freeform 215"/>
                      <p:cNvSpPr/>
                      <p:nvPr/>
                    </p:nvSpPr>
                    <p:spPr>
                      <a:xfrm>
                        <a:off x="3197160" y="2896200"/>
                        <a:ext cx="12240" cy="72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36" h="10">
                            <a:moveTo>
                              <a:pt x="136" y="0"/>
                            </a:moveTo>
                            <a:lnTo>
                              <a:pt x="131" y="0"/>
                            </a:lnTo>
                            <a:lnTo>
                              <a:pt x="127" y="0"/>
                            </a:lnTo>
                            <a:lnTo>
                              <a:pt x="122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9" y="0"/>
                            </a:lnTo>
                            <a:lnTo>
                              <a:pt x="104" y="0"/>
                            </a:lnTo>
                            <a:lnTo>
                              <a:pt x="101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7" y="0"/>
                            </a:lnTo>
                            <a:lnTo>
                              <a:pt x="84" y="0"/>
                            </a:lnTo>
                            <a:lnTo>
                              <a:pt x="79" y="0"/>
                            </a:lnTo>
                            <a:lnTo>
                              <a:pt x="75" y="0"/>
                            </a:lnTo>
                            <a:lnTo>
                              <a:pt x="70" y="0"/>
                            </a:lnTo>
                            <a:lnTo>
                              <a:pt x="67" y="0"/>
                            </a:lnTo>
                            <a:lnTo>
                              <a:pt x="63" y="0"/>
                            </a:lnTo>
                            <a:lnTo>
                              <a:pt x="58" y="0"/>
                            </a:lnTo>
                            <a:lnTo>
                              <a:pt x="53" y="0"/>
                            </a:lnTo>
                            <a:lnTo>
                              <a:pt x="50" y="0"/>
                            </a:lnTo>
                            <a:lnTo>
                              <a:pt x="46" y="0"/>
                            </a:lnTo>
                            <a:lnTo>
                              <a:pt x="41" y="0"/>
                            </a:lnTo>
                            <a:lnTo>
                              <a:pt x="37" y="2"/>
                            </a:lnTo>
                            <a:lnTo>
                              <a:pt x="34" y="2"/>
                            </a:lnTo>
                            <a:lnTo>
                              <a:pt x="29" y="2"/>
                            </a:lnTo>
                            <a:lnTo>
                              <a:pt x="24" y="3"/>
                            </a:lnTo>
                            <a:lnTo>
                              <a:pt x="20" y="3"/>
                            </a:lnTo>
                            <a:lnTo>
                              <a:pt x="17" y="4"/>
                            </a:lnTo>
                            <a:lnTo>
                              <a:pt x="12" y="4"/>
                            </a:lnTo>
                            <a:lnTo>
                              <a:pt x="8" y="6"/>
                            </a:lnTo>
                            <a:lnTo>
                              <a:pt x="3" y="6"/>
                            </a:lnTo>
                            <a:lnTo>
                              <a:pt x="0" y="9"/>
                            </a:lnTo>
                            <a:lnTo>
                              <a:pt x="27" y="10"/>
                            </a:lnTo>
                            <a:lnTo>
                              <a:pt x="31" y="9"/>
                            </a:lnTo>
                            <a:lnTo>
                              <a:pt x="35" y="6"/>
                            </a:lnTo>
                            <a:lnTo>
                              <a:pt x="41" y="6"/>
                            </a:lnTo>
                            <a:lnTo>
                              <a:pt x="47" y="6"/>
                            </a:lnTo>
                            <a:lnTo>
                              <a:pt x="55" y="6"/>
                            </a:lnTo>
                            <a:lnTo>
                              <a:pt x="58" y="6"/>
                            </a:lnTo>
                            <a:lnTo>
                              <a:pt x="61" y="6"/>
                            </a:lnTo>
                            <a:lnTo>
                              <a:pt x="66" y="6"/>
                            </a:lnTo>
                            <a:lnTo>
                              <a:pt x="69" y="7"/>
                            </a:lnTo>
                            <a:lnTo>
                              <a:pt x="73" y="7"/>
                            </a:lnTo>
                            <a:lnTo>
                              <a:pt x="76" y="9"/>
                            </a:lnTo>
                            <a:lnTo>
                              <a:pt x="81" y="9"/>
                            </a:lnTo>
                            <a:lnTo>
                              <a:pt x="84" y="9"/>
                            </a:lnTo>
                            <a:lnTo>
                              <a:pt x="87" y="9"/>
                            </a:lnTo>
                            <a:lnTo>
                              <a:pt x="92" y="10"/>
                            </a:lnTo>
                            <a:lnTo>
                              <a:pt x="95" y="10"/>
                            </a:lnTo>
                            <a:lnTo>
                              <a:pt x="99" y="10"/>
                            </a:lnTo>
                            <a:lnTo>
                              <a:pt x="102" y="10"/>
                            </a:lnTo>
                            <a:lnTo>
                              <a:pt x="105" y="10"/>
                            </a:lnTo>
                            <a:lnTo>
                              <a:pt x="109" y="10"/>
                            </a:lnTo>
                            <a:lnTo>
                              <a:pt x="113" y="10"/>
                            </a:lnTo>
                            <a:lnTo>
                              <a:pt x="119" y="9"/>
                            </a:lnTo>
                            <a:lnTo>
                              <a:pt x="125" y="7"/>
                            </a:lnTo>
                            <a:lnTo>
                              <a:pt x="130" y="4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6" name="Freeform 216"/>
                      <p:cNvSpPr/>
                      <p:nvPr/>
                    </p:nvSpPr>
                    <p:spPr>
                      <a:xfrm>
                        <a:off x="3191040" y="2876040"/>
                        <a:ext cx="10080" cy="612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0 h 6120"/>
                          <a:gd name="textAreaBottom" fmla="*/ 6480 h 6120"/>
                        </a:gdLst>
                        <a:ahLst/>
                        <a:rect l="textAreaLeft" t="textAreaTop" r="textAreaRight" b="textAreaBottom"/>
                        <a:pathLst>
                          <a:path w="113" h="62">
                            <a:moveTo>
                              <a:pt x="0" y="0"/>
                            </a:moveTo>
                            <a:lnTo>
                              <a:pt x="113" y="62"/>
                            </a:lnTo>
                            <a:lnTo>
                              <a:pt x="112" y="61"/>
                            </a:lnTo>
                            <a:lnTo>
                              <a:pt x="107" y="61"/>
                            </a:lnTo>
                            <a:lnTo>
                              <a:pt x="104" y="59"/>
                            </a:lnTo>
                            <a:lnTo>
                              <a:pt x="103" y="59"/>
                            </a:lnTo>
                            <a:lnTo>
                              <a:pt x="100" y="58"/>
                            </a:lnTo>
                            <a:lnTo>
                              <a:pt x="96" y="58"/>
                            </a:lnTo>
                            <a:lnTo>
                              <a:pt x="92" y="57"/>
                            </a:lnTo>
                            <a:lnTo>
                              <a:pt x="87" y="55"/>
                            </a:lnTo>
                            <a:lnTo>
                              <a:pt x="84" y="54"/>
                            </a:lnTo>
                            <a:lnTo>
                              <a:pt x="80" y="52"/>
                            </a:lnTo>
                            <a:lnTo>
                              <a:pt x="75" y="50"/>
                            </a:lnTo>
                            <a:lnTo>
                              <a:pt x="72" y="48"/>
                            </a:lnTo>
                            <a:lnTo>
                              <a:pt x="67" y="46"/>
                            </a:lnTo>
                            <a:lnTo>
                              <a:pt x="63" y="44"/>
                            </a:lnTo>
                            <a:lnTo>
                              <a:pt x="57" y="40"/>
                            </a:lnTo>
                            <a:lnTo>
                              <a:pt x="52" y="37"/>
                            </a:lnTo>
                            <a:lnTo>
                              <a:pt x="46" y="33"/>
                            </a:lnTo>
                            <a:lnTo>
                              <a:pt x="41" y="31"/>
                            </a:lnTo>
                            <a:lnTo>
                              <a:pt x="35" y="26"/>
                            </a:lnTo>
                            <a:lnTo>
                              <a:pt x="31" y="22"/>
                            </a:lnTo>
                            <a:lnTo>
                              <a:pt x="25" y="20"/>
                            </a:lnTo>
                            <a:lnTo>
                              <a:pt x="21" y="17"/>
                            </a:lnTo>
                            <a:lnTo>
                              <a:pt x="17" y="13"/>
                            </a:lnTo>
                            <a:lnTo>
                              <a:pt x="12" y="10"/>
                            </a:lnTo>
                            <a:lnTo>
                              <a:pt x="9" y="7"/>
                            </a:lnTo>
                            <a:lnTo>
                              <a:pt x="6" y="6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Freeform 217"/>
                      <p:cNvSpPr/>
                      <p:nvPr/>
                    </p:nvSpPr>
                    <p:spPr>
                      <a:xfrm>
                        <a:off x="3144960" y="2853360"/>
                        <a:ext cx="12960" cy="9720"/>
                      </a:xfrm>
                      <a:custGeom>
                        <a:avLst/>
                        <a:gdLst>
                          <a:gd name="textAreaLeft" fmla="*/ 0 w 12960"/>
                          <a:gd name="textAreaRight" fmla="*/ 13320 w 1296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144" h="96">
                            <a:moveTo>
                              <a:pt x="144" y="0"/>
                            </a:moveTo>
                            <a:lnTo>
                              <a:pt x="139" y="3"/>
                            </a:lnTo>
                            <a:lnTo>
                              <a:pt x="135" y="6"/>
                            </a:lnTo>
                            <a:lnTo>
                              <a:pt x="130" y="8"/>
                            </a:lnTo>
                            <a:lnTo>
                              <a:pt x="126" y="11"/>
                            </a:lnTo>
                            <a:lnTo>
                              <a:pt x="121" y="15"/>
                            </a:lnTo>
                            <a:lnTo>
                              <a:pt x="116" y="18"/>
                            </a:lnTo>
                            <a:lnTo>
                              <a:pt x="112" y="21"/>
                            </a:lnTo>
                            <a:lnTo>
                              <a:pt x="107" y="24"/>
                            </a:lnTo>
                            <a:lnTo>
                              <a:pt x="103" y="26"/>
                            </a:lnTo>
                            <a:lnTo>
                              <a:pt x="98" y="29"/>
                            </a:lnTo>
                            <a:lnTo>
                              <a:pt x="94" y="32"/>
                            </a:lnTo>
                            <a:lnTo>
                              <a:pt x="90" y="36"/>
                            </a:lnTo>
                            <a:lnTo>
                              <a:pt x="84" y="39"/>
                            </a:lnTo>
                            <a:lnTo>
                              <a:pt x="80" y="41"/>
                            </a:lnTo>
                            <a:lnTo>
                              <a:pt x="75" y="44"/>
                            </a:lnTo>
                            <a:lnTo>
                              <a:pt x="72" y="47"/>
                            </a:lnTo>
                            <a:lnTo>
                              <a:pt x="66" y="50"/>
                            </a:lnTo>
                            <a:lnTo>
                              <a:pt x="61" y="52"/>
                            </a:lnTo>
                            <a:lnTo>
                              <a:pt x="57" y="55"/>
                            </a:lnTo>
                            <a:lnTo>
                              <a:pt x="52" y="59"/>
                            </a:lnTo>
                            <a:lnTo>
                              <a:pt x="48" y="62"/>
                            </a:lnTo>
                            <a:lnTo>
                              <a:pt x="45" y="65"/>
                            </a:lnTo>
                            <a:lnTo>
                              <a:pt x="38" y="67"/>
                            </a:lnTo>
                            <a:lnTo>
                              <a:pt x="35" y="70"/>
                            </a:lnTo>
                            <a:lnTo>
                              <a:pt x="31" y="73"/>
                            </a:lnTo>
                            <a:lnTo>
                              <a:pt x="26" y="77"/>
                            </a:lnTo>
                            <a:lnTo>
                              <a:pt x="22" y="80"/>
                            </a:lnTo>
                            <a:lnTo>
                              <a:pt x="17" y="83"/>
                            </a:lnTo>
                            <a:lnTo>
                              <a:pt x="14" y="85"/>
                            </a:lnTo>
                            <a:lnTo>
                              <a:pt x="9" y="89"/>
                            </a:lnTo>
                            <a:lnTo>
                              <a:pt x="5" y="92"/>
                            </a:lnTo>
                            <a:lnTo>
                              <a:pt x="0" y="96"/>
                            </a:lnTo>
                            <a:lnTo>
                              <a:pt x="5" y="94"/>
                            </a:lnTo>
                            <a:lnTo>
                              <a:pt x="9" y="91"/>
                            </a:lnTo>
                            <a:lnTo>
                              <a:pt x="14" y="88"/>
                            </a:lnTo>
                            <a:lnTo>
                              <a:pt x="19" y="85"/>
                            </a:lnTo>
                            <a:lnTo>
                              <a:pt x="23" y="83"/>
                            </a:lnTo>
                            <a:lnTo>
                              <a:pt x="28" y="81"/>
                            </a:lnTo>
                            <a:lnTo>
                              <a:pt x="32" y="78"/>
                            </a:lnTo>
                            <a:lnTo>
                              <a:pt x="37" y="76"/>
                            </a:lnTo>
                            <a:lnTo>
                              <a:pt x="42" y="73"/>
                            </a:lnTo>
                            <a:lnTo>
                              <a:pt x="46" y="70"/>
                            </a:lnTo>
                            <a:lnTo>
                              <a:pt x="51" y="67"/>
                            </a:lnTo>
                            <a:lnTo>
                              <a:pt x="55" y="65"/>
                            </a:lnTo>
                            <a:lnTo>
                              <a:pt x="60" y="61"/>
                            </a:lnTo>
                            <a:lnTo>
                              <a:pt x="64" y="58"/>
                            </a:lnTo>
                            <a:lnTo>
                              <a:pt x="71" y="55"/>
                            </a:lnTo>
                            <a:lnTo>
                              <a:pt x="75" y="52"/>
                            </a:lnTo>
                            <a:lnTo>
                              <a:pt x="80" y="48"/>
                            </a:lnTo>
                            <a:lnTo>
                              <a:pt x="84" y="46"/>
                            </a:lnTo>
                            <a:lnTo>
                              <a:pt x="89" y="43"/>
                            </a:lnTo>
                            <a:lnTo>
                              <a:pt x="94" y="40"/>
                            </a:lnTo>
                            <a:lnTo>
                              <a:pt x="98" y="36"/>
                            </a:lnTo>
                            <a:lnTo>
                              <a:pt x="103" y="33"/>
                            </a:lnTo>
                            <a:lnTo>
                              <a:pt x="107" y="29"/>
                            </a:lnTo>
                            <a:lnTo>
                              <a:pt x="112" y="26"/>
                            </a:lnTo>
                            <a:lnTo>
                              <a:pt x="115" y="24"/>
                            </a:lnTo>
                            <a:lnTo>
                              <a:pt x="120" y="19"/>
                            </a:lnTo>
                            <a:lnTo>
                              <a:pt x="124" y="17"/>
                            </a:lnTo>
                            <a:lnTo>
                              <a:pt x="127" y="13"/>
                            </a:lnTo>
                            <a:lnTo>
                              <a:pt x="132" y="10"/>
                            </a:lnTo>
                            <a:lnTo>
                              <a:pt x="136" y="7"/>
                            </a:lnTo>
                            <a:lnTo>
                              <a:pt x="141" y="3"/>
                            </a:lnTo>
                            <a:lnTo>
                              <a:pt x="14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Freeform 218"/>
                      <p:cNvSpPr/>
                      <p:nvPr/>
                    </p:nvSpPr>
                    <p:spPr>
                      <a:xfrm>
                        <a:off x="3163680" y="2896560"/>
                        <a:ext cx="19440" cy="55440"/>
                      </a:xfrm>
                      <a:custGeom>
                        <a:avLst/>
                        <a:gdLst>
                          <a:gd name="textAreaLeft" fmla="*/ 0 w 19440"/>
                          <a:gd name="textAreaRight" fmla="*/ 19440 w 1944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214" h="551">
                            <a:moveTo>
                              <a:pt x="1" y="0"/>
                            </a:moveTo>
                            <a:lnTo>
                              <a:pt x="1" y="2"/>
                            </a:lnTo>
                            <a:lnTo>
                              <a:pt x="0" y="4"/>
                            </a:lnTo>
                            <a:lnTo>
                              <a:pt x="0" y="7"/>
                            </a:lnTo>
                            <a:lnTo>
                              <a:pt x="0" y="10"/>
                            </a:lnTo>
                            <a:lnTo>
                              <a:pt x="0" y="14"/>
                            </a:lnTo>
                            <a:lnTo>
                              <a:pt x="0" y="17"/>
                            </a:lnTo>
                            <a:lnTo>
                              <a:pt x="0" y="22"/>
                            </a:lnTo>
                            <a:lnTo>
                              <a:pt x="1" y="26"/>
                            </a:lnTo>
                            <a:lnTo>
                              <a:pt x="1" y="32"/>
                            </a:lnTo>
                            <a:lnTo>
                              <a:pt x="1" y="36"/>
                            </a:lnTo>
                            <a:lnTo>
                              <a:pt x="3" y="42"/>
                            </a:lnTo>
                            <a:lnTo>
                              <a:pt x="3" y="47"/>
                            </a:lnTo>
                            <a:lnTo>
                              <a:pt x="5" y="52"/>
                            </a:lnTo>
                            <a:lnTo>
                              <a:pt x="5" y="58"/>
                            </a:lnTo>
                            <a:lnTo>
                              <a:pt x="5" y="63"/>
                            </a:lnTo>
                            <a:lnTo>
                              <a:pt x="6" y="69"/>
                            </a:lnTo>
                            <a:lnTo>
                              <a:pt x="6" y="74"/>
                            </a:lnTo>
                            <a:lnTo>
                              <a:pt x="8" y="80"/>
                            </a:lnTo>
                            <a:lnTo>
                              <a:pt x="8" y="84"/>
                            </a:lnTo>
                            <a:lnTo>
                              <a:pt x="9" y="91"/>
                            </a:lnTo>
                            <a:lnTo>
                              <a:pt x="9" y="95"/>
                            </a:lnTo>
                            <a:lnTo>
                              <a:pt x="11" y="101"/>
                            </a:lnTo>
                            <a:lnTo>
                              <a:pt x="11" y="105"/>
                            </a:lnTo>
                            <a:lnTo>
                              <a:pt x="11" y="109"/>
                            </a:lnTo>
                            <a:lnTo>
                              <a:pt x="11" y="113"/>
                            </a:lnTo>
                            <a:lnTo>
                              <a:pt x="12" y="116"/>
                            </a:lnTo>
                            <a:lnTo>
                              <a:pt x="12" y="118"/>
                            </a:lnTo>
                            <a:lnTo>
                              <a:pt x="14" y="122"/>
                            </a:lnTo>
                            <a:lnTo>
                              <a:pt x="14" y="127"/>
                            </a:lnTo>
                            <a:lnTo>
                              <a:pt x="14" y="129"/>
                            </a:lnTo>
                            <a:lnTo>
                              <a:pt x="14" y="132"/>
                            </a:lnTo>
                            <a:lnTo>
                              <a:pt x="14" y="136"/>
                            </a:lnTo>
                            <a:lnTo>
                              <a:pt x="15" y="140"/>
                            </a:lnTo>
                            <a:lnTo>
                              <a:pt x="15" y="144"/>
                            </a:lnTo>
                            <a:lnTo>
                              <a:pt x="15" y="149"/>
                            </a:lnTo>
                            <a:lnTo>
                              <a:pt x="17" y="153"/>
                            </a:lnTo>
                            <a:lnTo>
                              <a:pt x="17" y="155"/>
                            </a:lnTo>
                            <a:lnTo>
                              <a:pt x="18" y="160"/>
                            </a:lnTo>
                            <a:lnTo>
                              <a:pt x="18" y="162"/>
                            </a:lnTo>
                            <a:lnTo>
                              <a:pt x="18" y="165"/>
                            </a:lnTo>
                            <a:lnTo>
                              <a:pt x="18" y="166"/>
                            </a:lnTo>
                            <a:lnTo>
                              <a:pt x="18" y="168"/>
                            </a:lnTo>
                            <a:lnTo>
                              <a:pt x="17" y="168"/>
                            </a:lnTo>
                            <a:lnTo>
                              <a:pt x="15" y="166"/>
                            </a:lnTo>
                            <a:lnTo>
                              <a:pt x="14" y="165"/>
                            </a:lnTo>
                            <a:lnTo>
                              <a:pt x="12" y="161"/>
                            </a:lnTo>
                            <a:lnTo>
                              <a:pt x="14" y="551"/>
                            </a:lnTo>
                            <a:lnTo>
                              <a:pt x="214" y="551"/>
                            </a:lnTo>
                            <a:lnTo>
                              <a:pt x="210" y="84"/>
                            </a:lnTo>
                            <a:lnTo>
                              <a:pt x="210" y="79"/>
                            </a:lnTo>
                            <a:lnTo>
                              <a:pt x="210" y="74"/>
                            </a:lnTo>
                            <a:lnTo>
                              <a:pt x="210" y="69"/>
                            </a:lnTo>
                            <a:lnTo>
                              <a:pt x="210" y="65"/>
                            </a:lnTo>
                            <a:lnTo>
                              <a:pt x="210" y="59"/>
                            </a:lnTo>
                            <a:lnTo>
                              <a:pt x="210" y="57"/>
                            </a:lnTo>
                            <a:lnTo>
                              <a:pt x="210" y="51"/>
                            </a:lnTo>
                            <a:lnTo>
                              <a:pt x="210" y="47"/>
                            </a:lnTo>
                            <a:lnTo>
                              <a:pt x="210" y="42"/>
                            </a:lnTo>
                            <a:lnTo>
                              <a:pt x="210" y="39"/>
                            </a:lnTo>
                            <a:lnTo>
                              <a:pt x="210" y="33"/>
                            </a:lnTo>
                            <a:lnTo>
                              <a:pt x="210" y="29"/>
                            </a:lnTo>
                            <a:lnTo>
                              <a:pt x="210" y="24"/>
                            </a:lnTo>
                            <a:lnTo>
                              <a:pt x="210" y="20"/>
                            </a:lnTo>
                            <a:lnTo>
                              <a:pt x="210" y="15"/>
                            </a:lnTo>
                            <a:lnTo>
                              <a:pt x="210" y="11"/>
                            </a:lnTo>
                            <a:lnTo>
                              <a:pt x="202" y="15"/>
                            </a:lnTo>
                            <a:lnTo>
                              <a:pt x="200" y="20"/>
                            </a:lnTo>
                            <a:lnTo>
                              <a:pt x="200" y="22"/>
                            </a:lnTo>
                            <a:lnTo>
                              <a:pt x="200" y="26"/>
                            </a:lnTo>
                            <a:lnTo>
                              <a:pt x="200" y="31"/>
                            </a:lnTo>
                            <a:lnTo>
                              <a:pt x="200" y="35"/>
                            </a:lnTo>
                            <a:lnTo>
                              <a:pt x="200" y="39"/>
                            </a:lnTo>
                            <a:lnTo>
                              <a:pt x="200" y="43"/>
                            </a:lnTo>
                            <a:lnTo>
                              <a:pt x="200" y="47"/>
                            </a:lnTo>
                            <a:lnTo>
                              <a:pt x="200" y="51"/>
                            </a:lnTo>
                            <a:lnTo>
                              <a:pt x="200" y="54"/>
                            </a:lnTo>
                            <a:lnTo>
                              <a:pt x="200" y="58"/>
                            </a:lnTo>
                            <a:lnTo>
                              <a:pt x="202" y="62"/>
                            </a:lnTo>
                            <a:lnTo>
                              <a:pt x="202" y="66"/>
                            </a:lnTo>
                            <a:lnTo>
                              <a:pt x="202" y="69"/>
                            </a:lnTo>
                            <a:lnTo>
                              <a:pt x="203" y="73"/>
                            </a:lnTo>
                            <a:lnTo>
                              <a:pt x="203" y="77"/>
                            </a:lnTo>
                            <a:lnTo>
                              <a:pt x="203" y="79"/>
                            </a:lnTo>
                            <a:lnTo>
                              <a:pt x="203" y="81"/>
                            </a:lnTo>
                            <a:lnTo>
                              <a:pt x="202" y="84"/>
                            </a:lnTo>
                            <a:lnTo>
                              <a:pt x="202" y="85"/>
                            </a:lnTo>
                            <a:lnTo>
                              <a:pt x="200" y="80"/>
                            </a:lnTo>
                            <a:lnTo>
                              <a:pt x="200" y="74"/>
                            </a:lnTo>
                            <a:lnTo>
                              <a:pt x="199" y="69"/>
                            </a:lnTo>
                            <a:lnTo>
                              <a:pt x="199" y="63"/>
                            </a:lnTo>
                            <a:lnTo>
                              <a:pt x="199" y="58"/>
                            </a:lnTo>
                            <a:lnTo>
                              <a:pt x="197" y="52"/>
                            </a:lnTo>
                            <a:lnTo>
                              <a:pt x="197" y="47"/>
                            </a:lnTo>
                            <a:lnTo>
                              <a:pt x="196" y="42"/>
                            </a:lnTo>
                            <a:lnTo>
                              <a:pt x="194" y="43"/>
                            </a:lnTo>
                            <a:lnTo>
                              <a:pt x="194" y="47"/>
                            </a:lnTo>
                            <a:lnTo>
                              <a:pt x="194" y="50"/>
                            </a:lnTo>
                            <a:lnTo>
                              <a:pt x="194" y="52"/>
                            </a:lnTo>
                            <a:lnTo>
                              <a:pt x="194" y="57"/>
                            </a:lnTo>
                            <a:lnTo>
                              <a:pt x="194" y="61"/>
                            </a:lnTo>
                            <a:lnTo>
                              <a:pt x="194" y="63"/>
                            </a:lnTo>
                            <a:lnTo>
                              <a:pt x="194" y="69"/>
                            </a:lnTo>
                            <a:lnTo>
                              <a:pt x="194" y="73"/>
                            </a:lnTo>
                            <a:lnTo>
                              <a:pt x="194" y="79"/>
                            </a:lnTo>
                            <a:lnTo>
                              <a:pt x="194" y="83"/>
                            </a:lnTo>
                            <a:lnTo>
                              <a:pt x="194" y="88"/>
                            </a:lnTo>
                            <a:lnTo>
                              <a:pt x="194" y="94"/>
                            </a:lnTo>
                            <a:lnTo>
                              <a:pt x="196" y="99"/>
                            </a:lnTo>
                            <a:lnTo>
                              <a:pt x="196" y="103"/>
                            </a:lnTo>
                            <a:lnTo>
                              <a:pt x="196" y="109"/>
                            </a:lnTo>
                            <a:lnTo>
                              <a:pt x="196" y="113"/>
                            </a:lnTo>
                            <a:lnTo>
                              <a:pt x="196" y="117"/>
                            </a:lnTo>
                            <a:lnTo>
                              <a:pt x="196" y="121"/>
                            </a:lnTo>
                            <a:lnTo>
                              <a:pt x="196" y="125"/>
                            </a:lnTo>
                            <a:lnTo>
                              <a:pt x="196" y="129"/>
                            </a:lnTo>
                            <a:lnTo>
                              <a:pt x="196" y="133"/>
                            </a:lnTo>
                            <a:lnTo>
                              <a:pt x="196" y="138"/>
                            </a:lnTo>
                            <a:lnTo>
                              <a:pt x="196" y="140"/>
                            </a:lnTo>
                            <a:lnTo>
                              <a:pt x="194" y="142"/>
                            </a:lnTo>
                            <a:lnTo>
                              <a:pt x="194" y="140"/>
                            </a:lnTo>
                            <a:lnTo>
                              <a:pt x="193" y="135"/>
                            </a:lnTo>
                            <a:lnTo>
                              <a:pt x="193" y="128"/>
                            </a:lnTo>
                            <a:lnTo>
                              <a:pt x="193" y="122"/>
                            </a:lnTo>
                            <a:lnTo>
                              <a:pt x="193" y="118"/>
                            </a:lnTo>
                            <a:lnTo>
                              <a:pt x="193" y="112"/>
                            </a:lnTo>
                            <a:lnTo>
                              <a:pt x="191" y="106"/>
                            </a:lnTo>
                            <a:lnTo>
                              <a:pt x="191" y="101"/>
                            </a:lnTo>
                            <a:lnTo>
                              <a:pt x="191" y="95"/>
                            </a:lnTo>
                            <a:lnTo>
                              <a:pt x="190" y="92"/>
                            </a:lnTo>
                            <a:lnTo>
                              <a:pt x="190" y="88"/>
                            </a:lnTo>
                            <a:lnTo>
                              <a:pt x="190" y="85"/>
                            </a:lnTo>
                            <a:lnTo>
                              <a:pt x="190" y="84"/>
                            </a:lnTo>
                            <a:lnTo>
                              <a:pt x="188" y="79"/>
                            </a:lnTo>
                            <a:lnTo>
                              <a:pt x="188" y="73"/>
                            </a:lnTo>
                            <a:lnTo>
                              <a:pt x="188" y="69"/>
                            </a:lnTo>
                            <a:lnTo>
                              <a:pt x="188" y="63"/>
                            </a:lnTo>
                            <a:lnTo>
                              <a:pt x="188" y="59"/>
                            </a:lnTo>
                            <a:lnTo>
                              <a:pt x="188" y="55"/>
                            </a:lnTo>
                            <a:lnTo>
                              <a:pt x="188" y="50"/>
                            </a:lnTo>
                            <a:lnTo>
                              <a:pt x="188" y="46"/>
                            </a:lnTo>
                            <a:lnTo>
                              <a:pt x="188" y="40"/>
                            </a:lnTo>
                            <a:lnTo>
                              <a:pt x="190" y="36"/>
                            </a:lnTo>
                            <a:lnTo>
                              <a:pt x="190" y="31"/>
                            </a:lnTo>
                            <a:lnTo>
                              <a:pt x="190" y="25"/>
                            </a:lnTo>
                            <a:lnTo>
                              <a:pt x="190" y="20"/>
                            </a:lnTo>
                            <a:lnTo>
                              <a:pt x="190" y="14"/>
                            </a:lnTo>
                            <a:lnTo>
                              <a:pt x="171" y="14"/>
                            </a:lnTo>
                            <a:lnTo>
                              <a:pt x="171" y="17"/>
                            </a:lnTo>
                            <a:lnTo>
                              <a:pt x="171" y="21"/>
                            </a:lnTo>
                            <a:lnTo>
                              <a:pt x="171" y="25"/>
                            </a:lnTo>
                            <a:lnTo>
                              <a:pt x="171" y="29"/>
                            </a:lnTo>
                            <a:lnTo>
                              <a:pt x="171" y="32"/>
                            </a:lnTo>
                            <a:lnTo>
                              <a:pt x="171" y="36"/>
                            </a:lnTo>
                            <a:lnTo>
                              <a:pt x="171" y="40"/>
                            </a:lnTo>
                            <a:lnTo>
                              <a:pt x="171" y="44"/>
                            </a:lnTo>
                            <a:lnTo>
                              <a:pt x="171" y="47"/>
                            </a:lnTo>
                            <a:lnTo>
                              <a:pt x="171" y="52"/>
                            </a:lnTo>
                            <a:lnTo>
                              <a:pt x="171" y="55"/>
                            </a:lnTo>
                            <a:lnTo>
                              <a:pt x="171" y="59"/>
                            </a:lnTo>
                            <a:lnTo>
                              <a:pt x="171" y="63"/>
                            </a:lnTo>
                            <a:lnTo>
                              <a:pt x="171" y="68"/>
                            </a:lnTo>
                            <a:lnTo>
                              <a:pt x="171" y="72"/>
                            </a:lnTo>
                            <a:lnTo>
                              <a:pt x="173" y="76"/>
                            </a:lnTo>
                            <a:lnTo>
                              <a:pt x="173" y="79"/>
                            </a:lnTo>
                            <a:lnTo>
                              <a:pt x="173" y="83"/>
                            </a:lnTo>
                            <a:lnTo>
                              <a:pt x="173" y="87"/>
                            </a:lnTo>
                            <a:lnTo>
                              <a:pt x="173" y="91"/>
                            </a:lnTo>
                            <a:lnTo>
                              <a:pt x="173" y="94"/>
                            </a:lnTo>
                            <a:lnTo>
                              <a:pt x="174" y="98"/>
                            </a:lnTo>
                            <a:lnTo>
                              <a:pt x="174" y="102"/>
                            </a:lnTo>
                            <a:lnTo>
                              <a:pt x="174" y="106"/>
                            </a:lnTo>
                            <a:lnTo>
                              <a:pt x="174" y="109"/>
                            </a:lnTo>
                            <a:lnTo>
                              <a:pt x="174" y="113"/>
                            </a:lnTo>
                            <a:lnTo>
                              <a:pt x="174" y="116"/>
                            </a:lnTo>
                            <a:lnTo>
                              <a:pt x="174" y="120"/>
                            </a:lnTo>
                            <a:lnTo>
                              <a:pt x="174" y="124"/>
                            </a:lnTo>
                            <a:lnTo>
                              <a:pt x="176" y="127"/>
                            </a:lnTo>
                            <a:lnTo>
                              <a:pt x="176" y="131"/>
                            </a:lnTo>
                            <a:lnTo>
                              <a:pt x="176" y="133"/>
                            </a:lnTo>
                            <a:lnTo>
                              <a:pt x="176" y="136"/>
                            </a:lnTo>
                            <a:lnTo>
                              <a:pt x="176" y="139"/>
                            </a:lnTo>
                            <a:lnTo>
                              <a:pt x="176" y="143"/>
                            </a:lnTo>
                            <a:lnTo>
                              <a:pt x="176" y="149"/>
                            </a:lnTo>
                            <a:lnTo>
                              <a:pt x="176" y="153"/>
                            </a:lnTo>
                            <a:lnTo>
                              <a:pt x="176" y="160"/>
                            </a:lnTo>
                            <a:lnTo>
                              <a:pt x="176" y="162"/>
                            </a:lnTo>
                            <a:lnTo>
                              <a:pt x="176" y="165"/>
                            </a:lnTo>
                            <a:lnTo>
                              <a:pt x="176" y="168"/>
                            </a:lnTo>
                            <a:lnTo>
                              <a:pt x="176" y="172"/>
                            </a:lnTo>
                            <a:lnTo>
                              <a:pt x="176" y="177"/>
                            </a:lnTo>
                            <a:lnTo>
                              <a:pt x="176" y="183"/>
                            </a:lnTo>
                            <a:lnTo>
                              <a:pt x="174" y="187"/>
                            </a:lnTo>
                            <a:lnTo>
                              <a:pt x="174" y="192"/>
                            </a:lnTo>
                            <a:lnTo>
                              <a:pt x="174" y="198"/>
                            </a:lnTo>
                            <a:lnTo>
                              <a:pt x="173" y="202"/>
                            </a:lnTo>
                            <a:lnTo>
                              <a:pt x="171" y="205"/>
                            </a:lnTo>
                            <a:lnTo>
                              <a:pt x="171" y="206"/>
                            </a:lnTo>
                            <a:lnTo>
                              <a:pt x="170" y="201"/>
                            </a:lnTo>
                            <a:lnTo>
                              <a:pt x="170" y="195"/>
                            </a:lnTo>
                            <a:lnTo>
                              <a:pt x="168" y="188"/>
                            </a:lnTo>
                            <a:lnTo>
                              <a:pt x="168" y="183"/>
                            </a:lnTo>
                            <a:lnTo>
                              <a:pt x="168" y="180"/>
                            </a:lnTo>
                            <a:lnTo>
                              <a:pt x="168" y="177"/>
                            </a:lnTo>
                            <a:lnTo>
                              <a:pt x="167" y="173"/>
                            </a:lnTo>
                            <a:lnTo>
                              <a:pt x="167" y="171"/>
                            </a:lnTo>
                            <a:lnTo>
                              <a:pt x="167" y="165"/>
                            </a:lnTo>
                            <a:lnTo>
                              <a:pt x="167" y="160"/>
                            </a:lnTo>
                            <a:lnTo>
                              <a:pt x="167" y="155"/>
                            </a:lnTo>
                            <a:lnTo>
                              <a:pt x="167" y="153"/>
                            </a:lnTo>
                            <a:lnTo>
                              <a:pt x="167" y="149"/>
                            </a:lnTo>
                            <a:lnTo>
                              <a:pt x="167" y="146"/>
                            </a:lnTo>
                            <a:lnTo>
                              <a:pt x="167" y="143"/>
                            </a:lnTo>
                            <a:lnTo>
                              <a:pt x="167" y="140"/>
                            </a:lnTo>
                            <a:lnTo>
                              <a:pt x="167" y="136"/>
                            </a:lnTo>
                            <a:lnTo>
                              <a:pt x="167" y="133"/>
                            </a:lnTo>
                            <a:lnTo>
                              <a:pt x="167" y="131"/>
                            </a:lnTo>
                            <a:lnTo>
                              <a:pt x="167" y="128"/>
                            </a:lnTo>
                            <a:lnTo>
                              <a:pt x="167" y="124"/>
                            </a:lnTo>
                            <a:lnTo>
                              <a:pt x="167" y="121"/>
                            </a:lnTo>
                            <a:lnTo>
                              <a:pt x="167" y="118"/>
                            </a:lnTo>
                            <a:lnTo>
                              <a:pt x="167" y="116"/>
                            </a:lnTo>
                            <a:lnTo>
                              <a:pt x="167" y="112"/>
                            </a:lnTo>
                            <a:lnTo>
                              <a:pt x="168" y="109"/>
                            </a:lnTo>
                            <a:lnTo>
                              <a:pt x="168" y="106"/>
                            </a:lnTo>
                            <a:lnTo>
                              <a:pt x="168" y="102"/>
                            </a:lnTo>
                            <a:lnTo>
                              <a:pt x="168" y="99"/>
                            </a:lnTo>
                            <a:lnTo>
                              <a:pt x="168" y="95"/>
                            </a:lnTo>
                            <a:lnTo>
                              <a:pt x="168" y="92"/>
                            </a:lnTo>
                            <a:lnTo>
                              <a:pt x="168" y="90"/>
                            </a:lnTo>
                            <a:lnTo>
                              <a:pt x="168" y="85"/>
                            </a:lnTo>
                            <a:lnTo>
                              <a:pt x="168" y="83"/>
                            </a:lnTo>
                            <a:lnTo>
                              <a:pt x="168" y="80"/>
                            </a:lnTo>
                            <a:lnTo>
                              <a:pt x="168" y="76"/>
                            </a:lnTo>
                            <a:lnTo>
                              <a:pt x="168" y="73"/>
                            </a:lnTo>
                            <a:lnTo>
                              <a:pt x="168" y="70"/>
                            </a:lnTo>
                            <a:lnTo>
                              <a:pt x="168" y="66"/>
                            </a:lnTo>
                            <a:lnTo>
                              <a:pt x="168" y="63"/>
                            </a:lnTo>
                            <a:lnTo>
                              <a:pt x="168" y="61"/>
                            </a:lnTo>
                            <a:lnTo>
                              <a:pt x="168" y="58"/>
                            </a:lnTo>
                            <a:lnTo>
                              <a:pt x="167" y="54"/>
                            </a:lnTo>
                            <a:lnTo>
                              <a:pt x="167" y="51"/>
                            </a:lnTo>
                            <a:lnTo>
                              <a:pt x="167" y="48"/>
                            </a:lnTo>
                            <a:lnTo>
                              <a:pt x="167" y="46"/>
                            </a:lnTo>
                            <a:lnTo>
                              <a:pt x="167" y="39"/>
                            </a:lnTo>
                            <a:lnTo>
                              <a:pt x="167" y="33"/>
                            </a:lnTo>
                            <a:lnTo>
                              <a:pt x="165" y="28"/>
                            </a:lnTo>
                            <a:lnTo>
                              <a:pt x="165" y="22"/>
                            </a:lnTo>
                            <a:lnTo>
                              <a:pt x="165" y="17"/>
                            </a:lnTo>
                            <a:lnTo>
                              <a:pt x="164" y="11"/>
                            </a:lnTo>
                            <a:lnTo>
                              <a:pt x="162" y="10"/>
                            </a:lnTo>
                            <a:lnTo>
                              <a:pt x="161" y="14"/>
                            </a:lnTo>
                            <a:lnTo>
                              <a:pt x="157" y="17"/>
                            </a:lnTo>
                            <a:lnTo>
                              <a:pt x="156" y="18"/>
                            </a:lnTo>
                            <a:lnTo>
                              <a:pt x="154" y="20"/>
                            </a:lnTo>
                            <a:lnTo>
                              <a:pt x="154" y="22"/>
                            </a:lnTo>
                            <a:lnTo>
                              <a:pt x="153" y="26"/>
                            </a:lnTo>
                            <a:lnTo>
                              <a:pt x="153" y="29"/>
                            </a:lnTo>
                            <a:lnTo>
                              <a:pt x="153" y="32"/>
                            </a:lnTo>
                            <a:lnTo>
                              <a:pt x="153" y="36"/>
                            </a:lnTo>
                            <a:lnTo>
                              <a:pt x="153" y="39"/>
                            </a:lnTo>
                            <a:lnTo>
                              <a:pt x="153" y="43"/>
                            </a:lnTo>
                            <a:lnTo>
                              <a:pt x="156" y="105"/>
                            </a:lnTo>
                            <a:lnTo>
                              <a:pt x="156" y="109"/>
                            </a:lnTo>
                            <a:lnTo>
                              <a:pt x="156" y="114"/>
                            </a:lnTo>
                            <a:lnTo>
                              <a:pt x="156" y="120"/>
                            </a:lnTo>
                            <a:lnTo>
                              <a:pt x="156" y="125"/>
                            </a:lnTo>
                            <a:lnTo>
                              <a:pt x="156" y="129"/>
                            </a:lnTo>
                            <a:lnTo>
                              <a:pt x="156" y="135"/>
                            </a:lnTo>
                            <a:lnTo>
                              <a:pt x="156" y="140"/>
                            </a:lnTo>
                            <a:lnTo>
                              <a:pt x="156" y="144"/>
                            </a:lnTo>
                            <a:lnTo>
                              <a:pt x="154" y="150"/>
                            </a:lnTo>
                            <a:lnTo>
                              <a:pt x="154" y="155"/>
                            </a:lnTo>
                            <a:lnTo>
                              <a:pt x="154" y="160"/>
                            </a:lnTo>
                            <a:lnTo>
                              <a:pt x="154" y="165"/>
                            </a:lnTo>
                            <a:lnTo>
                              <a:pt x="153" y="171"/>
                            </a:lnTo>
                            <a:lnTo>
                              <a:pt x="153" y="175"/>
                            </a:lnTo>
                            <a:lnTo>
                              <a:pt x="153" y="180"/>
                            </a:lnTo>
                            <a:lnTo>
                              <a:pt x="153" y="186"/>
                            </a:lnTo>
                            <a:lnTo>
                              <a:pt x="153" y="512"/>
                            </a:lnTo>
                            <a:lnTo>
                              <a:pt x="78" y="515"/>
                            </a:lnTo>
                            <a:lnTo>
                              <a:pt x="73" y="66"/>
                            </a:lnTo>
                            <a:lnTo>
                              <a:pt x="72" y="62"/>
                            </a:lnTo>
                            <a:lnTo>
                              <a:pt x="72" y="59"/>
                            </a:lnTo>
                            <a:lnTo>
                              <a:pt x="72" y="57"/>
                            </a:lnTo>
                            <a:lnTo>
                              <a:pt x="72" y="54"/>
                            </a:lnTo>
                            <a:lnTo>
                              <a:pt x="70" y="50"/>
                            </a:lnTo>
                            <a:lnTo>
                              <a:pt x="70" y="47"/>
                            </a:lnTo>
                            <a:lnTo>
                              <a:pt x="69" y="43"/>
                            </a:lnTo>
                            <a:lnTo>
                              <a:pt x="69" y="40"/>
                            </a:lnTo>
                            <a:lnTo>
                              <a:pt x="69" y="37"/>
                            </a:lnTo>
                            <a:lnTo>
                              <a:pt x="69" y="33"/>
                            </a:lnTo>
                            <a:lnTo>
                              <a:pt x="67" y="31"/>
                            </a:lnTo>
                            <a:lnTo>
                              <a:pt x="67" y="28"/>
                            </a:lnTo>
                            <a:lnTo>
                              <a:pt x="66" y="21"/>
                            </a:lnTo>
                            <a:lnTo>
                              <a:pt x="66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9" name="Freeform 219"/>
                      <p:cNvSpPr/>
                      <p:nvPr/>
                    </p:nvSpPr>
                    <p:spPr>
                      <a:xfrm>
                        <a:off x="3116880" y="2929320"/>
                        <a:ext cx="1080" cy="17640"/>
                      </a:xfrm>
                      <a:custGeom>
                        <a:avLst/>
                        <a:gdLst>
                          <a:gd name="textAreaLeft" fmla="*/ 0 w 1080"/>
                          <a:gd name="textAreaRight" fmla="*/ 1440 w 1080"/>
                          <a:gd name="textAreaTop" fmla="*/ 0 h 17640"/>
                          <a:gd name="textAreaBottom" fmla="*/ 18000 h 17640"/>
                        </a:gdLst>
                        <a:ahLst/>
                        <a:rect l="textAreaLeft" t="textAreaTop" r="textAreaRight" b="textAreaBottom"/>
                        <a:pathLst>
                          <a:path w="12" h="178">
                            <a:moveTo>
                              <a:pt x="4" y="176"/>
                            </a:moveTo>
                            <a:lnTo>
                              <a:pt x="7" y="178"/>
                            </a:lnTo>
                            <a:lnTo>
                              <a:pt x="9" y="176"/>
                            </a:lnTo>
                            <a:lnTo>
                              <a:pt x="9" y="175"/>
                            </a:lnTo>
                            <a:lnTo>
                              <a:pt x="9" y="172"/>
                            </a:lnTo>
                            <a:lnTo>
                              <a:pt x="9" y="167"/>
                            </a:lnTo>
                            <a:lnTo>
                              <a:pt x="9" y="161"/>
                            </a:lnTo>
                            <a:lnTo>
                              <a:pt x="9" y="156"/>
                            </a:lnTo>
                            <a:lnTo>
                              <a:pt x="9" y="150"/>
                            </a:lnTo>
                            <a:lnTo>
                              <a:pt x="9" y="145"/>
                            </a:lnTo>
                            <a:lnTo>
                              <a:pt x="9" y="139"/>
                            </a:lnTo>
                            <a:lnTo>
                              <a:pt x="9" y="134"/>
                            </a:lnTo>
                            <a:lnTo>
                              <a:pt x="10" y="129"/>
                            </a:lnTo>
                            <a:lnTo>
                              <a:pt x="10" y="124"/>
                            </a:lnTo>
                            <a:lnTo>
                              <a:pt x="10" y="118"/>
                            </a:lnTo>
                            <a:lnTo>
                              <a:pt x="10" y="112"/>
                            </a:lnTo>
                            <a:lnTo>
                              <a:pt x="10" y="108"/>
                            </a:lnTo>
                            <a:lnTo>
                              <a:pt x="10" y="102"/>
                            </a:lnTo>
                            <a:lnTo>
                              <a:pt x="10" y="97"/>
                            </a:lnTo>
                            <a:lnTo>
                              <a:pt x="10" y="91"/>
                            </a:lnTo>
                            <a:lnTo>
                              <a:pt x="12" y="86"/>
                            </a:lnTo>
                            <a:lnTo>
                              <a:pt x="12" y="80"/>
                            </a:lnTo>
                            <a:lnTo>
                              <a:pt x="12" y="75"/>
                            </a:lnTo>
                            <a:lnTo>
                              <a:pt x="12" y="69"/>
                            </a:lnTo>
                            <a:lnTo>
                              <a:pt x="12" y="64"/>
                            </a:lnTo>
                            <a:lnTo>
                              <a:pt x="12" y="58"/>
                            </a:lnTo>
                            <a:lnTo>
                              <a:pt x="12" y="53"/>
                            </a:lnTo>
                            <a:lnTo>
                              <a:pt x="12" y="47"/>
                            </a:lnTo>
                            <a:lnTo>
                              <a:pt x="12" y="43"/>
                            </a:lnTo>
                            <a:lnTo>
                              <a:pt x="12" y="38"/>
                            </a:lnTo>
                            <a:lnTo>
                              <a:pt x="12" y="31"/>
                            </a:lnTo>
                            <a:lnTo>
                              <a:pt x="12" y="25"/>
                            </a:lnTo>
                            <a:lnTo>
                              <a:pt x="12" y="21"/>
                            </a:lnTo>
                            <a:lnTo>
                              <a:pt x="12" y="16"/>
                            </a:lnTo>
                            <a:lnTo>
                              <a:pt x="12" y="10"/>
                            </a:lnTo>
                            <a:lnTo>
                              <a:pt x="12" y="5"/>
                            </a:lnTo>
                            <a:lnTo>
                              <a:pt x="12" y="0"/>
                            </a:lnTo>
                            <a:lnTo>
                              <a:pt x="12" y="5"/>
                            </a:lnTo>
                            <a:lnTo>
                              <a:pt x="10" y="9"/>
                            </a:lnTo>
                            <a:lnTo>
                              <a:pt x="9" y="11"/>
                            </a:lnTo>
                            <a:lnTo>
                              <a:pt x="9" y="16"/>
                            </a:lnTo>
                            <a:lnTo>
                              <a:pt x="9" y="18"/>
                            </a:lnTo>
                            <a:lnTo>
                              <a:pt x="9" y="22"/>
                            </a:lnTo>
                            <a:lnTo>
                              <a:pt x="9" y="28"/>
                            </a:lnTo>
                            <a:lnTo>
                              <a:pt x="7" y="29"/>
                            </a:lnTo>
                            <a:lnTo>
                              <a:pt x="7" y="33"/>
                            </a:lnTo>
                            <a:lnTo>
                              <a:pt x="7" y="36"/>
                            </a:lnTo>
                            <a:lnTo>
                              <a:pt x="7" y="40"/>
                            </a:lnTo>
                            <a:lnTo>
                              <a:pt x="6" y="43"/>
                            </a:lnTo>
                            <a:lnTo>
                              <a:pt x="6" y="47"/>
                            </a:lnTo>
                            <a:lnTo>
                              <a:pt x="6" y="51"/>
                            </a:lnTo>
                            <a:lnTo>
                              <a:pt x="6" y="55"/>
                            </a:lnTo>
                            <a:lnTo>
                              <a:pt x="6" y="59"/>
                            </a:lnTo>
                            <a:lnTo>
                              <a:pt x="4" y="62"/>
                            </a:lnTo>
                            <a:lnTo>
                              <a:pt x="4" y="66"/>
                            </a:lnTo>
                            <a:lnTo>
                              <a:pt x="4" y="70"/>
                            </a:lnTo>
                            <a:lnTo>
                              <a:pt x="3" y="73"/>
                            </a:lnTo>
                            <a:lnTo>
                              <a:pt x="3" y="77"/>
                            </a:lnTo>
                            <a:lnTo>
                              <a:pt x="3" y="81"/>
                            </a:lnTo>
                            <a:lnTo>
                              <a:pt x="3" y="84"/>
                            </a:lnTo>
                            <a:lnTo>
                              <a:pt x="1" y="91"/>
                            </a:lnTo>
                            <a:lnTo>
                              <a:pt x="1" y="95"/>
                            </a:lnTo>
                            <a:lnTo>
                              <a:pt x="1" y="99"/>
                            </a:lnTo>
                            <a:lnTo>
                              <a:pt x="1" y="102"/>
                            </a:lnTo>
                            <a:lnTo>
                              <a:pt x="1" y="106"/>
                            </a:lnTo>
                            <a:lnTo>
                              <a:pt x="0" y="110"/>
                            </a:lnTo>
                            <a:lnTo>
                              <a:pt x="0" y="114"/>
                            </a:lnTo>
                            <a:lnTo>
                              <a:pt x="0" y="120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1" y="134"/>
                            </a:lnTo>
                            <a:lnTo>
                              <a:pt x="1" y="139"/>
                            </a:lnTo>
                            <a:lnTo>
                              <a:pt x="1" y="143"/>
                            </a:lnTo>
                            <a:lnTo>
                              <a:pt x="1" y="149"/>
                            </a:lnTo>
                            <a:lnTo>
                              <a:pt x="3" y="153"/>
                            </a:lnTo>
                            <a:lnTo>
                              <a:pt x="3" y="158"/>
                            </a:lnTo>
                            <a:lnTo>
                              <a:pt x="3" y="162"/>
                            </a:lnTo>
                            <a:lnTo>
                              <a:pt x="4" y="168"/>
                            </a:lnTo>
                            <a:lnTo>
                              <a:pt x="4" y="172"/>
                            </a:lnTo>
                            <a:lnTo>
                              <a:pt x="4" y="17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0" name="Freeform 220"/>
                      <p:cNvSpPr/>
                      <p:nvPr/>
                    </p:nvSpPr>
                    <p:spPr>
                      <a:xfrm>
                        <a:off x="3127680" y="2930400"/>
                        <a:ext cx="720" cy="15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5840"/>
                          <a:gd name="textAreaBottom" fmla="*/ 15840 h 15840"/>
                        </a:gdLst>
                        <a:ahLst/>
                        <a:rect l="textAreaLeft" t="textAreaTop" r="textAreaRight" b="textAreaBottom"/>
                        <a:pathLst>
                          <a:path w="12" h="161">
                            <a:moveTo>
                              <a:pt x="12" y="0"/>
                            </a:moveTo>
                            <a:lnTo>
                              <a:pt x="11" y="5"/>
                            </a:lnTo>
                            <a:lnTo>
                              <a:pt x="11" y="10"/>
                            </a:lnTo>
                            <a:lnTo>
                              <a:pt x="9" y="16"/>
                            </a:lnTo>
                            <a:lnTo>
                              <a:pt x="9" y="20"/>
                            </a:lnTo>
                            <a:lnTo>
                              <a:pt x="9" y="25"/>
                            </a:lnTo>
                            <a:lnTo>
                              <a:pt x="9" y="31"/>
                            </a:lnTo>
                            <a:lnTo>
                              <a:pt x="9" y="36"/>
                            </a:lnTo>
                            <a:lnTo>
                              <a:pt x="9" y="40"/>
                            </a:lnTo>
                            <a:lnTo>
                              <a:pt x="9" y="46"/>
                            </a:lnTo>
                            <a:lnTo>
                              <a:pt x="9" y="51"/>
                            </a:lnTo>
                            <a:lnTo>
                              <a:pt x="9" y="55"/>
                            </a:lnTo>
                            <a:lnTo>
                              <a:pt x="9" y="61"/>
                            </a:lnTo>
                            <a:lnTo>
                              <a:pt x="8" y="66"/>
                            </a:lnTo>
                            <a:lnTo>
                              <a:pt x="8" y="70"/>
                            </a:lnTo>
                            <a:lnTo>
                              <a:pt x="8" y="76"/>
                            </a:lnTo>
                            <a:lnTo>
                              <a:pt x="8" y="81"/>
                            </a:lnTo>
                            <a:lnTo>
                              <a:pt x="8" y="86"/>
                            </a:lnTo>
                            <a:lnTo>
                              <a:pt x="8" y="91"/>
                            </a:lnTo>
                            <a:lnTo>
                              <a:pt x="6" y="97"/>
                            </a:lnTo>
                            <a:lnTo>
                              <a:pt x="6" y="101"/>
                            </a:lnTo>
                            <a:lnTo>
                              <a:pt x="6" y="106"/>
                            </a:lnTo>
                            <a:lnTo>
                              <a:pt x="6" y="112"/>
                            </a:lnTo>
                            <a:lnTo>
                              <a:pt x="6" y="116"/>
                            </a:lnTo>
                            <a:lnTo>
                              <a:pt x="6" y="121"/>
                            </a:lnTo>
                            <a:lnTo>
                              <a:pt x="5" y="125"/>
                            </a:lnTo>
                            <a:lnTo>
                              <a:pt x="5" y="131"/>
                            </a:lnTo>
                            <a:lnTo>
                              <a:pt x="3" y="136"/>
                            </a:lnTo>
                            <a:lnTo>
                              <a:pt x="3" y="140"/>
                            </a:lnTo>
                            <a:lnTo>
                              <a:pt x="2" y="146"/>
                            </a:lnTo>
                            <a:lnTo>
                              <a:pt x="2" y="151"/>
                            </a:lnTo>
                            <a:lnTo>
                              <a:pt x="0" y="157"/>
                            </a:lnTo>
                            <a:lnTo>
                              <a:pt x="0" y="161"/>
                            </a:lnTo>
                            <a:lnTo>
                              <a:pt x="0" y="160"/>
                            </a:lnTo>
                            <a:lnTo>
                              <a:pt x="0" y="157"/>
                            </a:lnTo>
                            <a:lnTo>
                              <a:pt x="0" y="153"/>
                            </a:lnTo>
                            <a:lnTo>
                              <a:pt x="0" y="150"/>
                            </a:lnTo>
                            <a:lnTo>
                              <a:pt x="0" y="146"/>
                            </a:lnTo>
                            <a:lnTo>
                              <a:pt x="0" y="140"/>
                            </a:lnTo>
                            <a:lnTo>
                              <a:pt x="0" y="136"/>
                            </a:lnTo>
                            <a:lnTo>
                              <a:pt x="2" y="131"/>
                            </a:lnTo>
                            <a:lnTo>
                              <a:pt x="2" y="128"/>
                            </a:lnTo>
                            <a:lnTo>
                              <a:pt x="2" y="125"/>
                            </a:lnTo>
                            <a:lnTo>
                              <a:pt x="2" y="121"/>
                            </a:lnTo>
                            <a:lnTo>
                              <a:pt x="2" y="118"/>
                            </a:lnTo>
                            <a:lnTo>
                              <a:pt x="2" y="116"/>
                            </a:lnTo>
                            <a:lnTo>
                              <a:pt x="2" y="112"/>
                            </a:lnTo>
                            <a:lnTo>
                              <a:pt x="2" y="109"/>
                            </a:lnTo>
                            <a:lnTo>
                              <a:pt x="2" y="106"/>
                            </a:lnTo>
                            <a:lnTo>
                              <a:pt x="2" y="102"/>
                            </a:lnTo>
                            <a:lnTo>
                              <a:pt x="2" y="98"/>
                            </a:lnTo>
                            <a:lnTo>
                              <a:pt x="2" y="95"/>
                            </a:lnTo>
                            <a:lnTo>
                              <a:pt x="3" y="92"/>
                            </a:lnTo>
                            <a:lnTo>
                              <a:pt x="3" y="88"/>
                            </a:lnTo>
                            <a:lnTo>
                              <a:pt x="3" y="86"/>
                            </a:lnTo>
                            <a:lnTo>
                              <a:pt x="3" y="81"/>
                            </a:lnTo>
                            <a:lnTo>
                              <a:pt x="3" y="79"/>
                            </a:lnTo>
                            <a:lnTo>
                              <a:pt x="3" y="75"/>
                            </a:lnTo>
                            <a:lnTo>
                              <a:pt x="3" y="70"/>
                            </a:lnTo>
                            <a:lnTo>
                              <a:pt x="3" y="68"/>
                            </a:lnTo>
                            <a:lnTo>
                              <a:pt x="3" y="64"/>
                            </a:lnTo>
                            <a:lnTo>
                              <a:pt x="3" y="61"/>
                            </a:lnTo>
                            <a:lnTo>
                              <a:pt x="5" y="57"/>
                            </a:lnTo>
                            <a:lnTo>
                              <a:pt x="5" y="54"/>
                            </a:lnTo>
                            <a:lnTo>
                              <a:pt x="5" y="50"/>
                            </a:lnTo>
                            <a:lnTo>
                              <a:pt x="5" y="47"/>
                            </a:lnTo>
                            <a:lnTo>
                              <a:pt x="5" y="43"/>
                            </a:lnTo>
                            <a:lnTo>
                              <a:pt x="5" y="40"/>
                            </a:lnTo>
                            <a:lnTo>
                              <a:pt x="6" y="37"/>
                            </a:lnTo>
                            <a:lnTo>
                              <a:pt x="6" y="33"/>
                            </a:lnTo>
                            <a:lnTo>
                              <a:pt x="6" y="31"/>
                            </a:lnTo>
                            <a:lnTo>
                              <a:pt x="6" y="28"/>
                            </a:lnTo>
                            <a:lnTo>
                              <a:pt x="6" y="27"/>
                            </a:lnTo>
                            <a:lnTo>
                              <a:pt x="6" y="20"/>
                            </a:lnTo>
                            <a:lnTo>
                              <a:pt x="8" y="16"/>
                            </a:lnTo>
                            <a:lnTo>
                              <a:pt x="8" y="11"/>
                            </a:lnTo>
                            <a:lnTo>
                              <a:pt x="9" y="7"/>
                            </a:ln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1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1" name="Freeform 221"/>
                      <p:cNvSpPr/>
                      <p:nvPr/>
                    </p:nvSpPr>
                    <p:spPr>
                      <a:xfrm>
                        <a:off x="3132720" y="2870640"/>
                        <a:ext cx="52560" cy="194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582" h="195">
                            <a:moveTo>
                              <a:pt x="198" y="136"/>
                            </a:moveTo>
                            <a:lnTo>
                              <a:pt x="199" y="133"/>
                            </a:lnTo>
                            <a:lnTo>
                              <a:pt x="204" y="131"/>
                            </a:lnTo>
                            <a:lnTo>
                              <a:pt x="208" y="125"/>
                            </a:lnTo>
                            <a:lnTo>
                              <a:pt x="216" y="121"/>
                            </a:lnTo>
                            <a:lnTo>
                              <a:pt x="222" y="117"/>
                            </a:lnTo>
                            <a:lnTo>
                              <a:pt x="227" y="113"/>
                            </a:lnTo>
                            <a:lnTo>
                              <a:pt x="231" y="110"/>
                            </a:lnTo>
                            <a:lnTo>
                              <a:pt x="233" y="109"/>
                            </a:lnTo>
                            <a:lnTo>
                              <a:pt x="234" y="107"/>
                            </a:lnTo>
                            <a:lnTo>
                              <a:pt x="238" y="105"/>
                            </a:lnTo>
                            <a:lnTo>
                              <a:pt x="241" y="100"/>
                            </a:lnTo>
                            <a:lnTo>
                              <a:pt x="245" y="98"/>
                            </a:lnTo>
                            <a:lnTo>
                              <a:pt x="250" y="94"/>
                            </a:lnTo>
                            <a:lnTo>
                              <a:pt x="254" y="89"/>
                            </a:lnTo>
                            <a:lnTo>
                              <a:pt x="259" y="85"/>
                            </a:lnTo>
                            <a:lnTo>
                              <a:pt x="265" y="81"/>
                            </a:lnTo>
                            <a:lnTo>
                              <a:pt x="268" y="76"/>
                            </a:lnTo>
                            <a:lnTo>
                              <a:pt x="273" y="70"/>
                            </a:lnTo>
                            <a:lnTo>
                              <a:pt x="277" y="66"/>
                            </a:lnTo>
                            <a:lnTo>
                              <a:pt x="282" y="62"/>
                            </a:lnTo>
                            <a:lnTo>
                              <a:pt x="283" y="56"/>
                            </a:lnTo>
                            <a:lnTo>
                              <a:pt x="286" y="54"/>
                            </a:lnTo>
                            <a:lnTo>
                              <a:pt x="288" y="50"/>
                            </a:lnTo>
                            <a:lnTo>
                              <a:pt x="288" y="48"/>
                            </a:lnTo>
                            <a:lnTo>
                              <a:pt x="286" y="50"/>
                            </a:lnTo>
                            <a:lnTo>
                              <a:pt x="282" y="54"/>
                            </a:lnTo>
                            <a:lnTo>
                              <a:pt x="276" y="59"/>
                            </a:lnTo>
                            <a:lnTo>
                              <a:pt x="274" y="61"/>
                            </a:lnTo>
                            <a:lnTo>
                              <a:pt x="233" y="102"/>
                            </a:lnTo>
                            <a:lnTo>
                              <a:pt x="234" y="98"/>
                            </a:lnTo>
                            <a:lnTo>
                              <a:pt x="236" y="95"/>
                            </a:lnTo>
                            <a:lnTo>
                              <a:pt x="239" y="89"/>
                            </a:lnTo>
                            <a:lnTo>
                              <a:pt x="242" y="85"/>
                            </a:lnTo>
                            <a:lnTo>
                              <a:pt x="245" y="80"/>
                            </a:lnTo>
                            <a:lnTo>
                              <a:pt x="250" y="74"/>
                            </a:lnTo>
                            <a:lnTo>
                              <a:pt x="254" y="69"/>
                            </a:lnTo>
                            <a:lnTo>
                              <a:pt x="259" y="63"/>
                            </a:lnTo>
                            <a:lnTo>
                              <a:pt x="264" y="56"/>
                            </a:lnTo>
                            <a:lnTo>
                              <a:pt x="268" y="51"/>
                            </a:lnTo>
                            <a:lnTo>
                              <a:pt x="271" y="45"/>
                            </a:lnTo>
                            <a:lnTo>
                              <a:pt x="277" y="41"/>
                            </a:lnTo>
                            <a:lnTo>
                              <a:pt x="280" y="36"/>
                            </a:lnTo>
                            <a:lnTo>
                              <a:pt x="285" y="32"/>
                            </a:lnTo>
                            <a:lnTo>
                              <a:pt x="288" y="28"/>
                            </a:lnTo>
                            <a:lnTo>
                              <a:pt x="291" y="25"/>
                            </a:lnTo>
                            <a:lnTo>
                              <a:pt x="288" y="25"/>
                            </a:lnTo>
                            <a:lnTo>
                              <a:pt x="285" y="28"/>
                            </a:lnTo>
                            <a:lnTo>
                              <a:pt x="280" y="29"/>
                            </a:lnTo>
                            <a:lnTo>
                              <a:pt x="276" y="33"/>
                            </a:lnTo>
                            <a:lnTo>
                              <a:pt x="271" y="37"/>
                            </a:lnTo>
                            <a:lnTo>
                              <a:pt x="265" y="41"/>
                            </a:lnTo>
                            <a:lnTo>
                              <a:pt x="259" y="47"/>
                            </a:lnTo>
                            <a:lnTo>
                              <a:pt x="254" y="52"/>
                            </a:lnTo>
                            <a:lnTo>
                              <a:pt x="248" y="56"/>
                            </a:lnTo>
                            <a:lnTo>
                              <a:pt x="242" y="62"/>
                            </a:lnTo>
                            <a:lnTo>
                              <a:pt x="236" y="66"/>
                            </a:lnTo>
                            <a:lnTo>
                              <a:pt x="231" y="72"/>
                            </a:lnTo>
                            <a:lnTo>
                              <a:pt x="227" y="76"/>
                            </a:lnTo>
                            <a:lnTo>
                              <a:pt x="224" y="80"/>
                            </a:lnTo>
                            <a:lnTo>
                              <a:pt x="222" y="81"/>
                            </a:lnTo>
                            <a:lnTo>
                              <a:pt x="221" y="84"/>
                            </a:lnTo>
                            <a:lnTo>
                              <a:pt x="219" y="85"/>
                            </a:lnTo>
                            <a:lnTo>
                              <a:pt x="218" y="87"/>
                            </a:lnTo>
                            <a:lnTo>
                              <a:pt x="215" y="89"/>
                            </a:lnTo>
                            <a:lnTo>
                              <a:pt x="212" y="94"/>
                            </a:lnTo>
                            <a:lnTo>
                              <a:pt x="207" y="95"/>
                            </a:lnTo>
                            <a:lnTo>
                              <a:pt x="204" y="98"/>
                            </a:lnTo>
                            <a:lnTo>
                              <a:pt x="201" y="99"/>
                            </a:lnTo>
                            <a:lnTo>
                              <a:pt x="199" y="100"/>
                            </a:lnTo>
                            <a:lnTo>
                              <a:pt x="204" y="94"/>
                            </a:lnTo>
                            <a:lnTo>
                              <a:pt x="208" y="88"/>
                            </a:lnTo>
                            <a:lnTo>
                              <a:pt x="212" y="84"/>
                            </a:lnTo>
                            <a:lnTo>
                              <a:pt x="216" y="78"/>
                            </a:lnTo>
                            <a:lnTo>
                              <a:pt x="219" y="73"/>
                            </a:lnTo>
                            <a:lnTo>
                              <a:pt x="222" y="69"/>
                            </a:lnTo>
                            <a:lnTo>
                              <a:pt x="225" y="65"/>
                            </a:lnTo>
                            <a:lnTo>
                              <a:pt x="228" y="61"/>
                            </a:lnTo>
                            <a:lnTo>
                              <a:pt x="231" y="55"/>
                            </a:lnTo>
                            <a:lnTo>
                              <a:pt x="236" y="51"/>
                            </a:lnTo>
                            <a:lnTo>
                              <a:pt x="239" y="47"/>
                            </a:lnTo>
                            <a:lnTo>
                              <a:pt x="244" y="43"/>
                            </a:lnTo>
                            <a:lnTo>
                              <a:pt x="248" y="39"/>
                            </a:lnTo>
                            <a:lnTo>
                              <a:pt x="254" y="35"/>
                            </a:lnTo>
                            <a:lnTo>
                              <a:pt x="259" y="30"/>
                            </a:lnTo>
                            <a:lnTo>
                              <a:pt x="265" y="26"/>
                            </a:lnTo>
                            <a:lnTo>
                              <a:pt x="267" y="24"/>
                            </a:lnTo>
                            <a:lnTo>
                              <a:pt x="270" y="21"/>
                            </a:lnTo>
                            <a:lnTo>
                              <a:pt x="273" y="17"/>
                            </a:lnTo>
                            <a:lnTo>
                              <a:pt x="277" y="11"/>
                            </a:lnTo>
                            <a:lnTo>
                              <a:pt x="280" y="7"/>
                            </a:lnTo>
                            <a:lnTo>
                              <a:pt x="283" y="3"/>
                            </a:lnTo>
                            <a:lnTo>
                              <a:pt x="285" y="0"/>
                            </a:lnTo>
                            <a:lnTo>
                              <a:pt x="286" y="0"/>
                            </a:lnTo>
                            <a:lnTo>
                              <a:pt x="283" y="0"/>
                            </a:lnTo>
                            <a:lnTo>
                              <a:pt x="280" y="3"/>
                            </a:lnTo>
                            <a:lnTo>
                              <a:pt x="276" y="6"/>
                            </a:lnTo>
                            <a:lnTo>
                              <a:pt x="271" y="10"/>
                            </a:lnTo>
                            <a:lnTo>
                              <a:pt x="265" y="14"/>
                            </a:lnTo>
                            <a:lnTo>
                              <a:pt x="262" y="17"/>
                            </a:lnTo>
                            <a:lnTo>
                              <a:pt x="259" y="19"/>
                            </a:lnTo>
                            <a:lnTo>
                              <a:pt x="257" y="19"/>
                            </a:lnTo>
                            <a:lnTo>
                              <a:pt x="254" y="22"/>
                            </a:lnTo>
                            <a:lnTo>
                              <a:pt x="250" y="26"/>
                            </a:lnTo>
                            <a:lnTo>
                              <a:pt x="247" y="29"/>
                            </a:lnTo>
                            <a:lnTo>
                              <a:pt x="244" y="32"/>
                            </a:lnTo>
                            <a:lnTo>
                              <a:pt x="239" y="35"/>
                            </a:lnTo>
                            <a:lnTo>
                              <a:pt x="236" y="39"/>
                            </a:lnTo>
                            <a:lnTo>
                              <a:pt x="231" y="41"/>
                            </a:lnTo>
                            <a:lnTo>
                              <a:pt x="227" y="44"/>
                            </a:lnTo>
                            <a:lnTo>
                              <a:pt x="224" y="48"/>
                            </a:lnTo>
                            <a:lnTo>
                              <a:pt x="219" y="52"/>
                            </a:lnTo>
                            <a:lnTo>
                              <a:pt x="215" y="55"/>
                            </a:lnTo>
                            <a:lnTo>
                              <a:pt x="210" y="59"/>
                            </a:lnTo>
                            <a:lnTo>
                              <a:pt x="205" y="62"/>
                            </a:lnTo>
                            <a:lnTo>
                              <a:pt x="202" y="66"/>
                            </a:lnTo>
                            <a:lnTo>
                              <a:pt x="198" y="69"/>
                            </a:lnTo>
                            <a:lnTo>
                              <a:pt x="193" y="72"/>
                            </a:lnTo>
                            <a:lnTo>
                              <a:pt x="189" y="74"/>
                            </a:lnTo>
                            <a:lnTo>
                              <a:pt x="186" y="77"/>
                            </a:lnTo>
                            <a:lnTo>
                              <a:pt x="179" y="80"/>
                            </a:lnTo>
                            <a:lnTo>
                              <a:pt x="175" y="83"/>
                            </a:lnTo>
                            <a:lnTo>
                              <a:pt x="172" y="83"/>
                            </a:lnTo>
                            <a:lnTo>
                              <a:pt x="172" y="81"/>
                            </a:lnTo>
                            <a:lnTo>
                              <a:pt x="172" y="80"/>
                            </a:lnTo>
                            <a:lnTo>
                              <a:pt x="175" y="77"/>
                            </a:lnTo>
                            <a:lnTo>
                              <a:pt x="176" y="73"/>
                            </a:lnTo>
                            <a:lnTo>
                              <a:pt x="179" y="70"/>
                            </a:lnTo>
                            <a:lnTo>
                              <a:pt x="176" y="70"/>
                            </a:lnTo>
                            <a:lnTo>
                              <a:pt x="172" y="73"/>
                            </a:lnTo>
                            <a:lnTo>
                              <a:pt x="166" y="76"/>
                            </a:lnTo>
                            <a:lnTo>
                              <a:pt x="160" y="81"/>
                            </a:lnTo>
                            <a:lnTo>
                              <a:pt x="156" y="83"/>
                            </a:lnTo>
                            <a:lnTo>
                              <a:pt x="152" y="85"/>
                            </a:lnTo>
                            <a:lnTo>
                              <a:pt x="149" y="88"/>
                            </a:lnTo>
                            <a:lnTo>
                              <a:pt x="144" y="92"/>
                            </a:lnTo>
                            <a:lnTo>
                              <a:pt x="141" y="95"/>
                            </a:lnTo>
                            <a:lnTo>
                              <a:pt x="138" y="98"/>
                            </a:lnTo>
                            <a:lnTo>
                              <a:pt x="134" y="100"/>
                            </a:lnTo>
                            <a:lnTo>
                              <a:pt x="130" y="105"/>
                            </a:lnTo>
                            <a:lnTo>
                              <a:pt x="127" y="107"/>
                            </a:lnTo>
                            <a:lnTo>
                              <a:pt x="123" y="110"/>
                            </a:lnTo>
                            <a:lnTo>
                              <a:pt x="120" y="113"/>
                            </a:lnTo>
                            <a:lnTo>
                              <a:pt x="115" y="115"/>
                            </a:lnTo>
                            <a:lnTo>
                              <a:pt x="109" y="121"/>
                            </a:lnTo>
                            <a:lnTo>
                              <a:pt x="103" y="128"/>
                            </a:lnTo>
                            <a:lnTo>
                              <a:pt x="97" y="132"/>
                            </a:lnTo>
                            <a:lnTo>
                              <a:pt x="94" y="136"/>
                            </a:lnTo>
                            <a:lnTo>
                              <a:pt x="91" y="140"/>
                            </a:lnTo>
                            <a:lnTo>
                              <a:pt x="89" y="143"/>
                            </a:lnTo>
                            <a:lnTo>
                              <a:pt x="88" y="143"/>
                            </a:lnTo>
                            <a:lnTo>
                              <a:pt x="86" y="144"/>
                            </a:lnTo>
                            <a:lnTo>
                              <a:pt x="83" y="146"/>
                            </a:lnTo>
                            <a:lnTo>
                              <a:pt x="78" y="150"/>
                            </a:lnTo>
                            <a:lnTo>
                              <a:pt x="72" y="153"/>
                            </a:lnTo>
                            <a:lnTo>
                              <a:pt x="68" y="157"/>
                            </a:lnTo>
                            <a:lnTo>
                              <a:pt x="62" y="159"/>
                            </a:lnTo>
                            <a:lnTo>
                              <a:pt x="56" y="165"/>
                            </a:lnTo>
                            <a:lnTo>
                              <a:pt x="49" y="169"/>
                            </a:lnTo>
                            <a:lnTo>
                              <a:pt x="43" y="172"/>
                            </a:lnTo>
                            <a:lnTo>
                              <a:pt x="37" y="176"/>
                            </a:lnTo>
                            <a:lnTo>
                              <a:pt x="31" y="181"/>
                            </a:lnTo>
                            <a:lnTo>
                              <a:pt x="25" y="184"/>
                            </a:lnTo>
                            <a:lnTo>
                              <a:pt x="22" y="187"/>
                            </a:lnTo>
                            <a:lnTo>
                              <a:pt x="17" y="188"/>
                            </a:lnTo>
                            <a:lnTo>
                              <a:pt x="16" y="191"/>
                            </a:lnTo>
                            <a:lnTo>
                              <a:pt x="13" y="188"/>
                            </a:lnTo>
                            <a:lnTo>
                              <a:pt x="14" y="184"/>
                            </a:lnTo>
                            <a:lnTo>
                              <a:pt x="20" y="181"/>
                            </a:lnTo>
                            <a:lnTo>
                              <a:pt x="22" y="179"/>
                            </a:lnTo>
                            <a:lnTo>
                              <a:pt x="26" y="176"/>
                            </a:lnTo>
                            <a:lnTo>
                              <a:pt x="30" y="175"/>
                            </a:lnTo>
                            <a:lnTo>
                              <a:pt x="34" y="172"/>
                            </a:lnTo>
                            <a:lnTo>
                              <a:pt x="37" y="169"/>
                            </a:lnTo>
                            <a:lnTo>
                              <a:pt x="42" y="168"/>
                            </a:lnTo>
                            <a:lnTo>
                              <a:pt x="45" y="165"/>
                            </a:lnTo>
                            <a:lnTo>
                              <a:pt x="48" y="164"/>
                            </a:lnTo>
                            <a:lnTo>
                              <a:pt x="54" y="159"/>
                            </a:lnTo>
                            <a:lnTo>
                              <a:pt x="59" y="157"/>
                            </a:lnTo>
                            <a:lnTo>
                              <a:pt x="62" y="151"/>
                            </a:lnTo>
                            <a:lnTo>
                              <a:pt x="66" y="146"/>
                            </a:lnTo>
                            <a:lnTo>
                              <a:pt x="71" y="140"/>
                            </a:lnTo>
                            <a:lnTo>
                              <a:pt x="77" y="135"/>
                            </a:lnTo>
                            <a:lnTo>
                              <a:pt x="82" y="128"/>
                            </a:lnTo>
                            <a:lnTo>
                              <a:pt x="88" y="124"/>
                            </a:lnTo>
                            <a:lnTo>
                              <a:pt x="92" y="120"/>
                            </a:lnTo>
                            <a:lnTo>
                              <a:pt x="97" y="118"/>
                            </a:lnTo>
                            <a:lnTo>
                              <a:pt x="100" y="111"/>
                            </a:lnTo>
                            <a:lnTo>
                              <a:pt x="94" y="113"/>
                            </a:lnTo>
                            <a:lnTo>
                              <a:pt x="89" y="115"/>
                            </a:lnTo>
                            <a:lnTo>
                              <a:pt x="83" y="118"/>
                            </a:lnTo>
                            <a:lnTo>
                              <a:pt x="78" y="120"/>
                            </a:lnTo>
                            <a:lnTo>
                              <a:pt x="75" y="124"/>
                            </a:lnTo>
                            <a:lnTo>
                              <a:pt x="72" y="128"/>
                            </a:lnTo>
                            <a:lnTo>
                              <a:pt x="69" y="132"/>
                            </a:lnTo>
                            <a:lnTo>
                              <a:pt x="68" y="135"/>
                            </a:lnTo>
                            <a:lnTo>
                              <a:pt x="62" y="140"/>
                            </a:lnTo>
                            <a:lnTo>
                              <a:pt x="59" y="144"/>
                            </a:lnTo>
                            <a:lnTo>
                              <a:pt x="56" y="147"/>
                            </a:lnTo>
                            <a:lnTo>
                              <a:pt x="51" y="150"/>
                            </a:lnTo>
                            <a:lnTo>
                              <a:pt x="48" y="153"/>
                            </a:lnTo>
                            <a:lnTo>
                              <a:pt x="45" y="155"/>
                            </a:lnTo>
                            <a:lnTo>
                              <a:pt x="40" y="157"/>
                            </a:lnTo>
                            <a:lnTo>
                              <a:pt x="36" y="159"/>
                            </a:lnTo>
                            <a:lnTo>
                              <a:pt x="31" y="162"/>
                            </a:lnTo>
                            <a:lnTo>
                              <a:pt x="26" y="165"/>
                            </a:lnTo>
                            <a:lnTo>
                              <a:pt x="23" y="168"/>
                            </a:lnTo>
                            <a:lnTo>
                              <a:pt x="20" y="170"/>
                            </a:lnTo>
                            <a:lnTo>
                              <a:pt x="17" y="173"/>
                            </a:lnTo>
                            <a:lnTo>
                              <a:pt x="14" y="177"/>
                            </a:lnTo>
                            <a:lnTo>
                              <a:pt x="11" y="180"/>
                            </a:lnTo>
                            <a:lnTo>
                              <a:pt x="8" y="184"/>
                            </a:lnTo>
                            <a:lnTo>
                              <a:pt x="4" y="190"/>
                            </a:lnTo>
                            <a:lnTo>
                              <a:pt x="0" y="195"/>
                            </a:lnTo>
                            <a:lnTo>
                              <a:pt x="8" y="195"/>
                            </a:lnTo>
                            <a:lnTo>
                              <a:pt x="14" y="195"/>
                            </a:lnTo>
                            <a:lnTo>
                              <a:pt x="22" y="195"/>
                            </a:lnTo>
                            <a:lnTo>
                              <a:pt x="30" y="195"/>
                            </a:lnTo>
                            <a:lnTo>
                              <a:pt x="37" y="195"/>
                            </a:lnTo>
                            <a:lnTo>
                              <a:pt x="45" y="195"/>
                            </a:lnTo>
                            <a:lnTo>
                              <a:pt x="51" y="195"/>
                            </a:lnTo>
                            <a:lnTo>
                              <a:pt x="59" y="195"/>
                            </a:lnTo>
                            <a:lnTo>
                              <a:pt x="66" y="194"/>
                            </a:lnTo>
                            <a:lnTo>
                              <a:pt x="74" y="194"/>
                            </a:lnTo>
                            <a:lnTo>
                              <a:pt x="80" y="194"/>
                            </a:lnTo>
                            <a:lnTo>
                              <a:pt x="88" y="194"/>
                            </a:lnTo>
                            <a:lnTo>
                              <a:pt x="95" y="194"/>
                            </a:lnTo>
                            <a:lnTo>
                              <a:pt x="103" y="194"/>
                            </a:lnTo>
                            <a:lnTo>
                              <a:pt x="111" y="192"/>
                            </a:lnTo>
                            <a:lnTo>
                              <a:pt x="117" y="192"/>
                            </a:lnTo>
                            <a:lnTo>
                              <a:pt x="124" y="191"/>
                            </a:lnTo>
                            <a:lnTo>
                              <a:pt x="130" y="191"/>
                            </a:lnTo>
                            <a:lnTo>
                              <a:pt x="138" y="191"/>
                            </a:lnTo>
                            <a:lnTo>
                              <a:pt x="146" y="191"/>
                            </a:lnTo>
                            <a:lnTo>
                              <a:pt x="153" y="190"/>
                            </a:lnTo>
                            <a:lnTo>
                              <a:pt x="160" y="190"/>
                            </a:lnTo>
                            <a:lnTo>
                              <a:pt x="167" y="188"/>
                            </a:lnTo>
                            <a:lnTo>
                              <a:pt x="175" y="188"/>
                            </a:lnTo>
                            <a:lnTo>
                              <a:pt x="182" y="187"/>
                            </a:lnTo>
                            <a:lnTo>
                              <a:pt x="189" y="187"/>
                            </a:lnTo>
                            <a:lnTo>
                              <a:pt x="196" y="186"/>
                            </a:lnTo>
                            <a:lnTo>
                              <a:pt x="204" y="186"/>
                            </a:lnTo>
                            <a:lnTo>
                              <a:pt x="212" y="184"/>
                            </a:lnTo>
                            <a:lnTo>
                              <a:pt x="219" y="184"/>
                            </a:lnTo>
                            <a:lnTo>
                              <a:pt x="227" y="184"/>
                            </a:lnTo>
                            <a:lnTo>
                              <a:pt x="234" y="184"/>
                            </a:lnTo>
                            <a:lnTo>
                              <a:pt x="242" y="183"/>
                            </a:lnTo>
                            <a:lnTo>
                              <a:pt x="250" y="181"/>
                            </a:lnTo>
                            <a:lnTo>
                              <a:pt x="257" y="181"/>
                            </a:lnTo>
                            <a:lnTo>
                              <a:pt x="265" y="181"/>
                            </a:lnTo>
                            <a:lnTo>
                              <a:pt x="273" y="180"/>
                            </a:lnTo>
                            <a:lnTo>
                              <a:pt x="280" y="180"/>
                            </a:lnTo>
                            <a:lnTo>
                              <a:pt x="288" y="179"/>
                            </a:lnTo>
                            <a:lnTo>
                              <a:pt x="296" y="179"/>
                            </a:lnTo>
                            <a:lnTo>
                              <a:pt x="303" y="177"/>
                            </a:lnTo>
                            <a:lnTo>
                              <a:pt x="312" y="177"/>
                            </a:lnTo>
                            <a:lnTo>
                              <a:pt x="320" y="177"/>
                            </a:lnTo>
                            <a:lnTo>
                              <a:pt x="328" y="177"/>
                            </a:lnTo>
                            <a:lnTo>
                              <a:pt x="337" y="176"/>
                            </a:lnTo>
                            <a:lnTo>
                              <a:pt x="345" y="176"/>
                            </a:lnTo>
                            <a:lnTo>
                              <a:pt x="354" y="175"/>
                            </a:lnTo>
                            <a:lnTo>
                              <a:pt x="363" y="175"/>
                            </a:lnTo>
                            <a:lnTo>
                              <a:pt x="371" y="175"/>
                            </a:lnTo>
                            <a:lnTo>
                              <a:pt x="380" y="175"/>
                            </a:lnTo>
                            <a:lnTo>
                              <a:pt x="387" y="173"/>
                            </a:lnTo>
                            <a:lnTo>
                              <a:pt x="398" y="173"/>
                            </a:lnTo>
                            <a:lnTo>
                              <a:pt x="406" y="173"/>
                            </a:lnTo>
                            <a:lnTo>
                              <a:pt x="415" y="173"/>
                            </a:lnTo>
                            <a:lnTo>
                              <a:pt x="426" y="173"/>
                            </a:lnTo>
                            <a:lnTo>
                              <a:pt x="435" y="173"/>
                            </a:lnTo>
                            <a:lnTo>
                              <a:pt x="444" y="173"/>
                            </a:lnTo>
                            <a:lnTo>
                              <a:pt x="453" y="173"/>
                            </a:lnTo>
                            <a:lnTo>
                              <a:pt x="462" y="173"/>
                            </a:lnTo>
                            <a:lnTo>
                              <a:pt x="473" y="173"/>
                            </a:lnTo>
                            <a:lnTo>
                              <a:pt x="482" y="173"/>
                            </a:lnTo>
                            <a:lnTo>
                              <a:pt x="493" y="173"/>
                            </a:lnTo>
                            <a:lnTo>
                              <a:pt x="502" y="175"/>
                            </a:lnTo>
                            <a:lnTo>
                              <a:pt x="513" y="175"/>
                            </a:lnTo>
                            <a:lnTo>
                              <a:pt x="470" y="184"/>
                            </a:lnTo>
                            <a:lnTo>
                              <a:pt x="478" y="183"/>
                            </a:lnTo>
                            <a:lnTo>
                              <a:pt x="484" y="183"/>
                            </a:lnTo>
                            <a:lnTo>
                              <a:pt x="490" y="183"/>
                            </a:lnTo>
                            <a:lnTo>
                              <a:pt x="498" y="183"/>
                            </a:lnTo>
                            <a:lnTo>
                              <a:pt x="501" y="181"/>
                            </a:lnTo>
                            <a:lnTo>
                              <a:pt x="504" y="181"/>
                            </a:lnTo>
                            <a:lnTo>
                              <a:pt x="507" y="181"/>
                            </a:lnTo>
                            <a:lnTo>
                              <a:pt x="511" y="181"/>
                            </a:lnTo>
                            <a:lnTo>
                              <a:pt x="514" y="181"/>
                            </a:lnTo>
                            <a:lnTo>
                              <a:pt x="517" y="181"/>
                            </a:lnTo>
                            <a:lnTo>
                              <a:pt x="522" y="181"/>
                            </a:lnTo>
                            <a:lnTo>
                              <a:pt x="525" y="181"/>
                            </a:lnTo>
                            <a:lnTo>
                              <a:pt x="531" y="180"/>
                            </a:lnTo>
                            <a:lnTo>
                              <a:pt x="539" y="180"/>
                            </a:lnTo>
                            <a:lnTo>
                              <a:pt x="542" y="179"/>
                            </a:lnTo>
                            <a:lnTo>
                              <a:pt x="545" y="179"/>
                            </a:lnTo>
                            <a:lnTo>
                              <a:pt x="550" y="179"/>
                            </a:lnTo>
                            <a:lnTo>
                              <a:pt x="553" y="179"/>
                            </a:lnTo>
                            <a:lnTo>
                              <a:pt x="556" y="177"/>
                            </a:lnTo>
                            <a:lnTo>
                              <a:pt x="559" y="177"/>
                            </a:lnTo>
                            <a:lnTo>
                              <a:pt x="563" y="177"/>
                            </a:lnTo>
                            <a:lnTo>
                              <a:pt x="566" y="177"/>
                            </a:lnTo>
                            <a:lnTo>
                              <a:pt x="569" y="177"/>
                            </a:lnTo>
                            <a:lnTo>
                              <a:pt x="574" y="177"/>
                            </a:lnTo>
                            <a:lnTo>
                              <a:pt x="577" y="177"/>
                            </a:lnTo>
                            <a:lnTo>
                              <a:pt x="582" y="177"/>
                            </a:lnTo>
                            <a:lnTo>
                              <a:pt x="576" y="172"/>
                            </a:lnTo>
                            <a:lnTo>
                              <a:pt x="569" y="166"/>
                            </a:lnTo>
                            <a:lnTo>
                              <a:pt x="563" y="162"/>
                            </a:lnTo>
                            <a:lnTo>
                              <a:pt x="559" y="157"/>
                            </a:lnTo>
                            <a:lnTo>
                              <a:pt x="553" y="151"/>
                            </a:lnTo>
                            <a:lnTo>
                              <a:pt x="547" y="147"/>
                            </a:lnTo>
                            <a:lnTo>
                              <a:pt x="540" y="142"/>
                            </a:lnTo>
                            <a:lnTo>
                              <a:pt x="536" y="137"/>
                            </a:lnTo>
                            <a:lnTo>
                              <a:pt x="528" y="132"/>
                            </a:lnTo>
                            <a:lnTo>
                              <a:pt x="524" y="126"/>
                            </a:lnTo>
                            <a:lnTo>
                              <a:pt x="517" y="122"/>
                            </a:lnTo>
                            <a:lnTo>
                              <a:pt x="511" y="117"/>
                            </a:lnTo>
                            <a:lnTo>
                              <a:pt x="505" y="111"/>
                            </a:lnTo>
                            <a:lnTo>
                              <a:pt x="501" y="107"/>
                            </a:lnTo>
                            <a:lnTo>
                              <a:pt x="495" y="102"/>
                            </a:lnTo>
                            <a:lnTo>
                              <a:pt x="488" y="98"/>
                            </a:lnTo>
                            <a:lnTo>
                              <a:pt x="482" y="92"/>
                            </a:lnTo>
                            <a:lnTo>
                              <a:pt x="476" y="87"/>
                            </a:lnTo>
                            <a:lnTo>
                              <a:pt x="470" y="83"/>
                            </a:lnTo>
                            <a:lnTo>
                              <a:pt x="465" y="77"/>
                            </a:lnTo>
                            <a:lnTo>
                              <a:pt x="459" y="72"/>
                            </a:lnTo>
                            <a:lnTo>
                              <a:pt x="453" y="67"/>
                            </a:lnTo>
                            <a:lnTo>
                              <a:pt x="447" y="62"/>
                            </a:lnTo>
                            <a:lnTo>
                              <a:pt x="441" y="58"/>
                            </a:lnTo>
                            <a:lnTo>
                              <a:pt x="435" y="52"/>
                            </a:lnTo>
                            <a:lnTo>
                              <a:pt x="429" y="48"/>
                            </a:lnTo>
                            <a:lnTo>
                              <a:pt x="423" y="44"/>
                            </a:lnTo>
                            <a:lnTo>
                              <a:pt x="418" y="39"/>
                            </a:lnTo>
                            <a:lnTo>
                              <a:pt x="412" y="35"/>
                            </a:lnTo>
                            <a:lnTo>
                              <a:pt x="406" y="30"/>
                            </a:lnTo>
                            <a:lnTo>
                              <a:pt x="400" y="26"/>
                            </a:lnTo>
                            <a:lnTo>
                              <a:pt x="395" y="22"/>
                            </a:lnTo>
                            <a:lnTo>
                              <a:pt x="392" y="21"/>
                            </a:lnTo>
                            <a:lnTo>
                              <a:pt x="386" y="18"/>
                            </a:lnTo>
                            <a:lnTo>
                              <a:pt x="380" y="14"/>
                            </a:lnTo>
                            <a:lnTo>
                              <a:pt x="377" y="14"/>
                            </a:lnTo>
                            <a:lnTo>
                              <a:pt x="453" y="81"/>
                            </a:lnTo>
                            <a:lnTo>
                              <a:pt x="426" y="67"/>
                            </a:lnTo>
                            <a:lnTo>
                              <a:pt x="429" y="70"/>
                            </a:lnTo>
                            <a:lnTo>
                              <a:pt x="432" y="73"/>
                            </a:lnTo>
                            <a:lnTo>
                              <a:pt x="435" y="76"/>
                            </a:lnTo>
                            <a:lnTo>
                              <a:pt x="439" y="80"/>
                            </a:lnTo>
                            <a:lnTo>
                              <a:pt x="443" y="83"/>
                            </a:lnTo>
                            <a:lnTo>
                              <a:pt x="447" y="85"/>
                            </a:lnTo>
                            <a:lnTo>
                              <a:pt x="450" y="88"/>
                            </a:lnTo>
                            <a:lnTo>
                              <a:pt x="455" y="91"/>
                            </a:lnTo>
                            <a:lnTo>
                              <a:pt x="459" y="94"/>
                            </a:lnTo>
                            <a:lnTo>
                              <a:pt x="462" y="96"/>
                            </a:lnTo>
                            <a:lnTo>
                              <a:pt x="467" y="99"/>
                            </a:lnTo>
                            <a:lnTo>
                              <a:pt x="470" y="102"/>
                            </a:lnTo>
                            <a:lnTo>
                              <a:pt x="475" y="106"/>
                            </a:lnTo>
                            <a:lnTo>
                              <a:pt x="478" y="109"/>
                            </a:lnTo>
                            <a:lnTo>
                              <a:pt x="482" y="113"/>
                            </a:lnTo>
                            <a:lnTo>
                              <a:pt x="485" y="115"/>
                            </a:lnTo>
                            <a:lnTo>
                              <a:pt x="372" y="36"/>
                            </a:lnTo>
                            <a:lnTo>
                              <a:pt x="369" y="35"/>
                            </a:lnTo>
                            <a:lnTo>
                              <a:pt x="366" y="32"/>
                            </a:lnTo>
                            <a:lnTo>
                              <a:pt x="363" y="29"/>
                            </a:lnTo>
                            <a:lnTo>
                              <a:pt x="360" y="26"/>
                            </a:lnTo>
                            <a:lnTo>
                              <a:pt x="355" y="24"/>
                            </a:lnTo>
                            <a:lnTo>
                              <a:pt x="352" y="21"/>
                            </a:lnTo>
                            <a:lnTo>
                              <a:pt x="348" y="18"/>
                            </a:lnTo>
                            <a:lnTo>
                              <a:pt x="345" y="15"/>
                            </a:lnTo>
                            <a:lnTo>
                              <a:pt x="342" y="11"/>
                            </a:lnTo>
                            <a:lnTo>
                              <a:pt x="337" y="10"/>
                            </a:lnTo>
                            <a:lnTo>
                              <a:pt x="334" y="7"/>
                            </a:lnTo>
                            <a:lnTo>
                              <a:pt x="331" y="6"/>
                            </a:lnTo>
                            <a:lnTo>
                              <a:pt x="326" y="4"/>
                            </a:lnTo>
                            <a:lnTo>
                              <a:pt x="323" y="7"/>
                            </a:lnTo>
                            <a:lnTo>
                              <a:pt x="328" y="11"/>
                            </a:lnTo>
                            <a:lnTo>
                              <a:pt x="332" y="14"/>
                            </a:lnTo>
                            <a:lnTo>
                              <a:pt x="339" y="18"/>
                            </a:lnTo>
                            <a:lnTo>
                              <a:pt x="345" y="24"/>
                            </a:lnTo>
                            <a:lnTo>
                              <a:pt x="351" y="26"/>
                            </a:lnTo>
                            <a:lnTo>
                              <a:pt x="355" y="30"/>
                            </a:lnTo>
                            <a:lnTo>
                              <a:pt x="361" y="35"/>
                            </a:lnTo>
                            <a:lnTo>
                              <a:pt x="365" y="39"/>
                            </a:lnTo>
                            <a:lnTo>
                              <a:pt x="369" y="43"/>
                            </a:lnTo>
                            <a:lnTo>
                              <a:pt x="374" y="47"/>
                            </a:lnTo>
                            <a:lnTo>
                              <a:pt x="378" y="51"/>
                            </a:lnTo>
                            <a:lnTo>
                              <a:pt x="384" y="55"/>
                            </a:lnTo>
                            <a:lnTo>
                              <a:pt x="389" y="59"/>
                            </a:lnTo>
                            <a:lnTo>
                              <a:pt x="395" y="63"/>
                            </a:lnTo>
                            <a:lnTo>
                              <a:pt x="400" y="67"/>
                            </a:lnTo>
                            <a:lnTo>
                              <a:pt x="406" y="72"/>
                            </a:lnTo>
                            <a:lnTo>
                              <a:pt x="410" y="74"/>
                            </a:lnTo>
                            <a:lnTo>
                              <a:pt x="415" y="80"/>
                            </a:lnTo>
                            <a:lnTo>
                              <a:pt x="421" y="83"/>
                            </a:lnTo>
                            <a:lnTo>
                              <a:pt x="426" y="87"/>
                            </a:lnTo>
                            <a:lnTo>
                              <a:pt x="430" y="91"/>
                            </a:lnTo>
                            <a:lnTo>
                              <a:pt x="436" y="95"/>
                            </a:lnTo>
                            <a:lnTo>
                              <a:pt x="439" y="99"/>
                            </a:lnTo>
                            <a:lnTo>
                              <a:pt x="446" y="105"/>
                            </a:lnTo>
                            <a:lnTo>
                              <a:pt x="449" y="107"/>
                            </a:lnTo>
                            <a:lnTo>
                              <a:pt x="453" y="113"/>
                            </a:lnTo>
                            <a:lnTo>
                              <a:pt x="458" y="118"/>
                            </a:lnTo>
                            <a:lnTo>
                              <a:pt x="461" y="120"/>
                            </a:lnTo>
                            <a:lnTo>
                              <a:pt x="458" y="120"/>
                            </a:lnTo>
                            <a:lnTo>
                              <a:pt x="455" y="118"/>
                            </a:lnTo>
                            <a:lnTo>
                              <a:pt x="452" y="117"/>
                            </a:lnTo>
                            <a:lnTo>
                              <a:pt x="447" y="114"/>
                            </a:lnTo>
                            <a:lnTo>
                              <a:pt x="444" y="113"/>
                            </a:lnTo>
                            <a:lnTo>
                              <a:pt x="441" y="110"/>
                            </a:lnTo>
                            <a:lnTo>
                              <a:pt x="438" y="109"/>
                            </a:lnTo>
                            <a:lnTo>
                              <a:pt x="433" y="106"/>
                            </a:lnTo>
                            <a:lnTo>
                              <a:pt x="429" y="102"/>
                            </a:lnTo>
                            <a:lnTo>
                              <a:pt x="426" y="99"/>
                            </a:lnTo>
                            <a:lnTo>
                              <a:pt x="423" y="98"/>
                            </a:lnTo>
                            <a:lnTo>
                              <a:pt x="418" y="95"/>
                            </a:lnTo>
                            <a:lnTo>
                              <a:pt x="415" y="92"/>
                            </a:lnTo>
                            <a:lnTo>
                              <a:pt x="410" y="88"/>
                            </a:lnTo>
                            <a:lnTo>
                              <a:pt x="407" y="84"/>
                            </a:lnTo>
                            <a:lnTo>
                              <a:pt x="403" y="81"/>
                            </a:lnTo>
                            <a:lnTo>
                              <a:pt x="398" y="77"/>
                            </a:lnTo>
                            <a:lnTo>
                              <a:pt x="394" y="73"/>
                            </a:lnTo>
                            <a:lnTo>
                              <a:pt x="391" y="70"/>
                            </a:lnTo>
                            <a:lnTo>
                              <a:pt x="384" y="66"/>
                            </a:lnTo>
                            <a:lnTo>
                              <a:pt x="381" y="63"/>
                            </a:lnTo>
                            <a:lnTo>
                              <a:pt x="377" y="59"/>
                            </a:lnTo>
                            <a:lnTo>
                              <a:pt x="372" y="55"/>
                            </a:lnTo>
                            <a:lnTo>
                              <a:pt x="368" y="51"/>
                            </a:lnTo>
                            <a:lnTo>
                              <a:pt x="363" y="48"/>
                            </a:lnTo>
                            <a:lnTo>
                              <a:pt x="358" y="44"/>
                            </a:lnTo>
                            <a:lnTo>
                              <a:pt x="355" y="41"/>
                            </a:lnTo>
                            <a:lnTo>
                              <a:pt x="351" y="39"/>
                            </a:lnTo>
                            <a:lnTo>
                              <a:pt x="348" y="36"/>
                            </a:lnTo>
                            <a:lnTo>
                              <a:pt x="343" y="33"/>
                            </a:lnTo>
                            <a:lnTo>
                              <a:pt x="340" y="32"/>
                            </a:lnTo>
                            <a:lnTo>
                              <a:pt x="337" y="29"/>
                            </a:lnTo>
                            <a:lnTo>
                              <a:pt x="335" y="29"/>
                            </a:lnTo>
                            <a:lnTo>
                              <a:pt x="331" y="26"/>
                            </a:lnTo>
                            <a:lnTo>
                              <a:pt x="329" y="26"/>
                            </a:lnTo>
                            <a:lnTo>
                              <a:pt x="331" y="29"/>
                            </a:lnTo>
                            <a:lnTo>
                              <a:pt x="332" y="32"/>
                            </a:lnTo>
                            <a:lnTo>
                              <a:pt x="334" y="36"/>
                            </a:lnTo>
                            <a:lnTo>
                              <a:pt x="337" y="39"/>
                            </a:lnTo>
                            <a:lnTo>
                              <a:pt x="372" y="66"/>
                            </a:lnTo>
                            <a:lnTo>
                              <a:pt x="374" y="74"/>
                            </a:lnTo>
                            <a:lnTo>
                              <a:pt x="378" y="78"/>
                            </a:lnTo>
                            <a:lnTo>
                              <a:pt x="383" y="83"/>
                            </a:lnTo>
                            <a:lnTo>
                              <a:pt x="387" y="85"/>
                            </a:lnTo>
                            <a:lnTo>
                              <a:pt x="392" y="89"/>
                            </a:lnTo>
                            <a:lnTo>
                              <a:pt x="397" y="92"/>
                            </a:lnTo>
                            <a:lnTo>
                              <a:pt x="401" y="95"/>
                            </a:lnTo>
                            <a:lnTo>
                              <a:pt x="406" y="99"/>
                            </a:lnTo>
                            <a:lnTo>
                              <a:pt x="410" y="102"/>
                            </a:lnTo>
                            <a:lnTo>
                              <a:pt x="415" y="105"/>
                            </a:lnTo>
                            <a:lnTo>
                              <a:pt x="420" y="109"/>
                            </a:lnTo>
                            <a:lnTo>
                              <a:pt x="424" y="111"/>
                            </a:lnTo>
                            <a:lnTo>
                              <a:pt x="429" y="115"/>
                            </a:lnTo>
                            <a:lnTo>
                              <a:pt x="433" y="118"/>
                            </a:lnTo>
                            <a:lnTo>
                              <a:pt x="438" y="122"/>
                            </a:lnTo>
                            <a:lnTo>
                              <a:pt x="443" y="126"/>
                            </a:lnTo>
                            <a:lnTo>
                              <a:pt x="447" y="132"/>
                            </a:lnTo>
                            <a:lnTo>
                              <a:pt x="444" y="132"/>
                            </a:lnTo>
                            <a:lnTo>
                              <a:pt x="439" y="132"/>
                            </a:lnTo>
                            <a:lnTo>
                              <a:pt x="436" y="132"/>
                            </a:lnTo>
                            <a:lnTo>
                              <a:pt x="432" y="132"/>
                            </a:lnTo>
                            <a:lnTo>
                              <a:pt x="429" y="132"/>
                            </a:lnTo>
                            <a:lnTo>
                              <a:pt x="426" y="132"/>
                            </a:lnTo>
                            <a:lnTo>
                              <a:pt x="421" y="132"/>
                            </a:lnTo>
                            <a:lnTo>
                              <a:pt x="418" y="132"/>
                            </a:lnTo>
                            <a:lnTo>
                              <a:pt x="415" y="132"/>
                            </a:lnTo>
                            <a:lnTo>
                              <a:pt x="410" y="132"/>
                            </a:lnTo>
                            <a:lnTo>
                              <a:pt x="407" y="132"/>
                            </a:lnTo>
                            <a:lnTo>
                              <a:pt x="403" y="132"/>
                            </a:lnTo>
                            <a:lnTo>
                              <a:pt x="400" y="132"/>
                            </a:lnTo>
                            <a:lnTo>
                              <a:pt x="395" y="132"/>
                            </a:lnTo>
                            <a:lnTo>
                              <a:pt x="392" y="132"/>
                            </a:lnTo>
                            <a:lnTo>
                              <a:pt x="389" y="132"/>
                            </a:lnTo>
                            <a:lnTo>
                              <a:pt x="384" y="132"/>
                            </a:lnTo>
                            <a:lnTo>
                              <a:pt x="381" y="132"/>
                            </a:lnTo>
                            <a:lnTo>
                              <a:pt x="378" y="132"/>
                            </a:lnTo>
                            <a:lnTo>
                              <a:pt x="374" y="132"/>
                            </a:lnTo>
                            <a:lnTo>
                              <a:pt x="371" y="132"/>
                            </a:lnTo>
                            <a:lnTo>
                              <a:pt x="366" y="132"/>
                            </a:lnTo>
                            <a:lnTo>
                              <a:pt x="363" y="132"/>
                            </a:lnTo>
                            <a:lnTo>
                              <a:pt x="360" y="132"/>
                            </a:lnTo>
                            <a:lnTo>
                              <a:pt x="355" y="132"/>
                            </a:lnTo>
                            <a:lnTo>
                              <a:pt x="352" y="132"/>
                            </a:lnTo>
                            <a:lnTo>
                              <a:pt x="348" y="132"/>
                            </a:lnTo>
                            <a:lnTo>
                              <a:pt x="345" y="132"/>
                            </a:lnTo>
                            <a:lnTo>
                              <a:pt x="340" y="132"/>
                            </a:lnTo>
                            <a:lnTo>
                              <a:pt x="337" y="132"/>
                            </a:lnTo>
                            <a:lnTo>
                              <a:pt x="332" y="132"/>
                            </a:lnTo>
                            <a:lnTo>
                              <a:pt x="329" y="132"/>
                            </a:lnTo>
                            <a:lnTo>
                              <a:pt x="326" y="132"/>
                            </a:lnTo>
                            <a:lnTo>
                              <a:pt x="323" y="132"/>
                            </a:lnTo>
                            <a:lnTo>
                              <a:pt x="319" y="132"/>
                            </a:lnTo>
                            <a:lnTo>
                              <a:pt x="316" y="132"/>
                            </a:lnTo>
                            <a:lnTo>
                              <a:pt x="311" y="132"/>
                            </a:lnTo>
                            <a:lnTo>
                              <a:pt x="308" y="132"/>
                            </a:lnTo>
                            <a:lnTo>
                              <a:pt x="303" y="132"/>
                            </a:lnTo>
                            <a:lnTo>
                              <a:pt x="300" y="132"/>
                            </a:lnTo>
                            <a:lnTo>
                              <a:pt x="296" y="132"/>
                            </a:lnTo>
                            <a:lnTo>
                              <a:pt x="293" y="132"/>
                            </a:lnTo>
                            <a:lnTo>
                              <a:pt x="288" y="132"/>
                            </a:lnTo>
                            <a:lnTo>
                              <a:pt x="285" y="132"/>
                            </a:lnTo>
                            <a:lnTo>
                              <a:pt x="282" y="132"/>
                            </a:lnTo>
                            <a:lnTo>
                              <a:pt x="279" y="132"/>
                            </a:lnTo>
                            <a:lnTo>
                              <a:pt x="274" y="132"/>
                            </a:lnTo>
                            <a:lnTo>
                              <a:pt x="271" y="133"/>
                            </a:lnTo>
                            <a:lnTo>
                              <a:pt x="268" y="133"/>
                            </a:lnTo>
                            <a:lnTo>
                              <a:pt x="265" y="133"/>
                            </a:lnTo>
                            <a:lnTo>
                              <a:pt x="260" y="133"/>
                            </a:lnTo>
                            <a:lnTo>
                              <a:pt x="257" y="133"/>
                            </a:lnTo>
                            <a:lnTo>
                              <a:pt x="254" y="133"/>
                            </a:lnTo>
                            <a:lnTo>
                              <a:pt x="251" y="133"/>
                            </a:lnTo>
                            <a:lnTo>
                              <a:pt x="247" y="133"/>
                            </a:lnTo>
                            <a:lnTo>
                              <a:pt x="244" y="135"/>
                            </a:lnTo>
                            <a:lnTo>
                              <a:pt x="238" y="135"/>
                            </a:lnTo>
                            <a:lnTo>
                              <a:pt x="230" y="135"/>
                            </a:lnTo>
                            <a:lnTo>
                              <a:pt x="224" y="135"/>
                            </a:lnTo>
                            <a:lnTo>
                              <a:pt x="218" y="136"/>
                            </a:lnTo>
                            <a:lnTo>
                              <a:pt x="198" y="13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2" name="Freeform 222"/>
                      <p:cNvSpPr/>
                      <p:nvPr/>
                    </p:nvSpPr>
                    <p:spPr>
                      <a:xfrm>
                        <a:off x="3144600" y="2884320"/>
                        <a:ext cx="9360" cy="1080"/>
                      </a:xfrm>
                      <a:custGeom>
                        <a:avLst/>
                        <a:gdLst>
                          <a:gd name="textAreaLeft" fmla="*/ 0 w 9360"/>
                          <a:gd name="textAreaRight" fmla="*/ 9360 w 9360"/>
                          <a:gd name="textAreaTop" fmla="*/ 0 h 1080"/>
                          <a:gd name="textAreaBottom" fmla="*/ 1440 h 1080"/>
                        </a:gdLst>
                        <a:ahLst/>
                        <a:rect l="textAreaLeft" t="textAreaTop" r="textAreaRight" b="textAreaBottom"/>
                        <a:pathLst>
                          <a:path w="105" h="12">
                            <a:moveTo>
                              <a:pt x="105" y="0"/>
                            </a:moveTo>
                            <a:lnTo>
                              <a:pt x="101" y="0"/>
                            </a:lnTo>
                            <a:lnTo>
                              <a:pt x="96" y="0"/>
                            </a:lnTo>
                            <a:lnTo>
                              <a:pt x="93" y="0"/>
                            </a:lnTo>
                            <a:lnTo>
                              <a:pt x="90" y="0"/>
                            </a:lnTo>
                            <a:lnTo>
                              <a:pt x="85" y="0"/>
                            </a:lnTo>
                            <a:lnTo>
                              <a:pt x="82" y="1"/>
                            </a:lnTo>
                            <a:lnTo>
                              <a:pt x="78" y="1"/>
                            </a:lnTo>
                            <a:lnTo>
                              <a:pt x="73" y="1"/>
                            </a:lnTo>
                            <a:lnTo>
                              <a:pt x="68" y="1"/>
                            </a:lnTo>
                            <a:lnTo>
                              <a:pt x="65" y="3"/>
                            </a:lnTo>
                            <a:lnTo>
                              <a:pt x="61" y="3"/>
                            </a:lnTo>
                            <a:lnTo>
                              <a:pt x="56" y="3"/>
                            </a:lnTo>
                            <a:lnTo>
                              <a:pt x="52" y="3"/>
                            </a:lnTo>
                            <a:lnTo>
                              <a:pt x="49" y="4"/>
                            </a:ln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5" y="6"/>
                            </a:lnTo>
                            <a:lnTo>
                              <a:pt x="32" y="6"/>
                            </a:lnTo>
                            <a:lnTo>
                              <a:pt x="27" y="6"/>
                            </a:lnTo>
                            <a:lnTo>
                              <a:pt x="23" y="6"/>
                            </a:lnTo>
                            <a:lnTo>
                              <a:pt x="20" y="7"/>
                            </a:lnTo>
                            <a:lnTo>
                              <a:pt x="16" y="8"/>
                            </a:lnTo>
                            <a:lnTo>
                              <a:pt x="10" y="8"/>
                            </a:lnTo>
                            <a:lnTo>
                              <a:pt x="4" y="10"/>
                            </a:lnTo>
                            <a:lnTo>
                              <a:pt x="1" y="11"/>
                            </a:lnTo>
                            <a:lnTo>
                              <a:pt x="0" y="12"/>
                            </a:lnTo>
                            <a:lnTo>
                              <a:pt x="4" y="12"/>
                            </a:lnTo>
                            <a:lnTo>
                              <a:pt x="12" y="12"/>
                            </a:lnTo>
                            <a:lnTo>
                              <a:pt x="15" y="11"/>
                            </a:lnTo>
                            <a:lnTo>
                              <a:pt x="18" y="11"/>
                            </a:lnTo>
                            <a:lnTo>
                              <a:pt x="24" y="10"/>
                            </a:lnTo>
                            <a:lnTo>
                              <a:pt x="30" y="10"/>
                            </a:lnTo>
                            <a:lnTo>
                              <a:pt x="35" y="8"/>
                            </a:lnTo>
                            <a:lnTo>
                              <a:pt x="41" y="8"/>
                            </a:lnTo>
                            <a:lnTo>
                              <a:pt x="46" y="8"/>
                            </a:lnTo>
                            <a:lnTo>
                              <a:pt x="47" y="10"/>
                            </a:lnTo>
                            <a:lnTo>
                              <a:pt x="76" y="6"/>
                            </a:lnTo>
                            <a:lnTo>
                              <a:pt x="76" y="7"/>
                            </a:lnTo>
                            <a:lnTo>
                              <a:pt x="79" y="7"/>
                            </a:lnTo>
                            <a:lnTo>
                              <a:pt x="84" y="7"/>
                            </a:lnTo>
                            <a:lnTo>
                              <a:pt x="87" y="6"/>
                            </a:lnTo>
                            <a:lnTo>
                              <a:pt x="93" y="6"/>
                            </a:lnTo>
                            <a:lnTo>
                              <a:pt x="96" y="6"/>
                            </a:lnTo>
                            <a:lnTo>
                              <a:pt x="101" y="4"/>
                            </a:lnTo>
                            <a:lnTo>
                              <a:pt x="104" y="1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3" name="Freeform 223"/>
                      <p:cNvSpPr/>
                      <p:nvPr/>
                    </p:nvSpPr>
                    <p:spPr>
                      <a:xfrm>
                        <a:off x="3163320" y="2884680"/>
                        <a:ext cx="11160" cy="72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24" h="9">
                            <a:moveTo>
                              <a:pt x="124" y="4"/>
                            </a:moveTo>
                            <a:lnTo>
                              <a:pt x="120" y="4"/>
                            </a:lnTo>
                            <a:lnTo>
                              <a:pt x="116" y="4"/>
                            </a:lnTo>
                            <a:lnTo>
                              <a:pt x="112" y="4"/>
                            </a:lnTo>
                            <a:lnTo>
                              <a:pt x="109" y="4"/>
                            </a:lnTo>
                            <a:lnTo>
                              <a:pt x="104" y="4"/>
                            </a:lnTo>
                            <a:lnTo>
                              <a:pt x="100" y="5"/>
                            </a:lnTo>
                            <a:lnTo>
                              <a:pt x="95" y="5"/>
                            </a:lnTo>
                            <a:lnTo>
                              <a:pt x="92" y="7"/>
                            </a:lnTo>
                            <a:lnTo>
                              <a:pt x="87" y="7"/>
                            </a:lnTo>
                            <a:lnTo>
                              <a:pt x="83" y="7"/>
                            </a:lnTo>
                            <a:lnTo>
                              <a:pt x="77" y="7"/>
                            </a:lnTo>
                            <a:lnTo>
                              <a:pt x="74" y="8"/>
                            </a:lnTo>
                            <a:lnTo>
                              <a:pt x="68" y="8"/>
                            </a:lnTo>
                            <a:lnTo>
                              <a:pt x="63" y="8"/>
                            </a:lnTo>
                            <a:lnTo>
                              <a:pt x="58" y="9"/>
                            </a:lnTo>
                            <a:lnTo>
                              <a:pt x="54" y="9"/>
                            </a:lnTo>
                            <a:lnTo>
                              <a:pt x="49" y="9"/>
                            </a:lnTo>
                            <a:lnTo>
                              <a:pt x="45" y="9"/>
                            </a:lnTo>
                            <a:lnTo>
                              <a:pt x="40" y="9"/>
                            </a:lnTo>
                            <a:lnTo>
                              <a:pt x="35" y="9"/>
                            </a:lnTo>
                            <a:lnTo>
                              <a:pt x="32" y="9"/>
                            </a:lnTo>
                            <a:lnTo>
                              <a:pt x="28" y="9"/>
                            </a:lnTo>
                            <a:lnTo>
                              <a:pt x="25" y="9"/>
                            </a:lnTo>
                            <a:lnTo>
                              <a:pt x="20" y="9"/>
                            </a:lnTo>
                            <a:lnTo>
                              <a:pt x="17" y="9"/>
                            </a:lnTo>
                            <a:lnTo>
                              <a:pt x="14" y="9"/>
                            </a:lnTo>
                            <a:lnTo>
                              <a:pt x="11" y="8"/>
                            </a:lnTo>
                            <a:lnTo>
                              <a:pt x="8" y="8"/>
                            </a:lnTo>
                            <a:lnTo>
                              <a:pt x="3" y="7"/>
                            </a:lnTo>
                            <a:lnTo>
                              <a:pt x="0" y="4"/>
                            </a:lnTo>
                            <a:lnTo>
                              <a:pt x="5" y="4"/>
                            </a:lnTo>
                            <a:lnTo>
                              <a:pt x="8" y="4"/>
                            </a:lnTo>
                            <a:lnTo>
                              <a:pt x="12" y="4"/>
                            </a:lnTo>
                            <a:lnTo>
                              <a:pt x="17" y="4"/>
                            </a:lnTo>
                            <a:lnTo>
                              <a:pt x="20" y="4"/>
                            </a:lnTo>
                            <a:lnTo>
                              <a:pt x="25" y="4"/>
                            </a:lnTo>
                            <a:lnTo>
                              <a:pt x="29" y="4"/>
                            </a:lnTo>
                            <a:lnTo>
                              <a:pt x="32" y="4"/>
                            </a:lnTo>
                            <a:lnTo>
                              <a:pt x="37" y="3"/>
                            </a:lnTo>
                            <a:lnTo>
                              <a:pt x="40" y="3"/>
                            </a:lnTo>
                            <a:lnTo>
                              <a:pt x="45" y="3"/>
                            </a:lnTo>
                            <a:lnTo>
                              <a:pt x="49" y="3"/>
                            </a:lnTo>
                            <a:lnTo>
                              <a:pt x="52" y="1"/>
                            </a:lnTo>
                            <a:lnTo>
                              <a:pt x="57" y="1"/>
                            </a:lnTo>
                            <a:lnTo>
                              <a:pt x="60" y="1"/>
                            </a:lnTo>
                            <a:lnTo>
                              <a:pt x="64" y="1"/>
                            </a:lnTo>
                            <a:lnTo>
                              <a:pt x="69" y="1"/>
                            </a:lnTo>
                            <a:lnTo>
                              <a:pt x="72" y="0"/>
                            </a:lnTo>
                            <a:lnTo>
                              <a:pt x="77" y="0"/>
                            </a:lnTo>
                            <a:lnTo>
                              <a:pt x="80" y="0"/>
                            </a:lnTo>
                            <a:lnTo>
                              <a:pt x="83" y="0"/>
                            </a:lnTo>
                            <a:lnTo>
                              <a:pt x="87" y="0"/>
                            </a:lnTo>
                            <a:lnTo>
                              <a:pt x="90" y="0"/>
                            </a:lnTo>
                            <a:lnTo>
                              <a:pt x="95" y="0"/>
                            </a:lnTo>
                            <a:lnTo>
                              <a:pt x="98" y="0"/>
                            </a:lnTo>
                            <a:lnTo>
                              <a:pt x="101" y="0"/>
                            </a:lnTo>
                            <a:lnTo>
                              <a:pt x="106" y="0"/>
                            </a:lnTo>
                            <a:lnTo>
                              <a:pt x="109" y="1"/>
                            </a:lnTo>
                            <a:lnTo>
                              <a:pt x="113" y="1"/>
                            </a:lnTo>
                            <a:lnTo>
                              <a:pt x="116" y="3"/>
                            </a:lnTo>
                            <a:lnTo>
                              <a:pt x="121" y="3"/>
                            </a:lnTo>
                            <a:lnTo>
                              <a:pt x="124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Freeform 224"/>
                      <p:cNvSpPr/>
                      <p:nvPr/>
                    </p:nvSpPr>
                    <p:spPr>
                      <a:xfrm>
                        <a:off x="3102120" y="2953080"/>
                        <a:ext cx="114840" cy="21600"/>
                      </a:xfrm>
                      <a:custGeom>
                        <a:avLst/>
                        <a:gdLst>
                          <a:gd name="textAreaLeft" fmla="*/ 0 w 114840"/>
                          <a:gd name="textAreaRight" fmla="*/ 115200 w 114840"/>
                          <a:gd name="textAreaTop" fmla="*/ 0 h 21600"/>
                          <a:gd name="textAreaBottom" fmla="*/ 21600 h 21600"/>
                        </a:gdLst>
                        <a:ahLst/>
                        <a:rect l="textAreaLeft" t="textAreaTop" r="textAreaRight" b="textAreaBottom"/>
                        <a:pathLst>
                          <a:path w="1270" h="216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0" y="11"/>
                            </a:lnTo>
                            <a:lnTo>
                              <a:pt x="2" y="17"/>
                            </a:lnTo>
                            <a:lnTo>
                              <a:pt x="2" y="22"/>
                            </a:lnTo>
                            <a:lnTo>
                              <a:pt x="2" y="28"/>
                            </a:lnTo>
                            <a:lnTo>
                              <a:pt x="3" y="34"/>
                            </a:lnTo>
                            <a:lnTo>
                              <a:pt x="3" y="37"/>
                            </a:lnTo>
                            <a:lnTo>
                              <a:pt x="3" y="40"/>
                            </a:lnTo>
                            <a:lnTo>
                              <a:pt x="3" y="43"/>
                            </a:lnTo>
                            <a:lnTo>
                              <a:pt x="3" y="47"/>
                            </a:lnTo>
                            <a:lnTo>
                              <a:pt x="3" y="52"/>
                            </a:lnTo>
                            <a:lnTo>
                              <a:pt x="5" y="58"/>
                            </a:lnTo>
                            <a:lnTo>
                              <a:pt x="5" y="60"/>
                            </a:lnTo>
                            <a:lnTo>
                              <a:pt x="5" y="65"/>
                            </a:lnTo>
                            <a:lnTo>
                              <a:pt x="5" y="67"/>
                            </a:lnTo>
                            <a:lnTo>
                              <a:pt x="6" y="71"/>
                            </a:lnTo>
                            <a:lnTo>
                              <a:pt x="6" y="74"/>
                            </a:lnTo>
                            <a:lnTo>
                              <a:pt x="6" y="77"/>
                            </a:lnTo>
                            <a:lnTo>
                              <a:pt x="6" y="80"/>
                            </a:lnTo>
                            <a:lnTo>
                              <a:pt x="6" y="84"/>
                            </a:lnTo>
                            <a:lnTo>
                              <a:pt x="6" y="87"/>
                            </a:lnTo>
                            <a:lnTo>
                              <a:pt x="6" y="89"/>
                            </a:lnTo>
                            <a:lnTo>
                              <a:pt x="8" y="93"/>
                            </a:lnTo>
                            <a:lnTo>
                              <a:pt x="8" y="96"/>
                            </a:lnTo>
                            <a:lnTo>
                              <a:pt x="8" y="99"/>
                            </a:lnTo>
                            <a:lnTo>
                              <a:pt x="8" y="103"/>
                            </a:lnTo>
                            <a:lnTo>
                              <a:pt x="9" y="106"/>
                            </a:lnTo>
                            <a:lnTo>
                              <a:pt x="9" y="109"/>
                            </a:lnTo>
                            <a:lnTo>
                              <a:pt x="9" y="111"/>
                            </a:lnTo>
                            <a:lnTo>
                              <a:pt x="9" y="115"/>
                            </a:lnTo>
                            <a:lnTo>
                              <a:pt x="11" y="118"/>
                            </a:lnTo>
                            <a:lnTo>
                              <a:pt x="11" y="121"/>
                            </a:lnTo>
                            <a:lnTo>
                              <a:pt x="11" y="124"/>
                            </a:lnTo>
                            <a:lnTo>
                              <a:pt x="11" y="128"/>
                            </a:lnTo>
                            <a:lnTo>
                              <a:pt x="12" y="130"/>
                            </a:lnTo>
                            <a:lnTo>
                              <a:pt x="12" y="133"/>
                            </a:lnTo>
                            <a:lnTo>
                              <a:pt x="12" y="136"/>
                            </a:lnTo>
                            <a:lnTo>
                              <a:pt x="14" y="140"/>
                            </a:lnTo>
                            <a:lnTo>
                              <a:pt x="14" y="143"/>
                            </a:lnTo>
                            <a:lnTo>
                              <a:pt x="14" y="147"/>
                            </a:lnTo>
                            <a:lnTo>
                              <a:pt x="14" y="152"/>
                            </a:lnTo>
                            <a:lnTo>
                              <a:pt x="16" y="158"/>
                            </a:lnTo>
                            <a:lnTo>
                              <a:pt x="16" y="161"/>
                            </a:lnTo>
                            <a:lnTo>
                              <a:pt x="17" y="165"/>
                            </a:lnTo>
                            <a:lnTo>
                              <a:pt x="17" y="168"/>
                            </a:lnTo>
                            <a:lnTo>
                              <a:pt x="17" y="170"/>
                            </a:lnTo>
                            <a:lnTo>
                              <a:pt x="19" y="176"/>
                            </a:lnTo>
                            <a:lnTo>
                              <a:pt x="20" y="183"/>
                            </a:lnTo>
                            <a:lnTo>
                              <a:pt x="20" y="185"/>
                            </a:lnTo>
                            <a:lnTo>
                              <a:pt x="20" y="188"/>
                            </a:lnTo>
                            <a:lnTo>
                              <a:pt x="22" y="191"/>
                            </a:lnTo>
                            <a:lnTo>
                              <a:pt x="23" y="195"/>
                            </a:lnTo>
                            <a:lnTo>
                              <a:pt x="25" y="191"/>
                            </a:lnTo>
                            <a:lnTo>
                              <a:pt x="25" y="185"/>
                            </a:lnTo>
                            <a:lnTo>
                              <a:pt x="23" y="179"/>
                            </a:lnTo>
                            <a:lnTo>
                              <a:pt x="23" y="173"/>
                            </a:lnTo>
                            <a:lnTo>
                              <a:pt x="22" y="169"/>
                            </a:lnTo>
                            <a:lnTo>
                              <a:pt x="22" y="163"/>
                            </a:lnTo>
                            <a:lnTo>
                              <a:pt x="20" y="158"/>
                            </a:lnTo>
                            <a:lnTo>
                              <a:pt x="20" y="152"/>
                            </a:lnTo>
                            <a:lnTo>
                              <a:pt x="20" y="148"/>
                            </a:lnTo>
                            <a:lnTo>
                              <a:pt x="20" y="141"/>
                            </a:lnTo>
                            <a:lnTo>
                              <a:pt x="20" y="137"/>
                            </a:lnTo>
                            <a:lnTo>
                              <a:pt x="19" y="132"/>
                            </a:lnTo>
                            <a:lnTo>
                              <a:pt x="19" y="126"/>
                            </a:lnTo>
                            <a:lnTo>
                              <a:pt x="19" y="121"/>
                            </a:lnTo>
                            <a:lnTo>
                              <a:pt x="19" y="117"/>
                            </a:lnTo>
                            <a:lnTo>
                              <a:pt x="19" y="111"/>
                            </a:lnTo>
                            <a:lnTo>
                              <a:pt x="19" y="106"/>
                            </a:lnTo>
                            <a:lnTo>
                              <a:pt x="17" y="100"/>
                            </a:lnTo>
                            <a:lnTo>
                              <a:pt x="17" y="95"/>
                            </a:lnTo>
                            <a:lnTo>
                              <a:pt x="17" y="89"/>
                            </a:lnTo>
                            <a:lnTo>
                              <a:pt x="17" y="85"/>
                            </a:lnTo>
                            <a:lnTo>
                              <a:pt x="17" y="80"/>
                            </a:lnTo>
                            <a:lnTo>
                              <a:pt x="17" y="74"/>
                            </a:lnTo>
                            <a:lnTo>
                              <a:pt x="17" y="69"/>
                            </a:lnTo>
                            <a:lnTo>
                              <a:pt x="17" y="63"/>
                            </a:lnTo>
                            <a:lnTo>
                              <a:pt x="16" y="58"/>
                            </a:lnTo>
                            <a:lnTo>
                              <a:pt x="16" y="54"/>
                            </a:lnTo>
                            <a:lnTo>
                              <a:pt x="16" y="48"/>
                            </a:lnTo>
                            <a:lnTo>
                              <a:pt x="16" y="43"/>
                            </a:lnTo>
                            <a:lnTo>
                              <a:pt x="16" y="37"/>
                            </a:lnTo>
                            <a:lnTo>
                              <a:pt x="16" y="33"/>
                            </a:lnTo>
                            <a:lnTo>
                              <a:pt x="16" y="28"/>
                            </a:lnTo>
                            <a:lnTo>
                              <a:pt x="16" y="22"/>
                            </a:lnTo>
                            <a:lnTo>
                              <a:pt x="17" y="21"/>
                            </a:lnTo>
                            <a:lnTo>
                              <a:pt x="20" y="21"/>
                            </a:lnTo>
                            <a:lnTo>
                              <a:pt x="25" y="21"/>
                            </a:lnTo>
                            <a:lnTo>
                              <a:pt x="31" y="21"/>
                            </a:lnTo>
                            <a:lnTo>
                              <a:pt x="35" y="21"/>
                            </a:lnTo>
                            <a:lnTo>
                              <a:pt x="40" y="21"/>
                            </a:lnTo>
                            <a:lnTo>
                              <a:pt x="43" y="21"/>
                            </a:lnTo>
                            <a:lnTo>
                              <a:pt x="45" y="22"/>
                            </a:lnTo>
                            <a:lnTo>
                              <a:pt x="46" y="21"/>
                            </a:lnTo>
                            <a:lnTo>
                              <a:pt x="49" y="21"/>
                            </a:lnTo>
                            <a:lnTo>
                              <a:pt x="51" y="21"/>
                            </a:lnTo>
                            <a:lnTo>
                              <a:pt x="55" y="21"/>
                            </a:lnTo>
                            <a:lnTo>
                              <a:pt x="58" y="19"/>
                            </a:lnTo>
                            <a:lnTo>
                              <a:pt x="63" y="19"/>
                            </a:lnTo>
                            <a:lnTo>
                              <a:pt x="66" y="19"/>
                            </a:lnTo>
                            <a:lnTo>
                              <a:pt x="71" y="19"/>
                            </a:lnTo>
                            <a:lnTo>
                              <a:pt x="75" y="19"/>
                            </a:lnTo>
                            <a:lnTo>
                              <a:pt x="78" y="19"/>
                            </a:lnTo>
                            <a:lnTo>
                              <a:pt x="81" y="19"/>
                            </a:lnTo>
                            <a:lnTo>
                              <a:pt x="86" y="21"/>
                            </a:lnTo>
                            <a:lnTo>
                              <a:pt x="89" y="23"/>
                            </a:lnTo>
                            <a:lnTo>
                              <a:pt x="90" y="28"/>
                            </a:lnTo>
                            <a:lnTo>
                              <a:pt x="86" y="28"/>
                            </a:lnTo>
                            <a:lnTo>
                              <a:pt x="80" y="29"/>
                            </a:lnTo>
                            <a:lnTo>
                              <a:pt x="75" y="29"/>
                            </a:lnTo>
                            <a:lnTo>
                              <a:pt x="71" y="29"/>
                            </a:lnTo>
                            <a:lnTo>
                              <a:pt x="66" y="29"/>
                            </a:lnTo>
                            <a:lnTo>
                              <a:pt x="63" y="29"/>
                            </a:lnTo>
                            <a:lnTo>
                              <a:pt x="58" y="29"/>
                            </a:lnTo>
                            <a:lnTo>
                              <a:pt x="55" y="29"/>
                            </a:lnTo>
                            <a:lnTo>
                              <a:pt x="51" y="29"/>
                            </a:lnTo>
                            <a:lnTo>
                              <a:pt x="46" y="29"/>
                            </a:lnTo>
                            <a:lnTo>
                              <a:pt x="42" y="29"/>
                            </a:lnTo>
                            <a:lnTo>
                              <a:pt x="38" y="29"/>
                            </a:lnTo>
                            <a:lnTo>
                              <a:pt x="34" y="29"/>
                            </a:lnTo>
                            <a:lnTo>
                              <a:pt x="28" y="29"/>
                            </a:lnTo>
                            <a:lnTo>
                              <a:pt x="23" y="30"/>
                            </a:lnTo>
                            <a:lnTo>
                              <a:pt x="17" y="32"/>
                            </a:lnTo>
                            <a:lnTo>
                              <a:pt x="17" y="37"/>
                            </a:lnTo>
                            <a:lnTo>
                              <a:pt x="19" y="43"/>
                            </a:lnTo>
                            <a:lnTo>
                              <a:pt x="19" y="48"/>
                            </a:lnTo>
                            <a:lnTo>
                              <a:pt x="20" y="55"/>
                            </a:lnTo>
                            <a:lnTo>
                              <a:pt x="20" y="60"/>
                            </a:lnTo>
                            <a:lnTo>
                              <a:pt x="20" y="65"/>
                            </a:lnTo>
                            <a:lnTo>
                              <a:pt x="20" y="70"/>
                            </a:lnTo>
                            <a:lnTo>
                              <a:pt x="22" y="76"/>
                            </a:lnTo>
                            <a:lnTo>
                              <a:pt x="22" y="80"/>
                            </a:lnTo>
                            <a:lnTo>
                              <a:pt x="22" y="85"/>
                            </a:lnTo>
                            <a:lnTo>
                              <a:pt x="23" y="89"/>
                            </a:lnTo>
                            <a:lnTo>
                              <a:pt x="23" y="95"/>
                            </a:lnTo>
                            <a:lnTo>
                              <a:pt x="25" y="98"/>
                            </a:lnTo>
                            <a:lnTo>
                              <a:pt x="25" y="103"/>
                            </a:lnTo>
                            <a:lnTo>
                              <a:pt x="25" y="107"/>
                            </a:lnTo>
                            <a:lnTo>
                              <a:pt x="26" y="111"/>
                            </a:lnTo>
                            <a:lnTo>
                              <a:pt x="26" y="115"/>
                            </a:lnTo>
                            <a:lnTo>
                              <a:pt x="28" y="120"/>
                            </a:lnTo>
                            <a:lnTo>
                              <a:pt x="28" y="124"/>
                            </a:lnTo>
                            <a:lnTo>
                              <a:pt x="29" y="128"/>
                            </a:lnTo>
                            <a:lnTo>
                              <a:pt x="29" y="132"/>
                            </a:lnTo>
                            <a:lnTo>
                              <a:pt x="31" y="137"/>
                            </a:lnTo>
                            <a:lnTo>
                              <a:pt x="31" y="141"/>
                            </a:lnTo>
                            <a:lnTo>
                              <a:pt x="32" y="147"/>
                            </a:lnTo>
                            <a:lnTo>
                              <a:pt x="34" y="151"/>
                            </a:lnTo>
                            <a:lnTo>
                              <a:pt x="35" y="155"/>
                            </a:lnTo>
                            <a:lnTo>
                              <a:pt x="35" y="161"/>
                            </a:lnTo>
                            <a:lnTo>
                              <a:pt x="37" y="166"/>
                            </a:lnTo>
                            <a:lnTo>
                              <a:pt x="38" y="172"/>
                            </a:lnTo>
                            <a:lnTo>
                              <a:pt x="40" y="177"/>
                            </a:lnTo>
                            <a:lnTo>
                              <a:pt x="40" y="180"/>
                            </a:lnTo>
                            <a:lnTo>
                              <a:pt x="42" y="184"/>
                            </a:lnTo>
                            <a:lnTo>
                              <a:pt x="42" y="187"/>
                            </a:lnTo>
                            <a:lnTo>
                              <a:pt x="43" y="191"/>
                            </a:lnTo>
                            <a:lnTo>
                              <a:pt x="46" y="188"/>
                            </a:lnTo>
                            <a:lnTo>
                              <a:pt x="51" y="185"/>
                            </a:lnTo>
                            <a:lnTo>
                              <a:pt x="49" y="180"/>
                            </a:lnTo>
                            <a:lnTo>
                              <a:pt x="49" y="174"/>
                            </a:lnTo>
                            <a:lnTo>
                              <a:pt x="49" y="169"/>
                            </a:lnTo>
                            <a:lnTo>
                              <a:pt x="49" y="165"/>
                            </a:lnTo>
                            <a:lnTo>
                              <a:pt x="48" y="159"/>
                            </a:lnTo>
                            <a:lnTo>
                              <a:pt x="48" y="155"/>
                            </a:lnTo>
                            <a:lnTo>
                              <a:pt x="48" y="151"/>
                            </a:lnTo>
                            <a:lnTo>
                              <a:pt x="48" y="147"/>
                            </a:lnTo>
                            <a:lnTo>
                              <a:pt x="48" y="143"/>
                            </a:lnTo>
                            <a:lnTo>
                              <a:pt x="48" y="139"/>
                            </a:lnTo>
                            <a:lnTo>
                              <a:pt x="48" y="136"/>
                            </a:lnTo>
                            <a:lnTo>
                              <a:pt x="48" y="132"/>
                            </a:lnTo>
                            <a:lnTo>
                              <a:pt x="48" y="129"/>
                            </a:lnTo>
                            <a:lnTo>
                              <a:pt x="48" y="126"/>
                            </a:lnTo>
                            <a:lnTo>
                              <a:pt x="48" y="122"/>
                            </a:lnTo>
                            <a:lnTo>
                              <a:pt x="48" y="120"/>
                            </a:lnTo>
                            <a:lnTo>
                              <a:pt x="46" y="115"/>
                            </a:lnTo>
                            <a:lnTo>
                              <a:pt x="46" y="111"/>
                            </a:lnTo>
                            <a:lnTo>
                              <a:pt x="46" y="107"/>
                            </a:lnTo>
                            <a:lnTo>
                              <a:pt x="46" y="104"/>
                            </a:lnTo>
                            <a:lnTo>
                              <a:pt x="45" y="100"/>
                            </a:lnTo>
                            <a:lnTo>
                              <a:pt x="45" y="98"/>
                            </a:lnTo>
                            <a:lnTo>
                              <a:pt x="45" y="93"/>
                            </a:lnTo>
                            <a:lnTo>
                              <a:pt x="45" y="89"/>
                            </a:lnTo>
                            <a:lnTo>
                              <a:pt x="45" y="85"/>
                            </a:lnTo>
                            <a:lnTo>
                              <a:pt x="45" y="81"/>
                            </a:lnTo>
                            <a:lnTo>
                              <a:pt x="43" y="76"/>
                            </a:lnTo>
                            <a:lnTo>
                              <a:pt x="43" y="73"/>
                            </a:lnTo>
                            <a:lnTo>
                              <a:pt x="42" y="67"/>
                            </a:lnTo>
                            <a:lnTo>
                              <a:pt x="42" y="62"/>
                            </a:lnTo>
                            <a:lnTo>
                              <a:pt x="42" y="58"/>
                            </a:lnTo>
                            <a:lnTo>
                              <a:pt x="40" y="52"/>
                            </a:lnTo>
                            <a:lnTo>
                              <a:pt x="45" y="50"/>
                            </a:lnTo>
                            <a:lnTo>
                              <a:pt x="49" y="48"/>
                            </a:lnTo>
                            <a:lnTo>
                              <a:pt x="54" y="47"/>
                            </a:lnTo>
                            <a:lnTo>
                              <a:pt x="60" y="47"/>
                            </a:lnTo>
                            <a:lnTo>
                              <a:pt x="64" y="45"/>
                            </a:lnTo>
                            <a:lnTo>
                              <a:pt x="69" y="45"/>
                            </a:lnTo>
                            <a:lnTo>
                              <a:pt x="75" y="45"/>
                            </a:lnTo>
                            <a:lnTo>
                              <a:pt x="81" y="47"/>
                            </a:lnTo>
                            <a:lnTo>
                              <a:pt x="61" y="59"/>
                            </a:lnTo>
                            <a:lnTo>
                              <a:pt x="58" y="56"/>
                            </a:lnTo>
                            <a:lnTo>
                              <a:pt x="48" y="59"/>
                            </a:lnTo>
                            <a:lnTo>
                              <a:pt x="48" y="63"/>
                            </a:lnTo>
                            <a:lnTo>
                              <a:pt x="49" y="69"/>
                            </a:lnTo>
                            <a:lnTo>
                              <a:pt x="49" y="73"/>
                            </a:lnTo>
                            <a:lnTo>
                              <a:pt x="49" y="78"/>
                            </a:lnTo>
                            <a:lnTo>
                              <a:pt x="49" y="82"/>
                            </a:lnTo>
                            <a:lnTo>
                              <a:pt x="51" y="88"/>
                            </a:lnTo>
                            <a:lnTo>
                              <a:pt x="51" y="93"/>
                            </a:lnTo>
                            <a:lnTo>
                              <a:pt x="52" y="98"/>
                            </a:lnTo>
                            <a:lnTo>
                              <a:pt x="52" y="103"/>
                            </a:lnTo>
                            <a:lnTo>
                              <a:pt x="54" y="107"/>
                            </a:lnTo>
                            <a:lnTo>
                              <a:pt x="54" y="113"/>
                            </a:lnTo>
                            <a:lnTo>
                              <a:pt x="55" y="118"/>
                            </a:lnTo>
                            <a:lnTo>
                              <a:pt x="55" y="122"/>
                            </a:lnTo>
                            <a:lnTo>
                              <a:pt x="57" y="128"/>
                            </a:lnTo>
                            <a:lnTo>
                              <a:pt x="57" y="132"/>
                            </a:lnTo>
                            <a:lnTo>
                              <a:pt x="58" y="137"/>
                            </a:lnTo>
                            <a:lnTo>
                              <a:pt x="58" y="141"/>
                            </a:lnTo>
                            <a:lnTo>
                              <a:pt x="60" y="147"/>
                            </a:lnTo>
                            <a:lnTo>
                              <a:pt x="60" y="151"/>
                            </a:lnTo>
                            <a:lnTo>
                              <a:pt x="61" y="157"/>
                            </a:lnTo>
                            <a:lnTo>
                              <a:pt x="61" y="161"/>
                            </a:lnTo>
                            <a:lnTo>
                              <a:pt x="63" y="166"/>
                            </a:lnTo>
                            <a:lnTo>
                              <a:pt x="63" y="170"/>
                            </a:lnTo>
                            <a:lnTo>
                              <a:pt x="64" y="176"/>
                            </a:lnTo>
                            <a:lnTo>
                              <a:pt x="64" y="180"/>
                            </a:lnTo>
                            <a:lnTo>
                              <a:pt x="66" y="185"/>
                            </a:lnTo>
                            <a:lnTo>
                              <a:pt x="66" y="190"/>
                            </a:lnTo>
                            <a:lnTo>
                              <a:pt x="68" y="195"/>
                            </a:lnTo>
                            <a:lnTo>
                              <a:pt x="68" y="201"/>
                            </a:lnTo>
                            <a:lnTo>
                              <a:pt x="69" y="205"/>
                            </a:lnTo>
                            <a:lnTo>
                              <a:pt x="69" y="210"/>
                            </a:lnTo>
                            <a:lnTo>
                              <a:pt x="71" y="216"/>
                            </a:lnTo>
                            <a:lnTo>
                              <a:pt x="83" y="213"/>
                            </a:lnTo>
                            <a:lnTo>
                              <a:pt x="83" y="209"/>
                            </a:lnTo>
                            <a:lnTo>
                              <a:pt x="83" y="205"/>
                            </a:lnTo>
                            <a:lnTo>
                              <a:pt x="83" y="201"/>
                            </a:lnTo>
                            <a:lnTo>
                              <a:pt x="83" y="196"/>
                            </a:lnTo>
                            <a:lnTo>
                              <a:pt x="83" y="192"/>
                            </a:lnTo>
                            <a:lnTo>
                              <a:pt x="83" y="188"/>
                            </a:lnTo>
                            <a:lnTo>
                              <a:pt x="83" y="185"/>
                            </a:lnTo>
                            <a:lnTo>
                              <a:pt x="83" y="181"/>
                            </a:lnTo>
                            <a:lnTo>
                              <a:pt x="83" y="176"/>
                            </a:lnTo>
                            <a:lnTo>
                              <a:pt x="83" y="173"/>
                            </a:lnTo>
                            <a:lnTo>
                              <a:pt x="83" y="169"/>
                            </a:lnTo>
                            <a:lnTo>
                              <a:pt x="83" y="165"/>
                            </a:lnTo>
                            <a:lnTo>
                              <a:pt x="81" y="161"/>
                            </a:lnTo>
                            <a:lnTo>
                              <a:pt x="81" y="157"/>
                            </a:lnTo>
                            <a:lnTo>
                              <a:pt x="81" y="152"/>
                            </a:lnTo>
                            <a:lnTo>
                              <a:pt x="81" y="150"/>
                            </a:lnTo>
                            <a:lnTo>
                              <a:pt x="81" y="139"/>
                            </a:lnTo>
                            <a:lnTo>
                              <a:pt x="81" y="135"/>
                            </a:lnTo>
                            <a:lnTo>
                              <a:pt x="83" y="136"/>
                            </a:lnTo>
                            <a:lnTo>
                              <a:pt x="83" y="137"/>
                            </a:lnTo>
                            <a:lnTo>
                              <a:pt x="84" y="140"/>
                            </a:lnTo>
                            <a:lnTo>
                              <a:pt x="86" y="143"/>
                            </a:lnTo>
                            <a:lnTo>
                              <a:pt x="87" y="147"/>
                            </a:lnTo>
                            <a:lnTo>
                              <a:pt x="89" y="151"/>
                            </a:lnTo>
                            <a:lnTo>
                              <a:pt x="89" y="154"/>
                            </a:lnTo>
                            <a:lnTo>
                              <a:pt x="90" y="158"/>
                            </a:lnTo>
                            <a:lnTo>
                              <a:pt x="92" y="163"/>
                            </a:lnTo>
                            <a:lnTo>
                              <a:pt x="94" y="166"/>
                            </a:lnTo>
                            <a:lnTo>
                              <a:pt x="94" y="170"/>
                            </a:lnTo>
                            <a:lnTo>
                              <a:pt x="95" y="173"/>
                            </a:lnTo>
                            <a:lnTo>
                              <a:pt x="97" y="177"/>
                            </a:lnTo>
                            <a:lnTo>
                              <a:pt x="103" y="177"/>
                            </a:lnTo>
                            <a:lnTo>
                              <a:pt x="94" y="102"/>
                            </a:lnTo>
                            <a:lnTo>
                              <a:pt x="100" y="100"/>
                            </a:lnTo>
                            <a:lnTo>
                              <a:pt x="106" y="98"/>
                            </a:lnTo>
                            <a:lnTo>
                              <a:pt x="112" y="96"/>
                            </a:lnTo>
                            <a:lnTo>
                              <a:pt x="120" y="95"/>
                            </a:lnTo>
                            <a:lnTo>
                              <a:pt x="123" y="95"/>
                            </a:lnTo>
                            <a:lnTo>
                              <a:pt x="126" y="93"/>
                            </a:lnTo>
                            <a:lnTo>
                              <a:pt x="130" y="92"/>
                            </a:lnTo>
                            <a:lnTo>
                              <a:pt x="133" y="92"/>
                            </a:lnTo>
                            <a:lnTo>
                              <a:pt x="138" y="91"/>
                            </a:lnTo>
                            <a:lnTo>
                              <a:pt x="141" y="91"/>
                            </a:lnTo>
                            <a:lnTo>
                              <a:pt x="144" y="89"/>
                            </a:lnTo>
                            <a:lnTo>
                              <a:pt x="149" y="88"/>
                            </a:lnTo>
                            <a:lnTo>
                              <a:pt x="152" y="88"/>
                            </a:lnTo>
                            <a:lnTo>
                              <a:pt x="156" y="87"/>
                            </a:lnTo>
                            <a:lnTo>
                              <a:pt x="159" y="85"/>
                            </a:lnTo>
                            <a:lnTo>
                              <a:pt x="164" y="85"/>
                            </a:lnTo>
                            <a:lnTo>
                              <a:pt x="167" y="84"/>
                            </a:lnTo>
                            <a:lnTo>
                              <a:pt x="172" y="84"/>
                            </a:lnTo>
                            <a:lnTo>
                              <a:pt x="175" y="82"/>
                            </a:lnTo>
                            <a:lnTo>
                              <a:pt x="179" y="82"/>
                            </a:lnTo>
                            <a:lnTo>
                              <a:pt x="182" y="81"/>
                            </a:lnTo>
                            <a:lnTo>
                              <a:pt x="187" y="80"/>
                            </a:lnTo>
                            <a:lnTo>
                              <a:pt x="190" y="80"/>
                            </a:lnTo>
                            <a:lnTo>
                              <a:pt x="194" y="78"/>
                            </a:lnTo>
                            <a:lnTo>
                              <a:pt x="198" y="77"/>
                            </a:lnTo>
                            <a:lnTo>
                              <a:pt x="202" y="77"/>
                            </a:lnTo>
                            <a:lnTo>
                              <a:pt x="207" y="76"/>
                            </a:lnTo>
                            <a:lnTo>
                              <a:pt x="210" y="76"/>
                            </a:lnTo>
                            <a:lnTo>
                              <a:pt x="214" y="76"/>
                            </a:lnTo>
                            <a:lnTo>
                              <a:pt x="217" y="74"/>
                            </a:lnTo>
                            <a:lnTo>
                              <a:pt x="222" y="73"/>
                            </a:lnTo>
                            <a:lnTo>
                              <a:pt x="225" y="73"/>
                            </a:lnTo>
                            <a:lnTo>
                              <a:pt x="230" y="73"/>
                            </a:lnTo>
                            <a:lnTo>
                              <a:pt x="233" y="71"/>
                            </a:lnTo>
                            <a:lnTo>
                              <a:pt x="237" y="71"/>
                            </a:lnTo>
                            <a:lnTo>
                              <a:pt x="240" y="71"/>
                            </a:lnTo>
                            <a:lnTo>
                              <a:pt x="243" y="70"/>
                            </a:lnTo>
                            <a:lnTo>
                              <a:pt x="246" y="70"/>
                            </a:lnTo>
                            <a:lnTo>
                              <a:pt x="251" y="70"/>
                            </a:lnTo>
                            <a:lnTo>
                              <a:pt x="254" y="70"/>
                            </a:lnTo>
                            <a:lnTo>
                              <a:pt x="259" y="69"/>
                            </a:lnTo>
                            <a:lnTo>
                              <a:pt x="262" y="69"/>
                            </a:lnTo>
                            <a:lnTo>
                              <a:pt x="266" y="69"/>
                            </a:lnTo>
                            <a:lnTo>
                              <a:pt x="269" y="69"/>
                            </a:lnTo>
                            <a:lnTo>
                              <a:pt x="276" y="69"/>
                            </a:lnTo>
                            <a:lnTo>
                              <a:pt x="282" y="69"/>
                            </a:lnTo>
                            <a:lnTo>
                              <a:pt x="289" y="69"/>
                            </a:lnTo>
                            <a:lnTo>
                              <a:pt x="295" y="70"/>
                            </a:lnTo>
                            <a:lnTo>
                              <a:pt x="302" y="70"/>
                            </a:lnTo>
                            <a:lnTo>
                              <a:pt x="308" y="71"/>
                            </a:lnTo>
                            <a:lnTo>
                              <a:pt x="312" y="73"/>
                            </a:lnTo>
                            <a:lnTo>
                              <a:pt x="318" y="74"/>
                            </a:lnTo>
                            <a:lnTo>
                              <a:pt x="312" y="76"/>
                            </a:lnTo>
                            <a:lnTo>
                              <a:pt x="306" y="76"/>
                            </a:lnTo>
                            <a:lnTo>
                              <a:pt x="300" y="76"/>
                            </a:lnTo>
                            <a:lnTo>
                              <a:pt x="294" y="77"/>
                            </a:lnTo>
                            <a:lnTo>
                              <a:pt x="288" y="78"/>
                            </a:lnTo>
                            <a:lnTo>
                              <a:pt x="282" y="80"/>
                            </a:lnTo>
                            <a:lnTo>
                              <a:pt x="276" y="80"/>
                            </a:lnTo>
                            <a:lnTo>
                              <a:pt x="269" y="81"/>
                            </a:lnTo>
                            <a:lnTo>
                              <a:pt x="265" y="81"/>
                            </a:lnTo>
                            <a:lnTo>
                              <a:pt x="262" y="81"/>
                            </a:lnTo>
                            <a:lnTo>
                              <a:pt x="259" y="81"/>
                            </a:lnTo>
                            <a:lnTo>
                              <a:pt x="256" y="82"/>
                            </a:lnTo>
                            <a:lnTo>
                              <a:pt x="248" y="82"/>
                            </a:lnTo>
                            <a:lnTo>
                              <a:pt x="242" y="84"/>
                            </a:lnTo>
                            <a:lnTo>
                              <a:pt x="239" y="84"/>
                            </a:lnTo>
                            <a:lnTo>
                              <a:pt x="234" y="84"/>
                            </a:lnTo>
                            <a:lnTo>
                              <a:pt x="231" y="84"/>
                            </a:lnTo>
                            <a:lnTo>
                              <a:pt x="228" y="85"/>
                            </a:lnTo>
                            <a:lnTo>
                              <a:pt x="225" y="85"/>
                            </a:lnTo>
                            <a:lnTo>
                              <a:pt x="220" y="85"/>
                            </a:lnTo>
                            <a:lnTo>
                              <a:pt x="217" y="85"/>
                            </a:lnTo>
                            <a:lnTo>
                              <a:pt x="214" y="85"/>
                            </a:lnTo>
                            <a:lnTo>
                              <a:pt x="211" y="85"/>
                            </a:lnTo>
                            <a:lnTo>
                              <a:pt x="207" y="87"/>
                            </a:lnTo>
                            <a:lnTo>
                              <a:pt x="204" y="87"/>
                            </a:lnTo>
                            <a:lnTo>
                              <a:pt x="201" y="88"/>
                            </a:lnTo>
                            <a:lnTo>
                              <a:pt x="198" y="88"/>
                            </a:lnTo>
                            <a:lnTo>
                              <a:pt x="193" y="88"/>
                            </a:lnTo>
                            <a:lnTo>
                              <a:pt x="190" y="89"/>
                            </a:lnTo>
                            <a:lnTo>
                              <a:pt x="187" y="91"/>
                            </a:lnTo>
                            <a:lnTo>
                              <a:pt x="181" y="92"/>
                            </a:lnTo>
                            <a:lnTo>
                              <a:pt x="175" y="93"/>
                            </a:lnTo>
                            <a:lnTo>
                              <a:pt x="167" y="95"/>
                            </a:lnTo>
                            <a:lnTo>
                              <a:pt x="161" y="98"/>
                            </a:lnTo>
                            <a:lnTo>
                              <a:pt x="158" y="98"/>
                            </a:lnTo>
                            <a:lnTo>
                              <a:pt x="153" y="99"/>
                            </a:lnTo>
                            <a:lnTo>
                              <a:pt x="150" y="100"/>
                            </a:lnTo>
                            <a:lnTo>
                              <a:pt x="147" y="102"/>
                            </a:lnTo>
                            <a:lnTo>
                              <a:pt x="141" y="103"/>
                            </a:lnTo>
                            <a:lnTo>
                              <a:pt x="135" y="106"/>
                            </a:lnTo>
                            <a:lnTo>
                              <a:pt x="127" y="109"/>
                            </a:lnTo>
                            <a:lnTo>
                              <a:pt x="123" y="111"/>
                            </a:lnTo>
                            <a:lnTo>
                              <a:pt x="116" y="114"/>
                            </a:lnTo>
                            <a:lnTo>
                              <a:pt x="110" y="118"/>
                            </a:lnTo>
                            <a:lnTo>
                              <a:pt x="113" y="132"/>
                            </a:lnTo>
                            <a:lnTo>
                              <a:pt x="116" y="126"/>
                            </a:lnTo>
                            <a:lnTo>
                              <a:pt x="121" y="124"/>
                            </a:lnTo>
                            <a:lnTo>
                              <a:pt x="124" y="121"/>
                            </a:lnTo>
                            <a:lnTo>
                              <a:pt x="127" y="120"/>
                            </a:lnTo>
                            <a:lnTo>
                              <a:pt x="130" y="118"/>
                            </a:lnTo>
                            <a:lnTo>
                              <a:pt x="135" y="117"/>
                            </a:lnTo>
                            <a:lnTo>
                              <a:pt x="139" y="114"/>
                            </a:lnTo>
                            <a:lnTo>
                              <a:pt x="144" y="113"/>
                            </a:lnTo>
                            <a:lnTo>
                              <a:pt x="147" y="111"/>
                            </a:lnTo>
                            <a:lnTo>
                              <a:pt x="153" y="110"/>
                            </a:lnTo>
                            <a:lnTo>
                              <a:pt x="158" y="107"/>
                            </a:lnTo>
                            <a:lnTo>
                              <a:pt x="164" y="107"/>
                            </a:lnTo>
                            <a:lnTo>
                              <a:pt x="170" y="104"/>
                            </a:lnTo>
                            <a:lnTo>
                              <a:pt x="176" y="104"/>
                            </a:lnTo>
                            <a:lnTo>
                              <a:pt x="182" y="102"/>
                            </a:lnTo>
                            <a:lnTo>
                              <a:pt x="188" y="100"/>
                            </a:lnTo>
                            <a:lnTo>
                              <a:pt x="194" y="99"/>
                            </a:lnTo>
                            <a:lnTo>
                              <a:pt x="202" y="98"/>
                            </a:lnTo>
                            <a:lnTo>
                              <a:pt x="208" y="96"/>
                            </a:lnTo>
                            <a:lnTo>
                              <a:pt x="216" y="95"/>
                            </a:lnTo>
                            <a:lnTo>
                              <a:pt x="224" y="95"/>
                            </a:lnTo>
                            <a:lnTo>
                              <a:pt x="231" y="93"/>
                            </a:lnTo>
                            <a:lnTo>
                              <a:pt x="237" y="92"/>
                            </a:lnTo>
                            <a:lnTo>
                              <a:pt x="245" y="91"/>
                            </a:lnTo>
                            <a:lnTo>
                              <a:pt x="253" y="89"/>
                            </a:lnTo>
                            <a:lnTo>
                              <a:pt x="260" y="88"/>
                            </a:lnTo>
                            <a:lnTo>
                              <a:pt x="268" y="88"/>
                            </a:lnTo>
                            <a:lnTo>
                              <a:pt x="277" y="87"/>
                            </a:lnTo>
                            <a:lnTo>
                              <a:pt x="285" y="85"/>
                            </a:lnTo>
                            <a:lnTo>
                              <a:pt x="292" y="85"/>
                            </a:lnTo>
                            <a:lnTo>
                              <a:pt x="300" y="84"/>
                            </a:lnTo>
                            <a:lnTo>
                              <a:pt x="308" y="82"/>
                            </a:lnTo>
                            <a:lnTo>
                              <a:pt x="315" y="82"/>
                            </a:lnTo>
                            <a:lnTo>
                              <a:pt x="325" y="81"/>
                            </a:lnTo>
                            <a:lnTo>
                              <a:pt x="332" y="80"/>
                            </a:lnTo>
                            <a:lnTo>
                              <a:pt x="340" y="80"/>
                            </a:lnTo>
                            <a:lnTo>
                              <a:pt x="347" y="78"/>
                            </a:lnTo>
                            <a:lnTo>
                              <a:pt x="357" y="78"/>
                            </a:lnTo>
                            <a:lnTo>
                              <a:pt x="364" y="77"/>
                            </a:lnTo>
                            <a:lnTo>
                              <a:pt x="370" y="77"/>
                            </a:lnTo>
                            <a:lnTo>
                              <a:pt x="378" y="76"/>
                            </a:lnTo>
                            <a:lnTo>
                              <a:pt x="386" y="76"/>
                            </a:lnTo>
                            <a:lnTo>
                              <a:pt x="393" y="74"/>
                            </a:lnTo>
                            <a:lnTo>
                              <a:pt x="401" y="74"/>
                            </a:lnTo>
                            <a:lnTo>
                              <a:pt x="409" y="73"/>
                            </a:lnTo>
                            <a:lnTo>
                              <a:pt x="416" y="73"/>
                            </a:lnTo>
                            <a:lnTo>
                              <a:pt x="422" y="73"/>
                            </a:lnTo>
                            <a:lnTo>
                              <a:pt x="429" y="73"/>
                            </a:lnTo>
                            <a:lnTo>
                              <a:pt x="435" y="71"/>
                            </a:lnTo>
                            <a:lnTo>
                              <a:pt x="442" y="71"/>
                            </a:lnTo>
                            <a:lnTo>
                              <a:pt x="448" y="71"/>
                            </a:lnTo>
                            <a:lnTo>
                              <a:pt x="455" y="70"/>
                            </a:lnTo>
                            <a:lnTo>
                              <a:pt x="461" y="70"/>
                            </a:lnTo>
                            <a:lnTo>
                              <a:pt x="467" y="70"/>
                            </a:lnTo>
                            <a:lnTo>
                              <a:pt x="471" y="70"/>
                            </a:lnTo>
                            <a:lnTo>
                              <a:pt x="476" y="70"/>
                            </a:lnTo>
                            <a:lnTo>
                              <a:pt x="481" y="70"/>
                            </a:lnTo>
                            <a:lnTo>
                              <a:pt x="487" y="70"/>
                            </a:lnTo>
                            <a:lnTo>
                              <a:pt x="490" y="70"/>
                            </a:lnTo>
                            <a:lnTo>
                              <a:pt x="494" y="70"/>
                            </a:lnTo>
                            <a:lnTo>
                              <a:pt x="497" y="70"/>
                            </a:lnTo>
                            <a:lnTo>
                              <a:pt x="502" y="70"/>
                            </a:lnTo>
                            <a:lnTo>
                              <a:pt x="1080" y="73"/>
                            </a:lnTo>
                            <a:lnTo>
                              <a:pt x="1079" y="73"/>
                            </a:lnTo>
                            <a:lnTo>
                              <a:pt x="1077" y="73"/>
                            </a:lnTo>
                            <a:lnTo>
                              <a:pt x="1074" y="73"/>
                            </a:lnTo>
                            <a:lnTo>
                              <a:pt x="1071" y="73"/>
                            </a:lnTo>
                            <a:lnTo>
                              <a:pt x="1066" y="73"/>
                            </a:lnTo>
                            <a:lnTo>
                              <a:pt x="1063" y="73"/>
                            </a:lnTo>
                            <a:lnTo>
                              <a:pt x="1059" y="74"/>
                            </a:lnTo>
                            <a:lnTo>
                              <a:pt x="1054" y="74"/>
                            </a:lnTo>
                            <a:lnTo>
                              <a:pt x="1047" y="74"/>
                            </a:lnTo>
                            <a:lnTo>
                              <a:pt x="1040" y="76"/>
                            </a:lnTo>
                            <a:lnTo>
                              <a:pt x="1034" y="76"/>
                            </a:lnTo>
                            <a:lnTo>
                              <a:pt x="1028" y="77"/>
                            </a:lnTo>
                            <a:lnTo>
                              <a:pt x="1024" y="77"/>
                            </a:lnTo>
                            <a:lnTo>
                              <a:pt x="1021" y="77"/>
                            </a:lnTo>
                            <a:lnTo>
                              <a:pt x="1016" y="77"/>
                            </a:lnTo>
                            <a:lnTo>
                              <a:pt x="1013" y="77"/>
                            </a:lnTo>
                            <a:lnTo>
                              <a:pt x="1010" y="77"/>
                            </a:lnTo>
                            <a:lnTo>
                              <a:pt x="1007" y="78"/>
                            </a:lnTo>
                            <a:lnTo>
                              <a:pt x="1002" y="78"/>
                            </a:lnTo>
                            <a:lnTo>
                              <a:pt x="999" y="80"/>
                            </a:lnTo>
                            <a:lnTo>
                              <a:pt x="996" y="80"/>
                            </a:lnTo>
                            <a:lnTo>
                              <a:pt x="991" y="80"/>
                            </a:lnTo>
                            <a:lnTo>
                              <a:pt x="988" y="80"/>
                            </a:lnTo>
                            <a:lnTo>
                              <a:pt x="984" y="80"/>
                            </a:lnTo>
                            <a:lnTo>
                              <a:pt x="981" y="80"/>
                            </a:lnTo>
                            <a:lnTo>
                              <a:pt x="978" y="80"/>
                            </a:lnTo>
                            <a:lnTo>
                              <a:pt x="973" y="80"/>
                            </a:lnTo>
                            <a:lnTo>
                              <a:pt x="970" y="81"/>
                            </a:lnTo>
                            <a:lnTo>
                              <a:pt x="967" y="81"/>
                            </a:lnTo>
                            <a:lnTo>
                              <a:pt x="962" y="81"/>
                            </a:lnTo>
                            <a:lnTo>
                              <a:pt x="959" y="81"/>
                            </a:lnTo>
                            <a:lnTo>
                              <a:pt x="956" y="82"/>
                            </a:lnTo>
                            <a:lnTo>
                              <a:pt x="950" y="82"/>
                            </a:lnTo>
                            <a:lnTo>
                              <a:pt x="944" y="82"/>
                            </a:lnTo>
                            <a:lnTo>
                              <a:pt x="938" y="82"/>
                            </a:lnTo>
                            <a:lnTo>
                              <a:pt x="933" y="84"/>
                            </a:lnTo>
                            <a:lnTo>
                              <a:pt x="929" y="84"/>
                            </a:lnTo>
                            <a:lnTo>
                              <a:pt x="924" y="84"/>
                            </a:lnTo>
                            <a:lnTo>
                              <a:pt x="921" y="84"/>
                            </a:lnTo>
                            <a:lnTo>
                              <a:pt x="918" y="85"/>
                            </a:lnTo>
                            <a:lnTo>
                              <a:pt x="916" y="85"/>
                            </a:lnTo>
                            <a:lnTo>
                              <a:pt x="915" y="85"/>
                            </a:lnTo>
                            <a:lnTo>
                              <a:pt x="918" y="85"/>
                            </a:lnTo>
                            <a:lnTo>
                              <a:pt x="921" y="85"/>
                            </a:lnTo>
                            <a:lnTo>
                              <a:pt x="926" y="85"/>
                            </a:lnTo>
                            <a:lnTo>
                              <a:pt x="929" y="87"/>
                            </a:lnTo>
                            <a:lnTo>
                              <a:pt x="933" y="87"/>
                            </a:lnTo>
                            <a:lnTo>
                              <a:pt x="936" y="87"/>
                            </a:lnTo>
                            <a:lnTo>
                              <a:pt x="939" y="87"/>
                            </a:lnTo>
                            <a:lnTo>
                              <a:pt x="944" y="88"/>
                            </a:lnTo>
                            <a:lnTo>
                              <a:pt x="947" y="88"/>
                            </a:lnTo>
                            <a:lnTo>
                              <a:pt x="952" y="88"/>
                            </a:lnTo>
                            <a:lnTo>
                              <a:pt x="955" y="88"/>
                            </a:lnTo>
                            <a:lnTo>
                              <a:pt x="959" y="88"/>
                            </a:lnTo>
                            <a:lnTo>
                              <a:pt x="962" y="88"/>
                            </a:lnTo>
                            <a:lnTo>
                              <a:pt x="967" y="88"/>
                            </a:lnTo>
                            <a:lnTo>
                              <a:pt x="972" y="88"/>
                            </a:lnTo>
                            <a:lnTo>
                              <a:pt x="975" y="88"/>
                            </a:lnTo>
                            <a:lnTo>
                              <a:pt x="979" y="87"/>
                            </a:lnTo>
                            <a:lnTo>
                              <a:pt x="982" y="87"/>
                            </a:lnTo>
                            <a:lnTo>
                              <a:pt x="987" y="87"/>
                            </a:lnTo>
                            <a:lnTo>
                              <a:pt x="991" y="87"/>
                            </a:lnTo>
                            <a:lnTo>
                              <a:pt x="994" y="87"/>
                            </a:lnTo>
                            <a:lnTo>
                              <a:pt x="999" y="87"/>
                            </a:lnTo>
                            <a:lnTo>
                              <a:pt x="1002" y="87"/>
                            </a:lnTo>
                            <a:lnTo>
                              <a:pt x="1007" y="87"/>
                            </a:lnTo>
                            <a:lnTo>
                              <a:pt x="1011" y="87"/>
                            </a:lnTo>
                            <a:lnTo>
                              <a:pt x="1014" y="87"/>
                            </a:lnTo>
                            <a:lnTo>
                              <a:pt x="1019" y="87"/>
                            </a:lnTo>
                            <a:lnTo>
                              <a:pt x="1022" y="87"/>
                            </a:lnTo>
                            <a:lnTo>
                              <a:pt x="1027" y="85"/>
                            </a:lnTo>
                            <a:lnTo>
                              <a:pt x="1031" y="85"/>
                            </a:lnTo>
                            <a:lnTo>
                              <a:pt x="1036" y="85"/>
                            </a:lnTo>
                            <a:lnTo>
                              <a:pt x="1040" y="85"/>
                            </a:lnTo>
                            <a:lnTo>
                              <a:pt x="1043" y="85"/>
                            </a:lnTo>
                            <a:lnTo>
                              <a:pt x="1047" y="85"/>
                            </a:lnTo>
                            <a:lnTo>
                              <a:pt x="1051" y="85"/>
                            </a:lnTo>
                            <a:lnTo>
                              <a:pt x="1056" y="85"/>
                            </a:lnTo>
                            <a:lnTo>
                              <a:pt x="1059" y="84"/>
                            </a:lnTo>
                            <a:lnTo>
                              <a:pt x="1063" y="84"/>
                            </a:lnTo>
                            <a:lnTo>
                              <a:pt x="1066" y="84"/>
                            </a:lnTo>
                            <a:lnTo>
                              <a:pt x="1071" y="84"/>
                            </a:lnTo>
                            <a:lnTo>
                              <a:pt x="1074" y="84"/>
                            </a:lnTo>
                            <a:lnTo>
                              <a:pt x="1079" y="84"/>
                            </a:lnTo>
                            <a:lnTo>
                              <a:pt x="1082" y="82"/>
                            </a:lnTo>
                            <a:lnTo>
                              <a:pt x="1086" y="82"/>
                            </a:lnTo>
                            <a:lnTo>
                              <a:pt x="1091" y="82"/>
                            </a:lnTo>
                            <a:lnTo>
                              <a:pt x="1094" y="82"/>
                            </a:lnTo>
                            <a:lnTo>
                              <a:pt x="1099" y="82"/>
                            </a:lnTo>
                            <a:lnTo>
                              <a:pt x="1103" y="82"/>
                            </a:lnTo>
                            <a:lnTo>
                              <a:pt x="1106" y="82"/>
                            </a:lnTo>
                            <a:lnTo>
                              <a:pt x="1111" y="82"/>
                            </a:lnTo>
                            <a:lnTo>
                              <a:pt x="1114" y="82"/>
                            </a:lnTo>
                            <a:lnTo>
                              <a:pt x="1118" y="82"/>
                            </a:lnTo>
                            <a:lnTo>
                              <a:pt x="1123" y="81"/>
                            </a:lnTo>
                            <a:lnTo>
                              <a:pt x="1126" y="81"/>
                            </a:lnTo>
                            <a:lnTo>
                              <a:pt x="1129" y="81"/>
                            </a:lnTo>
                            <a:lnTo>
                              <a:pt x="1134" y="81"/>
                            </a:lnTo>
                            <a:lnTo>
                              <a:pt x="1138" y="81"/>
                            </a:lnTo>
                            <a:lnTo>
                              <a:pt x="1141" y="81"/>
                            </a:lnTo>
                            <a:lnTo>
                              <a:pt x="1146" y="81"/>
                            </a:lnTo>
                            <a:lnTo>
                              <a:pt x="1149" y="81"/>
                            </a:lnTo>
                            <a:lnTo>
                              <a:pt x="1154" y="81"/>
                            </a:lnTo>
                            <a:lnTo>
                              <a:pt x="1157" y="81"/>
                            </a:lnTo>
                            <a:lnTo>
                              <a:pt x="1160" y="81"/>
                            </a:lnTo>
                            <a:lnTo>
                              <a:pt x="1164" y="81"/>
                            </a:lnTo>
                            <a:lnTo>
                              <a:pt x="1164" y="84"/>
                            </a:lnTo>
                            <a:lnTo>
                              <a:pt x="1166" y="88"/>
                            </a:lnTo>
                            <a:lnTo>
                              <a:pt x="1166" y="91"/>
                            </a:lnTo>
                            <a:lnTo>
                              <a:pt x="1166" y="95"/>
                            </a:lnTo>
                            <a:lnTo>
                              <a:pt x="1166" y="99"/>
                            </a:lnTo>
                            <a:lnTo>
                              <a:pt x="1167" y="103"/>
                            </a:lnTo>
                            <a:lnTo>
                              <a:pt x="1167" y="107"/>
                            </a:lnTo>
                            <a:lnTo>
                              <a:pt x="1167" y="113"/>
                            </a:lnTo>
                            <a:lnTo>
                              <a:pt x="1167" y="117"/>
                            </a:lnTo>
                            <a:lnTo>
                              <a:pt x="1169" y="120"/>
                            </a:lnTo>
                            <a:lnTo>
                              <a:pt x="1170" y="124"/>
                            </a:lnTo>
                            <a:lnTo>
                              <a:pt x="1170" y="128"/>
                            </a:lnTo>
                            <a:lnTo>
                              <a:pt x="1172" y="132"/>
                            </a:lnTo>
                            <a:lnTo>
                              <a:pt x="1173" y="135"/>
                            </a:lnTo>
                            <a:lnTo>
                              <a:pt x="1175" y="137"/>
                            </a:lnTo>
                            <a:lnTo>
                              <a:pt x="1177" y="140"/>
                            </a:lnTo>
                            <a:lnTo>
                              <a:pt x="1183" y="139"/>
                            </a:lnTo>
                            <a:lnTo>
                              <a:pt x="1183" y="135"/>
                            </a:lnTo>
                            <a:lnTo>
                              <a:pt x="1183" y="130"/>
                            </a:lnTo>
                            <a:lnTo>
                              <a:pt x="1183" y="126"/>
                            </a:lnTo>
                            <a:lnTo>
                              <a:pt x="1184" y="122"/>
                            </a:lnTo>
                            <a:lnTo>
                              <a:pt x="1183" y="118"/>
                            </a:lnTo>
                            <a:lnTo>
                              <a:pt x="1183" y="114"/>
                            </a:lnTo>
                            <a:lnTo>
                              <a:pt x="1181" y="109"/>
                            </a:lnTo>
                            <a:lnTo>
                              <a:pt x="1181" y="104"/>
                            </a:lnTo>
                            <a:lnTo>
                              <a:pt x="1180" y="100"/>
                            </a:lnTo>
                            <a:lnTo>
                              <a:pt x="1180" y="96"/>
                            </a:lnTo>
                            <a:lnTo>
                              <a:pt x="1178" y="92"/>
                            </a:lnTo>
                            <a:lnTo>
                              <a:pt x="1177" y="88"/>
                            </a:lnTo>
                            <a:lnTo>
                              <a:pt x="1177" y="82"/>
                            </a:lnTo>
                            <a:lnTo>
                              <a:pt x="1175" y="80"/>
                            </a:lnTo>
                            <a:lnTo>
                              <a:pt x="1175" y="76"/>
                            </a:lnTo>
                            <a:lnTo>
                              <a:pt x="1175" y="73"/>
                            </a:lnTo>
                            <a:lnTo>
                              <a:pt x="1172" y="70"/>
                            </a:lnTo>
                            <a:lnTo>
                              <a:pt x="1167" y="69"/>
                            </a:lnTo>
                            <a:lnTo>
                              <a:pt x="1161" y="67"/>
                            </a:lnTo>
                            <a:lnTo>
                              <a:pt x="1160" y="66"/>
                            </a:lnTo>
                            <a:lnTo>
                              <a:pt x="1183" y="66"/>
                            </a:lnTo>
                            <a:lnTo>
                              <a:pt x="1184" y="70"/>
                            </a:lnTo>
                            <a:lnTo>
                              <a:pt x="1184" y="74"/>
                            </a:lnTo>
                            <a:lnTo>
                              <a:pt x="1186" y="78"/>
                            </a:lnTo>
                            <a:lnTo>
                              <a:pt x="1187" y="84"/>
                            </a:lnTo>
                            <a:lnTo>
                              <a:pt x="1189" y="80"/>
                            </a:lnTo>
                            <a:lnTo>
                              <a:pt x="1190" y="77"/>
                            </a:lnTo>
                            <a:lnTo>
                              <a:pt x="1192" y="73"/>
                            </a:lnTo>
                            <a:lnTo>
                              <a:pt x="1192" y="70"/>
                            </a:lnTo>
                            <a:lnTo>
                              <a:pt x="1192" y="66"/>
                            </a:lnTo>
                            <a:lnTo>
                              <a:pt x="1190" y="62"/>
                            </a:lnTo>
                            <a:lnTo>
                              <a:pt x="1190" y="59"/>
                            </a:lnTo>
                            <a:lnTo>
                              <a:pt x="1190" y="56"/>
                            </a:lnTo>
                            <a:lnTo>
                              <a:pt x="1186" y="56"/>
                            </a:lnTo>
                            <a:lnTo>
                              <a:pt x="1181" y="56"/>
                            </a:lnTo>
                            <a:lnTo>
                              <a:pt x="1177" y="58"/>
                            </a:lnTo>
                            <a:lnTo>
                              <a:pt x="1170" y="58"/>
                            </a:lnTo>
                            <a:lnTo>
                              <a:pt x="1166" y="59"/>
                            </a:lnTo>
                            <a:lnTo>
                              <a:pt x="1161" y="60"/>
                            </a:lnTo>
                            <a:lnTo>
                              <a:pt x="1158" y="62"/>
                            </a:lnTo>
                            <a:lnTo>
                              <a:pt x="1155" y="63"/>
                            </a:lnTo>
                            <a:lnTo>
                              <a:pt x="1152" y="62"/>
                            </a:lnTo>
                            <a:lnTo>
                              <a:pt x="1149" y="62"/>
                            </a:lnTo>
                            <a:lnTo>
                              <a:pt x="1144" y="60"/>
                            </a:lnTo>
                            <a:lnTo>
                              <a:pt x="1140" y="60"/>
                            </a:lnTo>
                            <a:lnTo>
                              <a:pt x="1137" y="60"/>
                            </a:lnTo>
                            <a:lnTo>
                              <a:pt x="1132" y="60"/>
                            </a:lnTo>
                            <a:lnTo>
                              <a:pt x="1129" y="60"/>
                            </a:lnTo>
                            <a:lnTo>
                              <a:pt x="1126" y="60"/>
                            </a:lnTo>
                            <a:lnTo>
                              <a:pt x="1129" y="59"/>
                            </a:lnTo>
                            <a:lnTo>
                              <a:pt x="1132" y="58"/>
                            </a:lnTo>
                            <a:lnTo>
                              <a:pt x="1135" y="58"/>
                            </a:lnTo>
                            <a:lnTo>
                              <a:pt x="1140" y="56"/>
                            </a:lnTo>
                            <a:lnTo>
                              <a:pt x="1144" y="55"/>
                            </a:lnTo>
                            <a:lnTo>
                              <a:pt x="1149" y="55"/>
                            </a:lnTo>
                            <a:lnTo>
                              <a:pt x="1154" y="54"/>
                            </a:lnTo>
                            <a:lnTo>
                              <a:pt x="1160" y="54"/>
                            </a:lnTo>
                            <a:lnTo>
                              <a:pt x="1164" y="52"/>
                            </a:lnTo>
                            <a:lnTo>
                              <a:pt x="1170" y="52"/>
                            </a:lnTo>
                            <a:lnTo>
                              <a:pt x="1175" y="52"/>
                            </a:lnTo>
                            <a:lnTo>
                              <a:pt x="1180" y="52"/>
                            </a:lnTo>
                            <a:lnTo>
                              <a:pt x="1184" y="51"/>
                            </a:lnTo>
                            <a:lnTo>
                              <a:pt x="1189" y="51"/>
                            </a:lnTo>
                            <a:lnTo>
                              <a:pt x="1193" y="50"/>
                            </a:lnTo>
                            <a:lnTo>
                              <a:pt x="1198" y="50"/>
                            </a:lnTo>
                            <a:lnTo>
                              <a:pt x="1198" y="54"/>
                            </a:lnTo>
                            <a:lnTo>
                              <a:pt x="1198" y="56"/>
                            </a:lnTo>
                            <a:lnTo>
                              <a:pt x="1198" y="60"/>
                            </a:lnTo>
                            <a:lnTo>
                              <a:pt x="1199" y="63"/>
                            </a:lnTo>
                            <a:lnTo>
                              <a:pt x="1199" y="67"/>
                            </a:lnTo>
                            <a:lnTo>
                              <a:pt x="1201" y="70"/>
                            </a:lnTo>
                            <a:lnTo>
                              <a:pt x="1201" y="74"/>
                            </a:lnTo>
                            <a:lnTo>
                              <a:pt x="1203" y="78"/>
                            </a:lnTo>
                            <a:lnTo>
                              <a:pt x="1203" y="81"/>
                            </a:lnTo>
                            <a:lnTo>
                              <a:pt x="1203" y="85"/>
                            </a:lnTo>
                            <a:lnTo>
                              <a:pt x="1204" y="88"/>
                            </a:lnTo>
                            <a:lnTo>
                              <a:pt x="1204" y="92"/>
                            </a:lnTo>
                            <a:lnTo>
                              <a:pt x="1204" y="95"/>
                            </a:lnTo>
                            <a:lnTo>
                              <a:pt x="1206" y="99"/>
                            </a:lnTo>
                            <a:lnTo>
                              <a:pt x="1206" y="102"/>
                            </a:lnTo>
                            <a:lnTo>
                              <a:pt x="1207" y="106"/>
                            </a:lnTo>
                            <a:lnTo>
                              <a:pt x="1207" y="110"/>
                            </a:lnTo>
                            <a:lnTo>
                              <a:pt x="1207" y="113"/>
                            </a:lnTo>
                            <a:lnTo>
                              <a:pt x="1209" y="117"/>
                            </a:lnTo>
                            <a:lnTo>
                              <a:pt x="1209" y="120"/>
                            </a:lnTo>
                            <a:lnTo>
                              <a:pt x="1209" y="124"/>
                            </a:lnTo>
                            <a:lnTo>
                              <a:pt x="1210" y="126"/>
                            </a:lnTo>
                            <a:lnTo>
                              <a:pt x="1210" y="129"/>
                            </a:lnTo>
                            <a:lnTo>
                              <a:pt x="1212" y="133"/>
                            </a:lnTo>
                            <a:lnTo>
                              <a:pt x="1212" y="136"/>
                            </a:lnTo>
                            <a:lnTo>
                              <a:pt x="1213" y="140"/>
                            </a:lnTo>
                            <a:lnTo>
                              <a:pt x="1213" y="143"/>
                            </a:lnTo>
                            <a:lnTo>
                              <a:pt x="1215" y="147"/>
                            </a:lnTo>
                            <a:lnTo>
                              <a:pt x="1215" y="150"/>
                            </a:lnTo>
                            <a:lnTo>
                              <a:pt x="1216" y="154"/>
                            </a:lnTo>
                            <a:lnTo>
                              <a:pt x="1216" y="157"/>
                            </a:lnTo>
                            <a:lnTo>
                              <a:pt x="1218" y="161"/>
                            </a:lnTo>
                            <a:lnTo>
                              <a:pt x="1218" y="166"/>
                            </a:lnTo>
                            <a:lnTo>
                              <a:pt x="1219" y="172"/>
                            </a:lnTo>
                            <a:lnTo>
                              <a:pt x="1221" y="177"/>
                            </a:lnTo>
                            <a:lnTo>
                              <a:pt x="1222" y="183"/>
                            </a:lnTo>
                            <a:lnTo>
                              <a:pt x="1224" y="188"/>
                            </a:lnTo>
                            <a:lnTo>
                              <a:pt x="1227" y="194"/>
                            </a:lnTo>
                            <a:lnTo>
                              <a:pt x="1232" y="196"/>
                            </a:lnTo>
                            <a:lnTo>
                              <a:pt x="1236" y="199"/>
                            </a:lnTo>
                            <a:lnTo>
                              <a:pt x="1235" y="195"/>
                            </a:lnTo>
                            <a:lnTo>
                              <a:pt x="1235" y="191"/>
                            </a:lnTo>
                            <a:lnTo>
                              <a:pt x="1235" y="187"/>
                            </a:lnTo>
                            <a:lnTo>
                              <a:pt x="1235" y="183"/>
                            </a:lnTo>
                            <a:lnTo>
                              <a:pt x="1235" y="177"/>
                            </a:lnTo>
                            <a:lnTo>
                              <a:pt x="1235" y="172"/>
                            </a:lnTo>
                            <a:lnTo>
                              <a:pt x="1235" y="166"/>
                            </a:lnTo>
                            <a:lnTo>
                              <a:pt x="1235" y="161"/>
                            </a:lnTo>
                            <a:lnTo>
                              <a:pt x="1233" y="157"/>
                            </a:lnTo>
                            <a:lnTo>
                              <a:pt x="1233" y="154"/>
                            </a:lnTo>
                            <a:lnTo>
                              <a:pt x="1233" y="151"/>
                            </a:lnTo>
                            <a:lnTo>
                              <a:pt x="1233" y="147"/>
                            </a:lnTo>
                            <a:lnTo>
                              <a:pt x="1233" y="144"/>
                            </a:lnTo>
                            <a:lnTo>
                              <a:pt x="1233" y="140"/>
                            </a:lnTo>
                            <a:lnTo>
                              <a:pt x="1233" y="137"/>
                            </a:lnTo>
                            <a:lnTo>
                              <a:pt x="1233" y="135"/>
                            </a:lnTo>
                            <a:lnTo>
                              <a:pt x="1232" y="130"/>
                            </a:lnTo>
                            <a:lnTo>
                              <a:pt x="1232" y="128"/>
                            </a:lnTo>
                            <a:lnTo>
                              <a:pt x="1232" y="124"/>
                            </a:lnTo>
                            <a:lnTo>
                              <a:pt x="1232" y="121"/>
                            </a:lnTo>
                            <a:lnTo>
                              <a:pt x="1232" y="117"/>
                            </a:lnTo>
                            <a:lnTo>
                              <a:pt x="1232" y="114"/>
                            </a:lnTo>
                            <a:lnTo>
                              <a:pt x="1232" y="111"/>
                            </a:lnTo>
                            <a:lnTo>
                              <a:pt x="1232" y="107"/>
                            </a:lnTo>
                            <a:lnTo>
                              <a:pt x="1232" y="103"/>
                            </a:lnTo>
                            <a:lnTo>
                              <a:pt x="1230" y="100"/>
                            </a:lnTo>
                            <a:lnTo>
                              <a:pt x="1230" y="96"/>
                            </a:lnTo>
                            <a:lnTo>
                              <a:pt x="1230" y="93"/>
                            </a:lnTo>
                            <a:lnTo>
                              <a:pt x="1230" y="89"/>
                            </a:lnTo>
                            <a:lnTo>
                              <a:pt x="1229" y="87"/>
                            </a:lnTo>
                            <a:lnTo>
                              <a:pt x="1229" y="82"/>
                            </a:lnTo>
                            <a:lnTo>
                              <a:pt x="1229" y="80"/>
                            </a:lnTo>
                            <a:lnTo>
                              <a:pt x="1229" y="76"/>
                            </a:lnTo>
                            <a:lnTo>
                              <a:pt x="1229" y="73"/>
                            </a:lnTo>
                            <a:lnTo>
                              <a:pt x="1229" y="70"/>
                            </a:lnTo>
                            <a:lnTo>
                              <a:pt x="1229" y="67"/>
                            </a:lnTo>
                            <a:lnTo>
                              <a:pt x="1227" y="60"/>
                            </a:lnTo>
                            <a:lnTo>
                              <a:pt x="1227" y="56"/>
                            </a:lnTo>
                            <a:lnTo>
                              <a:pt x="1225" y="51"/>
                            </a:lnTo>
                            <a:lnTo>
                              <a:pt x="1224" y="45"/>
                            </a:lnTo>
                            <a:lnTo>
                              <a:pt x="1224" y="41"/>
                            </a:lnTo>
                            <a:lnTo>
                              <a:pt x="1224" y="37"/>
                            </a:lnTo>
                            <a:lnTo>
                              <a:pt x="1222" y="33"/>
                            </a:lnTo>
                            <a:lnTo>
                              <a:pt x="1221" y="30"/>
                            </a:lnTo>
                            <a:lnTo>
                              <a:pt x="1221" y="29"/>
                            </a:lnTo>
                            <a:lnTo>
                              <a:pt x="1221" y="28"/>
                            </a:lnTo>
                            <a:lnTo>
                              <a:pt x="1215" y="28"/>
                            </a:lnTo>
                            <a:lnTo>
                              <a:pt x="1207" y="28"/>
                            </a:lnTo>
                            <a:lnTo>
                              <a:pt x="1201" y="28"/>
                            </a:lnTo>
                            <a:lnTo>
                              <a:pt x="1196" y="28"/>
                            </a:lnTo>
                            <a:lnTo>
                              <a:pt x="1190" y="28"/>
                            </a:lnTo>
                            <a:lnTo>
                              <a:pt x="1184" y="28"/>
                            </a:lnTo>
                            <a:lnTo>
                              <a:pt x="1178" y="28"/>
                            </a:lnTo>
                            <a:lnTo>
                              <a:pt x="1172" y="28"/>
                            </a:lnTo>
                            <a:lnTo>
                              <a:pt x="1170" y="26"/>
                            </a:lnTo>
                            <a:lnTo>
                              <a:pt x="1169" y="26"/>
                            </a:lnTo>
                            <a:lnTo>
                              <a:pt x="1164" y="26"/>
                            </a:lnTo>
                            <a:lnTo>
                              <a:pt x="1161" y="25"/>
                            </a:lnTo>
                            <a:lnTo>
                              <a:pt x="1157" y="23"/>
                            </a:lnTo>
                            <a:lnTo>
                              <a:pt x="1154" y="23"/>
                            </a:lnTo>
                            <a:lnTo>
                              <a:pt x="1151" y="23"/>
                            </a:lnTo>
                            <a:lnTo>
                              <a:pt x="1149" y="22"/>
                            </a:lnTo>
                            <a:lnTo>
                              <a:pt x="1154" y="22"/>
                            </a:lnTo>
                            <a:lnTo>
                              <a:pt x="1160" y="21"/>
                            </a:lnTo>
                            <a:lnTo>
                              <a:pt x="1164" y="21"/>
                            </a:lnTo>
                            <a:lnTo>
                              <a:pt x="1170" y="21"/>
                            </a:lnTo>
                            <a:lnTo>
                              <a:pt x="1175" y="21"/>
                            </a:lnTo>
                            <a:lnTo>
                              <a:pt x="1180" y="19"/>
                            </a:lnTo>
                            <a:lnTo>
                              <a:pt x="1186" y="19"/>
                            </a:lnTo>
                            <a:lnTo>
                              <a:pt x="1190" y="19"/>
                            </a:lnTo>
                            <a:lnTo>
                              <a:pt x="1196" y="18"/>
                            </a:lnTo>
                            <a:lnTo>
                              <a:pt x="1201" y="18"/>
                            </a:lnTo>
                            <a:lnTo>
                              <a:pt x="1206" y="18"/>
                            </a:lnTo>
                            <a:lnTo>
                              <a:pt x="1212" y="18"/>
                            </a:lnTo>
                            <a:lnTo>
                              <a:pt x="1216" y="17"/>
                            </a:lnTo>
                            <a:lnTo>
                              <a:pt x="1221" y="17"/>
                            </a:lnTo>
                            <a:lnTo>
                              <a:pt x="1227" y="15"/>
                            </a:lnTo>
                            <a:lnTo>
                              <a:pt x="1233" y="15"/>
                            </a:lnTo>
                            <a:lnTo>
                              <a:pt x="1233" y="18"/>
                            </a:lnTo>
                            <a:lnTo>
                              <a:pt x="1233" y="21"/>
                            </a:lnTo>
                            <a:lnTo>
                              <a:pt x="1233" y="23"/>
                            </a:lnTo>
                            <a:lnTo>
                              <a:pt x="1233" y="29"/>
                            </a:lnTo>
                            <a:lnTo>
                              <a:pt x="1233" y="33"/>
                            </a:lnTo>
                            <a:lnTo>
                              <a:pt x="1235" y="39"/>
                            </a:lnTo>
                            <a:lnTo>
                              <a:pt x="1235" y="40"/>
                            </a:lnTo>
                            <a:lnTo>
                              <a:pt x="1235" y="43"/>
                            </a:lnTo>
                            <a:lnTo>
                              <a:pt x="1235" y="47"/>
                            </a:lnTo>
                            <a:lnTo>
                              <a:pt x="1236" y="50"/>
                            </a:lnTo>
                            <a:lnTo>
                              <a:pt x="1236" y="52"/>
                            </a:lnTo>
                            <a:lnTo>
                              <a:pt x="1236" y="55"/>
                            </a:lnTo>
                            <a:lnTo>
                              <a:pt x="1236" y="59"/>
                            </a:lnTo>
                            <a:lnTo>
                              <a:pt x="1236" y="62"/>
                            </a:lnTo>
                            <a:lnTo>
                              <a:pt x="1236" y="66"/>
                            </a:lnTo>
                            <a:lnTo>
                              <a:pt x="1236" y="69"/>
                            </a:lnTo>
                            <a:lnTo>
                              <a:pt x="1236" y="73"/>
                            </a:lnTo>
                            <a:lnTo>
                              <a:pt x="1238" y="76"/>
                            </a:lnTo>
                            <a:lnTo>
                              <a:pt x="1238" y="80"/>
                            </a:lnTo>
                            <a:lnTo>
                              <a:pt x="1238" y="82"/>
                            </a:lnTo>
                            <a:lnTo>
                              <a:pt x="1239" y="87"/>
                            </a:lnTo>
                            <a:lnTo>
                              <a:pt x="1239" y="91"/>
                            </a:lnTo>
                            <a:lnTo>
                              <a:pt x="1239" y="93"/>
                            </a:lnTo>
                            <a:lnTo>
                              <a:pt x="1239" y="98"/>
                            </a:lnTo>
                            <a:lnTo>
                              <a:pt x="1241" y="102"/>
                            </a:lnTo>
                            <a:lnTo>
                              <a:pt x="1241" y="106"/>
                            </a:lnTo>
                            <a:lnTo>
                              <a:pt x="1241" y="109"/>
                            </a:lnTo>
                            <a:lnTo>
                              <a:pt x="1242" y="113"/>
                            </a:lnTo>
                            <a:lnTo>
                              <a:pt x="1242" y="115"/>
                            </a:lnTo>
                            <a:lnTo>
                              <a:pt x="1242" y="120"/>
                            </a:lnTo>
                            <a:lnTo>
                              <a:pt x="1242" y="122"/>
                            </a:lnTo>
                            <a:lnTo>
                              <a:pt x="1244" y="126"/>
                            </a:lnTo>
                            <a:lnTo>
                              <a:pt x="1244" y="129"/>
                            </a:lnTo>
                            <a:lnTo>
                              <a:pt x="1245" y="133"/>
                            </a:lnTo>
                            <a:lnTo>
                              <a:pt x="1245" y="136"/>
                            </a:lnTo>
                            <a:lnTo>
                              <a:pt x="1245" y="139"/>
                            </a:lnTo>
                            <a:lnTo>
                              <a:pt x="1245" y="141"/>
                            </a:lnTo>
                            <a:lnTo>
                              <a:pt x="1247" y="146"/>
                            </a:lnTo>
                            <a:lnTo>
                              <a:pt x="1248" y="151"/>
                            </a:lnTo>
                            <a:lnTo>
                              <a:pt x="1250" y="157"/>
                            </a:lnTo>
                            <a:lnTo>
                              <a:pt x="1251" y="162"/>
                            </a:lnTo>
                            <a:lnTo>
                              <a:pt x="1253" y="166"/>
                            </a:lnTo>
                            <a:lnTo>
                              <a:pt x="1253" y="172"/>
                            </a:lnTo>
                            <a:lnTo>
                              <a:pt x="1256" y="176"/>
                            </a:lnTo>
                            <a:lnTo>
                              <a:pt x="1258" y="179"/>
                            </a:lnTo>
                            <a:lnTo>
                              <a:pt x="1259" y="180"/>
                            </a:lnTo>
                            <a:lnTo>
                              <a:pt x="1261" y="181"/>
                            </a:lnTo>
                            <a:lnTo>
                              <a:pt x="1262" y="184"/>
                            </a:lnTo>
                            <a:lnTo>
                              <a:pt x="1262" y="180"/>
                            </a:lnTo>
                            <a:lnTo>
                              <a:pt x="1262" y="177"/>
                            </a:lnTo>
                            <a:lnTo>
                              <a:pt x="1262" y="174"/>
                            </a:lnTo>
                            <a:lnTo>
                              <a:pt x="1262" y="172"/>
                            </a:lnTo>
                            <a:lnTo>
                              <a:pt x="1261" y="168"/>
                            </a:lnTo>
                            <a:lnTo>
                              <a:pt x="1261" y="165"/>
                            </a:lnTo>
                            <a:lnTo>
                              <a:pt x="1261" y="162"/>
                            </a:lnTo>
                            <a:lnTo>
                              <a:pt x="1261" y="159"/>
                            </a:lnTo>
                            <a:lnTo>
                              <a:pt x="1261" y="155"/>
                            </a:lnTo>
                            <a:lnTo>
                              <a:pt x="1261" y="152"/>
                            </a:lnTo>
                            <a:lnTo>
                              <a:pt x="1259" y="150"/>
                            </a:lnTo>
                            <a:lnTo>
                              <a:pt x="1259" y="147"/>
                            </a:lnTo>
                            <a:lnTo>
                              <a:pt x="1259" y="143"/>
                            </a:lnTo>
                            <a:lnTo>
                              <a:pt x="1259" y="140"/>
                            </a:lnTo>
                            <a:lnTo>
                              <a:pt x="1259" y="137"/>
                            </a:lnTo>
                            <a:lnTo>
                              <a:pt x="1259" y="135"/>
                            </a:lnTo>
                            <a:lnTo>
                              <a:pt x="1259" y="130"/>
                            </a:lnTo>
                            <a:lnTo>
                              <a:pt x="1259" y="128"/>
                            </a:lnTo>
                            <a:lnTo>
                              <a:pt x="1258" y="124"/>
                            </a:lnTo>
                            <a:lnTo>
                              <a:pt x="1258" y="121"/>
                            </a:lnTo>
                            <a:lnTo>
                              <a:pt x="1258" y="118"/>
                            </a:lnTo>
                            <a:lnTo>
                              <a:pt x="1258" y="115"/>
                            </a:lnTo>
                            <a:lnTo>
                              <a:pt x="1258" y="111"/>
                            </a:lnTo>
                            <a:lnTo>
                              <a:pt x="1258" y="109"/>
                            </a:lnTo>
                            <a:lnTo>
                              <a:pt x="1256" y="106"/>
                            </a:lnTo>
                            <a:lnTo>
                              <a:pt x="1256" y="102"/>
                            </a:lnTo>
                            <a:lnTo>
                              <a:pt x="1256" y="99"/>
                            </a:lnTo>
                            <a:lnTo>
                              <a:pt x="1256" y="96"/>
                            </a:lnTo>
                            <a:lnTo>
                              <a:pt x="1256" y="92"/>
                            </a:lnTo>
                            <a:lnTo>
                              <a:pt x="1256" y="89"/>
                            </a:lnTo>
                            <a:lnTo>
                              <a:pt x="1256" y="87"/>
                            </a:lnTo>
                            <a:lnTo>
                              <a:pt x="1256" y="84"/>
                            </a:lnTo>
                            <a:lnTo>
                              <a:pt x="1256" y="80"/>
                            </a:lnTo>
                            <a:lnTo>
                              <a:pt x="1258" y="77"/>
                            </a:lnTo>
                            <a:lnTo>
                              <a:pt x="1259" y="74"/>
                            </a:lnTo>
                            <a:lnTo>
                              <a:pt x="1261" y="71"/>
                            </a:lnTo>
                            <a:lnTo>
                              <a:pt x="1262" y="66"/>
                            </a:lnTo>
                            <a:lnTo>
                              <a:pt x="1264" y="60"/>
                            </a:lnTo>
                            <a:lnTo>
                              <a:pt x="1265" y="55"/>
                            </a:lnTo>
                            <a:lnTo>
                              <a:pt x="1267" y="51"/>
                            </a:lnTo>
                            <a:lnTo>
                              <a:pt x="1268" y="45"/>
                            </a:lnTo>
                            <a:lnTo>
                              <a:pt x="1270" y="41"/>
                            </a:lnTo>
                            <a:lnTo>
                              <a:pt x="1270" y="36"/>
                            </a:lnTo>
                            <a:lnTo>
                              <a:pt x="1270" y="32"/>
                            </a:lnTo>
                            <a:lnTo>
                              <a:pt x="1270" y="28"/>
                            </a:lnTo>
                            <a:lnTo>
                              <a:pt x="1270" y="22"/>
                            </a:lnTo>
                            <a:lnTo>
                              <a:pt x="1268" y="17"/>
                            </a:lnTo>
                            <a:lnTo>
                              <a:pt x="1268" y="11"/>
                            </a:lnTo>
                            <a:lnTo>
                              <a:pt x="1267" y="6"/>
                            </a:lnTo>
                            <a:lnTo>
                              <a:pt x="1265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5" name="Freeform 225"/>
                      <p:cNvSpPr/>
                      <p:nvPr/>
                    </p:nvSpPr>
                    <p:spPr>
                      <a:xfrm>
                        <a:off x="3183120" y="2952720"/>
                        <a:ext cx="14040" cy="72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155" h="11">
                            <a:moveTo>
                              <a:pt x="155" y="11"/>
                            </a:moveTo>
                            <a:lnTo>
                              <a:pt x="152" y="11"/>
                            </a:lnTo>
                            <a:lnTo>
                              <a:pt x="149" y="11"/>
                            </a:lnTo>
                            <a:lnTo>
                              <a:pt x="144" y="9"/>
                            </a:lnTo>
                            <a:lnTo>
                              <a:pt x="141" y="9"/>
                            </a:lnTo>
                            <a:lnTo>
                              <a:pt x="135" y="9"/>
                            </a:lnTo>
                            <a:lnTo>
                              <a:pt x="130" y="9"/>
                            </a:lnTo>
                            <a:lnTo>
                              <a:pt x="126" y="9"/>
                            </a:lnTo>
                            <a:lnTo>
                              <a:pt x="120" y="9"/>
                            </a:lnTo>
                            <a:lnTo>
                              <a:pt x="114" y="9"/>
                            </a:lnTo>
                            <a:lnTo>
                              <a:pt x="109" y="9"/>
                            </a:lnTo>
                            <a:lnTo>
                              <a:pt x="103" y="9"/>
                            </a:lnTo>
                            <a:lnTo>
                              <a:pt x="97" y="9"/>
                            </a:lnTo>
                            <a:lnTo>
                              <a:pt x="89" y="8"/>
                            </a:lnTo>
                            <a:lnTo>
                              <a:pt x="85" y="8"/>
                            </a:lnTo>
                            <a:lnTo>
                              <a:pt x="77" y="8"/>
                            </a:lnTo>
                            <a:lnTo>
                              <a:pt x="72" y="8"/>
                            </a:lnTo>
                            <a:lnTo>
                              <a:pt x="65" y="8"/>
                            </a:lnTo>
                            <a:lnTo>
                              <a:pt x="59" y="8"/>
                            </a:lnTo>
                            <a:lnTo>
                              <a:pt x="52" y="7"/>
                            </a:lnTo>
                            <a:lnTo>
                              <a:pt x="46" y="7"/>
                            </a:lnTo>
                            <a:lnTo>
                              <a:pt x="40" y="7"/>
                            </a:lnTo>
                            <a:lnTo>
                              <a:pt x="36" y="7"/>
                            </a:lnTo>
                            <a:lnTo>
                              <a:pt x="29" y="5"/>
                            </a:lnTo>
                            <a:lnTo>
                              <a:pt x="25" y="5"/>
                            </a:lnTo>
                            <a:lnTo>
                              <a:pt x="19" y="5"/>
                            </a:lnTo>
                            <a:lnTo>
                              <a:pt x="16" y="4"/>
                            </a:lnTo>
                            <a:lnTo>
                              <a:pt x="11" y="4"/>
                            </a:lnTo>
                            <a:lnTo>
                              <a:pt x="8" y="3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1" y="0"/>
                            </a:lnTo>
                            <a:lnTo>
                              <a:pt x="55" y="3"/>
                            </a:lnTo>
                            <a:lnTo>
                              <a:pt x="60" y="1"/>
                            </a:lnTo>
                            <a:lnTo>
                              <a:pt x="65" y="1"/>
                            </a:lnTo>
                            <a:lnTo>
                              <a:pt x="69" y="1"/>
                            </a:lnTo>
                            <a:lnTo>
                              <a:pt x="72" y="1"/>
                            </a:lnTo>
                            <a:lnTo>
                              <a:pt x="77" y="1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91" y="1"/>
                            </a:lnTo>
                            <a:lnTo>
                              <a:pt x="95" y="1"/>
                            </a:lnTo>
                            <a:lnTo>
                              <a:pt x="100" y="1"/>
                            </a:lnTo>
                            <a:lnTo>
                              <a:pt x="103" y="1"/>
                            </a:lnTo>
                            <a:lnTo>
                              <a:pt x="109" y="1"/>
                            </a:lnTo>
                            <a:lnTo>
                              <a:pt x="114" y="1"/>
                            </a:lnTo>
                            <a:lnTo>
                              <a:pt x="117" y="1"/>
                            </a:lnTo>
                            <a:lnTo>
                              <a:pt x="121" y="1"/>
                            </a:lnTo>
                            <a:lnTo>
                              <a:pt x="127" y="3"/>
                            </a:lnTo>
                            <a:lnTo>
                              <a:pt x="130" y="3"/>
                            </a:lnTo>
                            <a:lnTo>
                              <a:pt x="137" y="3"/>
                            </a:lnTo>
                            <a:lnTo>
                              <a:pt x="141" y="5"/>
                            </a:lnTo>
                            <a:lnTo>
                              <a:pt x="147" y="7"/>
                            </a:lnTo>
                            <a:lnTo>
                              <a:pt x="152" y="8"/>
                            </a:lnTo>
                            <a:lnTo>
                              <a:pt x="155" y="9"/>
                            </a:lnTo>
                            <a:lnTo>
                              <a:pt x="155" y="1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Freeform 226"/>
                      <p:cNvSpPr/>
                      <p:nvPr/>
                    </p:nvSpPr>
                    <p:spPr>
                      <a:xfrm>
                        <a:off x="3111840" y="2957760"/>
                        <a:ext cx="5760" cy="3960"/>
                      </a:xfrm>
                      <a:custGeom>
                        <a:avLst/>
                        <a:gdLst>
                          <a:gd name="textAreaLeft" fmla="*/ 0 w 5760"/>
                          <a:gd name="textAreaRight" fmla="*/ 6120 w 5760"/>
                          <a:gd name="textAreaTop" fmla="*/ 0 h 3960"/>
                          <a:gd name="textAreaBottom" fmla="*/ 4320 h 3960"/>
                        </a:gdLst>
                        <a:ahLst/>
                        <a:rect l="textAreaLeft" t="textAreaTop" r="textAreaRight" b="textAreaBottom"/>
                        <a:pathLst>
                          <a:path w="65" h="42">
                            <a:moveTo>
                              <a:pt x="65" y="0"/>
                            </a:moveTo>
                            <a:lnTo>
                              <a:pt x="64" y="0"/>
                            </a:lnTo>
                            <a:lnTo>
                              <a:pt x="61" y="0"/>
                            </a:lnTo>
                            <a:lnTo>
                              <a:pt x="56" y="0"/>
                            </a:lnTo>
                            <a:lnTo>
                              <a:pt x="53" y="0"/>
                            </a:lnTo>
                            <a:lnTo>
                              <a:pt x="49" y="0"/>
                            </a:lnTo>
                            <a:lnTo>
                              <a:pt x="42" y="0"/>
                            </a:lnTo>
                            <a:lnTo>
                              <a:pt x="38" y="1"/>
                            </a:lnTo>
                            <a:lnTo>
                              <a:pt x="33" y="3"/>
                            </a:lnTo>
                            <a:lnTo>
                              <a:pt x="27" y="3"/>
                            </a:lnTo>
                            <a:lnTo>
                              <a:pt x="23" y="3"/>
                            </a:lnTo>
                            <a:lnTo>
                              <a:pt x="16" y="4"/>
                            </a:lnTo>
                            <a:lnTo>
                              <a:pt x="12" y="5"/>
                            </a:lnTo>
                            <a:lnTo>
                              <a:pt x="7" y="5"/>
                            </a:lnTo>
                            <a:lnTo>
                              <a:pt x="4" y="7"/>
                            </a:lnTo>
                            <a:lnTo>
                              <a:pt x="1" y="7"/>
                            </a:lnTo>
                            <a:lnTo>
                              <a:pt x="0" y="8"/>
                            </a:lnTo>
                            <a:lnTo>
                              <a:pt x="4" y="42"/>
                            </a:lnTo>
                            <a:lnTo>
                              <a:pt x="7" y="41"/>
                            </a:lnTo>
                            <a:lnTo>
                              <a:pt x="6" y="38"/>
                            </a:lnTo>
                            <a:lnTo>
                              <a:pt x="6" y="34"/>
                            </a:lnTo>
                            <a:lnTo>
                              <a:pt x="6" y="30"/>
                            </a:lnTo>
                            <a:lnTo>
                              <a:pt x="4" y="27"/>
                            </a:lnTo>
                            <a:lnTo>
                              <a:pt x="4" y="22"/>
                            </a:lnTo>
                            <a:lnTo>
                              <a:pt x="3" y="19"/>
                            </a:lnTo>
                            <a:lnTo>
                              <a:pt x="3" y="16"/>
                            </a:lnTo>
                            <a:lnTo>
                              <a:pt x="4" y="15"/>
                            </a:lnTo>
                            <a:lnTo>
                              <a:pt x="7" y="15"/>
                            </a:lnTo>
                            <a:lnTo>
                              <a:pt x="12" y="15"/>
                            </a:lnTo>
                            <a:lnTo>
                              <a:pt x="15" y="15"/>
                            </a:lnTo>
                            <a:lnTo>
                              <a:pt x="20" y="15"/>
                            </a:lnTo>
                            <a:lnTo>
                              <a:pt x="23" y="14"/>
                            </a:lnTo>
                            <a:lnTo>
                              <a:pt x="27" y="12"/>
                            </a:lnTo>
                            <a:lnTo>
                              <a:pt x="32" y="12"/>
                            </a:lnTo>
                            <a:lnTo>
                              <a:pt x="36" y="11"/>
                            </a:lnTo>
                            <a:lnTo>
                              <a:pt x="39" y="9"/>
                            </a:lnTo>
                            <a:lnTo>
                              <a:pt x="44" y="8"/>
                            </a:lnTo>
                            <a:lnTo>
                              <a:pt x="49" y="7"/>
                            </a:lnTo>
                            <a:lnTo>
                              <a:pt x="53" y="5"/>
                            </a:lnTo>
                            <a:lnTo>
                              <a:pt x="56" y="4"/>
                            </a:lnTo>
                            <a:lnTo>
                              <a:pt x="59" y="3"/>
                            </a:lnTo>
                            <a:lnTo>
                              <a:pt x="62" y="0"/>
                            </a:lnTo>
                            <a:lnTo>
                              <a:pt x="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7" name="Freeform 227"/>
                      <p:cNvSpPr/>
                      <p:nvPr/>
                    </p:nvSpPr>
                    <p:spPr>
                      <a:xfrm>
                        <a:off x="3097800" y="2967480"/>
                        <a:ext cx="131040" cy="23400"/>
                      </a:xfrm>
                      <a:custGeom>
                        <a:avLst/>
                        <a:gdLst>
                          <a:gd name="textAreaLeft" fmla="*/ 0 w 131040"/>
                          <a:gd name="textAreaRight" fmla="*/ 131400 w 131040"/>
                          <a:gd name="textAreaTop" fmla="*/ 0 h 23400"/>
                          <a:gd name="textAreaBottom" fmla="*/ 23760 h 23400"/>
                        </a:gdLst>
                        <a:ahLst/>
                        <a:rect l="textAreaLeft" t="textAreaTop" r="textAreaRight" b="textAreaBottom"/>
                        <a:pathLst>
                          <a:path w="1450" h="235">
                            <a:moveTo>
                              <a:pt x="9" y="4"/>
                            </a:moveTo>
                            <a:lnTo>
                              <a:pt x="9" y="7"/>
                            </a:lnTo>
                            <a:lnTo>
                              <a:pt x="8" y="11"/>
                            </a:lnTo>
                            <a:lnTo>
                              <a:pt x="8" y="15"/>
                            </a:lnTo>
                            <a:lnTo>
                              <a:pt x="6" y="19"/>
                            </a:lnTo>
                            <a:lnTo>
                              <a:pt x="6" y="23"/>
                            </a:lnTo>
                            <a:lnTo>
                              <a:pt x="6" y="28"/>
                            </a:lnTo>
                            <a:lnTo>
                              <a:pt x="4" y="33"/>
                            </a:lnTo>
                            <a:lnTo>
                              <a:pt x="4" y="37"/>
                            </a:lnTo>
                            <a:lnTo>
                              <a:pt x="4" y="43"/>
                            </a:lnTo>
                            <a:lnTo>
                              <a:pt x="3" y="47"/>
                            </a:lnTo>
                            <a:lnTo>
                              <a:pt x="3" y="51"/>
                            </a:lnTo>
                            <a:lnTo>
                              <a:pt x="3" y="56"/>
                            </a:lnTo>
                            <a:lnTo>
                              <a:pt x="1" y="62"/>
                            </a:lnTo>
                            <a:lnTo>
                              <a:pt x="1" y="66"/>
                            </a:lnTo>
                            <a:lnTo>
                              <a:pt x="1" y="71"/>
                            </a:lnTo>
                            <a:lnTo>
                              <a:pt x="1" y="77"/>
                            </a:lnTo>
                            <a:lnTo>
                              <a:pt x="1" y="81"/>
                            </a:lnTo>
                            <a:lnTo>
                              <a:pt x="1" y="87"/>
                            </a:lnTo>
                            <a:lnTo>
                              <a:pt x="0" y="91"/>
                            </a:lnTo>
                            <a:lnTo>
                              <a:pt x="0" y="96"/>
                            </a:lnTo>
                            <a:lnTo>
                              <a:pt x="0" y="100"/>
                            </a:lnTo>
                            <a:lnTo>
                              <a:pt x="0" y="104"/>
                            </a:lnTo>
                            <a:lnTo>
                              <a:pt x="0" y="110"/>
                            </a:lnTo>
                            <a:lnTo>
                              <a:pt x="0" y="115"/>
                            </a:lnTo>
                            <a:lnTo>
                              <a:pt x="0" y="119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0" y="133"/>
                            </a:lnTo>
                            <a:lnTo>
                              <a:pt x="0" y="137"/>
                            </a:lnTo>
                            <a:lnTo>
                              <a:pt x="0" y="141"/>
                            </a:lnTo>
                            <a:lnTo>
                              <a:pt x="0" y="147"/>
                            </a:lnTo>
                            <a:lnTo>
                              <a:pt x="0" y="151"/>
                            </a:lnTo>
                            <a:lnTo>
                              <a:pt x="0" y="150"/>
                            </a:lnTo>
                            <a:lnTo>
                              <a:pt x="1" y="147"/>
                            </a:lnTo>
                            <a:lnTo>
                              <a:pt x="3" y="143"/>
                            </a:lnTo>
                            <a:lnTo>
                              <a:pt x="4" y="140"/>
                            </a:lnTo>
                            <a:lnTo>
                              <a:pt x="4" y="135"/>
                            </a:lnTo>
                            <a:lnTo>
                              <a:pt x="6" y="130"/>
                            </a:lnTo>
                            <a:lnTo>
                              <a:pt x="6" y="125"/>
                            </a:lnTo>
                            <a:lnTo>
                              <a:pt x="8" y="121"/>
                            </a:lnTo>
                            <a:lnTo>
                              <a:pt x="8" y="114"/>
                            </a:lnTo>
                            <a:lnTo>
                              <a:pt x="8" y="108"/>
                            </a:lnTo>
                            <a:lnTo>
                              <a:pt x="9" y="104"/>
                            </a:lnTo>
                            <a:lnTo>
                              <a:pt x="9" y="99"/>
                            </a:lnTo>
                            <a:lnTo>
                              <a:pt x="9" y="95"/>
                            </a:lnTo>
                            <a:lnTo>
                              <a:pt x="9" y="92"/>
                            </a:lnTo>
                            <a:lnTo>
                              <a:pt x="9" y="89"/>
                            </a:lnTo>
                            <a:lnTo>
                              <a:pt x="9" y="88"/>
                            </a:lnTo>
                            <a:lnTo>
                              <a:pt x="17" y="33"/>
                            </a:lnTo>
                            <a:lnTo>
                              <a:pt x="21" y="32"/>
                            </a:lnTo>
                            <a:lnTo>
                              <a:pt x="26" y="32"/>
                            </a:lnTo>
                            <a:lnTo>
                              <a:pt x="30" y="30"/>
                            </a:lnTo>
                            <a:lnTo>
                              <a:pt x="37" y="30"/>
                            </a:lnTo>
                            <a:lnTo>
                              <a:pt x="41" y="28"/>
                            </a:lnTo>
                            <a:lnTo>
                              <a:pt x="47" y="28"/>
                            </a:lnTo>
                            <a:lnTo>
                              <a:pt x="50" y="26"/>
                            </a:lnTo>
                            <a:lnTo>
                              <a:pt x="53" y="26"/>
                            </a:lnTo>
                            <a:lnTo>
                              <a:pt x="58" y="25"/>
                            </a:lnTo>
                            <a:lnTo>
                              <a:pt x="61" y="25"/>
                            </a:lnTo>
                            <a:lnTo>
                              <a:pt x="64" y="23"/>
                            </a:lnTo>
                            <a:lnTo>
                              <a:pt x="67" y="23"/>
                            </a:lnTo>
                            <a:lnTo>
                              <a:pt x="72" y="23"/>
                            </a:lnTo>
                            <a:lnTo>
                              <a:pt x="75" y="22"/>
                            </a:lnTo>
                            <a:lnTo>
                              <a:pt x="79" y="22"/>
                            </a:lnTo>
                            <a:lnTo>
                              <a:pt x="82" y="21"/>
                            </a:lnTo>
                            <a:lnTo>
                              <a:pt x="87" y="21"/>
                            </a:lnTo>
                            <a:lnTo>
                              <a:pt x="90" y="21"/>
                            </a:lnTo>
                            <a:lnTo>
                              <a:pt x="95" y="19"/>
                            </a:lnTo>
                            <a:lnTo>
                              <a:pt x="98" y="19"/>
                            </a:lnTo>
                            <a:lnTo>
                              <a:pt x="101" y="18"/>
                            </a:lnTo>
                            <a:lnTo>
                              <a:pt x="105" y="18"/>
                            </a:lnTo>
                            <a:lnTo>
                              <a:pt x="108" y="18"/>
                            </a:lnTo>
                            <a:lnTo>
                              <a:pt x="113" y="17"/>
                            </a:lnTo>
                            <a:lnTo>
                              <a:pt x="118" y="17"/>
                            </a:lnTo>
                            <a:lnTo>
                              <a:pt x="122" y="17"/>
                            </a:lnTo>
                            <a:lnTo>
                              <a:pt x="125" y="15"/>
                            </a:lnTo>
                            <a:lnTo>
                              <a:pt x="128" y="15"/>
                            </a:lnTo>
                            <a:lnTo>
                              <a:pt x="133" y="14"/>
                            </a:lnTo>
                            <a:lnTo>
                              <a:pt x="136" y="14"/>
                            </a:lnTo>
                            <a:lnTo>
                              <a:pt x="141" y="14"/>
                            </a:lnTo>
                            <a:lnTo>
                              <a:pt x="144" y="12"/>
                            </a:lnTo>
                            <a:lnTo>
                              <a:pt x="148" y="12"/>
                            </a:lnTo>
                            <a:lnTo>
                              <a:pt x="151" y="12"/>
                            </a:lnTo>
                            <a:lnTo>
                              <a:pt x="157" y="12"/>
                            </a:lnTo>
                            <a:lnTo>
                              <a:pt x="165" y="11"/>
                            </a:lnTo>
                            <a:lnTo>
                              <a:pt x="171" y="11"/>
                            </a:lnTo>
                            <a:lnTo>
                              <a:pt x="177" y="11"/>
                            </a:lnTo>
                            <a:lnTo>
                              <a:pt x="183" y="11"/>
                            </a:lnTo>
                            <a:lnTo>
                              <a:pt x="190" y="11"/>
                            </a:lnTo>
                            <a:lnTo>
                              <a:pt x="194" y="11"/>
                            </a:lnTo>
                            <a:lnTo>
                              <a:pt x="199" y="11"/>
                            </a:lnTo>
                            <a:lnTo>
                              <a:pt x="202" y="12"/>
                            </a:lnTo>
                            <a:lnTo>
                              <a:pt x="206" y="12"/>
                            </a:lnTo>
                            <a:lnTo>
                              <a:pt x="209" y="14"/>
                            </a:lnTo>
                            <a:lnTo>
                              <a:pt x="211" y="15"/>
                            </a:lnTo>
                            <a:lnTo>
                              <a:pt x="209" y="15"/>
                            </a:lnTo>
                            <a:lnTo>
                              <a:pt x="206" y="14"/>
                            </a:lnTo>
                            <a:lnTo>
                              <a:pt x="202" y="14"/>
                            </a:lnTo>
                            <a:lnTo>
                              <a:pt x="199" y="15"/>
                            </a:lnTo>
                            <a:lnTo>
                              <a:pt x="194" y="15"/>
                            </a:lnTo>
                            <a:lnTo>
                              <a:pt x="190" y="15"/>
                            </a:lnTo>
                            <a:lnTo>
                              <a:pt x="183" y="15"/>
                            </a:lnTo>
                            <a:lnTo>
                              <a:pt x="179" y="15"/>
                            </a:lnTo>
                            <a:lnTo>
                              <a:pt x="173" y="15"/>
                            </a:lnTo>
                            <a:lnTo>
                              <a:pt x="167" y="17"/>
                            </a:lnTo>
                            <a:lnTo>
                              <a:pt x="162" y="17"/>
                            </a:lnTo>
                            <a:lnTo>
                              <a:pt x="159" y="18"/>
                            </a:lnTo>
                            <a:lnTo>
                              <a:pt x="156" y="18"/>
                            </a:lnTo>
                            <a:lnTo>
                              <a:pt x="153" y="18"/>
                            </a:lnTo>
                            <a:lnTo>
                              <a:pt x="148" y="18"/>
                            </a:lnTo>
                            <a:lnTo>
                              <a:pt x="145" y="19"/>
                            </a:lnTo>
                            <a:lnTo>
                              <a:pt x="141" y="19"/>
                            </a:lnTo>
                            <a:lnTo>
                              <a:pt x="138" y="21"/>
                            </a:lnTo>
                            <a:lnTo>
                              <a:pt x="133" y="21"/>
                            </a:lnTo>
                            <a:lnTo>
                              <a:pt x="130" y="21"/>
                            </a:lnTo>
                            <a:lnTo>
                              <a:pt x="125" y="22"/>
                            </a:lnTo>
                            <a:lnTo>
                              <a:pt x="122" y="23"/>
                            </a:lnTo>
                            <a:lnTo>
                              <a:pt x="119" y="23"/>
                            </a:lnTo>
                            <a:lnTo>
                              <a:pt x="115" y="23"/>
                            </a:lnTo>
                            <a:lnTo>
                              <a:pt x="110" y="23"/>
                            </a:lnTo>
                            <a:lnTo>
                              <a:pt x="107" y="25"/>
                            </a:lnTo>
                            <a:lnTo>
                              <a:pt x="102" y="25"/>
                            </a:lnTo>
                            <a:lnTo>
                              <a:pt x="99" y="26"/>
                            </a:lnTo>
                            <a:lnTo>
                              <a:pt x="95" y="26"/>
                            </a:lnTo>
                            <a:lnTo>
                              <a:pt x="92" y="28"/>
                            </a:lnTo>
                            <a:lnTo>
                              <a:pt x="87" y="28"/>
                            </a:lnTo>
                            <a:lnTo>
                              <a:pt x="84" y="28"/>
                            </a:lnTo>
                            <a:lnTo>
                              <a:pt x="81" y="29"/>
                            </a:lnTo>
                            <a:lnTo>
                              <a:pt x="76" y="29"/>
                            </a:lnTo>
                            <a:lnTo>
                              <a:pt x="70" y="30"/>
                            </a:lnTo>
                            <a:lnTo>
                              <a:pt x="63" y="32"/>
                            </a:lnTo>
                            <a:lnTo>
                              <a:pt x="56" y="33"/>
                            </a:lnTo>
                            <a:lnTo>
                              <a:pt x="50" y="34"/>
                            </a:lnTo>
                            <a:lnTo>
                              <a:pt x="44" y="34"/>
                            </a:lnTo>
                            <a:lnTo>
                              <a:pt x="40" y="36"/>
                            </a:lnTo>
                            <a:lnTo>
                              <a:pt x="35" y="37"/>
                            </a:lnTo>
                            <a:lnTo>
                              <a:pt x="30" y="38"/>
                            </a:lnTo>
                            <a:lnTo>
                              <a:pt x="27" y="38"/>
                            </a:lnTo>
                            <a:lnTo>
                              <a:pt x="24" y="40"/>
                            </a:lnTo>
                            <a:lnTo>
                              <a:pt x="23" y="44"/>
                            </a:lnTo>
                            <a:lnTo>
                              <a:pt x="23" y="51"/>
                            </a:lnTo>
                            <a:lnTo>
                              <a:pt x="23" y="54"/>
                            </a:lnTo>
                            <a:lnTo>
                              <a:pt x="21" y="58"/>
                            </a:lnTo>
                            <a:lnTo>
                              <a:pt x="21" y="62"/>
                            </a:lnTo>
                            <a:lnTo>
                              <a:pt x="21" y="65"/>
                            </a:lnTo>
                            <a:lnTo>
                              <a:pt x="21" y="69"/>
                            </a:lnTo>
                            <a:lnTo>
                              <a:pt x="21" y="71"/>
                            </a:lnTo>
                            <a:lnTo>
                              <a:pt x="21" y="76"/>
                            </a:lnTo>
                            <a:lnTo>
                              <a:pt x="23" y="78"/>
                            </a:lnTo>
                            <a:lnTo>
                              <a:pt x="23" y="84"/>
                            </a:lnTo>
                            <a:lnTo>
                              <a:pt x="24" y="88"/>
                            </a:lnTo>
                            <a:lnTo>
                              <a:pt x="24" y="89"/>
                            </a:lnTo>
                            <a:lnTo>
                              <a:pt x="24" y="93"/>
                            </a:lnTo>
                            <a:lnTo>
                              <a:pt x="23" y="96"/>
                            </a:lnTo>
                            <a:lnTo>
                              <a:pt x="23" y="99"/>
                            </a:lnTo>
                            <a:lnTo>
                              <a:pt x="23" y="103"/>
                            </a:lnTo>
                            <a:lnTo>
                              <a:pt x="23" y="106"/>
                            </a:lnTo>
                            <a:lnTo>
                              <a:pt x="23" y="108"/>
                            </a:lnTo>
                            <a:lnTo>
                              <a:pt x="21" y="111"/>
                            </a:lnTo>
                            <a:lnTo>
                              <a:pt x="21" y="114"/>
                            </a:lnTo>
                            <a:lnTo>
                              <a:pt x="21" y="117"/>
                            </a:lnTo>
                            <a:lnTo>
                              <a:pt x="20" y="121"/>
                            </a:lnTo>
                            <a:lnTo>
                              <a:pt x="20" y="122"/>
                            </a:lnTo>
                            <a:lnTo>
                              <a:pt x="20" y="125"/>
                            </a:lnTo>
                            <a:lnTo>
                              <a:pt x="20" y="128"/>
                            </a:lnTo>
                            <a:lnTo>
                              <a:pt x="20" y="130"/>
                            </a:lnTo>
                            <a:lnTo>
                              <a:pt x="20" y="135"/>
                            </a:lnTo>
                            <a:lnTo>
                              <a:pt x="18" y="137"/>
                            </a:lnTo>
                            <a:lnTo>
                              <a:pt x="18" y="140"/>
                            </a:lnTo>
                            <a:lnTo>
                              <a:pt x="18" y="143"/>
                            </a:lnTo>
                            <a:lnTo>
                              <a:pt x="18" y="147"/>
                            </a:lnTo>
                            <a:lnTo>
                              <a:pt x="18" y="150"/>
                            </a:lnTo>
                            <a:lnTo>
                              <a:pt x="18" y="152"/>
                            </a:lnTo>
                            <a:lnTo>
                              <a:pt x="18" y="155"/>
                            </a:lnTo>
                            <a:lnTo>
                              <a:pt x="18" y="159"/>
                            </a:lnTo>
                            <a:lnTo>
                              <a:pt x="17" y="162"/>
                            </a:lnTo>
                            <a:lnTo>
                              <a:pt x="17" y="165"/>
                            </a:lnTo>
                            <a:lnTo>
                              <a:pt x="17" y="168"/>
                            </a:lnTo>
                            <a:lnTo>
                              <a:pt x="17" y="172"/>
                            </a:lnTo>
                            <a:lnTo>
                              <a:pt x="17" y="177"/>
                            </a:lnTo>
                            <a:lnTo>
                              <a:pt x="15" y="183"/>
                            </a:lnTo>
                            <a:lnTo>
                              <a:pt x="15" y="185"/>
                            </a:lnTo>
                            <a:lnTo>
                              <a:pt x="15" y="189"/>
                            </a:lnTo>
                            <a:lnTo>
                              <a:pt x="15" y="192"/>
                            </a:lnTo>
                            <a:lnTo>
                              <a:pt x="15" y="196"/>
                            </a:lnTo>
                            <a:lnTo>
                              <a:pt x="15" y="199"/>
                            </a:lnTo>
                            <a:lnTo>
                              <a:pt x="15" y="202"/>
                            </a:lnTo>
                            <a:lnTo>
                              <a:pt x="15" y="205"/>
                            </a:lnTo>
                            <a:lnTo>
                              <a:pt x="15" y="209"/>
                            </a:lnTo>
                            <a:lnTo>
                              <a:pt x="15" y="211"/>
                            </a:lnTo>
                            <a:lnTo>
                              <a:pt x="15" y="214"/>
                            </a:lnTo>
                            <a:lnTo>
                              <a:pt x="15" y="218"/>
                            </a:lnTo>
                            <a:lnTo>
                              <a:pt x="15" y="221"/>
                            </a:lnTo>
                            <a:lnTo>
                              <a:pt x="15" y="220"/>
                            </a:lnTo>
                            <a:lnTo>
                              <a:pt x="15" y="218"/>
                            </a:lnTo>
                            <a:lnTo>
                              <a:pt x="15" y="217"/>
                            </a:lnTo>
                            <a:lnTo>
                              <a:pt x="17" y="213"/>
                            </a:lnTo>
                            <a:lnTo>
                              <a:pt x="18" y="210"/>
                            </a:lnTo>
                            <a:lnTo>
                              <a:pt x="20" y="206"/>
                            </a:lnTo>
                            <a:lnTo>
                              <a:pt x="20" y="200"/>
                            </a:lnTo>
                            <a:lnTo>
                              <a:pt x="21" y="196"/>
                            </a:lnTo>
                            <a:lnTo>
                              <a:pt x="21" y="191"/>
                            </a:lnTo>
                            <a:lnTo>
                              <a:pt x="23" y="185"/>
                            </a:lnTo>
                            <a:lnTo>
                              <a:pt x="23" y="180"/>
                            </a:lnTo>
                            <a:lnTo>
                              <a:pt x="24" y="173"/>
                            </a:lnTo>
                            <a:lnTo>
                              <a:pt x="24" y="170"/>
                            </a:lnTo>
                            <a:lnTo>
                              <a:pt x="26" y="168"/>
                            </a:lnTo>
                            <a:lnTo>
                              <a:pt x="26" y="163"/>
                            </a:lnTo>
                            <a:lnTo>
                              <a:pt x="26" y="161"/>
                            </a:lnTo>
                            <a:lnTo>
                              <a:pt x="26" y="157"/>
                            </a:lnTo>
                            <a:lnTo>
                              <a:pt x="27" y="154"/>
                            </a:lnTo>
                            <a:lnTo>
                              <a:pt x="27" y="150"/>
                            </a:lnTo>
                            <a:lnTo>
                              <a:pt x="29" y="147"/>
                            </a:lnTo>
                            <a:lnTo>
                              <a:pt x="29" y="143"/>
                            </a:lnTo>
                            <a:lnTo>
                              <a:pt x="29" y="140"/>
                            </a:lnTo>
                            <a:lnTo>
                              <a:pt x="30" y="136"/>
                            </a:lnTo>
                            <a:lnTo>
                              <a:pt x="30" y="133"/>
                            </a:lnTo>
                            <a:lnTo>
                              <a:pt x="30" y="129"/>
                            </a:lnTo>
                            <a:lnTo>
                              <a:pt x="32" y="126"/>
                            </a:lnTo>
                            <a:lnTo>
                              <a:pt x="32" y="122"/>
                            </a:lnTo>
                            <a:lnTo>
                              <a:pt x="32" y="119"/>
                            </a:lnTo>
                            <a:lnTo>
                              <a:pt x="32" y="115"/>
                            </a:lnTo>
                            <a:lnTo>
                              <a:pt x="34" y="113"/>
                            </a:lnTo>
                            <a:lnTo>
                              <a:pt x="34" y="108"/>
                            </a:lnTo>
                            <a:lnTo>
                              <a:pt x="35" y="106"/>
                            </a:lnTo>
                            <a:lnTo>
                              <a:pt x="35" y="99"/>
                            </a:lnTo>
                            <a:lnTo>
                              <a:pt x="37" y="95"/>
                            </a:lnTo>
                            <a:lnTo>
                              <a:pt x="37" y="88"/>
                            </a:lnTo>
                            <a:lnTo>
                              <a:pt x="38" y="84"/>
                            </a:lnTo>
                            <a:lnTo>
                              <a:pt x="38" y="78"/>
                            </a:lnTo>
                            <a:lnTo>
                              <a:pt x="40" y="74"/>
                            </a:lnTo>
                            <a:lnTo>
                              <a:pt x="40" y="70"/>
                            </a:lnTo>
                            <a:lnTo>
                              <a:pt x="41" y="67"/>
                            </a:lnTo>
                            <a:lnTo>
                              <a:pt x="41" y="65"/>
                            </a:lnTo>
                            <a:lnTo>
                              <a:pt x="43" y="63"/>
                            </a:lnTo>
                            <a:lnTo>
                              <a:pt x="43" y="62"/>
                            </a:lnTo>
                            <a:lnTo>
                              <a:pt x="46" y="62"/>
                            </a:lnTo>
                            <a:lnTo>
                              <a:pt x="50" y="60"/>
                            </a:lnTo>
                            <a:lnTo>
                              <a:pt x="55" y="59"/>
                            </a:lnTo>
                            <a:lnTo>
                              <a:pt x="58" y="59"/>
                            </a:lnTo>
                            <a:lnTo>
                              <a:pt x="61" y="58"/>
                            </a:lnTo>
                            <a:lnTo>
                              <a:pt x="64" y="56"/>
                            </a:lnTo>
                            <a:lnTo>
                              <a:pt x="67" y="56"/>
                            </a:lnTo>
                            <a:lnTo>
                              <a:pt x="70" y="55"/>
                            </a:lnTo>
                            <a:lnTo>
                              <a:pt x="75" y="55"/>
                            </a:lnTo>
                            <a:lnTo>
                              <a:pt x="78" y="54"/>
                            </a:lnTo>
                            <a:lnTo>
                              <a:pt x="82" y="54"/>
                            </a:lnTo>
                            <a:lnTo>
                              <a:pt x="86" y="52"/>
                            </a:lnTo>
                            <a:lnTo>
                              <a:pt x="90" y="52"/>
                            </a:lnTo>
                            <a:lnTo>
                              <a:pt x="93" y="51"/>
                            </a:lnTo>
                            <a:lnTo>
                              <a:pt x="98" y="51"/>
                            </a:lnTo>
                            <a:lnTo>
                              <a:pt x="101" y="49"/>
                            </a:lnTo>
                            <a:lnTo>
                              <a:pt x="105" y="49"/>
                            </a:lnTo>
                            <a:lnTo>
                              <a:pt x="108" y="49"/>
                            </a:lnTo>
                            <a:lnTo>
                              <a:pt x="113" y="49"/>
                            </a:lnTo>
                            <a:lnTo>
                              <a:pt x="116" y="48"/>
                            </a:lnTo>
                            <a:lnTo>
                              <a:pt x="119" y="48"/>
                            </a:lnTo>
                            <a:lnTo>
                              <a:pt x="122" y="48"/>
                            </a:lnTo>
                            <a:lnTo>
                              <a:pt x="127" y="48"/>
                            </a:lnTo>
                            <a:lnTo>
                              <a:pt x="133" y="48"/>
                            </a:lnTo>
                            <a:lnTo>
                              <a:pt x="139" y="49"/>
                            </a:lnTo>
                            <a:lnTo>
                              <a:pt x="115" y="60"/>
                            </a:lnTo>
                            <a:lnTo>
                              <a:pt x="113" y="59"/>
                            </a:lnTo>
                            <a:lnTo>
                              <a:pt x="112" y="59"/>
                            </a:lnTo>
                            <a:lnTo>
                              <a:pt x="108" y="59"/>
                            </a:lnTo>
                            <a:lnTo>
                              <a:pt x="105" y="59"/>
                            </a:lnTo>
                            <a:lnTo>
                              <a:pt x="101" y="59"/>
                            </a:lnTo>
                            <a:lnTo>
                              <a:pt x="95" y="60"/>
                            </a:lnTo>
                            <a:lnTo>
                              <a:pt x="90" y="62"/>
                            </a:lnTo>
                            <a:lnTo>
                              <a:pt x="84" y="62"/>
                            </a:lnTo>
                            <a:lnTo>
                              <a:pt x="78" y="63"/>
                            </a:lnTo>
                            <a:lnTo>
                              <a:pt x="73" y="65"/>
                            </a:lnTo>
                            <a:lnTo>
                              <a:pt x="67" y="65"/>
                            </a:lnTo>
                            <a:lnTo>
                              <a:pt x="63" y="66"/>
                            </a:lnTo>
                            <a:lnTo>
                              <a:pt x="56" y="66"/>
                            </a:lnTo>
                            <a:lnTo>
                              <a:pt x="53" y="66"/>
                            </a:lnTo>
                            <a:lnTo>
                              <a:pt x="50" y="67"/>
                            </a:lnTo>
                            <a:lnTo>
                              <a:pt x="47" y="67"/>
                            </a:lnTo>
                            <a:lnTo>
                              <a:pt x="46" y="70"/>
                            </a:lnTo>
                            <a:lnTo>
                              <a:pt x="46" y="74"/>
                            </a:lnTo>
                            <a:lnTo>
                              <a:pt x="44" y="77"/>
                            </a:lnTo>
                            <a:lnTo>
                              <a:pt x="44" y="80"/>
                            </a:lnTo>
                            <a:lnTo>
                              <a:pt x="44" y="84"/>
                            </a:lnTo>
                            <a:lnTo>
                              <a:pt x="43" y="87"/>
                            </a:lnTo>
                            <a:lnTo>
                              <a:pt x="43" y="89"/>
                            </a:lnTo>
                            <a:lnTo>
                              <a:pt x="43" y="93"/>
                            </a:lnTo>
                            <a:lnTo>
                              <a:pt x="43" y="98"/>
                            </a:lnTo>
                            <a:lnTo>
                              <a:pt x="43" y="100"/>
                            </a:lnTo>
                            <a:lnTo>
                              <a:pt x="43" y="104"/>
                            </a:lnTo>
                            <a:lnTo>
                              <a:pt x="43" y="107"/>
                            </a:lnTo>
                            <a:lnTo>
                              <a:pt x="43" y="111"/>
                            </a:lnTo>
                            <a:lnTo>
                              <a:pt x="43" y="114"/>
                            </a:lnTo>
                            <a:lnTo>
                              <a:pt x="43" y="118"/>
                            </a:lnTo>
                            <a:lnTo>
                              <a:pt x="43" y="122"/>
                            </a:lnTo>
                            <a:lnTo>
                              <a:pt x="43" y="125"/>
                            </a:lnTo>
                            <a:lnTo>
                              <a:pt x="43" y="129"/>
                            </a:lnTo>
                            <a:lnTo>
                              <a:pt x="43" y="132"/>
                            </a:lnTo>
                            <a:lnTo>
                              <a:pt x="43" y="136"/>
                            </a:lnTo>
                            <a:lnTo>
                              <a:pt x="43" y="139"/>
                            </a:lnTo>
                            <a:lnTo>
                              <a:pt x="43" y="143"/>
                            </a:lnTo>
                            <a:lnTo>
                              <a:pt x="43" y="146"/>
                            </a:lnTo>
                            <a:lnTo>
                              <a:pt x="43" y="150"/>
                            </a:lnTo>
                            <a:lnTo>
                              <a:pt x="43" y="154"/>
                            </a:lnTo>
                            <a:lnTo>
                              <a:pt x="43" y="157"/>
                            </a:lnTo>
                            <a:lnTo>
                              <a:pt x="43" y="161"/>
                            </a:lnTo>
                            <a:lnTo>
                              <a:pt x="44" y="163"/>
                            </a:lnTo>
                            <a:lnTo>
                              <a:pt x="44" y="168"/>
                            </a:lnTo>
                            <a:lnTo>
                              <a:pt x="44" y="172"/>
                            </a:lnTo>
                            <a:lnTo>
                              <a:pt x="44" y="174"/>
                            </a:lnTo>
                            <a:lnTo>
                              <a:pt x="44" y="179"/>
                            </a:lnTo>
                            <a:lnTo>
                              <a:pt x="44" y="184"/>
                            </a:lnTo>
                            <a:lnTo>
                              <a:pt x="44" y="191"/>
                            </a:lnTo>
                            <a:lnTo>
                              <a:pt x="43" y="194"/>
                            </a:lnTo>
                            <a:lnTo>
                              <a:pt x="43" y="196"/>
                            </a:lnTo>
                            <a:lnTo>
                              <a:pt x="43" y="200"/>
                            </a:lnTo>
                            <a:lnTo>
                              <a:pt x="43" y="203"/>
                            </a:lnTo>
                            <a:lnTo>
                              <a:pt x="43" y="206"/>
                            </a:lnTo>
                            <a:lnTo>
                              <a:pt x="41" y="210"/>
                            </a:lnTo>
                            <a:lnTo>
                              <a:pt x="41" y="213"/>
                            </a:lnTo>
                            <a:lnTo>
                              <a:pt x="41" y="216"/>
                            </a:lnTo>
                            <a:lnTo>
                              <a:pt x="40" y="218"/>
                            </a:lnTo>
                            <a:lnTo>
                              <a:pt x="40" y="222"/>
                            </a:lnTo>
                            <a:lnTo>
                              <a:pt x="40" y="225"/>
                            </a:lnTo>
                            <a:lnTo>
                              <a:pt x="40" y="229"/>
                            </a:lnTo>
                            <a:lnTo>
                              <a:pt x="43" y="231"/>
                            </a:lnTo>
                            <a:lnTo>
                              <a:pt x="47" y="232"/>
                            </a:lnTo>
                            <a:lnTo>
                              <a:pt x="50" y="233"/>
                            </a:lnTo>
                            <a:lnTo>
                              <a:pt x="55" y="235"/>
                            </a:lnTo>
                            <a:lnTo>
                              <a:pt x="58" y="179"/>
                            </a:lnTo>
                            <a:lnTo>
                              <a:pt x="58" y="173"/>
                            </a:lnTo>
                            <a:lnTo>
                              <a:pt x="60" y="168"/>
                            </a:lnTo>
                            <a:lnTo>
                              <a:pt x="60" y="163"/>
                            </a:lnTo>
                            <a:lnTo>
                              <a:pt x="61" y="158"/>
                            </a:lnTo>
                            <a:lnTo>
                              <a:pt x="63" y="152"/>
                            </a:lnTo>
                            <a:lnTo>
                              <a:pt x="63" y="148"/>
                            </a:lnTo>
                            <a:lnTo>
                              <a:pt x="64" y="143"/>
                            </a:lnTo>
                            <a:lnTo>
                              <a:pt x="66" y="137"/>
                            </a:lnTo>
                            <a:lnTo>
                              <a:pt x="66" y="132"/>
                            </a:lnTo>
                            <a:lnTo>
                              <a:pt x="67" y="126"/>
                            </a:lnTo>
                            <a:lnTo>
                              <a:pt x="67" y="122"/>
                            </a:lnTo>
                            <a:lnTo>
                              <a:pt x="69" y="117"/>
                            </a:lnTo>
                            <a:lnTo>
                              <a:pt x="70" y="111"/>
                            </a:lnTo>
                            <a:lnTo>
                              <a:pt x="70" y="107"/>
                            </a:lnTo>
                            <a:lnTo>
                              <a:pt x="72" y="102"/>
                            </a:lnTo>
                            <a:lnTo>
                              <a:pt x="73" y="96"/>
                            </a:lnTo>
                            <a:lnTo>
                              <a:pt x="73" y="102"/>
                            </a:lnTo>
                            <a:lnTo>
                              <a:pt x="73" y="107"/>
                            </a:lnTo>
                            <a:lnTo>
                              <a:pt x="75" y="113"/>
                            </a:lnTo>
                            <a:lnTo>
                              <a:pt x="75" y="118"/>
                            </a:lnTo>
                            <a:lnTo>
                              <a:pt x="75" y="124"/>
                            </a:lnTo>
                            <a:lnTo>
                              <a:pt x="76" y="129"/>
                            </a:lnTo>
                            <a:lnTo>
                              <a:pt x="76" y="135"/>
                            </a:lnTo>
                            <a:lnTo>
                              <a:pt x="78" y="140"/>
                            </a:lnTo>
                            <a:lnTo>
                              <a:pt x="82" y="141"/>
                            </a:lnTo>
                            <a:lnTo>
                              <a:pt x="84" y="139"/>
                            </a:lnTo>
                            <a:lnTo>
                              <a:pt x="86" y="135"/>
                            </a:lnTo>
                            <a:lnTo>
                              <a:pt x="86" y="130"/>
                            </a:lnTo>
                            <a:lnTo>
                              <a:pt x="87" y="128"/>
                            </a:lnTo>
                            <a:lnTo>
                              <a:pt x="87" y="124"/>
                            </a:lnTo>
                            <a:lnTo>
                              <a:pt x="87" y="119"/>
                            </a:lnTo>
                            <a:lnTo>
                              <a:pt x="87" y="117"/>
                            </a:lnTo>
                            <a:lnTo>
                              <a:pt x="87" y="113"/>
                            </a:lnTo>
                            <a:lnTo>
                              <a:pt x="90" y="111"/>
                            </a:lnTo>
                            <a:lnTo>
                              <a:pt x="95" y="111"/>
                            </a:lnTo>
                            <a:lnTo>
                              <a:pt x="98" y="110"/>
                            </a:lnTo>
                            <a:lnTo>
                              <a:pt x="102" y="110"/>
                            </a:lnTo>
                            <a:lnTo>
                              <a:pt x="107" y="108"/>
                            </a:lnTo>
                            <a:lnTo>
                              <a:pt x="110" y="108"/>
                            </a:lnTo>
                            <a:lnTo>
                              <a:pt x="115" y="107"/>
                            </a:lnTo>
                            <a:lnTo>
                              <a:pt x="119" y="107"/>
                            </a:lnTo>
                            <a:lnTo>
                              <a:pt x="124" y="106"/>
                            </a:lnTo>
                            <a:lnTo>
                              <a:pt x="128" y="104"/>
                            </a:lnTo>
                            <a:lnTo>
                              <a:pt x="133" y="103"/>
                            </a:lnTo>
                            <a:lnTo>
                              <a:pt x="138" y="103"/>
                            </a:lnTo>
                            <a:lnTo>
                              <a:pt x="142" y="102"/>
                            </a:lnTo>
                            <a:lnTo>
                              <a:pt x="147" y="102"/>
                            </a:lnTo>
                            <a:lnTo>
                              <a:pt x="153" y="100"/>
                            </a:lnTo>
                            <a:lnTo>
                              <a:pt x="157" y="99"/>
                            </a:lnTo>
                            <a:lnTo>
                              <a:pt x="164" y="98"/>
                            </a:lnTo>
                            <a:lnTo>
                              <a:pt x="168" y="98"/>
                            </a:lnTo>
                            <a:lnTo>
                              <a:pt x="173" y="96"/>
                            </a:lnTo>
                            <a:lnTo>
                              <a:pt x="179" y="96"/>
                            </a:lnTo>
                            <a:lnTo>
                              <a:pt x="183" y="93"/>
                            </a:lnTo>
                            <a:lnTo>
                              <a:pt x="190" y="93"/>
                            </a:lnTo>
                            <a:lnTo>
                              <a:pt x="194" y="92"/>
                            </a:lnTo>
                            <a:lnTo>
                              <a:pt x="200" y="92"/>
                            </a:lnTo>
                            <a:lnTo>
                              <a:pt x="205" y="91"/>
                            </a:lnTo>
                            <a:lnTo>
                              <a:pt x="211" y="89"/>
                            </a:lnTo>
                            <a:lnTo>
                              <a:pt x="217" y="89"/>
                            </a:lnTo>
                            <a:lnTo>
                              <a:pt x="222" y="88"/>
                            </a:lnTo>
                            <a:lnTo>
                              <a:pt x="228" y="87"/>
                            </a:lnTo>
                            <a:lnTo>
                              <a:pt x="234" y="87"/>
                            </a:lnTo>
                            <a:lnTo>
                              <a:pt x="238" y="85"/>
                            </a:lnTo>
                            <a:lnTo>
                              <a:pt x="245" y="85"/>
                            </a:lnTo>
                            <a:lnTo>
                              <a:pt x="249" y="84"/>
                            </a:lnTo>
                            <a:lnTo>
                              <a:pt x="255" y="84"/>
                            </a:lnTo>
                            <a:lnTo>
                              <a:pt x="260" y="82"/>
                            </a:lnTo>
                            <a:lnTo>
                              <a:pt x="266" y="81"/>
                            </a:lnTo>
                            <a:lnTo>
                              <a:pt x="271" y="80"/>
                            </a:lnTo>
                            <a:lnTo>
                              <a:pt x="277" y="80"/>
                            </a:lnTo>
                            <a:lnTo>
                              <a:pt x="281" y="78"/>
                            </a:lnTo>
                            <a:lnTo>
                              <a:pt x="287" y="78"/>
                            </a:lnTo>
                            <a:lnTo>
                              <a:pt x="292" y="77"/>
                            </a:lnTo>
                            <a:lnTo>
                              <a:pt x="297" y="77"/>
                            </a:lnTo>
                            <a:lnTo>
                              <a:pt x="303" y="77"/>
                            </a:lnTo>
                            <a:lnTo>
                              <a:pt x="307" y="77"/>
                            </a:lnTo>
                            <a:lnTo>
                              <a:pt x="312" y="76"/>
                            </a:lnTo>
                            <a:lnTo>
                              <a:pt x="316" y="76"/>
                            </a:lnTo>
                            <a:lnTo>
                              <a:pt x="323" y="76"/>
                            </a:lnTo>
                            <a:lnTo>
                              <a:pt x="327" y="76"/>
                            </a:lnTo>
                            <a:lnTo>
                              <a:pt x="332" y="74"/>
                            </a:lnTo>
                            <a:lnTo>
                              <a:pt x="336" y="74"/>
                            </a:lnTo>
                            <a:lnTo>
                              <a:pt x="341" y="74"/>
                            </a:lnTo>
                            <a:lnTo>
                              <a:pt x="346" y="74"/>
                            </a:lnTo>
                            <a:lnTo>
                              <a:pt x="349" y="74"/>
                            </a:lnTo>
                            <a:lnTo>
                              <a:pt x="353" y="74"/>
                            </a:lnTo>
                            <a:lnTo>
                              <a:pt x="358" y="74"/>
                            </a:lnTo>
                            <a:lnTo>
                              <a:pt x="362" y="76"/>
                            </a:lnTo>
                            <a:lnTo>
                              <a:pt x="365" y="76"/>
                            </a:lnTo>
                            <a:lnTo>
                              <a:pt x="369" y="76"/>
                            </a:lnTo>
                            <a:lnTo>
                              <a:pt x="373" y="77"/>
                            </a:lnTo>
                            <a:lnTo>
                              <a:pt x="376" y="77"/>
                            </a:lnTo>
                            <a:lnTo>
                              <a:pt x="382" y="78"/>
                            </a:lnTo>
                            <a:lnTo>
                              <a:pt x="388" y="81"/>
                            </a:lnTo>
                            <a:lnTo>
                              <a:pt x="385" y="82"/>
                            </a:lnTo>
                            <a:lnTo>
                              <a:pt x="381" y="84"/>
                            </a:lnTo>
                            <a:lnTo>
                              <a:pt x="378" y="84"/>
                            </a:lnTo>
                            <a:lnTo>
                              <a:pt x="375" y="85"/>
                            </a:lnTo>
                            <a:lnTo>
                              <a:pt x="370" y="87"/>
                            </a:lnTo>
                            <a:lnTo>
                              <a:pt x="367" y="87"/>
                            </a:lnTo>
                            <a:lnTo>
                              <a:pt x="364" y="87"/>
                            </a:lnTo>
                            <a:lnTo>
                              <a:pt x="361" y="88"/>
                            </a:lnTo>
                            <a:lnTo>
                              <a:pt x="356" y="88"/>
                            </a:lnTo>
                            <a:lnTo>
                              <a:pt x="353" y="89"/>
                            </a:lnTo>
                            <a:lnTo>
                              <a:pt x="349" y="89"/>
                            </a:lnTo>
                            <a:lnTo>
                              <a:pt x="346" y="89"/>
                            </a:lnTo>
                            <a:lnTo>
                              <a:pt x="341" y="89"/>
                            </a:lnTo>
                            <a:lnTo>
                              <a:pt x="338" y="91"/>
                            </a:lnTo>
                            <a:lnTo>
                              <a:pt x="333" y="91"/>
                            </a:lnTo>
                            <a:lnTo>
                              <a:pt x="330" y="91"/>
                            </a:lnTo>
                            <a:lnTo>
                              <a:pt x="327" y="91"/>
                            </a:lnTo>
                            <a:lnTo>
                              <a:pt x="324" y="91"/>
                            </a:lnTo>
                            <a:lnTo>
                              <a:pt x="320" y="91"/>
                            </a:lnTo>
                            <a:lnTo>
                              <a:pt x="316" y="91"/>
                            </a:lnTo>
                            <a:lnTo>
                              <a:pt x="312" y="91"/>
                            </a:lnTo>
                            <a:lnTo>
                              <a:pt x="309" y="91"/>
                            </a:lnTo>
                            <a:lnTo>
                              <a:pt x="304" y="91"/>
                            </a:lnTo>
                            <a:lnTo>
                              <a:pt x="301" y="92"/>
                            </a:lnTo>
                            <a:lnTo>
                              <a:pt x="297" y="92"/>
                            </a:lnTo>
                            <a:lnTo>
                              <a:pt x="294" y="92"/>
                            </a:lnTo>
                            <a:lnTo>
                              <a:pt x="290" y="92"/>
                            </a:lnTo>
                            <a:lnTo>
                              <a:pt x="286" y="92"/>
                            </a:lnTo>
                            <a:lnTo>
                              <a:pt x="283" y="92"/>
                            </a:lnTo>
                            <a:lnTo>
                              <a:pt x="280" y="92"/>
                            </a:lnTo>
                            <a:lnTo>
                              <a:pt x="275" y="93"/>
                            </a:lnTo>
                            <a:lnTo>
                              <a:pt x="272" y="95"/>
                            </a:lnTo>
                            <a:lnTo>
                              <a:pt x="141" y="113"/>
                            </a:lnTo>
                            <a:lnTo>
                              <a:pt x="194" y="119"/>
                            </a:lnTo>
                            <a:lnTo>
                              <a:pt x="196" y="119"/>
                            </a:lnTo>
                            <a:lnTo>
                              <a:pt x="200" y="118"/>
                            </a:lnTo>
                            <a:lnTo>
                              <a:pt x="203" y="118"/>
                            </a:lnTo>
                            <a:lnTo>
                              <a:pt x="208" y="117"/>
                            </a:lnTo>
                            <a:lnTo>
                              <a:pt x="212" y="117"/>
                            </a:lnTo>
                            <a:lnTo>
                              <a:pt x="219" y="117"/>
                            </a:lnTo>
                            <a:lnTo>
                              <a:pt x="225" y="115"/>
                            </a:lnTo>
                            <a:lnTo>
                              <a:pt x="231" y="114"/>
                            </a:lnTo>
                            <a:lnTo>
                              <a:pt x="234" y="114"/>
                            </a:lnTo>
                            <a:lnTo>
                              <a:pt x="237" y="114"/>
                            </a:lnTo>
                            <a:lnTo>
                              <a:pt x="242" y="113"/>
                            </a:lnTo>
                            <a:lnTo>
                              <a:pt x="246" y="113"/>
                            </a:lnTo>
                            <a:lnTo>
                              <a:pt x="249" y="113"/>
                            </a:lnTo>
                            <a:lnTo>
                              <a:pt x="252" y="111"/>
                            </a:lnTo>
                            <a:lnTo>
                              <a:pt x="257" y="111"/>
                            </a:lnTo>
                            <a:lnTo>
                              <a:pt x="263" y="111"/>
                            </a:lnTo>
                            <a:lnTo>
                              <a:pt x="266" y="111"/>
                            </a:lnTo>
                            <a:lnTo>
                              <a:pt x="271" y="110"/>
                            </a:lnTo>
                            <a:lnTo>
                              <a:pt x="275" y="110"/>
                            </a:lnTo>
                            <a:lnTo>
                              <a:pt x="281" y="110"/>
                            </a:lnTo>
                            <a:lnTo>
                              <a:pt x="286" y="108"/>
                            </a:lnTo>
                            <a:lnTo>
                              <a:pt x="290" y="108"/>
                            </a:lnTo>
                            <a:lnTo>
                              <a:pt x="297" y="107"/>
                            </a:lnTo>
                            <a:lnTo>
                              <a:pt x="301" y="107"/>
                            </a:lnTo>
                            <a:lnTo>
                              <a:pt x="307" y="106"/>
                            </a:lnTo>
                            <a:lnTo>
                              <a:pt x="312" y="104"/>
                            </a:lnTo>
                            <a:lnTo>
                              <a:pt x="318" y="104"/>
                            </a:lnTo>
                            <a:lnTo>
                              <a:pt x="324" y="104"/>
                            </a:lnTo>
                            <a:lnTo>
                              <a:pt x="330" y="103"/>
                            </a:lnTo>
                            <a:lnTo>
                              <a:pt x="335" y="102"/>
                            </a:lnTo>
                            <a:lnTo>
                              <a:pt x="341" y="102"/>
                            </a:lnTo>
                            <a:lnTo>
                              <a:pt x="349" y="102"/>
                            </a:lnTo>
                            <a:lnTo>
                              <a:pt x="355" y="100"/>
                            </a:lnTo>
                            <a:lnTo>
                              <a:pt x="361" y="100"/>
                            </a:lnTo>
                            <a:lnTo>
                              <a:pt x="367" y="99"/>
                            </a:lnTo>
                            <a:lnTo>
                              <a:pt x="375" y="99"/>
                            </a:lnTo>
                            <a:lnTo>
                              <a:pt x="381" y="98"/>
                            </a:lnTo>
                            <a:lnTo>
                              <a:pt x="387" y="98"/>
                            </a:lnTo>
                            <a:lnTo>
                              <a:pt x="393" y="96"/>
                            </a:lnTo>
                            <a:lnTo>
                              <a:pt x="401" y="96"/>
                            </a:lnTo>
                            <a:lnTo>
                              <a:pt x="408" y="95"/>
                            </a:lnTo>
                            <a:lnTo>
                              <a:pt x="414" y="95"/>
                            </a:lnTo>
                            <a:lnTo>
                              <a:pt x="422" y="93"/>
                            </a:lnTo>
                            <a:lnTo>
                              <a:pt x="430" y="93"/>
                            </a:lnTo>
                            <a:lnTo>
                              <a:pt x="437" y="92"/>
                            </a:lnTo>
                            <a:lnTo>
                              <a:pt x="445" y="92"/>
                            </a:lnTo>
                            <a:lnTo>
                              <a:pt x="453" y="91"/>
                            </a:lnTo>
                            <a:lnTo>
                              <a:pt x="460" y="91"/>
                            </a:lnTo>
                            <a:lnTo>
                              <a:pt x="468" y="89"/>
                            </a:lnTo>
                            <a:lnTo>
                              <a:pt x="476" y="89"/>
                            </a:lnTo>
                            <a:lnTo>
                              <a:pt x="483" y="88"/>
                            </a:lnTo>
                            <a:lnTo>
                              <a:pt x="492" y="88"/>
                            </a:lnTo>
                            <a:lnTo>
                              <a:pt x="1211" y="84"/>
                            </a:lnTo>
                            <a:lnTo>
                              <a:pt x="1083" y="92"/>
                            </a:lnTo>
                            <a:lnTo>
                              <a:pt x="1080" y="91"/>
                            </a:lnTo>
                            <a:lnTo>
                              <a:pt x="1077" y="91"/>
                            </a:lnTo>
                            <a:lnTo>
                              <a:pt x="1072" y="89"/>
                            </a:lnTo>
                            <a:lnTo>
                              <a:pt x="1068" y="89"/>
                            </a:lnTo>
                            <a:lnTo>
                              <a:pt x="1061" y="89"/>
                            </a:lnTo>
                            <a:lnTo>
                              <a:pt x="1058" y="89"/>
                            </a:lnTo>
                            <a:lnTo>
                              <a:pt x="1054" y="89"/>
                            </a:lnTo>
                            <a:lnTo>
                              <a:pt x="1051" y="89"/>
                            </a:lnTo>
                            <a:lnTo>
                              <a:pt x="1054" y="89"/>
                            </a:lnTo>
                            <a:lnTo>
                              <a:pt x="1058" y="91"/>
                            </a:lnTo>
                            <a:lnTo>
                              <a:pt x="1061" y="91"/>
                            </a:lnTo>
                            <a:lnTo>
                              <a:pt x="1066" y="92"/>
                            </a:lnTo>
                            <a:lnTo>
                              <a:pt x="1071" y="92"/>
                            </a:lnTo>
                            <a:lnTo>
                              <a:pt x="1075" y="92"/>
                            </a:lnTo>
                            <a:lnTo>
                              <a:pt x="1080" y="93"/>
                            </a:lnTo>
                            <a:lnTo>
                              <a:pt x="1084" y="93"/>
                            </a:lnTo>
                            <a:lnTo>
                              <a:pt x="1087" y="93"/>
                            </a:lnTo>
                            <a:lnTo>
                              <a:pt x="1092" y="93"/>
                            </a:lnTo>
                            <a:lnTo>
                              <a:pt x="1097" y="95"/>
                            </a:lnTo>
                            <a:lnTo>
                              <a:pt x="1101" y="95"/>
                            </a:lnTo>
                            <a:lnTo>
                              <a:pt x="1106" y="95"/>
                            </a:lnTo>
                            <a:lnTo>
                              <a:pt x="1110" y="95"/>
                            </a:lnTo>
                            <a:lnTo>
                              <a:pt x="1115" y="96"/>
                            </a:lnTo>
                            <a:lnTo>
                              <a:pt x="1120" y="96"/>
                            </a:lnTo>
                            <a:lnTo>
                              <a:pt x="1124" y="96"/>
                            </a:lnTo>
                            <a:lnTo>
                              <a:pt x="1130" y="96"/>
                            </a:lnTo>
                            <a:lnTo>
                              <a:pt x="1133" y="96"/>
                            </a:lnTo>
                            <a:lnTo>
                              <a:pt x="1139" y="96"/>
                            </a:lnTo>
                            <a:lnTo>
                              <a:pt x="1144" y="96"/>
                            </a:lnTo>
                            <a:lnTo>
                              <a:pt x="1149" y="96"/>
                            </a:lnTo>
                            <a:lnTo>
                              <a:pt x="1153" y="96"/>
                            </a:lnTo>
                            <a:lnTo>
                              <a:pt x="1158" y="96"/>
                            </a:lnTo>
                            <a:lnTo>
                              <a:pt x="1162" y="96"/>
                            </a:lnTo>
                            <a:lnTo>
                              <a:pt x="1167" y="96"/>
                            </a:lnTo>
                            <a:lnTo>
                              <a:pt x="1172" y="96"/>
                            </a:lnTo>
                            <a:lnTo>
                              <a:pt x="1178" y="96"/>
                            </a:lnTo>
                            <a:lnTo>
                              <a:pt x="1182" y="96"/>
                            </a:lnTo>
                            <a:lnTo>
                              <a:pt x="1187" y="96"/>
                            </a:lnTo>
                            <a:lnTo>
                              <a:pt x="1191" y="96"/>
                            </a:lnTo>
                            <a:lnTo>
                              <a:pt x="1196" y="96"/>
                            </a:lnTo>
                            <a:lnTo>
                              <a:pt x="1201" y="96"/>
                            </a:lnTo>
                            <a:lnTo>
                              <a:pt x="1207" y="96"/>
                            </a:lnTo>
                            <a:lnTo>
                              <a:pt x="1210" y="96"/>
                            </a:lnTo>
                            <a:lnTo>
                              <a:pt x="1216" y="96"/>
                            </a:lnTo>
                            <a:lnTo>
                              <a:pt x="1219" y="95"/>
                            </a:lnTo>
                            <a:lnTo>
                              <a:pt x="1225" y="95"/>
                            </a:lnTo>
                            <a:lnTo>
                              <a:pt x="1230" y="95"/>
                            </a:lnTo>
                            <a:lnTo>
                              <a:pt x="1234" y="95"/>
                            </a:lnTo>
                            <a:lnTo>
                              <a:pt x="1239" y="95"/>
                            </a:lnTo>
                            <a:lnTo>
                              <a:pt x="1243" y="95"/>
                            </a:lnTo>
                            <a:lnTo>
                              <a:pt x="1248" y="93"/>
                            </a:lnTo>
                            <a:lnTo>
                              <a:pt x="1254" y="93"/>
                            </a:lnTo>
                            <a:lnTo>
                              <a:pt x="1257" y="93"/>
                            </a:lnTo>
                            <a:lnTo>
                              <a:pt x="1263" y="93"/>
                            </a:lnTo>
                            <a:lnTo>
                              <a:pt x="1268" y="93"/>
                            </a:lnTo>
                            <a:lnTo>
                              <a:pt x="1273" y="93"/>
                            </a:lnTo>
                            <a:lnTo>
                              <a:pt x="1277" y="92"/>
                            </a:lnTo>
                            <a:lnTo>
                              <a:pt x="1282" y="92"/>
                            </a:lnTo>
                            <a:lnTo>
                              <a:pt x="1286" y="92"/>
                            </a:lnTo>
                            <a:lnTo>
                              <a:pt x="1291" y="92"/>
                            </a:lnTo>
                            <a:lnTo>
                              <a:pt x="1295" y="92"/>
                            </a:lnTo>
                            <a:lnTo>
                              <a:pt x="1300" y="92"/>
                            </a:lnTo>
                            <a:lnTo>
                              <a:pt x="1305" y="92"/>
                            </a:lnTo>
                            <a:lnTo>
                              <a:pt x="1309" y="92"/>
                            </a:lnTo>
                            <a:lnTo>
                              <a:pt x="1314" y="91"/>
                            </a:lnTo>
                            <a:lnTo>
                              <a:pt x="1318" y="91"/>
                            </a:lnTo>
                            <a:lnTo>
                              <a:pt x="1323" y="91"/>
                            </a:lnTo>
                            <a:lnTo>
                              <a:pt x="1328" y="91"/>
                            </a:lnTo>
                            <a:lnTo>
                              <a:pt x="1332" y="89"/>
                            </a:lnTo>
                            <a:lnTo>
                              <a:pt x="1337" y="89"/>
                            </a:lnTo>
                            <a:lnTo>
                              <a:pt x="1340" y="89"/>
                            </a:lnTo>
                            <a:lnTo>
                              <a:pt x="1346" y="89"/>
                            </a:lnTo>
                            <a:lnTo>
                              <a:pt x="1346" y="93"/>
                            </a:lnTo>
                            <a:lnTo>
                              <a:pt x="1346" y="98"/>
                            </a:lnTo>
                            <a:lnTo>
                              <a:pt x="1346" y="102"/>
                            </a:lnTo>
                            <a:lnTo>
                              <a:pt x="1347" y="106"/>
                            </a:lnTo>
                            <a:lnTo>
                              <a:pt x="1347" y="110"/>
                            </a:lnTo>
                            <a:lnTo>
                              <a:pt x="1349" y="115"/>
                            </a:lnTo>
                            <a:lnTo>
                              <a:pt x="1349" y="121"/>
                            </a:lnTo>
                            <a:lnTo>
                              <a:pt x="1351" y="125"/>
                            </a:lnTo>
                            <a:lnTo>
                              <a:pt x="1351" y="129"/>
                            </a:lnTo>
                            <a:lnTo>
                              <a:pt x="1352" y="135"/>
                            </a:lnTo>
                            <a:lnTo>
                              <a:pt x="1352" y="139"/>
                            </a:lnTo>
                            <a:lnTo>
                              <a:pt x="1354" y="144"/>
                            </a:lnTo>
                            <a:lnTo>
                              <a:pt x="1355" y="148"/>
                            </a:lnTo>
                            <a:lnTo>
                              <a:pt x="1357" y="151"/>
                            </a:lnTo>
                            <a:lnTo>
                              <a:pt x="1360" y="154"/>
                            </a:lnTo>
                            <a:lnTo>
                              <a:pt x="1361" y="158"/>
                            </a:lnTo>
                            <a:lnTo>
                              <a:pt x="1366" y="154"/>
                            </a:lnTo>
                            <a:lnTo>
                              <a:pt x="1364" y="148"/>
                            </a:lnTo>
                            <a:lnTo>
                              <a:pt x="1364" y="143"/>
                            </a:lnTo>
                            <a:lnTo>
                              <a:pt x="1363" y="139"/>
                            </a:lnTo>
                            <a:lnTo>
                              <a:pt x="1363" y="133"/>
                            </a:lnTo>
                            <a:lnTo>
                              <a:pt x="1361" y="129"/>
                            </a:lnTo>
                            <a:lnTo>
                              <a:pt x="1361" y="125"/>
                            </a:lnTo>
                            <a:lnTo>
                              <a:pt x="1360" y="121"/>
                            </a:lnTo>
                            <a:lnTo>
                              <a:pt x="1360" y="117"/>
                            </a:lnTo>
                            <a:lnTo>
                              <a:pt x="1360" y="111"/>
                            </a:lnTo>
                            <a:lnTo>
                              <a:pt x="1358" y="107"/>
                            </a:lnTo>
                            <a:lnTo>
                              <a:pt x="1358" y="102"/>
                            </a:lnTo>
                            <a:lnTo>
                              <a:pt x="1358" y="99"/>
                            </a:lnTo>
                            <a:lnTo>
                              <a:pt x="1357" y="93"/>
                            </a:lnTo>
                            <a:lnTo>
                              <a:pt x="1357" y="89"/>
                            </a:lnTo>
                            <a:lnTo>
                              <a:pt x="1357" y="85"/>
                            </a:lnTo>
                            <a:lnTo>
                              <a:pt x="1357" y="81"/>
                            </a:lnTo>
                            <a:lnTo>
                              <a:pt x="1354" y="80"/>
                            </a:lnTo>
                            <a:lnTo>
                              <a:pt x="1351" y="80"/>
                            </a:lnTo>
                            <a:lnTo>
                              <a:pt x="1346" y="80"/>
                            </a:lnTo>
                            <a:lnTo>
                              <a:pt x="1343" y="81"/>
                            </a:lnTo>
                            <a:lnTo>
                              <a:pt x="1340" y="81"/>
                            </a:lnTo>
                            <a:lnTo>
                              <a:pt x="1337" y="82"/>
                            </a:lnTo>
                            <a:lnTo>
                              <a:pt x="1332" y="82"/>
                            </a:lnTo>
                            <a:lnTo>
                              <a:pt x="1329" y="84"/>
                            </a:lnTo>
                            <a:lnTo>
                              <a:pt x="1325" y="84"/>
                            </a:lnTo>
                            <a:lnTo>
                              <a:pt x="1321" y="84"/>
                            </a:lnTo>
                            <a:lnTo>
                              <a:pt x="1326" y="81"/>
                            </a:lnTo>
                            <a:lnTo>
                              <a:pt x="1328" y="80"/>
                            </a:lnTo>
                            <a:lnTo>
                              <a:pt x="1331" y="78"/>
                            </a:lnTo>
                            <a:lnTo>
                              <a:pt x="1334" y="77"/>
                            </a:lnTo>
                            <a:lnTo>
                              <a:pt x="1338" y="77"/>
                            </a:lnTo>
                            <a:lnTo>
                              <a:pt x="1341" y="76"/>
                            </a:lnTo>
                            <a:lnTo>
                              <a:pt x="1347" y="76"/>
                            </a:lnTo>
                            <a:lnTo>
                              <a:pt x="1351" y="74"/>
                            </a:lnTo>
                            <a:lnTo>
                              <a:pt x="1354" y="74"/>
                            </a:lnTo>
                            <a:lnTo>
                              <a:pt x="1357" y="74"/>
                            </a:lnTo>
                            <a:lnTo>
                              <a:pt x="1361" y="74"/>
                            </a:lnTo>
                            <a:lnTo>
                              <a:pt x="1363" y="77"/>
                            </a:lnTo>
                            <a:lnTo>
                              <a:pt x="1364" y="82"/>
                            </a:lnTo>
                            <a:lnTo>
                              <a:pt x="1367" y="87"/>
                            </a:lnTo>
                            <a:lnTo>
                              <a:pt x="1369" y="89"/>
                            </a:lnTo>
                            <a:lnTo>
                              <a:pt x="1369" y="87"/>
                            </a:lnTo>
                            <a:lnTo>
                              <a:pt x="1370" y="84"/>
                            </a:lnTo>
                            <a:lnTo>
                              <a:pt x="1370" y="80"/>
                            </a:lnTo>
                            <a:lnTo>
                              <a:pt x="1370" y="77"/>
                            </a:lnTo>
                            <a:lnTo>
                              <a:pt x="1370" y="74"/>
                            </a:lnTo>
                            <a:lnTo>
                              <a:pt x="1370" y="71"/>
                            </a:lnTo>
                            <a:lnTo>
                              <a:pt x="1370" y="67"/>
                            </a:lnTo>
                            <a:lnTo>
                              <a:pt x="1369" y="65"/>
                            </a:lnTo>
                            <a:lnTo>
                              <a:pt x="1364" y="65"/>
                            </a:lnTo>
                            <a:lnTo>
                              <a:pt x="1360" y="65"/>
                            </a:lnTo>
                            <a:lnTo>
                              <a:pt x="1357" y="65"/>
                            </a:lnTo>
                            <a:lnTo>
                              <a:pt x="1352" y="66"/>
                            </a:lnTo>
                            <a:lnTo>
                              <a:pt x="1347" y="66"/>
                            </a:lnTo>
                            <a:lnTo>
                              <a:pt x="1344" y="67"/>
                            </a:lnTo>
                            <a:lnTo>
                              <a:pt x="1340" y="67"/>
                            </a:lnTo>
                            <a:lnTo>
                              <a:pt x="1337" y="69"/>
                            </a:lnTo>
                            <a:lnTo>
                              <a:pt x="1332" y="69"/>
                            </a:lnTo>
                            <a:lnTo>
                              <a:pt x="1329" y="70"/>
                            </a:lnTo>
                            <a:lnTo>
                              <a:pt x="1325" y="70"/>
                            </a:lnTo>
                            <a:lnTo>
                              <a:pt x="1320" y="71"/>
                            </a:lnTo>
                            <a:lnTo>
                              <a:pt x="1317" y="71"/>
                            </a:lnTo>
                            <a:lnTo>
                              <a:pt x="1312" y="71"/>
                            </a:lnTo>
                            <a:lnTo>
                              <a:pt x="1309" y="71"/>
                            </a:lnTo>
                            <a:lnTo>
                              <a:pt x="1306" y="71"/>
                            </a:lnTo>
                            <a:lnTo>
                              <a:pt x="1302" y="71"/>
                            </a:lnTo>
                            <a:lnTo>
                              <a:pt x="1299" y="71"/>
                            </a:lnTo>
                            <a:lnTo>
                              <a:pt x="1295" y="70"/>
                            </a:lnTo>
                            <a:lnTo>
                              <a:pt x="1292" y="70"/>
                            </a:lnTo>
                            <a:lnTo>
                              <a:pt x="1285" y="69"/>
                            </a:lnTo>
                            <a:lnTo>
                              <a:pt x="1280" y="70"/>
                            </a:lnTo>
                            <a:lnTo>
                              <a:pt x="1285" y="67"/>
                            </a:lnTo>
                            <a:lnTo>
                              <a:pt x="1291" y="65"/>
                            </a:lnTo>
                            <a:lnTo>
                              <a:pt x="1297" y="63"/>
                            </a:lnTo>
                            <a:lnTo>
                              <a:pt x="1302" y="62"/>
                            </a:lnTo>
                            <a:lnTo>
                              <a:pt x="1308" y="62"/>
                            </a:lnTo>
                            <a:lnTo>
                              <a:pt x="1314" y="60"/>
                            </a:lnTo>
                            <a:lnTo>
                              <a:pt x="1320" y="60"/>
                            </a:lnTo>
                            <a:lnTo>
                              <a:pt x="1326" y="60"/>
                            </a:lnTo>
                            <a:lnTo>
                              <a:pt x="1332" y="60"/>
                            </a:lnTo>
                            <a:lnTo>
                              <a:pt x="1337" y="60"/>
                            </a:lnTo>
                            <a:lnTo>
                              <a:pt x="1343" y="60"/>
                            </a:lnTo>
                            <a:lnTo>
                              <a:pt x="1351" y="60"/>
                            </a:lnTo>
                            <a:lnTo>
                              <a:pt x="1355" y="59"/>
                            </a:lnTo>
                            <a:lnTo>
                              <a:pt x="1363" y="59"/>
                            </a:lnTo>
                            <a:lnTo>
                              <a:pt x="1366" y="59"/>
                            </a:lnTo>
                            <a:lnTo>
                              <a:pt x="1369" y="59"/>
                            </a:lnTo>
                            <a:lnTo>
                              <a:pt x="1372" y="59"/>
                            </a:lnTo>
                            <a:lnTo>
                              <a:pt x="1377" y="59"/>
                            </a:lnTo>
                            <a:lnTo>
                              <a:pt x="1377" y="62"/>
                            </a:lnTo>
                            <a:lnTo>
                              <a:pt x="1377" y="66"/>
                            </a:lnTo>
                            <a:lnTo>
                              <a:pt x="1378" y="70"/>
                            </a:lnTo>
                            <a:lnTo>
                              <a:pt x="1380" y="74"/>
                            </a:lnTo>
                            <a:lnTo>
                              <a:pt x="1380" y="78"/>
                            </a:lnTo>
                            <a:lnTo>
                              <a:pt x="1381" y="84"/>
                            </a:lnTo>
                            <a:lnTo>
                              <a:pt x="1381" y="87"/>
                            </a:lnTo>
                            <a:lnTo>
                              <a:pt x="1383" y="92"/>
                            </a:lnTo>
                            <a:lnTo>
                              <a:pt x="1384" y="96"/>
                            </a:lnTo>
                            <a:lnTo>
                              <a:pt x="1384" y="99"/>
                            </a:lnTo>
                            <a:lnTo>
                              <a:pt x="1384" y="103"/>
                            </a:lnTo>
                            <a:lnTo>
                              <a:pt x="1386" y="108"/>
                            </a:lnTo>
                            <a:lnTo>
                              <a:pt x="1387" y="111"/>
                            </a:lnTo>
                            <a:lnTo>
                              <a:pt x="1387" y="117"/>
                            </a:lnTo>
                            <a:lnTo>
                              <a:pt x="1389" y="121"/>
                            </a:lnTo>
                            <a:lnTo>
                              <a:pt x="1390" y="125"/>
                            </a:lnTo>
                            <a:lnTo>
                              <a:pt x="1390" y="129"/>
                            </a:lnTo>
                            <a:lnTo>
                              <a:pt x="1392" y="133"/>
                            </a:lnTo>
                            <a:lnTo>
                              <a:pt x="1392" y="136"/>
                            </a:lnTo>
                            <a:lnTo>
                              <a:pt x="1393" y="141"/>
                            </a:lnTo>
                            <a:lnTo>
                              <a:pt x="1395" y="146"/>
                            </a:lnTo>
                            <a:lnTo>
                              <a:pt x="1395" y="150"/>
                            </a:lnTo>
                            <a:lnTo>
                              <a:pt x="1396" y="154"/>
                            </a:lnTo>
                            <a:lnTo>
                              <a:pt x="1398" y="158"/>
                            </a:lnTo>
                            <a:lnTo>
                              <a:pt x="1398" y="162"/>
                            </a:lnTo>
                            <a:lnTo>
                              <a:pt x="1399" y="166"/>
                            </a:lnTo>
                            <a:lnTo>
                              <a:pt x="1399" y="170"/>
                            </a:lnTo>
                            <a:lnTo>
                              <a:pt x="1401" y="174"/>
                            </a:lnTo>
                            <a:lnTo>
                              <a:pt x="1401" y="179"/>
                            </a:lnTo>
                            <a:lnTo>
                              <a:pt x="1404" y="183"/>
                            </a:lnTo>
                            <a:lnTo>
                              <a:pt x="1404" y="187"/>
                            </a:lnTo>
                            <a:lnTo>
                              <a:pt x="1406" y="192"/>
                            </a:lnTo>
                            <a:lnTo>
                              <a:pt x="1419" y="192"/>
                            </a:lnTo>
                            <a:lnTo>
                              <a:pt x="1418" y="188"/>
                            </a:lnTo>
                            <a:lnTo>
                              <a:pt x="1418" y="184"/>
                            </a:lnTo>
                            <a:lnTo>
                              <a:pt x="1418" y="180"/>
                            </a:lnTo>
                            <a:lnTo>
                              <a:pt x="1418" y="174"/>
                            </a:lnTo>
                            <a:lnTo>
                              <a:pt x="1418" y="170"/>
                            </a:lnTo>
                            <a:lnTo>
                              <a:pt x="1418" y="165"/>
                            </a:lnTo>
                            <a:lnTo>
                              <a:pt x="1418" y="159"/>
                            </a:lnTo>
                            <a:lnTo>
                              <a:pt x="1418" y="155"/>
                            </a:lnTo>
                            <a:lnTo>
                              <a:pt x="1416" y="150"/>
                            </a:lnTo>
                            <a:lnTo>
                              <a:pt x="1416" y="144"/>
                            </a:lnTo>
                            <a:lnTo>
                              <a:pt x="1415" y="139"/>
                            </a:lnTo>
                            <a:lnTo>
                              <a:pt x="1415" y="133"/>
                            </a:lnTo>
                            <a:lnTo>
                              <a:pt x="1415" y="126"/>
                            </a:lnTo>
                            <a:lnTo>
                              <a:pt x="1415" y="121"/>
                            </a:lnTo>
                            <a:lnTo>
                              <a:pt x="1415" y="115"/>
                            </a:lnTo>
                            <a:lnTo>
                              <a:pt x="1415" y="110"/>
                            </a:lnTo>
                            <a:lnTo>
                              <a:pt x="1413" y="104"/>
                            </a:lnTo>
                            <a:lnTo>
                              <a:pt x="1413" y="99"/>
                            </a:lnTo>
                            <a:lnTo>
                              <a:pt x="1412" y="92"/>
                            </a:lnTo>
                            <a:lnTo>
                              <a:pt x="1412" y="87"/>
                            </a:lnTo>
                            <a:lnTo>
                              <a:pt x="1410" y="81"/>
                            </a:lnTo>
                            <a:lnTo>
                              <a:pt x="1410" y="76"/>
                            </a:lnTo>
                            <a:lnTo>
                              <a:pt x="1409" y="71"/>
                            </a:lnTo>
                            <a:lnTo>
                              <a:pt x="1409" y="66"/>
                            </a:lnTo>
                            <a:lnTo>
                              <a:pt x="1407" y="60"/>
                            </a:lnTo>
                            <a:lnTo>
                              <a:pt x="1406" y="55"/>
                            </a:lnTo>
                            <a:lnTo>
                              <a:pt x="1404" y="51"/>
                            </a:lnTo>
                            <a:lnTo>
                              <a:pt x="1404" y="47"/>
                            </a:lnTo>
                            <a:lnTo>
                              <a:pt x="1403" y="43"/>
                            </a:lnTo>
                            <a:lnTo>
                              <a:pt x="1401" y="40"/>
                            </a:lnTo>
                            <a:lnTo>
                              <a:pt x="1399" y="36"/>
                            </a:lnTo>
                            <a:lnTo>
                              <a:pt x="1398" y="33"/>
                            </a:lnTo>
                            <a:lnTo>
                              <a:pt x="1395" y="33"/>
                            </a:lnTo>
                            <a:lnTo>
                              <a:pt x="1390" y="32"/>
                            </a:lnTo>
                            <a:lnTo>
                              <a:pt x="1384" y="32"/>
                            </a:lnTo>
                            <a:lnTo>
                              <a:pt x="1381" y="32"/>
                            </a:lnTo>
                            <a:lnTo>
                              <a:pt x="1378" y="32"/>
                            </a:lnTo>
                            <a:lnTo>
                              <a:pt x="1375" y="32"/>
                            </a:lnTo>
                            <a:lnTo>
                              <a:pt x="1372" y="32"/>
                            </a:lnTo>
                            <a:lnTo>
                              <a:pt x="1367" y="30"/>
                            </a:lnTo>
                            <a:lnTo>
                              <a:pt x="1364" y="30"/>
                            </a:lnTo>
                            <a:lnTo>
                              <a:pt x="1360" y="30"/>
                            </a:lnTo>
                            <a:lnTo>
                              <a:pt x="1357" y="30"/>
                            </a:lnTo>
                            <a:lnTo>
                              <a:pt x="1352" y="30"/>
                            </a:lnTo>
                            <a:lnTo>
                              <a:pt x="1349" y="30"/>
                            </a:lnTo>
                            <a:lnTo>
                              <a:pt x="1344" y="30"/>
                            </a:lnTo>
                            <a:lnTo>
                              <a:pt x="1341" y="30"/>
                            </a:lnTo>
                            <a:lnTo>
                              <a:pt x="1337" y="29"/>
                            </a:lnTo>
                            <a:lnTo>
                              <a:pt x="1334" y="29"/>
                            </a:lnTo>
                            <a:lnTo>
                              <a:pt x="1331" y="29"/>
                            </a:lnTo>
                            <a:lnTo>
                              <a:pt x="1328" y="29"/>
                            </a:lnTo>
                            <a:lnTo>
                              <a:pt x="1323" y="29"/>
                            </a:lnTo>
                            <a:lnTo>
                              <a:pt x="1318" y="29"/>
                            </a:lnTo>
                            <a:lnTo>
                              <a:pt x="1315" y="29"/>
                            </a:lnTo>
                            <a:lnTo>
                              <a:pt x="1321" y="28"/>
                            </a:lnTo>
                            <a:lnTo>
                              <a:pt x="1326" y="26"/>
                            </a:lnTo>
                            <a:lnTo>
                              <a:pt x="1332" y="25"/>
                            </a:lnTo>
                            <a:lnTo>
                              <a:pt x="1338" y="25"/>
                            </a:lnTo>
                            <a:lnTo>
                              <a:pt x="1343" y="23"/>
                            </a:lnTo>
                            <a:lnTo>
                              <a:pt x="1351" y="23"/>
                            </a:lnTo>
                            <a:lnTo>
                              <a:pt x="1355" y="23"/>
                            </a:lnTo>
                            <a:lnTo>
                              <a:pt x="1361" y="23"/>
                            </a:lnTo>
                            <a:lnTo>
                              <a:pt x="1367" y="23"/>
                            </a:lnTo>
                            <a:lnTo>
                              <a:pt x="1373" y="23"/>
                            </a:lnTo>
                            <a:lnTo>
                              <a:pt x="1378" y="23"/>
                            </a:lnTo>
                            <a:lnTo>
                              <a:pt x="1384" y="23"/>
                            </a:lnTo>
                            <a:lnTo>
                              <a:pt x="1390" y="23"/>
                            </a:lnTo>
                            <a:lnTo>
                              <a:pt x="1396" y="23"/>
                            </a:lnTo>
                            <a:lnTo>
                              <a:pt x="1403" y="23"/>
                            </a:lnTo>
                            <a:lnTo>
                              <a:pt x="1409" y="23"/>
                            </a:lnTo>
                            <a:lnTo>
                              <a:pt x="1409" y="29"/>
                            </a:lnTo>
                            <a:lnTo>
                              <a:pt x="1409" y="33"/>
                            </a:lnTo>
                            <a:lnTo>
                              <a:pt x="1410" y="38"/>
                            </a:lnTo>
                            <a:lnTo>
                              <a:pt x="1412" y="44"/>
                            </a:lnTo>
                            <a:lnTo>
                              <a:pt x="1412" y="49"/>
                            </a:lnTo>
                            <a:lnTo>
                              <a:pt x="1412" y="54"/>
                            </a:lnTo>
                            <a:lnTo>
                              <a:pt x="1412" y="59"/>
                            </a:lnTo>
                            <a:lnTo>
                              <a:pt x="1413" y="65"/>
                            </a:lnTo>
                            <a:lnTo>
                              <a:pt x="1413" y="70"/>
                            </a:lnTo>
                            <a:lnTo>
                              <a:pt x="1415" y="74"/>
                            </a:lnTo>
                            <a:lnTo>
                              <a:pt x="1415" y="80"/>
                            </a:lnTo>
                            <a:lnTo>
                              <a:pt x="1415" y="85"/>
                            </a:lnTo>
                            <a:lnTo>
                              <a:pt x="1416" y="91"/>
                            </a:lnTo>
                            <a:lnTo>
                              <a:pt x="1418" y="96"/>
                            </a:lnTo>
                            <a:lnTo>
                              <a:pt x="1418" y="102"/>
                            </a:lnTo>
                            <a:lnTo>
                              <a:pt x="1419" y="107"/>
                            </a:lnTo>
                            <a:lnTo>
                              <a:pt x="1419" y="111"/>
                            </a:lnTo>
                            <a:lnTo>
                              <a:pt x="1421" y="117"/>
                            </a:lnTo>
                            <a:lnTo>
                              <a:pt x="1422" y="122"/>
                            </a:lnTo>
                            <a:lnTo>
                              <a:pt x="1422" y="126"/>
                            </a:lnTo>
                            <a:lnTo>
                              <a:pt x="1424" y="132"/>
                            </a:lnTo>
                            <a:lnTo>
                              <a:pt x="1425" y="137"/>
                            </a:lnTo>
                            <a:lnTo>
                              <a:pt x="1425" y="141"/>
                            </a:lnTo>
                            <a:lnTo>
                              <a:pt x="1429" y="148"/>
                            </a:lnTo>
                            <a:lnTo>
                              <a:pt x="1429" y="152"/>
                            </a:lnTo>
                            <a:lnTo>
                              <a:pt x="1430" y="158"/>
                            </a:lnTo>
                            <a:lnTo>
                              <a:pt x="1432" y="163"/>
                            </a:lnTo>
                            <a:lnTo>
                              <a:pt x="1433" y="168"/>
                            </a:lnTo>
                            <a:lnTo>
                              <a:pt x="1436" y="173"/>
                            </a:lnTo>
                            <a:lnTo>
                              <a:pt x="1438" y="177"/>
                            </a:lnTo>
                            <a:lnTo>
                              <a:pt x="1439" y="183"/>
                            </a:lnTo>
                            <a:lnTo>
                              <a:pt x="1442" y="188"/>
                            </a:lnTo>
                            <a:lnTo>
                              <a:pt x="1442" y="191"/>
                            </a:lnTo>
                            <a:lnTo>
                              <a:pt x="1444" y="195"/>
                            </a:lnTo>
                            <a:lnTo>
                              <a:pt x="1445" y="196"/>
                            </a:lnTo>
                            <a:lnTo>
                              <a:pt x="1447" y="198"/>
                            </a:lnTo>
                            <a:lnTo>
                              <a:pt x="1448" y="196"/>
                            </a:lnTo>
                            <a:lnTo>
                              <a:pt x="1450" y="194"/>
                            </a:lnTo>
                            <a:lnTo>
                              <a:pt x="1450" y="188"/>
                            </a:lnTo>
                            <a:lnTo>
                              <a:pt x="1450" y="183"/>
                            </a:lnTo>
                            <a:lnTo>
                              <a:pt x="1450" y="179"/>
                            </a:lnTo>
                            <a:lnTo>
                              <a:pt x="1450" y="174"/>
                            </a:lnTo>
                            <a:lnTo>
                              <a:pt x="1448" y="170"/>
                            </a:lnTo>
                            <a:lnTo>
                              <a:pt x="1448" y="168"/>
                            </a:lnTo>
                            <a:lnTo>
                              <a:pt x="1448" y="163"/>
                            </a:lnTo>
                            <a:lnTo>
                              <a:pt x="1448" y="159"/>
                            </a:lnTo>
                            <a:lnTo>
                              <a:pt x="1447" y="154"/>
                            </a:lnTo>
                            <a:lnTo>
                              <a:pt x="1447" y="150"/>
                            </a:lnTo>
                            <a:lnTo>
                              <a:pt x="1447" y="143"/>
                            </a:lnTo>
                            <a:lnTo>
                              <a:pt x="1447" y="137"/>
                            </a:lnTo>
                            <a:lnTo>
                              <a:pt x="1447" y="135"/>
                            </a:lnTo>
                            <a:lnTo>
                              <a:pt x="1447" y="130"/>
                            </a:lnTo>
                            <a:lnTo>
                              <a:pt x="1445" y="128"/>
                            </a:lnTo>
                            <a:lnTo>
                              <a:pt x="1445" y="124"/>
                            </a:lnTo>
                            <a:lnTo>
                              <a:pt x="1445" y="121"/>
                            </a:lnTo>
                            <a:lnTo>
                              <a:pt x="1445" y="117"/>
                            </a:lnTo>
                            <a:lnTo>
                              <a:pt x="1444" y="114"/>
                            </a:lnTo>
                            <a:lnTo>
                              <a:pt x="1444" y="111"/>
                            </a:lnTo>
                            <a:lnTo>
                              <a:pt x="1444" y="107"/>
                            </a:lnTo>
                            <a:lnTo>
                              <a:pt x="1444" y="103"/>
                            </a:lnTo>
                            <a:lnTo>
                              <a:pt x="1442" y="99"/>
                            </a:lnTo>
                            <a:lnTo>
                              <a:pt x="1442" y="96"/>
                            </a:lnTo>
                            <a:lnTo>
                              <a:pt x="1442" y="92"/>
                            </a:lnTo>
                            <a:lnTo>
                              <a:pt x="1442" y="88"/>
                            </a:lnTo>
                            <a:lnTo>
                              <a:pt x="1442" y="85"/>
                            </a:lnTo>
                            <a:lnTo>
                              <a:pt x="1442" y="81"/>
                            </a:lnTo>
                            <a:lnTo>
                              <a:pt x="1442" y="77"/>
                            </a:lnTo>
                            <a:lnTo>
                              <a:pt x="1441" y="74"/>
                            </a:lnTo>
                            <a:lnTo>
                              <a:pt x="1441" y="70"/>
                            </a:lnTo>
                            <a:lnTo>
                              <a:pt x="1441" y="66"/>
                            </a:lnTo>
                            <a:lnTo>
                              <a:pt x="1439" y="62"/>
                            </a:lnTo>
                            <a:lnTo>
                              <a:pt x="1439" y="59"/>
                            </a:lnTo>
                            <a:lnTo>
                              <a:pt x="1439" y="55"/>
                            </a:lnTo>
                            <a:lnTo>
                              <a:pt x="1439" y="52"/>
                            </a:lnTo>
                            <a:lnTo>
                              <a:pt x="1439" y="48"/>
                            </a:lnTo>
                            <a:lnTo>
                              <a:pt x="1438" y="45"/>
                            </a:lnTo>
                            <a:lnTo>
                              <a:pt x="1438" y="41"/>
                            </a:lnTo>
                            <a:lnTo>
                              <a:pt x="1438" y="38"/>
                            </a:lnTo>
                            <a:lnTo>
                              <a:pt x="1436" y="36"/>
                            </a:lnTo>
                            <a:lnTo>
                              <a:pt x="1436" y="32"/>
                            </a:lnTo>
                            <a:lnTo>
                              <a:pt x="1436" y="29"/>
                            </a:lnTo>
                            <a:lnTo>
                              <a:pt x="1436" y="28"/>
                            </a:lnTo>
                            <a:lnTo>
                              <a:pt x="1435" y="21"/>
                            </a:lnTo>
                            <a:lnTo>
                              <a:pt x="1435" y="17"/>
                            </a:lnTo>
                            <a:lnTo>
                              <a:pt x="1433" y="11"/>
                            </a:lnTo>
                            <a:lnTo>
                              <a:pt x="1433" y="8"/>
                            </a:lnTo>
                            <a:lnTo>
                              <a:pt x="1433" y="4"/>
                            </a:lnTo>
                            <a:lnTo>
                              <a:pt x="1433" y="3"/>
                            </a:lnTo>
                            <a:lnTo>
                              <a:pt x="1432" y="0"/>
                            </a:lnTo>
                            <a:lnTo>
                              <a:pt x="9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8" name="Freeform 228"/>
                      <p:cNvSpPr/>
                      <p:nvPr/>
                    </p:nvSpPr>
                    <p:spPr>
                      <a:xfrm>
                        <a:off x="3143520" y="2968560"/>
                        <a:ext cx="24840" cy="1800"/>
                      </a:xfrm>
                      <a:custGeom>
                        <a:avLst/>
                        <a:gdLst>
                          <a:gd name="textAreaLeft" fmla="*/ 0 w 24840"/>
                          <a:gd name="textAreaRight" fmla="*/ 25200 w 24840"/>
                          <a:gd name="textAreaTop" fmla="*/ 0 h 1800"/>
                          <a:gd name="textAreaBottom" fmla="*/ 2160 h 1800"/>
                        </a:gdLst>
                        <a:ahLst/>
                        <a:rect l="textAreaLeft" t="textAreaTop" r="textAreaRight" b="textAreaBottom"/>
                        <a:pathLst>
                          <a:path w="277" h="18">
                            <a:moveTo>
                              <a:pt x="277" y="0"/>
                            </a:moveTo>
                            <a:lnTo>
                              <a:pt x="269" y="0"/>
                            </a:lnTo>
                            <a:lnTo>
                              <a:pt x="263" y="0"/>
                            </a:lnTo>
                            <a:lnTo>
                              <a:pt x="257" y="0"/>
                            </a:lnTo>
                            <a:lnTo>
                              <a:pt x="252" y="0"/>
                            </a:lnTo>
                            <a:lnTo>
                              <a:pt x="245" y="0"/>
                            </a:lnTo>
                            <a:lnTo>
                              <a:pt x="240" y="2"/>
                            </a:lnTo>
                            <a:lnTo>
                              <a:pt x="234" y="2"/>
                            </a:lnTo>
                            <a:lnTo>
                              <a:pt x="228" y="3"/>
                            </a:lnTo>
                            <a:lnTo>
                              <a:pt x="222" y="3"/>
                            </a:lnTo>
                            <a:lnTo>
                              <a:pt x="216" y="3"/>
                            </a:lnTo>
                            <a:lnTo>
                              <a:pt x="210" y="4"/>
                            </a:lnTo>
                            <a:lnTo>
                              <a:pt x="203" y="4"/>
                            </a:lnTo>
                            <a:lnTo>
                              <a:pt x="197" y="4"/>
                            </a:lnTo>
                            <a:lnTo>
                              <a:pt x="193" y="4"/>
                            </a:lnTo>
                            <a:lnTo>
                              <a:pt x="187" y="6"/>
                            </a:lnTo>
                            <a:lnTo>
                              <a:pt x="180" y="6"/>
                            </a:lnTo>
                            <a:lnTo>
                              <a:pt x="174" y="6"/>
                            </a:lnTo>
                            <a:lnTo>
                              <a:pt x="168" y="7"/>
                            </a:lnTo>
                            <a:lnTo>
                              <a:pt x="162" y="7"/>
                            </a:lnTo>
                            <a:lnTo>
                              <a:pt x="156" y="7"/>
                            </a:lnTo>
                            <a:lnTo>
                              <a:pt x="150" y="7"/>
                            </a:lnTo>
                            <a:lnTo>
                              <a:pt x="144" y="7"/>
                            </a:lnTo>
                            <a:lnTo>
                              <a:pt x="138" y="9"/>
                            </a:lnTo>
                            <a:lnTo>
                              <a:pt x="131" y="9"/>
                            </a:lnTo>
                            <a:lnTo>
                              <a:pt x="125" y="9"/>
                            </a:lnTo>
                            <a:lnTo>
                              <a:pt x="119" y="10"/>
                            </a:lnTo>
                            <a:lnTo>
                              <a:pt x="113" y="10"/>
                            </a:lnTo>
                            <a:lnTo>
                              <a:pt x="109" y="10"/>
                            </a:lnTo>
                            <a:lnTo>
                              <a:pt x="101" y="10"/>
                            </a:lnTo>
                            <a:lnTo>
                              <a:pt x="96" y="10"/>
                            </a:lnTo>
                            <a:lnTo>
                              <a:pt x="90" y="11"/>
                            </a:lnTo>
                            <a:lnTo>
                              <a:pt x="84" y="11"/>
                            </a:lnTo>
                            <a:lnTo>
                              <a:pt x="79" y="11"/>
                            </a:lnTo>
                            <a:lnTo>
                              <a:pt x="76" y="11"/>
                            </a:lnTo>
                            <a:lnTo>
                              <a:pt x="72" y="11"/>
                            </a:lnTo>
                            <a:lnTo>
                              <a:pt x="67" y="11"/>
                            </a:lnTo>
                            <a:lnTo>
                              <a:pt x="63" y="11"/>
                            </a:lnTo>
                            <a:lnTo>
                              <a:pt x="60" y="11"/>
                            </a:lnTo>
                            <a:lnTo>
                              <a:pt x="55" y="11"/>
                            </a:lnTo>
                            <a:lnTo>
                              <a:pt x="52" y="11"/>
                            </a:lnTo>
                            <a:lnTo>
                              <a:pt x="47" y="11"/>
                            </a:lnTo>
                            <a:lnTo>
                              <a:pt x="43" y="11"/>
                            </a:lnTo>
                            <a:lnTo>
                              <a:pt x="38" y="11"/>
                            </a:lnTo>
                            <a:lnTo>
                              <a:pt x="35" y="13"/>
                            </a:lnTo>
                            <a:lnTo>
                              <a:pt x="31" y="13"/>
                            </a:lnTo>
                            <a:lnTo>
                              <a:pt x="26" y="13"/>
                            </a:lnTo>
                            <a:lnTo>
                              <a:pt x="23" y="13"/>
                            </a:lnTo>
                            <a:lnTo>
                              <a:pt x="18" y="14"/>
                            </a:lnTo>
                            <a:lnTo>
                              <a:pt x="5" y="15"/>
                            </a:lnTo>
                            <a:lnTo>
                              <a:pt x="3" y="15"/>
                            </a:lnTo>
                            <a:lnTo>
                              <a:pt x="1" y="15"/>
                            </a:lnTo>
                            <a:lnTo>
                              <a:pt x="0" y="15"/>
                            </a:lnTo>
                            <a:lnTo>
                              <a:pt x="29" y="18"/>
                            </a:lnTo>
                            <a:lnTo>
                              <a:pt x="34" y="18"/>
                            </a:lnTo>
                            <a:lnTo>
                              <a:pt x="38" y="18"/>
                            </a:lnTo>
                            <a:lnTo>
                              <a:pt x="43" y="18"/>
                            </a:lnTo>
                            <a:lnTo>
                              <a:pt x="49" y="18"/>
                            </a:lnTo>
                            <a:lnTo>
                              <a:pt x="55" y="18"/>
                            </a:lnTo>
                            <a:lnTo>
                              <a:pt x="60" y="18"/>
                            </a:lnTo>
                            <a:lnTo>
                              <a:pt x="66" y="18"/>
                            </a:lnTo>
                            <a:lnTo>
                              <a:pt x="72" y="18"/>
                            </a:lnTo>
                            <a:lnTo>
                              <a:pt x="76" y="18"/>
                            </a:lnTo>
                            <a:lnTo>
                              <a:pt x="83" y="18"/>
                            </a:lnTo>
                            <a:lnTo>
                              <a:pt x="89" y="17"/>
                            </a:lnTo>
                            <a:lnTo>
                              <a:pt x="95" y="17"/>
                            </a:lnTo>
                            <a:lnTo>
                              <a:pt x="99" y="17"/>
                            </a:lnTo>
                            <a:lnTo>
                              <a:pt x="105" y="17"/>
                            </a:lnTo>
                            <a:lnTo>
                              <a:pt x="112" y="15"/>
                            </a:lnTo>
                            <a:lnTo>
                              <a:pt x="118" y="15"/>
                            </a:lnTo>
                            <a:lnTo>
                              <a:pt x="124" y="15"/>
                            </a:lnTo>
                            <a:lnTo>
                              <a:pt x="128" y="15"/>
                            </a:lnTo>
                            <a:lnTo>
                              <a:pt x="135" y="14"/>
                            </a:lnTo>
                            <a:lnTo>
                              <a:pt x="141" y="14"/>
                            </a:lnTo>
                            <a:lnTo>
                              <a:pt x="145" y="14"/>
                            </a:lnTo>
                            <a:lnTo>
                              <a:pt x="151" y="13"/>
                            </a:lnTo>
                            <a:lnTo>
                              <a:pt x="157" y="13"/>
                            </a:lnTo>
                            <a:lnTo>
                              <a:pt x="164" y="13"/>
                            </a:lnTo>
                            <a:lnTo>
                              <a:pt x="168" y="13"/>
                            </a:lnTo>
                            <a:lnTo>
                              <a:pt x="174" y="11"/>
                            </a:lnTo>
                            <a:lnTo>
                              <a:pt x="180" y="11"/>
                            </a:lnTo>
                            <a:lnTo>
                              <a:pt x="185" y="11"/>
                            </a:lnTo>
                            <a:lnTo>
                              <a:pt x="190" y="10"/>
                            </a:lnTo>
                            <a:lnTo>
                              <a:pt x="196" y="10"/>
                            </a:lnTo>
                            <a:lnTo>
                              <a:pt x="202" y="10"/>
                            </a:lnTo>
                            <a:lnTo>
                              <a:pt x="208" y="10"/>
                            </a:lnTo>
                            <a:lnTo>
                              <a:pt x="211" y="9"/>
                            </a:lnTo>
                            <a:lnTo>
                              <a:pt x="214" y="9"/>
                            </a:lnTo>
                            <a:lnTo>
                              <a:pt x="219" y="9"/>
                            </a:lnTo>
                            <a:lnTo>
                              <a:pt x="222" y="9"/>
                            </a:lnTo>
                            <a:lnTo>
                              <a:pt x="226" y="9"/>
                            </a:lnTo>
                            <a:lnTo>
                              <a:pt x="229" y="9"/>
                            </a:lnTo>
                            <a:lnTo>
                              <a:pt x="234" y="9"/>
                            </a:lnTo>
                            <a:lnTo>
                              <a:pt x="237" y="9"/>
                            </a:lnTo>
                            <a:lnTo>
                              <a:pt x="242" y="9"/>
                            </a:lnTo>
                            <a:lnTo>
                              <a:pt x="245" y="9"/>
                            </a:lnTo>
                            <a:lnTo>
                              <a:pt x="249" y="9"/>
                            </a:lnTo>
                            <a:lnTo>
                              <a:pt x="252" y="9"/>
                            </a:lnTo>
                            <a:lnTo>
                              <a:pt x="255" y="7"/>
                            </a:lnTo>
                            <a:lnTo>
                              <a:pt x="260" y="7"/>
                            </a:lnTo>
                            <a:lnTo>
                              <a:pt x="263" y="7"/>
                            </a:lnTo>
                            <a:lnTo>
                              <a:pt x="268" y="7"/>
                            </a:lnTo>
                            <a:lnTo>
                              <a:pt x="272" y="6"/>
                            </a:lnTo>
                            <a:lnTo>
                              <a:pt x="275" y="4"/>
                            </a:lnTo>
                            <a:lnTo>
                              <a:pt x="2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9" name="Freeform 229"/>
                      <p:cNvSpPr/>
                      <p:nvPr/>
                    </p:nvSpPr>
                    <p:spPr>
                      <a:xfrm>
                        <a:off x="3189960" y="2970360"/>
                        <a:ext cx="15480" cy="1440"/>
                      </a:xfrm>
                      <a:custGeom>
                        <a:avLst/>
                        <a:gdLst>
                          <a:gd name="textAreaLeft" fmla="*/ 0 w 15480"/>
                          <a:gd name="textAreaRight" fmla="*/ 15840 w 15480"/>
                          <a:gd name="textAreaTop" fmla="*/ 0 h 1440"/>
                          <a:gd name="textAreaBottom" fmla="*/ 1800 h 1440"/>
                        </a:gdLst>
                        <a:ahLst/>
                        <a:rect l="textAreaLeft" t="textAreaTop" r="textAreaRight" b="textAreaBottom"/>
                        <a:pathLst>
                          <a:path w="173" h="15">
                            <a:moveTo>
                              <a:pt x="171" y="15"/>
                            </a:moveTo>
                            <a:lnTo>
                              <a:pt x="167" y="13"/>
                            </a:lnTo>
                            <a:lnTo>
                              <a:pt x="162" y="13"/>
                            </a:lnTo>
                            <a:lnTo>
                              <a:pt x="156" y="12"/>
                            </a:lnTo>
                            <a:lnTo>
                              <a:pt x="151" y="12"/>
                            </a:lnTo>
                            <a:lnTo>
                              <a:pt x="147" y="12"/>
                            </a:lnTo>
                            <a:lnTo>
                              <a:pt x="142" y="12"/>
                            </a:lnTo>
                            <a:lnTo>
                              <a:pt x="136" y="12"/>
                            </a:lnTo>
                            <a:lnTo>
                              <a:pt x="131" y="12"/>
                            </a:lnTo>
                            <a:lnTo>
                              <a:pt x="127" y="11"/>
                            </a:lnTo>
                            <a:lnTo>
                              <a:pt x="122" y="11"/>
                            </a:lnTo>
                            <a:lnTo>
                              <a:pt x="116" y="11"/>
                            </a:lnTo>
                            <a:lnTo>
                              <a:pt x="112" y="11"/>
                            </a:lnTo>
                            <a:lnTo>
                              <a:pt x="107" y="11"/>
                            </a:lnTo>
                            <a:lnTo>
                              <a:pt x="102" y="11"/>
                            </a:lnTo>
                            <a:lnTo>
                              <a:pt x="98" y="11"/>
                            </a:lnTo>
                            <a:lnTo>
                              <a:pt x="93" y="12"/>
                            </a:lnTo>
                            <a:lnTo>
                              <a:pt x="87" y="11"/>
                            </a:lnTo>
                            <a:lnTo>
                              <a:pt x="82" y="11"/>
                            </a:lnTo>
                            <a:lnTo>
                              <a:pt x="78" y="11"/>
                            </a:lnTo>
                            <a:lnTo>
                              <a:pt x="73" y="11"/>
                            </a:lnTo>
                            <a:lnTo>
                              <a:pt x="67" y="11"/>
                            </a:lnTo>
                            <a:lnTo>
                              <a:pt x="63" y="11"/>
                            </a:lnTo>
                            <a:lnTo>
                              <a:pt x="56" y="11"/>
                            </a:lnTo>
                            <a:lnTo>
                              <a:pt x="53" y="11"/>
                            </a:lnTo>
                            <a:lnTo>
                              <a:pt x="47" y="11"/>
                            </a:lnTo>
                            <a:lnTo>
                              <a:pt x="43" y="9"/>
                            </a:lnTo>
                            <a:lnTo>
                              <a:pt x="38" y="9"/>
                            </a:lnTo>
                            <a:lnTo>
                              <a:pt x="33" y="8"/>
                            </a:lnTo>
                            <a:lnTo>
                              <a:pt x="29" y="8"/>
                            </a:lnTo>
                            <a:lnTo>
                              <a:pt x="24" y="7"/>
                            </a:lnTo>
                            <a:lnTo>
                              <a:pt x="18" y="7"/>
                            </a:lnTo>
                            <a:lnTo>
                              <a:pt x="15" y="5"/>
                            </a:lnTo>
                            <a:lnTo>
                              <a:pt x="11" y="5"/>
                            </a:lnTo>
                            <a:lnTo>
                              <a:pt x="7" y="4"/>
                            </a:lnTo>
                            <a:lnTo>
                              <a:pt x="4" y="3"/>
                            </a:lnTo>
                            <a:lnTo>
                              <a:pt x="1" y="3"/>
                            </a:lnTo>
                            <a:lnTo>
                              <a:pt x="0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3" y="0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lnTo>
                              <a:pt x="20" y="0"/>
                            </a:lnTo>
                            <a:lnTo>
                              <a:pt x="24" y="0"/>
                            </a:lnTo>
                            <a:lnTo>
                              <a:pt x="27" y="0"/>
                            </a:lnTo>
                            <a:lnTo>
                              <a:pt x="32" y="0"/>
                            </a:lnTo>
                            <a:lnTo>
                              <a:pt x="37" y="0"/>
                            </a:lnTo>
                            <a:lnTo>
                              <a:pt x="41" y="0"/>
                            </a:lnTo>
                            <a:lnTo>
                              <a:pt x="44" y="0"/>
                            </a:lnTo>
                            <a:lnTo>
                              <a:pt x="49" y="0"/>
                            </a:lnTo>
                            <a:lnTo>
                              <a:pt x="53" y="0"/>
                            </a:lnTo>
                            <a:lnTo>
                              <a:pt x="58" y="0"/>
                            </a:lnTo>
                            <a:lnTo>
                              <a:pt x="63" y="0"/>
                            </a:lnTo>
                            <a:lnTo>
                              <a:pt x="67" y="0"/>
                            </a:lnTo>
                            <a:lnTo>
                              <a:pt x="72" y="0"/>
                            </a:lnTo>
                            <a:lnTo>
                              <a:pt x="76" y="1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89" y="1"/>
                            </a:lnTo>
                            <a:lnTo>
                              <a:pt x="95" y="3"/>
                            </a:lnTo>
                            <a:lnTo>
                              <a:pt x="98" y="3"/>
                            </a:lnTo>
                            <a:lnTo>
                              <a:pt x="102" y="3"/>
                            </a:lnTo>
                            <a:lnTo>
                              <a:pt x="107" y="3"/>
                            </a:lnTo>
                            <a:lnTo>
                              <a:pt x="112" y="3"/>
                            </a:lnTo>
                            <a:lnTo>
                              <a:pt x="115" y="3"/>
                            </a:lnTo>
                            <a:lnTo>
                              <a:pt x="119" y="4"/>
                            </a:lnTo>
                            <a:lnTo>
                              <a:pt x="124" y="4"/>
                            </a:lnTo>
                            <a:lnTo>
                              <a:pt x="128" y="4"/>
                            </a:lnTo>
                            <a:lnTo>
                              <a:pt x="131" y="4"/>
                            </a:lnTo>
                            <a:lnTo>
                              <a:pt x="136" y="5"/>
                            </a:lnTo>
                            <a:lnTo>
                              <a:pt x="139" y="5"/>
                            </a:lnTo>
                            <a:lnTo>
                              <a:pt x="144" y="5"/>
                            </a:lnTo>
                            <a:lnTo>
                              <a:pt x="150" y="7"/>
                            </a:lnTo>
                            <a:lnTo>
                              <a:pt x="156" y="8"/>
                            </a:lnTo>
                            <a:lnTo>
                              <a:pt x="160" y="9"/>
                            </a:lnTo>
                            <a:lnTo>
                              <a:pt x="167" y="12"/>
                            </a:lnTo>
                            <a:lnTo>
                              <a:pt x="170" y="13"/>
                            </a:lnTo>
                            <a:lnTo>
                              <a:pt x="171" y="15"/>
                            </a:lnTo>
                            <a:lnTo>
                              <a:pt x="173" y="15"/>
                            </a:lnTo>
                            <a:lnTo>
                              <a:pt x="171" y="1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0" name="Freeform 230"/>
                      <p:cNvSpPr/>
                      <p:nvPr/>
                    </p:nvSpPr>
                    <p:spPr>
                      <a:xfrm>
                        <a:off x="3146040" y="2974680"/>
                        <a:ext cx="2880" cy="36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360"/>
                          <a:gd name="textAreaBottom" fmla="*/ 720 h 360"/>
                        </a:gdLst>
                        <a:ahLst/>
                        <a:rect l="textAreaLeft" t="textAreaTop" r="textAreaRight" b="textAreaBottom"/>
                        <a:pathLst>
                          <a:path w="32" h="6">
                            <a:moveTo>
                              <a:pt x="5" y="0"/>
                            </a:moveTo>
                            <a:lnTo>
                              <a:pt x="0" y="6"/>
                            </a:lnTo>
                            <a:lnTo>
                              <a:pt x="3" y="6"/>
                            </a:lnTo>
                            <a:lnTo>
                              <a:pt x="6" y="4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14" y="6"/>
                            </a:lnTo>
                            <a:lnTo>
                              <a:pt x="20" y="6"/>
                            </a:lnTo>
                            <a:lnTo>
                              <a:pt x="21" y="6"/>
                            </a:lnTo>
                            <a:lnTo>
                              <a:pt x="24" y="6"/>
                            </a:lnTo>
                            <a:lnTo>
                              <a:pt x="28" y="4"/>
                            </a:lnTo>
                            <a:lnTo>
                              <a:pt x="32" y="3"/>
                            </a:lnTo>
                            <a:lnTo>
                              <a:pt x="28" y="0"/>
                            </a:lnTo>
                            <a:lnTo>
                              <a:pt x="24" y="0"/>
                            </a:lnTo>
                            <a:lnTo>
                              <a:pt x="21" y="0"/>
                            </a:lnTo>
                            <a:lnTo>
                              <a:pt x="18" y="0"/>
                            </a:lnTo>
                            <a:lnTo>
                              <a:pt x="14" y="0"/>
                            </a:lnTo>
                            <a:lnTo>
                              <a:pt x="11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1" name="Freeform 231"/>
                      <p:cNvSpPr/>
                      <p:nvPr/>
                    </p:nvSpPr>
                    <p:spPr>
                      <a:xfrm>
                        <a:off x="3080520" y="2986920"/>
                        <a:ext cx="169200" cy="15480"/>
                      </a:xfrm>
                      <a:custGeom>
                        <a:avLst/>
                        <a:gdLst>
                          <a:gd name="textAreaLeft" fmla="*/ 0 w 169200"/>
                          <a:gd name="textAreaRight" fmla="*/ 169560 w 169200"/>
                          <a:gd name="textAreaTop" fmla="*/ 0 h 15480"/>
                          <a:gd name="textAreaBottom" fmla="*/ 15840 h 15480"/>
                        </a:gdLst>
                        <a:ahLst/>
                        <a:rect l="textAreaLeft" t="textAreaTop" r="textAreaRight" b="textAreaBottom"/>
                        <a:pathLst>
                          <a:path w="1871" h="154">
                            <a:moveTo>
                              <a:pt x="490" y="18"/>
                            </a:moveTo>
                            <a:lnTo>
                              <a:pt x="483" y="19"/>
                            </a:lnTo>
                            <a:lnTo>
                              <a:pt x="477" y="20"/>
                            </a:lnTo>
                            <a:lnTo>
                              <a:pt x="473" y="22"/>
                            </a:lnTo>
                            <a:lnTo>
                              <a:pt x="467" y="23"/>
                            </a:lnTo>
                            <a:lnTo>
                              <a:pt x="461" y="25"/>
                            </a:lnTo>
                            <a:lnTo>
                              <a:pt x="456" y="26"/>
                            </a:lnTo>
                            <a:lnTo>
                              <a:pt x="450" y="26"/>
                            </a:lnTo>
                            <a:lnTo>
                              <a:pt x="444" y="29"/>
                            </a:lnTo>
                            <a:lnTo>
                              <a:pt x="438" y="29"/>
                            </a:lnTo>
                            <a:lnTo>
                              <a:pt x="431" y="30"/>
                            </a:lnTo>
                            <a:lnTo>
                              <a:pt x="427" y="30"/>
                            </a:lnTo>
                            <a:lnTo>
                              <a:pt x="421" y="31"/>
                            </a:lnTo>
                            <a:lnTo>
                              <a:pt x="415" y="31"/>
                            </a:lnTo>
                            <a:lnTo>
                              <a:pt x="409" y="33"/>
                            </a:lnTo>
                            <a:lnTo>
                              <a:pt x="404" y="34"/>
                            </a:lnTo>
                            <a:lnTo>
                              <a:pt x="398" y="34"/>
                            </a:lnTo>
                            <a:lnTo>
                              <a:pt x="392" y="34"/>
                            </a:lnTo>
                            <a:lnTo>
                              <a:pt x="386" y="35"/>
                            </a:lnTo>
                            <a:lnTo>
                              <a:pt x="379" y="35"/>
                            </a:lnTo>
                            <a:lnTo>
                              <a:pt x="373" y="37"/>
                            </a:lnTo>
                            <a:lnTo>
                              <a:pt x="367" y="37"/>
                            </a:lnTo>
                            <a:lnTo>
                              <a:pt x="363" y="38"/>
                            </a:lnTo>
                            <a:lnTo>
                              <a:pt x="357" y="38"/>
                            </a:lnTo>
                            <a:lnTo>
                              <a:pt x="350" y="40"/>
                            </a:lnTo>
                            <a:lnTo>
                              <a:pt x="344" y="40"/>
                            </a:lnTo>
                            <a:lnTo>
                              <a:pt x="338" y="40"/>
                            </a:lnTo>
                            <a:lnTo>
                              <a:pt x="332" y="41"/>
                            </a:lnTo>
                            <a:lnTo>
                              <a:pt x="327" y="41"/>
                            </a:lnTo>
                            <a:lnTo>
                              <a:pt x="321" y="41"/>
                            </a:lnTo>
                            <a:lnTo>
                              <a:pt x="315" y="42"/>
                            </a:lnTo>
                            <a:lnTo>
                              <a:pt x="309" y="42"/>
                            </a:lnTo>
                            <a:lnTo>
                              <a:pt x="303" y="44"/>
                            </a:lnTo>
                            <a:lnTo>
                              <a:pt x="297" y="44"/>
                            </a:lnTo>
                            <a:lnTo>
                              <a:pt x="291" y="44"/>
                            </a:lnTo>
                            <a:lnTo>
                              <a:pt x="285" y="44"/>
                            </a:lnTo>
                            <a:lnTo>
                              <a:pt x="279" y="45"/>
                            </a:lnTo>
                            <a:lnTo>
                              <a:pt x="272" y="45"/>
                            </a:lnTo>
                            <a:lnTo>
                              <a:pt x="266" y="45"/>
                            </a:lnTo>
                            <a:lnTo>
                              <a:pt x="260" y="46"/>
                            </a:lnTo>
                            <a:lnTo>
                              <a:pt x="254" y="46"/>
                            </a:lnTo>
                            <a:lnTo>
                              <a:pt x="248" y="46"/>
                            </a:lnTo>
                            <a:lnTo>
                              <a:pt x="242" y="48"/>
                            </a:lnTo>
                            <a:lnTo>
                              <a:pt x="237" y="48"/>
                            </a:lnTo>
                            <a:lnTo>
                              <a:pt x="231" y="49"/>
                            </a:lnTo>
                            <a:lnTo>
                              <a:pt x="225" y="51"/>
                            </a:lnTo>
                            <a:lnTo>
                              <a:pt x="219" y="51"/>
                            </a:lnTo>
                            <a:lnTo>
                              <a:pt x="213" y="52"/>
                            </a:lnTo>
                            <a:lnTo>
                              <a:pt x="207" y="53"/>
                            </a:lnTo>
                            <a:lnTo>
                              <a:pt x="201" y="53"/>
                            </a:lnTo>
                            <a:lnTo>
                              <a:pt x="194" y="55"/>
                            </a:lnTo>
                            <a:lnTo>
                              <a:pt x="188" y="55"/>
                            </a:lnTo>
                            <a:lnTo>
                              <a:pt x="184" y="56"/>
                            </a:lnTo>
                            <a:lnTo>
                              <a:pt x="178" y="57"/>
                            </a:lnTo>
                            <a:lnTo>
                              <a:pt x="171" y="59"/>
                            </a:lnTo>
                            <a:lnTo>
                              <a:pt x="165" y="59"/>
                            </a:lnTo>
                            <a:lnTo>
                              <a:pt x="161" y="62"/>
                            </a:lnTo>
                            <a:lnTo>
                              <a:pt x="155" y="63"/>
                            </a:lnTo>
                            <a:lnTo>
                              <a:pt x="148" y="63"/>
                            </a:lnTo>
                            <a:lnTo>
                              <a:pt x="144" y="66"/>
                            </a:lnTo>
                            <a:lnTo>
                              <a:pt x="138" y="67"/>
                            </a:lnTo>
                            <a:lnTo>
                              <a:pt x="132" y="68"/>
                            </a:lnTo>
                            <a:lnTo>
                              <a:pt x="127" y="70"/>
                            </a:lnTo>
                            <a:lnTo>
                              <a:pt x="121" y="73"/>
                            </a:lnTo>
                            <a:lnTo>
                              <a:pt x="116" y="75"/>
                            </a:lnTo>
                            <a:lnTo>
                              <a:pt x="121" y="77"/>
                            </a:lnTo>
                            <a:lnTo>
                              <a:pt x="127" y="75"/>
                            </a:lnTo>
                            <a:lnTo>
                              <a:pt x="133" y="73"/>
                            </a:lnTo>
                            <a:lnTo>
                              <a:pt x="138" y="71"/>
                            </a:lnTo>
                            <a:lnTo>
                              <a:pt x="141" y="71"/>
                            </a:lnTo>
                            <a:lnTo>
                              <a:pt x="144" y="70"/>
                            </a:lnTo>
                            <a:lnTo>
                              <a:pt x="148" y="70"/>
                            </a:lnTo>
                            <a:lnTo>
                              <a:pt x="152" y="68"/>
                            </a:lnTo>
                            <a:lnTo>
                              <a:pt x="155" y="68"/>
                            </a:lnTo>
                            <a:lnTo>
                              <a:pt x="158" y="67"/>
                            </a:lnTo>
                            <a:lnTo>
                              <a:pt x="162" y="67"/>
                            </a:lnTo>
                            <a:lnTo>
                              <a:pt x="165" y="66"/>
                            </a:lnTo>
                            <a:lnTo>
                              <a:pt x="168" y="66"/>
                            </a:lnTo>
                            <a:lnTo>
                              <a:pt x="173" y="66"/>
                            </a:lnTo>
                            <a:lnTo>
                              <a:pt x="176" y="66"/>
                            </a:lnTo>
                            <a:lnTo>
                              <a:pt x="179" y="64"/>
                            </a:lnTo>
                            <a:lnTo>
                              <a:pt x="184" y="64"/>
                            </a:lnTo>
                            <a:lnTo>
                              <a:pt x="187" y="63"/>
                            </a:lnTo>
                            <a:lnTo>
                              <a:pt x="190" y="63"/>
                            </a:lnTo>
                            <a:lnTo>
                              <a:pt x="193" y="63"/>
                            </a:lnTo>
                            <a:lnTo>
                              <a:pt x="197" y="63"/>
                            </a:lnTo>
                            <a:lnTo>
                              <a:pt x="201" y="62"/>
                            </a:lnTo>
                            <a:lnTo>
                              <a:pt x="205" y="62"/>
                            </a:lnTo>
                            <a:lnTo>
                              <a:pt x="208" y="62"/>
                            </a:lnTo>
                            <a:lnTo>
                              <a:pt x="211" y="60"/>
                            </a:lnTo>
                            <a:lnTo>
                              <a:pt x="214" y="60"/>
                            </a:lnTo>
                            <a:lnTo>
                              <a:pt x="219" y="60"/>
                            </a:lnTo>
                            <a:lnTo>
                              <a:pt x="222" y="59"/>
                            </a:lnTo>
                            <a:lnTo>
                              <a:pt x="225" y="59"/>
                            </a:lnTo>
                            <a:lnTo>
                              <a:pt x="230" y="59"/>
                            </a:lnTo>
                            <a:lnTo>
                              <a:pt x="233" y="59"/>
                            </a:lnTo>
                            <a:lnTo>
                              <a:pt x="236" y="57"/>
                            </a:lnTo>
                            <a:lnTo>
                              <a:pt x="240" y="57"/>
                            </a:lnTo>
                            <a:lnTo>
                              <a:pt x="243" y="56"/>
                            </a:lnTo>
                            <a:lnTo>
                              <a:pt x="246" y="56"/>
                            </a:lnTo>
                            <a:lnTo>
                              <a:pt x="249" y="56"/>
                            </a:lnTo>
                            <a:lnTo>
                              <a:pt x="254" y="56"/>
                            </a:lnTo>
                            <a:lnTo>
                              <a:pt x="257" y="56"/>
                            </a:lnTo>
                            <a:lnTo>
                              <a:pt x="260" y="56"/>
                            </a:lnTo>
                            <a:lnTo>
                              <a:pt x="265" y="55"/>
                            </a:lnTo>
                            <a:lnTo>
                              <a:pt x="268" y="55"/>
                            </a:lnTo>
                            <a:lnTo>
                              <a:pt x="271" y="55"/>
                            </a:lnTo>
                            <a:lnTo>
                              <a:pt x="275" y="55"/>
                            </a:lnTo>
                            <a:lnTo>
                              <a:pt x="279" y="53"/>
                            </a:lnTo>
                            <a:lnTo>
                              <a:pt x="282" y="53"/>
                            </a:lnTo>
                            <a:lnTo>
                              <a:pt x="286" y="53"/>
                            </a:lnTo>
                            <a:lnTo>
                              <a:pt x="289" y="53"/>
                            </a:lnTo>
                            <a:lnTo>
                              <a:pt x="286" y="53"/>
                            </a:lnTo>
                            <a:lnTo>
                              <a:pt x="282" y="55"/>
                            </a:lnTo>
                            <a:lnTo>
                              <a:pt x="277" y="55"/>
                            </a:lnTo>
                            <a:lnTo>
                              <a:pt x="274" y="56"/>
                            </a:lnTo>
                            <a:lnTo>
                              <a:pt x="271" y="56"/>
                            </a:lnTo>
                            <a:lnTo>
                              <a:pt x="268" y="56"/>
                            </a:lnTo>
                            <a:lnTo>
                              <a:pt x="263" y="56"/>
                            </a:lnTo>
                            <a:lnTo>
                              <a:pt x="260" y="57"/>
                            </a:lnTo>
                            <a:lnTo>
                              <a:pt x="256" y="59"/>
                            </a:lnTo>
                            <a:lnTo>
                              <a:pt x="251" y="59"/>
                            </a:lnTo>
                            <a:lnTo>
                              <a:pt x="246" y="60"/>
                            </a:lnTo>
                            <a:lnTo>
                              <a:pt x="243" y="62"/>
                            </a:lnTo>
                            <a:lnTo>
                              <a:pt x="239" y="62"/>
                            </a:lnTo>
                            <a:lnTo>
                              <a:pt x="234" y="63"/>
                            </a:lnTo>
                            <a:lnTo>
                              <a:pt x="230" y="63"/>
                            </a:lnTo>
                            <a:lnTo>
                              <a:pt x="225" y="64"/>
                            </a:lnTo>
                            <a:lnTo>
                              <a:pt x="220" y="66"/>
                            </a:lnTo>
                            <a:lnTo>
                              <a:pt x="217" y="66"/>
                            </a:lnTo>
                            <a:lnTo>
                              <a:pt x="213" y="67"/>
                            </a:lnTo>
                            <a:lnTo>
                              <a:pt x="210" y="68"/>
                            </a:lnTo>
                            <a:lnTo>
                              <a:pt x="205" y="68"/>
                            </a:lnTo>
                            <a:lnTo>
                              <a:pt x="204" y="70"/>
                            </a:lnTo>
                            <a:lnTo>
                              <a:pt x="197" y="71"/>
                            </a:lnTo>
                            <a:lnTo>
                              <a:pt x="193" y="74"/>
                            </a:lnTo>
                            <a:lnTo>
                              <a:pt x="190" y="77"/>
                            </a:lnTo>
                            <a:lnTo>
                              <a:pt x="188" y="79"/>
                            </a:lnTo>
                            <a:lnTo>
                              <a:pt x="185" y="79"/>
                            </a:lnTo>
                            <a:lnTo>
                              <a:pt x="181" y="79"/>
                            </a:lnTo>
                            <a:lnTo>
                              <a:pt x="176" y="79"/>
                            </a:lnTo>
                            <a:lnTo>
                              <a:pt x="171" y="81"/>
                            </a:lnTo>
                            <a:lnTo>
                              <a:pt x="164" y="81"/>
                            </a:lnTo>
                            <a:lnTo>
                              <a:pt x="159" y="82"/>
                            </a:lnTo>
                            <a:lnTo>
                              <a:pt x="153" y="84"/>
                            </a:lnTo>
                            <a:lnTo>
                              <a:pt x="147" y="85"/>
                            </a:lnTo>
                            <a:lnTo>
                              <a:pt x="141" y="86"/>
                            </a:lnTo>
                            <a:lnTo>
                              <a:pt x="136" y="88"/>
                            </a:lnTo>
                            <a:lnTo>
                              <a:pt x="130" y="88"/>
                            </a:lnTo>
                            <a:lnTo>
                              <a:pt x="126" y="89"/>
                            </a:lnTo>
                            <a:lnTo>
                              <a:pt x="121" y="90"/>
                            </a:lnTo>
                            <a:lnTo>
                              <a:pt x="119" y="90"/>
                            </a:lnTo>
                            <a:lnTo>
                              <a:pt x="116" y="90"/>
                            </a:lnTo>
                            <a:lnTo>
                              <a:pt x="55" y="105"/>
                            </a:lnTo>
                            <a:lnTo>
                              <a:pt x="57" y="105"/>
                            </a:lnTo>
                            <a:lnTo>
                              <a:pt x="58" y="107"/>
                            </a:lnTo>
                            <a:lnTo>
                              <a:pt x="63" y="107"/>
                            </a:lnTo>
                            <a:lnTo>
                              <a:pt x="67" y="107"/>
                            </a:lnTo>
                            <a:lnTo>
                              <a:pt x="70" y="105"/>
                            </a:lnTo>
                            <a:lnTo>
                              <a:pt x="74" y="105"/>
                            </a:lnTo>
                            <a:lnTo>
                              <a:pt x="77" y="105"/>
                            </a:lnTo>
                            <a:lnTo>
                              <a:pt x="80" y="105"/>
                            </a:lnTo>
                            <a:lnTo>
                              <a:pt x="84" y="104"/>
                            </a:lnTo>
                            <a:lnTo>
                              <a:pt x="87" y="104"/>
                            </a:lnTo>
                            <a:lnTo>
                              <a:pt x="92" y="103"/>
                            </a:lnTo>
                            <a:lnTo>
                              <a:pt x="96" y="103"/>
                            </a:lnTo>
                            <a:lnTo>
                              <a:pt x="100" y="103"/>
                            </a:lnTo>
                            <a:lnTo>
                              <a:pt x="106" y="101"/>
                            </a:lnTo>
                            <a:lnTo>
                              <a:pt x="110" y="101"/>
                            </a:lnTo>
                            <a:lnTo>
                              <a:pt x="115" y="100"/>
                            </a:lnTo>
                            <a:lnTo>
                              <a:pt x="119" y="100"/>
                            </a:lnTo>
                            <a:lnTo>
                              <a:pt x="124" y="99"/>
                            </a:lnTo>
                            <a:lnTo>
                              <a:pt x="130" y="99"/>
                            </a:lnTo>
                            <a:lnTo>
                              <a:pt x="136" y="97"/>
                            </a:lnTo>
                            <a:lnTo>
                              <a:pt x="141" y="96"/>
                            </a:lnTo>
                            <a:lnTo>
                              <a:pt x="147" y="96"/>
                            </a:lnTo>
                            <a:lnTo>
                              <a:pt x="152" y="95"/>
                            </a:lnTo>
                            <a:lnTo>
                              <a:pt x="158" y="93"/>
                            </a:lnTo>
                            <a:lnTo>
                              <a:pt x="164" y="93"/>
                            </a:lnTo>
                            <a:lnTo>
                              <a:pt x="170" y="92"/>
                            </a:lnTo>
                            <a:lnTo>
                              <a:pt x="176" y="90"/>
                            </a:lnTo>
                            <a:lnTo>
                              <a:pt x="182" y="90"/>
                            </a:lnTo>
                            <a:lnTo>
                              <a:pt x="188" y="89"/>
                            </a:lnTo>
                            <a:lnTo>
                              <a:pt x="193" y="88"/>
                            </a:lnTo>
                            <a:lnTo>
                              <a:pt x="199" y="86"/>
                            </a:lnTo>
                            <a:lnTo>
                              <a:pt x="205" y="86"/>
                            </a:lnTo>
                            <a:lnTo>
                              <a:pt x="211" y="85"/>
                            </a:lnTo>
                            <a:lnTo>
                              <a:pt x="217" y="84"/>
                            </a:lnTo>
                            <a:lnTo>
                              <a:pt x="222" y="84"/>
                            </a:lnTo>
                            <a:lnTo>
                              <a:pt x="230" y="82"/>
                            </a:lnTo>
                            <a:lnTo>
                              <a:pt x="234" y="81"/>
                            </a:lnTo>
                            <a:lnTo>
                              <a:pt x="240" y="81"/>
                            </a:lnTo>
                            <a:lnTo>
                              <a:pt x="246" y="79"/>
                            </a:lnTo>
                            <a:lnTo>
                              <a:pt x="251" y="79"/>
                            </a:lnTo>
                            <a:lnTo>
                              <a:pt x="257" y="78"/>
                            </a:lnTo>
                            <a:lnTo>
                              <a:pt x="262" y="78"/>
                            </a:lnTo>
                            <a:lnTo>
                              <a:pt x="268" y="77"/>
                            </a:lnTo>
                            <a:lnTo>
                              <a:pt x="274" y="77"/>
                            </a:lnTo>
                            <a:lnTo>
                              <a:pt x="277" y="75"/>
                            </a:lnTo>
                            <a:lnTo>
                              <a:pt x="283" y="75"/>
                            </a:lnTo>
                            <a:lnTo>
                              <a:pt x="288" y="74"/>
                            </a:lnTo>
                            <a:lnTo>
                              <a:pt x="292" y="74"/>
                            </a:lnTo>
                            <a:lnTo>
                              <a:pt x="297" y="73"/>
                            </a:lnTo>
                            <a:lnTo>
                              <a:pt x="301" y="73"/>
                            </a:lnTo>
                            <a:lnTo>
                              <a:pt x="305" y="73"/>
                            </a:lnTo>
                            <a:lnTo>
                              <a:pt x="309" y="73"/>
                            </a:lnTo>
                            <a:lnTo>
                              <a:pt x="312" y="71"/>
                            </a:lnTo>
                            <a:lnTo>
                              <a:pt x="315" y="71"/>
                            </a:lnTo>
                            <a:lnTo>
                              <a:pt x="318" y="71"/>
                            </a:lnTo>
                            <a:lnTo>
                              <a:pt x="321" y="71"/>
                            </a:lnTo>
                            <a:lnTo>
                              <a:pt x="327" y="71"/>
                            </a:lnTo>
                            <a:lnTo>
                              <a:pt x="332" y="73"/>
                            </a:lnTo>
                            <a:lnTo>
                              <a:pt x="300" y="81"/>
                            </a:lnTo>
                            <a:lnTo>
                              <a:pt x="300" y="79"/>
                            </a:lnTo>
                            <a:lnTo>
                              <a:pt x="294" y="79"/>
                            </a:lnTo>
                            <a:lnTo>
                              <a:pt x="288" y="81"/>
                            </a:lnTo>
                            <a:lnTo>
                              <a:pt x="282" y="82"/>
                            </a:lnTo>
                            <a:lnTo>
                              <a:pt x="277" y="84"/>
                            </a:lnTo>
                            <a:lnTo>
                              <a:pt x="271" y="84"/>
                            </a:lnTo>
                            <a:lnTo>
                              <a:pt x="265" y="85"/>
                            </a:lnTo>
                            <a:lnTo>
                              <a:pt x="259" y="86"/>
                            </a:lnTo>
                            <a:lnTo>
                              <a:pt x="253" y="88"/>
                            </a:lnTo>
                            <a:lnTo>
                              <a:pt x="246" y="88"/>
                            </a:lnTo>
                            <a:lnTo>
                              <a:pt x="240" y="89"/>
                            </a:lnTo>
                            <a:lnTo>
                              <a:pt x="234" y="90"/>
                            </a:lnTo>
                            <a:lnTo>
                              <a:pt x="230" y="90"/>
                            </a:lnTo>
                            <a:lnTo>
                              <a:pt x="223" y="92"/>
                            </a:lnTo>
                            <a:lnTo>
                              <a:pt x="217" y="93"/>
                            </a:lnTo>
                            <a:lnTo>
                              <a:pt x="213" y="93"/>
                            </a:lnTo>
                            <a:lnTo>
                              <a:pt x="207" y="95"/>
                            </a:lnTo>
                            <a:lnTo>
                              <a:pt x="204" y="95"/>
                            </a:lnTo>
                            <a:lnTo>
                              <a:pt x="201" y="96"/>
                            </a:lnTo>
                            <a:lnTo>
                              <a:pt x="197" y="96"/>
                            </a:lnTo>
                            <a:lnTo>
                              <a:pt x="193" y="97"/>
                            </a:lnTo>
                            <a:lnTo>
                              <a:pt x="188" y="97"/>
                            </a:lnTo>
                            <a:lnTo>
                              <a:pt x="184" y="99"/>
                            </a:lnTo>
                            <a:lnTo>
                              <a:pt x="179" y="100"/>
                            </a:lnTo>
                            <a:lnTo>
                              <a:pt x="174" y="103"/>
                            </a:lnTo>
                            <a:lnTo>
                              <a:pt x="168" y="103"/>
                            </a:lnTo>
                            <a:lnTo>
                              <a:pt x="162" y="105"/>
                            </a:lnTo>
                            <a:lnTo>
                              <a:pt x="156" y="107"/>
                            </a:lnTo>
                            <a:lnTo>
                              <a:pt x="150" y="108"/>
                            </a:lnTo>
                            <a:lnTo>
                              <a:pt x="144" y="110"/>
                            </a:lnTo>
                            <a:lnTo>
                              <a:pt x="138" y="112"/>
                            </a:lnTo>
                            <a:lnTo>
                              <a:pt x="130" y="114"/>
                            </a:lnTo>
                            <a:lnTo>
                              <a:pt x="126" y="116"/>
                            </a:lnTo>
                            <a:lnTo>
                              <a:pt x="118" y="118"/>
                            </a:lnTo>
                            <a:lnTo>
                              <a:pt x="112" y="119"/>
                            </a:lnTo>
                            <a:lnTo>
                              <a:pt x="106" y="121"/>
                            </a:lnTo>
                            <a:lnTo>
                              <a:pt x="100" y="122"/>
                            </a:lnTo>
                            <a:lnTo>
                              <a:pt x="93" y="123"/>
                            </a:lnTo>
                            <a:lnTo>
                              <a:pt x="87" y="125"/>
                            </a:lnTo>
                            <a:lnTo>
                              <a:pt x="81" y="126"/>
                            </a:lnTo>
                            <a:lnTo>
                              <a:pt x="77" y="127"/>
                            </a:lnTo>
                            <a:lnTo>
                              <a:pt x="72" y="127"/>
                            </a:lnTo>
                            <a:lnTo>
                              <a:pt x="67" y="129"/>
                            </a:lnTo>
                            <a:lnTo>
                              <a:pt x="63" y="129"/>
                            </a:lnTo>
                            <a:lnTo>
                              <a:pt x="60" y="130"/>
                            </a:lnTo>
                            <a:lnTo>
                              <a:pt x="54" y="130"/>
                            </a:lnTo>
                            <a:lnTo>
                              <a:pt x="51" y="129"/>
                            </a:lnTo>
                            <a:lnTo>
                              <a:pt x="48" y="129"/>
                            </a:lnTo>
                            <a:lnTo>
                              <a:pt x="46" y="130"/>
                            </a:lnTo>
                            <a:lnTo>
                              <a:pt x="43" y="130"/>
                            </a:lnTo>
                            <a:lnTo>
                              <a:pt x="40" y="133"/>
                            </a:lnTo>
                            <a:lnTo>
                              <a:pt x="35" y="134"/>
                            </a:lnTo>
                            <a:lnTo>
                              <a:pt x="31" y="134"/>
                            </a:lnTo>
                            <a:lnTo>
                              <a:pt x="26" y="137"/>
                            </a:lnTo>
                            <a:lnTo>
                              <a:pt x="23" y="138"/>
                            </a:lnTo>
                            <a:lnTo>
                              <a:pt x="17" y="140"/>
                            </a:lnTo>
                            <a:lnTo>
                              <a:pt x="14" y="141"/>
                            </a:lnTo>
                            <a:lnTo>
                              <a:pt x="9" y="143"/>
                            </a:lnTo>
                            <a:lnTo>
                              <a:pt x="6" y="144"/>
                            </a:lnTo>
                            <a:lnTo>
                              <a:pt x="0" y="147"/>
                            </a:lnTo>
                            <a:lnTo>
                              <a:pt x="0" y="149"/>
                            </a:lnTo>
                            <a:lnTo>
                              <a:pt x="3" y="149"/>
                            </a:lnTo>
                            <a:lnTo>
                              <a:pt x="6" y="149"/>
                            </a:lnTo>
                            <a:lnTo>
                              <a:pt x="11" y="149"/>
                            </a:lnTo>
                            <a:lnTo>
                              <a:pt x="14" y="149"/>
                            </a:lnTo>
                            <a:lnTo>
                              <a:pt x="18" y="149"/>
                            </a:lnTo>
                            <a:lnTo>
                              <a:pt x="22" y="149"/>
                            </a:lnTo>
                            <a:lnTo>
                              <a:pt x="26" y="149"/>
                            </a:lnTo>
                            <a:lnTo>
                              <a:pt x="29" y="149"/>
                            </a:lnTo>
                            <a:lnTo>
                              <a:pt x="126" y="132"/>
                            </a:lnTo>
                            <a:lnTo>
                              <a:pt x="234" y="125"/>
                            </a:lnTo>
                            <a:lnTo>
                              <a:pt x="188" y="138"/>
                            </a:lnTo>
                            <a:lnTo>
                              <a:pt x="191" y="143"/>
                            </a:lnTo>
                            <a:lnTo>
                              <a:pt x="199" y="140"/>
                            </a:lnTo>
                            <a:lnTo>
                              <a:pt x="207" y="138"/>
                            </a:lnTo>
                            <a:lnTo>
                              <a:pt x="214" y="136"/>
                            </a:lnTo>
                            <a:lnTo>
                              <a:pt x="222" y="134"/>
                            </a:lnTo>
                            <a:lnTo>
                              <a:pt x="230" y="133"/>
                            </a:lnTo>
                            <a:lnTo>
                              <a:pt x="237" y="130"/>
                            </a:lnTo>
                            <a:lnTo>
                              <a:pt x="243" y="129"/>
                            </a:lnTo>
                            <a:lnTo>
                              <a:pt x="253" y="127"/>
                            </a:lnTo>
                            <a:lnTo>
                              <a:pt x="260" y="126"/>
                            </a:lnTo>
                            <a:lnTo>
                              <a:pt x="268" y="125"/>
                            </a:lnTo>
                            <a:lnTo>
                              <a:pt x="274" y="122"/>
                            </a:lnTo>
                            <a:lnTo>
                              <a:pt x="283" y="121"/>
                            </a:lnTo>
                            <a:lnTo>
                              <a:pt x="291" y="119"/>
                            </a:lnTo>
                            <a:lnTo>
                              <a:pt x="298" y="118"/>
                            </a:lnTo>
                            <a:lnTo>
                              <a:pt x="306" y="116"/>
                            </a:lnTo>
                            <a:lnTo>
                              <a:pt x="314" y="115"/>
                            </a:lnTo>
                            <a:lnTo>
                              <a:pt x="321" y="114"/>
                            </a:lnTo>
                            <a:lnTo>
                              <a:pt x="329" y="112"/>
                            </a:lnTo>
                            <a:lnTo>
                              <a:pt x="337" y="112"/>
                            </a:lnTo>
                            <a:lnTo>
                              <a:pt x="344" y="111"/>
                            </a:lnTo>
                            <a:lnTo>
                              <a:pt x="352" y="110"/>
                            </a:lnTo>
                            <a:lnTo>
                              <a:pt x="360" y="108"/>
                            </a:lnTo>
                            <a:lnTo>
                              <a:pt x="367" y="107"/>
                            </a:lnTo>
                            <a:lnTo>
                              <a:pt x="373" y="107"/>
                            </a:lnTo>
                            <a:lnTo>
                              <a:pt x="381" y="105"/>
                            </a:lnTo>
                            <a:lnTo>
                              <a:pt x="387" y="105"/>
                            </a:lnTo>
                            <a:lnTo>
                              <a:pt x="395" y="104"/>
                            </a:lnTo>
                            <a:lnTo>
                              <a:pt x="402" y="103"/>
                            </a:lnTo>
                            <a:lnTo>
                              <a:pt x="409" y="103"/>
                            </a:lnTo>
                            <a:lnTo>
                              <a:pt x="416" y="103"/>
                            </a:lnTo>
                            <a:lnTo>
                              <a:pt x="422" y="101"/>
                            </a:lnTo>
                            <a:lnTo>
                              <a:pt x="430" y="101"/>
                            </a:lnTo>
                            <a:lnTo>
                              <a:pt x="436" y="100"/>
                            </a:lnTo>
                            <a:lnTo>
                              <a:pt x="442" y="100"/>
                            </a:lnTo>
                            <a:lnTo>
                              <a:pt x="448" y="99"/>
                            </a:lnTo>
                            <a:lnTo>
                              <a:pt x="456" y="99"/>
                            </a:lnTo>
                            <a:lnTo>
                              <a:pt x="462" y="97"/>
                            </a:lnTo>
                            <a:lnTo>
                              <a:pt x="468" y="97"/>
                            </a:lnTo>
                            <a:lnTo>
                              <a:pt x="474" y="96"/>
                            </a:lnTo>
                            <a:lnTo>
                              <a:pt x="480" y="96"/>
                            </a:lnTo>
                            <a:lnTo>
                              <a:pt x="487" y="96"/>
                            </a:lnTo>
                            <a:lnTo>
                              <a:pt x="491" y="96"/>
                            </a:lnTo>
                            <a:lnTo>
                              <a:pt x="497" y="95"/>
                            </a:lnTo>
                            <a:lnTo>
                              <a:pt x="503" y="95"/>
                            </a:lnTo>
                            <a:lnTo>
                              <a:pt x="508" y="95"/>
                            </a:lnTo>
                            <a:lnTo>
                              <a:pt x="513" y="95"/>
                            </a:lnTo>
                            <a:lnTo>
                              <a:pt x="517" y="95"/>
                            </a:lnTo>
                            <a:lnTo>
                              <a:pt x="523" y="95"/>
                            </a:lnTo>
                            <a:lnTo>
                              <a:pt x="528" y="95"/>
                            </a:lnTo>
                            <a:lnTo>
                              <a:pt x="532" y="95"/>
                            </a:lnTo>
                            <a:lnTo>
                              <a:pt x="537" y="95"/>
                            </a:lnTo>
                            <a:lnTo>
                              <a:pt x="542" y="95"/>
                            </a:lnTo>
                            <a:lnTo>
                              <a:pt x="545" y="95"/>
                            </a:lnTo>
                            <a:lnTo>
                              <a:pt x="548" y="95"/>
                            </a:lnTo>
                            <a:lnTo>
                              <a:pt x="552" y="95"/>
                            </a:lnTo>
                            <a:lnTo>
                              <a:pt x="555" y="95"/>
                            </a:lnTo>
                            <a:lnTo>
                              <a:pt x="561" y="95"/>
                            </a:lnTo>
                            <a:lnTo>
                              <a:pt x="569" y="96"/>
                            </a:lnTo>
                            <a:lnTo>
                              <a:pt x="574" y="96"/>
                            </a:lnTo>
                            <a:lnTo>
                              <a:pt x="578" y="97"/>
                            </a:lnTo>
                            <a:lnTo>
                              <a:pt x="572" y="97"/>
                            </a:lnTo>
                            <a:lnTo>
                              <a:pt x="566" y="99"/>
                            </a:lnTo>
                            <a:lnTo>
                              <a:pt x="560" y="99"/>
                            </a:lnTo>
                            <a:lnTo>
                              <a:pt x="555" y="100"/>
                            </a:lnTo>
                            <a:lnTo>
                              <a:pt x="549" y="100"/>
                            </a:lnTo>
                            <a:lnTo>
                              <a:pt x="543" y="101"/>
                            </a:lnTo>
                            <a:lnTo>
                              <a:pt x="539" y="101"/>
                            </a:lnTo>
                            <a:lnTo>
                              <a:pt x="534" y="103"/>
                            </a:lnTo>
                            <a:lnTo>
                              <a:pt x="528" y="103"/>
                            </a:lnTo>
                            <a:lnTo>
                              <a:pt x="523" y="104"/>
                            </a:lnTo>
                            <a:lnTo>
                              <a:pt x="517" y="104"/>
                            </a:lnTo>
                            <a:lnTo>
                              <a:pt x="514" y="105"/>
                            </a:lnTo>
                            <a:lnTo>
                              <a:pt x="508" y="105"/>
                            </a:lnTo>
                            <a:lnTo>
                              <a:pt x="505" y="107"/>
                            </a:lnTo>
                            <a:lnTo>
                              <a:pt x="499" y="107"/>
                            </a:lnTo>
                            <a:lnTo>
                              <a:pt x="496" y="108"/>
                            </a:lnTo>
                            <a:lnTo>
                              <a:pt x="491" y="108"/>
                            </a:lnTo>
                            <a:lnTo>
                              <a:pt x="487" y="108"/>
                            </a:lnTo>
                            <a:lnTo>
                              <a:pt x="480" y="110"/>
                            </a:lnTo>
                            <a:lnTo>
                              <a:pt x="477" y="110"/>
                            </a:lnTo>
                            <a:lnTo>
                              <a:pt x="473" y="111"/>
                            </a:lnTo>
                            <a:lnTo>
                              <a:pt x="468" y="111"/>
                            </a:lnTo>
                            <a:lnTo>
                              <a:pt x="464" y="112"/>
                            </a:lnTo>
                            <a:lnTo>
                              <a:pt x="459" y="112"/>
                            </a:lnTo>
                            <a:lnTo>
                              <a:pt x="456" y="112"/>
                            </a:lnTo>
                            <a:lnTo>
                              <a:pt x="451" y="114"/>
                            </a:lnTo>
                            <a:lnTo>
                              <a:pt x="447" y="114"/>
                            </a:lnTo>
                            <a:lnTo>
                              <a:pt x="442" y="115"/>
                            </a:lnTo>
                            <a:lnTo>
                              <a:pt x="439" y="115"/>
                            </a:lnTo>
                            <a:lnTo>
                              <a:pt x="435" y="116"/>
                            </a:lnTo>
                            <a:lnTo>
                              <a:pt x="430" y="116"/>
                            </a:lnTo>
                            <a:lnTo>
                              <a:pt x="427" y="118"/>
                            </a:lnTo>
                            <a:lnTo>
                              <a:pt x="422" y="118"/>
                            </a:lnTo>
                            <a:lnTo>
                              <a:pt x="418" y="119"/>
                            </a:lnTo>
                            <a:lnTo>
                              <a:pt x="413" y="119"/>
                            </a:lnTo>
                            <a:lnTo>
                              <a:pt x="410" y="121"/>
                            </a:lnTo>
                            <a:lnTo>
                              <a:pt x="405" y="121"/>
                            </a:lnTo>
                            <a:lnTo>
                              <a:pt x="401" y="121"/>
                            </a:lnTo>
                            <a:lnTo>
                              <a:pt x="396" y="122"/>
                            </a:lnTo>
                            <a:lnTo>
                              <a:pt x="393" y="123"/>
                            </a:lnTo>
                            <a:lnTo>
                              <a:pt x="389" y="123"/>
                            </a:lnTo>
                            <a:lnTo>
                              <a:pt x="384" y="125"/>
                            </a:lnTo>
                            <a:lnTo>
                              <a:pt x="379" y="125"/>
                            </a:lnTo>
                            <a:lnTo>
                              <a:pt x="375" y="126"/>
                            </a:lnTo>
                            <a:lnTo>
                              <a:pt x="370" y="126"/>
                            </a:lnTo>
                            <a:lnTo>
                              <a:pt x="367" y="127"/>
                            </a:lnTo>
                            <a:lnTo>
                              <a:pt x="363" y="127"/>
                            </a:lnTo>
                            <a:lnTo>
                              <a:pt x="358" y="130"/>
                            </a:lnTo>
                            <a:lnTo>
                              <a:pt x="353" y="130"/>
                            </a:lnTo>
                            <a:lnTo>
                              <a:pt x="349" y="132"/>
                            </a:lnTo>
                            <a:lnTo>
                              <a:pt x="344" y="132"/>
                            </a:lnTo>
                            <a:lnTo>
                              <a:pt x="340" y="133"/>
                            </a:lnTo>
                            <a:lnTo>
                              <a:pt x="335" y="134"/>
                            </a:lnTo>
                            <a:lnTo>
                              <a:pt x="331" y="136"/>
                            </a:lnTo>
                            <a:lnTo>
                              <a:pt x="326" y="137"/>
                            </a:lnTo>
                            <a:lnTo>
                              <a:pt x="321" y="138"/>
                            </a:lnTo>
                            <a:lnTo>
                              <a:pt x="315" y="140"/>
                            </a:lnTo>
                            <a:lnTo>
                              <a:pt x="311" y="140"/>
                            </a:lnTo>
                            <a:lnTo>
                              <a:pt x="305" y="141"/>
                            </a:lnTo>
                            <a:lnTo>
                              <a:pt x="300" y="144"/>
                            </a:lnTo>
                            <a:lnTo>
                              <a:pt x="295" y="144"/>
                            </a:lnTo>
                            <a:lnTo>
                              <a:pt x="289" y="147"/>
                            </a:lnTo>
                            <a:lnTo>
                              <a:pt x="285" y="148"/>
                            </a:lnTo>
                            <a:lnTo>
                              <a:pt x="280" y="149"/>
                            </a:lnTo>
                            <a:lnTo>
                              <a:pt x="282" y="149"/>
                            </a:lnTo>
                            <a:lnTo>
                              <a:pt x="285" y="149"/>
                            </a:lnTo>
                            <a:lnTo>
                              <a:pt x="288" y="149"/>
                            </a:lnTo>
                            <a:lnTo>
                              <a:pt x="291" y="151"/>
                            </a:lnTo>
                            <a:lnTo>
                              <a:pt x="294" y="151"/>
                            </a:lnTo>
                            <a:lnTo>
                              <a:pt x="297" y="152"/>
                            </a:lnTo>
                            <a:lnTo>
                              <a:pt x="298" y="152"/>
                            </a:lnTo>
                            <a:lnTo>
                              <a:pt x="297" y="154"/>
                            </a:lnTo>
                            <a:lnTo>
                              <a:pt x="308" y="151"/>
                            </a:lnTo>
                            <a:lnTo>
                              <a:pt x="318" y="148"/>
                            </a:lnTo>
                            <a:lnTo>
                              <a:pt x="329" y="145"/>
                            </a:lnTo>
                            <a:lnTo>
                              <a:pt x="340" y="144"/>
                            </a:lnTo>
                            <a:lnTo>
                              <a:pt x="350" y="140"/>
                            </a:lnTo>
                            <a:lnTo>
                              <a:pt x="361" y="138"/>
                            </a:lnTo>
                            <a:lnTo>
                              <a:pt x="372" y="136"/>
                            </a:lnTo>
                            <a:lnTo>
                              <a:pt x="384" y="134"/>
                            </a:lnTo>
                            <a:lnTo>
                              <a:pt x="395" y="132"/>
                            </a:lnTo>
                            <a:lnTo>
                              <a:pt x="404" y="130"/>
                            </a:lnTo>
                            <a:lnTo>
                              <a:pt x="415" y="127"/>
                            </a:lnTo>
                            <a:lnTo>
                              <a:pt x="427" y="126"/>
                            </a:lnTo>
                            <a:lnTo>
                              <a:pt x="438" y="125"/>
                            </a:lnTo>
                            <a:lnTo>
                              <a:pt x="448" y="123"/>
                            </a:lnTo>
                            <a:lnTo>
                              <a:pt x="459" y="121"/>
                            </a:lnTo>
                            <a:lnTo>
                              <a:pt x="470" y="121"/>
                            </a:lnTo>
                            <a:lnTo>
                              <a:pt x="480" y="118"/>
                            </a:lnTo>
                            <a:lnTo>
                              <a:pt x="491" y="116"/>
                            </a:lnTo>
                            <a:lnTo>
                              <a:pt x="502" y="115"/>
                            </a:lnTo>
                            <a:lnTo>
                              <a:pt x="513" y="114"/>
                            </a:lnTo>
                            <a:lnTo>
                              <a:pt x="523" y="112"/>
                            </a:lnTo>
                            <a:lnTo>
                              <a:pt x="535" y="111"/>
                            </a:lnTo>
                            <a:lnTo>
                              <a:pt x="545" y="110"/>
                            </a:lnTo>
                            <a:lnTo>
                              <a:pt x="557" y="108"/>
                            </a:lnTo>
                            <a:lnTo>
                              <a:pt x="568" y="107"/>
                            </a:lnTo>
                            <a:lnTo>
                              <a:pt x="578" y="107"/>
                            </a:lnTo>
                            <a:lnTo>
                              <a:pt x="589" y="105"/>
                            </a:lnTo>
                            <a:lnTo>
                              <a:pt x="600" y="105"/>
                            </a:lnTo>
                            <a:lnTo>
                              <a:pt x="610" y="104"/>
                            </a:lnTo>
                            <a:lnTo>
                              <a:pt x="621" y="103"/>
                            </a:lnTo>
                            <a:lnTo>
                              <a:pt x="633" y="103"/>
                            </a:lnTo>
                            <a:lnTo>
                              <a:pt x="644" y="101"/>
                            </a:lnTo>
                            <a:lnTo>
                              <a:pt x="655" y="100"/>
                            </a:lnTo>
                            <a:lnTo>
                              <a:pt x="666" y="100"/>
                            </a:lnTo>
                            <a:lnTo>
                              <a:pt x="676" y="99"/>
                            </a:lnTo>
                            <a:lnTo>
                              <a:pt x="687" y="99"/>
                            </a:lnTo>
                            <a:lnTo>
                              <a:pt x="698" y="97"/>
                            </a:lnTo>
                            <a:lnTo>
                              <a:pt x="710" y="96"/>
                            </a:lnTo>
                            <a:lnTo>
                              <a:pt x="721" y="96"/>
                            </a:lnTo>
                            <a:lnTo>
                              <a:pt x="731" y="96"/>
                            </a:lnTo>
                            <a:lnTo>
                              <a:pt x="742" y="95"/>
                            </a:lnTo>
                            <a:lnTo>
                              <a:pt x="753" y="95"/>
                            </a:lnTo>
                            <a:lnTo>
                              <a:pt x="763" y="93"/>
                            </a:lnTo>
                            <a:lnTo>
                              <a:pt x="776" y="93"/>
                            </a:lnTo>
                            <a:lnTo>
                              <a:pt x="785" y="93"/>
                            </a:lnTo>
                            <a:lnTo>
                              <a:pt x="797" y="93"/>
                            </a:lnTo>
                            <a:lnTo>
                              <a:pt x="808" y="92"/>
                            </a:lnTo>
                            <a:lnTo>
                              <a:pt x="818" y="92"/>
                            </a:lnTo>
                            <a:lnTo>
                              <a:pt x="831" y="92"/>
                            </a:lnTo>
                            <a:lnTo>
                              <a:pt x="841" y="90"/>
                            </a:lnTo>
                            <a:lnTo>
                              <a:pt x="852" y="90"/>
                            </a:lnTo>
                            <a:lnTo>
                              <a:pt x="863" y="90"/>
                            </a:lnTo>
                            <a:lnTo>
                              <a:pt x="874" y="90"/>
                            </a:lnTo>
                            <a:lnTo>
                              <a:pt x="884" y="89"/>
                            </a:lnTo>
                            <a:lnTo>
                              <a:pt x="896" y="89"/>
                            </a:lnTo>
                            <a:lnTo>
                              <a:pt x="907" y="89"/>
                            </a:lnTo>
                            <a:lnTo>
                              <a:pt x="918" y="88"/>
                            </a:lnTo>
                            <a:lnTo>
                              <a:pt x="929" y="88"/>
                            </a:lnTo>
                            <a:lnTo>
                              <a:pt x="941" y="88"/>
                            </a:lnTo>
                            <a:lnTo>
                              <a:pt x="952" y="88"/>
                            </a:lnTo>
                            <a:lnTo>
                              <a:pt x="964" y="86"/>
                            </a:lnTo>
                            <a:lnTo>
                              <a:pt x="975" y="86"/>
                            </a:lnTo>
                            <a:lnTo>
                              <a:pt x="985" y="86"/>
                            </a:lnTo>
                            <a:lnTo>
                              <a:pt x="997" y="86"/>
                            </a:lnTo>
                            <a:lnTo>
                              <a:pt x="1002" y="86"/>
                            </a:lnTo>
                            <a:lnTo>
                              <a:pt x="1008" y="86"/>
                            </a:lnTo>
                            <a:lnTo>
                              <a:pt x="1013" y="86"/>
                            </a:lnTo>
                            <a:lnTo>
                              <a:pt x="1019" y="88"/>
                            </a:lnTo>
                            <a:lnTo>
                              <a:pt x="1023" y="88"/>
                            </a:lnTo>
                            <a:lnTo>
                              <a:pt x="1028" y="88"/>
                            </a:lnTo>
                            <a:lnTo>
                              <a:pt x="1034" y="88"/>
                            </a:lnTo>
                            <a:lnTo>
                              <a:pt x="1040" y="88"/>
                            </a:lnTo>
                            <a:lnTo>
                              <a:pt x="1045" y="88"/>
                            </a:lnTo>
                            <a:lnTo>
                              <a:pt x="1051" y="88"/>
                            </a:lnTo>
                            <a:lnTo>
                              <a:pt x="1056" y="89"/>
                            </a:lnTo>
                            <a:lnTo>
                              <a:pt x="1062" y="89"/>
                            </a:lnTo>
                            <a:lnTo>
                              <a:pt x="1066" y="89"/>
                            </a:lnTo>
                            <a:lnTo>
                              <a:pt x="1072" y="89"/>
                            </a:lnTo>
                            <a:lnTo>
                              <a:pt x="1079" y="90"/>
                            </a:lnTo>
                            <a:lnTo>
                              <a:pt x="1085" y="90"/>
                            </a:lnTo>
                            <a:lnTo>
                              <a:pt x="1089" y="90"/>
                            </a:lnTo>
                            <a:lnTo>
                              <a:pt x="1094" y="90"/>
                            </a:lnTo>
                            <a:lnTo>
                              <a:pt x="1100" y="90"/>
                            </a:lnTo>
                            <a:lnTo>
                              <a:pt x="1105" y="92"/>
                            </a:lnTo>
                            <a:lnTo>
                              <a:pt x="1111" y="92"/>
                            </a:lnTo>
                            <a:lnTo>
                              <a:pt x="1117" y="92"/>
                            </a:lnTo>
                            <a:lnTo>
                              <a:pt x="1121" y="92"/>
                            </a:lnTo>
                            <a:lnTo>
                              <a:pt x="1127" y="93"/>
                            </a:lnTo>
                            <a:lnTo>
                              <a:pt x="1132" y="93"/>
                            </a:lnTo>
                            <a:lnTo>
                              <a:pt x="1138" y="93"/>
                            </a:lnTo>
                            <a:lnTo>
                              <a:pt x="1143" y="93"/>
                            </a:lnTo>
                            <a:lnTo>
                              <a:pt x="1149" y="93"/>
                            </a:lnTo>
                            <a:lnTo>
                              <a:pt x="1155" y="93"/>
                            </a:lnTo>
                            <a:lnTo>
                              <a:pt x="1160" y="95"/>
                            </a:lnTo>
                            <a:lnTo>
                              <a:pt x="1166" y="95"/>
                            </a:lnTo>
                            <a:lnTo>
                              <a:pt x="1172" y="96"/>
                            </a:lnTo>
                            <a:lnTo>
                              <a:pt x="1176" y="96"/>
                            </a:lnTo>
                            <a:lnTo>
                              <a:pt x="1183" y="96"/>
                            </a:lnTo>
                            <a:lnTo>
                              <a:pt x="1187" y="96"/>
                            </a:lnTo>
                            <a:lnTo>
                              <a:pt x="1193" y="96"/>
                            </a:lnTo>
                            <a:lnTo>
                              <a:pt x="1198" y="96"/>
                            </a:lnTo>
                            <a:lnTo>
                              <a:pt x="1204" y="96"/>
                            </a:lnTo>
                            <a:lnTo>
                              <a:pt x="1210" y="97"/>
                            </a:lnTo>
                            <a:lnTo>
                              <a:pt x="1215" y="97"/>
                            </a:lnTo>
                            <a:lnTo>
                              <a:pt x="1221" y="97"/>
                            </a:lnTo>
                            <a:lnTo>
                              <a:pt x="1225" y="97"/>
                            </a:lnTo>
                            <a:lnTo>
                              <a:pt x="1231" y="97"/>
                            </a:lnTo>
                            <a:lnTo>
                              <a:pt x="1238" y="99"/>
                            </a:lnTo>
                            <a:lnTo>
                              <a:pt x="1242" y="99"/>
                            </a:lnTo>
                            <a:lnTo>
                              <a:pt x="1248" y="99"/>
                            </a:lnTo>
                            <a:lnTo>
                              <a:pt x="1254" y="100"/>
                            </a:lnTo>
                            <a:lnTo>
                              <a:pt x="1259" y="100"/>
                            </a:lnTo>
                            <a:lnTo>
                              <a:pt x="1265" y="100"/>
                            </a:lnTo>
                            <a:lnTo>
                              <a:pt x="1270" y="100"/>
                            </a:lnTo>
                            <a:lnTo>
                              <a:pt x="1276" y="100"/>
                            </a:lnTo>
                            <a:lnTo>
                              <a:pt x="1282" y="100"/>
                            </a:lnTo>
                            <a:lnTo>
                              <a:pt x="1287" y="100"/>
                            </a:lnTo>
                            <a:lnTo>
                              <a:pt x="1293" y="101"/>
                            </a:lnTo>
                            <a:lnTo>
                              <a:pt x="1297" y="101"/>
                            </a:lnTo>
                            <a:lnTo>
                              <a:pt x="1303" y="101"/>
                            </a:lnTo>
                            <a:lnTo>
                              <a:pt x="1309" y="101"/>
                            </a:lnTo>
                            <a:lnTo>
                              <a:pt x="1314" y="101"/>
                            </a:lnTo>
                            <a:lnTo>
                              <a:pt x="1320" y="103"/>
                            </a:lnTo>
                            <a:lnTo>
                              <a:pt x="1326" y="103"/>
                            </a:lnTo>
                            <a:lnTo>
                              <a:pt x="1331" y="103"/>
                            </a:lnTo>
                            <a:lnTo>
                              <a:pt x="1337" y="103"/>
                            </a:lnTo>
                            <a:lnTo>
                              <a:pt x="1343" y="103"/>
                            </a:lnTo>
                            <a:lnTo>
                              <a:pt x="1348" y="104"/>
                            </a:lnTo>
                            <a:lnTo>
                              <a:pt x="1288" y="118"/>
                            </a:lnTo>
                            <a:lnTo>
                              <a:pt x="1290" y="118"/>
                            </a:lnTo>
                            <a:lnTo>
                              <a:pt x="1293" y="118"/>
                            </a:lnTo>
                            <a:lnTo>
                              <a:pt x="1296" y="118"/>
                            </a:lnTo>
                            <a:lnTo>
                              <a:pt x="1299" y="118"/>
                            </a:lnTo>
                            <a:lnTo>
                              <a:pt x="1303" y="118"/>
                            </a:lnTo>
                            <a:lnTo>
                              <a:pt x="1308" y="118"/>
                            </a:lnTo>
                            <a:lnTo>
                              <a:pt x="1313" y="118"/>
                            </a:lnTo>
                            <a:lnTo>
                              <a:pt x="1319" y="118"/>
                            </a:lnTo>
                            <a:lnTo>
                              <a:pt x="1325" y="118"/>
                            </a:lnTo>
                            <a:lnTo>
                              <a:pt x="1331" y="118"/>
                            </a:lnTo>
                            <a:lnTo>
                              <a:pt x="1339" y="118"/>
                            </a:lnTo>
                            <a:lnTo>
                              <a:pt x="1346" y="119"/>
                            </a:lnTo>
                            <a:lnTo>
                              <a:pt x="1354" y="119"/>
                            </a:lnTo>
                            <a:lnTo>
                              <a:pt x="1362" y="119"/>
                            </a:lnTo>
                            <a:lnTo>
                              <a:pt x="1369" y="119"/>
                            </a:lnTo>
                            <a:lnTo>
                              <a:pt x="1378" y="121"/>
                            </a:lnTo>
                            <a:lnTo>
                              <a:pt x="1386" y="121"/>
                            </a:lnTo>
                            <a:lnTo>
                              <a:pt x="1395" y="121"/>
                            </a:lnTo>
                            <a:lnTo>
                              <a:pt x="1406" y="121"/>
                            </a:lnTo>
                            <a:lnTo>
                              <a:pt x="1415" y="121"/>
                            </a:lnTo>
                            <a:lnTo>
                              <a:pt x="1424" y="121"/>
                            </a:lnTo>
                            <a:lnTo>
                              <a:pt x="1435" y="121"/>
                            </a:lnTo>
                            <a:lnTo>
                              <a:pt x="1444" y="121"/>
                            </a:lnTo>
                            <a:lnTo>
                              <a:pt x="1456" y="121"/>
                            </a:lnTo>
                            <a:lnTo>
                              <a:pt x="1466" y="121"/>
                            </a:lnTo>
                            <a:lnTo>
                              <a:pt x="1476" y="121"/>
                            </a:lnTo>
                            <a:lnTo>
                              <a:pt x="1487" y="121"/>
                            </a:lnTo>
                            <a:lnTo>
                              <a:pt x="1498" y="121"/>
                            </a:lnTo>
                            <a:lnTo>
                              <a:pt x="1508" y="121"/>
                            </a:lnTo>
                            <a:lnTo>
                              <a:pt x="1519" y="121"/>
                            </a:lnTo>
                            <a:lnTo>
                              <a:pt x="1531" y="121"/>
                            </a:lnTo>
                            <a:lnTo>
                              <a:pt x="1542" y="121"/>
                            </a:lnTo>
                            <a:lnTo>
                              <a:pt x="1553" y="121"/>
                            </a:lnTo>
                            <a:lnTo>
                              <a:pt x="1563" y="121"/>
                            </a:lnTo>
                            <a:lnTo>
                              <a:pt x="1574" y="121"/>
                            </a:lnTo>
                            <a:lnTo>
                              <a:pt x="1585" y="121"/>
                            </a:lnTo>
                            <a:lnTo>
                              <a:pt x="1596" y="121"/>
                            </a:lnTo>
                            <a:lnTo>
                              <a:pt x="1605" y="121"/>
                            </a:lnTo>
                            <a:lnTo>
                              <a:pt x="1615" y="121"/>
                            </a:lnTo>
                            <a:lnTo>
                              <a:pt x="1626" y="121"/>
                            </a:lnTo>
                            <a:lnTo>
                              <a:pt x="1635" y="121"/>
                            </a:lnTo>
                            <a:lnTo>
                              <a:pt x="1646" y="121"/>
                            </a:lnTo>
                            <a:lnTo>
                              <a:pt x="1655" y="121"/>
                            </a:lnTo>
                            <a:lnTo>
                              <a:pt x="1666" y="121"/>
                            </a:lnTo>
                            <a:lnTo>
                              <a:pt x="1674" y="121"/>
                            </a:lnTo>
                            <a:lnTo>
                              <a:pt x="1684" y="121"/>
                            </a:lnTo>
                            <a:lnTo>
                              <a:pt x="1692" y="121"/>
                            </a:lnTo>
                            <a:lnTo>
                              <a:pt x="1701" y="121"/>
                            </a:lnTo>
                            <a:lnTo>
                              <a:pt x="1709" y="121"/>
                            </a:lnTo>
                            <a:lnTo>
                              <a:pt x="1716" y="121"/>
                            </a:lnTo>
                            <a:lnTo>
                              <a:pt x="1723" y="119"/>
                            </a:lnTo>
                            <a:lnTo>
                              <a:pt x="1730" y="119"/>
                            </a:lnTo>
                            <a:lnTo>
                              <a:pt x="1736" y="119"/>
                            </a:lnTo>
                            <a:lnTo>
                              <a:pt x="1744" y="119"/>
                            </a:lnTo>
                            <a:lnTo>
                              <a:pt x="1749" y="119"/>
                            </a:lnTo>
                            <a:lnTo>
                              <a:pt x="1755" y="119"/>
                            </a:lnTo>
                            <a:lnTo>
                              <a:pt x="1759" y="118"/>
                            </a:lnTo>
                            <a:lnTo>
                              <a:pt x="1764" y="118"/>
                            </a:lnTo>
                            <a:lnTo>
                              <a:pt x="1767" y="118"/>
                            </a:lnTo>
                            <a:lnTo>
                              <a:pt x="1771" y="118"/>
                            </a:lnTo>
                            <a:lnTo>
                              <a:pt x="1776" y="118"/>
                            </a:lnTo>
                            <a:lnTo>
                              <a:pt x="1779" y="118"/>
                            </a:lnTo>
                            <a:lnTo>
                              <a:pt x="1775" y="116"/>
                            </a:lnTo>
                            <a:lnTo>
                              <a:pt x="1770" y="115"/>
                            </a:lnTo>
                            <a:lnTo>
                              <a:pt x="1765" y="115"/>
                            </a:lnTo>
                            <a:lnTo>
                              <a:pt x="1762" y="114"/>
                            </a:lnTo>
                            <a:lnTo>
                              <a:pt x="1758" y="114"/>
                            </a:lnTo>
                            <a:lnTo>
                              <a:pt x="1753" y="112"/>
                            </a:lnTo>
                            <a:lnTo>
                              <a:pt x="1749" y="112"/>
                            </a:lnTo>
                            <a:lnTo>
                              <a:pt x="1745" y="112"/>
                            </a:lnTo>
                            <a:lnTo>
                              <a:pt x="1741" y="112"/>
                            </a:lnTo>
                            <a:lnTo>
                              <a:pt x="1736" y="111"/>
                            </a:lnTo>
                            <a:lnTo>
                              <a:pt x="1732" y="111"/>
                            </a:lnTo>
                            <a:lnTo>
                              <a:pt x="1729" y="111"/>
                            </a:lnTo>
                            <a:lnTo>
                              <a:pt x="1724" y="111"/>
                            </a:lnTo>
                            <a:lnTo>
                              <a:pt x="1719" y="111"/>
                            </a:lnTo>
                            <a:lnTo>
                              <a:pt x="1715" y="111"/>
                            </a:lnTo>
                            <a:lnTo>
                              <a:pt x="1712" y="111"/>
                            </a:lnTo>
                            <a:lnTo>
                              <a:pt x="1707" y="110"/>
                            </a:lnTo>
                            <a:lnTo>
                              <a:pt x="1703" y="110"/>
                            </a:lnTo>
                            <a:lnTo>
                              <a:pt x="1698" y="110"/>
                            </a:lnTo>
                            <a:lnTo>
                              <a:pt x="1693" y="110"/>
                            </a:lnTo>
                            <a:lnTo>
                              <a:pt x="1687" y="108"/>
                            </a:lnTo>
                            <a:lnTo>
                              <a:pt x="1683" y="108"/>
                            </a:lnTo>
                            <a:lnTo>
                              <a:pt x="1678" y="108"/>
                            </a:lnTo>
                            <a:lnTo>
                              <a:pt x="1674" y="108"/>
                            </a:lnTo>
                            <a:lnTo>
                              <a:pt x="1667" y="108"/>
                            </a:lnTo>
                            <a:lnTo>
                              <a:pt x="1663" y="108"/>
                            </a:lnTo>
                            <a:lnTo>
                              <a:pt x="1657" y="107"/>
                            </a:lnTo>
                            <a:lnTo>
                              <a:pt x="1652" y="107"/>
                            </a:lnTo>
                            <a:lnTo>
                              <a:pt x="1648" y="107"/>
                            </a:lnTo>
                            <a:lnTo>
                              <a:pt x="1643" y="107"/>
                            </a:lnTo>
                            <a:lnTo>
                              <a:pt x="1640" y="108"/>
                            </a:lnTo>
                            <a:lnTo>
                              <a:pt x="1635" y="108"/>
                            </a:lnTo>
                            <a:lnTo>
                              <a:pt x="1640" y="107"/>
                            </a:lnTo>
                            <a:lnTo>
                              <a:pt x="1643" y="104"/>
                            </a:lnTo>
                            <a:lnTo>
                              <a:pt x="1649" y="103"/>
                            </a:lnTo>
                            <a:lnTo>
                              <a:pt x="1655" y="103"/>
                            </a:lnTo>
                            <a:lnTo>
                              <a:pt x="1660" y="101"/>
                            </a:lnTo>
                            <a:lnTo>
                              <a:pt x="1666" y="100"/>
                            </a:lnTo>
                            <a:lnTo>
                              <a:pt x="1672" y="100"/>
                            </a:lnTo>
                            <a:lnTo>
                              <a:pt x="1678" y="99"/>
                            </a:lnTo>
                            <a:lnTo>
                              <a:pt x="1683" y="97"/>
                            </a:lnTo>
                            <a:lnTo>
                              <a:pt x="1689" y="97"/>
                            </a:lnTo>
                            <a:lnTo>
                              <a:pt x="1687" y="96"/>
                            </a:lnTo>
                            <a:lnTo>
                              <a:pt x="1683" y="96"/>
                            </a:lnTo>
                            <a:lnTo>
                              <a:pt x="1680" y="96"/>
                            </a:lnTo>
                            <a:lnTo>
                              <a:pt x="1677" y="96"/>
                            </a:lnTo>
                            <a:lnTo>
                              <a:pt x="1674" y="96"/>
                            </a:lnTo>
                            <a:lnTo>
                              <a:pt x="1669" y="96"/>
                            </a:lnTo>
                            <a:lnTo>
                              <a:pt x="1664" y="96"/>
                            </a:lnTo>
                            <a:lnTo>
                              <a:pt x="1660" y="96"/>
                            </a:lnTo>
                            <a:lnTo>
                              <a:pt x="1655" y="96"/>
                            </a:lnTo>
                            <a:lnTo>
                              <a:pt x="1649" y="96"/>
                            </a:lnTo>
                            <a:lnTo>
                              <a:pt x="1644" y="96"/>
                            </a:lnTo>
                            <a:lnTo>
                              <a:pt x="1638" y="96"/>
                            </a:lnTo>
                            <a:lnTo>
                              <a:pt x="1632" y="96"/>
                            </a:lnTo>
                            <a:lnTo>
                              <a:pt x="1628" y="97"/>
                            </a:lnTo>
                            <a:lnTo>
                              <a:pt x="1622" y="97"/>
                            </a:lnTo>
                            <a:lnTo>
                              <a:pt x="1615" y="97"/>
                            </a:lnTo>
                            <a:lnTo>
                              <a:pt x="1609" y="97"/>
                            </a:lnTo>
                            <a:lnTo>
                              <a:pt x="1605" y="97"/>
                            </a:lnTo>
                            <a:lnTo>
                              <a:pt x="1599" y="97"/>
                            </a:lnTo>
                            <a:lnTo>
                              <a:pt x="1592" y="97"/>
                            </a:lnTo>
                            <a:lnTo>
                              <a:pt x="1588" y="97"/>
                            </a:lnTo>
                            <a:lnTo>
                              <a:pt x="1583" y="99"/>
                            </a:lnTo>
                            <a:lnTo>
                              <a:pt x="1577" y="99"/>
                            </a:lnTo>
                            <a:lnTo>
                              <a:pt x="1573" y="99"/>
                            </a:lnTo>
                            <a:lnTo>
                              <a:pt x="1570" y="99"/>
                            </a:lnTo>
                            <a:lnTo>
                              <a:pt x="1565" y="99"/>
                            </a:lnTo>
                            <a:lnTo>
                              <a:pt x="1559" y="99"/>
                            </a:lnTo>
                            <a:lnTo>
                              <a:pt x="1556" y="100"/>
                            </a:lnTo>
                            <a:lnTo>
                              <a:pt x="1559" y="97"/>
                            </a:lnTo>
                            <a:lnTo>
                              <a:pt x="1565" y="95"/>
                            </a:lnTo>
                            <a:lnTo>
                              <a:pt x="1566" y="93"/>
                            </a:lnTo>
                            <a:lnTo>
                              <a:pt x="1570" y="93"/>
                            </a:lnTo>
                            <a:lnTo>
                              <a:pt x="1573" y="92"/>
                            </a:lnTo>
                            <a:lnTo>
                              <a:pt x="1577" y="92"/>
                            </a:lnTo>
                            <a:lnTo>
                              <a:pt x="1580" y="90"/>
                            </a:lnTo>
                            <a:lnTo>
                              <a:pt x="1583" y="90"/>
                            </a:lnTo>
                            <a:lnTo>
                              <a:pt x="1588" y="89"/>
                            </a:lnTo>
                            <a:lnTo>
                              <a:pt x="1591" y="89"/>
                            </a:lnTo>
                            <a:lnTo>
                              <a:pt x="1596" y="89"/>
                            </a:lnTo>
                            <a:lnTo>
                              <a:pt x="1600" y="88"/>
                            </a:lnTo>
                            <a:lnTo>
                              <a:pt x="1605" y="88"/>
                            </a:lnTo>
                            <a:lnTo>
                              <a:pt x="1609" y="88"/>
                            </a:lnTo>
                            <a:lnTo>
                              <a:pt x="1614" y="88"/>
                            </a:lnTo>
                            <a:lnTo>
                              <a:pt x="1618" y="86"/>
                            </a:lnTo>
                            <a:lnTo>
                              <a:pt x="1623" y="86"/>
                            </a:lnTo>
                            <a:lnTo>
                              <a:pt x="1629" y="86"/>
                            </a:lnTo>
                            <a:lnTo>
                              <a:pt x="1634" y="85"/>
                            </a:lnTo>
                            <a:lnTo>
                              <a:pt x="1640" y="85"/>
                            </a:lnTo>
                            <a:lnTo>
                              <a:pt x="1646" y="85"/>
                            </a:lnTo>
                            <a:lnTo>
                              <a:pt x="1651" y="85"/>
                            </a:lnTo>
                            <a:lnTo>
                              <a:pt x="1657" y="85"/>
                            </a:lnTo>
                            <a:lnTo>
                              <a:pt x="1663" y="85"/>
                            </a:lnTo>
                            <a:lnTo>
                              <a:pt x="1667" y="85"/>
                            </a:lnTo>
                            <a:lnTo>
                              <a:pt x="1674" y="85"/>
                            </a:lnTo>
                            <a:lnTo>
                              <a:pt x="1680" y="85"/>
                            </a:lnTo>
                            <a:lnTo>
                              <a:pt x="1686" y="85"/>
                            </a:lnTo>
                            <a:lnTo>
                              <a:pt x="1692" y="85"/>
                            </a:lnTo>
                            <a:lnTo>
                              <a:pt x="1698" y="85"/>
                            </a:lnTo>
                            <a:lnTo>
                              <a:pt x="1704" y="84"/>
                            </a:lnTo>
                            <a:lnTo>
                              <a:pt x="1709" y="84"/>
                            </a:lnTo>
                            <a:lnTo>
                              <a:pt x="1715" y="84"/>
                            </a:lnTo>
                            <a:lnTo>
                              <a:pt x="1723" y="84"/>
                            </a:lnTo>
                            <a:lnTo>
                              <a:pt x="1727" y="84"/>
                            </a:lnTo>
                            <a:lnTo>
                              <a:pt x="1733" y="84"/>
                            </a:lnTo>
                            <a:lnTo>
                              <a:pt x="1739" y="84"/>
                            </a:lnTo>
                            <a:lnTo>
                              <a:pt x="1745" y="84"/>
                            </a:lnTo>
                            <a:lnTo>
                              <a:pt x="1752" y="84"/>
                            </a:lnTo>
                            <a:lnTo>
                              <a:pt x="1758" y="84"/>
                            </a:lnTo>
                            <a:lnTo>
                              <a:pt x="1762" y="84"/>
                            </a:lnTo>
                            <a:lnTo>
                              <a:pt x="1770" y="84"/>
                            </a:lnTo>
                            <a:lnTo>
                              <a:pt x="1775" y="84"/>
                            </a:lnTo>
                            <a:lnTo>
                              <a:pt x="1781" y="84"/>
                            </a:lnTo>
                            <a:lnTo>
                              <a:pt x="1787" y="84"/>
                            </a:lnTo>
                            <a:lnTo>
                              <a:pt x="1793" y="85"/>
                            </a:lnTo>
                            <a:lnTo>
                              <a:pt x="1797" y="84"/>
                            </a:lnTo>
                            <a:lnTo>
                              <a:pt x="1804" y="84"/>
                            </a:lnTo>
                            <a:lnTo>
                              <a:pt x="1810" y="84"/>
                            </a:lnTo>
                            <a:lnTo>
                              <a:pt x="1814" y="84"/>
                            </a:lnTo>
                            <a:lnTo>
                              <a:pt x="1820" y="84"/>
                            </a:lnTo>
                            <a:lnTo>
                              <a:pt x="1825" y="84"/>
                            </a:lnTo>
                            <a:lnTo>
                              <a:pt x="1830" y="84"/>
                            </a:lnTo>
                            <a:lnTo>
                              <a:pt x="1836" y="84"/>
                            </a:lnTo>
                            <a:lnTo>
                              <a:pt x="1840" y="84"/>
                            </a:lnTo>
                            <a:lnTo>
                              <a:pt x="1845" y="84"/>
                            </a:lnTo>
                            <a:lnTo>
                              <a:pt x="1849" y="84"/>
                            </a:lnTo>
                            <a:lnTo>
                              <a:pt x="1854" y="84"/>
                            </a:lnTo>
                            <a:lnTo>
                              <a:pt x="1859" y="84"/>
                            </a:lnTo>
                            <a:lnTo>
                              <a:pt x="1862" y="84"/>
                            </a:lnTo>
                            <a:lnTo>
                              <a:pt x="1866" y="84"/>
                            </a:lnTo>
                            <a:lnTo>
                              <a:pt x="1871" y="84"/>
                            </a:lnTo>
                            <a:lnTo>
                              <a:pt x="1868" y="81"/>
                            </a:lnTo>
                            <a:lnTo>
                              <a:pt x="1863" y="79"/>
                            </a:lnTo>
                            <a:lnTo>
                              <a:pt x="1860" y="78"/>
                            </a:lnTo>
                            <a:lnTo>
                              <a:pt x="1856" y="75"/>
                            </a:lnTo>
                            <a:lnTo>
                              <a:pt x="1853" y="74"/>
                            </a:lnTo>
                            <a:lnTo>
                              <a:pt x="1848" y="74"/>
                            </a:lnTo>
                            <a:lnTo>
                              <a:pt x="1845" y="74"/>
                            </a:lnTo>
                            <a:lnTo>
                              <a:pt x="1842" y="74"/>
                            </a:lnTo>
                            <a:lnTo>
                              <a:pt x="1839" y="73"/>
                            </a:lnTo>
                            <a:lnTo>
                              <a:pt x="1836" y="73"/>
                            </a:lnTo>
                            <a:lnTo>
                              <a:pt x="1831" y="73"/>
                            </a:lnTo>
                            <a:lnTo>
                              <a:pt x="1828" y="73"/>
                            </a:lnTo>
                            <a:lnTo>
                              <a:pt x="1822" y="73"/>
                            </a:lnTo>
                            <a:lnTo>
                              <a:pt x="1814" y="71"/>
                            </a:lnTo>
                            <a:lnTo>
                              <a:pt x="1808" y="71"/>
                            </a:lnTo>
                            <a:lnTo>
                              <a:pt x="1802" y="71"/>
                            </a:lnTo>
                            <a:lnTo>
                              <a:pt x="1794" y="70"/>
                            </a:lnTo>
                            <a:lnTo>
                              <a:pt x="1788" y="70"/>
                            </a:lnTo>
                            <a:lnTo>
                              <a:pt x="1782" y="68"/>
                            </a:lnTo>
                            <a:lnTo>
                              <a:pt x="1776" y="68"/>
                            </a:lnTo>
                            <a:lnTo>
                              <a:pt x="1768" y="68"/>
                            </a:lnTo>
                            <a:lnTo>
                              <a:pt x="1762" y="68"/>
                            </a:lnTo>
                            <a:lnTo>
                              <a:pt x="1756" y="67"/>
                            </a:lnTo>
                            <a:lnTo>
                              <a:pt x="1749" y="67"/>
                            </a:lnTo>
                            <a:lnTo>
                              <a:pt x="1742" y="66"/>
                            </a:lnTo>
                            <a:lnTo>
                              <a:pt x="1736" y="66"/>
                            </a:lnTo>
                            <a:lnTo>
                              <a:pt x="1729" y="66"/>
                            </a:lnTo>
                            <a:lnTo>
                              <a:pt x="1723" y="66"/>
                            </a:lnTo>
                            <a:lnTo>
                              <a:pt x="1716" y="64"/>
                            </a:lnTo>
                            <a:lnTo>
                              <a:pt x="1710" y="64"/>
                            </a:lnTo>
                            <a:lnTo>
                              <a:pt x="1703" y="64"/>
                            </a:lnTo>
                            <a:lnTo>
                              <a:pt x="1696" y="64"/>
                            </a:lnTo>
                            <a:lnTo>
                              <a:pt x="1693" y="63"/>
                            </a:lnTo>
                            <a:lnTo>
                              <a:pt x="1690" y="63"/>
                            </a:lnTo>
                            <a:lnTo>
                              <a:pt x="1686" y="63"/>
                            </a:lnTo>
                            <a:lnTo>
                              <a:pt x="1683" y="63"/>
                            </a:lnTo>
                            <a:lnTo>
                              <a:pt x="1677" y="63"/>
                            </a:lnTo>
                            <a:lnTo>
                              <a:pt x="1670" y="63"/>
                            </a:lnTo>
                            <a:lnTo>
                              <a:pt x="1663" y="63"/>
                            </a:lnTo>
                            <a:lnTo>
                              <a:pt x="1657" y="64"/>
                            </a:lnTo>
                            <a:lnTo>
                              <a:pt x="1649" y="64"/>
                            </a:lnTo>
                            <a:lnTo>
                              <a:pt x="1643" y="66"/>
                            </a:lnTo>
                            <a:lnTo>
                              <a:pt x="1638" y="64"/>
                            </a:lnTo>
                            <a:lnTo>
                              <a:pt x="1632" y="64"/>
                            </a:lnTo>
                            <a:lnTo>
                              <a:pt x="1628" y="63"/>
                            </a:lnTo>
                            <a:lnTo>
                              <a:pt x="1622" y="63"/>
                            </a:lnTo>
                            <a:lnTo>
                              <a:pt x="1617" y="63"/>
                            </a:lnTo>
                            <a:lnTo>
                              <a:pt x="1612" y="63"/>
                            </a:lnTo>
                            <a:lnTo>
                              <a:pt x="1606" y="62"/>
                            </a:lnTo>
                            <a:lnTo>
                              <a:pt x="1602" y="62"/>
                            </a:lnTo>
                            <a:lnTo>
                              <a:pt x="1596" y="62"/>
                            </a:lnTo>
                            <a:lnTo>
                              <a:pt x="1591" y="60"/>
                            </a:lnTo>
                            <a:lnTo>
                              <a:pt x="1586" y="60"/>
                            </a:lnTo>
                            <a:lnTo>
                              <a:pt x="1582" y="60"/>
                            </a:lnTo>
                            <a:lnTo>
                              <a:pt x="1576" y="59"/>
                            </a:lnTo>
                            <a:lnTo>
                              <a:pt x="1571" y="59"/>
                            </a:lnTo>
                            <a:lnTo>
                              <a:pt x="1565" y="59"/>
                            </a:lnTo>
                            <a:lnTo>
                              <a:pt x="1560" y="59"/>
                            </a:lnTo>
                            <a:lnTo>
                              <a:pt x="1565" y="57"/>
                            </a:lnTo>
                            <a:lnTo>
                              <a:pt x="1568" y="56"/>
                            </a:lnTo>
                            <a:lnTo>
                              <a:pt x="1573" y="56"/>
                            </a:lnTo>
                            <a:lnTo>
                              <a:pt x="1577" y="56"/>
                            </a:lnTo>
                            <a:lnTo>
                              <a:pt x="1582" y="55"/>
                            </a:lnTo>
                            <a:lnTo>
                              <a:pt x="1585" y="55"/>
                            </a:lnTo>
                            <a:lnTo>
                              <a:pt x="1589" y="55"/>
                            </a:lnTo>
                            <a:lnTo>
                              <a:pt x="1594" y="55"/>
                            </a:lnTo>
                            <a:lnTo>
                              <a:pt x="1599" y="53"/>
                            </a:lnTo>
                            <a:lnTo>
                              <a:pt x="1602" y="53"/>
                            </a:lnTo>
                            <a:lnTo>
                              <a:pt x="1606" y="53"/>
                            </a:lnTo>
                            <a:lnTo>
                              <a:pt x="1611" y="53"/>
                            </a:lnTo>
                            <a:lnTo>
                              <a:pt x="1615" y="53"/>
                            </a:lnTo>
                            <a:lnTo>
                              <a:pt x="1618" y="53"/>
                            </a:lnTo>
                            <a:lnTo>
                              <a:pt x="1623" y="53"/>
                            </a:lnTo>
                            <a:lnTo>
                              <a:pt x="1629" y="53"/>
                            </a:lnTo>
                            <a:lnTo>
                              <a:pt x="1632" y="53"/>
                            </a:lnTo>
                            <a:lnTo>
                              <a:pt x="1637" y="53"/>
                            </a:lnTo>
                            <a:lnTo>
                              <a:pt x="1641" y="53"/>
                            </a:lnTo>
                            <a:lnTo>
                              <a:pt x="1646" y="53"/>
                            </a:lnTo>
                            <a:lnTo>
                              <a:pt x="1649" y="53"/>
                            </a:lnTo>
                            <a:lnTo>
                              <a:pt x="1654" y="53"/>
                            </a:lnTo>
                            <a:lnTo>
                              <a:pt x="1658" y="53"/>
                            </a:lnTo>
                            <a:lnTo>
                              <a:pt x="1663" y="53"/>
                            </a:lnTo>
                            <a:lnTo>
                              <a:pt x="1667" y="53"/>
                            </a:lnTo>
                            <a:lnTo>
                              <a:pt x="1672" y="53"/>
                            </a:lnTo>
                            <a:lnTo>
                              <a:pt x="1677" y="53"/>
                            </a:lnTo>
                            <a:lnTo>
                              <a:pt x="1681" y="53"/>
                            </a:lnTo>
                            <a:lnTo>
                              <a:pt x="1686" y="53"/>
                            </a:lnTo>
                            <a:lnTo>
                              <a:pt x="1690" y="55"/>
                            </a:lnTo>
                            <a:lnTo>
                              <a:pt x="1695" y="55"/>
                            </a:lnTo>
                            <a:lnTo>
                              <a:pt x="1700" y="55"/>
                            </a:lnTo>
                            <a:lnTo>
                              <a:pt x="1703" y="55"/>
                            </a:lnTo>
                            <a:lnTo>
                              <a:pt x="1707" y="55"/>
                            </a:lnTo>
                            <a:lnTo>
                              <a:pt x="1712" y="55"/>
                            </a:lnTo>
                            <a:lnTo>
                              <a:pt x="1716" y="56"/>
                            </a:lnTo>
                            <a:lnTo>
                              <a:pt x="1721" y="56"/>
                            </a:lnTo>
                            <a:lnTo>
                              <a:pt x="1726" y="56"/>
                            </a:lnTo>
                            <a:lnTo>
                              <a:pt x="1729" y="56"/>
                            </a:lnTo>
                            <a:lnTo>
                              <a:pt x="1735" y="56"/>
                            </a:lnTo>
                            <a:lnTo>
                              <a:pt x="1738" y="56"/>
                            </a:lnTo>
                            <a:lnTo>
                              <a:pt x="1742" y="56"/>
                            </a:lnTo>
                            <a:lnTo>
                              <a:pt x="1747" y="56"/>
                            </a:lnTo>
                            <a:lnTo>
                              <a:pt x="1752" y="56"/>
                            </a:lnTo>
                            <a:lnTo>
                              <a:pt x="1756" y="56"/>
                            </a:lnTo>
                            <a:lnTo>
                              <a:pt x="1761" y="56"/>
                            </a:lnTo>
                            <a:lnTo>
                              <a:pt x="1765" y="56"/>
                            </a:lnTo>
                            <a:lnTo>
                              <a:pt x="1770" y="57"/>
                            </a:lnTo>
                            <a:lnTo>
                              <a:pt x="1773" y="56"/>
                            </a:lnTo>
                            <a:lnTo>
                              <a:pt x="1778" y="56"/>
                            </a:lnTo>
                            <a:lnTo>
                              <a:pt x="1782" y="56"/>
                            </a:lnTo>
                            <a:lnTo>
                              <a:pt x="1787" y="56"/>
                            </a:lnTo>
                            <a:lnTo>
                              <a:pt x="1791" y="56"/>
                            </a:lnTo>
                            <a:lnTo>
                              <a:pt x="1796" y="56"/>
                            </a:lnTo>
                            <a:lnTo>
                              <a:pt x="1801" y="56"/>
                            </a:lnTo>
                            <a:lnTo>
                              <a:pt x="1805" y="56"/>
                            </a:lnTo>
                            <a:lnTo>
                              <a:pt x="1808" y="56"/>
                            </a:lnTo>
                            <a:lnTo>
                              <a:pt x="1814" y="56"/>
                            </a:lnTo>
                            <a:lnTo>
                              <a:pt x="1817" y="55"/>
                            </a:lnTo>
                            <a:lnTo>
                              <a:pt x="1822" y="55"/>
                            </a:lnTo>
                            <a:lnTo>
                              <a:pt x="1827" y="55"/>
                            </a:lnTo>
                            <a:lnTo>
                              <a:pt x="1831" y="55"/>
                            </a:lnTo>
                            <a:lnTo>
                              <a:pt x="1836" y="53"/>
                            </a:lnTo>
                            <a:lnTo>
                              <a:pt x="1840" y="53"/>
                            </a:lnTo>
                            <a:lnTo>
                              <a:pt x="1845" y="53"/>
                            </a:lnTo>
                            <a:lnTo>
                              <a:pt x="1851" y="52"/>
                            </a:lnTo>
                            <a:lnTo>
                              <a:pt x="1856" y="52"/>
                            </a:lnTo>
                            <a:lnTo>
                              <a:pt x="1859" y="51"/>
                            </a:lnTo>
                            <a:lnTo>
                              <a:pt x="1863" y="49"/>
                            </a:lnTo>
                            <a:lnTo>
                              <a:pt x="1866" y="48"/>
                            </a:lnTo>
                            <a:lnTo>
                              <a:pt x="1865" y="46"/>
                            </a:lnTo>
                            <a:lnTo>
                              <a:pt x="1863" y="46"/>
                            </a:lnTo>
                            <a:lnTo>
                              <a:pt x="1860" y="46"/>
                            </a:lnTo>
                            <a:lnTo>
                              <a:pt x="1857" y="45"/>
                            </a:lnTo>
                            <a:lnTo>
                              <a:pt x="1853" y="45"/>
                            </a:lnTo>
                            <a:lnTo>
                              <a:pt x="1848" y="45"/>
                            </a:lnTo>
                            <a:lnTo>
                              <a:pt x="1845" y="45"/>
                            </a:lnTo>
                            <a:lnTo>
                              <a:pt x="1842" y="45"/>
                            </a:lnTo>
                            <a:lnTo>
                              <a:pt x="1839" y="45"/>
                            </a:lnTo>
                            <a:lnTo>
                              <a:pt x="1836" y="45"/>
                            </a:lnTo>
                            <a:lnTo>
                              <a:pt x="1739" y="41"/>
                            </a:lnTo>
                            <a:lnTo>
                              <a:pt x="1723" y="31"/>
                            </a:lnTo>
                            <a:lnTo>
                              <a:pt x="1718" y="33"/>
                            </a:lnTo>
                            <a:lnTo>
                              <a:pt x="1713" y="33"/>
                            </a:lnTo>
                            <a:lnTo>
                              <a:pt x="1709" y="34"/>
                            </a:lnTo>
                            <a:lnTo>
                              <a:pt x="1704" y="34"/>
                            </a:lnTo>
                            <a:lnTo>
                              <a:pt x="1698" y="34"/>
                            </a:lnTo>
                            <a:lnTo>
                              <a:pt x="1689" y="34"/>
                            </a:lnTo>
                            <a:lnTo>
                              <a:pt x="1681" y="34"/>
                            </a:lnTo>
                            <a:lnTo>
                              <a:pt x="1672" y="34"/>
                            </a:lnTo>
                            <a:lnTo>
                              <a:pt x="1663" y="34"/>
                            </a:lnTo>
                            <a:lnTo>
                              <a:pt x="1651" y="34"/>
                            </a:lnTo>
                            <a:lnTo>
                              <a:pt x="1640" y="34"/>
                            </a:lnTo>
                            <a:lnTo>
                              <a:pt x="1628" y="33"/>
                            </a:lnTo>
                            <a:lnTo>
                              <a:pt x="1615" y="33"/>
                            </a:lnTo>
                            <a:lnTo>
                              <a:pt x="1602" y="31"/>
                            </a:lnTo>
                            <a:lnTo>
                              <a:pt x="1588" y="31"/>
                            </a:lnTo>
                            <a:lnTo>
                              <a:pt x="1573" y="31"/>
                            </a:lnTo>
                            <a:lnTo>
                              <a:pt x="1559" y="31"/>
                            </a:lnTo>
                            <a:lnTo>
                              <a:pt x="1542" y="30"/>
                            </a:lnTo>
                            <a:lnTo>
                              <a:pt x="1527" y="30"/>
                            </a:lnTo>
                            <a:lnTo>
                              <a:pt x="1510" y="29"/>
                            </a:lnTo>
                            <a:lnTo>
                              <a:pt x="1495" y="29"/>
                            </a:lnTo>
                            <a:lnTo>
                              <a:pt x="1476" y="27"/>
                            </a:lnTo>
                            <a:lnTo>
                              <a:pt x="1459" y="27"/>
                            </a:lnTo>
                            <a:lnTo>
                              <a:pt x="1441" y="26"/>
                            </a:lnTo>
                            <a:lnTo>
                              <a:pt x="1424" y="26"/>
                            </a:lnTo>
                            <a:lnTo>
                              <a:pt x="1406" y="25"/>
                            </a:lnTo>
                            <a:lnTo>
                              <a:pt x="1388" y="23"/>
                            </a:lnTo>
                            <a:lnTo>
                              <a:pt x="1369" y="23"/>
                            </a:lnTo>
                            <a:lnTo>
                              <a:pt x="1352" y="23"/>
                            </a:lnTo>
                            <a:lnTo>
                              <a:pt x="1334" y="20"/>
                            </a:lnTo>
                            <a:lnTo>
                              <a:pt x="1314" y="20"/>
                            </a:lnTo>
                            <a:lnTo>
                              <a:pt x="1296" y="19"/>
                            </a:lnTo>
                            <a:lnTo>
                              <a:pt x="1279" y="19"/>
                            </a:lnTo>
                            <a:lnTo>
                              <a:pt x="1259" y="16"/>
                            </a:lnTo>
                            <a:lnTo>
                              <a:pt x="1242" y="16"/>
                            </a:lnTo>
                            <a:lnTo>
                              <a:pt x="1224" y="15"/>
                            </a:lnTo>
                            <a:lnTo>
                              <a:pt x="1207" y="15"/>
                            </a:lnTo>
                            <a:lnTo>
                              <a:pt x="1189" y="14"/>
                            </a:lnTo>
                            <a:lnTo>
                              <a:pt x="1172" y="14"/>
                            </a:lnTo>
                            <a:lnTo>
                              <a:pt x="1155" y="12"/>
                            </a:lnTo>
                            <a:lnTo>
                              <a:pt x="1138" y="11"/>
                            </a:lnTo>
                            <a:lnTo>
                              <a:pt x="1121" y="9"/>
                            </a:lnTo>
                            <a:lnTo>
                              <a:pt x="1108" y="9"/>
                            </a:lnTo>
                            <a:lnTo>
                              <a:pt x="1091" y="8"/>
                            </a:lnTo>
                            <a:lnTo>
                              <a:pt x="1077" y="8"/>
                            </a:lnTo>
                            <a:lnTo>
                              <a:pt x="1063" y="7"/>
                            </a:lnTo>
                            <a:lnTo>
                              <a:pt x="1049" y="7"/>
                            </a:lnTo>
                            <a:lnTo>
                              <a:pt x="1036" y="5"/>
                            </a:lnTo>
                            <a:lnTo>
                              <a:pt x="1025" y="5"/>
                            </a:lnTo>
                            <a:lnTo>
                              <a:pt x="1013" y="4"/>
                            </a:lnTo>
                            <a:lnTo>
                              <a:pt x="1002" y="4"/>
                            </a:lnTo>
                            <a:lnTo>
                              <a:pt x="991" y="4"/>
                            </a:lnTo>
                            <a:lnTo>
                              <a:pt x="984" y="4"/>
                            </a:lnTo>
                            <a:lnTo>
                              <a:pt x="975" y="3"/>
                            </a:lnTo>
                            <a:lnTo>
                              <a:pt x="967" y="3"/>
                            </a:lnTo>
                            <a:lnTo>
                              <a:pt x="959" y="1"/>
                            </a:lnTo>
                            <a:lnTo>
                              <a:pt x="955" y="1"/>
                            </a:lnTo>
                            <a:lnTo>
                              <a:pt x="949" y="1"/>
                            </a:lnTo>
                            <a:lnTo>
                              <a:pt x="945" y="1"/>
                            </a:lnTo>
                            <a:lnTo>
                              <a:pt x="942" y="1"/>
                            </a:lnTo>
                            <a:lnTo>
                              <a:pt x="941" y="1"/>
                            </a:lnTo>
                            <a:lnTo>
                              <a:pt x="936" y="1"/>
                            </a:lnTo>
                            <a:lnTo>
                              <a:pt x="930" y="1"/>
                            </a:lnTo>
                            <a:lnTo>
                              <a:pt x="924" y="1"/>
                            </a:lnTo>
                            <a:lnTo>
                              <a:pt x="919" y="1"/>
                            </a:lnTo>
                            <a:lnTo>
                              <a:pt x="913" y="1"/>
                            </a:lnTo>
                            <a:lnTo>
                              <a:pt x="907" y="1"/>
                            </a:lnTo>
                            <a:lnTo>
                              <a:pt x="901" y="1"/>
                            </a:lnTo>
                            <a:lnTo>
                              <a:pt x="896" y="1"/>
                            </a:lnTo>
                            <a:lnTo>
                              <a:pt x="892" y="1"/>
                            </a:lnTo>
                            <a:lnTo>
                              <a:pt x="886" y="1"/>
                            </a:lnTo>
                            <a:lnTo>
                              <a:pt x="880" y="1"/>
                            </a:lnTo>
                            <a:lnTo>
                              <a:pt x="875" y="1"/>
                            </a:lnTo>
                            <a:lnTo>
                              <a:pt x="869" y="1"/>
                            </a:lnTo>
                            <a:lnTo>
                              <a:pt x="863" y="1"/>
                            </a:lnTo>
                            <a:lnTo>
                              <a:pt x="858" y="1"/>
                            </a:lnTo>
                            <a:lnTo>
                              <a:pt x="852" y="1"/>
                            </a:lnTo>
                            <a:lnTo>
                              <a:pt x="846" y="0"/>
                            </a:lnTo>
                            <a:lnTo>
                              <a:pt x="840" y="0"/>
                            </a:lnTo>
                            <a:lnTo>
                              <a:pt x="834" y="0"/>
                            </a:lnTo>
                            <a:lnTo>
                              <a:pt x="828" y="0"/>
                            </a:lnTo>
                            <a:lnTo>
                              <a:pt x="822" y="0"/>
                            </a:lnTo>
                            <a:lnTo>
                              <a:pt x="815" y="0"/>
                            </a:lnTo>
                            <a:lnTo>
                              <a:pt x="811" y="0"/>
                            </a:lnTo>
                            <a:lnTo>
                              <a:pt x="805" y="0"/>
                            </a:lnTo>
                            <a:lnTo>
                              <a:pt x="799" y="0"/>
                            </a:lnTo>
                            <a:lnTo>
                              <a:pt x="792" y="0"/>
                            </a:lnTo>
                            <a:lnTo>
                              <a:pt x="788" y="0"/>
                            </a:lnTo>
                            <a:lnTo>
                              <a:pt x="782" y="0"/>
                            </a:lnTo>
                            <a:lnTo>
                              <a:pt x="776" y="0"/>
                            </a:lnTo>
                            <a:lnTo>
                              <a:pt x="770" y="0"/>
                            </a:lnTo>
                            <a:lnTo>
                              <a:pt x="765" y="0"/>
                            </a:lnTo>
                            <a:lnTo>
                              <a:pt x="759" y="0"/>
                            </a:lnTo>
                            <a:lnTo>
                              <a:pt x="753" y="0"/>
                            </a:lnTo>
                            <a:lnTo>
                              <a:pt x="747" y="0"/>
                            </a:lnTo>
                            <a:lnTo>
                              <a:pt x="740" y="0"/>
                            </a:lnTo>
                            <a:lnTo>
                              <a:pt x="734" y="0"/>
                            </a:lnTo>
                            <a:lnTo>
                              <a:pt x="728" y="0"/>
                            </a:lnTo>
                            <a:lnTo>
                              <a:pt x="724" y="0"/>
                            </a:lnTo>
                            <a:lnTo>
                              <a:pt x="718" y="0"/>
                            </a:lnTo>
                            <a:lnTo>
                              <a:pt x="711" y="0"/>
                            </a:lnTo>
                            <a:lnTo>
                              <a:pt x="705" y="0"/>
                            </a:lnTo>
                            <a:lnTo>
                              <a:pt x="699" y="0"/>
                            </a:lnTo>
                            <a:lnTo>
                              <a:pt x="693" y="0"/>
                            </a:lnTo>
                            <a:lnTo>
                              <a:pt x="688" y="1"/>
                            </a:lnTo>
                            <a:lnTo>
                              <a:pt x="682" y="1"/>
                            </a:lnTo>
                            <a:lnTo>
                              <a:pt x="676" y="1"/>
                            </a:lnTo>
                            <a:lnTo>
                              <a:pt x="672" y="3"/>
                            </a:lnTo>
                            <a:lnTo>
                              <a:pt x="666" y="3"/>
                            </a:lnTo>
                            <a:lnTo>
                              <a:pt x="659" y="3"/>
                            </a:lnTo>
                            <a:lnTo>
                              <a:pt x="653" y="3"/>
                            </a:lnTo>
                            <a:lnTo>
                              <a:pt x="649" y="4"/>
                            </a:lnTo>
                            <a:lnTo>
                              <a:pt x="643" y="4"/>
                            </a:lnTo>
                            <a:lnTo>
                              <a:pt x="636" y="4"/>
                            </a:lnTo>
                            <a:lnTo>
                              <a:pt x="630" y="4"/>
                            </a:lnTo>
                            <a:lnTo>
                              <a:pt x="626" y="5"/>
                            </a:lnTo>
                            <a:lnTo>
                              <a:pt x="621" y="7"/>
                            </a:lnTo>
                            <a:lnTo>
                              <a:pt x="615" y="7"/>
                            </a:lnTo>
                            <a:lnTo>
                              <a:pt x="609" y="8"/>
                            </a:lnTo>
                            <a:lnTo>
                              <a:pt x="604" y="8"/>
                            </a:lnTo>
                            <a:lnTo>
                              <a:pt x="598" y="9"/>
                            </a:lnTo>
                            <a:lnTo>
                              <a:pt x="594" y="9"/>
                            </a:lnTo>
                            <a:lnTo>
                              <a:pt x="588" y="11"/>
                            </a:lnTo>
                            <a:lnTo>
                              <a:pt x="583" y="12"/>
                            </a:lnTo>
                            <a:lnTo>
                              <a:pt x="578" y="14"/>
                            </a:lnTo>
                            <a:lnTo>
                              <a:pt x="575" y="14"/>
                            </a:lnTo>
                            <a:lnTo>
                              <a:pt x="572" y="14"/>
                            </a:lnTo>
                            <a:lnTo>
                              <a:pt x="566" y="15"/>
                            </a:lnTo>
                            <a:lnTo>
                              <a:pt x="561" y="15"/>
                            </a:lnTo>
                            <a:lnTo>
                              <a:pt x="557" y="15"/>
                            </a:lnTo>
                            <a:lnTo>
                              <a:pt x="554" y="15"/>
                            </a:lnTo>
                            <a:lnTo>
                              <a:pt x="549" y="16"/>
                            </a:lnTo>
                            <a:lnTo>
                              <a:pt x="546" y="16"/>
                            </a:lnTo>
                            <a:lnTo>
                              <a:pt x="543" y="16"/>
                            </a:lnTo>
                            <a:lnTo>
                              <a:pt x="539" y="16"/>
                            </a:lnTo>
                            <a:lnTo>
                              <a:pt x="535" y="16"/>
                            </a:lnTo>
                            <a:lnTo>
                              <a:pt x="531" y="18"/>
                            </a:lnTo>
                            <a:lnTo>
                              <a:pt x="528" y="18"/>
                            </a:lnTo>
                            <a:lnTo>
                              <a:pt x="523" y="18"/>
                            </a:lnTo>
                            <a:lnTo>
                              <a:pt x="520" y="18"/>
                            </a:lnTo>
                            <a:lnTo>
                              <a:pt x="516" y="18"/>
                            </a:lnTo>
                            <a:lnTo>
                              <a:pt x="513" y="18"/>
                            </a:lnTo>
                            <a:lnTo>
                              <a:pt x="508" y="18"/>
                            </a:lnTo>
                            <a:lnTo>
                              <a:pt x="505" y="18"/>
                            </a:lnTo>
                            <a:lnTo>
                              <a:pt x="503" y="19"/>
                            </a:lnTo>
                            <a:lnTo>
                              <a:pt x="497" y="18"/>
                            </a:lnTo>
                            <a:lnTo>
                              <a:pt x="493" y="18"/>
                            </a:lnTo>
                            <a:lnTo>
                              <a:pt x="490" y="18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2" name="Freeform 232"/>
                      <p:cNvSpPr/>
                      <p:nvPr/>
                    </p:nvSpPr>
                    <p:spPr>
                      <a:xfrm>
                        <a:off x="3139560" y="2985480"/>
                        <a:ext cx="25920" cy="1080"/>
                      </a:xfrm>
                      <a:custGeom>
                        <a:avLst/>
                        <a:gdLst>
                          <a:gd name="textAreaLeft" fmla="*/ 0 w 25920"/>
                          <a:gd name="textAreaRight" fmla="*/ 26280 w 25920"/>
                          <a:gd name="textAreaTop" fmla="*/ 0 h 1080"/>
                          <a:gd name="textAreaBottom" fmla="*/ 1440 h 1080"/>
                        </a:gdLst>
                        <a:ahLst/>
                        <a:rect l="textAreaLeft" t="textAreaTop" r="textAreaRight" b="textAreaBottom"/>
                        <a:pathLst>
                          <a:path w="288" h="14">
                            <a:moveTo>
                              <a:pt x="286" y="0"/>
                            </a:moveTo>
                            <a:lnTo>
                              <a:pt x="280" y="0"/>
                            </a:lnTo>
                            <a:lnTo>
                              <a:pt x="274" y="0"/>
                            </a:lnTo>
                            <a:lnTo>
                              <a:pt x="268" y="0"/>
                            </a:lnTo>
                            <a:lnTo>
                              <a:pt x="263" y="0"/>
                            </a:lnTo>
                            <a:lnTo>
                              <a:pt x="257" y="0"/>
                            </a:lnTo>
                            <a:lnTo>
                              <a:pt x="251" y="0"/>
                            </a:lnTo>
                            <a:lnTo>
                              <a:pt x="245" y="0"/>
                            </a:lnTo>
                            <a:lnTo>
                              <a:pt x="240" y="0"/>
                            </a:lnTo>
                            <a:lnTo>
                              <a:pt x="233" y="0"/>
                            </a:lnTo>
                            <a:lnTo>
                              <a:pt x="228" y="0"/>
                            </a:lnTo>
                            <a:lnTo>
                              <a:pt x="222" y="0"/>
                            </a:lnTo>
                            <a:lnTo>
                              <a:pt x="216" y="0"/>
                            </a:lnTo>
                            <a:lnTo>
                              <a:pt x="210" y="0"/>
                            </a:lnTo>
                            <a:lnTo>
                              <a:pt x="205" y="2"/>
                            </a:lnTo>
                            <a:lnTo>
                              <a:pt x="199" y="2"/>
                            </a:lnTo>
                            <a:lnTo>
                              <a:pt x="193" y="2"/>
                            </a:lnTo>
                            <a:lnTo>
                              <a:pt x="187" y="2"/>
                            </a:lnTo>
                            <a:lnTo>
                              <a:pt x="181" y="2"/>
                            </a:lnTo>
                            <a:lnTo>
                              <a:pt x="174" y="3"/>
                            </a:lnTo>
                            <a:lnTo>
                              <a:pt x="170" y="3"/>
                            </a:lnTo>
                            <a:lnTo>
                              <a:pt x="164" y="3"/>
                            </a:lnTo>
                            <a:lnTo>
                              <a:pt x="158" y="3"/>
                            </a:lnTo>
                            <a:lnTo>
                              <a:pt x="152" y="3"/>
                            </a:lnTo>
                            <a:lnTo>
                              <a:pt x="145" y="4"/>
                            </a:lnTo>
                            <a:lnTo>
                              <a:pt x="139" y="4"/>
                            </a:lnTo>
                            <a:lnTo>
                              <a:pt x="135" y="4"/>
                            </a:lnTo>
                            <a:lnTo>
                              <a:pt x="127" y="4"/>
                            </a:lnTo>
                            <a:lnTo>
                              <a:pt x="122" y="6"/>
                            </a:lnTo>
                            <a:lnTo>
                              <a:pt x="116" y="6"/>
                            </a:lnTo>
                            <a:lnTo>
                              <a:pt x="110" y="6"/>
                            </a:lnTo>
                            <a:lnTo>
                              <a:pt x="104" y="6"/>
                            </a:lnTo>
                            <a:lnTo>
                              <a:pt x="100" y="6"/>
                            </a:lnTo>
                            <a:lnTo>
                              <a:pt x="31" y="8"/>
                            </a:lnTo>
                            <a:lnTo>
                              <a:pt x="11" y="11"/>
                            </a:lnTo>
                            <a:lnTo>
                              <a:pt x="3" y="11"/>
                            </a:lnTo>
                            <a:lnTo>
                              <a:pt x="2" y="11"/>
                            </a:lnTo>
                            <a:lnTo>
                              <a:pt x="0" y="12"/>
                            </a:lnTo>
                            <a:lnTo>
                              <a:pt x="2" y="12"/>
                            </a:lnTo>
                            <a:lnTo>
                              <a:pt x="6" y="14"/>
                            </a:lnTo>
                            <a:lnTo>
                              <a:pt x="9" y="14"/>
                            </a:lnTo>
                            <a:lnTo>
                              <a:pt x="14" y="14"/>
                            </a:lnTo>
                            <a:lnTo>
                              <a:pt x="17" y="14"/>
                            </a:lnTo>
                            <a:lnTo>
                              <a:pt x="22" y="14"/>
                            </a:lnTo>
                            <a:lnTo>
                              <a:pt x="25" y="12"/>
                            </a:lnTo>
                            <a:lnTo>
                              <a:pt x="28" y="12"/>
                            </a:lnTo>
                            <a:lnTo>
                              <a:pt x="31" y="12"/>
                            </a:lnTo>
                            <a:lnTo>
                              <a:pt x="35" y="12"/>
                            </a:lnTo>
                            <a:lnTo>
                              <a:pt x="40" y="12"/>
                            </a:lnTo>
                            <a:lnTo>
                              <a:pt x="43" y="12"/>
                            </a:lnTo>
                            <a:lnTo>
                              <a:pt x="48" y="12"/>
                            </a:lnTo>
                            <a:lnTo>
                              <a:pt x="54" y="12"/>
                            </a:lnTo>
                            <a:lnTo>
                              <a:pt x="58" y="12"/>
                            </a:lnTo>
                            <a:lnTo>
                              <a:pt x="64" y="12"/>
                            </a:lnTo>
                            <a:lnTo>
                              <a:pt x="69" y="12"/>
                            </a:lnTo>
                            <a:lnTo>
                              <a:pt x="75" y="12"/>
                            </a:lnTo>
                            <a:lnTo>
                              <a:pt x="80" y="12"/>
                            </a:lnTo>
                            <a:lnTo>
                              <a:pt x="86" y="12"/>
                            </a:lnTo>
                            <a:lnTo>
                              <a:pt x="90" y="11"/>
                            </a:lnTo>
                            <a:lnTo>
                              <a:pt x="96" y="11"/>
                            </a:lnTo>
                            <a:lnTo>
                              <a:pt x="101" y="11"/>
                            </a:lnTo>
                            <a:lnTo>
                              <a:pt x="107" y="11"/>
                            </a:lnTo>
                            <a:lnTo>
                              <a:pt x="112" y="11"/>
                            </a:lnTo>
                            <a:lnTo>
                              <a:pt x="118" y="11"/>
                            </a:lnTo>
                            <a:lnTo>
                              <a:pt x="122" y="11"/>
                            </a:lnTo>
                            <a:lnTo>
                              <a:pt x="129" y="11"/>
                            </a:lnTo>
                            <a:lnTo>
                              <a:pt x="135" y="11"/>
                            </a:lnTo>
                            <a:lnTo>
                              <a:pt x="139" y="11"/>
                            </a:lnTo>
                            <a:lnTo>
                              <a:pt x="144" y="10"/>
                            </a:lnTo>
                            <a:lnTo>
                              <a:pt x="150" y="10"/>
                            </a:lnTo>
                            <a:lnTo>
                              <a:pt x="155" y="10"/>
                            </a:lnTo>
                            <a:lnTo>
                              <a:pt x="161" y="10"/>
                            </a:lnTo>
                            <a:lnTo>
                              <a:pt x="165" y="10"/>
                            </a:lnTo>
                            <a:lnTo>
                              <a:pt x="171" y="10"/>
                            </a:lnTo>
                            <a:lnTo>
                              <a:pt x="176" y="8"/>
                            </a:lnTo>
                            <a:lnTo>
                              <a:pt x="182" y="8"/>
                            </a:lnTo>
                            <a:lnTo>
                              <a:pt x="187" y="8"/>
                            </a:lnTo>
                            <a:lnTo>
                              <a:pt x="193" y="8"/>
                            </a:lnTo>
                            <a:lnTo>
                              <a:pt x="199" y="8"/>
                            </a:lnTo>
                            <a:lnTo>
                              <a:pt x="204" y="8"/>
                            </a:lnTo>
                            <a:lnTo>
                              <a:pt x="210" y="8"/>
                            </a:lnTo>
                            <a:lnTo>
                              <a:pt x="216" y="8"/>
                            </a:lnTo>
                            <a:lnTo>
                              <a:pt x="219" y="8"/>
                            </a:lnTo>
                            <a:lnTo>
                              <a:pt x="223" y="8"/>
                            </a:lnTo>
                            <a:lnTo>
                              <a:pt x="226" y="8"/>
                            </a:lnTo>
                            <a:lnTo>
                              <a:pt x="230" y="8"/>
                            </a:lnTo>
                            <a:lnTo>
                              <a:pt x="234" y="8"/>
                            </a:lnTo>
                            <a:lnTo>
                              <a:pt x="237" y="8"/>
                            </a:lnTo>
                            <a:lnTo>
                              <a:pt x="242" y="8"/>
                            </a:lnTo>
                            <a:lnTo>
                              <a:pt x="246" y="8"/>
                            </a:lnTo>
                            <a:lnTo>
                              <a:pt x="249" y="8"/>
                            </a:lnTo>
                            <a:lnTo>
                              <a:pt x="254" y="8"/>
                            </a:lnTo>
                            <a:lnTo>
                              <a:pt x="257" y="8"/>
                            </a:lnTo>
                            <a:lnTo>
                              <a:pt x="262" y="8"/>
                            </a:lnTo>
                            <a:lnTo>
                              <a:pt x="265" y="8"/>
                            </a:lnTo>
                            <a:lnTo>
                              <a:pt x="269" y="8"/>
                            </a:lnTo>
                            <a:lnTo>
                              <a:pt x="274" y="8"/>
                            </a:lnTo>
                            <a:lnTo>
                              <a:pt x="279" y="8"/>
                            </a:lnTo>
                            <a:lnTo>
                              <a:pt x="282" y="7"/>
                            </a:lnTo>
                            <a:lnTo>
                              <a:pt x="285" y="4"/>
                            </a:lnTo>
                            <a:lnTo>
                              <a:pt x="288" y="2"/>
                            </a:lnTo>
                            <a:lnTo>
                              <a:pt x="28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3" name="Freeform 233"/>
                      <p:cNvSpPr/>
                      <p:nvPr/>
                    </p:nvSpPr>
                    <p:spPr>
                      <a:xfrm>
                        <a:off x="3184920" y="2989440"/>
                        <a:ext cx="22320" cy="216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160"/>
                          <a:gd name="textAreaBottom" fmla="*/ 2520 h 2160"/>
                        </a:gdLst>
                        <a:ahLst/>
                        <a:rect l="textAreaLeft" t="textAreaTop" r="textAreaRight" b="textAreaBottom"/>
                        <a:pathLst>
                          <a:path w="248" h="25">
                            <a:moveTo>
                              <a:pt x="248" y="25"/>
                            </a:moveTo>
                            <a:lnTo>
                              <a:pt x="244" y="25"/>
                            </a:lnTo>
                            <a:lnTo>
                              <a:pt x="237" y="25"/>
                            </a:lnTo>
                            <a:lnTo>
                              <a:pt x="233" y="23"/>
                            </a:lnTo>
                            <a:lnTo>
                              <a:pt x="227" y="23"/>
                            </a:lnTo>
                            <a:lnTo>
                              <a:pt x="224" y="22"/>
                            </a:lnTo>
                            <a:lnTo>
                              <a:pt x="219" y="22"/>
                            </a:lnTo>
                            <a:lnTo>
                              <a:pt x="216" y="22"/>
                            </a:lnTo>
                            <a:lnTo>
                              <a:pt x="213" y="22"/>
                            </a:lnTo>
                            <a:lnTo>
                              <a:pt x="208" y="21"/>
                            </a:lnTo>
                            <a:lnTo>
                              <a:pt x="205" y="21"/>
                            </a:lnTo>
                            <a:lnTo>
                              <a:pt x="201" y="21"/>
                            </a:lnTo>
                            <a:lnTo>
                              <a:pt x="198" y="21"/>
                            </a:lnTo>
                            <a:lnTo>
                              <a:pt x="193" y="21"/>
                            </a:lnTo>
                            <a:lnTo>
                              <a:pt x="188" y="19"/>
                            </a:lnTo>
                            <a:lnTo>
                              <a:pt x="184" y="19"/>
                            </a:lnTo>
                            <a:lnTo>
                              <a:pt x="179" y="19"/>
                            </a:lnTo>
                            <a:lnTo>
                              <a:pt x="175" y="18"/>
                            </a:lnTo>
                            <a:lnTo>
                              <a:pt x="172" y="18"/>
                            </a:lnTo>
                            <a:lnTo>
                              <a:pt x="166" y="18"/>
                            </a:lnTo>
                            <a:lnTo>
                              <a:pt x="162" y="18"/>
                            </a:lnTo>
                            <a:lnTo>
                              <a:pt x="158" y="16"/>
                            </a:lnTo>
                            <a:lnTo>
                              <a:pt x="153" y="16"/>
                            </a:lnTo>
                            <a:lnTo>
                              <a:pt x="149" y="15"/>
                            </a:lnTo>
                            <a:lnTo>
                              <a:pt x="144" y="15"/>
                            </a:lnTo>
                            <a:lnTo>
                              <a:pt x="138" y="15"/>
                            </a:lnTo>
                            <a:lnTo>
                              <a:pt x="135" y="15"/>
                            </a:lnTo>
                            <a:lnTo>
                              <a:pt x="129" y="15"/>
                            </a:lnTo>
                            <a:lnTo>
                              <a:pt x="124" y="15"/>
                            </a:lnTo>
                            <a:lnTo>
                              <a:pt x="120" y="14"/>
                            </a:lnTo>
                            <a:lnTo>
                              <a:pt x="115" y="14"/>
                            </a:lnTo>
                            <a:lnTo>
                              <a:pt x="110" y="12"/>
                            </a:lnTo>
                            <a:lnTo>
                              <a:pt x="106" y="12"/>
                            </a:lnTo>
                            <a:lnTo>
                              <a:pt x="100" y="12"/>
                            </a:lnTo>
                            <a:lnTo>
                              <a:pt x="97" y="12"/>
                            </a:lnTo>
                            <a:lnTo>
                              <a:pt x="91" y="11"/>
                            </a:lnTo>
                            <a:lnTo>
                              <a:pt x="86" y="11"/>
                            </a:lnTo>
                            <a:lnTo>
                              <a:pt x="81" y="11"/>
                            </a:lnTo>
                            <a:lnTo>
                              <a:pt x="77" y="10"/>
                            </a:lnTo>
                            <a:lnTo>
                              <a:pt x="72" y="10"/>
                            </a:lnTo>
                            <a:lnTo>
                              <a:pt x="68" y="10"/>
                            </a:lnTo>
                            <a:lnTo>
                              <a:pt x="63" y="8"/>
                            </a:lnTo>
                            <a:lnTo>
                              <a:pt x="58" y="8"/>
                            </a:lnTo>
                            <a:lnTo>
                              <a:pt x="55" y="8"/>
                            </a:lnTo>
                            <a:lnTo>
                              <a:pt x="52" y="8"/>
                            </a:lnTo>
                            <a:lnTo>
                              <a:pt x="48" y="8"/>
                            </a:lnTo>
                            <a:lnTo>
                              <a:pt x="43" y="7"/>
                            </a:lnTo>
                            <a:lnTo>
                              <a:pt x="39" y="7"/>
                            </a:lnTo>
                            <a:lnTo>
                              <a:pt x="35" y="7"/>
                            </a:lnTo>
                            <a:lnTo>
                              <a:pt x="32" y="5"/>
                            </a:lnTo>
                            <a:lnTo>
                              <a:pt x="28" y="5"/>
                            </a:lnTo>
                            <a:lnTo>
                              <a:pt x="25" y="5"/>
                            </a:lnTo>
                            <a:lnTo>
                              <a:pt x="22" y="5"/>
                            </a:lnTo>
                            <a:lnTo>
                              <a:pt x="16" y="5"/>
                            </a:lnTo>
                            <a:lnTo>
                              <a:pt x="9" y="5"/>
                            </a:lnTo>
                            <a:lnTo>
                              <a:pt x="5" y="4"/>
                            </a:lnTo>
                            <a:lnTo>
                              <a:pt x="0" y="4"/>
                            </a:lnTo>
                            <a:lnTo>
                              <a:pt x="3" y="4"/>
                            </a:lnTo>
                            <a:lnTo>
                              <a:pt x="8" y="4"/>
                            </a:lnTo>
                            <a:lnTo>
                              <a:pt x="13" y="4"/>
                            </a:lnTo>
                            <a:lnTo>
                              <a:pt x="19" y="4"/>
                            </a:lnTo>
                            <a:lnTo>
                              <a:pt x="20" y="3"/>
                            </a:lnTo>
                            <a:lnTo>
                              <a:pt x="23" y="3"/>
                            </a:lnTo>
                            <a:lnTo>
                              <a:pt x="26" y="3"/>
                            </a:lnTo>
                            <a:lnTo>
                              <a:pt x="31" y="3"/>
                            </a:lnTo>
                            <a:lnTo>
                              <a:pt x="34" y="3"/>
                            </a:lnTo>
                            <a:lnTo>
                              <a:pt x="37" y="3"/>
                            </a:lnTo>
                            <a:lnTo>
                              <a:pt x="42" y="3"/>
                            </a:lnTo>
                            <a:lnTo>
                              <a:pt x="45" y="3"/>
                            </a:lnTo>
                            <a:lnTo>
                              <a:pt x="49" y="3"/>
                            </a:lnTo>
                            <a:lnTo>
                              <a:pt x="52" y="3"/>
                            </a:lnTo>
                            <a:lnTo>
                              <a:pt x="55" y="3"/>
                            </a:lnTo>
                            <a:lnTo>
                              <a:pt x="60" y="3"/>
                            </a:lnTo>
                            <a:lnTo>
                              <a:pt x="63" y="3"/>
                            </a:lnTo>
                            <a:lnTo>
                              <a:pt x="68" y="3"/>
                            </a:lnTo>
                            <a:lnTo>
                              <a:pt x="72" y="3"/>
                            </a:lnTo>
                            <a:lnTo>
                              <a:pt x="77" y="3"/>
                            </a:lnTo>
                            <a:lnTo>
                              <a:pt x="81" y="1"/>
                            </a:lnTo>
                            <a:lnTo>
                              <a:pt x="86" y="1"/>
                            </a:lnTo>
                            <a:lnTo>
                              <a:pt x="91" y="1"/>
                            </a:lnTo>
                            <a:lnTo>
                              <a:pt x="95" y="1"/>
                            </a:lnTo>
                            <a:lnTo>
                              <a:pt x="100" y="1"/>
                            </a:lnTo>
                            <a:lnTo>
                              <a:pt x="104" y="1"/>
                            </a:lnTo>
                            <a:lnTo>
                              <a:pt x="109" y="1"/>
                            </a:lnTo>
                            <a:lnTo>
                              <a:pt x="113" y="1"/>
                            </a:lnTo>
                            <a:lnTo>
                              <a:pt x="118" y="1"/>
                            </a:lnTo>
                            <a:lnTo>
                              <a:pt x="123" y="1"/>
                            </a:lnTo>
                            <a:lnTo>
                              <a:pt x="126" y="1"/>
                            </a:lnTo>
                            <a:lnTo>
                              <a:pt x="132" y="1"/>
                            </a:lnTo>
                            <a:lnTo>
                              <a:pt x="135" y="0"/>
                            </a:lnTo>
                            <a:lnTo>
                              <a:pt x="140" y="0"/>
                            </a:lnTo>
                            <a:lnTo>
                              <a:pt x="144" y="0"/>
                            </a:lnTo>
                            <a:lnTo>
                              <a:pt x="149" y="0"/>
                            </a:lnTo>
                            <a:lnTo>
                              <a:pt x="152" y="0"/>
                            </a:lnTo>
                            <a:lnTo>
                              <a:pt x="156" y="0"/>
                            </a:lnTo>
                            <a:lnTo>
                              <a:pt x="161" y="0"/>
                            </a:lnTo>
                            <a:lnTo>
                              <a:pt x="166" y="0"/>
                            </a:lnTo>
                            <a:lnTo>
                              <a:pt x="169" y="0"/>
                            </a:lnTo>
                            <a:lnTo>
                              <a:pt x="173" y="0"/>
                            </a:lnTo>
                            <a:lnTo>
                              <a:pt x="178" y="0"/>
                            </a:lnTo>
                            <a:lnTo>
                              <a:pt x="182" y="0"/>
                            </a:lnTo>
                            <a:lnTo>
                              <a:pt x="185" y="0"/>
                            </a:lnTo>
                            <a:lnTo>
                              <a:pt x="188" y="0"/>
                            </a:lnTo>
                            <a:lnTo>
                              <a:pt x="192" y="0"/>
                            </a:lnTo>
                            <a:lnTo>
                              <a:pt x="196" y="0"/>
                            </a:lnTo>
                            <a:lnTo>
                              <a:pt x="202" y="0"/>
                            </a:lnTo>
                            <a:lnTo>
                              <a:pt x="208" y="0"/>
                            </a:lnTo>
                            <a:lnTo>
                              <a:pt x="213" y="0"/>
                            </a:lnTo>
                            <a:lnTo>
                              <a:pt x="218" y="1"/>
                            </a:lnTo>
                            <a:lnTo>
                              <a:pt x="221" y="1"/>
                            </a:lnTo>
                            <a:lnTo>
                              <a:pt x="225" y="3"/>
                            </a:lnTo>
                            <a:lnTo>
                              <a:pt x="230" y="3"/>
                            </a:lnTo>
                            <a:lnTo>
                              <a:pt x="233" y="5"/>
                            </a:lnTo>
                            <a:lnTo>
                              <a:pt x="234" y="8"/>
                            </a:lnTo>
                            <a:lnTo>
                              <a:pt x="237" y="12"/>
                            </a:lnTo>
                            <a:lnTo>
                              <a:pt x="239" y="16"/>
                            </a:lnTo>
                            <a:lnTo>
                              <a:pt x="240" y="19"/>
                            </a:lnTo>
                            <a:lnTo>
                              <a:pt x="244" y="22"/>
                            </a:lnTo>
                            <a:lnTo>
                              <a:pt x="248" y="25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4" name="Freeform 234"/>
                      <p:cNvSpPr/>
                      <p:nvPr/>
                    </p:nvSpPr>
                    <p:spPr>
                      <a:xfrm>
                        <a:off x="3141720" y="2991240"/>
                        <a:ext cx="2880" cy="72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35" h="8">
                            <a:moveTo>
                              <a:pt x="8" y="1"/>
                            </a:moveTo>
                            <a:lnTo>
                              <a:pt x="0" y="8"/>
                            </a:lnTo>
                            <a:lnTo>
                              <a:pt x="3" y="7"/>
                            </a:lnTo>
                            <a:lnTo>
                              <a:pt x="6" y="6"/>
                            </a:lnTo>
                            <a:lnTo>
                              <a:pt x="9" y="6"/>
                            </a:lnTo>
                            <a:lnTo>
                              <a:pt x="12" y="6"/>
                            </a:lnTo>
                            <a:lnTo>
                              <a:pt x="18" y="6"/>
                            </a:lnTo>
                            <a:lnTo>
                              <a:pt x="23" y="6"/>
                            </a:lnTo>
                            <a:lnTo>
                              <a:pt x="28" y="6"/>
                            </a:lnTo>
                            <a:lnTo>
                              <a:pt x="32" y="6"/>
                            </a:lnTo>
                            <a:lnTo>
                              <a:pt x="35" y="4"/>
                            </a:lnTo>
                            <a:lnTo>
                              <a:pt x="34" y="3"/>
                            </a:lnTo>
                            <a:lnTo>
                              <a:pt x="31" y="3"/>
                            </a:lnTo>
                            <a:lnTo>
                              <a:pt x="26" y="1"/>
                            </a:ln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11" y="0"/>
                            </a:lnTo>
                            <a:lnTo>
                              <a:pt x="8" y="1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5" name="Freeform 235"/>
                      <p:cNvSpPr/>
                      <p:nvPr/>
                    </p:nvSpPr>
                    <p:spPr>
                      <a:xfrm>
                        <a:off x="3140280" y="2951280"/>
                        <a:ext cx="23760" cy="1440"/>
                      </a:xfrm>
                      <a:custGeom>
                        <a:avLst/>
                        <a:gdLst>
                          <a:gd name="textAreaLeft" fmla="*/ 0 w 23760"/>
                          <a:gd name="textAreaRight" fmla="*/ 24120 w 23760"/>
                          <a:gd name="textAreaTop" fmla="*/ 0 h 1440"/>
                          <a:gd name="textAreaBottom" fmla="*/ 1800 h 1440"/>
                        </a:gdLst>
                        <a:ahLst/>
                        <a:rect l="textAreaLeft" t="textAreaTop" r="textAreaRight" b="textAreaBottom"/>
                        <a:pathLst>
                          <a:path w="264" h="14">
                            <a:moveTo>
                              <a:pt x="255" y="7"/>
                            </a:moveTo>
                            <a:lnTo>
                              <a:pt x="258" y="6"/>
                            </a:lnTo>
                            <a:lnTo>
                              <a:pt x="263" y="4"/>
                            </a:lnTo>
                            <a:lnTo>
                              <a:pt x="264" y="0"/>
                            </a:lnTo>
                            <a:lnTo>
                              <a:pt x="263" y="0"/>
                            </a:lnTo>
                            <a:lnTo>
                              <a:pt x="260" y="0"/>
                            </a:lnTo>
                            <a:lnTo>
                              <a:pt x="255" y="0"/>
                            </a:lnTo>
                            <a:lnTo>
                              <a:pt x="252" y="0"/>
                            </a:lnTo>
                            <a:lnTo>
                              <a:pt x="249" y="0"/>
                            </a:lnTo>
                            <a:lnTo>
                              <a:pt x="243" y="0"/>
                            </a:lnTo>
                            <a:lnTo>
                              <a:pt x="235" y="0"/>
                            </a:lnTo>
                            <a:lnTo>
                              <a:pt x="232" y="0"/>
                            </a:lnTo>
                            <a:lnTo>
                              <a:pt x="229" y="0"/>
                            </a:lnTo>
                            <a:lnTo>
                              <a:pt x="225" y="0"/>
                            </a:lnTo>
                            <a:lnTo>
                              <a:pt x="222" y="0"/>
                            </a:lnTo>
                            <a:lnTo>
                              <a:pt x="215" y="0"/>
                            </a:lnTo>
                            <a:lnTo>
                              <a:pt x="209" y="0"/>
                            </a:lnTo>
                            <a:lnTo>
                              <a:pt x="205" y="0"/>
                            </a:lnTo>
                            <a:lnTo>
                              <a:pt x="202" y="0"/>
                            </a:lnTo>
                            <a:lnTo>
                              <a:pt x="199" y="0"/>
                            </a:lnTo>
                            <a:lnTo>
                              <a:pt x="196" y="0"/>
                            </a:lnTo>
                            <a:lnTo>
                              <a:pt x="188" y="0"/>
                            </a:lnTo>
                            <a:lnTo>
                              <a:pt x="182" y="1"/>
                            </a:lnTo>
                            <a:lnTo>
                              <a:pt x="179" y="1"/>
                            </a:lnTo>
                            <a:lnTo>
                              <a:pt x="174" y="1"/>
                            </a:lnTo>
                            <a:lnTo>
                              <a:pt x="171" y="1"/>
                            </a:lnTo>
                            <a:lnTo>
                              <a:pt x="168" y="1"/>
                            </a:lnTo>
                            <a:lnTo>
                              <a:pt x="162" y="1"/>
                            </a:lnTo>
                            <a:lnTo>
                              <a:pt x="156" y="3"/>
                            </a:lnTo>
                            <a:lnTo>
                              <a:pt x="151" y="3"/>
                            </a:lnTo>
                            <a:lnTo>
                              <a:pt x="148" y="3"/>
                            </a:lnTo>
                            <a:lnTo>
                              <a:pt x="145" y="3"/>
                            </a:lnTo>
                            <a:lnTo>
                              <a:pt x="142" y="3"/>
                            </a:lnTo>
                            <a:lnTo>
                              <a:pt x="137" y="3"/>
                            </a:lnTo>
                            <a:lnTo>
                              <a:pt x="134" y="3"/>
                            </a:lnTo>
                            <a:lnTo>
                              <a:pt x="131" y="3"/>
                            </a:lnTo>
                            <a:lnTo>
                              <a:pt x="128" y="4"/>
                            </a:lnTo>
                            <a:lnTo>
                              <a:pt x="124" y="4"/>
                            </a:lnTo>
                            <a:lnTo>
                              <a:pt x="121" y="4"/>
                            </a:lnTo>
                            <a:lnTo>
                              <a:pt x="118" y="4"/>
                            </a:lnTo>
                            <a:lnTo>
                              <a:pt x="114" y="4"/>
                            </a:lnTo>
                            <a:lnTo>
                              <a:pt x="107" y="4"/>
                            </a:lnTo>
                            <a:lnTo>
                              <a:pt x="101" y="4"/>
                            </a:lnTo>
                            <a:lnTo>
                              <a:pt x="98" y="4"/>
                            </a:lnTo>
                            <a:lnTo>
                              <a:pt x="95" y="4"/>
                            </a:lnTo>
                            <a:lnTo>
                              <a:pt x="90" y="4"/>
                            </a:lnTo>
                            <a:lnTo>
                              <a:pt x="87" y="4"/>
                            </a:lnTo>
                            <a:lnTo>
                              <a:pt x="81" y="6"/>
                            </a:lnTo>
                            <a:lnTo>
                              <a:pt x="75" y="6"/>
                            </a:lnTo>
                            <a:lnTo>
                              <a:pt x="67" y="6"/>
                            </a:lnTo>
                            <a:lnTo>
                              <a:pt x="61" y="6"/>
                            </a:lnTo>
                            <a:lnTo>
                              <a:pt x="53" y="7"/>
                            </a:lnTo>
                            <a:lnTo>
                              <a:pt x="47" y="7"/>
                            </a:lnTo>
                            <a:lnTo>
                              <a:pt x="14" y="11"/>
                            </a:lnTo>
                            <a:lnTo>
                              <a:pt x="3" y="11"/>
                            </a:lnTo>
                            <a:lnTo>
                              <a:pt x="0" y="11"/>
                            </a:lnTo>
                            <a:lnTo>
                              <a:pt x="0" y="14"/>
                            </a:lnTo>
                            <a:lnTo>
                              <a:pt x="0" y="12"/>
                            </a:lnTo>
                            <a:lnTo>
                              <a:pt x="3" y="12"/>
                            </a:lnTo>
                            <a:lnTo>
                              <a:pt x="6" y="12"/>
                            </a:lnTo>
                            <a:lnTo>
                              <a:pt x="10" y="12"/>
                            </a:lnTo>
                            <a:lnTo>
                              <a:pt x="17" y="12"/>
                            </a:lnTo>
                            <a:lnTo>
                              <a:pt x="23" y="12"/>
                            </a:lnTo>
                            <a:lnTo>
                              <a:pt x="27" y="12"/>
                            </a:lnTo>
                            <a:lnTo>
                              <a:pt x="30" y="12"/>
                            </a:lnTo>
                            <a:lnTo>
                              <a:pt x="33" y="12"/>
                            </a:lnTo>
                            <a:lnTo>
                              <a:pt x="40" y="12"/>
                            </a:lnTo>
                            <a:lnTo>
                              <a:pt x="43" y="12"/>
                            </a:lnTo>
                            <a:lnTo>
                              <a:pt x="47" y="12"/>
                            </a:lnTo>
                            <a:lnTo>
                              <a:pt x="52" y="12"/>
                            </a:lnTo>
                            <a:lnTo>
                              <a:pt x="58" y="12"/>
                            </a:lnTo>
                            <a:lnTo>
                              <a:pt x="61" y="11"/>
                            </a:lnTo>
                            <a:lnTo>
                              <a:pt x="67" y="11"/>
                            </a:lnTo>
                            <a:lnTo>
                              <a:pt x="72" y="11"/>
                            </a:lnTo>
                            <a:lnTo>
                              <a:pt x="78" y="11"/>
                            </a:lnTo>
                            <a:lnTo>
                              <a:pt x="82" y="11"/>
                            </a:lnTo>
                            <a:lnTo>
                              <a:pt x="88" y="11"/>
                            </a:lnTo>
                            <a:lnTo>
                              <a:pt x="95" y="11"/>
                            </a:lnTo>
                            <a:lnTo>
                              <a:pt x="99" y="11"/>
                            </a:lnTo>
                            <a:lnTo>
                              <a:pt x="105" y="11"/>
                            </a:lnTo>
                            <a:lnTo>
                              <a:pt x="111" y="11"/>
                            </a:lnTo>
                            <a:lnTo>
                              <a:pt x="118" y="11"/>
                            </a:lnTo>
                            <a:lnTo>
                              <a:pt x="124" y="11"/>
                            </a:lnTo>
                            <a:lnTo>
                              <a:pt x="130" y="10"/>
                            </a:lnTo>
                            <a:lnTo>
                              <a:pt x="134" y="10"/>
                            </a:lnTo>
                            <a:lnTo>
                              <a:pt x="140" y="10"/>
                            </a:lnTo>
                            <a:lnTo>
                              <a:pt x="147" y="10"/>
                            </a:lnTo>
                            <a:lnTo>
                              <a:pt x="151" y="10"/>
                            </a:lnTo>
                            <a:lnTo>
                              <a:pt x="157" y="10"/>
                            </a:lnTo>
                            <a:lnTo>
                              <a:pt x="163" y="10"/>
                            </a:lnTo>
                            <a:lnTo>
                              <a:pt x="168" y="10"/>
                            </a:lnTo>
                            <a:lnTo>
                              <a:pt x="174" y="10"/>
                            </a:lnTo>
                            <a:lnTo>
                              <a:pt x="179" y="10"/>
                            </a:lnTo>
                            <a:lnTo>
                              <a:pt x="185" y="8"/>
                            </a:lnTo>
                            <a:lnTo>
                              <a:pt x="189" y="8"/>
                            </a:lnTo>
                            <a:lnTo>
                              <a:pt x="194" y="8"/>
                            </a:lnTo>
                            <a:lnTo>
                              <a:pt x="200" y="8"/>
                            </a:lnTo>
                            <a:lnTo>
                              <a:pt x="205" y="8"/>
                            </a:lnTo>
                            <a:lnTo>
                              <a:pt x="209" y="8"/>
                            </a:lnTo>
                            <a:lnTo>
                              <a:pt x="214" y="8"/>
                            </a:lnTo>
                            <a:lnTo>
                              <a:pt x="218" y="8"/>
                            </a:lnTo>
                            <a:lnTo>
                              <a:pt x="222" y="8"/>
                            </a:lnTo>
                            <a:lnTo>
                              <a:pt x="226" y="8"/>
                            </a:lnTo>
                            <a:lnTo>
                              <a:pt x="229" y="7"/>
                            </a:lnTo>
                            <a:lnTo>
                              <a:pt x="232" y="7"/>
                            </a:lnTo>
                            <a:lnTo>
                              <a:pt x="235" y="7"/>
                            </a:lnTo>
                            <a:lnTo>
                              <a:pt x="240" y="7"/>
                            </a:lnTo>
                            <a:lnTo>
                              <a:pt x="245" y="7"/>
                            </a:lnTo>
                            <a:lnTo>
                              <a:pt x="249" y="7"/>
                            </a:lnTo>
                            <a:lnTo>
                              <a:pt x="254" y="7"/>
                            </a:lnTo>
                            <a:lnTo>
                              <a:pt x="255" y="7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06" name="Line 236"/>
                    <p:cNvSpPr/>
                    <p:nvPr/>
                  </p:nvSpPr>
                  <p:spPr>
                    <a:xfrm flipH="1">
                      <a:off x="2887200" y="2705400"/>
                      <a:ext cx="81720" cy="14220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Line 237"/>
                    <p:cNvSpPr/>
                    <p:nvPr/>
                  </p:nvSpPr>
                  <p:spPr>
                    <a:xfrm>
                      <a:off x="3062880" y="2705400"/>
                      <a:ext cx="66240" cy="14220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Line 238"/>
                    <p:cNvSpPr/>
                    <p:nvPr/>
                  </p:nvSpPr>
                  <p:spPr>
                    <a:xfrm flipH="1">
                      <a:off x="2906640" y="2932920"/>
                      <a:ext cx="186840" cy="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09" name="Group 239"/>
              <p:cNvGrpSpPr/>
              <p:nvPr/>
            </p:nvGrpSpPr>
            <p:grpSpPr>
              <a:xfrm>
                <a:off x="1923120" y="4033800"/>
                <a:ext cx="1324080" cy="835200"/>
                <a:chOff x="1923120" y="4033800"/>
                <a:chExt cx="1324080" cy="835200"/>
              </a:xfrm>
            </p:grpSpPr>
            <p:sp>
              <p:nvSpPr>
                <p:cNvPr id="910" name="Rectangle 240"/>
                <p:cNvSpPr/>
                <p:nvPr/>
              </p:nvSpPr>
              <p:spPr>
                <a:xfrm>
                  <a:off x="1923120" y="4531680"/>
                  <a:ext cx="1324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Regulators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Group 241"/>
                <p:cNvGrpSpPr/>
                <p:nvPr/>
              </p:nvGrpSpPr>
              <p:grpSpPr>
                <a:xfrm>
                  <a:off x="2343600" y="4033800"/>
                  <a:ext cx="467280" cy="516960"/>
                  <a:chOff x="2343600" y="4033800"/>
                  <a:chExt cx="467280" cy="516960"/>
                </a:xfrm>
              </p:grpSpPr>
              <p:sp>
                <p:nvSpPr>
                  <p:cNvPr id="912" name="AutoShape 242"/>
                  <p:cNvSpPr/>
                  <p:nvPr/>
                </p:nvSpPr>
                <p:spPr>
                  <a:xfrm>
                    <a:off x="2343600" y="4033800"/>
                    <a:ext cx="467280" cy="516960"/>
                  </a:xfrm>
                  <a:custGeom>
                    <a:avLst/>
                    <a:gdLst>
                      <a:gd name="textAreaLeft" fmla="*/ 22680 w 467280"/>
                      <a:gd name="textAreaRight" fmla="*/ 444600 w 467280"/>
                      <a:gd name="textAreaTop" fmla="*/ 22680 h 516960"/>
                      <a:gd name="textAreaBottom" fmla="*/ 494280 h 516960"/>
                    </a:gdLst>
                    <a:ahLst/>
                    <a:rect l="textAreaLeft" t="textAreaTop" r="textAreaRight" b="textAreaBottom"/>
                    <a:pathLst>
                      <a:path w="21600" h="2389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0295"/>
                        </a:lnTo>
                        <a:arcTo wR="3600" hR="3600" stAng="10800000" swAng="-5400000"/>
                        <a:lnTo>
                          <a:pt x="18000" y="2389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969696">
                      <a:alpha val="4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3" name="Group 243"/>
                  <p:cNvGrpSpPr/>
                  <p:nvPr/>
                </p:nvGrpSpPr>
                <p:grpSpPr>
                  <a:xfrm>
                    <a:off x="2374560" y="4110480"/>
                    <a:ext cx="399960" cy="353160"/>
                    <a:chOff x="2374560" y="4110480"/>
                    <a:chExt cx="399960" cy="353160"/>
                  </a:xfrm>
                </p:grpSpPr>
                <p:sp>
                  <p:nvSpPr>
                    <p:cNvPr id="914" name="Freeform 244"/>
                    <p:cNvSpPr/>
                    <p:nvPr/>
                  </p:nvSpPr>
                  <p:spPr>
                    <a:xfrm>
                      <a:off x="2585520" y="4269240"/>
                      <a:ext cx="182160" cy="68040"/>
                    </a:xfrm>
                    <a:custGeom>
                      <a:avLst/>
                      <a:gdLst>
                        <a:gd name="textAreaLeft" fmla="*/ 0 w 182160"/>
                        <a:gd name="textAreaRight" fmla="*/ 182520 w 182160"/>
                        <a:gd name="textAreaTop" fmla="*/ 0 h 68040"/>
                        <a:gd name="textAreaBottom" fmla="*/ 68400 h 68040"/>
                      </a:gdLst>
                      <a:ahLst/>
                      <a:rect l="textAreaLeft" t="textAreaTop" r="textAreaRight" b="textAreaBottom"/>
                      <a:pathLst>
                        <a:path w="191" h="45">
                          <a:moveTo>
                            <a:pt x="31" y="40"/>
                          </a:moveTo>
                          <a:lnTo>
                            <a:pt x="28" y="39"/>
                          </a:lnTo>
                          <a:lnTo>
                            <a:pt x="24" y="37"/>
                          </a:lnTo>
                          <a:lnTo>
                            <a:pt x="19" y="35"/>
                          </a:lnTo>
                          <a:lnTo>
                            <a:pt x="13" y="32"/>
                          </a:lnTo>
                          <a:lnTo>
                            <a:pt x="8" y="29"/>
                          </a:lnTo>
                          <a:lnTo>
                            <a:pt x="3" y="26"/>
                          </a:lnTo>
                          <a:lnTo>
                            <a:pt x="0" y="24"/>
                          </a:lnTo>
                          <a:lnTo>
                            <a:pt x="0" y="22"/>
                          </a:lnTo>
                          <a:lnTo>
                            <a:pt x="2" y="22"/>
                          </a:lnTo>
                          <a:lnTo>
                            <a:pt x="4" y="23"/>
                          </a:lnTo>
                          <a:lnTo>
                            <a:pt x="7" y="24"/>
                          </a:lnTo>
                          <a:lnTo>
                            <a:pt x="11" y="25"/>
                          </a:lnTo>
                          <a:lnTo>
                            <a:pt x="15" y="26"/>
                          </a:lnTo>
                          <a:lnTo>
                            <a:pt x="19" y="27"/>
                          </a:lnTo>
                          <a:lnTo>
                            <a:pt x="24" y="28"/>
                          </a:lnTo>
                          <a:lnTo>
                            <a:pt x="29" y="29"/>
                          </a:lnTo>
                          <a:lnTo>
                            <a:pt x="34" y="30"/>
                          </a:lnTo>
                          <a:lnTo>
                            <a:pt x="40" y="31"/>
                          </a:lnTo>
                          <a:lnTo>
                            <a:pt x="46" y="32"/>
                          </a:lnTo>
                          <a:lnTo>
                            <a:pt x="52" y="33"/>
                          </a:lnTo>
                          <a:lnTo>
                            <a:pt x="59" y="34"/>
                          </a:lnTo>
                          <a:lnTo>
                            <a:pt x="66" y="34"/>
                          </a:lnTo>
                          <a:lnTo>
                            <a:pt x="73" y="35"/>
                          </a:lnTo>
                          <a:lnTo>
                            <a:pt x="80" y="35"/>
                          </a:lnTo>
                          <a:lnTo>
                            <a:pt x="87" y="35"/>
                          </a:lnTo>
                          <a:lnTo>
                            <a:pt x="94" y="35"/>
                          </a:lnTo>
                          <a:lnTo>
                            <a:pt x="101" y="35"/>
                          </a:lnTo>
                          <a:lnTo>
                            <a:pt x="109" y="34"/>
                          </a:lnTo>
                          <a:lnTo>
                            <a:pt x="116" y="33"/>
                          </a:lnTo>
                          <a:lnTo>
                            <a:pt x="123" y="32"/>
                          </a:lnTo>
                          <a:lnTo>
                            <a:pt x="130" y="31"/>
                          </a:lnTo>
                          <a:lnTo>
                            <a:pt x="138" y="29"/>
                          </a:lnTo>
                          <a:lnTo>
                            <a:pt x="144" y="27"/>
                          </a:lnTo>
                          <a:lnTo>
                            <a:pt x="151" y="24"/>
                          </a:lnTo>
                          <a:lnTo>
                            <a:pt x="158" y="21"/>
                          </a:lnTo>
                          <a:lnTo>
                            <a:pt x="164" y="18"/>
                          </a:lnTo>
                          <a:lnTo>
                            <a:pt x="171" y="14"/>
                          </a:lnTo>
                          <a:lnTo>
                            <a:pt x="177" y="10"/>
                          </a:lnTo>
                          <a:lnTo>
                            <a:pt x="182" y="5"/>
                          </a:lnTo>
                          <a:lnTo>
                            <a:pt x="188" y="0"/>
                          </a:lnTo>
                          <a:lnTo>
                            <a:pt x="188" y="1"/>
                          </a:lnTo>
                          <a:lnTo>
                            <a:pt x="189" y="1"/>
                          </a:lnTo>
                          <a:lnTo>
                            <a:pt x="190" y="2"/>
                          </a:lnTo>
                          <a:lnTo>
                            <a:pt x="191" y="2"/>
                          </a:lnTo>
                          <a:lnTo>
                            <a:pt x="188" y="7"/>
                          </a:lnTo>
                          <a:lnTo>
                            <a:pt x="185" y="11"/>
                          </a:lnTo>
                          <a:lnTo>
                            <a:pt x="181" y="14"/>
                          </a:lnTo>
                          <a:lnTo>
                            <a:pt x="177" y="18"/>
                          </a:lnTo>
                          <a:lnTo>
                            <a:pt x="173" y="21"/>
                          </a:lnTo>
                          <a:lnTo>
                            <a:pt x="168" y="24"/>
                          </a:lnTo>
                          <a:lnTo>
                            <a:pt x="163" y="27"/>
                          </a:lnTo>
                          <a:lnTo>
                            <a:pt x="157" y="30"/>
                          </a:lnTo>
                          <a:lnTo>
                            <a:pt x="151" y="32"/>
                          </a:lnTo>
                          <a:lnTo>
                            <a:pt x="145" y="34"/>
                          </a:lnTo>
                          <a:lnTo>
                            <a:pt x="139" y="36"/>
                          </a:lnTo>
                          <a:lnTo>
                            <a:pt x="133" y="37"/>
                          </a:lnTo>
                          <a:lnTo>
                            <a:pt x="127" y="39"/>
                          </a:lnTo>
                          <a:lnTo>
                            <a:pt x="120" y="40"/>
                          </a:lnTo>
                          <a:lnTo>
                            <a:pt x="114" y="41"/>
                          </a:lnTo>
                          <a:lnTo>
                            <a:pt x="107" y="42"/>
                          </a:lnTo>
                          <a:lnTo>
                            <a:pt x="101" y="43"/>
                          </a:lnTo>
                          <a:lnTo>
                            <a:pt x="95" y="44"/>
                          </a:lnTo>
                          <a:lnTo>
                            <a:pt x="88" y="44"/>
                          </a:lnTo>
                          <a:lnTo>
                            <a:pt x="82" y="44"/>
                          </a:lnTo>
                          <a:lnTo>
                            <a:pt x="76" y="44"/>
                          </a:lnTo>
                          <a:lnTo>
                            <a:pt x="70" y="45"/>
                          </a:lnTo>
                          <a:lnTo>
                            <a:pt x="65" y="44"/>
                          </a:lnTo>
                          <a:lnTo>
                            <a:pt x="59" y="44"/>
                          </a:lnTo>
                          <a:lnTo>
                            <a:pt x="54" y="44"/>
                          </a:lnTo>
                          <a:lnTo>
                            <a:pt x="50" y="44"/>
                          </a:lnTo>
                          <a:lnTo>
                            <a:pt x="46" y="43"/>
                          </a:lnTo>
                          <a:lnTo>
                            <a:pt x="41" y="43"/>
                          </a:lnTo>
                          <a:lnTo>
                            <a:pt x="38" y="42"/>
                          </a:lnTo>
                          <a:lnTo>
                            <a:pt x="35" y="41"/>
                          </a:lnTo>
                          <a:lnTo>
                            <a:pt x="32" y="41"/>
                          </a:lnTo>
                          <a:lnTo>
                            <a:pt x="31" y="4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Freeform 245"/>
                    <p:cNvSpPr/>
                    <p:nvPr/>
                  </p:nvSpPr>
                  <p:spPr>
                    <a:xfrm>
                      <a:off x="2566440" y="4110480"/>
                      <a:ext cx="208080" cy="168120"/>
                    </a:xfrm>
                    <a:custGeom>
                      <a:avLst/>
                      <a:gdLst>
                        <a:gd name="textAreaLeft" fmla="*/ 0 w 208080"/>
                        <a:gd name="textAreaRight" fmla="*/ 208440 w 208080"/>
                        <a:gd name="textAreaTop" fmla="*/ 0 h 168120"/>
                        <a:gd name="textAreaBottom" fmla="*/ 168120 h 168120"/>
                      </a:gdLst>
                      <a:ahLst/>
                      <a:rect l="textAreaLeft" t="textAreaTop" r="textAreaRight" b="textAreaBottom"/>
                      <a:pathLst>
                        <a:path w="218" h="108">
                          <a:moveTo>
                            <a:pt x="24" y="94"/>
                          </a:moveTo>
                          <a:lnTo>
                            <a:pt x="19" y="91"/>
                          </a:lnTo>
                          <a:lnTo>
                            <a:pt x="14" y="88"/>
                          </a:lnTo>
                          <a:lnTo>
                            <a:pt x="11" y="85"/>
                          </a:lnTo>
                          <a:lnTo>
                            <a:pt x="9" y="81"/>
                          </a:lnTo>
                          <a:lnTo>
                            <a:pt x="7" y="77"/>
                          </a:lnTo>
                          <a:lnTo>
                            <a:pt x="6" y="73"/>
                          </a:lnTo>
                          <a:lnTo>
                            <a:pt x="5" y="68"/>
                          </a:lnTo>
                          <a:lnTo>
                            <a:pt x="4" y="62"/>
                          </a:lnTo>
                          <a:lnTo>
                            <a:pt x="6" y="67"/>
                          </a:lnTo>
                          <a:lnTo>
                            <a:pt x="7" y="70"/>
                          </a:lnTo>
                          <a:lnTo>
                            <a:pt x="9" y="73"/>
                          </a:lnTo>
                          <a:lnTo>
                            <a:pt x="11" y="76"/>
                          </a:lnTo>
                          <a:lnTo>
                            <a:pt x="13" y="78"/>
                          </a:lnTo>
                          <a:lnTo>
                            <a:pt x="16" y="79"/>
                          </a:lnTo>
                          <a:lnTo>
                            <a:pt x="19" y="81"/>
                          </a:lnTo>
                          <a:lnTo>
                            <a:pt x="21" y="83"/>
                          </a:lnTo>
                          <a:lnTo>
                            <a:pt x="30" y="87"/>
                          </a:lnTo>
                          <a:lnTo>
                            <a:pt x="40" y="89"/>
                          </a:lnTo>
                          <a:lnTo>
                            <a:pt x="49" y="91"/>
                          </a:lnTo>
                          <a:lnTo>
                            <a:pt x="58" y="93"/>
                          </a:lnTo>
                          <a:lnTo>
                            <a:pt x="68" y="94"/>
                          </a:lnTo>
                          <a:lnTo>
                            <a:pt x="78" y="95"/>
                          </a:lnTo>
                          <a:lnTo>
                            <a:pt x="87" y="95"/>
                          </a:lnTo>
                          <a:lnTo>
                            <a:pt x="96" y="94"/>
                          </a:lnTo>
                          <a:lnTo>
                            <a:pt x="105" y="94"/>
                          </a:lnTo>
                          <a:lnTo>
                            <a:pt x="114" y="93"/>
                          </a:lnTo>
                          <a:lnTo>
                            <a:pt x="123" y="92"/>
                          </a:lnTo>
                          <a:lnTo>
                            <a:pt x="132" y="91"/>
                          </a:lnTo>
                          <a:lnTo>
                            <a:pt x="140" y="89"/>
                          </a:lnTo>
                          <a:lnTo>
                            <a:pt x="147" y="87"/>
                          </a:lnTo>
                          <a:lnTo>
                            <a:pt x="154" y="86"/>
                          </a:lnTo>
                          <a:lnTo>
                            <a:pt x="161" y="84"/>
                          </a:lnTo>
                          <a:lnTo>
                            <a:pt x="171" y="80"/>
                          </a:lnTo>
                          <a:lnTo>
                            <a:pt x="181" y="75"/>
                          </a:lnTo>
                          <a:lnTo>
                            <a:pt x="188" y="71"/>
                          </a:lnTo>
                          <a:lnTo>
                            <a:pt x="195" y="66"/>
                          </a:lnTo>
                          <a:lnTo>
                            <a:pt x="200" y="61"/>
                          </a:lnTo>
                          <a:lnTo>
                            <a:pt x="203" y="56"/>
                          </a:lnTo>
                          <a:lnTo>
                            <a:pt x="205" y="50"/>
                          </a:lnTo>
                          <a:lnTo>
                            <a:pt x="205" y="45"/>
                          </a:lnTo>
                          <a:lnTo>
                            <a:pt x="204" y="40"/>
                          </a:lnTo>
                          <a:lnTo>
                            <a:pt x="202" y="35"/>
                          </a:lnTo>
                          <a:lnTo>
                            <a:pt x="198" y="30"/>
                          </a:lnTo>
                          <a:lnTo>
                            <a:pt x="192" y="26"/>
                          </a:lnTo>
                          <a:lnTo>
                            <a:pt x="185" y="21"/>
                          </a:lnTo>
                          <a:lnTo>
                            <a:pt x="176" y="17"/>
                          </a:lnTo>
                          <a:lnTo>
                            <a:pt x="166" y="13"/>
                          </a:lnTo>
                          <a:lnTo>
                            <a:pt x="154" y="10"/>
                          </a:lnTo>
                          <a:lnTo>
                            <a:pt x="144" y="10"/>
                          </a:lnTo>
                          <a:lnTo>
                            <a:pt x="135" y="10"/>
                          </a:lnTo>
                          <a:lnTo>
                            <a:pt x="126" y="10"/>
                          </a:lnTo>
                          <a:lnTo>
                            <a:pt x="116" y="10"/>
                          </a:lnTo>
                          <a:lnTo>
                            <a:pt x="107" y="10"/>
                          </a:lnTo>
                          <a:lnTo>
                            <a:pt x="98" y="10"/>
                          </a:lnTo>
                          <a:lnTo>
                            <a:pt x="89" y="11"/>
                          </a:lnTo>
                          <a:lnTo>
                            <a:pt x="81" y="12"/>
                          </a:lnTo>
                          <a:lnTo>
                            <a:pt x="72" y="14"/>
                          </a:lnTo>
                          <a:lnTo>
                            <a:pt x="63" y="16"/>
                          </a:lnTo>
                          <a:lnTo>
                            <a:pt x="55" y="18"/>
                          </a:lnTo>
                          <a:lnTo>
                            <a:pt x="47" y="22"/>
                          </a:lnTo>
                          <a:lnTo>
                            <a:pt x="38" y="25"/>
                          </a:lnTo>
                          <a:lnTo>
                            <a:pt x="30" y="30"/>
                          </a:lnTo>
                          <a:lnTo>
                            <a:pt x="22" y="35"/>
                          </a:lnTo>
                          <a:lnTo>
                            <a:pt x="14" y="41"/>
                          </a:lnTo>
                          <a:lnTo>
                            <a:pt x="13" y="42"/>
                          </a:lnTo>
                          <a:lnTo>
                            <a:pt x="11" y="43"/>
                          </a:lnTo>
                          <a:lnTo>
                            <a:pt x="9" y="44"/>
                          </a:lnTo>
                          <a:lnTo>
                            <a:pt x="6" y="46"/>
                          </a:lnTo>
                          <a:lnTo>
                            <a:pt x="4" y="47"/>
                          </a:lnTo>
                          <a:lnTo>
                            <a:pt x="2" y="48"/>
                          </a:lnTo>
                          <a:lnTo>
                            <a:pt x="1" y="49"/>
                          </a:lnTo>
                          <a:lnTo>
                            <a:pt x="0" y="49"/>
                          </a:lnTo>
                          <a:lnTo>
                            <a:pt x="4" y="43"/>
                          </a:lnTo>
                          <a:lnTo>
                            <a:pt x="9" y="36"/>
                          </a:lnTo>
                          <a:lnTo>
                            <a:pt x="15" y="31"/>
                          </a:lnTo>
                          <a:lnTo>
                            <a:pt x="22" y="25"/>
                          </a:lnTo>
                          <a:lnTo>
                            <a:pt x="30" y="21"/>
                          </a:lnTo>
                          <a:lnTo>
                            <a:pt x="39" y="16"/>
                          </a:lnTo>
                          <a:lnTo>
                            <a:pt x="48" y="13"/>
                          </a:lnTo>
                          <a:lnTo>
                            <a:pt x="58" y="10"/>
                          </a:lnTo>
                          <a:lnTo>
                            <a:pt x="68" y="7"/>
                          </a:lnTo>
                          <a:lnTo>
                            <a:pt x="78" y="4"/>
                          </a:lnTo>
                          <a:lnTo>
                            <a:pt x="88" y="2"/>
                          </a:lnTo>
                          <a:lnTo>
                            <a:pt x="98" y="1"/>
                          </a:lnTo>
                          <a:lnTo>
                            <a:pt x="108" y="0"/>
                          </a:lnTo>
                          <a:lnTo>
                            <a:pt x="117" y="0"/>
                          </a:lnTo>
                          <a:lnTo>
                            <a:pt x="126" y="0"/>
                          </a:lnTo>
                          <a:lnTo>
                            <a:pt x="135" y="0"/>
                          </a:lnTo>
                          <a:lnTo>
                            <a:pt x="144" y="0"/>
                          </a:lnTo>
                          <a:lnTo>
                            <a:pt x="153" y="2"/>
                          </a:lnTo>
                          <a:lnTo>
                            <a:pt x="162" y="3"/>
                          </a:lnTo>
                          <a:lnTo>
                            <a:pt x="170" y="5"/>
                          </a:lnTo>
                          <a:lnTo>
                            <a:pt x="177" y="8"/>
                          </a:lnTo>
                          <a:lnTo>
                            <a:pt x="183" y="11"/>
                          </a:lnTo>
                          <a:lnTo>
                            <a:pt x="189" y="14"/>
                          </a:lnTo>
                          <a:lnTo>
                            <a:pt x="195" y="17"/>
                          </a:lnTo>
                          <a:lnTo>
                            <a:pt x="199" y="20"/>
                          </a:lnTo>
                          <a:lnTo>
                            <a:pt x="204" y="24"/>
                          </a:lnTo>
                          <a:lnTo>
                            <a:pt x="207" y="27"/>
                          </a:lnTo>
                          <a:lnTo>
                            <a:pt x="210" y="30"/>
                          </a:lnTo>
                          <a:lnTo>
                            <a:pt x="213" y="33"/>
                          </a:lnTo>
                          <a:lnTo>
                            <a:pt x="215" y="36"/>
                          </a:lnTo>
                          <a:lnTo>
                            <a:pt x="217" y="39"/>
                          </a:lnTo>
                          <a:lnTo>
                            <a:pt x="218" y="41"/>
                          </a:lnTo>
                          <a:lnTo>
                            <a:pt x="218" y="52"/>
                          </a:lnTo>
                          <a:lnTo>
                            <a:pt x="218" y="68"/>
                          </a:lnTo>
                          <a:lnTo>
                            <a:pt x="217" y="84"/>
                          </a:lnTo>
                          <a:lnTo>
                            <a:pt x="213" y="98"/>
                          </a:lnTo>
                          <a:lnTo>
                            <a:pt x="210" y="90"/>
                          </a:lnTo>
                          <a:lnTo>
                            <a:pt x="209" y="81"/>
                          </a:lnTo>
                          <a:lnTo>
                            <a:pt x="208" y="74"/>
                          </a:lnTo>
                          <a:lnTo>
                            <a:pt x="208" y="68"/>
                          </a:lnTo>
                          <a:lnTo>
                            <a:pt x="206" y="71"/>
                          </a:lnTo>
                          <a:lnTo>
                            <a:pt x="203" y="74"/>
                          </a:lnTo>
                          <a:lnTo>
                            <a:pt x="200" y="77"/>
                          </a:lnTo>
                          <a:lnTo>
                            <a:pt x="196" y="80"/>
                          </a:lnTo>
                          <a:lnTo>
                            <a:pt x="192" y="83"/>
                          </a:lnTo>
                          <a:lnTo>
                            <a:pt x="187" y="86"/>
                          </a:lnTo>
                          <a:lnTo>
                            <a:pt x="183" y="88"/>
                          </a:lnTo>
                          <a:lnTo>
                            <a:pt x="177" y="91"/>
                          </a:lnTo>
                          <a:lnTo>
                            <a:pt x="171" y="93"/>
                          </a:lnTo>
                          <a:lnTo>
                            <a:pt x="166" y="95"/>
                          </a:lnTo>
                          <a:lnTo>
                            <a:pt x="159" y="97"/>
                          </a:lnTo>
                          <a:lnTo>
                            <a:pt x="153" y="99"/>
                          </a:lnTo>
                          <a:lnTo>
                            <a:pt x="146" y="101"/>
                          </a:lnTo>
                          <a:lnTo>
                            <a:pt x="139" y="102"/>
                          </a:lnTo>
                          <a:lnTo>
                            <a:pt x="132" y="104"/>
                          </a:lnTo>
                          <a:lnTo>
                            <a:pt x="125" y="105"/>
                          </a:lnTo>
                          <a:lnTo>
                            <a:pt x="118" y="106"/>
                          </a:lnTo>
                          <a:lnTo>
                            <a:pt x="110" y="107"/>
                          </a:lnTo>
                          <a:lnTo>
                            <a:pt x="103" y="107"/>
                          </a:lnTo>
                          <a:lnTo>
                            <a:pt x="96" y="108"/>
                          </a:lnTo>
                          <a:lnTo>
                            <a:pt x="89" y="108"/>
                          </a:lnTo>
                          <a:lnTo>
                            <a:pt x="82" y="108"/>
                          </a:lnTo>
                          <a:lnTo>
                            <a:pt x="75" y="108"/>
                          </a:lnTo>
                          <a:lnTo>
                            <a:pt x="68" y="107"/>
                          </a:lnTo>
                          <a:lnTo>
                            <a:pt x="61" y="107"/>
                          </a:lnTo>
                          <a:lnTo>
                            <a:pt x="55" y="105"/>
                          </a:lnTo>
                          <a:lnTo>
                            <a:pt x="49" y="104"/>
                          </a:lnTo>
                          <a:lnTo>
                            <a:pt x="43" y="103"/>
                          </a:lnTo>
                          <a:lnTo>
                            <a:pt x="38" y="101"/>
                          </a:lnTo>
                          <a:lnTo>
                            <a:pt x="33" y="99"/>
                          </a:lnTo>
                          <a:lnTo>
                            <a:pt x="28" y="97"/>
                          </a:lnTo>
                          <a:lnTo>
                            <a:pt x="24" y="9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6" name="Group 246"/>
                    <p:cNvGrpSpPr/>
                    <p:nvPr/>
                  </p:nvGrpSpPr>
                  <p:grpSpPr>
                    <a:xfrm>
                      <a:off x="2374560" y="4272840"/>
                      <a:ext cx="219600" cy="190800"/>
                      <a:chOff x="2374560" y="4272840"/>
                      <a:chExt cx="219600" cy="190800"/>
                    </a:xfrm>
                  </p:grpSpPr>
                  <p:sp>
                    <p:nvSpPr>
                      <p:cNvPr id="917" name="Freeform 247"/>
                      <p:cNvSpPr/>
                      <p:nvPr/>
                    </p:nvSpPr>
                    <p:spPr>
                      <a:xfrm>
                        <a:off x="2467080" y="4272840"/>
                        <a:ext cx="127080" cy="140040"/>
                      </a:xfrm>
                      <a:custGeom>
                        <a:avLst/>
                        <a:gdLst>
                          <a:gd name="textAreaLeft" fmla="*/ 0 w 127080"/>
                          <a:gd name="textAreaRight" fmla="*/ 127440 w 127080"/>
                          <a:gd name="textAreaTop" fmla="*/ 0 h 140040"/>
                          <a:gd name="textAreaBottom" fmla="*/ 140400 h 140040"/>
                        </a:gdLst>
                        <a:ahLst/>
                        <a:rect l="textAreaLeft" t="textAreaTop" r="textAreaRight" b="textAreaBottom"/>
                        <a:pathLst>
                          <a:path w="133" h="90">
                            <a:moveTo>
                              <a:pt x="0" y="79"/>
                            </a:moveTo>
                            <a:lnTo>
                              <a:pt x="0" y="90"/>
                            </a:lnTo>
                            <a:lnTo>
                              <a:pt x="7" y="86"/>
                            </a:lnTo>
                            <a:lnTo>
                              <a:pt x="15" y="82"/>
                            </a:lnTo>
                            <a:lnTo>
                              <a:pt x="23" y="79"/>
                            </a:lnTo>
                            <a:lnTo>
                              <a:pt x="30" y="75"/>
                            </a:lnTo>
                            <a:lnTo>
                              <a:pt x="38" y="71"/>
                            </a:lnTo>
                            <a:lnTo>
                              <a:pt x="46" y="66"/>
                            </a:lnTo>
                            <a:lnTo>
                              <a:pt x="54" y="62"/>
                            </a:lnTo>
                            <a:lnTo>
                              <a:pt x="61" y="58"/>
                            </a:lnTo>
                            <a:lnTo>
                              <a:pt x="69" y="54"/>
                            </a:lnTo>
                            <a:lnTo>
                              <a:pt x="77" y="50"/>
                            </a:lnTo>
                            <a:lnTo>
                              <a:pt x="84" y="45"/>
                            </a:lnTo>
                            <a:lnTo>
                              <a:pt x="91" y="41"/>
                            </a:lnTo>
                            <a:lnTo>
                              <a:pt x="98" y="37"/>
                            </a:lnTo>
                            <a:lnTo>
                              <a:pt x="105" y="32"/>
                            </a:lnTo>
                            <a:lnTo>
                              <a:pt x="112" y="28"/>
                            </a:lnTo>
                            <a:lnTo>
                              <a:pt x="118" y="23"/>
                            </a:lnTo>
                            <a:lnTo>
                              <a:pt x="119" y="22"/>
                            </a:lnTo>
                            <a:lnTo>
                              <a:pt x="120" y="20"/>
                            </a:lnTo>
                            <a:lnTo>
                              <a:pt x="121" y="18"/>
                            </a:lnTo>
                            <a:lnTo>
                              <a:pt x="121" y="17"/>
                            </a:lnTo>
                            <a:lnTo>
                              <a:pt x="132" y="11"/>
                            </a:lnTo>
                            <a:lnTo>
                              <a:pt x="133" y="8"/>
                            </a:lnTo>
                            <a:lnTo>
                              <a:pt x="133" y="6"/>
                            </a:lnTo>
                            <a:lnTo>
                              <a:pt x="133" y="3"/>
                            </a:lnTo>
                            <a:lnTo>
                              <a:pt x="132" y="2"/>
                            </a:lnTo>
                            <a:lnTo>
                              <a:pt x="130" y="0"/>
                            </a:lnTo>
                            <a:lnTo>
                              <a:pt x="128" y="0"/>
                            </a:lnTo>
                            <a:lnTo>
                              <a:pt x="126" y="0"/>
                            </a:lnTo>
                            <a:lnTo>
                              <a:pt x="124" y="0"/>
                            </a:lnTo>
                            <a:lnTo>
                              <a:pt x="122" y="1"/>
                            </a:lnTo>
                            <a:lnTo>
                              <a:pt x="121" y="2"/>
                            </a:lnTo>
                            <a:lnTo>
                              <a:pt x="119" y="2"/>
                            </a:lnTo>
                            <a:lnTo>
                              <a:pt x="118" y="3"/>
                            </a:lnTo>
                            <a:lnTo>
                              <a:pt x="117" y="3"/>
                            </a:lnTo>
                            <a:lnTo>
                              <a:pt x="116" y="3"/>
                            </a:lnTo>
                            <a:lnTo>
                              <a:pt x="115" y="4"/>
                            </a:lnTo>
                            <a:lnTo>
                              <a:pt x="114" y="4"/>
                            </a:lnTo>
                            <a:lnTo>
                              <a:pt x="113" y="4"/>
                            </a:lnTo>
                            <a:lnTo>
                              <a:pt x="112" y="4"/>
                            </a:lnTo>
                            <a:lnTo>
                              <a:pt x="111" y="4"/>
                            </a:lnTo>
                            <a:lnTo>
                              <a:pt x="109" y="3"/>
                            </a:lnTo>
                            <a:lnTo>
                              <a:pt x="108" y="3"/>
                            </a:lnTo>
                            <a:lnTo>
                              <a:pt x="107" y="3"/>
                            </a:lnTo>
                            <a:lnTo>
                              <a:pt x="101" y="5"/>
                            </a:lnTo>
                            <a:lnTo>
                              <a:pt x="96" y="7"/>
                            </a:lnTo>
                            <a:lnTo>
                              <a:pt x="90" y="8"/>
                            </a:lnTo>
                            <a:lnTo>
                              <a:pt x="83" y="11"/>
                            </a:lnTo>
                            <a:lnTo>
                              <a:pt x="77" y="13"/>
                            </a:lnTo>
                            <a:lnTo>
                              <a:pt x="71" y="15"/>
                            </a:lnTo>
                            <a:lnTo>
                              <a:pt x="64" y="17"/>
                            </a:lnTo>
                            <a:lnTo>
                              <a:pt x="57" y="19"/>
                            </a:lnTo>
                            <a:lnTo>
                              <a:pt x="50" y="22"/>
                            </a:lnTo>
                            <a:lnTo>
                              <a:pt x="43" y="24"/>
                            </a:lnTo>
                            <a:lnTo>
                              <a:pt x="36" y="27"/>
                            </a:lnTo>
                            <a:lnTo>
                              <a:pt x="29" y="30"/>
                            </a:lnTo>
                            <a:lnTo>
                              <a:pt x="21" y="32"/>
                            </a:lnTo>
                            <a:lnTo>
                              <a:pt x="14" y="35"/>
                            </a:lnTo>
                            <a:lnTo>
                              <a:pt x="7" y="37"/>
                            </a:lnTo>
                            <a:lnTo>
                              <a:pt x="0" y="40"/>
                            </a:lnTo>
                            <a:lnTo>
                              <a:pt x="0" y="52"/>
                            </a:lnTo>
                            <a:lnTo>
                              <a:pt x="87" y="17"/>
                            </a:lnTo>
                            <a:lnTo>
                              <a:pt x="85" y="18"/>
                            </a:lnTo>
                            <a:lnTo>
                              <a:pt x="83" y="19"/>
                            </a:lnTo>
                            <a:lnTo>
                              <a:pt x="79" y="21"/>
                            </a:lnTo>
                            <a:lnTo>
                              <a:pt x="75" y="23"/>
                            </a:lnTo>
                            <a:lnTo>
                              <a:pt x="70" y="25"/>
                            </a:lnTo>
                            <a:lnTo>
                              <a:pt x="65" y="28"/>
                            </a:lnTo>
                            <a:lnTo>
                              <a:pt x="60" y="30"/>
                            </a:lnTo>
                            <a:lnTo>
                              <a:pt x="54" y="33"/>
                            </a:lnTo>
                            <a:lnTo>
                              <a:pt x="48" y="36"/>
                            </a:lnTo>
                            <a:lnTo>
                              <a:pt x="41" y="39"/>
                            </a:lnTo>
                            <a:lnTo>
                              <a:pt x="34" y="43"/>
                            </a:lnTo>
                            <a:lnTo>
                              <a:pt x="28" y="46"/>
                            </a:lnTo>
                            <a:lnTo>
                              <a:pt x="21" y="50"/>
                            </a:lnTo>
                            <a:lnTo>
                              <a:pt x="14" y="53"/>
                            </a:lnTo>
                            <a:lnTo>
                              <a:pt x="7" y="56"/>
                            </a:lnTo>
                            <a:lnTo>
                              <a:pt x="0" y="60"/>
                            </a:lnTo>
                            <a:lnTo>
                              <a:pt x="0" y="64"/>
                            </a:lnTo>
                            <a:lnTo>
                              <a:pt x="91" y="25"/>
                            </a:lnTo>
                            <a:lnTo>
                              <a:pt x="91" y="26"/>
                            </a:lnTo>
                            <a:lnTo>
                              <a:pt x="90" y="27"/>
                            </a:lnTo>
                            <a:lnTo>
                              <a:pt x="89" y="28"/>
                            </a:lnTo>
                            <a:lnTo>
                              <a:pt x="88" y="29"/>
                            </a:lnTo>
                            <a:lnTo>
                              <a:pt x="87" y="30"/>
                            </a:lnTo>
                            <a:lnTo>
                              <a:pt x="88" y="30"/>
                            </a:lnTo>
                            <a:lnTo>
                              <a:pt x="90" y="29"/>
                            </a:lnTo>
                            <a:lnTo>
                              <a:pt x="85" y="32"/>
                            </a:lnTo>
                            <a:lnTo>
                              <a:pt x="80" y="35"/>
                            </a:lnTo>
                            <a:lnTo>
                              <a:pt x="74" y="39"/>
                            </a:lnTo>
                            <a:lnTo>
                              <a:pt x="68" y="42"/>
                            </a:lnTo>
                            <a:lnTo>
                              <a:pt x="63" y="45"/>
                            </a:lnTo>
                            <a:lnTo>
                              <a:pt x="57" y="48"/>
                            </a:lnTo>
                            <a:lnTo>
                              <a:pt x="52" y="51"/>
                            </a:lnTo>
                            <a:lnTo>
                              <a:pt x="46" y="55"/>
                            </a:lnTo>
                            <a:lnTo>
                              <a:pt x="40" y="58"/>
                            </a:lnTo>
                            <a:lnTo>
                              <a:pt x="35" y="61"/>
                            </a:lnTo>
                            <a:lnTo>
                              <a:pt x="29" y="64"/>
                            </a:lnTo>
                            <a:lnTo>
                              <a:pt x="23" y="67"/>
                            </a:lnTo>
                            <a:lnTo>
                              <a:pt x="17" y="70"/>
                            </a:lnTo>
                            <a:lnTo>
                              <a:pt x="12" y="73"/>
                            </a:lnTo>
                            <a:lnTo>
                              <a:pt x="6" y="76"/>
                            </a:lnTo>
                            <a:lnTo>
                              <a:pt x="0" y="79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8" name="Freeform 248"/>
                      <p:cNvSpPr/>
                      <p:nvPr/>
                    </p:nvSpPr>
                    <p:spPr>
                      <a:xfrm>
                        <a:off x="2374560" y="4332960"/>
                        <a:ext cx="95400" cy="130680"/>
                      </a:xfrm>
                      <a:custGeom>
                        <a:avLst/>
                        <a:gdLst>
                          <a:gd name="textAreaLeft" fmla="*/ 0 w 95400"/>
                          <a:gd name="textAreaRight" fmla="*/ 95760 w 95400"/>
                          <a:gd name="textAreaTop" fmla="*/ 0 h 130680"/>
                          <a:gd name="textAreaBottom" fmla="*/ 131040 h 130680"/>
                        </a:gdLst>
                        <a:ahLst/>
                        <a:rect l="textAreaLeft" t="textAreaTop" r="textAreaRight" b="textAreaBottom"/>
                        <a:pathLst>
                          <a:path w="100" h="84">
                            <a:moveTo>
                              <a:pt x="100" y="12"/>
                            </a:moveTo>
                            <a:lnTo>
                              <a:pt x="100" y="0"/>
                            </a:lnTo>
                            <a:lnTo>
                              <a:pt x="92" y="3"/>
                            </a:lnTo>
                            <a:lnTo>
                              <a:pt x="84" y="6"/>
                            </a:lnTo>
                            <a:lnTo>
                              <a:pt x="76" y="9"/>
                            </a:lnTo>
                            <a:lnTo>
                              <a:pt x="68" y="12"/>
                            </a:lnTo>
                            <a:lnTo>
                              <a:pt x="61" y="16"/>
                            </a:lnTo>
                            <a:lnTo>
                              <a:pt x="54" y="18"/>
                            </a:lnTo>
                            <a:lnTo>
                              <a:pt x="47" y="21"/>
                            </a:lnTo>
                            <a:lnTo>
                              <a:pt x="40" y="24"/>
                            </a:lnTo>
                            <a:lnTo>
                              <a:pt x="34" y="27"/>
                            </a:lnTo>
                            <a:lnTo>
                              <a:pt x="28" y="29"/>
                            </a:lnTo>
                            <a:lnTo>
                              <a:pt x="23" y="32"/>
                            </a:lnTo>
                            <a:lnTo>
                              <a:pt x="18" y="34"/>
                            </a:lnTo>
                            <a:lnTo>
                              <a:pt x="14" y="36"/>
                            </a:lnTo>
                            <a:lnTo>
                              <a:pt x="10" y="39"/>
                            </a:lnTo>
                            <a:lnTo>
                              <a:pt x="7" y="41"/>
                            </a:lnTo>
                            <a:lnTo>
                              <a:pt x="5" y="42"/>
                            </a:lnTo>
                            <a:lnTo>
                              <a:pt x="3" y="47"/>
                            </a:lnTo>
                            <a:lnTo>
                              <a:pt x="1" y="53"/>
                            </a:lnTo>
                            <a:lnTo>
                              <a:pt x="0" y="61"/>
                            </a:lnTo>
                            <a:lnTo>
                              <a:pt x="1" y="68"/>
                            </a:lnTo>
                            <a:lnTo>
                              <a:pt x="4" y="75"/>
                            </a:lnTo>
                            <a:lnTo>
                              <a:pt x="9" y="81"/>
                            </a:lnTo>
                            <a:lnTo>
                              <a:pt x="18" y="84"/>
                            </a:lnTo>
                            <a:lnTo>
                              <a:pt x="30" y="84"/>
                            </a:lnTo>
                            <a:lnTo>
                              <a:pt x="33" y="82"/>
                            </a:lnTo>
                            <a:lnTo>
                              <a:pt x="36" y="81"/>
                            </a:lnTo>
                            <a:lnTo>
                              <a:pt x="39" y="79"/>
                            </a:lnTo>
                            <a:lnTo>
                              <a:pt x="43" y="77"/>
                            </a:lnTo>
                            <a:lnTo>
                              <a:pt x="47" y="75"/>
                            </a:lnTo>
                            <a:lnTo>
                              <a:pt x="51" y="73"/>
                            </a:lnTo>
                            <a:lnTo>
                              <a:pt x="55" y="71"/>
                            </a:lnTo>
                            <a:lnTo>
                              <a:pt x="60" y="69"/>
                            </a:lnTo>
                            <a:lnTo>
                              <a:pt x="64" y="67"/>
                            </a:lnTo>
                            <a:lnTo>
                              <a:pt x="69" y="65"/>
                            </a:lnTo>
                            <a:lnTo>
                              <a:pt x="74" y="62"/>
                            </a:lnTo>
                            <a:lnTo>
                              <a:pt x="79" y="60"/>
                            </a:lnTo>
                            <a:lnTo>
                              <a:pt x="84" y="58"/>
                            </a:lnTo>
                            <a:lnTo>
                              <a:pt x="89" y="55"/>
                            </a:lnTo>
                            <a:lnTo>
                              <a:pt x="95" y="52"/>
                            </a:lnTo>
                            <a:lnTo>
                              <a:pt x="100" y="50"/>
                            </a:lnTo>
                            <a:lnTo>
                              <a:pt x="100" y="39"/>
                            </a:lnTo>
                            <a:lnTo>
                              <a:pt x="96" y="41"/>
                            </a:lnTo>
                            <a:lnTo>
                              <a:pt x="93" y="43"/>
                            </a:lnTo>
                            <a:lnTo>
                              <a:pt x="89" y="44"/>
                            </a:lnTo>
                            <a:lnTo>
                              <a:pt x="85" y="46"/>
                            </a:lnTo>
                            <a:lnTo>
                              <a:pt x="82" y="48"/>
                            </a:lnTo>
                            <a:lnTo>
                              <a:pt x="78" y="50"/>
                            </a:lnTo>
                            <a:lnTo>
                              <a:pt x="75" y="52"/>
                            </a:lnTo>
                            <a:lnTo>
                              <a:pt x="71" y="53"/>
                            </a:lnTo>
                            <a:lnTo>
                              <a:pt x="67" y="55"/>
                            </a:lnTo>
                            <a:lnTo>
                              <a:pt x="64" y="57"/>
                            </a:lnTo>
                            <a:lnTo>
                              <a:pt x="60" y="59"/>
                            </a:lnTo>
                            <a:lnTo>
                              <a:pt x="56" y="60"/>
                            </a:lnTo>
                            <a:lnTo>
                              <a:pt x="53" y="62"/>
                            </a:lnTo>
                            <a:lnTo>
                              <a:pt x="49" y="64"/>
                            </a:lnTo>
                            <a:lnTo>
                              <a:pt x="46" y="66"/>
                            </a:lnTo>
                            <a:lnTo>
                              <a:pt x="42" y="67"/>
                            </a:lnTo>
                            <a:lnTo>
                              <a:pt x="40" y="69"/>
                            </a:lnTo>
                            <a:lnTo>
                              <a:pt x="38" y="70"/>
                            </a:lnTo>
                            <a:lnTo>
                              <a:pt x="36" y="72"/>
                            </a:lnTo>
                            <a:lnTo>
                              <a:pt x="33" y="73"/>
                            </a:lnTo>
                            <a:lnTo>
                              <a:pt x="30" y="74"/>
                            </a:lnTo>
                            <a:lnTo>
                              <a:pt x="27" y="75"/>
                            </a:lnTo>
                            <a:lnTo>
                              <a:pt x="25" y="75"/>
                            </a:lnTo>
                            <a:lnTo>
                              <a:pt x="22" y="76"/>
                            </a:lnTo>
                            <a:lnTo>
                              <a:pt x="17" y="75"/>
                            </a:lnTo>
                            <a:lnTo>
                              <a:pt x="13" y="72"/>
                            </a:lnTo>
                            <a:lnTo>
                              <a:pt x="11" y="68"/>
                            </a:lnTo>
                            <a:lnTo>
                              <a:pt x="9" y="63"/>
                            </a:lnTo>
                            <a:lnTo>
                              <a:pt x="9" y="58"/>
                            </a:lnTo>
                            <a:lnTo>
                              <a:pt x="11" y="54"/>
                            </a:lnTo>
                            <a:lnTo>
                              <a:pt x="13" y="50"/>
                            </a:lnTo>
                            <a:lnTo>
                              <a:pt x="17" y="48"/>
                            </a:lnTo>
                            <a:lnTo>
                              <a:pt x="21" y="49"/>
                            </a:lnTo>
                            <a:lnTo>
                              <a:pt x="24" y="50"/>
                            </a:lnTo>
                            <a:lnTo>
                              <a:pt x="27" y="52"/>
                            </a:lnTo>
                            <a:lnTo>
                              <a:pt x="29" y="54"/>
                            </a:lnTo>
                            <a:lnTo>
                              <a:pt x="30" y="56"/>
                            </a:lnTo>
                            <a:lnTo>
                              <a:pt x="30" y="59"/>
                            </a:lnTo>
                            <a:lnTo>
                              <a:pt x="30" y="61"/>
                            </a:lnTo>
                            <a:lnTo>
                              <a:pt x="29" y="65"/>
                            </a:lnTo>
                            <a:lnTo>
                              <a:pt x="31" y="64"/>
                            </a:lnTo>
                            <a:lnTo>
                              <a:pt x="32" y="63"/>
                            </a:lnTo>
                            <a:lnTo>
                              <a:pt x="33" y="61"/>
                            </a:lnTo>
                            <a:lnTo>
                              <a:pt x="35" y="59"/>
                            </a:lnTo>
                            <a:lnTo>
                              <a:pt x="35" y="56"/>
                            </a:lnTo>
                            <a:lnTo>
                              <a:pt x="35" y="53"/>
                            </a:lnTo>
                            <a:lnTo>
                              <a:pt x="35" y="51"/>
                            </a:lnTo>
                            <a:lnTo>
                              <a:pt x="34" y="49"/>
                            </a:lnTo>
                            <a:lnTo>
                              <a:pt x="33" y="47"/>
                            </a:lnTo>
                            <a:lnTo>
                              <a:pt x="31" y="45"/>
                            </a:lnTo>
                            <a:lnTo>
                              <a:pt x="29" y="44"/>
                            </a:lnTo>
                            <a:lnTo>
                              <a:pt x="26" y="43"/>
                            </a:lnTo>
                            <a:lnTo>
                              <a:pt x="100" y="12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9" name="Freeform 249"/>
                      <p:cNvSpPr/>
                      <p:nvPr/>
                    </p:nvSpPr>
                    <p:spPr>
                      <a:xfrm>
                        <a:off x="2415960" y="4363560"/>
                        <a:ext cx="51840" cy="41760"/>
                      </a:xfrm>
                      <a:custGeom>
                        <a:avLst/>
                        <a:gdLst>
                          <a:gd name="textAreaLeft" fmla="*/ 0 w 51840"/>
                          <a:gd name="textAreaRight" fmla="*/ 52200 w 51840"/>
                          <a:gd name="textAreaTop" fmla="*/ 0 h 41760"/>
                          <a:gd name="textAreaBottom" fmla="*/ 42120 h 41760"/>
                        </a:gdLst>
                        <a:ahLst/>
                        <a:rect l="textAreaLeft" t="textAreaTop" r="textAreaRight" b="textAreaBottom"/>
                        <a:pathLst>
                          <a:path w="54" h="28">
                            <a:moveTo>
                              <a:pt x="54" y="4"/>
                            </a:moveTo>
                            <a:lnTo>
                              <a:pt x="54" y="0"/>
                            </a:lnTo>
                            <a:lnTo>
                              <a:pt x="49" y="3"/>
                            </a:lnTo>
                            <a:lnTo>
                              <a:pt x="43" y="5"/>
                            </a:lnTo>
                            <a:lnTo>
                              <a:pt x="38" y="8"/>
                            </a:lnTo>
                            <a:lnTo>
                              <a:pt x="33" y="10"/>
                            </a:lnTo>
                            <a:lnTo>
                              <a:pt x="28" y="13"/>
                            </a:lnTo>
                            <a:lnTo>
                              <a:pt x="24" y="15"/>
                            </a:lnTo>
                            <a:lnTo>
                              <a:pt x="19" y="17"/>
                            </a:lnTo>
                            <a:lnTo>
                              <a:pt x="16" y="19"/>
                            </a:lnTo>
                            <a:lnTo>
                              <a:pt x="12" y="21"/>
                            </a:lnTo>
                            <a:lnTo>
                              <a:pt x="9" y="23"/>
                            </a:lnTo>
                            <a:lnTo>
                              <a:pt x="6" y="24"/>
                            </a:lnTo>
                            <a:lnTo>
                              <a:pt x="4" y="25"/>
                            </a:lnTo>
                            <a:lnTo>
                              <a:pt x="2" y="26"/>
                            </a:lnTo>
                            <a:lnTo>
                              <a:pt x="0" y="27"/>
                            </a:lnTo>
                            <a:lnTo>
                              <a:pt x="0" y="28"/>
                            </a:lnTo>
                            <a:lnTo>
                              <a:pt x="54" y="4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20" name="Freeform 250"/>
                    <p:cNvSpPr/>
                    <p:nvPr/>
                  </p:nvSpPr>
                  <p:spPr>
                    <a:xfrm>
                      <a:off x="2566440" y="4204800"/>
                      <a:ext cx="6480" cy="6696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66960"/>
                        <a:gd name="textAreaBottom" fmla="*/ 67320 h 66960"/>
                      </a:gdLst>
                      <a:ahLst/>
                      <a:rect l="textAreaLeft" t="textAreaTop" r="textAreaRight" b="textAreaBottom"/>
                      <a:pathLst>
                        <a:path w="7" h="43">
                          <a:moveTo>
                            <a:pt x="4" y="0"/>
                          </a:moveTo>
                          <a:lnTo>
                            <a:pt x="6" y="9"/>
                          </a:lnTo>
                          <a:lnTo>
                            <a:pt x="7" y="22"/>
                          </a:lnTo>
                          <a:lnTo>
                            <a:pt x="7" y="35"/>
                          </a:lnTo>
                          <a:lnTo>
                            <a:pt x="4" y="43"/>
                          </a:lnTo>
                          <a:lnTo>
                            <a:pt x="1" y="30"/>
                          </a:lnTo>
                          <a:lnTo>
                            <a:pt x="0" y="16"/>
                          </a:lnTo>
                          <a:lnTo>
                            <a:pt x="1" y="5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251"/>
                    <p:cNvSpPr/>
                    <p:nvPr/>
                  </p:nvSpPr>
                  <p:spPr>
                    <a:xfrm>
                      <a:off x="2662200" y="4178520"/>
                      <a:ext cx="86760" cy="59040"/>
                    </a:xfrm>
                    <a:custGeom>
                      <a:avLst/>
                      <a:gdLst>
                        <a:gd name="textAreaLeft" fmla="*/ 0 w 86760"/>
                        <a:gd name="textAreaRight" fmla="*/ 87120 w 86760"/>
                        <a:gd name="textAreaTop" fmla="*/ 0 h 59040"/>
                        <a:gd name="textAreaBottom" fmla="*/ 59400 h 59040"/>
                      </a:gdLst>
                      <a:ahLst/>
                      <a:rect l="textAreaLeft" t="textAreaTop" r="textAreaRight" b="textAreaBottom"/>
                      <a:pathLst>
                        <a:path w="91" h="38">
                          <a:moveTo>
                            <a:pt x="0" y="35"/>
                          </a:moveTo>
                          <a:lnTo>
                            <a:pt x="5" y="35"/>
                          </a:lnTo>
                          <a:lnTo>
                            <a:pt x="11" y="34"/>
                          </a:lnTo>
                          <a:lnTo>
                            <a:pt x="17" y="33"/>
                          </a:lnTo>
                          <a:lnTo>
                            <a:pt x="23" y="32"/>
                          </a:lnTo>
                          <a:lnTo>
                            <a:pt x="29" y="31"/>
                          </a:lnTo>
                          <a:lnTo>
                            <a:pt x="35" y="29"/>
                          </a:lnTo>
                          <a:lnTo>
                            <a:pt x="41" y="28"/>
                          </a:lnTo>
                          <a:lnTo>
                            <a:pt x="47" y="26"/>
                          </a:lnTo>
                          <a:lnTo>
                            <a:pt x="53" y="24"/>
                          </a:lnTo>
                          <a:lnTo>
                            <a:pt x="59" y="22"/>
                          </a:lnTo>
                          <a:lnTo>
                            <a:pt x="64" y="19"/>
                          </a:lnTo>
                          <a:lnTo>
                            <a:pt x="70" y="16"/>
                          </a:lnTo>
                          <a:lnTo>
                            <a:pt x="75" y="13"/>
                          </a:lnTo>
                          <a:lnTo>
                            <a:pt x="79" y="9"/>
                          </a:lnTo>
                          <a:lnTo>
                            <a:pt x="84" y="5"/>
                          </a:lnTo>
                          <a:lnTo>
                            <a:pt x="88" y="0"/>
                          </a:lnTo>
                          <a:lnTo>
                            <a:pt x="90" y="3"/>
                          </a:lnTo>
                          <a:lnTo>
                            <a:pt x="91" y="5"/>
                          </a:lnTo>
                          <a:lnTo>
                            <a:pt x="90" y="8"/>
                          </a:lnTo>
                          <a:lnTo>
                            <a:pt x="88" y="12"/>
                          </a:lnTo>
                          <a:lnTo>
                            <a:pt x="84" y="16"/>
                          </a:lnTo>
                          <a:lnTo>
                            <a:pt x="79" y="19"/>
                          </a:lnTo>
                          <a:lnTo>
                            <a:pt x="73" y="23"/>
                          </a:lnTo>
                          <a:lnTo>
                            <a:pt x="67" y="27"/>
                          </a:lnTo>
                          <a:lnTo>
                            <a:pt x="59" y="30"/>
                          </a:lnTo>
                          <a:lnTo>
                            <a:pt x="51" y="33"/>
                          </a:lnTo>
                          <a:lnTo>
                            <a:pt x="43" y="36"/>
                          </a:lnTo>
                          <a:lnTo>
                            <a:pt x="34" y="38"/>
                          </a:lnTo>
                          <a:lnTo>
                            <a:pt x="25" y="38"/>
                          </a:lnTo>
                          <a:lnTo>
                            <a:pt x="16" y="38"/>
                          </a:lnTo>
                          <a:lnTo>
                            <a:pt x="8" y="38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Freeform 252"/>
                    <p:cNvSpPr/>
                    <p:nvPr/>
                  </p:nvSpPr>
                  <p:spPr>
                    <a:xfrm>
                      <a:off x="2604600" y="4155480"/>
                      <a:ext cx="65880" cy="52920"/>
                    </a:xfrm>
                    <a:custGeom>
                      <a:avLst/>
                      <a:gdLst>
                        <a:gd name="textAreaLeft" fmla="*/ 0 w 65880"/>
                        <a:gd name="textAreaRight" fmla="*/ 66240 w 65880"/>
                        <a:gd name="textAreaTop" fmla="*/ 0 h 52920"/>
                        <a:gd name="textAreaBottom" fmla="*/ 53280 h 52920"/>
                      </a:gdLst>
                      <a:ahLst/>
                      <a:rect l="textAreaLeft" t="textAreaTop" r="textAreaRight" b="textAreaBottom"/>
                      <a:pathLst>
                        <a:path w="69" h="34">
                          <a:moveTo>
                            <a:pt x="0" y="34"/>
                          </a:moveTo>
                          <a:lnTo>
                            <a:pt x="2" y="29"/>
                          </a:lnTo>
                          <a:lnTo>
                            <a:pt x="5" y="25"/>
                          </a:lnTo>
                          <a:lnTo>
                            <a:pt x="8" y="22"/>
                          </a:lnTo>
                          <a:lnTo>
                            <a:pt x="11" y="18"/>
                          </a:lnTo>
                          <a:lnTo>
                            <a:pt x="15" y="15"/>
                          </a:lnTo>
                          <a:lnTo>
                            <a:pt x="19" y="13"/>
                          </a:lnTo>
                          <a:lnTo>
                            <a:pt x="23" y="10"/>
                          </a:lnTo>
                          <a:lnTo>
                            <a:pt x="28" y="8"/>
                          </a:lnTo>
                          <a:lnTo>
                            <a:pt x="32" y="6"/>
                          </a:lnTo>
                          <a:lnTo>
                            <a:pt x="37" y="5"/>
                          </a:lnTo>
                          <a:lnTo>
                            <a:pt x="42" y="3"/>
                          </a:lnTo>
                          <a:lnTo>
                            <a:pt x="47" y="2"/>
                          </a:lnTo>
                          <a:lnTo>
                            <a:pt x="53" y="1"/>
                          </a:lnTo>
                          <a:lnTo>
                            <a:pt x="58" y="0"/>
                          </a:lnTo>
                          <a:lnTo>
                            <a:pt x="63" y="0"/>
                          </a:lnTo>
                          <a:lnTo>
                            <a:pt x="69" y="0"/>
                          </a:lnTo>
                          <a:lnTo>
                            <a:pt x="63" y="0"/>
                          </a:lnTo>
                          <a:lnTo>
                            <a:pt x="58" y="2"/>
                          </a:lnTo>
                          <a:lnTo>
                            <a:pt x="52" y="4"/>
                          </a:lnTo>
                          <a:lnTo>
                            <a:pt x="47" y="6"/>
                          </a:lnTo>
                          <a:lnTo>
                            <a:pt x="41" y="8"/>
                          </a:lnTo>
                          <a:lnTo>
                            <a:pt x="36" y="10"/>
                          </a:lnTo>
                          <a:lnTo>
                            <a:pt x="31" y="13"/>
                          </a:lnTo>
                          <a:lnTo>
                            <a:pt x="26" y="15"/>
                          </a:lnTo>
                          <a:lnTo>
                            <a:pt x="21" y="18"/>
                          </a:lnTo>
                          <a:lnTo>
                            <a:pt x="17" y="21"/>
                          </a:lnTo>
                          <a:lnTo>
                            <a:pt x="13" y="23"/>
                          </a:lnTo>
                          <a:lnTo>
                            <a:pt x="9" y="26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2" y="32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23" name="Group 253"/>
              <p:cNvGrpSpPr/>
              <p:nvPr/>
            </p:nvGrpSpPr>
            <p:grpSpPr>
              <a:xfrm>
                <a:off x="294840" y="1896480"/>
                <a:ext cx="970560" cy="854280"/>
                <a:chOff x="294840" y="1896480"/>
                <a:chExt cx="970560" cy="854280"/>
              </a:xfrm>
            </p:grpSpPr>
            <p:sp>
              <p:nvSpPr>
                <p:cNvPr id="924" name="Rectangle 254"/>
                <p:cNvSpPr/>
                <p:nvPr/>
              </p:nvSpPr>
              <p:spPr>
                <a:xfrm>
                  <a:off x="294840" y="2413440"/>
                  <a:ext cx="970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292929"/>
                      </a:solidFill>
                      <a:latin typeface="Futura Bk BT"/>
                    </a:rPr>
                    <a:t>MFIs</a:t>
                  </a:r>
                  <a:endParaRPr b="0" lang="en-US" sz="16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925" name="Group 255"/>
                <p:cNvGrpSpPr/>
                <p:nvPr/>
              </p:nvGrpSpPr>
              <p:grpSpPr>
                <a:xfrm>
                  <a:off x="707760" y="1896480"/>
                  <a:ext cx="466920" cy="516960"/>
                  <a:chOff x="707760" y="1896480"/>
                  <a:chExt cx="466920" cy="516960"/>
                </a:xfrm>
              </p:grpSpPr>
              <p:sp>
                <p:nvSpPr>
                  <p:cNvPr id="926" name="AutoShape 256"/>
                  <p:cNvSpPr/>
                  <p:nvPr/>
                </p:nvSpPr>
                <p:spPr>
                  <a:xfrm>
                    <a:off x="707760" y="1896480"/>
                    <a:ext cx="466920" cy="516960"/>
                  </a:xfrm>
                  <a:custGeom>
                    <a:avLst/>
                    <a:gdLst>
                      <a:gd name="textAreaLeft" fmla="*/ 22680 w 466920"/>
                      <a:gd name="textAreaRight" fmla="*/ 444240 w 466920"/>
                      <a:gd name="textAreaTop" fmla="*/ 22680 h 516960"/>
                      <a:gd name="textAreaBottom" fmla="*/ 494280 h 516960"/>
                    </a:gdLst>
                    <a:ahLst/>
                    <a:rect l="textAreaLeft" t="textAreaTop" r="textAreaRight" b="textAreaBottom"/>
                    <a:pathLst>
                      <a:path w="21600" h="2391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0313"/>
                        </a:lnTo>
                        <a:arcTo wR="3600" hR="3600" stAng="10800000" swAng="-5400000"/>
                        <a:lnTo>
                          <a:pt x="18000" y="2391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969696">
                      <a:alpha val="5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7" name="Group 257"/>
                  <p:cNvGrpSpPr/>
                  <p:nvPr/>
                </p:nvGrpSpPr>
                <p:grpSpPr>
                  <a:xfrm>
                    <a:off x="736560" y="1922760"/>
                    <a:ext cx="404640" cy="424440"/>
                    <a:chOff x="736560" y="1922760"/>
                    <a:chExt cx="404640" cy="424440"/>
                  </a:xfrm>
                </p:grpSpPr>
                <p:sp>
                  <p:nvSpPr>
                    <p:cNvPr id="928" name="Freeform 258"/>
                    <p:cNvSpPr/>
                    <p:nvPr/>
                  </p:nvSpPr>
                  <p:spPr>
                    <a:xfrm>
                      <a:off x="830160" y="2033280"/>
                      <a:ext cx="129600" cy="9360"/>
                    </a:xfrm>
                    <a:custGeom>
                      <a:avLst/>
                      <a:gdLst>
                        <a:gd name="textAreaLeft" fmla="*/ 0 w 129600"/>
                        <a:gd name="textAreaRight" fmla="*/ 129960 w 12960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601" h="3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26" y="0"/>
                          </a:lnTo>
                          <a:lnTo>
                            <a:pt x="35" y="0"/>
                          </a:lnTo>
                          <a:lnTo>
                            <a:pt x="45" y="1"/>
                          </a:lnTo>
                          <a:lnTo>
                            <a:pt x="54" y="1"/>
                          </a:lnTo>
                          <a:lnTo>
                            <a:pt x="63" y="1"/>
                          </a:lnTo>
                          <a:lnTo>
                            <a:pt x="71" y="3"/>
                          </a:lnTo>
                          <a:lnTo>
                            <a:pt x="81" y="3"/>
                          </a:lnTo>
                          <a:lnTo>
                            <a:pt x="89" y="3"/>
                          </a:lnTo>
                          <a:lnTo>
                            <a:pt x="98" y="3"/>
                          </a:lnTo>
                          <a:lnTo>
                            <a:pt x="106" y="4"/>
                          </a:lnTo>
                          <a:lnTo>
                            <a:pt x="117" y="4"/>
                          </a:lnTo>
                          <a:lnTo>
                            <a:pt x="124" y="4"/>
                          </a:lnTo>
                          <a:lnTo>
                            <a:pt x="133" y="4"/>
                          </a:lnTo>
                          <a:lnTo>
                            <a:pt x="143" y="4"/>
                          </a:lnTo>
                          <a:lnTo>
                            <a:pt x="152" y="5"/>
                          </a:lnTo>
                          <a:lnTo>
                            <a:pt x="159" y="5"/>
                          </a:lnTo>
                          <a:lnTo>
                            <a:pt x="169" y="5"/>
                          </a:lnTo>
                          <a:lnTo>
                            <a:pt x="178" y="5"/>
                          </a:lnTo>
                          <a:lnTo>
                            <a:pt x="187" y="5"/>
                          </a:lnTo>
                          <a:lnTo>
                            <a:pt x="195" y="5"/>
                          </a:lnTo>
                          <a:lnTo>
                            <a:pt x="204" y="5"/>
                          </a:lnTo>
                          <a:lnTo>
                            <a:pt x="213" y="5"/>
                          </a:lnTo>
                          <a:lnTo>
                            <a:pt x="222" y="7"/>
                          </a:lnTo>
                          <a:lnTo>
                            <a:pt x="230" y="7"/>
                          </a:lnTo>
                          <a:lnTo>
                            <a:pt x="239" y="7"/>
                          </a:lnTo>
                          <a:lnTo>
                            <a:pt x="248" y="7"/>
                          </a:lnTo>
                          <a:lnTo>
                            <a:pt x="257" y="7"/>
                          </a:lnTo>
                          <a:lnTo>
                            <a:pt x="266" y="7"/>
                          </a:lnTo>
                          <a:lnTo>
                            <a:pt x="274" y="7"/>
                          </a:lnTo>
                          <a:lnTo>
                            <a:pt x="283" y="7"/>
                          </a:lnTo>
                          <a:lnTo>
                            <a:pt x="292" y="7"/>
                          </a:lnTo>
                          <a:lnTo>
                            <a:pt x="302" y="7"/>
                          </a:lnTo>
                          <a:lnTo>
                            <a:pt x="309" y="7"/>
                          </a:lnTo>
                          <a:lnTo>
                            <a:pt x="318" y="7"/>
                          </a:lnTo>
                          <a:lnTo>
                            <a:pt x="328" y="7"/>
                          </a:lnTo>
                          <a:lnTo>
                            <a:pt x="335" y="7"/>
                          </a:lnTo>
                          <a:lnTo>
                            <a:pt x="344" y="7"/>
                          </a:lnTo>
                          <a:lnTo>
                            <a:pt x="354" y="7"/>
                          </a:lnTo>
                          <a:lnTo>
                            <a:pt x="363" y="7"/>
                          </a:lnTo>
                          <a:lnTo>
                            <a:pt x="370" y="7"/>
                          </a:lnTo>
                          <a:lnTo>
                            <a:pt x="380" y="7"/>
                          </a:lnTo>
                          <a:lnTo>
                            <a:pt x="389" y="7"/>
                          </a:lnTo>
                          <a:lnTo>
                            <a:pt x="396" y="7"/>
                          </a:lnTo>
                          <a:lnTo>
                            <a:pt x="406" y="7"/>
                          </a:lnTo>
                          <a:lnTo>
                            <a:pt x="415" y="7"/>
                          </a:lnTo>
                          <a:lnTo>
                            <a:pt x="424" y="7"/>
                          </a:lnTo>
                          <a:lnTo>
                            <a:pt x="433" y="8"/>
                          </a:lnTo>
                          <a:lnTo>
                            <a:pt x="441" y="7"/>
                          </a:lnTo>
                          <a:lnTo>
                            <a:pt x="450" y="7"/>
                          </a:lnTo>
                          <a:lnTo>
                            <a:pt x="459" y="7"/>
                          </a:lnTo>
                          <a:lnTo>
                            <a:pt x="468" y="7"/>
                          </a:lnTo>
                          <a:lnTo>
                            <a:pt x="476" y="7"/>
                          </a:lnTo>
                          <a:lnTo>
                            <a:pt x="485" y="7"/>
                          </a:lnTo>
                          <a:lnTo>
                            <a:pt x="493" y="7"/>
                          </a:lnTo>
                          <a:lnTo>
                            <a:pt x="504" y="7"/>
                          </a:lnTo>
                          <a:lnTo>
                            <a:pt x="511" y="7"/>
                          </a:lnTo>
                          <a:lnTo>
                            <a:pt x="520" y="7"/>
                          </a:lnTo>
                          <a:lnTo>
                            <a:pt x="528" y="7"/>
                          </a:lnTo>
                          <a:lnTo>
                            <a:pt x="537" y="7"/>
                          </a:lnTo>
                          <a:lnTo>
                            <a:pt x="546" y="7"/>
                          </a:lnTo>
                          <a:lnTo>
                            <a:pt x="556" y="7"/>
                          </a:lnTo>
                          <a:lnTo>
                            <a:pt x="565" y="7"/>
                          </a:lnTo>
                          <a:lnTo>
                            <a:pt x="574" y="7"/>
                          </a:lnTo>
                          <a:lnTo>
                            <a:pt x="577" y="7"/>
                          </a:lnTo>
                          <a:lnTo>
                            <a:pt x="580" y="8"/>
                          </a:lnTo>
                          <a:lnTo>
                            <a:pt x="583" y="9"/>
                          </a:lnTo>
                          <a:lnTo>
                            <a:pt x="588" y="9"/>
                          </a:lnTo>
                          <a:lnTo>
                            <a:pt x="591" y="11"/>
                          </a:lnTo>
                          <a:lnTo>
                            <a:pt x="594" y="12"/>
                          </a:lnTo>
                          <a:lnTo>
                            <a:pt x="597" y="12"/>
                          </a:lnTo>
                          <a:lnTo>
                            <a:pt x="601" y="14"/>
                          </a:lnTo>
                          <a:lnTo>
                            <a:pt x="600" y="18"/>
                          </a:lnTo>
                          <a:lnTo>
                            <a:pt x="597" y="23"/>
                          </a:lnTo>
                          <a:lnTo>
                            <a:pt x="595" y="27"/>
                          </a:lnTo>
                          <a:lnTo>
                            <a:pt x="594" y="31"/>
                          </a:lnTo>
                          <a:lnTo>
                            <a:pt x="585" y="31"/>
                          </a:lnTo>
                          <a:lnTo>
                            <a:pt x="579" y="31"/>
                          </a:lnTo>
                          <a:lnTo>
                            <a:pt x="569" y="31"/>
                          </a:lnTo>
                          <a:lnTo>
                            <a:pt x="562" y="31"/>
                          </a:lnTo>
                          <a:lnTo>
                            <a:pt x="554" y="31"/>
                          </a:lnTo>
                          <a:lnTo>
                            <a:pt x="546" y="31"/>
                          </a:lnTo>
                          <a:lnTo>
                            <a:pt x="539" y="31"/>
                          </a:lnTo>
                          <a:lnTo>
                            <a:pt x="531" y="33"/>
                          </a:lnTo>
                          <a:lnTo>
                            <a:pt x="523" y="33"/>
                          </a:lnTo>
                          <a:lnTo>
                            <a:pt x="516" y="33"/>
                          </a:lnTo>
                          <a:lnTo>
                            <a:pt x="508" y="33"/>
                          </a:lnTo>
                          <a:lnTo>
                            <a:pt x="501" y="33"/>
                          </a:lnTo>
                          <a:lnTo>
                            <a:pt x="493" y="33"/>
                          </a:lnTo>
                          <a:lnTo>
                            <a:pt x="485" y="33"/>
                          </a:lnTo>
                          <a:lnTo>
                            <a:pt x="478" y="33"/>
                          </a:lnTo>
                          <a:lnTo>
                            <a:pt x="470" y="33"/>
                          </a:lnTo>
                          <a:lnTo>
                            <a:pt x="462" y="33"/>
                          </a:lnTo>
                          <a:lnTo>
                            <a:pt x="455" y="33"/>
                          </a:lnTo>
                          <a:lnTo>
                            <a:pt x="447" y="33"/>
                          </a:lnTo>
                          <a:lnTo>
                            <a:pt x="439" y="33"/>
                          </a:lnTo>
                          <a:lnTo>
                            <a:pt x="432" y="33"/>
                          </a:lnTo>
                          <a:lnTo>
                            <a:pt x="424" y="33"/>
                          </a:lnTo>
                          <a:lnTo>
                            <a:pt x="416" y="33"/>
                          </a:lnTo>
                          <a:lnTo>
                            <a:pt x="409" y="33"/>
                          </a:lnTo>
                          <a:lnTo>
                            <a:pt x="401" y="33"/>
                          </a:lnTo>
                          <a:lnTo>
                            <a:pt x="393" y="33"/>
                          </a:lnTo>
                          <a:lnTo>
                            <a:pt x="386" y="33"/>
                          </a:lnTo>
                          <a:lnTo>
                            <a:pt x="378" y="33"/>
                          </a:lnTo>
                          <a:lnTo>
                            <a:pt x="370" y="33"/>
                          </a:lnTo>
                          <a:lnTo>
                            <a:pt x="363" y="33"/>
                          </a:lnTo>
                          <a:lnTo>
                            <a:pt x="357" y="33"/>
                          </a:lnTo>
                          <a:lnTo>
                            <a:pt x="349" y="34"/>
                          </a:lnTo>
                          <a:lnTo>
                            <a:pt x="340" y="33"/>
                          </a:lnTo>
                          <a:lnTo>
                            <a:pt x="332" y="33"/>
                          </a:lnTo>
                          <a:lnTo>
                            <a:pt x="325" y="33"/>
                          </a:lnTo>
                          <a:lnTo>
                            <a:pt x="318" y="33"/>
                          </a:lnTo>
                          <a:lnTo>
                            <a:pt x="309" y="33"/>
                          </a:lnTo>
                          <a:lnTo>
                            <a:pt x="302" y="33"/>
                          </a:lnTo>
                          <a:lnTo>
                            <a:pt x="294" y="33"/>
                          </a:lnTo>
                          <a:lnTo>
                            <a:pt x="288" y="33"/>
                          </a:lnTo>
                          <a:lnTo>
                            <a:pt x="279" y="31"/>
                          </a:lnTo>
                          <a:lnTo>
                            <a:pt x="271" y="31"/>
                          </a:lnTo>
                          <a:lnTo>
                            <a:pt x="263" y="31"/>
                          </a:lnTo>
                          <a:lnTo>
                            <a:pt x="257" y="31"/>
                          </a:lnTo>
                          <a:lnTo>
                            <a:pt x="248" y="31"/>
                          </a:lnTo>
                          <a:lnTo>
                            <a:pt x="240" y="31"/>
                          </a:lnTo>
                          <a:lnTo>
                            <a:pt x="233" y="31"/>
                          </a:lnTo>
                          <a:lnTo>
                            <a:pt x="225" y="31"/>
                          </a:lnTo>
                          <a:lnTo>
                            <a:pt x="218" y="31"/>
                          </a:lnTo>
                          <a:lnTo>
                            <a:pt x="210" y="31"/>
                          </a:lnTo>
                          <a:lnTo>
                            <a:pt x="202" y="31"/>
                          </a:lnTo>
                          <a:lnTo>
                            <a:pt x="195" y="31"/>
                          </a:lnTo>
                          <a:lnTo>
                            <a:pt x="187" y="30"/>
                          </a:lnTo>
                          <a:lnTo>
                            <a:pt x="179" y="30"/>
                          </a:lnTo>
                          <a:lnTo>
                            <a:pt x="172" y="30"/>
                          </a:lnTo>
                          <a:lnTo>
                            <a:pt x="164" y="30"/>
                          </a:lnTo>
                          <a:lnTo>
                            <a:pt x="156" y="30"/>
                          </a:lnTo>
                          <a:lnTo>
                            <a:pt x="149" y="30"/>
                          </a:lnTo>
                          <a:lnTo>
                            <a:pt x="141" y="30"/>
                          </a:lnTo>
                          <a:lnTo>
                            <a:pt x="133" y="30"/>
                          </a:lnTo>
                          <a:lnTo>
                            <a:pt x="126" y="29"/>
                          </a:lnTo>
                          <a:lnTo>
                            <a:pt x="120" y="29"/>
                          </a:lnTo>
                          <a:lnTo>
                            <a:pt x="112" y="29"/>
                          </a:lnTo>
                          <a:lnTo>
                            <a:pt x="104" y="29"/>
                          </a:lnTo>
                          <a:lnTo>
                            <a:pt x="100" y="27"/>
                          </a:lnTo>
                          <a:lnTo>
                            <a:pt x="97" y="27"/>
                          </a:lnTo>
                          <a:lnTo>
                            <a:pt x="92" y="26"/>
                          </a:lnTo>
                          <a:lnTo>
                            <a:pt x="89" y="26"/>
                          </a:lnTo>
                          <a:lnTo>
                            <a:pt x="83" y="26"/>
                          </a:lnTo>
                          <a:lnTo>
                            <a:pt x="77" y="26"/>
                          </a:lnTo>
                          <a:lnTo>
                            <a:pt x="72" y="26"/>
                          </a:lnTo>
                          <a:lnTo>
                            <a:pt x="69" y="26"/>
                          </a:lnTo>
                          <a:lnTo>
                            <a:pt x="65" y="26"/>
                          </a:lnTo>
                          <a:lnTo>
                            <a:pt x="61" y="27"/>
                          </a:lnTo>
                          <a:lnTo>
                            <a:pt x="55" y="27"/>
                          </a:lnTo>
                          <a:lnTo>
                            <a:pt x="49" y="29"/>
                          </a:lnTo>
                          <a:lnTo>
                            <a:pt x="45" y="29"/>
                          </a:lnTo>
                          <a:lnTo>
                            <a:pt x="42" y="29"/>
                          </a:lnTo>
                          <a:lnTo>
                            <a:pt x="39" y="29"/>
                          </a:lnTo>
                          <a:lnTo>
                            <a:pt x="35" y="29"/>
                          </a:lnTo>
                          <a:lnTo>
                            <a:pt x="28" y="29"/>
                          </a:lnTo>
                          <a:lnTo>
                            <a:pt x="23" y="27"/>
                          </a:lnTo>
                          <a:lnTo>
                            <a:pt x="17" y="25"/>
                          </a:lnTo>
                          <a:lnTo>
                            <a:pt x="11" y="23"/>
                          </a:lnTo>
                          <a:lnTo>
                            <a:pt x="5" y="19"/>
                          </a:lnTo>
                          <a:lnTo>
                            <a:pt x="0" y="16"/>
                          </a:lnTo>
                          <a:lnTo>
                            <a:pt x="3" y="11"/>
                          </a:lnTo>
                          <a:lnTo>
                            <a:pt x="6" y="7"/>
                          </a:lnTo>
                          <a:lnTo>
                            <a:pt x="9" y="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259"/>
                    <p:cNvSpPr/>
                    <p:nvPr/>
                  </p:nvSpPr>
                  <p:spPr>
                    <a:xfrm>
                      <a:off x="949680" y="1974960"/>
                      <a:ext cx="53640" cy="55080"/>
                    </a:xfrm>
                    <a:custGeom>
                      <a:avLst/>
                      <a:gdLst>
                        <a:gd name="textAreaLeft" fmla="*/ 0 w 53640"/>
                        <a:gd name="textAreaRight" fmla="*/ 54000 w 53640"/>
                        <a:gd name="textAreaTop" fmla="*/ 0 h 55080"/>
                        <a:gd name="textAreaBottom" fmla="*/ 55440 h 55080"/>
                      </a:gdLst>
                      <a:ahLst/>
                      <a:rect l="textAreaLeft" t="textAreaTop" r="textAreaRight" b="textAreaBottom"/>
                      <a:pathLst>
                        <a:path w="249" h="195">
                          <a:moveTo>
                            <a:pt x="5" y="0"/>
                          </a:moveTo>
                          <a:lnTo>
                            <a:pt x="8" y="2"/>
                          </a:lnTo>
                          <a:lnTo>
                            <a:pt x="12" y="3"/>
                          </a:lnTo>
                          <a:lnTo>
                            <a:pt x="15" y="6"/>
                          </a:lnTo>
                          <a:lnTo>
                            <a:pt x="20" y="9"/>
                          </a:lnTo>
                          <a:lnTo>
                            <a:pt x="25" y="10"/>
                          </a:lnTo>
                          <a:lnTo>
                            <a:pt x="28" y="13"/>
                          </a:lnTo>
                          <a:lnTo>
                            <a:pt x="32" y="14"/>
                          </a:lnTo>
                          <a:lnTo>
                            <a:pt x="37" y="17"/>
                          </a:lnTo>
                          <a:lnTo>
                            <a:pt x="40" y="20"/>
                          </a:lnTo>
                          <a:lnTo>
                            <a:pt x="44" y="21"/>
                          </a:lnTo>
                          <a:lnTo>
                            <a:pt x="47" y="24"/>
                          </a:lnTo>
                          <a:lnTo>
                            <a:pt x="52" y="26"/>
                          </a:lnTo>
                          <a:lnTo>
                            <a:pt x="57" y="28"/>
                          </a:lnTo>
                          <a:lnTo>
                            <a:pt x="60" y="32"/>
                          </a:lnTo>
                          <a:lnTo>
                            <a:pt x="64" y="33"/>
                          </a:lnTo>
                          <a:lnTo>
                            <a:pt x="69" y="36"/>
                          </a:lnTo>
                          <a:lnTo>
                            <a:pt x="72" y="39"/>
                          </a:lnTo>
                          <a:lnTo>
                            <a:pt x="77" y="41"/>
                          </a:lnTo>
                          <a:lnTo>
                            <a:pt x="80" y="44"/>
                          </a:lnTo>
                          <a:lnTo>
                            <a:pt x="84" y="47"/>
                          </a:lnTo>
                          <a:lnTo>
                            <a:pt x="87" y="48"/>
                          </a:lnTo>
                          <a:lnTo>
                            <a:pt x="92" y="51"/>
                          </a:lnTo>
                          <a:lnTo>
                            <a:pt x="95" y="54"/>
                          </a:lnTo>
                          <a:lnTo>
                            <a:pt x="99" y="57"/>
                          </a:lnTo>
                          <a:lnTo>
                            <a:pt x="104" y="59"/>
                          </a:lnTo>
                          <a:lnTo>
                            <a:pt x="107" y="62"/>
                          </a:lnTo>
                          <a:lnTo>
                            <a:pt x="110" y="65"/>
                          </a:lnTo>
                          <a:lnTo>
                            <a:pt x="115" y="68"/>
                          </a:lnTo>
                          <a:lnTo>
                            <a:pt x="118" y="70"/>
                          </a:lnTo>
                          <a:lnTo>
                            <a:pt x="122" y="73"/>
                          </a:lnTo>
                          <a:lnTo>
                            <a:pt x="125" y="76"/>
                          </a:lnTo>
                          <a:lnTo>
                            <a:pt x="130" y="80"/>
                          </a:lnTo>
                          <a:lnTo>
                            <a:pt x="135" y="81"/>
                          </a:lnTo>
                          <a:lnTo>
                            <a:pt x="138" y="84"/>
                          </a:lnTo>
                          <a:lnTo>
                            <a:pt x="141" y="88"/>
                          </a:lnTo>
                          <a:lnTo>
                            <a:pt x="145" y="91"/>
                          </a:lnTo>
                          <a:lnTo>
                            <a:pt x="148" y="94"/>
                          </a:lnTo>
                          <a:lnTo>
                            <a:pt x="153" y="96"/>
                          </a:lnTo>
                          <a:lnTo>
                            <a:pt x="156" y="99"/>
                          </a:lnTo>
                          <a:lnTo>
                            <a:pt x="161" y="103"/>
                          </a:lnTo>
                          <a:lnTo>
                            <a:pt x="164" y="106"/>
                          </a:lnTo>
                          <a:lnTo>
                            <a:pt x="168" y="109"/>
                          </a:lnTo>
                          <a:lnTo>
                            <a:pt x="171" y="111"/>
                          </a:lnTo>
                          <a:lnTo>
                            <a:pt x="176" y="114"/>
                          </a:lnTo>
                          <a:lnTo>
                            <a:pt x="179" y="117"/>
                          </a:lnTo>
                          <a:lnTo>
                            <a:pt x="184" y="120"/>
                          </a:lnTo>
                          <a:lnTo>
                            <a:pt x="187" y="124"/>
                          </a:lnTo>
                          <a:lnTo>
                            <a:pt x="190" y="127"/>
                          </a:lnTo>
                          <a:lnTo>
                            <a:pt x="193" y="129"/>
                          </a:lnTo>
                          <a:lnTo>
                            <a:pt x="197" y="132"/>
                          </a:lnTo>
                          <a:lnTo>
                            <a:pt x="200" y="135"/>
                          </a:lnTo>
                          <a:lnTo>
                            <a:pt x="205" y="139"/>
                          </a:lnTo>
                          <a:lnTo>
                            <a:pt x="208" y="142"/>
                          </a:lnTo>
                          <a:lnTo>
                            <a:pt x="213" y="144"/>
                          </a:lnTo>
                          <a:lnTo>
                            <a:pt x="216" y="149"/>
                          </a:lnTo>
                          <a:lnTo>
                            <a:pt x="220" y="151"/>
                          </a:lnTo>
                          <a:lnTo>
                            <a:pt x="223" y="154"/>
                          </a:lnTo>
                          <a:lnTo>
                            <a:pt x="226" y="158"/>
                          </a:lnTo>
                          <a:lnTo>
                            <a:pt x="231" y="161"/>
                          </a:lnTo>
                          <a:lnTo>
                            <a:pt x="234" y="164"/>
                          </a:lnTo>
                          <a:lnTo>
                            <a:pt x="239" y="168"/>
                          </a:lnTo>
                          <a:lnTo>
                            <a:pt x="242" y="171"/>
                          </a:lnTo>
                          <a:lnTo>
                            <a:pt x="246" y="173"/>
                          </a:lnTo>
                          <a:lnTo>
                            <a:pt x="249" y="177"/>
                          </a:lnTo>
                          <a:lnTo>
                            <a:pt x="246" y="180"/>
                          </a:lnTo>
                          <a:lnTo>
                            <a:pt x="245" y="186"/>
                          </a:lnTo>
                          <a:lnTo>
                            <a:pt x="240" y="190"/>
                          </a:lnTo>
                          <a:lnTo>
                            <a:pt x="239" y="195"/>
                          </a:lnTo>
                          <a:lnTo>
                            <a:pt x="234" y="192"/>
                          </a:lnTo>
                          <a:lnTo>
                            <a:pt x="231" y="191"/>
                          </a:lnTo>
                          <a:lnTo>
                            <a:pt x="226" y="188"/>
                          </a:lnTo>
                          <a:lnTo>
                            <a:pt x="222" y="187"/>
                          </a:lnTo>
                          <a:lnTo>
                            <a:pt x="219" y="184"/>
                          </a:lnTo>
                          <a:lnTo>
                            <a:pt x="214" y="183"/>
                          </a:lnTo>
                          <a:lnTo>
                            <a:pt x="211" y="180"/>
                          </a:lnTo>
                          <a:lnTo>
                            <a:pt x="207" y="177"/>
                          </a:lnTo>
                          <a:lnTo>
                            <a:pt x="203" y="175"/>
                          </a:lnTo>
                          <a:lnTo>
                            <a:pt x="200" y="173"/>
                          </a:lnTo>
                          <a:lnTo>
                            <a:pt x="196" y="171"/>
                          </a:lnTo>
                          <a:lnTo>
                            <a:pt x="193" y="168"/>
                          </a:lnTo>
                          <a:lnTo>
                            <a:pt x="188" y="165"/>
                          </a:lnTo>
                          <a:lnTo>
                            <a:pt x="185" y="162"/>
                          </a:lnTo>
                          <a:lnTo>
                            <a:pt x="181" y="160"/>
                          </a:lnTo>
                          <a:lnTo>
                            <a:pt x="177" y="158"/>
                          </a:lnTo>
                          <a:lnTo>
                            <a:pt x="174" y="154"/>
                          </a:lnTo>
                          <a:lnTo>
                            <a:pt x="170" y="151"/>
                          </a:lnTo>
                          <a:lnTo>
                            <a:pt x="167" y="149"/>
                          </a:lnTo>
                          <a:lnTo>
                            <a:pt x="162" y="146"/>
                          </a:lnTo>
                          <a:lnTo>
                            <a:pt x="159" y="143"/>
                          </a:lnTo>
                          <a:lnTo>
                            <a:pt x="156" y="140"/>
                          </a:lnTo>
                          <a:lnTo>
                            <a:pt x="151" y="138"/>
                          </a:lnTo>
                          <a:lnTo>
                            <a:pt x="148" y="135"/>
                          </a:lnTo>
                          <a:lnTo>
                            <a:pt x="145" y="131"/>
                          </a:lnTo>
                          <a:lnTo>
                            <a:pt x="141" y="128"/>
                          </a:lnTo>
                          <a:lnTo>
                            <a:pt x="138" y="125"/>
                          </a:lnTo>
                          <a:lnTo>
                            <a:pt x="135" y="124"/>
                          </a:lnTo>
                          <a:lnTo>
                            <a:pt x="132" y="120"/>
                          </a:lnTo>
                          <a:lnTo>
                            <a:pt x="127" y="117"/>
                          </a:lnTo>
                          <a:lnTo>
                            <a:pt x="124" y="114"/>
                          </a:lnTo>
                          <a:lnTo>
                            <a:pt x="121" y="113"/>
                          </a:lnTo>
                          <a:lnTo>
                            <a:pt x="118" y="109"/>
                          </a:lnTo>
                          <a:lnTo>
                            <a:pt x="113" y="106"/>
                          </a:lnTo>
                          <a:lnTo>
                            <a:pt x="110" y="103"/>
                          </a:lnTo>
                          <a:lnTo>
                            <a:pt x="107" y="101"/>
                          </a:lnTo>
                          <a:lnTo>
                            <a:pt x="104" y="96"/>
                          </a:lnTo>
                          <a:lnTo>
                            <a:pt x="99" y="94"/>
                          </a:lnTo>
                          <a:lnTo>
                            <a:pt x="96" y="91"/>
                          </a:lnTo>
                          <a:lnTo>
                            <a:pt x="93" y="88"/>
                          </a:lnTo>
                          <a:lnTo>
                            <a:pt x="89" y="85"/>
                          </a:lnTo>
                          <a:lnTo>
                            <a:pt x="86" y="83"/>
                          </a:lnTo>
                          <a:lnTo>
                            <a:pt x="81" y="80"/>
                          </a:lnTo>
                          <a:lnTo>
                            <a:pt x="78" y="77"/>
                          </a:lnTo>
                          <a:lnTo>
                            <a:pt x="75" y="74"/>
                          </a:lnTo>
                          <a:lnTo>
                            <a:pt x="72" y="72"/>
                          </a:lnTo>
                          <a:lnTo>
                            <a:pt x="67" y="69"/>
                          </a:lnTo>
                          <a:lnTo>
                            <a:pt x="64" y="68"/>
                          </a:lnTo>
                          <a:lnTo>
                            <a:pt x="61" y="63"/>
                          </a:lnTo>
                          <a:lnTo>
                            <a:pt x="57" y="62"/>
                          </a:lnTo>
                          <a:lnTo>
                            <a:pt x="54" y="59"/>
                          </a:lnTo>
                          <a:lnTo>
                            <a:pt x="49" y="57"/>
                          </a:lnTo>
                          <a:lnTo>
                            <a:pt x="46" y="54"/>
                          </a:lnTo>
                          <a:lnTo>
                            <a:pt x="43" y="52"/>
                          </a:lnTo>
                          <a:lnTo>
                            <a:pt x="38" y="50"/>
                          </a:lnTo>
                          <a:lnTo>
                            <a:pt x="35" y="47"/>
                          </a:lnTo>
                          <a:lnTo>
                            <a:pt x="31" y="46"/>
                          </a:lnTo>
                          <a:lnTo>
                            <a:pt x="28" y="43"/>
                          </a:lnTo>
                          <a:lnTo>
                            <a:pt x="23" y="40"/>
                          </a:lnTo>
                          <a:lnTo>
                            <a:pt x="20" y="39"/>
                          </a:lnTo>
                          <a:lnTo>
                            <a:pt x="15" y="37"/>
                          </a:lnTo>
                          <a:lnTo>
                            <a:pt x="12" y="36"/>
                          </a:lnTo>
                          <a:lnTo>
                            <a:pt x="8" y="35"/>
                          </a:lnTo>
                          <a:lnTo>
                            <a:pt x="5" y="32"/>
                          </a:lnTo>
                          <a:lnTo>
                            <a:pt x="3" y="28"/>
                          </a:lnTo>
                          <a:lnTo>
                            <a:pt x="2" y="25"/>
                          </a:lnTo>
                          <a:lnTo>
                            <a:pt x="0" y="20"/>
                          </a:lnTo>
                          <a:lnTo>
                            <a:pt x="0" y="15"/>
                          </a:lnTo>
                          <a:lnTo>
                            <a:pt x="0" y="10"/>
                          </a:lnTo>
                          <a:lnTo>
                            <a:pt x="2" y="6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260"/>
                    <p:cNvSpPr/>
                    <p:nvPr/>
                  </p:nvSpPr>
                  <p:spPr>
                    <a:xfrm>
                      <a:off x="830880" y="2067480"/>
                      <a:ext cx="7200" cy="12708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127080"/>
                        <a:gd name="textAreaBottom" fmla="*/ 127440 h 127080"/>
                      </a:gdLst>
                      <a:ahLst/>
                      <a:rect l="textAreaLeft" t="textAreaTop" r="textAreaRight" b="textAreaBottom"/>
                      <a:pathLst>
                        <a:path w="35" h="449">
                          <a:moveTo>
                            <a:pt x="12" y="0"/>
                          </a:moveTo>
                          <a:lnTo>
                            <a:pt x="15" y="4"/>
                          </a:lnTo>
                          <a:lnTo>
                            <a:pt x="18" y="8"/>
                          </a:lnTo>
                          <a:lnTo>
                            <a:pt x="21" y="14"/>
                          </a:lnTo>
                          <a:lnTo>
                            <a:pt x="24" y="18"/>
                          </a:lnTo>
                          <a:lnTo>
                            <a:pt x="26" y="23"/>
                          </a:lnTo>
                          <a:lnTo>
                            <a:pt x="27" y="27"/>
                          </a:lnTo>
                          <a:lnTo>
                            <a:pt x="29" y="33"/>
                          </a:lnTo>
                          <a:lnTo>
                            <a:pt x="30" y="40"/>
                          </a:lnTo>
                          <a:lnTo>
                            <a:pt x="32" y="44"/>
                          </a:lnTo>
                          <a:lnTo>
                            <a:pt x="32" y="49"/>
                          </a:lnTo>
                          <a:lnTo>
                            <a:pt x="32" y="55"/>
                          </a:lnTo>
                          <a:lnTo>
                            <a:pt x="32" y="60"/>
                          </a:lnTo>
                          <a:lnTo>
                            <a:pt x="32" y="67"/>
                          </a:lnTo>
                          <a:lnTo>
                            <a:pt x="32" y="73"/>
                          </a:lnTo>
                          <a:lnTo>
                            <a:pt x="32" y="76"/>
                          </a:lnTo>
                          <a:lnTo>
                            <a:pt x="32" y="78"/>
                          </a:lnTo>
                          <a:lnTo>
                            <a:pt x="32" y="82"/>
                          </a:lnTo>
                          <a:lnTo>
                            <a:pt x="34" y="85"/>
                          </a:lnTo>
                          <a:lnTo>
                            <a:pt x="32" y="91"/>
                          </a:lnTo>
                          <a:lnTo>
                            <a:pt x="32" y="97"/>
                          </a:lnTo>
                          <a:lnTo>
                            <a:pt x="32" y="103"/>
                          </a:lnTo>
                          <a:lnTo>
                            <a:pt x="32" y="108"/>
                          </a:lnTo>
                          <a:lnTo>
                            <a:pt x="30" y="114"/>
                          </a:lnTo>
                          <a:lnTo>
                            <a:pt x="30" y="121"/>
                          </a:lnTo>
                          <a:lnTo>
                            <a:pt x="30" y="126"/>
                          </a:lnTo>
                          <a:lnTo>
                            <a:pt x="30" y="132"/>
                          </a:lnTo>
                          <a:lnTo>
                            <a:pt x="29" y="139"/>
                          </a:lnTo>
                          <a:lnTo>
                            <a:pt x="29" y="144"/>
                          </a:lnTo>
                          <a:lnTo>
                            <a:pt x="29" y="150"/>
                          </a:lnTo>
                          <a:lnTo>
                            <a:pt x="30" y="155"/>
                          </a:lnTo>
                          <a:lnTo>
                            <a:pt x="30" y="161"/>
                          </a:lnTo>
                          <a:lnTo>
                            <a:pt x="30" y="166"/>
                          </a:lnTo>
                          <a:lnTo>
                            <a:pt x="32" y="172"/>
                          </a:lnTo>
                          <a:lnTo>
                            <a:pt x="34" y="177"/>
                          </a:lnTo>
                          <a:lnTo>
                            <a:pt x="34" y="181"/>
                          </a:lnTo>
                          <a:lnTo>
                            <a:pt x="34" y="185"/>
                          </a:lnTo>
                          <a:lnTo>
                            <a:pt x="34" y="189"/>
                          </a:lnTo>
                          <a:lnTo>
                            <a:pt x="34" y="194"/>
                          </a:lnTo>
                          <a:lnTo>
                            <a:pt x="34" y="198"/>
                          </a:lnTo>
                          <a:lnTo>
                            <a:pt x="34" y="203"/>
                          </a:lnTo>
                          <a:lnTo>
                            <a:pt x="34" y="206"/>
                          </a:lnTo>
                          <a:lnTo>
                            <a:pt x="34" y="211"/>
                          </a:lnTo>
                          <a:lnTo>
                            <a:pt x="34" y="216"/>
                          </a:lnTo>
                          <a:lnTo>
                            <a:pt x="34" y="220"/>
                          </a:lnTo>
                          <a:lnTo>
                            <a:pt x="34" y="224"/>
                          </a:lnTo>
                          <a:lnTo>
                            <a:pt x="34" y="228"/>
                          </a:lnTo>
                          <a:lnTo>
                            <a:pt x="34" y="232"/>
                          </a:lnTo>
                          <a:lnTo>
                            <a:pt x="34" y="236"/>
                          </a:lnTo>
                          <a:lnTo>
                            <a:pt x="34" y="240"/>
                          </a:lnTo>
                          <a:lnTo>
                            <a:pt x="34" y="244"/>
                          </a:lnTo>
                          <a:lnTo>
                            <a:pt x="34" y="248"/>
                          </a:lnTo>
                          <a:lnTo>
                            <a:pt x="34" y="253"/>
                          </a:lnTo>
                          <a:lnTo>
                            <a:pt x="34" y="257"/>
                          </a:lnTo>
                          <a:lnTo>
                            <a:pt x="34" y="262"/>
                          </a:lnTo>
                          <a:lnTo>
                            <a:pt x="34" y="265"/>
                          </a:lnTo>
                          <a:lnTo>
                            <a:pt x="34" y="270"/>
                          </a:lnTo>
                          <a:lnTo>
                            <a:pt x="34" y="275"/>
                          </a:lnTo>
                          <a:lnTo>
                            <a:pt x="34" y="279"/>
                          </a:lnTo>
                          <a:lnTo>
                            <a:pt x="34" y="283"/>
                          </a:lnTo>
                          <a:lnTo>
                            <a:pt x="34" y="287"/>
                          </a:lnTo>
                          <a:lnTo>
                            <a:pt x="34" y="291"/>
                          </a:lnTo>
                          <a:lnTo>
                            <a:pt x="35" y="297"/>
                          </a:lnTo>
                          <a:lnTo>
                            <a:pt x="35" y="299"/>
                          </a:lnTo>
                          <a:lnTo>
                            <a:pt x="35" y="305"/>
                          </a:lnTo>
                          <a:lnTo>
                            <a:pt x="35" y="309"/>
                          </a:lnTo>
                          <a:lnTo>
                            <a:pt x="35" y="313"/>
                          </a:lnTo>
                          <a:lnTo>
                            <a:pt x="35" y="317"/>
                          </a:lnTo>
                          <a:lnTo>
                            <a:pt x="35" y="321"/>
                          </a:lnTo>
                          <a:lnTo>
                            <a:pt x="35" y="325"/>
                          </a:lnTo>
                          <a:lnTo>
                            <a:pt x="35" y="331"/>
                          </a:lnTo>
                          <a:lnTo>
                            <a:pt x="35" y="334"/>
                          </a:lnTo>
                          <a:lnTo>
                            <a:pt x="35" y="339"/>
                          </a:lnTo>
                          <a:lnTo>
                            <a:pt x="35" y="343"/>
                          </a:lnTo>
                          <a:lnTo>
                            <a:pt x="35" y="347"/>
                          </a:lnTo>
                          <a:lnTo>
                            <a:pt x="35" y="351"/>
                          </a:lnTo>
                          <a:lnTo>
                            <a:pt x="35" y="356"/>
                          </a:lnTo>
                          <a:lnTo>
                            <a:pt x="35" y="360"/>
                          </a:lnTo>
                          <a:lnTo>
                            <a:pt x="35" y="364"/>
                          </a:lnTo>
                          <a:lnTo>
                            <a:pt x="35" y="368"/>
                          </a:lnTo>
                          <a:lnTo>
                            <a:pt x="35" y="372"/>
                          </a:lnTo>
                          <a:lnTo>
                            <a:pt x="35" y="376"/>
                          </a:lnTo>
                          <a:lnTo>
                            <a:pt x="35" y="380"/>
                          </a:lnTo>
                          <a:lnTo>
                            <a:pt x="35" y="384"/>
                          </a:lnTo>
                          <a:lnTo>
                            <a:pt x="35" y="390"/>
                          </a:lnTo>
                          <a:lnTo>
                            <a:pt x="35" y="393"/>
                          </a:lnTo>
                          <a:lnTo>
                            <a:pt x="35" y="398"/>
                          </a:lnTo>
                          <a:lnTo>
                            <a:pt x="35" y="402"/>
                          </a:lnTo>
                          <a:lnTo>
                            <a:pt x="35" y="406"/>
                          </a:lnTo>
                          <a:lnTo>
                            <a:pt x="35" y="410"/>
                          </a:lnTo>
                          <a:lnTo>
                            <a:pt x="35" y="415"/>
                          </a:lnTo>
                          <a:lnTo>
                            <a:pt x="34" y="419"/>
                          </a:lnTo>
                          <a:lnTo>
                            <a:pt x="34" y="423"/>
                          </a:lnTo>
                          <a:lnTo>
                            <a:pt x="34" y="427"/>
                          </a:lnTo>
                          <a:lnTo>
                            <a:pt x="34" y="432"/>
                          </a:lnTo>
                          <a:lnTo>
                            <a:pt x="34" y="435"/>
                          </a:lnTo>
                          <a:lnTo>
                            <a:pt x="34" y="441"/>
                          </a:lnTo>
                          <a:lnTo>
                            <a:pt x="34" y="445"/>
                          </a:lnTo>
                          <a:lnTo>
                            <a:pt x="34" y="449"/>
                          </a:lnTo>
                          <a:lnTo>
                            <a:pt x="29" y="449"/>
                          </a:lnTo>
                          <a:lnTo>
                            <a:pt x="26" y="449"/>
                          </a:lnTo>
                          <a:lnTo>
                            <a:pt x="23" y="449"/>
                          </a:lnTo>
                          <a:lnTo>
                            <a:pt x="20" y="449"/>
                          </a:lnTo>
                          <a:lnTo>
                            <a:pt x="17" y="448"/>
                          </a:lnTo>
                          <a:lnTo>
                            <a:pt x="14" y="448"/>
                          </a:lnTo>
                          <a:lnTo>
                            <a:pt x="11" y="448"/>
                          </a:lnTo>
                          <a:lnTo>
                            <a:pt x="8" y="448"/>
                          </a:lnTo>
                          <a:lnTo>
                            <a:pt x="8" y="441"/>
                          </a:lnTo>
                          <a:lnTo>
                            <a:pt x="8" y="434"/>
                          </a:lnTo>
                          <a:lnTo>
                            <a:pt x="6" y="427"/>
                          </a:lnTo>
                          <a:lnTo>
                            <a:pt x="6" y="420"/>
                          </a:lnTo>
                          <a:lnTo>
                            <a:pt x="6" y="413"/>
                          </a:lnTo>
                          <a:lnTo>
                            <a:pt x="6" y="406"/>
                          </a:lnTo>
                          <a:lnTo>
                            <a:pt x="6" y="399"/>
                          </a:lnTo>
                          <a:lnTo>
                            <a:pt x="6" y="393"/>
                          </a:lnTo>
                          <a:lnTo>
                            <a:pt x="4" y="386"/>
                          </a:lnTo>
                          <a:lnTo>
                            <a:pt x="4" y="380"/>
                          </a:lnTo>
                          <a:lnTo>
                            <a:pt x="4" y="373"/>
                          </a:lnTo>
                          <a:lnTo>
                            <a:pt x="4" y="367"/>
                          </a:lnTo>
                          <a:lnTo>
                            <a:pt x="4" y="360"/>
                          </a:lnTo>
                          <a:lnTo>
                            <a:pt x="4" y="353"/>
                          </a:lnTo>
                          <a:lnTo>
                            <a:pt x="4" y="346"/>
                          </a:lnTo>
                          <a:lnTo>
                            <a:pt x="4" y="340"/>
                          </a:lnTo>
                          <a:lnTo>
                            <a:pt x="4" y="334"/>
                          </a:lnTo>
                          <a:lnTo>
                            <a:pt x="4" y="327"/>
                          </a:lnTo>
                          <a:lnTo>
                            <a:pt x="4" y="320"/>
                          </a:lnTo>
                          <a:lnTo>
                            <a:pt x="4" y="313"/>
                          </a:lnTo>
                          <a:lnTo>
                            <a:pt x="3" y="306"/>
                          </a:lnTo>
                          <a:lnTo>
                            <a:pt x="3" y="299"/>
                          </a:lnTo>
                          <a:lnTo>
                            <a:pt x="3" y="294"/>
                          </a:lnTo>
                          <a:lnTo>
                            <a:pt x="3" y="287"/>
                          </a:lnTo>
                          <a:lnTo>
                            <a:pt x="3" y="280"/>
                          </a:lnTo>
                          <a:lnTo>
                            <a:pt x="3" y="273"/>
                          </a:lnTo>
                          <a:lnTo>
                            <a:pt x="3" y="266"/>
                          </a:lnTo>
                          <a:lnTo>
                            <a:pt x="3" y="261"/>
                          </a:lnTo>
                          <a:lnTo>
                            <a:pt x="3" y="254"/>
                          </a:lnTo>
                          <a:lnTo>
                            <a:pt x="3" y="247"/>
                          </a:lnTo>
                          <a:lnTo>
                            <a:pt x="3" y="242"/>
                          </a:lnTo>
                          <a:lnTo>
                            <a:pt x="3" y="235"/>
                          </a:lnTo>
                          <a:lnTo>
                            <a:pt x="1" y="228"/>
                          </a:lnTo>
                          <a:lnTo>
                            <a:pt x="1" y="221"/>
                          </a:lnTo>
                          <a:lnTo>
                            <a:pt x="1" y="214"/>
                          </a:lnTo>
                          <a:lnTo>
                            <a:pt x="1" y="207"/>
                          </a:lnTo>
                          <a:lnTo>
                            <a:pt x="1" y="200"/>
                          </a:lnTo>
                          <a:lnTo>
                            <a:pt x="1" y="194"/>
                          </a:lnTo>
                          <a:lnTo>
                            <a:pt x="1" y="188"/>
                          </a:lnTo>
                          <a:lnTo>
                            <a:pt x="1" y="181"/>
                          </a:lnTo>
                          <a:lnTo>
                            <a:pt x="1" y="174"/>
                          </a:lnTo>
                          <a:lnTo>
                            <a:pt x="1" y="167"/>
                          </a:lnTo>
                          <a:lnTo>
                            <a:pt x="1" y="161"/>
                          </a:lnTo>
                          <a:lnTo>
                            <a:pt x="1" y="154"/>
                          </a:lnTo>
                          <a:lnTo>
                            <a:pt x="1" y="148"/>
                          </a:lnTo>
                          <a:lnTo>
                            <a:pt x="1" y="141"/>
                          </a:lnTo>
                          <a:lnTo>
                            <a:pt x="1" y="135"/>
                          </a:lnTo>
                          <a:lnTo>
                            <a:pt x="1" y="128"/>
                          </a:lnTo>
                          <a:lnTo>
                            <a:pt x="1" y="121"/>
                          </a:lnTo>
                          <a:lnTo>
                            <a:pt x="1" y="114"/>
                          </a:lnTo>
                          <a:lnTo>
                            <a:pt x="1" y="107"/>
                          </a:lnTo>
                          <a:lnTo>
                            <a:pt x="1" y="102"/>
                          </a:lnTo>
                          <a:lnTo>
                            <a:pt x="1" y="95"/>
                          </a:lnTo>
                          <a:lnTo>
                            <a:pt x="1" y="88"/>
                          </a:lnTo>
                          <a:lnTo>
                            <a:pt x="1" y="81"/>
                          </a:lnTo>
                          <a:lnTo>
                            <a:pt x="1" y="74"/>
                          </a:lnTo>
                          <a:lnTo>
                            <a:pt x="0" y="67"/>
                          </a:lnTo>
                          <a:lnTo>
                            <a:pt x="0" y="60"/>
                          </a:lnTo>
                          <a:lnTo>
                            <a:pt x="0" y="54"/>
                          </a:lnTo>
                          <a:lnTo>
                            <a:pt x="0" y="47"/>
                          </a:lnTo>
                          <a:lnTo>
                            <a:pt x="0" y="40"/>
                          </a:lnTo>
                          <a:lnTo>
                            <a:pt x="0" y="33"/>
                          </a:lnTo>
                          <a:lnTo>
                            <a:pt x="0" y="27"/>
                          </a:lnTo>
                          <a:lnTo>
                            <a:pt x="0" y="21"/>
                          </a:lnTo>
                          <a:lnTo>
                            <a:pt x="1" y="18"/>
                          </a:lnTo>
                          <a:lnTo>
                            <a:pt x="3" y="15"/>
                          </a:lnTo>
                          <a:lnTo>
                            <a:pt x="4" y="11"/>
                          </a:lnTo>
                          <a:lnTo>
                            <a:pt x="6" y="8"/>
                          </a:lnTo>
                          <a:lnTo>
                            <a:pt x="9" y="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4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Freeform 261"/>
                    <p:cNvSpPr/>
                    <p:nvPr/>
                  </p:nvSpPr>
                  <p:spPr>
                    <a:xfrm>
                      <a:off x="892800" y="2061720"/>
                      <a:ext cx="8640" cy="133200"/>
                    </a:xfrm>
                    <a:custGeom>
                      <a:avLst/>
                      <a:gdLst>
                        <a:gd name="textAreaLeft" fmla="*/ 0 w 8640"/>
                        <a:gd name="textAreaRight" fmla="*/ 9000 w 86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40" h="470">
                          <a:moveTo>
                            <a:pt x="11" y="0"/>
                          </a:moveTo>
                          <a:lnTo>
                            <a:pt x="14" y="3"/>
                          </a:lnTo>
                          <a:lnTo>
                            <a:pt x="17" y="7"/>
                          </a:lnTo>
                          <a:lnTo>
                            <a:pt x="18" y="11"/>
                          </a:lnTo>
                          <a:lnTo>
                            <a:pt x="21" y="17"/>
                          </a:lnTo>
                          <a:lnTo>
                            <a:pt x="23" y="21"/>
                          </a:lnTo>
                          <a:lnTo>
                            <a:pt x="24" y="26"/>
                          </a:lnTo>
                          <a:lnTo>
                            <a:pt x="26" y="30"/>
                          </a:lnTo>
                          <a:lnTo>
                            <a:pt x="27" y="37"/>
                          </a:lnTo>
                          <a:lnTo>
                            <a:pt x="27" y="41"/>
                          </a:lnTo>
                          <a:lnTo>
                            <a:pt x="29" y="47"/>
                          </a:lnTo>
                          <a:lnTo>
                            <a:pt x="29" y="52"/>
                          </a:lnTo>
                          <a:lnTo>
                            <a:pt x="29" y="58"/>
                          </a:lnTo>
                          <a:lnTo>
                            <a:pt x="29" y="63"/>
                          </a:lnTo>
                          <a:lnTo>
                            <a:pt x="29" y="70"/>
                          </a:lnTo>
                          <a:lnTo>
                            <a:pt x="29" y="76"/>
                          </a:lnTo>
                          <a:lnTo>
                            <a:pt x="29" y="81"/>
                          </a:lnTo>
                          <a:lnTo>
                            <a:pt x="29" y="87"/>
                          </a:lnTo>
                          <a:lnTo>
                            <a:pt x="27" y="92"/>
                          </a:lnTo>
                          <a:lnTo>
                            <a:pt x="27" y="98"/>
                          </a:lnTo>
                          <a:lnTo>
                            <a:pt x="27" y="104"/>
                          </a:lnTo>
                          <a:lnTo>
                            <a:pt x="27" y="110"/>
                          </a:lnTo>
                          <a:lnTo>
                            <a:pt x="27" y="115"/>
                          </a:lnTo>
                          <a:lnTo>
                            <a:pt x="27" y="121"/>
                          </a:lnTo>
                          <a:lnTo>
                            <a:pt x="27" y="128"/>
                          </a:lnTo>
                          <a:lnTo>
                            <a:pt x="27" y="133"/>
                          </a:lnTo>
                          <a:lnTo>
                            <a:pt x="27" y="139"/>
                          </a:lnTo>
                          <a:lnTo>
                            <a:pt x="27" y="144"/>
                          </a:lnTo>
                          <a:lnTo>
                            <a:pt x="27" y="150"/>
                          </a:lnTo>
                          <a:lnTo>
                            <a:pt x="27" y="155"/>
                          </a:lnTo>
                          <a:lnTo>
                            <a:pt x="29" y="161"/>
                          </a:lnTo>
                          <a:lnTo>
                            <a:pt x="31" y="166"/>
                          </a:lnTo>
                          <a:lnTo>
                            <a:pt x="32" y="172"/>
                          </a:lnTo>
                          <a:lnTo>
                            <a:pt x="32" y="176"/>
                          </a:lnTo>
                          <a:lnTo>
                            <a:pt x="32" y="180"/>
                          </a:lnTo>
                          <a:lnTo>
                            <a:pt x="32" y="185"/>
                          </a:lnTo>
                          <a:lnTo>
                            <a:pt x="34" y="189"/>
                          </a:lnTo>
                          <a:lnTo>
                            <a:pt x="34" y="195"/>
                          </a:lnTo>
                          <a:lnTo>
                            <a:pt x="34" y="199"/>
                          </a:lnTo>
                          <a:lnTo>
                            <a:pt x="34" y="203"/>
                          </a:lnTo>
                          <a:lnTo>
                            <a:pt x="34" y="209"/>
                          </a:lnTo>
                          <a:lnTo>
                            <a:pt x="34" y="213"/>
                          </a:lnTo>
                          <a:lnTo>
                            <a:pt x="34" y="217"/>
                          </a:lnTo>
                          <a:lnTo>
                            <a:pt x="34" y="222"/>
                          </a:lnTo>
                          <a:lnTo>
                            <a:pt x="35" y="227"/>
                          </a:lnTo>
                          <a:lnTo>
                            <a:pt x="35" y="232"/>
                          </a:lnTo>
                          <a:lnTo>
                            <a:pt x="35" y="236"/>
                          </a:lnTo>
                          <a:lnTo>
                            <a:pt x="35" y="240"/>
                          </a:lnTo>
                          <a:lnTo>
                            <a:pt x="37" y="246"/>
                          </a:lnTo>
                          <a:lnTo>
                            <a:pt x="37" y="250"/>
                          </a:lnTo>
                          <a:lnTo>
                            <a:pt x="37" y="254"/>
                          </a:lnTo>
                          <a:lnTo>
                            <a:pt x="37" y="259"/>
                          </a:lnTo>
                          <a:lnTo>
                            <a:pt x="37" y="264"/>
                          </a:lnTo>
                          <a:lnTo>
                            <a:pt x="37" y="269"/>
                          </a:lnTo>
                          <a:lnTo>
                            <a:pt x="37" y="273"/>
                          </a:lnTo>
                          <a:lnTo>
                            <a:pt x="37" y="277"/>
                          </a:lnTo>
                          <a:lnTo>
                            <a:pt x="37" y="283"/>
                          </a:lnTo>
                          <a:lnTo>
                            <a:pt x="37" y="287"/>
                          </a:lnTo>
                          <a:lnTo>
                            <a:pt x="37" y="291"/>
                          </a:lnTo>
                          <a:lnTo>
                            <a:pt x="37" y="297"/>
                          </a:lnTo>
                          <a:lnTo>
                            <a:pt x="38" y="301"/>
                          </a:lnTo>
                          <a:lnTo>
                            <a:pt x="38" y="306"/>
                          </a:lnTo>
                          <a:lnTo>
                            <a:pt x="38" y="310"/>
                          </a:lnTo>
                          <a:lnTo>
                            <a:pt x="38" y="316"/>
                          </a:lnTo>
                          <a:lnTo>
                            <a:pt x="40" y="320"/>
                          </a:lnTo>
                          <a:lnTo>
                            <a:pt x="40" y="324"/>
                          </a:lnTo>
                          <a:lnTo>
                            <a:pt x="40" y="329"/>
                          </a:lnTo>
                          <a:lnTo>
                            <a:pt x="40" y="334"/>
                          </a:lnTo>
                          <a:lnTo>
                            <a:pt x="40" y="339"/>
                          </a:lnTo>
                          <a:lnTo>
                            <a:pt x="40" y="343"/>
                          </a:lnTo>
                          <a:lnTo>
                            <a:pt x="40" y="347"/>
                          </a:lnTo>
                          <a:lnTo>
                            <a:pt x="40" y="353"/>
                          </a:lnTo>
                          <a:lnTo>
                            <a:pt x="40" y="357"/>
                          </a:lnTo>
                          <a:lnTo>
                            <a:pt x="40" y="362"/>
                          </a:lnTo>
                          <a:lnTo>
                            <a:pt x="40" y="367"/>
                          </a:lnTo>
                          <a:lnTo>
                            <a:pt x="40" y="371"/>
                          </a:lnTo>
                          <a:lnTo>
                            <a:pt x="40" y="376"/>
                          </a:lnTo>
                          <a:lnTo>
                            <a:pt x="40" y="380"/>
                          </a:lnTo>
                          <a:lnTo>
                            <a:pt x="40" y="386"/>
                          </a:lnTo>
                          <a:lnTo>
                            <a:pt x="40" y="390"/>
                          </a:lnTo>
                          <a:lnTo>
                            <a:pt x="40" y="395"/>
                          </a:lnTo>
                          <a:lnTo>
                            <a:pt x="38" y="399"/>
                          </a:lnTo>
                          <a:lnTo>
                            <a:pt x="38" y="404"/>
                          </a:lnTo>
                          <a:lnTo>
                            <a:pt x="38" y="408"/>
                          </a:lnTo>
                          <a:lnTo>
                            <a:pt x="38" y="413"/>
                          </a:lnTo>
                          <a:lnTo>
                            <a:pt x="37" y="417"/>
                          </a:lnTo>
                          <a:lnTo>
                            <a:pt x="37" y="423"/>
                          </a:lnTo>
                          <a:lnTo>
                            <a:pt x="37" y="427"/>
                          </a:lnTo>
                          <a:lnTo>
                            <a:pt x="37" y="432"/>
                          </a:lnTo>
                          <a:lnTo>
                            <a:pt x="37" y="437"/>
                          </a:lnTo>
                          <a:lnTo>
                            <a:pt x="37" y="441"/>
                          </a:lnTo>
                          <a:lnTo>
                            <a:pt x="37" y="445"/>
                          </a:lnTo>
                          <a:lnTo>
                            <a:pt x="37" y="450"/>
                          </a:lnTo>
                          <a:lnTo>
                            <a:pt x="35" y="454"/>
                          </a:lnTo>
                          <a:lnTo>
                            <a:pt x="35" y="460"/>
                          </a:lnTo>
                          <a:lnTo>
                            <a:pt x="35" y="464"/>
                          </a:lnTo>
                          <a:lnTo>
                            <a:pt x="35" y="470"/>
                          </a:lnTo>
                          <a:lnTo>
                            <a:pt x="29" y="468"/>
                          </a:lnTo>
                          <a:lnTo>
                            <a:pt x="23" y="468"/>
                          </a:lnTo>
                          <a:lnTo>
                            <a:pt x="17" y="467"/>
                          </a:lnTo>
                          <a:lnTo>
                            <a:pt x="12" y="467"/>
                          </a:lnTo>
                          <a:lnTo>
                            <a:pt x="12" y="460"/>
                          </a:lnTo>
                          <a:lnTo>
                            <a:pt x="12" y="452"/>
                          </a:lnTo>
                          <a:lnTo>
                            <a:pt x="11" y="445"/>
                          </a:lnTo>
                          <a:lnTo>
                            <a:pt x="11" y="438"/>
                          </a:lnTo>
                          <a:lnTo>
                            <a:pt x="11" y="431"/>
                          </a:lnTo>
                          <a:lnTo>
                            <a:pt x="11" y="424"/>
                          </a:lnTo>
                          <a:lnTo>
                            <a:pt x="11" y="416"/>
                          </a:lnTo>
                          <a:lnTo>
                            <a:pt x="11" y="409"/>
                          </a:lnTo>
                          <a:lnTo>
                            <a:pt x="11" y="402"/>
                          </a:lnTo>
                          <a:lnTo>
                            <a:pt x="11" y="395"/>
                          </a:lnTo>
                          <a:lnTo>
                            <a:pt x="11" y="389"/>
                          </a:lnTo>
                          <a:lnTo>
                            <a:pt x="11" y="382"/>
                          </a:lnTo>
                          <a:lnTo>
                            <a:pt x="9" y="375"/>
                          </a:lnTo>
                          <a:lnTo>
                            <a:pt x="9" y="367"/>
                          </a:lnTo>
                          <a:lnTo>
                            <a:pt x="9" y="360"/>
                          </a:lnTo>
                          <a:lnTo>
                            <a:pt x="9" y="353"/>
                          </a:lnTo>
                          <a:lnTo>
                            <a:pt x="9" y="346"/>
                          </a:lnTo>
                          <a:lnTo>
                            <a:pt x="8" y="339"/>
                          </a:lnTo>
                          <a:lnTo>
                            <a:pt x="8" y="331"/>
                          </a:lnTo>
                          <a:lnTo>
                            <a:pt x="8" y="324"/>
                          </a:lnTo>
                          <a:lnTo>
                            <a:pt x="8" y="317"/>
                          </a:lnTo>
                          <a:lnTo>
                            <a:pt x="6" y="310"/>
                          </a:lnTo>
                          <a:lnTo>
                            <a:pt x="6" y="303"/>
                          </a:lnTo>
                          <a:lnTo>
                            <a:pt x="6" y="297"/>
                          </a:lnTo>
                          <a:lnTo>
                            <a:pt x="6" y="290"/>
                          </a:lnTo>
                          <a:lnTo>
                            <a:pt x="6" y="283"/>
                          </a:lnTo>
                          <a:lnTo>
                            <a:pt x="6" y="276"/>
                          </a:lnTo>
                          <a:lnTo>
                            <a:pt x="6" y="269"/>
                          </a:lnTo>
                          <a:lnTo>
                            <a:pt x="5" y="262"/>
                          </a:lnTo>
                          <a:lnTo>
                            <a:pt x="5" y="255"/>
                          </a:lnTo>
                          <a:lnTo>
                            <a:pt x="5" y="249"/>
                          </a:lnTo>
                          <a:lnTo>
                            <a:pt x="5" y="242"/>
                          </a:lnTo>
                          <a:lnTo>
                            <a:pt x="5" y="235"/>
                          </a:lnTo>
                          <a:lnTo>
                            <a:pt x="5" y="227"/>
                          </a:lnTo>
                          <a:lnTo>
                            <a:pt x="3" y="220"/>
                          </a:lnTo>
                          <a:lnTo>
                            <a:pt x="3" y="213"/>
                          </a:lnTo>
                          <a:lnTo>
                            <a:pt x="3" y="206"/>
                          </a:lnTo>
                          <a:lnTo>
                            <a:pt x="3" y="199"/>
                          </a:lnTo>
                          <a:lnTo>
                            <a:pt x="3" y="192"/>
                          </a:lnTo>
                          <a:lnTo>
                            <a:pt x="3" y="185"/>
                          </a:lnTo>
                          <a:lnTo>
                            <a:pt x="3" y="178"/>
                          </a:lnTo>
                          <a:lnTo>
                            <a:pt x="3" y="172"/>
                          </a:lnTo>
                          <a:lnTo>
                            <a:pt x="1" y="163"/>
                          </a:lnTo>
                          <a:lnTo>
                            <a:pt x="1" y="158"/>
                          </a:lnTo>
                          <a:lnTo>
                            <a:pt x="1" y="150"/>
                          </a:lnTo>
                          <a:lnTo>
                            <a:pt x="1" y="143"/>
                          </a:lnTo>
                          <a:lnTo>
                            <a:pt x="1" y="136"/>
                          </a:lnTo>
                          <a:lnTo>
                            <a:pt x="1" y="129"/>
                          </a:lnTo>
                          <a:lnTo>
                            <a:pt x="0" y="122"/>
                          </a:lnTo>
                          <a:lnTo>
                            <a:pt x="0" y="115"/>
                          </a:lnTo>
                          <a:lnTo>
                            <a:pt x="0" y="107"/>
                          </a:lnTo>
                          <a:lnTo>
                            <a:pt x="0" y="102"/>
                          </a:lnTo>
                          <a:lnTo>
                            <a:pt x="0" y="93"/>
                          </a:lnTo>
                          <a:lnTo>
                            <a:pt x="0" y="87"/>
                          </a:lnTo>
                          <a:lnTo>
                            <a:pt x="0" y="80"/>
                          </a:lnTo>
                          <a:lnTo>
                            <a:pt x="0" y="74"/>
                          </a:lnTo>
                          <a:lnTo>
                            <a:pt x="0" y="66"/>
                          </a:lnTo>
                          <a:lnTo>
                            <a:pt x="0" y="59"/>
                          </a:lnTo>
                          <a:lnTo>
                            <a:pt x="0" y="52"/>
                          </a:lnTo>
                          <a:lnTo>
                            <a:pt x="0" y="45"/>
                          </a:lnTo>
                          <a:lnTo>
                            <a:pt x="0" y="38"/>
                          </a:lnTo>
                          <a:lnTo>
                            <a:pt x="0" y="32"/>
                          </a:lnTo>
                          <a:lnTo>
                            <a:pt x="0" y="25"/>
                          </a:lnTo>
                          <a:lnTo>
                            <a:pt x="0" y="18"/>
                          </a:lnTo>
                          <a:lnTo>
                            <a:pt x="0" y="15"/>
                          </a:lnTo>
                          <a:lnTo>
                            <a:pt x="0" y="12"/>
                          </a:lnTo>
                          <a:lnTo>
                            <a:pt x="1" y="8"/>
                          </a:lnTo>
                          <a:lnTo>
                            <a:pt x="3" y="6"/>
                          </a:lnTo>
                          <a:lnTo>
                            <a:pt x="6" y="1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262"/>
                    <p:cNvSpPr/>
                    <p:nvPr/>
                  </p:nvSpPr>
                  <p:spPr>
                    <a:xfrm>
                      <a:off x="851040" y="2225520"/>
                      <a:ext cx="183960" cy="9360"/>
                    </a:xfrm>
                    <a:custGeom>
                      <a:avLst/>
                      <a:gdLst>
                        <a:gd name="textAreaLeft" fmla="*/ 0 w 183960"/>
                        <a:gd name="textAreaRight" fmla="*/ 183960 w 1839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850" h="34">
                          <a:moveTo>
                            <a:pt x="465" y="0"/>
                          </a:moveTo>
                          <a:lnTo>
                            <a:pt x="469" y="0"/>
                          </a:lnTo>
                          <a:lnTo>
                            <a:pt x="475" y="0"/>
                          </a:lnTo>
                          <a:lnTo>
                            <a:pt x="482" y="0"/>
                          </a:lnTo>
                          <a:lnTo>
                            <a:pt x="486" y="0"/>
                          </a:lnTo>
                          <a:lnTo>
                            <a:pt x="492" y="0"/>
                          </a:lnTo>
                          <a:lnTo>
                            <a:pt x="498" y="0"/>
                          </a:lnTo>
                          <a:lnTo>
                            <a:pt x="503" y="0"/>
                          </a:lnTo>
                          <a:lnTo>
                            <a:pt x="509" y="1"/>
                          </a:lnTo>
                          <a:lnTo>
                            <a:pt x="515" y="1"/>
                          </a:lnTo>
                          <a:lnTo>
                            <a:pt x="521" y="1"/>
                          </a:lnTo>
                          <a:lnTo>
                            <a:pt x="527" y="1"/>
                          </a:lnTo>
                          <a:lnTo>
                            <a:pt x="534" y="1"/>
                          </a:lnTo>
                          <a:lnTo>
                            <a:pt x="538" y="1"/>
                          </a:lnTo>
                          <a:lnTo>
                            <a:pt x="544" y="1"/>
                          </a:lnTo>
                          <a:lnTo>
                            <a:pt x="550" y="1"/>
                          </a:lnTo>
                          <a:lnTo>
                            <a:pt x="556" y="1"/>
                          </a:lnTo>
                          <a:lnTo>
                            <a:pt x="561" y="1"/>
                          </a:lnTo>
                          <a:lnTo>
                            <a:pt x="567" y="1"/>
                          </a:lnTo>
                          <a:lnTo>
                            <a:pt x="573" y="1"/>
                          </a:lnTo>
                          <a:lnTo>
                            <a:pt x="578" y="1"/>
                          </a:lnTo>
                          <a:lnTo>
                            <a:pt x="584" y="1"/>
                          </a:lnTo>
                          <a:lnTo>
                            <a:pt x="590" y="1"/>
                          </a:lnTo>
                          <a:lnTo>
                            <a:pt x="595" y="1"/>
                          </a:lnTo>
                          <a:lnTo>
                            <a:pt x="601" y="1"/>
                          </a:lnTo>
                          <a:lnTo>
                            <a:pt x="607" y="1"/>
                          </a:lnTo>
                          <a:lnTo>
                            <a:pt x="613" y="1"/>
                          </a:lnTo>
                          <a:lnTo>
                            <a:pt x="619" y="1"/>
                          </a:lnTo>
                          <a:lnTo>
                            <a:pt x="625" y="1"/>
                          </a:lnTo>
                          <a:lnTo>
                            <a:pt x="630" y="1"/>
                          </a:lnTo>
                          <a:lnTo>
                            <a:pt x="636" y="1"/>
                          </a:lnTo>
                          <a:lnTo>
                            <a:pt x="642" y="1"/>
                          </a:lnTo>
                          <a:lnTo>
                            <a:pt x="648" y="3"/>
                          </a:lnTo>
                          <a:lnTo>
                            <a:pt x="653" y="1"/>
                          </a:lnTo>
                          <a:lnTo>
                            <a:pt x="659" y="1"/>
                          </a:lnTo>
                          <a:lnTo>
                            <a:pt x="665" y="1"/>
                          </a:lnTo>
                          <a:lnTo>
                            <a:pt x="671" y="1"/>
                          </a:lnTo>
                          <a:lnTo>
                            <a:pt x="676" y="1"/>
                          </a:lnTo>
                          <a:lnTo>
                            <a:pt x="682" y="1"/>
                          </a:lnTo>
                          <a:lnTo>
                            <a:pt x="688" y="1"/>
                          </a:lnTo>
                          <a:lnTo>
                            <a:pt x="694" y="1"/>
                          </a:lnTo>
                          <a:lnTo>
                            <a:pt x="699" y="1"/>
                          </a:lnTo>
                          <a:lnTo>
                            <a:pt x="705" y="1"/>
                          </a:lnTo>
                          <a:lnTo>
                            <a:pt x="711" y="1"/>
                          </a:lnTo>
                          <a:lnTo>
                            <a:pt x="716" y="1"/>
                          </a:lnTo>
                          <a:lnTo>
                            <a:pt x="722" y="1"/>
                          </a:lnTo>
                          <a:lnTo>
                            <a:pt x="728" y="1"/>
                          </a:lnTo>
                          <a:lnTo>
                            <a:pt x="732" y="1"/>
                          </a:lnTo>
                          <a:lnTo>
                            <a:pt x="740" y="1"/>
                          </a:lnTo>
                          <a:lnTo>
                            <a:pt x="745" y="0"/>
                          </a:lnTo>
                          <a:lnTo>
                            <a:pt x="751" y="0"/>
                          </a:lnTo>
                          <a:lnTo>
                            <a:pt x="757" y="0"/>
                          </a:lnTo>
                          <a:lnTo>
                            <a:pt x="761" y="0"/>
                          </a:lnTo>
                          <a:lnTo>
                            <a:pt x="768" y="0"/>
                          </a:lnTo>
                          <a:lnTo>
                            <a:pt x="774" y="0"/>
                          </a:lnTo>
                          <a:lnTo>
                            <a:pt x="778" y="0"/>
                          </a:lnTo>
                          <a:lnTo>
                            <a:pt x="784" y="0"/>
                          </a:lnTo>
                          <a:lnTo>
                            <a:pt x="791" y="0"/>
                          </a:lnTo>
                          <a:lnTo>
                            <a:pt x="797" y="0"/>
                          </a:lnTo>
                          <a:lnTo>
                            <a:pt x="801" y="0"/>
                          </a:lnTo>
                          <a:lnTo>
                            <a:pt x="807" y="0"/>
                          </a:lnTo>
                          <a:lnTo>
                            <a:pt x="813" y="0"/>
                          </a:lnTo>
                          <a:lnTo>
                            <a:pt x="818" y="0"/>
                          </a:lnTo>
                          <a:lnTo>
                            <a:pt x="824" y="0"/>
                          </a:lnTo>
                          <a:lnTo>
                            <a:pt x="830" y="0"/>
                          </a:lnTo>
                          <a:lnTo>
                            <a:pt x="835" y="4"/>
                          </a:lnTo>
                          <a:lnTo>
                            <a:pt x="839" y="8"/>
                          </a:lnTo>
                          <a:lnTo>
                            <a:pt x="846" y="12"/>
                          </a:lnTo>
                          <a:lnTo>
                            <a:pt x="850" y="16"/>
                          </a:lnTo>
                          <a:lnTo>
                            <a:pt x="846" y="18"/>
                          </a:lnTo>
                          <a:lnTo>
                            <a:pt x="841" y="22"/>
                          </a:lnTo>
                          <a:lnTo>
                            <a:pt x="836" y="26"/>
                          </a:lnTo>
                          <a:lnTo>
                            <a:pt x="833" y="30"/>
                          </a:lnTo>
                          <a:lnTo>
                            <a:pt x="820" y="29"/>
                          </a:lnTo>
                          <a:lnTo>
                            <a:pt x="807" y="29"/>
                          </a:lnTo>
                          <a:lnTo>
                            <a:pt x="794" y="29"/>
                          </a:lnTo>
                          <a:lnTo>
                            <a:pt x="780" y="29"/>
                          </a:lnTo>
                          <a:lnTo>
                            <a:pt x="768" y="29"/>
                          </a:lnTo>
                          <a:lnTo>
                            <a:pt x="754" y="29"/>
                          </a:lnTo>
                          <a:lnTo>
                            <a:pt x="742" y="29"/>
                          </a:lnTo>
                          <a:lnTo>
                            <a:pt x="728" y="29"/>
                          </a:lnTo>
                          <a:lnTo>
                            <a:pt x="716" y="29"/>
                          </a:lnTo>
                          <a:lnTo>
                            <a:pt x="702" y="29"/>
                          </a:lnTo>
                          <a:lnTo>
                            <a:pt x="688" y="29"/>
                          </a:lnTo>
                          <a:lnTo>
                            <a:pt x="676" y="29"/>
                          </a:lnTo>
                          <a:lnTo>
                            <a:pt x="664" y="29"/>
                          </a:lnTo>
                          <a:lnTo>
                            <a:pt x="650" y="29"/>
                          </a:lnTo>
                          <a:lnTo>
                            <a:pt x="638" y="29"/>
                          </a:lnTo>
                          <a:lnTo>
                            <a:pt x="625" y="29"/>
                          </a:lnTo>
                          <a:lnTo>
                            <a:pt x="612" y="29"/>
                          </a:lnTo>
                          <a:lnTo>
                            <a:pt x="598" y="29"/>
                          </a:lnTo>
                          <a:lnTo>
                            <a:pt x="586" y="29"/>
                          </a:lnTo>
                          <a:lnTo>
                            <a:pt x="573" y="29"/>
                          </a:lnTo>
                          <a:lnTo>
                            <a:pt x="560" y="29"/>
                          </a:lnTo>
                          <a:lnTo>
                            <a:pt x="547" y="29"/>
                          </a:lnTo>
                          <a:lnTo>
                            <a:pt x="534" y="29"/>
                          </a:lnTo>
                          <a:lnTo>
                            <a:pt x="521" y="29"/>
                          </a:lnTo>
                          <a:lnTo>
                            <a:pt x="509" y="29"/>
                          </a:lnTo>
                          <a:lnTo>
                            <a:pt x="495" y="29"/>
                          </a:lnTo>
                          <a:lnTo>
                            <a:pt x="482" y="29"/>
                          </a:lnTo>
                          <a:lnTo>
                            <a:pt x="469" y="29"/>
                          </a:lnTo>
                          <a:lnTo>
                            <a:pt x="457" y="29"/>
                          </a:lnTo>
                          <a:lnTo>
                            <a:pt x="445" y="30"/>
                          </a:lnTo>
                          <a:lnTo>
                            <a:pt x="431" y="30"/>
                          </a:lnTo>
                          <a:lnTo>
                            <a:pt x="419" y="30"/>
                          </a:lnTo>
                          <a:lnTo>
                            <a:pt x="405" y="30"/>
                          </a:lnTo>
                          <a:lnTo>
                            <a:pt x="393" y="30"/>
                          </a:lnTo>
                          <a:lnTo>
                            <a:pt x="379" y="30"/>
                          </a:lnTo>
                          <a:lnTo>
                            <a:pt x="367" y="30"/>
                          </a:lnTo>
                          <a:lnTo>
                            <a:pt x="353" y="30"/>
                          </a:lnTo>
                          <a:lnTo>
                            <a:pt x="341" y="32"/>
                          </a:lnTo>
                          <a:lnTo>
                            <a:pt x="327" y="32"/>
                          </a:lnTo>
                          <a:lnTo>
                            <a:pt x="315" y="32"/>
                          </a:lnTo>
                          <a:lnTo>
                            <a:pt x="303" y="32"/>
                          </a:lnTo>
                          <a:lnTo>
                            <a:pt x="289" y="32"/>
                          </a:lnTo>
                          <a:lnTo>
                            <a:pt x="277" y="32"/>
                          </a:lnTo>
                          <a:lnTo>
                            <a:pt x="264" y="32"/>
                          </a:lnTo>
                          <a:lnTo>
                            <a:pt x="251" y="32"/>
                          </a:lnTo>
                          <a:lnTo>
                            <a:pt x="238" y="32"/>
                          </a:lnTo>
                          <a:lnTo>
                            <a:pt x="225" y="32"/>
                          </a:lnTo>
                          <a:lnTo>
                            <a:pt x="212" y="33"/>
                          </a:lnTo>
                          <a:lnTo>
                            <a:pt x="200" y="33"/>
                          </a:lnTo>
                          <a:lnTo>
                            <a:pt x="186" y="33"/>
                          </a:lnTo>
                          <a:lnTo>
                            <a:pt x="173" y="33"/>
                          </a:lnTo>
                          <a:lnTo>
                            <a:pt x="160" y="33"/>
                          </a:lnTo>
                          <a:lnTo>
                            <a:pt x="148" y="33"/>
                          </a:lnTo>
                          <a:lnTo>
                            <a:pt x="136" y="33"/>
                          </a:lnTo>
                          <a:lnTo>
                            <a:pt x="122" y="33"/>
                          </a:lnTo>
                          <a:lnTo>
                            <a:pt x="110" y="34"/>
                          </a:lnTo>
                          <a:lnTo>
                            <a:pt x="96" y="34"/>
                          </a:lnTo>
                          <a:lnTo>
                            <a:pt x="84" y="34"/>
                          </a:lnTo>
                          <a:lnTo>
                            <a:pt x="70" y="34"/>
                          </a:lnTo>
                          <a:lnTo>
                            <a:pt x="58" y="34"/>
                          </a:lnTo>
                          <a:lnTo>
                            <a:pt x="46" y="34"/>
                          </a:lnTo>
                          <a:lnTo>
                            <a:pt x="32" y="34"/>
                          </a:lnTo>
                          <a:lnTo>
                            <a:pt x="20" y="34"/>
                          </a:lnTo>
                          <a:lnTo>
                            <a:pt x="7" y="34"/>
                          </a:lnTo>
                          <a:lnTo>
                            <a:pt x="4" y="29"/>
                          </a:lnTo>
                          <a:lnTo>
                            <a:pt x="3" y="25"/>
                          </a:lnTo>
                          <a:lnTo>
                            <a:pt x="1" y="19"/>
                          </a:lnTo>
                          <a:lnTo>
                            <a:pt x="0" y="16"/>
                          </a:lnTo>
                          <a:lnTo>
                            <a:pt x="3" y="15"/>
                          </a:lnTo>
                          <a:lnTo>
                            <a:pt x="7" y="14"/>
                          </a:lnTo>
                          <a:lnTo>
                            <a:pt x="12" y="14"/>
                          </a:lnTo>
                          <a:lnTo>
                            <a:pt x="17" y="12"/>
                          </a:lnTo>
                          <a:lnTo>
                            <a:pt x="21" y="12"/>
                          </a:lnTo>
                          <a:lnTo>
                            <a:pt x="26" y="11"/>
                          </a:lnTo>
                          <a:lnTo>
                            <a:pt x="30" y="11"/>
                          </a:lnTo>
                          <a:lnTo>
                            <a:pt x="35" y="11"/>
                          </a:lnTo>
                          <a:lnTo>
                            <a:pt x="39" y="10"/>
                          </a:lnTo>
                          <a:lnTo>
                            <a:pt x="44" y="10"/>
                          </a:lnTo>
                          <a:lnTo>
                            <a:pt x="49" y="10"/>
                          </a:lnTo>
                          <a:lnTo>
                            <a:pt x="53" y="10"/>
                          </a:lnTo>
                          <a:lnTo>
                            <a:pt x="58" y="8"/>
                          </a:lnTo>
                          <a:lnTo>
                            <a:pt x="62" y="8"/>
                          </a:lnTo>
                          <a:lnTo>
                            <a:pt x="67" y="8"/>
                          </a:lnTo>
                          <a:lnTo>
                            <a:pt x="72" y="8"/>
                          </a:lnTo>
                          <a:lnTo>
                            <a:pt x="76" y="7"/>
                          </a:lnTo>
                          <a:lnTo>
                            <a:pt x="81" y="7"/>
                          </a:lnTo>
                          <a:lnTo>
                            <a:pt x="85" y="7"/>
                          </a:lnTo>
                          <a:lnTo>
                            <a:pt x="90" y="7"/>
                          </a:lnTo>
                          <a:lnTo>
                            <a:pt x="95" y="7"/>
                          </a:lnTo>
                          <a:lnTo>
                            <a:pt x="99" y="7"/>
                          </a:lnTo>
                          <a:lnTo>
                            <a:pt x="104" y="7"/>
                          </a:lnTo>
                          <a:lnTo>
                            <a:pt x="108" y="7"/>
                          </a:lnTo>
                          <a:lnTo>
                            <a:pt x="113" y="7"/>
                          </a:lnTo>
                          <a:lnTo>
                            <a:pt x="117" y="7"/>
                          </a:lnTo>
                          <a:lnTo>
                            <a:pt x="122" y="7"/>
                          </a:lnTo>
                          <a:lnTo>
                            <a:pt x="128" y="7"/>
                          </a:lnTo>
                          <a:lnTo>
                            <a:pt x="131" y="7"/>
                          </a:lnTo>
                          <a:lnTo>
                            <a:pt x="137" y="7"/>
                          </a:lnTo>
                          <a:lnTo>
                            <a:pt x="142" y="7"/>
                          </a:lnTo>
                          <a:lnTo>
                            <a:pt x="147" y="7"/>
                          </a:lnTo>
                          <a:lnTo>
                            <a:pt x="150" y="7"/>
                          </a:lnTo>
                          <a:lnTo>
                            <a:pt x="156" y="7"/>
                          </a:lnTo>
                          <a:lnTo>
                            <a:pt x="160" y="7"/>
                          </a:lnTo>
                          <a:lnTo>
                            <a:pt x="165" y="7"/>
                          </a:lnTo>
                          <a:lnTo>
                            <a:pt x="169" y="7"/>
                          </a:lnTo>
                          <a:lnTo>
                            <a:pt x="174" y="7"/>
                          </a:lnTo>
                          <a:lnTo>
                            <a:pt x="179" y="7"/>
                          </a:lnTo>
                          <a:lnTo>
                            <a:pt x="183" y="7"/>
                          </a:lnTo>
                          <a:lnTo>
                            <a:pt x="188" y="7"/>
                          </a:lnTo>
                          <a:lnTo>
                            <a:pt x="192" y="7"/>
                          </a:lnTo>
                          <a:lnTo>
                            <a:pt x="197" y="7"/>
                          </a:lnTo>
                          <a:lnTo>
                            <a:pt x="202" y="7"/>
                          </a:lnTo>
                          <a:lnTo>
                            <a:pt x="206" y="7"/>
                          </a:lnTo>
                          <a:lnTo>
                            <a:pt x="211" y="7"/>
                          </a:lnTo>
                          <a:lnTo>
                            <a:pt x="215" y="7"/>
                          </a:lnTo>
                          <a:lnTo>
                            <a:pt x="221" y="7"/>
                          </a:lnTo>
                          <a:lnTo>
                            <a:pt x="225" y="7"/>
                          </a:lnTo>
                          <a:lnTo>
                            <a:pt x="231" y="7"/>
                          </a:lnTo>
                          <a:lnTo>
                            <a:pt x="235" y="7"/>
                          </a:lnTo>
                          <a:lnTo>
                            <a:pt x="240" y="7"/>
                          </a:lnTo>
                          <a:lnTo>
                            <a:pt x="244" y="7"/>
                          </a:lnTo>
                          <a:lnTo>
                            <a:pt x="249" y="7"/>
                          </a:lnTo>
                          <a:lnTo>
                            <a:pt x="254" y="7"/>
                          </a:lnTo>
                          <a:lnTo>
                            <a:pt x="260" y="7"/>
                          </a:lnTo>
                          <a:lnTo>
                            <a:pt x="263" y="5"/>
                          </a:lnTo>
                          <a:lnTo>
                            <a:pt x="269" y="5"/>
                          </a:lnTo>
                          <a:lnTo>
                            <a:pt x="273" y="5"/>
                          </a:lnTo>
                          <a:lnTo>
                            <a:pt x="278" y="5"/>
                          </a:lnTo>
                          <a:lnTo>
                            <a:pt x="283" y="4"/>
                          </a:lnTo>
                          <a:lnTo>
                            <a:pt x="287" y="4"/>
                          </a:lnTo>
                          <a:lnTo>
                            <a:pt x="292" y="4"/>
                          </a:lnTo>
                          <a:lnTo>
                            <a:pt x="296" y="4"/>
                          </a:lnTo>
                          <a:lnTo>
                            <a:pt x="303" y="4"/>
                          </a:lnTo>
                          <a:lnTo>
                            <a:pt x="307" y="4"/>
                          </a:lnTo>
                          <a:lnTo>
                            <a:pt x="312" y="4"/>
                          </a:lnTo>
                          <a:lnTo>
                            <a:pt x="318" y="4"/>
                          </a:lnTo>
                          <a:lnTo>
                            <a:pt x="322" y="4"/>
                          </a:lnTo>
                          <a:lnTo>
                            <a:pt x="327" y="4"/>
                          </a:lnTo>
                          <a:lnTo>
                            <a:pt x="333" y="4"/>
                          </a:lnTo>
                          <a:lnTo>
                            <a:pt x="339" y="4"/>
                          </a:lnTo>
                          <a:lnTo>
                            <a:pt x="344" y="4"/>
                          </a:lnTo>
                          <a:lnTo>
                            <a:pt x="348" y="4"/>
                          </a:lnTo>
                          <a:lnTo>
                            <a:pt x="355" y="4"/>
                          </a:lnTo>
                          <a:lnTo>
                            <a:pt x="359" y="4"/>
                          </a:lnTo>
                          <a:lnTo>
                            <a:pt x="365" y="4"/>
                          </a:lnTo>
                          <a:lnTo>
                            <a:pt x="370" y="4"/>
                          </a:lnTo>
                          <a:lnTo>
                            <a:pt x="376" y="4"/>
                          </a:lnTo>
                          <a:lnTo>
                            <a:pt x="382" y="4"/>
                          </a:lnTo>
                          <a:lnTo>
                            <a:pt x="387" y="4"/>
                          </a:lnTo>
                          <a:lnTo>
                            <a:pt x="391" y="4"/>
                          </a:lnTo>
                          <a:lnTo>
                            <a:pt x="396" y="4"/>
                          </a:lnTo>
                          <a:lnTo>
                            <a:pt x="402" y="4"/>
                          </a:lnTo>
                          <a:lnTo>
                            <a:pt x="407" y="4"/>
                          </a:lnTo>
                          <a:lnTo>
                            <a:pt x="413" y="4"/>
                          </a:lnTo>
                          <a:lnTo>
                            <a:pt x="417" y="4"/>
                          </a:lnTo>
                          <a:lnTo>
                            <a:pt x="423" y="4"/>
                          </a:lnTo>
                          <a:lnTo>
                            <a:pt x="428" y="3"/>
                          </a:lnTo>
                          <a:lnTo>
                            <a:pt x="433" y="3"/>
                          </a:lnTo>
                          <a:lnTo>
                            <a:pt x="437" y="1"/>
                          </a:lnTo>
                          <a:lnTo>
                            <a:pt x="443" y="1"/>
                          </a:lnTo>
                          <a:lnTo>
                            <a:pt x="448" y="1"/>
                          </a:lnTo>
                          <a:lnTo>
                            <a:pt x="454" y="0"/>
                          </a:lnTo>
                          <a:lnTo>
                            <a:pt x="459" y="0"/>
                          </a:lnTo>
                          <a:lnTo>
                            <a:pt x="46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263"/>
                    <p:cNvSpPr/>
                    <p:nvPr/>
                  </p:nvSpPr>
                  <p:spPr>
                    <a:xfrm>
                      <a:off x="975960" y="2278440"/>
                      <a:ext cx="9720" cy="18720"/>
                    </a:xfrm>
                    <a:custGeom>
                      <a:avLst/>
                      <a:gdLst>
                        <a:gd name="textAreaLeft" fmla="*/ 0 w 9720"/>
                        <a:gd name="textAreaRight" fmla="*/ 10080 w 9720"/>
                        <a:gd name="textAreaTop" fmla="*/ 0 h 18720"/>
                        <a:gd name="textAreaBottom" fmla="*/ 19080 h 18720"/>
                      </a:gdLst>
                      <a:ahLst/>
                      <a:rect l="textAreaLeft" t="textAreaTop" r="textAreaRight" b="textAreaBottom"/>
                      <a:pathLst>
                        <a:path w="46" h="66">
                          <a:moveTo>
                            <a:pt x="12" y="0"/>
                          </a:moveTo>
                          <a:lnTo>
                            <a:pt x="15" y="1"/>
                          </a:lnTo>
                          <a:lnTo>
                            <a:pt x="20" y="4"/>
                          </a:lnTo>
                          <a:lnTo>
                            <a:pt x="23" y="6"/>
                          </a:lnTo>
                          <a:lnTo>
                            <a:pt x="27" y="11"/>
                          </a:lnTo>
                          <a:lnTo>
                            <a:pt x="30" y="13"/>
                          </a:lnTo>
                          <a:lnTo>
                            <a:pt x="34" y="19"/>
                          </a:lnTo>
                          <a:lnTo>
                            <a:pt x="35" y="22"/>
                          </a:lnTo>
                          <a:lnTo>
                            <a:pt x="38" y="27"/>
                          </a:lnTo>
                          <a:lnTo>
                            <a:pt x="41" y="31"/>
                          </a:lnTo>
                          <a:lnTo>
                            <a:pt x="43" y="35"/>
                          </a:lnTo>
                          <a:lnTo>
                            <a:pt x="44" y="41"/>
                          </a:lnTo>
                          <a:lnTo>
                            <a:pt x="46" y="46"/>
                          </a:lnTo>
                          <a:lnTo>
                            <a:pt x="46" y="50"/>
                          </a:lnTo>
                          <a:lnTo>
                            <a:pt x="46" y="56"/>
                          </a:lnTo>
                          <a:lnTo>
                            <a:pt x="46" y="60"/>
                          </a:lnTo>
                          <a:lnTo>
                            <a:pt x="44" y="66"/>
                          </a:lnTo>
                          <a:lnTo>
                            <a:pt x="41" y="64"/>
                          </a:lnTo>
                          <a:lnTo>
                            <a:pt x="38" y="63"/>
                          </a:lnTo>
                          <a:lnTo>
                            <a:pt x="35" y="63"/>
                          </a:lnTo>
                          <a:lnTo>
                            <a:pt x="32" y="63"/>
                          </a:lnTo>
                          <a:lnTo>
                            <a:pt x="29" y="61"/>
                          </a:lnTo>
                          <a:lnTo>
                            <a:pt x="26" y="61"/>
                          </a:lnTo>
                          <a:lnTo>
                            <a:pt x="23" y="61"/>
                          </a:lnTo>
                          <a:lnTo>
                            <a:pt x="20" y="60"/>
                          </a:lnTo>
                          <a:lnTo>
                            <a:pt x="17" y="57"/>
                          </a:lnTo>
                          <a:lnTo>
                            <a:pt x="15" y="53"/>
                          </a:lnTo>
                          <a:lnTo>
                            <a:pt x="12" y="49"/>
                          </a:lnTo>
                          <a:lnTo>
                            <a:pt x="11" y="46"/>
                          </a:lnTo>
                          <a:lnTo>
                            <a:pt x="8" y="42"/>
                          </a:lnTo>
                          <a:lnTo>
                            <a:pt x="6" y="38"/>
                          </a:lnTo>
                          <a:lnTo>
                            <a:pt x="3" y="34"/>
                          </a:lnTo>
                          <a:lnTo>
                            <a:pt x="3" y="31"/>
                          </a:lnTo>
                          <a:lnTo>
                            <a:pt x="0" y="26"/>
                          </a:lnTo>
                          <a:lnTo>
                            <a:pt x="0" y="22"/>
                          </a:lnTo>
                          <a:lnTo>
                            <a:pt x="0" y="17"/>
                          </a:lnTo>
                          <a:lnTo>
                            <a:pt x="0" y="13"/>
                          </a:lnTo>
                          <a:lnTo>
                            <a:pt x="1" y="9"/>
                          </a:lnTo>
                          <a:lnTo>
                            <a:pt x="4" y="6"/>
                          </a:lnTo>
                          <a:lnTo>
                            <a:pt x="8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Freeform 264"/>
                    <p:cNvSpPr/>
                    <p:nvPr/>
                  </p:nvSpPr>
                  <p:spPr>
                    <a:xfrm>
                      <a:off x="1020240" y="2278800"/>
                      <a:ext cx="11160" cy="2412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24120"/>
                        <a:gd name="textAreaBottom" fmla="*/ 24480 h 24120"/>
                      </a:gdLst>
                      <a:ahLst/>
                      <a:rect l="textAreaLeft" t="textAreaTop" r="textAreaRight" b="textAreaBottom"/>
                      <a:pathLst>
                        <a:path w="52" h="86">
                          <a:moveTo>
                            <a:pt x="9" y="0"/>
                          </a:moveTo>
                          <a:lnTo>
                            <a:pt x="15" y="1"/>
                          </a:lnTo>
                          <a:lnTo>
                            <a:pt x="21" y="5"/>
                          </a:lnTo>
                          <a:lnTo>
                            <a:pt x="24" y="8"/>
                          </a:lnTo>
                          <a:lnTo>
                            <a:pt x="29" y="11"/>
                          </a:lnTo>
                          <a:lnTo>
                            <a:pt x="32" y="14"/>
                          </a:lnTo>
                          <a:lnTo>
                            <a:pt x="34" y="19"/>
                          </a:lnTo>
                          <a:lnTo>
                            <a:pt x="35" y="23"/>
                          </a:lnTo>
                          <a:lnTo>
                            <a:pt x="38" y="29"/>
                          </a:lnTo>
                          <a:lnTo>
                            <a:pt x="38" y="33"/>
                          </a:lnTo>
                          <a:lnTo>
                            <a:pt x="40" y="38"/>
                          </a:lnTo>
                          <a:lnTo>
                            <a:pt x="40" y="44"/>
                          </a:lnTo>
                          <a:lnTo>
                            <a:pt x="41" y="48"/>
                          </a:lnTo>
                          <a:lnTo>
                            <a:pt x="43" y="54"/>
                          </a:lnTo>
                          <a:lnTo>
                            <a:pt x="46" y="58"/>
                          </a:lnTo>
                          <a:lnTo>
                            <a:pt x="49" y="62"/>
                          </a:lnTo>
                          <a:lnTo>
                            <a:pt x="52" y="67"/>
                          </a:lnTo>
                          <a:lnTo>
                            <a:pt x="52" y="71"/>
                          </a:lnTo>
                          <a:lnTo>
                            <a:pt x="49" y="77"/>
                          </a:lnTo>
                          <a:lnTo>
                            <a:pt x="46" y="82"/>
                          </a:lnTo>
                          <a:lnTo>
                            <a:pt x="44" y="86"/>
                          </a:lnTo>
                          <a:lnTo>
                            <a:pt x="41" y="85"/>
                          </a:lnTo>
                          <a:lnTo>
                            <a:pt x="37" y="85"/>
                          </a:lnTo>
                          <a:lnTo>
                            <a:pt x="34" y="82"/>
                          </a:lnTo>
                          <a:lnTo>
                            <a:pt x="32" y="82"/>
                          </a:lnTo>
                          <a:lnTo>
                            <a:pt x="26" y="78"/>
                          </a:lnTo>
                          <a:lnTo>
                            <a:pt x="23" y="74"/>
                          </a:lnTo>
                          <a:lnTo>
                            <a:pt x="18" y="70"/>
                          </a:lnTo>
                          <a:lnTo>
                            <a:pt x="15" y="65"/>
                          </a:lnTo>
                          <a:lnTo>
                            <a:pt x="12" y="60"/>
                          </a:lnTo>
                          <a:lnTo>
                            <a:pt x="11" y="55"/>
                          </a:lnTo>
                          <a:lnTo>
                            <a:pt x="8" y="48"/>
                          </a:lnTo>
                          <a:lnTo>
                            <a:pt x="6" y="43"/>
                          </a:lnTo>
                          <a:lnTo>
                            <a:pt x="4" y="37"/>
                          </a:lnTo>
                          <a:lnTo>
                            <a:pt x="4" y="32"/>
                          </a:lnTo>
                          <a:lnTo>
                            <a:pt x="3" y="26"/>
                          </a:lnTo>
                          <a:lnTo>
                            <a:pt x="1" y="21"/>
                          </a:lnTo>
                          <a:lnTo>
                            <a:pt x="0" y="15"/>
                          </a:lnTo>
                          <a:lnTo>
                            <a:pt x="0" y="10"/>
                          </a:lnTo>
                          <a:lnTo>
                            <a:pt x="1" y="8"/>
                          </a:lnTo>
                          <a:lnTo>
                            <a:pt x="4" y="5"/>
                          </a:lnTo>
                          <a:lnTo>
                            <a:pt x="8" y="3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265"/>
                    <p:cNvSpPr/>
                    <p:nvPr/>
                  </p:nvSpPr>
                  <p:spPr>
                    <a:xfrm>
                      <a:off x="1004400" y="2279520"/>
                      <a:ext cx="10080" cy="2052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48" h="73">
                          <a:moveTo>
                            <a:pt x="10" y="0"/>
                          </a:moveTo>
                          <a:lnTo>
                            <a:pt x="14" y="1"/>
                          </a:lnTo>
                          <a:lnTo>
                            <a:pt x="19" y="5"/>
                          </a:lnTo>
                          <a:lnTo>
                            <a:pt x="23" y="8"/>
                          </a:lnTo>
                          <a:lnTo>
                            <a:pt x="26" y="11"/>
                          </a:lnTo>
                          <a:lnTo>
                            <a:pt x="29" y="15"/>
                          </a:lnTo>
                          <a:lnTo>
                            <a:pt x="33" y="19"/>
                          </a:lnTo>
                          <a:lnTo>
                            <a:pt x="34" y="23"/>
                          </a:lnTo>
                          <a:lnTo>
                            <a:pt x="37" y="29"/>
                          </a:lnTo>
                          <a:lnTo>
                            <a:pt x="39" y="33"/>
                          </a:lnTo>
                          <a:lnTo>
                            <a:pt x="40" y="38"/>
                          </a:lnTo>
                          <a:lnTo>
                            <a:pt x="42" y="42"/>
                          </a:lnTo>
                          <a:lnTo>
                            <a:pt x="43" y="48"/>
                          </a:lnTo>
                          <a:lnTo>
                            <a:pt x="45" y="53"/>
                          </a:lnTo>
                          <a:lnTo>
                            <a:pt x="45" y="57"/>
                          </a:lnTo>
                          <a:lnTo>
                            <a:pt x="46" y="63"/>
                          </a:lnTo>
                          <a:lnTo>
                            <a:pt x="48" y="68"/>
                          </a:lnTo>
                          <a:lnTo>
                            <a:pt x="43" y="68"/>
                          </a:lnTo>
                          <a:lnTo>
                            <a:pt x="37" y="70"/>
                          </a:lnTo>
                          <a:lnTo>
                            <a:pt x="31" y="71"/>
                          </a:lnTo>
                          <a:lnTo>
                            <a:pt x="25" y="73"/>
                          </a:lnTo>
                          <a:lnTo>
                            <a:pt x="22" y="68"/>
                          </a:lnTo>
                          <a:lnTo>
                            <a:pt x="19" y="64"/>
                          </a:lnTo>
                          <a:lnTo>
                            <a:pt x="14" y="59"/>
                          </a:lnTo>
                          <a:lnTo>
                            <a:pt x="13" y="55"/>
                          </a:lnTo>
                          <a:lnTo>
                            <a:pt x="10" y="51"/>
                          </a:lnTo>
                          <a:lnTo>
                            <a:pt x="7" y="45"/>
                          </a:lnTo>
                          <a:lnTo>
                            <a:pt x="5" y="41"/>
                          </a:lnTo>
                          <a:lnTo>
                            <a:pt x="3" y="37"/>
                          </a:lnTo>
                          <a:lnTo>
                            <a:pt x="2" y="31"/>
                          </a:lnTo>
                          <a:lnTo>
                            <a:pt x="0" y="27"/>
                          </a:lnTo>
                          <a:lnTo>
                            <a:pt x="0" y="22"/>
                          </a:lnTo>
                          <a:lnTo>
                            <a:pt x="0" y="18"/>
                          </a:lnTo>
                          <a:lnTo>
                            <a:pt x="2" y="12"/>
                          </a:lnTo>
                          <a:lnTo>
                            <a:pt x="3" y="8"/>
                          </a:lnTo>
                          <a:lnTo>
                            <a:pt x="7" y="4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266"/>
                    <p:cNvSpPr/>
                    <p:nvPr/>
                  </p:nvSpPr>
                  <p:spPr>
                    <a:xfrm>
                      <a:off x="1039680" y="2282040"/>
                      <a:ext cx="11880" cy="198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9800"/>
                        <a:gd name="textAreaBottom" fmla="*/ 20160 h 19800"/>
                      </a:gdLst>
                      <a:ahLst/>
                      <a:rect l="textAreaLeft" t="textAreaTop" r="textAreaRight" b="textAreaBottom"/>
                      <a:pathLst>
                        <a:path w="55" h="70">
                          <a:moveTo>
                            <a:pt x="12" y="0"/>
                          </a:moveTo>
                          <a:lnTo>
                            <a:pt x="16" y="2"/>
                          </a:lnTo>
                          <a:lnTo>
                            <a:pt x="21" y="4"/>
                          </a:lnTo>
                          <a:lnTo>
                            <a:pt x="24" y="7"/>
                          </a:lnTo>
                          <a:lnTo>
                            <a:pt x="29" y="11"/>
                          </a:lnTo>
                          <a:lnTo>
                            <a:pt x="32" y="14"/>
                          </a:lnTo>
                          <a:lnTo>
                            <a:pt x="35" y="18"/>
                          </a:lnTo>
                          <a:lnTo>
                            <a:pt x="38" y="24"/>
                          </a:lnTo>
                          <a:lnTo>
                            <a:pt x="39" y="28"/>
                          </a:lnTo>
                          <a:lnTo>
                            <a:pt x="42" y="33"/>
                          </a:lnTo>
                          <a:lnTo>
                            <a:pt x="44" y="37"/>
                          </a:lnTo>
                          <a:lnTo>
                            <a:pt x="45" y="43"/>
                          </a:lnTo>
                          <a:lnTo>
                            <a:pt x="47" y="48"/>
                          </a:lnTo>
                          <a:lnTo>
                            <a:pt x="49" y="53"/>
                          </a:lnTo>
                          <a:lnTo>
                            <a:pt x="50" y="57"/>
                          </a:lnTo>
                          <a:lnTo>
                            <a:pt x="52" y="62"/>
                          </a:lnTo>
                          <a:lnTo>
                            <a:pt x="55" y="66"/>
                          </a:lnTo>
                          <a:lnTo>
                            <a:pt x="49" y="68"/>
                          </a:lnTo>
                          <a:lnTo>
                            <a:pt x="42" y="69"/>
                          </a:lnTo>
                          <a:lnTo>
                            <a:pt x="38" y="70"/>
                          </a:lnTo>
                          <a:lnTo>
                            <a:pt x="32" y="70"/>
                          </a:lnTo>
                          <a:lnTo>
                            <a:pt x="27" y="66"/>
                          </a:lnTo>
                          <a:lnTo>
                            <a:pt x="23" y="64"/>
                          </a:lnTo>
                          <a:lnTo>
                            <a:pt x="19" y="59"/>
                          </a:lnTo>
                          <a:lnTo>
                            <a:pt x="16" y="55"/>
                          </a:lnTo>
                          <a:lnTo>
                            <a:pt x="12" y="50"/>
                          </a:lnTo>
                          <a:lnTo>
                            <a:pt x="9" y="46"/>
                          </a:lnTo>
                          <a:lnTo>
                            <a:pt x="6" y="42"/>
                          </a:lnTo>
                          <a:lnTo>
                            <a:pt x="4" y="36"/>
                          </a:lnTo>
                          <a:lnTo>
                            <a:pt x="1" y="32"/>
                          </a:lnTo>
                          <a:lnTo>
                            <a:pt x="1" y="26"/>
                          </a:lnTo>
                          <a:lnTo>
                            <a:pt x="0" y="21"/>
                          </a:lnTo>
                          <a:lnTo>
                            <a:pt x="1" y="17"/>
                          </a:lnTo>
                          <a:lnTo>
                            <a:pt x="1" y="11"/>
                          </a:lnTo>
                          <a:lnTo>
                            <a:pt x="4" y="9"/>
                          </a:lnTo>
                          <a:lnTo>
                            <a:pt x="7" y="3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Freeform 267"/>
                    <p:cNvSpPr/>
                    <p:nvPr/>
                  </p:nvSpPr>
                  <p:spPr>
                    <a:xfrm>
                      <a:off x="1055880" y="2284200"/>
                      <a:ext cx="10080" cy="2088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20880"/>
                        <a:gd name="textAreaBottom" fmla="*/ 21240 h 20880"/>
                      </a:gdLst>
                      <a:ahLst/>
                      <a:rect l="textAreaLeft" t="textAreaTop" r="textAreaRight" b="textAreaBottom"/>
                      <a:pathLst>
                        <a:path w="47" h="74">
                          <a:moveTo>
                            <a:pt x="9" y="0"/>
                          </a:moveTo>
                          <a:lnTo>
                            <a:pt x="15" y="2"/>
                          </a:lnTo>
                          <a:lnTo>
                            <a:pt x="19" y="4"/>
                          </a:lnTo>
                          <a:lnTo>
                            <a:pt x="24" y="7"/>
                          </a:lnTo>
                          <a:lnTo>
                            <a:pt x="29" y="11"/>
                          </a:lnTo>
                          <a:lnTo>
                            <a:pt x="30" y="14"/>
                          </a:lnTo>
                          <a:lnTo>
                            <a:pt x="33" y="19"/>
                          </a:lnTo>
                          <a:lnTo>
                            <a:pt x="36" y="25"/>
                          </a:lnTo>
                          <a:lnTo>
                            <a:pt x="38" y="29"/>
                          </a:lnTo>
                          <a:lnTo>
                            <a:pt x="38" y="35"/>
                          </a:lnTo>
                          <a:lnTo>
                            <a:pt x="39" y="40"/>
                          </a:lnTo>
                          <a:lnTo>
                            <a:pt x="41" y="46"/>
                          </a:lnTo>
                          <a:lnTo>
                            <a:pt x="42" y="51"/>
                          </a:lnTo>
                          <a:lnTo>
                            <a:pt x="42" y="55"/>
                          </a:lnTo>
                          <a:lnTo>
                            <a:pt x="44" y="61"/>
                          </a:lnTo>
                          <a:lnTo>
                            <a:pt x="45" y="65"/>
                          </a:lnTo>
                          <a:lnTo>
                            <a:pt x="47" y="70"/>
                          </a:lnTo>
                          <a:lnTo>
                            <a:pt x="41" y="70"/>
                          </a:lnTo>
                          <a:lnTo>
                            <a:pt x="35" y="72"/>
                          </a:lnTo>
                          <a:lnTo>
                            <a:pt x="29" y="73"/>
                          </a:lnTo>
                          <a:lnTo>
                            <a:pt x="26" y="74"/>
                          </a:lnTo>
                          <a:lnTo>
                            <a:pt x="21" y="70"/>
                          </a:lnTo>
                          <a:lnTo>
                            <a:pt x="18" y="66"/>
                          </a:lnTo>
                          <a:lnTo>
                            <a:pt x="15" y="61"/>
                          </a:lnTo>
                          <a:lnTo>
                            <a:pt x="12" y="57"/>
                          </a:lnTo>
                          <a:lnTo>
                            <a:pt x="9" y="51"/>
                          </a:lnTo>
                          <a:lnTo>
                            <a:pt x="7" y="47"/>
                          </a:lnTo>
                          <a:lnTo>
                            <a:pt x="4" y="41"/>
                          </a:lnTo>
                          <a:lnTo>
                            <a:pt x="4" y="37"/>
                          </a:lnTo>
                          <a:lnTo>
                            <a:pt x="1" y="32"/>
                          </a:lnTo>
                          <a:lnTo>
                            <a:pt x="1" y="26"/>
                          </a:lnTo>
                          <a:lnTo>
                            <a:pt x="0" y="22"/>
                          </a:lnTo>
                          <a:lnTo>
                            <a:pt x="1" y="17"/>
                          </a:lnTo>
                          <a:lnTo>
                            <a:pt x="1" y="13"/>
                          </a:lnTo>
                          <a:lnTo>
                            <a:pt x="3" y="8"/>
                          </a:lnTo>
                          <a:lnTo>
                            <a:pt x="6" y="4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268"/>
                    <p:cNvSpPr/>
                    <p:nvPr/>
                  </p:nvSpPr>
                  <p:spPr>
                    <a:xfrm>
                      <a:off x="858600" y="2122920"/>
                      <a:ext cx="10800" cy="14760"/>
                    </a:xfrm>
                    <a:custGeom>
                      <a:avLst/>
                      <a:gdLst>
                        <a:gd name="textAreaLeft" fmla="*/ 0 w 10800"/>
                        <a:gd name="textAreaRight" fmla="*/ 11160 w 1080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52" h="53">
                          <a:moveTo>
                            <a:pt x="38" y="0"/>
                          </a:moveTo>
                          <a:lnTo>
                            <a:pt x="41" y="0"/>
                          </a:lnTo>
                          <a:lnTo>
                            <a:pt x="44" y="1"/>
                          </a:lnTo>
                          <a:lnTo>
                            <a:pt x="46" y="2"/>
                          </a:lnTo>
                          <a:lnTo>
                            <a:pt x="49" y="4"/>
                          </a:lnTo>
                          <a:lnTo>
                            <a:pt x="50" y="8"/>
                          </a:lnTo>
                          <a:lnTo>
                            <a:pt x="52" y="13"/>
                          </a:lnTo>
                          <a:lnTo>
                            <a:pt x="50" y="19"/>
                          </a:lnTo>
                          <a:lnTo>
                            <a:pt x="49" y="24"/>
                          </a:lnTo>
                          <a:lnTo>
                            <a:pt x="46" y="30"/>
                          </a:lnTo>
                          <a:lnTo>
                            <a:pt x="43" y="37"/>
                          </a:lnTo>
                          <a:lnTo>
                            <a:pt x="38" y="41"/>
                          </a:lnTo>
                          <a:lnTo>
                            <a:pt x="32" y="46"/>
                          </a:lnTo>
                          <a:lnTo>
                            <a:pt x="27" y="49"/>
                          </a:lnTo>
                          <a:lnTo>
                            <a:pt x="21" y="53"/>
                          </a:lnTo>
                          <a:lnTo>
                            <a:pt x="15" y="53"/>
                          </a:lnTo>
                          <a:lnTo>
                            <a:pt x="9" y="53"/>
                          </a:lnTo>
                          <a:lnTo>
                            <a:pt x="4" y="50"/>
                          </a:lnTo>
                          <a:lnTo>
                            <a:pt x="0" y="48"/>
                          </a:lnTo>
                          <a:lnTo>
                            <a:pt x="0" y="43"/>
                          </a:lnTo>
                          <a:lnTo>
                            <a:pt x="0" y="39"/>
                          </a:lnTo>
                          <a:lnTo>
                            <a:pt x="1" y="35"/>
                          </a:lnTo>
                          <a:lnTo>
                            <a:pt x="3" y="33"/>
                          </a:lnTo>
                          <a:lnTo>
                            <a:pt x="4" y="28"/>
                          </a:lnTo>
                          <a:lnTo>
                            <a:pt x="6" y="26"/>
                          </a:lnTo>
                          <a:lnTo>
                            <a:pt x="9" y="23"/>
                          </a:lnTo>
                          <a:lnTo>
                            <a:pt x="12" y="19"/>
                          </a:lnTo>
                          <a:lnTo>
                            <a:pt x="14" y="16"/>
                          </a:lnTo>
                          <a:lnTo>
                            <a:pt x="17" y="12"/>
                          </a:lnTo>
                          <a:lnTo>
                            <a:pt x="20" y="9"/>
                          </a:lnTo>
                          <a:lnTo>
                            <a:pt x="24" y="8"/>
                          </a:lnTo>
                          <a:lnTo>
                            <a:pt x="27" y="5"/>
                          </a:lnTo>
                          <a:lnTo>
                            <a:pt x="30" y="2"/>
                          </a:lnTo>
                          <a:lnTo>
                            <a:pt x="34" y="1"/>
                          </a:lnTo>
                          <a:lnTo>
                            <a:pt x="38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Freeform 269"/>
                    <p:cNvSpPr/>
                    <p:nvPr/>
                  </p:nvSpPr>
                  <p:spPr>
                    <a:xfrm>
                      <a:off x="858600" y="2136600"/>
                      <a:ext cx="13320" cy="23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23400"/>
                        <a:gd name="textAreaBottom" fmla="*/ 23760 h 23400"/>
                      </a:gdLst>
                      <a:ahLst/>
                      <a:rect l="textAreaLeft" t="textAreaTop" r="textAreaRight" b="textAreaBottom"/>
                      <a:pathLst>
                        <a:path w="63" h="84">
                          <a:moveTo>
                            <a:pt x="47" y="0"/>
                          </a:moveTo>
                          <a:lnTo>
                            <a:pt x="50" y="1"/>
                          </a:lnTo>
                          <a:lnTo>
                            <a:pt x="53" y="4"/>
                          </a:lnTo>
                          <a:lnTo>
                            <a:pt x="55" y="5"/>
                          </a:lnTo>
                          <a:lnTo>
                            <a:pt x="58" y="8"/>
                          </a:lnTo>
                          <a:lnTo>
                            <a:pt x="61" y="14"/>
                          </a:lnTo>
                          <a:lnTo>
                            <a:pt x="63" y="18"/>
                          </a:lnTo>
                          <a:lnTo>
                            <a:pt x="63" y="23"/>
                          </a:lnTo>
                          <a:lnTo>
                            <a:pt x="61" y="29"/>
                          </a:lnTo>
                          <a:lnTo>
                            <a:pt x="60" y="34"/>
                          </a:lnTo>
                          <a:lnTo>
                            <a:pt x="56" y="41"/>
                          </a:lnTo>
                          <a:lnTo>
                            <a:pt x="52" y="47"/>
                          </a:lnTo>
                          <a:lnTo>
                            <a:pt x="49" y="52"/>
                          </a:lnTo>
                          <a:lnTo>
                            <a:pt x="44" y="58"/>
                          </a:lnTo>
                          <a:lnTo>
                            <a:pt x="40" y="63"/>
                          </a:lnTo>
                          <a:lnTo>
                            <a:pt x="35" y="69"/>
                          </a:lnTo>
                          <a:lnTo>
                            <a:pt x="32" y="74"/>
                          </a:lnTo>
                          <a:lnTo>
                            <a:pt x="27" y="78"/>
                          </a:lnTo>
                          <a:lnTo>
                            <a:pt x="24" y="84"/>
                          </a:lnTo>
                          <a:lnTo>
                            <a:pt x="18" y="82"/>
                          </a:lnTo>
                          <a:lnTo>
                            <a:pt x="12" y="81"/>
                          </a:lnTo>
                          <a:lnTo>
                            <a:pt x="9" y="80"/>
                          </a:lnTo>
                          <a:lnTo>
                            <a:pt x="6" y="80"/>
                          </a:lnTo>
                          <a:lnTo>
                            <a:pt x="3" y="80"/>
                          </a:lnTo>
                          <a:lnTo>
                            <a:pt x="0" y="80"/>
                          </a:lnTo>
                          <a:lnTo>
                            <a:pt x="1" y="74"/>
                          </a:lnTo>
                          <a:lnTo>
                            <a:pt x="4" y="69"/>
                          </a:lnTo>
                          <a:lnTo>
                            <a:pt x="6" y="63"/>
                          </a:lnTo>
                          <a:lnTo>
                            <a:pt x="9" y="58"/>
                          </a:lnTo>
                          <a:lnTo>
                            <a:pt x="12" y="52"/>
                          </a:lnTo>
                          <a:lnTo>
                            <a:pt x="15" y="47"/>
                          </a:lnTo>
                          <a:lnTo>
                            <a:pt x="17" y="43"/>
                          </a:lnTo>
                          <a:lnTo>
                            <a:pt x="21" y="38"/>
                          </a:lnTo>
                          <a:lnTo>
                            <a:pt x="23" y="33"/>
                          </a:lnTo>
                          <a:lnTo>
                            <a:pt x="26" y="27"/>
                          </a:lnTo>
                          <a:lnTo>
                            <a:pt x="29" y="23"/>
                          </a:lnTo>
                          <a:lnTo>
                            <a:pt x="34" y="19"/>
                          </a:lnTo>
                          <a:lnTo>
                            <a:pt x="37" y="14"/>
                          </a:lnTo>
                          <a:lnTo>
                            <a:pt x="40" y="10"/>
                          </a:lnTo>
                          <a:lnTo>
                            <a:pt x="44" y="4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Freeform 270"/>
                    <p:cNvSpPr/>
                    <p:nvPr/>
                  </p:nvSpPr>
                  <p:spPr>
                    <a:xfrm>
                      <a:off x="858600" y="2160360"/>
                      <a:ext cx="15120" cy="29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72" h="103">
                          <a:moveTo>
                            <a:pt x="55" y="0"/>
                          </a:moveTo>
                          <a:lnTo>
                            <a:pt x="58" y="1"/>
                          </a:lnTo>
                          <a:lnTo>
                            <a:pt x="63" y="4"/>
                          </a:lnTo>
                          <a:lnTo>
                            <a:pt x="64" y="7"/>
                          </a:lnTo>
                          <a:lnTo>
                            <a:pt x="67" y="8"/>
                          </a:lnTo>
                          <a:lnTo>
                            <a:pt x="69" y="13"/>
                          </a:lnTo>
                          <a:lnTo>
                            <a:pt x="72" y="19"/>
                          </a:lnTo>
                          <a:lnTo>
                            <a:pt x="70" y="24"/>
                          </a:lnTo>
                          <a:lnTo>
                            <a:pt x="69" y="30"/>
                          </a:lnTo>
                          <a:lnTo>
                            <a:pt x="66" y="35"/>
                          </a:lnTo>
                          <a:lnTo>
                            <a:pt x="63" y="41"/>
                          </a:lnTo>
                          <a:lnTo>
                            <a:pt x="60" y="46"/>
                          </a:lnTo>
                          <a:lnTo>
                            <a:pt x="55" y="53"/>
                          </a:lnTo>
                          <a:lnTo>
                            <a:pt x="50" y="57"/>
                          </a:lnTo>
                          <a:lnTo>
                            <a:pt x="46" y="64"/>
                          </a:lnTo>
                          <a:lnTo>
                            <a:pt x="43" y="70"/>
                          </a:lnTo>
                          <a:lnTo>
                            <a:pt x="40" y="75"/>
                          </a:lnTo>
                          <a:lnTo>
                            <a:pt x="38" y="81"/>
                          </a:lnTo>
                          <a:lnTo>
                            <a:pt x="38" y="86"/>
                          </a:lnTo>
                          <a:lnTo>
                            <a:pt x="32" y="90"/>
                          </a:lnTo>
                          <a:lnTo>
                            <a:pt x="27" y="94"/>
                          </a:lnTo>
                          <a:lnTo>
                            <a:pt x="21" y="99"/>
                          </a:lnTo>
                          <a:lnTo>
                            <a:pt x="17" y="103"/>
                          </a:lnTo>
                          <a:lnTo>
                            <a:pt x="12" y="100"/>
                          </a:lnTo>
                          <a:lnTo>
                            <a:pt x="9" y="97"/>
                          </a:lnTo>
                          <a:lnTo>
                            <a:pt x="4" y="93"/>
                          </a:lnTo>
                          <a:lnTo>
                            <a:pt x="0" y="90"/>
                          </a:lnTo>
                          <a:lnTo>
                            <a:pt x="0" y="88"/>
                          </a:lnTo>
                          <a:lnTo>
                            <a:pt x="1" y="83"/>
                          </a:lnTo>
                          <a:lnTo>
                            <a:pt x="1" y="81"/>
                          </a:lnTo>
                          <a:lnTo>
                            <a:pt x="3" y="78"/>
                          </a:lnTo>
                          <a:lnTo>
                            <a:pt x="6" y="71"/>
                          </a:lnTo>
                          <a:lnTo>
                            <a:pt x="9" y="66"/>
                          </a:lnTo>
                          <a:lnTo>
                            <a:pt x="12" y="60"/>
                          </a:lnTo>
                          <a:lnTo>
                            <a:pt x="17" y="55"/>
                          </a:lnTo>
                          <a:lnTo>
                            <a:pt x="20" y="49"/>
                          </a:lnTo>
                          <a:lnTo>
                            <a:pt x="24" y="44"/>
                          </a:lnTo>
                          <a:lnTo>
                            <a:pt x="29" y="38"/>
                          </a:lnTo>
                          <a:lnTo>
                            <a:pt x="32" y="31"/>
                          </a:lnTo>
                          <a:lnTo>
                            <a:pt x="35" y="26"/>
                          </a:lnTo>
                          <a:lnTo>
                            <a:pt x="40" y="22"/>
                          </a:lnTo>
                          <a:lnTo>
                            <a:pt x="44" y="16"/>
                          </a:lnTo>
                          <a:lnTo>
                            <a:pt x="47" y="11"/>
                          </a:lnTo>
                          <a:lnTo>
                            <a:pt x="52" y="5"/>
                          </a:lnTo>
                          <a:lnTo>
                            <a:pt x="5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271"/>
                    <p:cNvSpPr/>
                    <p:nvPr/>
                  </p:nvSpPr>
                  <p:spPr>
                    <a:xfrm>
                      <a:off x="928440" y="2080440"/>
                      <a:ext cx="13320" cy="108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0800"/>
                        <a:gd name="textAreaBottom" fmla="*/ 10800 h 10800"/>
                      </a:gdLst>
                      <a:ahLst/>
                      <a:rect l="textAreaLeft" t="textAreaTop" r="textAreaRight" b="textAreaBottom"/>
                      <a:pathLst>
                        <a:path w="62" h="39">
                          <a:moveTo>
                            <a:pt x="12" y="0"/>
                          </a:moveTo>
                          <a:lnTo>
                            <a:pt x="15" y="0"/>
                          </a:lnTo>
                          <a:lnTo>
                            <a:pt x="18" y="0"/>
                          </a:lnTo>
                          <a:lnTo>
                            <a:pt x="24" y="2"/>
                          </a:lnTo>
                          <a:lnTo>
                            <a:pt x="29" y="3"/>
                          </a:lnTo>
                          <a:lnTo>
                            <a:pt x="35" y="6"/>
                          </a:lnTo>
                          <a:lnTo>
                            <a:pt x="41" y="9"/>
                          </a:lnTo>
                          <a:lnTo>
                            <a:pt x="46" y="10"/>
                          </a:lnTo>
                          <a:lnTo>
                            <a:pt x="52" y="14"/>
                          </a:lnTo>
                          <a:lnTo>
                            <a:pt x="55" y="15"/>
                          </a:lnTo>
                          <a:lnTo>
                            <a:pt x="59" y="20"/>
                          </a:lnTo>
                          <a:lnTo>
                            <a:pt x="61" y="22"/>
                          </a:lnTo>
                          <a:lnTo>
                            <a:pt x="62" y="26"/>
                          </a:lnTo>
                          <a:lnTo>
                            <a:pt x="61" y="29"/>
                          </a:lnTo>
                          <a:lnTo>
                            <a:pt x="59" y="32"/>
                          </a:lnTo>
                          <a:lnTo>
                            <a:pt x="56" y="35"/>
                          </a:lnTo>
                          <a:lnTo>
                            <a:pt x="55" y="36"/>
                          </a:lnTo>
                          <a:lnTo>
                            <a:pt x="52" y="37"/>
                          </a:lnTo>
                          <a:lnTo>
                            <a:pt x="49" y="39"/>
                          </a:lnTo>
                          <a:lnTo>
                            <a:pt x="44" y="39"/>
                          </a:lnTo>
                          <a:lnTo>
                            <a:pt x="41" y="39"/>
                          </a:lnTo>
                          <a:lnTo>
                            <a:pt x="36" y="37"/>
                          </a:lnTo>
                          <a:lnTo>
                            <a:pt x="32" y="37"/>
                          </a:lnTo>
                          <a:lnTo>
                            <a:pt x="26" y="35"/>
                          </a:lnTo>
                          <a:lnTo>
                            <a:pt x="21" y="33"/>
                          </a:lnTo>
                          <a:lnTo>
                            <a:pt x="15" y="31"/>
                          </a:lnTo>
                          <a:lnTo>
                            <a:pt x="10" y="28"/>
                          </a:lnTo>
                          <a:lnTo>
                            <a:pt x="6" y="25"/>
                          </a:lnTo>
                          <a:lnTo>
                            <a:pt x="3" y="21"/>
                          </a:lnTo>
                          <a:lnTo>
                            <a:pt x="0" y="18"/>
                          </a:lnTo>
                          <a:lnTo>
                            <a:pt x="0" y="14"/>
                          </a:lnTo>
                          <a:lnTo>
                            <a:pt x="0" y="10"/>
                          </a:lnTo>
                          <a:lnTo>
                            <a:pt x="3" y="7"/>
                          </a:lnTo>
                          <a:lnTo>
                            <a:pt x="4" y="6"/>
                          </a:lnTo>
                          <a:lnTo>
                            <a:pt x="6" y="3"/>
                          </a:lnTo>
                          <a:lnTo>
                            <a:pt x="9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Freeform 272"/>
                    <p:cNvSpPr/>
                    <p:nvPr/>
                  </p:nvSpPr>
                  <p:spPr>
                    <a:xfrm>
                      <a:off x="929160" y="2095200"/>
                      <a:ext cx="13680" cy="1188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11880"/>
                        <a:gd name="textAreaBottom" fmla="*/ 12240 h 11880"/>
                      </a:gdLst>
                      <a:ahLst/>
                      <a:rect l="textAreaLeft" t="textAreaTop" r="textAreaRight" b="textAreaBottom"/>
                      <a:pathLst>
                        <a:path w="64" h="42">
                          <a:moveTo>
                            <a:pt x="12" y="0"/>
                          </a:moveTo>
                          <a:lnTo>
                            <a:pt x="15" y="2"/>
                          </a:lnTo>
                          <a:lnTo>
                            <a:pt x="20" y="2"/>
                          </a:lnTo>
                          <a:lnTo>
                            <a:pt x="24" y="5"/>
                          </a:lnTo>
                          <a:lnTo>
                            <a:pt x="30" y="6"/>
                          </a:lnTo>
                          <a:lnTo>
                            <a:pt x="35" y="7"/>
                          </a:lnTo>
                          <a:lnTo>
                            <a:pt x="41" y="10"/>
                          </a:lnTo>
                          <a:lnTo>
                            <a:pt x="47" y="11"/>
                          </a:lnTo>
                          <a:lnTo>
                            <a:pt x="52" y="16"/>
                          </a:lnTo>
                          <a:lnTo>
                            <a:pt x="56" y="17"/>
                          </a:lnTo>
                          <a:lnTo>
                            <a:pt x="59" y="20"/>
                          </a:lnTo>
                          <a:lnTo>
                            <a:pt x="62" y="24"/>
                          </a:lnTo>
                          <a:lnTo>
                            <a:pt x="64" y="27"/>
                          </a:lnTo>
                          <a:lnTo>
                            <a:pt x="62" y="31"/>
                          </a:lnTo>
                          <a:lnTo>
                            <a:pt x="61" y="33"/>
                          </a:lnTo>
                          <a:lnTo>
                            <a:pt x="58" y="35"/>
                          </a:lnTo>
                          <a:lnTo>
                            <a:pt x="56" y="38"/>
                          </a:lnTo>
                          <a:lnTo>
                            <a:pt x="53" y="39"/>
                          </a:lnTo>
                          <a:lnTo>
                            <a:pt x="50" y="42"/>
                          </a:lnTo>
                          <a:lnTo>
                            <a:pt x="46" y="42"/>
                          </a:lnTo>
                          <a:lnTo>
                            <a:pt x="41" y="42"/>
                          </a:lnTo>
                          <a:lnTo>
                            <a:pt x="35" y="40"/>
                          </a:lnTo>
                          <a:lnTo>
                            <a:pt x="30" y="39"/>
                          </a:lnTo>
                          <a:lnTo>
                            <a:pt x="26" y="36"/>
                          </a:lnTo>
                          <a:lnTo>
                            <a:pt x="20" y="35"/>
                          </a:lnTo>
                          <a:lnTo>
                            <a:pt x="15" y="32"/>
                          </a:lnTo>
                          <a:lnTo>
                            <a:pt x="10" y="29"/>
                          </a:lnTo>
                          <a:lnTo>
                            <a:pt x="4" y="25"/>
                          </a:lnTo>
                          <a:lnTo>
                            <a:pt x="1" y="21"/>
                          </a:lnTo>
                          <a:lnTo>
                            <a:pt x="0" y="17"/>
                          </a:lnTo>
                          <a:lnTo>
                            <a:pt x="0" y="14"/>
                          </a:lnTo>
                          <a:lnTo>
                            <a:pt x="0" y="10"/>
                          </a:lnTo>
                          <a:lnTo>
                            <a:pt x="1" y="7"/>
                          </a:lnTo>
                          <a:lnTo>
                            <a:pt x="3" y="5"/>
                          </a:lnTo>
                          <a:lnTo>
                            <a:pt x="6" y="3"/>
                          </a:lnTo>
                          <a:lnTo>
                            <a:pt x="7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Freeform 273"/>
                    <p:cNvSpPr/>
                    <p:nvPr/>
                  </p:nvSpPr>
                  <p:spPr>
                    <a:xfrm>
                      <a:off x="928080" y="2112840"/>
                      <a:ext cx="14400" cy="10800"/>
                    </a:xfrm>
                    <a:custGeom>
                      <a:avLst/>
                      <a:gdLst>
                        <a:gd name="textAreaLeft" fmla="*/ 0 w 14400"/>
                        <a:gd name="textAreaRight" fmla="*/ 14760 w 14400"/>
                        <a:gd name="textAreaTop" fmla="*/ 0 h 10800"/>
                        <a:gd name="textAreaBottom" fmla="*/ 10800 h 10800"/>
                      </a:gdLst>
                      <a:ahLst/>
                      <a:rect l="textAreaLeft" t="textAreaTop" r="textAreaRight" b="textAreaBottom"/>
                      <a:pathLst>
                        <a:path w="67" h="39">
                          <a:moveTo>
                            <a:pt x="12" y="0"/>
                          </a:moveTo>
                          <a:lnTo>
                            <a:pt x="14" y="0"/>
                          </a:lnTo>
                          <a:lnTo>
                            <a:pt x="18" y="2"/>
                          </a:lnTo>
                          <a:lnTo>
                            <a:pt x="23" y="2"/>
                          </a:lnTo>
                          <a:lnTo>
                            <a:pt x="31" y="3"/>
                          </a:lnTo>
                          <a:lnTo>
                            <a:pt x="35" y="4"/>
                          </a:lnTo>
                          <a:lnTo>
                            <a:pt x="41" y="7"/>
                          </a:lnTo>
                          <a:lnTo>
                            <a:pt x="48" y="8"/>
                          </a:lnTo>
                          <a:lnTo>
                            <a:pt x="54" y="11"/>
                          </a:lnTo>
                          <a:lnTo>
                            <a:pt x="58" y="14"/>
                          </a:lnTo>
                          <a:lnTo>
                            <a:pt x="63" y="17"/>
                          </a:lnTo>
                          <a:lnTo>
                            <a:pt x="66" y="19"/>
                          </a:lnTo>
                          <a:lnTo>
                            <a:pt x="67" y="22"/>
                          </a:lnTo>
                          <a:lnTo>
                            <a:pt x="67" y="26"/>
                          </a:lnTo>
                          <a:lnTo>
                            <a:pt x="66" y="30"/>
                          </a:lnTo>
                          <a:lnTo>
                            <a:pt x="63" y="32"/>
                          </a:lnTo>
                          <a:lnTo>
                            <a:pt x="61" y="35"/>
                          </a:lnTo>
                          <a:lnTo>
                            <a:pt x="58" y="36"/>
                          </a:lnTo>
                          <a:lnTo>
                            <a:pt x="55" y="39"/>
                          </a:lnTo>
                          <a:lnTo>
                            <a:pt x="51" y="39"/>
                          </a:lnTo>
                          <a:lnTo>
                            <a:pt x="46" y="37"/>
                          </a:lnTo>
                          <a:lnTo>
                            <a:pt x="40" y="36"/>
                          </a:lnTo>
                          <a:lnTo>
                            <a:pt x="34" y="35"/>
                          </a:lnTo>
                          <a:lnTo>
                            <a:pt x="28" y="33"/>
                          </a:lnTo>
                          <a:lnTo>
                            <a:pt x="23" y="32"/>
                          </a:lnTo>
                          <a:lnTo>
                            <a:pt x="17" y="29"/>
                          </a:lnTo>
                          <a:lnTo>
                            <a:pt x="12" y="28"/>
                          </a:lnTo>
                          <a:lnTo>
                            <a:pt x="8" y="24"/>
                          </a:lnTo>
                          <a:lnTo>
                            <a:pt x="5" y="21"/>
                          </a:lnTo>
                          <a:lnTo>
                            <a:pt x="2" y="18"/>
                          </a:lnTo>
                          <a:lnTo>
                            <a:pt x="0" y="15"/>
                          </a:lnTo>
                          <a:lnTo>
                            <a:pt x="0" y="11"/>
                          </a:lnTo>
                          <a:lnTo>
                            <a:pt x="2" y="7"/>
                          </a:lnTo>
                          <a:lnTo>
                            <a:pt x="6" y="4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274"/>
                    <p:cNvSpPr/>
                    <p:nvPr/>
                  </p:nvSpPr>
                  <p:spPr>
                    <a:xfrm>
                      <a:off x="932040" y="2126880"/>
                      <a:ext cx="11880" cy="126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56" h="45">
                          <a:moveTo>
                            <a:pt x="14" y="0"/>
                          </a:moveTo>
                          <a:lnTo>
                            <a:pt x="17" y="1"/>
                          </a:lnTo>
                          <a:lnTo>
                            <a:pt x="20" y="2"/>
                          </a:lnTo>
                          <a:lnTo>
                            <a:pt x="25" y="4"/>
                          </a:lnTo>
                          <a:lnTo>
                            <a:pt x="30" y="7"/>
                          </a:lnTo>
                          <a:lnTo>
                            <a:pt x="34" y="8"/>
                          </a:lnTo>
                          <a:lnTo>
                            <a:pt x="39" y="12"/>
                          </a:lnTo>
                          <a:lnTo>
                            <a:pt x="43" y="15"/>
                          </a:lnTo>
                          <a:lnTo>
                            <a:pt x="48" y="19"/>
                          </a:lnTo>
                          <a:lnTo>
                            <a:pt x="51" y="22"/>
                          </a:lnTo>
                          <a:lnTo>
                            <a:pt x="52" y="24"/>
                          </a:lnTo>
                          <a:lnTo>
                            <a:pt x="56" y="28"/>
                          </a:lnTo>
                          <a:lnTo>
                            <a:pt x="56" y="33"/>
                          </a:lnTo>
                          <a:lnTo>
                            <a:pt x="54" y="35"/>
                          </a:lnTo>
                          <a:lnTo>
                            <a:pt x="52" y="38"/>
                          </a:lnTo>
                          <a:lnTo>
                            <a:pt x="49" y="41"/>
                          </a:lnTo>
                          <a:lnTo>
                            <a:pt x="48" y="42"/>
                          </a:lnTo>
                          <a:lnTo>
                            <a:pt x="45" y="44"/>
                          </a:lnTo>
                          <a:lnTo>
                            <a:pt x="42" y="45"/>
                          </a:lnTo>
                          <a:lnTo>
                            <a:pt x="37" y="44"/>
                          </a:lnTo>
                          <a:lnTo>
                            <a:pt x="33" y="44"/>
                          </a:lnTo>
                          <a:lnTo>
                            <a:pt x="28" y="41"/>
                          </a:lnTo>
                          <a:lnTo>
                            <a:pt x="23" y="39"/>
                          </a:lnTo>
                          <a:lnTo>
                            <a:pt x="19" y="37"/>
                          </a:lnTo>
                          <a:lnTo>
                            <a:pt x="16" y="34"/>
                          </a:lnTo>
                          <a:lnTo>
                            <a:pt x="11" y="30"/>
                          </a:lnTo>
                          <a:lnTo>
                            <a:pt x="8" y="27"/>
                          </a:lnTo>
                          <a:lnTo>
                            <a:pt x="5" y="23"/>
                          </a:lnTo>
                          <a:lnTo>
                            <a:pt x="2" y="20"/>
                          </a:lnTo>
                          <a:lnTo>
                            <a:pt x="0" y="16"/>
                          </a:lnTo>
                          <a:lnTo>
                            <a:pt x="2" y="13"/>
                          </a:lnTo>
                          <a:lnTo>
                            <a:pt x="2" y="9"/>
                          </a:lnTo>
                          <a:lnTo>
                            <a:pt x="5" y="7"/>
                          </a:lnTo>
                          <a:lnTo>
                            <a:pt x="8" y="2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Freeform 275"/>
                    <p:cNvSpPr/>
                    <p:nvPr/>
                  </p:nvSpPr>
                  <p:spPr>
                    <a:xfrm>
                      <a:off x="986760" y="2174040"/>
                      <a:ext cx="9360" cy="27000"/>
                    </a:xfrm>
                    <a:custGeom>
                      <a:avLst/>
                      <a:gdLst>
                        <a:gd name="textAreaLeft" fmla="*/ 0 w 9360"/>
                        <a:gd name="textAreaRight" fmla="*/ 9720 w 9360"/>
                        <a:gd name="textAreaTop" fmla="*/ 0 h 27000"/>
                        <a:gd name="textAreaBottom" fmla="*/ 27360 h 27000"/>
                      </a:gdLst>
                      <a:ahLst/>
                      <a:rect l="textAreaLeft" t="textAreaTop" r="textAreaRight" b="textAreaBottom"/>
                      <a:pathLst>
                        <a:path w="44" h="96">
                          <a:moveTo>
                            <a:pt x="17" y="0"/>
                          </a:moveTo>
                          <a:lnTo>
                            <a:pt x="21" y="2"/>
                          </a:lnTo>
                          <a:lnTo>
                            <a:pt x="26" y="5"/>
                          </a:lnTo>
                          <a:lnTo>
                            <a:pt x="29" y="9"/>
                          </a:lnTo>
                          <a:lnTo>
                            <a:pt x="32" y="15"/>
                          </a:lnTo>
                          <a:lnTo>
                            <a:pt x="33" y="19"/>
                          </a:lnTo>
                          <a:lnTo>
                            <a:pt x="33" y="23"/>
                          </a:lnTo>
                          <a:lnTo>
                            <a:pt x="33" y="30"/>
                          </a:lnTo>
                          <a:lnTo>
                            <a:pt x="35" y="35"/>
                          </a:lnTo>
                          <a:lnTo>
                            <a:pt x="35" y="41"/>
                          </a:lnTo>
                          <a:lnTo>
                            <a:pt x="35" y="46"/>
                          </a:lnTo>
                          <a:lnTo>
                            <a:pt x="35" y="52"/>
                          </a:lnTo>
                          <a:lnTo>
                            <a:pt x="35" y="59"/>
                          </a:lnTo>
                          <a:lnTo>
                            <a:pt x="37" y="64"/>
                          </a:lnTo>
                          <a:lnTo>
                            <a:pt x="38" y="70"/>
                          </a:lnTo>
                          <a:lnTo>
                            <a:pt x="40" y="74"/>
                          </a:lnTo>
                          <a:lnTo>
                            <a:pt x="44" y="79"/>
                          </a:lnTo>
                          <a:lnTo>
                            <a:pt x="40" y="83"/>
                          </a:lnTo>
                          <a:lnTo>
                            <a:pt x="37" y="88"/>
                          </a:lnTo>
                          <a:lnTo>
                            <a:pt x="33" y="92"/>
                          </a:lnTo>
                          <a:lnTo>
                            <a:pt x="32" y="96"/>
                          </a:lnTo>
                          <a:lnTo>
                            <a:pt x="27" y="93"/>
                          </a:lnTo>
                          <a:lnTo>
                            <a:pt x="23" y="92"/>
                          </a:lnTo>
                          <a:lnTo>
                            <a:pt x="20" y="90"/>
                          </a:lnTo>
                          <a:lnTo>
                            <a:pt x="18" y="89"/>
                          </a:lnTo>
                          <a:lnTo>
                            <a:pt x="12" y="83"/>
                          </a:lnTo>
                          <a:lnTo>
                            <a:pt x="9" y="78"/>
                          </a:lnTo>
                          <a:lnTo>
                            <a:pt x="6" y="75"/>
                          </a:lnTo>
                          <a:lnTo>
                            <a:pt x="4" y="71"/>
                          </a:lnTo>
                          <a:lnTo>
                            <a:pt x="3" y="68"/>
                          </a:lnTo>
                          <a:lnTo>
                            <a:pt x="3" y="66"/>
                          </a:lnTo>
                          <a:lnTo>
                            <a:pt x="1" y="62"/>
                          </a:lnTo>
                          <a:lnTo>
                            <a:pt x="0" y="57"/>
                          </a:lnTo>
                          <a:lnTo>
                            <a:pt x="0" y="55"/>
                          </a:lnTo>
                          <a:lnTo>
                            <a:pt x="0" y="52"/>
                          </a:lnTo>
                          <a:lnTo>
                            <a:pt x="0" y="48"/>
                          </a:lnTo>
                          <a:lnTo>
                            <a:pt x="0" y="44"/>
                          </a:lnTo>
                          <a:lnTo>
                            <a:pt x="0" y="40"/>
                          </a:lnTo>
                          <a:lnTo>
                            <a:pt x="0" y="35"/>
                          </a:lnTo>
                          <a:lnTo>
                            <a:pt x="0" y="33"/>
                          </a:lnTo>
                          <a:lnTo>
                            <a:pt x="1" y="29"/>
                          </a:lnTo>
                          <a:lnTo>
                            <a:pt x="1" y="26"/>
                          </a:lnTo>
                          <a:lnTo>
                            <a:pt x="3" y="22"/>
                          </a:lnTo>
                          <a:lnTo>
                            <a:pt x="3" y="19"/>
                          </a:lnTo>
                          <a:lnTo>
                            <a:pt x="4" y="15"/>
                          </a:lnTo>
                          <a:lnTo>
                            <a:pt x="6" y="12"/>
                          </a:lnTo>
                          <a:lnTo>
                            <a:pt x="9" y="9"/>
                          </a:lnTo>
                          <a:lnTo>
                            <a:pt x="12" y="4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Freeform 276"/>
                    <p:cNvSpPr/>
                    <p:nvPr/>
                  </p:nvSpPr>
                  <p:spPr>
                    <a:xfrm>
                      <a:off x="996840" y="2174760"/>
                      <a:ext cx="6120" cy="12960"/>
                    </a:xfrm>
                    <a:custGeom>
                      <a:avLst/>
                      <a:gdLst>
                        <a:gd name="textAreaLeft" fmla="*/ 0 w 6120"/>
                        <a:gd name="textAreaRight" fmla="*/ 6480 w 612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29" h="46">
                          <a:moveTo>
                            <a:pt x="12" y="0"/>
                          </a:moveTo>
                          <a:lnTo>
                            <a:pt x="17" y="0"/>
                          </a:lnTo>
                          <a:lnTo>
                            <a:pt x="22" y="3"/>
                          </a:lnTo>
                          <a:lnTo>
                            <a:pt x="25" y="6"/>
                          </a:lnTo>
                          <a:lnTo>
                            <a:pt x="28" y="10"/>
                          </a:lnTo>
                          <a:lnTo>
                            <a:pt x="28" y="16"/>
                          </a:lnTo>
                          <a:lnTo>
                            <a:pt x="29" y="21"/>
                          </a:lnTo>
                          <a:lnTo>
                            <a:pt x="29" y="27"/>
                          </a:lnTo>
                          <a:lnTo>
                            <a:pt x="29" y="32"/>
                          </a:lnTo>
                          <a:lnTo>
                            <a:pt x="28" y="36"/>
                          </a:lnTo>
                          <a:lnTo>
                            <a:pt x="25" y="40"/>
                          </a:lnTo>
                          <a:lnTo>
                            <a:pt x="22" y="43"/>
                          </a:lnTo>
                          <a:lnTo>
                            <a:pt x="19" y="46"/>
                          </a:lnTo>
                          <a:lnTo>
                            <a:pt x="14" y="46"/>
                          </a:lnTo>
                          <a:lnTo>
                            <a:pt x="9" y="43"/>
                          </a:lnTo>
                          <a:lnTo>
                            <a:pt x="6" y="42"/>
                          </a:lnTo>
                          <a:lnTo>
                            <a:pt x="5" y="40"/>
                          </a:lnTo>
                          <a:lnTo>
                            <a:pt x="2" y="38"/>
                          </a:lnTo>
                          <a:lnTo>
                            <a:pt x="0" y="33"/>
                          </a:lnTo>
                          <a:lnTo>
                            <a:pt x="0" y="31"/>
                          </a:lnTo>
                          <a:lnTo>
                            <a:pt x="0" y="25"/>
                          </a:lnTo>
                          <a:lnTo>
                            <a:pt x="3" y="20"/>
                          </a:lnTo>
                          <a:lnTo>
                            <a:pt x="5" y="16"/>
                          </a:lnTo>
                          <a:lnTo>
                            <a:pt x="6" y="9"/>
                          </a:lnTo>
                          <a:lnTo>
                            <a:pt x="9" y="5"/>
                          </a:lnTo>
                          <a:lnTo>
                            <a:pt x="9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Freeform 277"/>
                    <p:cNvSpPr/>
                    <p:nvPr/>
                  </p:nvSpPr>
                  <p:spPr>
                    <a:xfrm>
                      <a:off x="803160" y="2284200"/>
                      <a:ext cx="119160" cy="17280"/>
                    </a:xfrm>
                    <a:custGeom>
                      <a:avLst/>
                      <a:gdLst>
                        <a:gd name="textAreaLeft" fmla="*/ 0 w 119160"/>
                        <a:gd name="textAreaRight" fmla="*/ 119520 w 119160"/>
                        <a:gd name="textAreaTop" fmla="*/ 0 h 17280"/>
                        <a:gd name="textAreaBottom" fmla="*/ 17640 h 17280"/>
                      </a:gdLst>
                      <a:ahLst/>
                      <a:rect l="textAreaLeft" t="textAreaTop" r="textAreaRight" b="textAreaBottom"/>
                      <a:pathLst>
                        <a:path w="551" h="61">
                          <a:moveTo>
                            <a:pt x="372" y="0"/>
                          </a:moveTo>
                          <a:lnTo>
                            <a:pt x="377" y="0"/>
                          </a:lnTo>
                          <a:lnTo>
                            <a:pt x="383" y="0"/>
                          </a:lnTo>
                          <a:lnTo>
                            <a:pt x="387" y="0"/>
                          </a:lnTo>
                          <a:lnTo>
                            <a:pt x="394" y="0"/>
                          </a:lnTo>
                          <a:lnTo>
                            <a:pt x="398" y="0"/>
                          </a:lnTo>
                          <a:lnTo>
                            <a:pt x="404" y="0"/>
                          </a:lnTo>
                          <a:lnTo>
                            <a:pt x="410" y="0"/>
                          </a:lnTo>
                          <a:lnTo>
                            <a:pt x="415" y="2"/>
                          </a:lnTo>
                          <a:lnTo>
                            <a:pt x="421" y="0"/>
                          </a:lnTo>
                          <a:lnTo>
                            <a:pt x="426" y="0"/>
                          </a:lnTo>
                          <a:lnTo>
                            <a:pt x="432" y="0"/>
                          </a:lnTo>
                          <a:lnTo>
                            <a:pt x="438" y="0"/>
                          </a:lnTo>
                          <a:lnTo>
                            <a:pt x="442" y="0"/>
                          </a:lnTo>
                          <a:lnTo>
                            <a:pt x="449" y="0"/>
                          </a:lnTo>
                          <a:lnTo>
                            <a:pt x="455" y="0"/>
                          </a:lnTo>
                          <a:lnTo>
                            <a:pt x="459" y="0"/>
                          </a:lnTo>
                          <a:lnTo>
                            <a:pt x="465" y="0"/>
                          </a:lnTo>
                          <a:lnTo>
                            <a:pt x="470" y="0"/>
                          </a:lnTo>
                          <a:lnTo>
                            <a:pt x="476" y="0"/>
                          </a:lnTo>
                          <a:lnTo>
                            <a:pt x="482" y="0"/>
                          </a:lnTo>
                          <a:lnTo>
                            <a:pt x="487" y="0"/>
                          </a:lnTo>
                          <a:lnTo>
                            <a:pt x="493" y="0"/>
                          </a:lnTo>
                          <a:lnTo>
                            <a:pt x="499" y="0"/>
                          </a:lnTo>
                          <a:lnTo>
                            <a:pt x="504" y="0"/>
                          </a:lnTo>
                          <a:lnTo>
                            <a:pt x="510" y="0"/>
                          </a:lnTo>
                          <a:lnTo>
                            <a:pt x="514" y="0"/>
                          </a:lnTo>
                          <a:lnTo>
                            <a:pt x="520" y="2"/>
                          </a:lnTo>
                          <a:lnTo>
                            <a:pt x="527" y="2"/>
                          </a:lnTo>
                          <a:lnTo>
                            <a:pt x="531" y="2"/>
                          </a:lnTo>
                          <a:lnTo>
                            <a:pt x="537" y="3"/>
                          </a:lnTo>
                          <a:lnTo>
                            <a:pt x="543" y="3"/>
                          </a:lnTo>
                          <a:lnTo>
                            <a:pt x="548" y="4"/>
                          </a:lnTo>
                          <a:lnTo>
                            <a:pt x="548" y="8"/>
                          </a:lnTo>
                          <a:lnTo>
                            <a:pt x="550" y="14"/>
                          </a:lnTo>
                          <a:lnTo>
                            <a:pt x="551" y="19"/>
                          </a:lnTo>
                          <a:lnTo>
                            <a:pt x="551" y="25"/>
                          </a:lnTo>
                          <a:lnTo>
                            <a:pt x="543" y="25"/>
                          </a:lnTo>
                          <a:lnTo>
                            <a:pt x="536" y="25"/>
                          </a:lnTo>
                          <a:lnTo>
                            <a:pt x="528" y="25"/>
                          </a:lnTo>
                          <a:lnTo>
                            <a:pt x="520" y="25"/>
                          </a:lnTo>
                          <a:lnTo>
                            <a:pt x="513" y="25"/>
                          </a:lnTo>
                          <a:lnTo>
                            <a:pt x="505" y="26"/>
                          </a:lnTo>
                          <a:lnTo>
                            <a:pt x="498" y="26"/>
                          </a:lnTo>
                          <a:lnTo>
                            <a:pt x="490" y="26"/>
                          </a:lnTo>
                          <a:lnTo>
                            <a:pt x="482" y="26"/>
                          </a:lnTo>
                          <a:lnTo>
                            <a:pt x="475" y="26"/>
                          </a:lnTo>
                          <a:lnTo>
                            <a:pt x="465" y="26"/>
                          </a:lnTo>
                          <a:lnTo>
                            <a:pt x="459" y="26"/>
                          </a:lnTo>
                          <a:lnTo>
                            <a:pt x="452" y="26"/>
                          </a:lnTo>
                          <a:lnTo>
                            <a:pt x="444" y="28"/>
                          </a:lnTo>
                          <a:lnTo>
                            <a:pt x="436" y="28"/>
                          </a:lnTo>
                          <a:lnTo>
                            <a:pt x="429" y="28"/>
                          </a:lnTo>
                          <a:lnTo>
                            <a:pt x="421" y="28"/>
                          </a:lnTo>
                          <a:lnTo>
                            <a:pt x="413" y="28"/>
                          </a:lnTo>
                          <a:lnTo>
                            <a:pt x="404" y="28"/>
                          </a:lnTo>
                          <a:lnTo>
                            <a:pt x="398" y="29"/>
                          </a:lnTo>
                          <a:lnTo>
                            <a:pt x="389" y="29"/>
                          </a:lnTo>
                          <a:lnTo>
                            <a:pt x="381" y="29"/>
                          </a:lnTo>
                          <a:lnTo>
                            <a:pt x="374" y="29"/>
                          </a:lnTo>
                          <a:lnTo>
                            <a:pt x="368" y="29"/>
                          </a:lnTo>
                          <a:lnTo>
                            <a:pt x="358" y="29"/>
                          </a:lnTo>
                          <a:lnTo>
                            <a:pt x="351" y="29"/>
                          </a:lnTo>
                          <a:lnTo>
                            <a:pt x="343" y="29"/>
                          </a:lnTo>
                          <a:lnTo>
                            <a:pt x="335" y="30"/>
                          </a:lnTo>
                          <a:lnTo>
                            <a:pt x="329" y="30"/>
                          </a:lnTo>
                          <a:lnTo>
                            <a:pt x="322" y="30"/>
                          </a:lnTo>
                          <a:lnTo>
                            <a:pt x="314" y="32"/>
                          </a:lnTo>
                          <a:lnTo>
                            <a:pt x="306" y="32"/>
                          </a:lnTo>
                          <a:lnTo>
                            <a:pt x="299" y="32"/>
                          </a:lnTo>
                          <a:lnTo>
                            <a:pt x="291" y="32"/>
                          </a:lnTo>
                          <a:lnTo>
                            <a:pt x="282" y="32"/>
                          </a:lnTo>
                          <a:lnTo>
                            <a:pt x="274" y="33"/>
                          </a:lnTo>
                          <a:lnTo>
                            <a:pt x="267" y="33"/>
                          </a:lnTo>
                          <a:lnTo>
                            <a:pt x="259" y="33"/>
                          </a:lnTo>
                          <a:lnTo>
                            <a:pt x="251" y="35"/>
                          </a:lnTo>
                          <a:lnTo>
                            <a:pt x="244" y="36"/>
                          </a:lnTo>
                          <a:lnTo>
                            <a:pt x="236" y="36"/>
                          </a:lnTo>
                          <a:lnTo>
                            <a:pt x="228" y="36"/>
                          </a:lnTo>
                          <a:lnTo>
                            <a:pt x="222" y="36"/>
                          </a:lnTo>
                          <a:lnTo>
                            <a:pt x="215" y="37"/>
                          </a:lnTo>
                          <a:lnTo>
                            <a:pt x="207" y="37"/>
                          </a:lnTo>
                          <a:lnTo>
                            <a:pt x="199" y="39"/>
                          </a:lnTo>
                          <a:lnTo>
                            <a:pt x="192" y="39"/>
                          </a:lnTo>
                          <a:lnTo>
                            <a:pt x="185" y="40"/>
                          </a:lnTo>
                          <a:lnTo>
                            <a:pt x="178" y="41"/>
                          </a:lnTo>
                          <a:lnTo>
                            <a:pt x="170" y="41"/>
                          </a:lnTo>
                          <a:lnTo>
                            <a:pt x="163" y="43"/>
                          </a:lnTo>
                          <a:lnTo>
                            <a:pt x="155" y="44"/>
                          </a:lnTo>
                          <a:lnTo>
                            <a:pt x="147" y="44"/>
                          </a:lnTo>
                          <a:lnTo>
                            <a:pt x="140" y="46"/>
                          </a:lnTo>
                          <a:lnTo>
                            <a:pt x="132" y="46"/>
                          </a:lnTo>
                          <a:lnTo>
                            <a:pt x="126" y="48"/>
                          </a:lnTo>
                          <a:lnTo>
                            <a:pt x="118" y="48"/>
                          </a:lnTo>
                          <a:lnTo>
                            <a:pt x="111" y="50"/>
                          </a:lnTo>
                          <a:lnTo>
                            <a:pt x="103" y="51"/>
                          </a:lnTo>
                          <a:lnTo>
                            <a:pt x="97" y="52"/>
                          </a:lnTo>
                          <a:lnTo>
                            <a:pt x="89" y="54"/>
                          </a:lnTo>
                          <a:lnTo>
                            <a:pt x="81" y="55"/>
                          </a:lnTo>
                          <a:lnTo>
                            <a:pt x="75" y="58"/>
                          </a:lnTo>
                          <a:lnTo>
                            <a:pt x="68" y="59"/>
                          </a:lnTo>
                          <a:lnTo>
                            <a:pt x="65" y="59"/>
                          </a:lnTo>
                          <a:lnTo>
                            <a:pt x="62" y="59"/>
                          </a:lnTo>
                          <a:lnTo>
                            <a:pt x="59" y="59"/>
                          </a:lnTo>
                          <a:lnTo>
                            <a:pt x="54" y="59"/>
                          </a:lnTo>
                          <a:lnTo>
                            <a:pt x="49" y="59"/>
                          </a:lnTo>
                          <a:lnTo>
                            <a:pt x="45" y="59"/>
                          </a:lnTo>
                          <a:lnTo>
                            <a:pt x="39" y="59"/>
                          </a:lnTo>
                          <a:lnTo>
                            <a:pt x="34" y="61"/>
                          </a:lnTo>
                          <a:lnTo>
                            <a:pt x="29" y="61"/>
                          </a:lnTo>
                          <a:lnTo>
                            <a:pt x="23" y="61"/>
                          </a:lnTo>
                          <a:lnTo>
                            <a:pt x="19" y="61"/>
                          </a:lnTo>
                          <a:lnTo>
                            <a:pt x="16" y="61"/>
                          </a:lnTo>
                          <a:lnTo>
                            <a:pt x="11" y="61"/>
                          </a:lnTo>
                          <a:lnTo>
                            <a:pt x="8" y="61"/>
                          </a:lnTo>
                          <a:lnTo>
                            <a:pt x="5" y="61"/>
                          </a:lnTo>
                          <a:lnTo>
                            <a:pt x="3" y="61"/>
                          </a:lnTo>
                          <a:lnTo>
                            <a:pt x="2" y="55"/>
                          </a:lnTo>
                          <a:lnTo>
                            <a:pt x="2" y="50"/>
                          </a:lnTo>
                          <a:lnTo>
                            <a:pt x="0" y="44"/>
                          </a:lnTo>
                          <a:lnTo>
                            <a:pt x="0" y="40"/>
                          </a:lnTo>
                          <a:lnTo>
                            <a:pt x="5" y="39"/>
                          </a:lnTo>
                          <a:lnTo>
                            <a:pt x="11" y="37"/>
                          </a:lnTo>
                          <a:lnTo>
                            <a:pt x="17" y="36"/>
                          </a:lnTo>
                          <a:lnTo>
                            <a:pt x="22" y="36"/>
                          </a:lnTo>
                          <a:lnTo>
                            <a:pt x="28" y="33"/>
                          </a:lnTo>
                          <a:lnTo>
                            <a:pt x="34" y="32"/>
                          </a:lnTo>
                          <a:lnTo>
                            <a:pt x="39" y="32"/>
                          </a:lnTo>
                          <a:lnTo>
                            <a:pt x="45" y="30"/>
                          </a:lnTo>
                          <a:lnTo>
                            <a:pt x="51" y="29"/>
                          </a:lnTo>
                          <a:lnTo>
                            <a:pt x="55" y="29"/>
                          </a:lnTo>
                          <a:lnTo>
                            <a:pt x="62" y="28"/>
                          </a:lnTo>
                          <a:lnTo>
                            <a:pt x="68" y="26"/>
                          </a:lnTo>
                          <a:lnTo>
                            <a:pt x="72" y="26"/>
                          </a:lnTo>
                          <a:lnTo>
                            <a:pt x="78" y="25"/>
                          </a:lnTo>
                          <a:lnTo>
                            <a:pt x="85" y="24"/>
                          </a:lnTo>
                          <a:lnTo>
                            <a:pt x="91" y="24"/>
                          </a:lnTo>
                          <a:lnTo>
                            <a:pt x="95" y="22"/>
                          </a:lnTo>
                          <a:lnTo>
                            <a:pt x="101" y="22"/>
                          </a:lnTo>
                          <a:lnTo>
                            <a:pt x="107" y="21"/>
                          </a:lnTo>
                          <a:lnTo>
                            <a:pt x="112" y="19"/>
                          </a:lnTo>
                          <a:lnTo>
                            <a:pt x="118" y="19"/>
                          </a:lnTo>
                          <a:lnTo>
                            <a:pt x="124" y="18"/>
                          </a:lnTo>
                          <a:lnTo>
                            <a:pt x="130" y="17"/>
                          </a:lnTo>
                          <a:lnTo>
                            <a:pt x="137" y="17"/>
                          </a:lnTo>
                          <a:lnTo>
                            <a:pt x="141" y="15"/>
                          </a:lnTo>
                          <a:lnTo>
                            <a:pt x="147" y="15"/>
                          </a:lnTo>
                          <a:lnTo>
                            <a:pt x="153" y="14"/>
                          </a:lnTo>
                          <a:lnTo>
                            <a:pt x="159" y="14"/>
                          </a:lnTo>
                          <a:lnTo>
                            <a:pt x="164" y="14"/>
                          </a:lnTo>
                          <a:lnTo>
                            <a:pt x="172" y="13"/>
                          </a:lnTo>
                          <a:lnTo>
                            <a:pt x="176" y="13"/>
                          </a:lnTo>
                          <a:lnTo>
                            <a:pt x="182" y="13"/>
                          </a:lnTo>
                          <a:lnTo>
                            <a:pt x="189" y="11"/>
                          </a:lnTo>
                          <a:lnTo>
                            <a:pt x="195" y="11"/>
                          </a:lnTo>
                          <a:lnTo>
                            <a:pt x="199" y="10"/>
                          </a:lnTo>
                          <a:lnTo>
                            <a:pt x="205" y="10"/>
                          </a:lnTo>
                          <a:lnTo>
                            <a:pt x="211" y="10"/>
                          </a:lnTo>
                          <a:lnTo>
                            <a:pt x="218" y="8"/>
                          </a:lnTo>
                          <a:lnTo>
                            <a:pt x="224" y="8"/>
                          </a:lnTo>
                          <a:lnTo>
                            <a:pt x="230" y="8"/>
                          </a:lnTo>
                          <a:lnTo>
                            <a:pt x="236" y="7"/>
                          </a:lnTo>
                          <a:lnTo>
                            <a:pt x="241" y="7"/>
                          </a:lnTo>
                          <a:lnTo>
                            <a:pt x="247" y="7"/>
                          </a:lnTo>
                          <a:lnTo>
                            <a:pt x="253" y="7"/>
                          </a:lnTo>
                          <a:lnTo>
                            <a:pt x="259" y="6"/>
                          </a:lnTo>
                          <a:lnTo>
                            <a:pt x="265" y="6"/>
                          </a:lnTo>
                          <a:lnTo>
                            <a:pt x="271" y="4"/>
                          </a:lnTo>
                          <a:lnTo>
                            <a:pt x="277" y="4"/>
                          </a:lnTo>
                          <a:lnTo>
                            <a:pt x="282" y="4"/>
                          </a:lnTo>
                          <a:lnTo>
                            <a:pt x="288" y="4"/>
                          </a:lnTo>
                          <a:lnTo>
                            <a:pt x="294" y="3"/>
                          </a:lnTo>
                          <a:lnTo>
                            <a:pt x="300" y="3"/>
                          </a:lnTo>
                          <a:lnTo>
                            <a:pt x="305" y="3"/>
                          </a:lnTo>
                          <a:lnTo>
                            <a:pt x="311" y="3"/>
                          </a:lnTo>
                          <a:lnTo>
                            <a:pt x="319" y="2"/>
                          </a:lnTo>
                          <a:lnTo>
                            <a:pt x="325" y="2"/>
                          </a:lnTo>
                          <a:lnTo>
                            <a:pt x="329" y="2"/>
                          </a:lnTo>
                          <a:lnTo>
                            <a:pt x="335" y="2"/>
                          </a:lnTo>
                          <a:lnTo>
                            <a:pt x="342" y="2"/>
                          </a:lnTo>
                          <a:lnTo>
                            <a:pt x="348" y="2"/>
                          </a:lnTo>
                          <a:lnTo>
                            <a:pt x="352" y="0"/>
                          </a:lnTo>
                          <a:lnTo>
                            <a:pt x="360" y="0"/>
                          </a:lnTo>
                          <a:lnTo>
                            <a:pt x="366" y="0"/>
                          </a:lnTo>
                          <a:lnTo>
                            <a:pt x="37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Freeform 278"/>
                    <p:cNvSpPr/>
                    <p:nvPr/>
                  </p:nvSpPr>
                  <p:spPr>
                    <a:xfrm>
                      <a:off x="817920" y="2049840"/>
                      <a:ext cx="45360" cy="15588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155880"/>
                        <a:gd name="textAreaBottom" fmla="*/ 156240 h 155880"/>
                      </a:gdLst>
                      <a:ahLst/>
                      <a:rect l="textAreaLeft" t="textAreaTop" r="textAreaRight" b="textAreaBottom"/>
                      <a:pathLst>
                        <a:path w="211" h="551">
                          <a:moveTo>
                            <a:pt x="61" y="43"/>
                          </a:moveTo>
                          <a:lnTo>
                            <a:pt x="61" y="47"/>
                          </a:lnTo>
                          <a:lnTo>
                            <a:pt x="63" y="51"/>
                          </a:lnTo>
                          <a:lnTo>
                            <a:pt x="63" y="57"/>
                          </a:lnTo>
                          <a:lnTo>
                            <a:pt x="64" y="62"/>
                          </a:lnTo>
                          <a:lnTo>
                            <a:pt x="64" y="66"/>
                          </a:lnTo>
                          <a:lnTo>
                            <a:pt x="66" y="72"/>
                          </a:lnTo>
                          <a:lnTo>
                            <a:pt x="66" y="79"/>
                          </a:lnTo>
                          <a:lnTo>
                            <a:pt x="67" y="84"/>
                          </a:lnTo>
                          <a:lnTo>
                            <a:pt x="67" y="88"/>
                          </a:lnTo>
                          <a:lnTo>
                            <a:pt x="67" y="94"/>
                          </a:lnTo>
                          <a:lnTo>
                            <a:pt x="67" y="99"/>
                          </a:lnTo>
                          <a:lnTo>
                            <a:pt x="67" y="105"/>
                          </a:lnTo>
                          <a:lnTo>
                            <a:pt x="67" y="109"/>
                          </a:lnTo>
                          <a:lnTo>
                            <a:pt x="67" y="114"/>
                          </a:lnTo>
                          <a:lnTo>
                            <a:pt x="66" y="118"/>
                          </a:lnTo>
                          <a:lnTo>
                            <a:pt x="64" y="122"/>
                          </a:lnTo>
                          <a:lnTo>
                            <a:pt x="64" y="118"/>
                          </a:lnTo>
                          <a:lnTo>
                            <a:pt x="64" y="116"/>
                          </a:lnTo>
                          <a:lnTo>
                            <a:pt x="64" y="112"/>
                          </a:lnTo>
                          <a:lnTo>
                            <a:pt x="64" y="109"/>
                          </a:lnTo>
                          <a:lnTo>
                            <a:pt x="63" y="105"/>
                          </a:lnTo>
                          <a:lnTo>
                            <a:pt x="63" y="102"/>
                          </a:lnTo>
                          <a:lnTo>
                            <a:pt x="63" y="98"/>
                          </a:lnTo>
                          <a:lnTo>
                            <a:pt x="63" y="95"/>
                          </a:lnTo>
                          <a:lnTo>
                            <a:pt x="61" y="91"/>
                          </a:lnTo>
                          <a:lnTo>
                            <a:pt x="61" y="88"/>
                          </a:lnTo>
                          <a:lnTo>
                            <a:pt x="61" y="84"/>
                          </a:lnTo>
                          <a:lnTo>
                            <a:pt x="60" y="81"/>
                          </a:lnTo>
                          <a:lnTo>
                            <a:pt x="60" y="79"/>
                          </a:lnTo>
                          <a:lnTo>
                            <a:pt x="58" y="76"/>
                          </a:lnTo>
                          <a:lnTo>
                            <a:pt x="58" y="72"/>
                          </a:lnTo>
                          <a:lnTo>
                            <a:pt x="58" y="69"/>
                          </a:lnTo>
                          <a:lnTo>
                            <a:pt x="57" y="66"/>
                          </a:lnTo>
                          <a:lnTo>
                            <a:pt x="57" y="62"/>
                          </a:lnTo>
                          <a:lnTo>
                            <a:pt x="55" y="59"/>
                          </a:lnTo>
                          <a:lnTo>
                            <a:pt x="54" y="55"/>
                          </a:lnTo>
                          <a:lnTo>
                            <a:pt x="54" y="52"/>
                          </a:lnTo>
                          <a:lnTo>
                            <a:pt x="52" y="48"/>
                          </a:lnTo>
                          <a:lnTo>
                            <a:pt x="52" y="46"/>
                          </a:lnTo>
                          <a:lnTo>
                            <a:pt x="50" y="42"/>
                          </a:lnTo>
                          <a:lnTo>
                            <a:pt x="50" y="39"/>
                          </a:lnTo>
                          <a:lnTo>
                            <a:pt x="49" y="35"/>
                          </a:lnTo>
                          <a:lnTo>
                            <a:pt x="47" y="32"/>
                          </a:lnTo>
                          <a:lnTo>
                            <a:pt x="47" y="29"/>
                          </a:lnTo>
                          <a:lnTo>
                            <a:pt x="46" y="25"/>
                          </a:lnTo>
                          <a:lnTo>
                            <a:pt x="46" y="22"/>
                          </a:lnTo>
                          <a:lnTo>
                            <a:pt x="44" y="18"/>
                          </a:lnTo>
                          <a:lnTo>
                            <a:pt x="44" y="15"/>
                          </a:lnTo>
                          <a:lnTo>
                            <a:pt x="29" y="14"/>
                          </a:lnTo>
                          <a:lnTo>
                            <a:pt x="29" y="17"/>
                          </a:lnTo>
                          <a:lnTo>
                            <a:pt x="31" y="20"/>
                          </a:lnTo>
                          <a:lnTo>
                            <a:pt x="32" y="24"/>
                          </a:lnTo>
                          <a:lnTo>
                            <a:pt x="34" y="26"/>
                          </a:lnTo>
                          <a:lnTo>
                            <a:pt x="35" y="32"/>
                          </a:lnTo>
                          <a:lnTo>
                            <a:pt x="35" y="37"/>
                          </a:lnTo>
                          <a:lnTo>
                            <a:pt x="37" y="43"/>
                          </a:lnTo>
                          <a:lnTo>
                            <a:pt x="37" y="48"/>
                          </a:lnTo>
                          <a:lnTo>
                            <a:pt x="38" y="54"/>
                          </a:lnTo>
                          <a:lnTo>
                            <a:pt x="38" y="61"/>
                          </a:lnTo>
                          <a:lnTo>
                            <a:pt x="38" y="63"/>
                          </a:lnTo>
                          <a:lnTo>
                            <a:pt x="40" y="66"/>
                          </a:lnTo>
                          <a:lnTo>
                            <a:pt x="40" y="70"/>
                          </a:lnTo>
                          <a:lnTo>
                            <a:pt x="41" y="73"/>
                          </a:lnTo>
                          <a:lnTo>
                            <a:pt x="41" y="79"/>
                          </a:lnTo>
                          <a:lnTo>
                            <a:pt x="41" y="85"/>
                          </a:lnTo>
                          <a:lnTo>
                            <a:pt x="41" y="88"/>
                          </a:lnTo>
                          <a:lnTo>
                            <a:pt x="41" y="91"/>
                          </a:lnTo>
                          <a:lnTo>
                            <a:pt x="41" y="94"/>
                          </a:lnTo>
                          <a:lnTo>
                            <a:pt x="41" y="98"/>
                          </a:lnTo>
                          <a:lnTo>
                            <a:pt x="41" y="103"/>
                          </a:lnTo>
                          <a:lnTo>
                            <a:pt x="41" y="109"/>
                          </a:lnTo>
                          <a:lnTo>
                            <a:pt x="41" y="114"/>
                          </a:lnTo>
                          <a:lnTo>
                            <a:pt x="41" y="120"/>
                          </a:lnTo>
                          <a:lnTo>
                            <a:pt x="41" y="117"/>
                          </a:lnTo>
                          <a:lnTo>
                            <a:pt x="41" y="113"/>
                          </a:lnTo>
                          <a:lnTo>
                            <a:pt x="40" y="110"/>
                          </a:lnTo>
                          <a:lnTo>
                            <a:pt x="40" y="107"/>
                          </a:lnTo>
                          <a:lnTo>
                            <a:pt x="38" y="103"/>
                          </a:lnTo>
                          <a:lnTo>
                            <a:pt x="37" y="101"/>
                          </a:lnTo>
                          <a:lnTo>
                            <a:pt x="37" y="98"/>
                          </a:lnTo>
                          <a:lnTo>
                            <a:pt x="37" y="95"/>
                          </a:lnTo>
                          <a:lnTo>
                            <a:pt x="35" y="91"/>
                          </a:lnTo>
                          <a:lnTo>
                            <a:pt x="34" y="88"/>
                          </a:lnTo>
                          <a:lnTo>
                            <a:pt x="34" y="84"/>
                          </a:lnTo>
                          <a:lnTo>
                            <a:pt x="32" y="81"/>
                          </a:lnTo>
                          <a:lnTo>
                            <a:pt x="31" y="79"/>
                          </a:lnTo>
                          <a:lnTo>
                            <a:pt x="31" y="74"/>
                          </a:lnTo>
                          <a:lnTo>
                            <a:pt x="31" y="72"/>
                          </a:lnTo>
                          <a:lnTo>
                            <a:pt x="29" y="68"/>
                          </a:lnTo>
                          <a:lnTo>
                            <a:pt x="28" y="63"/>
                          </a:lnTo>
                          <a:lnTo>
                            <a:pt x="28" y="59"/>
                          </a:lnTo>
                          <a:lnTo>
                            <a:pt x="24" y="57"/>
                          </a:lnTo>
                          <a:lnTo>
                            <a:pt x="23" y="54"/>
                          </a:lnTo>
                          <a:lnTo>
                            <a:pt x="21" y="50"/>
                          </a:lnTo>
                          <a:lnTo>
                            <a:pt x="20" y="46"/>
                          </a:lnTo>
                          <a:lnTo>
                            <a:pt x="18" y="42"/>
                          </a:lnTo>
                          <a:lnTo>
                            <a:pt x="17" y="39"/>
                          </a:lnTo>
                          <a:lnTo>
                            <a:pt x="15" y="35"/>
                          </a:lnTo>
                          <a:lnTo>
                            <a:pt x="14" y="31"/>
                          </a:lnTo>
                          <a:lnTo>
                            <a:pt x="12" y="26"/>
                          </a:lnTo>
                          <a:lnTo>
                            <a:pt x="12" y="24"/>
                          </a:lnTo>
                          <a:lnTo>
                            <a:pt x="11" y="20"/>
                          </a:lnTo>
                          <a:lnTo>
                            <a:pt x="11" y="15"/>
                          </a:lnTo>
                          <a:lnTo>
                            <a:pt x="11" y="10"/>
                          </a:lnTo>
                          <a:lnTo>
                            <a:pt x="12" y="7"/>
                          </a:lnTo>
                          <a:lnTo>
                            <a:pt x="9" y="4"/>
                          </a:lnTo>
                          <a:lnTo>
                            <a:pt x="6" y="3"/>
                          </a:lnTo>
                          <a:lnTo>
                            <a:pt x="3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0" y="20"/>
                          </a:lnTo>
                          <a:lnTo>
                            <a:pt x="0" y="21"/>
                          </a:lnTo>
                          <a:lnTo>
                            <a:pt x="2" y="24"/>
                          </a:lnTo>
                          <a:lnTo>
                            <a:pt x="2" y="28"/>
                          </a:lnTo>
                          <a:lnTo>
                            <a:pt x="2" y="31"/>
                          </a:lnTo>
                          <a:lnTo>
                            <a:pt x="2" y="33"/>
                          </a:lnTo>
                          <a:lnTo>
                            <a:pt x="2" y="37"/>
                          </a:lnTo>
                          <a:lnTo>
                            <a:pt x="2" y="40"/>
                          </a:lnTo>
                          <a:lnTo>
                            <a:pt x="3" y="44"/>
                          </a:lnTo>
                          <a:lnTo>
                            <a:pt x="3" y="47"/>
                          </a:lnTo>
                          <a:lnTo>
                            <a:pt x="3" y="51"/>
                          </a:lnTo>
                          <a:lnTo>
                            <a:pt x="3" y="54"/>
                          </a:lnTo>
                          <a:lnTo>
                            <a:pt x="3" y="58"/>
                          </a:lnTo>
                          <a:lnTo>
                            <a:pt x="3" y="62"/>
                          </a:lnTo>
                          <a:lnTo>
                            <a:pt x="5" y="66"/>
                          </a:lnTo>
                          <a:lnTo>
                            <a:pt x="5" y="69"/>
                          </a:lnTo>
                          <a:lnTo>
                            <a:pt x="6" y="73"/>
                          </a:lnTo>
                          <a:lnTo>
                            <a:pt x="6" y="77"/>
                          </a:lnTo>
                          <a:lnTo>
                            <a:pt x="6" y="81"/>
                          </a:lnTo>
                          <a:lnTo>
                            <a:pt x="6" y="85"/>
                          </a:lnTo>
                          <a:lnTo>
                            <a:pt x="8" y="90"/>
                          </a:lnTo>
                          <a:lnTo>
                            <a:pt x="8" y="94"/>
                          </a:lnTo>
                          <a:lnTo>
                            <a:pt x="8" y="96"/>
                          </a:lnTo>
                          <a:lnTo>
                            <a:pt x="8" y="101"/>
                          </a:lnTo>
                          <a:lnTo>
                            <a:pt x="9" y="105"/>
                          </a:lnTo>
                          <a:lnTo>
                            <a:pt x="9" y="107"/>
                          </a:lnTo>
                          <a:lnTo>
                            <a:pt x="9" y="112"/>
                          </a:lnTo>
                          <a:lnTo>
                            <a:pt x="9" y="116"/>
                          </a:lnTo>
                          <a:lnTo>
                            <a:pt x="9" y="118"/>
                          </a:lnTo>
                          <a:lnTo>
                            <a:pt x="9" y="121"/>
                          </a:lnTo>
                          <a:lnTo>
                            <a:pt x="9" y="125"/>
                          </a:lnTo>
                          <a:lnTo>
                            <a:pt x="11" y="128"/>
                          </a:lnTo>
                          <a:lnTo>
                            <a:pt x="11" y="132"/>
                          </a:lnTo>
                          <a:lnTo>
                            <a:pt x="11" y="138"/>
                          </a:lnTo>
                          <a:lnTo>
                            <a:pt x="12" y="143"/>
                          </a:lnTo>
                          <a:lnTo>
                            <a:pt x="12" y="149"/>
                          </a:lnTo>
                          <a:lnTo>
                            <a:pt x="12" y="153"/>
                          </a:lnTo>
                          <a:lnTo>
                            <a:pt x="12" y="155"/>
                          </a:lnTo>
                          <a:lnTo>
                            <a:pt x="12" y="160"/>
                          </a:lnTo>
                          <a:lnTo>
                            <a:pt x="12" y="162"/>
                          </a:lnTo>
                          <a:lnTo>
                            <a:pt x="12" y="161"/>
                          </a:lnTo>
                          <a:lnTo>
                            <a:pt x="12" y="551"/>
                          </a:lnTo>
                          <a:lnTo>
                            <a:pt x="211" y="551"/>
                          </a:lnTo>
                          <a:lnTo>
                            <a:pt x="208" y="84"/>
                          </a:lnTo>
                          <a:lnTo>
                            <a:pt x="208" y="79"/>
                          </a:lnTo>
                          <a:lnTo>
                            <a:pt x="208" y="74"/>
                          </a:lnTo>
                          <a:lnTo>
                            <a:pt x="208" y="69"/>
                          </a:lnTo>
                          <a:lnTo>
                            <a:pt x="208" y="65"/>
                          </a:lnTo>
                          <a:lnTo>
                            <a:pt x="208" y="61"/>
                          </a:lnTo>
                          <a:lnTo>
                            <a:pt x="208" y="57"/>
                          </a:lnTo>
                          <a:lnTo>
                            <a:pt x="208" y="51"/>
                          </a:lnTo>
                          <a:lnTo>
                            <a:pt x="208" y="47"/>
                          </a:lnTo>
                          <a:lnTo>
                            <a:pt x="208" y="43"/>
                          </a:lnTo>
                          <a:lnTo>
                            <a:pt x="208" y="39"/>
                          </a:lnTo>
                          <a:lnTo>
                            <a:pt x="208" y="35"/>
                          </a:lnTo>
                          <a:lnTo>
                            <a:pt x="208" y="31"/>
                          </a:lnTo>
                          <a:lnTo>
                            <a:pt x="206" y="26"/>
                          </a:lnTo>
                          <a:lnTo>
                            <a:pt x="206" y="22"/>
                          </a:lnTo>
                          <a:lnTo>
                            <a:pt x="206" y="17"/>
                          </a:lnTo>
                          <a:lnTo>
                            <a:pt x="206" y="14"/>
                          </a:lnTo>
                          <a:lnTo>
                            <a:pt x="202" y="14"/>
                          </a:lnTo>
                          <a:lnTo>
                            <a:pt x="200" y="17"/>
                          </a:lnTo>
                          <a:lnTo>
                            <a:pt x="200" y="21"/>
                          </a:lnTo>
                          <a:lnTo>
                            <a:pt x="200" y="25"/>
                          </a:lnTo>
                          <a:lnTo>
                            <a:pt x="200" y="29"/>
                          </a:lnTo>
                          <a:lnTo>
                            <a:pt x="200" y="32"/>
                          </a:lnTo>
                          <a:lnTo>
                            <a:pt x="200" y="36"/>
                          </a:lnTo>
                          <a:lnTo>
                            <a:pt x="200" y="40"/>
                          </a:lnTo>
                          <a:lnTo>
                            <a:pt x="200" y="44"/>
                          </a:lnTo>
                          <a:lnTo>
                            <a:pt x="200" y="48"/>
                          </a:lnTo>
                          <a:lnTo>
                            <a:pt x="200" y="52"/>
                          </a:lnTo>
                          <a:lnTo>
                            <a:pt x="200" y="57"/>
                          </a:lnTo>
                          <a:lnTo>
                            <a:pt x="202" y="61"/>
                          </a:lnTo>
                          <a:lnTo>
                            <a:pt x="202" y="65"/>
                          </a:lnTo>
                          <a:lnTo>
                            <a:pt x="202" y="69"/>
                          </a:lnTo>
                          <a:lnTo>
                            <a:pt x="202" y="72"/>
                          </a:lnTo>
                          <a:lnTo>
                            <a:pt x="203" y="77"/>
                          </a:lnTo>
                          <a:lnTo>
                            <a:pt x="202" y="79"/>
                          </a:lnTo>
                          <a:lnTo>
                            <a:pt x="202" y="81"/>
                          </a:lnTo>
                          <a:lnTo>
                            <a:pt x="200" y="84"/>
                          </a:lnTo>
                          <a:lnTo>
                            <a:pt x="199" y="85"/>
                          </a:lnTo>
                          <a:lnTo>
                            <a:pt x="199" y="80"/>
                          </a:lnTo>
                          <a:lnTo>
                            <a:pt x="199" y="74"/>
                          </a:lnTo>
                          <a:lnTo>
                            <a:pt x="197" y="69"/>
                          </a:lnTo>
                          <a:lnTo>
                            <a:pt x="197" y="63"/>
                          </a:lnTo>
                          <a:lnTo>
                            <a:pt x="197" y="58"/>
                          </a:lnTo>
                          <a:lnTo>
                            <a:pt x="196" y="52"/>
                          </a:lnTo>
                          <a:lnTo>
                            <a:pt x="196" y="47"/>
                          </a:lnTo>
                          <a:lnTo>
                            <a:pt x="196" y="42"/>
                          </a:lnTo>
                          <a:lnTo>
                            <a:pt x="194" y="43"/>
                          </a:lnTo>
                          <a:lnTo>
                            <a:pt x="193" y="47"/>
                          </a:lnTo>
                          <a:lnTo>
                            <a:pt x="191" y="50"/>
                          </a:lnTo>
                          <a:lnTo>
                            <a:pt x="191" y="52"/>
                          </a:lnTo>
                          <a:lnTo>
                            <a:pt x="191" y="57"/>
                          </a:lnTo>
                          <a:lnTo>
                            <a:pt x="191" y="61"/>
                          </a:lnTo>
                          <a:lnTo>
                            <a:pt x="191" y="63"/>
                          </a:lnTo>
                          <a:lnTo>
                            <a:pt x="191" y="69"/>
                          </a:lnTo>
                          <a:lnTo>
                            <a:pt x="191" y="73"/>
                          </a:lnTo>
                          <a:lnTo>
                            <a:pt x="191" y="79"/>
                          </a:lnTo>
                          <a:lnTo>
                            <a:pt x="191" y="83"/>
                          </a:lnTo>
                          <a:lnTo>
                            <a:pt x="193" y="88"/>
                          </a:lnTo>
                          <a:lnTo>
                            <a:pt x="193" y="94"/>
                          </a:lnTo>
                          <a:lnTo>
                            <a:pt x="193" y="99"/>
                          </a:lnTo>
                          <a:lnTo>
                            <a:pt x="193" y="103"/>
                          </a:lnTo>
                          <a:lnTo>
                            <a:pt x="193" y="109"/>
                          </a:lnTo>
                          <a:lnTo>
                            <a:pt x="193" y="113"/>
                          </a:lnTo>
                          <a:lnTo>
                            <a:pt x="194" y="117"/>
                          </a:lnTo>
                          <a:lnTo>
                            <a:pt x="194" y="121"/>
                          </a:lnTo>
                          <a:lnTo>
                            <a:pt x="194" y="125"/>
                          </a:lnTo>
                          <a:lnTo>
                            <a:pt x="194" y="129"/>
                          </a:lnTo>
                          <a:lnTo>
                            <a:pt x="194" y="133"/>
                          </a:lnTo>
                          <a:lnTo>
                            <a:pt x="193" y="138"/>
                          </a:lnTo>
                          <a:lnTo>
                            <a:pt x="193" y="140"/>
                          </a:lnTo>
                          <a:lnTo>
                            <a:pt x="191" y="142"/>
                          </a:lnTo>
                          <a:lnTo>
                            <a:pt x="191" y="140"/>
                          </a:lnTo>
                          <a:lnTo>
                            <a:pt x="190" y="135"/>
                          </a:lnTo>
                          <a:lnTo>
                            <a:pt x="190" y="128"/>
                          </a:lnTo>
                          <a:lnTo>
                            <a:pt x="188" y="122"/>
                          </a:lnTo>
                          <a:lnTo>
                            <a:pt x="188" y="117"/>
                          </a:lnTo>
                          <a:lnTo>
                            <a:pt x="187" y="112"/>
                          </a:lnTo>
                          <a:lnTo>
                            <a:pt x="187" y="106"/>
                          </a:lnTo>
                          <a:lnTo>
                            <a:pt x="185" y="102"/>
                          </a:lnTo>
                          <a:lnTo>
                            <a:pt x="185" y="98"/>
                          </a:lnTo>
                          <a:lnTo>
                            <a:pt x="185" y="91"/>
                          </a:lnTo>
                          <a:lnTo>
                            <a:pt x="185" y="85"/>
                          </a:lnTo>
                          <a:lnTo>
                            <a:pt x="185" y="80"/>
                          </a:lnTo>
                          <a:lnTo>
                            <a:pt x="185" y="76"/>
                          </a:lnTo>
                          <a:lnTo>
                            <a:pt x="185" y="69"/>
                          </a:lnTo>
                          <a:lnTo>
                            <a:pt x="185" y="65"/>
                          </a:lnTo>
                          <a:lnTo>
                            <a:pt x="185" y="59"/>
                          </a:lnTo>
                          <a:lnTo>
                            <a:pt x="185" y="54"/>
                          </a:lnTo>
                          <a:lnTo>
                            <a:pt x="185" y="48"/>
                          </a:lnTo>
                          <a:lnTo>
                            <a:pt x="185" y="44"/>
                          </a:lnTo>
                          <a:lnTo>
                            <a:pt x="185" y="39"/>
                          </a:lnTo>
                          <a:lnTo>
                            <a:pt x="185" y="33"/>
                          </a:lnTo>
                          <a:lnTo>
                            <a:pt x="185" y="29"/>
                          </a:lnTo>
                          <a:lnTo>
                            <a:pt x="185" y="24"/>
                          </a:lnTo>
                          <a:lnTo>
                            <a:pt x="185" y="18"/>
                          </a:lnTo>
                          <a:lnTo>
                            <a:pt x="185" y="14"/>
                          </a:lnTo>
                          <a:lnTo>
                            <a:pt x="180" y="14"/>
                          </a:lnTo>
                          <a:lnTo>
                            <a:pt x="176" y="14"/>
                          </a:lnTo>
                          <a:lnTo>
                            <a:pt x="171" y="14"/>
                          </a:lnTo>
                          <a:lnTo>
                            <a:pt x="168" y="15"/>
                          </a:lnTo>
                          <a:lnTo>
                            <a:pt x="168" y="20"/>
                          </a:lnTo>
                          <a:lnTo>
                            <a:pt x="168" y="22"/>
                          </a:lnTo>
                          <a:lnTo>
                            <a:pt x="168" y="26"/>
                          </a:lnTo>
                          <a:lnTo>
                            <a:pt x="168" y="31"/>
                          </a:lnTo>
                          <a:lnTo>
                            <a:pt x="168" y="35"/>
                          </a:lnTo>
                          <a:lnTo>
                            <a:pt x="168" y="39"/>
                          </a:lnTo>
                          <a:lnTo>
                            <a:pt x="168" y="42"/>
                          </a:lnTo>
                          <a:lnTo>
                            <a:pt x="168" y="46"/>
                          </a:lnTo>
                          <a:lnTo>
                            <a:pt x="168" y="50"/>
                          </a:lnTo>
                          <a:lnTo>
                            <a:pt x="168" y="54"/>
                          </a:lnTo>
                          <a:lnTo>
                            <a:pt x="168" y="57"/>
                          </a:lnTo>
                          <a:lnTo>
                            <a:pt x="168" y="61"/>
                          </a:lnTo>
                          <a:lnTo>
                            <a:pt x="168" y="65"/>
                          </a:lnTo>
                          <a:lnTo>
                            <a:pt x="168" y="69"/>
                          </a:lnTo>
                          <a:lnTo>
                            <a:pt x="168" y="73"/>
                          </a:lnTo>
                          <a:lnTo>
                            <a:pt x="170" y="77"/>
                          </a:lnTo>
                          <a:lnTo>
                            <a:pt x="170" y="80"/>
                          </a:lnTo>
                          <a:lnTo>
                            <a:pt x="170" y="84"/>
                          </a:lnTo>
                          <a:lnTo>
                            <a:pt x="170" y="88"/>
                          </a:lnTo>
                          <a:lnTo>
                            <a:pt x="170" y="91"/>
                          </a:lnTo>
                          <a:lnTo>
                            <a:pt x="170" y="95"/>
                          </a:lnTo>
                          <a:lnTo>
                            <a:pt x="171" y="99"/>
                          </a:lnTo>
                          <a:lnTo>
                            <a:pt x="171" y="102"/>
                          </a:lnTo>
                          <a:lnTo>
                            <a:pt x="171" y="106"/>
                          </a:lnTo>
                          <a:lnTo>
                            <a:pt x="171" y="109"/>
                          </a:lnTo>
                          <a:lnTo>
                            <a:pt x="171" y="113"/>
                          </a:lnTo>
                          <a:lnTo>
                            <a:pt x="171" y="116"/>
                          </a:lnTo>
                          <a:lnTo>
                            <a:pt x="171" y="120"/>
                          </a:lnTo>
                          <a:lnTo>
                            <a:pt x="171" y="124"/>
                          </a:lnTo>
                          <a:lnTo>
                            <a:pt x="173" y="127"/>
                          </a:lnTo>
                          <a:lnTo>
                            <a:pt x="173" y="131"/>
                          </a:lnTo>
                          <a:lnTo>
                            <a:pt x="173" y="133"/>
                          </a:lnTo>
                          <a:lnTo>
                            <a:pt x="173" y="136"/>
                          </a:lnTo>
                          <a:lnTo>
                            <a:pt x="173" y="139"/>
                          </a:lnTo>
                          <a:lnTo>
                            <a:pt x="173" y="143"/>
                          </a:lnTo>
                          <a:lnTo>
                            <a:pt x="174" y="149"/>
                          </a:lnTo>
                          <a:lnTo>
                            <a:pt x="174" y="153"/>
                          </a:lnTo>
                          <a:lnTo>
                            <a:pt x="174" y="160"/>
                          </a:lnTo>
                          <a:lnTo>
                            <a:pt x="174" y="162"/>
                          </a:lnTo>
                          <a:lnTo>
                            <a:pt x="174" y="165"/>
                          </a:lnTo>
                          <a:lnTo>
                            <a:pt x="174" y="168"/>
                          </a:lnTo>
                          <a:lnTo>
                            <a:pt x="174" y="172"/>
                          </a:lnTo>
                          <a:lnTo>
                            <a:pt x="174" y="177"/>
                          </a:lnTo>
                          <a:lnTo>
                            <a:pt x="174" y="183"/>
                          </a:lnTo>
                          <a:lnTo>
                            <a:pt x="173" y="187"/>
                          </a:lnTo>
                          <a:lnTo>
                            <a:pt x="173" y="192"/>
                          </a:lnTo>
                          <a:lnTo>
                            <a:pt x="171" y="198"/>
                          </a:lnTo>
                          <a:lnTo>
                            <a:pt x="171" y="202"/>
                          </a:lnTo>
                          <a:lnTo>
                            <a:pt x="170" y="205"/>
                          </a:lnTo>
                          <a:lnTo>
                            <a:pt x="168" y="206"/>
                          </a:lnTo>
                          <a:lnTo>
                            <a:pt x="167" y="201"/>
                          </a:lnTo>
                          <a:lnTo>
                            <a:pt x="167" y="195"/>
                          </a:lnTo>
                          <a:lnTo>
                            <a:pt x="165" y="190"/>
                          </a:lnTo>
                          <a:lnTo>
                            <a:pt x="165" y="184"/>
                          </a:lnTo>
                          <a:lnTo>
                            <a:pt x="165" y="177"/>
                          </a:lnTo>
                          <a:lnTo>
                            <a:pt x="164" y="172"/>
                          </a:lnTo>
                          <a:lnTo>
                            <a:pt x="164" y="166"/>
                          </a:lnTo>
                          <a:lnTo>
                            <a:pt x="164" y="162"/>
                          </a:lnTo>
                          <a:lnTo>
                            <a:pt x="164" y="155"/>
                          </a:lnTo>
                          <a:lnTo>
                            <a:pt x="164" y="150"/>
                          </a:lnTo>
                          <a:lnTo>
                            <a:pt x="164" y="144"/>
                          </a:lnTo>
                          <a:lnTo>
                            <a:pt x="164" y="139"/>
                          </a:lnTo>
                          <a:lnTo>
                            <a:pt x="164" y="133"/>
                          </a:lnTo>
                          <a:lnTo>
                            <a:pt x="164" y="128"/>
                          </a:lnTo>
                          <a:lnTo>
                            <a:pt x="164" y="121"/>
                          </a:lnTo>
                          <a:lnTo>
                            <a:pt x="164" y="117"/>
                          </a:lnTo>
                          <a:lnTo>
                            <a:pt x="164" y="110"/>
                          </a:lnTo>
                          <a:lnTo>
                            <a:pt x="164" y="105"/>
                          </a:lnTo>
                          <a:lnTo>
                            <a:pt x="164" y="99"/>
                          </a:lnTo>
                          <a:lnTo>
                            <a:pt x="164" y="94"/>
                          </a:lnTo>
                          <a:lnTo>
                            <a:pt x="164" y="88"/>
                          </a:lnTo>
                          <a:lnTo>
                            <a:pt x="164" y="83"/>
                          </a:lnTo>
                          <a:lnTo>
                            <a:pt x="164" y="76"/>
                          </a:lnTo>
                          <a:lnTo>
                            <a:pt x="164" y="72"/>
                          </a:lnTo>
                          <a:lnTo>
                            <a:pt x="164" y="65"/>
                          </a:lnTo>
                          <a:lnTo>
                            <a:pt x="164" y="59"/>
                          </a:lnTo>
                          <a:lnTo>
                            <a:pt x="162" y="54"/>
                          </a:lnTo>
                          <a:lnTo>
                            <a:pt x="162" y="48"/>
                          </a:lnTo>
                          <a:lnTo>
                            <a:pt x="162" y="43"/>
                          </a:lnTo>
                          <a:lnTo>
                            <a:pt x="161" y="37"/>
                          </a:lnTo>
                          <a:lnTo>
                            <a:pt x="161" y="32"/>
                          </a:lnTo>
                          <a:lnTo>
                            <a:pt x="161" y="26"/>
                          </a:lnTo>
                          <a:lnTo>
                            <a:pt x="159" y="25"/>
                          </a:lnTo>
                          <a:lnTo>
                            <a:pt x="158" y="22"/>
                          </a:lnTo>
                          <a:lnTo>
                            <a:pt x="156" y="20"/>
                          </a:lnTo>
                          <a:lnTo>
                            <a:pt x="156" y="18"/>
                          </a:lnTo>
                          <a:lnTo>
                            <a:pt x="154" y="20"/>
                          </a:lnTo>
                          <a:lnTo>
                            <a:pt x="154" y="22"/>
                          </a:lnTo>
                          <a:lnTo>
                            <a:pt x="153" y="26"/>
                          </a:lnTo>
                          <a:lnTo>
                            <a:pt x="153" y="29"/>
                          </a:lnTo>
                          <a:lnTo>
                            <a:pt x="153" y="32"/>
                          </a:lnTo>
                          <a:lnTo>
                            <a:pt x="153" y="36"/>
                          </a:lnTo>
                          <a:lnTo>
                            <a:pt x="153" y="39"/>
                          </a:lnTo>
                          <a:lnTo>
                            <a:pt x="153" y="43"/>
                          </a:lnTo>
                          <a:lnTo>
                            <a:pt x="156" y="105"/>
                          </a:lnTo>
                          <a:lnTo>
                            <a:pt x="156" y="109"/>
                          </a:lnTo>
                          <a:lnTo>
                            <a:pt x="156" y="114"/>
                          </a:lnTo>
                          <a:lnTo>
                            <a:pt x="156" y="120"/>
                          </a:lnTo>
                          <a:lnTo>
                            <a:pt x="156" y="125"/>
                          </a:lnTo>
                          <a:lnTo>
                            <a:pt x="156" y="129"/>
                          </a:lnTo>
                          <a:lnTo>
                            <a:pt x="156" y="135"/>
                          </a:lnTo>
                          <a:lnTo>
                            <a:pt x="154" y="140"/>
                          </a:lnTo>
                          <a:lnTo>
                            <a:pt x="154" y="144"/>
                          </a:lnTo>
                          <a:lnTo>
                            <a:pt x="154" y="150"/>
                          </a:lnTo>
                          <a:lnTo>
                            <a:pt x="154" y="155"/>
                          </a:lnTo>
                          <a:lnTo>
                            <a:pt x="154" y="160"/>
                          </a:lnTo>
                          <a:lnTo>
                            <a:pt x="154" y="165"/>
                          </a:lnTo>
                          <a:lnTo>
                            <a:pt x="153" y="171"/>
                          </a:lnTo>
                          <a:lnTo>
                            <a:pt x="153" y="175"/>
                          </a:lnTo>
                          <a:lnTo>
                            <a:pt x="153" y="180"/>
                          </a:lnTo>
                          <a:lnTo>
                            <a:pt x="153" y="186"/>
                          </a:lnTo>
                          <a:lnTo>
                            <a:pt x="153" y="512"/>
                          </a:lnTo>
                          <a:lnTo>
                            <a:pt x="75" y="515"/>
                          </a:lnTo>
                          <a:lnTo>
                            <a:pt x="72" y="66"/>
                          </a:lnTo>
                          <a:lnTo>
                            <a:pt x="72" y="62"/>
                          </a:lnTo>
                          <a:lnTo>
                            <a:pt x="72" y="59"/>
                          </a:lnTo>
                          <a:lnTo>
                            <a:pt x="72" y="57"/>
                          </a:lnTo>
                          <a:lnTo>
                            <a:pt x="72" y="54"/>
                          </a:lnTo>
                          <a:lnTo>
                            <a:pt x="70" y="50"/>
                          </a:lnTo>
                          <a:lnTo>
                            <a:pt x="69" y="47"/>
                          </a:lnTo>
                          <a:lnTo>
                            <a:pt x="69" y="43"/>
                          </a:lnTo>
                          <a:lnTo>
                            <a:pt x="67" y="40"/>
                          </a:lnTo>
                          <a:lnTo>
                            <a:pt x="67" y="37"/>
                          </a:lnTo>
                          <a:lnTo>
                            <a:pt x="66" y="33"/>
                          </a:lnTo>
                          <a:lnTo>
                            <a:pt x="64" y="31"/>
                          </a:lnTo>
                          <a:lnTo>
                            <a:pt x="64" y="28"/>
                          </a:lnTo>
                          <a:lnTo>
                            <a:pt x="63" y="21"/>
                          </a:lnTo>
                          <a:lnTo>
                            <a:pt x="61" y="15"/>
                          </a:lnTo>
                          <a:lnTo>
                            <a:pt x="57" y="15"/>
                          </a:lnTo>
                          <a:lnTo>
                            <a:pt x="61" y="43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Freeform 279"/>
                    <p:cNvSpPr/>
                    <p:nvPr/>
                  </p:nvSpPr>
                  <p:spPr>
                    <a:xfrm>
                      <a:off x="886680" y="2141280"/>
                      <a:ext cx="1800" cy="5040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50400"/>
                        <a:gd name="textAreaBottom" fmla="*/ 50760 h 50400"/>
                      </a:gdLst>
                      <a:ahLst/>
                      <a:rect l="textAreaLeft" t="textAreaTop" r="textAreaRight" b="textAreaBottom"/>
                      <a:pathLst>
                        <a:path w="9" h="178">
                          <a:moveTo>
                            <a:pt x="1" y="176"/>
                          </a:moveTo>
                          <a:lnTo>
                            <a:pt x="1" y="178"/>
                          </a:lnTo>
                          <a:lnTo>
                            <a:pt x="3" y="176"/>
                          </a:lnTo>
                          <a:lnTo>
                            <a:pt x="3" y="175"/>
                          </a:lnTo>
                          <a:lnTo>
                            <a:pt x="3" y="172"/>
                          </a:lnTo>
                          <a:lnTo>
                            <a:pt x="3" y="169"/>
                          </a:lnTo>
                          <a:lnTo>
                            <a:pt x="3" y="165"/>
                          </a:lnTo>
                          <a:lnTo>
                            <a:pt x="3" y="162"/>
                          </a:lnTo>
                          <a:lnTo>
                            <a:pt x="3" y="160"/>
                          </a:lnTo>
                          <a:lnTo>
                            <a:pt x="3" y="154"/>
                          </a:lnTo>
                          <a:lnTo>
                            <a:pt x="4" y="149"/>
                          </a:lnTo>
                          <a:lnTo>
                            <a:pt x="4" y="143"/>
                          </a:lnTo>
                          <a:lnTo>
                            <a:pt x="4" y="138"/>
                          </a:lnTo>
                          <a:lnTo>
                            <a:pt x="4" y="132"/>
                          </a:lnTo>
                          <a:lnTo>
                            <a:pt x="4" y="127"/>
                          </a:lnTo>
                          <a:lnTo>
                            <a:pt x="4" y="121"/>
                          </a:lnTo>
                          <a:lnTo>
                            <a:pt x="4" y="116"/>
                          </a:lnTo>
                          <a:lnTo>
                            <a:pt x="6" y="112"/>
                          </a:lnTo>
                          <a:lnTo>
                            <a:pt x="6" y="106"/>
                          </a:lnTo>
                          <a:lnTo>
                            <a:pt x="6" y="101"/>
                          </a:lnTo>
                          <a:lnTo>
                            <a:pt x="6" y="97"/>
                          </a:lnTo>
                          <a:lnTo>
                            <a:pt x="8" y="91"/>
                          </a:lnTo>
                          <a:lnTo>
                            <a:pt x="8" y="86"/>
                          </a:lnTo>
                          <a:lnTo>
                            <a:pt x="8" y="80"/>
                          </a:lnTo>
                          <a:lnTo>
                            <a:pt x="8" y="75"/>
                          </a:lnTo>
                          <a:lnTo>
                            <a:pt x="8" y="70"/>
                          </a:lnTo>
                          <a:lnTo>
                            <a:pt x="8" y="65"/>
                          </a:lnTo>
                          <a:lnTo>
                            <a:pt x="8" y="59"/>
                          </a:lnTo>
                          <a:lnTo>
                            <a:pt x="8" y="54"/>
                          </a:lnTo>
                          <a:lnTo>
                            <a:pt x="8" y="50"/>
                          </a:lnTo>
                          <a:lnTo>
                            <a:pt x="9" y="44"/>
                          </a:lnTo>
                          <a:lnTo>
                            <a:pt x="8" y="39"/>
                          </a:lnTo>
                          <a:lnTo>
                            <a:pt x="8" y="33"/>
                          </a:lnTo>
                          <a:lnTo>
                            <a:pt x="8" y="28"/>
                          </a:lnTo>
                          <a:lnTo>
                            <a:pt x="8" y="22"/>
                          </a:lnTo>
                          <a:lnTo>
                            <a:pt x="8" y="17"/>
                          </a:lnTo>
                          <a:lnTo>
                            <a:pt x="8" y="11"/>
                          </a:lnTo>
                          <a:lnTo>
                            <a:pt x="8" y="6"/>
                          </a:lnTo>
                          <a:lnTo>
                            <a:pt x="8" y="0"/>
                          </a:lnTo>
                          <a:lnTo>
                            <a:pt x="6" y="5"/>
                          </a:lnTo>
                          <a:lnTo>
                            <a:pt x="6" y="9"/>
                          </a:lnTo>
                          <a:lnTo>
                            <a:pt x="4" y="11"/>
                          </a:lnTo>
                          <a:lnTo>
                            <a:pt x="3" y="16"/>
                          </a:lnTo>
                          <a:lnTo>
                            <a:pt x="1" y="105"/>
                          </a:lnTo>
                          <a:lnTo>
                            <a:pt x="0" y="109"/>
                          </a:lnTo>
                          <a:lnTo>
                            <a:pt x="0" y="113"/>
                          </a:lnTo>
                          <a:lnTo>
                            <a:pt x="0" y="118"/>
                          </a:lnTo>
                          <a:lnTo>
                            <a:pt x="0" y="123"/>
                          </a:lnTo>
                          <a:lnTo>
                            <a:pt x="0" y="127"/>
                          </a:lnTo>
                          <a:lnTo>
                            <a:pt x="0" y="132"/>
                          </a:lnTo>
                          <a:lnTo>
                            <a:pt x="0" y="136"/>
                          </a:lnTo>
                          <a:lnTo>
                            <a:pt x="0" y="142"/>
                          </a:lnTo>
                          <a:lnTo>
                            <a:pt x="0" y="146"/>
                          </a:lnTo>
                          <a:lnTo>
                            <a:pt x="0" y="150"/>
                          </a:lnTo>
                          <a:lnTo>
                            <a:pt x="0" y="154"/>
                          </a:lnTo>
                          <a:lnTo>
                            <a:pt x="0" y="158"/>
                          </a:lnTo>
                          <a:lnTo>
                            <a:pt x="0" y="164"/>
                          </a:lnTo>
                          <a:lnTo>
                            <a:pt x="0" y="168"/>
                          </a:lnTo>
                          <a:lnTo>
                            <a:pt x="0" y="172"/>
                          </a:lnTo>
                          <a:lnTo>
                            <a:pt x="1" y="17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280"/>
                    <p:cNvSpPr/>
                    <p:nvPr/>
                  </p:nvSpPr>
                  <p:spPr>
                    <a:xfrm>
                      <a:off x="911520" y="2144520"/>
                      <a:ext cx="2520" cy="4536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45360"/>
                        <a:gd name="textAreaBottom" fmla="*/ 45720 h 45360"/>
                      </a:gdLst>
                      <a:ahLst/>
                      <a:rect l="textAreaLeft" t="textAreaTop" r="textAreaRight" b="textAreaBottom"/>
                      <a:pathLst>
                        <a:path w="12" h="161">
                          <a:moveTo>
                            <a:pt x="12" y="0"/>
                          </a:moveTo>
                          <a:lnTo>
                            <a:pt x="12" y="5"/>
                          </a:lnTo>
                          <a:lnTo>
                            <a:pt x="10" y="11"/>
                          </a:lnTo>
                          <a:lnTo>
                            <a:pt x="10" y="16"/>
                          </a:lnTo>
                          <a:lnTo>
                            <a:pt x="10" y="21"/>
                          </a:lnTo>
                          <a:lnTo>
                            <a:pt x="10" y="27"/>
                          </a:lnTo>
                          <a:lnTo>
                            <a:pt x="10" y="32"/>
                          </a:lnTo>
                          <a:lnTo>
                            <a:pt x="10" y="37"/>
                          </a:lnTo>
                          <a:lnTo>
                            <a:pt x="10" y="43"/>
                          </a:lnTo>
                          <a:lnTo>
                            <a:pt x="9" y="48"/>
                          </a:lnTo>
                          <a:lnTo>
                            <a:pt x="9" y="53"/>
                          </a:lnTo>
                          <a:lnTo>
                            <a:pt x="9" y="58"/>
                          </a:lnTo>
                          <a:lnTo>
                            <a:pt x="9" y="64"/>
                          </a:lnTo>
                          <a:lnTo>
                            <a:pt x="7" y="69"/>
                          </a:lnTo>
                          <a:lnTo>
                            <a:pt x="7" y="73"/>
                          </a:lnTo>
                          <a:lnTo>
                            <a:pt x="7" y="79"/>
                          </a:lnTo>
                          <a:lnTo>
                            <a:pt x="7" y="84"/>
                          </a:lnTo>
                          <a:lnTo>
                            <a:pt x="7" y="88"/>
                          </a:lnTo>
                          <a:lnTo>
                            <a:pt x="7" y="94"/>
                          </a:lnTo>
                          <a:lnTo>
                            <a:pt x="7" y="99"/>
                          </a:lnTo>
                          <a:lnTo>
                            <a:pt x="7" y="105"/>
                          </a:lnTo>
                          <a:lnTo>
                            <a:pt x="6" y="109"/>
                          </a:lnTo>
                          <a:lnTo>
                            <a:pt x="6" y="113"/>
                          </a:lnTo>
                          <a:lnTo>
                            <a:pt x="6" y="118"/>
                          </a:lnTo>
                          <a:lnTo>
                            <a:pt x="6" y="124"/>
                          </a:lnTo>
                          <a:lnTo>
                            <a:pt x="4" y="128"/>
                          </a:lnTo>
                          <a:lnTo>
                            <a:pt x="4" y="132"/>
                          </a:lnTo>
                          <a:lnTo>
                            <a:pt x="3" y="138"/>
                          </a:lnTo>
                          <a:lnTo>
                            <a:pt x="3" y="142"/>
                          </a:lnTo>
                          <a:lnTo>
                            <a:pt x="1" y="147"/>
                          </a:lnTo>
                          <a:lnTo>
                            <a:pt x="1" y="151"/>
                          </a:lnTo>
                          <a:lnTo>
                            <a:pt x="0" y="157"/>
                          </a:lnTo>
                          <a:lnTo>
                            <a:pt x="0" y="161"/>
                          </a:lnTo>
                          <a:lnTo>
                            <a:pt x="0" y="160"/>
                          </a:lnTo>
                          <a:lnTo>
                            <a:pt x="0" y="157"/>
                          </a:lnTo>
                          <a:lnTo>
                            <a:pt x="0" y="153"/>
                          </a:lnTo>
                          <a:lnTo>
                            <a:pt x="0" y="149"/>
                          </a:lnTo>
                          <a:lnTo>
                            <a:pt x="0" y="143"/>
                          </a:lnTo>
                          <a:lnTo>
                            <a:pt x="0" y="138"/>
                          </a:lnTo>
                          <a:lnTo>
                            <a:pt x="0" y="135"/>
                          </a:lnTo>
                          <a:lnTo>
                            <a:pt x="0" y="132"/>
                          </a:lnTo>
                          <a:lnTo>
                            <a:pt x="0" y="128"/>
                          </a:lnTo>
                          <a:lnTo>
                            <a:pt x="0" y="125"/>
                          </a:lnTo>
                          <a:lnTo>
                            <a:pt x="0" y="121"/>
                          </a:lnTo>
                          <a:lnTo>
                            <a:pt x="0" y="118"/>
                          </a:lnTo>
                          <a:lnTo>
                            <a:pt x="0" y="114"/>
                          </a:lnTo>
                          <a:lnTo>
                            <a:pt x="0" y="110"/>
                          </a:lnTo>
                          <a:lnTo>
                            <a:pt x="0" y="107"/>
                          </a:lnTo>
                          <a:lnTo>
                            <a:pt x="0" y="103"/>
                          </a:lnTo>
                          <a:lnTo>
                            <a:pt x="0" y="99"/>
                          </a:lnTo>
                          <a:lnTo>
                            <a:pt x="0" y="95"/>
                          </a:lnTo>
                          <a:lnTo>
                            <a:pt x="0" y="92"/>
                          </a:lnTo>
                          <a:lnTo>
                            <a:pt x="0" y="88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0" y="76"/>
                          </a:lnTo>
                          <a:lnTo>
                            <a:pt x="0" y="73"/>
                          </a:lnTo>
                          <a:lnTo>
                            <a:pt x="0" y="69"/>
                          </a:lnTo>
                          <a:lnTo>
                            <a:pt x="0" y="66"/>
                          </a:lnTo>
                          <a:lnTo>
                            <a:pt x="0" y="62"/>
                          </a:lnTo>
                          <a:lnTo>
                            <a:pt x="0" y="59"/>
                          </a:lnTo>
                          <a:lnTo>
                            <a:pt x="0" y="55"/>
                          </a:lnTo>
                          <a:lnTo>
                            <a:pt x="0" y="53"/>
                          </a:lnTo>
                          <a:lnTo>
                            <a:pt x="1" y="46"/>
                          </a:lnTo>
                          <a:lnTo>
                            <a:pt x="1" y="40"/>
                          </a:lnTo>
                          <a:lnTo>
                            <a:pt x="3" y="35"/>
                          </a:lnTo>
                          <a:lnTo>
                            <a:pt x="3" y="29"/>
                          </a:lnTo>
                          <a:lnTo>
                            <a:pt x="3" y="25"/>
                          </a:lnTo>
                          <a:lnTo>
                            <a:pt x="4" y="21"/>
                          </a:lnTo>
                          <a:lnTo>
                            <a:pt x="6" y="17"/>
                          </a:lnTo>
                          <a:lnTo>
                            <a:pt x="7" y="13"/>
                          </a:lnTo>
                          <a:lnTo>
                            <a:pt x="7" y="9"/>
                          </a:lnTo>
                          <a:lnTo>
                            <a:pt x="9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Freeform 281"/>
                    <p:cNvSpPr/>
                    <p:nvPr/>
                  </p:nvSpPr>
                  <p:spPr>
                    <a:xfrm>
                      <a:off x="871560" y="2042640"/>
                      <a:ext cx="45360" cy="16488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164880"/>
                        <a:gd name="textAreaBottom" fmla="*/ 165240 h 164880"/>
                      </a:gdLst>
                      <a:ahLst/>
                      <a:rect l="textAreaLeft" t="textAreaTop" r="textAreaRight" b="textAreaBottom"/>
                      <a:pathLst>
                        <a:path w="211" h="582">
                          <a:moveTo>
                            <a:pt x="59" y="76"/>
                          </a:moveTo>
                          <a:lnTo>
                            <a:pt x="59" y="80"/>
                          </a:lnTo>
                          <a:lnTo>
                            <a:pt x="61" y="84"/>
                          </a:lnTo>
                          <a:lnTo>
                            <a:pt x="61" y="88"/>
                          </a:lnTo>
                          <a:lnTo>
                            <a:pt x="62" y="94"/>
                          </a:lnTo>
                          <a:lnTo>
                            <a:pt x="62" y="99"/>
                          </a:lnTo>
                          <a:lnTo>
                            <a:pt x="64" y="103"/>
                          </a:lnTo>
                          <a:lnTo>
                            <a:pt x="64" y="109"/>
                          </a:lnTo>
                          <a:lnTo>
                            <a:pt x="65" y="114"/>
                          </a:lnTo>
                          <a:lnTo>
                            <a:pt x="65" y="120"/>
                          </a:lnTo>
                          <a:lnTo>
                            <a:pt x="67" y="125"/>
                          </a:lnTo>
                          <a:lnTo>
                            <a:pt x="67" y="129"/>
                          </a:lnTo>
                          <a:lnTo>
                            <a:pt x="67" y="136"/>
                          </a:lnTo>
                          <a:lnTo>
                            <a:pt x="67" y="140"/>
                          </a:lnTo>
                          <a:lnTo>
                            <a:pt x="67" y="146"/>
                          </a:lnTo>
                          <a:lnTo>
                            <a:pt x="65" y="150"/>
                          </a:lnTo>
                          <a:lnTo>
                            <a:pt x="64" y="155"/>
                          </a:lnTo>
                          <a:lnTo>
                            <a:pt x="64" y="151"/>
                          </a:lnTo>
                          <a:lnTo>
                            <a:pt x="64" y="147"/>
                          </a:lnTo>
                          <a:lnTo>
                            <a:pt x="64" y="143"/>
                          </a:lnTo>
                          <a:lnTo>
                            <a:pt x="64" y="140"/>
                          </a:lnTo>
                          <a:lnTo>
                            <a:pt x="62" y="136"/>
                          </a:lnTo>
                          <a:lnTo>
                            <a:pt x="62" y="134"/>
                          </a:lnTo>
                          <a:lnTo>
                            <a:pt x="62" y="129"/>
                          </a:lnTo>
                          <a:lnTo>
                            <a:pt x="62" y="127"/>
                          </a:lnTo>
                          <a:lnTo>
                            <a:pt x="61" y="124"/>
                          </a:lnTo>
                          <a:lnTo>
                            <a:pt x="61" y="120"/>
                          </a:lnTo>
                          <a:lnTo>
                            <a:pt x="59" y="117"/>
                          </a:lnTo>
                          <a:lnTo>
                            <a:pt x="59" y="113"/>
                          </a:lnTo>
                          <a:lnTo>
                            <a:pt x="58" y="110"/>
                          </a:lnTo>
                          <a:lnTo>
                            <a:pt x="58" y="106"/>
                          </a:lnTo>
                          <a:lnTo>
                            <a:pt x="58" y="103"/>
                          </a:lnTo>
                          <a:lnTo>
                            <a:pt x="58" y="99"/>
                          </a:lnTo>
                          <a:lnTo>
                            <a:pt x="56" y="96"/>
                          </a:lnTo>
                          <a:lnTo>
                            <a:pt x="55" y="92"/>
                          </a:lnTo>
                          <a:lnTo>
                            <a:pt x="55" y="90"/>
                          </a:lnTo>
                          <a:lnTo>
                            <a:pt x="53" y="85"/>
                          </a:lnTo>
                          <a:lnTo>
                            <a:pt x="52" y="81"/>
                          </a:lnTo>
                          <a:lnTo>
                            <a:pt x="52" y="79"/>
                          </a:lnTo>
                          <a:lnTo>
                            <a:pt x="50" y="75"/>
                          </a:lnTo>
                          <a:lnTo>
                            <a:pt x="50" y="72"/>
                          </a:lnTo>
                          <a:lnTo>
                            <a:pt x="49" y="68"/>
                          </a:lnTo>
                          <a:lnTo>
                            <a:pt x="47" y="65"/>
                          </a:lnTo>
                          <a:lnTo>
                            <a:pt x="47" y="61"/>
                          </a:lnTo>
                          <a:lnTo>
                            <a:pt x="45" y="58"/>
                          </a:lnTo>
                          <a:lnTo>
                            <a:pt x="44" y="54"/>
                          </a:lnTo>
                          <a:lnTo>
                            <a:pt x="44" y="51"/>
                          </a:lnTo>
                          <a:lnTo>
                            <a:pt x="42" y="47"/>
                          </a:lnTo>
                          <a:lnTo>
                            <a:pt x="42" y="44"/>
                          </a:lnTo>
                          <a:lnTo>
                            <a:pt x="29" y="48"/>
                          </a:lnTo>
                          <a:lnTo>
                            <a:pt x="30" y="51"/>
                          </a:lnTo>
                          <a:lnTo>
                            <a:pt x="30" y="55"/>
                          </a:lnTo>
                          <a:lnTo>
                            <a:pt x="32" y="58"/>
                          </a:lnTo>
                          <a:lnTo>
                            <a:pt x="33" y="61"/>
                          </a:lnTo>
                          <a:lnTo>
                            <a:pt x="33" y="64"/>
                          </a:lnTo>
                          <a:lnTo>
                            <a:pt x="35" y="68"/>
                          </a:lnTo>
                          <a:lnTo>
                            <a:pt x="35" y="70"/>
                          </a:lnTo>
                          <a:lnTo>
                            <a:pt x="36" y="75"/>
                          </a:lnTo>
                          <a:lnTo>
                            <a:pt x="38" y="80"/>
                          </a:lnTo>
                          <a:lnTo>
                            <a:pt x="38" y="85"/>
                          </a:lnTo>
                          <a:lnTo>
                            <a:pt x="39" y="88"/>
                          </a:lnTo>
                          <a:lnTo>
                            <a:pt x="39" y="91"/>
                          </a:lnTo>
                          <a:lnTo>
                            <a:pt x="41" y="95"/>
                          </a:lnTo>
                          <a:lnTo>
                            <a:pt x="41" y="98"/>
                          </a:lnTo>
                          <a:lnTo>
                            <a:pt x="41" y="103"/>
                          </a:lnTo>
                          <a:lnTo>
                            <a:pt x="42" y="110"/>
                          </a:lnTo>
                          <a:lnTo>
                            <a:pt x="42" y="113"/>
                          </a:lnTo>
                          <a:lnTo>
                            <a:pt x="42" y="117"/>
                          </a:lnTo>
                          <a:lnTo>
                            <a:pt x="42" y="120"/>
                          </a:lnTo>
                          <a:lnTo>
                            <a:pt x="42" y="124"/>
                          </a:lnTo>
                          <a:lnTo>
                            <a:pt x="42" y="127"/>
                          </a:lnTo>
                          <a:lnTo>
                            <a:pt x="42" y="129"/>
                          </a:lnTo>
                          <a:lnTo>
                            <a:pt x="42" y="134"/>
                          </a:lnTo>
                          <a:lnTo>
                            <a:pt x="42" y="138"/>
                          </a:lnTo>
                          <a:lnTo>
                            <a:pt x="42" y="140"/>
                          </a:lnTo>
                          <a:lnTo>
                            <a:pt x="42" y="145"/>
                          </a:lnTo>
                          <a:lnTo>
                            <a:pt x="42" y="149"/>
                          </a:lnTo>
                          <a:lnTo>
                            <a:pt x="42" y="153"/>
                          </a:lnTo>
                          <a:lnTo>
                            <a:pt x="38" y="149"/>
                          </a:lnTo>
                          <a:lnTo>
                            <a:pt x="36" y="145"/>
                          </a:lnTo>
                          <a:lnTo>
                            <a:pt x="36" y="142"/>
                          </a:lnTo>
                          <a:lnTo>
                            <a:pt x="36" y="139"/>
                          </a:lnTo>
                          <a:lnTo>
                            <a:pt x="36" y="136"/>
                          </a:lnTo>
                          <a:lnTo>
                            <a:pt x="36" y="131"/>
                          </a:lnTo>
                          <a:lnTo>
                            <a:pt x="36" y="125"/>
                          </a:lnTo>
                          <a:lnTo>
                            <a:pt x="35" y="121"/>
                          </a:lnTo>
                          <a:lnTo>
                            <a:pt x="33" y="117"/>
                          </a:lnTo>
                          <a:lnTo>
                            <a:pt x="33" y="113"/>
                          </a:lnTo>
                          <a:lnTo>
                            <a:pt x="33" y="110"/>
                          </a:lnTo>
                          <a:lnTo>
                            <a:pt x="32" y="106"/>
                          </a:lnTo>
                          <a:lnTo>
                            <a:pt x="30" y="102"/>
                          </a:lnTo>
                          <a:lnTo>
                            <a:pt x="29" y="99"/>
                          </a:lnTo>
                          <a:lnTo>
                            <a:pt x="29" y="96"/>
                          </a:lnTo>
                          <a:lnTo>
                            <a:pt x="26" y="92"/>
                          </a:lnTo>
                          <a:lnTo>
                            <a:pt x="24" y="88"/>
                          </a:lnTo>
                          <a:lnTo>
                            <a:pt x="21" y="83"/>
                          </a:lnTo>
                          <a:lnTo>
                            <a:pt x="19" y="79"/>
                          </a:lnTo>
                          <a:lnTo>
                            <a:pt x="16" y="75"/>
                          </a:lnTo>
                          <a:lnTo>
                            <a:pt x="15" y="69"/>
                          </a:lnTo>
                          <a:lnTo>
                            <a:pt x="13" y="66"/>
                          </a:lnTo>
                          <a:lnTo>
                            <a:pt x="13" y="64"/>
                          </a:lnTo>
                          <a:lnTo>
                            <a:pt x="12" y="61"/>
                          </a:lnTo>
                          <a:lnTo>
                            <a:pt x="12" y="58"/>
                          </a:lnTo>
                          <a:lnTo>
                            <a:pt x="12" y="55"/>
                          </a:lnTo>
                          <a:lnTo>
                            <a:pt x="12" y="51"/>
                          </a:lnTo>
                          <a:lnTo>
                            <a:pt x="12" y="47"/>
                          </a:lnTo>
                          <a:lnTo>
                            <a:pt x="12" y="44"/>
                          </a:lnTo>
                          <a:lnTo>
                            <a:pt x="9" y="44"/>
                          </a:lnTo>
                          <a:lnTo>
                            <a:pt x="4" y="46"/>
                          </a:lnTo>
                          <a:lnTo>
                            <a:pt x="0" y="46"/>
                          </a:lnTo>
                          <a:lnTo>
                            <a:pt x="0" y="47"/>
                          </a:lnTo>
                          <a:lnTo>
                            <a:pt x="0" y="50"/>
                          </a:lnTo>
                          <a:lnTo>
                            <a:pt x="0" y="53"/>
                          </a:lnTo>
                          <a:lnTo>
                            <a:pt x="0" y="57"/>
                          </a:lnTo>
                          <a:lnTo>
                            <a:pt x="0" y="61"/>
                          </a:lnTo>
                          <a:lnTo>
                            <a:pt x="0" y="65"/>
                          </a:lnTo>
                          <a:lnTo>
                            <a:pt x="0" y="69"/>
                          </a:lnTo>
                          <a:lnTo>
                            <a:pt x="0" y="73"/>
                          </a:lnTo>
                          <a:lnTo>
                            <a:pt x="1" y="77"/>
                          </a:lnTo>
                          <a:lnTo>
                            <a:pt x="1" y="83"/>
                          </a:lnTo>
                          <a:lnTo>
                            <a:pt x="1" y="87"/>
                          </a:lnTo>
                          <a:lnTo>
                            <a:pt x="3" y="91"/>
                          </a:lnTo>
                          <a:lnTo>
                            <a:pt x="3" y="96"/>
                          </a:lnTo>
                          <a:lnTo>
                            <a:pt x="3" y="101"/>
                          </a:lnTo>
                          <a:lnTo>
                            <a:pt x="3" y="105"/>
                          </a:lnTo>
                          <a:lnTo>
                            <a:pt x="4" y="110"/>
                          </a:lnTo>
                          <a:lnTo>
                            <a:pt x="6" y="114"/>
                          </a:lnTo>
                          <a:lnTo>
                            <a:pt x="6" y="118"/>
                          </a:lnTo>
                          <a:lnTo>
                            <a:pt x="6" y="123"/>
                          </a:lnTo>
                          <a:lnTo>
                            <a:pt x="6" y="127"/>
                          </a:lnTo>
                          <a:lnTo>
                            <a:pt x="7" y="131"/>
                          </a:lnTo>
                          <a:lnTo>
                            <a:pt x="7" y="135"/>
                          </a:lnTo>
                          <a:lnTo>
                            <a:pt x="7" y="139"/>
                          </a:lnTo>
                          <a:lnTo>
                            <a:pt x="9" y="142"/>
                          </a:lnTo>
                          <a:lnTo>
                            <a:pt x="9" y="146"/>
                          </a:lnTo>
                          <a:lnTo>
                            <a:pt x="10" y="151"/>
                          </a:lnTo>
                          <a:lnTo>
                            <a:pt x="10" y="155"/>
                          </a:lnTo>
                          <a:lnTo>
                            <a:pt x="10" y="158"/>
                          </a:lnTo>
                          <a:lnTo>
                            <a:pt x="12" y="160"/>
                          </a:lnTo>
                          <a:lnTo>
                            <a:pt x="12" y="164"/>
                          </a:lnTo>
                          <a:lnTo>
                            <a:pt x="12" y="168"/>
                          </a:lnTo>
                          <a:lnTo>
                            <a:pt x="12" y="171"/>
                          </a:lnTo>
                          <a:lnTo>
                            <a:pt x="13" y="176"/>
                          </a:lnTo>
                          <a:lnTo>
                            <a:pt x="13" y="180"/>
                          </a:lnTo>
                          <a:lnTo>
                            <a:pt x="13" y="183"/>
                          </a:lnTo>
                          <a:lnTo>
                            <a:pt x="13" y="187"/>
                          </a:lnTo>
                          <a:lnTo>
                            <a:pt x="15" y="191"/>
                          </a:lnTo>
                          <a:lnTo>
                            <a:pt x="15" y="197"/>
                          </a:lnTo>
                          <a:lnTo>
                            <a:pt x="15" y="199"/>
                          </a:lnTo>
                          <a:lnTo>
                            <a:pt x="13" y="198"/>
                          </a:lnTo>
                          <a:lnTo>
                            <a:pt x="13" y="197"/>
                          </a:lnTo>
                          <a:lnTo>
                            <a:pt x="12" y="194"/>
                          </a:lnTo>
                          <a:lnTo>
                            <a:pt x="12" y="582"/>
                          </a:lnTo>
                          <a:lnTo>
                            <a:pt x="211" y="582"/>
                          </a:lnTo>
                          <a:lnTo>
                            <a:pt x="206" y="114"/>
                          </a:lnTo>
                          <a:lnTo>
                            <a:pt x="205" y="110"/>
                          </a:lnTo>
                          <a:lnTo>
                            <a:pt x="205" y="107"/>
                          </a:lnTo>
                          <a:lnTo>
                            <a:pt x="205" y="103"/>
                          </a:lnTo>
                          <a:lnTo>
                            <a:pt x="205" y="99"/>
                          </a:lnTo>
                          <a:lnTo>
                            <a:pt x="205" y="96"/>
                          </a:lnTo>
                          <a:lnTo>
                            <a:pt x="205" y="92"/>
                          </a:lnTo>
                          <a:lnTo>
                            <a:pt x="205" y="90"/>
                          </a:lnTo>
                          <a:lnTo>
                            <a:pt x="205" y="85"/>
                          </a:lnTo>
                          <a:lnTo>
                            <a:pt x="205" y="81"/>
                          </a:lnTo>
                          <a:lnTo>
                            <a:pt x="205" y="79"/>
                          </a:lnTo>
                          <a:lnTo>
                            <a:pt x="205" y="75"/>
                          </a:lnTo>
                          <a:lnTo>
                            <a:pt x="205" y="72"/>
                          </a:lnTo>
                          <a:lnTo>
                            <a:pt x="205" y="68"/>
                          </a:lnTo>
                          <a:lnTo>
                            <a:pt x="205" y="65"/>
                          </a:lnTo>
                          <a:lnTo>
                            <a:pt x="205" y="61"/>
                          </a:lnTo>
                          <a:lnTo>
                            <a:pt x="205" y="58"/>
                          </a:lnTo>
                          <a:lnTo>
                            <a:pt x="205" y="54"/>
                          </a:lnTo>
                          <a:lnTo>
                            <a:pt x="205" y="50"/>
                          </a:lnTo>
                          <a:lnTo>
                            <a:pt x="205" y="47"/>
                          </a:lnTo>
                          <a:lnTo>
                            <a:pt x="205" y="43"/>
                          </a:lnTo>
                          <a:lnTo>
                            <a:pt x="205" y="39"/>
                          </a:lnTo>
                          <a:lnTo>
                            <a:pt x="205" y="36"/>
                          </a:lnTo>
                          <a:lnTo>
                            <a:pt x="205" y="32"/>
                          </a:lnTo>
                          <a:lnTo>
                            <a:pt x="205" y="29"/>
                          </a:lnTo>
                          <a:lnTo>
                            <a:pt x="205" y="25"/>
                          </a:lnTo>
                          <a:lnTo>
                            <a:pt x="205" y="21"/>
                          </a:lnTo>
                          <a:lnTo>
                            <a:pt x="205" y="18"/>
                          </a:lnTo>
                          <a:lnTo>
                            <a:pt x="205" y="15"/>
                          </a:lnTo>
                          <a:lnTo>
                            <a:pt x="203" y="11"/>
                          </a:lnTo>
                          <a:lnTo>
                            <a:pt x="203" y="7"/>
                          </a:lnTo>
                          <a:lnTo>
                            <a:pt x="203" y="4"/>
                          </a:lnTo>
                          <a:lnTo>
                            <a:pt x="203" y="0"/>
                          </a:lnTo>
                          <a:lnTo>
                            <a:pt x="203" y="3"/>
                          </a:lnTo>
                          <a:lnTo>
                            <a:pt x="203" y="7"/>
                          </a:lnTo>
                          <a:lnTo>
                            <a:pt x="203" y="10"/>
                          </a:lnTo>
                          <a:lnTo>
                            <a:pt x="203" y="13"/>
                          </a:lnTo>
                          <a:lnTo>
                            <a:pt x="203" y="17"/>
                          </a:lnTo>
                          <a:lnTo>
                            <a:pt x="203" y="20"/>
                          </a:lnTo>
                          <a:lnTo>
                            <a:pt x="203" y="24"/>
                          </a:lnTo>
                          <a:lnTo>
                            <a:pt x="203" y="26"/>
                          </a:lnTo>
                          <a:lnTo>
                            <a:pt x="201" y="29"/>
                          </a:lnTo>
                          <a:lnTo>
                            <a:pt x="201" y="33"/>
                          </a:lnTo>
                          <a:lnTo>
                            <a:pt x="201" y="36"/>
                          </a:lnTo>
                          <a:lnTo>
                            <a:pt x="201" y="40"/>
                          </a:lnTo>
                          <a:lnTo>
                            <a:pt x="201" y="43"/>
                          </a:lnTo>
                          <a:lnTo>
                            <a:pt x="201" y="47"/>
                          </a:lnTo>
                          <a:lnTo>
                            <a:pt x="201" y="50"/>
                          </a:lnTo>
                          <a:lnTo>
                            <a:pt x="201" y="53"/>
                          </a:lnTo>
                          <a:lnTo>
                            <a:pt x="201" y="57"/>
                          </a:lnTo>
                          <a:lnTo>
                            <a:pt x="201" y="59"/>
                          </a:lnTo>
                          <a:lnTo>
                            <a:pt x="201" y="64"/>
                          </a:lnTo>
                          <a:lnTo>
                            <a:pt x="201" y="66"/>
                          </a:lnTo>
                          <a:lnTo>
                            <a:pt x="201" y="70"/>
                          </a:lnTo>
                          <a:lnTo>
                            <a:pt x="201" y="73"/>
                          </a:lnTo>
                          <a:lnTo>
                            <a:pt x="201" y="77"/>
                          </a:lnTo>
                          <a:lnTo>
                            <a:pt x="201" y="80"/>
                          </a:lnTo>
                          <a:lnTo>
                            <a:pt x="201" y="84"/>
                          </a:lnTo>
                          <a:lnTo>
                            <a:pt x="201" y="87"/>
                          </a:lnTo>
                          <a:lnTo>
                            <a:pt x="201" y="90"/>
                          </a:lnTo>
                          <a:lnTo>
                            <a:pt x="201" y="94"/>
                          </a:lnTo>
                          <a:lnTo>
                            <a:pt x="201" y="96"/>
                          </a:lnTo>
                          <a:lnTo>
                            <a:pt x="201" y="101"/>
                          </a:lnTo>
                          <a:lnTo>
                            <a:pt x="201" y="103"/>
                          </a:lnTo>
                          <a:lnTo>
                            <a:pt x="201" y="107"/>
                          </a:lnTo>
                          <a:lnTo>
                            <a:pt x="200" y="103"/>
                          </a:lnTo>
                          <a:lnTo>
                            <a:pt x="198" y="99"/>
                          </a:lnTo>
                          <a:lnTo>
                            <a:pt x="198" y="94"/>
                          </a:lnTo>
                          <a:lnTo>
                            <a:pt x="197" y="90"/>
                          </a:lnTo>
                          <a:lnTo>
                            <a:pt x="195" y="84"/>
                          </a:lnTo>
                          <a:lnTo>
                            <a:pt x="195" y="80"/>
                          </a:lnTo>
                          <a:lnTo>
                            <a:pt x="194" y="76"/>
                          </a:lnTo>
                          <a:lnTo>
                            <a:pt x="194" y="72"/>
                          </a:lnTo>
                          <a:lnTo>
                            <a:pt x="191" y="73"/>
                          </a:lnTo>
                          <a:lnTo>
                            <a:pt x="191" y="79"/>
                          </a:lnTo>
                          <a:lnTo>
                            <a:pt x="191" y="80"/>
                          </a:lnTo>
                          <a:lnTo>
                            <a:pt x="191" y="84"/>
                          </a:lnTo>
                          <a:lnTo>
                            <a:pt x="191" y="88"/>
                          </a:lnTo>
                          <a:lnTo>
                            <a:pt x="191" y="92"/>
                          </a:lnTo>
                          <a:lnTo>
                            <a:pt x="191" y="96"/>
                          </a:lnTo>
                          <a:lnTo>
                            <a:pt x="191" y="101"/>
                          </a:lnTo>
                          <a:lnTo>
                            <a:pt x="191" y="105"/>
                          </a:lnTo>
                          <a:lnTo>
                            <a:pt x="191" y="110"/>
                          </a:lnTo>
                          <a:lnTo>
                            <a:pt x="191" y="114"/>
                          </a:lnTo>
                          <a:lnTo>
                            <a:pt x="191" y="120"/>
                          </a:lnTo>
                          <a:lnTo>
                            <a:pt x="191" y="125"/>
                          </a:lnTo>
                          <a:lnTo>
                            <a:pt x="192" y="131"/>
                          </a:lnTo>
                          <a:lnTo>
                            <a:pt x="192" y="135"/>
                          </a:lnTo>
                          <a:lnTo>
                            <a:pt x="192" y="139"/>
                          </a:lnTo>
                          <a:lnTo>
                            <a:pt x="192" y="145"/>
                          </a:lnTo>
                          <a:lnTo>
                            <a:pt x="192" y="149"/>
                          </a:lnTo>
                          <a:lnTo>
                            <a:pt x="192" y="153"/>
                          </a:lnTo>
                          <a:lnTo>
                            <a:pt x="192" y="157"/>
                          </a:lnTo>
                          <a:lnTo>
                            <a:pt x="192" y="161"/>
                          </a:lnTo>
                          <a:lnTo>
                            <a:pt x="194" y="164"/>
                          </a:lnTo>
                          <a:lnTo>
                            <a:pt x="192" y="168"/>
                          </a:lnTo>
                          <a:lnTo>
                            <a:pt x="192" y="172"/>
                          </a:lnTo>
                          <a:lnTo>
                            <a:pt x="191" y="173"/>
                          </a:lnTo>
                          <a:lnTo>
                            <a:pt x="191" y="171"/>
                          </a:lnTo>
                          <a:lnTo>
                            <a:pt x="191" y="165"/>
                          </a:lnTo>
                          <a:lnTo>
                            <a:pt x="189" y="160"/>
                          </a:lnTo>
                          <a:lnTo>
                            <a:pt x="189" y="154"/>
                          </a:lnTo>
                          <a:lnTo>
                            <a:pt x="189" y="149"/>
                          </a:lnTo>
                          <a:lnTo>
                            <a:pt x="189" y="143"/>
                          </a:lnTo>
                          <a:lnTo>
                            <a:pt x="188" y="139"/>
                          </a:lnTo>
                          <a:lnTo>
                            <a:pt x="188" y="134"/>
                          </a:lnTo>
                          <a:lnTo>
                            <a:pt x="188" y="129"/>
                          </a:lnTo>
                          <a:lnTo>
                            <a:pt x="188" y="124"/>
                          </a:lnTo>
                          <a:lnTo>
                            <a:pt x="188" y="121"/>
                          </a:lnTo>
                          <a:lnTo>
                            <a:pt x="188" y="116"/>
                          </a:lnTo>
                          <a:lnTo>
                            <a:pt x="188" y="112"/>
                          </a:lnTo>
                          <a:lnTo>
                            <a:pt x="186" y="107"/>
                          </a:lnTo>
                          <a:lnTo>
                            <a:pt x="186" y="103"/>
                          </a:lnTo>
                          <a:lnTo>
                            <a:pt x="186" y="99"/>
                          </a:lnTo>
                          <a:lnTo>
                            <a:pt x="186" y="95"/>
                          </a:lnTo>
                          <a:lnTo>
                            <a:pt x="185" y="90"/>
                          </a:lnTo>
                          <a:lnTo>
                            <a:pt x="185" y="87"/>
                          </a:lnTo>
                          <a:lnTo>
                            <a:pt x="185" y="81"/>
                          </a:lnTo>
                          <a:lnTo>
                            <a:pt x="185" y="77"/>
                          </a:lnTo>
                          <a:lnTo>
                            <a:pt x="183" y="73"/>
                          </a:lnTo>
                          <a:lnTo>
                            <a:pt x="183" y="68"/>
                          </a:lnTo>
                          <a:lnTo>
                            <a:pt x="183" y="64"/>
                          </a:lnTo>
                          <a:lnTo>
                            <a:pt x="183" y="59"/>
                          </a:lnTo>
                          <a:lnTo>
                            <a:pt x="182" y="55"/>
                          </a:lnTo>
                          <a:lnTo>
                            <a:pt x="182" y="50"/>
                          </a:lnTo>
                          <a:lnTo>
                            <a:pt x="182" y="44"/>
                          </a:lnTo>
                          <a:lnTo>
                            <a:pt x="182" y="40"/>
                          </a:lnTo>
                          <a:lnTo>
                            <a:pt x="182" y="35"/>
                          </a:lnTo>
                          <a:lnTo>
                            <a:pt x="182" y="31"/>
                          </a:lnTo>
                          <a:lnTo>
                            <a:pt x="182" y="24"/>
                          </a:lnTo>
                          <a:lnTo>
                            <a:pt x="182" y="20"/>
                          </a:lnTo>
                          <a:lnTo>
                            <a:pt x="179" y="20"/>
                          </a:lnTo>
                          <a:lnTo>
                            <a:pt x="177" y="24"/>
                          </a:lnTo>
                          <a:lnTo>
                            <a:pt x="175" y="26"/>
                          </a:lnTo>
                          <a:lnTo>
                            <a:pt x="174" y="31"/>
                          </a:lnTo>
                          <a:lnTo>
                            <a:pt x="174" y="33"/>
                          </a:lnTo>
                          <a:lnTo>
                            <a:pt x="172" y="37"/>
                          </a:lnTo>
                          <a:lnTo>
                            <a:pt x="172" y="40"/>
                          </a:lnTo>
                          <a:lnTo>
                            <a:pt x="172" y="44"/>
                          </a:lnTo>
                          <a:lnTo>
                            <a:pt x="171" y="47"/>
                          </a:lnTo>
                          <a:lnTo>
                            <a:pt x="171" y="53"/>
                          </a:lnTo>
                          <a:lnTo>
                            <a:pt x="169" y="57"/>
                          </a:lnTo>
                          <a:lnTo>
                            <a:pt x="169" y="64"/>
                          </a:lnTo>
                          <a:lnTo>
                            <a:pt x="169" y="65"/>
                          </a:lnTo>
                          <a:lnTo>
                            <a:pt x="169" y="68"/>
                          </a:lnTo>
                          <a:lnTo>
                            <a:pt x="169" y="72"/>
                          </a:lnTo>
                          <a:lnTo>
                            <a:pt x="169" y="75"/>
                          </a:lnTo>
                          <a:lnTo>
                            <a:pt x="169" y="77"/>
                          </a:lnTo>
                          <a:lnTo>
                            <a:pt x="169" y="81"/>
                          </a:lnTo>
                          <a:lnTo>
                            <a:pt x="169" y="85"/>
                          </a:lnTo>
                          <a:lnTo>
                            <a:pt x="169" y="90"/>
                          </a:lnTo>
                          <a:lnTo>
                            <a:pt x="169" y="92"/>
                          </a:lnTo>
                          <a:lnTo>
                            <a:pt x="169" y="96"/>
                          </a:lnTo>
                          <a:lnTo>
                            <a:pt x="169" y="101"/>
                          </a:lnTo>
                          <a:lnTo>
                            <a:pt x="169" y="105"/>
                          </a:lnTo>
                          <a:lnTo>
                            <a:pt x="169" y="109"/>
                          </a:lnTo>
                          <a:lnTo>
                            <a:pt x="169" y="113"/>
                          </a:lnTo>
                          <a:lnTo>
                            <a:pt x="169" y="118"/>
                          </a:lnTo>
                          <a:lnTo>
                            <a:pt x="169" y="124"/>
                          </a:lnTo>
                          <a:lnTo>
                            <a:pt x="169" y="128"/>
                          </a:lnTo>
                          <a:lnTo>
                            <a:pt x="169" y="134"/>
                          </a:lnTo>
                          <a:lnTo>
                            <a:pt x="171" y="138"/>
                          </a:lnTo>
                          <a:lnTo>
                            <a:pt x="171" y="143"/>
                          </a:lnTo>
                          <a:lnTo>
                            <a:pt x="171" y="149"/>
                          </a:lnTo>
                          <a:lnTo>
                            <a:pt x="171" y="154"/>
                          </a:lnTo>
                          <a:lnTo>
                            <a:pt x="172" y="160"/>
                          </a:lnTo>
                          <a:lnTo>
                            <a:pt x="174" y="166"/>
                          </a:lnTo>
                          <a:lnTo>
                            <a:pt x="174" y="169"/>
                          </a:lnTo>
                          <a:lnTo>
                            <a:pt x="174" y="172"/>
                          </a:lnTo>
                          <a:lnTo>
                            <a:pt x="174" y="176"/>
                          </a:lnTo>
                          <a:lnTo>
                            <a:pt x="174" y="182"/>
                          </a:lnTo>
                          <a:lnTo>
                            <a:pt x="174" y="186"/>
                          </a:lnTo>
                          <a:lnTo>
                            <a:pt x="174" y="191"/>
                          </a:lnTo>
                          <a:lnTo>
                            <a:pt x="174" y="197"/>
                          </a:lnTo>
                          <a:lnTo>
                            <a:pt x="174" y="204"/>
                          </a:lnTo>
                          <a:lnTo>
                            <a:pt x="172" y="209"/>
                          </a:lnTo>
                          <a:lnTo>
                            <a:pt x="172" y="215"/>
                          </a:lnTo>
                          <a:lnTo>
                            <a:pt x="172" y="220"/>
                          </a:lnTo>
                          <a:lnTo>
                            <a:pt x="172" y="224"/>
                          </a:lnTo>
                          <a:lnTo>
                            <a:pt x="171" y="228"/>
                          </a:lnTo>
                          <a:lnTo>
                            <a:pt x="171" y="232"/>
                          </a:lnTo>
                          <a:lnTo>
                            <a:pt x="169" y="235"/>
                          </a:lnTo>
                          <a:lnTo>
                            <a:pt x="168" y="238"/>
                          </a:lnTo>
                          <a:lnTo>
                            <a:pt x="166" y="231"/>
                          </a:lnTo>
                          <a:lnTo>
                            <a:pt x="166" y="225"/>
                          </a:lnTo>
                          <a:lnTo>
                            <a:pt x="165" y="220"/>
                          </a:lnTo>
                          <a:lnTo>
                            <a:pt x="165" y="215"/>
                          </a:lnTo>
                          <a:lnTo>
                            <a:pt x="163" y="209"/>
                          </a:lnTo>
                          <a:lnTo>
                            <a:pt x="163" y="204"/>
                          </a:lnTo>
                          <a:lnTo>
                            <a:pt x="163" y="198"/>
                          </a:lnTo>
                          <a:lnTo>
                            <a:pt x="163" y="193"/>
                          </a:lnTo>
                          <a:lnTo>
                            <a:pt x="163" y="186"/>
                          </a:lnTo>
                          <a:lnTo>
                            <a:pt x="163" y="182"/>
                          </a:lnTo>
                          <a:lnTo>
                            <a:pt x="163" y="175"/>
                          </a:lnTo>
                          <a:lnTo>
                            <a:pt x="163" y="171"/>
                          </a:lnTo>
                          <a:lnTo>
                            <a:pt x="163" y="165"/>
                          </a:lnTo>
                          <a:lnTo>
                            <a:pt x="163" y="158"/>
                          </a:lnTo>
                          <a:lnTo>
                            <a:pt x="163" y="153"/>
                          </a:lnTo>
                          <a:lnTo>
                            <a:pt x="163" y="149"/>
                          </a:lnTo>
                          <a:lnTo>
                            <a:pt x="162" y="142"/>
                          </a:lnTo>
                          <a:lnTo>
                            <a:pt x="162" y="136"/>
                          </a:lnTo>
                          <a:lnTo>
                            <a:pt x="162" y="131"/>
                          </a:lnTo>
                          <a:lnTo>
                            <a:pt x="162" y="125"/>
                          </a:lnTo>
                          <a:lnTo>
                            <a:pt x="162" y="118"/>
                          </a:lnTo>
                          <a:lnTo>
                            <a:pt x="162" y="114"/>
                          </a:lnTo>
                          <a:lnTo>
                            <a:pt x="162" y="107"/>
                          </a:lnTo>
                          <a:lnTo>
                            <a:pt x="162" y="102"/>
                          </a:lnTo>
                          <a:lnTo>
                            <a:pt x="162" y="96"/>
                          </a:lnTo>
                          <a:lnTo>
                            <a:pt x="160" y="91"/>
                          </a:lnTo>
                          <a:lnTo>
                            <a:pt x="160" y="85"/>
                          </a:lnTo>
                          <a:lnTo>
                            <a:pt x="160" y="80"/>
                          </a:lnTo>
                          <a:lnTo>
                            <a:pt x="160" y="75"/>
                          </a:lnTo>
                          <a:lnTo>
                            <a:pt x="159" y="69"/>
                          </a:lnTo>
                          <a:lnTo>
                            <a:pt x="159" y="62"/>
                          </a:lnTo>
                          <a:lnTo>
                            <a:pt x="157" y="58"/>
                          </a:lnTo>
                          <a:lnTo>
                            <a:pt x="157" y="55"/>
                          </a:lnTo>
                          <a:lnTo>
                            <a:pt x="157" y="53"/>
                          </a:lnTo>
                          <a:lnTo>
                            <a:pt x="156" y="48"/>
                          </a:lnTo>
                          <a:lnTo>
                            <a:pt x="156" y="47"/>
                          </a:lnTo>
                          <a:lnTo>
                            <a:pt x="154" y="50"/>
                          </a:lnTo>
                          <a:lnTo>
                            <a:pt x="154" y="53"/>
                          </a:lnTo>
                          <a:lnTo>
                            <a:pt x="153" y="57"/>
                          </a:lnTo>
                          <a:lnTo>
                            <a:pt x="153" y="59"/>
                          </a:lnTo>
                          <a:lnTo>
                            <a:pt x="153" y="64"/>
                          </a:lnTo>
                          <a:lnTo>
                            <a:pt x="151" y="66"/>
                          </a:lnTo>
                          <a:lnTo>
                            <a:pt x="151" y="70"/>
                          </a:lnTo>
                          <a:lnTo>
                            <a:pt x="151" y="75"/>
                          </a:lnTo>
                          <a:lnTo>
                            <a:pt x="156" y="138"/>
                          </a:lnTo>
                          <a:lnTo>
                            <a:pt x="154" y="142"/>
                          </a:lnTo>
                          <a:lnTo>
                            <a:pt x="154" y="146"/>
                          </a:lnTo>
                          <a:lnTo>
                            <a:pt x="154" y="151"/>
                          </a:lnTo>
                          <a:lnTo>
                            <a:pt x="154" y="155"/>
                          </a:lnTo>
                          <a:lnTo>
                            <a:pt x="154" y="161"/>
                          </a:lnTo>
                          <a:lnTo>
                            <a:pt x="154" y="166"/>
                          </a:lnTo>
                          <a:lnTo>
                            <a:pt x="153" y="171"/>
                          </a:lnTo>
                          <a:lnTo>
                            <a:pt x="153" y="176"/>
                          </a:lnTo>
                          <a:lnTo>
                            <a:pt x="153" y="180"/>
                          </a:lnTo>
                          <a:lnTo>
                            <a:pt x="153" y="186"/>
                          </a:lnTo>
                          <a:lnTo>
                            <a:pt x="151" y="191"/>
                          </a:lnTo>
                          <a:lnTo>
                            <a:pt x="151" y="195"/>
                          </a:lnTo>
                          <a:lnTo>
                            <a:pt x="151" y="201"/>
                          </a:lnTo>
                          <a:lnTo>
                            <a:pt x="151" y="206"/>
                          </a:lnTo>
                          <a:lnTo>
                            <a:pt x="153" y="210"/>
                          </a:lnTo>
                          <a:lnTo>
                            <a:pt x="153" y="217"/>
                          </a:lnTo>
                          <a:lnTo>
                            <a:pt x="153" y="544"/>
                          </a:lnTo>
                          <a:lnTo>
                            <a:pt x="75" y="545"/>
                          </a:lnTo>
                          <a:lnTo>
                            <a:pt x="71" y="99"/>
                          </a:lnTo>
                          <a:lnTo>
                            <a:pt x="71" y="95"/>
                          </a:lnTo>
                          <a:lnTo>
                            <a:pt x="71" y="92"/>
                          </a:lnTo>
                          <a:lnTo>
                            <a:pt x="71" y="88"/>
                          </a:lnTo>
                          <a:lnTo>
                            <a:pt x="71" y="85"/>
                          </a:lnTo>
                          <a:lnTo>
                            <a:pt x="70" y="81"/>
                          </a:lnTo>
                          <a:lnTo>
                            <a:pt x="68" y="79"/>
                          </a:lnTo>
                          <a:lnTo>
                            <a:pt x="68" y="75"/>
                          </a:lnTo>
                          <a:lnTo>
                            <a:pt x="68" y="72"/>
                          </a:lnTo>
                          <a:lnTo>
                            <a:pt x="67" y="68"/>
                          </a:lnTo>
                          <a:lnTo>
                            <a:pt x="65" y="65"/>
                          </a:lnTo>
                          <a:lnTo>
                            <a:pt x="64" y="62"/>
                          </a:lnTo>
                          <a:lnTo>
                            <a:pt x="64" y="58"/>
                          </a:lnTo>
                          <a:lnTo>
                            <a:pt x="62" y="53"/>
                          </a:lnTo>
                          <a:lnTo>
                            <a:pt x="62" y="47"/>
                          </a:lnTo>
                          <a:lnTo>
                            <a:pt x="58" y="53"/>
                          </a:lnTo>
                          <a:lnTo>
                            <a:pt x="59" y="7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Freeform 282"/>
                    <p:cNvSpPr/>
                    <p:nvPr/>
                  </p:nvSpPr>
                  <p:spPr>
                    <a:xfrm>
                      <a:off x="973080" y="2144520"/>
                      <a:ext cx="2880" cy="4536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45360"/>
                        <a:gd name="textAreaBottom" fmla="*/ 45720 h 45360"/>
                      </a:gdLst>
                      <a:ahLst/>
                      <a:rect l="textAreaLeft" t="textAreaTop" r="textAreaRight" b="textAreaBottom"/>
                      <a:pathLst>
                        <a:path w="14" h="161">
                          <a:moveTo>
                            <a:pt x="14" y="0"/>
                          </a:moveTo>
                          <a:lnTo>
                            <a:pt x="14" y="3"/>
                          </a:lnTo>
                          <a:lnTo>
                            <a:pt x="12" y="7"/>
                          </a:lnTo>
                          <a:lnTo>
                            <a:pt x="12" y="11"/>
                          </a:lnTo>
                          <a:lnTo>
                            <a:pt x="12" y="16"/>
                          </a:lnTo>
                          <a:lnTo>
                            <a:pt x="11" y="20"/>
                          </a:lnTo>
                          <a:lnTo>
                            <a:pt x="11" y="24"/>
                          </a:lnTo>
                          <a:lnTo>
                            <a:pt x="11" y="28"/>
                          </a:lnTo>
                          <a:lnTo>
                            <a:pt x="11" y="32"/>
                          </a:lnTo>
                          <a:lnTo>
                            <a:pt x="11" y="36"/>
                          </a:lnTo>
                          <a:lnTo>
                            <a:pt x="11" y="40"/>
                          </a:lnTo>
                          <a:lnTo>
                            <a:pt x="11" y="44"/>
                          </a:lnTo>
                          <a:lnTo>
                            <a:pt x="11" y="48"/>
                          </a:lnTo>
                          <a:lnTo>
                            <a:pt x="11" y="53"/>
                          </a:lnTo>
                          <a:lnTo>
                            <a:pt x="11" y="58"/>
                          </a:lnTo>
                          <a:lnTo>
                            <a:pt x="11" y="61"/>
                          </a:lnTo>
                          <a:lnTo>
                            <a:pt x="11" y="66"/>
                          </a:lnTo>
                          <a:lnTo>
                            <a:pt x="11" y="72"/>
                          </a:lnTo>
                          <a:lnTo>
                            <a:pt x="11" y="77"/>
                          </a:lnTo>
                          <a:lnTo>
                            <a:pt x="11" y="83"/>
                          </a:lnTo>
                          <a:lnTo>
                            <a:pt x="11" y="90"/>
                          </a:lnTo>
                          <a:lnTo>
                            <a:pt x="11" y="95"/>
                          </a:lnTo>
                          <a:lnTo>
                            <a:pt x="9" y="101"/>
                          </a:lnTo>
                          <a:lnTo>
                            <a:pt x="9" y="105"/>
                          </a:lnTo>
                          <a:lnTo>
                            <a:pt x="9" y="107"/>
                          </a:lnTo>
                          <a:lnTo>
                            <a:pt x="9" y="110"/>
                          </a:lnTo>
                          <a:lnTo>
                            <a:pt x="9" y="113"/>
                          </a:lnTo>
                          <a:lnTo>
                            <a:pt x="8" y="120"/>
                          </a:lnTo>
                          <a:lnTo>
                            <a:pt x="6" y="125"/>
                          </a:lnTo>
                          <a:lnTo>
                            <a:pt x="6" y="131"/>
                          </a:lnTo>
                          <a:lnTo>
                            <a:pt x="5" y="138"/>
                          </a:lnTo>
                          <a:lnTo>
                            <a:pt x="3" y="143"/>
                          </a:lnTo>
                          <a:lnTo>
                            <a:pt x="3" y="149"/>
                          </a:lnTo>
                          <a:lnTo>
                            <a:pt x="2" y="151"/>
                          </a:lnTo>
                          <a:lnTo>
                            <a:pt x="2" y="154"/>
                          </a:lnTo>
                          <a:lnTo>
                            <a:pt x="0" y="158"/>
                          </a:lnTo>
                          <a:lnTo>
                            <a:pt x="0" y="161"/>
                          </a:lnTo>
                          <a:lnTo>
                            <a:pt x="0" y="160"/>
                          </a:lnTo>
                          <a:lnTo>
                            <a:pt x="0" y="157"/>
                          </a:lnTo>
                          <a:lnTo>
                            <a:pt x="0" y="153"/>
                          </a:lnTo>
                          <a:lnTo>
                            <a:pt x="2" y="150"/>
                          </a:lnTo>
                          <a:lnTo>
                            <a:pt x="2" y="145"/>
                          </a:lnTo>
                          <a:lnTo>
                            <a:pt x="2" y="140"/>
                          </a:lnTo>
                          <a:lnTo>
                            <a:pt x="2" y="135"/>
                          </a:lnTo>
                          <a:lnTo>
                            <a:pt x="3" y="129"/>
                          </a:lnTo>
                          <a:lnTo>
                            <a:pt x="3" y="127"/>
                          </a:lnTo>
                          <a:lnTo>
                            <a:pt x="3" y="123"/>
                          </a:lnTo>
                          <a:lnTo>
                            <a:pt x="3" y="120"/>
                          </a:lnTo>
                          <a:lnTo>
                            <a:pt x="3" y="117"/>
                          </a:lnTo>
                          <a:lnTo>
                            <a:pt x="3" y="113"/>
                          </a:lnTo>
                          <a:lnTo>
                            <a:pt x="3" y="110"/>
                          </a:lnTo>
                          <a:lnTo>
                            <a:pt x="3" y="107"/>
                          </a:lnTo>
                          <a:lnTo>
                            <a:pt x="3" y="105"/>
                          </a:lnTo>
                          <a:lnTo>
                            <a:pt x="3" y="101"/>
                          </a:lnTo>
                          <a:lnTo>
                            <a:pt x="3" y="97"/>
                          </a:lnTo>
                          <a:lnTo>
                            <a:pt x="3" y="94"/>
                          </a:lnTo>
                          <a:lnTo>
                            <a:pt x="3" y="90"/>
                          </a:lnTo>
                          <a:lnTo>
                            <a:pt x="3" y="87"/>
                          </a:lnTo>
                          <a:lnTo>
                            <a:pt x="5" y="83"/>
                          </a:lnTo>
                          <a:lnTo>
                            <a:pt x="5" y="80"/>
                          </a:lnTo>
                          <a:lnTo>
                            <a:pt x="5" y="76"/>
                          </a:lnTo>
                          <a:lnTo>
                            <a:pt x="5" y="73"/>
                          </a:lnTo>
                          <a:lnTo>
                            <a:pt x="5" y="69"/>
                          </a:lnTo>
                          <a:lnTo>
                            <a:pt x="5" y="65"/>
                          </a:lnTo>
                          <a:lnTo>
                            <a:pt x="5" y="62"/>
                          </a:lnTo>
                          <a:lnTo>
                            <a:pt x="5" y="58"/>
                          </a:lnTo>
                          <a:lnTo>
                            <a:pt x="6" y="55"/>
                          </a:lnTo>
                          <a:lnTo>
                            <a:pt x="6" y="51"/>
                          </a:lnTo>
                          <a:lnTo>
                            <a:pt x="6" y="48"/>
                          </a:lnTo>
                          <a:lnTo>
                            <a:pt x="6" y="44"/>
                          </a:lnTo>
                          <a:lnTo>
                            <a:pt x="6" y="42"/>
                          </a:lnTo>
                          <a:lnTo>
                            <a:pt x="6" y="39"/>
                          </a:lnTo>
                          <a:lnTo>
                            <a:pt x="6" y="36"/>
                          </a:lnTo>
                          <a:lnTo>
                            <a:pt x="8" y="29"/>
                          </a:lnTo>
                          <a:lnTo>
                            <a:pt x="8" y="25"/>
                          </a:lnTo>
                          <a:lnTo>
                            <a:pt x="8" y="20"/>
                          </a:lnTo>
                          <a:lnTo>
                            <a:pt x="9" y="14"/>
                          </a:lnTo>
                          <a:lnTo>
                            <a:pt x="9" y="11"/>
                          </a:lnTo>
                          <a:lnTo>
                            <a:pt x="11" y="7"/>
                          </a:lnTo>
                          <a:lnTo>
                            <a:pt x="11" y="5"/>
                          </a:lnTo>
                          <a:lnTo>
                            <a:pt x="12" y="2"/>
                          </a:lnTo>
                          <a:lnTo>
                            <a:pt x="12" y="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Freeform 283"/>
                    <p:cNvSpPr/>
                    <p:nvPr/>
                  </p:nvSpPr>
                  <p:spPr>
                    <a:xfrm>
                      <a:off x="996120" y="2040480"/>
                      <a:ext cx="46080" cy="16524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165240"/>
                        <a:gd name="textAreaBottom" fmla="*/ 165600 h 165240"/>
                      </a:gdLst>
                      <a:ahLst/>
                      <a:rect l="textAreaLeft" t="textAreaTop" r="textAreaRight" b="textAreaBottom"/>
                      <a:pathLst>
                        <a:path w="214" h="584">
                          <a:moveTo>
                            <a:pt x="62" y="77"/>
                          </a:moveTo>
                          <a:lnTo>
                            <a:pt x="62" y="81"/>
                          </a:lnTo>
                          <a:lnTo>
                            <a:pt x="62" y="87"/>
                          </a:lnTo>
                          <a:lnTo>
                            <a:pt x="64" y="91"/>
                          </a:lnTo>
                          <a:lnTo>
                            <a:pt x="64" y="96"/>
                          </a:lnTo>
                          <a:lnTo>
                            <a:pt x="65" y="102"/>
                          </a:lnTo>
                          <a:lnTo>
                            <a:pt x="67" y="107"/>
                          </a:lnTo>
                          <a:lnTo>
                            <a:pt x="67" y="113"/>
                          </a:lnTo>
                          <a:lnTo>
                            <a:pt x="68" y="118"/>
                          </a:lnTo>
                          <a:lnTo>
                            <a:pt x="68" y="124"/>
                          </a:lnTo>
                          <a:lnTo>
                            <a:pt x="68" y="128"/>
                          </a:lnTo>
                          <a:lnTo>
                            <a:pt x="68" y="133"/>
                          </a:lnTo>
                          <a:lnTo>
                            <a:pt x="70" y="139"/>
                          </a:lnTo>
                          <a:lnTo>
                            <a:pt x="68" y="143"/>
                          </a:lnTo>
                          <a:lnTo>
                            <a:pt x="68" y="148"/>
                          </a:lnTo>
                          <a:lnTo>
                            <a:pt x="67" y="152"/>
                          </a:lnTo>
                          <a:lnTo>
                            <a:pt x="67" y="157"/>
                          </a:lnTo>
                          <a:lnTo>
                            <a:pt x="67" y="155"/>
                          </a:lnTo>
                          <a:lnTo>
                            <a:pt x="65" y="152"/>
                          </a:lnTo>
                          <a:lnTo>
                            <a:pt x="65" y="150"/>
                          </a:lnTo>
                          <a:lnTo>
                            <a:pt x="64" y="146"/>
                          </a:lnTo>
                          <a:lnTo>
                            <a:pt x="62" y="142"/>
                          </a:lnTo>
                          <a:lnTo>
                            <a:pt x="61" y="136"/>
                          </a:lnTo>
                          <a:lnTo>
                            <a:pt x="61" y="132"/>
                          </a:lnTo>
                          <a:lnTo>
                            <a:pt x="59" y="129"/>
                          </a:lnTo>
                          <a:lnTo>
                            <a:pt x="59" y="126"/>
                          </a:lnTo>
                          <a:lnTo>
                            <a:pt x="58" y="122"/>
                          </a:lnTo>
                          <a:lnTo>
                            <a:pt x="58" y="120"/>
                          </a:lnTo>
                          <a:lnTo>
                            <a:pt x="56" y="117"/>
                          </a:lnTo>
                          <a:lnTo>
                            <a:pt x="56" y="113"/>
                          </a:lnTo>
                          <a:lnTo>
                            <a:pt x="55" y="110"/>
                          </a:lnTo>
                          <a:lnTo>
                            <a:pt x="55" y="107"/>
                          </a:lnTo>
                          <a:lnTo>
                            <a:pt x="53" y="103"/>
                          </a:lnTo>
                          <a:lnTo>
                            <a:pt x="53" y="99"/>
                          </a:lnTo>
                          <a:lnTo>
                            <a:pt x="52" y="96"/>
                          </a:lnTo>
                          <a:lnTo>
                            <a:pt x="52" y="92"/>
                          </a:lnTo>
                          <a:lnTo>
                            <a:pt x="50" y="88"/>
                          </a:lnTo>
                          <a:lnTo>
                            <a:pt x="50" y="85"/>
                          </a:lnTo>
                          <a:lnTo>
                            <a:pt x="48" y="81"/>
                          </a:lnTo>
                          <a:lnTo>
                            <a:pt x="48" y="78"/>
                          </a:lnTo>
                          <a:lnTo>
                            <a:pt x="47" y="74"/>
                          </a:lnTo>
                          <a:lnTo>
                            <a:pt x="45" y="70"/>
                          </a:lnTo>
                          <a:lnTo>
                            <a:pt x="45" y="66"/>
                          </a:lnTo>
                          <a:lnTo>
                            <a:pt x="44" y="63"/>
                          </a:lnTo>
                          <a:lnTo>
                            <a:pt x="42" y="59"/>
                          </a:lnTo>
                          <a:lnTo>
                            <a:pt x="42" y="56"/>
                          </a:lnTo>
                          <a:lnTo>
                            <a:pt x="41" y="52"/>
                          </a:lnTo>
                          <a:lnTo>
                            <a:pt x="41" y="50"/>
                          </a:lnTo>
                          <a:lnTo>
                            <a:pt x="39" y="45"/>
                          </a:lnTo>
                          <a:lnTo>
                            <a:pt x="38" y="43"/>
                          </a:lnTo>
                          <a:lnTo>
                            <a:pt x="38" y="39"/>
                          </a:lnTo>
                          <a:lnTo>
                            <a:pt x="38" y="36"/>
                          </a:lnTo>
                          <a:lnTo>
                            <a:pt x="36" y="29"/>
                          </a:lnTo>
                          <a:lnTo>
                            <a:pt x="35" y="25"/>
                          </a:lnTo>
                          <a:lnTo>
                            <a:pt x="33" y="18"/>
                          </a:lnTo>
                          <a:lnTo>
                            <a:pt x="32" y="14"/>
                          </a:lnTo>
                          <a:lnTo>
                            <a:pt x="30" y="10"/>
                          </a:lnTo>
                          <a:lnTo>
                            <a:pt x="30" y="6"/>
                          </a:lnTo>
                          <a:lnTo>
                            <a:pt x="29" y="1"/>
                          </a:lnTo>
                          <a:lnTo>
                            <a:pt x="29" y="0"/>
                          </a:lnTo>
                          <a:lnTo>
                            <a:pt x="27" y="6"/>
                          </a:lnTo>
                          <a:lnTo>
                            <a:pt x="27" y="11"/>
                          </a:lnTo>
                          <a:lnTo>
                            <a:pt x="26" y="15"/>
                          </a:lnTo>
                          <a:lnTo>
                            <a:pt x="26" y="18"/>
                          </a:lnTo>
                          <a:lnTo>
                            <a:pt x="26" y="21"/>
                          </a:lnTo>
                          <a:lnTo>
                            <a:pt x="27" y="25"/>
                          </a:lnTo>
                          <a:lnTo>
                            <a:pt x="27" y="28"/>
                          </a:lnTo>
                          <a:lnTo>
                            <a:pt x="27" y="32"/>
                          </a:lnTo>
                          <a:lnTo>
                            <a:pt x="27" y="34"/>
                          </a:lnTo>
                          <a:lnTo>
                            <a:pt x="29" y="39"/>
                          </a:lnTo>
                          <a:lnTo>
                            <a:pt x="29" y="41"/>
                          </a:lnTo>
                          <a:lnTo>
                            <a:pt x="30" y="44"/>
                          </a:lnTo>
                          <a:lnTo>
                            <a:pt x="30" y="47"/>
                          </a:lnTo>
                          <a:lnTo>
                            <a:pt x="32" y="50"/>
                          </a:lnTo>
                          <a:lnTo>
                            <a:pt x="33" y="52"/>
                          </a:lnTo>
                          <a:lnTo>
                            <a:pt x="35" y="55"/>
                          </a:lnTo>
                          <a:lnTo>
                            <a:pt x="35" y="56"/>
                          </a:lnTo>
                          <a:lnTo>
                            <a:pt x="36" y="59"/>
                          </a:lnTo>
                          <a:lnTo>
                            <a:pt x="38" y="65"/>
                          </a:lnTo>
                          <a:lnTo>
                            <a:pt x="38" y="72"/>
                          </a:lnTo>
                          <a:lnTo>
                            <a:pt x="38" y="77"/>
                          </a:lnTo>
                          <a:lnTo>
                            <a:pt x="39" y="82"/>
                          </a:lnTo>
                          <a:lnTo>
                            <a:pt x="39" y="85"/>
                          </a:lnTo>
                          <a:lnTo>
                            <a:pt x="41" y="89"/>
                          </a:lnTo>
                          <a:lnTo>
                            <a:pt x="41" y="92"/>
                          </a:lnTo>
                          <a:lnTo>
                            <a:pt x="41" y="95"/>
                          </a:lnTo>
                          <a:lnTo>
                            <a:pt x="41" y="98"/>
                          </a:lnTo>
                          <a:lnTo>
                            <a:pt x="42" y="102"/>
                          </a:lnTo>
                          <a:lnTo>
                            <a:pt x="42" y="104"/>
                          </a:lnTo>
                          <a:lnTo>
                            <a:pt x="42" y="109"/>
                          </a:lnTo>
                          <a:lnTo>
                            <a:pt x="42" y="114"/>
                          </a:lnTo>
                          <a:lnTo>
                            <a:pt x="44" y="120"/>
                          </a:lnTo>
                          <a:lnTo>
                            <a:pt x="44" y="122"/>
                          </a:lnTo>
                          <a:lnTo>
                            <a:pt x="44" y="126"/>
                          </a:lnTo>
                          <a:lnTo>
                            <a:pt x="44" y="129"/>
                          </a:lnTo>
                          <a:lnTo>
                            <a:pt x="44" y="132"/>
                          </a:lnTo>
                          <a:lnTo>
                            <a:pt x="44" y="137"/>
                          </a:lnTo>
                          <a:lnTo>
                            <a:pt x="44" y="143"/>
                          </a:lnTo>
                          <a:lnTo>
                            <a:pt x="44" y="148"/>
                          </a:lnTo>
                          <a:lnTo>
                            <a:pt x="44" y="155"/>
                          </a:lnTo>
                          <a:lnTo>
                            <a:pt x="36" y="150"/>
                          </a:lnTo>
                          <a:lnTo>
                            <a:pt x="36" y="148"/>
                          </a:lnTo>
                          <a:lnTo>
                            <a:pt x="35" y="146"/>
                          </a:lnTo>
                          <a:lnTo>
                            <a:pt x="35" y="142"/>
                          </a:lnTo>
                          <a:lnTo>
                            <a:pt x="35" y="139"/>
                          </a:lnTo>
                          <a:lnTo>
                            <a:pt x="35" y="135"/>
                          </a:lnTo>
                          <a:lnTo>
                            <a:pt x="35" y="131"/>
                          </a:lnTo>
                          <a:lnTo>
                            <a:pt x="35" y="126"/>
                          </a:lnTo>
                          <a:lnTo>
                            <a:pt x="33" y="121"/>
                          </a:lnTo>
                          <a:lnTo>
                            <a:pt x="33" y="117"/>
                          </a:lnTo>
                          <a:lnTo>
                            <a:pt x="32" y="113"/>
                          </a:lnTo>
                          <a:lnTo>
                            <a:pt x="32" y="110"/>
                          </a:lnTo>
                          <a:lnTo>
                            <a:pt x="32" y="106"/>
                          </a:lnTo>
                          <a:lnTo>
                            <a:pt x="32" y="103"/>
                          </a:lnTo>
                          <a:lnTo>
                            <a:pt x="32" y="102"/>
                          </a:lnTo>
                          <a:lnTo>
                            <a:pt x="32" y="100"/>
                          </a:lnTo>
                          <a:lnTo>
                            <a:pt x="30" y="96"/>
                          </a:lnTo>
                          <a:lnTo>
                            <a:pt x="29" y="92"/>
                          </a:lnTo>
                          <a:lnTo>
                            <a:pt x="27" y="89"/>
                          </a:lnTo>
                          <a:lnTo>
                            <a:pt x="26" y="85"/>
                          </a:lnTo>
                          <a:lnTo>
                            <a:pt x="24" y="82"/>
                          </a:lnTo>
                          <a:lnTo>
                            <a:pt x="22" y="78"/>
                          </a:lnTo>
                          <a:lnTo>
                            <a:pt x="21" y="76"/>
                          </a:lnTo>
                          <a:lnTo>
                            <a:pt x="19" y="72"/>
                          </a:lnTo>
                          <a:lnTo>
                            <a:pt x="18" y="69"/>
                          </a:lnTo>
                          <a:lnTo>
                            <a:pt x="16" y="65"/>
                          </a:lnTo>
                          <a:lnTo>
                            <a:pt x="15" y="61"/>
                          </a:lnTo>
                          <a:lnTo>
                            <a:pt x="15" y="58"/>
                          </a:lnTo>
                          <a:lnTo>
                            <a:pt x="13" y="54"/>
                          </a:lnTo>
                          <a:lnTo>
                            <a:pt x="13" y="50"/>
                          </a:lnTo>
                          <a:lnTo>
                            <a:pt x="13" y="45"/>
                          </a:lnTo>
                          <a:lnTo>
                            <a:pt x="15" y="41"/>
                          </a:lnTo>
                          <a:lnTo>
                            <a:pt x="10" y="40"/>
                          </a:lnTo>
                          <a:lnTo>
                            <a:pt x="7" y="37"/>
                          </a:lnTo>
                          <a:lnTo>
                            <a:pt x="4" y="36"/>
                          </a:lnTo>
                          <a:lnTo>
                            <a:pt x="1" y="34"/>
                          </a:lnTo>
                          <a:lnTo>
                            <a:pt x="1" y="36"/>
                          </a:lnTo>
                          <a:lnTo>
                            <a:pt x="0" y="37"/>
                          </a:lnTo>
                          <a:lnTo>
                            <a:pt x="0" y="40"/>
                          </a:lnTo>
                          <a:lnTo>
                            <a:pt x="0" y="44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0" y="55"/>
                          </a:lnTo>
                          <a:lnTo>
                            <a:pt x="1" y="61"/>
                          </a:lnTo>
                          <a:lnTo>
                            <a:pt x="1" y="65"/>
                          </a:lnTo>
                          <a:lnTo>
                            <a:pt x="1" y="70"/>
                          </a:lnTo>
                          <a:lnTo>
                            <a:pt x="1" y="74"/>
                          </a:lnTo>
                          <a:lnTo>
                            <a:pt x="3" y="81"/>
                          </a:lnTo>
                          <a:lnTo>
                            <a:pt x="3" y="85"/>
                          </a:lnTo>
                          <a:lnTo>
                            <a:pt x="4" y="91"/>
                          </a:lnTo>
                          <a:lnTo>
                            <a:pt x="4" y="96"/>
                          </a:lnTo>
                          <a:lnTo>
                            <a:pt x="6" y="103"/>
                          </a:lnTo>
                          <a:lnTo>
                            <a:pt x="6" y="109"/>
                          </a:lnTo>
                          <a:lnTo>
                            <a:pt x="7" y="113"/>
                          </a:lnTo>
                          <a:lnTo>
                            <a:pt x="7" y="118"/>
                          </a:lnTo>
                          <a:lnTo>
                            <a:pt x="7" y="124"/>
                          </a:lnTo>
                          <a:lnTo>
                            <a:pt x="9" y="128"/>
                          </a:lnTo>
                          <a:lnTo>
                            <a:pt x="9" y="133"/>
                          </a:lnTo>
                          <a:lnTo>
                            <a:pt x="10" y="137"/>
                          </a:lnTo>
                          <a:lnTo>
                            <a:pt x="12" y="142"/>
                          </a:lnTo>
                          <a:lnTo>
                            <a:pt x="12" y="146"/>
                          </a:lnTo>
                          <a:lnTo>
                            <a:pt x="12" y="150"/>
                          </a:lnTo>
                          <a:lnTo>
                            <a:pt x="12" y="152"/>
                          </a:lnTo>
                          <a:lnTo>
                            <a:pt x="13" y="155"/>
                          </a:lnTo>
                          <a:lnTo>
                            <a:pt x="13" y="159"/>
                          </a:lnTo>
                          <a:lnTo>
                            <a:pt x="15" y="162"/>
                          </a:lnTo>
                          <a:lnTo>
                            <a:pt x="15" y="165"/>
                          </a:lnTo>
                          <a:lnTo>
                            <a:pt x="15" y="169"/>
                          </a:lnTo>
                          <a:lnTo>
                            <a:pt x="15" y="173"/>
                          </a:lnTo>
                          <a:lnTo>
                            <a:pt x="15" y="177"/>
                          </a:lnTo>
                          <a:lnTo>
                            <a:pt x="15" y="181"/>
                          </a:lnTo>
                          <a:lnTo>
                            <a:pt x="16" y="185"/>
                          </a:lnTo>
                          <a:lnTo>
                            <a:pt x="16" y="190"/>
                          </a:lnTo>
                          <a:lnTo>
                            <a:pt x="18" y="194"/>
                          </a:lnTo>
                          <a:lnTo>
                            <a:pt x="18" y="196"/>
                          </a:lnTo>
                          <a:lnTo>
                            <a:pt x="18" y="198"/>
                          </a:lnTo>
                          <a:lnTo>
                            <a:pt x="18" y="201"/>
                          </a:lnTo>
                          <a:lnTo>
                            <a:pt x="18" y="202"/>
                          </a:lnTo>
                          <a:lnTo>
                            <a:pt x="16" y="202"/>
                          </a:lnTo>
                          <a:lnTo>
                            <a:pt x="15" y="201"/>
                          </a:lnTo>
                          <a:lnTo>
                            <a:pt x="13" y="198"/>
                          </a:lnTo>
                          <a:lnTo>
                            <a:pt x="12" y="195"/>
                          </a:lnTo>
                          <a:lnTo>
                            <a:pt x="15" y="584"/>
                          </a:lnTo>
                          <a:lnTo>
                            <a:pt x="214" y="584"/>
                          </a:lnTo>
                          <a:lnTo>
                            <a:pt x="209" y="115"/>
                          </a:lnTo>
                          <a:lnTo>
                            <a:pt x="209" y="111"/>
                          </a:lnTo>
                          <a:lnTo>
                            <a:pt x="209" y="109"/>
                          </a:lnTo>
                          <a:lnTo>
                            <a:pt x="209" y="106"/>
                          </a:lnTo>
                          <a:lnTo>
                            <a:pt x="209" y="102"/>
                          </a:lnTo>
                          <a:lnTo>
                            <a:pt x="209" y="99"/>
                          </a:lnTo>
                          <a:lnTo>
                            <a:pt x="209" y="96"/>
                          </a:lnTo>
                          <a:lnTo>
                            <a:pt x="209" y="93"/>
                          </a:lnTo>
                          <a:lnTo>
                            <a:pt x="209" y="91"/>
                          </a:lnTo>
                          <a:lnTo>
                            <a:pt x="209" y="85"/>
                          </a:lnTo>
                          <a:lnTo>
                            <a:pt x="209" y="80"/>
                          </a:lnTo>
                          <a:lnTo>
                            <a:pt x="209" y="74"/>
                          </a:lnTo>
                          <a:lnTo>
                            <a:pt x="209" y="70"/>
                          </a:lnTo>
                          <a:lnTo>
                            <a:pt x="209" y="65"/>
                          </a:lnTo>
                          <a:lnTo>
                            <a:pt x="209" y="61"/>
                          </a:lnTo>
                          <a:lnTo>
                            <a:pt x="209" y="55"/>
                          </a:lnTo>
                          <a:lnTo>
                            <a:pt x="209" y="50"/>
                          </a:lnTo>
                          <a:lnTo>
                            <a:pt x="209" y="44"/>
                          </a:lnTo>
                          <a:lnTo>
                            <a:pt x="209" y="39"/>
                          </a:lnTo>
                          <a:lnTo>
                            <a:pt x="209" y="34"/>
                          </a:lnTo>
                          <a:lnTo>
                            <a:pt x="209" y="32"/>
                          </a:lnTo>
                          <a:lnTo>
                            <a:pt x="209" y="28"/>
                          </a:lnTo>
                          <a:lnTo>
                            <a:pt x="209" y="25"/>
                          </a:lnTo>
                          <a:lnTo>
                            <a:pt x="200" y="32"/>
                          </a:lnTo>
                          <a:lnTo>
                            <a:pt x="200" y="37"/>
                          </a:lnTo>
                          <a:lnTo>
                            <a:pt x="200" y="41"/>
                          </a:lnTo>
                          <a:lnTo>
                            <a:pt x="200" y="47"/>
                          </a:lnTo>
                          <a:lnTo>
                            <a:pt x="200" y="52"/>
                          </a:lnTo>
                          <a:lnTo>
                            <a:pt x="200" y="56"/>
                          </a:lnTo>
                          <a:lnTo>
                            <a:pt x="200" y="62"/>
                          </a:lnTo>
                          <a:lnTo>
                            <a:pt x="200" y="66"/>
                          </a:lnTo>
                          <a:lnTo>
                            <a:pt x="200" y="72"/>
                          </a:lnTo>
                          <a:lnTo>
                            <a:pt x="200" y="76"/>
                          </a:lnTo>
                          <a:lnTo>
                            <a:pt x="200" y="81"/>
                          </a:lnTo>
                          <a:lnTo>
                            <a:pt x="200" y="85"/>
                          </a:lnTo>
                          <a:lnTo>
                            <a:pt x="201" y="89"/>
                          </a:lnTo>
                          <a:lnTo>
                            <a:pt x="201" y="95"/>
                          </a:lnTo>
                          <a:lnTo>
                            <a:pt x="201" y="99"/>
                          </a:lnTo>
                          <a:lnTo>
                            <a:pt x="203" y="104"/>
                          </a:lnTo>
                          <a:lnTo>
                            <a:pt x="203" y="109"/>
                          </a:lnTo>
                          <a:lnTo>
                            <a:pt x="201" y="113"/>
                          </a:lnTo>
                          <a:lnTo>
                            <a:pt x="200" y="115"/>
                          </a:lnTo>
                          <a:lnTo>
                            <a:pt x="200" y="120"/>
                          </a:lnTo>
                          <a:lnTo>
                            <a:pt x="200" y="124"/>
                          </a:lnTo>
                          <a:lnTo>
                            <a:pt x="195" y="73"/>
                          </a:lnTo>
                          <a:lnTo>
                            <a:pt x="194" y="173"/>
                          </a:lnTo>
                          <a:lnTo>
                            <a:pt x="192" y="168"/>
                          </a:lnTo>
                          <a:lnTo>
                            <a:pt x="192" y="163"/>
                          </a:lnTo>
                          <a:lnTo>
                            <a:pt x="191" y="158"/>
                          </a:lnTo>
                          <a:lnTo>
                            <a:pt x="191" y="154"/>
                          </a:lnTo>
                          <a:lnTo>
                            <a:pt x="191" y="148"/>
                          </a:lnTo>
                          <a:lnTo>
                            <a:pt x="191" y="144"/>
                          </a:lnTo>
                          <a:lnTo>
                            <a:pt x="189" y="139"/>
                          </a:lnTo>
                          <a:lnTo>
                            <a:pt x="189" y="135"/>
                          </a:lnTo>
                          <a:lnTo>
                            <a:pt x="189" y="131"/>
                          </a:lnTo>
                          <a:lnTo>
                            <a:pt x="188" y="125"/>
                          </a:lnTo>
                          <a:lnTo>
                            <a:pt x="188" y="121"/>
                          </a:lnTo>
                          <a:lnTo>
                            <a:pt x="188" y="115"/>
                          </a:lnTo>
                          <a:lnTo>
                            <a:pt x="188" y="111"/>
                          </a:lnTo>
                          <a:lnTo>
                            <a:pt x="186" y="106"/>
                          </a:lnTo>
                          <a:lnTo>
                            <a:pt x="186" y="102"/>
                          </a:lnTo>
                          <a:lnTo>
                            <a:pt x="186" y="98"/>
                          </a:lnTo>
                          <a:lnTo>
                            <a:pt x="186" y="92"/>
                          </a:lnTo>
                          <a:lnTo>
                            <a:pt x="186" y="88"/>
                          </a:lnTo>
                          <a:lnTo>
                            <a:pt x="186" y="82"/>
                          </a:lnTo>
                          <a:lnTo>
                            <a:pt x="186" y="78"/>
                          </a:lnTo>
                          <a:lnTo>
                            <a:pt x="185" y="73"/>
                          </a:lnTo>
                          <a:lnTo>
                            <a:pt x="185" y="69"/>
                          </a:lnTo>
                          <a:lnTo>
                            <a:pt x="185" y="63"/>
                          </a:lnTo>
                          <a:lnTo>
                            <a:pt x="185" y="59"/>
                          </a:lnTo>
                          <a:lnTo>
                            <a:pt x="185" y="54"/>
                          </a:lnTo>
                          <a:lnTo>
                            <a:pt x="185" y="50"/>
                          </a:lnTo>
                          <a:lnTo>
                            <a:pt x="183" y="44"/>
                          </a:lnTo>
                          <a:lnTo>
                            <a:pt x="183" y="40"/>
                          </a:lnTo>
                          <a:lnTo>
                            <a:pt x="183" y="34"/>
                          </a:lnTo>
                          <a:lnTo>
                            <a:pt x="183" y="30"/>
                          </a:lnTo>
                          <a:lnTo>
                            <a:pt x="183" y="25"/>
                          </a:lnTo>
                          <a:lnTo>
                            <a:pt x="183" y="21"/>
                          </a:lnTo>
                          <a:lnTo>
                            <a:pt x="182" y="21"/>
                          </a:lnTo>
                          <a:lnTo>
                            <a:pt x="180" y="25"/>
                          </a:lnTo>
                          <a:lnTo>
                            <a:pt x="177" y="28"/>
                          </a:lnTo>
                          <a:lnTo>
                            <a:pt x="177" y="33"/>
                          </a:lnTo>
                          <a:lnTo>
                            <a:pt x="175" y="34"/>
                          </a:lnTo>
                          <a:lnTo>
                            <a:pt x="175" y="39"/>
                          </a:lnTo>
                          <a:lnTo>
                            <a:pt x="174" y="41"/>
                          </a:lnTo>
                          <a:lnTo>
                            <a:pt x="174" y="45"/>
                          </a:lnTo>
                          <a:lnTo>
                            <a:pt x="174" y="50"/>
                          </a:lnTo>
                          <a:lnTo>
                            <a:pt x="172" y="54"/>
                          </a:lnTo>
                          <a:lnTo>
                            <a:pt x="172" y="59"/>
                          </a:lnTo>
                          <a:lnTo>
                            <a:pt x="172" y="65"/>
                          </a:lnTo>
                          <a:lnTo>
                            <a:pt x="172" y="67"/>
                          </a:lnTo>
                          <a:lnTo>
                            <a:pt x="172" y="70"/>
                          </a:lnTo>
                          <a:lnTo>
                            <a:pt x="172" y="73"/>
                          </a:lnTo>
                          <a:lnTo>
                            <a:pt x="172" y="77"/>
                          </a:lnTo>
                          <a:lnTo>
                            <a:pt x="172" y="80"/>
                          </a:lnTo>
                          <a:lnTo>
                            <a:pt x="172" y="82"/>
                          </a:lnTo>
                          <a:lnTo>
                            <a:pt x="172" y="87"/>
                          </a:lnTo>
                          <a:lnTo>
                            <a:pt x="172" y="91"/>
                          </a:lnTo>
                          <a:lnTo>
                            <a:pt x="172" y="93"/>
                          </a:lnTo>
                          <a:lnTo>
                            <a:pt x="172" y="98"/>
                          </a:lnTo>
                          <a:lnTo>
                            <a:pt x="172" y="102"/>
                          </a:lnTo>
                          <a:lnTo>
                            <a:pt x="172" y="106"/>
                          </a:lnTo>
                          <a:lnTo>
                            <a:pt x="172" y="110"/>
                          </a:lnTo>
                          <a:lnTo>
                            <a:pt x="172" y="114"/>
                          </a:lnTo>
                          <a:lnTo>
                            <a:pt x="172" y="120"/>
                          </a:lnTo>
                          <a:lnTo>
                            <a:pt x="172" y="125"/>
                          </a:lnTo>
                          <a:lnTo>
                            <a:pt x="172" y="129"/>
                          </a:lnTo>
                          <a:lnTo>
                            <a:pt x="172" y="135"/>
                          </a:lnTo>
                          <a:lnTo>
                            <a:pt x="172" y="139"/>
                          </a:lnTo>
                          <a:lnTo>
                            <a:pt x="174" y="146"/>
                          </a:lnTo>
                          <a:lnTo>
                            <a:pt x="174" y="150"/>
                          </a:lnTo>
                          <a:lnTo>
                            <a:pt x="174" y="155"/>
                          </a:lnTo>
                          <a:lnTo>
                            <a:pt x="175" y="162"/>
                          </a:lnTo>
                          <a:lnTo>
                            <a:pt x="175" y="168"/>
                          </a:lnTo>
                          <a:lnTo>
                            <a:pt x="175" y="170"/>
                          </a:lnTo>
                          <a:lnTo>
                            <a:pt x="175" y="173"/>
                          </a:lnTo>
                          <a:lnTo>
                            <a:pt x="175" y="177"/>
                          </a:lnTo>
                          <a:lnTo>
                            <a:pt x="175" y="183"/>
                          </a:lnTo>
                          <a:lnTo>
                            <a:pt x="175" y="188"/>
                          </a:lnTo>
                          <a:lnTo>
                            <a:pt x="175" y="194"/>
                          </a:lnTo>
                          <a:lnTo>
                            <a:pt x="175" y="199"/>
                          </a:lnTo>
                          <a:lnTo>
                            <a:pt x="175" y="205"/>
                          </a:lnTo>
                          <a:lnTo>
                            <a:pt x="175" y="210"/>
                          </a:lnTo>
                          <a:lnTo>
                            <a:pt x="175" y="217"/>
                          </a:lnTo>
                          <a:lnTo>
                            <a:pt x="174" y="221"/>
                          </a:lnTo>
                          <a:lnTo>
                            <a:pt x="174" y="227"/>
                          </a:lnTo>
                          <a:lnTo>
                            <a:pt x="172" y="231"/>
                          </a:lnTo>
                          <a:lnTo>
                            <a:pt x="172" y="235"/>
                          </a:lnTo>
                          <a:lnTo>
                            <a:pt x="171" y="239"/>
                          </a:lnTo>
                          <a:lnTo>
                            <a:pt x="171" y="242"/>
                          </a:lnTo>
                          <a:lnTo>
                            <a:pt x="169" y="235"/>
                          </a:lnTo>
                          <a:lnTo>
                            <a:pt x="169" y="229"/>
                          </a:lnTo>
                          <a:lnTo>
                            <a:pt x="168" y="224"/>
                          </a:lnTo>
                          <a:lnTo>
                            <a:pt x="168" y="218"/>
                          </a:lnTo>
                          <a:lnTo>
                            <a:pt x="166" y="213"/>
                          </a:lnTo>
                          <a:lnTo>
                            <a:pt x="166" y="207"/>
                          </a:lnTo>
                          <a:lnTo>
                            <a:pt x="166" y="202"/>
                          </a:lnTo>
                          <a:lnTo>
                            <a:pt x="166" y="196"/>
                          </a:lnTo>
                          <a:lnTo>
                            <a:pt x="166" y="190"/>
                          </a:lnTo>
                          <a:lnTo>
                            <a:pt x="166" y="184"/>
                          </a:lnTo>
                          <a:lnTo>
                            <a:pt x="166" y="179"/>
                          </a:lnTo>
                          <a:lnTo>
                            <a:pt x="166" y="173"/>
                          </a:lnTo>
                          <a:lnTo>
                            <a:pt x="166" y="168"/>
                          </a:lnTo>
                          <a:lnTo>
                            <a:pt x="166" y="162"/>
                          </a:lnTo>
                          <a:lnTo>
                            <a:pt x="166" y="157"/>
                          </a:lnTo>
                          <a:lnTo>
                            <a:pt x="166" y="151"/>
                          </a:lnTo>
                          <a:lnTo>
                            <a:pt x="165" y="146"/>
                          </a:lnTo>
                          <a:lnTo>
                            <a:pt x="165" y="139"/>
                          </a:lnTo>
                          <a:lnTo>
                            <a:pt x="165" y="133"/>
                          </a:lnTo>
                          <a:lnTo>
                            <a:pt x="165" y="128"/>
                          </a:lnTo>
                          <a:lnTo>
                            <a:pt x="165" y="122"/>
                          </a:lnTo>
                          <a:lnTo>
                            <a:pt x="165" y="117"/>
                          </a:lnTo>
                          <a:lnTo>
                            <a:pt x="165" y="111"/>
                          </a:lnTo>
                          <a:lnTo>
                            <a:pt x="165" y="106"/>
                          </a:lnTo>
                          <a:lnTo>
                            <a:pt x="165" y="100"/>
                          </a:lnTo>
                          <a:lnTo>
                            <a:pt x="163" y="95"/>
                          </a:lnTo>
                          <a:lnTo>
                            <a:pt x="163" y="89"/>
                          </a:lnTo>
                          <a:lnTo>
                            <a:pt x="163" y="84"/>
                          </a:lnTo>
                          <a:lnTo>
                            <a:pt x="162" y="78"/>
                          </a:lnTo>
                          <a:lnTo>
                            <a:pt x="162" y="73"/>
                          </a:lnTo>
                          <a:lnTo>
                            <a:pt x="162" y="67"/>
                          </a:lnTo>
                          <a:lnTo>
                            <a:pt x="160" y="62"/>
                          </a:lnTo>
                          <a:lnTo>
                            <a:pt x="160" y="59"/>
                          </a:lnTo>
                          <a:lnTo>
                            <a:pt x="159" y="55"/>
                          </a:lnTo>
                          <a:lnTo>
                            <a:pt x="157" y="50"/>
                          </a:lnTo>
                          <a:lnTo>
                            <a:pt x="156" y="48"/>
                          </a:lnTo>
                          <a:lnTo>
                            <a:pt x="156" y="51"/>
                          </a:lnTo>
                          <a:lnTo>
                            <a:pt x="156" y="55"/>
                          </a:lnTo>
                          <a:lnTo>
                            <a:pt x="154" y="58"/>
                          </a:lnTo>
                          <a:lnTo>
                            <a:pt x="154" y="62"/>
                          </a:lnTo>
                          <a:lnTo>
                            <a:pt x="154" y="65"/>
                          </a:lnTo>
                          <a:lnTo>
                            <a:pt x="153" y="69"/>
                          </a:lnTo>
                          <a:lnTo>
                            <a:pt x="153" y="72"/>
                          </a:lnTo>
                          <a:lnTo>
                            <a:pt x="153" y="76"/>
                          </a:lnTo>
                          <a:lnTo>
                            <a:pt x="156" y="139"/>
                          </a:lnTo>
                          <a:lnTo>
                            <a:pt x="156" y="143"/>
                          </a:lnTo>
                          <a:lnTo>
                            <a:pt x="156" y="148"/>
                          </a:lnTo>
                          <a:lnTo>
                            <a:pt x="156" y="152"/>
                          </a:lnTo>
                          <a:lnTo>
                            <a:pt x="156" y="158"/>
                          </a:lnTo>
                          <a:lnTo>
                            <a:pt x="156" y="163"/>
                          </a:lnTo>
                          <a:lnTo>
                            <a:pt x="156" y="168"/>
                          </a:lnTo>
                          <a:lnTo>
                            <a:pt x="156" y="173"/>
                          </a:lnTo>
                          <a:lnTo>
                            <a:pt x="156" y="179"/>
                          </a:lnTo>
                          <a:lnTo>
                            <a:pt x="154" y="183"/>
                          </a:lnTo>
                          <a:lnTo>
                            <a:pt x="154" y="188"/>
                          </a:lnTo>
                          <a:lnTo>
                            <a:pt x="154" y="194"/>
                          </a:lnTo>
                          <a:lnTo>
                            <a:pt x="154" y="198"/>
                          </a:lnTo>
                          <a:lnTo>
                            <a:pt x="153" y="203"/>
                          </a:lnTo>
                          <a:lnTo>
                            <a:pt x="153" y="207"/>
                          </a:lnTo>
                          <a:lnTo>
                            <a:pt x="153" y="213"/>
                          </a:lnTo>
                          <a:lnTo>
                            <a:pt x="153" y="218"/>
                          </a:lnTo>
                          <a:lnTo>
                            <a:pt x="153" y="548"/>
                          </a:lnTo>
                          <a:lnTo>
                            <a:pt x="78" y="549"/>
                          </a:lnTo>
                          <a:lnTo>
                            <a:pt x="71" y="100"/>
                          </a:lnTo>
                          <a:lnTo>
                            <a:pt x="71" y="96"/>
                          </a:lnTo>
                          <a:lnTo>
                            <a:pt x="71" y="93"/>
                          </a:lnTo>
                          <a:lnTo>
                            <a:pt x="70" y="89"/>
                          </a:lnTo>
                          <a:lnTo>
                            <a:pt x="70" y="87"/>
                          </a:lnTo>
                          <a:lnTo>
                            <a:pt x="70" y="84"/>
                          </a:lnTo>
                          <a:lnTo>
                            <a:pt x="70" y="81"/>
                          </a:lnTo>
                          <a:lnTo>
                            <a:pt x="68" y="77"/>
                          </a:lnTo>
                          <a:lnTo>
                            <a:pt x="68" y="74"/>
                          </a:lnTo>
                          <a:lnTo>
                            <a:pt x="67" y="72"/>
                          </a:lnTo>
                          <a:lnTo>
                            <a:pt x="67" y="67"/>
                          </a:lnTo>
                          <a:lnTo>
                            <a:pt x="67" y="65"/>
                          </a:lnTo>
                          <a:lnTo>
                            <a:pt x="67" y="62"/>
                          </a:lnTo>
                          <a:lnTo>
                            <a:pt x="65" y="58"/>
                          </a:lnTo>
                          <a:lnTo>
                            <a:pt x="65" y="55"/>
                          </a:lnTo>
                          <a:lnTo>
                            <a:pt x="64" y="52"/>
                          </a:lnTo>
                          <a:lnTo>
                            <a:pt x="64" y="50"/>
                          </a:lnTo>
                          <a:lnTo>
                            <a:pt x="62" y="77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Freeform 284"/>
                    <p:cNvSpPr/>
                    <p:nvPr/>
                  </p:nvSpPr>
                  <p:spPr>
                    <a:xfrm>
                      <a:off x="1010520" y="2136600"/>
                      <a:ext cx="1440" cy="5616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56160"/>
                        <a:gd name="textAreaBottom" fmla="*/ 56520 h 56160"/>
                      </a:gdLst>
                      <a:ahLst/>
                      <a:rect l="textAreaLeft" t="textAreaTop" r="textAreaRight" b="textAreaBottom"/>
                      <a:pathLst>
                        <a:path w="8" h="199">
                          <a:moveTo>
                            <a:pt x="0" y="199"/>
                          </a:moveTo>
                          <a:lnTo>
                            <a:pt x="3" y="197"/>
                          </a:lnTo>
                          <a:lnTo>
                            <a:pt x="5" y="197"/>
                          </a:lnTo>
                          <a:lnTo>
                            <a:pt x="5" y="195"/>
                          </a:lnTo>
                          <a:lnTo>
                            <a:pt x="5" y="193"/>
                          </a:lnTo>
                          <a:lnTo>
                            <a:pt x="5" y="188"/>
                          </a:lnTo>
                          <a:lnTo>
                            <a:pt x="5" y="182"/>
                          </a:lnTo>
                          <a:lnTo>
                            <a:pt x="5" y="177"/>
                          </a:lnTo>
                          <a:lnTo>
                            <a:pt x="5" y="173"/>
                          </a:lnTo>
                          <a:lnTo>
                            <a:pt x="5" y="166"/>
                          </a:lnTo>
                          <a:lnTo>
                            <a:pt x="5" y="162"/>
                          </a:lnTo>
                          <a:lnTo>
                            <a:pt x="5" y="156"/>
                          </a:lnTo>
                          <a:lnTo>
                            <a:pt x="6" y="151"/>
                          </a:lnTo>
                          <a:lnTo>
                            <a:pt x="6" y="145"/>
                          </a:lnTo>
                          <a:lnTo>
                            <a:pt x="6" y="140"/>
                          </a:lnTo>
                          <a:lnTo>
                            <a:pt x="6" y="134"/>
                          </a:lnTo>
                          <a:lnTo>
                            <a:pt x="6" y="129"/>
                          </a:lnTo>
                          <a:lnTo>
                            <a:pt x="6" y="123"/>
                          </a:lnTo>
                          <a:lnTo>
                            <a:pt x="6" y="118"/>
                          </a:lnTo>
                          <a:lnTo>
                            <a:pt x="6" y="112"/>
                          </a:lnTo>
                          <a:lnTo>
                            <a:pt x="6" y="108"/>
                          </a:lnTo>
                          <a:lnTo>
                            <a:pt x="6" y="101"/>
                          </a:lnTo>
                          <a:lnTo>
                            <a:pt x="6" y="96"/>
                          </a:lnTo>
                          <a:lnTo>
                            <a:pt x="6" y="90"/>
                          </a:lnTo>
                          <a:lnTo>
                            <a:pt x="8" y="86"/>
                          </a:lnTo>
                          <a:lnTo>
                            <a:pt x="8" y="79"/>
                          </a:lnTo>
                          <a:lnTo>
                            <a:pt x="8" y="74"/>
                          </a:lnTo>
                          <a:lnTo>
                            <a:pt x="8" y="70"/>
                          </a:lnTo>
                          <a:lnTo>
                            <a:pt x="8" y="64"/>
                          </a:lnTo>
                          <a:lnTo>
                            <a:pt x="8" y="59"/>
                          </a:lnTo>
                          <a:lnTo>
                            <a:pt x="8" y="53"/>
                          </a:lnTo>
                          <a:lnTo>
                            <a:pt x="8" y="48"/>
                          </a:lnTo>
                          <a:lnTo>
                            <a:pt x="8" y="42"/>
                          </a:lnTo>
                          <a:lnTo>
                            <a:pt x="8" y="37"/>
                          </a:lnTo>
                          <a:lnTo>
                            <a:pt x="8" y="31"/>
                          </a:lnTo>
                          <a:lnTo>
                            <a:pt x="8" y="27"/>
                          </a:lnTo>
                          <a:lnTo>
                            <a:pt x="8" y="22"/>
                          </a:lnTo>
                          <a:lnTo>
                            <a:pt x="6" y="16"/>
                          </a:lnTo>
                          <a:lnTo>
                            <a:pt x="6" y="13"/>
                          </a:lnTo>
                          <a:lnTo>
                            <a:pt x="6" y="9"/>
                          </a:lnTo>
                          <a:lnTo>
                            <a:pt x="6" y="8"/>
                          </a:lnTo>
                          <a:lnTo>
                            <a:pt x="5" y="4"/>
                          </a:lnTo>
                          <a:lnTo>
                            <a:pt x="5" y="1"/>
                          </a:lnTo>
                          <a:lnTo>
                            <a:pt x="3" y="0"/>
                          </a:lnTo>
                          <a:lnTo>
                            <a:pt x="3" y="4"/>
                          </a:lnTo>
                          <a:lnTo>
                            <a:pt x="1" y="6"/>
                          </a:lnTo>
                          <a:lnTo>
                            <a:pt x="1" y="11"/>
                          </a:lnTo>
                          <a:lnTo>
                            <a:pt x="0" y="13"/>
                          </a:lnTo>
                          <a:lnTo>
                            <a:pt x="0" y="19"/>
                          </a:lnTo>
                          <a:lnTo>
                            <a:pt x="0" y="23"/>
                          </a:lnTo>
                          <a:lnTo>
                            <a:pt x="0" y="27"/>
                          </a:lnTo>
                          <a:lnTo>
                            <a:pt x="0" y="31"/>
                          </a:lnTo>
                          <a:lnTo>
                            <a:pt x="0" y="35"/>
                          </a:lnTo>
                          <a:lnTo>
                            <a:pt x="0" y="37"/>
                          </a:lnTo>
                          <a:lnTo>
                            <a:pt x="0" y="41"/>
                          </a:lnTo>
                          <a:lnTo>
                            <a:pt x="0" y="44"/>
                          </a:lnTo>
                          <a:lnTo>
                            <a:pt x="0" y="46"/>
                          </a:lnTo>
                          <a:lnTo>
                            <a:pt x="0" y="49"/>
                          </a:lnTo>
                          <a:lnTo>
                            <a:pt x="0" y="53"/>
                          </a:lnTo>
                          <a:lnTo>
                            <a:pt x="0" y="56"/>
                          </a:lnTo>
                          <a:lnTo>
                            <a:pt x="0" y="60"/>
                          </a:lnTo>
                          <a:lnTo>
                            <a:pt x="0" y="64"/>
                          </a:lnTo>
                          <a:lnTo>
                            <a:pt x="0" y="67"/>
                          </a:lnTo>
                          <a:lnTo>
                            <a:pt x="0" y="71"/>
                          </a:lnTo>
                          <a:lnTo>
                            <a:pt x="0" y="75"/>
                          </a:lnTo>
                          <a:lnTo>
                            <a:pt x="0" y="79"/>
                          </a:lnTo>
                          <a:lnTo>
                            <a:pt x="1" y="83"/>
                          </a:lnTo>
                          <a:lnTo>
                            <a:pt x="1" y="87"/>
                          </a:lnTo>
                          <a:lnTo>
                            <a:pt x="1" y="92"/>
                          </a:lnTo>
                          <a:lnTo>
                            <a:pt x="1" y="96"/>
                          </a:lnTo>
                          <a:lnTo>
                            <a:pt x="1" y="98"/>
                          </a:lnTo>
                          <a:lnTo>
                            <a:pt x="1" y="103"/>
                          </a:lnTo>
                          <a:lnTo>
                            <a:pt x="1" y="105"/>
                          </a:lnTo>
                          <a:lnTo>
                            <a:pt x="1" y="109"/>
                          </a:lnTo>
                          <a:lnTo>
                            <a:pt x="1" y="112"/>
                          </a:lnTo>
                          <a:lnTo>
                            <a:pt x="1" y="118"/>
                          </a:lnTo>
                          <a:lnTo>
                            <a:pt x="1" y="122"/>
                          </a:lnTo>
                          <a:lnTo>
                            <a:pt x="1" y="125"/>
                          </a:lnTo>
                          <a:lnTo>
                            <a:pt x="3" y="126"/>
                          </a:lnTo>
                          <a:lnTo>
                            <a:pt x="1" y="130"/>
                          </a:lnTo>
                          <a:lnTo>
                            <a:pt x="1" y="134"/>
                          </a:lnTo>
                          <a:lnTo>
                            <a:pt x="1" y="138"/>
                          </a:lnTo>
                          <a:lnTo>
                            <a:pt x="1" y="142"/>
                          </a:lnTo>
                          <a:lnTo>
                            <a:pt x="1" y="148"/>
                          </a:lnTo>
                          <a:lnTo>
                            <a:pt x="1" y="152"/>
                          </a:lnTo>
                          <a:lnTo>
                            <a:pt x="1" y="156"/>
                          </a:lnTo>
                          <a:lnTo>
                            <a:pt x="1" y="162"/>
                          </a:lnTo>
                          <a:lnTo>
                            <a:pt x="0" y="166"/>
                          </a:lnTo>
                          <a:lnTo>
                            <a:pt x="0" y="170"/>
                          </a:lnTo>
                          <a:lnTo>
                            <a:pt x="0" y="174"/>
                          </a:lnTo>
                          <a:lnTo>
                            <a:pt x="0" y="179"/>
                          </a:lnTo>
                          <a:lnTo>
                            <a:pt x="0" y="184"/>
                          </a:lnTo>
                          <a:lnTo>
                            <a:pt x="0" y="189"/>
                          </a:lnTo>
                          <a:lnTo>
                            <a:pt x="0" y="193"/>
                          </a:lnTo>
                          <a:lnTo>
                            <a:pt x="0" y="199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Freeform 285"/>
                    <p:cNvSpPr/>
                    <p:nvPr/>
                  </p:nvSpPr>
                  <p:spPr>
                    <a:xfrm>
                      <a:off x="769320" y="1922760"/>
                      <a:ext cx="317160" cy="132840"/>
                    </a:xfrm>
                    <a:custGeom>
                      <a:avLst/>
                      <a:gdLst>
                        <a:gd name="textAreaLeft" fmla="*/ 0 w 317160"/>
                        <a:gd name="textAreaRight" fmla="*/ 317160 w 31716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1466" h="469">
                          <a:moveTo>
                            <a:pt x="104" y="394"/>
                          </a:moveTo>
                          <a:lnTo>
                            <a:pt x="0" y="469"/>
                          </a:lnTo>
                          <a:lnTo>
                            <a:pt x="773" y="469"/>
                          </a:lnTo>
                          <a:lnTo>
                            <a:pt x="777" y="468"/>
                          </a:lnTo>
                          <a:lnTo>
                            <a:pt x="783" y="468"/>
                          </a:lnTo>
                          <a:lnTo>
                            <a:pt x="788" y="466"/>
                          </a:lnTo>
                          <a:lnTo>
                            <a:pt x="794" y="465"/>
                          </a:lnTo>
                          <a:lnTo>
                            <a:pt x="799" y="465"/>
                          </a:lnTo>
                          <a:lnTo>
                            <a:pt x="803" y="464"/>
                          </a:lnTo>
                          <a:lnTo>
                            <a:pt x="808" y="462"/>
                          </a:lnTo>
                          <a:lnTo>
                            <a:pt x="814" y="462"/>
                          </a:lnTo>
                          <a:lnTo>
                            <a:pt x="809" y="461"/>
                          </a:lnTo>
                          <a:lnTo>
                            <a:pt x="805" y="461"/>
                          </a:lnTo>
                          <a:lnTo>
                            <a:pt x="800" y="461"/>
                          </a:lnTo>
                          <a:lnTo>
                            <a:pt x="797" y="461"/>
                          </a:lnTo>
                          <a:lnTo>
                            <a:pt x="791" y="460"/>
                          </a:lnTo>
                          <a:lnTo>
                            <a:pt x="786" y="460"/>
                          </a:lnTo>
                          <a:lnTo>
                            <a:pt x="783" y="460"/>
                          </a:lnTo>
                          <a:lnTo>
                            <a:pt x="779" y="460"/>
                          </a:lnTo>
                          <a:lnTo>
                            <a:pt x="774" y="458"/>
                          </a:lnTo>
                          <a:lnTo>
                            <a:pt x="770" y="458"/>
                          </a:lnTo>
                          <a:lnTo>
                            <a:pt x="765" y="458"/>
                          </a:lnTo>
                          <a:lnTo>
                            <a:pt x="762" y="458"/>
                          </a:lnTo>
                          <a:lnTo>
                            <a:pt x="757" y="458"/>
                          </a:lnTo>
                          <a:lnTo>
                            <a:pt x="753" y="458"/>
                          </a:lnTo>
                          <a:lnTo>
                            <a:pt x="748" y="458"/>
                          </a:lnTo>
                          <a:lnTo>
                            <a:pt x="745" y="458"/>
                          </a:lnTo>
                          <a:lnTo>
                            <a:pt x="739" y="458"/>
                          </a:lnTo>
                          <a:lnTo>
                            <a:pt x="736" y="458"/>
                          </a:lnTo>
                          <a:lnTo>
                            <a:pt x="731" y="458"/>
                          </a:lnTo>
                          <a:lnTo>
                            <a:pt x="727" y="458"/>
                          </a:lnTo>
                          <a:lnTo>
                            <a:pt x="722" y="458"/>
                          </a:lnTo>
                          <a:lnTo>
                            <a:pt x="718" y="458"/>
                          </a:lnTo>
                          <a:lnTo>
                            <a:pt x="713" y="458"/>
                          </a:lnTo>
                          <a:lnTo>
                            <a:pt x="708" y="458"/>
                          </a:lnTo>
                          <a:lnTo>
                            <a:pt x="704" y="458"/>
                          </a:lnTo>
                          <a:lnTo>
                            <a:pt x="699" y="458"/>
                          </a:lnTo>
                          <a:lnTo>
                            <a:pt x="695" y="458"/>
                          </a:lnTo>
                          <a:lnTo>
                            <a:pt x="692" y="458"/>
                          </a:lnTo>
                          <a:lnTo>
                            <a:pt x="687" y="458"/>
                          </a:lnTo>
                          <a:lnTo>
                            <a:pt x="682" y="458"/>
                          </a:lnTo>
                          <a:lnTo>
                            <a:pt x="678" y="458"/>
                          </a:lnTo>
                          <a:lnTo>
                            <a:pt x="673" y="458"/>
                          </a:lnTo>
                          <a:lnTo>
                            <a:pt x="669" y="458"/>
                          </a:lnTo>
                          <a:lnTo>
                            <a:pt x="664" y="458"/>
                          </a:lnTo>
                          <a:lnTo>
                            <a:pt x="659" y="458"/>
                          </a:lnTo>
                          <a:lnTo>
                            <a:pt x="655" y="458"/>
                          </a:lnTo>
                          <a:lnTo>
                            <a:pt x="650" y="458"/>
                          </a:lnTo>
                          <a:lnTo>
                            <a:pt x="647" y="458"/>
                          </a:lnTo>
                          <a:lnTo>
                            <a:pt x="641" y="458"/>
                          </a:lnTo>
                          <a:lnTo>
                            <a:pt x="638" y="460"/>
                          </a:lnTo>
                          <a:lnTo>
                            <a:pt x="633" y="460"/>
                          </a:lnTo>
                          <a:lnTo>
                            <a:pt x="629" y="460"/>
                          </a:lnTo>
                          <a:lnTo>
                            <a:pt x="623" y="460"/>
                          </a:lnTo>
                          <a:lnTo>
                            <a:pt x="620" y="460"/>
                          </a:lnTo>
                          <a:lnTo>
                            <a:pt x="614" y="460"/>
                          </a:lnTo>
                          <a:lnTo>
                            <a:pt x="611" y="460"/>
                          </a:lnTo>
                          <a:lnTo>
                            <a:pt x="604" y="460"/>
                          </a:lnTo>
                          <a:lnTo>
                            <a:pt x="601" y="461"/>
                          </a:lnTo>
                          <a:lnTo>
                            <a:pt x="597" y="461"/>
                          </a:lnTo>
                          <a:lnTo>
                            <a:pt x="592" y="461"/>
                          </a:lnTo>
                          <a:lnTo>
                            <a:pt x="588" y="461"/>
                          </a:lnTo>
                          <a:lnTo>
                            <a:pt x="583" y="461"/>
                          </a:lnTo>
                          <a:lnTo>
                            <a:pt x="577" y="461"/>
                          </a:lnTo>
                          <a:lnTo>
                            <a:pt x="574" y="461"/>
                          </a:lnTo>
                          <a:lnTo>
                            <a:pt x="569" y="461"/>
                          </a:lnTo>
                          <a:lnTo>
                            <a:pt x="565" y="461"/>
                          </a:lnTo>
                          <a:lnTo>
                            <a:pt x="560" y="461"/>
                          </a:lnTo>
                          <a:lnTo>
                            <a:pt x="555" y="461"/>
                          </a:lnTo>
                          <a:lnTo>
                            <a:pt x="551" y="461"/>
                          </a:lnTo>
                          <a:lnTo>
                            <a:pt x="546" y="461"/>
                          </a:lnTo>
                          <a:lnTo>
                            <a:pt x="542" y="461"/>
                          </a:lnTo>
                          <a:lnTo>
                            <a:pt x="537" y="461"/>
                          </a:lnTo>
                          <a:lnTo>
                            <a:pt x="533" y="461"/>
                          </a:lnTo>
                          <a:lnTo>
                            <a:pt x="528" y="462"/>
                          </a:lnTo>
                          <a:lnTo>
                            <a:pt x="523" y="461"/>
                          </a:lnTo>
                          <a:lnTo>
                            <a:pt x="519" y="461"/>
                          </a:lnTo>
                          <a:lnTo>
                            <a:pt x="513" y="461"/>
                          </a:lnTo>
                          <a:lnTo>
                            <a:pt x="508" y="461"/>
                          </a:lnTo>
                          <a:lnTo>
                            <a:pt x="502" y="461"/>
                          </a:lnTo>
                          <a:lnTo>
                            <a:pt x="496" y="460"/>
                          </a:lnTo>
                          <a:lnTo>
                            <a:pt x="491" y="460"/>
                          </a:lnTo>
                          <a:lnTo>
                            <a:pt x="485" y="460"/>
                          </a:lnTo>
                          <a:lnTo>
                            <a:pt x="490" y="458"/>
                          </a:lnTo>
                          <a:lnTo>
                            <a:pt x="496" y="458"/>
                          </a:lnTo>
                          <a:lnTo>
                            <a:pt x="499" y="458"/>
                          </a:lnTo>
                          <a:lnTo>
                            <a:pt x="502" y="458"/>
                          </a:lnTo>
                          <a:lnTo>
                            <a:pt x="507" y="458"/>
                          </a:lnTo>
                          <a:lnTo>
                            <a:pt x="513" y="458"/>
                          </a:lnTo>
                          <a:lnTo>
                            <a:pt x="516" y="458"/>
                          </a:lnTo>
                          <a:lnTo>
                            <a:pt x="520" y="458"/>
                          </a:lnTo>
                          <a:lnTo>
                            <a:pt x="526" y="458"/>
                          </a:lnTo>
                          <a:lnTo>
                            <a:pt x="531" y="458"/>
                          </a:lnTo>
                          <a:lnTo>
                            <a:pt x="537" y="458"/>
                          </a:lnTo>
                          <a:lnTo>
                            <a:pt x="543" y="458"/>
                          </a:lnTo>
                          <a:lnTo>
                            <a:pt x="548" y="458"/>
                          </a:lnTo>
                          <a:lnTo>
                            <a:pt x="554" y="458"/>
                          </a:lnTo>
                          <a:lnTo>
                            <a:pt x="559" y="458"/>
                          </a:lnTo>
                          <a:lnTo>
                            <a:pt x="565" y="458"/>
                          </a:lnTo>
                          <a:lnTo>
                            <a:pt x="569" y="458"/>
                          </a:lnTo>
                          <a:lnTo>
                            <a:pt x="574" y="458"/>
                          </a:lnTo>
                          <a:lnTo>
                            <a:pt x="580" y="458"/>
                          </a:lnTo>
                          <a:lnTo>
                            <a:pt x="585" y="458"/>
                          </a:lnTo>
                          <a:lnTo>
                            <a:pt x="589" y="458"/>
                          </a:lnTo>
                          <a:lnTo>
                            <a:pt x="594" y="458"/>
                          </a:lnTo>
                          <a:lnTo>
                            <a:pt x="598" y="458"/>
                          </a:lnTo>
                          <a:lnTo>
                            <a:pt x="601" y="457"/>
                          </a:lnTo>
                          <a:lnTo>
                            <a:pt x="604" y="457"/>
                          </a:lnTo>
                          <a:lnTo>
                            <a:pt x="607" y="455"/>
                          </a:lnTo>
                          <a:lnTo>
                            <a:pt x="614" y="454"/>
                          </a:lnTo>
                          <a:lnTo>
                            <a:pt x="617" y="453"/>
                          </a:lnTo>
                          <a:lnTo>
                            <a:pt x="615" y="453"/>
                          </a:lnTo>
                          <a:lnTo>
                            <a:pt x="612" y="451"/>
                          </a:lnTo>
                          <a:lnTo>
                            <a:pt x="607" y="451"/>
                          </a:lnTo>
                          <a:lnTo>
                            <a:pt x="603" y="451"/>
                          </a:lnTo>
                          <a:lnTo>
                            <a:pt x="600" y="451"/>
                          </a:lnTo>
                          <a:lnTo>
                            <a:pt x="597" y="451"/>
                          </a:lnTo>
                          <a:lnTo>
                            <a:pt x="594" y="451"/>
                          </a:lnTo>
                          <a:lnTo>
                            <a:pt x="591" y="451"/>
                          </a:lnTo>
                          <a:lnTo>
                            <a:pt x="588" y="451"/>
                          </a:lnTo>
                          <a:lnTo>
                            <a:pt x="583" y="451"/>
                          </a:lnTo>
                          <a:lnTo>
                            <a:pt x="580" y="451"/>
                          </a:lnTo>
                          <a:lnTo>
                            <a:pt x="577" y="451"/>
                          </a:lnTo>
                          <a:lnTo>
                            <a:pt x="571" y="451"/>
                          </a:lnTo>
                          <a:lnTo>
                            <a:pt x="568" y="451"/>
                          </a:lnTo>
                          <a:lnTo>
                            <a:pt x="563" y="451"/>
                          </a:lnTo>
                          <a:lnTo>
                            <a:pt x="559" y="451"/>
                          </a:lnTo>
                          <a:lnTo>
                            <a:pt x="554" y="451"/>
                          </a:lnTo>
                          <a:lnTo>
                            <a:pt x="549" y="451"/>
                          </a:lnTo>
                          <a:lnTo>
                            <a:pt x="543" y="451"/>
                          </a:lnTo>
                          <a:lnTo>
                            <a:pt x="540" y="451"/>
                          </a:lnTo>
                          <a:lnTo>
                            <a:pt x="534" y="451"/>
                          </a:lnTo>
                          <a:lnTo>
                            <a:pt x="529" y="451"/>
                          </a:lnTo>
                          <a:lnTo>
                            <a:pt x="523" y="451"/>
                          </a:lnTo>
                          <a:lnTo>
                            <a:pt x="519" y="451"/>
                          </a:lnTo>
                          <a:lnTo>
                            <a:pt x="513" y="451"/>
                          </a:lnTo>
                          <a:lnTo>
                            <a:pt x="508" y="451"/>
                          </a:lnTo>
                          <a:lnTo>
                            <a:pt x="502" y="451"/>
                          </a:lnTo>
                          <a:lnTo>
                            <a:pt x="497" y="451"/>
                          </a:lnTo>
                          <a:lnTo>
                            <a:pt x="491" y="451"/>
                          </a:lnTo>
                          <a:lnTo>
                            <a:pt x="487" y="451"/>
                          </a:lnTo>
                          <a:lnTo>
                            <a:pt x="481" y="451"/>
                          </a:lnTo>
                          <a:lnTo>
                            <a:pt x="474" y="451"/>
                          </a:lnTo>
                          <a:lnTo>
                            <a:pt x="470" y="451"/>
                          </a:lnTo>
                          <a:lnTo>
                            <a:pt x="464" y="451"/>
                          </a:lnTo>
                          <a:lnTo>
                            <a:pt x="459" y="451"/>
                          </a:lnTo>
                          <a:lnTo>
                            <a:pt x="455" y="451"/>
                          </a:lnTo>
                          <a:lnTo>
                            <a:pt x="448" y="451"/>
                          </a:lnTo>
                          <a:lnTo>
                            <a:pt x="444" y="451"/>
                          </a:lnTo>
                          <a:lnTo>
                            <a:pt x="438" y="451"/>
                          </a:lnTo>
                          <a:lnTo>
                            <a:pt x="433" y="453"/>
                          </a:lnTo>
                          <a:lnTo>
                            <a:pt x="429" y="453"/>
                          </a:lnTo>
                          <a:lnTo>
                            <a:pt x="424" y="453"/>
                          </a:lnTo>
                          <a:lnTo>
                            <a:pt x="419" y="453"/>
                          </a:lnTo>
                          <a:lnTo>
                            <a:pt x="416" y="453"/>
                          </a:lnTo>
                          <a:lnTo>
                            <a:pt x="410" y="453"/>
                          </a:lnTo>
                          <a:lnTo>
                            <a:pt x="407" y="453"/>
                          </a:lnTo>
                          <a:lnTo>
                            <a:pt x="403" y="453"/>
                          </a:lnTo>
                          <a:lnTo>
                            <a:pt x="399" y="453"/>
                          </a:lnTo>
                          <a:lnTo>
                            <a:pt x="395" y="453"/>
                          </a:lnTo>
                          <a:lnTo>
                            <a:pt x="392" y="454"/>
                          </a:lnTo>
                          <a:lnTo>
                            <a:pt x="389" y="454"/>
                          </a:lnTo>
                          <a:lnTo>
                            <a:pt x="386" y="454"/>
                          </a:lnTo>
                          <a:lnTo>
                            <a:pt x="380" y="454"/>
                          </a:lnTo>
                          <a:lnTo>
                            <a:pt x="375" y="454"/>
                          </a:lnTo>
                          <a:lnTo>
                            <a:pt x="372" y="455"/>
                          </a:lnTo>
                          <a:lnTo>
                            <a:pt x="369" y="455"/>
                          </a:lnTo>
                          <a:lnTo>
                            <a:pt x="375" y="454"/>
                          </a:lnTo>
                          <a:lnTo>
                            <a:pt x="380" y="453"/>
                          </a:lnTo>
                          <a:lnTo>
                            <a:pt x="386" y="451"/>
                          </a:lnTo>
                          <a:lnTo>
                            <a:pt x="390" y="451"/>
                          </a:lnTo>
                          <a:lnTo>
                            <a:pt x="395" y="450"/>
                          </a:lnTo>
                          <a:lnTo>
                            <a:pt x="399" y="450"/>
                          </a:lnTo>
                          <a:lnTo>
                            <a:pt x="406" y="449"/>
                          </a:lnTo>
                          <a:lnTo>
                            <a:pt x="410" y="449"/>
                          </a:lnTo>
                          <a:lnTo>
                            <a:pt x="415" y="449"/>
                          </a:lnTo>
                          <a:lnTo>
                            <a:pt x="419" y="449"/>
                          </a:lnTo>
                          <a:lnTo>
                            <a:pt x="424" y="447"/>
                          </a:lnTo>
                          <a:lnTo>
                            <a:pt x="429" y="447"/>
                          </a:lnTo>
                          <a:lnTo>
                            <a:pt x="433" y="447"/>
                          </a:lnTo>
                          <a:lnTo>
                            <a:pt x="438" y="447"/>
                          </a:lnTo>
                          <a:lnTo>
                            <a:pt x="441" y="447"/>
                          </a:lnTo>
                          <a:lnTo>
                            <a:pt x="447" y="447"/>
                          </a:lnTo>
                          <a:lnTo>
                            <a:pt x="450" y="446"/>
                          </a:lnTo>
                          <a:lnTo>
                            <a:pt x="455" y="446"/>
                          </a:lnTo>
                          <a:lnTo>
                            <a:pt x="459" y="446"/>
                          </a:lnTo>
                          <a:lnTo>
                            <a:pt x="464" y="446"/>
                          </a:lnTo>
                          <a:lnTo>
                            <a:pt x="468" y="446"/>
                          </a:lnTo>
                          <a:lnTo>
                            <a:pt x="473" y="446"/>
                          </a:lnTo>
                          <a:lnTo>
                            <a:pt x="477" y="446"/>
                          </a:lnTo>
                          <a:lnTo>
                            <a:pt x="482" y="446"/>
                          </a:lnTo>
                          <a:lnTo>
                            <a:pt x="487" y="446"/>
                          </a:lnTo>
                          <a:lnTo>
                            <a:pt x="491" y="446"/>
                          </a:lnTo>
                          <a:lnTo>
                            <a:pt x="496" y="446"/>
                          </a:lnTo>
                          <a:lnTo>
                            <a:pt x="502" y="446"/>
                          </a:lnTo>
                          <a:lnTo>
                            <a:pt x="507" y="444"/>
                          </a:lnTo>
                          <a:lnTo>
                            <a:pt x="511" y="444"/>
                          </a:lnTo>
                          <a:lnTo>
                            <a:pt x="517" y="444"/>
                          </a:lnTo>
                          <a:lnTo>
                            <a:pt x="523" y="444"/>
                          </a:lnTo>
                          <a:lnTo>
                            <a:pt x="528" y="443"/>
                          </a:lnTo>
                          <a:lnTo>
                            <a:pt x="533" y="443"/>
                          </a:lnTo>
                          <a:lnTo>
                            <a:pt x="539" y="443"/>
                          </a:lnTo>
                          <a:lnTo>
                            <a:pt x="543" y="443"/>
                          </a:lnTo>
                          <a:lnTo>
                            <a:pt x="549" y="442"/>
                          </a:lnTo>
                          <a:lnTo>
                            <a:pt x="554" y="442"/>
                          </a:lnTo>
                          <a:lnTo>
                            <a:pt x="559" y="442"/>
                          </a:lnTo>
                          <a:lnTo>
                            <a:pt x="565" y="442"/>
                          </a:lnTo>
                          <a:lnTo>
                            <a:pt x="569" y="442"/>
                          </a:lnTo>
                          <a:lnTo>
                            <a:pt x="574" y="442"/>
                          </a:lnTo>
                          <a:lnTo>
                            <a:pt x="580" y="442"/>
                          </a:lnTo>
                          <a:lnTo>
                            <a:pt x="585" y="442"/>
                          </a:lnTo>
                          <a:lnTo>
                            <a:pt x="591" y="442"/>
                          </a:lnTo>
                          <a:lnTo>
                            <a:pt x="595" y="442"/>
                          </a:lnTo>
                          <a:lnTo>
                            <a:pt x="600" y="442"/>
                          </a:lnTo>
                          <a:lnTo>
                            <a:pt x="606" y="442"/>
                          </a:lnTo>
                          <a:lnTo>
                            <a:pt x="611" y="440"/>
                          </a:lnTo>
                          <a:lnTo>
                            <a:pt x="615" y="440"/>
                          </a:lnTo>
                          <a:lnTo>
                            <a:pt x="621" y="440"/>
                          </a:lnTo>
                          <a:lnTo>
                            <a:pt x="626" y="440"/>
                          </a:lnTo>
                          <a:lnTo>
                            <a:pt x="632" y="439"/>
                          </a:lnTo>
                          <a:lnTo>
                            <a:pt x="637" y="439"/>
                          </a:lnTo>
                          <a:lnTo>
                            <a:pt x="641" y="439"/>
                          </a:lnTo>
                          <a:lnTo>
                            <a:pt x="647" y="439"/>
                          </a:lnTo>
                          <a:lnTo>
                            <a:pt x="652" y="439"/>
                          </a:lnTo>
                          <a:lnTo>
                            <a:pt x="656" y="439"/>
                          </a:lnTo>
                          <a:lnTo>
                            <a:pt x="663" y="438"/>
                          </a:lnTo>
                          <a:lnTo>
                            <a:pt x="667" y="438"/>
                          </a:lnTo>
                          <a:lnTo>
                            <a:pt x="673" y="438"/>
                          </a:lnTo>
                          <a:lnTo>
                            <a:pt x="678" y="438"/>
                          </a:lnTo>
                          <a:lnTo>
                            <a:pt x="682" y="438"/>
                          </a:lnTo>
                          <a:lnTo>
                            <a:pt x="689" y="438"/>
                          </a:lnTo>
                          <a:lnTo>
                            <a:pt x="693" y="436"/>
                          </a:lnTo>
                          <a:lnTo>
                            <a:pt x="698" y="436"/>
                          </a:lnTo>
                          <a:lnTo>
                            <a:pt x="702" y="436"/>
                          </a:lnTo>
                          <a:lnTo>
                            <a:pt x="708" y="436"/>
                          </a:lnTo>
                          <a:lnTo>
                            <a:pt x="713" y="435"/>
                          </a:lnTo>
                          <a:lnTo>
                            <a:pt x="718" y="435"/>
                          </a:lnTo>
                          <a:lnTo>
                            <a:pt x="724" y="435"/>
                          </a:lnTo>
                          <a:lnTo>
                            <a:pt x="728" y="435"/>
                          </a:lnTo>
                          <a:lnTo>
                            <a:pt x="733" y="435"/>
                          </a:lnTo>
                          <a:lnTo>
                            <a:pt x="739" y="433"/>
                          </a:lnTo>
                          <a:lnTo>
                            <a:pt x="744" y="433"/>
                          </a:lnTo>
                          <a:lnTo>
                            <a:pt x="750" y="433"/>
                          </a:lnTo>
                          <a:lnTo>
                            <a:pt x="754" y="433"/>
                          </a:lnTo>
                          <a:lnTo>
                            <a:pt x="759" y="433"/>
                          </a:lnTo>
                          <a:lnTo>
                            <a:pt x="764" y="433"/>
                          </a:lnTo>
                          <a:lnTo>
                            <a:pt x="770" y="433"/>
                          </a:lnTo>
                          <a:lnTo>
                            <a:pt x="774" y="432"/>
                          </a:lnTo>
                          <a:lnTo>
                            <a:pt x="780" y="432"/>
                          </a:lnTo>
                          <a:lnTo>
                            <a:pt x="783" y="432"/>
                          </a:lnTo>
                          <a:lnTo>
                            <a:pt x="790" y="432"/>
                          </a:lnTo>
                          <a:lnTo>
                            <a:pt x="794" y="431"/>
                          </a:lnTo>
                          <a:lnTo>
                            <a:pt x="800" y="431"/>
                          </a:lnTo>
                          <a:lnTo>
                            <a:pt x="805" y="431"/>
                          </a:lnTo>
                          <a:lnTo>
                            <a:pt x="811" y="431"/>
                          </a:lnTo>
                          <a:lnTo>
                            <a:pt x="816" y="431"/>
                          </a:lnTo>
                          <a:lnTo>
                            <a:pt x="820" y="431"/>
                          </a:lnTo>
                          <a:lnTo>
                            <a:pt x="825" y="431"/>
                          </a:lnTo>
                          <a:lnTo>
                            <a:pt x="831" y="431"/>
                          </a:lnTo>
                          <a:lnTo>
                            <a:pt x="835" y="431"/>
                          </a:lnTo>
                          <a:lnTo>
                            <a:pt x="842" y="431"/>
                          </a:lnTo>
                          <a:lnTo>
                            <a:pt x="846" y="431"/>
                          </a:lnTo>
                          <a:lnTo>
                            <a:pt x="852" y="431"/>
                          </a:lnTo>
                          <a:lnTo>
                            <a:pt x="855" y="429"/>
                          </a:lnTo>
                          <a:lnTo>
                            <a:pt x="860" y="429"/>
                          </a:lnTo>
                          <a:lnTo>
                            <a:pt x="863" y="428"/>
                          </a:lnTo>
                          <a:lnTo>
                            <a:pt x="866" y="428"/>
                          </a:lnTo>
                          <a:lnTo>
                            <a:pt x="871" y="428"/>
                          </a:lnTo>
                          <a:lnTo>
                            <a:pt x="874" y="427"/>
                          </a:lnTo>
                          <a:lnTo>
                            <a:pt x="878" y="427"/>
                          </a:lnTo>
                          <a:lnTo>
                            <a:pt x="883" y="427"/>
                          </a:lnTo>
                          <a:lnTo>
                            <a:pt x="877" y="425"/>
                          </a:lnTo>
                          <a:lnTo>
                            <a:pt x="871" y="424"/>
                          </a:lnTo>
                          <a:lnTo>
                            <a:pt x="866" y="424"/>
                          </a:lnTo>
                          <a:lnTo>
                            <a:pt x="860" y="424"/>
                          </a:lnTo>
                          <a:lnTo>
                            <a:pt x="855" y="424"/>
                          </a:lnTo>
                          <a:lnTo>
                            <a:pt x="849" y="422"/>
                          </a:lnTo>
                          <a:lnTo>
                            <a:pt x="843" y="422"/>
                          </a:lnTo>
                          <a:lnTo>
                            <a:pt x="838" y="422"/>
                          </a:lnTo>
                          <a:lnTo>
                            <a:pt x="831" y="422"/>
                          </a:lnTo>
                          <a:lnTo>
                            <a:pt x="826" y="422"/>
                          </a:lnTo>
                          <a:lnTo>
                            <a:pt x="820" y="421"/>
                          </a:lnTo>
                          <a:lnTo>
                            <a:pt x="814" y="421"/>
                          </a:lnTo>
                          <a:lnTo>
                            <a:pt x="808" y="421"/>
                          </a:lnTo>
                          <a:lnTo>
                            <a:pt x="802" y="421"/>
                          </a:lnTo>
                          <a:lnTo>
                            <a:pt x="796" y="421"/>
                          </a:lnTo>
                          <a:lnTo>
                            <a:pt x="790" y="421"/>
                          </a:lnTo>
                          <a:lnTo>
                            <a:pt x="783" y="421"/>
                          </a:lnTo>
                          <a:lnTo>
                            <a:pt x="777" y="421"/>
                          </a:lnTo>
                          <a:lnTo>
                            <a:pt x="770" y="421"/>
                          </a:lnTo>
                          <a:lnTo>
                            <a:pt x="764" y="421"/>
                          </a:lnTo>
                          <a:lnTo>
                            <a:pt x="757" y="421"/>
                          </a:lnTo>
                          <a:lnTo>
                            <a:pt x="751" y="421"/>
                          </a:lnTo>
                          <a:lnTo>
                            <a:pt x="745" y="421"/>
                          </a:lnTo>
                          <a:lnTo>
                            <a:pt x="739" y="421"/>
                          </a:lnTo>
                          <a:lnTo>
                            <a:pt x="731" y="421"/>
                          </a:lnTo>
                          <a:lnTo>
                            <a:pt x="725" y="421"/>
                          </a:lnTo>
                          <a:lnTo>
                            <a:pt x="718" y="421"/>
                          </a:lnTo>
                          <a:lnTo>
                            <a:pt x="711" y="421"/>
                          </a:lnTo>
                          <a:lnTo>
                            <a:pt x="705" y="421"/>
                          </a:lnTo>
                          <a:lnTo>
                            <a:pt x="699" y="421"/>
                          </a:lnTo>
                          <a:lnTo>
                            <a:pt x="693" y="421"/>
                          </a:lnTo>
                          <a:lnTo>
                            <a:pt x="687" y="422"/>
                          </a:lnTo>
                          <a:lnTo>
                            <a:pt x="679" y="422"/>
                          </a:lnTo>
                          <a:lnTo>
                            <a:pt x="673" y="422"/>
                          </a:lnTo>
                          <a:lnTo>
                            <a:pt x="667" y="422"/>
                          </a:lnTo>
                          <a:lnTo>
                            <a:pt x="659" y="422"/>
                          </a:lnTo>
                          <a:lnTo>
                            <a:pt x="653" y="422"/>
                          </a:lnTo>
                          <a:lnTo>
                            <a:pt x="647" y="422"/>
                          </a:lnTo>
                          <a:lnTo>
                            <a:pt x="640" y="422"/>
                          </a:lnTo>
                          <a:lnTo>
                            <a:pt x="633" y="422"/>
                          </a:lnTo>
                          <a:lnTo>
                            <a:pt x="627" y="422"/>
                          </a:lnTo>
                          <a:lnTo>
                            <a:pt x="621" y="422"/>
                          </a:lnTo>
                          <a:lnTo>
                            <a:pt x="615" y="422"/>
                          </a:lnTo>
                          <a:lnTo>
                            <a:pt x="607" y="424"/>
                          </a:lnTo>
                          <a:lnTo>
                            <a:pt x="601" y="424"/>
                          </a:lnTo>
                          <a:lnTo>
                            <a:pt x="595" y="424"/>
                          </a:lnTo>
                          <a:lnTo>
                            <a:pt x="589" y="424"/>
                          </a:lnTo>
                          <a:lnTo>
                            <a:pt x="585" y="424"/>
                          </a:lnTo>
                          <a:lnTo>
                            <a:pt x="577" y="424"/>
                          </a:lnTo>
                          <a:lnTo>
                            <a:pt x="571" y="424"/>
                          </a:lnTo>
                          <a:lnTo>
                            <a:pt x="565" y="424"/>
                          </a:lnTo>
                          <a:lnTo>
                            <a:pt x="560" y="424"/>
                          </a:lnTo>
                          <a:lnTo>
                            <a:pt x="554" y="424"/>
                          </a:lnTo>
                          <a:lnTo>
                            <a:pt x="548" y="424"/>
                          </a:lnTo>
                          <a:lnTo>
                            <a:pt x="543" y="424"/>
                          </a:lnTo>
                          <a:lnTo>
                            <a:pt x="537" y="425"/>
                          </a:lnTo>
                          <a:lnTo>
                            <a:pt x="531" y="425"/>
                          </a:lnTo>
                          <a:lnTo>
                            <a:pt x="526" y="425"/>
                          </a:lnTo>
                          <a:lnTo>
                            <a:pt x="520" y="425"/>
                          </a:lnTo>
                          <a:lnTo>
                            <a:pt x="516" y="425"/>
                          </a:lnTo>
                          <a:lnTo>
                            <a:pt x="510" y="425"/>
                          </a:lnTo>
                          <a:lnTo>
                            <a:pt x="505" y="425"/>
                          </a:lnTo>
                          <a:lnTo>
                            <a:pt x="500" y="425"/>
                          </a:lnTo>
                          <a:lnTo>
                            <a:pt x="496" y="427"/>
                          </a:lnTo>
                          <a:lnTo>
                            <a:pt x="491" y="427"/>
                          </a:lnTo>
                          <a:lnTo>
                            <a:pt x="488" y="427"/>
                          </a:lnTo>
                          <a:lnTo>
                            <a:pt x="485" y="427"/>
                          </a:lnTo>
                          <a:lnTo>
                            <a:pt x="482" y="427"/>
                          </a:lnTo>
                          <a:lnTo>
                            <a:pt x="477" y="427"/>
                          </a:lnTo>
                          <a:lnTo>
                            <a:pt x="474" y="427"/>
                          </a:lnTo>
                          <a:lnTo>
                            <a:pt x="470" y="427"/>
                          </a:lnTo>
                          <a:lnTo>
                            <a:pt x="467" y="427"/>
                          </a:lnTo>
                          <a:lnTo>
                            <a:pt x="462" y="427"/>
                          </a:lnTo>
                          <a:lnTo>
                            <a:pt x="458" y="427"/>
                          </a:lnTo>
                          <a:lnTo>
                            <a:pt x="455" y="427"/>
                          </a:lnTo>
                          <a:lnTo>
                            <a:pt x="450" y="427"/>
                          </a:lnTo>
                          <a:lnTo>
                            <a:pt x="447" y="427"/>
                          </a:lnTo>
                          <a:lnTo>
                            <a:pt x="442" y="427"/>
                          </a:lnTo>
                          <a:lnTo>
                            <a:pt x="439" y="427"/>
                          </a:lnTo>
                          <a:lnTo>
                            <a:pt x="435" y="427"/>
                          </a:lnTo>
                          <a:lnTo>
                            <a:pt x="430" y="427"/>
                          </a:lnTo>
                          <a:lnTo>
                            <a:pt x="427" y="427"/>
                          </a:lnTo>
                          <a:lnTo>
                            <a:pt x="422" y="427"/>
                          </a:lnTo>
                          <a:lnTo>
                            <a:pt x="419" y="427"/>
                          </a:lnTo>
                          <a:lnTo>
                            <a:pt x="415" y="427"/>
                          </a:lnTo>
                          <a:lnTo>
                            <a:pt x="410" y="427"/>
                          </a:lnTo>
                          <a:lnTo>
                            <a:pt x="407" y="427"/>
                          </a:lnTo>
                          <a:lnTo>
                            <a:pt x="403" y="427"/>
                          </a:lnTo>
                          <a:lnTo>
                            <a:pt x="398" y="427"/>
                          </a:lnTo>
                          <a:lnTo>
                            <a:pt x="395" y="427"/>
                          </a:lnTo>
                          <a:lnTo>
                            <a:pt x="390" y="427"/>
                          </a:lnTo>
                          <a:lnTo>
                            <a:pt x="387" y="427"/>
                          </a:lnTo>
                          <a:lnTo>
                            <a:pt x="383" y="427"/>
                          </a:lnTo>
                          <a:lnTo>
                            <a:pt x="380" y="427"/>
                          </a:lnTo>
                          <a:lnTo>
                            <a:pt x="375" y="427"/>
                          </a:lnTo>
                          <a:lnTo>
                            <a:pt x="372" y="427"/>
                          </a:lnTo>
                          <a:lnTo>
                            <a:pt x="410" y="414"/>
                          </a:lnTo>
                          <a:lnTo>
                            <a:pt x="713" y="407"/>
                          </a:lnTo>
                          <a:lnTo>
                            <a:pt x="759" y="401"/>
                          </a:lnTo>
                          <a:lnTo>
                            <a:pt x="750" y="401"/>
                          </a:lnTo>
                          <a:lnTo>
                            <a:pt x="742" y="401"/>
                          </a:lnTo>
                          <a:lnTo>
                            <a:pt x="733" y="401"/>
                          </a:lnTo>
                          <a:lnTo>
                            <a:pt x="725" y="402"/>
                          </a:lnTo>
                          <a:lnTo>
                            <a:pt x="716" y="402"/>
                          </a:lnTo>
                          <a:lnTo>
                            <a:pt x="708" y="402"/>
                          </a:lnTo>
                          <a:lnTo>
                            <a:pt x="699" y="402"/>
                          </a:lnTo>
                          <a:lnTo>
                            <a:pt x="692" y="402"/>
                          </a:lnTo>
                          <a:lnTo>
                            <a:pt x="682" y="402"/>
                          </a:lnTo>
                          <a:lnTo>
                            <a:pt x="675" y="402"/>
                          </a:lnTo>
                          <a:lnTo>
                            <a:pt x="666" y="402"/>
                          </a:lnTo>
                          <a:lnTo>
                            <a:pt x="658" y="402"/>
                          </a:lnTo>
                          <a:lnTo>
                            <a:pt x="649" y="402"/>
                          </a:lnTo>
                          <a:lnTo>
                            <a:pt x="641" y="402"/>
                          </a:lnTo>
                          <a:lnTo>
                            <a:pt x="633" y="402"/>
                          </a:lnTo>
                          <a:lnTo>
                            <a:pt x="624" y="402"/>
                          </a:lnTo>
                          <a:lnTo>
                            <a:pt x="615" y="402"/>
                          </a:lnTo>
                          <a:lnTo>
                            <a:pt x="607" y="402"/>
                          </a:lnTo>
                          <a:lnTo>
                            <a:pt x="598" y="402"/>
                          </a:lnTo>
                          <a:lnTo>
                            <a:pt x="591" y="402"/>
                          </a:lnTo>
                          <a:lnTo>
                            <a:pt x="581" y="402"/>
                          </a:lnTo>
                          <a:lnTo>
                            <a:pt x="574" y="402"/>
                          </a:lnTo>
                          <a:lnTo>
                            <a:pt x="565" y="402"/>
                          </a:lnTo>
                          <a:lnTo>
                            <a:pt x="557" y="402"/>
                          </a:lnTo>
                          <a:lnTo>
                            <a:pt x="548" y="402"/>
                          </a:lnTo>
                          <a:lnTo>
                            <a:pt x="539" y="402"/>
                          </a:lnTo>
                          <a:lnTo>
                            <a:pt x="529" y="402"/>
                          </a:lnTo>
                          <a:lnTo>
                            <a:pt x="522" y="402"/>
                          </a:lnTo>
                          <a:lnTo>
                            <a:pt x="513" y="402"/>
                          </a:lnTo>
                          <a:lnTo>
                            <a:pt x="505" y="402"/>
                          </a:lnTo>
                          <a:lnTo>
                            <a:pt x="496" y="402"/>
                          </a:lnTo>
                          <a:lnTo>
                            <a:pt x="488" y="402"/>
                          </a:lnTo>
                          <a:lnTo>
                            <a:pt x="479" y="401"/>
                          </a:lnTo>
                          <a:lnTo>
                            <a:pt x="471" y="401"/>
                          </a:lnTo>
                          <a:lnTo>
                            <a:pt x="462" y="401"/>
                          </a:lnTo>
                          <a:lnTo>
                            <a:pt x="455" y="401"/>
                          </a:lnTo>
                          <a:lnTo>
                            <a:pt x="444" y="399"/>
                          </a:lnTo>
                          <a:lnTo>
                            <a:pt x="436" y="399"/>
                          </a:lnTo>
                          <a:lnTo>
                            <a:pt x="427" y="399"/>
                          </a:lnTo>
                          <a:lnTo>
                            <a:pt x="419" y="399"/>
                          </a:lnTo>
                          <a:lnTo>
                            <a:pt x="410" y="399"/>
                          </a:lnTo>
                          <a:lnTo>
                            <a:pt x="403" y="399"/>
                          </a:lnTo>
                          <a:lnTo>
                            <a:pt x="393" y="399"/>
                          </a:lnTo>
                          <a:lnTo>
                            <a:pt x="386" y="399"/>
                          </a:lnTo>
                          <a:lnTo>
                            <a:pt x="377" y="399"/>
                          </a:lnTo>
                          <a:lnTo>
                            <a:pt x="369" y="399"/>
                          </a:lnTo>
                          <a:lnTo>
                            <a:pt x="360" y="399"/>
                          </a:lnTo>
                          <a:lnTo>
                            <a:pt x="352" y="399"/>
                          </a:lnTo>
                          <a:lnTo>
                            <a:pt x="343" y="398"/>
                          </a:lnTo>
                          <a:lnTo>
                            <a:pt x="335" y="398"/>
                          </a:lnTo>
                          <a:lnTo>
                            <a:pt x="326" y="396"/>
                          </a:lnTo>
                          <a:lnTo>
                            <a:pt x="318" y="396"/>
                          </a:lnTo>
                          <a:lnTo>
                            <a:pt x="309" y="396"/>
                          </a:lnTo>
                          <a:lnTo>
                            <a:pt x="302" y="396"/>
                          </a:lnTo>
                          <a:lnTo>
                            <a:pt x="294" y="396"/>
                          </a:lnTo>
                          <a:lnTo>
                            <a:pt x="285" y="396"/>
                          </a:lnTo>
                          <a:lnTo>
                            <a:pt x="276" y="396"/>
                          </a:lnTo>
                          <a:lnTo>
                            <a:pt x="268" y="395"/>
                          </a:lnTo>
                          <a:lnTo>
                            <a:pt x="260" y="395"/>
                          </a:lnTo>
                          <a:lnTo>
                            <a:pt x="253" y="395"/>
                          </a:lnTo>
                          <a:lnTo>
                            <a:pt x="245" y="394"/>
                          </a:lnTo>
                          <a:lnTo>
                            <a:pt x="236" y="394"/>
                          </a:lnTo>
                          <a:lnTo>
                            <a:pt x="228" y="394"/>
                          </a:lnTo>
                          <a:lnTo>
                            <a:pt x="220" y="394"/>
                          </a:lnTo>
                          <a:lnTo>
                            <a:pt x="228" y="390"/>
                          </a:lnTo>
                          <a:lnTo>
                            <a:pt x="234" y="384"/>
                          </a:lnTo>
                          <a:lnTo>
                            <a:pt x="242" y="379"/>
                          </a:lnTo>
                          <a:lnTo>
                            <a:pt x="250" y="374"/>
                          </a:lnTo>
                          <a:lnTo>
                            <a:pt x="257" y="369"/>
                          </a:lnTo>
                          <a:lnTo>
                            <a:pt x="265" y="365"/>
                          </a:lnTo>
                          <a:lnTo>
                            <a:pt x="272" y="359"/>
                          </a:lnTo>
                          <a:lnTo>
                            <a:pt x="280" y="355"/>
                          </a:lnTo>
                          <a:lnTo>
                            <a:pt x="288" y="350"/>
                          </a:lnTo>
                          <a:lnTo>
                            <a:pt x="295" y="344"/>
                          </a:lnTo>
                          <a:lnTo>
                            <a:pt x="303" y="340"/>
                          </a:lnTo>
                          <a:lnTo>
                            <a:pt x="311" y="335"/>
                          </a:lnTo>
                          <a:lnTo>
                            <a:pt x="317" y="331"/>
                          </a:lnTo>
                          <a:lnTo>
                            <a:pt x="324" y="325"/>
                          </a:lnTo>
                          <a:lnTo>
                            <a:pt x="332" y="321"/>
                          </a:lnTo>
                          <a:lnTo>
                            <a:pt x="340" y="315"/>
                          </a:lnTo>
                          <a:lnTo>
                            <a:pt x="347" y="311"/>
                          </a:lnTo>
                          <a:lnTo>
                            <a:pt x="355" y="306"/>
                          </a:lnTo>
                          <a:lnTo>
                            <a:pt x="363" y="300"/>
                          </a:lnTo>
                          <a:lnTo>
                            <a:pt x="370" y="296"/>
                          </a:lnTo>
                          <a:lnTo>
                            <a:pt x="378" y="291"/>
                          </a:lnTo>
                          <a:lnTo>
                            <a:pt x="386" y="287"/>
                          </a:lnTo>
                          <a:lnTo>
                            <a:pt x="393" y="281"/>
                          </a:lnTo>
                          <a:lnTo>
                            <a:pt x="401" y="277"/>
                          </a:lnTo>
                          <a:lnTo>
                            <a:pt x="409" y="273"/>
                          </a:lnTo>
                          <a:lnTo>
                            <a:pt x="416" y="267"/>
                          </a:lnTo>
                          <a:lnTo>
                            <a:pt x="424" y="262"/>
                          </a:lnTo>
                          <a:lnTo>
                            <a:pt x="432" y="258"/>
                          </a:lnTo>
                          <a:lnTo>
                            <a:pt x="439" y="252"/>
                          </a:lnTo>
                          <a:lnTo>
                            <a:pt x="447" y="248"/>
                          </a:lnTo>
                          <a:lnTo>
                            <a:pt x="455" y="243"/>
                          </a:lnTo>
                          <a:lnTo>
                            <a:pt x="462" y="239"/>
                          </a:lnTo>
                          <a:lnTo>
                            <a:pt x="470" y="233"/>
                          </a:lnTo>
                          <a:lnTo>
                            <a:pt x="477" y="229"/>
                          </a:lnTo>
                          <a:lnTo>
                            <a:pt x="485" y="223"/>
                          </a:lnTo>
                          <a:lnTo>
                            <a:pt x="491" y="219"/>
                          </a:lnTo>
                          <a:lnTo>
                            <a:pt x="499" y="214"/>
                          </a:lnTo>
                          <a:lnTo>
                            <a:pt x="507" y="210"/>
                          </a:lnTo>
                          <a:lnTo>
                            <a:pt x="514" y="204"/>
                          </a:lnTo>
                          <a:lnTo>
                            <a:pt x="522" y="200"/>
                          </a:lnTo>
                          <a:lnTo>
                            <a:pt x="529" y="195"/>
                          </a:lnTo>
                          <a:lnTo>
                            <a:pt x="537" y="189"/>
                          </a:lnTo>
                          <a:lnTo>
                            <a:pt x="545" y="185"/>
                          </a:lnTo>
                          <a:lnTo>
                            <a:pt x="552" y="181"/>
                          </a:lnTo>
                          <a:lnTo>
                            <a:pt x="560" y="175"/>
                          </a:lnTo>
                          <a:lnTo>
                            <a:pt x="568" y="170"/>
                          </a:lnTo>
                          <a:lnTo>
                            <a:pt x="575" y="166"/>
                          </a:lnTo>
                          <a:lnTo>
                            <a:pt x="583" y="162"/>
                          </a:lnTo>
                          <a:lnTo>
                            <a:pt x="591" y="156"/>
                          </a:lnTo>
                          <a:lnTo>
                            <a:pt x="598" y="151"/>
                          </a:lnTo>
                          <a:lnTo>
                            <a:pt x="606" y="147"/>
                          </a:lnTo>
                          <a:lnTo>
                            <a:pt x="614" y="142"/>
                          </a:lnTo>
                          <a:lnTo>
                            <a:pt x="621" y="137"/>
                          </a:lnTo>
                          <a:lnTo>
                            <a:pt x="629" y="133"/>
                          </a:lnTo>
                          <a:lnTo>
                            <a:pt x="637" y="127"/>
                          </a:lnTo>
                          <a:lnTo>
                            <a:pt x="644" y="123"/>
                          </a:lnTo>
                          <a:lnTo>
                            <a:pt x="652" y="118"/>
                          </a:lnTo>
                          <a:lnTo>
                            <a:pt x="659" y="114"/>
                          </a:lnTo>
                          <a:lnTo>
                            <a:pt x="667" y="108"/>
                          </a:lnTo>
                          <a:lnTo>
                            <a:pt x="675" y="104"/>
                          </a:lnTo>
                          <a:lnTo>
                            <a:pt x="682" y="99"/>
                          </a:lnTo>
                          <a:lnTo>
                            <a:pt x="690" y="94"/>
                          </a:lnTo>
                          <a:lnTo>
                            <a:pt x="698" y="90"/>
                          </a:lnTo>
                          <a:lnTo>
                            <a:pt x="705" y="86"/>
                          </a:lnTo>
                          <a:lnTo>
                            <a:pt x="713" y="90"/>
                          </a:lnTo>
                          <a:lnTo>
                            <a:pt x="722" y="96"/>
                          </a:lnTo>
                          <a:lnTo>
                            <a:pt x="730" y="101"/>
                          </a:lnTo>
                          <a:lnTo>
                            <a:pt x="739" y="107"/>
                          </a:lnTo>
                          <a:lnTo>
                            <a:pt x="747" y="112"/>
                          </a:lnTo>
                          <a:lnTo>
                            <a:pt x="754" y="118"/>
                          </a:lnTo>
                          <a:lnTo>
                            <a:pt x="762" y="122"/>
                          </a:lnTo>
                          <a:lnTo>
                            <a:pt x="770" y="127"/>
                          </a:lnTo>
                          <a:lnTo>
                            <a:pt x="777" y="131"/>
                          </a:lnTo>
                          <a:lnTo>
                            <a:pt x="783" y="136"/>
                          </a:lnTo>
                          <a:lnTo>
                            <a:pt x="791" y="140"/>
                          </a:lnTo>
                          <a:lnTo>
                            <a:pt x="799" y="145"/>
                          </a:lnTo>
                          <a:lnTo>
                            <a:pt x="805" y="149"/>
                          </a:lnTo>
                          <a:lnTo>
                            <a:pt x="811" y="153"/>
                          </a:lnTo>
                          <a:lnTo>
                            <a:pt x="819" y="158"/>
                          </a:lnTo>
                          <a:lnTo>
                            <a:pt x="825" y="162"/>
                          </a:lnTo>
                          <a:lnTo>
                            <a:pt x="831" y="166"/>
                          </a:lnTo>
                          <a:lnTo>
                            <a:pt x="837" y="170"/>
                          </a:lnTo>
                          <a:lnTo>
                            <a:pt x="843" y="173"/>
                          </a:lnTo>
                          <a:lnTo>
                            <a:pt x="849" y="177"/>
                          </a:lnTo>
                          <a:lnTo>
                            <a:pt x="855" y="181"/>
                          </a:lnTo>
                          <a:lnTo>
                            <a:pt x="861" y="185"/>
                          </a:lnTo>
                          <a:lnTo>
                            <a:pt x="868" y="188"/>
                          </a:lnTo>
                          <a:lnTo>
                            <a:pt x="874" y="192"/>
                          </a:lnTo>
                          <a:lnTo>
                            <a:pt x="880" y="196"/>
                          </a:lnTo>
                          <a:lnTo>
                            <a:pt x="886" y="199"/>
                          </a:lnTo>
                          <a:lnTo>
                            <a:pt x="890" y="203"/>
                          </a:lnTo>
                          <a:lnTo>
                            <a:pt x="897" y="207"/>
                          </a:lnTo>
                          <a:lnTo>
                            <a:pt x="903" y="210"/>
                          </a:lnTo>
                          <a:lnTo>
                            <a:pt x="909" y="214"/>
                          </a:lnTo>
                          <a:lnTo>
                            <a:pt x="915" y="217"/>
                          </a:lnTo>
                          <a:lnTo>
                            <a:pt x="921" y="221"/>
                          </a:lnTo>
                          <a:lnTo>
                            <a:pt x="927" y="225"/>
                          </a:lnTo>
                          <a:lnTo>
                            <a:pt x="932" y="228"/>
                          </a:lnTo>
                          <a:lnTo>
                            <a:pt x="938" y="232"/>
                          </a:lnTo>
                          <a:lnTo>
                            <a:pt x="944" y="234"/>
                          </a:lnTo>
                          <a:lnTo>
                            <a:pt x="949" y="239"/>
                          </a:lnTo>
                          <a:lnTo>
                            <a:pt x="955" y="241"/>
                          </a:lnTo>
                          <a:lnTo>
                            <a:pt x="961" y="245"/>
                          </a:lnTo>
                          <a:lnTo>
                            <a:pt x="967" y="250"/>
                          </a:lnTo>
                          <a:lnTo>
                            <a:pt x="973" y="252"/>
                          </a:lnTo>
                          <a:lnTo>
                            <a:pt x="979" y="256"/>
                          </a:lnTo>
                          <a:lnTo>
                            <a:pt x="985" y="261"/>
                          </a:lnTo>
                          <a:lnTo>
                            <a:pt x="991" y="263"/>
                          </a:lnTo>
                          <a:lnTo>
                            <a:pt x="998" y="267"/>
                          </a:lnTo>
                          <a:lnTo>
                            <a:pt x="1004" y="271"/>
                          </a:lnTo>
                          <a:lnTo>
                            <a:pt x="1010" y="276"/>
                          </a:lnTo>
                          <a:lnTo>
                            <a:pt x="1017" y="280"/>
                          </a:lnTo>
                          <a:lnTo>
                            <a:pt x="1024" y="282"/>
                          </a:lnTo>
                          <a:lnTo>
                            <a:pt x="1031" y="288"/>
                          </a:lnTo>
                          <a:lnTo>
                            <a:pt x="1037" y="291"/>
                          </a:lnTo>
                          <a:lnTo>
                            <a:pt x="1045" y="296"/>
                          </a:lnTo>
                          <a:lnTo>
                            <a:pt x="1053" y="300"/>
                          </a:lnTo>
                          <a:lnTo>
                            <a:pt x="1060" y="304"/>
                          </a:lnTo>
                          <a:lnTo>
                            <a:pt x="1068" y="309"/>
                          </a:lnTo>
                          <a:lnTo>
                            <a:pt x="1076" y="314"/>
                          </a:lnTo>
                          <a:lnTo>
                            <a:pt x="1083" y="318"/>
                          </a:lnTo>
                          <a:lnTo>
                            <a:pt x="1092" y="322"/>
                          </a:lnTo>
                          <a:lnTo>
                            <a:pt x="1100" y="328"/>
                          </a:lnTo>
                          <a:lnTo>
                            <a:pt x="1109" y="333"/>
                          </a:lnTo>
                          <a:lnTo>
                            <a:pt x="1117" y="339"/>
                          </a:lnTo>
                          <a:lnTo>
                            <a:pt x="1126" y="344"/>
                          </a:lnTo>
                          <a:lnTo>
                            <a:pt x="1135" y="350"/>
                          </a:lnTo>
                          <a:lnTo>
                            <a:pt x="1144" y="355"/>
                          </a:lnTo>
                          <a:lnTo>
                            <a:pt x="1140" y="355"/>
                          </a:lnTo>
                          <a:lnTo>
                            <a:pt x="1134" y="355"/>
                          </a:lnTo>
                          <a:lnTo>
                            <a:pt x="1129" y="355"/>
                          </a:lnTo>
                          <a:lnTo>
                            <a:pt x="1123" y="355"/>
                          </a:lnTo>
                          <a:lnTo>
                            <a:pt x="1118" y="355"/>
                          </a:lnTo>
                          <a:lnTo>
                            <a:pt x="1112" y="355"/>
                          </a:lnTo>
                          <a:lnTo>
                            <a:pt x="1106" y="355"/>
                          </a:lnTo>
                          <a:lnTo>
                            <a:pt x="1102" y="357"/>
                          </a:lnTo>
                          <a:lnTo>
                            <a:pt x="1095" y="357"/>
                          </a:lnTo>
                          <a:lnTo>
                            <a:pt x="1089" y="357"/>
                          </a:lnTo>
                          <a:lnTo>
                            <a:pt x="1083" y="357"/>
                          </a:lnTo>
                          <a:lnTo>
                            <a:pt x="1077" y="357"/>
                          </a:lnTo>
                          <a:lnTo>
                            <a:pt x="1071" y="357"/>
                          </a:lnTo>
                          <a:lnTo>
                            <a:pt x="1065" y="357"/>
                          </a:lnTo>
                          <a:lnTo>
                            <a:pt x="1057" y="357"/>
                          </a:lnTo>
                          <a:lnTo>
                            <a:pt x="1053" y="357"/>
                          </a:lnTo>
                          <a:lnTo>
                            <a:pt x="1045" y="357"/>
                          </a:lnTo>
                          <a:lnTo>
                            <a:pt x="1039" y="357"/>
                          </a:lnTo>
                          <a:lnTo>
                            <a:pt x="1033" y="357"/>
                          </a:lnTo>
                          <a:lnTo>
                            <a:pt x="1027" y="357"/>
                          </a:lnTo>
                          <a:lnTo>
                            <a:pt x="1019" y="357"/>
                          </a:lnTo>
                          <a:lnTo>
                            <a:pt x="1013" y="357"/>
                          </a:lnTo>
                          <a:lnTo>
                            <a:pt x="1007" y="357"/>
                          </a:lnTo>
                          <a:lnTo>
                            <a:pt x="1001" y="357"/>
                          </a:lnTo>
                          <a:lnTo>
                            <a:pt x="993" y="357"/>
                          </a:lnTo>
                          <a:lnTo>
                            <a:pt x="987" y="357"/>
                          </a:lnTo>
                          <a:lnTo>
                            <a:pt x="979" y="357"/>
                          </a:lnTo>
                          <a:lnTo>
                            <a:pt x="972" y="357"/>
                          </a:lnTo>
                          <a:lnTo>
                            <a:pt x="965" y="357"/>
                          </a:lnTo>
                          <a:lnTo>
                            <a:pt x="958" y="357"/>
                          </a:lnTo>
                          <a:lnTo>
                            <a:pt x="952" y="357"/>
                          </a:lnTo>
                          <a:lnTo>
                            <a:pt x="946" y="358"/>
                          </a:lnTo>
                          <a:lnTo>
                            <a:pt x="938" y="358"/>
                          </a:lnTo>
                          <a:lnTo>
                            <a:pt x="932" y="358"/>
                          </a:lnTo>
                          <a:lnTo>
                            <a:pt x="924" y="358"/>
                          </a:lnTo>
                          <a:lnTo>
                            <a:pt x="918" y="358"/>
                          </a:lnTo>
                          <a:lnTo>
                            <a:pt x="910" y="358"/>
                          </a:lnTo>
                          <a:lnTo>
                            <a:pt x="904" y="358"/>
                          </a:lnTo>
                          <a:lnTo>
                            <a:pt x="897" y="358"/>
                          </a:lnTo>
                          <a:lnTo>
                            <a:pt x="890" y="359"/>
                          </a:lnTo>
                          <a:lnTo>
                            <a:pt x="884" y="359"/>
                          </a:lnTo>
                          <a:lnTo>
                            <a:pt x="878" y="359"/>
                          </a:lnTo>
                          <a:lnTo>
                            <a:pt x="871" y="359"/>
                          </a:lnTo>
                          <a:lnTo>
                            <a:pt x="864" y="359"/>
                          </a:lnTo>
                          <a:lnTo>
                            <a:pt x="858" y="359"/>
                          </a:lnTo>
                          <a:lnTo>
                            <a:pt x="852" y="361"/>
                          </a:lnTo>
                          <a:lnTo>
                            <a:pt x="846" y="361"/>
                          </a:lnTo>
                          <a:lnTo>
                            <a:pt x="842" y="362"/>
                          </a:lnTo>
                          <a:lnTo>
                            <a:pt x="835" y="362"/>
                          </a:lnTo>
                          <a:lnTo>
                            <a:pt x="828" y="362"/>
                          </a:lnTo>
                          <a:lnTo>
                            <a:pt x="823" y="362"/>
                          </a:lnTo>
                          <a:lnTo>
                            <a:pt x="817" y="363"/>
                          </a:lnTo>
                          <a:lnTo>
                            <a:pt x="811" y="363"/>
                          </a:lnTo>
                          <a:lnTo>
                            <a:pt x="805" y="365"/>
                          </a:lnTo>
                          <a:lnTo>
                            <a:pt x="800" y="365"/>
                          </a:lnTo>
                          <a:lnTo>
                            <a:pt x="796" y="366"/>
                          </a:lnTo>
                          <a:lnTo>
                            <a:pt x="790" y="366"/>
                          </a:lnTo>
                          <a:lnTo>
                            <a:pt x="785" y="368"/>
                          </a:lnTo>
                          <a:lnTo>
                            <a:pt x="780" y="369"/>
                          </a:lnTo>
                          <a:lnTo>
                            <a:pt x="776" y="369"/>
                          </a:lnTo>
                          <a:lnTo>
                            <a:pt x="770" y="370"/>
                          </a:lnTo>
                          <a:lnTo>
                            <a:pt x="767" y="372"/>
                          </a:lnTo>
                          <a:lnTo>
                            <a:pt x="762" y="372"/>
                          </a:lnTo>
                          <a:lnTo>
                            <a:pt x="759" y="374"/>
                          </a:lnTo>
                          <a:lnTo>
                            <a:pt x="1054" y="368"/>
                          </a:lnTo>
                          <a:lnTo>
                            <a:pt x="872" y="399"/>
                          </a:lnTo>
                          <a:lnTo>
                            <a:pt x="874" y="399"/>
                          </a:lnTo>
                          <a:lnTo>
                            <a:pt x="877" y="399"/>
                          </a:lnTo>
                          <a:lnTo>
                            <a:pt x="880" y="399"/>
                          </a:lnTo>
                          <a:lnTo>
                            <a:pt x="884" y="399"/>
                          </a:lnTo>
                          <a:lnTo>
                            <a:pt x="890" y="399"/>
                          </a:lnTo>
                          <a:lnTo>
                            <a:pt x="892" y="399"/>
                          </a:lnTo>
                          <a:lnTo>
                            <a:pt x="895" y="399"/>
                          </a:lnTo>
                          <a:lnTo>
                            <a:pt x="900" y="399"/>
                          </a:lnTo>
                          <a:lnTo>
                            <a:pt x="903" y="399"/>
                          </a:lnTo>
                          <a:lnTo>
                            <a:pt x="906" y="399"/>
                          </a:lnTo>
                          <a:lnTo>
                            <a:pt x="910" y="399"/>
                          </a:lnTo>
                          <a:lnTo>
                            <a:pt x="913" y="399"/>
                          </a:lnTo>
                          <a:lnTo>
                            <a:pt x="918" y="399"/>
                          </a:lnTo>
                          <a:lnTo>
                            <a:pt x="921" y="399"/>
                          </a:lnTo>
                          <a:lnTo>
                            <a:pt x="926" y="399"/>
                          </a:lnTo>
                          <a:lnTo>
                            <a:pt x="930" y="399"/>
                          </a:lnTo>
                          <a:lnTo>
                            <a:pt x="935" y="399"/>
                          </a:lnTo>
                          <a:lnTo>
                            <a:pt x="938" y="399"/>
                          </a:lnTo>
                          <a:lnTo>
                            <a:pt x="944" y="399"/>
                          </a:lnTo>
                          <a:lnTo>
                            <a:pt x="949" y="399"/>
                          </a:lnTo>
                          <a:lnTo>
                            <a:pt x="953" y="399"/>
                          </a:lnTo>
                          <a:lnTo>
                            <a:pt x="958" y="399"/>
                          </a:lnTo>
                          <a:lnTo>
                            <a:pt x="962" y="399"/>
                          </a:lnTo>
                          <a:lnTo>
                            <a:pt x="967" y="399"/>
                          </a:lnTo>
                          <a:lnTo>
                            <a:pt x="972" y="399"/>
                          </a:lnTo>
                          <a:lnTo>
                            <a:pt x="976" y="399"/>
                          </a:lnTo>
                          <a:lnTo>
                            <a:pt x="981" y="399"/>
                          </a:lnTo>
                          <a:lnTo>
                            <a:pt x="985" y="399"/>
                          </a:lnTo>
                          <a:lnTo>
                            <a:pt x="990" y="399"/>
                          </a:lnTo>
                          <a:lnTo>
                            <a:pt x="994" y="399"/>
                          </a:lnTo>
                          <a:lnTo>
                            <a:pt x="999" y="399"/>
                          </a:lnTo>
                          <a:lnTo>
                            <a:pt x="1004" y="399"/>
                          </a:lnTo>
                          <a:lnTo>
                            <a:pt x="1008" y="399"/>
                          </a:lnTo>
                          <a:lnTo>
                            <a:pt x="1011" y="399"/>
                          </a:lnTo>
                          <a:lnTo>
                            <a:pt x="1016" y="399"/>
                          </a:lnTo>
                          <a:lnTo>
                            <a:pt x="1020" y="399"/>
                          </a:lnTo>
                          <a:lnTo>
                            <a:pt x="1025" y="399"/>
                          </a:lnTo>
                          <a:lnTo>
                            <a:pt x="1028" y="399"/>
                          </a:lnTo>
                          <a:lnTo>
                            <a:pt x="1033" y="399"/>
                          </a:lnTo>
                          <a:lnTo>
                            <a:pt x="1036" y="399"/>
                          </a:lnTo>
                          <a:lnTo>
                            <a:pt x="1040" y="399"/>
                          </a:lnTo>
                          <a:lnTo>
                            <a:pt x="1046" y="399"/>
                          </a:lnTo>
                          <a:lnTo>
                            <a:pt x="1053" y="399"/>
                          </a:lnTo>
                          <a:lnTo>
                            <a:pt x="1057" y="399"/>
                          </a:lnTo>
                          <a:lnTo>
                            <a:pt x="1063" y="399"/>
                          </a:lnTo>
                          <a:lnTo>
                            <a:pt x="1066" y="399"/>
                          </a:lnTo>
                          <a:lnTo>
                            <a:pt x="1069" y="399"/>
                          </a:lnTo>
                          <a:lnTo>
                            <a:pt x="1071" y="399"/>
                          </a:lnTo>
                          <a:lnTo>
                            <a:pt x="1068" y="401"/>
                          </a:lnTo>
                          <a:lnTo>
                            <a:pt x="1063" y="402"/>
                          </a:lnTo>
                          <a:lnTo>
                            <a:pt x="1060" y="403"/>
                          </a:lnTo>
                          <a:lnTo>
                            <a:pt x="1056" y="406"/>
                          </a:lnTo>
                          <a:lnTo>
                            <a:pt x="1050" y="406"/>
                          </a:lnTo>
                          <a:lnTo>
                            <a:pt x="1043" y="406"/>
                          </a:lnTo>
                          <a:lnTo>
                            <a:pt x="1037" y="407"/>
                          </a:lnTo>
                          <a:lnTo>
                            <a:pt x="1031" y="409"/>
                          </a:lnTo>
                          <a:lnTo>
                            <a:pt x="1024" y="409"/>
                          </a:lnTo>
                          <a:lnTo>
                            <a:pt x="1017" y="409"/>
                          </a:lnTo>
                          <a:lnTo>
                            <a:pt x="1011" y="410"/>
                          </a:lnTo>
                          <a:lnTo>
                            <a:pt x="1005" y="412"/>
                          </a:lnTo>
                          <a:lnTo>
                            <a:pt x="999" y="412"/>
                          </a:lnTo>
                          <a:lnTo>
                            <a:pt x="993" y="412"/>
                          </a:lnTo>
                          <a:lnTo>
                            <a:pt x="987" y="412"/>
                          </a:lnTo>
                          <a:lnTo>
                            <a:pt x="979" y="413"/>
                          </a:lnTo>
                          <a:lnTo>
                            <a:pt x="973" y="414"/>
                          </a:lnTo>
                          <a:lnTo>
                            <a:pt x="967" y="414"/>
                          </a:lnTo>
                          <a:lnTo>
                            <a:pt x="961" y="416"/>
                          </a:lnTo>
                          <a:lnTo>
                            <a:pt x="955" y="417"/>
                          </a:lnTo>
                          <a:lnTo>
                            <a:pt x="953" y="418"/>
                          </a:lnTo>
                          <a:lnTo>
                            <a:pt x="952" y="420"/>
                          </a:lnTo>
                          <a:lnTo>
                            <a:pt x="947" y="421"/>
                          </a:lnTo>
                          <a:lnTo>
                            <a:pt x="944" y="424"/>
                          </a:lnTo>
                          <a:lnTo>
                            <a:pt x="938" y="424"/>
                          </a:lnTo>
                          <a:lnTo>
                            <a:pt x="932" y="427"/>
                          </a:lnTo>
                          <a:lnTo>
                            <a:pt x="926" y="427"/>
                          </a:lnTo>
                          <a:lnTo>
                            <a:pt x="920" y="429"/>
                          </a:lnTo>
                          <a:lnTo>
                            <a:pt x="915" y="429"/>
                          </a:lnTo>
                          <a:lnTo>
                            <a:pt x="910" y="429"/>
                          </a:lnTo>
                          <a:lnTo>
                            <a:pt x="907" y="429"/>
                          </a:lnTo>
                          <a:lnTo>
                            <a:pt x="903" y="431"/>
                          </a:lnTo>
                          <a:lnTo>
                            <a:pt x="898" y="432"/>
                          </a:lnTo>
                          <a:lnTo>
                            <a:pt x="894" y="432"/>
                          </a:lnTo>
                          <a:lnTo>
                            <a:pt x="890" y="433"/>
                          </a:lnTo>
                          <a:lnTo>
                            <a:pt x="886" y="433"/>
                          </a:lnTo>
                          <a:lnTo>
                            <a:pt x="881" y="433"/>
                          </a:lnTo>
                          <a:lnTo>
                            <a:pt x="877" y="435"/>
                          </a:lnTo>
                          <a:lnTo>
                            <a:pt x="872" y="435"/>
                          </a:lnTo>
                          <a:lnTo>
                            <a:pt x="868" y="436"/>
                          </a:lnTo>
                          <a:lnTo>
                            <a:pt x="863" y="436"/>
                          </a:lnTo>
                          <a:lnTo>
                            <a:pt x="858" y="436"/>
                          </a:lnTo>
                          <a:lnTo>
                            <a:pt x="854" y="438"/>
                          </a:lnTo>
                          <a:lnTo>
                            <a:pt x="849" y="439"/>
                          </a:lnTo>
                          <a:lnTo>
                            <a:pt x="845" y="439"/>
                          </a:lnTo>
                          <a:lnTo>
                            <a:pt x="840" y="439"/>
                          </a:lnTo>
                          <a:lnTo>
                            <a:pt x="835" y="439"/>
                          </a:lnTo>
                          <a:lnTo>
                            <a:pt x="831" y="440"/>
                          </a:lnTo>
                          <a:lnTo>
                            <a:pt x="825" y="440"/>
                          </a:lnTo>
                          <a:lnTo>
                            <a:pt x="822" y="440"/>
                          </a:lnTo>
                          <a:lnTo>
                            <a:pt x="816" y="442"/>
                          </a:lnTo>
                          <a:lnTo>
                            <a:pt x="812" y="442"/>
                          </a:lnTo>
                          <a:lnTo>
                            <a:pt x="808" y="442"/>
                          </a:lnTo>
                          <a:lnTo>
                            <a:pt x="803" y="442"/>
                          </a:lnTo>
                          <a:lnTo>
                            <a:pt x="799" y="443"/>
                          </a:lnTo>
                          <a:lnTo>
                            <a:pt x="794" y="443"/>
                          </a:lnTo>
                          <a:lnTo>
                            <a:pt x="791" y="443"/>
                          </a:lnTo>
                          <a:lnTo>
                            <a:pt x="786" y="444"/>
                          </a:lnTo>
                          <a:lnTo>
                            <a:pt x="783" y="444"/>
                          </a:lnTo>
                          <a:lnTo>
                            <a:pt x="780" y="446"/>
                          </a:lnTo>
                          <a:lnTo>
                            <a:pt x="776" y="446"/>
                          </a:lnTo>
                          <a:lnTo>
                            <a:pt x="773" y="446"/>
                          </a:lnTo>
                          <a:lnTo>
                            <a:pt x="770" y="446"/>
                          </a:lnTo>
                          <a:lnTo>
                            <a:pt x="767" y="446"/>
                          </a:lnTo>
                          <a:lnTo>
                            <a:pt x="760" y="447"/>
                          </a:lnTo>
                          <a:lnTo>
                            <a:pt x="756" y="449"/>
                          </a:lnTo>
                          <a:lnTo>
                            <a:pt x="751" y="449"/>
                          </a:lnTo>
                          <a:lnTo>
                            <a:pt x="750" y="449"/>
                          </a:lnTo>
                          <a:lnTo>
                            <a:pt x="747" y="450"/>
                          </a:lnTo>
                          <a:lnTo>
                            <a:pt x="747" y="451"/>
                          </a:lnTo>
                          <a:lnTo>
                            <a:pt x="1121" y="439"/>
                          </a:lnTo>
                          <a:lnTo>
                            <a:pt x="1117" y="442"/>
                          </a:lnTo>
                          <a:lnTo>
                            <a:pt x="1112" y="443"/>
                          </a:lnTo>
                          <a:lnTo>
                            <a:pt x="1106" y="444"/>
                          </a:lnTo>
                          <a:lnTo>
                            <a:pt x="1102" y="446"/>
                          </a:lnTo>
                          <a:lnTo>
                            <a:pt x="1095" y="449"/>
                          </a:lnTo>
                          <a:lnTo>
                            <a:pt x="1091" y="450"/>
                          </a:lnTo>
                          <a:lnTo>
                            <a:pt x="1086" y="451"/>
                          </a:lnTo>
                          <a:lnTo>
                            <a:pt x="1082" y="453"/>
                          </a:lnTo>
                          <a:lnTo>
                            <a:pt x="1458" y="453"/>
                          </a:lnTo>
                          <a:lnTo>
                            <a:pt x="1452" y="450"/>
                          </a:lnTo>
                          <a:lnTo>
                            <a:pt x="1447" y="446"/>
                          </a:lnTo>
                          <a:lnTo>
                            <a:pt x="1441" y="443"/>
                          </a:lnTo>
                          <a:lnTo>
                            <a:pt x="1435" y="440"/>
                          </a:lnTo>
                          <a:lnTo>
                            <a:pt x="1432" y="438"/>
                          </a:lnTo>
                          <a:lnTo>
                            <a:pt x="1429" y="436"/>
                          </a:lnTo>
                          <a:lnTo>
                            <a:pt x="1424" y="433"/>
                          </a:lnTo>
                          <a:lnTo>
                            <a:pt x="1421" y="432"/>
                          </a:lnTo>
                          <a:lnTo>
                            <a:pt x="1418" y="429"/>
                          </a:lnTo>
                          <a:lnTo>
                            <a:pt x="1414" y="428"/>
                          </a:lnTo>
                          <a:lnTo>
                            <a:pt x="1411" y="427"/>
                          </a:lnTo>
                          <a:lnTo>
                            <a:pt x="1407" y="424"/>
                          </a:lnTo>
                          <a:lnTo>
                            <a:pt x="1403" y="421"/>
                          </a:lnTo>
                          <a:lnTo>
                            <a:pt x="1398" y="420"/>
                          </a:lnTo>
                          <a:lnTo>
                            <a:pt x="1394" y="417"/>
                          </a:lnTo>
                          <a:lnTo>
                            <a:pt x="1391" y="414"/>
                          </a:lnTo>
                          <a:lnTo>
                            <a:pt x="1386" y="412"/>
                          </a:lnTo>
                          <a:lnTo>
                            <a:pt x="1383" y="410"/>
                          </a:lnTo>
                          <a:lnTo>
                            <a:pt x="1378" y="407"/>
                          </a:lnTo>
                          <a:lnTo>
                            <a:pt x="1374" y="406"/>
                          </a:lnTo>
                          <a:lnTo>
                            <a:pt x="1371" y="403"/>
                          </a:lnTo>
                          <a:lnTo>
                            <a:pt x="1366" y="401"/>
                          </a:lnTo>
                          <a:lnTo>
                            <a:pt x="1362" y="399"/>
                          </a:lnTo>
                          <a:lnTo>
                            <a:pt x="1357" y="396"/>
                          </a:lnTo>
                          <a:lnTo>
                            <a:pt x="1354" y="394"/>
                          </a:lnTo>
                          <a:lnTo>
                            <a:pt x="1349" y="392"/>
                          </a:lnTo>
                          <a:lnTo>
                            <a:pt x="1345" y="390"/>
                          </a:lnTo>
                          <a:lnTo>
                            <a:pt x="1342" y="387"/>
                          </a:lnTo>
                          <a:lnTo>
                            <a:pt x="1337" y="384"/>
                          </a:lnTo>
                          <a:lnTo>
                            <a:pt x="1333" y="383"/>
                          </a:lnTo>
                          <a:lnTo>
                            <a:pt x="1328" y="380"/>
                          </a:lnTo>
                          <a:lnTo>
                            <a:pt x="1325" y="377"/>
                          </a:lnTo>
                          <a:lnTo>
                            <a:pt x="1320" y="374"/>
                          </a:lnTo>
                          <a:lnTo>
                            <a:pt x="1316" y="372"/>
                          </a:lnTo>
                          <a:lnTo>
                            <a:pt x="1311" y="369"/>
                          </a:lnTo>
                          <a:lnTo>
                            <a:pt x="1308" y="368"/>
                          </a:lnTo>
                          <a:lnTo>
                            <a:pt x="1303" y="365"/>
                          </a:lnTo>
                          <a:lnTo>
                            <a:pt x="1299" y="362"/>
                          </a:lnTo>
                          <a:lnTo>
                            <a:pt x="1294" y="359"/>
                          </a:lnTo>
                          <a:lnTo>
                            <a:pt x="1291" y="357"/>
                          </a:lnTo>
                          <a:lnTo>
                            <a:pt x="1288" y="354"/>
                          </a:lnTo>
                          <a:lnTo>
                            <a:pt x="1284" y="352"/>
                          </a:lnTo>
                          <a:lnTo>
                            <a:pt x="1281" y="350"/>
                          </a:lnTo>
                          <a:lnTo>
                            <a:pt x="1277" y="348"/>
                          </a:lnTo>
                          <a:lnTo>
                            <a:pt x="1273" y="346"/>
                          </a:lnTo>
                          <a:lnTo>
                            <a:pt x="1270" y="343"/>
                          </a:lnTo>
                          <a:lnTo>
                            <a:pt x="1265" y="340"/>
                          </a:lnTo>
                          <a:lnTo>
                            <a:pt x="1262" y="339"/>
                          </a:lnTo>
                          <a:lnTo>
                            <a:pt x="1256" y="333"/>
                          </a:lnTo>
                          <a:lnTo>
                            <a:pt x="1250" y="331"/>
                          </a:lnTo>
                          <a:lnTo>
                            <a:pt x="1244" y="325"/>
                          </a:lnTo>
                          <a:lnTo>
                            <a:pt x="1239" y="321"/>
                          </a:lnTo>
                          <a:lnTo>
                            <a:pt x="1235" y="318"/>
                          </a:lnTo>
                          <a:lnTo>
                            <a:pt x="1230" y="315"/>
                          </a:lnTo>
                          <a:lnTo>
                            <a:pt x="1233" y="315"/>
                          </a:lnTo>
                          <a:lnTo>
                            <a:pt x="1236" y="315"/>
                          </a:lnTo>
                          <a:lnTo>
                            <a:pt x="1238" y="318"/>
                          </a:lnTo>
                          <a:lnTo>
                            <a:pt x="1241" y="320"/>
                          </a:lnTo>
                          <a:lnTo>
                            <a:pt x="1466" y="449"/>
                          </a:lnTo>
                          <a:lnTo>
                            <a:pt x="1464" y="447"/>
                          </a:lnTo>
                          <a:lnTo>
                            <a:pt x="1463" y="446"/>
                          </a:lnTo>
                          <a:lnTo>
                            <a:pt x="1459" y="443"/>
                          </a:lnTo>
                          <a:lnTo>
                            <a:pt x="1455" y="440"/>
                          </a:lnTo>
                          <a:lnTo>
                            <a:pt x="1450" y="436"/>
                          </a:lnTo>
                          <a:lnTo>
                            <a:pt x="1446" y="432"/>
                          </a:lnTo>
                          <a:lnTo>
                            <a:pt x="1440" y="428"/>
                          </a:lnTo>
                          <a:lnTo>
                            <a:pt x="1433" y="424"/>
                          </a:lnTo>
                          <a:lnTo>
                            <a:pt x="1427" y="418"/>
                          </a:lnTo>
                          <a:lnTo>
                            <a:pt x="1421" y="414"/>
                          </a:lnTo>
                          <a:lnTo>
                            <a:pt x="1417" y="409"/>
                          </a:lnTo>
                          <a:lnTo>
                            <a:pt x="1412" y="406"/>
                          </a:lnTo>
                          <a:lnTo>
                            <a:pt x="1407" y="402"/>
                          </a:lnTo>
                          <a:lnTo>
                            <a:pt x="1404" y="401"/>
                          </a:lnTo>
                          <a:lnTo>
                            <a:pt x="1403" y="399"/>
                          </a:lnTo>
                          <a:lnTo>
                            <a:pt x="1397" y="394"/>
                          </a:lnTo>
                          <a:lnTo>
                            <a:pt x="1391" y="390"/>
                          </a:lnTo>
                          <a:lnTo>
                            <a:pt x="1385" y="384"/>
                          </a:lnTo>
                          <a:lnTo>
                            <a:pt x="1378" y="381"/>
                          </a:lnTo>
                          <a:lnTo>
                            <a:pt x="1375" y="377"/>
                          </a:lnTo>
                          <a:lnTo>
                            <a:pt x="1372" y="376"/>
                          </a:lnTo>
                          <a:lnTo>
                            <a:pt x="1368" y="373"/>
                          </a:lnTo>
                          <a:lnTo>
                            <a:pt x="1365" y="372"/>
                          </a:lnTo>
                          <a:lnTo>
                            <a:pt x="1362" y="369"/>
                          </a:lnTo>
                          <a:lnTo>
                            <a:pt x="1357" y="368"/>
                          </a:lnTo>
                          <a:lnTo>
                            <a:pt x="1354" y="365"/>
                          </a:lnTo>
                          <a:lnTo>
                            <a:pt x="1351" y="363"/>
                          </a:lnTo>
                          <a:lnTo>
                            <a:pt x="1346" y="361"/>
                          </a:lnTo>
                          <a:lnTo>
                            <a:pt x="1343" y="358"/>
                          </a:lnTo>
                          <a:lnTo>
                            <a:pt x="1339" y="357"/>
                          </a:lnTo>
                          <a:lnTo>
                            <a:pt x="1336" y="354"/>
                          </a:lnTo>
                          <a:lnTo>
                            <a:pt x="1331" y="351"/>
                          </a:lnTo>
                          <a:lnTo>
                            <a:pt x="1326" y="350"/>
                          </a:lnTo>
                          <a:lnTo>
                            <a:pt x="1323" y="347"/>
                          </a:lnTo>
                          <a:lnTo>
                            <a:pt x="1319" y="346"/>
                          </a:lnTo>
                          <a:lnTo>
                            <a:pt x="1316" y="343"/>
                          </a:lnTo>
                          <a:lnTo>
                            <a:pt x="1311" y="340"/>
                          </a:lnTo>
                          <a:lnTo>
                            <a:pt x="1307" y="339"/>
                          </a:lnTo>
                          <a:lnTo>
                            <a:pt x="1302" y="337"/>
                          </a:lnTo>
                          <a:lnTo>
                            <a:pt x="1297" y="335"/>
                          </a:lnTo>
                          <a:lnTo>
                            <a:pt x="1294" y="332"/>
                          </a:lnTo>
                          <a:lnTo>
                            <a:pt x="1290" y="331"/>
                          </a:lnTo>
                          <a:lnTo>
                            <a:pt x="1287" y="328"/>
                          </a:lnTo>
                          <a:lnTo>
                            <a:pt x="1281" y="326"/>
                          </a:lnTo>
                          <a:lnTo>
                            <a:pt x="1277" y="324"/>
                          </a:lnTo>
                          <a:lnTo>
                            <a:pt x="1273" y="321"/>
                          </a:lnTo>
                          <a:lnTo>
                            <a:pt x="1268" y="320"/>
                          </a:lnTo>
                          <a:lnTo>
                            <a:pt x="1264" y="318"/>
                          </a:lnTo>
                          <a:lnTo>
                            <a:pt x="1261" y="315"/>
                          </a:lnTo>
                          <a:lnTo>
                            <a:pt x="1256" y="313"/>
                          </a:lnTo>
                          <a:lnTo>
                            <a:pt x="1251" y="311"/>
                          </a:lnTo>
                          <a:lnTo>
                            <a:pt x="1247" y="309"/>
                          </a:lnTo>
                          <a:lnTo>
                            <a:pt x="1244" y="307"/>
                          </a:lnTo>
                          <a:lnTo>
                            <a:pt x="1239" y="304"/>
                          </a:lnTo>
                          <a:lnTo>
                            <a:pt x="1236" y="303"/>
                          </a:lnTo>
                          <a:lnTo>
                            <a:pt x="1232" y="302"/>
                          </a:lnTo>
                          <a:lnTo>
                            <a:pt x="1227" y="300"/>
                          </a:lnTo>
                          <a:lnTo>
                            <a:pt x="1224" y="298"/>
                          </a:lnTo>
                          <a:lnTo>
                            <a:pt x="1219" y="296"/>
                          </a:lnTo>
                          <a:lnTo>
                            <a:pt x="1216" y="293"/>
                          </a:lnTo>
                          <a:lnTo>
                            <a:pt x="1212" y="292"/>
                          </a:lnTo>
                          <a:lnTo>
                            <a:pt x="1209" y="291"/>
                          </a:lnTo>
                          <a:lnTo>
                            <a:pt x="1204" y="288"/>
                          </a:lnTo>
                          <a:lnTo>
                            <a:pt x="1201" y="287"/>
                          </a:lnTo>
                          <a:lnTo>
                            <a:pt x="1196" y="285"/>
                          </a:lnTo>
                          <a:lnTo>
                            <a:pt x="1193" y="284"/>
                          </a:lnTo>
                          <a:lnTo>
                            <a:pt x="1190" y="281"/>
                          </a:lnTo>
                          <a:lnTo>
                            <a:pt x="1186" y="280"/>
                          </a:lnTo>
                          <a:lnTo>
                            <a:pt x="1183" y="278"/>
                          </a:lnTo>
                          <a:lnTo>
                            <a:pt x="1180" y="277"/>
                          </a:lnTo>
                          <a:lnTo>
                            <a:pt x="1177" y="276"/>
                          </a:lnTo>
                          <a:lnTo>
                            <a:pt x="1170" y="273"/>
                          </a:lnTo>
                          <a:lnTo>
                            <a:pt x="1164" y="269"/>
                          </a:lnTo>
                          <a:lnTo>
                            <a:pt x="1158" y="265"/>
                          </a:lnTo>
                          <a:lnTo>
                            <a:pt x="1151" y="261"/>
                          </a:lnTo>
                          <a:lnTo>
                            <a:pt x="1143" y="256"/>
                          </a:lnTo>
                          <a:lnTo>
                            <a:pt x="1137" y="254"/>
                          </a:lnTo>
                          <a:lnTo>
                            <a:pt x="1129" y="248"/>
                          </a:lnTo>
                          <a:lnTo>
                            <a:pt x="1121" y="245"/>
                          </a:lnTo>
                          <a:lnTo>
                            <a:pt x="1114" y="241"/>
                          </a:lnTo>
                          <a:lnTo>
                            <a:pt x="1108" y="237"/>
                          </a:lnTo>
                          <a:lnTo>
                            <a:pt x="1100" y="233"/>
                          </a:lnTo>
                          <a:lnTo>
                            <a:pt x="1092" y="229"/>
                          </a:lnTo>
                          <a:lnTo>
                            <a:pt x="1085" y="225"/>
                          </a:lnTo>
                          <a:lnTo>
                            <a:pt x="1079" y="221"/>
                          </a:lnTo>
                          <a:lnTo>
                            <a:pt x="1071" y="217"/>
                          </a:lnTo>
                          <a:lnTo>
                            <a:pt x="1063" y="212"/>
                          </a:lnTo>
                          <a:lnTo>
                            <a:pt x="1057" y="208"/>
                          </a:lnTo>
                          <a:lnTo>
                            <a:pt x="1050" y="204"/>
                          </a:lnTo>
                          <a:lnTo>
                            <a:pt x="1042" y="200"/>
                          </a:lnTo>
                          <a:lnTo>
                            <a:pt x="1034" y="196"/>
                          </a:lnTo>
                          <a:lnTo>
                            <a:pt x="1027" y="192"/>
                          </a:lnTo>
                          <a:lnTo>
                            <a:pt x="1020" y="188"/>
                          </a:lnTo>
                          <a:lnTo>
                            <a:pt x="1013" y="184"/>
                          </a:lnTo>
                          <a:lnTo>
                            <a:pt x="1007" y="180"/>
                          </a:lnTo>
                          <a:lnTo>
                            <a:pt x="999" y="175"/>
                          </a:lnTo>
                          <a:lnTo>
                            <a:pt x="993" y="171"/>
                          </a:lnTo>
                          <a:lnTo>
                            <a:pt x="985" y="167"/>
                          </a:lnTo>
                          <a:lnTo>
                            <a:pt x="978" y="163"/>
                          </a:lnTo>
                          <a:lnTo>
                            <a:pt x="970" y="158"/>
                          </a:lnTo>
                          <a:lnTo>
                            <a:pt x="962" y="155"/>
                          </a:lnTo>
                          <a:lnTo>
                            <a:pt x="955" y="149"/>
                          </a:lnTo>
                          <a:lnTo>
                            <a:pt x="949" y="145"/>
                          </a:lnTo>
                          <a:lnTo>
                            <a:pt x="941" y="141"/>
                          </a:lnTo>
                          <a:lnTo>
                            <a:pt x="935" y="137"/>
                          </a:lnTo>
                          <a:lnTo>
                            <a:pt x="927" y="133"/>
                          </a:lnTo>
                          <a:lnTo>
                            <a:pt x="920" y="129"/>
                          </a:lnTo>
                          <a:lnTo>
                            <a:pt x="912" y="123"/>
                          </a:lnTo>
                          <a:lnTo>
                            <a:pt x="906" y="119"/>
                          </a:lnTo>
                          <a:lnTo>
                            <a:pt x="898" y="115"/>
                          </a:lnTo>
                          <a:lnTo>
                            <a:pt x="890" y="111"/>
                          </a:lnTo>
                          <a:lnTo>
                            <a:pt x="883" y="107"/>
                          </a:lnTo>
                          <a:lnTo>
                            <a:pt x="877" y="103"/>
                          </a:lnTo>
                          <a:lnTo>
                            <a:pt x="869" y="97"/>
                          </a:lnTo>
                          <a:lnTo>
                            <a:pt x="861" y="93"/>
                          </a:lnTo>
                          <a:lnTo>
                            <a:pt x="854" y="89"/>
                          </a:lnTo>
                          <a:lnTo>
                            <a:pt x="848" y="85"/>
                          </a:lnTo>
                          <a:lnTo>
                            <a:pt x="840" y="79"/>
                          </a:lnTo>
                          <a:lnTo>
                            <a:pt x="832" y="77"/>
                          </a:lnTo>
                          <a:lnTo>
                            <a:pt x="825" y="71"/>
                          </a:lnTo>
                          <a:lnTo>
                            <a:pt x="819" y="67"/>
                          </a:lnTo>
                          <a:lnTo>
                            <a:pt x="811" y="63"/>
                          </a:lnTo>
                          <a:lnTo>
                            <a:pt x="803" y="59"/>
                          </a:lnTo>
                          <a:lnTo>
                            <a:pt x="796" y="55"/>
                          </a:lnTo>
                          <a:lnTo>
                            <a:pt x="790" y="50"/>
                          </a:lnTo>
                          <a:lnTo>
                            <a:pt x="782" y="45"/>
                          </a:lnTo>
                          <a:lnTo>
                            <a:pt x="774" y="41"/>
                          </a:lnTo>
                          <a:lnTo>
                            <a:pt x="767" y="37"/>
                          </a:lnTo>
                          <a:lnTo>
                            <a:pt x="760" y="33"/>
                          </a:lnTo>
                          <a:lnTo>
                            <a:pt x="753" y="29"/>
                          </a:lnTo>
                          <a:lnTo>
                            <a:pt x="745" y="24"/>
                          </a:lnTo>
                          <a:lnTo>
                            <a:pt x="738" y="20"/>
                          </a:lnTo>
                          <a:lnTo>
                            <a:pt x="731" y="16"/>
                          </a:lnTo>
                          <a:lnTo>
                            <a:pt x="724" y="12"/>
                          </a:lnTo>
                          <a:lnTo>
                            <a:pt x="716" y="8"/>
                          </a:lnTo>
                          <a:lnTo>
                            <a:pt x="710" y="2"/>
                          </a:lnTo>
                          <a:lnTo>
                            <a:pt x="702" y="0"/>
                          </a:lnTo>
                          <a:lnTo>
                            <a:pt x="693" y="5"/>
                          </a:lnTo>
                          <a:lnTo>
                            <a:pt x="684" y="11"/>
                          </a:lnTo>
                          <a:lnTo>
                            <a:pt x="675" y="18"/>
                          </a:lnTo>
                          <a:lnTo>
                            <a:pt x="666" y="23"/>
                          </a:lnTo>
                          <a:lnTo>
                            <a:pt x="656" y="29"/>
                          </a:lnTo>
                          <a:lnTo>
                            <a:pt x="647" y="35"/>
                          </a:lnTo>
                          <a:lnTo>
                            <a:pt x="637" y="41"/>
                          </a:lnTo>
                          <a:lnTo>
                            <a:pt x="627" y="48"/>
                          </a:lnTo>
                          <a:lnTo>
                            <a:pt x="618" y="53"/>
                          </a:lnTo>
                          <a:lnTo>
                            <a:pt x="609" y="60"/>
                          </a:lnTo>
                          <a:lnTo>
                            <a:pt x="600" y="66"/>
                          </a:lnTo>
                          <a:lnTo>
                            <a:pt x="591" y="72"/>
                          </a:lnTo>
                          <a:lnTo>
                            <a:pt x="581" y="78"/>
                          </a:lnTo>
                          <a:lnTo>
                            <a:pt x="571" y="85"/>
                          </a:lnTo>
                          <a:lnTo>
                            <a:pt x="562" y="90"/>
                          </a:lnTo>
                          <a:lnTo>
                            <a:pt x="552" y="97"/>
                          </a:lnTo>
                          <a:lnTo>
                            <a:pt x="543" y="103"/>
                          </a:lnTo>
                          <a:lnTo>
                            <a:pt x="534" y="110"/>
                          </a:lnTo>
                          <a:lnTo>
                            <a:pt x="525" y="115"/>
                          </a:lnTo>
                          <a:lnTo>
                            <a:pt x="516" y="122"/>
                          </a:lnTo>
                          <a:lnTo>
                            <a:pt x="507" y="127"/>
                          </a:lnTo>
                          <a:lnTo>
                            <a:pt x="496" y="134"/>
                          </a:lnTo>
                          <a:lnTo>
                            <a:pt x="487" y="140"/>
                          </a:lnTo>
                          <a:lnTo>
                            <a:pt x="477" y="147"/>
                          </a:lnTo>
                          <a:lnTo>
                            <a:pt x="468" y="152"/>
                          </a:lnTo>
                          <a:lnTo>
                            <a:pt x="459" y="159"/>
                          </a:lnTo>
                          <a:lnTo>
                            <a:pt x="450" y="164"/>
                          </a:lnTo>
                          <a:lnTo>
                            <a:pt x="441" y="171"/>
                          </a:lnTo>
                          <a:lnTo>
                            <a:pt x="430" y="177"/>
                          </a:lnTo>
                          <a:lnTo>
                            <a:pt x="421" y="184"/>
                          </a:lnTo>
                          <a:lnTo>
                            <a:pt x="412" y="189"/>
                          </a:lnTo>
                          <a:lnTo>
                            <a:pt x="403" y="196"/>
                          </a:lnTo>
                          <a:lnTo>
                            <a:pt x="393" y="201"/>
                          </a:lnTo>
                          <a:lnTo>
                            <a:pt x="384" y="208"/>
                          </a:lnTo>
                          <a:lnTo>
                            <a:pt x="375" y="214"/>
                          </a:lnTo>
                          <a:lnTo>
                            <a:pt x="366" y="221"/>
                          </a:lnTo>
                          <a:lnTo>
                            <a:pt x="357" y="226"/>
                          </a:lnTo>
                          <a:lnTo>
                            <a:pt x="347" y="233"/>
                          </a:lnTo>
                          <a:lnTo>
                            <a:pt x="337" y="239"/>
                          </a:lnTo>
                          <a:lnTo>
                            <a:pt x="328" y="245"/>
                          </a:lnTo>
                          <a:lnTo>
                            <a:pt x="318" y="251"/>
                          </a:lnTo>
                          <a:lnTo>
                            <a:pt x="309" y="258"/>
                          </a:lnTo>
                          <a:lnTo>
                            <a:pt x="300" y="263"/>
                          </a:lnTo>
                          <a:lnTo>
                            <a:pt x="291" y="270"/>
                          </a:lnTo>
                          <a:lnTo>
                            <a:pt x="282" y="276"/>
                          </a:lnTo>
                          <a:lnTo>
                            <a:pt x="272" y="282"/>
                          </a:lnTo>
                          <a:lnTo>
                            <a:pt x="262" y="288"/>
                          </a:lnTo>
                          <a:lnTo>
                            <a:pt x="254" y="295"/>
                          </a:lnTo>
                          <a:lnTo>
                            <a:pt x="245" y="300"/>
                          </a:lnTo>
                          <a:lnTo>
                            <a:pt x="234" y="307"/>
                          </a:lnTo>
                          <a:lnTo>
                            <a:pt x="225" y="313"/>
                          </a:lnTo>
                          <a:lnTo>
                            <a:pt x="216" y="320"/>
                          </a:lnTo>
                          <a:lnTo>
                            <a:pt x="207" y="325"/>
                          </a:lnTo>
                          <a:lnTo>
                            <a:pt x="198" y="332"/>
                          </a:lnTo>
                          <a:lnTo>
                            <a:pt x="188" y="337"/>
                          </a:lnTo>
                          <a:lnTo>
                            <a:pt x="179" y="344"/>
                          </a:lnTo>
                          <a:lnTo>
                            <a:pt x="170" y="350"/>
                          </a:lnTo>
                          <a:lnTo>
                            <a:pt x="159" y="357"/>
                          </a:lnTo>
                          <a:lnTo>
                            <a:pt x="150" y="362"/>
                          </a:lnTo>
                          <a:lnTo>
                            <a:pt x="141" y="369"/>
                          </a:lnTo>
                          <a:lnTo>
                            <a:pt x="132" y="374"/>
                          </a:lnTo>
                          <a:lnTo>
                            <a:pt x="123" y="381"/>
                          </a:lnTo>
                          <a:lnTo>
                            <a:pt x="113" y="387"/>
                          </a:lnTo>
                          <a:lnTo>
                            <a:pt x="104" y="39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Freeform 286"/>
                    <p:cNvSpPr/>
                    <p:nvPr/>
                  </p:nvSpPr>
                  <p:spPr>
                    <a:xfrm>
                      <a:off x="936720" y="1956240"/>
                      <a:ext cx="63360" cy="4968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49680"/>
                        <a:gd name="textAreaBottom" fmla="*/ 50040 h 49680"/>
                      </a:gdLst>
                      <a:ahLst/>
                      <a:rect l="textAreaLeft" t="textAreaTop" r="textAreaRight" b="textAreaBottom"/>
                      <a:pathLst>
                        <a:path w="294" h="175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5"/>
                          </a:lnTo>
                          <a:lnTo>
                            <a:pt x="3" y="6"/>
                          </a:lnTo>
                          <a:lnTo>
                            <a:pt x="7" y="9"/>
                          </a:lnTo>
                          <a:lnTo>
                            <a:pt x="11" y="11"/>
                          </a:lnTo>
                          <a:lnTo>
                            <a:pt x="17" y="16"/>
                          </a:lnTo>
                          <a:lnTo>
                            <a:pt x="20" y="17"/>
                          </a:lnTo>
                          <a:lnTo>
                            <a:pt x="23" y="20"/>
                          </a:lnTo>
                          <a:lnTo>
                            <a:pt x="28" y="22"/>
                          </a:lnTo>
                          <a:lnTo>
                            <a:pt x="33" y="25"/>
                          </a:lnTo>
                          <a:lnTo>
                            <a:pt x="36" y="28"/>
                          </a:lnTo>
                          <a:lnTo>
                            <a:pt x="40" y="31"/>
                          </a:lnTo>
                          <a:lnTo>
                            <a:pt x="45" y="33"/>
                          </a:lnTo>
                          <a:lnTo>
                            <a:pt x="51" y="37"/>
                          </a:lnTo>
                          <a:lnTo>
                            <a:pt x="55" y="40"/>
                          </a:lnTo>
                          <a:lnTo>
                            <a:pt x="60" y="43"/>
                          </a:lnTo>
                          <a:lnTo>
                            <a:pt x="66" y="46"/>
                          </a:lnTo>
                          <a:lnTo>
                            <a:pt x="72" y="50"/>
                          </a:lnTo>
                          <a:lnTo>
                            <a:pt x="78" y="53"/>
                          </a:lnTo>
                          <a:lnTo>
                            <a:pt x="85" y="57"/>
                          </a:lnTo>
                          <a:lnTo>
                            <a:pt x="91" y="61"/>
                          </a:lnTo>
                          <a:lnTo>
                            <a:pt x="97" y="64"/>
                          </a:lnTo>
                          <a:lnTo>
                            <a:pt x="103" y="68"/>
                          </a:lnTo>
                          <a:lnTo>
                            <a:pt x="109" y="72"/>
                          </a:lnTo>
                          <a:lnTo>
                            <a:pt x="117" y="76"/>
                          </a:lnTo>
                          <a:lnTo>
                            <a:pt x="123" y="79"/>
                          </a:lnTo>
                          <a:lnTo>
                            <a:pt x="129" y="83"/>
                          </a:lnTo>
                          <a:lnTo>
                            <a:pt x="137" y="87"/>
                          </a:lnTo>
                          <a:lnTo>
                            <a:pt x="143" y="91"/>
                          </a:lnTo>
                          <a:lnTo>
                            <a:pt x="150" y="95"/>
                          </a:lnTo>
                          <a:lnTo>
                            <a:pt x="156" y="98"/>
                          </a:lnTo>
                          <a:lnTo>
                            <a:pt x="163" y="102"/>
                          </a:lnTo>
                          <a:lnTo>
                            <a:pt x="169" y="106"/>
                          </a:lnTo>
                          <a:lnTo>
                            <a:pt x="175" y="110"/>
                          </a:lnTo>
                          <a:lnTo>
                            <a:pt x="181" y="113"/>
                          </a:lnTo>
                          <a:lnTo>
                            <a:pt x="187" y="117"/>
                          </a:lnTo>
                          <a:lnTo>
                            <a:pt x="195" y="120"/>
                          </a:lnTo>
                          <a:lnTo>
                            <a:pt x="201" y="124"/>
                          </a:lnTo>
                          <a:lnTo>
                            <a:pt x="207" y="128"/>
                          </a:lnTo>
                          <a:lnTo>
                            <a:pt x="213" y="131"/>
                          </a:lnTo>
                          <a:lnTo>
                            <a:pt x="219" y="135"/>
                          </a:lnTo>
                          <a:lnTo>
                            <a:pt x="225" y="138"/>
                          </a:lnTo>
                          <a:lnTo>
                            <a:pt x="230" y="140"/>
                          </a:lnTo>
                          <a:lnTo>
                            <a:pt x="236" y="145"/>
                          </a:lnTo>
                          <a:lnTo>
                            <a:pt x="241" y="147"/>
                          </a:lnTo>
                          <a:lnTo>
                            <a:pt x="247" y="150"/>
                          </a:lnTo>
                          <a:lnTo>
                            <a:pt x="251" y="153"/>
                          </a:lnTo>
                          <a:lnTo>
                            <a:pt x="256" y="154"/>
                          </a:lnTo>
                          <a:lnTo>
                            <a:pt x="260" y="157"/>
                          </a:lnTo>
                          <a:lnTo>
                            <a:pt x="265" y="160"/>
                          </a:lnTo>
                          <a:lnTo>
                            <a:pt x="268" y="162"/>
                          </a:lnTo>
                          <a:lnTo>
                            <a:pt x="273" y="164"/>
                          </a:lnTo>
                          <a:lnTo>
                            <a:pt x="276" y="167"/>
                          </a:lnTo>
                          <a:lnTo>
                            <a:pt x="280" y="168"/>
                          </a:lnTo>
                          <a:lnTo>
                            <a:pt x="285" y="171"/>
                          </a:lnTo>
                          <a:lnTo>
                            <a:pt x="289" y="173"/>
                          </a:lnTo>
                          <a:lnTo>
                            <a:pt x="293" y="175"/>
                          </a:lnTo>
                          <a:lnTo>
                            <a:pt x="294" y="175"/>
                          </a:lnTo>
                          <a:lnTo>
                            <a:pt x="289" y="171"/>
                          </a:lnTo>
                          <a:lnTo>
                            <a:pt x="277" y="164"/>
                          </a:lnTo>
                          <a:lnTo>
                            <a:pt x="247" y="143"/>
                          </a:lnTo>
                          <a:lnTo>
                            <a:pt x="178" y="107"/>
                          </a:lnTo>
                          <a:lnTo>
                            <a:pt x="173" y="103"/>
                          </a:lnTo>
                          <a:lnTo>
                            <a:pt x="167" y="101"/>
                          </a:lnTo>
                          <a:lnTo>
                            <a:pt x="161" y="97"/>
                          </a:lnTo>
                          <a:lnTo>
                            <a:pt x="156" y="92"/>
                          </a:lnTo>
                          <a:lnTo>
                            <a:pt x="150" y="90"/>
                          </a:lnTo>
                          <a:lnTo>
                            <a:pt x="146" y="86"/>
                          </a:lnTo>
                          <a:lnTo>
                            <a:pt x="140" y="83"/>
                          </a:lnTo>
                          <a:lnTo>
                            <a:pt x="135" y="79"/>
                          </a:lnTo>
                          <a:lnTo>
                            <a:pt x="129" y="76"/>
                          </a:lnTo>
                          <a:lnTo>
                            <a:pt x="123" y="72"/>
                          </a:lnTo>
                          <a:lnTo>
                            <a:pt x="118" y="68"/>
                          </a:lnTo>
                          <a:lnTo>
                            <a:pt x="114" y="65"/>
                          </a:lnTo>
                          <a:lnTo>
                            <a:pt x="107" y="61"/>
                          </a:lnTo>
                          <a:lnTo>
                            <a:pt x="103" y="58"/>
                          </a:lnTo>
                          <a:lnTo>
                            <a:pt x="97" y="54"/>
                          </a:lnTo>
                          <a:lnTo>
                            <a:pt x="92" y="51"/>
                          </a:lnTo>
                          <a:lnTo>
                            <a:pt x="86" y="47"/>
                          </a:lnTo>
                          <a:lnTo>
                            <a:pt x="81" y="44"/>
                          </a:lnTo>
                          <a:lnTo>
                            <a:pt x="75" y="40"/>
                          </a:lnTo>
                          <a:lnTo>
                            <a:pt x="71" y="37"/>
                          </a:lnTo>
                          <a:lnTo>
                            <a:pt x="65" y="33"/>
                          </a:lnTo>
                          <a:lnTo>
                            <a:pt x="59" y="31"/>
                          </a:lnTo>
                          <a:lnTo>
                            <a:pt x="54" y="27"/>
                          </a:lnTo>
                          <a:lnTo>
                            <a:pt x="48" y="24"/>
                          </a:lnTo>
                          <a:lnTo>
                            <a:pt x="43" y="21"/>
                          </a:lnTo>
                          <a:lnTo>
                            <a:pt x="37" y="17"/>
                          </a:lnTo>
                          <a:lnTo>
                            <a:pt x="31" y="14"/>
                          </a:lnTo>
                          <a:lnTo>
                            <a:pt x="26" y="11"/>
                          </a:lnTo>
                          <a:lnTo>
                            <a:pt x="20" y="9"/>
                          </a:lnTo>
                          <a:lnTo>
                            <a:pt x="14" y="6"/>
                          </a:lnTo>
                          <a:lnTo>
                            <a:pt x="10" y="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Freeform 287"/>
                    <p:cNvSpPr/>
                    <p:nvPr/>
                  </p:nvSpPr>
                  <p:spPr>
                    <a:xfrm>
                      <a:off x="803160" y="1994400"/>
                      <a:ext cx="64440" cy="53640"/>
                    </a:xfrm>
                    <a:custGeom>
                      <a:avLst/>
                      <a:gdLst>
                        <a:gd name="textAreaLeft" fmla="*/ 0 w 64440"/>
                        <a:gd name="textAreaRight" fmla="*/ 64800 w 64440"/>
                        <a:gd name="textAreaTop" fmla="*/ 0 h 53640"/>
                        <a:gd name="textAreaBottom" fmla="*/ 54000 h 53640"/>
                      </a:gdLst>
                      <a:ahLst/>
                      <a:rect l="textAreaLeft" t="textAreaTop" r="textAreaRight" b="textAreaBottom"/>
                      <a:pathLst>
                        <a:path w="299" h="190">
                          <a:moveTo>
                            <a:pt x="0" y="190"/>
                          </a:moveTo>
                          <a:lnTo>
                            <a:pt x="3" y="188"/>
                          </a:lnTo>
                          <a:lnTo>
                            <a:pt x="8" y="185"/>
                          </a:lnTo>
                          <a:lnTo>
                            <a:pt x="13" y="181"/>
                          </a:lnTo>
                          <a:lnTo>
                            <a:pt x="17" y="178"/>
                          </a:lnTo>
                          <a:lnTo>
                            <a:pt x="22" y="175"/>
                          </a:lnTo>
                          <a:lnTo>
                            <a:pt x="26" y="173"/>
                          </a:lnTo>
                          <a:lnTo>
                            <a:pt x="31" y="170"/>
                          </a:lnTo>
                          <a:lnTo>
                            <a:pt x="36" y="167"/>
                          </a:lnTo>
                          <a:lnTo>
                            <a:pt x="40" y="163"/>
                          </a:lnTo>
                          <a:lnTo>
                            <a:pt x="45" y="160"/>
                          </a:lnTo>
                          <a:lnTo>
                            <a:pt x="48" y="156"/>
                          </a:lnTo>
                          <a:lnTo>
                            <a:pt x="54" y="153"/>
                          </a:lnTo>
                          <a:lnTo>
                            <a:pt x="59" y="151"/>
                          </a:lnTo>
                          <a:lnTo>
                            <a:pt x="63" y="146"/>
                          </a:lnTo>
                          <a:lnTo>
                            <a:pt x="68" y="144"/>
                          </a:lnTo>
                          <a:lnTo>
                            <a:pt x="72" y="141"/>
                          </a:lnTo>
                          <a:lnTo>
                            <a:pt x="75" y="137"/>
                          </a:lnTo>
                          <a:lnTo>
                            <a:pt x="81" y="134"/>
                          </a:lnTo>
                          <a:lnTo>
                            <a:pt x="85" y="131"/>
                          </a:lnTo>
                          <a:lnTo>
                            <a:pt x="91" y="127"/>
                          </a:lnTo>
                          <a:lnTo>
                            <a:pt x="95" y="124"/>
                          </a:lnTo>
                          <a:lnTo>
                            <a:pt x="100" y="120"/>
                          </a:lnTo>
                          <a:lnTo>
                            <a:pt x="104" y="118"/>
                          </a:lnTo>
                          <a:lnTo>
                            <a:pt x="109" y="114"/>
                          </a:lnTo>
                          <a:lnTo>
                            <a:pt x="114" y="111"/>
                          </a:lnTo>
                          <a:lnTo>
                            <a:pt x="118" y="107"/>
                          </a:lnTo>
                          <a:lnTo>
                            <a:pt x="123" y="104"/>
                          </a:lnTo>
                          <a:lnTo>
                            <a:pt x="129" y="100"/>
                          </a:lnTo>
                          <a:lnTo>
                            <a:pt x="133" y="97"/>
                          </a:lnTo>
                          <a:lnTo>
                            <a:pt x="138" y="93"/>
                          </a:lnTo>
                          <a:lnTo>
                            <a:pt x="143" y="90"/>
                          </a:lnTo>
                          <a:lnTo>
                            <a:pt x="147" y="87"/>
                          </a:lnTo>
                          <a:lnTo>
                            <a:pt x="152" y="83"/>
                          </a:lnTo>
                          <a:lnTo>
                            <a:pt x="158" y="81"/>
                          </a:lnTo>
                          <a:lnTo>
                            <a:pt x="161" y="76"/>
                          </a:lnTo>
                          <a:lnTo>
                            <a:pt x="167" y="74"/>
                          </a:lnTo>
                          <a:lnTo>
                            <a:pt x="172" y="70"/>
                          </a:lnTo>
                          <a:lnTo>
                            <a:pt x="176" y="67"/>
                          </a:lnTo>
                          <a:lnTo>
                            <a:pt x="181" y="63"/>
                          </a:lnTo>
                          <a:lnTo>
                            <a:pt x="185" y="60"/>
                          </a:lnTo>
                          <a:lnTo>
                            <a:pt x="190" y="57"/>
                          </a:lnTo>
                          <a:lnTo>
                            <a:pt x="195" y="53"/>
                          </a:lnTo>
                          <a:lnTo>
                            <a:pt x="201" y="50"/>
                          </a:lnTo>
                          <a:lnTo>
                            <a:pt x="205" y="48"/>
                          </a:lnTo>
                          <a:lnTo>
                            <a:pt x="210" y="45"/>
                          </a:lnTo>
                          <a:lnTo>
                            <a:pt x="216" y="41"/>
                          </a:lnTo>
                          <a:lnTo>
                            <a:pt x="219" y="38"/>
                          </a:lnTo>
                          <a:lnTo>
                            <a:pt x="225" y="35"/>
                          </a:lnTo>
                          <a:lnTo>
                            <a:pt x="230" y="33"/>
                          </a:lnTo>
                          <a:lnTo>
                            <a:pt x="234" y="30"/>
                          </a:lnTo>
                          <a:lnTo>
                            <a:pt x="239" y="27"/>
                          </a:lnTo>
                          <a:lnTo>
                            <a:pt x="244" y="24"/>
                          </a:lnTo>
                          <a:lnTo>
                            <a:pt x="248" y="22"/>
                          </a:lnTo>
                          <a:lnTo>
                            <a:pt x="254" y="20"/>
                          </a:lnTo>
                          <a:lnTo>
                            <a:pt x="259" y="16"/>
                          </a:lnTo>
                          <a:lnTo>
                            <a:pt x="264" y="15"/>
                          </a:lnTo>
                          <a:lnTo>
                            <a:pt x="268" y="12"/>
                          </a:lnTo>
                          <a:lnTo>
                            <a:pt x="274" y="9"/>
                          </a:lnTo>
                          <a:lnTo>
                            <a:pt x="279" y="8"/>
                          </a:lnTo>
                          <a:lnTo>
                            <a:pt x="288" y="4"/>
                          </a:lnTo>
                          <a:lnTo>
                            <a:pt x="299" y="0"/>
                          </a:lnTo>
                          <a:lnTo>
                            <a:pt x="288" y="5"/>
                          </a:lnTo>
                          <a:lnTo>
                            <a:pt x="279" y="9"/>
                          </a:lnTo>
                          <a:lnTo>
                            <a:pt x="274" y="12"/>
                          </a:lnTo>
                          <a:lnTo>
                            <a:pt x="271" y="15"/>
                          </a:lnTo>
                          <a:lnTo>
                            <a:pt x="267" y="16"/>
                          </a:lnTo>
                          <a:lnTo>
                            <a:pt x="262" y="20"/>
                          </a:lnTo>
                          <a:lnTo>
                            <a:pt x="257" y="23"/>
                          </a:lnTo>
                          <a:lnTo>
                            <a:pt x="253" y="26"/>
                          </a:lnTo>
                          <a:lnTo>
                            <a:pt x="248" y="28"/>
                          </a:lnTo>
                          <a:lnTo>
                            <a:pt x="244" y="33"/>
                          </a:lnTo>
                          <a:lnTo>
                            <a:pt x="238" y="35"/>
                          </a:lnTo>
                          <a:lnTo>
                            <a:pt x="233" y="38"/>
                          </a:lnTo>
                          <a:lnTo>
                            <a:pt x="228" y="42"/>
                          </a:lnTo>
                          <a:lnTo>
                            <a:pt x="222" y="45"/>
                          </a:lnTo>
                          <a:lnTo>
                            <a:pt x="218" y="49"/>
                          </a:lnTo>
                          <a:lnTo>
                            <a:pt x="211" y="53"/>
                          </a:lnTo>
                          <a:lnTo>
                            <a:pt x="207" y="56"/>
                          </a:lnTo>
                          <a:lnTo>
                            <a:pt x="202" y="60"/>
                          </a:lnTo>
                          <a:lnTo>
                            <a:pt x="196" y="64"/>
                          </a:lnTo>
                          <a:lnTo>
                            <a:pt x="192" y="68"/>
                          </a:lnTo>
                          <a:lnTo>
                            <a:pt x="185" y="71"/>
                          </a:lnTo>
                          <a:lnTo>
                            <a:pt x="179" y="75"/>
                          </a:lnTo>
                          <a:lnTo>
                            <a:pt x="175" y="79"/>
                          </a:lnTo>
                          <a:lnTo>
                            <a:pt x="169" y="83"/>
                          </a:lnTo>
                          <a:lnTo>
                            <a:pt x="164" y="87"/>
                          </a:lnTo>
                          <a:lnTo>
                            <a:pt x="158" y="90"/>
                          </a:lnTo>
                          <a:lnTo>
                            <a:pt x="152" y="94"/>
                          </a:lnTo>
                          <a:lnTo>
                            <a:pt x="147" y="100"/>
                          </a:lnTo>
                          <a:lnTo>
                            <a:pt x="141" y="103"/>
                          </a:lnTo>
                          <a:lnTo>
                            <a:pt x="137" y="107"/>
                          </a:lnTo>
                          <a:lnTo>
                            <a:pt x="130" y="111"/>
                          </a:lnTo>
                          <a:lnTo>
                            <a:pt x="124" y="115"/>
                          </a:lnTo>
                          <a:lnTo>
                            <a:pt x="120" y="118"/>
                          </a:lnTo>
                          <a:lnTo>
                            <a:pt x="114" y="122"/>
                          </a:lnTo>
                          <a:lnTo>
                            <a:pt x="107" y="126"/>
                          </a:lnTo>
                          <a:lnTo>
                            <a:pt x="103" y="130"/>
                          </a:lnTo>
                          <a:lnTo>
                            <a:pt x="97" y="133"/>
                          </a:lnTo>
                          <a:lnTo>
                            <a:pt x="92" y="137"/>
                          </a:lnTo>
                          <a:lnTo>
                            <a:pt x="86" y="140"/>
                          </a:lnTo>
                          <a:lnTo>
                            <a:pt x="81" y="144"/>
                          </a:lnTo>
                          <a:lnTo>
                            <a:pt x="75" y="146"/>
                          </a:lnTo>
                          <a:lnTo>
                            <a:pt x="72" y="151"/>
                          </a:lnTo>
                          <a:lnTo>
                            <a:pt x="66" y="153"/>
                          </a:lnTo>
                          <a:lnTo>
                            <a:pt x="62" y="157"/>
                          </a:lnTo>
                          <a:lnTo>
                            <a:pt x="57" y="160"/>
                          </a:lnTo>
                          <a:lnTo>
                            <a:pt x="52" y="163"/>
                          </a:lnTo>
                          <a:lnTo>
                            <a:pt x="48" y="166"/>
                          </a:lnTo>
                          <a:lnTo>
                            <a:pt x="43" y="168"/>
                          </a:lnTo>
                          <a:lnTo>
                            <a:pt x="39" y="171"/>
                          </a:lnTo>
                          <a:lnTo>
                            <a:pt x="34" y="174"/>
                          </a:lnTo>
                          <a:lnTo>
                            <a:pt x="31" y="175"/>
                          </a:lnTo>
                          <a:lnTo>
                            <a:pt x="28" y="178"/>
                          </a:lnTo>
                          <a:lnTo>
                            <a:pt x="23" y="181"/>
                          </a:lnTo>
                          <a:lnTo>
                            <a:pt x="19" y="182"/>
                          </a:lnTo>
                          <a:lnTo>
                            <a:pt x="16" y="184"/>
                          </a:lnTo>
                          <a:lnTo>
                            <a:pt x="13" y="186"/>
                          </a:lnTo>
                          <a:lnTo>
                            <a:pt x="7" y="189"/>
                          </a:lnTo>
                          <a:lnTo>
                            <a:pt x="0" y="19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Freeform 288"/>
                    <p:cNvSpPr/>
                    <p:nvPr/>
                  </p:nvSpPr>
                  <p:spPr>
                    <a:xfrm>
                      <a:off x="807480" y="2048400"/>
                      <a:ext cx="10800" cy="1440"/>
                    </a:xfrm>
                    <a:custGeom>
                      <a:avLst/>
                      <a:gdLst>
                        <a:gd name="textAreaLeft" fmla="*/ 0 w 10800"/>
                        <a:gd name="textAreaRight" fmla="*/ 10800 w 1080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51" h="6">
                          <a:moveTo>
                            <a:pt x="42" y="0"/>
                          </a:moveTo>
                          <a:lnTo>
                            <a:pt x="0" y="3"/>
                          </a:lnTo>
                          <a:lnTo>
                            <a:pt x="5" y="4"/>
                          </a:lnTo>
                          <a:lnTo>
                            <a:pt x="11" y="6"/>
                          </a:lnTo>
                          <a:lnTo>
                            <a:pt x="14" y="6"/>
                          </a:lnTo>
                          <a:lnTo>
                            <a:pt x="20" y="6"/>
                          </a:lnTo>
                          <a:lnTo>
                            <a:pt x="25" y="6"/>
                          </a:lnTo>
                          <a:lnTo>
                            <a:pt x="29" y="6"/>
                          </a:lnTo>
                          <a:lnTo>
                            <a:pt x="35" y="6"/>
                          </a:lnTo>
                          <a:lnTo>
                            <a:pt x="42" y="6"/>
                          </a:lnTo>
                          <a:lnTo>
                            <a:pt x="51" y="3"/>
                          </a:lnTo>
                          <a:lnTo>
                            <a:pt x="4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289"/>
                    <p:cNvSpPr/>
                    <p:nvPr/>
                  </p:nvSpPr>
                  <p:spPr>
                    <a:xfrm>
                      <a:off x="986760" y="1980720"/>
                      <a:ext cx="10440" cy="8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49" h="30">
                          <a:moveTo>
                            <a:pt x="41" y="30"/>
                          </a:moveTo>
                          <a:lnTo>
                            <a:pt x="49" y="26"/>
                          </a:lnTo>
                          <a:lnTo>
                            <a:pt x="3" y="1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3" y="5"/>
                          </a:lnTo>
                          <a:lnTo>
                            <a:pt x="14" y="12"/>
                          </a:lnTo>
                          <a:lnTo>
                            <a:pt x="20" y="17"/>
                          </a:lnTo>
                          <a:lnTo>
                            <a:pt x="26" y="21"/>
                          </a:lnTo>
                          <a:lnTo>
                            <a:pt x="30" y="23"/>
                          </a:lnTo>
                          <a:lnTo>
                            <a:pt x="33" y="26"/>
                          </a:lnTo>
                          <a:lnTo>
                            <a:pt x="38" y="27"/>
                          </a:lnTo>
                          <a:lnTo>
                            <a:pt x="41" y="3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290"/>
                    <p:cNvSpPr/>
                    <p:nvPr/>
                  </p:nvSpPr>
                  <p:spPr>
                    <a:xfrm>
                      <a:off x="1015560" y="2048400"/>
                      <a:ext cx="29160" cy="2520"/>
                    </a:xfrm>
                    <a:custGeom>
                      <a:avLst/>
                      <a:gdLst>
                        <a:gd name="textAreaLeft" fmla="*/ 0 w 29160"/>
                        <a:gd name="textAreaRight" fmla="*/ 29520 w 2916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36" h="10">
                          <a:moveTo>
                            <a:pt x="136" y="0"/>
                          </a:moveTo>
                          <a:lnTo>
                            <a:pt x="131" y="0"/>
                          </a:lnTo>
                          <a:lnTo>
                            <a:pt x="127" y="0"/>
                          </a:lnTo>
                          <a:lnTo>
                            <a:pt x="122" y="0"/>
                          </a:lnTo>
                          <a:lnTo>
                            <a:pt x="118" y="0"/>
                          </a:lnTo>
                          <a:lnTo>
                            <a:pt x="113" y="0"/>
                          </a:lnTo>
                          <a:lnTo>
                            <a:pt x="109" y="0"/>
                          </a:lnTo>
                          <a:lnTo>
                            <a:pt x="104" y="0"/>
                          </a:lnTo>
                          <a:lnTo>
                            <a:pt x="101" y="0"/>
                          </a:lnTo>
                          <a:lnTo>
                            <a:pt x="96" y="0"/>
                          </a:lnTo>
                          <a:lnTo>
                            <a:pt x="92" y="0"/>
                          </a:lnTo>
                          <a:lnTo>
                            <a:pt x="87" y="0"/>
                          </a:lnTo>
                          <a:lnTo>
                            <a:pt x="84" y="0"/>
                          </a:lnTo>
                          <a:lnTo>
                            <a:pt x="79" y="0"/>
                          </a:lnTo>
                          <a:lnTo>
                            <a:pt x="75" y="0"/>
                          </a:lnTo>
                          <a:lnTo>
                            <a:pt x="70" y="0"/>
                          </a:lnTo>
                          <a:lnTo>
                            <a:pt x="67" y="0"/>
                          </a:lnTo>
                          <a:lnTo>
                            <a:pt x="63" y="0"/>
                          </a:lnTo>
                          <a:lnTo>
                            <a:pt x="58" y="0"/>
                          </a:lnTo>
                          <a:lnTo>
                            <a:pt x="53" y="0"/>
                          </a:lnTo>
                          <a:lnTo>
                            <a:pt x="50" y="0"/>
                          </a:lnTo>
                          <a:lnTo>
                            <a:pt x="46" y="0"/>
                          </a:lnTo>
                          <a:lnTo>
                            <a:pt x="41" y="0"/>
                          </a:lnTo>
                          <a:lnTo>
                            <a:pt x="37" y="2"/>
                          </a:lnTo>
                          <a:lnTo>
                            <a:pt x="34" y="2"/>
                          </a:lnTo>
                          <a:lnTo>
                            <a:pt x="29" y="2"/>
                          </a:lnTo>
                          <a:lnTo>
                            <a:pt x="24" y="3"/>
                          </a:lnTo>
                          <a:lnTo>
                            <a:pt x="20" y="3"/>
                          </a:lnTo>
                          <a:lnTo>
                            <a:pt x="17" y="4"/>
                          </a:lnTo>
                          <a:lnTo>
                            <a:pt x="12" y="4"/>
                          </a:lnTo>
                          <a:lnTo>
                            <a:pt x="8" y="6"/>
                          </a:lnTo>
                          <a:lnTo>
                            <a:pt x="3" y="6"/>
                          </a:lnTo>
                          <a:lnTo>
                            <a:pt x="0" y="9"/>
                          </a:lnTo>
                          <a:lnTo>
                            <a:pt x="27" y="10"/>
                          </a:lnTo>
                          <a:lnTo>
                            <a:pt x="31" y="9"/>
                          </a:lnTo>
                          <a:lnTo>
                            <a:pt x="35" y="6"/>
                          </a:lnTo>
                          <a:lnTo>
                            <a:pt x="41" y="6"/>
                          </a:lnTo>
                          <a:lnTo>
                            <a:pt x="47" y="6"/>
                          </a:lnTo>
                          <a:lnTo>
                            <a:pt x="55" y="6"/>
                          </a:lnTo>
                          <a:lnTo>
                            <a:pt x="58" y="6"/>
                          </a:lnTo>
                          <a:lnTo>
                            <a:pt x="61" y="6"/>
                          </a:lnTo>
                          <a:lnTo>
                            <a:pt x="66" y="6"/>
                          </a:lnTo>
                          <a:lnTo>
                            <a:pt x="69" y="7"/>
                          </a:lnTo>
                          <a:lnTo>
                            <a:pt x="73" y="7"/>
                          </a:lnTo>
                          <a:lnTo>
                            <a:pt x="76" y="9"/>
                          </a:lnTo>
                          <a:lnTo>
                            <a:pt x="81" y="9"/>
                          </a:lnTo>
                          <a:lnTo>
                            <a:pt x="84" y="9"/>
                          </a:lnTo>
                          <a:lnTo>
                            <a:pt x="87" y="9"/>
                          </a:lnTo>
                          <a:lnTo>
                            <a:pt x="92" y="10"/>
                          </a:lnTo>
                          <a:lnTo>
                            <a:pt x="95" y="10"/>
                          </a:lnTo>
                          <a:lnTo>
                            <a:pt x="99" y="10"/>
                          </a:lnTo>
                          <a:lnTo>
                            <a:pt x="102" y="10"/>
                          </a:lnTo>
                          <a:lnTo>
                            <a:pt x="105" y="10"/>
                          </a:lnTo>
                          <a:lnTo>
                            <a:pt x="109" y="10"/>
                          </a:lnTo>
                          <a:lnTo>
                            <a:pt x="113" y="10"/>
                          </a:lnTo>
                          <a:lnTo>
                            <a:pt x="119" y="9"/>
                          </a:lnTo>
                          <a:lnTo>
                            <a:pt x="125" y="7"/>
                          </a:lnTo>
                          <a:lnTo>
                            <a:pt x="130" y="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Freeform 291"/>
                    <p:cNvSpPr/>
                    <p:nvPr/>
                  </p:nvSpPr>
                  <p:spPr>
                    <a:xfrm>
                      <a:off x="1000440" y="1991520"/>
                      <a:ext cx="24480" cy="17640"/>
                    </a:xfrm>
                    <a:custGeom>
                      <a:avLst/>
                      <a:gdLst>
                        <a:gd name="textAreaLeft" fmla="*/ 0 w 24480"/>
                        <a:gd name="textAreaRight" fmla="*/ 24840 w 24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113" h="62">
                          <a:moveTo>
                            <a:pt x="0" y="0"/>
                          </a:moveTo>
                          <a:lnTo>
                            <a:pt x="113" y="62"/>
                          </a:lnTo>
                          <a:lnTo>
                            <a:pt x="112" y="61"/>
                          </a:lnTo>
                          <a:lnTo>
                            <a:pt x="107" y="61"/>
                          </a:lnTo>
                          <a:lnTo>
                            <a:pt x="104" y="59"/>
                          </a:lnTo>
                          <a:lnTo>
                            <a:pt x="103" y="59"/>
                          </a:lnTo>
                          <a:lnTo>
                            <a:pt x="100" y="58"/>
                          </a:lnTo>
                          <a:lnTo>
                            <a:pt x="96" y="58"/>
                          </a:lnTo>
                          <a:lnTo>
                            <a:pt x="92" y="57"/>
                          </a:lnTo>
                          <a:lnTo>
                            <a:pt x="87" y="55"/>
                          </a:lnTo>
                          <a:lnTo>
                            <a:pt x="84" y="54"/>
                          </a:lnTo>
                          <a:lnTo>
                            <a:pt x="80" y="52"/>
                          </a:lnTo>
                          <a:lnTo>
                            <a:pt x="75" y="50"/>
                          </a:lnTo>
                          <a:lnTo>
                            <a:pt x="72" y="48"/>
                          </a:lnTo>
                          <a:lnTo>
                            <a:pt x="67" y="46"/>
                          </a:lnTo>
                          <a:lnTo>
                            <a:pt x="63" y="44"/>
                          </a:lnTo>
                          <a:lnTo>
                            <a:pt x="57" y="40"/>
                          </a:lnTo>
                          <a:lnTo>
                            <a:pt x="52" y="37"/>
                          </a:lnTo>
                          <a:lnTo>
                            <a:pt x="46" y="33"/>
                          </a:lnTo>
                          <a:lnTo>
                            <a:pt x="41" y="31"/>
                          </a:lnTo>
                          <a:lnTo>
                            <a:pt x="35" y="26"/>
                          </a:lnTo>
                          <a:lnTo>
                            <a:pt x="31" y="22"/>
                          </a:lnTo>
                          <a:lnTo>
                            <a:pt x="25" y="20"/>
                          </a:lnTo>
                          <a:lnTo>
                            <a:pt x="21" y="17"/>
                          </a:lnTo>
                          <a:lnTo>
                            <a:pt x="17" y="13"/>
                          </a:lnTo>
                          <a:lnTo>
                            <a:pt x="12" y="10"/>
                          </a:lnTo>
                          <a:lnTo>
                            <a:pt x="9" y="7"/>
                          </a:lnTo>
                          <a:lnTo>
                            <a:pt x="6" y="6"/>
                          </a:lnTo>
                          <a:lnTo>
                            <a:pt x="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292"/>
                    <p:cNvSpPr/>
                    <p:nvPr/>
                  </p:nvSpPr>
                  <p:spPr>
                    <a:xfrm>
                      <a:off x="890640" y="1927800"/>
                      <a:ext cx="30960" cy="27000"/>
                    </a:xfrm>
                    <a:custGeom>
                      <a:avLst/>
                      <a:gdLst>
                        <a:gd name="textAreaLeft" fmla="*/ 0 w 30960"/>
                        <a:gd name="textAreaRight" fmla="*/ 31320 w 30960"/>
                        <a:gd name="textAreaTop" fmla="*/ 0 h 27000"/>
                        <a:gd name="textAreaBottom" fmla="*/ 27360 h 27000"/>
                      </a:gdLst>
                      <a:ahLst/>
                      <a:rect l="textAreaLeft" t="textAreaTop" r="textAreaRight" b="textAreaBottom"/>
                      <a:pathLst>
                        <a:path w="144" h="96">
                          <a:moveTo>
                            <a:pt x="144" y="0"/>
                          </a:moveTo>
                          <a:lnTo>
                            <a:pt x="139" y="3"/>
                          </a:lnTo>
                          <a:lnTo>
                            <a:pt x="135" y="6"/>
                          </a:lnTo>
                          <a:lnTo>
                            <a:pt x="130" y="8"/>
                          </a:lnTo>
                          <a:lnTo>
                            <a:pt x="126" y="11"/>
                          </a:lnTo>
                          <a:lnTo>
                            <a:pt x="121" y="15"/>
                          </a:lnTo>
                          <a:lnTo>
                            <a:pt x="116" y="18"/>
                          </a:lnTo>
                          <a:lnTo>
                            <a:pt x="112" y="21"/>
                          </a:lnTo>
                          <a:lnTo>
                            <a:pt x="107" y="24"/>
                          </a:lnTo>
                          <a:lnTo>
                            <a:pt x="103" y="26"/>
                          </a:lnTo>
                          <a:lnTo>
                            <a:pt x="98" y="29"/>
                          </a:lnTo>
                          <a:lnTo>
                            <a:pt x="94" y="32"/>
                          </a:lnTo>
                          <a:lnTo>
                            <a:pt x="90" y="36"/>
                          </a:lnTo>
                          <a:lnTo>
                            <a:pt x="84" y="39"/>
                          </a:lnTo>
                          <a:lnTo>
                            <a:pt x="80" y="41"/>
                          </a:lnTo>
                          <a:lnTo>
                            <a:pt x="75" y="44"/>
                          </a:lnTo>
                          <a:lnTo>
                            <a:pt x="72" y="47"/>
                          </a:lnTo>
                          <a:lnTo>
                            <a:pt x="66" y="50"/>
                          </a:lnTo>
                          <a:lnTo>
                            <a:pt x="61" y="52"/>
                          </a:lnTo>
                          <a:lnTo>
                            <a:pt x="57" y="55"/>
                          </a:lnTo>
                          <a:lnTo>
                            <a:pt x="52" y="59"/>
                          </a:lnTo>
                          <a:lnTo>
                            <a:pt x="48" y="62"/>
                          </a:lnTo>
                          <a:lnTo>
                            <a:pt x="45" y="65"/>
                          </a:lnTo>
                          <a:lnTo>
                            <a:pt x="38" y="67"/>
                          </a:lnTo>
                          <a:lnTo>
                            <a:pt x="35" y="70"/>
                          </a:lnTo>
                          <a:lnTo>
                            <a:pt x="31" y="73"/>
                          </a:lnTo>
                          <a:lnTo>
                            <a:pt x="26" y="77"/>
                          </a:lnTo>
                          <a:lnTo>
                            <a:pt x="22" y="80"/>
                          </a:lnTo>
                          <a:lnTo>
                            <a:pt x="17" y="83"/>
                          </a:lnTo>
                          <a:lnTo>
                            <a:pt x="14" y="85"/>
                          </a:lnTo>
                          <a:lnTo>
                            <a:pt x="9" y="89"/>
                          </a:lnTo>
                          <a:lnTo>
                            <a:pt x="5" y="92"/>
                          </a:lnTo>
                          <a:lnTo>
                            <a:pt x="0" y="96"/>
                          </a:lnTo>
                          <a:lnTo>
                            <a:pt x="5" y="94"/>
                          </a:lnTo>
                          <a:lnTo>
                            <a:pt x="9" y="91"/>
                          </a:lnTo>
                          <a:lnTo>
                            <a:pt x="14" y="88"/>
                          </a:lnTo>
                          <a:lnTo>
                            <a:pt x="19" y="85"/>
                          </a:lnTo>
                          <a:lnTo>
                            <a:pt x="23" y="83"/>
                          </a:lnTo>
                          <a:lnTo>
                            <a:pt x="28" y="81"/>
                          </a:lnTo>
                          <a:lnTo>
                            <a:pt x="32" y="78"/>
                          </a:lnTo>
                          <a:lnTo>
                            <a:pt x="37" y="76"/>
                          </a:lnTo>
                          <a:lnTo>
                            <a:pt x="42" y="73"/>
                          </a:lnTo>
                          <a:lnTo>
                            <a:pt x="46" y="70"/>
                          </a:lnTo>
                          <a:lnTo>
                            <a:pt x="51" y="67"/>
                          </a:lnTo>
                          <a:lnTo>
                            <a:pt x="55" y="65"/>
                          </a:lnTo>
                          <a:lnTo>
                            <a:pt x="60" y="61"/>
                          </a:lnTo>
                          <a:lnTo>
                            <a:pt x="64" y="58"/>
                          </a:lnTo>
                          <a:lnTo>
                            <a:pt x="71" y="55"/>
                          </a:lnTo>
                          <a:lnTo>
                            <a:pt x="75" y="52"/>
                          </a:lnTo>
                          <a:lnTo>
                            <a:pt x="80" y="48"/>
                          </a:lnTo>
                          <a:lnTo>
                            <a:pt x="84" y="46"/>
                          </a:lnTo>
                          <a:lnTo>
                            <a:pt x="89" y="43"/>
                          </a:lnTo>
                          <a:lnTo>
                            <a:pt x="94" y="40"/>
                          </a:lnTo>
                          <a:lnTo>
                            <a:pt x="98" y="36"/>
                          </a:lnTo>
                          <a:lnTo>
                            <a:pt x="103" y="33"/>
                          </a:lnTo>
                          <a:lnTo>
                            <a:pt x="107" y="29"/>
                          </a:lnTo>
                          <a:lnTo>
                            <a:pt x="112" y="26"/>
                          </a:lnTo>
                          <a:lnTo>
                            <a:pt x="115" y="24"/>
                          </a:lnTo>
                          <a:lnTo>
                            <a:pt x="120" y="19"/>
                          </a:lnTo>
                          <a:lnTo>
                            <a:pt x="124" y="17"/>
                          </a:lnTo>
                          <a:lnTo>
                            <a:pt x="127" y="13"/>
                          </a:lnTo>
                          <a:lnTo>
                            <a:pt x="132" y="10"/>
                          </a:lnTo>
                          <a:lnTo>
                            <a:pt x="136" y="7"/>
                          </a:lnTo>
                          <a:lnTo>
                            <a:pt x="141" y="3"/>
                          </a:lnTo>
                          <a:lnTo>
                            <a:pt x="144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Freeform 293"/>
                    <p:cNvSpPr/>
                    <p:nvPr/>
                  </p:nvSpPr>
                  <p:spPr>
                    <a:xfrm>
                      <a:off x="935640" y="2049840"/>
                      <a:ext cx="46080" cy="155880"/>
                    </a:xfrm>
                    <a:custGeom>
                      <a:avLst/>
                      <a:gdLst>
                        <a:gd name="textAreaLeft" fmla="*/ 0 w 46080"/>
                        <a:gd name="textAreaRight" fmla="*/ 46440 w 46080"/>
                        <a:gd name="textAreaTop" fmla="*/ 0 h 155880"/>
                        <a:gd name="textAreaBottom" fmla="*/ 156240 h 155880"/>
                      </a:gdLst>
                      <a:ahLst/>
                      <a:rect l="textAreaLeft" t="textAreaTop" r="textAreaRight" b="textAreaBottom"/>
                      <a:pathLst>
                        <a:path w="214" h="551">
                          <a:moveTo>
                            <a:pt x="1" y="0"/>
                          </a:moveTo>
                          <a:lnTo>
                            <a:pt x="1" y="2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0" y="17"/>
                          </a:lnTo>
                          <a:lnTo>
                            <a:pt x="0" y="22"/>
                          </a:lnTo>
                          <a:lnTo>
                            <a:pt x="1" y="26"/>
                          </a:lnTo>
                          <a:lnTo>
                            <a:pt x="1" y="32"/>
                          </a:lnTo>
                          <a:lnTo>
                            <a:pt x="1" y="36"/>
                          </a:lnTo>
                          <a:lnTo>
                            <a:pt x="3" y="42"/>
                          </a:lnTo>
                          <a:lnTo>
                            <a:pt x="3" y="47"/>
                          </a:lnTo>
                          <a:lnTo>
                            <a:pt x="5" y="52"/>
                          </a:lnTo>
                          <a:lnTo>
                            <a:pt x="5" y="58"/>
                          </a:lnTo>
                          <a:lnTo>
                            <a:pt x="5" y="63"/>
                          </a:lnTo>
                          <a:lnTo>
                            <a:pt x="6" y="69"/>
                          </a:lnTo>
                          <a:lnTo>
                            <a:pt x="6" y="74"/>
                          </a:lnTo>
                          <a:lnTo>
                            <a:pt x="8" y="80"/>
                          </a:lnTo>
                          <a:lnTo>
                            <a:pt x="8" y="84"/>
                          </a:lnTo>
                          <a:lnTo>
                            <a:pt x="9" y="91"/>
                          </a:lnTo>
                          <a:lnTo>
                            <a:pt x="9" y="95"/>
                          </a:lnTo>
                          <a:lnTo>
                            <a:pt x="11" y="101"/>
                          </a:lnTo>
                          <a:lnTo>
                            <a:pt x="11" y="105"/>
                          </a:lnTo>
                          <a:lnTo>
                            <a:pt x="11" y="109"/>
                          </a:lnTo>
                          <a:lnTo>
                            <a:pt x="11" y="113"/>
                          </a:lnTo>
                          <a:lnTo>
                            <a:pt x="12" y="116"/>
                          </a:lnTo>
                          <a:lnTo>
                            <a:pt x="12" y="118"/>
                          </a:lnTo>
                          <a:lnTo>
                            <a:pt x="14" y="122"/>
                          </a:lnTo>
                          <a:lnTo>
                            <a:pt x="14" y="127"/>
                          </a:lnTo>
                          <a:lnTo>
                            <a:pt x="14" y="129"/>
                          </a:lnTo>
                          <a:lnTo>
                            <a:pt x="14" y="132"/>
                          </a:lnTo>
                          <a:lnTo>
                            <a:pt x="14" y="136"/>
                          </a:lnTo>
                          <a:lnTo>
                            <a:pt x="15" y="140"/>
                          </a:lnTo>
                          <a:lnTo>
                            <a:pt x="15" y="144"/>
                          </a:lnTo>
                          <a:lnTo>
                            <a:pt x="15" y="149"/>
                          </a:lnTo>
                          <a:lnTo>
                            <a:pt x="17" y="153"/>
                          </a:lnTo>
                          <a:lnTo>
                            <a:pt x="17" y="155"/>
                          </a:lnTo>
                          <a:lnTo>
                            <a:pt x="18" y="160"/>
                          </a:lnTo>
                          <a:lnTo>
                            <a:pt x="18" y="162"/>
                          </a:lnTo>
                          <a:lnTo>
                            <a:pt x="18" y="165"/>
                          </a:lnTo>
                          <a:lnTo>
                            <a:pt x="18" y="166"/>
                          </a:lnTo>
                          <a:lnTo>
                            <a:pt x="18" y="168"/>
                          </a:lnTo>
                          <a:lnTo>
                            <a:pt x="17" y="168"/>
                          </a:lnTo>
                          <a:lnTo>
                            <a:pt x="15" y="166"/>
                          </a:lnTo>
                          <a:lnTo>
                            <a:pt x="14" y="165"/>
                          </a:lnTo>
                          <a:lnTo>
                            <a:pt x="12" y="161"/>
                          </a:lnTo>
                          <a:lnTo>
                            <a:pt x="14" y="551"/>
                          </a:lnTo>
                          <a:lnTo>
                            <a:pt x="214" y="551"/>
                          </a:lnTo>
                          <a:lnTo>
                            <a:pt x="210" y="84"/>
                          </a:lnTo>
                          <a:lnTo>
                            <a:pt x="210" y="79"/>
                          </a:lnTo>
                          <a:lnTo>
                            <a:pt x="210" y="74"/>
                          </a:lnTo>
                          <a:lnTo>
                            <a:pt x="210" y="69"/>
                          </a:lnTo>
                          <a:lnTo>
                            <a:pt x="210" y="65"/>
                          </a:lnTo>
                          <a:lnTo>
                            <a:pt x="210" y="59"/>
                          </a:lnTo>
                          <a:lnTo>
                            <a:pt x="210" y="57"/>
                          </a:lnTo>
                          <a:lnTo>
                            <a:pt x="210" y="51"/>
                          </a:lnTo>
                          <a:lnTo>
                            <a:pt x="210" y="47"/>
                          </a:lnTo>
                          <a:lnTo>
                            <a:pt x="210" y="42"/>
                          </a:lnTo>
                          <a:lnTo>
                            <a:pt x="210" y="39"/>
                          </a:lnTo>
                          <a:lnTo>
                            <a:pt x="210" y="33"/>
                          </a:lnTo>
                          <a:lnTo>
                            <a:pt x="210" y="29"/>
                          </a:lnTo>
                          <a:lnTo>
                            <a:pt x="210" y="24"/>
                          </a:lnTo>
                          <a:lnTo>
                            <a:pt x="210" y="20"/>
                          </a:lnTo>
                          <a:lnTo>
                            <a:pt x="210" y="15"/>
                          </a:lnTo>
                          <a:lnTo>
                            <a:pt x="210" y="11"/>
                          </a:lnTo>
                          <a:lnTo>
                            <a:pt x="202" y="15"/>
                          </a:lnTo>
                          <a:lnTo>
                            <a:pt x="200" y="20"/>
                          </a:lnTo>
                          <a:lnTo>
                            <a:pt x="200" y="22"/>
                          </a:lnTo>
                          <a:lnTo>
                            <a:pt x="200" y="26"/>
                          </a:lnTo>
                          <a:lnTo>
                            <a:pt x="200" y="31"/>
                          </a:lnTo>
                          <a:lnTo>
                            <a:pt x="200" y="35"/>
                          </a:lnTo>
                          <a:lnTo>
                            <a:pt x="200" y="39"/>
                          </a:lnTo>
                          <a:lnTo>
                            <a:pt x="200" y="43"/>
                          </a:lnTo>
                          <a:lnTo>
                            <a:pt x="200" y="47"/>
                          </a:lnTo>
                          <a:lnTo>
                            <a:pt x="200" y="51"/>
                          </a:lnTo>
                          <a:lnTo>
                            <a:pt x="200" y="54"/>
                          </a:lnTo>
                          <a:lnTo>
                            <a:pt x="200" y="58"/>
                          </a:lnTo>
                          <a:lnTo>
                            <a:pt x="202" y="62"/>
                          </a:lnTo>
                          <a:lnTo>
                            <a:pt x="202" y="66"/>
                          </a:lnTo>
                          <a:lnTo>
                            <a:pt x="202" y="69"/>
                          </a:lnTo>
                          <a:lnTo>
                            <a:pt x="203" y="73"/>
                          </a:lnTo>
                          <a:lnTo>
                            <a:pt x="203" y="77"/>
                          </a:lnTo>
                          <a:lnTo>
                            <a:pt x="203" y="79"/>
                          </a:lnTo>
                          <a:lnTo>
                            <a:pt x="203" y="81"/>
                          </a:lnTo>
                          <a:lnTo>
                            <a:pt x="202" y="84"/>
                          </a:lnTo>
                          <a:lnTo>
                            <a:pt x="202" y="85"/>
                          </a:lnTo>
                          <a:lnTo>
                            <a:pt x="200" y="80"/>
                          </a:lnTo>
                          <a:lnTo>
                            <a:pt x="200" y="74"/>
                          </a:lnTo>
                          <a:lnTo>
                            <a:pt x="199" y="69"/>
                          </a:lnTo>
                          <a:lnTo>
                            <a:pt x="199" y="63"/>
                          </a:lnTo>
                          <a:lnTo>
                            <a:pt x="199" y="58"/>
                          </a:lnTo>
                          <a:lnTo>
                            <a:pt x="197" y="52"/>
                          </a:lnTo>
                          <a:lnTo>
                            <a:pt x="197" y="47"/>
                          </a:lnTo>
                          <a:lnTo>
                            <a:pt x="196" y="42"/>
                          </a:lnTo>
                          <a:lnTo>
                            <a:pt x="194" y="43"/>
                          </a:lnTo>
                          <a:lnTo>
                            <a:pt x="194" y="47"/>
                          </a:lnTo>
                          <a:lnTo>
                            <a:pt x="194" y="50"/>
                          </a:lnTo>
                          <a:lnTo>
                            <a:pt x="194" y="52"/>
                          </a:lnTo>
                          <a:lnTo>
                            <a:pt x="194" y="57"/>
                          </a:lnTo>
                          <a:lnTo>
                            <a:pt x="194" y="61"/>
                          </a:lnTo>
                          <a:lnTo>
                            <a:pt x="194" y="63"/>
                          </a:lnTo>
                          <a:lnTo>
                            <a:pt x="194" y="69"/>
                          </a:lnTo>
                          <a:lnTo>
                            <a:pt x="194" y="73"/>
                          </a:lnTo>
                          <a:lnTo>
                            <a:pt x="194" y="79"/>
                          </a:lnTo>
                          <a:lnTo>
                            <a:pt x="194" y="83"/>
                          </a:lnTo>
                          <a:lnTo>
                            <a:pt x="194" y="88"/>
                          </a:lnTo>
                          <a:lnTo>
                            <a:pt x="194" y="94"/>
                          </a:lnTo>
                          <a:lnTo>
                            <a:pt x="196" y="99"/>
                          </a:lnTo>
                          <a:lnTo>
                            <a:pt x="196" y="103"/>
                          </a:lnTo>
                          <a:lnTo>
                            <a:pt x="196" y="109"/>
                          </a:lnTo>
                          <a:lnTo>
                            <a:pt x="196" y="113"/>
                          </a:lnTo>
                          <a:lnTo>
                            <a:pt x="196" y="117"/>
                          </a:lnTo>
                          <a:lnTo>
                            <a:pt x="196" y="121"/>
                          </a:lnTo>
                          <a:lnTo>
                            <a:pt x="196" y="125"/>
                          </a:lnTo>
                          <a:lnTo>
                            <a:pt x="196" y="129"/>
                          </a:lnTo>
                          <a:lnTo>
                            <a:pt x="196" y="133"/>
                          </a:lnTo>
                          <a:lnTo>
                            <a:pt x="196" y="138"/>
                          </a:lnTo>
                          <a:lnTo>
                            <a:pt x="196" y="140"/>
                          </a:lnTo>
                          <a:lnTo>
                            <a:pt x="194" y="142"/>
                          </a:lnTo>
                          <a:lnTo>
                            <a:pt x="194" y="140"/>
                          </a:lnTo>
                          <a:lnTo>
                            <a:pt x="193" y="135"/>
                          </a:lnTo>
                          <a:lnTo>
                            <a:pt x="193" y="128"/>
                          </a:lnTo>
                          <a:lnTo>
                            <a:pt x="193" y="122"/>
                          </a:lnTo>
                          <a:lnTo>
                            <a:pt x="193" y="118"/>
                          </a:lnTo>
                          <a:lnTo>
                            <a:pt x="193" y="112"/>
                          </a:lnTo>
                          <a:lnTo>
                            <a:pt x="191" y="106"/>
                          </a:lnTo>
                          <a:lnTo>
                            <a:pt x="191" y="101"/>
                          </a:lnTo>
                          <a:lnTo>
                            <a:pt x="191" y="95"/>
                          </a:lnTo>
                          <a:lnTo>
                            <a:pt x="190" y="92"/>
                          </a:lnTo>
                          <a:lnTo>
                            <a:pt x="190" y="88"/>
                          </a:lnTo>
                          <a:lnTo>
                            <a:pt x="190" y="85"/>
                          </a:lnTo>
                          <a:lnTo>
                            <a:pt x="190" y="84"/>
                          </a:lnTo>
                          <a:lnTo>
                            <a:pt x="188" y="79"/>
                          </a:lnTo>
                          <a:lnTo>
                            <a:pt x="188" y="73"/>
                          </a:lnTo>
                          <a:lnTo>
                            <a:pt x="188" y="69"/>
                          </a:lnTo>
                          <a:lnTo>
                            <a:pt x="188" y="63"/>
                          </a:lnTo>
                          <a:lnTo>
                            <a:pt x="188" y="59"/>
                          </a:lnTo>
                          <a:lnTo>
                            <a:pt x="188" y="55"/>
                          </a:lnTo>
                          <a:lnTo>
                            <a:pt x="188" y="50"/>
                          </a:lnTo>
                          <a:lnTo>
                            <a:pt x="188" y="46"/>
                          </a:lnTo>
                          <a:lnTo>
                            <a:pt x="188" y="40"/>
                          </a:lnTo>
                          <a:lnTo>
                            <a:pt x="190" y="36"/>
                          </a:lnTo>
                          <a:lnTo>
                            <a:pt x="190" y="31"/>
                          </a:lnTo>
                          <a:lnTo>
                            <a:pt x="190" y="25"/>
                          </a:lnTo>
                          <a:lnTo>
                            <a:pt x="190" y="20"/>
                          </a:lnTo>
                          <a:lnTo>
                            <a:pt x="190" y="14"/>
                          </a:lnTo>
                          <a:lnTo>
                            <a:pt x="171" y="14"/>
                          </a:lnTo>
                          <a:lnTo>
                            <a:pt x="171" y="17"/>
                          </a:lnTo>
                          <a:lnTo>
                            <a:pt x="171" y="21"/>
                          </a:lnTo>
                          <a:lnTo>
                            <a:pt x="171" y="25"/>
                          </a:lnTo>
                          <a:lnTo>
                            <a:pt x="171" y="29"/>
                          </a:lnTo>
                          <a:lnTo>
                            <a:pt x="171" y="32"/>
                          </a:lnTo>
                          <a:lnTo>
                            <a:pt x="171" y="36"/>
                          </a:lnTo>
                          <a:lnTo>
                            <a:pt x="171" y="40"/>
                          </a:lnTo>
                          <a:lnTo>
                            <a:pt x="171" y="44"/>
                          </a:lnTo>
                          <a:lnTo>
                            <a:pt x="171" y="47"/>
                          </a:lnTo>
                          <a:lnTo>
                            <a:pt x="171" y="52"/>
                          </a:lnTo>
                          <a:lnTo>
                            <a:pt x="171" y="55"/>
                          </a:lnTo>
                          <a:lnTo>
                            <a:pt x="171" y="59"/>
                          </a:lnTo>
                          <a:lnTo>
                            <a:pt x="171" y="63"/>
                          </a:lnTo>
                          <a:lnTo>
                            <a:pt x="171" y="68"/>
                          </a:lnTo>
                          <a:lnTo>
                            <a:pt x="171" y="72"/>
                          </a:lnTo>
                          <a:lnTo>
                            <a:pt x="173" y="76"/>
                          </a:lnTo>
                          <a:lnTo>
                            <a:pt x="173" y="79"/>
                          </a:lnTo>
                          <a:lnTo>
                            <a:pt x="173" y="83"/>
                          </a:lnTo>
                          <a:lnTo>
                            <a:pt x="173" y="87"/>
                          </a:lnTo>
                          <a:lnTo>
                            <a:pt x="173" y="91"/>
                          </a:lnTo>
                          <a:lnTo>
                            <a:pt x="173" y="94"/>
                          </a:lnTo>
                          <a:lnTo>
                            <a:pt x="174" y="98"/>
                          </a:lnTo>
                          <a:lnTo>
                            <a:pt x="174" y="102"/>
                          </a:lnTo>
                          <a:lnTo>
                            <a:pt x="174" y="106"/>
                          </a:lnTo>
                          <a:lnTo>
                            <a:pt x="174" y="109"/>
                          </a:lnTo>
                          <a:lnTo>
                            <a:pt x="174" y="113"/>
                          </a:lnTo>
                          <a:lnTo>
                            <a:pt x="174" y="116"/>
                          </a:lnTo>
                          <a:lnTo>
                            <a:pt x="174" y="120"/>
                          </a:lnTo>
                          <a:lnTo>
                            <a:pt x="174" y="124"/>
                          </a:lnTo>
                          <a:lnTo>
                            <a:pt x="176" y="127"/>
                          </a:lnTo>
                          <a:lnTo>
                            <a:pt x="176" y="131"/>
                          </a:lnTo>
                          <a:lnTo>
                            <a:pt x="176" y="133"/>
                          </a:lnTo>
                          <a:lnTo>
                            <a:pt x="176" y="136"/>
                          </a:lnTo>
                          <a:lnTo>
                            <a:pt x="176" y="139"/>
                          </a:lnTo>
                          <a:lnTo>
                            <a:pt x="176" y="143"/>
                          </a:lnTo>
                          <a:lnTo>
                            <a:pt x="176" y="149"/>
                          </a:lnTo>
                          <a:lnTo>
                            <a:pt x="176" y="153"/>
                          </a:lnTo>
                          <a:lnTo>
                            <a:pt x="176" y="160"/>
                          </a:lnTo>
                          <a:lnTo>
                            <a:pt x="176" y="162"/>
                          </a:lnTo>
                          <a:lnTo>
                            <a:pt x="176" y="165"/>
                          </a:lnTo>
                          <a:lnTo>
                            <a:pt x="176" y="168"/>
                          </a:lnTo>
                          <a:lnTo>
                            <a:pt x="176" y="172"/>
                          </a:lnTo>
                          <a:lnTo>
                            <a:pt x="176" y="177"/>
                          </a:lnTo>
                          <a:lnTo>
                            <a:pt x="176" y="183"/>
                          </a:lnTo>
                          <a:lnTo>
                            <a:pt x="174" y="187"/>
                          </a:lnTo>
                          <a:lnTo>
                            <a:pt x="174" y="192"/>
                          </a:lnTo>
                          <a:lnTo>
                            <a:pt x="174" y="198"/>
                          </a:lnTo>
                          <a:lnTo>
                            <a:pt x="173" y="202"/>
                          </a:lnTo>
                          <a:lnTo>
                            <a:pt x="171" y="205"/>
                          </a:lnTo>
                          <a:lnTo>
                            <a:pt x="171" y="206"/>
                          </a:lnTo>
                          <a:lnTo>
                            <a:pt x="170" y="201"/>
                          </a:lnTo>
                          <a:lnTo>
                            <a:pt x="170" y="195"/>
                          </a:lnTo>
                          <a:lnTo>
                            <a:pt x="168" y="188"/>
                          </a:lnTo>
                          <a:lnTo>
                            <a:pt x="168" y="183"/>
                          </a:lnTo>
                          <a:lnTo>
                            <a:pt x="168" y="180"/>
                          </a:lnTo>
                          <a:lnTo>
                            <a:pt x="168" y="177"/>
                          </a:lnTo>
                          <a:lnTo>
                            <a:pt x="167" y="173"/>
                          </a:lnTo>
                          <a:lnTo>
                            <a:pt x="167" y="171"/>
                          </a:lnTo>
                          <a:lnTo>
                            <a:pt x="167" y="165"/>
                          </a:lnTo>
                          <a:lnTo>
                            <a:pt x="167" y="160"/>
                          </a:lnTo>
                          <a:lnTo>
                            <a:pt x="167" y="155"/>
                          </a:lnTo>
                          <a:lnTo>
                            <a:pt x="167" y="153"/>
                          </a:lnTo>
                          <a:lnTo>
                            <a:pt x="167" y="149"/>
                          </a:lnTo>
                          <a:lnTo>
                            <a:pt x="167" y="146"/>
                          </a:lnTo>
                          <a:lnTo>
                            <a:pt x="167" y="143"/>
                          </a:lnTo>
                          <a:lnTo>
                            <a:pt x="167" y="140"/>
                          </a:lnTo>
                          <a:lnTo>
                            <a:pt x="167" y="136"/>
                          </a:lnTo>
                          <a:lnTo>
                            <a:pt x="167" y="133"/>
                          </a:lnTo>
                          <a:lnTo>
                            <a:pt x="167" y="131"/>
                          </a:lnTo>
                          <a:lnTo>
                            <a:pt x="167" y="128"/>
                          </a:lnTo>
                          <a:lnTo>
                            <a:pt x="167" y="124"/>
                          </a:lnTo>
                          <a:lnTo>
                            <a:pt x="167" y="121"/>
                          </a:lnTo>
                          <a:lnTo>
                            <a:pt x="167" y="118"/>
                          </a:lnTo>
                          <a:lnTo>
                            <a:pt x="167" y="116"/>
                          </a:lnTo>
                          <a:lnTo>
                            <a:pt x="167" y="112"/>
                          </a:lnTo>
                          <a:lnTo>
                            <a:pt x="168" y="109"/>
                          </a:lnTo>
                          <a:lnTo>
                            <a:pt x="168" y="106"/>
                          </a:lnTo>
                          <a:lnTo>
                            <a:pt x="168" y="102"/>
                          </a:lnTo>
                          <a:lnTo>
                            <a:pt x="168" y="99"/>
                          </a:lnTo>
                          <a:lnTo>
                            <a:pt x="168" y="95"/>
                          </a:lnTo>
                          <a:lnTo>
                            <a:pt x="168" y="92"/>
                          </a:lnTo>
                          <a:lnTo>
                            <a:pt x="168" y="90"/>
                          </a:lnTo>
                          <a:lnTo>
                            <a:pt x="168" y="85"/>
                          </a:lnTo>
                          <a:lnTo>
                            <a:pt x="168" y="83"/>
                          </a:lnTo>
                          <a:lnTo>
                            <a:pt x="168" y="80"/>
                          </a:lnTo>
                          <a:lnTo>
                            <a:pt x="168" y="76"/>
                          </a:lnTo>
                          <a:lnTo>
                            <a:pt x="168" y="73"/>
                          </a:lnTo>
                          <a:lnTo>
                            <a:pt x="168" y="70"/>
                          </a:lnTo>
                          <a:lnTo>
                            <a:pt x="168" y="66"/>
                          </a:lnTo>
                          <a:lnTo>
                            <a:pt x="168" y="63"/>
                          </a:lnTo>
                          <a:lnTo>
                            <a:pt x="168" y="61"/>
                          </a:lnTo>
                          <a:lnTo>
                            <a:pt x="168" y="58"/>
                          </a:lnTo>
                          <a:lnTo>
                            <a:pt x="167" y="54"/>
                          </a:lnTo>
                          <a:lnTo>
                            <a:pt x="167" y="51"/>
                          </a:lnTo>
                          <a:lnTo>
                            <a:pt x="167" y="48"/>
                          </a:lnTo>
                          <a:lnTo>
                            <a:pt x="167" y="46"/>
                          </a:lnTo>
                          <a:lnTo>
                            <a:pt x="167" y="39"/>
                          </a:lnTo>
                          <a:lnTo>
                            <a:pt x="167" y="33"/>
                          </a:lnTo>
                          <a:lnTo>
                            <a:pt x="165" y="28"/>
                          </a:lnTo>
                          <a:lnTo>
                            <a:pt x="165" y="22"/>
                          </a:lnTo>
                          <a:lnTo>
                            <a:pt x="165" y="17"/>
                          </a:lnTo>
                          <a:lnTo>
                            <a:pt x="164" y="11"/>
                          </a:lnTo>
                          <a:lnTo>
                            <a:pt x="162" y="10"/>
                          </a:lnTo>
                          <a:lnTo>
                            <a:pt x="161" y="14"/>
                          </a:lnTo>
                          <a:lnTo>
                            <a:pt x="157" y="17"/>
                          </a:lnTo>
                          <a:lnTo>
                            <a:pt x="156" y="18"/>
                          </a:lnTo>
                          <a:lnTo>
                            <a:pt x="154" y="20"/>
                          </a:lnTo>
                          <a:lnTo>
                            <a:pt x="154" y="22"/>
                          </a:lnTo>
                          <a:lnTo>
                            <a:pt x="153" y="26"/>
                          </a:lnTo>
                          <a:lnTo>
                            <a:pt x="153" y="29"/>
                          </a:lnTo>
                          <a:lnTo>
                            <a:pt x="153" y="32"/>
                          </a:lnTo>
                          <a:lnTo>
                            <a:pt x="153" y="36"/>
                          </a:lnTo>
                          <a:lnTo>
                            <a:pt x="153" y="39"/>
                          </a:lnTo>
                          <a:lnTo>
                            <a:pt x="153" y="43"/>
                          </a:lnTo>
                          <a:lnTo>
                            <a:pt x="156" y="105"/>
                          </a:lnTo>
                          <a:lnTo>
                            <a:pt x="156" y="109"/>
                          </a:lnTo>
                          <a:lnTo>
                            <a:pt x="156" y="114"/>
                          </a:lnTo>
                          <a:lnTo>
                            <a:pt x="156" y="120"/>
                          </a:lnTo>
                          <a:lnTo>
                            <a:pt x="156" y="125"/>
                          </a:lnTo>
                          <a:lnTo>
                            <a:pt x="156" y="129"/>
                          </a:lnTo>
                          <a:lnTo>
                            <a:pt x="156" y="135"/>
                          </a:lnTo>
                          <a:lnTo>
                            <a:pt x="156" y="140"/>
                          </a:lnTo>
                          <a:lnTo>
                            <a:pt x="156" y="144"/>
                          </a:lnTo>
                          <a:lnTo>
                            <a:pt x="154" y="150"/>
                          </a:lnTo>
                          <a:lnTo>
                            <a:pt x="154" y="155"/>
                          </a:lnTo>
                          <a:lnTo>
                            <a:pt x="154" y="160"/>
                          </a:lnTo>
                          <a:lnTo>
                            <a:pt x="154" y="165"/>
                          </a:lnTo>
                          <a:lnTo>
                            <a:pt x="153" y="171"/>
                          </a:lnTo>
                          <a:lnTo>
                            <a:pt x="153" y="175"/>
                          </a:lnTo>
                          <a:lnTo>
                            <a:pt x="153" y="180"/>
                          </a:lnTo>
                          <a:lnTo>
                            <a:pt x="153" y="186"/>
                          </a:lnTo>
                          <a:lnTo>
                            <a:pt x="153" y="512"/>
                          </a:lnTo>
                          <a:lnTo>
                            <a:pt x="78" y="515"/>
                          </a:lnTo>
                          <a:lnTo>
                            <a:pt x="73" y="66"/>
                          </a:lnTo>
                          <a:lnTo>
                            <a:pt x="72" y="62"/>
                          </a:lnTo>
                          <a:lnTo>
                            <a:pt x="72" y="59"/>
                          </a:lnTo>
                          <a:lnTo>
                            <a:pt x="72" y="57"/>
                          </a:lnTo>
                          <a:lnTo>
                            <a:pt x="72" y="54"/>
                          </a:lnTo>
                          <a:lnTo>
                            <a:pt x="70" y="50"/>
                          </a:lnTo>
                          <a:lnTo>
                            <a:pt x="70" y="47"/>
                          </a:lnTo>
                          <a:lnTo>
                            <a:pt x="69" y="43"/>
                          </a:lnTo>
                          <a:lnTo>
                            <a:pt x="69" y="40"/>
                          </a:lnTo>
                          <a:lnTo>
                            <a:pt x="69" y="37"/>
                          </a:lnTo>
                          <a:lnTo>
                            <a:pt x="69" y="33"/>
                          </a:lnTo>
                          <a:lnTo>
                            <a:pt x="67" y="31"/>
                          </a:lnTo>
                          <a:lnTo>
                            <a:pt x="67" y="28"/>
                          </a:lnTo>
                          <a:lnTo>
                            <a:pt x="66" y="21"/>
                          </a:lnTo>
                          <a:lnTo>
                            <a:pt x="66" y="15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Freeform 294"/>
                    <p:cNvSpPr/>
                    <p:nvPr/>
                  </p:nvSpPr>
                  <p:spPr>
                    <a:xfrm>
                      <a:off x="824040" y="2141280"/>
                      <a:ext cx="2520" cy="5040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50400"/>
                        <a:gd name="textAreaBottom" fmla="*/ 50760 h 50400"/>
                      </a:gdLst>
                      <a:ahLst/>
                      <a:rect l="textAreaLeft" t="textAreaTop" r="textAreaRight" b="textAreaBottom"/>
                      <a:pathLst>
                        <a:path w="12" h="178">
                          <a:moveTo>
                            <a:pt x="4" y="176"/>
                          </a:moveTo>
                          <a:lnTo>
                            <a:pt x="7" y="178"/>
                          </a:lnTo>
                          <a:lnTo>
                            <a:pt x="9" y="176"/>
                          </a:lnTo>
                          <a:lnTo>
                            <a:pt x="9" y="175"/>
                          </a:lnTo>
                          <a:lnTo>
                            <a:pt x="9" y="172"/>
                          </a:lnTo>
                          <a:lnTo>
                            <a:pt x="9" y="167"/>
                          </a:lnTo>
                          <a:lnTo>
                            <a:pt x="9" y="161"/>
                          </a:lnTo>
                          <a:lnTo>
                            <a:pt x="9" y="156"/>
                          </a:lnTo>
                          <a:lnTo>
                            <a:pt x="9" y="150"/>
                          </a:lnTo>
                          <a:lnTo>
                            <a:pt x="9" y="145"/>
                          </a:lnTo>
                          <a:lnTo>
                            <a:pt x="9" y="139"/>
                          </a:lnTo>
                          <a:lnTo>
                            <a:pt x="9" y="134"/>
                          </a:lnTo>
                          <a:lnTo>
                            <a:pt x="10" y="129"/>
                          </a:lnTo>
                          <a:lnTo>
                            <a:pt x="10" y="124"/>
                          </a:lnTo>
                          <a:lnTo>
                            <a:pt x="10" y="118"/>
                          </a:lnTo>
                          <a:lnTo>
                            <a:pt x="10" y="112"/>
                          </a:lnTo>
                          <a:lnTo>
                            <a:pt x="10" y="108"/>
                          </a:lnTo>
                          <a:lnTo>
                            <a:pt x="10" y="102"/>
                          </a:lnTo>
                          <a:lnTo>
                            <a:pt x="10" y="97"/>
                          </a:lnTo>
                          <a:lnTo>
                            <a:pt x="10" y="91"/>
                          </a:lnTo>
                          <a:lnTo>
                            <a:pt x="12" y="86"/>
                          </a:lnTo>
                          <a:lnTo>
                            <a:pt x="12" y="80"/>
                          </a:lnTo>
                          <a:lnTo>
                            <a:pt x="12" y="75"/>
                          </a:lnTo>
                          <a:lnTo>
                            <a:pt x="12" y="69"/>
                          </a:lnTo>
                          <a:lnTo>
                            <a:pt x="12" y="64"/>
                          </a:lnTo>
                          <a:lnTo>
                            <a:pt x="12" y="58"/>
                          </a:lnTo>
                          <a:lnTo>
                            <a:pt x="12" y="53"/>
                          </a:lnTo>
                          <a:lnTo>
                            <a:pt x="12" y="47"/>
                          </a:lnTo>
                          <a:lnTo>
                            <a:pt x="12" y="43"/>
                          </a:lnTo>
                          <a:lnTo>
                            <a:pt x="12" y="38"/>
                          </a:lnTo>
                          <a:lnTo>
                            <a:pt x="12" y="31"/>
                          </a:lnTo>
                          <a:lnTo>
                            <a:pt x="12" y="25"/>
                          </a:lnTo>
                          <a:lnTo>
                            <a:pt x="12" y="21"/>
                          </a:lnTo>
                          <a:lnTo>
                            <a:pt x="12" y="16"/>
                          </a:lnTo>
                          <a:lnTo>
                            <a:pt x="12" y="10"/>
                          </a:lnTo>
                          <a:lnTo>
                            <a:pt x="12" y="5"/>
                          </a:lnTo>
                          <a:lnTo>
                            <a:pt x="12" y="0"/>
                          </a:lnTo>
                          <a:lnTo>
                            <a:pt x="12" y="5"/>
                          </a:lnTo>
                          <a:lnTo>
                            <a:pt x="10" y="9"/>
                          </a:lnTo>
                          <a:lnTo>
                            <a:pt x="9" y="11"/>
                          </a:lnTo>
                          <a:lnTo>
                            <a:pt x="9" y="16"/>
                          </a:lnTo>
                          <a:lnTo>
                            <a:pt x="9" y="18"/>
                          </a:lnTo>
                          <a:lnTo>
                            <a:pt x="9" y="22"/>
                          </a:lnTo>
                          <a:lnTo>
                            <a:pt x="9" y="28"/>
                          </a:lnTo>
                          <a:lnTo>
                            <a:pt x="7" y="29"/>
                          </a:lnTo>
                          <a:lnTo>
                            <a:pt x="7" y="33"/>
                          </a:lnTo>
                          <a:lnTo>
                            <a:pt x="7" y="36"/>
                          </a:lnTo>
                          <a:lnTo>
                            <a:pt x="7" y="40"/>
                          </a:lnTo>
                          <a:lnTo>
                            <a:pt x="6" y="43"/>
                          </a:lnTo>
                          <a:lnTo>
                            <a:pt x="6" y="47"/>
                          </a:lnTo>
                          <a:lnTo>
                            <a:pt x="6" y="51"/>
                          </a:lnTo>
                          <a:lnTo>
                            <a:pt x="6" y="55"/>
                          </a:lnTo>
                          <a:lnTo>
                            <a:pt x="6" y="59"/>
                          </a:lnTo>
                          <a:lnTo>
                            <a:pt x="4" y="62"/>
                          </a:lnTo>
                          <a:lnTo>
                            <a:pt x="4" y="66"/>
                          </a:lnTo>
                          <a:lnTo>
                            <a:pt x="4" y="70"/>
                          </a:lnTo>
                          <a:lnTo>
                            <a:pt x="3" y="73"/>
                          </a:lnTo>
                          <a:lnTo>
                            <a:pt x="3" y="77"/>
                          </a:lnTo>
                          <a:lnTo>
                            <a:pt x="3" y="81"/>
                          </a:lnTo>
                          <a:lnTo>
                            <a:pt x="3" y="84"/>
                          </a:lnTo>
                          <a:lnTo>
                            <a:pt x="1" y="91"/>
                          </a:lnTo>
                          <a:lnTo>
                            <a:pt x="1" y="95"/>
                          </a:lnTo>
                          <a:lnTo>
                            <a:pt x="1" y="99"/>
                          </a:lnTo>
                          <a:lnTo>
                            <a:pt x="1" y="102"/>
                          </a:lnTo>
                          <a:lnTo>
                            <a:pt x="1" y="106"/>
                          </a:lnTo>
                          <a:lnTo>
                            <a:pt x="0" y="110"/>
                          </a:lnTo>
                          <a:lnTo>
                            <a:pt x="0" y="114"/>
                          </a:lnTo>
                          <a:lnTo>
                            <a:pt x="0" y="120"/>
                          </a:lnTo>
                          <a:lnTo>
                            <a:pt x="0" y="124"/>
                          </a:lnTo>
                          <a:lnTo>
                            <a:pt x="0" y="129"/>
                          </a:lnTo>
                          <a:lnTo>
                            <a:pt x="1" y="134"/>
                          </a:lnTo>
                          <a:lnTo>
                            <a:pt x="1" y="139"/>
                          </a:lnTo>
                          <a:lnTo>
                            <a:pt x="1" y="143"/>
                          </a:lnTo>
                          <a:lnTo>
                            <a:pt x="1" y="149"/>
                          </a:lnTo>
                          <a:lnTo>
                            <a:pt x="3" y="153"/>
                          </a:lnTo>
                          <a:lnTo>
                            <a:pt x="3" y="158"/>
                          </a:lnTo>
                          <a:lnTo>
                            <a:pt x="3" y="162"/>
                          </a:lnTo>
                          <a:lnTo>
                            <a:pt x="4" y="168"/>
                          </a:lnTo>
                          <a:lnTo>
                            <a:pt x="4" y="172"/>
                          </a:lnTo>
                          <a:lnTo>
                            <a:pt x="4" y="17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295"/>
                    <p:cNvSpPr/>
                    <p:nvPr/>
                  </p:nvSpPr>
                  <p:spPr>
                    <a:xfrm>
                      <a:off x="849960" y="2144520"/>
                      <a:ext cx="2520" cy="4536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45360"/>
                        <a:gd name="textAreaBottom" fmla="*/ 45720 h 45360"/>
                      </a:gdLst>
                      <a:ahLst/>
                      <a:rect l="textAreaLeft" t="textAreaTop" r="textAreaRight" b="textAreaBottom"/>
                      <a:pathLst>
                        <a:path w="12" h="161">
                          <a:moveTo>
                            <a:pt x="12" y="0"/>
                          </a:moveTo>
                          <a:lnTo>
                            <a:pt x="11" y="5"/>
                          </a:lnTo>
                          <a:lnTo>
                            <a:pt x="11" y="10"/>
                          </a:lnTo>
                          <a:lnTo>
                            <a:pt x="9" y="16"/>
                          </a:lnTo>
                          <a:lnTo>
                            <a:pt x="9" y="20"/>
                          </a:lnTo>
                          <a:lnTo>
                            <a:pt x="9" y="25"/>
                          </a:lnTo>
                          <a:lnTo>
                            <a:pt x="9" y="31"/>
                          </a:lnTo>
                          <a:lnTo>
                            <a:pt x="9" y="36"/>
                          </a:lnTo>
                          <a:lnTo>
                            <a:pt x="9" y="40"/>
                          </a:lnTo>
                          <a:lnTo>
                            <a:pt x="9" y="46"/>
                          </a:lnTo>
                          <a:lnTo>
                            <a:pt x="9" y="51"/>
                          </a:lnTo>
                          <a:lnTo>
                            <a:pt x="9" y="55"/>
                          </a:lnTo>
                          <a:lnTo>
                            <a:pt x="9" y="61"/>
                          </a:lnTo>
                          <a:lnTo>
                            <a:pt x="8" y="66"/>
                          </a:lnTo>
                          <a:lnTo>
                            <a:pt x="8" y="70"/>
                          </a:lnTo>
                          <a:lnTo>
                            <a:pt x="8" y="76"/>
                          </a:lnTo>
                          <a:lnTo>
                            <a:pt x="8" y="81"/>
                          </a:lnTo>
                          <a:lnTo>
                            <a:pt x="8" y="86"/>
                          </a:lnTo>
                          <a:lnTo>
                            <a:pt x="8" y="91"/>
                          </a:lnTo>
                          <a:lnTo>
                            <a:pt x="6" y="97"/>
                          </a:lnTo>
                          <a:lnTo>
                            <a:pt x="6" y="101"/>
                          </a:lnTo>
                          <a:lnTo>
                            <a:pt x="6" y="106"/>
                          </a:lnTo>
                          <a:lnTo>
                            <a:pt x="6" y="112"/>
                          </a:lnTo>
                          <a:lnTo>
                            <a:pt x="6" y="116"/>
                          </a:lnTo>
                          <a:lnTo>
                            <a:pt x="6" y="121"/>
                          </a:lnTo>
                          <a:lnTo>
                            <a:pt x="5" y="125"/>
                          </a:lnTo>
                          <a:lnTo>
                            <a:pt x="5" y="131"/>
                          </a:lnTo>
                          <a:lnTo>
                            <a:pt x="3" y="136"/>
                          </a:lnTo>
                          <a:lnTo>
                            <a:pt x="3" y="140"/>
                          </a:lnTo>
                          <a:lnTo>
                            <a:pt x="2" y="146"/>
                          </a:lnTo>
                          <a:lnTo>
                            <a:pt x="2" y="151"/>
                          </a:lnTo>
                          <a:lnTo>
                            <a:pt x="0" y="157"/>
                          </a:lnTo>
                          <a:lnTo>
                            <a:pt x="0" y="161"/>
                          </a:lnTo>
                          <a:lnTo>
                            <a:pt x="0" y="160"/>
                          </a:lnTo>
                          <a:lnTo>
                            <a:pt x="0" y="157"/>
                          </a:lnTo>
                          <a:lnTo>
                            <a:pt x="0" y="153"/>
                          </a:lnTo>
                          <a:lnTo>
                            <a:pt x="0" y="150"/>
                          </a:lnTo>
                          <a:lnTo>
                            <a:pt x="0" y="146"/>
                          </a:lnTo>
                          <a:lnTo>
                            <a:pt x="0" y="140"/>
                          </a:lnTo>
                          <a:lnTo>
                            <a:pt x="0" y="136"/>
                          </a:lnTo>
                          <a:lnTo>
                            <a:pt x="2" y="131"/>
                          </a:lnTo>
                          <a:lnTo>
                            <a:pt x="2" y="128"/>
                          </a:lnTo>
                          <a:lnTo>
                            <a:pt x="2" y="125"/>
                          </a:lnTo>
                          <a:lnTo>
                            <a:pt x="2" y="121"/>
                          </a:lnTo>
                          <a:lnTo>
                            <a:pt x="2" y="118"/>
                          </a:lnTo>
                          <a:lnTo>
                            <a:pt x="2" y="116"/>
                          </a:lnTo>
                          <a:lnTo>
                            <a:pt x="2" y="112"/>
                          </a:lnTo>
                          <a:lnTo>
                            <a:pt x="2" y="109"/>
                          </a:lnTo>
                          <a:lnTo>
                            <a:pt x="2" y="106"/>
                          </a:lnTo>
                          <a:lnTo>
                            <a:pt x="2" y="102"/>
                          </a:lnTo>
                          <a:lnTo>
                            <a:pt x="2" y="98"/>
                          </a:lnTo>
                          <a:lnTo>
                            <a:pt x="2" y="95"/>
                          </a:lnTo>
                          <a:lnTo>
                            <a:pt x="3" y="92"/>
                          </a:lnTo>
                          <a:lnTo>
                            <a:pt x="3" y="88"/>
                          </a:lnTo>
                          <a:lnTo>
                            <a:pt x="3" y="86"/>
                          </a:lnTo>
                          <a:lnTo>
                            <a:pt x="3" y="81"/>
                          </a:lnTo>
                          <a:lnTo>
                            <a:pt x="3" y="79"/>
                          </a:lnTo>
                          <a:lnTo>
                            <a:pt x="3" y="75"/>
                          </a:lnTo>
                          <a:lnTo>
                            <a:pt x="3" y="70"/>
                          </a:lnTo>
                          <a:lnTo>
                            <a:pt x="3" y="68"/>
                          </a:lnTo>
                          <a:lnTo>
                            <a:pt x="3" y="64"/>
                          </a:lnTo>
                          <a:lnTo>
                            <a:pt x="3" y="61"/>
                          </a:lnTo>
                          <a:lnTo>
                            <a:pt x="5" y="57"/>
                          </a:lnTo>
                          <a:lnTo>
                            <a:pt x="5" y="54"/>
                          </a:lnTo>
                          <a:lnTo>
                            <a:pt x="5" y="50"/>
                          </a:lnTo>
                          <a:lnTo>
                            <a:pt x="5" y="47"/>
                          </a:lnTo>
                          <a:lnTo>
                            <a:pt x="5" y="43"/>
                          </a:lnTo>
                          <a:lnTo>
                            <a:pt x="5" y="40"/>
                          </a:lnTo>
                          <a:lnTo>
                            <a:pt x="6" y="37"/>
                          </a:lnTo>
                          <a:lnTo>
                            <a:pt x="6" y="33"/>
                          </a:lnTo>
                          <a:lnTo>
                            <a:pt x="6" y="31"/>
                          </a:lnTo>
                          <a:lnTo>
                            <a:pt x="6" y="28"/>
                          </a:lnTo>
                          <a:lnTo>
                            <a:pt x="6" y="27"/>
                          </a:lnTo>
                          <a:lnTo>
                            <a:pt x="6" y="20"/>
                          </a:lnTo>
                          <a:lnTo>
                            <a:pt x="8" y="16"/>
                          </a:lnTo>
                          <a:lnTo>
                            <a:pt x="8" y="11"/>
                          </a:lnTo>
                          <a:lnTo>
                            <a:pt x="9" y="7"/>
                          </a:lnTo>
                          <a:lnTo>
                            <a:pt x="9" y="5"/>
                          </a:lnTo>
                          <a:lnTo>
                            <a:pt x="9" y="2"/>
                          </a:lnTo>
                          <a:lnTo>
                            <a:pt x="11" y="0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Freeform 296"/>
                    <p:cNvSpPr/>
                    <p:nvPr/>
                  </p:nvSpPr>
                  <p:spPr>
                    <a:xfrm>
                      <a:off x="861120" y="1977120"/>
                      <a:ext cx="126000" cy="55080"/>
                    </a:xfrm>
                    <a:custGeom>
                      <a:avLst/>
                      <a:gdLst>
                        <a:gd name="textAreaLeft" fmla="*/ 0 w 126000"/>
                        <a:gd name="textAreaRight" fmla="*/ 126360 w 126000"/>
                        <a:gd name="textAreaTop" fmla="*/ 0 h 55080"/>
                        <a:gd name="textAreaBottom" fmla="*/ 55440 h 55080"/>
                      </a:gdLst>
                      <a:ahLst/>
                      <a:rect l="textAreaLeft" t="textAreaTop" r="textAreaRight" b="textAreaBottom"/>
                      <a:pathLst>
                        <a:path w="582" h="195">
                          <a:moveTo>
                            <a:pt x="198" y="136"/>
                          </a:moveTo>
                          <a:lnTo>
                            <a:pt x="199" y="133"/>
                          </a:lnTo>
                          <a:lnTo>
                            <a:pt x="204" y="131"/>
                          </a:lnTo>
                          <a:lnTo>
                            <a:pt x="208" y="125"/>
                          </a:lnTo>
                          <a:lnTo>
                            <a:pt x="216" y="121"/>
                          </a:lnTo>
                          <a:lnTo>
                            <a:pt x="222" y="117"/>
                          </a:lnTo>
                          <a:lnTo>
                            <a:pt x="227" y="113"/>
                          </a:lnTo>
                          <a:lnTo>
                            <a:pt x="231" y="110"/>
                          </a:lnTo>
                          <a:lnTo>
                            <a:pt x="233" y="109"/>
                          </a:lnTo>
                          <a:lnTo>
                            <a:pt x="234" y="107"/>
                          </a:lnTo>
                          <a:lnTo>
                            <a:pt x="238" y="105"/>
                          </a:lnTo>
                          <a:lnTo>
                            <a:pt x="241" y="100"/>
                          </a:lnTo>
                          <a:lnTo>
                            <a:pt x="245" y="98"/>
                          </a:lnTo>
                          <a:lnTo>
                            <a:pt x="250" y="94"/>
                          </a:lnTo>
                          <a:lnTo>
                            <a:pt x="254" y="89"/>
                          </a:lnTo>
                          <a:lnTo>
                            <a:pt x="259" y="85"/>
                          </a:lnTo>
                          <a:lnTo>
                            <a:pt x="265" y="81"/>
                          </a:lnTo>
                          <a:lnTo>
                            <a:pt x="268" y="76"/>
                          </a:lnTo>
                          <a:lnTo>
                            <a:pt x="273" y="70"/>
                          </a:lnTo>
                          <a:lnTo>
                            <a:pt x="277" y="66"/>
                          </a:lnTo>
                          <a:lnTo>
                            <a:pt x="282" y="62"/>
                          </a:lnTo>
                          <a:lnTo>
                            <a:pt x="283" y="56"/>
                          </a:lnTo>
                          <a:lnTo>
                            <a:pt x="286" y="54"/>
                          </a:lnTo>
                          <a:lnTo>
                            <a:pt x="288" y="50"/>
                          </a:lnTo>
                          <a:lnTo>
                            <a:pt x="288" y="48"/>
                          </a:lnTo>
                          <a:lnTo>
                            <a:pt x="286" y="50"/>
                          </a:lnTo>
                          <a:lnTo>
                            <a:pt x="282" y="54"/>
                          </a:lnTo>
                          <a:lnTo>
                            <a:pt x="276" y="59"/>
                          </a:lnTo>
                          <a:lnTo>
                            <a:pt x="274" y="61"/>
                          </a:lnTo>
                          <a:lnTo>
                            <a:pt x="233" y="102"/>
                          </a:lnTo>
                          <a:lnTo>
                            <a:pt x="234" y="98"/>
                          </a:lnTo>
                          <a:lnTo>
                            <a:pt x="236" y="95"/>
                          </a:lnTo>
                          <a:lnTo>
                            <a:pt x="239" y="89"/>
                          </a:lnTo>
                          <a:lnTo>
                            <a:pt x="242" y="85"/>
                          </a:lnTo>
                          <a:lnTo>
                            <a:pt x="245" y="80"/>
                          </a:lnTo>
                          <a:lnTo>
                            <a:pt x="250" y="74"/>
                          </a:lnTo>
                          <a:lnTo>
                            <a:pt x="254" y="69"/>
                          </a:lnTo>
                          <a:lnTo>
                            <a:pt x="259" y="63"/>
                          </a:lnTo>
                          <a:lnTo>
                            <a:pt x="264" y="56"/>
                          </a:lnTo>
                          <a:lnTo>
                            <a:pt x="268" y="51"/>
                          </a:lnTo>
                          <a:lnTo>
                            <a:pt x="271" y="45"/>
                          </a:lnTo>
                          <a:lnTo>
                            <a:pt x="277" y="41"/>
                          </a:lnTo>
                          <a:lnTo>
                            <a:pt x="280" y="36"/>
                          </a:lnTo>
                          <a:lnTo>
                            <a:pt x="285" y="32"/>
                          </a:lnTo>
                          <a:lnTo>
                            <a:pt x="288" y="28"/>
                          </a:lnTo>
                          <a:lnTo>
                            <a:pt x="291" y="25"/>
                          </a:lnTo>
                          <a:lnTo>
                            <a:pt x="288" y="25"/>
                          </a:lnTo>
                          <a:lnTo>
                            <a:pt x="285" y="28"/>
                          </a:lnTo>
                          <a:lnTo>
                            <a:pt x="280" y="29"/>
                          </a:lnTo>
                          <a:lnTo>
                            <a:pt x="276" y="33"/>
                          </a:lnTo>
                          <a:lnTo>
                            <a:pt x="271" y="37"/>
                          </a:lnTo>
                          <a:lnTo>
                            <a:pt x="265" y="41"/>
                          </a:lnTo>
                          <a:lnTo>
                            <a:pt x="259" y="47"/>
                          </a:lnTo>
                          <a:lnTo>
                            <a:pt x="254" y="52"/>
                          </a:lnTo>
                          <a:lnTo>
                            <a:pt x="248" y="56"/>
                          </a:lnTo>
                          <a:lnTo>
                            <a:pt x="242" y="62"/>
                          </a:lnTo>
                          <a:lnTo>
                            <a:pt x="236" y="66"/>
                          </a:lnTo>
                          <a:lnTo>
                            <a:pt x="231" y="72"/>
                          </a:lnTo>
                          <a:lnTo>
                            <a:pt x="227" y="76"/>
                          </a:lnTo>
                          <a:lnTo>
                            <a:pt x="224" y="80"/>
                          </a:lnTo>
                          <a:lnTo>
                            <a:pt x="222" y="81"/>
                          </a:lnTo>
                          <a:lnTo>
                            <a:pt x="221" y="84"/>
                          </a:lnTo>
                          <a:lnTo>
                            <a:pt x="219" y="85"/>
                          </a:lnTo>
                          <a:lnTo>
                            <a:pt x="218" y="87"/>
                          </a:lnTo>
                          <a:lnTo>
                            <a:pt x="215" y="89"/>
                          </a:lnTo>
                          <a:lnTo>
                            <a:pt x="212" y="94"/>
                          </a:lnTo>
                          <a:lnTo>
                            <a:pt x="207" y="95"/>
                          </a:lnTo>
                          <a:lnTo>
                            <a:pt x="204" y="98"/>
                          </a:lnTo>
                          <a:lnTo>
                            <a:pt x="201" y="99"/>
                          </a:lnTo>
                          <a:lnTo>
                            <a:pt x="199" y="100"/>
                          </a:lnTo>
                          <a:lnTo>
                            <a:pt x="204" y="94"/>
                          </a:lnTo>
                          <a:lnTo>
                            <a:pt x="208" y="88"/>
                          </a:lnTo>
                          <a:lnTo>
                            <a:pt x="212" y="84"/>
                          </a:lnTo>
                          <a:lnTo>
                            <a:pt x="216" y="78"/>
                          </a:lnTo>
                          <a:lnTo>
                            <a:pt x="219" y="73"/>
                          </a:lnTo>
                          <a:lnTo>
                            <a:pt x="222" y="69"/>
                          </a:lnTo>
                          <a:lnTo>
                            <a:pt x="225" y="65"/>
                          </a:lnTo>
                          <a:lnTo>
                            <a:pt x="228" y="61"/>
                          </a:lnTo>
                          <a:lnTo>
                            <a:pt x="231" y="55"/>
                          </a:lnTo>
                          <a:lnTo>
                            <a:pt x="236" y="51"/>
                          </a:lnTo>
                          <a:lnTo>
                            <a:pt x="239" y="47"/>
                          </a:lnTo>
                          <a:lnTo>
                            <a:pt x="244" y="43"/>
                          </a:lnTo>
                          <a:lnTo>
                            <a:pt x="248" y="39"/>
                          </a:lnTo>
                          <a:lnTo>
                            <a:pt x="254" y="35"/>
                          </a:lnTo>
                          <a:lnTo>
                            <a:pt x="259" y="30"/>
                          </a:lnTo>
                          <a:lnTo>
                            <a:pt x="265" y="26"/>
                          </a:lnTo>
                          <a:lnTo>
                            <a:pt x="267" y="24"/>
                          </a:lnTo>
                          <a:lnTo>
                            <a:pt x="270" y="21"/>
                          </a:lnTo>
                          <a:lnTo>
                            <a:pt x="273" y="17"/>
                          </a:lnTo>
                          <a:lnTo>
                            <a:pt x="277" y="11"/>
                          </a:lnTo>
                          <a:lnTo>
                            <a:pt x="280" y="7"/>
                          </a:lnTo>
                          <a:lnTo>
                            <a:pt x="283" y="3"/>
                          </a:lnTo>
                          <a:lnTo>
                            <a:pt x="285" y="0"/>
                          </a:lnTo>
                          <a:lnTo>
                            <a:pt x="286" y="0"/>
                          </a:lnTo>
                          <a:lnTo>
                            <a:pt x="283" y="0"/>
                          </a:lnTo>
                          <a:lnTo>
                            <a:pt x="280" y="3"/>
                          </a:lnTo>
                          <a:lnTo>
                            <a:pt x="276" y="6"/>
                          </a:lnTo>
                          <a:lnTo>
                            <a:pt x="271" y="10"/>
                          </a:lnTo>
                          <a:lnTo>
                            <a:pt x="265" y="14"/>
                          </a:lnTo>
                          <a:lnTo>
                            <a:pt x="262" y="17"/>
                          </a:lnTo>
                          <a:lnTo>
                            <a:pt x="259" y="19"/>
                          </a:lnTo>
                          <a:lnTo>
                            <a:pt x="257" y="19"/>
                          </a:lnTo>
                          <a:lnTo>
                            <a:pt x="254" y="22"/>
                          </a:lnTo>
                          <a:lnTo>
                            <a:pt x="250" y="26"/>
                          </a:lnTo>
                          <a:lnTo>
                            <a:pt x="247" y="29"/>
                          </a:lnTo>
                          <a:lnTo>
                            <a:pt x="244" y="32"/>
                          </a:lnTo>
                          <a:lnTo>
                            <a:pt x="239" y="35"/>
                          </a:lnTo>
                          <a:lnTo>
                            <a:pt x="236" y="39"/>
                          </a:lnTo>
                          <a:lnTo>
                            <a:pt x="231" y="41"/>
                          </a:lnTo>
                          <a:lnTo>
                            <a:pt x="227" y="44"/>
                          </a:lnTo>
                          <a:lnTo>
                            <a:pt x="224" y="48"/>
                          </a:lnTo>
                          <a:lnTo>
                            <a:pt x="219" y="52"/>
                          </a:lnTo>
                          <a:lnTo>
                            <a:pt x="215" y="55"/>
                          </a:lnTo>
                          <a:lnTo>
                            <a:pt x="210" y="59"/>
                          </a:lnTo>
                          <a:lnTo>
                            <a:pt x="205" y="62"/>
                          </a:lnTo>
                          <a:lnTo>
                            <a:pt x="202" y="66"/>
                          </a:lnTo>
                          <a:lnTo>
                            <a:pt x="198" y="69"/>
                          </a:lnTo>
                          <a:lnTo>
                            <a:pt x="193" y="72"/>
                          </a:lnTo>
                          <a:lnTo>
                            <a:pt x="189" y="74"/>
                          </a:lnTo>
                          <a:lnTo>
                            <a:pt x="186" y="77"/>
                          </a:lnTo>
                          <a:lnTo>
                            <a:pt x="179" y="80"/>
                          </a:lnTo>
                          <a:lnTo>
                            <a:pt x="175" y="83"/>
                          </a:lnTo>
                          <a:lnTo>
                            <a:pt x="172" y="83"/>
                          </a:lnTo>
                          <a:lnTo>
                            <a:pt x="172" y="81"/>
                          </a:lnTo>
                          <a:lnTo>
                            <a:pt x="172" y="80"/>
                          </a:lnTo>
                          <a:lnTo>
                            <a:pt x="175" y="77"/>
                          </a:lnTo>
                          <a:lnTo>
                            <a:pt x="176" y="73"/>
                          </a:lnTo>
                          <a:lnTo>
                            <a:pt x="179" y="70"/>
                          </a:lnTo>
                          <a:lnTo>
                            <a:pt x="176" y="70"/>
                          </a:lnTo>
                          <a:lnTo>
                            <a:pt x="172" y="73"/>
                          </a:lnTo>
                          <a:lnTo>
                            <a:pt x="166" y="76"/>
                          </a:lnTo>
                          <a:lnTo>
                            <a:pt x="160" y="81"/>
                          </a:lnTo>
                          <a:lnTo>
                            <a:pt x="156" y="83"/>
                          </a:lnTo>
                          <a:lnTo>
                            <a:pt x="152" y="85"/>
                          </a:lnTo>
                          <a:lnTo>
                            <a:pt x="149" y="88"/>
                          </a:lnTo>
                          <a:lnTo>
                            <a:pt x="144" y="92"/>
                          </a:lnTo>
                          <a:lnTo>
                            <a:pt x="141" y="95"/>
                          </a:lnTo>
                          <a:lnTo>
                            <a:pt x="138" y="98"/>
                          </a:lnTo>
                          <a:lnTo>
                            <a:pt x="134" y="100"/>
                          </a:lnTo>
                          <a:lnTo>
                            <a:pt x="130" y="105"/>
                          </a:lnTo>
                          <a:lnTo>
                            <a:pt x="127" y="107"/>
                          </a:lnTo>
                          <a:lnTo>
                            <a:pt x="123" y="110"/>
                          </a:lnTo>
                          <a:lnTo>
                            <a:pt x="120" y="113"/>
                          </a:lnTo>
                          <a:lnTo>
                            <a:pt x="115" y="115"/>
                          </a:lnTo>
                          <a:lnTo>
                            <a:pt x="109" y="121"/>
                          </a:lnTo>
                          <a:lnTo>
                            <a:pt x="103" y="128"/>
                          </a:lnTo>
                          <a:lnTo>
                            <a:pt x="97" y="132"/>
                          </a:lnTo>
                          <a:lnTo>
                            <a:pt x="94" y="136"/>
                          </a:lnTo>
                          <a:lnTo>
                            <a:pt x="91" y="140"/>
                          </a:lnTo>
                          <a:lnTo>
                            <a:pt x="89" y="143"/>
                          </a:lnTo>
                          <a:lnTo>
                            <a:pt x="88" y="143"/>
                          </a:lnTo>
                          <a:lnTo>
                            <a:pt x="86" y="144"/>
                          </a:lnTo>
                          <a:lnTo>
                            <a:pt x="83" y="146"/>
                          </a:lnTo>
                          <a:lnTo>
                            <a:pt x="78" y="150"/>
                          </a:lnTo>
                          <a:lnTo>
                            <a:pt x="72" y="153"/>
                          </a:lnTo>
                          <a:lnTo>
                            <a:pt x="68" y="157"/>
                          </a:lnTo>
                          <a:lnTo>
                            <a:pt x="62" y="159"/>
                          </a:lnTo>
                          <a:lnTo>
                            <a:pt x="56" y="165"/>
                          </a:lnTo>
                          <a:lnTo>
                            <a:pt x="49" y="169"/>
                          </a:lnTo>
                          <a:lnTo>
                            <a:pt x="43" y="172"/>
                          </a:lnTo>
                          <a:lnTo>
                            <a:pt x="37" y="176"/>
                          </a:lnTo>
                          <a:lnTo>
                            <a:pt x="31" y="181"/>
                          </a:lnTo>
                          <a:lnTo>
                            <a:pt x="25" y="184"/>
                          </a:lnTo>
                          <a:lnTo>
                            <a:pt x="22" y="187"/>
                          </a:lnTo>
                          <a:lnTo>
                            <a:pt x="17" y="188"/>
                          </a:lnTo>
                          <a:lnTo>
                            <a:pt x="16" y="191"/>
                          </a:lnTo>
                          <a:lnTo>
                            <a:pt x="13" y="188"/>
                          </a:lnTo>
                          <a:lnTo>
                            <a:pt x="14" y="184"/>
                          </a:lnTo>
                          <a:lnTo>
                            <a:pt x="20" y="181"/>
                          </a:lnTo>
                          <a:lnTo>
                            <a:pt x="22" y="179"/>
                          </a:lnTo>
                          <a:lnTo>
                            <a:pt x="26" y="176"/>
                          </a:lnTo>
                          <a:lnTo>
                            <a:pt x="30" y="175"/>
                          </a:lnTo>
                          <a:lnTo>
                            <a:pt x="34" y="172"/>
                          </a:lnTo>
                          <a:lnTo>
                            <a:pt x="37" y="169"/>
                          </a:lnTo>
                          <a:lnTo>
                            <a:pt x="42" y="168"/>
                          </a:lnTo>
                          <a:lnTo>
                            <a:pt x="45" y="165"/>
                          </a:lnTo>
                          <a:lnTo>
                            <a:pt x="48" y="164"/>
                          </a:lnTo>
                          <a:lnTo>
                            <a:pt x="54" y="159"/>
                          </a:lnTo>
                          <a:lnTo>
                            <a:pt x="59" y="157"/>
                          </a:lnTo>
                          <a:lnTo>
                            <a:pt x="62" y="151"/>
                          </a:lnTo>
                          <a:lnTo>
                            <a:pt x="66" y="146"/>
                          </a:lnTo>
                          <a:lnTo>
                            <a:pt x="71" y="140"/>
                          </a:lnTo>
                          <a:lnTo>
                            <a:pt x="77" y="135"/>
                          </a:lnTo>
                          <a:lnTo>
                            <a:pt x="82" y="128"/>
                          </a:lnTo>
                          <a:lnTo>
                            <a:pt x="88" y="124"/>
                          </a:lnTo>
                          <a:lnTo>
                            <a:pt x="92" y="120"/>
                          </a:lnTo>
                          <a:lnTo>
                            <a:pt x="97" y="118"/>
                          </a:lnTo>
                          <a:lnTo>
                            <a:pt x="100" y="111"/>
                          </a:lnTo>
                          <a:lnTo>
                            <a:pt x="94" y="113"/>
                          </a:lnTo>
                          <a:lnTo>
                            <a:pt x="89" y="115"/>
                          </a:lnTo>
                          <a:lnTo>
                            <a:pt x="83" y="118"/>
                          </a:lnTo>
                          <a:lnTo>
                            <a:pt x="78" y="120"/>
                          </a:lnTo>
                          <a:lnTo>
                            <a:pt x="75" y="124"/>
                          </a:lnTo>
                          <a:lnTo>
                            <a:pt x="72" y="128"/>
                          </a:lnTo>
                          <a:lnTo>
                            <a:pt x="69" y="132"/>
                          </a:lnTo>
                          <a:lnTo>
                            <a:pt x="68" y="135"/>
                          </a:lnTo>
                          <a:lnTo>
                            <a:pt x="62" y="140"/>
                          </a:lnTo>
                          <a:lnTo>
                            <a:pt x="59" y="144"/>
                          </a:lnTo>
                          <a:lnTo>
                            <a:pt x="56" y="147"/>
                          </a:lnTo>
                          <a:lnTo>
                            <a:pt x="51" y="150"/>
                          </a:lnTo>
                          <a:lnTo>
                            <a:pt x="48" y="153"/>
                          </a:lnTo>
                          <a:lnTo>
                            <a:pt x="45" y="155"/>
                          </a:lnTo>
                          <a:lnTo>
                            <a:pt x="40" y="157"/>
                          </a:lnTo>
                          <a:lnTo>
                            <a:pt x="36" y="159"/>
                          </a:lnTo>
                          <a:lnTo>
                            <a:pt x="31" y="162"/>
                          </a:lnTo>
                          <a:lnTo>
                            <a:pt x="26" y="165"/>
                          </a:lnTo>
                          <a:lnTo>
                            <a:pt x="23" y="168"/>
                          </a:lnTo>
                          <a:lnTo>
                            <a:pt x="20" y="170"/>
                          </a:lnTo>
                          <a:lnTo>
                            <a:pt x="17" y="173"/>
                          </a:lnTo>
                          <a:lnTo>
                            <a:pt x="14" y="177"/>
                          </a:lnTo>
                          <a:lnTo>
                            <a:pt x="11" y="180"/>
                          </a:lnTo>
                          <a:lnTo>
                            <a:pt x="8" y="184"/>
                          </a:lnTo>
                          <a:lnTo>
                            <a:pt x="4" y="190"/>
                          </a:lnTo>
                          <a:lnTo>
                            <a:pt x="0" y="195"/>
                          </a:lnTo>
                          <a:lnTo>
                            <a:pt x="8" y="195"/>
                          </a:lnTo>
                          <a:lnTo>
                            <a:pt x="14" y="195"/>
                          </a:lnTo>
                          <a:lnTo>
                            <a:pt x="22" y="195"/>
                          </a:lnTo>
                          <a:lnTo>
                            <a:pt x="30" y="195"/>
                          </a:lnTo>
                          <a:lnTo>
                            <a:pt x="37" y="195"/>
                          </a:lnTo>
                          <a:lnTo>
                            <a:pt x="45" y="195"/>
                          </a:lnTo>
                          <a:lnTo>
                            <a:pt x="51" y="195"/>
                          </a:lnTo>
                          <a:lnTo>
                            <a:pt x="59" y="195"/>
                          </a:lnTo>
                          <a:lnTo>
                            <a:pt x="66" y="194"/>
                          </a:lnTo>
                          <a:lnTo>
                            <a:pt x="74" y="194"/>
                          </a:lnTo>
                          <a:lnTo>
                            <a:pt x="80" y="194"/>
                          </a:lnTo>
                          <a:lnTo>
                            <a:pt x="88" y="194"/>
                          </a:lnTo>
                          <a:lnTo>
                            <a:pt x="95" y="194"/>
                          </a:lnTo>
                          <a:lnTo>
                            <a:pt x="103" y="194"/>
                          </a:lnTo>
                          <a:lnTo>
                            <a:pt x="111" y="192"/>
                          </a:lnTo>
                          <a:lnTo>
                            <a:pt x="117" y="192"/>
                          </a:lnTo>
                          <a:lnTo>
                            <a:pt x="124" y="191"/>
                          </a:lnTo>
                          <a:lnTo>
                            <a:pt x="130" y="191"/>
                          </a:lnTo>
                          <a:lnTo>
                            <a:pt x="138" y="191"/>
                          </a:lnTo>
                          <a:lnTo>
                            <a:pt x="146" y="191"/>
                          </a:lnTo>
                          <a:lnTo>
                            <a:pt x="153" y="190"/>
                          </a:lnTo>
                          <a:lnTo>
                            <a:pt x="160" y="190"/>
                          </a:lnTo>
                          <a:lnTo>
                            <a:pt x="167" y="188"/>
                          </a:lnTo>
                          <a:lnTo>
                            <a:pt x="175" y="188"/>
                          </a:lnTo>
                          <a:lnTo>
                            <a:pt x="182" y="187"/>
                          </a:lnTo>
                          <a:lnTo>
                            <a:pt x="189" y="187"/>
                          </a:lnTo>
                          <a:lnTo>
                            <a:pt x="196" y="186"/>
                          </a:lnTo>
                          <a:lnTo>
                            <a:pt x="204" y="186"/>
                          </a:lnTo>
                          <a:lnTo>
                            <a:pt x="212" y="184"/>
                          </a:lnTo>
                          <a:lnTo>
                            <a:pt x="219" y="184"/>
                          </a:lnTo>
                          <a:lnTo>
                            <a:pt x="227" y="184"/>
                          </a:lnTo>
                          <a:lnTo>
                            <a:pt x="234" y="184"/>
                          </a:lnTo>
                          <a:lnTo>
                            <a:pt x="242" y="183"/>
                          </a:lnTo>
                          <a:lnTo>
                            <a:pt x="250" y="181"/>
                          </a:lnTo>
                          <a:lnTo>
                            <a:pt x="257" y="181"/>
                          </a:lnTo>
                          <a:lnTo>
                            <a:pt x="265" y="181"/>
                          </a:lnTo>
                          <a:lnTo>
                            <a:pt x="273" y="180"/>
                          </a:lnTo>
                          <a:lnTo>
                            <a:pt x="280" y="180"/>
                          </a:lnTo>
                          <a:lnTo>
                            <a:pt x="288" y="179"/>
                          </a:lnTo>
                          <a:lnTo>
                            <a:pt x="296" y="179"/>
                          </a:lnTo>
                          <a:lnTo>
                            <a:pt x="303" y="177"/>
                          </a:lnTo>
                          <a:lnTo>
                            <a:pt x="312" y="177"/>
                          </a:lnTo>
                          <a:lnTo>
                            <a:pt x="320" y="177"/>
                          </a:lnTo>
                          <a:lnTo>
                            <a:pt x="328" y="177"/>
                          </a:lnTo>
                          <a:lnTo>
                            <a:pt x="337" y="176"/>
                          </a:lnTo>
                          <a:lnTo>
                            <a:pt x="345" y="176"/>
                          </a:lnTo>
                          <a:lnTo>
                            <a:pt x="354" y="175"/>
                          </a:lnTo>
                          <a:lnTo>
                            <a:pt x="363" y="175"/>
                          </a:lnTo>
                          <a:lnTo>
                            <a:pt x="371" y="175"/>
                          </a:lnTo>
                          <a:lnTo>
                            <a:pt x="380" y="175"/>
                          </a:lnTo>
                          <a:lnTo>
                            <a:pt x="387" y="173"/>
                          </a:lnTo>
                          <a:lnTo>
                            <a:pt x="398" y="173"/>
                          </a:lnTo>
                          <a:lnTo>
                            <a:pt x="406" y="173"/>
                          </a:lnTo>
                          <a:lnTo>
                            <a:pt x="415" y="173"/>
                          </a:lnTo>
                          <a:lnTo>
                            <a:pt x="426" y="173"/>
                          </a:lnTo>
                          <a:lnTo>
                            <a:pt x="435" y="173"/>
                          </a:lnTo>
                          <a:lnTo>
                            <a:pt x="444" y="173"/>
                          </a:lnTo>
                          <a:lnTo>
                            <a:pt x="453" y="173"/>
                          </a:lnTo>
                          <a:lnTo>
                            <a:pt x="462" y="173"/>
                          </a:lnTo>
                          <a:lnTo>
                            <a:pt x="473" y="173"/>
                          </a:lnTo>
                          <a:lnTo>
                            <a:pt x="482" y="173"/>
                          </a:lnTo>
                          <a:lnTo>
                            <a:pt x="493" y="173"/>
                          </a:lnTo>
                          <a:lnTo>
                            <a:pt x="502" y="175"/>
                          </a:lnTo>
                          <a:lnTo>
                            <a:pt x="513" y="175"/>
                          </a:lnTo>
                          <a:lnTo>
                            <a:pt x="470" y="184"/>
                          </a:lnTo>
                          <a:lnTo>
                            <a:pt x="478" y="183"/>
                          </a:lnTo>
                          <a:lnTo>
                            <a:pt x="484" y="183"/>
                          </a:lnTo>
                          <a:lnTo>
                            <a:pt x="490" y="183"/>
                          </a:lnTo>
                          <a:lnTo>
                            <a:pt x="498" y="183"/>
                          </a:lnTo>
                          <a:lnTo>
                            <a:pt x="501" y="181"/>
                          </a:lnTo>
                          <a:lnTo>
                            <a:pt x="504" y="181"/>
                          </a:lnTo>
                          <a:lnTo>
                            <a:pt x="507" y="181"/>
                          </a:lnTo>
                          <a:lnTo>
                            <a:pt x="511" y="181"/>
                          </a:lnTo>
                          <a:lnTo>
                            <a:pt x="514" y="181"/>
                          </a:lnTo>
                          <a:lnTo>
                            <a:pt x="517" y="181"/>
                          </a:lnTo>
                          <a:lnTo>
                            <a:pt x="522" y="181"/>
                          </a:lnTo>
                          <a:lnTo>
                            <a:pt x="525" y="181"/>
                          </a:lnTo>
                          <a:lnTo>
                            <a:pt x="531" y="180"/>
                          </a:lnTo>
                          <a:lnTo>
                            <a:pt x="539" y="180"/>
                          </a:lnTo>
                          <a:lnTo>
                            <a:pt x="542" y="179"/>
                          </a:lnTo>
                          <a:lnTo>
                            <a:pt x="545" y="179"/>
                          </a:lnTo>
                          <a:lnTo>
                            <a:pt x="550" y="179"/>
                          </a:lnTo>
                          <a:lnTo>
                            <a:pt x="553" y="179"/>
                          </a:lnTo>
                          <a:lnTo>
                            <a:pt x="556" y="177"/>
                          </a:lnTo>
                          <a:lnTo>
                            <a:pt x="559" y="177"/>
                          </a:lnTo>
                          <a:lnTo>
                            <a:pt x="563" y="177"/>
                          </a:lnTo>
                          <a:lnTo>
                            <a:pt x="566" y="177"/>
                          </a:lnTo>
                          <a:lnTo>
                            <a:pt x="569" y="177"/>
                          </a:lnTo>
                          <a:lnTo>
                            <a:pt x="574" y="177"/>
                          </a:lnTo>
                          <a:lnTo>
                            <a:pt x="577" y="177"/>
                          </a:lnTo>
                          <a:lnTo>
                            <a:pt x="582" y="177"/>
                          </a:lnTo>
                          <a:lnTo>
                            <a:pt x="576" y="172"/>
                          </a:lnTo>
                          <a:lnTo>
                            <a:pt x="569" y="166"/>
                          </a:lnTo>
                          <a:lnTo>
                            <a:pt x="563" y="162"/>
                          </a:lnTo>
                          <a:lnTo>
                            <a:pt x="559" y="157"/>
                          </a:lnTo>
                          <a:lnTo>
                            <a:pt x="553" y="151"/>
                          </a:lnTo>
                          <a:lnTo>
                            <a:pt x="547" y="147"/>
                          </a:lnTo>
                          <a:lnTo>
                            <a:pt x="540" y="142"/>
                          </a:lnTo>
                          <a:lnTo>
                            <a:pt x="536" y="137"/>
                          </a:lnTo>
                          <a:lnTo>
                            <a:pt x="528" y="132"/>
                          </a:lnTo>
                          <a:lnTo>
                            <a:pt x="524" y="126"/>
                          </a:lnTo>
                          <a:lnTo>
                            <a:pt x="517" y="122"/>
                          </a:lnTo>
                          <a:lnTo>
                            <a:pt x="511" y="117"/>
                          </a:lnTo>
                          <a:lnTo>
                            <a:pt x="505" y="111"/>
                          </a:lnTo>
                          <a:lnTo>
                            <a:pt x="501" y="107"/>
                          </a:lnTo>
                          <a:lnTo>
                            <a:pt x="495" y="102"/>
                          </a:lnTo>
                          <a:lnTo>
                            <a:pt x="488" y="98"/>
                          </a:lnTo>
                          <a:lnTo>
                            <a:pt x="482" y="92"/>
                          </a:lnTo>
                          <a:lnTo>
                            <a:pt x="476" y="87"/>
                          </a:lnTo>
                          <a:lnTo>
                            <a:pt x="470" y="83"/>
                          </a:lnTo>
                          <a:lnTo>
                            <a:pt x="465" y="77"/>
                          </a:lnTo>
                          <a:lnTo>
                            <a:pt x="459" y="72"/>
                          </a:lnTo>
                          <a:lnTo>
                            <a:pt x="453" y="67"/>
                          </a:lnTo>
                          <a:lnTo>
                            <a:pt x="447" y="62"/>
                          </a:lnTo>
                          <a:lnTo>
                            <a:pt x="441" y="58"/>
                          </a:lnTo>
                          <a:lnTo>
                            <a:pt x="435" y="52"/>
                          </a:lnTo>
                          <a:lnTo>
                            <a:pt x="429" y="48"/>
                          </a:lnTo>
                          <a:lnTo>
                            <a:pt x="423" y="44"/>
                          </a:lnTo>
                          <a:lnTo>
                            <a:pt x="418" y="39"/>
                          </a:lnTo>
                          <a:lnTo>
                            <a:pt x="412" y="35"/>
                          </a:lnTo>
                          <a:lnTo>
                            <a:pt x="406" y="30"/>
                          </a:lnTo>
                          <a:lnTo>
                            <a:pt x="400" y="26"/>
                          </a:lnTo>
                          <a:lnTo>
                            <a:pt x="395" y="22"/>
                          </a:lnTo>
                          <a:lnTo>
                            <a:pt x="392" y="21"/>
                          </a:lnTo>
                          <a:lnTo>
                            <a:pt x="386" y="18"/>
                          </a:lnTo>
                          <a:lnTo>
                            <a:pt x="380" y="14"/>
                          </a:lnTo>
                          <a:lnTo>
                            <a:pt x="377" y="14"/>
                          </a:lnTo>
                          <a:lnTo>
                            <a:pt x="453" y="81"/>
                          </a:lnTo>
                          <a:lnTo>
                            <a:pt x="426" y="67"/>
                          </a:lnTo>
                          <a:lnTo>
                            <a:pt x="429" y="70"/>
                          </a:lnTo>
                          <a:lnTo>
                            <a:pt x="432" y="73"/>
                          </a:lnTo>
                          <a:lnTo>
                            <a:pt x="435" y="76"/>
                          </a:lnTo>
                          <a:lnTo>
                            <a:pt x="439" y="80"/>
                          </a:lnTo>
                          <a:lnTo>
                            <a:pt x="443" y="83"/>
                          </a:lnTo>
                          <a:lnTo>
                            <a:pt x="447" y="85"/>
                          </a:lnTo>
                          <a:lnTo>
                            <a:pt x="450" y="88"/>
                          </a:lnTo>
                          <a:lnTo>
                            <a:pt x="455" y="91"/>
                          </a:lnTo>
                          <a:lnTo>
                            <a:pt x="459" y="94"/>
                          </a:lnTo>
                          <a:lnTo>
                            <a:pt x="462" y="96"/>
                          </a:lnTo>
                          <a:lnTo>
                            <a:pt x="467" y="99"/>
                          </a:lnTo>
                          <a:lnTo>
                            <a:pt x="470" y="102"/>
                          </a:lnTo>
                          <a:lnTo>
                            <a:pt x="475" y="106"/>
                          </a:lnTo>
                          <a:lnTo>
                            <a:pt x="478" y="109"/>
                          </a:lnTo>
                          <a:lnTo>
                            <a:pt x="482" y="113"/>
                          </a:lnTo>
                          <a:lnTo>
                            <a:pt x="485" y="115"/>
                          </a:lnTo>
                          <a:lnTo>
                            <a:pt x="372" y="36"/>
                          </a:lnTo>
                          <a:lnTo>
                            <a:pt x="369" y="35"/>
                          </a:lnTo>
                          <a:lnTo>
                            <a:pt x="366" y="32"/>
                          </a:lnTo>
                          <a:lnTo>
                            <a:pt x="363" y="29"/>
                          </a:lnTo>
                          <a:lnTo>
                            <a:pt x="360" y="26"/>
                          </a:lnTo>
                          <a:lnTo>
                            <a:pt x="355" y="24"/>
                          </a:lnTo>
                          <a:lnTo>
                            <a:pt x="352" y="21"/>
                          </a:lnTo>
                          <a:lnTo>
                            <a:pt x="348" y="18"/>
                          </a:lnTo>
                          <a:lnTo>
                            <a:pt x="345" y="15"/>
                          </a:lnTo>
                          <a:lnTo>
                            <a:pt x="342" y="11"/>
                          </a:lnTo>
                          <a:lnTo>
                            <a:pt x="337" y="10"/>
                          </a:lnTo>
                          <a:lnTo>
                            <a:pt x="334" y="7"/>
                          </a:lnTo>
                          <a:lnTo>
                            <a:pt x="331" y="6"/>
                          </a:lnTo>
                          <a:lnTo>
                            <a:pt x="326" y="4"/>
                          </a:lnTo>
                          <a:lnTo>
                            <a:pt x="323" y="7"/>
                          </a:lnTo>
                          <a:lnTo>
                            <a:pt x="328" y="11"/>
                          </a:lnTo>
                          <a:lnTo>
                            <a:pt x="332" y="14"/>
                          </a:lnTo>
                          <a:lnTo>
                            <a:pt x="339" y="18"/>
                          </a:lnTo>
                          <a:lnTo>
                            <a:pt x="345" y="24"/>
                          </a:lnTo>
                          <a:lnTo>
                            <a:pt x="351" y="26"/>
                          </a:lnTo>
                          <a:lnTo>
                            <a:pt x="355" y="30"/>
                          </a:lnTo>
                          <a:lnTo>
                            <a:pt x="361" y="35"/>
                          </a:lnTo>
                          <a:lnTo>
                            <a:pt x="365" y="39"/>
                          </a:lnTo>
                          <a:lnTo>
                            <a:pt x="369" y="43"/>
                          </a:lnTo>
                          <a:lnTo>
                            <a:pt x="374" y="47"/>
                          </a:lnTo>
                          <a:lnTo>
                            <a:pt x="378" y="51"/>
                          </a:lnTo>
                          <a:lnTo>
                            <a:pt x="384" y="55"/>
                          </a:lnTo>
                          <a:lnTo>
                            <a:pt x="389" y="59"/>
                          </a:lnTo>
                          <a:lnTo>
                            <a:pt x="395" y="63"/>
                          </a:lnTo>
                          <a:lnTo>
                            <a:pt x="400" y="67"/>
                          </a:lnTo>
                          <a:lnTo>
                            <a:pt x="406" y="72"/>
                          </a:lnTo>
                          <a:lnTo>
                            <a:pt x="410" y="74"/>
                          </a:lnTo>
                          <a:lnTo>
                            <a:pt x="415" y="80"/>
                          </a:lnTo>
                          <a:lnTo>
                            <a:pt x="421" y="83"/>
                          </a:lnTo>
                          <a:lnTo>
                            <a:pt x="426" y="87"/>
                          </a:lnTo>
                          <a:lnTo>
                            <a:pt x="430" y="91"/>
                          </a:lnTo>
                          <a:lnTo>
                            <a:pt x="436" y="95"/>
                          </a:lnTo>
                          <a:lnTo>
                            <a:pt x="439" y="99"/>
                          </a:lnTo>
                          <a:lnTo>
                            <a:pt x="446" y="105"/>
                          </a:lnTo>
                          <a:lnTo>
                            <a:pt x="449" y="107"/>
                          </a:lnTo>
                          <a:lnTo>
                            <a:pt x="453" y="113"/>
                          </a:lnTo>
                          <a:lnTo>
                            <a:pt x="458" y="118"/>
                          </a:lnTo>
                          <a:lnTo>
                            <a:pt x="461" y="120"/>
                          </a:lnTo>
                          <a:lnTo>
                            <a:pt x="458" y="120"/>
                          </a:lnTo>
                          <a:lnTo>
                            <a:pt x="455" y="118"/>
                          </a:lnTo>
                          <a:lnTo>
                            <a:pt x="452" y="117"/>
                          </a:lnTo>
                          <a:lnTo>
                            <a:pt x="447" y="114"/>
                          </a:lnTo>
                          <a:lnTo>
                            <a:pt x="444" y="113"/>
                          </a:lnTo>
                          <a:lnTo>
                            <a:pt x="441" y="110"/>
                          </a:lnTo>
                          <a:lnTo>
                            <a:pt x="438" y="109"/>
                          </a:lnTo>
                          <a:lnTo>
                            <a:pt x="433" y="106"/>
                          </a:lnTo>
                          <a:lnTo>
                            <a:pt x="429" y="102"/>
                          </a:lnTo>
                          <a:lnTo>
                            <a:pt x="426" y="99"/>
                          </a:lnTo>
                          <a:lnTo>
                            <a:pt x="423" y="98"/>
                          </a:lnTo>
                          <a:lnTo>
                            <a:pt x="418" y="95"/>
                          </a:lnTo>
                          <a:lnTo>
                            <a:pt x="415" y="92"/>
                          </a:lnTo>
                          <a:lnTo>
                            <a:pt x="410" y="88"/>
                          </a:lnTo>
                          <a:lnTo>
                            <a:pt x="407" y="84"/>
                          </a:lnTo>
                          <a:lnTo>
                            <a:pt x="403" y="81"/>
                          </a:lnTo>
                          <a:lnTo>
                            <a:pt x="398" y="77"/>
                          </a:lnTo>
                          <a:lnTo>
                            <a:pt x="394" y="73"/>
                          </a:lnTo>
                          <a:lnTo>
                            <a:pt x="391" y="70"/>
                          </a:lnTo>
                          <a:lnTo>
                            <a:pt x="384" y="66"/>
                          </a:lnTo>
                          <a:lnTo>
                            <a:pt x="381" y="63"/>
                          </a:lnTo>
                          <a:lnTo>
                            <a:pt x="377" y="59"/>
                          </a:lnTo>
                          <a:lnTo>
                            <a:pt x="372" y="55"/>
                          </a:lnTo>
                          <a:lnTo>
                            <a:pt x="368" y="51"/>
                          </a:lnTo>
                          <a:lnTo>
                            <a:pt x="363" y="48"/>
                          </a:lnTo>
                          <a:lnTo>
                            <a:pt x="358" y="44"/>
                          </a:lnTo>
                          <a:lnTo>
                            <a:pt x="355" y="41"/>
                          </a:lnTo>
                          <a:lnTo>
                            <a:pt x="351" y="39"/>
                          </a:lnTo>
                          <a:lnTo>
                            <a:pt x="348" y="36"/>
                          </a:lnTo>
                          <a:lnTo>
                            <a:pt x="343" y="33"/>
                          </a:lnTo>
                          <a:lnTo>
                            <a:pt x="340" y="32"/>
                          </a:lnTo>
                          <a:lnTo>
                            <a:pt x="337" y="29"/>
                          </a:lnTo>
                          <a:lnTo>
                            <a:pt x="335" y="29"/>
                          </a:lnTo>
                          <a:lnTo>
                            <a:pt x="331" y="26"/>
                          </a:lnTo>
                          <a:lnTo>
                            <a:pt x="329" y="26"/>
                          </a:lnTo>
                          <a:lnTo>
                            <a:pt x="331" y="29"/>
                          </a:lnTo>
                          <a:lnTo>
                            <a:pt x="332" y="32"/>
                          </a:lnTo>
                          <a:lnTo>
                            <a:pt x="334" y="36"/>
                          </a:lnTo>
                          <a:lnTo>
                            <a:pt x="337" y="39"/>
                          </a:lnTo>
                          <a:lnTo>
                            <a:pt x="372" y="66"/>
                          </a:lnTo>
                          <a:lnTo>
                            <a:pt x="374" y="74"/>
                          </a:lnTo>
                          <a:lnTo>
                            <a:pt x="378" y="78"/>
                          </a:lnTo>
                          <a:lnTo>
                            <a:pt x="383" y="83"/>
                          </a:lnTo>
                          <a:lnTo>
                            <a:pt x="387" y="85"/>
                          </a:lnTo>
                          <a:lnTo>
                            <a:pt x="392" y="89"/>
                          </a:lnTo>
                          <a:lnTo>
                            <a:pt x="397" y="92"/>
                          </a:lnTo>
                          <a:lnTo>
                            <a:pt x="401" y="95"/>
                          </a:lnTo>
                          <a:lnTo>
                            <a:pt x="406" y="99"/>
                          </a:lnTo>
                          <a:lnTo>
                            <a:pt x="410" y="102"/>
                          </a:lnTo>
                          <a:lnTo>
                            <a:pt x="415" y="105"/>
                          </a:lnTo>
                          <a:lnTo>
                            <a:pt x="420" y="109"/>
                          </a:lnTo>
                          <a:lnTo>
                            <a:pt x="424" y="111"/>
                          </a:lnTo>
                          <a:lnTo>
                            <a:pt x="429" y="115"/>
                          </a:lnTo>
                          <a:lnTo>
                            <a:pt x="433" y="118"/>
                          </a:lnTo>
                          <a:lnTo>
                            <a:pt x="438" y="122"/>
                          </a:lnTo>
                          <a:lnTo>
                            <a:pt x="443" y="126"/>
                          </a:lnTo>
                          <a:lnTo>
                            <a:pt x="447" y="132"/>
                          </a:lnTo>
                          <a:lnTo>
                            <a:pt x="444" y="132"/>
                          </a:lnTo>
                          <a:lnTo>
                            <a:pt x="439" y="132"/>
                          </a:lnTo>
                          <a:lnTo>
                            <a:pt x="436" y="132"/>
                          </a:lnTo>
                          <a:lnTo>
                            <a:pt x="432" y="132"/>
                          </a:lnTo>
                          <a:lnTo>
                            <a:pt x="429" y="132"/>
                          </a:lnTo>
                          <a:lnTo>
                            <a:pt x="426" y="132"/>
                          </a:lnTo>
                          <a:lnTo>
                            <a:pt x="421" y="132"/>
                          </a:lnTo>
                          <a:lnTo>
                            <a:pt x="418" y="132"/>
                          </a:lnTo>
                          <a:lnTo>
                            <a:pt x="415" y="132"/>
                          </a:lnTo>
                          <a:lnTo>
                            <a:pt x="410" y="132"/>
                          </a:lnTo>
                          <a:lnTo>
                            <a:pt x="407" y="132"/>
                          </a:lnTo>
                          <a:lnTo>
                            <a:pt x="403" y="132"/>
                          </a:lnTo>
                          <a:lnTo>
                            <a:pt x="400" y="132"/>
                          </a:lnTo>
                          <a:lnTo>
                            <a:pt x="395" y="132"/>
                          </a:lnTo>
                          <a:lnTo>
                            <a:pt x="392" y="132"/>
                          </a:lnTo>
                          <a:lnTo>
                            <a:pt x="389" y="132"/>
                          </a:lnTo>
                          <a:lnTo>
                            <a:pt x="384" y="132"/>
                          </a:lnTo>
                          <a:lnTo>
                            <a:pt x="381" y="132"/>
                          </a:lnTo>
                          <a:lnTo>
                            <a:pt x="378" y="132"/>
                          </a:lnTo>
                          <a:lnTo>
                            <a:pt x="374" y="132"/>
                          </a:lnTo>
                          <a:lnTo>
                            <a:pt x="371" y="132"/>
                          </a:lnTo>
                          <a:lnTo>
                            <a:pt x="366" y="132"/>
                          </a:lnTo>
                          <a:lnTo>
                            <a:pt x="363" y="132"/>
                          </a:lnTo>
                          <a:lnTo>
                            <a:pt x="360" y="132"/>
                          </a:lnTo>
                          <a:lnTo>
                            <a:pt x="355" y="132"/>
                          </a:lnTo>
                          <a:lnTo>
                            <a:pt x="352" y="132"/>
                          </a:lnTo>
                          <a:lnTo>
                            <a:pt x="348" y="132"/>
                          </a:lnTo>
                          <a:lnTo>
                            <a:pt x="345" y="132"/>
                          </a:lnTo>
                          <a:lnTo>
                            <a:pt x="340" y="132"/>
                          </a:lnTo>
                          <a:lnTo>
                            <a:pt x="337" y="132"/>
                          </a:lnTo>
                          <a:lnTo>
                            <a:pt x="332" y="132"/>
                          </a:lnTo>
                          <a:lnTo>
                            <a:pt x="329" y="132"/>
                          </a:lnTo>
                          <a:lnTo>
                            <a:pt x="326" y="132"/>
                          </a:lnTo>
                          <a:lnTo>
                            <a:pt x="323" y="132"/>
                          </a:lnTo>
                          <a:lnTo>
                            <a:pt x="319" y="132"/>
                          </a:lnTo>
                          <a:lnTo>
                            <a:pt x="316" y="132"/>
                          </a:lnTo>
                          <a:lnTo>
                            <a:pt x="311" y="132"/>
                          </a:lnTo>
                          <a:lnTo>
                            <a:pt x="308" y="132"/>
                          </a:lnTo>
                          <a:lnTo>
                            <a:pt x="303" y="132"/>
                          </a:lnTo>
                          <a:lnTo>
                            <a:pt x="300" y="132"/>
                          </a:lnTo>
                          <a:lnTo>
                            <a:pt x="296" y="132"/>
                          </a:lnTo>
                          <a:lnTo>
                            <a:pt x="293" y="132"/>
                          </a:lnTo>
                          <a:lnTo>
                            <a:pt x="288" y="132"/>
                          </a:lnTo>
                          <a:lnTo>
                            <a:pt x="285" y="132"/>
                          </a:lnTo>
                          <a:lnTo>
                            <a:pt x="282" y="132"/>
                          </a:lnTo>
                          <a:lnTo>
                            <a:pt x="279" y="132"/>
                          </a:lnTo>
                          <a:lnTo>
                            <a:pt x="274" y="132"/>
                          </a:lnTo>
                          <a:lnTo>
                            <a:pt x="271" y="133"/>
                          </a:lnTo>
                          <a:lnTo>
                            <a:pt x="268" y="133"/>
                          </a:lnTo>
                          <a:lnTo>
                            <a:pt x="265" y="133"/>
                          </a:lnTo>
                          <a:lnTo>
                            <a:pt x="260" y="133"/>
                          </a:lnTo>
                          <a:lnTo>
                            <a:pt x="257" y="133"/>
                          </a:lnTo>
                          <a:lnTo>
                            <a:pt x="254" y="133"/>
                          </a:lnTo>
                          <a:lnTo>
                            <a:pt x="251" y="133"/>
                          </a:lnTo>
                          <a:lnTo>
                            <a:pt x="247" y="133"/>
                          </a:lnTo>
                          <a:lnTo>
                            <a:pt x="244" y="135"/>
                          </a:lnTo>
                          <a:lnTo>
                            <a:pt x="238" y="135"/>
                          </a:lnTo>
                          <a:lnTo>
                            <a:pt x="230" y="135"/>
                          </a:lnTo>
                          <a:lnTo>
                            <a:pt x="224" y="135"/>
                          </a:lnTo>
                          <a:lnTo>
                            <a:pt x="218" y="136"/>
                          </a:lnTo>
                          <a:lnTo>
                            <a:pt x="198" y="13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Freeform 297"/>
                    <p:cNvSpPr/>
                    <p:nvPr/>
                  </p:nvSpPr>
                  <p:spPr>
                    <a:xfrm>
                      <a:off x="889560" y="2015640"/>
                      <a:ext cx="22320" cy="32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05" h="12">
                          <a:moveTo>
                            <a:pt x="105" y="0"/>
                          </a:moveTo>
                          <a:lnTo>
                            <a:pt x="101" y="0"/>
                          </a:lnTo>
                          <a:lnTo>
                            <a:pt x="96" y="0"/>
                          </a:lnTo>
                          <a:lnTo>
                            <a:pt x="93" y="0"/>
                          </a:lnTo>
                          <a:lnTo>
                            <a:pt x="90" y="0"/>
                          </a:lnTo>
                          <a:lnTo>
                            <a:pt x="85" y="0"/>
                          </a:lnTo>
                          <a:lnTo>
                            <a:pt x="82" y="1"/>
                          </a:lnTo>
                          <a:lnTo>
                            <a:pt x="78" y="1"/>
                          </a:lnTo>
                          <a:lnTo>
                            <a:pt x="73" y="1"/>
                          </a:lnTo>
                          <a:lnTo>
                            <a:pt x="68" y="1"/>
                          </a:lnTo>
                          <a:lnTo>
                            <a:pt x="65" y="3"/>
                          </a:lnTo>
                          <a:lnTo>
                            <a:pt x="61" y="3"/>
                          </a:lnTo>
                          <a:lnTo>
                            <a:pt x="56" y="3"/>
                          </a:lnTo>
                          <a:lnTo>
                            <a:pt x="52" y="3"/>
                          </a:lnTo>
                          <a:lnTo>
                            <a:pt x="49" y="4"/>
                          </a:lnTo>
                          <a:lnTo>
                            <a:pt x="44" y="4"/>
                          </a:lnTo>
                          <a:lnTo>
                            <a:pt x="39" y="4"/>
                          </a:lnTo>
                          <a:lnTo>
                            <a:pt x="35" y="6"/>
                          </a:lnTo>
                          <a:lnTo>
                            <a:pt x="32" y="6"/>
                          </a:lnTo>
                          <a:lnTo>
                            <a:pt x="27" y="6"/>
                          </a:lnTo>
                          <a:lnTo>
                            <a:pt x="23" y="6"/>
                          </a:lnTo>
                          <a:lnTo>
                            <a:pt x="20" y="7"/>
                          </a:lnTo>
                          <a:lnTo>
                            <a:pt x="16" y="8"/>
                          </a:lnTo>
                          <a:lnTo>
                            <a:pt x="10" y="8"/>
                          </a:lnTo>
                          <a:lnTo>
                            <a:pt x="4" y="10"/>
                          </a:lnTo>
                          <a:lnTo>
                            <a:pt x="1" y="11"/>
                          </a:lnTo>
                          <a:lnTo>
                            <a:pt x="0" y="12"/>
                          </a:lnTo>
                          <a:lnTo>
                            <a:pt x="4" y="12"/>
                          </a:lnTo>
                          <a:lnTo>
                            <a:pt x="12" y="12"/>
                          </a:lnTo>
                          <a:lnTo>
                            <a:pt x="15" y="11"/>
                          </a:lnTo>
                          <a:lnTo>
                            <a:pt x="18" y="11"/>
                          </a:lnTo>
                          <a:lnTo>
                            <a:pt x="24" y="10"/>
                          </a:lnTo>
                          <a:lnTo>
                            <a:pt x="30" y="10"/>
                          </a:lnTo>
                          <a:lnTo>
                            <a:pt x="35" y="8"/>
                          </a:lnTo>
                          <a:lnTo>
                            <a:pt x="41" y="8"/>
                          </a:lnTo>
                          <a:lnTo>
                            <a:pt x="46" y="8"/>
                          </a:lnTo>
                          <a:lnTo>
                            <a:pt x="47" y="10"/>
                          </a:lnTo>
                          <a:lnTo>
                            <a:pt x="76" y="6"/>
                          </a:lnTo>
                          <a:lnTo>
                            <a:pt x="76" y="7"/>
                          </a:lnTo>
                          <a:lnTo>
                            <a:pt x="79" y="7"/>
                          </a:lnTo>
                          <a:lnTo>
                            <a:pt x="84" y="7"/>
                          </a:lnTo>
                          <a:lnTo>
                            <a:pt x="87" y="6"/>
                          </a:lnTo>
                          <a:lnTo>
                            <a:pt x="93" y="6"/>
                          </a:lnTo>
                          <a:lnTo>
                            <a:pt x="96" y="6"/>
                          </a:lnTo>
                          <a:lnTo>
                            <a:pt x="101" y="4"/>
                          </a:lnTo>
                          <a:lnTo>
                            <a:pt x="104" y="1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Freeform 298"/>
                    <p:cNvSpPr/>
                    <p:nvPr/>
                  </p:nvSpPr>
                  <p:spPr>
                    <a:xfrm>
                      <a:off x="934920" y="2016360"/>
                      <a:ext cx="26640" cy="2160"/>
                    </a:xfrm>
                    <a:custGeom>
                      <a:avLst/>
                      <a:gdLst>
                        <a:gd name="textAreaLeft" fmla="*/ 0 w 26640"/>
                        <a:gd name="textAreaRight" fmla="*/ 27000 w 2664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124" h="9">
                          <a:moveTo>
                            <a:pt x="124" y="4"/>
                          </a:moveTo>
                          <a:lnTo>
                            <a:pt x="120" y="4"/>
                          </a:lnTo>
                          <a:lnTo>
                            <a:pt x="116" y="4"/>
                          </a:lnTo>
                          <a:lnTo>
                            <a:pt x="112" y="4"/>
                          </a:lnTo>
                          <a:lnTo>
                            <a:pt x="109" y="4"/>
                          </a:lnTo>
                          <a:lnTo>
                            <a:pt x="104" y="4"/>
                          </a:lnTo>
                          <a:lnTo>
                            <a:pt x="100" y="5"/>
                          </a:lnTo>
                          <a:lnTo>
                            <a:pt x="95" y="5"/>
                          </a:lnTo>
                          <a:lnTo>
                            <a:pt x="92" y="7"/>
                          </a:lnTo>
                          <a:lnTo>
                            <a:pt x="87" y="7"/>
                          </a:lnTo>
                          <a:lnTo>
                            <a:pt x="83" y="7"/>
                          </a:lnTo>
                          <a:lnTo>
                            <a:pt x="77" y="7"/>
                          </a:lnTo>
                          <a:lnTo>
                            <a:pt x="74" y="8"/>
                          </a:lnTo>
                          <a:lnTo>
                            <a:pt x="68" y="8"/>
                          </a:lnTo>
                          <a:lnTo>
                            <a:pt x="63" y="8"/>
                          </a:lnTo>
                          <a:lnTo>
                            <a:pt x="58" y="9"/>
                          </a:lnTo>
                          <a:lnTo>
                            <a:pt x="54" y="9"/>
                          </a:lnTo>
                          <a:lnTo>
                            <a:pt x="49" y="9"/>
                          </a:lnTo>
                          <a:lnTo>
                            <a:pt x="45" y="9"/>
                          </a:lnTo>
                          <a:lnTo>
                            <a:pt x="40" y="9"/>
                          </a:lnTo>
                          <a:lnTo>
                            <a:pt x="35" y="9"/>
                          </a:lnTo>
                          <a:lnTo>
                            <a:pt x="32" y="9"/>
                          </a:lnTo>
                          <a:lnTo>
                            <a:pt x="28" y="9"/>
                          </a:lnTo>
                          <a:lnTo>
                            <a:pt x="25" y="9"/>
                          </a:lnTo>
                          <a:lnTo>
                            <a:pt x="20" y="9"/>
                          </a:lnTo>
                          <a:lnTo>
                            <a:pt x="17" y="9"/>
                          </a:lnTo>
                          <a:lnTo>
                            <a:pt x="14" y="9"/>
                          </a:lnTo>
                          <a:lnTo>
                            <a:pt x="11" y="8"/>
                          </a:lnTo>
                          <a:lnTo>
                            <a:pt x="8" y="8"/>
                          </a:lnTo>
                          <a:lnTo>
                            <a:pt x="3" y="7"/>
                          </a:lnTo>
                          <a:lnTo>
                            <a:pt x="0" y="4"/>
                          </a:lnTo>
                          <a:lnTo>
                            <a:pt x="5" y="4"/>
                          </a:lnTo>
                          <a:lnTo>
                            <a:pt x="8" y="4"/>
                          </a:lnTo>
                          <a:lnTo>
                            <a:pt x="12" y="4"/>
                          </a:lnTo>
                          <a:lnTo>
                            <a:pt x="17" y="4"/>
                          </a:lnTo>
                          <a:lnTo>
                            <a:pt x="20" y="4"/>
                          </a:lnTo>
                          <a:lnTo>
                            <a:pt x="25" y="4"/>
                          </a:lnTo>
                          <a:lnTo>
                            <a:pt x="29" y="4"/>
                          </a:lnTo>
                          <a:lnTo>
                            <a:pt x="32" y="4"/>
                          </a:lnTo>
                          <a:lnTo>
                            <a:pt x="37" y="3"/>
                          </a:lnTo>
                          <a:lnTo>
                            <a:pt x="40" y="3"/>
                          </a:lnTo>
                          <a:lnTo>
                            <a:pt x="45" y="3"/>
                          </a:lnTo>
                          <a:lnTo>
                            <a:pt x="49" y="3"/>
                          </a:lnTo>
                          <a:lnTo>
                            <a:pt x="52" y="1"/>
                          </a:lnTo>
                          <a:lnTo>
                            <a:pt x="57" y="1"/>
                          </a:lnTo>
                          <a:lnTo>
                            <a:pt x="60" y="1"/>
                          </a:lnTo>
                          <a:lnTo>
                            <a:pt x="64" y="1"/>
                          </a:lnTo>
                          <a:lnTo>
                            <a:pt x="69" y="1"/>
                          </a:lnTo>
                          <a:lnTo>
                            <a:pt x="72" y="0"/>
                          </a:lnTo>
                          <a:lnTo>
                            <a:pt x="77" y="0"/>
                          </a:lnTo>
                          <a:lnTo>
                            <a:pt x="80" y="0"/>
                          </a:lnTo>
                          <a:lnTo>
                            <a:pt x="83" y="0"/>
                          </a:lnTo>
                          <a:lnTo>
                            <a:pt x="87" y="0"/>
                          </a:lnTo>
                          <a:lnTo>
                            <a:pt x="90" y="0"/>
                          </a:lnTo>
                          <a:lnTo>
                            <a:pt x="95" y="0"/>
                          </a:lnTo>
                          <a:lnTo>
                            <a:pt x="98" y="0"/>
                          </a:lnTo>
                          <a:lnTo>
                            <a:pt x="101" y="0"/>
                          </a:lnTo>
                          <a:lnTo>
                            <a:pt x="106" y="0"/>
                          </a:lnTo>
                          <a:lnTo>
                            <a:pt x="109" y="1"/>
                          </a:lnTo>
                          <a:lnTo>
                            <a:pt x="113" y="1"/>
                          </a:lnTo>
                          <a:lnTo>
                            <a:pt x="116" y="3"/>
                          </a:lnTo>
                          <a:lnTo>
                            <a:pt x="121" y="3"/>
                          </a:lnTo>
                          <a:lnTo>
                            <a:pt x="124" y="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Freeform 299"/>
                    <p:cNvSpPr/>
                    <p:nvPr/>
                  </p:nvSpPr>
                  <p:spPr>
                    <a:xfrm>
                      <a:off x="788400" y="2208240"/>
                      <a:ext cx="274680" cy="612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61200"/>
                        <a:gd name="textAreaBottom" fmla="*/ 61560 h 61200"/>
                      </a:gdLst>
                      <a:ahLst/>
                      <a:rect l="textAreaLeft" t="textAreaTop" r="textAreaRight" b="textAreaBottom"/>
                      <a:pathLst>
                        <a:path w="1270" h="216">
                          <a:moveTo>
                            <a:pt x="0" y="0"/>
                          </a:moveTo>
                          <a:lnTo>
                            <a:pt x="0" y="6"/>
                          </a:lnTo>
                          <a:lnTo>
                            <a:pt x="0" y="11"/>
                          </a:lnTo>
                          <a:lnTo>
                            <a:pt x="2" y="17"/>
                          </a:lnTo>
                          <a:lnTo>
                            <a:pt x="2" y="22"/>
                          </a:lnTo>
                          <a:lnTo>
                            <a:pt x="2" y="28"/>
                          </a:lnTo>
                          <a:lnTo>
                            <a:pt x="3" y="34"/>
                          </a:lnTo>
                          <a:lnTo>
                            <a:pt x="3" y="37"/>
                          </a:lnTo>
                          <a:lnTo>
                            <a:pt x="3" y="40"/>
                          </a:lnTo>
                          <a:lnTo>
                            <a:pt x="3" y="43"/>
                          </a:lnTo>
                          <a:lnTo>
                            <a:pt x="3" y="47"/>
                          </a:lnTo>
                          <a:lnTo>
                            <a:pt x="3" y="52"/>
                          </a:lnTo>
                          <a:lnTo>
                            <a:pt x="5" y="58"/>
                          </a:lnTo>
                          <a:lnTo>
                            <a:pt x="5" y="60"/>
                          </a:lnTo>
                          <a:lnTo>
                            <a:pt x="5" y="65"/>
                          </a:lnTo>
                          <a:lnTo>
                            <a:pt x="5" y="67"/>
                          </a:lnTo>
                          <a:lnTo>
                            <a:pt x="6" y="71"/>
                          </a:lnTo>
                          <a:lnTo>
                            <a:pt x="6" y="74"/>
                          </a:lnTo>
                          <a:lnTo>
                            <a:pt x="6" y="77"/>
                          </a:lnTo>
                          <a:lnTo>
                            <a:pt x="6" y="80"/>
                          </a:lnTo>
                          <a:lnTo>
                            <a:pt x="6" y="84"/>
                          </a:lnTo>
                          <a:lnTo>
                            <a:pt x="6" y="87"/>
                          </a:lnTo>
                          <a:lnTo>
                            <a:pt x="6" y="89"/>
                          </a:lnTo>
                          <a:lnTo>
                            <a:pt x="8" y="93"/>
                          </a:lnTo>
                          <a:lnTo>
                            <a:pt x="8" y="96"/>
                          </a:lnTo>
                          <a:lnTo>
                            <a:pt x="8" y="99"/>
                          </a:lnTo>
                          <a:lnTo>
                            <a:pt x="8" y="103"/>
                          </a:lnTo>
                          <a:lnTo>
                            <a:pt x="9" y="106"/>
                          </a:lnTo>
                          <a:lnTo>
                            <a:pt x="9" y="109"/>
                          </a:lnTo>
                          <a:lnTo>
                            <a:pt x="9" y="111"/>
                          </a:lnTo>
                          <a:lnTo>
                            <a:pt x="9" y="115"/>
                          </a:lnTo>
                          <a:lnTo>
                            <a:pt x="11" y="118"/>
                          </a:lnTo>
                          <a:lnTo>
                            <a:pt x="11" y="121"/>
                          </a:lnTo>
                          <a:lnTo>
                            <a:pt x="11" y="124"/>
                          </a:lnTo>
                          <a:lnTo>
                            <a:pt x="11" y="128"/>
                          </a:lnTo>
                          <a:lnTo>
                            <a:pt x="12" y="130"/>
                          </a:lnTo>
                          <a:lnTo>
                            <a:pt x="12" y="133"/>
                          </a:lnTo>
                          <a:lnTo>
                            <a:pt x="12" y="136"/>
                          </a:lnTo>
                          <a:lnTo>
                            <a:pt x="14" y="140"/>
                          </a:lnTo>
                          <a:lnTo>
                            <a:pt x="14" y="143"/>
                          </a:lnTo>
                          <a:lnTo>
                            <a:pt x="14" y="147"/>
                          </a:lnTo>
                          <a:lnTo>
                            <a:pt x="14" y="152"/>
                          </a:lnTo>
                          <a:lnTo>
                            <a:pt x="16" y="158"/>
                          </a:lnTo>
                          <a:lnTo>
                            <a:pt x="16" y="161"/>
                          </a:lnTo>
                          <a:lnTo>
                            <a:pt x="17" y="165"/>
                          </a:lnTo>
                          <a:lnTo>
                            <a:pt x="17" y="168"/>
                          </a:lnTo>
                          <a:lnTo>
                            <a:pt x="17" y="170"/>
                          </a:lnTo>
                          <a:lnTo>
                            <a:pt x="19" y="176"/>
                          </a:lnTo>
                          <a:lnTo>
                            <a:pt x="20" y="183"/>
                          </a:lnTo>
                          <a:lnTo>
                            <a:pt x="20" y="185"/>
                          </a:lnTo>
                          <a:lnTo>
                            <a:pt x="20" y="188"/>
                          </a:lnTo>
                          <a:lnTo>
                            <a:pt x="22" y="191"/>
                          </a:lnTo>
                          <a:lnTo>
                            <a:pt x="23" y="195"/>
                          </a:lnTo>
                          <a:lnTo>
                            <a:pt x="25" y="191"/>
                          </a:lnTo>
                          <a:lnTo>
                            <a:pt x="25" y="185"/>
                          </a:lnTo>
                          <a:lnTo>
                            <a:pt x="23" y="179"/>
                          </a:lnTo>
                          <a:lnTo>
                            <a:pt x="23" y="173"/>
                          </a:lnTo>
                          <a:lnTo>
                            <a:pt x="22" y="169"/>
                          </a:lnTo>
                          <a:lnTo>
                            <a:pt x="22" y="163"/>
                          </a:lnTo>
                          <a:lnTo>
                            <a:pt x="20" y="158"/>
                          </a:lnTo>
                          <a:lnTo>
                            <a:pt x="20" y="152"/>
                          </a:lnTo>
                          <a:lnTo>
                            <a:pt x="20" y="148"/>
                          </a:lnTo>
                          <a:lnTo>
                            <a:pt x="20" y="141"/>
                          </a:lnTo>
                          <a:lnTo>
                            <a:pt x="20" y="137"/>
                          </a:lnTo>
                          <a:lnTo>
                            <a:pt x="19" y="132"/>
                          </a:lnTo>
                          <a:lnTo>
                            <a:pt x="19" y="126"/>
                          </a:lnTo>
                          <a:lnTo>
                            <a:pt x="19" y="121"/>
                          </a:lnTo>
                          <a:lnTo>
                            <a:pt x="19" y="117"/>
                          </a:lnTo>
                          <a:lnTo>
                            <a:pt x="19" y="111"/>
                          </a:lnTo>
                          <a:lnTo>
                            <a:pt x="19" y="106"/>
                          </a:lnTo>
                          <a:lnTo>
                            <a:pt x="17" y="100"/>
                          </a:lnTo>
                          <a:lnTo>
                            <a:pt x="17" y="95"/>
                          </a:lnTo>
                          <a:lnTo>
                            <a:pt x="17" y="89"/>
                          </a:lnTo>
                          <a:lnTo>
                            <a:pt x="17" y="85"/>
                          </a:lnTo>
                          <a:lnTo>
                            <a:pt x="17" y="80"/>
                          </a:lnTo>
                          <a:lnTo>
                            <a:pt x="17" y="74"/>
                          </a:lnTo>
                          <a:lnTo>
                            <a:pt x="17" y="69"/>
                          </a:lnTo>
                          <a:lnTo>
                            <a:pt x="17" y="63"/>
                          </a:lnTo>
                          <a:lnTo>
                            <a:pt x="16" y="58"/>
                          </a:lnTo>
                          <a:lnTo>
                            <a:pt x="16" y="54"/>
                          </a:lnTo>
                          <a:lnTo>
                            <a:pt x="16" y="48"/>
                          </a:lnTo>
                          <a:lnTo>
                            <a:pt x="16" y="43"/>
                          </a:lnTo>
                          <a:lnTo>
                            <a:pt x="16" y="37"/>
                          </a:lnTo>
                          <a:lnTo>
                            <a:pt x="16" y="33"/>
                          </a:lnTo>
                          <a:lnTo>
                            <a:pt x="16" y="28"/>
                          </a:lnTo>
                          <a:lnTo>
                            <a:pt x="16" y="22"/>
                          </a:lnTo>
                          <a:lnTo>
                            <a:pt x="17" y="21"/>
                          </a:lnTo>
                          <a:lnTo>
                            <a:pt x="20" y="21"/>
                          </a:lnTo>
                          <a:lnTo>
                            <a:pt x="25" y="21"/>
                          </a:lnTo>
                          <a:lnTo>
                            <a:pt x="31" y="21"/>
                          </a:lnTo>
                          <a:lnTo>
                            <a:pt x="35" y="21"/>
                          </a:lnTo>
                          <a:lnTo>
                            <a:pt x="40" y="21"/>
                          </a:lnTo>
                          <a:lnTo>
                            <a:pt x="43" y="21"/>
                          </a:lnTo>
                          <a:lnTo>
                            <a:pt x="45" y="22"/>
                          </a:lnTo>
                          <a:lnTo>
                            <a:pt x="46" y="21"/>
                          </a:lnTo>
                          <a:lnTo>
                            <a:pt x="49" y="21"/>
                          </a:lnTo>
                          <a:lnTo>
                            <a:pt x="51" y="21"/>
                          </a:lnTo>
                          <a:lnTo>
                            <a:pt x="55" y="21"/>
                          </a:lnTo>
                          <a:lnTo>
                            <a:pt x="58" y="19"/>
                          </a:lnTo>
                          <a:lnTo>
                            <a:pt x="63" y="19"/>
                          </a:lnTo>
                          <a:lnTo>
                            <a:pt x="66" y="19"/>
                          </a:lnTo>
                          <a:lnTo>
                            <a:pt x="71" y="19"/>
                          </a:lnTo>
                          <a:lnTo>
                            <a:pt x="75" y="19"/>
                          </a:lnTo>
                          <a:lnTo>
                            <a:pt x="78" y="19"/>
                          </a:lnTo>
                          <a:lnTo>
                            <a:pt x="81" y="19"/>
                          </a:lnTo>
                          <a:lnTo>
                            <a:pt x="86" y="21"/>
                          </a:lnTo>
                          <a:lnTo>
                            <a:pt x="89" y="23"/>
                          </a:lnTo>
                          <a:lnTo>
                            <a:pt x="90" y="28"/>
                          </a:lnTo>
                          <a:lnTo>
                            <a:pt x="86" y="28"/>
                          </a:lnTo>
                          <a:lnTo>
                            <a:pt x="80" y="29"/>
                          </a:lnTo>
                          <a:lnTo>
                            <a:pt x="75" y="29"/>
                          </a:lnTo>
                          <a:lnTo>
                            <a:pt x="71" y="29"/>
                          </a:lnTo>
                          <a:lnTo>
                            <a:pt x="66" y="29"/>
                          </a:lnTo>
                          <a:lnTo>
                            <a:pt x="63" y="29"/>
                          </a:lnTo>
                          <a:lnTo>
                            <a:pt x="58" y="29"/>
                          </a:lnTo>
                          <a:lnTo>
                            <a:pt x="55" y="29"/>
                          </a:lnTo>
                          <a:lnTo>
                            <a:pt x="51" y="29"/>
                          </a:lnTo>
                          <a:lnTo>
                            <a:pt x="46" y="29"/>
                          </a:lnTo>
                          <a:lnTo>
                            <a:pt x="42" y="29"/>
                          </a:lnTo>
                          <a:lnTo>
                            <a:pt x="38" y="29"/>
                          </a:lnTo>
                          <a:lnTo>
                            <a:pt x="34" y="29"/>
                          </a:lnTo>
                          <a:lnTo>
                            <a:pt x="28" y="29"/>
                          </a:lnTo>
                          <a:lnTo>
                            <a:pt x="23" y="30"/>
                          </a:lnTo>
                          <a:lnTo>
                            <a:pt x="17" y="32"/>
                          </a:lnTo>
                          <a:lnTo>
                            <a:pt x="17" y="37"/>
                          </a:lnTo>
                          <a:lnTo>
                            <a:pt x="19" y="43"/>
                          </a:lnTo>
                          <a:lnTo>
                            <a:pt x="19" y="48"/>
                          </a:lnTo>
                          <a:lnTo>
                            <a:pt x="20" y="55"/>
                          </a:lnTo>
                          <a:lnTo>
                            <a:pt x="20" y="60"/>
                          </a:lnTo>
                          <a:lnTo>
                            <a:pt x="20" y="65"/>
                          </a:lnTo>
                          <a:lnTo>
                            <a:pt x="20" y="70"/>
                          </a:lnTo>
                          <a:lnTo>
                            <a:pt x="22" y="76"/>
                          </a:lnTo>
                          <a:lnTo>
                            <a:pt x="22" y="80"/>
                          </a:lnTo>
                          <a:lnTo>
                            <a:pt x="22" y="85"/>
                          </a:lnTo>
                          <a:lnTo>
                            <a:pt x="23" y="89"/>
                          </a:lnTo>
                          <a:lnTo>
                            <a:pt x="23" y="95"/>
                          </a:lnTo>
                          <a:lnTo>
                            <a:pt x="25" y="98"/>
                          </a:lnTo>
                          <a:lnTo>
                            <a:pt x="25" y="103"/>
                          </a:lnTo>
                          <a:lnTo>
                            <a:pt x="25" y="107"/>
                          </a:lnTo>
                          <a:lnTo>
                            <a:pt x="26" y="111"/>
                          </a:lnTo>
                          <a:lnTo>
                            <a:pt x="26" y="115"/>
                          </a:lnTo>
                          <a:lnTo>
                            <a:pt x="28" y="120"/>
                          </a:lnTo>
                          <a:lnTo>
                            <a:pt x="28" y="124"/>
                          </a:lnTo>
                          <a:lnTo>
                            <a:pt x="29" y="128"/>
                          </a:lnTo>
                          <a:lnTo>
                            <a:pt x="29" y="132"/>
                          </a:lnTo>
                          <a:lnTo>
                            <a:pt x="31" y="137"/>
                          </a:lnTo>
                          <a:lnTo>
                            <a:pt x="31" y="141"/>
                          </a:lnTo>
                          <a:lnTo>
                            <a:pt x="32" y="147"/>
                          </a:lnTo>
                          <a:lnTo>
                            <a:pt x="34" y="151"/>
                          </a:lnTo>
                          <a:lnTo>
                            <a:pt x="35" y="155"/>
                          </a:lnTo>
                          <a:lnTo>
                            <a:pt x="35" y="161"/>
                          </a:lnTo>
                          <a:lnTo>
                            <a:pt x="37" y="166"/>
                          </a:lnTo>
                          <a:lnTo>
                            <a:pt x="38" y="172"/>
                          </a:lnTo>
                          <a:lnTo>
                            <a:pt x="40" y="177"/>
                          </a:lnTo>
                          <a:lnTo>
                            <a:pt x="40" y="180"/>
                          </a:lnTo>
                          <a:lnTo>
                            <a:pt x="42" y="184"/>
                          </a:lnTo>
                          <a:lnTo>
                            <a:pt x="42" y="187"/>
                          </a:lnTo>
                          <a:lnTo>
                            <a:pt x="43" y="191"/>
                          </a:lnTo>
                          <a:lnTo>
                            <a:pt x="46" y="188"/>
                          </a:lnTo>
                          <a:lnTo>
                            <a:pt x="51" y="185"/>
                          </a:lnTo>
                          <a:lnTo>
                            <a:pt x="49" y="180"/>
                          </a:lnTo>
                          <a:lnTo>
                            <a:pt x="49" y="174"/>
                          </a:lnTo>
                          <a:lnTo>
                            <a:pt x="49" y="169"/>
                          </a:lnTo>
                          <a:lnTo>
                            <a:pt x="49" y="165"/>
                          </a:lnTo>
                          <a:lnTo>
                            <a:pt x="48" y="159"/>
                          </a:lnTo>
                          <a:lnTo>
                            <a:pt x="48" y="155"/>
                          </a:lnTo>
                          <a:lnTo>
                            <a:pt x="48" y="151"/>
                          </a:lnTo>
                          <a:lnTo>
                            <a:pt x="48" y="147"/>
                          </a:lnTo>
                          <a:lnTo>
                            <a:pt x="48" y="143"/>
                          </a:lnTo>
                          <a:lnTo>
                            <a:pt x="48" y="139"/>
                          </a:lnTo>
                          <a:lnTo>
                            <a:pt x="48" y="136"/>
                          </a:lnTo>
                          <a:lnTo>
                            <a:pt x="48" y="132"/>
                          </a:lnTo>
                          <a:lnTo>
                            <a:pt x="48" y="129"/>
                          </a:lnTo>
                          <a:lnTo>
                            <a:pt x="48" y="126"/>
                          </a:lnTo>
                          <a:lnTo>
                            <a:pt x="48" y="122"/>
                          </a:lnTo>
                          <a:lnTo>
                            <a:pt x="48" y="120"/>
                          </a:lnTo>
                          <a:lnTo>
                            <a:pt x="46" y="115"/>
                          </a:lnTo>
                          <a:lnTo>
                            <a:pt x="46" y="111"/>
                          </a:lnTo>
                          <a:lnTo>
                            <a:pt x="46" y="107"/>
                          </a:lnTo>
                          <a:lnTo>
                            <a:pt x="46" y="104"/>
                          </a:lnTo>
                          <a:lnTo>
                            <a:pt x="45" y="100"/>
                          </a:lnTo>
                          <a:lnTo>
                            <a:pt x="45" y="98"/>
                          </a:lnTo>
                          <a:lnTo>
                            <a:pt x="45" y="93"/>
                          </a:lnTo>
                          <a:lnTo>
                            <a:pt x="45" y="89"/>
                          </a:lnTo>
                          <a:lnTo>
                            <a:pt x="45" y="85"/>
                          </a:lnTo>
                          <a:lnTo>
                            <a:pt x="45" y="81"/>
                          </a:lnTo>
                          <a:lnTo>
                            <a:pt x="43" y="76"/>
                          </a:lnTo>
                          <a:lnTo>
                            <a:pt x="43" y="73"/>
                          </a:lnTo>
                          <a:lnTo>
                            <a:pt x="42" y="67"/>
                          </a:lnTo>
                          <a:lnTo>
                            <a:pt x="42" y="62"/>
                          </a:lnTo>
                          <a:lnTo>
                            <a:pt x="42" y="58"/>
                          </a:lnTo>
                          <a:lnTo>
                            <a:pt x="40" y="52"/>
                          </a:lnTo>
                          <a:lnTo>
                            <a:pt x="45" y="50"/>
                          </a:lnTo>
                          <a:lnTo>
                            <a:pt x="49" y="48"/>
                          </a:lnTo>
                          <a:lnTo>
                            <a:pt x="54" y="47"/>
                          </a:lnTo>
                          <a:lnTo>
                            <a:pt x="60" y="47"/>
                          </a:lnTo>
                          <a:lnTo>
                            <a:pt x="64" y="45"/>
                          </a:lnTo>
                          <a:lnTo>
                            <a:pt x="69" y="45"/>
                          </a:lnTo>
                          <a:lnTo>
                            <a:pt x="75" y="45"/>
                          </a:lnTo>
                          <a:lnTo>
                            <a:pt x="81" y="47"/>
                          </a:lnTo>
                          <a:lnTo>
                            <a:pt x="61" y="59"/>
                          </a:lnTo>
                          <a:lnTo>
                            <a:pt x="58" y="56"/>
                          </a:lnTo>
                          <a:lnTo>
                            <a:pt x="48" y="59"/>
                          </a:lnTo>
                          <a:lnTo>
                            <a:pt x="48" y="63"/>
                          </a:lnTo>
                          <a:lnTo>
                            <a:pt x="49" y="69"/>
                          </a:lnTo>
                          <a:lnTo>
                            <a:pt x="49" y="73"/>
                          </a:lnTo>
                          <a:lnTo>
                            <a:pt x="49" y="78"/>
                          </a:lnTo>
                          <a:lnTo>
                            <a:pt x="49" y="82"/>
                          </a:lnTo>
                          <a:lnTo>
                            <a:pt x="51" y="88"/>
                          </a:lnTo>
                          <a:lnTo>
                            <a:pt x="51" y="93"/>
                          </a:lnTo>
                          <a:lnTo>
                            <a:pt x="52" y="98"/>
                          </a:lnTo>
                          <a:lnTo>
                            <a:pt x="52" y="103"/>
                          </a:lnTo>
                          <a:lnTo>
                            <a:pt x="54" y="107"/>
                          </a:lnTo>
                          <a:lnTo>
                            <a:pt x="54" y="113"/>
                          </a:lnTo>
                          <a:lnTo>
                            <a:pt x="55" y="118"/>
                          </a:lnTo>
                          <a:lnTo>
                            <a:pt x="55" y="122"/>
                          </a:lnTo>
                          <a:lnTo>
                            <a:pt x="57" y="128"/>
                          </a:lnTo>
                          <a:lnTo>
                            <a:pt x="57" y="132"/>
                          </a:lnTo>
                          <a:lnTo>
                            <a:pt x="58" y="137"/>
                          </a:lnTo>
                          <a:lnTo>
                            <a:pt x="58" y="141"/>
                          </a:lnTo>
                          <a:lnTo>
                            <a:pt x="60" y="147"/>
                          </a:lnTo>
                          <a:lnTo>
                            <a:pt x="60" y="151"/>
                          </a:lnTo>
                          <a:lnTo>
                            <a:pt x="61" y="157"/>
                          </a:lnTo>
                          <a:lnTo>
                            <a:pt x="61" y="161"/>
                          </a:lnTo>
                          <a:lnTo>
                            <a:pt x="63" y="166"/>
                          </a:lnTo>
                          <a:lnTo>
                            <a:pt x="63" y="170"/>
                          </a:lnTo>
                          <a:lnTo>
                            <a:pt x="64" y="176"/>
                          </a:lnTo>
                          <a:lnTo>
                            <a:pt x="64" y="180"/>
                          </a:lnTo>
                          <a:lnTo>
                            <a:pt x="66" y="185"/>
                          </a:lnTo>
                          <a:lnTo>
                            <a:pt x="66" y="190"/>
                          </a:lnTo>
                          <a:lnTo>
                            <a:pt x="68" y="195"/>
                          </a:lnTo>
                          <a:lnTo>
                            <a:pt x="68" y="201"/>
                          </a:lnTo>
                          <a:lnTo>
                            <a:pt x="69" y="205"/>
                          </a:lnTo>
                          <a:lnTo>
                            <a:pt x="69" y="210"/>
                          </a:lnTo>
                          <a:lnTo>
                            <a:pt x="71" y="216"/>
                          </a:lnTo>
                          <a:lnTo>
                            <a:pt x="83" y="213"/>
                          </a:lnTo>
                          <a:lnTo>
                            <a:pt x="83" y="209"/>
                          </a:lnTo>
                          <a:lnTo>
                            <a:pt x="83" y="205"/>
                          </a:lnTo>
                          <a:lnTo>
                            <a:pt x="83" y="201"/>
                          </a:lnTo>
                          <a:lnTo>
                            <a:pt x="83" y="196"/>
                          </a:lnTo>
                          <a:lnTo>
                            <a:pt x="83" y="192"/>
                          </a:lnTo>
                          <a:lnTo>
                            <a:pt x="83" y="188"/>
                          </a:lnTo>
                          <a:lnTo>
                            <a:pt x="83" y="185"/>
                          </a:lnTo>
                          <a:lnTo>
                            <a:pt x="83" y="181"/>
                          </a:lnTo>
                          <a:lnTo>
                            <a:pt x="83" y="176"/>
                          </a:lnTo>
                          <a:lnTo>
                            <a:pt x="83" y="173"/>
                          </a:lnTo>
                          <a:lnTo>
                            <a:pt x="83" y="169"/>
                          </a:lnTo>
                          <a:lnTo>
                            <a:pt x="83" y="165"/>
                          </a:lnTo>
                          <a:lnTo>
                            <a:pt x="81" y="161"/>
                          </a:lnTo>
                          <a:lnTo>
                            <a:pt x="81" y="157"/>
                          </a:lnTo>
                          <a:lnTo>
                            <a:pt x="81" y="152"/>
                          </a:lnTo>
                          <a:lnTo>
                            <a:pt x="81" y="150"/>
                          </a:lnTo>
                          <a:lnTo>
                            <a:pt x="81" y="139"/>
                          </a:lnTo>
                          <a:lnTo>
                            <a:pt x="81" y="135"/>
                          </a:lnTo>
                          <a:lnTo>
                            <a:pt x="83" y="136"/>
                          </a:lnTo>
                          <a:lnTo>
                            <a:pt x="83" y="137"/>
                          </a:lnTo>
                          <a:lnTo>
                            <a:pt x="84" y="140"/>
                          </a:lnTo>
                          <a:lnTo>
                            <a:pt x="86" y="143"/>
                          </a:lnTo>
                          <a:lnTo>
                            <a:pt x="87" y="147"/>
                          </a:lnTo>
                          <a:lnTo>
                            <a:pt x="89" y="151"/>
                          </a:lnTo>
                          <a:lnTo>
                            <a:pt x="89" y="154"/>
                          </a:lnTo>
                          <a:lnTo>
                            <a:pt x="90" y="158"/>
                          </a:lnTo>
                          <a:lnTo>
                            <a:pt x="92" y="163"/>
                          </a:lnTo>
                          <a:lnTo>
                            <a:pt x="94" y="166"/>
                          </a:lnTo>
                          <a:lnTo>
                            <a:pt x="94" y="170"/>
                          </a:lnTo>
                          <a:lnTo>
                            <a:pt x="95" y="173"/>
                          </a:lnTo>
                          <a:lnTo>
                            <a:pt x="97" y="177"/>
                          </a:lnTo>
                          <a:lnTo>
                            <a:pt x="103" y="177"/>
                          </a:lnTo>
                          <a:lnTo>
                            <a:pt x="94" y="102"/>
                          </a:lnTo>
                          <a:lnTo>
                            <a:pt x="100" y="100"/>
                          </a:lnTo>
                          <a:lnTo>
                            <a:pt x="106" y="98"/>
                          </a:lnTo>
                          <a:lnTo>
                            <a:pt x="112" y="96"/>
                          </a:lnTo>
                          <a:lnTo>
                            <a:pt x="120" y="95"/>
                          </a:lnTo>
                          <a:lnTo>
                            <a:pt x="123" y="95"/>
                          </a:lnTo>
                          <a:lnTo>
                            <a:pt x="126" y="93"/>
                          </a:lnTo>
                          <a:lnTo>
                            <a:pt x="130" y="92"/>
                          </a:lnTo>
                          <a:lnTo>
                            <a:pt x="133" y="92"/>
                          </a:lnTo>
                          <a:lnTo>
                            <a:pt x="138" y="91"/>
                          </a:lnTo>
                          <a:lnTo>
                            <a:pt x="141" y="91"/>
                          </a:lnTo>
                          <a:lnTo>
                            <a:pt x="144" y="89"/>
                          </a:lnTo>
                          <a:lnTo>
                            <a:pt x="149" y="88"/>
                          </a:lnTo>
                          <a:lnTo>
                            <a:pt x="152" y="88"/>
                          </a:lnTo>
                          <a:lnTo>
                            <a:pt x="156" y="87"/>
                          </a:lnTo>
                          <a:lnTo>
                            <a:pt x="159" y="85"/>
                          </a:lnTo>
                          <a:lnTo>
                            <a:pt x="164" y="85"/>
                          </a:lnTo>
                          <a:lnTo>
                            <a:pt x="167" y="84"/>
                          </a:lnTo>
                          <a:lnTo>
                            <a:pt x="172" y="84"/>
                          </a:lnTo>
                          <a:lnTo>
                            <a:pt x="175" y="82"/>
                          </a:lnTo>
                          <a:lnTo>
                            <a:pt x="179" y="82"/>
                          </a:lnTo>
                          <a:lnTo>
                            <a:pt x="182" y="81"/>
                          </a:lnTo>
                          <a:lnTo>
                            <a:pt x="187" y="80"/>
                          </a:lnTo>
                          <a:lnTo>
                            <a:pt x="190" y="80"/>
                          </a:lnTo>
                          <a:lnTo>
                            <a:pt x="194" y="78"/>
                          </a:lnTo>
                          <a:lnTo>
                            <a:pt x="198" y="77"/>
                          </a:lnTo>
                          <a:lnTo>
                            <a:pt x="202" y="77"/>
                          </a:lnTo>
                          <a:lnTo>
                            <a:pt x="207" y="76"/>
                          </a:lnTo>
                          <a:lnTo>
                            <a:pt x="210" y="76"/>
                          </a:lnTo>
                          <a:lnTo>
                            <a:pt x="214" y="76"/>
                          </a:lnTo>
                          <a:lnTo>
                            <a:pt x="217" y="74"/>
                          </a:lnTo>
                          <a:lnTo>
                            <a:pt x="222" y="73"/>
                          </a:lnTo>
                          <a:lnTo>
                            <a:pt x="225" y="73"/>
                          </a:lnTo>
                          <a:lnTo>
                            <a:pt x="230" y="73"/>
                          </a:lnTo>
                          <a:lnTo>
                            <a:pt x="233" y="71"/>
                          </a:lnTo>
                          <a:lnTo>
                            <a:pt x="237" y="71"/>
                          </a:lnTo>
                          <a:lnTo>
                            <a:pt x="240" y="71"/>
                          </a:lnTo>
                          <a:lnTo>
                            <a:pt x="243" y="70"/>
                          </a:lnTo>
                          <a:lnTo>
                            <a:pt x="246" y="70"/>
                          </a:lnTo>
                          <a:lnTo>
                            <a:pt x="251" y="70"/>
                          </a:lnTo>
                          <a:lnTo>
                            <a:pt x="254" y="70"/>
                          </a:lnTo>
                          <a:lnTo>
                            <a:pt x="259" y="69"/>
                          </a:lnTo>
                          <a:lnTo>
                            <a:pt x="262" y="69"/>
                          </a:lnTo>
                          <a:lnTo>
                            <a:pt x="266" y="69"/>
                          </a:lnTo>
                          <a:lnTo>
                            <a:pt x="269" y="69"/>
                          </a:lnTo>
                          <a:lnTo>
                            <a:pt x="276" y="69"/>
                          </a:lnTo>
                          <a:lnTo>
                            <a:pt x="282" y="69"/>
                          </a:lnTo>
                          <a:lnTo>
                            <a:pt x="289" y="69"/>
                          </a:lnTo>
                          <a:lnTo>
                            <a:pt x="295" y="70"/>
                          </a:lnTo>
                          <a:lnTo>
                            <a:pt x="302" y="70"/>
                          </a:lnTo>
                          <a:lnTo>
                            <a:pt x="308" y="71"/>
                          </a:lnTo>
                          <a:lnTo>
                            <a:pt x="312" y="73"/>
                          </a:lnTo>
                          <a:lnTo>
                            <a:pt x="318" y="74"/>
                          </a:lnTo>
                          <a:lnTo>
                            <a:pt x="312" y="76"/>
                          </a:lnTo>
                          <a:lnTo>
                            <a:pt x="306" y="76"/>
                          </a:lnTo>
                          <a:lnTo>
                            <a:pt x="300" y="76"/>
                          </a:lnTo>
                          <a:lnTo>
                            <a:pt x="294" y="77"/>
                          </a:lnTo>
                          <a:lnTo>
                            <a:pt x="288" y="78"/>
                          </a:lnTo>
                          <a:lnTo>
                            <a:pt x="282" y="80"/>
                          </a:lnTo>
                          <a:lnTo>
                            <a:pt x="276" y="80"/>
                          </a:lnTo>
                          <a:lnTo>
                            <a:pt x="269" y="81"/>
                          </a:lnTo>
                          <a:lnTo>
                            <a:pt x="265" y="81"/>
                          </a:lnTo>
                          <a:lnTo>
                            <a:pt x="262" y="81"/>
                          </a:lnTo>
                          <a:lnTo>
                            <a:pt x="259" y="81"/>
                          </a:lnTo>
                          <a:lnTo>
                            <a:pt x="256" y="82"/>
                          </a:lnTo>
                          <a:lnTo>
                            <a:pt x="248" y="82"/>
                          </a:lnTo>
                          <a:lnTo>
                            <a:pt x="242" y="84"/>
                          </a:lnTo>
                          <a:lnTo>
                            <a:pt x="239" y="84"/>
                          </a:lnTo>
                          <a:lnTo>
                            <a:pt x="234" y="84"/>
                          </a:lnTo>
                          <a:lnTo>
                            <a:pt x="231" y="84"/>
                          </a:lnTo>
                          <a:lnTo>
                            <a:pt x="228" y="85"/>
                          </a:lnTo>
                          <a:lnTo>
                            <a:pt x="225" y="85"/>
                          </a:lnTo>
                          <a:lnTo>
                            <a:pt x="220" y="85"/>
                          </a:lnTo>
                          <a:lnTo>
                            <a:pt x="217" y="85"/>
                          </a:lnTo>
                          <a:lnTo>
                            <a:pt x="214" y="85"/>
                          </a:lnTo>
                          <a:lnTo>
                            <a:pt x="211" y="85"/>
                          </a:lnTo>
                          <a:lnTo>
                            <a:pt x="207" y="87"/>
                          </a:lnTo>
                          <a:lnTo>
                            <a:pt x="204" y="87"/>
                          </a:lnTo>
                          <a:lnTo>
                            <a:pt x="201" y="88"/>
                          </a:lnTo>
                          <a:lnTo>
                            <a:pt x="198" y="88"/>
                          </a:lnTo>
                          <a:lnTo>
                            <a:pt x="193" y="88"/>
                          </a:lnTo>
                          <a:lnTo>
                            <a:pt x="190" y="89"/>
                          </a:lnTo>
                          <a:lnTo>
                            <a:pt x="187" y="91"/>
                          </a:lnTo>
                          <a:lnTo>
                            <a:pt x="181" y="92"/>
                          </a:lnTo>
                          <a:lnTo>
                            <a:pt x="175" y="93"/>
                          </a:lnTo>
                          <a:lnTo>
                            <a:pt x="167" y="95"/>
                          </a:lnTo>
                          <a:lnTo>
                            <a:pt x="161" y="98"/>
                          </a:lnTo>
                          <a:lnTo>
                            <a:pt x="158" y="98"/>
                          </a:lnTo>
                          <a:lnTo>
                            <a:pt x="153" y="99"/>
                          </a:lnTo>
                          <a:lnTo>
                            <a:pt x="150" y="100"/>
                          </a:lnTo>
                          <a:lnTo>
                            <a:pt x="147" y="102"/>
                          </a:lnTo>
                          <a:lnTo>
                            <a:pt x="141" y="103"/>
                          </a:lnTo>
                          <a:lnTo>
                            <a:pt x="135" y="106"/>
                          </a:lnTo>
                          <a:lnTo>
                            <a:pt x="127" y="109"/>
                          </a:lnTo>
                          <a:lnTo>
                            <a:pt x="123" y="111"/>
                          </a:lnTo>
                          <a:lnTo>
                            <a:pt x="116" y="114"/>
                          </a:lnTo>
                          <a:lnTo>
                            <a:pt x="110" y="118"/>
                          </a:lnTo>
                          <a:lnTo>
                            <a:pt x="113" y="132"/>
                          </a:lnTo>
                          <a:lnTo>
                            <a:pt x="116" y="126"/>
                          </a:lnTo>
                          <a:lnTo>
                            <a:pt x="121" y="124"/>
                          </a:lnTo>
                          <a:lnTo>
                            <a:pt x="124" y="121"/>
                          </a:lnTo>
                          <a:lnTo>
                            <a:pt x="127" y="120"/>
                          </a:lnTo>
                          <a:lnTo>
                            <a:pt x="130" y="118"/>
                          </a:lnTo>
                          <a:lnTo>
                            <a:pt x="135" y="117"/>
                          </a:lnTo>
                          <a:lnTo>
                            <a:pt x="139" y="114"/>
                          </a:lnTo>
                          <a:lnTo>
                            <a:pt x="144" y="113"/>
                          </a:lnTo>
                          <a:lnTo>
                            <a:pt x="147" y="111"/>
                          </a:lnTo>
                          <a:lnTo>
                            <a:pt x="153" y="110"/>
                          </a:lnTo>
                          <a:lnTo>
                            <a:pt x="158" y="107"/>
                          </a:lnTo>
                          <a:lnTo>
                            <a:pt x="164" y="107"/>
                          </a:lnTo>
                          <a:lnTo>
                            <a:pt x="170" y="104"/>
                          </a:lnTo>
                          <a:lnTo>
                            <a:pt x="176" y="104"/>
                          </a:lnTo>
                          <a:lnTo>
                            <a:pt x="182" y="102"/>
                          </a:lnTo>
                          <a:lnTo>
                            <a:pt x="188" y="100"/>
                          </a:lnTo>
                          <a:lnTo>
                            <a:pt x="194" y="99"/>
                          </a:lnTo>
                          <a:lnTo>
                            <a:pt x="202" y="98"/>
                          </a:lnTo>
                          <a:lnTo>
                            <a:pt x="208" y="96"/>
                          </a:lnTo>
                          <a:lnTo>
                            <a:pt x="216" y="95"/>
                          </a:lnTo>
                          <a:lnTo>
                            <a:pt x="224" y="95"/>
                          </a:lnTo>
                          <a:lnTo>
                            <a:pt x="231" y="93"/>
                          </a:lnTo>
                          <a:lnTo>
                            <a:pt x="237" y="92"/>
                          </a:lnTo>
                          <a:lnTo>
                            <a:pt x="245" y="91"/>
                          </a:lnTo>
                          <a:lnTo>
                            <a:pt x="253" y="89"/>
                          </a:lnTo>
                          <a:lnTo>
                            <a:pt x="260" y="88"/>
                          </a:lnTo>
                          <a:lnTo>
                            <a:pt x="268" y="88"/>
                          </a:lnTo>
                          <a:lnTo>
                            <a:pt x="277" y="87"/>
                          </a:lnTo>
                          <a:lnTo>
                            <a:pt x="285" y="85"/>
                          </a:lnTo>
                          <a:lnTo>
                            <a:pt x="292" y="85"/>
                          </a:lnTo>
                          <a:lnTo>
                            <a:pt x="300" y="84"/>
                          </a:lnTo>
                          <a:lnTo>
                            <a:pt x="308" y="82"/>
                          </a:lnTo>
                          <a:lnTo>
                            <a:pt x="315" y="82"/>
                          </a:lnTo>
                          <a:lnTo>
                            <a:pt x="325" y="81"/>
                          </a:lnTo>
                          <a:lnTo>
                            <a:pt x="332" y="80"/>
                          </a:lnTo>
                          <a:lnTo>
                            <a:pt x="340" y="80"/>
                          </a:lnTo>
                          <a:lnTo>
                            <a:pt x="347" y="78"/>
                          </a:lnTo>
                          <a:lnTo>
                            <a:pt x="357" y="78"/>
                          </a:lnTo>
                          <a:lnTo>
                            <a:pt x="364" y="77"/>
                          </a:lnTo>
                          <a:lnTo>
                            <a:pt x="370" y="77"/>
                          </a:lnTo>
                          <a:lnTo>
                            <a:pt x="378" y="76"/>
                          </a:lnTo>
                          <a:lnTo>
                            <a:pt x="386" y="76"/>
                          </a:lnTo>
                          <a:lnTo>
                            <a:pt x="393" y="74"/>
                          </a:lnTo>
                          <a:lnTo>
                            <a:pt x="401" y="74"/>
                          </a:lnTo>
                          <a:lnTo>
                            <a:pt x="409" y="73"/>
                          </a:lnTo>
                          <a:lnTo>
                            <a:pt x="416" y="73"/>
                          </a:lnTo>
                          <a:lnTo>
                            <a:pt x="422" y="73"/>
                          </a:lnTo>
                          <a:lnTo>
                            <a:pt x="429" y="73"/>
                          </a:lnTo>
                          <a:lnTo>
                            <a:pt x="435" y="71"/>
                          </a:lnTo>
                          <a:lnTo>
                            <a:pt x="442" y="71"/>
                          </a:lnTo>
                          <a:lnTo>
                            <a:pt x="448" y="71"/>
                          </a:lnTo>
                          <a:lnTo>
                            <a:pt x="455" y="70"/>
                          </a:lnTo>
                          <a:lnTo>
                            <a:pt x="461" y="70"/>
                          </a:lnTo>
                          <a:lnTo>
                            <a:pt x="467" y="70"/>
                          </a:lnTo>
                          <a:lnTo>
                            <a:pt x="471" y="70"/>
                          </a:lnTo>
                          <a:lnTo>
                            <a:pt x="476" y="70"/>
                          </a:lnTo>
                          <a:lnTo>
                            <a:pt x="481" y="70"/>
                          </a:lnTo>
                          <a:lnTo>
                            <a:pt x="487" y="70"/>
                          </a:lnTo>
                          <a:lnTo>
                            <a:pt x="490" y="70"/>
                          </a:lnTo>
                          <a:lnTo>
                            <a:pt x="494" y="70"/>
                          </a:lnTo>
                          <a:lnTo>
                            <a:pt x="497" y="70"/>
                          </a:lnTo>
                          <a:lnTo>
                            <a:pt x="502" y="70"/>
                          </a:lnTo>
                          <a:lnTo>
                            <a:pt x="1080" y="73"/>
                          </a:lnTo>
                          <a:lnTo>
                            <a:pt x="1079" y="73"/>
                          </a:lnTo>
                          <a:lnTo>
                            <a:pt x="1077" y="73"/>
                          </a:lnTo>
                          <a:lnTo>
                            <a:pt x="1074" y="73"/>
                          </a:lnTo>
                          <a:lnTo>
                            <a:pt x="1071" y="73"/>
                          </a:lnTo>
                          <a:lnTo>
                            <a:pt x="1066" y="73"/>
                          </a:lnTo>
                          <a:lnTo>
                            <a:pt x="1063" y="73"/>
                          </a:lnTo>
                          <a:lnTo>
                            <a:pt x="1059" y="74"/>
                          </a:lnTo>
                          <a:lnTo>
                            <a:pt x="1054" y="74"/>
                          </a:lnTo>
                          <a:lnTo>
                            <a:pt x="1047" y="74"/>
                          </a:lnTo>
                          <a:lnTo>
                            <a:pt x="1040" y="76"/>
                          </a:lnTo>
                          <a:lnTo>
                            <a:pt x="1034" y="76"/>
                          </a:lnTo>
                          <a:lnTo>
                            <a:pt x="1028" y="77"/>
                          </a:lnTo>
                          <a:lnTo>
                            <a:pt x="1024" y="77"/>
                          </a:lnTo>
                          <a:lnTo>
                            <a:pt x="1021" y="77"/>
                          </a:lnTo>
                          <a:lnTo>
                            <a:pt x="1016" y="77"/>
                          </a:lnTo>
                          <a:lnTo>
                            <a:pt x="1013" y="77"/>
                          </a:lnTo>
                          <a:lnTo>
                            <a:pt x="1010" y="77"/>
                          </a:lnTo>
                          <a:lnTo>
                            <a:pt x="1007" y="78"/>
                          </a:lnTo>
                          <a:lnTo>
                            <a:pt x="1002" y="78"/>
                          </a:lnTo>
                          <a:lnTo>
                            <a:pt x="999" y="80"/>
                          </a:lnTo>
                          <a:lnTo>
                            <a:pt x="996" y="80"/>
                          </a:lnTo>
                          <a:lnTo>
                            <a:pt x="991" y="80"/>
                          </a:lnTo>
                          <a:lnTo>
                            <a:pt x="988" y="80"/>
                          </a:lnTo>
                          <a:lnTo>
                            <a:pt x="984" y="80"/>
                          </a:lnTo>
                          <a:lnTo>
                            <a:pt x="981" y="80"/>
                          </a:lnTo>
                          <a:lnTo>
                            <a:pt x="978" y="80"/>
                          </a:lnTo>
                          <a:lnTo>
                            <a:pt x="973" y="80"/>
                          </a:lnTo>
                          <a:lnTo>
                            <a:pt x="970" y="81"/>
                          </a:lnTo>
                          <a:lnTo>
                            <a:pt x="967" y="81"/>
                          </a:lnTo>
                          <a:lnTo>
                            <a:pt x="962" y="81"/>
                          </a:lnTo>
                          <a:lnTo>
                            <a:pt x="959" y="81"/>
                          </a:lnTo>
                          <a:lnTo>
                            <a:pt x="956" y="82"/>
                          </a:lnTo>
                          <a:lnTo>
                            <a:pt x="950" y="82"/>
                          </a:lnTo>
                          <a:lnTo>
                            <a:pt x="944" y="82"/>
                          </a:lnTo>
                          <a:lnTo>
                            <a:pt x="938" y="82"/>
                          </a:lnTo>
                          <a:lnTo>
                            <a:pt x="933" y="84"/>
                          </a:lnTo>
                          <a:lnTo>
                            <a:pt x="929" y="84"/>
                          </a:lnTo>
                          <a:lnTo>
                            <a:pt x="924" y="84"/>
                          </a:lnTo>
                          <a:lnTo>
                            <a:pt x="921" y="84"/>
                          </a:lnTo>
                          <a:lnTo>
                            <a:pt x="918" y="85"/>
                          </a:lnTo>
                          <a:lnTo>
                            <a:pt x="916" y="85"/>
                          </a:lnTo>
                          <a:lnTo>
                            <a:pt x="915" y="85"/>
                          </a:lnTo>
                          <a:lnTo>
                            <a:pt x="918" y="85"/>
                          </a:lnTo>
                          <a:lnTo>
                            <a:pt x="921" y="85"/>
                          </a:lnTo>
                          <a:lnTo>
                            <a:pt x="926" y="85"/>
                          </a:lnTo>
                          <a:lnTo>
                            <a:pt x="929" y="87"/>
                          </a:lnTo>
                          <a:lnTo>
                            <a:pt x="933" y="87"/>
                          </a:lnTo>
                          <a:lnTo>
                            <a:pt x="936" y="87"/>
                          </a:lnTo>
                          <a:lnTo>
                            <a:pt x="939" y="87"/>
                          </a:lnTo>
                          <a:lnTo>
                            <a:pt x="944" y="88"/>
                          </a:lnTo>
                          <a:lnTo>
                            <a:pt x="947" y="88"/>
                          </a:lnTo>
                          <a:lnTo>
                            <a:pt x="952" y="88"/>
                          </a:lnTo>
                          <a:lnTo>
                            <a:pt x="955" y="88"/>
                          </a:lnTo>
                          <a:lnTo>
                            <a:pt x="959" y="88"/>
                          </a:lnTo>
                          <a:lnTo>
                            <a:pt x="962" y="88"/>
                          </a:lnTo>
                          <a:lnTo>
                            <a:pt x="967" y="88"/>
                          </a:lnTo>
                          <a:lnTo>
                            <a:pt x="972" y="88"/>
                          </a:lnTo>
                          <a:lnTo>
                            <a:pt x="975" y="88"/>
                          </a:lnTo>
                          <a:lnTo>
                            <a:pt x="979" y="87"/>
                          </a:lnTo>
                          <a:lnTo>
                            <a:pt x="982" y="87"/>
                          </a:lnTo>
                          <a:lnTo>
                            <a:pt x="987" y="87"/>
                          </a:lnTo>
                          <a:lnTo>
                            <a:pt x="991" y="87"/>
                          </a:lnTo>
                          <a:lnTo>
                            <a:pt x="994" y="87"/>
                          </a:lnTo>
                          <a:lnTo>
                            <a:pt x="999" y="87"/>
                          </a:lnTo>
                          <a:lnTo>
                            <a:pt x="1002" y="87"/>
                          </a:lnTo>
                          <a:lnTo>
                            <a:pt x="1007" y="87"/>
                          </a:lnTo>
                          <a:lnTo>
                            <a:pt x="1011" y="87"/>
                          </a:lnTo>
                          <a:lnTo>
                            <a:pt x="1014" y="87"/>
                          </a:lnTo>
                          <a:lnTo>
                            <a:pt x="1019" y="87"/>
                          </a:lnTo>
                          <a:lnTo>
                            <a:pt x="1022" y="87"/>
                          </a:lnTo>
                          <a:lnTo>
                            <a:pt x="1027" y="85"/>
                          </a:lnTo>
                          <a:lnTo>
                            <a:pt x="1031" y="85"/>
                          </a:lnTo>
                          <a:lnTo>
                            <a:pt x="1036" y="85"/>
                          </a:lnTo>
                          <a:lnTo>
                            <a:pt x="1040" y="85"/>
                          </a:lnTo>
                          <a:lnTo>
                            <a:pt x="1043" y="85"/>
                          </a:lnTo>
                          <a:lnTo>
                            <a:pt x="1047" y="85"/>
                          </a:lnTo>
                          <a:lnTo>
                            <a:pt x="1051" y="85"/>
                          </a:lnTo>
                          <a:lnTo>
                            <a:pt x="1056" y="85"/>
                          </a:lnTo>
                          <a:lnTo>
                            <a:pt x="1059" y="84"/>
                          </a:lnTo>
                          <a:lnTo>
                            <a:pt x="1063" y="84"/>
                          </a:lnTo>
                          <a:lnTo>
                            <a:pt x="1066" y="84"/>
                          </a:lnTo>
                          <a:lnTo>
                            <a:pt x="1071" y="84"/>
                          </a:lnTo>
                          <a:lnTo>
                            <a:pt x="1074" y="84"/>
                          </a:lnTo>
                          <a:lnTo>
                            <a:pt x="1079" y="84"/>
                          </a:lnTo>
                          <a:lnTo>
                            <a:pt x="1082" y="82"/>
                          </a:lnTo>
                          <a:lnTo>
                            <a:pt x="1086" y="82"/>
                          </a:lnTo>
                          <a:lnTo>
                            <a:pt x="1091" y="82"/>
                          </a:lnTo>
                          <a:lnTo>
                            <a:pt x="1094" y="82"/>
                          </a:lnTo>
                          <a:lnTo>
                            <a:pt x="1099" y="82"/>
                          </a:lnTo>
                          <a:lnTo>
                            <a:pt x="1103" y="82"/>
                          </a:lnTo>
                          <a:lnTo>
                            <a:pt x="1106" y="82"/>
                          </a:lnTo>
                          <a:lnTo>
                            <a:pt x="1111" y="82"/>
                          </a:lnTo>
                          <a:lnTo>
                            <a:pt x="1114" y="82"/>
                          </a:lnTo>
                          <a:lnTo>
                            <a:pt x="1118" y="82"/>
                          </a:lnTo>
                          <a:lnTo>
                            <a:pt x="1123" y="81"/>
                          </a:lnTo>
                          <a:lnTo>
                            <a:pt x="1126" y="81"/>
                          </a:lnTo>
                          <a:lnTo>
                            <a:pt x="1129" y="81"/>
                          </a:lnTo>
                          <a:lnTo>
                            <a:pt x="1134" y="81"/>
                          </a:lnTo>
                          <a:lnTo>
                            <a:pt x="1138" y="81"/>
                          </a:lnTo>
                          <a:lnTo>
                            <a:pt x="1141" y="81"/>
                          </a:lnTo>
                          <a:lnTo>
                            <a:pt x="1146" y="81"/>
                          </a:lnTo>
                          <a:lnTo>
                            <a:pt x="1149" y="81"/>
                          </a:lnTo>
                          <a:lnTo>
                            <a:pt x="1154" y="81"/>
                          </a:lnTo>
                          <a:lnTo>
                            <a:pt x="1157" y="81"/>
                          </a:lnTo>
                          <a:lnTo>
                            <a:pt x="1160" y="81"/>
                          </a:lnTo>
                          <a:lnTo>
                            <a:pt x="1164" y="81"/>
                          </a:lnTo>
                          <a:lnTo>
                            <a:pt x="1164" y="84"/>
                          </a:lnTo>
                          <a:lnTo>
                            <a:pt x="1166" y="88"/>
                          </a:lnTo>
                          <a:lnTo>
                            <a:pt x="1166" y="91"/>
                          </a:lnTo>
                          <a:lnTo>
                            <a:pt x="1166" y="95"/>
                          </a:lnTo>
                          <a:lnTo>
                            <a:pt x="1166" y="99"/>
                          </a:lnTo>
                          <a:lnTo>
                            <a:pt x="1167" y="103"/>
                          </a:lnTo>
                          <a:lnTo>
                            <a:pt x="1167" y="107"/>
                          </a:lnTo>
                          <a:lnTo>
                            <a:pt x="1167" y="113"/>
                          </a:lnTo>
                          <a:lnTo>
                            <a:pt x="1167" y="117"/>
                          </a:lnTo>
                          <a:lnTo>
                            <a:pt x="1169" y="120"/>
                          </a:lnTo>
                          <a:lnTo>
                            <a:pt x="1170" y="124"/>
                          </a:lnTo>
                          <a:lnTo>
                            <a:pt x="1170" y="128"/>
                          </a:lnTo>
                          <a:lnTo>
                            <a:pt x="1172" y="132"/>
                          </a:lnTo>
                          <a:lnTo>
                            <a:pt x="1173" y="135"/>
                          </a:lnTo>
                          <a:lnTo>
                            <a:pt x="1175" y="137"/>
                          </a:lnTo>
                          <a:lnTo>
                            <a:pt x="1177" y="140"/>
                          </a:lnTo>
                          <a:lnTo>
                            <a:pt x="1183" y="139"/>
                          </a:lnTo>
                          <a:lnTo>
                            <a:pt x="1183" y="135"/>
                          </a:lnTo>
                          <a:lnTo>
                            <a:pt x="1183" y="130"/>
                          </a:lnTo>
                          <a:lnTo>
                            <a:pt x="1183" y="126"/>
                          </a:lnTo>
                          <a:lnTo>
                            <a:pt x="1184" y="122"/>
                          </a:lnTo>
                          <a:lnTo>
                            <a:pt x="1183" y="118"/>
                          </a:lnTo>
                          <a:lnTo>
                            <a:pt x="1183" y="114"/>
                          </a:lnTo>
                          <a:lnTo>
                            <a:pt x="1181" y="109"/>
                          </a:lnTo>
                          <a:lnTo>
                            <a:pt x="1181" y="104"/>
                          </a:lnTo>
                          <a:lnTo>
                            <a:pt x="1180" y="100"/>
                          </a:lnTo>
                          <a:lnTo>
                            <a:pt x="1180" y="96"/>
                          </a:lnTo>
                          <a:lnTo>
                            <a:pt x="1178" y="92"/>
                          </a:lnTo>
                          <a:lnTo>
                            <a:pt x="1177" y="88"/>
                          </a:lnTo>
                          <a:lnTo>
                            <a:pt x="1177" y="82"/>
                          </a:lnTo>
                          <a:lnTo>
                            <a:pt x="1175" y="80"/>
                          </a:lnTo>
                          <a:lnTo>
                            <a:pt x="1175" y="76"/>
                          </a:lnTo>
                          <a:lnTo>
                            <a:pt x="1175" y="73"/>
                          </a:lnTo>
                          <a:lnTo>
                            <a:pt x="1172" y="70"/>
                          </a:lnTo>
                          <a:lnTo>
                            <a:pt x="1167" y="69"/>
                          </a:lnTo>
                          <a:lnTo>
                            <a:pt x="1161" y="67"/>
                          </a:lnTo>
                          <a:lnTo>
                            <a:pt x="1160" y="66"/>
                          </a:lnTo>
                          <a:lnTo>
                            <a:pt x="1183" y="66"/>
                          </a:lnTo>
                          <a:lnTo>
                            <a:pt x="1184" y="70"/>
                          </a:lnTo>
                          <a:lnTo>
                            <a:pt x="1184" y="74"/>
                          </a:lnTo>
                          <a:lnTo>
                            <a:pt x="1186" y="78"/>
                          </a:lnTo>
                          <a:lnTo>
                            <a:pt x="1187" y="84"/>
                          </a:lnTo>
                          <a:lnTo>
                            <a:pt x="1189" y="80"/>
                          </a:lnTo>
                          <a:lnTo>
                            <a:pt x="1190" y="77"/>
                          </a:lnTo>
                          <a:lnTo>
                            <a:pt x="1192" y="73"/>
                          </a:lnTo>
                          <a:lnTo>
                            <a:pt x="1192" y="70"/>
                          </a:lnTo>
                          <a:lnTo>
                            <a:pt x="1192" y="66"/>
                          </a:lnTo>
                          <a:lnTo>
                            <a:pt x="1190" y="62"/>
                          </a:lnTo>
                          <a:lnTo>
                            <a:pt x="1190" y="59"/>
                          </a:lnTo>
                          <a:lnTo>
                            <a:pt x="1190" y="56"/>
                          </a:lnTo>
                          <a:lnTo>
                            <a:pt x="1186" y="56"/>
                          </a:lnTo>
                          <a:lnTo>
                            <a:pt x="1181" y="56"/>
                          </a:lnTo>
                          <a:lnTo>
                            <a:pt x="1177" y="58"/>
                          </a:lnTo>
                          <a:lnTo>
                            <a:pt x="1170" y="58"/>
                          </a:lnTo>
                          <a:lnTo>
                            <a:pt x="1166" y="59"/>
                          </a:lnTo>
                          <a:lnTo>
                            <a:pt x="1161" y="60"/>
                          </a:lnTo>
                          <a:lnTo>
                            <a:pt x="1158" y="62"/>
                          </a:lnTo>
                          <a:lnTo>
                            <a:pt x="1155" y="63"/>
                          </a:lnTo>
                          <a:lnTo>
                            <a:pt x="1152" y="62"/>
                          </a:lnTo>
                          <a:lnTo>
                            <a:pt x="1149" y="62"/>
                          </a:lnTo>
                          <a:lnTo>
                            <a:pt x="1144" y="60"/>
                          </a:lnTo>
                          <a:lnTo>
                            <a:pt x="1140" y="60"/>
                          </a:lnTo>
                          <a:lnTo>
                            <a:pt x="1137" y="60"/>
                          </a:lnTo>
                          <a:lnTo>
                            <a:pt x="1132" y="60"/>
                          </a:lnTo>
                          <a:lnTo>
                            <a:pt x="1129" y="60"/>
                          </a:lnTo>
                          <a:lnTo>
                            <a:pt x="1126" y="60"/>
                          </a:lnTo>
                          <a:lnTo>
                            <a:pt x="1129" y="59"/>
                          </a:lnTo>
                          <a:lnTo>
                            <a:pt x="1132" y="58"/>
                          </a:lnTo>
                          <a:lnTo>
                            <a:pt x="1135" y="58"/>
                          </a:lnTo>
                          <a:lnTo>
                            <a:pt x="1140" y="56"/>
                          </a:lnTo>
                          <a:lnTo>
                            <a:pt x="1144" y="55"/>
                          </a:lnTo>
                          <a:lnTo>
                            <a:pt x="1149" y="55"/>
                          </a:lnTo>
                          <a:lnTo>
                            <a:pt x="1154" y="54"/>
                          </a:lnTo>
                          <a:lnTo>
                            <a:pt x="1160" y="54"/>
                          </a:lnTo>
                          <a:lnTo>
                            <a:pt x="1164" y="52"/>
                          </a:lnTo>
                          <a:lnTo>
                            <a:pt x="1170" y="52"/>
                          </a:lnTo>
                          <a:lnTo>
                            <a:pt x="1175" y="52"/>
                          </a:lnTo>
                          <a:lnTo>
                            <a:pt x="1180" y="52"/>
                          </a:lnTo>
                          <a:lnTo>
                            <a:pt x="1184" y="51"/>
                          </a:lnTo>
                          <a:lnTo>
                            <a:pt x="1189" y="51"/>
                          </a:lnTo>
                          <a:lnTo>
                            <a:pt x="1193" y="50"/>
                          </a:lnTo>
                          <a:lnTo>
                            <a:pt x="1198" y="50"/>
                          </a:lnTo>
                          <a:lnTo>
                            <a:pt x="1198" y="54"/>
                          </a:lnTo>
                          <a:lnTo>
                            <a:pt x="1198" y="56"/>
                          </a:lnTo>
                          <a:lnTo>
                            <a:pt x="1198" y="60"/>
                          </a:lnTo>
                          <a:lnTo>
                            <a:pt x="1199" y="63"/>
                          </a:lnTo>
                          <a:lnTo>
                            <a:pt x="1199" y="67"/>
                          </a:lnTo>
                          <a:lnTo>
                            <a:pt x="1201" y="70"/>
                          </a:lnTo>
                          <a:lnTo>
                            <a:pt x="1201" y="74"/>
                          </a:lnTo>
                          <a:lnTo>
                            <a:pt x="1203" y="78"/>
                          </a:lnTo>
                          <a:lnTo>
                            <a:pt x="1203" y="81"/>
                          </a:lnTo>
                          <a:lnTo>
                            <a:pt x="1203" y="85"/>
                          </a:lnTo>
                          <a:lnTo>
                            <a:pt x="1204" y="88"/>
                          </a:lnTo>
                          <a:lnTo>
                            <a:pt x="1204" y="92"/>
                          </a:lnTo>
                          <a:lnTo>
                            <a:pt x="1204" y="95"/>
                          </a:lnTo>
                          <a:lnTo>
                            <a:pt x="1206" y="99"/>
                          </a:lnTo>
                          <a:lnTo>
                            <a:pt x="1206" y="102"/>
                          </a:lnTo>
                          <a:lnTo>
                            <a:pt x="1207" y="106"/>
                          </a:lnTo>
                          <a:lnTo>
                            <a:pt x="1207" y="110"/>
                          </a:lnTo>
                          <a:lnTo>
                            <a:pt x="1207" y="113"/>
                          </a:lnTo>
                          <a:lnTo>
                            <a:pt x="1209" y="117"/>
                          </a:lnTo>
                          <a:lnTo>
                            <a:pt x="1209" y="120"/>
                          </a:lnTo>
                          <a:lnTo>
                            <a:pt x="1209" y="124"/>
                          </a:lnTo>
                          <a:lnTo>
                            <a:pt x="1210" y="126"/>
                          </a:lnTo>
                          <a:lnTo>
                            <a:pt x="1210" y="129"/>
                          </a:lnTo>
                          <a:lnTo>
                            <a:pt x="1212" y="133"/>
                          </a:lnTo>
                          <a:lnTo>
                            <a:pt x="1212" y="136"/>
                          </a:lnTo>
                          <a:lnTo>
                            <a:pt x="1213" y="140"/>
                          </a:lnTo>
                          <a:lnTo>
                            <a:pt x="1213" y="143"/>
                          </a:lnTo>
                          <a:lnTo>
                            <a:pt x="1215" y="147"/>
                          </a:lnTo>
                          <a:lnTo>
                            <a:pt x="1215" y="150"/>
                          </a:lnTo>
                          <a:lnTo>
                            <a:pt x="1216" y="154"/>
                          </a:lnTo>
                          <a:lnTo>
                            <a:pt x="1216" y="157"/>
                          </a:lnTo>
                          <a:lnTo>
                            <a:pt x="1218" y="161"/>
                          </a:lnTo>
                          <a:lnTo>
                            <a:pt x="1218" y="166"/>
                          </a:lnTo>
                          <a:lnTo>
                            <a:pt x="1219" y="172"/>
                          </a:lnTo>
                          <a:lnTo>
                            <a:pt x="1221" y="177"/>
                          </a:lnTo>
                          <a:lnTo>
                            <a:pt x="1222" y="183"/>
                          </a:lnTo>
                          <a:lnTo>
                            <a:pt x="1224" y="188"/>
                          </a:lnTo>
                          <a:lnTo>
                            <a:pt x="1227" y="194"/>
                          </a:lnTo>
                          <a:lnTo>
                            <a:pt x="1232" y="196"/>
                          </a:lnTo>
                          <a:lnTo>
                            <a:pt x="1236" y="199"/>
                          </a:lnTo>
                          <a:lnTo>
                            <a:pt x="1235" y="195"/>
                          </a:lnTo>
                          <a:lnTo>
                            <a:pt x="1235" y="191"/>
                          </a:lnTo>
                          <a:lnTo>
                            <a:pt x="1235" y="187"/>
                          </a:lnTo>
                          <a:lnTo>
                            <a:pt x="1235" y="183"/>
                          </a:lnTo>
                          <a:lnTo>
                            <a:pt x="1235" y="177"/>
                          </a:lnTo>
                          <a:lnTo>
                            <a:pt x="1235" y="172"/>
                          </a:lnTo>
                          <a:lnTo>
                            <a:pt x="1235" y="166"/>
                          </a:lnTo>
                          <a:lnTo>
                            <a:pt x="1235" y="161"/>
                          </a:lnTo>
                          <a:lnTo>
                            <a:pt x="1233" y="157"/>
                          </a:lnTo>
                          <a:lnTo>
                            <a:pt x="1233" y="154"/>
                          </a:lnTo>
                          <a:lnTo>
                            <a:pt x="1233" y="151"/>
                          </a:lnTo>
                          <a:lnTo>
                            <a:pt x="1233" y="147"/>
                          </a:lnTo>
                          <a:lnTo>
                            <a:pt x="1233" y="144"/>
                          </a:lnTo>
                          <a:lnTo>
                            <a:pt x="1233" y="140"/>
                          </a:lnTo>
                          <a:lnTo>
                            <a:pt x="1233" y="137"/>
                          </a:lnTo>
                          <a:lnTo>
                            <a:pt x="1233" y="135"/>
                          </a:lnTo>
                          <a:lnTo>
                            <a:pt x="1232" y="130"/>
                          </a:lnTo>
                          <a:lnTo>
                            <a:pt x="1232" y="128"/>
                          </a:lnTo>
                          <a:lnTo>
                            <a:pt x="1232" y="124"/>
                          </a:lnTo>
                          <a:lnTo>
                            <a:pt x="1232" y="121"/>
                          </a:lnTo>
                          <a:lnTo>
                            <a:pt x="1232" y="117"/>
                          </a:lnTo>
                          <a:lnTo>
                            <a:pt x="1232" y="114"/>
                          </a:lnTo>
                          <a:lnTo>
                            <a:pt x="1232" y="111"/>
                          </a:lnTo>
                          <a:lnTo>
                            <a:pt x="1232" y="107"/>
                          </a:lnTo>
                          <a:lnTo>
                            <a:pt x="1232" y="103"/>
                          </a:lnTo>
                          <a:lnTo>
                            <a:pt x="1230" y="100"/>
                          </a:lnTo>
                          <a:lnTo>
                            <a:pt x="1230" y="96"/>
                          </a:lnTo>
                          <a:lnTo>
                            <a:pt x="1230" y="93"/>
                          </a:lnTo>
                          <a:lnTo>
                            <a:pt x="1230" y="89"/>
                          </a:lnTo>
                          <a:lnTo>
                            <a:pt x="1229" y="87"/>
                          </a:lnTo>
                          <a:lnTo>
                            <a:pt x="1229" y="82"/>
                          </a:lnTo>
                          <a:lnTo>
                            <a:pt x="1229" y="80"/>
                          </a:lnTo>
                          <a:lnTo>
                            <a:pt x="1229" y="76"/>
                          </a:lnTo>
                          <a:lnTo>
                            <a:pt x="1229" y="73"/>
                          </a:lnTo>
                          <a:lnTo>
                            <a:pt x="1229" y="70"/>
                          </a:lnTo>
                          <a:lnTo>
                            <a:pt x="1229" y="67"/>
                          </a:lnTo>
                          <a:lnTo>
                            <a:pt x="1227" y="60"/>
                          </a:lnTo>
                          <a:lnTo>
                            <a:pt x="1227" y="56"/>
                          </a:lnTo>
                          <a:lnTo>
                            <a:pt x="1225" y="51"/>
                          </a:lnTo>
                          <a:lnTo>
                            <a:pt x="1224" y="45"/>
                          </a:lnTo>
                          <a:lnTo>
                            <a:pt x="1224" y="41"/>
                          </a:lnTo>
                          <a:lnTo>
                            <a:pt x="1224" y="37"/>
                          </a:lnTo>
                          <a:lnTo>
                            <a:pt x="1222" y="33"/>
                          </a:lnTo>
                          <a:lnTo>
                            <a:pt x="1221" y="30"/>
                          </a:lnTo>
                          <a:lnTo>
                            <a:pt x="1221" y="29"/>
                          </a:lnTo>
                          <a:lnTo>
                            <a:pt x="1221" y="28"/>
                          </a:lnTo>
                          <a:lnTo>
                            <a:pt x="1215" y="28"/>
                          </a:lnTo>
                          <a:lnTo>
                            <a:pt x="1207" y="28"/>
                          </a:lnTo>
                          <a:lnTo>
                            <a:pt x="1201" y="28"/>
                          </a:lnTo>
                          <a:lnTo>
                            <a:pt x="1196" y="28"/>
                          </a:lnTo>
                          <a:lnTo>
                            <a:pt x="1190" y="28"/>
                          </a:lnTo>
                          <a:lnTo>
                            <a:pt x="1184" y="28"/>
                          </a:lnTo>
                          <a:lnTo>
                            <a:pt x="1178" y="28"/>
                          </a:lnTo>
                          <a:lnTo>
                            <a:pt x="1172" y="28"/>
                          </a:lnTo>
                          <a:lnTo>
                            <a:pt x="1170" y="26"/>
                          </a:lnTo>
                          <a:lnTo>
                            <a:pt x="1169" y="26"/>
                          </a:lnTo>
                          <a:lnTo>
                            <a:pt x="1164" y="26"/>
                          </a:lnTo>
                          <a:lnTo>
                            <a:pt x="1161" y="25"/>
                          </a:lnTo>
                          <a:lnTo>
                            <a:pt x="1157" y="23"/>
                          </a:lnTo>
                          <a:lnTo>
                            <a:pt x="1154" y="23"/>
                          </a:lnTo>
                          <a:lnTo>
                            <a:pt x="1151" y="23"/>
                          </a:lnTo>
                          <a:lnTo>
                            <a:pt x="1149" y="22"/>
                          </a:lnTo>
                          <a:lnTo>
                            <a:pt x="1154" y="22"/>
                          </a:lnTo>
                          <a:lnTo>
                            <a:pt x="1160" y="21"/>
                          </a:lnTo>
                          <a:lnTo>
                            <a:pt x="1164" y="21"/>
                          </a:lnTo>
                          <a:lnTo>
                            <a:pt x="1170" y="21"/>
                          </a:lnTo>
                          <a:lnTo>
                            <a:pt x="1175" y="21"/>
                          </a:lnTo>
                          <a:lnTo>
                            <a:pt x="1180" y="19"/>
                          </a:lnTo>
                          <a:lnTo>
                            <a:pt x="1186" y="19"/>
                          </a:lnTo>
                          <a:lnTo>
                            <a:pt x="1190" y="19"/>
                          </a:lnTo>
                          <a:lnTo>
                            <a:pt x="1196" y="18"/>
                          </a:lnTo>
                          <a:lnTo>
                            <a:pt x="1201" y="18"/>
                          </a:lnTo>
                          <a:lnTo>
                            <a:pt x="1206" y="18"/>
                          </a:lnTo>
                          <a:lnTo>
                            <a:pt x="1212" y="18"/>
                          </a:lnTo>
                          <a:lnTo>
                            <a:pt x="1216" y="17"/>
                          </a:lnTo>
                          <a:lnTo>
                            <a:pt x="1221" y="17"/>
                          </a:lnTo>
                          <a:lnTo>
                            <a:pt x="1227" y="15"/>
                          </a:lnTo>
                          <a:lnTo>
                            <a:pt x="1233" y="15"/>
                          </a:lnTo>
                          <a:lnTo>
                            <a:pt x="1233" y="18"/>
                          </a:lnTo>
                          <a:lnTo>
                            <a:pt x="1233" y="21"/>
                          </a:lnTo>
                          <a:lnTo>
                            <a:pt x="1233" y="23"/>
                          </a:lnTo>
                          <a:lnTo>
                            <a:pt x="1233" y="29"/>
                          </a:lnTo>
                          <a:lnTo>
                            <a:pt x="1233" y="33"/>
                          </a:lnTo>
                          <a:lnTo>
                            <a:pt x="1235" y="39"/>
                          </a:lnTo>
                          <a:lnTo>
                            <a:pt x="1235" y="40"/>
                          </a:lnTo>
                          <a:lnTo>
                            <a:pt x="1235" y="43"/>
                          </a:lnTo>
                          <a:lnTo>
                            <a:pt x="1235" y="47"/>
                          </a:lnTo>
                          <a:lnTo>
                            <a:pt x="1236" y="50"/>
                          </a:lnTo>
                          <a:lnTo>
                            <a:pt x="1236" y="52"/>
                          </a:lnTo>
                          <a:lnTo>
                            <a:pt x="1236" y="55"/>
                          </a:lnTo>
                          <a:lnTo>
                            <a:pt x="1236" y="59"/>
                          </a:lnTo>
                          <a:lnTo>
                            <a:pt x="1236" y="62"/>
                          </a:lnTo>
                          <a:lnTo>
                            <a:pt x="1236" y="66"/>
                          </a:lnTo>
                          <a:lnTo>
                            <a:pt x="1236" y="69"/>
                          </a:lnTo>
                          <a:lnTo>
                            <a:pt x="1236" y="73"/>
                          </a:lnTo>
                          <a:lnTo>
                            <a:pt x="1238" y="76"/>
                          </a:lnTo>
                          <a:lnTo>
                            <a:pt x="1238" y="80"/>
                          </a:lnTo>
                          <a:lnTo>
                            <a:pt x="1238" y="82"/>
                          </a:lnTo>
                          <a:lnTo>
                            <a:pt x="1239" y="87"/>
                          </a:lnTo>
                          <a:lnTo>
                            <a:pt x="1239" y="91"/>
                          </a:lnTo>
                          <a:lnTo>
                            <a:pt x="1239" y="93"/>
                          </a:lnTo>
                          <a:lnTo>
                            <a:pt x="1239" y="98"/>
                          </a:lnTo>
                          <a:lnTo>
                            <a:pt x="1241" y="102"/>
                          </a:lnTo>
                          <a:lnTo>
                            <a:pt x="1241" y="106"/>
                          </a:lnTo>
                          <a:lnTo>
                            <a:pt x="1241" y="109"/>
                          </a:lnTo>
                          <a:lnTo>
                            <a:pt x="1242" y="113"/>
                          </a:lnTo>
                          <a:lnTo>
                            <a:pt x="1242" y="115"/>
                          </a:lnTo>
                          <a:lnTo>
                            <a:pt x="1242" y="120"/>
                          </a:lnTo>
                          <a:lnTo>
                            <a:pt x="1242" y="122"/>
                          </a:lnTo>
                          <a:lnTo>
                            <a:pt x="1244" y="126"/>
                          </a:lnTo>
                          <a:lnTo>
                            <a:pt x="1244" y="129"/>
                          </a:lnTo>
                          <a:lnTo>
                            <a:pt x="1245" y="133"/>
                          </a:lnTo>
                          <a:lnTo>
                            <a:pt x="1245" y="136"/>
                          </a:lnTo>
                          <a:lnTo>
                            <a:pt x="1245" y="139"/>
                          </a:lnTo>
                          <a:lnTo>
                            <a:pt x="1245" y="141"/>
                          </a:lnTo>
                          <a:lnTo>
                            <a:pt x="1247" y="146"/>
                          </a:lnTo>
                          <a:lnTo>
                            <a:pt x="1248" y="151"/>
                          </a:lnTo>
                          <a:lnTo>
                            <a:pt x="1250" y="157"/>
                          </a:lnTo>
                          <a:lnTo>
                            <a:pt x="1251" y="162"/>
                          </a:lnTo>
                          <a:lnTo>
                            <a:pt x="1253" y="166"/>
                          </a:lnTo>
                          <a:lnTo>
                            <a:pt x="1253" y="172"/>
                          </a:lnTo>
                          <a:lnTo>
                            <a:pt x="1256" y="176"/>
                          </a:lnTo>
                          <a:lnTo>
                            <a:pt x="1258" y="179"/>
                          </a:lnTo>
                          <a:lnTo>
                            <a:pt x="1259" y="180"/>
                          </a:lnTo>
                          <a:lnTo>
                            <a:pt x="1261" y="181"/>
                          </a:lnTo>
                          <a:lnTo>
                            <a:pt x="1262" y="184"/>
                          </a:lnTo>
                          <a:lnTo>
                            <a:pt x="1262" y="180"/>
                          </a:lnTo>
                          <a:lnTo>
                            <a:pt x="1262" y="177"/>
                          </a:lnTo>
                          <a:lnTo>
                            <a:pt x="1262" y="174"/>
                          </a:lnTo>
                          <a:lnTo>
                            <a:pt x="1262" y="172"/>
                          </a:lnTo>
                          <a:lnTo>
                            <a:pt x="1261" y="168"/>
                          </a:lnTo>
                          <a:lnTo>
                            <a:pt x="1261" y="165"/>
                          </a:lnTo>
                          <a:lnTo>
                            <a:pt x="1261" y="162"/>
                          </a:lnTo>
                          <a:lnTo>
                            <a:pt x="1261" y="159"/>
                          </a:lnTo>
                          <a:lnTo>
                            <a:pt x="1261" y="155"/>
                          </a:lnTo>
                          <a:lnTo>
                            <a:pt x="1261" y="152"/>
                          </a:lnTo>
                          <a:lnTo>
                            <a:pt x="1259" y="150"/>
                          </a:lnTo>
                          <a:lnTo>
                            <a:pt x="1259" y="147"/>
                          </a:lnTo>
                          <a:lnTo>
                            <a:pt x="1259" y="143"/>
                          </a:lnTo>
                          <a:lnTo>
                            <a:pt x="1259" y="140"/>
                          </a:lnTo>
                          <a:lnTo>
                            <a:pt x="1259" y="137"/>
                          </a:lnTo>
                          <a:lnTo>
                            <a:pt x="1259" y="135"/>
                          </a:lnTo>
                          <a:lnTo>
                            <a:pt x="1259" y="130"/>
                          </a:lnTo>
                          <a:lnTo>
                            <a:pt x="1259" y="128"/>
                          </a:lnTo>
                          <a:lnTo>
                            <a:pt x="1258" y="124"/>
                          </a:lnTo>
                          <a:lnTo>
                            <a:pt x="1258" y="121"/>
                          </a:lnTo>
                          <a:lnTo>
                            <a:pt x="1258" y="118"/>
                          </a:lnTo>
                          <a:lnTo>
                            <a:pt x="1258" y="115"/>
                          </a:lnTo>
                          <a:lnTo>
                            <a:pt x="1258" y="111"/>
                          </a:lnTo>
                          <a:lnTo>
                            <a:pt x="1258" y="109"/>
                          </a:lnTo>
                          <a:lnTo>
                            <a:pt x="1256" y="106"/>
                          </a:lnTo>
                          <a:lnTo>
                            <a:pt x="1256" y="102"/>
                          </a:lnTo>
                          <a:lnTo>
                            <a:pt x="1256" y="99"/>
                          </a:lnTo>
                          <a:lnTo>
                            <a:pt x="1256" y="96"/>
                          </a:lnTo>
                          <a:lnTo>
                            <a:pt x="1256" y="92"/>
                          </a:lnTo>
                          <a:lnTo>
                            <a:pt x="1256" y="89"/>
                          </a:lnTo>
                          <a:lnTo>
                            <a:pt x="1256" y="87"/>
                          </a:lnTo>
                          <a:lnTo>
                            <a:pt x="1256" y="84"/>
                          </a:lnTo>
                          <a:lnTo>
                            <a:pt x="1256" y="80"/>
                          </a:lnTo>
                          <a:lnTo>
                            <a:pt x="1258" y="77"/>
                          </a:lnTo>
                          <a:lnTo>
                            <a:pt x="1259" y="74"/>
                          </a:lnTo>
                          <a:lnTo>
                            <a:pt x="1261" y="71"/>
                          </a:lnTo>
                          <a:lnTo>
                            <a:pt x="1262" y="66"/>
                          </a:lnTo>
                          <a:lnTo>
                            <a:pt x="1264" y="60"/>
                          </a:lnTo>
                          <a:lnTo>
                            <a:pt x="1265" y="55"/>
                          </a:lnTo>
                          <a:lnTo>
                            <a:pt x="1267" y="51"/>
                          </a:lnTo>
                          <a:lnTo>
                            <a:pt x="1268" y="45"/>
                          </a:lnTo>
                          <a:lnTo>
                            <a:pt x="1270" y="41"/>
                          </a:lnTo>
                          <a:lnTo>
                            <a:pt x="1270" y="36"/>
                          </a:lnTo>
                          <a:lnTo>
                            <a:pt x="1270" y="32"/>
                          </a:lnTo>
                          <a:lnTo>
                            <a:pt x="1270" y="28"/>
                          </a:lnTo>
                          <a:lnTo>
                            <a:pt x="1270" y="22"/>
                          </a:lnTo>
                          <a:lnTo>
                            <a:pt x="1268" y="17"/>
                          </a:lnTo>
                          <a:lnTo>
                            <a:pt x="1268" y="11"/>
                          </a:lnTo>
                          <a:lnTo>
                            <a:pt x="1267" y="6"/>
                          </a:lnTo>
                          <a:lnTo>
                            <a:pt x="1265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Freeform 300"/>
                    <p:cNvSpPr/>
                    <p:nvPr/>
                  </p:nvSpPr>
                  <p:spPr>
                    <a:xfrm>
                      <a:off x="981720" y="2207520"/>
                      <a:ext cx="33480" cy="3240"/>
                    </a:xfrm>
                    <a:custGeom>
                      <a:avLst/>
                      <a:gdLst>
                        <a:gd name="textAreaLeft" fmla="*/ 0 w 33480"/>
                        <a:gd name="textAreaRight" fmla="*/ 33840 w 3348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55" h="11">
                          <a:moveTo>
                            <a:pt x="155" y="11"/>
                          </a:moveTo>
                          <a:lnTo>
                            <a:pt x="152" y="11"/>
                          </a:lnTo>
                          <a:lnTo>
                            <a:pt x="149" y="11"/>
                          </a:lnTo>
                          <a:lnTo>
                            <a:pt x="144" y="9"/>
                          </a:lnTo>
                          <a:lnTo>
                            <a:pt x="141" y="9"/>
                          </a:lnTo>
                          <a:lnTo>
                            <a:pt x="135" y="9"/>
                          </a:lnTo>
                          <a:lnTo>
                            <a:pt x="130" y="9"/>
                          </a:lnTo>
                          <a:lnTo>
                            <a:pt x="126" y="9"/>
                          </a:lnTo>
                          <a:lnTo>
                            <a:pt x="120" y="9"/>
                          </a:lnTo>
                          <a:lnTo>
                            <a:pt x="114" y="9"/>
                          </a:lnTo>
                          <a:lnTo>
                            <a:pt x="109" y="9"/>
                          </a:lnTo>
                          <a:lnTo>
                            <a:pt x="103" y="9"/>
                          </a:lnTo>
                          <a:lnTo>
                            <a:pt x="97" y="9"/>
                          </a:lnTo>
                          <a:lnTo>
                            <a:pt x="89" y="8"/>
                          </a:lnTo>
                          <a:lnTo>
                            <a:pt x="85" y="8"/>
                          </a:lnTo>
                          <a:lnTo>
                            <a:pt x="77" y="8"/>
                          </a:lnTo>
                          <a:lnTo>
                            <a:pt x="72" y="8"/>
                          </a:lnTo>
                          <a:lnTo>
                            <a:pt x="65" y="8"/>
                          </a:lnTo>
                          <a:lnTo>
                            <a:pt x="59" y="8"/>
                          </a:lnTo>
                          <a:lnTo>
                            <a:pt x="52" y="7"/>
                          </a:lnTo>
                          <a:lnTo>
                            <a:pt x="46" y="7"/>
                          </a:lnTo>
                          <a:lnTo>
                            <a:pt x="40" y="7"/>
                          </a:lnTo>
                          <a:lnTo>
                            <a:pt x="36" y="7"/>
                          </a:lnTo>
                          <a:lnTo>
                            <a:pt x="29" y="5"/>
                          </a:lnTo>
                          <a:lnTo>
                            <a:pt x="25" y="5"/>
                          </a:lnTo>
                          <a:lnTo>
                            <a:pt x="19" y="5"/>
                          </a:lnTo>
                          <a:lnTo>
                            <a:pt x="16" y="4"/>
                          </a:lnTo>
                          <a:lnTo>
                            <a:pt x="11" y="4"/>
                          </a:lnTo>
                          <a:lnTo>
                            <a:pt x="8" y="3"/>
                          </a:lnTo>
                          <a:lnTo>
                            <a:pt x="3" y="1"/>
                          </a:lnTo>
                          <a:lnTo>
                            <a:pt x="0" y="0"/>
                          </a:lnTo>
                          <a:lnTo>
                            <a:pt x="3" y="0"/>
                          </a:lnTo>
                          <a:lnTo>
                            <a:pt x="11" y="0"/>
                          </a:lnTo>
                          <a:lnTo>
                            <a:pt x="55" y="3"/>
                          </a:lnTo>
                          <a:lnTo>
                            <a:pt x="60" y="1"/>
                          </a:lnTo>
                          <a:lnTo>
                            <a:pt x="65" y="1"/>
                          </a:lnTo>
                          <a:lnTo>
                            <a:pt x="69" y="1"/>
                          </a:lnTo>
                          <a:lnTo>
                            <a:pt x="72" y="1"/>
                          </a:lnTo>
                          <a:lnTo>
                            <a:pt x="77" y="1"/>
                          </a:lnTo>
                          <a:lnTo>
                            <a:pt x="81" y="1"/>
                          </a:lnTo>
                          <a:lnTo>
                            <a:pt x="86" y="1"/>
                          </a:lnTo>
                          <a:lnTo>
                            <a:pt x="91" y="1"/>
                          </a:lnTo>
                          <a:lnTo>
                            <a:pt x="95" y="1"/>
                          </a:lnTo>
                          <a:lnTo>
                            <a:pt x="100" y="1"/>
                          </a:lnTo>
                          <a:lnTo>
                            <a:pt x="103" y="1"/>
                          </a:lnTo>
                          <a:lnTo>
                            <a:pt x="109" y="1"/>
                          </a:lnTo>
                          <a:lnTo>
                            <a:pt x="114" y="1"/>
                          </a:lnTo>
                          <a:lnTo>
                            <a:pt x="117" y="1"/>
                          </a:lnTo>
                          <a:lnTo>
                            <a:pt x="121" y="1"/>
                          </a:lnTo>
                          <a:lnTo>
                            <a:pt x="127" y="3"/>
                          </a:lnTo>
                          <a:lnTo>
                            <a:pt x="130" y="3"/>
                          </a:lnTo>
                          <a:lnTo>
                            <a:pt x="137" y="3"/>
                          </a:lnTo>
                          <a:lnTo>
                            <a:pt x="141" y="5"/>
                          </a:lnTo>
                          <a:lnTo>
                            <a:pt x="147" y="7"/>
                          </a:lnTo>
                          <a:lnTo>
                            <a:pt x="152" y="8"/>
                          </a:lnTo>
                          <a:lnTo>
                            <a:pt x="155" y="9"/>
                          </a:lnTo>
                          <a:lnTo>
                            <a:pt x="155" y="1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301"/>
                    <p:cNvSpPr/>
                    <p:nvPr/>
                  </p:nvSpPr>
                  <p:spPr>
                    <a:xfrm>
                      <a:off x="811440" y="2221200"/>
                      <a:ext cx="13680" cy="1188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11880"/>
                        <a:gd name="textAreaBottom" fmla="*/ 12240 h 11880"/>
                      </a:gdLst>
                      <a:ahLst/>
                      <a:rect l="textAreaLeft" t="textAreaTop" r="textAreaRight" b="textAreaBottom"/>
                      <a:pathLst>
                        <a:path w="65" h="42">
                          <a:moveTo>
                            <a:pt x="65" y="0"/>
                          </a:moveTo>
                          <a:lnTo>
                            <a:pt x="64" y="0"/>
                          </a:lnTo>
                          <a:lnTo>
                            <a:pt x="61" y="0"/>
                          </a:lnTo>
                          <a:lnTo>
                            <a:pt x="56" y="0"/>
                          </a:lnTo>
                          <a:lnTo>
                            <a:pt x="53" y="0"/>
                          </a:lnTo>
                          <a:lnTo>
                            <a:pt x="49" y="0"/>
                          </a:lnTo>
                          <a:lnTo>
                            <a:pt x="42" y="0"/>
                          </a:lnTo>
                          <a:lnTo>
                            <a:pt x="38" y="1"/>
                          </a:lnTo>
                          <a:lnTo>
                            <a:pt x="33" y="3"/>
                          </a:lnTo>
                          <a:lnTo>
                            <a:pt x="27" y="3"/>
                          </a:lnTo>
                          <a:lnTo>
                            <a:pt x="23" y="3"/>
                          </a:lnTo>
                          <a:lnTo>
                            <a:pt x="16" y="4"/>
                          </a:lnTo>
                          <a:lnTo>
                            <a:pt x="12" y="5"/>
                          </a:lnTo>
                          <a:lnTo>
                            <a:pt x="7" y="5"/>
                          </a:lnTo>
                          <a:lnTo>
                            <a:pt x="4" y="7"/>
                          </a:lnTo>
                          <a:lnTo>
                            <a:pt x="1" y="7"/>
                          </a:lnTo>
                          <a:lnTo>
                            <a:pt x="0" y="8"/>
                          </a:lnTo>
                          <a:lnTo>
                            <a:pt x="4" y="42"/>
                          </a:lnTo>
                          <a:lnTo>
                            <a:pt x="7" y="41"/>
                          </a:lnTo>
                          <a:lnTo>
                            <a:pt x="6" y="38"/>
                          </a:lnTo>
                          <a:lnTo>
                            <a:pt x="6" y="34"/>
                          </a:lnTo>
                          <a:lnTo>
                            <a:pt x="6" y="30"/>
                          </a:lnTo>
                          <a:lnTo>
                            <a:pt x="4" y="27"/>
                          </a:lnTo>
                          <a:lnTo>
                            <a:pt x="4" y="22"/>
                          </a:lnTo>
                          <a:lnTo>
                            <a:pt x="3" y="19"/>
                          </a:lnTo>
                          <a:lnTo>
                            <a:pt x="3" y="16"/>
                          </a:lnTo>
                          <a:lnTo>
                            <a:pt x="4" y="15"/>
                          </a:lnTo>
                          <a:lnTo>
                            <a:pt x="7" y="15"/>
                          </a:lnTo>
                          <a:lnTo>
                            <a:pt x="12" y="15"/>
                          </a:lnTo>
                          <a:lnTo>
                            <a:pt x="15" y="15"/>
                          </a:lnTo>
                          <a:lnTo>
                            <a:pt x="20" y="15"/>
                          </a:lnTo>
                          <a:lnTo>
                            <a:pt x="23" y="14"/>
                          </a:lnTo>
                          <a:lnTo>
                            <a:pt x="27" y="12"/>
                          </a:lnTo>
                          <a:lnTo>
                            <a:pt x="32" y="12"/>
                          </a:lnTo>
                          <a:lnTo>
                            <a:pt x="36" y="11"/>
                          </a:lnTo>
                          <a:lnTo>
                            <a:pt x="39" y="9"/>
                          </a:lnTo>
                          <a:lnTo>
                            <a:pt x="44" y="8"/>
                          </a:lnTo>
                          <a:lnTo>
                            <a:pt x="49" y="7"/>
                          </a:lnTo>
                          <a:lnTo>
                            <a:pt x="53" y="5"/>
                          </a:lnTo>
                          <a:lnTo>
                            <a:pt x="56" y="4"/>
                          </a:lnTo>
                          <a:lnTo>
                            <a:pt x="59" y="3"/>
                          </a:lnTo>
                          <a:lnTo>
                            <a:pt x="62" y="0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Freeform 302"/>
                    <p:cNvSpPr/>
                    <p:nvPr/>
                  </p:nvSpPr>
                  <p:spPr>
                    <a:xfrm>
                      <a:off x="777960" y="2249280"/>
                      <a:ext cx="313920" cy="66600"/>
                    </a:xfrm>
                    <a:custGeom>
                      <a:avLst/>
                      <a:gdLst>
                        <a:gd name="textAreaLeft" fmla="*/ 0 w 313920"/>
                        <a:gd name="textAreaRight" fmla="*/ 314280 w 313920"/>
                        <a:gd name="textAreaTop" fmla="*/ 0 h 66600"/>
                        <a:gd name="textAreaBottom" fmla="*/ 66960 h 66600"/>
                      </a:gdLst>
                      <a:ahLst/>
                      <a:rect l="textAreaLeft" t="textAreaTop" r="textAreaRight" b="textAreaBottom"/>
                      <a:pathLst>
                        <a:path w="1450" h="235">
                          <a:moveTo>
                            <a:pt x="9" y="4"/>
                          </a:moveTo>
                          <a:lnTo>
                            <a:pt x="9" y="7"/>
                          </a:lnTo>
                          <a:lnTo>
                            <a:pt x="8" y="11"/>
                          </a:lnTo>
                          <a:lnTo>
                            <a:pt x="8" y="15"/>
                          </a:lnTo>
                          <a:lnTo>
                            <a:pt x="6" y="19"/>
                          </a:lnTo>
                          <a:lnTo>
                            <a:pt x="6" y="23"/>
                          </a:lnTo>
                          <a:lnTo>
                            <a:pt x="6" y="28"/>
                          </a:lnTo>
                          <a:lnTo>
                            <a:pt x="4" y="33"/>
                          </a:lnTo>
                          <a:lnTo>
                            <a:pt x="4" y="37"/>
                          </a:lnTo>
                          <a:lnTo>
                            <a:pt x="4" y="43"/>
                          </a:lnTo>
                          <a:lnTo>
                            <a:pt x="3" y="47"/>
                          </a:lnTo>
                          <a:lnTo>
                            <a:pt x="3" y="51"/>
                          </a:lnTo>
                          <a:lnTo>
                            <a:pt x="3" y="56"/>
                          </a:lnTo>
                          <a:lnTo>
                            <a:pt x="1" y="62"/>
                          </a:lnTo>
                          <a:lnTo>
                            <a:pt x="1" y="66"/>
                          </a:lnTo>
                          <a:lnTo>
                            <a:pt x="1" y="71"/>
                          </a:lnTo>
                          <a:lnTo>
                            <a:pt x="1" y="77"/>
                          </a:lnTo>
                          <a:lnTo>
                            <a:pt x="1" y="81"/>
                          </a:lnTo>
                          <a:lnTo>
                            <a:pt x="1" y="87"/>
                          </a:lnTo>
                          <a:lnTo>
                            <a:pt x="0" y="91"/>
                          </a:lnTo>
                          <a:lnTo>
                            <a:pt x="0" y="96"/>
                          </a:lnTo>
                          <a:lnTo>
                            <a:pt x="0" y="100"/>
                          </a:lnTo>
                          <a:lnTo>
                            <a:pt x="0" y="104"/>
                          </a:lnTo>
                          <a:lnTo>
                            <a:pt x="0" y="110"/>
                          </a:lnTo>
                          <a:lnTo>
                            <a:pt x="0" y="115"/>
                          </a:lnTo>
                          <a:lnTo>
                            <a:pt x="0" y="119"/>
                          </a:lnTo>
                          <a:lnTo>
                            <a:pt x="0" y="124"/>
                          </a:lnTo>
                          <a:lnTo>
                            <a:pt x="0" y="129"/>
                          </a:lnTo>
                          <a:lnTo>
                            <a:pt x="0" y="133"/>
                          </a:lnTo>
                          <a:lnTo>
                            <a:pt x="0" y="137"/>
                          </a:lnTo>
                          <a:lnTo>
                            <a:pt x="0" y="141"/>
                          </a:lnTo>
                          <a:lnTo>
                            <a:pt x="0" y="147"/>
                          </a:lnTo>
                          <a:lnTo>
                            <a:pt x="0" y="151"/>
                          </a:lnTo>
                          <a:lnTo>
                            <a:pt x="0" y="150"/>
                          </a:lnTo>
                          <a:lnTo>
                            <a:pt x="1" y="147"/>
                          </a:lnTo>
                          <a:lnTo>
                            <a:pt x="3" y="143"/>
                          </a:lnTo>
                          <a:lnTo>
                            <a:pt x="4" y="140"/>
                          </a:lnTo>
                          <a:lnTo>
                            <a:pt x="4" y="135"/>
                          </a:lnTo>
                          <a:lnTo>
                            <a:pt x="6" y="130"/>
                          </a:lnTo>
                          <a:lnTo>
                            <a:pt x="6" y="125"/>
                          </a:lnTo>
                          <a:lnTo>
                            <a:pt x="8" y="121"/>
                          </a:lnTo>
                          <a:lnTo>
                            <a:pt x="8" y="114"/>
                          </a:lnTo>
                          <a:lnTo>
                            <a:pt x="8" y="108"/>
                          </a:lnTo>
                          <a:lnTo>
                            <a:pt x="9" y="104"/>
                          </a:lnTo>
                          <a:lnTo>
                            <a:pt x="9" y="99"/>
                          </a:lnTo>
                          <a:lnTo>
                            <a:pt x="9" y="95"/>
                          </a:lnTo>
                          <a:lnTo>
                            <a:pt x="9" y="92"/>
                          </a:lnTo>
                          <a:lnTo>
                            <a:pt x="9" y="89"/>
                          </a:lnTo>
                          <a:lnTo>
                            <a:pt x="9" y="88"/>
                          </a:lnTo>
                          <a:lnTo>
                            <a:pt x="17" y="33"/>
                          </a:lnTo>
                          <a:lnTo>
                            <a:pt x="21" y="32"/>
                          </a:lnTo>
                          <a:lnTo>
                            <a:pt x="26" y="32"/>
                          </a:lnTo>
                          <a:lnTo>
                            <a:pt x="30" y="30"/>
                          </a:lnTo>
                          <a:lnTo>
                            <a:pt x="37" y="30"/>
                          </a:lnTo>
                          <a:lnTo>
                            <a:pt x="41" y="28"/>
                          </a:lnTo>
                          <a:lnTo>
                            <a:pt x="47" y="28"/>
                          </a:lnTo>
                          <a:lnTo>
                            <a:pt x="50" y="26"/>
                          </a:lnTo>
                          <a:lnTo>
                            <a:pt x="53" y="26"/>
                          </a:lnTo>
                          <a:lnTo>
                            <a:pt x="58" y="25"/>
                          </a:lnTo>
                          <a:lnTo>
                            <a:pt x="61" y="25"/>
                          </a:lnTo>
                          <a:lnTo>
                            <a:pt x="64" y="23"/>
                          </a:lnTo>
                          <a:lnTo>
                            <a:pt x="67" y="23"/>
                          </a:lnTo>
                          <a:lnTo>
                            <a:pt x="72" y="23"/>
                          </a:lnTo>
                          <a:lnTo>
                            <a:pt x="75" y="22"/>
                          </a:lnTo>
                          <a:lnTo>
                            <a:pt x="79" y="22"/>
                          </a:lnTo>
                          <a:lnTo>
                            <a:pt x="82" y="21"/>
                          </a:lnTo>
                          <a:lnTo>
                            <a:pt x="87" y="21"/>
                          </a:lnTo>
                          <a:lnTo>
                            <a:pt x="90" y="21"/>
                          </a:lnTo>
                          <a:lnTo>
                            <a:pt x="95" y="19"/>
                          </a:lnTo>
                          <a:lnTo>
                            <a:pt x="98" y="19"/>
                          </a:lnTo>
                          <a:lnTo>
                            <a:pt x="101" y="18"/>
                          </a:lnTo>
                          <a:lnTo>
                            <a:pt x="105" y="18"/>
                          </a:lnTo>
                          <a:lnTo>
                            <a:pt x="108" y="18"/>
                          </a:lnTo>
                          <a:lnTo>
                            <a:pt x="113" y="17"/>
                          </a:lnTo>
                          <a:lnTo>
                            <a:pt x="118" y="17"/>
                          </a:lnTo>
                          <a:lnTo>
                            <a:pt x="122" y="17"/>
                          </a:lnTo>
                          <a:lnTo>
                            <a:pt x="125" y="15"/>
                          </a:lnTo>
                          <a:lnTo>
                            <a:pt x="128" y="15"/>
                          </a:lnTo>
                          <a:lnTo>
                            <a:pt x="133" y="14"/>
                          </a:lnTo>
                          <a:lnTo>
                            <a:pt x="136" y="14"/>
                          </a:lnTo>
                          <a:lnTo>
                            <a:pt x="141" y="14"/>
                          </a:lnTo>
                          <a:lnTo>
                            <a:pt x="144" y="12"/>
                          </a:lnTo>
                          <a:lnTo>
                            <a:pt x="148" y="12"/>
                          </a:lnTo>
                          <a:lnTo>
                            <a:pt x="151" y="12"/>
                          </a:lnTo>
                          <a:lnTo>
                            <a:pt x="157" y="12"/>
                          </a:lnTo>
                          <a:lnTo>
                            <a:pt x="165" y="11"/>
                          </a:lnTo>
                          <a:lnTo>
                            <a:pt x="171" y="11"/>
                          </a:lnTo>
                          <a:lnTo>
                            <a:pt x="177" y="11"/>
                          </a:lnTo>
                          <a:lnTo>
                            <a:pt x="183" y="11"/>
                          </a:lnTo>
                          <a:lnTo>
                            <a:pt x="190" y="11"/>
                          </a:lnTo>
                          <a:lnTo>
                            <a:pt x="194" y="11"/>
                          </a:lnTo>
                          <a:lnTo>
                            <a:pt x="199" y="11"/>
                          </a:lnTo>
                          <a:lnTo>
                            <a:pt x="202" y="12"/>
                          </a:lnTo>
                          <a:lnTo>
                            <a:pt x="206" y="12"/>
                          </a:lnTo>
                          <a:lnTo>
                            <a:pt x="209" y="14"/>
                          </a:lnTo>
                          <a:lnTo>
                            <a:pt x="211" y="15"/>
                          </a:lnTo>
                          <a:lnTo>
                            <a:pt x="209" y="15"/>
                          </a:lnTo>
                          <a:lnTo>
                            <a:pt x="206" y="14"/>
                          </a:lnTo>
                          <a:lnTo>
                            <a:pt x="202" y="14"/>
                          </a:lnTo>
                          <a:lnTo>
                            <a:pt x="199" y="15"/>
                          </a:lnTo>
                          <a:lnTo>
                            <a:pt x="194" y="15"/>
                          </a:lnTo>
                          <a:lnTo>
                            <a:pt x="190" y="15"/>
                          </a:lnTo>
                          <a:lnTo>
                            <a:pt x="183" y="15"/>
                          </a:lnTo>
                          <a:lnTo>
                            <a:pt x="179" y="15"/>
                          </a:lnTo>
                          <a:lnTo>
                            <a:pt x="173" y="15"/>
                          </a:lnTo>
                          <a:lnTo>
                            <a:pt x="167" y="17"/>
                          </a:lnTo>
                          <a:lnTo>
                            <a:pt x="162" y="17"/>
                          </a:lnTo>
                          <a:lnTo>
                            <a:pt x="159" y="18"/>
                          </a:lnTo>
                          <a:lnTo>
                            <a:pt x="156" y="18"/>
                          </a:lnTo>
                          <a:lnTo>
                            <a:pt x="153" y="18"/>
                          </a:lnTo>
                          <a:lnTo>
                            <a:pt x="148" y="18"/>
                          </a:lnTo>
                          <a:lnTo>
                            <a:pt x="145" y="19"/>
                          </a:lnTo>
                          <a:lnTo>
                            <a:pt x="141" y="19"/>
                          </a:lnTo>
                          <a:lnTo>
                            <a:pt x="138" y="21"/>
                          </a:lnTo>
                          <a:lnTo>
                            <a:pt x="133" y="21"/>
                          </a:lnTo>
                          <a:lnTo>
                            <a:pt x="130" y="21"/>
                          </a:lnTo>
                          <a:lnTo>
                            <a:pt x="125" y="22"/>
                          </a:lnTo>
                          <a:lnTo>
                            <a:pt x="122" y="23"/>
                          </a:lnTo>
                          <a:lnTo>
                            <a:pt x="119" y="23"/>
                          </a:lnTo>
                          <a:lnTo>
                            <a:pt x="115" y="23"/>
                          </a:lnTo>
                          <a:lnTo>
                            <a:pt x="110" y="23"/>
                          </a:lnTo>
                          <a:lnTo>
                            <a:pt x="107" y="25"/>
                          </a:lnTo>
                          <a:lnTo>
                            <a:pt x="102" y="25"/>
                          </a:lnTo>
                          <a:lnTo>
                            <a:pt x="99" y="26"/>
                          </a:lnTo>
                          <a:lnTo>
                            <a:pt x="95" y="26"/>
                          </a:lnTo>
                          <a:lnTo>
                            <a:pt x="92" y="28"/>
                          </a:lnTo>
                          <a:lnTo>
                            <a:pt x="87" y="28"/>
                          </a:lnTo>
                          <a:lnTo>
                            <a:pt x="84" y="28"/>
                          </a:lnTo>
                          <a:lnTo>
                            <a:pt x="81" y="29"/>
                          </a:lnTo>
                          <a:lnTo>
                            <a:pt x="76" y="29"/>
                          </a:lnTo>
                          <a:lnTo>
                            <a:pt x="70" y="30"/>
                          </a:lnTo>
                          <a:lnTo>
                            <a:pt x="63" y="32"/>
                          </a:lnTo>
                          <a:lnTo>
                            <a:pt x="56" y="33"/>
                          </a:lnTo>
                          <a:lnTo>
                            <a:pt x="50" y="34"/>
                          </a:lnTo>
                          <a:lnTo>
                            <a:pt x="44" y="34"/>
                          </a:lnTo>
                          <a:lnTo>
                            <a:pt x="40" y="36"/>
                          </a:lnTo>
                          <a:lnTo>
                            <a:pt x="35" y="37"/>
                          </a:lnTo>
                          <a:lnTo>
                            <a:pt x="30" y="38"/>
                          </a:lnTo>
                          <a:lnTo>
                            <a:pt x="27" y="38"/>
                          </a:lnTo>
                          <a:lnTo>
                            <a:pt x="24" y="40"/>
                          </a:lnTo>
                          <a:lnTo>
                            <a:pt x="23" y="44"/>
                          </a:lnTo>
                          <a:lnTo>
                            <a:pt x="23" y="51"/>
                          </a:lnTo>
                          <a:lnTo>
                            <a:pt x="23" y="54"/>
                          </a:lnTo>
                          <a:lnTo>
                            <a:pt x="21" y="58"/>
                          </a:lnTo>
                          <a:lnTo>
                            <a:pt x="21" y="62"/>
                          </a:lnTo>
                          <a:lnTo>
                            <a:pt x="21" y="65"/>
                          </a:lnTo>
                          <a:lnTo>
                            <a:pt x="21" y="69"/>
                          </a:lnTo>
                          <a:lnTo>
                            <a:pt x="21" y="71"/>
                          </a:lnTo>
                          <a:lnTo>
                            <a:pt x="21" y="76"/>
                          </a:lnTo>
                          <a:lnTo>
                            <a:pt x="23" y="78"/>
                          </a:lnTo>
                          <a:lnTo>
                            <a:pt x="23" y="84"/>
                          </a:lnTo>
                          <a:lnTo>
                            <a:pt x="24" y="88"/>
                          </a:lnTo>
                          <a:lnTo>
                            <a:pt x="24" y="89"/>
                          </a:lnTo>
                          <a:lnTo>
                            <a:pt x="24" y="93"/>
                          </a:lnTo>
                          <a:lnTo>
                            <a:pt x="23" y="96"/>
                          </a:lnTo>
                          <a:lnTo>
                            <a:pt x="23" y="99"/>
                          </a:lnTo>
                          <a:lnTo>
                            <a:pt x="23" y="103"/>
                          </a:lnTo>
                          <a:lnTo>
                            <a:pt x="23" y="106"/>
                          </a:lnTo>
                          <a:lnTo>
                            <a:pt x="23" y="108"/>
                          </a:lnTo>
                          <a:lnTo>
                            <a:pt x="21" y="111"/>
                          </a:lnTo>
                          <a:lnTo>
                            <a:pt x="21" y="114"/>
                          </a:lnTo>
                          <a:lnTo>
                            <a:pt x="21" y="117"/>
                          </a:lnTo>
                          <a:lnTo>
                            <a:pt x="20" y="121"/>
                          </a:lnTo>
                          <a:lnTo>
                            <a:pt x="20" y="122"/>
                          </a:lnTo>
                          <a:lnTo>
                            <a:pt x="20" y="125"/>
                          </a:lnTo>
                          <a:lnTo>
                            <a:pt x="20" y="128"/>
                          </a:lnTo>
                          <a:lnTo>
                            <a:pt x="20" y="130"/>
                          </a:lnTo>
                          <a:lnTo>
                            <a:pt x="20" y="135"/>
                          </a:lnTo>
                          <a:lnTo>
                            <a:pt x="18" y="137"/>
                          </a:lnTo>
                          <a:lnTo>
                            <a:pt x="18" y="140"/>
                          </a:lnTo>
                          <a:lnTo>
                            <a:pt x="18" y="143"/>
                          </a:lnTo>
                          <a:lnTo>
                            <a:pt x="18" y="147"/>
                          </a:lnTo>
                          <a:lnTo>
                            <a:pt x="18" y="150"/>
                          </a:lnTo>
                          <a:lnTo>
                            <a:pt x="18" y="152"/>
                          </a:lnTo>
                          <a:lnTo>
                            <a:pt x="18" y="155"/>
                          </a:lnTo>
                          <a:lnTo>
                            <a:pt x="18" y="159"/>
                          </a:lnTo>
                          <a:lnTo>
                            <a:pt x="17" y="162"/>
                          </a:lnTo>
                          <a:lnTo>
                            <a:pt x="17" y="165"/>
                          </a:lnTo>
                          <a:lnTo>
                            <a:pt x="17" y="168"/>
                          </a:lnTo>
                          <a:lnTo>
                            <a:pt x="17" y="172"/>
                          </a:lnTo>
                          <a:lnTo>
                            <a:pt x="17" y="177"/>
                          </a:lnTo>
                          <a:lnTo>
                            <a:pt x="15" y="183"/>
                          </a:lnTo>
                          <a:lnTo>
                            <a:pt x="15" y="185"/>
                          </a:lnTo>
                          <a:lnTo>
                            <a:pt x="15" y="189"/>
                          </a:lnTo>
                          <a:lnTo>
                            <a:pt x="15" y="192"/>
                          </a:lnTo>
                          <a:lnTo>
                            <a:pt x="15" y="196"/>
                          </a:lnTo>
                          <a:lnTo>
                            <a:pt x="15" y="199"/>
                          </a:lnTo>
                          <a:lnTo>
                            <a:pt x="15" y="202"/>
                          </a:lnTo>
                          <a:lnTo>
                            <a:pt x="15" y="205"/>
                          </a:lnTo>
                          <a:lnTo>
                            <a:pt x="15" y="209"/>
                          </a:lnTo>
                          <a:lnTo>
                            <a:pt x="15" y="211"/>
                          </a:lnTo>
                          <a:lnTo>
                            <a:pt x="15" y="214"/>
                          </a:lnTo>
                          <a:lnTo>
                            <a:pt x="15" y="218"/>
                          </a:lnTo>
                          <a:lnTo>
                            <a:pt x="15" y="221"/>
                          </a:lnTo>
                          <a:lnTo>
                            <a:pt x="15" y="220"/>
                          </a:lnTo>
                          <a:lnTo>
                            <a:pt x="15" y="218"/>
                          </a:lnTo>
                          <a:lnTo>
                            <a:pt x="15" y="217"/>
                          </a:lnTo>
                          <a:lnTo>
                            <a:pt x="17" y="213"/>
                          </a:lnTo>
                          <a:lnTo>
                            <a:pt x="18" y="210"/>
                          </a:lnTo>
                          <a:lnTo>
                            <a:pt x="20" y="206"/>
                          </a:lnTo>
                          <a:lnTo>
                            <a:pt x="20" y="200"/>
                          </a:lnTo>
                          <a:lnTo>
                            <a:pt x="21" y="196"/>
                          </a:lnTo>
                          <a:lnTo>
                            <a:pt x="21" y="191"/>
                          </a:lnTo>
                          <a:lnTo>
                            <a:pt x="23" y="185"/>
                          </a:lnTo>
                          <a:lnTo>
                            <a:pt x="23" y="180"/>
                          </a:lnTo>
                          <a:lnTo>
                            <a:pt x="24" y="173"/>
                          </a:lnTo>
                          <a:lnTo>
                            <a:pt x="24" y="170"/>
                          </a:lnTo>
                          <a:lnTo>
                            <a:pt x="26" y="168"/>
                          </a:lnTo>
                          <a:lnTo>
                            <a:pt x="26" y="163"/>
                          </a:lnTo>
                          <a:lnTo>
                            <a:pt x="26" y="161"/>
                          </a:lnTo>
                          <a:lnTo>
                            <a:pt x="26" y="157"/>
                          </a:lnTo>
                          <a:lnTo>
                            <a:pt x="27" y="154"/>
                          </a:lnTo>
                          <a:lnTo>
                            <a:pt x="27" y="150"/>
                          </a:lnTo>
                          <a:lnTo>
                            <a:pt x="29" y="147"/>
                          </a:lnTo>
                          <a:lnTo>
                            <a:pt x="29" y="143"/>
                          </a:lnTo>
                          <a:lnTo>
                            <a:pt x="29" y="140"/>
                          </a:lnTo>
                          <a:lnTo>
                            <a:pt x="30" y="136"/>
                          </a:lnTo>
                          <a:lnTo>
                            <a:pt x="30" y="133"/>
                          </a:lnTo>
                          <a:lnTo>
                            <a:pt x="30" y="129"/>
                          </a:lnTo>
                          <a:lnTo>
                            <a:pt x="32" y="126"/>
                          </a:lnTo>
                          <a:lnTo>
                            <a:pt x="32" y="122"/>
                          </a:lnTo>
                          <a:lnTo>
                            <a:pt x="32" y="119"/>
                          </a:lnTo>
                          <a:lnTo>
                            <a:pt x="32" y="115"/>
                          </a:lnTo>
                          <a:lnTo>
                            <a:pt x="34" y="113"/>
                          </a:lnTo>
                          <a:lnTo>
                            <a:pt x="34" y="108"/>
                          </a:lnTo>
                          <a:lnTo>
                            <a:pt x="35" y="106"/>
                          </a:lnTo>
                          <a:lnTo>
                            <a:pt x="35" y="99"/>
                          </a:lnTo>
                          <a:lnTo>
                            <a:pt x="37" y="95"/>
                          </a:lnTo>
                          <a:lnTo>
                            <a:pt x="37" y="88"/>
                          </a:lnTo>
                          <a:lnTo>
                            <a:pt x="38" y="84"/>
                          </a:lnTo>
                          <a:lnTo>
                            <a:pt x="38" y="78"/>
                          </a:lnTo>
                          <a:lnTo>
                            <a:pt x="40" y="74"/>
                          </a:lnTo>
                          <a:lnTo>
                            <a:pt x="40" y="70"/>
                          </a:lnTo>
                          <a:lnTo>
                            <a:pt x="41" y="67"/>
                          </a:lnTo>
                          <a:lnTo>
                            <a:pt x="41" y="65"/>
                          </a:lnTo>
                          <a:lnTo>
                            <a:pt x="43" y="63"/>
                          </a:lnTo>
                          <a:lnTo>
                            <a:pt x="43" y="62"/>
                          </a:lnTo>
                          <a:lnTo>
                            <a:pt x="46" y="62"/>
                          </a:lnTo>
                          <a:lnTo>
                            <a:pt x="50" y="60"/>
                          </a:lnTo>
                          <a:lnTo>
                            <a:pt x="55" y="59"/>
                          </a:lnTo>
                          <a:lnTo>
                            <a:pt x="58" y="59"/>
                          </a:lnTo>
                          <a:lnTo>
                            <a:pt x="61" y="58"/>
                          </a:lnTo>
                          <a:lnTo>
                            <a:pt x="64" y="56"/>
                          </a:lnTo>
                          <a:lnTo>
                            <a:pt x="67" y="56"/>
                          </a:lnTo>
                          <a:lnTo>
                            <a:pt x="70" y="55"/>
                          </a:lnTo>
                          <a:lnTo>
                            <a:pt x="75" y="55"/>
                          </a:lnTo>
                          <a:lnTo>
                            <a:pt x="78" y="54"/>
                          </a:lnTo>
                          <a:lnTo>
                            <a:pt x="82" y="54"/>
                          </a:lnTo>
                          <a:lnTo>
                            <a:pt x="86" y="52"/>
                          </a:lnTo>
                          <a:lnTo>
                            <a:pt x="90" y="52"/>
                          </a:lnTo>
                          <a:lnTo>
                            <a:pt x="93" y="51"/>
                          </a:lnTo>
                          <a:lnTo>
                            <a:pt x="98" y="51"/>
                          </a:lnTo>
                          <a:lnTo>
                            <a:pt x="101" y="49"/>
                          </a:lnTo>
                          <a:lnTo>
                            <a:pt x="105" y="49"/>
                          </a:lnTo>
                          <a:lnTo>
                            <a:pt x="108" y="49"/>
                          </a:lnTo>
                          <a:lnTo>
                            <a:pt x="113" y="49"/>
                          </a:lnTo>
                          <a:lnTo>
                            <a:pt x="116" y="48"/>
                          </a:lnTo>
                          <a:lnTo>
                            <a:pt x="119" y="48"/>
                          </a:lnTo>
                          <a:lnTo>
                            <a:pt x="122" y="48"/>
                          </a:lnTo>
                          <a:lnTo>
                            <a:pt x="127" y="48"/>
                          </a:lnTo>
                          <a:lnTo>
                            <a:pt x="133" y="48"/>
                          </a:lnTo>
                          <a:lnTo>
                            <a:pt x="139" y="49"/>
                          </a:lnTo>
                          <a:lnTo>
                            <a:pt x="115" y="60"/>
                          </a:lnTo>
                          <a:lnTo>
                            <a:pt x="113" y="59"/>
                          </a:lnTo>
                          <a:lnTo>
                            <a:pt x="112" y="59"/>
                          </a:lnTo>
                          <a:lnTo>
                            <a:pt x="108" y="59"/>
                          </a:lnTo>
                          <a:lnTo>
                            <a:pt x="105" y="59"/>
                          </a:lnTo>
                          <a:lnTo>
                            <a:pt x="101" y="59"/>
                          </a:lnTo>
                          <a:lnTo>
                            <a:pt x="95" y="60"/>
                          </a:lnTo>
                          <a:lnTo>
                            <a:pt x="90" y="62"/>
                          </a:lnTo>
                          <a:lnTo>
                            <a:pt x="84" y="62"/>
                          </a:lnTo>
                          <a:lnTo>
                            <a:pt x="78" y="63"/>
                          </a:lnTo>
                          <a:lnTo>
                            <a:pt x="73" y="65"/>
                          </a:lnTo>
                          <a:lnTo>
                            <a:pt x="67" y="65"/>
                          </a:lnTo>
                          <a:lnTo>
                            <a:pt x="63" y="66"/>
                          </a:lnTo>
                          <a:lnTo>
                            <a:pt x="56" y="66"/>
                          </a:lnTo>
                          <a:lnTo>
                            <a:pt x="53" y="66"/>
                          </a:lnTo>
                          <a:lnTo>
                            <a:pt x="50" y="67"/>
                          </a:lnTo>
                          <a:lnTo>
                            <a:pt x="47" y="67"/>
                          </a:lnTo>
                          <a:lnTo>
                            <a:pt x="46" y="70"/>
                          </a:lnTo>
                          <a:lnTo>
                            <a:pt x="46" y="74"/>
                          </a:lnTo>
                          <a:lnTo>
                            <a:pt x="44" y="77"/>
                          </a:lnTo>
                          <a:lnTo>
                            <a:pt x="44" y="80"/>
                          </a:lnTo>
                          <a:lnTo>
                            <a:pt x="44" y="84"/>
                          </a:lnTo>
                          <a:lnTo>
                            <a:pt x="43" y="87"/>
                          </a:lnTo>
                          <a:lnTo>
                            <a:pt x="43" y="89"/>
                          </a:lnTo>
                          <a:lnTo>
                            <a:pt x="43" y="93"/>
                          </a:lnTo>
                          <a:lnTo>
                            <a:pt x="43" y="98"/>
                          </a:lnTo>
                          <a:lnTo>
                            <a:pt x="43" y="100"/>
                          </a:lnTo>
                          <a:lnTo>
                            <a:pt x="43" y="104"/>
                          </a:lnTo>
                          <a:lnTo>
                            <a:pt x="43" y="107"/>
                          </a:lnTo>
                          <a:lnTo>
                            <a:pt x="43" y="111"/>
                          </a:lnTo>
                          <a:lnTo>
                            <a:pt x="43" y="114"/>
                          </a:lnTo>
                          <a:lnTo>
                            <a:pt x="43" y="118"/>
                          </a:lnTo>
                          <a:lnTo>
                            <a:pt x="43" y="122"/>
                          </a:lnTo>
                          <a:lnTo>
                            <a:pt x="43" y="125"/>
                          </a:lnTo>
                          <a:lnTo>
                            <a:pt x="43" y="129"/>
                          </a:lnTo>
                          <a:lnTo>
                            <a:pt x="43" y="132"/>
                          </a:lnTo>
                          <a:lnTo>
                            <a:pt x="43" y="136"/>
                          </a:lnTo>
                          <a:lnTo>
                            <a:pt x="43" y="139"/>
                          </a:lnTo>
                          <a:lnTo>
                            <a:pt x="43" y="143"/>
                          </a:lnTo>
                          <a:lnTo>
                            <a:pt x="43" y="146"/>
                          </a:lnTo>
                          <a:lnTo>
                            <a:pt x="43" y="150"/>
                          </a:lnTo>
                          <a:lnTo>
                            <a:pt x="43" y="154"/>
                          </a:lnTo>
                          <a:lnTo>
                            <a:pt x="43" y="157"/>
                          </a:lnTo>
                          <a:lnTo>
                            <a:pt x="43" y="161"/>
                          </a:lnTo>
                          <a:lnTo>
                            <a:pt x="44" y="163"/>
                          </a:lnTo>
                          <a:lnTo>
                            <a:pt x="44" y="168"/>
                          </a:lnTo>
                          <a:lnTo>
                            <a:pt x="44" y="172"/>
                          </a:lnTo>
                          <a:lnTo>
                            <a:pt x="44" y="174"/>
                          </a:lnTo>
                          <a:lnTo>
                            <a:pt x="44" y="179"/>
                          </a:lnTo>
                          <a:lnTo>
                            <a:pt x="44" y="184"/>
                          </a:lnTo>
                          <a:lnTo>
                            <a:pt x="44" y="191"/>
                          </a:lnTo>
                          <a:lnTo>
                            <a:pt x="43" y="194"/>
                          </a:lnTo>
                          <a:lnTo>
                            <a:pt x="43" y="196"/>
                          </a:lnTo>
                          <a:lnTo>
                            <a:pt x="43" y="200"/>
                          </a:lnTo>
                          <a:lnTo>
                            <a:pt x="43" y="203"/>
                          </a:lnTo>
                          <a:lnTo>
                            <a:pt x="43" y="206"/>
                          </a:lnTo>
                          <a:lnTo>
                            <a:pt x="41" y="210"/>
                          </a:lnTo>
                          <a:lnTo>
                            <a:pt x="41" y="213"/>
                          </a:lnTo>
                          <a:lnTo>
                            <a:pt x="41" y="216"/>
                          </a:lnTo>
                          <a:lnTo>
                            <a:pt x="40" y="218"/>
                          </a:lnTo>
                          <a:lnTo>
                            <a:pt x="40" y="222"/>
                          </a:lnTo>
                          <a:lnTo>
                            <a:pt x="40" y="225"/>
                          </a:lnTo>
                          <a:lnTo>
                            <a:pt x="40" y="229"/>
                          </a:lnTo>
                          <a:lnTo>
                            <a:pt x="43" y="231"/>
                          </a:lnTo>
                          <a:lnTo>
                            <a:pt x="47" y="232"/>
                          </a:lnTo>
                          <a:lnTo>
                            <a:pt x="50" y="233"/>
                          </a:lnTo>
                          <a:lnTo>
                            <a:pt x="55" y="235"/>
                          </a:lnTo>
                          <a:lnTo>
                            <a:pt x="58" y="179"/>
                          </a:lnTo>
                          <a:lnTo>
                            <a:pt x="58" y="173"/>
                          </a:lnTo>
                          <a:lnTo>
                            <a:pt x="60" y="168"/>
                          </a:lnTo>
                          <a:lnTo>
                            <a:pt x="60" y="163"/>
                          </a:lnTo>
                          <a:lnTo>
                            <a:pt x="61" y="158"/>
                          </a:lnTo>
                          <a:lnTo>
                            <a:pt x="63" y="152"/>
                          </a:lnTo>
                          <a:lnTo>
                            <a:pt x="63" y="148"/>
                          </a:lnTo>
                          <a:lnTo>
                            <a:pt x="64" y="143"/>
                          </a:lnTo>
                          <a:lnTo>
                            <a:pt x="66" y="137"/>
                          </a:lnTo>
                          <a:lnTo>
                            <a:pt x="66" y="132"/>
                          </a:lnTo>
                          <a:lnTo>
                            <a:pt x="67" y="126"/>
                          </a:lnTo>
                          <a:lnTo>
                            <a:pt x="67" y="122"/>
                          </a:lnTo>
                          <a:lnTo>
                            <a:pt x="69" y="117"/>
                          </a:lnTo>
                          <a:lnTo>
                            <a:pt x="70" y="111"/>
                          </a:lnTo>
                          <a:lnTo>
                            <a:pt x="70" y="107"/>
                          </a:lnTo>
                          <a:lnTo>
                            <a:pt x="72" y="102"/>
                          </a:lnTo>
                          <a:lnTo>
                            <a:pt x="73" y="96"/>
                          </a:lnTo>
                          <a:lnTo>
                            <a:pt x="73" y="102"/>
                          </a:lnTo>
                          <a:lnTo>
                            <a:pt x="73" y="107"/>
                          </a:lnTo>
                          <a:lnTo>
                            <a:pt x="75" y="113"/>
                          </a:lnTo>
                          <a:lnTo>
                            <a:pt x="75" y="118"/>
                          </a:lnTo>
                          <a:lnTo>
                            <a:pt x="75" y="124"/>
                          </a:lnTo>
                          <a:lnTo>
                            <a:pt x="76" y="129"/>
                          </a:lnTo>
                          <a:lnTo>
                            <a:pt x="76" y="135"/>
                          </a:lnTo>
                          <a:lnTo>
                            <a:pt x="78" y="140"/>
                          </a:lnTo>
                          <a:lnTo>
                            <a:pt x="82" y="141"/>
                          </a:lnTo>
                          <a:lnTo>
                            <a:pt x="84" y="139"/>
                          </a:lnTo>
                          <a:lnTo>
                            <a:pt x="86" y="135"/>
                          </a:lnTo>
                          <a:lnTo>
                            <a:pt x="86" y="130"/>
                          </a:lnTo>
                          <a:lnTo>
                            <a:pt x="87" y="128"/>
                          </a:lnTo>
                          <a:lnTo>
                            <a:pt x="87" y="124"/>
                          </a:lnTo>
                          <a:lnTo>
                            <a:pt x="87" y="119"/>
                          </a:lnTo>
                          <a:lnTo>
                            <a:pt x="87" y="117"/>
                          </a:lnTo>
                          <a:lnTo>
                            <a:pt x="87" y="113"/>
                          </a:lnTo>
                          <a:lnTo>
                            <a:pt x="90" y="111"/>
                          </a:lnTo>
                          <a:lnTo>
                            <a:pt x="95" y="111"/>
                          </a:lnTo>
                          <a:lnTo>
                            <a:pt x="98" y="110"/>
                          </a:lnTo>
                          <a:lnTo>
                            <a:pt x="102" y="110"/>
                          </a:lnTo>
                          <a:lnTo>
                            <a:pt x="107" y="108"/>
                          </a:lnTo>
                          <a:lnTo>
                            <a:pt x="110" y="108"/>
                          </a:lnTo>
                          <a:lnTo>
                            <a:pt x="115" y="107"/>
                          </a:lnTo>
                          <a:lnTo>
                            <a:pt x="119" y="107"/>
                          </a:lnTo>
                          <a:lnTo>
                            <a:pt x="124" y="106"/>
                          </a:lnTo>
                          <a:lnTo>
                            <a:pt x="128" y="104"/>
                          </a:lnTo>
                          <a:lnTo>
                            <a:pt x="133" y="103"/>
                          </a:lnTo>
                          <a:lnTo>
                            <a:pt x="138" y="103"/>
                          </a:lnTo>
                          <a:lnTo>
                            <a:pt x="142" y="102"/>
                          </a:lnTo>
                          <a:lnTo>
                            <a:pt x="147" y="102"/>
                          </a:lnTo>
                          <a:lnTo>
                            <a:pt x="153" y="100"/>
                          </a:lnTo>
                          <a:lnTo>
                            <a:pt x="157" y="99"/>
                          </a:lnTo>
                          <a:lnTo>
                            <a:pt x="164" y="98"/>
                          </a:lnTo>
                          <a:lnTo>
                            <a:pt x="168" y="98"/>
                          </a:lnTo>
                          <a:lnTo>
                            <a:pt x="173" y="96"/>
                          </a:lnTo>
                          <a:lnTo>
                            <a:pt x="179" y="96"/>
                          </a:lnTo>
                          <a:lnTo>
                            <a:pt x="183" y="93"/>
                          </a:lnTo>
                          <a:lnTo>
                            <a:pt x="190" y="93"/>
                          </a:lnTo>
                          <a:lnTo>
                            <a:pt x="194" y="92"/>
                          </a:lnTo>
                          <a:lnTo>
                            <a:pt x="200" y="92"/>
                          </a:lnTo>
                          <a:lnTo>
                            <a:pt x="205" y="91"/>
                          </a:lnTo>
                          <a:lnTo>
                            <a:pt x="211" y="89"/>
                          </a:lnTo>
                          <a:lnTo>
                            <a:pt x="217" y="89"/>
                          </a:lnTo>
                          <a:lnTo>
                            <a:pt x="222" y="88"/>
                          </a:lnTo>
                          <a:lnTo>
                            <a:pt x="228" y="87"/>
                          </a:lnTo>
                          <a:lnTo>
                            <a:pt x="234" y="87"/>
                          </a:lnTo>
                          <a:lnTo>
                            <a:pt x="238" y="85"/>
                          </a:lnTo>
                          <a:lnTo>
                            <a:pt x="245" y="85"/>
                          </a:lnTo>
                          <a:lnTo>
                            <a:pt x="249" y="84"/>
                          </a:lnTo>
                          <a:lnTo>
                            <a:pt x="255" y="84"/>
                          </a:lnTo>
                          <a:lnTo>
                            <a:pt x="260" y="82"/>
                          </a:lnTo>
                          <a:lnTo>
                            <a:pt x="266" y="81"/>
                          </a:lnTo>
                          <a:lnTo>
                            <a:pt x="271" y="80"/>
                          </a:lnTo>
                          <a:lnTo>
                            <a:pt x="277" y="80"/>
                          </a:lnTo>
                          <a:lnTo>
                            <a:pt x="281" y="78"/>
                          </a:lnTo>
                          <a:lnTo>
                            <a:pt x="287" y="78"/>
                          </a:lnTo>
                          <a:lnTo>
                            <a:pt x="292" y="77"/>
                          </a:lnTo>
                          <a:lnTo>
                            <a:pt x="297" y="77"/>
                          </a:lnTo>
                          <a:lnTo>
                            <a:pt x="303" y="77"/>
                          </a:lnTo>
                          <a:lnTo>
                            <a:pt x="307" y="77"/>
                          </a:lnTo>
                          <a:lnTo>
                            <a:pt x="312" y="76"/>
                          </a:lnTo>
                          <a:lnTo>
                            <a:pt x="316" y="76"/>
                          </a:lnTo>
                          <a:lnTo>
                            <a:pt x="323" y="76"/>
                          </a:lnTo>
                          <a:lnTo>
                            <a:pt x="327" y="76"/>
                          </a:lnTo>
                          <a:lnTo>
                            <a:pt x="332" y="74"/>
                          </a:lnTo>
                          <a:lnTo>
                            <a:pt x="336" y="74"/>
                          </a:lnTo>
                          <a:lnTo>
                            <a:pt x="341" y="74"/>
                          </a:lnTo>
                          <a:lnTo>
                            <a:pt x="346" y="74"/>
                          </a:lnTo>
                          <a:lnTo>
                            <a:pt x="349" y="74"/>
                          </a:lnTo>
                          <a:lnTo>
                            <a:pt x="353" y="74"/>
                          </a:lnTo>
                          <a:lnTo>
                            <a:pt x="358" y="74"/>
                          </a:lnTo>
                          <a:lnTo>
                            <a:pt x="362" y="76"/>
                          </a:lnTo>
                          <a:lnTo>
                            <a:pt x="365" y="76"/>
                          </a:lnTo>
                          <a:lnTo>
                            <a:pt x="369" y="76"/>
                          </a:lnTo>
                          <a:lnTo>
                            <a:pt x="373" y="77"/>
                          </a:lnTo>
                          <a:lnTo>
                            <a:pt x="376" y="77"/>
                          </a:lnTo>
                          <a:lnTo>
                            <a:pt x="382" y="78"/>
                          </a:lnTo>
                          <a:lnTo>
                            <a:pt x="388" y="81"/>
                          </a:lnTo>
                          <a:lnTo>
                            <a:pt x="385" y="82"/>
                          </a:lnTo>
                          <a:lnTo>
                            <a:pt x="381" y="84"/>
                          </a:lnTo>
                          <a:lnTo>
                            <a:pt x="378" y="84"/>
                          </a:lnTo>
                          <a:lnTo>
                            <a:pt x="375" y="85"/>
                          </a:lnTo>
                          <a:lnTo>
                            <a:pt x="370" y="87"/>
                          </a:lnTo>
                          <a:lnTo>
                            <a:pt x="367" y="87"/>
                          </a:lnTo>
                          <a:lnTo>
                            <a:pt x="364" y="87"/>
                          </a:lnTo>
                          <a:lnTo>
                            <a:pt x="361" y="88"/>
                          </a:lnTo>
                          <a:lnTo>
                            <a:pt x="356" y="88"/>
                          </a:lnTo>
                          <a:lnTo>
                            <a:pt x="353" y="89"/>
                          </a:lnTo>
                          <a:lnTo>
                            <a:pt x="349" y="89"/>
                          </a:lnTo>
                          <a:lnTo>
                            <a:pt x="346" y="89"/>
                          </a:lnTo>
                          <a:lnTo>
                            <a:pt x="341" y="89"/>
                          </a:lnTo>
                          <a:lnTo>
                            <a:pt x="338" y="91"/>
                          </a:lnTo>
                          <a:lnTo>
                            <a:pt x="333" y="91"/>
                          </a:lnTo>
                          <a:lnTo>
                            <a:pt x="330" y="91"/>
                          </a:lnTo>
                          <a:lnTo>
                            <a:pt x="327" y="91"/>
                          </a:lnTo>
                          <a:lnTo>
                            <a:pt x="324" y="91"/>
                          </a:lnTo>
                          <a:lnTo>
                            <a:pt x="320" y="91"/>
                          </a:lnTo>
                          <a:lnTo>
                            <a:pt x="316" y="91"/>
                          </a:lnTo>
                          <a:lnTo>
                            <a:pt x="312" y="91"/>
                          </a:lnTo>
                          <a:lnTo>
                            <a:pt x="309" y="91"/>
                          </a:lnTo>
                          <a:lnTo>
                            <a:pt x="304" y="91"/>
                          </a:lnTo>
                          <a:lnTo>
                            <a:pt x="301" y="92"/>
                          </a:lnTo>
                          <a:lnTo>
                            <a:pt x="297" y="92"/>
                          </a:lnTo>
                          <a:lnTo>
                            <a:pt x="294" y="92"/>
                          </a:lnTo>
                          <a:lnTo>
                            <a:pt x="290" y="92"/>
                          </a:lnTo>
                          <a:lnTo>
                            <a:pt x="286" y="92"/>
                          </a:lnTo>
                          <a:lnTo>
                            <a:pt x="283" y="92"/>
                          </a:lnTo>
                          <a:lnTo>
                            <a:pt x="280" y="92"/>
                          </a:lnTo>
                          <a:lnTo>
                            <a:pt x="275" y="93"/>
                          </a:lnTo>
                          <a:lnTo>
                            <a:pt x="272" y="95"/>
                          </a:lnTo>
                          <a:lnTo>
                            <a:pt x="141" y="113"/>
                          </a:lnTo>
                          <a:lnTo>
                            <a:pt x="194" y="119"/>
                          </a:lnTo>
                          <a:lnTo>
                            <a:pt x="196" y="119"/>
                          </a:lnTo>
                          <a:lnTo>
                            <a:pt x="200" y="118"/>
                          </a:lnTo>
                          <a:lnTo>
                            <a:pt x="203" y="118"/>
                          </a:lnTo>
                          <a:lnTo>
                            <a:pt x="208" y="117"/>
                          </a:lnTo>
                          <a:lnTo>
                            <a:pt x="212" y="117"/>
                          </a:lnTo>
                          <a:lnTo>
                            <a:pt x="219" y="117"/>
                          </a:lnTo>
                          <a:lnTo>
                            <a:pt x="225" y="115"/>
                          </a:lnTo>
                          <a:lnTo>
                            <a:pt x="231" y="114"/>
                          </a:lnTo>
                          <a:lnTo>
                            <a:pt x="234" y="114"/>
                          </a:lnTo>
                          <a:lnTo>
                            <a:pt x="237" y="114"/>
                          </a:lnTo>
                          <a:lnTo>
                            <a:pt x="242" y="113"/>
                          </a:lnTo>
                          <a:lnTo>
                            <a:pt x="246" y="113"/>
                          </a:lnTo>
                          <a:lnTo>
                            <a:pt x="249" y="113"/>
                          </a:lnTo>
                          <a:lnTo>
                            <a:pt x="252" y="111"/>
                          </a:lnTo>
                          <a:lnTo>
                            <a:pt x="257" y="111"/>
                          </a:lnTo>
                          <a:lnTo>
                            <a:pt x="263" y="111"/>
                          </a:lnTo>
                          <a:lnTo>
                            <a:pt x="266" y="111"/>
                          </a:lnTo>
                          <a:lnTo>
                            <a:pt x="271" y="110"/>
                          </a:lnTo>
                          <a:lnTo>
                            <a:pt x="275" y="110"/>
                          </a:lnTo>
                          <a:lnTo>
                            <a:pt x="281" y="110"/>
                          </a:lnTo>
                          <a:lnTo>
                            <a:pt x="286" y="108"/>
                          </a:lnTo>
                          <a:lnTo>
                            <a:pt x="290" y="108"/>
                          </a:lnTo>
                          <a:lnTo>
                            <a:pt x="297" y="107"/>
                          </a:lnTo>
                          <a:lnTo>
                            <a:pt x="301" y="107"/>
                          </a:lnTo>
                          <a:lnTo>
                            <a:pt x="307" y="106"/>
                          </a:lnTo>
                          <a:lnTo>
                            <a:pt x="312" y="104"/>
                          </a:lnTo>
                          <a:lnTo>
                            <a:pt x="318" y="104"/>
                          </a:lnTo>
                          <a:lnTo>
                            <a:pt x="324" y="104"/>
                          </a:lnTo>
                          <a:lnTo>
                            <a:pt x="330" y="103"/>
                          </a:lnTo>
                          <a:lnTo>
                            <a:pt x="335" y="102"/>
                          </a:lnTo>
                          <a:lnTo>
                            <a:pt x="341" y="102"/>
                          </a:lnTo>
                          <a:lnTo>
                            <a:pt x="349" y="102"/>
                          </a:lnTo>
                          <a:lnTo>
                            <a:pt x="355" y="100"/>
                          </a:lnTo>
                          <a:lnTo>
                            <a:pt x="361" y="100"/>
                          </a:lnTo>
                          <a:lnTo>
                            <a:pt x="367" y="99"/>
                          </a:lnTo>
                          <a:lnTo>
                            <a:pt x="375" y="99"/>
                          </a:lnTo>
                          <a:lnTo>
                            <a:pt x="381" y="98"/>
                          </a:lnTo>
                          <a:lnTo>
                            <a:pt x="387" y="98"/>
                          </a:lnTo>
                          <a:lnTo>
                            <a:pt x="393" y="96"/>
                          </a:lnTo>
                          <a:lnTo>
                            <a:pt x="401" y="96"/>
                          </a:lnTo>
                          <a:lnTo>
                            <a:pt x="408" y="95"/>
                          </a:lnTo>
                          <a:lnTo>
                            <a:pt x="414" y="95"/>
                          </a:lnTo>
                          <a:lnTo>
                            <a:pt x="422" y="93"/>
                          </a:lnTo>
                          <a:lnTo>
                            <a:pt x="430" y="93"/>
                          </a:lnTo>
                          <a:lnTo>
                            <a:pt x="437" y="92"/>
                          </a:lnTo>
                          <a:lnTo>
                            <a:pt x="445" y="92"/>
                          </a:lnTo>
                          <a:lnTo>
                            <a:pt x="453" y="91"/>
                          </a:lnTo>
                          <a:lnTo>
                            <a:pt x="460" y="91"/>
                          </a:lnTo>
                          <a:lnTo>
                            <a:pt x="468" y="89"/>
                          </a:lnTo>
                          <a:lnTo>
                            <a:pt x="476" y="89"/>
                          </a:lnTo>
                          <a:lnTo>
                            <a:pt x="483" y="88"/>
                          </a:lnTo>
                          <a:lnTo>
                            <a:pt x="492" y="88"/>
                          </a:lnTo>
                          <a:lnTo>
                            <a:pt x="1211" y="84"/>
                          </a:lnTo>
                          <a:lnTo>
                            <a:pt x="1083" y="92"/>
                          </a:lnTo>
                          <a:lnTo>
                            <a:pt x="1080" y="91"/>
                          </a:lnTo>
                          <a:lnTo>
                            <a:pt x="1077" y="91"/>
                          </a:lnTo>
                          <a:lnTo>
                            <a:pt x="1072" y="89"/>
                          </a:lnTo>
                          <a:lnTo>
                            <a:pt x="1068" y="89"/>
                          </a:lnTo>
                          <a:lnTo>
                            <a:pt x="1061" y="89"/>
                          </a:lnTo>
                          <a:lnTo>
                            <a:pt x="1058" y="89"/>
                          </a:lnTo>
                          <a:lnTo>
                            <a:pt x="1054" y="89"/>
                          </a:lnTo>
                          <a:lnTo>
                            <a:pt x="1051" y="89"/>
                          </a:lnTo>
                          <a:lnTo>
                            <a:pt x="1054" y="89"/>
                          </a:lnTo>
                          <a:lnTo>
                            <a:pt x="1058" y="91"/>
                          </a:lnTo>
                          <a:lnTo>
                            <a:pt x="1061" y="91"/>
                          </a:lnTo>
                          <a:lnTo>
                            <a:pt x="1066" y="92"/>
                          </a:lnTo>
                          <a:lnTo>
                            <a:pt x="1071" y="92"/>
                          </a:lnTo>
                          <a:lnTo>
                            <a:pt x="1075" y="92"/>
                          </a:lnTo>
                          <a:lnTo>
                            <a:pt x="1080" y="93"/>
                          </a:lnTo>
                          <a:lnTo>
                            <a:pt x="1084" y="93"/>
                          </a:lnTo>
                          <a:lnTo>
                            <a:pt x="1087" y="93"/>
                          </a:lnTo>
                          <a:lnTo>
                            <a:pt x="1092" y="93"/>
                          </a:lnTo>
                          <a:lnTo>
                            <a:pt x="1097" y="95"/>
                          </a:lnTo>
                          <a:lnTo>
                            <a:pt x="1101" y="95"/>
                          </a:lnTo>
                          <a:lnTo>
                            <a:pt x="1106" y="95"/>
                          </a:lnTo>
                          <a:lnTo>
                            <a:pt x="1110" y="95"/>
                          </a:lnTo>
                          <a:lnTo>
                            <a:pt x="1115" y="96"/>
                          </a:lnTo>
                          <a:lnTo>
                            <a:pt x="1120" y="96"/>
                          </a:lnTo>
                          <a:lnTo>
                            <a:pt x="1124" y="96"/>
                          </a:lnTo>
                          <a:lnTo>
                            <a:pt x="1130" y="96"/>
                          </a:lnTo>
                          <a:lnTo>
                            <a:pt x="1133" y="96"/>
                          </a:lnTo>
                          <a:lnTo>
                            <a:pt x="1139" y="96"/>
                          </a:lnTo>
                          <a:lnTo>
                            <a:pt x="1144" y="96"/>
                          </a:lnTo>
                          <a:lnTo>
                            <a:pt x="1149" y="96"/>
                          </a:lnTo>
                          <a:lnTo>
                            <a:pt x="1153" y="96"/>
                          </a:lnTo>
                          <a:lnTo>
                            <a:pt x="1158" y="96"/>
                          </a:lnTo>
                          <a:lnTo>
                            <a:pt x="1162" y="96"/>
                          </a:lnTo>
                          <a:lnTo>
                            <a:pt x="1167" y="96"/>
                          </a:lnTo>
                          <a:lnTo>
                            <a:pt x="1172" y="96"/>
                          </a:lnTo>
                          <a:lnTo>
                            <a:pt x="1178" y="96"/>
                          </a:lnTo>
                          <a:lnTo>
                            <a:pt x="1182" y="96"/>
                          </a:lnTo>
                          <a:lnTo>
                            <a:pt x="1187" y="96"/>
                          </a:lnTo>
                          <a:lnTo>
                            <a:pt x="1191" y="96"/>
                          </a:lnTo>
                          <a:lnTo>
                            <a:pt x="1196" y="96"/>
                          </a:lnTo>
                          <a:lnTo>
                            <a:pt x="1201" y="96"/>
                          </a:lnTo>
                          <a:lnTo>
                            <a:pt x="1207" y="96"/>
                          </a:lnTo>
                          <a:lnTo>
                            <a:pt x="1210" y="96"/>
                          </a:lnTo>
                          <a:lnTo>
                            <a:pt x="1216" y="96"/>
                          </a:lnTo>
                          <a:lnTo>
                            <a:pt x="1219" y="95"/>
                          </a:lnTo>
                          <a:lnTo>
                            <a:pt x="1225" y="95"/>
                          </a:lnTo>
                          <a:lnTo>
                            <a:pt x="1230" y="95"/>
                          </a:lnTo>
                          <a:lnTo>
                            <a:pt x="1234" y="95"/>
                          </a:lnTo>
                          <a:lnTo>
                            <a:pt x="1239" y="95"/>
                          </a:lnTo>
                          <a:lnTo>
                            <a:pt x="1243" y="95"/>
                          </a:lnTo>
                          <a:lnTo>
                            <a:pt x="1248" y="93"/>
                          </a:lnTo>
                          <a:lnTo>
                            <a:pt x="1254" y="93"/>
                          </a:lnTo>
                          <a:lnTo>
                            <a:pt x="1257" y="93"/>
                          </a:lnTo>
                          <a:lnTo>
                            <a:pt x="1263" y="93"/>
                          </a:lnTo>
                          <a:lnTo>
                            <a:pt x="1268" y="93"/>
                          </a:lnTo>
                          <a:lnTo>
                            <a:pt x="1273" y="93"/>
                          </a:lnTo>
                          <a:lnTo>
                            <a:pt x="1277" y="92"/>
                          </a:lnTo>
                          <a:lnTo>
                            <a:pt x="1282" y="92"/>
                          </a:lnTo>
                          <a:lnTo>
                            <a:pt x="1286" y="92"/>
                          </a:lnTo>
                          <a:lnTo>
                            <a:pt x="1291" y="92"/>
                          </a:lnTo>
                          <a:lnTo>
                            <a:pt x="1295" y="92"/>
                          </a:lnTo>
                          <a:lnTo>
                            <a:pt x="1300" y="92"/>
                          </a:lnTo>
                          <a:lnTo>
                            <a:pt x="1305" y="92"/>
                          </a:lnTo>
                          <a:lnTo>
                            <a:pt x="1309" y="92"/>
                          </a:lnTo>
                          <a:lnTo>
                            <a:pt x="1314" y="91"/>
                          </a:lnTo>
                          <a:lnTo>
                            <a:pt x="1318" y="91"/>
                          </a:lnTo>
                          <a:lnTo>
                            <a:pt x="1323" y="91"/>
                          </a:lnTo>
                          <a:lnTo>
                            <a:pt x="1328" y="91"/>
                          </a:lnTo>
                          <a:lnTo>
                            <a:pt x="1332" y="89"/>
                          </a:lnTo>
                          <a:lnTo>
                            <a:pt x="1337" y="89"/>
                          </a:lnTo>
                          <a:lnTo>
                            <a:pt x="1340" y="89"/>
                          </a:lnTo>
                          <a:lnTo>
                            <a:pt x="1346" y="89"/>
                          </a:lnTo>
                          <a:lnTo>
                            <a:pt x="1346" y="93"/>
                          </a:lnTo>
                          <a:lnTo>
                            <a:pt x="1346" y="98"/>
                          </a:lnTo>
                          <a:lnTo>
                            <a:pt x="1346" y="102"/>
                          </a:lnTo>
                          <a:lnTo>
                            <a:pt x="1347" y="106"/>
                          </a:lnTo>
                          <a:lnTo>
                            <a:pt x="1347" y="110"/>
                          </a:lnTo>
                          <a:lnTo>
                            <a:pt x="1349" y="115"/>
                          </a:lnTo>
                          <a:lnTo>
                            <a:pt x="1349" y="121"/>
                          </a:lnTo>
                          <a:lnTo>
                            <a:pt x="1351" y="125"/>
                          </a:lnTo>
                          <a:lnTo>
                            <a:pt x="1351" y="129"/>
                          </a:lnTo>
                          <a:lnTo>
                            <a:pt x="1352" y="135"/>
                          </a:lnTo>
                          <a:lnTo>
                            <a:pt x="1352" y="139"/>
                          </a:lnTo>
                          <a:lnTo>
                            <a:pt x="1354" y="144"/>
                          </a:lnTo>
                          <a:lnTo>
                            <a:pt x="1355" y="148"/>
                          </a:lnTo>
                          <a:lnTo>
                            <a:pt x="1357" y="151"/>
                          </a:lnTo>
                          <a:lnTo>
                            <a:pt x="1360" y="154"/>
                          </a:lnTo>
                          <a:lnTo>
                            <a:pt x="1361" y="158"/>
                          </a:lnTo>
                          <a:lnTo>
                            <a:pt x="1366" y="154"/>
                          </a:lnTo>
                          <a:lnTo>
                            <a:pt x="1364" y="148"/>
                          </a:lnTo>
                          <a:lnTo>
                            <a:pt x="1364" y="143"/>
                          </a:lnTo>
                          <a:lnTo>
                            <a:pt x="1363" y="139"/>
                          </a:lnTo>
                          <a:lnTo>
                            <a:pt x="1363" y="133"/>
                          </a:lnTo>
                          <a:lnTo>
                            <a:pt x="1361" y="129"/>
                          </a:lnTo>
                          <a:lnTo>
                            <a:pt x="1361" y="125"/>
                          </a:lnTo>
                          <a:lnTo>
                            <a:pt x="1360" y="121"/>
                          </a:lnTo>
                          <a:lnTo>
                            <a:pt x="1360" y="117"/>
                          </a:lnTo>
                          <a:lnTo>
                            <a:pt x="1360" y="111"/>
                          </a:lnTo>
                          <a:lnTo>
                            <a:pt x="1358" y="107"/>
                          </a:lnTo>
                          <a:lnTo>
                            <a:pt x="1358" y="102"/>
                          </a:lnTo>
                          <a:lnTo>
                            <a:pt x="1358" y="99"/>
                          </a:lnTo>
                          <a:lnTo>
                            <a:pt x="1357" y="93"/>
                          </a:lnTo>
                          <a:lnTo>
                            <a:pt x="1357" y="89"/>
                          </a:lnTo>
                          <a:lnTo>
                            <a:pt x="1357" y="85"/>
                          </a:lnTo>
                          <a:lnTo>
                            <a:pt x="1357" y="81"/>
                          </a:lnTo>
                          <a:lnTo>
                            <a:pt x="1354" y="80"/>
                          </a:lnTo>
                          <a:lnTo>
                            <a:pt x="1351" y="80"/>
                          </a:lnTo>
                          <a:lnTo>
                            <a:pt x="1346" y="80"/>
                          </a:lnTo>
                          <a:lnTo>
                            <a:pt x="1343" y="81"/>
                          </a:lnTo>
                          <a:lnTo>
                            <a:pt x="1340" y="81"/>
                          </a:lnTo>
                          <a:lnTo>
                            <a:pt x="1337" y="82"/>
                          </a:lnTo>
                          <a:lnTo>
                            <a:pt x="1332" y="82"/>
                          </a:lnTo>
                          <a:lnTo>
                            <a:pt x="1329" y="84"/>
                          </a:lnTo>
                          <a:lnTo>
                            <a:pt x="1325" y="84"/>
                          </a:lnTo>
                          <a:lnTo>
                            <a:pt x="1321" y="84"/>
                          </a:lnTo>
                          <a:lnTo>
                            <a:pt x="1326" y="81"/>
                          </a:lnTo>
                          <a:lnTo>
                            <a:pt x="1328" y="80"/>
                          </a:lnTo>
                          <a:lnTo>
                            <a:pt x="1331" y="78"/>
                          </a:lnTo>
                          <a:lnTo>
                            <a:pt x="1334" y="77"/>
                          </a:lnTo>
                          <a:lnTo>
                            <a:pt x="1338" y="77"/>
                          </a:lnTo>
                          <a:lnTo>
                            <a:pt x="1341" y="76"/>
                          </a:lnTo>
                          <a:lnTo>
                            <a:pt x="1347" y="76"/>
                          </a:lnTo>
                          <a:lnTo>
                            <a:pt x="1351" y="74"/>
                          </a:lnTo>
                          <a:lnTo>
                            <a:pt x="1354" y="74"/>
                          </a:lnTo>
                          <a:lnTo>
                            <a:pt x="1357" y="74"/>
                          </a:lnTo>
                          <a:lnTo>
                            <a:pt x="1361" y="74"/>
                          </a:lnTo>
                          <a:lnTo>
                            <a:pt x="1363" y="77"/>
                          </a:lnTo>
                          <a:lnTo>
                            <a:pt x="1364" y="82"/>
                          </a:lnTo>
                          <a:lnTo>
                            <a:pt x="1367" y="87"/>
                          </a:lnTo>
                          <a:lnTo>
                            <a:pt x="1369" y="89"/>
                          </a:lnTo>
                          <a:lnTo>
                            <a:pt x="1369" y="87"/>
                          </a:lnTo>
                          <a:lnTo>
                            <a:pt x="1370" y="84"/>
                          </a:lnTo>
                          <a:lnTo>
                            <a:pt x="1370" y="80"/>
                          </a:lnTo>
                          <a:lnTo>
                            <a:pt x="1370" y="77"/>
                          </a:lnTo>
                          <a:lnTo>
                            <a:pt x="1370" y="74"/>
                          </a:lnTo>
                          <a:lnTo>
                            <a:pt x="1370" y="71"/>
                          </a:lnTo>
                          <a:lnTo>
                            <a:pt x="1370" y="67"/>
                          </a:lnTo>
                          <a:lnTo>
                            <a:pt x="1369" y="65"/>
                          </a:lnTo>
                          <a:lnTo>
                            <a:pt x="1364" y="65"/>
                          </a:lnTo>
                          <a:lnTo>
                            <a:pt x="1360" y="65"/>
                          </a:lnTo>
                          <a:lnTo>
                            <a:pt x="1357" y="65"/>
                          </a:lnTo>
                          <a:lnTo>
                            <a:pt x="1352" y="66"/>
                          </a:lnTo>
                          <a:lnTo>
                            <a:pt x="1347" y="66"/>
                          </a:lnTo>
                          <a:lnTo>
                            <a:pt x="1344" y="67"/>
                          </a:lnTo>
                          <a:lnTo>
                            <a:pt x="1340" y="67"/>
                          </a:lnTo>
                          <a:lnTo>
                            <a:pt x="1337" y="69"/>
                          </a:lnTo>
                          <a:lnTo>
                            <a:pt x="1332" y="69"/>
                          </a:lnTo>
                          <a:lnTo>
                            <a:pt x="1329" y="70"/>
                          </a:lnTo>
                          <a:lnTo>
                            <a:pt x="1325" y="70"/>
                          </a:lnTo>
                          <a:lnTo>
                            <a:pt x="1320" y="71"/>
                          </a:lnTo>
                          <a:lnTo>
                            <a:pt x="1317" y="71"/>
                          </a:lnTo>
                          <a:lnTo>
                            <a:pt x="1312" y="71"/>
                          </a:lnTo>
                          <a:lnTo>
                            <a:pt x="1309" y="71"/>
                          </a:lnTo>
                          <a:lnTo>
                            <a:pt x="1306" y="71"/>
                          </a:lnTo>
                          <a:lnTo>
                            <a:pt x="1302" y="71"/>
                          </a:lnTo>
                          <a:lnTo>
                            <a:pt x="1299" y="71"/>
                          </a:lnTo>
                          <a:lnTo>
                            <a:pt x="1295" y="70"/>
                          </a:lnTo>
                          <a:lnTo>
                            <a:pt x="1292" y="70"/>
                          </a:lnTo>
                          <a:lnTo>
                            <a:pt x="1285" y="69"/>
                          </a:lnTo>
                          <a:lnTo>
                            <a:pt x="1280" y="70"/>
                          </a:lnTo>
                          <a:lnTo>
                            <a:pt x="1285" y="67"/>
                          </a:lnTo>
                          <a:lnTo>
                            <a:pt x="1291" y="65"/>
                          </a:lnTo>
                          <a:lnTo>
                            <a:pt x="1297" y="63"/>
                          </a:lnTo>
                          <a:lnTo>
                            <a:pt x="1302" y="62"/>
                          </a:lnTo>
                          <a:lnTo>
                            <a:pt x="1308" y="62"/>
                          </a:lnTo>
                          <a:lnTo>
                            <a:pt x="1314" y="60"/>
                          </a:lnTo>
                          <a:lnTo>
                            <a:pt x="1320" y="60"/>
                          </a:lnTo>
                          <a:lnTo>
                            <a:pt x="1326" y="60"/>
                          </a:lnTo>
                          <a:lnTo>
                            <a:pt x="1332" y="60"/>
                          </a:lnTo>
                          <a:lnTo>
                            <a:pt x="1337" y="60"/>
                          </a:lnTo>
                          <a:lnTo>
                            <a:pt x="1343" y="60"/>
                          </a:lnTo>
                          <a:lnTo>
                            <a:pt x="1351" y="60"/>
                          </a:lnTo>
                          <a:lnTo>
                            <a:pt x="1355" y="59"/>
                          </a:lnTo>
                          <a:lnTo>
                            <a:pt x="1363" y="59"/>
                          </a:lnTo>
                          <a:lnTo>
                            <a:pt x="1366" y="59"/>
                          </a:lnTo>
                          <a:lnTo>
                            <a:pt x="1369" y="59"/>
                          </a:lnTo>
                          <a:lnTo>
                            <a:pt x="1372" y="59"/>
                          </a:lnTo>
                          <a:lnTo>
                            <a:pt x="1377" y="59"/>
                          </a:lnTo>
                          <a:lnTo>
                            <a:pt x="1377" y="62"/>
                          </a:lnTo>
                          <a:lnTo>
                            <a:pt x="1377" y="66"/>
                          </a:lnTo>
                          <a:lnTo>
                            <a:pt x="1378" y="70"/>
                          </a:lnTo>
                          <a:lnTo>
                            <a:pt x="1380" y="74"/>
                          </a:lnTo>
                          <a:lnTo>
                            <a:pt x="1380" y="78"/>
                          </a:lnTo>
                          <a:lnTo>
                            <a:pt x="1381" y="84"/>
                          </a:lnTo>
                          <a:lnTo>
                            <a:pt x="1381" y="87"/>
                          </a:lnTo>
                          <a:lnTo>
                            <a:pt x="1383" y="92"/>
                          </a:lnTo>
                          <a:lnTo>
                            <a:pt x="1384" y="96"/>
                          </a:lnTo>
                          <a:lnTo>
                            <a:pt x="1384" y="99"/>
                          </a:lnTo>
                          <a:lnTo>
                            <a:pt x="1384" y="103"/>
                          </a:lnTo>
                          <a:lnTo>
                            <a:pt x="1386" y="108"/>
                          </a:lnTo>
                          <a:lnTo>
                            <a:pt x="1387" y="111"/>
                          </a:lnTo>
                          <a:lnTo>
                            <a:pt x="1387" y="117"/>
                          </a:lnTo>
                          <a:lnTo>
                            <a:pt x="1389" y="121"/>
                          </a:lnTo>
                          <a:lnTo>
                            <a:pt x="1390" y="125"/>
                          </a:lnTo>
                          <a:lnTo>
                            <a:pt x="1390" y="129"/>
                          </a:lnTo>
                          <a:lnTo>
                            <a:pt x="1392" y="133"/>
                          </a:lnTo>
                          <a:lnTo>
                            <a:pt x="1392" y="136"/>
                          </a:lnTo>
                          <a:lnTo>
                            <a:pt x="1393" y="141"/>
                          </a:lnTo>
                          <a:lnTo>
                            <a:pt x="1395" y="146"/>
                          </a:lnTo>
                          <a:lnTo>
                            <a:pt x="1395" y="150"/>
                          </a:lnTo>
                          <a:lnTo>
                            <a:pt x="1396" y="154"/>
                          </a:lnTo>
                          <a:lnTo>
                            <a:pt x="1398" y="158"/>
                          </a:lnTo>
                          <a:lnTo>
                            <a:pt x="1398" y="162"/>
                          </a:lnTo>
                          <a:lnTo>
                            <a:pt x="1399" y="166"/>
                          </a:lnTo>
                          <a:lnTo>
                            <a:pt x="1399" y="170"/>
                          </a:lnTo>
                          <a:lnTo>
                            <a:pt x="1401" y="174"/>
                          </a:lnTo>
                          <a:lnTo>
                            <a:pt x="1401" y="179"/>
                          </a:lnTo>
                          <a:lnTo>
                            <a:pt x="1404" y="183"/>
                          </a:lnTo>
                          <a:lnTo>
                            <a:pt x="1404" y="187"/>
                          </a:lnTo>
                          <a:lnTo>
                            <a:pt x="1406" y="192"/>
                          </a:lnTo>
                          <a:lnTo>
                            <a:pt x="1419" y="192"/>
                          </a:lnTo>
                          <a:lnTo>
                            <a:pt x="1418" y="188"/>
                          </a:lnTo>
                          <a:lnTo>
                            <a:pt x="1418" y="184"/>
                          </a:lnTo>
                          <a:lnTo>
                            <a:pt x="1418" y="180"/>
                          </a:lnTo>
                          <a:lnTo>
                            <a:pt x="1418" y="174"/>
                          </a:lnTo>
                          <a:lnTo>
                            <a:pt x="1418" y="170"/>
                          </a:lnTo>
                          <a:lnTo>
                            <a:pt x="1418" y="165"/>
                          </a:lnTo>
                          <a:lnTo>
                            <a:pt x="1418" y="159"/>
                          </a:lnTo>
                          <a:lnTo>
                            <a:pt x="1418" y="155"/>
                          </a:lnTo>
                          <a:lnTo>
                            <a:pt x="1416" y="150"/>
                          </a:lnTo>
                          <a:lnTo>
                            <a:pt x="1416" y="144"/>
                          </a:lnTo>
                          <a:lnTo>
                            <a:pt x="1415" y="139"/>
                          </a:lnTo>
                          <a:lnTo>
                            <a:pt x="1415" y="133"/>
                          </a:lnTo>
                          <a:lnTo>
                            <a:pt x="1415" y="126"/>
                          </a:lnTo>
                          <a:lnTo>
                            <a:pt x="1415" y="121"/>
                          </a:lnTo>
                          <a:lnTo>
                            <a:pt x="1415" y="115"/>
                          </a:lnTo>
                          <a:lnTo>
                            <a:pt x="1415" y="110"/>
                          </a:lnTo>
                          <a:lnTo>
                            <a:pt x="1413" y="104"/>
                          </a:lnTo>
                          <a:lnTo>
                            <a:pt x="1413" y="99"/>
                          </a:lnTo>
                          <a:lnTo>
                            <a:pt x="1412" y="92"/>
                          </a:lnTo>
                          <a:lnTo>
                            <a:pt x="1412" y="87"/>
                          </a:lnTo>
                          <a:lnTo>
                            <a:pt x="1410" y="81"/>
                          </a:lnTo>
                          <a:lnTo>
                            <a:pt x="1410" y="76"/>
                          </a:lnTo>
                          <a:lnTo>
                            <a:pt x="1409" y="71"/>
                          </a:lnTo>
                          <a:lnTo>
                            <a:pt x="1409" y="66"/>
                          </a:lnTo>
                          <a:lnTo>
                            <a:pt x="1407" y="60"/>
                          </a:lnTo>
                          <a:lnTo>
                            <a:pt x="1406" y="55"/>
                          </a:lnTo>
                          <a:lnTo>
                            <a:pt x="1404" y="51"/>
                          </a:lnTo>
                          <a:lnTo>
                            <a:pt x="1404" y="47"/>
                          </a:lnTo>
                          <a:lnTo>
                            <a:pt x="1403" y="43"/>
                          </a:lnTo>
                          <a:lnTo>
                            <a:pt x="1401" y="40"/>
                          </a:lnTo>
                          <a:lnTo>
                            <a:pt x="1399" y="36"/>
                          </a:lnTo>
                          <a:lnTo>
                            <a:pt x="1398" y="33"/>
                          </a:lnTo>
                          <a:lnTo>
                            <a:pt x="1395" y="33"/>
                          </a:lnTo>
                          <a:lnTo>
                            <a:pt x="1390" y="32"/>
                          </a:lnTo>
                          <a:lnTo>
                            <a:pt x="1384" y="32"/>
                          </a:lnTo>
                          <a:lnTo>
                            <a:pt x="1381" y="32"/>
                          </a:lnTo>
                          <a:lnTo>
                            <a:pt x="1378" y="32"/>
                          </a:lnTo>
                          <a:lnTo>
                            <a:pt x="1375" y="32"/>
                          </a:lnTo>
                          <a:lnTo>
                            <a:pt x="1372" y="32"/>
                          </a:lnTo>
                          <a:lnTo>
                            <a:pt x="1367" y="30"/>
                          </a:lnTo>
                          <a:lnTo>
                            <a:pt x="1364" y="30"/>
                          </a:lnTo>
                          <a:lnTo>
                            <a:pt x="1360" y="30"/>
                          </a:lnTo>
                          <a:lnTo>
                            <a:pt x="1357" y="30"/>
                          </a:lnTo>
                          <a:lnTo>
                            <a:pt x="1352" y="30"/>
                          </a:lnTo>
                          <a:lnTo>
                            <a:pt x="1349" y="30"/>
                          </a:lnTo>
                          <a:lnTo>
                            <a:pt x="1344" y="30"/>
                          </a:lnTo>
                          <a:lnTo>
                            <a:pt x="1341" y="30"/>
                          </a:lnTo>
                          <a:lnTo>
                            <a:pt x="1337" y="29"/>
                          </a:lnTo>
                          <a:lnTo>
                            <a:pt x="1334" y="29"/>
                          </a:lnTo>
                          <a:lnTo>
                            <a:pt x="1331" y="29"/>
                          </a:lnTo>
                          <a:lnTo>
                            <a:pt x="1328" y="29"/>
                          </a:lnTo>
                          <a:lnTo>
                            <a:pt x="1323" y="29"/>
                          </a:lnTo>
                          <a:lnTo>
                            <a:pt x="1318" y="29"/>
                          </a:lnTo>
                          <a:lnTo>
                            <a:pt x="1315" y="29"/>
                          </a:lnTo>
                          <a:lnTo>
                            <a:pt x="1321" y="28"/>
                          </a:lnTo>
                          <a:lnTo>
                            <a:pt x="1326" y="26"/>
                          </a:lnTo>
                          <a:lnTo>
                            <a:pt x="1332" y="25"/>
                          </a:lnTo>
                          <a:lnTo>
                            <a:pt x="1338" y="25"/>
                          </a:lnTo>
                          <a:lnTo>
                            <a:pt x="1343" y="23"/>
                          </a:lnTo>
                          <a:lnTo>
                            <a:pt x="1351" y="23"/>
                          </a:lnTo>
                          <a:lnTo>
                            <a:pt x="1355" y="23"/>
                          </a:lnTo>
                          <a:lnTo>
                            <a:pt x="1361" y="23"/>
                          </a:lnTo>
                          <a:lnTo>
                            <a:pt x="1367" y="23"/>
                          </a:lnTo>
                          <a:lnTo>
                            <a:pt x="1373" y="23"/>
                          </a:lnTo>
                          <a:lnTo>
                            <a:pt x="1378" y="23"/>
                          </a:lnTo>
                          <a:lnTo>
                            <a:pt x="1384" y="23"/>
                          </a:lnTo>
                          <a:lnTo>
                            <a:pt x="1390" y="23"/>
                          </a:lnTo>
                          <a:lnTo>
                            <a:pt x="1396" y="23"/>
                          </a:lnTo>
                          <a:lnTo>
                            <a:pt x="1403" y="23"/>
                          </a:lnTo>
                          <a:lnTo>
                            <a:pt x="1409" y="23"/>
                          </a:lnTo>
                          <a:lnTo>
                            <a:pt x="1409" y="29"/>
                          </a:lnTo>
                          <a:lnTo>
                            <a:pt x="1409" y="33"/>
                          </a:lnTo>
                          <a:lnTo>
                            <a:pt x="1410" y="38"/>
                          </a:lnTo>
                          <a:lnTo>
                            <a:pt x="1412" y="44"/>
                          </a:lnTo>
                          <a:lnTo>
                            <a:pt x="1412" y="49"/>
                          </a:lnTo>
                          <a:lnTo>
                            <a:pt x="1412" y="54"/>
                          </a:lnTo>
                          <a:lnTo>
                            <a:pt x="1412" y="59"/>
                          </a:lnTo>
                          <a:lnTo>
                            <a:pt x="1413" y="65"/>
                          </a:lnTo>
                          <a:lnTo>
                            <a:pt x="1413" y="70"/>
                          </a:lnTo>
                          <a:lnTo>
                            <a:pt x="1415" y="74"/>
                          </a:lnTo>
                          <a:lnTo>
                            <a:pt x="1415" y="80"/>
                          </a:lnTo>
                          <a:lnTo>
                            <a:pt x="1415" y="85"/>
                          </a:lnTo>
                          <a:lnTo>
                            <a:pt x="1416" y="91"/>
                          </a:lnTo>
                          <a:lnTo>
                            <a:pt x="1418" y="96"/>
                          </a:lnTo>
                          <a:lnTo>
                            <a:pt x="1418" y="102"/>
                          </a:lnTo>
                          <a:lnTo>
                            <a:pt x="1419" y="107"/>
                          </a:lnTo>
                          <a:lnTo>
                            <a:pt x="1419" y="111"/>
                          </a:lnTo>
                          <a:lnTo>
                            <a:pt x="1421" y="117"/>
                          </a:lnTo>
                          <a:lnTo>
                            <a:pt x="1422" y="122"/>
                          </a:lnTo>
                          <a:lnTo>
                            <a:pt x="1422" y="126"/>
                          </a:lnTo>
                          <a:lnTo>
                            <a:pt x="1424" y="132"/>
                          </a:lnTo>
                          <a:lnTo>
                            <a:pt x="1425" y="137"/>
                          </a:lnTo>
                          <a:lnTo>
                            <a:pt x="1425" y="141"/>
                          </a:lnTo>
                          <a:lnTo>
                            <a:pt x="1429" y="148"/>
                          </a:lnTo>
                          <a:lnTo>
                            <a:pt x="1429" y="152"/>
                          </a:lnTo>
                          <a:lnTo>
                            <a:pt x="1430" y="158"/>
                          </a:lnTo>
                          <a:lnTo>
                            <a:pt x="1432" y="163"/>
                          </a:lnTo>
                          <a:lnTo>
                            <a:pt x="1433" y="168"/>
                          </a:lnTo>
                          <a:lnTo>
                            <a:pt x="1436" y="173"/>
                          </a:lnTo>
                          <a:lnTo>
                            <a:pt x="1438" y="177"/>
                          </a:lnTo>
                          <a:lnTo>
                            <a:pt x="1439" y="183"/>
                          </a:lnTo>
                          <a:lnTo>
                            <a:pt x="1442" y="188"/>
                          </a:lnTo>
                          <a:lnTo>
                            <a:pt x="1442" y="191"/>
                          </a:lnTo>
                          <a:lnTo>
                            <a:pt x="1444" y="195"/>
                          </a:lnTo>
                          <a:lnTo>
                            <a:pt x="1445" y="196"/>
                          </a:lnTo>
                          <a:lnTo>
                            <a:pt x="1447" y="198"/>
                          </a:lnTo>
                          <a:lnTo>
                            <a:pt x="1448" y="196"/>
                          </a:lnTo>
                          <a:lnTo>
                            <a:pt x="1450" y="194"/>
                          </a:lnTo>
                          <a:lnTo>
                            <a:pt x="1450" y="188"/>
                          </a:lnTo>
                          <a:lnTo>
                            <a:pt x="1450" y="183"/>
                          </a:lnTo>
                          <a:lnTo>
                            <a:pt x="1450" y="179"/>
                          </a:lnTo>
                          <a:lnTo>
                            <a:pt x="1450" y="174"/>
                          </a:lnTo>
                          <a:lnTo>
                            <a:pt x="1448" y="170"/>
                          </a:lnTo>
                          <a:lnTo>
                            <a:pt x="1448" y="168"/>
                          </a:lnTo>
                          <a:lnTo>
                            <a:pt x="1448" y="163"/>
                          </a:lnTo>
                          <a:lnTo>
                            <a:pt x="1448" y="159"/>
                          </a:lnTo>
                          <a:lnTo>
                            <a:pt x="1447" y="154"/>
                          </a:lnTo>
                          <a:lnTo>
                            <a:pt x="1447" y="150"/>
                          </a:lnTo>
                          <a:lnTo>
                            <a:pt x="1447" y="143"/>
                          </a:lnTo>
                          <a:lnTo>
                            <a:pt x="1447" y="137"/>
                          </a:lnTo>
                          <a:lnTo>
                            <a:pt x="1447" y="135"/>
                          </a:lnTo>
                          <a:lnTo>
                            <a:pt x="1447" y="130"/>
                          </a:lnTo>
                          <a:lnTo>
                            <a:pt x="1445" y="128"/>
                          </a:lnTo>
                          <a:lnTo>
                            <a:pt x="1445" y="124"/>
                          </a:lnTo>
                          <a:lnTo>
                            <a:pt x="1445" y="121"/>
                          </a:lnTo>
                          <a:lnTo>
                            <a:pt x="1445" y="117"/>
                          </a:lnTo>
                          <a:lnTo>
                            <a:pt x="1444" y="114"/>
                          </a:lnTo>
                          <a:lnTo>
                            <a:pt x="1444" y="111"/>
                          </a:lnTo>
                          <a:lnTo>
                            <a:pt x="1444" y="107"/>
                          </a:lnTo>
                          <a:lnTo>
                            <a:pt x="1444" y="103"/>
                          </a:lnTo>
                          <a:lnTo>
                            <a:pt x="1442" y="99"/>
                          </a:lnTo>
                          <a:lnTo>
                            <a:pt x="1442" y="96"/>
                          </a:lnTo>
                          <a:lnTo>
                            <a:pt x="1442" y="92"/>
                          </a:lnTo>
                          <a:lnTo>
                            <a:pt x="1442" y="88"/>
                          </a:lnTo>
                          <a:lnTo>
                            <a:pt x="1442" y="85"/>
                          </a:lnTo>
                          <a:lnTo>
                            <a:pt x="1442" y="81"/>
                          </a:lnTo>
                          <a:lnTo>
                            <a:pt x="1442" y="77"/>
                          </a:lnTo>
                          <a:lnTo>
                            <a:pt x="1441" y="74"/>
                          </a:lnTo>
                          <a:lnTo>
                            <a:pt x="1441" y="70"/>
                          </a:lnTo>
                          <a:lnTo>
                            <a:pt x="1441" y="66"/>
                          </a:lnTo>
                          <a:lnTo>
                            <a:pt x="1439" y="62"/>
                          </a:lnTo>
                          <a:lnTo>
                            <a:pt x="1439" y="59"/>
                          </a:lnTo>
                          <a:lnTo>
                            <a:pt x="1439" y="55"/>
                          </a:lnTo>
                          <a:lnTo>
                            <a:pt x="1439" y="52"/>
                          </a:lnTo>
                          <a:lnTo>
                            <a:pt x="1439" y="48"/>
                          </a:lnTo>
                          <a:lnTo>
                            <a:pt x="1438" y="45"/>
                          </a:lnTo>
                          <a:lnTo>
                            <a:pt x="1438" y="41"/>
                          </a:lnTo>
                          <a:lnTo>
                            <a:pt x="1438" y="38"/>
                          </a:lnTo>
                          <a:lnTo>
                            <a:pt x="1436" y="36"/>
                          </a:lnTo>
                          <a:lnTo>
                            <a:pt x="1436" y="32"/>
                          </a:lnTo>
                          <a:lnTo>
                            <a:pt x="1436" y="29"/>
                          </a:lnTo>
                          <a:lnTo>
                            <a:pt x="1436" y="28"/>
                          </a:lnTo>
                          <a:lnTo>
                            <a:pt x="1435" y="21"/>
                          </a:lnTo>
                          <a:lnTo>
                            <a:pt x="1435" y="17"/>
                          </a:lnTo>
                          <a:lnTo>
                            <a:pt x="1433" y="11"/>
                          </a:lnTo>
                          <a:lnTo>
                            <a:pt x="1433" y="8"/>
                          </a:lnTo>
                          <a:lnTo>
                            <a:pt x="1433" y="4"/>
                          </a:lnTo>
                          <a:lnTo>
                            <a:pt x="1433" y="3"/>
                          </a:lnTo>
                          <a:lnTo>
                            <a:pt x="1432" y="0"/>
                          </a:lnTo>
                          <a:lnTo>
                            <a:pt x="9" y="4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Freeform 303"/>
                    <p:cNvSpPr/>
                    <p:nvPr/>
                  </p:nvSpPr>
                  <p:spPr>
                    <a:xfrm>
                      <a:off x="887400" y="2251800"/>
                      <a:ext cx="59760" cy="5040"/>
                    </a:xfrm>
                    <a:custGeom>
                      <a:avLst/>
                      <a:gdLst>
                        <a:gd name="textAreaLeft" fmla="*/ 0 w 59760"/>
                        <a:gd name="textAreaRight" fmla="*/ 60120 w 597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277" h="18">
                          <a:moveTo>
                            <a:pt x="277" y="0"/>
                          </a:moveTo>
                          <a:lnTo>
                            <a:pt x="269" y="0"/>
                          </a:lnTo>
                          <a:lnTo>
                            <a:pt x="263" y="0"/>
                          </a:lnTo>
                          <a:lnTo>
                            <a:pt x="257" y="0"/>
                          </a:lnTo>
                          <a:lnTo>
                            <a:pt x="252" y="0"/>
                          </a:lnTo>
                          <a:lnTo>
                            <a:pt x="245" y="0"/>
                          </a:lnTo>
                          <a:lnTo>
                            <a:pt x="240" y="2"/>
                          </a:lnTo>
                          <a:lnTo>
                            <a:pt x="234" y="2"/>
                          </a:lnTo>
                          <a:lnTo>
                            <a:pt x="228" y="3"/>
                          </a:lnTo>
                          <a:lnTo>
                            <a:pt x="222" y="3"/>
                          </a:lnTo>
                          <a:lnTo>
                            <a:pt x="216" y="3"/>
                          </a:lnTo>
                          <a:lnTo>
                            <a:pt x="210" y="4"/>
                          </a:lnTo>
                          <a:lnTo>
                            <a:pt x="203" y="4"/>
                          </a:lnTo>
                          <a:lnTo>
                            <a:pt x="197" y="4"/>
                          </a:lnTo>
                          <a:lnTo>
                            <a:pt x="193" y="4"/>
                          </a:lnTo>
                          <a:lnTo>
                            <a:pt x="187" y="6"/>
                          </a:lnTo>
                          <a:lnTo>
                            <a:pt x="180" y="6"/>
                          </a:lnTo>
                          <a:lnTo>
                            <a:pt x="174" y="6"/>
                          </a:lnTo>
                          <a:lnTo>
                            <a:pt x="168" y="7"/>
                          </a:lnTo>
                          <a:lnTo>
                            <a:pt x="162" y="7"/>
                          </a:lnTo>
                          <a:lnTo>
                            <a:pt x="156" y="7"/>
                          </a:lnTo>
                          <a:lnTo>
                            <a:pt x="150" y="7"/>
                          </a:lnTo>
                          <a:lnTo>
                            <a:pt x="144" y="7"/>
                          </a:lnTo>
                          <a:lnTo>
                            <a:pt x="138" y="9"/>
                          </a:lnTo>
                          <a:lnTo>
                            <a:pt x="131" y="9"/>
                          </a:lnTo>
                          <a:lnTo>
                            <a:pt x="125" y="9"/>
                          </a:lnTo>
                          <a:lnTo>
                            <a:pt x="119" y="10"/>
                          </a:lnTo>
                          <a:lnTo>
                            <a:pt x="113" y="10"/>
                          </a:lnTo>
                          <a:lnTo>
                            <a:pt x="109" y="10"/>
                          </a:lnTo>
                          <a:lnTo>
                            <a:pt x="101" y="10"/>
                          </a:lnTo>
                          <a:lnTo>
                            <a:pt x="96" y="10"/>
                          </a:lnTo>
                          <a:lnTo>
                            <a:pt x="90" y="11"/>
                          </a:lnTo>
                          <a:lnTo>
                            <a:pt x="84" y="11"/>
                          </a:lnTo>
                          <a:lnTo>
                            <a:pt x="79" y="11"/>
                          </a:lnTo>
                          <a:lnTo>
                            <a:pt x="76" y="11"/>
                          </a:lnTo>
                          <a:lnTo>
                            <a:pt x="72" y="11"/>
                          </a:lnTo>
                          <a:lnTo>
                            <a:pt x="67" y="11"/>
                          </a:lnTo>
                          <a:lnTo>
                            <a:pt x="63" y="11"/>
                          </a:lnTo>
                          <a:lnTo>
                            <a:pt x="60" y="11"/>
                          </a:lnTo>
                          <a:lnTo>
                            <a:pt x="55" y="11"/>
                          </a:lnTo>
                          <a:lnTo>
                            <a:pt x="52" y="11"/>
                          </a:lnTo>
                          <a:lnTo>
                            <a:pt x="47" y="11"/>
                          </a:lnTo>
                          <a:lnTo>
                            <a:pt x="43" y="11"/>
                          </a:lnTo>
                          <a:lnTo>
                            <a:pt x="38" y="11"/>
                          </a:lnTo>
                          <a:lnTo>
                            <a:pt x="35" y="13"/>
                          </a:lnTo>
                          <a:lnTo>
                            <a:pt x="31" y="13"/>
                          </a:lnTo>
                          <a:lnTo>
                            <a:pt x="26" y="13"/>
                          </a:lnTo>
                          <a:lnTo>
                            <a:pt x="23" y="13"/>
                          </a:lnTo>
                          <a:lnTo>
                            <a:pt x="18" y="14"/>
                          </a:lnTo>
                          <a:lnTo>
                            <a:pt x="5" y="15"/>
                          </a:lnTo>
                          <a:lnTo>
                            <a:pt x="3" y="15"/>
                          </a:lnTo>
                          <a:lnTo>
                            <a:pt x="1" y="15"/>
                          </a:lnTo>
                          <a:lnTo>
                            <a:pt x="0" y="15"/>
                          </a:lnTo>
                          <a:lnTo>
                            <a:pt x="29" y="18"/>
                          </a:lnTo>
                          <a:lnTo>
                            <a:pt x="34" y="18"/>
                          </a:lnTo>
                          <a:lnTo>
                            <a:pt x="38" y="18"/>
                          </a:lnTo>
                          <a:lnTo>
                            <a:pt x="43" y="18"/>
                          </a:lnTo>
                          <a:lnTo>
                            <a:pt x="49" y="18"/>
                          </a:lnTo>
                          <a:lnTo>
                            <a:pt x="55" y="18"/>
                          </a:lnTo>
                          <a:lnTo>
                            <a:pt x="60" y="18"/>
                          </a:lnTo>
                          <a:lnTo>
                            <a:pt x="66" y="18"/>
                          </a:lnTo>
                          <a:lnTo>
                            <a:pt x="72" y="18"/>
                          </a:lnTo>
                          <a:lnTo>
                            <a:pt x="76" y="18"/>
                          </a:lnTo>
                          <a:lnTo>
                            <a:pt x="83" y="18"/>
                          </a:lnTo>
                          <a:lnTo>
                            <a:pt x="89" y="17"/>
                          </a:lnTo>
                          <a:lnTo>
                            <a:pt x="95" y="17"/>
                          </a:lnTo>
                          <a:lnTo>
                            <a:pt x="99" y="17"/>
                          </a:lnTo>
                          <a:lnTo>
                            <a:pt x="105" y="17"/>
                          </a:lnTo>
                          <a:lnTo>
                            <a:pt x="112" y="15"/>
                          </a:lnTo>
                          <a:lnTo>
                            <a:pt x="118" y="15"/>
                          </a:lnTo>
                          <a:lnTo>
                            <a:pt x="124" y="15"/>
                          </a:lnTo>
                          <a:lnTo>
                            <a:pt x="128" y="15"/>
                          </a:lnTo>
                          <a:lnTo>
                            <a:pt x="135" y="14"/>
                          </a:lnTo>
                          <a:lnTo>
                            <a:pt x="141" y="14"/>
                          </a:lnTo>
                          <a:lnTo>
                            <a:pt x="145" y="14"/>
                          </a:lnTo>
                          <a:lnTo>
                            <a:pt x="151" y="13"/>
                          </a:lnTo>
                          <a:lnTo>
                            <a:pt x="157" y="13"/>
                          </a:lnTo>
                          <a:lnTo>
                            <a:pt x="164" y="13"/>
                          </a:lnTo>
                          <a:lnTo>
                            <a:pt x="168" y="13"/>
                          </a:lnTo>
                          <a:lnTo>
                            <a:pt x="174" y="11"/>
                          </a:lnTo>
                          <a:lnTo>
                            <a:pt x="180" y="11"/>
                          </a:lnTo>
                          <a:lnTo>
                            <a:pt x="185" y="11"/>
                          </a:lnTo>
                          <a:lnTo>
                            <a:pt x="190" y="10"/>
                          </a:lnTo>
                          <a:lnTo>
                            <a:pt x="196" y="10"/>
                          </a:lnTo>
                          <a:lnTo>
                            <a:pt x="202" y="10"/>
                          </a:lnTo>
                          <a:lnTo>
                            <a:pt x="208" y="10"/>
                          </a:lnTo>
                          <a:lnTo>
                            <a:pt x="211" y="9"/>
                          </a:lnTo>
                          <a:lnTo>
                            <a:pt x="214" y="9"/>
                          </a:lnTo>
                          <a:lnTo>
                            <a:pt x="219" y="9"/>
                          </a:lnTo>
                          <a:lnTo>
                            <a:pt x="222" y="9"/>
                          </a:lnTo>
                          <a:lnTo>
                            <a:pt x="226" y="9"/>
                          </a:lnTo>
                          <a:lnTo>
                            <a:pt x="229" y="9"/>
                          </a:lnTo>
                          <a:lnTo>
                            <a:pt x="234" y="9"/>
                          </a:lnTo>
                          <a:lnTo>
                            <a:pt x="237" y="9"/>
                          </a:lnTo>
                          <a:lnTo>
                            <a:pt x="242" y="9"/>
                          </a:lnTo>
                          <a:lnTo>
                            <a:pt x="245" y="9"/>
                          </a:lnTo>
                          <a:lnTo>
                            <a:pt x="249" y="9"/>
                          </a:lnTo>
                          <a:lnTo>
                            <a:pt x="252" y="9"/>
                          </a:lnTo>
                          <a:lnTo>
                            <a:pt x="255" y="7"/>
                          </a:lnTo>
                          <a:lnTo>
                            <a:pt x="260" y="7"/>
                          </a:lnTo>
                          <a:lnTo>
                            <a:pt x="263" y="7"/>
                          </a:lnTo>
                          <a:lnTo>
                            <a:pt x="268" y="7"/>
                          </a:lnTo>
                          <a:lnTo>
                            <a:pt x="272" y="6"/>
                          </a:lnTo>
                          <a:lnTo>
                            <a:pt x="275" y="4"/>
                          </a:lnTo>
                          <a:lnTo>
                            <a:pt x="277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Freeform 304"/>
                    <p:cNvSpPr/>
                    <p:nvPr/>
                  </p:nvSpPr>
                  <p:spPr>
                    <a:xfrm>
                      <a:off x="997920" y="2256480"/>
                      <a:ext cx="37440" cy="3960"/>
                    </a:xfrm>
                    <a:custGeom>
                      <a:avLst/>
                      <a:gdLst>
                        <a:gd name="textAreaLeft" fmla="*/ 0 w 37440"/>
                        <a:gd name="textAreaRight" fmla="*/ 37800 w 37440"/>
                        <a:gd name="textAreaTop" fmla="*/ 0 h 3960"/>
                        <a:gd name="textAreaBottom" fmla="*/ 4320 h 3960"/>
                      </a:gdLst>
                      <a:ahLst/>
                      <a:rect l="textAreaLeft" t="textAreaTop" r="textAreaRight" b="textAreaBottom"/>
                      <a:pathLst>
                        <a:path w="173" h="15">
                          <a:moveTo>
                            <a:pt x="171" y="15"/>
                          </a:moveTo>
                          <a:lnTo>
                            <a:pt x="167" y="13"/>
                          </a:lnTo>
                          <a:lnTo>
                            <a:pt x="162" y="13"/>
                          </a:lnTo>
                          <a:lnTo>
                            <a:pt x="156" y="12"/>
                          </a:lnTo>
                          <a:lnTo>
                            <a:pt x="151" y="12"/>
                          </a:lnTo>
                          <a:lnTo>
                            <a:pt x="147" y="12"/>
                          </a:lnTo>
                          <a:lnTo>
                            <a:pt x="142" y="12"/>
                          </a:lnTo>
                          <a:lnTo>
                            <a:pt x="136" y="12"/>
                          </a:lnTo>
                          <a:lnTo>
                            <a:pt x="131" y="12"/>
                          </a:lnTo>
                          <a:lnTo>
                            <a:pt x="127" y="11"/>
                          </a:lnTo>
                          <a:lnTo>
                            <a:pt x="122" y="11"/>
                          </a:lnTo>
                          <a:lnTo>
                            <a:pt x="116" y="11"/>
                          </a:lnTo>
                          <a:lnTo>
                            <a:pt x="112" y="11"/>
                          </a:lnTo>
                          <a:lnTo>
                            <a:pt x="107" y="11"/>
                          </a:lnTo>
                          <a:lnTo>
                            <a:pt x="102" y="11"/>
                          </a:lnTo>
                          <a:lnTo>
                            <a:pt x="98" y="11"/>
                          </a:lnTo>
                          <a:lnTo>
                            <a:pt x="93" y="12"/>
                          </a:lnTo>
                          <a:lnTo>
                            <a:pt x="87" y="11"/>
                          </a:lnTo>
                          <a:lnTo>
                            <a:pt x="82" y="11"/>
                          </a:lnTo>
                          <a:lnTo>
                            <a:pt x="78" y="11"/>
                          </a:lnTo>
                          <a:lnTo>
                            <a:pt x="73" y="11"/>
                          </a:lnTo>
                          <a:lnTo>
                            <a:pt x="67" y="11"/>
                          </a:lnTo>
                          <a:lnTo>
                            <a:pt x="63" y="11"/>
                          </a:lnTo>
                          <a:lnTo>
                            <a:pt x="56" y="11"/>
                          </a:lnTo>
                          <a:lnTo>
                            <a:pt x="53" y="11"/>
                          </a:lnTo>
                          <a:lnTo>
                            <a:pt x="47" y="11"/>
                          </a:lnTo>
                          <a:lnTo>
                            <a:pt x="43" y="9"/>
                          </a:lnTo>
                          <a:lnTo>
                            <a:pt x="38" y="9"/>
                          </a:lnTo>
                          <a:lnTo>
                            <a:pt x="33" y="8"/>
                          </a:lnTo>
                          <a:lnTo>
                            <a:pt x="29" y="8"/>
                          </a:lnTo>
                          <a:lnTo>
                            <a:pt x="24" y="7"/>
                          </a:lnTo>
                          <a:lnTo>
                            <a:pt x="18" y="7"/>
                          </a:lnTo>
                          <a:lnTo>
                            <a:pt x="15" y="5"/>
                          </a:lnTo>
                          <a:lnTo>
                            <a:pt x="11" y="5"/>
                          </a:lnTo>
                          <a:lnTo>
                            <a:pt x="7" y="4"/>
                          </a:lnTo>
                          <a:lnTo>
                            <a:pt x="4" y="3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3" y="0"/>
                          </a:lnTo>
                          <a:lnTo>
                            <a:pt x="6" y="1"/>
                          </a:lnTo>
                          <a:lnTo>
                            <a:pt x="9" y="1"/>
                          </a:lnTo>
                          <a:lnTo>
                            <a:pt x="12" y="1"/>
                          </a:lnTo>
                          <a:lnTo>
                            <a:pt x="17" y="0"/>
                          </a:lnTo>
                          <a:lnTo>
                            <a:pt x="20" y="0"/>
                          </a:lnTo>
                          <a:lnTo>
                            <a:pt x="24" y="0"/>
                          </a:lnTo>
                          <a:lnTo>
                            <a:pt x="27" y="0"/>
                          </a:lnTo>
                          <a:lnTo>
                            <a:pt x="32" y="0"/>
                          </a:lnTo>
                          <a:lnTo>
                            <a:pt x="37" y="0"/>
                          </a:lnTo>
                          <a:lnTo>
                            <a:pt x="41" y="0"/>
                          </a:lnTo>
                          <a:lnTo>
                            <a:pt x="44" y="0"/>
                          </a:lnTo>
                          <a:lnTo>
                            <a:pt x="49" y="0"/>
                          </a:lnTo>
                          <a:lnTo>
                            <a:pt x="53" y="0"/>
                          </a:lnTo>
                          <a:lnTo>
                            <a:pt x="58" y="0"/>
                          </a:lnTo>
                          <a:lnTo>
                            <a:pt x="63" y="0"/>
                          </a:lnTo>
                          <a:lnTo>
                            <a:pt x="67" y="0"/>
                          </a:lnTo>
                          <a:lnTo>
                            <a:pt x="72" y="0"/>
                          </a:lnTo>
                          <a:lnTo>
                            <a:pt x="76" y="1"/>
                          </a:lnTo>
                          <a:lnTo>
                            <a:pt x="81" y="1"/>
                          </a:lnTo>
                          <a:lnTo>
                            <a:pt x="86" y="1"/>
                          </a:lnTo>
                          <a:lnTo>
                            <a:pt x="89" y="1"/>
                          </a:lnTo>
                          <a:lnTo>
                            <a:pt x="95" y="3"/>
                          </a:lnTo>
                          <a:lnTo>
                            <a:pt x="98" y="3"/>
                          </a:lnTo>
                          <a:lnTo>
                            <a:pt x="102" y="3"/>
                          </a:lnTo>
                          <a:lnTo>
                            <a:pt x="107" y="3"/>
                          </a:lnTo>
                          <a:lnTo>
                            <a:pt x="112" y="3"/>
                          </a:lnTo>
                          <a:lnTo>
                            <a:pt x="115" y="3"/>
                          </a:lnTo>
                          <a:lnTo>
                            <a:pt x="119" y="4"/>
                          </a:lnTo>
                          <a:lnTo>
                            <a:pt x="124" y="4"/>
                          </a:lnTo>
                          <a:lnTo>
                            <a:pt x="128" y="4"/>
                          </a:lnTo>
                          <a:lnTo>
                            <a:pt x="131" y="4"/>
                          </a:lnTo>
                          <a:lnTo>
                            <a:pt x="136" y="5"/>
                          </a:lnTo>
                          <a:lnTo>
                            <a:pt x="139" y="5"/>
                          </a:lnTo>
                          <a:lnTo>
                            <a:pt x="144" y="5"/>
                          </a:lnTo>
                          <a:lnTo>
                            <a:pt x="150" y="7"/>
                          </a:lnTo>
                          <a:lnTo>
                            <a:pt x="156" y="8"/>
                          </a:lnTo>
                          <a:lnTo>
                            <a:pt x="160" y="9"/>
                          </a:lnTo>
                          <a:lnTo>
                            <a:pt x="167" y="12"/>
                          </a:lnTo>
                          <a:lnTo>
                            <a:pt x="170" y="13"/>
                          </a:lnTo>
                          <a:lnTo>
                            <a:pt x="171" y="15"/>
                          </a:lnTo>
                          <a:lnTo>
                            <a:pt x="173" y="15"/>
                          </a:lnTo>
                          <a:lnTo>
                            <a:pt x="171" y="1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Freeform 305"/>
                    <p:cNvSpPr/>
                    <p:nvPr/>
                  </p:nvSpPr>
                  <p:spPr>
                    <a:xfrm>
                      <a:off x="893520" y="2268720"/>
                      <a:ext cx="6840" cy="14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32" h="6">
                          <a:moveTo>
                            <a:pt x="5" y="0"/>
                          </a:moveTo>
                          <a:lnTo>
                            <a:pt x="0" y="6"/>
                          </a:lnTo>
                          <a:lnTo>
                            <a:pt x="3" y="6"/>
                          </a:lnTo>
                          <a:lnTo>
                            <a:pt x="6" y="4"/>
                          </a:lnTo>
                          <a:lnTo>
                            <a:pt x="8" y="4"/>
                          </a:lnTo>
                          <a:lnTo>
                            <a:pt x="9" y="4"/>
                          </a:lnTo>
                          <a:lnTo>
                            <a:pt x="14" y="6"/>
                          </a:lnTo>
                          <a:lnTo>
                            <a:pt x="20" y="6"/>
                          </a:lnTo>
                          <a:lnTo>
                            <a:pt x="21" y="6"/>
                          </a:lnTo>
                          <a:lnTo>
                            <a:pt x="24" y="6"/>
                          </a:lnTo>
                          <a:lnTo>
                            <a:pt x="28" y="4"/>
                          </a:lnTo>
                          <a:lnTo>
                            <a:pt x="32" y="3"/>
                          </a:lnTo>
                          <a:lnTo>
                            <a:pt x="28" y="0"/>
                          </a:lnTo>
                          <a:lnTo>
                            <a:pt x="24" y="0"/>
                          </a:lnTo>
                          <a:lnTo>
                            <a:pt x="21" y="0"/>
                          </a:lnTo>
                          <a:lnTo>
                            <a:pt x="18" y="0"/>
                          </a:lnTo>
                          <a:lnTo>
                            <a:pt x="14" y="0"/>
                          </a:lnTo>
                          <a:lnTo>
                            <a:pt x="11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Freeform 306"/>
                    <p:cNvSpPr/>
                    <p:nvPr/>
                  </p:nvSpPr>
                  <p:spPr>
                    <a:xfrm>
                      <a:off x="736560" y="2303640"/>
                      <a:ext cx="404640" cy="43560"/>
                    </a:xfrm>
                    <a:custGeom>
                      <a:avLst/>
                      <a:gdLst>
                        <a:gd name="textAreaLeft" fmla="*/ 0 w 404640"/>
                        <a:gd name="textAreaRight" fmla="*/ 405000 w 404640"/>
                        <a:gd name="textAreaTop" fmla="*/ 0 h 43560"/>
                        <a:gd name="textAreaBottom" fmla="*/ 43920 h 43560"/>
                      </a:gdLst>
                      <a:ahLst/>
                      <a:rect l="textAreaLeft" t="textAreaTop" r="textAreaRight" b="textAreaBottom"/>
                      <a:pathLst>
                        <a:path w="1871" h="154">
                          <a:moveTo>
                            <a:pt x="490" y="18"/>
                          </a:moveTo>
                          <a:lnTo>
                            <a:pt x="483" y="19"/>
                          </a:lnTo>
                          <a:lnTo>
                            <a:pt x="477" y="20"/>
                          </a:lnTo>
                          <a:lnTo>
                            <a:pt x="473" y="22"/>
                          </a:lnTo>
                          <a:lnTo>
                            <a:pt x="467" y="23"/>
                          </a:lnTo>
                          <a:lnTo>
                            <a:pt x="461" y="25"/>
                          </a:lnTo>
                          <a:lnTo>
                            <a:pt x="456" y="26"/>
                          </a:lnTo>
                          <a:lnTo>
                            <a:pt x="450" y="26"/>
                          </a:lnTo>
                          <a:lnTo>
                            <a:pt x="444" y="29"/>
                          </a:lnTo>
                          <a:lnTo>
                            <a:pt x="438" y="29"/>
                          </a:lnTo>
                          <a:lnTo>
                            <a:pt x="431" y="30"/>
                          </a:lnTo>
                          <a:lnTo>
                            <a:pt x="427" y="30"/>
                          </a:lnTo>
                          <a:lnTo>
                            <a:pt x="421" y="31"/>
                          </a:lnTo>
                          <a:lnTo>
                            <a:pt x="415" y="31"/>
                          </a:lnTo>
                          <a:lnTo>
                            <a:pt x="409" y="33"/>
                          </a:lnTo>
                          <a:lnTo>
                            <a:pt x="404" y="34"/>
                          </a:lnTo>
                          <a:lnTo>
                            <a:pt x="398" y="34"/>
                          </a:lnTo>
                          <a:lnTo>
                            <a:pt x="392" y="34"/>
                          </a:lnTo>
                          <a:lnTo>
                            <a:pt x="386" y="35"/>
                          </a:lnTo>
                          <a:lnTo>
                            <a:pt x="379" y="35"/>
                          </a:lnTo>
                          <a:lnTo>
                            <a:pt x="373" y="37"/>
                          </a:lnTo>
                          <a:lnTo>
                            <a:pt x="367" y="37"/>
                          </a:lnTo>
                          <a:lnTo>
                            <a:pt x="363" y="38"/>
                          </a:lnTo>
                          <a:lnTo>
                            <a:pt x="357" y="38"/>
                          </a:lnTo>
                          <a:lnTo>
                            <a:pt x="350" y="40"/>
                          </a:lnTo>
                          <a:lnTo>
                            <a:pt x="344" y="40"/>
                          </a:lnTo>
                          <a:lnTo>
                            <a:pt x="338" y="40"/>
                          </a:lnTo>
                          <a:lnTo>
                            <a:pt x="332" y="41"/>
                          </a:lnTo>
                          <a:lnTo>
                            <a:pt x="327" y="41"/>
                          </a:lnTo>
                          <a:lnTo>
                            <a:pt x="321" y="41"/>
                          </a:lnTo>
                          <a:lnTo>
                            <a:pt x="315" y="42"/>
                          </a:lnTo>
                          <a:lnTo>
                            <a:pt x="309" y="42"/>
                          </a:lnTo>
                          <a:lnTo>
                            <a:pt x="303" y="44"/>
                          </a:lnTo>
                          <a:lnTo>
                            <a:pt x="297" y="44"/>
                          </a:lnTo>
                          <a:lnTo>
                            <a:pt x="291" y="44"/>
                          </a:lnTo>
                          <a:lnTo>
                            <a:pt x="285" y="44"/>
                          </a:lnTo>
                          <a:lnTo>
                            <a:pt x="279" y="45"/>
                          </a:lnTo>
                          <a:lnTo>
                            <a:pt x="272" y="45"/>
                          </a:lnTo>
                          <a:lnTo>
                            <a:pt x="266" y="45"/>
                          </a:lnTo>
                          <a:lnTo>
                            <a:pt x="260" y="46"/>
                          </a:lnTo>
                          <a:lnTo>
                            <a:pt x="254" y="46"/>
                          </a:lnTo>
                          <a:lnTo>
                            <a:pt x="248" y="46"/>
                          </a:lnTo>
                          <a:lnTo>
                            <a:pt x="242" y="48"/>
                          </a:lnTo>
                          <a:lnTo>
                            <a:pt x="237" y="48"/>
                          </a:lnTo>
                          <a:lnTo>
                            <a:pt x="231" y="49"/>
                          </a:lnTo>
                          <a:lnTo>
                            <a:pt x="225" y="51"/>
                          </a:lnTo>
                          <a:lnTo>
                            <a:pt x="219" y="51"/>
                          </a:lnTo>
                          <a:lnTo>
                            <a:pt x="213" y="52"/>
                          </a:lnTo>
                          <a:lnTo>
                            <a:pt x="207" y="53"/>
                          </a:lnTo>
                          <a:lnTo>
                            <a:pt x="201" y="53"/>
                          </a:lnTo>
                          <a:lnTo>
                            <a:pt x="194" y="55"/>
                          </a:lnTo>
                          <a:lnTo>
                            <a:pt x="188" y="55"/>
                          </a:lnTo>
                          <a:lnTo>
                            <a:pt x="184" y="56"/>
                          </a:lnTo>
                          <a:lnTo>
                            <a:pt x="178" y="57"/>
                          </a:lnTo>
                          <a:lnTo>
                            <a:pt x="171" y="59"/>
                          </a:lnTo>
                          <a:lnTo>
                            <a:pt x="165" y="59"/>
                          </a:lnTo>
                          <a:lnTo>
                            <a:pt x="161" y="62"/>
                          </a:lnTo>
                          <a:lnTo>
                            <a:pt x="155" y="63"/>
                          </a:lnTo>
                          <a:lnTo>
                            <a:pt x="148" y="63"/>
                          </a:lnTo>
                          <a:lnTo>
                            <a:pt x="144" y="66"/>
                          </a:lnTo>
                          <a:lnTo>
                            <a:pt x="138" y="67"/>
                          </a:lnTo>
                          <a:lnTo>
                            <a:pt x="132" y="68"/>
                          </a:lnTo>
                          <a:lnTo>
                            <a:pt x="127" y="70"/>
                          </a:lnTo>
                          <a:lnTo>
                            <a:pt x="121" y="73"/>
                          </a:lnTo>
                          <a:lnTo>
                            <a:pt x="116" y="75"/>
                          </a:lnTo>
                          <a:lnTo>
                            <a:pt x="121" y="77"/>
                          </a:lnTo>
                          <a:lnTo>
                            <a:pt x="127" y="75"/>
                          </a:lnTo>
                          <a:lnTo>
                            <a:pt x="133" y="73"/>
                          </a:lnTo>
                          <a:lnTo>
                            <a:pt x="138" y="71"/>
                          </a:lnTo>
                          <a:lnTo>
                            <a:pt x="141" y="71"/>
                          </a:lnTo>
                          <a:lnTo>
                            <a:pt x="144" y="70"/>
                          </a:lnTo>
                          <a:lnTo>
                            <a:pt x="148" y="70"/>
                          </a:lnTo>
                          <a:lnTo>
                            <a:pt x="152" y="68"/>
                          </a:lnTo>
                          <a:lnTo>
                            <a:pt x="155" y="68"/>
                          </a:lnTo>
                          <a:lnTo>
                            <a:pt x="158" y="67"/>
                          </a:lnTo>
                          <a:lnTo>
                            <a:pt x="162" y="67"/>
                          </a:lnTo>
                          <a:lnTo>
                            <a:pt x="165" y="66"/>
                          </a:lnTo>
                          <a:lnTo>
                            <a:pt x="168" y="66"/>
                          </a:lnTo>
                          <a:lnTo>
                            <a:pt x="173" y="66"/>
                          </a:lnTo>
                          <a:lnTo>
                            <a:pt x="176" y="66"/>
                          </a:lnTo>
                          <a:lnTo>
                            <a:pt x="179" y="64"/>
                          </a:lnTo>
                          <a:lnTo>
                            <a:pt x="184" y="64"/>
                          </a:lnTo>
                          <a:lnTo>
                            <a:pt x="187" y="63"/>
                          </a:lnTo>
                          <a:lnTo>
                            <a:pt x="190" y="63"/>
                          </a:lnTo>
                          <a:lnTo>
                            <a:pt x="193" y="63"/>
                          </a:lnTo>
                          <a:lnTo>
                            <a:pt x="197" y="63"/>
                          </a:lnTo>
                          <a:lnTo>
                            <a:pt x="201" y="62"/>
                          </a:lnTo>
                          <a:lnTo>
                            <a:pt x="205" y="62"/>
                          </a:lnTo>
                          <a:lnTo>
                            <a:pt x="208" y="62"/>
                          </a:lnTo>
                          <a:lnTo>
                            <a:pt x="211" y="60"/>
                          </a:lnTo>
                          <a:lnTo>
                            <a:pt x="214" y="60"/>
                          </a:lnTo>
                          <a:lnTo>
                            <a:pt x="219" y="60"/>
                          </a:lnTo>
                          <a:lnTo>
                            <a:pt x="222" y="59"/>
                          </a:lnTo>
                          <a:lnTo>
                            <a:pt x="225" y="59"/>
                          </a:lnTo>
                          <a:lnTo>
                            <a:pt x="230" y="59"/>
                          </a:lnTo>
                          <a:lnTo>
                            <a:pt x="233" y="59"/>
                          </a:lnTo>
                          <a:lnTo>
                            <a:pt x="236" y="57"/>
                          </a:lnTo>
                          <a:lnTo>
                            <a:pt x="240" y="57"/>
                          </a:lnTo>
                          <a:lnTo>
                            <a:pt x="243" y="56"/>
                          </a:lnTo>
                          <a:lnTo>
                            <a:pt x="246" y="56"/>
                          </a:lnTo>
                          <a:lnTo>
                            <a:pt x="249" y="56"/>
                          </a:lnTo>
                          <a:lnTo>
                            <a:pt x="254" y="56"/>
                          </a:lnTo>
                          <a:lnTo>
                            <a:pt x="257" y="56"/>
                          </a:lnTo>
                          <a:lnTo>
                            <a:pt x="260" y="56"/>
                          </a:lnTo>
                          <a:lnTo>
                            <a:pt x="265" y="55"/>
                          </a:lnTo>
                          <a:lnTo>
                            <a:pt x="268" y="55"/>
                          </a:lnTo>
                          <a:lnTo>
                            <a:pt x="271" y="55"/>
                          </a:lnTo>
                          <a:lnTo>
                            <a:pt x="275" y="55"/>
                          </a:lnTo>
                          <a:lnTo>
                            <a:pt x="279" y="53"/>
                          </a:lnTo>
                          <a:lnTo>
                            <a:pt x="282" y="53"/>
                          </a:lnTo>
                          <a:lnTo>
                            <a:pt x="286" y="53"/>
                          </a:lnTo>
                          <a:lnTo>
                            <a:pt x="289" y="53"/>
                          </a:lnTo>
                          <a:lnTo>
                            <a:pt x="286" y="53"/>
                          </a:lnTo>
                          <a:lnTo>
                            <a:pt x="282" y="55"/>
                          </a:lnTo>
                          <a:lnTo>
                            <a:pt x="277" y="55"/>
                          </a:lnTo>
                          <a:lnTo>
                            <a:pt x="274" y="56"/>
                          </a:lnTo>
                          <a:lnTo>
                            <a:pt x="271" y="56"/>
                          </a:lnTo>
                          <a:lnTo>
                            <a:pt x="268" y="56"/>
                          </a:lnTo>
                          <a:lnTo>
                            <a:pt x="263" y="56"/>
                          </a:lnTo>
                          <a:lnTo>
                            <a:pt x="260" y="57"/>
                          </a:lnTo>
                          <a:lnTo>
                            <a:pt x="256" y="59"/>
                          </a:lnTo>
                          <a:lnTo>
                            <a:pt x="251" y="59"/>
                          </a:lnTo>
                          <a:lnTo>
                            <a:pt x="246" y="60"/>
                          </a:lnTo>
                          <a:lnTo>
                            <a:pt x="243" y="62"/>
                          </a:lnTo>
                          <a:lnTo>
                            <a:pt x="239" y="62"/>
                          </a:lnTo>
                          <a:lnTo>
                            <a:pt x="234" y="63"/>
                          </a:lnTo>
                          <a:lnTo>
                            <a:pt x="230" y="63"/>
                          </a:lnTo>
                          <a:lnTo>
                            <a:pt x="225" y="64"/>
                          </a:lnTo>
                          <a:lnTo>
                            <a:pt x="220" y="66"/>
                          </a:lnTo>
                          <a:lnTo>
                            <a:pt x="217" y="66"/>
                          </a:lnTo>
                          <a:lnTo>
                            <a:pt x="213" y="67"/>
                          </a:lnTo>
                          <a:lnTo>
                            <a:pt x="210" y="68"/>
                          </a:lnTo>
                          <a:lnTo>
                            <a:pt x="205" y="68"/>
                          </a:lnTo>
                          <a:lnTo>
                            <a:pt x="204" y="70"/>
                          </a:lnTo>
                          <a:lnTo>
                            <a:pt x="197" y="71"/>
                          </a:lnTo>
                          <a:lnTo>
                            <a:pt x="193" y="74"/>
                          </a:lnTo>
                          <a:lnTo>
                            <a:pt x="190" y="77"/>
                          </a:lnTo>
                          <a:lnTo>
                            <a:pt x="188" y="79"/>
                          </a:lnTo>
                          <a:lnTo>
                            <a:pt x="185" y="79"/>
                          </a:lnTo>
                          <a:lnTo>
                            <a:pt x="181" y="79"/>
                          </a:lnTo>
                          <a:lnTo>
                            <a:pt x="176" y="79"/>
                          </a:lnTo>
                          <a:lnTo>
                            <a:pt x="171" y="81"/>
                          </a:lnTo>
                          <a:lnTo>
                            <a:pt x="164" y="81"/>
                          </a:lnTo>
                          <a:lnTo>
                            <a:pt x="159" y="82"/>
                          </a:lnTo>
                          <a:lnTo>
                            <a:pt x="153" y="84"/>
                          </a:lnTo>
                          <a:lnTo>
                            <a:pt x="147" y="85"/>
                          </a:lnTo>
                          <a:lnTo>
                            <a:pt x="141" y="86"/>
                          </a:lnTo>
                          <a:lnTo>
                            <a:pt x="136" y="88"/>
                          </a:lnTo>
                          <a:lnTo>
                            <a:pt x="130" y="88"/>
                          </a:lnTo>
                          <a:lnTo>
                            <a:pt x="126" y="89"/>
                          </a:lnTo>
                          <a:lnTo>
                            <a:pt x="121" y="90"/>
                          </a:lnTo>
                          <a:lnTo>
                            <a:pt x="119" y="90"/>
                          </a:lnTo>
                          <a:lnTo>
                            <a:pt x="116" y="90"/>
                          </a:lnTo>
                          <a:lnTo>
                            <a:pt x="55" y="105"/>
                          </a:lnTo>
                          <a:lnTo>
                            <a:pt x="57" y="105"/>
                          </a:lnTo>
                          <a:lnTo>
                            <a:pt x="58" y="107"/>
                          </a:lnTo>
                          <a:lnTo>
                            <a:pt x="63" y="107"/>
                          </a:lnTo>
                          <a:lnTo>
                            <a:pt x="67" y="107"/>
                          </a:lnTo>
                          <a:lnTo>
                            <a:pt x="70" y="105"/>
                          </a:lnTo>
                          <a:lnTo>
                            <a:pt x="74" y="105"/>
                          </a:lnTo>
                          <a:lnTo>
                            <a:pt x="77" y="105"/>
                          </a:lnTo>
                          <a:lnTo>
                            <a:pt x="80" y="105"/>
                          </a:lnTo>
                          <a:lnTo>
                            <a:pt x="84" y="104"/>
                          </a:lnTo>
                          <a:lnTo>
                            <a:pt x="87" y="104"/>
                          </a:lnTo>
                          <a:lnTo>
                            <a:pt x="92" y="103"/>
                          </a:lnTo>
                          <a:lnTo>
                            <a:pt x="96" y="103"/>
                          </a:lnTo>
                          <a:lnTo>
                            <a:pt x="100" y="103"/>
                          </a:lnTo>
                          <a:lnTo>
                            <a:pt x="106" y="101"/>
                          </a:lnTo>
                          <a:lnTo>
                            <a:pt x="110" y="101"/>
                          </a:lnTo>
                          <a:lnTo>
                            <a:pt x="115" y="100"/>
                          </a:lnTo>
                          <a:lnTo>
                            <a:pt x="119" y="100"/>
                          </a:lnTo>
                          <a:lnTo>
                            <a:pt x="124" y="99"/>
                          </a:lnTo>
                          <a:lnTo>
                            <a:pt x="130" y="99"/>
                          </a:lnTo>
                          <a:lnTo>
                            <a:pt x="136" y="97"/>
                          </a:lnTo>
                          <a:lnTo>
                            <a:pt x="141" y="96"/>
                          </a:lnTo>
                          <a:lnTo>
                            <a:pt x="147" y="96"/>
                          </a:lnTo>
                          <a:lnTo>
                            <a:pt x="152" y="95"/>
                          </a:lnTo>
                          <a:lnTo>
                            <a:pt x="158" y="93"/>
                          </a:lnTo>
                          <a:lnTo>
                            <a:pt x="164" y="93"/>
                          </a:lnTo>
                          <a:lnTo>
                            <a:pt x="170" y="92"/>
                          </a:lnTo>
                          <a:lnTo>
                            <a:pt x="176" y="90"/>
                          </a:lnTo>
                          <a:lnTo>
                            <a:pt x="182" y="90"/>
                          </a:lnTo>
                          <a:lnTo>
                            <a:pt x="188" y="89"/>
                          </a:lnTo>
                          <a:lnTo>
                            <a:pt x="193" y="88"/>
                          </a:lnTo>
                          <a:lnTo>
                            <a:pt x="199" y="86"/>
                          </a:lnTo>
                          <a:lnTo>
                            <a:pt x="205" y="86"/>
                          </a:lnTo>
                          <a:lnTo>
                            <a:pt x="211" y="85"/>
                          </a:lnTo>
                          <a:lnTo>
                            <a:pt x="217" y="84"/>
                          </a:lnTo>
                          <a:lnTo>
                            <a:pt x="222" y="84"/>
                          </a:lnTo>
                          <a:lnTo>
                            <a:pt x="230" y="82"/>
                          </a:lnTo>
                          <a:lnTo>
                            <a:pt x="234" y="81"/>
                          </a:lnTo>
                          <a:lnTo>
                            <a:pt x="240" y="81"/>
                          </a:lnTo>
                          <a:lnTo>
                            <a:pt x="246" y="79"/>
                          </a:lnTo>
                          <a:lnTo>
                            <a:pt x="251" y="79"/>
                          </a:lnTo>
                          <a:lnTo>
                            <a:pt x="257" y="78"/>
                          </a:lnTo>
                          <a:lnTo>
                            <a:pt x="262" y="78"/>
                          </a:lnTo>
                          <a:lnTo>
                            <a:pt x="268" y="77"/>
                          </a:lnTo>
                          <a:lnTo>
                            <a:pt x="274" y="77"/>
                          </a:lnTo>
                          <a:lnTo>
                            <a:pt x="277" y="75"/>
                          </a:lnTo>
                          <a:lnTo>
                            <a:pt x="283" y="75"/>
                          </a:lnTo>
                          <a:lnTo>
                            <a:pt x="288" y="74"/>
                          </a:lnTo>
                          <a:lnTo>
                            <a:pt x="292" y="74"/>
                          </a:lnTo>
                          <a:lnTo>
                            <a:pt x="297" y="73"/>
                          </a:lnTo>
                          <a:lnTo>
                            <a:pt x="301" y="73"/>
                          </a:lnTo>
                          <a:lnTo>
                            <a:pt x="305" y="73"/>
                          </a:lnTo>
                          <a:lnTo>
                            <a:pt x="309" y="73"/>
                          </a:lnTo>
                          <a:lnTo>
                            <a:pt x="312" y="71"/>
                          </a:lnTo>
                          <a:lnTo>
                            <a:pt x="315" y="71"/>
                          </a:lnTo>
                          <a:lnTo>
                            <a:pt x="318" y="71"/>
                          </a:lnTo>
                          <a:lnTo>
                            <a:pt x="321" y="71"/>
                          </a:lnTo>
                          <a:lnTo>
                            <a:pt x="327" y="71"/>
                          </a:lnTo>
                          <a:lnTo>
                            <a:pt x="332" y="73"/>
                          </a:lnTo>
                          <a:lnTo>
                            <a:pt x="300" y="81"/>
                          </a:lnTo>
                          <a:lnTo>
                            <a:pt x="300" y="79"/>
                          </a:lnTo>
                          <a:lnTo>
                            <a:pt x="294" y="79"/>
                          </a:lnTo>
                          <a:lnTo>
                            <a:pt x="288" y="81"/>
                          </a:lnTo>
                          <a:lnTo>
                            <a:pt x="282" y="82"/>
                          </a:lnTo>
                          <a:lnTo>
                            <a:pt x="277" y="84"/>
                          </a:lnTo>
                          <a:lnTo>
                            <a:pt x="271" y="84"/>
                          </a:lnTo>
                          <a:lnTo>
                            <a:pt x="265" y="85"/>
                          </a:lnTo>
                          <a:lnTo>
                            <a:pt x="259" y="86"/>
                          </a:lnTo>
                          <a:lnTo>
                            <a:pt x="253" y="88"/>
                          </a:lnTo>
                          <a:lnTo>
                            <a:pt x="246" y="88"/>
                          </a:lnTo>
                          <a:lnTo>
                            <a:pt x="240" y="89"/>
                          </a:lnTo>
                          <a:lnTo>
                            <a:pt x="234" y="90"/>
                          </a:lnTo>
                          <a:lnTo>
                            <a:pt x="230" y="90"/>
                          </a:lnTo>
                          <a:lnTo>
                            <a:pt x="223" y="92"/>
                          </a:lnTo>
                          <a:lnTo>
                            <a:pt x="217" y="93"/>
                          </a:lnTo>
                          <a:lnTo>
                            <a:pt x="213" y="93"/>
                          </a:lnTo>
                          <a:lnTo>
                            <a:pt x="207" y="95"/>
                          </a:lnTo>
                          <a:lnTo>
                            <a:pt x="204" y="95"/>
                          </a:lnTo>
                          <a:lnTo>
                            <a:pt x="201" y="96"/>
                          </a:lnTo>
                          <a:lnTo>
                            <a:pt x="197" y="96"/>
                          </a:lnTo>
                          <a:lnTo>
                            <a:pt x="193" y="97"/>
                          </a:lnTo>
                          <a:lnTo>
                            <a:pt x="188" y="97"/>
                          </a:lnTo>
                          <a:lnTo>
                            <a:pt x="184" y="99"/>
                          </a:lnTo>
                          <a:lnTo>
                            <a:pt x="179" y="100"/>
                          </a:lnTo>
                          <a:lnTo>
                            <a:pt x="174" y="103"/>
                          </a:lnTo>
                          <a:lnTo>
                            <a:pt x="168" y="103"/>
                          </a:lnTo>
                          <a:lnTo>
                            <a:pt x="162" y="105"/>
                          </a:lnTo>
                          <a:lnTo>
                            <a:pt x="156" y="107"/>
                          </a:lnTo>
                          <a:lnTo>
                            <a:pt x="150" y="108"/>
                          </a:lnTo>
                          <a:lnTo>
                            <a:pt x="144" y="110"/>
                          </a:lnTo>
                          <a:lnTo>
                            <a:pt x="138" y="112"/>
                          </a:lnTo>
                          <a:lnTo>
                            <a:pt x="130" y="114"/>
                          </a:lnTo>
                          <a:lnTo>
                            <a:pt x="126" y="116"/>
                          </a:lnTo>
                          <a:lnTo>
                            <a:pt x="118" y="118"/>
                          </a:lnTo>
                          <a:lnTo>
                            <a:pt x="112" y="119"/>
                          </a:lnTo>
                          <a:lnTo>
                            <a:pt x="106" y="121"/>
                          </a:lnTo>
                          <a:lnTo>
                            <a:pt x="100" y="122"/>
                          </a:lnTo>
                          <a:lnTo>
                            <a:pt x="93" y="123"/>
                          </a:lnTo>
                          <a:lnTo>
                            <a:pt x="87" y="125"/>
                          </a:lnTo>
                          <a:lnTo>
                            <a:pt x="81" y="126"/>
                          </a:lnTo>
                          <a:lnTo>
                            <a:pt x="77" y="127"/>
                          </a:lnTo>
                          <a:lnTo>
                            <a:pt x="72" y="127"/>
                          </a:lnTo>
                          <a:lnTo>
                            <a:pt x="67" y="129"/>
                          </a:lnTo>
                          <a:lnTo>
                            <a:pt x="63" y="129"/>
                          </a:lnTo>
                          <a:lnTo>
                            <a:pt x="60" y="130"/>
                          </a:lnTo>
                          <a:lnTo>
                            <a:pt x="54" y="130"/>
                          </a:lnTo>
                          <a:lnTo>
                            <a:pt x="51" y="129"/>
                          </a:lnTo>
                          <a:lnTo>
                            <a:pt x="48" y="129"/>
                          </a:lnTo>
                          <a:lnTo>
                            <a:pt x="46" y="130"/>
                          </a:lnTo>
                          <a:lnTo>
                            <a:pt x="43" y="130"/>
                          </a:lnTo>
                          <a:lnTo>
                            <a:pt x="40" y="133"/>
                          </a:lnTo>
                          <a:lnTo>
                            <a:pt x="35" y="134"/>
                          </a:lnTo>
                          <a:lnTo>
                            <a:pt x="31" y="134"/>
                          </a:lnTo>
                          <a:lnTo>
                            <a:pt x="26" y="137"/>
                          </a:lnTo>
                          <a:lnTo>
                            <a:pt x="23" y="138"/>
                          </a:lnTo>
                          <a:lnTo>
                            <a:pt x="17" y="140"/>
                          </a:lnTo>
                          <a:lnTo>
                            <a:pt x="14" y="141"/>
                          </a:lnTo>
                          <a:lnTo>
                            <a:pt x="9" y="143"/>
                          </a:lnTo>
                          <a:lnTo>
                            <a:pt x="6" y="144"/>
                          </a:lnTo>
                          <a:lnTo>
                            <a:pt x="0" y="147"/>
                          </a:lnTo>
                          <a:lnTo>
                            <a:pt x="0" y="149"/>
                          </a:lnTo>
                          <a:lnTo>
                            <a:pt x="3" y="149"/>
                          </a:lnTo>
                          <a:lnTo>
                            <a:pt x="6" y="149"/>
                          </a:lnTo>
                          <a:lnTo>
                            <a:pt x="11" y="149"/>
                          </a:lnTo>
                          <a:lnTo>
                            <a:pt x="14" y="149"/>
                          </a:lnTo>
                          <a:lnTo>
                            <a:pt x="18" y="149"/>
                          </a:lnTo>
                          <a:lnTo>
                            <a:pt x="22" y="149"/>
                          </a:lnTo>
                          <a:lnTo>
                            <a:pt x="26" y="149"/>
                          </a:lnTo>
                          <a:lnTo>
                            <a:pt x="29" y="149"/>
                          </a:lnTo>
                          <a:lnTo>
                            <a:pt x="126" y="132"/>
                          </a:lnTo>
                          <a:lnTo>
                            <a:pt x="234" y="125"/>
                          </a:lnTo>
                          <a:lnTo>
                            <a:pt x="188" y="138"/>
                          </a:lnTo>
                          <a:lnTo>
                            <a:pt x="191" y="143"/>
                          </a:lnTo>
                          <a:lnTo>
                            <a:pt x="199" y="140"/>
                          </a:lnTo>
                          <a:lnTo>
                            <a:pt x="207" y="138"/>
                          </a:lnTo>
                          <a:lnTo>
                            <a:pt x="214" y="136"/>
                          </a:lnTo>
                          <a:lnTo>
                            <a:pt x="222" y="134"/>
                          </a:lnTo>
                          <a:lnTo>
                            <a:pt x="230" y="133"/>
                          </a:lnTo>
                          <a:lnTo>
                            <a:pt x="237" y="130"/>
                          </a:lnTo>
                          <a:lnTo>
                            <a:pt x="243" y="129"/>
                          </a:lnTo>
                          <a:lnTo>
                            <a:pt x="253" y="127"/>
                          </a:lnTo>
                          <a:lnTo>
                            <a:pt x="260" y="126"/>
                          </a:lnTo>
                          <a:lnTo>
                            <a:pt x="268" y="125"/>
                          </a:lnTo>
                          <a:lnTo>
                            <a:pt x="274" y="122"/>
                          </a:lnTo>
                          <a:lnTo>
                            <a:pt x="283" y="121"/>
                          </a:lnTo>
                          <a:lnTo>
                            <a:pt x="291" y="119"/>
                          </a:lnTo>
                          <a:lnTo>
                            <a:pt x="298" y="118"/>
                          </a:lnTo>
                          <a:lnTo>
                            <a:pt x="306" y="116"/>
                          </a:lnTo>
                          <a:lnTo>
                            <a:pt x="314" y="115"/>
                          </a:lnTo>
                          <a:lnTo>
                            <a:pt x="321" y="114"/>
                          </a:lnTo>
                          <a:lnTo>
                            <a:pt x="329" y="112"/>
                          </a:lnTo>
                          <a:lnTo>
                            <a:pt x="337" y="112"/>
                          </a:lnTo>
                          <a:lnTo>
                            <a:pt x="344" y="111"/>
                          </a:lnTo>
                          <a:lnTo>
                            <a:pt x="352" y="110"/>
                          </a:lnTo>
                          <a:lnTo>
                            <a:pt x="360" y="108"/>
                          </a:lnTo>
                          <a:lnTo>
                            <a:pt x="367" y="107"/>
                          </a:lnTo>
                          <a:lnTo>
                            <a:pt x="373" y="107"/>
                          </a:lnTo>
                          <a:lnTo>
                            <a:pt x="381" y="105"/>
                          </a:lnTo>
                          <a:lnTo>
                            <a:pt x="387" y="105"/>
                          </a:lnTo>
                          <a:lnTo>
                            <a:pt x="395" y="104"/>
                          </a:lnTo>
                          <a:lnTo>
                            <a:pt x="402" y="103"/>
                          </a:lnTo>
                          <a:lnTo>
                            <a:pt x="409" y="103"/>
                          </a:lnTo>
                          <a:lnTo>
                            <a:pt x="416" y="103"/>
                          </a:lnTo>
                          <a:lnTo>
                            <a:pt x="422" y="101"/>
                          </a:lnTo>
                          <a:lnTo>
                            <a:pt x="430" y="101"/>
                          </a:lnTo>
                          <a:lnTo>
                            <a:pt x="436" y="100"/>
                          </a:lnTo>
                          <a:lnTo>
                            <a:pt x="442" y="100"/>
                          </a:lnTo>
                          <a:lnTo>
                            <a:pt x="448" y="99"/>
                          </a:lnTo>
                          <a:lnTo>
                            <a:pt x="456" y="99"/>
                          </a:lnTo>
                          <a:lnTo>
                            <a:pt x="462" y="97"/>
                          </a:lnTo>
                          <a:lnTo>
                            <a:pt x="468" y="97"/>
                          </a:lnTo>
                          <a:lnTo>
                            <a:pt x="474" y="96"/>
                          </a:lnTo>
                          <a:lnTo>
                            <a:pt x="480" y="96"/>
                          </a:lnTo>
                          <a:lnTo>
                            <a:pt x="487" y="96"/>
                          </a:lnTo>
                          <a:lnTo>
                            <a:pt x="491" y="96"/>
                          </a:lnTo>
                          <a:lnTo>
                            <a:pt x="497" y="95"/>
                          </a:lnTo>
                          <a:lnTo>
                            <a:pt x="503" y="95"/>
                          </a:lnTo>
                          <a:lnTo>
                            <a:pt x="508" y="95"/>
                          </a:lnTo>
                          <a:lnTo>
                            <a:pt x="513" y="95"/>
                          </a:lnTo>
                          <a:lnTo>
                            <a:pt x="517" y="95"/>
                          </a:lnTo>
                          <a:lnTo>
                            <a:pt x="523" y="95"/>
                          </a:lnTo>
                          <a:lnTo>
                            <a:pt x="528" y="95"/>
                          </a:lnTo>
                          <a:lnTo>
                            <a:pt x="532" y="95"/>
                          </a:lnTo>
                          <a:lnTo>
                            <a:pt x="537" y="95"/>
                          </a:lnTo>
                          <a:lnTo>
                            <a:pt x="542" y="95"/>
                          </a:lnTo>
                          <a:lnTo>
                            <a:pt x="545" y="95"/>
                          </a:lnTo>
                          <a:lnTo>
                            <a:pt x="548" y="95"/>
                          </a:lnTo>
                          <a:lnTo>
                            <a:pt x="552" y="95"/>
                          </a:lnTo>
                          <a:lnTo>
                            <a:pt x="555" y="95"/>
                          </a:lnTo>
                          <a:lnTo>
                            <a:pt x="561" y="95"/>
                          </a:lnTo>
                          <a:lnTo>
                            <a:pt x="569" y="96"/>
                          </a:lnTo>
                          <a:lnTo>
                            <a:pt x="574" y="96"/>
                          </a:lnTo>
                          <a:lnTo>
                            <a:pt x="578" y="97"/>
                          </a:lnTo>
                          <a:lnTo>
                            <a:pt x="572" y="97"/>
                          </a:lnTo>
                          <a:lnTo>
                            <a:pt x="566" y="99"/>
                          </a:lnTo>
                          <a:lnTo>
                            <a:pt x="560" y="99"/>
                          </a:lnTo>
                          <a:lnTo>
                            <a:pt x="555" y="100"/>
                          </a:lnTo>
                          <a:lnTo>
                            <a:pt x="549" y="100"/>
                          </a:lnTo>
                          <a:lnTo>
                            <a:pt x="543" y="101"/>
                          </a:lnTo>
                          <a:lnTo>
                            <a:pt x="539" y="101"/>
                          </a:lnTo>
                          <a:lnTo>
                            <a:pt x="534" y="103"/>
                          </a:lnTo>
                          <a:lnTo>
                            <a:pt x="528" y="103"/>
                          </a:lnTo>
                          <a:lnTo>
                            <a:pt x="523" y="104"/>
                          </a:lnTo>
                          <a:lnTo>
                            <a:pt x="517" y="104"/>
                          </a:lnTo>
                          <a:lnTo>
                            <a:pt x="514" y="105"/>
                          </a:lnTo>
                          <a:lnTo>
                            <a:pt x="508" y="105"/>
                          </a:lnTo>
                          <a:lnTo>
                            <a:pt x="505" y="107"/>
                          </a:lnTo>
                          <a:lnTo>
                            <a:pt x="499" y="107"/>
                          </a:lnTo>
                          <a:lnTo>
                            <a:pt x="496" y="108"/>
                          </a:lnTo>
                          <a:lnTo>
                            <a:pt x="491" y="108"/>
                          </a:lnTo>
                          <a:lnTo>
                            <a:pt x="487" y="108"/>
                          </a:lnTo>
                          <a:lnTo>
                            <a:pt x="480" y="110"/>
                          </a:lnTo>
                          <a:lnTo>
                            <a:pt x="477" y="110"/>
                          </a:lnTo>
                          <a:lnTo>
                            <a:pt x="473" y="111"/>
                          </a:lnTo>
                          <a:lnTo>
                            <a:pt x="468" y="111"/>
                          </a:lnTo>
                          <a:lnTo>
                            <a:pt x="464" y="112"/>
                          </a:lnTo>
                          <a:lnTo>
                            <a:pt x="459" y="112"/>
                          </a:lnTo>
                          <a:lnTo>
                            <a:pt x="456" y="112"/>
                          </a:lnTo>
                          <a:lnTo>
                            <a:pt x="451" y="114"/>
                          </a:lnTo>
                          <a:lnTo>
                            <a:pt x="447" y="114"/>
                          </a:lnTo>
                          <a:lnTo>
                            <a:pt x="442" y="115"/>
                          </a:lnTo>
                          <a:lnTo>
                            <a:pt x="439" y="115"/>
                          </a:lnTo>
                          <a:lnTo>
                            <a:pt x="435" y="116"/>
                          </a:lnTo>
                          <a:lnTo>
                            <a:pt x="430" y="116"/>
                          </a:lnTo>
                          <a:lnTo>
                            <a:pt x="427" y="118"/>
                          </a:lnTo>
                          <a:lnTo>
                            <a:pt x="422" y="118"/>
                          </a:lnTo>
                          <a:lnTo>
                            <a:pt x="418" y="119"/>
                          </a:lnTo>
                          <a:lnTo>
                            <a:pt x="413" y="119"/>
                          </a:lnTo>
                          <a:lnTo>
                            <a:pt x="410" y="121"/>
                          </a:lnTo>
                          <a:lnTo>
                            <a:pt x="405" y="121"/>
                          </a:lnTo>
                          <a:lnTo>
                            <a:pt x="401" y="121"/>
                          </a:lnTo>
                          <a:lnTo>
                            <a:pt x="396" y="122"/>
                          </a:lnTo>
                          <a:lnTo>
                            <a:pt x="393" y="123"/>
                          </a:lnTo>
                          <a:lnTo>
                            <a:pt x="389" y="123"/>
                          </a:lnTo>
                          <a:lnTo>
                            <a:pt x="384" y="125"/>
                          </a:lnTo>
                          <a:lnTo>
                            <a:pt x="379" y="125"/>
                          </a:lnTo>
                          <a:lnTo>
                            <a:pt x="375" y="126"/>
                          </a:lnTo>
                          <a:lnTo>
                            <a:pt x="370" y="126"/>
                          </a:lnTo>
                          <a:lnTo>
                            <a:pt x="367" y="127"/>
                          </a:lnTo>
                          <a:lnTo>
                            <a:pt x="363" y="127"/>
                          </a:lnTo>
                          <a:lnTo>
                            <a:pt x="358" y="130"/>
                          </a:lnTo>
                          <a:lnTo>
                            <a:pt x="353" y="130"/>
                          </a:lnTo>
                          <a:lnTo>
                            <a:pt x="349" y="132"/>
                          </a:lnTo>
                          <a:lnTo>
                            <a:pt x="344" y="132"/>
                          </a:lnTo>
                          <a:lnTo>
                            <a:pt x="340" y="133"/>
                          </a:lnTo>
                          <a:lnTo>
                            <a:pt x="335" y="134"/>
                          </a:lnTo>
                          <a:lnTo>
                            <a:pt x="331" y="136"/>
                          </a:lnTo>
                          <a:lnTo>
                            <a:pt x="326" y="137"/>
                          </a:lnTo>
                          <a:lnTo>
                            <a:pt x="321" y="138"/>
                          </a:lnTo>
                          <a:lnTo>
                            <a:pt x="315" y="140"/>
                          </a:lnTo>
                          <a:lnTo>
                            <a:pt x="311" y="140"/>
                          </a:lnTo>
                          <a:lnTo>
                            <a:pt x="305" y="141"/>
                          </a:lnTo>
                          <a:lnTo>
                            <a:pt x="300" y="144"/>
                          </a:lnTo>
                          <a:lnTo>
                            <a:pt x="295" y="144"/>
                          </a:lnTo>
                          <a:lnTo>
                            <a:pt x="289" y="147"/>
                          </a:lnTo>
                          <a:lnTo>
                            <a:pt x="285" y="148"/>
                          </a:lnTo>
                          <a:lnTo>
                            <a:pt x="280" y="149"/>
                          </a:lnTo>
                          <a:lnTo>
                            <a:pt x="282" y="149"/>
                          </a:lnTo>
                          <a:lnTo>
                            <a:pt x="285" y="149"/>
                          </a:lnTo>
                          <a:lnTo>
                            <a:pt x="288" y="149"/>
                          </a:lnTo>
                          <a:lnTo>
                            <a:pt x="291" y="151"/>
                          </a:lnTo>
                          <a:lnTo>
                            <a:pt x="294" y="151"/>
                          </a:lnTo>
                          <a:lnTo>
                            <a:pt x="297" y="152"/>
                          </a:lnTo>
                          <a:lnTo>
                            <a:pt x="298" y="152"/>
                          </a:lnTo>
                          <a:lnTo>
                            <a:pt x="297" y="154"/>
                          </a:lnTo>
                          <a:lnTo>
                            <a:pt x="308" y="151"/>
                          </a:lnTo>
                          <a:lnTo>
                            <a:pt x="318" y="148"/>
                          </a:lnTo>
                          <a:lnTo>
                            <a:pt x="329" y="145"/>
                          </a:lnTo>
                          <a:lnTo>
                            <a:pt x="340" y="144"/>
                          </a:lnTo>
                          <a:lnTo>
                            <a:pt x="350" y="140"/>
                          </a:lnTo>
                          <a:lnTo>
                            <a:pt x="361" y="138"/>
                          </a:lnTo>
                          <a:lnTo>
                            <a:pt x="372" y="136"/>
                          </a:lnTo>
                          <a:lnTo>
                            <a:pt x="384" y="134"/>
                          </a:lnTo>
                          <a:lnTo>
                            <a:pt x="395" y="132"/>
                          </a:lnTo>
                          <a:lnTo>
                            <a:pt x="404" y="130"/>
                          </a:lnTo>
                          <a:lnTo>
                            <a:pt x="415" y="127"/>
                          </a:lnTo>
                          <a:lnTo>
                            <a:pt x="427" y="126"/>
                          </a:lnTo>
                          <a:lnTo>
                            <a:pt x="438" y="125"/>
                          </a:lnTo>
                          <a:lnTo>
                            <a:pt x="448" y="123"/>
                          </a:lnTo>
                          <a:lnTo>
                            <a:pt x="459" y="121"/>
                          </a:lnTo>
                          <a:lnTo>
                            <a:pt x="470" y="121"/>
                          </a:lnTo>
                          <a:lnTo>
                            <a:pt x="480" y="118"/>
                          </a:lnTo>
                          <a:lnTo>
                            <a:pt x="491" y="116"/>
                          </a:lnTo>
                          <a:lnTo>
                            <a:pt x="502" y="115"/>
                          </a:lnTo>
                          <a:lnTo>
                            <a:pt x="513" y="114"/>
                          </a:lnTo>
                          <a:lnTo>
                            <a:pt x="523" y="112"/>
                          </a:lnTo>
                          <a:lnTo>
                            <a:pt x="535" y="111"/>
                          </a:lnTo>
                          <a:lnTo>
                            <a:pt x="545" y="110"/>
                          </a:lnTo>
                          <a:lnTo>
                            <a:pt x="557" y="108"/>
                          </a:lnTo>
                          <a:lnTo>
                            <a:pt x="568" y="107"/>
                          </a:lnTo>
                          <a:lnTo>
                            <a:pt x="578" y="107"/>
                          </a:lnTo>
                          <a:lnTo>
                            <a:pt x="589" y="105"/>
                          </a:lnTo>
                          <a:lnTo>
                            <a:pt x="600" y="105"/>
                          </a:lnTo>
                          <a:lnTo>
                            <a:pt x="610" y="104"/>
                          </a:lnTo>
                          <a:lnTo>
                            <a:pt x="621" y="103"/>
                          </a:lnTo>
                          <a:lnTo>
                            <a:pt x="633" y="103"/>
                          </a:lnTo>
                          <a:lnTo>
                            <a:pt x="644" y="101"/>
                          </a:lnTo>
                          <a:lnTo>
                            <a:pt x="655" y="100"/>
                          </a:lnTo>
                          <a:lnTo>
                            <a:pt x="666" y="100"/>
                          </a:lnTo>
                          <a:lnTo>
                            <a:pt x="676" y="99"/>
                          </a:lnTo>
                          <a:lnTo>
                            <a:pt x="687" y="99"/>
                          </a:lnTo>
                          <a:lnTo>
                            <a:pt x="698" y="97"/>
                          </a:lnTo>
                          <a:lnTo>
                            <a:pt x="710" y="96"/>
                          </a:lnTo>
                          <a:lnTo>
                            <a:pt x="721" y="96"/>
                          </a:lnTo>
                          <a:lnTo>
                            <a:pt x="731" y="96"/>
                          </a:lnTo>
                          <a:lnTo>
                            <a:pt x="742" y="95"/>
                          </a:lnTo>
                          <a:lnTo>
                            <a:pt x="753" y="95"/>
                          </a:lnTo>
                          <a:lnTo>
                            <a:pt x="763" y="93"/>
                          </a:lnTo>
                          <a:lnTo>
                            <a:pt x="776" y="93"/>
                          </a:lnTo>
                          <a:lnTo>
                            <a:pt x="785" y="93"/>
                          </a:lnTo>
                          <a:lnTo>
                            <a:pt x="797" y="93"/>
                          </a:lnTo>
                          <a:lnTo>
                            <a:pt x="808" y="92"/>
                          </a:lnTo>
                          <a:lnTo>
                            <a:pt x="818" y="92"/>
                          </a:lnTo>
                          <a:lnTo>
                            <a:pt x="831" y="92"/>
                          </a:lnTo>
                          <a:lnTo>
                            <a:pt x="841" y="90"/>
                          </a:lnTo>
                          <a:lnTo>
                            <a:pt x="852" y="90"/>
                          </a:lnTo>
                          <a:lnTo>
                            <a:pt x="863" y="90"/>
                          </a:lnTo>
                          <a:lnTo>
                            <a:pt x="874" y="90"/>
                          </a:lnTo>
                          <a:lnTo>
                            <a:pt x="884" y="89"/>
                          </a:lnTo>
                          <a:lnTo>
                            <a:pt x="896" y="89"/>
                          </a:lnTo>
                          <a:lnTo>
                            <a:pt x="907" y="89"/>
                          </a:lnTo>
                          <a:lnTo>
                            <a:pt x="918" y="88"/>
                          </a:lnTo>
                          <a:lnTo>
                            <a:pt x="929" y="88"/>
                          </a:lnTo>
                          <a:lnTo>
                            <a:pt x="941" y="88"/>
                          </a:lnTo>
                          <a:lnTo>
                            <a:pt x="952" y="88"/>
                          </a:lnTo>
                          <a:lnTo>
                            <a:pt x="964" y="86"/>
                          </a:lnTo>
                          <a:lnTo>
                            <a:pt x="975" y="86"/>
                          </a:lnTo>
                          <a:lnTo>
                            <a:pt x="985" y="86"/>
                          </a:lnTo>
                          <a:lnTo>
                            <a:pt x="997" y="86"/>
                          </a:lnTo>
                          <a:lnTo>
                            <a:pt x="1002" y="86"/>
                          </a:lnTo>
                          <a:lnTo>
                            <a:pt x="1008" y="86"/>
                          </a:lnTo>
                          <a:lnTo>
                            <a:pt x="1013" y="86"/>
                          </a:lnTo>
                          <a:lnTo>
                            <a:pt x="1019" y="88"/>
                          </a:lnTo>
                          <a:lnTo>
                            <a:pt x="1023" y="88"/>
                          </a:lnTo>
                          <a:lnTo>
                            <a:pt x="1028" y="88"/>
                          </a:lnTo>
                          <a:lnTo>
                            <a:pt x="1034" y="88"/>
                          </a:lnTo>
                          <a:lnTo>
                            <a:pt x="1040" y="88"/>
                          </a:lnTo>
                          <a:lnTo>
                            <a:pt x="1045" y="88"/>
                          </a:lnTo>
                          <a:lnTo>
                            <a:pt x="1051" y="88"/>
                          </a:lnTo>
                          <a:lnTo>
                            <a:pt x="1056" y="89"/>
                          </a:lnTo>
                          <a:lnTo>
                            <a:pt x="1062" y="89"/>
                          </a:lnTo>
                          <a:lnTo>
                            <a:pt x="1066" y="89"/>
                          </a:lnTo>
                          <a:lnTo>
                            <a:pt x="1072" y="89"/>
                          </a:lnTo>
                          <a:lnTo>
                            <a:pt x="1079" y="90"/>
                          </a:lnTo>
                          <a:lnTo>
                            <a:pt x="1085" y="90"/>
                          </a:lnTo>
                          <a:lnTo>
                            <a:pt x="1089" y="90"/>
                          </a:lnTo>
                          <a:lnTo>
                            <a:pt x="1094" y="90"/>
                          </a:lnTo>
                          <a:lnTo>
                            <a:pt x="1100" y="90"/>
                          </a:lnTo>
                          <a:lnTo>
                            <a:pt x="1105" y="92"/>
                          </a:lnTo>
                          <a:lnTo>
                            <a:pt x="1111" y="92"/>
                          </a:lnTo>
                          <a:lnTo>
                            <a:pt x="1117" y="92"/>
                          </a:lnTo>
                          <a:lnTo>
                            <a:pt x="1121" y="92"/>
                          </a:lnTo>
                          <a:lnTo>
                            <a:pt x="1127" y="93"/>
                          </a:lnTo>
                          <a:lnTo>
                            <a:pt x="1132" y="93"/>
                          </a:lnTo>
                          <a:lnTo>
                            <a:pt x="1138" y="93"/>
                          </a:lnTo>
                          <a:lnTo>
                            <a:pt x="1143" y="93"/>
                          </a:lnTo>
                          <a:lnTo>
                            <a:pt x="1149" y="93"/>
                          </a:lnTo>
                          <a:lnTo>
                            <a:pt x="1155" y="93"/>
                          </a:lnTo>
                          <a:lnTo>
                            <a:pt x="1160" y="95"/>
                          </a:lnTo>
                          <a:lnTo>
                            <a:pt x="1166" y="95"/>
                          </a:lnTo>
                          <a:lnTo>
                            <a:pt x="1172" y="96"/>
                          </a:lnTo>
                          <a:lnTo>
                            <a:pt x="1176" y="96"/>
                          </a:lnTo>
                          <a:lnTo>
                            <a:pt x="1183" y="96"/>
                          </a:lnTo>
                          <a:lnTo>
                            <a:pt x="1187" y="96"/>
                          </a:lnTo>
                          <a:lnTo>
                            <a:pt x="1193" y="96"/>
                          </a:lnTo>
                          <a:lnTo>
                            <a:pt x="1198" y="96"/>
                          </a:lnTo>
                          <a:lnTo>
                            <a:pt x="1204" y="96"/>
                          </a:lnTo>
                          <a:lnTo>
                            <a:pt x="1210" y="97"/>
                          </a:lnTo>
                          <a:lnTo>
                            <a:pt x="1215" y="97"/>
                          </a:lnTo>
                          <a:lnTo>
                            <a:pt x="1221" y="97"/>
                          </a:lnTo>
                          <a:lnTo>
                            <a:pt x="1225" y="97"/>
                          </a:lnTo>
                          <a:lnTo>
                            <a:pt x="1231" y="97"/>
                          </a:lnTo>
                          <a:lnTo>
                            <a:pt x="1238" y="99"/>
                          </a:lnTo>
                          <a:lnTo>
                            <a:pt x="1242" y="99"/>
                          </a:lnTo>
                          <a:lnTo>
                            <a:pt x="1248" y="99"/>
                          </a:lnTo>
                          <a:lnTo>
                            <a:pt x="1254" y="100"/>
                          </a:lnTo>
                          <a:lnTo>
                            <a:pt x="1259" y="100"/>
                          </a:lnTo>
                          <a:lnTo>
                            <a:pt x="1265" y="100"/>
                          </a:lnTo>
                          <a:lnTo>
                            <a:pt x="1270" y="100"/>
                          </a:lnTo>
                          <a:lnTo>
                            <a:pt x="1276" y="100"/>
                          </a:lnTo>
                          <a:lnTo>
                            <a:pt x="1282" y="100"/>
                          </a:lnTo>
                          <a:lnTo>
                            <a:pt x="1287" y="100"/>
                          </a:lnTo>
                          <a:lnTo>
                            <a:pt x="1293" y="101"/>
                          </a:lnTo>
                          <a:lnTo>
                            <a:pt x="1297" y="101"/>
                          </a:lnTo>
                          <a:lnTo>
                            <a:pt x="1303" y="101"/>
                          </a:lnTo>
                          <a:lnTo>
                            <a:pt x="1309" y="101"/>
                          </a:lnTo>
                          <a:lnTo>
                            <a:pt x="1314" y="101"/>
                          </a:lnTo>
                          <a:lnTo>
                            <a:pt x="1320" y="103"/>
                          </a:lnTo>
                          <a:lnTo>
                            <a:pt x="1326" y="103"/>
                          </a:lnTo>
                          <a:lnTo>
                            <a:pt x="1331" y="103"/>
                          </a:lnTo>
                          <a:lnTo>
                            <a:pt x="1337" y="103"/>
                          </a:lnTo>
                          <a:lnTo>
                            <a:pt x="1343" y="103"/>
                          </a:lnTo>
                          <a:lnTo>
                            <a:pt x="1348" y="104"/>
                          </a:lnTo>
                          <a:lnTo>
                            <a:pt x="1288" y="118"/>
                          </a:lnTo>
                          <a:lnTo>
                            <a:pt x="1290" y="118"/>
                          </a:lnTo>
                          <a:lnTo>
                            <a:pt x="1293" y="118"/>
                          </a:lnTo>
                          <a:lnTo>
                            <a:pt x="1296" y="118"/>
                          </a:lnTo>
                          <a:lnTo>
                            <a:pt x="1299" y="118"/>
                          </a:lnTo>
                          <a:lnTo>
                            <a:pt x="1303" y="118"/>
                          </a:lnTo>
                          <a:lnTo>
                            <a:pt x="1308" y="118"/>
                          </a:lnTo>
                          <a:lnTo>
                            <a:pt x="1313" y="118"/>
                          </a:lnTo>
                          <a:lnTo>
                            <a:pt x="1319" y="118"/>
                          </a:lnTo>
                          <a:lnTo>
                            <a:pt x="1325" y="118"/>
                          </a:lnTo>
                          <a:lnTo>
                            <a:pt x="1331" y="118"/>
                          </a:lnTo>
                          <a:lnTo>
                            <a:pt x="1339" y="118"/>
                          </a:lnTo>
                          <a:lnTo>
                            <a:pt x="1346" y="119"/>
                          </a:lnTo>
                          <a:lnTo>
                            <a:pt x="1354" y="119"/>
                          </a:lnTo>
                          <a:lnTo>
                            <a:pt x="1362" y="119"/>
                          </a:lnTo>
                          <a:lnTo>
                            <a:pt x="1369" y="119"/>
                          </a:lnTo>
                          <a:lnTo>
                            <a:pt x="1378" y="121"/>
                          </a:lnTo>
                          <a:lnTo>
                            <a:pt x="1386" y="121"/>
                          </a:lnTo>
                          <a:lnTo>
                            <a:pt x="1395" y="121"/>
                          </a:lnTo>
                          <a:lnTo>
                            <a:pt x="1406" y="121"/>
                          </a:lnTo>
                          <a:lnTo>
                            <a:pt x="1415" y="121"/>
                          </a:lnTo>
                          <a:lnTo>
                            <a:pt x="1424" y="121"/>
                          </a:lnTo>
                          <a:lnTo>
                            <a:pt x="1435" y="121"/>
                          </a:lnTo>
                          <a:lnTo>
                            <a:pt x="1444" y="121"/>
                          </a:lnTo>
                          <a:lnTo>
                            <a:pt x="1456" y="121"/>
                          </a:lnTo>
                          <a:lnTo>
                            <a:pt x="1466" y="121"/>
                          </a:lnTo>
                          <a:lnTo>
                            <a:pt x="1476" y="121"/>
                          </a:lnTo>
                          <a:lnTo>
                            <a:pt x="1487" y="121"/>
                          </a:lnTo>
                          <a:lnTo>
                            <a:pt x="1498" y="121"/>
                          </a:lnTo>
                          <a:lnTo>
                            <a:pt x="1508" y="121"/>
                          </a:lnTo>
                          <a:lnTo>
                            <a:pt x="1519" y="121"/>
                          </a:lnTo>
                          <a:lnTo>
                            <a:pt x="1531" y="121"/>
                          </a:lnTo>
                          <a:lnTo>
                            <a:pt x="1542" y="121"/>
                          </a:lnTo>
                          <a:lnTo>
                            <a:pt x="1553" y="121"/>
                          </a:lnTo>
                          <a:lnTo>
                            <a:pt x="1563" y="121"/>
                          </a:lnTo>
                          <a:lnTo>
                            <a:pt x="1574" y="121"/>
                          </a:lnTo>
                          <a:lnTo>
                            <a:pt x="1585" y="121"/>
                          </a:lnTo>
                          <a:lnTo>
                            <a:pt x="1596" y="121"/>
                          </a:lnTo>
                          <a:lnTo>
                            <a:pt x="1605" y="121"/>
                          </a:lnTo>
                          <a:lnTo>
                            <a:pt x="1615" y="121"/>
                          </a:lnTo>
                          <a:lnTo>
                            <a:pt x="1626" y="121"/>
                          </a:lnTo>
                          <a:lnTo>
                            <a:pt x="1635" y="121"/>
                          </a:lnTo>
                          <a:lnTo>
                            <a:pt x="1646" y="121"/>
                          </a:lnTo>
                          <a:lnTo>
                            <a:pt x="1655" y="121"/>
                          </a:lnTo>
                          <a:lnTo>
                            <a:pt x="1666" y="121"/>
                          </a:lnTo>
                          <a:lnTo>
                            <a:pt x="1674" y="121"/>
                          </a:lnTo>
                          <a:lnTo>
                            <a:pt x="1684" y="121"/>
                          </a:lnTo>
                          <a:lnTo>
                            <a:pt x="1692" y="121"/>
                          </a:lnTo>
                          <a:lnTo>
                            <a:pt x="1701" y="121"/>
                          </a:lnTo>
                          <a:lnTo>
                            <a:pt x="1709" y="121"/>
                          </a:lnTo>
                          <a:lnTo>
                            <a:pt x="1716" y="121"/>
                          </a:lnTo>
                          <a:lnTo>
                            <a:pt x="1723" y="119"/>
                          </a:lnTo>
                          <a:lnTo>
                            <a:pt x="1730" y="119"/>
                          </a:lnTo>
                          <a:lnTo>
                            <a:pt x="1736" y="119"/>
                          </a:lnTo>
                          <a:lnTo>
                            <a:pt x="1744" y="119"/>
                          </a:lnTo>
                          <a:lnTo>
                            <a:pt x="1749" y="119"/>
                          </a:lnTo>
                          <a:lnTo>
                            <a:pt x="1755" y="119"/>
                          </a:lnTo>
                          <a:lnTo>
                            <a:pt x="1759" y="118"/>
                          </a:lnTo>
                          <a:lnTo>
                            <a:pt x="1764" y="118"/>
                          </a:lnTo>
                          <a:lnTo>
                            <a:pt x="1767" y="118"/>
                          </a:lnTo>
                          <a:lnTo>
                            <a:pt x="1771" y="118"/>
                          </a:lnTo>
                          <a:lnTo>
                            <a:pt x="1776" y="118"/>
                          </a:lnTo>
                          <a:lnTo>
                            <a:pt x="1779" y="118"/>
                          </a:lnTo>
                          <a:lnTo>
                            <a:pt x="1775" y="116"/>
                          </a:lnTo>
                          <a:lnTo>
                            <a:pt x="1770" y="115"/>
                          </a:lnTo>
                          <a:lnTo>
                            <a:pt x="1765" y="115"/>
                          </a:lnTo>
                          <a:lnTo>
                            <a:pt x="1762" y="114"/>
                          </a:lnTo>
                          <a:lnTo>
                            <a:pt x="1758" y="114"/>
                          </a:lnTo>
                          <a:lnTo>
                            <a:pt x="1753" y="112"/>
                          </a:lnTo>
                          <a:lnTo>
                            <a:pt x="1749" y="112"/>
                          </a:lnTo>
                          <a:lnTo>
                            <a:pt x="1745" y="112"/>
                          </a:lnTo>
                          <a:lnTo>
                            <a:pt x="1741" y="112"/>
                          </a:lnTo>
                          <a:lnTo>
                            <a:pt x="1736" y="111"/>
                          </a:lnTo>
                          <a:lnTo>
                            <a:pt x="1732" y="111"/>
                          </a:lnTo>
                          <a:lnTo>
                            <a:pt x="1729" y="111"/>
                          </a:lnTo>
                          <a:lnTo>
                            <a:pt x="1724" y="111"/>
                          </a:lnTo>
                          <a:lnTo>
                            <a:pt x="1719" y="111"/>
                          </a:lnTo>
                          <a:lnTo>
                            <a:pt x="1715" y="111"/>
                          </a:lnTo>
                          <a:lnTo>
                            <a:pt x="1712" y="111"/>
                          </a:lnTo>
                          <a:lnTo>
                            <a:pt x="1707" y="110"/>
                          </a:lnTo>
                          <a:lnTo>
                            <a:pt x="1703" y="110"/>
                          </a:lnTo>
                          <a:lnTo>
                            <a:pt x="1698" y="110"/>
                          </a:lnTo>
                          <a:lnTo>
                            <a:pt x="1693" y="110"/>
                          </a:lnTo>
                          <a:lnTo>
                            <a:pt x="1687" y="108"/>
                          </a:lnTo>
                          <a:lnTo>
                            <a:pt x="1683" y="108"/>
                          </a:lnTo>
                          <a:lnTo>
                            <a:pt x="1678" y="108"/>
                          </a:lnTo>
                          <a:lnTo>
                            <a:pt x="1674" y="108"/>
                          </a:lnTo>
                          <a:lnTo>
                            <a:pt x="1667" y="108"/>
                          </a:lnTo>
                          <a:lnTo>
                            <a:pt x="1663" y="108"/>
                          </a:lnTo>
                          <a:lnTo>
                            <a:pt x="1657" y="107"/>
                          </a:lnTo>
                          <a:lnTo>
                            <a:pt x="1652" y="107"/>
                          </a:lnTo>
                          <a:lnTo>
                            <a:pt x="1648" y="107"/>
                          </a:lnTo>
                          <a:lnTo>
                            <a:pt x="1643" y="107"/>
                          </a:lnTo>
                          <a:lnTo>
                            <a:pt x="1640" y="108"/>
                          </a:lnTo>
                          <a:lnTo>
                            <a:pt x="1635" y="108"/>
                          </a:lnTo>
                          <a:lnTo>
                            <a:pt x="1640" y="107"/>
                          </a:lnTo>
                          <a:lnTo>
                            <a:pt x="1643" y="104"/>
                          </a:lnTo>
                          <a:lnTo>
                            <a:pt x="1649" y="103"/>
                          </a:lnTo>
                          <a:lnTo>
                            <a:pt x="1655" y="103"/>
                          </a:lnTo>
                          <a:lnTo>
                            <a:pt x="1660" y="101"/>
                          </a:lnTo>
                          <a:lnTo>
                            <a:pt x="1666" y="100"/>
                          </a:lnTo>
                          <a:lnTo>
                            <a:pt x="1672" y="100"/>
                          </a:lnTo>
                          <a:lnTo>
                            <a:pt x="1678" y="99"/>
                          </a:lnTo>
                          <a:lnTo>
                            <a:pt x="1683" y="97"/>
                          </a:lnTo>
                          <a:lnTo>
                            <a:pt x="1689" y="97"/>
                          </a:lnTo>
                          <a:lnTo>
                            <a:pt x="1687" y="96"/>
                          </a:lnTo>
                          <a:lnTo>
                            <a:pt x="1683" y="96"/>
                          </a:lnTo>
                          <a:lnTo>
                            <a:pt x="1680" y="96"/>
                          </a:lnTo>
                          <a:lnTo>
                            <a:pt x="1677" y="96"/>
                          </a:lnTo>
                          <a:lnTo>
                            <a:pt x="1674" y="96"/>
                          </a:lnTo>
                          <a:lnTo>
                            <a:pt x="1669" y="96"/>
                          </a:lnTo>
                          <a:lnTo>
                            <a:pt x="1664" y="96"/>
                          </a:lnTo>
                          <a:lnTo>
                            <a:pt x="1660" y="96"/>
                          </a:lnTo>
                          <a:lnTo>
                            <a:pt x="1655" y="96"/>
                          </a:lnTo>
                          <a:lnTo>
                            <a:pt x="1649" y="96"/>
                          </a:lnTo>
                          <a:lnTo>
                            <a:pt x="1644" y="96"/>
                          </a:lnTo>
                          <a:lnTo>
                            <a:pt x="1638" y="96"/>
                          </a:lnTo>
                          <a:lnTo>
                            <a:pt x="1632" y="96"/>
                          </a:lnTo>
                          <a:lnTo>
                            <a:pt x="1628" y="97"/>
                          </a:lnTo>
                          <a:lnTo>
                            <a:pt x="1622" y="97"/>
                          </a:lnTo>
                          <a:lnTo>
                            <a:pt x="1615" y="97"/>
                          </a:lnTo>
                          <a:lnTo>
                            <a:pt x="1609" y="97"/>
                          </a:lnTo>
                          <a:lnTo>
                            <a:pt x="1605" y="97"/>
                          </a:lnTo>
                          <a:lnTo>
                            <a:pt x="1599" y="97"/>
                          </a:lnTo>
                          <a:lnTo>
                            <a:pt x="1592" y="97"/>
                          </a:lnTo>
                          <a:lnTo>
                            <a:pt x="1588" y="97"/>
                          </a:lnTo>
                          <a:lnTo>
                            <a:pt x="1583" y="99"/>
                          </a:lnTo>
                          <a:lnTo>
                            <a:pt x="1577" y="99"/>
                          </a:lnTo>
                          <a:lnTo>
                            <a:pt x="1573" y="99"/>
                          </a:lnTo>
                          <a:lnTo>
                            <a:pt x="1570" y="99"/>
                          </a:lnTo>
                          <a:lnTo>
                            <a:pt x="1565" y="99"/>
                          </a:lnTo>
                          <a:lnTo>
                            <a:pt x="1559" y="99"/>
                          </a:lnTo>
                          <a:lnTo>
                            <a:pt x="1556" y="100"/>
                          </a:lnTo>
                          <a:lnTo>
                            <a:pt x="1559" y="97"/>
                          </a:lnTo>
                          <a:lnTo>
                            <a:pt x="1565" y="95"/>
                          </a:lnTo>
                          <a:lnTo>
                            <a:pt x="1566" y="93"/>
                          </a:lnTo>
                          <a:lnTo>
                            <a:pt x="1570" y="93"/>
                          </a:lnTo>
                          <a:lnTo>
                            <a:pt x="1573" y="92"/>
                          </a:lnTo>
                          <a:lnTo>
                            <a:pt x="1577" y="92"/>
                          </a:lnTo>
                          <a:lnTo>
                            <a:pt x="1580" y="90"/>
                          </a:lnTo>
                          <a:lnTo>
                            <a:pt x="1583" y="90"/>
                          </a:lnTo>
                          <a:lnTo>
                            <a:pt x="1588" y="89"/>
                          </a:lnTo>
                          <a:lnTo>
                            <a:pt x="1591" y="89"/>
                          </a:lnTo>
                          <a:lnTo>
                            <a:pt x="1596" y="89"/>
                          </a:lnTo>
                          <a:lnTo>
                            <a:pt x="1600" y="88"/>
                          </a:lnTo>
                          <a:lnTo>
                            <a:pt x="1605" y="88"/>
                          </a:lnTo>
                          <a:lnTo>
                            <a:pt x="1609" y="88"/>
                          </a:lnTo>
                          <a:lnTo>
                            <a:pt x="1614" y="88"/>
                          </a:lnTo>
                          <a:lnTo>
                            <a:pt x="1618" y="86"/>
                          </a:lnTo>
                          <a:lnTo>
                            <a:pt x="1623" y="86"/>
                          </a:lnTo>
                          <a:lnTo>
                            <a:pt x="1629" y="86"/>
                          </a:lnTo>
                          <a:lnTo>
                            <a:pt x="1634" y="85"/>
                          </a:lnTo>
                          <a:lnTo>
                            <a:pt x="1640" y="85"/>
                          </a:lnTo>
                          <a:lnTo>
                            <a:pt x="1646" y="85"/>
                          </a:lnTo>
                          <a:lnTo>
                            <a:pt x="1651" y="85"/>
                          </a:lnTo>
                          <a:lnTo>
                            <a:pt x="1657" y="85"/>
                          </a:lnTo>
                          <a:lnTo>
                            <a:pt x="1663" y="85"/>
                          </a:lnTo>
                          <a:lnTo>
                            <a:pt x="1667" y="85"/>
                          </a:lnTo>
                          <a:lnTo>
                            <a:pt x="1674" y="85"/>
                          </a:lnTo>
                          <a:lnTo>
                            <a:pt x="1680" y="85"/>
                          </a:lnTo>
                          <a:lnTo>
                            <a:pt x="1686" y="85"/>
                          </a:lnTo>
                          <a:lnTo>
                            <a:pt x="1692" y="85"/>
                          </a:lnTo>
                          <a:lnTo>
                            <a:pt x="1698" y="85"/>
                          </a:lnTo>
                          <a:lnTo>
                            <a:pt x="1704" y="84"/>
                          </a:lnTo>
                          <a:lnTo>
                            <a:pt x="1709" y="84"/>
                          </a:lnTo>
                          <a:lnTo>
                            <a:pt x="1715" y="84"/>
                          </a:lnTo>
                          <a:lnTo>
                            <a:pt x="1723" y="84"/>
                          </a:lnTo>
                          <a:lnTo>
                            <a:pt x="1727" y="84"/>
                          </a:lnTo>
                          <a:lnTo>
                            <a:pt x="1733" y="84"/>
                          </a:lnTo>
                          <a:lnTo>
                            <a:pt x="1739" y="84"/>
                          </a:lnTo>
                          <a:lnTo>
                            <a:pt x="1745" y="84"/>
                          </a:lnTo>
                          <a:lnTo>
                            <a:pt x="1752" y="84"/>
                          </a:lnTo>
                          <a:lnTo>
                            <a:pt x="1758" y="84"/>
                          </a:lnTo>
                          <a:lnTo>
                            <a:pt x="1762" y="84"/>
                          </a:lnTo>
                          <a:lnTo>
                            <a:pt x="1770" y="84"/>
                          </a:lnTo>
                          <a:lnTo>
                            <a:pt x="1775" y="84"/>
                          </a:lnTo>
                          <a:lnTo>
                            <a:pt x="1781" y="84"/>
                          </a:lnTo>
                          <a:lnTo>
                            <a:pt x="1787" y="84"/>
                          </a:lnTo>
                          <a:lnTo>
                            <a:pt x="1793" y="85"/>
                          </a:lnTo>
                          <a:lnTo>
                            <a:pt x="1797" y="84"/>
                          </a:lnTo>
                          <a:lnTo>
                            <a:pt x="1804" y="84"/>
                          </a:lnTo>
                          <a:lnTo>
                            <a:pt x="1810" y="84"/>
                          </a:lnTo>
                          <a:lnTo>
                            <a:pt x="1814" y="84"/>
                          </a:lnTo>
                          <a:lnTo>
                            <a:pt x="1820" y="84"/>
                          </a:lnTo>
                          <a:lnTo>
                            <a:pt x="1825" y="84"/>
                          </a:lnTo>
                          <a:lnTo>
                            <a:pt x="1830" y="84"/>
                          </a:lnTo>
                          <a:lnTo>
                            <a:pt x="1836" y="84"/>
                          </a:lnTo>
                          <a:lnTo>
                            <a:pt x="1840" y="84"/>
                          </a:lnTo>
                          <a:lnTo>
                            <a:pt x="1845" y="84"/>
                          </a:lnTo>
                          <a:lnTo>
                            <a:pt x="1849" y="84"/>
                          </a:lnTo>
                          <a:lnTo>
                            <a:pt x="1854" y="84"/>
                          </a:lnTo>
                          <a:lnTo>
                            <a:pt x="1859" y="84"/>
                          </a:lnTo>
                          <a:lnTo>
                            <a:pt x="1862" y="84"/>
                          </a:lnTo>
                          <a:lnTo>
                            <a:pt x="1866" y="84"/>
                          </a:lnTo>
                          <a:lnTo>
                            <a:pt x="1871" y="84"/>
                          </a:lnTo>
                          <a:lnTo>
                            <a:pt x="1868" y="81"/>
                          </a:lnTo>
                          <a:lnTo>
                            <a:pt x="1863" y="79"/>
                          </a:lnTo>
                          <a:lnTo>
                            <a:pt x="1860" y="78"/>
                          </a:lnTo>
                          <a:lnTo>
                            <a:pt x="1856" y="75"/>
                          </a:lnTo>
                          <a:lnTo>
                            <a:pt x="1853" y="74"/>
                          </a:lnTo>
                          <a:lnTo>
                            <a:pt x="1848" y="74"/>
                          </a:lnTo>
                          <a:lnTo>
                            <a:pt x="1845" y="74"/>
                          </a:lnTo>
                          <a:lnTo>
                            <a:pt x="1842" y="74"/>
                          </a:lnTo>
                          <a:lnTo>
                            <a:pt x="1839" y="73"/>
                          </a:lnTo>
                          <a:lnTo>
                            <a:pt x="1836" y="73"/>
                          </a:lnTo>
                          <a:lnTo>
                            <a:pt x="1831" y="73"/>
                          </a:lnTo>
                          <a:lnTo>
                            <a:pt x="1828" y="73"/>
                          </a:lnTo>
                          <a:lnTo>
                            <a:pt x="1822" y="73"/>
                          </a:lnTo>
                          <a:lnTo>
                            <a:pt x="1814" y="71"/>
                          </a:lnTo>
                          <a:lnTo>
                            <a:pt x="1808" y="71"/>
                          </a:lnTo>
                          <a:lnTo>
                            <a:pt x="1802" y="71"/>
                          </a:lnTo>
                          <a:lnTo>
                            <a:pt x="1794" y="70"/>
                          </a:lnTo>
                          <a:lnTo>
                            <a:pt x="1788" y="70"/>
                          </a:lnTo>
                          <a:lnTo>
                            <a:pt x="1782" y="68"/>
                          </a:lnTo>
                          <a:lnTo>
                            <a:pt x="1776" y="68"/>
                          </a:lnTo>
                          <a:lnTo>
                            <a:pt x="1768" y="68"/>
                          </a:lnTo>
                          <a:lnTo>
                            <a:pt x="1762" y="68"/>
                          </a:lnTo>
                          <a:lnTo>
                            <a:pt x="1756" y="67"/>
                          </a:lnTo>
                          <a:lnTo>
                            <a:pt x="1749" y="67"/>
                          </a:lnTo>
                          <a:lnTo>
                            <a:pt x="1742" y="66"/>
                          </a:lnTo>
                          <a:lnTo>
                            <a:pt x="1736" y="66"/>
                          </a:lnTo>
                          <a:lnTo>
                            <a:pt x="1729" y="66"/>
                          </a:lnTo>
                          <a:lnTo>
                            <a:pt x="1723" y="66"/>
                          </a:lnTo>
                          <a:lnTo>
                            <a:pt x="1716" y="64"/>
                          </a:lnTo>
                          <a:lnTo>
                            <a:pt x="1710" y="64"/>
                          </a:lnTo>
                          <a:lnTo>
                            <a:pt x="1703" y="64"/>
                          </a:lnTo>
                          <a:lnTo>
                            <a:pt x="1696" y="64"/>
                          </a:lnTo>
                          <a:lnTo>
                            <a:pt x="1693" y="63"/>
                          </a:lnTo>
                          <a:lnTo>
                            <a:pt x="1690" y="63"/>
                          </a:lnTo>
                          <a:lnTo>
                            <a:pt x="1686" y="63"/>
                          </a:lnTo>
                          <a:lnTo>
                            <a:pt x="1683" y="63"/>
                          </a:lnTo>
                          <a:lnTo>
                            <a:pt x="1677" y="63"/>
                          </a:lnTo>
                          <a:lnTo>
                            <a:pt x="1670" y="63"/>
                          </a:lnTo>
                          <a:lnTo>
                            <a:pt x="1663" y="63"/>
                          </a:lnTo>
                          <a:lnTo>
                            <a:pt x="1657" y="64"/>
                          </a:lnTo>
                          <a:lnTo>
                            <a:pt x="1649" y="64"/>
                          </a:lnTo>
                          <a:lnTo>
                            <a:pt x="1643" y="66"/>
                          </a:lnTo>
                          <a:lnTo>
                            <a:pt x="1638" y="64"/>
                          </a:lnTo>
                          <a:lnTo>
                            <a:pt x="1632" y="64"/>
                          </a:lnTo>
                          <a:lnTo>
                            <a:pt x="1628" y="63"/>
                          </a:lnTo>
                          <a:lnTo>
                            <a:pt x="1622" y="63"/>
                          </a:lnTo>
                          <a:lnTo>
                            <a:pt x="1617" y="63"/>
                          </a:lnTo>
                          <a:lnTo>
                            <a:pt x="1612" y="63"/>
                          </a:lnTo>
                          <a:lnTo>
                            <a:pt x="1606" y="62"/>
                          </a:lnTo>
                          <a:lnTo>
                            <a:pt x="1602" y="62"/>
                          </a:lnTo>
                          <a:lnTo>
                            <a:pt x="1596" y="62"/>
                          </a:lnTo>
                          <a:lnTo>
                            <a:pt x="1591" y="60"/>
                          </a:lnTo>
                          <a:lnTo>
                            <a:pt x="1586" y="60"/>
                          </a:lnTo>
                          <a:lnTo>
                            <a:pt x="1582" y="60"/>
                          </a:lnTo>
                          <a:lnTo>
                            <a:pt x="1576" y="59"/>
                          </a:lnTo>
                          <a:lnTo>
                            <a:pt x="1571" y="59"/>
                          </a:lnTo>
                          <a:lnTo>
                            <a:pt x="1565" y="59"/>
                          </a:lnTo>
                          <a:lnTo>
                            <a:pt x="1560" y="59"/>
                          </a:lnTo>
                          <a:lnTo>
                            <a:pt x="1565" y="57"/>
                          </a:lnTo>
                          <a:lnTo>
                            <a:pt x="1568" y="56"/>
                          </a:lnTo>
                          <a:lnTo>
                            <a:pt x="1573" y="56"/>
                          </a:lnTo>
                          <a:lnTo>
                            <a:pt x="1577" y="56"/>
                          </a:lnTo>
                          <a:lnTo>
                            <a:pt x="1582" y="55"/>
                          </a:lnTo>
                          <a:lnTo>
                            <a:pt x="1585" y="55"/>
                          </a:lnTo>
                          <a:lnTo>
                            <a:pt x="1589" y="55"/>
                          </a:lnTo>
                          <a:lnTo>
                            <a:pt x="1594" y="55"/>
                          </a:lnTo>
                          <a:lnTo>
                            <a:pt x="1599" y="53"/>
                          </a:lnTo>
                          <a:lnTo>
                            <a:pt x="1602" y="53"/>
                          </a:lnTo>
                          <a:lnTo>
                            <a:pt x="1606" y="53"/>
                          </a:lnTo>
                          <a:lnTo>
                            <a:pt x="1611" y="53"/>
                          </a:lnTo>
                          <a:lnTo>
                            <a:pt x="1615" y="53"/>
                          </a:lnTo>
                          <a:lnTo>
                            <a:pt x="1618" y="53"/>
                          </a:lnTo>
                          <a:lnTo>
                            <a:pt x="1623" y="53"/>
                          </a:lnTo>
                          <a:lnTo>
                            <a:pt x="1629" y="53"/>
                          </a:lnTo>
                          <a:lnTo>
                            <a:pt x="1632" y="53"/>
                          </a:lnTo>
                          <a:lnTo>
                            <a:pt x="1637" y="53"/>
                          </a:lnTo>
                          <a:lnTo>
                            <a:pt x="1641" y="53"/>
                          </a:lnTo>
                          <a:lnTo>
                            <a:pt x="1646" y="53"/>
                          </a:lnTo>
                          <a:lnTo>
                            <a:pt x="1649" y="53"/>
                          </a:lnTo>
                          <a:lnTo>
                            <a:pt x="1654" y="53"/>
                          </a:lnTo>
                          <a:lnTo>
                            <a:pt x="1658" y="53"/>
                          </a:lnTo>
                          <a:lnTo>
                            <a:pt x="1663" y="53"/>
                          </a:lnTo>
                          <a:lnTo>
                            <a:pt x="1667" y="53"/>
                          </a:lnTo>
                          <a:lnTo>
                            <a:pt x="1672" y="53"/>
                          </a:lnTo>
                          <a:lnTo>
                            <a:pt x="1677" y="53"/>
                          </a:lnTo>
                          <a:lnTo>
                            <a:pt x="1681" y="53"/>
                          </a:lnTo>
                          <a:lnTo>
                            <a:pt x="1686" y="53"/>
                          </a:lnTo>
                          <a:lnTo>
                            <a:pt x="1690" y="55"/>
                          </a:lnTo>
                          <a:lnTo>
                            <a:pt x="1695" y="55"/>
                          </a:lnTo>
                          <a:lnTo>
                            <a:pt x="1700" y="55"/>
                          </a:lnTo>
                          <a:lnTo>
                            <a:pt x="1703" y="55"/>
                          </a:lnTo>
                          <a:lnTo>
                            <a:pt x="1707" y="55"/>
                          </a:lnTo>
                          <a:lnTo>
                            <a:pt x="1712" y="55"/>
                          </a:lnTo>
                          <a:lnTo>
                            <a:pt x="1716" y="56"/>
                          </a:lnTo>
                          <a:lnTo>
                            <a:pt x="1721" y="56"/>
                          </a:lnTo>
                          <a:lnTo>
                            <a:pt x="1726" y="56"/>
                          </a:lnTo>
                          <a:lnTo>
                            <a:pt x="1729" y="56"/>
                          </a:lnTo>
                          <a:lnTo>
                            <a:pt x="1735" y="56"/>
                          </a:lnTo>
                          <a:lnTo>
                            <a:pt x="1738" y="56"/>
                          </a:lnTo>
                          <a:lnTo>
                            <a:pt x="1742" y="56"/>
                          </a:lnTo>
                          <a:lnTo>
                            <a:pt x="1747" y="56"/>
                          </a:lnTo>
                          <a:lnTo>
                            <a:pt x="1752" y="56"/>
                          </a:lnTo>
                          <a:lnTo>
                            <a:pt x="1756" y="56"/>
                          </a:lnTo>
                          <a:lnTo>
                            <a:pt x="1761" y="56"/>
                          </a:lnTo>
                          <a:lnTo>
                            <a:pt x="1765" y="56"/>
                          </a:lnTo>
                          <a:lnTo>
                            <a:pt x="1770" y="57"/>
                          </a:lnTo>
                          <a:lnTo>
                            <a:pt x="1773" y="56"/>
                          </a:lnTo>
                          <a:lnTo>
                            <a:pt x="1778" y="56"/>
                          </a:lnTo>
                          <a:lnTo>
                            <a:pt x="1782" y="56"/>
                          </a:lnTo>
                          <a:lnTo>
                            <a:pt x="1787" y="56"/>
                          </a:lnTo>
                          <a:lnTo>
                            <a:pt x="1791" y="56"/>
                          </a:lnTo>
                          <a:lnTo>
                            <a:pt x="1796" y="56"/>
                          </a:lnTo>
                          <a:lnTo>
                            <a:pt x="1801" y="56"/>
                          </a:lnTo>
                          <a:lnTo>
                            <a:pt x="1805" y="56"/>
                          </a:lnTo>
                          <a:lnTo>
                            <a:pt x="1808" y="56"/>
                          </a:lnTo>
                          <a:lnTo>
                            <a:pt x="1814" y="56"/>
                          </a:lnTo>
                          <a:lnTo>
                            <a:pt x="1817" y="55"/>
                          </a:lnTo>
                          <a:lnTo>
                            <a:pt x="1822" y="55"/>
                          </a:lnTo>
                          <a:lnTo>
                            <a:pt x="1827" y="55"/>
                          </a:lnTo>
                          <a:lnTo>
                            <a:pt x="1831" y="55"/>
                          </a:lnTo>
                          <a:lnTo>
                            <a:pt x="1836" y="53"/>
                          </a:lnTo>
                          <a:lnTo>
                            <a:pt x="1840" y="53"/>
                          </a:lnTo>
                          <a:lnTo>
                            <a:pt x="1845" y="53"/>
                          </a:lnTo>
                          <a:lnTo>
                            <a:pt x="1851" y="52"/>
                          </a:lnTo>
                          <a:lnTo>
                            <a:pt x="1856" y="52"/>
                          </a:lnTo>
                          <a:lnTo>
                            <a:pt x="1859" y="51"/>
                          </a:lnTo>
                          <a:lnTo>
                            <a:pt x="1863" y="49"/>
                          </a:lnTo>
                          <a:lnTo>
                            <a:pt x="1866" y="48"/>
                          </a:lnTo>
                          <a:lnTo>
                            <a:pt x="1865" y="46"/>
                          </a:lnTo>
                          <a:lnTo>
                            <a:pt x="1863" y="46"/>
                          </a:lnTo>
                          <a:lnTo>
                            <a:pt x="1860" y="46"/>
                          </a:lnTo>
                          <a:lnTo>
                            <a:pt x="1857" y="45"/>
                          </a:lnTo>
                          <a:lnTo>
                            <a:pt x="1853" y="45"/>
                          </a:lnTo>
                          <a:lnTo>
                            <a:pt x="1848" y="45"/>
                          </a:lnTo>
                          <a:lnTo>
                            <a:pt x="1845" y="45"/>
                          </a:lnTo>
                          <a:lnTo>
                            <a:pt x="1842" y="45"/>
                          </a:lnTo>
                          <a:lnTo>
                            <a:pt x="1839" y="45"/>
                          </a:lnTo>
                          <a:lnTo>
                            <a:pt x="1836" y="45"/>
                          </a:lnTo>
                          <a:lnTo>
                            <a:pt x="1739" y="41"/>
                          </a:lnTo>
                          <a:lnTo>
                            <a:pt x="1723" y="31"/>
                          </a:lnTo>
                          <a:lnTo>
                            <a:pt x="1718" y="33"/>
                          </a:lnTo>
                          <a:lnTo>
                            <a:pt x="1713" y="33"/>
                          </a:lnTo>
                          <a:lnTo>
                            <a:pt x="1709" y="34"/>
                          </a:lnTo>
                          <a:lnTo>
                            <a:pt x="1704" y="34"/>
                          </a:lnTo>
                          <a:lnTo>
                            <a:pt x="1698" y="34"/>
                          </a:lnTo>
                          <a:lnTo>
                            <a:pt x="1689" y="34"/>
                          </a:lnTo>
                          <a:lnTo>
                            <a:pt x="1681" y="34"/>
                          </a:lnTo>
                          <a:lnTo>
                            <a:pt x="1672" y="34"/>
                          </a:lnTo>
                          <a:lnTo>
                            <a:pt x="1663" y="34"/>
                          </a:lnTo>
                          <a:lnTo>
                            <a:pt x="1651" y="34"/>
                          </a:lnTo>
                          <a:lnTo>
                            <a:pt x="1640" y="34"/>
                          </a:lnTo>
                          <a:lnTo>
                            <a:pt x="1628" y="33"/>
                          </a:lnTo>
                          <a:lnTo>
                            <a:pt x="1615" y="33"/>
                          </a:lnTo>
                          <a:lnTo>
                            <a:pt x="1602" y="31"/>
                          </a:lnTo>
                          <a:lnTo>
                            <a:pt x="1588" y="31"/>
                          </a:lnTo>
                          <a:lnTo>
                            <a:pt x="1573" y="31"/>
                          </a:lnTo>
                          <a:lnTo>
                            <a:pt x="1559" y="31"/>
                          </a:lnTo>
                          <a:lnTo>
                            <a:pt x="1542" y="30"/>
                          </a:lnTo>
                          <a:lnTo>
                            <a:pt x="1527" y="30"/>
                          </a:lnTo>
                          <a:lnTo>
                            <a:pt x="1510" y="29"/>
                          </a:lnTo>
                          <a:lnTo>
                            <a:pt x="1495" y="29"/>
                          </a:lnTo>
                          <a:lnTo>
                            <a:pt x="1476" y="27"/>
                          </a:lnTo>
                          <a:lnTo>
                            <a:pt x="1459" y="27"/>
                          </a:lnTo>
                          <a:lnTo>
                            <a:pt x="1441" y="26"/>
                          </a:lnTo>
                          <a:lnTo>
                            <a:pt x="1424" y="26"/>
                          </a:lnTo>
                          <a:lnTo>
                            <a:pt x="1406" y="25"/>
                          </a:lnTo>
                          <a:lnTo>
                            <a:pt x="1388" y="23"/>
                          </a:lnTo>
                          <a:lnTo>
                            <a:pt x="1369" y="23"/>
                          </a:lnTo>
                          <a:lnTo>
                            <a:pt x="1352" y="23"/>
                          </a:lnTo>
                          <a:lnTo>
                            <a:pt x="1334" y="20"/>
                          </a:lnTo>
                          <a:lnTo>
                            <a:pt x="1314" y="20"/>
                          </a:lnTo>
                          <a:lnTo>
                            <a:pt x="1296" y="19"/>
                          </a:lnTo>
                          <a:lnTo>
                            <a:pt x="1279" y="19"/>
                          </a:lnTo>
                          <a:lnTo>
                            <a:pt x="1259" y="16"/>
                          </a:lnTo>
                          <a:lnTo>
                            <a:pt x="1242" y="16"/>
                          </a:lnTo>
                          <a:lnTo>
                            <a:pt x="1224" y="15"/>
                          </a:lnTo>
                          <a:lnTo>
                            <a:pt x="1207" y="15"/>
                          </a:lnTo>
                          <a:lnTo>
                            <a:pt x="1189" y="14"/>
                          </a:lnTo>
                          <a:lnTo>
                            <a:pt x="1172" y="14"/>
                          </a:lnTo>
                          <a:lnTo>
                            <a:pt x="1155" y="12"/>
                          </a:lnTo>
                          <a:lnTo>
                            <a:pt x="1138" y="11"/>
                          </a:lnTo>
                          <a:lnTo>
                            <a:pt x="1121" y="9"/>
                          </a:lnTo>
                          <a:lnTo>
                            <a:pt x="1108" y="9"/>
                          </a:lnTo>
                          <a:lnTo>
                            <a:pt x="1091" y="8"/>
                          </a:lnTo>
                          <a:lnTo>
                            <a:pt x="1077" y="8"/>
                          </a:lnTo>
                          <a:lnTo>
                            <a:pt x="1063" y="7"/>
                          </a:lnTo>
                          <a:lnTo>
                            <a:pt x="1049" y="7"/>
                          </a:lnTo>
                          <a:lnTo>
                            <a:pt x="1036" y="5"/>
                          </a:lnTo>
                          <a:lnTo>
                            <a:pt x="1025" y="5"/>
                          </a:lnTo>
                          <a:lnTo>
                            <a:pt x="1013" y="4"/>
                          </a:lnTo>
                          <a:lnTo>
                            <a:pt x="1002" y="4"/>
                          </a:lnTo>
                          <a:lnTo>
                            <a:pt x="991" y="4"/>
                          </a:lnTo>
                          <a:lnTo>
                            <a:pt x="984" y="4"/>
                          </a:lnTo>
                          <a:lnTo>
                            <a:pt x="975" y="3"/>
                          </a:lnTo>
                          <a:lnTo>
                            <a:pt x="967" y="3"/>
                          </a:lnTo>
                          <a:lnTo>
                            <a:pt x="959" y="1"/>
                          </a:lnTo>
                          <a:lnTo>
                            <a:pt x="955" y="1"/>
                          </a:lnTo>
                          <a:lnTo>
                            <a:pt x="949" y="1"/>
                          </a:lnTo>
                          <a:lnTo>
                            <a:pt x="945" y="1"/>
                          </a:lnTo>
                          <a:lnTo>
                            <a:pt x="942" y="1"/>
                          </a:lnTo>
                          <a:lnTo>
                            <a:pt x="941" y="1"/>
                          </a:lnTo>
                          <a:lnTo>
                            <a:pt x="936" y="1"/>
                          </a:lnTo>
                          <a:lnTo>
                            <a:pt x="930" y="1"/>
                          </a:lnTo>
                          <a:lnTo>
                            <a:pt x="924" y="1"/>
                          </a:lnTo>
                          <a:lnTo>
                            <a:pt x="919" y="1"/>
                          </a:lnTo>
                          <a:lnTo>
                            <a:pt x="913" y="1"/>
                          </a:lnTo>
                          <a:lnTo>
                            <a:pt x="907" y="1"/>
                          </a:lnTo>
                          <a:lnTo>
                            <a:pt x="901" y="1"/>
                          </a:lnTo>
                          <a:lnTo>
                            <a:pt x="896" y="1"/>
                          </a:lnTo>
                          <a:lnTo>
                            <a:pt x="892" y="1"/>
                          </a:lnTo>
                          <a:lnTo>
                            <a:pt x="886" y="1"/>
                          </a:lnTo>
                          <a:lnTo>
                            <a:pt x="880" y="1"/>
                          </a:lnTo>
                          <a:lnTo>
                            <a:pt x="875" y="1"/>
                          </a:lnTo>
                          <a:lnTo>
                            <a:pt x="869" y="1"/>
                          </a:lnTo>
                          <a:lnTo>
                            <a:pt x="863" y="1"/>
                          </a:lnTo>
                          <a:lnTo>
                            <a:pt x="858" y="1"/>
                          </a:lnTo>
                          <a:lnTo>
                            <a:pt x="852" y="1"/>
                          </a:lnTo>
                          <a:lnTo>
                            <a:pt x="846" y="0"/>
                          </a:lnTo>
                          <a:lnTo>
                            <a:pt x="840" y="0"/>
                          </a:lnTo>
                          <a:lnTo>
                            <a:pt x="834" y="0"/>
                          </a:lnTo>
                          <a:lnTo>
                            <a:pt x="828" y="0"/>
                          </a:lnTo>
                          <a:lnTo>
                            <a:pt x="822" y="0"/>
                          </a:lnTo>
                          <a:lnTo>
                            <a:pt x="815" y="0"/>
                          </a:lnTo>
                          <a:lnTo>
                            <a:pt x="811" y="0"/>
                          </a:lnTo>
                          <a:lnTo>
                            <a:pt x="805" y="0"/>
                          </a:lnTo>
                          <a:lnTo>
                            <a:pt x="799" y="0"/>
                          </a:lnTo>
                          <a:lnTo>
                            <a:pt x="792" y="0"/>
                          </a:lnTo>
                          <a:lnTo>
                            <a:pt x="788" y="0"/>
                          </a:lnTo>
                          <a:lnTo>
                            <a:pt x="782" y="0"/>
                          </a:lnTo>
                          <a:lnTo>
                            <a:pt x="776" y="0"/>
                          </a:lnTo>
                          <a:lnTo>
                            <a:pt x="770" y="0"/>
                          </a:lnTo>
                          <a:lnTo>
                            <a:pt x="765" y="0"/>
                          </a:lnTo>
                          <a:lnTo>
                            <a:pt x="759" y="0"/>
                          </a:lnTo>
                          <a:lnTo>
                            <a:pt x="753" y="0"/>
                          </a:lnTo>
                          <a:lnTo>
                            <a:pt x="747" y="0"/>
                          </a:lnTo>
                          <a:lnTo>
                            <a:pt x="740" y="0"/>
                          </a:lnTo>
                          <a:lnTo>
                            <a:pt x="734" y="0"/>
                          </a:lnTo>
                          <a:lnTo>
                            <a:pt x="728" y="0"/>
                          </a:lnTo>
                          <a:lnTo>
                            <a:pt x="724" y="0"/>
                          </a:lnTo>
                          <a:lnTo>
                            <a:pt x="718" y="0"/>
                          </a:lnTo>
                          <a:lnTo>
                            <a:pt x="711" y="0"/>
                          </a:lnTo>
                          <a:lnTo>
                            <a:pt x="705" y="0"/>
                          </a:lnTo>
                          <a:lnTo>
                            <a:pt x="699" y="0"/>
                          </a:lnTo>
                          <a:lnTo>
                            <a:pt x="693" y="0"/>
                          </a:lnTo>
                          <a:lnTo>
                            <a:pt x="688" y="1"/>
                          </a:lnTo>
                          <a:lnTo>
                            <a:pt x="682" y="1"/>
                          </a:lnTo>
                          <a:lnTo>
                            <a:pt x="676" y="1"/>
                          </a:lnTo>
                          <a:lnTo>
                            <a:pt x="672" y="3"/>
                          </a:lnTo>
                          <a:lnTo>
                            <a:pt x="666" y="3"/>
                          </a:lnTo>
                          <a:lnTo>
                            <a:pt x="659" y="3"/>
                          </a:lnTo>
                          <a:lnTo>
                            <a:pt x="653" y="3"/>
                          </a:lnTo>
                          <a:lnTo>
                            <a:pt x="649" y="4"/>
                          </a:lnTo>
                          <a:lnTo>
                            <a:pt x="643" y="4"/>
                          </a:lnTo>
                          <a:lnTo>
                            <a:pt x="636" y="4"/>
                          </a:lnTo>
                          <a:lnTo>
                            <a:pt x="630" y="4"/>
                          </a:lnTo>
                          <a:lnTo>
                            <a:pt x="626" y="5"/>
                          </a:lnTo>
                          <a:lnTo>
                            <a:pt x="621" y="7"/>
                          </a:lnTo>
                          <a:lnTo>
                            <a:pt x="615" y="7"/>
                          </a:lnTo>
                          <a:lnTo>
                            <a:pt x="609" y="8"/>
                          </a:lnTo>
                          <a:lnTo>
                            <a:pt x="604" y="8"/>
                          </a:lnTo>
                          <a:lnTo>
                            <a:pt x="598" y="9"/>
                          </a:lnTo>
                          <a:lnTo>
                            <a:pt x="594" y="9"/>
                          </a:lnTo>
                          <a:lnTo>
                            <a:pt x="588" y="11"/>
                          </a:lnTo>
                          <a:lnTo>
                            <a:pt x="583" y="12"/>
                          </a:lnTo>
                          <a:lnTo>
                            <a:pt x="578" y="14"/>
                          </a:lnTo>
                          <a:lnTo>
                            <a:pt x="575" y="14"/>
                          </a:lnTo>
                          <a:lnTo>
                            <a:pt x="572" y="14"/>
                          </a:lnTo>
                          <a:lnTo>
                            <a:pt x="566" y="15"/>
                          </a:lnTo>
                          <a:lnTo>
                            <a:pt x="561" y="15"/>
                          </a:lnTo>
                          <a:lnTo>
                            <a:pt x="557" y="15"/>
                          </a:lnTo>
                          <a:lnTo>
                            <a:pt x="554" y="15"/>
                          </a:lnTo>
                          <a:lnTo>
                            <a:pt x="549" y="16"/>
                          </a:lnTo>
                          <a:lnTo>
                            <a:pt x="546" y="16"/>
                          </a:lnTo>
                          <a:lnTo>
                            <a:pt x="543" y="16"/>
                          </a:lnTo>
                          <a:lnTo>
                            <a:pt x="539" y="16"/>
                          </a:lnTo>
                          <a:lnTo>
                            <a:pt x="535" y="16"/>
                          </a:lnTo>
                          <a:lnTo>
                            <a:pt x="531" y="18"/>
                          </a:lnTo>
                          <a:lnTo>
                            <a:pt x="528" y="18"/>
                          </a:lnTo>
                          <a:lnTo>
                            <a:pt x="523" y="18"/>
                          </a:lnTo>
                          <a:lnTo>
                            <a:pt x="520" y="18"/>
                          </a:lnTo>
                          <a:lnTo>
                            <a:pt x="516" y="18"/>
                          </a:lnTo>
                          <a:lnTo>
                            <a:pt x="513" y="18"/>
                          </a:lnTo>
                          <a:lnTo>
                            <a:pt x="508" y="18"/>
                          </a:lnTo>
                          <a:lnTo>
                            <a:pt x="505" y="18"/>
                          </a:lnTo>
                          <a:lnTo>
                            <a:pt x="503" y="19"/>
                          </a:lnTo>
                          <a:lnTo>
                            <a:pt x="497" y="18"/>
                          </a:lnTo>
                          <a:lnTo>
                            <a:pt x="493" y="18"/>
                          </a:lnTo>
                          <a:lnTo>
                            <a:pt x="490" y="18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Freeform 307"/>
                    <p:cNvSpPr/>
                    <p:nvPr/>
                  </p:nvSpPr>
                  <p:spPr>
                    <a:xfrm>
                      <a:off x="878040" y="2299680"/>
                      <a:ext cx="61920" cy="3600"/>
                    </a:xfrm>
                    <a:custGeom>
                      <a:avLst/>
                      <a:gdLst>
                        <a:gd name="textAreaLeft" fmla="*/ 0 w 61920"/>
                        <a:gd name="textAreaRight" fmla="*/ 62280 w 61920"/>
                        <a:gd name="textAreaTop" fmla="*/ 0 h 3600"/>
                        <a:gd name="textAreaBottom" fmla="*/ 3960 h 3600"/>
                      </a:gdLst>
                      <a:ahLst/>
                      <a:rect l="textAreaLeft" t="textAreaTop" r="textAreaRight" b="textAreaBottom"/>
                      <a:pathLst>
                        <a:path w="288" h="14">
                          <a:moveTo>
                            <a:pt x="286" y="0"/>
                          </a:moveTo>
                          <a:lnTo>
                            <a:pt x="280" y="0"/>
                          </a:lnTo>
                          <a:lnTo>
                            <a:pt x="274" y="0"/>
                          </a:lnTo>
                          <a:lnTo>
                            <a:pt x="268" y="0"/>
                          </a:lnTo>
                          <a:lnTo>
                            <a:pt x="263" y="0"/>
                          </a:lnTo>
                          <a:lnTo>
                            <a:pt x="257" y="0"/>
                          </a:lnTo>
                          <a:lnTo>
                            <a:pt x="251" y="0"/>
                          </a:lnTo>
                          <a:lnTo>
                            <a:pt x="245" y="0"/>
                          </a:lnTo>
                          <a:lnTo>
                            <a:pt x="240" y="0"/>
                          </a:lnTo>
                          <a:lnTo>
                            <a:pt x="233" y="0"/>
                          </a:lnTo>
                          <a:lnTo>
                            <a:pt x="228" y="0"/>
                          </a:lnTo>
                          <a:lnTo>
                            <a:pt x="222" y="0"/>
                          </a:lnTo>
                          <a:lnTo>
                            <a:pt x="216" y="0"/>
                          </a:lnTo>
                          <a:lnTo>
                            <a:pt x="210" y="0"/>
                          </a:lnTo>
                          <a:lnTo>
                            <a:pt x="205" y="2"/>
                          </a:lnTo>
                          <a:lnTo>
                            <a:pt x="199" y="2"/>
                          </a:lnTo>
                          <a:lnTo>
                            <a:pt x="193" y="2"/>
                          </a:lnTo>
                          <a:lnTo>
                            <a:pt x="187" y="2"/>
                          </a:lnTo>
                          <a:lnTo>
                            <a:pt x="181" y="2"/>
                          </a:lnTo>
                          <a:lnTo>
                            <a:pt x="174" y="3"/>
                          </a:lnTo>
                          <a:lnTo>
                            <a:pt x="170" y="3"/>
                          </a:lnTo>
                          <a:lnTo>
                            <a:pt x="164" y="3"/>
                          </a:lnTo>
                          <a:lnTo>
                            <a:pt x="158" y="3"/>
                          </a:lnTo>
                          <a:lnTo>
                            <a:pt x="152" y="3"/>
                          </a:lnTo>
                          <a:lnTo>
                            <a:pt x="145" y="4"/>
                          </a:lnTo>
                          <a:lnTo>
                            <a:pt x="139" y="4"/>
                          </a:lnTo>
                          <a:lnTo>
                            <a:pt x="135" y="4"/>
                          </a:lnTo>
                          <a:lnTo>
                            <a:pt x="127" y="4"/>
                          </a:lnTo>
                          <a:lnTo>
                            <a:pt x="122" y="6"/>
                          </a:lnTo>
                          <a:lnTo>
                            <a:pt x="116" y="6"/>
                          </a:lnTo>
                          <a:lnTo>
                            <a:pt x="110" y="6"/>
                          </a:lnTo>
                          <a:lnTo>
                            <a:pt x="104" y="6"/>
                          </a:lnTo>
                          <a:lnTo>
                            <a:pt x="100" y="6"/>
                          </a:lnTo>
                          <a:lnTo>
                            <a:pt x="31" y="8"/>
                          </a:lnTo>
                          <a:lnTo>
                            <a:pt x="11" y="11"/>
                          </a:lnTo>
                          <a:lnTo>
                            <a:pt x="3" y="11"/>
                          </a:lnTo>
                          <a:lnTo>
                            <a:pt x="2" y="11"/>
                          </a:lnTo>
                          <a:lnTo>
                            <a:pt x="0" y="12"/>
                          </a:lnTo>
                          <a:lnTo>
                            <a:pt x="2" y="12"/>
                          </a:lnTo>
                          <a:lnTo>
                            <a:pt x="6" y="14"/>
                          </a:lnTo>
                          <a:lnTo>
                            <a:pt x="9" y="14"/>
                          </a:lnTo>
                          <a:lnTo>
                            <a:pt x="14" y="14"/>
                          </a:lnTo>
                          <a:lnTo>
                            <a:pt x="17" y="14"/>
                          </a:lnTo>
                          <a:lnTo>
                            <a:pt x="22" y="14"/>
                          </a:lnTo>
                          <a:lnTo>
                            <a:pt x="25" y="12"/>
                          </a:lnTo>
                          <a:lnTo>
                            <a:pt x="28" y="12"/>
                          </a:lnTo>
                          <a:lnTo>
                            <a:pt x="31" y="12"/>
                          </a:lnTo>
                          <a:lnTo>
                            <a:pt x="35" y="12"/>
                          </a:lnTo>
                          <a:lnTo>
                            <a:pt x="40" y="12"/>
                          </a:lnTo>
                          <a:lnTo>
                            <a:pt x="43" y="12"/>
                          </a:lnTo>
                          <a:lnTo>
                            <a:pt x="48" y="12"/>
                          </a:lnTo>
                          <a:lnTo>
                            <a:pt x="54" y="12"/>
                          </a:lnTo>
                          <a:lnTo>
                            <a:pt x="58" y="12"/>
                          </a:lnTo>
                          <a:lnTo>
                            <a:pt x="64" y="12"/>
                          </a:lnTo>
                          <a:lnTo>
                            <a:pt x="69" y="12"/>
                          </a:lnTo>
                          <a:lnTo>
                            <a:pt x="75" y="12"/>
                          </a:lnTo>
                          <a:lnTo>
                            <a:pt x="80" y="12"/>
                          </a:lnTo>
                          <a:lnTo>
                            <a:pt x="86" y="12"/>
                          </a:lnTo>
                          <a:lnTo>
                            <a:pt x="90" y="11"/>
                          </a:lnTo>
                          <a:lnTo>
                            <a:pt x="96" y="11"/>
                          </a:lnTo>
                          <a:lnTo>
                            <a:pt x="101" y="11"/>
                          </a:lnTo>
                          <a:lnTo>
                            <a:pt x="107" y="11"/>
                          </a:lnTo>
                          <a:lnTo>
                            <a:pt x="112" y="11"/>
                          </a:lnTo>
                          <a:lnTo>
                            <a:pt x="118" y="11"/>
                          </a:lnTo>
                          <a:lnTo>
                            <a:pt x="122" y="11"/>
                          </a:lnTo>
                          <a:lnTo>
                            <a:pt x="129" y="11"/>
                          </a:lnTo>
                          <a:lnTo>
                            <a:pt x="135" y="11"/>
                          </a:lnTo>
                          <a:lnTo>
                            <a:pt x="139" y="11"/>
                          </a:lnTo>
                          <a:lnTo>
                            <a:pt x="144" y="10"/>
                          </a:lnTo>
                          <a:lnTo>
                            <a:pt x="150" y="10"/>
                          </a:lnTo>
                          <a:lnTo>
                            <a:pt x="155" y="10"/>
                          </a:lnTo>
                          <a:lnTo>
                            <a:pt x="161" y="10"/>
                          </a:lnTo>
                          <a:lnTo>
                            <a:pt x="165" y="10"/>
                          </a:lnTo>
                          <a:lnTo>
                            <a:pt x="171" y="10"/>
                          </a:lnTo>
                          <a:lnTo>
                            <a:pt x="176" y="8"/>
                          </a:lnTo>
                          <a:lnTo>
                            <a:pt x="182" y="8"/>
                          </a:lnTo>
                          <a:lnTo>
                            <a:pt x="187" y="8"/>
                          </a:lnTo>
                          <a:lnTo>
                            <a:pt x="193" y="8"/>
                          </a:lnTo>
                          <a:lnTo>
                            <a:pt x="199" y="8"/>
                          </a:lnTo>
                          <a:lnTo>
                            <a:pt x="204" y="8"/>
                          </a:lnTo>
                          <a:lnTo>
                            <a:pt x="210" y="8"/>
                          </a:lnTo>
                          <a:lnTo>
                            <a:pt x="216" y="8"/>
                          </a:lnTo>
                          <a:lnTo>
                            <a:pt x="219" y="8"/>
                          </a:lnTo>
                          <a:lnTo>
                            <a:pt x="223" y="8"/>
                          </a:lnTo>
                          <a:lnTo>
                            <a:pt x="226" y="8"/>
                          </a:lnTo>
                          <a:lnTo>
                            <a:pt x="230" y="8"/>
                          </a:lnTo>
                          <a:lnTo>
                            <a:pt x="234" y="8"/>
                          </a:lnTo>
                          <a:lnTo>
                            <a:pt x="237" y="8"/>
                          </a:lnTo>
                          <a:lnTo>
                            <a:pt x="242" y="8"/>
                          </a:lnTo>
                          <a:lnTo>
                            <a:pt x="246" y="8"/>
                          </a:lnTo>
                          <a:lnTo>
                            <a:pt x="249" y="8"/>
                          </a:lnTo>
                          <a:lnTo>
                            <a:pt x="254" y="8"/>
                          </a:lnTo>
                          <a:lnTo>
                            <a:pt x="257" y="8"/>
                          </a:lnTo>
                          <a:lnTo>
                            <a:pt x="262" y="8"/>
                          </a:lnTo>
                          <a:lnTo>
                            <a:pt x="265" y="8"/>
                          </a:lnTo>
                          <a:lnTo>
                            <a:pt x="269" y="8"/>
                          </a:lnTo>
                          <a:lnTo>
                            <a:pt x="274" y="8"/>
                          </a:lnTo>
                          <a:lnTo>
                            <a:pt x="279" y="8"/>
                          </a:lnTo>
                          <a:lnTo>
                            <a:pt x="282" y="7"/>
                          </a:lnTo>
                          <a:lnTo>
                            <a:pt x="285" y="4"/>
                          </a:lnTo>
                          <a:lnTo>
                            <a:pt x="288" y="2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Freeform 308"/>
                    <p:cNvSpPr/>
                    <p:nvPr/>
                  </p:nvSpPr>
                  <p:spPr>
                    <a:xfrm>
                      <a:off x="986040" y="2311200"/>
                      <a:ext cx="53640" cy="7200"/>
                    </a:xfrm>
                    <a:custGeom>
                      <a:avLst/>
                      <a:gdLst>
                        <a:gd name="textAreaLeft" fmla="*/ 0 w 53640"/>
                        <a:gd name="textAreaRight" fmla="*/ 54000 w 5364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248" h="25">
                          <a:moveTo>
                            <a:pt x="248" y="25"/>
                          </a:moveTo>
                          <a:lnTo>
                            <a:pt x="244" y="25"/>
                          </a:lnTo>
                          <a:lnTo>
                            <a:pt x="237" y="25"/>
                          </a:lnTo>
                          <a:lnTo>
                            <a:pt x="233" y="23"/>
                          </a:lnTo>
                          <a:lnTo>
                            <a:pt x="227" y="23"/>
                          </a:lnTo>
                          <a:lnTo>
                            <a:pt x="224" y="22"/>
                          </a:lnTo>
                          <a:lnTo>
                            <a:pt x="219" y="22"/>
                          </a:lnTo>
                          <a:lnTo>
                            <a:pt x="216" y="22"/>
                          </a:lnTo>
                          <a:lnTo>
                            <a:pt x="213" y="22"/>
                          </a:lnTo>
                          <a:lnTo>
                            <a:pt x="208" y="21"/>
                          </a:lnTo>
                          <a:lnTo>
                            <a:pt x="205" y="21"/>
                          </a:lnTo>
                          <a:lnTo>
                            <a:pt x="201" y="21"/>
                          </a:lnTo>
                          <a:lnTo>
                            <a:pt x="198" y="21"/>
                          </a:lnTo>
                          <a:lnTo>
                            <a:pt x="193" y="21"/>
                          </a:lnTo>
                          <a:lnTo>
                            <a:pt x="188" y="19"/>
                          </a:lnTo>
                          <a:lnTo>
                            <a:pt x="184" y="19"/>
                          </a:lnTo>
                          <a:lnTo>
                            <a:pt x="179" y="19"/>
                          </a:lnTo>
                          <a:lnTo>
                            <a:pt x="175" y="18"/>
                          </a:lnTo>
                          <a:lnTo>
                            <a:pt x="172" y="18"/>
                          </a:lnTo>
                          <a:lnTo>
                            <a:pt x="166" y="18"/>
                          </a:lnTo>
                          <a:lnTo>
                            <a:pt x="162" y="18"/>
                          </a:lnTo>
                          <a:lnTo>
                            <a:pt x="158" y="16"/>
                          </a:lnTo>
                          <a:lnTo>
                            <a:pt x="153" y="16"/>
                          </a:lnTo>
                          <a:lnTo>
                            <a:pt x="149" y="15"/>
                          </a:lnTo>
                          <a:lnTo>
                            <a:pt x="144" y="15"/>
                          </a:lnTo>
                          <a:lnTo>
                            <a:pt x="138" y="15"/>
                          </a:lnTo>
                          <a:lnTo>
                            <a:pt x="135" y="15"/>
                          </a:lnTo>
                          <a:lnTo>
                            <a:pt x="129" y="15"/>
                          </a:lnTo>
                          <a:lnTo>
                            <a:pt x="124" y="15"/>
                          </a:lnTo>
                          <a:lnTo>
                            <a:pt x="120" y="14"/>
                          </a:lnTo>
                          <a:lnTo>
                            <a:pt x="115" y="14"/>
                          </a:lnTo>
                          <a:lnTo>
                            <a:pt x="110" y="12"/>
                          </a:lnTo>
                          <a:lnTo>
                            <a:pt x="106" y="12"/>
                          </a:lnTo>
                          <a:lnTo>
                            <a:pt x="100" y="12"/>
                          </a:lnTo>
                          <a:lnTo>
                            <a:pt x="97" y="12"/>
                          </a:lnTo>
                          <a:lnTo>
                            <a:pt x="91" y="11"/>
                          </a:lnTo>
                          <a:lnTo>
                            <a:pt x="86" y="11"/>
                          </a:lnTo>
                          <a:lnTo>
                            <a:pt x="81" y="11"/>
                          </a:lnTo>
                          <a:lnTo>
                            <a:pt x="77" y="10"/>
                          </a:lnTo>
                          <a:lnTo>
                            <a:pt x="72" y="10"/>
                          </a:lnTo>
                          <a:lnTo>
                            <a:pt x="68" y="10"/>
                          </a:lnTo>
                          <a:lnTo>
                            <a:pt x="63" y="8"/>
                          </a:lnTo>
                          <a:lnTo>
                            <a:pt x="58" y="8"/>
                          </a:lnTo>
                          <a:lnTo>
                            <a:pt x="55" y="8"/>
                          </a:lnTo>
                          <a:lnTo>
                            <a:pt x="52" y="8"/>
                          </a:lnTo>
                          <a:lnTo>
                            <a:pt x="48" y="8"/>
                          </a:lnTo>
                          <a:lnTo>
                            <a:pt x="43" y="7"/>
                          </a:lnTo>
                          <a:lnTo>
                            <a:pt x="39" y="7"/>
                          </a:lnTo>
                          <a:lnTo>
                            <a:pt x="35" y="7"/>
                          </a:lnTo>
                          <a:lnTo>
                            <a:pt x="32" y="5"/>
                          </a:lnTo>
                          <a:lnTo>
                            <a:pt x="28" y="5"/>
                          </a:lnTo>
                          <a:lnTo>
                            <a:pt x="25" y="5"/>
                          </a:lnTo>
                          <a:lnTo>
                            <a:pt x="22" y="5"/>
                          </a:lnTo>
                          <a:lnTo>
                            <a:pt x="16" y="5"/>
                          </a:lnTo>
                          <a:lnTo>
                            <a:pt x="9" y="5"/>
                          </a:lnTo>
                          <a:lnTo>
                            <a:pt x="5" y="4"/>
                          </a:lnTo>
                          <a:lnTo>
                            <a:pt x="0" y="4"/>
                          </a:lnTo>
                          <a:lnTo>
                            <a:pt x="3" y="4"/>
                          </a:lnTo>
                          <a:lnTo>
                            <a:pt x="8" y="4"/>
                          </a:lnTo>
                          <a:lnTo>
                            <a:pt x="13" y="4"/>
                          </a:lnTo>
                          <a:lnTo>
                            <a:pt x="19" y="4"/>
                          </a:lnTo>
                          <a:lnTo>
                            <a:pt x="20" y="3"/>
                          </a:lnTo>
                          <a:lnTo>
                            <a:pt x="23" y="3"/>
                          </a:lnTo>
                          <a:lnTo>
                            <a:pt x="26" y="3"/>
                          </a:lnTo>
                          <a:lnTo>
                            <a:pt x="31" y="3"/>
                          </a:lnTo>
                          <a:lnTo>
                            <a:pt x="34" y="3"/>
                          </a:lnTo>
                          <a:lnTo>
                            <a:pt x="37" y="3"/>
                          </a:lnTo>
                          <a:lnTo>
                            <a:pt x="42" y="3"/>
                          </a:lnTo>
                          <a:lnTo>
                            <a:pt x="45" y="3"/>
                          </a:lnTo>
                          <a:lnTo>
                            <a:pt x="49" y="3"/>
                          </a:lnTo>
                          <a:lnTo>
                            <a:pt x="52" y="3"/>
                          </a:lnTo>
                          <a:lnTo>
                            <a:pt x="55" y="3"/>
                          </a:lnTo>
                          <a:lnTo>
                            <a:pt x="60" y="3"/>
                          </a:lnTo>
                          <a:lnTo>
                            <a:pt x="63" y="3"/>
                          </a:lnTo>
                          <a:lnTo>
                            <a:pt x="68" y="3"/>
                          </a:lnTo>
                          <a:lnTo>
                            <a:pt x="72" y="3"/>
                          </a:lnTo>
                          <a:lnTo>
                            <a:pt x="77" y="3"/>
                          </a:lnTo>
                          <a:lnTo>
                            <a:pt x="81" y="1"/>
                          </a:lnTo>
                          <a:lnTo>
                            <a:pt x="86" y="1"/>
                          </a:lnTo>
                          <a:lnTo>
                            <a:pt x="91" y="1"/>
                          </a:lnTo>
                          <a:lnTo>
                            <a:pt x="95" y="1"/>
                          </a:lnTo>
                          <a:lnTo>
                            <a:pt x="100" y="1"/>
                          </a:lnTo>
                          <a:lnTo>
                            <a:pt x="104" y="1"/>
                          </a:lnTo>
                          <a:lnTo>
                            <a:pt x="109" y="1"/>
                          </a:lnTo>
                          <a:lnTo>
                            <a:pt x="113" y="1"/>
                          </a:lnTo>
                          <a:lnTo>
                            <a:pt x="118" y="1"/>
                          </a:lnTo>
                          <a:lnTo>
                            <a:pt x="123" y="1"/>
                          </a:lnTo>
                          <a:lnTo>
                            <a:pt x="126" y="1"/>
                          </a:lnTo>
                          <a:lnTo>
                            <a:pt x="132" y="1"/>
                          </a:lnTo>
                          <a:lnTo>
                            <a:pt x="135" y="0"/>
                          </a:lnTo>
                          <a:lnTo>
                            <a:pt x="140" y="0"/>
                          </a:lnTo>
                          <a:lnTo>
                            <a:pt x="144" y="0"/>
                          </a:lnTo>
                          <a:lnTo>
                            <a:pt x="149" y="0"/>
                          </a:lnTo>
                          <a:lnTo>
                            <a:pt x="152" y="0"/>
                          </a:lnTo>
                          <a:lnTo>
                            <a:pt x="156" y="0"/>
                          </a:lnTo>
                          <a:lnTo>
                            <a:pt x="161" y="0"/>
                          </a:lnTo>
                          <a:lnTo>
                            <a:pt x="166" y="0"/>
                          </a:lnTo>
                          <a:lnTo>
                            <a:pt x="169" y="0"/>
                          </a:lnTo>
                          <a:lnTo>
                            <a:pt x="173" y="0"/>
                          </a:lnTo>
                          <a:lnTo>
                            <a:pt x="178" y="0"/>
                          </a:lnTo>
                          <a:lnTo>
                            <a:pt x="182" y="0"/>
                          </a:lnTo>
                          <a:lnTo>
                            <a:pt x="185" y="0"/>
                          </a:lnTo>
                          <a:lnTo>
                            <a:pt x="188" y="0"/>
                          </a:lnTo>
                          <a:lnTo>
                            <a:pt x="192" y="0"/>
                          </a:lnTo>
                          <a:lnTo>
                            <a:pt x="196" y="0"/>
                          </a:lnTo>
                          <a:lnTo>
                            <a:pt x="202" y="0"/>
                          </a:lnTo>
                          <a:lnTo>
                            <a:pt x="208" y="0"/>
                          </a:lnTo>
                          <a:lnTo>
                            <a:pt x="213" y="0"/>
                          </a:lnTo>
                          <a:lnTo>
                            <a:pt x="218" y="1"/>
                          </a:lnTo>
                          <a:lnTo>
                            <a:pt x="221" y="1"/>
                          </a:lnTo>
                          <a:lnTo>
                            <a:pt x="225" y="3"/>
                          </a:lnTo>
                          <a:lnTo>
                            <a:pt x="230" y="3"/>
                          </a:lnTo>
                          <a:lnTo>
                            <a:pt x="233" y="5"/>
                          </a:lnTo>
                          <a:lnTo>
                            <a:pt x="234" y="8"/>
                          </a:lnTo>
                          <a:lnTo>
                            <a:pt x="237" y="12"/>
                          </a:lnTo>
                          <a:lnTo>
                            <a:pt x="239" y="16"/>
                          </a:lnTo>
                          <a:lnTo>
                            <a:pt x="240" y="19"/>
                          </a:lnTo>
                          <a:lnTo>
                            <a:pt x="244" y="22"/>
                          </a:lnTo>
                          <a:lnTo>
                            <a:pt x="248" y="25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Freeform 309"/>
                    <p:cNvSpPr/>
                    <p:nvPr/>
                  </p:nvSpPr>
                  <p:spPr>
                    <a:xfrm>
                      <a:off x="883080" y="2315160"/>
                      <a:ext cx="7560" cy="2160"/>
                    </a:xfrm>
                    <a:custGeom>
                      <a:avLst/>
                      <a:gdLst>
                        <a:gd name="textAreaLeft" fmla="*/ 0 w 7560"/>
                        <a:gd name="textAreaRight" fmla="*/ 7920 w 7560"/>
                        <a:gd name="textAreaTop" fmla="*/ 0 h 2160"/>
                        <a:gd name="textAreaBottom" fmla="*/ 2520 h 2160"/>
                      </a:gdLst>
                      <a:ahLst/>
                      <a:rect l="textAreaLeft" t="textAreaTop" r="textAreaRight" b="textAreaBottom"/>
                      <a:pathLst>
                        <a:path w="35" h="8">
                          <a:moveTo>
                            <a:pt x="8" y="1"/>
                          </a:moveTo>
                          <a:lnTo>
                            <a:pt x="0" y="8"/>
                          </a:lnTo>
                          <a:lnTo>
                            <a:pt x="3" y="7"/>
                          </a:lnTo>
                          <a:lnTo>
                            <a:pt x="6" y="6"/>
                          </a:lnTo>
                          <a:lnTo>
                            <a:pt x="9" y="6"/>
                          </a:lnTo>
                          <a:lnTo>
                            <a:pt x="12" y="6"/>
                          </a:lnTo>
                          <a:lnTo>
                            <a:pt x="18" y="6"/>
                          </a:lnTo>
                          <a:lnTo>
                            <a:pt x="23" y="6"/>
                          </a:lnTo>
                          <a:lnTo>
                            <a:pt x="28" y="6"/>
                          </a:lnTo>
                          <a:lnTo>
                            <a:pt x="32" y="6"/>
                          </a:lnTo>
                          <a:lnTo>
                            <a:pt x="35" y="4"/>
                          </a:lnTo>
                          <a:lnTo>
                            <a:pt x="34" y="3"/>
                          </a:lnTo>
                          <a:lnTo>
                            <a:pt x="31" y="3"/>
                          </a:lnTo>
                          <a:lnTo>
                            <a:pt x="26" y="1"/>
                          </a:lnTo>
                          <a:lnTo>
                            <a:pt x="21" y="0"/>
                          </a:lnTo>
                          <a:lnTo>
                            <a:pt x="15" y="0"/>
                          </a:lnTo>
                          <a:lnTo>
                            <a:pt x="11" y="0"/>
                          </a:lnTo>
                          <a:lnTo>
                            <a:pt x="8" y="1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310"/>
                    <p:cNvSpPr/>
                    <p:nvPr/>
                  </p:nvSpPr>
                  <p:spPr>
                    <a:xfrm>
                      <a:off x="879480" y="2203560"/>
                      <a:ext cx="56880" cy="3600"/>
                    </a:xfrm>
                    <a:custGeom>
                      <a:avLst/>
                      <a:gdLst>
                        <a:gd name="textAreaLeft" fmla="*/ 0 w 56880"/>
                        <a:gd name="textAreaRight" fmla="*/ 57240 w 56880"/>
                        <a:gd name="textAreaTop" fmla="*/ 0 h 3600"/>
                        <a:gd name="textAreaBottom" fmla="*/ 3960 h 3600"/>
                      </a:gdLst>
                      <a:ahLst/>
                      <a:rect l="textAreaLeft" t="textAreaTop" r="textAreaRight" b="textAreaBottom"/>
                      <a:pathLst>
                        <a:path w="264" h="14">
                          <a:moveTo>
                            <a:pt x="255" y="7"/>
                          </a:moveTo>
                          <a:lnTo>
                            <a:pt x="258" y="6"/>
                          </a:lnTo>
                          <a:lnTo>
                            <a:pt x="263" y="4"/>
                          </a:lnTo>
                          <a:lnTo>
                            <a:pt x="264" y="0"/>
                          </a:lnTo>
                          <a:lnTo>
                            <a:pt x="263" y="0"/>
                          </a:lnTo>
                          <a:lnTo>
                            <a:pt x="260" y="0"/>
                          </a:lnTo>
                          <a:lnTo>
                            <a:pt x="255" y="0"/>
                          </a:lnTo>
                          <a:lnTo>
                            <a:pt x="252" y="0"/>
                          </a:lnTo>
                          <a:lnTo>
                            <a:pt x="249" y="0"/>
                          </a:lnTo>
                          <a:lnTo>
                            <a:pt x="243" y="0"/>
                          </a:lnTo>
                          <a:lnTo>
                            <a:pt x="235" y="0"/>
                          </a:lnTo>
                          <a:lnTo>
                            <a:pt x="232" y="0"/>
                          </a:lnTo>
                          <a:lnTo>
                            <a:pt x="229" y="0"/>
                          </a:lnTo>
                          <a:lnTo>
                            <a:pt x="225" y="0"/>
                          </a:lnTo>
                          <a:lnTo>
                            <a:pt x="222" y="0"/>
                          </a:lnTo>
                          <a:lnTo>
                            <a:pt x="215" y="0"/>
                          </a:lnTo>
                          <a:lnTo>
                            <a:pt x="209" y="0"/>
                          </a:lnTo>
                          <a:lnTo>
                            <a:pt x="205" y="0"/>
                          </a:lnTo>
                          <a:lnTo>
                            <a:pt x="202" y="0"/>
                          </a:lnTo>
                          <a:lnTo>
                            <a:pt x="199" y="0"/>
                          </a:lnTo>
                          <a:lnTo>
                            <a:pt x="196" y="0"/>
                          </a:lnTo>
                          <a:lnTo>
                            <a:pt x="188" y="0"/>
                          </a:lnTo>
                          <a:lnTo>
                            <a:pt x="182" y="1"/>
                          </a:lnTo>
                          <a:lnTo>
                            <a:pt x="179" y="1"/>
                          </a:lnTo>
                          <a:lnTo>
                            <a:pt x="174" y="1"/>
                          </a:lnTo>
                          <a:lnTo>
                            <a:pt x="171" y="1"/>
                          </a:lnTo>
                          <a:lnTo>
                            <a:pt x="168" y="1"/>
                          </a:lnTo>
                          <a:lnTo>
                            <a:pt x="162" y="1"/>
                          </a:lnTo>
                          <a:lnTo>
                            <a:pt x="156" y="3"/>
                          </a:lnTo>
                          <a:lnTo>
                            <a:pt x="151" y="3"/>
                          </a:lnTo>
                          <a:lnTo>
                            <a:pt x="148" y="3"/>
                          </a:lnTo>
                          <a:lnTo>
                            <a:pt x="145" y="3"/>
                          </a:lnTo>
                          <a:lnTo>
                            <a:pt x="142" y="3"/>
                          </a:lnTo>
                          <a:lnTo>
                            <a:pt x="137" y="3"/>
                          </a:lnTo>
                          <a:lnTo>
                            <a:pt x="134" y="3"/>
                          </a:lnTo>
                          <a:lnTo>
                            <a:pt x="131" y="3"/>
                          </a:lnTo>
                          <a:lnTo>
                            <a:pt x="128" y="4"/>
                          </a:lnTo>
                          <a:lnTo>
                            <a:pt x="124" y="4"/>
                          </a:lnTo>
                          <a:lnTo>
                            <a:pt x="121" y="4"/>
                          </a:lnTo>
                          <a:lnTo>
                            <a:pt x="118" y="4"/>
                          </a:lnTo>
                          <a:lnTo>
                            <a:pt x="114" y="4"/>
                          </a:lnTo>
                          <a:lnTo>
                            <a:pt x="107" y="4"/>
                          </a:lnTo>
                          <a:lnTo>
                            <a:pt x="101" y="4"/>
                          </a:lnTo>
                          <a:lnTo>
                            <a:pt x="98" y="4"/>
                          </a:lnTo>
                          <a:lnTo>
                            <a:pt x="95" y="4"/>
                          </a:lnTo>
                          <a:lnTo>
                            <a:pt x="90" y="4"/>
                          </a:lnTo>
                          <a:lnTo>
                            <a:pt x="87" y="4"/>
                          </a:lnTo>
                          <a:lnTo>
                            <a:pt x="81" y="6"/>
                          </a:lnTo>
                          <a:lnTo>
                            <a:pt x="75" y="6"/>
                          </a:lnTo>
                          <a:lnTo>
                            <a:pt x="67" y="6"/>
                          </a:lnTo>
                          <a:lnTo>
                            <a:pt x="61" y="6"/>
                          </a:lnTo>
                          <a:lnTo>
                            <a:pt x="53" y="7"/>
                          </a:lnTo>
                          <a:lnTo>
                            <a:pt x="47" y="7"/>
                          </a:lnTo>
                          <a:lnTo>
                            <a:pt x="14" y="11"/>
                          </a:lnTo>
                          <a:lnTo>
                            <a:pt x="3" y="11"/>
                          </a:lnTo>
                          <a:lnTo>
                            <a:pt x="0" y="11"/>
                          </a:lnTo>
                          <a:lnTo>
                            <a:pt x="0" y="14"/>
                          </a:lnTo>
                          <a:lnTo>
                            <a:pt x="0" y="12"/>
                          </a:lnTo>
                          <a:lnTo>
                            <a:pt x="3" y="12"/>
                          </a:lnTo>
                          <a:lnTo>
                            <a:pt x="6" y="12"/>
                          </a:lnTo>
                          <a:lnTo>
                            <a:pt x="10" y="12"/>
                          </a:lnTo>
                          <a:lnTo>
                            <a:pt x="17" y="12"/>
                          </a:lnTo>
                          <a:lnTo>
                            <a:pt x="23" y="12"/>
                          </a:lnTo>
                          <a:lnTo>
                            <a:pt x="27" y="12"/>
                          </a:lnTo>
                          <a:lnTo>
                            <a:pt x="30" y="12"/>
                          </a:lnTo>
                          <a:lnTo>
                            <a:pt x="33" y="12"/>
                          </a:lnTo>
                          <a:lnTo>
                            <a:pt x="40" y="12"/>
                          </a:lnTo>
                          <a:lnTo>
                            <a:pt x="43" y="12"/>
                          </a:lnTo>
                          <a:lnTo>
                            <a:pt x="47" y="12"/>
                          </a:lnTo>
                          <a:lnTo>
                            <a:pt x="52" y="12"/>
                          </a:lnTo>
                          <a:lnTo>
                            <a:pt x="58" y="12"/>
                          </a:lnTo>
                          <a:lnTo>
                            <a:pt x="61" y="11"/>
                          </a:lnTo>
                          <a:lnTo>
                            <a:pt x="67" y="11"/>
                          </a:lnTo>
                          <a:lnTo>
                            <a:pt x="72" y="11"/>
                          </a:lnTo>
                          <a:lnTo>
                            <a:pt x="78" y="11"/>
                          </a:lnTo>
                          <a:lnTo>
                            <a:pt x="82" y="11"/>
                          </a:lnTo>
                          <a:lnTo>
                            <a:pt x="88" y="11"/>
                          </a:lnTo>
                          <a:lnTo>
                            <a:pt x="95" y="11"/>
                          </a:lnTo>
                          <a:lnTo>
                            <a:pt x="99" y="11"/>
                          </a:lnTo>
                          <a:lnTo>
                            <a:pt x="105" y="11"/>
                          </a:lnTo>
                          <a:lnTo>
                            <a:pt x="111" y="11"/>
                          </a:lnTo>
                          <a:lnTo>
                            <a:pt x="118" y="11"/>
                          </a:lnTo>
                          <a:lnTo>
                            <a:pt x="124" y="11"/>
                          </a:lnTo>
                          <a:lnTo>
                            <a:pt x="130" y="10"/>
                          </a:lnTo>
                          <a:lnTo>
                            <a:pt x="134" y="10"/>
                          </a:lnTo>
                          <a:lnTo>
                            <a:pt x="140" y="10"/>
                          </a:lnTo>
                          <a:lnTo>
                            <a:pt x="147" y="10"/>
                          </a:lnTo>
                          <a:lnTo>
                            <a:pt x="151" y="10"/>
                          </a:lnTo>
                          <a:lnTo>
                            <a:pt x="157" y="10"/>
                          </a:lnTo>
                          <a:lnTo>
                            <a:pt x="163" y="10"/>
                          </a:lnTo>
                          <a:lnTo>
                            <a:pt x="168" y="10"/>
                          </a:lnTo>
                          <a:lnTo>
                            <a:pt x="174" y="10"/>
                          </a:lnTo>
                          <a:lnTo>
                            <a:pt x="179" y="10"/>
                          </a:lnTo>
                          <a:lnTo>
                            <a:pt x="185" y="8"/>
                          </a:lnTo>
                          <a:lnTo>
                            <a:pt x="189" y="8"/>
                          </a:lnTo>
                          <a:lnTo>
                            <a:pt x="194" y="8"/>
                          </a:lnTo>
                          <a:lnTo>
                            <a:pt x="200" y="8"/>
                          </a:lnTo>
                          <a:lnTo>
                            <a:pt x="205" y="8"/>
                          </a:lnTo>
                          <a:lnTo>
                            <a:pt x="209" y="8"/>
                          </a:lnTo>
                          <a:lnTo>
                            <a:pt x="214" y="8"/>
                          </a:lnTo>
                          <a:lnTo>
                            <a:pt x="218" y="8"/>
                          </a:lnTo>
                          <a:lnTo>
                            <a:pt x="222" y="8"/>
                          </a:lnTo>
                          <a:lnTo>
                            <a:pt x="226" y="8"/>
                          </a:lnTo>
                          <a:lnTo>
                            <a:pt x="229" y="7"/>
                          </a:lnTo>
                          <a:lnTo>
                            <a:pt x="232" y="7"/>
                          </a:lnTo>
                          <a:lnTo>
                            <a:pt x="235" y="7"/>
                          </a:lnTo>
                          <a:lnTo>
                            <a:pt x="240" y="7"/>
                          </a:lnTo>
                          <a:lnTo>
                            <a:pt x="245" y="7"/>
                          </a:lnTo>
                          <a:lnTo>
                            <a:pt x="249" y="7"/>
                          </a:lnTo>
                          <a:lnTo>
                            <a:pt x="254" y="7"/>
                          </a:lnTo>
                          <a:lnTo>
                            <a:pt x="255" y="7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81" name="TextBox 318"/>
          <p:cNvSpPr/>
          <p:nvPr/>
        </p:nvSpPr>
        <p:spPr>
          <a:xfrm>
            <a:off x="5821200" y="1314360"/>
            <a:ext cx="31100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lobal markets clash against local reali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+ local reporting standards; variation in syste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lex risks, exposed clients, evolving regulat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parency around both social and financial performance are imperat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panding context requires broader footprint of data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re channels, providers, products, objectives – more nuance, more complexity of dat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natural constraints on demand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ed to consider the full ecosystem of acto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81"/>
          <p:cNvGrpSpPr/>
          <p:nvPr/>
        </p:nvGrpSpPr>
        <p:grpSpPr>
          <a:xfrm>
            <a:off x="5346720" y="1717560"/>
            <a:ext cx="3510000" cy="4407120"/>
            <a:chOff x="5346720" y="1717560"/>
            <a:chExt cx="3510000" cy="4407120"/>
          </a:xfrm>
        </p:grpSpPr>
        <p:grpSp>
          <p:nvGrpSpPr>
            <p:cNvPr id="983" name="Group 82"/>
            <p:cNvGrpSpPr/>
            <p:nvPr/>
          </p:nvGrpSpPr>
          <p:grpSpPr>
            <a:xfrm>
              <a:off x="5346720" y="1717560"/>
              <a:ext cx="3510000" cy="4407120"/>
              <a:chOff x="5346720" y="1717560"/>
              <a:chExt cx="3510000" cy="4407120"/>
            </a:xfrm>
          </p:grpSpPr>
          <p:sp>
            <p:nvSpPr>
              <p:cNvPr id="984" name="TextBox 6"/>
              <p:cNvSpPr/>
              <p:nvPr/>
            </p:nvSpPr>
            <p:spPr>
              <a:xfrm>
                <a:off x="7149240" y="1809360"/>
                <a:ext cx="133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92929"/>
                    </a:solidFill>
                    <a:latin typeface="Arial"/>
                  </a:rPr>
                  <a:t>31 Dec 2011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pic>
            <p:nvPicPr>
              <p:cNvPr id="985" name="Picture 6" descr=""/>
              <p:cNvPicPr/>
              <p:nvPr/>
            </p:nvPicPr>
            <p:blipFill>
              <a:blip r:embed="rId1"/>
              <a:srcRect l="36251" t="35003" r="40627" b="17003"/>
              <a:stretch/>
            </p:blipFill>
            <p:spPr>
              <a:xfrm>
                <a:off x="5346720" y="1717560"/>
                <a:ext cx="3510000" cy="440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6" name="TextBox 5"/>
            <p:cNvSpPr/>
            <p:nvPr/>
          </p:nvSpPr>
          <p:spPr>
            <a:xfrm>
              <a:off x="7012080" y="182340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Dec 31, 2011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987" name="Group 15" descr=""/>
          <p:cNvPicPr/>
          <p:nvPr/>
        </p:nvPicPr>
        <p:blipFill>
          <a:blip r:embed="rId2"/>
          <a:stretch/>
        </p:blipFill>
        <p:spPr>
          <a:xfrm>
            <a:off x="1090440" y="1689120"/>
            <a:ext cx="3073680" cy="4503600"/>
          </a:xfrm>
          <a:prstGeom prst="rect">
            <a:avLst/>
          </a:prstGeom>
          <a:ln w="0">
            <a:noFill/>
          </a:ln>
        </p:spPr>
      </p:pic>
      <p:grpSp>
        <p:nvGrpSpPr>
          <p:cNvPr id="988" name="Group 22"/>
          <p:cNvGrpSpPr/>
          <p:nvPr/>
        </p:nvGrpSpPr>
        <p:grpSpPr>
          <a:xfrm>
            <a:off x="-17640" y="1728360"/>
            <a:ext cx="5345280" cy="4408920"/>
            <a:chOff x="-17640" y="1728360"/>
            <a:chExt cx="5345280" cy="4408920"/>
          </a:xfrm>
        </p:grpSpPr>
        <p:grpSp>
          <p:nvGrpSpPr>
            <p:cNvPr id="989" name="Group 29"/>
            <p:cNvGrpSpPr/>
            <p:nvPr/>
          </p:nvGrpSpPr>
          <p:grpSpPr>
            <a:xfrm>
              <a:off x="-17640" y="1728360"/>
              <a:ext cx="3218400" cy="3382560"/>
              <a:chOff x="-17640" y="1728360"/>
              <a:chExt cx="3218400" cy="3382560"/>
            </a:xfrm>
          </p:grpSpPr>
          <p:sp>
            <p:nvSpPr>
              <p:cNvPr id="990" name="Isosceles Triangle 27"/>
              <p:cNvSpPr/>
              <p:nvPr/>
            </p:nvSpPr>
            <p:spPr>
              <a:xfrm rot="6949800">
                <a:off x="267480" y="2272320"/>
                <a:ext cx="2647800" cy="2293920"/>
              </a:xfrm>
              <a:prstGeom prst="triangle">
                <a:avLst>
                  <a:gd name="adj" fmla="val 50000"/>
                </a:avLst>
              </a:prstGeom>
              <a:solidFill>
                <a:srgbClr val="935461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1" name="TextBox 28"/>
              <p:cNvSpPr/>
              <p:nvPr/>
            </p:nvSpPr>
            <p:spPr>
              <a:xfrm>
                <a:off x="174600" y="2660040"/>
                <a:ext cx="2091240" cy="11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Relevant</a:t>
                </a:r>
                <a:endParaRPr b="0" lang="en-US" sz="2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(decisions, workflows, market context)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992" name="Group 26"/>
            <p:cNvGrpSpPr/>
            <p:nvPr/>
          </p:nvGrpSpPr>
          <p:grpSpPr>
            <a:xfrm>
              <a:off x="1956600" y="2796120"/>
              <a:ext cx="3371040" cy="3341160"/>
              <a:chOff x="1956600" y="2796120"/>
              <a:chExt cx="3371040" cy="3341160"/>
            </a:xfrm>
          </p:grpSpPr>
          <p:sp>
            <p:nvSpPr>
              <p:cNvPr id="993" name="Isosceles Triangle 25"/>
              <p:cNvSpPr/>
              <p:nvPr/>
            </p:nvSpPr>
            <p:spPr>
              <a:xfrm rot="17784600">
                <a:off x="2339640" y="3255120"/>
                <a:ext cx="2527560" cy="2422440"/>
              </a:xfrm>
              <a:prstGeom prst="triangle">
                <a:avLst>
                  <a:gd name="adj" fmla="val 50000"/>
                </a:avLst>
              </a:prstGeom>
              <a:solidFill>
                <a:srgbClr val="935461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4" name="TextBox 9"/>
              <p:cNvSpPr/>
              <p:nvPr/>
            </p:nvSpPr>
            <p:spPr>
              <a:xfrm>
                <a:off x="3385800" y="3942720"/>
                <a:ext cx="1941840" cy="11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User-friendly</a:t>
                </a:r>
                <a:endParaRPr b="0" lang="en-US" sz="2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(needs-based, easy to navigate)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29"/>
          <p:cNvGrpSpPr/>
          <p:nvPr/>
        </p:nvGrpSpPr>
        <p:grpSpPr>
          <a:xfrm>
            <a:off x="-9720" y="1719000"/>
            <a:ext cx="5279400" cy="4464000"/>
            <a:chOff x="-9720" y="1719000"/>
            <a:chExt cx="5279400" cy="4464000"/>
          </a:xfrm>
        </p:grpSpPr>
        <p:grpSp>
          <p:nvGrpSpPr>
            <p:cNvPr id="996" name="Group 28"/>
            <p:cNvGrpSpPr/>
            <p:nvPr/>
          </p:nvGrpSpPr>
          <p:grpSpPr>
            <a:xfrm>
              <a:off x="-9720" y="2893320"/>
              <a:ext cx="3265200" cy="3289680"/>
              <a:chOff x="-9720" y="2893320"/>
              <a:chExt cx="3265200" cy="3289680"/>
            </a:xfrm>
          </p:grpSpPr>
          <p:sp>
            <p:nvSpPr>
              <p:cNvPr id="997" name="Isosceles Triangle 34"/>
              <p:cNvSpPr/>
              <p:nvPr/>
            </p:nvSpPr>
            <p:spPr>
              <a:xfrm rot="3604200">
                <a:off x="406080" y="3354480"/>
                <a:ext cx="2433240" cy="2367000"/>
              </a:xfrm>
              <a:prstGeom prst="triangle">
                <a:avLst>
                  <a:gd name="adj" fmla="val 50000"/>
                </a:avLst>
              </a:prstGeom>
              <a:solidFill>
                <a:srgbClr val="935461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8" name="TextBox 10"/>
              <p:cNvSpPr/>
              <p:nvPr/>
            </p:nvSpPr>
            <p:spPr>
              <a:xfrm>
                <a:off x="398520" y="4038120"/>
                <a:ext cx="209124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Comprehensive</a:t>
                </a:r>
                <a:endParaRPr b="0" lang="en-US" sz="2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(broad coverage and deep data) 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999" name="Group 25"/>
            <p:cNvGrpSpPr/>
            <p:nvPr/>
          </p:nvGrpSpPr>
          <p:grpSpPr>
            <a:xfrm>
              <a:off x="2026080" y="1719000"/>
              <a:ext cx="3243600" cy="3302280"/>
              <a:chOff x="2026080" y="1719000"/>
              <a:chExt cx="3243600" cy="3302280"/>
            </a:xfrm>
          </p:grpSpPr>
          <p:sp>
            <p:nvSpPr>
              <p:cNvPr id="1000" name="Isosceles Triangle 16"/>
              <p:cNvSpPr/>
              <p:nvPr/>
            </p:nvSpPr>
            <p:spPr>
              <a:xfrm rot="14583600">
                <a:off x="2397240" y="2186280"/>
                <a:ext cx="2501280" cy="2367360"/>
              </a:xfrm>
              <a:prstGeom prst="triangle">
                <a:avLst>
                  <a:gd name="adj" fmla="val 50000"/>
                </a:avLst>
              </a:prstGeom>
              <a:solidFill>
                <a:srgbClr val="935461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01" name="TextBox 33"/>
              <p:cNvSpPr/>
              <p:nvPr/>
            </p:nvSpPr>
            <p:spPr>
              <a:xfrm>
                <a:off x="2862720" y="2972520"/>
                <a:ext cx="21520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Cost-effective</a:t>
                </a:r>
                <a:endParaRPr b="0" lang="en-US" sz="2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(sustainable)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002" name="Title 14"/>
          <p:cNvSpPr/>
          <p:nvPr/>
        </p:nvSpPr>
        <p:spPr>
          <a:xfrm>
            <a:off x="4340160" y="0"/>
            <a:ext cx="462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Transparency: a new threshold for decision-suppo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86040" y="1454040"/>
            <a:ext cx="6175440" cy="919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2. Presentation of the best practices gu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6680" y="2124000"/>
            <a:ext cx="7897680" cy="13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9000"/>
          </a:bodyPr>
          <a:p>
            <a:pPr marL="282960" indent="-282960" algn="just">
              <a:lnSpc>
                <a:spcPct val="114000"/>
              </a:lnSpc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 develop a tool that gathers the insights drawn from diverse projects linked to financial transparency in order to enhance it at sector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45040" indent="-282960" algn="just">
              <a:lnSpc>
                <a:spcPct val="114000"/>
              </a:lnSpc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545040" indent="-282960" algn="just">
              <a:lnSpc>
                <a:spcPct val="114000"/>
              </a:lnSpc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nabling knowledge dissemination on FT for the sector’s stakehold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45040" indent="-282960" algn="just">
              <a:lnSpc>
                <a:spcPct val="114000"/>
              </a:lnSpc>
              <a:buClr>
                <a:srgbClr val="ff33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reating a toolkit to help practitioners in the implementation of FT practic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36680" y="3670200"/>
            <a:ext cx="785628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4000"/>
              </a:lnSpc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Methodology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: a participative approa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50800" indent="-285840" algn="just">
              <a:lnSpc>
                <a:spcPct val="114000"/>
              </a:lnSpc>
              <a:buClr>
                <a:srgbClr val="ff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550800" indent="-285840" algn="just">
              <a:lnSpc>
                <a:spcPct val="114000"/>
              </a:lnSpc>
              <a:buClr>
                <a:srgbClr val="ff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Project team brainstorming and analysis: literature review, analysis of FT project’s activities, definition of a preliminary list of best practic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50800" indent="-285840" algn="just">
              <a:lnSpc>
                <a:spcPct val="114000"/>
              </a:lnSpc>
              <a:buClr>
                <a:srgbClr val="ff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Inclusion of other stakeholders in the discussion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008000" indent="-285840" algn="just">
              <a:lnSpc>
                <a:spcPct val="114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Sharing of thoughts and experiences with regional acto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008000" indent="-285840" algn="just">
              <a:lnSpc>
                <a:spcPct val="114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Integration of feedback, examples and lessons learnt from partner MFI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550800" indent="-285840" algn="just">
              <a:lnSpc>
                <a:spcPct val="114000"/>
              </a:lnSpc>
              <a:buClr>
                <a:srgbClr val="ff0000"/>
              </a:buClr>
              <a:buFont typeface="Courier New"/>
              <a:buChar char="o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Tahoma"/>
              </a:rPr>
              <a:t>Dissemination of the guide through conferences, seminars, specialized websites, etc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Picture 60" descr="logo simple fond blanc"/>
          <p:cNvPicPr/>
          <p:nvPr/>
        </p:nvPicPr>
        <p:blipFill>
          <a:blip r:embed="rId1"/>
          <a:stretch/>
        </p:blipFill>
        <p:spPr>
          <a:xfrm>
            <a:off x="4730760" y="0"/>
            <a:ext cx="38797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43360" cy="6721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99" name="Rectangle 3"/>
          <p:cNvSpPr/>
          <p:nvPr/>
        </p:nvSpPr>
        <p:spPr>
          <a:xfrm>
            <a:off x="5094360" y="2440080"/>
            <a:ext cx="36082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each practic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Justification and import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ey success facto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eps in the implementation, recommend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33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llustrations with concrete exampl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57480" y="1328400"/>
            <a:ext cx="4103640" cy="917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2. Presentation of the best practices gu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201" name="Picture 60" descr="logo simple fond blanc"/>
          <p:cNvPicPr/>
          <p:nvPr/>
        </p:nvPicPr>
        <p:blipFill>
          <a:blip r:embed="rId2"/>
          <a:stretch/>
        </p:blipFill>
        <p:spPr>
          <a:xfrm>
            <a:off x="4910040" y="0"/>
            <a:ext cx="38782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77880" y="1539720"/>
            <a:ext cx="7856640" cy="449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Objet 4"/>
          <p:cNvGraphicFramePr/>
          <p:nvPr/>
        </p:nvGraphicFramePr>
        <p:xfrm>
          <a:off x="6324480" y="1335240"/>
          <a:ext cx="507960" cy="56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1335240"/>
                    <a:ext cx="5079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t 5"/>
          <p:cNvGraphicFramePr/>
          <p:nvPr/>
        </p:nvGraphicFramePr>
        <p:xfrm>
          <a:off x="8199360" y="1785960"/>
          <a:ext cx="50796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99360" y="1785960"/>
                    <a:ext cx="5079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t 6"/>
          <p:cNvGraphicFramePr/>
          <p:nvPr/>
        </p:nvGraphicFramePr>
        <p:xfrm>
          <a:off x="8345520" y="2700360"/>
          <a:ext cx="507960" cy="56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8" name="Obje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45520" y="2700360"/>
                    <a:ext cx="5079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t 7"/>
          <p:cNvGraphicFramePr/>
          <p:nvPr/>
        </p:nvGraphicFramePr>
        <p:xfrm>
          <a:off x="231840" y="1785960"/>
          <a:ext cx="507960" cy="56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" name="Obje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1840" y="1785960"/>
                    <a:ext cx="5079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8" descr=""/>
          <p:cNvPicPr/>
          <p:nvPr/>
        </p:nvPicPr>
        <p:blipFill>
          <a:blip r:embed="rId10"/>
          <a:stretch/>
        </p:blipFill>
        <p:spPr>
          <a:xfrm>
            <a:off x="819000" y="4849920"/>
            <a:ext cx="654120" cy="561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6" descr=""/>
          <p:cNvPicPr/>
          <p:nvPr/>
        </p:nvPicPr>
        <p:blipFill>
          <a:blip r:embed="rId11"/>
          <a:stretch/>
        </p:blipFill>
        <p:spPr>
          <a:xfrm>
            <a:off x="8182080" y="4002120"/>
            <a:ext cx="706320" cy="471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6" descr=""/>
          <p:cNvPicPr/>
          <p:nvPr/>
        </p:nvPicPr>
        <p:blipFill>
          <a:blip r:embed="rId12"/>
          <a:stretch/>
        </p:blipFill>
        <p:spPr>
          <a:xfrm>
            <a:off x="7253280" y="4937040"/>
            <a:ext cx="706320" cy="47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6" descr=""/>
          <p:cNvPicPr/>
          <p:nvPr/>
        </p:nvPicPr>
        <p:blipFill>
          <a:blip r:embed="rId13"/>
          <a:stretch/>
        </p:blipFill>
        <p:spPr>
          <a:xfrm>
            <a:off x="1743120" y="5479920"/>
            <a:ext cx="70632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Image 13" descr="logo MIX.png"/>
          <p:cNvPicPr/>
          <p:nvPr/>
        </p:nvPicPr>
        <p:blipFill>
          <a:blip r:embed="rId14"/>
          <a:srcRect l="0" t="0" r="54649" b="-16134"/>
          <a:stretch/>
        </p:blipFill>
        <p:spPr>
          <a:xfrm>
            <a:off x="0" y="2954160"/>
            <a:ext cx="784080" cy="34776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4" descr="logo MIX.png"/>
          <p:cNvPicPr/>
          <p:nvPr/>
        </p:nvPicPr>
        <p:blipFill>
          <a:blip r:embed="rId15"/>
          <a:srcRect l="0" t="0" r="54649" b="-16134"/>
          <a:stretch/>
        </p:blipFill>
        <p:spPr>
          <a:xfrm>
            <a:off x="12600" y="4164120"/>
            <a:ext cx="784440" cy="349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16"/>
          <a:stretch/>
        </p:blipFill>
        <p:spPr>
          <a:xfrm>
            <a:off x="8182080" y="4656240"/>
            <a:ext cx="654120" cy="56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0" descr="logo simple fond blanc"/>
          <p:cNvPicPr/>
          <p:nvPr/>
        </p:nvPicPr>
        <p:blipFill>
          <a:blip r:embed="rId17"/>
          <a:stretch/>
        </p:blipFill>
        <p:spPr>
          <a:xfrm>
            <a:off x="4730760" y="0"/>
            <a:ext cx="38797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38360" y="-360"/>
            <a:ext cx="4622760" cy="12430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28480" y="1807920"/>
            <a:ext cx="7904160" cy="451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9000"/>
          </a:bodyPr>
          <a:p>
            <a:pPr marL="433440" indent="-4334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935461"/>
                </a:solidFill>
                <a:latin typeface="Arial"/>
                <a:ea typeface="Times New Roman"/>
              </a:rPr>
              <a:t>TRANSPARENCE FINANCIERE</a:t>
            </a:r>
            <a:endParaRPr b="0" lang="en-US" sz="35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35461"/>
                </a:solidFill>
                <a:latin typeface="Arial"/>
                <a:ea typeface="Times New Roman"/>
              </a:rPr>
              <a:t>L’EXPERIENCE de CAURIE MICROFINA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ite Web : www.caurie-mf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Semaine européenne de la Microfin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  <a:ea typeface="Times New Roman"/>
              </a:rPr>
              <a:t>Luxembourg, 16 novembre 20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Par Mamadou Lamine GUEY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E-mail : </a:t>
            </a:r>
            <a:r>
              <a:rPr b="0" lang="fr-FR" sz="1400" spc="-1" strike="noStrike" u="sng">
                <a:solidFill>
                  <a:srgbClr val="999933"/>
                </a:solidFill>
                <a:uFillTx/>
                <a:latin typeface="Arial"/>
                <a:ea typeface="Times New Roman"/>
                <a:hlinkClick r:id="rId1"/>
              </a:rPr>
              <a:t>caurie-mf@orange.s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Tel : +22177638244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3440" indent="-43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21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61480" cy="2090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CAURIE-MICROFINA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3500"/>
            </a:br>
            <a:r>
              <a:rPr b="1" lang="fr-FR" sz="3100" spc="-1" strike="noStrike">
                <a:solidFill>
                  <a:srgbClr val="935461"/>
                </a:solidFill>
                <a:latin typeface="Arial"/>
              </a:rPr>
              <a:t>MISSION / VISION</a:t>
            </a:r>
            <a:br>
              <a:rPr sz="3900"/>
            </a:br>
            <a:endParaRPr b="1" lang="en-US" sz="31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98320" y="2158560"/>
            <a:ext cx="3811680" cy="3884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292929"/>
                </a:solidFill>
                <a:uFillTx/>
                <a:latin typeface="Arial"/>
                <a:ea typeface="Times New Roman"/>
              </a:rPr>
              <a:t>Notre miss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  <a:ea typeface="Times New Roman"/>
              </a:rPr>
              <a:t>«Contribuer durablement à la promotion économique et sociale des microentrepreneurs  pauvres, principalement les femmes en leur offrant des produits et services financiers appropriés»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92240" y="2160720"/>
            <a:ext cx="3676680" cy="3814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438120" indent="-43812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292929"/>
                </a:solidFill>
                <a:uFillTx/>
                <a:latin typeface="Arial"/>
              </a:rPr>
              <a:t>Notre visio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120" indent="-438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«Etre une institution de microfinance socialement responsable, financièrement viable et leader dans l’offre de services aux pauvres»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26" name="Object 8"/>
          <p:cNvGraphicFramePr/>
          <p:nvPr/>
        </p:nvGraphicFramePr>
        <p:xfrm>
          <a:off x="7797960" y="0"/>
          <a:ext cx="105696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0"/>
                    <a:ext cx="1056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07:50:27Z</dcterms:created>
  <dc:creator>mbiard</dc:creator>
  <dc:description/>
  <dc:language>en-US</dc:language>
  <cp:lastModifiedBy>Juana Ramirez e-MFP</cp:lastModifiedBy>
  <cp:lastPrinted>2012-11-14T10:56:10Z</cp:lastPrinted>
  <dcterms:modified xsi:type="dcterms:W3CDTF">2012-11-26T08:43:11Z</dcterms:modified>
  <cp:revision>160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unication Status">
    <vt:lpwstr/>
  </property>
  <property fmtid="{D5CDD505-2E9C-101B-9397-08002B2CF9AE}" pid="3" name="Confidentiality">
    <vt:lpwstr/>
  </property>
  <property fmtid="{D5CDD505-2E9C-101B-9397-08002B2CF9AE}" pid="4" name="ContentTypeId">
    <vt:lpwstr>0x0101002E2DC66075521B449B0EAB9978D26133</vt:lpwstr>
  </property>
  <property fmtid="{D5CDD505-2E9C-101B-9397-08002B2CF9AE}" pid="5" name="Delivery Date">
    <vt:lpwstr>July 2009</vt:lpwstr>
  </property>
  <property fmtid="{D5CDD505-2E9C-101B-9397-08002B2CF9AE}" pid="6" name="DocID">
    <vt:lpwstr/>
  </property>
  <property fmtid="{D5CDD505-2E9C-101B-9397-08002B2CF9AE}" pid="7" name="DocIDPosition">
    <vt:r8>1</vt:r8>
  </property>
  <property fmtid="{D5CDD505-2E9C-101B-9397-08002B2CF9AE}" pid="8" name="DocIDinSlide">
    <vt:bool>0</vt:bool>
  </property>
  <property fmtid="{D5CDD505-2E9C-101B-9397-08002B2CF9AE}" pid="9" name="DocIDinTitle">
    <vt:bool>0</vt:bool>
  </property>
  <property fmtid="{D5CDD505-2E9C-101B-9397-08002B2CF9AE}" pid="10" name="Event">
    <vt:lpwstr/>
  </property>
  <property fmtid="{D5CDD505-2E9C-101B-9397-08002B2CF9AE}" pid="11" name="Final">
    <vt:bool>1</vt:bool>
  </property>
  <property fmtid="{D5CDD505-2E9C-101B-9397-08002B2CF9AE}" pid="12" name="Language1">
    <vt:lpwstr>English</vt:lpwstr>
  </property>
  <property fmtid="{D5CDD505-2E9C-101B-9397-08002B2CF9AE}" pid="13" name="McKPaperSize">
    <vt:lpwstr>A4</vt:lpwstr>
  </property>
  <property fmtid="{D5CDD505-2E9C-101B-9397-08002B2CF9AE}" pid="14" name="Nomenclature">
    <vt:lpwstr>Example: Document's Name_Country_Language_Date (yyyymmdd)</vt:lpwstr>
  </property>
  <property fmtid="{D5CDD505-2E9C-101B-9397-08002B2CF9AE}" pid="15" name="NotesPageLayout">
    <vt:lpwstr>Message</vt:lpwstr>
  </property>
  <property fmtid="{D5CDD505-2E9C-101B-9397-08002B2CF9AE}" pid="16" name="Title">
    <vt:lpwstr>Title</vt:lpwstr>
  </property>
  <property fmtid="{D5CDD505-2E9C-101B-9397-08002B2CF9AE}" pid="17" name="Universal Objects">
    <vt:bool>1</vt:bool>
  </property>
</Properties>
</file>