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jpeg" ContentType="image/jpeg"/>
  <Override PartName="/ppt/media/image16.png" ContentType="image/png"/>
  <Override PartName="/ppt/media/image14.png" ContentType="image/png"/>
  <Override PartName="/ppt/media/image2.wmf" ContentType="image/x-wmf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35461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71F21-48DC-47AC-B440-E59C3CF643C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New participant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81AB0-693D-406B-B5CE-F68EC256DCF6}" type="slidenum">
              <a:rPr b="0" lang="fr-FR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Results emerged for other social performance areas as well (SPM, social responsibility staff); however, we focus the presentation of results on the client prote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Controls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ge, region of activity, operating expense ratio, real gross portfolio yield or risk coverage rati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16BB4-CAAB-4190-8282-6320608847B3}" type="slidenum">
              <a:rPr b="0" lang="fr-FR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1D39F-96E8-4FF0-9C05-9DFD69EC3A59}" type="slidenum">
              <a:rPr b="0" lang="fr-FR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76615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9640" y="4227480"/>
            <a:ext cx="76615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65440" y="242064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9640" y="422748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465440" y="422748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24667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0200" y="2420640"/>
            <a:ext cx="24667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20400" y="2420640"/>
            <a:ext cx="24667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9640" y="4227480"/>
            <a:ext cx="24667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0200" y="4227480"/>
            <a:ext cx="24667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20400" y="4227480"/>
            <a:ext cx="24667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9640" y="2420640"/>
            <a:ext cx="7661520" cy="34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766152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37386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465440" y="2420640"/>
            <a:ext cx="37386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43280" y="1484280"/>
            <a:ext cx="6300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65440" y="2420640"/>
            <a:ext cx="37386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9640" y="422748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37386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65440" y="242064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465440" y="422748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65440" y="242064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9640" y="4227480"/>
            <a:ext cx="76615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5"/>
          <p:cNvSpPr/>
          <p:nvPr/>
        </p:nvSpPr>
        <p:spPr>
          <a:xfrm>
            <a:off x="0" y="6485040"/>
            <a:ext cx="9144000" cy="380880"/>
          </a:xfrm>
          <a:prstGeom prst="rect">
            <a:avLst/>
          </a:prstGeom>
          <a:solidFill>
            <a:srgbClr val="e856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39640" y="2420640"/>
            <a:ext cx="766152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25160" indent="-425160"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44200" indent="-417240">
              <a:spcBef>
                <a:spcPts val="700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1229040" indent="-383040"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3" marL="1596960" indent="-366480">
              <a:spcBef>
                <a:spcPts val="700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4" marL="1966320" indent="-367920"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5" marL="1966320" indent="-367920">
              <a:spcBef>
                <a:spcPts val="700"/>
              </a:spcBef>
              <a:buClr>
                <a:srgbClr val="29292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6" marL="1966320" indent="-367920">
              <a:spcBef>
                <a:spcPts val="700"/>
              </a:spcBef>
              <a:buClr>
                <a:srgbClr val="29292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22120" y="6559560"/>
            <a:ext cx="2880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ffffff"/>
                </a:solidFill>
                <a:latin typeface="Arial"/>
              </a:rPr>
              <a:t>contact@e-mfp.eu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6084720" y="6597720"/>
            <a:ext cx="28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ffffff"/>
                </a:solidFill>
                <a:latin typeface="Arial"/>
              </a:rPr>
              <a:t>www.e-mfp.eu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35461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pic>
        <p:nvPicPr>
          <p:cNvPr id="5" name="Picture 7" descr="Header_entête.jpg"/>
          <p:cNvPicPr/>
          <p:nvPr/>
        </p:nvPicPr>
        <p:blipFill>
          <a:blip r:embed="rId2"/>
          <a:stretch/>
        </p:blipFill>
        <p:spPr>
          <a:xfrm>
            <a:off x="0" y="0"/>
            <a:ext cx="4427640" cy="1482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pn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png"/><Relationship Id="rId10" Type="http://schemas.openxmlformats.org/officeDocument/2006/relationships/image" Target="../media/image11.jpeg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935461"/>
                </a:solidFill>
                <a:latin typeface="Arial"/>
              </a:rPr>
              <a:t>Making Microfinance Investment Responsible</a:t>
            </a:r>
            <a:br>
              <a:rPr sz="2000"/>
            </a:b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92929"/>
                </a:solidFill>
                <a:latin typeface="Arial"/>
              </a:rPr>
              <a:t>Client protection and financial performance, win win or trade-off?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964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35461"/>
                </a:solidFill>
                <a:latin typeface="Arial"/>
              </a:rPr>
              <a:t>Key Variables</a:t>
            </a: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68000" y="2060280"/>
            <a:ext cx="8505720" cy="41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499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Dependent Variables (“to be explained”):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51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92929"/>
                </a:solidFill>
                <a:latin typeface="Arial"/>
              </a:rPr>
              <a:t>Operating Expense Ratio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51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92929"/>
                </a:solidFill>
                <a:latin typeface="Arial"/>
              </a:rPr>
              <a:t>ROE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51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92929"/>
                </a:solidFill>
                <a:latin typeface="Arial"/>
              </a:rPr>
              <a:t>ROA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51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92929"/>
                </a:solidFill>
                <a:latin typeface="Arial"/>
              </a:rPr>
              <a:t>PAR30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Key Independent Variables (“to explain”):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51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92929"/>
                </a:solidFill>
                <a:latin typeface="Arial"/>
              </a:rPr>
              <a:t>Price Transparency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51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92929"/>
                </a:solidFill>
                <a:latin typeface="Arial"/>
              </a:rPr>
              <a:t>Complaints Procedure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51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92929"/>
                </a:solidFill>
                <a:latin typeface="Arial"/>
              </a:rPr>
              <a:t>Privacy of Client Data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51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92929"/>
                </a:solidFill>
                <a:latin typeface="Arial"/>
              </a:rPr>
              <a:t>Ethical Staff Behavior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51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92929"/>
                </a:solidFill>
                <a:latin typeface="Arial"/>
              </a:rPr>
              <a:t>Avoidance of Over-Indebtednes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51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92929"/>
                </a:solidFill>
                <a:latin typeface="Arial"/>
              </a:rPr>
              <a:t>Appropriate Debt Collections Practices.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00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00720" y="188640"/>
            <a:ext cx="630072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35461"/>
                </a:solidFill>
                <a:latin typeface="Arial"/>
              </a:rPr>
              <a:t>Control Variables</a:t>
            </a: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95280" y="1557000"/>
            <a:ext cx="8507520" cy="41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499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So far: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00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92929"/>
                </a:solidFill>
                <a:latin typeface="Arial"/>
              </a:rPr>
              <a:t>Country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00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92929"/>
                </a:solidFill>
                <a:latin typeface="Arial"/>
              </a:rPr>
              <a:t>Region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00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92929"/>
                </a:solidFill>
                <a:latin typeface="Arial"/>
              </a:rPr>
              <a:t>Age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00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92929"/>
                </a:solidFill>
                <a:latin typeface="Arial"/>
              </a:rPr>
              <a:t>Size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00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92929"/>
                </a:solidFill>
                <a:latin typeface="Arial"/>
              </a:rPr>
              <a:t>Year of Assessment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00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92929"/>
                </a:solidFill>
                <a:latin typeface="Arial"/>
              </a:rPr>
              <a:t>Assessing Institution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00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92929"/>
                </a:solidFill>
                <a:latin typeface="Arial"/>
              </a:rPr>
              <a:t>Variability of Assessing Institution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Further planned: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00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92929"/>
                </a:solidFill>
                <a:latin typeface="Arial"/>
              </a:rPr>
              <a:t>MFI’s legal status, Real Gross Portfolio Yield, Operating Expense Ratio, Risk Coverage Ratio, Data Collection Reliability (i.e. Self reported, Self Reported and Verified, Rated), Country Ratings on Institutional/Regulatory Aspect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00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92929"/>
                </a:solidFill>
                <a:latin typeface="Arial"/>
              </a:rPr>
              <a:t>Any further suggestion very welcome …?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00720" y="188640"/>
            <a:ext cx="630072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35461"/>
                </a:solidFill>
                <a:latin typeface="Arial"/>
              </a:rPr>
              <a:t>Technical Details</a:t>
            </a: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95280" y="1557000"/>
            <a:ext cx="8507520" cy="41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499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Pooled/Very unbalanced panel regressio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Robust standard errors clustered at regional or country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Regions classified according to Worldbank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Automatic multicollinearity adjustment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Use of strict significance levels 95%, 99%, 99.9%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Robustness tests so fa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00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92929"/>
                </a:solidFill>
                <a:latin typeface="Arial"/>
              </a:rPr>
              <a:t>without Mix data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00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92929"/>
                </a:solidFill>
                <a:latin typeface="Arial"/>
              </a:rPr>
              <a:t>weighting observations by 1/provider sample and 1/variability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00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92929"/>
                </a:solidFill>
                <a:latin typeface="Arial"/>
              </a:rPr>
              <a:t>Using only 2010-2011 as sample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00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92929"/>
                </a:solidFill>
                <a:latin typeface="Arial"/>
              </a:rPr>
              <a:t>Using only 2011 as sample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00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92929"/>
                </a:solidFill>
                <a:latin typeface="Arial"/>
              </a:rPr>
              <a:t>Combinations of the above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Individual provider analyses performed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00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00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00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964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35461"/>
                </a:solidFill>
                <a:latin typeface="Arial"/>
              </a:rPr>
              <a:t>Progress so far</a:t>
            </a: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539640" y="1988640"/>
            <a:ext cx="7661520" cy="34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92929"/>
                </a:solidFill>
                <a:latin typeface="Arial"/>
              </a:rPr>
              <a:t>Precise matching of datasets on 6 client protection criteria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92929"/>
                </a:solidFill>
                <a:latin typeface="Arial"/>
              </a:rPr>
              <a:t>Two iteration of in-depth data cleaning involving 30min interviews and, if suitable, an update data supply from each provider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92929"/>
                </a:solidFill>
                <a:latin typeface="Arial"/>
              </a:rPr>
              <a:t>~1,500 regressions (Main regressions and many robustness tests)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9640" y="1484280"/>
            <a:ext cx="6300720" cy="43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35461"/>
                </a:solidFill>
                <a:latin typeface="Arial"/>
              </a:rPr>
              <a:t>Results</a:t>
            </a: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539640" y="2060280"/>
            <a:ext cx="7661520" cy="34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98520" indent="-398520">
              <a:spcBef>
                <a:spcPts val="601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92929"/>
                </a:solidFill>
                <a:latin typeface="Arial"/>
              </a:rPr>
              <a:t>What we find?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90920" indent="-390960">
              <a:spcBef>
                <a:spcPts val="499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Results to emerge through statistical analysis and joint interpretation …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98520" indent="-398520">
              <a:spcBef>
                <a:spcPts val="601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92929"/>
                </a:solidFill>
                <a:latin typeface="Arial"/>
              </a:rPr>
              <a:t>What we did not find (so far at least):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90920" indent="-390960">
              <a:spcBef>
                <a:spcPts val="499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In main regression and all robustness test so far (i.e. without MiX, weighting observations by accuracy and provider, 2010-2011 sample, 2011 sample etc.) …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90920" indent="-390960">
              <a:spcBef>
                <a:spcPts val="499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… </a:t>
            </a: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the relationship between Price Transparency, Complaints Procedure, Privacy of Client Data and Ethical Staff Behavior has never been statistically significantly ‘linearly negative’ at 10%, 5% or 1% level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00720" y="11592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35461"/>
                </a:solidFill>
                <a:latin typeface="Arial"/>
              </a:rPr>
              <a:t>Lessons learned so far</a:t>
            </a: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539280" y="1483920"/>
            <a:ext cx="8209080" cy="34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349200" indent="-349200">
              <a:spcBef>
                <a:spcPts val="499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Client Protection ratings matter for financial outcomes though in varying ways. Hence, the information itself is clearly valuabl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9200" indent="-349200">
              <a:spcBef>
                <a:spcPts val="499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‘</a:t>
            </a: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Indirectly financial aspects’ of client protection such as transparency or privacy appear to be non-negatively related with financial return measures, which might be explainable by a ‘quality of management’ narrativ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9200" indent="-349200">
              <a:spcBef>
                <a:spcPts val="499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However, when it comes to directly financial aspects such as preventing over-indebtedness or appropriately collecting debts the relationship seems quite mixed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9200" indent="-349200">
              <a:spcBef>
                <a:spcPts val="499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Similarly, the relationships between any aspect of client protection and risk measures appear quite mixed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9200" indent="-349200">
              <a:spcBef>
                <a:spcPts val="499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Further research will go deeper into contextual aspects to enhance the robustness of these results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9200" indent="-349200">
              <a:spcBef>
                <a:spcPts val="499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Any further suggestions?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693000" indent="-342720">
              <a:spcBef>
                <a:spcPts val="400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92929"/>
                </a:solidFill>
                <a:latin typeface="Arial"/>
              </a:rPr>
              <a:t>Feedback very welcome …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6576840" y="527040"/>
            <a:ext cx="2286000" cy="453960"/>
          </a:xfrm>
          <a:prstGeom prst="rect">
            <a:avLst/>
          </a:prstGeom>
          <a:ln w="0">
            <a:noFill/>
          </a:ln>
        </p:spPr>
      </p:pic>
      <p:sp>
        <p:nvSpPr>
          <p:cNvPr id="98" name="Titolo 1"/>
          <p:cNvSpPr/>
          <p:nvPr/>
        </p:nvSpPr>
        <p:spPr>
          <a:xfrm>
            <a:off x="574560" y="1484280"/>
            <a:ext cx="73105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935461"/>
                </a:solidFill>
                <a:latin typeface="Arial"/>
              </a:rPr>
              <a:t>Next steps of research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39640" y="2204640"/>
            <a:ext cx="7920000" cy="34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451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292929"/>
                </a:solidFill>
                <a:uFillTx/>
                <a:latin typeface="Arial"/>
              </a:rPr>
              <a:t>Phase 1</a:t>
            </a:r>
            <a:r>
              <a:rPr b="0" lang="it-IT" sz="1800" spc="-1" strike="noStrike">
                <a:solidFill>
                  <a:srgbClr val="292929"/>
                </a:solidFill>
                <a:latin typeface="Arial"/>
              </a:rPr>
              <a:t> : MIR Action Group Brief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e8561c"/>
                </a:solidFill>
                <a:latin typeface="Arial"/>
              </a:rPr>
              <a:t>client protection</a:t>
            </a:r>
            <a:r>
              <a:rPr b="0" lang="it-IT" sz="1800" spc="-1" strike="noStrike">
                <a:solidFill>
                  <a:srgbClr val="e8561c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e8561c"/>
                </a:solidFill>
                <a:latin typeface="Arial"/>
              </a:rPr>
              <a:t>	</a:t>
            </a:r>
            <a:r>
              <a:rPr b="1" lang="it-IT" sz="1800" spc="-1" strike="noStrike">
                <a:solidFill>
                  <a:srgbClr val="e8561c"/>
                </a:solidFill>
                <a:latin typeface="Arial"/>
              </a:rPr>
              <a:t>→</a:t>
            </a:r>
            <a:r>
              <a:rPr b="0" lang="it-IT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292929"/>
                </a:solidFill>
                <a:latin typeface="Arial"/>
              </a:rPr>
              <a:t>financial performance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51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292929"/>
                </a:solidFill>
                <a:uFillTx/>
                <a:latin typeface="Arial"/>
              </a:rPr>
              <a:t>Phase 2</a:t>
            </a:r>
            <a:r>
              <a:rPr b="0" lang="it-IT" sz="1800" spc="-1" strike="noStrike">
                <a:solidFill>
                  <a:srgbClr val="292929"/>
                </a:solidFill>
                <a:latin typeface="Arial"/>
              </a:rPr>
              <a:t> : e-MFP AG European Dialogue or Handbook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e8561c"/>
                </a:solidFill>
                <a:latin typeface="Arial"/>
              </a:rPr>
              <a:t>social performance</a:t>
            </a:r>
            <a:r>
              <a:rPr b="0" lang="it-IT" sz="1800" spc="-1" strike="noStrike">
                <a:solidFill>
                  <a:srgbClr val="e8561c"/>
                </a:solidFill>
                <a:latin typeface="Arial"/>
              </a:rPr>
              <a:t>	</a:t>
            </a:r>
            <a:r>
              <a:rPr b="1" lang="it-IT" sz="1800" spc="-1" strike="noStrike">
                <a:solidFill>
                  <a:srgbClr val="e8561c"/>
                </a:solidFill>
                <a:latin typeface="Arial"/>
              </a:rPr>
              <a:t>→</a:t>
            </a:r>
            <a:r>
              <a:rPr b="0" lang="it-IT" sz="18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7f7f7f"/>
                </a:solidFill>
                <a:latin typeface="Arial"/>
              </a:rPr>
              <a:t>( = client protection + </a:t>
            </a:r>
            <a:r>
              <a:rPr b="0" lang="it-IT" sz="1800" spc="-1" strike="noStrike">
                <a:solidFill>
                  <a:srgbClr val="7f7f7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7f7f7f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7f7f7f"/>
                </a:solidFill>
                <a:latin typeface="Arial"/>
              </a:rPr>
              <a:t>outreach + quality +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7f7f7f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7f7f7f"/>
                </a:solidFill>
                <a:latin typeface="Arial"/>
              </a:rPr>
              <a:t>SPM + social responsibility)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7f7f7f"/>
                </a:solidFill>
                <a:latin typeface="Arial"/>
              </a:rPr>
              <a:t>↓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0" name="Rettangolo 7"/>
          <p:cNvSpPr/>
          <p:nvPr/>
        </p:nvSpPr>
        <p:spPr>
          <a:xfrm>
            <a:off x="5173920" y="3863880"/>
            <a:ext cx="23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292929"/>
                </a:solidFill>
                <a:latin typeface="Arial"/>
              </a:rPr>
              <a:t>financial performance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1" name="Rettangolo 9"/>
          <p:cNvSpPr/>
          <p:nvPr/>
        </p:nvSpPr>
        <p:spPr>
          <a:xfrm>
            <a:off x="1116000" y="5735520"/>
            <a:ext cx="72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7f7f7f"/>
                </a:solidFill>
                <a:latin typeface="Arial"/>
              </a:rPr>
              <a:t>Investigating the complete set of social performance indicators will clarify the global picture of the social and financial relationship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35461"/>
                </a:solidFill>
                <a:latin typeface="Arial"/>
              </a:rPr>
              <a:t>Investor perspectives</a:t>
            </a: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539640" y="2420640"/>
            <a:ext cx="7661520" cy="34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499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Christophe Bochatay, Triple Jump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Robin Gravesteijn, Oikocredit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Maxime Bouan, BlueOrchard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345960" y="2030400"/>
            <a:ext cx="2286000" cy="4539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" descr=""/>
          <p:cNvPicPr/>
          <p:nvPr/>
        </p:nvPicPr>
        <p:blipFill>
          <a:blip r:embed="rId2"/>
          <a:stretch/>
        </p:blipFill>
        <p:spPr>
          <a:xfrm>
            <a:off x="3178080" y="3041640"/>
            <a:ext cx="2517840" cy="755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"/>
          <p:cNvPicPr/>
          <p:nvPr/>
        </p:nvPicPr>
        <p:blipFill>
          <a:blip r:embed="rId3"/>
          <a:stretch/>
        </p:blipFill>
        <p:spPr>
          <a:xfrm>
            <a:off x="6372360" y="3081240"/>
            <a:ext cx="2152440" cy="6764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"/>
          <p:cNvPicPr/>
          <p:nvPr/>
        </p:nvPicPr>
        <p:blipFill>
          <a:blip r:embed="rId4"/>
          <a:stretch/>
        </p:blipFill>
        <p:spPr>
          <a:xfrm>
            <a:off x="442800" y="4459320"/>
            <a:ext cx="2092320" cy="585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"/>
          <p:cNvPicPr/>
          <p:nvPr/>
        </p:nvPicPr>
        <p:blipFill>
          <a:blip r:embed="rId5"/>
          <a:stretch/>
        </p:blipFill>
        <p:spPr>
          <a:xfrm>
            <a:off x="2860560" y="4413240"/>
            <a:ext cx="1368720" cy="8334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0" descr=""/>
          <p:cNvPicPr/>
          <p:nvPr/>
        </p:nvPicPr>
        <p:blipFill>
          <a:blip r:embed="rId6"/>
          <a:srcRect l="23042" t="20246" r="28236" b="69139"/>
          <a:stretch/>
        </p:blipFill>
        <p:spPr>
          <a:xfrm>
            <a:off x="3124080" y="1928880"/>
            <a:ext cx="5672160" cy="6951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" descr=""/>
          <p:cNvPicPr/>
          <p:nvPr/>
        </p:nvPicPr>
        <p:blipFill>
          <a:blip r:embed="rId7"/>
          <a:stretch/>
        </p:blipFill>
        <p:spPr>
          <a:xfrm>
            <a:off x="473040" y="3003480"/>
            <a:ext cx="2371680" cy="1046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2" descr=""/>
          <p:cNvPicPr/>
          <p:nvPr/>
        </p:nvPicPr>
        <p:blipFill>
          <a:blip r:embed="rId8"/>
          <a:stretch/>
        </p:blipFill>
        <p:spPr>
          <a:xfrm>
            <a:off x="6859440" y="4002120"/>
            <a:ext cx="1729080" cy="1728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"/>
          <p:cNvPicPr/>
          <p:nvPr/>
        </p:nvPicPr>
        <p:blipFill>
          <a:blip r:embed="rId9"/>
          <a:stretch/>
        </p:blipFill>
        <p:spPr>
          <a:xfrm>
            <a:off x="7667640" y="237960"/>
            <a:ext cx="1001520" cy="12114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" descr=""/>
          <p:cNvPicPr/>
          <p:nvPr/>
        </p:nvPicPr>
        <p:blipFill>
          <a:blip r:embed="rId10"/>
          <a:stretch/>
        </p:blipFill>
        <p:spPr>
          <a:xfrm>
            <a:off x="4437000" y="4495680"/>
            <a:ext cx="2152800" cy="7430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2" descr=""/>
          <p:cNvPicPr/>
          <p:nvPr/>
        </p:nvPicPr>
        <p:blipFill>
          <a:blip r:embed="rId11"/>
          <a:srcRect l="14471" t="12426" r="65575" b="71009"/>
          <a:stretch/>
        </p:blipFill>
        <p:spPr>
          <a:xfrm>
            <a:off x="5446800" y="504720"/>
            <a:ext cx="1582560" cy="7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35461"/>
                </a:solidFill>
                <a:latin typeface="Arial"/>
              </a:rPr>
              <a:t>Background</a:t>
            </a: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539640" y="1844280"/>
            <a:ext cx="7661520" cy="34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375840" indent="-375840">
              <a:spcBef>
                <a:spcPts val="425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292929"/>
                </a:solidFill>
                <a:latin typeface="Arial"/>
              </a:rPr>
              <a:t>The relationship between social aspects of business and financial performance has been studied in depth for many industries but not for microfinance, despite its multiple ambitions</a:t>
            </a:r>
            <a:endParaRPr b="0" lang="en-US" sz="1700" spc="-1" strike="noStrike">
              <a:solidFill>
                <a:srgbClr val="292929"/>
              </a:solidFill>
              <a:latin typeface="Arial"/>
            </a:endParaRPr>
          </a:p>
          <a:p>
            <a:pPr marL="375840" indent="-375840">
              <a:spcBef>
                <a:spcPts val="425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292929"/>
                </a:solidFill>
                <a:latin typeface="Arial"/>
              </a:rPr>
              <a:t>Previous research in microfinance scarce:</a:t>
            </a:r>
            <a:endParaRPr b="0" lang="en-US" sz="1700" spc="-1" strike="noStrike">
              <a:solidFill>
                <a:srgbClr val="292929"/>
              </a:solidFill>
              <a:latin typeface="Arial"/>
            </a:endParaRPr>
          </a:p>
          <a:p>
            <a:pPr lvl="1" marL="746280" indent="-369000">
              <a:spcBef>
                <a:spcPts val="425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292929"/>
                </a:solidFill>
                <a:latin typeface="Arial"/>
              </a:rPr>
              <a:t>Industry studies (e.g. by Cerise, Incofin, Microfinanza Rating)</a:t>
            </a:r>
            <a:endParaRPr b="0" lang="en-US" sz="1700" spc="-1" strike="noStrike">
              <a:solidFill>
                <a:srgbClr val="292929"/>
              </a:solidFill>
              <a:latin typeface="Arial"/>
            </a:endParaRPr>
          </a:p>
          <a:p>
            <a:pPr lvl="1" marL="746280" indent="-369000">
              <a:spcBef>
                <a:spcPts val="425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292929"/>
                </a:solidFill>
                <a:latin typeface="Arial"/>
              </a:rPr>
              <a:t>Academic Studies on Outreach using average loan size as proxy (e.g. Cull et al., 2007; Hermes et al., 2011)</a:t>
            </a:r>
            <a:endParaRPr b="0" lang="en-US" sz="1700" spc="-1" strike="noStrike">
              <a:solidFill>
                <a:srgbClr val="292929"/>
              </a:solidFill>
              <a:latin typeface="Arial"/>
            </a:endParaRPr>
          </a:p>
          <a:p>
            <a:pPr lvl="1" marL="746280" indent="-369000">
              <a:spcBef>
                <a:spcPts val="425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292929"/>
                </a:solidFill>
                <a:latin typeface="Arial"/>
              </a:rPr>
              <a:t>One work in progress on non-linear relationship between external and internal social responsibility and financial performance using data from Microfinanza Rating (Hoepner, Liu &amp; Wilson, 2012)</a:t>
            </a:r>
            <a:endParaRPr b="0" lang="en-US" sz="1700" spc="-1" strike="noStrike">
              <a:solidFill>
                <a:srgbClr val="292929"/>
              </a:solidFill>
              <a:latin typeface="Arial"/>
            </a:endParaRPr>
          </a:p>
          <a:p>
            <a:pPr marL="375840" indent="-375840">
              <a:spcBef>
                <a:spcPts val="425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292929"/>
                </a:solidFill>
                <a:latin typeface="Arial"/>
              </a:rPr>
              <a:t>In this context, ten organizations joined forces to organize a large scale analysis of the relationship between social performance (especially client protection principles) and financial performance in microfinance</a:t>
            </a:r>
            <a:endParaRPr b="0" lang="en-US" sz="1700" spc="-1" strike="noStrike">
              <a:solidFill>
                <a:srgbClr val="292929"/>
              </a:solidFill>
              <a:latin typeface="Arial"/>
            </a:endParaRPr>
          </a:p>
          <a:p>
            <a:pPr marL="375840" indent="-375840">
              <a:spcBef>
                <a:spcPts val="425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292929"/>
                </a:solidFill>
                <a:latin typeface="Arial"/>
              </a:rPr>
              <a:t>This presentation engages with the background and process of this research project  </a:t>
            </a:r>
            <a:endParaRPr b="0" lang="en-US" sz="17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4200" y="1484280"/>
            <a:ext cx="731052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935461"/>
                </a:solidFill>
                <a:latin typeface="Arial"/>
              </a:rPr>
              <a:t>Previous research on social and financial performance 1/3</a:t>
            </a: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539280" y="2133360"/>
            <a:ext cx="79678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 algn="just">
              <a:spcBef>
                <a:spcPts val="4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  <a:ea typeface="Times New Roman"/>
              </a:rPr>
              <a:t>Financial results - Social performance matters, St Andrews University - MicroFinanza Rating, May 2012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 algn="just">
              <a:spcBef>
                <a:spcPts val="4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 algn="just">
              <a:spcBef>
                <a:spcPts val="4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 algn="just">
              <a:spcBef>
                <a:spcPts val="4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 algn="just">
              <a:spcBef>
                <a:spcPts val="4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 algn="just">
              <a:spcBef>
                <a:spcPts val="4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 algn="just">
              <a:spcBef>
                <a:spcPts val="4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 algn="just">
              <a:spcBef>
                <a:spcPts val="4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 u="sng">
                <a:solidFill>
                  <a:srgbClr val="292929"/>
                </a:solidFill>
                <a:uFillTx/>
                <a:latin typeface="Arial"/>
                <a:ea typeface="Times New Roman"/>
              </a:rPr>
              <a:t>Methodology</a:t>
            </a:r>
            <a:r>
              <a:rPr b="0" lang="it-IT" sz="1600" spc="-1" strike="noStrike">
                <a:solidFill>
                  <a:srgbClr val="292929"/>
                </a:solidFill>
                <a:latin typeface="Arial"/>
                <a:ea typeface="Times New Roman"/>
              </a:rPr>
              <a:t>: </a:t>
            </a:r>
            <a:r>
              <a:rPr b="0" lang="en-GB" sz="1600" spc="-1" strike="noStrike">
                <a:solidFill>
                  <a:srgbClr val="292929"/>
                </a:solidFill>
                <a:latin typeface="Arial"/>
              </a:rPr>
              <a:t>Pooled regression a la Cull et al. (2007), linear and non-linear relationships tested.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 algn="just">
              <a:spcBef>
                <a:spcPts val="4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 u="sng">
                <a:solidFill>
                  <a:srgbClr val="292929"/>
                </a:solidFill>
                <a:uFillTx/>
                <a:latin typeface="Arial"/>
                <a:ea typeface="Times New Roman"/>
              </a:rPr>
              <a:t>Strength</a:t>
            </a:r>
            <a:r>
              <a:rPr b="0" lang="it-IT" sz="1600" spc="-1" strike="noStrike">
                <a:solidFill>
                  <a:srgbClr val="292929"/>
                </a:solidFill>
                <a:latin typeface="Arial"/>
                <a:ea typeface="Times New Roman"/>
              </a:rPr>
              <a:t>: data reliability from microfinance and social ratings (review of data and systems - including 1-2 weeks on site visit to the MFI)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 algn="just">
              <a:spcBef>
                <a:spcPts val="4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 u="sng">
                <a:solidFill>
                  <a:srgbClr val="292929"/>
                </a:solidFill>
                <a:uFillTx/>
                <a:latin typeface="Arial"/>
                <a:ea typeface="Times New Roman"/>
              </a:rPr>
              <a:t>Challenge</a:t>
            </a:r>
            <a:r>
              <a:rPr b="0" lang="it-IT" sz="1600" spc="-1" strike="noStrike">
                <a:solidFill>
                  <a:srgbClr val="292929"/>
                </a:solidFill>
                <a:latin typeface="Arial"/>
                <a:ea typeface="Times New Roman"/>
              </a:rPr>
              <a:t>: small database, research to be repeated with larger dataset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6" name="Rettangolo 5"/>
          <p:cNvSpPr/>
          <p:nvPr/>
        </p:nvSpPr>
        <p:spPr>
          <a:xfrm>
            <a:off x="544680" y="2924280"/>
            <a:ext cx="3450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7840" indent="-447840" algn="just">
              <a:spcBef>
                <a:spcPts val="4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 u="sng">
                <a:solidFill>
                  <a:srgbClr val="292929"/>
                </a:solidFill>
                <a:uFillTx/>
                <a:latin typeface="Arial"/>
                <a:ea typeface="Times New Roman"/>
              </a:rPr>
              <a:t>Dataset</a:t>
            </a:r>
            <a:r>
              <a:rPr b="0" lang="it-IT" sz="1600" spc="-1" strike="noStrike">
                <a:solidFill>
                  <a:srgbClr val="292929"/>
                </a:solidFill>
                <a:latin typeface="Arial"/>
                <a:ea typeface="Times New Roman"/>
              </a:rPr>
              <a:t>: 114 observations, financial indicators and scores of social performance indicators, from financial and social ratings (2007-2012)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4284720" y="2813040"/>
            <a:ext cx="4371840" cy="15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924000" y="2665080"/>
            <a:ext cx="489564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92929"/>
                </a:solidFill>
                <a:latin typeface="Arial"/>
              </a:rPr>
              <a:t>Client protection implementation: pays off</a:t>
            </a:r>
            <a:endParaRPr b="1" lang="en-US" sz="1800" spc="-1" strike="noStrike">
              <a:solidFill>
                <a:srgbClr val="935461"/>
              </a:solidFill>
              <a:latin typeface="Arial"/>
            </a:endParaRPr>
          </a:p>
        </p:txBody>
      </p:sp>
      <p:pic>
        <p:nvPicPr>
          <p:cNvPr id="69" name="Picture 5" descr=""/>
          <p:cNvPicPr/>
          <p:nvPr/>
        </p:nvPicPr>
        <p:blipFill>
          <a:blip r:embed="rId1"/>
          <a:stretch/>
        </p:blipFill>
        <p:spPr>
          <a:xfrm>
            <a:off x="98280" y="2984400"/>
            <a:ext cx="5316840" cy="3181320"/>
          </a:xfrm>
          <a:prstGeom prst="rect">
            <a:avLst/>
          </a:prstGeom>
          <a:ln w="0">
            <a:noFill/>
          </a:ln>
        </p:spPr>
      </p:pic>
      <p:sp>
        <p:nvSpPr>
          <p:cNvPr id="70" name="Rettangolo 2"/>
          <p:cNvSpPr/>
          <p:nvPr/>
        </p:nvSpPr>
        <p:spPr>
          <a:xfrm>
            <a:off x="341280" y="2205000"/>
            <a:ext cx="387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U shaped relationship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client protection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financial performance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997440" y="3933360"/>
            <a:ext cx="459576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451"/>
              </a:spcBef>
              <a:buClr>
                <a:srgbClr val="99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But the MFI’s efforts to implement client protection </a:t>
            </a:r>
            <a:r>
              <a:rPr b="0" lang="en-US" sz="1800" spc="-1" strike="noStrike" u="sng">
                <a:solidFill>
                  <a:srgbClr val="292929"/>
                </a:solidFill>
                <a:uFillTx/>
                <a:latin typeface="Arial"/>
              </a:rPr>
              <a:t>will pay off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once the MFI has reached the client protection “minimum critical mass” necessary to build the clients’ loyalty and the trust of the government and investors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Rettangolo 1"/>
          <p:cNvSpPr/>
          <p:nvPr/>
        </p:nvSpPr>
        <p:spPr>
          <a:xfrm>
            <a:off x="1403280" y="3645000"/>
            <a:ext cx="1008000" cy="1296720"/>
          </a:xfrm>
          <a:prstGeom prst="rect">
            <a:avLst/>
          </a:prstGeom>
          <a:solidFill>
            <a:srgbClr val="e8561c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3" name="Rettangolo 8"/>
          <p:cNvSpPr/>
          <p:nvPr/>
        </p:nvSpPr>
        <p:spPr>
          <a:xfrm>
            <a:off x="2411280" y="3645000"/>
            <a:ext cx="1008360" cy="1296720"/>
          </a:xfrm>
          <a:prstGeom prst="rect">
            <a:avLst/>
          </a:prstGeom>
          <a:solidFill>
            <a:srgbClr val="9999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4" name="Segnaposto contenuto 2"/>
          <p:cNvSpPr/>
          <p:nvPr/>
        </p:nvSpPr>
        <p:spPr>
          <a:xfrm>
            <a:off x="4008600" y="3205080"/>
            <a:ext cx="459576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447840">
              <a:spcBef>
                <a:spcPts val="451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Building client protection systems from scratch can be </a:t>
            </a:r>
            <a:r>
              <a:rPr b="0" lang="en-US" sz="1800" spc="-1" strike="noStrike" u="sng">
                <a:solidFill>
                  <a:srgbClr val="292929"/>
                </a:solidFill>
                <a:uFillTx/>
                <a:latin typeface="Arial"/>
              </a:rPr>
              <a:t>costly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Titolo 1"/>
          <p:cNvSpPr/>
          <p:nvPr/>
        </p:nvSpPr>
        <p:spPr>
          <a:xfrm>
            <a:off x="574560" y="1484280"/>
            <a:ext cx="73105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935461"/>
                </a:solidFill>
                <a:latin typeface="Arial"/>
              </a:rPr>
              <a:t>Previous research on social and financial performance 2/3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539280" y="2420640"/>
            <a:ext cx="8280360" cy="34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4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92929"/>
                </a:solidFill>
                <a:latin typeface="Arial"/>
              </a:rPr>
              <a:t>Example of the Intuition of the econometric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00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92929"/>
                </a:solidFill>
                <a:latin typeface="Arial"/>
              </a:rPr>
              <a:t>Take financial performance (i.e. ROE and FSS)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00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92929"/>
                </a:solidFill>
                <a:latin typeface="Arial"/>
              </a:rPr>
              <a:t>Regress on economic controls (Real Gross Portfolio Yield, Operating Expense Ratio, Risk Coverage Ratio) and structural/demographic controls (ln[Age], Region) to identify performance drivers (i.e. RGPY strongly positive, OER strongly negative, African MFIs somewhat weaker ROE)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00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92929"/>
                </a:solidFill>
                <a:latin typeface="Arial"/>
              </a:rPr>
              <a:t>Regress in addition on social indicator and distinguish between non-profit and non-for- profit institutions (i.e. no significant result)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00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92929"/>
                </a:solidFill>
                <a:latin typeface="Arial"/>
              </a:rPr>
              <a:t>Allow for nonlinear shapes in regression (i.e. for-profit MFIs experience clear U-shaped relationship between client protection and financial performance)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280" y="1484280"/>
            <a:ext cx="860436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935461"/>
                </a:solidFill>
                <a:latin typeface="Arial"/>
              </a:rPr>
              <a:t>Previous research on social and financial performance 3/3</a:t>
            </a: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pic>
        <p:nvPicPr>
          <p:cNvPr id="78" name="Picture 4" descr=""/>
          <p:cNvPicPr/>
          <p:nvPr/>
        </p:nvPicPr>
        <p:blipFill>
          <a:blip r:embed="rId1"/>
          <a:srcRect l="33598" t="46452" r="19996" b="32549"/>
          <a:stretch/>
        </p:blipFill>
        <p:spPr>
          <a:xfrm>
            <a:off x="2050920" y="5130720"/>
            <a:ext cx="468180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92000" y="1412640"/>
            <a:ext cx="626436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35461"/>
                </a:solidFill>
                <a:latin typeface="Arial"/>
              </a:rPr>
              <a:t>CLIENT PROTECTION: Data Providers</a:t>
            </a: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pic>
        <p:nvPicPr>
          <p:cNvPr id="80" name="Content Placeholder 3" descr=""/>
          <p:cNvPicPr/>
          <p:nvPr/>
        </p:nvPicPr>
        <p:blipFill>
          <a:blip r:embed="rId1"/>
          <a:stretch/>
        </p:blipFill>
        <p:spPr>
          <a:xfrm>
            <a:off x="536400" y="1944720"/>
            <a:ext cx="8504280" cy="44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42920" y="188640"/>
            <a:ext cx="630108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35461"/>
                </a:solidFill>
                <a:latin typeface="Arial"/>
              </a:rPr>
              <a:t>Context of study</a:t>
            </a: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395280" y="1557000"/>
            <a:ext cx="8507520" cy="41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499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Aim of Analysis: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99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Explain the relationship between financial performance measures and client protection ratings while controlling for MFI characteristic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Expected Conceptual Insights from Analysis: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99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Understanding of the contemporaneous relationships between financial performance and client protection principles (e.g. Are MFIs associated with good financial outcomes, on average, also associated with good aspects of client protection?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99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292929"/>
                </a:solidFill>
                <a:uFillTx/>
                <a:latin typeface="Arial"/>
              </a:rPr>
              <a:t>Impossibilities:</a:t>
            </a: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 (i) Explaining causality over time; (ii) Studying non-linearities in pooled dataset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00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00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0" y="188640"/>
            <a:ext cx="630072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35461"/>
                </a:solidFill>
                <a:latin typeface="Arial"/>
              </a:rPr>
              <a:t>Dataset Construction: step by step</a:t>
            </a: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250560" y="1413000"/>
            <a:ext cx="8785080" cy="345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326880" indent="-326880">
              <a:spcBef>
                <a:spcPts val="4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92929"/>
                </a:solidFill>
                <a:latin typeface="Arial"/>
              </a:rPr>
              <a:t>Pooling the datasets of the eight providers: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1" marL="648720" indent="-320760">
              <a:spcBef>
                <a:spcPts val="400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92929"/>
                </a:solidFill>
                <a:latin typeface="Arial"/>
              </a:rPr>
              <a:t>Signing of (restrictive) Non-Disclosure Agreements between Research Team of Uni St. Andrews and the provider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1" marL="648720" indent="-320760">
              <a:spcBef>
                <a:spcPts val="400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92929"/>
                </a:solidFill>
                <a:latin typeface="Arial"/>
              </a:rPr>
              <a:t>Reception of original dataset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1" marL="648720" indent="-320760">
              <a:spcBef>
                <a:spcPts val="400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92929"/>
                </a:solidFill>
                <a:latin typeface="Arial"/>
              </a:rPr>
              <a:t>Analysis of original datasets according to data availability/missing data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1" marL="648720" indent="-320760">
              <a:spcBef>
                <a:spcPts val="400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92929"/>
                </a:solidFill>
                <a:latin typeface="Arial"/>
              </a:rPr>
              <a:t>Research Team independently suggests a matching of different data providers criteria on common client protection theme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2" marL="944280" indent="-294120">
              <a:spcBef>
                <a:spcPts val="3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292929"/>
                </a:solidFill>
                <a:latin typeface="Arial"/>
              </a:rPr>
              <a:t>Common Themes identified were: Price Transparency, Complaints Procedure, Privacy of Client Data and Ethical Staff Behavior, Avoidance of Over-Indebtedness, Appropriate Debt Collections Practices.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lvl="1" marL="648720" indent="-320760">
              <a:spcBef>
                <a:spcPts val="400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92929"/>
                </a:solidFill>
                <a:latin typeface="Arial"/>
              </a:rPr>
              <a:t>30min or longer interviews with each provider to (i) confirm or revise the matching, (ii) understand of additional data points are available and (iii) receive general feedback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1" marL="648720" indent="-320760">
              <a:spcBef>
                <a:spcPts val="400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92929"/>
                </a:solidFill>
                <a:latin typeface="Arial"/>
              </a:rPr>
              <a:t>Reception of additional data points from providers (last one received Nov 9</a:t>
            </a:r>
            <a:r>
              <a:rPr b="0" lang="en-GB" sz="1600" spc="-1" strike="noStrike" baseline="30000">
                <a:solidFill>
                  <a:srgbClr val="292929"/>
                </a:solidFill>
                <a:latin typeface="Arial"/>
              </a:rPr>
              <a:t>th</a:t>
            </a:r>
            <a:r>
              <a:rPr b="0" lang="en-GB" sz="1600" spc="-1" strike="noStrike">
                <a:solidFill>
                  <a:srgbClr val="292929"/>
                </a:solidFill>
                <a:latin typeface="Arial"/>
              </a:rPr>
              <a:t> 2012)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26880" indent="-326880">
              <a:spcBef>
                <a:spcPts val="4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92929"/>
                </a:solidFill>
                <a:latin typeface="Arial"/>
              </a:rPr>
              <a:t>Aligning of the providers’ dataset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1" marL="648720" indent="-320760">
              <a:spcBef>
                <a:spcPts val="400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92929"/>
                </a:solidFill>
                <a:latin typeface="Arial"/>
              </a:rPr>
              <a:t>Rescaling the assessment schemes to a common range with Min 0 and Max 1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1" marL="648720" indent="-320760">
              <a:spcBef>
                <a:spcPts val="400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92929"/>
                </a:solidFill>
                <a:latin typeface="Arial"/>
              </a:rPr>
              <a:t>Measuring the variability across data provider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1" marL="648720" indent="-320760">
              <a:spcBef>
                <a:spcPts val="400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92929"/>
                </a:solidFill>
                <a:latin typeface="Arial"/>
              </a:rPr>
              <a:t>Identifying duplicates (same year, same MFI rated by two or more providers) and choosing the one which is not MiX or otherwise averaging the assessment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26880" indent="-326880">
              <a:spcBef>
                <a:spcPts val="4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92929"/>
                </a:solidFill>
                <a:latin typeface="Arial"/>
              </a:rPr>
              <a:t>Outcome: Up to 2,907 MFI-Year observations between 2004-2011 from 95 countrie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26880" indent="-326880">
              <a:spcBef>
                <a:spcPts val="4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9T10:39:38Z</dcterms:created>
  <dc:creator>Martin Kinsella</dc:creator>
  <dc:description/>
  <dc:language>en-US</dc:language>
  <cp:lastModifiedBy>User</cp:lastModifiedBy>
  <dcterms:modified xsi:type="dcterms:W3CDTF">2012-11-15T10:33:46Z</dcterms:modified>
  <cp:revision>35</cp:revision>
  <dc:subject/>
  <dc:title>Slide 1</dc:title>
</cp:coreProperties>
</file>