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76615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9640" y="4227480"/>
            <a:ext cx="76615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96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654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0200" y="242064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20400" y="242064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9640" y="422748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0200" y="422748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20400" y="422748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43280" y="1484280"/>
            <a:ext cx="6300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96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654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9640" y="4227480"/>
            <a:ext cx="76615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6485040"/>
            <a:ext cx="9144000" cy="380880"/>
          </a:xfrm>
          <a:prstGeom prst="rect">
            <a:avLst/>
          </a:prstGeom>
          <a:solidFill>
            <a:srgbClr val="e856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25160" indent="-42516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44200" indent="-417240">
              <a:spcBef>
                <a:spcPts val="7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229040" indent="-3830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3" marL="1596960" indent="-366480">
              <a:spcBef>
                <a:spcPts val="7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4" marL="1966320" indent="-36792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5" marL="1966320" indent="-367920">
              <a:spcBef>
                <a:spcPts val="700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6" marL="1966320" indent="-367920">
              <a:spcBef>
                <a:spcPts val="700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22120" y="6559560"/>
            <a:ext cx="288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ffff"/>
                </a:solidFill>
                <a:latin typeface="Arial"/>
              </a:rPr>
              <a:t>contact@e-mfp.eu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6084720" y="6597720"/>
            <a:ext cx="28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ffff"/>
                </a:solidFill>
                <a:latin typeface="Arial"/>
              </a:rPr>
              <a:t>www.e-mfp.eu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5461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pic>
        <p:nvPicPr>
          <p:cNvPr id="5" name="Picture 7" descr="Header_entête.jpg"/>
          <p:cNvPicPr/>
          <p:nvPr/>
        </p:nvPicPr>
        <p:blipFill>
          <a:blip r:embed="rId2"/>
          <a:stretch/>
        </p:blipFill>
        <p:spPr>
          <a:xfrm>
            <a:off x="0" y="0"/>
            <a:ext cx="4427640" cy="148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5461"/>
                </a:solidFill>
                <a:latin typeface="Arial"/>
              </a:rPr>
              <a:t>Risk in Microfinance</a:t>
            </a:r>
            <a:br>
              <a:rPr sz="2000"/>
            </a:br>
            <a:r>
              <a:rPr b="1" lang="en-US" sz="2000" spc="-1" strike="noStrike">
                <a:solidFill>
                  <a:srgbClr val="935461"/>
                </a:solidFill>
                <a:latin typeface="Arial"/>
              </a:rPr>
              <a:t> Coaching at the National Microfinance Bank, Jordan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5461"/>
                </a:solidFill>
                <a:latin typeface="Arial"/>
              </a:rPr>
              <a:t>Yves Mathieu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5461"/>
                </a:solidFill>
                <a:latin typeface="Arial"/>
              </a:rPr>
              <a:t>Consultan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5461"/>
                </a:solidFill>
                <a:latin typeface="Arial"/>
              </a:rPr>
              <a:t>Risk Management – Excellence in Microfinance Workshop – Past Story Board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34160" indent="-434160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2006 – European Microfinance Week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Workshop "Challenges for MFIs in Risk Management"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Needs analysis with a limited survey sent to 7 major MFI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esult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61840" indent="-426240">
              <a:spcBef>
                <a:spcPts val="499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Organization and training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Implementatio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61840" indent="-426240">
              <a:spcBef>
                <a:spcPts val="499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Workshop, with the first edition in 2008, supported by ATTF, ADA and PRiM (the 5</a:t>
            </a:r>
            <a:r>
              <a:rPr b="0" lang="en-US" sz="2000" spc="-1" strike="noStrike" baseline="30000">
                <a:solidFill>
                  <a:srgbClr val="292929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edition is currently running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61840" indent="-426240">
              <a:spcBef>
                <a:spcPts val="499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oaching process with remote assistance,  with 6 MFIs selected after the 2008 workshop, with 2 MFIs from Jorda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5461"/>
                </a:solidFill>
                <a:latin typeface="Arial"/>
              </a:rPr>
              <a:t>Alwatani  - National Microfinance Bank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lwatani NMB was established on 15/7/2004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ocial objectiv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lwatani has a strong official support (Royal family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30 000 + active borrower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Gender : 92% female customer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16 mlns EUR gross loan portfolio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verage loan : 550 EU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5461"/>
                </a:solidFill>
                <a:latin typeface="Arial"/>
              </a:rPr>
              <a:t>Objective of the first mission in 2009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-443160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To Set up an effective risk management structure with authority and appropriate notification structure; which includes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499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stablishing an independent risk management function reporting directly to senior managemen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499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mpowering professionals with appropriate skills to perform their required duti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499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Installing systems capable of measuring, managing and reporting risks in a timely and accurate mann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fter the visit, NMB started a risk function and established risk team consisted from key risk person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5461"/>
                </a:solidFill>
                <a:latin typeface="Arial"/>
              </a:rPr>
              <a:t>Second visit in 2010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NMB was guided to the best practices in setting and applying the risk policies and spreading the risk cultur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Visit helped to decide the allocation of Risk dept in the organizational structure and define the communication channels, responsibilities, roles … 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rmulating the risk committe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gregation between risk and credit risk function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Guiding to new risk areas such as risks related to staff satisfaction, reputation risks…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5461"/>
                </a:solidFill>
                <a:latin typeface="Arial"/>
              </a:rPr>
              <a:t>Lessons learned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16160" indent="-416160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Generally speaking, confusion of concept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26560" indent="-408600">
              <a:spcBef>
                <a:spcPts val="499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isk and aud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26560" indent="-408600">
              <a:spcBef>
                <a:spcPts val="499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isk and strateg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26560" indent="-408600">
              <a:spcBef>
                <a:spcPts val="499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isk and governanc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Weak “real” awareness, just formal statements, about risk management if main consequences are not clearly explained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oncrete risk management is a pure management decision, even if the institution is small – Importance of adequate resource allocatio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ommunication is importan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Keep it simpl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Thanks for your attention !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10:39:38Z</dcterms:created>
  <dc:creator>Martin Kinsella</dc:creator>
  <dc:description/>
  <dc:language>en-US</dc:language>
  <cp:lastModifiedBy>User</cp:lastModifiedBy>
  <dcterms:modified xsi:type="dcterms:W3CDTF">2012-11-13T07:30:46Z</dcterms:modified>
  <cp:revision>28</cp:revision>
  <dc:subject/>
  <dc:title>Slide 1</dc:title>
</cp:coreProperties>
</file>